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9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png" ContentType="image/png"/>
  <Override PartName="/ppt/media/image14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847F-4FF4-45E3-9D7D-6A127C430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3822840"/>
            <a:ext cx="87854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6605-F749-40C6-BC58-E6CC043DB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34100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382284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382284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3245-2CB9-4ACD-B6F6-2B7E25D98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828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341000"/>
            <a:ext cx="2828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341000"/>
            <a:ext cx="2828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3822840"/>
            <a:ext cx="2828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3822840"/>
            <a:ext cx="2828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3822840"/>
            <a:ext cx="2828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F530-EB10-4379-A312-A8477DAAAD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785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6D80-34CD-48DC-9878-7EBFCAB3CA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9BDD1-F57F-4801-9575-94EF55DB9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872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341000"/>
            <a:ext cx="42872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EDF9-23D6-428D-B677-B03AA73ED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CFF0-B7AF-4BFC-B10C-13F7AEAED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920" y="620280"/>
            <a:ext cx="86421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81DC-829A-4566-85E6-D45E2F129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341000"/>
            <a:ext cx="42872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382284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7E49-F883-495F-8C19-0AE6CA1EA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872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34100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382284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995B-E4E1-430D-B00B-D358A79DA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34100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3822840"/>
            <a:ext cx="87854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1DAF8-1898-4CBF-A1FD-8223C15EE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341000"/>
            <a:ext cx="8785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84720" y="6244920"/>
            <a:ext cx="801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29A5-D911-4532-9BB4-2765E2EAF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1159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00000" y="189000"/>
            <a:ext cx="770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71640" y="260280"/>
            <a:ext cx="78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42920" y="189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rocesor Renesas H</a:t>
            </a:r>
            <a:r>
              <a:rPr b="0" lang="cs-CZ" sz="1800" spc="-1" strike="noStrike">
                <a:solidFill>
                  <a:srgbClr val="333399"/>
                </a:solidFill>
                <a:latin typeface="Times New Roman"/>
              </a:rPr>
              <a:t>8S/2633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609480"/>
            <a:ext cx="8280360" cy="600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7724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r Renesas H8S/2633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CBFC-9E70-4E32-B4A6-BCD5A414F8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ozšiřující desky – Disp_Kbd_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3240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CPLD XC9510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Rozhraní maticové a PC klávesn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Rozhraní grafického LCD s dotykovou obrazovk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Rozhraní RS232 (SCI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Flash 128 k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635280" y="1413000"/>
          <a:ext cx="5180040" cy="47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413000"/>
                    <a:ext cx="51800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D99E-A776-4E41-B2BC-7B0FD5F851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ozšiřující desky – Pwr_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CPLD XC9536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Výkonové budič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Ochranné obvody AD převodníků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Vstupy pro fototranzistor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Rozhraní SCI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356000" y="1341360"/>
          <a:ext cx="358164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341360"/>
                    <a:ext cx="358164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ECCF-A972-49B0-B577-BB97833BA1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dění programů s EVB2633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08000" y="1341360"/>
          <a:ext cx="54756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41360"/>
                    <a:ext cx="54756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49DC-C0C2-411E-B6C9-A905B495D4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rčení adresy obslužného programu (H8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637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začátku paměti je tabulka s adresami obslužných programů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ždé přerušení má pevně přidělenou určitou položku v tabul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08000" y="2276640"/>
          <a:ext cx="5832720" cy="42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76640"/>
                    <a:ext cx="5832720" cy="42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9DF8-BFCE-4C30-908A-6CB45DA935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luha přerušení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Každé přerušení má přiřazené číslo, které odpovídá pozici přerušovacího vektoru v pamě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adresa = </a:t>
            </a:r>
            <a:r>
              <a:rPr b="1" lang="cs-CZ" sz="2000" spc="-1" strike="noStrike">
                <a:solidFill>
                  <a:srgbClr val="009999"/>
                </a:solidFill>
                <a:latin typeface="Courier New"/>
              </a:rPr>
              <a:t>číslo přerušení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Times New Roman"/>
              </a:rPr>
              <a:t>×</a:t>
            </a:r>
            <a:r>
              <a:rPr b="1" lang="cs-CZ" sz="2000" spc="-1" strike="noStrike">
                <a:solidFill>
                  <a:srgbClr val="009999"/>
                </a:solidFill>
                <a:latin typeface="Courier New"/>
                <a:ea typeface="Times New Roman"/>
              </a:rPr>
              <a:t> 4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řerušení se musí povolit v CCR nastavením bitu 7 na hodnotu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Lze použít standardní proceduru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set_imask_ccr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řerušení se musí povolit v registrech příslušné perife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4869000"/>
            <a:ext cx="698364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set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sk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_ccr(0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povoleni prerusen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597D-A7E1-48DB-93DB-8FC30560C6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luha přerušení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andardn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ě definovaná obslužná procedura přeruše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kladač + linker vloží její adresu na správnou pozici v paměti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Například pro přerušení č. 0x13 je adresa 0x4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ro adresy přerušení lze použít konstanty, definované v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ioh82633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221000"/>
            <a:ext cx="5834160" cy="1326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interrup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[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0x4C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]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Courier New"/>
              </a:rPr>
              <a:t>jmeno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 (void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C7701-5BC3-4DFC-B4D0-F46649BE3C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bulka přerušení H8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05440" cy="50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6C88-3DAF-4A43-BACE-FBBA14412B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ardní obsluha přeruše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79640" y="1990800"/>
          <a:ext cx="568800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90800"/>
                    <a:ext cx="568800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B320-BCFF-4CCE-A534-438FB25D82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řerušení a monitor HDI Mo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3888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Přerušovací vektory jsou ve Flash spolu s HDI monitorem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nelze je modifikov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Vektory jsou pevně nastaveny na adresu 0x200000 + adresa vektoru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Překladač ukládá přerušovací vektory od adresy 0x200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Standardní procedura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copy_vects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vloží před každý vektor hodnotu 0x5A (kód instrukce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067280" y="1413000"/>
          <a:ext cx="491328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413000"/>
                    <a:ext cx="491328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EC19-D57B-420B-89BD-556C8614AB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řerušení a monitor HDI M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4896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imes New Roman"/>
              </a:rPr>
              <a:t>Příklad: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Obsluha IRQ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IRQ0 má vektor na adrese 0x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Obslužný program leží na adrese 0x200654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(příkl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651640" y="1413000"/>
          <a:ext cx="324612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413000"/>
                    <a:ext cx="324612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9640" y="4221000"/>
          <a:ext cx="4753080" cy="151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21000"/>
                    <a:ext cx="475308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924360" y="3789360"/>
            <a:ext cx="2592360" cy="863640"/>
          </a:xfrm>
          <a:custGeom>
            <a:avLst/>
            <a:gdLst/>
            <a:ahLst/>
            <a:rect l="l" t="t" r="r" b="b"/>
            <a:pathLst>
              <a:path w="1633" h="499">
                <a:moveTo>
                  <a:pt x="0" y="272"/>
                </a:moveTo>
                <a:lnTo>
                  <a:pt x="1633" y="0"/>
                </a:lnTo>
                <a:lnTo>
                  <a:pt x="0" y="499"/>
                </a:lnTo>
                <a:lnTo>
                  <a:pt x="0" y="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12FE-2137-4E2A-AF3F-30C51F780E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Řada procesorů Renes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56360" cy="52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EA61C-B147-4815-A304-AF7E8EF36F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říklad: obsluha IRQ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413000"/>
            <a:ext cx="8569440" cy="495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void main(void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py vect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Courier New"/>
              </a:rPr>
              <a:t>/* vlozeni JMP pred vektor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_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imask_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cr(0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Courier New"/>
              </a:rPr>
              <a:t>/* povoleni preruseni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9999"/>
                </a:solidFill>
                <a:latin typeface="Courier New"/>
              </a:rPr>
              <a:t>/* nastaveni prerusovaciho systemu pro vnejsi preruseni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urier New"/>
              </a:rPr>
              <a:t>/* -------------------------------------------------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rupt [0x40] void IRQ0_service 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C3689-A9E4-423E-B534-87835CDD03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Řada procesorů Renesas </a:t>
            </a:r>
            <a:r>
              <a:rPr b="0" lang="cs-CZ" sz="4000" spc="-1" strike="noStrike">
                <a:solidFill>
                  <a:srgbClr val="cc0000"/>
                </a:solidFill>
                <a:latin typeface="Times New Roman"/>
              </a:rPr>
              <a:t>H8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97248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5A77-327F-4CF9-A7F3-1148B44E26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okové schéma procesoru H8S/2633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911840" cy="53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464B-95B5-427E-826E-9A10C1CE22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kční bloky H8S/2633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terní pamě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SRAM 16 k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Flash 128 k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rif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max. 10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paralelní porty,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8 vstupů pro vnější přerušení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2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DMA řadič (DMAC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1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přenosová jednotka (DTC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5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sériové rozhraní (SCI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6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16bitová časovací a pulsní jednotka (TPU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2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8bitový časovač (TMR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generátor PWM a PP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16kanálový 10bitový AD převodník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2 kanálový DA převodník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746520" cy="47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E2AC-7822-4578-B46A-B31C9C9577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a pamě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00000" y="1628640"/>
          <a:ext cx="294192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29419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035600" y="1341360"/>
            <a:ext cx="410184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36A9-DBCA-400C-95CD-E6DA4C460D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B2633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6913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Procesor H8S/2633F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Vnější SRAM 256 kB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Programátor vnitřní Flash (UFP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Rozhraní SCI0 a SCI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Monitor pro ladění programů ve Fl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03280" y="3284640"/>
          <a:ext cx="6481800" cy="31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648180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42A4-B5BA-4589-AB9A-FA8D288AF6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ozšiřující desky – Mem_Com_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316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Externí Flash, EEPROM, RTC SR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Externí sériová EEPRO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CPLD XC957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Rozhraní SCI1 a SCI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06880" y="1341360"/>
          <a:ext cx="324648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6880" y="1341360"/>
                    <a:ext cx="324648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592F-C140-45F8-BBB3-090627CF40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ozšiřující desky – Disp_Kbd_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67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PLD XC9510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ozhraní maticové klávesnice a L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35280" y="2421000"/>
          <a:ext cx="5329080" cy="40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421000"/>
                    <a:ext cx="532908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2B74-3FBB-454D-94B2-AF59EA1140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9:14:01Z</dcterms:created>
  <dc:creator>Karel Dudáček</dc:creator>
  <dc:description/>
  <dc:language>en-US</dc:language>
  <cp:lastModifiedBy>KIV</cp:lastModifiedBy>
  <dcterms:modified xsi:type="dcterms:W3CDTF">2009-09-25T07:00:15Z</dcterms:modified>
  <cp:revision>117</cp:revision>
  <dc:subject/>
  <dc:title>Snímek 1</dc:title>
</cp:coreProperties>
</file>