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10.wmf" ContentType="image/x-wmf"/>
  <Override PartName="/ppt/media/image2.png" ContentType="image/png"/>
  <Override PartName="/ppt/media/image9.wmf" ContentType="image/x-wmf"/>
  <Override PartName="/ppt/media/image19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5.png" ContentType="image/png"/>
  <Override PartName="/ppt/media/image14.wmf" ContentType="image/x-wmf"/>
  <Override PartName="/ppt/media/image6.wmf" ContentType="image/x-wmf"/>
  <Override PartName="/ppt/media/image7.png" ContentType="image/png"/>
  <Override PartName="/ppt/media/image11.wmf" ContentType="image/x-wmf"/>
  <Override PartName="/ppt/media/image3.png" ContentType="image/png"/>
  <Override PartName="/ppt/media/image16.wmf" ContentType="image/x-wmf"/>
  <Override PartName="/ppt/media/image8.png" ContentType="image/png"/>
  <Override PartName="/ppt/media/image12.wmf" ContentType="image/x-wmf"/>
  <Override PartName="/ppt/media/image4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7F86A4-5504-48D3-877D-BBD2C2A66A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50920" y="561960"/>
            <a:ext cx="86421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7854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79280" y="3822840"/>
            <a:ext cx="87854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B11CAC-E118-487B-8788-9975BFAFFA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50920" y="561960"/>
            <a:ext cx="86421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42872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440" y="1341000"/>
            <a:ext cx="42872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79280" y="3822840"/>
            <a:ext cx="42872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440" y="3822840"/>
            <a:ext cx="42872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07A4AE-870E-426D-9503-C4C1971F1C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50920" y="561960"/>
            <a:ext cx="86421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2828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49640" y="1341000"/>
            <a:ext cx="2828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0000" y="1341000"/>
            <a:ext cx="2828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79280" y="3822840"/>
            <a:ext cx="2828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49640" y="3822840"/>
            <a:ext cx="2828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0000" y="3822840"/>
            <a:ext cx="2828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A43EEE-531C-49E7-A26A-29E772CFC3C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0920" y="561960"/>
            <a:ext cx="86421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79280" y="1341000"/>
            <a:ext cx="8785440" cy="47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ECA0AB-19B7-484D-AB19-B23623F0879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50920" y="561960"/>
            <a:ext cx="86421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78544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5BCD9F-B5E5-4F32-B5DF-47AD5CA858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50920" y="561960"/>
            <a:ext cx="86421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428724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440" y="1341000"/>
            <a:ext cx="428724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539C31-39EE-4F9B-8BA9-4F063FFB05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50920" y="561960"/>
            <a:ext cx="86421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53C070-4B08-46F7-B9FA-A26B1D37C0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50920" y="620280"/>
            <a:ext cx="864216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7E48E-EB62-47EF-89A5-2CBEF9AF21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50920" y="561960"/>
            <a:ext cx="86421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42872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341000"/>
            <a:ext cx="428724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79280" y="3822840"/>
            <a:ext cx="42872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4FD444-37D7-474E-912B-2B901362EE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50920" y="561960"/>
            <a:ext cx="86421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428724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341000"/>
            <a:ext cx="42872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440" y="3822840"/>
            <a:ext cx="42872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7C9A81-F80D-4306-B7F9-D224BA1A2D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50920" y="561960"/>
            <a:ext cx="86421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42872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440" y="1341000"/>
            <a:ext cx="42872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79280" y="3822840"/>
            <a:ext cx="87854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E72633-3F3B-42DF-A4A5-A3751192CF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8642160" cy="64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1341000"/>
            <a:ext cx="878544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68000" y="6244920"/>
            <a:ext cx="555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884720" y="6244920"/>
            <a:ext cx="801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432CF-9C3A-4E22-B736-B7F35FE48A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79280" y="11592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P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900000" y="189000"/>
            <a:ext cx="7705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971640" y="260280"/>
            <a:ext cx="785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1042920" y="189000"/>
            <a:ext cx="77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Procesor Renesas H</a:t>
            </a:r>
            <a:r>
              <a:rPr b="0" lang="cs-CZ" sz="1800" spc="-1" strike="noStrike">
                <a:solidFill>
                  <a:srgbClr val="333399"/>
                </a:solidFill>
                <a:latin typeface="Times New Roman"/>
              </a:rPr>
              <a:t>8S/2633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250920" y="549360"/>
            <a:ext cx="864216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9280" y="609480"/>
            <a:ext cx="8280360" cy="60008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4360" y="2421000"/>
            <a:ext cx="7772400" cy="100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cesor Renesas H8S/2633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868BA-2B5E-422B-B268-24BA2278603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8642160" cy="64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Rozšiřující desky – Disp_Kbd_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700280"/>
            <a:ext cx="32400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99"/>
                </a:solidFill>
                <a:latin typeface="Times New Roman"/>
              </a:rPr>
              <a:t>CPLD XC95108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99"/>
                </a:solidFill>
                <a:latin typeface="Times New Roman"/>
              </a:rPr>
              <a:t>Rozhraní maticové a PC klávesni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99"/>
                </a:solidFill>
                <a:latin typeface="Times New Roman"/>
              </a:rPr>
              <a:t>Rozhraní grafického LCD s dotykovou obrazovko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99"/>
                </a:solidFill>
                <a:latin typeface="Times New Roman"/>
              </a:rPr>
              <a:t>Rozhraní RS232 (SCI1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99"/>
                </a:solidFill>
                <a:latin typeface="Times New Roman"/>
              </a:rPr>
              <a:t>Flash 128 kB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3635280" y="1413000"/>
          <a:ext cx="5180040" cy="470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35280" y="1413000"/>
                    <a:ext cx="5180040" cy="470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AEC4C1-BCC2-470F-B679-36F9C4F0589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8642160" cy="64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Rozšiřující desky – Pwr_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396072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99"/>
                </a:solidFill>
                <a:latin typeface="Times New Roman"/>
              </a:rPr>
              <a:t>CPLD XC9536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99"/>
                </a:solidFill>
                <a:latin typeface="Times New Roman"/>
              </a:rPr>
              <a:t>Výkonové budiče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99"/>
                </a:solidFill>
                <a:latin typeface="Times New Roman"/>
              </a:rPr>
              <a:t>Ochranné obvody AD převodníků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99"/>
                </a:solidFill>
                <a:latin typeface="Times New Roman"/>
              </a:rPr>
              <a:t>Vstupy pro fototranzistory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99"/>
                </a:solidFill>
                <a:latin typeface="Times New Roman"/>
              </a:rPr>
              <a:t>Rozhraní SCI1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4356000" y="1341360"/>
          <a:ext cx="3581640" cy="532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56000" y="1341360"/>
                    <a:ext cx="3581640" cy="532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8C5062-E7FA-4504-BD1C-97439C26788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8642160" cy="64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adění programů s EVB2633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1908000" y="1341360"/>
          <a:ext cx="5475600" cy="529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1341360"/>
                    <a:ext cx="5475600" cy="529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788277-F437-4834-A003-13C50889019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8642160" cy="64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rčení adresy obslužného programu (H8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1341360"/>
            <a:ext cx="86378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 začátku paměti je tabulka s adresami obslužných programů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aždé přerušení má pevně přidělenou určitou položku v tabul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908000" y="2276640"/>
          <a:ext cx="5832720" cy="426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2276640"/>
                    <a:ext cx="5832720" cy="42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26AE59-1F29-4CDB-8275-1E97B834A5E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8642160" cy="64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bsluha přerušení (1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24000" y="1557000"/>
            <a:ext cx="864072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99"/>
                </a:solidFill>
                <a:latin typeface="Times New Roman"/>
              </a:rPr>
              <a:t>Každé přerušení má přiřazené číslo, které odpovídá pozici přerušovacího vektoru v pamět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Courier New"/>
              </a:rPr>
              <a:t>adresa = </a:t>
            </a:r>
            <a:r>
              <a:rPr b="1" lang="cs-CZ" sz="2000" spc="-1" strike="noStrike">
                <a:solidFill>
                  <a:srgbClr val="009999"/>
                </a:solidFill>
                <a:latin typeface="Courier New"/>
              </a:rPr>
              <a:t>číslo přerušení </a:t>
            </a:r>
            <a:r>
              <a:rPr b="1" lang="en-US" sz="2000" spc="-1" strike="noStrike">
                <a:solidFill>
                  <a:srgbClr val="009999"/>
                </a:solidFill>
                <a:latin typeface="Courier New"/>
                <a:ea typeface="Times New Roman"/>
              </a:rPr>
              <a:t>×</a:t>
            </a:r>
            <a:r>
              <a:rPr b="1" lang="cs-CZ" sz="2000" spc="-1" strike="noStrike">
                <a:solidFill>
                  <a:srgbClr val="009999"/>
                </a:solidFill>
                <a:latin typeface="Courier New"/>
                <a:ea typeface="Times New Roman"/>
              </a:rPr>
              <a:t> 4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99"/>
                </a:solidFill>
                <a:latin typeface="Times New Roman"/>
              </a:rPr>
              <a:t>Přerušení se musí povolit v CCR nastavením bitu 7 na hodnotu 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99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9999"/>
                </a:solidFill>
                <a:latin typeface="Times New Roman"/>
              </a:rPr>
              <a:t>Lze použít standardní proceduru </a:t>
            </a:r>
            <a:r>
              <a:rPr b="1" lang="cs-CZ" sz="2000" spc="-1" strike="noStrike">
                <a:solidFill>
                  <a:srgbClr val="000000"/>
                </a:solidFill>
                <a:latin typeface="Courier New"/>
              </a:rPr>
              <a:t>set_imask_ccr</a:t>
            </a:r>
            <a:r>
              <a:rPr b="0" lang="cs-CZ" sz="2000" spc="-1" strike="noStrike">
                <a:solidFill>
                  <a:srgbClr val="009999"/>
                </a:solidFill>
                <a:latin typeface="Times New Roman"/>
              </a:rPr>
              <a:t> .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99"/>
                </a:solidFill>
                <a:latin typeface="Times New Roman"/>
              </a:rPr>
              <a:t>Přerušení se musí povolit v registrech příslušné periferi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187280" y="4869000"/>
            <a:ext cx="6983640" cy="3988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urier New"/>
              </a:rPr>
              <a:t>set_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mask</a:t>
            </a:r>
            <a:r>
              <a:rPr b="1" lang="cs-CZ" sz="2000" spc="-1" strike="noStrike">
                <a:solidFill>
                  <a:srgbClr val="000000"/>
                </a:solidFill>
                <a:latin typeface="Courier New"/>
              </a:rPr>
              <a:t>_ccr(0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* povoleni prerusen</a:t>
            </a:r>
            <a:r>
              <a:rPr b="1" lang="cs-CZ" sz="20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*</a:t>
            </a:r>
            <a:r>
              <a:rPr b="1" lang="cs-CZ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09B92E-8A09-4EF7-89B9-14552BAF211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8642160" cy="64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bsluha přerušení (2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8000" y="1628280"/>
            <a:ext cx="806436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Standardn</a:t>
            </a:r>
            <a:r>
              <a:rPr b="0" lang="cs-CZ" sz="2400" spc="-1" strike="noStrike">
                <a:solidFill>
                  <a:srgbClr val="333399"/>
                </a:solidFill>
                <a:latin typeface="Times New Roman"/>
              </a:rPr>
              <a:t>ě definovaná obslužná procedura přerušení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99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9999"/>
                </a:solidFill>
                <a:latin typeface="Times New Roman"/>
              </a:rPr>
              <a:t>překladač + linker vloží její adresu na správnou pozici v paměti.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99"/>
                </a:solidFill>
                <a:latin typeface="Times New Roman"/>
              </a:rPr>
              <a:t>Například pro přerušení č. 0x13 je adresa 0x4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99"/>
                </a:solidFill>
                <a:latin typeface="Times New Roman"/>
              </a:rPr>
              <a:t>Pro adresy přerušení lze použít konstanty, definované v </a:t>
            </a:r>
            <a:r>
              <a:rPr b="1" lang="cs-CZ" sz="2000" spc="-1" strike="noStrike">
                <a:solidFill>
                  <a:srgbClr val="000000"/>
                </a:solidFill>
                <a:latin typeface="Courier New"/>
              </a:rPr>
              <a:t>ioh82633.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979640" y="4221000"/>
            <a:ext cx="5834160" cy="13262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urier New"/>
              </a:rPr>
              <a:t>interrupt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[</a:t>
            </a:r>
            <a:r>
              <a:rPr b="1" lang="cs-CZ" sz="2000" spc="-1" strike="noStrike">
                <a:solidFill>
                  <a:srgbClr val="333399"/>
                </a:solidFill>
                <a:latin typeface="Courier New"/>
              </a:rPr>
              <a:t>0x4C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] </a:t>
            </a:r>
            <a:r>
              <a:rPr b="1" lang="cs-CZ" sz="20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en-US" sz="2000" spc="-1" strike="noStrike">
                <a:solidFill>
                  <a:srgbClr val="333399"/>
                </a:solidFill>
                <a:latin typeface="Courier New"/>
              </a:rPr>
              <a:t>jmeno</a:t>
            </a:r>
            <a:r>
              <a:rPr b="1" lang="cs-CZ" sz="2000" spc="-1" strike="noStrike">
                <a:solidFill>
                  <a:srgbClr val="000000"/>
                </a:solidFill>
                <a:latin typeface="Courier New"/>
              </a:rPr>
              <a:t> (void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07A711-13C2-424A-BD45-1CE78A7A3D2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8642160" cy="64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abulka přerušení H8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84360" y="1268280"/>
            <a:ext cx="7705440" cy="505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6430B3-FE14-4855-B776-B329CCC129D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8642160" cy="64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tandardní obsluha přerušení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979640" y="1990800"/>
          <a:ext cx="5688000" cy="401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1990800"/>
                    <a:ext cx="5688000" cy="40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6145D5-9C71-46E8-9CF2-A362D6C708F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8642160" cy="64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Přerušení a monitor HDI Mon (1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38880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99"/>
                </a:solidFill>
                <a:latin typeface="Times New Roman"/>
              </a:rPr>
              <a:t>Přerušovací vektory jsou ve Flash spolu s HDI monitorem </a:t>
            </a:r>
            <a:r>
              <a:rPr b="0" lang="cs-CZ" sz="2000" spc="-1" strike="noStrike">
                <a:solidFill>
                  <a:srgbClr val="333399"/>
                </a:solidFill>
                <a:latin typeface="Symbol"/>
                <a:ea typeface="Symbol"/>
              </a:rPr>
              <a:t></a:t>
            </a:r>
            <a:r>
              <a:rPr b="0" lang="cs-CZ" sz="2000" spc="-1" strike="noStrike">
                <a:solidFill>
                  <a:srgbClr val="333399"/>
                </a:solidFill>
                <a:latin typeface="Times New Roman"/>
              </a:rPr>
              <a:t> nelze je modifikova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99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9999"/>
                </a:solidFill>
                <a:latin typeface="Times New Roman"/>
              </a:rPr>
              <a:t>Vektory jsou pevně nastaveny na adresu 0x200000 + adresa vektoru.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99"/>
                </a:solidFill>
                <a:latin typeface="Times New Roman"/>
              </a:rPr>
              <a:t>Překladač ukládá přerušovací vektory od adresy 0x20000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99"/>
                </a:solidFill>
                <a:latin typeface="Times New Roman"/>
              </a:rPr>
              <a:t>Standardní procedura </a:t>
            </a: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copy_vects</a:t>
            </a:r>
            <a:r>
              <a:rPr b="0" lang="cs-CZ" sz="2000" spc="-1" strike="noStrike">
                <a:solidFill>
                  <a:srgbClr val="333399"/>
                </a:solidFill>
                <a:latin typeface="Times New Roman"/>
              </a:rPr>
              <a:t> vloží před každý vektor hodnotu 0x5A (kód instrukce </a:t>
            </a: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JMP</a:t>
            </a:r>
            <a:r>
              <a:rPr b="0" lang="cs-CZ" sz="2000" spc="-1" strike="noStrike">
                <a:solidFill>
                  <a:srgbClr val="333399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4067280" y="1413000"/>
          <a:ext cx="4913280" cy="49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7280" y="1413000"/>
                    <a:ext cx="4913280" cy="49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639A3B-413A-4B16-BD59-B3EE9CDEA20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8642160" cy="64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Přerušení a monitor HDI Mon (2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9640" y="1699920"/>
            <a:ext cx="4896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Times New Roman"/>
              </a:rPr>
              <a:t>Příklad:</a:t>
            </a:r>
            <a:r>
              <a:rPr b="0" lang="cs-CZ" sz="2400" spc="-1" strike="noStrike">
                <a:solidFill>
                  <a:srgbClr val="333399"/>
                </a:solidFill>
                <a:latin typeface="Times New Roman"/>
              </a:rPr>
              <a:t> Obsluha IRQ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9999"/>
                </a:solidFill>
                <a:latin typeface="Times New Roman"/>
              </a:rPr>
              <a:t>IRQ0 má vektor na adrese 0x4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9999"/>
                </a:solidFill>
                <a:latin typeface="Times New Roman"/>
              </a:rPr>
              <a:t>Obslužný program leží na adrese 0x200654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9999"/>
                </a:solidFill>
                <a:latin typeface="Times New Roman"/>
              </a:rPr>
              <a:t>(příklad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5651640" y="1413000"/>
          <a:ext cx="3246120" cy="511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51640" y="1413000"/>
                    <a:ext cx="3246120" cy="51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539640" y="4221000"/>
          <a:ext cx="4753080" cy="1519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9640" y="4221000"/>
                    <a:ext cx="4753080" cy="151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3924360" y="3789360"/>
            <a:ext cx="2592360" cy="863640"/>
          </a:xfrm>
          <a:custGeom>
            <a:avLst/>
            <a:gdLst/>
            <a:ahLst/>
            <a:rect l="l" t="t" r="r" b="b"/>
            <a:pathLst>
              <a:path w="1633" h="499">
                <a:moveTo>
                  <a:pt x="0" y="272"/>
                </a:moveTo>
                <a:lnTo>
                  <a:pt x="1633" y="0"/>
                </a:lnTo>
                <a:lnTo>
                  <a:pt x="0" y="499"/>
                </a:lnTo>
                <a:lnTo>
                  <a:pt x="0" y="272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E321AC-D09C-4E95-9F59-3B6D8C4E5D6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8642160" cy="64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Řada procesorů Renes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042920" y="1268280"/>
            <a:ext cx="7056360" cy="5280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D1A9E5-BD41-4130-93D2-ACA03D5F12B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8642160" cy="64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říklad: obsluha IRQ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95280" y="1413000"/>
            <a:ext cx="8569440" cy="4957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void main(void)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py vect</a:t>
            </a: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9999"/>
                </a:solidFill>
                <a:latin typeface="Courier New"/>
              </a:rPr>
              <a:t>/* vlozeni JMP pred vektory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_</a:t>
            </a: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imask_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cr(0)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9999"/>
                </a:solidFill>
                <a:latin typeface="Courier New"/>
              </a:rPr>
              <a:t>/* povoleni preruseni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9999"/>
                </a:solidFill>
                <a:latin typeface="Courier New"/>
              </a:rPr>
              <a:t>/* nastaveni prerusovaciho systemu pro vnejsi preruseni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Courier New"/>
              </a:rPr>
              <a:t>/* -------------------------------------------------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rupt [0x40] void IRQ0_service (void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60DE3B-3D7C-4E37-8474-89B47840BE4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8642160" cy="64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Řada procesorů Renesas </a:t>
            </a:r>
            <a:r>
              <a:rPr b="0" lang="cs-CZ" sz="4000" spc="-1" strike="noStrike">
                <a:solidFill>
                  <a:srgbClr val="cc0000"/>
                </a:solidFill>
                <a:latin typeface="Times New Roman"/>
              </a:rPr>
              <a:t>H8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042920" y="1268280"/>
            <a:ext cx="6972480" cy="5248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CE0A3D-EF64-45AC-AE9C-D5DC14E00F9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8642160" cy="64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lokové schéma procesoru H8S/2633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268360" y="1341360"/>
            <a:ext cx="4911840" cy="5327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09B62E-4846-446D-A6E2-BCF6EC4E500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8642160" cy="64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nkční bloky H8S/2633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94920" y="1341000"/>
            <a:ext cx="460836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nterní pamě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99"/>
                </a:solidFill>
                <a:latin typeface="Times New Roman"/>
              </a:rPr>
              <a:t>SRAM 16 kB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99"/>
                </a:solidFill>
                <a:latin typeface="Times New Roman"/>
              </a:rPr>
              <a:t>Flash 128 kB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erifer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99"/>
                </a:solidFill>
                <a:latin typeface="Times New Roman"/>
              </a:rPr>
              <a:t>max. 10 </a:t>
            </a:r>
            <a:r>
              <a:rPr b="0" lang="cs-CZ" sz="2000" spc="-1" strike="noStrike">
                <a:solidFill>
                  <a:srgbClr val="333399"/>
                </a:solidFill>
                <a:latin typeface="Symbol"/>
                <a:ea typeface="Symbol"/>
              </a:rPr>
              <a:t></a:t>
            </a:r>
            <a:r>
              <a:rPr b="0" lang="cs-CZ" sz="2000" spc="-1" strike="noStrike">
                <a:solidFill>
                  <a:srgbClr val="333399"/>
                </a:solidFill>
                <a:latin typeface="Times New Roman"/>
              </a:rPr>
              <a:t> paralelní porty,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99"/>
                </a:solidFill>
                <a:latin typeface="Times New Roman"/>
              </a:rPr>
              <a:t>8 vstupů pro vnější přerušení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99"/>
                </a:solidFill>
                <a:latin typeface="Times New Roman"/>
              </a:rPr>
              <a:t>2 </a:t>
            </a:r>
            <a:r>
              <a:rPr b="0" lang="cs-CZ" sz="2000" spc="-1" strike="noStrike">
                <a:solidFill>
                  <a:srgbClr val="333399"/>
                </a:solidFill>
                <a:latin typeface="Symbol"/>
                <a:ea typeface="Symbol"/>
              </a:rPr>
              <a:t></a:t>
            </a:r>
            <a:r>
              <a:rPr b="0" lang="cs-CZ" sz="2000" spc="-1" strike="noStrike">
                <a:solidFill>
                  <a:srgbClr val="333399"/>
                </a:solidFill>
                <a:latin typeface="Times New Roman"/>
              </a:rPr>
              <a:t> DMA řadič (DMAC)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99"/>
                </a:solidFill>
                <a:latin typeface="Times New Roman"/>
              </a:rPr>
              <a:t>1 </a:t>
            </a:r>
            <a:r>
              <a:rPr b="0" lang="cs-CZ" sz="2000" spc="-1" strike="noStrike">
                <a:solidFill>
                  <a:srgbClr val="333399"/>
                </a:solidFill>
                <a:latin typeface="Symbol"/>
                <a:ea typeface="Symbol"/>
              </a:rPr>
              <a:t></a:t>
            </a:r>
            <a:r>
              <a:rPr b="0" lang="cs-CZ" sz="2000" spc="-1" strike="noStrike">
                <a:solidFill>
                  <a:srgbClr val="333399"/>
                </a:solidFill>
                <a:latin typeface="Times New Roman"/>
              </a:rPr>
              <a:t> přenosová jednotka (DTC)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99"/>
                </a:solidFill>
                <a:latin typeface="Times New Roman"/>
              </a:rPr>
              <a:t>5 </a:t>
            </a:r>
            <a:r>
              <a:rPr b="0" lang="cs-CZ" sz="2000" spc="-1" strike="noStrike">
                <a:solidFill>
                  <a:srgbClr val="333399"/>
                </a:solidFill>
                <a:latin typeface="Symbol"/>
                <a:ea typeface="Symbol"/>
              </a:rPr>
              <a:t></a:t>
            </a:r>
            <a:r>
              <a:rPr b="0" lang="cs-CZ" sz="2000" spc="-1" strike="noStrike">
                <a:solidFill>
                  <a:srgbClr val="333399"/>
                </a:solidFill>
                <a:latin typeface="Times New Roman"/>
              </a:rPr>
              <a:t> sériové rozhraní (SCI)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99"/>
                </a:solidFill>
                <a:latin typeface="Times New Roman"/>
              </a:rPr>
              <a:t>6 </a:t>
            </a:r>
            <a:r>
              <a:rPr b="0" lang="cs-CZ" sz="2000" spc="-1" strike="noStrike">
                <a:solidFill>
                  <a:srgbClr val="333399"/>
                </a:solidFill>
                <a:latin typeface="Symbol"/>
                <a:ea typeface="Symbol"/>
              </a:rPr>
              <a:t></a:t>
            </a:r>
            <a:r>
              <a:rPr b="0" lang="cs-CZ" sz="2000" spc="-1" strike="noStrike">
                <a:solidFill>
                  <a:srgbClr val="333399"/>
                </a:solidFill>
                <a:latin typeface="Times New Roman"/>
              </a:rPr>
              <a:t> 16bitová časovací a pulsní jednotka (TPU)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99"/>
                </a:solidFill>
                <a:latin typeface="Times New Roman"/>
              </a:rPr>
              <a:t>2 </a:t>
            </a:r>
            <a:r>
              <a:rPr b="0" lang="cs-CZ" sz="2000" spc="-1" strike="noStrike">
                <a:solidFill>
                  <a:srgbClr val="333399"/>
                </a:solidFill>
                <a:latin typeface="Symbol"/>
                <a:ea typeface="Symbol"/>
              </a:rPr>
              <a:t></a:t>
            </a:r>
            <a:r>
              <a:rPr b="0" lang="cs-CZ" sz="2000" spc="-1" strike="noStrike">
                <a:solidFill>
                  <a:srgbClr val="333399"/>
                </a:solidFill>
                <a:latin typeface="Times New Roman"/>
              </a:rPr>
              <a:t> 8bitový časovač (TMR)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99"/>
                </a:solidFill>
                <a:latin typeface="Times New Roman"/>
              </a:rPr>
              <a:t>generátor PWM a PPG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99"/>
                </a:solidFill>
                <a:latin typeface="Times New Roman"/>
              </a:rPr>
              <a:t>16kanálový 10bitový AD převodník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99"/>
                </a:solidFill>
                <a:latin typeface="Times New Roman"/>
              </a:rPr>
              <a:t>2 kanálový DA převodník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003640" y="1413000"/>
            <a:ext cx="3746520" cy="4794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2B3DD4-FBA0-4F4A-9EC4-F94309DB460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8642160" cy="64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pa pamět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900000" y="1628640"/>
          <a:ext cx="2941920" cy="447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628640"/>
                    <a:ext cx="2941920" cy="447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4035600" y="1341360"/>
            <a:ext cx="4101840" cy="5040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CDE8B0-486C-411F-A2D4-B592B326746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8642160" cy="64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VB2633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6913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99"/>
                </a:solidFill>
                <a:latin typeface="Times New Roman"/>
              </a:rPr>
              <a:t>Procesor H8S/2633F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99"/>
                </a:solidFill>
                <a:latin typeface="Times New Roman"/>
              </a:rPr>
              <a:t>Vnější SRAM 256 kB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99"/>
                </a:solidFill>
                <a:latin typeface="Times New Roman"/>
              </a:rPr>
              <a:t>Programátor vnitřní Flash (UFPB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99"/>
                </a:solidFill>
                <a:latin typeface="Times New Roman"/>
              </a:rPr>
              <a:t>Rozhraní SCI0 a SCI2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9999"/>
                </a:solidFill>
                <a:latin typeface="Times New Roman"/>
              </a:rPr>
              <a:t>Monitor pro ladění programů ve Flas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1403280" y="3284640"/>
          <a:ext cx="6481800" cy="31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6481800" cy="31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4ECAEA-0312-484C-A63F-BAB529CC0A7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8642160" cy="64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Rozšiřující desky – Mem_Com_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43164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99"/>
                </a:solidFill>
                <a:latin typeface="Times New Roman"/>
              </a:rPr>
              <a:t>Externí Flash, EEPROM, RTC SRAM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99"/>
                </a:solidFill>
                <a:latin typeface="Times New Roman"/>
              </a:rPr>
              <a:t>Externí sériová EEPROM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99"/>
                </a:solidFill>
                <a:latin typeface="Times New Roman"/>
              </a:rPr>
              <a:t>CPLD XC9572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99"/>
                </a:solidFill>
                <a:latin typeface="Times New Roman"/>
              </a:rPr>
              <a:t>Rozhraní SCI1 a SCI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5006880" y="1341360"/>
          <a:ext cx="3246480" cy="532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6880" y="1341360"/>
                    <a:ext cx="3246480" cy="532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D85F9F-F053-4455-8727-8E6668423C1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8642160" cy="64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Rozšiřující desky – Disp_Kbd_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3640" y="1413000"/>
            <a:ext cx="67690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CPLD XC95108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Rozhraní maticové klávesnice a LC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1835280" y="2421000"/>
          <a:ext cx="5329080" cy="403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2421000"/>
                    <a:ext cx="5329080" cy="403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DF244E-2CFE-4C76-8A52-E51ACD6F7EF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5T09:14:01Z</dcterms:created>
  <dc:creator>Karel Dudáček</dc:creator>
  <dc:description/>
  <dc:language>en-US</dc:language>
  <cp:lastModifiedBy>KIV</cp:lastModifiedBy>
  <dcterms:modified xsi:type="dcterms:W3CDTF">2009-09-25T07:00:15Z</dcterms:modified>
  <cp:revision>117</cp:revision>
  <dc:subject/>
  <dc:title>Snímek 1</dc:title>
</cp:coreProperties>
</file>