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5.png" ContentType="image/png"/>
  <Override PartName="/ppt/media/image1.wmf" ContentType="image/x-wmf"/>
  <Override PartName="/ppt/media/image28.png" ContentType="image/png"/>
  <Override PartName="/ppt/media/image31.png" ContentType="image/png"/>
  <Override PartName="/ppt/media/image6.png" ContentType="image/png"/>
  <Override PartName="/ppt/media/image32.png" ContentType="image/png"/>
  <Override PartName="/ppt/media/image34.wmf" ContentType="image/x-wmf"/>
  <Override PartName="/ppt/media/image14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7.png" ContentType="image/png"/>
  <Override PartName="/ppt/media/image37.png" ContentType="image/png"/>
  <Override PartName="/ppt/media/image11.png" ContentType="image/png"/>
  <Override PartName="/ppt/media/image10.png" ContentType="image/png"/>
  <Override PartName="/ppt/media/image4.png" ContentType="image/png"/>
  <Override PartName="/ppt/media/image27.png" ContentType="image/png"/>
  <Override PartName="/ppt/media/image33.wmf" ContentType="image/x-wmf"/>
  <Override PartName="/ppt/media/image3.wmf" ContentType="image/x-wmf"/>
  <Override PartName="/ppt/media/image29.png" ContentType="image/pn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87C37-90F9-4D45-BCD9-84678E2A24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69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640" y="3822840"/>
            <a:ext cx="8569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BEA19-C80B-445C-A00E-A84D345D1A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41814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1814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3640" y="3822840"/>
            <a:ext cx="41814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22840"/>
            <a:ext cx="41814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3C9C8-0993-4E8A-B961-9180B254F0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27590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0920" y="1341000"/>
            <a:ext cx="27590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8560" y="1341000"/>
            <a:ext cx="27590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3640" y="3822840"/>
            <a:ext cx="27590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0920" y="3822840"/>
            <a:ext cx="27590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8560" y="3822840"/>
            <a:ext cx="27590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2DF86-9AE9-4D64-B130-AD415FFEA5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3640" y="1341000"/>
            <a:ext cx="856908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C1782-C5D7-48C1-B4D7-3A36E497B4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69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910B5-F2A8-4060-AB47-B3638B378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41814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1814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3AC1B-A78C-4F01-982C-06A44CF62B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4B708-AAFF-4835-9089-C11F914EDC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50920" y="620280"/>
            <a:ext cx="86421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DE330-FEDD-441F-AE26-B7A6EF7A2B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41814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1814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3640" y="3822840"/>
            <a:ext cx="41814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38430-C99C-42FE-B3E6-4E6D5F498A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41814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1814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22840"/>
            <a:ext cx="41814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26F18-84C4-48C2-8C93-ECEEF39D2E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41814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1814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3640" y="3822840"/>
            <a:ext cx="8569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FA7DA-579D-48E2-A38E-53C5006B55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3640" y="1341000"/>
            <a:ext cx="8569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4000" y="6308280"/>
            <a:ext cx="2087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884720" y="6244920"/>
            <a:ext cx="801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AAD6-875A-43EE-B771-99C643975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1159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K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00000" y="189000"/>
            <a:ext cx="770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971640" y="260280"/>
            <a:ext cx="785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042920" y="189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Times New Roman"/>
              </a:rPr>
              <a:t>For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50920" y="549360"/>
            <a:ext cx="86421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1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4000" y="1628640"/>
            <a:ext cx="77770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Prostředky pro automatizovaný návrh elektronických obvodů</a:t>
            </a: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se zaměřením na návrh DPS programem Formica.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2706F-BA4D-4E46-920C-D9C8329431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tor schéma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2818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Postup návrhu.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9999"/>
                </a:solidFill>
                <a:latin typeface="Times New Roman"/>
              </a:rPr>
              <a:t>Příprava listu (rohové razítko)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9999"/>
                </a:solidFill>
                <a:latin typeface="Times New Roman"/>
              </a:rPr>
              <a:t>Položení součástek z knihovny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9999"/>
                </a:solidFill>
                <a:latin typeface="Times New Roman"/>
              </a:rPr>
              <a:t>Vytvoření a položení nových součástek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9999"/>
                </a:solidFill>
                <a:latin typeface="Times New Roman"/>
              </a:rPr>
              <a:t>Natažení spojů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9999"/>
                </a:solidFill>
                <a:latin typeface="Times New Roman"/>
              </a:rPr>
              <a:t>Doplnění popisek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9999"/>
                </a:solidFill>
                <a:latin typeface="Times New Roman"/>
              </a:rPr>
              <a:t>Vygenerování netlistu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304B6-3399-4E1F-BF88-CDD372AE23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nastave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5832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Librarian ..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specifikace knihovních souborů, viz dále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acros ..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otevření, editace, uložení maker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Graphics ..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nastavení způsobu zobrazení jednotlivých prvků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Options – Save And Set Globa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uloží konfigurační soubor,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při dalším spuštění Formica jej automaticky otevře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300720" y="1413000"/>
          <a:ext cx="22194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1413000"/>
                    <a:ext cx="22194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EA2A3-23B9-46E4-859D-78F61E72DB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ožení rámeč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5356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Place – Structur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rámeček výkresu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Place – </a:t>
            </a:r>
            <a:r>
              <a:rPr b="1" lang="cs-CZ" sz="2400" spc="-1" strike="noStrike">
                <a:solidFill>
                  <a:srgbClr val="808080"/>
                </a:solidFill>
                <a:latin typeface="Arial"/>
              </a:rPr>
              <a:t>Rectangle, Quadrant, Circle, Arc, Filled Rectangle, Filled Circl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nemají elektrický význa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580000" y="1413000"/>
          <a:ext cx="295272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1413000"/>
                    <a:ext cx="295272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B5904-79F5-4795-8157-C3B912AF9B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ožení součástek z knihov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1356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Place – Component (Mask)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součástka podle jména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Place – Component (Choice)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součástka výběrem z knihovny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0" t="0" r="15661" b="25755"/>
          <a:stretch/>
        </p:blipFill>
        <p:spPr>
          <a:xfrm>
            <a:off x="2843280" y="2637000"/>
            <a:ext cx="5329080" cy="38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990D6-87C0-48F1-B5FB-312CC2BAEC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5400720" cy="43210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pis u součástek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576072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R2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referenční označení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R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jméno (name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R100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patice (package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100k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hodnota (value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3A2AC-F17F-473E-9598-AF2FF201DD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pis u součástek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1356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Popis součástek lze editova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9999"/>
                </a:solidFill>
                <a:latin typeface="Arial"/>
              </a:rPr>
              <a:t>Edit – Edit Text/Componen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276720" y="2492280"/>
          <a:ext cx="5040360" cy="35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492280"/>
                    <a:ext cx="5040360" cy="35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9508E-F38E-4D0C-B25A-05C64E38D5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ažení spojů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1356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Place – DrawWire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ručně natažený vodič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Place – Route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automatické propojení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Place – Connect 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automatické propojení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708360" y="2708280"/>
          <a:ext cx="4208400" cy="34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708280"/>
                    <a:ext cx="4208400" cy="34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611280" y="3141720"/>
            <a:ext cx="2592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Type 0</a:t>
            </a: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 apod. nemá elektrický význ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Line Options</a:t>
            </a: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 – nastavení chování editoru při tažení č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207E0-990B-4FAA-A213-24B12C957B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ažení spojů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5184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Place – DrawBus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sběrnice nemá elektrický význam,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propojení vývodů na sběrnici se provede prostřednictvím návěští (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Place - Label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59280" y="2997360"/>
          <a:ext cx="4968720" cy="34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2997360"/>
                    <a:ext cx="496872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24000" y="3716280"/>
            <a:ext cx="2376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Pozor na nežádoucí propojení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2E586-F019-469E-8344-ECC30DDE92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t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1356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Edit – Move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přesunutí bez protažení spojů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Edit - Drag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přesunutí s protažením spojů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Edit – Edit Text/Component  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vlastnosti součástky (nebo textu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10441" b="25755"/>
          <a:stretch/>
        </p:blipFill>
        <p:spPr>
          <a:xfrm>
            <a:off x="2771640" y="2781360"/>
            <a:ext cx="5256360" cy="3533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95280" y="3357720"/>
            <a:ext cx="22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Prostřední tlačítko nebo Tab. = postupně 3</a:t>
            </a:r>
            <a:r>
              <a:rPr b="0" lang="en-US" sz="1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×</a:t>
            </a: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 otočení o 90</a:t>
            </a:r>
            <a:r>
              <a:rPr b="1" lang="cs-CZ" sz="1800" spc="-1" strike="noStrike" baseline="30000">
                <a:solidFill>
                  <a:srgbClr val="009999"/>
                </a:solidFill>
                <a:latin typeface="Times New Roman"/>
              </a:rPr>
              <a:t>o</a:t>
            </a: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, potom zrcadlové otoč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A5507-40A7-451A-9C21-CF3246E43F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ávěští,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Place – Text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popis – nemá elektrický význam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Place – Label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návěští vodiče (připojení na síť definovaného jména)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Všechny vodiče se stejným návěštím jsou propojené (ale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 není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~reset~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ff3300"/>
                </a:solidFill>
                <a:latin typeface="Times New Roman"/>
              </a:rPr>
              <a:t>(!)</a:t>
            </a: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979640" y="2565360"/>
          <a:ext cx="5473800" cy="38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565360"/>
                    <a:ext cx="5473800" cy="38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B2856-D54E-4FF1-85BA-55EDD2A0B3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up při návrhu D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281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ákladní kroky: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Vytvoření knihovny součástek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Návrh schématu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Export schématu pro další použití 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(návrh DPS, simulace)</a:t>
            </a: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 – vytvoří tzv. „netlist“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Vytvoření knihovny figur (patic) a dalších konstrukčních prvků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Import „netlistu“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Návrh DPS 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(ručně nebo autorouterem)</a:t>
            </a: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Export DPS pro postprocesory 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(kreslení masek, řízení vrtačky)</a:t>
            </a: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alší kroky spojené s návrhem: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Logická simulace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Elektrická simulace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Tepelná simulace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3EC5F-9913-402B-9F02-236B68F52C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áje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13600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V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Cons-lib.sch</a:t>
            </a: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 jsou definované součástky </a:t>
            </a:r>
            <a:r>
              <a:rPr b="1" lang="cs-CZ" sz="1800" spc="-1" strike="noStrike">
                <a:solidFill>
                  <a:srgbClr val="009999"/>
                </a:solidFill>
                <a:latin typeface="Arial"/>
              </a:rPr>
              <a:t>VCC</a:t>
            </a: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lang="cs-CZ" sz="1800" spc="-1" strike="noStrike">
                <a:solidFill>
                  <a:srgbClr val="009999"/>
                </a:solidFill>
                <a:latin typeface="Arial"/>
              </a:rPr>
              <a:t>GND</a:t>
            </a: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lang="cs-CZ" sz="1800" spc="-1" strike="noStrike">
                <a:solidFill>
                  <a:srgbClr val="009999"/>
                </a:solidFill>
                <a:latin typeface="Arial"/>
              </a:rPr>
              <a:t>+12V</a:t>
            </a: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 atd. s vývodem propojeným se stejnojmennou sítí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Napájecí vývody většiny logických obvodů jsou připojené na sítě </a:t>
            </a:r>
            <a:r>
              <a:rPr b="1" lang="cs-CZ" sz="1800" spc="-1" strike="noStrike">
                <a:solidFill>
                  <a:srgbClr val="009999"/>
                </a:solidFill>
                <a:latin typeface="Arial"/>
              </a:rPr>
              <a:t>VCC</a:t>
            </a: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 a </a:t>
            </a:r>
            <a:r>
              <a:rPr b="1" lang="cs-CZ" sz="1800" spc="-1" strike="noStrike">
                <a:solidFill>
                  <a:srgbClr val="009999"/>
                </a:solidFill>
                <a:latin typeface="Arial"/>
              </a:rPr>
              <a:t>GND</a:t>
            </a: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 (nezobrazují se ve schématu)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050920" y="3068640"/>
          <a:ext cx="5473800" cy="31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3068640"/>
                    <a:ext cx="547380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F3724-8803-444E-9D44-6E5E41610C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reslení na více lis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3960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Worksheet – Add Shee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vytvoření nového listu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Worksheet – Next Shee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přepnutí do jiného listu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Worksheet – Previous Shee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přepnutí do jiného listu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Worksheet – Switch to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přepnutí do jiného listu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Propojení vodičů na různých listech prostřednictvím návěští (viz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lace - Label</a:t>
            </a: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643280" y="1413000"/>
          <a:ext cx="373716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413000"/>
                    <a:ext cx="373716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5AE20-037B-4F9F-B631-C28D3732F6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ytvoření součástky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69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Browse/Edit – Create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vytvoření nové součástky,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Browse/Edit – Modify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úprava staré součástky,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Browse/Edit – Split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nová vytvořená kopírováním staré součástky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26101" b="32194"/>
          <a:stretch/>
        </p:blipFill>
        <p:spPr>
          <a:xfrm>
            <a:off x="3276720" y="2924280"/>
            <a:ext cx="384012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A9035-F1E0-479F-ADA3-D015B25284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ytvoření součástky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24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Place – Pin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definování pinů součástky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Place – Contour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nakreslení obrysu (nemá el. význam)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0" r="0" b="19316"/>
          <a:stretch/>
        </p:blipFill>
        <p:spPr>
          <a:xfrm>
            <a:off x="2411280" y="2421000"/>
            <a:ext cx="5400720" cy="35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00721-0AA1-42D8-943E-27CC6228C5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ytvoření součástky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72723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Power Pins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napájecí piny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Napájecí piny nejsou zobrazené ve schématu. Jsou propojené se stejnojmennou sítí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268360" y="2637000"/>
          <a:ext cx="4208760" cy="35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637000"/>
                    <a:ext cx="4208760" cy="35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D5779-7BB3-4E05-B474-8D2EAD7E4D1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ytvoření součástky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1356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Add Part Name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jméno součástky pro kreslení schématu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Add Package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jméno patice PCB pro návrh DPS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9316"/>
          <a:stretch/>
        </p:blipFill>
        <p:spPr>
          <a:xfrm>
            <a:off x="2411280" y="2421000"/>
            <a:ext cx="5832720" cy="381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4E68C-7ECD-4827-9C24-FED11D1B284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ibrarian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24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Použité součástky jsou uložené v souboru se schématem </a:t>
            </a:r>
            <a:r>
              <a:rPr b="0" lang="cs-CZ" sz="2400" spc="-1" strike="noStrike">
                <a:solidFill>
                  <a:srgbClr val="009999"/>
                </a:solidFill>
                <a:latin typeface="Times New Roman"/>
              </a:rPr>
              <a:t>(.Sch) 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Součástky lze použít v dalších souborech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lace – Component_Choice – Another File -</a:t>
            </a: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 ) – zkopírují se do právě editovaného souboru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Knihovní soubor </a:t>
            </a:r>
            <a:r>
              <a:rPr b="0" lang="cs-CZ" sz="2400" spc="-1" strike="noStrike">
                <a:solidFill>
                  <a:srgbClr val="009999"/>
                </a:solidFill>
                <a:latin typeface="Times New Roman"/>
              </a:rPr>
              <a:t>(.Lib)</a:t>
            </a: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 obsahuje názvy souborů, které se automaticky prohledávají při pokládání součástek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Údržba prostřednictvím příkazů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Librarian - ...</a:t>
            </a: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  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73269-4924-4D4E-80A4-93EC2944885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ibrarian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24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Název souboru </a:t>
            </a:r>
            <a:r>
              <a:rPr b="0" lang="cs-CZ" sz="2400" spc="-1" strike="noStrike">
                <a:solidFill>
                  <a:srgbClr val="009999"/>
                </a:solidFill>
                <a:latin typeface="Times New Roman"/>
              </a:rPr>
              <a:t>.Lib</a:t>
            </a: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 je uložen v konfiguračním souboru programu </a:t>
            </a:r>
            <a:r>
              <a:rPr b="0" lang="cs-CZ" sz="2400" spc="-1" strike="noStrike">
                <a:solidFill>
                  <a:srgbClr val="009999"/>
                </a:solidFill>
                <a:latin typeface="Times New Roman"/>
              </a:rPr>
              <a:t>Schematic</a:t>
            </a: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 při vhodném nastavení se </a:t>
            </a:r>
            <a:r>
              <a:rPr b="0" lang="cs-CZ" sz="2400" spc="-1" strike="noStrike">
                <a:solidFill>
                  <a:srgbClr val="009999"/>
                </a:solidFill>
                <a:latin typeface="Times New Roman"/>
              </a:rPr>
              <a:t>.Lib</a:t>
            </a: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 načte automaticky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700360" y="2492280"/>
          <a:ext cx="4608360" cy="35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492280"/>
                    <a:ext cx="4608360" cy="35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F4739-6E54-4B56-8834-EE60882044B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isk schématu (hardcop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39592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Files – Print/Hardcopy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Nejprve je nutné přečíst soubor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LL</a:t>
            </a: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 pro zvolený typ výstupu,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Potom je možné změnit nastavení výstupu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hange Configuraion, Sheet to Output</a:t>
            </a: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),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Spuštění tisku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o!</a:t>
            </a: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Konfiguraci lze uložit a před dalším použitím načíst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427640" y="1557360"/>
          <a:ext cx="4424400" cy="36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557360"/>
                    <a:ext cx="4424400" cy="36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3FD47-1218-4363-8328-6D0318D96B8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064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Files – Netlist/Errorlist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generování netlistu ( .PNL) 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20881" b="25755"/>
          <a:stretch/>
        </p:blipFill>
        <p:spPr>
          <a:xfrm>
            <a:off x="2484360" y="1989000"/>
            <a:ext cx="5327640" cy="405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B6D72-AA66-414D-AD91-114A5C98779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kroky návrhu D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63640" y="1844640"/>
          <a:ext cx="6069240" cy="40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844640"/>
                    <a:ext cx="6069240" cy="40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65F97-D2F1-492C-8316-519CD7BDF8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08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{D:\fmdesign\KP\KP_1.Sch (11:16, Oct-7-2004)}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Components (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("C1" "E10M/25V 10M" "CR50")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("C2" "CF1 100k" "CF50A")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("CN1" "CAN9V" "CAN9F")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("R1" "R 100k" "R100")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("R2" "R 100k" "R100")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("U1" "74HC00" "DIP14")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Netlist (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("CN1" 9 "U1" 7 "C2" 2 "C1" 2) {GND} {|0|}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("C1" 1 "U1" 14 "CN1" 3 "R2" 2 "R1" 2 "C2" 1) {VCC} {|0|}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("U1" 4 "CN1" 4 "U1" 5) {|0|}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("U1" 6 "U1" 10 "R1" 1) {|0|}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("CN1" 5 "U1" 13) {reset} {|0|}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("CN1" 8 "U1" 12) {|0|}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("U1" 11 "CN1" 7) {|0|}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("CN1" 1 "U1" 1 "R2" 1) {|0|}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("CN1" 6 "U1" 2) {|0|}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("CN1" 2 "U1" 8) {|0|}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("U1" 3 "U1" 9) {|0|}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FB9A3-3A6B-444D-BB85-B9DC1A967B0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16000" y="1557000"/>
            <a:ext cx="691200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9999"/>
                </a:solidFill>
                <a:latin typeface="Times New Roman"/>
              </a:rPr>
              <a:t>Formica LAYOUT</a:t>
            </a:r>
            <a:endParaRPr b="0" lang="en-US" sz="6000" spc="-1" strike="noStrike">
              <a:solidFill>
                <a:srgbClr val="333399"/>
              </a:solidFill>
              <a:latin typeface="Times New Roman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Editor plošného spoje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B9111-C5BC-4AE7-BFC6-BE1B72C1E7C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tor plošného spo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69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Postup návrhu: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9999"/>
                </a:solidFill>
                <a:latin typeface="Times New Roman"/>
              </a:rPr>
              <a:t>Nastavení parametrů (rastr, tloušťka vodičů, izolační vzdálenosti, ...)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9999"/>
                </a:solidFill>
                <a:latin typeface="Times New Roman"/>
              </a:rPr>
              <a:t>Zakreslení obrysu desky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9999"/>
                </a:solidFill>
                <a:latin typeface="Times New Roman"/>
              </a:rPr>
              <a:t>Import netlistu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9999"/>
                </a:solidFill>
                <a:latin typeface="Times New Roman"/>
              </a:rPr>
              <a:t>Rozmístění součástek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9999"/>
                </a:solidFill>
                <a:latin typeface="Times New Roman"/>
              </a:rPr>
              <a:t>Propojení napájecích vodičů (automaticky + ručně)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9999"/>
                </a:solidFill>
                <a:latin typeface="Times New Roman"/>
              </a:rPr>
              <a:t>Propojení ostatních vodičů (automaticky + ručně)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9999"/>
                </a:solidFill>
                <a:latin typeface="Times New Roman"/>
              </a:rPr>
              <a:t>Kontrola návrhových pravidel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9999"/>
                </a:solidFill>
                <a:latin typeface="Times New Roman"/>
              </a:rPr>
              <a:t>Doplnění popisů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9999"/>
                </a:solidFill>
                <a:latin typeface="Times New Roman"/>
              </a:rPr>
              <a:t>Rozlití mědi po volných plochách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9999"/>
                </a:solidFill>
                <a:latin typeface="Times New Roman"/>
              </a:rPr>
              <a:t>Artwork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22617-0BFF-400D-9818-EBFFB55BD3C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stavení parametrů návrhu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4608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Dimensions – Basic gri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80820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rastr palcový/milimetrový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Dimensions – Isolation Gap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80820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izolační vzdálenosti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808080"/>
                </a:solidFill>
                <a:latin typeface="Arial"/>
              </a:rPr>
              <a:t>Dimensions – Line Wid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80820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šířka spojové čáry (pouze pro změnu definovaného typu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808080"/>
                </a:solidFill>
                <a:latin typeface="Arial"/>
              </a:rPr>
              <a:t>Dimensions – Pad Shap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80820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typ propojky vrstev (pouze pro změnu definovaného typu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Dimensions – Check Violatio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80820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kontrola desky po návrhu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292720" y="1413000"/>
          <a:ext cx="30654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1413000"/>
                    <a:ext cx="30654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5330F-99A1-438D-A8B8-0CD894DD570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stavení parametrů návrhu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0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Options – Grid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&amp;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 Coordinates - Cursor Gri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808200" indent="-285840">
              <a:spcBef>
                <a:spcPts val="451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rastr kurzoru pro editaci spojů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332000" y="2133720"/>
          <a:ext cx="243828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133720"/>
                    <a:ext cx="243828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468360" y="5734080"/>
            <a:ext cx="41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Cursor Grid = 1.27, Line typ 4 (0.3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508720" y="2133720"/>
          <a:ext cx="2593800" cy="36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2133720"/>
                    <a:ext cx="25938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4643280" y="5734080"/>
            <a:ext cx="41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9999"/>
                </a:solidFill>
                <a:latin typeface="Times New Roman"/>
              </a:rPr>
              <a:t>Cursor Grid = 0.635, Line typ 2 (0.2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3BBD6-A9F5-4993-B948-80F0BF1221B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stvy a spo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5975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Celkem 24 vrstev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Standardní přiřazení: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9  – spojová („strana spojů“),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14 – spojová („strana součástek“),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8, 15 – nepájivá maska,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21     – popisy součástek,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22     – obrázek součástky,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23     – vnější obrys součástek a desky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Vždy 2 vrstvy (A, B) jsou pracovní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Výběr: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ayers – Select Layer A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 apod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Přepínání A </a:t>
            </a:r>
            <a:r>
              <a:rPr b="0" lang="cs-CZ" sz="2000" spc="-1" strike="noStrike">
                <a:solidFill>
                  <a:srgbClr val="009999"/>
                </a:solidFill>
                <a:latin typeface="Symbol"/>
                <a:ea typeface="Symbol"/>
              </a:rPr>
              <a:t>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 B: prostřední tlačítko nebo Tab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Vždy 2 vrstvy jsou vodivé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Výběr: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ayers – First Conductive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 apod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Zobrazení každé vrstvy lze zapnout/vypnout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659640" y="1413000"/>
          <a:ext cx="180324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1413000"/>
                    <a:ext cx="1803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B9BEF-BC72-42D9-B217-2C357123ABF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kreslení obrysů de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5111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bvykle ve vrstvě 23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yp čáry je libovolný – má jen informativní význam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219640" y="1341360"/>
          <a:ext cx="2989440" cy="48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341360"/>
                    <a:ext cx="298944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84360" y="2852640"/>
            <a:ext cx="4176720" cy="352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32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32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333399"/>
                </a:solidFill>
                <a:uFillTx/>
                <a:latin typeface="Times New Roman"/>
              </a:rPr>
              <a:t>Kreslení čáry</a:t>
            </a:r>
            <a:r>
              <a:rPr b="1" lang="cs-CZ" sz="20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Zvolit vrstv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Zvolit typ čáry</a:t>
            </a:r>
            <a:br>
              <a:rPr sz="2000"/>
            </a:b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lace – Line – Line Type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Kreslení</a:t>
            </a:r>
            <a:br>
              <a:rPr sz="2000"/>
            </a:b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lace – Line – Draw Line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8577D-DFC8-4C92-9658-FCC3F6A44D8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mport netlis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4208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Netlist – Load Netlist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import netlistu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Netlist – Show Rats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’ Nest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zobrazen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í spojů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67280" y="1633680"/>
            <a:ext cx="4681440" cy="428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2F9E5-C41D-410C-9C78-A792DFABEB0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zmístění součás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40323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Edit – Pick and Dra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přesun s protažením spojů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808080"/>
                </a:solidFill>
                <a:latin typeface="Arial"/>
              </a:rPr>
              <a:t>Edit – Pick and Mov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přesun bez spojů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Prostřední tlačítko = otočení o 90</a:t>
            </a:r>
            <a:r>
              <a:rPr b="1" lang="cs-CZ" sz="24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</a:t>
            </a: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Po 3 otočeních překlopení na opačnou stranu desky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932360" y="1341360"/>
          <a:ext cx="3209760" cy="48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341360"/>
                    <a:ext cx="32097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DC090-81B3-4651-BB7E-67409B268CB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utoro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6337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Place – Window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volba okna pro propojování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Autorouter – Grid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&amp; Window - Scope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propoje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ní všech/jen vybraných spojů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Autorouter – Grid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&amp; Window – 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Router Grid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rastr pro propojování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Autorouter – Grid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&amp; Window – 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Window Margin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hranice pro propojování spoje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Autorouter – Route All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spuštění autorouteru (podle </a:t>
            </a:r>
            <a:r>
              <a:rPr b="1" lang="cs-CZ" sz="2000" spc="-1" strike="noStrike">
                <a:solidFill>
                  <a:srgbClr val="009999"/>
                </a:solidFill>
                <a:latin typeface="Arial"/>
              </a:rPr>
              <a:t>Scope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227640" y="1341360"/>
          <a:ext cx="2549520" cy="475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1341360"/>
                    <a:ext cx="2549520" cy="47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5BCD7-0193-4953-B40B-8CEEFA40B39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typy schéma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920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Jeden list.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Více listů – jednoúrovňové </a:t>
            </a:r>
            <a:r>
              <a:rPr b="0" lang="cs-CZ" sz="3200" spc="-1" strike="noStrike">
                <a:solidFill>
                  <a:srgbClr val="009999"/>
                </a:solidFill>
                <a:latin typeface="Times New Roman"/>
              </a:rPr>
              <a:t>(Formica)</a:t>
            </a: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Více listů – hierarchické členění.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F657E-C49A-401D-8681-5993CBC213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indow Mar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627280" y="1773360"/>
          <a:ext cx="4208400" cy="38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773360"/>
                    <a:ext cx="4208400" cy="38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41056-144A-41D1-BD92-3513BD045D9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tace spoje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424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Edit – Pick and Move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přesun bez protažení spojů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Edit – Pick and Drag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přesun součástky/segmentu/vrcholu s 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protažením spojů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Edit – Insert Vertex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přesun s vložením zlomového bodu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979640" y="2930400"/>
            <a:ext cx="5184720" cy="330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3C545-0238-42DC-BC49-7C23F8F392A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ýběr prvků spo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2106720"/>
            <a:ext cx="489600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Select – Mark Elemen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Select – Mark Link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Select – Mark Track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Select – Mark Net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výběr zvoleného prvku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796000" y="1341360"/>
            <a:ext cx="2943360" cy="472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46591-5862-46D5-A681-1D95695851F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vky spo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36480" y="1689120"/>
          <a:ext cx="3583080" cy="16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6480" y="1689120"/>
                    <a:ext cx="358308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4997520" y="1690560"/>
          <a:ext cx="358308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97520" y="1690560"/>
                    <a:ext cx="35830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36480" y="4181400"/>
          <a:ext cx="3583080" cy="152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6480" y="4181400"/>
                    <a:ext cx="358308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4997520" y="4210200"/>
          <a:ext cx="3583080" cy="1463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97520" y="4210200"/>
                    <a:ext cx="3583080" cy="14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8934E-E02F-4AB6-83AF-66B38C0B997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tace spoj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504000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Edit – Chang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Line Width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změna tloušťky vybraného spoj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Edit – Chang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Pad Type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změna průchodu deskou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Edit – Chang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Swap Layers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záměna vrstev A</a:t>
            </a:r>
            <a:r>
              <a:rPr b="0" lang="cs-CZ" sz="2000" spc="-1" strike="noStrike">
                <a:solidFill>
                  <a:srgbClr val="009999"/>
                </a:solidFill>
                <a:latin typeface="Symbol"/>
                <a:ea typeface="Symbol"/>
              </a:rPr>
              <a:t>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B vybraného spoj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651640" y="1413000"/>
            <a:ext cx="3141360" cy="476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CF0E1-97D4-4224-8170-47859D9989E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lší prvky na des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431964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Kromě spojového obrazce se na desku umisťují další prvky: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ořezové značky (např. T_001),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popisy konektorů,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označení desky,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...  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5435640" y="1484280"/>
          <a:ext cx="3048120" cy="43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1484280"/>
                    <a:ext cx="304812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70B67-8F56-4E3E-92D7-CE84AE415E6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zlití mě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859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Plocha mědi se vytváří šrafováním zvolenou čárou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Postup: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Je vhodné zvětšit izolační vzdálenosti pro vodivé vrstvy (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imensions – Isolation Gaps – Layer 9 – Increment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lace – Copper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 nastavit zvolenou šířku čáry (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Line Type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) a odstup čar (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acingX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 resp.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acingY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Zvoli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ur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. Kliknutím na některý spoj na desce se tento spoj rozlije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981680" y="1773360"/>
          <a:ext cx="4014720" cy="44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1680" y="1773360"/>
                    <a:ext cx="401472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90DD1-4CBF-4ED4-80C2-2E68B0CEFA0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ytvoření součást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681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Place – Component – Create Packag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9999"/>
                </a:solidFill>
                <a:latin typeface="Times New Roman"/>
              </a:rPr>
              <a:t>Pro vazbu na netlist mají význam piny umístěné příkaze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Place – Pi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Place – Row of Pin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9999"/>
                </a:solidFill>
                <a:latin typeface="Times New Roman"/>
              </a:rPr>
              <a:t>Jméno součástky (pro netlist) je jméno, pod kterým je součástka uložena po příkazu 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Quit </a:t>
            </a:r>
            <a:r>
              <a:rPr b="1" lang="cs-CZ" sz="2400" spc="-1" strike="noStrike">
                <a:solidFill>
                  <a:srgbClr val="009999"/>
                </a:solidFill>
                <a:latin typeface="Times New Roman"/>
              </a:rPr>
              <a:t>(???)</a:t>
            </a:r>
            <a:r>
              <a:rPr b="0" lang="cs-CZ" sz="2400" spc="-1" strike="noStrike">
                <a:solidFill>
                  <a:srgbClr val="0099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5197320" y="1341360"/>
          <a:ext cx="3181680" cy="475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7320" y="1341360"/>
                    <a:ext cx="3181680" cy="47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68476-78D1-4C73-A004-E831D6C3B13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ýstup pro postproces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3516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Files - Artwork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výstup např. pro kreslení masek (Gerber, Admap, ...) 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nebo pro osazovací plán.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Files – NC Drill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9999"/>
                </a:solidFill>
                <a:latin typeface="Times New Roman"/>
              </a:rPr>
              <a:t>výstup pro vrtačku (Excellon, ..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Výstup pro výrobu vyžaduje znalost konkrétního zařízení (číslování masek fotoplotru, průměry osazených vrtáků, ...)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E1882-AC6B-433F-8F44-0005BDA2009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noúrovňové sché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69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ignály jsou propojeny pomocí návěští nebo logických konektorů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692360" y="2205000"/>
          <a:ext cx="567036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205000"/>
                    <a:ext cx="567036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557C2-FFA4-43E4-89A7-6CA5006B8E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erarchické sché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960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Základní úroveň obsahuje blokové schéma s propojením bloků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Další úrovně obsahují jednotlivé bloky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Dokonalejší systémy – popis bloku může být v různé formě </a:t>
            </a: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(schéma, VHDL, ... – vazba na návrh FPGA)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68360" y="2637000"/>
          <a:ext cx="4464360" cy="37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637000"/>
                    <a:ext cx="446436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4A218-7124-4193-9CE9-A52FE08042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692000" y="1052640"/>
            <a:ext cx="55436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000000"/>
                </a:solidFill>
                <a:latin typeface="Times New Roman"/>
              </a:rPr>
              <a:t>Formica</a:t>
            </a:r>
            <a:endParaRPr b="0" lang="en-US" sz="8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Times New Roman"/>
              </a:rPr>
              <a:t>Editor schématu a plošných spojů</a:t>
            </a:r>
            <a:endParaRPr b="0" lang="en-US" sz="4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9999"/>
                </a:solidFill>
                <a:latin typeface="Courier New"/>
              </a:rPr>
              <a:t>www.formica.cz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7142C-A6E5-4DD8-AF9A-DEA3C04A88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Program Formica zahrnuj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9999"/>
                </a:solidFill>
                <a:latin typeface="Times New Roman"/>
              </a:rPr>
              <a:t>Editor schématu</a:t>
            </a:r>
            <a:r>
              <a:rPr b="0" lang="cs-CZ" sz="2800" spc="-1" strike="noStrike">
                <a:solidFill>
                  <a:srgbClr val="009999"/>
                </a:solidFill>
                <a:latin typeface="Times New Roman"/>
              </a:rPr>
              <a:t> a součástek, export do netlistu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(program 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Schematic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9999"/>
                </a:solidFill>
                <a:latin typeface="Times New Roman"/>
              </a:rPr>
              <a:t>Editor PCB</a:t>
            </a:r>
            <a:r>
              <a:rPr b="0" lang="cs-CZ" sz="2800" spc="-1" strike="noStrike">
                <a:solidFill>
                  <a:srgbClr val="009999"/>
                </a:solidFill>
                <a:latin typeface="Times New Roman"/>
              </a:rPr>
              <a:t> s autorouterem, editor součástek, export pro postprocesory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(program 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Layout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0BDA5-E6EE-44AA-9A58-361B27697A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13744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9999"/>
                </a:solidFill>
                <a:latin typeface="Times New Roman"/>
              </a:rPr>
              <a:t>Formica SCHEMATIC</a:t>
            </a:r>
            <a:endParaRPr b="0" lang="en-US" sz="6000" spc="-1" strike="noStrike">
              <a:solidFill>
                <a:srgbClr val="333399"/>
              </a:solidFill>
              <a:latin typeface="Times New Roman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3399"/>
                </a:solidFill>
                <a:latin typeface="Times New Roman"/>
              </a:rPr>
              <a:t>Editor schématu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D. - přednášky K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E8AE5-7569-49F3-B831-884B78F19F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09:14:01Z</dcterms:created>
  <dc:creator>Karel Dudáček</dc:creator>
  <dc:description/>
  <dc:language>en-US</dc:language>
  <cp:lastModifiedBy>KIV</cp:lastModifiedBy>
  <dcterms:modified xsi:type="dcterms:W3CDTF">2008-10-15T11:10:08Z</dcterms:modified>
  <cp:revision>297</cp:revision>
  <dc:subject/>
  <dc:title>Snímek 1</dc:title>
</cp:coreProperties>
</file>