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5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6.png" ContentType="image/png"/>
  <Override PartName="/ppt/media/image32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7.png" ContentType="image/png"/>
  <Override PartName="/ppt/media/image37.png" ContentType="image/png"/>
  <Override PartName="/ppt/media/image11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3.wmf" ContentType="image/x-wmf"/>
  <Override PartName="/ppt/media/image3.wmf" ContentType="image/x-wmf"/>
  <Override PartName="/ppt/media/image29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CEFD-7975-4B64-A979-278E44445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640" y="3822840"/>
            <a:ext cx="8569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090E-B114-4C9F-A44F-338FFD645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3640" y="382284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2284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DF3C9-8B00-4BD3-A58C-1C0AECE88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27590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0920" y="1341000"/>
            <a:ext cx="27590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8560" y="1341000"/>
            <a:ext cx="27590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3640" y="3822840"/>
            <a:ext cx="27590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0920" y="3822840"/>
            <a:ext cx="27590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8560" y="3822840"/>
            <a:ext cx="27590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4B04-7D79-48A8-B604-EFB9441C44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7EFBD-CD38-4904-A333-888EB65309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20045-21C7-46D6-987E-635E3B111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4181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181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B7342-A528-4062-AB4B-C920ECD71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3FEB-A35C-46C7-AC22-C9F0B9172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0920" y="620280"/>
            <a:ext cx="86421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0B80B-92E4-4116-A58F-363422A5A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181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3640" y="382284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0550-445A-470D-9710-F3E49041B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4181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2284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3FB7C-CF4D-46BA-9BB6-C4FDCFDD8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3640" y="3822840"/>
            <a:ext cx="8569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D3F55-3999-4710-9185-E47F94256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000" y="6308280"/>
            <a:ext cx="2087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884720" y="6244920"/>
            <a:ext cx="801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0640-DEF7-4F1D-8467-43E4E9A89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1159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00000" y="189000"/>
            <a:ext cx="770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971640" y="260280"/>
            <a:ext cx="785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42920" y="189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Times New Roman"/>
              </a:rPr>
              <a:t>For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777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Prostředky pro automatizovaný návrh elektronických obvodů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se zaměřením na návrh DPS programem Formica.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9CCCE-7EB6-4E7E-B7B9-511D316D26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or schéma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281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ostup návrhu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99"/>
                </a:solidFill>
                <a:latin typeface="Times New Roman"/>
              </a:rPr>
              <a:t>Příprava listu (rohové razítko)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99"/>
                </a:solidFill>
                <a:latin typeface="Times New Roman"/>
              </a:rPr>
              <a:t>Položení součástek z knihovny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99"/>
                </a:solidFill>
                <a:latin typeface="Times New Roman"/>
              </a:rPr>
              <a:t>Vytvoření a položení nových součástek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99"/>
                </a:solidFill>
                <a:latin typeface="Times New Roman"/>
              </a:rPr>
              <a:t>Natažení spojů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99"/>
                </a:solidFill>
                <a:latin typeface="Times New Roman"/>
              </a:rPr>
              <a:t>Doplnění popisek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99"/>
                </a:solidFill>
                <a:latin typeface="Times New Roman"/>
              </a:rPr>
              <a:t>Vygenerování netlistu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E6553-69A4-4EF5-90F6-9083F8476D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nastav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5832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Librarian 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specifikace knihovních souborů, viz dále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acros 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otevření, editace, uložení maker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Graphics 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nastavení způsobu zobrazení jednotlivých prvků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Options – Save And Set Glob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uloží konfigurační soubor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i dalším spuštění Formica jej automaticky otevře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300720" y="1413000"/>
          <a:ext cx="22194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413000"/>
                    <a:ext cx="22194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F891D-BE8D-4AE8-B820-6ACFD2153D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ožení rámeč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5356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lace – Structu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rámeček výkresu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lace – </a:t>
            </a:r>
            <a:r>
              <a:rPr b="1" lang="cs-CZ" sz="2400" spc="-1" strike="noStrike">
                <a:solidFill>
                  <a:srgbClr val="808080"/>
                </a:solidFill>
                <a:latin typeface="Arial"/>
              </a:rPr>
              <a:t>Rectangle, Quadrant, Circle, Arc, Filled Rectangle, Filled Circ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nemají elektrický význa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580000" y="1413000"/>
          <a:ext cx="295272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1413000"/>
                    <a:ext cx="295272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F6E79-C208-415C-871E-A06D212A29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ožení součástek z knihov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5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Component (Mask)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součástka podle jmén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Component (Choice)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součástka výběrem z knihovny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15661" b="25755"/>
          <a:stretch/>
        </p:blipFill>
        <p:spPr>
          <a:xfrm>
            <a:off x="2843280" y="2637000"/>
            <a:ext cx="5329080" cy="38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C2672-8F3E-4D74-9079-2D7ECC6072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5400720" cy="4321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is u součástek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576072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R2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referenční označení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jméno (name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R100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atice (package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100k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hodnota (value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238C0-0DD3-42BB-A21F-DD442DF592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is u součástek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135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opis součástek lze editova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Arial"/>
              </a:rPr>
              <a:t>Edit – Edit Text/Componen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276720" y="2492280"/>
          <a:ext cx="504036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492280"/>
                    <a:ext cx="504036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CC479-77CD-4EEC-8F27-FF1558EAC6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ažení spojů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5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DrawWire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ručně natažený vodič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Route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automatické propojení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Connect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automatické propojení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708360" y="2708280"/>
          <a:ext cx="4208400" cy="34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708280"/>
                    <a:ext cx="420840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11280" y="3141720"/>
            <a:ext cx="259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Type 0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 apod. nemá elektrický význ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Line Options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 – nastavení chování editoru při tažení č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D3838-1D2C-41BA-BE92-159FCC49EA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ažení spojů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184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lace – DrawBus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sběrnice nemá elektrický význam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ropojení vývodů na sběrnici se provede prostřednictvím návěští (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- Label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59280" y="2997360"/>
          <a:ext cx="496872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997360"/>
                    <a:ext cx="496872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24000" y="3716280"/>
            <a:ext cx="2376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ozor na nežádoucí propojení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2B920-577E-452D-A860-B9084C2F45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5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– Move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esunutí bez protažení spojů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- Drag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esunutí s protažením spojů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– Edit Text/Component  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vlastnosti součástky (nebo textu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10441" b="25755"/>
          <a:stretch/>
        </p:blipFill>
        <p:spPr>
          <a:xfrm>
            <a:off x="2771640" y="2781360"/>
            <a:ext cx="5256360" cy="3533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280" y="335772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Prostřední tlačítko nebo Tab. = postupně 3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×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 otočení o 90</a:t>
            </a:r>
            <a:r>
              <a:rPr b="1" lang="cs-CZ" sz="1800" spc="-1" strike="noStrike" baseline="30000">
                <a:solidFill>
                  <a:srgbClr val="009999"/>
                </a:solidFill>
                <a:latin typeface="Times New Roman"/>
              </a:rPr>
              <a:t>o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, potom zrcadlové otoč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4DD0F-D5C1-4239-AD16-0F4F037911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ávěští,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Text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opis – nemá elektrický význam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Label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návěští vodiče (připojení na síť definovaného jména)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Všechny vodiče se stejným návěštím jsou propojené (al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 není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~reset~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3300"/>
                </a:solidFill>
                <a:latin typeface="Times New Roman"/>
              </a:rPr>
              <a:t>(!)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979640" y="2565360"/>
          <a:ext cx="547380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65360"/>
                    <a:ext cx="547380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F48C-3B27-42A9-81EB-F3286CA116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up při návrhu 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kladní kroky: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Vytvoření knihovny součástek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Návrh schématu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Export schématu pro další použití 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(návrh DPS, simulace)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– vytvoří tzv. „netlist“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Vytvoření knihovny figur (patic) a dalších konstrukčních prvků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Import „netlistu“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Návrh DPS 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(ručně nebo autorouterem)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Export DPS pro postprocesory 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(kreslení masek, řízení vrtačky)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alší kroky spojené s návrhem: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Logická simulac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Elektrická simulac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Tepelná simulac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455EE-FAE0-4088-AFAE-54778A9EA6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áj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1360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Cons-lib.sch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jsou definované součástky </a:t>
            </a:r>
            <a:r>
              <a:rPr b="1" lang="cs-CZ" sz="1800" spc="-1" strike="noStrike">
                <a:solidFill>
                  <a:srgbClr val="009999"/>
                </a:solidFill>
                <a:latin typeface="Arial"/>
              </a:rPr>
              <a:t>VCC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cs-CZ" sz="1800" spc="-1" strike="noStrike">
                <a:solidFill>
                  <a:srgbClr val="009999"/>
                </a:solidFill>
                <a:latin typeface="Arial"/>
              </a:rPr>
              <a:t>GND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cs-CZ" sz="1800" spc="-1" strike="noStrike">
                <a:solidFill>
                  <a:srgbClr val="009999"/>
                </a:solidFill>
                <a:latin typeface="Arial"/>
              </a:rPr>
              <a:t>+12V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atd. s vývodem propojeným se stejnojmennou sítí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Napájecí vývody většiny logických obvodů jsou připojené na sítě </a:t>
            </a:r>
            <a:r>
              <a:rPr b="1" lang="cs-CZ" sz="1800" spc="-1" strike="noStrike">
                <a:solidFill>
                  <a:srgbClr val="009999"/>
                </a:solidFill>
                <a:latin typeface="Arial"/>
              </a:rPr>
              <a:t>VCC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1" lang="cs-CZ" sz="1800" spc="-1" strike="noStrike">
                <a:solidFill>
                  <a:srgbClr val="009999"/>
                </a:solidFill>
                <a:latin typeface="Arial"/>
              </a:rPr>
              <a:t>GND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(nezobrazují se ve schématu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50920" y="3068640"/>
          <a:ext cx="547380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068640"/>
                    <a:ext cx="547380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0D631-D67B-4B9D-AF6E-B7DF46E39F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reslení na více lis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Worksheet – Add Shee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vytvoření nového listu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Worksheet – Next Shee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přepnutí do jiného listu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Worksheet – Previous Shee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přepnutí do jiného listu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Worksheet – Switch t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přepnutí do jiného listu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Propojení vodičů na různých listech prostřednictvím návěští (viz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ace - Label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43280" y="1413000"/>
          <a:ext cx="373716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413000"/>
                    <a:ext cx="373716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EA78A-C558-4012-89E1-F231F27F28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tvoření součástky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Browse/Edit – Create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vytvoření nové součástky,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Browse/Edit – Modify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úprava staré součástky,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Browse/Edit – Split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nová vytvořená kopírováním staré součástk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26101" b="32194"/>
          <a:stretch/>
        </p:blipFill>
        <p:spPr>
          <a:xfrm>
            <a:off x="3276720" y="2924280"/>
            <a:ext cx="384012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944DB-8BD0-43FC-B052-9568F3F443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tvoření součástky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Pin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definování pinů součástk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Contour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nakreslení obrysu (nemá el. význam)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19316"/>
          <a:stretch/>
        </p:blipFill>
        <p:spPr>
          <a:xfrm>
            <a:off x="2411280" y="2421000"/>
            <a:ext cx="5400720" cy="35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D9CB-A3A4-4628-B14F-49B0916C9D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tvoření součástky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7272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ower Pins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napájecí pin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Napájecí piny nejsou zobrazené ve schématu. Jsou propojené se stejnojmennou sítí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68360" y="2637000"/>
          <a:ext cx="4208760" cy="35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637000"/>
                    <a:ext cx="4208760" cy="35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AB6A-B37F-49C8-9731-39C4517A3C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tvoření součástky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5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Add Part Name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jméno součástky pro kreslení schématu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Add Package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jméno patice PCB pro návrh DP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9316"/>
          <a:stretch/>
        </p:blipFill>
        <p:spPr>
          <a:xfrm>
            <a:off x="2411280" y="2421000"/>
            <a:ext cx="5832720" cy="38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0C688-90B5-4883-882B-9548CC155C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ibraria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Použité součástky jsou uložené v souboru se schématem </a:t>
            </a: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(.Sch) 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Součástky lze použít v dalších souborech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ace – Component_Choice – Another File -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) – zkopírují se do právě editovaného souboru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Knihovní soubor </a:t>
            </a: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(.Lib)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obsahuje názvy souborů, které se automaticky prohledávají při pokládání součástek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Údržba prostřednictvím příkazů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brarian - ...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 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1686C-B900-42A5-A449-53FE2F6C74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ibrarian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Název souboru </a:t>
            </a: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.Lib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je uložen v konfiguračním souboru programu </a:t>
            </a: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Schematic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při vhodném nastavení se </a:t>
            </a: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.Lib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načte automaticky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700360" y="2492280"/>
          <a:ext cx="4608360" cy="35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492280"/>
                    <a:ext cx="460836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4E8F4-1987-44EE-ACCD-3D1EDF8E1C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isk schématu (hardcop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39592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Files – Print/Hardcopy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Nejprve je nutné přečíst soubor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LL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pro zvolený typ výstupu,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Potom je možné změnit nastavení výstupu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ange Configuraion, Sheet to Output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Spuštění tisku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o!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Konfiguraci lze uložit a před dalším použitím načíst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427640" y="1557360"/>
          <a:ext cx="442440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557360"/>
                    <a:ext cx="442440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8958-0051-44E2-BAC8-6CBEE14D87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064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Files – Netlist/Errorlist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generování netlistu ( .PNL) 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20881" b="25755"/>
          <a:stretch/>
        </p:blipFill>
        <p:spPr>
          <a:xfrm>
            <a:off x="2484360" y="1989000"/>
            <a:ext cx="5327640" cy="405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AECCE-E6B6-4D79-8312-7FEFC5C8B3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kroky návrhu 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63640" y="1844640"/>
          <a:ext cx="606924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844640"/>
                    <a:ext cx="606924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CC7B6-92E9-4F09-B99B-10F3C5E7AC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{D:\fmdesign\KP\KP_1.Sch (11:16, Oct-7-2004)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Components (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1" "E10M/25V 10M" "CR50")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2" "CF1 100k" "CF50A")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N1" "CAN9V" "CAN9F")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R1" "R 100k" "R100")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R2" "R 100k" "R100")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U1" "74HC00" "DIP14")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Netlist (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N1" 9 "U1" 7 "C2" 2 "C1" 2) {GND}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1" 1 "U1" 14 "CN1" 3 "R2" 2 "R1" 2 "C2" 1) {VCC}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U1" 4 "CN1" 4 "U1" 5)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U1" 6 "U1" 10 "R1" 1)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N1" 5 "U1" 13) {reset}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N1" 8 "U1" 12)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U1" 11 "CN1" 7)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N1" 1 "U1" 1 "R2" 1)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N1" 6 "U1" 2)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N1" 2 "U1" 8)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U1" 3 "U1" 9)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67748-C3DA-4D80-9E48-DA93422730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16000" y="1557000"/>
            <a:ext cx="69120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9999"/>
                </a:solidFill>
                <a:latin typeface="Times New Roman"/>
              </a:rPr>
              <a:t>Formica LAYOUT</a:t>
            </a:r>
            <a:endParaRPr b="0" lang="en-US" sz="6000" spc="-1" strike="noStrike">
              <a:solidFill>
                <a:srgbClr val="333399"/>
              </a:solidFill>
              <a:latin typeface="Times New Roman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Editor plošného spoj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94BB0-F0CE-465A-8F4A-0E364862DC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or plošného sp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Postup návrhu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Nastavení parametrů (rastr, tloušťka vodičů, izolační vzdálenosti, ...)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Zakreslení obrysu desky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Import netlistu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Rozmístění součástek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Propojení napájecích vodičů (automaticky + ručně)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Propojení ostatních vodičů (automaticky + ručně)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Kontrola návrhových pravidel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Doplnění popisů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Rozlití mědi po volných plochách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Artwork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F2526-D987-4C90-AF88-5A746F9E97D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stavení parametrů návrhu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460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Dimensions – Basic gri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80820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rastr palcový/milimetrový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Dimensions – Isolation Gap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80820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izolační vzdálenosti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Arial"/>
              </a:rPr>
              <a:t>Dimensions – Line Wid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80820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šířka spojové čáry (pouze pro změnu definovaného typ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Arial"/>
              </a:rPr>
              <a:t>Dimensions – Pad Shap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80820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typ propojky vrstev (pouze pro změnu definovaného typ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Dimensions – Check Violatio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80820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kontrola desky po návrhu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292720" y="1413000"/>
          <a:ext cx="30654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413000"/>
                    <a:ext cx="30654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AE9E6-D497-46A1-A8D7-576C157FE1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stavení parametrů návrhu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0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Options – Gri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 Coordinates - Cursor Gri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808200" indent="-285840">
              <a:spcBef>
                <a:spcPts val="451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rastr kurzoru pro editaci spojů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332000" y="2133720"/>
          <a:ext cx="243828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133720"/>
                    <a:ext cx="24382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68360" y="573408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Cursor Grid = 1.27, Line typ 4 (0.3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508720" y="2133720"/>
          <a:ext cx="2593800" cy="36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2133720"/>
                    <a:ext cx="25938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4643280" y="5734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Cursor Grid = 0.635, Line typ 2 (0.2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DBA04-5522-42C8-A3A3-A3087ACFD7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vy a sp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5975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Celkem 24 vrstev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Standardní přiřazení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9  – spojová („strana spojů“)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14 – spojová („strana součástek“)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8, 15 – nepájivá maska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21     – popisy součástek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22     – obrázek součástky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23     – vnější obrys součástek a desky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Vždy 2 vrstvy (A, B) jsou pracovní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Výběr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ayers – Select Layer A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 apod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epínání A </a:t>
            </a:r>
            <a:r>
              <a:rPr b="0" lang="cs-CZ" sz="2000" spc="-1" strike="noStrike">
                <a:solidFill>
                  <a:srgbClr val="009999"/>
                </a:solidFill>
                <a:latin typeface="Symbol"/>
                <a:ea typeface="Symbol"/>
              </a:rPr>
              <a:t>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 B: prostřední tlačítko nebo Tab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Vždy 2 vrstvy jsou vodivé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Výběr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ayers – First Conductive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 apod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Zobrazení každé vrstvy lze zapnout/vypnout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659640" y="1413000"/>
          <a:ext cx="180324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413000"/>
                    <a:ext cx="1803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9A3F-65C7-4629-9AA3-4AC1A20428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kreslení obrysů de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5111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bvykle ve vrstvě 23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yp čáry je libovolný – má jen informativní význam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219640" y="1341360"/>
          <a:ext cx="298944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341360"/>
                    <a:ext cx="298944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84360" y="2852640"/>
            <a:ext cx="4176720" cy="352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32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32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33399"/>
                </a:solidFill>
                <a:uFillTx/>
                <a:latin typeface="Times New Roman"/>
              </a:rPr>
              <a:t>Kreslení čáry</a:t>
            </a:r>
            <a:r>
              <a:rPr b="1" lang="cs-CZ" sz="20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Zvolit vrstv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Zvolit typ čáry</a:t>
            </a:r>
            <a:br>
              <a:rPr sz="2000"/>
            </a:b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ace – Line – Line Type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Kreslení</a:t>
            </a:r>
            <a:br>
              <a:rPr sz="2000"/>
            </a:b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ace – Line – Draw Line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8751B-A91E-4FFA-82F7-62EA02FB35B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mport netli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4208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Netlist – Load Netlist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import netlistu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Netlist – Show Rat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’ Nest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zobrazen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í spojů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67280" y="1633680"/>
            <a:ext cx="4681440" cy="42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1164A-3A3F-474B-8073-14D5373C77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zmístění součás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4032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– Pick and Dra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esun s protažením spojů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Arial"/>
              </a:rPr>
              <a:t>Edit – Pick and Mov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esun bez spojů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Prostřední tlačítko = otočení o 90</a:t>
            </a:r>
            <a:r>
              <a:rPr b="1" lang="cs-CZ" sz="24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Po 3 otočeních překlopení na opačnou stranu desky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932360" y="1341360"/>
          <a:ext cx="320976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341360"/>
                    <a:ext cx="32097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3BA75-E794-4B93-8202-E3A5793C10E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utoro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6337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Window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volba okna pro propojování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Autorouter – Gri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&amp; Window - Scope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ropoje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ní všech/jen vybraných spojů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Autorouter – Gri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&amp; Window –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Router Grid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rastr pro propojování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Autorouter – Gri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&amp; Window –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Window Margin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hranice pro propojování spoj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Autorouter – Route All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spuštění autorouteru (podle </a:t>
            </a:r>
            <a:r>
              <a:rPr b="1" lang="cs-CZ" sz="2000" spc="-1" strike="noStrike">
                <a:solidFill>
                  <a:srgbClr val="009999"/>
                </a:solidFill>
                <a:latin typeface="Arial"/>
              </a:rPr>
              <a:t>Scope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227640" y="1341360"/>
          <a:ext cx="2549520" cy="47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341360"/>
                    <a:ext cx="254952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36CFB-29A4-4ECB-8E85-BDA23022C39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typy schéma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920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Jeden list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Více listů – jednoúrovňové </a:t>
            </a:r>
            <a:r>
              <a:rPr b="0" lang="cs-CZ" sz="3200" spc="-1" strike="noStrike">
                <a:solidFill>
                  <a:srgbClr val="009999"/>
                </a:solidFill>
                <a:latin typeface="Times New Roman"/>
              </a:rPr>
              <a:t>(Formica)</a:t>
            </a: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Více listů – hierarchické členění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522BA-BDAE-429A-B630-734B08504B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indow Mar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627280" y="1773360"/>
          <a:ext cx="4208400" cy="38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773360"/>
                    <a:ext cx="4208400" cy="38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AD695-11A6-46C0-B301-55FA684804D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ace spoj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– Pick and Move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esun bez protažení spojů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– Pick and Drag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esun součástky/segmentu/vrcholu s 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rotažením spojů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– Insert Vertex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esun s vložením zlomového bodu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979640" y="2930400"/>
            <a:ext cx="5184720" cy="330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CAC13-5577-48F5-BB1D-A496245DD55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ýběr prvků sp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2106720"/>
            <a:ext cx="489600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Select – Mark Elemen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Select – Mark Link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Select – Mark Track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Select – Mark Net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výběr zvoleného prvku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294336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57F8-B3D9-42A2-9FD0-48261C8F663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vky sp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36480" y="1689120"/>
          <a:ext cx="358308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1689120"/>
                    <a:ext cx="358308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997520" y="1690560"/>
          <a:ext cx="358308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97520" y="1690560"/>
                    <a:ext cx="3583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36480" y="4181400"/>
          <a:ext cx="3583080" cy="15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6480" y="4181400"/>
                    <a:ext cx="358308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997520" y="4210200"/>
          <a:ext cx="3583080" cy="146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97520" y="4210200"/>
                    <a:ext cx="3583080" cy="14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C1AE-C5B9-4966-8816-422BEA19F45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ace spoj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504000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– Chang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Line Width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změna tloušťky vybraného spoj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– Chang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ad Type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změna průchodu deskou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– Chang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Swap Layers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záměna vrstev A</a:t>
            </a:r>
            <a:r>
              <a:rPr b="0" lang="cs-CZ" sz="2000" spc="-1" strike="noStrike">
                <a:solidFill>
                  <a:srgbClr val="009999"/>
                </a:solidFill>
                <a:latin typeface="Symbol"/>
                <a:ea typeface="Symbol"/>
              </a:rPr>
              <a:t>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B vybraného spoj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651640" y="1413000"/>
            <a:ext cx="3141360" cy="47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3655-E7F5-4B5F-AF91-8BAC16CD1AF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lší prvky na des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431964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Kromě spojového obrazce se na desku umisťují další prvky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ořezové značky (např. T_001)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opisy konektorů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označení desky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...  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435640" y="1484280"/>
          <a:ext cx="304812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484280"/>
                    <a:ext cx="30481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ACBE-A793-48BE-B0DA-B4D58B85EBD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zlití mě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859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Plocha mědi se vytváří šrafováním zvolenou čárou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Postup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Je vhodné zvětšit izolační vzdálenosti pro vodivé vrstvy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imensions – Isolation Gaps – Layer 9 – Increment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lace – Copper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 nastavit zvolenou šířku čáry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ne Type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) a odstup čar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acingX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 resp.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acingY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Zvoli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ur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. Kliknutím na některý spoj na desce se tento spoj rozlije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981680" y="1773360"/>
          <a:ext cx="401472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1680" y="1773360"/>
                    <a:ext cx="401472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89C93-B06A-43B9-B37E-74AD55439BF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tvoření součást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681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lace – Component – Create Packag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Pro vazbu na netlist mají význam piny umístěné příkaze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lace – Pi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lace – Row of Pi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Jméno součástky (pro netlist) je jméno, pod kterým je součástka uložena po příkazu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Quit </a:t>
            </a:r>
            <a:r>
              <a:rPr b="1" lang="cs-CZ" sz="2400" spc="-1" strike="noStrike">
                <a:solidFill>
                  <a:srgbClr val="009999"/>
                </a:solidFill>
                <a:latin typeface="Times New Roman"/>
              </a:rPr>
              <a:t>(???)</a:t>
            </a: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197320" y="1341360"/>
          <a:ext cx="3181680" cy="47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7320" y="1341360"/>
                    <a:ext cx="318168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97CD-FCF3-4776-9759-C2810D07484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ýstup pro postproces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351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Files - Artwork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výstup např. pro kreslení masek (Gerber, Admap, ...) 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nebo pro osazovací plán.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Files – NC Drill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výstup pro vrtačku (Excellon, ..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Výstup pro výrobu vyžaduje znalost konkrétního zařízení (číslování masek fotoplotru, průměry osazených vrtáků, ...)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0E4A-B988-47EE-93F5-6C46C003FFC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noúrovňové sché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gnály jsou propojeny pomocí návěští nebo logických konektorů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92360" y="2205000"/>
          <a:ext cx="567036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205000"/>
                    <a:ext cx="567036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DB9B6-C570-479B-88DB-B7F671BF25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ké sché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Základní úroveň obsahuje blokové schéma s propojením bloků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alší úrovně obsahují jednotlivé bloky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okonalejší systémy – popis bloku může být v různé formě 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(schéma, VHDL, ... – vazba na návrh FPGA)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68360" y="2637000"/>
          <a:ext cx="4464360" cy="37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637000"/>
                    <a:ext cx="446436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7B2F-ECA7-4141-A054-E1ED45FE21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692000" y="1052640"/>
            <a:ext cx="5543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Formica</a:t>
            </a:r>
            <a:endParaRPr b="0" lang="en-US" sz="8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Times New Roman"/>
              </a:rPr>
              <a:t>Editor schématu a plošných spojů</a:t>
            </a:r>
            <a:endParaRPr b="0" lang="en-US" sz="4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999"/>
                </a:solidFill>
                <a:latin typeface="Courier New"/>
              </a:rPr>
              <a:t>www.formica.cz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DEF4-A1E7-45E9-BABC-595DA98025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rogram Formica zahrnuj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999"/>
                </a:solidFill>
                <a:latin typeface="Times New Roman"/>
              </a:rPr>
              <a:t>Editor schématu</a:t>
            </a:r>
            <a:r>
              <a:rPr b="0" lang="cs-CZ" sz="2800" spc="-1" strike="noStrike">
                <a:solidFill>
                  <a:srgbClr val="009999"/>
                </a:solidFill>
                <a:latin typeface="Times New Roman"/>
              </a:rPr>
              <a:t> a součástek, export do netlistu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(program 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Schematic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999"/>
                </a:solidFill>
                <a:latin typeface="Times New Roman"/>
              </a:rPr>
              <a:t>Editor PCB</a:t>
            </a:r>
            <a:r>
              <a:rPr b="0" lang="cs-CZ" sz="2800" spc="-1" strike="noStrike">
                <a:solidFill>
                  <a:srgbClr val="009999"/>
                </a:solidFill>
                <a:latin typeface="Times New Roman"/>
              </a:rPr>
              <a:t> s autorouterem, editor součástek, export pro postprocesor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(program 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Layout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36C08-3833-479D-B1DC-6B131F9088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744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9999"/>
                </a:solidFill>
                <a:latin typeface="Times New Roman"/>
              </a:rPr>
              <a:t>Formica SCHEMATIC</a:t>
            </a:r>
            <a:endParaRPr b="0" lang="en-US" sz="6000" spc="-1" strike="noStrike">
              <a:solidFill>
                <a:srgbClr val="333399"/>
              </a:solidFill>
              <a:latin typeface="Times New Roman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Editor schématu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F97B5-DCEC-424D-A880-557A385C63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9:14:01Z</dcterms:created>
  <dc:creator>Karel Dudáček</dc:creator>
  <dc:description/>
  <dc:language>en-US</dc:language>
  <cp:lastModifiedBy>KIV</cp:lastModifiedBy>
  <dcterms:modified xsi:type="dcterms:W3CDTF">2008-10-15T11:10:08Z</dcterms:modified>
  <cp:revision>297</cp:revision>
  <dc:subject/>
  <dc:title>Snímek 1</dc:title>
</cp:coreProperties>
</file>