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60B5-7A0E-4FE6-89DC-59616E6432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AN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Audiovisual Numbe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RC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Recording Cod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zvukové a videonahrávky hud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AN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Audiovisual Numbe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RC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Recording Cod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zvukové a videonahrávky hud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43B-9074-44E2-AC3A-6C953DF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3F5-A6AF-46EA-9170-CF19D30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466-C8B7-4F43-9270-B5EA71A5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3D9-7D4B-4AA8-9B03-72756192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29C-42FF-4B5F-B3C6-276CE19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B3B-89B6-42FB-B899-D8DE768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0EA-C75A-4C0A-9329-EDCB836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511-1F42-4A69-8AD4-74A501CB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8B4-5AA5-45CE-8B73-786249C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4B3-D0B7-4218-941B-B160982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937-E613-470F-B49E-A48D686E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4ED-4D4E-454D-92B6-46B7DAD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62F-B64F-464D-A8FA-CF1DBC2FCE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ites.google.com/site/novaiso690/" TargetMode="External"/><Relationship Id="rId2" Type="http://schemas.openxmlformats.org/officeDocument/2006/relationships/hyperlink" Target="http://sites.google.com/site/novaiso690/" TargetMode="External"/><Relationship Id="rId3" Type="http://schemas.openxmlformats.org/officeDocument/2006/relationships/hyperlink" Target="http://sites.google.com/site/novaiso690/" TargetMode="External"/><Relationship Id="rId4" Type="http://schemas.openxmlformats.org/officeDocument/2006/relationships/hyperlink" Target="http://sites.google.com/site/novaiso690/" TargetMode="External"/><Relationship Id="rId5" Type="http://schemas.openxmlformats.org/officeDocument/2006/relationships/hyperlink" Target="http://sites.google.com/site/novaiso690/" TargetMode="External"/><Relationship Id="rId6" Type="http://schemas.openxmlformats.org/officeDocument/2006/relationships/hyperlink" Target="http://sites.google.com/site/novaiso690/" TargetMode="External"/><Relationship Id="rId7" Type="http://schemas.openxmlformats.org/officeDocument/2006/relationships/hyperlink" Target="http://sites.google.com/site/novaiso690/" TargetMode="External"/><Relationship Id="rId8" Type="http://schemas.openxmlformats.org/officeDocument/2006/relationships/hyperlink" Target="http://sites.google.com/site/novaiso690/" TargetMode="External"/><Relationship Id="rId9" Type="http://schemas.openxmlformats.org/officeDocument/2006/relationships/hyperlink" Target="http://sites.google.com/site/novaiso690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Bibliografické odkazy a citace </a:t>
            </a:r>
            <a:br>
              <a:rPr sz="4000"/>
            </a:b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změny oproti starší verzi normy ISO ČSN 690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444640"/>
            <a:ext cx="2736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gr. Zdeňka First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Univerzitní knihovna ZČU v Plz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firstova@uk.zcu.c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7480" y="3213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ří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664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864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ČSN ISO 690</a:t>
            </a:r>
            <a:br>
              <a:rPr sz="3600"/>
            </a:b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Norma upravující citace</a:t>
            </a:r>
            <a:r>
              <a:rPr b="1" lang="en-US" sz="3600" spc="-1" strike="noStrike">
                <a:solidFill>
                  <a:srgbClr val="eafb4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SN ISO 690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formace a dokumentace – Pravidla pro bibliografické odkazy a citace informačních zdroj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aha: Úřad pro technickou normalizaci, metrologii a státní zkušebnictví, 20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844640"/>
            <a:ext cx="4752720" cy="36828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březnu 2011 vyšla nov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rave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 nor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199040"/>
            <a:ext cx="7128000" cy="15649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měna licenční politiky: nelze zakoupit multilicenci elektronického přístupu do jedné norm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u v tištěné podobě najdete ve všech knihovnách a studovnách UK k prezenčnímu studiu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opírování norem je zakázá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5516640"/>
            <a:ext cx="4319640" cy="916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robný návod jak citovat podle nové normy najdete 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sites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google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com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site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/novaiso690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Co je předmětem normy </a:t>
            </a:r>
            <a:br>
              <a:rPr sz="4000"/>
            </a:b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a co norma neřeší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06760" y="4868640"/>
            <a:ext cx="6068880" cy="158436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mo v textu normy se uvádí: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„...norma </a:t>
            </a:r>
            <a:r>
              <a:rPr b="0" i="1" lang="cs-CZ" sz="2000" spc="-1" strike="noStrike">
                <a:solidFill>
                  <a:srgbClr val="dfd293"/>
                </a:solidFill>
                <a:latin typeface="Arial"/>
              </a:rPr>
              <a:t>nepředepisuje konkrétní styl odkazu nebo citace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. Příklady ... nejsou předepisující, pokud jde o </a:t>
            </a:r>
            <a:r>
              <a:rPr b="0" i="1" lang="cs-CZ" sz="2000" spc="-1" strike="noStrike">
                <a:solidFill>
                  <a:srgbClr val="dfd293"/>
                </a:solidFill>
                <a:latin typeface="Arial"/>
              </a:rPr>
              <a:t>styl a interpunkci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(str. 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0028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2060640"/>
            <a:ext cx="8084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omě citací publikovaných dokumentů se norma 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nově zabývá i citacemi dalších materiál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jako např. 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zvukových dokumentů, fotografií, grafiky, hudby, nor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d. (ale neuvádí rukopisy a archivní materiá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vádí obvyklé pořadí údajů v citací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vůrce (aut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 nosiče (je-li potřeba)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d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kladatelské informace: místo vydání, vydavatel a da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zev e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číslování v rámci popisované jednot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identifikátor (ISBN apo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tup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tečné in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589720"/>
            <a:ext cx="4968720" cy="106740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 případě metody citace jméno-datum se rok vydání uvádí za tvůrcem (tvůrci) a v nakladatelských údajích se píše pouze pokud je potřebné přesnější datum (např. u časopisů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oporuč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ypsat v citaci všechny autory (tvů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éna druhých a dalších autorů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oh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ýt v přímém pořadí, jak je tomu např. ve stylech MLA a Chica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ÍJMENÍ, Jméno, Jméno PŘÍJMENÍ a Jméno PŘÍJM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ložk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řed názvem mateřského (zdrojového) dokumentu příspěvku se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ůž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užívat u seriálových publikací, tedy i u časopis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á</a:t>
            </a: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 u dvojtečky mezeru pouze za znaménke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ak je to správně podle typografických pravi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opakujících se konferencí se stejným názvem </a:t>
            </a: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zavádí povinn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plnit datum a místo konání k rozliš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umožň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ynechání termínů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č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pod., pokud jsou čísla typograficky rozlišena: svazek tučně, číslo části (pokud je nutné uvádět) v závorce, pak rozsah st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, 25-45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ef7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všechna mezinárodní standardní čísla jsou povinná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BN, ISSN, ISMN, ISAN, ISRC, DO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online zdrojů </a:t>
            </a:r>
            <a:r>
              <a:rPr b="0" lang="cs-CZ" sz="2400" spc="-1" strike="noStrike">
                <a:solidFill>
                  <a:srgbClr val="ef7815"/>
                </a:solidFill>
                <a:latin typeface="Arial"/>
              </a:rPr>
              <a:t>zjednodušuje zápis umístě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kumentu (nepíše se do špičatých závorek), končí-li citace linkem, nepíše ze něj tečka, která jinak na konec citace patř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ElectroScop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[online]. Plzeň: Západočeská univerzita v Plzni, 2007‑ [cit. 20.5.2011]. ISSN 1802‑4564. Dostupné z: http://electroscope.zcu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patentů </a:t>
            </a:r>
            <a:r>
              <a:rPr b="0" lang="cs-CZ" sz="2400" spc="-1" strike="noStrike">
                <a:solidFill>
                  <a:srgbClr val="ef7815"/>
                </a:solidFill>
                <a:latin typeface="Arial"/>
              </a:rPr>
              <a:t>není použita v názvu kurzí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oporuč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 abecedního seznamu bibliografických citací uspořádat seznam podle následujících pravid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ovy vlastní prá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ace dokumentů jednoho autora před citacemi prací, kde je shodný první a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íce děl jednoho autora řadit chronologicky od nejstaršího dokume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ace děl více autorů, které mají stejného prvního autora řadit chronologick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4:02:57Z</dcterms:created>
  <dc:creator>Licenced</dc:creator>
  <dc:description/>
  <dc:language>en-US</dc:language>
  <cp:lastModifiedBy>firstova</cp:lastModifiedBy>
  <dcterms:modified xsi:type="dcterms:W3CDTF">2011-09-16T08:49:08Z</dcterms:modified>
  <cp:revision>420</cp:revision>
  <dc:subject/>
  <dc:title>Knihovní katalogy a služby knihoven</dc:title>
</cp:coreProperties>
</file>