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0530-2FA5-44FE-9A64-25E0C0D2AF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AN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Audiovisual Numbe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RC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Recording Cod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zvukové a videonahrávky hud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AN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Audiovisual Numbe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SRC -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ternational Standard Recording Cod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zvukové a videonahrávky hud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E47-FEDE-4258-8B51-ED06AE58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766-895B-459D-BFA8-4FE6D88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8C6-C5B6-44F1-BDD9-EB3BE63B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BA3-2440-496B-82B8-24C3D3E4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3C5-CA3A-4674-8943-DCD5E4DA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D76-602A-48B4-BA1D-81E8D90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FF1-D9DD-45E6-8C2B-C7A7449F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143-088F-40C8-A4DB-1B482054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827-4117-46D7-9098-A01F3618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45C-5F30-4687-A2D2-06AA5AA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264-7D45-47D6-947B-CFE216F3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9CB-0571-487F-9DB8-B45274E0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F661-D241-4A5B-85C2-73C77943A1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ites.google.com/site/novaiso690/" TargetMode="External"/><Relationship Id="rId2" Type="http://schemas.openxmlformats.org/officeDocument/2006/relationships/hyperlink" Target="http://sites.google.com/site/novaiso690/" TargetMode="External"/><Relationship Id="rId3" Type="http://schemas.openxmlformats.org/officeDocument/2006/relationships/hyperlink" Target="http://sites.google.com/site/novaiso690/" TargetMode="External"/><Relationship Id="rId4" Type="http://schemas.openxmlformats.org/officeDocument/2006/relationships/hyperlink" Target="http://sites.google.com/site/novaiso690/" TargetMode="External"/><Relationship Id="rId5" Type="http://schemas.openxmlformats.org/officeDocument/2006/relationships/hyperlink" Target="http://sites.google.com/site/novaiso690/" TargetMode="External"/><Relationship Id="rId6" Type="http://schemas.openxmlformats.org/officeDocument/2006/relationships/hyperlink" Target="http://sites.google.com/site/novaiso690/" TargetMode="External"/><Relationship Id="rId7" Type="http://schemas.openxmlformats.org/officeDocument/2006/relationships/hyperlink" Target="http://sites.google.com/site/novaiso690/" TargetMode="External"/><Relationship Id="rId8" Type="http://schemas.openxmlformats.org/officeDocument/2006/relationships/hyperlink" Target="http://sites.google.com/site/novaiso690/" TargetMode="External"/><Relationship Id="rId9" Type="http://schemas.openxmlformats.org/officeDocument/2006/relationships/hyperlink" Target="http://sites.google.com/site/novaiso690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8469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Bibliografické odkazy a citace </a:t>
            </a:r>
            <a:br>
              <a:rPr sz="4000"/>
            </a:b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změny oproti starší verzi normy ISO ČSN 690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444640"/>
            <a:ext cx="2736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Mgr. Zdeňka First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Univerzitní knihovna ZČU v Plz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firstova@uk.zcu.c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7480" y="3213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ří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3664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6864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ČSN ISO 690</a:t>
            </a:r>
            <a:br>
              <a:rPr sz="3600"/>
            </a:b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Norma upravující citace</a:t>
            </a:r>
            <a:r>
              <a:rPr b="1" lang="en-US" sz="3600" spc="-1" strike="noStrike">
                <a:solidFill>
                  <a:srgbClr val="eafb4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SN ISO 690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formace a dokumentace – Pravidla pro bibliografické odkazy a citace informačních zdroj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aha: Úřad pro technickou normalizaci, metrologii a státní zkušebnictví, 20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7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844640"/>
            <a:ext cx="4752720" cy="36828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březnu 2011 vyšla nov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rave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 nor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4199040"/>
            <a:ext cx="7128000" cy="156492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měna licenční politiky: nelze zakoupit multilicenci elektronického přístupu do jedné norm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u v tištěné podobě najdete ve všech knihovnách a studovnách UK k prezenčnímu studiu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opírování norem je zakázá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5516640"/>
            <a:ext cx="4319640" cy="916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robný návod jak citovat podle nové normy najdete 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sites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google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com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site</a:t>
            </a:r>
            <a:r>
              <a:rPr b="0" lang="cs-CZ" sz="18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/novaiso690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Co je předmětem normy </a:t>
            </a:r>
            <a:br>
              <a:rPr sz="4000"/>
            </a:b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a co norma neřeší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06760" y="4868640"/>
            <a:ext cx="6068880" cy="158436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mo v textu normy se uvádí: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„...norma </a:t>
            </a:r>
            <a:r>
              <a:rPr b="0" i="1" lang="cs-CZ" sz="2000" spc="-1" strike="noStrike">
                <a:solidFill>
                  <a:srgbClr val="dfd293"/>
                </a:solidFill>
                <a:latin typeface="Arial"/>
              </a:rPr>
              <a:t>nepředepisuje konkrétní styl odkazu nebo citace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. Příklady ... nejsou předepisující, pokud jde o </a:t>
            </a:r>
            <a:r>
              <a:rPr b="0" i="1" lang="cs-CZ" sz="2000" spc="-1" strike="noStrike">
                <a:solidFill>
                  <a:srgbClr val="dfd293"/>
                </a:solidFill>
                <a:latin typeface="Arial"/>
              </a:rPr>
              <a:t>styl a interpunkci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(str. 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0028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2060640"/>
            <a:ext cx="8084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omě citací publikovaných dokumentů se norma 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nově zabývá i citacemi dalších materiál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jako např. </a:t>
            </a: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zvukových dokumentů, fotografií, grafiky, hudby, nor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d. (ale neuvádí rukopisy a archivní materiá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vádí obvyklé pořadí údajů v citací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vůrce (aut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z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 nosiče (je-li potřeba)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d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kladatelské informace: místo vydání, vydavatel a dat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zev e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číslování v rámci popisované jednot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identifikátor (ISBN apod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tup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tečné in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589720"/>
            <a:ext cx="4968720" cy="106740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 případě metody citace jméno-datum se rok vydání uvádí za tvůrcem (tvůrci) a v nakladatelských údajích se píše pouze pokud je potřebné přesnější datum (např. u časopisů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doporuču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ypsat v citaci všechny autory (tvů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éna druhých a dalších autorů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oh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ýt v přímém pořadí, jak je tomu např. ve stylech MLA a Chica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ÍJMENÍ, Jméno, Jméno PŘÍJMENÍ a Jméno PŘÍJM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dložk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řed názvem mateřského (zdrojového) dokumentu příspěvku se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ůž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užívat u seriálových publikací, tedy i u časopis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á</a:t>
            </a:r>
            <a:r>
              <a:rPr b="0" lang="en-US" sz="2400" spc="-1" strike="noStrike">
                <a:solidFill>
                  <a:srgbClr val="ef7815"/>
                </a:solidFill>
                <a:latin typeface="Arial"/>
              </a:rPr>
              <a:t> u dvojtečky mezeru pouze za znaménke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ak je to správně podle typografických pravi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 opakujících se konferencí se stejným názvem </a:t>
            </a:r>
            <a:r>
              <a:rPr b="0" lang="en-US" sz="2400" spc="-1" strike="noStrike">
                <a:solidFill>
                  <a:srgbClr val="ef7815"/>
                </a:solidFill>
                <a:latin typeface="Arial"/>
              </a:rPr>
              <a:t>zavádí povinn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plnit datum a místo konání k rozliše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umožňu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ynechání termínů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č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pod., pokud jsou čísla typograficky rozlišena: svazek tučně, číslo části (pokud je nutné uvádět) v závorce, pak rozsah st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, 25-45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ef7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7815"/>
                </a:solidFill>
                <a:latin typeface="Arial"/>
              </a:rPr>
              <a:t>všechna mezinárodní standardní čísla jsou povinná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SBN, ISSN, ISMN, ISAN, ISRC, DO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online zdrojů </a:t>
            </a:r>
            <a:r>
              <a:rPr b="0" lang="cs-CZ" sz="2400" spc="-1" strike="noStrike">
                <a:solidFill>
                  <a:srgbClr val="ef7815"/>
                </a:solidFill>
                <a:latin typeface="Arial"/>
              </a:rPr>
              <a:t>zjednodušuje zápis umístě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okumentu (nepíše se do špičatých závorek), končí-li citace linkem, nepíše ze něj tečka, která jinak na konec citace patř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ElectroScop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[online]. Plzeň: Západočeská univerzita v Plzni, 2007‑ [cit. 20.5.2011]. ISSN 1802‑4564. Dostupné z: http://electroscope.zcu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patentů </a:t>
            </a:r>
            <a:r>
              <a:rPr b="0" lang="cs-CZ" sz="2400" spc="-1" strike="noStrike">
                <a:solidFill>
                  <a:srgbClr val="ef7815"/>
                </a:solidFill>
                <a:latin typeface="Arial"/>
              </a:rPr>
              <a:t>není použita v názvu kurzí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Rozdíly od starší verze normy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doporuču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 abecedního seznamu bibliografických citací uspořádat seznam podle následujících pravid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rovy vlastní prá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ace dokumentů jednoho autora před citacemi prací, kde je shodný první au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íce děl jednoho autora řadit chronologicky od nejstaršího dokume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ace děl více autorů, které mají stejného prvního autora řadit chronologick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87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4:02:57Z</dcterms:created>
  <dc:creator>Licenced</dc:creator>
  <dc:description/>
  <dc:language>en-US</dc:language>
  <cp:lastModifiedBy>firstova</cp:lastModifiedBy>
  <dcterms:modified xsi:type="dcterms:W3CDTF">2011-09-16T08:49:08Z</dcterms:modified>
  <cp:revision>420</cp:revision>
  <dc:subject/>
  <dc:title>Knihovní katalogy a služby knihoven</dc:title>
</cp:coreProperties>
</file>