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D8A-BFA7-432F-BFDF-8AA7E0CA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3A6-B00D-4CD6-8235-9AFCA42E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6D1-AC52-4D77-9CFD-FE27D982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33F-5A0D-4E67-AF03-75FEED8C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871B-7BE8-4069-BAE4-8C2D3B90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0335-D6BD-48C6-B66A-0ECFCF1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F388-63F4-4F89-9850-4B66B50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9381-7956-4A01-B9E2-F98A440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E597-8D0A-48B7-B9E2-32F5648E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F880-625D-49F3-AAAB-1F79FB2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3B8D-823C-4EEA-9938-B419341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937-CDD4-46AA-ABDD-AFA0AD84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6CB5-07AE-4167-A946-B5CEC7F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20EA-6F96-472D-B360-F734DCD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B321-3B18-4D2B-9772-EC83DCA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593A-DF2F-4A8D-B337-9EE166A1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27C1-A4CC-4F78-BE0F-63194087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274-DBAC-4FF9-9805-36812B5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F95-321E-459E-961F-D87DE92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090-D4EF-428B-BDD2-A9E40E1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30B-AB77-4E1C-B723-6350C03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41F-D818-494E-89E1-3D6219A6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2E5-E62A-450E-8536-FC3809D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2DA-8558-4834-9B16-F6E99A7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EB2A-7EBF-4703-ADB3-51616553277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EAB4-E0EF-4F48-AF46-F7521917DA9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lsevier.com/framework_editors/pdfs/Perspectives1.pdf" TargetMode="External"/><Relationship Id="rId3" Type="http://schemas.openxmlformats.org/officeDocument/2006/relationships/hyperlink" Target="http://www.elsevier.com/framework_editors/pdfs/Perspectives1.pdf" TargetMode="External"/><Relationship Id="rId4" Type="http://schemas.openxmlformats.org/officeDocument/2006/relationships/hyperlink" Target="http://www.elsevier.com/framework_editors/pdfs/Perspectives1.pdf" TargetMode="External"/><Relationship Id="rId5" Type="http://schemas.openxmlformats.org/officeDocument/2006/relationships/hyperlink" Target="http://www.elsevier.com/framework_editors/pdfs/Perspectives1.pdf" TargetMode="External"/><Relationship Id="rId6" Type="http://schemas.openxmlformats.org/officeDocument/2006/relationships/hyperlink" Target="http://www.elsevier.com/framework_editors/pdfs/Perspectives1.pdf" TargetMode="External"/><Relationship Id="rId7" Type="http://schemas.openxmlformats.org/officeDocument/2006/relationships/hyperlink" Target="http://www.elsevier.com/framework_editors/pdfs/Perspectives1.pdf" TargetMode="External"/><Relationship Id="rId8" Type="http://schemas.openxmlformats.org/officeDocument/2006/relationships/hyperlink" Target="http://www.elsevier.com/framework_editors/pdfs/Perspectives1.pdf" TargetMode="External"/><Relationship Id="rId9" Type="http://schemas.openxmlformats.org/officeDocument/2006/relationships/hyperlink" Target="http://www.elsevier.com/framework_editors/pdfs/Perspectives1.pdf" TargetMode="External"/><Relationship Id="rId10" Type="http://schemas.openxmlformats.org/officeDocument/2006/relationships/hyperlink" Target="http://www.elsevier.com/framework_editors/pdfs/Perspectives1.pdf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siknowledge.com/" TargetMode="External"/><Relationship Id="rId3" Type="http://schemas.openxmlformats.org/officeDocument/2006/relationships/hyperlink" Target="http://isiknowledge.com/" TargetMode="External"/><Relationship Id="rId4" Type="http://schemas.openxmlformats.org/officeDocument/2006/relationships/hyperlink" Target="http://isiknowledge.com/" TargetMode="External"/><Relationship Id="rId5" Type="http://schemas.openxmlformats.org/officeDocument/2006/relationships/hyperlink" Target="http://isiknowledge.com/" TargetMode="External"/><Relationship Id="rId6" Type="http://schemas.openxmlformats.org/officeDocument/2006/relationships/hyperlink" Target="http://isiknowledge.zcu.cz/" TargetMode="External"/><Relationship Id="rId7" Type="http://schemas.openxmlformats.org/officeDocument/2006/relationships/hyperlink" Target="http://isiknowledge.zcu.cz/" TargetMode="External"/><Relationship Id="rId8" Type="http://schemas.openxmlformats.org/officeDocument/2006/relationships/hyperlink" Target="http://isiknowledge.zcu.cz/" TargetMode="External"/><Relationship Id="rId9" Type="http://schemas.openxmlformats.org/officeDocument/2006/relationships/hyperlink" Target="http://isiknowledge.zcu.cz/" TargetMode="External"/><Relationship Id="rId10" Type="http://schemas.openxmlformats.org/officeDocument/2006/relationships/hyperlink" Target="http://isiknowledge.zcu.cz/" TargetMode="External"/><Relationship Id="rId11" Type="http://schemas.openxmlformats.org/officeDocument/2006/relationships/hyperlink" Target="http://isiknowledge.zcu.cz/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052640"/>
            <a:ext cx="662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86d52"/>
                </a:solidFill>
                <a:latin typeface="Arial"/>
              </a:rPr>
              <a:t>Citační databáz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1640" y="4797000"/>
            <a:ext cx="65847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gr. Zdeňka Firstov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Univerzitní knihovna ZČU v Plzn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firstova@uk.zcu.c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90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b86d52"/>
                </a:solidFill>
                <a:latin typeface="Arial"/>
              </a:rPr>
              <a:t>Různé obory mají různý impakt faktor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59058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530064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íce v člá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M. Amin &amp; M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Mabe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: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IMPACT FACTORS: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USE AND ABUSE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Perspectives in Publishing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 1.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60720" y="2565360"/>
            <a:ext cx="2521080" cy="32637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damental Life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uroscience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nical Medic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rmacology &amp; Toxic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mistry &amp; Chemical Engine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th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vironmental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ological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terials Science &amp; Engine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thematics &amp; Computer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2060640"/>
            <a:ext cx="4464000" cy="32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gure 2a. Subject Variation in Impact Fac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5950080"/>
            <a:ext cx="3240360" cy="4302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0.0   0.5    1.0    1.5   2.0    2.5    3.0   3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Mean Impact Factor (199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1916280"/>
            <a:ext cx="5616720" cy="446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500280"/>
            <a:ext cx="165600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ovnání IF různých vědních obo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-inde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59280" y="404280"/>
            <a:ext cx="588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ke kvantifikaci vědeckovýzkumného výkonu jednotliv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86d52"/>
                </a:solidFill>
                <a:latin typeface="Arial"/>
              </a:rPr>
              <a:t>SCOPU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71640" y="1276200"/>
            <a:ext cx="7561080" cy="5321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1197000"/>
            <a:ext cx="784836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90792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cop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álený přístu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85264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adší bra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ce evropské a neanglické produ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ceméně stejné funkce včetně analý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D auto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značné určení au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utor sám označí své člá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S – ResearecherID (R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researcherid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ávod https://youtu.be/xOhZvQ7YHo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opus – OR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rcid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ávod https://youtu.be/U9lSXSja51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4221000"/>
            <a:ext cx="6912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slo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8 nebo více znaků, číslo, velká/malá, speciální zna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@ # * $ % &amp; ( ) { } [ ]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a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1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Researcher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é heslo pro WoS, RID a 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registraci v RID přijde potvrzující 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WoS po přihlášení vyhledat své publikace a přiřadit je ke svému RI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dd to ResearchedID – I wrote the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hybně přitažené publikace lze z RID vrátit (odmaz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fil je vyhledatelný cca po 3 týdn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iřazené publikace se pod profilem autora ve WoS objeví cca po 3 týdn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fil nabízí citační metri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ID lze propojit s ORC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Endnot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ační manaž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ámci předplatného W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ožňuje přitáhnout záznamy 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ůzných knihoven včetně NK a M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mý export z Eb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přes formát *ris ScienceDirect, Scopus, Jstor..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ořit vlastní zázn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Endnote – práce se zázn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uložení záznamů včetně abstra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ení adres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dílení adres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bliografické seznamy – různé sty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záznamů z WoS se zobrazují ci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184428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86d52"/>
                </a:solidFill>
                <a:latin typeface="Arial"/>
              </a:rPr>
              <a:t>Děkuji za pozorno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8160" y="4727520"/>
            <a:ext cx="44974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Zdeňka Firs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iverzitní knihovna ZČU v Pl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stova@uk.zcu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86d52"/>
                </a:solidFill>
                <a:latin typeface="Arial"/>
              </a:rPr>
              <a:t>Obsa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859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tační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s WoS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mpact factor časopis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urnal Cit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s JCR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se SCOPUS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D au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searcherID, OR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itační manažer End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b86d52"/>
                </a:solidFill>
                <a:latin typeface="Arial"/>
              </a:rPr>
              <a:t>Web of Science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95480"/>
            <a:ext cx="7772400" cy="528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1052640"/>
            <a:ext cx="7848720" cy="685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4941720"/>
            <a:ext cx="3024360" cy="785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isiknowledge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isiknowledge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zcu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290520"/>
            <a:ext cx="734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86d52"/>
                </a:solidFill>
                <a:latin typeface="Arial"/>
              </a:rPr>
              <a:t>Web of Scienc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3933360"/>
            <a:ext cx="8066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ždá důležitá práce, je citována v dalších publikacích - čím je významnější, tím častěji bude citová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důležitějším zdrojem informací ve vědě jsou odborné časopisy (nejnovější výsledky bád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 významných vědeckých prací je publikováno, nebo citováno, v poměrně malém množství časopi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789360"/>
            <a:ext cx="87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622520"/>
            <a:ext cx="2519280" cy="1930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11640" y="1844640"/>
            <a:ext cx="4557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330033"/>
                </a:solidFill>
                <a:latin typeface="Arial"/>
              </a:rPr>
              <a:t>Duchovní otec projektu, Eugen Garfield, vyšel ze tří základních předpokladů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1440" y="6093000"/>
            <a:ext cx="607428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d4f39"/>
                </a:solidFill>
                <a:latin typeface="Arial"/>
              </a:rPr>
              <a:t>nová možnost v práci s vědeckými pram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6d52"/>
                </a:solidFill>
                <a:latin typeface="Arial"/>
              </a:rPr>
              <a:t>Citační databáz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ační rejstřík obsah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ibliografické úda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itace v práci (Cited References // Referen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ační databáze obsahuje ta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Arial"/>
              </a:rPr>
              <a:t>kdo práci citoval (Times Cited // Cited b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s 57 miliónů zázna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71288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44360"/>
            <a:ext cx="7705800" cy="1052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d4f39"/>
                </a:solidFill>
                <a:latin typeface="Arial"/>
              </a:rPr>
              <a:t>Citační index díla říká, kolikrát bylo citováno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2044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66"/>
                </a:solidFill>
                <a:latin typeface="Arial"/>
              </a:rPr>
              <a:t>Citing 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613080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Články vydané v roce 2008, 2009 a 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2560" y="3213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Článek vydaný r.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332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66"/>
                </a:solidFill>
                <a:latin typeface="Arial"/>
              </a:rPr>
              <a:t>Články vydané roku 2011 a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4508640"/>
            <a:ext cx="722160" cy="14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0720" y="2708280"/>
            <a:ext cx="431640" cy="7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720" y="2708280"/>
            <a:ext cx="432000" cy="7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24640"/>
            <a:ext cx="9144000" cy="936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b86d52"/>
                </a:solidFill>
                <a:latin typeface="Arial"/>
              </a:rPr>
              <a:t>Impakt faktor časopis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90800"/>
            <a:ext cx="77724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rovské množství dat nashromážděných v databázích ISI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led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istic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d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d4f39"/>
                </a:solidFill>
                <a:latin typeface="Arial"/>
              </a:rPr>
              <a:t>Journal Cit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ýzy excerptovaných časopis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ikrát byl časopis citov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bříčky a rejstříky podle ob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em bylo měření zájmu o určitou literaturu (nákup literatury, hodnocení časopis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vání různých časopisů ze stejného ob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484280"/>
            <a:ext cx="87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b86d52"/>
                </a:solidFill>
                <a:latin typeface="Arial"/>
              </a:rPr>
              <a:t>Impakt faktor - výpočet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akt faktor časopisu udává, jak často je „průměrný článek“ publikovaný v časopise, citován v určitém ro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Vypočítá se vydělením počtu současných citací článků, publikovaných ve dvou předcházejících letech, počtem článků publikovaných ve dvou předcházejících le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8d4f39"/>
                </a:solidFill>
                <a:latin typeface="Arial"/>
              </a:rPr>
              <a:t>50 článků publikováno v časopise v letech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8d4f39"/>
                </a:solidFill>
                <a:latin typeface="Arial"/>
              </a:rPr>
              <a:t>Citováno 300x v roc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8d4f39"/>
                </a:solidFill>
                <a:latin typeface="Arial"/>
              </a:rPr>
              <a:t>Výpočet IF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ff0000"/>
                </a:solidFill>
                <a:latin typeface="Arial"/>
              </a:rPr>
              <a:t>300/50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tšina časopisů má IF nižší než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 vysoký IF jsou považovány hodnoty nad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F vyšší než 10 je přímo „hvězdný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84280"/>
            <a:ext cx="87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331560"/>
            <a:ext cx="76550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b86d52"/>
                </a:solidFill>
                <a:latin typeface="Arial"/>
              </a:rPr>
              <a:t>Impakt faktor časopisu Sciec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za rok 2014 = 33,6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208720" cy="2835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4076640"/>
            <a:ext cx="6476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4:02:57Z</dcterms:created>
  <dc:creator>Licenced</dc:creator>
  <dc:description/>
  <dc:language>en-US</dc:language>
  <cp:lastModifiedBy>firstova</cp:lastModifiedBy>
  <dcterms:modified xsi:type="dcterms:W3CDTF">2015-11-27T08:39:51Z</dcterms:modified>
  <cp:revision>370</cp:revision>
  <dc:subject/>
  <dc:title>Knihovní katalogy a služby knihoven</dc:title>
</cp:coreProperties>
</file>