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C9B-CF43-40BB-AD49-7A9D5B04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750-EFC2-4E82-BB6A-C929DDDE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80F-D298-4271-AAC6-91BAE264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28E-42E2-4BB9-B825-B3A2535A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085-8C49-456C-916C-F6C4D98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3FF-C699-4485-91A0-58DAB18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1370-21DE-4122-8089-8FBD238D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2412-E84B-40F3-94EB-6BA59EC4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5E4-B539-44FE-AEF1-5D296697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22F-9A4B-4F2B-92F0-44D23BF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4687-54FB-4A7D-BD3D-3A5A4D5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CAD-BBB4-490B-A95D-C8643F3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C35-2979-4413-A4AC-11F65547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C37-A197-42FE-B64C-89F3872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69E-05CD-4688-8FD0-1644744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F736-2968-4622-8B5A-FFE8B04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C76-A0E4-4C33-AA14-560AF77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2B2-77E4-4454-9E6C-3DE45AC9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D22-D182-4613-8623-62E4E85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170-747C-469D-ABB3-A688E70A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55A-AF08-4672-9A7B-4E1317E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044-2045-46A4-A624-D66D5AC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864-B75C-4EF9-B050-B2DC2A9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A9C-3942-4EC4-BE2D-7A4CEA8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C691-A901-43FD-B4BA-A92BA9F53E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747-9BB2-4C85-8233-FF5203550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ZIHB – DTP dodatek</a:t>
            </a:r>
            <a:r>
              <a:rPr b="0" lang="cs-CZ" sz="4800" spc="-1" strike="noStrike">
                <a:solidFill>
                  <a:srgbClr val="b2b2b2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r Kratoch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l, KIV ZČU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ávěrečná typografická korektur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rcha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dov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rvní řádek odstavce zůstal na konci str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irot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slední řádek odstavce se dostal na začátek další str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icrosoft ® Office Word 2003 ovlivňuje odstave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ok text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kontrola osamocených řádků, svázat s následují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které spojky a předložky nesmí být na konci řád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, v, z, k, u, o, S, V, Z, K, A, U, O,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T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TP = Desktop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orba tištěného dokumentu za pomoci počíta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ležitou součástí je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yp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ografie je umělecko-technický obor, který se zabývá pís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ění nevidite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ení čitelnosti, štábní kultura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ísmo, fo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atkové, též „Serif“ (Times New Roman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ezpatkové, též „Sans-Serif“ (Arial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Times New Roman"/>
              </a:rPr>
              <a:t>Patkové</a:t>
            </a:r>
            <a:r>
              <a:rPr b="0" lang="cs-CZ" sz="4600" spc="-1" strike="noStrike">
                <a:solidFill>
                  <a:srgbClr val="ffffff"/>
                </a:solidFill>
                <a:latin typeface="Arial"/>
              </a:rPr>
              <a:t> Bezpatkové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oporcionální (větš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proporcionální (Courier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Arial"/>
              </a:rPr>
              <a:t>Proporcionální písm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Courier New"/>
              </a:rPr>
              <a:t>Neproporcionální písm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ísmo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, fo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ko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„serif“) – dobře se čte plyn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zpatkové – čte se pomalej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vynucení zvýšení pozor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urier New"/>
                <a:ea typeface="Arial"/>
              </a:rPr>
              <a:t>neproporcionál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– pouze speciální využití, zpravidla části zdrojového kódu progr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Řez pís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p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urzí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čné p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ále kapitálky, verzálk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yznačov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zornění na určité slovo nebo obecně část tex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mí rušit plynulost čtení tex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na zdůraznění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l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teré možnosti jsou z hlediska typografi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zcela špat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né jsou přípustné, a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zc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hodn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jí se ale třeba na nadpi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jiné jsou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áv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ěžně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užíva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Barev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zvýrazňov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použív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Řádkov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oduché řádkování (1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oduché řádkování (1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ádkování jeden a půl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ádkování jeden a půl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řádkování (2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řádkování (2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78136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414972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62864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73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ůzn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sazení odstav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ím myšlena vertikální mezera mezi odstav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né pro jejich vizuální rozli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sazení první řádky odstav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lčka, mínus, spojovník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mlčka – není mínus a ani není-spojovní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43:14Z</dcterms:created>
  <dc:creator>Petr Kratochvíl</dc:creator>
  <dc:description/>
  <dc:language>en-US</dc:language>
  <cp:lastModifiedBy>Petr Kratochvíl</cp:lastModifiedBy>
  <dcterms:modified xsi:type="dcterms:W3CDTF">2008-10-15T23:11:14Z</dcterms:modified>
  <cp:revision>11</cp:revision>
  <dc:subject/>
  <dc:title>ZIHB – DTP dodatek</dc:title>
</cp:coreProperties>
</file>