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EE3-DA9A-4496-A662-7DAA23A4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C5A-92FE-44C3-AF33-795F75DE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12F-3445-4008-BC6D-FF090E7E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526-D79A-4EA4-ABB5-5907DBE7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C81B-5310-4B8D-94AA-5096FD37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7265-73F2-4654-92EF-F240BCC0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A88E-78B6-47C3-9BA7-3A9B22AE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9667-1D9E-4402-8CAA-3984DBB5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417B-9E17-4B1B-B170-EAD99077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D72B-9DD1-4F4E-9DEE-FE7D4DE2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9B7F-F213-4787-AD55-5D1D5D4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629-FCDC-4EF2-BCFE-21245952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79D5-0AB9-4F03-B37D-F4BA8BC9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0709-3800-42E2-B9D5-817A846B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E022-07FC-433E-A6AE-99E2AFF1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8E8E-1809-4E19-BA5C-94000094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D701-0E64-4FA3-ABDF-5F1470CF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E27-6C80-47BF-BA5E-BD294243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8EA-6F41-4471-A200-69F444D1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870-E266-4894-BCF7-8BE21D78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E5C-B848-4A6B-90B4-7543D9C0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7E4-F0CC-4C72-80CD-E552AFF8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4AC-8414-461B-A2C0-A215A226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265-002F-409D-8DD0-3B9A557A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125B-A6C8-4F14-A4D2-226A8D8194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9D4A-691F-4FD6-8A27-5A8FC626C2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ZIHB – DTP dodatek</a:t>
            </a:r>
            <a:r>
              <a:rPr b="0" lang="cs-CZ" sz="4800" spc="-1" strike="noStrike">
                <a:solidFill>
                  <a:srgbClr val="b2b2b2"/>
                </a:solidFill>
                <a:latin typeface="Arial"/>
              </a:rPr>
              <a:t>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r Kratoch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íl, KIV ZČU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ávěrečná typografická korektur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rcha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dov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rvní řádek odstavce zůstal na konci strán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irote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oslední řádek odstavce se dostal na začátek další strán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icrosoft ® Office Word 2003 ovlivňuje odstave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ok text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kontrola osamocených řádků, svázat s následujíc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ěkteré spojky a předložky nesmí být na konci řád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, v, z, k, u, o, S, V, Z, K, A, U, O,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T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TP = Desktop publ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vorba tištěného dokumentu za pomoci počíta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ůležitou součástí je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typograf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yp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ografie je umělecko-technický obor, který se zabývá písm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ění neviditel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pšení čitelnosti, štábní kultura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ísmo, fo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atkové, též „Serif“ (Times New Roman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ezpatkové, též „Sans-Serif“ (Arial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ffffff"/>
                </a:solidFill>
                <a:latin typeface="Times New Roman"/>
              </a:rPr>
              <a:t>Patkové</a:t>
            </a:r>
            <a:r>
              <a:rPr b="0" lang="cs-CZ" sz="4600" spc="-1" strike="noStrike">
                <a:solidFill>
                  <a:srgbClr val="ffffff"/>
                </a:solidFill>
                <a:latin typeface="Arial"/>
              </a:rPr>
              <a:t> Bezpatkové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oporcionální (větši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proporcionální (Courier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ffffff"/>
                </a:solidFill>
                <a:latin typeface="Arial"/>
              </a:rPr>
              <a:t>Proporcionální písm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ffffff"/>
                </a:solidFill>
                <a:latin typeface="Courier New"/>
              </a:rPr>
              <a:t>Neproporcionální písm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Písmo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, fo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kov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„serif“) – dobře se čte plyn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ezpatkové – čte se pomalej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vynucení zvýšení pozor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urier New"/>
                <a:ea typeface="Arial"/>
              </a:rPr>
              <a:t>neproporcionál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– pouze speciální využití, zpravidla části zdrojového kódu progra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Řez pís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kladní pí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urzí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čné pí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ále kapitálky, verzálk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yznačován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zornění na určité slovo nebo obecně část tex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smí rušit plynulost čtení tex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 na zdůraznění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lov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ěkteré možnosti jsou z hlediska typografi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zcela špatn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né jsou přípustné, al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 zce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hodn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ají se ale třeba na nadpis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jiné jsou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rávn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ěžně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užívan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Barevn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zvýrazňován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použív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Řádkován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oduché řádkování (1,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oduché řádkování (1,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ádkování jeden a půl (1,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ádkování jeden a půl (1,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ojité řádkování (2,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ojité řádkování (2,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78136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414972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62864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734080"/>
            <a:ext cx="784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ůzné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sazení odstav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tím myšlena vertikální mezera mezi odstav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né pro jejich vizuální rozli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sazení první řádky odstav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mlčka, mínus, spojovník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mlčka – není mínus a ani není-spojovní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43:14Z</dcterms:created>
  <dc:creator>Petr Kratochvíl</dc:creator>
  <dc:description/>
  <dc:language>en-US</dc:language>
  <cp:lastModifiedBy>Petr Kratochvíl</cp:lastModifiedBy>
  <dcterms:modified xsi:type="dcterms:W3CDTF">2008-10-15T23:11:14Z</dcterms:modified>
  <cp:revision>11</cp:revision>
  <dc:subject/>
  <dc:title>ZIHB – DTP dodatek</dc:title>
</cp:coreProperties>
</file>