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37BD-392D-4029-8D07-31D25102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06B1-FBD3-4415-81A0-CAFF6E26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77AA-6C2E-4259-ACEC-2FC87B497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8C02-2493-4C63-ACF5-D0AE3EC91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E6DD-4A13-40F9-B75A-249F82D4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067E-0CB3-4101-B523-6A27F7C1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4DF0-8C6E-495A-B8C6-83F9B839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2F54-4B8B-4964-9FFE-E0EEE40D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F61E-1B1A-4AE5-AD51-E69FF7D1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0092-DAC9-4078-BFAE-4ABE1B67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9E0E-68E3-454E-9ACC-A863CF90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4250-ACE9-4A89-B471-D26F3628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B566-1545-47D5-9D3F-2C906473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76FE-3E22-4834-B26C-EABA6709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74EB-76EC-4AF4-BE77-DD656A1A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284E-91AC-4B3C-9A26-FCC4ED924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F6B2-2E02-456A-8EB5-8495835AC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D99A-09D5-41CB-B781-32C2F6E8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CD8F-09F9-4639-A3FB-9C30F48B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305D-4C0C-4F0B-84A4-ABE2C497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F29F-DCC5-422B-8494-93C0AF40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26EC-65F7-4AA6-9B98-2E2814D0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37D5-235F-4D0B-B2E2-62D8C2EB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D19B-FF91-4A18-8176-8221B84A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F81E-E2DA-4C82-AC00-239093E0F6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FAA6-AD1F-45FA-9D4F-31DF684383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ZIHB – MS Word dodatek</a:t>
            </a:r>
            <a:r>
              <a:rPr b="0" lang="cs-CZ" sz="4800" spc="-1" strike="noStrike">
                <a:solidFill>
                  <a:srgbClr val="b2b2b2"/>
                </a:solidFill>
                <a:latin typeface="Arial"/>
              </a:rPr>
              <a:t> 1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tr Kratochv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íl, KIV ZČU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©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rochu jin</a:t>
            </a: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é postup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brázek v záhlaví – obtékáním, ne po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itulní stránka – různé možnosti: tabulátory, sloupce, textová pole, tabul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číslování nadpis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 bylo málo řečen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Používejte sty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právný odstav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dsazení prvního řádku cca 1,25 c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ezera mezi odstavci („za“ odstavcem) cca 12 bod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arovnání textu do blo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má na koncích řádků s, v, z, k, u, o, S, V, Z, K, A, U, O,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ýborná alternativa k Microsoft Office která je zdarma: OpenOffice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S Word v ZIHB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4. cvičení (úvo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zhled, pohyb kurzoru v textu, psaní textu, označování textu, undo, přesouvání a kopírování textu, hlavní nabídka + typograf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5. cvičení (sloupce a objek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loupce, tabulky, obráz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6. cvičení (záhlaví a užití stylů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áhlaví a zápatí,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ty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7. cvičení (styly, obsah a další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živatelské styly, obsah, iniciály, poznámky pod čarou,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22:59:46Z</dcterms:created>
  <dc:creator>Petr Kratochvíl</dc:creator>
  <dc:description/>
  <dc:language>en-US</dc:language>
  <cp:lastModifiedBy>Petr Kratochvíl</cp:lastModifiedBy>
  <dcterms:modified xsi:type="dcterms:W3CDTF">2008-11-06T00:29:30Z</dcterms:modified>
  <cp:revision>7</cp:revision>
  <dc:subject/>
  <dc:title>ZIHB – DTP dodatek 1</dc:title>
</cp:coreProperties>
</file>