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9CF-0D66-4C50-9EDD-E3B0C86C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AAC-D90E-43B4-9BFF-D122C7E9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BD5-32DB-4068-A690-E438DC23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D79-4888-45B9-A62C-18C3E251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786B-333C-4C2A-ADF7-4C95B67E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4D7A-B1C3-414F-BAAC-3493288F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80A1-713E-46DF-B172-4B730BC7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6A48-0285-4EEA-8D99-8D859821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4FC2-D728-4621-A3B8-EB7A5DC6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CD7F-93DB-41F2-9F6F-2350142A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AF55-85C7-4D2C-8F0A-6076D25D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9DD-26EC-46D8-BFC3-2CA4DCE9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0D04-8095-43CA-9B15-1898F819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7BF6-2BDD-4836-A738-FC5654BD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D05A-CCA4-4280-B93D-ABA99886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6202-8DAD-4051-BF55-FF3ED81A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8C46-01AA-4D75-9F68-B9C2AFA2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0C8-1DF9-4F2E-A62C-73BCBD91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57D-A9CF-42EE-A389-66FD7C22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293-7120-4F06-BB25-6ABBA93D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CC9-DF86-4F81-84C3-CBA6E0F3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3F0-94E8-487D-81B3-5D8941CB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2A5-66B0-415A-990D-9706FA59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DFA-1A0F-495B-B1A5-21A044DA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3C16-6E19-41A5-9B27-044BB621DC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C24A-DD58-4B7B-9224-F7EB52E7B8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ZIHB – MS Word dodatek</a:t>
            </a:r>
            <a:r>
              <a:rPr b="0" lang="cs-CZ" sz="4800" spc="-1" strike="noStrike">
                <a:solidFill>
                  <a:srgbClr val="b2b2b2"/>
                </a:solidFill>
                <a:latin typeface="Arial"/>
              </a:rPr>
              <a:t> 1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r Kratochv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íl, KIV ZČU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ochu jin</a:t>
            </a: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é postup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rázek v záhlaví – obtékáním, ne po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itulní stránka – různé možnosti: tabulátory, sloupce, textová pole, tabul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íslování nadpis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 bylo málo řeče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Používejte sty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rávný odstav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sazení prvního řádku cca 1,25 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ezera mezi odstavci („za“ odstavcem) cca 12 bod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rovnání textu do blo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má na koncích řádků s, v, z, k, u, o, S, V, Z, K, A, U, O,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borná alternativa k Microsoft Office která je zdarma: OpenOffice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S Word v ZIHB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4. cvičení (úv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zhled, pohyb kurzoru v textu, psaní textu, označování textu, undo, přesouvání a kopírování textu, hlavní nabídka + typograf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5. cvičení (sloupce a objek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loupce, tabulky, obráz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6. cvičení (záhlaví a užití styl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áhlaví a zápatí,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y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7. cvičení (styly, obsah a další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živatelské styly, obsah, iniciály, poznámky pod čarou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2:59:46Z</dcterms:created>
  <dc:creator>Petr Kratochvíl</dc:creator>
  <dc:description/>
  <dc:language>en-US</dc:language>
  <cp:lastModifiedBy>Petr Kratochvíl</cp:lastModifiedBy>
  <dcterms:modified xsi:type="dcterms:W3CDTF">2008-11-06T00:29:30Z</dcterms:modified>
  <cp:revision>7</cp:revision>
  <dc:subject/>
  <dc:title>ZIHB – DTP dodatek 1</dc:title>
</cp:coreProperties>
</file>