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7.png" ContentType="image/pn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4.jpeg" ContentType="image/jpeg"/>
  <Override PartName="/ppt/media/image25.jpeg" ContentType="image/jpeg"/>
  <Override PartName="/ppt/media/image24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6BA5-DB0D-4B6F-8CD9-A33A66752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EA11-C293-4ADD-8135-6DCD99BA1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5179-42DF-4FCA-A151-94512EF69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3065-956C-4D7C-96D9-B0510DE25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FE5D6-E283-4989-8DD4-67B116561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DE0C1-27D5-46E6-B845-1215C4615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F1C5C-C20E-496A-8F16-D6CB95BED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F452D-5CCC-46FF-85E4-FDE6BA2FD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CBF8C-AEB1-4CC2-BD2B-E651A0A37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16E2D-C227-459B-AD8C-F6A94C4BC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28875-3D0C-4C77-BD21-655547FDD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0F5B-F6BC-4A79-AD61-C8CF6EF2C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F7B5C-95D5-4C46-B884-7450A1507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3BBAF-5DDB-47EE-B891-C9D91F4A0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06089-56DA-405E-B3DF-786C8F54D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AE27C-DC17-422A-B0EE-00BF4286B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9273A-B38D-4023-A9F6-0AF0450BE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F13D-4FC6-4257-85E2-DE1641583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C871-FA56-4511-A953-141391A3C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5CFC-D59B-4000-B21E-73D9666CC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FCEC-929A-4FF0-898A-009723CC7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BE72-B16C-45C5-8772-F246DA5D9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7897-0F0E-485F-A3ED-4D4B70B60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2E75-0B70-4CBE-8459-AA9DE56E4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724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724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5AB09-70EB-4618-82B3-754A9520C7A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89DDB-AE72-4C6B-993E-98624AAE6F2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8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4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hyperlink" Target="http://images.google.cz/imgres?imgurl=http://www.pajl-knives.com/photos/reportaz/kovar34.jpg&amp;imgrefurl=http://www.pajl-knives.com/articles/zrozeni_noze_cz.html&amp;h=325&amp;w=500&amp;sz=30&amp;hl=cs&amp;start=35&amp;tbnid=TsGmBQE6460JUM:&amp;tbnh=85&amp;tbnw=130&amp;prev=/images?q=sv%252" TargetMode="External"/><Relationship Id="rId6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kupenství látek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324000" y="2924280"/>
            <a:ext cx="3887640" cy="25700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rcRect l="0" t="9961" r="0" b="0"/>
          <a:stretch/>
        </p:blipFill>
        <p:spPr>
          <a:xfrm>
            <a:off x="4643280" y="2924280"/>
            <a:ext cx="3848400" cy="25984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Další pokusy s kapalinami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ahoma"/>
              </a:rPr>
              <a:t>Nalévej  vodu do různě tvarovaných nádob</a:t>
            </a:r>
            <a:endParaRPr b="0" lang="en-US" sz="2800" spc="-1" strike="noStrike">
              <a:solidFill>
                <a:srgbClr val="8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ahoma"/>
              </a:rPr>
              <a:t>Přelévej vodu </a:t>
            </a:r>
            <a:endParaRPr b="0" lang="en-US" sz="2800" spc="-1" strike="noStrike">
              <a:solidFill>
                <a:srgbClr val="800000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5580000" y="1916280"/>
            <a:ext cx="2808360" cy="21063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5580000" y="4292640"/>
            <a:ext cx="2808360" cy="210492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826920" y="5516640"/>
            <a:ext cx="3168720" cy="459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 pozorujet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0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898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898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898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898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898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9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0321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Vlastnosti látek a těles kapalných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505152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kuté</a:t>
            </a:r>
            <a:r>
              <a:rPr b="0" lang="en-US" sz="2800" spc="-1" strike="noStrike">
                <a:solidFill>
                  <a:srgbClr val="800000"/>
                </a:solidFill>
                <a:latin typeface="Tahoma"/>
              </a:rPr>
              <a:t> (dají se přelévat)</a:t>
            </a:r>
            <a:endParaRPr b="0" lang="en-US" sz="2800" spc="-1" strike="noStrike">
              <a:solidFill>
                <a:srgbClr val="8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Mění snadno tvar</a:t>
            </a:r>
            <a:r>
              <a:rPr b="0" lang="en-US" sz="2800" spc="-1" strike="noStrike">
                <a:solidFill>
                  <a:srgbClr val="800000"/>
                </a:solidFill>
                <a:latin typeface="Tahoma"/>
              </a:rPr>
              <a:t> (zaujímají jej podle nádoby)</a:t>
            </a:r>
            <a:endParaRPr b="0" lang="en-US" sz="2800" spc="-1" strike="noStrike">
              <a:solidFill>
                <a:srgbClr val="8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nadno dělitelné</a:t>
            </a:r>
            <a:r>
              <a:rPr b="0" lang="en-US" sz="2800" spc="-1" strike="noStrike">
                <a:solidFill>
                  <a:srgbClr val="800000"/>
                </a:solidFill>
                <a:latin typeface="Tahoma"/>
              </a:rPr>
              <a:t> (kapky)</a:t>
            </a:r>
            <a:endParaRPr b="0" lang="en-US" sz="2800" spc="-1" strike="noStrike">
              <a:solidFill>
                <a:srgbClr val="8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Nestlačitelné</a:t>
            </a:r>
            <a:r>
              <a:rPr b="0" lang="en-US" sz="2800" spc="-1" strike="noStrike">
                <a:solidFill>
                  <a:srgbClr val="800000"/>
                </a:solidFill>
                <a:latin typeface="Tahoma"/>
              </a:rPr>
              <a:t> (objem se nemění)</a:t>
            </a:r>
            <a:endParaRPr b="0" lang="en-US" sz="2800" spc="-1" strike="noStrike">
              <a:solidFill>
                <a:srgbClr val="8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ahoma"/>
              </a:rPr>
              <a:t>V klidu je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hladina</a:t>
            </a:r>
            <a:r>
              <a:rPr b="0" lang="en-US" sz="2800" spc="-1" strike="noStrike">
                <a:solidFill>
                  <a:srgbClr val="800000"/>
                </a:solidFill>
                <a:latin typeface="Tahoma"/>
              </a:rPr>
              <a:t> v nádobě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vodorovná</a:t>
            </a:r>
            <a:endParaRPr b="0" lang="en-US" sz="2800" spc="-1" strike="noStrike">
              <a:solidFill>
                <a:srgbClr val="800000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6300720" y="1628640"/>
            <a:ext cx="2448000" cy="18352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5219640" y="2997360"/>
            <a:ext cx="1150920" cy="15840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>
            <a:off x="6300720" y="4292640"/>
            <a:ext cx="2448000" cy="1836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9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9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1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9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1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9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1" dur="10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9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9" dur="10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9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Vlastnosti látek a těles plynných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ahoma"/>
              </a:rPr>
              <a:t>Jsou stlačitelné</a:t>
            </a:r>
            <a:endParaRPr b="0" lang="en-US" sz="2800" spc="-1" strike="noStrike">
              <a:solidFill>
                <a:srgbClr val="8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ahoma"/>
              </a:rPr>
              <a:t>Snadno mění tvar i objem</a:t>
            </a:r>
            <a:endParaRPr b="0" lang="en-US" sz="2800" spc="-1" strike="noStrike">
              <a:solidFill>
                <a:srgbClr val="8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ahoma"/>
              </a:rPr>
              <a:t>Jsou rozpínavé</a:t>
            </a:r>
            <a:endParaRPr b="0" lang="en-US" sz="2800" spc="-1" strike="noStrike">
              <a:solidFill>
                <a:srgbClr val="8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ahoma"/>
              </a:rPr>
              <a:t>Jsou tekuté</a:t>
            </a:r>
            <a:endParaRPr b="0" lang="en-US" sz="2800" spc="-1" strike="noStrike">
              <a:solidFill>
                <a:srgbClr val="800000"/>
              </a:solidFill>
              <a:latin typeface="Tahom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4427640" y="1989000"/>
            <a:ext cx="1003320" cy="16560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6156360" y="1844640"/>
            <a:ext cx="2448000" cy="18385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6372360" y="3933720"/>
            <a:ext cx="1520640" cy="2592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0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9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898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7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898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898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3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9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9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9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898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5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898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3" dur="1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898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ekutiny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2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ahoma"/>
              </a:rPr>
              <a:t>Kapaliny i plyny se mohou přelévat,</a:t>
            </a:r>
            <a:endParaRPr b="0" lang="en-US" sz="2800" spc="-1" strike="noStrike">
              <a:solidFill>
                <a:srgbClr val="8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ahoma"/>
              </a:rPr>
              <a:t>Mohou volně proudit</a:t>
            </a:r>
            <a:endParaRPr b="0" lang="en-US" sz="2800" spc="-1" strike="noStrike">
              <a:solidFill>
                <a:srgbClr val="8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ahoma"/>
              </a:rPr>
              <a:t>Označujeme je společně jako TEKUTINY</a:t>
            </a:r>
            <a:endParaRPr b="0" lang="en-US" sz="2800" spc="-1" strike="noStrike">
              <a:solidFill>
                <a:srgbClr val="800000"/>
              </a:solidFill>
              <a:latin typeface="Tahom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755640" y="4076640"/>
            <a:ext cx="2808360" cy="2106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fill="hold">
                      <p:stCondLst>
                        <p:cond delay="0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3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898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1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898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9" dur="1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898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7" dur="10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898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5" dur="10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898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okusy s pevnými látkami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7067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ahoma"/>
              </a:rPr>
              <a:t>Zkus změnit tvar</a:t>
            </a: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724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ahoma"/>
              </a:rPr>
              <a:t>Gumového  míčku</a:t>
            </a: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724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ahoma"/>
              </a:rPr>
              <a:t>Tělesa z plastelíny</a:t>
            </a: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724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ahoma"/>
              </a:rPr>
              <a:t>Křídy </a:t>
            </a: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900000" y="4508640"/>
            <a:ext cx="1704960" cy="17143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6588000" y="4581360"/>
            <a:ext cx="1428840" cy="15336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4"/>
          <a:srcRect l="38914" t="66866" r="37663" b="14763"/>
          <a:stretch/>
        </p:blipFill>
        <p:spPr>
          <a:xfrm>
            <a:off x="3564000" y="4653000"/>
            <a:ext cx="1944720" cy="12272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729" dur="indefinite" restart="never" nodeType="tmRoot">
          <p:childTnLst>
            <p:seq>
              <p:cTn id="730" dur="indefinite" nodeType="mainSeq">
                <p:childTnLst>
                  <p:par>
                    <p:cTn id="731" fill="hold">
                      <p:stCondLst>
                        <p:cond delay="0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5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898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3" dur="1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898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10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898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9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898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7" dur="10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898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5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9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3" dur="10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898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1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898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Vlastnosti látek a těles pevných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ahoma"/>
              </a:rPr>
              <a:t>Nemění tvar ani objem</a:t>
            </a:r>
            <a:endParaRPr b="0" lang="en-US" sz="2800" spc="-1" strike="noStrike">
              <a:solidFill>
                <a:srgbClr val="8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ahoma"/>
              </a:rPr>
              <a:t>Mohou být </a:t>
            </a:r>
            <a:endParaRPr b="0" lang="en-US" sz="2800" spc="-1" strike="noStrike">
              <a:solidFill>
                <a:srgbClr val="8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724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ahoma"/>
              </a:rPr>
              <a:t>Křehké</a:t>
            </a:r>
            <a:endParaRPr b="0" lang="en-US" sz="2400" spc="-1" strike="noStrike">
              <a:solidFill>
                <a:srgbClr val="8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724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ahoma"/>
              </a:rPr>
              <a:t>Pružné </a:t>
            </a:r>
            <a:endParaRPr b="0" lang="en-US" sz="2400" spc="-1" strike="noStrike">
              <a:solidFill>
                <a:srgbClr val="8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724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ahoma"/>
              </a:rPr>
              <a:t>Tvárné </a:t>
            </a:r>
            <a:endParaRPr b="0" lang="en-US" sz="2400" spc="-1" strike="noStrike">
              <a:solidFill>
                <a:srgbClr val="8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ahoma"/>
              </a:rPr>
              <a:t>Mají různou tvrdost</a:t>
            </a:r>
            <a:endParaRPr b="0" lang="en-US" sz="2800" spc="-1" strike="noStrike">
              <a:solidFill>
                <a:srgbClr val="8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rcRect l="0" t="0" r="0" b="8895"/>
          <a:stretch/>
        </p:blipFill>
        <p:spPr>
          <a:xfrm>
            <a:off x="4643280" y="1989000"/>
            <a:ext cx="4038840" cy="29592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795" dur="indefinite" restart="never" nodeType="tmRoot">
          <p:childTnLst>
            <p:seq>
              <p:cTn id="796" dur="indefinite" nodeType="mainSeq">
                <p:childTnLst>
                  <p:par>
                    <p:cTn id="797" fill="hold">
                      <p:stCondLst>
                        <p:cond delay="0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1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898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9" dur="1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898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7" dur="10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898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5" dur="10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6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898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3" dur="10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898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1" dur="10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898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9" dur="10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0" dur="10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898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7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898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2970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Známá skupenství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724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ahoma"/>
              </a:rPr>
              <a:t>Kapalné</a:t>
            </a: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724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ahoma"/>
              </a:rPr>
              <a:t>Pevné</a:t>
            </a: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724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ahoma"/>
              </a:rPr>
              <a:t>Plynné</a:t>
            </a: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ahoma"/>
              </a:rPr>
              <a:t>Většina látek může být ve všech třech skupenstvích</a:t>
            </a:r>
            <a:endParaRPr b="0" lang="en-US" sz="2800" spc="-1" strike="noStrike">
              <a:solidFill>
                <a:srgbClr val="8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ahoma"/>
              </a:rPr>
              <a:t>U některých látek můžeme mít s určením skupenství potíže</a:t>
            </a:r>
            <a:endParaRPr b="0" lang="en-US" sz="2800" spc="-1" strike="noStrike">
              <a:solidFill>
                <a:srgbClr val="8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724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ahoma"/>
              </a:rPr>
              <a:t>Med, pasta na zuby,…</a:t>
            </a:r>
            <a:endParaRPr b="0" lang="en-US" sz="2400" spc="-1" strike="noStrike">
              <a:solidFill>
                <a:srgbClr val="8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5148360" y="4653000"/>
            <a:ext cx="2743200" cy="2057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0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7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898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5" dur="1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6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898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3" dur="10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4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898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1" dur="10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2" dur="1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898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9" dur="10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0" dur="1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898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7" dur="10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8" dur="10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898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5" dur="1000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6" dur="10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898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Čtvrté skupenství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140000" y="2060640"/>
            <a:ext cx="4824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250920" y="1989000"/>
            <a:ext cx="6480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ahoma"/>
              </a:rPr>
              <a:t>Někdy se setkáme i se čtvrtým skupenstvím – zvláštní stav látky, který vzniká například v plameni, ve svítících zářivkách, při elektrickém svářen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LAZ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6804000" y="2205000"/>
            <a:ext cx="2017800" cy="28796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2627280" y="4149720"/>
            <a:ext cx="2952720" cy="2214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919" dur="indefinite" restart="never" nodeType="tmRoot">
          <p:childTnLst>
            <p:seq>
              <p:cTn id="920" dur="indefinite" nodeType="mainSeq">
                <p:childTnLst>
                  <p:par>
                    <p:cTn id="921" fill="hold">
                      <p:stCondLst>
                        <p:cond delay="0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5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6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898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3" dur="1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4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9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1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2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9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9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0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9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7" dur="10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8" dur="10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9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Zápis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ahoma"/>
              </a:rPr>
              <a:t>Látky mohou být ve skupenství: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pevném, kapalném, plynném</a:t>
            </a: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ahoma"/>
              </a:rPr>
              <a:t>Někdy se setkáváme i se čtvrtým skupenstvím –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PLAZMA</a:t>
            </a: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Vlastnosti látek pevných</a:t>
            </a:r>
            <a:r>
              <a:rPr b="0" lang="en-US" sz="3200" spc="-1" strike="noStrike">
                <a:solidFill>
                  <a:srgbClr val="800000"/>
                </a:solidFill>
                <a:latin typeface="Tahoma"/>
              </a:rPr>
              <a:t>: nemění tvar ani objem, mají různou tvrdost, mohou být křehké, pružné, tvárné.</a:t>
            </a: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Zápis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Vlastnosti látek kapalných</a:t>
            </a:r>
            <a:r>
              <a:rPr b="0" lang="en-US" sz="3200" spc="-1" strike="noStrike">
                <a:solidFill>
                  <a:srgbClr val="800000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724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kuté</a:t>
            </a:r>
            <a:r>
              <a:rPr b="0" lang="en-US" sz="2800" spc="-1" strike="noStrike">
                <a:solidFill>
                  <a:srgbClr val="800000"/>
                </a:solidFill>
                <a:latin typeface="Tahoma"/>
              </a:rPr>
              <a:t> (dají se přelévat)</a:t>
            </a:r>
            <a:endParaRPr b="0" lang="en-US" sz="2800" spc="-1" strike="noStrike">
              <a:solidFill>
                <a:srgbClr val="8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724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Mění snadno tvar</a:t>
            </a:r>
            <a:r>
              <a:rPr b="0" lang="en-US" sz="2800" spc="-1" strike="noStrike">
                <a:solidFill>
                  <a:srgbClr val="800000"/>
                </a:solidFill>
                <a:latin typeface="Tahoma"/>
              </a:rPr>
              <a:t> (zaujímají jej podle nádoby)</a:t>
            </a:r>
            <a:endParaRPr b="0" lang="en-US" sz="2800" spc="-1" strike="noStrike">
              <a:solidFill>
                <a:srgbClr val="8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724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nadno dělitelné</a:t>
            </a:r>
            <a:r>
              <a:rPr b="0" lang="en-US" sz="2800" spc="-1" strike="noStrike">
                <a:solidFill>
                  <a:srgbClr val="800000"/>
                </a:solidFill>
                <a:latin typeface="Tahoma"/>
              </a:rPr>
              <a:t> (kapky)</a:t>
            </a:r>
            <a:endParaRPr b="0" lang="en-US" sz="2800" spc="-1" strike="noStrike">
              <a:solidFill>
                <a:srgbClr val="8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724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Nestlačitelné</a:t>
            </a:r>
            <a:r>
              <a:rPr b="0" lang="en-US" sz="2800" spc="-1" strike="noStrike">
                <a:solidFill>
                  <a:srgbClr val="800000"/>
                </a:solidFill>
                <a:latin typeface="Tahoma"/>
              </a:rPr>
              <a:t> (objem se nemění)</a:t>
            </a:r>
            <a:endParaRPr b="0" lang="en-US" sz="2800" spc="-1" strike="noStrike">
              <a:solidFill>
                <a:srgbClr val="8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724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ahoma"/>
              </a:rPr>
              <a:t>V klidu je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hladina</a:t>
            </a:r>
            <a:r>
              <a:rPr b="0" lang="en-US" sz="2800" spc="-1" strike="noStrike">
                <a:solidFill>
                  <a:srgbClr val="800000"/>
                </a:solidFill>
                <a:latin typeface="Tahoma"/>
              </a:rPr>
              <a:t> v nádobě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vodorovná</a:t>
            </a:r>
            <a:endParaRPr b="0" lang="en-US" sz="2800" spc="-1" strike="noStrike">
              <a:solidFill>
                <a:srgbClr val="8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V jakých podobách se může objevovat voda?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11640" y="5516280"/>
            <a:ext cx="1439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ahoma"/>
              </a:rPr>
              <a:t>Pára</a:t>
            </a: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716360" y="1844640"/>
            <a:ext cx="3816360" cy="25495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468360" y="1844640"/>
            <a:ext cx="3240000" cy="24303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867280" y="4437000"/>
            <a:ext cx="86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ahoma"/>
              </a:rPr>
              <a:t>L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332000" y="43657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ahoma"/>
              </a:rPr>
              <a:t>Vo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4"/>
          <a:srcRect l="0" t="32472" r="0" b="-1371"/>
          <a:stretch/>
        </p:blipFill>
        <p:spPr>
          <a:xfrm>
            <a:off x="2484360" y="4797360"/>
            <a:ext cx="3240000" cy="18846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898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898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9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898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9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9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898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Zápis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Vlastnosti látek plynných</a:t>
            </a:r>
            <a:r>
              <a:rPr b="0" lang="en-US" sz="3200" spc="-1" strike="noStrike">
                <a:solidFill>
                  <a:srgbClr val="800000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724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ahoma"/>
              </a:rPr>
              <a:t>Jsou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tlačitelné</a:t>
            </a:r>
            <a:endParaRPr b="0" lang="en-US" sz="2800" spc="-1" strike="noStrike">
              <a:solidFill>
                <a:srgbClr val="8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724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ahoma"/>
              </a:rPr>
              <a:t>Snadno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mění tvar i objem</a:t>
            </a:r>
            <a:endParaRPr b="0" lang="en-US" sz="2800" spc="-1" strike="noStrike">
              <a:solidFill>
                <a:srgbClr val="8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724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ahoma"/>
              </a:rPr>
              <a:t>Jsou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rozpínavé</a:t>
            </a:r>
            <a:endParaRPr b="0" lang="en-US" sz="2800" spc="-1" strike="noStrike">
              <a:solidFill>
                <a:srgbClr val="8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724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ahoma"/>
              </a:rPr>
              <a:t>Jsou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kuté</a:t>
            </a:r>
            <a:endParaRPr b="0" lang="en-US" sz="2800" spc="-1" strike="noStrike">
              <a:solidFill>
                <a:srgbClr val="8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Kdy se mění tyto podoby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ahoma"/>
              </a:rPr>
              <a:t>VODA                  PÁRA  (vypařování)</a:t>
            </a: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ahoma"/>
              </a:rPr>
              <a:t>LED                    VODA  (tání)</a:t>
            </a: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ahoma"/>
              </a:rPr>
              <a:t>při zvýšení teploty</a:t>
            </a: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ahoma"/>
              </a:rPr>
              <a:t>VODA                  LED    (tuhnutí)</a:t>
            </a: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ahoma"/>
              </a:rPr>
              <a:t>PÁRA                   VODA  (kondenzování)</a:t>
            </a: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ahoma"/>
              </a:rPr>
              <a:t>při snížení teploty</a:t>
            </a: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2411280" y="2708280"/>
            <a:ext cx="1295640" cy="360360"/>
          </a:xfrm>
          <a:prstGeom prst="rightArrow">
            <a:avLst>
              <a:gd name="adj1" fmla="val 50000"/>
              <a:gd name="adj2" fmla="val 89885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484360" y="4437000"/>
            <a:ext cx="1295640" cy="360360"/>
          </a:xfrm>
          <a:prstGeom prst="rightArrow">
            <a:avLst>
              <a:gd name="adj1" fmla="val 50000"/>
              <a:gd name="adj2" fmla="val 89885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411280" y="2133720"/>
            <a:ext cx="1295640" cy="360360"/>
          </a:xfrm>
          <a:prstGeom prst="rightArrow">
            <a:avLst>
              <a:gd name="adj1" fmla="val 50000"/>
              <a:gd name="adj2" fmla="val 89885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411280" y="5013360"/>
            <a:ext cx="1295640" cy="360360"/>
          </a:xfrm>
          <a:prstGeom prst="rightArrow">
            <a:avLst>
              <a:gd name="adj1" fmla="val 50000"/>
              <a:gd name="adj2" fmla="val 89885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898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898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9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898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9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898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898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9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898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9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898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kupenství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7499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Pro jednotlivé podoby látek užíváme pojem  </a:t>
            </a:r>
            <a:r>
              <a:rPr b="0" lang="en-US" sz="3600" spc="-1" strike="noStrike">
                <a:solidFill>
                  <a:srgbClr val="800000"/>
                </a:solidFill>
                <a:latin typeface="Tahoma"/>
              </a:rPr>
              <a:t>SKUPENSTVÍ</a:t>
            </a:r>
            <a:endParaRPr b="0" lang="en-US" sz="3600" spc="-1" strike="noStrike">
              <a:solidFill>
                <a:srgbClr val="8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KAPALNÉ</a:t>
            </a:r>
            <a:r>
              <a:rPr b="0" lang="en-US" sz="3600" spc="-1" strike="noStrike">
                <a:solidFill>
                  <a:srgbClr val="800000"/>
                </a:solidFill>
                <a:latin typeface="Tahoma"/>
              </a:rPr>
              <a:t>    -  voda</a:t>
            </a:r>
            <a:endParaRPr b="0" lang="en-US" sz="3600" spc="-1" strike="noStrike">
              <a:solidFill>
                <a:srgbClr val="8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PEVNÉ </a:t>
            </a:r>
            <a:r>
              <a:rPr b="0" lang="en-US" sz="3600" spc="-1" strike="noStrike">
                <a:solidFill>
                  <a:srgbClr val="800000"/>
                </a:solidFill>
                <a:latin typeface="Tahoma"/>
              </a:rPr>
              <a:t>       -  led, sníh</a:t>
            </a:r>
            <a:endParaRPr b="0" lang="en-US" sz="3600" spc="-1" strike="noStrike">
              <a:solidFill>
                <a:srgbClr val="8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PLYNNÉ </a:t>
            </a:r>
            <a:r>
              <a:rPr b="0" lang="en-US" sz="3600" spc="-1" strike="noStrike">
                <a:solidFill>
                  <a:srgbClr val="800000"/>
                </a:solidFill>
                <a:latin typeface="Tahoma"/>
              </a:rPr>
              <a:t>     -  pára</a:t>
            </a:r>
            <a:endParaRPr b="0" lang="en-US" sz="36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250920" y="3349800"/>
            <a:ext cx="662616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826920" y="5229360"/>
            <a:ext cx="1800360" cy="13507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3419640" y="5229360"/>
            <a:ext cx="2087280" cy="13935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rcRect l="0" t="32472" r="0" b="-1371"/>
          <a:stretch/>
        </p:blipFill>
        <p:spPr>
          <a:xfrm>
            <a:off x="6227640" y="5157720"/>
            <a:ext cx="1944720" cy="14461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08000" y="3141720"/>
            <a:ext cx="90360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898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898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898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898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898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898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898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9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447040" cy="14414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Jmenuj příklady látek, které znáš v jejich různých podobách (skupenstvích)</a:t>
            </a:r>
            <a:br>
              <a:rPr sz="3600"/>
            </a:b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000" y="1700280"/>
            <a:ext cx="8064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arafín</a:t>
            </a:r>
            <a:r>
              <a:rPr b="0" lang="en-US" sz="2800" spc="-1" strike="noStrike">
                <a:solidFill>
                  <a:srgbClr val="800000"/>
                </a:solidFill>
                <a:latin typeface="Tahoma"/>
              </a:rPr>
              <a:t> – svíčka v pevném skupenství, taje při hoření</a:t>
            </a:r>
            <a:endParaRPr b="0" lang="en-US" sz="2800" spc="-1" strike="noStrike">
              <a:solidFill>
                <a:srgbClr val="8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Železo, zlato</a:t>
            </a:r>
            <a:r>
              <a:rPr b="0" lang="en-US" sz="2800" spc="-1" strike="noStrike">
                <a:solidFill>
                  <a:srgbClr val="800000"/>
                </a:solidFill>
                <a:latin typeface="Tahoma"/>
              </a:rPr>
              <a:t> – pevné, chceme-li jej tvarovat, zvýšíme teplotu (ve vysokých pecích) – kapalné</a:t>
            </a:r>
            <a:endParaRPr b="0" lang="en-US" sz="2800" spc="-1" strike="noStrike">
              <a:solidFill>
                <a:srgbClr val="8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rcRect l="16220" t="0" r="8110" b="9489"/>
          <a:stretch/>
        </p:blipFill>
        <p:spPr>
          <a:xfrm>
            <a:off x="179280" y="4149720"/>
            <a:ext cx="2737080" cy="20430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3203640" y="4076640"/>
            <a:ext cx="2376360" cy="21542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6084720" y="4149720"/>
            <a:ext cx="2667240" cy="20001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195640" y="6381720"/>
            <a:ext cx="2160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Výroba </a:t>
            </a:r>
            <a:r>
              <a:rPr b="0" lang="en-US" sz="1800" spc="-1" strike="noStrike" u="sng">
                <a:solidFill>
                  <a:srgbClr val="ba7c3e"/>
                </a:solidFill>
                <a:uFillTx/>
                <a:latin typeface="Tahoma"/>
                <a:hlinkClick r:id="rId5"/>
              </a:rPr>
              <a:t>nož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898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9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898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9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9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898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9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0526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Koloběh vody v přírodě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12000" y="2204640"/>
            <a:ext cx="2736720" cy="25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Tahoma"/>
              </a:rPr>
              <a:t>1. vypařování</a:t>
            </a:r>
            <a:endParaRPr b="0" lang="en-US" sz="2000" spc="-1" strike="noStrike">
              <a:solidFill>
                <a:srgbClr val="8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Tahoma"/>
              </a:rPr>
              <a:t>2. kondenzace</a:t>
            </a:r>
            <a:endParaRPr b="0" lang="en-US" sz="2000" spc="-1" strike="noStrike">
              <a:solidFill>
                <a:srgbClr val="8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Tahoma"/>
              </a:rPr>
              <a:t>3. srážení  </a:t>
            </a:r>
            <a:endParaRPr b="0" lang="en-US" sz="2000" spc="-1" strike="noStrike">
              <a:solidFill>
                <a:srgbClr val="8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Tahoma"/>
              </a:rPr>
              <a:t>4. déšť, prosakování </a:t>
            </a:r>
            <a:endParaRPr b="0" lang="en-US" sz="2000" spc="-1" strike="noStrike">
              <a:solidFill>
                <a:srgbClr val="8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Tahoma"/>
              </a:rPr>
              <a:t>5. vodní toky - a opět vypařování… </a:t>
            </a:r>
            <a:endParaRPr b="0" lang="en-US" sz="2000" spc="-1" strike="noStrike">
              <a:solidFill>
                <a:srgbClr val="800000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68360" y="1052640"/>
            <a:ext cx="5373720" cy="5661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4140360" y="5877000"/>
            <a:ext cx="287280" cy="368280"/>
          </a:xfrm>
          <a:prstGeom prst="rect">
            <a:avLst/>
          </a:prstGeom>
          <a:solidFill>
            <a:srgbClr val="00b0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716360" y="2060640"/>
            <a:ext cx="287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835280" y="1197000"/>
            <a:ext cx="287280" cy="3682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332000" y="1989000"/>
            <a:ext cx="287280" cy="368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700360" y="3573360"/>
            <a:ext cx="287280" cy="36828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0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898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898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9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9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9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9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9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898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898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898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898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898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Zajímavosti o vodě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24000" y="1989000"/>
            <a:ext cx="8229600" cy="411480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Voda a lidské tělo: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8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idské embryo = 94%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ojenec = 75%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ítě = 65%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ospělý = 60%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arý člověk = 55%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rev = 83%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osti = 22%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valy= 76%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ozek = 75%</a:t>
            </a:r>
            <a:r>
              <a:rPr b="0" lang="en-US" sz="2400" spc="-1" strike="noStrike">
                <a:solidFill>
                  <a:srgbClr val="8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800000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4356000" y="2205000"/>
            <a:ext cx="1681200" cy="20876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6588000" y="3789360"/>
            <a:ext cx="1762200" cy="23036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0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898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898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898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97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00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Čím se liší voda od vzduchu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206064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Pokusy:</a:t>
            </a: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724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ahoma"/>
              </a:rPr>
              <a:t>Injekční stříkačku natáhni, prstem</a:t>
            </a: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800000"/>
                </a:solidFill>
                <a:latin typeface="Tahoma"/>
              </a:rPr>
              <a:t>ucpi otvor a pokus se ji stlačit</a:t>
            </a: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724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ahoma"/>
              </a:rPr>
              <a:t>Naplň injekční stříkačku vodou, </a:t>
            </a: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ahoma"/>
              </a:rPr>
              <a:t>ucpi prstem otvor a pokus se ji stlačit</a:t>
            </a: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7380360" y="2133720"/>
            <a:ext cx="1573200" cy="25923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2916360" y="5589720"/>
            <a:ext cx="3168360" cy="459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 pozorujet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0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898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898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898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898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898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898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898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9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Čím se liší voda od vzduchu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95280" y="1699920"/>
            <a:ext cx="8229600" cy="23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okusy </a:t>
            </a:r>
            <a:endParaRPr b="0" lang="en-US" sz="2800" spc="-1" strike="noStrike">
              <a:solidFill>
                <a:srgbClr val="8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ahoma"/>
              </a:rPr>
              <a:t>Plastovou láhev naplň vodou,</a:t>
            </a:r>
            <a:endParaRPr b="0" lang="en-US" sz="2800" spc="-1" strike="noStrike">
              <a:solidFill>
                <a:srgbClr val="8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ahoma"/>
              </a:rPr>
              <a:t>Pevně uzavři a zmáčkni láhev rukama.</a:t>
            </a:r>
            <a:endParaRPr b="0" lang="en-US" sz="2800" spc="-1" strike="noStrike">
              <a:solidFill>
                <a:srgbClr val="8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ahoma"/>
              </a:rPr>
              <a:t>Opakuj pokus s prázdnou lahví. </a:t>
            </a:r>
            <a:endParaRPr b="0" lang="en-US" sz="2800" spc="-1" strike="noStrike">
              <a:solidFill>
                <a:srgbClr val="800000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1835280" y="4005360"/>
            <a:ext cx="2736720" cy="27367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4932360" y="5084640"/>
            <a:ext cx="3097080" cy="459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 pozorujet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0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898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898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898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898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1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898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1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898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9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9T13:56:13Z</dcterms:created>
  <dc:creator>Liba</dc:creator>
  <dc:description/>
  <dc:language>en-US</dc:language>
  <cp:lastModifiedBy>Cleric</cp:lastModifiedBy>
  <dcterms:modified xsi:type="dcterms:W3CDTF">2008-05-15T22:40:41Z</dcterms:modified>
  <cp:revision>38</cp:revision>
  <dc:subject/>
  <dc:title>Skupenství látek</dc:title>
</cp:coreProperties>
</file>