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E1B-7644-4DA6-989C-394968A0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563-42EC-4498-A6D1-7B855CC7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606-244E-4168-893F-15F8C4AE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554-3861-421C-A063-73936873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6607-B791-4603-A6D6-B218429D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0B7F-EFE6-4166-9C46-727EFCA9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796C-2FF5-40B1-A4FA-18FBB18F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D35C-1360-41DF-A366-9DF695EF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DAC0-DF1B-48BE-858E-A192DD58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8CE9-2DF9-4FF4-A3DD-F83321C9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827B-494B-4B42-AD30-4EFD27E0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E99D-DE29-4DE9-97C4-B65A554C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C458-6E5C-4864-B7EE-68B9821A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FA84-474A-47BF-95B7-F5F67B4C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462F-D19D-47FF-A6ED-093B82B9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E7F1-8411-40CC-9FC6-164D4822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1D74-88B1-47BD-8CA9-80904404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DE8-7C05-4B20-8514-10DF4E0B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1BF-0D4D-4175-8859-A3F838B5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FC6-A2B6-465E-B5ED-21C1BEE0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985-1086-4E65-9F55-25FC9099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A30-2769-4490-B237-A101FEC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668-5E3D-4565-95EE-DE309EFC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878-7C16-4537-855C-9AF0F394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EE5E-6515-40CB-A6B5-38C3B8708A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7D9C-35D4-4C03-A62A-744722F6D5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cz/imgres?imgurl=http://www.pajl-knives.com/photos/reportaz/kovar34.jpg&amp;imgrefurl=http://www.pajl-knives.com/articles/zrozeni_noze_cz.html&amp;h=325&amp;w=500&amp;sz=30&amp;hl=cs&amp;start=35&amp;tbnid=TsGmBQE6460JUM:&amp;tbnh=85&amp;tbnw=130&amp;prev=/images?q=sv%252" TargetMode="External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kupenství láte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3887640" cy="257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9961" r="0" b="0"/>
          <a:stretch/>
        </p:blipFill>
        <p:spPr>
          <a:xfrm>
            <a:off x="4643280" y="2924280"/>
            <a:ext cx="3848400" cy="259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alší pokusy s kapalinam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Nalévej  vodu do různě tvarovaných nádob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Přelévej vodu 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80000" y="191628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580000" y="4292640"/>
            <a:ext cx="2808360" cy="2104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26920" y="5516640"/>
            <a:ext cx="3168720" cy="459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 pozoruje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9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lastnosti látek a těles kapalný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kut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dají se přelévat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ění snadno tvar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zaujímají jej podle nádoby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nadno děliteln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kapky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estlačiteln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objem se nemění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V klidu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ladina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v nádobě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dorovná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00720" y="1628640"/>
            <a:ext cx="2448000" cy="183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219640" y="2997360"/>
            <a:ext cx="1150920" cy="158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300720" y="429264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9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9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lastnosti látek a těles plynný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stlačiteln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Snadno mění tvar i objem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rozpínav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tekut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1003320" cy="165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56360" y="184464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372360" y="3933720"/>
            <a:ext cx="152064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kutin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Kapaliny i plyny se mohou přelévat,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ohou volně proudit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Označujeme je společně jako TEKUTINY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9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kusy s pevnými látkam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Zkus změnit tvar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Gumového  míčku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Tělesa z plastelíny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Křídy 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00000" y="4508640"/>
            <a:ext cx="1704960" cy="1714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588000" y="4581360"/>
            <a:ext cx="1428840" cy="1533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38914" t="66866" r="37663" b="14763"/>
          <a:stretch/>
        </p:blipFill>
        <p:spPr>
          <a:xfrm>
            <a:off x="3564000" y="4653000"/>
            <a:ext cx="1944720" cy="122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9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98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898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lastnosti látek a těles pevný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Nemění tvar ani objem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ohou být 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Křehké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Pružné 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Tvárné 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ají různou tvrdost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0" t="0" r="0" b="8895"/>
          <a:stretch/>
        </p:blipFill>
        <p:spPr>
          <a:xfrm>
            <a:off x="4643280" y="1989000"/>
            <a:ext cx="4038840" cy="29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898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898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898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98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98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97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námá skupenství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Kapalné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evné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lynné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Většina látek může být ve všech třech skupenstvích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U některých látek můžeme mít s určením skupenství potíž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Med, pasta na zuby,…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9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898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98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98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98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98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tvrté skupenstv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40000" y="2060640"/>
            <a:ext cx="482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989000"/>
            <a:ext cx="648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Někdy se setkáme i se čtvrtým skupenstvím – zvláštní stav látky, který vzniká například v plameni, ve svítících zářivkách, při elektrickém svář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LAZ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04000" y="2205000"/>
            <a:ext cx="2017800" cy="287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627280" y="414972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89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9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9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áp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Látky mohou být ve skupenství: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evném, kapalném, plynném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Někdy se setkáváme i se čtvrtým skupenstvím –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LAZMA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Vlastnosti látek pevných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: nemění tvar ani objem, mají různou tvrdost, mohou být křehké, pružné, tvárné.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áp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Vlastnosti látek kapalných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kut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dají se přelévat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ění snadno tvar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zaujímají jej podle nádoby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nadno děliteln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kapky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estlačitelné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(objem se nemění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V klidu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ladina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v nádobě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dorovná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 jakých podobách se může objevovat voda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11640" y="5516280"/>
            <a:ext cx="1439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ára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16360" cy="254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67280" y="4437000"/>
            <a:ext cx="8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4365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V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0" t="32472" r="0" b="-1371"/>
          <a:stretch/>
        </p:blipFill>
        <p:spPr>
          <a:xfrm>
            <a:off x="2484360" y="4797360"/>
            <a:ext cx="3240000" cy="188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áp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Vlastnosti látek plynných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lačiteln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Snadn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ění tvar i objem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ozpínav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Jsou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kut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dy se mění tyto podob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VODA                  PÁRA  (vypařování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LED                    VODA  (tání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ři zvýšení teploty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VODA                  LED    (tuhnutí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ÁRA                   VODA  (kondenzování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ři snížení teploty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270828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443700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213372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501336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kupenství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49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ro jednotlivé podoby látek užíváme pojem  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KUPENSTVÍ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KAPALNÉ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    -  voda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EVNÉ 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       -  led, sníh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LYNNÉ 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     -  pára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49800"/>
            <a:ext cx="6626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5229360"/>
            <a:ext cx="1800360" cy="135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419640" y="5229360"/>
            <a:ext cx="2087280" cy="139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32472" r="0" b="-1371"/>
          <a:stretch/>
        </p:blipFill>
        <p:spPr>
          <a:xfrm>
            <a:off x="6227640" y="5157720"/>
            <a:ext cx="1944720" cy="144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8000" y="3141720"/>
            <a:ext cx="903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447040" cy="14414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Jmenuj příklady látek, které znáš v jejich různých podobách (skupenstvích)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afín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– svíčka v pevném skupenství, taje při hoření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Železo, zlato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 – pevné, chceme-li jej tvarovat, zvýšíme teplotu (ve vysokých pecích) – kapalné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16220" t="0" r="8110" b="9489"/>
          <a:stretch/>
        </p:blipFill>
        <p:spPr>
          <a:xfrm>
            <a:off x="179280" y="4149720"/>
            <a:ext cx="2737080" cy="204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03640" y="4076640"/>
            <a:ext cx="2376360" cy="2154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084720" y="4149720"/>
            <a:ext cx="2667240" cy="2000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95640" y="6381720"/>
            <a:ext cx="21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ýroba </a:t>
            </a:r>
            <a:r>
              <a:rPr b="0" lang="en-US" sz="1800" spc="-1" strike="noStrike" u="sng">
                <a:solidFill>
                  <a:srgbClr val="ba7c3e"/>
                </a:solidFill>
                <a:uFillTx/>
                <a:latin typeface="Tahoma"/>
                <a:hlinkClick r:id="rId5"/>
              </a:rPr>
              <a:t>no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loběh vody v přírodě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12000" y="2204640"/>
            <a:ext cx="273672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1. vypařování</a:t>
            </a: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2. kondenzace</a:t>
            </a: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3. srážení  </a:t>
            </a: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4. déšť, prosakování </a:t>
            </a: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5. vodní toky - a opět vypařování… </a:t>
            </a:r>
            <a:endParaRPr b="0" lang="en-US" sz="2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5373720" cy="5661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140360" y="5877000"/>
            <a:ext cx="287280" cy="368280"/>
          </a:xfrm>
          <a:prstGeom prst="rect">
            <a:avLst/>
          </a:prstGeom>
          <a:solidFill>
            <a:srgbClr val="00b0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06064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1197000"/>
            <a:ext cx="28728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1989000"/>
            <a:ext cx="287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3573360"/>
            <a:ext cx="287280" cy="368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ajímavosti o vodě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oda a lidské tělo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dské embryo = 94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jenec = 75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ítě = 65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spělý = 60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ý člověk = 55%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ev = 83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sti = 22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valy= 76%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zek = 75%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1681200" cy="208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588000" y="3789360"/>
            <a:ext cx="1762200" cy="23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98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ím se liší voda od vzduchu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okusy: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Injekční stříkačku natáhni, prstem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ucpi otvor a pokus se ji stlači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Naplň injekční stříkačku vodou, 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ucpi prstem otvor a pokus se ji stlači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80360" y="2133720"/>
            <a:ext cx="1573200" cy="259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16360" y="5589720"/>
            <a:ext cx="3168360" cy="459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 pozoruje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ím se liší voda od vzduchu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okusy 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Plastovou láhev naplň vodou,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Pevně uzavři a zmáčkni láhev rukama.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Opakuj pokus s prázdnou lahví. 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932360" y="5084640"/>
            <a:ext cx="3097080" cy="459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 pozoruje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9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98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98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3:56:13Z</dcterms:created>
  <dc:creator>Liba</dc:creator>
  <dc:description/>
  <dc:language>en-US</dc:language>
  <cp:lastModifiedBy>Cleric</cp:lastModifiedBy>
  <dcterms:modified xsi:type="dcterms:W3CDTF">2008-05-15T22:40:41Z</dcterms:modified>
  <cp:revision>38</cp:revision>
  <dc:subject/>
  <dc:title>Skupenství látek</dc:title>
</cp:coreProperties>
</file>