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B20-3C0C-48DB-B2EC-CAF45137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2C7-19B2-4E54-9C32-1A01A43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5A0-647D-4E0F-BD45-F4781D51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9B3-14F9-4A20-A1E8-A1EDC0C7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492-6F36-4B35-B7E9-76CA4554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52F-0849-418E-BE12-C6FD9EC0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A9A-7A9A-48BD-BC8A-58FF4BA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929-620B-47AE-BC67-BA9EEF47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4B2-4A81-49F6-88C1-647183EE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016-85EE-4139-904A-532918D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9FE-5F5B-4E9F-8E4B-1F6E9C1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353-78C9-456A-8F75-666381E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8ED8-C518-4C29-8CCE-40A2C4B8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" TargetMode="External"/><Relationship Id="rId2" Type="http://schemas.openxmlformats.org/officeDocument/2006/relationships/hyperlink" Target="http://www.aldebaran.cz/bulletin/2004_s2.html" TargetMode="External"/><Relationship Id="rId3" Type="http://schemas.openxmlformats.org/officeDocument/2006/relationships/hyperlink" Target="http://mfweb.wz.cz/fyzika/38.htm" TargetMode="External"/><Relationship Id="rId4" Type="http://schemas.openxmlformats.org/officeDocument/2006/relationships/hyperlink" Target="http://planety.astro.cz/zeme/58/" TargetMode="External"/><Relationship Id="rId5" Type="http://schemas.openxmlformats.org/officeDocument/2006/relationships/hyperlink" Target="http://planety.astro.cz/zeme/58/" TargetMode="External"/><Relationship Id="rId6" Type="http://schemas.openxmlformats.org/officeDocument/2006/relationships/hyperlink" Target="http://planety.astro.cz/zeme/58/" TargetMode="External"/><Relationship Id="rId7" Type="http://schemas.openxmlformats.org/officeDocument/2006/relationships/hyperlink" Target="http://planety.astro.cz/zeme/58/" TargetMode="External"/><Relationship Id="rId8" Type="http://schemas.openxmlformats.org/officeDocument/2006/relationships/hyperlink" Target="http://planety.astro.cz/zeme/58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KOF/FI – Gravitační síla Zem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37372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káš Šebe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05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učně o histor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mi vědci zabývajícími se problémem gravitační síly se stali v 16. stol. Galileo a Newton. Galileo (1564-1642) italský matematik, astronom a fyzik byl jedním z prvních, který souhlasil s Koperníkovou myšlenkou, že Země obíhá po oběžné dráze kolem Slunce a hledal  mechanismus a sílu, která by mu umožnila pohyb mezi planetami. Následovali astronomové Tycho de Brahe a Kepler, kteří blíže studovali pohyb mezi planetami a definovali zákony pohybu, Keplerův zákon o eliptické dráze planet kolem Slunce. Nejvýznamněji se zapsal do studia gravitace sir Isaac Newton (1645-1727), anglický matematik a fyzik, který položil základy moderní fyz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ční po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je prostor, ve kterém působí gravitační síly. Každá dvě tělesa jsou k sobě přitahovány silou, kterou nazýváme gravitační sí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ita gravitačního po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í každého tělesa existuje gravitační pole, které působí na jiná tělesa. Pro porovnání silového působení v různých místech gravitačního pole je zavedena intenzita grav.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ční konstan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konstanta úměrnosti mezi gravitační silou a hmotností budícího tělesa. Je to jedna ze tří základních fyzikálních konstant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tonův gravitační zák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ždá dvě tělesa se navzájem přitahují stejně velkými gravitačními silami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, –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 opačného směru. Velikost gravitační síly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 pro dvě tělesa je přímo úměrná součinu jejich hmotností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 a nepřímo úměrná druhé mocnině jejich vzdálenosti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. Platí t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ravitační konstant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= 6,67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10–11 N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m2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kg–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24480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tonův gravitační zákon</a:t>
            </a:r>
            <a:br>
              <a:rPr sz="4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Zjednodušený pro plan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-li gravitační pole dostatečně homogenní, lze gravitační sílu vypočítat jako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g=m*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gravitační zrychlení. Podmínka homogenity gravitačního pole je dostatečně přesně splněna například na povrchu Země či jiných planet (jimž přísluší jiné hodnoty gravitačních zrychl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Java appl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sey.uoregon.edu/vlab/Cannon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debaran.cz/applets/fy_grav/star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iml4D3fwEh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29uNiSSdon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DT02ovr9T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dka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debaran.cz/bulletin/2004_s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fweb.wz.cz/fyzika/3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lanety.astro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zeme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5:45:11Z</dcterms:created>
  <dc:creator>Lukáš Šebesta</dc:creator>
  <dc:description/>
  <dc:language>en-US</dc:language>
  <cp:lastModifiedBy>Lukáš Šebesta</cp:lastModifiedBy>
  <dcterms:modified xsi:type="dcterms:W3CDTF">2008-05-09T20:37:30Z</dcterms:modified>
  <cp:revision>41</cp:revision>
  <dc:subject/>
  <dc:title>KOF/FI – Gravitační síla</dc:title>
</cp:coreProperties>
</file>