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E5E-5AEA-481F-B8A8-660C0C6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452-56AD-4238-8E78-AD83004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FD7-608E-4697-82C1-F593B153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1CB-B45D-430B-AC07-DA8DF79C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956-5314-4C74-951A-D25B6C07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9B1-415A-4E41-99D2-C00FAF9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CD14-9C58-4F41-A79B-5190D39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4991-1EF2-480E-892E-F0D1BEF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F19-0C5F-4B55-A58A-C189FBB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C30-BDC5-4F92-A8DA-C4CFE37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7B8-AB43-4256-AA59-82B9C6A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F18-E191-485B-A46B-F2A21AD8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6C52-CCC1-4963-8E70-269201C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CE8-26B1-4AF9-9F2F-AA89E77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51A-3916-4088-ABD1-289A2A56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E933-50D2-40C2-9B4C-AF674A16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4C1-5198-4C4C-B9F9-48DB50B7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3305-C7A7-4076-ABCD-861F3767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7274-9281-4FE2-A15C-DB5F6296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F561-C72A-4BDA-8D39-320EEF6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6914-8A2C-41E6-9443-877FE61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BFD9-3FEB-4BCF-B3A8-8A30336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DC9-246C-4459-9D38-4172E0D4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6AB5-9585-4BB3-803C-C85C8C05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F21C-CA97-43C1-8C6A-A58F9C3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D6A7-1082-4BAC-B72C-ABAD69C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2E79-C501-4FDC-97DD-02ECA5E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C0A2-1FDD-44B6-8E71-12FEBE2A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D20B-10F5-41C0-BDBC-6BEF4EA8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A7E6-1659-4327-AACF-A7E6073C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FB3B-5957-4CA4-B674-B727C4A2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BEF4-1730-4C51-A0F1-4FE3517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3997-5503-4E16-8346-33935AD1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DA5-9821-4A59-84D8-46A7035B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8558-094A-4973-A804-8A8201A1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9124-DFE9-4BF9-91BC-2A829677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188FA-8EB9-4018-B1D2-209FC08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1ABB-5AD7-493E-91F8-CE1D122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F6C8-D812-406B-B188-ABA5FC5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4032-94B6-4DFF-A73D-3FD2D89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E000-9B6C-48B9-AC41-0886D997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5DFE-2A0A-46ED-99F2-FE3B400E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B2CA-E3F0-4CA8-92F7-4EC2B706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92A6-4402-486E-8E21-651E0D63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435-4CE2-48EB-B825-789712C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4EF6-E67C-4CF2-953D-073E406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F2E1-71E0-4395-ACD3-BCAA9F72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2438-ACB3-45A1-BE43-59F663E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7786-33F7-49E0-AB46-9818EB3B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1B6DF-DF0F-4EB8-B908-698B93E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95CD-45D7-4F30-B1E0-29D1EDB9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A9B2E-286C-4F54-A91C-2501067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30A1-EA6C-42C5-B286-A0FB9DF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244A-C409-4EB5-9C50-DBE535D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0CAC-894E-4768-A91E-06BAF1A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F6F-8007-4FF0-AB1C-CAA9D448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ACDF-AFB6-41B9-8FF8-A044E4A7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7FC2-9965-4B99-BFB2-CE43308D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E7F9E-AC0A-4689-9833-B593739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09603-96B7-4C40-A9E5-8E748E2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315B-9A4E-47CE-A59A-DE783B7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374D7-8244-41E8-B760-6A6581D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FCE1-5917-4CFC-82EB-FEDE0EFC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45B9-5A6E-4D22-B6CA-E188EDF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02EC-38AD-4A48-96C6-37AD7B3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6DA58-890A-4C78-8283-841E22C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2EA-8C23-4B82-9304-569F329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C389-18B1-48DB-BE3A-A56219A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8A32-A919-4E34-947A-E8A1B6CE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A032-533B-4FBB-A864-1DE12573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E0757-118E-4DAA-AF72-2FEA8EA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128D-FC87-442C-9464-A0C55E4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6612-4A70-4079-8A43-79020A4E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CC52E-AFCC-4473-9CBE-0FA8058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05679-43E8-4474-AE4E-333DA30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071F-2AAE-4265-A1FF-0936D394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F446B-D31C-44E4-B065-380C39A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BA6-4C4D-446F-99A5-64D95DE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6BA6-BE6B-4838-8659-3BBD9AD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51452-DD6F-4A9E-9C51-B404624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1D288-A8BB-4988-83D0-027D60E2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15CF-397B-4835-905B-1C06527E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FD06-E0FC-421A-8117-ACAFFC2D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136-60F7-46C6-B25A-D50848E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ýseč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3BF3-6231-4387-B75E-33B4AB7FF8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Výseč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élní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AF7-0C11-4014-9972-F43E2D2B88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E86E-C51D-486B-84EF-77919EA46B3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3D49-EA75-48EA-8F4B-ABDC18C325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élní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élní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6F6-5406-4E3F-BEE8-52F0C72BB9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43B1-3A8A-4204-96B7-7E652B1E32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élní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Obdélní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ostup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ostup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571-0B73-47C7-A624-0922140921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szl.cz/~vascak/moje/flashlets/kepler.php" TargetMode="External"/><Relationship Id="rId3" Type="http://schemas.openxmlformats.org/officeDocument/2006/relationships/hyperlink" Target="http://hvezdy.astro.cz/charakteristika/31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20001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Keplerovy zákon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736640" y="45007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Johannes Kepl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il v letech 1571 – 163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stronom, matematik, astrolo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kolik let působil na dvoře císaře Rudolfa II.     v Praze, kde také zformuloval dva ze tří jeho zákon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štěná forma jeho jména: Jan Kepl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Obrázek 3" descr="436px-Johannes_Kepler_1610.jpg"/>
          <p:cNvPicPr/>
          <p:nvPr/>
        </p:nvPicPr>
        <p:blipFill>
          <a:blip r:embed="rId2"/>
          <a:stretch/>
        </p:blipFill>
        <p:spPr>
          <a:xfrm>
            <a:off x="7072200" y="214200"/>
            <a:ext cx="15462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214200"/>
            <a:ext cx="749952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eplerovy zákon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sou tři fyzikální záko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isující pohyb planet kolem Slunce. Platí vša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ecněji pro pohyb libovolného tělesa 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trálním silovém poli, tedy v oblasti působení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jaké dostředivé síl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ze je tedy použít napříkla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na pohyb Měsíce č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mělé družice kolem Země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však s menší přesností, neboť vliv Slunce je 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omto případě nezanedbatelný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1.Keplerův zákon – zákon dra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920"/>
            <a:ext cx="74995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Planety obíhají okolo Slunce po eliptických drahách s malou výstředností, v jejichž jednom společném ohnisku je Slunce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opisuje tvar trajektorií planet pohybujících se v gravitačním po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tento zákon říká, že planety se pohybují po rovinných křivkách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elipsách či kružnicích),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kolem stálého středu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centra)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, což znamená, že vektor zrychlení, a tedy i síla způsobující tento pohyb leží v rovině dráhy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planety se periodicky vzdalují a přibližují ke Slunc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hlavní vrchol elipsy, v němž je planeta nejblíže Slunci se nazývá příslun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perihélium), </a:t>
            </a:r>
            <a:r>
              <a:rPr b="0" lang="cs-CZ" sz="1700" spc="-1" strike="noStrike">
                <a:solidFill>
                  <a:srgbClr val="000000"/>
                </a:solidFill>
                <a:latin typeface="Calibri"/>
              </a:rPr>
              <a:t>hlavní vrchol, v němž je planeta nejdále od Slunce se nazývá odsluní </a:t>
            </a:r>
            <a:r>
              <a:rPr b="1" lang="cs-CZ" sz="1700" spc="-1" strike="noStrike">
                <a:solidFill>
                  <a:srgbClr val="000000"/>
                </a:solidFill>
                <a:latin typeface="Calibri"/>
              </a:rPr>
              <a:t>(afélium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2.Keplerův zákon – zákon plo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sahy ploch opsaných průvodičem planety (spojnice planety a Slunce) za stejný čas jsou stejně velké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ůvodič planety je spojnice hmotného středu planety s hmotným středem Slunce. Velikost i směr průvodiče se při pohybu planety kolem Slunce neustále mění. Průvodič však vždy za stejnou dobu opíše plochu se stejným obsahem. To je důvodem, proč se tento zákon někdy nazývá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ákon plo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yne z něj, že oběžná rychlost planet se zmenšuje se vzrůstající vzdáleností od Slunce (těles od centrálního tělesa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2.Keplerův zá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00080" y="1214280"/>
            <a:ext cx="7934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locha opsaná průvodičem za 1 s je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lošná rychlost,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to lze vyslovit  2.zák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plerův také takto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Plošná rychlost planety je stálá.“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stupná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rychlost planety je největší v perihéli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přísluní),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jmenší v aféli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odsluní). Tato skutečnost a sklon ekliptiky k rovníku způsobují, že sluneční dny nejsou na Zemi během roku stejně dlouhé, a proto musíme používat střední sluneční ča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ůvodič dosahuje největší hodnoty v aféliu 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= a (1+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jmenší v perihéliu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= a (1-e) 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284720" y="3933720"/>
            <a:ext cx="4097160" cy="20289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572000" y="602136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ocha opsaná průvodičem planety za stejný č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2556000" y="5805360"/>
            <a:ext cx="1247760" cy="390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042920" y="5805360"/>
            <a:ext cx="273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r..elementární přírust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…polohový vek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5445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šná rych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3.Keplerův zá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měr druhých mocnin oběžných dob dvou planet je stejný jako poměr třetích mocnin jejich velkých poloos (středních vzdáleností těchto planet od Slunce).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sou oběžné doby dvou plan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jsou délky jejich hlavních poloo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Tento zákon platí v tomto tvaru jen tehdy, jsou-li hmotnosti plane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zanedbatelně malé ve srovnání s hmotností Slunce, což je u plane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luneční soustavy splněno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Obrázek 3" descr="\frac{T_1^2}{T_2^2} = \frac{a_1^3}{a_2^3}"/>
          <p:cNvPicPr/>
          <p:nvPr/>
        </p:nvPicPr>
        <p:blipFill>
          <a:blip r:embed="rId2"/>
          <a:stretch/>
        </p:blipFill>
        <p:spPr>
          <a:xfrm>
            <a:off x="1571760" y="2857680"/>
            <a:ext cx="10476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258560" y="836280"/>
            <a:ext cx="74991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61920" indent="-47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odkazy na java aplet </a:t>
            </a:r>
            <a:r>
              <a:rPr b="0" lang="cs-CZ" sz="4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zd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0" lang="cs-CZ" sz="4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zd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61920" indent="-47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Zástupný symbol pro obsah 3"/>
          <p:cNvSpPr/>
          <p:nvPr/>
        </p:nvSpPr>
        <p:spPr>
          <a:xfrm>
            <a:off x="6156360" y="6381720"/>
            <a:ext cx="287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54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l Smazal P054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4:00:56Z</dcterms:created>
  <dc:creator>Andrea Zoubková</dc:creator>
  <dc:description/>
  <dc:language>en-US</dc:language>
  <cp:lastModifiedBy>SmaZi</cp:lastModifiedBy>
  <dcterms:modified xsi:type="dcterms:W3CDTF">2008-05-16T08:12:15Z</dcterms:modified>
  <cp:revision>16</cp:revision>
  <dc:subject/>
  <dc:title>Keplerovy zákony</dc:title>
</cp:coreProperties>
</file>