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D4E8-4456-4A3C-BE6C-B4CC7DDCC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D311-9DA2-4A62-936A-E799E848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39C4-3B6D-479A-A842-660D4F12C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6701-C7C9-4908-B986-1B873E8D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1388-8117-4AF9-9C01-5C7B1454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9635-9BA5-41A8-9F68-4A94E0E5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D92C-1568-41E0-94F5-58D27FA0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BF9D-05EC-4411-9EB6-314858B1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CF29-C12D-4CD2-BFC3-C5E7C1CE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16C1-CA87-468C-9F56-F7BBD3E0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8ECA-BD76-441E-A595-70D245C5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C877-6B92-48DD-B640-F12018B9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851D-280E-479F-894F-A75A7774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FA67-F1C6-4B4E-AE71-DC09DEFB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280D-40CA-484B-A3DB-7476D3E9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0588-0BD3-42A1-A31D-45B0F8D0F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944C-46A8-4EB6-96CB-205A8A5A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CFC6F-F00D-4D5B-97EF-A464DD57B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E6D4C-74EE-4ADB-9C1C-588F0AD1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74BD2-292E-4D92-B0C8-4370D36F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2A7A8-6DA5-446E-B41D-BB2E30F1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E256A-C1B7-4AF3-9515-4F208200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CB66-05B3-446A-BBC4-0896B540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92F63-9637-4E14-AC84-89A97C29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6A597-8A05-4CF1-8C1C-DB431B74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B54AB-2B5A-498B-9E1C-8A3CEFE2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01DFB-DE02-4E7F-BC22-CEF1A7AB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AD9C0-AA82-47F5-A7BE-E2199845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B4DA9-29A0-4FDC-875F-C5462FED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CF6EB-0D7C-46AF-9456-99F97A79A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08057-AB0C-48DD-B56B-5CFC2C5B9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CF2F9-E0BF-489F-8DC4-ECF9093D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16785-49CA-47AA-AD31-99ABF255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96EB-BA20-4A7D-9651-0A45CDD3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D24C7-66FF-4F6D-ADEC-9FC48071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098D2-BC4D-43AB-9ACD-87B4A325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8E957-3EE3-4399-86AF-2BAF4DDA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068CB-6E5A-4669-B58B-F633116D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EC95E-FA97-4111-9591-EFE18E7F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F0E63-2E02-4486-B998-AB3A6274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15DC7-0997-4BCE-81B9-0867CE4E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ACFA7-51FF-41C6-BE6B-BCD1A6AB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B25C4-D513-40EB-8A8B-549E00C7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B4A32-0A44-48DA-A4A6-29770D52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6891-EE14-4542-A741-9363A30D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87F7F-32B5-4EDD-952B-93B7E48A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1F0FD-7BA0-4BCF-BD72-A695B303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7712B-288A-4F46-8B40-FDEFAB45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A35AE-1196-48A7-BE4B-73440AB3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BE38E-6FB7-4FFC-A7E4-937A4CBA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9028B-AC91-4DD3-A0DD-CA32462D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CBCA4-31C0-4D2E-89D1-9AE4FC0B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98E12-252A-4BBE-9E7E-BC4ED5E9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ABD6A-0C3B-4144-9DCA-D06B35D7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CCCF6-1391-43DD-B95E-C162EDF9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C268-B9F6-4435-B941-2E5BC062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9F17D-1230-46D9-A7C0-03DBB4FA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D7E37-CFFC-441B-8E1A-3136398F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037B5-9165-4987-B154-11523A9B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4C8CD-F264-4BFE-A3FD-038EC5C0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31CB8-497D-4C03-9B45-F68D5C3F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2D763-91CF-4D68-A717-ABE1A534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2BF6A-ADBB-46BD-A9D0-D827F411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7D70A-1A93-4489-A174-55B4FBDC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11B68-5904-4602-BB29-35389C6C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6C7A5-E423-4AC1-BBA8-D0097FB1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4F27-5E9B-46C8-8B1C-44804F40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FD2AE-6FE5-4394-A52D-C37E3B31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F2E39-7A0C-491D-B6C4-AA878277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18E47-1F6B-474A-8230-CCB496DB5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B88FE-AEBF-4E66-A37A-9D5CAD7E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512B9-0E9C-4B81-94CB-0DA46C79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93BB7-1B08-4A0C-B128-94E58256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FD109-5538-462D-93E5-2AF7EFE2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68F4F-4927-4B73-9638-018CAD8B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92FC9-032F-4393-B637-673765DD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3C923-6557-456A-B688-69767671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CE4A-F8B8-4DC4-89B9-BDBB1D4C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87B2C-566E-4B19-829D-CAC0DD35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3A30B-3525-471E-8D38-43A90743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336F0-46A5-48BD-BB86-1C6D72ED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3C29D-F886-4047-824B-9F7991CDA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48FD5-693F-44FE-95DE-574C25C46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DBE2-257B-46CB-97B3-595DD530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ýseč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rstenec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Prstenec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Obdélní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E6F9-9FA8-4275-9646-4FDA911DA8C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Obdélní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Výseč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Prstenec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Prstenec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Obdélní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bdélní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ipsa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Elipsa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ipsa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E9D6-742E-4588-B336-FCE08C088B8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bdélník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Elipsa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Elipsa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Elipsa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FABD-D836-4C7B-B0B5-A09188DE854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1D7C-4D53-4C46-ADD4-4387CE2ACCB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Obdélník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bdélník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A8D4-C56A-4FFE-901E-059FAF9CEF7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9EAB-1EEC-422C-9A69-3A13853523A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Obdélník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Obdélník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Vývojový diagram: postup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Vývojový diagram: postup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AEFA-096C-49FD-86DB-AB351366CDE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szl.cz/~vascak/moje/flashlets/kepler.php" TargetMode="External"/><Relationship Id="rId3" Type="http://schemas.openxmlformats.org/officeDocument/2006/relationships/hyperlink" Target="http://hvezdy.astro.cz/charakteristika/31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28840" y="200016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572314"/>
                </a:solidFill>
                <a:latin typeface="Gill Sans MT"/>
              </a:rPr>
              <a:t>Keplerovy zákon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736640" y="450072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572314"/>
                </a:solidFill>
                <a:latin typeface="Gill Sans MT"/>
              </a:rPr>
              <a:t>Johannes Keple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il v letech 1571 – 163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stronom, matematik, astrolo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ěkolik let působil na dvoře císaře Rudolfa II.     v Praze, kde také zformuloval dva ze tří jeho zákonů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eštěná forma jeho jména: Jan Kepl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2" name="Obrázek 3" descr="436px-Johannes_Kepler_1610.jpg"/>
          <p:cNvPicPr/>
          <p:nvPr/>
        </p:nvPicPr>
        <p:blipFill>
          <a:blip r:embed="rId2"/>
          <a:stretch/>
        </p:blipFill>
        <p:spPr>
          <a:xfrm>
            <a:off x="7072200" y="214200"/>
            <a:ext cx="154620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434960" y="214200"/>
            <a:ext cx="7499520" cy="60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eplerovy zákony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sou tři fyzikální zákon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pisující pohyb planet kolem Slunce. Platí vša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ecněji pro pohyb libovolného tělesa v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entrálním silovém poli, tedy v oblasti působení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ějaké dostředivé síly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Lze je tedy použít napříkla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 na pohyb Měsíce č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mělé družice kolem Země,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však s menší přesností, neboť vliv Slunce je v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omto případě nezanedbatelný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572314"/>
                </a:solidFill>
                <a:latin typeface="Gill Sans MT"/>
              </a:rPr>
              <a:t>1.Keplerův zákon – zákon dra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920"/>
            <a:ext cx="749952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cs-CZ" sz="2600" spc="-1" strike="noStrike">
                <a:solidFill>
                  <a:srgbClr val="000000"/>
                </a:solidFill>
                <a:latin typeface="Calibri"/>
              </a:rPr>
              <a:t>Planety obíhají okolo Slunce po eliptických drahách s malou výstředností, v jejichž jednom společném ohnisku je Slunce.“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popisuje tvar trajektorií planet pohybujících se v gravitačním po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tento zákon říká, že planety se pohybují po rovinných křivkách </a:t>
            </a:r>
            <a:r>
              <a:rPr b="1" lang="cs-CZ" sz="1700" spc="-1" strike="noStrike">
                <a:solidFill>
                  <a:srgbClr val="000000"/>
                </a:solidFill>
                <a:latin typeface="Calibri"/>
              </a:rPr>
              <a:t>(elipsách či kružnicích), </a:t>
            </a: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kolem stálého středu </a:t>
            </a:r>
            <a:r>
              <a:rPr b="1" lang="cs-CZ" sz="1700" spc="-1" strike="noStrike">
                <a:solidFill>
                  <a:srgbClr val="000000"/>
                </a:solidFill>
                <a:latin typeface="Calibri"/>
              </a:rPr>
              <a:t>(centra)</a:t>
            </a: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, což znamená, že vektor zrychlení, a tedy i síla způsobující tento pohyb leží v rovině dráhy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planety se periodicky vzdalují a přibližují ke Slunc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hlavní vrchol elipsy, v němž je planeta nejblíže Slunci se nazývá přísluní </a:t>
            </a:r>
            <a:r>
              <a:rPr b="1" lang="cs-CZ" sz="1700" spc="-1" strike="noStrike">
                <a:solidFill>
                  <a:srgbClr val="000000"/>
                </a:solidFill>
                <a:latin typeface="Calibri"/>
              </a:rPr>
              <a:t>(perihélium), </a:t>
            </a: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hlavní vrchol, v němž je planeta nejdále od Slunce se nazývá odsluní </a:t>
            </a:r>
            <a:r>
              <a:rPr b="1" lang="cs-CZ" sz="1700" spc="-1" strike="noStrike">
                <a:solidFill>
                  <a:srgbClr val="000000"/>
                </a:solidFill>
                <a:latin typeface="Calibri"/>
              </a:rPr>
              <a:t>(afélium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572314"/>
                </a:solidFill>
                <a:latin typeface="Gill Sans MT"/>
              </a:rPr>
              <a:t>2.Keplerův zákon – zákon ploc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Obsahy ploch opsaných průvodičem planety (spojnice planety a Slunce) za stejný čas jsou stejně velké.“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ůvodič planety je spojnice hmotného středu planety s hmotným středem Slunce. Velikost i směr průvodiče se při pohybu planety kolem Slunce neustále mění. Průvodič však vždy za stejnou dobu opíše plochu se stejným obsahem. To je důvodem, proč se tento zákon někdy nazývá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kon ploc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yne z něj, že oběžná rychlost planet se zmenšuje se vzrůstající vzdáleností od Slunce (těles od centrálního tělesa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572314"/>
                </a:solidFill>
                <a:latin typeface="Gill Sans MT"/>
              </a:rPr>
              <a:t>2.Keplerův zák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000080" y="1214280"/>
            <a:ext cx="79344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locha opsaná průvodičem za 1 s je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plošná rychlost, 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to lze vyslovit  2.záko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eplerův také takto: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„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Plošná rychlost planety je stálá.“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stupná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rychlost planety je největší v perihéliu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(přísluní),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nejmenší v aféliu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(odsluní). Tato skutečnost a sklon ekliptiky k rovníku způsobují, že sluneční dny nejsou na Zemi během roku stejně dlouhé, a proto musíme používat střední sluneční čas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ůvodič dosahuje největší hodnoty v aféliu 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Calibri"/>
              </a:rPr>
              <a:t>max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= a (1+e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nejmenší v perihéliu 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Calibri"/>
              </a:rPr>
              <a:t>min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= a (1-e) 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4284720" y="3933720"/>
            <a:ext cx="4097160" cy="20289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572000" y="6021360"/>
            <a:ext cx="41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ocha opsaná průvodičem planety za stejný č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2556000" y="5805360"/>
            <a:ext cx="1247760" cy="3906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042920" y="5805360"/>
            <a:ext cx="273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dr..elementární přírust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r…polohový vek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116000" y="544500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šná rychl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572314"/>
                </a:solidFill>
                <a:latin typeface="Gill Sans MT"/>
              </a:rPr>
              <a:t>3.Keplerův zák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Poměr druhých mocnin oběžných dob dvou planet je stejný jako poměr třetích mocnin jejich velkých poloos (středních vzdáleností těchto planet od Slunce).“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3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sou oběžné doby dvou planet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3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 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jsou délky jejich hlavních poloo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3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Tento zákon platí v tomto tvaru jen tehdy, jsou-li hmotnosti planet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zanedbatelně malé ve srovnání s hmotností Slunce, což je u planet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luneční soustavy splněno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0" name="Obrázek 3" descr="\frac{T_1^2}{T_2^2} = \frac{a_1^3}{a_2^3}"/>
          <p:cNvPicPr/>
          <p:nvPr/>
        </p:nvPicPr>
        <p:blipFill>
          <a:blip r:embed="rId2"/>
          <a:stretch/>
        </p:blipFill>
        <p:spPr>
          <a:xfrm>
            <a:off x="1571760" y="2857680"/>
            <a:ext cx="104760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258560" y="836280"/>
            <a:ext cx="749916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7000"/>
          </a:bodyPr>
          <a:p>
            <a:pPr marL="61920" indent="-47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odkazy na java aplet </a:t>
            </a:r>
            <a:r>
              <a:rPr b="0" lang="cs-CZ" sz="4800" spc="-1" strike="noStrike" u="sng">
                <a:solidFill>
                  <a:srgbClr val="8dc765"/>
                </a:solidFill>
                <a:uFillTx/>
                <a:latin typeface="Arial"/>
                <a:hlinkClick r:id="rId2"/>
              </a:rPr>
              <a:t>zde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61920" indent="-47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nebo </a:t>
            </a:r>
            <a:r>
              <a:rPr b="0" lang="cs-CZ" sz="4800" spc="-1" strike="noStrike" u="sng">
                <a:solidFill>
                  <a:srgbClr val="8dc765"/>
                </a:solidFill>
                <a:uFillTx/>
                <a:latin typeface="Arial"/>
                <a:hlinkClick r:id="rId3"/>
              </a:rPr>
              <a:t>zde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61920" indent="-47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61920" indent="-47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61920" indent="-47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Děkuji za pozornost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Zástupný symbol pro obsah 3"/>
          <p:cNvSpPr/>
          <p:nvPr/>
        </p:nvSpPr>
        <p:spPr>
          <a:xfrm>
            <a:off x="6156360" y="6381720"/>
            <a:ext cx="2879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54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hal Smazal P054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14:00:56Z</dcterms:created>
  <dc:creator>Andrea Zoubková</dc:creator>
  <dc:description/>
  <dc:language>en-US</dc:language>
  <cp:lastModifiedBy>SmaZi</cp:lastModifiedBy>
  <dcterms:modified xsi:type="dcterms:W3CDTF">2008-05-16T08:12:15Z</dcterms:modified>
  <cp:revision>16</cp:revision>
  <dc:subject/>
  <dc:title>Keplerovy zákony</dc:title>
</cp:coreProperties>
</file>