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366-F110-422B-A57A-715C8D8E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DB8-60FF-4128-87F3-8F8FE8D3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139-10BF-4298-83F1-DEE948C0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374-5D50-4EE1-A9B6-AFBEBEBC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B25-F3CD-40FC-82FC-1FE8213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1E0-A375-40EF-84C0-4334D73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039-3036-4145-9B0C-94005FD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7EF-0B9F-46CC-B8AC-D44BF2E5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015-A45A-48DD-B434-5A4414F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64E-F810-4FBA-AAF8-E619717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669-3026-422F-B689-D873458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DB5-353C-46D1-A387-F537E289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75D-9271-4E0A-8A60-CF9545DA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Hubble_Edwin1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Messier60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Andromeda_galaxy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Messier86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Edwin Powell H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ut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man Splí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161928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757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Hubbleův od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ávrhu a stavba mohutného teleskopu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Hale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servatoře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unt Palomar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ůkaz existence vesmíru za hranicí naší gala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sifikace galax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tvrzení platnosti teorie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ig Bang (pomocí jeho výzkumů odvození teorie o počátku vesmí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ubbleův zá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ubleova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Astronomická jednotka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1hubble = 9,4605*1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l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(málo používa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Hubbleův vesmírný teleskop (H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Edwin Hubb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341360"/>
            <a:ext cx="361332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Životo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narodil se 20. listopadu 1889 ve městě Marshfield (Missouri,US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Studium:University of Illinois at Chica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xford University (právo, španělština, litera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Astronomie postgraduálně studoval na observatoři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Yerkes ve Wiscons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bojoval v 1. světové vál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19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začal pracovat na Mt. Wilson Observatory (Californ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3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důkaz, že galaxie nejsou součástí Mléčné drá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5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vytvořil 1. klasifikaci galax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9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Hubbleův zákon o rozpínání vesmí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43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vedoucí armádního balistického progr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zemřel 28. září 1953 ve městě San Marino (Kalifornie, US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ubble u svého dalekohledu"/>
          <p:cNvPicPr/>
          <p:nvPr/>
        </p:nvPicPr>
        <p:blipFill>
          <a:blip r:embed="rId2"/>
          <a:stretch/>
        </p:blipFill>
        <p:spPr>
          <a:xfrm>
            <a:off x="6516720" y="1989000"/>
            <a:ext cx="236700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kládá se vesmír i za hranicí naší galax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 Hubblem nebyly známi galaxie. Všechny mlhavé objekty se označovali jako mlhov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jev proměnných hvěz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δ Cephe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galaxii v Andromedě a výpočet vzdálenosti = galaxie v Andromedě není součástí naší gala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počet vzdálenosti pomocí vztahu mezi zdánlivou hvězdnou velikostí a zářivým výkonem Ceph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Eliptické galaxie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: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jejich tvar připomíná elip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značují se písmenem E k němuž je připojeno číslo 0–7 vyjadřující výstřednost elipsy (E7 nejvíce zploštěl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M110 v Andromedě, M60, M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Eliptická galaxie M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739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899320" y="3938760"/>
            <a:ext cx="1535040" cy="218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Book Antiqua"/>
              </a:rPr>
              <a:t>Spirální galaxie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: Pro tento druh galaxií jsou typická výrazná spirální ramena, která vycházejí z galaktického jád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Označují se písmenem </a:t>
            </a:r>
            <a:r>
              <a:rPr b="1" lang="cs-CZ" sz="1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za nímž následuje písmeno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nebo</a:t>
            </a:r>
            <a:r>
              <a:rPr b="0" lang="cs-CZ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. Tato písmena určují velikost jádra a rozvinutí ramen galax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a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ohutné jádro s těsně navinutými ram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b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enší jádro s rameny více otevřený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c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álo výrazné jádro s rameny daleko odvinutý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M31, M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pirální galaxie M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739880"/>
            <a:ext cx="23130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232360" cy="174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Spirální galaxie s příčkou: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tvar  podobný spirálním galaxiím ale spirální ramena u nich nevycházejí z galaktického jádra, ale vybíhají z konců galaktické příč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značují se písmeny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a podle otevření ramen se (podobně jako spirální galaxie) dělí na tři podskupin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a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těsně navinutá ra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b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více otevřená ra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c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ramena daleko odvinut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NGC 1300, Maffei 2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33396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Čočkové galaxie: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tvoří přechodný typ mezi eliptickou a spirální galax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Tyto galaxie se podobají spirálním galaxiím s výrazným jádrem a diskem, který však postrádá spirální struktu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značují se 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Zástupci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8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Čočková galaxie M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916280"/>
            <a:ext cx="2735280" cy="27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Klasifikace galaxií"/>
          <p:cNvPicPr/>
          <p:nvPr/>
        </p:nvPicPr>
        <p:blipFill>
          <a:blip r:embed="rId2"/>
          <a:stretch/>
        </p:blipFill>
        <p:spPr>
          <a:xfrm>
            <a:off x="611280" y="1413000"/>
            <a:ext cx="7921440" cy="511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zpínání vesmír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Měření vzdáleností známých galax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užití Dopplerova jevu(rudý posuv ve spektr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Hubbleův zákon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Čím jsou galaxie vzdálenější od Země, tím rychleji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se od ní vzdalu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matematická formulace: </a:t>
            </a:r>
            <a:r>
              <a:rPr b="0" lang="cs-CZ" sz="2500" spc="-1" strike="noStrike">
                <a:solidFill>
                  <a:srgbClr val="ff0000"/>
                </a:solidFill>
                <a:latin typeface="Book Antiqua"/>
              </a:rPr>
              <a:t>v = c * z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c = rychlost svět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 = velikost rudého posuvu v nm (nanometr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 = rychlost vzdalování v km/s</a:t>
            </a:r>
            <a:r>
              <a:rPr b="0" lang="cs-CZ" sz="1800" spc="-1" strike="noStrike" baseline="30000">
                <a:solidFill>
                  <a:srgbClr val="ffffff"/>
                </a:solidFill>
                <a:latin typeface="Book Antiqu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ubbleova konstanta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eličina určující, o kolik se zvětší rychlost vzdalování (v km/s) vzdáleného vesmírného objektu, když jeho vzdálenost vzroste o megapars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2:38:40Z</dcterms:created>
  <dc:creator>Roman</dc:creator>
  <dc:description/>
  <dc:language>en-US</dc:language>
  <cp:lastModifiedBy>Roman</cp:lastModifiedBy>
  <dcterms:modified xsi:type="dcterms:W3CDTF">2007-10-31T17:33:23Z</dcterms:modified>
  <cp:revision>6</cp:revision>
  <dc:subject/>
  <dc:title>Edwin Powell Hubble</dc:title>
</cp:coreProperties>
</file>