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59A0-263C-4DB3-A7C6-90012D40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BA1C3-4BAA-4976-96E4-C6115796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A9A7-8F0F-41A7-9689-C7A082F8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9F54-C77F-485C-8004-E09E1369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8E21-2EA1-4378-8D9B-D1427D15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382B-BA4D-4078-BAEF-D90073A7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C898-32BB-4AC7-A3A9-DC78790C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1CE0-8E5D-41F9-B05F-E22916FC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D752-E7F2-4B81-802E-3F468AD0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47BE-0FB7-4ED0-8B4C-214F5AD2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CC2D-8F7A-4D50-8F52-3BCC9E6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13ED-93B8-4346-8ED6-659F2D70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C7D4-D25B-4CBE-8EB2-F619C043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1FEB-4129-4C0E-8501-F1A6CDF7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34AE-5FC9-4DF6-B6DC-2A644F00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0E46-80AF-47D7-A59D-3CAD370A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20A8-D07F-43E8-A7BE-4483FD3A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85ED-2E30-435D-8DC7-4A50C5BC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5F66-8734-4172-B61C-728676E9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EE39-355D-40FF-958C-365DF780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AC13-339A-45DA-A165-9D7A7461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291A-E610-4CEF-A0B9-EBF74E04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5EA0-4E83-47B0-91EA-22DA25AF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E200-4B0B-459F-B3A5-543C5FD7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2CA9-72DD-4C0C-9F22-322B948315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0BA4-160B-4740-B85C-4C58143BD2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fert@kof.zcu.cz" TargetMode="External"/><Relationship Id="rId2" Type="http://schemas.openxmlformats.org/officeDocument/2006/relationships/hyperlink" Target="http://home.zcu.cz/~lfert" TargetMode="External"/><Relationship Id="rId3" Type="http://schemas.openxmlformats.org/officeDocument/2006/relationships/hyperlink" Target="http://home.zcu.cz/~lfert" TargetMode="External"/><Relationship Id="rId4" Type="http://schemas.openxmlformats.org/officeDocument/2006/relationships/hyperlink" Target="http://home.zcu.cz/~lfert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KOF / FI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Kontakt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Lukáš Feř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E-mail: </a:t>
            </a:r>
            <a:r>
              <a:rPr b="0" lang="cs-CZ" sz="2800" spc="-1" strike="noStrike" u="sng">
                <a:solidFill>
                  <a:srgbClr val="3399ff"/>
                </a:solidFill>
                <a:uFillTx/>
                <a:latin typeface="Impact"/>
                <a:hlinkClick r:id="rId1"/>
              </a:rPr>
              <a:t>lfert@kof.zcu.cz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Kancelář: kl410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Domovské sránky: </a:t>
            </a:r>
            <a:r>
              <a:rPr b="0" lang="cs-CZ" sz="2800" spc="-1" strike="noStrike" u="sng">
                <a:solidFill>
                  <a:srgbClr val="3399ff"/>
                </a:solidFill>
                <a:uFillTx/>
                <a:latin typeface="Impact"/>
                <a:hlinkClick r:id="rId2"/>
              </a:rPr>
              <a:t>home.zcu.cz/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Impact"/>
                <a:hlinkClick r:id="rId3"/>
              </a:rPr>
              <a:t>~</a:t>
            </a:r>
            <a:r>
              <a:rPr b="0" lang="cs-CZ" sz="2800" spc="-1" strike="noStrike" u="sng">
                <a:solidFill>
                  <a:srgbClr val="3399ff"/>
                </a:solidFill>
                <a:uFillTx/>
                <a:latin typeface="Impact"/>
                <a:hlinkClick r:id="rId4"/>
              </a:rPr>
              <a:t>lfe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Cíl a smysl předmětu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Vytvořit rozcestník fyzikálních odkazů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Impact"/>
              </a:rPr>
              <a:t>mít na internetu několik typů, kam sáhnout…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snadnění učitelské prax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Zápočet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Odprezentovat pomocí prezentace jednu konkrétní látku z fyziky (Archimédův zákon, síla, Slunce, …) jako přípravu do hodin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990720" indent="-53352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Odkazy na java aplety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1" marL="990720" indent="-53352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Odkazy na www stránky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1" marL="990720" indent="-53352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Ilustrující video (popularizující pořad) nebo pokus ve virtuální laboratoři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1" marL="990720" indent="-53352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Použité weby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Zápočet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Poslat seznam odkazů (se sejmutou obrazovkou) s popisem, na co jsou stránky zaměřené a pro koho jsou určené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3 x java aplet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5 x web vhodý pro výuku fyziky na ZŠ nebo SŠ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1 x virtuální laboratoř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2 x freeware program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57340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Poznámka: Jednou poslaný odkaz již nebude u ostatních brán v pota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Průběh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1 x za 14 dní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ukázka několika zajímavých webů (www, aplety, …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poskytnutí www adres na domovské adres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Témata seminářů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Web pro ZŠ + SŠ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Obecné fyzikální web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Aplet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Vide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Virtuální laboratoře + program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Výstupové prezenta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Termíny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22. 2.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úvodní hodina + web ZŠ + SŠ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7. 3.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obecné fyzikální web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Impact"/>
              </a:rPr>
              <a:t>21.3.</a:t>
            </a:r>
            <a:r>
              <a:rPr b="0" lang="cs-CZ" sz="2800" spc="-1" strike="noStrike">
                <a:solidFill>
                  <a:srgbClr val="ffcc00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cc00"/>
                </a:solidFill>
                <a:latin typeface="Impact"/>
              </a:rPr>
              <a:t>prázdnin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28. 3.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aplet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11. 4.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vide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25. 4.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programy + virtuální laboratoř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9. 5.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výstupové prezentace  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4:07:03Z</dcterms:created>
  <dc:creator>Lukáš Feřt</dc:creator>
  <dc:description/>
  <dc:language>en-US</dc:language>
  <cp:lastModifiedBy>Lukáš Feřt</cp:lastModifiedBy>
  <dcterms:modified xsi:type="dcterms:W3CDTF">2008-02-22T14:49:54Z</dcterms:modified>
  <cp:revision>6</cp:revision>
  <dc:subject/>
  <dc:title>KOF / FI</dc:title>
</cp:coreProperties>
</file>