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462E-BB71-4562-97AB-E93B650E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27CD-2F48-4BC1-B819-80F41942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0F74-E533-4E22-99A5-AFAD7574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86E1-79DC-4BFC-B870-7D0158FE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E05E-8694-49B1-90B7-9A945EA0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2AE-EDD9-490D-B24E-F61A1BFA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9BC8-50C5-4957-BCED-1B09DBB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2140-BD4A-49AE-B1D8-994D5948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0862-31F8-49B8-AEBD-A4E35310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3CC0-BF82-4D8D-ACD5-CA5FABD9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43B5-B561-4A6E-B812-FED8CA4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B1B7-B934-429B-AE1F-A94FE571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0B30-B6A4-481C-8A52-9EAFE822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A389-9F70-426E-BA80-C30E2CC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4295-51EE-46C7-9B47-00E71D07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328E-7BC1-4E74-9680-0758AF09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EB5-8BB6-4E32-899A-532E3CF8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787C-6778-42FD-AFDC-F4C9395D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9AAB-8031-42B1-B6C9-B08D1B62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5703-96A2-4A98-9EF9-92A0E142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1F30-7345-43C5-BFA1-0BA6ED1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E549-F5E7-4C4D-B0F5-3BCACFF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44CA-5705-47E8-8BD2-09C59799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AF9B-0DCC-441B-9140-863EF148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BD79-EE38-4444-80D1-184B2B8790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40C2-C2C9-4251-A72A-876EDA5EF8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fert@kof.zcu.cz" TargetMode="External"/><Relationship Id="rId2" Type="http://schemas.openxmlformats.org/officeDocument/2006/relationships/hyperlink" Target="http://home.zcu.cz/~lfert" TargetMode="External"/><Relationship Id="rId3" Type="http://schemas.openxmlformats.org/officeDocument/2006/relationships/hyperlink" Target="http://home.zcu.cz/~lfert" TargetMode="External"/><Relationship Id="rId4" Type="http://schemas.openxmlformats.org/officeDocument/2006/relationships/hyperlink" Target="http://home.zcu.cz/~lfert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Impact"/>
              </a:rPr>
              <a:t>KOF / FI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Kontakt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Lukáš Feř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E-mail: </a:t>
            </a:r>
            <a:r>
              <a:rPr b="0" lang="cs-CZ" sz="2800" spc="-1" strike="noStrike" u="sng">
                <a:solidFill>
                  <a:srgbClr val="3399ff"/>
                </a:solidFill>
                <a:uFillTx/>
                <a:latin typeface="Impact"/>
                <a:hlinkClick r:id="rId1"/>
              </a:rPr>
              <a:t>lfert@kof.zcu.cz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Kancelář: kl410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Domovské sránky: </a:t>
            </a:r>
            <a:r>
              <a:rPr b="0" lang="cs-CZ" sz="2800" spc="-1" strike="noStrike" u="sng">
                <a:solidFill>
                  <a:srgbClr val="3399ff"/>
                </a:solidFill>
                <a:uFillTx/>
                <a:latin typeface="Impact"/>
                <a:hlinkClick r:id="rId2"/>
              </a:rPr>
              <a:t>home.zcu.cz/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Impact"/>
                <a:hlinkClick r:id="rId3"/>
              </a:rPr>
              <a:t>~</a:t>
            </a:r>
            <a:r>
              <a:rPr b="0" lang="cs-CZ" sz="2800" spc="-1" strike="noStrike" u="sng">
                <a:solidFill>
                  <a:srgbClr val="3399ff"/>
                </a:solidFill>
                <a:uFillTx/>
                <a:latin typeface="Impact"/>
                <a:hlinkClick r:id="rId4"/>
              </a:rPr>
              <a:t>lfe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Cíl a smysl předmětu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Vytvořit rozcestník fyzikálních odkazů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Impact"/>
              </a:rPr>
              <a:t>mít na internetu několik typů, kam sáhnout…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snadnění učitelské prax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Zápočet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Odprezentovat pomocí prezentace jednu konkrétní látku z fyziky (Archimédův zákon, síla, Slunce, …) jako přípravu do hodin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990720" indent="-53352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Odkazy na java aplety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90720" indent="-53352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Odkazy na www stránky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90720" indent="-53352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Ilustrující video (popularizující pořad) nebo pokus ve virtuální laboratoři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90720" indent="-53352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Použité weby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Zápočet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Poslat seznam odkazů (se sejmutou obrazovkou) s popisem, na co jsou stránky zaměřené a pro koho jsou určené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3 x java aplet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5 x web vhodý pro výuku fyziky na ZŠ nebo SŠ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1 x virtuální laboratoř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Impact"/>
              </a:rPr>
              <a:t>2 x freeware program</a:t>
            </a:r>
            <a:endParaRPr b="0" lang="en-US" sz="25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5734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oznámka: Jednou poslaný odkaz již nebude u ostatních brán v pota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Průběh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1 x za 14 dní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ukázka několika zajímavých webů (www, aplety, …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poskytnutí www adres na domovské adres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Témata seminářů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Web pro ZŠ + SŠ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Obecné fyzikální web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Aple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ide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irtuální laboratoře + program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609480" indent="-609480">
              <a:spcBef>
                <a:spcPts val="700"/>
              </a:spcBef>
              <a:buClr>
                <a:srgbClr val="0078f0"/>
              </a:buClr>
              <a:buSzPct val="85000"/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ýstupové prezenta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Impact"/>
              </a:rPr>
              <a:t>Termíny</a:t>
            </a:r>
            <a:endParaRPr b="0" lang="en-US" sz="39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22. 2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úvodní hodina + web ZŠ + SŠ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7. 3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obecné fyzikální web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Impact"/>
              </a:rPr>
              <a:t>21.3.</a:t>
            </a:r>
            <a:r>
              <a:rPr b="0" lang="cs-CZ" sz="2800" spc="-1" strike="noStrike">
                <a:solidFill>
                  <a:srgbClr val="ffcc00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cc00"/>
                </a:solidFill>
                <a:latin typeface="Impact"/>
              </a:rPr>
              <a:t>prázdnin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28. 3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aple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11. 4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ide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25. 4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programy + virtuální laboratoř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9. 5.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Impact"/>
              </a:rPr>
              <a:t>výstupové prezentace  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4:07:03Z</dcterms:created>
  <dc:creator>Lukáš Feřt</dc:creator>
  <dc:description/>
  <dc:language>en-US</dc:language>
  <cp:lastModifiedBy>Lukáš Feřt</cp:lastModifiedBy>
  <dcterms:modified xsi:type="dcterms:W3CDTF">2008-02-22T14:49:54Z</dcterms:modified>
  <cp:revision>6</cp:revision>
  <dc:subject/>
  <dc:title>KOF / FI</dc:title>
</cp:coreProperties>
</file>