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7.jpeg" ContentType="image/jpeg"/>
  <Override PartName="/ppt/media/image36.png" ContentType="image/png"/>
  <Override PartName="/ppt/media/image34.png" ContentType="image/png"/>
  <Override PartName="/ppt/media/image27.png" ContentType="image/png"/>
  <Override PartName="/ppt/media/image3.jpeg" ContentType="image/jpeg"/>
  <Override PartName="/ppt/media/image60.jpeg" ContentType="image/jpeg"/>
  <Override PartName="/ppt/media/image1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24.png" ContentType="image/png"/>
  <Override PartName="/ppt/media/image61.jpeg" ContentType="image/jpeg"/>
  <Override PartName="/ppt/media/image4.png" ContentType="image/png"/>
  <Override PartName="/ppt/media/image16.png" ContentType="image/png"/>
  <Override PartName="/ppt/media/image26.jpeg" ContentType="image/jpeg"/>
  <Override PartName="/ppt/media/image25.jpeg" ContentType="image/jpeg"/>
  <Override PartName="/ppt/media/image32.png" ContentType="image/png"/>
  <Override PartName="/ppt/media/image37.png" ContentType="image/png"/>
  <Override PartName="/ppt/media/image6.png" ContentType="image/png"/>
  <Override PartName="/ppt/media/image18.png" ContentType="image/png"/>
  <Override PartName="/ppt/media/image11.jpeg" ContentType="image/jpeg"/>
  <Override PartName="/ppt/media/image28.jpeg" ContentType="image/jpeg"/>
  <Override PartName="/ppt/media/image22.png" ContentType="image/png"/>
  <Override PartName="/ppt/media/image59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62.jpeg" ContentType="image/jpeg"/>
  <Override PartName="/ppt/media/image7.png" ContentType="image/png"/>
  <Override PartName="/ppt/media/image19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38.png" ContentType="image/png"/>
  <Override PartName="/ppt/media/image39.png" ContentType="image/png"/>
  <Override PartName="/ppt/media/image8.png" ContentType="image/png"/>
  <Override PartName="/ppt/media/image42.wmf" ContentType="image/x-wmf"/>
  <Override PartName="/ppt/media/image12.jpeg" ContentType="image/jpeg"/>
  <Override PartName="/ppt/media/image29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50.jpeg" ContentType="image/jpeg"/>
  <Override PartName="/ppt/media/image52.png" ContentType="image/png"/>
  <Override PartName="/ppt/media/image56.png" ContentType="image/png"/>
  <Override PartName="/ppt/media/image40.jpeg" ContentType="image/jpeg"/>
  <Override PartName="/ppt/media/image13.wmf" ContentType="image/x-wmf"/>
  <Override PartName="/ppt/media/image10.jpeg" ContentType="image/jpeg"/>
  <Override PartName="/ppt/media/image54.wmf" ContentType="image/x-wmf"/>
  <Override PartName="/ppt/media/image30.jpeg" ContentType="image/jpeg"/>
  <Override PartName="/ppt/media/image33.png" ContentType="image/png"/>
  <Override PartName="/ppt/media/image44.png" ContentType="image/png"/>
  <Override PartName="/ppt/media/image9.png" ContentType="image/png"/>
  <Override PartName="/ppt/media/image43.wmf" ContentType="image/x-wmf"/>
  <Override PartName="/ppt/media/image45.wmf" ContentType="image/x-wmf"/>
  <Override PartName="/ppt/media/image46.png" ContentType="image/png"/>
  <Override PartName="/ppt/media/image47.png" ContentType="image/png"/>
  <Override PartName="/ppt/media/image48.png" ContentType="image/png"/>
  <Override PartName="/ppt/media/image51.wmf" ContentType="image/x-wmf"/>
  <Override PartName="/ppt/media/image49.wmf" ContentType="image/x-wmf"/>
  <Override PartName="/ppt/media/image53.png" ContentType="image/png"/>
  <Override PartName="/ppt/media/image5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7756-6D0D-4A95-ACE5-956E120D2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D663-4BAE-461F-9BEF-791F64D39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94E8-178B-4925-827D-565B6BF39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8599-47D6-400F-BF49-7B7497EDB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8560" y="6554880"/>
            <a:ext cx="43714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Copyright © 2004 by The McGraw-Hill Companies, Inc.  All rights reserved.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219800" y="0"/>
            <a:ext cx="169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53360" y="343080"/>
            <a:ext cx="135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914400" cy="712800"/>
          </a:xfrm>
          <a:prstGeom prst="rect">
            <a:avLst/>
          </a:prstGeom>
          <a:ln w="0">
            <a:noFill/>
          </a:ln>
          <a:effectLst>
            <a:outerShdw dist="81185" dir="8478030" blurRad="0" rotWithShape="0">
              <a:srgbClr val="808080"/>
            </a:outerShdw>
          </a:effectLst>
        </p:spPr>
      </p:pic>
      <p:sp>
        <p:nvSpPr>
          <p:cNvPr id="4" name=""/>
          <p:cNvSpPr txBox="1"/>
          <p:nvPr/>
        </p:nvSpPr>
        <p:spPr>
          <a:xfrm>
            <a:off x="457200" y="25560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9963564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" name=""/>
          <p:cNvSpPr/>
          <p:nvPr/>
        </p:nvSpPr>
        <p:spPr>
          <a:xfrm>
            <a:off x="7010280" y="304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- </a:t>
            </a:r>
            <a:fld id="{892B9184-6E4C-4D5B-ABEB-ADF207297F81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spcBef>
                <a:spcPts val="601"/>
              </a:spcBef>
              <a:buClr>
                <a:srgbClr val="404960"/>
              </a:buClr>
              <a:buSzPct val="6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25720">
              <a:spcBef>
                <a:spcPts val="550"/>
              </a:spcBef>
              <a:buClr>
                <a:srgbClr val="990000"/>
              </a:buClr>
              <a:buSzPct val="6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160" indent="-22536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2440" indent="-218880">
              <a:spcBef>
                <a:spcPts val="451"/>
              </a:spcBef>
              <a:buClr>
                <a:srgbClr val="990000"/>
              </a:buClr>
              <a:buSzPct val="65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4880" indent="-230040">
              <a:spcBef>
                <a:spcPts val="451"/>
              </a:spcBef>
              <a:buClr>
                <a:srgbClr val="404960"/>
              </a:buClr>
              <a:buSzPct val="65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4880" indent="-23004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4880" indent="-23004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21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1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43.wmf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http://www.mcgrawhill.ca/college/lind" TargetMode="External"/><Relationship Id="rId2" Type="http://schemas.openxmlformats.org/officeDocument/2006/relationships/hyperlink" Target="http://www.mcgrawhill.ca/college/lind" TargetMode="External"/><Relationship Id="rId3" Type="http://schemas.openxmlformats.org/officeDocument/2006/relationships/hyperlink" Target="http://www.mcgrawhill.ca/college/lind" TargetMode="External"/><Relationship Id="rId4" Type="http://schemas.openxmlformats.org/officeDocument/2006/relationships/hyperlink" Target="http://www.mcgrawhill.ca/college/lind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59.pn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Lind%20Cover%20Huge" descr=""/>
          <p:cNvPicPr/>
          <p:nvPr/>
        </p:nvPicPr>
        <p:blipFill>
          <a:blip r:embed="rId1"/>
          <a:stretch/>
        </p:blipFill>
        <p:spPr>
          <a:xfrm>
            <a:off x="2209680" y="444600"/>
            <a:ext cx="4614840" cy="5781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59080" y="2652840"/>
            <a:ext cx="6567480" cy="1099440"/>
          </a:xfrm>
          <a:prstGeom prst="rect">
            <a:avLst/>
          </a:prstGeom>
          <a:gradFill rotWithShape="0">
            <a:gsLst>
              <a:gs pos="0">
                <a:srgbClr val="ff3101"/>
              </a:gs>
              <a:gs pos="100000">
                <a:srgbClr val="7516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64600" dir="101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eac5"/>
                </a:solidFill>
                <a:latin typeface="Times New Roman"/>
              </a:rPr>
              <a:t>Describing Dat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314360" y="1476360"/>
            <a:ext cx="6455160" cy="1312920"/>
            <a:chOff x="1314360" y="1476360"/>
            <a:chExt cx="6455160" cy="1312920"/>
          </a:xfrm>
        </p:grpSpPr>
        <p:sp>
          <p:nvSpPr>
            <p:cNvPr id="54" name=""/>
            <p:cNvSpPr/>
            <p:nvPr/>
          </p:nvSpPr>
          <p:spPr>
            <a:xfrm>
              <a:off x="1780560" y="1812600"/>
              <a:ext cx="5988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90000"/>
                  </a:solidFill>
                  <a:latin typeface="Times New Roman"/>
                </a:rPr>
                <a:t>requency </a:t>
              </a:r>
              <a:r>
                <a:rPr b="1" lang="en-US" sz="4800" spc="-1" strike="noStrike">
                  <a:solidFill>
                    <a:srgbClr val="990000"/>
                  </a:solidFill>
                  <a:latin typeface="Times New Roman"/>
                </a:rPr>
                <a:t>Distribution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14360" y="1476360"/>
              <a:ext cx="693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60400" y="3843360"/>
            <a:ext cx="748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Times New Roman"/>
              </a:rPr>
              <a:t>Graphic Present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38560" y="3333600"/>
            <a:ext cx="4968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496" dir="9225519" blurRad="0" rotWithShape="0">
                    <a:srgbClr val="000000"/>
                  </a:outerShdw>
                </a:effectLst>
                <a:latin typeface="Times New Roman"/>
              </a:rPr>
              <a:t>&amp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28496" dir="9225519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87480" y="6610320"/>
            <a:ext cx="43624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Copyright © 2003 by The McGraw-Hill Companies, Inc.  All rights reserve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324160" y="5410080"/>
            <a:ext cx="43909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5929" dir="7428877" blurRad="0" rotWithShape="0">
                    <a:srgbClr val="ffffcc"/>
                  </a:outerShdw>
                </a:effectLst>
                <a:latin typeface="Copper Black"/>
              </a:rPr>
              <a:t>Chapter 2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5929" dir="7428877" blurRad="0" rotWithShape="0">
                  <a:srgbClr val="ffffcc"/>
                </a:outerShdw>
              </a:effectLst>
              <a:latin typeface="Copper Black"/>
              <a:ea typeface="Copper Black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1852560" y="247680"/>
            <a:ext cx="5497560" cy="628200"/>
            <a:chOff x="1852560" y="247680"/>
            <a:chExt cx="5497560" cy="628200"/>
          </a:xfrm>
        </p:grpSpPr>
        <p:sp>
          <p:nvSpPr>
            <p:cNvPr id="205" name=""/>
            <p:cNvSpPr/>
            <p:nvPr/>
          </p:nvSpPr>
          <p:spPr>
            <a:xfrm>
              <a:off x="2743200" y="287280"/>
              <a:ext cx="460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Determin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the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lass wid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1852560" y="247680"/>
              <a:ext cx="537840" cy="628200"/>
              <a:chOff x="1852560" y="247680"/>
              <a:chExt cx="537840" cy="628200"/>
            </a:xfrm>
          </p:grpSpPr>
          <p:sp>
            <p:nvSpPr>
              <p:cNvPr id="207" name=""/>
              <p:cNvSpPr/>
              <p:nvPr/>
            </p:nvSpPr>
            <p:spPr>
              <a:xfrm>
                <a:off x="1852560" y="247680"/>
                <a:ext cx="537840" cy="62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40186" dir="11896359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2005920" y="326160"/>
                <a:ext cx="326880" cy="470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Comic Sans MS"/>
                  </a:rPr>
                  <a:t>2.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  <a:ea typeface="Comic Sans MS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1552680" y="1314360"/>
            <a:ext cx="607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rally, the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class wid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houl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 the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same size for all classe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209680" y="2460600"/>
            <a:ext cx="4762800" cy="1015920"/>
            <a:chOff x="2209680" y="2460600"/>
            <a:chExt cx="4762800" cy="1015920"/>
          </a:xfrm>
        </p:grpSpPr>
        <p:sp>
          <p:nvSpPr>
            <p:cNvPr id="211" name=""/>
            <p:cNvSpPr/>
            <p:nvPr/>
          </p:nvSpPr>
          <p:spPr>
            <a:xfrm>
              <a:off x="2209680" y="2460600"/>
              <a:ext cx="4762800" cy="97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efefe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20920" y="2517840"/>
              <a:ext cx="454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lass width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gt;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ax 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-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M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10200" y="2955960"/>
              <a:ext cx="83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7912ea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430ea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124600" y="3981600"/>
            <a:ext cx="34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33.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10.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/ </a:t>
            </a:r>
            <a:r>
              <a:rPr b="1" lang="en-US" sz="2800" spc="-1" strike="noStrike">
                <a:solidFill>
                  <a:srgbClr val="7912ea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4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5029200"/>
            <a:ext cx="3353040" cy="94716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fore, use        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class siz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5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817800"/>
            <a:ext cx="4495680" cy="278028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19669" dir="73181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12ea"/>
                </a:solidFill>
                <a:latin typeface="Times New Roman"/>
              </a:rPr>
              <a:t>15.0,  23.7,  19.7,  15.4,  18.3,  23.0,  14.2,  20.8,  13.5,  20.7,  17.4,  18.6,  12.9,  20.3,  13.7,  21.4,  18.3,  29.8,  17.1,  18.9,  10.3,  26.1,  15.7,  14.0,  17.8,  33.8,  23.2,  12.9,  27.1,  16.6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6360" y="532296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10.3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6360" y="570384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33.8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7160" y="25606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21120" y="256068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533680" y="892080"/>
            <a:ext cx="4629240" cy="261720"/>
            <a:chOff x="2533680" y="892080"/>
            <a:chExt cx="4629240" cy="261720"/>
          </a:xfrm>
        </p:grpSpPr>
        <p:sp>
          <p:nvSpPr>
            <p:cNvPr id="222" name=""/>
            <p:cNvSpPr/>
            <p:nvPr/>
          </p:nvSpPr>
          <p:spPr>
            <a:xfrm>
              <a:off x="2533680" y="978840"/>
              <a:ext cx="4629240" cy="87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50200" y="892080"/>
              <a:ext cx="129960" cy="261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10480" y="3540240"/>
            <a:ext cx="837720" cy="52056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81185" dir="77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430ea"/>
                </a:solidFill>
                <a:latin typeface="Times New Roman"/>
              </a:rPr>
              <a:t>K=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75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19040" y="1457280"/>
            <a:ext cx="4076640" cy="180036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9718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imum 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10.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refore,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 star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a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0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91040" y="4076640"/>
            <a:ext cx="1581120" cy="1922760"/>
          </a:xfrm>
          <a:prstGeom prst="rect">
            <a:avLst/>
          </a:prstGeom>
          <a:solidFill>
            <a:srgbClr val="ffeac5"/>
          </a:solidFill>
          <a:ln w="9360">
            <a:solidFill>
              <a:srgbClr val="000000"/>
            </a:solidFill>
            <a:miter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10.0 – 1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15.0 – 19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20.0 – 2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25.0 – 29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30.0 – 3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48280" y="2247840"/>
            <a:ext cx="3448080" cy="100800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9718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eac5"/>
                </a:solidFill>
                <a:latin typeface="Times New Roman"/>
              </a:rPr>
              <a:t>Lower</a:t>
            </a:r>
            <a:r>
              <a:rPr b="1" lang="en-US" sz="3200" spc="-1" strike="noStrike">
                <a:solidFill>
                  <a:srgbClr val="ffeac5"/>
                </a:solidFill>
                <a:latin typeface="Times New Roman"/>
              </a:rPr>
              <a:t> class </a:t>
            </a:r>
            <a:r>
              <a:rPr b="1" i="1" lang="en-US" sz="3200" spc="-1" strike="noStrike">
                <a:solidFill>
                  <a:srgbClr val="ffeac5"/>
                </a:solidFill>
                <a:latin typeface="Times New Roman"/>
              </a:rPr>
              <a:t>limits</a:t>
            </a:r>
            <a:r>
              <a:rPr b="1" lang="en-US" sz="2400" spc="-1" strike="noStrike">
                <a:solidFill>
                  <a:srgbClr val="ffeac5"/>
                </a:solidFill>
                <a:latin typeface="Times New Roman"/>
              </a:rPr>
              <a:t> will be:  </a:t>
            </a:r>
            <a:r>
              <a:rPr b="1" lang="en-US" sz="2800" spc="-1" strike="noStrike">
                <a:solidFill>
                  <a:srgbClr val="ffeac5"/>
                </a:solidFill>
                <a:latin typeface="Times New Roman"/>
              </a:rPr>
              <a:t>10, 15, 20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00560" y="3600360"/>
            <a:ext cx="11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48320" y="3524400"/>
            <a:ext cx="628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24800" y="4057560"/>
            <a:ext cx="2247840" cy="1983600"/>
          </a:xfrm>
          <a:prstGeom prst="rect">
            <a:avLst/>
          </a:prstGeom>
          <a:solidFill>
            <a:srgbClr val="ffeac5"/>
          </a:solidFill>
          <a:ln w="9360">
            <a:solidFill>
              <a:srgbClr val="000000"/>
            </a:solidFill>
            <a:miter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10.0 </a:t>
            </a:r>
            <a:r>
              <a:rPr b="1" lang="en-US" sz="2000" spc="-1" strike="noStrike">
                <a:solidFill>
                  <a:srgbClr val="040000"/>
                </a:solidFill>
                <a:latin typeface="Times New Roman"/>
              </a:rPr>
              <a:t>to</a:t>
            </a:r>
            <a:r>
              <a:rPr b="1" i="1" lang="en-US" sz="2000" spc="-1" strike="noStrike">
                <a:solidFill>
                  <a:srgbClr val="04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40000"/>
                </a:solidFill>
                <a:latin typeface="Times New Roman"/>
              </a:rPr>
              <a:t>under</a:t>
            </a: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15.0 </a:t>
            </a:r>
            <a:r>
              <a:rPr b="1" lang="en-US" sz="2000" spc="-1" strike="noStrike">
                <a:solidFill>
                  <a:srgbClr val="040000"/>
                </a:solidFill>
                <a:latin typeface="Times New Roman"/>
              </a:rPr>
              <a:t>to</a:t>
            </a: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40000"/>
                </a:solidFill>
                <a:latin typeface="Times New Roman"/>
              </a:rPr>
              <a:t>under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20.0 </a:t>
            </a:r>
            <a:r>
              <a:rPr b="1" lang="en-US" sz="2000" spc="-1" strike="noStrike">
                <a:solidFill>
                  <a:srgbClr val="040000"/>
                </a:solidFill>
                <a:latin typeface="Times New Roman"/>
              </a:rPr>
              <a:t>to </a:t>
            </a:r>
            <a:r>
              <a:rPr b="1" i="1" lang="en-US" sz="2400" spc="-1" strike="noStrike">
                <a:solidFill>
                  <a:srgbClr val="040000"/>
                </a:solidFill>
                <a:latin typeface="Times New Roman"/>
              </a:rPr>
              <a:t>under</a:t>
            </a: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25.0 </a:t>
            </a:r>
            <a:r>
              <a:rPr b="1" lang="en-US" sz="2000" spc="-1" strike="noStrike">
                <a:solidFill>
                  <a:srgbClr val="040000"/>
                </a:solidFill>
                <a:latin typeface="Times New Roman"/>
              </a:rPr>
              <a:t>to </a:t>
            </a:r>
            <a:r>
              <a:rPr b="1" i="1" lang="en-US" sz="2400" spc="-1" strike="noStrike">
                <a:solidFill>
                  <a:srgbClr val="040000"/>
                </a:solidFill>
                <a:latin typeface="Times New Roman"/>
              </a:rPr>
              <a:t>under</a:t>
            </a: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30.0 </a:t>
            </a:r>
            <a:r>
              <a:rPr b="1" lang="en-US" sz="2000" spc="-1" strike="noStrike">
                <a:solidFill>
                  <a:srgbClr val="040000"/>
                </a:solidFill>
                <a:latin typeface="Times New Roman"/>
              </a:rPr>
              <a:t>to </a:t>
            </a:r>
            <a:r>
              <a:rPr b="1" i="1" lang="en-US" sz="2400" spc="-1" strike="noStrike">
                <a:solidFill>
                  <a:srgbClr val="040000"/>
                </a:solidFill>
                <a:latin typeface="Times New Roman"/>
              </a:rPr>
              <a:t>under </a:t>
            </a:r>
            <a:r>
              <a:rPr b="1" lang="en-US" sz="2400" spc="-1" strike="noStrike">
                <a:solidFill>
                  <a:srgbClr val="04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8880" y="36003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522440" y="228600"/>
            <a:ext cx="6497640" cy="953640"/>
            <a:chOff x="1522440" y="228600"/>
            <a:chExt cx="6497640" cy="953640"/>
          </a:xfrm>
        </p:grpSpPr>
        <p:grpSp>
          <p:nvGrpSpPr>
            <p:cNvPr id="233" name=""/>
            <p:cNvGrpSpPr/>
            <p:nvPr/>
          </p:nvGrpSpPr>
          <p:grpSpPr>
            <a:xfrm>
              <a:off x="1522440" y="228600"/>
              <a:ext cx="6497640" cy="609480"/>
              <a:chOff x="1522440" y="228600"/>
              <a:chExt cx="6497640" cy="6094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1522440" y="228600"/>
                <a:ext cx="639360" cy="609480"/>
                <a:chOff x="1522440" y="228600"/>
                <a:chExt cx="639360" cy="6094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522440" y="228600"/>
                  <a:ext cx="63936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40186" dir="11896359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 txBox="1"/>
                <p:nvPr/>
              </p:nvSpPr>
              <p:spPr>
                <a:xfrm>
                  <a:off x="1705320" y="304560"/>
                  <a:ext cx="387720" cy="456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Comic Sans MS"/>
                    </a:rPr>
                    <a:t>3.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Comic Sans MS"/>
                    <a:ea typeface="Comic Sans MS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1895400" y="247680"/>
                <a:ext cx="6124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   </a:t>
                </a:r>
                <a:r>
                  <a:rPr b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Set up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the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individual class limit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2305080" y="892080"/>
              <a:ext cx="5457600" cy="290160"/>
              <a:chOff x="2305080" y="892080"/>
              <a:chExt cx="5457600" cy="29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05080" y="988560"/>
                <a:ext cx="5457600" cy="96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918680" y="892080"/>
                <a:ext cx="153360" cy="2901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304920" y="3817800"/>
            <a:ext cx="4495680" cy="2780280"/>
            <a:chOff x="304920" y="3817800"/>
            <a:chExt cx="4495680" cy="2780280"/>
          </a:xfrm>
        </p:grpSpPr>
        <p:sp>
          <p:nvSpPr>
            <p:cNvPr id="242" name=""/>
            <p:cNvSpPr/>
            <p:nvPr/>
          </p:nvSpPr>
          <p:spPr>
            <a:xfrm>
              <a:off x="304920" y="3817800"/>
              <a:ext cx="4495680" cy="2780280"/>
            </a:xfrm>
            <a:prstGeom prst="rect">
              <a:avLst/>
            </a:prstGeom>
            <a:solidFill>
              <a:srgbClr val="ffeac5"/>
            </a:solidFill>
            <a:ln w="0">
              <a:noFill/>
            </a:ln>
            <a:effectLst>
              <a:outerShdw dist="119669" dir="73181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912ea"/>
                  </a:solidFill>
                  <a:latin typeface="Times New Roman"/>
                </a:rPr>
                <a:t>15.0,  23.7,  19.7,  15.4,  18.3,  23.0,  14.2,  20.8,  13.5,  20.7,  17.4,  18.6,  12.9,  20.3,  13.7,  21.4,  18.3,  29.8,  17.1,  18.9,  10.3,  26.1,  15.7,  14.0,  17.8,  33.8,  23.2,  12.9,  27.1,  16.6.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6360" y="532296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10.3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6360" y="570384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33.8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048280" y="1504800"/>
            <a:ext cx="3352680" cy="52056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Class Width 5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5" dur="75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75"/>
                            </p:stCondLst>
                            <p:childTnLst>
                              <p:par>
                                <p:cTn id="3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9" dur="75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250"/>
                            </p:stCondLst>
                            <p:childTnLst>
                              <p:par>
                                <p:cTn id="3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3" dur="75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925"/>
                            </p:stCondLst>
                            <p:childTnLst>
                              <p:par>
                                <p:cTn id="3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75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600"/>
                            </p:stCondLst>
                            <p:childTnLst>
                              <p:par>
                                <p:cTn id="3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1" dur="75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275"/>
                            </p:stCondLst>
                            <p:childTnLst>
                              <p:par>
                                <p:cTn id="4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" dur="75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95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6" dur="75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75"/>
                            </p:stCondLst>
                            <p:childTnLst>
                              <p:par>
                                <p:cTn id="4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0" dur="75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50"/>
                            </p:stCondLst>
                            <p:childTnLst>
                              <p:par>
                                <p:cTn id="4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4" dur="75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525"/>
                            </p:stCondLst>
                            <p:childTnLst>
                              <p:par>
                                <p:cTn id="4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8" dur="75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500"/>
                            </p:stCondLst>
                            <p:childTnLst>
                              <p:par>
                                <p:cTn id="4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75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475"/>
                            </p:stCondLst>
                            <p:childTnLst>
                              <p:par>
                                <p:cTn id="4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75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343240" y="1227240"/>
            <a:ext cx="4495680" cy="278028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19669" dir="73181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12ea"/>
                </a:solidFill>
                <a:latin typeface="Times New Roman"/>
              </a:rPr>
              <a:t>15.0,  23.7,  19.7,  15.4,  18.3,  23.0,  14.2,  20.8,  13.5,  20.7,  17.4,  18.6,  12.9,  20.3,  13.7,  21.4,  18.3,  29.8,  17.1,  18.9,  10.3,  26.1,  15.7,  14.0,  17.8,  33.8,  23.2,  12.9,  27.1,  16.6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562040" y="266760"/>
            <a:ext cx="5810400" cy="915480"/>
            <a:chOff x="1562040" y="266760"/>
            <a:chExt cx="5810400" cy="915480"/>
          </a:xfrm>
        </p:grpSpPr>
        <p:grpSp>
          <p:nvGrpSpPr>
            <p:cNvPr id="248" name=""/>
            <p:cNvGrpSpPr/>
            <p:nvPr/>
          </p:nvGrpSpPr>
          <p:grpSpPr>
            <a:xfrm>
              <a:off x="1562040" y="276120"/>
              <a:ext cx="533160" cy="609480"/>
              <a:chOff x="1562040" y="276120"/>
              <a:chExt cx="533160" cy="609480"/>
            </a:xfrm>
          </p:grpSpPr>
          <p:sp>
            <p:nvSpPr>
              <p:cNvPr id="249" name=""/>
              <p:cNvSpPr/>
              <p:nvPr/>
            </p:nvSpPr>
            <p:spPr>
              <a:xfrm>
                <a:off x="1562040" y="276120"/>
                <a:ext cx="533160" cy="609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40186" dir="11896359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1714320" y="352080"/>
                <a:ext cx="323640" cy="457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Comic Sans MS"/>
                  </a:rPr>
                  <a:t>4.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  <a:ea typeface="Comic Sans MS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362320" y="266760"/>
              <a:ext cx="501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Times New Roman"/>
                </a:rPr>
                <a:t>Tally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tems into the clas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2333520" y="892080"/>
              <a:ext cx="4829400" cy="290160"/>
              <a:chOff x="2333520" y="892080"/>
              <a:chExt cx="4829400" cy="290160"/>
            </a:xfrm>
          </p:grpSpPr>
          <p:sp>
            <p:nvSpPr>
              <p:cNvPr id="253" name=""/>
              <p:cNvSpPr/>
              <p:nvPr/>
            </p:nvSpPr>
            <p:spPr>
              <a:xfrm>
                <a:off x="2333520" y="988560"/>
                <a:ext cx="4829400" cy="96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46160" y="892080"/>
                <a:ext cx="135720" cy="2901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5" name=""/>
          <p:cNvGrpSpPr/>
          <p:nvPr/>
        </p:nvGrpSpPr>
        <p:grpSpPr>
          <a:xfrm>
            <a:off x="905040" y="3629160"/>
            <a:ext cx="3161880" cy="2715120"/>
            <a:chOff x="905040" y="3629160"/>
            <a:chExt cx="3161880" cy="2715120"/>
          </a:xfrm>
        </p:grpSpPr>
        <p:sp>
          <p:nvSpPr>
            <p:cNvPr id="256" name=""/>
            <p:cNvSpPr/>
            <p:nvPr/>
          </p:nvSpPr>
          <p:spPr>
            <a:xfrm>
              <a:off x="905040" y="4117320"/>
              <a:ext cx="3161880" cy="2226960"/>
            </a:xfrm>
            <a:prstGeom prst="rect">
              <a:avLst/>
            </a:prstGeom>
            <a:solidFill>
              <a:srgbClr val="ffeac5"/>
            </a:solidFill>
            <a:ln w="9360">
              <a:solidFill>
                <a:srgbClr val="000000"/>
              </a:solidFill>
              <a:miter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10.0 to</a:t>
              </a: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 under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 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15.0 to </a:t>
              </a: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 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20.0 to </a:t>
              </a: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 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25.0 to </a:t>
              </a: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 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30.0 to </a:t>
              </a: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under 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28280" y="3629160"/>
              <a:ext cx="163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as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024520" y="4505400"/>
            <a:ext cx="352440" cy="3524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419800" y="4505400"/>
            <a:ext cx="352440" cy="352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5824440" y="4505400"/>
            <a:ext cx="352440" cy="352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707800" y="3730680"/>
            <a:ext cx="971640" cy="52056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99192" dir="84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6210360" y="4505400"/>
            <a:ext cx="352440" cy="3524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5"/>
          <a:stretch/>
        </p:blipFill>
        <p:spPr>
          <a:xfrm>
            <a:off x="6591240" y="4505400"/>
            <a:ext cx="352440" cy="3524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6953400" y="4505400"/>
            <a:ext cx="352440" cy="352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7334280" y="4505400"/>
            <a:ext cx="352440" cy="3524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035680" y="5035680"/>
            <a:ext cx="232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 so on with the remaining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343240" y="1558800"/>
            <a:ext cx="4511520" cy="2076480"/>
            <a:chOff x="2343240" y="1558800"/>
            <a:chExt cx="4511520" cy="2076480"/>
          </a:xfrm>
        </p:grpSpPr>
        <p:sp>
          <p:nvSpPr>
            <p:cNvPr id="268" name=""/>
            <p:cNvSpPr/>
            <p:nvPr/>
          </p:nvSpPr>
          <p:spPr>
            <a:xfrm>
              <a:off x="2343240" y="2727360"/>
              <a:ext cx="105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10.3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16600" y="1558800"/>
              <a:ext cx="9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13.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16240" y="1573200"/>
              <a:ext cx="95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14.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99320" y="1952640"/>
              <a:ext cx="9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13.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06880" y="2727360"/>
              <a:ext cx="95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14.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11560" y="1952640"/>
              <a:ext cx="95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12.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13360" y="3114720"/>
              <a:ext cx="9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12.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818280" y="3389400"/>
            <a:ext cx="3182400" cy="1211040"/>
            <a:chOff x="818280" y="3389400"/>
            <a:chExt cx="3182400" cy="1211040"/>
          </a:xfrm>
        </p:grpSpPr>
        <p:sp>
          <p:nvSpPr>
            <p:cNvPr id="276" name=""/>
            <p:cNvSpPr/>
            <p:nvPr/>
          </p:nvSpPr>
          <p:spPr>
            <a:xfrm>
              <a:off x="818280" y="3389400"/>
              <a:ext cx="892440" cy="520560"/>
            </a:xfrm>
            <a:prstGeom prst="rect">
              <a:avLst/>
            </a:prstGeom>
            <a:solidFill>
              <a:srgbClr val="ffeac5"/>
            </a:solid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Fi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8720" y="4114800"/>
              <a:ext cx="3171960" cy="4856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500"/>
                            </p:stCondLst>
                            <p:childTnLst>
                              <p:par>
                                <p:cTn id="49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0"/>
                            </p:stCondLst>
                            <p:childTnLst>
                              <p:par>
                                <p:cTn id="4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8" dur="75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1314360" y="247680"/>
            <a:ext cx="7829640" cy="934560"/>
            <a:chOff x="1314360" y="247680"/>
            <a:chExt cx="7829640" cy="934560"/>
          </a:xfrm>
        </p:grpSpPr>
        <p:sp>
          <p:nvSpPr>
            <p:cNvPr id="279" name=""/>
            <p:cNvSpPr/>
            <p:nvPr/>
          </p:nvSpPr>
          <p:spPr>
            <a:xfrm>
              <a:off x="1905120" y="266760"/>
              <a:ext cx="723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Times New Roman"/>
                </a:rPr>
                <a:t>Coun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umber of items in each cla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314360" y="247680"/>
              <a:ext cx="6762600" cy="934560"/>
              <a:chOff x="1314360" y="247680"/>
              <a:chExt cx="6762600" cy="93456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1314360" y="247680"/>
                <a:ext cx="533160" cy="609480"/>
                <a:chOff x="1314360" y="247680"/>
                <a:chExt cx="533160" cy="6094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314360" y="247680"/>
                  <a:ext cx="53316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40186" dir="11896359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 txBox="1"/>
                <p:nvPr/>
              </p:nvSpPr>
              <p:spPr>
                <a:xfrm>
                  <a:off x="1466640" y="324000"/>
                  <a:ext cx="32400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ffff"/>
                      </a:solidFill>
                      <a:latin typeface="Comic Sans MS"/>
                    </a:rPr>
                    <a:t>5.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Comic Sans MS"/>
                    <a:ea typeface="Comic Sans MS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048040" y="892080"/>
                <a:ext cx="6028920" cy="290160"/>
                <a:chOff x="2048040" y="892080"/>
                <a:chExt cx="6028920" cy="2901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048040" y="988560"/>
                  <a:ext cx="6028920" cy="96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35240" y="892080"/>
                  <a:ext cx="169560" cy="2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7" name=""/>
          <p:cNvGrpSpPr/>
          <p:nvPr/>
        </p:nvGrpSpPr>
        <p:grpSpPr>
          <a:xfrm>
            <a:off x="326880" y="1600200"/>
            <a:ext cx="4237200" cy="4335120"/>
            <a:chOff x="326880" y="1600200"/>
            <a:chExt cx="4237200" cy="4335120"/>
          </a:xfrm>
        </p:grpSpPr>
        <p:sp>
          <p:nvSpPr>
            <p:cNvPr id="288" name=""/>
            <p:cNvSpPr/>
            <p:nvPr/>
          </p:nvSpPr>
          <p:spPr>
            <a:xfrm>
              <a:off x="476280" y="2428920"/>
              <a:ext cx="3971880" cy="3506400"/>
            </a:xfrm>
            <a:prstGeom prst="rect">
              <a:avLst/>
            </a:prstGeom>
            <a:solidFill>
              <a:srgbClr val="ffeac5"/>
            </a:solidFill>
            <a:ln w="9360">
              <a:solidFill>
                <a:srgbClr val="000000"/>
              </a:solidFill>
              <a:miter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40000"/>
                  </a:solidFill>
                  <a:latin typeface="Times New Roman"/>
                </a:rPr>
                <a:t>10.0 </a:t>
              </a:r>
              <a:r>
                <a:rPr b="1" lang="en-US" sz="4000" spc="-1" strike="noStrike">
                  <a:solidFill>
                    <a:srgbClr val="040000"/>
                  </a:solidFill>
                  <a:latin typeface="Times New Roman"/>
                </a:rPr>
                <a:t>to</a:t>
              </a:r>
              <a:r>
                <a:rPr b="1" i="1" lang="en-US" sz="4000" spc="-1" strike="noStrike">
                  <a:solidFill>
                    <a:srgbClr val="04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4400" spc="-1" strike="noStrike">
                  <a:solidFill>
                    <a:srgbClr val="040000"/>
                  </a:solidFill>
                  <a:latin typeface="Times New Roman"/>
                </a:rPr>
                <a:t> 1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40000"/>
                  </a:solidFill>
                  <a:latin typeface="Times New Roman"/>
                </a:rPr>
                <a:t>15.0 </a:t>
              </a:r>
              <a:r>
                <a:rPr b="1" lang="en-US" sz="4000" spc="-1" strike="noStrike">
                  <a:solidFill>
                    <a:srgbClr val="040000"/>
                  </a:solidFill>
                  <a:latin typeface="Times New Roman"/>
                </a:rPr>
                <a:t>to</a:t>
              </a:r>
              <a:r>
                <a:rPr b="1" lang="en-US" sz="4400" spc="-1" strike="noStrike">
                  <a:solidFill>
                    <a:srgbClr val="04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4800" spc="-1" strike="noStrike">
                  <a:solidFill>
                    <a:srgbClr val="04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40000"/>
                  </a:solidFill>
                  <a:latin typeface="Times New Roman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40000"/>
                  </a:solidFill>
                  <a:latin typeface="Times New Roman"/>
                </a:rPr>
                <a:t>20.0 </a:t>
              </a:r>
              <a:r>
                <a:rPr b="1" lang="en-US" sz="4000" spc="-1" strike="noStrike">
                  <a:solidFill>
                    <a:srgbClr val="040000"/>
                  </a:solidFill>
                  <a:latin typeface="Times New Roman"/>
                </a:rPr>
                <a:t>to </a:t>
              </a:r>
              <a:r>
                <a:rPr b="1" i="1" lang="en-US" sz="44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4400" spc="-1" strike="noStrike">
                  <a:solidFill>
                    <a:srgbClr val="040000"/>
                  </a:solidFill>
                  <a:latin typeface="Times New Roman"/>
                </a:rPr>
                <a:t> 2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40000"/>
                  </a:solidFill>
                  <a:latin typeface="Times New Roman"/>
                </a:rPr>
                <a:t>25.0 </a:t>
              </a:r>
              <a:r>
                <a:rPr b="1" lang="en-US" sz="4000" spc="-1" strike="noStrike">
                  <a:solidFill>
                    <a:srgbClr val="040000"/>
                  </a:solidFill>
                  <a:latin typeface="Times New Roman"/>
                </a:rPr>
                <a:t>to </a:t>
              </a:r>
              <a:r>
                <a:rPr b="1" i="1" lang="en-US" sz="44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4400" spc="-1" strike="noStrike">
                  <a:solidFill>
                    <a:srgbClr val="040000"/>
                  </a:solidFill>
                  <a:latin typeface="Times New Roman"/>
                </a:rPr>
                <a:t> 3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40000"/>
                  </a:solidFill>
                  <a:latin typeface="Times New Roman"/>
                </a:rPr>
                <a:t>30.0 </a:t>
              </a:r>
              <a:r>
                <a:rPr b="1" lang="en-US" sz="4000" spc="-1" strike="noStrike">
                  <a:solidFill>
                    <a:srgbClr val="040000"/>
                  </a:solidFill>
                  <a:latin typeface="Times New Roman"/>
                </a:rPr>
                <a:t>to </a:t>
              </a:r>
              <a:r>
                <a:rPr b="1" i="1" lang="en-US" sz="4400" spc="-1" strike="noStrike">
                  <a:solidFill>
                    <a:srgbClr val="040000"/>
                  </a:solidFill>
                  <a:latin typeface="Times New Roman"/>
                </a:rPr>
                <a:t>under </a:t>
              </a:r>
              <a:r>
                <a:rPr b="1" lang="en-US" sz="4400" spc="-1" strike="noStrike">
                  <a:solidFill>
                    <a:srgbClr val="040000"/>
                  </a:solidFill>
                  <a:latin typeface="Times New Roman"/>
                </a:rPr>
                <a:t>3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6880" y="1600200"/>
              <a:ext cx="423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Hours Studying  </a:t>
              </a:r>
              <a:r>
                <a:rPr b="1" i="1" lang="en-US" sz="4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867200" y="1695600"/>
            <a:ext cx="3025440" cy="4219560"/>
            <a:chOff x="4867200" y="1695600"/>
            <a:chExt cx="3025440" cy="4219560"/>
          </a:xfrm>
        </p:grpSpPr>
        <p:sp>
          <p:nvSpPr>
            <p:cNvPr id="291" name=""/>
            <p:cNvSpPr/>
            <p:nvPr/>
          </p:nvSpPr>
          <p:spPr>
            <a:xfrm>
              <a:off x="4867200" y="1695600"/>
              <a:ext cx="302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Frequency 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42880" y="2448000"/>
              <a:ext cx="2794320" cy="3467160"/>
            </a:xfrm>
            <a:prstGeom prst="rect">
              <a:avLst/>
            </a:prstGeom>
            <a:solidFill>
              <a:srgbClr val="ffeac5"/>
            </a:solidFill>
            <a:ln w="9360">
              <a:solidFill>
                <a:srgbClr val="000000"/>
              </a:solidFill>
              <a:miter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300720" y="2502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95960" y="3149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00720" y="3879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00720" y="4560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00720" y="52275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7877160" y="2571840"/>
            <a:ext cx="1062360" cy="3305160"/>
            <a:chOff x="7877160" y="2571840"/>
            <a:chExt cx="1062360" cy="3305160"/>
          </a:xfrm>
        </p:grpSpPr>
        <p:sp>
          <p:nvSpPr>
            <p:cNvPr id="299" name=""/>
            <p:cNvSpPr/>
            <p:nvPr/>
          </p:nvSpPr>
          <p:spPr>
            <a:xfrm>
              <a:off x="8249760" y="385452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77160" y="2571840"/>
              <a:ext cx="324000" cy="3305160"/>
            </a:xfrm>
            <a:custGeom>
              <a:avLst/>
              <a:gdLst>
                <a:gd name="textAreaLeft" fmla="*/ 0 w 324000"/>
                <a:gd name="textAreaRight" fmla="*/ 117000 w 324000"/>
                <a:gd name="textAreaTop" fmla="*/ 86040 h 3305160"/>
                <a:gd name="textAreaBottom" fmla="*/ 3219120 h 33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u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704960" y="304920"/>
            <a:ext cx="581040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ing different lim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84120" y="1743120"/>
            <a:ext cx="4265640" cy="4361040"/>
            <a:chOff x="384120" y="1743120"/>
            <a:chExt cx="4265640" cy="4361040"/>
          </a:xfrm>
        </p:grpSpPr>
        <p:sp>
          <p:nvSpPr>
            <p:cNvPr id="303" name=""/>
            <p:cNvSpPr/>
            <p:nvPr/>
          </p:nvSpPr>
          <p:spPr>
            <a:xfrm>
              <a:off x="476280" y="2657520"/>
              <a:ext cx="3971880" cy="3446640"/>
            </a:xfrm>
            <a:prstGeom prst="rect">
              <a:avLst/>
            </a:prstGeom>
            <a:solidFill>
              <a:srgbClr val="ffeac5"/>
            </a:solidFill>
            <a:ln w="9360">
              <a:solidFill>
                <a:srgbClr val="000000"/>
              </a:solidFill>
              <a:miter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7.5 </a:t>
              </a:r>
              <a:r>
                <a:rPr b="1" lang="en-US" sz="3200" spc="-1" strike="noStrike">
                  <a:solidFill>
                    <a:srgbClr val="040000"/>
                  </a:solidFill>
                  <a:latin typeface="Times New Roman"/>
                </a:rPr>
                <a:t>to</a:t>
              </a:r>
              <a:r>
                <a:rPr b="1" i="1" lang="en-US" sz="3200" spc="-1" strike="noStrike">
                  <a:solidFill>
                    <a:srgbClr val="040000"/>
                  </a:solidFill>
                  <a:latin typeface="Times New Roman"/>
                </a:rPr>
                <a:t> </a:t>
              </a:r>
              <a:r>
                <a:rPr b="1" i="1" lang="en-US" sz="36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 12.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12.5 </a:t>
              </a:r>
              <a:r>
                <a:rPr b="1" lang="en-US" sz="3200" spc="-1" strike="noStrike">
                  <a:solidFill>
                    <a:srgbClr val="040000"/>
                  </a:solidFill>
                  <a:latin typeface="Times New Roman"/>
                </a:rPr>
                <a:t>to</a:t>
              </a: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 </a:t>
              </a:r>
              <a:r>
                <a:rPr b="1" i="1" lang="en-US" sz="36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4000" spc="-1" strike="noStrike">
                  <a:solidFill>
                    <a:srgbClr val="04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17.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17.5 </a:t>
              </a:r>
              <a:r>
                <a:rPr b="1" lang="en-US" sz="3200" spc="-1" strike="noStrike">
                  <a:solidFill>
                    <a:srgbClr val="040000"/>
                  </a:solidFill>
                  <a:latin typeface="Times New Roman"/>
                </a:rPr>
                <a:t>to </a:t>
              </a:r>
              <a:r>
                <a:rPr b="1" i="1" lang="en-US" sz="36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 22.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22.5 </a:t>
              </a:r>
              <a:r>
                <a:rPr b="1" lang="en-US" sz="3200" spc="-1" strike="noStrike">
                  <a:solidFill>
                    <a:srgbClr val="040000"/>
                  </a:solidFill>
                  <a:latin typeface="Times New Roman"/>
                </a:rPr>
                <a:t>to </a:t>
              </a:r>
              <a:r>
                <a:rPr b="1" i="1" lang="en-US" sz="36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 27.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27.5 </a:t>
              </a:r>
              <a:r>
                <a:rPr b="1" lang="en-US" sz="3200" spc="-1" strike="noStrike">
                  <a:solidFill>
                    <a:srgbClr val="040000"/>
                  </a:solidFill>
                  <a:latin typeface="Times New Roman"/>
                </a:rPr>
                <a:t>to </a:t>
              </a:r>
              <a:r>
                <a:rPr b="1" i="1" lang="en-US" sz="3600" spc="-1" strike="noStrike">
                  <a:solidFill>
                    <a:srgbClr val="040000"/>
                  </a:solidFill>
                  <a:latin typeface="Times New Roman"/>
                </a:rPr>
                <a:t>under </a:t>
              </a: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32.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32.5 </a:t>
              </a:r>
              <a:r>
                <a:rPr b="1" i="1" lang="en-US" sz="3600" spc="-1" strike="noStrike">
                  <a:solidFill>
                    <a:srgbClr val="040000"/>
                  </a:solidFill>
                  <a:latin typeface="Times New Roman"/>
                </a:rPr>
                <a:t>to under</a:t>
              </a: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 37.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120" y="1743120"/>
              <a:ext cx="426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Hours Studying  </a:t>
              </a:r>
              <a:r>
                <a:rPr b="1" i="1" lang="en-US" sz="4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867200" y="1866960"/>
            <a:ext cx="3025440" cy="4219560"/>
            <a:chOff x="4867200" y="1866960"/>
            <a:chExt cx="3025440" cy="4219560"/>
          </a:xfrm>
        </p:grpSpPr>
        <p:sp>
          <p:nvSpPr>
            <p:cNvPr id="306" name=""/>
            <p:cNvSpPr/>
            <p:nvPr/>
          </p:nvSpPr>
          <p:spPr>
            <a:xfrm>
              <a:off x="4867200" y="1866960"/>
              <a:ext cx="302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Frequency 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42880" y="2619360"/>
              <a:ext cx="2794320" cy="3467160"/>
            </a:xfrm>
            <a:prstGeom prst="rect">
              <a:avLst/>
            </a:prstGeom>
            <a:solidFill>
              <a:srgbClr val="ffeac5"/>
            </a:solidFill>
            <a:ln w="9360">
              <a:solidFill>
                <a:srgbClr val="000000"/>
              </a:solidFill>
              <a:miter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6300720" y="2654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76880" y="32353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57800" y="38131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00720" y="49179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00720" y="5451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877160" y="2743200"/>
            <a:ext cx="1062360" cy="3305160"/>
            <a:chOff x="7877160" y="2743200"/>
            <a:chExt cx="1062360" cy="3305160"/>
          </a:xfrm>
        </p:grpSpPr>
        <p:sp>
          <p:nvSpPr>
            <p:cNvPr id="314" name=""/>
            <p:cNvSpPr/>
            <p:nvPr/>
          </p:nvSpPr>
          <p:spPr>
            <a:xfrm>
              <a:off x="8249760" y="402588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77160" y="2743200"/>
              <a:ext cx="324000" cy="3305160"/>
            </a:xfrm>
            <a:custGeom>
              <a:avLst/>
              <a:gdLst>
                <a:gd name="textAreaLeft" fmla="*/ 0 w 324000"/>
                <a:gd name="textAreaRight" fmla="*/ 117000 w 324000"/>
                <a:gd name="textAreaTop" fmla="*/ 86040 h 3305160"/>
                <a:gd name="textAreaBottom" fmla="*/ 3219120 h 330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6310440" y="4356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2320" y="1158840"/>
            <a:ext cx="78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ll give you a different distribution,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5" dur="75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925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425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925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425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4925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425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925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6425"/>
                            </p:stCondLst>
                            <p:childTnLst>
                              <p:par>
                                <p:cTn id="5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rcRect l="21839" t="63289" r="62140" b="16694"/>
          <a:stretch/>
        </p:blipFill>
        <p:spPr>
          <a:xfrm>
            <a:off x="6134040" y="979560"/>
            <a:ext cx="650880" cy="6555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066680" y="1724040"/>
            <a:ext cx="7543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rcRect l="0" t="16336" r="72753" b="10666"/>
          <a:stretch/>
        </p:blipFill>
        <p:spPr>
          <a:xfrm>
            <a:off x="1895400" y="1898640"/>
            <a:ext cx="3524400" cy="45403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395360" y="368280"/>
            <a:ext cx="64123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nstruct a Frequency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Using E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0" y="1555920"/>
          <a:ext cx="9144000" cy="36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5920"/>
                    <a:ext cx="914400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3503520" y="1922400"/>
          <a:ext cx="3502080" cy="400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3520" y="1922400"/>
                    <a:ext cx="3502080" cy="40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6" name=""/>
          <p:cNvGrpSpPr/>
          <p:nvPr/>
        </p:nvGrpSpPr>
        <p:grpSpPr>
          <a:xfrm>
            <a:off x="3506760" y="329400"/>
            <a:ext cx="3803400" cy="1602720"/>
            <a:chOff x="3506760" y="329400"/>
            <a:chExt cx="3803400" cy="1602720"/>
          </a:xfrm>
        </p:grpSpPr>
        <p:sp>
          <p:nvSpPr>
            <p:cNvPr id="327" name=""/>
            <p:cNvSpPr/>
            <p:nvPr/>
          </p:nvSpPr>
          <p:spPr>
            <a:xfrm>
              <a:off x="3506760" y="1550880"/>
              <a:ext cx="957240" cy="38124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20485800">
              <a:off x="4299120" y="794520"/>
              <a:ext cx="300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lick on 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MegaSt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2477520" y="2403360"/>
            <a:ext cx="768960" cy="58140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5120" y="3816360"/>
            <a:ext cx="290664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on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requenc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33960" y="5994360"/>
            <a:ext cx="925920" cy="459720"/>
          </a:xfrm>
          <a:prstGeom prst="rect">
            <a:avLst/>
          </a:prstGeom>
          <a:gradFill rotWithShape="0">
            <a:gsLst>
              <a:gs pos="0">
                <a:srgbClr val="6b6253"/>
              </a:gs>
              <a:gs pos="50000">
                <a:srgbClr val="ffeac5"/>
              </a:gs>
              <a:gs pos="100000">
                <a:srgbClr val="6b6253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333" name="" descr=""/>
            <p:cNvPicPr/>
            <p:nvPr/>
          </p:nvPicPr>
          <p:blipFill>
            <a:blip r:embed="rId5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5" name=""/>
          <p:cNvGraphicFramePr/>
          <p:nvPr/>
        </p:nvGraphicFramePr>
        <p:xfrm>
          <a:off x="6951600" y="2171880"/>
          <a:ext cx="1843200" cy="680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51600" y="2171880"/>
                    <a:ext cx="184320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6611760" y="3435480"/>
            <a:ext cx="2157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on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576440" y="1903320"/>
            <a:ext cx="6651720" cy="28735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248840" y="1155600"/>
            <a:ext cx="768960" cy="58140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56720" y="4518000"/>
            <a:ext cx="2293200" cy="45972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PUT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92360" y="2239920"/>
            <a:ext cx="21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A:$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4720" y="3191040"/>
            <a:ext cx="6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31840" y="365904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28640" y="2233440"/>
            <a:ext cx="4310280" cy="4384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2320" y="3701880"/>
            <a:ext cx="1131840" cy="3574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0880" y="3251160"/>
            <a:ext cx="1141560" cy="316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33960" y="5994360"/>
            <a:ext cx="925920" cy="459720"/>
          </a:xfrm>
          <a:prstGeom prst="rect">
            <a:avLst/>
          </a:prstGeom>
          <a:gradFill rotWithShape="0">
            <a:gsLst>
              <a:gs pos="0">
                <a:srgbClr val="6b6253"/>
              </a:gs>
              <a:gs pos="50000">
                <a:srgbClr val="ffeac5"/>
              </a:gs>
              <a:gs pos="100000">
                <a:srgbClr val="6b6253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108080" y="1295280"/>
            <a:ext cx="6946920" cy="44704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328320" y="1576440"/>
            <a:ext cx="768960" cy="58140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397320" y="114480"/>
            <a:ext cx="2382840" cy="842760"/>
            <a:chOff x="3397320" y="114480"/>
            <a:chExt cx="2382840" cy="842760"/>
          </a:xfrm>
        </p:grpSpPr>
        <p:pic>
          <p:nvPicPr>
            <p:cNvPr id="354" name="" descr=""/>
            <p:cNvPicPr/>
            <p:nvPr/>
          </p:nvPicPr>
          <p:blipFill>
            <a:blip r:embed="rId2"/>
            <a:srcRect l="14390" t="30350" r="28351" b="55679"/>
            <a:stretch/>
          </p:blipFill>
          <p:spPr>
            <a:xfrm>
              <a:off x="506736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339732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 rot="121200">
            <a:off x="175680" y="968400"/>
            <a:ext cx="8709120" cy="4954680"/>
          </a:xfrm>
          <a:custGeom>
            <a:avLst/>
            <a:gdLst/>
            <a:ahLst/>
            <a:rect l="l" t="t" r="r" b="b"/>
            <a:pathLst>
              <a:path w="2085" h="2090">
                <a:moveTo>
                  <a:pt x="751" y="2087"/>
                </a:moveTo>
                <a:lnTo>
                  <a:pt x="754" y="2087"/>
                </a:lnTo>
                <a:lnTo>
                  <a:pt x="757" y="2087"/>
                </a:lnTo>
                <a:lnTo>
                  <a:pt x="759" y="2087"/>
                </a:lnTo>
                <a:lnTo>
                  <a:pt x="762" y="2087"/>
                </a:lnTo>
                <a:lnTo>
                  <a:pt x="765" y="2087"/>
                </a:lnTo>
                <a:lnTo>
                  <a:pt x="768" y="2087"/>
                </a:lnTo>
                <a:lnTo>
                  <a:pt x="770" y="2087"/>
                </a:lnTo>
                <a:lnTo>
                  <a:pt x="773" y="2084"/>
                </a:lnTo>
                <a:lnTo>
                  <a:pt x="776" y="2084"/>
                </a:lnTo>
                <a:lnTo>
                  <a:pt x="776" y="2084"/>
                </a:lnTo>
                <a:lnTo>
                  <a:pt x="779" y="2084"/>
                </a:lnTo>
                <a:lnTo>
                  <a:pt x="781" y="2084"/>
                </a:lnTo>
                <a:lnTo>
                  <a:pt x="781" y="2082"/>
                </a:lnTo>
                <a:lnTo>
                  <a:pt x="784" y="2082"/>
                </a:lnTo>
                <a:lnTo>
                  <a:pt x="787" y="2082"/>
                </a:lnTo>
                <a:lnTo>
                  <a:pt x="790" y="2082"/>
                </a:lnTo>
                <a:lnTo>
                  <a:pt x="825" y="2062"/>
                </a:lnTo>
                <a:lnTo>
                  <a:pt x="861" y="2040"/>
                </a:lnTo>
                <a:lnTo>
                  <a:pt x="894" y="2016"/>
                </a:lnTo>
                <a:lnTo>
                  <a:pt x="924" y="1988"/>
                </a:lnTo>
                <a:lnTo>
                  <a:pt x="955" y="1958"/>
                </a:lnTo>
                <a:lnTo>
                  <a:pt x="982" y="1928"/>
                </a:lnTo>
                <a:lnTo>
                  <a:pt x="1010" y="1895"/>
                </a:lnTo>
                <a:lnTo>
                  <a:pt x="1037" y="1864"/>
                </a:lnTo>
                <a:lnTo>
                  <a:pt x="1040" y="1862"/>
                </a:lnTo>
                <a:lnTo>
                  <a:pt x="1043" y="1862"/>
                </a:lnTo>
                <a:lnTo>
                  <a:pt x="1045" y="1862"/>
                </a:lnTo>
                <a:lnTo>
                  <a:pt x="1048" y="1862"/>
                </a:lnTo>
                <a:lnTo>
                  <a:pt x="1051" y="1862"/>
                </a:lnTo>
                <a:lnTo>
                  <a:pt x="1054" y="1862"/>
                </a:lnTo>
                <a:lnTo>
                  <a:pt x="1056" y="1862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70"/>
                </a:lnTo>
                <a:lnTo>
                  <a:pt x="1062" y="1870"/>
                </a:lnTo>
                <a:lnTo>
                  <a:pt x="1062" y="1870"/>
                </a:lnTo>
                <a:lnTo>
                  <a:pt x="1065" y="1870"/>
                </a:lnTo>
                <a:lnTo>
                  <a:pt x="1065" y="1870"/>
                </a:lnTo>
                <a:lnTo>
                  <a:pt x="1067" y="1873"/>
                </a:lnTo>
                <a:lnTo>
                  <a:pt x="1067" y="1873"/>
                </a:lnTo>
                <a:lnTo>
                  <a:pt x="1070" y="1875"/>
                </a:lnTo>
                <a:lnTo>
                  <a:pt x="1070" y="1875"/>
                </a:lnTo>
                <a:lnTo>
                  <a:pt x="1070" y="1875"/>
                </a:lnTo>
                <a:lnTo>
                  <a:pt x="1078" y="1884"/>
                </a:lnTo>
                <a:lnTo>
                  <a:pt x="1084" y="1895"/>
                </a:lnTo>
                <a:lnTo>
                  <a:pt x="1092" y="1903"/>
                </a:lnTo>
                <a:lnTo>
                  <a:pt x="1103" y="1911"/>
                </a:lnTo>
                <a:lnTo>
                  <a:pt x="1111" y="1919"/>
                </a:lnTo>
                <a:lnTo>
                  <a:pt x="1122" y="1925"/>
                </a:lnTo>
                <a:lnTo>
                  <a:pt x="1133" y="1930"/>
                </a:lnTo>
                <a:lnTo>
                  <a:pt x="1147" y="1933"/>
                </a:lnTo>
                <a:lnTo>
                  <a:pt x="1153" y="1936"/>
                </a:lnTo>
                <a:lnTo>
                  <a:pt x="1161" y="1936"/>
                </a:lnTo>
                <a:lnTo>
                  <a:pt x="1166" y="1936"/>
                </a:lnTo>
                <a:lnTo>
                  <a:pt x="1175" y="1936"/>
                </a:lnTo>
                <a:lnTo>
                  <a:pt x="1180" y="1936"/>
                </a:lnTo>
                <a:lnTo>
                  <a:pt x="1188" y="1933"/>
                </a:lnTo>
                <a:lnTo>
                  <a:pt x="1197" y="1933"/>
                </a:lnTo>
                <a:lnTo>
                  <a:pt x="1205" y="1933"/>
                </a:lnTo>
                <a:lnTo>
                  <a:pt x="1205" y="1933"/>
                </a:lnTo>
                <a:lnTo>
                  <a:pt x="1208" y="1933"/>
                </a:lnTo>
                <a:lnTo>
                  <a:pt x="1208" y="1930"/>
                </a:lnTo>
                <a:lnTo>
                  <a:pt x="1210" y="1930"/>
                </a:lnTo>
                <a:lnTo>
                  <a:pt x="1213" y="1930"/>
                </a:lnTo>
                <a:lnTo>
                  <a:pt x="1216" y="1928"/>
                </a:lnTo>
                <a:lnTo>
                  <a:pt x="1216" y="1928"/>
                </a:lnTo>
                <a:lnTo>
                  <a:pt x="1219" y="1928"/>
                </a:lnTo>
                <a:lnTo>
                  <a:pt x="1221" y="1928"/>
                </a:lnTo>
                <a:lnTo>
                  <a:pt x="1224" y="1925"/>
                </a:lnTo>
                <a:lnTo>
                  <a:pt x="1227" y="1925"/>
                </a:lnTo>
                <a:lnTo>
                  <a:pt x="1230" y="1925"/>
                </a:lnTo>
                <a:lnTo>
                  <a:pt x="1232" y="1922"/>
                </a:lnTo>
                <a:lnTo>
                  <a:pt x="1235" y="1922"/>
                </a:lnTo>
                <a:lnTo>
                  <a:pt x="1238" y="1922"/>
                </a:lnTo>
                <a:lnTo>
                  <a:pt x="1241" y="1919"/>
                </a:lnTo>
                <a:lnTo>
                  <a:pt x="1241" y="1919"/>
                </a:lnTo>
                <a:lnTo>
                  <a:pt x="1243" y="1919"/>
                </a:lnTo>
                <a:lnTo>
                  <a:pt x="1243" y="1917"/>
                </a:lnTo>
                <a:lnTo>
                  <a:pt x="1246" y="1917"/>
                </a:lnTo>
                <a:lnTo>
                  <a:pt x="1249" y="1917"/>
                </a:lnTo>
                <a:lnTo>
                  <a:pt x="1252" y="1914"/>
                </a:lnTo>
                <a:lnTo>
                  <a:pt x="1252" y="1914"/>
                </a:lnTo>
                <a:lnTo>
                  <a:pt x="1254" y="1914"/>
                </a:lnTo>
                <a:lnTo>
                  <a:pt x="1329" y="1878"/>
                </a:lnTo>
                <a:lnTo>
                  <a:pt x="1331" y="1878"/>
                </a:lnTo>
                <a:lnTo>
                  <a:pt x="1334" y="1878"/>
                </a:lnTo>
                <a:lnTo>
                  <a:pt x="1337" y="1878"/>
                </a:lnTo>
                <a:lnTo>
                  <a:pt x="1340" y="1878"/>
                </a:lnTo>
                <a:lnTo>
                  <a:pt x="1342" y="1881"/>
                </a:lnTo>
                <a:lnTo>
                  <a:pt x="1345" y="1881"/>
                </a:lnTo>
                <a:lnTo>
                  <a:pt x="1348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9"/>
                </a:lnTo>
                <a:lnTo>
                  <a:pt x="1353" y="1889"/>
                </a:lnTo>
                <a:lnTo>
                  <a:pt x="1356" y="1889"/>
                </a:lnTo>
                <a:lnTo>
                  <a:pt x="1356" y="1889"/>
                </a:lnTo>
                <a:lnTo>
                  <a:pt x="1356" y="1892"/>
                </a:lnTo>
                <a:lnTo>
                  <a:pt x="1356" y="1892"/>
                </a:lnTo>
                <a:lnTo>
                  <a:pt x="1356" y="1895"/>
                </a:lnTo>
                <a:lnTo>
                  <a:pt x="1359" y="1895"/>
                </a:lnTo>
                <a:lnTo>
                  <a:pt x="1359" y="1897"/>
                </a:lnTo>
                <a:lnTo>
                  <a:pt x="1359" y="1897"/>
                </a:lnTo>
                <a:lnTo>
                  <a:pt x="1359" y="1897"/>
                </a:lnTo>
                <a:lnTo>
                  <a:pt x="1364" y="1903"/>
                </a:lnTo>
                <a:lnTo>
                  <a:pt x="1370" y="1911"/>
                </a:lnTo>
                <a:lnTo>
                  <a:pt x="1375" y="1917"/>
                </a:lnTo>
                <a:lnTo>
                  <a:pt x="1384" y="1922"/>
                </a:lnTo>
                <a:lnTo>
                  <a:pt x="1389" y="1930"/>
                </a:lnTo>
                <a:lnTo>
                  <a:pt x="1395" y="1936"/>
                </a:lnTo>
                <a:lnTo>
                  <a:pt x="1403" y="1941"/>
                </a:lnTo>
                <a:lnTo>
                  <a:pt x="1408" y="1947"/>
                </a:lnTo>
                <a:lnTo>
                  <a:pt x="1414" y="1947"/>
                </a:lnTo>
                <a:lnTo>
                  <a:pt x="1417" y="1950"/>
                </a:lnTo>
                <a:lnTo>
                  <a:pt x="1422" y="1952"/>
                </a:lnTo>
                <a:lnTo>
                  <a:pt x="1428" y="1952"/>
                </a:lnTo>
                <a:lnTo>
                  <a:pt x="1436" y="1952"/>
                </a:lnTo>
                <a:lnTo>
                  <a:pt x="1441" y="1955"/>
                </a:lnTo>
                <a:lnTo>
                  <a:pt x="1447" y="1955"/>
                </a:lnTo>
                <a:lnTo>
                  <a:pt x="1452" y="1955"/>
                </a:lnTo>
                <a:lnTo>
                  <a:pt x="1494" y="1933"/>
                </a:lnTo>
                <a:lnTo>
                  <a:pt x="1529" y="1906"/>
                </a:lnTo>
                <a:lnTo>
                  <a:pt x="1560" y="1873"/>
                </a:lnTo>
                <a:lnTo>
                  <a:pt x="1590" y="1837"/>
                </a:lnTo>
                <a:lnTo>
                  <a:pt x="1617" y="1801"/>
                </a:lnTo>
                <a:lnTo>
                  <a:pt x="1645" y="1765"/>
                </a:lnTo>
                <a:lnTo>
                  <a:pt x="1672" y="1730"/>
                </a:lnTo>
                <a:lnTo>
                  <a:pt x="1703" y="1697"/>
                </a:lnTo>
                <a:lnTo>
                  <a:pt x="1733" y="1658"/>
                </a:lnTo>
                <a:lnTo>
                  <a:pt x="1763" y="1620"/>
                </a:lnTo>
                <a:lnTo>
                  <a:pt x="1793" y="1584"/>
                </a:lnTo>
                <a:lnTo>
                  <a:pt x="1821" y="1548"/>
                </a:lnTo>
                <a:lnTo>
                  <a:pt x="1848" y="1510"/>
                </a:lnTo>
                <a:lnTo>
                  <a:pt x="1873" y="1474"/>
                </a:lnTo>
                <a:lnTo>
                  <a:pt x="1898" y="1435"/>
                </a:lnTo>
                <a:lnTo>
                  <a:pt x="1920" y="1394"/>
                </a:lnTo>
                <a:lnTo>
                  <a:pt x="1945" y="1356"/>
                </a:lnTo>
                <a:lnTo>
                  <a:pt x="1967" y="1317"/>
                </a:lnTo>
                <a:lnTo>
                  <a:pt x="1991" y="1279"/>
                </a:lnTo>
                <a:lnTo>
                  <a:pt x="2013" y="1240"/>
                </a:lnTo>
                <a:lnTo>
                  <a:pt x="2033" y="1202"/>
                </a:lnTo>
                <a:lnTo>
                  <a:pt x="2052" y="1163"/>
                </a:lnTo>
                <a:lnTo>
                  <a:pt x="2071" y="1125"/>
                </a:lnTo>
                <a:lnTo>
                  <a:pt x="2085" y="1083"/>
                </a:lnTo>
                <a:lnTo>
                  <a:pt x="2085" y="1083"/>
                </a:lnTo>
                <a:lnTo>
                  <a:pt x="2085" y="1081"/>
                </a:lnTo>
                <a:lnTo>
                  <a:pt x="2085" y="1081"/>
                </a:lnTo>
                <a:lnTo>
                  <a:pt x="2085" y="1078"/>
                </a:lnTo>
                <a:lnTo>
                  <a:pt x="2082" y="1075"/>
                </a:lnTo>
                <a:lnTo>
                  <a:pt x="2082" y="1072"/>
                </a:lnTo>
                <a:lnTo>
                  <a:pt x="2082" y="1072"/>
                </a:lnTo>
                <a:lnTo>
                  <a:pt x="2079" y="1070"/>
                </a:lnTo>
                <a:lnTo>
                  <a:pt x="2079" y="1067"/>
                </a:lnTo>
                <a:lnTo>
                  <a:pt x="2077" y="1061"/>
                </a:lnTo>
                <a:lnTo>
                  <a:pt x="2074" y="1059"/>
                </a:lnTo>
                <a:lnTo>
                  <a:pt x="2071" y="1056"/>
                </a:lnTo>
                <a:lnTo>
                  <a:pt x="2068" y="1050"/>
                </a:lnTo>
                <a:lnTo>
                  <a:pt x="2066" y="1048"/>
                </a:lnTo>
                <a:lnTo>
                  <a:pt x="2063" y="1042"/>
                </a:lnTo>
                <a:lnTo>
                  <a:pt x="2060" y="1040"/>
                </a:lnTo>
                <a:lnTo>
                  <a:pt x="2057" y="1040"/>
                </a:lnTo>
                <a:lnTo>
                  <a:pt x="2057" y="1037"/>
                </a:lnTo>
                <a:lnTo>
                  <a:pt x="2055" y="1037"/>
                </a:lnTo>
                <a:lnTo>
                  <a:pt x="2052" y="1037"/>
                </a:lnTo>
                <a:lnTo>
                  <a:pt x="2052" y="1034"/>
                </a:lnTo>
                <a:lnTo>
                  <a:pt x="2049" y="1034"/>
                </a:lnTo>
                <a:lnTo>
                  <a:pt x="2049" y="1031"/>
                </a:lnTo>
                <a:lnTo>
                  <a:pt x="2046" y="1031"/>
                </a:lnTo>
                <a:lnTo>
                  <a:pt x="2044" y="1029"/>
                </a:lnTo>
                <a:lnTo>
                  <a:pt x="2038" y="1026"/>
                </a:lnTo>
                <a:lnTo>
                  <a:pt x="2035" y="1026"/>
                </a:lnTo>
                <a:lnTo>
                  <a:pt x="2030" y="1023"/>
                </a:lnTo>
                <a:lnTo>
                  <a:pt x="2027" y="1023"/>
                </a:lnTo>
                <a:lnTo>
                  <a:pt x="2022" y="1023"/>
                </a:lnTo>
                <a:lnTo>
                  <a:pt x="2019" y="1020"/>
                </a:lnTo>
                <a:lnTo>
                  <a:pt x="2016" y="1020"/>
                </a:lnTo>
                <a:lnTo>
                  <a:pt x="1991" y="1015"/>
                </a:lnTo>
                <a:lnTo>
                  <a:pt x="1967" y="1015"/>
                </a:lnTo>
                <a:lnTo>
                  <a:pt x="1945" y="1020"/>
                </a:lnTo>
                <a:lnTo>
                  <a:pt x="1920" y="1029"/>
                </a:lnTo>
                <a:lnTo>
                  <a:pt x="1901" y="1037"/>
                </a:lnTo>
                <a:lnTo>
                  <a:pt x="1879" y="1050"/>
                </a:lnTo>
                <a:lnTo>
                  <a:pt x="1859" y="1067"/>
                </a:lnTo>
                <a:lnTo>
                  <a:pt x="1843" y="1083"/>
                </a:lnTo>
                <a:lnTo>
                  <a:pt x="1840" y="1083"/>
                </a:lnTo>
                <a:lnTo>
                  <a:pt x="1837" y="1083"/>
                </a:lnTo>
                <a:lnTo>
                  <a:pt x="1835" y="1083"/>
                </a:lnTo>
                <a:lnTo>
                  <a:pt x="1832" y="1083"/>
                </a:lnTo>
                <a:lnTo>
                  <a:pt x="1832" y="1083"/>
                </a:lnTo>
                <a:lnTo>
                  <a:pt x="1829" y="1083"/>
                </a:lnTo>
                <a:lnTo>
                  <a:pt x="1826" y="1083"/>
                </a:lnTo>
                <a:lnTo>
                  <a:pt x="1824" y="1083"/>
                </a:lnTo>
                <a:lnTo>
                  <a:pt x="1835" y="1042"/>
                </a:lnTo>
                <a:lnTo>
                  <a:pt x="1854" y="1004"/>
                </a:lnTo>
                <a:lnTo>
                  <a:pt x="1873" y="965"/>
                </a:lnTo>
                <a:lnTo>
                  <a:pt x="1895" y="927"/>
                </a:lnTo>
                <a:lnTo>
                  <a:pt x="1912" y="888"/>
                </a:lnTo>
                <a:lnTo>
                  <a:pt x="1923" y="847"/>
                </a:lnTo>
                <a:lnTo>
                  <a:pt x="1925" y="803"/>
                </a:lnTo>
                <a:lnTo>
                  <a:pt x="1912" y="756"/>
                </a:lnTo>
                <a:lnTo>
                  <a:pt x="1901" y="748"/>
                </a:lnTo>
                <a:lnTo>
                  <a:pt x="1887" y="743"/>
                </a:lnTo>
                <a:lnTo>
                  <a:pt x="1870" y="737"/>
                </a:lnTo>
                <a:lnTo>
                  <a:pt x="1854" y="734"/>
                </a:lnTo>
                <a:lnTo>
                  <a:pt x="1837" y="732"/>
                </a:lnTo>
                <a:lnTo>
                  <a:pt x="1821" y="726"/>
                </a:lnTo>
                <a:lnTo>
                  <a:pt x="1807" y="721"/>
                </a:lnTo>
                <a:lnTo>
                  <a:pt x="1793" y="710"/>
                </a:lnTo>
                <a:lnTo>
                  <a:pt x="1793" y="710"/>
                </a:lnTo>
                <a:lnTo>
                  <a:pt x="1793" y="707"/>
                </a:lnTo>
                <a:lnTo>
                  <a:pt x="1793" y="704"/>
                </a:lnTo>
                <a:lnTo>
                  <a:pt x="1793" y="701"/>
                </a:lnTo>
                <a:lnTo>
                  <a:pt x="1793" y="699"/>
                </a:lnTo>
                <a:lnTo>
                  <a:pt x="1793" y="696"/>
                </a:lnTo>
                <a:lnTo>
                  <a:pt x="1793" y="693"/>
                </a:lnTo>
                <a:lnTo>
                  <a:pt x="1793" y="690"/>
                </a:lnTo>
                <a:lnTo>
                  <a:pt x="1793" y="690"/>
                </a:lnTo>
                <a:lnTo>
                  <a:pt x="1796" y="688"/>
                </a:lnTo>
                <a:lnTo>
                  <a:pt x="1796" y="688"/>
                </a:lnTo>
                <a:lnTo>
                  <a:pt x="1796" y="685"/>
                </a:lnTo>
                <a:lnTo>
                  <a:pt x="1799" y="685"/>
                </a:lnTo>
                <a:lnTo>
                  <a:pt x="1799" y="682"/>
                </a:lnTo>
                <a:lnTo>
                  <a:pt x="1799" y="682"/>
                </a:lnTo>
                <a:lnTo>
                  <a:pt x="1802" y="682"/>
                </a:lnTo>
                <a:lnTo>
                  <a:pt x="1802" y="679"/>
                </a:lnTo>
                <a:lnTo>
                  <a:pt x="1804" y="677"/>
                </a:lnTo>
                <a:lnTo>
                  <a:pt x="1804" y="677"/>
                </a:lnTo>
                <a:lnTo>
                  <a:pt x="1807" y="674"/>
                </a:lnTo>
                <a:lnTo>
                  <a:pt x="1810" y="671"/>
                </a:lnTo>
                <a:lnTo>
                  <a:pt x="1813" y="668"/>
                </a:lnTo>
                <a:lnTo>
                  <a:pt x="1815" y="666"/>
                </a:lnTo>
                <a:lnTo>
                  <a:pt x="1815" y="660"/>
                </a:lnTo>
                <a:lnTo>
                  <a:pt x="1818" y="657"/>
                </a:lnTo>
                <a:lnTo>
                  <a:pt x="1821" y="655"/>
                </a:lnTo>
                <a:lnTo>
                  <a:pt x="1824" y="652"/>
                </a:lnTo>
                <a:lnTo>
                  <a:pt x="1826" y="649"/>
                </a:lnTo>
                <a:lnTo>
                  <a:pt x="1826" y="646"/>
                </a:lnTo>
                <a:lnTo>
                  <a:pt x="1829" y="644"/>
                </a:lnTo>
                <a:lnTo>
                  <a:pt x="1832" y="641"/>
                </a:lnTo>
                <a:lnTo>
                  <a:pt x="1832" y="638"/>
                </a:lnTo>
                <a:lnTo>
                  <a:pt x="1848" y="613"/>
                </a:lnTo>
                <a:lnTo>
                  <a:pt x="1868" y="589"/>
                </a:lnTo>
                <a:lnTo>
                  <a:pt x="1887" y="561"/>
                </a:lnTo>
                <a:lnTo>
                  <a:pt x="1906" y="536"/>
                </a:lnTo>
                <a:lnTo>
                  <a:pt x="1925" y="509"/>
                </a:lnTo>
                <a:lnTo>
                  <a:pt x="1939" y="481"/>
                </a:lnTo>
                <a:lnTo>
                  <a:pt x="1953" y="451"/>
                </a:lnTo>
                <a:lnTo>
                  <a:pt x="1961" y="421"/>
                </a:lnTo>
                <a:lnTo>
                  <a:pt x="1961" y="418"/>
                </a:lnTo>
                <a:lnTo>
                  <a:pt x="1958" y="415"/>
                </a:lnTo>
                <a:lnTo>
                  <a:pt x="1958" y="413"/>
                </a:lnTo>
                <a:lnTo>
                  <a:pt x="1956" y="410"/>
                </a:lnTo>
                <a:lnTo>
                  <a:pt x="1956" y="407"/>
                </a:lnTo>
                <a:lnTo>
                  <a:pt x="1956" y="404"/>
                </a:lnTo>
                <a:lnTo>
                  <a:pt x="1953" y="402"/>
                </a:lnTo>
                <a:lnTo>
                  <a:pt x="1953" y="399"/>
                </a:lnTo>
                <a:lnTo>
                  <a:pt x="1950" y="393"/>
                </a:lnTo>
                <a:lnTo>
                  <a:pt x="1945" y="388"/>
                </a:lnTo>
                <a:lnTo>
                  <a:pt x="1942" y="382"/>
                </a:lnTo>
                <a:lnTo>
                  <a:pt x="1936" y="380"/>
                </a:lnTo>
                <a:lnTo>
                  <a:pt x="1931" y="374"/>
                </a:lnTo>
                <a:lnTo>
                  <a:pt x="1923" y="369"/>
                </a:lnTo>
                <a:lnTo>
                  <a:pt x="1917" y="366"/>
                </a:lnTo>
                <a:lnTo>
                  <a:pt x="1912" y="360"/>
                </a:lnTo>
                <a:lnTo>
                  <a:pt x="1912" y="360"/>
                </a:lnTo>
                <a:lnTo>
                  <a:pt x="1909" y="358"/>
                </a:lnTo>
                <a:lnTo>
                  <a:pt x="1906" y="358"/>
                </a:lnTo>
                <a:lnTo>
                  <a:pt x="1903" y="355"/>
                </a:lnTo>
                <a:lnTo>
                  <a:pt x="1903" y="355"/>
                </a:lnTo>
                <a:lnTo>
                  <a:pt x="1901" y="352"/>
                </a:lnTo>
                <a:lnTo>
                  <a:pt x="1898" y="352"/>
                </a:lnTo>
                <a:lnTo>
                  <a:pt x="1895" y="349"/>
                </a:lnTo>
                <a:lnTo>
                  <a:pt x="1892" y="349"/>
                </a:lnTo>
                <a:lnTo>
                  <a:pt x="1890" y="349"/>
                </a:lnTo>
                <a:lnTo>
                  <a:pt x="1887" y="349"/>
                </a:lnTo>
                <a:lnTo>
                  <a:pt x="1887" y="349"/>
                </a:lnTo>
                <a:lnTo>
                  <a:pt x="1884" y="349"/>
                </a:lnTo>
                <a:lnTo>
                  <a:pt x="1881" y="349"/>
                </a:lnTo>
                <a:lnTo>
                  <a:pt x="1881" y="347"/>
                </a:lnTo>
                <a:lnTo>
                  <a:pt x="1881" y="347"/>
                </a:lnTo>
                <a:lnTo>
                  <a:pt x="1873" y="347"/>
                </a:lnTo>
                <a:lnTo>
                  <a:pt x="1868" y="347"/>
                </a:lnTo>
                <a:lnTo>
                  <a:pt x="1862" y="347"/>
                </a:lnTo>
                <a:lnTo>
                  <a:pt x="1857" y="347"/>
                </a:lnTo>
                <a:lnTo>
                  <a:pt x="1851" y="347"/>
                </a:lnTo>
                <a:lnTo>
                  <a:pt x="1846" y="349"/>
                </a:lnTo>
                <a:lnTo>
                  <a:pt x="1840" y="349"/>
                </a:lnTo>
                <a:lnTo>
                  <a:pt x="1832" y="349"/>
                </a:lnTo>
                <a:lnTo>
                  <a:pt x="1832" y="352"/>
                </a:lnTo>
                <a:lnTo>
                  <a:pt x="1832" y="352"/>
                </a:lnTo>
                <a:lnTo>
                  <a:pt x="1829" y="352"/>
                </a:lnTo>
                <a:lnTo>
                  <a:pt x="1826" y="352"/>
                </a:lnTo>
                <a:lnTo>
                  <a:pt x="1826" y="352"/>
                </a:lnTo>
                <a:lnTo>
                  <a:pt x="1824" y="352"/>
                </a:lnTo>
                <a:lnTo>
                  <a:pt x="1821" y="352"/>
                </a:lnTo>
                <a:lnTo>
                  <a:pt x="1818" y="352"/>
                </a:lnTo>
                <a:lnTo>
                  <a:pt x="1782" y="377"/>
                </a:lnTo>
                <a:lnTo>
                  <a:pt x="1747" y="402"/>
                </a:lnTo>
                <a:lnTo>
                  <a:pt x="1714" y="432"/>
                </a:lnTo>
                <a:lnTo>
                  <a:pt x="1681" y="462"/>
                </a:lnTo>
                <a:lnTo>
                  <a:pt x="1650" y="495"/>
                </a:lnTo>
                <a:lnTo>
                  <a:pt x="1620" y="528"/>
                </a:lnTo>
                <a:lnTo>
                  <a:pt x="1587" y="561"/>
                </a:lnTo>
                <a:lnTo>
                  <a:pt x="1554" y="594"/>
                </a:lnTo>
                <a:lnTo>
                  <a:pt x="1551" y="597"/>
                </a:lnTo>
                <a:lnTo>
                  <a:pt x="1549" y="602"/>
                </a:lnTo>
                <a:lnTo>
                  <a:pt x="1546" y="605"/>
                </a:lnTo>
                <a:lnTo>
                  <a:pt x="1543" y="608"/>
                </a:lnTo>
                <a:lnTo>
                  <a:pt x="1540" y="611"/>
                </a:lnTo>
                <a:lnTo>
                  <a:pt x="1540" y="611"/>
                </a:lnTo>
                <a:lnTo>
                  <a:pt x="1538" y="613"/>
                </a:lnTo>
                <a:lnTo>
                  <a:pt x="1538" y="613"/>
                </a:lnTo>
                <a:lnTo>
                  <a:pt x="1535" y="616"/>
                </a:lnTo>
                <a:lnTo>
                  <a:pt x="1532" y="616"/>
                </a:lnTo>
                <a:lnTo>
                  <a:pt x="1529" y="616"/>
                </a:lnTo>
                <a:lnTo>
                  <a:pt x="1527" y="616"/>
                </a:lnTo>
                <a:lnTo>
                  <a:pt x="1524" y="619"/>
                </a:lnTo>
                <a:lnTo>
                  <a:pt x="1521" y="616"/>
                </a:lnTo>
                <a:lnTo>
                  <a:pt x="1521" y="616"/>
                </a:lnTo>
                <a:lnTo>
                  <a:pt x="1518" y="613"/>
                </a:lnTo>
                <a:lnTo>
                  <a:pt x="1518" y="611"/>
                </a:lnTo>
                <a:lnTo>
                  <a:pt x="1518" y="611"/>
                </a:lnTo>
                <a:lnTo>
                  <a:pt x="1518" y="608"/>
                </a:lnTo>
                <a:lnTo>
                  <a:pt x="1518" y="605"/>
                </a:lnTo>
                <a:lnTo>
                  <a:pt x="1518" y="602"/>
                </a:lnTo>
                <a:lnTo>
                  <a:pt x="1521" y="602"/>
                </a:lnTo>
                <a:lnTo>
                  <a:pt x="1521" y="600"/>
                </a:lnTo>
                <a:lnTo>
                  <a:pt x="1524" y="597"/>
                </a:lnTo>
                <a:lnTo>
                  <a:pt x="1524" y="597"/>
                </a:lnTo>
                <a:lnTo>
                  <a:pt x="1524" y="594"/>
                </a:lnTo>
                <a:lnTo>
                  <a:pt x="1524" y="591"/>
                </a:lnTo>
                <a:lnTo>
                  <a:pt x="1524" y="589"/>
                </a:lnTo>
                <a:lnTo>
                  <a:pt x="1524" y="589"/>
                </a:lnTo>
                <a:lnTo>
                  <a:pt x="1524" y="586"/>
                </a:lnTo>
                <a:lnTo>
                  <a:pt x="1527" y="583"/>
                </a:lnTo>
                <a:lnTo>
                  <a:pt x="1527" y="580"/>
                </a:lnTo>
                <a:lnTo>
                  <a:pt x="1540" y="550"/>
                </a:lnTo>
                <a:lnTo>
                  <a:pt x="1560" y="523"/>
                </a:lnTo>
                <a:lnTo>
                  <a:pt x="1576" y="495"/>
                </a:lnTo>
                <a:lnTo>
                  <a:pt x="1595" y="468"/>
                </a:lnTo>
                <a:lnTo>
                  <a:pt x="1615" y="440"/>
                </a:lnTo>
                <a:lnTo>
                  <a:pt x="1631" y="410"/>
                </a:lnTo>
                <a:lnTo>
                  <a:pt x="1645" y="380"/>
                </a:lnTo>
                <a:lnTo>
                  <a:pt x="1659" y="347"/>
                </a:lnTo>
                <a:lnTo>
                  <a:pt x="1659" y="333"/>
                </a:lnTo>
                <a:lnTo>
                  <a:pt x="1661" y="319"/>
                </a:lnTo>
                <a:lnTo>
                  <a:pt x="1661" y="305"/>
                </a:lnTo>
                <a:lnTo>
                  <a:pt x="1661" y="292"/>
                </a:lnTo>
                <a:lnTo>
                  <a:pt x="1659" y="278"/>
                </a:lnTo>
                <a:lnTo>
                  <a:pt x="1653" y="264"/>
                </a:lnTo>
                <a:lnTo>
                  <a:pt x="1648" y="253"/>
                </a:lnTo>
                <a:lnTo>
                  <a:pt x="1639" y="239"/>
                </a:lnTo>
                <a:lnTo>
                  <a:pt x="1639" y="239"/>
                </a:lnTo>
                <a:lnTo>
                  <a:pt x="1639" y="237"/>
                </a:lnTo>
                <a:lnTo>
                  <a:pt x="1637" y="237"/>
                </a:lnTo>
                <a:lnTo>
                  <a:pt x="1637" y="234"/>
                </a:lnTo>
                <a:lnTo>
                  <a:pt x="1634" y="231"/>
                </a:lnTo>
                <a:lnTo>
                  <a:pt x="1631" y="231"/>
                </a:lnTo>
                <a:lnTo>
                  <a:pt x="1631" y="228"/>
                </a:lnTo>
                <a:lnTo>
                  <a:pt x="1628" y="228"/>
                </a:lnTo>
                <a:lnTo>
                  <a:pt x="1617" y="223"/>
                </a:lnTo>
                <a:lnTo>
                  <a:pt x="1606" y="220"/>
                </a:lnTo>
                <a:lnTo>
                  <a:pt x="1595" y="217"/>
                </a:lnTo>
                <a:lnTo>
                  <a:pt x="1584" y="217"/>
                </a:lnTo>
                <a:lnTo>
                  <a:pt x="1571" y="217"/>
                </a:lnTo>
                <a:lnTo>
                  <a:pt x="1560" y="217"/>
                </a:lnTo>
                <a:lnTo>
                  <a:pt x="1549" y="220"/>
                </a:lnTo>
                <a:lnTo>
                  <a:pt x="1538" y="223"/>
                </a:lnTo>
                <a:lnTo>
                  <a:pt x="1496" y="242"/>
                </a:lnTo>
                <a:lnTo>
                  <a:pt x="1461" y="270"/>
                </a:lnTo>
                <a:lnTo>
                  <a:pt x="1425" y="300"/>
                </a:lnTo>
                <a:lnTo>
                  <a:pt x="1392" y="333"/>
                </a:lnTo>
                <a:lnTo>
                  <a:pt x="1362" y="366"/>
                </a:lnTo>
                <a:lnTo>
                  <a:pt x="1331" y="402"/>
                </a:lnTo>
                <a:lnTo>
                  <a:pt x="1304" y="437"/>
                </a:lnTo>
                <a:lnTo>
                  <a:pt x="1276" y="470"/>
                </a:lnTo>
                <a:lnTo>
                  <a:pt x="1243" y="506"/>
                </a:lnTo>
                <a:lnTo>
                  <a:pt x="1213" y="542"/>
                </a:lnTo>
                <a:lnTo>
                  <a:pt x="1183" y="578"/>
                </a:lnTo>
                <a:lnTo>
                  <a:pt x="1155" y="613"/>
                </a:lnTo>
                <a:lnTo>
                  <a:pt x="1125" y="649"/>
                </a:lnTo>
                <a:lnTo>
                  <a:pt x="1095" y="682"/>
                </a:lnTo>
                <a:lnTo>
                  <a:pt x="1065" y="718"/>
                </a:lnTo>
                <a:lnTo>
                  <a:pt x="1037" y="754"/>
                </a:lnTo>
                <a:lnTo>
                  <a:pt x="1018" y="776"/>
                </a:lnTo>
                <a:lnTo>
                  <a:pt x="999" y="795"/>
                </a:lnTo>
                <a:lnTo>
                  <a:pt x="982" y="814"/>
                </a:lnTo>
                <a:lnTo>
                  <a:pt x="966" y="833"/>
                </a:lnTo>
                <a:lnTo>
                  <a:pt x="949" y="853"/>
                </a:lnTo>
                <a:lnTo>
                  <a:pt x="933" y="869"/>
                </a:lnTo>
                <a:lnTo>
                  <a:pt x="916" y="888"/>
                </a:lnTo>
                <a:lnTo>
                  <a:pt x="900" y="908"/>
                </a:lnTo>
                <a:lnTo>
                  <a:pt x="897" y="908"/>
                </a:lnTo>
                <a:lnTo>
                  <a:pt x="897" y="908"/>
                </a:lnTo>
                <a:lnTo>
                  <a:pt x="894" y="908"/>
                </a:lnTo>
                <a:lnTo>
                  <a:pt x="891" y="910"/>
                </a:lnTo>
                <a:lnTo>
                  <a:pt x="889" y="910"/>
                </a:lnTo>
                <a:lnTo>
                  <a:pt x="889" y="910"/>
                </a:lnTo>
                <a:lnTo>
                  <a:pt x="886" y="908"/>
                </a:lnTo>
                <a:lnTo>
                  <a:pt x="883" y="908"/>
                </a:lnTo>
                <a:lnTo>
                  <a:pt x="905" y="866"/>
                </a:lnTo>
                <a:lnTo>
                  <a:pt x="927" y="825"/>
                </a:lnTo>
                <a:lnTo>
                  <a:pt x="952" y="787"/>
                </a:lnTo>
                <a:lnTo>
                  <a:pt x="977" y="745"/>
                </a:lnTo>
                <a:lnTo>
                  <a:pt x="1001" y="707"/>
                </a:lnTo>
                <a:lnTo>
                  <a:pt x="1029" y="668"/>
                </a:lnTo>
                <a:lnTo>
                  <a:pt x="1054" y="627"/>
                </a:lnTo>
                <a:lnTo>
                  <a:pt x="1078" y="589"/>
                </a:lnTo>
                <a:lnTo>
                  <a:pt x="1103" y="547"/>
                </a:lnTo>
                <a:lnTo>
                  <a:pt x="1128" y="509"/>
                </a:lnTo>
                <a:lnTo>
                  <a:pt x="1150" y="468"/>
                </a:lnTo>
                <a:lnTo>
                  <a:pt x="1175" y="429"/>
                </a:lnTo>
                <a:lnTo>
                  <a:pt x="1199" y="391"/>
                </a:lnTo>
                <a:lnTo>
                  <a:pt x="1224" y="349"/>
                </a:lnTo>
                <a:lnTo>
                  <a:pt x="1249" y="311"/>
                </a:lnTo>
                <a:lnTo>
                  <a:pt x="1276" y="272"/>
                </a:lnTo>
                <a:lnTo>
                  <a:pt x="1290" y="253"/>
                </a:lnTo>
                <a:lnTo>
                  <a:pt x="1301" y="231"/>
                </a:lnTo>
                <a:lnTo>
                  <a:pt x="1315" y="212"/>
                </a:lnTo>
                <a:lnTo>
                  <a:pt x="1329" y="193"/>
                </a:lnTo>
                <a:lnTo>
                  <a:pt x="1340" y="173"/>
                </a:lnTo>
                <a:lnTo>
                  <a:pt x="1351" y="154"/>
                </a:lnTo>
                <a:lnTo>
                  <a:pt x="1362" y="135"/>
                </a:lnTo>
                <a:lnTo>
                  <a:pt x="1373" y="113"/>
                </a:lnTo>
                <a:lnTo>
                  <a:pt x="1375" y="105"/>
                </a:lnTo>
                <a:lnTo>
                  <a:pt x="1375" y="96"/>
                </a:lnTo>
                <a:lnTo>
                  <a:pt x="1375" y="88"/>
                </a:lnTo>
                <a:lnTo>
                  <a:pt x="1375" y="83"/>
                </a:lnTo>
                <a:lnTo>
                  <a:pt x="1375" y="74"/>
                </a:lnTo>
                <a:lnTo>
                  <a:pt x="1375" y="66"/>
                </a:lnTo>
                <a:lnTo>
                  <a:pt x="1373" y="58"/>
                </a:lnTo>
                <a:lnTo>
                  <a:pt x="1373" y="47"/>
                </a:lnTo>
                <a:lnTo>
                  <a:pt x="1370" y="44"/>
                </a:lnTo>
                <a:lnTo>
                  <a:pt x="1367" y="39"/>
                </a:lnTo>
                <a:lnTo>
                  <a:pt x="1364" y="36"/>
                </a:lnTo>
                <a:lnTo>
                  <a:pt x="1362" y="30"/>
                </a:lnTo>
                <a:lnTo>
                  <a:pt x="1359" y="28"/>
                </a:lnTo>
                <a:lnTo>
                  <a:pt x="1353" y="22"/>
                </a:lnTo>
                <a:lnTo>
                  <a:pt x="1351" y="19"/>
                </a:lnTo>
                <a:lnTo>
                  <a:pt x="1345" y="17"/>
                </a:lnTo>
                <a:lnTo>
                  <a:pt x="1345" y="14"/>
                </a:lnTo>
                <a:lnTo>
                  <a:pt x="1342" y="14"/>
                </a:lnTo>
                <a:lnTo>
                  <a:pt x="1342" y="14"/>
                </a:lnTo>
                <a:lnTo>
                  <a:pt x="1340" y="14"/>
                </a:lnTo>
                <a:lnTo>
                  <a:pt x="1337" y="11"/>
                </a:lnTo>
                <a:lnTo>
                  <a:pt x="1337" y="11"/>
                </a:lnTo>
                <a:lnTo>
                  <a:pt x="1334" y="11"/>
                </a:lnTo>
                <a:lnTo>
                  <a:pt x="1331" y="8"/>
                </a:lnTo>
                <a:lnTo>
                  <a:pt x="1315" y="3"/>
                </a:lnTo>
                <a:lnTo>
                  <a:pt x="1301" y="0"/>
                </a:lnTo>
                <a:lnTo>
                  <a:pt x="1285" y="0"/>
                </a:lnTo>
                <a:lnTo>
                  <a:pt x="1268" y="3"/>
                </a:lnTo>
                <a:lnTo>
                  <a:pt x="1252" y="8"/>
                </a:lnTo>
                <a:lnTo>
                  <a:pt x="1235" y="17"/>
                </a:lnTo>
                <a:lnTo>
                  <a:pt x="1219" y="25"/>
                </a:lnTo>
                <a:lnTo>
                  <a:pt x="1205" y="33"/>
                </a:lnTo>
                <a:lnTo>
                  <a:pt x="1177" y="55"/>
                </a:lnTo>
                <a:lnTo>
                  <a:pt x="1150" y="80"/>
                </a:lnTo>
                <a:lnTo>
                  <a:pt x="1125" y="105"/>
                </a:lnTo>
                <a:lnTo>
                  <a:pt x="1098" y="132"/>
                </a:lnTo>
                <a:lnTo>
                  <a:pt x="1073" y="160"/>
                </a:lnTo>
                <a:lnTo>
                  <a:pt x="1048" y="184"/>
                </a:lnTo>
                <a:lnTo>
                  <a:pt x="1023" y="212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9"/>
                </a:lnTo>
                <a:lnTo>
                  <a:pt x="999" y="239"/>
                </a:lnTo>
                <a:lnTo>
                  <a:pt x="999" y="239"/>
                </a:lnTo>
                <a:lnTo>
                  <a:pt x="999" y="242"/>
                </a:lnTo>
                <a:lnTo>
                  <a:pt x="999" y="242"/>
                </a:lnTo>
                <a:lnTo>
                  <a:pt x="999" y="242"/>
                </a:lnTo>
                <a:lnTo>
                  <a:pt x="996" y="242"/>
                </a:lnTo>
                <a:lnTo>
                  <a:pt x="996" y="245"/>
                </a:lnTo>
                <a:lnTo>
                  <a:pt x="996" y="245"/>
                </a:lnTo>
                <a:lnTo>
                  <a:pt x="993" y="248"/>
                </a:lnTo>
                <a:lnTo>
                  <a:pt x="993" y="248"/>
                </a:lnTo>
                <a:lnTo>
                  <a:pt x="993" y="250"/>
                </a:lnTo>
                <a:lnTo>
                  <a:pt x="990" y="250"/>
                </a:lnTo>
                <a:lnTo>
                  <a:pt x="990" y="250"/>
                </a:lnTo>
                <a:lnTo>
                  <a:pt x="963" y="286"/>
                </a:lnTo>
                <a:lnTo>
                  <a:pt x="933" y="319"/>
                </a:lnTo>
                <a:lnTo>
                  <a:pt x="905" y="355"/>
                </a:lnTo>
                <a:lnTo>
                  <a:pt x="875" y="388"/>
                </a:lnTo>
                <a:lnTo>
                  <a:pt x="847" y="424"/>
                </a:lnTo>
                <a:lnTo>
                  <a:pt x="820" y="459"/>
                </a:lnTo>
                <a:lnTo>
                  <a:pt x="790" y="492"/>
                </a:lnTo>
                <a:lnTo>
                  <a:pt x="759" y="528"/>
                </a:lnTo>
                <a:lnTo>
                  <a:pt x="748" y="542"/>
                </a:lnTo>
                <a:lnTo>
                  <a:pt x="735" y="553"/>
                </a:lnTo>
                <a:lnTo>
                  <a:pt x="726" y="567"/>
                </a:lnTo>
                <a:lnTo>
                  <a:pt x="715" y="578"/>
                </a:lnTo>
                <a:lnTo>
                  <a:pt x="704" y="589"/>
                </a:lnTo>
                <a:lnTo>
                  <a:pt x="696" y="600"/>
                </a:lnTo>
                <a:lnTo>
                  <a:pt x="685" y="611"/>
                </a:lnTo>
                <a:lnTo>
                  <a:pt x="674" y="622"/>
                </a:lnTo>
                <a:lnTo>
                  <a:pt x="674" y="622"/>
                </a:lnTo>
                <a:lnTo>
                  <a:pt x="671" y="622"/>
                </a:lnTo>
                <a:lnTo>
                  <a:pt x="671" y="624"/>
                </a:lnTo>
                <a:lnTo>
                  <a:pt x="669" y="624"/>
                </a:lnTo>
                <a:lnTo>
                  <a:pt x="666" y="624"/>
                </a:lnTo>
                <a:lnTo>
                  <a:pt x="663" y="624"/>
                </a:lnTo>
                <a:lnTo>
                  <a:pt x="663" y="624"/>
                </a:lnTo>
                <a:lnTo>
                  <a:pt x="660" y="622"/>
                </a:lnTo>
                <a:lnTo>
                  <a:pt x="660" y="619"/>
                </a:lnTo>
                <a:lnTo>
                  <a:pt x="658" y="616"/>
                </a:lnTo>
                <a:lnTo>
                  <a:pt x="658" y="613"/>
                </a:lnTo>
                <a:lnTo>
                  <a:pt x="658" y="611"/>
                </a:lnTo>
                <a:lnTo>
                  <a:pt x="660" y="608"/>
                </a:lnTo>
                <a:lnTo>
                  <a:pt x="660" y="605"/>
                </a:lnTo>
                <a:lnTo>
                  <a:pt x="660" y="602"/>
                </a:lnTo>
                <a:lnTo>
                  <a:pt x="660" y="597"/>
                </a:lnTo>
                <a:lnTo>
                  <a:pt x="663" y="597"/>
                </a:lnTo>
                <a:lnTo>
                  <a:pt x="663" y="594"/>
                </a:lnTo>
                <a:lnTo>
                  <a:pt x="663" y="591"/>
                </a:lnTo>
                <a:lnTo>
                  <a:pt x="663" y="589"/>
                </a:lnTo>
                <a:lnTo>
                  <a:pt x="666" y="589"/>
                </a:lnTo>
                <a:lnTo>
                  <a:pt x="666" y="586"/>
                </a:lnTo>
                <a:lnTo>
                  <a:pt x="666" y="583"/>
                </a:lnTo>
                <a:lnTo>
                  <a:pt x="666" y="580"/>
                </a:lnTo>
                <a:lnTo>
                  <a:pt x="680" y="550"/>
                </a:lnTo>
                <a:lnTo>
                  <a:pt x="696" y="520"/>
                </a:lnTo>
                <a:lnTo>
                  <a:pt x="715" y="492"/>
                </a:lnTo>
                <a:lnTo>
                  <a:pt x="732" y="465"/>
                </a:lnTo>
                <a:lnTo>
                  <a:pt x="751" y="440"/>
                </a:lnTo>
                <a:lnTo>
                  <a:pt x="768" y="410"/>
                </a:lnTo>
                <a:lnTo>
                  <a:pt x="784" y="380"/>
                </a:lnTo>
                <a:lnTo>
                  <a:pt x="795" y="347"/>
                </a:lnTo>
                <a:lnTo>
                  <a:pt x="798" y="333"/>
                </a:lnTo>
                <a:lnTo>
                  <a:pt x="801" y="319"/>
                </a:lnTo>
                <a:lnTo>
                  <a:pt x="801" y="305"/>
                </a:lnTo>
                <a:lnTo>
                  <a:pt x="801" y="292"/>
                </a:lnTo>
                <a:lnTo>
                  <a:pt x="798" y="278"/>
                </a:lnTo>
                <a:lnTo>
                  <a:pt x="792" y="264"/>
                </a:lnTo>
                <a:lnTo>
                  <a:pt x="787" y="253"/>
                </a:lnTo>
                <a:lnTo>
                  <a:pt x="781" y="239"/>
                </a:lnTo>
                <a:lnTo>
                  <a:pt x="779" y="239"/>
                </a:lnTo>
                <a:lnTo>
                  <a:pt x="779" y="237"/>
                </a:lnTo>
                <a:lnTo>
                  <a:pt x="776" y="237"/>
                </a:lnTo>
                <a:lnTo>
                  <a:pt x="776" y="234"/>
                </a:lnTo>
                <a:lnTo>
                  <a:pt x="773" y="231"/>
                </a:lnTo>
                <a:lnTo>
                  <a:pt x="773" y="231"/>
                </a:lnTo>
                <a:lnTo>
                  <a:pt x="770" y="228"/>
                </a:lnTo>
                <a:lnTo>
                  <a:pt x="770" y="228"/>
                </a:lnTo>
                <a:lnTo>
                  <a:pt x="768" y="228"/>
                </a:lnTo>
                <a:lnTo>
                  <a:pt x="765" y="226"/>
                </a:lnTo>
                <a:lnTo>
                  <a:pt x="762" y="226"/>
                </a:lnTo>
                <a:lnTo>
                  <a:pt x="759" y="223"/>
                </a:lnTo>
                <a:lnTo>
                  <a:pt x="757" y="223"/>
                </a:lnTo>
                <a:lnTo>
                  <a:pt x="754" y="223"/>
                </a:lnTo>
                <a:lnTo>
                  <a:pt x="748" y="220"/>
                </a:lnTo>
                <a:lnTo>
                  <a:pt x="746" y="220"/>
                </a:lnTo>
                <a:lnTo>
                  <a:pt x="737" y="217"/>
                </a:lnTo>
                <a:lnTo>
                  <a:pt x="726" y="215"/>
                </a:lnTo>
                <a:lnTo>
                  <a:pt x="718" y="215"/>
                </a:lnTo>
                <a:lnTo>
                  <a:pt x="707" y="215"/>
                </a:lnTo>
                <a:lnTo>
                  <a:pt x="699" y="217"/>
                </a:lnTo>
                <a:lnTo>
                  <a:pt x="688" y="217"/>
                </a:lnTo>
                <a:lnTo>
                  <a:pt x="680" y="220"/>
                </a:lnTo>
                <a:lnTo>
                  <a:pt x="671" y="223"/>
                </a:lnTo>
                <a:lnTo>
                  <a:pt x="647" y="234"/>
                </a:lnTo>
                <a:lnTo>
                  <a:pt x="625" y="250"/>
                </a:lnTo>
                <a:lnTo>
                  <a:pt x="603" y="267"/>
                </a:lnTo>
                <a:lnTo>
                  <a:pt x="581" y="286"/>
                </a:lnTo>
                <a:lnTo>
                  <a:pt x="559" y="305"/>
                </a:lnTo>
                <a:lnTo>
                  <a:pt x="537" y="325"/>
                </a:lnTo>
                <a:lnTo>
                  <a:pt x="515" y="344"/>
                </a:lnTo>
                <a:lnTo>
                  <a:pt x="493" y="360"/>
                </a:lnTo>
                <a:lnTo>
                  <a:pt x="493" y="363"/>
                </a:lnTo>
                <a:lnTo>
                  <a:pt x="490" y="363"/>
                </a:lnTo>
                <a:lnTo>
                  <a:pt x="490" y="363"/>
                </a:lnTo>
                <a:lnTo>
                  <a:pt x="487" y="363"/>
                </a:lnTo>
                <a:lnTo>
                  <a:pt x="484" y="363"/>
                </a:lnTo>
                <a:lnTo>
                  <a:pt x="482" y="363"/>
                </a:lnTo>
                <a:lnTo>
                  <a:pt x="482" y="363"/>
                </a:lnTo>
                <a:lnTo>
                  <a:pt x="479" y="360"/>
                </a:lnTo>
                <a:lnTo>
                  <a:pt x="476" y="360"/>
                </a:lnTo>
                <a:lnTo>
                  <a:pt x="476" y="360"/>
                </a:lnTo>
                <a:lnTo>
                  <a:pt x="473" y="360"/>
                </a:lnTo>
                <a:lnTo>
                  <a:pt x="471" y="360"/>
                </a:lnTo>
                <a:lnTo>
                  <a:pt x="471" y="358"/>
                </a:lnTo>
                <a:lnTo>
                  <a:pt x="468" y="358"/>
                </a:lnTo>
                <a:lnTo>
                  <a:pt x="468" y="355"/>
                </a:lnTo>
                <a:lnTo>
                  <a:pt x="465" y="355"/>
                </a:lnTo>
                <a:lnTo>
                  <a:pt x="462" y="352"/>
                </a:lnTo>
                <a:lnTo>
                  <a:pt x="460" y="349"/>
                </a:lnTo>
                <a:lnTo>
                  <a:pt x="454" y="347"/>
                </a:lnTo>
                <a:lnTo>
                  <a:pt x="451" y="344"/>
                </a:lnTo>
                <a:lnTo>
                  <a:pt x="446" y="341"/>
                </a:lnTo>
                <a:lnTo>
                  <a:pt x="443" y="338"/>
                </a:lnTo>
                <a:lnTo>
                  <a:pt x="438" y="336"/>
                </a:lnTo>
                <a:lnTo>
                  <a:pt x="435" y="333"/>
                </a:lnTo>
                <a:lnTo>
                  <a:pt x="427" y="330"/>
                </a:lnTo>
                <a:lnTo>
                  <a:pt x="418" y="327"/>
                </a:lnTo>
                <a:lnTo>
                  <a:pt x="410" y="327"/>
                </a:lnTo>
                <a:lnTo>
                  <a:pt x="402" y="327"/>
                </a:lnTo>
                <a:lnTo>
                  <a:pt x="394" y="330"/>
                </a:lnTo>
                <a:lnTo>
                  <a:pt x="385" y="330"/>
                </a:lnTo>
                <a:lnTo>
                  <a:pt x="377" y="330"/>
                </a:lnTo>
                <a:lnTo>
                  <a:pt x="369" y="333"/>
                </a:lnTo>
                <a:lnTo>
                  <a:pt x="366" y="333"/>
                </a:lnTo>
                <a:lnTo>
                  <a:pt x="366" y="336"/>
                </a:lnTo>
                <a:lnTo>
                  <a:pt x="363" y="336"/>
                </a:lnTo>
                <a:lnTo>
                  <a:pt x="363" y="336"/>
                </a:lnTo>
                <a:lnTo>
                  <a:pt x="361" y="338"/>
                </a:lnTo>
                <a:lnTo>
                  <a:pt x="358" y="338"/>
                </a:lnTo>
                <a:lnTo>
                  <a:pt x="355" y="338"/>
                </a:lnTo>
                <a:lnTo>
                  <a:pt x="355" y="338"/>
                </a:lnTo>
                <a:lnTo>
                  <a:pt x="317" y="366"/>
                </a:lnTo>
                <a:lnTo>
                  <a:pt x="281" y="396"/>
                </a:lnTo>
                <a:lnTo>
                  <a:pt x="253" y="429"/>
                </a:lnTo>
                <a:lnTo>
                  <a:pt x="226" y="468"/>
                </a:lnTo>
                <a:lnTo>
                  <a:pt x="201" y="506"/>
                </a:lnTo>
                <a:lnTo>
                  <a:pt x="179" y="547"/>
                </a:lnTo>
                <a:lnTo>
                  <a:pt x="157" y="589"/>
                </a:lnTo>
                <a:lnTo>
                  <a:pt x="135" y="630"/>
                </a:lnTo>
                <a:lnTo>
                  <a:pt x="127" y="652"/>
                </a:lnTo>
                <a:lnTo>
                  <a:pt x="119" y="671"/>
                </a:lnTo>
                <a:lnTo>
                  <a:pt x="108" y="690"/>
                </a:lnTo>
                <a:lnTo>
                  <a:pt x="99" y="710"/>
                </a:lnTo>
                <a:lnTo>
                  <a:pt x="91" y="729"/>
                </a:lnTo>
                <a:lnTo>
                  <a:pt x="83" y="745"/>
                </a:lnTo>
                <a:lnTo>
                  <a:pt x="75" y="765"/>
                </a:lnTo>
                <a:lnTo>
                  <a:pt x="69" y="784"/>
                </a:lnTo>
                <a:lnTo>
                  <a:pt x="66" y="787"/>
                </a:lnTo>
                <a:lnTo>
                  <a:pt x="66" y="789"/>
                </a:lnTo>
                <a:lnTo>
                  <a:pt x="66" y="792"/>
                </a:lnTo>
                <a:lnTo>
                  <a:pt x="64" y="795"/>
                </a:lnTo>
                <a:lnTo>
                  <a:pt x="64" y="798"/>
                </a:lnTo>
                <a:lnTo>
                  <a:pt x="61" y="800"/>
                </a:lnTo>
                <a:lnTo>
                  <a:pt x="61" y="803"/>
                </a:lnTo>
                <a:lnTo>
                  <a:pt x="61" y="803"/>
                </a:lnTo>
                <a:lnTo>
                  <a:pt x="20" y="930"/>
                </a:lnTo>
                <a:lnTo>
                  <a:pt x="17" y="932"/>
                </a:lnTo>
                <a:lnTo>
                  <a:pt x="17" y="935"/>
                </a:lnTo>
                <a:lnTo>
                  <a:pt x="17" y="938"/>
                </a:lnTo>
                <a:lnTo>
                  <a:pt x="17" y="941"/>
                </a:lnTo>
                <a:lnTo>
                  <a:pt x="17" y="943"/>
                </a:lnTo>
                <a:lnTo>
                  <a:pt x="17" y="946"/>
                </a:lnTo>
                <a:lnTo>
                  <a:pt x="17" y="949"/>
                </a:lnTo>
                <a:lnTo>
                  <a:pt x="17" y="952"/>
                </a:lnTo>
                <a:lnTo>
                  <a:pt x="0" y="1053"/>
                </a:lnTo>
                <a:lnTo>
                  <a:pt x="0" y="1056"/>
                </a:lnTo>
                <a:lnTo>
                  <a:pt x="0" y="1059"/>
                </a:lnTo>
                <a:lnTo>
                  <a:pt x="3" y="1061"/>
                </a:lnTo>
                <a:lnTo>
                  <a:pt x="3" y="1064"/>
                </a:lnTo>
                <a:lnTo>
                  <a:pt x="3" y="1067"/>
                </a:lnTo>
                <a:lnTo>
                  <a:pt x="3" y="1070"/>
                </a:lnTo>
                <a:lnTo>
                  <a:pt x="6" y="1072"/>
                </a:lnTo>
                <a:lnTo>
                  <a:pt x="9" y="1075"/>
                </a:lnTo>
                <a:lnTo>
                  <a:pt x="9" y="1078"/>
                </a:lnTo>
                <a:lnTo>
                  <a:pt x="11" y="1078"/>
                </a:lnTo>
                <a:lnTo>
                  <a:pt x="11" y="1081"/>
                </a:lnTo>
                <a:lnTo>
                  <a:pt x="14" y="1081"/>
                </a:lnTo>
                <a:lnTo>
                  <a:pt x="17" y="1083"/>
                </a:lnTo>
                <a:lnTo>
                  <a:pt x="20" y="1083"/>
                </a:lnTo>
                <a:lnTo>
                  <a:pt x="22" y="1086"/>
                </a:lnTo>
                <a:lnTo>
                  <a:pt x="25" y="1089"/>
                </a:lnTo>
                <a:lnTo>
                  <a:pt x="132" y="1108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4"/>
                </a:lnTo>
                <a:lnTo>
                  <a:pt x="135" y="1114"/>
                </a:lnTo>
                <a:lnTo>
                  <a:pt x="138" y="1116"/>
                </a:lnTo>
                <a:lnTo>
                  <a:pt x="138" y="1116"/>
                </a:lnTo>
                <a:lnTo>
                  <a:pt x="141" y="1116"/>
                </a:lnTo>
                <a:lnTo>
                  <a:pt x="141" y="1119"/>
                </a:lnTo>
                <a:lnTo>
                  <a:pt x="138" y="1122"/>
                </a:lnTo>
                <a:lnTo>
                  <a:pt x="138" y="1122"/>
                </a:lnTo>
                <a:lnTo>
                  <a:pt x="138" y="1125"/>
                </a:lnTo>
                <a:lnTo>
                  <a:pt x="138" y="1125"/>
                </a:lnTo>
                <a:lnTo>
                  <a:pt x="135" y="1127"/>
                </a:lnTo>
                <a:lnTo>
                  <a:pt x="135" y="1130"/>
                </a:lnTo>
                <a:lnTo>
                  <a:pt x="135" y="1130"/>
                </a:lnTo>
                <a:lnTo>
                  <a:pt x="124" y="1149"/>
                </a:lnTo>
                <a:lnTo>
                  <a:pt x="116" y="1171"/>
                </a:lnTo>
                <a:lnTo>
                  <a:pt x="110" y="1191"/>
                </a:lnTo>
                <a:lnTo>
                  <a:pt x="105" y="1213"/>
                </a:lnTo>
                <a:lnTo>
                  <a:pt x="102" y="1235"/>
                </a:lnTo>
                <a:lnTo>
                  <a:pt x="99" y="1257"/>
                </a:lnTo>
                <a:lnTo>
                  <a:pt x="97" y="1276"/>
                </a:lnTo>
                <a:lnTo>
                  <a:pt x="94" y="1298"/>
                </a:lnTo>
                <a:lnTo>
                  <a:pt x="97" y="1303"/>
                </a:lnTo>
                <a:lnTo>
                  <a:pt x="97" y="1306"/>
                </a:lnTo>
                <a:lnTo>
                  <a:pt x="99" y="1309"/>
                </a:lnTo>
                <a:lnTo>
                  <a:pt x="99" y="1314"/>
                </a:lnTo>
                <a:lnTo>
                  <a:pt x="99" y="1317"/>
                </a:lnTo>
                <a:lnTo>
                  <a:pt x="102" y="1320"/>
                </a:lnTo>
                <a:lnTo>
                  <a:pt x="105" y="1325"/>
                </a:lnTo>
                <a:lnTo>
                  <a:pt x="108" y="1328"/>
                </a:lnTo>
                <a:lnTo>
                  <a:pt x="110" y="1328"/>
                </a:lnTo>
                <a:lnTo>
                  <a:pt x="110" y="1331"/>
                </a:lnTo>
                <a:lnTo>
                  <a:pt x="113" y="1331"/>
                </a:lnTo>
                <a:lnTo>
                  <a:pt x="113" y="1334"/>
                </a:lnTo>
                <a:lnTo>
                  <a:pt x="116" y="1334"/>
                </a:lnTo>
                <a:lnTo>
                  <a:pt x="116" y="1336"/>
                </a:lnTo>
                <a:lnTo>
                  <a:pt x="119" y="1336"/>
                </a:lnTo>
                <a:lnTo>
                  <a:pt x="119" y="1336"/>
                </a:lnTo>
                <a:lnTo>
                  <a:pt x="130" y="1342"/>
                </a:lnTo>
                <a:lnTo>
                  <a:pt x="143" y="1345"/>
                </a:lnTo>
                <a:lnTo>
                  <a:pt x="154" y="1347"/>
                </a:lnTo>
                <a:lnTo>
                  <a:pt x="168" y="1347"/>
                </a:lnTo>
                <a:lnTo>
                  <a:pt x="182" y="1347"/>
                </a:lnTo>
                <a:lnTo>
                  <a:pt x="196" y="1347"/>
                </a:lnTo>
                <a:lnTo>
                  <a:pt x="209" y="1345"/>
                </a:lnTo>
                <a:lnTo>
                  <a:pt x="220" y="1345"/>
                </a:lnTo>
                <a:lnTo>
                  <a:pt x="240" y="1331"/>
                </a:lnTo>
                <a:lnTo>
                  <a:pt x="259" y="1320"/>
                </a:lnTo>
                <a:lnTo>
                  <a:pt x="275" y="1306"/>
                </a:lnTo>
                <a:lnTo>
                  <a:pt x="292" y="1290"/>
                </a:lnTo>
                <a:lnTo>
                  <a:pt x="308" y="1276"/>
                </a:lnTo>
                <a:lnTo>
                  <a:pt x="328" y="1259"/>
                </a:lnTo>
                <a:lnTo>
                  <a:pt x="344" y="1243"/>
                </a:lnTo>
                <a:lnTo>
                  <a:pt x="361" y="1226"/>
                </a:lnTo>
                <a:lnTo>
                  <a:pt x="363" y="1226"/>
                </a:lnTo>
                <a:lnTo>
                  <a:pt x="363" y="1226"/>
                </a:lnTo>
                <a:lnTo>
                  <a:pt x="366" y="1226"/>
                </a:lnTo>
                <a:lnTo>
                  <a:pt x="369" y="1226"/>
                </a:lnTo>
                <a:lnTo>
                  <a:pt x="372" y="1226"/>
                </a:lnTo>
                <a:lnTo>
                  <a:pt x="372" y="1226"/>
                </a:lnTo>
                <a:lnTo>
                  <a:pt x="374" y="1226"/>
                </a:lnTo>
                <a:lnTo>
                  <a:pt x="374" y="1226"/>
                </a:lnTo>
                <a:lnTo>
                  <a:pt x="377" y="1229"/>
                </a:lnTo>
                <a:lnTo>
                  <a:pt x="377" y="1235"/>
                </a:lnTo>
                <a:lnTo>
                  <a:pt x="377" y="1237"/>
                </a:lnTo>
                <a:lnTo>
                  <a:pt x="377" y="1240"/>
                </a:lnTo>
                <a:lnTo>
                  <a:pt x="377" y="1246"/>
                </a:lnTo>
                <a:lnTo>
                  <a:pt x="374" y="1248"/>
                </a:lnTo>
                <a:lnTo>
                  <a:pt x="374" y="1251"/>
                </a:lnTo>
                <a:lnTo>
                  <a:pt x="374" y="1257"/>
                </a:lnTo>
                <a:lnTo>
                  <a:pt x="352" y="1301"/>
                </a:lnTo>
                <a:lnTo>
                  <a:pt x="330" y="1345"/>
                </a:lnTo>
                <a:lnTo>
                  <a:pt x="306" y="1389"/>
                </a:lnTo>
                <a:lnTo>
                  <a:pt x="281" y="1435"/>
                </a:lnTo>
                <a:lnTo>
                  <a:pt x="262" y="1482"/>
                </a:lnTo>
                <a:lnTo>
                  <a:pt x="248" y="1532"/>
                </a:lnTo>
                <a:lnTo>
                  <a:pt x="242" y="1581"/>
                </a:lnTo>
                <a:lnTo>
                  <a:pt x="248" y="1633"/>
                </a:lnTo>
                <a:lnTo>
                  <a:pt x="248" y="1636"/>
                </a:lnTo>
                <a:lnTo>
                  <a:pt x="248" y="1639"/>
                </a:lnTo>
                <a:lnTo>
                  <a:pt x="248" y="1639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9" y="1653"/>
                </a:lnTo>
                <a:lnTo>
                  <a:pt x="273" y="1661"/>
                </a:lnTo>
                <a:lnTo>
                  <a:pt x="284" y="1666"/>
                </a:lnTo>
                <a:lnTo>
                  <a:pt x="300" y="1669"/>
                </a:lnTo>
                <a:lnTo>
                  <a:pt x="314" y="1669"/>
                </a:lnTo>
                <a:lnTo>
                  <a:pt x="330" y="1669"/>
                </a:lnTo>
                <a:lnTo>
                  <a:pt x="347" y="1666"/>
                </a:lnTo>
                <a:lnTo>
                  <a:pt x="361" y="1664"/>
                </a:lnTo>
                <a:lnTo>
                  <a:pt x="380" y="1658"/>
                </a:lnTo>
                <a:lnTo>
                  <a:pt x="396" y="1650"/>
                </a:lnTo>
                <a:lnTo>
                  <a:pt x="413" y="1639"/>
                </a:lnTo>
                <a:lnTo>
                  <a:pt x="429" y="1628"/>
                </a:lnTo>
                <a:lnTo>
                  <a:pt x="443" y="1620"/>
                </a:lnTo>
                <a:lnTo>
                  <a:pt x="457" y="1609"/>
                </a:lnTo>
                <a:lnTo>
                  <a:pt x="473" y="1598"/>
                </a:lnTo>
                <a:lnTo>
                  <a:pt x="490" y="1589"/>
                </a:lnTo>
                <a:lnTo>
                  <a:pt x="493" y="1589"/>
                </a:lnTo>
                <a:lnTo>
                  <a:pt x="493" y="1589"/>
                </a:lnTo>
                <a:lnTo>
                  <a:pt x="495" y="1589"/>
                </a:lnTo>
                <a:lnTo>
                  <a:pt x="495" y="1589"/>
                </a:lnTo>
                <a:lnTo>
                  <a:pt x="498" y="1589"/>
                </a:lnTo>
                <a:lnTo>
                  <a:pt x="501" y="1589"/>
                </a:lnTo>
                <a:lnTo>
                  <a:pt x="501" y="1589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5"/>
                </a:lnTo>
                <a:lnTo>
                  <a:pt x="504" y="1595"/>
                </a:lnTo>
                <a:lnTo>
                  <a:pt x="504" y="1598"/>
                </a:lnTo>
                <a:lnTo>
                  <a:pt x="504" y="1600"/>
                </a:lnTo>
                <a:lnTo>
                  <a:pt x="487" y="1631"/>
                </a:lnTo>
                <a:lnTo>
                  <a:pt x="465" y="1664"/>
                </a:lnTo>
                <a:lnTo>
                  <a:pt x="440" y="1694"/>
                </a:lnTo>
                <a:lnTo>
                  <a:pt x="418" y="1727"/>
                </a:lnTo>
                <a:lnTo>
                  <a:pt x="402" y="1760"/>
                </a:lnTo>
                <a:lnTo>
                  <a:pt x="388" y="1796"/>
                </a:lnTo>
                <a:lnTo>
                  <a:pt x="385" y="1834"/>
                </a:lnTo>
                <a:lnTo>
                  <a:pt x="391" y="1875"/>
                </a:lnTo>
                <a:lnTo>
                  <a:pt x="391" y="1878"/>
                </a:lnTo>
                <a:lnTo>
                  <a:pt x="391" y="1881"/>
                </a:lnTo>
                <a:lnTo>
                  <a:pt x="394" y="1884"/>
                </a:lnTo>
                <a:lnTo>
                  <a:pt x="396" y="1886"/>
                </a:lnTo>
                <a:lnTo>
                  <a:pt x="399" y="1889"/>
                </a:lnTo>
                <a:lnTo>
                  <a:pt x="402" y="1892"/>
                </a:lnTo>
                <a:lnTo>
                  <a:pt x="402" y="1895"/>
                </a:lnTo>
                <a:lnTo>
                  <a:pt x="405" y="1897"/>
                </a:lnTo>
                <a:lnTo>
                  <a:pt x="407" y="1900"/>
                </a:lnTo>
                <a:lnTo>
                  <a:pt x="410" y="1900"/>
                </a:lnTo>
                <a:lnTo>
                  <a:pt x="413" y="1903"/>
                </a:lnTo>
                <a:lnTo>
                  <a:pt x="416" y="1903"/>
                </a:lnTo>
                <a:lnTo>
                  <a:pt x="416" y="1906"/>
                </a:lnTo>
                <a:lnTo>
                  <a:pt x="418" y="1908"/>
                </a:lnTo>
                <a:lnTo>
                  <a:pt x="421" y="1908"/>
                </a:lnTo>
                <a:lnTo>
                  <a:pt x="427" y="1911"/>
                </a:lnTo>
                <a:lnTo>
                  <a:pt x="438" y="1917"/>
                </a:lnTo>
                <a:lnTo>
                  <a:pt x="451" y="1917"/>
                </a:lnTo>
                <a:lnTo>
                  <a:pt x="465" y="1919"/>
                </a:lnTo>
                <a:lnTo>
                  <a:pt x="479" y="1917"/>
                </a:lnTo>
                <a:lnTo>
                  <a:pt x="493" y="1917"/>
                </a:lnTo>
                <a:lnTo>
                  <a:pt x="509" y="1914"/>
                </a:lnTo>
                <a:lnTo>
                  <a:pt x="523" y="1911"/>
                </a:lnTo>
                <a:lnTo>
                  <a:pt x="537" y="1906"/>
                </a:lnTo>
                <a:lnTo>
                  <a:pt x="572" y="1884"/>
                </a:lnTo>
                <a:lnTo>
                  <a:pt x="605" y="1859"/>
                </a:lnTo>
                <a:lnTo>
                  <a:pt x="638" y="1834"/>
                </a:lnTo>
                <a:lnTo>
                  <a:pt x="671" y="1804"/>
                </a:lnTo>
                <a:lnTo>
                  <a:pt x="704" y="1774"/>
                </a:lnTo>
                <a:lnTo>
                  <a:pt x="735" y="1743"/>
                </a:lnTo>
                <a:lnTo>
                  <a:pt x="768" y="1713"/>
                </a:lnTo>
                <a:lnTo>
                  <a:pt x="803" y="1686"/>
                </a:lnTo>
                <a:lnTo>
                  <a:pt x="803" y="1686"/>
                </a:lnTo>
                <a:lnTo>
                  <a:pt x="806" y="1686"/>
                </a:lnTo>
                <a:lnTo>
                  <a:pt x="809" y="1686"/>
                </a:lnTo>
                <a:lnTo>
                  <a:pt x="809" y="1686"/>
                </a:lnTo>
                <a:lnTo>
                  <a:pt x="812" y="1686"/>
                </a:lnTo>
                <a:lnTo>
                  <a:pt x="812" y="1686"/>
                </a:lnTo>
                <a:lnTo>
                  <a:pt x="814" y="1686"/>
                </a:lnTo>
                <a:lnTo>
                  <a:pt x="814" y="1686"/>
                </a:lnTo>
                <a:lnTo>
                  <a:pt x="814" y="1688"/>
                </a:lnTo>
                <a:lnTo>
                  <a:pt x="817" y="1688"/>
                </a:lnTo>
                <a:lnTo>
                  <a:pt x="817" y="1691"/>
                </a:lnTo>
                <a:lnTo>
                  <a:pt x="817" y="1694"/>
                </a:lnTo>
                <a:lnTo>
                  <a:pt x="817" y="1694"/>
                </a:lnTo>
                <a:lnTo>
                  <a:pt x="817" y="1697"/>
                </a:lnTo>
                <a:lnTo>
                  <a:pt x="817" y="1699"/>
                </a:lnTo>
                <a:lnTo>
                  <a:pt x="817" y="1702"/>
                </a:lnTo>
                <a:lnTo>
                  <a:pt x="817" y="1702"/>
                </a:lnTo>
                <a:lnTo>
                  <a:pt x="817" y="1705"/>
                </a:lnTo>
                <a:lnTo>
                  <a:pt x="817" y="1705"/>
                </a:lnTo>
                <a:lnTo>
                  <a:pt x="814" y="1708"/>
                </a:lnTo>
                <a:lnTo>
                  <a:pt x="814" y="1710"/>
                </a:lnTo>
                <a:lnTo>
                  <a:pt x="814" y="1710"/>
                </a:lnTo>
                <a:lnTo>
                  <a:pt x="812" y="1713"/>
                </a:lnTo>
                <a:lnTo>
                  <a:pt x="812" y="1716"/>
                </a:lnTo>
                <a:lnTo>
                  <a:pt x="792" y="1757"/>
                </a:lnTo>
                <a:lnTo>
                  <a:pt x="768" y="1796"/>
                </a:lnTo>
                <a:lnTo>
                  <a:pt x="743" y="1834"/>
                </a:lnTo>
                <a:lnTo>
                  <a:pt x="718" y="1875"/>
                </a:lnTo>
                <a:lnTo>
                  <a:pt x="693" y="1917"/>
                </a:lnTo>
                <a:lnTo>
                  <a:pt x="677" y="1958"/>
                </a:lnTo>
                <a:lnTo>
                  <a:pt x="671" y="2002"/>
                </a:lnTo>
                <a:lnTo>
                  <a:pt x="674" y="2051"/>
                </a:lnTo>
                <a:lnTo>
                  <a:pt x="677" y="2054"/>
                </a:lnTo>
                <a:lnTo>
                  <a:pt x="680" y="2057"/>
                </a:lnTo>
                <a:lnTo>
                  <a:pt x="680" y="2060"/>
                </a:lnTo>
                <a:lnTo>
                  <a:pt x="682" y="2062"/>
                </a:lnTo>
                <a:lnTo>
                  <a:pt x="685" y="2068"/>
                </a:lnTo>
                <a:lnTo>
                  <a:pt x="688" y="2071"/>
                </a:lnTo>
                <a:lnTo>
                  <a:pt x="691" y="2073"/>
                </a:lnTo>
                <a:lnTo>
                  <a:pt x="696" y="2076"/>
                </a:lnTo>
                <a:lnTo>
                  <a:pt x="696" y="2079"/>
                </a:lnTo>
                <a:lnTo>
                  <a:pt x="699" y="2079"/>
                </a:lnTo>
                <a:lnTo>
                  <a:pt x="702" y="2079"/>
                </a:lnTo>
                <a:lnTo>
                  <a:pt x="704" y="2082"/>
                </a:lnTo>
                <a:lnTo>
                  <a:pt x="707" y="2082"/>
                </a:lnTo>
                <a:lnTo>
                  <a:pt x="710" y="2082"/>
                </a:lnTo>
                <a:lnTo>
                  <a:pt x="713" y="2084"/>
                </a:lnTo>
                <a:lnTo>
                  <a:pt x="715" y="2084"/>
                </a:lnTo>
                <a:lnTo>
                  <a:pt x="718" y="2087"/>
                </a:lnTo>
                <a:lnTo>
                  <a:pt x="718" y="2087"/>
                </a:lnTo>
                <a:lnTo>
                  <a:pt x="721" y="2087"/>
                </a:lnTo>
                <a:lnTo>
                  <a:pt x="724" y="2087"/>
                </a:lnTo>
                <a:lnTo>
                  <a:pt x="726" y="2087"/>
                </a:lnTo>
                <a:lnTo>
                  <a:pt x="729" y="2090"/>
                </a:lnTo>
                <a:lnTo>
                  <a:pt x="729" y="2090"/>
                </a:lnTo>
                <a:lnTo>
                  <a:pt x="732" y="2090"/>
                </a:lnTo>
                <a:lnTo>
                  <a:pt x="735" y="2090"/>
                </a:lnTo>
                <a:lnTo>
                  <a:pt x="737" y="2090"/>
                </a:lnTo>
                <a:lnTo>
                  <a:pt x="740" y="2090"/>
                </a:lnTo>
                <a:lnTo>
                  <a:pt x="743" y="2090"/>
                </a:lnTo>
                <a:lnTo>
                  <a:pt x="746" y="2090"/>
                </a:lnTo>
                <a:lnTo>
                  <a:pt x="748" y="2090"/>
                </a:lnTo>
                <a:lnTo>
                  <a:pt x="748" y="2087"/>
                </a:lnTo>
                <a:lnTo>
                  <a:pt x="751" y="208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9400" y="2376360"/>
            <a:ext cx="7585200" cy="21049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Relative Frequency Distribu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476440" y="3808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61" name=""/>
          <p:cNvSpPr/>
          <p:nvPr/>
        </p:nvSpPr>
        <p:spPr>
          <a:xfrm>
            <a:off x="1305000" y="235260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Organize 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raw dat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into frequency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149640"/>
            <a:ext cx="805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Produce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istogra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requency polyg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umulative frequency polyg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ntitativ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4734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Develop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and interpr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 stem-and-leaf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0040" y="14479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When you have completed this chapter, you will be ab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4720" y="2409840"/>
          <a:ext cx="4572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4720" y="2409840"/>
                    <a:ext cx="457200" cy="457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99192" dir="13818056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506520" y="3209760"/>
          <a:ext cx="465120" cy="44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20" y="3209760"/>
                    <a:ext cx="465120" cy="443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81185" dir="13878031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04720" y="4788000"/>
          <a:ext cx="44604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4720" y="4788000"/>
                    <a:ext cx="446040" cy="476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81185" dir="13878031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71" name=""/>
          <p:cNvSpPr txBox="1"/>
          <p:nvPr/>
        </p:nvSpPr>
        <p:spPr>
          <a:xfrm>
            <a:off x="7505640" y="6172200"/>
            <a:ext cx="1257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83017" dir="12821405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</a:rPr>
              <a:t>and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83017" dir="12821405" blurRad="0" rotWithShape="0">
                  <a:srgbClr val="b2b2b2">
                    <a:alpha val="50000"/>
                  </a:srgbClr>
                </a:outerShdw>
              </a:effectLst>
              <a:latin typeface="Copper Black"/>
              <a:ea typeface="Copper Black"/>
            </a:endParaRPr>
          </a:p>
        </p:txBody>
      </p:sp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349280" y="76320"/>
            <a:ext cx="681192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66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elative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requency </a:t>
            </a: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stribu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160" y="1111320"/>
            <a:ext cx="86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ws th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ercent of observations in each clas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4120" y="1486080"/>
            <a:ext cx="389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urs Studying </a:t>
            </a: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96000" y="1581120"/>
            <a:ext cx="65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29160" y="2200320"/>
            <a:ext cx="965160" cy="3543120"/>
          </a:xfrm>
          <a:prstGeom prst="rect">
            <a:avLst/>
          </a:prstGeom>
          <a:solidFill>
            <a:srgbClr val="ffeac5"/>
          </a:solidFill>
          <a:ln w="9360">
            <a:solidFill>
              <a:srgbClr val="000000"/>
            </a:solidFill>
            <a:miter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786200" y="233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81440" y="30542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86200" y="3765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86200" y="44323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6200" y="5156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653080" y="1592280"/>
            <a:ext cx="3148200" cy="4141800"/>
            <a:chOff x="5653080" y="1592280"/>
            <a:chExt cx="3148200" cy="4141800"/>
          </a:xfrm>
        </p:grpSpPr>
        <p:sp>
          <p:nvSpPr>
            <p:cNvPr id="370" name=""/>
            <p:cNvSpPr/>
            <p:nvPr/>
          </p:nvSpPr>
          <p:spPr>
            <a:xfrm>
              <a:off x="5653080" y="2200320"/>
              <a:ext cx="3148200" cy="3533760"/>
            </a:xfrm>
            <a:prstGeom prst="rect">
              <a:avLst/>
            </a:prstGeom>
            <a:solidFill>
              <a:srgbClr val="ffeac5"/>
            </a:solidFill>
            <a:ln w="9360">
              <a:solidFill>
                <a:srgbClr val="000000"/>
              </a:solidFill>
              <a:miter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08840" y="1592280"/>
              <a:ext cx="225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Relative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537080" y="5851440"/>
            <a:ext cx="955800" cy="64260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304920" y="2228760"/>
            <a:ext cx="3971880" cy="4265280"/>
            <a:chOff x="304920" y="2228760"/>
            <a:chExt cx="3971880" cy="4265280"/>
          </a:xfrm>
        </p:grpSpPr>
        <p:sp>
          <p:nvSpPr>
            <p:cNvPr id="374" name=""/>
            <p:cNvSpPr/>
            <p:nvPr/>
          </p:nvSpPr>
          <p:spPr>
            <a:xfrm>
              <a:off x="304920" y="2228760"/>
              <a:ext cx="3971880" cy="3506400"/>
            </a:xfrm>
            <a:prstGeom prst="rect">
              <a:avLst/>
            </a:prstGeom>
            <a:solidFill>
              <a:srgbClr val="ffeac5"/>
            </a:solidFill>
            <a:ln w="9360">
              <a:solidFill>
                <a:srgbClr val="000000"/>
              </a:solidFill>
              <a:miter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40000"/>
                  </a:solidFill>
                  <a:latin typeface="Times New Roman"/>
                </a:rPr>
                <a:t>10.0 </a:t>
              </a:r>
              <a:r>
                <a:rPr b="1" lang="en-US" sz="4000" spc="-1" strike="noStrike">
                  <a:solidFill>
                    <a:srgbClr val="040000"/>
                  </a:solidFill>
                  <a:latin typeface="Times New Roman"/>
                </a:rPr>
                <a:t>to</a:t>
              </a:r>
              <a:r>
                <a:rPr b="1" i="1" lang="en-US" sz="4000" spc="-1" strike="noStrike">
                  <a:solidFill>
                    <a:srgbClr val="04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4400" spc="-1" strike="noStrike">
                  <a:solidFill>
                    <a:srgbClr val="040000"/>
                  </a:solidFill>
                  <a:latin typeface="Times New Roman"/>
                </a:rPr>
                <a:t> 1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40000"/>
                  </a:solidFill>
                  <a:latin typeface="Times New Roman"/>
                </a:rPr>
                <a:t>15.0 </a:t>
              </a:r>
              <a:r>
                <a:rPr b="1" lang="en-US" sz="4000" spc="-1" strike="noStrike">
                  <a:solidFill>
                    <a:srgbClr val="040000"/>
                  </a:solidFill>
                  <a:latin typeface="Times New Roman"/>
                </a:rPr>
                <a:t>to</a:t>
              </a:r>
              <a:r>
                <a:rPr b="1" lang="en-US" sz="4400" spc="-1" strike="noStrike">
                  <a:solidFill>
                    <a:srgbClr val="04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4800" spc="-1" strike="noStrike">
                  <a:solidFill>
                    <a:srgbClr val="04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40000"/>
                  </a:solidFill>
                  <a:latin typeface="Times New Roman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40000"/>
                  </a:solidFill>
                  <a:latin typeface="Times New Roman"/>
                </a:rPr>
                <a:t>20.0 </a:t>
              </a:r>
              <a:r>
                <a:rPr b="1" lang="en-US" sz="4000" spc="-1" strike="noStrike">
                  <a:solidFill>
                    <a:srgbClr val="040000"/>
                  </a:solidFill>
                  <a:latin typeface="Times New Roman"/>
                </a:rPr>
                <a:t>to </a:t>
              </a:r>
              <a:r>
                <a:rPr b="1" i="1" lang="en-US" sz="44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4400" spc="-1" strike="noStrike">
                  <a:solidFill>
                    <a:srgbClr val="040000"/>
                  </a:solidFill>
                  <a:latin typeface="Times New Roman"/>
                </a:rPr>
                <a:t> 2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40000"/>
                  </a:solidFill>
                  <a:latin typeface="Times New Roman"/>
                </a:rPr>
                <a:t>25.0 </a:t>
              </a:r>
              <a:r>
                <a:rPr b="1" lang="en-US" sz="4000" spc="-1" strike="noStrike">
                  <a:solidFill>
                    <a:srgbClr val="040000"/>
                  </a:solidFill>
                  <a:latin typeface="Times New Roman"/>
                </a:rPr>
                <a:t>to </a:t>
              </a:r>
              <a:r>
                <a:rPr b="1" i="1" lang="en-US" sz="44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4400" spc="-1" strike="noStrike">
                  <a:solidFill>
                    <a:srgbClr val="040000"/>
                  </a:solidFill>
                  <a:latin typeface="Times New Roman"/>
                </a:rPr>
                <a:t> 3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40000"/>
                  </a:solidFill>
                  <a:latin typeface="Times New Roman"/>
                </a:rPr>
                <a:t>30.0 </a:t>
              </a:r>
              <a:r>
                <a:rPr b="1" lang="en-US" sz="4000" spc="-1" strike="noStrike">
                  <a:solidFill>
                    <a:srgbClr val="040000"/>
                  </a:solidFill>
                  <a:latin typeface="Times New Roman"/>
                </a:rPr>
                <a:t>to </a:t>
              </a:r>
              <a:r>
                <a:rPr b="1" i="1" lang="en-US" sz="4400" spc="-1" strike="noStrike">
                  <a:solidFill>
                    <a:srgbClr val="040000"/>
                  </a:solidFill>
                  <a:latin typeface="Times New Roman"/>
                </a:rPr>
                <a:t>under </a:t>
              </a:r>
              <a:r>
                <a:rPr b="1" lang="en-US" sz="4400" spc="-1" strike="noStrike">
                  <a:solidFill>
                    <a:srgbClr val="040000"/>
                  </a:solidFill>
                  <a:latin typeface="Times New Roman"/>
                </a:rPr>
                <a:t>3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46280" y="5851440"/>
              <a:ext cx="1654200" cy="642600"/>
            </a:xfrm>
            <a:prstGeom prst="rect">
              <a:avLst/>
            </a:prstGeom>
            <a:solidFill>
              <a:srgbClr val="ffeac5"/>
            </a:solidFill>
            <a:ln w="0">
              <a:noFill/>
            </a:ln>
            <a:effectLst>
              <a:outerShdw dist="107932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5765760" y="234324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/30 =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0.233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670720" y="3057480"/>
            <a:ext cx="30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/30 =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0.4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51640" y="3733920"/>
            <a:ext cx="30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/30 =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0.233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840280" y="4419720"/>
            <a:ext cx="27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/30 =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0.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9080" y="5153040"/>
            <a:ext cx="29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/30 =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0.033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51400" y="5851440"/>
            <a:ext cx="2127600" cy="64260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30/30 =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8" dur="75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150"/>
                            </p:stCondLst>
                            <p:childTnLst>
                              <p:par>
                                <p:cTn id="6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0" dur="75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5" dur="75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750"/>
                            </p:stCondLst>
                            <p:childTnLst>
                              <p:par>
                                <p:cTn id="6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9" dur="75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75"/>
                            </p:stCondLst>
                            <p:childTnLst>
                              <p:par>
                                <p:cTn id="6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3" dur="75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250"/>
                            </p:stCondLst>
                            <p:childTnLst>
                              <p:par>
                                <p:cTn id="6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7" dur="75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75"/>
                            </p:stCondLst>
                            <p:childTnLst>
                              <p:par>
                                <p:cTn id="6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1" dur="75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704960" y="304920"/>
            <a:ext cx="5810400" cy="70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ing different lim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26880" y="1314360"/>
            <a:ext cx="4237200" cy="4218120"/>
            <a:chOff x="326880" y="1314360"/>
            <a:chExt cx="4237200" cy="4218120"/>
          </a:xfrm>
        </p:grpSpPr>
        <p:sp>
          <p:nvSpPr>
            <p:cNvPr id="384" name=""/>
            <p:cNvSpPr/>
            <p:nvPr/>
          </p:nvSpPr>
          <p:spPr>
            <a:xfrm>
              <a:off x="476280" y="2085840"/>
              <a:ext cx="3971880" cy="3446640"/>
            </a:xfrm>
            <a:prstGeom prst="rect">
              <a:avLst/>
            </a:prstGeom>
            <a:solidFill>
              <a:srgbClr val="ffeac5"/>
            </a:solidFill>
            <a:ln w="9360">
              <a:solidFill>
                <a:srgbClr val="000000"/>
              </a:solidFill>
              <a:miter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7.5 </a:t>
              </a:r>
              <a:r>
                <a:rPr b="1" lang="en-US" sz="3200" spc="-1" strike="noStrike">
                  <a:solidFill>
                    <a:srgbClr val="040000"/>
                  </a:solidFill>
                  <a:latin typeface="Times New Roman"/>
                </a:rPr>
                <a:t>to</a:t>
              </a:r>
              <a:r>
                <a:rPr b="1" i="1" lang="en-US" sz="3200" spc="-1" strike="noStrike">
                  <a:solidFill>
                    <a:srgbClr val="040000"/>
                  </a:solidFill>
                  <a:latin typeface="Times New Roman"/>
                </a:rPr>
                <a:t> </a:t>
              </a:r>
              <a:r>
                <a:rPr b="1" i="1" lang="en-US" sz="36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 12.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12.5 </a:t>
              </a:r>
              <a:r>
                <a:rPr b="1" lang="en-US" sz="3200" spc="-1" strike="noStrike">
                  <a:solidFill>
                    <a:srgbClr val="040000"/>
                  </a:solidFill>
                  <a:latin typeface="Times New Roman"/>
                </a:rPr>
                <a:t>to</a:t>
              </a: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 </a:t>
              </a:r>
              <a:r>
                <a:rPr b="1" i="1" lang="en-US" sz="36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4000" spc="-1" strike="noStrike">
                  <a:solidFill>
                    <a:srgbClr val="04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17.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17.5 </a:t>
              </a:r>
              <a:r>
                <a:rPr b="1" lang="en-US" sz="3200" spc="-1" strike="noStrike">
                  <a:solidFill>
                    <a:srgbClr val="040000"/>
                  </a:solidFill>
                  <a:latin typeface="Times New Roman"/>
                </a:rPr>
                <a:t>to </a:t>
              </a:r>
              <a:r>
                <a:rPr b="1" i="1" lang="en-US" sz="36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 22.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22.5 </a:t>
              </a:r>
              <a:r>
                <a:rPr b="1" lang="en-US" sz="3200" spc="-1" strike="noStrike">
                  <a:solidFill>
                    <a:srgbClr val="040000"/>
                  </a:solidFill>
                  <a:latin typeface="Times New Roman"/>
                </a:rPr>
                <a:t>to </a:t>
              </a:r>
              <a:r>
                <a:rPr b="1" i="1" lang="en-US" sz="36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 27.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27.5 </a:t>
              </a:r>
              <a:r>
                <a:rPr b="1" lang="en-US" sz="3200" spc="-1" strike="noStrike">
                  <a:solidFill>
                    <a:srgbClr val="040000"/>
                  </a:solidFill>
                  <a:latin typeface="Times New Roman"/>
                </a:rPr>
                <a:t>to </a:t>
              </a:r>
              <a:r>
                <a:rPr b="1" i="1" lang="en-US" sz="3600" spc="-1" strike="noStrike">
                  <a:solidFill>
                    <a:srgbClr val="040000"/>
                  </a:solidFill>
                  <a:latin typeface="Times New Roman"/>
                </a:rPr>
                <a:t>under </a:t>
              </a: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32.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32.5 </a:t>
              </a:r>
              <a:r>
                <a:rPr b="1" i="1" lang="en-US" sz="3600" spc="-1" strike="noStrike">
                  <a:solidFill>
                    <a:srgbClr val="040000"/>
                  </a:solidFill>
                  <a:latin typeface="Times New Roman"/>
                </a:rPr>
                <a:t>to under</a:t>
              </a:r>
              <a:r>
                <a:rPr b="1" lang="en-US" sz="3600" spc="-1" strike="noStrike">
                  <a:solidFill>
                    <a:srgbClr val="040000"/>
                  </a:solidFill>
                  <a:latin typeface="Times New Roman"/>
                </a:rPr>
                <a:t> 37.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6880" y="1314360"/>
              <a:ext cx="4237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Hours Studying </a:t>
              </a:r>
              <a:r>
                <a:rPr b="1" i="1" lang="en-US" sz="4800" spc="-1" strike="noStrike">
                  <a:solidFill>
                    <a:srgbClr val="0000ff"/>
                  </a:solidFill>
                  <a:latin typeface="Times New Roman"/>
                </a:rPr>
                <a:t> x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4943520" y="1335240"/>
            <a:ext cx="65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0" y="2057400"/>
            <a:ext cx="965160" cy="3514680"/>
          </a:xfrm>
          <a:prstGeom prst="rect">
            <a:avLst/>
          </a:prstGeom>
          <a:solidFill>
            <a:srgbClr val="ffeac5"/>
          </a:solidFill>
          <a:ln w="9360">
            <a:solidFill>
              <a:srgbClr val="000000"/>
            </a:solidFill>
            <a:miter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659560" y="1477800"/>
            <a:ext cx="3147840" cy="4098600"/>
            <a:chOff x="5659560" y="1477800"/>
            <a:chExt cx="3147840" cy="4098600"/>
          </a:xfrm>
        </p:grpSpPr>
        <p:sp>
          <p:nvSpPr>
            <p:cNvPr id="389" name=""/>
            <p:cNvSpPr/>
            <p:nvPr/>
          </p:nvSpPr>
          <p:spPr>
            <a:xfrm>
              <a:off x="5659560" y="2079360"/>
              <a:ext cx="3147840" cy="3497040"/>
            </a:xfrm>
            <a:prstGeom prst="rect">
              <a:avLst/>
            </a:prstGeom>
            <a:solidFill>
              <a:srgbClr val="ffeac5"/>
            </a:solidFill>
            <a:ln w="9360">
              <a:solidFill>
                <a:srgbClr val="000000"/>
              </a:solidFill>
              <a:miter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14960" y="1477800"/>
              <a:ext cx="225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Relative </a:t>
              </a: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4572000" y="5737320"/>
            <a:ext cx="955800" cy="64260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81200" y="5737320"/>
            <a:ext cx="1654200" cy="64260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915160" y="2085840"/>
            <a:ext cx="29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/30 =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0.033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05640" y="2685960"/>
            <a:ext cx="30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/30 =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0.4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99160" y="327672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/30 =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0.333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03840" y="4419720"/>
            <a:ext cx="32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/30 =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0.03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75400" y="5010120"/>
            <a:ext cx="32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/30 =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0.033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57880" y="5737320"/>
            <a:ext cx="2127240" cy="64260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30/30 =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4716360" y="2114640"/>
            <a:ext cx="657000" cy="3439440"/>
            <a:chOff x="4716360" y="2114640"/>
            <a:chExt cx="657000" cy="3439440"/>
          </a:xfrm>
        </p:grpSpPr>
        <p:sp>
          <p:nvSpPr>
            <p:cNvPr id="400" name=""/>
            <p:cNvSpPr/>
            <p:nvPr/>
          </p:nvSpPr>
          <p:spPr>
            <a:xfrm>
              <a:off x="4859280" y="21146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35440" y="269532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16360" y="327312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59280" y="43779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59280" y="4911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69000" y="3816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689440" y="3828960"/>
            <a:ext cx="34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/30 =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0.166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5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531800" y="142920"/>
            <a:ext cx="6537600" cy="1047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2675" dir="756058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tem-and-leaf Display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2695680" y="1609560"/>
            <a:ext cx="4267080" cy="49816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87200" y="2457360"/>
            <a:ext cx="8769600" cy="163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1840" indent="-2318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10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ach numerical value is divided into two par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the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eading digits become the st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railing digits become the lea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5760" y="4514760"/>
            <a:ext cx="8637480" cy="140940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dvantag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f the stem-and-lea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play over a frequency distribution is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t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e retain the value of each observ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3000" y="1727280"/>
            <a:ext cx="8901000" cy="532440"/>
          </a:xfrm>
          <a:prstGeom prst="rect">
            <a:avLst/>
          </a:prstGeom>
          <a:solidFill>
            <a:srgbClr val="ffeac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tatistical technique for displaying a set of dat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52600" y="4452840"/>
            <a:ext cx="1438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Note: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362640" y="6305400"/>
            <a:ext cx="2648160" cy="304920"/>
            <a:chOff x="6362640" y="6305400"/>
            <a:chExt cx="2648160" cy="304920"/>
          </a:xfrm>
        </p:grpSpPr>
        <p:sp>
          <p:nvSpPr>
            <p:cNvPr id="414" name=""/>
            <p:cNvSpPr/>
            <p:nvPr/>
          </p:nvSpPr>
          <p:spPr>
            <a:xfrm>
              <a:off x="6362640" y="6477120"/>
              <a:ext cx="26481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6667560" y="6305400"/>
              <a:ext cx="203832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EXAMPL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randomBar dir="vert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1" dur="75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75"/>
                            </p:stCondLst>
                            <p:childTnLst>
                              <p:par>
                                <p:cTn id="7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5" dur="75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4075"/>
                            </p:stCondLst>
                            <p:childTnLst>
                              <p:par>
                                <p:cTn id="7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9" dur="75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6625"/>
                            </p:stCondLst>
                            <p:childTnLst>
                              <p:par>
                                <p:cTn id="7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3" dur="75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865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9150"/>
                            </p:stCondLst>
                            <p:childTnLst>
                              <p:par>
                                <p:cTn id="7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965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797040" y="2185560"/>
            <a:ext cx="7549920" cy="30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tudent achieved the following scores on the twelve accounting quizzes this semest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86, 79, 92, 84, 69, 88, 91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83, 96, 78, 82, 85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143000" y="5000760"/>
            <a:ext cx="6886440" cy="1400040"/>
            <a:chOff x="1143000" y="5000760"/>
            <a:chExt cx="6886440" cy="1400040"/>
          </a:xfrm>
        </p:grpSpPr>
        <p:sp>
          <p:nvSpPr>
            <p:cNvPr id="419" name=""/>
            <p:cNvSpPr/>
            <p:nvPr/>
          </p:nvSpPr>
          <p:spPr>
            <a:xfrm>
              <a:off x="1143000" y="5000760"/>
              <a:ext cx="6886440" cy="1400040"/>
            </a:xfrm>
            <a:prstGeom prst="bevel">
              <a:avLst>
                <a:gd name="adj" fmla="val 125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46040" y="5192640"/>
              <a:ext cx="6450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Construct a stem-and-leaf chart to illustrate the results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1531800" y="142920"/>
            <a:ext cx="6537600" cy="1047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2675" dir="756058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tem-and-leaf Display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95360" y="1486080"/>
            <a:ext cx="2485440" cy="871200"/>
            <a:chOff x="495360" y="1486080"/>
            <a:chExt cx="2485440" cy="871200"/>
          </a:xfrm>
        </p:grpSpPr>
        <p:sp>
          <p:nvSpPr>
            <p:cNvPr id="423" name=""/>
            <p:cNvSpPr txBox="1"/>
            <p:nvPr/>
          </p:nvSpPr>
          <p:spPr>
            <a:xfrm>
              <a:off x="495360" y="1486080"/>
              <a:ext cx="604440" cy="87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1133280" y="1695240"/>
              <a:ext cx="1847520" cy="47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split dir="in" orient="vert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5172120" y="2543040"/>
            <a:ext cx="600120" cy="543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31800" y="142920"/>
            <a:ext cx="6537600" cy="1047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2675" dir="756058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tem-and-leaf Display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34920" y="184788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rs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find the lowest s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28920" y="2549520"/>
            <a:ext cx="4286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86, 79, 92, 84, 69, 88, 91, 83, 96, 78, 82, 85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88840" y="3657600"/>
            <a:ext cx="732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Now list the next scores with the highes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eading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ig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8720" y="4791240"/>
            <a:ext cx="76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ou should now have the following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TEM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52600" y="543564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9, 78,  82,  9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40000" y="54212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020840" y="54212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25880" y="54212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11840" y="54212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4" dur="75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800"/>
                            </p:stCondLst>
                            <p:childTnLst>
                              <p:par>
                                <p:cTn id="76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4" dur="75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9" dur="75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55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050"/>
                            </p:stCondLst>
                            <p:childTnLst>
                              <p:par>
                                <p:cTn id="78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3550"/>
                            </p:stCondLst>
                            <p:childTnLst>
                              <p:par>
                                <p:cTn id="78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4050"/>
                            </p:stCondLst>
                            <p:childTnLst>
                              <p:par>
                                <p:cTn id="79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550"/>
                            </p:stCondLst>
                            <p:childTnLst>
                              <p:par>
                                <p:cTn id="79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"/>
          <p:cNvGrpSpPr/>
          <p:nvPr/>
        </p:nvGrpSpPr>
        <p:grpSpPr>
          <a:xfrm>
            <a:off x="1962000" y="2806560"/>
            <a:ext cx="847800" cy="3250800"/>
            <a:chOff x="1962000" y="2806560"/>
            <a:chExt cx="847800" cy="3250800"/>
          </a:xfrm>
        </p:grpSpPr>
        <p:sp>
          <p:nvSpPr>
            <p:cNvPr id="437" name=""/>
            <p:cNvSpPr/>
            <p:nvPr/>
          </p:nvSpPr>
          <p:spPr>
            <a:xfrm flipV="1">
              <a:off x="2457360" y="3015720"/>
              <a:ext cx="0" cy="304164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62000" y="2806560"/>
              <a:ext cx="847800" cy="317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19600" y="2101680"/>
            <a:ext cx="600120" cy="543240"/>
          </a:xfrm>
          <a:prstGeom prst="ellipse">
            <a:avLst/>
          </a:prstGeom>
          <a:solidFill>
            <a:srgbClr val="ffea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25720" y="1455840"/>
            <a:ext cx="600120" cy="542880"/>
          </a:xfrm>
          <a:prstGeom prst="ellipse">
            <a:avLst/>
          </a:prstGeom>
          <a:solidFill>
            <a:srgbClr val="ffea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896080" y="1422360"/>
            <a:ext cx="600120" cy="542880"/>
          </a:xfrm>
          <a:prstGeom prst="ellipse">
            <a:avLst/>
          </a:prstGeom>
          <a:solidFill>
            <a:srgbClr val="ffea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19200" y="1441440"/>
            <a:ext cx="600120" cy="542880"/>
          </a:xfrm>
          <a:prstGeom prst="ellipse">
            <a:avLst/>
          </a:prstGeom>
          <a:solidFill>
            <a:srgbClr val="ffea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96080" y="2108160"/>
            <a:ext cx="600120" cy="542880"/>
          </a:xfrm>
          <a:prstGeom prst="ellipse">
            <a:avLst/>
          </a:prstGeom>
          <a:solidFill>
            <a:srgbClr val="ffea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92800" y="1447920"/>
            <a:ext cx="599760" cy="542880"/>
          </a:xfrm>
          <a:prstGeom prst="ellipse">
            <a:avLst/>
          </a:prstGeom>
          <a:solidFill>
            <a:srgbClr val="ffea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05000" y="2085840"/>
            <a:ext cx="600120" cy="543240"/>
          </a:xfrm>
          <a:prstGeom prst="ellipse">
            <a:avLst/>
          </a:prstGeom>
          <a:solidFill>
            <a:srgbClr val="ffea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52880" y="1434960"/>
            <a:ext cx="600120" cy="543240"/>
          </a:xfrm>
          <a:prstGeom prst="ellipse">
            <a:avLst/>
          </a:prstGeom>
          <a:solidFill>
            <a:srgbClr val="ffea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26000" y="3262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98640" y="3963960"/>
            <a:ext cx="7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8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026000" y="46054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26000" y="53769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91800" y="3963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20240" y="4611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20240" y="537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20240" y="3252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914400" y="2784600"/>
            <a:ext cx="762120" cy="3171240"/>
            <a:chOff x="914400" y="2784600"/>
            <a:chExt cx="762120" cy="3171240"/>
          </a:xfrm>
        </p:grpSpPr>
        <p:sp>
          <p:nvSpPr>
            <p:cNvPr id="456" name=""/>
            <p:cNvSpPr/>
            <p:nvPr/>
          </p:nvSpPr>
          <p:spPr>
            <a:xfrm>
              <a:off x="1295280" y="3083760"/>
              <a:ext cx="0" cy="28720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14400" y="2784600"/>
              <a:ext cx="762120" cy="35892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pl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038400" y="2695680"/>
            <a:ext cx="1447560" cy="1446840"/>
            <a:chOff x="3038400" y="2695680"/>
            <a:chExt cx="1447560" cy="1446840"/>
          </a:xfrm>
        </p:grpSpPr>
        <p:grpSp>
          <p:nvGrpSpPr>
            <p:cNvPr id="459" name=""/>
            <p:cNvGrpSpPr/>
            <p:nvPr/>
          </p:nvGrpSpPr>
          <p:grpSpPr>
            <a:xfrm>
              <a:off x="3038400" y="2923920"/>
              <a:ext cx="1447560" cy="1218600"/>
              <a:chOff x="3038400" y="2923920"/>
              <a:chExt cx="1447560" cy="1218600"/>
            </a:xfrm>
          </p:grpSpPr>
          <p:sp>
            <p:nvSpPr>
              <p:cNvPr id="460" name=""/>
              <p:cNvSpPr/>
              <p:nvPr/>
            </p:nvSpPr>
            <p:spPr>
              <a:xfrm>
                <a:off x="3740040" y="2923920"/>
                <a:ext cx="319320" cy="604440"/>
              </a:xfrm>
              <a:custGeom>
                <a:avLst/>
                <a:gdLst/>
                <a:ahLst/>
                <a:rect l="l" t="t" r="r" b="b"/>
                <a:pathLst>
                  <a:path w="216" h="378">
                    <a:moveTo>
                      <a:pt x="216" y="210"/>
                    </a:moveTo>
                    <a:lnTo>
                      <a:pt x="216" y="210"/>
                    </a:lnTo>
                    <a:lnTo>
                      <a:pt x="216" y="198"/>
                    </a:lnTo>
                    <a:lnTo>
                      <a:pt x="216" y="186"/>
                    </a:lnTo>
                    <a:lnTo>
                      <a:pt x="216" y="174"/>
                    </a:lnTo>
                    <a:lnTo>
                      <a:pt x="216" y="162"/>
                    </a:lnTo>
                    <a:lnTo>
                      <a:pt x="210" y="150"/>
                    </a:lnTo>
                    <a:lnTo>
                      <a:pt x="204" y="138"/>
                    </a:lnTo>
                    <a:lnTo>
                      <a:pt x="204" y="126"/>
                    </a:lnTo>
                    <a:lnTo>
                      <a:pt x="198" y="114"/>
                    </a:lnTo>
                    <a:lnTo>
                      <a:pt x="192" y="108"/>
                    </a:lnTo>
                    <a:lnTo>
                      <a:pt x="186" y="96"/>
                    </a:lnTo>
                    <a:lnTo>
                      <a:pt x="174" y="78"/>
                    </a:lnTo>
                    <a:lnTo>
                      <a:pt x="162" y="60"/>
                    </a:lnTo>
                    <a:lnTo>
                      <a:pt x="156" y="48"/>
                    </a:lnTo>
                    <a:lnTo>
                      <a:pt x="150" y="42"/>
                    </a:lnTo>
                    <a:lnTo>
                      <a:pt x="144" y="42"/>
                    </a:lnTo>
                    <a:lnTo>
                      <a:pt x="144" y="36"/>
                    </a:lnTo>
                    <a:lnTo>
                      <a:pt x="138" y="30"/>
                    </a:lnTo>
                    <a:lnTo>
                      <a:pt x="132" y="24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14" y="24"/>
                    </a:lnTo>
                    <a:lnTo>
                      <a:pt x="108" y="24"/>
                    </a:lnTo>
                    <a:lnTo>
                      <a:pt x="108" y="24"/>
                    </a:lnTo>
                    <a:lnTo>
                      <a:pt x="102" y="24"/>
                    </a:lnTo>
                    <a:lnTo>
                      <a:pt x="102" y="30"/>
                    </a:lnTo>
                    <a:lnTo>
                      <a:pt x="96" y="36"/>
                    </a:lnTo>
                    <a:lnTo>
                      <a:pt x="90" y="24"/>
                    </a:lnTo>
                    <a:lnTo>
                      <a:pt x="72" y="18"/>
                    </a:lnTo>
                    <a:lnTo>
                      <a:pt x="66" y="12"/>
                    </a:lnTo>
                    <a:lnTo>
                      <a:pt x="60" y="6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12" y="48"/>
                    </a:lnTo>
                    <a:lnTo>
                      <a:pt x="12" y="54"/>
                    </a:lnTo>
                    <a:lnTo>
                      <a:pt x="18" y="54"/>
                    </a:lnTo>
                    <a:lnTo>
                      <a:pt x="24" y="66"/>
                    </a:lnTo>
                    <a:lnTo>
                      <a:pt x="30" y="66"/>
                    </a:lnTo>
                    <a:lnTo>
                      <a:pt x="42" y="72"/>
                    </a:lnTo>
                    <a:lnTo>
                      <a:pt x="54" y="84"/>
                    </a:lnTo>
                    <a:lnTo>
                      <a:pt x="72" y="96"/>
                    </a:lnTo>
                    <a:lnTo>
                      <a:pt x="84" y="108"/>
                    </a:lnTo>
                    <a:lnTo>
                      <a:pt x="96" y="126"/>
                    </a:lnTo>
                    <a:lnTo>
                      <a:pt x="114" y="138"/>
                    </a:lnTo>
                    <a:lnTo>
                      <a:pt x="120" y="156"/>
                    </a:lnTo>
                    <a:lnTo>
                      <a:pt x="138" y="168"/>
                    </a:lnTo>
                    <a:lnTo>
                      <a:pt x="144" y="186"/>
                    </a:lnTo>
                    <a:lnTo>
                      <a:pt x="156" y="198"/>
                    </a:lnTo>
                    <a:lnTo>
                      <a:pt x="168" y="216"/>
                    </a:lnTo>
                    <a:lnTo>
                      <a:pt x="180" y="234"/>
                    </a:lnTo>
                    <a:lnTo>
                      <a:pt x="192" y="258"/>
                    </a:lnTo>
                    <a:lnTo>
                      <a:pt x="192" y="282"/>
                    </a:lnTo>
                    <a:lnTo>
                      <a:pt x="204" y="306"/>
                    </a:lnTo>
                    <a:lnTo>
                      <a:pt x="210" y="330"/>
                    </a:lnTo>
                    <a:lnTo>
                      <a:pt x="216" y="354"/>
                    </a:lnTo>
                    <a:lnTo>
                      <a:pt x="216" y="378"/>
                    </a:lnTo>
                    <a:lnTo>
                      <a:pt x="216" y="2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740040" y="2923920"/>
                <a:ext cx="319320" cy="604440"/>
              </a:xfrm>
              <a:custGeom>
                <a:avLst/>
                <a:gdLst/>
                <a:ahLst/>
                <a:rect l="l" t="t" r="r" b="b"/>
                <a:pathLst>
                  <a:path w="216" h="378">
                    <a:moveTo>
                      <a:pt x="216" y="210"/>
                    </a:moveTo>
                    <a:lnTo>
                      <a:pt x="216" y="198"/>
                    </a:lnTo>
                    <a:lnTo>
                      <a:pt x="216" y="186"/>
                    </a:lnTo>
                    <a:lnTo>
                      <a:pt x="216" y="174"/>
                    </a:lnTo>
                    <a:lnTo>
                      <a:pt x="216" y="162"/>
                    </a:lnTo>
                    <a:lnTo>
                      <a:pt x="210" y="150"/>
                    </a:lnTo>
                    <a:lnTo>
                      <a:pt x="204" y="138"/>
                    </a:lnTo>
                    <a:lnTo>
                      <a:pt x="204" y="126"/>
                    </a:lnTo>
                    <a:lnTo>
                      <a:pt x="198" y="114"/>
                    </a:lnTo>
                    <a:lnTo>
                      <a:pt x="192" y="108"/>
                    </a:lnTo>
                    <a:lnTo>
                      <a:pt x="186" y="96"/>
                    </a:lnTo>
                    <a:lnTo>
                      <a:pt x="174" y="78"/>
                    </a:lnTo>
                    <a:lnTo>
                      <a:pt x="162" y="60"/>
                    </a:lnTo>
                    <a:lnTo>
                      <a:pt x="156" y="48"/>
                    </a:lnTo>
                    <a:lnTo>
                      <a:pt x="150" y="42"/>
                    </a:lnTo>
                    <a:lnTo>
                      <a:pt x="144" y="42"/>
                    </a:lnTo>
                    <a:lnTo>
                      <a:pt x="144" y="36"/>
                    </a:lnTo>
                    <a:lnTo>
                      <a:pt x="138" y="30"/>
                    </a:lnTo>
                    <a:lnTo>
                      <a:pt x="132" y="24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14" y="24"/>
                    </a:lnTo>
                    <a:lnTo>
                      <a:pt x="108" y="24"/>
                    </a:lnTo>
                    <a:lnTo>
                      <a:pt x="102" y="24"/>
                    </a:lnTo>
                    <a:lnTo>
                      <a:pt x="102" y="30"/>
                    </a:lnTo>
                    <a:lnTo>
                      <a:pt x="96" y="36"/>
                    </a:lnTo>
                    <a:lnTo>
                      <a:pt x="90" y="24"/>
                    </a:lnTo>
                    <a:lnTo>
                      <a:pt x="72" y="18"/>
                    </a:lnTo>
                    <a:lnTo>
                      <a:pt x="66" y="12"/>
                    </a:lnTo>
                    <a:lnTo>
                      <a:pt x="60" y="6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12" y="48"/>
                    </a:lnTo>
                    <a:lnTo>
                      <a:pt x="12" y="54"/>
                    </a:lnTo>
                    <a:lnTo>
                      <a:pt x="18" y="54"/>
                    </a:lnTo>
                    <a:lnTo>
                      <a:pt x="24" y="66"/>
                    </a:lnTo>
                    <a:lnTo>
                      <a:pt x="30" y="66"/>
                    </a:lnTo>
                    <a:lnTo>
                      <a:pt x="42" y="72"/>
                    </a:lnTo>
                    <a:lnTo>
                      <a:pt x="54" y="84"/>
                    </a:lnTo>
                    <a:lnTo>
                      <a:pt x="72" y="96"/>
                    </a:lnTo>
                    <a:lnTo>
                      <a:pt x="84" y="108"/>
                    </a:lnTo>
                    <a:lnTo>
                      <a:pt x="96" y="126"/>
                    </a:lnTo>
                    <a:lnTo>
                      <a:pt x="114" y="138"/>
                    </a:lnTo>
                    <a:lnTo>
                      <a:pt x="120" y="156"/>
                    </a:lnTo>
                    <a:lnTo>
                      <a:pt x="138" y="168"/>
                    </a:lnTo>
                    <a:lnTo>
                      <a:pt x="144" y="186"/>
                    </a:lnTo>
                    <a:lnTo>
                      <a:pt x="156" y="198"/>
                    </a:lnTo>
                    <a:lnTo>
                      <a:pt x="168" y="216"/>
                    </a:lnTo>
                    <a:lnTo>
                      <a:pt x="180" y="234"/>
                    </a:lnTo>
                    <a:lnTo>
                      <a:pt x="192" y="258"/>
                    </a:lnTo>
                    <a:lnTo>
                      <a:pt x="192" y="282"/>
                    </a:lnTo>
                    <a:lnTo>
                      <a:pt x="204" y="306"/>
                    </a:lnTo>
                    <a:lnTo>
                      <a:pt x="210" y="330"/>
                    </a:lnTo>
                    <a:lnTo>
                      <a:pt x="216" y="354"/>
                    </a:lnTo>
                    <a:lnTo>
                      <a:pt x="216" y="378"/>
                    </a:lnTo>
                    <a:lnTo>
                      <a:pt x="216" y="210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068720" y="3115800"/>
                <a:ext cx="417240" cy="412200"/>
              </a:xfrm>
              <a:custGeom>
                <a:avLst/>
                <a:gdLst/>
                <a:ahLst/>
                <a:rect l="l" t="t" r="r" b="b"/>
                <a:pathLst>
                  <a:path w="282" h="258">
                    <a:moveTo>
                      <a:pt x="0" y="258"/>
                    </a:moveTo>
                    <a:lnTo>
                      <a:pt x="0" y="258"/>
                    </a:lnTo>
                    <a:lnTo>
                      <a:pt x="6" y="240"/>
                    </a:lnTo>
                    <a:lnTo>
                      <a:pt x="18" y="228"/>
                    </a:lnTo>
                    <a:lnTo>
                      <a:pt x="24" y="216"/>
                    </a:lnTo>
                    <a:lnTo>
                      <a:pt x="30" y="204"/>
                    </a:lnTo>
                    <a:lnTo>
                      <a:pt x="36" y="192"/>
                    </a:lnTo>
                    <a:lnTo>
                      <a:pt x="42" y="186"/>
                    </a:lnTo>
                    <a:lnTo>
                      <a:pt x="48" y="174"/>
                    </a:lnTo>
                    <a:lnTo>
                      <a:pt x="66" y="150"/>
                    </a:lnTo>
                    <a:lnTo>
                      <a:pt x="90" y="126"/>
                    </a:lnTo>
                    <a:lnTo>
                      <a:pt x="114" y="102"/>
                    </a:lnTo>
                    <a:lnTo>
                      <a:pt x="132" y="78"/>
                    </a:lnTo>
                    <a:lnTo>
                      <a:pt x="150" y="54"/>
                    </a:lnTo>
                    <a:lnTo>
                      <a:pt x="168" y="42"/>
                    </a:lnTo>
                    <a:lnTo>
                      <a:pt x="180" y="30"/>
                    </a:lnTo>
                    <a:lnTo>
                      <a:pt x="192" y="18"/>
                    </a:lnTo>
                    <a:lnTo>
                      <a:pt x="210" y="18"/>
                    </a:lnTo>
                    <a:lnTo>
                      <a:pt x="210" y="12"/>
                    </a:lnTo>
                    <a:lnTo>
                      <a:pt x="222" y="12"/>
                    </a:lnTo>
                    <a:lnTo>
                      <a:pt x="228" y="6"/>
                    </a:lnTo>
                    <a:lnTo>
                      <a:pt x="234" y="6"/>
                    </a:lnTo>
                    <a:lnTo>
                      <a:pt x="240" y="6"/>
                    </a:lnTo>
                    <a:lnTo>
                      <a:pt x="252" y="0"/>
                    </a:lnTo>
                    <a:lnTo>
                      <a:pt x="258" y="6"/>
                    </a:lnTo>
                    <a:lnTo>
                      <a:pt x="258" y="6"/>
                    </a:lnTo>
                    <a:lnTo>
                      <a:pt x="258" y="12"/>
                    </a:lnTo>
                    <a:lnTo>
                      <a:pt x="264" y="12"/>
                    </a:lnTo>
                    <a:lnTo>
                      <a:pt x="264" y="18"/>
                    </a:lnTo>
                    <a:lnTo>
                      <a:pt x="264" y="18"/>
                    </a:lnTo>
                    <a:lnTo>
                      <a:pt x="264" y="30"/>
                    </a:lnTo>
                    <a:lnTo>
                      <a:pt x="264" y="36"/>
                    </a:lnTo>
                    <a:lnTo>
                      <a:pt x="264" y="36"/>
                    </a:lnTo>
                    <a:lnTo>
                      <a:pt x="264" y="42"/>
                    </a:lnTo>
                    <a:lnTo>
                      <a:pt x="258" y="42"/>
                    </a:lnTo>
                    <a:lnTo>
                      <a:pt x="258" y="42"/>
                    </a:lnTo>
                    <a:lnTo>
                      <a:pt x="258" y="48"/>
                    </a:lnTo>
                    <a:lnTo>
                      <a:pt x="252" y="54"/>
                    </a:lnTo>
                    <a:lnTo>
                      <a:pt x="246" y="60"/>
                    </a:lnTo>
                    <a:lnTo>
                      <a:pt x="240" y="66"/>
                    </a:lnTo>
                    <a:lnTo>
                      <a:pt x="228" y="72"/>
                    </a:lnTo>
                    <a:lnTo>
                      <a:pt x="234" y="72"/>
                    </a:lnTo>
                    <a:lnTo>
                      <a:pt x="240" y="72"/>
                    </a:lnTo>
                    <a:lnTo>
                      <a:pt x="252" y="72"/>
                    </a:lnTo>
                    <a:lnTo>
                      <a:pt x="258" y="72"/>
                    </a:lnTo>
                    <a:lnTo>
                      <a:pt x="264" y="72"/>
                    </a:lnTo>
                    <a:lnTo>
                      <a:pt x="276" y="78"/>
                    </a:lnTo>
                    <a:lnTo>
                      <a:pt x="282" y="84"/>
                    </a:lnTo>
                    <a:lnTo>
                      <a:pt x="282" y="84"/>
                    </a:lnTo>
                    <a:lnTo>
                      <a:pt x="282" y="90"/>
                    </a:lnTo>
                    <a:lnTo>
                      <a:pt x="282" y="90"/>
                    </a:lnTo>
                    <a:lnTo>
                      <a:pt x="282" y="90"/>
                    </a:lnTo>
                    <a:lnTo>
                      <a:pt x="282" y="96"/>
                    </a:lnTo>
                    <a:lnTo>
                      <a:pt x="282" y="102"/>
                    </a:lnTo>
                    <a:lnTo>
                      <a:pt x="282" y="108"/>
                    </a:lnTo>
                    <a:lnTo>
                      <a:pt x="282" y="114"/>
                    </a:lnTo>
                    <a:lnTo>
                      <a:pt x="282" y="114"/>
                    </a:lnTo>
                    <a:lnTo>
                      <a:pt x="276" y="120"/>
                    </a:lnTo>
                    <a:lnTo>
                      <a:pt x="270" y="126"/>
                    </a:lnTo>
                    <a:lnTo>
                      <a:pt x="264" y="132"/>
                    </a:lnTo>
                    <a:lnTo>
                      <a:pt x="258" y="132"/>
                    </a:lnTo>
                    <a:lnTo>
                      <a:pt x="252" y="138"/>
                    </a:lnTo>
                    <a:lnTo>
                      <a:pt x="240" y="138"/>
                    </a:lnTo>
                    <a:lnTo>
                      <a:pt x="228" y="144"/>
                    </a:lnTo>
                    <a:lnTo>
                      <a:pt x="204" y="150"/>
                    </a:lnTo>
                    <a:lnTo>
                      <a:pt x="186" y="162"/>
                    </a:lnTo>
                    <a:lnTo>
                      <a:pt x="162" y="162"/>
                    </a:lnTo>
                    <a:lnTo>
                      <a:pt x="144" y="162"/>
                    </a:lnTo>
                    <a:lnTo>
                      <a:pt x="108" y="186"/>
                    </a:lnTo>
                    <a:lnTo>
                      <a:pt x="90" y="192"/>
                    </a:lnTo>
                    <a:lnTo>
                      <a:pt x="72" y="198"/>
                    </a:lnTo>
                    <a:lnTo>
                      <a:pt x="66" y="204"/>
                    </a:lnTo>
                    <a:lnTo>
                      <a:pt x="54" y="210"/>
                    </a:lnTo>
                    <a:lnTo>
                      <a:pt x="42" y="210"/>
                    </a:lnTo>
                    <a:lnTo>
                      <a:pt x="36" y="216"/>
                    </a:lnTo>
                    <a:lnTo>
                      <a:pt x="24" y="228"/>
                    </a:lnTo>
                    <a:lnTo>
                      <a:pt x="18" y="234"/>
                    </a:lnTo>
                    <a:lnTo>
                      <a:pt x="12" y="240"/>
                    </a:lnTo>
                    <a:lnTo>
                      <a:pt x="6" y="246"/>
                    </a:lnTo>
                    <a:lnTo>
                      <a:pt x="0" y="252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068720" y="3115800"/>
                <a:ext cx="417240" cy="412200"/>
              </a:xfrm>
              <a:custGeom>
                <a:avLst/>
                <a:gdLst/>
                <a:ahLst/>
                <a:rect l="l" t="t" r="r" b="b"/>
                <a:pathLst>
                  <a:path w="282" h="258">
                    <a:moveTo>
                      <a:pt x="0" y="258"/>
                    </a:moveTo>
                    <a:lnTo>
                      <a:pt x="6" y="240"/>
                    </a:lnTo>
                    <a:lnTo>
                      <a:pt x="18" y="228"/>
                    </a:lnTo>
                    <a:lnTo>
                      <a:pt x="24" y="216"/>
                    </a:lnTo>
                    <a:lnTo>
                      <a:pt x="30" y="204"/>
                    </a:lnTo>
                    <a:lnTo>
                      <a:pt x="36" y="192"/>
                    </a:lnTo>
                    <a:lnTo>
                      <a:pt x="42" y="186"/>
                    </a:lnTo>
                    <a:lnTo>
                      <a:pt x="48" y="174"/>
                    </a:lnTo>
                    <a:lnTo>
                      <a:pt x="66" y="150"/>
                    </a:lnTo>
                    <a:lnTo>
                      <a:pt x="90" y="126"/>
                    </a:lnTo>
                    <a:lnTo>
                      <a:pt x="114" y="102"/>
                    </a:lnTo>
                    <a:lnTo>
                      <a:pt x="132" y="78"/>
                    </a:lnTo>
                    <a:lnTo>
                      <a:pt x="150" y="54"/>
                    </a:lnTo>
                    <a:lnTo>
                      <a:pt x="168" y="42"/>
                    </a:lnTo>
                    <a:lnTo>
                      <a:pt x="180" y="30"/>
                    </a:lnTo>
                    <a:lnTo>
                      <a:pt x="192" y="18"/>
                    </a:lnTo>
                    <a:lnTo>
                      <a:pt x="210" y="18"/>
                    </a:lnTo>
                    <a:lnTo>
                      <a:pt x="210" y="12"/>
                    </a:lnTo>
                    <a:lnTo>
                      <a:pt x="222" y="12"/>
                    </a:lnTo>
                    <a:lnTo>
                      <a:pt x="228" y="6"/>
                    </a:lnTo>
                    <a:lnTo>
                      <a:pt x="234" y="6"/>
                    </a:lnTo>
                    <a:lnTo>
                      <a:pt x="240" y="6"/>
                    </a:lnTo>
                    <a:lnTo>
                      <a:pt x="252" y="0"/>
                    </a:lnTo>
                    <a:lnTo>
                      <a:pt x="258" y="6"/>
                    </a:lnTo>
                    <a:lnTo>
                      <a:pt x="258" y="12"/>
                    </a:lnTo>
                    <a:lnTo>
                      <a:pt x="264" y="12"/>
                    </a:lnTo>
                    <a:lnTo>
                      <a:pt x="264" y="18"/>
                    </a:lnTo>
                    <a:lnTo>
                      <a:pt x="264" y="18"/>
                    </a:lnTo>
                    <a:lnTo>
                      <a:pt x="264" y="30"/>
                    </a:lnTo>
                    <a:lnTo>
                      <a:pt x="264" y="36"/>
                    </a:lnTo>
                    <a:lnTo>
                      <a:pt x="264" y="42"/>
                    </a:lnTo>
                    <a:lnTo>
                      <a:pt x="258" y="42"/>
                    </a:lnTo>
                    <a:lnTo>
                      <a:pt x="258" y="48"/>
                    </a:lnTo>
                    <a:lnTo>
                      <a:pt x="252" y="54"/>
                    </a:lnTo>
                    <a:lnTo>
                      <a:pt x="246" y="60"/>
                    </a:lnTo>
                    <a:lnTo>
                      <a:pt x="240" y="66"/>
                    </a:lnTo>
                    <a:lnTo>
                      <a:pt x="228" y="72"/>
                    </a:lnTo>
                    <a:lnTo>
                      <a:pt x="234" y="72"/>
                    </a:lnTo>
                    <a:lnTo>
                      <a:pt x="240" y="72"/>
                    </a:lnTo>
                    <a:lnTo>
                      <a:pt x="252" y="72"/>
                    </a:lnTo>
                    <a:lnTo>
                      <a:pt x="258" y="72"/>
                    </a:lnTo>
                    <a:lnTo>
                      <a:pt x="264" y="72"/>
                    </a:lnTo>
                    <a:lnTo>
                      <a:pt x="276" y="78"/>
                    </a:lnTo>
                    <a:lnTo>
                      <a:pt x="282" y="84"/>
                    </a:lnTo>
                    <a:lnTo>
                      <a:pt x="282" y="84"/>
                    </a:lnTo>
                    <a:lnTo>
                      <a:pt x="282" y="90"/>
                    </a:lnTo>
                    <a:lnTo>
                      <a:pt x="282" y="90"/>
                    </a:lnTo>
                    <a:lnTo>
                      <a:pt x="282" y="96"/>
                    </a:lnTo>
                    <a:lnTo>
                      <a:pt x="282" y="102"/>
                    </a:lnTo>
                    <a:lnTo>
                      <a:pt x="282" y="108"/>
                    </a:lnTo>
                    <a:lnTo>
                      <a:pt x="282" y="114"/>
                    </a:lnTo>
                    <a:lnTo>
                      <a:pt x="282" y="114"/>
                    </a:lnTo>
                    <a:lnTo>
                      <a:pt x="276" y="120"/>
                    </a:lnTo>
                    <a:lnTo>
                      <a:pt x="270" y="126"/>
                    </a:lnTo>
                    <a:lnTo>
                      <a:pt x="264" y="132"/>
                    </a:lnTo>
                    <a:lnTo>
                      <a:pt x="258" y="132"/>
                    </a:lnTo>
                    <a:lnTo>
                      <a:pt x="252" y="138"/>
                    </a:lnTo>
                    <a:lnTo>
                      <a:pt x="240" y="138"/>
                    </a:lnTo>
                    <a:lnTo>
                      <a:pt x="228" y="144"/>
                    </a:lnTo>
                    <a:lnTo>
                      <a:pt x="204" y="150"/>
                    </a:lnTo>
                    <a:lnTo>
                      <a:pt x="186" y="162"/>
                    </a:lnTo>
                    <a:lnTo>
                      <a:pt x="162" y="162"/>
                    </a:lnTo>
                    <a:lnTo>
                      <a:pt x="144" y="162"/>
                    </a:lnTo>
                    <a:lnTo>
                      <a:pt x="108" y="186"/>
                    </a:lnTo>
                    <a:lnTo>
                      <a:pt x="90" y="192"/>
                    </a:lnTo>
                    <a:lnTo>
                      <a:pt x="72" y="198"/>
                    </a:lnTo>
                    <a:lnTo>
                      <a:pt x="66" y="204"/>
                    </a:lnTo>
                    <a:lnTo>
                      <a:pt x="54" y="210"/>
                    </a:lnTo>
                    <a:lnTo>
                      <a:pt x="42" y="210"/>
                    </a:lnTo>
                    <a:lnTo>
                      <a:pt x="36" y="216"/>
                    </a:lnTo>
                    <a:lnTo>
                      <a:pt x="24" y="228"/>
                    </a:lnTo>
                    <a:lnTo>
                      <a:pt x="18" y="234"/>
                    </a:lnTo>
                    <a:lnTo>
                      <a:pt x="12" y="240"/>
                    </a:lnTo>
                    <a:lnTo>
                      <a:pt x="6" y="246"/>
                    </a:lnTo>
                    <a:lnTo>
                      <a:pt x="0" y="252"/>
                    </a:lnTo>
                    <a:lnTo>
                      <a:pt x="0" y="258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059720" y="3528360"/>
                <a:ext cx="319680" cy="498960"/>
              </a:xfrm>
              <a:custGeom>
                <a:avLst/>
                <a:gdLst/>
                <a:ahLst/>
                <a:rect l="l" t="t" r="r" b="b"/>
                <a:pathLst>
                  <a:path w="216" h="312">
                    <a:moveTo>
                      <a:pt x="6" y="0"/>
                    </a:moveTo>
                    <a:lnTo>
                      <a:pt x="6" y="0"/>
                    </a:lnTo>
                    <a:lnTo>
                      <a:pt x="36" y="18"/>
                    </a:lnTo>
                    <a:lnTo>
                      <a:pt x="48" y="24"/>
                    </a:lnTo>
                    <a:lnTo>
                      <a:pt x="66" y="30"/>
                    </a:lnTo>
                    <a:lnTo>
                      <a:pt x="84" y="42"/>
                    </a:lnTo>
                    <a:lnTo>
                      <a:pt x="96" y="48"/>
                    </a:lnTo>
                    <a:lnTo>
                      <a:pt x="114" y="66"/>
                    </a:lnTo>
                    <a:lnTo>
                      <a:pt x="126" y="72"/>
                    </a:lnTo>
                    <a:lnTo>
                      <a:pt x="144" y="90"/>
                    </a:lnTo>
                    <a:lnTo>
                      <a:pt x="156" y="96"/>
                    </a:lnTo>
                    <a:lnTo>
                      <a:pt x="168" y="114"/>
                    </a:lnTo>
                    <a:lnTo>
                      <a:pt x="180" y="126"/>
                    </a:lnTo>
                    <a:lnTo>
                      <a:pt x="192" y="144"/>
                    </a:lnTo>
                    <a:lnTo>
                      <a:pt x="198" y="156"/>
                    </a:lnTo>
                    <a:lnTo>
                      <a:pt x="204" y="168"/>
                    </a:lnTo>
                    <a:lnTo>
                      <a:pt x="216" y="180"/>
                    </a:lnTo>
                    <a:lnTo>
                      <a:pt x="216" y="216"/>
                    </a:lnTo>
                    <a:lnTo>
                      <a:pt x="186" y="216"/>
                    </a:lnTo>
                    <a:lnTo>
                      <a:pt x="186" y="222"/>
                    </a:lnTo>
                    <a:lnTo>
                      <a:pt x="192" y="240"/>
                    </a:lnTo>
                    <a:lnTo>
                      <a:pt x="192" y="246"/>
                    </a:lnTo>
                    <a:lnTo>
                      <a:pt x="198" y="264"/>
                    </a:lnTo>
                    <a:lnTo>
                      <a:pt x="198" y="264"/>
                    </a:lnTo>
                    <a:lnTo>
                      <a:pt x="198" y="270"/>
                    </a:lnTo>
                    <a:lnTo>
                      <a:pt x="198" y="282"/>
                    </a:lnTo>
                    <a:lnTo>
                      <a:pt x="192" y="288"/>
                    </a:lnTo>
                    <a:lnTo>
                      <a:pt x="192" y="288"/>
                    </a:lnTo>
                    <a:lnTo>
                      <a:pt x="192" y="300"/>
                    </a:lnTo>
                    <a:lnTo>
                      <a:pt x="186" y="306"/>
                    </a:lnTo>
                    <a:lnTo>
                      <a:pt x="180" y="306"/>
                    </a:lnTo>
                    <a:lnTo>
                      <a:pt x="168" y="312"/>
                    </a:lnTo>
                    <a:lnTo>
                      <a:pt x="168" y="312"/>
                    </a:lnTo>
                    <a:lnTo>
                      <a:pt x="162" y="312"/>
                    </a:lnTo>
                    <a:lnTo>
                      <a:pt x="156" y="312"/>
                    </a:lnTo>
                    <a:lnTo>
                      <a:pt x="156" y="306"/>
                    </a:lnTo>
                    <a:lnTo>
                      <a:pt x="150" y="306"/>
                    </a:lnTo>
                    <a:lnTo>
                      <a:pt x="144" y="300"/>
                    </a:lnTo>
                    <a:lnTo>
                      <a:pt x="144" y="300"/>
                    </a:lnTo>
                    <a:lnTo>
                      <a:pt x="144" y="300"/>
                    </a:lnTo>
                    <a:lnTo>
                      <a:pt x="138" y="294"/>
                    </a:lnTo>
                    <a:lnTo>
                      <a:pt x="138" y="288"/>
                    </a:lnTo>
                    <a:lnTo>
                      <a:pt x="132" y="282"/>
                    </a:lnTo>
                    <a:lnTo>
                      <a:pt x="126" y="270"/>
                    </a:lnTo>
                    <a:lnTo>
                      <a:pt x="120" y="264"/>
                    </a:lnTo>
                    <a:lnTo>
                      <a:pt x="120" y="252"/>
                    </a:lnTo>
                    <a:lnTo>
                      <a:pt x="114" y="240"/>
                    </a:lnTo>
                    <a:lnTo>
                      <a:pt x="114" y="228"/>
                    </a:lnTo>
                    <a:lnTo>
                      <a:pt x="102" y="204"/>
                    </a:lnTo>
                    <a:lnTo>
                      <a:pt x="96" y="180"/>
                    </a:lnTo>
                    <a:lnTo>
                      <a:pt x="96" y="168"/>
                    </a:lnTo>
                    <a:lnTo>
                      <a:pt x="96" y="162"/>
                    </a:lnTo>
                    <a:lnTo>
                      <a:pt x="90" y="150"/>
                    </a:lnTo>
                    <a:lnTo>
                      <a:pt x="84" y="144"/>
                    </a:lnTo>
                    <a:lnTo>
                      <a:pt x="72" y="120"/>
                    </a:lnTo>
                    <a:lnTo>
                      <a:pt x="48" y="78"/>
                    </a:lnTo>
                    <a:lnTo>
                      <a:pt x="24" y="42"/>
                    </a:lnTo>
                    <a:lnTo>
                      <a:pt x="18" y="18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059720" y="3528360"/>
                <a:ext cx="319680" cy="498960"/>
              </a:xfrm>
              <a:custGeom>
                <a:avLst/>
                <a:gdLst/>
                <a:ahLst/>
                <a:rect l="l" t="t" r="r" b="b"/>
                <a:pathLst>
                  <a:path w="216" h="312">
                    <a:moveTo>
                      <a:pt x="6" y="0"/>
                    </a:moveTo>
                    <a:lnTo>
                      <a:pt x="36" y="18"/>
                    </a:lnTo>
                    <a:lnTo>
                      <a:pt x="48" y="24"/>
                    </a:lnTo>
                    <a:lnTo>
                      <a:pt x="66" y="30"/>
                    </a:lnTo>
                    <a:lnTo>
                      <a:pt x="84" y="42"/>
                    </a:lnTo>
                    <a:lnTo>
                      <a:pt x="96" y="48"/>
                    </a:lnTo>
                    <a:lnTo>
                      <a:pt x="114" y="66"/>
                    </a:lnTo>
                    <a:lnTo>
                      <a:pt x="126" y="72"/>
                    </a:lnTo>
                    <a:lnTo>
                      <a:pt x="144" y="90"/>
                    </a:lnTo>
                    <a:lnTo>
                      <a:pt x="156" y="96"/>
                    </a:lnTo>
                    <a:lnTo>
                      <a:pt x="168" y="114"/>
                    </a:lnTo>
                    <a:lnTo>
                      <a:pt x="180" y="126"/>
                    </a:lnTo>
                    <a:lnTo>
                      <a:pt x="192" y="144"/>
                    </a:lnTo>
                    <a:lnTo>
                      <a:pt x="198" y="156"/>
                    </a:lnTo>
                    <a:lnTo>
                      <a:pt x="204" y="168"/>
                    </a:lnTo>
                    <a:lnTo>
                      <a:pt x="216" y="180"/>
                    </a:lnTo>
                    <a:lnTo>
                      <a:pt x="216" y="216"/>
                    </a:lnTo>
                    <a:lnTo>
                      <a:pt x="186" y="216"/>
                    </a:lnTo>
                    <a:lnTo>
                      <a:pt x="186" y="222"/>
                    </a:lnTo>
                    <a:lnTo>
                      <a:pt x="192" y="240"/>
                    </a:lnTo>
                    <a:lnTo>
                      <a:pt x="192" y="246"/>
                    </a:lnTo>
                    <a:lnTo>
                      <a:pt x="198" y="264"/>
                    </a:lnTo>
                    <a:lnTo>
                      <a:pt x="198" y="264"/>
                    </a:lnTo>
                    <a:lnTo>
                      <a:pt x="198" y="270"/>
                    </a:lnTo>
                    <a:lnTo>
                      <a:pt x="198" y="282"/>
                    </a:lnTo>
                    <a:lnTo>
                      <a:pt x="192" y="288"/>
                    </a:lnTo>
                    <a:lnTo>
                      <a:pt x="192" y="288"/>
                    </a:lnTo>
                    <a:lnTo>
                      <a:pt x="192" y="300"/>
                    </a:lnTo>
                    <a:lnTo>
                      <a:pt x="186" y="306"/>
                    </a:lnTo>
                    <a:lnTo>
                      <a:pt x="180" y="306"/>
                    </a:lnTo>
                    <a:lnTo>
                      <a:pt x="168" y="312"/>
                    </a:lnTo>
                    <a:lnTo>
                      <a:pt x="168" y="312"/>
                    </a:lnTo>
                    <a:lnTo>
                      <a:pt x="162" y="312"/>
                    </a:lnTo>
                    <a:lnTo>
                      <a:pt x="156" y="312"/>
                    </a:lnTo>
                    <a:lnTo>
                      <a:pt x="156" y="306"/>
                    </a:lnTo>
                    <a:lnTo>
                      <a:pt x="150" y="306"/>
                    </a:lnTo>
                    <a:lnTo>
                      <a:pt x="144" y="300"/>
                    </a:lnTo>
                    <a:lnTo>
                      <a:pt x="144" y="300"/>
                    </a:lnTo>
                    <a:lnTo>
                      <a:pt x="138" y="294"/>
                    </a:lnTo>
                    <a:lnTo>
                      <a:pt x="138" y="288"/>
                    </a:lnTo>
                    <a:lnTo>
                      <a:pt x="132" y="282"/>
                    </a:lnTo>
                    <a:lnTo>
                      <a:pt x="126" y="270"/>
                    </a:lnTo>
                    <a:lnTo>
                      <a:pt x="120" y="264"/>
                    </a:lnTo>
                    <a:lnTo>
                      <a:pt x="120" y="252"/>
                    </a:lnTo>
                    <a:lnTo>
                      <a:pt x="114" y="240"/>
                    </a:lnTo>
                    <a:lnTo>
                      <a:pt x="114" y="228"/>
                    </a:lnTo>
                    <a:lnTo>
                      <a:pt x="102" y="204"/>
                    </a:lnTo>
                    <a:lnTo>
                      <a:pt x="96" y="180"/>
                    </a:lnTo>
                    <a:lnTo>
                      <a:pt x="96" y="168"/>
                    </a:lnTo>
                    <a:lnTo>
                      <a:pt x="96" y="162"/>
                    </a:lnTo>
                    <a:lnTo>
                      <a:pt x="90" y="150"/>
                    </a:lnTo>
                    <a:lnTo>
                      <a:pt x="84" y="144"/>
                    </a:lnTo>
                    <a:lnTo>
                      <a:pt x="72" y="120"/>
                    </a:lnTo>
                    <a:lnTo>
                      <a:pt x="48" y="78"/>
                    </a:lnTo>
                    <a:lnTo>
                      <a:pt x="24" y="42"/>
                    </a:lnTo>
                    <a:lnTo>
                      <a:pt x="18" y="18"/>
                    </a:ln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491280" y="3221640"/>
                <a:ext cx="568080" cy="287280"/>
              </a:xfrm>
              <a:custGeom>
                <a:avLst/>
                <a:gdLst/>
                <a:ahLst/>
                <a:rect l="l" t="t" r="r" b="b"/>
                <a:pathLst>
                  <a:path w="384" h="180">
                    <a:moveTo>
                      <a:pt x="384" y="180"/>
                    </a:moveTo>
                    <a:lnTo>
                      <a:pt x="384" y="180"/>
                    </a:lnTo>
                    <a:lnTo>
                      <a:pt x="378" y="168"/>
                    </a:lnTo>
                    <a:lnTo>
                      <a:pt x="366" y="162"/>
                    </a:lnTo>
                    <a:lnTo>
                      <a:pt x="348" y="144"/>
                    </a:lnTo>
                    <a:lnTo>
                      <a:pt x="336" y="126"/>
                    </a:lnTo>
                    <a:lnTo>
                      <a:pt x="324" y="120"/>
                    </a:lnTo>
                    <a:lnTo>
                      <a:pt x="312" y="114"/>
                    </a:lnTo>
                    <a:lnTo>
                      <a:pt x="276" y="84"/>
                    </a:lnTo>
                    <a:lnTo>
                      <a:pt x="228" y="54"/>
                    </a:lnTo>
                    <a:lnTo>
                      <a:pt x="216" y="48"/>
                    </a:lnTo>
                    <a:lnTo>
                      <a:pt x="198" y="36"/>
                    </a:lnTo>
                    <a:lnTo>
                      <a:pt x="186" y="24"/>
                    </a:lnTo>
                    <a:lnTo>
                      <a:pt x="168" y="18"/>
                    </a:lnTo>
                    <a:lnTo>
                      <a:pt x="156" y="12"/>
                    </a:lnTo>
                    <a:lnTo>
                      <a:pt x="144" y="12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02" y="0"/>
                    </a:lnTo>
                    <a:lnTo>
                      <a:pt x="96" y="0"/>
                    </a:lnTo>
                    <a:lnTo>
                      <a:pt x="84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0" y="66"/>
                    </a:lnTo>
                    <a:lnTo>
                      <a:pt x="24" y="66"/>
                    </a:lnTo>
                    <a:lnTo>
                      <a:pt x="18" y="72"/>
                    </a:lnTo>
                    <a:lnTo>
                      <a:pt x="18" y="72"/>
                    </a:lnTo>
                    <a:lnTo>
                      <a:pt x="12" y="72"/>
                    </a:lnTo>
                    <a:lnTo>
                      <a:pt x="6" y="78"/>
                    </a:lnTo>
                    <a:lnTo>
                      <a:pt x="6" y="84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0" y="102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6" y="114"/>
                    </a:lnTo>
                    <a:lnTo>
                      <a:pt x="6" y="114"/>
                    </a:lnTo>
                    <a:lnTo>
                      <a:pt x="12" y="120"/>
                    </a:lnTo>
                    <a:lnTo>
                      <a:pt x="18" y="120"/>
                    </a:lnTo>
                    <a:lnTo>
                      <a:pt x="24" y="120"/>
                    </a:lnTo>
                    <a:lnTo>
                      <a:pt x="24" y="120"/>
                    </a:lnTo>
                    <a:lnTo>
                      <a:pt x="30" y="126"/>
                    </a:lnTo>
                    <a:lnTo>
                      <a:pt x="36" y="126"/>
                    </a:lnTo>
                    <a:lnTo>
                      <a:pt x="48" y="126"/>
                    </a:lnTo>
                    <a:lnTo>
                      <a:pt x="60" y="126"/>
                    </a:lnTo>
                    <a:lnTo>
                      <a:pt x="84" y="126"/>
                    </a:lnTo>
                    <a:lnTo>
                      <a:pt x="114" y="126"/>
                    </a:lnTo>
                    <a:lnTo>
                      <a:pt x="144" y="126"/>
                    </a:lnTo>
                    <a:lnTo>
                      <a:pt x="174" y="132"/>
                    </a:lnTo>
                    <a:lnTo>
                      <a:pt x="198" y="138"/>
                    </a:lnTo>
                    <a:lnTo>
                      <a:pt x="228" y="144"/>
                    </a:lnTo>
                    <a:lnTo>
                      <a:pt x="252" y="144"/>
                    </a:lnTo>
                    <a:lnTo>
                      <a:pt x="306" y="156"/>
                    </a:lnTo>
                    <a:lnTo>
                      <a:pt x="330" y="162"/>
                    </a:lnTo>
                    <a:lnTo>
                      <a:pt x="348" y="168"/>
                    </a:lnTo>
                    <a:lnTo>
                      <a:pt x="366" y="168"/>
                    </a:lnTo>
                    <a:lnTo>
                      <a:pt x="384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491280" y="3221640"/>
                <a:ext cx="568080" cy="287280"/>
              </a:xfrm>
              <a:custGeom>
                <a:avLst/>
                <a:gdLst/>
                <a:ahLst/>
                <a:rect l="l" t="t" r="r" b="b"/>
                <a:pathLst>
                  <a:path w="384" h="180">
                    <a:moveTo>
                      <a:pt x="384" y="180"/>
                    </a:moveTo>
                    <a:lnTo>
                      <a:pt x="378" y="168"/>
                    </a:lnTo>
                    <a:lnTo>
                      <a:pt x="366" y="162"/>
                    </a:lnTo>
                    <a:lnTo>
                      <a:pt x="348" y="144"/>
                    </a:lnTo>
                    <a:lnTo>
                      <a:pt x="336" y="126"/>
                    </a:lnTo>
                    <a:lnTo>
                      <a:pt x="324" y="120"/>
                    </a:lnTo>
                    <a:lnTo>
                      <a:pt x="312" y="114"/>
                    </a:lnTo>
                    <a:lnTo>
                      <a:pt x="276" y="84"/>
                    </a:lnTo>
                    <a:lnTo>
                      <a:pt x="228" y="54"/>
                    </a:lnTo>
                    <a:lnTo>
                      <a:pt x="216" y="48"/>
                    </a:lnTo>
                    <a:lnTo>
                      <a:pt x="198" y="36"/>
                    </a:lnTo>
                    <a:lnTo>
                      <a:pt x="186" y="24"/>
                    </a:lnTo>
                    <a:lnTo>
                      <a:pt x="168" y="18"/>
                    </a:lnTo>
                    <a:lnTo>
                      <a:pt x="156" y="12"/>
                    </a:lnTo>
                    <a:lnTo>
                      <a:pt x="144" y="12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02" y="0"/>
                    </a:lnTo>
                    <a:lnTo>
                      <a:pt x="96" y="0"/>
                    </a:lnTo>
                    <a:lnTo>
                      <a:pt x="84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0" y="66"/>
                    </a:lnTo>
                    <a:lnTo>
                      <a:pt x="24" y="66"/>
                    </a:lnTo>
                    <a:lnTo>
                      <a:pt x="18" y="72"/>
                    </a:lnTo>
                    <a:lnTo>
                      <a:pt x="18" y="72"/>
                    </a:lnTo>
                    <a:lnTo>
                      <a:pt x="12" y="72"/>
                    </a:lnTo>
                    <a:lnTo>
                      <a:pt x="6" y="78"/>
                    </a:lnTo>
                    <a:lnTo>
                      <a:pt x="6" y="84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0" y="102"/>
                    </a:lnTo>
                    <a:lnTo>
                      <a:pt x="0" y="108"/>
                    </a:lnTo>
                    <a:lnTo>
                      <a:pt x="6" y="114"/>
                    </a:lnTo>
                    <a:lnTo>
                      <a:pt x="12" y="120"/>
                    </a:lnTo>
                    <a:lnTo>
                      <a:pt x="18" y="120"/>
                    </a:lnTo>
                    <a:lnTo>
                      <a:pt x="24" y="120"/>
                    </a:lnTo>
                    <a:lnTo>
                      <a:pt x="24" y="120"/>
                    </a:lnTo>
                    <a:lnTo>
                      <a:pt x="30" y="126"/>
                    </a:lnTo>
                    <a:lnTo>
                      <a:pt x="36" y="126"/>
                    </a:lnTo>
                    <a:lnTo>
                      <a:pt x="48" y="126"/>
                    </a:lnTo>
                    <a:lnTo>
                      <a:pt x="60" y="126"/>
                    </a:lnTo>
                    <a:lnTo>
                      <a:pt x="84" y="126"/>
                    </a:lnTo>
                    <a:lnTo>
                      <a:pt x="114" y="126"/>
                    </a:lnTo>
                    <a:lnTo>
                      <a:pt x="144" y="126"/>
                    </a:lnTo>
                    <a:lnTo>
                      <a:pt x="174" y="132"/>
                    </a:lnTo>
                    <a:lnTo>
                      <a:pt x="198" y="138"/>
                    </a:lnTo>
                    <a:lnTo>
                      <a:pt x="228" y="144"/>
                    </a:lnTo>
                    <a:lnTo>
                      <a:pt x="252" y="144"/>
                    </a:lnTo>
                    <a:lnTo>
                      <a:pt x="306" y="156"/>
                    </a:lnTo>
                    <a:lnTo>
                      <a:pt x="330" y="162"/>
                    </a:lnTo>
                    <a:lnTo>
                      <a:pt x="348" y="168"/>
                    </a:lnTo>
                    <a:lnTo>
                      <a:pt x="366" y="168"/>
                    </a:lnTo>
                    <a:lnTo>
                      <a:pt x="384" y="180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757680" y="3528360"/>
                <a:ext cx="319680" cy="614160"/>
              </a:xfrm>
              <a:custGeom>
                <a:avLst/>
                <a:gdLst/>
                <a:ahLst/>
                <a:rect l="l" t="t" r="r" b="b"/>
                <a:pathLst>
                  <a:path w="216" h="384">
                    <a:moveTo>
                      <a:pt x="210" y="0"/>
                    </a:moveTo>
                    <a:lnTo>
                      <a:pt x="210" y="0"/>
                    </a:lnTo>
                    <a:lnTo>
                      <a:pt x="210" y="12"/>
                    </a:lnTo>
                    <a:lnTo>
                      <a:pt x="210" y="30"/>
                    </a:lnTo>
                    <a:lnTo>
                      <a:pt x="210" y="48"/>
                    </a:lnTo>
                    <a:lnTo>
                      <a:pt x="216" y="66"/>
                    </a:lnTo>
                    <a:lnTo>
                      <a:pt x="216" y="78"/>
                    </a:lnTo>
                    <a:lnTo>
                      <a:pt x="216" y="234"/>
                    </a:lnTo>
                    <a:lnTo>
                      <a:pt x="216" y="240"/>
                    </a:lnTo>
                    <a:lnTo>
                      <a:pt x="216" y="252"/>
                    </a:lnTo>
                    <a:lnTo>
                      <a:pt x="216" y="264"/>
                    </a:lnTo>
                    <a:lnTo>
                      <a:pt x="210" y="276"/>
                    </a:lnTo>
                    <a:lnTo>
                      <a:pt x="204" y="306"/>
                    </a:lnTo>
                    <a:lnTo>
                      <a:pt x="204" y="312"/>
                    </a:lnTo>
                    <a:lnTo>
                      <a:pt x="204" y="330"/>
                    </a:lnTo>
                    <a:lnTo>
                      <a:pt x="198" y="336"/>
                    </a:lnTo>
                    <a:lnTo>
                      <a:pt x="192" y="348"/>
                    </a:lnTo>
                    <a:lnTo>
                      <a:pt x="180" y="360"/>
                    </a:lnTo>
                    <a:lnTo>
                      <a:pt x="180" y="366"/>
                    </a:lnTo>
                    <a:lnTo>
                      <a:pt x="168" y="378"/>
                    </a:lnTo>
                    <a:lnTo>
                      <a:pt x="162" y="378"/>
                    </a:lnTo>
                    <a:lnTo>
                      <a:pt x="162" y="384"/>
                    </a:lnTo>
                    <a:lnTo>
                      <a:pt x="156" y="384"/>
                    </a:lnTo>
                    <a:lnTo>
                      <a:pt x="156" y="384"/>
                    </a:lnTo>
                    <a:lnTo>
                      <a:pt x="150" y="384"/>
                    </a:lnTo>
                    <a:lnTo>
                      <a:pt x="144" y="384"/>
                    </a:lnTo>
                    <a:lnTo>
                      <a:pt x="138" y="384"/>
                    </a:lnTo>
                    <a:lnTo>
                      <a:pt x="132" y="384"/>
                    </a:lnTo>
                    <a:lnTo>
                      <a:pt x="132" y="384"/>
                    </a:lnTo>
                    <a:lnTo>
                      <a:pt x="132" y="384"/>
                    </a:lnTo>
                    <a:lnTo>
                      <a:pt x="126" y="378"/>
                    </a:lnTo>
                    <a:lnTo>
                      <a:pt x="126" y="378"/>
                    </a:lnTo>
                    <a:lnTo>
                      <a:pt x="120" y="372"/>
                    </a:lnTo>
                    <a:lnTo>
                      <a:pt x="120" y="360"/>
                    </a:lnTo>
                    <a:lnTo>
                      <a:pt x="114" y="360"/>
                    </a:lnTo>
                    <a:lnTo>
                      <a:pt x="114" y="336"/>
                    </a:lnTo>
                    <a:lnTo>
                      <a:pt x="108" y="342"/>
                    </a:lnTo>
                    <a:lnTo>
                      <a:pt x="108" y="342"/>
                    </a:lnTo>
                    <a:lnTo>
                      <a:pt x="102" y="348"/>
                    </a:lnTo>
                    <a:lnTo>
                      <a:pt x="96" y="354"/>
                    </a:lnTo>
                    <a:lnTo>
                      <a:pt x="84" y="366"/>
                    </a:lnTo>
                    <a:lnTo>
                      <a:pt x="72" y="372"/>
                    </a:lnTo>
                    <a:lnTo>
                      <a:pt x="60" y="378"/>
                    </a:lnTo>
                    <a:lnTo>
                      <a:pt x="60" y="384"/>
                    </a:lnTo>
                    <a:lnTo>
                      <a:pt x="54" y="384"/>
                    </a:lnTo>
                    <a:lnTo>
                      <a:pt x="48" y="384"/>
                    </a:lnTo>
                    <a:lnTo>
                      <a:pt x="42" y="384"/>
                    </a:lnTo>
                    <a:lnTo>
                      <a:pt x="36" y="384"/>
                    </a:lnTo>
                    <a:lnTo>
                      <a:pt x="36" y="384"/>
                    </a:lnTo>
                    <a:lnTo>
                      <a:pt x="30" y="384"/>
                    </a:lnTo>
                    <a:lnTo>
                      <a:pt x="24" y="384"/>
                    </a:lnTo>
                    <a:lnTo>
                      <a:pt x="24" y="378"/>
                    </a:lnTo>
                    <a:lnTo>
                      <a:pt x="18" y="378"/>
                    </a:lnTo>
                    <a:lnTo>
                      <a:pt x="12" y="372"/>
                    </a:lnTo>
                    <a:lnTo>
                      <a:pt x="12" y="366"/>
                    </a:lnTo>
                    <a:lnTo>
                      <a:pt x="12" y="360"/>
                    </a:lnTo>
                    <a:lnTo>
                      <a:pt x="6" y="360"/>
                    </a:lnTo>
                    <a:lnTo>
                      <a:pt x="6" y="360"/>
                    </a:lnTo>
                    <a:lnTo>
                      <a:pt x="6" y="348"/>
                    </a:lnTo>
                    <a:lnTo>
                      <a:pt x="0" y="342"/>
                    </a:lnTo>
                    <a:lnTo>
                      <a:pt x="0" y="336"/>
                    </a:lnTo>
                    <a:lnTo>
                      <a:pt x="6" y="336"/>
                    </a:lnTo>
                    <a:lnTo>
                      <a:pt x="6" y="330"/>
                    </a:lnTo>
                    <a:lnTo>
                      <a:pt x="12" y="312"/>
                    </a:lnTo>
                    <a:lnTo>
                      <a:pt x="30" y="294"/>
                    </a:lnTo>
                    <a:lnTo>
                      <a:pt x="42" y="276"/>
                    </a:lnTo>
                    <a:lnTo>
                      <a:pt x="48" y="270"/>
                    </a:lnTo>
                    <a:lnTo>
                      <a:pt x="60" y="264"/>
                    </a:lnTo>
                    <a:lnTo>
                      <a:pt x="72" y="246"/>
                    </a:lnTo>
                    <a:lnTo>
                      <a:pt x="84" y="228"/>
                    </a:lnTo>
                    <a:lnTo>
                      <a:pt x="114" y="198"/>
                    </a:lnTo>
                    <a:lnTo>
                      <a:pt x="132" y="180"/>
                    </a:lnTo>
                    <a:lnTo>
                      <a:pt x="138" y="168"/>
                    </a:lnTo>
                    <a:lnTo>
                      <a:pt x="150" y="156"/>
                    </a:lnTo>
                    <a:lnTo>
                      <a:pt x="156" y="144"/>
                    </a:lnTo>
                    <a:lnTo>
                      <a:pt x="156" y="138"/>
                    </a:lnTo>
                    <a:lnTo>
                      <a:pt x="162" y="126"/>
                    </a:lnTo>
                    <a:lnTo>
                      <a:pt x="168" y="114"/>
                    </a:lnTo>
                    <a:lnTo>
                      <a:pt x="168" y="102"/>
                    </a:lnTo>
                    <a:lnTo>
                      <a:pt x="180" y="78"/>
                    </a:lnTo>
                    <a:lnTo>
                      <a:pt x="180" y="60"/>
                    </a:lnTo>
                    <a:lnTo>
                      <a:pt x="186" y="48"/>
                    </a:lnTo>
                    <a:lnTo>
                      <a:pt x="192" y="36"/>
                    </a:lnTo>
                    <a:lnTo>
                      <a:pt x="198" y="24"/>
                    </a:lnTo>
                    <a:lnTo>
                      <a:pt x="204" y="18"/>
                    </a:lnTo>
                    <a:lnTo>
                      <a:pt x="204" y="6"/>
                    </a:lnTo>
                    <a:lnTo>
                      <a:pt x="210" y="0"/>
                    </a:lnTo>
                    <a:lnTo>
                      <a:pt x="2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757680" y="3528360"/>
                <a:ext cx="319680" cy="614160"/>
              </a:xfrm>
              <a:custGeom>
                <a:avLst/>
                <a:gdLst/>
                <a:ahLst/>
                <a:rect l="l" t="t" r="r" b="b"/>
                <a:pathLst>
                  <a:path w="216" h="384">
                    <a:moveTo>
                      <a:pt x="210" y="0"/>
                    </a:moveTo>
                    <a:lnTo>
                      <a:pt x="210" y="12"/>
                    </a:lnTo>
                    <a:lnTo>
                      <a:pt x="210" y="30"/>
                    </a:lnTo>
                    <a:lnTo>
                      <a:pt x="210" y="48"/>
                    </a:lnTo>
                    <a:lnTo>
                      <a:pt x="216" y="66"/>
                    </a:lnTo>
                    <a:lnTo>
                      <a:pt x="216" y="78"/>
                    </a:lnTo>
                    <a:lnTo>
                      <a:pt x="216" y="234"/>
                    </a:lnTo>
                    <a:lnTo>
                      <a:pt x="216" y="240"/>
                    </a:lnTo>
                    <a:lnTo>
                      <a:pt x="216" y="252"/>
                    </a:lnTo>
                    <a:lnTo>
                      <a:pt x="216" y="264"/>
                    </a:lnTo>
                    <a:lnTo>
                      <a:pt x="210" y="276"/>
                    </a:lnTo>
                    <a:lnTo>
                      <a:pt x="204" y="306"/>
                    </a:lnTo>
                    <a:lnTo>
                      <a:pt x="204" y="312"/>
                    </a:lnTo>
                    <a:lnTo>
                      <a:pt x="204" y="330"/>
                    </a:lnTo>
                    <a:lnTo>
                      <a:pt x="198" y="336"/>
                    </a:lnTo>
                    <a:lnTo>
                      <a:pt x="192" y="348"/>
                    </a:lnTo>
                    <a:lnTo>
                      <a:pt x="180" y="360"/>
                    </a:lnTo>
                    <a:lnTo>
                      <a:pt x="180" y="366"/>
                    </a:lnTo>
                    <a:lnTo>
                      <a:pt x="168" y="378"/>
                    </a:lnTo>
                    <a:lnTo>
                      <a:pt x="162" y="378"/>
                    </a:lnTo>
                    <a:lnTo>
                      <a:pt x="162" y="384"/>
                    </a:lnTo>
                    <a:lnTo>
                      <a:pt x="156" y="384"/>
                    </a:lnTo>
                    <a:lnTo>
                      <a:pt x="156" y="384"/>
                    </a:lnTo>
                    <a:lnTo>
                      <a:pt x="150" y="384"/>
                    </a:lnTo>
                    <a:lnTo>
                      <a:pt x="144" y="384"/>
                    </a:lnTo>
                    <a:lnTo>
                      <a:pt x="138" y="384"/>
                    </a:lnTo>
                    <a:lnTo>
                      <a:pt x="132" y="384"/>
                    </a:lnTo>
                    <a:lnTo>
                      <a:pt x="132" y="384"/>
                    </a:lnTo>
                    <a:lnTo>
                      <a:pt x="126" y="378"/>
                    </a:lnTo>
                    <a:lnTo>
                      <a:pt x="120" y="372"/>
                    </a:lnTo>
                    <a:lnTo>
                      <a:pt x="120" y="360"/>
                    </a:lnTo>
                    <a:lnTo>
                      <a:pt x="114" y="360"/>
                    </a:lnTo>
                    <a:lnTo>
                      <a:pt x="114" y="336"/>
                    </a:lnTo>
                    <a:lnTo>
                      <a:pt x="108" y="342"/>
                    </a:lnTo>
                    <a:lnTo>
                      <a:pt x="108" y="342"/>
                    </a:lnTo>
                    <a:lnTo>
                      <a:pt x="102" y="348"/>
                    </a:lnTo>
                    <a:lnTo>
                      <a:pt x="96" y="354"/>
                    </a:lnTo>
                    <a:lnTo>
                      <a:pt x="84" y="366"/>
                    </a:lnTo>
                    <a:lnTo>
                      <a:pt x="72" y="372"/>
                    </a:lnTo>
                    <a:lnTo>
                      <a:pt x="60" y="378"/>
                    </a:lnTo>
                    <a:lnTo>
                      <a:pt x="60" y="384"/>
                    </a:lnTo>
                    <a:lnTo>
                      <a:pt x="54" y="384"/>
                    </a:lnTo>
                    <a:lnTo>
                      <a:pt x="48" y="384"/>
                    </a:lnTo>
                    <a:lnTo>
                      <a:pt x="42" y="384"/>
                    </a:lnTo>
                    <a:lnTo>
                      <a:pt x="36" y="384"/>
                    </a:lnTo>
                    <a:lnTo>
                      <a:pt x="36" y="384"/>
                    </a:lnTo>
                    <a:lnTo>
                      <a:pt x="30" y="384"/>
                    </a:lnTo>
                    <a:lnTo>
                      <a:pt x="24" y="384"/>
                    </a:lnTo>
                    <a:lnTo>
                      <a:pt x="24" y="378"/>
                    </a:lnTo>
                    <a:lnTo>
                      <a:pt x="18" y="378"/>
                    </a:lnTo>
                    <a:lnTo>
                      <a:pt x="12" y="372"/>
                    </a:lnTo>
                    <a:lnTo>
                      <a:pt x="12" y="366"/>
                    </a:lnTo>
                    <a:lnTo>
                      <a:pt x="12" y="360"/>
                    </a:lnTo>
                    <a:lnTo>
                      <a:pt x="6" y="360"/>
                    </a:lnTo>
                    <a:lnTo>
                      <a:pt x="6" y="348"/>
                    </a:lnTo>
                    <a:lnTo>
                      <a:pt x="0" y="342"/>
                    </a:lnTo>
                    <a:lnTo>
                      <a:pt x="0" y="336"/>
                    </a:lnTo>
                    <a:lnTo>
                      <a:pt x="6" y="336"/>
                    </a:lnTo>
                    <a:lnTo>
                      <a:pt x="6" y="330"/>
                    </a:lnTo>
                    <a:lnTo>
                      <a:pt x="12" y="312"/>
                    </a:lnTo>
                    <a:lnTo>
                      <a:pt x="30" y="294"/>
                    </a:lnTo>
                    <a:lnTo>
                      <a:pt x="42" y="276"/>
                    </a:lnTo>
                    <a:lnTo>
                      <a:pt x="48" y="270"/>
                    </a:lnTo>
                    <a:lnTo>
                      <a:pt x="60" y="264"/>
                    </a:lnTo>
                    <a:lnTo>
                      <a:pt x="72" y="246"/>
                    </a:lnTo>
                    <a:lnTo>
                      <a:pt x="84" y="228"/>
                    </a:lnTo>
                    <a:lnTo>
                      <a:pt x="114" y="198"/>
                    </a:lnTo>
                    <a:lnTo>
                      <a:pt x="132" y="180"/>
                    </a:lnTo>
                    <a:lnTo>
                      <a:pt x="138" y="168"/>
                    </a:lnTo>
                    <a:lnTo>
                      <a:pt x="150" y="156"/>
                    </a:lnTo>
                    <a:lnTo>
                      <a:pt x="156" y="144"/>
                    </a:lnTo>
                    <a:lnTo>
                      <a:pt x="156" y="138"/>
                    </a:lnTo>
                    <a:lnTo>
                      <a:pt x="162" y="126"/>
                    </a:lnTo>
                    <a:lnTo>
                      <a:pt x="168" y="114"/>
                    </a:lnTo>
                    <a:lnTo>
                      <a:pt x="168" y="102"/>
                    </a:lnTo>
                    <a:lnTo>
                      <a:pt x="180" y="78"/>
                    </a:lnTo>
                    <a:lnTo>
                      <a:pt x="180" y="60"/>
                    </a:lnTo>
                    <a:lnTo>
                      <a:pt x="186" y="48"/>
                    </a:lnTo>
                    <a:lnTo>
                      <a:pt x="192" y="36"/>
                    </a:lnTo>
                    <a:lnTo>
                      <a:pt x="198" y="24"/>
                    </a:lnTo>
                    <a:lnTo>
                      <a:pt x="204" y="18"/>
                    </a:lnTo>
                    <a:lnTo>
                      <a:pt x="204" y="6"/>
                    </a:lnTo>
                    <a:lnTo>
                      <a:pt x="210" y="0"/>
                    </a:lnTo>
                    <a:lnTo>
                      <a:pt x="210" y="0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828960" y="3048480"/>
                <a:ext cx="266400" cy="508680"/>
              </a:xfrm>
              <a:custGeom>
                <a:avLst/>
                <a:gdLst/>
                <a:ahLst/>
                <a:rect l="l" t="t" r="r" b="b"/>
                <a:pathLst>
                  <a:path w="180" h="318">
                    <a:moveTo>
                      <a:pt x="180" y="180"/>
                    </a:moveTo>
                    <a:lnTo>
                      <a:pt x="180" y="180"/>
                    </a:lnTo>
                    <a:lnTo>
                      <a:pt x="180" y="168"/>
                    </a:lnTo>
                    <a:lnTo>
                      <a:pt x="180" y="156"/>
                    </a:lnTo>
                    <a:lnTo>
                      <a:pt x="180" y="156"/>
                    </a:lnTo>
                    <a:lnTo>
                      <a:pt x="180" y="150"/>
                    </a:lnTo>
                    <a:lnTo>
                      <a:pt x="174" y="138"/>
                    </a:lnTo>
                    <a:lnTo>
                      <a:pt x="168" y="114"/>
                    </a:lnTo>
                    <a:lnTo>
                      <a:pt x="156" y="102"/>
                    </a:lnTo>
                    <a:lnTo>
                      <a:pt x="156" y="90"/>
                    </a:lnTo>
                    <a:lnTo>
                      <a:pt x="150" y="84"/>
                    </a:lnTo>
                    <a:lnTo>
                      <a:pt x="138" y="66"/>
                    </a:lnTo>
                    <a:lnTo>
                      <a:pt x="132" y="54"/>
                    </a:lnTo>
                    <a:lnTo>
                      <a:pt x="120" y="36"/>
                    </a:lnTo>
                    <a:lnTo>
                      <a:pt x="114" y="36"/>
                    </a:lnTo>
                    <a:lnTo>
                      <a:pt x="108" y="30"/>
                    </a:lnTo>
                    <a:lnTo>
                      <a:pt x="108" y="30"/>
                    </a:lnTo>
                    <a:lnTo>
                      <a:pt x="108" y="24"/>
                    </a:lnTo>
                    <a:lnTo>
                      <a:pt x="102" y="24"/>
                    </a:lnTo>
                    <a:lnTo>
                      <a:pt x="96" y="18"/>
                    </a:lnTo>
                    <a:lnTo>
                      <a:pt x="90" y="18"/>
                    </a:lnTo>
                    <a:lnTo>
                      <a:pt x="84" y="18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78" y="30"/>
                    </a:lnTo>
                    <a:lnTo>
                      <a:pt x="66" y="24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12" y="48"/>
                    </a:lnTo>
                    <a:lnTo>
                      <a:pt x="12" y="54"/>
                    </a:lnTo>
                    <a:lnTo>
                      <a:pt x="30" y="60"/>
                    </a:lnTo>
                    <a:lnTo>
                      <a:pt x="36" y="66"/>
                    </a:lnTo>
                    <a:lnTo>
                      <a:pt x="42" y="72"/>
                    </a:lnTo>
                    <a:lnTo>
                      <a:pt x="54" y="84"/>
                    </a:lnTo>
                    <a:lnTo>
                      <a:pt x="60" y="90"/>
                    </a:lnTo>
                    <a:lnTo>
                      <a:pt x="78" y="108"/>
                    </a:lnTo>
                    <a:lnTo>
                      <a:pt x="84" y="120"/>
                    </a:lnTo>
                    <a:lnTo>
                      <a:pt x="102" y="132"/>
                    </a:lnTo>
                    <a:lnTo>
                      <a:pt x="108" y="144"/>
                    </a:lnTo>
                    <a:lnTo>
                      <a:pt x="120" y="156"/>
                    </a:lnTo>
                    <a:lnTo>
                      <a:pt x="126" y="168"/>
                    </a:lnTo>
                    <a:lnTo>
                      <a:pt x="132" y="180"/>
                    </a:lnTo>
                    <a:lnTo>
                      <a:pt x="144" y="204"/>
                    </a:lnTo>
                    <a:lnTo>
                      <a:pt x="156" y="222"/>
                    </a:lnTo>
                    <a:lnTo>
                      <a:pt x="156" y="240"/>
                    </a:lnTo>
                    <a:lnTo>
                      <a:pt x="168" y="258"/>
                    </a:lnTo>
                    <a:lnTo>
                      <a:pt x="174" y="276"/>
                    </a:lnTo>
                    <a:lnTo>
                      <a:pt x="180" y="300"/>
                    </a:lnTo>
                    <a:lnTo>
                      <a:pt x="180" y="306"/>
                    </a:lnTo>
                    <a:lnTo>
                      <a:pt x="180" y="318"/>
                    </a:lnTo>
                    <a:lnTo>
                      <a:pt x="180" y="180"/>
                    </a:lnTo>
                    <a:close/>
                  </a:path>
                </a:pathLst>
              </a:custGeom>
              <a:solidFill>
                <a:srgbClr val="f17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95360" y="3221640"/>
                <a:ext cx="354960" cy="335520"/>
              </a:xfrm>
              <a:custGeom>
                <a:avLst/>
                <a:gdLst/>
                <a:ahLst/>
                <a:rect l="l" t="t" r="r" b="b"/>
                <a:pathLst>
                  <a:path w="240" h="210">
                    <a:moveTo>
                      <a:pt x="0" y="210"/>
                    </a:moveTo>
                    <a:lnTo>
                      <a:pt x="0" y="210"/>
                    </a:lnTo>
                    <a:lnTo>
                      <a:pt x="12" y="186"/>
                    </a:lnTo>
                    <a:lnTo>
                      <a:pt x="24" y="168"/>
                    </a:lnTo>
                    <a:lnTo>
                      <a:pt x="42" y="144"/>
                    </a:lnTo>
                    <a:lnTo>
                      <a:pt x="60" y="120"/>
                    </a:lnTo>
                    <a:lnTo>
                      <a:pt x="66" y="108"/>
                    </a:lnTo>
                    <a:lnTo>
                      <a:pt x="72" y="96"/>
                    </a:lnTo>
                    <a:lnTo>
                      <a:pt x="96" y="78"/>
                    </a:lnTo>
                    <a:lnTo>
                      <a:pt x="114" y="60"/>
                    </a:lnTo>
                    <a:lnTo>
                      <a:pt x="126" y="42"/>
                    </a:lnTo>
                    <a:lnTo>
                      <a:pt x="138" y="36"/>
                    </a:lnTo>
                    <a:lnTo>
                      <a:pt x="144" y="24"/>
                    </a:lnTo>
                    <a:lnTo>
                      <a:pt x="150" y="24"/>
                    </a:lnTo>
                    <a:lnTo>
                      <a:pt x="162" y="12"/>
                    </a:lnTo>
                    <a:lnTo>
                      <a:pt x="174" y="6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16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222" y="6"/>
                    </a:lnTo>
                    <a:lnTo>
                      <a:pt x="222" y="12"/>
                    </a:lnTo>
                    <a:lnTo>
                      <a:pt x="222" y="24"/>
                    </a:lnTo>
                    <a:lnTo>
                      <a:pt x="222" y="24"/>
                    </a:lnTo>
                    <a:lnTo>
                      <a:pt x="222" y="24"/>
                    </a:lnTo>
                    <a:lnTo>
                      <a:pt x="222" y="30"/>
                    </a:lnTo>
                    <a:lnTo>
                      <a:pt x="216" y="36"/>
                    </a:lnTo>
                    <a:lnTo>
                      <a:pt x="216" y="42"/>
                    </a:lnTo>
                    <a:lnTo>
                      <a:pt x="204" y="48"/>
                    </a:lnTo>
                    <a:lnTo>
                      <a:pt x="192" y="54"/>
                    </a:lnTo>
                    <a:lnTo>
                      <a:pt x="198" y="54"/>
                    </a:lnTo>
                    <a:lnTo>
                      <a:pt x="204" y="54"/>
                    </a:lnTo>
                    <a:lnTo>
                      <a:pt x="210" y="54"/>
                    </a:lnTo>
                    <a:lnTo>
                      <a:pt x="216" y="54"/>
                    </a:lnTo>
                    <a:lnTo>
                      <a:pt x="222" y="54"/>
                    </a:lnTo>
                    <a:lnTo>
                      <a:pt x="228" y="60"/>
                    </a:lnTo>
                    <a:lnTo>
                      <a:pt x="234" y="60"/>
                    </a:lnTo>
                    <a:lnTo>
                      <a:pt x="240" y="66"/>
                    </a:lnTo>
                    <a:lnTo>
                      <a:pt x="240" y="72"/>
                    </a:lnTo>
                    <a:lnTo>
                      <a:pt x="240" y="72"/>
                    </a:lnTo>
                    <a:lnTo>
                      <a:pt x="240" y="72"/>
                    </a:lnTo>
                    <a:lnTo>
                      <a:pt x="240" y="78"/>
                    </a:lnTo>
                    <a:lnTo>
                      <a:pt x="240" y="84"/>
                    </a:lnTo>
                    <a:lnTo>
                      <a:pt x="240" y="84"/>
                    </a:lnTo>
                    <a:lnTo>
                      <a:pt x="240" y="90"/>
                    </a:lnTo>
                    <a:lnTo>
                      <a:pt x="234" y="96"/>
                    </a:lnTo>
                    <a:lnTo>
                      <a:pt x="234" y="96"/>
                    </a:lnTo>
                    <a:lnTo>
                      <a:pt x="228" y="96"/>
                    </a:lnTo>
                    <a:lnTo>
                      <a:pt x="222" y="102"/>
                    </a:lnTo>
                    <a:lnTo>
                      <a:pt x="216" y="102"/>
                    </a:lnTo>
                    <a:lnTo>
                      <a:pt x="216" y="108"/>
                    </a:lnTo>
                    <a:lnTo>
                      <a:pt x="204" y="114"/>
                    </a:lnTo>
                    <a:lnTo>
                      <a:pt x="192" y="120"/>
                    </a:lnTo>
                    <a:lnTo>
                      <a:pt x="174" y="120"/>
                    </a:lnTo>
                    <a:lnTo>
                      <a:pt x="156" y="126"/>
                    </a:lnTo>
                    <a:lnTo>
                      <a:pt x="138" y="132"/>
                    </a:lnTo>
                    <a:lnTo>
                      <a:pt x="120" y="132"/>
                    </a:lnTo>
                    <a:lnTo>
                      <a:pt x="96" y="144"/>
                    </a:lnTo>
                    <a:lnTo>
                      <a:pt x="72" y="156"/>
                    </a:lnTo>
                    <a:lnTo>
                      <a:pt x="54" y="162"/>
                    </a:lnTo>
                    <a:lnTo>
                      <a:pt x="48" y="168"/>
                    </a:lnTo>
                    <a:lnTo>
                      <a:pt x="36" y="174"/>
                    </a:lnTo>
                    <a:lnTo>
                      <a:pt x="30" y="180"/>
                    </a:lnTo>
                    <a:lnTo>
                      <a:pt x="24" y="186"/>
                    </a:lnTo>
                    <a:lnTo>
                      <a:pt x="18" y="192"/>
                    </a:lnTo>
                    <a:lnTo>
                      <a:pt x="6" y="192"/>
                    </a:lnTo>
                    <a:lnTo>
                      <a:pt x="0" y="204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f17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95360" y="3557160"/>
                <a:ext cx="257400" cy="421920"/>
              </a:xfrm>
              <a:custGeom>
                <a:avLst/>
                <a:gdLst/>
                <a:ahLst/>
                <a:rect l="l" t="t" r="r" b="b"/>
                <a:pathLst>
                  <a:path w="174" h="264">
                    <a:moveTo>
                      <a:pt x="0" y="6"/>
                    </a:moveTo>
                    <a:lnTo>
                      <a:pt x="0" y="6"/>
                    </a:lnTo>
                    <a:lnTo>
                      <a:pt x="12" y="6"/>
                    </a:lnTo>
                    <a:lnTo>
                      <a:pt x="24" y="12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66" y="36"/>
                    </a:lnTo>
                    <a:lnTo>
                      <a:pt x="78" y="48"/>
                    </a:lnTo>
                    <a:lnTo>
                      <a:pt x="90" y="54"/>
                    </a:lnTo>
                    <a:lnTo>
                      <a:pt x="102" y="66"/>
                    </a:lnTo>
                    <a:lnTo>
                      <a:pt x="114" y="78"/>
                    </a:lnTo>
                    <a:lnTo>
                      <a:pt x="126" y="84"/>
                    </a:lnTo>
                    <a:lnTo>
                      <a:pt x="138" y="96"/>
                    </a:lnTo>
                    <a:lnTo>
                      <a:pt x="144" y="102"/>
                    </a:lnTo>
                    <a:lnTo>
                      <a:pt x="156" y="120"/>
                    </a:lnTo>
                    <a:lnTo>
                      <a:pt x="162" y="126"/>
                    </a:lnTo>
                    <a:lnTo>
                      <a:pt x="168" y="144"/>
                    </a:lnTo>
                    <a:lnTo>
                      <a:pt x="174" y="150"/>
                    </a:lnTo>
                    <a:lnTo>
                      <a:pt x="174" y="180"/>
                    </a:lnTo>
                    <a:lnTo>
                      <a:pt x="150" y="180"/>
                    </a:lnTo>
                    <a:lnTo>
                      <a:pt x="150" y="192"/>
                    </a:lnTo>
                    <a:lnTo>
                      <a:pt x="156" y="198"/>
                    </a:lnTo>
                    <a:lnTo>
                      <a:pt x="162" y="210"/>
                    </a:lnTo>
                    <a:lnTo>
                      <a:pt x="162" y="222"/>
                    </a:lnTo>
                    <a:lnTo>
                      <a:pt x="162" y="222"/>
                    </a:lnTo>
                    <a:lnTo>
                      <a:pt x="162" y="228"/>
                    </a:lnTo>
                    <a:lnTo>
                      <a:pt x="162" y="234"/>
                    </a:lnTo>
                    <a:lnTo>
                      <a:pt x="162" y="246"/>
                    </a:lnTo>
                    <a:lnTo>
                      <a:pt x="156" y="246"/>
                    </a:lnTo>
                    <a:lnTo>
                      <a:pt x="156" y="246"/>
                    </a:lnTo>
                    <a:lnTo>
                      <a:pt x="156" y="252"/>
                    </a:lnTo>
                    <a:lnTo>
                      <a:pt x="150" y="252"/>
                    </a:lnTo>
                    <a:lnTo>
                      <a:pt x="144" y="258"/>
                    </a:lnTo>
                    <a:lnTo>
                      <a:pt x="144" y="258"/>
                    </a:lnTo>
                    <a:lnTo>
                      <a:pt x="138" y="264"/>
                    </a:lnTo>
                    <a:lnTo>
                      <a:pt x="138" y="264"/>
                    </a:lnTo>
                    <a:lnTo>
                      <a:pt x="132" y="264"/>
                    </a:lnTo>
                    <a:lnTo>
                      <a:pt x="126" y="258"/>
                    </a:lnTo>
                    <a:lnTo>
                      <a:pt x="126" y="258"/>
                    </a:lnTo>
                    <a:lnTo>
                      <a:pt x="120" y="258"/>
                    </a:lnTo>
                    <a:lnTo>
                      <a:pt x="120" y="252"/>
                    </a:lnTo>
                    <a:lnTo>
                      <a:pt x="108" y="246"/>
                    </a:lnTo>
                    <a:lnTo>
                      <a:pt x="102" y="240"/>
                    </a:lnTo>
                    <a:lnTo>
                      <a:pt x="102" y="228"/>
                    </a:lnTo>
                    <a:lnTo>
                      <a:pt x="96" y="222"/>
                    </a:lnTo>
                    <a:lnTo>
                      <a:pt x="96" y="210"/>
                    </a:lnTo>
                    <a:lnTo>
                      <a:pt x="96" y="198"/>
                    </a:lnTo>
                    <a:lnTo>
                      <a:pt x="90" y="192"/>
                    </a:lnTo>
                    <a:lnTo>
                      <a:pt x="84" y="174"/>
                    </a:lnTo>
                    <a:lnTo>
                      <a:pt x="78" y="150"/>
                    </a:lnTo>
                    <a:lnTo>
                      <a:pt x="78" y="144"/>
                    </a:lnTo>
                    <a:lnTo>
                      <a:pt x="72" y="138"/>
                    </a:lnTo>
                    <a:lnTo>
                      <a:pt x="72" y="120"/>
                    </a:lnTo>
                    <a:lnTo>
                      <a:pt x="60" y="102"/>
                    </a:lnTo>
                    <a:lnTo>
                      <a:pt x="42" y="72"/>
                    </a:lnTo>
                    <a:lnTo>
                      <a:pt x="18" y="30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17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15480" y="3297960"/>
                <a:ext cx="479520" cy="239760"/>
              </a:xfrm>
              <a:custGeom>
                <a:avLst/>
                <a:gdLst/>
                <a:ahLst/>
                <a:rect l="l" t="t" r="r" b="b"/>
                <a:pathLst>
                  <a:path w="324" h="150">
                    <a:moveTo>
                      <a:pt x="324" y="150"/>
                    </a:moveTo>
                    <a:lnTo>
                      <a:pt x="324" y="150"/>
                    </a:lnTo>
                    <a:lnTo>
                      <a:pt x="312" y="144"/>
                    </a:lnTo>
                    <a:lnTo>
                      <a:pt x="306" y="138"/>
                    </a:lnTo>
                    <a:lnTo>
                      <a:pt x="294" y="120"/>
                    </a:lnTo>
                    <a:lnTo>
                      <a:pt x="276" y="108"/>
                    </a:lnTo>
                    <a:lnTo>
                      <a:pt x="258" y="96"/>
                    </a:lnTo>
                    <a:lnTo>
                      <a:pt x="228" y="72"/>
                    </a:lnTo>
                    <a:lnTo>
                      <a:pt x="192" y="48"/>
                    </a:lnTo>
                    <a:lnTo>
                      <a:pt x="180" y="42"/>
                    </a:lnTo>
                    <a:lnTo>
                      <a:pt x="162" y="30"/>
                    </a:lnTo>
                    <a:lnTo>
                      <a:pt x="150" y="24"/>
                    </a:lnTo>
                    <a:lnTo>
                      <a:pt x="132" y="18"/>
                    </a:lnTo>
                    <a:lnTo>
                      <a:pt x="126" y="12"/>
                    </a:lnTo>
                    <a:lnTo>
                      <a:pt x="120" y="12"/>
                    </a:lnTo>
                    <a:lnTo>
                      <a:pt x="108" y="6"/>
                    </a:lnTo>
                    <a:lnTo>
                      <a:pt x="102" y="0"/>
                    </a:lnTo>
                    <a:lnTo>
                      <a:pt x="90" y="0"/>
                    </a:lnTo>
                    <a:lnTo>
                      <a:pt x="84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6" y="66"/>
                    </a:lnTo>
                    <a:lnTo>
                      <a:pt x="6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8"/>
                    </a:lnTo>
                    <a:lnTo>
                      <a:pt x="0" y="84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6" y="96"/>
                    </a:lnTo>
                    <a:lnTo>
                      <a:pt x="6" y="96"/>
                    </a:lnTo>
                    <a:lnTo>
                      <a:pt x="12" y="102"/>
                    </a:lnTo>
                    <a:lnTo>
                      <a:pt x="12" y="102"/>
                    </a:lnTo>
                    <a:lnTo>
                      <a:pt x="18" y="108"/>
                    </a:lnTo>
                    <a:lnTo>
                      <a:pt x="24" y="108"/>
                    </a:lnTo>
                    <a:lnTo>
                      <a:pt x="36" y="108"/>
                    </a:lnTo>
                    <a:lnTo>
                      <a:pt x="48" y="108"/>
                    </a:lnTo>
                    <a:lnTo>
                      <a:pt x="66" y="108"/>
                    </a:lnTo>
                    <a:lnTo>
                      <a:pt x="96" y="108"/>
                    </a:lnTo>
                    <a:lnTo>
                      <a:pt x="120" y="108"/>
                    </a:lnTo>
                    <a:lnTo>
                      <a:pt x="144" y="114"/>
                    </a:lnTo>
                    <a:lnTo>
                      <a:pt x="162" y="114"/>
                    </a:lnTo>
                    <a:lnTo>
                      <a:pt x="186" y="120"/>
                    </a:lnTo>
                    <a:lnTo>
                      <a:pt x="210" y="120"/>
                    </a:lnTo>
                    <a:lnTo>
                      <a:pt x="252" y="132"/>
                    </a:lnTo>
                    <a:lnTo>
                      <a:pt x="276" y="138"/>
                    </a:lnTo>
                    <a:lnTo>
                      <a:pt x="288" y="144"/>
                    </a:lnTo>
                    <a:lnTo>
                      <a:pt x="300" y="144"/>
                    </a:lnTo>
                    <a:lnTo>
                      <a:pt x="324" y="150"/>
                    </a:lnTo>
                    <a:close/>
                  </a:path>
                </a:pathLst>
              </a:custGeom>
              <a:solidFill>
                <a:srgbClr val="f17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837960" y="3557160"/>
                <a:ext cx="266040" cy="517680"/>
              </a:xfrm>
              <a:custGeom>
                <a:avLst/>
                <a:gdLst/>
                <a:ahLst/>
                <a:rect l="l" t="t" r="r" b="b"/>
                <a:pathLst>
                  <a:path w="180" h="324">
                    <a:moveTo>
                      <a:pt x="174" y="6"/>
                    </a:moveTo>
                    <a:lnTo>
                      <a:pt x="174" y="6"/>
                    </a:lnTo>
                    <a:lnTo>
                      <a:pt x="174" y="12"/>
                    </a:lnTo>
                    <a:lnTo>
                      <a:pt x="174" y="30"/>
                    </a:lnTo>
                    <a:lnTo>
                      <a:pt x="174" y="42"/>
                    </a:lnTo>
                    <a:lnTo>
                      <a:pt x="174" y="54"/>
                    </a:lnTo>
                    <a:lnTo>
                      <a:pt x="180" y="72"/>
                    </a:lnTo>
                    <a:lnTo>
                      <a:pt x="180" y="198"/>
                    </a:lnTo>
                    <a:lnTo>
                      <a:pt x="180" y="216"/>
                    </a:lnTo>
                    <a:lnTo>
                      <a:pt x="174" y="234"/>
                    </a:lnTo>
                    <a:lnTo>
                      <a:pt x="174" y="258"/>
                    </a:lnTo>
                    <a:lnTo>
                      <a:pt x="174" y="270"/>
                    </a:lnTo>
                    <a:lnTo>
                      <a:pt x="168" y="276"/>
                    </a:lnTo>
                    <a:lnTo>
                      <a:pt x="162" y="288"/>
                    </a:lnTo>
                    <a:lnTo>
                      <a:pt x="156" y="294"/>
                    </a:lnTo>
                    <a:lnTo>
                      <a:pt x="150" y="300"/>
                    </a:lnTo>
                    <a:lnTo>
                      <a:pt x="150" y="312"/>
                    </a:lnTo>
                    <a:lnTo>
                      <a:pt x="144" y="312"/>
                    </a:lnTo>
                    <a:lnTo>
                      <a:pt x="144" y="318"/>
                    </a:lnTo>
                    <a:lnTo>
                      <a:pt x="138" y="318"/>
                    </a:lnTo>
                    <a:lnTo>
                      <a:pt x="132" y="318"/>
                    </a:lnTo>
                    <a:lnTo>
                      <a:pt x="126" y="318"/>
                    </a:lnTo>
                    <a:lnTo>
                      <a:pt x="126" y="324"/>
                    </a:lnTo>
                    <a:lnTo>
                      <a:pt x="120" y="324"/>
                    </a:lnTo>
                    <a:lnTo>
                      <a:pt x="114" y="324"/>
                    </a:lnTo>
                    <a:lnTo>
                      <a:pt x="114" y="318"/>
                    </a:lnTo>
                    <a:lnTo>
                      <a:pt x="102" y="318"/>
                    </a:lnTo>
                    <a:lnTo>
                      <a:pt x="102" y="318"/>
                    </a:lnTo>
                    <a:lnTo>
                      <a:pt x="102" y="318"/>
                    </a:lnTo>
                    <a:lnTo>
                      <a:pt x="102" y="312"/>
                    </a:lnTo>
                    <a:lnTo>
                      <a:pt x="102" y="306"/>
                    </a:lnTo>
                    <a:lnTo>
                      <a:pt x="96" y="300"/>
                    </a:lnTo>
                    <a:lnTo>
                      <a:pt x="96" y="288"/>
                    </a:lnTo>
                    <a:lnTo>
                      <a:pt x="84" y="294"/>
                    </a:lnTo>
                    <a:lnTo>
                      <a:pt x="78" y="294"/>
                    </a:lnTo>
                    <a:lnTo>
                      <a:pt x="66" y="312"/>
                    </a:lnTo>
                    <a:lnTo>
                      <a:pt x="60" y="318"/>
                    </a:lnTo>
                    <a:lnTo>
                      <a:pt x="54" y="318"/>
                    </a:lnTo>
                    <a:lnTo>
                      <a:pt x="48" y="318"/>
                    </a:lnTo>
                    <a:lnTo>
                      <a:pt x="42" y="318"/>
                    </a:lnTo>
                    <a:lnTo>
                      <a:pt x="36" y="324"/>
                    </a:lnTo>
                    <a:lnTo>
                      <a:pt x="30" y="324"/>
                    </a:lnTo>
                    <a:lnTo>
                      <a:pt x="30" y="318"/>
                    </a:lnTo>
                    <a:lnTo>
                      <a:pt x="24" y="318"/>
                    </a:lnTo>
                    <a:lnTo>
                      <a:pt x="18" y="318"/>
                    </a:lnTo>
                    <a:lnTo>
                      <a:pt x="12" y="318"/>
                    </a:lnTo>
                    <a:lnTo>
                      <a:pt x="6" y="312"/>
                    </a:lnTo>
                    <a:lnTo>
                      <a:pt x="6" y="306"/>
                    </a:lnTo>
                    <a:lnTo>
                      <a:pt x="6" y="300"/>
                    </a:lnTo>
                    <a:lnTo>
                      <a:pt x="0" y="294"/>
                    </a:lnTo>
                    <a:lnTo>
                      <a:pt x="0" y="288"/>
                    </a:lnTo>
                    <a:lnTo>
                      <a:pt x="0" y="282"/>
                    </a:lnTo>
                    <a:lnTo>
                      <a:pt x="6" y="276"/>
                    </a:lnTo>
                    <a:lnTo>
                      <a:pt x="12" y="270"/>
                    </a:lnTo>
                    <a:lnTo>
                      <a:pt x="24" y="246"/>
                    </a:lnTo>
                    <a:lnTo>
                      <a:pt x="30" y="234"/>
                    </a:lnTo>
                    <a:lnTo>
                      <a:pt x="48" y="222"/>
                    </a:lnTo>
                    <a:lnTo>
                      <a:pt x="54" y="204"/>
                    </a:lnTo>
                    <a:lnTo>
                      <a:pt x="72" y="198"/>
                    </a:lnTo>
                    <a:lnTo>
                      <a:pt x="96" y="168"/>
                    </a:lnTo>
                    <a:lnTo>
                      <a:pt x="102" y="150"/>
                    </a:lnTo>
                    <a:lnTo>
                      <a:pt x="120" y="138"/>
                    </a:lnTo>
                    <a:lnTo>
                      <a:pt x="126" y="132"/>
                    </a:lnTo>
                    <a:lnTo>
                      <a:pt x="126" y="126"/>
                    </a:lnTo>
                    <a:lnTo>
                      <a:pt x="126" y="114"/>
                    </a:lnTo>
                    <a:lnTo>
                      <a:pt x="132" y="102"/>
                    </a:lnTo>
                    <a:lnTo>
                      <a:pt x="144" y="90"/>
                    </a:lnTo>
                    <a:lnTo>
                      <a:pt x="150" y="72"/>
                    </a:lnTo>
                    <a:lnTo>
                      <a:pt x="150" y="54"/>
                    </a:lnTo>
                    <a:lnTo>
                      <a:pt x="162" y="30"/>
                    </a:lnTo>
                    <a:lnTo>
                      <a:pt x="162" y="24"/>
                    </a:lnTo>
                    <a:lnTo>
                      <a:pt x="168" y="12"/>
                    </a:lnTo>
                    <a:lnTo>
                      <a:pt x="174" y="6"/>
                    </a:lnTo>
                    <a:lnTo>
                      <a:pt x="174" y="0"/>
                    </a:lnTo>
                    <a:lnTo>
                      <a:pt x="174" y="6"/>
                    </a:lnTo>
                    <a:close/>
                  </a:path>
                </a:pathLst>
              </a:custGeom>
              <a:solidFill>
                <a:srgbClr val="f17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3038400" y="3538080"/>
                <a:ext cx="995040" cy="30672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3495600" y="2695680"/>
              <a:ext cx="762120" cy="45684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Lea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258640" y="3252960"/>
            <a:ext cx="384840" cy="581400"/>
          </a:xfrm>
          <a:prstGeom prst="rect">
            <a:avLst/>
          </a:prstGeom>
          <a:solidFill>
            <a:srgbClr val="ffe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30240" y="3262320"/>
            <a:ext cx="384840" cy="581400"/>
          </a:xfrm>
          <a:prstGeom prst="rect">
            <a:avLst/>
          </a:prstGeom>
          <a:solidFill>
            <a:srgbClr val="ffe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7080" y="3929040"/>
            <a:ext cx="384840" cy="581400"/>
          </a:xfrm>
          <a:prstGeom prst="rect">
            <a:avLst/>
          </a:prstGeom>
          <a:solidFill>
            <a:srgbClr val="ffe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649320" y="3919680"/>
            <a:ext cx="384840" cy="581400"/>
          </a:xfrm>
          <a:prstGeom prst="rect">
            <a:avLst/>
          </a:prstGeom>
          <a:solidFill>
            <a:srgbClr val="ffe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68000" y="4633920"/>
            <a:ext cx="384840" cy="581400"/>
          </a:xfrm>
          <a:prstGeom prst="rect">
            <a:avLst/>
          </a:prstGeom>
          <a:solidFill>
            <a:srgbClr val="ffe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49320" y="4643280"/>
            <a:ext cx="384840" cy="581400"/>
          </a:xfrm>
          <a:prstGeom prst="rect">
            <a:avLst/>
          </a:prstGeom>
          <a:solidFill>
            <a:srgbClr val="ffe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48920" y="5383080"/>
            <a:ext cx="384840" cy="581400"/>
          </a:xfrm>
          <a:prstGeom prst="rect">
            <a:avLst/>
          </a:prstGeom>
          <a:solidFill>
            <a:srgbClr val="ffe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49320" y="5376960"/>
            <a:ext cx="384840" cy="581400"/>
          </a:xfrm>
          <a:prstGeom prst="rect">
            <a:avLst/>
          </a:prstGeom>
          <a:solidFill>
            <a:srgbClr val="ffe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903920" y="2892600"/>
            <a:ext cx="3698640" cy="94716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6189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w, list the remaining ‘leaf’ scor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188960" y="3938760"/>
            <a:ext cx="384840" cy="581400"/>
          </a:xfrm>
          <a:prstGeom prst="rect">
            <a:avLst/>
          </a:prstGeom>
          <a:solidFill>
            <a:srgbClr val="ffe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22080" y="4649760"/>
            <a:ext cx="384840" cy="581400"/>
          </a:xfrm>
          <a:prstGeom prst="rect">
            <a:avLst/>
          </a:prstGeom>
          <a:solidFill>
            <a:srgbClr val="ffe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87280" y="4654440"/>
            <a:ext cx="384840" cy="581400"/>
          </a:xfrm>
          <a:prstGeom prst="rect">
            <a:avLst/>
          </a:prstGeom>
          <a:solidFill>
            <a:srgbClr val="ffe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03160" y="4649760"/>
            <a:ext cx="384840" cy="581400"/>
          </a:xfrm>
          <a:prstGeom prst="rect">
            <a:avLst/>
          </a:prstGeom>
          <a:solidFill>
            <a:srgbClr val="ffe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55720" y="4660920"/>
            <a:ext cx="384840" cy="581400"/>
          </a:xfrm>
          <a:prstGeom prst="rect">
            <a:avLst/>
          </a:prstGeom>
          <a:solidFill>
            <a:srgbClr val="ffe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93640" y="5403960"/>
            <a:ext cx="384840" cy="581400"/>
          </a:xfrm>
          <a:prstGeom prst="rect">
            <a:avLst/>
          </a:prstGeom>
          <a:solidFill>
            <a:srgbClr val="ffe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95200" y="5403960"/>
            <a:ext cx="384840" cy="581400"/>
          </a:xfrm>
          <a:prstGeom prst="rect">
            <a:avLst/>
          </a:prstGeom>
          <a:solidFill>
            <a:srgbClr val="ffe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79440" y="4660920"/>
            <a:ext cx="384840" cy="581400"/>
          </a:xfrm>
          <a:prstGeom prst="rect">
            <a:avLst/>
          </a:prstGeom>
          <a:solidFill>
            <a:srgbClr val="ffe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3303360" y="5849280"/>
            <a:ext cx="3367080" cy="743040"/>
            <a:chOff x="3303360" y="5849280"/>
            <a:chExt cx="3367080" cy="743040"/>
          </a:xfrm>
        </p:grpSpPr>
        <p:sp>
          <p:nvSpPr>
            <p:cNvPr id="495" name=""/>
            <p:cNvSpPr/>
            <p:nvPr/>
          </p:nvSpPr>
          <p:spPr>
            <a:xfrm flipH="1" flipV="1" rot="16200000">
              <a:off x="4791240" y="4360680"/>
              <a:ext cx="390600" cy="3367080"/>
            </a:xfrm>
            <a:custGeom>
              <a:avLst/>
              <a:gdLst>
                <a:gd name="textAreaLeft" fmla="*/ -360 w 390600"/>
                <a:gd name="textAreaRight" fmla="*/ 140760 w 390600"/>
                <a:gd name="textAreaTop" fmla="*/ 87480 h 3367080"/>
                <a:gd name="textAreaBottom" fmla="*/ 3279600 h 336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87080" y="613260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ll 12 Sc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1531800" y="142920"/>
            <a:ext cx="6537600" cy="1047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2675" dir="756058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tem-and-leaf Display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6362640" y="6305400"/>
            <a:ext cx="2648160" cy="304920"/>
            <a:chOff x="6362640" y="6305400"/>
            <a:chExt cx="2648160" cy="304920"/>
          </a:xfrm>
        </p:grpSpPr>
        <p:sp>
          <p:nvSpPr>
            <p:cNvPr id="499" name=""/>
            <p:cNvSpPr/>
            <p:nvPr/>
          </p:nvSpPr>
          <p:spPr>
            <a:xfrm>
              <a:off x="6362640" y="6477120"/>
              <a:ext cx="26481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6667560" y="6305400"/>
              <a:ext cx="203832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EXAMPL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441520" y="1450800"/>
            <a:ext cx="3371760" cy="1181160"/>
            <a:chOff x="2441520" y="1450800"/>
            <a:chExt cx="3371760" cy="1181160"/>
          </a:xfrm>
        </p:grpSpPr>
        <p:sp>
          <p:nvSpPr>
            <p:cNvPr id="502" name=""/>
            <p:cNvSpPr/>
            <p:nvPr/>
          </p:nvSpPr>
          <p:spPr>
            <a:xfrm>
              <a:off x="2441520" y="2079360"/>
              <a:ext cx="60012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08280" y="2089080"/>
              <a:ext cx="60012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03800" y="2070000"/>
              <a:ext cx="60012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13160" y="1450800"/>
              <a:ext cx="60012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2428920" y="126036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86, 79, 92, 84, 69, 88, 91, 83, 96, 78, 82, 85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3295800" y="114480"/>
            <a:ext cx="2485440" cy="871200"/>
            <a:chOff x="3295800" y="114480"/>
            <a:chExt cx="2485440" cy="871200"/>
          </a:xfrm>
        </p:grpSpPr>
        <p:sp>
          <p:nvSpPr>
            <p:cNvPr id="508" name=""/>
            <p:cNvSpPr txBox="1"/>
            <p:nvPr/>
          </p:nvSpPr>
          <p:spPr>
            <a:xfrm>
              <a:off x="3295800" y="114480"/>
              <a:ext cx="604440" cy="871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>
              <a:off x="3933720" y="323640"/>
              <a:ext cx="1847520" cy="47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1152360" y="1066680"/>
            <a:ext cx="6948720" cy="124524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ades on a statistics exam for                                          a sample of 40 students are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3080" y="2109960"/>
            <a:ext cx="3571560" cy="435312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S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Times New Roman"/>
              </a:rPr>
              <a:t> Leaf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  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6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  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 2 7 8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  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0 1 2 5 5 8 9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  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0 1 1 1 2 5 7 8 8 8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  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0 0 2 5 6 6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  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4 6 8 8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     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0 2 4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43880" y="2066760"/>
            <a:ext cx="2085840" cy="175068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17181" dir="83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w many students earned a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on this t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486560" y="3914640"/>
            <a:ext cx="571680" cy="400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81185" dir="77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8600" y="4392720"/>
            <a:ext cx="2374920" cy="161784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34955" dir="787288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comm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etter grade ear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496280" y="6124680"/>
            <a:ext cx="571320" cy="3999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81185" dir="77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4109400" y="2054160"/>
            <a:ext cx="2520000" cy="4395960"/>
            <a:chOff x="4109400" y="2054160"/>
            <a:chExt cx="2520000" cy="4395960"/>
          </a:xfrm>
        </p:grpSpPr>
        <p:sp>
          <p:nvSpPr>
            <p:cNvPr id="517" name=""/>
            <p:cNvSpPr/>
            <p:nvPr/>
          </p:nvSpPr>
          <p:spPr>
            <a:xfrm>
              <a:off x="4124160" y="2762280"/>
              <a:ext cx="2505240" cy="3687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61899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+ =  90%-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  =  80%-89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+ =  75%-79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  =  70%-74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+ =  65%-69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   =  60%-64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   =  55%-59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   =  0%-54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109400" y="2054160"/>
              <a:ext cx="2213640" cy="678600"/>
            </a:xfrm>
            <a:prstGeom prst="rect">
              <a:avLst/>
            </a:prstGeom>
            <a:solidFill>
              <a:srgbClr val="ffeac5"/>
            </a:solidFill>
            <a:ln w="0">
              <a:noFill/>
            </a:ln>
            <a:effectLst>
              <a:outerShdw dist="64600" dir="1012516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lpha-Numer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ra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"/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455840" y="2220840"/>
            <a:ext cx="6251400" cy="2533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Times New Roman"/>
              </a:rPr>
              <a:t>Graphic Presentation of a Frequency Distribution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455840" y="163440"/>
            <a:ext cx="6251400" cy="1047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1040" dir="792084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raphic Presentation of a Frequency Distribu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55680" y="2171880"/>
            <a:ext cx="8388360" cy="3609720"/>
          </a:xfrm>
          <a:prstGeom prst="rect">
            <a:avLst/>
          </a:prstGeom>
          <a:solidFill>
            <a:srgbClr val="ffeac5"/>
          </a:solidFill>
          <a:ln w="76320">
            <a:solidFill>
              <a:srgbClr val="000000"/>
            </a:solidFill>
            <a:miter/>
          </a:ln>
          <a:effectLst>
            <a:outerShdw dist="153009" dir="830601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1840" indent="-2318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three </a:t>
            </a: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commonly used graphic form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Histogra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Frequency Polyg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r Line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Cumulative Frequency Distribu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0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2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 rot="121200">
            <a:off x="298440" y="1571760"/>
            <a:ext cx="4013280" cy="4892400"/>
          </a:xfrm>
          <a:custGeom>
            <a:avLst/>
            <a:gdLst/>
            <a:ahLst/>
            <a:rect l="l" t="t" r="r" b="b"/>
            <a:pathLst>
              <a:path w="2085" h="2090">
                <a:moveTo>
                  <a:pt x="751" y="2087"/>
                </a:moveTo>
                <a:lnTo>
                  <a:pt x="754" y="2087"/>
                </a:lnTo>
                <a:lnTo>
                  <a:pt x="757" y="2087"/>
                </a:lnTo>
                <a:lnTo>
                  <a:pt x="759" y="2087"/>
                </a:lnTo>
                <a:lnTo>
                  <a:pt x="762" y="2087"/>
                </a:lnTo>
                <a:lnTo>
                  <a:pt x="765" y="2087"/>
                </a:lnTo>
                <a:lnTo>
                  <a:pt x="768" y="2087"/>
                </a:lnTo>
                <a:lnTo>
                  <a:pt x="770" y="2087"/>
                </a:lnTo>
                <a:lnTo>
                  <a:pt x="773" y="2084"/>
                </a:lnTo>
                <a:lnTo>
                  <a:pt x="776" y="2084"/>
                </a:lnTo>
                <a:lnTo>
                  <a:pt x="776" y="2084"/>
                </a:lnTo>
                <a:lnTo>
                  <a:pt x="779" y="2084"/>
                </a:lnTo>
                <a:lnTo>
                  <a:pt x="781" y="2084"/>
                </a:lnTo>
                <a:lnTo>
                  <a:pt x="781" y="2082"/>
                </a:lnTo>
                <a:lnTo>
                  <a:pt x="784" y="2082"/>
                </a:lnTo>
                <a:lnTo>
                  <a:pt x="787" y="2082"/>
                </a:lnTo>
                <a:lnTo>
                  <a:pt x="790" y="2082"/>
                </a:lnTo>
                <a:lnTo>
                  <a:pt x="825" y="2062"/>
                </a:lnTo>
                <a:lnTo>
                  <a:pt x="861" y="2040"/>
                </a:lnTo>
                <a:lnTo>
                  <a:pt x="894" y="2016"/>
                </a:lnTo>
                <a:lnTo>
                  <a:pt x="924" y="1988"/>
                </a:lnTo>
                <a:lnTo>
                  <a:pt x="955" y="1958"/>
                </a:lnTo>
                <a:lnTo>
                  <a:pt x="982" y="1928"/>
                </a:lnTo>
                <a:lnTo>
                  <a:pt x="1010" y="1895"/>
                </a:lnTo>
                <a:lnTo>
                  <a:pt x="1037" y="1864"/>
                </a:lnTo>
                <a:lnTo>
                  <a:pt x="1040" y="1862"/>
                </a:lnTo>
                <a:lnTo>
                  <a:pt x="1043" y="1862"/>
                </a:lnTo>
                <a:lnTo>
                  <a:pt x="1045" y="1862"/>
                </a:lnTo>
                <a:lnTo>
                  <a:pt x="1048" y="1862"/>
                </a:lnTo>
                <a:lnTo>
                  <a:pt x="1051" y="1862"/>
                </a:lnTo>
                <a:lnTo>
                  <a:pt x="1054" y="1862"/>
                </a:lnTo>
                <a:lnTo>
                  <a:pt x="1056" y="1862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70"/>
                </a:lnTo>
                <a:lnTo>
                  <a:pt x="1062" y="1870"/>
                </a:lnTo>
                <a:lnTo>
                  <a:pt x="1062" y="1870"/>
                </a:lnTo>
                <a:lnTo>
                  <a:pt x="1065" y="1870"/>
                </a:lnTo>
                <a:lnTo>
                  <a:pt x="1065" y="1870"/>
                </a:lnTo>
                <a:lnTo>
                  <a:pt x="1067" y="1873"/>
                </a:lnTo>
                <a:lnTo>
                  <a:pt x="1067" y="1873"/>
                </a:lnTo>
                <a:lnTo>
                  <a:pt x="1070" y="1875"/>
                </a:lnTo>
                <a:lnTo>
                  <a:pt x="1070" y="1875"/>
                </a:lnTo>
                <a:lnTo>
                  <a:pt x="1070" y="1875"/>
                </a:lnTo>
                <a:lnTo>
                  <a:pt x="1078" y="1884"/>
                </a:lnTo>
                <a:lnTo>
                  <a:pt x="1084" y="1895"/>
                </a:lnTo>
                <a:lnTo>
                  <a:pt x="1092" y="1903"/>
                </a:lnTo>
                <a:lnTo>
                  <a:pt x="1103" y="1911"/>
                </a:lnTo>
                <a:lnTo>
                  <a:pt x="1111" y="1919"/>
                </a:lnTo>
                <a:lnTo>
                  <a:pt x="1122" y="1925"/>
                </a:lnTo>
                <a:lnTo>
                  <a:pt x="1133" y="1930"/>
                </a:lnTo>
                <a:lnTo>
                  <a:pt x="1147" y="1933"/>
                </a:lnTo>
                <a:lnTo>
                  <a:pt x="1153" y="1936"/>
                </a:lnTo>
                <a:lnTo>
                  <a:pt x="1161" y="1936"/>
                </a:lnTo>
                <a:lnTo>
                  <a:pt x="1166" y="1936"/>
                </a:lnTo>
                <a:lnTo>
                  <a:pt x="1175" y="1936"/>
                </a:lnTo>
                <a:lnTo>
                  <a:pt x="1180" y="1936"/>
                </a:lnTo>
                <a:lnTo>
                  <a:pt x="1188" y="1933"/>
                </a:lnTo>
                <a:lnTo>
                  <a:pt x="1197" y="1933"/>
                </a:lnTo>
                <a:lnTo>
                  <a:pt x="1205" y="1933"/>
                </a:lnTo>
                <a:lnTo>
                  <a:pt x="1205" y="1933"/>
                </a:lnTo>
                <a:lnTo>
                  <a:pt x="1208" y="1933"/>
                </a:lnTo>
                <a:lnTo>
                  <a:pt x="1208" y="1930"/>
                </a:lnTo>
                <a:lnTo>
                  <a:pt x="1210" y="1930"/>
                </a:lnTo>
                <a:lnTo>
                  <a:pt x="1213" y="1930"/>
                </a:lnTo>
                <a:lnTo>
                  <a:pt x="1216" y="1928"/>
                </a:lnTo>
                <a:lnTo>
                  <a:pt x="1216" y="1928"/>
                </a:lnTo>
                <a:lnTo>
                  <a:pt x="1219" y="1928"/>
                </a:lnTo>
                <a:lnTo>
                  <a:pt x="1221" y="1928"/>
                </a:lnTo>
                <a:lnTo>
                  <a:pt x="1224" y="1925"/>
                </a:lnTo>
                <a:lnTo>
                  <a:pt x="1227" y="1925"/>
                </a:lnTo>
                <a:lnTo>
                  <a:pt x="1230" y="1925"/>
                </a:lnTo>
                <a:lnTo>
                  <a:pt x="1232" y="1922"/>
                </a:lnTo>
                <a:lnTo>
                  <a:pt x="1235" y="1922"/>
                </a:lnTo>
                <a:lnTo>
                  <a:pt x="1238" y="1922"/>
                </a:lnTo>
                <a:lnTo>
                  <a:pt x="1241" y="1919"/>
                </a:lnTo>
                <a:lnTo>
                  <a:pt x="1241" y="1919"/>
                </a:lnTo>
                <a:lnTo>
                  <a:pt x="1243" y="1919"/>
                </a:lnTo>
                <a:lnTo>
                  <a:pt x="1243" y="1917"/>
                </a:lnTo>
                <a:lnTo>
                  <a:pt x="1246" y="1917"/>
                </a:lnTo>
                <a:lnTo>
                  <a:pt x="1249" y="1917"/>
                </a:lnTo>
                <a:lnTo>
                  <a:pt x="1252" y="1914"/>
                </a:lnTo>
                <a:lnTo>
                  <a:pt x="1252" y="1914"/>
                </a:lnTo>
                <a:lnTo>
                  <a:pt x="1254" y="1914"/>
                </a:lnTo>
                <a:lnTo>
                  <a:pt x="1329" y="1878"/>
                </a:lnTo>
                <a:lnTo>
                  <a:pt x="1331" y="1878"/>
                </a:lnTo>
                <a:lnTo>
                  <a:pt x="1334" y="1878"/>
                </a:lnTo>
                <a:lnTo>
                  <a:pt x="1337" y="1878"/>
                </a:lnTo>
                <a:lnTo>
                  <a:pt x="1340" y="1878"/>
                </a:lnTo>
                <a:lnTo>
                  <a:pt x="1342" y="1881"/>
                </a:lnTo>
                <a:lnTo>
                  <a:pt x="1345" y="1881"/>
                </a:lnTo>
                <a:lnTo>
                  <a:pt x="1348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9"/>
                </a:lnTo>
                <a:lnTo>
                  <a:pt x="1353" y="1889"/>
                </a:lnTo>
                <a:lnTo>
                  <a:pt x="1356" y="1889"/>
                </a:lnTo>
                <a:lnTo>
                  <a:pt x="1356" y="1889"/>
                </a:lnTo>
                <a:lnTo>
                  <a:pt x="1356" y="1892"/>
                </a:lnTo>
                <a:lnTo>
                  <a:pt x="1356" y="1892"/>
                </a:lnTo>
                <a:lnTo>
                  <a:pt x="1356" y="1895"/>
                </a:lnTo>
                <a:lnTo>
                  <a:pt x="1359" y="1895"/>
                </a:lnTo>
                <a:lnTo>
                  <a:pt x="1359" y="1897"/>
                </a:lnTo>
                <a:lnTo>
                  <a:pt x="1359" y="1897"/>
                </a:lnTo>
                <a:lnTo>
                  <a:pt x="1359" y="1897"/>
                </a:lnTo>
                <a:lnTo>
                  <a:pt x="1364" y="1903"/>
                </a:lnTo>
                <a:lnTo>
                  <a:pt x="1370" y="1911"/>
                </a:lnTo>
                <a:lnTo>
                  <a:pt x="1375" y="1917"/>
                </a:lnTo>
                <a:lnTo>
                  <a:pt x="1384" y="1922"/>
                </a:lnTo>
                <a:lnTo>
                  <a:pt x="1389" y="1930"/>
                </a:lnTo>
                <a:lnTo>
                  <a:pt x="1395" y="1936"/>
                </a:lnTo>
                <a:lnTo>
                  <a:pt x="1403" y="1941"/>
                </a:lnTo>
                <a:lnTo>
                  <a:pt x="1408" y="1947"/>
                </a:lnTo>
                <a:lnTo>
                  <a:pt x="1414" y="1947"/>
                </a:lnTo>
                <a:lnTo>
                  <a:pt x="1417" y="1950"/>
                </a:lnTo>
                <a:lnTo>
                  <a:pt x="1422" y="1952"/>
                </a:lnTo>
                <a:lnTo>
                  <a:pt x="1428" y="1952"/>
                </a:lnTo>
                <a:lnTo>
                  <a:pt x="1436" y="1952"/>
                </a:lnTo>
                <a:lnTo>
                  <a:pt x="1441" y="1955"/>
                </a:lnTo>
                <a:lnTo>
                  <a:pt x="1447" y="1955"/>
                </a:lnTo>
                <a:lnTo>
                  <a:pt x="1452" y="1955"/>
                </a:lnTo>
                <a:lnTo>
                  <a:pt x="1494" y="1933"/>
                </a:lnTo>
                <a:lnTo>
                  <a:pt x="1529" y="1906"/>
                </a:lnTo>
                <a:lnTo>
                  <a:pt x="1560" y="1873"/>
                </a:lnTo>
                <a:lnTo>
                  <a:pt x="1590" y="1837"/>
                </a:lnTo>
                <a:lnTo>
                  <a:pt x="1617" y="1801"/>
                </a:lnTo>
                <a:lnTo>
                  <a:pt x="1645" y="1765"/>
                </a:lnTo>
                <a:lnTo>
                  <a:pt x="1672" y="1730"/>
                </a:lnTo>
                <a:lnTo>
                  <a:pt x="1703" y="1697"/>
                </a:lnTo>
                <a:lnTo>
                  <a:pt x="1733" y="1658"/>
                </a:lnTo>
                <a:lnTo>
                  <a:pt x="1763" y="1620"/>
                </a:lnTo>
                <a:lnTo>
                  <a:pt x="1793" y="1584"/>
                </a:lnTo>
                <a:lnTo>
                  <a:pt x="1821" y="1548"/>
                </a:lnTo>
                <a:lnTo>
                  <a:pt x="1848" y="1510"/>
                </a:lnTo>
                <a:lnTo>
                  <a:pt x="1873" y="1474"/>
                </a:lnTo>
                <a:lnTo>
                  <a:pt x="1898" y="1435"/>
                </a:lnTo>
                <a:lnTo>
                  <a:pt x="1920" y="1394"/>
                </a:lnTo>
                <a:lnTo>
                  <a:pt x="1945" y="1356"/>
                </a:lnTo>
                <a:lnTo>
                  <a:pt x="1967" y="1317"/>
                </a:lnTo>
                <a:lnTo>
                  <a:pt x="1991" y="1279"/>
                </a:lnTo>
                <a:lnTo>
                  <a:pt x="2013" y="1240"/>
                </a:lnTo>
                <a:lnTo>
                  <a:pt x="2033" y="1202"/>
                </a:lnTo>
                <a:lnTo>
                  <a:pt x="2052" y="1163"/>
                </a:lnTo>
                <a:lnTo>
                  <a:pt x="2071" y="1125"/>
                </a:lnTo>
                <a:lnTo>
                  <a:pt x="2085" y="1083"/>
                </a:lnTo>
                <a:lnTo>
                  <a:pt x="2085" y="1083"/>
                </a:lnTo>
                <a:lnTo>
                  <a:pt x="2085" y="1081"/>
                </a:lnTo>
                <a:lnTo>
                  <a:pt x="2085" y="1081"/>
                </a:lnTo>
                <a:lnTo>
                  <a:pt x="2085" y="1078"/>
                </a:lnTo>
                <a:lnTo>
                  <a:pt x="2082" y="1075"/>
                </a:lnTo>
                <a:lnTo>
                  <a:pt x="2082" y="1072"/>
                </a:lnTo>
                <a:lnTo>
                  <a:pt x="2082" y="1072"/>
                </a:lnTo>
                <a:lnTo>
                  <a:pt x="2079" y="1070"/>
                </a:lnTo>
                <a:lnTo>
                  <a:pt x="2079" y="1067"/>
                </a:lnTo>
                <a:lnTo>
                  <a:pt x="2077" y="1061"/>
                </a:lnTo>
                <a:lnTo>
                  <a:pt x="2074" y="1059"/>
                </a:lnTo>
                <a:lnTo>
                  <a:pt x="2071" y="1056"/>
                </a:lnTo>
                <a:lnTo>
                  <a:pt x="2068" y="1050"/>
                </a:lnTo>
                <a:lnTo>
                  <a:pt x="2066" y="1048"/>
                </a:lnTo>
                <a:lnTo>
                  <a:pt x="2063" y="1042"/>
                </a:lnTo>
                <a:lnTo>
                  <a:pt x="2060" y="1040"/>
                </a:lnTo>
                <a:lnTo>
                  <a:pt x="2057" y="1040"/>
                </a:lnTo>
                <a:lnTo>
                  <a:pt x="2057" y="1037"/>
                </a:lnTo>
                <a:lnTo>
                  <a:pt x="2055" y="1037"/>
                </a:lnTo>
                <a:lnTo>
                  <a:pt x="2052" y="1037"/>
                </a:lnTo>
                <a:lnTo>
                  <a:pt x="2052" y="1034"/>
                </a:lnTo>
                <a:lnTo>
                  <a:pt x="2049" y="1034"/>
                </a:lnTo>
                <a:lnTo>
                  <a:pt x="2049" y="1031"/>
                </a:lnTo>
                <a:lnTo>
                  <a:pt x="2046" y="1031"/>
                </a:lnTo>
                <a:lnTo>
                  <a:pt x="2044" y="1029"/>
                </a:lnTo>
                <a:lnTo>
                  <a:pt x="2038" y="1026"/>
                </a:lnTo>
                <a:lnTo>
                  <a:pt x="2035" y="1026"/>
                </a:lnTo>
                <a:lnTo>
                  <a:pt x="2030" y="1023"/>
                </a:lnTo>
                <a:lnTo>
                  <a:pt x="2027" y="1023"/>
                </a:lnTo>
                <a:lnTo>
                  <a:pt x="2022" y="1023"/>
                </a:lnTo>
                <a:lnTo>
                  <a:pt x="2019" y="1020"/>
                </a:lnTo>
                <a:lnTo>
                  <a:pt x="2016" y="1020"/>
                </a:lnTo>
                <a:lnTo>
                  <a:pt x="1991" y="1015"/>
                </a:lnTo>
                <a:lnTo>
                  <a:pt x="1967" y="1015"/>
                </a:lnTo>
                <a:lnTo>
                  <a:pt x="1945" y="1020"/>
                </a:lnTo>
                <a:lnTo>
                  <a:pt x="1920" y="1029"/>
                </a:lnTo>
                <a:lnTo>
                  <a:pt x="1901" y="1037"/>
                </a:lnTo>
                <a:lnTo>
                  <a:pt x="1879" y="1050"/>
                </a:lnTo>
                <a:lnTo>
                  <a:pt x="1859" y="1067"/>
                </a:lnTo>
                <a:lnTo>
                  <a:pt x="1843" y="1083"/>
                </a:lnTo>
                <a:lnTo>
                  <a:pt x="1840" y="1083"/>
                </a:lnTo>
                <a:lnTo>
                  <a:pt x="1837" y="1083"/>
                </a:lnTo>
                <a:lnTo>
                  <a:pt x="1835" y="1083"/>
                </a:lnTo>
                <a:lnTo>
                  <a:pt x="1832" y="1083"/>
                </a:lnTo>
                <a:lnTo>
                  <a:pt x="1832" y="1083"/>
                </a:lnTo>
                <a:lnTo>
                  <a:pt x="1829" y="1083"/>
                </a:lnTo>
                <a:lnTo>
                  <a:pt x="1826" y="1083"/>
                </a:lnTo>
                <a:lnTo>
                  <a:pt x="1824" y="1083"/>
                </a:lnTo>
                <a:lnTo>
                  <a:pt x="1835" y="1042"/>
                </a:lnTo>
                <a:lnTo>
                  <a:pt x="1854" y="1004"/>
                </a:lnTo>
                <a:lnTo>
                  <a:pt x="1873" y="965"/>
                </a:lnTo>
                <a:lnTo>
                  <a:pt x="1895" y="927"/>
                </a:lnTo>
                <a:lnTo>
                  <a:pt x="1912" y="888"/>
                </a:lnTo>
                <a:lnTo>
                  <a:pt x="1923" y="847"/>
                </a:lnTo>
                <a:lnTo>
                  <a:pt x="1925" y="803"/>
                </a:lnTo>
                <a:lnTo>
                  <a:pt x="1912" y="756"/>
                </a:lnTo>
                <a:lnTo>
                  <a:pt x="1901" y="748"/>
                </a:lnTo>
                <a:lnTo>
                  <a:pt x="1887" y="743"/>
                </a:lnTo>
                <a:lnTo>
                  <a:pt x="1870" y="737"/>
                </a:lnTo>
                <a:lnTo>
                  <a:pt x="1854" y="734"/>
                </a:lnTo>
                <a:lnTo>
                  <a:pt x="1837" y="732"/>
                </a:lnTo>
                <a:lnTo>
                  <a:pt x="1821" y="726"/>
                </a:lnTo>
                <a:lnTo>
                  <a:pt x="1807" y="721"/>
                </a:lnTo>
                <a:lnTo>
                  <a:pt x="1793" y="710"/>
                </a:lnTo>
                <a:lnTo>
                  <a:pt x="1793" y="710"/>
                </a:lnTo>
                <a:lnTo>
                  <a:pt x="1793" y="707"/>
                </a:lnTo>
                <a:lnTo>
                  <a:pt x="1793" y="704"/>
                </a:lnTo>
                <a:lnTo>
                  <a:pt x="1793" y="701"/>
                </a:lnTo>
                <a:lnTo>
                  <a:pt x="1793" y="699"/>
                </a:lnTo>
                <a:lnTo>
                  <a:pt x="1793" y="696"/>
                </a:lnTo>
                <a:lnTo>
                  <a:pt x="1793" y="693"/>
                </a:lnTo>
                <a:lnTo>
                  <a:pt x="1793" y="690"/>
                </a:lnTo>
                <a:lnTo>
                  <a:pt x="1793" y="690"/>
                </a:lnTo>
                <a:lnTo>
                  <a:pt x="1796" y="688"/>
                </a:lnTo>
                <a:lnTo>
                  <a:pt x="1796" y="688"/>
                </a:lnTo>
                <a:lnTo>
                  <a:pt x="1796" y="685"/>
                </a:lnTo>
                <a:lnTo>
                  <a:pt x="1799" y="685"/>
                </a:lnTo>
                <a:lnTo>
                  <a:pt x="1799" y="682"/>
                </a:lnTo>
                <a:lnTo>
                  <a:pt x="1799" y="682"/>
                </a:lnTo>
                <a:lnTo>
                  <a:pt x="1802" y="682"/>
                </a:lnTo>
                <a:lnTo>
                  <a:pt x="1802" y="679"/>
                </a:lnTo>
                <a:lnTo>
                  <a:pt x="1804" y="677"/>
                </a:lnTo>
                <a:lnTo>
                  <a:pt x="1804" y="677"/>
                </a:lnTo>
                <a:lnTo>
                  <a:pt x="1807" y="674"/>
                </a:lnTo>
                <a:lnTo>
                  <a:pt x="1810" y="671"/>
                </a:lnTo>
                <a:lnTo>
                  <a:pt x="1813" y="668"/>
                </a:lnTo>
                <a:lnTo>
                  <a:pt x="1815" y="666"/>
                </a:lnTo>
                <a:lnTo>
                  <a:pt x="1815" y="660"/>
                </a:lnTo>
                <a:lnTo>
                  <a:pt x="1818" y="657"/>
                </a:lnTo>
                <a:lnTo>
                  <a:pt x="1821" y="655"/>
                </a:lnTo>
                <a:lnTo>
                  <a:pt x="1824" y="652"/>
                </a:lnTo>
                <a:lnTo>
                  <a:pt x="1826" y="649"/>
                </a:lnTo>
                <a:lnTo>
                  <a:pt x="1826" y="646"/>
                </a:lnTo>
                <a:lnTo>
                  <a:pt x="1829" y="644"/>
                </a:lnTo>
                <a:lnTo>
                  <a:pt x="1832" y="641"/>
                </a:lnTo>
                <a:lnTo>
                  <a:pt x="1832" y="638"/>
                </a:lnTo>
                <a:lnTo>
                  <a:pt x="1848" y="613"/>
                </a:lnTo>
                <a:lnTo>
                  <a:pt x="1868" y="589"/>
                </a:lnTo>
                <a:lnTo>
                  <a:pt x="1887" y="561"/>
                </a:lnTo>
                <a:lnTo>
                  <a:pt x="1906" y="536"/>
                </a:lnTo>
                <a:lnTo>
                  <a:pt x="1925" y="509"/>
                </a:lnTo>
                <a:lnTo>
                  <a:pt x="1939" y="481"/>
                </a:lnTo>
                <a:lnTo>
                  <a:pt x="1953" y="451"/>
                </a:lnTo>
                <a:lnTo>
                  <a:pt x="1961" y="421"/>
                </a:lnTo>
                <a:lnTo>
                  <a:pt x="1961" y="418"/>
                </a:lnTo>
                <a:lnTo>
                  <a:pt x="1958" y="415"/>
                </a:lnTo>
                <a:lnTo>
                  <a:pt x="1958" y="413"/>
                </a:lnTo>
                <a:lnTo>
                  <a:pt x="1956" y="410"/>
                </a:lnTo>
                <a:lnTo>
                  <a:pt x="1956" y="407"/>
                </a:lnTo>
                <a:lnTo>
                  <a:pt x="1956" y="404"/>
                </a:lnTo>
                <a:lnTo>
                  <a:pt x="1953" y="402"/>
                </a:lnTo>
                <a:lnTo>
                  <a:pt x="1953" y="399"/>
                </a:lnTo>
                <a:lnTo>
                  <a:pt x="1950" y="393"/>
                </a:lnTo>
                <a:lnTo>
                  <a:pt x="1945" y="388"/>
                </a:lnTo>
                <a:lnTo>
                  <a:pt x="1942" y="382"/>
                </a:lnTo>
                <a:lnTo>
                  <a:pt x="1936" y="380"/>
                </a:lnTo>
                <a:lnTo>
                  <a:pt x="1931" y="374"/>
                </a:lnTo>
                <a:lnTo>
                  <a:pt x="1923" y="369"/>
                </a:lnTo>
                <a:lnTo>
                  <a:pt x="1917" y="366"/>
                </a:lnTo>
                <a:lnTo>
                  <a:pt x="1912" y="360"/>
                </a:lnTo>
                <a:lnTo>
                  <a:pt x="1912" y="360"/>
                </a:lnTo>
                <a:lnTo>
                  <a:pt x="1909" y="358"/>
                </a:lnTo>
                <a:lnTo>
                  <a:pt x="1906" y="358"/>
                </a:lnTo>
                <a:lnTo>
                  <a:pt x="1903" y="355"/>
                </a:lnTo>
                <a:lnTo>
                  <a:pt x="1903" y="355"/>
                </a:lnTo>
                <a:lnTo>
                  <a:pt x="1901" y="352"/>
                </a:lnTo>
                <a:lnTo>
                  <a:pt x="1898" y="352"/>
                </a:lnTo>
                <a:lnTo>
                  <a:pt x="1895" y="349"/>
                </a:lnTo>
                <a:lnTo>
                  <a:pt x="1892" y="349"/>
                </a:lnTo>
                <a:lnTo>
                  <a:pt x="1890" y="349"/>
                </a:lnTo>
                <a:lnTo>
                  <a:pt x="1887" y="349"/>
                </a:lnTo>
                <a:lnTo>
                  <a:pt x="1887" y="349"/>
                </a:lnTo>
                <a:lnTo>
                  <a:pt x="1884" y="349"/>
                </a:lnTo>
                <a:lnTo>
                  <a:pt x="1881" y="349"/>
                </a:lnTo>
                <a:lnTo>
                  <a:pt x="1881" y="347"/>
                </a:lnTo>
                <a:lnTo>
                  <a:pt x="1881" y="347"/>
                </a:lnTo>
                <a:lnTo>
                  <a:pt x="1873" y="347"/>
                </a:lnTo>
                <a:lnTo>
                  <a:pt x="1868" y="347"/>
                </a:lnTo>
                <a:lnTo>
                  <a:pt x="1862" y="347"/>
                </a:lnTo>
                <a:lnTo>
                  <a:pt x="1857" y="347"/>
                </a:lnTo>
                <a:lnTo>
                  <a:pt x="1851" y="347"/>
                </a:lnTo>
                <a:lnTo>
                  <a:pt x="1846" y="349"/>
                </a:lnTo>
                <a:lnTo>
                  <a:pt x="1840" y="349"/>
                </a:lnTo>
                <a:lnTo>
                  <a:pt x="1832" y="349"/>
                </a:lnTo>
                <a:lnTo>
                  <a:pt x="1832" y="352"/>
                </a:lnTo>
                <a:lnTo>
                  <a:pt x="1832" y="352"/>
                </a:lnTo>
                <a:lnTo>
                  <a:pt x="1829" y="352"/>
                </a:lnTo>
                <a:lnTo>
                  <a:pt x="1826" y="352"/>
                </a:lnTo>
                <a:lnTo>
                  <a:pt x="1826" y="352"/>
                </a:lnTo>
                <a:lnTo>
                  <a:pt x="1824" y="352"/>
                </a:lnTo>
                <a:lnTo>
                  <a:pt x="1821" y="352"/>
                </a:lnTo>
                <a:lnTo>
                  <a:pt x="1818" y="352"/>
                </a:lnTo>
                <a:lnTo>
                  <a:pt x="1782" y="377"/>
                </a:lnTo>
                <a:lnTo>
                  <a:pt x="1747" y="402"/>
                </a:lnTo>
                <a:lnTo>
                  <a:pt x="1714" y="432"/>
                </a:lnTo>
                <a:lnTo>
                  <a:pt x="1681" y="462"/>
                </a:lnTo>
                <a:lnTo>
                  <a:pt x="1650" y="495"/>
                </a:lnTo>
                <a:lnTo>
                  <a:pt x="1620" y="528"/>
                </a:lnTo>
                <a:lnTo>
                  <a:pt x="1587" y="561"/>
                </a:lnTo>
                <a:lnTo>
                  <a:pt x="1554" y="594"/>
                </a:lnTo>
                <a:lnTo>
                  <a:pt x="1551" y="597"/>
                </a:lnTo>
                <a:lnTo>
                  <a:pt x="1549" y="602"/>
                </a:lnTo>
                <a:lnTo>
                  <a:pt x="1546" y="605"/>
                </a:lnTo>
                <a:lnTo>
                  <a:pt x="1543" y="608"/>
                </a:lnTo>
                <a:lnTo>
                  <a:pt x="1540" y="611"/>
                </a:lnTo>
                <a:lnTo>
                  <a:pt x="1540" y="611"/>
                </a:lnTo>
                <a:lnTo>
                  <a:pt x="1538" y="613"/>
                </a:lnTo>
                <a:lnTo>
                  <a:pt x="1538" y="613"/>
                </a:lnTo>
                <a:lnTo>
                  <a:pt x="1535" y="616"/>
                </a:lnTo>
                <a:lnTo>
                  <a:pt x="1532" y="616"/>
                </a:lnTo>
                <a:lnTo>
                  <a:pt x="1529" y="616"/>
                </a:lnTo>
                <a:lnTo>
                  <a:pt x="1527" y="616"/>
                </a:lnTo>
                <a:lnTo>
                  <a:pt x="1524" y="619"/>
                </a:lnTo>
                <a:lnTo>
                  <a:pt x="1521" y="616"/>
                </a:lnTo>
                <a:lnTo>
                  <a:pt x="1521" y="616"/>
                </a:lnTo>
                <a:lnTo>
                  <a:pt x="1518" y="613"/>
                </a:lnTo>
                <a:lnTo>
                  <a:pt x="1518" y="611"/>
                </a:lnTo>
                <a:lnTo>
                  <a:pt x="1518" y="611"/>
                </a:lnTo>
                <a:lnTo>
                  <a:pt x="1518" y="608"/>
                </a:lnTo>
                <a:lnTo>
                  <a:pt x="1518" y="605"/>
                </a:lnTo>
                <a:lnTo>
                  <a:pt x="1518" y="602"/>
                </a:lnTo>
                <a:lnTo>
                  <a:pt x="1521" y="602"/>
                </a:lnTo>
                <a:lnTo>
                  <a:pt x="1521" y="600"/>
                </a:lnTo>
                <a:lnTo>
                  <a:pt x="1524" y="597"/>
                </a:lnTo>
                <a:lnTo>
                  <a:pt x="1524" y="597"/>
                </a:lnTo>
                <a:lnTo>
                  <a:pt x="1524" y="594"/>
                </a:lnTo>
                <a:lnTo>
                  <a:pt x="1524" y="591"/>
                </a:lnTo>
                <a:lnTo>
                  <a:pt x="1524" y="589"/>
                </a:lnTo>
                <a:lnTo>
                  <a:pt x="1524" y="589"/>
                </a:lnTo>
                <a:lnTo>
                  <a:pt x="1524" y="586"/>
                </a:lnTo>
                <a:lnTo>
                  <a:pt x="1527" y="583"/>
                </a:lnTo>
                <a:lnTo>
                  <a:pt x="1527" y="580"/>
                </a:lnTo>
                <a:lnTo>
                  <a:pt x="1540" y="550"/>
                </a:lnTo>
                <a:lnTo>
                  <a:pt x="1560" y="523"/>
                </a:lnTo>
                <a:lnTo>
                  <a:pt x="1576" y="495"/>
                </a:lnTo>
                <a:lnTo>
                  <a:pt x="1595" y="468"/>
                </a:lnTo>
                <a:lnTo>
                  <a:pt x="1615" y="440"/>
                </a:lnTo>
                <a:lnTo>
                  <a:pt x="1631" y="410"/>
                </a:lnTo>
                <a:lnTo>
                  <a:pt x="1645" y="380"/>
                </a:lnTo>
                <a:lnTo>
                  <a:pt x="1659" y="347"/>
                </a:lnTo>
                <a:lnTo>
                  <a:pt x="1659" y="333"/>
                </a:lnTo>
                <a:lnTo>
                  <a:pt x="1661" y="319"/>
                </a:lnTo>
                <a:lnTo>
                  <a:pt x="1661" y="305"/>
                </a:lnTo>
                <a:lnTo>
                  <a:pt x="1661" y="292"/>
                </a:lnTo>
                <a:lnTo>
                  <a:pt x="1659" y="278"/>
                </a:lnTo>
                <a:lnTo>
                  <a:pt x="1653" y="264"/>
                </a:lnTo>
                <a:lnTo>
                  <a:pt x="1648" y="253"/>
                </a:lnTo>
                <a:lnTo>
                  <a:pt x="1639" y="239"/>
                </a:lnTo>
                <a:lnTo>
                  <a:pt x="1639" y="239"/>
                </a:lnTo>
                <a:lnTo>
                  <a:pt x="1639" y="237"/>
                </a:lnTo>
                <a:lnTo>
                  <a:pt x="1637" y="237"/>
                </a:lnTo>
                <a:lnTo>
                  <a:pt x="1637" y="234"/>
                </a:lnTo>
                <a:lnTo>
                  <a:pt x="1634" y="231"/>
                </a:lnTo>
                <a:lnTo>
                  <a:pt x="1631" y="231"/>
                </a:lnTo>
                <a:lnTo>
                  <a:pt x="1631" y="228"/>
                </a:lnTo>
                <a:lnTo>
                  <a:pt x="1628" y="228"/>
                </a:lnTo>
                <a:lnTo>
                  <a:pt x="1617" y="223"/>
                </a:lnTo>
                <a:lnTo>
                  <a:pt x="1606" y="220"/>
                </a:lnTo>
                <a:lnTo>
                  <a:pt x="1595" y="217"/>
                </a:lnTo>
                <a:lnTo>
                  <a:pt x="1584" y="217"/>
                </a:lnTo>
                <a:lnTo>
                  <a:pt x="1571" y="217"/>
                </a:lnTo>
                <a:lnTo>
                  <a:pt x="1560" y="217"/>
                </a:lnTo>
                <a:lnTo>
                  <a:pt x="1549" y="220"/>
                </a:lnTo>
                <a:lnTo>
                  <a:pt x="1538" y="223"/>
                </a:lnTo>
                <a:lnTo>
                  <a:pt x="1496" y="242"/>
                </a:lnTo>
                <a:lnTo>
                  <a:pt x="1461" y="270"/>
                </a:lnTo>
                <a:lnTo>
                  <a:pt x="1425" y="300"/>
                </a:lnTo>
                <a:lnTo>
                  <a:pt x="1392" y="333"/>
                </a:lnTo>
                <a:lnTo>
                  <a:pt x="1362" y="366"/>
                </a:lnTo>
                <a:lnTo>
                  <a:pt x="1331" y="402"/>
                </a:lnTo>
                <a:lnTo>
                  <a:pt x="1304" y="437"/>
                </a:lnTo>
                <a:lnTo>
                  <a:pt x="1276" y="470"/>
                </a:lnTo>
                <a:lnTo>
                  <a:pt x="1243" y="506"/>
                </a:lnTo>
                <a:lnTo>
                  <a:pt x="1213" y="542"/>
                </a:lnTo>
                <a:lnTo>
                  <a:pt x="1183" y="578"/>
                </a:lnTo>
                <a:lnTo>
                  <a:pt x="1155" y="613"/>
                </a:lnTo>
                <a:lnTo>
                  <a:pt x="1125" y="649"/>
                </a:lnTo>
                <a:lnTo>
                  <a:pt x="1095" y="682"/>
                </a:lnTo>
                <a:lnTo>
                  <a:pt x="1065" y="718"/>
                </a:lnTo>
                <a:lnTo>
                  <a:pt x="1037" y="754"/>
                </a:lnTo>
                <a:lnTo>
                  <a:pt x="1018" y="776"/>
                </a:lnTo>
                <a:lnTo>
                  <a:pt x="999" y="795"/>
                </a:lnTo>
                <a:lnTo>
                  <a:pt x="982" y="814"/>
                </a:lnTo>
                <a:lnTo>
                  <a:pt x="966" y="833"/>
                </a:lnTo>
                <a:lnTo>
                  <a:pt x="949" y="853"/>
                </a:lnTo>
                <a:lnTo>
                  <a:pt x="933" y="869"/>
                </a:lnTo>
                <a:lnTo>
                  <a:pt x="916" y="888"/>
                </a:lnTo>
                <a:lnTo>
                  <a:pt x="900" y="908"/>
                </a:lnTo>
                <a:lnTo>
                  <a:pt x="897" y="908"/>
                </a:lnTo>
                <a:lnTo>
                  <a:pt x="897" y="908"/>
                </a:lnTo>
                <a:lnTo>
                  <a:pt x="894" y="908"/>
                </a:lnTo>
                <a:lnTo>
                  <a:pt x="891" y="910"/>
                </a:lnTo>
                <a:lnTo>
                  <a:pt x="889" y="910"/>
                </a:lnTo>
                <a:lnTo>
                  <a:pt x="889" y="910"/>
                </a:lnTo>
                <a:lnTo>
                  <a:pt x="886" y="908"/>
                </a:lnTo>
                <a:lnTo>
                  <a:pt x="883" y="908"/>
                </a:lnTo>
                <a:lnTo>
                  <a:pt x="905" y="866"/>
                </a:lnTo>
                <a:lnTo>
                  <a:pt x="927" y="825"/>
                </a:lnTo>
                <a:lnTo>
                  <a:pt x="952" y="787"/>
                </a:lnTo>
                <a:lnTo>
                  <a:pt x="977" y="745"/>
                </a:lnTo>
                <a:lnTo>
                  <a:pt x="1001" y="707"/>
                </a:lnTo>
                <a:lnTo>
                  <a:pt x="1029" y="668"/>
                </a:lnTo>
                <a:lnTo>
                  <a:pt x="1054" y="627"/>
                </a:lnTo>
                <a:lnTo>
                  <a:pt x="1078" y="589"/>
                </a:lnTo>
                <a:lnTo>
                  <a:pt x="1103" y="547"/>
                </a:lnTo>
                <a:lnTo>
                  <a:pt x="1128" y="509"/>
                </a:lnTo>
                <a:lnTo>
                  <a:pt x="1150" y="468"/>
                </a:lnTo>
                <a:lnTo>
                  <a:pt x="1175" y="429"/>
                </a:lnTo>
                <a:lnTo>
                  <a:pt x="1199" y="391"/>
                </a:lnTo>
                <a:lnTo>
                  <a:pt x="1224" y="349"/>
                </a:lnTo>
                <a:lnTo>
                  <a:pt x="1249" y="311"/>
                </a:lnTo>
                <a:lnTo>
                  <a:pt x="1276" y="272"/>
                </a:lnTo>
                <a:lnTo>
                  <a:pt x="1290" y="253"/>
                </a:lnTo>
                <a:lnTo>
                  <a:pt x="1301" y="231"/>
                </a:lnTo>
                <a:lnTo>
                  <a:pt x="1315" y="212"/>
                </a:lnTo>
                <a:lnTo>
                  <a:pt x="1329" y="193"/>
                </a:lnTo>
                <a:lnTo>
                  <a:pt x="1340" y="173"/>
                </a:lnTo>
                <a:lnTo>
                  <a:pt x="1351" y="154"/>
                </a:lnTo>
                <a:lnTo>
                  <a:pt x="1362" y="135"/>
                </a:lnTo>
                <a:lnTo>
                  <a:pt x="1373" y="113"/>
                </a:lnTo>
                <a:lnTo>
                  <a:pt x="1375" y="105"/>
                </a:lnTo>
                <a:lnTo>
                  <a:pt x="1375" y="96"/>
                </a:lnTo>
                <a:lnTo>
                  <a:pt x="1375" y="88"/>
                </a:lnTo>
                <a:lnTo>
                  <a:pt x="1375" y="83"/>
                </a:lnTo>
                <a:lnTo>
                  <a:pt x="1375" y="74"/>
                </a:lnTo>
                <a:lnTo>
                  <a:pt x="1375" y="66"/>
                </a:lnTo>
                <a:lnTo>
                  <a:pt x="1373" y="58"/>
                </a:lnTo>
                <a:lnTo>
                  <a:pt x="1373" y="47"/>
                </a:lnTo>
                <a:lnTo>
                  <a:pt x="1370" y="44"/>
                </a:lnTo>
                <a:lnTo>
                  <a:pt x="1367" y="39"/>
                </a:lnTo>
                <a:lnTo>
                  <a:pt x="1364" y="36"/>
                </a:lnTo>
                <a:lnTo>
                  <a:pt x="1362" y="30"/>
                </a:lnTo>
                <a:lnTo>
                  <a:pt x="1359" y="28"/>
                </a:lnTo>
                <a:lnTo>
                  <a:pt x="1353" y="22"/>
                </a:lnTo>
                <a:lnTo>
                  <a:pt x="1351" y="19"/>
                </a:lnTo>
                <a:lnTo>
                  <a:pt x="1345" y="17"/>
                </a:lnTo>
                <a:lnTo>
                  <a:pt x="1345" y="14"/>
                </a:lnTo>
                <a:lnTo>
                  <a:pt x="1342" y="14"/>
                </a:lnTo>
                <a:lnTo>
                  <a:pt x="1342" y="14"/>
                </a:lnTo>
                <a:lnTo>
                  <a:pt x="1340" y="14"/>
                </a:lnTo>
                <a:lnTo>
                  <a:pt x="1337" y="11"/>
                </a:lnTo>
                <a:lnTo>
                  <a:pt x="1337" y="11"/>
                </a:lnTo>
                <a:lnTo>
                  <a:pt x="1334" y="11"/>
                </a:lnTo>
                <a:lnTo>
                  <a:pt x="1331" y="8"/>
                </a:lnTo>
                <a:lnTo>
                  <a:pt x="1315" y="3"/>
                </a:lnTo>
                <a:lnTo>
                  <a:pt x="1301" y="0"/>
                </a:lnTo>
                <a:lnTo>
                  <a:pt x="1285" y="0"/>
                </a:lnTo>
                <a:lnTo>
                  <a:pt x="1268" y="3"/>
                </a:lnTo>
                <a:lnTo>
                  <a:pt x="1252" y="8"/>
                </a:lnTo>
                <a:lnTo>
                  <a:pt x="1235" y="17"/>
                </a:lnTo>
                <a:lnTo>
                  <a:pt x="1219" y="25"/>
                </a:lnTo>
                <a:lnTo>
                  <a:pt x="1205" y="33"/>
                </a:lnTo>
                <a:lnTo>
                  <a:pt x="1177" y="55"/>
                </a:lnTo>
                <a:lnTo>
                  <a:pt x="1150" y="80"/>
                </a:lnTo>
                <a:lnTo>
                  <a:pt x="1125" y="105"/>
                </a:lnTo>
                <a:lnTo>
                  <a:pt x="1098" y="132"/>
                </a:lnTo>
                <a:lnTo>
                  <a:pt x="1073" y="160"/>
                </a:lnTo>
                <a:lnTo>
                  <a:pt x="1048" y="184"/>
                </a:lnTo>
                <a:lnTo>
                  <a:pt x="1023" y="212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9"/>
                </a:lnTo>
                <a:lnTo>
                  <a:pt x="999" y="239"/>
                </a:lnTo>
                <a:lnTo>
                  <a:pt x="999" y="239"/>
                </a:lnTo>
                <a:lnTo>
                  <a:pt x="999" y="242"/>
                </a:lnTo>
                <a:lnTo>
                  <a:pt x="999" y="242"/>
                </a:lnTo>
                <a:lnTo>
                  <a:pt x="999" y="242"/>
                </a:lnTo>
                <a:lnTo>
                  <a:pt x="996" y="242"/>
                </a:lnTo>
                <a:lnTo>
                  <a:pt x="996" y="245"/>
                </a:lnTo>
                <a:lnTo>
                  <a:pt x="996" y="245"/>
                </a:lnTo>
                <a:lnTo>
                  <a:pt x="993" y="248"/>
                </a:lnTo>
                <a:lnTo>
                  <a:pt x="993" y="248"/>
                </a:lnTo>
                <a:lnTo>
                  <a:pt x="993" y="250"/>
                </a:lnTo>
                <a:lnTo>
                  <a:pt x="990" y="250"/>
                </a:lnTo>
                <a:lnTo>
                  <a:pt x="990" y="250"/>
                </a:lnTo>
                <a:lnTo>
                  <a:pt x="963" y="286"/>
                </a:lnTo>
                <a:lnTo>
                  <a:pt x="933" y="319"/>
                </a:lnTo>
                <a:lnTo>
                  <a:pt x="905" y="355"/>
                </a:lnTo>
                <a:lnTo>
                  <a:pt x="875" y="388"/>
                </a:lnTo>
                <a:lnTo>
                  <a:pt x="847" y="424"/>
                </a:lnTo>
                <a:lnTo>
                  <a:pt x="820" y="459"/>
                </a:lnTo>
                <a:lnTo>
                  <a:pt x="790" y="492"/>
                </a:lnTo>
                <a:lnTo>
                  <a:pt x="759" y="528"/>
                </a:lnTo>
                <a:lnTo>
                  <a:pt x="748" y="542"/>
                </a:lnTo>
                <a:lnTo>
                  <a:pt x="735" y="553"/>
                </a:lnTo>
                <a:lnTo>
                  <a:pt x="726" y="567"/>
                </a:lnTo>
                <a:lnTo>
                  <a:pt x="715" y="578"/>
                </a:lnTo>
                <a:lnTo>
                  <a:pt x="704" y="589"/>
                </a:lnTo>
                <a:lnTo>
                  <a:pt x="696" y="600"/>
                </a:lnTo>
                <a:lnTo>
                  <a:pt x="685" y="611"/>
                </a:lnTo>
                <a:lnTo>
                  <a:pt x="674" y="622"/>
                </a:lnTo>
                <a:lnTo>
                  <a:pt x="674" y="622"/>
                </a:lnTo>
                <a:lnTo>
                  <a:pt x="671" y="622"/>
                </a:lnTo>
                <a:lnTo>
                  <a:pt x="671" y="624"/>
                </a:lnTo>
                <a:lnTo>
                  <a:pt x="669" y="624"/>
                </a:lnTo>
                <a:lnTo>
                  <a:pt x="666" y="624"/>
                </a:lnTo>
                <a:lnTo>
                  <a:pt x="663" y="624"/>
                </a:lnTo>
                <a:lnTo>
                  <a:pt x="663" y="624"/>
                </a:lnTo>
                <a:lnTo>
                  <a:pt x="660" y="622"/>
                </a:lnTo>
                <a:lnTo>
                  <a:pt x="660" y="619"/>
                </a:lnTo>
                <a:lnTo>
                  <a:pt x="658" y="616"/>
                </a:lnTo>
                <a:lnTo>
                  <a:pt x="658" y="613"/>
                </a:lnTo>
                <a:lnTo>
                  <a:pt x="658" y="611"/>
                </a:lnTo>
                <a:lnTo>
                  <a:pt x="660" y="608"/>
                </a:lnTo>
                <a:lnTo>
                  <a:pt x="660" y="605"/>
                </a:lnTo>
                <a:lnTo>
                  <a:pt x="660" y="602"/>
                </a:lnTo>
                <a:lnTo>
                  <a:pt x="660" y="597"/>
                </a:lnTo>
                <a:lnTo>
                  <a:pt x="663" y="597"/>
                </a:lnTo>
                <a:lnTo>
                  <a:pt x="663" y="594"/>
                </a:lnTo>
                <a:lnTo>
                  <a:pt x="663" y="591"/>
                </a:lnTo>
                <a:lnTo>
                  <a:pt x="663" y="589"/>
                </a:lnTo>
                <a:lnTo>
                  <a:pt x="666" y="589"/>
                </a:lnTo>
                <a:lnTo>
                  <a:pt x="666" y="586"/>
                </a:lnTo>
                <a:lnTo>
                  <a:pt x="666" y="583"/>
                </a:lnTo>
                <a:lnTo>
                  <a:pt x="666" y="580"/>
                </a:lnTo>
                <a:lnTo>
                  <a:pt x="680" y="550"/>
                </a:lnTo>
                <a:lnTo>
                  <a:pt x="696" y="520"/>
                </a:lnTo>
                <a:lnTo>
                  <a:pt x="715" y="492"/>
                </a:lnTo>
                <a:lnTo>
                  <a:pt x="732" y="465"/>
                </a:lnTo>
                <a:lnTo>
                  <a:pt x="751" y="440"/>
                </a:lnTo>
                <a:lnTo>
                  <a:pt x="768" y="410"/>
                </a:lnTo>
                <a:lnTo>
                  <a:pt x="784" y="380"/>
                </a:lnTo>
                <a:lnTo>
                  <a:pt x="795" y="347"/>
                </a:lnTo>
                <a:lnTo>
                  <a:pt x="798" y="333"/>
                </a:lnTo>
                <a:lnTo>
                  <a:pt x="801" y="319"/>
                </a:lnTo>
                <a:lnTo>
                  <a:pt x="801" y="305"/>
                </a:lnTo>
                <a:lnTo>
                  <a:pt x="801" y="292"/>
                </a:lnTo>
                <a:lnTo>
                  <a:pt x="798" y="278"/>
                </a:lnTo>
                <a:lnTo>
                  <a:pt x="792" y="264"/>
                </a:lnTo>
                <a:lnTo>
                  <a:pt x="787" y="253"/>
                </a:lnTo>
                <a:lnTo>
                  <a:pt x="781" y="239"/>
                </a:lnTo>
                <a:lnTo>
                  <a:pt x="779" y="239"/>
                </a:lnTo>
                <a:lnTo>
                  <a:pt x="779" y="237"/>
                </a:lnTo>
                <a:lnTo>
                  <a:pt x="776" y="237"/>
                </a:lnTo>
                <a:lnTo>
                  <a:pt x="776" y="234"/>
                </a:lnTo>
                <a:lnTo>
                  <a:pt x="773" y="231"/>
                </a:lnTo>
                <a:lnTo>
                  <a:pt x="773" y="231"/>
                </a:lnTo>
                <a:lnTo>
                  <a:pt x="770" y="228"/>
                </a:lnTo>
                <a:lnTo>
                  <a:pt x="770" y="228"/>
                </a:lnTo>
                <a:lnTo>
                  <a:pt x="768" y="228"/>
                </a:lnTo>
                <a:lnTo>
                  <a:pt x="765" y="226"/>
                </a:lnTo>
                <a:lnTo>
                  <a:pt x="762" y="226"/>
                </a:lnTo>
                <a:lnTo>
                  <a:pt x="759" y="223"/>
                </a:lnTo>
                <a:lnTo>
                  <a:pt x="757" y="223"/>
                </a:lnTo>
                <a:lnTo>
                  <a:pt x="754" y="223"/>
                </a:lnTo>
                <a:lnTo>
                  <a:pt x="748" y="220"/>
                </a:lnTo>
                <a:lnTo>
                  <a:pt x="746" y="220"/>
                </a:lnTo>
                <a:lnTo>
                  <a:pt x="737" y="217"/>
                </a:lnTo>
                <a:lnTo>
                  <a:pt x="726" y="215"/>
                </a:lnTo>
                <a:lnTo>
                  <a:pt x="718" y="215"/>
                </a:lnTo>
                <a:lnTo>
                  <a:pt x="707" y="215"/>
                </a:lnTo>
                <a:lnTo>
                  <a:pt x="699" y="217"/>
                </a:lnTo>
                <a:lnTo>
                  <a:pt x="688" y="217"/>
                </a:lnTo>
                <a:lnTo>
                  <a:pt x="680" y="220"/>
                </a:lnTo>
                <a:lnTo>
                  <a:pt x="671" y="223"/>
                </a:lnTo>
                <a:lnTo>
                  <a:pt x="647" y="234"/>
                </a:lnTo>
                <a:lnTo>
                  <a:pt x="625" y="250"/>
                </a:lnTo>
                <a:lnTo>
                  <a:pt x="603" y="267"/>
                </a:lnTo>
                <a:lnTo>
                  <a:pt x="581" y="286"/>
                </a:lnTo>
                <a:lnTo>
                  <a:pt x="559" y="305"/>
                </a:lnTo>
                <a:lnTo>
                  <a:pt x="537" y="325"/>
                </a:lnTo>
                <a:lnTo>
                  <a:pt x="515" y="344"/>
                </a:lnTo>
                <a:lnTo>
                  <a:pt x="493" y="360"/>
                </a:lnTo>
                <a:lnTo>
                  <a:pt x="493" y="363"/>
                </a:lnTo>
                <a:lnTo>
                  <a:pt x="490" y="363"/>
                </a:lnTo>
                <a:lnTo>
                  <a:pt x="490" y="363"/>
                </a:lnTo>
                <a:lnTo>
                  <a:pt x="487" y="363"/>
                </a:lnTo>
                <a:lnTo>
                  <a:pt x="484" y="363"/>
                </a:lnTo>
                <a:lnTo>
                  <a:pt x="482" y="363"/>
                </a:lnTo>
                <a:lnTo>
                  <a:pt x="482" y="363"/>
                </a:lnTo>
                <a:lnTo>
                  <a:pt x="479" y="360"/>
                </a:lnTo>
                <a:lnTo>
                  <a:pt x="476" y="360"/>
                </a:lnTo>
                <a:lnTo>
                  <a:pt x="476" y="360"/>
                </a:lnTo>
                <a:lnTo>
                  <a:pt x="473" y="360"/>
                </a:lnTo>
                <a:lnTo>
                  <a:pt x="471" y="360"/>
                </a:lnTo>
                <a:lnTo>
                  <a:pt x="471" y="358"/>
                </a:lnTo>
                <a:lnTo>
                  <a:pt x="468" y="358"/>
                </a:lnTo>
                <a:lnTo>
                  <a:pt x="468" y="355"/>
                </a:lnTo>
                <a:lnTo>
                  <a:pt x="465" y="355"/>
                </a:lnTo>
                <a:lnTo>
                  <a:pt x="462" y="352"/>
                </a:lnTo>
                <a:lnTo>
                  <a:pt x="460" y="349"/>
                </a:lnTo>
                <a:lnTo>
                  <a:pt x="454" y="347"/>
                </a:lnTo>
                <a:lnTo>
                  <a:pt x="451" y="344"/>
                </a:lnTo>
                <a:lnTo>
                  <a:pt x="446" y="341"/>
                </a:lnTo>
                <a:lnTo>
                  <a:pt x="443" y="338"/>
                </a:lnTo>
                <a:lnTo>
                  <a:pt x="438" y="336"/>
                </a:lnTo>
                <a:lnTo>
                  <a:pt x="435" y="333"/>
                </a:lnTo>
                <a:lnTo>
                  <a:pt x="427" y="330"/>
                </a:lnTo>
                <a:lnTo>
                  <a:pt x="418" y="327"/>
                </a:lnTo>
                <a:lnTo>
                  <a:pt x="410" y="327"/>
                </a:lnTo>
                <a:lnTo>
                  <a:pt x="402" y="327"/>
                </a:lnTo>
                <a:lnTo>
                  <a:pt x="394" y="330"/>
                </a:lnTo>
                <a:lnTo>
                  <a:pt x="385" y="330"/>
                </a:lnTo>
                <a:lnTo>
                  <a:pt x="377" y="330"/>
                </a:lnTo>
                <a:lnTo>
                  <a:pt x="369" y="333"/>
                </a:lnTo>
                <a:lnTo>
                  <a:pt x="366" y="333"/>
                </a:lnTo>
                <a:lnTo>
                  <a:pt x="366" y="336"/>
                </a:lnTo>
                <a:lnTo>
                  <a:pt x="363" y="336"/>
                </a:lnTo>
                <a:lnTo>
                  <a:pt x="363" y="336"/>
                </a:lnTo>
                <a:lnTo>
                  <a:pt x="361" y="338"/>
                </a:lnTo>
                <a:lnTo>
                  <a:pt x="358" y="338"/>
                </a:lnTo>
                <a:lnTo>
                  <a:pt x="355" y="338"/>
                </a:lnTo>
                <a:lnTo>
                  <a:pt x="355" y="338"/>
                </a:lnTo>
                <a:lnTo>
                  <a:pt x="317" y="366"/>
                </a:lnTo>
                <a:lnTo>
                  <a:pt x="281" y="396"/>
                </a:lnTo>
                <a:lnTo>
                  <a:pt x="253" y="429"/>
                </a:lnTo>
                <a:lnTo>
                  <a:pt x="226" y="468"/>
                </a:lnTo>
                <a:lnTo>
                  <a:pt x="201" y="506"/>
                </a:lnTo>
                <a:lnTo>
                  <a:pt x="179" y="547"/>
                </a:lnTo>
                <a:lnTo>
                  <a:pt x="157" y="589"/>
                </a:lnTo>
                <a:lnTo>
                  <a:pt x="135" y="630"/>
                </a:lnTo>
                <a:lnTo>
                  <a:pt x="127" y="652"/>
                </a:lnTo>
                <a:lnTo>
                  <a:pt x="119" y="671"/>
                </a:lnTo>
                <a:lnTo>
                  <a:pt x="108" y="690"/>
                </a:lnTo>
                <a:lnTo>
                  <a:pt x="99" y="710"/>
                </a:lnTo>
                <a:lnTo>
                  <a:pt x="91" y="729"/>
                </a:lnTo>
                <a:lnTo>
                  <a:pt x="83" y="745"/>
                </a:lnTo>
                <a:lnTo>
                  <a:pt x="75" y="765"/>
                </a:lnTo>
                <a:lnTo>
                  <a:pt x="69" y="784"/>
                </a:lnTo>
                <a:lnTo>
                  <a:pt x="66" y="787"/>
                </a:lnTo>
                <a:lnTo>
                  <a:pt x="66" y="789"/>
                </a:lnTo>
                <a:lnTo>
                  <a:pt x="66" y="792"/>
                </a:lnTo>
                <a:lnTo>
                  <a:pt x="64" y="795"/>
                </a:lnTo>
                <a:lnTo>
                  <a:pt x="64" y="798"/>
                </a:lnTo>
                <a:lnTo>
                  <a:pt x="61" y="800"/>
                </a:lnTo>
                <a:lnTo>
                  <a:pt x="61" y="803"/>
                </a:lnTo>
                <a:lnTo>
                  <a:pt x="61" y="803"/>
                </a:lnTo>
                <a:lnTo>
                  <a:pt x="20" y="930"/>
                </a:lnTo>
                <a:lnTo>
                  <a:pt x="17" y="932"/>
                </a:lnTo>
                <a:lnTo>
                  <a:pt x="17" y="935"/>
                </a:lnTo>
                <a:lnTo>
                  <a:pt x="17" y="938"/>
                </a:lnTo>
                <a:lnTo>
                  <a:pt x="17" y="941"/>
                </a:lnTo>
                <a:lnTo>
                  <a:pt x="17" y="943"/>
                </a:lnTo>
                <a:lnTo>
                  <a:pt x="17" y="946"/>
                </a:lnTo>
                <a:lnTo>
                  <a:pt x="17" y="949"/>
                </a:lnTo>
                <a:lnTo>
                  <a:pt x="17" y="952"/>
                </a:lnTo>
                <a:lnTo>
                  <a:pt x="0" y="1053"/>
                </a:lnTo>
                <a:lnTo>
                  <a:pt x="0" y="1056"/>
                </a:lnTo>
                <a:lnTo>
                  <a:pt x="0" y="1059"/>
                </a:lnTo>
                <a:lnTo>
                  <a:pt x="3" y="1061"/>
                </a:lnTo>
                <a:lnTo>
                  <a:pt x="3" y="1064"/>
                </a:lnTo>
                <a:lnTo>
                  <a:pt x="3" y="1067"/>
                </a:lnTo>
                <a:lnTo>
                  <a:pt x="3" y="1070"/>
                </a:lnTo>
                <a:lnTo>
                  <a:pt x="6" y="1072"/>
                </a:lnTo>
                <a:lnTo>
                  <a:pt x="9" y="1075"/>
                </a:lnTo>
                <a:lnTo>
                  <a:pt x="9" y="1078"/>
                </a:lnTo>
                <a:lnTo>
                  <a:pt x="11" y="1078"/>
                </a:lnTo>
                <a:lnTo>
                  <a:pt x="11" y="1081"/>
                </a:lnTo>
                <a:lnTo>
                  <a:pt x="14" y="1081"/>
                </a:lnTo>
                <a:lnTo>
                  <a:pt x="17" y="1083"/>
                </a:lnTo>
                <a:lnTo>
                  <a:pt x="20" y="1083"/>
                </a:lnTo>
                <a:lnTo>
                  <a:pt x="22" y="1086"/>
                </a:lnTo>
                <a:lnTo>
                  <a:pt x="25" y="1089"/>
                </a:lnTo>
                <a:lnTo>
                  <a:pt x="132" y="1108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4"/>
                </a:lnTo>
                <a:lnTo>
                  <a:pt x="135" y="1114"/>
                </a:lnTo>
                <a:lnTo>
                  <a:pt x="138" y="1116"/>
                </a:lnTo>
                <a:lnTo>
                  <a:pt x="138" y="1116"/>
                </a:lnTo>
                <a:lnTo>
                  <a:pt x="141" y="1116"/>
                </a:lnTo>
                <a:lnTo>
                  <a:pt x="141" y="1119"/>
                </a:lnTo>
                <a:lnTo>
                  <a:pt x="138" y="1122"/>
                </a:lnTo>
                <a:lnTo>
                  <a:pt x="138" y="1122"/>
                </a:lnTo>
                <a:lnTo>
                  <a:pt x="138" y="1125"/>
                </a:lnTo>
                <a:lnTo>
                  <a:pt x="138" y="1125"/>
                </a:lnTo>
                <a:lnTo>
                  <a:pt x="135" y="1127"/>
                </a:lnTo>
                <a:lnTo>
                  <a:pt x="135" y="1130"/>
                </a:lnTo>
                <a:lnTo>
                  <a:pt x="135" y="1130"/>
                </a:lnTo>
                <a:lnTo>
                  <a:pt x="124" y="1149"/>
                </a:lnTo>
                <a:lnTo>
                  <a:pt x="116" y="1171"/>
                </a:lnTo>
                <a:lnTo>
                  <a:pt x="110" y="1191"/>
                </a:lnTo>
                <a:lnTo>
                  <a:pt x="105" y="1213"/>
                </a:lnTo>
                <a:lnTo>
                  <a:pt x="102" y="1235"/>
                </a:lnTo>
                <a:lnTo>
                  <a:pt x="99" y="1257"/>
                </a:lnTo>
                <a:lnTo>
                  <a:pt x="97" y="1276"/>
                </a:lnTo>
                <a:lnTo>
                  <a:pt x="94" y="1298"/>
                </a:lnTo>
                <a:lnTo>
                  <a:pt x="97" y="1303"/>
                </a:lnTo>
                <a:lnTo>
                  <a:pt x="97" y="1306"/>
                </a:lnTo>
                <a:lnTo>
                  <a:pt x="99" y="1309"/>
                </a:lnTo>
                <a:lnTo>
                  <a:pt x="99" y="1314"/>
                </a:lnTo>
                <a:lnTo>
                  <a:pt x="99" y="1317"/>
                </a:lnTo>
                <a:lnTo>
                  <a:pt x="102" y="1320"/>
                </a:lnTo>
                <a:lnTo>
                  <a:pt x="105" y="1325"/>
                </a:lnTo>
                <a:lnTo>
                  <a:pt x="108" y="1328"/>
                </a:lnTo>
                <a:lnTo>
                  <a:pt x="110" y="1328"/>
                </a:lnTo>
                <a:lnTo>
                  <a:pt x="110" y="1331"/>
                </a:lnTo>
                <a:lnTo>
                  <a:pt x="113" y="1331"/>
                </a:lnTo>
                <a:lnTo>
                  <a:pt x="113" y="1334"/>
                </a:lnTo>
                <a:lnTo>
                  <a:pt x="116" y="1334"/>
                </a:lnTo>
                <a:lnTo>
                  <a:pt x="116" y="1336"/>
                </a:lnTo>
                <a:lnTo>
                  <a:pt x="119" y="1336"/>
                </a:lnTo>
                <a:lnTo>
                  <a:pt x="119" y="1336"/>
                </a:lnTo>
                <a:lnTo>
                  <a:pt x="130" y="1342"/>
                </a:lnTo>
                <a:lnTo>
                  <a:pt x="143" y="1345"/>
                </a:lnTo>
                <a:lnTo>
                  <a:pt x="154" y="1347"/>
                </a:lnTo>
                <a:lnTo>
                  <a:pt x="168" y="1347"/>
                </a:lnTo>
                <a:lnTo>
                  <a:pt x="182" y="1347"/>
                </a:lnTo>
                <a:lnTo>
                  <a:pt x="196" y="1347"/>
                </a:lnTo>
                <a:lnTo>
                  <a:pt x="209" y="1345"/>
                </a:lnTo>
                <a:lnTo>
                  <a:pt x="220" y="1345"/>
                </a:lnTo>
                <a:lnTo>
                  <a:pt x="240" y="1331"/>
                </a:lnTo>
                <a:lnTo>
                  <a:pt x="259" y="1320"/>
                </a:lnTo>
                <a:lnTo>
                  <a:pt x="275" y="1306"/>
                </a:lnTo>
                <a:lnTo>
                  <a:pt x="292" y="1290"/>
                </a:lnTo>
                <a:lnTo>
                  <a:pt x="308" y="1276"/>
                </a:lnTo>
                <a:lnTo>
                  <a:pt x="328" y="1259"/>
                </a:lnTo>
                <a:lnTo>
                  <a:pt x="344" y="1243"/>
                </a:lnTo>
                <a:lnTo>
                  <a:pt x="361" y="1226"/>
                </a:lnTo>
                <a:lnTo>
                  <a:pt x="363" y="1226"/>
                </a:lnTo>
                <a:lnTo>
                  <a:pt x="363" y="1226"/>
                </a:lnTo>
                <a:lnTo>
                  <a:pt x="366" y="1226"/>
                </a:lnTo>
                <a:lnTo>
                  <a:pt x="369" y="1226"/>
                </a:lnTo>
                <a:lnTo>
                  <a:pt x="372" y="1226"/>
                </a:lnTo>
                <a:lnTo>
                  <a:pt x="372" y="1226"/>
                </a:lnTo>
                <a:lnTo>
                  <a:pt x="374" y="1226"/>
                </a:lnTo>
                <a:lnTo>
                  <a:pt x="374" y="1226"/>
                </a:lnTo>
                <a:lnTo>
                  <a:pt x="377" y="1229"/>
                </a:lnTo>
                <a:lnTo>
                  <a:pt x="377" y="1235"/>
                </a:lnTo>
                <a:lnTo>
                  <a:pt x="377" y="1237"/>
                </a:lnTo>
                <a:lnTo>
                  <a:pt x="377" y="1240"/>
                </a:lnTo>
                <a:lnTo>
                  <a:pt x="377" y="1246"/>
                </a:lnTo>
                <a:lnTo>
                  <a:pt x="374" y="1248"/>
                </a:lnTo>
                <a:lnTo>
                  <a:pt x="374" y="1251"/>
                </a:lnTo>
                <a:lnTo>
                  <a:pt x="374" y="1257"/>
                </a:lnTo>
                <a:lnTo>
                  <a:pt x="352" y="1301"/>
                </a:lnTo>
                <a:lnTo>
                  <a:pt x="330" y="1345"/>
                </a:lnTo>
                <a:lnTo>
                  <a:pt x="306" y="1389"/>
                </a:lnTo>
                <a:lnTo>
                  <a:pt x="281" y="1435"/>
                </a:lnTo>
                <a:lnTo>
                  <a:pt x="262" y="1482"/>
                </a:lnTo>
                <a:lnTo>
                  <a:pt x="248" y="1532"/>
                </a:lnTo>
                <a:lnTo>
                  <a:pt x="242" y="1581"/>
                </a:lnTo>
                <a:lnTo>
                  <a:pt x="248" y="1633"/>
                </a:lnTo>
                <a:lnTo>
                  <a:pt x="248" y="1636"/>
                </a:lnTo>
                <a:lnTo>
                  <a:pt x="248" y="1639"/>
                </a:lnTo>
                <a:lnTo>
                  <a:pt x="248" y="1639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9" y="1653"/>
                </a:lnTo>
                <a:lnTo>
                  <a:pt x="273" y="1661"/>
                </a:lnTo>
                <a:lnTo>
                  <a:pt x="284" y="1666"/>
                </a:lnTo>
                <a:lnTo>
                  <a:pt x="300" y="1669"/>
                </a:lnTo>
                <a:lnTo>
                  <a:pt x="314" y="1669"/>
                </a:lnTo>
                <a:lnTo>
                  <a:pt x="330" y="1669"/>
                </a:lnTo>
                <a:lnTo>
                  <a:pt x="347" y="1666"/>
                </a:lnTo>
                <a:lnTo>
                  <a:pt x="361" y="1664"/>
                </a:lnTo>
                <a:lnTo>
                  <a:pt x="380" y="1658"/>
                </a:lnTo>
                <a:lnTo>
                  <a:pt x="396" y="1650"/>
                </a:lnTo>
                <a:lnTo>
                  <a:pt x="413" y="1639"/>
                </a:lnTo>
                <a:lnTo>
                  <a:pt x="429" y="1628"/>
                </a:lnTo>
                <a:lnTo>
                  <a:pt x="443" y="1620"/>
                </a:lnTo>
                <a:lnTo>
                  <a:pt x="457" y="1609"/>
                </a:lnTo>
                <a:lnTo>
                  <a:pt x="473" y="1598"/>
                </a:lnTo>
                <a:lnTo>
                  <a:pt x="490" y="1589"/>
                </a:lnTo>
                <a:lnTo>
                  <a:pt x="493" y="1589"/>
                </a:lnTo>
                <a:lnTo>
                  <a:pt x="493" y="1589"/>
                </a:lnTo>
                <a:lnTo>
                  <a:pt x="495" y="1589"/>
                </a:lnTo>
                <a:lnTo>
                  <a:pt x="495" y="1589"/>
                </a:lnTo>
                <a:lnTo>
                  <a:pt x="498" y="1589"/>
                </a:lnTo>
                <a:lnTo>
                  <a:pt x="501" y="1589"/>
                </a:lnTo>
                <a:lnTo>
                  <a:pt x="501" y="1589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5"/>
                </a:lnTo>
                <a:lnTo>
                  <a:pt x="504" y="1595"/>
                </a:lnTo>
                <a:lnTo>
                  <a:pt x="504" y="1598"/>
                </a:lnTo>
                <a:lnTo>
                  <a:pt x="504" y="1600"/>
                </a:lnTo>
                <a:lnTo>
                  <a:pt x="487" y="1631"/>
                </a:lnTo>
                <a:lnTo>
                  <a:pt x="465" y="1664"/>
                </a:lnTo>
                <a:lnTo>
                  <a:pt x="440" y="1694"/>
                </a:lnTo>
                <a:lnTo>
                  <a:pt x="418" y="1727"/>
                </a:lnTo>
                <a:lnTo>
                  <a:pt x="402" y="1760"/>
                </a:lnTo>
                <a:lnTo>
                  <a:pt x="388" y="1796"/>
                </a:lnTo>
                <a:lnTo>
                  <a:pt x="385" y="1834"/>
                </a:lnTo>
                <a:lnTo>
                  <a:pt x="391" y="1875"/>
                </a:lnTo>
                <a:lnTo>
                  <a:pt x="391" y="1878"/>
                </a:lnTo>
                <a:lnTo>
                  <a:pt x="391" y="1881"/>
                </a:lnTo>
                <a:lnTo>
                  <a:pt x="394" y="1884"/>
                </a:lnTo>
                <a:lnTo>
                  <a:pt x="396" y="1886"/>
                </a:lnTo>
                <a:lnTo>
                  <a:pt x="399" y="1889"/>
                </a:lnTo>
                <a:lnTo>
                  <a:pt x="402" y="1892"/>
                </a:lnTo>
                <a:lnTo>
                  <a:pt x="402" y="1895"/>
                </a:lnTo>
                <a:lnTo>
                  <a:pt x="405" y="1897"/>
                </a:lnTo>
                <a:lnTo>
                  <a:pt x="407" y="1900"/>
                </a:lnTo>
                <a:lnTo>
                  <a:pt x="410" y="1900"/>
                </a:lnTo>
                <a:lnTo>
                  <a:pt x="413" y="1903"/>
                </a:lnTo>
                <a:lnTo>
                  <a:pt x="416" y="1903"/>
                </a:lnTo>
                <a:lnTo>
                  <a:pt x="416" y="1906"/>
                </a:lnTo>
                <a:lnTo>
                  <a:pt x="418" y="1908"/>
                </a:lnTo>
                <a:lnTo>
                  <a:pt x="421" y="1908"/>
                </a:lnTo>
                <a:lnTo>
                  <a:pt x="427" y="1911"/>
                </a:lnTo>
                <a:lnTo>
                  <a:pt x="438" y="1917"/>
                </a:lnTo>
                <a:lnTo>
                  <a:pt x="451" y="1917"/>
                </a:lnTo>
                <a:lnTo>
                  <a:pt x="465" y="1919"/>
                </a:lnTo>
                <a:lnTo>
                  <a:pt x="479" y="1917"/>
                </a:lnTo>
                <a:lnTo>
                  <a:pt x="493" y="1917"/>
                </a:lnTo>
                <a:lnTo>
                  <a:pt x="509" y="1914"/>
                </a:lnTo>
                <a:lnTo>
                  <a:pt x="523" y="1911"/>
                </a:lnTo>
                <a:lnTo>
                  <a:pt x="537" y="1906"/>
                </a:lnTo>
                <a:lnTo>
                  <a:pt x="572" y="1884"/>
                </a:lnTo>
                <a:lnTo>
                  <a:pt x="605" y="1859"/>
                </a:lnTo>
                <a:lnTo>
                  <a:pt x="638" y="1834"/>
                </a:lnTo>
                <a:lnTo>
                  <a:pt x="671" y="1804"/>
                </a:lnTo>
                <a:lnTo>
                  <a:pt x="704" y="1774"/>
                </a:lnTo>
                <a:lnTo>
                  <a:pt x="735" y="1743"/>
                </a:lnTo>
                <a:lnTo>
                  <a:pt x="768" y="1713"/>
                </a:lnTo>
                <a:lnTo>
                  <a:pt x="803" y="1686"/>
                </a:lnTo>
                <a:lnTo>
                  <a:pt x="803" y="1686"/>
                </a:lnTo>
                <a:lnTo>
                  <a:pt x="806" y="1686"/>
                </a:lnTo>
                <a:lnTo>
                  <a:pt x="809" y="1686"/>
                </a:lnTo>
                <a:lnTo>
                  <a:pt x="809" y="1686"/>
                </a:lnTo>
                <a:lnTo>
                  <a:pt x="812" y="1686"/>
                </a:lnTo>
                <a:lnTo>
                  <a:pt x="812" y="1686"/>
                </a:lnTo>
                <a:lnTo>
                  <a:pt x="814" y="1686"/>
                </a:lnTo>
                <a:lnTo>
                  <a:pt x="814" y="1686"/>
                </a:lnTo>
                <a:lnTo>
                  <a:pt x="814" y="1688"/>
                </a:lnTo>
                <a:lnTo>
                  <a:pt x="817" y="1688"/>
                </a:lnTo>
                <a:lnTo>
                  <a:pt x="817" y="1691"/>
                </a:lnTo>
                <a:lnTo>
                  <a:pt x="817" y="1694"/>
                </a:lnTo>
                <a:lnTo>
                  <a:pt x="817" y="1694"/>
                </a:lnTo>
                <a:lnTo>
                  <a:pt x="817" y="1697"/>
                </a:lnTo>
                <a:lnTo>
                  <a:pt x="817" y="1699"/>
                </a:lnTo>
                <a:lnTo>
                  <a:pt x="817" y="1702"/>
                </a:lnTo>
                <a:lnTo>
                  <a:pt x="817" y="1702"/>
                </a:lnTo>
                <a:lnTo>
                  <a:pt x="817" y="1705"/>
                </a:lnTo>
                <a:lnTo>
                  <a:pt x="817" y="1705"/>
                </a:lnTo>
                <a:lnTo>
                  <a:pt x="814" y="1708"/>
                </a:lnTo>
                <a:lnTo>
                  <a:pt x="814" y="1710"/>
                </a:lnTo>
                <a:lnTo>
                  <a:pt x="814" y="1710"/>
                </a:lnTo>
                <a:lnTo>
                  <a:pt x="812" y="1713"/>
                </a:lnTo>
                <a:lnTo>
                  <a:pt x="812" y="1716"/>
                </a:lnTo>
                <a:lnTo>
                  <a:pt x="792" y="1757"/>
                </a:lnTo>
                <a:lnTo>
                  <a:pt x="768" y="1796"/>
                </a:lnTo>
                <a:lnTo>
                  <a:pt x="743" y="1834"/>
                </a:lnTo>
                <a:lnTo>
                  <a:pt x="718" y="1875"/>
                </a:lnTo>
                <a:lnTo>
                  <a:pt x="693" y="1917"/>
                </a:lnTo>
                <a:lnTo>
                  <a:pt x="677" y="1958"/>
                </a:lnTo>
                <a:lnTo>
                  <a:pt x="671" y="2002"/>
                </a:lnTo>
                <a:lnTo>
                  <a:pt x="674" y="2051"/>
                </a:lnTo>
                <a:lnTo>
                  <a:pt x="677" y="2054"/>
                </a:lnTo>
                <a:lnTo>
                  <a:pt x="680" y="2057"/>
                </a:lnTo>
                <a:lnTo>
                  <a:pt x="680" y="2060"/>
                </a:lnTo>
                <a:lnTo>
                  <a:pt x="682" y="2062"/>
                </a:lnTo>
                <a:lnTo>
                  <a:pt x="685" y="2068"/>
                </a:lnTo>
                <a:lnTo>
                  <a:pt x="688" y="2071"/>
                </a:lnTo>
                <a:lnTo>
                  <a:pt x="691" y="2073"/>
                </a:lnTo>
                <a:lnTo>
                  <a:pt x="696" y="2076"/>
                </a:lnTo>
                <a:lnTo>
                  <a:pt x="696" y="2079"/>
                </a:lnTo>
                <a:lnTo>
                  <a:pt x="699" y="2079"/>
                </a:lnTo>
                <a:lnTo>
                  <a:pt x="702" y="2079"/>
                </a:lnTo>
                <a:lnTo>
                  <a:pt x="704" y="2082"/>
                </a:lnTo>
                <a:lnTo>
                  <a:pt x="707" y="2082"/>
                </a:lnTo>
                <a:lnTo>
                  <a:pt x="710" y="2082"/>
                </a:lnTo>
                <a:lnTo>
                  <a:pt x="713" y="2084"/>
                </a:lnTo>
                <a:lnTo>
                  <a:pt x="715" y="2084"/>
                </a:lnTo>
                <a:lnTo>
                  <a:pt x="718" y="2087"/>
                </a:lnTo>
                <a:lnTo>
                  <a:pt x="718" y="2087"/>
                </a:lnTo>
                <a:lnTo>
                  <a:pt x="721" y="2087"/>
                </a:lnTo>
                <a:lnTo>
                  <a:pt x="724" y="2087"/>
                </a:lnTo>
                <a:lnTo>
                  <a:pt x="726" y="2087"/>
                </a:lnTo>
                <a:lnTo>
                  <a:pt x="729" y="2090"/>
                </a:lnTo>
                <a:lnTo>
                  <a:pt x="729" y="2090"/>
                </a:lnTo>
                <a:lnTo>
                  <a:pt x="732" y="2090"/>
                </a:lnTo>
                <a:lnTo>
                  <a:pt x="735" y="2090"/>
                </a:lnTo>
                <a:lnTo>
                  <a:pt x="737" y="2090"/>
                </a:lnTo>
                <a:lnTo>
                  <a:pt x="740" y="2090"/>
                </a:lnTo>
                <a:lnTo>
                  <a:pt x="743" y="2090"/>
                </a:lnTo>
                <a:lnTo>
                  <a:pt x="746" y="2090"/>
                </a:lnTo>
                <a:lnTo>
                  <a:pt x="748" y="2090"/>
                </a:lnTo>
                <a:lnTo>
                  <a:pt x="748" y="2087"/>
                </a:lnTo>
                <a:lnTo>
                  <a:pt x="751" y="208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6520" y="4124160"/>
            <a:ext cx="3732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ass frequenci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represen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ights of the ba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ars are drawn adjacent to each oth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2880" y="1479600"/>
            <a:ext cx="3906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4db14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Histogram                            </a:t>
            </a:r>
            <a:r>
              <a:rPr b="1" lang="en-US" sz="2800" spc="-1" strike="noStrike">
                <a:solidFill>
                  <a:srgbClr val="4db14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a graph in which the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class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marked 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horizontal ax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lass frequenci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vertic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4656240" y="2287440"/>
            <a:ext cx="582480" cy="2995560"/>
            <a:chOff x="4656240" y="2287440"/>
            <a:chExt cx="582480" cy="2995560"/>
          </a:xfrm>
        </p:grpSpPr>
        <p:sp>
          <p:nvSpPr>
            <p:cNvPr id="526" name=""/>
            <p:cNvSpPr/>
            <p:nvPr/>
          </p:nvSpPr>
          <p:spPr>
            <a:xfrm>
              <a:off x="5238720" y="2287440"/>
              <a:ext cx="0" cy="2995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6200000">
              <a:off x="3951360" y="3611520"/>
              <a:ext cx="199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ff"/>
                  </a:solidFill>
                  <a:latin typeface="Times New Roman"/>
                </a:rPr>
                <a:t>Frequenc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226120" y="5195880"/>
            <a:ext cx="3346200" cy="581400"/>
            <a:chOff x="5226120" y="5195880"/>
            <a:chExt cx="3346200" cy="581400"/>
          </a:xfrm>
        </p:grpSpPr>
        <p:sp>
          <p:nvSpPr>
            <p:cNvPr id="529" name=""/>
            <p:cNvSpPr/>
            <p:nvPr/>
          </p:nvSpPr>
          <p:spPr>
            <a:xfrm>
              <a:off x="5226120" y="5295600"/>
              <a:ext cx="33462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8160" y="5195880"/>
              <a:ext cx="118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Class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5257800" y="4700520"/>
            <a:ext cx="901800" cy="569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167520" y="4110120"/>
            <a:ext cx="1065240" cy="1162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240680" y="4361040"/>
            <a:ext cx="105228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55840" y="163440"/>
            <a:ext cx="6251400" cy="1047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1040" dir="792084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raphic Presentation of a Frequency Distribu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1" dur="75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815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8650"/>
                            </p:stCondLst>
                            <p:childTnLst>
                              <p:par>
                                <p:cTn id="10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9150"/>
                            </p:stCondLst>
                            <p:childTnLst>
                              <p:par>
                                <p:cTn id="1041" nodeType="afterEffect" fill="hold" presetClass="entr" presetID="12" presetSubtype="8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3" dur="75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0050"/>
                            </p:stCondLst>
                            <p:childTnLst>
                              <p:par>
                                <p:cTn id="10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055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21050"/>
                            </p:stCondLst>
                            <p:childTnLst>
                              <p:par>
                                <p:cTn id="10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1471680"/>
            <a:ext cx="7439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Present qualitative dat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using such graphical </a:t>
            </a:r>
            <a:br>
              <a:rPr sz="2800"/>
            </a:b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echniques 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such as a 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</a:rPr>
              <a:t>clustered bar chart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</a:rPr>
              <a:t>a</a:t>
            </a:r>
            <a:br>
              <a:rPr sz="2800"/>
            </a:b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</a:rPr>
              <a:t> stacked bar chart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, and </a:t>
            </a:r>
            <a:r>
              <a:rPr b="1" i="1" lang="en-US" sz="2800" spc="-1" strike="noStrike">
                <a:solidFill>
                  <a:srgbClr val="040000"/>
                </a:solidFill>
                <a:latin typeface="Times New Roman"/>
              </a:rPr>
              <a:t>a pie 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95440" y="3062160"/>
          <a:ext cx="37620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3062160"/>
                    <a:ext cx="376200" cy="486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81185" dir="1312197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274760" y="3073320"/>
            <a:ext cx="6897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Detect</a:t>
            </a:r>
            <a:r>
              <a:rPr b="1" lang="en-US" sz="2800" spc="-1" strike="noStrike">
                <a:solidFill>
                  <a:srgbClr val="ff3101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graphic deceptions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use a graph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                 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o present data with clarity, precision,                   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and efficiency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476440" y="3808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571760" y="5543640"/>
            <a:ext cx="6029280" cy="276120"/>
            <a:chOff x="1571760" y="5543640"/>
            <a:chExt cx="6029280" cy="276120"/>
          </a:xfrm>
        </p:grpSpPr>
        <p:sp>
          <p:nvSpPr>
            <p:cNvPr id="78" name=""/>
            <p:cNvSpPr/>
            <p:nvPr/>
          </p:nvSpPr>
          <p:spPr>
            <a:xfrm>
              <a:off x="1571760" y="5657760"/>
              <a:ext cx="6029280" cy="572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4433760" y="5543640"/>
              <a:ext cx="276480" cy="2761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0" name=""/>
          <p:cNvGraphicFramePr/>
          <p:nvPr/>
        </p:nvGraphicFramePr>
        <p:xfrm>
          <a:off x="506520" y="1479600"/>
          <a:ext cx="444240" cy="47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6520" y="1479600"/>
                    <a:ext cx="444240" cy="474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89604" dir="135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"/>
          <p:cNvGrpSpPr/>
          <p:nvPr/>
        </p:nvGrpSpPr>
        <p:grpSpPr>
          <a:xfrm>
            <a:off x="128520" y="2073240"/>
            <a:ext cx="3611520" cy="2862000"/>
            <a:chOff x="128520" y="2073240"/>
            <a:chExt cx="3611520" cy="2862000"/>
          </a:xfrm>
        </p:grpSpPr>
        <p:sp>
          <p:nvSpPr>
            <p:cNvPr id="536" name=""/>
            <p:cNvSpPr/>
            <p:nvPr/>
          </p:nvSpPr>
          <p:spPr>
            <a:xfrm>
              <a:off x="190440" y="2708280"/>
              <a:ext cx="3330720" cy="2226960"/>
            </a:xfrm>
            <a:prstGeom prst="rect">
              <a:avLst/>
            </a:prstGeom>
            <a:solidFill>
              <a:srgbClr val="ffeac5"/>
            </a:solidFill>
            <a:ln w="9360">
              <a:solidFill>
                <a:srgbClr val="000000"/>
              </a:solidFill>
              <a:miter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10.0 to</a:t>
              </a: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 under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 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15.0 to </a:t>
              </a: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 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20.0 to </a:t>
              </a: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 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25.0 to </a:t>
              </a: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 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30.0 to </a:t>
              </a: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under 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8520" y="2119320"/>
              <a:ext cx="316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ours Studying </a:t>
              </a:r>
              <a:r>
                <a:rPr b="1" i="1" lang="en-US" sz="36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75120" y="2073240"/>
              <a:ext cx="66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60720" y="2692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953800" y="31352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60720" y="3562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60720" y="3973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60720" y="4414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30400" y="2743200"/>
              <a:ext cx="0" cy="21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1455840" y="163440"/>
            <a:ext cx="6251400" cy="1047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1040" dir="792084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raphic Presentation of a Frequency Distribu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53040" y="3735360"/>
            <a:ext cx="768240" cy="15130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923080" y="2716200"/>
            <a:ext cx="671400" cy="2533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595920" y="3754440"/>
            <a:ext cx="747720" cy="1495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348680" y="4686480"/>
            <a:ext cx="633240" cy="563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980480" y="4970520"/>
            <a:ext cx="614160" cy="277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545640" y="1684440"/>
            <a:ext cx="5569920" cy="4378320"/>
            <a:chOff x="3545640" y="1684440"/>
            <a:chExt cx="5569920" cy="4378320"/>
          </a:xfrm>
        </p:grpSpPr>
        <p:grpSp>
          <p:nvGrpSpPr>
            <p:cNvPr id="552" name=""/>
            <p:cNvGrpSpPr/>
            <p:nvPr/>
          </p:nvGrpSpPr>
          <p:grpSpPr>
            <a:xfrm>
              <a:off x="4192560" y="5237280"/>
              <a:ext cx="4923000" cy="825480"/>
              <a:chOff x="4192560" y="5237280"/>
              <a:chExt cx="4923000" cy="825480"/>
            </a:xfrm>
          </p:grpSpPr>
          <p:sp>
            <p:nvSpPr>
              <p:cNvPr id="553" name=""/>
              <p:cNvSpPr/>
              <p:nvPr/>
            </p:nvSpPr>
            <p:spPr>
              <a:xfrm>
                <a:off x="4192560" y="5237280"/>
                <a:ext cx="4923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0     10     15     20     25     30     35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365720" y="5273640"/>
                <a:ext cx="4560840" cy="1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424400" y="5527800"/>
                <a:ext cx="452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Hours spent study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3545640" y="2046240"/>
              <a:ext cx="891360" cy="3243240"/>
              <a:chOff x="3545640" y="2046240"/>
              <a:chExt cx="891360" cy="3243240"/>
            </a:xfrm>
          </p:grpSpPr>
          <p:sp>
            <p:nvSpPr>
              <p:cNvPr id="557" name=""/>
              <p:cNvSpPr/>
              <p:nvPr/>
            </p:nvSpPr>
            <p:spPr>
              <a:xfrm>
                <a:off x="3951360" y="2149560"/>
                <a:ext cx="485640" cy="29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381560" y="2046240"/>
                <a:ext cx="0" cy="324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6146000">
                <a:off x="2940480" y="3530160"/>
                <a:ext cx="175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Frequenc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5300280" y="1684440"/>
              <a:ext cx="1800720" cy="520560"/>
            </a:xfrm>
            <a:prstGeom prst="rect">
              <a:avLst/>
            </a:prstGeom>
            <a:solidFill>
              <a:srgbClr val="ffeac5"/>
            </a:solid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</a:rPr>
                <a:t>Histogra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0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285840" y="1511280"/>
            <a:ext cx="3790800" cy="2389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66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55100" dir="1410113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1840" indent="-231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frequency polygon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sists of line segments connecting the points formed by                                      the </a:t>
            </a:r>
            <a:r>
              <a:rPr b="1" i="1" lang="en-US" sz="2400" spc="-1" strike="noStrike">
                <a:solidFill>
                  <a:srgbClr val="7912ea"/>
                </a:solidFill>
                <a:latin typeface="Times New Roman"/>
              </a:rPr>
              <a:t>class midpo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                        the </a:t>
            </a:r>
            <a:r>
              <a:rPr b="1" i="1" lang="en-US" sz="2400" spc="-1" strike="noStrike">
                <a:solidFill>
                  <a:srgbClr val="7912ea"/>
                </a:solidFill>
                <a:latin typeface="Times New Roman"/>
              </a:rPr>
              <a:t>class frequenc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5081040" y="1581120"/>
            <a:ext cx="3674160" cy="2513520"/>
            <a:chOff x="5081040" y="1581120"/>
            <a:chExt cx="3674160" cy="2513520"/>
          </a:xfrm>
        </p:grpSpPr>
        <p:grpSp>
          <p:nvGrpSpPr>
            <p:cNvPr id="563" name=""/>
            <p:cNvGrpSpPr/>
            <p:nvPr/>
          </p:nvGrpSpPr>
          <p:grpSpPr>
            <a:xfrm>
              <a:off x="5081040" y="1581120"/>
              <a:ext cx="270360" cy="2265840"/>
              <a:chOff x="5081040" y="1581120"/>
              <a:chExt cx="270360" cy="2265840"/>
            </a:xfrm>
          </p:grpSpPr>
          <p:sp>
            <p:nvSpPr>
              <p:cNvPr id="564" name=""/>
              <p:cNvSpPr/>
              <p:nvPr/>
            </p:nvSpPr>
            <p:spPr>
              <a:xfrm>
                <a:off x="5349960" y="1679400"/>
                <a:ext cx="1440" cy="2082960"/>
              </a:xfrm>
              <a:prstGeom prst="line">
                <a:avLst/>
              </a:prstGeom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303880" y="3762360"/>
                <a:ext cx="46080" cy="0"/>
              </a:xfrm>
              <a:prstGeom prst="line">
                <a:avLst/>
              </a:prstGeom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303880" y="3467160"/>
                <a:ext cx="46080" cy="0"/>
              </a:xfrm>
              <a:prstGeom prst="line">
                <a:avLst/>
              </a:prstGeom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303880" y="3162240"/>
                <a:ext cx="46080" cy="3240"/>
              </a:xfrm>
              <a:prstGeom prst="line">
                <a:avLst/>
              </a:prstGeom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303880" y="2867040"/>
                <a:ext cx="46080" cy="3240"/>
              </a:xfrm>
              <a:prstGeom prst="line">
                <a:avLst/>
              </a:prstGeom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303880" y="2573280"/>
                <a:ext cx="46080" cy="1800"/>
              </a:xfrm>
              <a:prstGeom prst="line">
                <a:avLst/>
              </a:prstGeom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303880" y="2274840"/>
                <a:ext cx="46080" cy="3240"/>
              </a:xfrm>
              <a:prstGeom prst="line">
                <a:avLst/>
              </a:prstGeom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303880" y="1974960"/>
                <a:ext cx="46080" cy="0"/>
              </a:xfrm>
              <a:prstGeom prst="line">
                <a:avLst/>
              </a:prstGeom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303880" y="1679400"/>
                <a:ext cx="46080" cy="0"/>
              </a:xfrm>
              <a:prstGeom prst="line">
                <a:avLst/>
              </a:prstGeom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5349960" y="3762360"/>
                <a:ext cx="1440" cy="52560"/>
              </a:xfrm>
              <a:prstGeom prst="line">
                <a:avLst/>
              </a:prstGeom>
              <a:ln w="64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162040" y="3664080"/>
                <a:ext cx="77040" cy="1828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162040" y="3365640"/>
                <a:ext cx="77040" cy="1828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162040" y="3063960"/>
                <a:ext cx="77040" cy="1828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162040" y="2768760"/>
                <a:ext cx="77040" cy="1828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162040" y="2473200"/>
                <a:ext cx="77040" cy="1828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081040" y="2178000"/>
                <a:ext cx="153000" cy="1828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081040" y="1876320"/>
                <a:ext cx="153000" cy="1828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081040" y="1581120"/>
                <a:ext cx="153000" cy="1828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5349960" y="3762360"/>
              <a:ext cx="3405240" cy="332280"/>
              <a:chOff x="5349960" y="3762360"/>
              <a:chExt cx="3405240" cy="332280"/>
            </a:xfrm>
          </p:grpSpPr>
          <p:sp>
            <p:nvSpPr>
              <p:cNvPr id="583" name=""/>
              <p:cNvSpPr/>
              <p:nvPr/>
            </p:nvSpPr>
            <p:spPr>
              <a:xfrm>
                <a:off x="5349960" y="3762360"/>
                <a:ext cx="3405240" cy="0"/>
              </a:xfrm>
              <a:prstGeom prst="line">
                <a:avLst/>
              </a:prstGeom>
              <a:ln w="64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5918040" y="3762360"/>
                <a:ext cx="0" cy="52560"/>
              </a:xfrm>
              <a:prstGeom prst="line">
                <a:avLst/>
              </a:prstGeom>
              <a:ln w="64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6488280" y="3762360"/>
                <a:ext cx="0" cy="52560"/>
              </a:xfrm>
              <a:prstGeom prst="line">
                <a:avLst/>
              </a:prstGeom>
              <a:ln w="64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7054920" y="3762360"/>
                <a:ext cx="3240" cy="52560"/>
              </a:xfrm>
              <a:prstGeom prst="line">
                <a:avLst/>
              </a:prstGeom>
              <a:ln w="64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7616880" y="3762360"/>
                <a:ext cx="1440" cy="52560"/>
              </a:xfrm>
              <a:prstGeom prst="line">
                <a:avLst/>
              </a:prstGeom>
              <a:ln w="64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8185320" y="3762360"/>
                <a:ext cx="2880" cy="52560"/>
              </a:xfrm>
              <a:prstGeom prst="line">
                <a:avLst/>
              </a:prstGeom>
              <a:ln w="64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8755200" y="3762360"/>
                <a:ext cx="0" cy="52560"/>
              </a:xfrm>
              <a:prstGeom prst="line">
                <a:avLst/>
              </a:prstGeom>
              <a:ln w="64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536800" y="3911760"/>
                <a:ext cx="191160" cy="18288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7.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065280" y="3911760"/>
                <a:ext cx="267480" cy="18288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2.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635160" y="3911760"/>
                <a:ext cx="267480" cy="18288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7.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198920" y="3911760"/>
                <a:ext cx="267480" cy="18288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2.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768800" y="3911760"/>
                <a:ext cx="267480" cy="18288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7.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5584680" y="1760400"/>
            <a:ext cx="2849400" cy="1688760"/>
            <a:chOff x="5584680" y="1760400"/>
            <a:chExt cx="2849400" cy="1688760"/>
          </a:xfrm>
        </p:grpSpPr>
        <p:sp>
          <p:nvSpPr>
            <p:cNvPr id="596" name=""/>
            <p:cNvSpPr/>
            <p:nvPr/>
          </p:nvSpPr>
          <p:spPr>
            <a:xfrm>
              <a:off x="5584680" y="2804760"/>
              <a:ext cx="41040" cy="47520"/>
            </a:xfrm>
            <a:custGeom>
              <a:avLst/>
              <a:gdLst/>
              <a:ahLst/>
              <a:rect l="l" t="t" r="r" b="b"/>
              <a:pathLst>
                <a:path w="23" h="25">
                  <a:moveTo>
                    <a:pt x="12" y="0"/>
                  </a:moveTo>
                  <a:lnTo>
                    <a:pt x="23" y="13"/>
                  </a:lnTo>
                  <a:lnTo>
                    <a:pt x="12" y="25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154560" y="1760400"/>
              <a:ext cx="31680" cy="3636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21200" y="2655720"/>
              <a:ext cx="39600" cy="4428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2" y="0"/>
                  </a:moveTo>
                  <a:lnTo>
                    <a:pt x="23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284960" y="2655720"/>
              <a:ext cx="45720" cy="522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 flipV="1">
              <a:off x="7284600" y="2655360"/>
              <a:ext cx="19080" cy="2052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04040" y="2676240"/>
              <a:ext cx="21960" cy="2376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7284600" y="2676240"/>
              <a:ext cx="19080" cy="2376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7304040" y="2655360"/>
              <a:ext cx="21960" cy="2052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54840" y="3396960"/>
              <a:ext cx="46080" cy="522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7854480" y="3396600"/>
              <a:ext cx="19080" cy="205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73920" y="3417480"/>
              <a:ext cx="19080" cy="237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7854480" y="3417480"/>
              <a:ext cx="19080" cy="237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7873920" y="3396600"/>
              <a:ext cx="19080" cy="205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7873920" y="3396600"/>
              <a:ext cx="0" cy="205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873920" y="3417480"/>
              <a:ext cx="0" cy="237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900920" y="3357360"/>
              <a:ext cx="0" cy="23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154560" y="1784160"/>
              <a:ext cx="574560" cy="8776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729120" y="2661840"/>
              <a:ext cx="582840" cy="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311960" y="2720520"/>
              <a:ext cx="547560" cy="728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900920" y="3449160"/>
              <a:ext cx="5331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5607000" y="1783800"/>
              <a:ext cx="552240" cy="10681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177880" y="4381560"/>
            <a:ext cx="3352320" cy="2079720"/>
            <a:chOff x="5177880" y="4381560"/>
            <a:chExt cx="3352320" cy="2079720"/>
          </a:xfrm>
        </p:grpSpPr>
        <p:grpSp>
          <p:nvGrpSpPr>
            <p:cNvPr id="618" name=""/>
            <p:cNvGrpSpPr/>
            <p:nvPr/>
          </p:nvGrpSpPr>
          <p:grpSpPr>
            <a:xfrm>
              <a:off x="5177880" y="4381560"/>
              <a:ext cx="294840" cy="2079720"/>
              <a:chOff x="5177880" y="4381560"/>
              <a:chExt cx="294840" cy="2079720"/>
            </a:xfrm>
          </p:grpSpPr>
          <p:sp>
            <p:nvSpPr>
              <p:cNvPr id="619" name=""/>
              <p:cNvSpPr/>
              <p:nvPr/>
            </p:nvSpPr>
            <p:spPr>
              <a:xfrm>
                <a:off x="5398920" y="4475160"/>
                <a:ext cx="0" cy="170820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361120" y="6183360"/>
                <a:ext cx="74520" cy="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361120" y="5940360"/>
                <a:ext cx="74520" cy="324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361120" y="5694480"/>
                <a:ext cx="74520" cy="144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361120" y="5452920"/>
                <a:ext cx="74520" cy="180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361120" y="5205240"/>
                <a:ext cx="74520" cy="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61120" y="4964040"/>
                <a:ext cx="74520" cy="180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361120" y="4716360"/>
                <a:ext cx="74520" cy="324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361120" y="4475160"/>
                <a:ext cx="74520" cy="324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5398920" y="6135480"/>
                <a:ext cx="0" cy="9036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384880" y="6111720"/>
                <a:ext cx="28440" cy="3816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9" y="0"/>
                    </a:moveTo>
                    <a:lnTo>
                      <a:pt x="18" y="10"/>
                    </a:lnTo>
                    <a:lnTo>
                      <a:pt x="9" y="20"/>
                    </a:lnTo>
                    <a:lnTo>
                      <a:pt x="0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245560" y="6086520"/>
                <a:ext cx="72360" cy="1526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G Times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245560" y="5845320"/>
                <a:ext cx="72360" cy="1526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G Times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177880" y="5597640"/>
                <a:ext cx="144000" cy="1526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G Times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77880" y="5359320"/>
                <a:ext cx="144000" cy="1526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G Times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177880" y="5111640"/>
                <a:ext cx="144000" cy="1526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G Times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77880" y="4870440"/>
                <a:ext cx="144000" cy="1526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G Times"/>
                  </a:rPr>
                  <a:t>2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77880" y="4619520"/>
                <a:ext cx="144000" cy="1526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G Times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177880" y="4381560"/>
                <a:ext cx="144000" cy="1526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G Times"/>
                  </a:rPr>
                  <a:t>3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328720" y="6308640"/>
                <a:ext cx="144000" cy="1526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G Times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5398920" y="6135480"/>
              <a:ext cx="3131280" cy="325800"/>
              <a:chOff x="5398920" y="6135480"/>
              <a:chExt cx="3131280" cy="325800"/>
            </a:xfrm>
          </p:grpSpPr>
          <p:sp>
            <p:nvSpPr>
              <p:cNvPr id="640" name=""/>
              <p:cNvSpPr/>
              <p:nvPr/>
            </p:nvSpPr>
            <p:spPr>
              <a:xfrm>
                <a:off x="5398920" y="6183360"/>
                <a:ext cx="3052800" cy="0"/>
              </a:xfrm>
              <a:prstGeom prst="line">
                <a:avLst/>
              </a:prstGeom>
              <a:ln w="4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6010200" y="6135480"/>
                <a:ext cx="3240" cy="90360"/>
              </a:xfrm>
              <a:prstGeom prst="line">
                <a:avLst/>
              </a:prstGeom>
              <a:ln w="4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6622920" y="6135480"/>
                <a:ext cx="0" cy="90360"/>
              </a:xfrm>
              <a:prstGeom prst="line">
                <a:avLst/>
              </a:prstGeom>
              <a:ln w="4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7229520" y="6135480"/>
                <a:ext cx="1440" cy="90360"/>
              </a:xfrm>
              <a:prstGeom prst="line">
                <a:avLst/>
              </a:prstGeom>
              <a:ln w="4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7837560" y="6135480"/>
                <a:ext cx="3240" cy="90360"/>
              </a:xfrm>
              <a:prstGeom prst="line">
                <a:avLst/>
              </a:prstGeom>
              <a:ln w="4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8451720" y="6135480"/>
                <a:ext cx="0" cy="90360"/>
              </a:xfrm>
              <a:prstGeom prst="line">
                <a:avLst/>
              </a:prstGeom>
              <a:ln w="46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944680" y="6308640"/>
                <a:ext cx="144000" cy="15264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G Times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555960" y="6308640"/>
                <a:ext cx="144000" cy="15264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G Times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159320" y="6308640"/>
                <a:ext cx="144000" cy="15264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G Times"/>
                  </a:rPr>
                  <a:t>2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773480" y="6308640"/>
                <a:ext cx="144000" cy="15264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G Times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386200" y="6308640"/>
                <a:ext cx="144000" cy="152640"/>
              </a:xfrm>
              <a:prstGeom prst="rect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G Times"/>
                  </a:rPr>
                  <a:t>3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1" name=""/>
          <p:cNvGrpSpPr/>
          <p:nvPr/>
        </p:nvGrpSpPr>
        <p:grpSpPr>
          <a:xfrm>
            <a:off x="5489640" y="4640400"/>
            <a:ext cx="3057480" cy="1456920"/>
            <a:chOff x="5489640" y="4640400"/>
            <a:chExt cx="3057480" cy="1456920"/>
          </a:xfrm>
        </p:grpSpPr>
        <p:sp>
          <p:nvSpPr>
            <p:cNvPr id="652" name=""/>
            <p:cNvSpPr/>
            <p:nvPr/>
          </p:nvSpPr>
          <p:spPr>
            <a:xfrm>
              <a:off x="6078600" y="5472360"/>
              <a:ext cx="29880" cy="3024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691320" y="4983480"/>
              <a:ext cx="31680" cy="3816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9" y="0"/>
                  </a:moveTo>
                  <a:lnTo>
                    <a:pt x="19" y="20"/>
                  </a:lnTo>
                  <a:lnTo>
                    <a:pt x="0" y="2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97560" y="4742280"/>
              <a:ext cx="36720" cy="4428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 flipV="1">
              <a:off x="7297200" y="4741920"/>
              <a:ext cx="17640" cy="190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315200" y="4761360"/>
              <a:ext cx="14400" cy="187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297200" y="4761360"/>
              <a:ext cx="17640" cy="187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7315200" y="4741920"/>
              <a:ext cx="14400" cy="190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08840" y="4689720"/>
              <a:ext cx="38160" cy="4608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 flipV="1">
              <a:off x="7908840" y="4689360"/>
              <a:ext cx="14400" cy="190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23240" y="4708800"/>
              <a:ext cx="17280" cy="190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7908840" y="4708800"/>
              <a:ext cx="14400" cy="190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7923240" y="4689360"/>
              <a:ext cx="17280" cy="190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7923240" y="4689360"/>
              <a:ext cx="3240" cy="190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923240" y="4708800"/>
              <a:ext cx="3240" cy="190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521560" y="4640400"/>
              <a:ext cx="25560" cy="30240"/>
            </a:xfrm>
            <a:prstGeom prst="ellipse">
              <a:avLst/>
            </a:prstGeom>
            <a:solidFill>
              <a:srgbClr val="ff00ff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5489640" y="5486400"/>
              <a:ext cx="606240" cy="6109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6095880" y="5002200"/>
              <a:ext cx="612720" cy="484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6708600" y="4761360"/>
              <a:ext cx="614520" cy="241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7323120" y="4708800"/>
              <a:ext cx="592200" cy="525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7915320" y="4654800"/>
              <a:ext cx="610920" cy="540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304920" y="3800520"/>
            <a:ext cx="3736800" cy="3020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ccffcc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153009" dir="78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cumulative frequency distribution</a:t>
            </a:r>
            <a:r>
              <a:rPr b="1" lang="en-US" sz="2400" spc="-1" strike="noStrike">
                <a:solidFill>
                  <a:srgbClr val="7912ea"/>
                </a:solidFill>
                <a:latin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used to determin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 man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propor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ta 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l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bo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a certain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455840" y="163440"/>
            <a:ext cx="6251400" cy="1047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1040" dir="792084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raphic Presentation of a Frequency Distribu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0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5" dur="75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7725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8225"/>
                            </p:stCondLst>
                            <p:childTnLst>
                              <p:par>
                                <p:cTn id="1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8725"/>
                            </p:stCondLst>
                            <p:childTnLst>
                              <p:par>
                                <p:cTn id="10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7" dur="75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7425"/>
                            </p:stCondLst>
                            <p:childTnLst>
                              <p:par>
                                <p:cTn id="10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7925"/>
                            </p:stCondLst>
                            <p:childTnLst>
                              <p:par>
                                <p:cTn id="1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"/>
          <p:cNvGrpSpPr/>
          <p:nvPr/>
        </p:nvGrpSpPr>
        <p:grpSpPr>
          <a:xfrm>
            <a:off x="571680" y="1542960"/>
            <a:ext cx="7858080" cy="3750840"/>
            <a:chOff x="571680" y="1542960"/>
            <a:chExt cx="7858080" cy="3750840"/>
          </a:xfrm>
        </p:grpSpPr>
        <p:sp>
          <p:nvSpPr>
            <p:cNvPr id="675" name=""/>
            <p:cNvSpPr/>
            <p:nvPr/>
          </p:nvSpPr>
          <p:spPr>
            <a:xfrm>
              <a:off x="571680" y="1542960"/>
              <a:ext cx="7858080" cy="3750840"/>
            </a:xfrm>
            <a:prstGeom prst="rect">
              <a:avLst/>
            </a:prstGeom>
            <a:noFill/>
            <a:ln w="0">
              <a:noFill/>
            </a:ln>
            <a:effectLst>
              <a:outerShdw dist="137587" dir="7421404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Times New Roman"/>
                </a:rPr>
                <a:t>Making a Histogram                       in Excel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6" name="" descr=""/>
            <p:cNvPicPr/>
            <p:nvPr/>
          </p:nvPicPr>
          <p:blipFill>
            <a:blip r:embed="rId1"/>
            <a:srcRect l="14390" t="30350" r="28351" b="55679"/>
            <a:stretch/>
          </p:blipFill>
          <p:spPr>
            <a:xfrm>
              <a:off x="6238800" y="4362480"/>
              <a:ext cx="712800" cy="698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"/>
          <p:cNvGrpSpPr/>
          <p:nvPr/>
        </p:nvGrpSpPr>
        <p:grpSpPr>
          <a:xfrm>
            <a:off x="2997360" y="114480"/>
            <a:ext cx="2382840" cy="842760"/>
            <a:chOff x="2997360" y="114480"/>
            <a:chExt cx="2382840" cy="842760"/>
          </a:xfrm>
        </p:grpSpPr>
        <p:pic>
          <p:nvPicPr>
            <p:cNvPr id="678" name="" descr=""/>
            <p:cNvPicPr/>
            <p:nvPr/>
          </p:nvPicPr>
          <p:blipFill>
            <a:blip r:embed="rId1"/>
            <a:srcRect l="14390" t="30350" r="28351" b="55679"/>
            <a:stretch/>
          </p:blipFill>
          <p:spPr>
            <a:xfrm>
              <a:off x="466740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299736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0" name="" descr=""/>
          <p:cNvPicPr/>
          <p:nvPr/>
        </p:nvPicPr>
        <p:blipFill>
          <a:blip r:embed="rId2"/>
          <a:srcRect l="24375" t="32420" r="61420" b="63718"/>
          <a:stretch/>
        </p:blipFill>
        <p:spPr>
          <a:xfrm>
            <a:off x="379440" y="1166760"/>
            <a:ext cx="2563920" cy="76356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343080" y="1057320"/>
            <a:ext cx="3828600" cy="1027800"/>
            <a:chOff x="343080" y="1057320"/>
            <a:chExt cx="3828600" cy="1027800"/>
          </a:xfrm>
        </p:grpSpPr>
        <p:sp>
          <p:nvSpPr>
            <p:cNvPr id="682" name=""/>
            <p:cNvSpPr/>
            <p:nvPr/>
          </p:nvSpPr>
          <p:spPr>
            <a:xfrm flipH="1">
              <a:off x="3285720" y="1699920"/>
              <a:ext cx="885960" cy="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43080" y="1057320"/>
              <a:ext cx="2943000" cy="102780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4183560" y="1380960"/>
            <a:ext cx="44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on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ATA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403200" y="2144880"/>
            <a:ext cx="8242200" cy="4713120"/>
            <a:chOff x="403200" y="2144880"/>
            <a:chExt cx="8242200" cy="4713120"/>
          </a:xfrm>
        </p:grpSpPr>
        <p:pic>
          <p:nvPicPr>
            <p:cNvPr id="686" name="" descr=""/>
            <p:cNvPicPr/>
            <p:nvPr/>
          </p:nvPicPr>
          <p:blipFill>
            <a:blip r:embed="rId3"/>
            <a:srcRect l="26251" t="29408" r="25004" b="39230"/>
            <a:stretch/>
          </p:blipFill>
          <p:spPr>
            <a:xfrm>
              <a:off x="403200" y="2144880"/>
              <a:ext cx="8242200" cy="47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4139640" y="2168640"/>
              <a:ext cx="768960" cy="581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34955" dir="78728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Se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4528080" y="5991120"/>
            <a:ext cx="3791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on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0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2457360" y="1076400"/>
            <a:ext cx="6572520" cy="138168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upper limits of the classes you have determ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rcRect l="0" t="14118" r="73754" b="11000"/>
          <a:stretch/>
        </p:blipFill>
        <p:spPr>
          <a:xfrm>
            <a:off x="0" y="1028880"/>
            <a:ext cx="2400480" cy="545760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2"/>
          <a:srcRect l="25877" t="20670" r="66068" b="61816"/>
          <a:stretch/>
        </p:blipFill>
        <p:spPr>
          <a:xfrm>
            <a:off x="1038240" y="1514520"/>
            <a:ext cx="714240" cy="128592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3"/>
          <a:srcRect l="30379" t="40005" r="20251" b="13003"/>
          <a:stretch/>
        </p:blipFill>
        <p:spPr>
          <a:xfrm>
            <a:off x="2143080" y="2457360"/>
            <a:ext cx="5843520" cy="4172040"/>
          </a:xfrm>
          <a:prstGeom prst="rect">
            <a:avLst/>
          </a:prstGeom>
          <a:ln w="0">
            <a:noFill/>
          </a:ln>
        </p:spPr>
      </p:pic>
      <p:grpSp>
        <p:nvGrpSpPr>
          <p:cNvPr id="693" name=""/>
          <p:cNvGrpSpPr/>
          <p:nvPr/>
        </p:nvGrpSpPr>
        <p:grpSpPr>
          <a:xfrm>
            <a:off x="2997360" y="114480"/>
            <a:ext cx="2382840" cy="842760"/>
            <a:chOff x="2997360" y="114480"/>
            <a:chExt cx="2382840" cy="842760"/>
          </a:xfrm>
        </p:grpSpPr>
        <p:pic>
          <p:nvPicPr>
            <p:cNvPr id="694" name="" descr=""/>
            <p:cNvPicPr/>
            <p:nvPr/>
          </p:nvPicPr>
          <p:blipFill>
            <a:blip r:embed="rId4"/>
            <a:srcRect l="14390" t="30350" r="28351" b="55679"/>
            <a:stretch/>
          </p:blipFill>
          <p:spPr>
            <a:xfrm>
              <a:off x="466740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299736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257040" y="1171440"/>
            <a:ext cx="1581120" cy="52768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2157480" y="2427120"/>
            <a:ext cx="5210280" cy="2003400"/>
            <a:chOff x="2157480" y="2427120"/>
            <a:chExt cx="5210280" cy="2003400"/>
          </a:xfrm>
        </p:grpSpPr>
        <p:pic>
          <p:nvPicPr>
            <p:cNvPr id="698" name="" descr=""/>
            <p:cNvPicPr/>
            <p:nvPr/>
          </p:nvPicPr>
          <p:blipFill>
            <a:blip r:embed="rId5"/>
            <a:srcRect l="30379" t="40005" r="32779" b="41120"/>
            <a:stretch/>
          </p:blipFill>
          <p:spPr>
            <a:xfrm>
              <a:off x="2157480" y="2427120"/>
              <a:ext cx="5210280" cy="20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2205000" y="2808000"/>
              <a:ext cx="5086440" cy="123804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0" name="" descr=""/>
          <p:cNvPicPr/>
          <p:nvPr/>
        </p:nvPicPr>
        <p:blipFill>
          <a:blip r:embed="rId6"/>
          <a:srcRect l="30001" t="39671" r="20502" b="12002"/>
          <a:stretch/>
        </p:blipFill>
        <p:spPr>
          <a:xfrm>
            <a:off x="2133720" y="2406600"/>
            <a:ext cx="5819760" cy="43243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2133720" y="3711600"/>
            <a:ext cx="971280" cy="49536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65400" y="4772160"/>
            <a:ext cx="514440" cy="41904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165400" y="5959440"/>
            <a:ext cx="552240" cy="49536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000680" y="4680000"/>
            <a:ext cx="2571480" cy="49536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42800" y="3803760"/>
            <a:ext cx="4504320" cy="45972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PUTTING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525760" y="1457280"/>
            <a:ext cx="64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must now be entered from               Column 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Excel calls these 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i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0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rcRect l="0" t="14503" r="0" b="43502"/>
          <a:stretch/>
        </p:blipFill>
        <p:spPr>
          <a:xfrm>
            <a:off x="714240" y="971640"/>
            <a:ext cx="7620120" cy="240012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738360" y="2657520"/>
            <a:ext cx="7572240" cy="715320"/>
          </a:xfrm>
          <a:prstGeom prst="rect">
            <a:avLst/>
          </a:prstGeom>
          <a:solidFill>
            <a:srgbClr val="ffe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remove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ege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n the right side…                             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ight mous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i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ick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on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2"/>
          <a:srcRect l="0" t="13999" r="0" b="45001"/>
          <a:stretch/>
        </p:blipFill>
        <p:spPr>
          <a:xfrm>
            <a:off x="746280" y="3314880"/>
            <a:ext cx="7619760" cy="2342880"/>
          </a:xfrm>
          <a:prstGeom prst="rect">
            <a:avLst/>
          </a:prstGeom>
          <a:ln w="0">
            <a:noFill/>
          </a:ln>
        </p:spPr>
      </p:pic>
      <p:grpSp>
        <p:nvGrpSpPr>
          <p:cNvPr id="710" name=""/>
          <p:cNvGrpSpPr/>
          <p:nvPr/>
        </p:nvGrpSpPr>
        <p:grpSpPr>
          <a:xfrm>
            <a:off x="2997360" y="114480"/>
            <a:ext cx="2382840" cy="842760"/>
            <a:chOff x="2997360" y="114480"/>
            <a:chExt cx="2382840" cy="842760"/>
          </a:xfrm>
        </p:grpSpPr>
        <p:pic>
          <p:nvPicPr>
            <p:cNvPr id="711" name="" descr=""/>
            <p:cNvPicPr/>
            <p:nvPr/>
          </p:nvPicPr>
          <p:blipFill>
            <a:blip r:embed="rId3"/>
            <a:srcRect l="14390" t="30350" r="28351" b="55679"/>
            <a:stretch/>
          </p:blipFill>
          <p:spPr>
            <a:xfrm>
              <a:off x="466740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299736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743040" y="5600880"/>
            <a:ext cx="7486560" cy="1135800"/>
          </a:xfrm>
          <a:prstGeom prst="rect">
            <a:avLst/>
          </a:prstGeom>
          <a:solidFill>
            <a:srgbClr val="ffe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remove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paces between the b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     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Right mous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ick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on one of the bar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nd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lick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on F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rmat Data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0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7" dur="75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7" dur="75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rcRect l="22859" t="0" r="19906" b="33629"/>
          <a:stretch/>
        </p:blipFill>
        <p:spPr>
          <a:xfrm>
            <a:off x="2031840" y="1031760"/>
            <a:ext cx="5235840" cy="3478320"/>
          </a:xfrm>
          <a:prstGeom prst="rect">
            <a:avLst/>
          </a:prstGeom>
          <a:ln w="0">
            <a:noFill/>
          </a:ln>
        </p:spPr>
      </p:pic>
      <p:grpSp>
        <p:nvGrpSpPr>
          <p:cNvPr id="715" name=""/>
          <p:cNvGrpSpPr/>
          <p:nvPr/>
        </p:nvGrpSpPr>
        <p:grpSpPr>
          <a:xfrm>
            <a:off x="2997360" y="114480"/>
            <a:ext cx="2382840" cy="842760"/>
            <a:chOff x="2997360" y="114480"/>
            <a:chExt cx="2382840" cy="842760"/>
          </a:xfrm>
        </p:grpSpPr>
        <p:pic>
          <p:nvPicPr>
            <p:cNvPr id="716" name="" descr=""/>
            <p:cNvPicPr/>
            <p:nvPr/>
          </p:nvPicPr>
          <p:blipFill>
            <a:blip r:embed="rId2"/>
            <a:srcRect l="14390" t="30350" r="28351" b="55679"/>
            <a:stretch/>
          </p:blipFill>
          <p:spPr>
            <a:xfrm>
              <a:off x="466740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299736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2400480" y="4557600"/>
            <a:ext cx="4286160" cy="423000"/>
          </a:xfrm>
          <a:prstGeom prst="rect">
            <a:avLst/>
          </a:prstGeom>
          <a:solidFill>
            <a:srgbClr val="ffe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w,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li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n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tions ta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5877000" y="1231920"/>
            <a:ext cx="1073160" cy="3411000"/>
            <a:chOff x="5877000" y="1231920"/>
            <a:chExt cx="1073160" cy="3411000"/>
          </a:xfrm>
        </p:grpSpPr>
        <p:sp>
          <p:nvSpPr>
            <p:cNvPr id="720" name=""/>
            <p:cNvSpPr/>
            <p:nvPr/>
          </p:nvSpPr>
          <p:spPr>
            <a:xfrm flipV="1">
              <a:off x="5877000" y="1701720"/>
              <a:ext cx="590760" cy="2941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921640" y="1231920"/>
              <a:ext cx="1028520" cy="47124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1813680" y="5114880"/>
            <a:ext cx="6542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reduce/remove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s between the b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djust the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Gap wid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 to 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Click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on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O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3124080" y="1673280"/>
            <a:ext cx="3768840" cy="3476160"/>
            <a:chOff x="3124080" y="1673280"/>
            <a:chExt cx="3768840" cy="3476160"/>
          </a:xfrm>
        </p:grpSpPr>
        <p:sp>
          <p:nvSpPr>
            <p:cNvPr id="724" name=""/>
            <p:cNvSpPr/>
            <p:nvPr/>
          </p:nvSpPr>
          <p:spPr>
            <a:xfrm flipH="1" flipV="1">
              <a:off x="3772440" y="2212560"/>
              <a:ext cx="3120480" cy="2936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124080" y="1673280"/>
              <a:ext cx="656640" cy="51228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4" dur="75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875"/>
                            </p:stCondLst>
                            <p:childTnLst>
                              <p:par>
                                <p:cTn id="1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1"/>
          <a:srcRect l="0" t="17281" r="24753" b="32779"/>
          <a:stretch/>
        </p:blipFill>
        <p:spPr>
          <a:xfrm>
            <a:off x="534960" y="928800"/>
            <a:ext cx="8070840" cy="4017960"/>
          </a:xfrm>
          <a:prstGeom prst="rect">
            <a:avLst/>
          </a:prstGeom>
          <a:ln w="0">
            <a:noFill/>
          </a:ln>
        </p:spPr>
      </p:pic>
      <p:grpSp>
        <p:nvGrpSpPr>
          <p:cNvPr id="727" name=""/>
          <p:cNvGrpSpPr/>
          <p:nvPr/>
        </p:nvGrpSpPr>
        <p:grpSpPr>
          <a:xfrm>
            <a:off x="2997360" y="114480"/>
            <a:ext cx="2382840" cy="842760"/>
            <a:chOff x="2997360" y="114480"/>
            <a:chExt cx="2382840" cy="842760"/>
          </a:xfrm>
        </p:grpSpPr>
        <p:pic>
          <p:nvPicPr>
            <p:cNvPr id="728" name="" descr=""/>
            <p:cNvPicPr/>
            <p:nvPr/>
          </p:nvPicPr>
          <p:blipFill>
            <a:blip r:embed="rId2"/>
            <a:srcRect l="14390" t="30350" r="28351" b="55679"/>
            <a:stretch/>
          </p:blipFill>
          <p:spPr>
            <a:xfrm>
              <a:off x="4667400" y="258840"/>
              <a:ext cx="71280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2997360" y="114480"/>
              <a:ext cx="1671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Using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457200" y="2817720"/>
            <a:ext cx="3089160" cy="1026000"/>
          </a:xfrm>
          <a:prstGeom prst="rect">
            <a:avLst/>
          </a:prstGeom>
          <a:solidFill>
            <a:srgbClr val="ffe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Ed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ze of the histogra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tit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etc as appropri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3"/>
          <a:srcRect l="13147" t="21836" r="21546" b="27418"/>
          <a:stretch/>
        </p:blipFill>
        <p:spPr>
          <a:xfrm>
            <a:off x="5035680" y="4324320"/>
            <a:ext cx="3814560" cy="222264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66600" y="4325760"/>
            <a:ext cx="4975200" cy="2654280"/>
          </a:xfrm>
          <a:prstGeom prst="rect">
            <a:avLst/>
          </a:prstGeom>
          <a:solidFill>
            <a:srgbClr val="ffe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at the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upper limit valu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                are </a:t>
            </a:r>
            <a:r>
              <a:rPr b="1" i="1" lang="en-US" sz="2400" spc="-1" strike="noStrike" u="sng">
                <a:solidFill>
                  <a:srgbClr val="ff6600"/>
                </a:solidFill>
                <a:uFillTx/>
                <a:latin typeface="Times New Roman"/>
              </a:rPr>
              <a:t>includ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in each 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– this explains the               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ffe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etween this                                                   Excel Frequency Distribution                                                   and the one we did by h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943600" y="546084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988400" y="5448240"/>
            <a:ext cx="342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790640" y="1130400"/>
            <a:ext cx="800280" cy="1612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9" dur="75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9975"/>
                            </p:stCondLst>
                            <p:childTnLst>
                              <p:par>
                                <p:cTn id="1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8467560" y="4629240"/>
            <a:ext cx="0" cy="171360"/>
          </a:xfrm>
          <a:prstGeom prst="line">
            <a:avLst/>
          </a:prstGeom>
          <a:ln w="28440">
            <a:solidFill>
              <a:srgbClr val="cc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7732800" y="4208400"/>
            <a:ext cx="772560" cy="433440"/>
            <a:chOff x="7732800" y="4208400"/>
            <a:chExt cx="772560" cy="433440"/>
          </a:xfrm>
        </p:grpSpPr>
        <p:sp>
          <p:nvSpPr>
            <p:cNvPr id="738" name=""/>
            <p:cNvSpPr/>
            <p:nvPr/>
          </p:nvSpPr>
          <p:spPr>
            <a:xfrm>
              <a:off x="7732800" y="4208400"/>
              <a:ext cx="717480" cy="373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388360" y="4552920"/>
              <a:ext cx="117000" cy="8892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988440" y="1560600"/>
            <a:ext cx="5146200" cy="4006800"/>
            <a:chOff x="3988440" y="1560600"/>
            <a:chExt cx="5146200" cy="4006800"/>
          </a:xfrm>
        </p:grpSpPr>
        <p:grpSp>
          <p:nvGrpSpPr>
            <p:cNvPr id="741" name=""/>
            <p:cNvGrpSpPr/>
            <p:nvPr/>
          </p:nvGrpSpPr>
          <p:grpSpPr>
            <a:xfrm>
              <a:off x="4614840" y="4741920"/>
              <a:ext cx="4519800" cy="825480"/>
              <a:chOff x="4614840" y="4741920"/>
              <a:chExt cx="4519800" cy="825480"/>
            </a:xfrm>
          </p:grpSpPr>
          <p:sp>
            <p:nvSpPr>
              <p:cNvPr id="742" name=""/>
              <p:cNvSpPr/>
              <p:nvPr/>
            </p:nvSpPr>
            <p:spPr>
              <a:xfrm>
                <a:off x="4614840" y="4741920"/>
                <a:ext cx="4519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0     10     15     20     25     30     35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773600" y="4790880"/>
                <a:ext cx="418788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827600" y="5051160"/>
                <a:ext cx="415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Hours spent study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3988440" y="1560600"/>
              <a:ext cx="845280" cy="3243240"/>
              <a:chOff x="3988440" y="1560600"/>
              <a:chExt cx="845280" cy="3243240"/>
            </a:xfrm>
          </p:grpSpPr>
          <p:sp>
            <p:nvSpPr>
              <p:cNvPr id="746" name=""/>
              <p:cNvSpPr/>
              <p:nvPr/>
            </p:nvSpPr>
            <p:spPr>
              <a:xfrm>
                <a:off x="4348080" y="1663560"/>
                <a:ext cx="485640" cy="29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761000" y="1560600"/>
                <a:ext cx="0" cy="324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16134000">
                <a:off x="3386160" y="3042720"/>
                <a:ext cx="175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Frequenc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348920" y="135000"/>
            <a:ext cx="6851880" cy="10476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  <a:effectLst>
            <a:outerShdw dist="144956" dir="8529747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requency Polygo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ne Chart for Hours Spent Study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5386320" y="3286080"/>
            <a:ext cx="423360" cy="1340640"/>
            <a:chOff x="5386320" y="3286080"/>
            <a:chExt cx="423360" cy="1340640"/>
          </a:xfrm>
        </p:grpSpPr>
        <p:sp>
          <p:nvSpPr>
            <p:cNvPr id="751" name=""/>
            <p:cNvSpPr/>
            <p:nvPr/>
          </p:nvSpPr>
          <p:spPr>
            <a:xfrm>
              <a:off x="5386320" y="4546080"/>
              <a:ext cx="46440" cy="6948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17" y="0"/>
                  </a:moveTo>
                  <a:lnTo>
                    <a:pt x="35" y="18"/>
                  </a:lnTo>
                  <a:lnTo>
                    <a:pt x="17" y="36"/>
                  </a:lnTo>
                  <a:lnTo>
                    <a:pt x="0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5409360" y="3315240"/>
              <a:ext cx="337320" cy="1311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90160" y="3286080"/>
              <a:ext cx="119520" cy="921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5773680" y="2189160"/>
            <a:ext cx="665280" cy="1135080"/>
            <a:chOff x="5773680" y="2189160"/>
            <a:chExt cx="665280" cy="1135080"/>
          </a:xfrm>
        </p:grpSpPr>
        <p:sp>
          <p:nvSpPr>
            <p:cNvPr id="755" name=""/>
            <p:cNvSpPr/>
            <p:nvPr/>
          </p:nvSpPr>
          <p:spPr>
            <a:xfrm flipV="1">
              <a:off x="5773680" y="2254320"/>
              <a:ext cx="606600" cy="1069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42120" y="2189160"/>
              <a:ext cx="96840" cy="8712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6388200" y="2260440"/>
            <a:ext cx="698400" cy="1076400"/>
            <a:chOff x="6388200" y="2260440"/>
            <a:chExt cx="698400" cy="1076400"/>
          </a:xfrm>
        </p:grpSpPr>
        <p:sp>
          <p:nvSpPr>
            <p:cNvPr id="758" name=""/>
            <p:cNvSpPr/>
            <p:nvPr/>
          </p:nvSpPr>
          <p:spPr>
            <a:xfrm>
              <a:off x="6388200" y="2260440"/>
              <a:ext cx="644400" cy="1022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002360" y="3249360"/>
              <a:ext cx="84240" cy="8748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7059600" y="3305160"/>
            <a:ext cx="750600" cy="945720"/>
            <a:chOff x="7059600" y="3305160"/>
            <a:chExt cx="750600" cy="945720"/>
          </a:xfrm>
        </p:grpSpPr>
        <p:sp>
          <p:nvSpPr>
            <p:cNvPr id="761" name=""/>
            <p:cNvSpPr/>
            <p:nvPr/>
          </p:nvSpPr>
          <p:spPr>
            <a:xfrm>
              <a:off x="7059600" y="3305160"/>
              <a:ext cx="672840" cy="862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704360" y="4166280"/>
              <a:ext cx="105840" cy="8460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4762440" y="3314880"/>
            <a:ext cx="95256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753160" y="3371760"/>
            <a:ext cx="0" cy="14479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743360" y="2228760"/>
            <a:ext cx="1581120" cy="0"/>
          </a:xfrm>
          <a:prstGeom prst="line">
            <a:avLst/>
          </a:prstGeom>
          <a:ln w="28440">
            <a:solidFill>
              <a:srgbClr val="936de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391440" y="2286000"/>
            <a:ext cx="0" cy="2495520"/>
          </a:xfrm>
          <a:prstGeom prst="line">
            <a:avLst/>
          </a:prstGeom>
          <a:ln w="28440">
            <a:solidFill>
              <a:srgbClr val="936de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753160" y="3314880"/>
            <a:ext cx="1276200" cy="0"/>
          </a:xfrm>
          <a:prstGeom prst="line">
            <a:avLst/>
          </a:prstGeom>
          <a:ln w="284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077240" y="3333600"/>
            <a:ext cx="0" cy="1467000"/>
          </a:xfrm>
          <a:prstGeom prst="line">
            <a:avLst/>
          </a:prstGeom>
          <a:ln w="284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762440" y="4210200"/>
            <a:ext cx="2914560" cy="0"/>
          </a:xfrm>
          <a:prstGeom prst="line">
            <a:avLst/>
          </a:prstGeom>
          <a:ln w="284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734240" y="4257720"/>
            <a:ext cx="0" cy="533520"/>
          </a:xfrm>
          <a:prstGeom prst="line">
            <a:avLst/>
          </a:prstGeom>
          <a:ln w="28440">
            <a:solidFill>
              <a:srgbClr val="ff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743360" y="4591080"/>
            <a:ext cx="3657600" cy="0"/>
          </a:xfrm>
          <a:prstGeom prst="line">
            <a:avLst/>
          </a:prstGeom>
          <a:ln w="28440">
            <a:solidFill>
              <a:srgbClr val="cc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981600" y="1449360"/>
            <a:ext cx="5181480" cy="4118040"/>
            <a:chOff x="3981600" y="1449360"/>
            <a:chExt cx="5181480" cy="4118040"/>
          </a:xfrm>
        </p:grpSpPr>
        <p:sp>
          <p:nvSpPr>
            <p:cNvPr id="773" name=""/>
            <p:cNvSpPr/>
            <p:nvPr/>
          </p:nvSpPr>
          <p:spPr>
            <a:xfrm>
              <a:off x="3981600" y="1449360"/>
              <a:ext cx="5181480" cy="4105440"/>
            </a:xfrm>
            <a:prstGeom prst="rect">
              <a:avLst/>
            </a:prstGeom>
            <a:solidFill>
              <a:srgbClr val="fe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7732800" y="4208400"/>
              <a:ext cx="772560" cy="433440"/>
              <a:chOff x="7732800" y="4208400"/>
              <a:chExt cx="772560" cy="433440"/>
            </a:xfrm>
          </p:grpSpPr>
          <p:sp>
            <p:nvSpPr>
              <p:cNvPr id="775" name=""/>
              <p:cNvSpPr/>
              <p:nvPr/>
            </p:nvSpPr>
            <p:spPr>
              <a:xfrm>
                <a:off x="7732800" y="4208400"/>
                <a:ext cx="717480" cy="3733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388360" y="4552920"/>
                <a:ext cx="117000" cy="88920"/>
              </a:xfrm>
              <a:prstGeom prst="ellipse">
                <a:avLst/>
              </a:prstGeom>
              <a:solidFill>
                <a:srgbClr val="ff66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4614840" y="4741920"/>
              <a:ext cx="4519800" cy="825480"/>
              <a:chOff x="4614840" y="4741920"/>
              <a:chExt cx="4519800" cy="825480"/>
            </a:xfrm>
          </p:grpSpPr>
          <p:sp>
            <p:nvSpPr>
              <p:cNvPr id="778" name=""/>
              <p:cNvSpPr/>
              <p:nvPr/>
            </p:nvSpPr>
            <p:spPr>
              <a:xfrm>
                <a:off x="4614840" y="4741920"/>
                <a:ext cx="4519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0     10     15     20     25     30     35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773600" y="4790880"/>
                <a:ext cx="418788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827600" y="5051160"/>
                <a:ext cx="415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Hours spent study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3988440" y="1560600"/>
              <a:ext cx="845280" cy="3243240"/>
              <a:chOff x="3988440" y="1560600"/>
              <a:chExt cx="845280" cy="3243240"/>
            </a:xfrm>
          </p:grpSpPr>
          <p:sp>
            <p:nvSpPr>
              <p:cNvPr id="782" name=""/>
              <p:cNvSpPr/>
              <p:nvPr/>
            </p:nvSpPr>
            <p:spPr>
              <a:xfrm>
                <a:off x="4348080" y="1663560"/>
                <a:ext cx="485640" cy="29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761000" y="1560600"/>
                <a:ext cx="0" cy="324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6134000">
                <a:off x="3386160" y="3042720"/>
                <a:ext cx="175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Frequenc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5386320" y="3286080"/>
              <a:ext cx="423360" cy="1340640"/>
              <a:chOff x="5386320" y="3286080"/>
              <a:chExt cx="423360" cy="1340640"/>
            </a:xfrm>
          </p:grpSpPr>
          <p:sp>
            <p:nvSpPr>
              <p:cNvPr id="786" name=""/>
              <p:cNvSpPr/>
              <p:nvPr/>
            </p:nvSpPr>
            <p:spPr>
              <a:xfrm>
                <a:off x="5386320" y="4546080"/>
                <a:ext cx="46440" cy="694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17" y="0"/>
                    </a:moveTo>
                    <a:lnTo>
                      <a:pt x="35" y="18"/>
                    </a:lnTo>
                    <a:lnTo>
                      <a:pt x="17" y="36"/>
                    </a:lnTo>
                    <a:lnTo>
                      <a:pt x="0" y="1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0000"/>
              </a:solidFill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5409360" y="3315240"/>
                <a:ext cx="337320" cy="1311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690160" y="3286080"/>
                <a:ext cx="119520" cy="92160"/>
              </a:xfrm>
              <a:prstGeom prst="ellipse">
                <a:avLst/>
              </a:prstGeom>
              <a:solidFill>
                <a:srgbClr val="ff66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5773680" y="2189160"/>
              <a:ext cx="665280" cy="1135080"/>
              <a:chOff x="5773680" y="2189160"/>
              <a:chExt cx="665280" cy="1135080"/>
            </a:xfrm>
          </p:grpSpPr>
          <p:sp>
            <p:nvSpPr>
              <p:cNvPr id="790" name=""/>
              <p:cNvSpPr/>
              <p:nvPr/>
            </p:nvSpPr>
            <p:spPr>
              <a:xfrm flipV="1">
                <a:off x="5773680" y="2254320"/>
                <a:ext cx="606600" cy="1069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42120" y="2189160"/>
                <a:ext cx="96840" cy="87120"/>
              </a:xfrm>
              <a:prstGeom prst="ellipse">
                <a:avLst/>
              </a:prstGeom>
              <a:solidFill>
                <a:srgbClr val="ff66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6388200" y="2260440"/>
              <a:ext cx="717120" cy="1076400"/>
              <a:chOff x="6388200" y="2260440"/>
              <a:chExt cx="717120" cy="1076400"/>
            </a:xfrm>
          </p:grpSpPr>
          <p:sp>
            <p:nvSpPr>
              <p:cNvPr id="793" name=""/>
              <p:cNvSpPr/>
              <p:nvPr/>
            </p:nvSpPr>
            <p:spPr>
              <a:xfrm>
                <a:off x="6388200" y="2260440"/>
                <a:ext cx="661680" cy="10224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018920" y="3249360"/>
                <a:ext cx="86400" cy="87480"/>
              </a:xfrm>
              <a:prstGeom prst="ellipse">
                <a:avLst/>
              </a:prstGeom>
              <a:solidFill>
                <a:srgbClr val="ff66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7059600" y="3305160"/>
              <a:ext cx="750600" cy="945720"/>
              <a:chOff x="7059600" y="3305160"/>
              <a:chExt cx="750600" cy="945720"/>
            </a:xfrm>
          </p:grpSpPr>
          <p:sp>
            <p:nvSpPr>
              <p:cNvPr id="796" name=""/>
              <p:cNvSpPr/>
              <p:nvPr/>
            </p:nvSpPr>
            <p:spPr>
              <a:xfrm>
                <a:off x="7059600" y="3305160"/>
                <a:ext cx="672840" cy="862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704360" y="4166280"/>
                <a:ext cx="105840" cy="84600"/>
              </a:xfrm>
              <a:prstGeom prst="ellipse">
                <a:avLst/>
              </a:prstGeom>
              <a:solidFill>
                <a:srgbClr val="ff66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8" name=""/>
          <p:cNvGrpSpPr/>
          <p:nvPr/>
        </p:nvGrpSpPr>
        <p:grpSpPr>
          <a:xfrm>
            <a:off x="5705640" y="4781520"/>
            <a:ext cx="2818440" cy="114120"/>
            <a:chOff x="5705640" y="4781520"/>
            <a:chExt cx="2818440" cy="114120"/>
          </a:xfrm>
        </p:grpSpPr>
        <p:sp>
          <p:nvSpPr>
            <p:cNvPr id="799" name=""/>
            <p:cNvSpPr/>
            <p:nvPr/>
          </p:nvSpPr>
          <p:spPr>
            <a:xfrm>
              <a:off x="5705640" y="4781520"/>
              <a:ext cx="106560" cy="97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46800" y="4789440"/>
              <a:ext cx="106560" cy="98280"/>
            </a:xfrm>
            <a:prstGeom prst="ellipse">
              <a:avLst/>
            </a:prstGeom>
            <a:solidFill>
              <a:srgbClr val="936de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017840" y="4797720"/>
              <a:ext cx="106560" cy="97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678800" y="4797720"/>
              <a:ext cx="106560" cy="9792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417520" y="4797720"/>
              <a:ext cx="106560" cy="979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312840" y="1739880"/>
            <a:ext cx="3670200" cy="2974680"/>
            <a:chOff x="312840" y="1739880"/>
            <a:chExt cx="3670200" cy="2974680"/>
          </a:xfrm>
        </p:grpSpPr>
        <p:sp>
          <p:nvSpPr>
            <p:cNvPr id="805" name=""/>
            <p:cNvSpPr/>
            <p:nvPr/>
          </p:nvSpPr>
          <p:spPr>
            <a:xfrm>
              <a:off x="490680" y="2454120"/>
              <a:ext cx="3276360" cy="2226960"/>
            </a:xfrm>
            <a:prstGeom prst="rect">
              <a:avLst/>
            </a:prstGeom>
            <a:solidFill>
              <a:srgbClr val="ffeac5"/>
            </a:solidFill>
            <a:ln w="9360">
              <a:solidFill>
                <a:srgbClr val="000000"/>
              </a:solidFill>
              <a:miter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10.0 to</a:t>
              </a: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 under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 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15.0 to </a:t>
              </a: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 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20.0 to </a:t>
              </a: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 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25.0 to </a:t>
              </a: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 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30.0 to </a:t>
              </a: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under 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12840" y="1739880"/>
              <a:ext cx="311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ours Studying  </a:t>
              </a:r>
              <a:r>
                <a:rPr b="1" i="1" lang="en-US" sz="40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328920" y="180612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314520" y="2437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209400" y="28890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314520" y="3325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314520" y="3744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14520" y="4194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86000" y="2489040"/>
              <a:ext cx="0" cy="21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1117440" y="5396040"/>
            <a:ext cx="6902640" cy="118152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ice that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lass midpoints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the plotted points) aren’t as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“user friendly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this distribution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0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500"/>
                            </p:stCondLst>
                            <p:childTnLst>
                              <p:par>
                                <p:cTn id="1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312840" y="2054160"/>
            <a:ext cx="3670200" cy="2975040"/>
            <a:chOff x="312840" y="2054160"/>
            <a:chExt cx="3670200" cy="2975040"/>
          </a:xfrm>
        </p:grpSpPr>
        <p:sp>
          <p:nvSpPr>
            <p:cNvPr id="816" name=""/>
            <p:cNvSpPr/>
            <p:nvPr/>
          </p:nvSpPr>
          <p:spPr>
            <a:xfrm>
              <a:off x="490680" y="2768760"/>
              <a:ext cx="3276360" cy="2226960"/>
            </a:xfrm>
            <a:prstGeom prst="rect">
              <a:avLst/>
            </a:prstGeom>
            <a:solidFill>
              <a:srgbClr val="ffeac5"/>
            </a:solidFill>
            <a:ln w="9360">
              <a:solidFill>
                <a:srgbClr val="000000"/>
              </a:solidFill>
              <a:miter/>
            </a:ln>
            <a:effectLst>
              <a:outerShdw dist="99192" dir="778194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10.0 to</a:t>
              </a: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 under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 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15.0 to </a:t>
              </a: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 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20.0 to </a:t>
              </a: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 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25.0 to </a:t>
              </a: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 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30.0 to </a:t>
              </a: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under 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12840" y="2054160"/>
              <a:ext cx="3111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ours Studying  </a:t>
              </a:r>
              <a:r>
                <a:rPr b="1" i="1" lang="en-US" sz="40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328920" y="212076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314520" y="2752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209400" y="32036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314520" y="3639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314520" y="4059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314520" y="4508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86000" y="2803680"/>
              <a:ext cx="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3809880" y="4772160"/>
            <a:ext cx="2819520" cy="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809880" y="4371840"/>
            <a:ext cx="2819520" cy="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809880" y="3952800"/>
            <a:ext cx="2819520" cy="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9880" y="3514680"/>
            <a:ext cx="2819520" cy="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809880" y="3076560"/>
            <a:ext cx="2819520" cy="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466640" y="200160"/>
            <a:ext cx="6708600" cy="10476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  <a:effectLst>
            <a:outerShdw dist="171040" dir="8279153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mulative Frequency Distribution For Hours Stud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110120" y="2787480"/>
            <a:ext cx="1647720" cy="2226960"/>
          </a:xfrm>
          <a:prstGeom prst="rect">
            <a:avLst/>
          </a:prstGeom>
          <a:solidFill>
            <a:srgbClr val="ffeac5"/>
          </a:solidFill>
          <a:ln w="9360">
            <a:solidFill>
              <a:srgbClr val="000000"/>
            </a:solidFill>
            <a:miter/>
          </a:ln>
          <a:effectLst>
            <a:outerShdw dist="99192" dir="77819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40000"/>
                </a:solidFill>
                <a:latin typeface="Times New Roman"/>
              </a:rPr>
              <a:t>under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40000"/>
                </a:solidFill>
                <a:latin typeface="Times New Roman"/>
              </a:rPr>
              <a:t>under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40000"/>
                </a:solidFill>
                <a:latin typeface="Times New Roman"/>
              </a:rPr>
              <a:t>under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40000"/>
                </a:solidFill>
                <a:latin typeface="Times New Roman"/>
              </a:rPr>
              <a:t>under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40000"/>
                </a:solidFill>
                <a:latin typeface="Times New Roman"/>
              </a:rPr>
              <a:t>under </a:t>
            </a:r>
            <a:r>
              <a:rPr b="1" lang="en-US" sz="2800" spc="-1" strike="noStrike">
                <a:solidFill>
                  <a:srgbClr val="040000"/>
                </a:solidFill>
                <a:latin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808440" y="2157480"/>
            <a:ext cx="27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urs Stu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6499080" y="1677960"/>
            <a:ext cx="1949760" cy="3341880"/>
            <a:chOff x="6499080" y="1677960"/>
            <a:chExt cx="1949760" cy="3341880"/>
          </a:xfrm>
        </p:grpSpPr>
        <p:sp>
          <p:nvSpPr>
            <p:cNvPr id="834" name=""/>
            <p:cNvSpPr/>
            <p:nvPr/>
          </p:nvSpPr>
          <p:spPr>
            <a:xfrm>
              <a:off x="6800760" y="2752920"/>
              <a:ext cx="1371600" cy="2266920"/>
            </a:xfrm>
            <a:prstGeom prst="rect">
              <a:avLst/>
            </a:prstGeom>
            <a:solidFill>
              <a:srgbClr val="ffeac5"/>
            </a:solidFill>
            <a:ln w="9360">
              <a:solidFill>
                <a:srgbClr val="000000"/>
              </a:solidFill>
              <a:miter/>
            </a:ln>
            <a:effectLst>
              <a:outerShdw dist="81185" dir="772196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499080" y="1677960"/>
              <a:ext cx="1949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Cumulativ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7286040" y="3200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286040" y="36273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286040" y="4052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286040" y="44863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375320" y="2762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5457960" y="5721480"/>
            <a:ext cx="3228840" cy="703440"/>
            <a:chOff x="5457960" y="5721480"/>
            <a:chExt cx="3228840" cy="703440"/>
          </a:xfrm>
        </p:grpSpPr>
        <p:sp>
          <p:nvSpPr>
            <p:cNvPr id="842" name=""/>
            <p:cNvSpPr/>
            <p:nvPr/>
          </p:nvSpPr>
          <p:spPr>
            <a:xfrm>
              <a:off x="5457960" y="6172200"/>
              <a:ext cx="322884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837040" y="5721480"/>
              <a:ext cx="2296080" cy="703440"/>
            </a:xfrm>
            <a:prstGeom prst="rect">
              <a:avLst/>
            </a:prstGeom>
            <a:solidFill>
              <a:srgbClr val="feffd1"/>
            </a:solidFill>
            <a:ln w="0">
              <a:noFill/>
            </a:ln>
            <a:effectLst>
              <a:outerShdw dist="134955" dir="787288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Graph….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3390840" y="3057480"/>
            <a:ext cx="209520" cy="552600"/>
          </a:xfrm>
          <a:prstGeom prst="rect">
            <a:avLst/>
          </a:prstGeom>
          <a:solidFill>
            <a:srgbClr val="8ef2f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390840" y="3610080"/>
            <a:ext cx="209520" cy="476280"/>
          </a:xfrm>
          <a:prstGeom prst="rect">
            <a:avLst/>
          </a:prstGeom>
          <a:solidFill>
            <a:srgbClr val="8ef2f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371760" y="4078440"/>
            <a:ext cx="209520" cy="475920"/>
          </a:xfrm>
          <a:prstGeom prst="rect">
            <a:avLst/>
          </a:prstGeom>
          <a:solidFill>
            <a:srgbClr val="8ef2f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371760" y="4487760"/>
            <a:ext cx="209520" cy="476280"/>
          </a:xfrm>
          <a:prstGeom prst="rect">
            <a:avLst/>
          </a:prstGeom>
          <a:solidFill>
            <a:srgbClr val="8ef2f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0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75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125"/>
                            </p:stCondLst>
                            <p:childTnLst>
                              <p:par>
                                <p:cTn id="133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6500"/>
                            </p:stCondLst>
                            <p:childTnLst>
                              <p:par>
                                <p:cTn id="1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52560" y="942840"/>
            <a:ext cx="7280280" cy="4962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185920" y="1790640"/>
            <a:ext cx="4829400" cy="33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ff3101"/>
                    </a:gs>
                    <a:gs pos="100000">
                      <a:srgbClr val="fefefe"/>
                    </a:gs>
                  </a:gsLst>
                  <a:lin ang="8100000"/>
                </a:gradFill>
                <a:effectLst>
                  <a:outerShdw dist="440703" dir="13289384" blurRad="0" rotWithShape="0">
                    <a:srgbClr val="b2b2b2"/>
                  </a:outerShdw>
                </a:effectLst>
                <a:latin typeface="Times New Roman"/>
              </a:rPr>
              <a:t>Frequency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ff3101"/>
                  </a:gs>
                  <a:gs pos="100000">
                    <a:srgbClr val="fefefe"/>
                  </a:gs>
                </a:gsLst>
                <a:lin ang="8100000"/>
              </a:gradFill>
              <a:effectLst>
                <a:outerShdw dist="440703" dir="13289384" blurRad="0" rotWithShape="0">
                  <a:srgbClr val="b2b2b2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ff3101"/>
                    </a:gs>
                    <a:gs pos="100000">
                      <a:srgbClr val="fefefe"/>
                    </a:gs>
                  </a:gsLst>
                  <a:lin ang="8100000"/>
                </a:gradFill>
                <a:effectLst>
                  <a:outerShdw dist="440703" dir="13289384" blurRad="0" rotWithShape="0">
                    <a:srgbClr val="b2b2b2"/>
                  </a:outerShdw>
                </a:effectLst>
                <a:latin typeface="Times New Roman"/>
              </a:rPr>
              <a:t>Distribution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ff3101"/>
                  </a:gs>
                  <a:gs pos="100000">
                    <a:srgbClr val="fefefe"/>
                  </a:gs>
                </a:gsLst>
                <a:lin ang="8100000"/>
              </a:gradFill>
              <a:effectLst>
                <a:outerShdw dist="440703" dir="13289384" blurRad="0" rotWithShape="0">
                  <a:srgbClr val="b2b2b2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66640" y="200160"/>
            <a:ext cx="6708600" cy="10476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  <a:effectLst>
            <a:outerShdw dist="171040" dir="8279153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mulative Frequency Distribution For Hours Stud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3785040" y="1982880"/>
            <a:ext cx="5158440" cy="4006800"/>
            <a:chOff x="3785040" y="1982880"/>
            <a:chExt cx="5158440" cy="4006800"/>
          </a:xfrm>
        </p:grpSpPr>
        <p:grpSp>
          <p:nvGrpSpPr>
            <p:cNvPr id="850" name=""/>
            <p:cNvGrpSpPr/>
            <p:nvPr/>
          </p:nvGrpSpPr>
          <p:grpSpPr>
            <a:xfrm>
              <a:off x="4463640" y="5164200"/>
              <a:ext cx="4479840" cy="825480"/>
              <a:chOff x="4463640" y="5164200"/>
              <a:chExt cx="4479840" cy="825480"/>
            </a:xfrm>
          </p:grpSpPr>
          <p:sp>
            <p:nvSpPr>
              <p:cNvPr id="851" name=""/>
              <p:cNvSpPr/>
              <p:nvPr/>
            </p:nvSpPr>
            <p:spPr>
              <a:xfrm>
                <a:off x="4463640" y="5164200"/>
                <a:ext cx="4479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0     10     15     20     25     30     35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4622400" y="5184720"/>
                <a:ext cx="4149360" cy="190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676040" y="5473800"/>
                <a:ext cx="411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00"/>
                    </a:solidFill>
                    <a:latin typeface="Times New Roman"/>
                  </a:rPr>
                  <a:t>Hours spent study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3785040" y="1982880"/>
              <a:ext cx="900000" cy="3243240"/>
              <a:chOff x="3785040" y="1982880"/>
              <a:chExt cx="900000" cy="3243240"/>
            </a:xfrm>
          </p:grpSpPr>
          <p:sp>
            <p:nvSpPr>
              <p:cNvPr id="855" name=""/>
              <p:cNvSpPr/>
              <p:nvPr/>
            </p:nvSpPr>
            <p:spPr>
              <a:xfrm>
                <a:off x="4199400" y="2086200"/>
                <a:ext cx="485640" cy="29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3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609800" y="1982880"/>
                <a:ext cx="0" cy="3243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6176600">
                <a:off x="3171960" y="3457440"/>
                <a:ext cx="1758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Frequenc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8" name=""/>
          <p:cNvGrpSpPr/>
          <p:nvPr/>
        </p:nvGrpSpPr>
        <p:grpSpPr>
          <a:xfrm>
            <a:off x="5637240" y="4619520"/>
            <a:ext cx="328680" cy="498600"/>
            <a:chOff x="5637240" y="4619520"/>
            <a:chExt cx="328680" cy="498600"/>
          </a:xfrm>
        </p:grpSpPr>
        <p:sp>
          <p:nvSpPr>
            <p:cNvPr id="859" name=""/>
            <p:cNvSpPr/>
            <p:nvPr/>
          </p:nvSpPr>
          <p:spPr>
            <a:xfrm flipV="1">
              <a:off x="5637240" y="4659480"/>
              <a:ext cx="279360" cy="458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57920" y="4619520"/>
              <a:ext cx="10800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5886360" y="3556080"/>
            <a:ext cx="731880" cy="1125000"/>
            <a:chOff x="5886360" y="3556080"/>
            <a:chExt cx="731880" cy="1125000"/>
          </a:xfrm>
        </p:grpSpPr>
        <p:sp>
          <p:nvSpPr>
            <p:cNvPr id="862" name=""/>
            <p:cNvSpPr/>
            <p:nvPr/>
          </p:nvSpPr>
          <p:spPr>
            <a:xfrm>
              <a:off x="6548400" y="3556080"/>
              <a:ext cx="69840" cy="7920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5886360" y="3622320"/>
              <a:ext cx="681120" cy="10587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6586560" y="2930400"/>
            <a:ext cx="813240" cy="666000"/>
            <a:chOff x="6586560" y="2930400"/>
            <a:chExt cx="813240" cy="666000"/>
          </a:xfrm>
        </p:grpSpPr>
        <p:grpSp>
          <p:nvGrpSpPr>
            <p:cNvPr id="865" name=""/>
            <p:cNvGrpSpPr/>
            <p:nvPr/>
          </p:nvGrpSpPr>
          <p:grpSpPr>
            <a:xfrm>
              <a:off x="7289280" y="2930400"/>
              <a:ext cx="110520" cy="107280"/>
              <a:chOff x="7289280" y="2930400"/>
              <a:chExt cx="110520" cy="107280"/>
            </a:xfrm>
          </p:grpSpPr>
          <p:sp>
            <p:nvSpPr>
              <p:cNvPr id="866" name=""/>
              <p:cNvSpPr/>
              <p:nvPr/>
            </p:nvSpPr>
            <p:spPr>
              <a:xfrm>
                <a:off x="7289640" y="2930400"/>
                <a:ext cx="110160" cy="107280"/>
              </a:xfrm>
              <a:prstGeom prst="rect">
                <a:avLst/>
              </a:prstGeom>
              <a:noFill/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 flipV="1">
                <a:off x="7289280" y="2930400"/>
                <a:ext cx="50040" cy="4536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7289280" y="2975760"/>
                <a:ext cx="50040" cy="4536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7339680" y="2930400"/>
                <a:ext cx="44280" cy="45360"/>
              </a:xfrm>
              <a:prstGeom prst="line">
                <a:avLst/>
              </a:prstGeom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 flipV="1">
              <a:off x="6586560" y="2977560"/>
              <a:ext cx="735120" cy="618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7365960" y="2674800"/>
            <a:ext cx="599400" cy="267840"/>
            <a:chOff x="7365960" y="2674800"/>
            <a:chExt cx="599400" cy="267840"/>
          </a:xfrm>
        </p:grpSpPr>
        <p:grpSp>
          <p:nvGrpSpPr>
            <p:cNvPr id="872" name=""/>
            <p:cNvGrpSpPr/>
            <p:nvPr/>
          </p:nvGrpSpPr>
          <p:grpSpPr>
            <a:xfrm>
              <a:off x="7880040" y="2674800"/>
              <a:ext cx="85320" cy="80640"/>
              <a:chOff x="7880040" y="2674800"/>
              <a:chExt cx="85320" cy="80640"/>
            </a:xfrm>
          </p:grpSpPr>
          <p:sp>
            <p:nvSpPr>
              <p:cNvPr id="873" name=""/>
              <p:cNvSpPr/>
              <p:nvPr/>
            </p:nvSpPr>
            <p:spPr>
              <a:xfrm>
                <a:off x="7880400" y="2674800"/>
                <a:ext cx="84960" cy="806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 flipV="1">
                <a:off x="7880040" y="2674800"/>
                <a:ext cx="34920" cy="345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7880040" y="2709360"/>
                <a:ext cx="34920" cy="345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>
                <a:off x="7915320" y="2674800"/>
                <a:ext cx="34920" cy="345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7915320" y="2674800"/>
                <a:ext cx="0" cy="345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 flipV="1">
              <a:off x="7365960" y="2715480"/>
              <a:ext cx="517680" cy="227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7908840" y="2603520"/>
            <a:ext cx="700200" cy="103320"/>
            <a:chOff x="7908840" y="2603520"/>
            <a:chExt cx="700200" cy="103320"/>
          </a:xfrm>
        </p:grpSpPr>
        <p:sp>
          <p:nvSpPr>
            <p:cNvPr id="880" name=""/>
            <p:cNvSpPr/>
            <p:nvPr/>
          </p:nvSpPr>
          <p:spPr>
            <a:xfrm>
              <a:off x="8545680" y="2603520"/>
              <a:ext cx="63360" cy="68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7908840" y="2646360"/>
              <a:ext cx="657360" cy="60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425520" y="1511280"/>
            <a:ext cx="3281400" cy="3917880"/>
            <a:chOff x="425520" y="1511280"/>
            <a:chExt cx="3281400" cy="3917880"/>
          </a:xfrm>
        </p:grpSpPr>
        <p:sp>
          <p:nvSpPr>
            <p:cNvPr id="883" name=""/>
            <p:cNvSpPr/>
            <p:nvPr/>
          </p:nvSpPr>
          <p:spPr>
            <a:xfrm>
              <a:off x="425520" y="3139920"/>
              <a:ext cx="1647720" cy="2226960"/>
            </a:xfrm>
            <a:prstGeom prst="rect">
              <a:avLst/>
            </a:prstGeom>
            <a:solidFill>
              <a:srgbClr val="ffeac5"/>
            </a:solidFill>
            <a:ln w="0">
              <a:noFill/>
            </a:ln>
            <a:effectLst>
              <a:outerShdw dist="117181" dir="836163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 1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 2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 2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under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 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40000"/>
                  </a:solidFill>
                  <a:latin typeface="Times New Roman"/>
                </a:rPr>
                <a:t>under </a:t>
              </a:r>
              <a:r>
                <a:rPr b="1" lang="en-US" sz="2800" spc="-1" strike="noStrike">
                  <a:solidFill>
                    <a:srgbClr val="040000"/>
                  </a:solidFill>
                  <a:latin typeface="Times New Roman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195640" y="3133800"/>
              <a:ext cx="1171440" cy="2295360"/>
            </a:xfrm>
            <a:prstGeom prst="rect">
              <a:avLst/>
            </a:prstGeom>
            <a:solidFill>
              <a:srgbClr val="ffeac5"/>
            </a:solidFill>
            <a:ln w="9360">
              <a:solidFill>
                <a:srgbClr val="000000"/>
              </a:solidFill>
              <a:miter/>
            </a:ln>
            <a:effectLst>
              <a:outerShdw dist="53966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496600" y="3584520"/>
              <a:ext cx="537480" cy="520560"/>
            </a:xfrm>
            <a:prstGeom prst="rect">
              <a:avLst/>
            </a:prstGeom>
            <a:solidFill>
              <a:srgbClr val="ffe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96600" y="4002120"/>
              <a:ext cx="537480" cy="520560"/>
            </a:xfrm>
            <a:prstGeom prst="rect">
              <a:avLst/>
            </a:prstGeom>
            <a:solidFill>
              <a:srgbClr val="ffe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496600" y="4443480"/>
              <a:ext cx="537480" cy="520560"/>
            </a:xfrm>
            <a:prstGeom prst="rect">
              <a:avLst/>
            </a:prstGeom>
            <a:solidFill>
              <a:srgbClr val="ffe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496600" y="4854600"/>
              <a:ext cx="537480" cy="520560"/>
            </a:xfrm>
            <a:prstGeom prst="rect">
              <a:avLst/>
            </a:prstGeom>
            <a:solidFill>
              <a:srgbClr val="ffe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585880" y="3155760"/>
              <a:ext cx="358920" cy="520560"/>
            </a:xfrm>
            <a:prstGeom prst="rect">
              <a:avLst/>
            </a:prstGeom>
            <a:solidFill>
              <a:srgbClr val="ffe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51040" y="1511280"/>
              <a:ext cx="2584080" cy="520560"/>
            </a:xfrm>
            <a:prstGeom prst="rect">
              <a:avLst/>
            </a:prstGeom>
            <a:solidFill>
              <a:srgbClr val="ffeac5"/>
            </a:solidFill>
            <a:ln w="0">
              <a:noFill/>
            </a:ln>
            <a:effectLst>
              <a:outerShdw dist="91658" dir="878234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ours Study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43360" y="2354040"/>
              <a:ext cx="1663560" cy="825480"/>
            </a:xfrm>
            <a:prstGeom prst="rect">
              <a:avLst/>
            </a:prstGeom>
            <a:solidFill>
              <a:srgbClr val="ffeac5"/>
            </a:solidFill>
            <a:ln w="0">
              <a:noFill/>
            </a:ln>
            <a:effectLst>
              <a:outerShdw dist="89604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Cumulativ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1117440" y="5881680"/>
            <a:ext cx="7250400" cy="52056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ice that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 limit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the plotted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0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500"/>
                            </p:stCondLst>
                            <p:childTnLst>
                              <p:par>
                                <p:cTn id="1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3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"/>
          <p:cNvGrpSpPr/>
          <p:nvPr/>
        </p:nvGrpSpPr>
        <p:grpSpPr>
          <a:xfrm>
            <a:off x="619200" y="828720"/>
            <a:ext cx="7919640" cy="6055200"/>
            <a:chOff x="619200" y="828720"/>
            <a:chExt cx="7919640" cy="6055200"/>
          </a:xfrm>
        </p:grpSpPr>
        <p:grpSp>
          <p:nvGrpSpPr>
            <p:cNvPr id="894" name=""/>
            <p:cNvGrpSpPr/>
            <p:nvPr/>
          </p:nvGrpSpPr>
          <p:grpSpPr>
            <a:xfrm>
              <a:off x="847800" y="828720"/>
              <a:ext cx="7691040" cy="4929120"/>
              <a:chOff x="847800" y="828720"/>
              <a:chExt cx="7691040" cy="4929120"/>
            </a:xfrm>
          </p:grpSpPr>
          <p:pic>
            <p:nvPicPr>
              <p:cNvPr id="8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2720" y="1693800"/>
                <a:ext cx="4982040" cy="341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47440" y="2886120"/>
                <a:ext cx="4091400" cy="2871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97" name=""/>
              <p:cNvGrpSpPr/>
              <p:nvPr/>
            </p:nvGrpSpPr>
            <p:grpSpPr>
              <a:xfrm>
                <a:off x="847800" y="828720"/>
                <a:ext cx="4033800" cy="2221920"/>
                <a:chOff x="847800" y="828720"/>
                <a:chExt cx="4033800" cy="222192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2868840" y="1815840"/>
                  <a:ext cx="2012400" cy="247680"/>
                </a:xfrm>
                <a:prstGeom prst="rect">
                  <a:avLst/>
                </a:prstGeom>
                <a:solidFill>
                  <a:srgbClr val="e9e9e9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2419920" y="858960"/>
                  <a:ext cx="448920" cy="1204560"/>
                </a:xfrm>
                <a:custGeom>
                  <a:avLst/>
                  <a:gdLst/>
                  <a:ahLst/>
                  <a:rect l="l" t="t" r="r" b="b"/>
                  <a:pathLst>
                    <a:path w="222" h="476">
                      <a:moveTo>
                        <a:pt x="222" y="378"/>
                      </a:moveTo>
                      <a:lnTo>
                        <a:pt x="0" y="0"/>
                      </a:lnTo>
                      <a:lnTo>
                        <a:pt x="0" y="97"/>
                      </a:lnTo>
                      <a:lnTo>
                        <a:pt x="222" y="476"/>
                      </a:lnTo>
                      <a:lnTo>
                        <a:pt x="222" y="378"/>
                      </a:lnTo>
                      <a:close/>
                    </a:path>
                  </a:pathLst>
                </a:custGeom>
                <a:solidFill>
                  <a:srgbClr val="26262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2868840" y="1815840"/>
                  <a:ext cx="1925640" cy="533520"/>
                </a:xfrm>
                <a:custGeom>
                  <a:avLst/>
                  <a:gdLst/>
                  <a:ahLst/>
                  <a:rect l="l" t="t" r="r" b="b"/>
                  <a:pathLst>
                    <a:path w="952" h="211">
                      <a:moveTo>
                        <a:pt x="0" y="0"/>
                      </a:moveTo>
                      <a:lnTo>
                        <a:pt x="952" y="113"/>
                      </a:lnTo>
                      <a:lnTo>
                        <a:pt x="952" y="211"/>
                      </a:lnTo>
                      <a:lnTo>
                        <a:pt x="0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270de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4786560" y="1815840"/>
                  <a:ext cx="94680" cy="543960"/>
                </a:xfrm>
                <a:custGeom>
                  <a:avLst/>
                  <a:gdLst/>
                  <a:ahLst/>
                  <a:rect l="l" t="t" r="r" b="b"/>
                  <a:pathLst>
                    <a:path w="47" h="215">
                      <a:moveTo>
                        <a:pt x="0" y="117"/>
                      </a:moveTo>
                      <a:lnTo>
                        <a:pt x="4" y="109"/>
                      </a:lnTo>
                      <a:lnTo>
                        <a:pt x="12" y="102"/>
                      </a:lnTo>
                      <a:lnTo>
                        <a:pt x="16" y="94"/>
                      </a:lnTo>
                      <a:lnTo>
                        <a:pt x="19" y="90"/>
                      </a:lnTo>
                      <a:lnTo>
                        <a:pt x="23" y="86"/>
                      </a:lnTo>
                      <a:lnTo>
                        <a:pt x="23" y="82"/>
                      </a:lnTo>
                      <a:lnTo>
                        <a:pt x="27" y="74"/>
                      </a:lnTo>
                      <a:lnTo>
                        <a:pt x="31" y="66"/>
                      </a:lnTo>
                      <a:lnTo>
                        <a:pt x="35" y="59"/>
                      </a:lnTo>
                      <a:lnTo>
                        <a:pt x="39" y="51"/>
                      </a:lnTo>
                      <a:lnTo>
                        <a:pt x="39" y="43"/>
                      </a:lnTo>
                      <a:lnTo>
                        <a:pt x="39" y="43"/>
                      </a:lnTo>
                      <a:lnTo>
                        <a:pt x="43" y="39"/>
                      </a:lnTo>
                      <a:lnTo>
                        <a:pt x="43" y="31"/>
                      </a:lnTo>
                      <a:lnTo>
                        <a:pt x="43" y="24"/>
                      </a:lnTo>
                      <a:lnTo>
                        <a:pt x="43" y="20"/>
                      </a:lnTo>
                      <a:lnTo>
                        <a:pt x="43" y="16"/>
                      </a:lnTo>
                      <a:lnTo>
                        <a:pt x="47" y="8"/>
                      </a:lnTo>
                      <a:lnTo>
                        <a:pt x="47" y="0"/>
                      </a:lnTo>
                      <a:lnTo>
                        <a:pt x="47" y="98"/>
                      </a:lnTo>
                      <a:lnTo>
                        <a:pt x="47" y="105"/>
                      </a:lnTo>
                      <a:lnTo>
                        <a:pt x="47" y="113"/>
                      </a:lnTo>
                      <a:lnTo>
                        <a:pt x="43" y="121"/>
                      </a:lnTo>
                      <a:lnTo>
                        <a:pt x="43" y="129"/>
                      </a:lnTo>
                      <a:lnTo>
                        <a:pt x="43" y="137"/>
                      </a:lnTo>
                      <a:lnTo>
                        <a:pt x="39" y="144"/>
                      </a:lnTo>
                      <a:lnTo>
                        <a:pt x="39" y="148"/>
                      </a:lnTo>
                      <a:lnTo>
                        <a:pt x="35" y="156"/>
                      </a:lnTo>
                      <a:lnTo>
                        <a:pt x="31" y="164"/>
                      </a:lnTo>
                      <a:lnTo>
                        <a:pt x="27" y="172"/>
                      </a:lnTo>
                      <a:lnTo>
                        <a:pt x="23" y="180"/>
                      </a:lnTo>
                      <a:lnTo>
                        <a:pt x="19" y="187"/>
                      </a:lnTo>
                      <a:lnTo>
                        <a:pt x="16" y="191"/>
                      </a:lnTo>
                      <a:lnTo>
                        <a:pt x="12" y="199"/>
                      </a:lnTo>
                      <a:lnTo>
                        <a:pt x="4" y="207"/>
                      </a:lnTo>
                      <a:lnTo>
                        <a:pt x="0" y="215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02858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2868840" y="1815840"/>
                  <a:ext cx="1254240" cy="1017000"/>
                </a:xfrm>
                <a:custGeom>
                  <a:avLst/>
                  <a:gdLst/>
                  <a:ahLst/>
                  <a:rect l="l" t="t" r="r" b="b"/>
                  <a:pathLst>
                    <a:path w="620" h="402">
                      <a:moveTo>
                        <a:pt x="0" y="0"/>
                      </a:moveTo>
                      <a:lnTo>
                        <a:pt x="620" y="304"/>
                      </a:lnTo>
                      <a:lnTo>
                        <a:pt x="620" y="402"/>
                      </a:lnTo>
                      <a:lnTo>
                        <a:pt x="0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8f47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4123440" y="2112120"/>
                  <a:ext cx="663120" cy="720720"/>
                </a:xfrm>
                <a:custGeom>
                  <a:avLst/>
                  <a:gdLst/>
                  <a:ahLst/>
                  <a:rect l="l" t="t" r="r" b="b"/>
                  <a:pathLst>
                    <a:path w="328" h="285">
                      <a:moveTo>
                        <a:pt x="0" y="187"/>
                      </a:moveTo>
                      <a:lnTo>
                        <a:pt x="31" y="180"/>
                      </a:lnTo>
                      <a:lnTo>
                        <a:pt x="55" y="168"/>
                      </a:lnTo>
                      <a:lnTo>
                        <a:pt x="82" y="160"/>
                      </a:lnTo>
                      <a:lnTo>
                        <a:pt x="110" y="148"/>
                      </a:lnTo>
                      <a:lnTo>
                        <a:pt x="133" y="137"/>
                      </a:lnTo>
                      <a:lnTo>
                        <a:pt x="156" y="125"/>
                      </a:lnTo>
                      <a:lnTo>
                        <a:pt x="180" y="113"/>
                      </a:lnTo>
                      <a:lnTo>
                        <a:pt x="199" y="106"/>
                      </a:lnTo>
                      <a:lnTo>
                        <a:pt x="207" y="98"/>
                      </a:lnTo>
                      <a:lnTo>
                        <a:pt x="219" y="90"/>
                      </a:lnTo>
                      <a:lnTo>
                        <a:pt x="238" y="78"/>
                      </a:lnTo>
                      <a:lnTo>
                        <a:pt x="246" y="74"/>
                      </a:lnTo>
                      <a:lnTo>
                        <a:pt x="258" y="66"/>
                      </a:lnTo>
                      <a:lnTo>
                        <a:pt x="266" y="59"/>
                      </a:lnTo>
                      <a:lnTo>
                        <a:pt x="273" y="55"/>
                      </a:lnTo>
                      <a:lnTo>
                        <a:pt x="289" y="39"/>
                      </a:lnTo>
                      <a:lnTo>
                        <a:pt x="297" y="35"/>
                      </a:lnTo>
                      <a:lnTo>
                        <a:pt x="305" y="27"/>
                      </a:lnTo>
                      <a:lnTo>
                        <a:pt x="308" y="20"/>
                      </a:lnTo>
                      <a:lnTo>
                        <a:pt x="316" y="16"/>
                      </a:lnTo>
                      <a:lnTo>
                        <a:pt x="324" y="8"/>
                      </a:lnTo>
                      <a:lnTo>
                        <a:pt x="328" y="0"/>
                      </a:lnTo>
                      <a:lnTo>
                        <a:pt x="328" y="98"/>
                      </a:lnTo>
                      <a:lnTo>
                        <a:pt x="324" y="106"/>
                      </a:lnTo>
                      <a:lnTo>
                        <a:pt x="316" y="113"/>
                      </a:lnTo>
                      <a:lnTo>
                        <a:pt x="308" y="117"/>
                      </a:lnTo>
                      <a:lnTo>
                        <a:pt x="305" y="125"/>
                      </a:lnTo>
                      <a:lnTo>
                        <a:pt x="297" y="133"/>
                      </a:lnTo>
                      <a:lnTo>
                        <a:pt x="289" y="137"/>
                      </a:lnTo>
                      <a:lnTo>
                        <a:pt x="281" y="145"/>
                      </a:lnTo>
                      <a:lnTo>
                        <a:pt x="273" y="152"/>
                      </a:lnTo>
                      <a:lnTo>
                        <a:pt x="266" y="156"/>
                      </a:lnTo>
                      <a:lnTo>
                        <a:pt x="258" y="164"/>
                      </a:lnTo>
                      <a:lnTo>
                        <a:pt x="246" y="172"/>
                      </a:lnTo>
                      <a:lnTo>
                        <a:pt x="238" y="176"/>
                      </a:lnTo>
                      <a:lnTo>
                        <a:pt x="230" y="184"/>
                      </a:lnTo>
                      <a:lnTo>
                        <a:pt x="219" y="191"/>
                      </a:lnTo>
                      <a:lnTo>
                        <a:pt x="211" y="195"/>
                      </a:lnTo>
                      <a:lnTo>
                        <a:pt x="199" y="199"/>
                      </a:lnTo>
                      <a:lnTo>
                        <a:pt x="188" y="207"/>
                      </a:lnTo>
                      <a:lnTo>
                        <a:pt x="180" y="211"/>
                      </a:lnTo>
                      <a:lnTo>
                        <a:pt x="168" y="219"/>
                      </a:lnTo>
                      <a:lnTo>
                        <a:pt x="156" y="223"/>
                      </a:lnTo>
                      <a:lnTo>
                        <a:pt x="145" y="230"/>
                      </a:lnTo>
                      <a:lnTo>
                        <a:pt x="133" y="234"/>
                      </a:lnTo>
                      <a:lnTo>
                        <a:pt x="121" y="242"/>
                      </a:lnTo>
                      <a:lnTo>
                        <a:pt x="110" y="246"/>
                      </a:lnTo>
                      <a:lnTo>
                        <a:pt x="94" y="250"/>
                      </a:lnTo>
                      <a:lnTo>
                        <a:pt x="82" y="258"/>
                      </a:lnTo>
                      <a:lnTo>
                        <a:pt x="71" y="262"/>
                      </a:lnTo>
                      <a:lnTo>
                        <a:pt x="55" y="265"/>
                      </a:lnTo>
                      <a:lnTo>
                        <a:pt x="43" y="269"/>
                      </a:lnTo>
                      <a:lnTo>
                        <a:pt x="35" y="273"/>
                      </a:lnTo>
                      <a:lnTo>
                        <a:pt x="31" y="277"/>
                      </a:lnTo>
                      <a:lnTo>
                        <a:pt x="16" y="281"/>
                      </a:lnTo>
                      <a:lnTo>
                        <a:pt x="0" y="285"/>
                      </a:lnTo>
                      <a:lnTo>
                        <a:pt x="0" y="187"/>
                      </a:lnTo>
                      <a:close/>
                    </a:path>
                  </a:pathLst>
                </a:custGeom>
                <a:solidFill>
                  <a:srgbClr val="028502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871920" y="1815840"/>
                  <a:ext cx="1996920" cy="394560"/>
                </a:xfrm>
                <a:custGeom>
                  <a:avLst/>
                  <a:gdLst/>
                  <a:ahLst/>
                  <a:rect l="l" t="t" r="r" b="b"/>
                  <a:pathLst>
                    <a:path w="987" h="156">
                      <a:moveTo>
                        <a:pt x="987" y="0"/>
                      </a:moveTo>
                      <a:lnTo>
                        <a:pt x="0" y="59"/>
                      </a:lnTo>
                      <a:lnTo>
                        <a:pt x="0" y="156"/>
                      </a:lnTo>
                      <a:lnTo>
                        <a:pt x="987" y="98"/>
                      </a:lnTo>
                      <a:lnTo>
                        <a:pt x="987" y="0"/>
                      </a:lnTo>
                      <a:close/>
                    </a:path>
                  </a:pathLst>
                </a:custGeom>
                <a:solidFill>
                  <a:srgbClr val="0202e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847800" y="1815840"/>
                  <a:ext cx="24120" cy="404640"/>
                </a:xfrm>
                <a:custGeom>
                  <a:avLst/>
                  <a:gdLst/>
                  <a:ahLst/>
                  <a:rect l="l" t="t" r="r" b="b"/>
                  <a:pathLst>
                    <a:path w="12" h="16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4" y="24"/>
                      </a:lnTo>
                      <a:lnTo>
                        <a:pt x="4" y="31"/>
                      </a:lnTo>
                      <a:lnTo>
                        <a:pt x="4" y="39"/>
                      </a:lnTo>
                      <a:lnTo>
                        <a:pt x="8" y="47"/>
                      </a:lnTo>
                      <a:lnTo>
                        <a:pt x="12" y="55"/>
                      </a:lnTo>
                      <a:lnTo>
                        <a:pt x="12" y="63"/>
                      </a:lnTo>
                      <a:lnTo>
                        <a:pt x="12" y="160"/>
                      </a:lnTo>
                      <a:lnTo>
                        <a:pt x="12" y="152"/>
                      </a:lnTo>
                      <a:lnTo>
                        <a:pt x="8" y="144"/>
                      </a:lnTo>
                      <a:lnTo>
                        <a:pt x="8" y="137"/>
                      </a:lnTo>
                      <a:lnTo>
                        <a:pt x="4" y="129"/>
                      </a:lnTo>
                      <a:lnTo>
                        <a:pt x="4" y="125"/>
                      </a:lnTo>
                      <a:lnTo>
                        <a:pt x="4" y="121"/>
                      </a:lnTo>
                      <a:lnTo>
                        <a:pt x="4" y="117"/>
                      </a:lnTo>
                      <a:lnTo>
                        <a:pt x="4" y="113"/>
                      </a:lnTo>
                      <a:lnTo>
                        <a:pt x="0" y="109"/>
                      </a:lnTo>
                      <a:lnTo>
                        <a:pt x="0" y="105"/>
                      </a:lnTo>
                      <a:lnTo>
                        <a:pt x="0" y="102"/>
                      </a:lnTo>
                      <a:lnTo>
                        <a:pt x="0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2419920" y="1815840"/>
                  <a:ext cx="448920" cy="1214280"/>
                </a:xfrm>
                <a:custGeom>
                  <a:avLst/>
                  <a:gdLst/>
                  <a:ahLst/>
                  <a:rect l="l" t="t" r="r" b="b"/>
                  <a:pathLst>
                    <a:path w="222" h="480">
                      <a:moveTo>
                        <a:pt x="222" y="0"/>
                      </a:moveTo>
                      <a:lnTo>
                        <a:pt x="0" y="382"/>
                      </a:lnTo>
                      <a:lnTo>
                        <a:pt x="0" y="480"/>
                      </a:lnTo>
                      <a:lnTo>
                        <a:pt x="222" y="98"/>
                      </a:lnTo>
                      <a:lnTo>
                        <a:pt x="222" y="0"/>
                      </a:lnTo>
                      <a:close/>
                    </a:path>
                  </a:pathLst>
                </a:custGeom>
                <a:solidFill>
                  <a:srgbClr val="001a3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871920" y="1974600"/>
                  <a:ext cx="1531080" cy="1045440"/>
                </a:xfrm>
                <a:custGeom>
                  <a:avLst/>
                  <a:gdLst/>
                  <a:ahLst/>
                  <a:rect l="l" t="t" r="r" b="b"/>
                  <a:pathLst>
                    <a:path w="757" h="413">
                      <a:moveTo>
                        <a:pt x="0" y="0"/>
                      </a:moveTo>
                      <a:lnTo>
                        <a:pt x="4" y="7"/>
                      </a:lnTo>
                      <a:lnTo>
                        <a:pt x="8" y="15"/>
                      </a:lnTo>
                      <a:lnTo>
                        <a:pt x="12" y="19"/>
                      </a:lnTo>
                      <a:lnTo>
                        <a:pt x="16" y="27"/>
                      </a:lnTo>
                      <a:lnTo>
                        <a:pt x="20" y="35"/>
                      </a:lnTo>
                      <a:lnTo>
                        <a:pt x="27" y="42"/>
                      </a:lnTo>
                      <a:lnTo>
                        <a:pt x="31" y="50"/>
                      </a:lnTo>
                      <a:lnTo>
                        <a:pt x="35" y="58"/>
                      </a:lnTo>
                      <a:lnTo>
                        <a:pt x="43" y="62"/>
                      </a:lnTo>
                      <a:lnTo>
                        <a:pt x="47" y="70"/>
                      </a:lnTo>
                      <a:lnTo>
                        <a:pt x="55" y="78"/>
                      </a:lnTo>
                      <a:lnTo>
                        <a:pt x="62" y="85"/>
                      </a:lnTo>
                      <a:lnTo>
                        <a:pt x="66" y="89"/>
                      </a:lnTo>
                      <a:lnTo>
                        <a:pt x="74" y="97"/>
                      </a:lnTo>
                      <a:lnTo>
                        <a:pt x="82" y="105"/>
                      </a:lnTo>
                      <a:lnTo>
                        <a:pt x="90" y="109"/>
                      </a:lnTo>
                      <a:lnTo>
                        <a:pt x="101" y="117"/>
                      </a:lnTo>
                      <a:lnTo>
                        <a:pt x="109" y="124"/>
                      </a:lnTo>
                      <a:lnTo>
                        <a:pt x="117" y="128"/>
                      </a:lnTo>
                      <a:lnTo>
                        <a:pt x="125" y="136"/>
                      </a:lnTo>
                      <a:lnTo>
                        <a:pt x="137" y="140"/>
                      </a:lnTo>
                      <a:lnTo>
                        <a:pt x="144" y="148"/>
                      </a:lnTo>
                      <a:lnTo>
                        <a:pt x="156" y="156"/>
                      </a:lnTo>
                      <a:lnTo>
                        <a:pt x="164" y="160"/>
                      </a:lnTo>
                      <a:lnTo>
                        <a:pt x="176" y="167"/>
                      </a:lnTo>
                      <a:lnTo>
                        <a:pt x="179" y="167"/>
                      </a:lnTo>
                      <a:lnTo>
                        <a:pt x="187" y="171"/>
                      </a:lnTo>
                      <a:lnTo>
                        <a:pt x="199" y="175"/>
                      </a:lnTo>
                      <a:lnTo>
                        <a:pt x="203" y="179"/>
                      </a:lnTo>
                      <a:lnTo>
                        <a:pt x="207" y="183"/>
                      </a:lnTo>
                      <a:lnTo>
                        <a:pt x="218" y="187"/>
                      </a:lnTo>
                      <a:lnTo>
                        <a:pt x="234" y="195"/>
                      </a:lnTo>
                      <a:lnTo>
                        <a:pt x="246" y="199"/>
                      </a:lnTo>
                      <a:lnTo>
                        <a:pt x="257" y="202"/>
                      </a:lnTo>
                      <a:lnTo>
                        <a:pt x="269" y="210"/>
                      </a:lnTo>
                      <a:lnTo>
                        <a:pt x="281" y="214"/>
                      </a:lnTo>
                      <a:lnTo>
                        <a:pt x="297" y="218"/>
                      </a:lnTo>
                      <a:lnTo>
                        <a:pt x="308" y="226"/>
                      </a:lnTo>
                      <a:lnTo>
                        <a:pt x="320" y="230"/>
                      </a:lnTo>
                      <a:lnTo>
                        <a:pt x="336" y="234"/>
                      </a:lnTo>
                      <a:lnTo>
                        <a:pt x="351" y="238"/>
                      </a:lnTo>
                      <a:lnTo>
                        <a:pt x="363" y="241"/>
                      </a:lnTo>
                      <a:lnTo>
                        <a:pt x="378" y="249"/>
                      </a:lnTo>
                      <a:lnTo>
                        <a:pt x="394" y="249"/>
                      </a:lnTo>
                      <a:lnTo>
                        <a:pt x="406" y="257"/>
                      </a:lnTo>
                      <a:lnTo>
                        <a:pt x="421" y="261"/>
                      </a:lnTo>
                      <a:lnTo>
                        <a:pt x="453" y="269"/>
                      </a:lnTo>
                      <a:lnTo>
                        <a:pt x="484" y="277"/>
                      </a:lnTo>
                      <a:lnTo>
                        <a:pt x="515" y="280"/>
                      </a:lnTo>
                      <a:lnTo>
                        <a:pt x="550" y="288"/>
                      </a:lnTo>
                      <a:lnTo>
                        <a:pt x="566" y="292"/>
                      </a:lnTo>
                      <a:lnTo>
                        <a:pt x="573" y="292"/>
                      </a:lnTo>
                      <a:lnTo>
                        <a:pt x="581" y="296"/>
                      </a:lnTo>
                      <a:lnTo>
                        <a:pt x="601" y="296"/>
                      </a:lnTo>
                      <a:lnTo>
                        <a:pt x="616" y="300"/>
                      </a:lnTo>
                      <a:lnTo>
                        <a:pt x="632" y="304"/>
                      </a:lnTo>
                      <a:lnTo>
                        <a:pt x="652" y="304"/>
                      </a:lnTo>
                      <a:lnTo>
                        <a:pt x="687" y="312"/>
                      </a:lnTo>
                      <a:lnTo>
                        <a:pt x="702" y="312"/>
                      </a:lnTo>
                      <a:lnTo>
                        <a:pt x="722" y="316"/>
                      </a:lnTo>
                      <a:lnTo>
                        <a:pt x="730" y="316"/>
                      </a:lnTo>
                      <a:lnTo>
                        <a:pt x="741" y="316"/>
                      </a:lnTo>
                      <a:lnTo>
                        <a:pt x="757" y="319"/>
                      </a:lnTo>
                      <a:lnTo>
                        <a:pt x="757" y="413"/>
                      </a:lnTo>
                      <a:lnTo>
                        <a:pt x="722" y="413"/>
                      </a:lnTo>
                      <a:lnTo>
                        <a:pt x="687" y="409"/>
                      </a:lnTo>
                      <a:lnTo>
                        <a:pt x="652" y="401"/>
                      </a:lnTo>
                      <a:lnTo>
                        <a:pt x="616" y="397"/>
                      </a:lnTo>
                      <a:lnTo>
                        <a:pt x="581" y="394"/>
                      </a:lnTo>
                      <a:lnTo>
                        <a:pt x="550" y="386"/>
                      </a:lnTo>
                      <a:lnTo>
                        <a:pt x="515" y="378"/>
                      </a:lnTo>
                      <a:lnTo>
                        <a:pt x="484" y="374"/>
                      </a:lnTo>
                      <a:lnTo>
                        <a:pt x="453" y="366"/>
                      </a:lnTo>
                      <a:lnTo>
                        <a:pt x="421" y="358"/>
                      </a:lnTo>
                      <a:lnTo>
                        <a:pt x="394" y="351"/>
                      </a:lnTo>
                      <a:lnTo>
                        <a:pt x="363" y="339"/>
                      </a:lnTo>
                      <a:lnTo>
                        <a:pt x="336" y="331"/>
                      </a:lnTo>
                      <a:lnTo>
                        <a:pt x="308" y="323"/>
                      </a:lnTo>
                      <a:lnTo>
                        <a:pt x="281" y="312"/>
                      </a:lnTo>
                      <a:lnTo>
                        <a:pt x="269" y="308"/>
                      </a:lnTo>
                      <a:lnTo>
                        <a:pt x="257" y="300"/>
                      </a:lnTo>
                      <a:lnTo>
                        <a:pt x="246" y="296"/>
                      </a:lnTo>
                      <a:lnTo>
                        <a:pt x="234" y="292"/>
                      </a:lnTo>
                      <a:lnTo>
                        <a:pt x="218" y="284"/>
                      </a:lnTo>
                      <a:lnTo>
                        <a:pt x="211" y="280"/>
                      </a:lnTo>
                      <a:lnTo>
                        <a:pt x="187" y="269"/>
                      </a:lnTo>
                      <a:lnTo>
                        <a:pt x="164" y="257"/>
                      </a:lnTo>
                      <a:lnTo>
                        <a:pt x="156" y="249"/>
                      </a:lnTo>
                      <a:lnTo>
                        <a:pt x="144" y="245"/>
                      </a:lnTo>
                      <a:lnTo>
                        <a:pt x="125" y="234"/>
                      </a:lnTo>
                      <a:lnTo>
                        <a:pt x="117" y="226"/>
                      </a:lnTo>
                      <a:lnTo>
                        <a:pt x="109" y="222"/>
                      </a:lnTo>
                      <a:lnTo>
                        <a:pt x="101" y="214"/>
                      </a:lnTo>
                      <a:lnTo>
                        <a:pt x="90" y="206"/>
                      </a:lnTo>
                      <a:lnTo>
                        <a:pt x="82" y="202"/>
                      </a:lnTo>
                      <a:lnTo>
                        <a:pt x="74" y="195"/>
                      </a:lnTo>
                      <a:lnTo>
                        <a:pt x="66" y="187"/>
                      </a:lnTo>
                      <a:lnTo>
                        <a:pt x="62" y="183"/>
                      </a:lnTo>
                      <a:lnTo>
                        <a:pt x="55" y="175"/>
                      </a:lnTo>
                      <a:lnTo>
                        <a:pt x="47" y="167"/>
                      </a:lnTo>
                      <a:lnTo>
                        <a:pt x="43" y="160"/>
                      </a:lnTo>
                      <a:lnTo>
                        <a:pt x="35" y="156"/>
                      </a:lnTo>
                      <a:lnTo>
                        <a:pt x="31" y="148"/>
                      </a:lnTo>
                      <a:lnTo>
                        <a:pt x="27" y="140"/>
                      </a:lnTo>
                      <a:lnTo>
                        <a:pt x="20" y="132"/>
                      </a:lnTo>
                      <a:lnTo>
                        <a:pt x="16" y="124"/>
                      </a:lnTo>
                      <a:lnTo>
                        <a:pt x="16" y="120"/>
                      </a:lnTo>
                      <a:lnTo>
                        <a:pt x="12" y="117"/>
                      </a:lnTo>
                      <a:lnTo>
                        <a:pt x="8" y="113"/>
                      </a:lnTo>
                      <a:lnTo>
                        <a:pt x="4" y="105"/>
                      </a:lnTo>
                      <a:lnTo>
                        <a:pt x="4" y="101"/>
                      </a:lnTo>
                      <a:lnTo>
                        <a:pt x="0" y="9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58502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2403360" y="2584800"/>
                  <a:ext cx="1719720" cy="465840"/>
                </a:xfrm>
                <a:custGeom>
                  <a:avLst/>
                  <a:gdLst/>
                  <a:ahLst/>
                  <a:rect l="l" t="t" r="r" b="b"/>
                  <a:pathLst>
                    <a:path w="850" h="184">
                      <a:moveTo>
                        <a:pt x="0" y="78"/>
                      </a:moveTo>
                      <a:lnTo>
                        <a:pt x="15" y="78"/>
                      </a:lnTo>
                      <a:lnTo>
                        <a:pt x="27" y="78"/>
                      </a:lnTo>
                      <a:lnTo>
                        <a:pt x="58" y="82"/>
                      </a:lnTo>
                      <a:lnTo>
                        <a:pt x="86" y="82"/>
                      </a:lnTo>
                      <a:lnTo>
                        <a:pt x="113" y="86"/>
                      </a:lnTo>
                      <a:lnTo>
                        <a:pt x="129" y="86"/>
                      </a:lnTo>
                      <a:lnTo>
                        <a:pt x="140" y="86"/>
                      </a:lnTo>
                      <a:lnTo>
                        <a:pt x="156" y="86"/>
                      </a:lnTo>
                      <a:lnTo>
                        <a:pt x="171" y="86"/>
                      </a:lnTo>
                      <a:lnTo>
                        <a:pt x="199" y="86"/>
                      </a:lnTo>
                      <a:lnTo>
                        <a:pt x="214" y="86"/>
                      </a:lnTo>
                      <a:lnTo>
                        <a:pt x="230" y="86"/>
                      </a:lnTo>
                      <a:lnTo>
                        <a:pt x="273" y="86"/>
                      </a:lnTo>
                      <a:lnTo>
                        <a:pt x="316" y="86"/>
                      </a:lnTo>
                      <a:lnTo>
                        <a:pt x="359" y="82"/>
                      </a:lnTo>
                      <a:lnTo>
                        <a:pt x="402" y="82"/>
                      </a:lnTo>
                      <a:lnTo>
                        <a:pt x="445" y="78"/>
                      </a:lnTo>
                      <a:lnTo>
                        <a:pt x="484" y="75"/>
                      </a:lnTo>
                      <a:lnTo>
                        <a:pt x="523" y="71"/>
                      </a:lnTo>
                      <a:lnTo>
                        <a:pt x="565" y="63"/>
                      </a:lnTo>
                      <a:lnTo>
                        <a:pt x="605" y="59"/>
                      </a:lnTo>
                      <a:lnTo>
                        <a:pt x="644" y="51"/>
                      </a:lnTo>
                      <a:lnTo>
                        <a:pt x="679" y="43"/>
                      </a:lnTo>
                      <a:lnTo>
                        <a:pt x="714" y="36"/>
                      </a:lnTo>
                      <a:lnTo>
                        <a:pt x="749" y="28"/>
                      </a:lnTo>
                      <a:lnTo>
                        <a:pt x="784" y="20"/>
                      </a:lnTo>
                      <a:lnTo>
                        <a:pt x="819" y="8"/>
                      </a:lnTo>
                      <a:lnTo>
                        <a:pt x="850" y="0"/>
                      </a:lnTo>
                      <a:lnTo>
                        <a:pt x="850" y="98"/>
                      </a:lnTo>
                      <a:lnTo>
                        <a:pt x="835" y="102"/>
                      </a:lnTo>
                      <a:lnTo>
                        <a:pt x="819" y="106"/>
                      </a:lnTo>
                      <a:lnTo>
                        <a:pt x="803" y="114"/>
                      </a:lnTo>
                      <a:lnTo>
                        <a:pt x="784" y="117"/>
                      </a:lnTo>
                      <a:lnTo>
                        <a:pt x="768" y="121"/>
                      </a:lnTo>
                      <a:lnTo>
                        <a:pt x="753" y="125"/>
                      </a:lnTo>
                      <a:lnTo>
                        <a:pt x="733" y="129"/>
                      </a:lnTo>
                      <a:lnTo>
                        <a:pt x="714" y="133"/>
                      </a:lnTo>
                      <a:lnTo>
                        <a:pt x="698" y="137"/>
                      </a:lnTo>
                      <a:lnTo>
                        <a:pt x="679" y="141"/>
                      </a:lnTo>
                      <a:lnTo>
                        <a:pt x="659" y="145"/>
                      </a:lnTo>
                      <a:lnTo>
                        <a:pt x="644" y="149"/>
                      </a:lnTo>
                      <a:lnTo>
                        <a:pt x="624" y="153"/>
                      </a:lnTo>
                      <a:lnTo>
                        <a:pt x="605" y="156"/>
                      </a:lnTo>
                      <a:lnTo>
                        <a:pt x="585" y="156"/>
                      </a:lnTo>
                      <a:lnTo>
                        <a:pt x="565" y="160"/>
                      </a:lnTo>
                      <a:lnTo>
                        <a:pt x="554" y="164"/>
                      </a:lnTo>
                      <a:lnTo>
                        <a:pt x="546" y="164"/>
                      </a:lnTo>
                      <a:lnTo>
                        <a:pt x="526" y="168"/>
                      </a:lnTo>
                      <a:lnTo>
                        <a:pt x="503" y="168"/>
                      </a:lnTo>
                      <a:lnTo>
                        <a:pt x="484" y="172"/>
                      </a:lnTo>
                      <a:lnTo>
                        <a:pt x="464" y="172"/>
                      </a:lnTo>
                      <a:lnTo>
                        <a:pt x="452" y="172"/>
                      </a:lnTo>
                      <a:lnTo>
                        <a:pt x="445" y="176"/>
                      </a:lnTo>
                      <a:lnTo>
                        <a:pt x="421" y="176"/>
                      </a:lnTo>
                      <a:lnTo>
                        <a:pt x="402" y="176"/>
                      </a:lnTo>
                      <a:lnTo>
                        <a:pt x="390" y="180"/>
                      </a:lnTo>
                      <a:lnTo>
                        <a:pt x="378" y="180"/>
                      </a:lnTo>
                      <a:lnTo>
                        <a:pt x="359" y="180"/>
                      </a:lnTo>
                      <a:lnTo>
                        <a:pt x="335" y="180"/>
                      </a:lnTo>
                      <a:lnTo>
                        <a:pt x="316" y="184"/>
                      </a:lnTo>
                      <a:lnTo>
                        <a:pt x="292" y="184"/>
                      </a:lnTo>
                      <a:lnTo>
                        <a:pt x="273" y="184"/>
                      </a:lnTo>
                      <a:lnTo>
                        <a:pt x="250" y="184"/>
                      </a:lnTo>
                      <a:lnTo>
                        <a:pt x="230" y="184"/>
                      </a:lnTo>
                      <a:lnTo>
                        <a:pt x="199" y="184"/>
                      </a:lnTo>
                      <a:lnTo>
                        <a:pt x="171" y="184"/>
                      </a:lnTo>
                      <a:lnTo>
                        <a:pt x="140" y="184"/>
                      </a:lnTo>
                      <a:lnTo>
                        <a:pt x="113" y="180"/>
                      </a:lnTo>
                      <a:lnTo>
                        <a:pt x="86" y="180"/>
                      </a:lnTo>
                      <a:lnTo>
                        <a:pt x="58" y="180"/>
                      </a:lnTo>
                      <a:lnTo>
                        <a:pt x="27" y="176"/>
                      </a:lnTo>
                      <a:lnTo>
                        <a:pt x="0" y="172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3438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2403360" y="828720"/>
                  <a:ext cx="2478240" cy="987120"/>
                </a:xfrm>
                <a:custGeom>
                  <a:avLst/>
                  <a:gdLst/>
                  <a:ahLst/>
                  <a:rect l="l" t="t" r="r" b="b"/>
                  <a:pathLst>
                    <a:path w="1225" h="390">
                      <a:moveTo>
                        <a:pt x="1225" y="390"/>
                      </a:moveTo>
                      <a:lnTo>
                        <a:pt x="1225" y="378"/>
                      </a:lnTo>
                      <a:lnTo>
                        <a:pt x="1221" y="371"/>
                      </a:lnTo>
                      <a:lnTo>
                        <a:pt x="1221" y="359"/>
                      </a:lnTo>
                      <a:lnTo>
                        <a:pt x="1217" y="351"/>
                      </a:lnTo>
                      <a:lnTo>
                        <a:pt x="1217" y="339"/>
                      </a:lnTo>
                      <a:lnTo>
                        <a:pt x="1213" y="332"/>
                      </a:lnTo>
                      <a:lnTo>
                        <a:pt x="1209" y="320"/>
                      </a:lnTo>
                      <a:lnTo>
                        <a:pt x="1205" y="312"/>
                      </a:lnTo>
                      <a:lnTo>
                        <a:pt x="1197" y="300"/>
                      </a:lnTo>
                      <a:lnTo>
                        <a:pt x="1194" y="293"/>
                      </a:lnTo>
                      <a:lnTo>
                        <a:pt x="1186" y="281"/>
                      </a:lnTo>
                      <a:lnTo>
                        <a:pt x="1178" y="273"/>
                      </a:lnTo>
                      <a:lnTo>
                        <a:pt x="1170" y="265"/>
                      </a:lnTo>
                      <a:lnTo>
                        <a:pt x="1162" y="254"/>
                      </a:lnTo>
                      <a:lnTo>
                        <a:pt x="1155" y="246"/>
                      </a:lnTo>
                      <a:lnTo>
                        <a:pt x="1147" y="238"/>
                      </a:lnTo>
                      <a:lnTo>
                        <a:pt x="1139" y="234"/>
                      </a:lnTo>
                      <a:lnTo>
                        <a:pt x="1135" y="230"/>
                      </a:lnTo>
                      <a:lnTo>
                        <a:pt x="1127" y="218"/>
                      </a:lnTo>
                      <a:lnTo>
                        <a:pt x="1116" y="211"/>
                      </a:lnTo>
                      <a:lnTo>
                        <a:pt x="1108" y="207"/>
                      </a:lnTo>
                      <a:lnTo>
                        <a:pt x="1104" y="203"/>
                      </a:lnTo>
                      <a:lnTo>
                        <a:pt x="1092" y="195"/>
                      </a:lnTo>
                      <a:lnTo>
                        <a:pt x="1084" y="191"/>
                      </a:lnTo>
                      <a:lnTo>
                        <a:pt x="1080" y="187"/>
                      </a:lnTo>
                      <a:lnTo>
                        <a:pt x="1065" y="179"/>
                      </a:lnTo>
                      <a:lnTo>
                        <a:pt x="1053" y="172"/>
                      </a:lnTo>
                      <a:lnTo>
                        <a:pt x="1045" y="168"/>
                      </a:lnTo>
                      <a:lnTo>
                        <a:pt x="1041" y="164"/>
                      </a:lnTo>
                      <a:lnTo>
                        <a:pt x="1026" y="156"/>
                      </a:lnTo>
                      <a:lnTo>
                        <a:pt x="1010" y="148"/>
                      </a:lnTo>
                      <a:lnTo>
                        <a:pt x="995" y="140"/>
                      </a:lnTo>
                      <a:lnTo>
                        <a:pt x="979" y="133"/>
                      </a:lnTo>
                      <a:lnTo>
                        <a:pt x="963" y="129"/>
                      </a:lnTo>
                      <a:lnTo>
                        <a:pt x="948" y="121"/>
                      </a:lnTo>
                      <a:lnTo>
                        <a:pt x="932" y="113"/>
                      </a:lnTo>
                      <a:lnTo>
                        <a:pt x="913" y="109"/>
                      </a:lnTo>
                      <a:lnTo>
                        <a:pt x="897" y="101"/>
                      </a:lnTo>
                      <a:lnTo>
                        <a:pt x="881" y="94"/>
                      </a:lnTo>
                      <a:lnTo>
                        <a:pt x="862" y="90"/>
                      </a:lnTo>
                      <a:lnTo>
                        <a:pt x="842" y="82"/>
                      </a:lnTo>
                      <a:lnTo>
                        <a:pt x="823" y="78"/>
                      </a:lnTo>
                      <a:lnTo>
                        <a:pt x="803" y="70"/>
                      </a:lnTo>
                      <a:lnTo>
                        <a:pt x="784" y="66"/>
                      </a:lnTo>
                      <a:lnTo>
                        <a:pt x="764" y="62"/>
                      </a:lnTo>
                      <a:lnTo>
                        <a:pt x="745" y="55"/>
                      </a:lnTo>
                      <a:lnTo>
                        <a:pt x="725" y="51"/>
                      </a:lnTo>
                      <a:lnTo>
                        <a:pt x="714" y="47"/>
                      </a:lnTo>
                      <a:lnTo>
                        <a:pt x="702" y="47"/>
                      </a:lnTo>
                      <a:lnTo>
                        <a:pt x="683" y="43"/>
                      </a:lnTo>
                      <a:lnTo>
                        <a:pt x="659" y="39"/>
                      </a:lnTo>
                      <a:lnTo>
                        <a:pt x="640" y="35"/>
                      </a:lnTo>
                      <a:lnTo>
                        <a:pt x="616" y="31"/>
                      </a:lnTo>
                      <a:lnTo>
                        <a:pt x="593" y="27"/>
                      </a:lnTo>
                      <a:lnTo>
                        <a:pt x="569" y="23"/>
                      </a:lnTo>
                      <a:lnTo>
                        <a:pt x="546" y="20"/>
                      </a:lnTo>
                      <a:lnTo>
                        <a:pt x="523" y="20"/>
                      </a:lnTo>
                      <a:lnTo>
                        <a:pt x="499" y="16"/>
                      </a:lnTo>
                      <a:lnTo>
                        <a:pt x="487" y="12"/>
                      </a:lnTo>
                      <a:lnTo>
                        <a:pt x="476" y="12"/>
                      </a:lnTo>
                      <a:lnTo>
                        <a:pt x="452" y="12"/>
                      </a:lnTo>
                      <a:lnTo>
                        <a:pt x="429" y="8"/>
                      </a:lnTo>
                      <a:lnTo>
                        <a:pt x="406" y="8"/>
                      </a:lnTo>
                      <a:lnTo>
                        <a:pt x="378" y="4"/>
                      </a:lnTo>
                      <a:lnTo>
                        <a:pt x="367" y="4"/>
                      </a:lnTo>
                      <a:lnTo>
                        <a:pt x="355" y="4"/>
                      </a:lnTo>
                      <a:lnTo>
                        <a:pt x="343" y="4"/>
                      </a:lnTo>
                      <a:lnTo>
                        <a:pt x="331" y="4"/>
                      </a:lnTo>
                      <a:lnTo>
                        <a:pt x="304" y="0"/>
                      </a:lnTo>
                      <a:lnTo>
                        <a:pt x="292" y="0"/>
                      </a:lnTo>
                      <a:lnTo>
                        <a:pt x="277" y="0"/>
                      </a:lnTo>
                      <a:lnTo>
                        <a:pt x="265" y="0"/>
                      </a:lnTo>
                      <a:lnTo>
                        <a:pt x="253" y="0"/>
                      </a:lnTo>
                      <a:lnTo>
                        <a:pt x="226" y="0"/>
                      </a:lnTo>
                      <a:lnTo>
                        <a:pt x="199" y="0"/>
                      </a:lnTo>
                      <a:lnTo>
                        <a:pt x="168" y="0"/>
                      </a:lnTo>
                      <a:lnTo>
                        <a:pt x="140" y="4"/>
                      </a:lnTo>
                      <a:lnTo>
                        <a:pt x="109" y="4"/>
                      </a:lnTo>
                      <a:lnTo>
                        <a:pt x="82" y="4"/>
                      </a:lnTo>
                      <a:lnTo>
                        <a:pt x="54" y="8"/>
                      </a:lnTo>
                      <a:lnTo>
                        <a:pt x="27" y="8"/>
                      </a:lnTo>
                      <a:lnTo>
                        <a:pt x="0" y="12"/>
                      </a:lnTo>
                      <a:lnTo>
                        <a:pt x="230" y="390"/>
                      </a:lnTo>
                      <a:lnTo>
                        <a:pt x="1225" y="39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847800" y="858960"/>
                  <a:ext cx="2021040" cy="1115640"/>
                </a:xfrm>
                <a:custGeom>
                  <a:avLst/>
                  <a:gdLst/>
                  <a:ahLst/>
                  <a:rect l="l" t="t" r="r" b="b"/>
                  <a:pathLst>
                    <a:path w="999" h="441">
                      <a:moveTo>
                        <a:pt x="769" y="0"/>
                      </a:moveTo>
                      <a:lnTo>
                        <a:pt x="726" y="4"/>
                      </a:lnTo>
                      <a:lnTo>
                        <a:pt x="687" y="8"/>
                      </a:lnTo>
                      <a:lnTo>
                        <a:pt x="648" y="15"/>
                      </a:lnTo>
                      <a:lnTo>
                        <a:pt x="609" y="19"/>
                      </a:lnTo>
                      <a:lnTo>
                        <a:pt x="570" y="27"/>
                      </a:lnTo>
                      <a:lnTo>
                        <a:pt x="550" y="31"/>
                      </a:lnTo>
                      <a:lnTo>
                        <a:pt x="535" y="35"/>
                      </a:lnTo>
                      <a:lnTo>
                        <a:pt x="500" y="43"/>
                      </a:lnTo>
                      <a:lnTo>
                        <a:pt x="461" y="50"/>
                      </a:lnTo>
                      <a:lnTo>
                        <a:pt x="445" y="54"/>
                      </a:lnTo>
                      <a:lnTo>
                        <a:pt x="429" y="58"/>
                      </a:lnTo>
                      <a:lnTo>
                        <a:pt x="410" y="62"/>
                      </a:lnTo>
                      <a:lnTo>
                        <a:pt x="394" y="70"/>
                      </a:lnTo>
                      <a:lnTo>
                        <a:pt x="379" y="74"/>
                      </a:lnTo>
                      <a:lnTo>
                        <a:pt x="363" y="78"/>
                      </a:lnTo>
                      <a:lnTo>
                        <a:pt x="332" y="89"/>
                      </a:lnTo>
                      <a:lnTo>
                        <a:pt x="301" y="101"/>
                      </a:lnTo>
                      <a:lnTo>
                        <a:pt x="289" y="105"/>
                      </a:lnTo>
                      <a:lnTo>
                        <a:pt x="273" y="113"/>
                      </a:lnTo>
                      <a:lnTo>
                        <a:pt x="262" y="117"/>
                      </a:lnTo>
                      <a:lnTo>
                        <a:pt x="246" y="125"/>
                      </a:lnTo>
                      <a:lnTo>
                        <a:pt x="219" y="136"/>
                      </a:lnTo>
                      <a:lnTo>
                        <a:pt x="195" y="148"/>
                      </a:lnTo>
                      <a:lnTo>
                        <a:pt x="184" y="156"/>
                      </a:lnTo>
                      <a:lnTo>
                        <a:pt x="172" y="160"/>
                      </a:lnTo>
                      <a:lnTo>
                        <a:pt x="160" y="167"/>
                      </a:lnTo>
                      <a:lnTo>
                        <a:pt x="149" y="175"/>
                      </a:lnTo>
                      <a:lnTo>
                        <a:pt x="137" y="183"/>
                      </a:lnTo>
                      <a:lnTo>
                        <a:pt x="129" y="191"/>
                      </a:lnTo>
                      <a:lnTo>
                        <a:pt x="117" y="195"/>
                      </a:lnTo>
                      <a:lnTo>
                        <a:pt x="110" y="203"/>
                      </a:lnTo>
                      <a:lnTo>
                        <a:pt x="98" y="210"/>
                      </a:lnTo>
                      <a:lnTo>
                        <a:pt x="90" y="218"/>
                      </a:lnTo>
                      <a:lnTo>
                        <a:pt x="82" y="226"/>
                      </a:lnTo>
                      <a:lnTo>
                        <a:pt x="74" y="234"/>
                      </a:lnTo>
                      <a:lnTo>
                        <a:pt x="67" y="242"/>
                      </a:lnTo>
                      <a:lnTo>
                        <a:pt x="59" y="249"/>
                      </a:lnTo>
                      <a:lnTo>
                        <a:pt x="51" y="257"/>
                      </a:lnTo>
                      <a:lnTo>
                        <a:pt x="47" y="265"/>
                      </a:lnTo>
                      <a:lnTo>
                        <a:pt x="39" y="273"/>
                      </a:lnTo>
                      <a:lnTo>
                        <a:pt x="39" y="277"/>
                      </a:lnTo>
                      <a:lnTo>
                        <a:pt x="35" y="281"/>
                      </a:lnTo>
                      <a:lnTo>
                        <a:pt x="28" y="288"/>
                      </a:lnTo>
                      <a:lnTo>
                        <a:pt x="24" y="296"/>
                      </a:lnTo>
                      <a:lnTo>
                        <a:pt x="24" y="300"/>
                      </a:lnTo>
                      <a:lnTo>
                        <a:pt x="20" y="304"/>
                      </a:lnTo>
                      <a:lnTo>
                        <a:pt x="20" y="308"/>
                      </a:lnTo>
                      <a:lnTo>
                        <a:pt x="16" y="308"/>
                      </a:lnTo>
                      <a:lnTo>
                        <a:pt x="16" y="312"/>
                      </a:lnTo>
                      <a:lnTo>
                        <a:pt x="16" y="316"/>
                      </a:lnTo>
                      <a:lnTo>
                        <a:pt x="12" y="320"/>
                      </a:lnTo>
                      <a:lnTo>
                        <a:pt x="8" y="327"/>
                      </a:lnTo>
                      <a:lnTo>
                        <a:pt x="8" y="335"/>
                      </a:lnTo>
                      <a:lnTo>
                        <a:pt x="4" y="343"/>
                      </a:lnTo>
                      <a:lnTo>
                        <a:pt x="4" y="347"/>
                      </a:lnTo>
                      <a:lnTo>
                        <a:pt x="4" y="351"/>
                      </a:lnTo>
                      <a:lnTo>
                        <a:pt x="4" y="355"/>
                      </a:lnTo>
                      <a:lnTo>
                        <a:pt x="4" y="359"/>
                      </a:lnTo>
                      <a:lnTo>
                        <a:pt x="4" y="363"/>
                      </a:lnTo>
                      <a:lnTo>
                        <a:pt x="0" y="366"/>
                      </a:lnTo>
                      <a:lnTo>
                        <a:pt x="0" y="370"/>
                      </a:lnTo>
                      <a:lnTo>
                        <a:pt x="0" y="374"/>
                      </a:lnTo>
                      <a:lnTo>
                        <a:pt x="0" y="378"/>
                      </a:lnTo>
                      <a:lnTo>
                        <a:pt x="0" y="386"/>
                      </a:lnTo>
                      <a:lnTo>
                        <a:pt x="0" y="394"/>
                      </a:lnTo>
                      <a:lnTo>
                        <a:pt x="4" y="402"/>
                      </a:lnTo>
                      <a:lnTo>
                        <a:pt x="4" y="409"/>
                      </a:lnTo>
                      <a:lnTo>
                        <a:pt x="4" y="417"/>
                      </a:lnTo>
                      <a:lnTo>
                        <a:pt x="8" y="425"/>
                      </a:lnTo>
                      <a:lnTo>
                        <a:pt x="12" y="433"/>
                      </a:lnTo>
                      <a:lnTo>
                        <a:pt x="12" y="441"/>
                      </a:lnTo>
                      <a:lnTo>
                        <a:pt x="999" y="378"/>
                      </a:lnTo>
                      <a:lnTo>
                        <a:pt x="769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871920" y="1815840"/>
                  <a:ext cx="1996920" cy="966240"/>
                </a:xfrm>
                <a:custGeom>
                  <a:avLst/>
                  <a:gdLst/>
                  <a:ahLst/>
                  <a:rect l="l" t="t" r="r" b="b"/>
                  <a:pathLst>
                    <a:path w="987" h="382">
                      <a:moveTo>
                        <a:pt x="0" y="63"/>
                      </a:moveTo>
                      <a:lnTo>
                        <a:pt x="4" y="70"/>
                      </a:lnTo>
                      <a:lnTo>
                        <a:pt x="8" y="78"/>
                      </a:lnTo>
                      <a:lnTo>
                        <a:pt x="12" y="82"/>
                      </a:lnTo>
                      <a:lnTo>
                        <a:pt x="16" y="90"/>
                      </a:lnTo>
                      <a:lnTo>
                        <a:pt x="20" y="98"/>
                      </a:lnTo>
                      <a:lnTo>
                        <a:pt x="27" y="105"/>
                      </a:lnTo>
                      <a:lnTo>
                        <a:pt x="31" y="113"/>
                      </a:lnTo>
                      <a:lnTo>
                        <a:pt x="35" y="121"/>
                      </a:lnTo>
                      <a:lnTo>
                        <a:pt x="43" y="125"/>
                      </a:lnTo>
                      <a:lnTo>
                        <a:pt x="47" y="133"/>
                      </a:lnTo>
                      <a:lnTo>
                        <a:pt x="55" y="141"/>
                      </a:lnTo>
                      <a:lnTo>
                        <a:pt x="62" y="148"/>
                      </a:lnTo>
                      <a:lnTo>
                        <a:pt x="66" y="152"/>
                      </a:lnTo>
                      <a:lnTo>
                        <a:pt x="74" y="160"/>
                      </a:lnTo>
                      <a:lnTo>
                        <a:pt x="82" y="168"/>
                      </a:lnTo>
                      <a:lnTo>
                        <a:pt x="90" y="172"/>
                      </a:lnTo>
                      <a:lnTo>
                        <a:pt x="101" y="180"/>
                      </a:lnTo>
                      <a:lnTo>
                        <a:pt x="109" y="187"/>
                      </a:lnTo>
                      <a:lnTo>
                        <a:pt x="117" y="191"/>
                      </a:lnTo>
                      <a:lnTo>
                        <a:pt x="125" y="199"/>
                      </a:lnTo>
                      <a:lnTo>
                        <a:pt x="137" y="203"/>
                      </a:lnTo>
                      <a:lnTo>
                        <a:pt x="144" y="211"/>
                      </a:lnTo>
                      <a:lnTo>
                        <a:pt x="156" y="219"/>
                      </a:lnTo>
                      <a:lnTo>
                        <a:pt x="164" y="223"/>
                      </a:lnTo>
                      <a:lnTo>
                        <a:pt x="176" y="230"/>
                      </a:lnTo>
                      <a:lnTo>
                        <a:pt x="179" y="230"/>
                      </a:lnTo>
                      <a:lnTo>
                        <a:pt x="187" y="234"/>
                      </a:lnTo>
                      <a:lnTo>
                        <a:pt x="199" y="238"/>
                      </a:lnTo>
                      <a:lnTo>
                        <a:pt x="203" y="242"/>
                      </a:lnTo>
                      <a:lnTo>
                        <a:pt x="207" y="246"/>
                      </a:lnTo>
                      <a:lnTo>
                        <a:pt x="218" y="250"/>
                      </a:lnTo>
                      <a:lnTo>
                        <a:pt x="234" y="258"/>
                      </a:lnTo>
                      <a:lnTo>
                        <a:pt x="246" y="262"/>
                      </a:lnTo>
                      <a:lnTo>
                        <a:pt x="257" y="265"/>
                      </a:lnTo>
                      <a:lnTo>
                        <a:pt x="269" y="273"/>
                      </a:lnTo>
                      <a:lnTo>
                        <a:pt x="281" y="277"/>
                      </a:lnTo>
                      <a:lnTo>
                        <a:pt x="297" y="281"/>
                      </a:lnTo>
                      <a:lnTo>
                        <a:pt x="308" y="289"/>
                      </a:lnTo>
                      <a:lnTo>
                        <a:pt x="320" y="293"/>
                      </a:lnTo>
                      <a:lnTo>
                        <a:pt x="336" y="297"/>
                      </a:lnTo>
                      <a:lnTo>
                        <a:pt x="351" y="301"/>
                      </a:lnTo>
                      <a:lnTo>
                        <a:pt x="363" y="304"/>
                      </a:lnTo>
                      <a:lnTo>
                        <a:pt x="378" y="312"/>
                      </a:lnTo>
                      <a:lnTo>
                        <a:pt x="394" y="312"/>
                      </a:lnTo>
                      <a:lnTo>
                        <a:pt x="406" y="320"/>
                      </a:lnTo>
                      <a:lnTo>
                        <a:pt x="421" y="324"/>
                      </a:lnTo>
                      <a:lnTo>
                        <a:pt x="453" y="332"/>
                      </a:lnTo>
                      <a:lnTo>
                        <a:pt x="484" y="340"/>
                      </a:lnTo>
                      <a:lnTo>
                        <a:pt x="515" y="343"/>
                      </a:lnTo>
                      <a:lnTo>
                        <a:pt x="550" y="351"/>
                      </a:lnTo>
                      <a:lnTo>
                        <a:pt x="566" y="355"/>
                      </a:lnTo>
                      <a:lnTo>
                        <a:pt x="573" y="355"/>
                      </a:lnTo>
                      <a:lnTo>
                        <a:pt x="581" y="359"/>
                      </a:lnTo>
                      <a:lnTo>
                        <a:pt x="601" y="359"/>
                      </a:lnTo>
                      <a:lnTo>
                        <a:pt x="616" y="363"/>
                      </a:lnTo>
                      <a:lnTo>
                        <a:pt x="632" y="367"/>
                      </a:lnTo>
                      <a:lnTo>
                        <a:pt x="652" y="367"/>
                      </a:lnTo>
                      <a:lnTo>
                        <a:pt x="687" y="375"/>
                      </a:lnTo>
                      <a:lnTo>
                        <a:pt x="702" y="375"/>
                      </a:lnTo>
                      <a:lnTo>
                        <a:pt x="722" y="379"/>
                      </a:lnTo>
                      <a:lnTo>
                        <a:pt x="730" y="379"/>
                      </a:lnTo>
                      <a:lnTo>
                        <a:pt x="741" y="379"/>
                      </a:lnTo>
                      <a:lnTo>
                        <a:pt x="757" y="382"/>
                      </a:lnTo>
                      <a:lnTo>
                        <a:pt x="987" y="0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2403360" y="1815840"/>
                  <a:ext cx="1719720" cy="986400"/>
                </a:xfrm>
                <a:custGeom>
                  <a:avLst/>
                  <a:gdLst/>
                  <a:ahLst/>
                  <a:rect l="l" t="t" r="r" b="b"/>
                  <a:pathLst>
                    <a:path w="850" h="390">
                      <a:moveTo>
                        <a:pt x="0" y="382"/>
                      </a:moveTo>
                      <a:lnTo>
                        <a:pt x="15" y="382"/>
                      </a:lnTo>
                      <a:lnTo>
                        <a:pt x="27" y="382"/>
                      </a:lnTo>
                      <a:lnTo>
                        <a:pt x="58" y="386"/>
                      </a:lnTo>
                      <a:lnTo>
                        <a:pt x="86" y="386"/>
                      </a:lnTo>
                      <a:lnTo>
                        <a:pt x="113" y="390"/>
                      </a:lnTo>
                      <a:lnTo>
                        <a:pt x="129" y="390"/>
                      </a:lnTo>
                      <a:lnTo>
                        <a:pt x="140" y="390"/>
                      </a:lnTo>
                      <a:lnTo>
                        <a:pt x="156" y="390"/>
                      </a:lnTo>
                      <a:lnTo>
                        <a:pt x="171" y="390"/>
                      </a:lnTo>
                      <a:lnTo>
                        <a:pt x="199" y="390"/>
                      </a:lnTo>
                      <a:lnTo>
                        <a:pt x="214" y="390"/>
                      </a:lnTo>
                      <a:lnTo>
                        <a:pt x="230" y="390"/>
                      </a:lnTo>
                      <a:lnTo>
                        <a:pt x="273" y="390"/>
                      </a:lnTo>
                      <a:lnTo>
                        <a:pt x="316" y="390"/>
                      </a:lnTo>
                      <a:lnTo>
                        <a:pt x="359" y="386"/>
                      </a:lnTo>
                      <a:lnTo>
                        <a:pt x="402" y="386"/>
                      </a:lnTo>
                      <a:lnTo>
                        <a:pt x="445" y="382"/>
                      </a:lnTo>
                      <a:lnTo>
                        <a:pt x="484" y="379"/>
                      </a:lnTo>
                      <a:lnTo>
                        <a:pt x="523" y="375"/>
                      </a:lnTo>
                      <a:lnTo>
                        <a:pt x="565" y="367"/>
                      </a:lnTo>
                      <a:lnTo>
                        <a:pt x="605" y="363"/>
                      </a:lnTo>
                      <a:lnTo>
                        <a:pt x="644" y="355"/>
                      </a:lnTo>
                      <a:lnTo>
                        <a:pt x="679" y="347"/>
                      </a:lnTo>
                      <a:lnTo>
                        <a:pt x="714" y="340"/>
                      </a:lnTo>
                      <a:lnTo>
                        <a:pt x="749" y="332"/>
                      </a:lnTo>
                      <a:lnTo>
                        <a:pt x="784" y="324"/>
                      </a:lnTo>
                      <a:lnTo>
                        <a:pt x="819" y="312"/>
                      </a:lnTo>
                      <a:lnTo>
                        <a:pt x="850" y="304"/>
                      </a:lnTo>
                      <a:lnTo>
                        <a:pt x="230" y="0"/>
                      </a:lnTo>
                      <a:lnTo>
                        <a:pt x="0" y="382"/>
                      </a:lnTo>
                      <a:close/>
                    </a:path>
                  </a:pathLst>
                </a:custGeom>
                <a:solidFill>
                  <a:srgbClr val="0085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2868840" y="1815840"/>
                  <a:ext cx="1917360" cy="768960"/>
                </a:xfrm>
                <a:custGeom>
                  <a:avLst/>
                  <a:gdLst/>
                  <a:ahLst/>
                  <a:rect l="l" t="t" r="r" b="b"/>
                  <a:pathLst>
                    <a:path w="948" h="304">
                      <a:moveTo>
                        <a:pt x="620" y="304"/>
                      </a:moveTo>
                      <a:lnTo>
                        <a:pt x="651" y="297"/>
                      </a:lnTo>
                      <a:lnTo>
                        <a:pt x="675" y="285"/>
                      </a:lnTo>
                      <a:lnTo>
                        <a:pt x="702" y="277"/>
                      </a:lnTo>
                      <a:lnTo>
                        <a:pt x="730" y="265"/>
                      </a:lnTo>
                      <a:lnTo>
                        <a:pt x="753" y="254"/>
                      </a:lnTo>
                      <a:lnTo>
                        <a:pt x="776" y="242"/>
                      </a:lnTo>
                      <a:lnTo>
                        <a:pt x="800" y="230"/>
                      </a:lnTo>
                      <a:lnTo>
                        <a:pt x="819" y="223"/>
                      </a:lnTo>
                      <a:lnTo>
                        <a:pt x="827" y="215"/>
                      </a:lnTo>
                      <a:lnTo>
                        <a:pt x="839" y="207"/>
                      </a:lnTo>
                      <a:lnTo>
                        <a:pt x="858" y="195"/>
                      </a:lnTo>
                      <a:lnTo>
                        <a:pt x="866" y="191"/>
                      </a:lnTo>
                      <a:lnTo>
                        <a:pt x="878" y="183"/>
                      </a:lnTo>
                      <a:lnTo>
                        <a:pt x="886" y="176"/>
                      </a:lnTo>
                      <a:lnTo>
                        <a:pt x="893" y="172"/>
                      </a:lnTo>
                      <a:lnTo>
                        <a:pt x="909" y="156"/>
                      </a:lnTo>
                      <a:lnTo>
                        <a:pt x="917" y="152"/>
                      </a:lnTo>
                      <a:lnTo>
                        <a:pt x="925" y="144"/>
                      </a:lnTo>
                      <a:lnTo>
                        <a:pt x="928" y="137"/>
                      </a:lnTo>
                      <a:lnTo>
                        <a:pt x="936" y="133"/>
                      </a:lnTo>
                      <a:lnTo>
                        <a:pt x="944" y="125"/>
                      </a:lnTo>
                      <a:lnTo>
                        <a:pt x="948" y="117"/>
                      </a:lnTo>
                      <a:lnTo>
                        <a:pt x="0" y="0"/>
                      </a:lnTo>
                      <a:lnTo>
                        <a:pt x="620" y="304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2868840" y="1815840"/>
                  <a:ext cx="2012400" cy="295920"/>
                </a:xfrm>
                <a:custGeom>
                  <a:avLst/>
                  <a:gdLst/>
                  <a:ahLst/>
                  <a:rect l="l" t="t" r="r" b="b"/>
                  <a:pathLst>
                    <a:path w="995" h="117">
                      <a:moveTo>
                        <a:pt x="948" y="117"/>
                      </a:moveTo>
                      <a:lnTo>
                        <a:pt x="952" y="109"/>
                      </a:lnTo>
                      <a:lnTo>
                        <a:pt x="960" y="102"/>
                      </a:lnTo>
                      <a:lnTo>
                        <a:pt x="964" y="98"/>
                      </a:lnTo>
                      <a:lnTo>
                        <a:pt x="967" y="90"/>
                      </a:lnTo>
                      <a:lnTo>
                        <a:pt x="971" y="86"/>
                      </a:lnTo>
                      <a:lnTo>
                        <a:pt x="971" y="82"/>
                      </a:lnTo>
                      <a:lnTo>
                        <a:pt x="975" y="74"/>
                      </a:lnTo>
                      <a:lnTo>
                        <a:pt x="979" y="66"/>
                      </a:lnTo>
                      <a:lnTo>
                        <a:pt x="983" y="59"/>
                      </a:lnTo>
                      <a:lnTo>
                        <a:pt x="987" y="51"/>
                      </a:lnTo>
                      <a:lnTo>
                        <a:pt x="987" y="43"/>
                      </a:lnTo>
                      <a:lnTo>
                        <a:pt x="987" y="43"/>
                      </a:lnTo>
                      <a:lnTo>
                        <a:pt x="991" y="39"/>
                      </a:lnTo>
                      <a:lnTo>
                        <a:pt x="991" y="31"/>
                      </a:lnTo>
                      <a:lnTo>
                        <a:pt x="991" y="24"/>
                      </a:lnTo>
                      <a:lnTo>
                        <a:pt x="991" y="20"/>
                      </a:lnTo>
                      <a:lnTo>
                        <a:pt x="991" y="16"/>
                      </a:lnTo>
                      <a:lnTo>
                        <a:pt x="995" y="8"/>
                      </a:lnTo>
                      <a:lnTo>
                        <a:pt x="995" y="0"/>
                      </a:lnTo>
                      <a:lnTo>
                        <a:pt x="0" y="0"/>
                      </a:lnTo>
                      <a:lnTo>
                        <a:pt x="948" y="11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5" name=""/>
            <p:cNvSpPr/>
            <p:nvPr/>
          </p:nvSpPr>
          <p:spPr>
            <a:xfrm>
              <a:off x="619200" y="1427400"/>
              <a:ext cx="6637320" cy="5456520"/>
            </a:xfrm>
            <a:prstGeom prst="rect">
              <a:avLst/>
            </a:prstGeom>
            <a:noFill/>
            <a:ln w="0">
              <a:noFill/>
            </a:ln>
            <a:effectLst>
              <a:outerShdw dist="77353" dir="1136247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00ff"/>
                  </a:solidFill>
                  <a:latin typeface="Times New Roman"/>
                </a:rPr>
                <a:t>  </a:t>
              </a:r>
              <a:r>
                <a:rPr b="1" lang="en-US" sz="8800" spc="-1" strike="noStrike">
                  <a:solidFill>
                    <a:srgbClr val="00ffff"/>
                  </a:solidFill>
                  <a:latin typeface="Times New Roman"/>
                </a:rPr>
                <a:t>Pie 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00ff"/>
                  </a:solidFill>
                  <a:latin typeface="Times New Roman"/>
                </a:rPr>
                <a:t>      </a:t>
              </a:r>
              <a:r>
                <a:rPr b="1" lang="en-US" sz="8800" spc="-1" strike="noStrike">
                  <a:solidFill>
                    <a:srgbClr val="ff3300"/>
                  </a:solidFill>
                  <a:latin typeface="Times New Roman"/>
                </a:rPr>
                <a:t>Bar</a:t>
              </a:r>
              <a:r>
                <a:rPr b="1" lang="en-US" sz="8800" spc="-1" strike="noStrike">
                  <a:solidFill>
                    <a:srgbClr val="0000ff"/>
                  </a:solidFill>
                  <a:latin typeface="Times New Roman"/>
                </a:rPr>
                <a:t>                               </a:t>
              </a:r>
              <a:r>
                <a:rPr b="1" lang="en-US" sz="88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1" lang="en-US" sz="8800" spc="-1" strike="noStrike">
                  <a:solidFill>
                    <a:srgbClr val="0000ff"/>
                  </a:solidFill>
                  <a:latin typeface="Times New Roman"/>
                </a:rPr>
                <a:t>            </a:t>
              </a:r>
              <a:r>
                <a:rPr b="1" lang="en-US" sz="8800" spc="-1" strike="noStrike">
                  <a:solidFill>
                    <a:srgbClr val="00ff00"/>
                  </a:solidFill>
                  <a:latin typeface="Times New Roman"/>
                </a:rPr>
                <a:t>Line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 txBox="1"/>
          <p:nvPr/>
        </p:nvSpPr>
        <p:spPr>
          <a:xfrm>
            <a:off x="566640" y="1852560"/>
            <a:ext cx="8029800" cy="29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Times New Roman"/>
              </a:rPr>
              <a:t>Char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20360" y="5826240"/>
            <a:ext cx="768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d primarily for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Qualitative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0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4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8" dur="75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7192800" y="4591080"/>
            <a:ext cx="1013040" cy="457200"/>
            <a:chOff x="7192800" y="4591080"/>
            <a:chExt cx="1013040" cy="457200"/>
          </a:xfrm>
        </p:grpSpPr>
        <p:sp>
          <p:nvSpPr>
            <p:cNvPr id="919" name=""/>
            <p:cNvSpPr/>
            <p:nvPr/>
          </p:nvSpPr>
          <p:spPr>
            <a:xfrm>
              <a:off x="7192800" y="4591080"/>
              <a:ext cx="1013040" cy="207720"/>
            </a:xfrm>
            <a:prstGeom prst="rect">
              <a:avLst/>
            </a:prstGeom>
            <a:solidFill>
              <a:srgbClr val="e9e9e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192800" y="4591080"/>
              <a:ext cx="968400" cy="449280"/>
            </a:xfrm>
            <a:custGeom>
              <a:avLst/>
              <a:gdLst/>
              <a:ahLst/>
              <a:rect l="l" t="t" r="r" b="b"/>
              <a:pathLst>
                <a:path w="952" h="211">
                  <a:moveTo>
                    <a:pt x="0" y="0"/>
                  </a:moveTo>
                  <a:lnTo>
                    <a:pt x="952" y="113"/>
                  </a:lnTo>
                  <a:lnTo>
                    <a:pt x="952" y="211"/>
                  </a:lnTo>
                  <a:lnTo>
                    <a:pt x="0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70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58320" y="4591080"/>
              <a:ext cx="47520" cy="457200"/>
            </a:xfrm>
            <a:custGeom>
              <a:avLst/>
              <a:gdLst/>
              <a:ahLst/>
              <a:rect l="l" t="t" r="r" b="b"/>
              <a:pathLst>
                <a:path w="47" h="215">
                  <a:moveTo>
                    <a:pt x="0" y="117"/>
                  </a:moveTo>
                  <a:lnTo>
                    <a:pt x="4" y="109"/>
                  </a:lnTo>
                  <a:lnTo>
                    <a:pt x="12" y="102"/>
                  </a:lnTo>
                  <a:lnTo>
                    <a:pt x="16" y="94"/>
                  </a:lnTo>
                  <a:lnTo>
                    <a:pt x="19" y="90"/>
                  </a:lnTo>
                  <a:lnTo>
                    <a:pt x="23" y="86"/>
                  </a:lnTo>
                  <a:lnTo>
                    <a:pt x="23" y="82"/>
                  </a:lnTo>
                  <a:lnTo>
                    <a:pt x="27" y="74"/>
                  </a:lnTo>
                  <a:lnTo>
                    <a:pt x="31" y="66"/>
                  </a:lnTo>
                  <a:lnTo>
                    <a:pt x="35" y="59"/>
                  </a:lnTo>
                  <a:lnTo>
                    <a:pt x="39" y="51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43" y="39"/>
                  </a:lnTo>
                  <a:lnTo>
                    <a:pt x="43" y="31"/>
                  </a:lnTo>
                  <a:lnTo>
                    <a:pt x="43" y="24"/>
                  </a:lnTo>
                  <a:lnTo>
                    <a:pt x="43" y="20"/>
                  </a:lnTo>
                  <a:lnTo>
                    <a:pt x="43" y="16"/>
                  </a:lnTo>
                  <a:lnTo>
                    <a:pt x="47" y="8"/>
                  </a:lnTo>
                  <a:lnTo>
                    <a:pt x="47" y="0"/>
                  </a:lnTo>
                  <a:lnTo>
                    <a:pt x="47" y="98"/>
                  </a:lnTo>
                  <a:lnTo>
                    <a:pt x="47" y="105"/>
                  </a:lnTo>
                  <a:lnTo>
                    <a:pt x="47" y="113"/>
                  </a:lnTo>
                  <a:lnTo>
                    <a:pt x="43" y="121"/>
                  </a:lnTo>
                  <a:lnTo>
                    <a:pt x="43" y="129"/>
                  </a:lnTo>
                  <a:lnTo>
                    <a:pt x="43" y="137"/>
                  </a:lnTo>
                  <a:lnTo>
                    <a:pt x="39" y="144"/>
                  </a:lnTo>
                  <a:lnTo>
                    <a:pt x="39" y="148"/>
                  </a:lnTo>
                  <a:lnTo>
                    <a:pt x="35" y="156"/>
                  </a:lnTo>
                  <a:lnTo>
                    <a:pt x="31" y="164"/>
                  </a:lnTo>
                  <a:lnTo>
                    <a:pt x="27" y="172"/>
                  </a:lnTo>
                  <a:lnTo>
                    <a:pt x="23" y="180"/>
                  </a:lnTo>
                  <a:lnTo>
                    <a:pt x="19" y="187"/>
                  </a:lnTo>
                  <a:lnTo>
                    <a:pt x="16" y="191"/>
                  </a:lnTo>
                  <a:lnTo>
                    <a:pt x="12" y="199"/>
                  </a:lnTo>
                  <a:lnTo>
                    <a:pt x="4" y="207"/>
                  </a:lnTo>
                  <a:lnTo>
                    <a:pt x="0" y="215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02858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192800" y="4591080"/>
              <a:ext cx="1013040" cy="249120"/>
            </a:xfrm>
            <a:custGeom>
              <a:avLst/>
              <a:gdLst/>
              <a:ahLst/>
              <a:rect l="l" t="t" r="r" b="b"/>
              <a:pathLst>
                <a:path w="995" h="117">
                  <a:moveTo>
                    <a:pt x="948" y="117"/>
                  </a:moveTo>
                  <a:lnTo>
                    <a:pt x="952" y="109"/>
                  </a:lnTo>
                  <a:lnTo>
                    <a:pt x="960" y="102"/>
                  </a:lnTo>
                  <a:lnTo>
                    <a:pt x="964" y="98"/>
                  </a:lnTo>
                  <a:lnTo>
                    <a:pt x="967" y="90"/>
                  </a:lnTo>
                  <a:lnTo>
                    <a:pt x="971" y="86"/>
                  </a:lnTo>
                  <a:lnTo>
                    <a:pt x="971" y="82"/>
                  </a:lnTo>
                  <a:lnTo>
                    <a:pt x="975" y="74"/>
                  </a:lnTo>
                  <a:lnTo>
                    <a:pt x="979" y="66"/>
                  </a:lnTo>
                  <a:lnTo>
                    <a:pt x="983" y="59"/>
                  </a:lnTo>
                  <a:lnTo>
                    <a:pt x="987" y="51"/>
                  </a:lnTo>
                  <a:lnTo>
                    <a:pt x="987" y="43"/>
                  </a:lnTo>
                  <a:lnTo>
                    <a:pt x="987" y="43"/>
                  </a:lnTo>
                  <a:lnTo>
                    <a:pt x="991" y="39"/>
                  </a:lnTo>
                  <a:lnTo>
                    <a:pt x="991" y="31"/>
                  </a:lnTo>
                  <a:lnTo>
                    <a:pt x="991" y="24"/>
                  </a:lnTo>
                  <a:lnTo>
                    <a:pt x="991" y="20"/>
                  </a:lnTo>
                  <a:lnTo>
                    <a:pt x="991" y="16"/>
                  </a:lnTo>
                  <a:lnTo>
                    <a:pt x="995" y="8"/>
                  </a:lnTo>
                  <a:lnTo>
                    <a:pt x="995" y="0"/>
                  </a:lnTo>
                  <a:lnTo>
                    <a:pt x="0" y="0"/>
                  </a:lnTo>
                  <a:lnTo>
                    <a:pt x="948" y="117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954000" y="1811160"/>
            <a:ext cx="725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useful for displaying a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ative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quency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3565440" y="28440"/>
            <a:ext cx="2030400" cy="1871280"/>
            <a:chOff x="3565440" y="28440"/>
            <a:chExt cx="2030400" cy="1871280"/>
          </a:xfrm>
        </p:grpSpPr>
        <p:grpSp>
          <p:nvGrpSpPr>
            <p:cNvPr id="925" name=""/>
            <p:cNvGrpSpPr/>
            <p:nvPr/>
          </p:nvGrpSpPr>
          <p:grpSpPr>
            <a:xfrm>
              <a:off x="3565440" y="28440"/>
              <a:ext cx="2030400" cy="1871280"/>
              <a:chOff x="3565440" y="28440"/>
              <a:chExt cx="2030400" cy="1871280"/>
            </a:xfrm>
          </p:grpSpPr>
          <p:sp>
            <p:nvSpPr>
              <p:cNvPr id="926" name=""/>
              <p:cNvSpPr/>
              <p:nvPr/>
            </p:nvSpPr>
            <p:spPr>
              <a:xfrm>
                <a:off x="4582800" y="859680"/>
                <a:ext cx="1013040" cy="208800"/>
              </a:xfrm>
              <a:prstGeom prst="rect">
                <a:avLst/>
              </a:prstGeom>
              <a:solidFill>
                <a:srgbClr val="e9e9e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356720" y="54000"/>
                <a:ext cx="225720" cy="1014480"/>
              </a:xfrm>
              <a:custGeom>
                <a:avLst/>
                <a:gdLst/>
                <a:ahLst/>
                <a:rect l="l" t="t" r="r" b="b"/>
                <a:pathLst>
                  <a:path w="222" h="476">
                    <a:moveTo>
                      <a:pt x="222" y="378"/>
                    </a:moveTo>
                    <a:lnTo>
                      <a:pt x="0" y="0"/>
                    </a:lnTo>
                    <a:lnTo>
                      <a:pt x="0" y="97"/>
                    </a:lnTo>
                    <a:lnTo>
                      <a:pt x="222" y="476"/>
                    </a:lnTo>
                    <a:lnTo>
                      <a:pt x="222" y="378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582800" y="859680"/>
                <a:ext cx="969120" cy="449280"/>
              </a:xfrm>
              <a:custGeom>
                <a:avLst/>
                <a:gdLst/>
                <a:ahLst/>
                <a:rect l="l" t="t" r="r" b="b"/>
                <a:pathLst>
                  <a:path w="952" h="211">
                    <a:moveTo>
                      <a:pt x="0" y="0"/>
                    </a:moveTo>
                    <a:lnTo>
                      <a:pt x="952" y="113"/>
                    </a:lnTo>
                    <a:lnTo>
                      <a:pt x="952" y="211"/>
                    </a:lnTo>
                    <a:lnTo>
                      <a:pt x="0" y="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70d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547960" y="859680"/>
                <a:ext cx="47520" cy="457920"/>
              </a:xfrm>
              <a:custGeom>
                <a:avLst/>
                <a:gdLst/>
                <a:ahLst/>
                <a:rect l="l" t="t" r="r" b="b"/>
                <a:pathLst>
                  <a:path w="47" h="215">
                    <a:moveTo>
                      <a:pt x="0" y="117"/>
                    </a:moveTo>
                    <a:lnTo>
                      <a:pt x="4" y="109"/>
                    </a:lnTo>
                    <a:lnTo>
                      <a:pt x="12" y="102"/>
                    </a:lnTo>
                    <a:lnTo>
                      <a:pt x="16" y="94"/>
                    </a:lnTo>
                    <a:lnTo>
                      <a:pt x="19" y="90"/>
                    </a:lnTo>
                    <a:lnTo>
                      <a:pt x="23" y="86"/>
                    </a:lnTo>
                    <a:lnTo>
                      <a:pt x="23" y="82"/>
                    </a:lnTo>
                    <a:lnTo>
                      <a:pt x="27" y="74"/>
                    </a:lnTo>
                    <a:lnTo>
                      <a:pt x="31" y="66"/>
                    </a:lnTo>
                    <a:lnTo>
                      <a:pt x="35" y="59"/>
                    </a:lnTo>
                    <a:lnTo>
                      <a:pt x="39" y="51"/>
                    </a:lnTo>
                    <a:lnTo>
                      <a:pt x="39" y="43"/>
                    </a:lnTo>
                    <a:lnTo>
                      <a:pt x="39" y="43"/>
                    </a:lnTo>
                    <a:lnTo>
                      <a:pt x="43" y="39"/>
                    </a:lnTo>
                    <a:lnTo>
                      <a:pt x="43" y="31"/>
                    </a:lnTo>
                    <a:lnTo>
                      <a:pt x="43" y="24"/>
                    </a:lnTo>
                    <a:lnTo>
                      <a:pt x="43" y="20"/>
                    </a:lnTo>
                    <a:lnTo>
                      <a:pt x="43" y="16"/>
                    </a:lnTo>
                    <a:lnTo>
                      <a:pt x="47" y="8"/>
                    </a:lnTo>
                    <a:lnTo>
                      <a:pt x="47" y="0"/>
                    </a:lnTo>
                    <a:lnTo>
                      <a:pt x="47" y="98"/>
                    </a:lnTo>
                    <a:lnTo>
                      <a:pt x="47" y="105"/>
                    </a:lnTo>
                    <a:lnTo>
                      <a:pt x="47" y="113"/>
                    </a:lnTo>
                    <a:lnTo>
                      <a:pt x="43" y="121"/>
                    </a:lnTo>
                    <a:lnTo>
                      <a:pt x="43" y="129"/>
                    </a:lnTo>
                    <a:lnTo>
                      <a:pt x="43" y="137"/>
                    </a:lnTo>
                    <a:lnTo>
                      <a:pt x="39" y="144"/>
                    </a:lnTo>
                    <a:lnTo>
                      <a:pt x="39" y="148"/>
                    </a:lnTo>
                    <a:lnTo>
                      <a:pt x="35" y="156"/>
                    </a:lnTo>
                    <a:lnTo>
                      <a:pt x="31" y="164"/>
                    </a:lnTo>
                    <a:lnTo>
                      <a:pt x="27" y="172"/>
                    </a:lnTo>
                    <a:lnTo>
                      <a:pt x="23" y="180"/>
                    </a:lnTo>
                    <a:lnTo>
                      <a:pt x="19" y="187"/>
                    </a:lnTo>
                    <a:lnTo>
                      <a:pt x="16" y="191"/>
                    </a:lnTo>
                    <a:lnTo>
                      <a:pt x="12" y="199"/>
                    </a:lnTo>
                    <a:lnTo>
                      <a:pt x="4" y="207"/>
                    </a:lnTo>
                    <a:lnTo>
                      <a:pt x="0" y="215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2858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582800" y="859680"/>
                <a:ext cx="631080" cy="856440"/>
              </a:xfrm>
              <a:custGeom>
                <a:avLst/>
                <a:gdLst/>
                <a:ahLst/>
                <a:rect l="l" t="t" r="r" b="b"/>
                <a:pathLst>
                  <a:path w="620" h="402">
                    <a:moveTo>
                      <a:pt x="0" y="0"/>
                    </a:moveTo>
                    <a:lnTo>
                      <a:pt x="620" y="304"/>
                    </a:lnTo>
                    <a:lnTo>
                      <a:pt x="620" y="402"/>
                    </a:lnTo>
                    <a:lnTo>
                      <a:pt x="0" y="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4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214240" y="1109160"/>
                <a:ext cx="333720" cy="606960"/>
              </a:xfrm>
              <a:custGeom>
                <a:avLst/>
                <a:gdLst/>
                <a:ahLst/>
                <a:rect l="l" t="t" r="r" b="b"/>
                <a:pathLst>
                  <a:path w="328" h="285">
                    <a:moveTo>
                      <a:pt x="0" y="187"/>
                    </a:moveTo>
                    <a:lnTo>
                      <a:pt x="31" y="180"/>
                    </a:lnTo>
                    <a:lnTo>
                      <a:pt x="55" y="168"/>
                    </a:lnTo>
                    <a:lnTo>
                      <a:pt x="82" y="160"/>
                    </a:lnTo>
                    <a:lnTo>
                      <a:pt x="110" y="148"/>
                    </a:lnTo>
                    <a:lnTo>
                      <a:pt x="133" y="137"/>
                    </a:lnTo>
                    <a:lnTo>
                      <a:pt x="156" y="125"/>
                    </a:lnTo>
                    <a:lnTo>
                      <a:pt x="180" y="113"/>
                    </a:lnTo>
                    <a:lnTo>
                      <a:pt x="199" y="106"/>
                    </a:lnTo>
                    <a:lnTo>
                      <a:pt x="207" y="98"/>
                    </a:lnTo>
                    <a:lnTo>
                      <a:pt x="219" y="90"/>
                    </a:lnTo>
                    <a:lnTo>
                      <a:pt x="238" y="78"/>
                    </a:lnTo>
                    <a:lnTo>
                      <a:pt x="246" y="74"/>
                    </a:lnTo>
                    <a:lnTo>
                      <a:pt x="258" y="66"/>
                    </a:lnTo>
                    <a:lnTo>
                      <a:pt x="266" y="59"/>
                    </a:lnTo>
                    <a:lnTo>
                      <a:pt x="273" y="55"/>
                    </a:lnTo>
                    <a:lnTo>
                      <a:pt x="289" y="39"/>
                    </a:lnTo>
                    <a:lnTo>
                      <a:pt x="297" y="35"/>
                    </a:lnTo>
                    <a:lnTo>
                      <a:pt x="305" y="27"/>
                    </a:lnTo>
                    <a:lnTo>
                      <a:pt x="308" y="20"/>
                    </a:lnTo>
                    <a:lnTo>
                      <a:pt x="316" y="16"/>
                    </a:lnTo>
                    <a:lnTo>
                      <a:pt x="324" y="8"/>
                    </a:lnTo>
                    <a:lnTo>
                      <a:pt x="328" y="0"/>
                    </a:lnTo>
                    <a:lnTo>
                      <a:pt x="328" y="98"/>
                    </a:lnTo>
                    <a:lnTo>
                      <a:pt x="324" y="106"/>
                    </a:lnTo>
                    <a:lnTo>
                      <a:pt x="316" y="113"/>
                    </a:lnTo>
                    <a:lnTo>
                      <a:pt x="308" y="117"/>
                    </a:lnTo>
                    <a:lnTo>
                      <a:pt x="305" y="125"/>
                    </a:lnTo>
                    <a:lnTo>
                      <a:pt x="297" y="133"/>
                    </a:lnTo>
                    <a:lnTo>
                      <a:pt x="289" y="137"/>
                    </a:lnTo>
                    <a:lnTo>
                      <a:pt x="281" y="145"/>
                    </a:lnTo>
                    <a:lnTo>
                      <a:pt x="273" y="152"/>
                    </a:lnTo>
                    <a:lnTo>
                      <a:pt x="266" y="156"/>
                    </a:lnTo>
                    <a:lnTo>
                      <a:pt x="258" y="164"/>
                    </a:lnTo>
                    <a:lnTo>
                      <a:pt x="246" y="172"/>
                    </a:lnTo>
                    <a:lnTo>
                      <a:pt x="238" y="176"/>
                    </a:lnTo>
                    <a:lnTo>
                      <a:pt x="230" y="184"/>
                    </a:lnTo>
                    <a:lnTo>
                      <a:pt x="219" y="191"/>
                    </a:lnTo>
                    <a:lnTo>
                      <a:pt x="211" y="195"/>
                    </a:lnTo>
                    <a:lnTo>
                      <a:pt x="199" y="199"/>
                    </a:lnTo>
                    <a:lnTo>
                      <a:pt x="188" y="207"/>
                    </a:lnTo>
                    <a:lnTo>
                      <a:pt x="180" y="211"/>
                    </a:lnTo>
                    <a:lnTo>
                      <a:pt x="168" y="219"/>
                    </a:lnTo>
                    <a:lnTo>
                      <a:pt x="156" y="223"/>
                    </a:lnTo>
                    <a:lnTo>
                      <a:pt x="145" y="230"/>
                    </a:lnTo>
                    <a:lnTo>
                      <a:pt x="133" y="234"/>
                    </a:lnTo>
                    <a:lnTo>
                      <a:pt x="121" y="242"/>
                    </a:lnTo>
                    <a:lnTo>
                      <a:pt x="110" y="246"/>
                    </a:lnTo>
                    <a:lnTo>
                      <a:pt x="94" y="250"/>
                    </a:lnTo>
                    <a:lnTo>
                      <a:pt x="82" y="258"/>
                    </a:lnTo>
                    <a:lnTo>
                      <a:pt x="71" y="262"/>
                    </a:lnTo>
                    <a:lnTo>
                      <a:pt x="55" y="265"/>
                    </a:lnTo>
                    <a:lnTo>
                      <a:pt x="43" y="269"/>
                    </a:lnTo>
                    <a:lnTo>
                      <a:pt x="35" y="273"/>
                    </a:lnTo>
                    <a:lnTo>
                      <a:pt x="31" y="277"/>
                    </a:lnTo>
                    <a:lnTo>
                      <a:pt x="16" y="281"/>
                    </a:lnTo>
                    <a:lnTo>
                      <a:pt x="0" y="285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02850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577320" y="859680"/>
                <a:ext cx="1005120" cy="332280"/>
              </a:xfrm>
              <a:custGeom>
                <a:avLst/>
                <a:gdLst/>
                <a:ahLst/>
                <a:rect l="l" t="t" r="r" b="b"/>
                <a:pathLst>
                  <a:path w="987" h="156">
                    <a:moveTo>
                      <a:pt x="987" y="0"/>
                    </a:moveTo>
                    <a:lnTo>
                      <a:pt x="0" y="59"/>
                    </a:lnTo>
                    <a:lnTo>
                      <a:pt x="0" y="156"/>
                    </a:lnTo>
                    <a:lnTo>
                      <a:pt x="987" y="98"/>
                    </a:lnTo>
                    <a:lnTo>
                      <a:pt x="987" y="0"/>
                    </a:lnTo>
                    <a:close/>
                  </a:path>
                </a:pathLst>
              </a:custGeom>
              <a:solidFill>
                <a:srgbClr val="0202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565440" y="859680"/>
                <a:ext cx="11880" cy="340560"/>
              </a:xfrm>
              <a:custGeom>
                <a:avLst/>
                <a:gdLst/>
                <a:ahLst/>
                <a:rect l="l" t="t" r="r" b="b"/>
                <a:pathLst>
                  <a:path w="12" h="160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4" y="24"/>
                    </a:lnTo>
                    <a:lnTo>
                      <a:pt x="4" y="31"/>
                    </a:lnTo>
                    <a:lnTo>
                      <a:pt x="4" y="39"/>
                    </a:lnTo>
                    <a:lnTo>
                      <a:pt x="8" y="47"/>
                    </a:lnTo>
                    <a:lnTo>
                      <a:pt x="12" y="55"/>
                    </a:lnTo>
                    <a:lnTo>
                      <a:pt x="12" y="63"/>
                    </a:lnTo>
                    <a:lnTo>
                      <a:pt x="12" y="160"/>
                    </a:lnTo>
                    <a:lnTo>
                      <a:pt x="12" y="152"/>
                    </a:lnTo>
                    <a:lnTo>
                      <a:pt x="8" y="144"/>
                    </a:lnTo>
                    <a:lnTo>
                      <a:pt x="8" y="137"/>
                    </a:lnTo>
                    <a:lnTo>
                      <a:pt x="4" y="129"/>
                    </a:lnTo>
                    <a:lnTo>
                      <a:pt x="4" y="125"/>
                    </a:lnTo>
                    <a:lnTo>
                      <a:pt x="4" y="121"/>
                    </a:lnTo>
                    <a:lnTo>
                      <a:pt x="4" y="117"/>
                    </a:lnTo>
                    <a:lnTo>
                      <a:pt x="4" y="113"/>
                    </a:lnTo>
                    <a:lnTo>
                      <a:pt x="0" y="109"/>
                    </a:lnTo>
                    <a:lnTo>
                      <a:pt x="0" y="105"/>
                    </a:lnTo>
                    <a:lnTo>
                      <a:pt x="0" y="102"/>
                    </a:lnTo>
                    <a:lnTo>
                      <a:pt x="0" y="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356720" y="859680"/>
                <a:ext cx="225720" cy="1022760"/>
              </a:xfrm>
              <a:custGeom>
                <a:avLst/>
                <a:gdLst/>
                <a:ahLst/>
                <a:rect l="l" t="t" r="r" b="b"/>
                <a:pathLst>
                  <a:path w="222" h="480">
                    <a:moveTo>
                      <a:pt x="222" y="0"/>
                    </a:moveTo>
                    <a:lnTo>
                      <a:pt x="0" y="382"/>
                    </a:lnTo>
                    <a:lnTo>
                      <a:pt x="0" y="480"/>
                    </a:lnTo>
                    <a:lnTo>
                      <a:pt x="222" y="98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1a3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77320" y="993600"/>
                <a:ext cx="770760" cy="880560"/>
              </a:xfrm>
              <a:custGeom>
                <a:avLst/>
                <a:gdLst/>
                <a:ahLst/>
                <a:rect l="l" t="t" r="r" b="b"/>
                <a:pathLst>
                  <a:path w="757" h="413">
                    <a:moveTo>
                      <a:pt x="0" y="0"/>
                    </a:moveTo>
                    <a:lnTo>
                      <a:pt x="4" y="7"/>
                    </a:lnTo>
                    <a:lnTo>
                      <a:pt x="8" y="15"/>
                    </a:lnTo>
                    <a:lnTo>
                      <a:pt x="12" y="19"/>
                    </a:lnTo>
                    <a:lnTo>
                      <a:pt x="16" y="27"/>
                    </a:lnTo>
                    <a:lnTo>
                      <a:pt x="20" y="35"/>
                    </a:lnTo>
                    <a:lnTo>
                      <a:pt x="27" y="42"/>
                    </a:lnTo>
                    <a:lnTo>
                      <a:pt x="31" y="50"/>
                    </a:lnTo>
                    <a:lnTo>
                      <a:pt x="35" y="58"/>
                    </a:lnTo>
                    <a:lnTo>
                      <a:pt x="43" y="62"/>
                    </a:lnTo>
                    <a:lnTo>
                      <a:pt x="47" y="70"/>
                    </a:lnTo>
                    <a:lnTo>
                      <a:pt x="55" y="78"/>
                    </a:lnTo>
                    <a:lnTo>
                      <a:pt x="62" y="85"/>
                    </a:lnTo>
                    <a:lnTo>
                      <a:pt x="66" y="89"/>
                    </a:lnTo>
                    <a:lnTo>
                      <a:pt x="74" y="97"/>
                    </a:lnTo>
                    <a:lnTo>
                      <a:pt x="82" y="105"/>
                    </a:lnTo>
                    <a:lnTo>
                      <a:pt x="90" y="109"/>
                    </a:lnTo>
                    <a:lnTo>
                      <a:pt x="101" y="117"/>
                    </a:lnTo>
                    <a:lnTo>
                      <a:pt x="109" y="124"/>
                    </a:lnTo>
                    <a:lnTo>
                      <a:pt x="117" y="128"/>
                    </a:lnTo>
                    <a:lnTo>
                      <a:pt x="125" y="136"/>
                    </a:lnTo>
                    <a:lnTo>
                      <a:pt x="137" y="140"/>
                    </a:lnTo>
                    <a:lnTo>
                      <a:pt x="144" y="148"/>
                    </a:lnTo>
                    <a:lnTo>
                      <a:pt x="156" y="156"/>
                    </a:lnTo>
                    <a:lnTo>
                      <a:pt x="164" y="160"/>
                    </a:lnTo>
                    <a:lnTo>
                      <a:pt x="176" y="167"/>
                    </a:lnTo>
                    <a:lnTo>
                      <a:pt x="179" y="167"/>
                    </a:lnTo>
                    <a:lnTo>
                      <a:pt x="187" y="171"/>
                    </a:lnTo>
                    <a:lnTo>
                      <a:pt x="199" y="175"/>
                    </a:lnTo>
                    <a:lnTo>
                      <a:pt x="203" y="179"/>
                    </a:lnTo>
                    <a:lnTo>
                      <a:pt x="207" y="183"/>
                    </a:lnTo>
                    <a:lnTo>
                      <a:pt x="218" y="187"/>
                    </a:lnTo>
                    <a:lnTo>
                      <a:pt x="234" y="195"/>
                    </a:lnTo>
                    <a:lnTo>
                      <a:pt x="246" y="199"/>
                    </a:lnTo>
                    <a:lnTo>
                      <a:pt x="257" y="202"/>
                    </a:lnTo>
                    <a:lnTo>
                      <a:pt x="269" y="210"/>
                    </a:lnTo>
                    <a:lnTo>
                      <a:pt x="281" y="214"/>
                    </a:lnTo>
                    <a:lnTo>
                      <a:pt x="297" y="218"/>
                    </a:lnTo>
                    <a:lnTo>
                      <a:pt x="308" y="226"/>
                    </a:lnTo>
                    <a:lnTo>
                      <a:pt x="320" y="230"/>
                    </a:lnTo>
                    <a:lnTo>
                      <a:pt x="336" y="234"/>
                    </a:lnTo>
                    <a:lnTo>
                      <a:pt x="351" y="238"/>
                    </a:lnTo>
                    <a:lnTo>
                      <a:pt x="363" y="241"/>
                    </a:lnTo>
                    <a:lnTo>
                      <a:pt x="378" y="249"/>
                    </a:lnTo>
                    <a:lnTo>
                      <a:pt x="394" y="249"/>
                    </a:lnTo>
                    <a:lnTo>
                      <a:pt x="406" y="257"/>
                    </a:lnTo>
                    <a:lnTo>
                      <a:pt x="421" y="261"/>
                    </a:lnTo>
                    <a:lnTo>
                      <a:pt x="453" y="269"/>
                    </a:lnTo>
                    <a:lnTo>
                      <a:pt x="484" y="277"/>
                    </a:lnTo>
                    <a:lnTo>
                      <a:pt x="515" y="280"/>
                    </a:lnTo>
                    <a:lnTo>
                      <a:pt x="550" y="288"/>
                    </a:lnTo>
                    <a:lnTo>
                      <a:pt x="566" y="292"/>
                    </a:lnTo>
                    <a:lnTo>
                      <a:pt x="573" y="292"/>
                    </a:lnTo>
                    <a:lnTo>
                      <a:pt x="581" y="296"/>
                    </a:lnTo>
                    <a:lnTo>
                      <a:pt x="601" y="296"/>
                    </a:lnTo>
                    <a:lnTo>
                      <a:pt x="616" y="300"/>
                    </a:lnTo>
                    <a:lnTo>
                      <a:pt x="632" y="304"/>
                    </a:lnTo>
                    <a:lnTo>
                      <a:pt x="652" y="304"/>
                    </a:lnTo>
                    <a:lnTo>
                      <a:pt x="687" y="312"/>
                    </a:lnTo>
                    <a:lnTo>
                      <a:pt x="702" y="312"/>
                    </a:lnTo>
                    <a:lnTo>
                      <a:pt x="722" y="316"/>
                    </a:lnTo>
                    <a:lnTo>
                      <a:pt x="730" y="316"/>
                    </a:lnTo>
                    <a:lnTo>
                      <a:pt x="741" y="316"/>
                    </a:lnTo>
                    <a:lnTo>
                      <a:pt x="757" y="319"/>
                    </a:lnTo>
                    <a:lnTo>
                      <a:pt x="757" y="413"/>
                    </a:lnTo>
                    <a:lnTo>
                      <a:pt x="722" y="413"/>
                    </a:lnTo>
                    <a:lnTo>
                      <a:pt x="687" y="409"/>
                    </a:lnTo>
                    <a:lnTo>
                      <a:pt x="652" y="401"/>
                    </a:lnTo>
                    <a:lnTo>
                      <a:pt x="616" y="397"/>
                    </a:lnTo>
                    <a:lnTo>
                      <a:pt x="581" y="394"/>
                    </a:lnTo>
                    <a:lnTo>
                      <a:pt x="550" y="386"/>
                    </a:lnTo>
                    <a:lnTo>
                      <a:pt x="515" y="378"/>
                    </a:lnTo>
                    <a:lnTo>
                      <a:pt x="484" y="374"/>
                    </a:lnTo>
                    <a:lnTo>
                      <a:pt x="453" y="366"/>
                    </a:lnTo>
                    <a:lnTo>
                      <a:pt x="421" y="358"/>
                    </a:lnTo>
                    <a:lnTo>
                      <a:pt x="394" y="351"/>
                    </a:lnTo>
                    <a:lnTo>
                      <a:pt x="363" y="339"/>
                    </a:lnTo>
                    <a:lnTo>
                      <a:pt x="336" y="331"/>
                    </a:lnTo>
                    <a:lnTo>
                      <a:pt x="308" y="323"/>
                    </a:lnTo>
                    <a:lnTo>
                      <a:pt x="281" y="312"/>
                    </a:lnTo>
                    <a:lnTo>
                      <a:pt x="269" y="308"/>
                    </a:lnTo>
                    <a:lnTo>
                      <a:pt x="257" y="300"/>
                    </a:lnTo>
                    <a:lnTo>
                      <a:pt x="246" y="296"/>
                    </a:lnTo>
                    <a:lnTo>
                      <a:pt x="234" y="292"/>
                    </a:lnTo>
                    <a:lnTo>
                      <a:pt x="218" y="284"/>
                    </a:lnTo>
                    <a:lnTo>
                      <a:pt x="211" y="280"/>
                    </a:lnTo>
                    <a:lnTo>
                      <a:pt x="187" y="269"/>
                    </a:lnTo>
                    <a:lnTo>
                      <a:pt x="164" y="257"/>
                    </a:lnTo>
                    <a:lnTo>
                      <a:pt x="156" y="249"/>
                    </a:lnTo>
                    <a:lnTo>
                      <a:pt x="144" y="245"/>
                    </a:lnTo>
                    <a:lnTo>
                      <a:pt x="125" y="234"/>
                    </a:lnTo>
                    <a:lnTo>
                      <a:pt x="117" y="226"/>
                    </a:lnTo>
                    <a:lnTo>
                      <a:pt x="109" y="222"/>
                    </a:lnTo>
                    <a:lnTo>
                      <a:pt x="101" y="214"/>
                    </a:lnTo>
                    <a:lnTo>
                      <a:pt x="90" y="206"/>
                    </a:lnTo>
                    <a:lnTo>
                      <a:pt x="82" y="202"/>
                    </a:lnTo>
                    <a:lnTo>
                      <a:pt x="74" y="195"/>
                    </a:lnTo>
                    <a:lnTo>
                      <a:pt x="66" y="187"/>
                    </a:lnTo>
                    <a:lnTo>
                      <a:pt x="62" y="183"/>
                    </a:lnTo>
                    <a:lnTo>
                      <a:pt x="55" y="175"/>
                    </a:lnTo>
                    <a:lnTo>
                      <a:pt x="47" y="167"/>
                    </a:lnTo>
                    <a:lnTo>
                      <a:pt x="43" y="160"/>
                    </a:lnTo>
                    <a:lnTo>
                      <a:pt x="35" y="156"/>
                    </a:lnTo>
                    <a:lnTo>
                      <a:pt x="31" y="148"/>
                    </a:lnTo>
                    <a:lnTo>
                      <a:pt x="27" y="140"/>
                    </a:lnTo>
                    <a:lnTo>
                      <a:pt x="20" y="132"/>
                    </a:lnTo>
                    <a:lnTo>
                      <a:pt x="16" y="124"/>
                    </a:lnTo>
                    <a:lnTo>
                      <a:pt x="16" y="120"/>
                    </a:lnTo>
                    <a:lnTo>
                      <a:pt x="12" y="117"/>
                    </a:lnTo>
                    <a:lnTo>
                      <a:pt x="8" y="113"/>
                    </a:lnTo>
                    <a:lnTo>
                      <a:pt x="4" y="105"/>
                    </a:lnTo>
                    <a:lnTo>
                      <a:pt x="4" y="101"/>
                    </a:lnTo>
                    <a:lnTo>
                      <a:pt x="0" y="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850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348440" y="1507320"/>
                <a:ext cx="865440" cy="392400"/>
              </a:xfrm>
              <a:custGeom>
                <a:avLst/>
                <a:gdLst/>
                <a:ahLst/>
                <a:rect l="l" t="t" r="r" b="b"/>
                <a:pathLst>
                  <a:path w="850" h="184">
                    <a:moveTo>
                      <a:pt x="0" y="78"/>
                    </a:moveTo>
                    <a:lnTo>
                      <a:pt x="15" y="78"/>
                    </a:lnTo>
                    <a:lnTo>
                      <a:pt x="27" y="78"/>
                    </a:lnTo>
                    <a:lnTo>
                      <a:pt x="58" y="82"/>
                    </a:lnTo>
                    <a:lnTo>
                      <a:pt x="86" y="82"/>
                    </a:lnTo>
                    <a:lnTo>
                      <a:pt x="113" y="86"/>
                    </a:lnTo>
                    <a:lnTo>
                      <a:pt x="129" y="86"/>
                    </a:lnTo>
                    <a:lnTo>
                      <a:pt x="140" y="86"/>
                    </a:lnTo>
                    <a:lnTo>
                      <a:pt x="156" y="86"/>
                    </a:lnTo>
                    <a:lnTo>
                      <a:pt x="171" y="86"/>
                    </a:lnTo>
                    <a:lnTo>
                      <a:pt x="199" y="86"/>
                    </a:lnTo>
                    <a:lnTo>
                      <a:pt x="214" y="86"/>
                    </a:lnTo>
                    <a:lnTo>
                      <a:pt x="230" y="86"/>
                    </a:lnTo>
                    <a:lnTo>
                      <a:pt x="273" y="86"/>
                    </a:lnTo>
                    <a:lnTo>
                      <a:pt x="316" y="86"/>
                    </a:lnTo>
                    <a:lnTo>
                      <a:pt x="359" y="82"/>
                    </a:lnTo>
                    <a:lnTo>
                      <a:pt x="402" y="82"/>
                    </a:lnTo>
                    <a:lnTo>
                      <a:pt x="445" y="78"/>
                    </a:lnTo>
                    <a:lnTo>
                      <a:pt x="484" y="75"/>
                    </a:lnTo>
                    <a:lnTo>
                      <a:pt x="523" y="71"/>
                    </a:lnTo>
                    <a:lnTo>
                      <a:pt x="565" y="63"/>
                    </a:lnTo>
                    <a:lnTo>
                      <a:pt x="605" y="59"/>
                    </a:lnTo>
                    <a:lnTo>
                      <a:pt x="644" y="51"/>
                    </a:lnTo>
                    <a:lnTo>
                      <a:pt x="679" y="43"/>
                    </a:lnTo>
                    <a:lnTo>
                      <a:pt x="714" y="36"/>
                    </a:lnTo>
                    <a:lnTo>
                      <a:pt x="749" y="28"/>
                    </a:lnTo>
                    <a:lnTo>
                      <a:pt x="784" y="20"/>
                    </a:lnTo>
                    <a:lnTo>
                      <a:pt x="819" y="8"/>
                    </a:lnTo>
                    <a:lnTo>
                      <a:pt x="850" y="0"/>
                    </a:lnTo>
                    <a:lnTo>
                      <a:pt x="850" y="98"/>
                    </a:lnTo>
                    <a:lnTo>
                      <a:pt x="835" y="102"/>
                    </a:lnTo>
                    <a:lnTo>
                      <a:pt x="819" y="106"/>
                    </a:lnTo>
                    <a:lnTo>
                      <a:pt x="803" y="114"/>
                    </a:lnTo>
                    <a:lnTo>
                      <a:pt x="784" y="117"/>
                    </a:lnTo>
                    <a:lnTo>
                      <a:pt x="768" y="121"/>
                    </a:lnTo>
                    <a:lnTo>
                      <a:pt x="753" y="125"/>
                    </a:lnTo>
                    <a:lnTo>
                      <a:pt x="733" y="129"/>
                    </a:lnTo>
                    <a:lnTo>
                      <a:pt x="714" y="133"/>
                    </a:lnTo>
                    <a:lnTo>
                      <a:pt x="698" y="137"/>
                    </a:lnTo>
                    <a:lnTo>
                      <a:pt x="679" y="141"/>
                    </a:lnTo>
                    <a:lnTo>
                      <a:pt x="659" y="145"/>
                    </a:lnTo>
                    <a:lnTo>
                      <a:pt x="644" y="149"/>
                    </a:lnTo>
                    <a:lnTo>
                      <a:pt x="624" y="153"/>
                    </a:lnTo>
                    <a:lnTo>
                      <a:pt x="605" y="156"/>
                    </a:lnTo>
                    <a:lnTo>
                      <a:pt x="585" y="156"/>
                    </a:lnTo>
                    <a:lnTo>
                      <a:pt x="565" y="160"/>
                    </a:lnTo>
                    <a:lnTo>
                      <a:pt x="554" y="164"/>
                    </a:lnTo>
                    <a:lnTo>
                      <a:pt x="546" y="164"/>
                    </a:lnTo>
                    <a:lnTo>
                      <a:pt x="526" y="168"/>
                    </a:lnTo>
                    <a:lnTo>
                      <a:pt x="503" y="168"/>
                    </a:lnTo>
                    <a:lnTo>
                      <a:pt x="484" y="172"/>
                    </a:lnTo>
                    <a:lnTo>
                      <a:pt x="464" y="172"/>
                    </a:lnTo>
                    <a:lnTo>
                      <a:pt x="452" y="172"/>
                    </a:lnTo>
                    <a:lnTo>
                      <a:pt x="445" y="176"/>
                    </a:lnTo>
                    <a:lnTo>
                      <a:pt x="421" y="176"/>
                    </a:lnTo>
                    <a:lnTo>
                      <a:pt x="402" y="176"/>
                    </a:lnTo>
                    <a:lnTo>
                      <a:pt x="390" y="180"/>
                    </a:lnTo>
                    <a:lnTo>
                      <a:pt x="378" y="180"/>
                    </a:lnTo>
                    <a:lnTo>
                      <a:pt x="359" y="180"/>
                    </a:lnTo>
                    <a:lnTo>
                      <a:pt x="335" y="180"/>
                    </a:lnTo>
                    <a:lnTo>
                      <a:pt x="316" y="184"/>
                    </a:lnTo>
                    <a:lnTo>
                      <a:pt x="292" y="184"/>
                    </a:lnTo>
                    <a:lnTo>
                      <a:pt x="273" y="184"/>
                    </a:lnTo>
                    <a:lnTo>
                      <a:pt x="250" y="184"/>
                    </a:lnTo>
                    <a:lnTo>
                      <a:pt x="230" y="184"/>
                    </a:lnTo>
                    <a:lnTo>
                      <a:pt x="199" y="184"/>
                    </a:lnTo>
                    <a:lnTo>
                      <a:pt x="171" y="184"/>
                    </a:lnTo>
                    <a:lnTo>
                      <a:pt x="140" y="184"/>
                    </a:lnTo>
                    <a:lnTo>
                      <a:pt x="113" y="180"/>
                    </a:lnTo>
                    <a:lnTo>
                      <a:pt x="86" y="180"/>
                    </a:lnTo>
                    <a:lnTo>
                      <a:pt x="58" y="180"/>
                    </a:lnTo>
                    <a:lnTo>
                      <a:pt x="27" y="176"/>
                    </a:lnTo>
                    <a:lnTo>
                      <a:pt x="0" y="172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3438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348440" y="28440"/>
                <a:ext cx="1247400" cy="831240"/>
              </a:xfrm>
              <a:custGeom>
                <a:avLst/>
                <a:gdLst/>
                <a:ahLst/>
                <a:rect l="l" t="t" r="r" b="b"/>
                <a:pathLst>
                  <a:path w="1225" h="390">
                    <a:moveTo>
                      <a:pt x="1225" y="390"/>
                    </a:moveTo>
                    <a:lnTo>
                      <a:pt x="1225" y="378"/>
                    </a:lnTo>
                    <a:lnTo>
                      <a:pt x="1221" y="371"/>
                    </a:lnTo>
                    <a:lnTo>
                      <a:pt x="1221" y="359"/>
                    </a:lnTo>
                    <a:lnTo>
                      <a:pt x="1217" y="351"/>
                    </a:lnTo>
                    <a:lnTo>
                      <a:pt x="1217" y="339"/>
                    </a:lnTo>
                    <a:lnTo>
                      <a:pt x="1213" y="332"/>
                    </a:lnTo>
                    <a:lnTo>
                      <a:pt x="1209" y="320"/>
                    </a:lnTo>
                    <a:lnTo>
                      <a:pt x="1205" y="312"/>
                    </a:lnTo>
                    <a:lnTo>
                      <a:pt x="1197" y="300"/>
                    </a:lnTo>
                    <a:lnTo>
                      <a:pt x="1194" y="293"/>
                    </a:lnTo>
                    <a:lnTo>
                      <a:pt x="1186" y="281"/>
                    </a:lnTo>
                    <a:lnTo>
                      <a:pt x="1178" y="273"/>
                    </a:lnTo>
                    <a:lnTo>
                      <a:pt x="1170" y="265"/>
                    </a:lnTo>
                    <a:lnTo>
                      <a:pt x="1162" y="254"/>
                    </a:lnTo>
                    <a:lnTo>
                      <a:pt x="1155" y="246"/>
                    </a:lnTo>
                    <a:lnTo>
                      <a:pt x="1147" y="238"/>
                    </a:lnTo>
                    <a:lnTo>
                      <a:pt x="1139" y="234"/>
                    </a:lnTo>
                    <a:lnTo>
                      <a:pt x="1135" y="230"/>
                    </a:lnTo>
                    <a:lnTo>
                      <a:pt x="1127" y="218"/>
                    </a:lnTo>
                    <a:lnTo>
                      <a:pt x="1116" y="211"/>
                    </a:lnTo>
                    <a:lnTo>
                      <a:pt x="1108" y="207"/>
                    </a:lnTo>
                    <a:lnTo>
                      <a:pt x="1104" y="203"/>
                    </a:lnTo>
                    <a:lnTo>
                      <a:pt x="1092" y="195"/>
                    </a:lnTo>
                    <a:lnTo>
                      <a:pt x="1084" y="191"/>
                    </a:lnTo>
                    <a:lnTo>
                      <a:pt x="1080" y="187"/>
                    </a:lnTo>
                    <a:lnTo>
                      <a:pt x="1065" y="179"/>
                    </a:lnTo>
                    <a:lnTo>
                      <a:pt x="1053" y="172"/>
                    </a:lnTo>
                    <a:lnTo>
                      <a:pt x="1045" y="168"/>
                    </a:lnTo>
                    <a:lnTo>
                      <a:pt x="1041" y="164"/>
                    </a:lnTo>
                    <a:lnTo>
                      <a:pt x="1026" y="156"/>
                    </a:lnTo>
                    <a:lnTo>
                      <a:pt x="1010" y="148"/>
                    </a:lnTo>
                    <a:lnTo>
                      <a:pt x="995" y="140"/>
                    </a:lnTo>
                    <a:lnTo>
                      <a:pt x="979" y="133"/>
                    </a:lnTo>
                    <a:lnTo>
                      <a:pt x="963" y="129"/>
                    </a:lnTo>
                    <a:lnTo>
                      <a:pt x="948" y="121"/>
                    </a:lnTo>
                    <a:lnTo>
                      <a:pt x="932" y="113"/>
                    </a:lnTo>
                    <a:lnTo>
                      <a:pt x="913" y="109"/>
                    </a:lnTo>
                    <a:lnTo>
                      <a:pt x="897" y="101"/>
                    </a:lnTo>
                    <a:lnTo>
                      <a:pt x="881" y="94"/>
                    </a:lnTo>
                    <a:lnTo>
                      <a:pt x="862" y="90"/>
                    </a:lnTo>
                    <a:lnTo>
                      <a:pt x="842" y="82"/>
                    </a:lnTo>
                    <a:lnTo>
                      <a:pt x="823" y="78"/>
                    </a:lnTo>
                    <a:lnTo>
                      <a:pt x="803" y="70"/>
                    </a:lnTo>
                    <a:lnTo>
                      <a:pt x="784" y="66"/>
                    </a:lnTo>
                    <a:lnTo>
                      <a:pt x="764" y="62"/>
                    </a:lnTo>
                    <a:lnTo>
                      <a:pt x="745" y="55"/>
                    </a:lnTo>
                    <a:lnTo>
                      <a:pt x="725" y="51"/>
                    </a:lnTo>
                    <a:lnTo>
                      <a:pt x="714" y="47"/>
                    </a:lnTo>
                    <a:lnTo>
                      <a:pt x="702" y="47"/>
                    </a:lnTo>
                    <a:lnTo>
                      <a:pt x="683" y="43"/>
                    </a:lnTo>
                    <a:lnTo>
                      <a:pt x="659" y="39"/>
                    </a:lnTo>
                    <a:lnTo>
                      <a:pt x="640" y="35"/>
                    </a:lnTo>
                    <a:lnTo>
                      <a:pt x="616" y="31"/>
                    </a:lnTo>
                    <a:lnTo>
                      <a:pt x="593" y="27"/>
                    </a:lnTo>
                    <a:lnTo>
                      <a:pt x="569" y="23"/>
                    </a:lnTo>
                    <a:lnTo>
                      <a:pt x="546" y="20"/>
                    </a:lnTo>
                    <a:lnTo>
                      <a:pt x="523" y="20"/>
                    </a:lnTo>
                    <a:lnTo>
                      <a:pt x="499" y="16"/>
                    </a:lnTo>
                    <a:lnTo>
                      <a:pt x="487" y="12"/>
                    </a:lnTo>
                    <a:lnTo>
                      <a:pt x="476" y="12"/>
                    </a:lnTo>
                    <a:lnTo>
                      <a:pt x="452" y="12"/>
                    </a:lnTo>
                    <a:lnTo>
                      <a:pt x="429" y="8"/>
                    </a:lnTo>
                    <a:lnTo>
                      <a:pt x="406" y="8"/>
                    </a:lnTo>
                    <a:lnTo>
                      <a:pt x="378" y="4"/>
                    </a:lnTo>
                    <a:lnTo>
                      <a:pt x="367" y="4"/>
                    </a:lnTo>
                    <a:lnTo>
                      <a:pt x="355" y="4"/>
                    </a:lnTo>
                    <a:lnTo>
                      <a:pt x="343" y="4"/>
                    </a:lnTo>
                    <a:lnTo>
                      <a:pt x="331" y="4"/>
                    </a:lnTo>
                    <a:lnTo>
                      <a:pt x="304" y="0"/>
                    </a:lnTo>
                    <a:lnTo>
                      <a:pt x="292" y="0"/>
                    </a:lnTo>
                    <a:lnTo>
                      <a:pt x="277" y="0"/>
                    </a:lnTo>
                    <a:lnTo>
                      <a:pt x="265" y="0"/>
                    </a:lnTo>
                    <a:lnTo>
                      <a:pt x="253" y="0"/>
                    </a:lnTo>
                    <a:lnTo>
                      <a:pt x="226" y="0"/>
                    </a:lnTo>
                    <a:lnTo>
                      <a:pt x="199" y="0"/>
                    </a:lnTo>
                    <a:lnTo>
                      <a:pt x="168" y="0"/>
                    </a:lnTo>
                    <a:lnTo>
                      <a:pt x="140" y="4"/>
                    </a:lnTo>
                    <a:lnTo>
                      <a:pt x="109" y="4"/>
                    </a:lnTo>
                    <a:lnTo>
                      <a:pt x="82" y="4"/>
                    </a:lnTo>
                    <a:lnTo>
                      <a:pt x="54" y="8"/>
                    </a:lnTo>
                    <a:lnTo>
                      <a:pt x="27" y="8"/>
                    </a:lnTo>
                    <a:lnTo>
                      <a:pt x="0" y="12"/>
                    </a:lnTo>
                    <a:lnTo>
                      <a:pt x="230" y="390"/>
                    </a:lnTo>
                    <a:lnTo>
                      <a:pt x="1225" y="39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565440" y="54000"/>
                <a:ext cx="1017360" cy="939600"/>
              </a:xfrm>
              <a:custGeom>
                <a:avLst/>
                <a:gdLst/>
                <a:ahLst/>
                <a:rect l="l" t="t" r="r" b="b"/>
                <a:pathLst>
                  <a:path w="999" h="441">
                    <a:moveTo>
                      <a:pt x="769" y="0"/>
                    </a:moveTo>
                    <a:lnTo>
                      <a:pt x="726" y="4"/>
                    </a:lnTo>
                    <a:lnTo>
                      <a:pt x="687" y="8"/>
                    </a:lnTo>
                    <a:lnTo>
                      <a:pt x="648" y="15"/>
                    </a:lnTo>
                    <a:lnTo>
                      <a:pt x="609" y="19"/>
                    </a:lnTo>
                    <a:lnTo>
                      <a:pt x="570" y="27"/>
                    </a:lnTo>
                    <a:lnTo>
                      <a:pt x="550" y="31"/>
                    </a:lnTo>
                    <a:lnTo>
                      <a:pt x="535" y="35"/>
                    </a:lnTo>
                    <a:lnTo>
                      <a:pt x="500" y="43"/>
                    </a:lnTo>
                    <a:lnTo>
                      <a:pt x="461" y="50"/>
                    </a:lnTo>
                    <a:lnTo>
                      <a:pt x="445" y="54"/>
                    </a:lnTo>
                    <a:lnTo>
                      <a:pt x="429" y="58"/>
                    </a:lnTo>
                    <a:lnTo>
                      <a:pt x="410" y="62"/>
                    </a:lnTo>
                    <a:lnTo>
                      <a:pt x="394" y="70"/>
                    </a:lnTo>
                    <a:lnTo>
                      <a:pt x="379" y="74"/>
                    </a:lnTo>
                    <a:lnTo>
                      <a:pt x="363" y="78"/>
                    </a:lnTo>
                    <a:lnTo>
                      <a:pt x="332" y="89"/>
                    </a:lnTo>
                    <a:lnTo>
                      <a:pt x="301" y="101"/>
                    </a:lnTo>
                    <a:lnTo>
                      <a:pt x="289" y="105"/>
                    </a:lnTo>
                    <a:lnTo>
                      <a:pt x="273" y="113"/>
                    </a:lnTo>
                    <a:lnTo>
                      <a:pt x="262" y="117"/>
                    </a:lnTo>
                    <a:lnTo>
                      <a:pt x="246" y="125"/>
                    </a:lnTo>
                    <a:lnTo>
                      <a:pt x="219" y="136"/>
                    </a:lnTo>
                    <a:lnTo>
                      <a:pt x="195" y="148"/>
                    </a:lnTo>
                    <a:lnTo>
                      <a:pt x="184" y="156"/>
                    </a:lnTo>
                    <a:lnTo>
                      <a:pt x="172" y="160"/>
                    </a:lnTo>
                    <a:lnTo>
                      <a:pt x="160" y="167"/>
                    </a:lnTo>
                    <a:lnTo>
                      <a:pt x="149" y="175"/>
                    </a:lnTo>
                    <a:lnTo>
                      <a:pt x="137" y="183"/>
                    </a:lnTo>
                    <a:lnTo>
                      <a:pt x="129" y="191"/>
                    </a:lnTo>
                    <a:lnTo>
                      <a:pt x="117" y="195"/>
                    </a:lnTo>
                    <a:lnTo>
                      <a:pt x="110" y="203"/>
                    </a:lnTo>
                    <a:lnTo>
                      <a:pt x="98" y="210"/>
                    </a:lnTo>
                    <a:lnTo>
                      <a:pt x="90" y="218"/>
                    </a:lnTo>
                    <a:lnTo>
                      <a:pt x="82" y="226"/>
                    </a:lnTo>
                    <a:lnTo>
                      <a:pt x="74" y="234"/>
                    </a:lnTo>
                    <a:lnTo>
                      <a:pt x="67" y="242"/>
                    </a:lnTo>
                    <a:lnTo>
                      <a:pt x="59" y="249"/>
                    </a:lnTo>
                    <a:lnTo>
                      <a:pt x="51" y="257"/>
                    </a:lnTo>
                    <a:lnTo>
                      <a:pt x="47" y="265"/>
                    </a:lnTo>
                    <a:lnTo>
                      <a:pt x="39" y="273"/>
                    </a:lnTo>
                    <a:lnTo>
                      <a:pt x="39" y="277"/>
                    </a:lnTo>
                    <a:lnTo>
                      <a:pt x="35" y="281"/>
                    </a:lnTo>
                    <a:lnTo>
                      <a:pt x="28" y="288"/>
                    </a:lnTo>
                    <a:lnTo>
                      <a:pt x="24" y="296"/>
                    </a:lnTo>
                    <a:lnTo>
                      <a:pt x="24" y="300"/>
                    </a:lnTo>
                    <a:lnTo>
                      <a:pt x="20" y="304"/>
                    </a:lnTo>
                    <a:lnTo>
                      <a:pt x="20" y="308"/>
                    </a:lnTo>
                    <a:lnTo>
                      <a:pt x="16" y="308"/>
                    </a:lnTo>
                    <a:lnTo>
                      <a:pt x="16" y="312"/>
                    </a:lnTo>
                    <a:lnTo>
                      <a:pt x="16" y="316"/>
                    </a:lnTo>
                    <a:lnTo>
                      <a:pt x="12" y="320"/>
                    </a:lnTo>
                    <a:lnTo>
                      <a:pt x="8" y="327"/>
                    </a:lnTo>
                    <a:lnTo>
                      <a:pt x="8" y="335"/>
                    </a:lnTo>
                    <a:lnTo>
                      <a:pt x="4" y="343"/>
                    </a:lnTo>
                    <a:lnTo>
                      <a:pt x="4" y="347"/>
                    </a:lnTo>
                    <a:lnTo>
                      <a:pt x="4" y="351"/>
                    </a:lnTo>
                    <a:lnTo>
                      <a:pt x="4" y="355"/>
                    </a:lnTo>
                    <a:lnTo>
                      <a:pt x="4" y="359"/>
                    </a:lnTo>
                    <a:lnTo>
                      <a:pt x="4" y="363"/>
                    </a:lnTo>
                    <a:lnTo>
                      <a:pt x="0" y="366"/>
                    </a:lnTo>
                    <a:lnTo>
                      <a:pt x="0" y="370"/>
                    </a:lnTo>
                    <a:lnTo>
                      <a:pt x="0" y="374"/>
                    </a:lnTo>
                    <a:lnTo>
                      <a:pt x="0" y="378"/>
                    </a:lnTo>
                    <a:lnTo>
                      <a:pt x="0" y="386"/>
                    </a:lnTo>
                    <a:lnTo>
                      <a:pt x="0" y="394"/>
                    </a:lnTo>
                    <a:lnTo>
                      <a:pt x="4" y="402"/>
                    </a:lnTo>
                    <a:lnTo>
                      <a:pt x="4" y="409"/>
                    </a:lnTo>
                    <a:lnTo>
                      <a:pt x="4" y="417"/>
                    </a:lnTo>
                    <a:lnTo>
                      <a:pt x="8" y="425"/>
                    </a:lnTo>
                    <a:lnTo>
                      <a:pt x="12" y="433"/>
                    </a:lnTo>
                    <a:lnTo>
                      <a:pt x="12" y="441"/>
                    </a:lnTo>
                    <a:lnTo>
                      <a:pt x="999" y="378"/>
                    </a:lnTo>
                    <a:lnTo>
                      <a:pt x="769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577320" y="859680"/>
                <a:ext cx="1005120" cy="813600"/>
              </a:xfrm>
              <a:custGeom>
                <a:avLst/>
                <a:gdLst/>
                <a:ahLst/>
                <a:rect l="l" t="t" r="r" b="b"/>
                <a:pathLst>
                  <a:path w="987" h="382">
                    <a:moveTo>
                      <a:pt x="0" y="63"/>
                    </a:moveTo>
                    <a:lnTo>
                      <a:pt x="4" y="70"/>
                    </a:lnTo>
                    <a:lnTo>
                      <a:pt x="8" y="78"/>
                    </a:lnTo>
                    <a:lnTo>
                      <a:pt x="12" y="82"/>
                    </a:lnTo>
                    <a:lnTo>
                      <a:pt x="16" y="90"/>
                    </a:lnTo>
                    <a:lnTo>
                      <a:pt x="20" y="98"/>
                    </a:lnTo>
                    <a:lnTo>
                      <a:pt x="27" y="105"/>
                    </a:lnTo>
                    <a:lnTo>
                      <a:pt x="31" y="113"/>
                    </a:lnTo>
                    <a:lnTo>
                      <a:pt x="35" y="121"/>
                    </a:lnTo>
                    <a:lnTo>
                      <a:pt x="43" y="125"/>
                    </a:lnTo>
                    <a:lnTo>
                      <a:pt x="47" y="133"/>
                    </a:lnTo>
                    <a:lnTo>
                      <a:pt x="55" y="141"/>
                    </a:lnTo>
                    <a:lnTo>
                      <a:pt x="62" y="148"/>
                    </a:lnTo>
                    <a:lnTo>
                      <a:pt x="66" y="152"/>
                    </a:lnTo>
                    <a:lnTo>
                      <a:pt x="74" y="160"/>
                    </a:lnTo>
                    <a:lnTo>
                      <a:pt x="82" y="168"/>
                    </a:lnTo>
                    <a:lnTo>
                      <a:pt x="90" y="172"/>
                    </a:lnTo>
                    <a:lnTo>
                      <a:pt x="101" y="180"/>
                    </a:lnTo>
                    <a:lnTo>
                      <a:pt x="109" y="187"/>
                    </a:lnTo>
                    <a:lnTo>
                      <a:pt x="117" y="191"/>
                    </a:lnTo>
                    <a:lnTo>
                      <a:pt x="125" y="199"/>
                    </a:lnTo>
                    <a:lnTo>
                      <a:pt x="137" y="203"/>
                    </a:lnTo>
                    <a:lnTo>
                      <a:pt x="144" y="211"/>
                    </a:lnTo>
                    <a:lnTo>
                      <a:pt x="156" y="219"/>
                    </a:lnTo>
                    <a:lnTo>
                      <a:pt x="164" y="223"/>
                    </a:lnTo>
                    <a:lnTo>
                      <a:pt x="176" y="230"/>
                    </a:lnTo>
                    <a:lnTo>
                      <a:pt x="179" y="230"/>
                    </a:lnTo>
                    <a:lnTo>
                      <a:pt x="187" y="234"/>
                    </a:lnTo>
                    <a:lnTo>
                      <a:pt x="199" y="238"/>
                    </a:lnTo>
                    <a:lnTo>
                      <a:pt x="203" y="242"/>
                    </a:lnTo>
                    <a:lnTo>
                      <a:pt x="207" y="246"/>
                    </a:lnTo>
                    <a:lnTo>
                      <a:pt x="218" y="250"/>
                    </a:lnTo>
                    <a:lnTo>
                      <a:pt x="234" y="258"/>
                    </a:lnTo>
                    <a:lnTo>
                      <a:pt x="246" y="262"/>
                    </a:lnTo>
                    <a:lnTo>
                      <a:pt x="257" y="265"/>
                    </a:lnTo>
                    <a:lnTo>
                      <a:pt x="269" y="273"/>
                    </a:lnTo>
                    <a:lnTo>
                      <a:pt x="281" y="277"/>
                    </a:lnTo>
                    <a:lnTo>
                      <a:pt x="297" y="281"/>
                    </a:lnTo>
                    <a:lnTo>
                      <a:pt x="308" y="289"/>
                    </a:lnTo>
                    <a:lnTo>
                      <a:pt x="320" y="293"/>
                    </a:lnTo>
                    <a:lnTo>
                      <a:pt x="336" y="297"/>
                    </a:lnTo>
                    <a:lnTo>
                      <a:pt x="351" y="301"/>
                    </a:lnTo>
                    <a:lnTo>
                      <a:pt x="363" y="304"/>
                    </a:lnTo>
                    <a:lnTo>
                      <a:pt x="378" y="312"/>
                    </a:lnTo>
                    <a:lnTo>
                      <a:pt x="394" y="312"/>
                    </a:lnTo>
                    <a:lnTo>
                      <a:pt x="406" y="320"/>
                    </a:lnTo>
                    <a:lnTo>
                      <a:pt x="421" y="324"/>
                    </a:lnTo>
                    <a:lnTo>
                      <a:pt x="453" y="332"/>
                    </a:lnTo>
                    <a:lnTo>
                      <a:pt x="484" y="340"/>
                    </a:lnTo>
                    <a:lnTo>
                      <a:pt x="515" y="343"/>
                    </a:lnTo>
                    <a:lnTo>
                      <a:pt x="550" y="351"/>
                    </a:lnTo>
                    <a:lnTo>
                      <a:pt x="566" y="355"/>
                    </a:lnTo>
                    <a:lnTo>
                      <a:pt x="573" y="355"/>
                    </a:lnTo>
                    <a:lnTo>
                      <a:pt x="581" y="359"/>
                    </a:lnTo>
                    <a:lnTo>
                      <a:pt x="601" y="359"/>
                    </a:lnTo>
                    <a:lnTo>
                      <a:pt x="616" y="363"/>
                    </a:lnTo>
                    <a:lnTo>
                      <a:pt x="632" y="367"/>
                    </a:lnTo>
                    <a:lnTo>
                      <a:pt x="652" y="367"/>
                    </a:lnTo>
                    <a:lnTo>
                      <a:pt x="687" y="375"/>
                    </a:lnTo>
                    <a:lnTo>
                      <a:pt x="702" y="375"/>
                    </a:lnTo>
                    <a:lnTo>
                      <a:pt x="722" y="379"/>
                    </a:lnTo>
                    <a:lnTo>
                      <a:pt x="730" y="379"/>
                    </a:lnTo>
                    <a:lnTo>
                      <a:pt x="741" y="379"/>
                    </a:lnTo>
                    <a:lnTo>
                      <a:pt x="757" y="382"/>
                    </a:lnTo>
                    <a:lnTo>
                      <a:pt x="987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348440" y="859680"/>
                <a:ext cx="865440" cy="830520"/>
              </a:xfrm>
              <a:custGeom>
                <a:avLst/>
                <a:gdLst/>
                <a:ahLst/>
                <a:rect l="l" t="t" r="r" b="b"/>
                <a:pathLst>
                  <a:path w="850" h="390">
                    <a:moveTo>
                      <a:pt x="0" y="382"/>
                    </a:moveTo>
                    <a:lnTo>
                      <a:pt x="15" y="382"/>
                    </a:lnTo>
                    <a:lnTo>
                      <a:pt x="27" y="382"/>
                    </a:lnTo>
                    <a:lnTo>
                      <a:pt x="58" y="386"/>
                    </a:lnTo>
                    <a:lnTo>
                      <a:pt x="86" y="386"/>
                    </a:lnTo>
                    <a:lnTo>
                      <a:pt x="113" y="390"/>
                    </a:lnTo>
                    <a:lnTo>
                      <a:pt x="129" y="390"/>
                    </a:lnTo>
                    <a:lnTo>
                      <a:pt x="140" y="390"/>
                    </a:lnTo>
                    <a:lnTo>
                      <a:pt x="156" y="390"/>
                    </a:lnTo>
                    <a:lnTo>
                      <a:pt x="171" y="390"/>
                    </a:lnTo>
                    <a:lnTo>
                      <a:pt x="199" y="390"/>
                    </a:lnTo>
                    <a:lnTo>
                      <a:pt x="214" y="390"/>
                    </a:lnTo>
                    <a:lnTo>
                      <a:pt x="230" y="390"/>
                    </a:lnTo>
                    <a:lnTo>
                      <a:pt x="273" y="390"/>
                    </a:lnTo>
                    <a:lnTo>
                      <a:pt x="316" y="390"/>
                    </a:lnTo>
                    <a:lnTo>
                      <a:pt x="359" y="386"/>
                    </a:lnTo>
                    <a:lnTo>
                      <a:pt x="402" y="386"/>
                    </a:lnTo>
                    <a:lnTo>
                      <a:pt x="445" y="382"/>
                    </a:lnTo>
                    <a:lnTo>
                      <a:pt x="484" y="379"/>
                    </a:lnTo>
                    <a:lnTo>
                      <a:pt x="523" y="375"/>
                    </a:lnTo>
                    <a:lnTo>
                      <a:pt x="565" y="367"/>
                    </a:lnTo>
                    <a:lnTo>
                      <a:pt x="605" y="363"/>
                    </a:lnTo>
                    <a:lnTo>
                      <a:pt x="644" y="355"/>
                    </a:lnTo>
                    <a:lnTo>
                      <a:pt x="679" y="347"/>
                    </a:lnTo>
                    <a:lnTo>
                      <a:pt x="714" y="340"/>
                    </a:lnTo>
                    <a:lnTo>
                      <a:pt x="749" y="332"/>
                    </a:lnTo>
                    <a:lnTo>
                      <a:pt x="784" y="324"/>
                    </a:lnTo>
                    <a:lnTo>
                      <a:pt x="819" y="312"/>
                    </a:lnTo>
                    <a:lnTo>
                      <a:pt x="850" y="304"/>
                    </a:lnTo>
                    <a:lnTo>
                      <a:pt x="230" y="0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0085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582800" y="859680"/>
                <a:ext cx="965160" cy="647640"/>
              </a:xfrm>
              <a:custGeom>
                <a:avLst/>
                <a:gdLst/>
                <a:ahLst/>
                <a:rect l="l" t="t" r="r" b="b"/>
                <a:pathLst>
                  <a:path w="948" h="304">
                    <a:moveTo>
                      <a:pt x="620" y="304"/>
                    </a:moveTo>
                    <a:lnTo>
                      <a:pt x="651" y="297"/>
                    </a:lnTo>
                    <a:lnTo>
                      <a:pt x="675" y="285"/>
                    </a:lnTo>
                    <a:lnTo>
                      <a:pt x="702" y="277"/>
                    </a:lnTo>
                    <a:lnTo>
                      <a:pt x="730" y="265"/>
                    </a:lnTo>
                    <a:lnTo>
                      <a:pt x="753" y="254"/>
                    </a:lnTo>
                    <a:lnTo>
                      <a:pt x="776" y="242"/>
                    </a:lnTo>
                    <a:lnTo>
                      <a:pt x="800" y="230"/>
                    </a:lnTo>
                    <a:lnTo>
                      <a:pt x="819" y="223"/>
                    </a:lnTo>
                    <a:lnTo>
                      <a:pt x="827" y="215"/>
                    </a:lnTo>
                    <a:lnTo>
                      <a:pt x="839" y="207"/>
                    </a:lnTo>
                    <a:lnTo>
                      <a:pt x="858" y="195"/>
                    </a:lnTo>
                    <a:lnTo>
                      <a:pt x="866" y="191"/>
                    </a:lnTo>
                    <a:lnTo>
                      <a:pt x="878" y="183"/>
                    </a:lnTo>
                    <a:lnTo>
                      <a:pt x="886" y="176"/>
                    </a:lnTo>
                    <a:lnTo>
                      <a:pt x="893" y="172"/>
                    </a:lnTo>
                    <a:lnTo>
                      <a:pt x="909" y="156"/>
                    </a:lnTo>
                    <a:lnTo>
                      <a:pt x="917" y="152"/>
                    </a:lnTo>
                    <a:lnTo>
                      <a:pt x="925" y="144"/>
                    </a:lnTo>
                    <a:lnTo>
                      <a:pt x="928" y="137"/>
                    </a:lnTo>
                    <a:lnTo>
                      <a:pt x="936" y="133"/>
                    </a:lnTo>
                    <a:lnTo>
                      <a:pt x="944" y="125"/>
                    </a:lnTo>
                    <a:lnTo>
                      <a:pt x="948" y="117"/>
                    </a:lnTo>
                    <a:lnTo>
                      <a:pt x="0" y="0"/>
                    </a:lnTo>
                    <a:lnTo>
                      <a:pt x="620" y="30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582800" y="859680"/>
                <a:ext cx="1013040" cy="249120"/>
              </a:xfrm>
              <a:custGeom>
                <a:avLst/>
                <a:gdLst/>
                <a:ahLst/>
                <a:rect l="l" t="t" r="r" b="b"/>
                <a:pathLst>
                  <a:path w="995" h="117">
                    <a:moveTo>
                      <a:pt x="948" y="117"/>
                    </a:moveTo>
                    <a:lnTo>
                      <a:pt x="952" y="109"/>
                    </a:lnTo>
                    <a:lnTo>
                      <a:pt x="960" y="102"/>
                    </a:lnTo>
                    <a:lnTo>
                      <a:pt x="964" y="98"/>
                    </a:lnTo>
                    <a:lnTo>
                      <a:pt x="967" y="90"/>
                    </a:lnTo>
                    <a:lnTo>
                      <a:pt x="971" y="86"/>
                    </a:lnTo>
                    <a:lnTo>
                      <a:pt x="971" y="82"/>
                    </a:lnTo>
                    <a:lnTo>
                      <a:pt x="975" y="74"/>
                    </a:lnTo>
                    <a:lnTo>
                      <a:pt x="979" y="66"/>
                    </a:lnTo>
                    <a:lnTo>
                      <a:pt x="983" y="59"/>
                    </a:lnTo>
                    <a:lnTo>
                      <a:pt x="987" y="51"/>
                    </a:lnTo>
                    <a:lnTo>
                      <a:pt x="987" y="43"/>
                    </a:lnTo>
                    <a:lnTo>
                      <a:pt x="987" y="43"/>
                    </a:lnTo>
                    <a:lnTo>
                      <a:pt x="991" y="39"/>
                    </a:lnTo>
                    <a:lnTo>
                      <a:pt x="991" y="31"/>
                    </a:lnTo>
                    <a:lnTo>
                      <a:pt x="991" y="24"/>
                    </a:lnTo>
                    <a:lnTo>
                      <a:pt x="991" y="20"/>
                    </a:lnTo>
                    <a:lnTo>
                      <a:pt x="991" y="16"/>
                    </a:lnTo>
                    <a:lnTo>
                      <a:pt x="995" y="8"/>
                    </a:lnTo>
                    <a:lnTo>
                      <a:pt x="995" y="0"/>
                    </a:lnTo>
                    <a:lnTo>
                      <a:pt x="0" y="0"/>
                    </a:lnTo>
                    <a:lnTo>
                      <a:pt x="948" y="11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>
              <a:off x="3813840" y="96840"/>
              <a:ext cx="153396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ffff"/>
                  </a:solidFill>
                  <a:latin typeface="Times New Roman"/>
                </a:rPr>
                <a:t>Pie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6958080" y="3772080"/>
            <a:ext cx="1247760" cy="831600"/>
          </a:xfrm>
          <a:custGeom>
            <a:avLst/>
            <a:gdLst/>
            <a:ahLst/>
            <a:rect l="l" t="t" r="r" b="b"/>
            <a:pathLst>
              <a:path w="1225" h="390">
                <a:moveTo>
                  <a:pt x="1225" y="390"/>
                </a:moveTo>
                <a:lnTo>
                  <a:pt x="1225" y="378"/>
                </a:lnTo>
                <a:lnTo>
                  <a:pt x="1221" y="371"/>
                </a:lnTo>
                <a:lnTo>
                  <a:pt x="1221" y="359"/>
                </a:lnTo>
                <a:lnTo>
                  <a:pt x="1217" y="351"/>
                </a:lnTo>
                <a:lnTo>
                  <a:pt x="1217" y="339"/>
                </a:lnTo>
                <a:lnTo>
                  <a:pt x="1213" y="332"/>
                </a:lnTo>
                <a:lnTo>
                  <a:pt x="1209" y="320"/>
                </a:lnTo>
                <a:lnTo>
                  <a:pt x="1205" y="312"/>
                </a:lnTo>
                <a:lnTo>
                  <a:pt x="1197" y="300"/>
                </a:lnTo>
                <a:lnTo>
                  <a:pt x="1194" y="293"/>
                </a:lnTo>
                <a:lnTo>
                  <a:pt x="1186" y="281"/>
                </a:lnTo>
                <a:lnTo>
                  <a:pt x="1178" y="273"/>
                </a:lnTo>
                <a:lnTo>
                  <a:pt x="1170" y="265"/>
                </a:lnTo>
                <a:lnTo>
                  <a:pt x="1162" y="254"/>
                </a:lnTo>
                <a:lnTo>
                  <a:pt x="1155" y="246"/>
                </a:lnTo>
                <a:lnTo>
                  <a:pt x="1147" y="238"/>
                </a:lnTo>
                <a:lnTo>
                  <a:pt x="1139" y="234"/>
                </a:lnTo>
                <a:lnTo>
                  <a:pt x="1135" y="230"/>
                </a:lnTo>
                <a:lnTo>
                  <a:pt x="1127" y="218"/>
                </a:lnTo>
                <a:lnTo>
                  <a:pt x="1116" y="211"/>
                </a:lnTo>
                <a:lnTo>
                  <a:pt x="1108" y="207"/>
                </a:lnTo>
                <a:lnTo>
                  <a:pt x="1104" y="203"/>
                </a:lnTo>
                <a:lnTo>
                  <a:pt x="1092" y="195"/>
                </a:lnTo>
                <a:lnTo>
                  <a:pt x="1084" y="191"/>
                </a:lnTo>
                <a:lnTo>
                  <a:pt x="1080" y="187"/>
                </a:lnTo>
                <a:lnTo>
                  <a:pt x="1065" y="179"/>
                </a:lnTo>
                <a:lnTo>
                  <a:pt x="1053" y="172"/>
                </a:lnTo>
                <a:lnTo>
                  <a:pt x="1045" y="168"/>
                </a:lnTo>
                <a:lnTo>
                  <a:pt x="1041" y="164"/>
                </a:lnTo>
                <a:lnTo>
                  <a:pt x="1026" y="156"/>
                </a:lnTo>
                <a:lnTo>
                  <a:pt x="1010" y="148"/>
                </a:lnTo>
                <a:lnTo>
                  <a:pt x="995" y="140"/>
                </a:lnTo>
                <a:lnTo>
                  <a:pt x="979" y="133"/>
                </a:lnTo>
                <a:lnTo>
                  <a:pt x="963" y="129"/>
                </a:lnTo>
                <a:lnTo>
                  <a:pt x="948" y="121"/>
                </a:lnTo>
                <a:lnTo>
                  <a:pt x="932" y="113"/>
                </a:lnTo>
                <a:lnTo>
                  <a:pt x="913" y="109"/>
                </a:lnTo>
                <a:lnTo>
                  <a:pt x="897" y="101"/>
                </a:lnTo>
                <a:lnTo>
                  <a:pt x="881" y="94"/>
                </a:lnTo>
                <a:lnTo>
                  <a:pt x="862" y="90"/>
                </a:lnTo>
                <a:lnTo>
                  <a:pt x="842" y="82"/>
                </a:lnTo>
                <a:lnTo>
                  <a:pt x="823" y="78"/>
                </a:lnTo>
                <a:lnTo>
                  <a:pt x="803" y="70"/>
                </a:lnTo>
                <a:lnTo>
                  <a:pt x="784" y="66"/>
                </a:lnTo>
                <a:lnTo>
                  <a:pt x="764" y="62"/>
                </a:lnTo>
                <a:lnTo>
                  <a:pt x="745" y="55"/>
                </a:lnTo>
                <a:lnTo>
                  <a:pt x="725" y="51"/>
                </a:lnTo>
                <a:lnTo>
                  <a:pt x="714" y="47"/>
                </a:lnTo>
                <a:lnTo>
                  <a:pt x="702" y="47"/>
                </a:lnTo>
                <a:lnTo>
                  <a:pt x="683" y="43"/>
                </a:lnTo>
                <a:lnTo>
                  <a:pt x="659" y="39"/>
                </a:lnTo>
                <a:lnTo>
                  <a:pt x="640" y="35"/>
                </a:lnTo>
                <a:lnTo>
                  <a:pt x="616" y="31"/>
                </a:lnTo>
                <a:lnTo>
                  <a:pt x="593" y="27"/>
                </a:lnTo>
                <a:lnTo>
                  <a:pt x="569" y="23"/>
                </a:lnTo>
                <a:lnTo>
                  <a:pt x="546" y="20"/>
                </a:lnTo>
                <a:lnTo>
                  <a:pt x="523" y="20"/>
                </a:lnTo>
                <a:lnTo>
                  <a:pt x="499" y="16"/>
                </a:lnTo>
                <a:lnTo>
                  <a:pt x="487" y="12"/>
                </a:lnTo>
                <a:lnTo>
                  <a:pt x="476" y="12"/>
                </a:lnTo>
                <a:lnTo>
                  <a:pt x="452" y="12"/>
                </a:lnTo>
                <a:lnTo>
                  <a:pt x="429" y="8"/>
                </a:lnTo>
                <a:lnTo>
                  <a:pt x="406" y="8"/>
                </a:lnTo>
                <a:lnTo>
                  <a:pt x="378" y="4"/>
                </a:lnTo>
                <a:lnTo>
                  <a:pt x="367" y="4"/>
                </a:lnTo>
                <a:lnTo>
                  <a:pt x="355" y="4"/>
                </a:lnTo>
                <a:lnTo>
                  <a:pt x="343" y="4"/>
                </a:lnTo>
                <a:lnTo>
                  <a:pt x="331" y="4"/>
                </a:lnTo>
                <a:lnTo>
                  <a:pt x="304" y="0"/>
                </a:lnTo>
                <a:lnTo>
                  <a:pt x="292" y="0"/>
                </a:lnTo>
                <a:lnTo>
                  <a:pt x="277" y="0"/>
                </a:lnTo>
                <a:lnTo>
                  <a:pt x="265" y="0"/>
                </a:lnTo>
                <a:lnTo>
                  <a:pt x="253" y="0"/>
                </a:lnTo>
                <a:lnTo>
                  <a:pt x="226" y="0"/>
                </a:lnTo>
                <a:lnTo>
                  <a:pt x="199" y="0"/>
                </a:lnTo>
                <a:lnTo>
                  <a:pt x="168" y="0"/>
                </a:lnTo>
                <a:lnTo>
                  <a:pt x="140" y="4"/>
                </a:lnTo>
                <a:lnTo>
                  <a:pt x="109" y="4"/>
                </a:lnTo>
                <a:lnTo>
                  <a:pt x="82" y="4"/>
                </a:lnTo>
                <a:lnTo>
                  <a:pt x="54" y="8"/>
                </a:lnTo>
                <a:lnTo>
                  <a:pt x="27" y="8"/>
                </a:lnTo>
                <a:lnTo>
                  <a:pt x="0" y="12"/>
                </a:lnTo>
                <a:lnTo>
                  <a:pt x="230" y="390"/>
                </a:lnTo>
                <a:lnTo>
                  <a:pt x="1225" y="39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6175440" y="3784680"/>
            <a:ext cx="1017360" cy="1014120"/>
            <a:chOff x="6175440" y="3784680"/>
            <a:chExt cx="1017360" cy="1014120"/>
          </a:xfrm>
        </p:grpSpPr>
        <p:sp>
          <p:nvSpPr>
            <p:cNvPr id="946" name=""/>
            <p:cNvSpPr/>
            <p:nvPr/>
          </p:nvSpPr>
          <p:spPr>
            <a:xfrm>
              <a:off x="6966000" y="3784680"/>
              <a:ext cx="226800" cy="1014120"/>
            </a:xfrm>
            <a:custGeom>
              <a:avLst/>
              <a:gdLst/>
              <a:ahLst/>
              <a:rect l="l" t="t" r="r" b="b"/>
              <a:pathLst>
                <a:path w="222" h="476">
                  <a:moveTo>
                    <a:pt x="222" y="378"/>
                  </a:moveTo>
                  <a:lnTo>
                    <a:pt x="0" y="0"/>
                  </a:lnTo>
                  <a:lnTo>
                    <a:pt x="0" y="97"/>
                  </a:lnTo>
                  <a:lnTo>
                    <a:pt x="222" y="476"/>
                  </a:lnTo>
                  <a:lnTo>
                    <a:pt x="222" y="378"/>
                  </a:lnTo>
                  <a:close/>
                </a:path>
              </a:pathLst>
            </a:custGeom>
            <a:solidFill>
              <a:srgbClr val="26262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175440" y="3784680"/>
              <a:ext cx="1017360" cy="939600"/>
            </a:xfrm>
            <a:custGeom>
              <a:avLst/>
              <a:gdLst/>
              <a:ahLst/>
              <a:rect l="l" t="t" r="r" b="b"/>
              <a:pathLst>
                <a:path w="999" h="441">
                  <a:moveTo>
                    <a:pt x="769" y="0"/>
                  </a:moveTo>
                  <a:lnTo>
                    <a:pt x="726" y="4"/>
                  </a:lnTo>
                  <a:lnTo>
                    <a:pt x="687" y="8"/>
                  </a:lnTo>
                  <a:lnTo>
                    <a:pt x="648" y="15"/>
                  </a:lnTo>
                  <a:lnTo>
                    <a:pt x="609" y="19"/>
                  </a:lnTo>
                  <a:lnTo>
                    <a:pt x="570" y="27"/>
                  </a:lnTo>
                  <a:lnTo>
                    <a:pt x="550" y="31"/>
                  </a:lnTo>
                  <a:lnTo>
                    <a:pt x="535" y="35"/>
                  </a:lnTo>
                  <a:lnTo>
                    <a:pt x="500" y="43"/>
                  </a:lnTo>
                  <a:lnTo>
                    <a:pt x="461" y="50"/>
                  </a:lnTo>
                  <a:lnTo>
                    <a:pt x="445" y="54"/>
                  </a:lnTo>
                  <a:lnTo>
                    <a:pt x="429" y="58"/>
                  </a:lnTo>
                  <a:lnTo>
                    <a:pt x="410" y="62"/>
                  </a:lnTo>
                  <a:lnTo>
                    <a:pt x="394" y="70"/>
                  </a:lnTo>
                  <a:lnTo>
                    <a:pt x="379" y="74"/>
                  </a:lnTo>
                  <a:lnTo>
                    <a:pt x="363" y="78"/>
                  </a:lnTo>
                  <a:lnTo>
                    <a:pt x="332" y="89"/>
                  </a:lnTo>
                  <a:lnTo>
                    <a:pt x="301" y="101"/>
                  </a:lnTo>
                  <a:lnTo>
                    <a:pt x="289" y="105"/>
                  </a:lnTo>
                  <a:lnTo>
                    <a:pt x="273" y="113"/>
                  </a:lnTo>
                  <a:lnTo>
                    <a:pt x="262" y="117"/>
                  </a:lnTo>
                  <a:lnTo>
                    <a:pt x="246" y="125"/>
                  </a:lnTo>
                  <a:lnTo>
                    <a:pt x="219" y="136"/>
                  </a:lnTo>
                  <a:lnTo>
                    <a:pt x="195" y="148"/>
                  </a:lnTo>
                  <a:lnTo>
                    <a:pt x="184" y="156"/>
                  </a:lnTo>
                  <a:lnTo>
                    <a:pt x="172" y="160"/>
                  </a:lnTo>
                  <a:lnTo>
                    <a:pt x="160" y="167"/>
                  </a:lnTo>
                  <a:lnTo>
                    <a:pt x="149" y="175"/>
                  </a:lnTo>
                  <a:lnTo>
                    <a:pt x="137" y="183"/>
                  </a:lnTo>
                  <a:lnTo>
                    <a:pt x="129" y="191"/>
                  </a:lnTo>
                  <a:lnTo>
                    <a:pt x="117" y="195"/>
                  </a:lnTo>
                  <a:lnTo>
                    <a:pt x="110" y="203"/>
                  </a:lnTo>
                  <a:lnTo>
                    <a:pt x="98" y="210"/>
                  </a:lnTo>
                  <a:lnTo>
                    <a:pt x="90" y="218"/>
                  </a:lnTo>
                  <a:lnTo>
                    <a:pt x="82" y="226"/>
                  </a:lnTo>
                  <a:lnTo>
                    <a:pt x="74" y="234"/>
                  </a:lnTo>
                  <a:lnTo>
                    <a:pt x="67" y="242"/>
                  </a:lnTo>
                  <a:lnTo>
                    <a:pt x="59" y="249"/>
                  </a:lnTo>
                  <a:lnTo>
                    <a:pt x="51" y="257"/>
                  </a:lnTo>
                  <a:lnTo>
                    <a:pt x="47" y="265"/>
                  </a:lnTo>
                  <a:lnTo>
                    <a:pt x="39" y="273"/>
                  </a:lnTo>
                  <a:lnTo>
                    <a:pt x="39" y="277"/>
                  </a:lnTo>
                  <a:lnTo>
                    <a:pt x="35" y="281"/>
                  </a:lnTo>
                  <a:lnTo>
                    <a:pt x="28" y="288"/>
                  </a:lnTo>
                  <a:lnTo>
                    <a:pt x="24" y="296"/>
                  </a:lnTo>
                  <a:lnTo>
                    <a:pt x="24" y="300"/>
                  </a:lnTo>
                  <a:lnTo>
                    <a:pt x="20" y="304"/>
                  </a:lnTo>
                  <a:lnTo>
                    <a:pt x="20" y="308"/>
                  </a:lnTo>
                  <a:lnTo>
                    <a:pt x="16" y="308"/>
                  </a:lnTo>
                  <a:lnTo>
                    <a:pt x="16" y="312"/>
                  </a:lnTo>
                  <a:lnTo>
                    <a:pt x="16" y="316"/>
                  </a:lnTo>
                  <a:lnTo>
                    <a:pt x="12" y="320"/>
                  </a:lnTo>
                  <a:lnTo>
                    <a:pt x="8" y="327"/>
                  </a:lnTo>
                  <a:lnTo>
                    <a:pt x="8" y="335"/>
                  </a:lnTo>
                  <a:lnTo>
                    <a:pt x="4" y="343"/>
                  </a:lnTo>
                  <a:lnTo>
                    <a:pt x="4" y="347"/>
                  </a:lnTo>
                  <a:lnTo>
                    <a:pt x="4" y="35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4" y="363"/>
                  </a:lnTo>
                  <a:lnTo>
                    <a:pt x="0" y="366"/>
                  </a:lnTo>
                  <a:lnTo>
                    <a:pt x="0" y="370"/>
                  </a:lnTo>
                  <a:lnTo>
                    <a:pt x="0" y="374"/>
                  </a:lnTo>
                  <a:lnTo>
                    <a:pt x="0" y="378"/>
                  </a:lnTo>
                  <a:lnTo>
                    <a:pt x="0" y="386"/>
                  </a:lnTo>
                  <a:lnTo>
                    <a:pt x="0" y="394"/>
                  </a:lnTo>
                  <a:lnTo>
                    <a:pt x="4" y="402"/>
                  </a:lnTo>
                  <a:lnTo>
                    <a:pt x="4" y="409"/>
                  </a:lnTo>
                  <a:lnTo>
                    <a:pt x="4" y="417"/>
                  </a:lnTo>
                  <a:lnTo>
                    <a:pt x="8" y="425"/>
                  </a:lnTo>
                  <a:lnTo>
                    <a:pt x="12" y="433"/>
                  </a:lnTo>
                  <a:lnTo>
                    <a:pt x="12" y="441"/>
                  </a:lnTo>
                  <a:lnTo>
                    <a:pt x="999" y="378"/>
                  </a:lnTo>
                  <a:lnTo>
                    <a:pt x="76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175440" y="4591080"/>
            <a:ext cx="1017000" cy="1022400"/>
            <a:chOff x="6175440" y="4591080"/>
            <a:chExt cx="1017000" cy="1022400"/>
          </a:xfrm>
        </p:grpSpPr>
        <p:sp>
          <p:nvSpPr>
            <p:cNvPr id="949" name=""/>
            <p:cNvSpPr/>
            <p:nvPr/>
          </p:nvSpPr>
          <p:spPr>
            <a:xfrm>
              <a:off x="6188040" y="4591080"/>
              <a:ext cx="1004400" cy="331920"/>
            </a:xfrm>
            <a:custGeom>
              <a:avLst/>
              <a:gdLst/>
              <a:ahLst/>
              <a:rect l="l" t="t" r="r" b="b"/>
              <a:pathLst>
                <a:path w="987" h="156">
                  <a:moveTo>
                    <a:pt x="987" y="0"/>
                  </a:moveTo>
                  <a:lnTo>
                    <a:pt x="0" y="59"/>
                  </a:lnTo>
                  <a:lnTo>
                    <a:pt x="0" y="156"/>
                  </a:lnTo>
                  <a:lnTo>
                    <a:pt x="987" y="98"/>
                  </a:lnTo>
                  <a:lnTo>
                    <a:pt x="987" y="0"/>
                  </a:lnTo>
                  <a:close/>
                </a:path>
              </a:pathLst>
            </a:custGeom>
            <a:solidFill>
              <a:srgbClr val="0202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175440" y="4591080"/>
              <a:ext cx="12600" cy="341280"/>
            </a:xfrm>
            <a:custGeom>
              <a:avLst/>
              <a:gdLst/>
              <a:ahLst/>
              <a:rect l="l" t="t" r="r" b="b"/>
              <a:pathLst>
                <a:path w="12" h="160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4" y="24"/>
                  </a:lnTo>
                  <a:lnTo>
                    <a:pt x="4" y="31"/>
                  </a:lnTo>
                  <a:lnTo>
                    <a:pt x="4" y="39"/>
                  </a:lnTo>
                  <a:lnTo>
                    <a:pt x="8" y="47"/>
                  </a:lnTo>
                  <a:lnTo>
                    <a:pt x="12" y="55"/>
                  </a:lnTo>
                  <a:lnTo>
                    <a:pt x="12" y="63"/>
                  </a:lnTo>
                  <a:lnTo>
                    <a:pt x="12" y="160"/>
                  </a:lnTo>
                  <a:lnTo>
                    <a:pt x="12" y="152"/>
                  </a:lnTo>
                  <a:lnTo>
                    <a:pt x="8" y="144"/>
                  </a:lnTo>
                  <a:lnTo>
                    <a:pt x="8" y="137"/>
                  </a:lnTo>
                  <a:lnTo>
                    <a:pt x="4" y="129"/>
                  </a:lnTo>
                  <a:lnTo>
                    <a:pt x="4" y="125"/>
                  </a:lnTo>
                  <a:lnTo>
                    <a:pt x="4" y="121"/>
                  </a:lnTo>
                  <a:lnTo>
                    <a:pt x="4" y="117"/>
                  </a:lnTo>
                  <a:lnTo>
                    <a:pt x="4" y="113"/>
                  </a:lnTo>
                  <a:lnTo>
                    <a:pt x="0" y="109"/>
                  </a:lnTo>
                  <a:lnTo>
                    <a:pt x="0" y="105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965640" y="4591080"/>
              <a:ext cx="226800" cy="1022400"/>
            </a:xfrm>
            <a:custGeom>
              <a:avLst/>
              <a:gdLst/>
              <a:ahLst/>
              <a:rect l="l" t="t" r="r" b="b"/>
              <a:pathLst>
                <a:path w="222" h="480">
                  <a:moveTo>
                    <a:pt x="222" y="0"/>
                  </a:moveTo>
                  <a:lnTo>
                    <a:pt x="0" y="382"/>
                  </a:lnTo>
                  <a:lnTo>
                    <a:pt x="0" y="480"/>
                  </a:lnTo>
                  <a:lnTo>
                    <a:pt x="222" y="98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001a3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188040" y="4724280"/>
              <a:ext cx="769320" cy="881280"/>
            </a:xfrm>
            <a:custGeom>
              <a:avLst/>
              <a:gdLst/>
              <a:ahLst/>
              <a:rect l="l" t="t" r="r" b="b"/>
              <a:pathLst>
                <a:path w="757" h="413">
                  <a:moveTo>
                    <a:pt x="0" y="0"/>
                  </a:moveTo>
                  <a:lnTo>
                    <a:pt x="4" y="7"/>
                  </a:lnTo>
                  <a:lnTo>
                    <a:pt x="8" y="15"/>
                  </a:lnTo>
                  <a:lnTo>
                    <a:pt x="12" y="19"/>
                  </a:lnTo>
                  <a:lnTo>
                    <a:pt x="16" y="27"/>
                  </a:lnTo>
                  <a:lnTo>
                    <a:pt x="20" y="35"/>
                  </a:lnTo>
                  <a:lnTo>
                    <a:pt x="27" y="42"/>
                  </a:lnTo>
                  <a:lnTo>
                    <a:pt x="31" y="50"/>
                  </a:lnTo>
                  <a:lnTo>
                    <a:pt x="35" y="58"/>
                  </a:lnTo>
                  <a:lnTo>
                    <a:pt x="43" y="62"/>
                  </a:lnTo>
                  <a:lnTo>
                    <a:pt x="47" y="70"/>
                  </a:lnTo>
                  <a:lnTo>
                    <a:pt x="55" y="78"/>
                  </a:lnTo>
                  <a:lnTo>
                    <a:pt x="62" y="85"/>
                  </a:lnTo>
                  <a:lnTo>
                    <a:pt x="66" y="89"/>
                  </a:lnTo>
                  <a:lnTo>
                    <a:pt x="74" y="97"/>
                  </a:lnTo>
                  <a:lnTo>
                    <a:pt x="82" y="105"/>
                  </a:lnTo>
                  <a:lnTo>
                    <a:pt x="90" y="109"/>
                  </a:lnTo>
                  <a:lnTo>
                    <a:pt x="101" y="117"/>
                  </a:lnTo>
                  <a:lnTo>
                    <a:pt x="109" y="124"/>
                  </a:lnTo>
                  <a:lnTo>
                    <a:pt x="117" y="128"/>
                  </a:lnTo>
                  <a:lnTo>
                    <a:pt x="125" y="136"/>
                  </a:lnTo>
                  <a:lnTo>
                    <a:pt x="137" y="140"/>
                  </a:lnTo>
                  <a:lnTo>
                    <a:pt x="144" y="148"/>
                  </a:lnTo>
                  <a:lnTo>
                    <a:pt x="156" y="156"/>
                  </a:lnTo>
                  <a:lnTo>
                    <a:pt x="164" y="160"/>
                  </a:lnTo>
                  <a:lnTo>
                    <a:pt x="176" y="167"/>
                  </a:lnTo>
                  <a:lnTo>
                    <a:pt x="179" y="167"/>
                  </a:lnTo>
                  <a:lnTo>
                    <a:pt x="187" y="171"/>
                  </a:lnTo>
                  <a:lnTo>
                    <a:pt x="199" y="175"/>
                  </a:lnTo>
                  <a:lnTo>
                    <a:pt x="203" y="179"/>
                  </a:lnTo>
                  <a:lnTo>
                    <a:pt x="207" y="183"/>
                  </a:lnTo>
                  <a:lnTo>
                    <a:pt x="218" y="187"/>
                  </a:lnTo>
                  <a:lnTo>
                    <a:pt x="234" y="195"/>
                  </a:lnTo>
                  <a:lnTo>
                    <a:pt x="246" y="199"/>
                  </a:lnTo>
                  <a:lnTo>
                    <a:pt x="257" y="202"/>
                  </a:lnTo>
                  <a:lnTo>
                    <a:pt x="269" y="210"/>
                  </a:lnTo>
                  <a:lnTo>
                    <a:pt x="281" y="214"/>
                  </a:lnTo>
                  <a:lnTo>
                    <a:pt x="297" y="218"/>
                  </a:lnTo>
                  <a:lnTo>
                    <a:pt x="308" y="226"/>
                  </a:lnTo>
                  <a:lnTo>
                    <a:pt x="320" y="230"/>
                  </a:lnTo>
                  <a:lnTo>
                    <a:pt x="336" y="234"/>
                  </a:lnTo>
                  <a:lnTo>
                    <a:pt x="351" y="238"/>
                  </a:lnTo>
                  <a:lnTo>
                    <a:pt x="363" y="241"/>
                  </a:lnTo>
                  <a:lnTo>
                    <a:pt x="378" y="249"/>
                  </a:lnTo>
                  <a:lnTo>
                    <a:pt x="394" y="249"/>
                  </a:lnTo>
                  <a:lnTo>
                    <a:pt x="406" y="257"/>
                  </a:lnTo>
                  <a:lnTo>
                    <a:pt x="421" y="261"/>
                  </a:lnTo>
                  <a:lnTo>
                    <a:pt x="453" y="269"/>
                  </a:lnTo>
                  <a:lnTo>
                    <a:pt x="484" y="277"/>
                  </a:lnTo>
                  <a:lnTo>
                    <a:pt x="515" y="280"/>
                  </a:lnTo>
                  <a:lnTo>
                    <a:pt x="550" y="288"/>
                  </a:lnTo>
                  <a:lnTo>
                    <a:pt x="566" y="292"/>
                  </a:lnTo>
                  <a:lnTo>
                    <a:pt x="573" y="292"/>
                  </a:lnTo>
                  <a:lnTo>
                    <a:pt x="581" y="296"/>
                  </a:lnTo>
                  <a:lnTo>
                    <a:pt x="601" y="296"/>
                  </a:lnTo>
                  <a:lnTo>
                    <a:pt x="616" y="300"/>
                  </a:lnTo>
                  <a:lnTo>
                    <a:pt x="632" y="304"/>
                  </a:lnTo>
                  <a:lnTo>
                    <a:pt x="652" y="304"/>
                  </a:lnTo>
                  <a:lnTo>
                    <a:pt x="687" y="312"/>
                  </a:lnTo>
                  <a:lnTo>
                    <a:pt x="702" y="312"/>
                  </a:lnTo>
                  <a:lnTo>
                    <a:pt x="722" y="316"/>
                  </a:lnTo>
                  <a:lnTo>
                    <a:pt x="730" y="316"/>
                  </a:lnTo>
                  <a:lnTo>
                    <a:pt x="741" y="316"/>
                  </a:lnTo>
                  <a:lnTo>
                    <a:pt x="757" y="319"/>
                  </a:lnTo>
                  <a:lnTo>
                    <a:pt x="757" y="413"/>
                  </a:lnTo>
                  <a:lnTo>
                    <a:pt x="722" y="413"/>
                  </a:lnTo>
                  <a:lnTo>
                    <a:pt x="687" y="409"/>
                  </a:lnTo>
                  <a:lnTo>
                    <a:pt x="652" y="401"/>
                  </a:lnTo>
                  <a:lnTo>
                    <a:pt x="616" y="397"/>
                  </a:lnTo>
                  <a:lnTo>
                    <a:pt x="581" y="394"/>
                  </a:lnTo>
                  <a:lnTo>
                    <a:pt x="550" y="386"/>
                  </a:lnTo>
                  <a:lnTo>
                    <a:pt x="515" y="378"/>
                  </a:lnTo>
                  <a:lnTo>
                    <a:pt x="484" y="374"/>
                  </a:lnTo>
                  <a:lnTo>
                    <a:pt x="453" y="366"/>
                  </a:lnTo>
                  <a:lnTo>
                    <a:pt x="421" y="358"/>
                  </a:lnTo>
                  <a:lnTo>
                    <a:pt x="394" y="351"/>
                  </a:lnTo>
                  <a:lnTo>
                    <a:pt x="363" y="339"/>
                  </a:lnTo>
                  <a:lnTo>
                    <a:pt x="336" y="331"/>
                  </a:lnTo>
                  <a:lnTo>
                    <a:pt x="308" y="323"/>
                  </a:lnTo>
                  <a:lnTo>
                    <a:pt x="281" y="312"/>
                  </a:lnTo>
                  <a:lnTo>
                    <a:pt x="269" y="308"/>
                  </a:lnTo>
                  <a:lnTo>
                    <a:pt x="257" y="300"/>
                  </a:lnTo>
                  <a:lnTo>
                    <a:pt x="246" y="296"/>
                  </a:lnTo>
                  <a:lnTo>
                    <a:pt x="234" y="292"/>
                  </a:lnTo>
                  <a:lnTo>
                    <a:pt x="218" y="284"/>
                  </a:lnTo>
                  <a:lnTo>
                    <a:pt x="211" y="280"/>
                  </a:lnTo>
                  <a:lnTo>
                    <a:pt x="187" y="269"/>
                  </a:lnTo>
                  <a:lnTo>
                    <a:pt x="164" y="257"/>
                  </a:lnTo>
                  <a:lnTo>
                    <a:pt x="156" y="249"/>
                  </a:lnTo>
                  <a:lnTo>
                    <a:pt x="144" y="245"/>
                  </a:lnTo>
                  <a:lnTo>
                    <a:pt x="125" y="234"/>
                  </a:lnTo>
                  <a:lnTo>
                    <a:pt x="117" y="226"/>
                  </a:lnTo>
                  <a:lnTo>
                    <a:pt x="109" y="222"/>
                  </a:lnTo>
                  <a:lnTo>
                    <a:pt x="101" y="214"/>
                  </a:lnTo>
                  <a:lnTo>
                    <a:pt x="90" y="206"/>
                  </a:lnTo>
                  <a:lnTo>
                    <a:pt x="82" y="202"/>
                  </a:lnTo>
                  <a:lnTo>
                    <a:pt x="74" y="195"/>
                  </a:lnTo>
                  <a:lnTo>
                    <a:pt x="66" y="187"/>
                  </a:lnTo>
                  <a:lnTo>
                    <a:pt x="62" y="183"/>
                  </a:lnTo>
                  <a:lnTo>
                    <a:pt x="55" y="175"/>
                  </a:lnTo>
                  <a:lnTo>
                    <a:pt x="47" y="167"/>
                  </a:lnTo>
                  <a:lnTo>
                    <a:pt x="43" y="160"/>
                  </a:lnTo>
                  <a:lnTo>
                    <a:pt x="35" y="156"/>
                  </a:lnTo>
                  <a:lnTo>
                    <a:pt x="31" y="148"/>
                  </a:lnTo>
                  <a:lnTo>
                    <a:pt x="27" y="140"/>
                  </a:lnTo>
                  <a:lnTo>
                    <a:pt x="20" y="132"/>
                  </a:lnTo>
                  <a:lnTo>
                    <a:pt x="16" y="124"/>
                  </a:lnTo>
                  <a:lnTo>
                    <a:pt x="16" y="120"/>
                  </a:lnTo>
                  <a:lnTo>
                    <a:pt x="12" y="117"/>
                  </a:lnTo>
                  <a:lnTo>
                    <a:pt x="8" y="113"/>
                  </a:lnTo>
                  <a:lnTo>
                    <a:pt x="4" y="105"/>
                  </a:lnTo>
                  <a:lnTo>
                    <a:pt x="4" y="101"/>
                  </a:lnTo>
                  <a:lnTo>
                    <a:pt x="0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5850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188040" y="4591080"/>
              <a:ext cx="1004400" cy="814320"/>
            </a:xfrm>
            <a:custGeom>
              <a:avLst/>
              <a:gdLst/>
              <a:ahLst/>
              <a:rect l="l" t="t" r="r" b="b"/>
              <a:pathLst>
                <a:path w="987" h="382">
                  <a:moveTo>
                    <a:pt x="0" y="63"/>
                  </a:moveTo>
                  <a:lnTo>
                    <a:pt x="4" y="70"/>
                  </a:lnTo>
                  <a:lnTo>
                    <a:pt x="8" y="78"/>
                  </a:lnTo>
                  <a:lnTo>
                    <a:pt x="12" y="82"/>
                  </a:lnTo>
                  <a:lnTo>
                    <a:pt x="16" y="90"/>
                  </a:lnTo>
                  <a:lnTo>
                    <a:pt x="20" y="98"/>
                  </a:lnTo>
                  <a:lnTo>
                    <a:pt x="27" y="105"/>
                  </a:lnTo>
                  <a:lnTo>
                    <a:pt x="31" y="113"/>
                  </a:lnTo>
                  <a:lnTo>
                    <a:pt x="35" y="121"/>
                  </a:lnTo>
                  <a:lnTo>
                    <a:pt x="43" y="125"/>
                  </a:lnTo>
                  <a:lnTo>
                    <a:pt x="47" y="133"/>
                  </a:lnTo>
                  <a:lnTo>
                    <a:pt x="55" y="141"/>
                  </a:lnTo>
                  <a:lnTo>
                    <a:pt x="62" y="148"/>
                  </a:lnTo>
                  <a:lnTo>
                    <a:pt x="66" y="152"/>
                  </a:lnTo>
                  <a:lnTo>
                    <a:pt x="74" y="160"/>
                  </a:lnTo>
                  <a:lnTo>
                    <a:pt x="82" y="168"/>
                  </a:lnTo>
                  <a:lnTo>
                    <a:pt x="90" y="172"/>
                  </a:lnTo>
                  <a:lnTo>
                    <a:pt x="101" y="180"/>
                  </a:lnTo>
                  <a:lnTo>
                    <a:pt x="109" y="187"/>
                  </a:lnTo>
                  <a:lnTo>
                    <a:pt x="117" y="191"/>
                  </a:lnTo>
                  <a:lnTo>
                    <a:pt x="125" y="199"/>
                  </a:lnTo>
                  <a:lnTo>
                    <a:pt x="137" y="203"/>
                  </a:lnTo>
                  <a:lnTo>
                    <a:pt x="144" y="211"/>
                  </a:lnTo>
                  <a:lnTo>
                    <a:pt x="156" y="219"/>
                  </a:lnTo>
                  <a:lnTo>
                    <a:pt x="164" y="223"/>
                  </a:lnTo>
                  <a:lnTo>
                    <a:pt x="176" y="230"/>
                  </a:lnTo>
                  <a:lnTo>
                    <a:pt x="179" y="230"/>
                  </a:lnTo>
                  <a:lnTo>
                    <a:pt x="187" y="234"/>
                  </a:lnTo>
                  <a:lnTo>
                    <a:pt x="199" y="238"/>
                  </a:lnTo>
                  <a:lnTo>
                    <a:pt x="203" y="242"/>
                  </a:lnTo>
                  <a:lnTo>
                    <a:pt x="207" y="246"/>
                  </a:lnTo>
                  <a:lnTo>
                    <a:pt x="218" y="250"/>
                  </a:lnTo>
                  <a:lnTo>
                    <a:pt x="234" y="258"/>
                  </a:lnTo>
                  <a:lnTo>
                    <a:pt x="246" y="262"/>
                  </a:lnTo>
                  <a:lnTo>
                    <a:pt x="257" y="265"/>
                  </a:lnTo>
                  <a:lnTo>
                    <a:pt x="269" y="273"/>
                  </a:lnTo>
                  <a:lnTo>
                    <a:pt x="281" y="277"/>
                  </a:lnTo>
                  <a:lnTo>
                    <a:pt x="297" y="281"/>
                  </a:lnTo>
                  <a:lnTo>
                    <a:pt x="308" y="289"/>
                  </a:lnTo>
                  <a:lnTo>
                    <a:pt x="320" y="293"/>
                  </a:lnTo>
                  <a:lnTo>
                    <a:pt x="336" y="297"/>
                  </a:lnTo>
                  <a:lnTo>
                    <a:pt x="351" y="301"/>
                  </a:lnTo>
                  <a:lnTo>
                    <a:pt x="363" y="304"/>
                  </a:lnTo>
                  <a:lnTo>
                    <a:pt x="378" y="312"/>
                  </a:lnTo>
                  <a:lnTo>
                    <a:pt x="394" y="312"/>
                  </a:lnTo>
                  <a:lnTo>
                    <a:pt x="406" y="320"/>
                  </a:lnTo>
                  <a:lnTo>
                    <a:pt x="421" y="324"/>
                  </a:lnTo>
                  <a:lnTo>
                    <a:pt x="453" y="332"/>
                  </a:lnTo>
                  <a:lnTo>
                    <a:pt x="484" y="340"/>
                  </a:lnTo>
                  <a:lnTo>
                    <a:pt x="515" y="343"/>
                  </a:lnTo>
                  <a:lnTo>
                    <a:pt x="550" y="351"/>
                  </a:lnTo>
                  <a:lnTo>
                    <a:pt x="566" y="355"/>
                  </a:lnTo>
                  <a:lnTo>
                    <a:pt x="573" y="355"/>
                  </a:lnTo>
                  <a:lnTo>
                    <a:pt x="581" y="359"/>
                  </a:lnTo>
                  <a:lnTo>
                    <a:pt x="601" y="359"/>
                  </a:lnTo>
                  <a:lnTo>
                    <a:pt x="616" y="363"/>
                  </a:lnTo>
                  <a:lnTo>
                    <a:pt x="632" y="367"/>
                  </a:lnTo>
                  <a:lnTo>
                    <a:pt x="652" y="367"/>
                  </a:lnTo>
                  <a:lnTo>
                    <a:pt x="687" y="375"/>
                  </a:lnTo>
                  <a:lnTo>
                    <a:pt x="702" y="375"/>
                  </a:lnTo>
                  <a:lnTo>
                    <a:pt x="722" y="379"/>
                  </a:lnTo>
                  <a:lnTo>
                    <a:pt x="730" y="379"/>
                  </a:lnTo>
                  <a:lnTo>
                    <a:pt x="741" y="379"/>
                  </a:lnTo>
                  <a:lnTo>
                    <a:pt x="757" y="382"/>
                  </a:lnTo>
                  <a:lnTo>
                    <a:pt x="987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7205760" y="4591080"/>
            <a:ext cx="977760" cy="869400"/>
            <a:chOff x="7205760" y="4591080"/>
            <a:chExt cx="977760" cy="869400"/>
          </a:xfrm>
        </p:grpSpPr>
        <p:sp>
          <p:nvSpPr>
            <p:cNvPr id="955" name=""/>
            <p:cNvSpPr/>
            <p:nvPr/>
          </p:nvSpPr>
          <p:spPr>
            <a:xfrm>
              <a:off x="7205760" y="4591080"/>
              <a:ext cx="630000" cy="857160"/>
            </a:xfrm>
            <a:custGeom>
              <a:avLst/>
              <a:gdLst/>
              <a:ahLst/>
              <a:rect l="l" t="t" r="r" b="b"/>
              <a:pathLst>
                <a:path w="620" h="402">
                  <a:moveTo>
                    <a:pt x="0" y="0"/>
                  </a:moveTo>
                  <a:lnTo>
                    <a:pt x="620" y="304"/>
                  </a:lnTo>
                  <a:lnTo>
                    <a:pt x="620" y="402"/>
                  </a:lnTo>
                  <a:lnTo>
                    <a:pt x="0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f8f4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848720" y="4852800"/>
              <a:ext cx="334800" cy="607680"/>
            </a:xfrm>
            <a:custGeom>
              <a:avLst/>
              <a:gdLst/>
              <a:ahLst/>
              <a:rect l="l" t="t" r="r" b="b"/>
              <a:pathLst>
                <a:path w="328" h="285">
                  <a:moveTo>
                    <a:pt x="0" y="187"/>
                  </a:moveTo>
                  <a:lnTo>
                    <a:pt x="31" y="180"/>
                  </a:lnTo>
                  <a:lnTo>
                    <a:pt x="55" y="168"/>
                  </a:lnTo>
                  <a:lnTo>
                    <a:pt x="82" y="160"/>
                  </a:lnTo>
                  <a:lnTo>
                    <a:pt x="110" y="148"/>
                  </a:lnTo>
                  <a:lnTo>
                    <a:pt x="133" y="137"/>
                  </a:lnTo>
                  <a:lnTo>
                    <a:pt x="156" y="125"/>
                  </a:lnTo>
                  <a:lnTo>
                    <a:pt x="180" y="113"/>
                  </a:lnTo>
                  <a:lnTo>
                    <a:pt x="199" y="106"/>
                  </a:lnTo>
                  <a:lnTo>
                    <a:pt x="207" y="98"/>
                  </a:lnTo>
                  <a:lnTo>
                    <a:pt x="219" y="90"/>
                  </a:lnTo>
                  <a:lnTo>
                    <a:pt x="238" y="78"/>
                  </a:lnTo>
                  <a:lnTo>
                    <a:pt x="246" y="74"/>
                  </a:lnTo>
                  <a:lnTo>
                    <a:pt x="258" y="66"/>
                  </a:lnTo>
                  <a:lnTo>
                    <a:pt x="266" y="59"/>
                  </a:lnTo>
                  <a:lnTo>
                    <a:pt x="273" y="55"/>
                  </a:lnTo>
                  <a:lnTo>
                    <a:pt x="289" y="39"/>
                  </a:lnTo>
                  <a:lnTo>
                    <a:pt x="297" y="35"/>
                  </a:lnTo>
                  <a:lnTo>
                    <a:pt x="305" y="27"/>
                  </a:lnTo>
                  <a:lnTo>
                    <a:pt x="308" y="20"/>
                  </a:lnTo>
                  <a:lnTo>
                    <a:pt x="316" y="16"/>
                  </a:lnTo>
                  <a:lnTo>
                    <a:pt x="324" y="8"/>
                  </a:lnTo>
                  <a:lnTo>
                    <a:pt x="328" y="0"/>
                  </a:lnTo>
                  <a:lnTo>
                    <a:pt x="328" y="98"/>
                  </a:lnTo>
                  <a:lnTo>
                    <a:pt x="324" y="106"/>
                  </a:lnTo>
                  <a:lnTo>
                    <a:pt x="316" y="113"/>
                  </a:lnTo>
                  <a:lnTo>
                    <a:pt x="308" y="117"/>
                  </a:lnTo>
                  <a:lnTo>
                    <a:pt x="305" y="125"/>
                  </a:lnTo>
                  <a:lnTo>
                    <a:pt x="297" y="133"/>
                  </a:lnTo>
                  <a:lnTo>
                    <a:pt x="289" y="137"/>
                  </a:lnTo>
                  <a:lnTo>
                    <a:pt x="281" y="145"/>
                  </a:lnTo>
                  <a:lnTo>
                    <a:pt x="273" y="152"/>
                  </a:lnTo>
                  <a:lnTo>
                    <a:pt x="266" y="156"/>
                  </a:lnTo>
                  <a:lnTo>
                    <a:pt x="258" y="164"/>
                  </a:lnTo>
                  <a:lnTo>
                    <a:pt x="246" y="172"/>
                  </a:lnTo>
                  <a:lnTo>
                    <a:pt x="238" y="176"/>
                  </a:lnTo>
                  <a:lnTo>
                    <a:pt x="230" y="184"/>
                  </a:lnTo>
                  <a:lnTo>
                    <a:pt x="219" y="191"/>
                  </a:lnTo>
                  <a:lnTo>
                    <a:pt x="211" y="195"/>
                  </a:lnTo>
                  <a:lnTo>
                    <a:pt x="199" y="199"/>
                  </a:lnTo>
                  <a:lnTo>
                    <a:pt x="188" y="207"/>
                  </a:lnTo>
                  <a:lnTo>
                    <a:pt x="180" y="211"/>
                  </a:lnTo>
                  <a:lnTo>
                    <a:pt x="168" y="219"/>
                  </a:lnTo>
                  <a:lnTo>
                    <a:pt x="156" y="223"/>
                  </a:lnTo>
                  <a:lnTo>
                    <a:pt x="145" y="230"/>
                  </a:lnTo>
                  <a:lnTo>
                    <a:pt x="133" y="234"/>
                  </a:lnTo>
                  <a:lnTo>
                    <a:pt x="121" y="242"/>
                  </a:lnTo>
                  <a:lnTo>
                    <a:pt x="110" y="246"/>
                  </a:lnTo>
                  <a:lnTo>
                    <a:pt x="94" y="250"/>
                  </a:lnTo>
                  <a:lnTo>
                    <a:pt x="82" y="258"/>
                  </a:lnTo>
                  <a:lnTo>
                    <a:pt x="71" y="262"/>
                  </a:lnTo>
                  <a:lnTo>
                    <a:pt x="55" y="265"/>
                  </a:lnTo>
                  <a:lnTo>
                    <a:pt x="43" y="269"/>
                  </a:lnTo>
                  <a:lnTo>
                    <a:pt x="35" y="273"/>
                  </a:lnTo>
                  <a:lnTo>
                    <a:pt x="31" y="277"/>
                  </a:lnTo>
                  <a:lnTo>
                    <a:pt x="16" y="281"/>
                  </a:lnTo>
                  <a:lnTo>
                    <a:pt x="0" y="285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02850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05760" y="4603680"/>
              <a:ext cx="965160" cy="647280"/>
            </a:xfrm>
            <a:custGeom>
              <a:avLst/>
              <a:gdLst/>
              <a:ahLst/>
              <a:rect l="l" t="t" r="r" b="b"/>
              <a:pathLst>
                <a:path w="948" h="304">
                  <a:moveTo>
                    <a:pt x="620" y="304"/>
                  </a:moveTo>
                  <a:lnTo>
                    <a:pt x="651" y="297"/>
                  </a:lnTo>
                  <a:lnTo>
                    <a:pt x="675" y="285"/>
                  </a:lnTo>
                  <a:lnTo>
                    <a:pt x="702" y="277"/>
                  </a:lnTo>
                  <a:lnTo>
                    <a:pt x="730" y="265"/>
                  </a:lnTo>
                  <a:lnTo>
                    <a:pt x="753" y="254"/>
                  </a:lnTo>
                  <a:lnTo>
                    <a:pt x="776" y="242"/>
                  </a:lnTo>
                  <a:lnTo>
                    <a:pt x="800" y="230"/>
                  </a:lnTo>
                  <a:lnTo>
                    <a:pt x="819" y="223"/>
                  </a:lnTo>
                  <a:lnTo>
                    <a:pt x="827" y="215"/>
                  </a:lnTo>
                  <a:lnTo>
                    <a:pt x="839" y="207"/>
                  </a:lnTo>
                  <a:lnTo>
                    <a:pt x="858" y="195"/>
                  </a:lnTo>
                  <a:lnTo>
                    <a:pt x="866" y="191"/>
                  </a:lnTo>
                  <a:lnTo>
                    <a:pt x="878" y="183"/>
                  </a:lnTo>
                  <a:lnTo>
                    <a:pt x="886" y="176"/>
                  </a:lnTo>
                  <a:lnTo>
                    <a:pt x="893" y="172"/>
                  </a:lnTo>
                  <a:lnTo>
                    <a:pt x="909" y="156"/>
                  </a:lnTo>
                  <a:lnTo>
                    <a:pt x="917" y="152"/>
                  </a:lnTo>
                  <a:lnTo>
                    <a:pt x="925" y="144"/>
                  </a:lnTo>
                  <a:lnTo>
                    <a:pt x="928" y="137"/>
                  </a:lnTo>
                  <a:lnTo>
                    <a:pt x="936" y="133"/>
                  </a:lnTo>
                  <a:lnTo>
                    <a:pt x="944" y="125"/>
                  </a:lnTo>
                  <a:lnTo>
                    <a:pt x="948" y="117"/>
                  </a:lnTo>
                  <a:lnTo>
                    <a:pt x="0" y="0"/>
                  </a:lnTo>
                  <a:lnTo>
                    <a:pt x="620" y="304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6970680" y="4603680"/>
            <a:ext cx="878040" cy="1040040"/>
            <a:chOff x="6970680" y="4603680"/>
            <a:chExt cx="878040" cy="1040040"/>
          </a:xfrm>
        </p:grpSpPr>
        <p:sp>
          <p:nvSpPr>
            <p:cNvPr id="959" name=""/>
            <p:cNvSpPr/>
            <p:nvPr/>
          </p:nvSpPr>
          <p:spPr>
            <a:xfrm>
              <a:off x="6983280" y="5251320"/>
              <a:ext cx="865440" cy="392400"/>
            </a:xfrm>
            <a:custGeom>
              <a:avLst/>
              <a:gdLst/>
              <a:ahLst/>
              <a:rect l="l" t="t" r="r" b="b"/>
              <a:pathLst>
                <a:path w="850" h="184">
                  <a:moveTo>
                    <a:pt x="0" y="78"/>
                  </a:moveTo>
                  <a:lnTo>
                    <a:pt x="15" y="78"/>
                  </a:lnTo>
                  <a:lnTo>
                    <a:pt x="27" y="78"/>
                  </a:lnTo>
                  <a:lnTo>
                    <a:pt x="58" y="82"/>
                  </a:lnTo>
                  <a:lnTo>
                    <a:pt x="86" y="82"/>
                  </a:lnTo>
                  <a:lnTo>
                    <a:pt x="113" y="86"/>
                  </a:lnTo>
                  <a:lnTo>
                    <a:pt x="129" y="86"/>
                  </a:lnTo>
                  <a:lnTo>
                    <a:pt x="140" y="86"/>
                  </a:lnTo>
                  <a:lnTo>
                    <a:pt x="156" y="86"/>
                  </a:lnTo>
                  <a:lnTo>
                    <a:pt x="171" y="86"/>
                  </a:lnTo>
                  <a:lnTo>
                    <a:pt x="199" y="86"/>
                  </a:lnTo>
                  <a:lnTo>
                    <a:pt x="214" y="86"/>
                  </a:lnTo>
                  <a:lnTo>
                    <a:pt x="230" y="86"/>
                  </a:lnTo>
                  <a:lnTo>
                    <a:pt x="273" y="86"/>
                  </a:lnTo>
                  <a:lnTo>
                    <a:pt x="316" y="86"/>
                  </a:lnTo>
                  <a:lnTo>
                    <a:pt x="359" y="82"/>
                  </a:lnTo>
                  <a:lnTo>
                    <a:pt x="402" y="82"/>
                  </a:lnTo>
                  <a:lnTo>
                    <a:pt x="445" y="78"/>
                  </a:lnTo>
                  <a:lnTo>
                    <a:pt x="484" y="75"/>
                  </a:lnTo>
                  <a:lnTo>
                    <a:pt x="523" y="71"/>
                  </a:lnTo>
                  <a:lnTo>
                    <a:pt x="565" y="63"/>
                  </a:lnTo>
                  <a:lnTo>
                    <a:pt x="605" y="59"/>
                  </a:lnTo>
                  <a:lnTo>
                    <a:pt x="644" y="51"/>
                  </a:lnTo>
                  <a:lnTo>
                    <a:pt x="679" y="43"/>
                  </a:lnTo>
                  <a:lnTo>
                    <a:pt x="714" y="36"/>
                  </a:lnTo>
                  <a:lnTo>
                    <a:pt x="749" y="28"/>
                  </a:lnTo>
                  <a:lnTo>
                    <a:pt x="784" y="20"/>
                  </a:lnTo>
                  <a:lnTo>
                    <a:pt x="819" y="8"/>
                  </a:lnTo>
                  <a:lnTo>
                    <a:pt x="850" y="0"/>
                  </a:lnTo>
                  <a:lnTo>
                    <a:pt x="850" y="98"/>
                  </a:lnTo>
                  <a:lnTo>
                    <a:pt x="835" y="102"/>
                  </a:lnTo>
                  <a:lnTo>
                    <a:pt x="819" y="106"/>
                  </a:lnTo>
                  <a:lnTo>
                    <a:pt x="803" y="114"/>
                  </a:lnTo>
                  <a:lnTo>
                    <a:pt x="784" y="117"/>
                  </a:lnTo>
                  <a:lnTo>
                    <a:pt x="768" y="121"/>
                  </a:lnTo>
                  <a:lnTo>
                    <a:pt x="753" y="125"/>
                  </a:lnTo>
                  <a:lnTo>
                    <a:pt x="733" y="129"/>
                  </a:lnTo>
                  <a:lnTo>
                    <a:pt x="714" y="133"/>
                  </a:lnTo>
                  <a:lnTo>
                    <a:pt x="698" y="137"/>
                  </a:lnTo>
                  <a:lnTo>
                    <a:pt x="679" y="141"/>
                  </a:lnTo>
                  <a:lnTo>
                    <a:pt x="659" y="145"/>
                  </a:lnTo>
                  <a:lnTo>
                    <a:pt x="644" y="149"/>
                  </a:lnTo>
                  <a:lnTo>
                    <a:pt x="624" y="153"/>
                  </a:lnTo>
                  <a:lnTo>
                    <a:pt x="605" y="156"/>
                  </a:lnTo>
                  <a:lnTo>
                    <a:pt x="585" y="156"/>
                  </a:lnTo>
                  <a:lnTo>
                    <a:pt x="565" y="160"/>
                  </a:lnTo>
                  <a:lnTo>
                    <a:pt x="554" y="164"/>
                  </a:lnTo>
                  <a:lnTo>
                    <a:pt x="546" y="164"/>
                  </a:lnTo>
                  <a:lnTo>
                    <a:pt x="526" y="168"/>
                  </a:lnTo>
                  <a:lnTo>
                    <a:pt x="503" y="168"/>
                  </a:lnTo>
                  <a:lnTo>
                    <a:pt x="484" y="172"/>
                  </a:lnTo>
                  <a:lnTo>
                    <a:pt x="464" y="172"/>
                  </a:lnTo>
                  <a:lnTo>
                    <a:pt x="452" y="172"/>
                  </a:lnTo>
                  <a:lnTo>
                    <a:pt x="445" y="176"/>
                  </a:lnTo>
                  <a:lnTo>
                    <a:pt x="421" y="176"/>
                  </a:lnTo>
                  <a:lnTo>
                    <a:pt x="402" y="176"/>
                  </a:lnTo>
                  <a:lnTo>
                    <a:pt x="390" y="180"/>
                  </a:lnTo>
                  <a:lnTo>
                    <a:pt x="378" y="180"/>
                  </a:lnTo>
                  <a:lnTo>
                    <a:pt x="359" y="180"/>
                  </a:lnTo>
                  <a:lnTo>
                    <a:pt x="335" y="180"/>
                  </a:lnTo>
                  <a:lnTo>
                    <a:pt x="316" y="184"/>
                  </a:lnTo>
                  <a:lnTo>
                    <a:pt x="292" y="184"/>
                  </a:lnTo>
                  <a:lnTo>
                    <a:pt x="273" y="184"/>
                  </a:lnTo>
                  <a:lnTo>
                    <a:pt x="250" y="184"/>
                  </a:lnTo>
                  <a:lnTo>
                    <a:pt x="230" y="184"/>
                  </a:lnTo>
                  <a:lnTo>
                    <a:pt x="199" y="184"/>
                  </a:lnTo>
                  <a:lnTo>
                    <a:pt x="171" y="184"/>
                  </a:lnTo>
                  <a:lnTo>
                    <a:pt x="140" y="184"/>
                  </a:lnTo>
                  <a:lnTo>
                    <a:pt x="113" y="180"/>
                  </a:lnTo>
                  <a:lnTo>
                    <a:pt x="86" y="180"/>
                  </a:lnTo>
                  <a:lnTo>
                    <a:pt x="58" y="180"/>
                  </a:lnTo>
                  <a:lnTo>
                    <a:pt x="27" y="176"/>
                  </a:lnTo>
                  <a:lnTo>
                    <a:pt x="0" y="172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3438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970680" y="4603680"/>
              <a:ext cx="865080" cy="830160"/>
            </a:xfrm>
            <a:custGeom>
              <a:avLst/>
              <a:gdLst/>
              <a:ahLst/>
              <a:rect l="l" t="t" r="r" b="b"/>
              <a:pathLst>
                <a:path w="850" h="390">
                  <a:moveTo>
                    <a:pt x="0" y="382"/>
                  </a:moveTo>
                  <a:lnTo>
                    <a:pt x="15" y="382"/>
                  </a:lnTo>
                  <a:lnTo>
                    <a:pt x="27" y="382"/>
                  </a:lnTo>
                  <a:lnTo>
                    <a:pt x="58" y="386"/>
                  </a:lnTo>
                  <a:lnTo>
                    <a:pt x="86" y="386"/>
                  </a:lnTo>
                  <a:lnTo>
                    <a:pt x="113" y="390"/>
                  </a:lnTo>
                  <a:lnTo>
                    <a:pt x="129" y="390"/>
                  </a:lnTo>
                  <a:lnTo>
                    <a:pt x="140" y="390"/>
                  </a:lnTo>
                  <a:lnTo>
                    <a:pt x="156" y="390"/>
                  </a:lnTo>
                  <a:lnTo>
                    <a:pt x="171" y="390"/>
                  </a:lnTo>
                  <a:lnTo>
                    <a:pt x="199" y="390"/>
                  </a:lnTo>
                  <a:lnTo>
                    <a:pt x="214" y="390"/>
                  </a:lnTo>
                  <a:lnTo>
                    <a:pt x="230" y="390"/>
                  </a:lnTo>
                  <a:lnTo>
                    <a:pt x="273" y="390"/>
                  </a:lnTo>
                  <a:lnTo>
                    <a:pt x="316" y="390"/>
                  </a:lnTo>
                  <a:lnTo>
                    <a:pt x="359" y="386"/>
                  </a:lnTo>
                  <a:lnTo>
                    <a:pt x="402" y="386"/>
                  </a:lnTo>
                  <a:lnTo>
                    <a:pt x="445" y="382"/>
                  </a:lnTo>
                  <a:lnTo>
                    <a:pt x="484" y="379"/>
                  </a:lnTo>
                  <a:lnTo>
                    <a:pt x="523" y="375"/>
                  </a:lnTo>
                  <a:lnTo>
                    <a:pt x="565" y="367"/>
                  </a:lnTo>
                  <a:lnTo>
                    <a:pt x="605" y="363"/>
                  </a:lnTo>
                  <a:lnTo>
                    <a:pt x="644" y="355"/>
                  </a:lnTo>
                  <a:lnTo>
                    <a:pt x="679" y="347"/>
                  </a:lnTo>
                  <a:lnTo>
                    <a:pt x="714" y="340"/>
                  </a:lnTo>
                  <a:lnTo>
                    <a:pt x="749" y="332"/>
                  </a:lnTo>
                  <a:lnTo>
                    <a:pt x="784" y="324"/>
                  </a:lnTo>
                  <a:lnTo>
                    <a:pt x="819" y="312"/>
                  </a:lnTo>
                  <a:lnTo>
                    <a:pt x="850" y="304"/>
                  </a:lnTo>
                  <a:lnTo>
                    <a:pt x="230" y="0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0085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1" name=""/>
          <p:cNvSpPr/>
          <p:nvPr/>
        </p:nvSpPr>
        <p:spPr>
          <a:xfrm>
            <a:off x="600120" y="3152880"/>
            <a:ext cx="4895640" cy="30186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fefe"/>
              </a:gs>
              <a:gs pos="100000">
                <a:srgbClr val="ff6600"/>
              </a:gs>
            </a:gsLst>
            <a:lin ang="81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ircle i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ivided proportionall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lative frequenc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and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ortions of the circle            are allocated for the different group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6362640" y="6305400"/>
            <a:ext cx="2648160" cy="304920"/>
            <a:chOff x="6362640" y="6305400"/>
            <a:chExt cx="2648160" cy="304920"/>
          </a:xfrm>
        </p:grpSpPr>
        <p:sp>
          <p:nvSpPr>
            <p:cNvPr id="963" name=""/>
            <p:cNvSpPr/>
            <p:nvPr/>
          </p:nvSpPr>
          <p:spPr>
            <a:xfrm>
              <a:off x="6362640" y="6477120"/>
              <a:ext cx="26481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 txBox="1"/>
            <p:nvPr/>
          </p:nvSpPr>
          <p:spPr>
            <a:xfrm>
              <a:off x="6667560" y="6305400"/>
              <a:ext cx="203832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EXAMPL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965" name=""/>
          <p:cNvSpPr txBox="1"/>
          <p:nvPr/>
        </p:nvSpPr>
        <p:spPr>
          <a:xfrm>
            <a:off x="3652920" y="1109520"/>
            <a:ext cx="1971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Times New Roman"/>
              </a:rPr>
              <a:t>Char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0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500"/>
                            </p:stCondLst>
                            <p:childTnLst>
                              <p:par>
                                <p:cTn id="1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"/>
          <p:cNvGrpSpPr/>
          <p:nvPr/>
        </p:nvGrpSpPr>
        <p:grpSpPr>
          <a:xfrm>
            <a:off x="3565440" y="28440"/>
            <a:ext cx="2030400" cy="1871280"/>
            <a:chOff x="3565440" y="28440"/>
            <a:chExt cx="2030400" cy="1871280"/>
          </a:xfrm>
        </p:grpSpPr>
        <p:grpSp>
          <p:nvGrpSpPr>
            <p:cNvPr id="967" name=""/>
            <p:cNvGrpSpPr/>
            <p:nvPr/>
          </p:nvGrpSpPr>
          <p:grpSpPr>
            <a:xfrm>
              <a:off x="3565440" y="28440"/>
              <a:ext cx="2030400" cy="1871280"/>
              <a:chOff x="3565440" y="28440"/>
              <a:chExt cx="2030400" cy="1871280"/>
            </a:xfrm>
          </p:grpSpPr>
          <p:sp>
            <p:nvSpPr>
              <p:cNvPr id="968" name=""/>
              <p:cNvSpPr/>
              <p:nvPr/>
            </p:nvSpPr>
            <p:spPr>
              <a:xfrm>
                <a:off x="4582800" y="859680"/>
                <a:ext cx="1013040" cy="208800"/>
              </a:xfrm>
              <a:prstGeom prst="rect">
                <a:avLst/>
              </a:prstGeom>
              <a:solidFill>
                <a:srgbClr val="e9e9e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356720" y="54000"/>
                <a:ext cx="225720" cy="1014480"/>
              </a:xfrm>
              <a:custGeom>
                <a:avLst/>
                <a:gdLst/>
                <a:ahLst/>
                <a:rect l="l" t="t" r="r" b="b"/>
                <a:pathLst>
                  <a:path w="222" h="476">
                    <a:moveTo>
                      <a:pt x="222" y="378"/>
                    </a:moveTo>
                    <a:lnTo>
                      <a:pt x="0" y="0"/>
                    </a:lnTo>
                    <a:lnTo>
                      <a:pt x="0" y="97"/>
                    </a:lnTo>
                    <a:lnTo>
                      <a:pt x="222" y="476"/>
                    </a:lnTo>
                    <a:lnTo>
                      <a:pt x="222" y="378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582800" y="859680"/>
                <a:ext cx="969120" cy="449280"/>
              </a:xfrm>
              <a:custGeom>
                <a:avLst/>
                <a:gdLst/>
                <a:ahLst/>
                <a:rect l="l" t="t" r="r" b="b"/>
                <a:pathLst>
                  <a:path w="952" h="211">
                    <a:moveTo>
                      <a:pt x="0" y="0"/>
                    </a:moveTo>
                    <a:lnTo>
                      <a:pt x="952" y="113"/>
                    </a:lnTo>
                    <a:lnTo>
                      <a:pt x="952" y="211"/>
                    </a:lnTo>
                    <a:lnTo>
                      <a:pt x="0" y="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70d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547960" y="859680"/>
                <a:ext cx="47520" cy="457920"/>
              </a:xfrm>
              <a:custGeom>
                <a:avLst/>
                <a:gdLst/>
                <a:ahLst/>
                <a:rect l="l" t="t" r="r" b="b"/>
                <a:pathLst>
                  <a:path w="47" h="215">
                    <a:moveTo>
                      <a:pt x="0" y="117"/>
                    </a:moveTo>
                    <a:lnTo>
                      <a:pt x="4" y="109"/>
                    </a:lnTo>
                    <a:lnTo>
                      <a:pt x="12" y="102"/>
                    </a:lnTo>
                    <a:lnTo>
                      <a:pt x="16" y="94"/>
                    </a:lnTo>
                    <a:lnTo>
                      <a:pt x="19" y="90"/>
                    </a:lnTo>
                    <a:lnTo>
                      <a:pt x="23" y="86"/>
                    </a:lnTo>
                    <a:lnTo>
                      <a:pt x="23" y="82"/>
                    </a:lnTo>
                    <a:lnTo>
                      <a:pt x="27" y="74"/>
                    </a:lnTo>
                    <a:lnTo>
                      <a:pt x="31" y="66"/>
                    </a:lnTo>
                    <a:lnTo>
                      <a:pt x="35" y="59"/>
                    </a:lnTo>
                    <a:lnTo>
                      <a:pt x="39" y="51"/>
                    </a:lnTo>
                    <a:lnTo>
                      <a:pt x="39" y="43"/>
                    </a:lnTo>
                    <a:lnTo>
                      <a:pt x="39" y="43"/>
                    </a:lnTo>
                    <a:lnTo>
                      <a:pt x="43" y="39"/>
                    </a:lnTo>
                    <a:lnTo>
                      <a:pt x="43" y="31"/>
                    </a:lnTo>
                    <a:lnTo>
                      <a:pt x="43" y="24"/>
                    </a:lnTo>
                    <a:lnTo>
                      <a:pt x="43" y="20"/>
                    </a:lnTo>
                    <a:lnTo>
                      <a:pt x="43" y="16"/>
                    </a:lnTo>
                    <a:lnTo>
                      <a:pt x="47" y="8"/>
                    </a:lnTo>
                    <a:lnTo>
                      <a:pt x="47" y="0"/>
                    </a:lnTo>
                    <a:lnTo>
                      <a:pt x="47" y="98"/>
                    </a:lnTo>
                    <a:lnTo>
                      <a:pt x="47" y="105"/>
                    </a:lnTo>
                    <a:lnTo>
                      <a:pt x="47" y="113"/>
                    </a:lnTo>
                    <a:lnTo>
                      <a:pt x="43" y="121"/>
                    </a:lnTo>
                    <a:lnTo>
                      <a:pt x="43" y="129"/>
                    </a:lnTo>
                    <a:lnTo>
                      <a:pt x="43" y="137"/>
                    </a:lnTo>
                    <a:lnTo>
                      <a:pt x="39" y="144"/>
                    </a:lnTo>
                    <a:lnTo>
                      <a:pt x="39" y="148"/>
                    </a:lnTo>
                    <a:lnTo>
                      <a:pt x="35" y="156"/>
                    </a:lnTo>
                    <a:lnTo>
                      <a:pt x="31" y="164"/>
                    </a:lnTo>
                    <a:lnTo>
                      <a:pt x="27" y="172"/>
                    </a:lnTo>
                    <a:lnTo>
                      <a:pt x="23" y="180"/>
                    </a:lnTo>
                    <a:lnTo>
                      <a:pt x="19" y="187"/>
                    </a:lnTo>
                    <a:lnTo>
                      <a:pt x="16" y="191"/>
                    </a:lnTo>
                    <a:lnTo>
                      <a:pt x="12" y="199"/>
                    </a:lnTo>
                    <a:lnTo>
                      <a:pt x="4" y="207"/>
                    </a:lnTo>
                    <a:lnTo>
                      <a:pt x="0" y="215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2858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582800" y="859680"/>
                <a:ext cx="631080" cy="856440"/>
              </a:xfrm>
              <a:custGeom>
                <a:avLst/>
                <a:gdLst/>
                <a:ahLst/>
                <a:rect l="l" t="t" r="r" b="b"/>
                <a:pathLst>
                  <a:path w="620" h="402">
                    <a:moveTo>
                      <a:pt x="0" y="0"/>
                    </a:moveTo>
                    <a:lnTo>
                      <a:pt x="620" y="304"/>
                    </a:lnTo>
                    <a:lnTo>
                      <a:pt x="620" y="402"/>
                    </a:lnTo>
                    <a:lnTo>
                      <a:pt x="0" y="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4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214240" y="1109160"/>
                <a:ext cx="333720" cy="606960"/>
              </a:xfrm>
              <a:custGeom>
                <a:avLst/>
                <a:gdLst/>
                <a:ahLst/>
                <a:rect l="l" t="t" r="r" b="b"/>
                <a:pathLst>
                  <a:path w="328" h="285">
                    <a:moveTo>
                      <a:pt x="0" y="187"/>
                    </a:moveTo>
                    <a:lnTo>
                      <a:pt x="31" y="180"/>
                    </a:lnTo>
                    <a:lnTo>
                      <a:pt x="55" y="168"/>
                    </a:lnTo>
                    <a:lnTo>
                      <a:pt x="82" y="160"/>
                    </a:lnTo>
                    <a:lnTo>
                      <a:pt x="110" y="148"/>
                    </a:lnTo>
                    <a:lnTo>
                      <a:pt x="133" y="137"/>
                    </a:lnTo>
                    <a:lnTo>
                      <a:pt x="156" y="125"/>
                    </a:lnTo>
                    <a:lnTo>
                      <a:pt x="180" y="113"/>
                    </a:lnTo>
                    <a:lnTo>
                      <a:pt x="199" y="106"/>
                    </a:lnTo>
                    <a:lnTo>
                      <a:pt x="207" y="98"/>
                    </a:lnTo>
                    <a:lnTo>
                      <a:pt x="219" y="90"/>
                    </a:lnTo>
                    <a:lnTo>
                      <a:pt x="238" y="78"/>
                    </a:lnTo>
                    <a:lnTo>
                      <a:pt x="246" y="74"/>
                    </a:lnTo>
                    <a:lnTo>
                      <a:pt x="258" y="66"/>
                    </a:lnTo>
                    <a:lnTo>
                      <a:pt x="266" y="59"/>
                    </a:lnTo>
                    <a:lnTo>
                      <a:pt x="273" y="55"/>
                    </a:lnTo>
                    <a:lnTo>
                      <a:pt x="289" y="39"/>
                    </a:lnTo>
                    <a:lnTo>
                      <a:pt x="297" y="35"/>
                    </a:lnTo>
                    <a:lnTo>
                      <a:pt x="305" y="27"/>
                    </a:lnTo>
                    <a:lnTo>
                      <a:pt x="308" y="20"/>
                    </a:lnTo>
                    <a:lnTo>
                      <a:pt x="316" y="16"/>
                    </a:lnTo>
                    <a:lnTo>
                      <a:pt x="324" y="8"/>
                    </a:lnTo>
                    <a:lnTo>
                      <a:pt x="328" y="0"/>
                    </a:lnTo>
                    <a:lnTo>
                      <a:pt x="328" y="98"/>
                    </a:lnTo>
                    <a:lnTo>
                      <a:pt x="324" y="106"/>
                    </a:lnTo>
                    <a:lnTo>
                      <a:pt x="316" y="113"/>
                    </a:lnTo>
                    <a:lnTo>
                      <a:pt x="308" y="117"/>
                    </a:lnTo>
                    <a:lnTo>
                      <a:pt x="305" y="125"/>
                    </a:lnTo>
                    <a:lnTo>
                      <a:pt x="297" y="133"/>
                    </a:lnTo>
                    <a:lnTo>
                      <a:pt x="289" y="137"/>
                    </a:lnTo>
                    <a:lnTo>
                      <a:pt x="281" y="145"/>
                    </a:lnTo>
                    <a:lnTo>
                      <a:pt x="273" y="152"/>
                    </a:lnTo>
                    <a:lnTo>
                      <a:pt x="266" y="156"/>
                    </a:lnTo>
                    <a:lnTo>
                      <a:pt x="258" y="164"/>
                    </a:lnTo>
                    <a:lnTo>
                      <a:pt x="246" y="172"/>
                    </a:lnTo>
                    <a:lnTo>
                      <a:pt x="238" y="176"/>
                    </a:lnTo>
                    <a:lnTo>
                      <a:pt x="230" y="184"/>
                    </a:lnTo>
                    <a:lnTo>
                      <a:pt x="219" y="191"/>
                    </a:lnTo>
                    <a:lnTo>
                      <a:pt x="211" y="195"/>
                    </a:lnTo>
                    <a:lnTo>
                      <a:pt x="199" y="199"/>
                    </a:lnTo>
                    <a:lnTo>
                      <a:pt x="188" y="207"/>
                    </a:lnTo>
                    <a:lnTo>
                      <a:pt x="180" y="211"/>
                    </a:lnTo>
                    <a:lnTo>
                      <a:pt x="168" y="219"/>
                    </a:lnTo>
                    <a:lnTo>
                      <a:pt x="156" y="223"/>
                    </a:lnTo>
                    <a:lnTo>
                      <a:pt x="145" y="230"/>
                    </a:lnTo>
                    <a:lnTo>
                      <a:pt x="133" y="234"/>
                    </a:lnTo>
                    <a:lnTo>
                      <a:pt x="121" y="242"/>
                    </a:lnTo>
                    <a:lnTo>
                      <a:pt x="110" y="246"/>
                    </a:lnTo>
                    <a:lnTo>
                      <a:pt x="94" y="250"/>
                    </a:lnTo>
                    <a:lnTo>
                      <a:pt x="82" y="258"/>
                    </a:lnTo>
                    <a:lnTo>
                      <a:pt x="71" y="262"/>
                    </a:lnTo>
                    <a:lnTo>
                      <a:pt x="55" y="265"/>
                    </a:lnTo>
                    <a:lnTo>
                      <a:pt x="43" y="269"/>
                    </a:lnTo>
                    <a:lnTo>
                      <a:pt x="35" y="273"/>
                    </a:lnTo>
                    <a:lnTo>
                      <a:pt x="31" y="277"/>
                    </a:lnTo>
                    <a:lnTo>
                      <a:pt x="16" y="281"/>
                    </a:lnTo>
                    <a:lnTo>
                      <a:pt x="0" y="285"/>
                    </a:lnTo>
                    <a:lnTo>
                      <a:pt x="0" y="187"/>
                    </a:lnTo>
                    <a:close/>
                  </a:path>
                </a:pathLst>
              </a:custGeom>
              <a:solidFill>
                <a:srgbClr val="02850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577320" y="859680"/>
                <a:ext cx="1005120" cy="332280"/>
              </a:xfrm>
              <a:custGeom>
                <a:avLst/>
                <a:gdLst/>
                <a:ahLst/>
                <a:rect l="l" t="t" r="r" b="b"/>
                <a:pathLst>
                  <a:path w="987" h="156">
                    <a:moveTo>
                      <a:pt x="987" y="0"/>
                    </a:moveTo>
                    <a:lnTo>
                      <a:pt x="0" y="59"/>
                    </a:lnTo>
                    <a:lnTo>
                      <a:pt x="0" y="156"/>
                    </a:lnTo>
                    <a:lnTo>
                      <a:pt x="987" y="98"/>
                    </a:lnTo>
                    <a:lnTo>
                      <a:pt x="987" y="0"/>
                    </a:lnTo>
                    <a:close/>
                  </a:path>
                </a:pathLst>
              </a:custGeom>
              <a:solidFill>
                <a:srgbClr val="0202e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565440" y="859680"/>
                <a:ext cx="11880" cy="340560"/>
              </a:xfrm>
              <a:custGeom>
                <a:avLst/>
                <a:gdLst/>
                <a:ahLst/>
                <a:rect l="l" t="t" r="r" b="b"/>
                <a:pathLst>
                  <a:path w="12" h="160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4" y="24"/>
                    </a:lnTo>
                    <a:lnTo>
                      <a:pt x="4" y="31"/>
                    </a:lnTo>
                    <a:lnTo>
                      <a:pt x="4" y="39"/>
                    </a:lnTo>
                    <a:lnTo>
                      <a:pt x="8" y="47"/>
                    </a:lnTo>
                    <a:lnTo>
                      <a:pt x="12" y="55"/>
                    </a:lnTo>
                    <a:lnTo>
                      <a:pt x="12" y="63"/>
                    </a:lnTo>
                    <a:lnTo>
                      <a:pt x="12" y="160"/>
                    </a:lnTo>
                    <a:lnTo>
                      <a:pt x="12" y="152"/>
                    </a:lnTo>
                    <a:lnTo>
                      <a:pt x="8" y="144"/>
                    </a:lnTo>
                    <a:lnTo>
                      <a:pt x="8" y="137"/>
                    </a:lnTo>
                    <a:lnTo>
                      <a:pt x="4" y="129"/>
                    </a:lnTo>
                    <a:lnTo>
                      <a:pt x="4" y="125"/>
                    </a:lnTo>
                    <a:lnTo>
                      <a:pt x="4" y="121"/>
                    </a:lnTo>
                    <a:lnTo>
                      <a:pt x="4" y="117"/>
                    </a:lnTo>
                    <a:lnTo>
                      <a:pt x="4" y="113"/>
                    </a:lnTo>
                    <a:lnTo>
                      <a:pt x="0" y="109"/>
                    </a:lnTo>
                    <a:lnTo>
                      <a:pt x="0" y="105"/>
                    </a:lnTo>
                    <a:lnTo>
                      <a:pt x="0" y="102"/>
                    </a:lnTo>
                    <a:lnTo>
                      <a:pt x="0" y="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356720" y="859680"/>
                <a:ext cx="225720" cy="1022760"/>
              </a:xfrm>
              <a:custGeom>
                <a:avLst/>
                <a:gdLst/>
                <a:ahLst/>
                <a:rect l="l" t="t" r="r" b="b"/>
                <a:pathLst>
                  <a:path w="222" h="480">
                    <a:moveTo>
                      <a:pt x="222" y="0"/>
                    </a:moveTo>
                    <a:lnTo>
                      <a:pt x="0" y="382"/>
                    </a:lnTo>
                    <a:lnTo>
                      <a:pt x="0" y="480"/>
                    </a:lnTo>
                    <a:lnTo>
                      <a:pt x="222" y="98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1a3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577320" y="993600"/>
                <a:ext cx="770760" cy="880560"/>
              </a:xfrm>
              <a:custGeom>
                <a:avLst/>
                <a:gdLst/>
                <a:ahLst/>
                <a:rect l="l" t="t" r="r" b="b"/>
                <a:pathLst>
                  <a:path w="757" h="413">
                    <a:moveTo>
                      <a:pt x="0" y="0"/>
                    </a:moveTo>
                    <a:lnTo>
                      <a:pt x="4" y="7"/>
                    </a:lnTo>
                    <a:lnTo>
                      <a:pt x="8" y="15"/>
                    </a:lnTo>
                    <a:lnTo>
                      <a:pt x="12" y="19"/>
                    </a:lnTo>
                    <a:lnTo>
                      <a:pt x="16" y="27"/>
                    </a:lnTo>
                    <a:lnTo>
                      <a:pt x="20" y="35"/>
                    </a:lnTo>
                    <a:lnTo>
                      <a:pt x="27" y="42"/>
                    </a:lnTo>
                    <a:lnTo>
                      <a:pt x="31" y="50"/>
                    </a:lnTo>
                    <a:lnTo>
                      <a:pt x="35" y="58"/>
                    </a:lnTo>
                    <a:lnTo>
                      <a:pt x="43" y="62"/>
                    </a:lnTo>
                    <a:lnTo>
                      <a:pt x="47" y="70"/>
                    </a:lnTo>
                    <a:lnTo>
                      <a:pt x="55" y="78"/>
                    </a:lnTo>
                    <a:lnTo>
                      <a:pt x="62" y="85"/>
                    </a:lnTo>
                    <a:lnTo>
                      <a:pt x="66" y="89"/>
                    </a:lnTo>
                    <a:lnTo>
                      <a:pt x="74" y="97"/>
                    </a:lnTo>
                    <a:lnTo>
                      <a:pt x="82" y="105"/>
                    </a:lnTo>
                    <a:lnTo>
                      <a:pt x="90" y="109"/>
                    </a:lnTo>
                    <a:lnTo>
                      <a:pt x="101" y="117"/>
                    </a:lnTo>
                    <a:lnTo>
                      <a:pt x="109" y="124"/>
                    </a:lnTo>
                    <a:lnTo>
                      <a:pt x="117" y="128"/>
                    </a:lnTo>
                    <a:lnTo>
                      <a:pt x="125" y="136"/>
                    </a:lnTo>
                    <a:lnTo>
                      <a:pt x="137" y="140"/>
                    </a:lnTo>
                    <a:lnTo>
                      <a:pt x="144" y="148"/>
                    </a:lnTo>
                    <a:lnTo>
                      <a:pt x="156" y="156"/>
                    </a:lnTo>
                    <a:lnTo>
                      <a:pt x="164" y="160"/>
                    </a:lnTo>
                    <a:lnTo>
                      <a:pt x="176" y="167"/>
                    </a:lnTo>
                    <a:lnTo>
                      <a:pt x="179" y="167"/>
                    </a:lnTo>
                    <a:lnTo>
                      <a:pt x="187" y="171"/>
                    </a:lnTo>
                    <a:lnTo>
                      <a:pt x="199" y="175"/>
                    </a:lnTo>
                    <a:lnTo>
                      <a:pt x="203" y="179"/>
                    </a:lnTo>
                    <a:lnTo>
                      <a:pt x="207" y="183"/>
                    </a:lnTo>
                    <a:lnTo>
                      <a:pt x="218" y="187"/>
                    </a:lnTo>
                    <a:lnTo>
                      <a:pt x="234" y="195"/>
                    </a:lnTo>
                    <a:lnTo>
                      <a:pt x="246" y="199"/>
                    </a:lnTo>
                    <a:lnTo>
                      <a:pt x="257" y="202"/>
                    </a:lnTo>
                    <a:lnTo>
                      <a:pt x="269" y="210"/>
                    </a:lnTo>
                    <a:lnTo>
                      <a:pt x="281" y="214"/>
                    </a:lnTo>
                    <a:lnTo>
                      <a:pt x="297" y="218"/>
                    </a:lnTo>
                    <a:lnTo>
                      <a:pt x="308" y="226"/>
                    </a:lnTo>
                    <a:lnTo>
                      <a:pt x="320" y="230"/>
                    </a:lnTo>
                    <a:lnTo>
                      <a:pt x="336" y="234"/>
                    </a:lnTo>
                    <a:lnTo>
                      <a:pt x="351" y="238"/>
                    </a:lnTo>
                    <a:lnTo>
                      <a:pt x="363" y="241"/>
                    </a:lnTo>
                    <a:lnTo>
                      <a:pt x="378" y="249"/>
                    </a:lnTo>
                    <a:lnTo>
                      <a:pt x="394" y="249"/>
                    </a:lnTo>
                    <a:lnTo>
                      <a:pt x="406" y="257"/>
                    </a:lnTo>
                    <a:lnTo>
                      <a:pt x="421" y="261"/>
                    </a:lnTo>
                    <a:lnTo>
                      <a:pt x="453" y="269"/>
                    </a:lnTo>
                    <a:lnTo>
                      <a:pt x="484" y="277"/>
                    </a:lnTo>
                    <a:lnTo>
                      <a:pt x="515" y="280"/>
                    </a:lnTo>
                    <a:lnTo>
                      <a:pt x="550" y="288"/>
                    </a:lnTo>
                    <a:lnTo>
                      <a:pt x="566" y="292"/>
                    </a:lnTo>
                    <a:lnTo>
                      <a:pt x="573" y="292"/>
                    </a:lnTo>
                    <a:lnTo>
                      <a:pt x="581" y="296"/>
                    </a:lnTo>
                    <a:lnTo>
                      <a:pt x="601" y="296"/>
                    </a:lnTo>
                    <a:lnTo>
                      <a:pt x="616" y="300"/>
                    </a:lnTo>
                    <a:lnTo>
                      <a:pt x="632" y="304"/>
                    </a:lnTo>
                    <a:lnTo>
                      <a:pt x="652" y="304"/>
                    </a:lnTo>
                    <a:lnTo>
                      <a:pt x="687" y="312"/>
                    </a:lnTo>
                    <a:lnTo>
                      <a:pt x="702" y="312"/>
                    </a:lnTo>
                    <a:lnTo>
                      <a:pt x="722" y="316"/>
                    </a:lnTo>
                    <a:lnTo>
                      <a:pt x="730" y="316"/>
                    </a:lnTo>
                    <a:lnTo>
                      <a:pt x="741" y="316"/>
                    </a:lnTo>
                    <a:lnTo>
                      <a:pt x="757" y="319"/>
                    </a:lnTo>
                    <a:lnTo>
                      <a:pt x="757" y="413"/>
                    </a:lnTo>
                    <a:lnTo>
                      <a:pt x="722" y="413"/>
                    </a:lnTo>
                    <a:lnTo>
                      <a:pt x="687" y="409"/>
                    </a:lnTo>
                    <a:lnTo>
                      <a:pt x="652" y="401"/>
                    </a:lnTo>
                    <a:lnTo>
                      <a:pt x="616" y="397"/>
                    </a:lnTo>
                    <a:lnTo>
                      <a:pt x="581" y="394"/>
                    </a:lnTo>
                    <a:lnTo>
                      <a:pt x="550" y="386"/>
                    </a:lnTo>
                    <a:lnTo>
                      <a:pt x="515" y="378"/>
                    </a:lnTo>
                    <a:lnTo>
                      <a:pt x="484" y="374"/>
                    </a:lnTo>
                    <a:lnTo>
                      <a:pt x="453" y="366"/>
                    </a:lnTo>
                    <a:lnTo>
                      <a:pt x="421" y="358"/>
                    </a:lnTo>
                    <a:lnTo>
                      <a:pt x="394" y="351"/>
                    </a:lnTo>
                    <a:lnTo>
                      <a:pt x="363" y="339"/>
                    </a:lnTo>
                    <a:lnTo>
                      <a:pt x="336" y="331"/>
                    </a:lnTo>
                    <a:lnTo>
                      <a:pt x="308" y="323"/>
                    </a:lnTo>
                    <a:lnTo>
                      <a:pt x="281" y="312"/>
                    </a:lnTo>
                    <a:lnTo>
                      <a:pt x="269" y="308"/>
                    </a:lnTo>
                    <a:lnTo>
                      <a:pt x="257" y="300"/>
                    </a:lnTo>
                    <a:lnTo>
                      <a:pt x="246" y="296"/>
                    </a:lnTo>
                    <a:lnTo>
                      <a:pt x="234" y="292"/>
                    </a:lnTo>
                    <a:lnTo>
                      <a:pt x="218" y="284"/>
                    </a:lnTo>
                    <a:lnTo>
                      <a:pt x="211" y="280"/>
                    </a:lnTo>
                    <a:lnTo>
                      <a:pt x="187" y="269"/>
                    </a:lnTo>
                    <a:lnTo>
                      <a:pt x="164" y="257"/>
                    </a:lnTo>
                    <a:lnTo>
                      <a:pt x="156" y="249"/>
                    </a:lnTo>
                    <a:lnTo>
                      <a:pt x="144" y="245"/>
                    </a:lnTo>
                    <a:lnTo>
                      <a:pt x="125" y="234"/>
                    </a:lnTo>
                    <a:lnTo>
                      <a:pt x="117" y="226"/>
                    </a:lnTo>
                    <a:lnTo>
                      <a:pt x="109" y="222"/>
                    </a:lnTo>
                    <a:lnTo>
                      <a:pt x="101" y="214"/>
                    </a:lnTo>
                    <a:lnTo>
                      <a:pt x="90" y="206"/>
                    </a:lnTo>
                    <a:lnTo>
                      <a:pt x="82" y="202"/>
                    </a:lnTo>
                    <a:lnTo>
                      <a:pt x="74" y="195"/>
                    </a:lnTo>
                    <a:lnTo>
                      <a:pt x="66" y="187"/>
                    </a:lnTo>
                    <a:lnTo>
                      <a:pt x="62" y="183"/>
                    </a:lnTo>
                    <a:lnTo>
                      <a:pt x="55" y="175"/>
                    </a:lnTo>
                    <a:lnTo>
                      <a:pt x="47" y="167"/>
                    </a:lnTo>
                    <a:lnTo>
                      <a:pt x="43" y="160"/>
                    </a:lnTo>
                    <a:lnTo>
                      <a:pt x="35" y="156"/>
                    </a:lnTo>
                    <a:lnTo>
                      <a:pt x="31" y="148"/>
                    </a:lnTo>
                    <a:lnTo>
                      <a:pt x="27" y="140"/>
                    </a:lnTo>
                    <a:lnTo>
                      <a:pt x="20" y="132"/>
                    </a:lnTo>
                    <a:lnTo>
                      <a:pt x="16" y="124"/>
                    </a:lnTo>
                    <a:lnTo>
                      <a:pt x="16" y="120"/>
                    </a:lnTo>
                    <a:lnTo>
                      <a:pt x="12" y="117"/>
                    </a:lnTo>
                    <a:lnTo>
                      <a:pt x="8" y="113"/>
                    </a:lnTo>
                    <a:lnTo>
                      <a:pt x="4" y="105"/>
                    </a:lnTo>
                    <a:lnTo>
                      <a:pt x="4" y="101"/>
                    </a:lnTo>
                    <a:lnTo>
                      <a:pt x="0" y="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850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348440" y="1507320"/>
                <a:ext cx="865440" cy="392400"/>
              </a:xfrm>
              <a:custGeom>
                <a:avLst/>
                <a:gdLst/>
                <a:ahLst/>
                <a:rect l="l" t="t" r="r" b="b"/>
                <a:pathLst>
                  <a:path w="850" h="184">
                    <a:moveTo>
                      <a:pt x="0" y="78"/>
                    </a:moveTo>
                    <a:lnTo>
                      <a:pt x="15" y="78"/>
                    </a:lnTo>
                    <a:lnTo>
                      <a:pt x="27" y="78"/>
                    </a:lnTo>
                    <a:lnTo>
                      <a:pt x="58" y="82"/>
                    </a:lnTo>
                    <a:lnTo>
                      <a:pt x="86" y="82"/>
                    </a:lnTo>
                    <a:lnTo>
                      <a:pt x="113" y="86"/>
                    </a:lnTo>
                    <a:lnTo>
                      <a:pt x="129" y="86"/>
                    </a:lnTo>
                    <a:lnTo>
                      <a:pt x="140" y="86"/>
                    </a:lnTo>
                    <a:lnTo>
                      <a:pt x="156" y="86"/>
                    </a:lnTo>
                    <a:lnTo>
                      <a:pt x="171" y="86"/>
                    </a:lnTo>
                    <a:lnTo>
                      <a:pt x="199" y="86"/>
                    </a:lnTo>
                    <a:lnTo>
                      <a:pt x="214" y="86"/>
                    </a:lnTo>
                    <a:lnTo>
                      <a:pt x="230" y="86"/>
                    </a:lnTo>
                    <a:lnTo>
                      <a:pt x="273" y="86"/>
                    </a:lnTo>
                    <a:lnTo>
                      <a:pt x="316" y="86"/>
                    </a:lnTo>
                    <a:lnTo>
                      <a:pt x="359" y="82"/>
                    </a:lnTo>
                    <a:lnTo>
                      <a:pt x="402" y="82"/>
                    </a:lnTo>
                    <a:lnTo>
                      <a:pt x="445" y="78"/>
                    </a:lnTo>
                    <a:lnTo>
                      <a:pt x="484" y="75"/>
                    </a:lnTo>
                    <a:lnTo>
                      <a:pt x="523" y="71"/>
                    </a:lnTo>
                    <a:lnTo>
                      <a:pt x="565" y="63"/>
                    </a:lnTo>
                    <a:lnTo>
                      <a:pt x="605" y="59"/>
                    </a:lnTo>
                    <a:lnTo>
                      <a:pt x="644" y="51"/>
                    </a:lnTo>
                    <a:lnTo>
                      <a:pt x="679" y="43"/>
                    </a:lnTo>
                    <a:lnTo>
                      <a:pt x="714" y="36"/>
                    </a:lnTo>
                    <a:lnTo>
                      <a:pt x="749" y="28"/>
                    </a:lnTo>
                    <a:lnTo>
                      <a:pt x="784" y="20"/>
                    </a:lnTo>
                    <a:lnTo>
                      <a:pt x="819" y="8"/>
                    </a:lnTo>
                    <a:lnTo>
                      <a:pt x="850" y="0"/>
                    </a:lnTo>
                    <a:lnTo>
                      <a:pt x="850" y="98"/>
                    </a:lnTo>
                    <a:lnTo>
                      <a:pt x="835" y="102"/>
                    </a:lnTo>
                    <a:lnTo>
                      <a:pt x="819" y="106"/>
                    </a:lnTo>
                    <a:lnTo>
                      <a:pt x="803" y="114"/>
                    </a:lnTo>
                    <a:lnTo>
                      <a:pt x="784" y="117"/>
                    </a:lnTo>
                    <a:lnTo>
                      <a:pt x="768" y="121"/>
                    </a:lnTo>
                    <a:lnTo>
                      <a:pt x="753" y="125"/>
                    </a:lnTo>
                    <a:lnTo>
                      <a:pt x="733" y="129"/>
                    </a:lnTo>
                    <a:lnTo>
                      <a:pt x="714" y="133"/>
                    </a:lnTo>
                    <a:lnTo>
                      <a:pt x="698" y="137"/>
                    </a:lnTo>
                    <a:lnTo>
                      <a:pt x="679" y="141"/>
                    </a:lnTo>
                    <a:lnTo>
                      <a:pt x="659" y="145"/>
                    </a:lnTo>
                    <a:lnTo>
                      <a:pt x="644" y="149"/>
                    </a:lnTo>
                    <a:lnTo>
                      <a:pt x="624" y="153"/>
                    </a:lnTo>
                    <a:lnTo>
                      <a:pt x="605" y="156"/>
                    </a:lnTo>
                    <a:lnTo>
                      <a:pt x="585" y="156"/>
                    </a:lnTo>
                    <a:lnTo>
                      <a:pt x="565" y="160"/>
                    </a:lnTo>
                    <a:lnTo>
                      <a:pt x="554" y="164"/>
                    </a:lnTo>
                    <a:lnTo>
                      <a:pt x="546" y="164"/>
                    </a:lnTo>
                    <a:lnTo>
                      <a:pt x="526" y="168"/>
                    </a:lnTo>
                    <a:lnTo>
                      <a:pt x="503" y="168"/>
                    </a:lnTo>
                    <a:lnTo>
                      <a:pt x="484" y="172"/>
                    </a:lnTo>
                    <a:lnTo>
                      <a:pt x="464" y="172"/>
                    </a:lnTo>
                    <a:lnTo>
                      <a:pt x="452" y="172"/>
                    </a:lnTo>
                    <a:lnTo>
                      <a:pt x="445" y="176"/>
                    </a:lnTo>
                    <a:lnTo>
                      <a:pt x="421" y="176"/>
                    </a:lnTo>
                    <a:lnTo>
                      <a:pt x="402" y="176"/>
                    </a:lnTo>
                    <a:lnTo>
                      <a:pt x="390" y="180"/>
                    </a:lnTo>
                    <a:lnTo>
                      <a:pt x="378" y="180"/>
                    </a:lnTo>
                    <a:lnTo>
                      <a:pt x="359" y="180"/>
                    </a:lnTo>
                    <a:lnTo>
                      <a:pt x="335" y="180"/>
                    </a:lnTo>
                    <a:lnTo>
                      <a:pt x="316" y="184"/>
                    </a:lnTo>
                    <a:lnTo>
                      <a:pt x="292" y="184"/>
                    </a:lnTo>
                    <a:lnTo>
                      <a:pt x="273" y="184"/>
                    </a:lnTo>
                    <a:lnTo>
                      <a:pt x="250" y="184"/>
                    </a:lnTo>
                    <a:lnTo>
                      <a:pt x="230" y="184"/>
                    </a:lnTo>
                    <a:lnTo>
                      <a:pt x="199" y="184"/>
                    </a:lnTo>
                    <a:lnTo>
                      <a:pt x="171" y="184"/>
                    </a:lnTo>
                    <a:lnTo>
                      <a:pt x="140" y="184"/>
                    </a:lnTo>
                    <a:lnTo>
                      <a:pt x="113" y="180"/>
                    </a:lnTo>
                    <a:lnTo>
                      <a:pt x="86" y="180"/>
                    </a:lnTo>
                    <a:lnTo>
                      <a:pt x="58" y="180"/>
                    </a:lnTo>
                    <a:lnTo>
                      <a:pt x="27" y="176"/>
                    </a:lnTo>
                    <a:lnTo>
                      <a:pt x="0" y="172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3438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348440" y="28440"/>
                <a:ext cx="1247400" cy="831240"/>
              </a:xfrm>
              <a:custGeom>
                <a:avLst/>
                <a:gdLst/>
                <a:ahLst/>
                <a:rect l="l" t="t" r="r" b="b"/>
                <a:pathLst>
                  <a:path w="1225" h="390">
                    <a:moveTo>
                      <a:pt x="1225" y="390"/>
                    </a:moveTo>
                    <a:lnTo>
                      <a:pt x="1225" y="378"/>
                    </a:lnTo>
                    <a:lnTo>
                      <a:pt x="1221" y="371"/>
                    </a:lnTo>
                    <a:lnTo>
                      <a:pt x="1221" y="359"/>
                    </a:lnTo>
                    <a:lnTo>
                      <a:pt x="1217" y="351"/>
                    </a:lnTo>
                    <a:lnTo>
                      <a:pt x="1217" y="339"/>
                    </a:lnTo>
                    <a:lnTo>
                      <a:pt x="1213" y="332"/>
                    </a:lnTo>
                    <a:lnTo>
                      <a:pt x="1209" y="320"/>
                    </a:lnTo>
                    <a:lnTo>
                      <a:pt x="1205" y="312"/>
                    </a:lnTo>
                    <a:lnTo>
                      <a:pt x="1197" y="300"/>
                    </a:lnTo>
                    <a:lnTo>
                      <a:pt x="1194" y="293"/>
                    </a:lnTo>
                    <a:lnTo>
                      <a:pt x="1186" y="281"/>
                    </a:lnTo>
                    <a:lnTo>
                      <a:pt x="1178" y="273"/>
                    </a:lnTo>
                    <a:lnTo>
                      <a:pt x="1170" y="265"/>
                    </a:lnTo>
                    <a:lnTo>
                      <a:pt x="1162" y="254"/>
                    </a:lnTo>
                    <a:lnTo>
                      <a:pt x="1155" y="246"/>
                    </a:lnTo>
                    <a:lnTo>
                      <a:pt x="1147" y="238"/>
                    </a:lnTo>
                    <a:lnTo>
                      <a:pt x="1139" y="234"/>
                    </a:lnTo>
                    <a:lnTo>
                      <a:pt x="1135" y="230"/>
                    </a:lnTo>
                    <a:lnTo>
                      <a:pt x="1127" y="218"/>
                    </a:lnTo>
                    <a:lnTo>
                      <a:pt x="1116" y="211"/>
                    </a:lnTo>
                    <a:lnTo>
                      <a:pt x="1108" y="207"/>
                    </a:lnTo>
                    <a:lnTo>
                      <a:pt x="1104" y="203"/>
                    </a:lnTo>
                    <a:lnTo>
                      <a:pt x="1092" y="195"/>
                    </a:lnTo>
                    <a:lnTo>
                      <a:pt x="1084" y="191"/>
                    </a:lnTo>
                    <a:lnTo>
                      <a:pt x="1080" y="187"/>
                    </a:lnTo>
                    <a:lnTo>
                      <a:pt x="1065" y="179"/>
                    </a:lnTo>
                    <a:lnTo>
                      <a:pt x="1053" y="172"/>
                    </a:lnTo>
                    <a:lnTo>
                      <a:pt x="1045" y="168"/>
                    </a:lnTo>
                    <a:lnTo>
                      <a:pt x="1041" y="164"/>
                    </a:lnTo>
                    <a:lnTo>
                      <a:pt x="1026" y="156"/>
                    </a:lnTo>
                    <a:lnTo>
                      <a:pt x="1010" y="148"/>
                    </a:lnTo>
                    <a:lnTo>
                      <a:pt x="995" y="140"/>
                    </a:lnTo>
                    <a:lnTo>
                      <a:pt x="979" y="133"/>
                    </a:lnTo>
                    <a:lnTo>
                      <a:pt x="963" y="129"/>
                    </a:lnTo>
                    <a:lnTo>
                      <a:pt x="948" y="121"/>
                    </a:lnTo>
                    <a:lnTo>
                      <a:pt x="932" y="113"/>
                    </a:lnTo>
                    <a:lnTo>
                      <a:pt x="913" y="109"/>
                    </a:lnTo>
                    <a:lnTo>
                      <a:pt x="897" y="101"/>
                    </a:lnTo>
                    <a:lnTo>
                      <a:pt x="881" y="94"/>
                    </a:lnTo>
                    <a:lnTo>
                      <a:pt x="862" y="90"/>
                    </a:lnTo>
                    <a:lnTo>
                      <a:pt x="842" y="82"/>
                    </a:lnTo>
                    <a:lnTo>
                      <a:pt x="823" y="78"/>
                    </a:lnTo>
                    <a:lnTo>
                      <a:pt x="803" y="70"/>
                    </a:lnTo>
                    <a:lnTo>
                      <a:pt x="784" y="66"/>
                    </a:lnTo>
                    <a:lnTo>
                      <a:pt x="764" y="62"/>
                    </a:lnTo>
                    <a:lnTo>
                      <a:pt x="745" y="55"/>
                    </a:lnTo>
                    <a:lnTo>
                      <a:pt x="725" y="51"/>
                    </a:lnTo>
                    <a:lnTo>
                      <a:pt x="714" y="47"/>
                    </a:lnTo>
                    <a:lnTo>
                      <a:pt x="702" y="47"/>
                    </a:lnTo>
                    <a:lnTo>
                      <a:pt x="683" y="43"/>
                    </a:lnTo>
                    <a:lnTo>
                      <a:pt x="659" y="39"/>
                    </a:lnTo>
                    <a:lnTo>
                      <a:pt x="640" y="35"/>
                    </a:lnTo>
                    <a:lnTo>
                      <a:pt x="616" y="31"/>
                    </a:lnTo>
                    <a:lnTo>
                      <a:pt x="593" y="27"/>
                    </a:lnTo>
                    <a:lnTo>
                      <a:pt x="569" y="23"/>
                    </a:lnTo>
                    <a:lnTo>
                      <a:pt x="546" y="20"/>
                    </a:lnTo>
                    <a:lnTo>
                      <a:pt x="523" y="20"/>
                    </a:lnTo>
                    <a:lnTo>
                      <a:pt x="499" y="16"/>
                    </a:lnTo>
                    <a:lnTo>
                      <a:pt x="487" y="12"/>
                    </a:lnTo>
                    <a:lnTo>
                      <a:pt x="476" y="12"/>
                    </a:lnTo>
                    <a:lnTo>
                      <a:pt x="452" y="12"/>
                    </a:lnTo>
                    <a:lnTo>
                      <a:pt x="429" y="8"/>
                    </a:lnTo>
                    <a:lnTo>
                      <a:pt x="406" y="8"/>
                    </a:lnTo>
                    <a:lnTo>
                      <a:pt x="378" y="4"/>
                    </a:lnTo>
                    <a:lnTo>
                      <a:pt x="367" y="4"/>
                    </a:lnTo>
                    <a:lnTo>
                      <a:pt x="355" y="4"/>
                    </a:lnTo>
                    <a:lnTo>
                      <a:pt x="343" y="4"/>
                    </a:lnTo>
                    <a:lnTo>
                      <a:pt x="331" y="4"/>
                    </a:lnTo>
                    <a:lnTo>
                      <a:pt x="304" y="0"/>
                    </a:lnTo>
                    <a:lnTo>
                      <a:pt x="292" y="0"/>
                    </a:lnTo>
                    <a:lnTo>
                      <a:pt x="277" y="0"/>
                    </a:lnTo>
                    <a:lnTo>
                      <a:pt x="265" y="0"/>
                    </a:lnTo>
                    <a:lnTo>
                      <a:pt x="253" y="0"/>
                    </a:lnTo>
                    <a:lnTo>
                      <a:pt x="226" y="0"/>
                    </a:lnTo>
                    <a:lnTo>
                      <a:pt x="199" y="0"/>
                    </a:lnTo>
                    <a:lnTo>
                      <a:pt x="168" y="0"/>
                    </a:lnTo>
                    <a:lnTo>
                      <a:pt x="140" y="4"/>
                    </a:lnTo>
                    <a:lnTo>
                      <a:pt x="109" y="4"/>
                    </a:lnTo>
                    <a:lnTo>
                      <a:pt x="82" y="4"/>
                    </a:lnTo>
                    <a:lnTo>
                      <a:pt x="54" y="8"/>
                    </a:lnTo>
                    <a:lnTo>
                      <a:pt x="27" y="8"/>
                    </a:lnTo>
                    <a:lnTo>
                      <a:pt x="0" y="12"/>
                    </a:lnTo>
                    <a:lnTo>
                      <a:pt x="230" y="390"/>
                    </a:lnTo>
                    <a:lnTo>
                      <a:pt x="1225" y="39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565440" y="54000"/>
                <a:ext cx="1017360" cy="939600"/>
              </a:xfrm>
              <a:custGeom>
                <a:avLst/>
                <a:gdLst/>
                <a:ahLst/>
                <a:rect l="l" t="t" r="r" b="b"/>
                <a:pathLst>
                  <a:path w="999" h="441">
                    <a:moveTo>
                      <a:pt x="769" y="0"/>
                    </a:moveTo>
                    <a:lnTo>
                      <a:pt x="726" y="4"/>
                    </a:lnTo>
                    <a:lnTo>
                      <a:pt x="687" y="8"/>
                    </a:lnTo>
                    <a:lnTo>
                      <a:pt x="648" y="15"/>
                    </a:lnTo>
                    <a:lnTo>
                      <a:pt x="609" y="19"/>
                    </a:lnTo>
                    <a:lnTo>
                      <a:pt x="570" y="27"/>
                    </a:lnTo>
                    <a:lnTo>
                      <a:pt x="550" y="31"/>
                    </a:lnTo>
                    <a:lnTo>
                      <a:pt x="535" y="35"/>
                    </a:lnTo>
                    <a:lnTo>
                      <a:pt x="500" y="43"/>
                    </a:lnTo>
                    <a:lnTo>
                      <a:pt x="461" y="50"/>
                    </a:lnTo>
                    <a:lnTo>
                      <a:pt x="445" y="54"/>
                    </a:lnTo>
                    <a:lnTo>
                      <a:pt x="429" y="58"/>
                    </a:lnTo>
                    <a:lnTo>
                      <a:pt x="410" y="62"/>
                    </a:lnTo>
                    <a:lnTo>
                      <a:pt x="394" y="70"/>
                    </a:lnTo>
                    <a:lnTo>
                      <a:pt x="379" y="74"/>
                    </a:lnTo>
                    <a:lnTo>
                      <a:pt x="363" y="78"/>
                    </a:lnTo>
                    <a:lnTo>
                      <a:pt x="332" y="89"/>
                    </a:lnTo>
                    <a:lnTo>
                      <a:pt x="301" y="101"/>
                    </a:lnTo>
                    <a:lnTo>
                      <a:pt x="289" y="105"/>
                    </a:lnTo>
                    <a:lnTo>
                      <a:pt x="273" y="113"/>
                    </a:lnTo>
                    <a:lnTo>
                      <a:pt x="262" y="117"/>
                    </a:lnTo>
                    <a:lnTo>
                      <a:pt x="246" y="125"/>
                    </a:lnTo>
                    <a:lnTo>
                      <a:pt x="219" y="136"/>
                    </a:lnTo>
                    <a:lnTo>
                      <a:pt x="195" y="148"/>
                    </a:lnTo>
                    <a:lnTo>
                      <a:pt x="184" y="156"/>
                    </a:lnTo>
                    <a:lnTo>
                      <a:pt x="172" y="160"/>
                    </a:lnTo>
                    <a:lnTo>
                      <a:pt x="160" y="167"/>
                    </a:lnTo>
                    <a:lnTo>
                      <a:pt x="149" y="175"/>
                    </a:lnTo>
                    <a:lnTo>
                      <a:pt x="137" y="183"/>
                    </a:lnTo>
                    <a:lnTo>
                      <a:pt x="129" y="191"/>
                    </a:lnTo>
                    <a:lnTo>
                      <a:pt x="117" y="195"/>
                    </a:lnTo>
                    <a:lnTo>
                      <a:pt x="110" y="203"/>
                    </a:lnTo>
                    <a:lnTo>
                      <a:pt x="98" y="210"/>
                    </a:lnTo>
                    <a:lnTo>
                      <a:pt x="90" y="218"/>
                    </a:lnTo>
                    <a:lnTo>
                      <a:pt x="82" y="226"/>
                    </a:lnTo>
                    <a:lnTo>
                      <a:pt x="74" y="234"/>
                    </a:lnTo>
                    <a:lnTo>
                      <a:pt x="67" y="242"/>
                    </a:lnTo>
                    <a:lnTo>
                      <a:pt x="59" y="249"/>
                    </a:lnTo>
                    <a:lnTo>
                      <a:pt x="51" y="257"/>
                    </a:lnTo>
                    <a:lnTo>
                      <a:pt x="47" y="265"/>
                    </a:lnTo>
                    <a:lnTo>
                      <a:pt x="39" y="273"/>
                    </a:lnTo>
                    <a:lnTo>
                      <a:pt x="39" y="277"/>
                    </a:lnTo>
                    <a:lnTo>
                      <a:pt x="35" y="281"/>
                    </a:lnTo>
                    <a:lnTo>
                      <a:pt x="28" y="288"/>
                    </a:lnTo>
                    <a:lnTo>
                      <a:pt x="24" y="296"/>
                    </a:lnTo>
                    <a:lnTo>
                      <a:pt x="24" y="300"/>
                    </a:lnTo>
                    <a:lnTo>
                      <a:pt x="20" y="304"/>
                    </a:lnTo>
                    <a:lnTo>
                      <a:pt x="20" y="308"/>
                    </a:lnTo>
                    <a:lnTo>
                      <a:pt x="16" y="308"/>
                    </a:lnTo>
                    <a:lnTo>
                      <a:pt x="16" y="312"/>
                    </a:lnTo>
                    <a:lnTo>
                      <a:pt x="16" y="316"/>
                    </a:lnTo>
                    <a:lnTo>
                      <a:pt x="12" y="320"/>
                    </a:lnTo>
                    <a:lnTo>
                      <a:pt x="8" y="327"/>
                    </a:lnTo>
                    <a:lnTo>
                      <a:pt x="8" y="335"/>
                    </a:lnTo>
                    <a:lnTo>
                      <a:pt x="4" y="343"/>
                    </a:lnTo>
                    <a:lnTo>
                      <a:pt x="4" y="347"/>
                    </a:lnTo>
                    <a:lnTo>
                      <a:pt x="4" y="351"/>
                    </a:lnTo>
                    <a:lnTo>
                      <a:pt x="4" y="355"/>
                    </a:lnTo>
                    <a:lnTo>
                      <a:pt x="4" y="359"/>
                    </a:lnTo>
                    <a:lnTo>
                      <a:pt x="4" y="363"/>
                    </a:lnTo>
                    <a:lnTo>
                      <a:pt x="0" y="366"/>
                    </a:lnTo>
                    <a:lnTo>
                      <a:pt x="0" y="370"/>
                    </a:lnTo>
                    <a:lnTo>
                      <a:pt x="0" y="374"/>
                    </a:lnTo>
                    <a:lnTo>
                      <a:pt x="0" y="378"/>
                    </a:lnTo>
                    <a:lnTo>
                      <a:pt x="0" y="386"/>
                    </a:lnTo>
                    <a:lnTo>
                      <a:pt x="0" y="394"/>
                    </a:lnTo>
                    <a:lnTo>
                      <a:pt x="4" y="402"/>
                    </a:lnTo>
                    <a:lnTo>
                      <a:pt x="4" y="409"/>
                    </a:lnTo>
                    <a:lnTo>
                      <a:pt x="4" y="417"/>
                    </a:lnTo>
                    <a:lnTo>
                      <a:pt x="8" y="425"/>
                    </a:lnTo>
                    <a:lnTo>
                      <a:pt x="12" y="433"/>
                    </a:lnTo>
                    <a:lnTo>
                      <a:pt x="12" y="441"/>
                    </a:lnTo>
                    <a:lnTo>
                      <a:pt x="999" y="378"/>
                    </a:lnTo>
                    <a:lnTo>
                      <a:pt x="769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77320" y="859680"/>
                <a:ext cx="1005120" cy="813600"/>
              </a:xfrm>
              <a:custGeom>
                <a:avLst/>
                <a:gdLst/>
                <a:ahLst/>
                <a:rect l="l" t="t" r="r" b="b"/>
                <a:pathLst>
                  <a:path w="987" h="382">
                    <a:moveTo>
                      <a:pt x="0" y="63"/>
                    </a:moveTo>
                    <a:lnTo>
                      <a:pt x="4" y="70"/>
                    </a:lnTo>
                    <a:lnTo>
                      <a:pt x="8" y="78"/>
                    </a:lnTo>
                    <a:lnTo>
                      <a:pt x="12" y="82"/>
                    </a:lnTo>
                    <a:lnTo>
                      <a:pt x="16" y="90"/>
                    </a:lnTo>
                    <a:lnTo>
                      <a:pt x="20" y="98"/>
                    </a:lnTo>
                    <a:lnTo>
                      <a:pt x="27" y="105"/>
                    </a:lnTo>
                    <a:lnTo>
                      <a:pt x="31" y="113"/>
                    </a:lnTo>
                    <a:lnTo>
                      <a:pt x="35" y="121"/>
                    </a:lnTo>
                    <a:lnTo>
                      <a:pt x="43" y="125"/>
                    </a:lnTo>
                    <a:lnTo>
                      <a:pt x="47" y="133"/>
                    </a:lnTo>
                    <a:lnTo>
                      <a:pt x="55" y="141"/>
                    </a:lnTo>
                    <a:lnTo>
                      <a:pt x="62" y="148"/>
                    </a:lnTo>
                    <a:lnTo>
                      <a:pt x="66" y="152"/>
                    </a:lnTo>
                    <a:lnTo>
                      <a:pt x="74" y="160"/>
                    </a:lnTo>
                    <a:lnTo>
                      <a:pt x="82" y="168"/>
                    </a:lnTo>
                    <a:lnTo>
                      <a:pt x="90" y="172"/>
                    </a:lnTo>
                    <a:lnTo>
                      <a:pt x="101" y="180"/>
                    </a:lnTo>
                    <a:lnTo>
                      <a:pt x="109" y="187"/>
                    </a:lnTo>
                    <a:lnTo>
                      <a:pt x="117" y="191"/>
                    </a:lnTo>
                    <a:lnTo>
                      <a:pt x="125" y="199"/>
                    </a:lnTo>
                    <a:lnTo>
                      <a:pt x="137" y="203"/>
                    </a:lnTo>
                    <a:lnTo>
                      <a:pt x="144" y="211"/>
                    </a:lnTo>
                    <a:lnTo>
                      <a:pt x="156" y="219"/>
                    </a:lnTo>
                    <a:lnTo>
                      <a:pt x="164" y="223"/>
                    </a:lnTo>
                    <a:lnTo>
                      <a:pt x="176" y="230"/>
                    </a:lnTo>
                    <a:lnTo>
                      <a:pt x="179" y="230"/>
                    </a:lnTo>
                    <a:lnTo>
                      <a:pt x="187" y="234"/>
                    </a:lnTo>
                    <a:lnTo>
                      <a:pt x="199" y="238"/>
                    </a:lnTo>
                    <a:lnTo>
                      <a:pt x="203" y="242"/>
                    </a:lnTo>
                    <a:lnTo>
                      <a:pt x="207" y="246"/>
                    </a:lnTo>
                    <a:lnTo>
                      <a:pt x="218" y="250"/>
                    </a:lnTo>
                    <a:lnTo>
                      <a:pt x="234" y="258"/>
                    </a:lnTo>
                    <a:lnTo>
                      <a:pt x="246" y="262"/>
                    </a:lnTo>
                    <a:lnTo>
                      <a:pt x="257" y="265"/>
                    </a:lnTo>
                    <a:lnTo>
                      <a:pt x="269" y="273"/>
                    </a:lnTo>
                    <a:lnTo>
                      <a:pt x="281" y="277"/>
                    </a:lnTo>
                    <a:lnTo>
                      <a:pt x="297" y="281"/>
                    </a:lnTo>
                    <a:lnTo>
                      <a:pt x="308" y="289"/>
                    </a:lnTo>
                    <a:lnTo>
                      <a:pt x="320" y="293"/>
                    </a:lnTo>
                    <a:lnTo>
                      <a:pt x="336" y="297"/>
                    </a:lnTo>
                    <a:lnTo>
                      <a:pt x="351" y="301"/>
                    </a:lnTo>
                    <a:lnTo>
                      <a:pt x="363" y="304"/>
                    </a:lnTo>
                    <a:lnTo>
                      <a:pt x="378" y="312"/>
                    </a:lnTo>
                    <a:lnTo>
                      <a:pt x="394" y="312"/>
                    </a:lnTo>
                    <a:lnTo>
                      <a:pt x="406" y="320"/>
                    </a:lnTo>
                    <a:lnTo>
                      <a:pt x="421" y="324"/>
                    </a:lnTo>
                    <a:lnTo>
                      <a:pt x="453" y="332"/>
                    </a:lnTo>
                    <a:lnTo>
                      <a:pt x="484" y="340"/>
                    </a:lnTo>
                    <a:lnTo>
                      <a:pt x="515" y="343"/>
                    </a:lnTo>
                    <a:lnTo>
                      <a:pt x="550" y="351"/>
                    </a:lnTo>
                    <a:lnTo>
                      <a:pt x="566" y="355"/>
                    </a:lnTo>
                    <a:lnTo>
                      <a:pt x="573" y="355"/>
                    </a:lnTo>
                    <a:lnTo>
                      <a:pt x="581" y="359"/>
                    </a:lnTo>
                    <a:lnTo>
                      <a:pt x="601" y="359"/>
                    </a:lnTo>
                    <a:lnTo>
                      <a:pt x="616" y="363"/>
                    </a:lnTo>
                    <a:lnTo>
                      <a:pt x="632" y="367"/>
                    </a:lnTo>
                    <a:lnTo>
                      <a:pt x="652" y="367"/>
                    </a:lnTo>
                    <a:lnTo>
                      <a:pt x="687" y="375"/>
                    </a:lnTo>
                    <a:lnTo>
                      <a:pt x="702" y="375"/>
                    </a:lnTo>
                    <a:lnTo>
                      <a:pt x="722" y="379"/>
                    </a:lnTo>
                    <a:lnTo>
                      <a:pt x="730" y="379"/>
                    </a:lnTo>
                    <a:lnTo>
                      <a:pt x="741" y="379"/>
                    </a:lnTo>
                    <a:lnTo>
                      <a:pt x="757" y="382"/>
                    </a:lnTo>
                    <a:lnTo>
                      <a:pt x="987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348440" y="859680"/>
                <a:ext cx="865440" cy="830520"/>
              </a:xfrm>
              <a:custGeom>
                <a:avLst/>
                <a:gdLst/>
                <a:ahLst/>
                <a:rect l="l" t="t" r="r" b="b"/>
                <a:pathLst>
                  <a:path w="850" h="390">
                    <a:moveTo>
                      <a:pt x="0" y="382"/>
                    </a:moveTo>
                    <a:lnTo>
                      <a:pt x="15" y="382"/>
                    </a:lnTo>
                    <a:lnTo>
                      <a:pt x="27" y="382"/>
                    </a:lnTo>
                    <a:lnTo>
                      <a:pt x="58" y="386"/>
                    </a:lnTo>
                    <a:lnTo>
                      <a:pt x="86" y="386"/>
                    </a:lnTo>
                    <a:lnTo>
                      <a:pt x="113" y="390"/>
                    </a:lnTo>
                    <a:lnTo>
                      <a:pt x="129" y="390"/>
                    </a:lnTo>
                    <a:lnTo>
                      <a:pt x="140" y="390"/>
                    </a:lnTo>
                    <a:lnTo>
                      <a:pt x="156" y="390"/>
                    </a:lnTo>
                    <a:lnTo>
                      <a:pt x="171" y="390"/>
                    </a:lnTo>
                    <a:lnTo>
                      <a:pt x="199" y="390"/>
                    </a:lnTo>
                    <a:lnTo>
                      <a:pt x="214" y="390"/>
                    </a:lnTo>
                    <a:lnTo>
                      <a:pt x="230" y="390"/>
                    </a:lnTo>
                    <a:lnTo>
                      <a:pt x="273" y="390"/>
                    </a:lnTo>
                    <a:lnTo>
                      <a:pt x="316" y="390"/>
                    </a:lnTo>
                    <a:lnTo>
                      <a:pt x="359" y="386"/>
                    </a:lnTo>
                    <a:lnTo>
                      <a:pt x="402" y="386"/>
                    </a:lnTo>
                    <a:lnTo>
                      <a:pt x="445" y="382"/>
                    </a:lnTo>
                    <a:lnTo>
                      <a:pt x="484" y="379"/>
                    </a:lnTo>
                    <a:lnTo>
                      <a:pt x="523" y="375"/>
                    </a:lnTo>
                    <a:lnTo>
                      <a:pt x="565" y="367"/>
                    </a:lnTo>
                    <a:lnTo>
                      <a:pt x="605" y="363"/>
                    </a:lnTo>
                    <a:lnTo>
                      <a:pt x="644" y="355"/>
                    </a:lnTo>
                    <a:lnTo>
                      <a:pt x="679" y="347"/>
                    </a:lnTo>
                    <a:lnTo>
                      <a:pt x="714" y="340"/>
                    </a:lnTo>
                    <a:lnTo>
                      <a:pt x="749" y="332"/>
                    </a:lnTo>
                    <a:lnTo>
                      <a:pt x="784" y="324"/>
                    </a:lnTo>
                    <a:lnTo>
                      <a:pt x="819" y="312"/>
                    </a:lnTo>
                    <a:lnTo>
                      <a:pt x="850" y="304"/>
                    </a:lnTo>
                    <a:lnTo>
                      <a:pt x="230" y="0"/>
                    </a:lnTo>
                    <a:lnTo>
                      <a:pt x="0" y="382"/>
                    </a:lnTo>
                    <a:close/>
                  </a:path>
                </a:pathLst>
              </a:custGeom>
              <a:solidFill>
                <a:srgbClr val="0085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82800" y="859680"/>
                <a:ext cx="965160" cy="647640"/>
              </a:xfrm>
              <a:custGeom>
                <a:avLst/>
                <a:gdLst/>
                <a:ahLst/>
                <a:rect l="l" t="t" r="r" b="b"/>
                <a:pathLst>
                  <a:path w="948" h="304">
                    <a:moveTo>
                      <a:pt x="620" y="304"/>
                    </a:moveTo>
                    <a:lnTo>
                      <a:pt x="651" y="297"/>
                    </a:lnTo>
                    <a:lnTo>
                      <a:pt x="675" y="285"/>
                    </a:lnTo>
                    <a:lnTo>
                      <a:pt x="702" y="277"/>
                    </a:lnTo>
                    <a:lnTo>
                      <a:pt x="730" y="265"/>
                    </a:lnTo>
                    <a:lnTo>
                      <a:pt x="753" y="254"/>
                    </a:lnTo>
                    <a:lnTo>
                      <a:pt x="776" y="242"/>
                    </a:lnTo>
                    <a:lnTo>
                      <a:pt x="800" y="230"/>
                    </a:lnTo>
                    <a:lnTo>
                      <a:pt x="819" y="223"/>
                    </a:lnTo>
                    <a:lnTo>
                      <a:pt x="827" y="215"/>
                    </a:lnTo>
                    <a:lnTo>
                      <a:pt x="839" y="207"/>
                    </a:lnTo>
                    <a:lnTo>
                      <a:pt x="858" y="195"/>
                    </a:lnTo>
                    <a:lnTo>
                      <a:pt x="866" y="191"/>
                    </a:lnTo>
                    <a:lnTo>
                      <a:pt x="878" y="183"/>
                    </a:lnTo>
                    <a:lnTo>
                      <a:pt x="886" y="176"/>
                    </a:lnTo>
                    <a:lnTo>
                      <a:pt x="893" y="172"/>
                    </a:lnTo>
                    <a:lnTo>
                      <a:pt x="909" y="156"/>
                    </a:lnTo>
                    <a:lnTo>
                      <a:pt x="917" y="152"/>
                    </a:lnTo>
                    <a:lnTo>
                      <a:pt x="925" y="144"/>
                    </a:lnTo>
                    <a:lnTo>
                      <a:pt x="928" y="137"/>
                    </a:lnTo>
                    <a:lnTo>
                      <a:pt x="936" y="133"/>
                    </a:lnTo>
                    <a:lnTo>
                      <a:pt x="944" y="125"/>
                    </a:lnTo>
                    <a:lnTo>
                      <a:pt x="948" y="117"/>
                    </a:lnTo>
                    <a:lnTo>
                      <a:pt x="0" y="0"/>
                    </a:lnTo>
                    <a:lnTo>
                      <a:pt x="620" y="30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82800" y="859680"/>
                <a:ext cx="1013040" cy="249120"/>
              </a:xfrm>
              <a:custGeom>
                <a:avLst/>
                <a:gdLst/>
                <a:ahLst/>
                <a:rect l="l" t="t" r="r" b="b"/>
                <a:pathLst>
                  <a:path w="995" h="117">
                    <a:moveTo>
                      <a:pt x="948" y="117"/>
                    </a:moveTo>
                    <a:lnTo>
                      <a:pt x="952" y="109"/>
                    </a:lnTo>
                    <a:lnTo>
                      <a:pt x="960" y="102"/>
                    </a:lnTo>
                    <a:lnTo>
                      <a:pt x="964" y="98"/>
                    </a:lnTo>
                    <a:lnTo>
                      <a:pt x="967" y="90"/>
                    </a:lnTo>
                    <a:lnTo>
                      <a:pt x="971" y="86"/>
                    </a:lnTo>
                    <a:lnTo>
                      <a:pt x="971" y="82"/>
                    </a:lnTo>
                    <a:lnTo>
                      <a:pt x="975" y="74"/>
                    </a:lnTo>
                    <a:lnTo>
                      <a:pt x="979" y="66"/>
                    </a:lnTo>
                    <a:lnTo>
                      <a:pt x="983" y="59"/>
                    </a:lnTo>
                    <a:lnTo>
                      <a:pt x="987" y="51"/>
                    </a:lnTo>
                    <a:lnTo>
                      <a:pt x="987" y="43"/>
                    </a:lnTo>
                    <a:lnTo>
                      <a:pt x="987" y="43"/>
                    </a:lnTo>
                    <a:lnTo>
                      <a:pt x="991" y="39"/>
                    </a:lnTo>
                    <a:lnTo>
                      <a:pt x="991" y="31"/>
                    </a:lnTo>
                    <a:lnTo>
                      <a:pt x="991" y="24"/>
                    </a:lnTo>
                    <a:lnTo>
                      <a:pt x="991" y="20"/>
                    </a:lnTo>
                    <a:lnTo>
                      <a:pt x="991" y="16"/>
                    </a:lnTo>
                    <a:lnTo>
                      <a:pt x="995" y="8"/>
                    </a:lnTo>
                    <a:lnTo>
                      <a:pt x="995" y="0"/>
                    </a:lnTo>
                    <a:lnTo>
                      <a:pt x="0" y="0"/>
                    </a:lnTo>
                    <a:lnTo>
                      <a:pt x="948" y="117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3813840" y="96840"/>
              <a:ext cx="153396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ffff"/>
                  </a:solidFill>
                  <a:latin typeface="Times New Roman"/>
                </a:rPr>
                <a:t>Pie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317520" y="2239920"/>
            <a:ext cx="848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"/>
              </a:rPr>
              <a:t>200 runners were asked to indicate their                          favourite type of running sho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843200" y="3227400"/>
            <a:ext cx="950400" cy="52056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838160" y="3948120"/>
            <a:ext cx="5140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ke                                                    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ida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eb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ic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870440" y="3227400"/>
            <a:ext cx="3564000" cy="52056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# of runners selec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33960" y="5884920"/>
            <a:ext cx="7890480" cy="520560"/>
          </a:xfrm>
          <a:prstGeom prst="rect">
            <a:avLst/>
          </a:prstGeom>
          <a:solidFill>
            <a:srgbClr val="ff6600"/>
          </a:solid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G Times"/>
              </a:rPr>
              <a:t>Draw a pie chart based on this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652920" y="1109520"/>
            <a:ext cx="1971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Times New Roman"/>
              </a:rPr>
              <a:t>Char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581040" y="1343160"/>
            <a:ext cx="2486160" cy="871560"/>
            <a:chOff x="581040" y="1343160"/>
            <a:chExt cx="2486160" cy="871560"/>
          </a:xfrm>
        </p:grpSpPr>
        <p:sp>
          <p:nvSpPr>
            <p:cNvPr id="993" name=""/>
            <p:cNvSpPr txBox="1"/>
            <p:nvPr/>
          </p:nvSpPr>
          <p:spPr>
            <a:xfrm>
              <a:off x="581040" y="134316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94" name=""/>
            <p:cNvSpPr txBox="1"/>
            <p:nvPr/>
          </p:nvSpPr>
          <p:spPr>
            <a:xfrm>
              <a:off x="1219320" y="1552680"/>
              <a:ext cx="184788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zoom dir="out"/>
  </p:transition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2971800" y="5600880"/>
            <a:ext cx="800280" cy="571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666720" y="3112920"/>
            <a:ext cx="2111400" cy="2987640"/>
            <a:chOff x="666720" y="3112920"/>
            <a:chExt cx="2111400" cy="2987640"/>
          </a:xfrm>
        </p:grpSpPr>
        <p:sp>
          <p:nvSpPr>
            <p:cNvPr id="997" name=""/>
            <p:cNvSpPr/>
            <p:nvPr/>
          </p:nvSpPr>
          <p:spPr>
            <a:xfrm>
              <a:off x="666720" y="3662280"/>
              <a:ext cx="2111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ike          9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idas      4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ebok     3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sic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ther        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00200" y="3112920"/>
              <a:ext cx="950400" cy="520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Times New Roman"/>
                </a:rPr>
                <a:t>Ty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903320" y="3141360"/>
              <a:ext cx="790560" cy="520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Times New Roman"/>
                </a:rPr>
                <a:t>#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827360" y="5580000"/>
              <a:ext cx="790560" cy="5205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17181" dir="783836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Times New Roman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3012840" y="3111480"/>
            <a:ext cx="71424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46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2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297680" y="3635280"/>
            <a:ext cx="3491640" cy="2362320"/>
            <a:chOff x="4297680" y="3635280"/>
            <a:chExt cx="3491640" cy="2362320"/>
          </a:xfrm>
        </p:grpSpPr>
        <p:sp>
          <p:nvSpPr>
            <p:cNvPr id="1003" name=""/>
            <p:cNvSpPr/>
            <p:nvPr/>
          </p:nvSpPr>
          <p:spPr>
            <a:xfrm>
              <a:off x="5427360" y="3635280"/>
              <a:ext cx="2361960" cy="236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166" y="20014"/>
                  </a:moveTo>
                  <a:arcTo wR="10800" hR="10800" stAng="7286802" swAng="5259543"/>
                  <a:lnTo>
                    <a:pt x="10800" y="10800"/>
                  </a:lnTo>
                  <a:close/>
                </a:path>
                <a:path fill="none" w="21600" h="21600">
                  <a:moveTo>
                    <a:pt x="5166" y="20014"/>
                  </a:moveTo>
                  <a:arcTo wR="10800" hR="10800" stAng="7286802" swAng="5259543"/>
                </a:path>
              </a:pathLst>
            </a:custGeom>
            <a:solidFill>
              <a:srgbClr val="6a789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97680" y="4730760"/>
              <a:ext cx="1026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CG Times"/>
                </a:rPr>
                <a:t>Adid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421240" y="467028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4.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5390640" y="3622320"/>
            <a:ext cx="3114720" cy="2360520"/>
            <a:chOff x="5390640" y="3622320"/>
            <a:chExt cx="3114720" cy="2360520"/>
          </a:xfrm>
        </p:grpSpPr>
        <p:sp>
          <p:nvSpPr>
            <p:cNvPr id="1007" name=""/>
            <p:cNvSpPr/>
            <p:nvPr/>
          </p:nvSpPr>
          <p:spPr>
            <a:xfrm>
              <a:off x="5390640" y="3622320"/>
              <a:ext cx="2359080" cy="236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388" y="3115"/>
                  </a:moveTo>
                  <a:arcTo wR="10800" hR="10800" stAng="-2721741" swAng="100085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388" y="3115"/>
                  </a:moveTo>
                  <a:arcTo wR="10800" hR="10800" stAng="-2721741" swAng="10008543"/>
                </a:path>
              </a:pathLst>
            </a:custGeom>
            <a:solidFill>
              <a:srgbClr val="ff66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794360" y="4881600"/>
              <a:ext cx="71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CG Times"/>
                </a:rPr>
                <a:t>Ni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638760" y="483372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46.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5044320" y="3403440"/>
            <a:ext cx="2733480" cy="2601720"/>
            <a:chOff x="5044320" y="3403440"/>
            <a:chExt cx="2733480" cy="2601720"/>
          </a:xfrm>
        </p:grpSpPr>
        <p:sp>
          <p:nvSpPr>
            <p:cNvPr id="1011" name=""/>
            <p:cNvSpPr/>
            <p:nvPr/>
          </p:nvSpPr>
          <p:spPr>
            <a:xfrm>
              <a:off x="5418360" y="3643200"/>
              <a:ext cx="2359440" cy="236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4" y="5547"/>
                  </a:moveTo>
                  <a:arcTo wR="10800" hR="10800" stAng="-9053654" swAng="39396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4" y="5547"/>
                  </a:moveTo>
                  <a:arcTo wR="10800" hR="10800" stAng="-9053654" swAng="3939664"/>
                </a:path>
              </a:pathLst>
            </a:cu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044320" y="3403440"/>
              <a:ext cx="1132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G Times"/>
                </a:rPr>
                <a:t>Reeb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683320" y="388908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8.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5391000" y="3247920"/>
            <a:ext cx="2358360" cy="2743200"/>
            <a:chOff x="5391000" y="3247920"/>
            <a:chExt cx="2358360" cy="2743200"/>
          </a:xfrm>
        </p:grpSpPr>
        <p:sp>
          <p:nvSpPr>
            <p:cNvPr id="1015" name=""/>
            <p:cNvSpPr/>
            <p:nvPr/>
          </p:nvSpPr>
          <p:spPr>
            <a:xfrm>
              <a:off x="5391000" y="3631320"/>
              <a:ext cx="2358360" cy="235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97" y="37"/>
                  </a:moveTo>
                  <a:arcTo wR="10800" hR="10800" stAng="-5113990" swAng="14379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97" y="37"/>
                  </a:moveTo>
                  <a:arcTo wR="10800" hR="10800" stAng="-5113990" swAng="1437904"/>
                </a:path>
              </a:pathLst>
            </a:custGeom>
            <a:solidFill>
              <a:srgbClr val="ff00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490080" y="324792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G Times"/>
                </a:rPr>
                <a:t>Asi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397560" y="3663720"/>
              <a:ext cx="75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6.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5391360" y="3487680"/>
            <a:ext cx="2782080" cy="2500920"/>
            <a:chOff x="5391360" y="3487680"/>
            <a:chExt cx="2782080" cy="2500920"/>
          </a:xfrm>
        </p:grpSpPr>
        <p:sp>
          <p:nvSpPr>
            <p:cNvPr id="1019" name=""/>
            <p:cNvSpPr/>
            <p:nvPr/>
          </p:nvSpPr>
          <p:spPr>
            <a:xfrm>
              <a:off x="5391360" y="3628440"/>
              <a:ext cx="2358360" cy="236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92" y="1330"/>
                  </a:moveTo>
                  <a:arcTo wR="10800" hR="10800" stAng="-3676086" swAng="954345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92" y="1330"/>
                  </a:moveTo>
                  <a:arcTo wR="10800" hR="10800" stAng="-3676086" swAng="954345"/>
                </a:path>
              </a:pathLst>
            </a:custGeom>
            <a:solidFill>
              <a:srgbClr val="0000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6713640" y="3487680"/>
              <a:ext cx="1459800" cy="908280"/>
              <a:chOff x="6713640" y="3487680"/>
              <a:chExt cx="1459800" cy="908280"/>
            </a:xfrm>
          </p:grpSpPr>
          <p:sp>
            <p:nvSpPr>
              <p:cNvPr id="1021" name=""/>
              <p:cNvSpPr/>
              <p:nvPr/>
            </p:nvSpPr>
            <p:spPr>
              <a:xfrm>
                <a:off x="7279560" y="3487680"/>
                <a:ext cx="893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CG Times"/>
                  </a:rPr>
                  <a:t>Othe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G Times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713640" y="3997080"/>
                <a:ext cx="75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4.5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3" name=""/>
          <p:cNvSpPr/>
          <p:nvPr/>
        </p:nvSpPr>
        <p:spPr>
          <a:xfrm>
            <a:off x="1690560" y="1833480"/>
            <a:ext cx="58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ativ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ncy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tribution for the running sh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3565440" y="28440"/>
            <a:ext cx="2059200" cy="1871280"/>
            <a:chOff x="3565440" y="28440"/>
            <a:chExt cx="2059200" cy="1871280"/>
          </a:xfrm>
        </p:grpSpPr>
        <p:grpSp>
          <p:nvGrpSpPr>
            <p:cNvPr id="1025" name=""/>
            <p:cNvGrpSpPr/>
            <p:nvPr/>
          </p:nvGrpSpPr>
          <p:grpSpPr>
            <a:xfrm>
              <a:off x="3565440" y="28440"/>
              <a:ext cx="2030400" cy="1871280"/>
              <a:chOff x="3565440" y="28440"/>
              <a:chExt cx="2030400" cy="1871280"/>
            </a:xfrm>
          </p:grpSpPr>
          <p:grpSp>
            <p:nvGrpSpPr>
              <p:cNvPr id="1026" name=""/>
              <p:cNvGrpSpPr/>
              <p:nvPr/>
            </p:nvGrpSpPr>
            <p:grpSpPr>
              <a:xfrm>
                <a:off x="3565440" y="28440"/>
                <a:ext cx="2030400" cy="1871280"/>
                <a:chOff x="3565440" y="28440"/>
                <a:chExt cx="2030400" cy="187128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4582800" y="859680"/>
                  <a:ext cx="1013040" cy="208800"/>
                </a:xfrm>
                <a:prstGeom prst="rect">
                  <a:avLst/>
                </a:prstGeom>
                <a:solidFill>
                  <a:srgbClr val="e9e9e9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356720" y="54000"/>
                  <a:ext cx="225720" cy="1014480"/>
                </a:xfrm>
                <a:custGeom>
                  <a:avLst/>
                  <a:gdLst/>
                  <a:ahLst/>
                  <a:rect l="l" t="t" r="r" b="b"/>
                  <a:pathLst>
                    <a:path w="222" h="476">
                      <a:moveTo>
                        <a:pt x="222" y="378"/>
                      </a:moveTo>
                      <a:lnTo>
                        <a:pt x="0" y="0"/>
                      </a:lnTo>
                      <a:lnTo>
                        <a:pt x="0" y="97"/>
                      </a:lnTo>
                      <a:lnTo>
                        <a:pt x="222" y="476"/>
                      </a:lnTo>
                      <a:lnTo>
                        <a:pt x="222" y="378"/>
                      </a:lnTo>
                      <a:close/>
                    </a:path>
                  </a:pathLst>
                </a:custGeom>
                <a:solidFill>
                  <a:srgbClr val="26262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582800" y="859680"/>
                  <a:ext cx="969120" cy="449280"/>
                </a:xfrm>
                <a:custGeom>
                  <a:avLst/>
                  <a:gdLst/>
                  <a:ahLst/>
                  <a:rect l="l" t="t" r="r" b="b"/>
                  <a:pathLst>
                    <a:path w="952" h="211">
                      <a:moveTo>
                        <a:pt x="0" y="0"/>
                      </a:moveTo>
                      <a:lnTo>
                        <a:pt x="952" y="113"/>
                      </a:lnTo>
                      <a:lnTo>
                        <a:pt x="952" y="211"/>
                      </a:lnTo>
                      <a:lnTo>
                        <a:pt x="0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270de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5547960" y="859680"/>
                  <a:ext cx="47520" cy="457920"/>
                </a:xfrm>
                <a:custGeom>
                  <a:avLst/>
                  <a:gdLst/>
                  <a:ahLst/>
                  <a:rect l="l" t="t" r="r" b="b"/>
                  <a:pathLst>
                    <a:path w="47" h="215">
                      <a:moveTo>
                        <a:pt x="0" y="117"/>
                      </a:moveTo>
                      <a:lnTo>
                        <a:pt x="4" y="109"/>
                      </a:lnTo>
                      <a:lnTo>
                        <a:pt x="12" y="102"/>
                      </a:lnTo>
                      <a:lnTo>
                        <a:pt x="16" y="94"/>
                      </a:lnTo>
                      <a:lnTo>
                        <a:pt x="19" y="90"/>
                      </a:lnTo>
                      <a:lnTo>
                        <a:pt x="23" y="86"/>
                      </a:lnTo>
                      <a:lnTo>
                        <a:pt x="23" y="82"/>
                      </a:lnTo>
                      <a:lnTo>
                        <a:pt x="27" y="74"/>
                      </a:lnTo>
                      <a:lnTo>
                        <a:pt x="31" y="66"/>
                      </a:lnTo>
                      <a:lnTo>
                        <a:pt x="35" y="59"/>
                      </a:lnTo>
                      <a:lnTo>
                        <a:pt x="39" y="51"/>
                      </a:lnTo>
                      <a:lnTo>
                        <a:pt x="39" y="43"/>
                      </a:lnTo>
                      <a:lnTo>
                        <a:pt x="39" y="43"/>
                      </a:lnTo>
                      <a:lnTo>
                        <a:pt x="43" y="39"/>
                      </a:lnTo>
                      <a:lnTo>
                        <a:pt x="43" y="31"/>
                      </a:lnTo>
                      <a:lnTo>
                        <a:pt x="43" y="24"/>
                      </a:lnTo>
                      <a:lnTo>
                        <a:pt x="43" y="20"/>
                      </a:lnTo>
                      <a:lnTo>
                        <a:pt x="43" y="16"/>
                      </a:lnTo>
                      <a:lnTo>
                        <a:pt x="47" y="8"/>
                      </a:lnTo>
                      <a:lnTo>
                        <a:pt x="47" y="0"/>
                      </a:lnTo>
                      <a:lnTo>
                        <a:pt x="47" y="98"/>
                      </a:lnTo>
                      <a:lnTo>
                        <a:pt x="47" y="105"/>
                      </a:lnTo>
                      <a:lnTo>
                        <a:pt x="47" y="113"/>
                      </a:lnTo>
                      <a:lnTo>
                        <a:pt x="43" y="121"/>
                      </a:lnTo>
                      <a:lnTo>
                        <a:pt x="43" y="129"/>
                      </a:lnTo>
                      <a:lnTo>
                        <a:pt x="43" y="137"/>
                      </a:lnTo>
                      <a:lnTo>
                        <a:pt x="39" y="144"/>
                      </a:lnTo>
                      <a:lnTo>
                        <a:pt x="39" y="148"/>
                      </a:lnTo>
                      <a:lnTo>
                        <a:pt x="35" y="156"/>
                      </a:lnTo>
                      <a:lnTo>
                        <a:pt x="31" y="164"/>
                      </a:lnTo>
                      <a:lnTo>
                        <a:pt x="27" y="172"/>
                      </a:lnTo>
                      <a:lnTo>
                        <a:pt x="23" y="180"/>
                      </a:lnTo>
                      <a:lnTo>
                        <a:pt x="19" y="187"/>
                      </a:lnTo>
                      <a:lnTo>
                        <a:pt x="16" y="191"/>
                      </a:lnTo>
                      <a:lnTo>
                        <a:pt x="12" y="199"/>
                      </a:lnTo>
                      <a:lnTo>
                        <a:pt x="4" y="207"/>
                      </a:lnTo>
                      <a:lnTo>
                        <a:pt x="0" y="215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02858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582800" y="859680"/>
                  <a:ext cx="631080" cy="856440"/>
                </a:xfrm>
                <a:custGeom>
                  <a:avLst/>
                  <a:gdLst/>
                  <a:ahLst/>
                  <a:rect l="l" t="t" r="r" b="b"/>
                  <a:pathLst>
                    <a:path w="620" h="402">
                      <a:moveTo>
                        <a:pt x="0" y="0"/>
                      </a:moveTo>
                      <a:lnTo>
                        <a:pt x="620" y="304"/>
                      </a:lnTo>
                      <a:lnTo>
                        <a:pt x="620" y="402"/>
                      </a:lnTo>
                      <a:lnTo>
                        <a:pt x="0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8f47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5214240" y="1109160"/>
                  <a:ext cx="333720" cy="606960"/>
                </a:xfrm>
                <a:custGeom>
                  <a:avLst/>
                  <a:gdLst/>
                  <a:ahLst/>
                  <a:rect l="l" t="t" r="r" b="b"/>
                  <a:pathLst>
                    <a:path w="328" h="285">
                      <a:moveTo>
                        <a:pt x="0" y="187"/>
                      </a:moveTo>
                      <a:lnTo>
                        <a:pt x="31" y="180"/>
                      </a:lnTo>
                      <a:lnTo>
                        <a:pt x="55" y="168"/>
                      </a:lnTo>
                      <a:lnTo>
                        <a:pt x="82" y="160"/>
                      </a:lnTo>
                      <a:lnTo>
                        <a:pt x="110" y="148"/>
                      </a:lnTo>
                      <a:lnTo>
                        <a:pt x="133" y="137"/>
                      </a:lnTo>
                      <a:lnTo>
                        <a:pt x="156" y="125"/>
                      </a:lnTo>
                      <a:lnTo>
                        <a:pt x="180" y="113"/>
                      </a:lnTo>
                      <a:lnTo>
                        <a:pt x="199" y="106"/>
                      </a:lnTo>
                      <a:lnTo>
                        <a:pt x="207" y="98"/>
                      </a:lnTo>
                      <a:lnTo>
                        <a:pt x="219" y="90"/>
                      </a:lnTo>
                      <a:lnTo>
                        <a:pt x="238" y="78"/>
                      </a:lnTo>
                      <a:lnTo>
                        <a:pt x="246" y="74"/>
                      </a:lnTo>
                      <a:lnTo>
                        <a:pt x="258" y="66"/>
                      </a:lnTo>
                      <a:lnTo>
                        <a:pt x="266" y="59"/>
                      </a:lnTo>
                      <a:lnTo>
                        <a:pt x="273" y="55"/>
                      </a:lnTo>
                      <a:lnTo>
                        <a:pt x="289" y="39"/>
                      </a:lnTo>
                      <a:lnTo>
                        <a:pt x="297" y="35"/>
                      </a:lnTo>
                      <a:lnTo>
                        <a:pt x="305" y="27"/>
                      </a:lnTo>
                      <a:lnTo>
                        <a:pt x="308" y="20"/>
                      </a:lnTo>
                      <a:lnTo>
                        <a:pt x="316" y="16"/>
                      </a:lnTo>
                      <a:lnTo>
                        <a:pt x="324" y="8"/>
                      </a:lnTo>
                      <a:lnTo>
                        <a:pt x="328" y="0"/>
                      </a:lnTo>
                      <a:lnTo>
                        <a:pt x="328" y="98"/>
                      </a:lnTo>
                      <a:lnTo>
                        <a:pt x="324" y="106"/>
                      </a:lnTo>
                      <a:lnTo>
                        <a:pt x="316" y="113"/>
                      </a:lnTo>
                      <a:lnTo>
                        <a:pt x="308" y="117"/>
                      </a:lnTo>
                      <a:lnTo>
                        <a:pt x="305" y="125"/>
                      </a:lnTo>
                      <a:lnTo>
                        <a:pt x="297" y="133"/>
                      </a:lnTo>
                      <a:lnTo>
                        <a:pt x="289" y="137"/>
                      </a:lnTo>
                      <a:lnTo>
                        <a:pt x="281" y="145"/>
                      </a:lnTo>
                      <a:lnTo>
                        <a:pt x="273" y="152"/>
                      </a:lnTo>
                      <a:lnTo>
                        <a:pt x="266" y="156"/>
                      </a:lnTo>
                      <a:lnTo>
                        <a:pt x="258" y="164"/>
                      </a:lnTo>
                      <a:lnTo>
                        <a:pt x="246" y="172"/>
                      </a:lnTo>
                      <a:lnTo>
                        <a:pt x="238" y="176"/>
                      </a:lnTo>
                      <a:lnTo>
                        <a:pt x="230" y="184"/>
                      </a:lnTo>
                      <a:lnTo>
                        <a:pt x="219" y="191"/>
                      </a:lnTo>
                      <a:lnTo>
                        <a:pt x="211" y="195"/>
                      </a:lnTo>
                      <a:lnTo>
                        <a:pt x="199" y="199"/>
                      </a:lnTo>
                      <a:lnTo>
                        <a:pt x="188" y="207"/>
                      </a:lnTo>
                      <a:lnTo>
                        <a:pt x="180" y="211"/>
                      </a:lnTo>
                      <a:lnTo>
                        <a:pt x="168" y="219"/>
                      </a:lnTo>
                      <a:lnTo>
                        <a:pt x="156" y="223"/>
                      </a:lnTo>
                      <a:lnTo>
                        <a:pt x="145" y="230"/>
                      </a:lnTo>
                      <a:lnTo>
                        <a:pt x="133" y="234"/>
                      </a:lnTo>
                      <a:lnTo>
                        <a:pt x="121" y="242"/>
                      </a:lnTo>
                      <a:lnTo>
                        <a:pt x="110" y="246"/>
                      </a:lnTo>
                      <a:lnTo>
                        <a:pt x="94" y="250"/>
                      </a:lnTo>
                      <a:lnTo>
                        <a:pt x="82" y="258"/>
                      </a:lnTo>
                      <a:lnTo>
                        <a:pt x="71" y="262"/>
                      </a:lnTo>
                      <a:lnTo>
                        <a:pt x="55" y="265"/>
                      </a:lnTo>
                      <a:lnTo>
                        <a:pt x="43" y="269"/>
                      </a:lnTo>
                      <a:lnTo>
                        <a:pt x="35" y="273"/>
                      </a:lnTo>
                      <a:lnTo>
                        <a:pt x="31" y="277"/>
                      </a:lnTo>
                      <a:lnTo>
                        <a:pt x="16" y="281"/>
                      </a:lnTo>
                      <a:lnTo>
                        <a:pt x="0" y="285"/>
                      </a:lnTo>
                      <a:lnTo>
                        <a:pt x="0" y="187"/>
                      </a:lnTo>
                      <a:close/>
                    </a:path>
                  </a:pathLst>
                </a:custGeom>
                <a:solidFill>
                  <a:srgbClr val="028502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3577320" y="859680"/>
                  <a:ext cx="1005120" cy="332280"/>
                </a:xfrm>
                <a:custGeom>
                  <a:avLst/>
                  <a:gdLst/>
                  <a:ahLst/>
                  <a:rect l="l" t="t" r="r" b="b"/>
                  <a:pathLst>
                    <a:path w="987" h="156">
                      <a:moveTo>
                        <a:pt x="987" y="0"/>
                      </a:moveTo>
                      <a:lnTo>
                        <a:pt x="0" y="59"/>
                      </a:lnTo>
                      <a:lnTo>
                        <a:pt x="0" y="156"/>
                      </a:lnTo>
                      <a:lnTo>
                        <a:pt x="987" y="98"/>
                      </a:lnTo>
                      <a:lnTo>
                        <a:pt x="987" y="0"/>
                      </a:lnTo>
                      <a:close/>
                    </a:path>
                  </a:pathLst>
                </a:custGeom>
                <a:solidFill>
                  <a:srgbClr val="0202e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3565440" y="859680"/>
                  <a:ext cx="11880" cy="340560"/>
                </a:xfrm>
                <a:custGeom>
                  <a:avLst/>
                  <a:gdLst/>
                  <a:ahLst/>
                  <a:rect l="l" t="t" r="r" b="b"/>
                  <a:pathLst>
                    <a:path w="12" h="16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4" y="24"/>
                      </a:lnTo>
                      <a:lnTo>
                        <a:pt x="4" y="31"/>
                      </a:lnTo>
                      <a:lnTo>
                        <a:pt x="4" y="39"/>
                      </a:lnTo>
                      <a:lnTo>
                        <a:pt x="8" y="47"/>
                      </a:lnTo>
                      <a:lnTo>
                        <a:pt x="12" y="55"/>
                      </a:lnTo>
                      <a:lnTo>
                        <a:pt x="12" y="63"/>
                      </a:lnTo>
                      <a:lnTo>
                        <a:pt x="12" y="160"/>
                      </a:lnTo>
                      <a:lnTo>
                        <a:pt x="12" y="152"/>
                      </a:lnTo>
                      <a:lnTo>
                        <a:pt x="8" y="144"/>
                      </a:lnTo>
                      <a:lnTo>
                        <a:pt x="8" y="137"/>
                      </a:lnTo>
                      <a:lnTo>
                        <a:pt x="4" y="129"/>
                      </a:lnTo>
                      <a:lnTo>
                        <a:pt x="4" y="125"/>
                      </a:lnTo>
                      <a:lnTo>
                        <a:pt x="4" y="121"/>
                      </a:lnTo>
                      <a:lnTo>
                        <a:pt x="4" y="117"/>
                      </a:lnTo>
                      <a:lnTo>
                        <a:pt x="4" y="113"/>
                      </a:lnTo>
                      <a:lnTo>
                        <a:pt x="0" y="109"/>
                      </a:lnTo>
                      <a:lnTo>
                        <a:pt x="0" y="105"/>
                      </a:lnTo>
                      <a:lnTo>
                        <a:pt x="0" y="102"/>
                      </a:lnTo>
                      <a:lnTo>
                        <a:pt x="0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356720" y="859680"/>
                  <a:ext cx="225720" cy="1022760"/>
                </a:xfrm>
                <a:custGeom>
                  <a:avLst/>
                  <a:gdLst/>
                  <a:ahLst/>
                  <a:rect l="l" t="t" r="r" b="b"/>
                  <a:pathLst>
                    <a:path w="222" h="480">
                      <a:moveTo>
                        <a:pt x="222" y="0"/>
                      </a:moveTo>
                      <a:lnTo>
                        <a:pt x="0" y="382"/>
                      </a:lnTo>
                      <a:lnTo>
                        <a:pt x="0" y="480"/>
                      </a:lnTo>
                      <a:lnTo>
                        <a:pt x="222" y="98"/>
                      </a:lnTo>
                      <a:lnTo>
                        <a:pt x="222" y="0"/>
                      </a:lnTo>
                      <a:close/>
                    </a:path>
                  </a:pathLst>
                </a:custGeom>
                <a:solidFill>
                  <a:srgbClr val="001a3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3577320" y="993600"/>
                  <a:ext cx="770760" cy="880560"/>
                </a:xfrm>
                <a:custGeom>
                  <a:avLst/>
                  <a:gdLst/>
                  <a:ahLst/>
                  <a:rect l="l" t="t" r="r" b="b"/>
                  <a:pathLst>
                    <a:path w="757" h="413">
                      <a:moveTo>
                        <a:pt x="0" y="0"/>
                      </a:moveTo>
                      <a:lnTo>
                        <a:pt x="4" y="7"/>
                      </a:lnTo>
                      <a:lnTo>
                        <a:pt x="8" y="15"/>
                      </a:lnTo>
                      <a:lnTo>
                        <a:pt x="12" y="19"/>
                      </a:lnTo>
                      <a:lnTo>
                        <a:pt x="16" y="27"/>
                      </a:lnTo>
                      <a:lnTo>
                        <a:pt x="20" y="35"/>
                      </a:lnTo>
                      <a:lnTo>
                        <a:pt x="27" y="42"/>
                      </a:lnTo>
                      <a:lnTo>
                        <a:pt x="31" y="50"/>
                      </a:lnTo>
                      <a:lnTo>
                        <a:pt x="35" y="58"/>
                      </a:lnTo>
                      <a:lnTo>
                        <a:pt x="43" y="62"/>
                      </a:lnTo>
                      <a:lnTo>
                        <a:pt x="47" y="70"/>
                      </a:lnTo>
                      <a:lnTo>
                        <a:pt x="55" y="78"/>
                      </a:lnTo>
                      <a:lnTo>
                        <a:pt x="62" y="85"/>
                      </a:lnTo>
                      <a:lnTo>
                        <a:pt x="66" y="89"/>
                      </a:lnTo>
                      <a:lnTo>
                        <a:pt x="74" y="97"/>
                      </a:lnTo>
                      <a:lnTo>
                        <a:pt x="82" y="105"/>
                      </a:lnTo>
                      <a:lnTo>
                        <a:pt x="90" y="109"/>
                      </a:lnTo>
                      <a:lnTo>
                        <a:pt x="101" y="117"/>
                      </a:lnTo>
                      <a:lnTo>
                        <a:pt x="109" y="124"/>
                      </a:lnTo>
                      <a:lnTo>
                        <a:pt x="117" y="128"/>
                      </a:lnTo>
                      <a:lnTo>
                        <a:pt x="125" y="136"/>
                      </a:lnTo>
                      <a:lnTo>
                        <a:pt x="137" y="140"/>
                      </a:lnTo>
                      <a:lnTo>
                        <a:pt x="144" y="148"/>
                      </a:lnTo>
                      <a:lnTo>
                        <a:pt x="156" y="156"/>
                      </a:lnTo>
                      <a:lnTo>
                        <a:pt x="164" y="160"/>
                      </a:lnTo>
                      <a:lnTo>
                        <a:pt x="176" y="167"/>
                      </a:lnTo>
                      <a:lnTo>
                        <a:pt x="179" y="167"/>
                      </a:lnTo>
                      <a:lnTo>
                        <a:pt x="187" y="171"/>
                      </a:lnTo>
                      <a:lnTo>
                        <a:pt x="199" y="175"/>
                      </a:lnTo>
                      <a:lnTo>
                        <a:pt x="203" y="179"/>
                      </a:lnTo>
                      <a:lnTo>
                        <a:pt x="207" y="183"/>
                      </a:lnTo>
                      <a:lnTo>
                        <a:pt x="218" y="187"/>
                      </a:lnTo>
                      <a:lnTo>
                        <a:pt x="234" y="195"/>
                      </a:lnTo>
                      <a:lnTo>
                        <a:pt x="246" y="199"/>
                      </a:lnTo>
                      <a:lnTo>
                        <a:pt x="257" y="202"/>
                      </a:lnTo>
                      <a:lnTo>
                        <a:pt x="269" y="210"/>
                      </a:lnTo>
                      <a:lnTo>
                        <a:pt x="281" y="214"/>
                      </a:lnTo>
                      <a:lnTo>
                        <a:pt x="297" y="218"/>
                      </a:lnTo>
                      <a:lnTo>
                        <a:pt x="308" y="226"/>
                      </a:lnTo>
                      <a:lnTo>
                        <a:pt x="320" y="230"/>
                      </a:lnTo>
                      <a:lnTo>
                        <a:pt x="336" y="234"/>
                      </a:lnTo>
                      <a:lnTo>
                        <a:pt x="351" y="238"/>
                      </a:lnTo>
                      <a:lnTo>
                        <a:pt x="363" y="241"/>
                      </a:lnTo>
                      <a:lnTo>
                        <a:pt x="378" y="249"/>
                      </a:lnTo>
                      <a:lnTo>
                        <a:pt x="394" y="249"/>
                      </a:lnTo>
                      <a:lnTo>
                        <a:pt x="406" y="257"/>
                      </a:lnTo>
                      <a:lnTo>
                        <a:pt x="421" y="261"/>
                      </a:lnTo>
                      <a:lnTo>
                        <a:pt x="453" y="269"/>
                      </a:lnTo>
                      <a:lnTo>
                        <a:pt x="484" y="277"/>
                      </a:lnTo>
                      <a:lnTo>
                        <a:pt x="515" y="280"/>
                      </a:lnTo>
                      <a:lnTo>
                        <a:pt x="550" y="288"/>
                      </a:lnTo>
                      <a:lnTo>
                        <a:pt x="566" y="292"/>
                      </a:lnTo>
                      <a:lnTo>
                        <a:pt x="573" y="292"/>
                      </a:lnTo>
                      <a:lnTo>
                        <a:pt x="581" y="296"/>
                      </a:lnTo>
                      <a:lnTo>
                        <a:pt x="601" y="296"/>
                      </a:lnTo>
                      <a:lnTo>
                        <a:pt x="616" y="300"/>
                      </a:lnTo>
                      <a:lnTo>
                        <a:pt x="632" y="304"/>
                      </a:lnTo>
                      <a:lnTo>
                        <a:pt x="652" y="304"/>
                      </a:lnTo>
                      <a:lnTo>
                        <a:pt x="687" y="312"/>
                      </a:lnTo>
                      <a:lnTo>
                        <a:pt x="702" y="312"/>
                      </a:lnTo>
                      <a:lnTo>
                        <a:pt x="722" y="316"/>
                      </a:lnTo>
                      <a:lnTo>
                        <a:pt x="730" y="316"/>
                      </a:lnTo>
                      <a:lnTo>
                        <a:pt x="741" y="316"/>
                      </a:lnTo>
                      <a:lnTo>
                        <a:pt x="757" y="319"/>
                      </a:lnTo>
                      <a:lnTo>
                        <a:pt x="757" y="413"/>
                      </a:lnTo>
                      <a:lnTo>
                        <a:pt x="722" y="413"/>
                      </a:lnTo>
                      <a:lnTo>
                        <a:pt x="687" y="409"/>
                      </a:lnTo>
                      <a:lnTo>
                        <a:pt x="652" y="401"/>
                      </a:lnTo>
                      <a:lnTo>
                        <a:pt x="616" y="397"/>
                      </a:lnTo>
                      <a:lnTo>
                        <a:pt x="581" y="394"/>
                      </a:lnTo>
                      <a:lnTo>
                        <a:pt x="550" y="386"/>
                      </a:lnTo>
                      <a:lnTo>
                        <a:pt x="515" y="378"/>
                      </a:lnTo>
                      <a:lnTo>
                        <a:pt x="484" y="374"/>
                      </a:lnTo>
                      <a:lnTo>
                        <a:pt x="453" y="366"/>
                      </a:lnTo>
                      <a:lnTo>
                        <a:pt x="421" y="358"/>
                      </a:lnTo>
                      <a:lnTo>
                        <a:pt x="394" y="351"/>
                      </a:lnTo>
                      <a:lnTo>
                        <a:pt x="363" y="339"/>
                      </a:lnTo>
                      <a:lnTo>
                        <a:pt x="336" y="331"/>
                      </a:lnTo>
                      <a:lnTo>
                        <a:pt x="308" y="323"/>
                      </a:lnTo>
                      <a:lnTo>
                        <a:pt x="281" y="312"/>
                      </a:lnTo>
                      <a:lnTo>
                        <a:pt x="269" y="308"/>
                      </a:lnTo>
                      <a:lnTo>
                        <a:pt x="257" y="300"/>
                      </a:lnTo>
                      <a:lnTo>
                        <a:pt x="246" y="296"/>
                      </a:lnTo>
                      <a:lnTo>
                        <a:pt x="234" y="292"/>
                      </a:lnTo>
                      <a:lnTo>
                        <a:pt x="218" y="284"/>
                      </a:lnTo>
                      <a:lnTo>
                        <a:pt x="211" y="280"/>
                      </a:lnTo>
                      <a:lnTo>
                        <a:pt x="187" y="269"/>
                      </a:lnTo>
                      <a:lnTo>
                        <a:pt x="164" y="257"/>
                      </a:lnTo>
                      <a:lnTo>
                        <a:pt x="156" y="249"/>
                      </a:lnTo>
                      <a:lnTo>
                        <a:pt x="144" y="245"/>
                      </a:lnTo>
                      <a:lnTo>
                        <a:pt x="125" y="234"/>
                      </a:lnTo>
                      <a:lnTo>
                        <a:pt x="117" y="226"/>
                      </a:lnTo>
                      <a:lnTo>
                        <a:pt x="109" y="222"/>
                      </a:lnTo>
                      <a:lnTo>
                        <a:pt x="101" y="214"/>
                      </a:lnTo>
                      <a:lnTo>
                        <a:pt x="90" y="206"/>
                      </a:lnTo>
                      <a:lnTo>
                        <a:pt x="82" y="202"/>
                      </a:lnTo>
                      <a:lnTo>
                        <a:pt x="74" y="195"/>
                      </a:lnTo>
                      <a:lnTo>
                        <a:pt x="66" y="187"/>
                      </a:lnTo>
                      <a:lnTo>
                        <a:pt x="62" y="183"/>
                      </a:lnTo>
                      <a:lnTo>
                        <a:pt x="55" y="175"/>
                      </a:lnTo>
                      <a:lnTo>
                        <a:pt x="47" y="167"/>
                      </a:lnTo>
                      <a:lnTo>
                        <a:pt x="43" y="160"/>
                      </a:lnTo>
                      <a:lnTo>
                        <a:pt x="35" y="156"/>
                      </a:lnTo>
                      <a:lnTo>
                        <a:pt x="31" y="148"/>
                      </a:lnTo>
                      <a:lnTo>
                        <a:pt x="27" y="140"/>
                      </a:lnTo>
                      <a:lnTo>
                        <a:pt x="20" y="132"/>
                      </a:lnTo>
                      <a:lnTo>
                        <a:pt x="16" y="124"/>
                      </a:lnTo>
                      <a:lnTo>
                        <a:pt x="16" y="120"/>
                      </a:lnTo>
                      <a:lnTo>
                        <a:pt x="12" y="117"/>
                      </a:lnTo>
                      <a:lnTo>
                        <a:pt x="8" y="113"/>
                      </a:lnTo>
                      <a:lnTo>
                        <a:pt x="4" y="105"/>
                      </a:lnTo>
                      <a:lnTo>
                        <a:pt x="4" y="101"/>
                      </a:lnTo>
                      <a:lnTo>
                        <a:pt x="0" y="9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58502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348440" y="1507320"/>
                  <a:ext cx="865440" cy="392400"/>
                </a:xfrm>
                <a:custGeom>
                  <a:avLst/>
                  <a:gdLst/>
                  <a:ahLst/>
                  <a:rect l="l" t="t" r="r" b="b"/>
                  <a:pathLst>
                    <a:path w="850" h="184">
                      <a:moveTo>
                        <a:pt x="0" y="78"/>
                      </a:moveTo>
                      <a:lnTo>
                        <a:pt x="15" y="78"/>
                      </a:lnTo>
                      <a:lnTo>
                        <a:pt x="27" y="78"/>
                      </a:lnTo>
                      <a:lnTo>
                        <a:pt x="58" y="82"/>
                      </a:lnTo>
                      <a:lnTo>
                        <a:pt x="86" y="82"/>
                      </a:lnTo>
                      <a:lnTo>
                        <a:pt x="113" y="86"/>
                      </a:lnTo>
                      <a:lnTo>
                        <a:pt x="129" y="86"/>
                      </a:lnTo>
                      <a:lnTo>
                        <a:pt x="140" y="86"/>
                      </a:lnTo>
                      <a:lnTo>
                        <a:pt x="156" y="86"/>
                      </a:lnTo>
                      <a:lnTo>
                        <a:pt x="171" y="86"/>
                      </a:lnTo>
                      <a:lnTo>
                        <a:pt x="199" y="86"/>
                      </a:lnTo>
                      <a:lnTo>
                        <a:pt x="214" y="86"/>
                      </a:lnTo>
                      <a:lnTo>
                        <a:pt x="230" y="86"/>
                      </a:lnTo>
                      <a:lnTo>
                        <a:pt x="273" y="86"/>
                      </a:lnTo>
                      <a:lnTo>
                        <a:pt x="316" y="86"/>
                      </a:lnTo>
                      <a:lnTo>
                        <a:pt x="359" y="82"/>
                      </a:lnTo>
                      <a:lnTo>
                        <a:pt x="402" y="82"/>
                      </a:lnTo>
                      <a:lnTo>
                        <a:pt x="445" y="78"/>
                      </a:lnTo>
                      <a:lnTo>
                        <a:pt x="484" y="75"/>
                      </a:lnTo>
                      <a:lnTo>
                        <a:pt x="523" y="71"/>
                      </a:lnTo>
                      <a:lnTo>
                        <a:pt x="565" y="63"/>
                      </a:lnTo>
                      <a:lnTo>
                        <a:pt x="605" y="59"/>
                      </a:lnTo>
                      <a:lnTo>
                        <a:pt x="644" y="51"/>
                      </a:lnTo>
                      <a:lnTo>
                        <a:pt x="679" y="43"/>
                      </a:lnTo>
                      <a:lnTo>
                        <a:pt x="714" y="36"/>
                      </a:lnTo>
                      <a:lnTo>
                        <a:pt x="749" y="28"/>
                      </a:lnTo>
                      <a:lnTo>
                        <a:pt x="784" y="20"/>
                      </a:lnTo>
                      <a:lnTo>
                        <a:pt x="819" y="8"/>
                      </a:lnTo>
                      <a:lnTo>
                        <a:pt x="850" y="0"/>
                      </a:lnTo>
                      <a:lnTo>
                        <a:pt x="850" y="98"/>
                      </a:lnTo>
                      <a:lnTo>
                        <a:pt x="835" y="102"/>
                      </a:lnTo>
                      <a:lnTo>
                        <a:pt x="819" y="106"/>
                      </a:lnTo>
                      <a:lnTo>
                        <a:pt x="803" y="114"/>
                      </a:lnTo>
                      <a:lnTo>
                        <a:pt x="784" y="117"/>
                      </a:lnTo>
                      <a:lnTo>
                        <a:pt x="768" y="121"/>
                      </a:lnTo>
                      <a:lnTo>
                        <a:pt x="753" y="125"/>
                      </a:lnTo>
                      <a:lnTo>
                        <a:pt x="733" y="129"/>
                      </a:lnTo>
                      <a:lnTo>
                        <a:pt x="714" y="133"/>
                      </a:lnTo>
                      <a:lnTo>
                        <a:pt x="698" y="137"/>
                      </a:lnTo>
                      <a:lnTo>
                        <a:pt x="679" y="141"/>
                      </a:lnTo>
                      <a:lnTo>
                        <a:pt x="659" y="145"/>
                      </a:lnTo>
                      <a:lnTo>
                        <a:pt x="644" y="149"/>
                      </a:lnTo>
                      <a:lnTo>
                        <a:pt x="624" y="153"/>
                      </a:lnTo>
                      <a:lnTo>
                        <a:pt x="605" y="156"/>
                      </a:lnTo>
                      <a:lnTo>
                        <a:pt x="585" y="156"/>
                      </a:lnTo>
                      <a:lnTo>
                        <a:pt x="565" y="160"/>
                      </a:lnTo>
                      <a:lnTo>
                        <a:pt x="554" y="164"/>
                      </a:lnTo>
                      <a:lnTo>
                        <a:pt x="546" y="164"/>
                      </a:lnTo>
                      <a:lnTo>
                        <a:pt x="526" y="168"/>
                      </a:lnTo>
                      <a:lnTo>
                        <a:pt x="503" y="168"/>
                      </a:lnTo>
                      <a:lnTo>
                        <a:pt x="484" y="172"/>
                      </a:lnTo>
                      <a:lnTo>
                        <a:pt x="464" y="172"/>
                      </a:lnTo>
                      <a:lnTo>
                        <a:pt x="452" y="172"/>
                      </a:lnTo>
                      <a:lnTo>
                        <a:pt x="445" y="176"/>
                      </a:lnTo>
                      <a:lnTo>
                        <a:pt x="421" y="176"/>
                      </a:lnTo>
                      <a:lnTo>
                        <a:pt x="402" y="176"/>
                      </a:lnTo>
                      <a:lnTo>
                        <a:pt x="390" y="180"/>
                      </a:lnTo>
                      <a:lnTo>
                        <a:pt x="378" y="180"/>
                      </a:lnTo>
                      <a:lnTo>
                        <a:pt x="359" y="180"/>
                      </a:lnTo>
                      <a:lnTo>
                        <a:pt x="335" y="180"/>
                      </a:lnTo>
                      <a:lnTo>
                        <a:pt x="316" y="184"/>
                      </a:lnTo>
                      <a:lnTo>
                        <a:pt x="292" y="184"/>
                      </a:lnTo>
                      <a:lnTo>
                        <a:pt x="273" y="184"/>
                      </a:lnTo>
                      <a:lnTo>
                        <a:pt x="250" y="184"/>
                      </a:lnTo>
                      <a:lnTo>
                        <a:pt x="230" y="184"/>
                      </a:lnTo>
                      <a:lnTo>
                        <a:pt x="199" y="184"/>
                      </a:lnTo>
                      <a:lnTo>
                        <a:pt x="171" y="184"/>
                      </a:lnTo>
                      <a:lnTo>
                        <a:pt x="140" y="184"/>
                      </a:lnTo>
                      <a:lnTo>
                        <a:pt x="113" y="180"/>
                      </a:lnTo>
                      <a:lnTo>
                        <a:pt x="86" y="180"/>
                      </a:lnTo>
                      <a:lnTo>
                        <a:pt x="58" y="180"/>
                      </a:lnTo>
                      <a:lnTo>
                        <a:pt x="27" y="176"/>
                      </a:lnTo>
                      <a:lnTo>
                        <a:pt x="0" y="172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3438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348440" y="28440"/>
                  <a:ext cx="1247400" cy="831240"/>
                </a:xfrm>
                <a:custGeom>
                  <a:avLst/>
                  <a:gdLst/>
                  <a:ahLst/>
                  <a:rect l="l" t="t" r="r" b="b"/>
                  <a:pathLst>
                    <a:path w="1225" h="390">
                      <a:moveTo>
                        <a:pt x="1225" y="390"/>
                      </a:moveTo>
                      <a:lnTo>
                        <a:pt x="1225" y="378"/>
                      </a:lnTo>
                      <a:lnTo>
                        <a:pt x="1221" y="371"/>
                      </a:lnTo>
                      <a:lnTo>
                        <a:pt x="1221" y="359"/>
                      </a:lnTo>
                      <a:lnTo>
                        <a:pt x="1217" y="351"/>
                      </a:lnTo>
                      <a:lnTo>
                        <a:pt x="1217" y="339"/>
                      </a:lnTo>
                      <a:lnTo>
                        <a:pt x="1213" y="332"/>
                      </a:lnTo>
                      <a:lnTo>
                        <a:pt x="1209" y="320"/>
                      </a:lnTo>
                      <a:lnTo>
                        <a:pt x="1205" y="312"/>
                      </a:lnTo>
                      <a:lnTo>
                        <a:pt x="1197" y="300"/>
                      </a:lnTo>
                      <a:lnTo>
                        <a:pt x="1194" y="293"/>
                      </a:lnTo>
                      <a:lnTo>
                        <a:pt x="1186" y="281"/>
                      </a:lnTo>
                      <a:lnTo>
                        <a:pt x="1178" y="273"/>
                      </a:lnTo>
                      <a:lnTo>
                        <a:pt x="1170" y="265"/>
                      </a:lnTo>
                      <a:lnTo>
                        <a:pt x="1162" y="254"/>
                      </a:lnTo>
                      <a:lnTo>
                        <a:pt x="1155" y="246"/>
                      </a:lnTo>
                      <a:lnTo>
                        <a:pt x="1147" y="238"/>
                      </a:lnTo>
                      <a:lnTo>
                        <a:pt x="1139" y="234"/>
                      </a:lnTo>
                      <a:lnTo>
                        <a:pt x="1135" y="230"/>
                      </a:lnTo>
                      <a:lnTo>
                        <a:pt x="1127" y="218"/>
                      </a:lnTo>
                      <a:lnTo>
                        <a:pt x="1116" y="211"/>
                      </a:lnTo>
                      <a:lnTo>
                        <a:pt x="1108" y="207"/>
                      </a:lnTo>
                      <a:lnTo>
                        <a:pt x="1104" y="203"/>
                      </a:lnTo>
                      <a:lnTo>
                        <a:pt x="1092" y="195"/>
                      </a:lnTo>
                      <a:lnTo>
                        <a:pt x="1084" y="191"/>
                      </a:lnTo>
                      <a:lnTo>
                        <a:pt x="1080" y="187"/>
                      </a:lnTo>
                      <a:lnTo>
                        <a:pt x="1065" y="179"/>
                      </a:lnTo>
                      <a:lnTo>
                        <a:pt x="1053" y="172"/>
                      </a:lnTo>
                      <a:lnTo>
                        <a:pt x="1045" y="168"/>
                      </a:lnTo>
                      <a:lnTo>
                        <a:pt x="1041" y="164"/>
                      </a:lnTo>
                      <a:lnTo>
                        <a:pt x="1026" y="156"/>
                      </a:lnTo>
                      <a:lnTo>
                        <a:pt x="1010" y="148"/>
                      </a:lnTo>
                      <a:lnTo>
                        <a:pt x="995" y="140"/>
                      </a:lnTo>
                      <a:lnTo>
                        <a:pt x="979" y="133"/>
                      </a:lnTo>
                      <a:lnTo>
                        <a:pt x="963" y="129"/>
                      </a:lnTo>
                      <a:lnTo>
                        <a:pt x="948" y="121"/>
                      </a:lnTo>
                      <a:lnTo>
                        <a:pt x="932" y="113"/>
                      </a:lnTo>
                      <a:lnTo>
                        <a:pt x="913" y="109"/>
                      </a:lnTo>
                      <a:lnTo>
                        <a:pt x="897" y="101"/>
                      </a:lnTo>
                      <a:lnTo>
                        <a:pt x="881" y="94"/>
                      </a:lnTo>
                      <a:lnTo>
                        <a:pt x="862" y="90"/>
                      </a:lnTo>
                      <a:lnTo>
                        <a:pt x="842" y="82"/>
                      </a:lnTo>
                      <a:lnTo>
                        <a:pt x="823" y="78"/>
                      </a:lnTo>
                      <a:lnTo>
                        <a:pt x="803" y="70"/>
                      </a:lnTo>
                      <a:lnTo>
                        <a:pt x="784" y="66"/>
                      </a:lnTo>
                      <a:lnTo>
                        <a:pt x="764" y="62"/>
                      </a:lnTo>
                      <a:lnTo>
                        <a:pt x="745" y="55"/>
                      </a:lnTo>
                      <a:lnTo>
                        <a:pt x="725" y="51"/>
                      </a:lnTo>
                      <a:lnTo>
                        <a:pt x="714" y="47"/>
                      </a:lnTo>
                      <a:lnTo>
                        <a:pt x="702" y="47"/>
                      </a:lnTo>
                      <a:lnTo>
                        <a:pt x="683" y="43"/>
                      </a:lnTo>
                      <a:lnTo>
                        <a:pt x="659" y="39"/>
                      </a:lnTo>
                      <a:lnTo>
                        <a:pt x="640" y="35"/>
                      </a:lnTo>
                      <a:lnTo>
                        <a:pt x="616" y="31"/>
                      </a:lnTo>
                      <a:lnTo>
                        <a:pt x="593" y="27"/>
                      </a:lnTo>
                      <a:lnTo>
                        <a:pt x="569" y="23"/>
                      </a:lnTo>
                      <a:lnTo>
                        <a:pt x="546" y="20"/>
                      </a:lnTo>
                      <a:lnTo>
                        <a:pt x="523" y="20"/>
                      </a:lnTo>
                      <a:lnTo>
                        <a:pt x="499" y="16"/>
                      </a:lnTo>
                      <a:lnTo>
                        <a:pt x="487" y="12"/>
                      </a:lnTo>
                      <a:lnTo>
                        <a:pt x="476" y="12"/>
                      </a:lnTo>
                      <a:lnTo>
                        <a:pt x="452" y="12"/>
                      </a:lnTo>
                      <a:lnTo>
                        <a:pt x="429" y="8"/>
                      </a:lnTo>
                      <a:lnTo>
                        <a:pt x="406" y="8"/>
                      </a:lnTo>
                      <a:lnTo>
                        <a:pt x="378" y="4"/>
                      </a:lnTo>
                      <a:lnTo>
                        <a:pt x="367" y="4"/>
                      </a:lnTo>
                      <a:lnTo>
                        <a:pt x="355" y="4"/>
                      </a:lnTo>
                      <a:lnTo>
                        <a:pt x="343" y="4"/>
                      </a:lnTo>
                      <a:lnTo>
                        <a:pt x="331" y="4"/>
                      </a:lnTo>
                      <a:lnTo>
                        <a:pt x="304" y="0"/>
                      </a:lnTo>
                      <a:lnTo>
                        <a:pt x="292" y="0"/>
                      </a:lnTo>
                      <a:lnTo>
                        <a:pt x="277" y="0"/>
                      </a:lnTo>
                      <a:lnTo>
                        <a:pt x="265" y="0"/>
                      </a:lnTo>
                      <a:lnTo>
                        <a:pt x="253" y="0"/>
                      </a:lnTo>
                      <a:lnTo>
                        <a:pt x="226" y="0"/>
                      </a:lnTo>
                      <a:lnTo>
                        <a:pt x="199" y="0"/>
                      </a:lnTo>
                      <a:lnTo>
                        <a:pt x="168" y="0"/>
                      </a:lnTo>
                      <a:lnTo>
                        <a:pt x="140" y="4"/>
                      </a:lnTo>
                      <a:lnTo>
                        <a:pt x="109" y="4"/>
                      </a:lnTo>
                      <a:lnTo>
                        <a:pt x="82" y="4"/>
                      </a:lnTo>
                      <a:lnTo>
                        <a:pt x="54" y="8"/>
                      </a:lnTo>
                      <a:lnTo>
                        <a:pt x="27" y="8"/>
                      </a:lnTo>
                      <a:lnTo>
                        <a:pt x="0" y="12"/>
                      </a:lnTo>
                      <a:lnTo>
                        <a:pt x="230" y="390"/>
                      </a:lnTo>
                      <a:lnTo>
                        <a:pt x="1225" y="39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3565440" y="54000"/>
                  <a:ext cx="1017360" cy="939600"/>
                </a:xfrm>
                <a:custGeom>
                  <a:avLst/>
                  <a:gdLst/>
                  <a:ahLst/>
                  <a:rect l="l" t="t" r="r" b="b"/>
                  <a:pathLst>
                    <a:path w="999" h="441">
                      <a:moveTo>
                        <a:pt x="769" y="0"/>
                      </a:moveTo>
                      <a:lnTo>
                        <a:pt x="726" y="4"/>
                      </a:lnTo>
                      <a:lnTo>
                        <a:pt x="687" y="8"/>
                      </a:lnTo>
                      <a:lnTo>
                        <a:pt x="648" y="15"/>
                      </a:lnTo>
                      <a:lnTo>
                        <a:pt x="609" y="19"/>
                      </a:lnTo>
                      <a:lnTo>
                        <a:pt x="570" y="27"/>
                      </a:lnTo>
                      <a:lnTo>
                        <a:pt x="550" y="31"/>
                      </a:lnTo>
                      <a:lnTo>
                        <a:pt x="535" y="35"/>
                      </a:lnTo>
                      <a:lnTo>
                        <a:pt x="500" y="43"/>
                      </a:lnTo>
                      <a:lnTo>
                        <a:pt x="461" y="50"/>
                      </a:lnTo>
                      <a:lnTo>
                        <a:pt x="445" y="54"/>
                      </a:lnTo>
                      <a:lnTo>
                        <a:pt x="429" y="58"/>
                      </a:lnTo>
                      <a:lnTo>
                        <a:pt x="410" y="62"/>
                      </a:lnTo>
                      <a:lnTo>
                        <a:pt x="394" y="70"/>
                      </a:lnTo>
                      <a:lnTo>
                        <a:pt x="379" y="74"/>
                      </a:lnTo>
                      <a:lnTo>
                        <a:pt x="363" y="78"/>
                      </a:lnTo>
                      <a:lnTo>
                        <a:pt x="332" y="89"/>
                      </a:lnTo>
                      <a:lnTo>
                        <a:pt x="301" y="101"/>
                      </a:lnTo>
                      <a:lnTo>
                        <a:pt x="289" y="105"/>
                      </a:lnTo>
                      <a:lnTo>
                        <a:pt x="273" y="113"/>
                      </a:lnTo>
                      <a:lnTo>
                        <a:pt x="262" y="117"/>
                      </a:lnTo>
                      <a:lnTo>
                        <a:pt x="246" y="125"/>
                      </a:lnTo>
                      <a:lnTo>
                        <a:pt x="219" y="136"/>
                      </a:lnTo>
                      <a:lnTo>
                        <a:pt x="195" y="148"/>
                      </a:lnTo>
                      <a:lnTo>
                        <a:pt x="184" y="156"/>
                      </a:lnTo>
                      <a:lnTo>
                        <a:pt x="172" y="160"/>
                      </a:lnTo>
                      <a:lnTo>
                        <a:pt x="160" y="167"/>
                      </a:lnTo>
                      <a:lnTo>
                        <a:pt x="149" y="175"/>
                      </a:lnTo>
                      <a:lnTo>
                        <a:pt x="137" y="183"/>
                      </a:lnTo>
                      <a:lnTo>
                        <a:pt x="129" y="191"/>
                      </a:lnTo>
                      <a:lnTo>
                        <a:pt x="117" y="195"/>
                      </a:lnTo>
                      <a:lnTo>
                        <a:pt x="110" y="203"/>
                      </a:lnTo>
                      <a:lnTo>
                        <a:pt x="98" y="210"/>
                      </a:lnTo>
                      <a:lnTo>
                        <a:pt x="90" y="218"/>
                      </a:lnTo>
                      <a:lnTo>
                        <a:pt x="82" y="226"/>
                      </a:lnTo>
                      <a:lnTo>
                        <a:pt x="74" y="234"/>
                      </a:lnTo>
                      <a:lnTo>
                        <a:pt x="67" y="242"/>
                      </a:lnTo>
                      <a:lnTo>
                        <a:pt x="59" y="249"/>
                      </a:lnTo>
                      <a:lnTo>
                        <a:pt x="51" y="257"/>
                      </a:lnTo>
                      <a:lnTo>
                        <a:pt x="47" y="265"/>
                      </a:lnTo>
                      <a:lnTo>
                        <a:pt x="39" y="273"/>
                      </a:lnTo>
                      <a:lnTo>
                        <a:pt x="39" y="277"/>
                      </a:lnTo>
                      <a:lnTo>
                        <a:pt x="35" y="281"/>
                      </a:lnTo>
                      <a:lnTo>
                        <a:pt x="28" y="288"/>
                      </a:lnTo>
                      <a:lnTo>
                        <a:pt x="24" y="296"/>
                      </a:lnTo>
                      <a:lnTo>
                        <a:pt x="24" y="300"/>
                      </a:lnTo>
                      <a:lnTo>
                        <a:pt x="20" y="304"/>
                      </a:lnTo>
                      <a:lnTo>
                        <a:pt x="20" y="308"/>
                      </a:lnTo>
                      <a:lnTo>
                        <a:pt x="16" y="308"/>
                      </a:lnTo>
                      <a:lnTo>
                        <a:pt x="16" y="312"/>
                      </a:lnTo>
                      <a:lnTo>
                        <a:pt x="16" y="316"/>
                      </a:lnTo>
                      <a:lnTo>
                        <a:pt x="12" y="320"/>
                      </a:lnTo>
                      <a:lnTo>
                        <a:pt x="8" y="327"/>
                      </a:lnTo>
                      <a:lnTo>
                        <a:pt x="8" y="335"/>
                      </a:lnTo>
                      <a:lnTo>
                        <a:pt x="4" y="343"/>
                      </a:lnTo>
                      <a:lnTo>
                        <a:pt x="4" y="347"/>
                      </a:lnTo>
                      <a:lnTo>
                        <a:pt x="4" y="351"/>
                      </a:lnTo>
                      <a:lnTo>
                        <a:pt x="4" y="355"/>
                      </a:lnTo>
                      <a:lnTo>
                        <a:pt x="4" y="359"/>
                      </a:lnTo>
                      <a:lnTo>
                        <a:pt x="4" y="363"/>
                      </a:lnTo>
                      <a:lnTo>
                        <a:pt x="0" y="366"/>
                      </a:lnTo>
                      <a:lnTo>
                        <a:pt x="0" y="370"/>
                      </a:lnTo>
                      <a:lnTo>
                        <a:pt x="0" y="374"/>
                      </a:lnTo>
                      <a:lnTo>
                        <a:pt x="0" y="378"/>
                      </a:lnTo>
                      <a:lnTo>
                        <a:pt x="0" y="386"/>
                      </a:lnTo>
                      <a:lnTo>
                        <a:pt x="0" y="394"/>
                      </a:lnTo>
                      <a:lnTo>
                        <a:pt x="4" y="402"/>
                      </a:lnTo>
                      <a:lnTo>
                        <a:pt x="4" y="409"/>
                      </a:lnTo>
                      <a:lnTo>
                        <a:pt x="4" y="417"/>
                      </a:lnTo>
                      <a:lnTo>
                        <a:pt x="8" y="425"/>
                      </a:lnTo>
                      <a:lnTo>
                        <a:pt x="12" y="433"/>
                      </a:lnTo>
                      <a:lnTo>
                        <a:pt x="12" y="441"/>
                      </a:lnTo>
                      <a:lnTo>
                        <a:pt x="999" y="378"/>
                      </a:lnTo>
                      <a:lnTo>
                        <a:pt x="769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577320" y="859680"/>
                  <a:ext cx="1005120" cy="813600"/>
                </a:xfrm>
                <a:custGeom>
                  <a:avLst/>
                  <a:gdLst/>
                  <a:ahLst/>
                  <a:rect l="l" t="t" r="r" b="b"/>
                  <a:pathLst>
                    <a:path w="987" h="382">
                      <a:moveTo>
                        <a:pt x="0" y="63"/>
                      </a:moveTo>
                      <a:lnTo>
                        <a:pt x="4" y="70"/>
                      </a:lnTo>
                      <a:lnTo>
                        <a:pt x="8" y="78"/>
                      </a:lnTo>
                      <a:lnTo>
                        <a:pt x="12" y="82"/>
                      </a:lnTo>
                      <a:lnTo>
                        <a:pt x="16" y="90"/>
                      </a:lnTo>
                      <a:lnTo>
                        <a:pt x="20" y="98"/>
                      </a:lnTo>
                      <a:lnTo>
                        <a:pt x="27" y="105"/>
                      </a:lnTo>
                      <a:lnTo>
                        <a:pt x="31" y="113"/>
                      </a:lnTo>
                      <a:lnTo>
                        <a:pt x="35" y="121"/>
                      </a:lnTo>
                      <a:lnTo>
                        <a:pt x="43" y="125"/>
                      </a:lnTo>
                      <a:lnTo>
                        <a:pt x="47" y="133"/>
                      </a:lnTo>
                      <a:lnTo>
                        <a:pt x="55" y="141"/>
                      </a:lnTo>
                      <a:lnTo>
                        <a:pt x="62" y="148"/>
                      </a:lnTo>
                      <a:lnTo>
                        <a:pt x="66" y="152"/>
                      </a:lnTo>
                      <a:lnTo>
                        <a:pt x="74" y="160"/>
                      </a:lnTo>
                      <a:lnTo>
                        <a:pt x="82" y="168"/>
                      </a:lnTo>
                      <a:lnTo>
                        <a:pt x="90" y="172"/>
                      </a:lnTo>
                      <a:lnTo>
                        <a:pt x="101" y="180"/>
                      </a:lnTo>
                      <a:lnTo>
                        <a:pt x="109" y="187"/>
                      </a:lnTo>
                      <a:lnTo>
                        <a:pt x="117" y="191"/>
                      </a:lnTo>
                      <a:lnTo>
                        <a:pt x="125" y="199"/>
                      </a:lnTo>
                      <a:lnTo>
                        <a:pt x="137" y="203"/>
                      </a:lnTo>
                      <a:lnTo>
                        <a:pt x="144" y="211"/>
                      </a:lnTo>
                      <a:lnTo>
                        <a:pt x="156" y="219"/>
                      </a:lnTo>
                      <a:lnTo>
                        <a:pt x="164" y="223"/>
                      </a:lnTo>
                      <a:lnTo>
                        <a:pt x="176" y="230"/>
                      </a:lnTo>
                      <a:lnTo>
                        <a:pt x="179" y="230"/>
                      </a:lnTo>
                      <a:lnTo>
                        <a:pt x="187" y="234"/>
                      </a:lnTo>
                      <a:lnTo>
                        <a:pt x="199" y="238"/>
                      </a:lnTo>
                      <a:lnTo>
                        <a:pt x="203" y="242"/>
                      </a:lnTo>
                      <a:lnTo>
                        <a:pt x="207" y="246"/>
                      </a:lnTo>
                      <a:lnTo>
                        <a:pt x="218" y="250"/>
                      </a:lnTo>
                      <a:lnTo>
                        <a:pt x="234" y="258"/>
                      </a:lnTo>
                      <a:lnTo>
                        <a:pt x="246" y="262"/>
                      </a:lnTo>
                      <a:lnTo>
                        <a:pt x="257" y="265"/>
                      </a:lnTo>
                      <a:lnTo>
                        <a:pt x="269" y="273"/>
                      </a:lnTo>
                      <a:lnTo>
                        <a:pt x="281" y="277"/>
                      </a:lnTo>
                      <a:lnTo>
                        <a:pt x="297" y="281"/>
                      </a:lnTo>
                      <a:lnTo>
                        <a:pt x="308" y="289"/>
                      </a:lnTo>
                      <a:lnTo>
                        <a:pt x="320" y="293"/>
                      </a:lnTo>
                      <a:lnTo>
                        <a:pt x="336" y="297"/>
                      </a:lnTo>
                      <a:lnTo>
                        <a:pt x="351" y="301"/>
                      </a:lnTo>
                      <a:lnTo>
                        <a:pt x="363" y="304"/>
                      </a:lnTo>
                      <a:lnTo>
                        <a:pt x="378" y="312"/>
                      </a:lnTo>
                      <a:lnTo>
                        <a:pt x="394" y="312"/>
                      </a:lnTo>
                      <a:lnTo>
                        <a:pt x="406" y="320"/>
                      </a:lnTo>
                      <a:lnTo>
                        <a:pt x="421" y="324"/>
                      </a:lnTo>
                      <a:lnTo>
                        <a:pt x="453" y="332"/>
                      </a:lnTo>
                      <a:lnTo>
                        <a:pt x="484" y="340"/>
                      </a:lnTo>
                      <a:lnTo>
                        <a:pt x="515" y="343"/>
                      </a:lnTo>
                      <a:lnTo>
                        <a:pt x="550" y="351"/>
                      </a:lnTo>
                      <a:lnTo>
                        <a:pt x="566" y="355"/>
                      </a:lnTo>
                      <a:lnTo>
                        <a:pt x="573" y="355"/>
                      </a:lnTo>
                      <a:lnTo>
                        <a:pt x="581" y="359"/>
                      </a:lnTo>
                      <a:lnTo>
                        <a:pt x="601" y="359"/>
                      </a:lnTo>
                      <a:lnTo>
                        <a:pt x="616" y="363"/>
                      </a:lnTo>
                      <a:lnTo>
                        <a:pt x="632" y="367"/>
                      </a:lnTo>
                      <a:lnTo>
                        <a:pt x="652" y="367"/>
                      </a:lnTo>
                      <a:lnTo>
                        <a:pt x="687" y="375"/>
                      </a:lnTo>
                      <a:lnTo>
                        <a:pt x="702" y="375"/>
                      </a:lnTo>
                      <a:lnTo>
                        <a:pt x="722" y="379"/>
                      </a:lnTo>
                      <a:lnTo>
                        <a:pt x="730" y="379"/>
                      </a:lnTo>
                      <a:lnTo>
                        <a:pt x="741" y="379"/>
                      </a:lnTo>
                      <a:lnTo>
                        <a:pt x="757" y="382"/>
                      </a:lnTo>
                      <a:lnTo>
                        <a:pt x="987" y="0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348440" y="859680"/>
                  <a:ext cx="865440" cy="830520"/>
                </a:xfrm>
                <a:custGeom>
                  <a:avLst/>
                  <a:gdLst/>
                  <a:ahLst/>
                  <a:rect l="l" t="t" r="r" b="b"/>
                  <a:pathLst>
                    <a:path w="850" h="390">
                      <a:moveTo>
                        <a:pt x="0" y="382"/>
                      </a:moveTo>
                      <a:lnTo>
                        <a:pt x="15" y="382"/>
                      </a:lnTo>
                      <a:lnTo>
                        <a:pt x="27" y="382"/>
                      </a:lnTo>
                      <a:lnTo>
                        <a:pt x="58" y="386"/>
                      </a:lnTo>
                      <a:lnTo>
                        <a:pt x="86" y="386"/>
                      </a:lnTo>
                      <a:lnTo>
                        <a:pt x="113" y="390"/>
                      </a:lnTo>
                      <a:lnTo>
                        <a:pt x="129" y="390"/>
                      </a:lnTo>
                      <a:lnTo>
                        <a:pt x="140" y="390"/>
                      </a:lnTo>
                      <a:lnTo>
                        <a:pt x="156" y="390"/>
                      </a:lnTo>
                      <a:lnTo>
                        <a:pt x="171" y="390"/>
                      </a:lnTo>
                      <a:lnTo>
                        <a:pt x="199" y="390"/>
                      </a:lnTo>
                      <a:lnTo>
                        <a:pt x="214" y="390"/>
                      </a:lnTo>
                      <a:lnTo>
                        <a:pt x="230" y="390"/>
                      </a:lnTo>
                      <a:lnTo>
                        <a:pt x="273" y="390"/>
                      </a:lnTo>
                      <a:lnTo>
                        <a:pt x="316" y="390"/>
                      </a:lnTo>
                      <a:lnTo>
                        <a:pt x="359" y="386"/>
                      </a:lnTo>
                      <a:lnTo>
                        <a:pt x="402" y="386"/>
                      </a:lnTo>
                      <a:lnTo>
                        <a:pt x="445" y="382"/>
                      </a:lnTo>
                      <a:lnTo>
                        <a:pt x="484" y="379"/>
                      </a:lnTo>
                      <a:lnTo>
                        <a:pt x="523" y="375"/>
                      </a:lnTo>
                      <a:lnTo>
                        <a:pt x="565" y="367"/>
                      </a:lnTo>
                      <a:lnTo>
                        <a:pt x="605" y="363"/>
                      </a:lnTo>
                      <a:lnTo>
                        <a:pt x="644" y="355"/>
                      </a:lnTo>
                      <a:lnTo>
                        <a:pt x="679" y="347"/>
                      </a:lnTo>
                      <a:lnTo>
                        <a:pt x="714" y="340"/>
                      </a:lnTo>
                      <a:lnTo>
                        <a:pt x="749" y="332"/>
                      </a:lnTo>
                      <a:lnTo>
                        <a:pt x="784" y="324"/>
                      </a:lnTo>
                      <a:lnTo>
                        <a:pt x="819" y="312"/>
                      </a:lnTo>
                      <a:lnTo>
                        <a:pt x="850" y="304"/>
                      </a:lnTo>
                      <a:lnTo>
                        <a:pt x="230" y="0"/>
                      </a:lnTo>
                      <a:lnTo>
                        <a:pt x="0" y="382"/>
                      </a:lnTo>
                      <a:close/>
                    </a:path>
                  </a:pathLst>
                </a:custGeom>
                <a:solidFill>
                  <a:srgbClr val="0085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582800" y="859680"/>
                  <a:ext cx="965160" cy="647640"/>
                </a:xfrm>
                <a:custGeom>
                  <a:avLst/>
                  <a:gdLst/>
                  <a:ahLst/>
                  <a:rect l="l" t="t" r="r" b="b"/>
                  <a:pathLst>
                    <a:path w="948" h="304">
                      <a:moveTo>
                        <a:pt x="620" y="304"/>
                      </a:moveTo>
                      <a:lnTo>
                        <a:pt x="651" y="297"/>
                      </a:lnTo>
                      <a:lnTo>
                        <a:pt x="675" y="285"/>
                      </a:lnTo>
                      <a:lnTo>
                        <a:pt x="702" y="277"/>
                      </a:lnTo>
                      <a:lnTo>
                        <a:pt x="730" y="265"/>
                      </a:lnTo>
                      <a:lnTo>
                        <a:pt x="753" y="254"/>
                      </a:lnTo>
                      <a:lnTo>
                        <a:pt x="776" y="242"/>
                      </a:lnTo>
                      <a:lnTo>
                        <a:pt x="800" y="230"/>
                      </a:lnTo>
                      <a:lnTo>
                        <a:pt x="819" y="223"/>
                      </a:lnTo>
                      <a:lnTo>
                        <a:pt x="827" y="215"/>
                      </a:lnTo>
                      <a:lnTo>
                        <a:pt x="839" y="207"/>
                      </a:lnTo>
                      <a:lnTo>
                        <a:pt x="858" y="195"/>
                      </a:lnTo>
                      <a:lnTo>
                        <a:pt x="866" y="191"/>
                      </a:lnTo>
                      <a:lnTo>
                        <a:pt x="878" y="183"/>
                      </a:lnTo>
                      <a:lnTo>
                        <a:pt x="886" y="176"/>
                      </a:lnTo>
                      <a:lnTo>
                        <a:pt x="893" y="172"/>
                      </a:lnTo>
                      <a:lnTo>
                        <a:pt x="909" y="156"/>
                      </a:lnTo>
                      <a:lnTo>
                        <a:pt x="917" y="152"/>
                      </a:lnTo>
                      <a:lnTo>
                        <a:pt x="925" y="144"/>
                      </a:lnTo>
                      <a:lnTo>
                        <a:pt x="928" y="137"/>
                      </a:lnTo>
                      <a:lnTo>
                        <a:pt x="936" y="133"/>
                      </a:lnTo>
                      <a:lnTo>
                        <a:pt x="944" y="125"/>
                      </a:lnTo>
                      <a:lnTo>
                        <a:pt x="948" y="117"/>
                      </a:lnTo>
                      <a:lnTo>
                        <a:pt x="0" y="0"/>
                      </a:lnTo>
                      <a:lnTo>
                        <a:pt x="620" y="304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582800" y="859680"/>
                  <a:ext cx="1013040" cy="249120"/>
                </a:xfrm>
                <a:custGeom>
                  <a:avLst/>
                  <a:gdLst/>
                  <a:ahLst/>
                  <a:rect l="l" t="t" r="r" b="b"/>
                  <a:pathLst>
                    <a:path w="995" h="117">
                      <a:moveTo>
                        <a:pt x="948" y="117"/>
                      </a:moveTo>
                      <a:lnTo>
                        <a:pt x="952" y="109"/>
                      </a:lnTo>
                      <a:lnTo>
                        <a:pt x="960" y="102"/>
                      </a:lnTo>
                      <a:lnTo>
                        <a:pt x="964" y="98"/>
                      </a:lnTo>
                      <a:lnTo>
                        <a:pt x="967" y="90"/>
                      </a:lnTo>
                      <a:lnTo>
                        <a:pt x="971" y="86"/>
                      </a:lnTo>
                      <a:lnTo>
                        <a:pt x="971" y="82"/>
                      </a:lnTo>
                      <a:lnTo>
                        <a:pt x="975" y="74"/>
                      </a:lnTo>
                      <a:lnTo>
                        <a:pt x="979" y="66"/>
                      </a:lnTo>
                      <a:lnTo>
                        <a:pt x="983" y="59"/>
                      </a:lnTo>
                      <a:lnTo>
                        <a:pt x="987" y="51"/>
                      </a:lnTo>
                      <a:lnTo>
                        <a:pt x="987" y="43"/>
                      </a:lnTo>
                      <a:lnTo>
                        <a:pt x="987" y="43"/>
                      </a:lnTo>
                      <a:lnTo>
                        <a:pt x="991" y="39"/>
                      </a:lnTo>
                      <a:lnTo>
                        <a:pt x="991" y="31"/>
                      </a:lnTo>
                      <a:lnTo>
                        <a:pt x="991" y="24"/>
                      </a:lnTo>
                      <a:lnTo>
                        <a:pt x="991" y="20"/>
                      </a:lnTo>
                      <a:lnTo>
                        <a:pt x="991" y="16"/>
                      </a:lnTo>
                      <a:lnTo>
                        <a:pt x="995" y="8"/>
                      </a:lnTo>
                      <a:lnTo>
                        <a:pt x="995" y="0"/>
                      </a:lnTo>
                      <a:lnTo>
                        <a:pt x="0" y="0"/>
                      </a:lnTo>
                      <a:lnTo>
                        <a:pt x="948" y="11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4" name=""/>
              <p:cNvSpPr/>
              <p:nvPr/>
            </p:nvSpPr>
            <p:spPr>
              <a:xfrm>
                <a:off x="3813840" y="96840"/>
                <a:ext cx="1533960" cy="13129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ffff"/>
                    </a:solidFill>
                    <a:latin typeface="Times New Roman"/>
                  </a:rPr>
                  <a:t>Pie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 txBox="1"/>
            <p:nvPr/>
          </p:nvSpPr>
          <p:spPr>
            <a:xfrm>
              <a:off x="3652920" y="1109520"/>
              <a:ext cx="19717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>
                      <a:alpha val="50000"/>
                    </a:srgbClr>
                  </a:solidFill>
                  <a:latin typeface="Times New Roman"/>
                </a:rPr>
                <a:t>Chart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Times New Roman"/>
                <a:ea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516" dur="indefinite" restart="never" nodeType="tmRoot">
          <p:childTnLst>
            <p:seq>
              <p:cTn id="1517" dur="indefinite" nodeType="mainSeq">
                <p:childTnLst>
                  <p:par>
                    <p:cTn id="1518" fill="hold">
                      <p:stCondLst>
                        <p:cond delay="0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500"/>
                            </p:stCondLst>
                            <p:childTnLst>
                              <p:par>
                                <p:cTn id="15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4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" descr=""/>
          <p:cNvPicPr/>
          <p:nvPr/>
        </p:nvPicPr>
        <p:blipFill>
          <a:blip r:embed="rId1"/>
          <a:srcRect l="0" t="19160" r="0" b="0"/>
          <a:stretch/>
        </p:blipFill>
        <p:spPr>
          <a:xfrm>
            <a:off x="4221000" y="1982880"/>
            <a:ext cx="4162680" cy="3348000"/>
          </a:xfrm>
          <a:prstGeom prst="rect">
            <a:avLst/>
          </a:prstGeom>
          <a:ln w="0">
            <a:noFill/>
          </a:ln>
        </p:spPr>
      </p:pic>
      <p:grpSp>
        <p:nvGrpSpPr>
          <p:cNvPr id="1047" name=""/>
          <p:cNvGrpSpPr/>
          <p:nvPr/>
        </p:nvGrpSpPr>
        <p:grpSpPr>
          <a:xfrm>
            <a:off x="552600" y="2025720"/>
            <a:ext cx="3105000" cy="3060720"/>
            <a:chOff x="552600" y="2025720"/>
            <a:chExt cx="3105000" cy="3060720"/>
          </a:xfrm>
        </p:grpSpPr>
        <p:sp>
          <p:nvSpPr>
            <p:cNvPr id="1048" name=""/>
            <p:cNvSpPr/>
            <p:nvPr/>
          </p:nvSpPr>
          <p:spPr>
            <a:xfrm>
              <a:off x="2857680" y="4514760"/>
              <a:ext cx="799920" cy="571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9" name=""/>
            <p:cNvGrpSpPr/>
            <p:nvPr/>
          </p:nvGrpSpPr>
          <p:grpSpPr>
            <a:xfrm>
              <a:off x="552600" y="2027160"/>
              <a:ext cx="2111400" cy="2987640"/>
              <a:chOff x="552600" y="2027160"/>
              <a:chExt cx="2111400" cy="2987640"/>
            </a:xfrm>
          </p:grpSpPr>
          <p:sp>
            <p:nvSpPr>
              <p:cNvPr id="1050" name=""/>
              <p:cNvSpPr/>
              <p:nvPr/>
            </p:nvSpPr>
            <p:spPr>
              <a:xfrm>
                <a:off x="552600" y="2576520"/>
                <a:ext cx="211140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ike          9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didas      4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ebok     3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sic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ther         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86080" y="2027160"/>
                <a:ext cx="950400" cy="5205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  <a:effectLst>
                <a:outerShdw dist="117181" dir="783836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ff"/>
                    </a:solidFill>
                    <a:latin typeface="Times New Roman"/>
                  </a:rPr>
                  <a:t>Typ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789200" y="2055600"/>
                <a:ext cx="790560" cy="5205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  <a:effectLst>
                <a:outerShdw dist="117181" dir="783836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ff"/>
                    </a:solidFill>
                    <a:latin typeface="Times New Roman"/>
                  </a:rPr>
                  <a:t>#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713240" y="4494240"/>
                <a:ext cx="790560" cy="5205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  <a:effectLst>
                <a:outerShdw dist="117181" dir="7838368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ffff"/>
                    </a:solidFill>
                    <a:latin typeface="Times New Roman"/>
                  </a:rPr>
                  <a:t>2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4" name=""/>
            <p:cNvSpPr/>
            <p:nvPr/>
          </p:nvSpPr>
          <p:spPr>
            <a:xfrm>
              <a:off x="2898720" y="2025720"/>
              <a:ext cx="714240" cy="30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Times New Roman"/>
                </a:rPr>
                <a:t>46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24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18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Times New Roman"/>
                </a:rPr>
                <a:t>6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1166760" y="5457960"/>
            <a:ext cx="6658200" cy="825480"/>
          </a:xfrm>
          <a:prstGeom prst="rect">
            <a:avLst/>
          </a:prstGeom>
          <a:solidFill>
            <a:srgbClr val="feffd1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Excel, follow the steps in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art Wizar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construct a Pie Char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3565440" y="28440"/>
            <a:ext cx="2059200" cy="1871280"/>
            <a:chOff x="3565440" y="28440"/>
            <a:chExt cx="2059200" cy="1871280"/>
          </a:xfrm>
        </p:grpSpPr>
        <p:grpSp>
          <p:nvGrpSpPr>
            <p:cNvPr id="1057" name=""/>
            <p:cNvGrpSpPr/>
            <p:nvPr/>
          </p:nvGrpSpPr>
          <p:grpSpPr>
            <a:xfrm>
              <a:off x="3565440" y="28440"/>
              <a:ext cx="2030400" cy="1871280"/>
              <a:chOff x="3565440" y="28440"/>
              <a:chExt cx="2030400" cy="187128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3565440" y="28440"/>
                <a:ext cx="2030400" cy="1871280"/>
                <a:chOff x="3565440" y="28440"/>
                <a:chExt cx="2030400" cy="187128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4582800" y="859680"/>
                  <a:ext cx="1013040" cy="208800"/>
                </a:xfrm>
                <a:prstGeom prst="rect">
                  <a:avLst/>
                </a:prstGeom>
                <a:solidFill>
                  <a:srgbClr val="e9e9e9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356720" y="54000"/>
                  <a:ext cx="225720" cy="1014480"/>
                </a:xfrm>
                <a:custGeom>
                  <a:avLst/>
                  <a:gdLst/>
                  <a:ahLst/>
                  <a:rect l="l" t="t" r="r" b="b"/>
                  <a:pathLst>
                    <a:path w="222" h="476">
                      <a:moveTo>
                        <a:pt x="222" y="378"/>
                      </a:moveTo>
                      <a:lnTo>
                        <a:pt x="0" y="0"/>
                      </a:lnTo>
                      <a:lnTo>
                        <a:pt x="0" y="97"/>
                      </a:lnTo>
                      <a:lnTo>
                        <a:pt x="222" y="476"/>
                      </a:lnTo>
                      <a:lnTo>
                        <a:pt x="222" y="378"/>
                      </a:lnTo>
                      <a:close/>
                    </a:path>
                  </a:pathLst>
                </a:custGeom>
                <a:solidFill>
                  <a:srgbClr val="26262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582800" y="859680"/>
                  <a:ext cx="969120" cy="449280"/>
                </a:xfrm>
                <a:custGeom>
                  <a:avLst/>
                  <a:gdLst/>
                  <a:ahLst/>
                  <a:rect l="l" t="t" r="r" b="b"/>
                  <a:pathLst>
                    <a:path w="952" h="211">
                      <a:moveTo>
                        <a:pt x="0" y="0"/>
                      </a:moveTo>
                      <a:lnTo>
                        <a:pt x="952" y="113"/>
                      </a:lnTo>
                      <a:lnTo>
                        <a:pt x="952" y="211"/>
                      </a:lnTo>
                      <a:lnTo>
                        <a:pt x="0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270de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5547960" y="859680"/>
                  <a:ext cx="47520" cy="457920"/>
                </a:xfrm>
                <a:custGeom>
                  <a:avLst/>
                  <a:gdLst/>
                  <a:ahLst/>
                  <a:rect l="l" t="t" r="r" b="b"/>
                  <a:pathLst>
                    <a:path w="47" h="215">
                      <a:moveTo>
                        <a:pt x="0" y="117"/>
                      </a:moveTo>
                      <a:lnTo>
                        <a:pt x="4" y="109"/>
                      </a:lnTo>
                      <a:lnTo>
                        <a:pt x="12" y="102"/>
                      </a:lnTo>
                      <a:lnTo>
                        <a:pt x="16" y="94"/>
                      </a:lnTo>
                      <a:lnTo>
                        <a:pt x="19" y="90"/>
                      </a:lnTo>
                      <a:lnTo>
                        <a:pt x="23" y="86"/>
                      </a:lnTo>
                      <a:lnTo>
                        <a:pt x="23" y="82"/>
                      </a:lnTo>
                      <a:lnTo>
                        <a:pt x="27" y="74"/>
                      </a:lnTo>
                      <a:lnTo>
                        <a:pt x="31" y="66"/>
                      </a:lnTo>
                      <a:lnTo>
                        <a:pt x="35" y="59"/>
                      </a:lnTo>
                      <a:lnTo>
                        <a:pt x="39" y="51"/>
                      </a:lnTo>
                      <a:lnTo>
                        <a:pt x="39" y="43"/>
                      </a:lnTo>
                      <a:lnTo>
                        <a:pt x="39" y="43"/>
                      </a:lnTo>
                      <a:lnTo>
                        <a:pt x="43" y="39"/>
                      </a:lnTo>
                      <a:lnTo>
                        <a:pt x="43" y="31"/>
                      </a:lnTo>
                      <a:lnTo>
                        <a:pt x="43" y="24"/>
                      </a:lnTo>
                      <a:lnTo>
                        <a:pt x="43" y="20"/>
                      </a:lnTo>
                      <a:lnTo>
                        <a:pt x="43" y="16"/>
                      </a:lnTo>
                      <a:lnTo>
                        <a:pt x="47" y="8"/>
                      </a:lnTo>
                      <a:lnTo>
                        <a:pt x="47" y="0"/>
                      </a:lnTo>
                      <a:lnTo>
                        <a:pt x="47" y="98"/>
                      </a:lnTo>
                      <a:lnTo>
                        <a:pt x="47" y="105"/>
                      </a:lnTo>
                      <a:lnTo>
                        <a:pt x="47" y="113"/>
                      </a:lnTo>
                      <a:lnTo>
                        <a:pt x="43" y="121"/>
                      </a:lnTo>
                      <a:lnTo>
                        <a:pt x="43" y="129"/>
                      </a:lnTo>
                      <a:lnTo>
                        <a:pt x="43" y="137"/>
                      </a:lnTo>
                      <a:lnTo>
                        <a:pt x="39" y="144"/>
                      </a:lnTo>
                      <a:lnTo>
                        <a:pt x="39" y="148"/>
                      </a:lnTo>
                      <a:lnTo>
                        <a:pt x="35" y="156"/>
                      </a:lnTo>
                      <a:lnTo>
                        <a:pt x="31" y="164"/>
                      </a:lnTo>
                      <a:lnTo>
                        <a:pt x="27" y="172"/>
                      </a:lnTo>
                      <a:lnTo>
                        <a:pt x="23" y="180"/>
                      </a:lnTo>
                      <a:lnTo>
                        <a:pt x="19" y="187"/>
                      </a:lnTo>
                      <a:lnTo>
                        <a:pt x="16" y="191"/>
                      </a:lnTo>
                      <a:lnTo>
                        <a:pt x="12" y="199"/>
                      </a:lnTo>
                      <a:lnTo>
                        <a:pt x="4" y="207"/>
                      </a:lnTo>
                      <a:lnTo>
                        <a:pt x="0" y="215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02858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582800" y="859680"/>
                  <a:ext cx="631080" cy="856440"/>
                </a:xfrm>
                <a:custGeom>
                  <a:avLst/>
                  <a:gdLst/>
                  <a:ahLst/>
                  <a:rect l="l" t="t" r="r" b="b"/>
                  <a:pathLst>
                    <a:path w="620" h="402">
                      <a:moveTo>
                        <a:pt x="0" y="0"/>
                      </a:moveTo>
                      <a:lnTo>
                        <a:pt x="620" y="304"/>
                      </a:lnTo>
                      <a:lnTo>
                        <a:pt x="620" y="402"/>
                      </a:lnTo>
                      <a:lnTo>
                        <a:pt x="0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8f47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5214240" y="1109160"/>
                  <a:ext cx="333720" cy="606960"/>
                </a:xfrm>
                <a:custGeom>
                  <a:avLst/>
                  <a:gdLst/>
                  <a:ahLst/>
                  <a:rect l="l" t="t" r="r" b="b"/>
                  <a:pathLst>
                    <a:path w="328" h="285">
                      <a:moveTo>
                        <a:pt x="0" y="187"/>
                      </a:moveTo>
                      <a:lnTo>
                        <a:pt x="31" y="180"/>
                      </a:lnTo>
                      <a:lnTo>
                        <a:pt x="55" y="168"/>
                      </a:lnTo>
                      <a:lnTo>
                        <a:pt x="82" y="160"/>
                      </a:lnTo>
                      <a:lnTo>
                        <a:pt x="110" y="148"/>
                      </a:lnTo>
                      <a:lnTo>
                        <a:pt x="133" y="137"/>
                      </a:lnTo>
                      <a:lnTo>
                        <a:pt x="156" y="125"/>
                      </a:lnTo>
                      <a:lnTo>
                        <a:pt x="180" y="113"/>
                      </a:lnTo>
                      <a:lnTo>
                        <a:pt x="199" y="106"/>
                      </a:lnTo>
                      <a:lnTo>
                        <a:pt x="207" y="98"/>
                      </a:lnTo>
                      <a:lnTo>
                        <a:pt x="219" y="90"/>
                      </a:lnTo>
                      <a:lnTo>
                        <a:pt x="238" y="78"/>
                      </a:lnTo>
                      <a:lnTo>
                        <a:pt x="246" y="74"/>
                      </a:lnTo>
                      <a:lnTo>
                        <a:pt x="258" y="66"/>
                      </a:lnTo>
                      <a:lnTo>
                        <a:pt x="266" y="59"/>
                      </a:lnTo>
                      <a:lnTo>
                        <a:pt x="273" y="55"/>
                      </a:lnTo>
                      <a:lnTo>
                        <a:pt x="289" y="39"/>
                      </a:lnTo>
                      <a:lnTo>
                        <a:pt x="297" y="35"/>
                      </a:lnTo>
                      <a:lnTo>
                        <a:pt x="305" y="27"/>
                      </a:lnTo>
                      <a:lnTo>
                        <a:pt x="308" y="20"/>
                      </a:lnTo>
                      <a:lnTo>
                        <a:pt x="316" y="16"/>
                      </a:lnTo>
                      <a:lnTo>
                        <a:pt x="324" y="8"/>
                      </a:lnTo>
                      <a:lnTo>
                        <a:pt x="328" y="0"/>
                      </a:lnTo>
                      <a:lnTo>
                        <a:pt x="328" y="98"/>
                      </a:lnTo>
                      <a:lnTo>
                        <a:pt x="324" y="106"/>
                      </a:lnTo>
                      <a:lnTo>
                        <a:pt x="316" y="113"/>
                      </a:lnTo>
                      <a:lnTo>
                        <a:pt x="308" y="117"/>
                      </a:lnTo>
                      <a:lnTo>
                        <a:pt x="305" y="125"/>
                      </a:lnTo>
                      <a:lnTo>
                        <a:pt x="297" y="133"/>
                      </a:lnTo>
                      <a:lnTo>
                        <a:pt x="289" y="137"/>
                      </a:lnTo>
                      <a:lnTo>
                        <a:pt x="281" y="145"/>
                      </a:lnTo>
                      <a:lnTo>
                        <a:pt x="273" y="152"/>
                      </a:lnTo>
                      <a:lnTo>
                        <a:pt x="266" y="156"/>
                      </a:lnTo>
                      <a:lnTo>
                        <a:pt x="258" y="164"/>
                      </a:lnTo>
                      <a:lnTo>
                        <a:pt x="246" y="172"/>
                      </a:lnTo>
                      <a:lnTo>
                        <a:pt x="238" y="176"/>
                      </a:lnTo>
                      <a:lnTo>
                        <a:pt x="230" y="184"/>
                      </a:lnTo>
                      <a:lnTo>
                        <a:pt x="219" y="191"/>
                      </a:lnTo>
                      <a:lnTo>
                        <a:pt x="211" y="195"/>
                      </a:lnTo>
                      <a:lnTo>
                        <a:pt x="199" y="199"/>
                      </a:lnTo>
                      <a:lnTo>
                        <a:pt x="188" y="207"/>
                      </a:lnTo>
                      <a:lnTo>
                        <a:pt x="180" y="211"/>
                      </a:lnTo>
                      <a:lnTo>
                        <a:pt x="168" y="219"/>
                      </a:lnTo>
                      <a:lnTo>
                        <a:pt x="156" y="223"/>
                      </a:lnTo>
                      <a:lnTo>
                        <a:pt x="145" y="230"/>
                      </a:lnTo>
                      <a:lnTo>
                        <a:pt x="133" y="234"/>
                      </a:lnTo>
                      <a:lnTo>
                        <a:pt x="121" y="242"/>
                      </a:lnTo>
                      <a:lnTo>
                        <a:pt x="110" y="246"/>
                      </a:lnTo>
                      <a:lnTo>
                        <a:pt x="94" y="250"/>
                      </a:lnTo>
                      <a:lnTo>
                        <a:pt x="82" y="258"/>
                      </a:lnTo>
                      <a:lnTo>
                        <a:pt x="71" y="262"/>
                      </a:lnTo>
                      <a:lnTo>
                        <a:pt x="55" y="265"/>
                      </a:lnTo>
                      <a:lnTo>
                        <a:pt x="43" y="269"/>
                      </a:lnTo>
                      <a:lnTo>
                        <a:pt x="35" y="273"/>
                      </a:lnTo>
                      <a:lnTo>
                        <a:pt x="31" y="277"/>
                      </a:lnTo>
                      <a:lnTo>
                        <a:pt x="16" y="281"/>
                      </a:lnTo>
                      <a:lnTo>
                        <a:pt x="0" y="285"/>
                      </a:lnTo>
                      <a:lnTo>
                        <a:pt x="0" y="187"/>
                      </a:lnTo>
                      <a:close/>
                    </a:path>
                  </a:pathLst>
                </a:custGeom>
                <a:solidFill>
                  <a:srgbClr val="028502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3577320" y="859680"/>
                  <a:ext cx="1005120" cy="332280"/>
                </a:xfrm>
                <a:custGeom>
                  <a:avLst/>
                  <a:gdLst/>
                  <a:ahLst/>
                  <a:rect l="l" t="t" r="r" b="b"/>
                  <a:pathLst>
                    <a:path w="987" h="156">
                      <a:moveTo>
                        <a:pt x="987" y="0"/>
                      </a:moveTo>
                      <a:lnTo>
                        <a:pt x="0" y="59"/>
                      </a:lnTo>
                      <a:lnTo>
                        <a:pt x="0" y="156"/>
                      </a:lnTo>
                      <a:lnTo>
                        <a:pt x="987" y="98"/>
                      </a:lnTo>
                      <a:lnTo>
                        <a:pt x="987" y="0"/>
                      </a:lnTo>
                      <a:close/>
                    </a:path>
                  </a:pathLst>
                </a:custGeom>
                <a:solidFill>
                  <a:srgbClr val="0202e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565440" y="859680"/>
                  <a:ext cx="11880" cy="340560"/>
                </a:xfrm>
                <a:custGeom>
                  <a:avLst/>
                  <a:gdLst/>
                  <a:ahLst/>
                  <a:rect l="l" t="t" r="r" b="b"/>
                  <a:pathLst>
                    <a:path w="12" h="16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4" y="24"/>
                      </a:lnTo>
                      <a:lnTo>
                        <a:pt x="4" y="31"/>
                      </a:lnTo>
                      <a:lnTo>
                        <a:pt x="4" y="39"/>
                      </a:lnTo>
                      <a:lnTo>
                        <a:pt x="8" y="47"/>
                      </a:lnTo>
                      <a:lnTo>
                        <a:pt x="12" y="55"/>
                      </a:lnTo>
                      <a:lnTo>
                        <a:pt x="12" y="63"/>
                      </a:lnTo>
                      <a:lnTo>
                        <a:pt x="12" y="160"/>
                      </a:lnTo>
                      <a:lnTo>
                        <a:pt x="12" y="152"/>
                      </a:lnTo>
                      <a:lnTo>
                        <a:pt x="8" y="144"/>
                      </a:lnTo>
                      <a:lnTo>
                        <a:pt x="8" y="137"/>
                      </a:lnTo>
                      <a:lnTo>
                        <a:pt x="4" y="129"/>
                      </a:lnTo>
                      <a:lnTo>
                        <a:pt x="4" y="125"/>
                      </a:lnTo>
                      <a:lnTo>
                        <a:pt x="4" y="121"/>
                      </a:lnTo>
                      <a:lnTo>
                        <a:pt x="4" y="117"/>
                      </a:lnTo>
                      <a:lnTo>
                        <a:pt x="4" y="113"/>
                      </a:lnTo>
                      <a:lnTo>
                        <a:pt x="0" y="109"/>
                      </a:lnTo>
                      <a:lnTo>
                        <a:pt x="0" y="105"/>
                      </a:lnTo>
                      <a:lnTo>
                        <a:pt x="0" y="102"/>
                      </a:lnTo>
                      <a:lnTo>
                        <a:pt x="0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356720" y="859680"/>
                  <a:ext cx="225720" cy="1022760"/>
                </a:xfrm>
                <a:custGeom>
                  <a:avLst/>
                  <a:gdLst/>
                  <a:ahLst/>
                  <a:rect l="l" t="t" r="r" b="b"/>
                  <a:pathLst>
                    <a:path w="222" h="480">
                      <a:moveTo>
                        <a:pt x="222" y="0"/>
                      </a:moveTo>
                      <a:lnTo>
                        <a:pt x="0" y="382"/>
                      </a:lnTo>
                      <a:lnTo>
                        <a:pt x="0" y="480"/>
                      </a:lnTo>
                      <a:lnTo>
                        <a:pt x="222" y="98"/>
                      </a:lnTo>
                      <a:lnTo>
                        <a:pt x="222" y="0"/>
                      </a:lnTo>
                      <a:close/>
                    </a:path>
                  </a:pathLst>
                </a:custGeom>
                <a:solidFill>
                  <a:srgbClr val="001a3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3577320" y="993600"/>
                  <a:ext cx="770760" cy="880560"/>
                </a:xfrm>
                <a:custGeom>
                  <a:avLst/>
                  <a:gdLst/>
                  <a:ahLst/>
                  <a:rect l="l" t="t" r="r" b="b"/>
                  <a:pathLst>
                    <a:path w="757" h="413">
                      <a:moveTo>
                        <a:pt x="0" y="0"/>
                      </a:moveTo>
                      <a:lnTo>
                        <a:pt x="4" y="7"/>
                      </a:lnTo>
                      <a:lnTo>
                        <a:pt x="8" y="15"/>
                      </a:lnTo>
                      <a:lnTo>
                        <a:pt x="12" y="19"/>
                      </a:lnTo>
                      <a:lnTo>
                        <a:pt x="16" y="27"/>
                      </a:lnTo>
                      <a:lnTo>
                        <a:pt x="20" y="35"/>
                      </a:lnTo>
                      <a:lnTo>
                        <a:pt x="27" y="42"/>
                      </a:lnTo>
                      <a:lnTo>
                        <a:pt x="31" y="50"/>
                      </a:lnTo>
                      <a:lnTo>
                        <a:pt x="35" y="58"/>
                      </a:lnTo>
                      <a:lnTo>
                        <a:pt x="43" y="62"/>
                      </a:lnTo>
                      <a:lnTo>
                        <a:pt x="47" y="70"/>
                      </a:lnTo>
                      <a:lnTo>
                        <a:pt x="55" y="78"/>
                      </a:lnTo>
                      <a:lnTo>
                        <a:pt x="62" y="85"/>
                      </a:lnTo>
                      <a:lnTo>
                        <a:pt x="66" y="89"/>
                      </a:lnTo>
                      <a:lnTo>
                        <a:pt x="74" y="97"/>
                      </a:lnTo>
                      <a:lnTo>
                        <a:pt x="82" y="105"/>
                      </a:lnTo>
                      <a:lnTo>
                        <a:pt x="90" y="109"/>
                      </a:lnTo>
                      <a:lnTo>
                        <a:pt x="101" y="117"/>
                      </a:lnTo>
                      <a:lnTo>
                        <a:pt x="109" y="124"/>
                      </a:lnTo>
                      <a:lnTo>
                        <a:pt x="117" y="128"/>
                      </a:lnTo>
                      <a:lnTo>
                        <a:pt x="125" y="136"/>
                      </a:lnTo>
                      <a:lnTo>
                        <a:pt x="137" y="140"/>
                      </a:lnTo>
                      <a:lnTo>
                        <a:pt x="144" y="148"/>
                      </a:lnTo>
                      <a:lnTo>
                        <a:pt x="156" y="156"/>
                      </a:lnTo>
                      <a:lnTo>
                        <a:pt x="164" y="160"/>
                      </a:lnTo>
                      <a:lnTo>
                        <a:pt x="176" y="167"/>
                      </a:lnTo>
                      <a:lnTo>
                        <a:pt x="179" y="167"/>
                      </a:lnTo>
                      <a:lnTo>
                        <a:pt x="187" y="171"/>
                      </a:lnTo>
                      <a:lnTo>
                        <a:pt x="199" y="175"/>
                      </a:lnTo>
                      <a:lnTo>
                        <a:pt x="203" y="179"/>
                      </a:lnTo>
                      <a:lnTo>
                        <a:pt x="207" y="183"/>
                      </a:lnTo>
                      <a:lnTo>
                        <a:pt x="218" y="187"/>
                      </a:lnTo>
                      <a:lnTo>
                        <a:pt x="234" y="195"/>
                      </a:lnTo>
                      <a:lnTo>
                        <a:pt x="246" y="199"/>
                      </a:lnTo>
                      <a:lnTo>
                        <a:pt x="257" y="202"/>
                      </a:lnTo>
                      <a:lnTo>
                        <a:pt x="269" y="210"/>
                      </a:lnTo>
                      <a:lnTo>
                        <a:pt x="281" y="214"/>
                      </a:lnTo>
                      <a:lnTo>
                        <a:pt x="297" y="218"/>
                      </a:lnTo>
                      <a:lnTo>
                        <a:pt x="308" y="226"/>
                      </a:lnTo>
                      <a:lnTo>
                        <a:pt x="320" y="230"/>
                      </a:lnTo>
                      <a:lnTo>
                        <a:pt x="336" y="234"/>
                      </a:lnTo>
                      <a:lnTo>
                        <a:pt x="351" y="238"/>
                      </a:lnTo>
                      <a:lnTo>
                        <a:pt x="363" y="241"/>
                      </a:lnTo>
                      <a:lnTo>
                        <a:pt x="378" y="249"/>
                      </a:lnTo>
                      <a:lnTo>
                        <a:pt x="394" y="249"/>
                      </a:lnTo>
                      <a:lnTo>
                        <a:pt x="406" y="257"/>
                      </a:lnTo>
                      <a:lnTo>
                        <a:pt x="421" y="261"/>
                      </a:lnTo>
                      <a:lnTo>
                        <a:pt x="453" y="269"/>
                      </a:lnTo>
                      <a:lnTo>
                        <a:pt x="484" y="277"/>
                      </a:lnTo>
                      <a:lnTo>
                        <a:pt x="515" y="280"/>
                      </a:lnTo>
                      <a:lnTo>
                        <a:pt x="550" y="288"/>
                      </a:lnTo>
                      <a:lnTo>
                        <a:pt x="566" y="292"/>
                      </a:lnTo>
                      <a:lnTo>
                        <a:pt x="573" y="292"/>
                      </a:lnTo>
                      <a:lnTo>
                        <a:pt x="581" y="296"/>
                      </a:lnTo>
                      <a:lnTo>
                        <a:pt x="601" y="296"/>
                      </a:lnTo>
                      <a:lnTo>
                        <a:pt x="616" y="300"/>
                      </a:lnTo>
                      <a:lnTo>
                        <a:pt x="632" y="304"/>
                      </a:lnTo>
                      <a:lnTo>
                        <a:pt x="652" y="304"/>
                      </a:lnTo>
                      <a:lnTo>
                        <a:pt x="687" y="312"/>
                      </a:lnTo>
                      <a:lnTo>
                        <a:pt x="702" y="312"/>
                      </a:lnTo>
                      <a:lnTo>
                        <a:pt x="722" y="316"/>
                      </a:lnTo>
                      <a:lnTo>
                        <a:pt x="730" y="316"/>
                      </a:lnTo>
                      <a:lnTo>
                        <a:pt x="741" y="316"/>
                      </a:lnTo>
                      <a:lnTo>
                        <a:pt x="757" y="319"/>
                      </a:lnTo>
                      <a:lnTo>
                        <a:pt x="757" y="413"/>
                      </a:lnTo>
                      <a:lnTo>
                        <a:pt x="722" y="413"/>
                      </a:lnTo>
                      <a:lnTo>
                        <a:pt x="687" y="409"/>
                      </a:lnTo>
                      <a:lnTo>
                        <a:pt x="652" y="401"/>
                      </a:lnTo>
                      <a:lnTo>
                        <a:pt x="616" y="397"/>
                      </a:lnTo>
                      <a:lnTo>
                        <a:pt x="581" y="394"/>
                      </a:lnTo>
                      <a:lnTo>
                        <a:pt x="550" y="386"/>
                      </a:lnTo>
                      <a:lnTo>
                        <a:pt x="515" y="378"/>
                      </a:lnTo>
                      <a:lnTo>
                        <a:pt x="484" y="374"/>
                      </a:lnTo>
                      <a:lnTo>
                        <a:pt x="453" y="366"/>
                      </a:lnTo>
                      <a:lnTo>
                        <a:pt x="421" y="358"/>
                      </a:lnTo>
                      <a:lnTo>
                        <a:pt x="394" y="351"/>
                      </a:lnTo>
                      <a:lnTo>
                        <a:pt x="363" y="339"/>
                      </a:lnTo>
                      <a:lnTo>
                        <a:pt x="336" y="331"/>
                      </a:lnTo>
                      <a:lnTo>
                        <a:pt x="308" y="323"/>
                      </a:lnTo>
                      <a:lnTo>
                        <a:pt x="281" y="312"/>
                      </a:lnTo>
                      <a:lnTo>
                        <a:pt x="269" y="308"/>
                      </a:lnTo>
                      <a:lnTo>
                        <a:pt x="257" y="300"/>
                      </a:lnTo>
                      <a:lnTo>
                        <a:pt x="246" y="296"/>
                      </a:lnTo>
                      <a:lnTo>
                        <a:pt x="234" y="292"/>
                      </a:lnTo>
                      <a:lnTo>
                        <a:pt x="218" y="284"/>
                      </a:lnTo>
                      <a:lnTo>
                        <a:pt x="211" y="280"/>
                      </a:lnTo>
                      <a:lnTo>
                        <a:pt x="187" y="269"/>
                      </a:lnTo>
                      <a:lnTo>
                        <a:pt x="164" y="257"/>
                      </a:lnTo>
                      <a:lnTo>
                        <a:pt x="156" y="249"/>
                      </a:lnTo>
                      <a:lnTo>
                        <a:pt x="144" y="245"/>
                      </a:lnTo>
                      <a:lnTo>
                        <a:pt x="125" y="234"/>
                      </a:lnTo>
                      <a:lnTo>
                        <a:pt x="117" y="226"/>
                      </a:lnTo>
                      <a:lnTo>
                        <a:pt x="109" y="222"/>
                      </a:lnTo>
                      <a:lnTo>
                        <a:pt x="101" y="214"/>
                      </a:lnTo>
                      <a:lnTo>
                        <a:pt x="90" y="206"/>
                      </a:lnTo>
                      <a:lnTo>
                        <a:pt x="82" y="202"/>
                      </a:lnTo>
                      <a:lnTo>
                        <a:pt x="74" y="195"/>
                      </a:lnTo>
                      <a:lnTo>
                        <a:pt x="66" y="187"/>
                      </a:lnTo>
                      <a:lnTo>
                        <a:pt x="62" y="183"/>
                      </a:lnTo>
                      <a:lnTo>
                        <a:pt x="55" y="175"/>
                      </a:lnTo>
                      <a:lnTo>
                        <a:pt x="47" y="167"/>
                      </a:lnTo>
                      <a:lnTo>
                        <a:pt x="43" y="160"/>
                      </a:lnTo>
                      <a:lnTo>
                        <a:pt x="35" y="156"/>
                      </a:lnTo>
                      <a:lnTo>
                        <a:pt x="31" y="148"/>
                      </a:lnTo>
                      <a:lnTo>
                        <a:pt x="27" y="140"/>
                      </a:lnTo>
                      <a:lnTo>
                        <a:pt x="20" y="132"/>
                      </a:lnTo>
                      <a:lnTo>
                        <a:pt x="16" y="124"/>
                      </a:lnTo>
                      <a:lnTo>
                        <a:pt x="16" y="120"/>
                      </a:lnTo>
                      <a:lnTo>
                        <a:pt x="12" y="117"/>
                      </a:lnTo>
                      <a:lnTo>
                        <a:pt x="8" y="113"/>
                      </a:lnTo>
                      <a:lnTo>
                        <a:pt x="4" y="105"/>
                      </a:lnTo>
                      <a:lnTo>
                        <a:pt x="4" y="101"/>
                      </a:lnTo>
                      <a:lnTo>
                        <a:pt x="0" y="9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58502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348440" y="1507320"/>
                  <a:ext cx="865440" cy="392400"/>
                </a:xfrm>
                <a:custGeom>
                  <a:avLst/>
                  <a:gdLst/>
                  <a:ahLst/>
                  <a:rect l="l" t="t" r="r" b="b"/>
                  <a:pathLst>
                    <a:path w="850" h="184">
                      <a:moveTo>
                        <a:pt x="0" y="78"/>
                      </a:moveTo>
                      <a:lnTo>
                        <a:pt x="15" y="78"/>
                      </a:lnTo>
                      <a:lnTo>
                        <a:pt x="27" y="78"/>
                      </a:lnTo>
                      <a:lnTo>
                        <a:pt x="58" y="82"/>
                      </a:lnTo>
                      <a:lnTo>
                        <a:pt x="86" y="82"/>
                      </a:lnTo>
                      <a:lnTo>
                        <a:pt x="113" y="86"/>
                      </a:lnTo>
                      <a:lnTo>
                        <a:pt x="129" y="86"/>
                      </a:lnTo>
                      <a:lnTo>
                        <a:pt x="140" y="86"/>
                      </a:lnTo>
                      <a:lnTo>
                        <a:pt x="156" y="86"/>
                      </a:lnTo>
                      <a:lnTo>
                        <a:pt x="171" y="86"/>
                      </a:lnTo>
                      <a:lnTo>
                        <a:pt x="199" y="86"/>
                      </a:lnTo>
                      <a:lnTo>
                        <a:pt x="214" y="86"/>
                      </a:lnTo>
                      <a:lnTo>
                        <a:pt x="230" y="86"/>
                      </a:lnTo>
                      <a:lnTo>
                        <a:pt x="273" y="86"/>
                      </a:lnTo>
                      <a:lnTo>
                        <a:pt x="316" y="86"/>
                      </a:lnTo>
                      <a:lnTo>
                        <a:pt x="359" y="82"/>
                      </a:lnTo>
                      <a:lnTo>
                        <a:pt x="402" y="82"/>
                      </a:lnTo>
                      <a:lnTo>
                        <a:pt x="445" y="78"/>
                      </a:lnTo>
                      <a:lnTo>
                        <a:pt x="484" y="75"/>
                      </a:lnTo>
                      <a:lnTo>
                        <a:pt x="523" y="71"/>
                      </a:lnTo>
                      <a:lnTo>
                        <a:pt x="565" y="63"/>
                      </a:lnTo>
                      <a:lnTo>
                        <a:pt x="605" y="59"/>
                      </a:lnTo>
                      <a:lnTo>
                        <a:pt x="644" y="51"/>
                      </a:lnTo>
                      <a:lnTo>
                        <a:pt x="679" y="43"/>
                      </a:lnTo>
                      <a:lnTo>
                        <a:pt x="714" y="36"/>
                      </a:lnTo>
                      <a:lnTo>
                        <a:pt x="749" y="28"/>
                      </a:lnTo>
                      <a:lnTo>
                        <a:pt x="784" y="20"/>
                      </a:lnTo>
                      <a:lnTo>
                        <a:pt x="819" y="8"/>
                      </a:lnTo>
                      <a:lnTo>
                        <a:pt x="850" y="0"/>
                      </a:lnTo>
                      <a:lnTo>
                        <a:pt x="850" y="98"/>
                      </a:lnTo>
                      <a:lnTo>
                        <a:pt x="835" y="102"/>
                      </a:lnTo>
                      <a:lnTo>
                        <a:pt x="819" y="106"/>
                      </a:lnTo>
                      <a:lnTo>
                        <a:pt x="803" y="114"/>
                      </a:lnTo>
                      <a:lnTo>
                        <a:pt x="784" y="117"/>
                      </a:lnTo>
                      <a:lnTo>
                        <a:pt x="768" y="121"/>
                      </a:lnTo>
                      <a:lnTo>
                        <a:pt x="753" y="125"/>
                      </a:lnTo>
                      <a:lnTo>
                        <a:pt x="733" y="129"/>
                      </a:lnTo>
                      <a:lnTo>
                        <a:pt x="714" y="133"/>
                      </a:lnTo>
                      <a:lnTo>
                        <a:pt x="698" y="137"/>
                      </a:lnTo>
                      <a:lnTo>
                        <a:pt x="679" y="141"/>
                      </a:lnTo>
                      <a:lnTo>
                        <a:pt x="659" y="145"/>
                      </a:lnTo>
                      <a:lnTo>
                        <a:pt x="644" y="149"/>
                      </a:lnTo>
                      <a:lnTo>
                        <a:pt x="624" y="153"/>
                      </a:lnTo>
                      <a:lnTo>
                        <a:pt x="605" y="156"/>
                      </a:lnTo>
                      <a:lnTo>
                        <a:pt x="585" y="156"/>
                      </a:lnTo>
                      <a:lnTo>
                        <a:pt x="565" y="160"/>
                      </a:lnTo>
                      <a:lnTo>
                        <a:pt x="554" y="164"/>
                      </a:lnTo>
                      <a:lnTo>
                        <a:pt x="546" y="164"/>
                      </a:lnTo>
                      <a:lnTo>
                        <a:pt x="526" y="168"/>
                      </a:lnTo>
                      <a:lnTo>
                        <a:pt x="503" y="168"/>
                      </a:lnTo>
                      <a:lnTo>
                        <a:pt x="484" y="172"/>
                      </a:lnTo>
                      <a:lnTo>
                        <a:pt x="464" y="172"/>
                      </a:lnTo>
                      <a:lnTo>
                        <a:pt x="452" y="172"/>
                      </a:lnTo>
                      <a:lnTo>
                        <a:pt x="445" y="176"/>
                      </a:lnTo>
                      <a:lnTo>
                        <a:pt x="421" y="176"/>
                      </a:lnTo>
                      <a:lnTo>
                        <a:pt x="402" y="176"/>
                      </a:lnTo>
                      <a:lnTo>
                        <a:pt x="390" y="180"/>
                      </a:lnTo>
                      <a:lnTo>
                        <a:pt x="378" y="180"/>
                      </a:lnTo>
                      <a:lnTo>
                        <a:pt x="359" y="180"/>
                      </a:lnTo>
                      <a:lnTo>
                        <a:pt x="335" y="180"/>
                      </a:lnTo>
                      <a:lnTo>
                        <a:pt x="316" y="184"/>
                      </a:lnTo>
                      <a:lnTo>
                        <a:pt x="292" y="184"/>
                      </a:lnTo>
                      <a:lnTo>
                        <a:pt x="273" y="184"/>
                      </a:lnTo>
                      <a:lnTo>
                        <a:pt x="250" y="184"/>
                      </a:lnTo>
                      <a:lnTo>
                        <a:pt x="230" y="184"/>
                      </a:lnTo>
                      <a:lnTo>
                        <a:pt x="199" y="184"/>
                      </a:lnTo>
                      <a:lnTo>
                        <a:pt x="171" y="184"/>
                      </a:lnTo>
                      <a:lnTo>
                        <a:pt x="140" y="184"/>
                      </a:lnTo>
                      <a:lnTo>
                        <a:pt x="113" y="180"/>
                      </a:lnTo>
                      <a:lnTo>
                        <a:pt x="86" y="180"/>
                      </a:lnTo>
                      <a:lnTo>
                        <a:pt x="58" y="180"/>
                      </a:lnTo>
                      <a:lnTo>
                        <a:pt x="27" y="176"/>
                      </a:lnTo>
                      <a:lnTo>
                        <a:pt x="0" y="172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3438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348440" y="28440"/>
                  <a:ext cx="1247400" cy="831240"/>
                </a:xfrm>
                <a:custGeom>
                  <a:avLst/>
                  <a:gdLst/>
                  <a:ahLst/>
                  <a:rect l="l" t="t" r="r" b="b"/>
                  <a:pathLst>
                    <a:path w="1225" h="390">
                      <a:moveTo>
                        <a:pt x="1225" y="390"/>
                      </a:moveTo>
                      <a:lnTo>
                        <a:pt x="1225" y="378"/>
                      </a:lnTo>
                      <a:lnTo>
                        <a:pt x="1221" y="371"/>
                      </a:lnTo>
                      <a:lnTo>
                        <a:pt x="1221" y="359"/>
                      </a:lnTo>
                      <a:lnTo>
                        <a:pt x="1217" y="351"/>
                      </a:lnTo>
                      <a:lnTo>
                        <a:pt x="1217" y="339"/>
                      </a:lnTo>
                      <a:lnTo>
                        <a:pt x="1213" y="332"/>
                      </a:lnTo>
                      <a:lnTo>
                        <a:pt x="1209" y="320"/>
                      </a:lnTo>
                      <a:lnTo>
                        <a:pt x="1205" y="312"/>
                      </a:lnTo>
                      <a:lnTo>
                        <a:pt x="1197" y="300"/>
                      </a:lnTo>
                      <a:lnTo>
                        <a:pt x="1194" y="293"/>
                      </a:lnTo>
                      <a:lnTo>
                        <a:pt x="1186" y="281"/>
                      </a:lnTo>
                      <a:lnTo>
                        <a:pt x="1178" y="273"/>
                      </a:lnTo>
                      <a:lnTo>
                        <a:pt x="1170" y="265"/>
                      </a:lnTo>
                      <a:lnTo>
                        <a:pt x="1162" y="254"/>
                      </a:lnTo>
                      <a:lnTo>
                        <a:pt x="1155" y="246"/>
                      </a:lnTo>
                      <a:lnTo>
                        <a:pt x="1147" y="238"/>
                      </a:lnTo>
                      <a:lnTo>
                        <a:pt x="1139" y="234"/>
                      </a:lnTo>
                      <a:lnTo>
                        <a:pt x="1135" y="230"/>
                      </a:lnTo>
                      <a:lnTo>
                        <a:pt x="1127" y="218"/>
                      </a:lnTo>
                      <a:lnTo>
                        <a:pt x="1116" y="211"/>
                      </a:lnTo>
                      <a:lnTo>
                        <a:pt x="1108" y="207"/>
                      </a:lnTo>
                      <a:lnTo>
                        <a:pt x="1104" y="203"/>
                      </a:lnTo>
                      <a:lnTo>
                        <a:pt x="1092" y="195"/>
                      </a:lnTo>
                      <a:lnTo>
                        <a:pt x="1084" y="191"/>
                      </a:lnTo>
                      <a:lnTo>
                        <a:pt x="1080" y="187"/>
                      </a:lnTo>
                      <a:lnTo>
                        <a:pt x="1065" y="179"/>
                      </a:lnTo>
                      <a:lnTo>
                        <a:pt x="1053" y="172"/>
                      </a:lnTo>
                      <a:lnTo>
                        <a:pt x="1045" y="168"/>
                      </a:lnTo>
                      <a:lnTo>
                        <a:pt x="1041" y="164"/>
                      </a:lnTo>
                      <a:lnTo>
                        <a:pt x="1026" y="156"/>
                      </a:lnTo>
                      <a:lnTo>
                        <a:pt x="1010" y="148"/>
                      </a:lnTo>
                      <a:lnTo>
                        <a:pt x="995" y="140"/>
                      </a:lnTo>
                      <a:lnTo>
                        <a:pt x="979" y="133"/>
                      </a:lnTo>
                      <a:lnTo>
                        <a:pt x="963" y="129"/>
                      </a:lnTo>
                      <a:lnTo>
                        <a:pt x="948" y="121"/>
                      </a:lnTo>
                      <a:lnTo>
                        <a:pt x="932" y="113"/>
                      </a:lnTo>
                      <a:lnTo>
                        <a:pt x="913" y="109"/>
                      </a:lnTo>
                      <a:lnTo>
                        <a:pt x="897" y="101"/>
                      </a:lnTo>
                      <a:lnTo>
                        <a:pt x="881" y="94"/>
                      </a:lnTo>
                      <a:lnTo>
                        <a:pt x="862" y="90"/>
                      </a:lnTo>
                      <a:lnTo>
                        <a:pt x="842" y="82"/>
                      </a:lnTo>
                      <a:lnTo>
                        <a:pt x="823" y="78"/>
                      </a:lnTo>
                      <a:lnTo>
                        <a:pt x="803" y="70"/>
                      </a:lnTo>
                      <a:lnTo>
                        <a:pt x="784" y="66"/>
                      </a:lnTo>
                      <a:lnTo>
                        <a:pt x="764" y="62"/>
                      </a:lnTo>
                      <a:lnTo>
                        <a:pt x="745" y="55"/>
                      </a:lnTo>
                      <a:lnTo>
                        <a:pt x="725" y="51"/>
                      </a:lnTo>
                      <a:lnTo>
                        <a:pt x="714" y="47"/>
                      </a:lnTo>
                      <a:lnTo>
                        <a:pt x="702" y="47"/>
                      </a:lnTo>
                      <a:lnTo>
                        <a:pt x="683" y="43"/>
                      </a:lnTo>
                      <a:lnTo>
                        <a:pt x="659" y="39"/>
                      </a:lnTo>
                      <a:lnTo>
                        <a:pt x="640" y="35"/>
                      </a:lnTo>
                      <a:lnTo>
                        <a:pt x="616" y="31"/>
                      </a:lnTo>
                      <a:lnTo>
                        <a:pt x="593" y="27"/>
                      </a:lnTo>
                      <a:lnTo>
                        <a:pt x="569" y="23"/>
                      </a:lnTo>
                      <a:lnTo>
                        <a:pt x="546" y="20"/>
                      </a:lnTo>
                      <a:lnTo>
                        <a:pt x="523" y="20"/>
                      </a:lnTo>
                      <a:lnTo>
                        <a:pt x="499" y="16"/>
                      </a:lnTo>
                      <a:lnTo>
                        <a:pt x="487" y="12"/>
                      </a:lnTo>
                      <a:lnTo>
                        <a:pt x="476" y="12"/>
                      </a:lnTo>
                      <a:lnTo>
                        <a:pt x="452" y="12"/>
                      </a:lnTo>
                      <a:lnTo>
                        <a:pt x="429" y="8"/>
                      </a:lnTo>
                      <a:lnTo>
                        <a:pt x="406" y="8"/>
                      </a:lnTo>
                      <a:lnTo>
                        <a:pt x="378" y="4"/>
                      </a:lnTo>
                      <a:lnTo>
                        <a:pt x="367" y="4"/>
                      </a:lnTo>
                      <a:lnTo>
                        <a:pt x="355" y="4"/>
                      </a:lnTo>
                      <a:lnTo>
                        <a:pt x="343" y="4"/>
                      </a:lnTo>
                      <a:lnTo>
                        <a:pt x="331" y="4"/>
                      </a:lnTo>
                      <a:lnTo>
                        <a:pt x="304" y="0"/>
                      </a:lnTo>
                      <a:lnTo>
                        <a:pt x="292" y="0"/>
                      </a:lnTo>
                      <a:lnTo>
                        <a:pt x="277" y="0"/>
                      </a:lnTo>
                      <a:lnTo>
                        <a:pt x="265" y="0"/>
                      </a:lnTo>
                      <a:lnTo>
                        <a:pt x="253" y="0"/>
                      </a:lnTo>
                      <a:lnTo>
                        <a:pt x="226" y="0"/>
                      </a:lnTo>
                      <a:lnTo>
                        <a:pt x="199" y="0"/>
                      </a:lnTo>
                      <a:lnTo>
                        <a:pt x="168" y="0"/>
                      </a:lnTo>
                      <a:lnTo>
                        <a:pt x="140" y="4"/>
                      </a:lnTo>
                      <a:lnTo>
                        <a:pt x="109" y="4"/>
                      </a:lnTo>
                      <a:lnTo>
                        <a:pt x="82" y="4"/>
                      </a:lnTo>
                      <a:lnTo>
                        <a:pt x="54" y="8"/>
                      </a:lnTo>
                      <a:lnTo>
                        <a:pt x="27" y="8"/>
                      </a:lnTo>
                      <a:lnTo>
                        <a:pt x="0" y="12"/>
                      </a:lnTo>
                      <a:lnTo>
                        <a:pt x="230" y="390"/>
                      </a:lnTo>
                      <a:lnTo>
                        <a:pt x="1225" y="39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3565440" y="54000"/>
                  <a:ext cx="1017360" cy="939600"/>
                </a:xfrm>
                <a:custGeom>
                  <a:avLst/>
                  <a:gdLst/>
                  <a:ahLst/>
                  <a:rect l="l" t="t" r="r" b="b"/>
                  <a:pathLst>
                    <a:path w="999" h="441">
                      <a:moveTo>
                        <a:pt x="769" y="0"/>
                      </a:moveTo>
                      <a:lnTo>
                        <a:pt x="726" y="4"/>
                      </a:lnTo>
                      <a:lnTo>
                        <a:pt x="687" y="8"/>
                      </a:lnTo>
                      <a:lnTo>
                        <a:pt x="648" y="15"/>
                      </a:lnTo>
                      <a:lnTo>
                        <a:pt x="609" y="19"/>
                      </a:lnTo>
                      <a:lnTo>
                        <a:pt x="570" y="27"/>
                      </a:lnTo>
                      <a:lnTo>
                        <a:pt x="550" y="31"/>
                      </a:lnTo>
                      <a:lnTo>
                        <a:pt x="535" y="35"/>
                      </a:lnTo>
                      <a:lnTo>
                        <a:pt x="500" y="43"/>
                      </a:lnTo>
                      <a:lnTo>
                        <a:pt x="461" y="50"/>
                      </a:lnTo>
                      <a:lnTo>
                        <a:pt x="445" y="54"/>
                      </a:lnTo>
                      <a:lnTo>
                        <a:pt x="429" y="58"/>
                      </a:lnTo>
                      <a:lnTo>
                        <a:pt x="410" y="62"/>
                      </a:lnTo>
                      <a:lnTo>
                        <a:pt x="394" y="70"/>
                      </a:lnTo>
                      <a:lnTo>
                        <a:pt x="379" y="74"/>
                      </a:lnTo>
                      <a:lnTo>
                        <a:pt x="363" y="78"/>
                      </a:lnTo>
                      <a:lnTo>
                        <a:pt x="332" y="89"/>
                      </a:lnTo>
                      <a:lnTo>
                        <a:pt x="301" y="101"/>
                      </a:lnTo>
                      <a:lnTo>
                        <a:pt x="289" y="105"/>
                      </a:lnTo>
                      <a:lnTo>
                        <a:pt x="273" y="113"/>
                      </a:lnTo>
                      <a:lnTo>
                        <a:pt x="262" y="117"/>
                      </a:lnTo>
                      <a:lnTo>
                        <a:pt x="246" y="125"/>
                      </a:lnTo>
                      <a:lnTo>
                        <a:pt x="219" y="136"/>
                      </a:lnTo>
                      <a:lnTo>
                        <a:pt x="195" y="148"/>
                      </a:lnTo>
                      <a:lnTo>
                        <a:pt x="184" y="156"/>
                      </a:lnTo>
                      <a:lnTo>
                        <a:pt x="172" y="160"/>
                      </a:lnTo>
                      <a:lnTo>
                        <a:pt x="160" y="167"/>
                      </a:lnTo>
                      <a:lnTo>
                        <a:pt x="149" y="175"/>
                      </a:lnTo>
                      <a:lnTo>
                        <a:pt x="137" y="183"/>
                      </a:lnTo>
                      <a:lnTo>
                        <a:pt x="129" y="191"/>
                      </a:lnTo>
                      <a:lnTo>
                        <a:pt x="117" y="195"/>
                      </a:lnTo>
                      <a:lnTo>
                        <a:pt x="110" y="203"/>
                      </a:lnTo>
                      <a:lnTo>
                        <a:pt x="98" y="210"/>
                      </a:lnTo>
                      <a:lnTo>
                        <a:pt x="90" y="218"/>
                      </a:lnTo>
                      <a:lnTo>
                        <a:pt x="82" y="226"/>
                      </a:lnTo>
                      <a:lnTo>
                        <a:pt x="74" y="234"/>
                      </a:lnTo>
                      <a:lnTo>
                        <a:pt x="67" y="242"/>
                      </a:lnTo>
                      <a:lnTo>
                        <a:pt x="59" y="249"/>
                      </a:lnTo>
                      <a:lnTo>
                        <a:pt x="51" y="257"/>
                      </a:lnTo>
                      <a:lnTo>
                        <a:pt x="47" y="265"/>
                      </a:lnTo>
                      <a:lnTo>
                        <a:pt x="39" y="273"/>
                      </a:lnTo>
                      <a:lnTo>
                        <a:pt x="39" y="277"/>
                      </a:lnTo>
                      <a:lnTo>
                        <a:pt x="35" y="281"/>
                      </a:lnTo>
                      <a:lnTo>
                        <a:pt x="28" y="288"/>
                      </a:lnTo>
                      <a:lnTo>
                        <a:pt x="24" y="296"/>
                      </a:lnTo>
                      <a:lnTo>
                        <a:pt x="24" y="300"/>
                      </a:lnTo>
                      <a:lnTo>
                        <a:pt x="20" y="304"/>
                      </a:lnTo>
                      <a:lnTo>
                        <a:pt x="20" y="308"/>
                      </a:lnTo>
                      <a:lnTo>
                        <a:pt x="16" y="308"/>
                      </a:lnTo>
                      <a:lnTo>
                        <a:pt x="16" y="312"/>
                      </a:lnTo>
                      <a:lnTo>
                        <a:pt x="16" y="316"/>
                      </a:lnTo>
                      <a:lnTo>
                        <a:pt x="12" y="320"/>
                      </a:lnTo>
                      <a:lnTo>
                        <a:pt x="8" y="327"/>
                      </a:lnTo>
                      <a:lnTo>
                        <a:pt x="8" y="335"/>
                      </a:lnTo>
                      <a:lnTo>
                        <a:pt x="4" y="343"/>
                      </a:lnTo>
                      <a:lnTo>
                        <a:pt x="4" y="347"/>
                      </a:lnTo>
                      <a:lnTo>
                        <a:pt x="4" y="351"/>
                      </a:lnTo>
                      <a:lnTo>
                        <a:pt x="4" y="355"/>
                      </a:lnTo>
                      <a:lnTo>
                        <a:pt x="4" y="359"/>
                      </a:lnTo>
                      <a:lnTo>
                        <a:pt x="4" y="363"/>
                      </a:lnTo>
                      <a:lnTo>
                        <a:pt x="0" y="366"/>
                      </a:lnTo>
                      <a:lnTo>
                        <a:pt x="0" y="370"/>
                      </a:lnTo>
                      <a:lnTo>
                        <a:pt x="0" y="374"/>
                      </a:lnTo>
                      <a:lnTo>
                        <a:pt x="0" y="378"/>
                      </a:lnTo>
                      <a:lnTo>
                        <a:pt x="0" y="386"/>
                      </a:lnTo>
                      <a:lnTo>
                        <a:pt x="0" y="394"/>
                      </a:lnTo>
                      <a:lnTo>
                        <a:pt x="4" y="402"/>
                      </a:lnTo>
                      <a:lnTo>
                        <a:pt x="4" y="409"/>
                      </a:lnTo>
                      <a:lnTo>
                        <a:pt x="4" y="417"/>
                      </a:lnTo>
                      <a:lnTo>
                        <a:pt x="8" y="425"/>
                      </a:lnTo>
                      <a:lnTo>
                        <a:pt x="12" y="433"/>
                      </a:lnTo>
                      <a:lnTo>
                        <a:pt x="12" y="441"/>
                      </a:lnTo>
                      <a:lnTo>
                        <a:pt x="999" y="378"/>
                      </a:lnTo>
                      <a:lnTo>
                        <a:pt x="769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3577320" y="859680"/>
                  <a:ext cx="1005120" cy="813600"/>
                </a:xfrm>
                <a:custGeom>
                  <a:avLst/>
                  <a:gdLst/>
                  <a:ahLst/>
                  <a:rect l="l" t="t" r="r" b="b"/>
                  <a:pathLst>
                    <a:path w="987" h="382">
                      <a:moveTo>
                        <a:pt x="0" y="63"/>
                      </a:moveTo>
                      <a:lnTo>
                        <a:pt x="4" y="70"/>
                      </a:lnTo>
                      <a:lnTo>
                        <a:pt x="8" y="78"/>
                      </a:lnTo>
                      <a:lnTo>
                        <a:pt x="12" y="82"/>
                      </a:lnTo>
                      <a:lnTo>
                        <a:pt x="16" y="90"/>
                      </a:lnTo>
                      <a:lnTo>
                        <a:pt x="20" y="98"/>
                      </a:lnTo>
                      <a:lnTo>
                        <a:pt x="27" y="105"/>
                      </a:lnTo>
                      <a:lnTo>
                        <a:pt x="31" y="113"/>
                      </a:lnTo>
                      <a:lnTo>
                        <a:pt x="35" y="121"/>
                      </a:lnTo>
                      <a:lnTo>
                        <a:pt x="43" y="125"/>
                      </a:lnTo>
                      <a:lnTo>
                        <a:pt x="47" y="133"/>
                      </a:lnTo>
                      <a:lnTo>
                        <a:pt x="55" y="141"/>
                      </a:lnTo>
                      <a:lnTo>
                        <a:pt x="62" y="148"/>
                      </a:lnTo>
                      <a:lnTo>
                        <a:pt x="66" y="152"/>
                      </a:lnTo>
                      <a:lnTo>
                        <a:pt x="74" y="160"/>
                      </a:lnTo>
                      <a:lnTo>
                        <a:pt x="82" y="168"/>
                      </a:lnTo>
                      <a:lnTo>
                        <a:pt x="90" y="172"/>
                      </a:lnTo>
                      <a:lnTo>
                        <a:pt x="101" y="180"/>
                      </a:lnTo>
                      <a:lnTo>
                        <a:pt x="109" y="187"/>
                      </a:lnTo>
                      <a:lnTo>
                        <a:pt x="117" y="191"/>
                      </a:lnTo>
                      <a:lnTo>
                        <a:pt x="125" y="199"/>
                      </a:lnTo>
                      <a:lnTo>
                        <a:pt x="137" y="203"/>
                      </a:lnTo>
                      <a:lnTo>
                        <a:pt x="144" y="211"/>
                      </a:lnTo>
                      <a:lnTo>
                        <a:pt x="156" y="219"/>
                      </a:lnTo>
                      <a:lnTo>
                        <a:pt x="164" y="223"/>
                      </a:lnTo>
                      <a:lnTo>
                        <a:pt x="176" y="230"/>
                      </a:lnTo>
                      <a:lnTo>
                        <a:pt x="179" y="230"/>
                      </a:lnTo>
                      <a:lnTo>
                        <a:pt x="187" y="234"/>
                      </a:lnTo>
                      <a:lnTo>
                        <a:pt x="199" y="238"/>
                      </a:lnTo>
                      <a:lnTo>
                        <a:pt x="203" y="242"/>
                      </a:lnTo>
                      <a:lnTo>
                        <a:pt x="207" y="246"/>
                      </a:lnTo>
                      <a:lnTo>
                        <a:pt x="218" y="250"/>
                      </a:lnTo>
                      <a:lnTo>
                        <a:pt x="234" y="258"/>
                      </a:lnTo>
                      <a:lnTo>
                        <a:pt x="246" y="262"/>
                      </a:lnTo>
                      <a:lnTo>
                        <a:pt x="257" y="265"/>
                      </a:lnTo>
                      <a:lnTo>
                        <a:pt x="269" y="273"/>
                      </a:lnTo>
                      <a:lnTo>
                        <a:pt x="281" y="277"/>
                      </a:lnTo>
                      <a:lnTo>
                        <a:pt x="297" y="281"/>
                      </a:lnTo>
                      <a:lnTo>
                        <a:pt x="308" y="289"/>
                      </a:lnTo>
                      <a:lnTo>
                        <a:pt x="320" y="293"/>
                      </a:lnTo>
                      <a:lnTo>
                        <a:pt x="336" y="297"/>
                      </a:lnTo>
                      <a:lnTo>
                        <a:pt x="351" y="301"/>
                      </a:lnTo>
                      <a:lnTo>
                        <a:pt x="363" y="304"/>
                      </a:lnTo>
                      <a:lnTo>
                        <a:pt x="378" y="312"/>
                      </a:lnTo>
                      <a:lnTo>
                        <a:pt x="394" y="312"/>
                      </a:lnTo>
                      <a:lnTo>
                        <a:pt x="406" y="320"/>
                      </a:lnTo>
                      <a:lnTo>
                        <a:pt x="421" y="324"/>
                      </a:lnTo>
                      <a:lnTo>
                        <a:pt x="453" y="332"/>
                      </a:lnTo>
                      <a:lnTo>
                        <a:pt x="484" y="340"/>
                      </a:lnTo>
                      <a:lnTo>
                        <a:pt x="515" y="343"/>
                      </a:lnTo>
                      <a:lnTo>
                        <a:pt x="550" y="351"/>
                      </a:lnTo>
                      <a:lnTo>
                        <a:pt x="566" y="355"/>
                      </a:lnTo>
                      <a:lnTo>
                        <a:pt x="573" y="355"/>
                      </a:lnTo>
                      <a:lnTo>
                        <a:pt x="581" y="359"/>
                      </a:lnTo>
                      <a:lnTo>
                        <a:pt x="601" y="359"/>
                      </a:lnTo>
                      <a:lnTo>
                        <a:pt x="616" y="363"/>
                      </a:lnTo>
                      <a:lnTo>
                        <a:pt x="632" y="367"/>
                      </a:lnTo>
                      <a:lnTo>
                        <a:pt x="652" y="367"/>
                      </a:lnTo>
                      <a:lnTo>
                        <a:pt x="687" y="375"/>
                      </a:lnTo>
                      <a:lnTo>
                        <a:pt x="702" y="375"/>
                      </a:lnTo>
                      <a:lnTo>
                        <a:pt x="722" y="379"/>
                      </a:lnTo>
                      <a:lnTo>
                        <a:pt x="730" y="379"/>
                      </a:lnTo>
                      <a:lnTo>
                        <a:pt x="741" y="379"/>
                      </a:lnTo>
                      <a:lnTo>
                        <a:pt x="757" y="382"/>
                      </a:lnTo>
                      <a:lnTo>
                        <a:pt x="987" y="0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348440" y="859680"/>
                  <a:ext cx="865440" cy="830520"/>
                </a:xfrm>
                <a:custGeom>
                  <a:avLst/>
                  <a:gdLst/>
                  <a:ahLst/>
                  <a:rect l="l" t="t" r="r" b="b"/>
                  <a:pathLst>
                    <a:path w="850" h="390">
                      <a:moveTo>
                        <a:pt x="0" y="382"/>
                      </a:moveTo>
                      <a:lnTo>
                        <a:pt x="15" y="382"/>
                      </a:lnTo>
                      <a:lnTo>
                        <a:pt x="27" y="382"/>
                      </a:lnTo>
                      <a:lnTo>
                        <a:pt x="58" y="386"/>
                      </a:lnTo>
                      <a:lnTo>
                        <a:pt x="86" y="386"/>
                      </a:lnTo>
                      <a:lnTo>
                        <a:pt x="113" y="390"/>
                      </a:lnTo>
                      <a:lnTo>
                        <a:pt x="129" y="390"/>
                      </a:lnTo>
                      <a:lnTo>
                        <a:pt x="140" y="390"/>
                      </a:lnTo>
                      <a:lnTo>
                        <a:pt x="156" y="390"/>
                      </a:lnTo>
                      <a:lnTo>
                        <a:pt x="171" y="390"/>
                      </a:lnTo>
                      <a:lnTo>
                        <a:pt x="199" y="390"/>
                      </a:lnTo>
                      <a:lnTo>
                        <a:pt x="214" y="390"/>
                      </a:lnTo>
                      <a:lnTo>
                        <a:pt x="230" y="390"/>
                      </a:lnTo>
                      <a:lnTo>
                        <a:pt x="273" y="390"/>
                      </a:lnTo>
                      <a:lnTo>
                        <a:pt x="316" y="390"/>
                      </a:lnTo>
                      <a:lnTo>
                        <a:pt x="359" y="386"/>
                      </a:lnTo>
                      <a:lnTo>
                        <a:pt x="402" y="386"/>
                      </a:lnTo>
                      <a:lnTo>
                        <a:pt x="445" y="382"/>
                      </a:lnTo>
                      <a:lnTo>
                        <a:pt x="484" y="379"/>
                      </a:lnTo>
                      <a:lnTo>
                        <a:pt x="523" y="375"/>
                      </a:lnTo>
                      <a:lnTo>
                        <a:pt x="565" y="367"/>
                      </a:lnTo>
                      <a:lnTo>
                        <a:pt x="605" y="363"/>
                      </a:lnTo>
                      <a:lnTo>
                        <a:pt x="644" y="355"/>
                      </a:lnTo>
                      <a:lnTo>
                        <a:pt x="679" y="347"/>
                      </a:lnTo>
                      <a:lnTo>
                        <a:pt x="714" y="340"/>
                      </a:lnTo>
                      <a:lnTo>
                        <a:pt x="749" y="332"/>
                      </a:lnTo>
                      <a:lnTo>
                        <a:pt x="784" y="324"/>
                      </a:lnTo>
                      <a:lnTo>
                        <a:pt x="819" y="312"/>
                      </a:lnTo>
                      <a:lnTo>
                        <a:pt x="850" y="304"/>
                      </a:lnTo>
                      <a:lnTo>
                        <a:pt x="230" y="0"/>
                      </a:lnTo>
                      <a:lnTo>
                        <a:pt x="0" y="382"/>
                      </a:lnTo>
                      <a:close/>
                    </a:path>
                  </a:pathLst>
                </a:custGeom>
                <a:solidFill>
                  <a:srgbClr val="0085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582800" y="859680"/>
                  <a:ext cx="965160" cy="647640"/>
                </a:xfrm>
                <a:custGeom>
                  <a:avLst/>
                  <a:gdLst/>
                  <a:ahLst/>
                  <a:rect l="l" t="t" r="r" b="b"/>
                  <a:pathLst>
                    <a:path w="948" h="304">
                      <a:moveTo>
                        <a:pt x="620" y="304"/>
                      </a:moveTo>
                      <a:lnTo>
                        <a:pt x="651" y="297"/>
                      </a:lnTo>
                      <a:lnTo>
                        <a:pt x="675" y="285"/>
                      </a:lnTo>
                      <a:lnTo>
                        <a:pt x="702" y="277"/>
                      </a:lnTo>
                      <a:lnTo>
                        <a:pt x="730" y="265"/>
                      </a:lnTo>
                      <a:lnTo>
                        <a:pt x="753" y="254"/>
                      </a:lnTo>
                      <a:lnTo>
                        <a:pt x="776" y="242"/>
                      </a:lnTo>
                      <a:lnTo>
                        <a:pt x="800" y="230"/>
                      </a:lnTo>
                      <a:lnTo>
                        <a:pt x="819" y="223"/>
                      </a:lnTo>
                      <a:lnTo>
                        <a:pt x="827" y="215"/>
                      </a:lnTo>
                      <a:lnTo>
                        <a:pt x="839" y="207"/>
                      </a:lnTo>
                      <a:lnTo>
                        <a:pt x="858" y="195"/>
                      </a:lnTo>
                      <a:lnTo>
                        <a:pt x="866" y="191"/>
                      </a:lnTo>
                      <a:lnTo>
                        <a:pt x="878" y="183"/>
                      </a:lnTo>
                      <a:lnTo>
                        <a:pt x="886" y="176"/>
                      </a:lnTo>
                      <a:lnTo>
                        <a:pt x="893" y="172"/>
                      </a:lnTo>
                      <a:lnTo>
                        <a:pt x="909" y="156"/>
                      </a:lnTo>
                      <a:lnTo>
                        <a:pt x="917" y="152"/>
                      </a:lnTo>
                      <a:lnTo>
                        <a:pt x="925" y="144"/>
                      </a:lnTo>
                      <a:lnTo>
                        <a:pt x="928" y="137"/>
                      </a:lnTo>
                      <a:lnTo>
                        <a:pt x="936" y="133"/>
                      </a:lnTo>
                      <a:lnTo>
                        <a:pt x="944" y="125"/>
                      </a:lnTo>
                      <a:lnTo>
                        <a:pt x="948" y="117"/>
                      </a:lnTo>
                      <a:lnTo>
                        <a:pt x="0" y="0"/>
                      </a:lnTo>
                      <a:lnTo>
                        <a:pt x="620" y="304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582800" y="859680"/>
                  <a:ext cx="1013040" cy="249120"/>
                </a:xfrm>
                <a:custGeom>
                  <a:avLst/>
                  <a:gdLst/>
                  <a:ahLst/>
                  <a:rect l="l" t="t" r="r" b="b"/>
                  <a:pathLst>
                    <a:path w="995" h="117">
                      <a:moveTo>
                        <a:pt x="948" y="117"/>
                      </a:moveTo>
                      <a:lnTo>
                        <a:pt x="952" y="109"/>
                      </a:lnTo>
                      <a:lnTo>
                        <a:pt x="960" y="102"/>
                      </a:lnTo>
                      <a:lnTo>
                        <a:pt x="964" y="98"/>
                      </a:lnTo>
                      <a:lnTo>
                        <a:pt x="967" y="90"/>
                      </a:lnTo>
                      <a:lnTo>
                        <a:pt x="971" y="86"/>
                      </a:lnTo>
                      <a:lnTo>
                        <a:pt x="971" y="82"/>
                      </a:lnTo>
                      <a:lnTo>
                        <a:pt x="975" y="74"/>
                      </a:lnTo>
                      <a:lnTo>
                        <a:pt x="979" y="66"/>
                      </a:lnTo>
                      <a:lnTo>
                        <a:pt x="983" y="59"/>
                      </a:lnTo>
                      <a:lnTo>
                        <a:pt x="987" y="51"/>
                      </a:lnTo>
                      <a:lnTo>
                        <a:pt x="987" y="43"/>
                      </a:lnTo>
                      <a:lnTo>
                        <a:pt x="987" y="43"/>
                      </a:lnTo>
                      <a:lnTo>
                        <a:pt x="991" y="39"/>
                      </a:lnTo>
                      <a:lnTo>
                        <a:pt x="991" y="31"/>
                      </a:lnTo>
                      <a:lnTo>
                        <a:pt x="991" y="24"/>
                      </a:lnTo>
                      <a:lnTo>
                        <a:pt x="991" y="20"/>
                      </a:lnTo>
                      <a:lnTo>
                        <a:pt x="991" y="16"/>
                      </a:lnTo>
                      <a:lnTo>
                        <a:pt x="995" y="8"/>
                      </a:lnTo>
                      <a:lnTo>
                        <a:pt x="995" y="0"/>
                      </a:lnTo>
                      <a:lnTo>
                        <a:pt x="0" y="0"/>
                      </a:lnTo>
                      <a:lnTo>
                        <a:pt x="948" y="11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6" name=""/>
              <p:cNvSpPr/>
              <p:nvPr/>
            </p:nvSpPr>
            <p:spPr>
              <a:xfrm>
                <a:off x="3813840" y="96840"/>
                <a:ext cx="1533960" cy="13129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ffff"/>
                    </a:solidFill>
                    <a:latin typeface="Times New Roman"/>
                  </a:rPr>
                  <a:t>Pie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"/>
            <p:cNvSpPr txBox="1"/>
            <p:nvPr/>
          </p:nvSpPr>
          <p:spPr>
            <a:xfrm>
              <a:off x="3652920" y="1109520"/>
              <a:ext cx="19717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>
                      <a:alpha val="50000"/>
                    </a:srgbClr>
                  </a:solidFill>
                  <a:latin typeface="Times New Roman"/>
                </a:rPr>
                <a:t>Chart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Times New Roman"/>
                <a:ea typeface="Times New Roman"/>
              </a:endParaRPr>
            </a:p>
          </p:txBody>
        </p:sp>
      </p:grpSp>
    </p:spTree>
  </p:cSld>
  <p:transition>
    <p:cover dir="rd"/>
  </p:transition>
  <p:timing>
    <p:tnLst>
      <p:par>
        <p:cTn id="1569" dur="indefinite" restart="never" nodeType="tmRoot">
          <p:childTnLst>
            <p:seq>
              <p:cTn id="1570" dur="indefinite" nodeType="mainSeq">
                <p:childTnLst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"/>
          <p:cNvGrpSpPr/>
          <p:nvPr/>
        </p:nvGrpSpPr>
        <p:grpSpPr>
          <a:xfrm>
            <a:off x="3386160" y="85680"/>
            <a:ext cx="2332080" cy="1706760"/>
            <a:chOff x="3386160" y="85680"/>
            <a:chExt cx="2332080" cy="1706760"/>
          </a:xfrm>
        </p:grpSpPr>
        <p:pic>
          <p:nvPicPr>
            <p:cNvPr id="1079" name="" descr=""/>
            <p:cNvPicPr/>
            <p:nvPr/>
          </p:nvPicPr>
          <p:blipFill>
            <a:blip r:embed="rId1"/>
            <a:stretch/>
          </p:blipFill>
          <p:spPr>
            <a:xfrm>
              <a:off x="3386160" y="195120"/>
              <a:ext cx="2332080" cy="15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"/>
            <p:cNvSpPr/>
            <p:nvPr/>
          </p:nvSpPr>
          <p:spPr>
            <a:xfrm>
              <a:off x="3476880" y="85680"/>
              <a:ext cx="1533600" cy="1099440"/>
            </a:xfrm>
            <a:prstGeom prst="rect">
              <a:avLst/>
            </a:prstGeom>
            <a:noFill/>
            <a:ln w="0">
              <a:noFill/>
            </a:ln>
            <a:effectLst>
              <a:outerShdw dist="77353" dir="1136247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Bar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193680" y="1859040"/>
            <a:ext cx="877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be used to depict any of the levels of measurement (nominal, ordinal, interval, or rati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3652920" y="1109520"/>
            <a:ext cx="1971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Times New Roman"/>
              </a:rPr>
              <a:t>Char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514080" y="3651120"/>
            <a:ext cx="2139840" cy="1695600"/>
            <a:chOff x="514080" y="3651120"/>
            <a:chExt cx="2139840" cy="1695600"/>
          </a:xfrm>
        </p:grpSpPr>
        <p:sp>
          <p:nvSpPr>
            <p:cNvPr id="1084" name=""/>
            <p:cNvSpPr/>
            <p:nvPr/>
          </p:nvSpPr>
          <p:spPr>
            <a:xfrm flipV="1">
              <a:off x="880200" y="3651120"/>
              <a:ext cx="1080" cy="169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1159560" y="3651120"/>
              <a:ext cx="1080" cy="169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1437120" y="3651120"/>
              <a:ext cx="1440" cy="169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1715040" y="3651120"/>
              <a:ext cx="1080" cy="169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1994040" y="3651120"/>
              <a:ext cx="1440" cy="169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2273400" y="3651120"/>
              <a:ext cx="1440" cy="169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2551320" y="3651120"/>
              <a:ext cx="1080" cy="169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514080" y="5079240"/>
              <a:ext cx="96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514080" y="4860000"/>
              <a:ext cx="96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514080" y="4640400"/>
              <a:ext cx="96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514080" y="4420800"/>
              <a:ext cx="96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14080" y="4202640"/>
              <a:ext cx="96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549360" y="3981960"/>
              <a:ext cx="968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549360" y="3762720"/>
              <a:ext cx="96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65560" y="3653280"/>
              <a:ext cx="1440" cy="1681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65560" y="5336280"/>
              <a:ext cx="2088360" cy="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65560" y="3875040"/>
              <a:ext cx="1874160" cy="1065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65560" y="4094640"/>
              <a:ext cx="1563840" cy="107640"/>
            </a:xfrm>
            <a:prstGeom prst="rect">
              <a:avLst/>
            </a:pr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65560" y="4315320"/>
              <a:ext cx="1241640" cy="10656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65560" y="4533840"/>
              <a:ext cx="990360" cy="106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65560" y="4753080"/>
              <a:ext cx="777600" cy="10656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65560" y="4972680"/>
              <a:ext cx="408600" cy="10656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3133800" y="3651120"/>
            <a:ext cx="2127240" cy="1730160"/>
            <a:chOff x="3133800" y="3651120"/>
            <a:chExt cx="2127240" cy="1730160"/>
          </a:xfrm>
        </p:grpSpPr>
        <p:sp>
          <p:nvSpPr>
            <p:cNvPr id="1107" name=""/>
            <p:cNvSpPr/>
            <p:nvPr/>
          </p:nvSpPr>
          <p:spPr>
            <a:xfrm>
              <a:off x="3133800" y="5111280"/>
              <a:ext cx="2127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133800" y="4882320"/>
              <a:ext cx="2127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133800" y="4654800"/>
              <a:ext cx="2127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133800" y="4429800"/>
              <a:ext cx="2127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133800" y="4201200"/>
              <a:ext cx="2127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133800" y="3972240"/>
              <a:ext cx="2127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33800" y="3745800"/>
              <a:ext cx="2127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468960" y="5302080"/>
              <a:ext cx="108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745800" y="5302080"/>
              <a:ext cx="108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022280" y="5302080"/>
              <a:ext cx="108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297320" y="530208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574520" y="5302080"/>
              <a:ext cx="108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851000" y="5302080"/>
              <a:ext cx="108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126040" y="530208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3150360" y="5338800"/>
              <a:ext cx="2066760" cy="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3142080" y="3651120"/>
              <a:ext cx="1440" cy="1706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468960" y="5006880"/>
              <a:ext cx="136080" cy="3330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45800" y="4704840"/>
              <a:ext cx="136080" cy="63504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022280" y="4529160"/>
              <a:ext cx="136080" cy="8103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297320" y="4323240"/>
              <a:ext cx="134640" cy="10166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574520" y="4062600"/>
              <a:ext cx="134280" cy="1277280"/>
            </a:xfrm>
            <a:prstGeom prst="rect">
              <a:avLst/>
            </a:pr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851000" y="3807360"/>
              <a:ext cx="136080" cy="15325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2938320" y="5346720"/>
            <a:ext cx="25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also known as a ‘column chart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233880" y="295272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amples o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5962320" y="3603600"/>
            <a:ext cx="2739960" cy="2193120"/>
            <a:chOff x="5962320" y="3603600"/>
            <a:chExt cx="2739960" cy="2193120"/>
          </a:xfrm>
        </p:grpSpPr>
        <p:pic>
          <p:nvPicPr>
            <p:cNvPr id="1132" name="" descr=""/>
            <p:cNvPicPr/>
            <p:nvPr/>
          </p:nvPicPr>
          <p:blipFill>
            <a:blip r:embed="rId2"/>
            <a:stretch/>
          </p:blipFill>
          <p:spPr>
            <a:xfrm flipH="1">
              <a:off x="5962320" y="3603600"/>
              <a:ext cx="273996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"/>
            <p:cNvSpPr/>
            <p:nvPr/>
          </p:nvSpPr>
          <p:spPr>
            <a:xfrm>
              <a:off x="7007400" y="533700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-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"/>
  </p:transition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fill="hold">
                      <p:stCondLst>
                        <p:cond delay="0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7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500"/>
                            </p:stCondLst>
                            <p:childTnLst>
                              <p:par>
                                <p:cTn id="1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6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3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05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3386160" y="85680"/>
            <a:ext cx="2332080" cy="1706760"/>
            <a:chOff x="3386160" y="85680"/>
            <a:chExt cx="2332080" cy="1706760"/>
          </a:xfrm>
        </p:grpSpPr>
        <p:grpSp>
          <p:nvGrpSpPr>
            <p:cNvPr id="1135" name=""/>
            <p:cNvGrpSpPr/>
            <p:nvPr/>
          </p:nvGrpSpPr>
          <p:grpSpPr>
            <a:xfrm>
              <a:off x="3386160" y="85680"/>
              <a:ext cx="2332080" cy="1706760"/>
              <a:chOff x="3386160" y="85680"/>
              <a:chExt cx="2332080" cy="1706760"/>
            </a:xfrm>
          </p:grpSpPr>
          <p:pic>
            <p:nvPicPr>
              <p:cNvPr id="11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86160" y="195120"/>
                <a:ext cx="2332080" cy="15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7" name=""/>
              <p:cNvSpPr/>
              <p:nvPr/>
            </p:nvSpPr>
            <p:spPr>
              <a:xfrm>
                <a:off x="3476880" y="85680"/>
                <a:ext cx="1533600" cy="1099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77353" dir="1136247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3300"/>
                    </a:solidFill>
                    <a:latin typeface="Times New Roman"/>
                  </a:rPr>
                  <a:t>Bar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8" name=""/>
            <p:cNvSpPr txBox="1"/>
            <p:nvPr/>
          </p:nvSpPr>
          <p:spPr>
            <a:xfrm>
              <a:off x="3652920" y="1109520"/>
              <a:ext cx="19717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>
                      <a:alpha val="50000"/>
                    </a:srgbClr>
                  </a:solidFill>
                  <a:latin typeface="Times New Roman"/>
                </a:rPr>
                <a:t>Chart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1967040" y="2352600"/>
            <a:ext cx="5343480" cy="3114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8100000"/>
          </a:gradFill>
          <a:ln w="0">
            <a:noFill/>
          </a:ln>
          <a:effectLst>
            <a:outerShdw dist="188838" dir="826225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71680" indent="-22572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Use bar charts also               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order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                   in which qualitative data are presented         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s meaningful.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"/>
          <p:cNvGrpSpPr/>
          <p:nvPr/>
        </p:nvGrpSpPr>
        <p:grpSpPr>
          <a:xfrm>
            <a:off x="0" y="1228680"/>
            <a:ext cx="8791200" cy="5221080"/>
            <a:chOff x="0" y="1228680"/>
            <a:chExt cx="8791200" cy="5221080"/>
          </a:xfrm>
        </p:grpSpPr>
        <p:pic>
          <p:nvPicPr>
            <p:cNvPr id="1141" name="" descr=""/>
            <p:cNvPicPr/>
            <p:nvPr/>
          </p:nvPicPr>
          <p:blipFill>
            <a:blip r:embed="rId1"/>
            <a:srcRect l="0" t="22000" r="6623" b="31034"/>
            <a:stretch/>
          </p:blipFill>
          <p:spPr>
            <a:xfrm>
              <a:off x="389160" y="1228680"/>
              <a:ext cx="8372160" cy="22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" descr=""/>
            <p:cNvPicPr/>
            <p:nvPr/>
          </p:nvPicPr>
          <p:blipFill>
            <a:blip r:embed="rId2"/>
            <a:srcRect l="-4308" t="21666" r="6240" b="8335"/>
            <a:stretch/>
          </p:blipFill>
          <p:spPr>
            <a:xfrm>
              <a:off x="0" y="3376440"/>
              <a:ext cx="8791200" cy="307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"/>
          <p:cNvSpPr/>
          <p:nvPr/>
        </p:nvSpPr>
        <p:spPr>
          <a:xfrm>
            <a:off x="1289880" y="3987720"/>
            <a:ext cx="654804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How could we chart this dat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3386160" y="85680"/>
            <a:ext cx="1731960" cy="1106640"/>
            <a:chOff x="3386160" y="85680"/>
            <a:chExt cx="1731960" cy="1106640"/>
          </a:xfrm>
        </p:grpSpPr>
        <p:grpSp>
          <p:nvGrpSpPr>
            <p:cNvPr id="1145" name=""/>
            <p:cNvGrpSpPr/>
            <p:nvPr/>
          </p:nvGrpSpPr>
          <p:grpSpPr>
            <a:xfrm>
              <a:off x="3386160" y="85680"/>
              <a:ext cx="1731960" cy="1106640"/>
              <a:chOff x="3386160" y="85680"/>
              <a:chExt cx="1731960" cy="1106640"/>
            </a:xfrm>
          </p:grpSpPr>
          <p:pic>
            <p:nvPicPr>
              <p:cNvPr id="114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86160" y="156600"/>
                <a:ext cx="1731960" cy="103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7" name=""/>
              <p:cNvSpPr/>
              <p:nvPr/>
            </p:nvSpPr>
            <p:spPr>
              <a:xfrm>
                <a:off x="3453480" y="85680"/>
                <a:ext cx="1138680" cy="764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77353" dir="1136247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3300"/>
                    </a:solidFill>
                    <a:latin typeface="Times New Roman"/>
                  </a:rPr>
                  <a:t>Bar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8" name=""/>
            <p:cNvSpPr txBox="1"/>
            <p:nvPr/>
          </p:nvSpPr>
          <p:spPr>
            <a:xfrm>
              <a:off x="3584160" y="749520"/>
              <a:ext cx="1464120" cy="33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>
                      <a:alpha val="50000"/>
                    </a:srgbClr>
                  </a:solidFill>
                  <a:latin typeface="Times New Roman"/>
                </a:rPr>
                <a:t>Chart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Times New Roman"/>
                <a:ea typeface="Times New Roman"/>
              </a:endParaRPr>
            </a:p>
          </p:txBody>
        </p:sp>
      </p:grpSp>
    </p:spTree>
  </p:cSld>
  <p:transition>
    <p:dissolve/>
  </p:transition>
  <p:timing>
    <p:tnLst>
      <p:par>
        <p:cTn id="1606" dur="indefinite" restart="never" nodeType="tmRoot">
          <p:childTnLst>
            <p:seq>
              <p:cTn id="1607" dur="indefinite" nodeType="mainSeq">
                <p:childTnLst>
                  <p:par>
                    <p:cTn id="1608" fill="hold">
                      <p:stCondLst>
                        <p:cond delay="0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2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7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9" name="" descr=""/>
          <p:cNvPicPr/>
          <p:nvPr/>
        </p:nvPicPr>
        <p:blipFill>
          <a:blip r:embed="rId1"/>
          <a:srcRect l="0" t="12399" r="0" b="0"/>
          <a:stretch/>
        </p:blipFill>
        <p:spPr>
          <a:xfrm>
            <a:off x="3411360" y="1873080"/>
            <a:ext cx="5334120" cy="3861000"/>
          </a:xfrm>
          <a:prstGeom prst="rect">
            <a:avLst/>
          </a:prstGeom>
          <a:ln w="0">
            <a:noFill/>
          </a:ln>
        </p:spPr>
      </p:pic>
      <p:grpSp>
        <p:nvGrpSpPr>
          <p:cNvPr id="1150" name=""/>
          <p:cNvGrpSpPr/>
          <p:nvPr/>
        </p:nvGrpSpPr>
        <p:grpSpPr>
          <a:xfrm>
            <a:off x="3386160" y="85680"/>
            <a:ext cx="2332080" cy="1706760"/>
            <a:chOff x="3386160" y="85680"/>
            <a:chExt cx="2332080" cy="1706760"/>
          </a:xfrm>
        </p:grpSpPr>
        <p:grpSp>
          <p:nvGrpSpPr>
            <p:cNvPr id="1151" name=""/>
            <p:cNvGrpSpPr/>
            <p:nvPr/>
          </p:nvGrpSpPr>
          <p:grpSpPr>
            <a:xfrm>
              <a:off x="3386160" y="85680"/>
              <a:ext cx="2332080" cy="1706760"/>
              <a:chOff x="3386160" y="85680"/>
              <a:chExt cx="2332080" cy="1706760"/>
            </a:xfrm>
          </p:grpSpPr>
          <p:pic>
            <p:nvPicPr>
              <p:cNvPr id="11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86160" y="195120"/>
                <a:ext cx="2332080" cy="15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3" name=""/>
              <p:cNvSpPr/>
              <p:nvPr/>
            </p:nvSpPr>
            <p:spPr>
              <a:xfrm>
                <a:off x="3476880" y="85680"/>
                <a:ext cx="1533600" cy="1099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77353" dir="1136247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3300"/>
                    </a:solidFill>
                    <a:latin typeface="Times New Roman"/>
                  </a:rPr>
                  <a:t>Bar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4" name=""/>
            <p:cNvSpPr txBox="1"/>
            <p:nvPr/>
          </p:nvSpPr>
          <p:spPr>
            <a:xfrm>
              <a:off x="3652920" y="1109520"/>
              <a:ext cx="19717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>
                      <a:alpha val="50000"/>
                    </a:srgbClr>
                  </a:solidFill>
                  <a:latin typeface="Times New Roman"/>
                </a:rPr>
                <a:t>Chart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43080" y="3333600"/>
            <a:ext cx="2822400" cy="825480"/>
          </a:xfrm>
          <a:prstGeom prst="rect">
            <a:avLst/>
          </a:prstGeom>
          <a:gradFill rotWithShape="0">
            <a:gsLst>
              <a:gs pos="0">
                <a:srgbClr val="9c93db"/>
              </a:gs>
              <a:gs pos="50000">
                <a:srgbClr val="fefefe"/>
              </a:gs>
              <a:gs pos="100000">
                <a:srgbClr val="9c93db"/>
              </a:gs>
            </a:gsLst>
            <a:lin ang="8100000"/>
          </a:gradFill>
          <a:ln w="0">
            <a:noFill/>
          </a:ln>
          <a:effectLst>
            <a:outerShdw dist="155100" dir="749886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Excel we can produce th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4564080" y="5905440"/>
            <a:ext cx="4037040" cy="581400"/>
            <a:chOff x="4564080" y="5905440"/>
            <a:chExt cx="4037040" cy="581400"/>
          </a:xfrm>
        </p:grpSpPr>
        <p:sp>
          <p:nvSpPr>
            <p:cNvPr id="1157" name=""/>
            <p:cNvSpPr/>
            <p:nvPr/>
          </p:nvSpPr>
          <p:spPr>
            <a:xfrm>
              <a:off x="4564080" y="6229440"/>
              <a:ext cx="4037040" cy="28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005080" y="5905440"/>
              <a:ext cx="3088440" cy="581400"/>
            </a:xfrm>
            <a:prstGeom prst="rect">
              <a:avLst/>
            </a:prstGeom>
            <a:gradFill rotWithShape="0">
              <a:gsLst>
                <a:gs pos="0">
                  <a:srgbClr val="9c93db"/>
                </a:gs>
                <a:gs pos="50000">
                  <a:srgbClr val="fefefe"/>
                </a:gs>
                <a:gs pos="100000">
                  <a:srgbClr val="9c93db"/>
                </a:gs>
              </a:gsLst>
              <a:lin ang="5400000"/>
            </a:gradFill>
            <a:ln w="0">
              <a:noFill/>
            </a:ln>
            <a:effectLst>
              <a:outerShdw dist="159170" dir="908089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ther formats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0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4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500"/>
                            </p:stCondLst>
                            <p:childTnLst>
                              <p:par>
                                <p:cTn id="16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28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0560" y="3286080"/>
            <a:ext cx="4230720" cy="2171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7240" y="1441440"/>
            <a:ext cx="462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3101"/>
                </a:solidFill>
                <a:latin typeface="Times New Roman"/>
              </a:rPr>
              <a:t>Frequency Distribu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2800" spc="-1" strike="noStrike">
                <a:solidFill>
                  <a:srgbClr val="ff3101"/>
                </a:solidFill>
                <a:latin typeface="Times New Roman"/>
              </a:rPr>
              <a:t>grouping of data into                non-overlapping class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6a789c"/>
                </a:solidFill>
                <a:latin typeface="Times New Roman"/>
              </a:rPr>
              <a:t>mutually exclusi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080" y="3409920"/>
            <a:ext cx="4111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wing the</a:t>
            </a:r>
            <a:r>
              <a:rPr b="1" lang="en-US" sz="2800" spc="-1" strike="noStrike">
                <a:solidFill>
                  <a:srgbClr val="4db14b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ff3101"/>
                </a:solidFill>
                <a:latin typeface="Times New Roman"/>
              </a:rPr>
              <a:t>number of observations</a:t>
            </a:r>
            <a:r>
              <a:rPr b="1" lang="en-US" sz="2800" spc="-1" strike="noStrike">
                <a:solidFill>
                  <a:srgbClr val="4db14b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3101"/>
                </a:solidFill>
                <a:latin typeface="Times New Roman"/>
              </a:rPr>
              <a:t>in each category                      or clas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5600" y="5495760"/>
            <a:ext cx="8089920" cy="97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62651" dir="771721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ange of catego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ll value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in the data s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llectivel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exhaustive class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rcRect l="0" t="0" r="50796" b="0"/>
          <a:stretch/>
        </p:blipFill>
        <p:spPr>
          <a:xfrm>
            <a:off x="4829040" y="1236600"/>
            <a:ext cx="3943440" cy="1944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248680" y="3295800"/>
            <a:ext cx="399960" cy="581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8286840" y="3648240"/>
            <a:ext cx="399960" cy="581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8296200" y="4029120"/>
            <a:ext cx="399960" cy="581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8277120" y="4324320"/>
            <a:ext cx="400320" cy="581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8286840" y="4648320"/>
            <a:ext cx="399960" cy="581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548160" y="361800"/>
            <a:ext cx="2000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ff3101"/>
                    </a:gs>
                    <a:gs pos="100000">
                      <a:srgbClr val="fefefe"/>
                    </a:gs>
                  </a:gsLst>
                  <a:lin ang="8100000"/>
                </a:gradFill>
                <a:effectLst>
                  <a:outerShdw dist="440703" dir="13289384" blurRad="0" rotWithShape="0">
                    <a:srgbClr val="b2b2b2"/>
                  </a:outerShdw>
                </a:effectLst>
                <a:latin typeface="Times New Roman"/>
              </a:rPr>
              <a:t>Frequency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ff3101"/>
                  </a:gs>
                  <a:gs pos="100000">
                    <a:srgbClr val="fefefe"/>
                  </a:gs>
                </a:gsLst>
                <a:lin ang="8100000"/>
              </a:gradFill>
              <a:effectLst>
                <a:outerShdw dist="440703" dir="13289384" blurRad="0" rotWithShape="0">
                  <a:srgbClr val="b2b2b2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ff3101"/>
                    </a:gs>
                    <a:gs pos="100000">
                      <a:srgbClr val="fefefe"/>
                    </a:gs>
                  </a:gsLst>
                  <a:lin ang="8100000"/>
                </a:gradFill>
                <a:effectLst>
                  <a:outerShdw dist="440703" dir="13289384" blurRad="0" rotWithShape="0">
                    <a:srgbClr val="b2b2b2"/>
                  </a:outerShdw>
                </a:effectLst>
                <a:latin typeface="Times New Roman"/>
              </a:rPr>
              <a:t>Distribution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ff3101"/>
                  </a:gs>
                  <a:gs pos="100000">
                    <a:srgbClr val="fefefe"/>
                  </a:gs>
                </a:gsLst>
                <a:lin ang="8100000"/>
              </a:gradFill>
              <a:effectLst>
                <a:outerShdw dist="440703" dir="13289384" blurRad="0" rotWithShape="0">
                  <a:srgbClr val="b2b2b2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9" name=""/>
          <p:cNvGrpSpPr/>
          <p:nvPr/>
        </p:nvGrpSpPr>
        <p:grpSpPr>
          <a:xfrm>
            <a:off x="92160" y="471600"/>
            <a:ext cx="3286080" cy="6107040"/>
            <a:chOff x="92160" y="471600"/>
            <a:chExt cx="3286080" cy="6107040"/>
          </a:xfrm>
        </p:grpSpPr>
        <p:sp>
          <p:nvSpPr>
            <p:cNvPr id="1160" name=""/>
            <p:cNvSpPr/>
            <p:nvPr/>
          </p:nvSpPr>
          <p:spPr>
            <a:xfrm>
              <a:off x="1803600" y="839880"/>
              <a:ext cx="1504800" cy="4870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ffd1"/>
                  </a:solidFill>
                  <a:latin typeface="Times New Roman"/>
                </a:rPr>
                <a:t>Employment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030320" y="471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030320" y="7509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147120" y="7509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22400" y="1079640"/>
              <a:ext cx="1415880" cy="243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10000"/>
                  </a:solidFill>
                  <a:latin typeface="Times New Roman"/>
                </a:rPr>
                <a:t>Canadian 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5" name=""/>
            <p:cNvGrpSpPr/>
            <p:nvPr/>
          </p:nvGrpSpPr>
          <p:grpSpPr>
            <a:xfrm>
              <a:off x="92160" y="1384200"/>
              <a:ext cx="3286080" cy="5194440"/>
              <a:chOff x="92160" y="1384200"/>
              <a:chExt cx="3286080" cy="5194440"/>
            </a:xfrm>
          </p:grpSpPr>
          <p:grpSp>
            <p:nvGrpSpPr>
              <p:cNvPr id="1166" name=""/>
              <p:cNvGrpSpPr/>
              <p:nvPr/>
            </p:nvGrpSpPr>
            <p:grpSpPr>
              <a:xfrm>
                <a:off x="258120" y="1420920"/>
                <a:ext cx="2583000" cy="243720"/>
                <a:chOff x="258120" y="1420920"/>
                <a:chExt cx="2583000" cy="24372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258120" y="1420920"/>
                  <a:ext cx="7110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Victor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997200" y="14209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382120" y="142092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57.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790000" y="14209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1" name=""/>
              <p:cNvGrpSpPr/>
              <p:nvPr/>
            </p:nvGrpSpPr>
            <p:grpSpPr>
              <a:xfrm>
                <a:off x="104760" y="6261120"/>
                <a:ext cx="3273120" cy="311040"/>
                <a:chOff x="104760" y="6261120"/>
                <a:chExt cx="3273120" cy="31104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273960" y="6261120"/>
                  <a:ext cx="643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Halifa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935280" y="62611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412000" y="626112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0.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819880" y="62611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104760" y="6572160"/>
                  <a:ext cx="3273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7" name=""/>
              <p:cNvGrpSpPr/>
              <p:nvPr/>
            </p:nvGrpSpPr>
            <p:grpSpPr>
              <a:xfrm>
                <a:off x="104760" y="5924520"/>
                <a:ext cx="3273480" cy="318960"/>
                <a:chOff x="104760" y="5924520"/>
                <a:chExt cx="3273480" cy="318960"/>
              </a:xfrm>
            </p:grpSpPr>
            <p:sp>
              <p:nvSpPr>
                <p:cNvPr id="1178" name=""/>
                <p:cNvSpPr/>
                <p:nvPr/>
              </p:nvSpPr>
              <p:spPr>
                <a:xfrm>
                  <a:off x="278280" y="5924520"/>
                  <a:ext cx="8128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Montre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127160" y="59245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399400" y="592452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0.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2807280" y="59245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104760" y="6243480"/>
                  <a:ext cx="327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3" name=""/>
              <p:cNvGrpSpPr/>
              <p:nvPr/>
            </p:nvGrpSpPr>
            <p:grpSpPr>
              <a:xfrm>
                <a:off x="104760" y="5610240"/>
                <a:ext cx="3273480" cy="331920"/>
                <a:chOff x="104760" y="5610240"/>
                <a:chExt cx="3273480" cy="3319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302400" y="5610240"/>
                  <a:ext cx="10155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Sherbrook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1383120" y="561024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388240" y="561024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59.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2796120" y="561024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104760" y="5942160"/>
                  <a:ext cx="327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9" name=""/>
              <p:cNvGrpSpPr/>
              <p:nvPr/>
            </p:nvGrpSpPr>
            <p:grpSpPr>
              <a:xfrm>
                <a:off x="104760" y="5297400"/>
                <a:ext cx="3254400" cy="299880"/>
                <a:chOff x="104760" y="5297400"/>
                <a:chExt cx="3254400" cy="299880"/>
              </a:xfrm>
            </p:grpSpPr>
            <p:sp>
              <p:nvSpPr>
                <p:cNvPr id="1190" name=""/>
                <p:cNvSpPr/>
                <p:nvPr/>
              </p:nvSpPr>
              <p:spPr>
                <a:xfrm>
                  <a:off x="273240" y="5297400"/>
                  <a:ext cx="6530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Quebe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84240" y="529740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2369160" y="529740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59.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777040" y="529740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 flipV="1">
                  <a:off x="104760" y="5595840"/>
                  <a:ext cx="32544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5" name=""/>
              <p:cNvGrpSpPr/>
              <p:nvPr/>
            </p:nvGrpSpPr>
            <p:grpSpPr>
              <a:xfrm>
                <a:off x="104760" y="4948200"/>
                <a:ext cx="3273120" cy="315720"/>
                <a:chOff x="104760" y="4948200"/>
                <a:chExt cx="3273120" cy="315720"/>
              </a:xfrm>
            </p:grpSpPr>
            <p:sp>
              <p:nvSpPr>
                <p:cNvPr id="1196" name=""/>
                <p:cNvSpPr/>
                <p:nvPr/>
              </p:nvSpPr>
              <p:spPr>
                <a:xfrm>
                  <a:off x="296280" y="4948200"/>
                  <a:ext cx="712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Toront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046160" y="494820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412000" y="494820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5.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2819880" y="494820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04760" y="5263920"/>
                  <a:ext cx="3273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104760" y="4610160"/>
                <a:ext cx="3273120" cy="303120"/>
                <a:chOff x="104760" y="4610160"/>
                <a:chExt cx="3273120" cy="30312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278280" y="4610160"/>
                  <a:ext cx="823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Hamilt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122120" y="461016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412000" y="461016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3.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819880" y="461016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104760" y="4913280"/>
                  <a:ext cx="3273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7" name=""/>
              <p:cNvGrpSpPr/>
              <p:nvPr/>
            </p:nvGrpSpPr>
            <p:grpSpPr>
              <a:xfrm>
                <a:off x="104760" y="4273560"/>
                <a:ext cx="3273480" cy="276120"/>
                <a:chOff x="104760" y="4273560"/>
                <a:chExt cx="3273480" cy="276120"/>
              </a:xfrm>
            </p:grpSpPr>
            <p:sp>
              <p:nvSpPr>
                <p:cNvPr id="1208" name=""/>
                <p:cNvSpPr/>
                <p:nvPr/>
              </p:nvSpPr>
              <p:spPr>
                <a:xfrm>
                  <a:off x="311760" y="4273560"/>
                  <a:ext cx="866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Kitchen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1211040" y="427356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423160" y="427356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6.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2831040" y="427356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104760" y="4549680"/>
                  <a:ext cx="327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" name=""/>
              <p:cNvGrpSpPr/>
              <p:nvPr/>
            </p:nvGrpSpPr>
            <p:grpSpPr>
              <a:xfrm>
                <a:off x="104760" y="3921120"/>
                <a:ext cx="3273120" cy="276120"/>
                <a:chOff x="104760" y="3921120"/>
                <a:chExt cx="3273120" cy="27612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297000" y="3921120"/>
                  <a:ext cx="678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Lond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1013040" y="39211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2412000" y="392112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3.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819880" y="39211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104760" y="4197240"/>
                  <a:ext cx="3273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"/>
              <p:cNvGrpSpPr/>
              <p:nvPr/>
            </p:nvGrpSpPr>
            <p:grpSpPr>
              <a:xfrm>
                <a:off x="104760" y="3557520"/>
                <a:ext cx="3273120" cy="311040"/>
                <a:chOff x="104760" y="3557520"/>
                <a:chExt cx="3273120" cy="311040"/>
              </a:xfrm>
            </p:grpSpPr>
            <p:sp>
              <p:nvSpPr>
                <p:cNvPr id="1220" name=""/>
                <p:cNvSpPr/>
                <p:nvPr/>
              </p:nvSpPr>
              <p:spPr>
                <a:xfrm>
                  <a:off x="302400" y="3557520"/>
                  <a:ext cx="1157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Thunder Ba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412000" y="355752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1.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819880" y="35575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104760" y="3868560"/>
                  <a:ext cx="3273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4" name=""/>
              <p:cNvGrpSpPr/>
              <p:nvPr/>
            </p:nvGrpSpPr>
            <p:grpSpPr>
              <a:xfrm>
                <a:off x="104760" y="3144960"/>
                <a:ext cx="3273120" cy="320400"/>
                <a:chOff x="104760" y="3144960"/>
                <a:chExt cx="3273120" cy="320400"/>
              </a:xfrm>
            </p:grpSpPr>
            <p:sp>
              <p:nvSpPr>
                <p:cNvPr id="1225" name=""/>
                <p:cNvSpPr/>
                <p:nvPr/>
              </p:nvSpPr>
              <p:spPr>
                <a:xfrm>
                  <a:off x="282240" y="3144960"/>
                  <a:ext cx="6102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Regin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915840" y="314496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2412000" y="314496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7.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819880" y="314496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104760" y="3465360"/>
                  <a:ext cx="3273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104760" y="2782800"/>
                <a:ext cx="3273120" cy="341280"/>
                <a:chOff x="104760" y="2782800"/>
                <a:chExt cx="3273120" cy="34128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322200" y="2782800"/>
                  <a:ext cx="8938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Saskato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1283040" y="278280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2412000" y="278280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3.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819880" y="278280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104760" y="3124080"/>
                  <a:ext cx="3273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104760" y="2133720"/>
                <a:ext cx="3273120" cy="312480"/>
                <a:chOff x="104760" y="2133720"/>
                <a:chExt cx="3273120" cy="31248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298080" y="2133720"/>
                  <a:ext cx="915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Edmont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1250640" y="21337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2412000" y="213372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7.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2819880" y="21337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104760" y="2446200"/>
                  <a:ext cx="3273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2" name=""/>
              <p:cNvGrpSpPr/>
              <p:nvPr/>
            </p:nvGrpSpPr>
            <p:grpSpPr>
              <a:xfrm>
                <a:off x="104760" y="1768320"/>
                <a:ext cx="3273480" cy="300240"/>
                <a:chOff x="104760" y="1768320"/>
                <a:chExt cx="3273480" cy="30024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290880" y="1768320"/>
                  <a:ext cx="948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Vancou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1289520" y="17683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2388240" y="176832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1.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2796120" y="17683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104760" y="2068560"/>
                  <a:ext cx="327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8" name=""/>
              <p:cNvGrpSpPr/>
              <p:nvPr/>
            </p:nvGrpSpPr>
            <p:grpSpPr>
              <a:xfrm>
                <a:off x="103320" y="2471760"/>
                <a:ext cx="3273480" cy="312840"/>
                <a:chOff x="103320" y="2471760"/>
                <a:chExt cx="3273480" cy="312840"/>
              </a:xfrm>
            </p:grpSpPr>
            <p:sp>
              <p:nvSpPr>
                <p:cNvPr id="1249" name=""/>
                <p:cNvSpPr/>
                <p:nvPr/>
              </p:nvSpPr>
              <p:spPr>
                <a:xfrm>
                  <a:off x="265680" y="2471760"/>
                  <a:ext cx="8467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Winnipe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1148040" y="247176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2386800" y="247176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6.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794680" y="247176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103320" y="2784600"/>
                  <a:ext cx="3273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4" name=""/>
              <p:cNvSpPr/>
              <p:nvPr/>
            </p:nvSpPr>
            <p:spPr>
              <a:xfrm>
                <a:off x="104760" y="1714680"/>
                <a:ext cx="323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92160" y="1384200"/>
                <a:ext cx="3273480" cy="51944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6" name=""/>
          <p:cNvGrpSpPr/>
          <p:nvPr/>
        </p:nvGrpSpPr>
        <p:grpSpPr>
          <a:xfrm>
            <a:off x="3386160" y="85680"/>
            <a:ext cx="2332080" cy="1706760"/>
            <a:chOff x="3386160" y="85680"/>
            <a:chExt cx="2332080" cy="1706760"/>
          </a:xfrm>
        </p:grpSpPr>
        <p:grpSp>
          <p:nvGrpSpPr>
            <p:cNvPr id="1257" name=""/>
            <p:cNvGrpSpPr/>
            <p:nvPr/>
          </p:nvGrpSpPr>
          <p:grpSpPr>
            <a:xfrm>
              <a:off x="3386160" y="85680"/>
              <a:ext cx="2332080" cy="1706760"/>
              <a:chOff x="3386160" y="85680"/>
              <a:chExt cx="2332080" cy="1706760"/>
            </a:xfrm>
          </p:grpSpPr>
          <p:pic>
            <p:nvPicPr>
              <p:cNvPr id="12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86160" y="195120"/>
                <a:ext cx="2332080" cy="15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9" name=""/>
              <p:cNvSpPr/>
              <p:nvPr/>
            </p:nvSpPr>
            <p:spPr>
              <a:xfrm>
                <a:off x="3476880" y="85680"/>
                <a:ext cx="1533600" cy="1099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77353" dir="1136247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3300"/>
                    </a:solidFill>
                    <a:latin typeface="Times New Roman"/>
                  </a:rPr>
                  <a:t>Bar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0" name=""/>
            <p:cNvSpPr txBox="1"/>
            <p:nvPr/>
          </p:nvSpPr>
          <p:spPr>
            <a:xfrm>
              <a:off x="3652920" y="1109520"/>
              <a:ext cx="19717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>
                      <a:alpha val="50000"/>
                    </a:srgbClr>
                  </a:solidFill>
                  <a:latin typeface="Times New Roman"/>
                </a:rPr>
                <a:t>Chart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4019400" y="2363760"/>
            <a:ext cx="4781880" cy="33148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3705480" y="2490840"/>
            <a:ext cx="5058000" cy="4047480"/>
            <a:chOff x="3705480" y="2490840"/>
            <a:chExt cx="5058000" cy="4047480"/>
          </a:xfrm>
        </p:grpSpPr>
        <p:grpSp>
          <p:nvGrpSpPr>
            <p:cNvPr id="1263" name=""/>
            <p:cNvGrpSpPr/>
            <p:nvPr/>
          </p:nvGrpSpPr>
          <p:grpSpPr>
            <a:xfrm>
              <a:off x="8305560" y="3906360"/>
              <a:ext cx="457920" cy="2345760"/>
              <a:chOff x="8305560" y="3906360"/>
              <a:chExt cx="457920" cy="2345760"/>
            </a:xfrm>
          </p:grpSpPr>
          <p:sp>
            <p:nvSpPr>
              <p:cNvPr id="1264" name=""/>
              <p:cNvSpPr/>
              <p:nvPr/>
            </p:nvSpPr>
            <p:spPr>
              <a:xfrm flipH="1">
                <a:off x="8613000" y="3906360"/>
                <a:ext cx="142560" cy="17377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rot="19140000">
                <a:off x="8303760" y="5953320"/>
                <a:ext cx="46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Halifa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7864920" y="3920760"/>
              <a:ext cx="558720" cy="2476080"/>
              <a:chOff x="7864920" y="3920760"/>
              <a:chExt cx="558720" cy="2476080"/>
            </a:xfrm>
          </p:grpSpPr>
          <p:sp>
            <p:nvSpPr>
              <p:cNvPr id="1267" name=""/>
              <p:cNvSpPr/>
              <p:nvPr/>
            </p:nvSpPr>
            <p:spPr>
              <a:xfrm flipH="1">
                <a:off x="8291880" y="3920760"/>
                <a:ext cx="131400" cy="1723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19140000">
                <a:off x="7848000" y="6057000"/>
                <a:ext cx="586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Montre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7445880" y="4163760"/>
              <a:ext cx="697320" cy="2354760"/>
              <a:chOff x="7445880" y="4163760"/>
              <a:chExt cx="697320" cy="2354760"/>
            </a:xfrm>
          </p:grpSpPr>
          <p:sp>
            <p:nvSpPr>
              <p:cNvPr id="1270" name=""/>
              <p:cNvSpPr/>
              <p:nvPr/>
            </p:nvSpPr>
            <p:spPr>
              <a:xfrm flipH="1">
                <a:off x="7959240" y="4163760"/>
                <a:ext cx="143640" cy="14803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rot="19140000">
                <a:off x="7405200" y="6115680"/>
                <a:ext cx="777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Sherbrook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7259760" y="4066920"/>
              <a:ext cx="511200" cy="2195280"/>
              <a:chOff x="7259760" y="4066920"/>
              <a:chExt cx="511200" cy="2195280"/>
            </a:xfrm>
          </p:grpSpPr>
          <p:sp>
            <p:nvSpPr>
              <p:cNvPr id="1273" name=""/>
              <p:cNvSpPr/>
              <p:nvPr/>
            </p:nvSpPr>
            <p:spPr>
              <a:xfrm flipH="1">
                <a:off x="7642080" y="4066920"/>
                <a:ext cx="128520" cy="157716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rot="19140000">
                <a:off x="7251480" y="5946120"/>
                <a:ext cx="514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Quebe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5" name=""/>
            <p:cNvGrpSpPr/>
            <p:nvPr/>
          </p:nvGrpSpPr>
          <p:grpSpPr>
            <a:xfrm>
              <a:off x="6983640" y="2960640"/>
              <a:ext cx="509760" cy="3383640"/>
              <a:chOff x="6983640" y="2960640"/>
              <a:chExt cx="509760" cy="3383640"/>
            </a:xfrm>
          </p:grpSpPr>
          <p:sp>
            <p:nvSpPr>
              <p:cNvPr id="1276" name=""/>
              <p:cNvSpPr/>
              <p:nvPr/>
            </p:nvSpPr>
            <p:spPr>
              <a:xfrm flipH="1">
                <a:off x="7305840" y="2960640"/>
                <a:ext cx="145080" cy="268344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19140000">
                <a:off x="6973560" y="6023160"/>
                <a:ext cx="529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Toront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6625080" y="3351600"/>
              <a:ext cx="563760" cy="2967480"/>
              <a:chOff x="6625080" y="3351600"/>
              <a:chExt cx="563760" cy="2967480"/>
            </a:xfrm>
          </p:grpSpPr>
          <p:sp>
            <p:nvSpPr>
              <p:cNvPr id="1279" name=""/>
              <p:cNvSpPr/>
              <p:nvPr/>
            </p:nvSpPr>
            <p:spPr>
              <a:xfrm flipH="1">
                <a:off x="6989040" y="3351600"/>
                <a:ext cx="128880" cy="229284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19140000">
                <a:off x="6606360" y="5974560"/>
                <a:ext cx="601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Hamilt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248160" y="2768040"/>
              <a:ext cx="598320" cy="3638520"/>
              <a:chOff x="6248160" y="2768040"/>
              <a:chExt cx="598320" cy="3638520"/>
            </a:xfrm>
          </p:grpSpPr>
          <p:sp>
            <p:nvSpPr>
              <p:cNvPr id="1282" name=""/>
              <p:cNvSpPr/>
              <p:nvPr/>
            </p:nvSpPr>
            <p:spPr>
              <a:xfrm flipH="1">
                <a:off x="6658200" y="2768040"/>
                <a:ext cx="142560" cy="287568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rot="19140000">
                <a:off x="6223680" y="6046920"/>
                <a:ext cx="646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Kitchen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5901480" y="3319200"/>
              <a:ext cx="565920" cy="3003120"/>
              <a:chOff x="5901480" y="3319200"/>
              <a:chExt cx="565920" cy="3003120"/>
            </a:xfrm>
          </p:grpSpPr>
          <p:sp>
            <p:nvSpPr>
              <p:cNvPr id="1285" name=""/>
              <p:cNvSpPr/>
              <p:nvPr/>
            </p:nvSpPr>
            <p:spPr>
              <a:xfrm flipH="1">
                <a:off x="6336360" y="3319200"/>
                <a:ext cx="131040" cy="23245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19140000">
                <a:off x="5893560" y="6006600"/>
                <a:ext cx="512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Lond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5415480" y="3807360"/>
              <a:ext cx="756000" cy="2730960"/>
              <a:chOff x="5415480" y="3807360"/>
              <a:chExt cx="756000" cy="2730960"/>
            </a:xfrm>
          </p:grpSpPr>
          <p:sp>
            <p:nvSpPr>
              <p:cNvPr id="1288" name=""/>
              <p:cNvSpPr/>
              <p:nvPr/>
            </p:nvSpPr>
            <p:spPr>
              <a:xfrm flipH="1">
                <a:off x="6004800" y="3807360"/>
                <a:ext cx="141840" cy="18367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rot="19140000">
                <a:off x="5365440" y="6110280"/>
                <a:ext cx="855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Thunder Ba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5363640" y="2490840"/>
              <a:ext cx="462600" cy="3805920"/>
              <a:chOff x="5363640" y="2490840"/>
              <a:chExt cx="462600" cy="3805920"/>
            </a:xfrm>
          </p:grpSpPr>
          <p:sp>
            <p:nvSpPr>
              <p:cNvPr id="1291" name=""/>
              <p:cNvSpPr/>
              <p:nvPr/>
            </p:nvSpPr>
            <p:spPr>
              <a:xfrm flipH="1">
                <a:off x="5683320" y="2490840"/>
                <a:ext cx="131040" cy="315288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19140000">
                <a:off x="5361120" y="5996160"/>
                <a:ext cx="466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Regin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4898880" y="3238200"/>
              <a:ext cx="644040" cy="3205080"/>
              <a:chOff x="4898880" y="3238200"/>
              <a:chExt cx="644040" cy="3205080"/>
            </a:xfrm>
          </p:grpSpPr>
          <p:sp>
            <p:nvSpPr>
              <p:cNvPr id="1294" name=""/>
              <p:cNvSpPr/>
              <p:nvPr/>
            </p:nvSpPr>
            <p:spPr>
              <a:xfrm flipH="1">
                <a:off x="5351040" y="3238200"/>
                <a:ext cx="142200" cy="240624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19140000">
                <a:off x="4866840" y="6063480"/>
                <a:ext cx="707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Saskato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4619160" y="2638440"/>
              <a:ext cx="586800" cy="3708000"/>
              <a:chOff x="4619160" y="2638440"/>
              <a:chExt cx="586800" cy="3708000"/>
            </a:xfrm>
          </p:grpSpPr>
          <p:sp>
            <p:nvSpPr>
              <p:cNvPr id="1297" name=""/>
              <p:cNvSpPr/>
              <p:nvPr/>
            </p:nvSpPr>
            <p:spPr>
              <a:xfrm flipH="1">
                <a:off x="5031000" y="2638440"/>
                <a:ext cx="129600" cy="300528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rot="19140000">
                <a:off x="4596480" y="5991840"/>
                <a:ext cx="631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Winnipe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4227480" y="2555280"/>
              <a:ext cx="632880" cy="3839760"/>
              <a:chOff x="4227480" y="2555280"/>
              <a:chExt cx="632880" cy="3839760"/>
            </a:xfrm>
          </p:grpSpPr>
          <p:sp>
            <p:nvSpPr>
              <p:cNvPr id="1300" name=""/>
              <p:cNvSpPr/>
              <p:nvPr/>
            </p:nvSpPr>
            <p:spPr>
              <a:xfrm flipH="1">
                <a:off x="4698000" y="2555280"/>
                <a:ext cx="142200" cy="308844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rot="19140000">
                <a:off x="4197240" y="6020280"/>
                <a:ext cx="692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Edmont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3853800" y="3710160"/>
              <a:ext cx="653400" cy="2678040"/>
              <a:chOff x="3853800" y="3710160"/>
              <a:chExt cx="653400" cy="2678040"/>
            </a:xfrm>
          </p:grpSpPr>
          <p:sp>
            <p:nvSpPr>
              <p:cNvPr id="1303" name=""/>
              <p:cNvSpPr/>
              <p:nvPr/>
            </p:nvSpPr>
            <p:spPr>
              <a:xfrm flipH="1">
                <a:off x="4376880" y="3710160"/>
                <a:ext cx="129960" cy="19339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rot="19140000">
                <a:off x="3821040" y="600624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Vancouv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3705480" y="4473720"/>
              <a:ext cx="499680" cy="1796760"/>
              <a:chOff x="3705480" y="4473720"/>
              <a:chExt cx="499680" cy="1796760"/>
            </a:xfrm>
          </p:grpSpPr>
          <p:sp>
            <p:nvSpPr>
              <p:cNvPr id="1306" name=""/>
              <p:cNvSpPr/>
              <p:nvPr/>
            </p:nvSpPr>
            <p:spPr>
              <a:xfrm flipH="1">
                <a:off x="4062600" y="4473720"/>
                <a:ext cx="142200" cy="117036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rot="19140000">
                <a:off x="3697200" y="5953680"/>
                <a:ext cx="515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Victori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8" name=""/>
          <p:cNvGrpSpPr/>
          <p:nvPr/>
        </p:nvGrpSpPr>
        <p:grpSpPr>
          <a:xfrm>
            <a:off x="3352680" y="2322360"/>
            <a:ext cx="654840" cy="3377520"/>
            <a:chOff x="3352680" y="2322360"/>
            <a:chExt cx="654840" cy="3377520"/>
          </a:xfrm>
        </p:grpSpPr>
        <p:sp>
          <p:nvSpPr>
            <p:cNvPr id="1309" name=""/>
            <p:cNvSpPr/>
            <p:nvPr/>
          </p:nvSpPr>
          <p:spPr>
            <a:xfrm rot="16200000">
              <a:off x="2459520" y="3948120"/>
              <a:ext cx="21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% employ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08800" y="5486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5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808800" y="513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808800" y="4789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808800" y="4426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808800" y="4075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808800" y="37306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808800" y="33804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808800" y="30196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808800" y="2669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807720" y="2322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 flipV="1">
              <a:off x="3997440" y="5613120"/>
              <a:ext cx="216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97440" y="2458080"/>
              <a:ext cx="0" cy="31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2" name=""/>
          <p:cNvSpPr/>
          <p:nvPr/>
        </p:nvSpPr>
        <p:spPr>
          <a:xfrm>
            <a:off x="3500280" y="1897200"/>
            <a:ext cx="530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ment Rate in Canadian 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3" name=""/>
          <p:cNvGrpSpPr/>
          <p:nvPr/>
        </p:nvGrpSpPr>
        <p:grpSpPr>
          <a:xfrm>
            <a:off x="92160" y="471600"/>
            <a:ext cx="3200040" cy="6107040"/>
            <a:chOff x="92160" y="471600"/>
            <a:chExt cx="3200040" cy="6107040"/>
          </a:xfrm>
        </p:grpSpPr>
        <p:sp>
          <p:nvSpPr>
            <p:cNvPr id="1324" name=""/>
            <p:cNvSpPr/>
            <p:nvPr/>
          </p:nvSpPr>
          <p:spPr>
            <a:xfrm>
              <a:off x="1758960" y="839880"/>
              <a:ext cx="1465560" cy="4870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Employment 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005120" y="471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005120" y="7509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066480" y="7509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21320" y="1079640"/>
              <a:ext cx="1378800" cy="2437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10000"/>
                  </a:solidFill>
                  <a:latin typeface="Times New Roman"/>
                </a:rPr>
                <a:t>Canadian 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9" name=""/>
            <p:cNvGrpSpPr/>
            <p:nvPr/>
          </p:nvGrpSpPr>
          <p:grpSpPr>
            <a:xfrm>
              <a:off x="92160" y="1384200"/>
              <a:ext cx="3200040" cy="5194440"/>
              <a:chOff x="92160" y="1384200"/>
              <a:chExt cx="3200040" cy="5194440"/>
            </a:xfrm>
          </p:grpSpPr>
          <p:grpSp>
            <p:nvGrpSpPr>
              <p:cNvPr id="1330" name=""/>
              <p:cNvGrpSpPr/>
              <p:nvPr/>
            </p:nvGrpSpPr>
            <p:grpSpPr>
              <a:xfrm>
                <a:off x="244080" y="1420920"/>
                <a:ext cx="2525400" cy="243720"/>
                <a:chOff x="244080" y="1420920"/>
                <a:chExt cx="2525400" cy="243720"/>
              </a:xfrm>
            </p:grpSpPr>
            <p:sp>
              <p:nvSpPr>
                <p:cNvPr id="1331" name=""/>
                <p:cNvSpPr/>
                <p:nvPr/>
              </p:nvSpPr>
              <p:spPr>
                <a:xfrm>
                  <a:off x="244080" y="1420920"/>
                  <a:ext cx="7110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Victor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972360" y="14209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318760" y="142092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57.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718360" y="14209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104400" y="6261120"/>
                <a:ext cx="3187800" cy="311040"/>
                <a:chOff x="104400" y="6261120"/>
                <a:chExt cx="3187800" cy="31104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261360" y="6261120"/>
                  <a:ext cx="643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Halifa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912600" y="62611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2346480" y="626112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0.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747880" y="62611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104400" y="6572160"/>
                  <a:ext cx="3187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1" name=""/>
              <p:cNvGrpSpPr/>
              <p:nvPr/>
            </p:nvGrpSpPr>
            <p:grpSpPr>
              <a:xfrm>
                <a:off x="104400" y="5924520"/>
                <a:ext cx="3187800" cy="318960"/>
                <a:chOff x="104400" y="5924520"/>
                <a:chExt cx="3187800" cy="31896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264240" y="5924520"/>
                  <a:ext cx="8128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Montre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1099080" y="59245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2333880" y="592452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0.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735280" y="59245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104400" y="6243480"/>
                  <a:ext cx="3187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7" name=""/>
              <p:cNvGrpSpPr/>
              <p:nvPr/>
            </p:nvGrpSpPr>
            <p:grpSpPr>
              <a:xfrm>
                <a:off x="104400" y="5610240"/>
                <a:ext cx="3187800" cy="331920"/>
                <a:chOff x="104400" y="5610240"/>
                <a:chExt cx="3187800" cy="33192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283320" y="5610240"/>
                  <a:ext cx="10155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Sherbrook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1348920" y="561024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2323080" y="561024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59.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724480" y="561024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104400" y="5942160"/>
                  <a:ext cx="3187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104400" y="5297400"/>
                <a:ext cx="3169440" cy="299880"/>
                <a:chOff x="104400" y="5297400"/>
                <a:chExt cx="3169440" cy="29988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259920" y="5297400"/>
                  <a:ext cx="6530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Quebe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960120" y="529740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2304720" y="529740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59.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2706120" y="529740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 flipV="1">
                  <a:off x="104400" y="5595840"/>
                  <a:ext cx="316944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9" name=""/>
              <p:cNvGrpSpPr/>
              <p:nvPr/>
            </p:nvGrpSpPr>
            <p:grpSpPr>
              <a:xfrm>
                <a:off x="104400" y="4948200"/>
                <a:ext cx="3187800" cy="315720"/>
                <a:chOff x="104400" y="4948200"/>
                <a:chExt cx="3187800" cy="31572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281160" y="4948200"/>
                  <a:ext cx="712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Toront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1020240" y="494820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2346480" y="494820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5.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2747880" y="494820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104400" y="5263920"/>
                  <a:ext cx="3187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5" name=""/>
              <p:cNvGrpSpPr/>
              <p:nvPr/>
            </p:nvGrpSpPr>
            <p:grpSpPr>
              <a:xfrm>
                <a:off x="104400" y="4610160"/>
                <a:ext cx="3187800" cy="303120"/>
                <a:chOff x="104400" y="4610160"/>
                <a:chExt cx="3187800" cy="30312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263520" y="4610160"/>
                  <a:ext cx="823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Hamilt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1094400" y="461016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2346480" y="461016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3.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2747880" y="461016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104400" y="4913280"/>
                  <a:ext cx="3187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1" name=""/>
              <p:cNvGrpSpPr/>
              <p:nvPr/>
            </p:nvGrpSpPr>
            <p:grpSpPr>
              <a:xfrm>
                <a:off x="104400" y="4273560"/>
                <a:ext cx="3187800" cy="276120"/>
                <a:chOff x="104400" y="4273560"/>
                <a:chExt cx="3187800" cy="276120"/>
              </a:xfrm>
            </p:grpSpPr>
            <p:sp>
              <p:nvSpPr>
                <p:cNvPr id="1372" name=""/>
                <p:cNvSpPr/>
                <p:nvPr/>
              </p:nvSpPr>
              <p:spPr>
                <a:xfrm>
                  <a:off x="295200" y="4273560"/>
                  <a:ext cx="866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Kitchen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1180800" y="427356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2356920" y="427356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6.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2758320" y="427356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104400" y="4549680"/>
                  <a:ext cx="3187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" name=""/>
              <p:cNvGrpSpPr/>
              <p:nvPr/>
            </p:nvGrpSpPr>
            <p:grpSpPr>
              <a:xfrm>
                <a:off x="104400" y="3921120"/>
                <a:ext cx="3187800" cy="276120"/>
                <a:chOff x="104400" y="3921120"/>
                <a:chExt cx="3187800" cy="27612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284040" y="3921120"/>
                  <a:ext cx="678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Lond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988560" y="39211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2346480" y="392112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3.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2747880" y="39211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104400" y="4197240"/>
                  <a:ext cx="3187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104400" y="3557520"/>
                <a:ext cx="3187800" cy="311040"/>
                <a:chOff x="104400" y="3557520"/>
                <a:chExt cx="3187800" cy="31104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282960" y="3557520"/>
                  <a:ext cx="1157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Thunder Ba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2346480" y="355752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1.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2747880" y="35575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104400" y="3868560"/>
                  <a:ext cx="3187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8" name=""/>
              <p:cNvGrpSpPr/>
              <p:nvPr/>
            </p:nvGrpSpPr>
            <p:grpSpPr>
              <a:xfrm>
                <a:off x="104400" y="3144960"/>
                <a:ext cx="3187800" cy="320400"/>
                <a:chOff x="104400" y="3144960"/>
                <a:chExt cx="3187800" cy="32040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268920" y="3144960"/>
                  <a:ext cx="6102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Regin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893520" y="314496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2346480" y="314496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7.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2747880" y="314496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104400" y="3465360"/>
                  <a:ext cx="3187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104400" y="2782800"/>
                <a:ext cx="3187800" cy="341280"/>
                <a:chOff x="104400" y="2782800"/>
                <a:chExt cx="3187800" cy="34128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305640" y="2782800"/>
                  <a:ext cx="8938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Saskato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1251360" y="278280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2346480" y="278280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3.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2747880" y="278280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104400" y="3124080"/>
                  <a:ext cx="3187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104400" y="2133720"/>
                <a:ext cx="3187800" cy="312480"/>
                <a:chOff x="104400" y="2133720"/>
                <a:chExt cx="3187800" cy="31248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281880" y="2133720"/>
                  <a:ext cx="915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Edmont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1219680" y="21337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2346480" y="213372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7.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2747880" y="21337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04400" y="2446200"/>
                  <a:ext cx="3187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104400" y="1768320"/>
                <a:ext cx="3187800" cy="300240"/>
                <a:chOff x="104400" y="1768320"/>
                <a:chExt cx="3187800" cy="30024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273960" y="1768320"/>
                  <a:ext cx="9486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Vancou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1257120" y="17683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2323080" y="176832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1.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2724480" y="176832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104400" y="2068560"/>
                  <a:ext cx="3187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2" name=""/>
              <p:cNvGrpSpPr/>
              <p:nvPr/>
            </p:nvGrpSpPr>
            <p:grpSpPr>
              <a:xfrm>
                <a:off x="102960" y="2471760"/>
                <a:ext cx="3187800" cy="312840"/>
                <a:chOff x="102960" y="2471760"/>
                <a:chExt cx="3187800" cy="31284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249840" y="2471760"/>
                  <a:ext cx="8467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Winnipe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1119600" y="247176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2322000" y="2471760"/>
                  <a:ext cx="3574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66.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2723040" y="2471760"/>
                  <a:ext cx="51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1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102960" y="2784600"/>
                  <a:ext cx="3187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8" name=""/>
              <p:cNvSpPr/>
              <p:nvPr/>
            </p:nvSpPr>
            <p:spPr>
              <a:xfrm>
                <a:off x="104400" y="1714680"/>
                <a:ext cx="315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92160" y="1384200"/>
                <a:ext cx="3187800" cy="51944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0" name=""/>
          <p:cNvGrpSpPr/>
          <p:nvPr/>
        </p:nvGrpSpPr>
        <p:grpSpPr>
          <a:xfrm>
            <a:off x="3386160" y="85680"/>
            <a:ext cx="2332080" cy="1706760"/>
            <a:chOff x="3386160" y="85680"/>
            <a:chExt cx="2332080" cy="1706760"/>
          </a:xfrm>
        </p:grpSpPr>
        <p:grpSp>
          <p:nvGrpSpPr>
            <p:cNvPr id="1421" name=""/>
            <p:cNvGrpSpPr/>
            <p:nvPr/>
          </p:nvGrpSpPr>
          <p:grpSpPr>
            <a:xfrm>
              <a:off x="3386160" y="85680"/>
              <a:ext cx="2332080" cy="1706760"/>
              <a:chOff x="3386160" y="85680"/>
              <a:chExt cx="2332080" cy="1706760"/>
            </a:xfrm>
          </p:grpSpPr>
          <p:pic>
            <p:nvPicPr>
              <p:cNvPr id="142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86160" y="195120"/>
                <a:ext cx="2332080" cy="15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3" name=""/>
              <p:cNvSpPr/>
              <p:nvPr/>
            </p:nvSpPr>
            <p:spPr>
              <a:xfrm>
                <a:off x="3476880" y="85680"/>
                <a:ext cx="1533600" cy="1099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77353" dir="1136247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3300"/>
                    </a:solidFill>
                    <a:latin typeface="Times New Roman"/>
                  </a:rPr>
                  <a:t>Bar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4" name=""/>
            <p:cNvSpPr txBox="1"/>
            <p:nvPr/>
          </p:nvSpPr>
          <p:spPr>
            <a:xfrm>
              <a:off x="3652920" y="1109520"/>
              <a:ext cx="19717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>
                      <a:alpha val="50000"/>
                    </a:srgbClr>
                  </a:solidFill>
                  <a:latin typeface="Times New Roman"/>
                </a:rPr>
                <a:t>Chart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3703320" y="1922400"/>
            <a:ext cx="530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ment Rate in Canadian 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944880" y="2771640"/>
            <a:ext cx="5046840" cy="288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H="1">
            <a:off x="4196520" y="2771640"/>
            <a:ext cx="474516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196880" y="5335560"/>
            <a:ext cx="471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4196880" y="5018040"/>
            <a:ext cx="4713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H="1">
            <a:off x="4196880" y="4689360"/>
            <a:ext cx="471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196880" y="4370400"/>
            <a:ext cx="4713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4196880" y="4054320"/>
            <a:ext cx="471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4196880" y="3735360"/>
            <a:ext cx="471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4196880" y="3406680"/>
            <a:ext cx="471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H="1">
            <a:off x="4196880" y="3087720"/>
            <a:ext cx="4713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H="1">
            <a:off x="4196880" y="2771640"/>
            <a:ext cx="471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>
            <a:off x="8986320" y="2771640"/>
            <a:ext cx="1800" cy="288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8910360" y="565452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H="1">
            <a:off x="8910360" y="533556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>
            <a:off x="8910360" y="5018040"/>
            <a:ext cx="572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8910360" y="468936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H="1">
            <a:off x="8910360" y="4370400"/>
            <a:ext cx="572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8910360" y="405432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8910360" y="373536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8910360" y="340668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8910360" y="3087720"/>
            <a:ext cx="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8910360" y="2771640"/>
            <a:ext cx="5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4196880" y="5654520"/>
            <a:ext cx="4713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 flipV="1">
            <a:off x="8907120" y="5654160"/>
            <a:ext cx="32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 flipV="1">
            <a:off x="8589960" y="56541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8278560" y="5654160"/>
            <a:ext cx="32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H="1" flipV="1">
            <a:off x="7961400" y="56541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 flipV="1">
            <a:off x="7652880" y="565416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 flipV="1">
            <a:off x="7332840" y="56541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 flipV="1">
            <a:off x="7024680" y="56541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 flipV="1">
            <a:off x="6705720" y="56541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H="1" flipV="1">
            <a:off x="6396120" y="56541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6078600" y="5654160"/>
            <a:ext cx="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 flipV="1">
            <a:off x="5769000" y="56541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H="1" flipV="1">
            <a:off x="5450040" y="56541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5141880" y="5654160"/>
            <a:ext cx="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 flipV="1">
            <a:off x="4621320" y="56541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 flipV="1">
            <a:off x="4314960" y="56541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4" name=""/>
          <p:cNvGrpSpPr/>
          <p:nvPr/>
        </p:nvGrpSpPr>
        <p:grpSpPr>
          <a:xfrm>
            <a:off x="3306600" y="2657520"/>
            <a:ext cx="890280" cy="3094920"/>
            <a:chOff x="3306600" y="2657520"/>
            <a:chExt cx="890280" cy="3094920"/>
          </a:xfrm>
        </p:grpSpPr>
        <p:sp>
          <p:nvSpPr>
            <p:cNvPr id="1465" name=""/>
            <p:cNvSpPr/>
            <p:nvPr/>
          </p:nvSpPr>
          <p:spPr>
            <a:xfrm rot="16200000">
              <a:off x="2413440" y="4127400"/>
              <a:ext cx="21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% employ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969360" y="5538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5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969360" y="5221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969360" y="4903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969360" y="4573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969360" y="4254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969360" y="3940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969360" y="3621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969360" y="3292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969360" y="2973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969360" y="2657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 flipV="1">
              <a:off x="4193640" y="5654160"/>
              <a:ext cx="32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194000" y="2781360"/>
              <a:ext cx="0" cy="28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7964640" y="4295880"/>
            <a:ext cx="457920" cy="1892880"/>
            <a:chOff x="7964640" y="4295880"/>
            <a:chExt cx="457920" cy="1892880"/>
          </a:xfrm>
        </p:grpSpPr>
        <p:sp>
          <p:nvSpPr>
            <p:cNvPr id="1479" name=""/>
            <p:cNvSpPr/>
            <p:nvPr/>
          </p:nvSpPr>
          <p:spPr>
            <a:xfrm flipH="1">
              <a:off x="8250840" y="4295880"/>
              <a:ext cx="137160" cy="13579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rot="19140000">
              <a:off x="7962840" y="5889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Halifa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6942240" y="4297320"/>
            <a:ext cx="552240" cy="2003760"/>
            <a:chOff x="6942240" y="4297320"/>
            <a:chExt cx="552240" cy="2003760"/>
          </a:xfrm>
        </p:grpSpPr>
        <p:sp>
          <p:nvSpPr>
            <p:cNvPr id="1482" name=""/>
            <p:cNvSpPr/>
            <p:nvPr/>
          </p:nvSpPr>
          <p:spPr>
            <a:xfrm flipH="1">
              <a:off x="7345080" y="4297320"/>
              <a:ext cx="126720" cy="13471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rot="19140000">
              <a:off x="6925320" y="596124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Montre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6987600" y="4497480"/>
            <a:ext cx="697320" cy="1920240"/>
            <a:chOff x="6987600" y="4497480"/>
            <a:chExt cx="697320" cy="1920240"/>
          </a:xfrm>
        </p:grpSpPr>
        <p:sp>
          <p:nvSpPr>
            <p:cNvPr id="1485" name=""/>
            <p:cNvSpPr/>
            <p:nvPr/>
          </p:nvSpPr>
          <p:spPr>
            <a:xfrm flipH="1">
              <a:off x="7479720" y="4497480"/>
              <a:ext cx="138240" cy="115704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19140000">
              <a:off x="6946920" y="6014880"/>
              <a:ext cx="77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Sherbrook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7396200" y="4421160"/>
            <a:ext cx="498240" cy="1778400"/>
            <a:chOff x="7396200" y="4421160"/>
            <a:chExt cx="498240" cy="1778400"/>
          </a:xfrm>
        </p:grpSpPr>
        <p:sp>
          <p:nvSpPr>
            <p:cNvPr id="1488" name=""/>
            <p:cNvSpPr/>
            <p:nvPr/>
          </p:nvSpPr>
          <p:spPr>
            <a:xfrm flipH="1">
              <a:off x="7758360" y="4421160"/>
              <a:ext cx="123480" cy="123264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rot="19140000">
              <a:off x="7387920" y="5883480"/>
              <a:ext cx="51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Quebe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6691320" y="3556080"/>
            <a:ext cx="509760" cy="2708640"/>
            <a:chOff x="6691320" y="3556080"/>
            <a:chExt cx="509760" cy="2708640"/>
          </a:xfrm>
        </p:grpSpPr>
        <p:sp>
          <p:nvSpPr>
            <p:cNvPr id="1491" name=""/>
            <p:cNvSpPr/>
            <p:nvPr/>
          </p:nvSpPr>
          <p:spPr>
            <a:xfrm flipH="1">
              <a:off x="6995520" y="3556080"/>
              <a:ext cx="139680" cy="20977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9140000">
              <a:off x="6681240" y="5943600"/>
              <a:ext cx="529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Toron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6522120" y="3862440"/>
            <a:ext cx="563760" cy="2389680"/>
            <a:chOff x="6522120" y="3862440"/>
            <a:chExt cx="563760" cy="2389680"/>
          </a:xfrm>
        </p:grpSpPr>
        <p:sp>
          <p:nvSpPr>
            <p:cNvPr id="1494" name=""/>
            <p:cNvSpPr/>
            <p:nvPr/>
          </p:nvSpPr>
          <p:spPr>
            <a:xfrm flipH="1">
              <a:off x="6867720" y="3862440"/>
              <a:ext cx="123840" cy="17917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rot="19140000">
              <a:off x="6503400" y="590760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Hamilt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6" name=""/>
          <p:cNvGrpSpPr/>
          <p:nvPr/>
        </p:nvGrpSpPr>
        <p:grpSpPr>
          <a:xfrm>
            <a:off x="6237000" y="3406680"/>
            <a:ext cx="598320" cy="2917440"/>
            <a:chOff x="6237000" y="3406680"/>
            <a:chExt cx="598320" cy="2917440"/>
          </a:xfrm>
        </p:grpSpPr>
        <p:sp>
          <p:nvSpPr>
            <p:cNvPr id="1497" name=""/>
            <p:cNvSpPr/>
            <p:nvPr/>
          </p:nvSpPr>
          <p:spPr>
            <a:xfrm flipH="1">
              <a:off x="6628320" y="3406680"/>
              <a:ext cx="136800" cy="22474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rot="19140000">
              <a:off x="6212520" y="5964480"/>
              <a:ext cx="64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Kitchen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9" name=""/>
          <p:cNvGrpSpPr/>
          <p:nvPr/>
        </p:nvGrpSpPr>
        <p:grpSpPr>
          <a:xfrm>
            <a:off x="6095160" y="3836880"/>
            <a:ext cx="537120" cy="2409840"/>
            <a:chOff x="6095160" y="3836880"/>
            <a:chExt cx="537120" cy="2409840"/>
          </a:xfrm>
        </p:grpSpPr>
        <p:sp>
          <p:nvSpPr>
            <p:cNvPr id="1500" name=""/>
            <p:cNvSpPr/>
            <p:nvPr/>
          </p:nvSpPr>
          <p:spPr>
            <a:xfrm flipH="1">
              <a:off x="6506280" y="3836880"/>
              <a:ext cx="126000" cy="18169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rot="19140000">
              <a:off x="6087240" y="5931000"/>
              <a:ext cx="51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Lond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2" name=""/>
          <p:cNvGrpSpPr/>
          <p:nvPr/>
        </p:nvGrpSpPr>
        <p:grpSpPr>
          <a:xfrm>
            <a:off x="5653800" y="4218120"/>
            <a:ext cx="756000" cy="2221920"/>
            <a:chOff x="5653800" y="4218120"/>
            <a:chExt cx="756000" cy="2221920"/>
          </a:xfrm>
        </p:grpSpPr>
        <p:sp>
          <p:nvSpPr>
            <p:cNvPr id="1503" name=""/>
            <p:cNvSpPr/>
            <p:nvPr/>
          </p:nvSpPr>
          <p:spPr>
            <a:xfrm flipH="1">
              <a:off x="6216480" y="4218120"/>
              <a:ext cx="136440" cy="14356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rot="19140000">
              <a:off x="5603760" y="6012000"/>
              <a:ext cx="855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Thunder Ba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5676120" y="3189240"/>
            <a:ext cx="462600" cy="3036240"/>
            <a:chOff x="5676120" y="3189240"/>
            <a:chExt cx="462600" cy="3036240"/>
          </a:xfrm>
        </p:grpSpPr>
        <p:sp>
          <p:nvSpPr>
            <p:cNvPr id="1506" name=""/>
            <p:cNvSpPr/>
            <p:nvPr/>
          </p:nvSpPr>
          <p:spPr>
            <a:xfrm flipH="1">
              <a:off x="5976000" y="3189240"/>
              <a:ext cx="126000" cy="24649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rot="19140000">
              <a:off x="5673600" y="5924880"/>
              <a:ext cx="46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Regin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5022720" y="3773520"/>
            <a:ext cx="644040" cy="2579760"/>
            <a:chOff x="5022720" y="3773520"/>
            <a:chExt cx="644040" cy="2579760"/>
          </a:xfrm>
        </p:grpSpPr>
        <p:sp>
          <p:nvSpPr>
            <p:cNvPr id="1509" name=""/>
            <p:cNvSpPr/>
            <p:nvPr/>
          </p:nvSpPr>
          <p:spPr>
            <a:xfrm flipH="1">
              <a:off x="5454000" y="3773520"/>
              <a:ext cx="136800" cy="18802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9140000">
              <a:off x="4990680" y="5973480"/>
              <a:ext cx="707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Saskato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421960" y="3321000"/>
            <a:ext cx="586800" cy="2968200"/>
            <a:chOff x="5421960" y="3321000"/>
            <a:chExt cx="586800" cy="2968200"/>
          </a:xfrm>
        </p:grpSpPr>
        <p:sp>
          <p:nvSpPr>
            <p:cNvPr id="1512" name=""/>
            <p:cNvSpPr/>
            <p:nvPr/>
          </p:nvSpPr>
          <p:spPr>
            <a:xfrm flipH="1">
              <a:off x="5813280" y="3321000"/>
              <a:ext cx="124560" cy="23490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rot="19140000">
              <a:off x="5399280" y="5934600"/>
              <a:ext cx="63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Winnipe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4" name=""/>
          <p:cNvGrpSpPr/>
          <p:nvPr/>
        </p:nvGrpSpPr>
        <p:grpSpPr>
          <a:xfrm>
            <a:off x="4551480" y="3240000"/>
            <a:ext cx="632880" cy="3075120"/>
            <a:chOff x="4551480" y="3240000"/>
            <a:chExt cx="632880" cy="3075120"/>
          </a:xfrm>
        </p:grpSpPr>
        <p:sp>
          <p:nvSpPr>
            <p:cNvPr id="1515" name=""/>
            <p:cNvSpPr/>
            <p:nvPr/>
          </p:nvSpPr>
          <p:spPr>
            <a:xfrm flipH="1">
              <a:off x="5000400" y="3240000"/>
              <a:ext cx="136800" cy="24141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rot="19140000">
              <a:off x="4521240" y="5940360"/>
              <a:ext cx="69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Edmont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3909600" y="4141800"/>
            <a:ext cx="649800" cy="2171160"/>
            <a:chOff x="3909600" y="4141800"/>
            <a:chExt cx="649800" cy="2171160"/>
          </a:xfrm>
        </p:grpSpPr>
        <p:sp>
          <p:nvSpPr>
            <p:cNvPr id="1518" name=""/>
            <p:cNvSpPr/>
            <p:nvPr/>
          </p:nvSpPr>
          <p:spPr>
            <a:xfrm flipH="1">
              <a:off x="4405680" y="4141800"/>
              <a:ext cx="124920" cy="15120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rot="19140000">
              <a:off x="3876840" y="5931000"/>
              <a:ext cx="71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Vancou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3853800" y="4738680"/>
            <a:ext cx="499320" cy="1470600"/>
            <a:chOff x="3853800" y="4738680"/>
            <a:chExt cx="499320" cy="1470600"/>
          </a:xfrm>
        </p:grpSpPr>
        <p:sp>
          <p:nvSpPr>
            <p:cNvPr id="1521" name=""/>
            <p:cNvSpPr/>
            <p:nvPr/>
          </p:nvSpPr>
          <p:spPr>
            <a:xfrm flipH="1">
              <a:off x="4188960" y="4738680"/>
              <a:ext cx="136800" cy="9147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rot="19140000">
              <a:off x="3845520" y="5892480"/>
              <a:ext cx="51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Victor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3" name=""/>
          <p:cNvSpPr/>
          <p:nvPr/>
        </p:nvSpPr>
        <p:spPr>
          <a:xfrm>
            <a:off x="4939560" y="2235240"/>
            <a:ext cx="27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by Provi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0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0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4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8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2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6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0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4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2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6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5500"/>
                            </p:stCondLst>
                            <p:childTnLst>
                              <p:par>
                                <p:cTn id="1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4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8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6500"/>
                            </p:stCondLst>
                            <p:childTnLst>
                              <p:par>
                                <p:cTn id="1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6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4" name=""/>
          <p:cNvGrpSpPr/>
          <p:nvPr/>
        </p:nvGrpSpPr>
        <p:grpSpPr>
          <a:xfrm>
            <a:off x="3386160" y="85680"/>
            <a:ext cx="2332080" cy="1706760"/>
            <a:chOff x="3386160" y="85680"/>
            <a:chExt cx="2332080" cy="1706760"/>
          </a:xfrm>
        </p:grpSpPr>
        <p:grpSp>
          <p:nvGrpSpPr>
            <p:cNvPr id="1525" name=""/>
            <p:cNvGrpSpPr/>
            <p:nvPr/>
          </p:nvGrpSpPr>
          <p:grpSpPr>
            <a:xfrm>
              <a:off x="3386160" y="85680"/>
              <a:ext cx="2332080" cy="1706760"/>
              <a:chOff x="3386160" y="85680"/>
              <a:chExt cx="2332080" cy="1706760"/>
            </a:xfrm>
          </p:grpSpPr>
          <p:pic>
            <p:nvPicPr>
              <p:cNvPr id="152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86160" y="195120"/>
                <a:ext cx="2332080" cy="15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7" name=""/>
              <p:cNvSpPr/>
              <p:nvPr/>
            </p:nvSpPr>
            <p:spPr>
              <a:xfrm>
                <a:off x="3476880" y="85680"/>
                <a:ext cx="1533600" cy="1099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77353" dir="11362479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3300"/>
                    </a:solidFill>
                    <a:latin typeface="Times New Roman"/>
                  </a:rPr>
                  <a:t>Bar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8" name=""/>
            <p:cNvSpPr txBox="1"/>
            <p:nvPr/>
          </p:nvSpPr>
          <p:spPr>
            <a:xfrm>
              <a:off x="3652920" y="1109520"/>
              <a:ext cx="19717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>
                      <a:alpha val="50000"/>
                    </a:srgbClr>
                  </a:solidFill>
                  <a:latin typeface="Times New Roman"/>
                </a:rPr>
                <a:t>Chart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529" name=""/>
          <p:cNvSpPr/>
          <p:nvPr/>
        </p:nvSpPr>
        <p:spPr>
          <a:xfrm>
            <a:off x="968400" y="2146320"/>
            <a:ext cx="7132680" cy="2043720"/>
          </a:xfrm>
          <a:prstGeom prst="rect">
            <a:avLst/>
          </a:prstGeom>
          <a:solidFill>
            <a:srgbClr val="feffd1"/>
          </a:solidFill>
          <a:ln w="0">
            <a:noFill/>
          </a:ln>
          <a:effectLst>
            <a:outerShdw dist="144956" dir="767025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d any of the previous Bar Chart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dequately displ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all the information that was provi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934920" y="3962520"/>
            <a:ext cx="7256520" cy="2043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eac5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following has been modified from that data found by Statistics Can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es it do an effective job of displaying the StatCan da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3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1" name=""/>
          <p:cNvGrpSpPr/>
          <p:nvPr/>
        </p:nvGrpSpPr>
        <p:grpSpPr>
          <a:xfrm>
            <a:off x="25920" y="3505320"/>
            <a:ext cx="8935560" cy="3063960"/>
            <a:chOff x="25920" y="3505320"/>
            <a:chExt cx="8935560" cy="3063960"/>
          </a:xfrm>
        </p:grpSpPr>
        <p:sp>
          <p:nvSpPr>
            <p:cNvPr id="1532" name=""/>
            <p:cNvSpPr/>
            <p:nvPr/>
          </p:nvSpPr>
          <p:spPr>
            <a:xfrm rot="16200">
              <a:off x="151560" y="4927320"/>
              <a:ext cx="239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imSun"/>
                </a:rPr>
                <a:t>Real estate and rental and leas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rot="21583200">
              <a:off x="179280" y="5103720"/>
              <a:ext cx="3378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imSun"/>
                </a:rPr>
                <a:t>Professional, scientific and technical serv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rot="21564600">
              <a:off x="173880" y="5276880"/>
              <a:ext cx="28414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imSun"/>
                </a:rPr>
                <a:t>Management of companies and enterpris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rot="21567600">
              <a:off x="166680" y="5465520"/>
              <a:ext cx="260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imSun"/>
                </a:rPr>
                <a:t>Educational services (private sector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11400">
              <a:off x="176040" y="5665680"/>
              <a:ext cx="351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imSun"/>
                </a:rPr>
                <a:t>Health care and social assistance (private sector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16800">
              <a:off x="172440" y="5860800"/>
              <a:ext cx="49417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imSun"/>
                </a:rPr>
                <a:t>Administration and support, waste management and remediation serv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rot="21561000">
              <a:off x="109080" y="6017760"/>
              <a:ext cx="250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imSun"/>
                </a:rPr>
                <a:t>Arts, entertainment and recre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rot="13800">
              <a:off x="35280" y="6213240"/>
              <a:ext cx="243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imSun"/>
                </a:rPr>
                <a:t>Accommodation and food serv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rot="40800">
              <a:off x="182160" y="6393960"/>
              <a:ext cx="123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imSun"/>
                </a:rPr>
                <a:t>All private sec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417920" y="3505320"/>
              <a:ext cx="266760" cy="27612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970520" y="3505320"/>
              <a:ext cx="266760" cy="27612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484960" y="3505320"/>
              <a:ext cx="266400" cy="27612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999040" y="3505320"/>
              <a:ext cx="266760" cy="27612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541920" y="3505320"/>
              <a:ext cx="266760" cy="27612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094520" y="3505320"/>
              <a:ext cx="266760" cy="27612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647120" y="3505320"/>
              <a:ext cx="266400" cy="27612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170920" y="3505320"/>
              <a:ext cx="266760" cy="27612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694720" y="3505320"/>
              <a:ext cx="266760" cy="27612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 flipV="1">
              <a:off x="3425760" y="3781440"/>
              <a:ext cx="6480" cy="898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rot="21597000">
              <a:off x="101160" y="4551120"/>
              <a:ext cx="2541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imSun"/>
                </a:rPr>
                <a:t>Information and cultural indus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348000" y="3505320"/>
              <a:ext cx="266760" cy="27612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635200" y="4660920"/>
              <a:ext cx="798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1800">
              <a:off x="103680" y="4727520"/>
              <a:ext cx="160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imSun"/>
                </a:rPr>
                <a:t>Finance and insura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795840" y="3511440"/>
              <a:ext cx="266400" cy="27648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3932280" y="3787920"/>
              <a:ext cx="6480" cy="1056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677960" y="4826160"/>
              <a:ext cx="22716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V="1">
              <a:off x="4548240" y="3743280"/>
              <a:ext cx="0" cy="1308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576520" y="5029200"/>
              <a:ext cx="197172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486240" y="5184720"/>
              <a:ext cx="162720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V="1">
              <a:off x="5110200" y="3781440"/>
              <a:ext cx="0" cy="1425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V="1">
              <a:off x="2960640" y="5355720"/>
              <a:ext cx="267012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5614920" y="3781440"/>
              <a:ext cx="0" cy="1596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787480" y="5556240"/>
              <a:ext cx="3373560" cy="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V="1">
              <a:off x="6138720" y="3781440"/>
              <a:ext cx="0" cy="179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695760" y="5772240"/>
              <a:ext cx="3004920" cy="9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6684840" y="3771720"/>
              <a:ext cx="0" cy="2012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049720" y="5962680"/>
              <a:ext cx="219708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>
              <a:off x="7224840" y="3781080"/>
              <a:ext cx="0" cy="21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614680" y="6105600"/>
              <a:ext cx="5186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V="1">
              <a:off x="7775640" y="3777840"/>
              <a:ext cx="0" cy="235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376360" y="6308640"/>
              <a:ext cx="5956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V="1">
              <a:off x="8310600" y="3781080"/>
              <a:ext cx="0" cy="2552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1484280" y="6496200"/>
              <a:ext cx="7348680" cy="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V="1">
              <a:off x="8832960" y="3779640"/>
              <a:ext cx="0" cy="273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6" name=""/>
            <p:cNvGrpSpPr/>
            <p:nvPr/>
          </p:nvGrpSpPr>
          <p:grpSpPr>
            <a:xfrm>
              <a:off x="1198440" y="3743280"/>
              <a:ext cx="342720" cy="364320"/>
              <a:chOff x="1198440" y="3743280"/>
              <a:chExt cx="342720" cy="364320"/>
            </a:xfrm>
          </p:grpSpPr>
          <p:sp>
            <p:nvSpPr>
              <p:cNvPr id="1577" name=""/>
              <p:cNvSpPr/>
              <p:nvPr/>
            </p:nvSpPr>
            <p:spPr>
              <a:xfrm flipV="1">
                <a:off x="1531800" y="3743280"/>
                <a:ext cx="0" cy="36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198440" y="4088160"/>
                <a:ext cx="342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9" name=""/>
            <p:cNvSpPr/>
            <p:nvPr/>
          </p:nvSpPr>
          <p:spPr>
            <a:xfrm>
              <a:off x="1398600" y="3514680"/>
              <a:ext cx="266760" cy="27612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38240" y="3986280"/>
              <a:ext cx="9968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imSun"/>
                </a:rPr>
                <a:t>Manufactur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046240" y="3505320"/>
              <a:ext cx="266760" cy="27612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2" name=""/>
            <p:cNvGrpSpPr/>
            <p:nvPr/>
          </p:nvGrpSpPr>
          <p:grpSpPr>
            <a:xfrm>
              <a:off x="1263600" y="3774960"/>
              <a:ext cx="933120" cy="510480"/>
              <a:chOff x="1263600" y="3774960"/>
              <a:chExt cx="933120" cy="510480"/>
            </a:xfrm>
          </p:grpSpPr>
          <p:sp>
            <p:nvSpPr>
              <p:cNvPr id="1583" name=""/>
              <p:cNvSpPr/>
              <p:nvPr/>
            </p:nvSpPr>
            <p:spPr>
              <a:xfrm flipV="1">
                <a:off x="2180880" y="3774960"/>
                <a:ext cx="0" cy="510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263600" y="4258800"/>
                <a:ext cx="933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5" name=""/>
            <p:cNvSpPr/>
            <p:nvPr/>
          </p:nvSpPr>
          <p:spPr>
            <a:xfrm>
              <a:off x="25920" y="4129200"/>
              <a:ext cx="1342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imSun"/>
                </a:rPr>
                <a:t>Wholesale trad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665440" y="3505320"/>
              <a:ext cx="266760" cy="27612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7" name=""/>
            <p:cNvGrpSpPr/>
            <p:nvPr/>
          </p:nvGrpSpPr>
          <p:grpSpPr>
            <a:xfrm>
              <a:off x="1036800" y="3774960"/>
              <a:ext cx="1760400" cy="729360"/>
              <a:chOff x="1036800" y="3774960"/>
              <a:chExt cx="1760400" cy="729360"/>
            </a:xfrm>
          </p:grpSpPr>
          <p:sp>
            <p:nvSpPr>
              <p:cNvPr id="1588" name=""/>
              <p:cNvSpPr/>
              <p:nvPr/>
            </p:nvSpPr>
            <p:spPr>
              <a:xfrm flipV="1">
                <a:off x="2797200" y="3774960"/>
                <a:ext cx="0" cy="729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036800" y="4468320"/>
                <a:ext cx="1752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0" name=""/>
            <p:cNvSpPr/>
            <p:nvPr/>
          </p:nvSpPr>
          <p:spPr>
            <a:xfrm>
              <a:off x="70560" y="4321080"/>
              <a:ext cx="1020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imSun"/>
                </a:rPr>
                <a:t>Retail trad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1" name=""/>
          <p:cNvSpPr/>
          <p:nvPr/>
        </p:nvSpPr>
        <p:spPr>
          <a:xfrm flipV="1">
            <a:off x="1076400" y="3109680"/>
            <a:ext cx="798984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flipV="1">
            <a:off x="1090440" y="2746080"/>
            <a:ext cx="7975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062000" y="2381400"/>
            <a:ext cx="79916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076400" y="2004840"/>
            <a:ext cx="798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073160" y="1631880"/>
            <a:ext cx="7975440" cy="18637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6" name=""/>
          <p:cNvGrpSpPr/>
          <p:nvPr/>
        </p:nvGrpSpPr>
        <p:grpSpPr>
          <a:xfrm>
            <a:off x="85680" y="1502640"/>
            <a:ext cx="8994960" cy="2096280"/>
            <a:chOff x="85680" y="1502640"/>
            <a:chExt cx="8994960" cy="2096280"/>
          </a:xfrm>
        </p:grpSpPr>
        <p:sp>
          <p:nvSpPr>
            <p:cNvPr id="1597" name=""/>
            <p:cNvSpPr/>
            <p:nvPr/>
          </p:nvSpPr>
          <p:spPr>
            <a:xfrm>
              <a:off x="596520" y="3324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85280" y="29257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85280" y="25718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85280" y="22147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85280" y="1889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47680" y="1519200"/>
              <a:ext cx="51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rot="16200000">
              <a:off x="-751680" y="2340000"/>
              <a:ext cx="1980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% of enterpri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090440" y="1631880"/>
              <a:ext cx="7990200" cy="1863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5" name=""/>
            <p:cNvGrpSpPr/>
            <p:nvPr/>
          </p:nvGrpSpPr>
          <p:grpSpPr>
            <a:xfrm>
              <a:off x="4799160" y="1803240"/>
              <a:ext cx="464760" cy="1683000"/>
              <a:chOff x="4799160" y="1803240"/>
              <a:chExt cx="464760" cy="1683000"/>
            </a:xfrm>
          </p:grpSpPr>
          <p:sp>
            <p:nvSpPr>
              <p:cNvPr id="1606" name=""/>
              <p:cNvSpPr/>
              <p:nvPr/>
            </p:nvSpPr>
            <p:spPr>
              <a:xfrm>
                <a:off x="4799160" y="1924200"/>
                <a:ext cx="119880" cy="15616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919040" y="1803240"/>
                <a:ext cx="119520" cy="168300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038560" y="2931120"/>
                <a:ext cx="105120" cy="55476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144040" y="2890800"/>
                <a:ext cx="119880" cy="595440"/>
              </a:xfrm>
              <a:prstGeom prst="rect">
                <a:avLst/>
              </a:prstGeom>
              <a:solidFill>
                <a:srgbClr val="cc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0" name=""/>
            <p:cNvGrpSpPr/>
            <p:nvPr/>
          </p:nvGrpSpPr>
          <p:grpSpPr>
            <a:xfrm>
              <a:off x="7481880" y="1974960"/>
              <a:ext cx="429480" cy="1520640"/>
              <a:chOff x="7481880" y="1974960"/>
              <a:chExt cx="429480" cy="1520640"/>
            </a:xfrm>
          </p:grpSpPr>
          <p:sp>
            <p:nvSpPr>
              <p:cNvPr id="1611" name=""/>
              <p:cNvSpPr/>
              <p:nvPr/>
            </p:nvSpPr>
            <p:spPr>
              <a:xfrm>
                <a:off x="7481880" y="2207880"/>
                <a:ext cx="114480" cy="12873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596360" y="1974960"/>
                <a:ext cx="99000" cy="152064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695720" y="2826000"/>
                <a:ext cx="114840" cy="6696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810560" y="2644560"/>
                <a:ext cx="100800" cy="851040"/>
              </a:xfrm>
              <a:prstGeom prst="rect">
                <a:avLst/>
              </a:prstGeom>
              <a:solidFill>
                <a:srgbClr val="cc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5" name=""/>
            <p:cNvGrpSpPr/>
            <p:nvPr/>
          </p:nvGrpSpPr>
          <p:grpSpPr>
            <a:xfrm>
              <a:off x="8020080" y="2603520"/>
              <a:ext cx="428400" cy="892080"/>
              <a:chOff x="8020080" y="2603520"/>
              <a:chExt cx="428400" cy="892080"/>
            </a:xfrm>
          </p:grpSpPr>
          <p:sp>
            <p:nvSpPr>
              <p:cNvPr id="1616" name=""/>
              <p:cNvSpPr/>
              <p:nvPr/>
            </p:nvSpPr>
            <p:spPr>
              <a:xfrm>
                <a:off x="8020080" y="2674440"/>
                <a:ext cx="110520" cy="82080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8130600" y="2603520"/>
                <a:ext cx="110520" cy="89208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8241120" y="3150360"/>
                <a:ext cx="96480" cy="344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8337960" y="3119760"/>
                <a:ext cx="110520" cy="375480"/>
              </a:xfrm>
              <a:prstGeom prst="rect">
                <a:avLst/>
              </a:prstGeom>
              <a:solidFill>
                <a:srgbClr val="cc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0" name=""/>
            <p:cNvGrpSpPr/>
            <p:nvPr/>
          </p:nvGrpSpPr>
          <p:grpSpPr>
            <a:xfrm>
              <a:off x="8513640" y="2178000"/>
              <a:ext cx="510840" cy="1317600"/>
              <a:chOff x="8513640" y="2178000"/>
              <a:chExt cx="510840" cy="1317600"/>
            </a:xfrm>
          </p:grpSpPr>
          <p:sp>
            <p:nvSpPr>
              <p:cNvPr id="1621" name=""/>
              <p:cNvSpPr/>
              <p:nvPr/>
            </p:nvSpPr>
            <p:spPr>
              <a:xfrm>
                <a:off x="8513640" y="2309400"/>
                <a:ext cx="131040" cy="118584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8644680" y="2178000"/>
                <a:ext cx="131760" cy="131760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8776800" y="3018600"/>
                <a:ext cx="115560" cy="47664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8892720" y="2957760"/>
                <a:ext cx="131760" cy="537480"/>
              </a:xfrm>
              <a:prstGeom prst="rect">
                <a:avLst/>
              </a:prstGeom>
              <a:solidFill>
                <a:srgbClr val="cc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1195560" y="1955880"/>
              <a:ext cx="554760" cy="1539720"/>
              <a:chOff x="1195560" y="1955880"/>
              <a:chExt cx="554760" cy="1539720"/>
            </a:xfrm>
          </p:grpSpPr>
          <p:sp>
            <p:nvSpPr>
              <p:cNvPr id="1626" name=""/>
              <p:cNvSpPr/>
              <p:nvPr/>
            </p:nvSpPr>
            <p:spPr>
              <a:xfrm>
                <a:off x="1195560" y="2045880"/>
                <a:ext cx="143280" cy="144972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1338840" y="1955880"/>
                <a:ext cx="144000" cy="153972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1482840" y="2786400"/>
                <a:ext cx="124200" cy="70884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1607040" y="2644200"/>
                <a:ext cx="143280" cy="851040"/>
              </a:xfrm>
              <a:prstGeom prst="rect">
                <a:avLst/>
              </a:prstGeom>
              <a:solidFill>
                <a:srgbClr val="cc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1747800" y="1973160"/>
              <a:ext cx="750600" cy="1550880"/>
              <a:chOff x="1747800" y="1973160"/>
              <a:chExt cx="750600" cy="1550880"/>
            </a:xfrm>
          </p:grpSpPr>
          <p:sp>
            <p:nvSpPr>
              <p:cNvPr id="1631" name=""/>
              <p:cNvSpPr/>
              <p:nvPr/>
            </p:nvSpPr>
            <p:spPr>
              <a:xfrm>
                <a:off x="1836360" y="2084760"/>
                <a:ext cx="142560" cy="140904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1979280" y="1973160"/>
                <a:ext cx="142200" cy="152064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121480" y="2854800"/>
                <a:ext cx="123120" cy="6390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244960" y="2795040"/>
                <a:ext cx="142560" cy="698400"/>
              </a:xfrm>
              <a:prstGeom prst="rect">
                <a:avLst/>
              </a:prstGeom>
              <a:solidFill>
                <a:srgbClr val="cc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1747800" y="3493800"/>
                <a:ext cx="216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V="1">
                <a:off x="2496240" y="3493800"/>
                <a:ext cx="216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7" name=""/>
            <p:cNvGrpSpPr/>
            <p:nvPr/>
          </p:nvGrpSpPr>
          <p:grpSpPr>
            <a:xfrm>
              <a:off x="2475000" y="2279520"/>
              <a:ext cx="650520" cy="1245960"/>
              <a:chOff x="2475000" y="2279520"/>
              <a:chExt cx="650520" cy="1245960"/>
            </a:xfrm>
          </p:grpSpPr>
          <p:sp>
            <p:nvSpPr>
              <p:cNvPr id="1638" name=""/>
              <p:cNvSpPr/>
              <p:nvPr/>
            </p:nvSpPr>
            <p:spPr>
              <a:xfrm>
                <a:off x="2475000" y="2512800"/>
                <a:ext cx="144720" cy="98244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619720" y="2279520"/>
                <a:ext cx="124920" cy="121572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2744640" y="3069360"/>
                <a:ext cx="144000" cy="42552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888640" y="2998440"/>
                <a:ext cx="127080" cy="496800"/>
              </a:xfrm>
              <a:prstGeom prst="rect">
                <a:avLst/>
              </a:prstGeom>
              <a:solidFill>
                <a:srgbClr val="cc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flipV="1">
                <a:off x="3123360" y="3495240"/>
                <a:ext cx="216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3" name=""/>
            <p:cNvGrpSpPr/>
            <p:nvPr/>
          </p:nvGrpSpPr>
          <p:grpSpPr>
            <a:xfrm>
              <a:off x="3095640" y="1763640"/>
              <a:ext cx="617040" cy="1761840"/>
              <a:chOff x="3095640" y="1763640"/>
              <a:chExt cx="617040" cy="1761840"/>
            </a:xfrm>
          </p:grpSpPr>
          <p:sp>
            <p:nvSpPr>
              <p:cNvPr id="1644" name=""/>
              <p:cNvSpPr/>
              <p:nvPr/>
            </p:nvSpPr>
            <p:spPr>
              <a:xfrm>
                <a:off x="3095640" y="1763640"/>
                <a:ext cx="131040" cy="173160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226680" y="1763640"/>
                <a:ext cx="133560" cy="173160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360240" y="2482200"/>
                <a:ext cx="117360" cy="10126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477600" y="2279160"/>
                <a:ext cx="133560" cy="1215720"/>
              </a:xfrm>
              <a:prstGeom prst="rect">
                <a:avLst/>
              </a:prstGeom>
              <a:solidFill>
                <a:srgbClr val="cc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V="1">
                <a:off x="3710160" y="3495240"/>
                <a:ext cx="252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9" name=""/>
            <p:cNvGrpSpPr/>
            <p:nvPr/>
          </p:nvGrpSpPr>
          <p:grpSpPr>
            <a:xfrm>
              <a:off x="3668760" y="1965240"/>
              <a:ext cx="563040" cy="1560240"/>
              <a:chOff x="3668760" y="1965240"/>
              <a:chExt cx="563040" cy="1560240"/>
            </a:xfrm>
          </p:grpSpPr>
          <p:sp>
            <p:nvSpPr>
              <p:cNvPr id="1650" name=""/>
              <p:cNvSpPr/>
              <p:nvPr/>
            </p:nvSpPr>
            <p:spPr>
              <a:xfrm>
                <a:off x="3668760" y="2075400"/>
                <a:ext cx="121320" cy="14194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790080" y="1965240"/>
                <a:ext cx="121320" cy="153000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911760" y="2855880"/>
                <a:ext cx="106560" cy="6390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018680" y="2603160"/>
                <a:ext cx="120960" cy="891720"/>
              </a:xfrm>
              <a:prstGeom prst="rect">
                <a:avLst/>
              </a:prstGeom>
              <a:solidFill>
                <a:srgbClr val="cc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V="1">
                <a:off x="4230000" y="3495240"/>
                <a:ext cx="180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5" name=""/>
            <p:cNvGrpSpPr/>
            <p:nvPr/>
          </p:nvGrpSpPr>
          <p:grpSpPr>
            <a:xfrm>
              <a:off x="4262400" y="2502000"/>
              <a:ext cx="537840" cy="1023480"/>
              <a:chOff x="4262400" y="2502000"/>
              <a:chExt cx="537840" cy="1023480"/>
            </a:xfrm>
          </p:grpSpPr>
          <p:sp>
            <p:nvSpPr>
              <p:cNvPr id="1656" name=""/>
              <p:cNvSpPr/>
              <p:nvPr/>
            </p:nvSpPr>
            <p:spPr>
              <a:xfrm>
                <a:off x="4262400" y="2542320"/>
                <a:ext cx="115560" cy="95256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4377960" y="2502000"/>
                <a:ext cx="115920" cy="99324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494240" y="3089160"/>
                <a:ext cx="101880" cy="40572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4596120" y="3079080"/>
                <a:ext cx="115920" cy="415800"/>
              </a:xfrm>
              <a:prstGeom prst="rect">
                <a:avLst/>
              </a:prstGeom>
              <a:solidFill>
                <a:srgbClr val="cc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V="1">
                <a:off x="4798440" y="3495240"/>
                <a:ext cx="180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1" name=""/>
            <p:cNvGrpSpPr/>
            <p:nvPr/>
          </p:nvGrpSpPr>
          <p:grpSpPr>
            <a:xfrm>
              <a:off x="5246640" y="2319480"/>
              <a:ext cx="610920" cy="1206000"/>
              <a:chOff x="5246640" y="2319480"/>
              <a:chExt cx="610920" cy="1206000"/>
            </a:xfrm>
          </p:grpSpPr>
          <p:sp>
            <p:nvSpPr>
              <p:cNvPr id="1662" name=""/>
              <p:cNvSpPr/>
              <p:nvPr/>
            </p:nvSpPr>
            <p:spPr>
              <a:xfrm>
                <a:off x="5320080" y="2512080"/>
                <a:ext cx="118800" cy="98280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438880" y="2319480"/>
                <a:ext cx="104400" cy="117576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543640" y="3180600"/>
                <a:ext cx="118800" cy="3142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662800" y="3241440"/>
                <a:ext cx="102240" cy="253440"/>
              </a:xfrm>
              <a:prstGeom prst="rect">
                <a:avLst/>
              </a:prstGeom>
              <a:solidFill>
                <a:srgbClr val="cc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V="1">
                <a:off x="5246640" y="3495240"/>
                <a:ext cx="180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5855400" y="3495240"/>
                <a:ext cx="216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5807160" y="1763640"/>
              <a:ext cx="600840" cy="1763280"/>
              <a:chOff x="5807160" y="1763640"/>
              <a:chExt cx="600840" cy="1763280"/>
            </a:xfrm>
          </p:grpSpPr>
          <p:sp>
            <p:nvSpPr>
              <p:cNvPr id="1669" name=""/>
              <p:cNvSpPr/>
              <p:nvPr/>
            </p:nvSpPr>
            <p:spPr>
              <a:xfrm>
                <a:off x="5807160" y="1834560"/>
                <a:ext cx="129600" cy="166212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936760" y="1763640"/>
                <a:ext cx="129600" cy="173304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6066720" y="2198520"/>
                <a:ext cx="111240" cy="12978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6178320" y="2340720"/>
                <a:ext cx="129600" cy="1155600"/>
              </a:xfrm>
              <a:prstGeom prst="rect">
                <a:avLst/>
              </a:prstGeom>
              <a:solidFill>
                <a:srgbClr val="cc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6406200" y="3496680"/>
                <a:ext cx="180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4" name=""/>
            <p:cNvGrpSpPr/>
            <p:nvPr/>
          </p:nvGrpSpPr>
          <p:grpSpPr>
            <a:xfrm>
              <a:off x="6375240" y="2178000"/>
              <a:ext cx="572400" cy="1347480"/>
              <a:chOff x="6375240" y="2178000"/>
              <a:chExt cx="572400" cy="1347480"/>
            </a:xfrm>
          </p:grpSpPr>
          <p:sp>
            <p:nvSpPr>
              <p:cNvPr id="1675" name=""/>
              <p:cNvSpPr/>
              <p:nvPr/>
            </p:nvSpPr>
            <p:spPr>
              <a:xfrm>
                <a:off x="6375240" y="2340000"/>
                <a:ext cx="123120" cy="115488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6498360" y="2178000"/>
                <a:ext cx="123480" cy="131724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621840" y="3201120"/>
                <a:ext cx="106560" cy="29412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6728760" y="3150360"/>
                <a:ext cx="123120" cy="344520"/>
              </a:xfrm>
              <a:prstGeom prst="rect">
                <a:avLst/>
              </a:prstGeom>
              <a:solidFill>
                <a:srgbClr val="cc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V="1">
                <a:off x="6945480" y="3495240"/>
                <a:ext cx="216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6915240" y="2004840"/>
              <a:ext cx="566280" cy="1520640"/>
              <a:chOff x="6915240" y="2004840"/>
              <a:chExt cx="566280" cy="1520640"/>
            </a:xfrm>
          </p:grpSpPr>
          <p:sp>
            <p:nvSpPr>
              <p:cNvPr id="1681" name=""/>
              <p:cNvSpPr/>
              <p:nvPr/>
            </p:nvSpPr>
            <p:spPr>
              <a:xfrm>
                <a:off x="6915240" y="2095920"/>
                <a:ext cx="122400" cy="1399320"/>
              </a:xfrm>
              <a:prstGeom prst="rect">
                <a:avLst/>
              </a:prstGeom>
              <a:solidFill>
                <a:srgbClr val="9999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7037640" y="2004840"/>
                <a:ext cx="120240" cy="1490400"/>
              </a:xfrm>
              <a:prstGeom prst="rect">
                <a:avLst/>
              </a:prstGeom>
              <a:solidFill>
                <a:srgbClr val="993366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7158240" y="2886480"/>
                <a:ext cx="107640" cy="60876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7265880" y="2755440"/>
                <a:ext cx="122400" cy="739440"/>
              </a:xfrm>
              <a:prstGeom prst="rect">
                <a:avLst/>
              </a:prstGeom>
              <a:solidFill>
                <a:srgbClr val="cc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V="1">
                <a:off x="7479720" y="3495240"/>
                <a:ext cx="180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6" name=""/>
          <p:cNvSpPr/>
          <p:nvPr/>
        </p:nvSpPr>
        <p:spPr>
          <a:xfrm flipH="1">
            <a:off x="1039320" y="1630440"/>
            <a:ext cx="180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131840" y="3495600"/>
            <a:ext cx="70056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2805120" y="114480"/>
            <a:ext cx="3556080" cy="1033200"/>
            <a:chOff x="2805120" y="114480"/>
            <a:chExt cx="3556080" cy="1033200"/>
          </a:xfrm>
        </p:grpSpPr>
        <p:grpSp>
          <p:nvGrpSpPr>
            <p:cNvPr id="1689" name=""/>
            <p:cNvGrpSpPr/>
            <p:nvPr/>
          </p:nvGrpSpPr>
          <p:grpSpPr>
            <a:xfrm>
              <a:off x="3619440" y="114480"/>
              <a:ext cx="1979640" cy="879120"/>
              <a:chOff x="3619440" y="114480"/>
              <a:chExt cx="1979640" cy="879120"/>
            </a:xfrm>
          </p:grpSpPr>
          <p:grpSp>
            <p:nvGrpSpPr>
              <p:cNvPr id="1690" name=""/>
              <p:cNvGrpSpPr/>
              <p:nvPr/>
            </p:nvGrpSpPr>
            <p:grpSpPr>
              <a:xfrm>
                <a:off x="3619440" y="114480"/>
                <a:ext cx="855720" cy="879120"/>
                <a:chOff x="3619440" y="114480"/>
                <a:chExt cx="855720" cy="879120"/>
              </a:xfrm>
            </p:grpSpPr>
            <p:sp>
              <p:nvSpPr>
                <p:cNvPr id="1691" name=""/>
                <p:cNvSpPr/>
                <p:nvPr/>
              </p:nvSpPr>
              <p:spPr>
                <a:xfrm>
                  <a:off x="3619440" y="201600"/>
                  <a:ext cx="220680" cy="792000"/>
                </a:xfrm>
                <a:prstGeom prst="rect">
                  <a:avLst/>
                </a:prstGeom>
                <a:solidFill>
                  <a:srgbClr val="00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3840120" y="114480"/>
                  <a:ext cx="220680" cy="879120"/>
                </a:xfrm>
                <a:prstGeom prst="rect">
                  <a:avLst/>
                </a:prstGeom>
                <a:solidFill>
                  <a:srgbClr val="00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4060800" y="676440"/>
                  <a:ext cx="193680" cy="317160"/>
                </a:xfrm>
                <a:prstGeom prst="rect">
                  <a:avLst/>
                </a:prstGeom>
                <a:solidFill>
                  <a:srgbClr val="ff00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4254480" y="635040"/>
                  <a:ext cx="220680" cy="358560"/>
                </a:xfrm>
                <a:prstGeom prst="rect">
                  <a:avLst/>
                </a:pr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5" name=""/>
              <p:cNvGrpSpPr/>
              <p:nvPr/>
            </p:nvGrpSpPr>
            <p:grpSpPr>
              <a:xfrm>
                <a:off x="4743360" y="114480"/>
                <a:ext cx="855720" cy="879120"/>
                <a:chOff x="4743360" y="114480"/>
                <a:chExt cx="855720" cy="879120"/>
              </a:xfrm>
            </p:grpSpPr>
            <p:sp>
              <p:nvSpPr>
                <p:cNvPr id="1696" name=""/>
                <p:cNvSpPr/>
                <p:nvPr/>
              </p:nvSpPr>
              <p:spPr>
                <a:xfrm>
                  <a:off x="4743360" y="201600"/>
                  <a:ext cx="220680" cy="792000"/>
                </a:xfrm>
                <a:prstGeom prst="rect">
                  <a:avLst/>
                </a:prstGeom>
                <a:solidFill>
                  <a:srgbClr val="00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4964040" y="114480"/>
                  <a:ext cx="220680" cy="879120"/>
                </a:xfrm>
                <a:prstGeom prst="rect">
                  <a:avLst/>
                </a:prstGeom>
                <a:solidFill>
                  <a:srgbClr val="00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5184720" y="676440"/>
                  <a:ext cx="193680" cy="317160"/>
                </a:xfrm>
                <a:prstGeom prst="rect">
                  <a:avLst/>
                </a:prstGeom>
                <a:solidFill>
                  <a:srgbClr val="ff00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5378400" y="635040"/>
                  <a:ext cx="220680" cy="358560"/>
                </a:xfrm>
                <a:prstGeom prst="rect">
                  <a:avLst/>
                </a:pr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00" name=""/>
            <p:cNvSpPr/>
            <p:nvPr/>
          </p:nvSpPr>
          <p:spPr>
            <a:xfrm>
              <a:off x="2805120" y="152280"/>
              <a:ext cx="3556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Clus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tered</a:t>
              </a:r>
              <a:r>
                <a:rPr b="1" lang="en-US" sz="4000" spc="-1" strike="noStrike">
                  <a:solidFill>
                    <a:srgbClr val="ff3300"/>
                  </a:solidFill>
                  <a:latin typeface="Times New Roman"/>
                </a:rPr>
                <a:t> Ba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 txBox="1"/>
            <p:nvPr/>
          </p:nvSpPr>
          <p:spPr>
            <a:xfrm>
              <a:off x="3678120" y="662040"/>
              <a:ext cx="1819440" cy="48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>
                      <a:alpha val="50000"/>
                    </a:srgbClr>
                  </a:solidFill>
                  <a:latin typeface="Times New Roman"/>
                </a:rPr>
                <a:t>Chart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702" name=""/>
          <p:cNvSpPr/>
          <p:nvPr/>
        </p:nvSpPr>
        <p:spPr>
          <a:xfrm>
            <a:off x="1678320" y="1343160"/>
            <a:ext cx="6505200" cy="3661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43570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of Internet Use in 2000 and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3" name=""/>
          <p:cNvGrpSpPr/>
          <p:nvPr/>
        </p:nvGrpSpPr>
        <p:grpSpPr>
          <a:xfrm>
            <a:off x="6332400" y="3932280"/>
            <a:ext cx="2278080" cy="1697040"/>
            <a:chOff x="6332400" y="3932280"/>
            <a:chExt cx="2278080" cy="1697040"/>
          </a:xfrm>
        </p:grpSpPr>
        <p:sp>
          <p:nvSpPr>
            <p:cNvPr id="1704" name=""/>
            <p:cNvSpPr/>
            <p:nvPr/>
          </p:nvSpPr>
          <p:spPr>
            <a:xfrm flipV="1">
              <a:off x="6584040" y="4014720"/>
              <a:ext cx="18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7306560" y="4014720"/>
              <a:ext cx="288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332400" y="3932280"/>
              <a:ext cx="2278080" cy="1697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395400" y="4054320"/>
              <a:ext cx="250560" cy="201600"/>
            </a:xfrm>
            <a:prstGeom prst="rect">
              <a:avLst/>
            </a:prstGeom>
            <a:solidFill>
              <a:srgbClr val="9999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824160" y="4012920"/>
              <a:ext cx="159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% of enterprises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825240" y="4162680"/>
              <a:ext cx="1521720" cy="182880"/>
            </a:xfrm>
            <a:prstGeom prst="rect">
              <a:avLst/>
            </a:prstGeom>
            <a:solidFill>
              <a:srgbClr val="9c9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use the Internet 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395400" y="4437000"/>
              <a:ext cx="238320" cy="195120"/>
            </a:xfrm>
            <a:prstGeom prst="rect">
              <a:avLst/>
            </a:prstGeom>
            <a:solidFill>
              <a:srgbClr val="993366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824160" y="4397400"/>
              <a:ext cx="159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% of enterprises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825240" y="4546080"/>
              <a:ext cx="1521720" cy="182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use the Internet 2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395400" y="4842720"/>
              <a:ext cx="238320" cy="2127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30280" y="4804200"/>
              <a:ext cx="166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% of enterprises with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192800" y="4952880"/>
              <a:ext cx="1012680" cy="182880"/>
            </a:xfrm>
            <a:prstGeom prst="rect">
              <a:avLst/>
            </a:prstGeom>
            <a:solidFill>
              <a:srgbClr val="fcf9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 site 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395400" y="5205240"/>
              <a:ext cx="226440" cy="22176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830280" y="5232960"/>
              <a:ext cx="166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% of enterprises with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218360" y="5378760"/>
              <a:ext cx="1012680" cy="182880"/>
            </a:xfrm>
            <a:prstGeom prst="rect">
              <a:avLst/>
            </a:prstGeom>
            <a:solidFill>
              <a:srgbClr val="bafc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 site 2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9" name=""/>
          <p:cNvSpPr/>
          <p:nvPr/>
        </p:nvSpPr>
        <p:spPr>
          <a:xfrm>
            <a:off x="5430960" y="6461280"/>
            <a:ext cx="345888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ata Source: Statistics 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04" dur="indefinite" restart="never" nodeType="tmRoot">
          <p:childTnLst>
            <p:seq>
              <p:cTn id="1705" dur="indefinite" nodeType="mainSeq">
                <p:childTnLst>
                  <p:par>
                    <p:cTn id="1706" fill="hold">
                      <p:stCondLst>
                        <p:cond delay="0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500"/>
                            </p:stCondLst>
                            <p:childTnLst>
                              <p:par>
                                <p:cTn id="171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"/>
          <p:cNvSpPr/>
          <p:nvPr/>
        </p:nvSpPr>
        <p:spPr>
          <a:xfrm>
            <a:off x="1408680" y="1251000"/>
            <a:ext cx="634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ll-Time University Faculty By Gend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ada and Jurisdictions, 1987-88 and 1997-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1" name=""/>
          <p:cNvGrpSpPr/>
          <p:nvPr/>
        </p:nvGrpSpPr>
        <p:grpSpPr>
          <a:xfrm>
            <a:off x="2805120" y="149400"/>
            <a:ext cx="3556080" cy="1157400"/>
            <a:chOff x="2805120" y="149400"/>
            <a:chExt cx="3556080" cy="1157400"/>
          </a:xfrm>
        </p:grpSpPr>
        <p:grpSp>
          <p:nvGrpSpPr>
            <p:cNvPr id="1722" name=""/>
            <p:cNvGrpSpPr/>
            <p:nvPr/>
          </p:nvGrpSpPr>
          <p:grpSpPr>
            <a:xfrm>
              <a:off x="3678120" y="149400"/>
              <a:ext cx="1819440" cy="1157400"/>
              <a:chOff x="3678120" y="149400"/>
              <a:chExt cx="1819440" cy="1157400"/>
            </a:xfrm>
          </p:grpSpPr>
          <p:grpSp>
            <p:nvGrpSpPr>
              <p:cNvPr id="1723" name=""/>
              <p:cNvGrpSpPr/>
              <p:nvPr/>
            </p:nvGrpSpPr>
            <p:grpSpPr>
              <a:xfrm>
                <a:off x="4332240" y="149400"/>
                <a:ext cx="501480" cy="1157400"/>
                <a:chOff x="4332240" y="149400"/>
                <a:chExt cx="501480" cy="1157400"/>
              </a:xfrm>
            </p:grpSpPr>
            <p:sp>
              <p:nvSpPr>
                <p:cNvPr id="1724" name=""/>
                <p:cNvSpPr/>
                <p:nvPr/>
              </p:nvSpPr>
              <p:spPr>
                <a:xfrm>
                  <a:off x="4335480" y="638280"/>
                  <a:ext cx="496800" cy="668520"/>
                </a:xfrm>
                <a:prstGeom prst="rect">
                  <a:avLst/>
                </a:prstGeom>
                <a:solidFill>
                  <a:srgbClr val="00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4336920" y="494280"/>
                  <a:ext cx="496800" cy="216720"/>
                </a:xfrm>
                <a:prstGeom prst="rect">
                  <a:avLst/>
                </a:prstGeom>
                <a:solidFill>
                  <a:srgbClr val="00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4338360" y="366840"/>
                  <a:ext cx="489240" cy="132120"/>
                </a:xfrm>
                <a:prstGeom prst="rect">
                  <a:avLst/>
                </a:prstGeom>
                <a:solidFill>
                  <a:srgbClr val="ff00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4332240" y="149400"/>
                  <a:ext cx="496800" cy="236160"/>
                </a:xfrm>
                <a:prstGeom prst="rect">
                  <a:avLst/>
                </a:prstGeom>
                <a:solidFill>
                  <a:srgbClr val="ffff00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8" name=""/>
              <p:cNvSpPr txBox="1"/>
              <p:nvPr/>
            </p:nvSpPr>
            <p:spPr>
              <a:xfrm>
                <a:off x="3678120" y="717840"/>
                <a:ext cx="1819440" cy="5385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>
                        <a:alpha val="50000"/>
                      </a:srgbClr>
                    </a:solidFill>
                    <a:latin typeface="Times New Roman"/>
                  </a:rPr>
                  <a:t>Chart 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>
                      <a:alpha val="50000"/>
                    </a:srgbClr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729" name=""/>
            <p:cNvSpPr/>
            <p:nvPr/>
          </p:nvSpPr>
          <p:spPr>
            <a:xfrm>
              <a:off x="2805120" y="152280"/>
              <a:ext cx="3556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Stack</a:t>
              </a: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ed</a:t>
              </a: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 Bar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1419120" y="3848040"/>
            <a:ext cx="6292800" cy="2738160"/>
            <a:chOff x="1419120" y="3848040"/>
            <a:chExt cx="6292800" cy="2738160"/>
          </a:xfrm>
        </p:grpSpPr>
        <p:grpSp>
          <p:nvGrpSpPr>
            <p:cNvPr id="1731" name=""/>
            <p:cNvGrpSpPr/>
            <p:nvPr/>
          </p:nvGrpSpPr>
          <p:grpSpPr>
            <a:xfrm>
              <a:off x="1419120" y="4081320"/>
              <a:ext cx="6292800" cy="2504880"/>
              <a:chOff x="1419120" y="4081320"/>
              <a:chExt cx="6292800" cy="2504880"/>
            </a:xfrm>
          </p:grpSpPr>
          <p:sp>
            <p:nvSpPr>
              <p:cNvPr id="1732" name=""/>
              <p:cNvSpPr/>
              <p:nvPr/>
            </p:nvSpPr>
            <p:spPr>
              <a:xfrm>
                <a:off x="1419120" y="4099320"/>
                <a:ext cx="6288120" cy="2486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3" name=""/>
              <p:cNvGrpSpPr/>
              <p:nvPr/>
            </p:nvGrpSpPr>
            <p:grpSpPr>
              <a:xfrm>
                <a:off x="3035160" y="4606560"/>
                <a:ext cx="2903040" cy="1573560"/>
                <a:chOff x="3035160" y="4606560"/>
                <a:chExt cx="2903040" cy="1573560"/>
              </a:xfrm>
            </p:grpSpPr>
            <p:sp>
              <p:nvSpPr>
                <p:cNvPr id="1734" name=""/>
                <p:cNvSpPr/>
                <p:nvPr/>
              </p:nvSpPr>
              <p:spPr>
                <a:xfrm>
                  <a:off x="3035160" y="4606560"/>
                  <a:ext cx="2901600" cy="15346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3035160" y="5883480"/>
                  <a:ext cx="290160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3035160" y="5626080"/>
                  <a:ext cx="2901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3035160" y="5377320"/>
                  <a:ext cx="2901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035160" y="5119560"/>
                  <a:ext cx="2901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3035160" y="4862160"/>
                  <a:ext cx="2901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3035160" y="4606560"/>
                  <a:ext cx="2901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3035160" y="4606560"/>
                  <a:ext cx="2901600" cy="1534680"/>
                </a:xfrm>
                <a:prstGeom prst="rect">
                  <a:avLst/>
                </a:prstGeom>
                <a:noFill/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3466080" y="5923080"/>
                  <a:ext cx="586440" cy="217800"/>
                </a:xfrm>
                <a:prstGeom prst="rect">
                  <a:avLst/>
                </a:prstGeom>
                <a:solidFill>
                  <a:srgbClr val="99336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4919040" y="5823720"/>
                  <a:ext cx="584280" cy="317520"/>
                </a:xfrm>
                <a:prstGeom prst="rect">
                  <a:avLst/>
                </a:prstGeom>
                <a:solidFill>
                  <a:srgbClr val="99336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3466080" y="4862160"/>
                  <a:ext cx="586440" cy="1060920"/>
                </a:xfrm>
                <a:prstGeom prst="rect">
                  <a:avLst/>
                </a:prstGeom>
                <a:solidFill>
                  <a:srgbClr val="ffffcc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4919040" y="4862160"/>
                  <a:ext cx="584280" cy="961200"/>
                </a:xfrm>
                <a:prstGeom prst="rect">
                  <a:avLst/>
                </a:prstGeom>
                <a:solidFill>
                  <a:srgbClr val="ffffcc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3035160" y="6141240"/>
                  <a:ext cx="2901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 flipV="1">
                  <a:off x="4485600" y="6140880"/>
                  <a:ext cx="1800" cy="39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flipV="1">
                  <a:off x="5936760" y="6140880"/>
                  <a:ext cx="1440" cy="39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9" name=""/>
              <p:cNvSpPr/>
              <p:nvPr/>
            </p:nvSpPr>
            <p:spPr>
              <a:xfrm>
                <a:off x="1870200" y="4176720"/>
                <a:ext cx="5506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anadian Full Time University Facul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0" name=""/>
              <p:cNvGrpSpPr/>
              <p:nvPr/>
            </p:nvGrpSpPr>
            <p:grpSpPr>
              <a:xfrm>
                <a:off x="2586960" y="4534920"/>
                <a:ext cx="416160" cy="1708920"/>
                <a:chOff x="2586960" y="4534920"/>
                <a:chExt cx="416160" cy="1708920"/>
              </a:xfrm>
            </p:grpSpPr>
            <p:sp>
              <p:nvSpPr>
                <p:cNvPr id="1751" name=""/>
                <p:cNvSpPr/>
                <p:nvPr/>
              </p:nvSpPr>
              <p:spPr>
                <a:xfrm>
                  <a:off x="3001680" y="4611960"/>
                  <a:ext cx="1440" cy="1464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2955600" y="6077160"/>
                  <a:ext cx="46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2955600" y="5830920"/>
                  <a:ext cx="4608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2955600" y="5585400"/>
                  <a:ext cx="46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2955600" y="5347800"/>
                  <a:ext cx="46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2955600" y="5101920"/>
                  <a:ext cx="46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2955600" y="4856040"/>
                  <a:ext cx="46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2955600" y="4611960"/>
                  <a:ext cx="46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flipV="1">
                  <a:off x="3001680" y="6077160"/>
                  <a:ext cx="1440" cy="37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2807640" y="6000120"/>
                  <a:ext cx="1134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2693160" y="5754240"/>
                  <a:ext cx="22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2693160" y="5508360"/>
                  <a:ext cx="22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4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2693160" y="5272560"/>
                  <a:ext cx="22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6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2693160" y="5026320"/>
                  <a:ext cx="2264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8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2586960" y="4780800"/>
                  <a:ext cx="339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2586960" y="4534920"/>
                  <a:ext cx="339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7" name=""/>
              <p:cNvSpPr/>
              <p:nvPr/>
            </p:nvSpPr>
            <p:spPr>
              <a:xfrm>
                <a:off x="3564720" y="6196320"/>
                <a:ext cx="835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987-8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4872960" y="6196320"/>
                <a:ext cx="835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997-9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rot="16200000">
                <a:off x="1583280" y="5189760"/>
                <a:ext cx="1215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% of Tot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0" name=""/>
              <p:cNvGrpSpPr/>
              <p:nvPr/>
            </p:nvGrpSpPr>
            <p:grpSpPr>
              <a:xfrm>
                <a:off x="6022800" y="4759920"/>
                <a:ext cx="1600200" cy="986760"/>
                <a:chOff x="6022800" y="4759920"/>
                <a:chExt cx="1600200" cy="986760"/>
              </a:xfrm>
            </p:grpSpPr>
            <p:sp>
              <p:nvSpPr>
                <p:cNvPr id="1771" name=""/>
                <p:cNvSpPr/>
                <p:nvPr/>
              </p:nvSpPr>
              <p:spPr>
                <a:xfrm>
                  <a:off x="6022800" y="4759920"/>
                  <a:ext cx="1577880" cy="986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6087960" y="4920480"/>
                  <a:ext cx="320400" cy="288360"/>
                </a:xfrm>
                <a:prstGeom prst="rect">
                  <a:avLst/>
                </a:prstGeom>
                <a:solidFill>
                  <a:srgbClr val="ffffcc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6537240" y="4957200"/>
                  <a:ext cx="1017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% mal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6087960" y="5405040"/>
                  <a:ext cx="263520" cy="233640"/>
                </a:xfrm>
                <a:prstGeom prst="rect">
                  <a:avLst/>
                </a:prstGeom>
                <a:solidFill>
                  <a:srgbClr val="993366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6484680" y="5424480"/>
                  <a:ext cx="11383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% fem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6" name=""/>
              <p:cNvSpPr/>
              <p:nvPr/>
            </p:nvSpPr>
            <p:spPr>
              <a:xfrm>
                <a:off x="1423800" y="4081320"/>
                <a:ext cx="6288120" cy="24868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7" name=""/>
            <p:cNvSpPr/>
            <p:nvPr/>
          </p:nvSpPr>
          <p:spPr>
            <a:xfrm>
              <a:off x="3448080" y="3848040"/>
              <a:ext cx="1135080" cy="324000"/>
            </a:xfrm>
            <a:custGeom>
              <a:avLst/>
              <a:gdLst>
                <a:gd name="textAreaLeft" fmla="*/ 249480 w 1135080"/>
                <a:gd name="textAreaRight" fmla="*/ 885600 w 1135080"/>
                <a:gd name="textAreaTop" fmla="*/ 71280 h 324000"/>
                <a:gd name="textAreaBottom" fmla="*/ 25272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50000">
                  <a:srgbClr val="fefefe"/>
                </a:gs>
                <a:gs pos="100000">
                  <a:srgbClr val="3399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5691240" y="6461280"/>
            <a:ext cx="345888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ata Source: Statistics 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9" name=""/>
          <p:cNvGrpSpPr/>
          <p:nvPr/>
        </p:nvGrpSpPr>
        <p:grpSpPr>
          <a:xfrm>
            <a:off x="105120" y="2095560"/>
            <a:ext cx="8848440" cy="1816200"/>
            <a:chOff x="105120" y="2095560"/>
            <a:chExt cx="8848440" cy="1816200"/>
          </a:xfrm>
        </p:grpSpPr>
        <p:sp>
          <p:nvSpPr>
            <p:cNvPr id="1780" name=""/>
            <p:cNvSpPr/>
            <p:nvPr/>
          </p:nvSpPr>
          <p:spPr>
            <a:xfrm>
              <a:off x="7105680" y="2114640"/>
              <a:ext cx="1771560" cy="1724040"/>
            </a:xfrm>
            <a:prstGeom prst="rect">
              <a:avLst/>
            </a:prstGeom>
            <a:gradFill rotWithShape="0">
              <a:gsLst>
                <a:gs pos="0">
                  <a:srgbClr val="66ff99"/>
                </a:gs>
                <a:gs pos="50000">
                  <a:srgbClr val="d4fee2"/>
                </a:gs>
                <a:gs pos="100000">
                  <a:srgbClr val="66ff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029200" y="2114640"/>
              <a:ext cx="2000160" cy="17240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efefe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124080" y="2095560"/>
              <a:ext cx="1771920" cy="174312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fefefe"/>
                </a:gs>
                <a:gs pos="100000">
                  <a:srgbClr val="3399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238400" y="2095560"/>
              <a:ext cx="1771560" cy="175248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50000">
                  <a:srgbClr val="fefefe"/>
                </a:gs>
                <a:gs pos="100000">
                  <a:srgbClr val="ff66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746000" y="21114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352520" y="2778120"/>
              <a:ext cx="76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4,651   33,925      12,829     13,910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2,650     12,095           9,172     7,8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256200" y="2111400"/>
              <a:ext cx="156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ull Prof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969440" y="2111400"/>
              <a:ext cx="208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ssociate Prof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218960" y="249552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987-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133360" y="249552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997-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085920" y="249552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987-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962160" y="249552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997-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060880" y="249552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987-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753160" y="249552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997-98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598520" y="211140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th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099200" y="249552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987-8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975440" y="249552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997-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05120" y="3543480"/>
              <a:ext cx="96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% M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05120" y="3228840"/>
              <a:ext cx="118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% Fem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500120" y="32385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452680" y="32511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452760" y="32511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257720" y="32511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305320" y="32511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372360" y="32511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343640" y="32511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8296200" y="32511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276200" y="2457360"/>
              <a:ext cx="876600" cy="139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209680" y="2457360"/>
              <a:ext cx="762120" cy="139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9" name=""/>
            <p:cNvGrpSpPr/>
            <p:nvPr/>
          </p:nvGrpSpPr>
          <p:grpSpPr>
            <a:xfrm>
              <a:off x="3143160" y="2419200"/>
              <a:ext cx="1676160" cy="1409400"/>
              <a:chOff x="3143160" y="2419200"/>
              <a:chExt cx="1676160" cy="1409400"/>
            </a:xfrm>
          </p:grpSpPr>
          <p:sp>
            <p:nvSpPr>
              <p:cNvPr id="1810" name=""/>
              <p:cNvSpPr/>
              <p:nvPr/>
            </p:nvSpPr>
            <p:spPr>
              <a:xfrm>
                <a:off x="3143160" y="2419200"/>
                <a:ext cx="847080" cy="1409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082400" y="2419200"/>
                <a:ext cx="736920" cy="1409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"/>
            <p:cNvGrpSpPr/>
            <p:nvPr/>
          </p:nvGrpSpPr>
          <p:grpSpPr>
            <a:xfrm>
              <a:off x="5124600" y="2438280"/>
              <a:ext cx="1828440" cy="1390680"/>
              <a:chOff x="5124600" y="2438280"/>
              <a:chExt cx="1828440" cy="1390680"/>
            </a:xfrm>
          </p:grpSpPr>
          <p:sp>
            <p:nvSpPr>
              <p:cNvPr id="1813" name=""/>
              <p:cNvSpPr/>
              <p:nvPr/>
            </p:nvSpPr>
            <p:spPr>
              <a:xfrm>
                <a:off x="5124600" y="2438280"/>
                <a:ext cx="924120" cy="1390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6149160" y="2438280"/>
                <a:ext cx="803880" cy="1390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"/>
            <p:cNvGrpSpPr/>
            <p:nvPr/>
          </p:nvGrpSpPr>
          <p:grpSpPr>
            <a:xfrm>
              <a:off x="7143840" y="2381400"/>
              <a:ext cx="1675800" cy="1447200"/>
              <a:chOff x="7143840" y="2381400"/>
              <a:chExt cx="1675800" cy="1447200"/>
            </a:xfrm>
          </p:grpSpPr>
          <p:sp>
            <p:nvSpPr>
              <p:cNvPr id="1816" name=""/>
              <p:cNvSpPr/>
              <p:nvPr/>
            </p:nvSpPr>
            <p:spPr>
              <a:xfrm>
                <a:off x="7143840" y="2381400"/>
                <a:ext cx="847080" cy="144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8083080" y="2381400"/>
                <a:ext cx="736560" cy="144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500"/>
                            </p:stCondLst>
                            <p:childTnLst>
                              <p:par>
                                <p:cTn id="17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9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500"/>
                            </p:stCondLst>
                            <p:childTnLst>
                              <p:par>
                                <p:cTn id="17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1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"/>
          <p:cNvSpPr/>
          <p:nvPr/>
        </p:nvSpPr>
        <p:spPr>
          <a:xfrm>
            <a:off x="1967040" y="2352600"/>
            <a:ext cx="5343480" cy="2635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8100000"/>
          </a:gradFill>
          <a:ln w="0">
            <a:noFill/>
          </a:ln>
          <a:effectLst>
            <a:outerShdw dist="188838" dir="826225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71680" indent="-22572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ake sure that your charts                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are not               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overl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lutt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"/>
          <p:cNvSpPr/>
          <p:nvPr/>
        </p:nvSpPr>
        <p:spPr>
          <a:xfrm>
            <a:off x="1023840" y="5518080"/>
            <a:ext cx="717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1" i="1" lang="en-US" sz="3000" spc="-1" strike="noStrike">
                <a:solidFill>
                  <a:srgbClr val="993366"/>
                </a:solidFill>
                <a:latin typeface="Times New Roman"/>
              </a:rPr>
              <a:t>four typical</a:t>
            </a:r>
            <a:r>
              <a:rPr b="1" lang="en-US" sz="3000" spc="-1" strike="noStrike">
                <a:solidFill>
                  <a:srgbClr val="993366"/>
                </a:solidFill>
                <a:latin typeface="Times New Roman"/>
              </a:rPr>
              <a:t> shape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2363760" y="1711440"/>
            <a:ext cx="4495680" cy="2647800"/>
          </a:xfrm>
          <a:prstGeom prst="bevel">
            <a:avLst>
              <a:gd name="adj" fmla="val 125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ha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1" name=""/>
          <p:cNvGrpSpPr/>
          <p:nvPr/>
        </p:nvGrpSpPr>
        <p:grpSpPr>
          <a:xfrm>
            <a:off x="1030320" y="866880"/>
            <a:ext cx="7326000" cy="4263840"/>
            <a:chOff x="1030320" y="866880"/>
            <a:chExt cx="7326000" cy="4263840"/>
          </a:xfrm>
        </p:grpSpPr>
        <p:sp>
          <p:nvSpPr>
            <p:cNvPr id="1822" name=""/>
            <p:cNvSpPr txBox="1"/>
            <p:nvPr/>
          </p:nvSpPr>
          <p:spPr>
            <a:xfrm>
              <a:off x="1030320" y="2276640"/>
              <a:ext cx="2362320" cy="106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dfbf2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Narrow"/>
                </a:rPr>
                <a:t>Skewness</a:t>
              </a:r>
              <a:endPara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dfbf2"/>
                    </a:gs>
                    <a:gs pos="100000">
                      <a:srgbClr val="808080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Narrow"/>
                <a:ea typeface="Arial Narrow"/>
              </a:endParaRPr>
            </a:p>
          </p:txBody>
        </p:sp>
        <p:sp>
          <p:nvSpPr>
            <p:cNvPr id="1823" name=""/>
            <p:cNvSpPr txBox="1"/>
            <p:nvPr/>
          </p:nvSpPr>
          <p:spPr>
            <a:xfrm>
              <a:off x="3244680" y="866880"/>
              <a:ext cx="2619720" cy="1342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Top">
                <a:avLst>
                  <a:gd name="adj" fmla="val 5969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50000">
                        <a:srgbClr val="fcf9be"/>
                      </a:gs>
                      <a:gs pos="100000">
                        <a:srgbClr val="ff0000"/>
                      </a:gs>
                    </a:gsLst>
                    <a:lin ang="10800000"/>
                  </a:gradFill>
                  <a:latin typeface="Copper Black"/>
                </a:rPr>
                <a:t>Symmetry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cf9be"/>
                    </a:gs>
                    <a:gs pos="100000">
                      <a:srgbClr val="ff0000"/>
                    </a:gs>
                  </a:gsLst>
                  <a:lin ang="10800000"/>
                </a:gradFill>
                <a:latin typeface="Copper Black"/>
                <a:ea typeface="Copper Black"/>
              </a:endParaRPr>
            </a:p>
          </p:txBody>
        </p:sp>
        <p:sp>
          <p:nvSpPr>
            <p:cNvPr id="1824" name=""/>
            <p:cNvSpPr txBox="1"/>
            <p:nvPr/>
          </p:nvSpPr>
          <p:spPr>
            <a:xfrm>
              <a:off x="3340080" y="3835440"/>
              <a:ext cx="254304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6911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00"/>
                      </a:gs>
                      <a:gs pos="50000">
                        <a:srgbClr val="ffeac5"/>
                      </a:gs>
                      <a:gs pos="100000">
                        <a:srgbClr val="ff6600"/>
                      </a:gs>
                    </a:gsLst>
                    <a:lin ang="10800000"/>
                  </a:gradFill>
                  <a:latin typeface="Cooper Black"/>
                </a:rPr>
                <a:t>Bell Curv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eac5"/>
                    </a:gs>
                    <a:gs pos="100000">
                      <a:srgbClr val="ff6600"/>
                    </a:gs>
                  </a:gsLst>
                  <a:lin ang="10800000"/>
                </a:gradFill>
                <a:latin typeface="Cooper Black"/>
                <a:ea typeface="Cooper Black"/>
              </a:endParaRPr>
            </a:p>
          </p:txBody>
        </p:sp>
        <p:grpSp>
          <p:nvGrpSpPr>
            <p:cNvPr id="1825" name=""/>
            <p:cNvGrpSpPr/>
            <p:nvPr/>
          </p:nvGrpSpPr>
          <p:grpSpPr>
            <a:xfrm>
              <a:off x="4906800" y="2325600"/>
              <a:ext cx="3449520" cy="1413360"/>
              <a:chOff x="4906800" y="2325600"/>
              <a:chExt cx="3449520" cy="1413360"/>
            </a:xfrm>
          </p:grpSpPr>
          <p:sp>
            <p:nvSpPr>
              <p:cNvPr id="1826" name=""/>
              <p:cNvSpPr/>
              <p:nvPr/>
            </p:nvSpPr>
            <p:spPr>
              <a:xfrm>
                <a:off x="4906800" y="2325600"/>
                <a:ext cx="3159360" cy="111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oda</a:t>
                </a:r>
                <a:r>
                  <a:rPr b="1" lang="en-US" sz="9600" spc="-1" strike="noStrike">
                    <a:solidFill>
                      <a:srgbClr val="993366"/>
                    </a:solidFill>
                    <a:latin typeface="Times New Roman"/>
                  </a:rPr>
                  <a:t>l</a:t>
                </a:r>
                <a:endParaRPr b="0" lang="en-US" sz="9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113600" y="3035520"/>
                <a:ext cx="1242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993366"/>
                    </a:solidFill>
                    <a:latin typeface="Times New Roman"/>
                  </a:rPr>
                  <a:t>Clas</a:t>
                </a:r>
                <a:r>
                  <a:rPr b="1" lang="en-US" sz="4000" spc="-1" strike="noStrike">
                    <a:solidFill>
                      <a:srgbClr val="993366"/>
                    </a:solidFill>
                    <a:latin typeface="Times New Roman"/>
                  </a:rPr>
                  <a:t>s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  <p:timing>
    <p:tnLst>
      <p:par>
        <p:cTn id="1742" dur="indefinite" restart="never" nodeType="tmRoot">
          <p:childTnLst>
            <p:seq>
              <p:cTn id="1743" dur="indefinite" nodeType="mainSeq">
                <p:childTnLst>
                  <p:par>
                    <p:cTn id="1744" fill="hold">
                      <p:stCondLst>
                        <p:cond delay="0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500"/>
                            </p:stCondLst>
                            <p:childTnLst>
                              <p:par>
                                <p:cTn id="17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3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8" name=""/>
          <p:cNvGrpSpPr/>
          <p:nvPr/>
        </p:nvGrpSpPr>
        <p:grpSpPr>
          <a:xfrm>
            <a:off x="5705640" y="3095640"/>
            <a:ext cx="2555640" cy="1857240"/>
            <a:chOff x="5705640" y="3095640"/>
            <a:chExt cx="2555640" cy="1857240"/>
          </a:xfrm>
        </p:grpSpPr>
        <p:sp>
          <p:nvSpPr>
            <p:cNvPr id="1829" name=""/>
            <p:cNvSpPr/>
            <p:nvPr/>
          </p:nvSpPr>
          <p:spPr>
            <a:xfrm>
              <a:off x="5705640" y="3095640"/>
              <a:ext cx="2543400" cy="1846080"/>
            </a:xfrm>
            <a:custGeom>
              <a:avLst/>
              <a:gdLst/>
              <a:ahLst/>
              <a:rect l="l" t="t" r="r" b="b"/>
              <a:pathLst>
                <a:path w="3606" h="1878">
                  <a:moveTo>
                    <a:pt x="3606" y="1878"/>
                  </a:moveTo>
                  <a:lnTo>
                    <a:pt x="3606" y="0"/>
                  </a:lnTo>
                  <a:lnTo>
                    <a:pt x="0" y="0"/>
                  </a:lnTo>
                  <a:lnTo>
                    <a:pt x="0" y="1872"/>
                  </a:lnTo>
                  <a:lnTo>
                    <a:pt x="3606" y="1878"/>
                  </a:lnTo>
                  <a:close/>
                </a:path>
              </a:pathLst>
            </a:custGeom>
            <a:solidFill>
              <a:srgbClr val="e9e9e9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934960" y="3095640"/>
              <a:ext cx="1080" cy="18572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161760" y="3095640"/>
              <a:ext cx="0" cy="18572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391440" y="3095640"/>
              <a:ext cx="0" cy="18572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619680" y="3095640"/>
              <a:ext cx="0" cy="18572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844320" y="3095640"/>
              <a:ext cx="1440" cy="18572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75800" y="3095640"/>
              <a:ext cx="0" cy="18572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00800" y="3095640"/>
              <a:ext cx="0" cy="18572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530480" y="3095640"/>
              <a:ext cx="1080" cy="18572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760160" y="3095640"/>
              <a:ext cx="1080" cy="18572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985160" y="3095640"/>
              <a:ext cx="0" cy="18572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705640" y="3417840"/>
              <a:ext cx="2530800" cy="46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705640" y="3745080"/>
              <a:ext cx="2543400" cy="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705640" y="4065480"/>
              <a:ext cx="2555640" cy="180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705640" y="4387680"/>
              <a:ext cx="2536920" cy="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705640" y="4708440"/>
              <a:ext cx="2536920" cy="180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5" name=""/>
          <p:cNvGrpSpPr/>
          <p:nvPr/>
        </p:nvGrpSpPr>
        <p:grpSpPr>
          <a:xfrm>
            <a:off x="800280" y="3108240"/>
            <a:ext cx="2266920" cy="1857240"/>
            <a:chOff x="800280" y="3108240"/>
            <a:chExt cx="2266920" cy="1857240"/>
          </a:xfrm>
        </p:grpSpPr>
        <p:sp>
          <p:nvSpPr>
            <p:cNvPr id="1846" name=""/>
            <p:cNvSpPr/>
            <p:nvPr/>
          </p:nvSpPr>
          <p:spPr>
            <a:xfrm>
              <a:off x="800280" y="3108240"/>
              <a:ext cx="2257560" cy="1846440"/>
            </a:xfrm>
            <a:custGeom>
              <a:avLst/>
              <a:gdLst/>
              <a:ahLst/>
              <a:rect l="l" t="t" r="r" b="b"/>
              <a:pathLst>
                <a:path w="3606" h="1878">
                  <a:moveTo>
                    <a:pt x="3606" y="1878"/>
                  </a:moveTo>
                  <a:lnTo>
                    <a:pt x="3606" y="0"/>
                  </a:lnTo>
                  <a:lnTo>
                    <a:pt x="0" y="0"/>
                  </a:lnTo>
                  <a:lnTo>
                    <a:pt x="0" y="1872"/>
                  </a:lnTo>
                  <a:lnTo>
                    <a:pt x="3606" y="1878"/>
                  </a:lnTo>
                  <a:close/>
                </a:path>
              </a:pathLst>
            </a:custGeom>
            <a:solidFill>
              <a:srgbClr val="e9e9e9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003680" y="3108240"/>
              <a:ext cx="0" cy="18572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204200" y="3108240"/>
              <a:ext cx="0" cy="18572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407960" y="3108240"/>
              <a:ext cx="0" cy="18572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612080" y="3108240"/>
              <a:ext cx="0" cy="18572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812600" y="3108240"/>
              <a:ext cx="0" cy="18572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016360" y="3108240"/>
              <a:ext cx="0" cy="18572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2207160" y="3108240"/>
              <a:ext cx="7560" cy="18572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419560" y="3108240"/>
              <a:ext cx="1080" cy="18572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623320" y="3108240"/>
              <a:ext cx="1080" cy="18572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823840" y="3108240"/>
              <a:ext cx="0" cy="18572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00280" y="3419280"/>
              <a:ext cx="2266920" cy="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00280" y="3757680"/>
              <a:ext cx="2257560" cy="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800280" y="4078080"/>
              <a:ext cx="2227680" cy="180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00280" y="4400640"/>
              <a:ext cx="2265480" cy="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800280" y="4721040"/>
              <a:ext cx="2265480" cy="180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2" name=""/>
          <p:cNvSpPr txBox="1"/>
          <p:nvPr/>
        </p:nvSpPr>
        <p:spPr>
          <a:xfrm>
            <a:off x="2959200" y="0"/>
            <a:ext cx="324792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cf9be"/>
                    </a:gs>
                    <a:gs pos="100000">
                      <a:srgbClr val="ff0000"/>
                    </a:gs>
                  </a:gsLst>
                  <a:lin ang="10800000"/>
                </a:gradFill>
                <a:latin typeface="Copper Black"/>
              </a:rPr>
              <a:t>Symmet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cf9be"/>
                  </a:gs>
                  <a:gs pos="100000">
                    <a:srgbClr val="ff0000"/>
                  </a:gs>
                </a:gsLst>
                <a:lin ang="10800000"/>
              </a:gradFill>
              <a:latin typeface="Copper Black"/>
              <a:ea typeface="Copper Black"/>
            </a:endParaRPr>
          </a:p>
        </p:txBody>
      </p:sp>
      <p:sp>
        <p:nvSpPr>
          <p:cNvPr id="1863" name=""/>
          <p:cNvSpPr/>
          <p:nvPr/>
        </p:nvSpPr>
        <p:spPr>
          <a:xfrm>
            <a:off x="2987280" y="1166760"/>
            <a:ext cx="32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alanced effec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4" name="" descr=""/>
          <p:cNvPicPr/>
          <p:nvPr/>
        </p:nvPicPr>
        <p:blipFill>
          <a:blip r:embed="rId1"/>
          <a:stretch/>
        </p:blipFill>
        <p:spPr>
          <a:xfrm>
            <a:off x="2239920" y="1920960"/>
            <a:ext cx="2386080" cy="1073160"/>
          </a:xfrm>
          <a:prstGeom prst="rect">
            <a:avLst/>
          </a:prstGeom>
          <a:ln w="0">
            <a:noFill/>
          </a:ln>
        </p:spPr>
      </p:pic>
      <p:grpSp>
        <p:nvGrpSpPr>
          <p:cNvPr id="1865" name=""/>
          <p:cNvGrpSpPr/>
          <p:nvPr/>
        </p:nvGrpSpPr>
        <p:grpSpPr>
          <a:xfrm>
            <a:off x="4611600" y="1930320"/>
            <a:ext cx="2370240" cy="1056960"/>
            <a:chOff x="4611600" y="1930320"/>
            <a:chExt cx="2370240" cy="1056960"/>
          </a:xfrm>
        </p:grpSpPr>
        <p:sp>
          <p:nvSpPr>
            <p:cNvPr id="1866" name=""/>
            <p:cNvSpPr/>
            <p:nvPr/>
          </p:nvSpPr>
          <p:spPr>
            <a:xfrm flipH="1">
              <a:off x="5660640" y="2218320"/>
              <a:ext cx="136080" cy="55800"/>
            </a:xfrm>
            <a:custGeom>
              <a:avLst/>
              <a:gdLst/>
              <a:ahLst/>
              <a:rect l="l" t="t" r="r" b="b"/>
              <a:pathLst>
                <a:path w="102" h="42">
                  <a:moveTo>
                    <a:pt x="0" y="12"/>
                  </a:moveTo>
                  <a:lnTo>
                    <a:pt x="30" y="18"/>
                  </a:lnTo>
                  <a:lnTo>
                    <a:pt x="66" y="24"/>
                  </a:lnTo>
                  <a:lnTo>
                    <a:pt x="96" y="42"/>
                  </a:lnTo>
                  <a:lnTo>
                    <a:pt x="102" y="36"/>
                  </a:lnTo>
                  <a:lnTo>
                    <a:pt x="102" y="24"/>
                  </a:lnTo>
                  <a:lnTo>
                    <a:pt x="102" y="18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66" y="0"/>
                  </a:lnTo>
                  <a:lnTo>
                    <a:pt x="1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>
              <a:off x="4996080" y="2314800"/>
              <a:ext cx="1040760" cy="240120"/>
            </a:xfrm>
            <a:custGeom>
              <a:avLst/>
              <a:gdLst/>
              <a:ahLst/>
              <a:rect l="l" t="t" r="r" b="b"/>
              <a:pathLst>
                <a:path w="780" h="180">
                  <a:moveTo>
                    <a:pt x="144" y="162"/>
                  </a:moveTo>
                  <a:lnTo>
                    <a:pt x="240" y="150"/>
                  </a:lnTo>
                  <a:lnTo>
                    <a:pt x="306" y="138"/>
                  </a:lnTo>
                  <a:lnTo>
                    <a:pt x="372" y="120"/>
                  </a:lnTo>
                  <a:lnTo>
                    <a:pt x="432" y="96"/>
                  </a:lnTo>
                  <a:lnTo>
                    <a:pt x="492" y="72"/>
                  </a:lnTo>
                  <a:lnTo>
                    <a:pt x="540" y="48"/>
                  </a:lnTo>
                  <a:lnTo>
                    <a:pt x="564" y="36"/>
                  </a:lnTo>
                  <a:lnTo>
                    <a:pt x="600" y="24"/>
                  </a:lnTo>
                  <a:lnTo>
                    <a:pt x="636" y="12"/>
                  </a:lnTo>
                  <a:lnTo>
                    <a:pt x="720" y="12"/>
                  </a:lnTo>
                  <a:lnTo>
                    <a:pt x="738" y="24"/>
                  </a:lnTo>
                  <a:lnTo>
                    <a:pt x="762" y="36"/>
                  </a:lnTo>
                  <a:lnTo>
                    <a:pt x="780" y="48"/>
                  </a:lnTo>
                  <a:lnTo>
                    <a:pt x="768" y="36"/>
                  </a:lnTo>
                  <a:lnTo>
                    <a:pt x="744" y="18"/>
                  </a:lnTo>
                  <a:lnTo>
                    <a:pt x="732" y="12"/>
                  </a:lnTo>
                  <a:lnTo>
                    <a:pt x="708" y="0"/>
                  </a:lnTo>
                  <a:lnTo>
                    <a:pt x="660" y="0"/>
                  </a:lnTo>
                  <a:lnTo>
                    <a:pt x="600" y="6"/>
                  </a:lnTo>
                  <a:lnTo>
                    <a:pt x="534" y="18"/>
                  </a:lnTo>
                  <a:lnTo>
                    <a:pt x="474" y="36"/>
                  </a:lnTo>
                  <a:lnTo>
                    <a:pt x="414" y="54"/>
                  </a:lnTo>
                  <a:lnTo>
                    <a:pt x="354" y="78"/>
                  </a:lnTo>
                  <a:lnTo>
                    <a:pt x="330" y="90"/>
                  </a:lnTo>
                  <a:lnTo>
                    <a:pt x="306" y="102"/>
                  </a:lnTo>
                  <a:lnTo>
                    <a:pt x="264" y="120"/>
                  </a:lnTo>
                  <a:lnTo>
                    <a:pt x="222" y="132"/>
                  </a:lnTo>
                  <a:lnTo>
                    <a:pt x="174" y="144"/>
                  </a:lnTo>
                  <a:lnTo>
                    <a:pt x="90" y="144"/>
                  </a:lnTo>
                  <a:lnTo>
                    <a:pt x="42" y="138"/>
                  </a:lnTo>
                  <a:lnTo>
                    <a:pt x="0" y="126"/>
                  </a:lnTo>
                  <a:lnTo>
                    <a:pt x="18" y="132"/>
                  </a:lnTo>
                  <a:lnTo>
                    <a:pt x="48" y="150"/>
                  </a:lnTo>
                  <a:lnTo>
                    <a:pt x="78" y="180"/>
                  </a:lnTo>
                  <a:lnTo>
                    <a:pt x="144" y="162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4915800" y="2394720"/>
              <a:ext cx="64080" cy="64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36" y="12"/>
                  </a:moveTo>
                  <a:lnTo>
                    <a:pt x="30" y="6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36" y="48"/>
                  </a:lnTo>
                  <a:lnTo>
                    <a:pt x="42" y="42"/>
                  </a:lnTo>
                  <a:lnTo>
                    <a:pt x="48" y="36"/>
                  </a:lnTo>
                  <a:lnTo>
                    <a:pt x="42" y="24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ffbf78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4611960" y="2707200"/>
              <a:ext cx="616320" cy="280080"/>
            </a:xfrm>
            <a:custGeom>
              <a:avLst/>
              <a:gdLst/>
              <a:ahLst/>
              <a:rect l="l" t="t" r="r" b="b"/>
              <a:pathLst>
                <a:path w="462" h="210">
                  <a:moveTo>
                    <a:pt x="462" y="198"/>
                  </a:moveTo>
                  <a:lnTo>
                    <a:pt x="462" y="210"/>
                  </a:lnTo>
                  <a:lnTo>
                    <a:pt x="366" y="174"/>
                  </a:lnTo>
                  <a:lnTo>
                    <a:pt x="246" y="108"/>
                  </a:lnTo>
                  <a:lnTo>
                    <a:pt x="126" y="42"/>
                  </a:lnTo>
                  <a:lnTo>
                    <a:pt x="90" y="30"/>
                  </a:lnTo>
                  <a:lnTo>
                    <a:pt x="54" y="24"/>
                  </a:lnTo>
                  <a:lnTo>
                    <a:pt x="0" y="24"/>
                  </a:lnTo>
                  <a:lnTo>
                    <a:pt x="12" y="18"/>
                  </a:lnTo>
                  <a:lnTo>
                    <a:pt x="36" y="12"/>
                  </a:lnTo>
                  <a:lnTo>
                    <a:pt x="60" y="6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50" y="12"/>
                  </a:lnTo>
                  <a:lnTo>
                    <a:pt x="198" y="24"/>
                  </a:lnTo>
                  <a:lnTo>
                    <a:pt x="246" y="42"/>
                  </a:lnTo>
                  <a:lnTo>
                    <a:pt x="294" y="66"/>
                  </a:lnTo>
                  <a:lnTo>
                    <a:pt x="336" y="90"/>
                  </a:lnTo>
                  <a:lnTo>
                    <a:pt x="384" y="126"/>
                  </a:lnTo>
                  <a:lnTo>
                    <a:pt x="420" y="156"/>
                  </a:lnTo>
                  <a:lnTo>
                    <a:pt x="462" y="198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6220800" y="2210400"/>
              <a:ext cx="504360" cy="224280"/>
            </a:xfrm>
            <a:custGeom>
              <a:avLst/>
              <a:gdLst/>
              <a:ahLst/>
              <a:rect l="l" t="t" r="r" b="b"/>
              <a:pathLst>
                <a:path w="378" h="168">
                  <a:moveTo>
                    <a:pt x="342" y="150"/>
                  </a:moveTo>
                  <a:lnTo>
                    <a:pt x="378" y="168"/>
                  </a:lnTo>
                  <a:lnTo>
                    <a:pt x="96" y="108"/>
                  </a:lnTo>
                  <a:lnTo>
                    <a:pt x="78" y="84"/>
                  </a:lnTo>
                  <a:lnTo>
                    <a:pt x="60" y="60"/>
                  </a:lnTo>
                  <a:lnTo>
                    <a:pt x="36" y="42"/>
                  </a:lnTo>
                  <a:lnTo>
                    <a:pt x="12" y="30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30" y="0"/>
                  </a:lnTo>
                  <a:lnTo>
                    <a:pt x="48" y="0"/>
                  </a:lnTo>
                  <a:lnTo>
                    <a:pt x="66" y="0"/>
                  </a:lnTo>
                  <a:lnTo>
                    <a:pt x="90" y="6"/>
                  </a:lnTo>
                  <a:lnTo>
                    <a:pt x="120" y="18"/>
                  </a:lnTo>
                  <a:lnTo>
                    <a:pt x="150" y="42"/>
                  </a:lnTo>
                  <a:lnTo>
                    <a:pt x="174" y="66"/>
                  </a:lnTo>
                  <a:lnTo>
                    <a:pt x="198" y="90"/>
                  </a:lnTo>
                  <a:lnTo>
                    <a:pt x="216" y="96"/>
                  </a:lnTo>
                  <a:lnTo>
                    <a:pt x="342" y="150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>
              <a:off x="6702120" y="2210400"/>
              <a:ext cx="39600" cy="3996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2" y="30"/>
                  </a:moveTo>
                  <a:lnTo>
                    <a:pt x="12" y="18"/>
                  </a:lnTo>
                  <a:lnTo>
                    <a:pt x="24" y="12"/>
                  </a:lnTo>
                  <a:lnTo>
                    <a:pt x="30" y="6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8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bf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5933160" y="2354760"/>
              <a:ext cx="664560" cy="216000"/>
            </a:xfrm>
            <a:custGeom>
              <a:avLst/>
              <a:gdLst/>
              <a:ahLst/>
              <a:rect l="l" t="t" r="r" b="b"/>
              <a:pathLst>
                <a:path w="498" h="162">
                  <a:moveTo>
                    <a:pt x="420" y="96"/>
                  </a:moveTo>
                  <a:lnTo>
                    <a:pt x="342" y="84"/>
                  </a:lnTo>
                  <a:lnTo>
                    <a:pt x="282" y="6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48" y="36"/>
                  </a:lnTo>
                  <a:lnTo>
                    <a:pt x="72" y="48"/>
                  </a:lnTo>
                  <a:lnTo>
                    <a:pt x="108" y="66"/>
                  </a:lnTo>
                  <a:lnTo>
                    <a:pt x="132" y="90"/>
                  </a:lnTo>
                  <a:lnTo>
                    <a:pt x="162" y="114"/>
                  </a:lnTo>
                  <a:lnTo>
                    <a:pt x="198" y="120"/>
                  </a:lnTo>
                  <a:lnTo>
                    <a:pt x="234" y="126"/>
                  </a:lnTo>
                  <a:lnTo>
                    <a:pt x="264" y="144"/>
                  </a:lnTo>
                  <a:lnTo>
                    <a:pt x="294" y="162"/>
                  </a:lnTo>
                  <a:lnTo>
                    <a:pt x="342" y="156"/>
                  </a:lnTo>
                  <a:lnTo>
                    <a:pt x="390" y="156"/>
                  </a:lnTo>
                  <a:lnTo>
                    <a:pt x="432" y="162"/>
                  </a:lnTo>
                  <a:lnTo>
                    <a:pt x="498" y="150"/>
                  </a:lnTo>
                  <a:lnTo>
                    <a:pt x="468" y="120"/>
                  </a:lnTo>
                  <a:lnTo>
                    <a:pt x="438" y="102"/>
                  </a:lnTo>
                  <a:lnTo>
                    <a:pt x="420" y="96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H="1">
              <a:off x="6653520" y="2394720"/>
              <a:ext cx="47880" cy="478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2" y="24"/>
                  </a:moveTo>
                  <a:lnTo>
                    <a:pt x="18" y="12"/>
                  </a:lnTo>
                  <a:lnTo>
                    <a:pt x="24" y="6"/>
                  </a:lnTo>
                  <a:lnTo>
                    <a:pt x="3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30"/>
                  </a:lnTo>
                  <a:lnTo>
                    <a:pt x="18" y="36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bf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6269040" y="2250360"/>
              <a:ext cx="512280" cy="504720"/>
            </a:xfrm>
            <a:custGeom>
              <a:avLst/>
              <a:gdLst/>
              <a:ahLst/>
              <a:rect l="l" t="t" r="r" b="b"/>
              <a:pathLst>
                <a:path w="384" h="378">
                  <a:moveTo>
                    <a:pt x="24" y="0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78" y="12"/>
                  </a:lnTo>
                  <a:lnTo>
                    <a:pt x="102" y="30"/>
                  </a:lnTo>
                  <a:lnTo>
                    <a:pt x="120" y="54"/>
                  </a:lnTo>
                  <a:lnTo>
                    <a:pt x="138" y="78"/>
                  </a:lnTo>
                  <a:lnTo>
                    <a:pt x="150" y="96"/>
                  </a:lnTo>
                  <a:lnTo>
                    <a:pt x="162" y="96"/>
                  </a:lnTo>
                  <a:lnTo>
                    <a:pt x="168" y="102"/>
                  </a:lnTo>
                  <a:lnTo>
                    <a:pt x="186" y="114"/>
                  </a:lnTo>
                  <a:lnTo>
                    <a:pt x="162" y="108"/>
                  </a:lnTo>
                  <a:lnTo>
                    <a:pt x="138" y="102"/>
                  </a:lnTo>
                  <a:lnTo>
                    <a:pt x="114" y="102"/>
                  </a:lnTo>
                  <a:lnTo>
                    <a:pt x="96" y="108"/>
                  </a:lnTo>
                  <a:lnTo>
                    <a:pt x="66" y="108"/>
                  </a:lnTo>
                  <a:lnTo>
                    <a:pt x="60" y="114"/>
                  </a:lnTo>
                  <a:lnTo>
                    <a:pt x="60" y="126"/>
                  </a:lnTo>
                  <a:lnTo>
                    <a:pt x="66" y="138"/>
                  </a:lnTo>
                  <a:lnTo>
                    <a:pt x="78" y="144"/>
                  </a:lnTo>
                  <a:lnTo>
                    <a:pt x="90" y="168"/>
                  </a:lnTo>
                  <a:lnTo>
                    <a:pt x="102" y="174"/>
                  </a:lnTo>
                  <a:lnTo>
                    <a:pt x="114" y="180"/>
                  </a:lnTo>
                  <a:lnTo>
                    <a:pt x="150" y="210"/>
                  </a:lnTo>
                  <a:lnTo>
                    <a:pt x="186" y="246"/>
                  </a:lnTo>
                  <a:lnTo>
                    <a:pt x="222" y="288"/>
                  </a:lnTo>
                  <a:lnTo>
                    <a:pt x="222" y="288"/>
                  </a:lnTo>
                  <a:lnTo>
                    <a:pt x="264" y="306"/>
                  </a:lnTo>
                  <a:lnTo>
                    <a:pt x="312" y="330"/>
                  </a:lnTo>
                  <a:lnTo>
                    <a:pt x="348" y="354"/>
                  </a:lnTo>
                  <a:lnTo>
                    <a:pt x="360" y="366"/>
                  </a:lnTo>
                  <a:lnTo>
                    <a:pt x="384" y="378"/>
                  </a:lnTo>
                  <a:lnTo>
                    <a:pt x="312" y="378"/>
                  </a:lnTo>
                  <a:lnTo>
                    <a:pt x="264" y="348"/>
                  </a:lnTo>
                  <a:lnTo>
                    <a:pt x="222" y="318"/>
                  </a:lnTo>
                  <a:lnTo>
                    <a:pt x="174" y="300"/>
                  </a:lnTo>
                  <a:lnTo>
                    <a:pt x="168" y="294"/>
                  </a:lnTo>
                  <a:lnTo>
                    <a:pt x="78" y="198"/>
                  </a:lnTo>
                  <a:lnTo>
                    <a:pt x="60" y="168"/>
                  </a:lnTo>
                  <a:lnTo>
                    <a:pt x="6" y="66"/>
                  </a:lnTo>
                  <a:lnTo>
                    <a:pt x="6" y="60"/>
                  </a:lnTo>
                  <a:lnTo>
                    <a:pt x="0" y="48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1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6749640" y="2234520"/>
              <a:ext cx="39960" cy="55800"/>
            </a:xfrm>
            <a:custGeom>
              <a:avLst/>
              <a:gdLst/>
              <a:ahLst/>
              <a:rect l="l" t="t" r="r" b="b"/>
              <a:pathLst>
                <a:path w="30" h="42">
                  <a:moveTo>
                    <a:pt x="6" y="42"/>
                  </a:move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bf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6701400" y="2234520"/>
              <a:ext cx="135720" cy="240120"/>
            </a:xfrm>
            <a:custGeom>
              <a:avLst/>
              <a:gdLst/>
              <a:ahLst/>
              <a:rect l="l" t="t" r="r" b="b"/>
              <a:pathLst>
                <a:path w="102" h="180">
                  <a:moveTo>
                    <a:pt x="0" y="0"/>
                  </a:moveTo>
                  <a:lnTo>
                    <a:pt x="18" y="6"/>
                  </a:lnTo>
                  <a:lnTo>
                    <a:pt x="36" y="12"/>
                  </a:lnTo>
                  <a:lnTo>
                    <a:pt x="36" y="24"/>
                  </a:lnTo>
                  <a:lnTo>
                    <a:pt x="36" y="36"/>
                  </a:lnTo>
                  <a:lnTo>
                    <a:pt x="42" y="42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48" y="78"/>
                  </a:lnTo>
                  <a:lnTo>
                    <a:pt x="102" y="180"/>
                  </a:lnTo>
                  <a:lnTo>
                    <a:pt x="54" y="156"/>
                  </a:lnTo>
                  <a:lnTo>
                    <a:pt x="48" y="132"/>
                  </a:lnTo>
                  <a:lnTo>
                    <a:pt x="36" y="120"/>
                  </a:lnTo>
                  <a:lnTo>
                    <a:pt x="30" y="96"/>
                  </a:lnTo>
                  <a:lnTo>
                    <a:pt x="24" y="72"/>
                  </a:lnTo>
                  <a:lnTo>
                    <a:pt x="18" y="42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5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6765480" y="2234520"/>
              <a:ext cx="183960" cy="208080"/>
            </a:xfrm>
            <a:custGeom>
              <a:avLst/>
              <a:gdLst/>
              <a:ahLst/>
              <a:rect l="l" t="t" r="r" b="b"/>
              <a:pathLst>
                <a:path w="138" h="156">
                  <a:moveTo>
                    <a:pt x="0" y="30"/>
                  </a:moveTo>
                  <a:lnTo>
                    <a:pt x="18" y="12"/>
                  </a:lnTo>
                  <a:lnTo>
                    <a:pt x="36" y="6"/>
                  </a:lnTo>
                  <a:lnTo>
                    <a:pt x="48" y="0"/>
                  </a:lnTo>
                  <a:lnTo>
                    <a:pt x="84" y="0"/>
                  </a:lnTo>
                  <a:lnTo>
                    <a:pt x="96" y="24"/>
                  </a:lnTo>
                  <a:lnTo>
                    <a:pt x="102" y="42"/>
                  </a:lnTo>
                  <a:lnTo>
                    <a:pt x="108" y="72"/>
                  </a:lnTo>
                  <a:lnTo>
                    <a:pt x="114" y="96"/>
                  </a:lnTo>
                  <a:lnTo>
                    <a:pt x="120" y="120"/>
                  </a:lnTo>
                  <a:lnTo>
                    <a:pt x="132" y="132"/>
                  </a:lnTo>
                  <a:lnTo>
                    <a:pt x="138" y="156"/>
                  </a:lnTo>
                  <a:lnTo>
                    <a:pt x="108" y="132"/>
                  </a:lnTo>
                  <a:lnTo>
                    <a:pt x="84" y="108"/>
                  </a:lnTo>
                  <a:lnTo>
                    <a:pt x="54" y="96"/>
                  </a:lnTo>
                  <a:lnTo>
                    <a:pt x="24" y="78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0" y="54"/>
                  </a:lnTo>
                  <a:lnTo>
                    <a:pt x="0" y="4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933600" y="2274480"/>
              <a:ext cx="47880" cy="5616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36" y="42"/>
                  </a:moveTo>
                  <a:lnTo>
                    <a:pt x="30" y="42"/>
                  </a:lnTo>
                  <a:lnTo>
                    <a:pt x="24" y="24"/>
                  </a:lnTo>
                  <a:lnTo>
                    <a:pt x="24" y="12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6" y="18"/>
                  </a:lnTo>
                  <a:lnTo>
                    <a:pt x="12" y="30"/>
                  </a:lnTo>
                  <a:lnTo>
                    <a:pt x="24" y="36"/>
                  </a:lnTo>
                  <a:lnTo>
                    <a:pt x="36" y="42"/>
                  </a:lnTo>
                  <a:close/>
                </a:path>
              </a:pathLst>
            </a:custGeom>
            <a:solidFill>
              <a:srgbClr val="bf00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4611240" y="1930320"/>
              <a:ext cx="2073960" cy="1041120"/>
            </a:xfrm>
            <a:custGeom>
              <a:avLst/>
              <a:gdLst/>
              <a:ahLst/>
              <a:rect l="l" t="t" r="r" b="b"/>
              <a:pathLst>
                <a:path w="1554" h="780">
                  <a:moveTo>
                    <a:pt x="312" y="360"/>
                  </a:moveTo>
                  <a:lnTo>
                    <a:pt x="354" y="354"/>
                  </a:lnTo>
                  <a:lnTo>
                    <a:pt x="396" y="354"/>
                  </a:lnTo>
                  <a:lnTo>
                    <a:pt x="444" y="360"/>
                  </a:lnTo>
                  <a:lnTo>
                    <a:pt x="486" y="366"/>
                  </a:lnTo>
                  <a:lnTo>
                    <a:pt x="522" y="354"/>
                  </a:lnTo>
                  <a:lnTo>
                    <a:pt x="564" y="342"/>
                  </a:lnTo>
                  <a:lnTo>
                    <a:pt x="606" y="336"/>
                  </a:lnTo>
                  <a:lnTo>
                    <a:pt x="648" y="336"/>
                  </a:lnTo>
                  <a:lnTo>
                    <a:pt x="666" y="318"/>
                  </a:lnTo>
                  <a:lnTo>
                    <a:pt x="702" y="294"/>
                  </a:lnTo>
                  <a:lnTo>
                    <a:pt x="738" y="270"/>
                  </a:lnTo>
                  <a:lnTo>
                    <a:pt x="750" y="264"/>
                  </a:lnTo>
                  <a:lnTo>
                    <a:pt x="756" y="264"/>
                  </a:lnTo>
                  <a:lnTo>
                    <a:pt x="762" y="258"/>
                  </a:lnTo>
                  <a:lnTo>
                    <a:pt x="768" y="252"/>
                  </a:lnTo>
                  <a:lnTo>
                    <a:pt x="768" y="240"/>
                  </a:lnTo>
                  <a:lnTo>
                    <a:pt x="768" y="234"/>
                  </a:lnTo>
                  <a:lnTo>
                    <a:pt x="756" y="222"/>
                  </a:lnTo>
                  <a:lnTo>
                    <a:pt x="750" y="222"/>
                  </a:lnTo>
                  <a:lnTo>
                    <a:pt x="732" y="216"/>
                  </a:lnTo>
                  <a:lnTo>
                    <a:pt x="684" y="216"/>
                  </a:lnTo>
                  <a:lnTo>
                    <a:pt x="666" y="228"/>
                  </a:lnTo>
                  <a:lnTo>
                    <a:pt x="612" y="210"/>
                  </a:lnTo>
                  <a:lnTo>
                    <a:pt x="558" y="186"/>
                  </a:lnTo>
                  <a:lnTo>
                    <a:pt x="504" y="162"/>
                  </a:lnTo>
                  <a:lnTo>
                    <a:pt x="450" y="138"/>
                  </a:lnTo>
                  <a:lnTo>
                    <a:pt x="414" y="114"/>
                  </a:lnTo>
                  <a:lnTo>
                    <a:pt x="396" y="96"/>
                  </a:lnTo>
                  <a:lnTo>
                    <a:pt x="384" y="78"/>
                  </a:lnTo>
                  <a:lnTo>
                    <a:pt x="384" y="66"/>
                  </a:lnTo>
                  <a:lnTo>
                    <a:pt x="384" y="48"/>
                  </a:lnTo>
                  <a:lnTo>
                    <a:pt x="384" y="36"/>
                  </a:lnTo>
                  <a:lnTo>
                    <a:pt x="414" y="12"/>
                  </a:lnTo>
                  <a:lnTo>
                    <a:pt x="450" y="6"/>
                  </a:lnTo>
                  <a:lnTo>
                    <a:pt x="486" y="0"/>
                  </a:lnTo>
                  <a:lnTo>
                    <a:pt x="516" y="24"/>
                  </a:lnTo>
                  <a:lnTo>
                    <a:pt x="534" y="12"/>
                  </a:lnTo>
                  <a:lnTo>
                    <a:pt x="534" y="24"/>
                  </a:lnTo>
                  <a:lnTo>
                    <a:pt x="558" y="24"/>
                  </a:lnTo>
                  <a:lnTo>
                    <a:pt x="576" y="36"/>
                  </a:lnTo>
                  <a:lnTo>
                    <a:pt x="660" y="72"/>
                  </a:lnTo>
                  <a:lnTo>
                    <a:pt x="750" y="96"/>
                  </a:lnTo>
                  <a:lnTo>
                    <a:pt x="816" y="108"/>
                  </a:lnTo>
                  <a:lnTo>
                    <a:pt x="840" y="108"/>
                  </a:lnTo>
                  <a:lnTo>
                    <a:pt x="876" y="108"/>
                  </a:lnTo>
                  <a:lnTo>
                    <a:pt x="906" y="114"/>
                  </a:lnTo>
                  <a:lnTo>
                    <a:pt x="942" y="126"/>
                  </a:lnTo>
                  <a:lnTo>
                    <a:pt x="972" y="138"/>
                  </a:lnTo>
                  <a:lnTo>
                    <a:pt x="996" y="150"/>
                  </a:lnTo>
                  <a:lnTo>
                    <a:pt x="1026" y="156"/>
                  </a:lnTo>
                  <a:lnTo>
                    <a:pt x="1056" y="162"/>
                  </a:lnTo>
                  <a:lnTo>
                    <a:pt x="1080" y="168"/>
                  </a:lnTo>
                  <a:lnTo>
                    <a:pt x="1086" y="168"/>
                  </a:lnTo>
                  <a:lnTo>
                    <a:pt x="1128" y="180"/>
                  </a:lnTo>
                  <a:lnTo>
                    <a:pt x="1164" y="192"/>
                  </a:lnTo>
                  <a:lnTo>
                    <a:pt x="1200" y="210"/>
                  </a:lnTo>
                  <a:lnTo>
                    <a:pt x="1236" y="240"/>
                  </a:lnTo>
                  <a:lnTo>
                    <a:pt x="1554" y="420"/>
                  </a:lnTo>
                  <a:lnTo>
                    <a:pt x="1554" y="780"/>
                  </a:lnTo>
                  <a:lnTo>
                    <a:pt x="1512" y="738"/>
                  </a:lnTo>
                  <a:lnTo>
                    <a:pt x="1476" y="708"/>
                  </a:lnTo>
                  <a:lnTo>
                    <a:pt x="1428" y="672"/>
                  </a:lnTo>
                  <a:lnTo>
                    <a:pt x="1386" y="648"/>
                  </a:lnTo>
                  <a:lnTo>
                    <a:pt x="1338" y="624"/>
                  </a:lnTo>
                  <a:lnTo>
                    <a:pt x="1290" y="606"/>
                  </a:lnTo>
                  <a:lnTo>
                    <a:pt x="1242" y="594"/>
                  </a:lnTo>
                  <a:lnTo>
                    <a:pt x="1212" y="588"/>
                  </a:lnTo>
                  <a:lnTo>
                    <a:pt x="1176" y="582"/>
                  </a:lnTo>
                  <a:lnTo>
                    <a:pt x="1152" y="588"/>
                  </a:lnTo>
                  <a:lnTo>
                    <a:pt x="1128" y="594"/>
                  </a:lnTo>
                  <a:lnTo>
                    <a:pt x="1104" y="600"/>
                  </a:lnTo>
                  <a:lnTo>
                    <a:pt x="1092" y="606"/>
                  </a:lnTo>
                  <a:lnTo>
                    <a:pt x="1068" y="612"/>
                  </a:lnTo>
                  <a:lnTo>
                    <a:pt x="960" y="624"/>
                  </a:lnTo>
                  <a:lnTo>
                    <a:pt x="852" y="636"/>
                  </a:lnTo>
                  <a:lnTo>
                    <a:pt x="744" y="636"/>
                  </a:lnTo>
                  <a:lnTo>
                    <a:pt x="636" y="636"/>
                  </a:lnTo>
                  <a:lnTo>
                    <a:pt x="522" y="630"/>
                  </a:lnTo>
                  <a:lnTo>
                    <a:pt x="414" y="618"/>
                  </a:lnTo>
                  <a:lnTo>
                    <a:pt x="312" y="618"/>
                  </a:lnTo>
                  <a:lnTo>
                    <a:pt x="288" y="606"/>
                  </a:lnTo>
                  <a:lnTo>
                    <a:pt x="276" y="594"/>
                  </a:lnTo>
                  <a:lnTo>
                    <a:pt x="240" y="570"/>
                  </a:lnTo>
                  <a:lnTo>
                    <a:pt x="192" y="546"/>
                  </a:lnTo>
                  <a:lnTo>
                    <a:pt x="150" y="528"/>
                  </a:lnTo>
                  <a:lnTo>
                    <a:pt x="150" y="528"/>
                  </a:lnTo>
                  <a:lnTo>
                    <a:pt x="114" y="486"/>
                  </a:lnTo>
                  <a:lnTo>
                    <a:pt x="78" y="450"/>
                  </a:lnTo>
                  <a:lnTo>
                    <a:pt x="42" y="420"/>
                  </a:lnTo>
                  <a:lnTo>
                    <a:pt x="30" y="414"/>
                  </a:lnTo>
                  <a:lnTo>
                    <a:pt x="18" y="408"/>
                  </a:lnTo>
                  <a:lnTo>
                    <a:pt x="6" y="384"/>
                  </a:lnTo>
                  <a:lnTo>
                    <a:pt x="0" y="372"/>
                  </a:lnTo>
                  <a:lnTo>
                    <a:pt x="6" y="360"/>
                  </a:lnTo>
                  <a:lnTo>
                    <a:pt x="12" y="354"/>
                  </a:lnTo>
                  <a:lnTo>
                    <a:pt x="24" y="348"/>
                  </a:lnTo>
                  <a:lnTo>
                    <a:pt x="42" y="342"/>
                  </a:lnTo>
                  <a:lnTo>
                    <a:pt x="66" y="342"/>
                  </a:lnTo>
                  <a:lnTo>
                    <a:pt x="90" y="348"/>
                  </a:lnTo>
                  <a:lnTo>
                    <a:pt x="114" y="354"/>
                  </a:lnTo>
                  <a:lnTo>
                    <a:pt x="138" y="366"/>
                  </a:lnTo>
                  <a:lnTo>
                    <a:pt x="174" y="384"/>
                  </a:lnTo>
                  <a:lnTo>
                    <a:pt x="198" y="408"/>
                  </a:lnTo>
                  <a:lnTo>
                    <a:pt x="228" y="432"/>
                  </a:lnTo>
                  <a:lnTo>
                    <a:pt x="264" y="438"/>
                  </a:lnTo>
                  <a:lnTo>
                    <a:pt x="300" y="444"/>
                  </a:lnTo>
                  <a:lnTo>
                    <a:pt x="330" y="462"/>
                  </a:lnTo>
                  <a:lnTo>
                    <a:pt x="360" y="480"/>
                  </a:lnTo>
                  <a:lnTo>
                    <a:pt x="408" y="474"/>
                  </a:lnTo>
                  <a:lnTo>
                    <a:pt x="456" y="474"/>
                  </a:lnTo>
                  <a:lnTo>
                    <a:pt x="498" y="480"/>
                  </a:lnTo>
                  <a:lnTo>
                    <a:pt x="564" y="468"/>
                  </a:lnTo>
                  <a:lnTo>
                    <a:pt x="630" y="450"/>
                  </a:lnTo>
                  <a:lnTo>
                    <a:pt x="726" y="438"/>
                  </a:lnTo>
                  <a:lnTo>
                    <a:pt x="792" y="426"/>
                  </a:lnTo>
                  <a:lnTo>
                    <a:pt x="858" y="408"/>
                  </a:lnTo>
                  <a:lnTo>
                    <a:pt x="918" y="384"/>
                  </a:lnTo>
                  <a:lnTo>
                    <a:pt x="978" y="360"/>
                  </a:lnTo>
                  <a:lnTo>
                    <a:pt x="1026" y="336"/>
                  </a:lnTo>
                  <a:lnTo>
                    <a:pt x="1050" y="324"/>
                  </a:lnTo>
                  <a:lnTo>
                    <a:pt x="1086" y="312"/>
                  </a:lnTo>
                  <a:lnTo>
                    <a:pt x="1122" y="300"/>
                  </a:lnTo>
                  <a:lnTo>
                    <a:pt x="1206" y="300"/>
                  </a:lnTo>
                  <a:lnTo>
                    <a:pt x="1224" y="312"/>
                  </a:lnTo>
                  <a:lnTo>
                    <a:pt x="1248" y="324"/>
                  </a:lnTo>
                  <a:lnTo>
                    <a:pt x="1266" y="336"/>
                  </a:lnTo>
                  <a:lnTo>
                    <a:pt x="1254" y="324"/>
                  </a:lnTo>
                  <a:lnTo>
                    <a:pt x="1230" y="306"/>
                  </a:lnTo>
                  <a:lnTo>
                    <a:pt x="1218" y="300"/>
                  </a:lnTo>
                  <a:lnTo>
                    <a:pt x="1194" y="288"/>
                  </a:lnTo>
                  <a:lnTo>
                    <a:pt x="1146" y="288"/>
                  </a:lnTo>
                  <a:lnTo>
                    <a:pt x="1086" y="294"/>
                  </a:lnTo>
                  <a:lnTo>
                    <a:pt x="1020" y="306"/>
                  </a:lnTo>
                  <a:lnTo>
                    <a:pt x="960" y="324"/>
                  </a:lnTo>
                  <a:lnTo>
                    <a:pt x="900" y="342"/>
                  </a:lnTo>
                  <a:lnTo>
                    <a:pt x="840" y="366"/>
                  </a:lnTo>
                  <a:lnTo>
                    <a:pt x="816" y="378"/>
                  </a:lnTo>
                  <a:lnTo>
                    <a:pt x="792" y="390"/>
                  </a:lnTo>
                  <a:lnTo>
                    <a:pt x="750" y="408"/>
                  </a:lnTo>
                  <a:lnTo>
                    <a:pt x="708" y="420"/>
                  </a:lnTo>
                  <a:lnTo>
                    <a:pt x="660" y="432"/>
                  </a:lnTo>
                  <a:lnTo>
                    <a:pt x="576" y="432"/>
                  </a:lnTo>
                  <a:lnTo>
                    <a:pt x="528" y="426"/>
                  </a:lnTo>
                  <a:lnTo>
                    <a:pt x="486" y="414"/>
                  </a:lnTo>
                  <a:lnTo>
                    <a:pt x="408" y="402"/>
                  </a:lnTo>
                  <a:lnTo>
                    <a:pt x="348" y="378"/>
                  </a:lnTo>
                  <a:lnTo>
                    <a:pt x="312" y="360"/>
                  </a:lnTo>
                  <a:close/>
                </a:path>
              </a:pathLst>
            </a:custGeom>
            <a:solidFill>
              <a:srgbClr val="fce6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2241720" y="1781280"/>
            <a:ext cx="1846080" cy="1315800"/>
            <a:chOff x="2241720" y="1781280"/>
            <a:chExt cx="1846080" cy="1315800"/>
          </a:xfrm>
        </p:grpSpPr>
        <p:sp>
          <p:nvSpPr>
            <p:cNvPr id="1881" name=""/>
            <p:cNvSpPr/>
            <p:nvPr/>
          </p:nvSpPr>
          <p:spPr>
            <a:xfrm>
              <a:off x="2241720" y="1781280"/>
              <a:ext cx="1846080" cy="1315800"/>
            </a:xfrm>
            <a:custGeom>
              <a:avLst/>
              <a:gdLst/>
              <a:ahLst/>
              <a:rect l="l" t="t" r="r" b="b"/>
              <a:pathLst>
                <a:path w="2567" h="2017">
                  <a:moveTo>
                    <a:pt x="23" y="719"/>
                  </a:moveTo>
                  <a:lnTo>
                    <a:pt x="112" y="710"/>
                  </a:lnTo>
                  <a:lnTo>
                    <a:pt x="239" y="729"/>
                  </a:lnTo>
                  <a:lnTo>
                    <a:pt x="431" y="809"/>
                  </a:lnTo>
                  <a:lnTo>
                    <a:pt x="642" y="969"/>
                  </a:lnTo>
                  <a:lnTo>
                    <a:pt x="965" y="1213"/>
                  </a:lnTo>
                  <a:lnTo>
                    <a:pt x="1124" y="1373"/>
                  </a:lnTo>
                  <a:lnTo>
                    <a:pt x="1256" y="1453"/>
                  </a:lnTo>
                  <a:lnTo>
                    <a:pt x="1363" y="1495"/>
                  </a:lnTo>
                  <a:lnTo>
                    <a:pt x="1443" y="1533"/>
                  </a:lnTo>
                  <a:lnTo>
                    <a:pt x="1551" y="1655"/>
                  </a:lnTo>
                  <a:lnTo>
                    <a:pt x="1630" y="1777"/>
                  </a:lnTo>
                  <a:lnTo>
                    <a:pt x="1710" y="1900"/>
                  </a:lnTo>
                  <a:lnTo>
                    <a:pt x="1766" y="2017"/>
                  </a:lnTo>
                  <a:lnTo>
                    <a:pt x="1926" y="1857"/>
                  </a:lnTo>
                  <a:lnTo>
                    <a:pt x="2033" y="1740"/>
                  </a:lnTo>
                  <a:lnTo>
                    <a:pt x="2249" y="1575"/>
                  </a:lnTo>
                  <a:lnTo>
                    <a:pt x="2408" y="1453"/>
                  </a:lnTo>
                  <a:lnTo>
                    <a:pt x="2539" y="1411"/>
                  </a:lnTo>
                  <a:lnTo>
                    <a:pt x="2567" y="1373"/>
                  </a:lnTo>
                  <a:lnTo>
                    <a:pt x="2511" y="1133"/>
                  </a:lnTo>
                  <a:lnTo>
                    <a:pt x="2249" y="1011"/>
                  </a:lnTo>
                  <a:lnTo>
                    <a:pt x="2005" y="851"/>
                  </a:lnTo>
                  <a:lnTo>
                    <a:pt x="1766" y="809"/>
                  </a:lnTo>
                  <a:lnTo>
                    <a:pt x="1551" y="663"/>
                  </a:lnTo>
                  <a:lnTo>
                    <a:pt x="1485" y="607"/>
                  </a:lnTo>
                  <a:lnTo>
                    <a:pt x="1420" y="555"/>
                  </a:lnTo>
                  <a:lnTo>
                    <a:pt x="1312" y="466"/>
                  </a:lnTo>
                  <a:lnTo>
                    <a:pt x="1237" y="362"/>
                  </a:lnTo>
                  <a:lnTo>
                    <a:pt x="1124" y="122"/>
                  </a:lnTo>
                  <a:lnTo>
                    <a:pt x="1073" y="52"/>
                  </a:lnTo>
                  <a:lnTo>
                    <a:pt x="1017" y="0"/>
                  </a:lnTo>
                  <a:lnTo>
                    <a:pt x="792" y="56"/>
                  </a:lnTo>
                  <a:lnTo>
                    <a:pt x="586" y="80"/>
                  </a:lnTo>
                  <a:lnTo>
                    <a:pt x="473" y="94"/>
                  </a:lnTo>
                  <a:lnTo>
                    <a:pt x="323" y="89"/>
                  </a:lnTo>
                  <a:lnTo>
                    <a:pt x="239" y="80"/>
                  </a:lnTo>
                  <a:lnTo>
                    <a:pt x="286" y="160"/>
                  </a:lnTo>
                  <a:lnTo>
                    <a:pt x="164" y="202"/>
                  </a:lnTo>
                  <a:lnTo>
                    <a:pt x="178" y="249"/>
                  </a:lnTo>
                  <a:lnTo>
                    <a:pt x="145" y="343"/>
                  </a:lnTo>
                  <a:lnTo>
                    <a:pt x="89" y="414"/>
                  </a:lnTo>
                  <a:lnTo>
                    <a:pt x="84" y="494"/>
                  </a:lnTo>
                  <a:lnTo>
                    <a:pt x="28" y="564"/>
                  </a:lnTo>
                  <a:lnTo>
                    <a:pt x="28" y="654"/>
                  </a:lnTo>
                  <a:lnTo>
                    <a:pt x="0" y="724"/>
                  </a:lnTo>
                  <a:lnTo>
                    <a:pt x="23" y="719"/>
                  </a:lnTo>
                  <a:close/>
                </a:path>
              </a:pathLst>
            </a:custGeom>
            <a:solidFill>
              <a:srgbClr val="00f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531520" y="1817640"/>
              <a:ext cx="518400" cy="254880"/>
            </a:xfrm>
            <a:custGeom>
              <a:avLst/>
              <a:gdLst/>
              <a:ahLst/>
              <a:rect l="l" t="t" r="r" b="b"/>
              <a:pathLst>
                <a:path w="721" h="391">
                  <a:moveTo>
                    <a:pt x="721" y="146"/>
                  </a:moveTo>
                  <a:lnTo>
                    <a:pt x="595" y="0"/>
                  </a:lnTo>
                  <a:lnTo>
                    <a:pt x="501" y="24"/>
                  </a:lnTo>
                  <a:lnTo>
                    <a:pt x="403" y="47"/>
                  </a:lnTo>
                  <a:lnTo>
                    <a:pt x="295" y="71"/>
                  </a:lnTo>
                  <a:lnTo>
                    <a:pt x="187" y="85"/>
                  </a:lnTo>
                  <a:lnTo>
                    <a:pt x="94" y="94"/>
                  </a:lnTo>
                  <a:lnTo>
                    <a:pt x="0" y="109"/>
                  </a:lnTo>
                  <a:lnTo>
                    <a:pt x="211" y="3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858040" y="1815120"/>
              <a:ext cx="27360" cy="3960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5" y="61"/>
                  </a:moveTo>
                  <a:lnTo>
                    <a:pt x="0" y="56"/>
                  </a:lnTo>
                  <a:lnTo>
                    <a:pt x="28" y="9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38" y="9"/>
                  </a:lnTo>
                  <a:lnTo>
                    <a:pt x="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898720" y="1833120"/>
              <a:ext cx="20160" cy="39600"/>
            </a:xfrm>
            <a:custGeom>
              <a:avLst/>
              <a:gdLst/>
              <a:ahLst/>
              <a:rect l="l" t="t" r="r" b="b"/>
              <a:pathLst>
                <a:path w="28" h="61">
                  <a:moveTo>
                    <a:pt x="0" y="52"/>
                  </a:moveTo>
                  <a:lnTo>
                    <a:pt x="0" y="61"/>
                  </a:lnTo>
                  <a:lnTo>
                    <a:pt x="4" y="61"/>
                  </a:lnTo>
                  <a:lnTo>
                    <a:pt x="9" y="56"/>
                  </a:lnTo>
                  <a:lnTo>
                    <a:pt x="14" y="52"/>
                  </a:lnTo>
                  <a:lnTo>
                    <a:pt x="23" y="33"/>
                  </a:lnTo>
                  <a:lnTo>
                    <a:pt x="28" y="23"/>
                  </a:lnTo>
                  <a:lnTo>
                    <a:pt x="28" y="19"/>
                  </a:lnTo>
                  <a:lnTo>
                    <a:pt x="23" y="9"/>
                  </a:lnTo>
                  <a:lnTo>
                    <a:pt x="18" y="5"/>
                  </a:lnTo>
                  <a:lnTo>
                    <a:pt x="14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5"/>
                  </a:lnTo>
                  <a:lnTo>
                    <a:pt x="9" y="5"/>
                  </a:lnTo>
                  <a:lnTo>
                    <a:pt x="18" y="9"/>
                  </a:lnTo>
                  <a:lnTo>
                    <a:pt x="18" y="14"/>
                  </a:lnTo>
                  <a:lnTo>
                    <a:pt x="23" y="19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9" y="47"/>
                  </a:lnTo>
                  <a:lnTo>
                    <a:pt x="4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881800" y="1833120"/>
              <a:ext cx="16920" cy="39600"/>
            </a:xfrm>
            <a:custGeom>
              <a:avLst/>
              <a:gdLst/>
              <a:ahLst/>
              <a:rect l="l" t="t" r="r" b="b"/>
              <a:pathLst>
                <a:path w="24" h="61">
                  <a:moveTo>
                    <a:pt x="24" y="9"/>
                  </a:moveTo>
                  <a:lnTo>
                    <a:pt x="24" y="0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4" y="14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10" y="56"/>
                  </a:lnTo>
                  <a:lnTo>
                    <a:pt x="14" y="61"/>
                  </a:lnTo>
                  <a:lnTo>
                    <a:pt x="19" y="61"/>
                  </a:lnTo>
                  <a:lnTo>
                    <a:pt x="24" y="61"/>
                  </a:lnTo>
                  <a:lnTo>
                    <a:pt x="24" y="61"/>
                  </a:lnTo>
                  <a:lnTo>
                    <a:pt x="24" y="52"/>
                  </a:lnTo>
                  <a:lnTo>
                    <a:pt x="24" y="56"/>
                  </a:lnTo>
                  <a:lnTo>
                    <a:pt x="19" y="56"/>
                  </a:lnTo>
                  <a:lnTo>
                    <a:pt x="10" y="52"/>
                  </a:lnTo>
                  <a:lnTo>
                    <a:pt x="5" y="47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5" y="38"/>
                  </a:lnTo>
                  <a:lnTo>
                    <a:pt x="10" y="33"/>
                  </a:lnTo>
                  <a:lnTo>
                    <a:pt x="19" y="14"/>
                  </a:lnTo>
                  <a:lnTo>
                    <a:pt x="24" y="9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575080" y="1934280"/>
              <a:ext cx="33480" cy="338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7" y="52"/>
                  </a:moveTo>
                  <a:lnTo>
                    <a:pt x="42" y="52"/>
                  </a:lnTo>
                  <a:lnTo>
                    <a:pt x="9" y="5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47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2621880" y="1915920"/>
              <a:ext cx="20520" cy="3636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0" y="52"/>
                  </a:moveTo>
                  <a:lnTo>
                    <a:pt x="0" y="56"/>
                  </a:lnTo>
                  <a:lnTo>
                    <a:pt x="5" y="56"/>
                  </a:lnTo>
                  <a:lnTo>
                    <a:pt x="10" y="56"/>
                  </a:lnTo>
                  <a:lnTo>
                    <a:pt x="14" y="56"/>
                  </a:lnTo>
                  <a:lnTo>
                    <a:pt x="19" y="56"/>
                  </a:lnTo>
                  <a:lnTo>
                    <a:pt x="24" y="47"/>
                  </a:lnTo>
                  <a:lnTo>
                    <a:pt x="29" y="42"/>
                  </a:lnTo>
                  <a:lnTo>
                    <a:pt x="29" y="38"/>
                  </a:lnTo>
                  <a:lnTo>
                    <a:pt x="29" y="33"/>
                  </a:lnTo>
                  <a:lnTo>
                    <a:pt x="24" y="23"/>
                  </a:lnTo>
                  <a:lnTo>
                    <a:pt x="14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14"/>
                  </a:lnTo>
                  <a:lnTo>
                    <a:pt x="19" y="28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7"/>
                  </a:lnTo>
                  <a:lnTo>
                    <a:pt x="14" y="52"/>
                  </a:lnTo>
                  <a:lnTo>
                    <a:pt x="10" y="52"/>
                  </a:lnTo>
                  <a:lnTo>
                    <a:pt x="5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601720" y="1915920"/>
              <a:ext cx="20160" cy="36360"/>
            </a:xfrm>
            <a:custGeom>
              <a:avLst/>
              <a:gdLst/>
              <a:ahLst/>
              <a:rect l="l" t="t" r="r" b="b"/>
              <a:pathLst>
                <a:path w="28" h="56">
                  <a:moveTo>
                    <a:pt x="28" y="5"/>
                  </a:moveTo>
                  <a:lnTo>
                    <a:pt x="28" y="0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5" y="33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24" y="52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2"/>
                  </a:lnTo>
                  <a:lnTo>
                    <a:pt x="24" y="52"/>
                  </a:lnTo>
                  <a:lnTo>
                    <a:pt x="24" y="47"/>
                  </a:lnTo>
                  <a:lnTo>
                    <a:pt x="10" y="28"/>
                  </a:lnTo>
                  <a:lnTo>
                    <a:pt x="10" y="23"/>
                  </a:lnTo>
                  <a:lnTo>
                    <a:pt x="10" y="14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4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811240" y="2023200"/>
              <a:ext cx="228600" cy="125640"/>
            </a:xfrm>
            <a:custGeom>
              <a:avLst/>
              <a:gdLst/>
              <a:ahLst/>
              <a:rect l="l" t="t" r="r" b="b"/>
              <a:pathLst>
                <a:path w="318" h="193">
                  <a:moveTo>
                    <a:pt x="145" y="193"/>
                  </a:moveTo>
                  <a:lnTo>
                    <a:pt x="112" y="193"/>
                  </a:lnTo>
                  <a:lnTo>
                    <a:pt x="79" y="189"/>
                  </a:lnTo>
                  <a:lnTo>
                    <a:pt x="28" y="165"/>
                  </a:lnTo>
                  <a:lnTo>
                    <a:pt x="9" y="142"/>
                  </a:lnTo>
                  <a:lnTo>
                    <a:pt x="0" y="123"/>
                  </a:lnTo>
                  <a:lnTo>
                    <a:pt x="9" y="90"/>
                  </a:lnTo>
                  <a:lnTo>
                    <a:pt x="28" y="47"/>
                  </a:lnTo>
                  <a:lnTo>
                    <a:pt x="75" y="19"/>
                  </a:lnTo>
                  <a:lnTo>
                    <a:pt x="168" y="0"/>
                  </a:lnTo>
                  <a:lnTo>
                    <a:pt x="257" y="5"/>
                  </a:lnTo>
                  <a:lnTo>
                    <a:pt x="286" y="19"/>
                  </a:lnTo>
                  <a:lnTo>
                    <a:pt x="304" y="43"/>
                  </a:lnTo>
                  <a:lnTo>
                    <a:pt x="314" y="71"/>
                  </a:lnTo>
                  <a:lnTo>
                    <a:pt x="318" y="95"/>
                  </a:lnTo>
                  <a:lnTo>
                    <a:pt x="314" y="123"/>
                  </a:lnTo>
                  <a:lnTo>
                    <a:pt x="295" y="146"/>
                  </a:lnTo>
                  <a:lnTo>
                    <a:pt x="262" y="165"/>
                  </a:lnTo>
                  <a:lnTo>
                    <a:pt x="229" y="179"/>
                  </a:lnTo>
                  <a:lnTo>
                    <a:pt x="197" y="184"/>
                  </a:lnTo>
                  <a:lnTo>
                    <a:pt x="197" y="189"/>
                  </a:lnTo>
                  <a:lnTo>
                    <a:pt x="145" y="1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935440" y="2299680"/>
              <a:ext cx="91080" cy="7632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0" y="94"/>
                  </a:moveTo>
                  <a:lnTo>
                    <a:pt x="52" y="117"/>
                  </a:lnTo>
                  <a:lnTo>
                    <a:pt x="98" y="94"/>
                  </a:lnTo>
                  <a:lnTo>
                    <a:pt x="127" y="47"/>
                  </a:lnTo>
                  <a:lnTo>
                    <a:pt x="1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945520" y="2370240"/>
              <a:ext cx="91080" cy="91800"/>
            </a:xfrm>
            <a:custGeom>
              <a:avLst/>
              <a:gdLst/>
              <a:ahLst/>
              <a:rect l="l" t="t" r="r" b="b"/>
              <a:pathLst>
                <a:path w="127" h="141">
                  <a:moveTo>
                    <a:pt x="117" y="0"/>
                  </a:moveTo>
                  <a:lnTo>
                    <a:pt x="127" y="66"/>
                  </a:lnTo>
                  <a:lnTo>
                    <a:pt x="99" y="127"/>
                  </a:lnTo>
                  <a:lnTo>
                    <a:pt x="80" y="131"/>
                  </a:lnTo>
                  <a:lnTo>
                    <a:pt x="42" y="141"/>
                  </a:lnTo>
                  <a:lnTo>
                    <a:pt x="0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70080" y="1903680"/>
              <a:ext cx="111240" cy="177840"/>
            </a:xfrm>
            <a:custGeom>
              <a:avLst/>
              <a:gdLst/>
              <a:ahLst/>
              <a:rect l="l" t="t" r="r" b="b"/>
              <a:pathLst>
                <a:path w="155" h="273">
                  <a:moveTo>
                    <a:pt x="0" y="0"/>
                  </a:moveTo>
                  <a:lnTo>
                    <a:pt x="5" y="33"/>
                  </a:lnTo>
                  <a:lnTo>
                    <a:pt x="10" y="66"/>
                  </a:lnTo>
                  <a:lnTo>
                    <a:pt x="15" y="104"/>
                  </a:lnTo>
                  <a:lnTo>
                    <a:pt x="24" y="132"/>
                  </a:lnTo>
                  <a:lnTo>
                    <a:pt x="38" y="155"/>
                  </a:lnTo>
                  <a:lnTo>
                    <a:pt x="52" y="188"/>
                  </a:lnTo>
                  <a:lnTo>
                    <a:pt x="80" y="216"/>
                  </a:lnTo>
                  <a:lnTo>
                    <a:pt x="118" y="249"/>
                  </a:lnTo>
                  <a:lnTo>
                    <a:pt x="155" y="2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447280" y="1888560"/>
              <a:ext cx="464400" cy="499680"/>
            </a:xfrm>
            <a:custGeom>
              <a:avLst/>
              <a:gdLst/>
              <a:ahLst/>
              <a:rect l="l" t="t" r="r" b="b"/>
              <a:pathLst>
                <a:path w="646" h="766">
                  <a:moveTo>
                    <a:pt x="0" y="0"/>
                  </a:moveTo>
                  <a:lnTo>
                    <a:pt x="379" y="521"/>
                  </a:lnTo>
                  <a:lnTo>
                    <a:pt x="473" y="616"/>
                  </a:lnTo>
                  <a:lnTo>
                    <a:pt x="567" y="691"/>
                  </a:lnTo>
                  <a:lnTo>
                    <a:pt x="646" y="7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373120" y="1950120"/>
              <a:ext cx="235800" cy="2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349360" y="2004840"/>
              <a:ext cx="80280" cy="6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305440" y="2051280"/>
              <a:ext cx="2358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301840" y="2106000"/>
              <a:ext cx="158760" cy="6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261520" y="2149200"/>
              <a:ext cx="7776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265480" y="2207880"/>
              <a:ext cx="184680" cy="33120"/>
            </a:xfrm>
            <a:custGeom>
              <a:avLst/>
              <a:gdLst/>
              <a:ahLst/>
              <a:rect l="l" t="t" r="r" b="b"/>
              <a:pathLst>
                <a:path w="257" h="51">
                  <a:moveTo>
                    <a:pt x="0" y="0"/>
                  </a:moveTo>
                  <a:lnTo>
                    <a:pt x="65" y="0"/>
                  </a:lnTo>
                  <a:lnTo>
                    <a:pt x="131" y="14"/>
                  </a:lnTo>
                  <a:lnTo>
                    <a:pt x="197" y="32"/>
                  </a:lnTo>
                  <a:lnTo>
                    <a:pt x="257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689560" y="2287440"/>
              <a:ext cx="191880" cy="1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060000" y="2207880"/>
              <a:ext cx="222840" cy="106920"/>
            </a:xfrm>
            <a:custGeom>
              <a:avLst/>
              <a:gdLst/>
              <a:ahLst/>
              <a:rect l="l" t="t" r="r" b="b"/>
              <a:pathLst>
                <a:path w="310" h="164">
                  <a:moveTo>
                    <a:pt x="310" y="47"/>
                  </a:moveTo>
                  <a:lnTo>
                    <a:pt x="249" y="14"/>
                  </a:lnTo>
                  <a:lnTo>
                    <a:pt x="193" y="0"/>
                  </a:lnTo>
                  <a:lnTo>
                    <a:pt x="122" y="0"/>
                  </a:lnTo>
                  <a:lnTo>
                    <a:pt x="57" y="32"/>
                  </a:lnTo>
                  <a:lnTo>
                    <a:pt x="24" y="70"/>
                  </a:lnTo>
                  <a:lnTo>
                    <a:pt x="5" y="122"/>
                  </a:lnTo>
                  <a:lnTo>
                    <a:pt x="0" y="164"/>
                  </a:lnTo>
                  <a:lnTo>
                    <a:pt x="150" y="103"/>
                  </a:lnTo>
                  <a:lnTo>
                    <a:pt x="31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175200" y="2348640"/>
              <a:ext cx="208440" cy="122400"/>
            </a:xfrm>
            <a:custGeom>
              <a:avLst/>
              <a:gdLst/>
              <a:ahLst/>
              <a:rect l="l" t="t" r="r" b="b"/>
              <a:pathLst>
                <a:path w="290" h="188">
                  <a:moveTo>
                    <a:pt x="0" y="174"/>
                  </a:moveTo>
                  <a:lnTo>
                    <a:pt x="65" y="183"/>
                  </a:lnTo>
                  <a:lnTo>
                    <a:pt x="122" y="188"/>
                  </a:lnTo>
                  <a:lnTo>
                    <a:pt x="192" y="179"/>
                  </a:lnTo>
                  <a:lnTo>
                    <a:pt x="253" y="136"/>
                  </a:lnTo>
                  <a:lnTo>
                    <a:pt x="281" y="94"/>
                  </a:lnTo>
                  <a:lnTo>
                    <a:pt x="290" y="42"/>
                  </a:lnTo>
                  <a:lnTo>
                    <a:pt x="290" y="0"/>
                  </a:lnTo>
                  <a:lnTo>
                    <a:pt x="150" y="85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114000" y="2520360"/>
              <a:ext cx="929880" cy="318960"/>
            </a:xfrm>
            <a:custGeom>
              <a:avLst/>
              <a:gdLst/>
              <a:ahLst/>
              <a:rect l="l" t="t" r="r" b="b"/>
              <a:pathLst>
                <a:path w="1293" h="489">
                  <a:moveTo>
                    <a:pt x="1293" y="0"/>
                  </a:moveTo>
                  <a:lnTo>
                    <a:pt x="1106" y="99"/>
                  </a:lnTo>
                  <a:lnTo>
                    <a:pt x="933" y="216"/>
                  </a:lnTo>
                  <a:lnTo>
                    <a:pt x="750" y="353"/>
                  </a:lnTo>
                  <a:lnTo>
                    <a:pt x="605" y="489"/>
                  </a:lnTo>
                  <a:lnTo>
                    <a:pt x="492" y="367"/>
                  </a:lnTo>
                  <a:lnTo>
                    <a:pt x="417" y="296"/>
                  </a:lnTo>
                  <a:lnTo>
                    <a:pt x="230" y="160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111120" y="2569320"/>
              <a:ext cx="942840" cy="325440"/>
            </a:xfrm>
            <a:custGeom>
              <a:avLst/>
              <a:gdLst/>
              <a:ahLst/>
              <a:rect l="l" t="t" r="r" b="b"/>
              <a:pathLst>
                <a:path w="1311" h="499">
                  <a:moveTo>
                    <a:pt x="1311" y="0"/>
                  </a:moveTo>
                  <a:lnTo>
                    <a:pt x="1138" y="90"/>
                  </a:lnTo>
                  <a:lnTo>
                    <a:pt x="965" y="212"/>
                  </a:lnTo>
                  <a:lnTo>
                    <a:pt x="782" y="344"/>
                  </a:lnTo>
                  <a:lnTo>
                    <a:pt x="623" y="499"/>
                  </a:lnTo>
                  <a:lnTo>
                    <a:pt x="515" y="372"/>
                  </a:lnTo>
                  <a:lnTo>
                    <a:pt x="426" y="287"/>
                  </a:lnTo>
                  <a:lnTo>
                    <a:pt x="262" y="15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144960" y="2615760"/>
              <a:ext cx="919800" cy="327960"/>
            </a:xfrm>
            <a:custGeom>
              <a:avLst/>
              <a:gdLst/>
              <a:ahLst/>
              <a:rect l="l" t="t" r="r" b="b"/>
              <a:pathLst>
                <a:path w="1279" h="503">
                  <a:moveTo>
                    <a:pt x="1279" y="0"/>
                  </a:moveTo>
                  <a:lnTo>
                    <a:pt x="1105" y="80"/>
                  </a:lnTo>
                  <a:lnTo>
                    <a:pt x="932" y="202"/>
                  </a:lnTo>
                  <a:lnTo>
                    <a:pt x="754" y="334"/>
                  </a:lnTo>
                  <a:lnTo>
                    <a:pt x="562" y="503"/>
                  </a:lnTo>
                  <a:lnTo>
                    <a:pt x="473" y="362"/>
                  </a:lnTo>
                  <a:lnTo>
                    <a:pt x="384" y="277"/>
                  </a:lnTo>
                  <a:lnTo>
                    <a:pt x="229" y="146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326760" y="2759760"/>
              <a:ext cx="491760" cy="261000"/>
            </a:xfrm>
            <a:custGeom>
              <a:avLst/>
              <a:gdLst/>
              <a:ahLst/>
              <a:rect l="l" t="t" r="r" b="b"/>
              <a:pathLst>
                <a:path w="684" h="400">
                  <a:moveTo>
                    <a:pt x="684" y="47"/>
                  </a:moveTo>
                  <a:lnTo>
                    <a:pt x="468" y="216"/>
                  </a:lnTo>
                  <a:lnTo>
                    <a:pt x="285" y="400"/>
                  </a:lnTo>
                  <a:lnTo>
                    <a:pt x="210" y="249"/>
                  </a:lnTo>
                  <a:lnTo>
                    <a:pt x="126" y="13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282840" y="2376000"/>
              <a:ext cx="676800" cy="386640"/>
            </a:xfrm>
            <a:custGeom>
              <a:avLst/>
              <a:gdLst/>
              <a:ahLst/>
              <a:rect l="l" t="t" r="r" b="b"/>
              <a:pathLst>
                <a:path w="941" h="593">
                  <a:moveTo>
                    <a:pt x="562" y="0"/>
                  </a:moveTo>
                  <a:lnTo>
                    <a:pt x="754" y="137"/>
                  </a:lnTo>
                  <a:lnTo>
                    <a:pt x="848" y="174"/>
                  </a:lnTo>
                  <a:lnTo>
                    <a:pt x="941" y="202"/>
                  </a:lnTo>
                  <a:lnTo>
                    <a:pt x="660" y="353"/>
                  </a:lnTo>
                  <a:lnTo>
                    <a:pt x="463" y="508"/>
                  </a:lnTo>
                  <a:lnTo>
                    <a:pt x="384" y="593"/>
                  </a:lnTo>
                  <a:lnTo>
                    <a:pt x="187" y="414"/>
                  </a:lnTo>
                  <a:lnTo>
                    <a:pt x="0" y="29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070080" y="1903680"/>
              <a:ext cx="111240" cy="177840"/>
            </a:xfrm>
            <a:custGeom>
              <a:avLst/>
              <a:gdLst/>
              <a:ahLst/>
              <a:rect l="l" t="t" r="r" b="b"/>
              <a:pathLst>
                <a:path w="155" h="273">
                  <a:moveTo>
                    <a:pt x="0" y="0"/>
                  </a:moveTo>
                  <a:lnTo>
                    <a:pt x="5" y="33"/>
                  </a:lnTo>
                  <a:lnTo>
                    <a:pt x="10" y="66"/>
                  </a:lnTo>
                  <a:lnTo>
                    <a:pt x="15" y="104"/>
                  </a:lnTo>
                  <a:lnTo>
                    <a:pt x="24" y="132"/>
                  </a:lnTo>
                  <a:lnTo>
                    <a:pt x="38" y="155"/>
                  </a:lnTo>
                  <a:lnTo>
                    <a:pt x="52" y="188"/>
                  </a:lnTo>
                  <a:lnTo>
                    <a:pt x="80" y="216"/>
                  </a:lnTo>
                  <a:lnTo>
                    <a:pt x="118" y="249"/>
                  </a:lnTo>
                  <a:lnTo>
                    <a:pt x="155" y="27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077280" y="1922040"/>
              <a:ext cx="114120" cy="163080"/>
            </a:xfrm>
            <a:custGeom>
              <a:avLst/>
              <a:gdLst/>
              <a:ahLst/>
              <a:rect l="l" t="t" r="r" b="b"/>
              <a:pathLst>
                <a:path w="159" h="250">
                  <a:moveTo>
                    <a:pt x="0" y="0"/>
                  </a:moveTo>
                  <a:lnTo>
                    <a:pt x="14" y="33"/>
                  </a:lnTo>
                  <a:lnTo>
                    <a:pt x="122" y="226"/>
                  </a:lnTo>
                  <a:lnTo>
                    <a:pt x="159" y="250"/>
                  </a:lnTo>
                  <a:lnTo>
                    <a:pt x="28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0" name=""/>
          <p:cNvGrpSpPr/>
          <p:nvPr/>
        </p:nvGrpSpPr>
        <p:grpSpPr>
          <a:xfrm>
            <a:off x="5111280" y="1784520"/>
            <a:ext cx="1846440" cy="1315800"/>
            <a:chOff x="5111280" y="1784520"/>
            <a:chExt cx="1846440" cy="1315800"/>
          </a:xfrm>
        </p:grpSpPr>
        <p:sp>
          <p:nvSpPr>
            <p:cNvPr id="1911" name=""/>
            <p:cNvSpPr/>
            <p:nvPr/>
          </p:nvSpPr>
          <p:spPr>
            <a:xfrm flipH="1">
              <a:off x="5110920" y="1784520"/>
              <a:ext cx="1846440" cy="1315800"/>
            </a:xfrm>
            <a:custGeom>
              <a:avLst/>
              <a:gdLst/>
              <a:ahLst/>
              <a:rect l="l" t="t" r="r" b="b"/>
              <a:pathLst>
                <a:path w="2567" h="2017">
                  <a:moveTo>
                    <a:pt x="23" y="719"/>
                  </a:moveTo>
                  <a:lnTo>
                    <a:pt x="112" y="710"/>
                  </a:lnTo>
                  <a:lnTo>
                    <a:pt x="239" y="729"/>
                  </a:lnTo>
                  <a:lnTo>
                    <a:pt x="431" y="809"/>
                  </a:lnTo>
                  <a:lnTo>
                    <a:pt x="642" y="969"/>
                  </a:lnTo>
                  <a:lnTo>
                    <a:pt x="965" y="1213"/>
                  </a:lnTo>
                  <a:lnTo>
                    <a:pt x="1124" y="1373"/>
                  </a:lnTo>
                  <a:lnTo>
                    <a:pt x="1256" y="1453"/>
                  </a:lnTo>
                  <a:lnTo>
                    <a:pt x="1363" y="1495"/>
                  </a:lnTo>
                  <a:lnTo>
                    <a:pt x="1443" y="1533"/>
                  </a:lnTo>
                  <a:lnTo>
                    <a:pt x="1551" y="1655"/>
                  </a:lnTo>
                  <a:lnTo>
                    <a:pt x="1630" y="1777"/>
                  </a:lnTo>
                  <a:lnTo>
                    <a:pt x="1710" y="1900"/>
                  </a:lnTo>
                  <a:lnTo>
                    <a:pt x="1766" y="2017"/>
                  </a:lnTo>
                  <a:lnTo>
                    <a:pt x="1926" y="1857"/>
                  </a:lnTo>
                  <a:lnTo>
                    <a:pt x="2033" y="1740"/>
                  </a:lnTo>
                  <a:lnTo>
                    <a:pt x="2249" y="1575"/>
                  </a:lnTo>
                  <a:lnTo>
                    <a:pt x="2408" y="1453"/>
                  </a:lnTo>
                  <a:lnTo>
                    <a:pt x="2539" y="1411"/>
                  </a:lnTo>
                  <a:lnTo>
                    <a:pt x="2567" y="1373"/>
                  </a:lnTo>
                  <a:lnTo>
                    <a:pt x="2511" y="1133"/>
                  </a:lnTo>
                  <a:lnTo>
                    <a:pt x="2249" y="1011"/>
                  </a:lnTo>
                  <a:lnTo>
                    <a:pt x="2005" y="851"/>
                  </a:lnTo>
                  <a:lnTo>
                    <a:pt x="1766" y="809"/>
                  </a:lnTo>
                  <a:lnTo>
                    <a:pt x="1551" y="663"/>
                  </a:lnTo>
                  <a:lnTo>
                    <a:pt x="1485" y="607"/>
                  </a:lnTo>
                  <a:lnTo>
                    <a:pt x="1420" y="555"/>
                  </a:lnTo>
                  <a:lnTo>
                    <a:pt x="1312" y="466"/>
                  </a:lnTo>
                  <a:lnTo>
                    <a:pt x="1237" y="362"/>
                  </a:lnTo>
                  <a:lnTo>
                    <a:pt x="1124" y="122"/>
                  </a:lnTo>
                  <a:lnTo>
                    <a:pt x="1073" y="52"/>
                  </a:lnTo>
                  <a:lnTo>
                    <a:pt x="1017" y="0"/>
                  </a:lnTo>
                  <a:lnTo>
                    <a:pt x="792" y="56"/>
                  </a:lnTo>
                  <a:lnTo>
                    <a:pt x="586" y="80"/>
                  </a:lnTo>
                  <a:lnTo>
                    <a:pt x="473" y="94"/>
                  </a:lnTo>
                  <a:lnTo>
                    <a:pt x="323" y="89"/>
                  </a:lnTo>
                  <a:lnTo>
                    <a:pt x="239" y="80"/>
                  </a:lnTo>
                  <a:lnTo>
                    <a:pt x="286" y="160"/>
                  </a:lnTo>
                  <a:lnTo>
                    <a:pt x="164" y="202"/>
                  </a:lnTo>
                  <a:lnTo>
                    <a:pt x="178" y="249"/>
                  </a:lnTo>
                  <a:lnTo>
                    <a:pt x="145" y="343"/>
                  </a:lnTo>
                  <a:lnTo>
                    <a:pt x="89" y="414"/>
                  </a:lnTo>
                  <a:lnTo>
                    <a:pt x="84" y="494"/>
                  </a:lnTo>
                  <a:lnTo>
                    <a:pt x="28" y="564"/>
                  </a:lnTo>
                  <a:lnTo>
                    <a:pt x="28" y="654"/>
                  </a:lnTo>
                  <a:lnTo>
                    <a:pt x="0" y="724"/>
                  </a:lnTo>
                  <a:lnTo>
                    <a:pt x="23" y="719"/>
                  </a:lnTo>
                  <a:close/>
                </a:path>
              </a:pathLst>
            </a:custGeom>
            <a:solidFill>
              <a:srgbClr val="00f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H="1">
              <a:off x="6149520" y="1820880"/>
              <a:ext cx="518400" cy="254880"/>
            </a:xfrm>
            <a:custGeom>
              <a:avLst/>
              <a:gdLst/>
              <a:ahLst/>
              <a:rect l="l" t="t" r="r" b="b"/>
              <a:pathLst>
                <a:path w="721" h="391">
                  <a:moveTo>
                    <a:pt x="721" y="146"/>
                  </a:moveTo>
                  <a:lnTo>
                    <a:pt x="595" y="0"/>
                  </a:lnTo>
                  <a:lnTo>
                    <a:pt x="501" y="24"/>
                  </a:lnTo>
                  <a:lnTo>
                    <a:pt x="403" y="47"/>
                  </a:lnTo>
                  <a:lnTo>
                    <a:pt x="295" y="71"/>
                  </a:lnTo>
                  <a:lnTo>
                    <a:pt x="187" y="85"/>
                  </a:lnTo>
                  <a:lnTo>
                    <a:pt x="94" y="94"/>
                  </a:lnTo>
                  <a:lnTo>
                    <a:pt x="0" y="109"/>
                  </a:lnTo>
                  <a:lnTo>
                    <a:pt x="211" y="3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H="1">
              <a:off x="6314040" y="1818360"/>
              <a:ext cx="27360" cy="3960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5" y="61"/>
                  </a:moveTo>
                  <a:lnTo>
                    <a:pt x="0" y="56"/>
                  </a:lnTo>
                  <a:lnTo>
                    <a:pt x="28" y="9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38" y="9"/>
                  </a:lnTo>
                  <a:lnTo>
                    <a:pt x="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6280200" y="1836360"/>
              <a:ext cx="20160" cy="39600"/>
            </a:xfrm>
            <a:custGeom>
              <a:avLst/>
              <a:gdLst/>
              <a:ahLst/>
              <a:rect l="l" t="t" r="r" b="b"/>
              <a:pathLst>
                <a:path w="28" h="61">
                  <a:moveTo>
                    <a:pt x="0" y="52"/>
                  </a:moveTo>
                  <a:lnTo>
                    <a:pt x="0" y="61"/>
                  </a:lnTo>
                  <a:lnTo>
                    <a:pt x="4" y="61"/>
                  </a:lnTo>
                  <a:lnTo>
                    <a:pt x="9" y="56"/>
                  </a:lnTo>
                  <a:lnTo>
                    <a:pt x="14" y="52"/>
                  </a:lnTo>
                  <a:lnTo>
                    <a:pt x="23" y="33"/>
                  </a:lnTo>
                  <a:lnTo>
                    <a:pt x="28" y="23"/>
                  </a:lnTo>
                  <a:lnTo>
                    <a:pt x="28" y="19"/>
                  </a:lnTo>
                  <a:lnTo>
                    <a:pt x="23" y="9"/>
                  </a:lnTo>
                  <a:lnTo>
                    <a:pt x="18" y="5"/>
                  </a:lnTo>
                  <a:lnTo>
                    <a:pt x="14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5"/>
                  </a:lnTo>
                  <a:lnTo>
                    <a:pt x="9" y="5"/>
                  </a:lnTo>
                  <a:lnTo>
                    <a:pt x="18" y="9"/>
                  </a:lnTo>
                  <a:lnTo>
                    <a:pt x="18" y="14"/>
                  </a:lnTo>
                  <a:lnTo>
                    <a:pt x="23" y="19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9" y="47"/>
                  </a:lnTo>
                  <a:lnTo>
                    <a:pt x="4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>
              <a:off x="6300360" y="1836360"/>
              <a:ext cx="16920" cy="39600"/>
            </a:xfrm>
            <a:custGeom>
              <a:avLst/>
              <a:gdLst/>
              <a:ahLst/>
              <a:rect l="l" t="t" r="r" b="b"/>
              <a:pathLst>
                <a:path w="24" h="61">
                  <a:moveTo>
                    <a:pt x="24" y="9"/>
                  </a:moveTo>
                  <a:lnTo>
                    <a:pt x="24" y="0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4" y="14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10" y="56"/>
                  </a:lnTo>
                  <a:lnTo>
                    <a:pt x="14" y="61"/>
                  </a:lnTo>
                  <a:lnTo>
                    <a:pt x="19" y="61"/>
                  </a:lnTo>
                  <a:lnTo>
                    <a:pt x="24" y="61"/>
                  </a:lnTo>
                  <a:lnTo>
                    <a:pt x="24" y="61"/>
                  </a:lnTo>
                  <a:lnTo>
                    <a:pt x="24" y="52"/>
                  </a:lnTo>
                  <a:lnTo>
                    <a:pt x="24" y="56"/>
                  </a:lnTo>
                  <a:lnTo>
                    <a:pt x="19" y="56"/>
                  </a:lnTo>
                  <a:lnTo>
                    <a:pt x="10" y="52"/>
                  </a:lnTo>
                  <a:lnTo>
                    <a:pt x="5" y="47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5" y="38"/>
                  </a:lnTo>
                  <a:lnTo>
                    <a:pt x="10" y="33"/>
                  </a:lnTo>
                  <a:lnTo>
                    <a:pt x="19" y="14"/>
                  </a:lnTo>
                  <a:lnTo>
                    <a:pt x="24" y="9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6590160" y="1937520"/>
              <a:ext cx="33480" cy="338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7" y="52"/>
                  </a:moveTo>
                  <a:lnTo>
                    <a:pt x="42" y="52"/>
                  </a:lnTo>
                  <a:lnTo>
                    <a:pt x="9" y="5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47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6556320" y="1919160"/>
              <a:ext cx="20880" cy="3636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0" y="52"/>
                  </a:moveTo>
                  <a:lnTo>
                    <a:pt x="0" y="56"/>
                  </a:lnTo>
                  <a:lnTo>
                    <a:pt x="5" y="56"/>
                  </a:lnTo>
                  <a:lnTo>
                    <a:pt x="10" y="56"/>
                  </a:lnTo>
                  <a:lnTo>
                    <a:pt x="14" y="56"/>
                  </a:lnTo>
                  <a:lnTo>
                    <a:pt x="19" y="56"/>
                  </a:lnTo>
                  <a:lnTo>
                    <a:pt x="24" y="47"/>
                  </a:lnTo>
                  <a:lnTo>
                    <a:pt x="29" y="42"/>
                  </a:lnTo>
                  <a:lnTo>
                    <a:pt x="29" y="38"/>
                  </a:lnTo>
                  <a:lnTo>
                    <a:pt x="29" y="33"/>
                  </a:lnTo>
                  <a:lnTo>
                    <a:pt x="24" y="23"/>
                  </a:lnTo>
                  <a:lnTo>
                    <a:pt x="14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14"/>
                  </a:lnTo>
                  <a:lnTo>
                    <a:pt x="19" y="28"/>
                  </a:lnTo>
                  <a:lnTo>
                    <a:pt x="19" y="38"/>
                  </a:lnTo>
                  <a:lnTo>
                    <a:pt x="19" y="42"/>
                  </a:lnTo>
                  <a:lnTo>
                    <a:pt x="19" y="47"/>
                  </a:lnTo>
                  <a:lnTo>
                    <a:pt x="14" y="52"/>
                  </a:lnTo>
                  <a:lnTo>
                    <a:pt x="10" y="52"/>
                  </a:lnTo>
                  <a:lnTo>
                    <a:pt x="5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H="1">
              <a:off x="6577560" y="1919160"/>
              <a:ext cx="20160" cy="36360"/>
            </a:xfrm>
            <a:custGeom>
              <a:avLst/>
              <a:gdLst/>
              <a:ahLst/>
              <a:rect l="l" t="t" r="r" b="b"/>
              <a:pathLst>
                <a:path w="28" h="56">
                  <a:moveTo>
                    <a:pt x="28" y="5"/>
                  </a:moveTo>
                  <a:lnTo>
                    <a:pt x="28" y="0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5" y="33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24" y="52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2"/>
                  </a:lnTo>
                  <a:lnTo>
                    <a:pt x="24" y="52"/>
                  </a:lnTo>
                  <a:lnTo>
                    <a:pt x="24" y="47"/>
                  </a:lnTo>
                  <a:lnTo>
                    <a:pt x="10" y="28"/>
                  </a:lnTo>
                  <a:lnTo>
                    <a:pt x="10" y="23"/>
                  </a:lnTo>
                  <a:lnTo>
                    <a:pt x="10" y="14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4" y="5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H="1">
              <a:off x="6159240" y="2026440"/>
              <a:ext cx="228600" cy="125640"/>
            </a:xfrm>
            <a:custGeom>
              <a:avLst/>
              <a:gdLst/>
              <a:ahLst/>
              <a:rect l="l" t="t" r="r" b="b"/>
              <a:pathLst>
                <a:path w="318" h="193">
                  <a:moveTo>
                    <a:pt x="145" y="193"/>
                  </a:moveTo>
                  <a:lnTo>
                    <a:pt x="112" y="193"/>
                  </a:lnTo>
                  <a:lnTo>
                    <a:pt x="79" y="189"/>
                  </a:lnTo>
                  <a:lnTo>
                    <a:pt x="28" y="165"/>
                  </a:lnTo>
                  <a:lnTo>
                    <a:pt x="9" y="142"/>
                  </a:lnTo>
                  <a:lnTo>
                    <a:pt x="0" y="123"/>
                  </a:lnTo>
                  <a:lnTo>
                    <a:pt x="9" y="90"/>
                  </a:lnTo>
                  <a:lnTo>
                    <a:pt x="28" y="47"/>
                  </a:lnTo>
                  <a:lnTo>
                    <a:pt x="75" y="19"/>
                  </a:lnTo>
                  <a:lnTo>
                    <a:pt x="168" y="0"/>
                  </a:lnTo>
                  <a:lnTo>
                    <a:pt x="257" y="5"/>
                  </a:lnTo>
                  <a:lnTo>
                    <a:pt x="286" y="19"/>
                  </a:lnTo>
                  <a:lnTo>
                    <a:pt x="304" y="43"/>
                  </a:lnTo>
                  <a:lnTo>
                    <a:pt x="314" y="71"/>
                  </a:lnTo>
                  <a:lnTo>
                    <a:pt x="318" y="95"/>
                  </a:lnTo>
                  <a:lnTo>
                    <a:pt x="314" y="123"/>
                  </a:lnTo>
                  <a:lnTo>
                    <a:pt x="295" y="146"/>
                  </a:lnTo>
                  <a:lnTo>
                    <a:pt x="262" y="165"/>
                  </a:lnTo>
                  <a:lnTo>
                    <a:pt x="229" y="179"/>
                  </a:lnTo>
                  <a:lnTo>
                    <a:pt x="197" y="184"/>
                  </a:lnTo>
                  <a:lnTo>
                    <a:pt x="197" y="189"/>
                  </a:lnTo>
                  <a:lnTo>
                    <a:pt x="145" y="1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>
              <a:off x="6172200" y="2302920"/>
              <a:ext cx="91080" cy="76320"/>
            </a:xfrm>
            <a:custGeom>
              <a:avLst/>
              <a:gdLst/>
              <a:ahLst/>
              <a:rect l="l" t="t" r="r" b="b"/>
              <a:pathLst>
                <a:path w="127" h="117">
                  <a:moveTo>
                    <a:pt x="0" y="94"/>
                  </a:moveTo>
                  <a:lnTo>
                    <a:pt x="52" y="117"/>
                  </a:lnTo>
                  <a:lnTo>
                    <a:pt x="98" y="94"/>
                  </a:lnTo>
                  <a:lnTo>
                    <a:pt x="127" y="47"/>
                  </a:lnTo>
                  <a:lnTo>
                    <a:pt x="10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>
              <a:off x="6162120" y="2373480"/>
              <a:ext cx="91080" cy="91800"/>
            </a:xfrm>
            <a:custGeom>
              <a:avLst/>
              <a:gdLst/>
              <a:ahLst/>
              <a:rect l="l" t="t" r="r" b="b"/>
              <a:pathLst>
                <a:path w="127" h="141">
                  <a:moveTo>
                    <a:pt x="117" y="0"/>
                  </a:moveTo>
                  <a:lnTo>
                    <a:pt x="127" y="66"/>
                  </a:lnTo>
                  <a:lnTo>
                    <a:pt x="99" y="127"/>
                  </a:lnTo>
                  <a:lnTo>
                    <a:pt x="80" y="131"/>
                  </a:lnTo>
                  <a:lnTo>
                    <a:pt x="42" y="141"/>
                  </a:lnTo>
                  <a:lnTo>
                    <a:pt x="0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>
              <a:off x="6017760" y="1906920"/>
              <a:ext cx="111240" cy="177840"/>
            </a:xfrm>
            <a:custGeom>
              <a:avLst/>
              <a:gdLst/>
              <a:ahLst/>
              <a:rect l="l" t="t" r="r" b="b"/>
              <a:pathLst>
                <a:path w="155" h="273">
                  <a:moveTo>
                    <a:pt x="0" y="0"/>
                  </a:moveTo>
                  <a:lnTo>
                    <a:pt x="5" y="33"/>
                  </a:lnTo>
                  <a:lnTo>
                    <a:pt x="10" y="66"/>
                  </a:lnTo>
                  <a:lnTo>
                    <a:pt x="15" y="104"/>
                  </a:lnTo>
                  <a:lnTo>
                    <a:pt x="24" y="132"/>
                  </a:lnTo>
                  <a:lnTo>
                    <a:pt x="38" y="155"/>
                  </a:lnTo>
                  <a:lnTo>
                    <a:pt x="52" y="188"/>
                  </a:lnTo>
                  <a:lnTo>
                    <a:pt x="80" y="216"/>
                  </a:lnTo>
                  <a:lnTo>
                    <a:pt x="118" y="249"/>
                  </a:lnTo>
                  <a:lnTo>
                    <a:pt x="155" y="2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>
              <a:off x="6287760" y="1891800"/>
              <a:ext cx="464400" cy="499680"/>
            </a:xfrm>
            <a:custGeom>
              <a:avLst/>
              <a:gdLst/>
              <a:ahLst/>
              <a:rect l="l" t="t" r="r" b="b"/>
              <a:pathLst>
                <a:path w="646" h="766">
                  <a:moveTo>
                    <a:pt x="0" y="0"/>
                  </a:moveTo>
                  <a:lnTo>
                    <a:pt x="379" y="521"/>
                  </a:lnTo>
                  <a:lnTo>
                    <a:pt x="473" y="616"/>
                  </a:lnTo>
                  <a:lnTo>
                    <a:pt x="567" y="691"/>
                  </a:lnTo>
                  <a:lnTo>
                    <a:pt x="646" y="7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H="1">
              <a:off x="6590520" y="1953360"/>
              <a:ext cx="235800" cy="24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H="1">
              <a:off x="6769800" y="2008080"/>
              <a:ext cx="80280" cy="6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6658200" y="2054520"/>
              <a:ext cx="2358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>
              <a:off x="6738840" y="2109240"/>
              <a:ext cx="158760" cy="67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H="1">
              <a:off x="6860160" y="2152440"/>
              <a:ext cx="7776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H="1">
              <a:off x="6748920" y="2211120"/>
              <a:ext cx="184680" cy="33120"/>
            </a:xfrm>
            <a:custGeom>
              <a:avLst/>
              <a:gdLst/>
              <a:ahLst/>
              <a:rect l="l" t="t" r="r" b="b"/>
              <a:pathLst>
                <a:path w="257" h="51">
                  <a:moveTo>
                    <a:pt x="0" y="0"/>
                  </a:moveTo>
                  <a:lnTo>
                    <a:pt x="65" y="0"/>
                  </a:lnTo>
                  <a:lnTo>
                    <a:pt x="131" y="14"/>
                  </a:lnTo>
                  <a:lnTo>
                    <a:pt x="197" y="32"/>
                  </a:lnTo>
                  <a:lnTo>
                    <a:pt x="257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H="1">
              <a:off x="6318000" y="2290680"/>
              <a:ext cx="191880" cy="1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H="1">
              <a:off x="5916240" y="2211120"/>
              <a:ext cx="222840" cy="106920"/>
            </a:xfrm>
            <a:custGeom>
              <a:avLst/>
              <a:gdLst/>
              <a:ahLst/>
              <a:rect l="l" t="t" r="r" b="b"/>
              <a:pathLst>
                <a:path w="310" h="164">
                  <a:moveTo>
                    <a:pt x="310" y="47"/>
                  </a:moveTo>
                  <a:lnTo>
                    <a:pt x="249" y="14"/>
                  </a:lnTo>
                  <a:lnTo>
                    <a:pt x="193" y="0"/>
                  </a:lnTo>
                  <a:lnTo>
                    <a:pt x="122" y="0"/>
                  </a:lnTo>
                  <a:lnTo>
                    <a:pt x="57" y="32"/>
                  </a:lnTo>
                  <a:lnTo>
                    <a:pt x="24" y="70"/>
                  </a:lnTo>
                  <a:lnTo>
                    <a:pt x="5" y="122"/>
                  </a:lnTo>
                  <a:lnTo>
                    <a:pt x="0" y="164"/>
                  </a:lnTo>
                  <a:lnTo>
                    <a:pt x="150" y="103"/>
                  </a:lnTo>
                  <a:lnTo>
                    <a:pt x="31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5815440" y="2351880"/>
              <a:ext cx="208440" cy="122400"/>
            </a:xfrm>
            <a:custGeom>
              <a:avLst/>
              <a:gdLst/>
              <a:ahLst/>
              <a:rect l="l" t="t" r="r" b="b"/>
              <a:pathLst>
                <a:path w="290" h="188">
                  <a:moveTo>
                    <a:pt x="0" y="174"/>
                  </a:moveTo>
                  <a:lnTo>
                    <a:pt x="65" y="183"/>
                  </a:lnTo>
                  <a:lnTo>
                    <a:pt x="122" y="188"/>
                  </a:lnTo>
                  <a:lnTo>
                    <a:pt x="192" y="179"/>
                  </a:lnTo>
                  <a:lnTo>
                    <a:pt x="253" y="136"/>
                  </a:lnTo>
                  <a:lnTo>
                    <a:pt x="281" y="94"/>
                  </a:lnTo>
                  <a:lnTo>
                    <a:pt x="290" y="42"/>
                  </a:lnTo>
                  <a:lnTo>
                    <a:pt x="290" y="0"/>
                  </a:lnTo>
                  <a:lnTo>
                    <a:pt x="150" y="85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5155200" y="2523600"/>
              <a:ext cx="929880" cy="318960"/>
            </a:xfrm>
            <a:custGeom>
              <a:avLst/>
              <a:gdLst/>
              <a:ahLst/>
              <a:rect l="l" t="t" r="r" b="b"/>
              <a:pathLst>
                <a:path w="1293" h="489">
                  <a:moveTo>
                    <a:pt x="1293" y="0"/>
                  </a:moveTo>
                  <a:lnTo>
                    <a:pt x="1106" y="99"/>
                  </a:lnTo>
                  <a:lnTo>
                    <a:pt x="933" y="216"/>
                  </a:lnTo>
                  <a:lnTo>
                    <a:pt x="750" y="353"/>
                  </a:lnTo>
                  <a:lnTo>
                    <a:pt x="605" y="489"/>
                  </a:lnTo>
                  <a:lnTo>
                    <a:pt x="492" y="367"/>
                  </a:lnTo>
                  <a:lnTo>
                    <a:pt x="417" y="296"/>
                  </a:lnTo>
                  <a:lnTo>
                    <a:pt x="230" y="160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H="1">
              <a:off x="5145120" y="2572560"/>
              <a:ext cx="943200" cy="325440"/>
            </a:xfrm>
            <a:custGeom>
              <a:avLst/>
              <a:gdLst/>
              <a:ahLst/>
              <a:rect l="l" t="t" r="r" b="b"/>
              <a:pathLst>
                <a:path w="1311" h="499">
                  <a:moveTo>
                    <a:pt x="1311" y="0"/>
                  </a:moveTo>
                  <a:lnTo>
                    <a:pt x="1138" y="90"/>
                  </a:lnTo>
                  <a:lnTo>
                    <a:pt x="965" y="212"/>
                  </a:lnTo>
                  <a:lnTo>
                    <a:pt x="782" y="344"/>
                  </a:lnTo>
                  <a:lnTo>
                    <a:pt x="623" y="499"/>
                  </a:lnTo>
                  <a:lnTo>
                    <a:pt x="515" y="372"/>
                  </a:lnTo>
                  <a:lnTo>
                    <a:pt x="426" y="287"/>
                  </a:lnTo>
                  <a:lnTo>
                    <a:pt x="262" y="15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H="1">
              <a:off x="5134320" y="2619000"/>
              <a:ext cx="919800" cy="327960"/>
            </a:xfrm>
            <a:custGeom>
              <a:avLst/>
              <a:gdLst/>
              <a:ahLst/>
              <a:rect l="l" t="t" r="r" b="b"/>
              <a:pathLst>
                <a:path w="1279" h="503">
                  <a:moveTo>
                    <a:pt x="1279" y="0"/>
                  </a:moveTo>
                  <a:lnTo>
                    <a:pt x="1105" y="80"/>
                  </a:lnTo>
                  <a:lnTo>
                    <a:pt x="932" y="202"/>
                  </a:lnTo>
                  <a:lnTo>
                    <a:pt x="754" y="334"/>
                  </a:lnTo>
                  <a:lnTo>
                    <a:pt x="562" y="503"/>
                  </a:lnTo>
                  <a:lnTo>
                    <a:pt x="473" y="362"/>
                  </a:lnTo>
                  <a:lnTo>
                    <a:pt x="384" y="277"/>
                  </a:lnTo>
                  <a:lnTo>
                    <a:pt x="229" y="146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5379840" y="2763000"/>
              <a:ext cx="492120" cy="261000"/>
            </a:xfrm>
            <a:custGeom>
              <a:avLst/>
              <a:gdLst/>
              <a:ahLst/>
              <a:rect l="l" t="t" r="r" b="b"/>
              <a:pathLst>
                <a:path w="684" h="400">
                  <a:moveTo>
                    <a:pt x="684" y="47"/>
                  </a:moveTo>
                  <a:lnTo>
                    <a:pt x="468" y="216"/>
                  </a:lnTo>
                  <a:lnTo>
                    <a:pt x="285" y="400"/>
                  </a:lnTo>
                  <a:lnTo>
                    <a:pt x="210" y="249"/>
                  </a:lnTo>
                  <a:lnTo>
                    <a:pt x="126" y="13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H="1">
              <a:off x="5239440" y="2379240"/>
              <a:ext cx="676800" cy="386640"/>
            </a:xfrm>
            <a:custGeom>
              <a:avLst/>
              <a:gdLst/>
              <a:ahLst/>
              <a:rect l="l" t="t" r="r" b="b"/>
              <a:pathLst>
                <a:path w="941" h="593">
                  <a:moveTo>
                    <a:pt x="562" y="0"/>
                  </a:moveTo>
                  <a:lnTo>
                    <a:pt x="754" y="137"/>
                  </a:lnTo>
                  <a:lnTo>
                    <a:pt x="848" y="174"/>
                  </a:lnTo>
                  <a:lnTo>
                    <a:pt x="941" y="202"/>
                  </a:lnTo>
                  <a:lnTo>
                    <a:pt x="660" y="353"/>
                  </a:lnTo>
                  <a:lnTo>
                    <a:pt x="463" y="508"/>
                  </a:lnTo>
                  <a:lnTo>
                    <a:pt x="384" y="593"/>
                  </a:lnTo>
                  <a:lnTo>
                    <a:pt x="187" y="414"/>
                  </a:lnTo>
                  <a:lnTo>
                    <a:pt x="0" y="29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H="1">
              <a:off x="6017760" y="1906920"/>
              <a:ext cx="111240" cy="177840"/>
            </a:xfrm>
            <a:custGeom>
              <a:avLst/>
              <a:gdLst/>
              <a:ahLst/>
              <a:rect l="l" t="t" r="r" b="b"/>
              <a:pathLst>
                <a:path w="155" h="273">
                  <a:moveTo>
                    <a:pt x="0" y="0"/>
                  </a:moveTo>
                  <a:lnTo>
                    <a:pt x="5" y="33"/>
                  </a:lnTo>
                  <a:lnTo>
                    <a:pt x="10" y="66"/>
                  </a:lnTo>
                  <a:lnTo>
                    <a:pt x="15" y="104"/>
                  </a:lnTo>
                  <a:lnTo>
                    <a:pt x="24" y="132"/>
                  </a:lnTo>
                  <a:lnTo>
                    <a:pt x="38" y="155"/>
                  </a:lnTo>
                  <a:lnTo>
                    <a:pt x="52" y="188"/>
                  </a:lnTo>
                  <a:lnTo>
                    <a:pt x="80" y="216"/>
                  </a:lnTo>
                  <a:lnTo>
                    <a:pt x="118" y="249"/>
                  </a:lnTo>
                  <a:lnTo>
                    <a:pt x="155" y="27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H="1">
              <a:off x="6007680" y="1925280"/>
              <a:ext cx="114120" cy="163080"/>
            </a:xfrm>
            <a:custGeom>
              <a:avLst/>
              <a:gdLst/>
              <a:ahLst/>
              <a:rect l="l" t="t" r="r" b="b"/>
              <a:pathLst>
                <a:path w="159" h="250">
                  <a:moveTo>
                    <a:pt x="0" y="0"/>
                  </a:moveTo>
                  <a:lnTo>
                    <a:pt x="14" y="33"/>
                  </a:lnTo>
                  <a:lnTo>
                    <a:pt x="122" y="226"/>
                  </a:lnTo>
                  <a:lnTo>
                    <a:pt x="159" y="250"/>
                  </a:lnTo>
                  <a:lnTo>
                    <a:pt x="28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0" name=""/>
          <p:cNvSpPr/>
          <p:nvPr/>
        </p:nvSpPr>
        <p:spPr>
          <a:xfrm>
            <a:off x="1638360" y="3273480"/>
            <a:ext cx="388800" cy="1685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800280" y="3787920"/>
            <a:ext cx="439560" cy="1171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H="1" flipV="1">
            <a:off x="1947240" y="3272760"/>
            <a:ext cx="360360" cy="1685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 flipH="1" flipV="1">
            <a:off x="2305800" y="3787920"/>
            <a:ext cx="390600" cy="1171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243080" y="3787920"/>
            <a:ext cx="401400" cy="1171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684520" y="3787920"/>
            <a:ext cx="382680" cy="1171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1933560" y="2797200"/>
            <a:ext cx="1171440" cy="3184200"/>
            <a:chOff x="1933560" y="2797200"/>
            <a:chExt cx="1171440" cy="3184200"/>
          </a:xfrm>
        </p:grpSpPr>
        <p:sp>
          <p:nvSpPr>
            <p:cNvPr id="1947" name=""/>
            <p:cNvSpPr/>
            <p:nvPr/>
          </p:nvSpPr>
          <p:spPr>
            <a:xfrm flipH="1">
              <a:off x="1933560" y="5960160"/>
              <a:ext cx="1171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943280" y="2797200"/>
              <a:ext cx="0" cy="318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5886360" y="2787480"/>
            <a:ext cx="1136880" cy="3213000"/>
            <a:chOff x="5886360" y="2787480"/>
            <a:chExt cx="1136880" cy="3213000"/>
          </a:xfrm>
        </p:grpSpPr>
        <p:sp>
          <p:nvSpPr>
            <p:cNvPr id="1950" name=""/>
            <p:cNvSpPr/>
            <p:nvPr/>
          </p:nvSpPr>
          <p:spPr>
            <a:xfrm>
              <a:off x="5886360" y="5978880"/>
              <a:ext cx="113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023240" y="2787480"/>
              <a:ext cx="0" cy="321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2" name=""/>
          <p:cNvSpPr/>
          <p:nvPr/>
        </p:nvSpPr>
        <p:spPr>
          <a:xfrm>
            <a:off x="2975040" y="5318280"/>
            <a:ext cx="3230640" cy="82548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81185" dir="77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‘balanced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‘have symmetry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 txBox="1"/>
          <p:nvPr/>
        </p:nvSpPr>
        <p:spPr>
          <a:xfrm>
            <a:off x="3902040" y="4076640"/>
            <a:ext cx="1419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pper Black"/>
              </a:rPr>
              <a:t>- or -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pper Black"/>
              <a:ea typeface="Copper Black"/>
            </a:endParaRPr>
          </a:p>
        </p:txBody>
      </p:sp>
      <p:sp>
        <p:nvSpPr>
          <p:cNvPr id="1954" name=""/>
          <p:cNvSpPr/>
          <p:nvPr/>
        </p:nvSpPr>
        <p:spPr>
          <a:xfrm>
            <a:off x="7816680" y="3768840"/>
            <a:ext cx="414360" cy="1197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118200" y="3263760"/>
            <a:ext cx="420840" cy="1686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545160" y="3778200"/>
            <a:ext cx="463680" cy="1171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 flipH="1" flipV="1">
            <a:off x="7023240" y="3774240"/>
            <a:ext cx="395280" cy="11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5689440" y="3778200"/>
            <a:ext cx="414360" cy="1171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 flipH="1" flipV="1">
            <a:off x="7426440" y="3276000"/>
            <a:ext cx="388800" cy="1685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0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5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"/>
                            </p:stCondLst>
                            <p:childTnLst>
                              <p:par>
                                <p:cTn id="17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9" dur="75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775"/>
                            </p:stCondLst>
                            <p:childTnLst>
                              <p:par>
                                <p:cTn id="1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fill="hold">
                            <p:stCondLst>
                              <p:cond delay="2275"/>
                            </p:stCondLst>
                            <p:childTnLst>
                              <p:par>
                                <p:cTn id="17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2775"/>
                            </p:stCondLst>
                            <p:childTnLst>
                              <p:par>
                                <p:cTn id="1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3275"/>
                            </p:stCondLst>
                            <p:childTnLst>
                              <p:par>
                                <p:cTn id="1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3775"/>
                            </p:stCondLst>
                            <p:childTnLst>
                              <p:par>
                                <p:cTn id="178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5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4275"/>
                            </p:stCondLst>
                            <p:childTnLst>
                              <p:par>
                                <p:cTn id="17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9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4775"/>
                            </p:stCondLst>
                            <p:childTnLst>
                              <p:par>
                                <p:cTn id="17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3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5275"/>
                            </p:stCondLst>
                            <p:childTnLst>
                              <p:par>
                                <p:cTn id="1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7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5775"/>
                            </p:stCondLst>
                            <p:childTnLst>
                              <p:par>
                                <p:cTn id="1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1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6275"/>
                            </p:stCondLst>
                            <p:childTnLst>
                              <p:par>
                                <p:cTn id="1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5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6775"/>
                            </p:stCondLst>
                            <p:childTnLst>
                              <p:par>
                                <p:cTn id="1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9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0" fill="hold">
                            <p:stCondLst>
                              <p:cond delay="7275"/>
                            </p:stCondLst>
                            <p:childTnLst>
                              <p:par>
                                <p:cTn id="1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7775"/>
                            </p:stCondLst>
                            <p:childTnLst>
                              <p:par>
                                <p:cTn id="18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16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8275"/>
                            </p:stCondLst>
                            <p:childTnLst>
                              <p:par>
                                <p:cTn id="18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8775"/>
                            </p:stCondLst>
                            <p:childTnLst>
                              <p:par>
                                <p:cTn id="1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4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9275"/>
                            </p:stCondLst>
                            <p:childTnLst>
                              <p:par>
                                <p:cTn id="18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8" dur="5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9775"/>
                            </p:stCondLst>
                            <p:childTnLst>
                              <p:par>
                                <p:cTn id="18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2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10275"/>
                            </p:stCondLst>
                            <p:childTnLst>
                              <p:par>
                                <p:cTn id="18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6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10775"/>
                            </p:stCondLst>
                            <p:childTnLst>
                              <p:par>
                                <p:cTn id="1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0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11275"/>
                            </p:stCondLst>
                            <p:childTnLst>
                              <p:par>
                                <p:cTn id="184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11775"/>
                            </p:stCondLst>
                            <p:childTnLst>
                              <p:par>
                                <p:cTn id="18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1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12275"/>
                            </p:stCondLst>
                            <p:childTnLst>
                              <p:par>
                                <p:cTn id="18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5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"/>
          <p:cNvSpPr txBox="1"/>
          <p:nvPr/>
        </p:nvSpPr>
        <p:spPr>
          <a:xfrm>
            <a:off x="3430440" y="361800"/>
            <a:ext cx="236232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dfbf2"/>
                    </a:gs>
                    <a:gs pos="100000">
                      <a:srgbClr val="808080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rial Narrow"/>
              </a:rPr>
              <a:t>Skewnes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dfbf2"/>
                  </a:gs>
                  <a:gs pos="100000">
                    <a:srgbClr val="808080"/>
                  </a:gs>
                </a:gsLst>
                <a:lin ang="108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1961" name=""/>
          <p:cNvSpPr/>
          <p:nvPr/>
        </p:nvSpPr>
        <p:spPr>
          <a:xfrm>
            <a:off x="473040" y="1631880"/>
            <a:ext cx="8275680" cy="1373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43570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curs when the observations are graphed as being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skewed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tilt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re to one side of the cent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of the observations than the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69960" y="3121200"/>
            <a:ext cx="394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kewnes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if on t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ight si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said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‘positive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611600" y="3121200"/>
            <a:ext cx="394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kewnes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if on the </a:t>
            </a:r>
            <a:r>
              <a:rPr b="1" i="1" lang="en-US" sz="2800" spc="-1" strike="noStrike">
                <a:solidFill>
                  <a:srgbClr val="8430ea"/>
                </a:solidFill>
                <a:latin typeface="Times New Roman"/>
              </a:rPr>
              <a:t>left si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said to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‘negative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4" name=""/>
          <p:cNvGrpSpPr/>
          <p:nvPr/>
        </p:nvGrpSpPr>
        <p:grpSpPr>
          <a:xfrm>
            <a:off x="1467000" y="4686480"/>
            <a:ext cx="2461680" cy="1682280"/>
            <a:chOff x="1467000" y="4686480"/>
            <a:chExt cx="2461680" cy="1682280"/>
          </a:xfrm>
        </p:grpSpPr>
        <p:sp>
          <p:nvSpPr>
            <p:cNvPr id="1965" name=""/>
            <p:cNvSpPr/>
            <p:nvPr/>
          </p:nvSpPr>
          <p:spPr>
            <a:xfrm>
              <a:off x="1467000" y="5307840"/>
              <a:ext cx="267120" cy="10558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734120" y="4870440"/>
              <a:ext cx="267480" cy="1493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2269440" y="4997160"/>
              <a:ext cx="267120" cy="13665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2001600" y="4686480"/>
              <a:ext cx="267480" cy="1677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536560" y="4997160"/>
              <a:ext cx="267480" cy="13665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804400" y="5121360"/>
              <a:ext cx="267480" cy="1242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071880" y="5431680"/>
              <a:ext cx="267120" cy="9316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339360" y="5965200"/>
              <a:ext cx="292320" cy="4035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636360" y="6138720"/>
              <a:ext cx="292320" cy="225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4" name=""/>
          <p:cNvGrpSpPr/>
          <p:nvPr/>
        </p:nvGrpSpPr>
        <p:grpSpPr>
          <a:xfrm>
            <a:off x="2260440" y="4546440"/>
            <a:ext cx="990720" cy="2070360"/>
            <a:chOff x="2260440" y="4546440"/>
            <a:chExt cx="990720" cy="2070360"/>
          </a:xfrm>
        </p:grpSpPr>
        <p:sp>
          <p:nvSpPr>
            <p:cNvPr id="1975" name=""/>
            <p:cNvSpPr/>
            <p:nvPr/>
          </p:nvSpPr>
          <p:spPr>
            <a:xfrm>
              <a:off x="2286000" y="4546440"/>
              <a:ext cx="0" cy="2070360"/>
            </a:xfrm>
            <a:prstGeom prst="line">
              <a:avLst/>
            </a:prstGeom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260440" y="5778360"/>
              <a:ext cx="99072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7" name=""/>
          <p:cNvGrpSpPr/>
          <p:nvPr/>
        </p:nvGrpSpPr>
        <p:grpSpPr>
          <a:xfrm>
            <a:off x="5239080" y="4673520"/>
            <a:ext cx="2462040" cy="1683000"/>
            <a:chOff x="5239080" y="4673520"/>
            <a:chExt cx="2462040" cy="1683000"/>
          </a:xfrm>
        </p:grpSpPr>
        <p:sp>
          <p:nvSpPr>
            <p:cNvPr id="1978" name=""/>
            <p:cNvSpPr/>
            <p:nvPr/>
          </p:nvSpPr>
          <p:spPr>
            <a:xfrm flipH="1">
              <a:off x="7434000" y="5294880"/>
              <a:ext cx="267120" cy="1056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7166160" y="4857480"/>
              <a:ext cx="267480" cy="1493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6631560" y="4984200"/>
              <a:ext cx="267120" cy="13665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6898320" y="4673520"/>
              <a:ext cx="267480" cy="1677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>
              <a:off x="6363360" y="4984200"/>
              <a:ext cx="267480" cy="13665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H="1">
              <a:off x="6095880" y="5108400"/>
              <a:ext cx="267480" cy="1242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5828760" y="5419080"/>
              <a:ext cx="267120" cy="9320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5536080" y="5952600"/>
              <a:ext cx="292320" cy="4039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H="1">
              <a:off x="5239080" y="6126120"/>
              <a:ext cx="292320" cy="225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7" name=""/>
          <p:cNvGrpSpPr/>
          <p:nvPr/>
        </p:nvGrpSpPr>
        <p:grpSpPr>
          <a:xfrm>
            <a:off x="5956200" y="4508640"/>
            <a:ext cx="990720" cy="2070000"/>
            <a:chOff x="5956200" y="4508640"/>
            <a:chExt cx="990720" cy="2070000"/>
          </a:xfrm>
        </p:grpSpPr>
        <p:sp>
          <p:nvSpPr>
            <p:cNvPr id="1988" name=""/>
            <p:cNvSpPr/>
            <p:nvPr/>
          </p:nvSpPr>
          <p:spPr>
            <a:xfrm>
              <a:off x="6896160" y="4508640"/>
              <a:ext cx="0" cy="2070000"/>
            </a:xfrm>
            <a:prstGeom prst="line">
              <a:avLst/>
            </a:prstGeom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5956200" y="5765760"/>
              <a:ext cx="99072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d"/>
  </p:transition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fill="hold">
                      <p:stCondLst>
                        <p:cond delay="0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2" dur="75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325"/>
                            </p:stCondLst>
                            <p:childTnLst>
                              <p:par>
                                <p:cTn id="18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6" dur="5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8825"/>
                            </p:stCondLst>
                            <p:childTnLst>
                              <p:par>
                                <p:cTn id="1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0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9325"/>
                            </p:stCondLst>
                            <p:childTnLst>
                              <p:par>
                                <p:cTn id="187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9825"/>
                            </p:stCondLst>
                            <p:childTnLst>
                              <p:par>
                                <p:cTn id="18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1" dur="5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fill="hold">
                            <p:stCondLst>
                              <p:cond delay="10325"/>
                            </p:stCondLst>
                            <p:childTnLst>
                              <p:par>
                                <p:cTn id="188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10825"/>
                            </p:stCondLst>
                            <p:childTnLst>
                              <p:par>
                                <p:cTn id="18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0" name=""/>
          <p:cNvGrpSpPr/>
          <p:nvPr/>
        </p:nvGrpSpPr>
        <p:grpSpPr>
          <a:xfrm>
            <a:off x="3405240" y="88920"/>
            <a:ext cx="2334600" cy="1467000"/>
            <a:chOff x="3405240" y="88920"/>
            <a:chExt cx="2334600" cy="1467000"/>
          </a:xfrm>
        </p:grpSpPr>
        <p:sp>
          <p:nvSpPr>
            <p:cNvPr id="1991" name=""/>
            <p:cNvSpPr/>
            <p:nvPr/>
          </p:nvSpPr>
          <p:spPr>
            <a:xfrm>
              <a:off x="4497120" y="852480"/>
              <a:ext cx="124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3366"/>
                  </a:solidFill>
                  <a:latin typeface="Times New Roman"/>
                </a:rPr>
                <a:t>Clas</a:t>
              </a:r>
              <a:r>
                <a:rPr b="1" lang="en-US" sz="4000" spc="-1" strike="noStrike">
                  <a:solidFill>
                    <a:srgbClr val="993366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405240" y="88920"/>
              <a:ext cx="1722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da</a:t>
              </a:r>
              <a:r>
                <a:rPr b="1" lang="en-US" sz="7200" spc="-1" strike="noStrike">
                  <a:solidFill>
                    <a:srgbClr val="993366"/>
                  </a:solidFill>
                  <a:latin typeface="Times New Roman"/>
                </a:rPr>
                <a:t>l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3" name=""/>
          <p:cNvSpPr/>
          <p:nvPr/>
        </p:nvSpPr>
        <p:spPr>
          <a:xfrm>
            <a:off x="1590840" y="1596960"/>
            <a:ext cx="6040440" cy="1068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modal class is the one with the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argest number of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4" name=""/>
          <p:cNvGrpSpPr/>
          <p:nvPr/>
        </p:nvGrpSpPr>
        <p:grpSpPr>
          <a:xfrm>
            <a:off x="2019240" y="2867040"/>
            <a:ext cx="5099040" cy="2914560"/>
            <a:chOff x="2019240" y="2867040"/>
            <a:chExt cx="5099040" cy="2914560"/>
          </a:xfrm>
        </p:grpSpPr>
        <p:sp>
          <p:nvSpPr>
            <p:cNvPr id="1995" name=""/>
            <p:cNvSpPr/>
            <p:nvPr/>
          </p:nvSpPr>
          <p:spPr>
            <a:xfrm>
              <a:off x="2019240" y="2867040"/>
              <a:ext cx="5075280" cy="2896920"/>
            </a:xfrm>
            <a:custGeom>
              <a:avLst/>
              <a:gdLst/>
              <a:ahLst/>
              <a:rect l="l" t="t" r="r" b="b"/>
              <a:pathLst>
                <a:path w="3606" h="1878">
                  <a:moveTo>
                    <a:pt x="3606" y="1878"/>
                  </a:moveTo>
                  <a:lnTo>
                    <a:pt x="3606" y="0"/>
                  </a:lnTo>
                  <a:lnTo>
                    <a:pt x="0" y="0"/>
                  </a:lnTo>
                  <a:lnTo>
                    <a:pt x="0" y="1872"/>
                  </a:lnTo>
                  <a:lnTo>
                    <a:pt x="3606" y="1878"/>
                  </a:lnTo>
                  <a:close/>
                </a:path>
              </a:pathLst>
            </a:custGeom>
            <a:solidFill>
              <a:srgbClr val="e9e9e9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478240" y="2867040"/>
              <a:ext cx="2880" cy="291456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928960" y="2867040"/>
              <a:ext cx="0" cy="291456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387600" y="2867040"/>
              <a:ext cx="0" cy="291456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843360" y="2867040"/>
              <a:ext cx="0" cy="291456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292640" y="2867040"/>
              <a:ext cx="3240" cy="291456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753080" y="2867040"/>
              <a:ext cx="0" cy="291456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202360" y="2867040"/>
              <a:ext cx="0" cy="291456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661000" y="2867040"/>
              <a:ext cx="3240" cy="291456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118200" y="2867040"/>
              <a:ext cx="3240" cy="291456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567480" y="2867040"/>
              <a:ext cx="0" cy="291456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2019240" y="3360600"/>
              <a:ext cx="5075280" cy="122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019240" y="3886200"/>
              <a:ext cx="5075280" cy="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019240" y="4389120"/>
              <a:ext cx="5099040" cy="144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019240" y="4894200"/>
              <a:ext cx="5062680" cy="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019240" y="5397480"/>
              <a:ext cx="5062680" cy="252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1" name=""/>
          <p:cNvSpPr/>
          <p:nvPr/>
        </p:nvSpPr>
        <p:spPr>
          <a:xfrm flipH="1">
            <a:off x="6537240" y="4191120"/>
            <a:ext cx="549360" cy="1576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 flipH="1">
            <a:off x="5987880" y="3538440"/>
            <a:ext cx="549360" cy="2229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4890960" y="3746520"/>
            <a:ext cx="549360" cy="2021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flipH="1">
            <a:off x="4341240" y="3708360"/>
            <a:ext cx="549000" cy="2059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 flipH="1">
            <a:off x="3792600" y="3865680"/>
            <a:ext cx="549360" cy="1892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H="1">
            <a:off x="3244680" y="4338720"/>
            <a:ext cx="547920" cy="1419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flipH="1">
            <a:off x="2644920" y="5133960"/>
            <a:ext cx="599760" cy="622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2016000" y="5392800"/>
            <a:ext cx="619200" cy="365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00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592200" y="5838840"/>
            <a:ext cx="48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un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al 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0" name=""/>
          <p:cNvGrpSpPr/>
          <p:nvPr/>
        </p:nvGrpSpPr>
        <p:grpSpPr>
          <a:xfrm>
            <a:off x="5257800" y="3073320"/>
            <a:ext cx="726840" cy="3156120"/>
            <a:chOff x="5257800" y="3073320"/>
            <a:chExt cx="726840" cy="3156120"/>
          </a:xfrm>
        </p:grpSpPr>
        <p:sp>
          <p:nvSpPr>
            <p:cNvPr id="2021" name=""/>
            <p:cNvSpPr/>
            <p:nvPr/>
          </p:nvSpPr>
          <p:spPr>
            <a:xfrm>
              <a:off x="5257800" y="6200640"/>
              <a:ext cx="457200" cy="9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705640" y="5372280"/>
              <a:ext cx="0" cy="85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H="1">
              <a:off x="5439600" y="3073320"/>
              <a:ext cx="544680" cy="26942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efefe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4" name=""/>
          <p:cNvGrpSpPr/>
          <p:nvPr/>
        </p:nvGrpSpPr>
        <p:grpSpPr>
          <a:xfrm>
            <a:off x="6600960" y="6107040"/>
            <a:ext cx="2371680" cy="581400"/>
            <a:chOff x="6600960" y="6107040"/>
            <a:chExt cx="2371680" cy="581400"/>
          </a:xfrm>
        </p:grpSpPr>
        <p:sp>
          <p:nvSpPr>
            <p:cNvPr id="2025" name=""/>
            <p:cNvSpPr/>
            <p:nvPr/>
          </p:nvSpPr>
          <p:spPr>
            <a:xfrm>
              <a:off x="6600960" y="6429240"/>
              <a:ext cx="2371680" cy="28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927840" y="6107040"/>
              <a:ext cx="1628640" cy="581400"/>
            </a:xfrm>
            <a:prstGeom prst="rect">
              <a:avLst/>
            </a:prstGeom>
            <a:solidFill>
              <a:srgbClr val="ffe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bi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Mod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0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500"/>
                            </p:stCondLst>
                            <p:childTnLst>
                              <p:par>
                                <p:cTn id="19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9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0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13240" y="1914480"/>
            <a:ext cx="3459240" cy="2428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548160" y="361800"/>
            <a:ext cx="20001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ff3101"/>
                    </a:gs>
                    <a:gs pos="100000">
                      <a:srgbClr val="fefefe"/>
                    </a:gs>
                  </a:gsLst>
                  <a:lin ang="8100000"/>
                </a:gradFill>
                <a:effectLst>
                  <a:outerShdw dist="440703" dir="13289384" blurRad="0" rotWithShape="0">
                    <a:srgbClr val="b2b2b2"/>
                  </a:outerShdw>
                </a:effectLst>
                <a:latin typeface="Times New Roman"/>
              </a:rPr>
              <a:t>Frequency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ff3101"/>
                  </a:gs>
                  <a:gs pos="100000">
                    <a:srgbClr val="fefefe"/>
                  </a:gs>
                </a:gsLst>
                <a:lin ang="8100000"/>
              </a:gradFill>
              <a:effectLst>
                <a:outerShdw dist="440703" dir="13289384" blurRad="0" rotWithShape="0">
                  <a:srgbClr val="b2b2b2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50000">
                      <a:srgbClr val="ff3101"/>
                    </a:gs>
                    <a:gs pos="100000">
                      <a:srgbClr val="fefefe"/>
                    </a:gs>
                  </a:gsLst>
                  <a:lin ang="8100000"/>
                </a:gradFill>
                <a:effectLst>
                  <a:outerShdw dist="440703" dir="13289384" blurRad="0" rotWithShape="0">
                    <a:srgbClr val="b2b2b2"/>
                  </a:outerShdw>
                </a:effectLst>
                <a:latin typeface="Times New Roman"/>
              </a:rPr>
              <a:t>Distribution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50000">
                    <a:srgbClr val="ff3101"/>
                  </a:gs>
                  <a:gs pos="100000">
                    <a:srgbClr val="fefefe"/>
                  </a:gs>
                </a:gsLst>
                <a:lin ang="8100000"/>
              </a:gradFill>
              <a:effectLst>
                <a:outerShdw dist="440703" dir="13289384" blurRad="0" rotWithShape="0">
                  <a:srgbClr val="b2b2b2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982960" y="1393920"/>
            <a:ext cx="318132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Defini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680" y="1909800"/>
            <a:ext cx="49719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31840" indent="-231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Class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Midpoint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 or Class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Mar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3200" y="2430360"/>
            <a:ext cx="4133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oint th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vid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 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two equal par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.e. the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verage of the upper and lower class limit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57440" y="2260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1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5680" y="4005360"/>
            <a:ext cx="32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99"/>
                </a:solidFill>
                <a:latin typeface="Times New Roman"/>
              </a:rPr>
              <a:t>Class frequenc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2920" y="4457880"/>
            <a:ext cx="57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number of observations in each 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6a789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286840" y="2057400"/>
            <a:ext cx="395280" cy="576360"/>
            <a:chOff x="8286840" y="2057400"/>
            <a:chExt cx="395280" cy="576360"/>
          </a:xfrm>
        </p:grpSpPr>
        <p:sp>
          <p:nvSpPr>
            <p:cNvPr id="104" name=""/>
            <p:cNvSpPr/>
            <p:nvPr/>
          </p:nvSpPr>
          <p:spPr>
            <a:xfrm flipV="1">
              <a:off x="8435880" y="2504880"/>
              <a:ext cx="32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86840" y="25434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3399"/>
            </a:solidFill>
            <a:ln w="0">
              <a:solidFill>
                <a:srgbClr val="b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07360" y="2467080"/>
              <a:ext cx="104760" cy="11124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66" y="18"/>
                  </a:moveTo>
                  <a:lnTo>
                    <a:pt x="66" y="11"/>
                  </a:lnTo>
                  <a:lnTo>
                    <a:pt x="61" y="13"/>
                  </a:lnTo>
                  <a:lnTo>
                    <a:pt x="60" y="8"/>
                  </a:lnTo>
                  <a:lnTo>
                    <a:pt x="53" y="8"/>
                  </a:lnTo>
                  <a:lnTo>
                    <a:pt x="51" y="3"/>
                  </a:lnTo>
                  <a:lnTo>
                    <a:pt x="45" y="5"/>
                  </a:lnTo>
                  <a:lnTo>
                    <a:pt x="43" y="0"/>
                  </a:lnTo>
                  <a:lnTo>
                    <a:pt x="35" y="5"/>
                  </a:lnTo>
                  <a:lnTo>
                    <a:pt x="31" y="0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5" y="8"/>
                  </a:lnTo>
                  <a:lnTo>
                    <a:pt x="26" y="11"/>
                  </a:lnTo>
                  <a:lnTo>
                    <a:pt x="22" y="13"/>
                  </a:lnTo>
                  <a:lnTo>
                    <a:pt x="21" y="17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10" y="25"/>
                  </a:lnTo>
                  <a:lnTo>
                    <a:pt x="10" y="31"/>
                  </a:lnTo>
                  <a:lnTo>
                    <a:pt x="5" y="33"/>
                  </a:lnTo>
                  <a:lnTo>
                    <a:pt x="8" y="37"/>
                  </a:lnTo>
                  <a:lnTo>
                    <a:pt x="4" y="42"/>
                  </a:lnTo>
                  <a:lnTo>
                    <a:pt x="3" y="46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5" y="47"/>
                  </a:lnTo>
                  <a:lnTo>
                    <a:pt x="8" y="47"/>
                  </a:lnTo>
                  <a:lnTo>
                    <a:pt x="8" y="44"/>
                  </a:lnTo>
                  <a:lnTo>
                    <a:pt x="8" y="46"/>
                  </a:lnTo>
                  <a:lnTo>
                    <a:pt x="13" y="42"/>
                  </a:lnTo>
                  <a:lnTo>
                    <a:pt x="14" y="42"/>
                  </a:lnTo>
                  <a:lnTo>
                    <a:pt x="14" y="46"/>
                  </a:lnTo>
                  <a:lnTo>
                    <a:pt x="16" y="47"/>
                  </a:lnTo>
                  <a:lnTo>
                    <a:pt x="18" y="47"/>
                  </a:lnTo>
                  <a:lnTo>
                    <a:pt x="22" y="48"/>
                  </a:lnTo>
                  <a:lnTo>
                    <a:pt x="23" y="51"/>
                  </a:lnTo>
                  <a:lnTo>
                    <a:pt x="22" y="53"/>
                  </a:lnTo>
                  <a:lnTo>
                    <a:pt x="25" y="52"/>
                  </a:lnTo>
                  <a:lnTo>
                    <a:pt x="26" y="55"/>
                  </a:lnTo>
                  <a:lnTo>
                    <a:pt x="26" y="57"/>
                  </a:lnTo>
                  <a:lnTo>
                    <a:pt x="29" y="55"/>
                  </a:lnTo>
                  <a:lnTo>
                    <a:pt x="31" y="57"/>
                  </a:lnTo>
                  <a:lnTo>
                    <a:pt x="34" y="59"/>
                  </a:lnTo>
                  <a:lnTo>
                    <a:pt x="36" y="59"/>
                  </a:lnTo>
                  <a:lnTo>
                    <a:pt x="38" y="63"/>
                  </a:lnTo>
                  <a:lnTo>
                    <a:pt x="43" y="59"/>
                  </a:lnTo>
                  <a:lnTo>
                    <a:pt x="44" y="64"/>
                  </a:lnTo>
                  <a:lnTo>
                    <a:pt x="47" y="64"/>
                  </a:lnTo>
                  <a:lnTo>
                    <a:pt x="53" y="70"/>
                  </a:lnTo>
                  <a:lnTo>
                    <a:pt x="64" y="70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06000" y="2494080"/>
              <a:ext cx="117360" cy="13968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4" y="1"/>
                  </a:moveTo>
                  <a:lnTo>
                    <a:pt x="2" y="53"/>
                  </a:lnTo>
                  <a:lnTo>
                    <a:pt x="2" y="57"/>
                  </a:lnTo>
                  <a:lnTo>
                    <a:pt x="0" y="57"/>
                  </a:lnTo>
                  <a:lnTo>
                    <a:pt x="2" y="60"/>
                  </a:lnTo>
                  <a:lnTo>
                    <a:pt x="4" y="60"/>
                  </a:lnTo>
                  <a:lnTo>
                    <a:pt x="7" y="60"/>
                  </a:lnTo>
                  <a:lnTo>
                    <a:pt x="9" y="59"/>
                  </a:lnTo>
                  <a:lnTo>
                    <a:pt x="9" y="60"/>
                  </a:lnTo>
                  <a:lnTo>
                    <a:pt x="12" y="59"/>
                  </a:lnTo>
                  <a:lnTo>
                    <a:pt x="16" y="65"/>
                  </a:lnTo>
                  <a:lnTo>
                    <a:pt x="21" y="65"/>
                  </a:lnTo>
                  <a:lnTo>
                    <a:pt x="25" y="70"/>
                  </a:lnTo>
                  <a:lnTo>
                    <a:pt x="32" y="72"/>
                  </a:lnTo>
                  <a:lnTo>
                    <a:pt x="34" y="74"/>
                  </a:lnTo>
                  <a:lnTo>
                    <a:pt x="37" y="75"/>
                  </a:lnTo>
                  <a:lnTo>
                    <a:pt x="39" y="75"/>
                  </a:lnTo>
                  <a:lnTo>
                    <a:pt x="42" y="75"/>
                  </a:lnTo>
                  <a:lnTo>
                    <a:pt x="45" y="79"/>
                  </a:lnTo>
                  <a:lnTo>
                    <a:pt x="51" y="79"/>
                  </a:lnTo>
                  <a:lnTo>
                    <a:pt x="54" y="81"/>
                  </a:lnTo>
                  <a:lnTo>
                    <a:pt x="57" y="81"/>
                  </a:lnTo>
                  <a:lnTo>
                    <a:pt x="64" y="86"/>
                  </a:lnTo>
                  <a:lnTo>
                    <a:pt x="64" y="88"/>
                  </a:lnTo>
                  <a:lnTo>
                    <a:pt x="68" y="88"/>
                  </a:lnTo>
                  <a:lnTo>
                    <a:pt x="68" y="86"/>
                  </a:lnTo>
                  <a:lnTo>
                    <a:pt x="67" y="83"/>
                  </a:lnTo>
                  <a:lnTo>
                    <a:pt x="65" y="81"/>
                  </a:lnTo>
                  <a:lnTo>
                    <a:pt x="67" y="78"/>
                  </a:lnTo>
                  <a:lnTo>
                    <a:pt x="67" y="77"/>
                  </a:lnTo>
                  <a:lnTo>
                    <a:pt x="67" y="74"/>
                  </a:lnTo>
                  <a:lnTo>
                    <a:pt x="65" y="73"/>
                  </a:lnTo>
                  <a:lnTo>
                    <a:pt x="72" y="66"/>
                  </a:lnTo>
                  <a:lnTo>
                    <a:pt x="72" y="65"/>
                  </a:lnTo>
                  <a:lnTo>
                    <a:pt x="70" y="62"/>
                  </a:lnTo>
                  <a:lnTo>
                    <a:pt x="72" y="59"/>
                  </a:lnTo>
                  <a:lnTo>
                    <a:pt x="69" y="57"/>
                  </a:lnTo>
                  <a:lnTo>
                    <a:pt x="69" y="56"/>
                  </a:lnTo>
                  <a:lnTo>
                    <a:pt x="70" y="53"/>
                  </a:lnTo>
                  <a:lnTo>
                    <a:pt x="69" y="51"/>
                  </a:lnTo>
                  <a:lnTo>
                    <a:pt x="69" y="49"/>
                  </a:lnTo>
                  <a:lnTo>
                    <a:pt x="74" y="47"/>
                  </a:lnTo>
                  <a:lnTo>
                    <a:pt x="74" y="36"/>
                  </a:lnTo>
                  <a:lnTo>
                    <a:pt x="72" y="33"/>
                  </a:lnTo>
                  <a:lnTo>
                    <a:pt x="74" y="29"/>
                  </a:lnTo>
                  <a:lnTo>
                    <a:pt x="41" y="25"/>
                  </a:lnTo>
                  <a:lnTo>
                    <a:pt x="39" y="18"/>
                  </a:lnTo>
                  <a:lnTo>
                    <a:pt x="30" y="18"/>
                  </a:lnTo>
                  <a:lnTo>
                    <a:pt x="29" y="12"/>
                  </a:lnTo>
                  <a:lnTo>
                    <a:pt x="25" y="12"/>
                  </a:lnTo>
                  <a:lnTo>
                    <a:pt x="22" y="8"/>
                  </a:lnTo>
                  <a:lnTo>
                    <a:pt x="19" y="8"/>
                  </a:lnTo>
                  <a:lnTo>
                    <a:pt x="15" y="9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9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70800" y="2273400"/>
              <a:ext cx="106560" cy="268200"/>
            </a:xfrm>
            <a:custGeom>
              <a:avLst/>
              <a:gdLst/>
              <a:ahLst/>
              <a:rect l="l" t="t" r="r" b="b"/>
              <a:pathLst>
                <a:path w="67" h="169">
                  <a:moveTo>
                    <a:pt x="33" y="169"/>
                  </a:moveTo>
                  <a:lnTo>
                    <a:pt x="31" y="166"/>
                  </a:lnTo>
                  <a:lnTo>
                    <a:pt x="35" y="163"/>
                  </a:lnTo>
                  <a:lnTo>
                    <a:pt x="33" y="160"/>
                  </a:lnTo>
                  <a:lnTo>
                    <a:pt x="37" y="156"/>
                  </a:lnTo>
                  <a:lnTo>
                    <a:pt x="33" y="148"/>
                  </a:lnTo>
                  <a:lnTo>
                    <a:pt x="36" y="143"/>
                  </a:lnTo>
                  <a:lnTo>
                    <a:pt x="36" y="139"/>
                  </a:lnTo>
                  <a:lnTo>
                    <a:pt x="40" y="130"/>
                  </a:lnTo>
                  <a:lnTo>
                    <a:pt x="36" y="125"/>
                  </a:lnTo>
                  <a:lnTo>
                    <a:pt x="39" y="122"/>
                  </a:lnTo>
                  <a:lnTo>
                    <a:pt x="39" y="117"/>
                  </a:lnTo>
                  <a:lnTo>
                    <a:pt x="40" y="114"/>
                  </a:lnTo>
                  <a:lnTo>
                    <a:pt x="41" y="112"/>
                  </a:lnTo>
                  <a:lnTo>
                    <a:pt x="41" y="104"/>
                  </a:lnTo>
                  <a:lnTo>
                    <a:pt x="45" y="102"/>
                  </a:lnTo>
                  <a:lnTo>
                    <a:pt x="44" y="96"/>
                  </a:lnTo>
                  <a:lnTo>
                    <a:pt x="44" y="95"/>
                  </a:lnTo>
                  <a:lnTo>
                    <a:pt x="46" y="94"/>
                  </a:lnTo>
                  <a:lnTo>
                    <a:pt x="48" y="94"/>
                  </a:lnTo>
                  <a:lnTo>
                    <a:pt x="46" y="90"/>
                  </a:lnTo>
                  <a:lnTo>
                    <a:pt x="45" y="87"/>
                  </a:lnTo>
                  <a:lnTo>
                    <a:pt x="42" y="86"/>
                  </a:lnTo>
                  <a:lnTo>
                    <a:pt x="49" y="78"/>
                  </a:lnTo>
                  <a:lnTo>
                    <a:pt x="49" y="77"/>
                  </a:lnTo>
                  <a:lnTo>
                    <a:pt x="48" y="74"/>
                  </a:lnTo>
                  <a:lnTo>
                    <a:pt x="49" y="70"/>
                  </a:lnTo>
                  <a:lnTo>
                    <a:pt x="52" y="65"/>
                  </a:lnTo>
                  <a:lnTo>
                    <a:pt x="49" y="64"/>
                  </a:lnTo>
                  <a:lnTo>
                    <a:pt x="49" y="60"/>
                  </a:lnTo>
                  <a:lnTo>
                    <a:pt x="52" y="57"/>
                  </a:lnTo>
                  <a:lnTo>
                    <a:pt x="52" y="55"/>
                  </a:lnTo>
                  <a:lnTo>
                    <a:pt x="52" y="50"/>
                  </a:lnTo>
                  <a:lnTo>
                    <a:pt x="52" y="48"/>
                  </a:lnTo>
                  <a:lnTo>
                    <a:pt x="53" y="46"/>
                  </a:lnTo>
                  <a:lnTo>
                    <a:pt x="52" y="42"/>
                  </a:lnTo>
                  <a:lnTo>
                    <a:pt x="52" y="41"/>
                  </a:lnTo>
                  <a:lnTo>
                    <a:pt x="55" y="37"/>
                  </a:lnTo>
                  <a:lnTo>
                    <a:pt x="53" y="31"/>
                  </a:lnTo>
                  <a:lnTo>
                    <a:pt x="57" y="26"/>
                  </a:lnTo>
                  <a:lnTo>
                    <a:pt x="62" y="21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5" y="13"/>
                  </a:lnTo>
                  <a:lnTo>
                    <a:pt x="66" y="12"/>
                  </a:lnTo>
                  <a:lnTo>
                    <a:pt x="67" y="12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9" y="5"/>
                  </a:lnTo>
                  <a:lnTo>
                    <a:pt x="61" y="7"/>
                  </a:lnTo>
                  <a:lnTo>
                    <a:pt x="61" y="9"/>
                  </a:lnTo>
                  <a:lnTo>
                    <a:pt x="61" y="11"/>
                  </a:lnTo>
                  <a:lnTo>
                    <a:pt x="59" y="11"/>
                  </a:lnTo>
                  <a:lnTo>
                    <a:pt x="58" y="11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8" y="7"/>
                  </a:lnTo>
                  <a:lnTo>
                    <a:pt x="59" y="5"/>
                  </a:lnTo>
                  <a:lnTo>
                    <a:pt x="61" y="4"/>
                  </a:lnTo>
                  <a:lnTo>
                    <a:pt x="49" y="0"/>
                  </a:lnTo>
                  <a:lnTo>
                    <a:pt x="49" y="7"/>
                  </a:lnTo>
                  <a:lnTo>
                    <a:pt x="44" y="7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39" y="5"/>
                  </a:lnTo>
                  <a:lnTo>
                    <a:pt x="37" y="8"/>
                  </a:lnTo>
                  <a:lnTo>
                    <a:pt x="39" y="12"/>
                  </a:lnTo>
                  <a:lnTo>
                    <a:pt x="40" y="16"/>
                  </a:lnTo>
                  <a:lnTo>
                    <a:pt x="41" y="18"/>
                  </a:lnTo>
                  <a:lnTo>
                    <a:pt x="42" y="20"/>
                  </a:lnTo>
                  <a:lnTo>
                    <a:pt x="39" y="22"/>
                  </a:lnTo>
                  <a:lnTo>
                    <a:pt x="39" y="31"/>
                  </a:lnTo>
                  <a:lnTo>
                    <a:pt x="36" y="31"/>
                  </a:lnTo>
                  <a:lnTo>
                    <a:pt x="36" y="34"/>
                  </a:lnTo>
                  <a:lnTo>
                    <a:pt x="36" y="37"/>
                  </a:lnTo>
                  <a:lnTo>
                    <a:pt x="35" y="41"/>
                  </a:lnTo>
                  <a:lnTo>
                    <a:pt x="33" y="43"/>
                  </a:lnTo>
                  <a:lnTo>
                    <a:pt x="28" y="46"/>
                  </a:lnTo>
                  <a:lnTo>
                    <a:pt x="29" y="52"/>
                  </a:lnTo>
                  <a:lnTo>
                    <a:pt x="23" y="57"/>
                  </a:lnTo>
                  <a:lnTo>
                    <a:pt x="24" y="65"/>
                  </a:lnTo>
                  <a:lnTo>
                    <a:pt x="20" y="73"/>
                  </a:lnTo>
                  <a:lnTo>
                    <a:pt x="22" y="77"/>
                  </a:lnTo>
                  <a:lnTo>
                    <a:pt x="18" y="86"/>
                  </a:lnTo>
                  <a:lnTo>
                    <a:pt x="19" y="92"/>
                  </a:lnTo>
                  <a:lnTo>
                    <a:pt x="13" y="102"/>
                  </a:lnTo>
                  <a:lnTo>
                    <a:pt x="15" y="105"/>
                  </a:lnTo>
                  <a:lnTo>
                    <a:pt x="13" y="107"/>
                  </a:lnTo>
                  <a:lnTo>
                    <a:pt x="11" y="109"/>
                  </a:lnTo>
                  <a:lnTo>
                    <a:pt x="13" y="117"/>
                  </a:lnTo>
                  <a:lnTo>
                    <a:pt x="13" y="120"/>
                  </a:lnTo>
                  <a:lnTo>
                    <a:pt x="7" y="125"/>
                  </a:lnTo>
                  <a:lnTo>
                    <a:pt x="9" y="130"/>
                  </a:lnTo>
                  <a:lnTo>
                    <a:pt x="7" y="133"/>
                  </a:lnTo>
                  <a:lnTo>
                    <a:pt x="6" y="134"/>
                  </a:lnTo>
                  <a:lnTo>
                    <a:pt x="5" y="138"/>
                  </a:lnTo>
                  <a:lnTo>
                    <a:pt x="7" y="138"/>
                  </a:lnTo>
                  <a:lnTo>
                    <a:pt x="5" y="143"/>
                  </a:lnTo>
                  <a:lnTo>
                    <a:pt x="5" y="147"/>
                  </a:lnTo>
                  <a:lnTo>
                    <a:pt x="5" y="153"/>
                  </a:lnTo>
                  <a:lnTo>
                    <a:pt x="2" y="153"/>
                  </a:lnTo>
                  <a:lnTo>
                    <a:pt x="4" y="161"/>
                  </a:lnTo>
                  <a:lnTo>
                    <a:pt x="0" y="164"/>
                  </a:lnTo>
                  <a:lnTo>
                    <a:pt x="33" y="169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40640" y="2073600"/>
              <a:ext cx="127080" cy="207720"/>
            </a:xfrm>
            <a:custGeom>
              <a:avLst/>
              <a:gdLst/>
              <a:ahLst/>
              <a:rect l="l" t="t" r="r" b="b"/>
              <a:pathLst>
                <a:path w="80" h="131">
                  <a:moveTo>
                    <a:pt x="17" y="130"/>
                  </a:moveTo>
                  <a:lnTo>
                    <a:pt x="21" y="131"/>
                  </a:lnTo>
                  <a:lnTo>
                    <a:pt x="23" y="130"/>
                  </a:lnTo>
                  <a:lnTo>
                    <a:pt x="23" y="128"/>
                  </a:lnTo>
                  <a:lnTo>
                    <a:pt x="24" y="125"/>
                  </a:lnTo>
                  <a:lnTo>
                    <a:pt x="24" y="124"/>
                  </a:lnTo>
                  <a:lnTo>
                    <a:pt x="23" y="121"/>
                  </a:lnTo>
                  <a:lnTo>
                    <a:pt x="23" y="117"/>
                  </a:lnTo>
                  <a:lnTo>
                    <a:pt x="24" y="115"/>
                  </a:lnTo>
                  <a:lnTo>
                    <a:pt x="26" y="113"/>
                  </a:lnTo>
                  <a:lnTo>
                    <a:pt x="27" y="112"/>
                  </a:lnTo>
                  <a:lnTo>
                    <a:pt x="28" y="111"/>
                  </a:lnTo>
                  <a:lnTo>
                    <a:pt x="31" y="111"/>
                  </a:lnTo>
                  <a:lnTo>
                    <a:pt x="32" y="103"/>
                  </a:lnTo>
                  <a:lnTo>
                    <a:pt x="27" y="103"/>
                  </a:lnTo>
                  <a:lnTo>
                    <a:pt x="28" y="102"/>
                  </a:lnTo>
                  <a:lnTo>
                    <a:pt x="30" y="99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1" y="93"/>
                  </a:lnTo>
                  <a:lnTo>
                    <a:pt x="32" y="93"/>
                  </a:lnTo>
                  <a:lnTo>
                    <a:pt x="35" y="91"/>
                  </a:lnTo>
                  <a:lnTo>
                    <a:pt x="36" y="91"/>
                  </a:lnTo>
                  <a:lnTo>
                    <a:pt x="35" y="85"/>
                  </a:lnTo>
                  <a:lnTo>
                    <a:pt x="40" y="81"/>
                  </a:lnTo>
                  <a:lnTo>
                    <a:pt x="40" y="73"/>
                  </a:lnTo>
                  <a:lnTo>
                    <a:pt x="43" y="69"/>
                  </a:lnTo>
                  <a:lnTo>
                    <a:pt x="40" y="68"/>
                  </a:lnTo>
                  <a:lnTo>
                    <a:pt x="41" y="65"/>
                  </a:lnTo>
                  <a:lnTo>
                    <a:pt x="43" y="63"/>
                  </a:lnTo>
                  <a:lnTo>
                    <a:pt x="43" y="61"/>
                  </a:lnTo>
                  <a:lnTo>
                    <a:pt x="41" y="60"/>
                  </a:lnTo>
                  <a:lnTo>
                    <a:pt x="44" y="57"/>
                  </a:lnTo>
                  <a:lnTo>
                    <a:pt x="45" y="57"/>
                  </a:lnTo>
                  <a:lnTo>
                    <a:pt x="48" y="57"/>
                  </a:lnTo>
                  <a:lnTo>
                    <a:pt x="48" y="56"/>
                  </a:lnTo>
                  <a:lnTo>
                    <a:pt x="48" y="54"/>
                  </a:lnTo>
                  <a:lnTo>
                    <a:pt x="50" y="51"/>
                  </a:lnTo>
                  <a:lnTo>
                    <a:pt x="53" y="50"/>
                  </a:lnTo>
                  <a:lnTo>
                    <a:pt x="53" y="45"/>
                  </a:lnTo>
                  <a:lnTo>
                    <a:pt x="61" y="38"/>
                  </a:lnTo>
                  <a:lnTo>
                    <a:pt x="61" y="32"/>
                  </a:lnTo>
                  <a:lnTo>
                    <a:pt x="66" y="28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9" y="19"/>
                  </a:lnTo>
                  <a:lnTo>
                    <a:pt x="69" y="15"/>
                  </a:lnTo>
                  <a:lnTo>
                    <a:pt x="70" y="15"/>
                  </a:lnTo>
                  <a:lnTo>
                    <a:pt x="71" y="13"/>
                  </a:lnTo>
                  <a:lnTo>
                    <a:pt x="74" y="13"/>
                  </a:lnTo>
                  <a:lnTo>
                    <a:pt x="74" y="11"/>
                  </a:lnTo>
                  <a:lnTo>
                    <a:pt x="75" y="8"/>
                  </a:lnTo>
                  <a:lnTo>
                    <a:pt x="76" y="6"/>
                  </a:lnTo>
                  <a:lnTo>
                    <a:pt x="79" y="4"/>
                  </a:lnTo>
                  <a:lnTo>
                    <a:pt x="80" y="0"/>
                  </a:lnTo>
                  <a:lnTo>
                    <a:pt x="78" y="2"/>
                  </a:lnTo>
                  <a:lnTo>
                    <a:pt x="75" y="3"/>
                  </a:lnTo>
                  <a:lnTo>
                    <a:pt x="74" y="6"/>
                  </a:lnTo>
                  <a:lnTo>
                    <a:pt x="74" y="7"/>
                  </a:lnTo>
                  <a:lnTo>
                    <a:pt x="69" y="7"/>
                  </a:lnTo>
                  <a:lnTo>
                    <a:pt x="66" y="13"/>
                  </a:lnTo>
                  <a:lnTo>
                    <a:pt x="63" y="13"/>
                  </a:lnTo>
                  <a:lnTo>
                    <a:pt x="62" y="17"/>
                  </a:lnTo>
                  <a:lnTo>
                    <a:pt x="63" y="19"/>
                  </a:lnTo>
                  <a:lnTo>
                    <a:pt x="58" y="24"/>
                  </a:lnTo>
                  <a:lnTo>
                    <a:pt x="58" y="25"/>
                  </a:lnTo>
                  <a:lnTo>
                    <a:pt x="60" y="26"/>
                  </a:lnTo>
                  <a:lnTo>
                    <a:pt x="58" y="26"/>
                  </a:lnTo>
                  <a:lnTo>
                    <a:pt x="52" y="29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7" y="37"/>
                  </a:lnTo>
                  <a:lnTo>
                    <a:pt x="45" y="38"/>
                  </a:lnTo>
                  <a:lnTo>
                    <a:pt x="45" y="42"/>
                  </a:lnTo>
                  <a:lnTo>
                    <a:pt x="41" y="45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52"/>
                  </a:lnTo>
                  <a:lnTo>
                    <a:pt x="35" y="55"/>
                  </a:lnTo>
                  <a:lnTo>
                    <a:pt x="35" y="57"/>
                  </a:lnTo>
                  <a:lnTo>
                    <a:pt x="28" y="63"/>
                  </a:lnTo>
                  <a:lnTo>
                    <a:pt x="28" y="70"/>
                  </a:lnTo>
                  <a:lnTo>
                    <a:pt x="26" y="72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19" y="83"/>
                  </a:lnTo>
                  <a:lnTo>
                    <a:pt x="19" y="85"/>
                  </a:lnTo>
                  <a:lnTo>
                    <a:pt x="15" y="89"/>
                  </a:lnTo>
                  <a:lnTo>
                    <a:pt x="13" y="95"/>
                  </a:lnTo>
                  <a:lnTo>
                    <a:pt x="9" y="98"/>
                  </a:lnTo>
                  <a:lnTo>
                    <a:pt x="9" y="102"/>
                  </a:lnTo>
                  <a:lnTo>
                    <a:pt x="10" y="99"/>
                  </a:lnTo>
                  <a:lnTo>
                    <a:pt x="13" y="102"/>
                  </a:lnTo>
                  <a:lnTo>
                    <a:pt x="11" y="104"/>
                  </a:lnTo>
                  <a:lnTo>
                    <a:pt x="10" y="108"/>
                  </a:lnTo>
                  <a:lnTo>
                    <a:pt x="8" y="104"/>
                  </a:lnTo>
                  <a:lnTo>
                    <a:pt x="5" y="106"/>
                  </a:lnTo>
                  <a:lnTo>
                    <a:pt x="5" y="112"/>
                  </a:lnTo>
                  <a:lnTo>
                    <a:pt x="4" y="113"/>
                  </a:lnTo>
                  <a:lnTo>
                    <a:pt x="2" y="115"/>
                  </a:lnTo>
                  <a:lnTo>
                    <a:pt x="1" y="115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5" y="126"/>
                  </a:lnTo>
                  <a:lnTo>
                    <a:pt x="17" y="13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72400" y="20574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1"/>
                  </a:moveTo>
                  <a:lnTo>
                    <a:pt x="0" y="6"/>
                  </a:lnTo>
                  <a:lnTo>
                    <a:pt x="6" y="4"/>
                  </a:lnTo>
                  <a:lnTo>
                    <a:pt x="4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3399"/>
            </a:solidFill>
            <a:ln w="0">
              <a:solidFill>
                <a:srgbClr val="b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8305920" y="2438280"/>
            <a:ext cx="395280" cy="576360"/>
            <a:chOff x="8305920" y="2438280"/>
            <a:chExt cx="395280" cy="576360"/>
          </a:xfrm>
        </p:grpSpPr>
        <p:sp>
          <p:nvSpPr>
            <p:cNvPr id="112" name=""/>
            <p:cNvSpPr/>
            <p:nvPr/>
          </p:nvSpPr>
          <p:spPr>
            <a:xfrm flipV="1">
              <a:off x="8454960" y="2885760"/>
              <a:ext cx="32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05920" y="29242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3399"/>
            </a:solidFill>
            <a:ln w="0">
              <a:solidFill>
                <a:srgbClr val="b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26440" y="2847960"/>
              <a:ext cx="104760" cy="11124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66" y="18"/>
                  </a:moveTo>
                  <a:lnTo>
                    <a:pt x="66" y="11"/>
                  </a:lnTo>
                  <a:lnTo>
                    <a:pt x="61" y="13"/>
                  </a:lnTo>
                  <a:lnTo>
                    <a:pt x="60" y="8"/>
                  </a:lnTo>
                  <a:lnTo>
                    <a:pt x="53" y="8"/>
                  </a:lnTo>
                  <a:lnTo>
                    <a:pt x="51" y="3"/>
                  </a:lnTo>
                  <a:lnTo>
                    <a:pt x="45" y="5"/>
                  </a:lnTo>
                  <a:lnTo>
                    <a:pt x="43" y="0"/>
                  </a:lnTo>
                  <a:lnTo>
                    <a:pt x="35" y="5"/>
                  </a:lnTo>
                  <a:lnTo>
                    <a:pt x="31" y="0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5" y="8"/>
                  </a:lnTo>
                  <a:lnTo>
                    <a:pt x="26" y="11"/>
                  </a:lnTo>
                  <a:lnTo>
                    <a:pt x="22" y="13"/>
                  </a:lnTo>
                  <a:lnTo>
                    <a:pt x="21" y="17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10" y="25"/>
                  </a:lnTo>
                  <a:lnTo>
                    <a:pt x="10" y="31"/>
                  </a:lnTo>
                  <a:lnTo>
                    <a:pt x="5" y="33"/>
                  </a:lnTo>
                  <a:lnTo>
                    <a:pt x="8" y="37"/>
                  </a:lnTo>
                  <a:lnTo>
                    <a:pt x="4" y="42"/>
                  </a:lnTo>
                  <a:lnTo>
                    <a:pt x="3" y="46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5" y="47"/>
                  </a:lnTo>
                  <a:lnTo>
                    <a:pt x="8" y="47"/>
                  </a:lnTo>
                  <a:lnTo>
                    <a:pt x="8" y="44"/>
                  </a:lnTo>
                  <a:lnTo>
                    <a:pt x="8" y="46"/>
                  </a:lnTo>
                  <a:lnTo>
                    <a:pt x="13" y="42"/>
                  </a:lnTo>
                  <a:lnTo>
                    <a:pt x="14" y="42"/>
                  </a:lnTo>
                  <a:lnTo>
                    <a:pt x="14" y="46"/>
                  </a:lnTo>
                  <a:lnTo>
                    <a:pt x="16" y="47"/>
                  </a:lnTo>
                  <a:lnTo>
                    <a:pt x="18" y="47"/>
                  </a:lnTo>
                  <a:lnTo>
                    <a:pt x="22" y="48"/>
                  </a:lnTo>
                  <a:lnTo>
                    <a:pt x="23" y="51"/>
                  </a:lnTo>
                  <a:lnTo>
                    <a:pt x="22" y="53"/>
                  </a:lnTo>
                  <a:lnTo>
                    <a:pt x="25" y="52"/>
                  </a:lnTo>
                  <a:lnTo>
                    <a:pt x="26" y="55"/>
                  </a:lnTo>
                  <a:lnTo>
                    <a:pt x="26" y="57"/>
                  </a:lnTo>
                  <a:lnTo>
                    <a:pt x="29" y="55"/>
                  </a:lnTo>
                  <a:lnTo>
                    <a:pt x="31" y="57"/>
                  </a:lnTo>
                  <a:lnTo>
                    <a:pt x="34" y="59"/>
                  </a:lnTo>
                  <a:lnTo>
                    <a:pt x="36" y="59"/>
                  </a:lnTo>
                  <a:lnTo>
                    <a:pt x="38" y="63"/>
                  </a:lnTo>
                  <a:lnTo>
                    <a:pt x="43" y="59"/>
                  </a:lnTo>
                  <a:lnTo>
                    <a:pt x="44" y="64"/>
                  </a:lnTo>
                  <a:lnTo>
                    <a:pt x="47" y="64"/>
                  </a:lnTo>
                  <a:lnTo>
                    <a:pt x="53" y="70"/>
                  </a:lnTo>
                  <a:lnTo>
                    <a:pt x="64" y="70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425080" y="2874960"/>
              <a:ext cx="117360" cy="13968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4" y="1"/>
                  </a:moveTo>
                  <a:lnTo>
                    <a:pt x="2" y="53"/>
                  </a:lnTo>
                  <a:lnTo>
                    <a:pt x="2" y="57"/>
                  </a:lnTo>
                  <a:lnTo>
                    <a:pt x="0" y="57"/>
                  </a:lnTo>
                  <a:lnTo>
                    <a:pt x="2" y="60"/>
                  </a:lnTo>
                  <a:lnTo>
                    <a:pt x="4" y="60"/>
                  </a:lnTo>
                  <a:lnTo>
                    <a:pt x="7" y="60"/>
                  </a:lnTo>
                  <a:lnTo>
                    <a:pt x="9" y="59"/>
                  </a:lnTo>
                  <a:lnTo>
                    <a:pt x="9" y="60"/>
                  </a:lnTo>
                  <a:lnTo>
                    <a:pt x="12" y="59"/>
                  </a:lnTo>
                  <a:lnTo>
                    <a:pt x="16" y="65"/>
                  </a:lnTo>
                  <a:lnTo>
                    <a:pt x="21" y="65"/>
                  </a:lnTo>
                  <a:lnTo>
                    <a:pt x="25" y="70"/>
                  </a:lnTo>
                  <a:lnTo>
                    <a:pt x="32" y="72"/>
                  </a:lnTo>
                  <a:lnTo>
                    <a:pt x="34" y="74"/>
                  </a:lnTo>
                  <a:lnTo>
                    <a:pt x="37" y="75"/>
                  </a:lnTo>
                  <a:lnTo>
                    <a:pt x="39" y="75"/>
                  </a:lnTo>
                  <a:lnTo>
                    <a:pt x="42" y="75"/>
                  </a:lnTo>
                  <a:lnTo>
                    <a:pt x="45" y="79"/>
                  </a:lnTo>
                  <a:lnTo>
                    <a:pt x="51" y="79"/>
                  </a:lnTo>
                  <a:lnTo>
                    <a:pt x="54" y="81"/>
                  </a:lnTo>
                  <a:lnTo>
                    <a:pt x="57" y="81"/>
                  </a:lnTo>
                  <a:lnTo>
                    <a:pt x="64" y="86"/>
                  </a:lnTo>
                  <a:lnTo>
                    <a:pt x="64" y="88"/>
                  </a:lnTo>
                  <a:lnTo>
                    <a:pt x="68" y="88"/>
                  </a:lnTo>
                  <a:lnTo>
                    <a:pt x="68" y="86"/>
                  </a:lnTo>
                  <a:lnTo>
                    <a:pt x="67" y="83"/>
                  </a:lnTo>
                  <a:lnTo>
                    <a:pt x="65" y="81"/>
                  </a:lnTo>
                  <a:lnTo>
                    <a:pt x="67" y="78"/>
                  </a:lnTo>
                  <a:lnTo>
                    <a:pt x="67" y="77"/>
                  </a:lnTo>
                  <a:lnTo>
                    <a:pt x="67" y="74"/>
                  </a:lnTo>
                  <a:lnTo>
                    <a:pt x="65" y="73"/>
                  </a:lnTo>
                  <a:lnTo>
                    <a:pt x="72" y="66"/>
                  </a:lnTo>
                  <a:lnTo>
                    <a:pt x="72" y="65"/>
                  </a:lnTo>
                  <a:lnTo>
                    <a:pt x="70" y="62"/>
                  </a:lnTo>
                  <a:lnTo>
                    <a:pt x="72" y="59"/>
                  </a:lnTo>
                  <a:lnTo>
                    <a:pt x="69" y="57"/>
                  </a:lnTo>
                  <a:lnTo>
                    <a:pt x="69" y="56"/>
                  </a:lnTo>
                  <a:lnTo>
                    <a:pt x="70" y="53"/>
                  </a:lnTo>
                  <a:lnTo>
                    <a:pt x="69" y="51"/>
                  </a:lnTo>
                  <a:lnTo>
                    <a:pt x="69" y="49"/>
                  </a:lnTo>
                  <a:lnTo>
                    <a:pt x="74" y="47"/>
                  </a:lnTo>
                  <a:lnTo>
                    <a:pt x="74" y="36"/>
                  </a:lnTo>
                  <a:lnTo>
                    <a:pt x="72" y="33"/>
                  </a:lnTo>
                  <a:lnTo>
                    <a:pt x="74" y="29"/>
                  </a:lnTo>
                  <a:lnTo>
                    <a:pt x="41" y="25"/>
                  </a:lnTo>
                  <a:lnTo>
                    <a:pt x="39" y="18"/>
                  </a:lnTo>
                  <a:lnTo>
                    <a:pt x="30" y="18"/>
                  </a:lnTo>
                  <a:lnTo>
                    <a:pt x="29" y="12"/>
                  </a:lnTo>
                  <a:lnTo>
                    <a:pt x="25" y="12"/>
                  </a:lnTo>
                  <a:lnTo>
                    <a:pt x="22" y="8"/>
                  </a:lnTo>
                  <a:lnTo>
                    <a:pt x="19" y="8"/>
                  </a:lnTo>
                  <a:lnTo>
                    <a:pt x="15" y="9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9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489880" y="2654280"/>
              <a:ext cx="106560" cy="268200"/>
            </a:xfrm>
            <a:custGeom>
              <a:avLst/>
              <a:gdLst/>
              <a:ahLst/>
              <a:rect l="l" t="t" r="r" b="b"/>
              <a:pathLst>
                <a:path w="67" h="169">
                  <a:moveTo>
                    <a:pt x="33" y="169"/>
                  </a:moveTo>
                  <a:lnTo>
                    <a:pt x="31" y="166"/>
                  </a:lnTo>
                  <a:lnTo>
                    <a:pt x="35" y="163"/>
                  </a:lnTo>
                  <a:lnTo>
                    <a:pt x="33" y="160"/>
                  </a:lnTo>
                  <a:lnTo>
                    <a:pt x="37" y="156"/>
                  </a:lnTo>
                  <a:lnTo>
                    <a:pt x="33" y="148"/>
                  </a:lnTo>
                  <a:lnTo>
                    <a:pt x="36" y="143"/>
                  </a:lnTo>
                  <a:lnTo>
                    <a:pt x="36" y="139"/>
                  </a:lnTo>
                  <a:lnTo>
                    <a:pt x="40" y="130"/>
                  </a:lnTo>
                  <a:lnTo>
                    <a:pt x="36" y="125"/>
                  </a:lnTo>
                  <a:lnTo>
                    <a:pt x="39" y="122"/>
                  </a:lnTo>
                  <a:lnTo>
                    <a:pt x="39" y="117"/>
                  </a:lnTo>
                  <a:lnTo>
                    <a:pt x="40" y="114"/>
                  </a:lnTo>
                  <a:lnTo>
                    <a:pt x="41" y="112"/>
                  </a:lnTo>
                  <a:lnTo>
                    <a:pt x="41" y="104"/>
                  </a:lnTo>
                  <a:lnTo>
                    <a:pt x="45" y="102"/>
                  </a:lnTo>
                  <a:lnTo>
                    <a:pt x="44" y="96"/>
                  </a:lnTo>
                  <a:lnTo>
                    <a:pt x="44" y="95"/>
                  </a:lnTo>
                  <a:lnTo>
                    <a:pt x="46" y="94"/>
                  </a:lnTo>
                  <a:lnTo>
                    <a:pt x="48" y="94"/>
                  </a:lnTo>
                  <a:lnTo>
                    <a:pt x="46" y="90"/>
                  </a:lnTo>
                  <a:lnTo>
                    <a:pt x="45" y="87"/>
                  </a:lnTo>
                  <a:lnTo>
                    <a:pt x="42" y="86"/>
                  </a:lnTo>
                  <a:lnTo>
                    <a:pt x="49" y="78"/>
                  </a:lnTo>
                  <a:lnTo>
                    <a:pt x="49" y="77"/>
                  </a:lnTo>
                  <a:lnTo>
                    <a:pt x="48" y="74"/>
                  </a:lnTo>
                  <a:lnTo>
                    <a:pt x="49" y="70"/>
                  </a:lnTo>
                  <a:lnTo>
                    <a:pt x="52" y="65"/>
                  </a:lnTo>
                  <a:lnTo>
                    <a:pt x="49" y="64"/>
                  </a:lnTo>
                  <a:lnTo>
                    <a:pt x="49" y="60"/>
                  </a:lnTo>
                  <a:lnTo>
                    <a:pt x="52" y="57"/>
                  </a:lnTo>
                  <a:lnTo>
                    <a:pt x="52" y="55"/>
                  </a:lnTo>
                  <a:lnTo>
                    <a:pt x="52" y="50"/>
                  </a:lnTo>
                  <a:lnTo>
                    <a:pt x="52" y="48"/>
                  </a:lnTo>
                  <a:lnTo>
                    <a:pt x="53" y="46"/>
                  </a:lnTo>
                  <a:lnTo>
                    <a:pt x="52" y="42"/>
                  </a:lnTo>
                  <a:lnTo>
                    <a:pt x="52" y="41"/>
                  </a:lnTo>
                  <a:lnTo>
                    <a:pt x="55" y="37"/>
                  </a:lnTo>
                  <a:lnTo>
                    <a:pt x="53" y="31"/>
                  </a:lnTo>
                  <a:lnTo>
                    <a:pt x="57" y="26"/>
                  </a:lnTo>
                  <a:lnTo>
                    <a:pt x="62" y="21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5" y="13"/>
                  </a:lnTo>
                  <a:lnTo>
                    <a:pt x="66" y="12"/>
                  </a:lnTo>
                  <a:lnTo>
                    <a:pt x="67" y="12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9" y="5"/>
                  </a:lnTo>
                  <a:lnTo>
                    <a:pt x="61" y="7"/>
                  </a:lnTo>
                  <a:lnTo>
                    <a:pt x="61" y="9"/>
                  </a:lnTo>
                  <a:lnTo>
                    <a:pt x="61" y="11"/>
                  </a:lnTo>
                  <a:lnTo>
                    <a:pt x="59" y="11"/>
                  </a:lnTo>
                  <a:lnTo>
                    <a:pt x="58" y="11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8" y="7"/>
                  </a:lnTo>
                  <a:lnTo>
                    <a:pt x="59" y="5"/>
                  </a:lnTo>
                  <a:lnTo>
                    <a:pt x="61" y="4"/>
                  </a:lnTo>
                  <a:lnTo>
                    <a:pt x="49" y="0"/>
                  </a:lnTo>
                  <a:lnTo>
                    <a:pt x="49" y="7"/>
                  </a:lnTo>
                  <a:lnTo>
                    <a:pt x="44" y="7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39" y="5"/>
                  </a:lnTo>
                  <a:lnTo>
                    <a:pt x="37" y="8"/>
                  </a:lnTo>
                  <a:lnTo>
                    <a:pt x="39" y="12"/>
                  </a:lnTo>
                  <a:lnTo>
                    <a:pt x="40" y="16"/>
                  </a:lnTo>
                  <a:lnTo>
                    <a:pt x="41" y="18"/>
                  </a:lnTo>
                  <a:lnTo>
                    <a:pt x="42" y="20"/>
                  </a:lnTo>
                  <a:lnTo>
                    <a:pt x="39" y="22"/>
                  </a:lnTo>
                  <a:lnTo>
                    <a:pt x="39" y="31"/>
                  </a:lnTo>
                  <a:lnTo>
                    <a:pt x="36" y="31"/>
                  </a:lnTo>
                  <a:lnTo>
                    <a:pt x="36" y="34"/>
                  </a:lnTo>
                  <a:lnTo>
                    <a:pt x="36" y="37"/>
                  </a:lnTo>
                  <a:lnTo>
                    <a:pt x="35" y="41"/>
                  </a:lnTo>
                  <a:lnTo>
                    <a:pt x="33" y="43"/>
                  </a:lnTo>
                  <a:lnTo>
                    <a:pt x="28" y="46"/>
                  </a:lnTo>
                  <a:lnTo>
                    <a:pt x="29" y="52"/>
                  </a:lnTo>
                  <a:lnTo>
                    <a:pt x="23" y="57"/>
                  </a:lnTo>
                  <a:lnTo>
                    <a:pt x="24" y="65"/>
                  </a:lnTo>
                  <a:lnTo>
                    <a:pt x="20" y="73"/>
                  </a:lnTo>
                  <a:lnTo>
                    <a:pt x="22" y="77"/>
                  </a:lnTo>
                  <a:lnTo>
                    <a:pt x="18" y="86"/>
                  </a:lnTo>
                  <a:lnTo>
                    <a:pt x="19" y="92"/>
                  </a:lnTo>
                  <a:lnTo>
                    <a:pt x="13" y="102"/>
                  </a:lnTo>
                  <a:lnTo>
                    <a:pt x="15" y="105"/>
                  </a:lnTo>
                  <a:lnTo>
                    <a:pt x="13" y="107"/>
                  </a:lnTo>
                  <a:lnTo>
                    <a:pt x="11" y="109"/>
                  </a:lnTo>
                  <a:lnTo>
                    <a:pt x="13" y="117"/>
                  </a:lnTo>
                  <a:lnTo>
                    <a:pt x="13" y="120"/>
                  </a:lnTo>
                  <a:lnTo>
                    <a:pt x="7" y="125"/>
                  </a:lnTo>
                  <a:lnTo>
                    <a:pt x="9" y="130"/>
                  </a:lnTo>
                  <a:lnTo>
                    <a:pt x="7" y="133"/>
                  </a:lnTo>
                  <a:lnTo>
                    <a:pt x="6" y="134"/>
                  </a:lnTo>
                  <a:lnTo>
                    <a:pt x="5" y="138"/>
                  </a:lnTo>
                  <a:lnTo>
                    <a:pt x="7" y="138"/>
                  </a:lnTo>
                  <a:lnTo>
                    <a:pt x="5" y="143"/>
                  </a:lnTo>
                  <a:lnTo>
                    <a:pt x="5" y="147"/>
                  </a:lnTo>
                  <a:lnTo>
                    <a:pt x="5" y="153"/>
                  </a:lnTo>
                  <a:lnTo>
                    <a:pt x="2" y="153"/>
                  </a:lnTo>
                  <a:lnTo>
                    <a:pt x="4" y="161"/>
                  </a:lnTo>
                  <a:lnTo>
                    <a:pt x="0" y="164"/>
                  </a:lnTo>
                  <a:lnTo>
                    <a:pt x="33" y="169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59720" y="2454480"/>
              <a:ext cx="127080" cy="207720"/>
            </a:xfrm>
            <a:custGeom>
              <a:avLst/>
              <a:gdLst/>
              <a:ahLst/>
              <a:rect l="l" t="t" r="r" b="b"/>
              <a:pathLst>
                <a:path w="80" h="131">
                  <a:moveTo>
                    <a:pt x="17" y="130"/>
                  </a:moveTo>
                  <a:lnTo>
                    <a:pt x="21" y="131"/>
                  </a:lnTo>
                  <a:lnTo>
                    <a:pt x="23" y="130"/>
                  </a:lnTo>
                  <a:lnTo>
                    <a:pt x="23" y="128"/>
                  </a:lnTo>
                  <a:lnTo>
                    <a:pt x="24" y="125"/>
                  </a:lnTo>
                  <a:lnTo>
                    <a:pt x="24" y="124"/>
                  </a:lnTo>
                  <a:lnTo>
                    <a:pt x="23" y="121"/>
                  </a:lnTo>
                  <a:lnTo>
                    <a:pt x="23" y="117"/>
                  </a:lnTo>
                  <a:lnTo>
                    <a:pt x="24" y="115"/>
                  </a:lnTo>
                  <a:lnTo>
                    <a:pt x="26" y="113"/>
                  </a:lnTo>
                  <a:lnTo>
                    <a:pt x="27" y="112"/>
                  </a:lnTo>
                  <a:lnTo>
                    <a:pt x="28" y="111"/>
                  </a:lnTo>
                  <a:lnTo>
                    <a:pt x="31" y="111"/>
                  </a:lnTo>
                  <a:lnTo>
                    <a:pt x="32" y="103"/>
                  </a:lnTo>
                  <a:lnTo>
                    <a:pt x="27" y="103"/>
                  </a:lnTo>
                  <a:lnTo>
                    <a:pt x="28" y="102"/>
                  </a:lnTo>
                  <a:lnTo>
                    <a:pt x="30" y="99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1" y="93"/>
                  </a:lnTo>
                  <a:lnTo>
                    <a:pt x="32" y="93"/>
                  </a:lnTo>
                  <a:lnTo>
                    <a:pt x="35" y="91"/>
                  </a:lnTo>
                  <a:lnTo>
                    <a:pt x="36" y="91"/>
                  </a:lnTo>
                  <a:lnTo>
                    <a:pt x="35" y="85"/>
                  </a:lnTo>
                  <a:lnTo>
                    <a:pt x="40" y="81"/>
                  </a:lnTo>
                  <a:lnTo>
                    <a:pt x="40" y="73"/>
                  </a:lnTo>
                  <a:lnTo>
                    <a:pt x="43" y="69"/>
                  </a:lnTo>
                  <a:lnTo>
                    <a:pt x="40" y="68"/>
                  </a:lnTo>
                  <a:lnTo>
                    <a:pt x="41" y="65"/>
                  </a:lnTo>
                  <a:lnTo>
                    <a:pt x="43" y="63"/>
                  </a:lnTo>
                  <a:lnTo>
                    <a:pt x="43" y="61"/>
                  </a:lnTo>
                  <a:lnTo>
                    <a:pt x="41" y="60"/>
                  </a:lnTo>
                  <a:lnTo>
                    <a:pt x="44" y="57"/>
                  </a:lnTo>
                  <a:lnTo>
                    <a:pt x="45" y="57"/>
                  </a:lnTo>
                  <a:lnTo>
                    <a:pt x="48" y="57"/>
                  </a:lnTo>
                  <a:lnTo>
                    <a:pt x="48" y="56"/>
                  </a:lnTo>
                  <a:lnTo>
                    <a:pt x="48" y="54"/>
                  </a:lnTo>
                  <a:lnTo>
                    <a:pt x="50" y="51"/>
                  </a:lnTo>
                  <a:lnTo>
                    <a:pt x="53" y="50"/>
                  </a:lnTo>
                  <a:lnTo>
                    <a:pt x="53" y="45"/>
                  </a:lnTo>
                  <a:lnTo>
                    <a:pt x="61" y="38"/>
                  </a:lnTo>
                  <a:lnTo>
                    <a:pt x="61" y="32"/>
                  </a:lnTo>
                  <a:lnTo>
                    <a:pt x="66" y="28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9" y="19"/>
                  </a:lnTo>
                  <a:lnTo>
                    <a:pt x="69" y="15"/>
                  </a:lnTo>
                  <a:lnTo>
                    <a:pt x="70" y="15"/>
                  </a:lnTo>
                  <a:lnTo>
                    <a:pt x="71" y="13"/>
                  </a:lnTo>
                  <a:lnTo>
                    <a:pt x="74" y="13"/>
                  </a:lnTo>
                  <a:lnTo>
                    <a:pt x="74" y="11"/>
                  </a:lnTo>
                  <a:lnTo>
                    <a:pt x="75" y="8"/>
                  </a:lnTo>
                  <a:lnTo>
                    <a:pt x="76" y="6"/>
                  </a:lnTo>
                  <a:lnTo>
                    <a:pt x="79" y="4"/>
                  </a:lnTo>
                  <a:lnTo>
                    <a:pt x="80" y="0"/>
                  </a:lnTo>
                  <a:lnTo>
                    <a:pt x="78" y="2"/>
                  </a:lnTo>
                  <a:lnTo>
                    <a:pt x="75" y="3"/>
                  </a:lnTo>
                  <a:lnTo>
                    <a:pt x="74" y="6"/>
                  </a:lnTo>
                  <a:lnTo>
                    <a:pt x="74" y="7"/>
                  </a:lnTo>
                  <a:lnTo>
                    <a:pt x="69" y="7"/>
                  </a:lnTo>
                  <a:lnTo>
                    <a:pt x="66" y="13"/>
                  </a:lnTo>
                  <a:lnTo>
                    <a:pt x="63" y="13"/>
                  </a:lnTo>
                  <a:lnTo>
                    <a:pt x="62" y="17"/>
                  </a:lnTo>
                  <a:lnTo>
                    <a:pt x="63" y="19"/>
                  </a:lnTo>
                  <a:lnTo>
                    <a:pt x="58" y="24"/>
                  </a:lnTo>
                  <a:lnTo>
                    <a:pt x="58" y="25"/>
                  </a:lnTo>
                  <a:lnTo>
                    <a:pt x="60" y="26"/>
                  </a:lnTo>
                  <a:lnTo>
                    <a:pt x="58" y="26"/>
                  </a:lnTo>
                  <a:lnTo>
                    <a:pt x="52" y="29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7" y="37"/>
                  </a:lnTo>
                  <a:lnTo>
                    <a:pt x="45" y="38"/>
                  </a:lnTo>
                  <a:lnTo>
                    <a:pt x="45" y="42"/>
                  </a:lnTo>
                  <a:lnTo>
                    <a:pt x="41" y="45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52"/>
                  </a:lnTo>
                  <a:lnTo>
                    <a:pt x="35" y="55"/>
                  </a:lnTo>
                  <a:lnTo>
                    <a:pt x="35" y="57"/>
                  </a:lnTo>
                  <a:lnTo>
                    <a:pt x="28" y="63"/>
                  </a:lnTo>
                  <a:lnTo>
                    <a:pt x="28" y="70"/>
                  </a:lnTo>
                  <a:lnTo>
                    <a:pt x="26" y="72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19" y="83"/>
                  </a:lnTo>
                  <a:lnTo>
                    <a:pt x="19" y="85"/>
                  </a:lnTo>
                  <a:lnTo>
                    <a:pt x="15" y="89"/>
                  </a:lnTo>
                  <a:lnTo>
                    <a:pt x="13" y="95"/>
                  </a:lnTo>
                  <a:lnTo>
                    <a:pt x="9" y="98"/>
                  </a:lnTo>
                  <a:lnTo>
                    <a:pt x="9" y="102"/>
                  </a:lnTo>
                  <a:lnTo>
                    <a:pt x="10" y="99"/>
                  </a:lnTo>
                  <a:lnTo>
                    <a:pt x="13" y="102"/>
                  </a:lnTo>
                  <a:lnTo>
                    <a:pt x="11" y="104"/>
                  </a:lnTo>
                  <a:lnTo>
                    <a:pt x="10" y="108"/>
                  </a:lnTo>
                  <a:lnTo>
                    <a:pt x="8" y="104"/>
                  </a:lnTo>
                  <a:lnTo>
                    <a:pt x="5" y="106"/>
                  </a:lnTo>
                  <a:lnTo>
                    <a:pt x="5" y="112"/>
                  </a:lnTo>
                  <a:lnTo>
                    <a:pt x="4" y="113"/>
                  </a:lnTo>
                  <a:lnTo>
                    <a:pt x="2" y="115"/>
                  </a:lnTo>
                  <a:lnTo>
                    <a:pt x="1" y="115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5" y="126"/>
                  </a:lnTo>
                  <a:lnTo>
                    <a:pt x="17" y="13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691480" y="243828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1"/>
                  </a:moveTo>
                  <a:lnTo>
                    <a:pt x="0" y="6"/>
                  </a:lnTo>
                  <a:lnTo>
                    <a:pt x="6" y="4"/>
                  </a:lnTo>
                  <a:lnTo>
                    <a:pt x="4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3399"/>
            </a:solidFill>
            <a:ln w="0">
              <a:solidFill>
                <a:srgbClr val="b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8305920" y="2805120"/>
            <a:ext cx="395280" cy="576360"/>
            <a:chOff x="8305920" y="2805120"/>
            <a:chExt cx="395280" cy="576360"/>
          </a:xfrm>
        </p:grpSpPr>
        <p:sp>
          <p:nvSpPr>
            <p:cNvPr id="120" name=""/>
            <p:cNvSpPr/>
            <p:nvPr/>
          </p:nvSpPr>
          <p:spPr>
            <a:xfrm flipV="1">
              <a:off x="8454960" y="3252600"/>
              <a:ext cx="32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05920" y="329112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3399"/>
            </a:solidFill>
            <a:ln w="0">
              <a:solidFill>
                <a:srgbClr val="b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26440" y="3214800"/>
              <a:ext cx="104760" cy="11124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66" y="18"/>
                  </a:moveTo>
                  <a:lnTo>
                    <a:pt x="66" y="11"/>
                  </a:lnTo>
                  <a:lnTo>
                    <a:pt x="61" y="13"/>
                  </a:lnTo>
                  <a:lnTo>
                    <a:pt x="60" y="8"/>
                  </a:lnTo>
                  <a:lnTo>
                    <a:pt x="53" y="8"/>
                  </a:lnTo>
                  <a:lnTo>
                    <a:pt x="51" y="3"/>
                  </a:lnTo>
                  <a:lnTo>
                    <a:pt x="45" y="5"/>
                  </a:lnTo>
                  <a:lnTo>
                    <a:pt x="43" y="0"/>
                  </a:lnTo>
                  <a:lnTo>
                    <a:pt x="35" y="5"/>
                  </a:lnTo>
                  <a:lnTo>
                    <a:pt x="31" y="0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5" y="8"/>
                  </a:lnTo>
                  <a:lnTo>
                    <a:pt x="26" y="11"/>
                  </a:lnTo>
                  <a:lnTo>
                    <a:pt x="22" y="13"/>
                  </a:lnTo>
                  <a:lnTo>
                    <a:pt x="21" y="17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10" y="25"/>
                  </a:lnTo>
                  <a:lnTo>
                    <a:pt x="10" y="31"/>
                  </a:lnTo>
                  <a:lnTo>
                    <a:pt x="5" y="33"/>
                  </a:lnTo>
                  <a:lnTo>
                    <a:pt x="8" y="37"/>
                  </a:lnTo>
                  <a:lnTo>
                    <a:pt x="4" y="42"/>
                  </a:lnTo>
                  <a:lnTo>
                    <a:pt x="3" y="46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5" y="47"/>
                  </a:lnTo>
                  <a:lnTo>
                    <a:pt x="8" y="47"/>
                  </a:lnTo>
                  <a:lnTo>
                    <a:pt x="8" y="44"/>
                  </a:lnTo>
                  <a:lnTo>
                    <a:pt x="8" y="46"/>
                  </a:lnTo>
                  <a:lnTo>
                    <a:pt x="13" y="42"/>
                  </a:lnTo>
                  <a:lnTo>
                    <a:pt x="14" y="42"/>
                  </a:lnTo>
                  <a:lnTo>
                    <a:pt x="14" y="46"/>
                  </a:lnTo>
                  <a:lnTo>
                    <a:pt x="16" y="47"/>
                  </a:lnTo>
                  <a:lnTo>
                    <a:pt x="18" y="47"/>
                  </a:lnTo>
                  <a:lnTo>
                    <a:pt x="22" y="48"/>
                  </a:lnTo>
                  <a:lnTo>
                    <a:pt x="23" y="51"/>
                  </a:lnTo>
                  <a:lnTo>
                    <a:pt x="22" y="53"/>
                  </a:lnTo>
                  <a:lnTo>
                    <a:pt x="25" y="52"/>
                  </a:lnTo>
                  <a:lnTo>
                    <a:pt x="26" y="55"/>
                  </a:lnTo>
                  <a:lnTo>
                    <a:pt x="26" y="57"/>
                  </a:lnTo>
                  <a:lnTo>
                    <a:pt x="29" y="55"/>
                  </a:lnTo>
                  <a:lnTo>
                    <a:pt x="31" y="57"/>
                  </a:lnTo>
                  <a:lnTo>
                    <a:pt x="34" y="59"/>
                  </a:lnTo>
                  <a:lnTo>
                    <a:pt x="36" y="59"/>
                  </a:lnTo>
                  <a:lnTo>
                    <a:pt x="38" y="63"/>
                  </a:lnTo>
                  <a:lnTo>
                    <a:pt x="43" y="59"/>
                  </a:lnTo>
                  <a:lnTo>
                    <a:pt x="44" y="64"/>
                  </a:lnTo>
                  <a:lnTo>
                    <a:pt x="47" y="64"/>
                  </a:lnTo>
                  <a:lnTo>
                    <a:pt x="53" y="70"/>
                  </a:lnTo>
                  <a:lnTo>
                    <a:pt x="64" y="70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425080" y="3241800"/>
              <a:ext cx="117360" cy="13968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4" y="1"/>
                  </a:moveTo>
                  <a:lnTo>
                    <a:pt x="2" y="53"/>
                  </a:lnTo>
                  <a:lnTo>
                    <a:pt x="2" y="57"/>
                  </a:lnTo>
                  <a:lnTo>
                    <a:pt x="0" y="57"/>
                  </a:lnTo>
                  <a:lnTo>
                    <a:pt x="2" y="60"/>
                  </a:lnTo>
                  <a:lnTo>
                    <a:pt x="4" y="60"/>
                  </a:lnTo>
                  <a:lnTo>
                    <a:pt x="7" y="60"/>
                  </a:lnTo>
                  <a:lnTo>
                    <a:pt x="9" y="59"/>
                  </a:lnTo>
                  <a:lnTo>
                    <a:pt x="9" y="60"/>
                  </a:lnTo>
                  <a:lnTo>
                    <a:pt x="12" y="59"/>
                  </a:lnTo>
                  <a:lnTo>
                    <a:pt x="16" y="65"/>
                  </a:lnTo>
                  <a:lnTo>
                    <a:pt x="21" y="65"/>
                  </a:lnTo>
                  <a:lnTo>
                    <a:pt x="25" y="70"/>
                  </a:lnTo>
                  <a:lnTo>
                    <a:pt x="32" y="72"/>
                  </a:lnTo>
                  <a:lnTo>
                    <a:pt x="34" y="74"/>
                  </a:lnTo>
                  <a:lnTo>
                    <a:pt x="37" y="75"/>
                  </a:lnTo>
                  <a:lnTo>
                    <a:pt x="39" y="75"/>
                  </a:lnTo>
                  <a:lnTo>
                    <a:pt x="42" y="75"/>
                  </a:lnTo>
                  <a:lnTo>
                    <a:pt x="45" y="79"/>
                  </a:lnTo>
                  <a:lnTo>
                    <a:pt x="51" y="79"/>
                  </a:lnTo>
                  <a:lnTo>
                    <a:pt x="54" y="81"/>
                  </a:lnTo>
                  <a:lnTo>
                    <a:pt x="57" y="81"/>
                  </a:lnTo>
                  <a:lnTo>
                    <a:pt x="64" y="86"/>
                  </a:lnTo>
                  <a:lnTo>
                    <a:pt x="64" y="88"/>
                  </a:lnTo>
                  <a:lnTo>
                    <a:pt x="68" y="88"/>
                  </a:lnTo>
                  <a:lnTo>
                    <a:pt x="68" y="86"/>
                  </a:lnTo>
                  <a:lnTo>
                    <a:pt x="67" y="83"/>
                  </a:lnTo>
                  <a:lnTo>
                    <a:pt x="65" y="81"/>
                  </a:lnTo>
                  <a:lnTo>
                    <a:pt x="67" y="78"/>
                  </a:lnTo>
                  <a:lnTo>
                    <a:pt x="67" y="77"/>
                  </a:lnTo>
                  <a:lnTo>
                    <a:pt x="67" y="74"/>
                  </a:lnTo>
                  <a:lnTo>
                    <a:pt x="65" y="73"/>
                  </a:lnTo>
                  <a:lnTo>
                    <a:pt x="72" y="66"/>
                  </a:lnTo>
                  <a:lnTo>
                    <a:pt x="72" y="65"/>
                  </a:lnTo>
                  <a:lnTo>
                    <a:pt x="70" y="62"/>
                  </a:lnTo>
                  <a:lnTo>
                    <a:pt x="72" y="59"/>
                  </a:lnTo>
                  <a:lnTo>
                    <a:pt x="69" y="57"/>
                  </a:lnTo>
                  <a:lnTo>
                    <a:pt x="69" y="56"/>
                  </a:lnTo>
                  <a:lnTo>
                    <a:pt x="70" y="53"/>
                  </a:lnTo>
                  <a:lnTo>
                    <a:pt x="69" y="51"/>
                  </a:lnTo>
                  <a:lnTo>
                    <a:pt x="69" y="49"/>
                  </a:lnTo>
                  <a:lnTo>
                    <a:pt x="74" y="47"/>
                  </a:lnTo>
                  <a:lnTo>
                    <a:pt x="74" y="36"/>
                  </a:lnTo>
                  <a:lnTo>
                    <a:pt x="72" y="33"/>
                  </a:lnTo>
                  <a:lnTo>
                    <a:pt x="74" y="29"/>
                  </a:lnTo>
                  <a:lnTo>
                    <a:pt x="41" y="25"/>
                  </a:lnTo>
                  <a:lnTo>
                    <a:pt x="39" y="18"/>
                  </a:lnTo>
                  <a:lnTo>
                    <a:pt x="30" y="18"/>
                  </a:lnTo>
                  <a:lnTo>
                    <a:pt x="29" y="12"/>
                  </a:lnTo>
                  <a:lnTo>
                    <a:pt x="25" y="12"/>
                  </a:lnTo>
                  <a:lnTo>
                    <a:pt x="22" y="8"/>
                  </a:lnTo>
                  <a:lnTo>
                    <a:pt x="19" y="8"/>
                  </a:lnTo>
                  <a:lnTo>
                    <a:pt x="15" y="9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9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89880" y="3021120"/>
              <a:ext cx="106560" cy="268200"/>
            </a:xfrm>
            <a:custGeom>
              <a:avLst/>
              <a:gdLst/>
              <a:ahLst/>
              <a:rect l="l" t="t" r="r" b="b"/>
              <a:pathLst>
                <a:path w="67" h="169">
                  <a:moveTo>
                    <a:pt x="33" y="169"/>
                  </a:moveTo>
                  <a:lnTo>
                    <a:pt x="31" y="166"/>
                  </a:lnTo>
                  <a:lnTo>
                    <a:pt x="35" y="163"/>
                  </a:lnTo>
                  <a:lnTo>
                    <a:pt x="33" y="160"/>
                  </a:lnTo>
                  <a:lnTo>
                    <a:pt x="37" y="156"/>
                  </a:lnTo>
                  <a:lnTo>
                    <a:pt x="33" y="148"/>
                  </a:lnTo>
                  <a:lnTo>
                    <a:pt x="36" y="143"/>
                  </a:lnTo>
                  <a:lnTo>
                    <a:pt x="36" y="139"/>
                  </a:lnTo>
                  <a:lnTo>
                    <a:pt x="40" y="130"/>
                  </a:lnTo>
                  <a:lnTo>
                    <a:pt x="36" y="125"/>
                  </a:lnTo>
                  <a:lnTo>
                    <a:pt x="39" y="122"/>
                  </a:lnTo>
                  <a:lnTo>
                    <a:pt x="39" y="117"/>
                  </a:lnTo>
                  <a:lnTo>
                    <a:pt x="40" y="114"/>
                  </a:lnTo>
                  <a:lnTo>
                    <a:pt x="41" y="112"/>
                  </a:lnTo>
                  <a:lnTo>
                    <a:pt x="41" y="104"/>
                  </a:lnTo>
                  <a:lnTo>
                    <a:pt x="45" y="102"/>
                  </a:lnTo>
                  <a:lnTo>
                    <a:pt x="44" y="96"/>
                  </a:lnTo>
                  <a:lnTo>
                    <a:pt x="44" y="95"/>
                  </a:lnTo>
                  <a:lnTo>
                    <a:pt x="46" y="94"/>
                  </a:lnTo>
                  <a:lnTo>
                    <a:pt x="48" y="94"/>
                  </a:lnTo>
                  <a:lnTo>
                    <a:pt x="46" y="90"/>
                  </a:lnTo>
                  <a:lnTo>
                    <a:pt x="45" y="87"/>
                  </a:lnTo>
                  <a:lnTo>
                    <a:pt x="42" y="86"/>
                  </a:lnTo>
                  <a:lnTo>
                    <a:pt x="49" y="78"/>
                  </a:lnTo>
                  <a:lnTo>
                    <a:pt x="49" y="77"/>
                  </a:lnTo>
                  <a:lnTo>
                    <a:pt x="48" y="74"/>
                  </a:lnTo>
                  <a:lnTo>
                    <a:pt x="49" y="70"/>
                  </a:lnTo>
                  <a:lnTo>
                    <a:pt x="52" y="65"/>
                  </a:lnTo>
                  <a:lnTo>
                    <a:pt x="49" y="64"/>
                  </a:lnTo>
                  <a:lnTo>
                    <a:pt x="49" y="60"/>
                  </a:lnTo>
                  <a:lnTo>
                    <a:pt x="52" y="57"/>
                  </a:lnTo>
                  <a:lnTo>
                    <a:pt x="52" y="55"/>
                  </a:lnTo>
                  <a:lnTo>
                    <a:pt x="52" y="50"/>
                  </a:lnTo>
                  <a:lnTo>
                    <a:pt x="52" y="48"/>
                  </a:lnTo>
                  <a:lnTo>
                    <a:pt x="53" y="46"/>
                  </a:lnTo>
                  <a:lnTo>
                    <a:pt x="52" y="42"/>
                  </a:lnTo>
                  <a:lnTo>
                    <a:pt x="52" y="41"/>
                  </a:lnTo>
                  <a:lnTo>
                    <a:pt x="55" y="37"/>
                  </a:lnTo>
                  <a:lnTo>
                    <a:pt x="53" y="31"/>
                  </a:lnTo>
                  <a:lnTo>
                    <a:pt x="57" y="26"/>
                  </a:lnTo>
                  <a:lnTo>
                    <a:pt x="62" y="21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5" y="13"/>
                  </a:lnTo>
                  <a:lnTo>
                    <a:pt x="66" y="12"/>
                  </a:lnTo>
                  <a:lnTo>
                    <a:pt x="67" y="12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9" y="5"/>
                  </a:lnTo>
                  <a:lnTo>
                    <a:pt x="61" y="7"/>
                  </a:lnTo>
                  <a:lnTo>
                    <a:pt x="61" y="9"/>
                  </a:lnTo>
                  <a:lnTo>
                    <a:pt x="61" y="11"/>
                  </a:lnTo>
                  <a:lnTo>
                    <a:pt x="59" y="11"/>
                  </a:lnTo>
                  <a:lnTo>
                    <a:pt x="58" y="11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8" y="7"/>
                  </a:lnTo>
                  <a:lnTo>
                    <a:pt x="59" y="5"/>
                  </a:lnTo>
                  <a:lnTo>
                    <a:pt x="61" y="4"/>
                  </a:lnTo>
                  <a:lnTo>
                    <a:pt x="49" y="0"/>
                  </a:lnTo>
                  <a:lnTo>
                    <a:pt x="49" y="7"/>
                  </a:lnTo>
                  <a:lnTo>
                    <a:pt x="44" y="7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39" y="5"/>
                  </a:lnTo>
                  <a:lnTo>
                    <a:pt x="37" y="8"/>
                  </a:lnTo>
                  <a:lnTo>
                    <a:pt x="39" y="12"/>
                  </a:lnTo>
                  <a:lnTo>
                    <a:pt x="40" y="16"/>
                  </a:lnTo>
                  <a:lnTo>
                    <a:pt x="41" y="18"/>
                  </a:lnTo>
                  <a:lnTo>
                    <a:pt x="42" y="20"/>
                  </a:lnTo>
                  <a:lnTo>
                    <a:pt x="39" y="22"/>
                  </a:lnTo>
                  <a:lnTo>
                    <a:pt x="39" y="31"/>
                  </a:lnTo>
                  <a:lnTo>
                    <a:pt x="36" y="31"/>
                  </a:lnTo>
                  <a:lnTo>
                    <a:pt x="36" y="34"/>
                  </a:lnTo>
                  <a:lnTo>
                    <a:pt x="36" y="37"/>
                  </a:lnTo>
                  <a:lnTo>
                    <a:pt x="35" y="41"/>
                  </a:lnTo>
                  <a:lnTo>
                    <a:pt x="33" y="43"/>
                  </a:lnTo>
                  <a:lnTo>
                    <a:pt x="28" y="46"/>
                  </a:lnTo>
                  <a:lnTo>
                    <a:pt x="29" y="52"/>
                  </a:lnTo>
                  <a:lnTo>
                    <a:pt x="23" y="57"/>
                  </a:lnTo>
                  <a:lnTo>
                    <a:pt x="24" y="65"/>
                  </a:lnTo>
                  <a:lnTo>
                    <a:pt x="20" y="73"/>
                  </a:lnTo>
                  <a:lnTo>
                    <a:pt x="22" y="77"/>
                  </a:lnTo>
                  <a:lnTo>
                    <a:pt x="18" y="86"/>
                  </a:lnTo>
                  <a:lnTo>
                    <a:pt x="19" y="92"/>
                  </a:lnTo>
                  <a:lnTo>
                    <a:pt x="13" y="102"/>
                  </a:lnTo>
                  <a:lnTo>
                    <a:pt x="15" y="105"/>
                  </a:lnTo>
                  <a:lnTo>
                    <a:pt x="13" y="107"/>
                  </a:lnTo>
                  <a:lnTo>
                    <a:pt x="11" y="109"/>
                  </a:lnTo>
                  <a:lnTo>
                    <a:pt x="13" y="117"/>
                  </a:lnTo>
                  <a:lnTo>
                    <a:pt x="13" y="120"/>
                  </a:lnTo>
                  <a:lnTo>
                    <a:pt x="7" y="125"/>
                  </a:lnTo>
                  <a:lnTo>
                    <a:pt x="9" y="130"/>
                  </a:lnTo>
                  <a:lnTo>
                    <a:pt x="7" y="133"/>
                  </a:lnTo>
                  <a:lnTo>
                    <a:pt x="6" y="134"/>
                  </a:lnTo>
                  <a:lnTo>
                    <a:pt x="5" y="138"/>
                  </a:lnTo>
                  <a:lnTo>
                    <a:pt x="7" y="138"/>
                  </a:lnTo>
                  <a:lnTo>
                    <a:pt x="5" y="143"/>
                  </a:lnTo>
                  <a:lnTo>
                    <a:pt x="5" y="147"/>
                  </a:lnTo>
                  <a:lnTo>
                    <a:pt x="5" y="153"/>
                  </a:lnTo>
                  <a:lnTo>
                    <a:pt x="2" y="153"/>
                  </a:lnTo>
                  <a:lnTo>
                    <a:pt x="4" y="161"/>
                  </a:lnTo>
                  <a:lnTo>
                    <a:pt x="0" y="164"/>
                  </a:lnTo>
                  <a:lnTo>
                    <a:pt x="33" y="169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559720" y="2821320"/>
              <a:ext cx="127080" cy="207720"/>
            </a:xfrm>
            <a:custGeom>
              <a:avLst/>
              <a:gdLst/>
              <a:ahLst/>
              <a:rect l="l" t="t" r="r" b="b"/>
              <a:pathLst>
                <a:path w="80" h="131">
                  <a:moveTo>
                    <a:pt x="17" y="130"/>
                  </a:moveTo>
                  <a:lnTo>
                    <a:pt x="21" y="131"/>
                  </a:lnTo>
                  <a:lnTo>
                    <a:pt x="23" y="130"/>
                  </a:lnTo>
                  <a:lnTo>
                    <a:pt x="23" y="128"/>
                  </a:lnTo>
                  <a:lnTo>
                    <a:pt x="24" y="125"/>
                  </a:lnTo>
                  <a:lnTo>
                    <a:pt x="24" y="124"/>
                  </a:lnTo>
                  <a:lnTo>
                    <a:pt x="23" y="121"/>
                  </a:lnTo>
                  <a:lnTo>
                    <a:pt x="23" y="117"/>
                  </a:lnTo>
                  <a:lnTo>
                    <a:pt x="24" y="115"/>
                  </a:lnTo>
                  <a:lnTo>
                    <a:pt x="26" y="113"/>
                  </a:lnTo>
                  <a:lnTo>
                    <a:pt x="27" y="112"/>
                  </a:lnTo>
                  <a:lnTo>
                    <a:pt x="28" y="111"/>
                  </a:lnTo>
                  <a:lnTo>
                    <a:pt x="31" y="111"/>
                  </a:lnTo>
                  <a:lnTo>
                    <a:pt x="32" y="103"/>
                  </a:lnTo>
                  <a:lnTo>
                    <a:pt x="27" y="103"/>
                  </a:lnTo>
                  <a:lnTo>
                    <a:pt x="28" y="102"/>
                  </a:lnTo>
                  <a:lnTo>
                    <a:pt x="30" y="99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1" y="93"/>
                  </a:lnTo>
                  <a:lnTo>
                    <a:pt x="32" y="93"/>
                  </a:lnTo>
                  <a:lnTo>
                    <a:pt x="35" y="91"/>
                  </a:lnTo>
                  <a:lnTo>
                    <a:pt x="36" y="91"/>
                  </a:lnTo>
                  <a:lnTo>
                    <a:pt x="35" y="85"/>
                  </a:lnTo>
                  <a:lnTo>
                    <a:pt x="40" y="81"/>
                  </a:lnTo>
                  <a:lnTo>
                    <a:pt x="40" y="73"/>
                  </a:lnTo>
                  <a:lnTo>
                    <a:pt x="43" y="69"/>
                  </a:lnTo>
                  <a:lnTo>
                    <a:pt x="40" y="68"/>
                  </a:lnTo>
                  <a:lnTo>
                    <a:pt x="41" y="65"/>
                  </a:lnTo>
                  <a:lnTo>
                    <a:pt x="43" y="63"/>
                  </a:lnTo>
                  <a:lnTo>
                    <a:pt x="43" y="61"/>
                  </a:lnTo>
                  <a:lnTo>
                    <a:pt x="41" y="60"/>
                  </a:lnTo>
                  <a:lnTo>
                    <a:pt x="44" y="57"/>
                  </a:lnTo>
                  <a:lnTo>
                    <a:pt x="45" y="57"/>
                  </a:lnTo>
                  <a:lnTo>
                    <a:pt x="48" y="57"/>
                  </a:lnTo>
                  <a:lnTo>
                    <a:pt x="48" y="56"/>
                  </a:lnTo>
                  <a:lnTo>
                    <a:pt x="48" y="54"/>
                  </a:lnTo>
                  <a:lnTo>
                    <a:pt x="50" y="51"/>
                  </a:lnTo>
                  <a:lnTo>
                    <a:pt x="53" y="50"/>
                  </a:lnTo>
                  <a:lnTo>
                    <a:pt x="53" y="45"/>
                  </a:lnTo>
                  <a:lnTo>
                    <a:pt x="61" y="38"/>
                  </a:lnTo>
                  <a:lnTo>
                    <a:pt x="61" y="32"/>
                  </a:lnTo>
                  <a:lnTo>
                    <a:pt x="66" y="28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9" y="19"/>
                  </a:lnTo>
                  <a:lnTo>
                    <a:pt x="69" y="15"/>
                  </a:lnTo>
                  <a:lnTo>
                    <a:pt x="70" y="15"/>
                  </a:lnTo>
                  <a:lnTo>
                    <a:pt x="71" y="13"/>
                  </a:lnTo>
                  <a:lnTo>
                    <a:pt x="74" y="13"/>
                  </a:lnTo>
                  <a:lnTo>
                    <a:pt x="74" y="11"/>
                  </a:lnTo>
                  <a:lnTo>
                    <a:pt x="75" y="8"/>
                  </a:lnTo>
                  <a:lnTo>
                    <a:pt x="76" y="6"/>
                  </a:lnTo>
                  <a:lnTo>
                    <a:pt x="79" y="4"/>
                  </a:lnTo>
                  <a:lnTo>
                    <a:pt x="80" y="0"/>
                  </a:lnTo>
                  <a:lnTo>
                    <a:pt x="78" y="2"/>
                  </a:lnTo>
                  <a:lnTo>
                    <a:pt x="75" y="3"/>
                  </a:lnTo>
                  <a:lnTo>
                    <a:pt x="74" y="6"/>
                  </a:lnTo>
                  <a:lnTo>
                    <a:pt x="74" y="7"/>
                  </a:lnTo>
                  <a:lnTo>
                    <a:pt x="69" y="7"/>
                  </a:lnTo>
                  <a:lnTo>
                    <a:pt x="66" y="13"/>
                  </a:lnTo>
                  <a:lnTo>
                    <a:pt x="63" y="13"/>
                  </a:lnTo>
                  <a:lnTo>
                    <a:pt x="62" y="17"/>
                  </a:lnTo>
                  <a:lnTo>
                    <a:pt x="63" y="19"/>
                  </a:lnTo>
                  <a:lnTo>
                    <a:pt x="58" y="24"/>
                  </a:lnTo>
                  <a:lnTo>
                    <a:pt x="58" y="25"/>
                  </a:lnTo>
                  <a:lnTo>
                    <a:pt x="60" y="26"/>
                  </a:lnTo>
                  <a:lnTo>
                    <a:pt x="58" y="26"/>
                  </a:lnTo>
                  <a:lnTo>
                    <a:pt x="52" y="29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7" y="37"/>
                  </a:lnTo>
                  <a:lnTo>
                    <a:pt x="45" y="38"/>
                  </a:lnTo>
                  <a:lnTo>
                    <a:pt x="45" y="42"/>
                  </a:lnTo>
                  <a:lnTo>
                    <a:pt x="41" y="45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52"/>
                  </a:lnTo>
                  <a:lnTo>
                    <a:pt x="35" y="55"/>
                  </a:lnTo>
                  <a:lnTo>
                    <a:pt x="35" y="57"/>
                  </a:lnTo>
                  <a:lnTo>
                    <a:pt x="28" y="63"/>
                  </a:lnTo>
                  <a:lnTo>
                    <a:pt x="28" y="70"/>
                  </a:lnTo>
                  <a:lnTo>
                    <a:pt x="26" y="72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19" y="83"/>
                  </a:lnTo>
                  <a:lnTo>
                    <a:pt x="19" y="85"/>
                  </a:lnTo>
                  <a:lnTo>
                    <a:pt x="15" y="89"/>
                  </a:lnTo>
                  <a:lnTo>
                    <a:pt x="13" y="95"/>
                  </a:lnTo>
                  <a:lnTo>
                    <a:pt x="9" y="98"/>
                  </a:lnTo>
                  <a:lnTo>
                    <a:pt x="9" y="102"/>
                  </a:lnTo>
                  <a:lnTo>
                    <a:pt x="10" y="99"/>
                  </a:lnTo>
                  <a:lnTo>
                    <a:pt x="13" y="102"/>
                  </a:lnTo>
                  <a:lnTo>
                    <a:pt x="11" y="104"/>
                  </a:lnTo>
                  <a:lnTo>
                    <a:pt x="10" y="108"/>
                  </a:lnTo>
                  <a:lnTo>
                    <a:pt x="8" y="104"/>
                  </a:lnTo>
                  <a:lnTo>
                    <a:pt x="5" y="106"/>
                  </a:lnTo>
                  <a:lnTo>
                    <a:pt x="5" y="112"/>
                  </a:lnTo>
                  <a:lnTo>
                    <a:pt x="4" y="113"/>
                  </a:lnTo>
                  <a:lnTo>
                    <a:pt x="2" y="115"/>
                  </a:lnTo>
                  <a:lnTo>
                    <a:pt x="1" y="115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5" y="126"/>
                  </a:lnTo>
                  <a:lnTo>
                    <a:pt x="17" y="13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691480" y="28051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1"/>
                  </a:moveTo>
                  <a:lnTo>
                    <a:pt x="0" y="6"/>
                  </a:lnTo>
                  <a:lnTo>
                    <a:pt x="6" y="4"/>
                  </a:lnTo>
                  <a:lnTo>
                    <a:pt x="4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3399"/>
            </a:solidFill>
            <a:ln w="0">
              <a:solidFill>
                <a:srgbClr val="b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8305920" y="3171960"/>
            <a:ext cx="395280" cy="575640"/>
            <a:chOff x="8305920" y="3171960"/>
            <a:chExt cx="395280" cy="575640"/>
          </a:xfrm>
        </p:grpSpPr>
        <p:sp>
          <p:nvSpPr>
            <p:cNvPr id="128" name=""/>
            <p:cNvSpPr/>
            <p:nvPr/>
          </p:nvSpPr>
          <p:spPr>
            <a:xfrm flipV="1">
              <a:off x="8454960" y="3619440"/>
              <a:ext cx="324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05920" y="3657600"/>
              <a:ext cx="12600" cy="122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3399"/>
            </a:solidFill>
            <a:ln w="0">
              <a:solidFill>
                <a:srgbClr val="b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26440" y="3581280"/>
              <a:ext cx="104760" cy="11088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66" y="18"/>
                  </a:moveTo>
                  <a:lnTo>
                    <a:pt x="66" y="11"/>
                  </a:lnTo>
                  <a:lnTo>
                    <a:pt x="61" y="13"/>
                  </a:lnTo>
                  <a:lnTo>
                    <a:pt x="60" y="8"/>
                  </a:lnTo>
                  <a:lnTo>
                    <a:pt x="53" y="8"/>
                  </a:lnTo>
                  <a:lnTo>
                    <a:pt x="51" y="3"/>
                  </a:lnTo>
                  <a:lnTo>
                    <a:pt x="45" y="5"/>
                  </a:lnTo>
                  <a:lnTo>
                    <a:pt x="43" y="0"/>
                  </a:lnTo>
                  <a:lnTo>
                    <a:pt x="35" y="5"/>
                  </a:lnTo>
                  <a:lnTo>
                    <a:pt x="31" y="0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5" y="8"/>
                  </a:lnTo>
                  <a:lnTo>
                    <a:pt x="26" y="11"/>
                  </a:lnTo>
                  <a:lnTo>
                    <a:pt x="22" y="13"/>
                  </a:lnTo>
                  <a:lnTo>
                    <a:pt x="21" y="17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10" y="25"/>
                  </a:lnTo>
                  <a:lnTo>
                    <a:pt x="10" y="31"/>
                  </a:lnTo>
                  <a:lnTo>
                    <a:pt x="5" y="33"/>
                  </a:lnTo>
                  <a:lnTo>
                    <a:pt x="8" y="37"/>
                  </a:lnTo>
                  <a:lnTo>
                    <a:pt x="4" y="42"/>
                  </a:lnTo>
                  <a:lnTo>
                    <a:pt x="3" y="46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5" y="47"/>
                  </a:lnTo>
                  <a:lnTo>
                    <a:pt x="8" y="47"/>
                  </a:lnTo>
                  <a:lnTo>
                    <a:pt x="8" y="44"/>
                  </a:lnTo>
                  <a:lnTo>
                    <a:pt x="8" y="46"/>
                  </a:lnTo>
                  <a:lnTo>
                    <a:pt x="13" y="42"/>
                  </a:lnTo>
                  <a:lnTo>
                    <a:pt x="14" y="42"/>
                  </a:lnTo>
                  <a:lnTo>
                    <a:pt x="14" y="46"/>
                  </a:lnTo>
                  <a:lnTo>
                    <a:pt x="16" y="47"/>
                  </a:lnTo>
                  <a:lnTo>
                    <a:pt x="18" y="47"/>
                  </a:lnTo>
                  <a:lnTo>
                    <a:pt x="22" y="48"/>
                  </a:lnTo>
                  <a:lnTo>
                    <a:pt x="23" y="51"/>
                  </a:lnTo>
                  <a:lnTo>
                    <a:pt x="22" y="53"/>
                  </a:lnTo>
                  <a:lnTo>
                    <a:pt x="25" y="52"/>
                  </a:lnTo>
                  <a:lnTo>
                    <a:pt x="26" y="55"/>
                  </a:lnTo>
                  <a:lnTo>
                    <a:pt x="26" y="57"/>
                  </a:lnTo>
                  <a:lnTo>
                    <a:pt x="29" y="55"/>
                  </a:lnTo>
                  <a:lnTo>
                    <a:pt x="31" y="57"/>
                  </a:lnTo>
                  <a:lnTo>
                    <a:pt x="34" y="59"/>
                  </a:lnTo>
                  <a:lnTo>
                    <a:pt x="36" y="59"/>
                  </a:lnTo>
                  <a:lnTo>
                    <a:pt x="38" y="63"/>
                  </a:lnTo>
                  <a:lnTo>
                    <a:pt x="43" y="59"/>
                  </a:lnTo>
                  <a:lnTo>
                    <a:pt x="44" y="64"/>
                  </a:lnTo>
                  <a:lnTo>
                    <a:pt x="47" y="64"/>
                  </a:lnTo>
                  <a:lnTo>
                    <a:pt x="53" y="70"/>
                  </a:lnTo>
                  <a:lnTo>
                    <a:pt x="64" y="70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25080" y="3608280"/>
              <a:ext cx="117360" cy="1393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4" y="1"/>
                  </a:moveTo>
                  <a:lnTo>
                    <a:pt x="2" y="53"/>
                  </a:lnTo>
                  <a:lnTo>
                    <a:pt x="2" y="57"/>
                  </a:lnTo>
                  <a:lnTo>
                    <a:pt x="0" y="57"/>
                  </a:lnTo>
                  <a:lnTo>
                    <a:pt x="2" y="60"/>
                  </a:lnTo>
                  <a:lnTo>
                    <a:pt x="4" y="60"/>
                  </a:lnTo>
                  <a:lnTo>
                    <a:pt x="7" y="60"/>
                  </a:lnTo>
                  <a:lnTo>
                    <a:pt x="9" y="59"/>
                  </a:lnTo>
                  <a:lnTo>
                    <a:pt x="9" y="60"/>
                  </a:lnTo>
                  <a:lnTo>
                    <a:pt x="12" y="59"/>
                  </a:lnTo>
                  <a:lnTo>
                    <a:pt x="16" y="65"/>
                  </a:lnTo>
                  <a:lnTo>
                    <a:pt x="21" y="65"/>
                  </a:lnTo>
                  <a:lnTo>
                    <a:pt x="25" y="70"/>
                  </a:lnTo>
                  <a:lnTo>
                    <a:pt x="32" y="72"/>
                  </a:lnTo>
                  <a:lnTo>
                    <a:pt x="34" y="74"/>
                  </a:lnTo>
                  <a:lnTo>
                    <a:pt x="37" y="75"/>
                  </a:lnTo>
                  <a:lnTo>
                    <a:pt x="39" y="75"/>
                  </a:lnTo>
                  <a:lnTo>
                    <a:pt x="42" y="75"/>
                  </a:lnTo>
                  <a:lnTo>
                    <a:pt x="45" y="79"/>
                  </a:lnTo>
                  <a:lnTo>
                    <a:pt x="51" y="79"/>
                  </a:lnTo>
                  <a:lnTo>
                    <a:pt x="54" y="81"/>
                  </a:lnTo>
                  <a:lnTo>
                    <a:pt x="57" y="81"/>
                  </a:lnTo>
                  <a:lnTo>
                    <a:pt x="64" y="86"/>
                  </a:lnTo>
                  <a:lnTo>
                    <a:pt x="64" y="88"/>
                  </a:lnTo>
                  <a:lnTo>
                    <a:pt x="68" y="88"/>
                  </a:lnTo>
                  <a:lnTo>
                    <a:pt x="68" y="86"/>
                  </a:lnTo>
                  <a:lnTo>
                    <a:pt x="67" y="83"/>
                  </a:lnTo>
                  <a:lnTo>
                    <a:pt x="65" y="81"/>
                  </a:lnTo>
                  <a:lnTo>
                    <a:pt x="67" y="78"/>
                  </a:lnTo>
                  <a:lnTo>
                    <a:pt x="67" y="77"/>
                  </a:lnTo>
                  <a:lnTo>
                    <a:pt x="67" y="74"/>
                  </a:lnTo>
                  <a:lnTo>
                    <a:pt x="65" y="73"/>
                  </a:lnTo>
                  <a:lnTo>
                    <a:pt x="72" y="66"/>
                  </a:lnTo>
                  <a:lnTo>
                    <a:pt x="72" y="65"/>
                  </a:lnTo>
                  <a:lnTo>
                    <a:pt x="70" y="62"/>
                  </a:lnTo>
                  <a:lnTo>
                    <a:pt x="72" y="59"/>
                  </a:lnTo>
                  <a:lnTo>
                    <a:pt x="69" y="57"/>
                  </a:lnTo>
                  <a:lnTo>
                    <a:pt x="69" y="56"/>
                  </a:lnTo>
                  <a:lnTo>
                    <a:pt x="70" y="53"/>
                  </a:lnTo>
                  <a:lnTo>
                    <a:pt x="69" y="51"/>
                  </a:lnTo>
                  <a:lnTo>
                    <a:pt x="69" y="49"/>
                  </a:lnTo>
                  <a:lnTo>
                    <a:pt x="74" y="47"/>
                  </a:lnTo>
                  <a:lnTo>
                    <a:pt x="74" y="36"/>
                  </a:lnTo>
                  <a:lnTo>
                    <a:pt x="72" y="33"/>
                  </a:lnTo>
                  <a:lnTo>
                    <a:pt x="74" y="29"/>
                  </a:lnTo>
                  <a:lnTo>
                    <a:pt x="41" y="25"/>
                  </a:lnTo>
                  <a:lnTo>
                    <a:pt x="39" y="18"/>
                  </a:lnTo>
                  <a:lnTo>
                    <a:pt x="30" y="18"/>
                  </a:lnTo>
                  <a:lnTo>
                    <a:pt x="29" y="12"/>
                  </a:lnTo>
                  <a:lnTo>
                    <a:pt x="25" y="12"/>
                  </a:lnTo>
                  <a:lnTo>
                    <a:pt x="22" y="8"/>
                  </a:lnTo>
                  <a:lnTo>
                    <a:pt x="19" y="8"/>
                  </a:lnTo>
                  <a:lnTo>
                    <a:pt x="15" y="9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9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89880" y="3387600"/>
              <a:ext cx="106560" cy="267840"/>
            </a:xfrm>
            <a:custGeom>
              <a:avLst/>
              <a:gdLst/>
              <a:ahLst/>
              <a:rect l="l" t="t" r="r" b="b"/>
              <a:pathLst>
                <a:path w="67" h="169">
                  <a:moveTo>
                    <a:pt x="33" y="169"/>
                  </a:moveTo>
                  <a:lnTo>
                    <a:pt x="31" y="166"/>
                  </a:lnTo>
                  <a:lnTo>
                    <a:pt x="35" y="163"/>
                  </a:lnTo>
                  <a:lnTo>
                    <a:pt x="33" y="160"/>
                  </a:lnTo>
                  <a:lnTo>
                    <a:pt x="37" y="156"/>
                  </a:lnTo>
                  <a:lnTo>
                    <a:pt x="33" y="148"/>
                  </a:lnTo>
                  <a:lnTo>
                    <a:pt x="36" y="143"/>
                  </a:lnTo>
                  <a:lnTo>
                    <a:pt x="36" y="139"/>
                  </a:lnTo>
                  <a:lnTo>
                    <a:pt x="40" y="130"/>
                  </a:lnTo>
                  <a:lnTo>
                    <a:pt x="36" y="125"/>
                  </a:lnTo>
                  <a:lnTo>
                    <a:pt x="39" y="122"/>
                  </a:lnTo>
                  <a:lnTo>
                    <a:pt x="39" y="117"/>
                  </a:lnTo>
                  <a:lnTo>
                    <a:pt x="40" y="114"/>
                  </a:lnTo>
                  <a:lnTo>
                    <a:pt x="41" y="112"/>
                  </a:lnTo>
                  <a:lnTo>
                    <a:pt x="41" y="104"/>
                  </a:lnTo>
                  <a:lnTo>
                    <a:pt x="45" y="102"/>
                  </a:lnTo>
                  <a:lnTo>
                    <a:pt x="44" y="96"/>
                  </a:lnTo>
                  <a:lnTo>
                    <a:pt x="44" y="95"/>
                  </a:lnTo>
                  <a:lnTo>
                    <a:pt x="46" y="94"/>
                  </a:lnTo>
                  <a:lnTo>
                    <a:pt x="48" y="94"/>
                  </a:lnTo>
                  <a:lnTo>
                    <a:pt x="46" y="90"/>
                  </a:lnTo>
                  <a:lnTo>
                    <a:pt x="45" y="87"/>
                  </a:lnTo>
                  <a:lnTo>
                    <a:pt x="42" y="86"/>
                  </a:lnTo>
                  <a:lnTo>
                    <a:pt x="49" y="78"/>
                  </a:lnTo>
                  <a:lnTo>
                    <a:pt x="49" y="77"/>
                  </a:lnTo>
                  <a:lnTo>
                    <a:pt x="48" y="74"/>
                  </a:lnTo>
                  <a:lnTo>
                    <a:pt x="49" y="70"/>
                  </a:lnTo>
                  <a:lnTo>
                    <a:pt x="52" y="65"/>
                  </a:lnTo>
                  <a:lnTo>
                    <a:pt x="49" y="64"/>
                  </a:lnTo>
                  <a:lnTo>
                    <a:pt x="49" y="60"/>
                  </a:lnTo>
                  <a:lnTo>
                    <a:pt x="52" y="57"/>
                  </a:lnTo>
                  <a:lnTo>
                    <a:pt x="52" y="55"/>
                  </a:lnTo>
                  <a:lnTo>
                    <a:pt x="52" y="50"/>
                  </a:lnTo>
                  <a:lnTo>
                    <a:pt x="52" y="48"/>
                  </a:lnTo>
                  <a:lnTo>
                    <a:pt x="53" y="46"/>
                  </a:lnTo>
                  <a:lnTo>
                    <a:pt x="52" y="42"/>
                  </a:lnTo>
                  <a:lnTo>
                    <a:pt x="52" y="41"/>
                  </a:lnTo>
                  <a:lnTo>
                    <a:pt x="55" y="37"/>
                  </a:lnTo>
                  <a:lnTo>
                    <a:pt x="53" y="31"/>
                  </a:lnTo>
                  <a:lnTo>
                    <a:pt x="57" y="26"/>
                  </a:lnTo>
                  <a:lnTo>
                    <a:pt x="62" y="21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5" y="13"/>
                  </a:lnTo>
                  <a:lnTo>
                    <a:pt x="66" y="12"/>
                  </a:lnTo>
                  <a:lnTo>
                    <a:pt x="67" y="12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9" y="5"/>
                  </a:lnTo>
                  <a:lnTo>
                    <a:pt x="61" y="7"/>
                  </a:lnTo>
                  <a:lnTo>
                    <a:pt x="61" y="9"/>
                  </a:lnTo>
                  <a:lnTo>
                    <a:pt x="61" y="11"/>
                  </a:lnTo>
                  <a:lnTo>
                    <a:pt x="59" y="11"/>
                  </a:lnTo>
                  <a:lnTo>
                    <a:pt x="58" y="11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8" y="7"/>
                  </a:lnTo>
                  <a:lnTo>
                    <a:pt x="59" y="5"/>
                  </a:lnTo>
                  <a:lnTo>
                    <a:pt x="61" y="4"/>
                  </a:lnTo>
                  <a:lnTo>
                    <a:pt x="49" y="0"/>
                  </a:lnTo>
                  <a:lnTo>
                    <a:pt x="49" y="7"/>
                  </a:lnTo>
                  <a:lnTo>
                    <a:pt x="44" y="7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39" y="5"/>
                  </a:lnTo>
                  <a:lnTo>
                    <a:pt x="37" y="8"/>
                  </a:lnTo>
                  <a:lnTo>
                    <a:pt x="39" y="12"/>
                  </a:lnTo>
                  <a:lnTo>
                    <a:pt x="40" y="16"/>
                  </a:lnTo>
                  <a:lnTo>
                    <a:pt x="41" y="18"/>
                  </a:lnTo>
                  <a:lnTo>
                    <a:pt x="42" y="20"/>
                  </a:lnTo>
                  <a:lnTo>
                    <a:pt x="39" y="22"/>
                  </a:lnTo>
                  <a:lnTo>
                    <a:pt x="39" y="31"/>
                  </a:lnTo>
                  <a:lnTo>
                    <a:pt x="36" y="31"/>
                  </a:lnTo>
                  <a:lnTo>
                    <a:pt x="36" y="34"/>
                  </a:lnTo>
                  <a:lnTo>
                    <a:pt x="36" y="37"/>
                  </a:lnTo>
                  <a:lnTo>
                    <a:pt x="35" y="41"/>
                  </a:lnTo>
                  <a:lnTo>
                    <a:pt x="33" y="43"/>
                  </a:lnTo>
                  <a:lnTo>
                    <a:pt x="28" y="46"/>
                  </a:lnTo>
                  <a:lnTo>
                    <a:pt x="29" y="52"/>
                  </a:lnTo>
                  <a:lnTo>
                    <a:pt x="23" y="57"/>
                  </a:lnTo>
                  <a:lnTo>
                    <a:pt x="24" y="65"/>
                  </a:lnTo>
                  <a:lnTo>
                    <a:pt x="20" y="73"/>
                  </a:lnTo>
                  <a:lnTo>
                    <a:pt x="22" y="77"/>
                  </a:lnTo>
                  <a:lnTo>
                    <a:pt x="18" y="86"/>
                  </a:lnTo>
                  <a:lnTo>
                    <a:pt x="19" y="92"/>
                  </a:lnTo>
                  <a:lnTo>
                    <a:pt x="13" y="102"/>
                  </a:lnTo>
                  <a:lnTo>
                    <a:pt x="15" y="105"/>
                  </a:lnTo>
                  <a:lnTo>
                    <a:pt x="13" y="107"/>
                  </a:lnTo>
                  <a:lnTo>
                    <a:pt x="11" y="109"/>
                  </a:lnTo>
                  <a:lnTo>
                    <a:pt x="13" y="117"/>
                  </a:lnTo>
                  <a:lnTo>
                    <a:pt x="13" y="120"/>
                  </a:lnTo>
                  <a:lnTo>
                    <a:pt x="7" y="125"/>
                  </a:lnTo>
                  <a:lnTo>
                    <a:pt x="9" y="130"/>
                  </a:lnTo>
                  <a:lnTo>
                    <a:pt x="7" y="133"/>
                  </a:lnTo>
                  <a:lnTo>
                    <a:pt x="6" y="134"/>
                  </a:lnTo>
                  <a:lnTo>
                    <a:pt x="5" y="138"/>
                  </a:lnTo>
                  <a:lnTo>
                    <a:pt x="7" y="138"/>
                  </a:lnTo>
                  <a:lnTo>
                    <a:pt x="5" y="143"/>
                  </a:lnTo>
                  <a:lnTo>
                    <a:pt x="5" y="147"/>
                  </a:lnTo>
                  <a:lnTo>
                    <a:pt x="5" y="153"/>
                  </a:lnTo>
                  <a:lnTo>
                    <a:pt x="2" y="153"/>
                  </a:lnTo>
                  <a:lnTo>
                    <a:pt x="4" y="161"/>
                  </a:lnTo>
                  <a:lnTo>
                    <a:pt x="0" y="164"/>
                  </a:lnTo>
                  <a:lnTo>
                    <a:pt x="33" y="169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59720" y="3187800"/>
              <a:ext cx="127080" cy="207360"/>
            </a:xfrm>
            <a:custGeom>
              <a:avLst/>
              <a:gdLst/>
              <a:ahLst/>
              <a:rect l="l" t="t" r="r" b="b"/>
              <a:pathLst>
                <a:path w="80" h="131">
                  <a:moveTo>
                    <a:pt x="17" y="130"/>
                  </a:moveTo>
                  <a:lnTo>
                    <a:pt x="21" y="131"/>
                  </a:lnTo>
                  <a:lnTo>
                    <a:pt x="23" y="130"/>
                  </a:lnTo>
                  <a:lnTo>
                    <a:pt x="23" y="128"/>
                  </a:lnTo>
                  <a:lnTo>
                    <a:pt x="24" y="125"/>
                  </a:lnTo>
                  <a:lnTo>
                    <a:pt x="24" y="124"/>
                  </a:lnTo>
                  <a:lnTo>
                    <a:pt x="23" y="121"/>
                  </a:lnTo>
                  <a:lnTo>
                    <a:pt x="23" y="117"/>
                  </a:lnTo>
                  <a:lnTo>
                    <a:pt x="24" y="115"/>
                  </a:lnTo>
                  <a:lnTo>
                    <a:pt x="26" y="113"/>
                  </a:lnTo>
                  <a:lnTo>
                    <a:pt x="27" y="112"/>
                  </a:lnTo>
                  <a:lnTo>
                    <a:pt x="28" y="111"/>
                  </a:lnTo>
                  <a:lnTo>
                    <a:pt x="31" y="111"/>
                  </a:lnTo>
                  <a:lnTo>
                    <a:pt x="32" y="103"/>
                  </a:lnTo>
                  <a:lnTo>
                    <a:pt x="27" y="103"/>
                  </a:lnTo>
                  <a:lnTo>
                    <a:pt x="28" y="102"/>
                  </a:lnTo>
                  <a:lnTo>
                    <a:pt x="30" y="99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1" y="93"/>
                  </a:lnTo>
                  <a:lnTo>
                    <a:pt x="32" y="93"/>
                  </a:lnTo>
                  <a:lnTo>
                    <a:pt x="35" y="91"/>
                  </a:lnTo>
                  <a:lnTo>
                    <a:pt x="36" y="91"/>
                  </a:lnTo>
                  <a:lnTo>
                    <a:pt x="35" y="85"/>
                  </a:lnTo>
                  <a:lnTo>
                    <a:pt x="40" y="81"/>
                  </a:lnTo>
                  <a:lnTo>
                    <a:pt x="40" y="73"/>
                  </a:lnTo>
                  <a:lnTo>
                    <a:pt x="43" y="69"/>
                  </a:lnTo>
                  <a:lnTo>
                    <a:pt x="40" y="68"/>
                  </a:lnTo>
                  <a:lnTo>
                    <a:pt x="41" y="65"/>
                  </a:lnTo>
                  <a:lnTo>
                    <a:pt x="43" y="63"/>
                  </a:lnTo>
                  <a:lnTo>
                    <a:pt x="43" y="61"/>
                  </a:lnTo>
                  <a:lnTo>
                    <a:pt x="41" y="60"/>
                  </a:lnTo>
                  <a:lnTo>
                    <a:pt x="44" y="57"/>
                  </a:lnTo>
                  <a:lnTo>
                    <a:pt x="45" y="57"/>
                  </a:lnTo>
                  <a:lnTo>
                    <a:pt x="48" y="57"/>
                  </a:lnTo>
                  <a:lnTo>
                    <a:pt x="48" y="56"/>
                  </a:lnTo>
                  <a:lnTo>
                    <a:pt x="48" y="54"/>
                  </a:lnTo>
                  <a:lnTo>
                    <a:pt x="50" y="51"/>
                  </a:lnTo>
                  <a:lnTo>
                    <a:pt x="53" y="50"/>
                  </a:lnTo>
                  <a:lnTo>
                    <a:pt x="53" y="45"/>
                  </a:lnTo>
                  <a:lnTo>
                    <a:pt x="61" y="38"/>
                  </a:lnTo>
                  <a:lnTo>
                    <a:pt x="61" y="32"/>
                  </a:lnTo>
                  <a:lnTo>
                    <a:pt x="66" y="28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9" y="19"/>
                  </a:lnTo>
                  <a:lnTo>
                    <a:pt x="69" y="15"/>
                  </a:lnTo>
                  <a:lnTo>
                    <a:pt x="70" y="15"/>
                  </a:lnTo>
                  <a:lnTo>
                    <a:pt x="71" y="13"/>
                  </a:lnTo>
                  <a:lnTo>
                    <a:pt x="74" y="13"/>
                  </a:lnTo>
                  <a:lnTo>
                    <a:pt x="74" y="11"/>
                  </a:lnTo>
                  <a:lnTo>
                    <a:pt x="75" y="8"/>
                  </a:lnTo>
                  <a:lnTo>
                    <a:pt x="76" y="6"/>
                  </a:lnTo>
                  <a:lnTo>
                    <a:pt x="79" y="4"/>
                  </a:lnTo>
                  <a:lnTo>
                    <a:pt x="80" y="0"/>
                  </a:lnTo>
                  <a:lnTo>
                    <a:pt x="78" y="2"/>
                  </a:lnTo>
                  <a:lnTo>
                    <a:pt x="75" y="3"/>
                  </a:lnTo>
                  <a:lnTo>
                    <a:pt x="74" y="6"/>
                  </a:lnTo>
                  <a:lnTo>
                    <a:pt x="74" y="7"/>
                  </a:lnTo>
                  <a:lnTo>
                    <a:pt x="69" y="7"/>
                  </a:lnTo>
                  <a:lnTo>
                    <a:pt x="66" y="13"/>
                  </a:lnTo>
                  <a:lnTo>
                    <a:pt x="63" y="13"/>
                  </a:lnTo>
                  <a:lnTo>
                    <a:pt x="62" y="17"/>
                  </a:lnTo>
                  <a:lnTo>
                    <a:pt x="63" y="19"/>
                  </a:lnTo>
                  <a:lnTo>
                    <a:pt x="58" y="24"/>
                  </a:lnTo>
                  <a:lnTo>
                    <a:pt x="58" y="25"/>
                  </a:lnTo>
                  <a:lnTo>
                    <a:pt x="60" y="26"/>
                  </a:lnTo>
                  <a:lnTo>
                    <a:pt x="58" y="26"/>
                  </a:lnTo>
                  <a:lnTo>
                    <a:pt x="52" y="29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7" y="37"/>
                  </a:lnTo>
                  <a:lnTo>
                    <a:pt x="45" y="38"/>
                  </a:lnTo>
                  <a:lnTo>
                    <a:pt x="45" y="42"/>
                  </a:lnTo>
                  <a:lnTo>
                    <a:pt x="41" y="45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52"/>
                  </a:lnTo>
                  <a:lnTo>
                    <a:pt x="35" y="55"/>
                  </a:lnTo>
                  <a:lnTo>
                    <a:pt x="35" y="57"/>
                  </a:lnTo>
                  <a:lnTo>
                    <a:pt x="28" y="63"/>
                  </a:lnTo>
                  <a:lnTo>
                    <a:pt x="28" y="70"/>
                  </a:lnTo>
                  <a:lnTo>
                    <a:pt x="26" y="72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19" y="83"/>
                  </a:lnTo>
                  <a:lnTo>
                    <a:pt x="19" y="85"/>
                  </a:lnTo>
                  <a:lnTo>
                    <a:pt x="15" y="89"/>
                  </a:lnTo>
                  <a:lnTo>
                    <a:pt x="13" y="95"/>
                  </a:lnTo>
                  <a:lnTo>
                    <a:pt x="9" y="98"/>
                  </a:lnTo>
                  <a:lnTo>
                    <a:pt x="9" y="102"/>
                  </a:lnTo>
                  <a:lnTo>
                    <a:pt x="10" y="99"/>
                  </a:lnTo>
                  <a:lnTo>
                    <a:pt x="13" y="102"/>
                  </a:lnTo>
                  <a:lnTo>
                    <a:pt x="11" y="104"/>
                  </a:lnTo>
                  <a:lnTo>
                    <a:pt x="10" y="108"/>
                  </a:lnTo>
                  <a:lnTo>
                    <a:pt x="8" y="104"/>
                  </a:lnTo>
                  <a:lnTo>
                    <a:pt x="5" y="106"/>
                  </a:lnTo>
                  <a:lnTo>
                    <a:pt x="5" y="112"/>
                  </a:lnTo>
                  <a:lnTo>
                    <a:pt x="4" y="113"/>
                  </a:lnTo>
                  <a:lnTo>
                    <a:pt x="2" y="115"/>
                  </a:lnTo>
                  <a:lnTo>
                    <a:pt x="1" y="115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5" y="126"/>
                  </a:lnTo>
                  <a:lnTo>
                    <a:pt x="17" y="13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91480" y="317196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1"/>
                  </a:moveTo>
                  <a:lnTo>
                    <a:pt x="0" y="6"/>
                  </a:lnTo>
                  <a:lnTo>
                    <a:pt x="6" y="4"/>
                  </a:lnTo>
                  <a:lnTo>
                    <a:pt x="4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3399"/>
            </a:solidFill>
            <a:ln w="0">
              <a:solidFill>
                <a:srgbClr val="b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8305920" y="3538440"/>
            <a:ext cx="395280" cy="576360"/>
            <a:chOff x="8305920" y="3538440"/>
            <a:chExt cx="395280" cy="576360"/>
          </a:xfrm>
        </p:grpSpPr>
        <p:sp>
          <p:nvSpPr>
            <p:cNvPr id="136" name=""/>
            <p:cNvSpPr/>
            <p:nvPr/>
          </p:nvSpPr>
          <p:spPr>
            <a:xfrm flipV="1">
              <a:off x="8454960" y="3985920"/>
              <a:ext cx="32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05920" y="40244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ff3399"/>
            </a:solidFill>
            <a:ln w="0">
              <a:solidFill>
                <a:srgbClr val="b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26440" y="3948120"/>
              <a:ext cx="104760" cy="11124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66" y="18"/>
                  </a:moveTo>
                  <a:lnTo>
                    <a:pt x="66" y="11"/>
                  </a:lnTo>
                  <a:lnTo>
                    <a:pt x="61" y="13"/>
                  </a:lnTo>
                  <a:lnTo>
                    <a:pt x="60" y="8"/>
                  </a:lnTo>
                  <a:lnTo>
                    <a:pt x="53" y="8"/>
                  </a:lnTo>
                  <a:lnTo>
                    <a:pt x="51" y="3"/>
                  </a:lnTo>
                  <a:lnTo>
                    <a:pt x="45" y="5"/>
                  </a:lnTo>
                  <a:lnTo>
                    <a:pt x="43" y="0"/>
                  </a:lnTo>
                  <a:lnTo>
                    <a:pt x="35" y="5"/>
                  </a:lnTo>
                  <a:lnTo>
                    <a:pt x="31" y="0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5" y="8"/>
                  </a:lnTo>
                  <a:lnTo>
                    <a:pt x="26" y="11"/>
                  </a:lnTo>
                  <a:lnTo>
                    <a:pt x="22" y="13"/>
                  </a:lnTo>
                  <a:lnTo>
                    <a:pt x="21" y="17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10" y="25"/>
                  </a:lnTo>
                  <a:lnTo>
                    <a:pt x="10" y="31"/>
                  </a:lnTo>
                  <a:lnTo>
                    <a:pt x="5" y="33"/>
                  </a:lnTo>
                  <a:lnTo>
                    <a:pt x="8" y="37"/>
                  </a:lnTo>
                  <a:lnTo>
                    <a:pt x="4" y="42"/>
                  </a:lnTo>
                  <a:lnTo>
                    <a:pt x="3" y="46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5" y="47"/>
                  </a:lnTo>
                  <a:lnTo>
                    <a:pt x="8" y="47"/>
                  </a:lnTo>
                  <a:lnTo>
                    <a:pt x="8" y="44"/>
                  </a:lnTo>
                  <a:lnTo>
                    <a:pt x="8" y="46"/>
                  </a:lnTo>
                  <a:lnTo>
                    <a:pt x="13" y="42"/>
                  </a:lnTo>
                  <a:lnTo>
                    <a:pt x="14" y="42"/>
                  </a:lnTo>
                  <a:lnTo>
                    <a:pt x="14" y="46"/>
                  </a:lnTo>
                  <a:lnTo>
                    <a:pt x="16" y="47"/>
                  </a:lnTo>
                  <a:lnTo>
                    <a:pt x="18" y="47"/>
                  </a:lnTo>
                  <a:lnTo>
                    <a:pt x="22" y="48"/>
                  </a:lnTo>
                  <a:lnTo>
                    <a:pt x="23" y="51"/>
                  </a:lnTo>
                  <a:lnTo>
                    <a:pt x="22" y="53"/>
                  </a:lnTo>
                  <a:lnTo>
                    <a:pt x="25" y="52"/>
                  </a:lnTo>
                  <a:lnTo>
                    <a:pt x="26" y="55"/>
                  </a:lnTo>
                  <a:lnTo>
                    <a:pt x="26" y="57"/>
                  </a:lnTo>
                  <a:lnTo>
                    <a:pt x="29" y="55"/>
                  </a:lnTo>
                  <a:lnTo>
                    <a:pt x="31" y="57"/>
                  </a:lnTo>
                  <a:lnTo>
                    <a:pt x="34" y="59"/>
                  </a:lnTo>
                  <a:lnTo>
                    <a:pt x="36" y="59"/>
                  </a:lnTo>
                  <a:lnTo>
                    <a:pt x="38" y="63"/>
                  </a:lnTo>
                  <a:lnTo>
                    <a:pt x="43" y="59"/>
                  </a:lnTo>
                  <a:lnTo>
                    <a:pt x="44" y="64"/>
                  </a:lnTo>
                  <a:lnTo>
                    <a:pt x="47" y="64"/>
                  </a:lnTo>
                  <a:lnTo>
                    <a:pt x="53" y="70"/>
                  </a:lnTo>
                  <a:lnTo>
                    <a:pt x="64" y="70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5080" y="3975120"/>
              <a:ext cx="117360" cy="13968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4" y="1"/>
                  </a:moveTo>
                  <a:lnTo>
                    <a:pt x="2" y="53"/>
                  </a:lnTo>
                  <a:lnTo>
                    <a:pt x="2" y="57"/>
                  </a:lnTo>
                  <a:lnTo>
                    <a:pt x="0" y="57"/>
                  </a:lnTo>
                  <a:lnTo>
                    <a:pt x="2" y="60"/>
                  </a:lnTo>
                  <a:lnTo>
                    <a:pt x="4" y="60"/>
                  </a:lnTo>
                  <a:lnTo>
                    <a:pt x="7" y="60"/>
                  </a:lnTo>
                  <a:lnTo>
                    <a:pt x="9" y="59"/>
                  </a:lnTo>
                  <a:lnTo>
                    <a:pt x="9" y="60"/>
                  </a:lnTo>
                  <a:lnTo>
                    <a:pt x="12" y="59"/>
                  </a:lnTo>
                  <a:lnTo>
                    <a:pt x="16" y="65"/>
                  </a:lnTo>
                  <a:lnTo>
                    <a:pt x="21" y="65"/>
                  </a:lnTo>
                  <a:lnTo>
                    <a:pt x="25" y="70"/>
                  </a:lnTo>
                  <a:lnTo>
                    <a:pt x="32" y="72"/>
                  </a:lnTo>
                  <a:lnTo>
                    <a:pt x="34" y="74"/>
                  </a:lnTo>
                  <a:lnTo>
                    <a:pt x="37" y="75"/>
                  </a:lnTo>
                  <a:lnTo>
                    <a:pt x="39" y="75"/>
                  </a:lnTo>
                  <a:lnTo>
                    <a:pt x="42" y="75"/>
                  </a:lnTo>
                  <a:lnTo>
                    <a:pt x="45" y="79"/>
                  </a:lnTo>
                  <a:lnTo>
                    <a:pt x="51" y="79"/>
                  </a:lnTo>
                  <a:lnTo>
                    <a:pt x="54" y="81"/>
                  </a:lnTo>
                  <a:lnTo>
                    <a:pt x="57" y="81"/>
                  </a:lnTo>
                  <a:lnTo>
                    <a:pt x="64" y="86"/>
                  </a:lnTo>
                  <a:lnTo>
                    <a:pt x="64" y="88"/>
                  </a:lnTo>
                  <a:lnTo>
                    <a:pt x="68" y="88"/>
                  </a:lnTo>
                  <a:lnTo>
                    <a:pt x="68" y="86"/>
                  </a:lnTo>
                  <a:lnTo>
                    <a:pt x="67" y="83"/>
                  </a:lnTo>
                  <a:lnTo>
                    <a:pt x="65" y="81"/>
                  </a:lnTo>
                  <a:lnTo>
                    <a:pt x="67" y="78"/>
                  </a:lnTo>
                  <a:lnTo>
                    <a:pt x="67" y="77"/>
                  </a:lnTo>
                  <a:lnTo>
                    <a:pt x="67" y="74"/>
                  </a:lnTo>
                  <a:lnTo>
                    <a:pt x="65" y="73"/>
                  </a:lnTo>
                  <a:lnTo>
                    <a:pt x="72" y="66"/>
                  </a:lnTo>
                  <a:lnTo>
                    <a:pt x="72" y="65"/>
                  </a:lnTo>
                  <a:lnTo>
                    <a:pt x="70" y="62"/>
                  </a:lnTo>
                  <a:lnTo>
                    <a:pt x="72" y="59"/>
                  </a:lnTo>
                  <a:lnTo>
                    <a:pt x="69" y="57"/>
                  </a:lnTo>
                  <a:lnTo>
                    <a:pt x="69" y="56"/>
                  </a:lnTo>
                  <a:lnTo>
                    <a:pt x="70" y="53"/>
                  </a:lnTo>
                  <a:lnTo>
                    <a:pt x="69" y="51"/>
                  </a:lnTo>
                  <a:lnTo>
                    <a:pt x="69" y="49"/>
                  </a:lnTo>
                  <a:lnTo>
                    <a:pt x="74" y="47"/>
                  </a:lnTo>
                  <a:lnTo>
                    <a:pt x="74" y="36"/>
                  </a:lnTo>
                  <a:lnTo>
                    <a:pt x="72" y="33"/>
                  </a:lnTo>
                  <a:lnTo>
                    <a:pt x="74" y="29"/>
                  </a:lnTo>
                  <a:lnTo>
                    <a:pt x="41" y="25"/>
                  </a:lnTo>
                  <a:lnTo>
                    <a:pt x="39" y="18"/>
                  </a:lnTo>
                  <a:lnTo>
                    <a:pt x="30" y="18"/>
                  </a:lnTo>
                  <a:lnTo>
                    <a:pt x="29" y="12"/>
                  </a:lnTo>
                  <a:lnTo>
                    <a:pt x="25" y="12"/>
                  </a:lnTo>
                  <a:lnTo>
                    <a:pt x="22" y="8"/>
                  </a:lnTo>
                  <a:lnTo>
                    <a:pt x="19" y="8"/>
                  </a:lnTo>
                  <a:lnTo>
                    <a:pt x="15" y="9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9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89880" y="3754440"/>
              <a:ext cx="106560" cy="268200"/>
            </a:xfrm>
            <a:custGeom>
              <a:avLst/>
              <a:gdLst/>
              <a:ahLst/>
              <a:rect l="l" t="t" r="r" b="b"/>
              <a:pathLst>
                <a:path w="67" h="169">
                  <a:moveTo>
                    <a:pt x="33" y="169"/>
                  </a:moveTo>
                  <a:lnTo>
                    <a:pt x="31" y="166"/>
                  </a:lnTo>
                  <a:lnTo>
                    <a:pt x="35" y="163"/>
                  </a:lnTo>
                  <a:lnTo>
                    <a:pt x="33" y="160"/>
                  </a:lnTo>
                  <a:lnTo>
                    <a:pt x="37" y="156"/>
                  </a:lnTo>
                  <a:lnTo>
                    <a:pt x="33" y="148"/>
                  </a:lnTo>
                  <a:lnTo>
                    <a:pt x="36" y="143"/>
                  </a:lnTo>
                  <a:lnTo>
                    <a:pt x="36" y="139"/>
                  </a:lnTo>
                  <a:lnTo>
                    <a:pt x="40" y="130"/>
                  </a:lnTo>
                  <a:lnTo>
                    <a:pt x="36" y="125"/>
                  </a:lnTo>
                  <a:lnTo>
                    <a:pt x="39" y="122"/>
                  </a:lnTo>
                  <a:lnTo>
                    <a:pt x="39" y="117"/>
                  </a:lnTo>
                  <a:lnTo>
                    <a:pt x="40" y="114"/>
                  </a:lnTo>
                  <a:lnTo>
                    <a:pt x="41" y="112"/>
                  </a:lnTo>
                  <a:lnTo>
                    <a:pt x="41" y="104"/>
                  </a:lnTo>
                  <a:lnTo>
                    <a:pt x="45" y="102"/>
                  </a:lnTo>
                  <a:lnTo>
                    <a:pt x="44" y="96"/>
                  </a:lnTo>
                  <a:lnTo>
                    <a:pt x="44" y="95"/>
                  </a:lnTo>
                  <a:lnTo>
                    <a:pt x="46" y="94"/>
                  </a:lnTo>
                  <a:lnTo>
                    <a:pt x="48" y="94"/>
                  </a:lnTo>
                  <a:lnTo>
                    <a:pt x="46" y="90"/>
                  </a:lnTo>
                  <a:lnTo>
                    <a:pt x="45" y="87"/>
                  </a:lnTo>
                  <a:lnTo>
                    <a:pt x="42" y="86"/>
                  </a:lnTo>
                  <a:lnTo>
                    <a:pt x="49" y="78"/>
                  </a:lnTo>
                  <a:lnTo>
                    <a:pt x="49" y="77"/>
                  </a:lnTo>
                  <a:lnTo>
                    <a:pt x="48" y="74"/>
                  </a:lnTo>
                  <a:lnTo>
                    <a:pt x="49" y="70"/>
                  </a:lnTo>
                  <a:lnTo>
                    <a:pt x="52" y="65"/>
                  </a:lnTo>
                  <a:lnTo>
                    <a:pt x="49" y="64"/>
                  </a:lnTo>
                  <a:lnTo>
                    <a:pt x="49" y="60"/>
                  </a:lnTo>
                  <a:lnTo>
                    <a:pt x="52" y="57"/>
                  </a:lnTo>
                  <a:lnTo>
                    <a:pt x="52" y="55"/>
                  </a:lnTo>
                  <a:lnTo>
                    <a:pt x="52" y="50"/>
                  </a:lnTo>
                  <a:lnTo>
                    <a:pt x="52" y="48"/>
                  </a:lnTo>
                  <a:lnTo>
                    <a:pt x="53" y="46"/>
                  </a:lnTo>
                  <a:lnTo>
                    <a:pt x="52" y="42"/>
                  </a:lnTo>
                  <a:lnTo>
                    <a:pt x="52" y="41"/>
                  </a:lnTo>
                  <a:lnTo>
                    <a:pt x="55" y="37"/>
                  </a:lnTo>
                  <a:lnTo>
                    <a:pt x="53" y="31"/>
                  </a:lnTo>
                  <a:lnTo>
                    <a:pt x="57" y="26"/>
                  </a:lnTo>
                  <a:lnTo>
                    <a:pt x="62" y="21"/>
                  </a:lnTo>
                  <a:lnTo>
                    <a:pt x="62" y="17"/>
                  </a:lnTo>
                  <a:lnTo>
                    <a:pt x="63" y="16"/>
                  </a:lnTo>
                  <a:lnTo>
                    <a:pt x="65" y="13"/>
                  </a:lnTo>
                  <a:lnTo>
                    <a:pt x="66" y="12"/>
                  </a:lnTo>
                  <a:lnTo>
                    <a:pt x="67" y="12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9" y="5"/>
                  </a:lnTo>
                  <a:lnTo>
                    <a:pt x="61" y="7"/>
                  </a:lnTo>
                  <a:lnTo>
                    <a:pt x="61" y="9"/>
                  </a:lnTo>
                  <a:lnTo>
                    <a:pt x="61" y="11"/>
                  </a:lnTo>
                  <a:lnTo>
                    <a:pt x="59" y="11"/>
                  </a:lnTo>
                  <a:lnTo>
                    <a:pt x="58" y="11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8" y="7"/>
                  </a:lnTo>
                  <a:lnTo>
                    <a:pt x="59" y="5"/>
                  </a:lnTo>
                  <a:lnTo>
                    <a:pt x="61" y="4"/>
                  </a:lnTo>
                  <a:lnTo>
                    <a:pt x="49" y="0"/>
                  </a:lnTo>
                  <a:lnTo>
                    <a:pt x="49" y="7"/>
                  </a:lnTo>
                  <a:lnTo>
                    <a:pt x="44" y="7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39" y="5"/>
                  </a:lnTo>
                  <a:lnTo>
                    <a:pt x="37" y="8"/>
                  </a:lnTo>
                  <a:lnTo>
                    <a:pt x="39" y="12"/>
                  </a:lnTo>
                  <a:lnTo>
                    <a:pt x="40" y="16"/>
                  </a:lnTo>
                  <a:lnTo>
                    <a:pt x="41" y="18"/>
                  </a:lnTo>
                  <a:lnTo>
                    <a:pt x="42" y="20"/>
                  </a:lnTo>
                  <a:lnTo>
                    <a:pt x="39" y="22"/>
                  </a:lnTo>
                  <a:lnTo>
                    <a:pt x="39" y="31"/>
                  </a:lnTo>
                  <a:lnTo>
                    <a:pt x="36" y="31"/>
                  </a:lnTo>
                  <a:lnTo>
                    <a:pt x="36" y="34"/>
                  </a:lnTo>
                  <a:lnTo>
                    <a:pt x="36" y="37"/>
                  </a:lnTo>
                  <a:lnTo>
                    <a:pt x="35" y="41"/>
                  </a:lnTo>
                  <a:lnTo>
                    <a:pt x="33" y="43"/>
                  </a:lnTo>
                  <a:lnTo>
                    <a:pt x="28" y="46"/>
                  </a:lnTo>
                  <a:lnTo>
                    <a:pt x="29" y="52"/>
                  </a:lnTo>
                  <a:lnTo>
                    <a:pt x="23" y="57"/>
                  </a:lnTo>
                  <a:lnTo>
                    <a:pt x="24" y="65"/>
                  </a:lnTo>
                  <a:lnTo>
                    <a:pt x="20" y="73"/>
                  </a:lnTo>
                  <a:lnTo>
                    <a:pt x="22" y="77"/>
                  </a:lnTo>
                  <a:lnTo>
                    <a:pt x="18" y="86"/>
                  </a:lnTo>
                  <a:lnTo>
                    <a:pt x="19" y="92"/>
                  </a:lnTo>
                  <a:lnTo>
                    <a:pt x="13" y="102"/>
                  </a:lnTo>
                  <a:lnTo>
                    <a:pt x="15" y="105"/>
                  </a:lnTo>
                  <a:lnTo>
                    <a:pt x="13" y="107"/>
                  </a:lnTo>
                  <a:lnTo>
                    <a:pt x="11" y="109"/>
                  </a:lnTo>
                  <a:lnTo>
                    <a:pt x="13" y="117"/>
                  </a:lnTo>
                  <a:lnTo>
                    <a:pt x="13" y="120"/>
                  </a:lnTo>
                  <a:lnTo>
                    <a:pt x="7" y="125"/>
                  </a:lnTo>
                  <a:lnTo>
                    <a:pt x="9" y="130"/>
                  </a:lnTo>
                  <a:lnTo>
                    <a:pt x="7" y="133"/>
                  </a:lnTo>
                  <a:lnTo>
                    <a:pt x="6" y="134"/>
                  </a:lnTo>
                  <a:lnTo>
                    <a:pt x="5" y="138"/>
                  </a:lnTo>
                  <a:lnTo>
                    <a:pt x="7" y="138"/>
                  </a:lnTo>
                  <a:lnTo>
                    <a:pt x="5" y="143"/>
                  </a:lnTo>
                  <a:lnTo>
                    <a:pt x="5" y="147"/>
                  </a:lnTo>
                  <a:lnTo>
                    <a:pt x="5" y="153"/>
                  </a:lnTo>
                  <a:lnTo>
                    <a:pt x="2" y="153"/>
                  </a:lnTo>
                  <a:lnTo>
                    <a:pt x="4" y="161"/>
                  </a:lnTo>
                  <a:lnTo>
                    <a:pt x="0" y="164"/>
                  </a:lnTo>
                  <a:lnTo>
                    <a:pt x="33" y="169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59720" y="3554640"/>
              <a:ext cx="127080" cy="207720"/>
            </a:xfrm>
            <a:custGeom>
              <a:avLst/>
              <a:gdLst/>
              <a:ahLst/>
              <a:rect l="l" t="t" r="r" b="b"/>
              <a:pathLst>
                <a:path w="80" h="131">
                  <a:moveTo>
                    <a:pt x="17" y="130"/>
                  </a:moveTo>
                  <a:lnTo>
                    <a:pt x="21" y="131"/>
                  </a:lnTo>
                  <a:lnTo>
                    <a:pt x="23" y="130"/>
                  </a:lnTo>
                  <a:lnTo>
                    <a:pt x="23" y="128"/>
                  </a:lnTo>
                  <a:lnTo>
                    <a:pt x="24" y="125"/>
                  </a:lnTo>
                  <a:lnTo>
                    <a:pt x="24" y="124"/>
                  </a:lnTo>
                  <a:lnTo>
                    <a:pt x="23" y="121"/>
                  </a:lnTo>
                  <a:lnTo>
                    <a:pt x="23" y="117"/>
                  </a:lnTo>
                  <a:lnTo>
                    <a:pt x="24" y="115"/>
                  </a:lnTo>
                  <a:lnTo>
                    <a:pt x="26" y="113"/>
                  </a:lnTo>
                  <a:lnTo>
                    <a:pt x="27" y="112"/>
                  </a:lnTo>
                  <a:lnTo>
                    <a:pt x="28" y="111"/>
                  </a:lnTo>
                  <a:lnTo>
                    <a:pt x="31" y="111"/>
                  </a:lnTo>
                  <a:lnTo>
                    <a:pt x="32" y="103"/>
                  </a:lnTo>
                  <a:lnTo>
                    <a:pt x="27" y="103"/>
                  </a:lnTo>
                  <a:lnTo>
                    <a:pt x="28" y="102"/>
                  </a:lnTo>
                  <a:lnTo>
                    <a:pt x="30" y="99"/>
                  </a:lnTo>
                  <a:lnTo>
                    <a:pt x="30" y="96"/>
                  </a:lnTo>
                  <a:lnTo>
                    <a:pt x="30" y="94"/>
                  </a:lnTo>
                  <a:lnTo>
                    <a:pt x="31" y="93"/>
                  </a:lnTo>
                  <a:lnTo>
                    <a:pt x="32" y="93"/>
                  </a:lnTo>
                  <a:lnTo>
                    <a:pt x="35" y="91"/>
                  </a:lnTo>
                  <a:lnTo>
                    <a:pt x="36" y="91"/>
                  </a:lnTo>
                  <a:lnTo>
                    <a:pt x="35" y="85"/>
                  </a:lnTo>
                  <a:lnTo>
                    <a:pt x="40" y="81"/>
                  </a:lnTo>
                  <a:lnTo>
                    <a:pt x="40" y="73"/>
                  </a:lnTo>
                  <a:lnTo>
                    <a:pt x="43" y="69"/>
                  </a:lnTo>
                  <a:lnTo>
                    <a:pt x="40" y="68"/>
                  </a:lnTo>
                  <a:lnTo>
                    <a:pt x="41" y="65"/>
                  </a:lnTo>
                  <a:lnTo>
                    <a:pt x="43" y="63"/>
                  </a:lnTo>
                  <a:lnTo>
                    <a:pt x="43" y="61"/>
                  </a:lnTo>
                  <a:lnTo>
                    <a:pt x="41" y="60"/>
                  </a:lnTo>
                  <a:lnTo>
                    <a:pt x="44" y="57"/>
                  </a:lnTo>
                  <a:lnTo>
                    <a:pt x="45" y="57"/>
                  </a:lnTo>
                  <a:lnTo>
                    <a:pt x="48" y="57"/>
                  </a:lnTo>
                  <a:lnTo>
                    <a:pt x="48" y="56"/>
                  </a:lnTo>
                  <a:lnTo>
                    <a:pt x="48" y="54"/>
                  </a:lnTo>
                  <a:lnTo>
                    <a:pt x="50" y="51"/>
                  </a:lnTo>
                  <a:lnTo>
                    <a:pt x="53" y="50"/>
                  </a:lnTo>
                  <a:lnTo>
                    <a:pt x="53" y="45"/>
                  </a:lnTo>
                  <a:lnTo>
                    <a:pt x="61" y="38"/>
                  </a:lnTo>
                  <a:lnTo>
                    <a:pt x="61" y="32"/>
                  </a:lnTo>
                  <a:lnTo>
                    <a:pt x="66" y="28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9" y="19"/>
                  </a:lnTo>
                  <a:lnTo>
                    <a:pt x="69" y="15"/>
                  </a:lnTo>
                  <a:lnTo>
                    <a:pt x="70" y="15"/>
                  </a:lnTo>
                  <a:lnTo>
                    <a:pt x="71" y="13"/>
                  </a:lnTo>
                  <a:lnTo>
                    <a:pt x="74" y="13"/>
                  </a:lnTo>
                  <a:lnTo>
                    <a:pt x="74" y="11"/>
                  </a:lnTo>
                  <a:lnTo>
                    <a:pt x="75" y="8"/>
                  </a:lnTo>
                  <a:lnTo>
                    <a:pt x="76" y="6"/>
                  </a:lnTo>
                  <a:lnTo>
                    <a:pt x="79" y="4"/>
                  </a:lnTo>
                  <a:lnTo>
                    <a:pt x="80" y="0"/>
                  </a:lnTo>
                  <a:lnTo>
                    <a:pt x="78" y="2"/>
                  </a:lnTo>
                  <a:lnTo>
                    <a:pt x="75" y="3"/>
                  </a:lnTo>
                  <a:lnTo>
                    <a:pt x="74" y="6"/>
                  </a:lnTo>
                  <a:lnTo>
                    <a:pt x="74" y="7"/>
                  </a:lnTo>
                  <a:lnTo>
                    <a:pt x="69" y="7"/>
                  </a:lnTo>
                  <a:lnTo>
                    <a:pt x="66" y="13"/>
                  </a:lnTo>
                  <a:lnTo>
                    <a:pt x="63" y="13"/>
                  </a:lnTo>
                  <a:lnTo>
                    <a:pt x="62" y="17"/>
                  </a:lnTo>
                  <a:lnTo>
                    <a:pt x="63" y="19"/>
                  </a:lnTo>
                  <a:lnTo>
                    <a:pt x="58" y="24"/>
                  </a:lnTo>
                  <a:lnTo>
                    <a:pt x="58" y="25"/>
                  </a:lnTo>
                  <a:lnTo>
                    <a:pt x="60" y="26"/>
                  </a:lnTo>
                  <a:lnTo>
                    <a:pt x="58" y="26"/>
                  </a:lnTo>
                  <a:lnTo>
                    <a:pt x="52" y="29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7" y="37"/>
                  </a:lnTo>
                  <a:lnTo>
                    <a:pt x="45" y="38"/>
                  </a:lnTo>
                  <a:lnTo>
                    <a:pt x="45" y="42"/>
                  </a:lnTo>
                  <a:lnTo>
                    <a:pt x="41" y="45"/>
                  </a:lnTo>
                  <a:lnTo>
                    <a:pt x="39" y="46"/>
                  </a:lnTo>
                  <a:lnTo>
                    <a:pt x="37" y="48"/>
                  </a:lnTo>
                  <a:lnTo>
                    <a:pt x="35" y="52"/>
                  </a:lnTo>
                  <a:lnTo>
                    <a:pt x="35" y="55"/>
                  </a:lnTo>
                  <a:lnTo>
                    <a:pt x="35" y="57"/>
                  </a:lnTo>
                  <a:lnTo>
                    <a:pt x="28" y="63"/>
                  </a:lnTo>
                  <a:lnTo>
                    <a:pt x="28" y="70"/>
                  </a:lnTo>
                  <a:lnTo>
                    <a:pt x="26" y="72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19" y="83"/>
                  </a:lnTo>
                  <a:lnTo>
                    <a:pt x="19" y="85"/>
                  </a:lnTo>
                  <a:lnTo>
                    <a:pt x="15" y="89"/>
                  </a:lnTo>
                  <a:lnTo>
                    <a:pt x="13" y="95"/>
                  </a:lnTo>
                  <a:lnTo>
                    <a:pt x="9" y="98"/>
                  </a:lnTo>
                  <a:lnTo>
                    <a:pt x="9" y="102"/>
                  </a:lnTo>
                  <a:lnTo>
                    <a:pt x="10" y="99"/>
                  </a:lnTo>
                  <a:lnTo>
                    <a:pt x="13" y="102"/>
                  </a:lnTo>
                  <a:lnTo>
                    <a:pt x="11" y="104"/>
                  </a:lnTo>
                  <a:lnTo>
                    <a:pt x="10" y="108"/>
                  </a:lnTo>
                  <a:lnTo>
                    <a:pt x="8" y="104"/>
                  </a:lnTo>
                  <a:lnTo>
                    <a:pt x="5" y="106"/>
                  </a:lnTo>
                  <a:lnTo>
                    <a:pt x="5" y="112"/>
                  </a:lnTo>
                  <a:lnTo>
                    <a:pt x="4" y="113"/>
                  </a:lnTo>
                  <a:lnTo>
                    <a:pt x="2" y="115"/>
                  </a:lnTo>
                  <a:lnTo>
                    <a:pt x="1" y="115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5" y="126"/>
                  </a:lnTo>
                  <a:lnTo>
                    <a:pt x="17" y="13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691480" y="353844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1"/>
                  </a:moveTo>
                  <a:lnTo>
                    <a:pt x="0" y="6"/>
                  </a:lnTo>
                  <a:lnTo>
                    <a:pt x="6" y="4"/>
                  </a:lnTo>
                  <a:lnTo>
                    <a:pt x="4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3399"/>
            </a:solidFill>
            <a:ln w="0">
              <a:solidFill>
                <a:srgbClr val="b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76320" y="500076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Class interv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2400" y="5429160"/>
            <a:ext cx="81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class inter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obtained by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subtracting the lower limit</a:t>
            </a:r>
            <a:r>
              <a:rPr b="1" lang="en-US" sz="2400" spc="-1" strike="noStrike">
                <a:solidFill>
                  <a:srgbClr val="6a789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a class</a:t>
            </a:r>
            <a:r>
              <a:rPr b="1" lang="en-US" sz="2400" spc="-1" strike="noStrike">
                <a:solidFill>
                  <a:srgbClr val="6a789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from the lower limit of the next 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4440" y="2492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972040" y="2505240"/>
            <a:ext cx="1675800" cy="419040"/>
            <a:chOff x="5972040" y="2505240"/>
            <a:chExt cx="1675800" cy="419040"/>
          </a:xfrm>
        </p:grpSpPr>
        <p:sp>
          <p:nvSpPr>
            <p:cNvPr id="147" name=""/>
            <p:cNvSpPr/>
            <p:nvPr/>
          </p:nvSpPr>
          <p:spPr>
            <a:xfrm>
              <a:off x="6010920" y="2897280"/>
              <a:ext cx="1636920" cy="0"/>
            </a:xfrm>
            <a:prstGeom prst="line">
              <a:avLst/>
            </a:prstGeom>
            <a:ln w="76320">
              <a:solidFill>
                <a:srgbClr val="008000">
                  <a:alpha val="50000"/>
                </a:srgbClr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72040" y="2505240"/>
              <a:ext cx="0" cy="419040"/>
            </a:xfrm>
            <a:prstGeom prst="line">
              <a:avLst/>
            </a:prstGeom>
            <a:ln w="76320">
              <a:solidFill>
                <a:srgbClr val="008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 flipH="1">
            <a:off x="5028840" y="2457360"/>
            <a:ext cx="1733400" cy="19080"/>
          </a:xfrm>
          <a:prstGeom prst="line">
            <a:avLst/>
          </a:prstGeom>
          <a:ln w="76320">
            <a:solidFill>
              <a:srgbClr val="0000ff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34040" y="2681280"/>
            <a:ext cx="76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1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2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2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3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362640" y="6305400"/>
            <a:ext cx="2648160" cy="304920"/>
            <a:chOff x="6362640" y="6305400"/>
            <a:chExt cx="2648160" cy="304920"/>
          </a:xfrm>
        </p:grpSpPr>
        <p:sp>
          <p:nvSpPr>
            <p:cNvPr id="152" name=""/>
            <p:cNvSpPr/>
            <p:nvPr/>
          </p:nvSpPr>
          <p:spPr>
            <a:xfrm>
              <a:off x="6362640" y="6477120"/>
              <a:ext cx="26481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6667560" y="6305400"/>
              <a:ext cx="203832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EXAMPLE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strips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7" name=""/>
          <p:cNvGrpSpPr/>
          <p:nvPr/>
        </p:nvGrpSpPr>
        <p:grpSpPr>
          <a:xfrm>
            <a:off x="1790640" y="2867040"/>
            <a:ext cx="5584680" cy="1971720"/>
            <a:chOff x="1790640" y="2867040"/>
            <a:chExt cx="5584680" cy="1971720"/>
          </a:xfrm>
        </p:grpSpPr>
        <p:sp>
          <p:nvSpPr>
            <p:cNvPr id="2028" name=""/>
            <p:cNvSpPr/>
            <p:nvPr/>
          </p:nvSpPr>
          <p:spPr>
            <a:xfrm>
              <a:off x="1790640" y="2867040"/>
              <a:ext cx="5558760" cy="1959840"/>
            </a:xfrm>
            <a:custGeom>
              <a:avLst/>
              <a:gdLst/>
              <a:ahLst/>
              <a:rect l="l" t="t" r="r" b="b"/>
              <a:pathLst>
                <a:path w="3606" h="1878">
                  <a:moveTo>
                    <a:pt x="3606" y="1878"/>
                  </a:moveTo>
                  <a:lnTo>
                    <a:pt x="3606" y="0"/>
                  </a:lnTo>
                  <a:lnTo>
                    <a:pt x="0" y="0"/>
                  </a:lnTo>
                  <a:lnTo>
                    <a:pt x="0" y="1872"/>
                  </a:lnTo>
                  <a:lnTo>
                    <a:pt x="3606" y="1878"/>
                  </a:lnTo>
                  <a:close/>
                </a:path>
              </a:pathLst>
            </a:custGeom>
            <a:solidFill>
              <a:srgbClr val="e9e9e9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293200" y="2867040"/>
              <a:ext cx="2880" cy="197172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786760" y="2867040"/>
              <a:ext cx="0" cy="197172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289320" y="2867040"/>
              <a:ext cx="0" cy="197172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788280" y="2867040"/>
              <a:ext cx="0" cy="197172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280400" y="2867040"/>
              <a:ext cx="3240" cy="197172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784760" y="2867040"/>
              <a:ext cx="0" cy="197172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276880" y="2867040"/>
              <a:ext cx="0" cy="197172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779440" y="2867040"/>
              <a:ext cx="3240" cy="197172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280200" y="2867040"/>
              <a:ext cx="3240" cy="197172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772320" y="2867040"/>
              <a:ext cx="0" cy="197172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V="1">
              <a:off x="1790640" y="3200760"/>
              <a:ext cx="5558760" cy="82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790640" y="3556440"/>
              <a:ext cx="5558760" cy="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790640" y="3896640"/>
              <a:ext cx="5584680" cy="108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790640" y="4238280"/>
              <a:ext cx="5545080" cy="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790640" y="4578840"/>
              <a:ext cx="5545080" cy="1800"/>
            </a:xfrm>
            <a:prstGeom prst="line">
              <a:avLst/>
            </a:prstGeom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4" name=""/>
          <p:cNvGrpSpPr/>
          <p:nvPr/>
        </p:nvGrpSpPr>
        <p:grpSpPr>
          <a:xfrm>
            <a:off x="3405240" y="88920"/>
            <a:ext cx="2334600" cy="1467000"/>
            <a:chOff x="3405240" y="88920"/>
            <a:chExt cx="2334600" cy="1467000"/>
          </a:xfrm>
        </p:grpSpPr>
        <p:sp>
          <p:nvSpPr>
            <p:cNvPr id="2045" name=""/>
            <p:cNvSpPr/>
            <p:nvPr/>
          </p:nvSpPr>
          <p:spPr>
            <a:xfrm>
              <a:off x="4497120" y="852480"/>
              <a:ext cx="124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3366"/>
                  </a:solidFill>
                  <a:latin typeface="Times New Roman"/>
                </a:rPr>
                <a:t>Clas</a:t>
              </a:r>
              <a:r>
                <a:rPr b="1" lang="en-US" sz="4000" spc="-1" strike="noStrike">
                  <a:solidFill>
                    <a:srgbClr val="993366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405240" y="88920"/>
              <a:ext cx="1722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oda</a:t>
              </a:r>
              <a:r>
                <a:rPr b="1" lang="en-US" sz="7200" spc="-1" strike="noStrike">
                  <a:solidFill>
                    <a:srgbClr val="993366"/>
                  </a:solidFill>
                  <a:latin typeface="Times New Roman"/>
                </a:rPr>
                <a:t>l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7" name=""/>
          <p:cNvSpPr/>
          <p:nvPr/>
        </p:nvSpPr>
        <p:spPr>
          <a:xfrm>
            <a:off x="3450240" y="1938240"/>
            <a:ext cx="2347920" cy="82512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bi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8" name=""/>
          <p:cNvGrpSpPr/>
          <p:nvPr/>
        </p:nvGrpSpPr>
        <p:grpSpPr>
          <a:xfrm>
            <a:off x="1838160" y="3324240"/>
            <a:ext cx="5491080" cy="1514520"/>
            <a:chOff x="1838160" y="3324240"/>
            <a:chExt cx="5491080" cy="1514520"/>
          </a:xfrm>
        </p:grpSpPr>
        <p:sp>
          <p:nvSpPr>
            <p:cNvPr id="2049" name=""/>
            <p:cNvSpPr/>
            <p:nvPr/>
          </p:nvSpPr>
          <p:spPr>
            <a:xfrm>
              <a:off x="1838160" y="3760920"/>
              <a:ext cx="336600" cy="10573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174760" y="3324240"/>
              <a:ext cx="335160" cy="1494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846520" y="3451320"/>
              <a:ext cx="334800" cy="13669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181320" y="3451320"/>
              <a:ext cx="336600" cy="13669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517920" y="3575160"/>
              <a:ext cx="333360" cy="1243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851280" y="3886200"/>
              <a:ext cx="336600" cy="9320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H="1">
              <a:off x="6993720" y="3776760"/>
              <a:ext cx="335160" cy="10573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H="1">
              <a:off x="6657120" y="3340080"/>
              <a:ext cx="336600" cy="1494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H="1">
              <a:off x="5985720" y="3467160"/>
              <a:ext cx="336600" cy="13669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H="1">
              <a:off x="5651640" y="3467160"/>
              <a:ext cx="334800" cy="13669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 flipH="1">
              <a:off x="5314320" y="3591000"/>
              <a:ext cx="336600" cy="1243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H="1">
              <a:off x="4979160" y="3902040"/>
              <a:ext cx="335160" cy="9320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H="1">
              <a:off x="4613400" y="4435560"/>
              <a:ext cx="366480" cy="403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H="1">
              <a:off x="4239360" y="4608360"/>
              <a:ext cx="366840" cy="225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3" name=""/>
          <p:cNvSpPr/>
          <p:nvPr/>
        </p:nvSpPr>
        <p:spPr>
          <a:xfrm>
            <a:off x="2192400" y="5396040"/>
            <a:ext cx="48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al 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4" name=""/>
          <p:cNvGrpSpPr/>
          <p:nvPr/>
        </p:nvGrpSpPr>
        <p:grpSpPr>
          <a:xfrm>
            <a:off x="2509920" y="3139920"/>
            <a:ext cx="4147920" cy="2346120"/>
            <a:chOff x="2509920" y="3139920"/>
            <a:chExt cx="4147920" cy="2346120"/>
          </a:xfrm>
        </p:grpSpPr>
        <p:grpSp>
          <p:nvGrpSpPr>
            <p:cNvPr id="2065" name=""/>
            <p:cNvGrpSpPr/>
            <p:nvPr/>
          </p:nvGrpSpPr>
          <p:grpSpPr>
            <a:xfrm>
              <a:off x="2629080" y="4686480"/>
              <a:ext cx="3904920" cy="399600"/>
              <a:chOff x="2629080" y="4686480"/>
              <a:chExt cx="3904920" cy="399600"/>
            </a:xfrm>
          </p:grpSpPr>
          <p:sp>
            <p:nvSpPr>
              <p:cNvPr id="2066" name=""/>
              <p:cNvSpPr/>
              <p:nvPr/>
            </p:nvSpPr>
            <p:spPr>
              <a:xfrm>
                <a:off x="2629080" y="5081040"/>
                <a:ext cx="3904920" cy="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V="1">
                <a:off x="2657520" y="4686480"/>
                <a:ext cx="0" cy="3945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V="1">
                <a:off x="6505560" y="4686480"/>
                <a:ext cx="0" cy="3945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9" name=""/>
            <p:cNvSpPr/>
            <p:nvPr/>
          </p:nvSpPr>
          <p:spPr>
            <a:xfrm>
              <a:off x="2509920" y="3139920"/>
              <a:ext cx="336600" cy="16783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efefe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H="1">
              <a:off x="6323040" y="3156120"/>
              <a:ext cx="334800" cy="16779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efefe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V="1">
              <a:off x="4611600" y="5057280"/>
              <a:ext cx="0" cy="428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1946" dur="indefinite" restart="never" nodeType="tmRoot">
          <p:childTnLst>
            <p:seq>
              <p:cTn id="1947" dur="indefinite" nodeType="mainSeq">
                <p:childTnLst>
                  <p:par>
                    <p:cTn id="1948" fill="hold">
                      <p:stCondLst>
                        <p:cond delay="0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2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3" fill="hold">
                            <p:stCondLst>
                              <p:cond delay="500"/>
                            </p:stCondLst>
                            <p:childTnLst>
                              <p:par>
                                <p:cTn id="195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56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3" dur="5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"/>
          <p:cNvSpPr/>
          <p:nvPr/>
        </p:nvSpPr>
        <p:spPr>
          <a:xfrm>
            <a:off x="0" y="16686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pulation distributions are often bell shaped.      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rawing a histogram                                                                                            helps verify the shape of the population in ques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 txBox="1"/>
          <p:nvPr/>
        </p:nvSpPr>
        <p:spPr>
          <a:xfrm>
            <a:off x="3340080" y="0"/>
            <a:ext cx="2543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69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eac5"/>
                    </a:gs>
                    <a:gs pos="100000">
                      <a:srgbClr val="ff6600"/>
                    </a:gs>
                  </a:gsLst>
                  <a:lin ang="10800000"/>
                </a:gradFill>
                <a:latin typeface="Cooper Black"/>
              </a:rPr>
              <a:t>Bell Cur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eac5"/>
                  </a:gs>
                  <a:gs pos="100000">
                    <a:srgbClr val="ff6600"/>
                  </a:gs>
                </a:gsLst>
                <a:lin ang="10800000"/>
              </a:gradFill>
              <a:latin typeface="Cooper Black"/>
              <a:ea typeface="Cooper Black"/>
            </a:endParaRPr>
          </a:p>
        </p:txBody>
      </p:sp>
      <p:grpSp>
        <p:nvGrpSpPr>
          <p:cNvPr id="2074" name=""/>
          <p:cNvGrpSpPr/>
          <p:nvPr/>
        </p:nvGrpSpPr>
        <p:grpSpPr>
          <a:xfrm>
            <a:off x="1463400" y="3325680"/>
            <a:ext cx="6382080" cy="2714760"/>
            <a:chOff x="1463400" y="3325680"/>
            <a:chExt cx="6382080" cy="2714760"/>
          </a:xfrm>
        </p:grpSpPr>
        <p:sp>
          <p:nvSpPr>
            <p:cNvPr id="2075" name=""/>
            <p:cNvSpPr/>
            <p:nvPr/>
          </p:nvSpPr>
          <p:spPr>
            <a:xfrm flipH="1">
              <a:off x="1463040" y="5718240"/>
              <a:ext cx="571320" cy="2937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1853280" y="5594400"/>
              <a:ext cx="543240" cy="4366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H="1">
              <a:off x="5689440" y="4437000"/>
              <a:ext cx="549360" cy="16034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4089240" y="3325680"/>
              <a:ext cx="549360" cy="27147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5174640" y="3747960"/>
              <a:ext cx="549000" cy="22924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4649760" y="3530520"/>
              <a:ext cx="549360" cy="25099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H="1">
              <a:off x="3544920" y="3700440"/>
              <a:ext cx="549360" cy="2340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2997000" y="4270320"/>
              <a:ext cx="547920" cy="1770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H="1">
              <a:off x="2397240" y="5286240"/>
              <a:ext cx="599760" cy="750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>
              <a:off x="6241320" y="5208480"/>
              <a:ext cx="492120" cy="831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6730920" y="5603760"/>
              <a:ext cx="542880" cy="4366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H="1">
              <a:off x="7273800" y="5746680"/>
              <a:ext cx="571680" cy="2937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00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7" name=""/>
          <p:cNvSpPr/>
          <p:nvPr/>
        </p:nvSpPr>
        <p:spPr>
          <a:xfrm>
            <a:off x="4411800" y="3362400"/>
            <a:ext cx="3423960" cy="2454120"/>
          </a:xfrm>
          <a:custGeom>
            <a:avLst/>
            <a:gdLst/>
            <a:ahLst/>
            <a:rect l="l" t="t" r="r" b="b"/>
            <a:pathLst>
              <a:path w="1899" h="1701">
                <a:moveTo>
                  <a:pt x="0" y="0"/>
                </a:moveTo>
                <a:lnTo>
                  <a:pt x="8" y="0"/>
                </a:lnTo>
                <a:lnTo>
                  <a:pt x="13" y="2"/>
                </a:lnTo>
                <a:lnTo>
                  <a:pt x="21" y="3"/>
                </a:lnTo>
                <a:lnTo>
                  <a:pt x="27" y="3"/>
                </a:lnTo>
                <a:lnTo>
                  <a:pt x="42" y="6"/>
                </a:lnTo>
                <a:lnTo>
                  <a:pt x="48" y="9"/>
                </a:lnTo>
                <a:lnTo>
                  <a:pt x="63" y="12"/>
                </a:lnTo>
                <a:lnTo>
                  <a:pt x="79" y="18"/>
                </a:lnTo>
                <a:lnTo>
                  <a:pt x="86" y="20"/>
                </a:lnTo>
                <a:lnTo>
                  <a:pt x="102" y="26"/>
                </a:lnTo>
                <a:lnTo>
                  <a:pt x="109" y="31"/>
                </a:lnTo>
                <a:lnTo>
                  <a:pt x="125" y="37"/>
                </a:lnTo>
                <a:lnTo>
                  <a:pt x="133" y="41"/>
                </a:lnTo>
                <a:lnTo>
                  <a:pt x="142" y="46"/>
                </a:lnTo>
                <a:lnTo>
                  <a:pt x="150" y="49"/>
                </a:lnTo>
                <a:lnTo>
                  <a:pt x="165" y="58"/>
                </a:lnTo>
                <a:lnTo>
                  <a:pt x="175" y="63"/>
                </a:lnTo>
                <a:lnTo>
                  <a:pt x="182" y="69"/>
                </a:lnTo>
                <a:lnTo>
                  <a:pt x="192" y="73"/>
                </a:lnTo>
                <a:lnTo>
                  <a:pt x="200" y="80"/>
                </a:lnTo>
                <a:lnTo>
                  <a:pt x="209" y="84"/>
                </a:lnTo>
                <a:lnTo>
                  <a:pt x="217" y="90"/>
                </a:lnTo>
                <a:lnTo>
                  <a:pt x="236" y="102"/>
                </a:lnTo>
                <a:lnTo>
                  <a:pt x="244" y="109"/>
                </a:lnTo>
                <a:lnTo>
                  <a:pt x="254" y="116"/>
                </a:lnTo>
                <a:lnTo>
                  <a:pt x="263" y="122"/>
                </a:lnTo>
                <a:lnTo>
                  <a:pt x="271" y="130"/>
                </a:lnTo>
                <a:lnTo>
                  <a:pt x="280" y="136"/>
                </a:lnTo>
                <a:lnTo>
                  <a:pt x="300" y="151"/>
                </a:lnTo>
                <a:lnTo>
                  <a:pt x="319" y="167"/>
                </a:lnTo>
                <a:lnTo>
                  <a:pt x="328" y="174"/>
                </a:lnTo>
                <a:lnTo>
                  <a:pt x="338" y="183"/>
                </a:lnTo>
                <a:lnTo>
                  <a:pt x="348" y="191"/>
                </a:lnTo>
                <a:lnTo>
                  <a:pt x="357" y="200"/>
                </a:lnTo>
                <a:lnTo>
                  <a:pt x="369" y="209"/>
                </a:lnTo>
                <a:lnTo>
                  <a:pt x="388" y="228"/>
                </a:lnTo>
                <a:lnTo>
                  <a:pt x="394" y="232"/>
                </a:lnTo>
                <a:lnTo>
                  <a:pt x="403" y="241"/>
                </a:lnTo>
                <a:lnTo>
                  <a:pt x="415" y="252"/>
                </a:lnTo>
                <a:lnTo>
                  <a:pt x="424" y="261"/>
                </a:lnTo>
                <a:lnTo>
                  <a:pt x="436" y="272"/>
                </a:lnTo>
                <a:lnTo>
                  <a:pt x="446" y="281"/>
                </a:lnTo>
                <a:lnTo>
                  <a:pt x="457" y="292"/>
                </a:lnTo>
                <a:lnTo>
                  <a:pt x="467" y="302"/>
                </a:lnTo>
                <a:lnTo>
                  <a:pt x="478" y="313"/>
                </a:lnTo>
                <a:lnTo>
                  <a:pt x="488" y="324"/>
                </a:lnTo>
                <a:lnTo>
                  <a:pt x="499" y="336"/>
                </a:lnTo>
                <a:lnTo>
                  <a:pt x="511" y="347"/>
                </a:lnTo>
                <a:lnTo>
                  <a:pt x="520" y="359"/>
                </a:lnTo>
                <a:lnTo>
                  <a:pt x="532" y="371"/>
                </a:lnTo>
                <a:lnTo>
                  <a:pt x="543" y="382"/>
                </a:lnTo>
                <a:lnTo>
                  <a:pt x="567" y="406"/>
                </a:lnTo>
                <a:lnTo>
                  <a:pt x="578" y="420"/>
                </a:lnTo>
                <a:lnTo>
                  <a:pt x="601" y="444"/>
                </a:lnTo>
                <a:lnTo>
                  <a:pt x="624" y="472"/>
                </a:lnTo>
                <a:lnTo>
                  <a:pt x="636" y="484"/>
                </a:lnTo>
                <a:lnTo>
                  <a:pt x="647" y="498"/>
                </a:lnTo>
                <a:lnTo>
                  <a:pt x="661" y="512"/>
                </a:lnTo>
                <a:lnTo>
                  <a:pt x="672" y="527"/>
                </a:lnTo>
                <a:lnTo>
                  <a:pt x="695" y="554"/>
                </a:lnTo>
                <a:lnTo>
                  <a:pt x="709" y="570"/>
                </a:lnTo>
                <a:lnTo>
                  <a:pt x="720" y="585"/>
                </a:lnTo>
                <a:lnTo>
                  <a:pt x="734" y="600"/>
                </a:lnTo>
                <a:lnTo>
                  <a:pt x="745" y="614"/>
                </a:lnTo>
                <a:lnTo>
                  <a:pt x="759" y="631"/>
                </a:lnTo>
                <a:lnTo>
                  <a:pt x="770" y="646"/>
                </a:lnTo>
                <a:lnTo>
                  <a:pt x="783" y="661"/>
                </a:lnTo>
                <a:lnTo>
                  <a:pt x="795" y="676"/>
                </a:lnTo>
                <a:lnTo>
                  <a:pt x="822" y="710"/>
                </a:lnTo>
                <a:lnTo>
                  <a:pt x="835" y="727"/>
                </a:lnTo>
                <a:lnTo>
                  <a:pt x="847" y="742"/>
                </a:lnTo>
                <a:lnTo>
                  <a:pt x="860" y="760"/>
                </a:lnTo>
                <a:lnTo>
                  <a:pt x="887" y="794"/>
                </a:lnTo>
                <a:lnTo>
                  <a:pt x="901" y="811"/>
                </a:lnTo>
                <a:lnTo>
                  <a:pt x="928" y="847"/>
                </a:lnTo>
                <a:lnTo>
                  <a:pt x="941" y="866"/>
                </a:lnTo>
                <a:lnTo>
                  <a:pt x="949" y="875"/>
                </a:lnTo>
                <a:lnTo>
                  <a:pt x="976" y="912"/>
                </a:lnTo>
                <a:lnTo>
                  <a:pt x="989" y="928"/>
                </a:lnTo>
                <a:lnTo>
                  <a:pt x="1000" y="947"/>
                </a:lnTo>
                <a:lnTo>
                  <a:pt x="1027" y="980"/>
                </a:lnTo>
                <a:lnTo>
                  <a:pt x="1039" y="997"/>
                </a:lnTo>
                <a:lnTo>
                  <a:pt x="1066" y="1031"/>
                </a:lnTo>
                <a:lnTo>
                  <a:pt x="1077" y="1047"/>
                </a:lnTo>
                <a:lnTo>
                  <a:pt x="1091" y="1063"/>
                </a:lnTo>
                <a:lnTo>
                  <a:pt x="1102" y="1080"/>
                </a:lnTo>
                <a:lnTo>
                  <a:pt x="1116" y="1095"/>
                </a:lnTo>
                <a:lnTo>
                  <a:pt x="1139" y="1125"/>
                </a:lnTo>
                <a:lnTo>
                  <a:pt x="1152" y="1141"/>
                </a:lnTo>
                <a:lnTo>
                  <a:pt x="1175" y="1171"/>
                </a:lnTo>
                <a:lnTo>
                  <a:pt x="1189" y="1185"/>
                </a:lnTo>
                <a:lnTo>
                  <a:pt x="1200" y="1199"/>
                </a:lnTo>
                <a:lnTo>
                  <a:pt x="1212" y="1214"/>
                </a:lnTo>
                <a:lnTo>
                  <a:pt x="1235" y="1241"/>
                </a:lnTo>
                <a:lnTo>
                  <a:pt x="1248" y="1255"/>
                </a:lnTo>
                <a:lnTo>
                  <a:pt x="1260" y="1267"/>
                </a:lnTo>
                <a:lnTo>
                  <a:pt x="1271" y="1281"/>
                </a:lnTo>
                <a:lnTo>
                  <a:pt x="1283" y="1293"/>
                </a:lnTo>
                <a:lnTo>
                  <a:pt x="1294" y="1307"/>
                </a:lnTo>
                <a:lnTo>
                  <a:pt x="1306" y="1319"/>
                </a:lnTo>
                <a:lnTo>
                  <a:pt x="1315" y="1331"/>
                </a:lnTo>
                <a:lnTo>
                  <a:pt x="1338" y="1356"/>
                </a:lnTo>
                <a:lnTo>
                  <a:pt x="1350" y="1367"/>
                </a:lnTo>
                <a:lnTo>
                  <a:pt x="1361" y="1379"/>
                </a:lnTo>
                <a:lnTo>
                  <a:pt x="1371" y="1389"/>
                </a:lnTo>
                <a:lnTo>
                  <a:pt x="1383" y="1400"/>
                </a:lnTo>
                <a:lnTo>
                  <a:pt x="1394" y="1412"/>
                </a:lnTo>
                <a:lnTo>
                  <a:pt x="1404" y="1423"/>
                </a:lnTo>
                <a:lnTo>
                  <a:pt x="1415" y="1432"/>
                </a:lnTo>
                <a:lnTo>
                  <a:pt x="1425" y="1443"/>
                </a:lnTo>
                <a:lnTo>
                  <a:pt x="1436" y="1454"/>
                </a:lnTo>
                <a:lnTo>
                  <a:pt x="1446" y="1463"/>
                </a:lnTo>
                <a:lnTo>
                  <a:pt x="1458" y="1473"/>
                </a:lnTo>
                <a:lnTo>
                  <a:pt x="1467" y="1483"/>
                </a:lnTo>
                <a:lnTo>
                  <a:pt x="1479" y="1492"/>
                </a:lnTo>
                <a:lnTo>
                  <a:pt x="1488" y="1501"/>
                </a:lnTo>
                <a:lnTo>
                  <a:pt x="1494" y="1505"/>
                </a:lnTo>
                <a:lnTo>
                  <a:pt x="1504" y="1515"/>
                </a:lnTo>
                <a:lnTo>
                  <a:pt x="1515" y="1522"/>
                </a:lnTo>
                <a:lnTo>
                  <a:pt x="1525" y="1531"/>
                </a:lnTo>
                <a:lnTo>
                  <a:pt x="1544" y="1547"/>
                </a:lnTo>
                <a:lnTo>
                  <a:pt x="1563" y="1562"/>
                </a:lnTo>
                <a:lnTo>
                  <a:pt x="1582" y="1577"/>
                </a:lnTo>
                <a:lnTo>
                  <a:pt x="1592" y="1585"/>
                </a:lnTo>
                <a:lnTo>
                  <a:pt x="1611" y="1597"/>
                </a:lnTo>
                <a:lnTo>
                  <a:pt x="1630" y="1609"/>
                </a:lnTo>
                <a:lnTo>
                  <a:pt x="1650" y="1621"/>
                </a:lnTo>
                <a:lnTo>
                  <a:pt x="1659" y="1628"/>
                </a:lnTo>
                <a:lnTo>
                  <a:pt x="1667" y="1632"/>
                </a:lnTo>
                <a:lnTo>
                  <a:pt x="1676" y="1638"/>
                </a:lnTo>
                <a:lnTo>
                  <a:pt x="1686" y="1643"/>
                </a:lnTo>
                <a:lnTo>
                  <a:pt x="1694" y="1647"/>
                </a:lnTo>
                <a:lnTo>
                  <a:pt x="1703" y="1652"/>
                </a:lnTo>
                <a:lnTo>
                  <a:pt x="1711" y="1657"/>
                </a:lnTo>
                <a:lnTo>
                  <a:pt x="1721" y="1661"/>
                </a:lnTo>
                <a:lnTo>
                  <a:pt x="1728" y="1664"/>
                </a:lnTo>
                <a:lnTo>
                  <a:pt x="1738" y="1669"/>
                </a:lnTo>
                <a:lnTo>
                  <a:pt x="1746" y="1672"/>
                </a:lnTo>
                <a:lnTo>
                  <a:pt x="1755" y="1675"/>
                </a:lnTo>
                <a:lnTo>
                  <a:pt x="1771" y="1681"/>
                </a:lnTo>
                <a:lnTo>
                  <a:pt x="1780" y="1684"/>
                </a:lnTo>
                <a:lnTo>
                  <a:pt x="1788" y="1687"/>
                </a:lnTo>
                <a:lnTo>
                  <a:pt x="1795" y="1689"/>
                </a:lnTo>
                <a:lnTo>
                  <a:pt x="1803" y="1692"/>
                </a:lnTo>
                <a:lnTo>
                  <a:pt x="1811" y="1693"/>
                </a:lnTo>
                <a:lnTo>
                  <a:pt x="1820" y="1695"/>
                </a:lnTo>
                <a:lnTo>
                  <a:pt x="1836" y="1698"/>
                </a:lnTo>
                <a:lnTo>
                  <a:pt x="1843" y="1699"/>
                </a:lnTo>
                <a:lnTo>
                  <a:pt x="1851" y="1699"/>
                </a:lnTo>
                <a:lnTo>
                  <a:pt x="1859" y="1701"/>
                </a:lnTo>
                <a:lnTo>
                  <a:pt x="1899" y="1701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625760" y="3363840"/>
            <a:ext cx="2776320" cy="2433600"/>
          </a:xfrm>
          <a:custGeom>
            <a:avLst/>
            <a:gdLst/>
            <a:ahLst/>
            <a:rect l="l" t="t" r="r" b="b"/>
            <a:pathLst>
              <a:path w="1899" h="1701">
                <a:moveTo>
                  <a:pt x="1899" y="0"/>
                </a:moveTo>
                <a:lnTo>
                  <a:pt x="1891" y="0"/>
                </a:lnTo>
                <a:lnTo>
                  <a:pt x="1886" y="2"/>
                </a:lnTo>
                <a:lnTo>
                  <a:pt x="1878" y="3"/>
                </a:lnTo>
                <a:lnTo>
                  <a:pt x="1872" y="3"/>
                </a:lnTo>
                <a:lnTo>
                  <a:pt x="1857" y="6"/>
                </a:lnTo>
                <a:lnTo>
                  <a:pt x="1851" y="9"/>
                </a:lnTo>
                <a:lnTo>
                  <a:pt x="1836" y="12"/>
                </a:lnTo>
                <a:lnTo>
                  <a:pt x="1820" y="18"/>
                </a:lnTo>
                <a:lnTo>
                  <a:pt x="1813" y="20"/>
                </a:lnTo>
                <a:lnTo>
                  <a:pt x="1797" y="26"/>
                </a:lnTo>
                <a:lnTo>
                  <a:pt x="1790" y="31"/>
                </a:lnTo>
                <a:lnTo>
                  <a:pt x="1774" y="37"/>
                </a:lnTo>
                <a:lnTo>
                  <a:pt x="1767" y="41"/>
                </a:lnTo>
                <a:lnTo>
                  <a:pt x="1757" y="46"/>
                </a:lnTo>
                <a:lnTo>
                  <a:pt x="1749" y="49"/>
                </a:lnTo>
                <a:lnTo>
                  <a:pt x="1734" y="58"/>
                </a:lnTo>
                <a:lnTo>
                  <a:pt x="1724" y="63"/>
                </a:lnTo>
                <a:lnTo>
                  <a:pt x="1717" y="69"/>
                </a:lnTo>
                <a:lnTo>
                  <a:pt x="1707" y="73"/>
                </a:lnTo>
                <a:lnTo>
                  <a:pt x="1699" y="80"/>
                </a:lnTo>
                <a:lnTo>
                  <a:pt x="1690" y="84"/>
                </a:lnTo>
                <a:lnTo>
                  <a:pt x="1682" y="90"/>
                </a:lnTo>
                <a:lnTo>
                  <a:pt x="1663" y="102"/>
                </a:lnTo>
                <a:lnTo>
                  <a:pt x="1655" y="109"/>
                </a:lnTo>
                <a:lnTo>
                  <a:pt x="1646" y="116"/>
                </a:lnTo>
                <a:lnTo>
                  <a:pt x="1636" y="122"/>
                </a:lnTo>
                <a:lnTo>
                  <a:pt x="1628" y="130"/>
                </a:lnTo>
                <a:lnTo>
                  <a:pt x="1619" y="136"/>
                </a:lnTo>
                <a:lnTo>
                  <a:pt x="1600" y="151"/>
                </a:lnTo>
                <a:lnTo>
                  <a:pt x="1580" y="167"/>
                </a:lnTo>
                <a:lnTo>
                  <a:pt x="1571" y="174"/>
                </a:lnTo>
                <a:lnTo>
                  <a:pt x="1561" y="183"/>
                </a:lnTo>
                <a:lnTo>
                  <a:pt x="1552" y="191"/>
                </a:lnTo>
                <a:lnTo>
                  <a:pt x="1542" y="200"/>
                </a:lnTo>
                <a:lnTo>
                  <a:pt x="1530" y="209"/>
                </a:lnTo>
                <a:lnTo>
                  <a:pt x="1511" y="228"/>
                </a:lnTo>
                <a:lnTo>
                  <a:pt x="1505" y="232"/>
                </a:lnTo>
                <a:lnTo>
                  <a:pt x="1496" y="241"/>
                </a:lnTo>
                <a:lnTo>
                  <a:pt x="1484" y="252"/>
                </a:lnTo>
                <a:lnTo>
                  <a:pt x="1475" y="261"/>
                </a:lnTo>
                <a:lnTo>
                  <a:pt x="1463" y="272"/>
                </a:lnTo>
                <a:lnTo>
                  <a:pt x="1454" y="281"/>
                </a:lnTo>
                <a:lnTo>
                  <a:pt x="1442" y="292"/>
                </a:lnTo>
                <a:lnTo>
                  <a:pt x="1433" y="302"/>
                </a:lnTo>
                <a:lnTo>
                  <a:pt x="1421" y="313"/>
                </a:lnTo>
                <a:lnTo>
                  <a:pt x="1411" y="324"/>
                </a:lnTo>
                <a:lnTo>
                  <a:pt x="1400" y="336"/>
                </a:lnTo>
                <a:lnTo>
                  <a:pt x="1388" y="347"/>
                </a:lnTo>
                <a:lnTo>
                  <a:pt x="1379" y="359"/>
                </a:lnTo>
                <a:lnTo>
                  <a:pt x="1367" y="371"/>
                </a:lnTo>
                <a:lnTo>
                  <a:pt x="1356" y="382"/>
                </a:lnTo>
                <a:lnTo>
                  <a:pt x="1333" y="406"/>
                </a:lnTo>
                <a:lnTo>
                  <a:pt x="1321" y="420"/>
                </a:lnTo>
                <a:lnTo>
                  <a:pt x="1298" y="444"/>
                </a:lnTo>
                <a:lnTo>
                  <a:pt x="1275" y="472"/>
                </a:lnTo>
                <a:lnTo>
                  <a:pt x="1264" y="484"/>
                </a:lnTo>
                <a:lnTo>
                  <a:pt x="1252" y="498"/>
                </a:lnTo>
                <a:lnTo>
                  <a:pt x="1239" y="512"/>
                </a:lnTo>
                <a:lnTo>
                  <a:pt x="1227" y="527"/>
                </a:lnTo>
                <a:lnTo>
                  <a:pt x="1204" y="554"/>
                </a:lnTo>
                <a:lnTo>
                  <a:pt x="1191" y="570"/>
                </a:lnTo>
                <a:lnTo>
                  <a:pt x="1179" y="585"/>
                </a:lnTo>
                <a:lnTo>
                  <a:pt x="1166" y="600"/>
                </a:lnTo>
                <a:lnTo>
                  <a:pt x="1154" y="614"/>
                </a:lnTo>
                <a:lnTo>
                  <a:pt x="1141" y="631"/>
                </a:lnTo>
                <a:lnTo>
                  <a:pt x="1129" y="646"/>
                </a:lnTo>
                <a:lnTo>
                  <a:pt x="1116" y="661"/>
                </a:lnTo>
                <a:lnTo>
                  <a:pt x="1104" y="676"/>
                </a:lnTo>
                <a:lnTo>
                  <a:pt x="1077" y="710"/>
                </a:lnTo>
                <a:lnTo>
                  <a:pt x="1064" y="727"/>
                </a:lnTo>
                <a:lnTo>
                  <a:pt x="1052" y="742"/>
                </a:lnTo>
                <a:lnTo>
                  <a:pt x="1039" y="760"/>
                </a:lnTo>
                <a:lnTo>
                  <a:pt x="1012" y="794"/>
                </a:lnTo>
                <a:lnTo>
                  <a:pt x="999" y="811"/>
                </a:lnTo>
                <a:lnTo>
                  <a:pt x="972" y="847"/>
                </a:lnTo>
                <a:lnTo>
                  <a:pt x="958" y="866"/>
                </a:lnTo>
                <a:lnTo>
                  <a:pt x="951" y="875"/>
                </a:lnTo>
                <a:lnTo>
                  <a:pt x="924" y="912"/>
                </a:lnTo>
                <a:lnTo>
                  <a:pt x="910" y="928"/>
                </a:lnTo>
                <a:lnTo>
                  <a:pt x="899" y="947"/>
                </a:lnTo>
                <a:lnTo>
                  <a:pt x="872" y="980"/>
                </a:lnTo>
                <a:lnTo>
                  <a:pt x="860" y="997"/>
                </a:lnTo>
                <a:lnTo>
                  <a:pt x="833" y="1031"/>
                </a:lnTo>
                <a:lnTo>
                  <a:pt x="822" y="1047"/>
                </a:lnTo>
                <a:lnTo>
                  <a:pt x="808" y="1063"/>
                </a:lnTo>
                <a:lnTo>
                  <a:pt x="797" y="1080"/>
                </a:lnTo>
                <a:lnTo>
                  <a:pt x="783" y="1095"/>
                </a:lnTo>
                <a:lnTo>
                  <a:pt x="760" y="1125"/>
                </a:lnTo>
                <a:lnTo>
                  <a:pt x="747" y="1141"/>
                </a:lnTo>
                <a:lnTo>
                  <a:pt x="724" y="1171"/>
                </a:lnTo>
                <a:lnTo>
                  <a:pt x="710" y="1185"/>
                </a:lnTo>
                <a:lnTo>
                  <a:pt x="699" y="1199"/>
                </a:lnTo>
                <a:lnTo>
                  <a:pt x="687" y="1214"/>
                </a:lnTo>
                <a:lnTo>
                  <a:pt x="664" y="1241"/>
                </a:lnTo>
                <a:lnTo>
                  <a:pt x="651" y="1255"/>
                </a:lnTo>
                <a:lnTo>
                  <a:pt x="639" y="1267"/>
                </a:lnTo>
                <a:lnTo>
                  <a:pt x="628" y="1281"/>
                </a:lnTo>
                <a:lnTo>
                  <a:pt x="616" y="1293"/>
                </a:lnTo>
                <a:lnTo>
                  <a:pt x="605" y="1307"/>
                </a:lnTo>
                <a:lnTo>
                  <a:pt x="593" y="1319"/>
                </a:lnTo>
                <a:lnTo>
                  <a:pt x="584" y="1331"/>
                </a:lnTo>
                <a:lnTo>
                  <a:pt x="561" y="1356"/>
                </a:lnTo>
                <a:lnTo>
                  <a:pt x="549" y="1367"/>
                </a:lnTo>
                <a:lnTo>
                  <a:pt x="538" y="1379"/>
                </a:lnTo>
                <a:lnTo>
                  <a:pt x="528" y="1389"/>
                </a:lnTo>
                <a:lnTo>
                  <a:pt x="517" y="1400"/>
                </a:lnTo>
                <a:lnTo>
                  <a:pt x="505" y="1412"/>
                </a:lnTo>
                <a:lnTo>
                  <a:pt x="495" y="1423"/>
                </a:lnTo>
                <a:lnTo>
                  <a:pt x="484" y="1432"/>
                </a:lnTo>
                <a:lnTo>
                  <a:pt x="474" y="1443"/>
                </a:lnTo>
                <a:lnTo>
                  <a:pt x="463" y="1454"/>
                </a:lnTo>
                <a:lnTo>
                  <a:pt x="453" y="1463"/>
                </a:lnTo>
                <a:lnTo>
                  <a:pt x="442" y="1473"/>
                </a:lnTo>
                <a:lnTo>
                  <a:pt x="432" y="1483"/>
                </a:lnTo>
                <a:lnTo>
                  <a:pt x="421" y="1492"/>
                </a:lnTo>
                <a:lnTo>
                  <a:pt x="411" y="1501"/>
                </a:lnTo>
                <a:lnTo>
                  <a:pt x="405" y="1505"/>
                </a:lnTo>
                <a:lnTo>
                  <a:pt x="396" y="1515"/>
                </a:lnTo>
                <a:lnTo>
                  <a:pt x="384" y="1522"/>
                </a:lnTo>
                <a:lnTo>
                  <a:pt x="374" y="1531"/>
                </a:lnTo>
                <a:lnTo>
                  <a:pt x="355" y="1547"/>
                </a:lnTo>
                <a:lnTo>
                  <a:pt x="336" y="1562"/>
                </a:lnTo>
                <a:lnTo>
                  <a:pt x="317" y="1577"/>
                </a:lnTo>
                <a:lnTo>
                  <a:pt x="307" y="1585"/>
                </a:lnTo>
                <a:lnTo>
                  <a:pt x="288" y="1597"/>
                </a:lnTo>
                <a:lnTo>
                  <a:pt x="269" y="1609"/>
                </a:lnTo>
                <a:lnTo>
                  <a:pt x="250" y="1621"/>
                </a:lnTo>
                <a:lnTo>
                  <a:pt x="240" y="1628"/>
                </a:lnTo>
                <a:lnTo>
                  <a:pt x="232" y="1632"/>
                </a:lnTo>
                <a:lnTo>
                  <a:pt x="223" y="1638"/>
                </a:lnTo>
                <a:lnTo>
                  <a:pt x="213" y="1643"/>
                </a:lnTo>
                <a:lnTo>
                  <a:pt x="205" y="1647"/>
                </a:lnTo>
                <a:lnTo>
                  <a:pt x="196" y="1652"/>
                </a:lnTo>
                <a:lnTo>
                  <a:pt x="188" y="1657"/>
                </a:lnTo>
                <a:lnTo>
                  <a:pt x="179" y="1661"/>
                </a:lnTo>
                <a:lnTo>
                  <a:pt x="171" y="1664"/>
                </a:lnTo>
                <a:lnTo>
                  <a:pt x="161" y="1669"/>
                </a:lnTo>
                <a:lnTo>
                  <a:pt x="154" y="1672"/>
                </a:lnTo>
                <a:lnTo>
                  <a:pt x="144" y="1675"/>
                </a:lnTo>
                <a:lnTo>
                  <a:pt x="129" y="1681"/>
                </a:lnTo>
                <a:lnTo>
                  <a:pt x="119" y="1684"/>
                </a:lnTo>
                <a:lnTo>
                  <a:pt x="111" y="1687"/>
                </a:lnTo>
                <a:lnTo>
                  <a:pt x="104" y="1689"/>
                </a:lnTo>
                <a:lnTo>
                  <a:pt x="96" y="1692"/>
                </a:lnTo>
                <a:lnTo>
                  <a:pt x="88" y="1693"/>
                </a:lnTo>
                <a:lnTo>
                  <a:pt x="79" y="1695"/>
                </a:lnTo>
                <a:lnTo>
                  <a:pt x="63" y="1698"/>
                </a:lnTo>
                <a:lnTo>
                  <a:pt x="56" y="1699"/>
                </a:lnTo>
                <a:lnTo>
                  <a:pt x="48" y="1699"/>
                </a:lnTo>
                <a:lnTo>
                  <a:pt x="40" y="1701"/>
                </a:lnTo>
                <a:lnTo>
                  <a:pt x="0" y="1701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964" dur="indefinite" restart="never" nodeType="tmRoot">
          <p:childTnLst>
            <p:seq>
              <p:cTn id="1965" dur="indefinite" nodeType="mainSeq">
                <p:childTnLst>
                  <p:par>
                    <p:cTn id="1966" fill="hold">
                      <p:stCondLst>
                        <p:cond delay="0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0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500"/>
                            </p:stCondLst>
                            <p:childTnLst>
                              <p:par>
                                <p:cTn id="19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4" dur="500"/>
                                        <p:tgtEl>
                                          <p:spTgt spid="2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8" dur="5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9" name=""/>
          <p:cNvGrpSpPr/>
          <p:nvPr/>
        </p:nvGrpSpPr>
        <p:grpSpPr>
          <a:xfrm>
            <a:off x="3537000" y="79200"/>
            <a:ext cx="2158920" cy="1320840"/>
            <a:chOff x="3537000" y="79200"/>
            <a:chExt cx="2158920" cy="1320840"/>
          </a:xfrm>
        </p:grpSpPr>
        <p:pic>
          <p:nvPicPr>
            <p:cNvPr id="2090" name="" descr=""/>
            <p:cNvPicPr/>
            <p:nvPr/>
          </p:nvPicPr>
          <p:blipFill>
            <a:blip r:embed="rId1"/>
            <a:stretch/>
          </p:blipFill>
          <p:spPr>
            <a:xfrm>
              <a:off x="3537000" y="85680"/>
              <a:ext cx="2158920" cy="1314360"/>
            </a:xfrm>
            <a:prstGeom prst="rect">
              <a:avLst/>
            </a:prstGeom>
            <a:ln w="0">
              <a:noFill/>
            </a:ln>
            <a:effectLst>
              <a:outerShdw dist="127008" dir="3183908" blurRad="0" rotWithShape="0">
                <a:srgbClr val="000000"/>
              </a:outerShdw>
            </a:effectLst>
          </p:spPr>
        </p:pic>
        <p:sp>
          <p:nvSpPr>
            <p:cNvPr id="2091" name=""/>
            <p:cNvSpPr/>
            <p:nvPr/>
          </p:nvSpPr>
          <p:spPr>
            <a:xfrm>
              <a:off x="3949920" y="79200"/>
              <a:ext cx="136656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ff00"/>
                  </a:solidFill>
                  <a:latin typeface="Times New Roman"/>
                </a:rPr>
                <a:t>Lin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 txBox="1"/>
            <p:nvPr/>
          </p:nvSpPr>
          <p:spPr>
            <a:xfrm>
              <a:off x="3652920" y="824040"/>
              <a:ext cx="1971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>
                      <a:alpha val="50000"/>
                    </a:srgbClr>
                  </a:solidFill>
                  <a:latin typeface="Times New Roman"/>
                </a:rPr>
                <a:t>Chart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2093" name=""/>
          <p:cNvSpPr/>
          <p:nvPr/>
        </p:nvSpPr>
        <p:spPr>
          <a:xfrm>
            <a:off x="1281240" y="1555920"/>
            <a:ext cx="671508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 charts ar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articularly usefu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en the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trend over time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40000"/>
                </a:solidFill>
                <a:latin typeface="Times New Roman"/>
              </a:rPr>
              <a:t>is to be emphas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402720" y="2952720"/>
            <a:ext cx="23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ample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5" name="" descr=""/>
          <p:cNvPicPr/>
          <p:nvPr/>
        </p:nvPicPr>
        <p:blipFill>
          <a:blip r:embed="rId2"/>
          <a:stretch/>
        </p:blipFill>
        <p:spPr>
          <a:xfrm>
            <a:off x="652320" y="3905280"/>
            <a:ext cx="2297160" cy="1619280"/>
          </a:xfrm>
          <a:prstGeom prst="rect">
            <a:avLst/>
          </a:prstGeom>
          <a:ln w="0">
            <a:noFill/>
          </a:ln>
        </p:spPr>
      </p:pic>
      <p:grpSp>
        <p:nvGrpSpPr>
          <p:cNvPr id="2096" name=""/>
          <p:cNvGrpSpPr/>
          <p:nvPr/>
        </p:nvGrpSpPr>
        <p:grpSpPr>
          <a:xfrm>
            <a:off x="3505320" y="3905280"/>
            <a:ext cx="2009520" cy="2155320"/>
            <a:chOff x="3505320" y="3905280"/>
            <a:chExt cx="2009520" cy="2155320"/>
          </a:xfrm>
        </p:grpSpPr>
        <p:pic>
          <p:nvPicPr>
            <p:cNvPr id="2097" name="" descr=""/>
            <p:cNvPicPr/>
            <p:nvPr/>
          </p:nvPicPr>
          <p:blipFill>
            <a:blip r:embed="rId3"/>
            <a:stretch/>
          </p:blipFill>
          <p:spPr>
            <a:xfrm>
              <a:off x="3505320" y="3905280"/>
              <a:ext cx="2009520" cy="16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8" name=""/>
            <p:cNvSpPr/>
            <p:nvPr/>
          </p:nvSpPr>
          <p:spPr>
            <a:xfrm>
              <a:off x="4310280" y="560088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-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9" name=""/>
          <p:cNvGrpSpPr/>
          <p:nvPr/>
        </p:nvGrpSpPr>
        <p:grpSpPr>
          <a:xfrm>
            <a:off x="6175440" y="3952800"/>
            <a:ext cx="2260800" cy="2107800"/>
            <a:chOff x="6175440" y="3952800"/>
            <a:chExt cx="2260800" cy="2107800"/>
          </a:xfrm>
        </p:grpSpPr>
        <p:grpSp>
          <p:nvGrpSpPr>
            <p:cNvPr id="2100" name=""/>
            <p:cNvGrpSpPr/>
            <p:nvPr/>
          </p:nvGrpSpPr>
          <p:grpSpPr>
            <a:xfrm>
              <a:off x="6175440" y="3952800"/>
              <a:ext cx="2241000" cy="1658520"/>
              <a:chOff x="6175440" y="3952800"/>
              <a:chExt cx="2241000" cy="1658520"/>
            </a:xfrm>
          </p:grpSpPr>
          <p:sp>
            <p:nvSpPr>
              <p:cNvPr id="2101" name=""/>
              <p:cNvSpPr/>
              <p:nvPr/>
            </p:nvSpPr>
            <p:spPr>
              <a:xfrm>
                <a:off x="6175440" y="5396760"/>
                <a:ext cx="2239920" cy="213120"/>
              </a:xfrm>
              <a:custGeom>
                <a:avLst/>
                <a:gdLst/>
                <a:ahLst/>
                <a:rect l="l" t="t" r="r" b="b"/>
                <a:pathLst>
                  <a:path w="1483" h="146">
                    <a:moveTo>
                      <a:pt x="163" y="0"/>
                    </a:moveTo>
                    <a:lnTo>
                      <a:pt x="1483" y="0"/>
                    </a:lnTo>
                    <a:lnTo>
                      <a:pt x="1320" y="146"/>
                    </a:lnTo>
                    <a:lnTo>
                      <a:pt x="0" y="146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6175440" y="3952800"/>
                <a:ext cx="246240" cy="1657440"/>
              </a:xfrm>
              <a:custGeom>
                <a:avLst/>
                <a:gdLst/>
                <a:ahLst/>
                <a:rect l="l" t="t" r="r" b="b"/>
                <a:pathLst>
                  <a:path w="163" h="1134">
                    <a:moveTo>
                      <a:pt x="163" y="988"/>
                    </a:moveTo>
                    <a:lnTo>
                      <a:pt x="0" y="1134"/>
                    </a:lnTo>
                    <a:lnTo>
                      <a:pt x="0" y="146"/>
                    </a:lnTo>
                    <a:lnTo>
                      <a:pt x="163" y="0"/>
                    </a:lnTo>
                    <a:lnTo>
                      <a:pt x="163" y="98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6421680" y="3952800"/>
                <a:ext cx="1990440" cy="1443960"/>
              </a:xfrm>
              <a:prstGeom prst="rect">
                <a:avLst/>
              </a:pr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421680" y="3952800"/>
                <a:ext cx="1993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6175440" y="5029560"/>
                <a:ext cx="246240" cy="219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6421680" y="5029920"/>
                <a:ext cx="1993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6175440" y="4674960"/>
                <a:ext cx="246240" cy="21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6421680" y="4674960"/>
                <a:ext cx="19936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flipV="1">
                <a:off x="6175440" y="4313520"/>
                <a:ext cx="246240" cy="21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421680" y="4313520"/>
                <a:ext cx="1993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421680" y="3952800"/>
                <a:ext cx="1440" cy="144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6421680" y="5396760"/>
                <a:ext cx="19936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flipV="1">
                <a:off x="6175440" y="5396760"/>
                <a:ext cx="246240" cy="21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V="1">
                <a:off x="6457680" y="5396760"/>
                <a:ext cx="250560" cy="21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flipV="1">
                <a:off x="6741720" y="5396760"/>
                <a:ext cx="249120" cy="21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V="1">
                <a:off x="7028640" y="5396760"/>
                <a:ext cx="246240" cy="21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V="1">
                <a:off x="7312680" y="5396760"/>
                <a:ext cx="249120" cy="21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V="1">
                <a:off x="7599600" y="5396760"/>
                <a:ext cx="246240" cy="21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V="1">
                <a:off x="7881840" y="5396760"/>
                <a:ext cx="246240" cy="21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6506280" y="4335840"/>
                <a:ext cx="34920" cy="1110600"/>
              </a:xfrm>
              <a:custGeom>
                <a:avLst/>
                <a:gdLst/>
                <a:ahLst/>
                <a:rect l="l" t="t" r="r" b="b"/>
                <a:pathLst>
                  <a:path w="23" h="760">
                    <a:moveTo>
                      <a:pt x="0" y="760"/>
                    </a:moveTo>
                    <a:lnTo>
                      <a:pt x="0" y="19"/>
                    </a:lnTo>
                    <a:lnTo>
                      <a:pt x="23" y="0"/>
                    </a:lnTo>
                    <a:lnTo>
                      <a:pt x="23" y="737"/>
                    </a:lnTo>
                    <a:lnTo>
                      <a:pt x="0" y="760"/>
                    </a:lnTo>
                    <a:close/>
                  </a:path>
                </a:pathLst>
              </a:custGeom>
              <a:solidFill>
                <a:srgbClr val="00606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506280" y="4062240"/>
                <a:ext cx="317160" cy="300600"/>
              </a:xfrm>
              <a:custGeom>
                <a:avLst/>
                <a:gdLst/>
                <a:ahLst/>
                <a:rect l="l" t="t" r="r" b="b"/>
                <a:pathLst>
                  <a:path w="210" h="206">
                    <a:moveTo>
                      <a:pt x="0" y="206"/>
                    </a:moveTo>
                    <a:lnTo>
                      <a:pt x="188" y="22"/>
                    </a:lnTo>
                    <a:lnTo>
                      <a:pt x="210" y="0"/>
                    </a:lnTo>
                    <a:lnTo>
                      <a:pt x="23" y="18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00606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6789960" y="4062240"/>
                <a:ext cx="317160" cy="87480"/>
              </a:xfrm>
              <a:custGeom>
                <a:avLst/>
                <a:gdLst/>
                <a:ahLst/>
                <a:rect l="l" t="t" r="r" b="b"/>
                <a:pathLst>
                  <a:path w="210" h="60">
                    <a:moveTo>
                      <a:pt x="0" y="22"/>
                    </a:moveTo>
                    <a:lnTo>
                      <a:pt x="190" y="60"/>
                    </a:lnTo>
                    <a:lnTo>
                      <a:pt x="210" y="37"/>
                    </a:lnTo>
                    <a:lnTo>
                      <a:pt x="22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5020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7077240" y="4116240"/>
                <a:ext cx="317160" cy="338760"/>
              </a:xfrm>
              <a:custGeom>
                <a:avLst/>
                <a:gdLst/>
                <a:ahLst/>
                <a:rect l="l" t="t" r="r" b="b"/>
                <a:pathLst>
                  <a:path w="210" h="232">
                    <a:moveTo>
                      <a:pt x="0" y="23"/>
                    </a:moveTo>
                    <a:lnTo>
                      <a:pt x="188" y="232"/>
                    </a:lnTo>
                    <a:lnTo>
                      <a:pt x="210" y="210"/>
                    </a:lnTo>
                    <a:lnTo>
                      <a:pt x="2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5020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7360920" y="4423320"/>
                <a:ext cx="317160" cy="153360"/>
              </a:xfrm>
              <a:custGeom>
                <a:avLst/>
                <a:gdLst/>
                <a:ahLst/>
                <a:rect l="l" t="t" r="r" b="b"/>
                <a:pathLst>
                  <a:path w="210" h="105">
                    <a:moveTo>
                      <a:pt x="0" y="22"/>
                    </a:moveTo>
                    <a:lnTo>
                      <a:pt x="187" y="105"/>
                    </a:lnTo>
                    <a:lnTo>
                      <a:pt x="210" y="86"/>
                    </a:lnTo>
                    <a:lnTo>
                      <a:pt x="22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5020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7643520" y="4351680"/>
                <a:ext cx="321480" cy="225000"/>
              </a:xfrm>
              <a:custGeom>
                <a:avLst/>
                <a:gdLst/>
                <a:ahLst/>
                <a:rect l="l" t="t" r="r" b="b"/>
                <a:pathLst>
                  <a:path w="213" h="154">
                    <a:moveTo>
                      <a:pt x="0" y="154"/>
                    </a:moveTo>
                    <a:lnTo>
                      <a:pt x="190" y="19"/>
                    </a:lnTo>
                    <a:lnTo>
                      <a:pt x="213" y="0"/>
                    </a:lnTo>
                    <a:lnTo>
                      <a:pt x="23" y="135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85020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7930440" y="4154400"/>
                <a:ext cx="317160" cy="22500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0" y="154"/>
                    </a:moveTo>
                    <a:lnTo>
                      <a:pt x="188" y="19"/>
                    </a:lnTo>
                    <a:lnTo>
                      <a:pt x="210" y="0"/>
                    </a:lnTo>
                    <a:lnTo>
                      <a:pt x="23" y="135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85020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8214480" y="4154400"/>
                <a:ext cx="33120" cy="1291680"/>
              </a:xfrm>
              <a:custGeom>
                <a:avLst/>
                <a:gdLst/>
                <a:ahLst/>
                <a:rect l="l" t="t" r="r" b="b"/>
                <a:pathLst>
                  <a:path w="22" h="884">
                    <a:moveTo>
                      <a:pt x="0" y="19"/>
                    </a:moveTo>
                    <a:lnTo>
                      <a:pt x="0" y="884"/>
                    </a:lnTo>
                    <a:lnTo>
                      <a:pt x="22" y="861"/>
                    </a:lnTo>
                    <a:lnTo>
                      <a:pt x="22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85020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6506280" y="4094640"/>
                <a:ext cx="1708200" cy="1351800"/>
              </a:xfrm>
              <a:custGeom>
                <a:avLst/>
                <a:gdLst/>
                <a:ahLst/>
                <a:rect l="l" t="t" r="r" b="b"/>
                <a:pathLst>
                  <a:path w="1131" h="925">
                    <a:moveTo>
                      <a:pt x="0" y="925"/>
                    </a:moveTo>
                    <a:lnTo>
                      <a:pt x="0" y="184"/>
                    </a:lnTo>
                    <a:lnTo>
                      <a:pt x="188" y="0"/>
                    </a:lnTo>
                    <a:lnTo>
                      <a:pt x="378" y="38"/>
                    </a:lnTo>
                    <a:lnTo>
                      <a:pt x="566" y="247"/>
                    </a:lnTo>
                    <a:lnTo>
                      <a:pt x="753" y="330"/>
                    </a:lnTo>
                    <a:lnTo>
                      <a:pt x="943" y="195"/>
                    </a:lnTo>
                    <a:lnTo>
                      <a:pt x="1131" y="60"/>
                    </a:lnTo>
                    <a:lnTo>
                      <a:pt x="1131" y="925"/>
                    </a:lnTo>
                    <a:lnTo>
                      <a:pt x="0" y="9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302160" y="4794480"/>
                <a:ext cx="241200" cy="722160"/>
              </a:xfrm>
              <a:prstGeom prst="rect">
                <a:avLst/>
              </a:prstGeom>
              <a:solidFill>
                <a:srgbClr val="0085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6302160" y="4768200"/>
                <a:ext cx="274680" cy="25920"/>
              </a:xfrm>
              <a:custGeom>
                <a:avLst/>
                <a:gdLst/>
                <a:ahLst/>
                <a:rect l="l" t="t" r="r" b="b"/>
                <a:pathLst>
                  <a:path w="182" h="18">
                    <a:moveTo>
                      <a:pt x="0" y="18"/>
                    </a:moveTo>
                    <a:lnTo>
                      <a:pt x="160" y="18"/>
                    </a:lnTo>
                    <a:lnTo>
                      <a:pt x="182" y="0"/>
                    </a:lnTo>
                    <a:lnTo>
                      <a:pt x="22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261c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543720" y="4768200"/>
                <a:ext cx="33120" cy="748080"/>
              </a:xfrm>
              <a:custGeom>
                <a:avLst/>
                <a:gdLst/>
                <a:ahLst/>
                <a:rect l="l" t="t" r="r" b="b"/>
                <a:pathLst>
                  <a:path w="22" h="512">
                    <a:moveTo>
                      <a:pt x="0" y="18"/>
                    </a:moveTo>
                    <a:lnTo>
                      <a:pt x="0" y="512"/>
                    </a:lnTo>
                    <a:lnTo>
                      <a:pt x="22" y="494"/>
                    </a:lnTo>
                    <a:lnTo>
                      <a:pt x="22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3438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6589440" y="4329720"/>
                <a:ext cx="238320" cy="1186920"/>
              </a:xfrm>
              <a:prstGeom prst="rect">
                <a:avLst/>
              </a:prstGeom>
              <a:solidFill>
                <a:srgbClr val="0085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6589440" y="4297680"/>
                <a:ext cx="274680" cy="25920"/>
              </a:xfrm>
              <a:custGeom>
                <a:avLst/>
                <a:gdLst/>
                <a:ahLst/>
                <a:rect l="l" t="t" r="r" b="b"/>
                <a:pathLst>
                  <a:path w="182" h="18">
                    <a:moveTo>
                      <a:pt x="0" y="18"/>
                    </a:moveTo>
                    <a:lnTo>
                      <a:pt x="160" y="18"/>
                    </a:lnTo>
                    <a:lnTo>
                      <a:pt x="182" y="0"/>
                    </a:lnTo>
                    <a:lnTo>
                      <a:pt x="22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261c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6831000" y="4297680"/>
                <a:ext cx="33120" cy="1218960"/>
              </a:xfrm>
              <a:custGeom>
                <a:avLst/>
                <a:gdLst/>
                <a:ahLst/>
                <a:rect l="l" t="t" r="r" b="b"/>
                <a:pathLst>
                  <a:path w="22" h="834">
                    <a:moveTo>
                      <a:pt x="0" y="18"/>
                    </a:moveTo>
                    <a:lnTo>
                      <a:pt x="0" y="834"/>
                    </a:lnTo>
                    <a:lnTo>
                      <a:pt x="22" y="816"/>
                    </a:lnTo>
                    <a:lnTo>
                      <a:pt x="22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3438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871680" y="4385160"/>
                <a:ext cx="243000" cy="1131480"/>
              </a:xfrm>
              <a:prstGeom prst="rect">
                <a:avLst/>
              </a:prstGeom>
              <a:solidFill>
                <a:srgbClr val="0085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6871680" y="4351680"/>
                <a:ext cx="276120" cy="27720"/>
              </a:xfrm>
              <a:custGeom>
                <a:avLst/>
                <a:gdLst/>
                <a:ahLst/>
                <a:rect l="l" t="t" r="r" b="b"/>
                <a:pathLst>
                  <a:path w="183" h="19">
                    <a:moveTo>
                      <a:pt x="0" y="19"/>
                    </a:moveTo>
                    <a:lnTo>
                      <a:pt x="161" y="19"/>
                    </a:lnTo>
                    <a:lnTo>
                      <a:pt x="183" y="0"/>
                    </a:lnTo>
                    <a:lnTo>
                      <a:pt x="2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261c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7114680" y="4351680"/>
                <a:ext cx="33120" cy="1164960"/>
              </a:xfrm>
              <a:custGeom>
                <a:avLst/>
                <a:gdLst/>
                <a:ahLst/>
                <a:rect l="l" t="t" r="r" b="b"/>
                <a:pathLst>
                  <a:path w="22" h="797">
                    <a:moveTo>
                      <a:pt x="0" y="19"/>
                    </a:moveTo>
                    <a:lnTo>
                      <a:pt x="0" y="797"/>
                    </a:lnTo>
                    <a:lnTo>
                      <a:pt x="22" y="779"/>
                    </a:lnTo>
                    <a:lnTo>
                      <a:pt x="22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3438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7158600" y="4636800"/>
                <a:ext cx="238680" cy="879840"/>
              </a:xfrm>
              <a:prstGeom prst="rect">
                <a:avLst/>
              </a:prstGeom>
              <a:solidFill>
                <a:srgbClr val="0085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7158600" y="4603320"/>
                <a:ext cx="273240" cy="27360"/>
              </a:xfrm>
              <a:custGeom>
                <a:avLst/>
                <a:gdLst/>
                <a:ahLst/>
                <a:rect l="l" t="t" r="r" b="b"/>
                <a:pathLst>
                  <a:path w="181" h="19">
                    <a:moveTo>
                      <a:pt x="0" y="19"/>
                    </a:moveTo>
                    <a:lnTo>
                      <a:pt x="158" y="19"/>
                    </a:lnTo>
                    <a:lnTo>
                      <a:pt x="181" y="0"/>
                    </a:lnTo>
                    <a:lnTo>
                      <a:pt x="2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261c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7397280" y="4603320"/>
                <a:ext cx="34560" cy="913320"/>
              </a:xfrm>
              <a:custGeom>
                <a:avLst/>
                <a:gdLst/>
                <a:ahLst/>
                <a:rect l="l" t="t" r="r" b="b"/>
                <a:pathLst>
                  <a:path w="23" h="625">
                    <a:moveTo>
                      <a:pt x="0" y="19"/>
                    </a:moveTo>
                    <a:lnTo>
                      <a:pt x="0" y="625"/>
                    </a:lnTo>
                    <a:lnTo>
                      <a:pt x="23" y="607"/>
                    </a:lnTo>
                    <a:lnTo>
                      <a:pt x="2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3438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7442640" y="4707000"/>
                <a:ext cx="241560" cy="809640"/>
              </a:xfrm>
              <a:prstGeom prst="rect">
                <a:avLst/>
              </a:prstGeom>
              <a:solidFill>
                <a:srgbClr val="0085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442640" y="4674960"/>
                <a:ext cx="276120" cy="32040"/>
              </a:xfrm>
              <a:custGeom>
                <a:avLst/>
                <a:gdLst/>
                <a:ahLst/>
                <a:rect l="l" t="t" r="r" b="b"/>
                <a:pathLst>
                  <a:path w="183" h="22">
                    <a:moveTo>
                      <a:pt x="0" y="22"/>
                    </a:moveTo>
                    <a:lnTo>
                      <a:pt x="160" y="22"/>
                    </a:lnTo>
                    <a:lnTo>
                      <a:pt x="183" y="0"/>
                    </a:lnTo>
                    <a:lnTo>
                      <a:pt x="22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261c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684200" y="4674960"/>
                <a:ext cx="34560" cy="841680"/>
              </a:xfrm>
              <a:custGeom>
                <a:avLst/>
                <a:gdLst/>
                <a:ahLst/>
                <a:rect l="l" t="t" r="r" b="b"/>
                <a:pathLst>
                  <a:path w="23" h="576">
                    <a:moveTo>
                      <a:pt x="0" y="22"/>
                    </a:moveTo>
                    <a:lnTo>
                      <a:pt x="0" y="576"/>
                    </a:lnTo>
                    <a:lnTo>
                      <a:pt x="23" y="558"/>
                    </a:lnTo>
                    <a:lnTo>
                      <a:pt x="23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3438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726320" y="4690800"/>
                <a:ext cx="241560" cy="825840"/>
              </a:xfrm>
              <a:prstGeom prst="rect">
                <a:avLst/>
              </a:prstGeom>
              <a:solidFill>
                <a:srgbClr val="0085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7726320" y="4658760"/>
                <a:ext cx="274680" cy="25920"/>
              </a:xfrm>
              <a:custGeom>
                <a:avLst/>
                <a:gdLst/>
                <a:ahLst/>
                <a:rect l="l" t="t" r="r" b="b"/>
                <a:pathLst>
                  <a:path w="182" h="18">
                    <a:moveTo>
                      <a:pt x="0" y="18"/>
                    </a:moveTo>
                    <a:lnTo>
                      <a:pt x="160" y="18"/>
                    </a:lnTo>
                    <a:lnTo>
                      <a:pt x="182" y="0"/>
                    </a:lnTo>
                    <a:lnTo>
                      <a:pt x="22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261c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7968240" y="4658760"/>
                <a:ext cx="33120" cy="857880"/>
              </a:xfrm>
              <a:custGeom>
                <a:avLst/>
                <a:gdLst/>
                <a:ahLst/>
                <a:rect l="l" t="t" r="r" b="b"/>
                <a:pathLst>
                  <a:path w="22" h="587">
                    <a:moveTo>
                      <a:pt x="0" y="18"/>
                    </a:moveTo>
                    <a:lnTo>
                      <a:pt x="0" y="587"/>
                    </a:lnTo>
                    <a:lnTo>
                      <a:pt x="22" y="569"/>
                    </a:lnTo>
                    <a:lnTo>
                      <a:pt x="22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3438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8013600" y="4511160"/>
                <a:ext cx="238680" cy="1005480"/>
              </a:xfrm>
              <a:prstGeom prst="rect">
                <a:avLst/>
              </a:prstGeom>
              <a:solidFill>
                <a:srgbClr val="0085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8013600" y="4477320"/>
                <a:ext cx="271800" cy="27720"/>
              </a:xfrm>
              <a:custGeom>
                <a:avLst/>
                <a:gdLst/>
                <a:ahLst/>
                <a:rect l="l" t="t" r="r" b="b"/>
                <a:pathLst>
                  <a:path w="180" h="19">
                    <a:moveTo>
                      <a:pt x="0" y="19"/>
                    </a:moveTo>
                    <a:lnTo>
                      <a:pt x="160" y="19"/>
                    </a:lnTo>
                    <a:lnTo>
                      <a:pt x="180" y="0"/>
                    </a:lnTo>
                    <a:lnTo>
                      <a:pt x="19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261c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8255160" y="4477320"/>
                <a:ext cx="29880" cy="1039320"/>
              </a:xfrm>
              <a:custGeom>
                <a:avLst/>
                <a:gdLst/>
                <a:ahLst/>
                <a:rect l="l" t="t" r="r" b="b"/>
                <a:pathLst>
                  <a:path w="20" h="711">
                    <a:moveTo>
                      <a:pt x="0" y="19"/>
                    </a:moveTo>
                    <a:lnTo>
                      <a:pt x="0" y="711"/>
                    </a:lnTo>
                    <a:lnTo>
                      <a:pt x="20" y="693"/>
                    </a:lnTo>
                    <a:lnTo>
                      <a:pt x="2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3438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6343200" y="4674960"/>
                <a:ext cx="317160" cy="300600"/>
              </a:xfrm>
              <a:custGeom>
                <a:avLst/>
                <a:gdLst/>
                <a:ahLst/>
                <a:rect l="l" t="t" r="r" b="b"/>
                <a:pathLst>
                  <a:path w="210" h="206">
                    <a:moveTo>
                      <a:pt x="0" y="206"/>
                    </a:moveTo>
                    <a:lnTo>
                      <a:pt x="187" y="22"/>
                    </a:lnTo>
                    <a:lnTo>
                      <a:pt x="210" y="0"/>
                    </a:lnTo>
                    <a:lnTo>
                      <a:pt x="22" y="187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V="1">
                <a:off x="6343200" y="4947480"/>
                <a:ext cx="33120" cy="2772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V="1">
                <a:off x="6343200" y="4707000"/>
                <a:ext cx="282240" cy="26856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V="1">
                <a:off x="6376320" y="4674960"/>
                <a:ext cx="283680" cy="27288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625800" y="4674960"/>
                <a:ext cx="317160" cy="410400"/>
              </a:xfrm>
              <a:custGeom>
                <a:avLst/>
                <a:gdLst/>
                <a:ahLst/>
                <a:rect l="l" t="t" r="r" b="b"/>
                <a:pathLst>
                  <a:path w="210" h="281">
                    <a:moveTo>
                      <a:pt x="0" y="22"/>
                    </a:moveTo>
                    <a:lnTo>
                      <a:pt x="188" y="281"/>
                    </a:lnTo>
                    <a:lnTo>
                      <a:pt x="210" y="258"/>
                    </a:lnTo>
                    <a:lnTo>
                      <a:pt x="23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6625800" y="4707000"/>
                <a:ext cx="283680" cy="37836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6660360" y="4674960"/>
                <a:ext cx="282240" cy="37656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909480" y="4855680"/>
                <a:ext cx="319680" cy="229680"/>
              </a:xfrm>
              <a:custGeom>
                <a:avLst/>
                <a:gdLst/>
                <a:ahLst/>
                <a:rect l="l" t="t" r="r" b="b"/>
                <a:pathLst>
                  <a:path w="212" h="157">
                    <a:moveTo>
                      <a:pt x="0" y="157"/>
                    </a:moveTo>
                    <a:lnTo>
                      <a:pt x="190" y="18"/>
                    </a:lnTo>
                    <a:lnTo>
                      <a:pt x="212" y="0"/>
                    </a:lnTo>
                    <a:lnTo>
                      <a:pt x="22" y="134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V="1">
                <a:off x="6909480" y="4882320"/>
                <a:ext cx="286560" cy="20304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V="1">
                <a:off x="6942960" y="4855680"/>
                <a:ext cx="286560" cy="19584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196400" y="4855680"/>
                <a:ext cx="317160" cy="48240"/>
              </a:xfrm>
              <a:custGeom>
                <a:avLst/>
                <a:gdLst/>
                <a:ahLst/>
                <a:rect l="l" t="t" r="r" b="b"/>
                <a:pathLst>
                  <a:path w="210" h="33">
                    <a:moveTo>
                      <a:pt x="0" y="18"/>
                    </a:moveTo>
                    <a:lnTo>
                      <a:pt x="188" y="33"/>
                    </a:lnTo>
                    <a:lnTo>
                      <a:pt x="210" y="15"/>
                    </a:lnTo>
                    <a:lnTo>
                      <a:pt x="22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7196400" y="4882320"/>
                <a:ext cx="283680" cy="2160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7229520" y="4855680"/>
                <a:ext cx="283680" cy="2196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480080" y="4878000"/>
                <a:ext cx="315720" cy="239400"/>
              </a:xfrm>
              <a:custGeom>
                <a:avLst/>
                <a:gdLst/>
                <a:ahLst/>
                <a:rect l="l" t="t" r="r" b="b"/>
                <a:pathLst>
                  <a:path w="209" h="164">
                    <a:moveTo>
                      <a:pt x="0" y="18"/>
                    </a:moveTo>
                    <a:lnTo>
                      <a:pt x="190" y="164"/>
                    </a:lnTo>
                    <a:lnTo>
                      <a:pt x="209" y="145"/>
                    </a:lnTo>
                    <a:lnTo>
                      <a:pt x="22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7480080" y="4904280"/>
                <a:ext cx="286920" cy="21312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7513560" y="4878000"/>
                <a:ext cx="282240" cy="21168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767360" y="5019480"/>
                <a:ext cx="317160" cy="97920"/>
              </a:xfrm>
              <a:custGeom>
                <a:avLst/>
                <a:gdLst/>
                <a:ahLst/>
                <a:rect l="l" t="t" r="r" b="b"/>
                <a:pathLst>
                  <a:path w="210" h="67">
                    <a:moveTo>
                      <a:pt x="0" y="67"/>
                    </a:moveTo>
                    <a:lnTo>
                      <a:pt x="187" y="19"/>
                    </a:lnTo>
                    <a:lnTo>
                      <a:pt x="210" y="0"/>
                    </a:lnTo>
                    <a:lnTo>
                      <a:pt x="19" y="48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V="1">
                <a:off x="7767360" y="5047200"/>
                <a:ext cx="282240" cy="7020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flipV="1">
                <a:off x="7796160" y="5019120"/>
                <a:ext cx="288360" cy="70200"/>
              </a:xfrm>
              <a:prstGeom prst="line">
                <a:avLst/>
              </a:prstGeom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V="1">
                <a:off x="8049960" y="4861440"/>
                <a:ext cx="115920" cy="18540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6175440" y="4165920"/>
                <a:ext cx="1440" cy="144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V="1">
                <a:off x="6175440" y="3952800"/>
                <a:ext cx="246240" cy="21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8415360" y="3952800"/>
                <a:ext cx="1080" cy="144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6175440" y="5610240"/>
                <a:ext cx="19936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V="1">
                <a:off x="8169120" y="5396760"/>
                <a:ext cx="246240" cy="21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6421680" y="3952800"/>
                <a:ext cx="1993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6" name=""/>
            <p:cNvSpPr/>
            <p:nvPr/>
          </p:nvSpPr>
          <p:spPr>
            <a:xfrm>
              <a:off x="6263640" y="5600880"/>
              <a:ext cx="21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 combin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7" name=""/>
          <p:cNvGrpSpPr/>
          <p:nvPr/>
        </p:nvGrpSpPr>
        <p:grpSpPr>
          <a:xfrm>
            <a:off x="6105600" y="6305400"/>
            <a:ext cx="2647800" cy="304920"/>
            <a:chOff x="6105600" y="6305400"/>
            <a:chExt cx="2647800" cy="304920"/>
          </a:xfrm>
        </p:grpSpPr>
        <p:sp>
          <p:nvSpPr>
            <p:cNvPr id="2178" name=""/>
            <p:cNvSpPr/>
            <p:nvPr/>
          </p:nvSpPr>
          <p:spPr>
            <a:xfrm>
              <a:off x="6105600" y="6477120"/>
              <a:ext cx="26478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 txBox="1"/>
            <p:nvPr/>
          </p:nvSpPr>
          <p:spPr>
            <a:xfrm>
              <a:off x="6410160" y="6305400"/>
              <a:ext cx="203868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EXAMPLES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checker dir="horz"/>
  </p:transition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0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3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7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"/>
          <p:cNvSpPr/>
          <p:nvPr/>
        </p:nvSpPr>
        <p:spPr>
          <a:xfrm>
            <a:off x="4317840" y="2284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4406760" y="2284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573440" y="2284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737240" y="2284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4797360" y="2284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202360" y="2284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5276880" y="2284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440320" y="2284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532480" y="2284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695920" y="2284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5861160" y="2284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2505240" y="1600200"/>
            <a:ext cx="4171680" cy="60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5100" dir="749886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Time Plo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2" name=""/>
          <p:cNvGrpSpPr/>
          <p:nvPr/>
        </p:nvGrpSpPr>
        <p:grpSpPr>
          <a:xfrm>
            <a:off x="3537000" y="79200"/>
            <a:ext cx="2158920" cy="1320840"/>
            <a:chOff x="3537000" y="79200"/>
            <a:chExt cx="2158920" cy="1320840"/>
          </a:xfrm>
        </p:grpSpPr>
        <p:pic>
          <p:nvPicPr>
            <p:cNvPr id="2193" name="" descr=""/>
            <p:cNvPicPr/>
            <p:nvPr/>
          </p:nvPicPr>
          <p:blipFill>
            <a:blip r:embed="rId2"/>
            <a:stretch/>
          </p:blipFill>
          <p:spPr>
            <a:xfrm>
              <a:off x="3537000" y="85680"/>
              <a:ext cx="2158920" cy="1314360"/>
            </a:xfrm>
            <a:prstGeom prst="rect">
              <a:avLst/>
            </a:prstGeom>
            <a:ln w="0">
              <a:noFill/>
            </a:ln>
            <a:effectLst>
              <a:outerShdw dist="127008" dir="3183908" blurRad="0" rotWithShape="0">
                <a:srgbClr val="000000"/>
              </a:outerShdw>
            </a:effectLst>
          </p:spPr>
        </p:pic>
        <p:sp>
          <p:nvSpPr>
            <p:cNvPr id="2194" name=""/>
            <p:cNvSpPr/>
            <p:nvPr/>
          </p:nvSpPr>
          <p:spPr>
            <a:xfrm>
              <a:off x="3949920" y="79200"/>
              <a:ext cx="136656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ff00"/>
                  </a:solidFill>
                  <a:latin typeface="Times New Roman"/>
                </a:rPr>
                <a:t>Lin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 txBox="1"/>
            <p:nvPr/>
          </p:nvSpPr>
          <p:spPr>
            <a:xfrm>
              <a:off x="3652920" y="824040"/>
              <a:ext cx="1971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>
                      <a:alpha val="50000"/>
                    </a:srgbClr>
                  </a:solidFill>
                  <a:latin typeface="Times New Roman"/>
                </a:rPr>
                <a:t>Chart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2196" name=""/>
          <p:cNvGrpSpPr/>
          <p:nvPr/>
        </p:nvGrpSpPr>
        <p:grpSpPr>
          <a:xfrm>
            <a:off x="851400" y="2362320"/>
            <a:ext cx="7395480" cy="4566240"/>
            <a:chOff x="851400" y="2362320"/>
            <a:chExt cx="7395480" cy="4566240"/>
          </a:xfrm>
        </p:grpSpPr>
        <p:grpSp>
          <p:nvGrpSpPr>
            <p:cNvPr id="2197" name=""/>
            <p:cNvGrpSpPr/>
            <p:nvPr/>
          </p:nvGrpSpPr>
          <p:grpSpPr>
            <a:xfrm>
              <a:off x="851400" y="2362320"/>
              <a:ext cx="7395480" cy="4566240"/>
              <a:chOff x="851400" y="2362320"/>
              <a:chExt cx="7395480" cy="4566240"/>
            </a:xfrm>
          </p:grpSpPr>
          <p:sp>
            <p:nvSpPr>
              <p:cNvPr id="2198" name=""/>
              <p:cNvSpPr/>
              <p:nvPr/>
            </p:nvSpPr>
            <p:spPr>
              <a:xfrm>
                <a:off x="903240" y="2362320"/>
                <a:ext cx="7343640" cy="3922560"/>
              </a:xfrm>
              <a:custGeom>
                <a:avLst/>
                <a:gdLst/>
                <a:ahLst/>
                <a:rect l="l" t="t" r="r" b="b"/>
                <a:pathLst>
                  <a:path w="3671" h="2579">
                    <a:moveTo>
                      <a:pt x="0" y="2579"/>
                    </a:moveTo>
                    <a:lnTo>
                      <a:pt x="3671" y="2579"/>
                    </a:lnTo>
                    <a:lnTo>
                      <a:pt x="3671" y="0"/>
                    </a:lnTo>
                    <a:lnTo>
                      <a:pt x="0" y="0"/>
                    </a:lnTo>
                    <a:lnTo>
                      <a:pt x="0" y="2579"/>
                    </a:lnTo>
                    <a:lnTo>
                      <a:pt x="0" y="2579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2125800" y="2792520"/>
                <a:ext cx="6006960" cy="3014640"/>
              </a:xfrm>
              <a:custGeom>
                <a:avLst/>
                <a:gdLst/>
                <a:ahLst/>
                <a:rect l="l" t="t" r="r" b="b"/>
                <a:pathLst>
                  <a:path w="2203" h="1546">
                    <a:moveTo>
                      <a:pt x="0" y="1546"/>
                    </a:moveTo>
                    <a:lnTo>
                      <a:pt x="2203" y="1546"/>
                    </a:lnTo>
                    <a:lnTo>
                      <a:pt x="2203" y="0"/>
                    </a:lnTo>
                    <a:lnTo>
                      <a:pt x="0" y="0"/>
                    </a:lnTo>
                    <a:lnTo>
                      <a:pt x="0" y="1546"/>
                    </a:lnTo>
                    <a:lnTo>
                      <a:pt x="0" y="154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7868520" y="5956560"/>
                <a:ext cx="128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Times New Roman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7699320" y="59565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7499160" y="59565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7376760" y="595656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Times New Roman"/>
                  </a:rPr>
                  <a:t>J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7208640" y="595656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Times New Roman"/>
                  </a:rPr>
                  <a:t>J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7016400" y="5956560"/>
                <a:ext cx="156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6867360" y="59565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6678360" y="5956560"/>
                <a:ext cx="156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6508800" y="595656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6359400" y="595656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Times New Roman"/>
                  </a:rPr>
                  <a:t>J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6149880" y="59565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00"/>
                    </a:solidFill>
                    <a:latin typeface="Times New Roman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977440" y="59565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ff"/>
                    </a:solidFill>
                    <a:latin typeface="Times New Roman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810400" y="5956560"/>
                <a:ext cx="128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ff"/>
                    </a:solidFill>
                    <a:latin typeface="Times New Roman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61000" y="59565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ff"/>
                    </a:solidFill>
                    <a:latin typeface="Times New Roman"/>
                  </a:rPr>
                  <a:t>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487840" y="59565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ff"/>
                    </a:solidFill>
                    <a:latin typeface="Times New Roman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338440" y="595656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ff"/>
                    </a:solidFill>
                    <a:latin typeface="Times New Roman"/>
                  </a:rPr>
                  <a:t>J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167080" y="595656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ff"/>
                    </a:solidFill>
                    <a:latin typeface="Times New Roman"/>
                  </a:rPr>
                  <a:t>J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4959000" y="5956560"/>
                <a:ext cx="156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ff"/>
                    </a:solidFill>
                    <a:latin typeface="Times New Roman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4808880" y="59565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ff"/>
                    </a:solidFill>
                    <a:latin typeface="Times New Roman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4620960" y="5956560"/>
                <a:ext cx="156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ff"/>
                    </a:solidFill>
                    <a:latin typeface="Times New Roman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469040" y="595656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ff"/>
                    </a:solidFill>
                    <a:latin typeface="Times New Roman"/>
                  </a:rPr>
                  <a:t>F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4297680" y="595656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ff"/>
                    </a:solidFill>
                    <a:latin typeface="Times New Roman"/>
                  </a:rPr>
                  <a:t>J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4109760" y="59565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ff"/>
                    </a:solidFill>
                    <a:latin typeface="Times New Roman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3939120" y="59565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ff"/>
                    </a:solidFill>
                    <a:latin typeface="Times New Roman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770280" y="5956560"/>
                <a:ext cx="128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ff"/>
                    </a:solidFill>
                    <a:latin typeface="Times New Roman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600360" y="59565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ff"/>
                    </a:solidFill>
                    <a:latin typeface="Times New Roman"/>
                  </a:rPr>
                  <a:t>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430440" y="59565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ff"/>
                    </a:solidFill>
                    <a:latin typeface="Times New Roman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3279600" y="595656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ff"/>
                    </a:solidFill>
                    <a:latin typeface="Times New Roman"/>
                  </a:rPr>
                  <a:t>J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3107880" y="595656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ff"/>
                    </a:solidFill>
                    <a:latin typeface="Times New Roman"/>
                  </a:rPr>
                  <a:t>J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2900160" y="5956560"/>
                <a:ext cx="156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ff"/>
                    </a:solidFill>
                    <a:latin typeface="Times New Roman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2749320" y="59565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ff"/>
                    </a:solidFill>
                    <a:latin typeface="Times New Roman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561760" y="5956560"/>
                <a:ext cx="156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ff"/>
                    </a:solidFill>
                    <a:latin typeface="Times New Roman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2410920" y="595656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ff"/>
                    </a:solidFill>
                    <a:latin typeface="Times New Roman"/>
                  </a:rPr>
                  <a:t>F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2255400" y="595656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00ff"/>
                    </a:solidFill>
                    <a:latin typeface="Times New Roman"/>
                  </a:rPr>
                  <a:t>J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7945560" y="5807160"/>
                <a:ext cx="144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7772400" y="5807160"/>
                <a:ext cx="324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7605720" y="5807160"/>
                <a:ext cx="144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7434360" y="5807160"/>
                <a:ext cx="288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7262640" y="5807160"/>
                <a:ext cx="504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094520" y="5807160"/>
                <a:ext cx="144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924600" y="5807160"/>
                <a:ext cx="180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753240" y="5807160"/>
                <a:ext cx="324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584760" y="5807160"/>
                <a:ext cx="180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415200" y="5807160"/>
                <a:ext cx="288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242040" y="5807160"/>
                <a:ext cx="468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6075360" y="5807160"/>
                <a:ext cx="144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5905440" y="5807160"/>
                <a:ext cx="324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5732280" y="5807160"/>
                <a:ext cx="504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5564160" y="5807160"/>
                <a:ext cx="324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5394240" y="5807160"/>
                <a:ext cx="468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5222880" y="5807160"/>
                <a:ext cx="324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5033880" y="5807160"/>
                <a:ext cx="468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4867200" y="5807160"/>
                <a:ext cx="180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4694040" y="5807160"/>
                <a:ext cx="180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4525920" y="5807160"/>
                <a:ext cx="324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356000" y="5807160"/>
                <a:ext cx="324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184640" y="5807160"/>
                <a:ext cx="144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4016520" y="5807160"/>
                <a:ext cx="144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3846600" y="5807160"/>
                <a:ext cx="144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3674880" y="5807160"/>
                <a:ext cx="324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506760" y="5807160"/>
                <a:ext cx="144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336840" y="5807160"/>
                <a:ext cx="324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63680" y="5807160"/>
                <a:ext cx="504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2995560" y="5807160"/>
                <a:ext cx="324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2825640" y="5807160"/>
                <a:ext cx="468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2654280" y="5807160"/>
                <a:ext cx="324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2486160" y="5807160"/>
                <a:ext cx="144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2314440" y="5807160"/>
                <a:ext cx="1800" cy="108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446120" y="275112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577520" y="2751120"/>
                <a:ext cx="6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0000"/>
                    </a:solidFill>
                    <a:latin typeface="Times New Roman"/>
                  </a:rPr>
                  <a:t>.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636560" y="275112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446120" y="3699000"/>
                <a:ext cx="1033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577520" y="3699000"/>
                <a:ext cx="6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0000"/>
                    </a:solidFill>
                    <a:latin typeface="Times New Roman"/>
                  </a:rPr>
                  <a:t>.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636560" y="369900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433160" y="4575240"/>
                <a:ext cx="3024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0000"/>
                    </a:solidFill>
                    <a:latin typeface="Times New Roman"/>
                  </a:rPr>
                  <a:t>6.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1446120" y="557712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1577520" y="5577120"/>
                <a:ext cx="615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0000"/>
                    </a:solidFill>
                    <a:latin typeface="Times New Roman"/>
                  </a:rPr>
                  <a:t>.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1636560" y="5577120"/>
                <a:ext cx="120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flipH="1">
                <a:off x="1917720" y="2826000"/>
                <a:ext cx="208080" cy="2880"/>
              </a:xfrm>
              <a:prstGeom prst="line">
                <a:avLst/>
              </a:prstGeom>
              <a:ln w="11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H="1">
                <a:off x="1917720" y="3792600"/>
                <a:ext cx="208080" cy="1440"/>
              </a:xfrm>
              <a:prstGeom prst="line">
                <a:avLst/>
              </a:prstGeom>
              <a:ln w="11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H="1">
                <a:off x="1917720" y="4724640"/>
                <a:ext cx="208080" cy="1440"/>
              </a:xfrm>
              <a:prstGeom prst="line">
                <a:avLst/>
              </a:prstGeom>
              <a:ln w="11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H="1">
                <a:off x="1917720" y="5673960"/>
                <a:ext cx="208080" cy="1440"/>
              </a:xfrm>
              <a:prstGeom prst="line">
                <a:avLst/>
              </a:prstGeom>
              <a:ln w="11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144080" y="5956560"/>
                <a:ext cx="156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ff"/>
                    </a:solidFill>
                    <a:latin typeface="Times New Roman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313280" y="595656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ff"/>
                    </a:solidFill>
                    <a:latin typeface="Times New Roman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1446120" y="59565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ff"/>
                    </a:solidFill>
                    <a:latin typeface="Times New Roman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1577880" y="595656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636560" y="59565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ff"/>
                    </a:solidFill>
                    <a:latin typeface="Times New Roman"/>
                  </a:rPr>
                  <a:t>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2222640" y="5807160"/>
                <a:ext cx="581472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flipV="1">
                <a:off x="2125800" y="2844360"/>
                <a:ext cx="2880" cy="2907000"/>
              </a:xfrm>
              <a:prstGeom prst="line">
                <a:avLst/>
              </a:prstGeom>
              <a:ln w="11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907400" y="3657600"/>
                <a:ext cx="92160" cy="66600"/>
              </a:xfrm>
              <a:prstGeom prst="ellipse">
                <a:avLst/>
              </a:prstGeom>
              <a:noFill/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734240" y="3846600"/>
                <a:ext cx="96840" cy="65160"/>
              </a:xfrm>
              <a:prstGeom prst="ellipse">
                <a:avLst/>
              </a:prstGeom>
              <a:noFill/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7564320" y="4035600"/>
                <a:ext cx="96840" cy="66600"/>
              </a:xfrm>
              <a:prstGeom prst="ellipse">
                <a:avLst/>
              </a:prstGeom>
              <a:noFill/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396200" y="4035600"/>
                <a:ext cx="92160" cy="66600"/>
              </a:xfrm>
              <a:prstGeom prst="ellipse">
                <a:avLst/>
              </a:prstGeom>
              <a:noFill/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224840" y="3751200"/>
                <a:ext cx="96840" cy="68400"/>
              </a:xfrm>
              <a:prstGeom prst="ellipse">
                <a:avLst/>
              </a:prstGeom>
              <a:noFill/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7056360" y="3940200"/>
                <a:ext cx="95400" cy="68400"/>
              </a:xfrm>
              <a:prstGeom prst="ellipse">
                <a:avLst/>
              </a:prstGeom>
              <a:noFill/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6886440" y="3940200"/>
                <a:ext cx="92160" cy="68400"/>
              </a:xfrm>
              <a:prstGeom prst="ellipse">
                <a:avLst/>
              </a:prstGeom>
              <a:noFill/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6715080" y="5172120"/>
                <a:ext cx="95400" cy="68400"/>
              </a:xfrm>
              <a:prstGeom prst="ellipse">
                <a:avLst/>
              </a:prstGeom>
              <a:noFill/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6546960" y="5077080"/>
                <a:ext cx="93600" cy="66600"/>
              </a:xfrm>
              <a:prstGeom prst="ellipse">
                <a:avLst/>
              </a:prstGeom>
              <a:noFill/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6377040" y="5361120"/>
                <a:ext cx="92160" cy="66600"/>
              </a:xfrm>
              <a:prstGeom prst="ellipse">
                <a:avLst/>
              </a:prstGeom>
              <a:noFill/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205680" y="5361120"/>
                <a:ext cx="95040" cy="66600"/>
              </a:xfrm>
              <a:prstGeom prst="ellipse">
                <a:avLst/>
              </a:prstGeom>
              <a:noFill/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037200" y="4983120"/>
                <a:ext cx="93600" cy="66960"/>
              </a:xfrm>
              <a:prstGeom prst="ellipse">
                <a:avLst/>
              </a:prstGeom>
              <a:noFill/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867280" y="5645160"/>
                <a:ext cx="93600" cy="68400"/>
              </a:xfrm>
              <a:prstGeom prst="ellipse">
                <a:avLst/>
              </a:prstGeom>
              <a:noFill/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694480" y="3468600"/>
                <a:ext cx="96840" cy="66960"/>
              </a:xfrm>
              <a:prstGeom prst="ellipse">
                <a:avLst/>
              </a:prstGeom>
              <a:noFill/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526000" y="5550120"/>
                <a:ext cx="96840" cy="68040"/>
              </a:xfrm>
              <a:prstGeom prst="ellipse">
                <a:avLst/>
              </a:prstGeom>
              <a:noFill/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5356080" y="4889520"/>
                <a:ext cx="93600" cy="66600"/>
              </a:xfrm>
              <a:prstGeom prst="ellipse">
                <a:avLst/>
              </a:prstGeom>
              <a:noFill/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5184720" y="4603680"/>
                <a:ext cx="95400" cy="66960"/>
              </a:xfrm>
              <a:prstGeom prst="ellipse">
                <a:avLst/>
              </a:prstGeom>
              <a:noFill/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4995720" y="4508640"/>
                <a:ext cx="96840" cy="68040"/>
              </a:xfrm>
              <a:prstGeom prst="ellipse">
                <a:avLst/>
              </a:prstGeom>
              <a:noFill/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4829040" y="3657600"/>
                <a:ext cx="92160" cy="66600"/>
              </a:xfrm>
              <a:prstGeom prst="ellipse">
                <a:avLst/>
              </a:prstGeom>
              <a:noFill/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4656240" y="3373560"/>
                <a:ext cx="96840" cy="68400"/>
              </a:xfrm>
              <a:prstGeom prst="ellipse">
                <a:avLst/>
              </a:prstGeom>
              <a:noFill/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4486320" y="4035600"/>
                <a:ext cx="96840" cy="66600"/>
              </a:xfrm>
              <a:prstGeom prst="ellipse">
                <a:avLst/>
              </a:prstGeom>
              <a:noFill/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4317840" y="3751200"/>
                <a:ext cx="92160" cy="68400"/>
              </a:xfrm>
              <a:prstGeom prst="ellipse">
                <a:avLst/>
              </a:prstGeom>
              <a:noFill/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4146480" y="4508640"/>
                <a:ext cx="95400" cy="68040"/>
              </a:xfrm>
              <a:prstGeom prst="ellipse">
                <a:avLst/>
              </a:prstGeom>
              <a:noFill/>
              <a:ln w="11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3978360" y="4226040"/>
                <a:ext cx="93600" cy="68400"/>
              </a:xfrm>
              <a:prstGeom prst="ellipse">
                <a:avLst/>
              </a:prstGeom>
              <a:noFill/>
              <a:ln w="11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3808440" y="2898720"/>
                <a:ext cx="92160" cy="68400"/>
              </a:xfrm>
              <a:prstGeom prst="ellipse">
                <a:avLst/>
              </a:prstGeom>
              <a:noFill/>
              <a:ln w="11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3637080" y="3087720"/>
                <a:ext cx="95040" cy="69840"/>
              </a:xfrm>
              <a:prstGeom prst="ellipse">
                <a:avLst/>
              </a:prstGeom>
              <a:noFill/>
              <a:ln w="11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3468600" y="4508640"/>
                <a:ext cx="93600" cy="68040"/>
              </a:xfrm>
              <a:prstGeom prst="ellipse">
                <a:avLst/>
              </a:prstGeom>
              <a:noFill/>
              <a:ln w="11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3298680" y="4415040"/>
                <a:ext cx="92160" cy="68040"/>
              </a:xfrm>
              <a:prstGeom prst="ellipse">
                <a:avLst/>
              </a:prstGeom>
              <a:noFill/>
              <a:ln w="11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3125880" y="3940200"/>
                <a:ext cx="96840" cy="68400"/>
              </a:xfrm>
              <a:prstGeom prst="ellipse">
                <a:avLst/>
              </a:prstGeom>
              <a:noFill/>
              <a:ln w="11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2959200" y="3560760"/>
                <a:ext cx="93600" cy="68400"/>
              </a:xfrm>
              <a:prstGeom prst="ellipse">
                <a:avLst/>
              </a:prstGeom>
              <a:noFill/>
              <a:ln w="11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2787480" y="3468600"/>
                <a:ext cx="95400" cy="66960"/>
              </a:xfrm>
              <a:prstGeom prst="ellipse">
                <a:avLst/>
              </a:prstGeom>
              <a:noFill/>
              <a:ln w="11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2616120" y="3087720"/>
                <a:ext cx="96840" cy="69840"/>
              </a:xfrm>
              <a:prstGeom prst="ellipse">
                <a:avLst/>
              </a:prstGeom>
              <a:noFill/>
              <a:ln w="11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2448000" y="4318200"/>
                <a:ext cx="93600" cy="68040"/>
              </a:xfrm>
              <a:prstGeom prst="ellipse">
                <a:avLst/>
              </a:prstGeom>
              <a:noFill/>
              <a:ln w="11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2278080" y="4226040"/>
                <a:ext cx="93600" cy="68400"/>
              </a:xfrm>
              <a:prstGeom prst="ellipse">
                <a:avLst/>
              </a:prstGeom>
              <a:noFill/>
              <a:ln w="11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2314440" y="2925720"/>
                <a:ext cx="5631120" cy="2748240"/>
              </a:xfrm>
              <a:custGeom>
                <a:avLst/>
                <a:gdLst/>
                <a:ahLst/>
                <a:rect l="l" t="t" r="r" b="b"/>
                <a:pathLst>
                  <a:path w="2065" h="1408">
                    <a:moveTo>
                      <a:pt x="0" y="680"/>
                    </a:moveTo>
                    <a:lnTo>
                      <a:pt x="63" y="728"/>
                    </a:lnTo>
                    <a:lnTo>
                      <a:pt x="125" y="97"/>
                    </a:lnTo>
                    <a:lnTo>
                      <a:pt x="188" y="291"/>
                    </a:lnTo>
                    <a:lnTo>
                      <a:pt x="250" y="340"/>
                    </a:lnTo>
                    <a:lnTo>
                      <a:pt x="312" y="534"/>
                    </a:lnTo>
                    <a:lnTo>
                      <a:pt x="375" y="777"/>
                    </a:lnTo>
                    <a:lnTo>
                      <a:pt x="437" y="825"/>
                    </a:lnTo>
                    <a:lnTo>
                      <a:pt x="499" y="97"/>
                    </a:lnTo>
                    <a:lnTo>
                      <a:pt x="562" y="0"/>
                    </a:lnTo>
                    <a:lnTo>
                      <a:pt x="624" y="680"/>
                    </a:lnTo>
                    <a:lnTo>
                      <a:pt x="686" y="825"/>
                    </a:lnTo>
                    <a:lnTo>
                      <a:pt x="749" y="437"/>
                    </a:lnTo>
                    <a:lnTo>
                      <a:pt x="811" y="583"/>
                    </a:lnTo>
                    <a:lnTo>
                      <a:pt x="873" y="243"/>
                    </a:lnTo>
                    <a:lnTo>
                      <a:pt x="936" y="389"/>
                    </a:lnTo>
                    <a:lnTo>
                      <a:pt x="998" y="825"/>
                    </a:lnTo>
                    <a:lnTo>
                      <a:pt x="1067" y="874"/>
                    </a:lnTo>
                    <a:lnTo>
                      <a:pt x="1130" y="1019"/>
                    </a:lnTo>
                    <a:lnTo>
                      <a:pt x="1192" y="1359"/>
                    </a:lnTo>
                    <a:lnTo>
                      <a:pt x="1254" y="291"/>
                    </a:lnTo>
                    <a:lnTo>
                      <a:pt x="1317" y="1408"/>
                    </a:lnTo>
                    <a:lnTo>
                      <a:pt x="1379" y="1068"/>
                    </a:lnTo>
                    <a:lnTo>
                      <a:pt x="1441" y="1262"/>
                    </a:lnTo>
                    <a:lnTo>
                      <a:pt x="1504" y="1262"/>
                    </a:lnTo>
                    <a:lnTo>
                      <a:pt x="1566" y="1117"/>
                    </a:lnTo>
                    <a:lnTo>
                      <a:pt x="1628" y="1165"/>
                    </a:lnTo>
                    <a:lnTo>
                      <a:pt x="1691" y="534"/>
                    </a:lnTo>
                    <a:lnTo>
                      <a:pt x="1753" y="534"/>
                    </a:lnTo>
                    <a:lnTo>
                      <a:pt x="1815" y="437"/>
                    </a:lnTo>
                    <a:lnTo>
                      <a:pt x="1878" y="583"/>
                    </a:lnTo>
                    <a:lnTo>
                      <a:pt x="1940" y="583"/>
                    </a:lnTo>
                    <a:lnTo>
                      <a:pt x="2002" y="486"/>
                    </a:lnTo>
                    <a:lnTo>
                      <a:pt x="2065" y="389"/>
                    </a:lnTo>
                  </a:path>
                </a:pathLst>
              </a:cu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4" name=""/>
              <p:cNvGrpSpPr/>
              <p:nvPr/>
            </p:nvGrpSpPr>
            <p:grpSpPr>
              <a:xfrm>
                <a:off x="3163320" y="2430720"/>
                <a:ext cx="3904560" cy="274680"/>
                <a:chOff x="3163320" y="2430720"/>
                <a:chExt cx="3904560" cy="274680"/>
              </a:xfrm>
            </p:grpSpPr>
            <p:sp>
              <p:nvSpPr>
                <p:cNvPr id="2325" name=""/>
                <p:cNvSpPr/>
                <p:nvPr/>
              </p:nvSpPr>
              <p:spPr>
                <a:xfrm>
                  <a:off x="3163320" y="2430720"/>
                  <a:ext cx="1911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3447360" y="2430720"/>
                  <a:ext cx="1407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3655440" y="2430720"/>
                  <a:ext cx="1407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3845160" y="2430720"/>
                  <a:ext cx="770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3937320" y="2430720"/>
                  <a:ext cx="1407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4124520" y="2430720"/>
                  <a:ext cx="64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4203720" y="2430720"/>
                  <a:ext cx="1270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4375440" y="2430720"/>
                  <a:ext cx="64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4467600" y="2430720"/>
                  <a:ext cx="153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4713480" y="2430720"/>
                  <a:ext cx="770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4807800" y="2430720"/>
                  <a:ext cx="1270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5015880" y="2430720"/>
                  <a:ext cx="1270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5221800" y="2430720"/>
                  <a:ext cx="64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5299920" y="2430720"/>
                  <a:ext cx="64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5394240" y="2430720"/>
                  <a:ext cx="153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5639760" y="2430720"/>
                  <a:ext cx="892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5750640" y="2430720"/>
                  <a:ext cx="1407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5960520" y="2430720"/>
                  <a:ext cx="1407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6170760" y="2430720"/>
                  <a:ext cx="1407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6359400" y="2430720"/>
                  <a:ext cx="1270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6546600" y="2430720"/>
                  <a:ext cx="770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6641640" y="2430720"/>
                  <a:ext cx="64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6714720" y="2430720"/>
                  <a:ext cx="1407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6927120" y="2430720"/>
                  <a:ext cx="1407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9" name=""/>
              <p:cNvSpPr/>
              <p:nvPr/>
            </p:nvSpPr>
            <p:spPr>
              <a:xfrm rot="16169400">
                <a:off x="-58680" y="4023720"/>
                <a:ext cx="230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Millions of T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 flipV="1">
                <a:off x="4216320" y="2792160"/>
                <a:ext cx="0" cy="297972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 flipV="1">
                <a:off x="6232320" y="2792160"/>
                <a:ext cx="0" cy="2979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778120" y="622476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ff"/>
                    </a:solidFill>
                    <a:latin typeface="Times New Roman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5140080" y="622476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200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6924600" y="6224760"/>
                <a:ext cx="7812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2002      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5" name=""/>
            <p:cNvSpPr/>
            <p:nvPr/>
          </p:nvSpPr>
          <p:spPr>
            <a:xfrm>
              <a:off x="2677320" y="2386080"/>
              <a:ext cx="4859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 o n t h l y   S t e e l   P r o d u c t i o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fill="hold">
                      <p:stCondLst>
                        <p:cond delay="0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9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500"/>
                            </p:stCondLst>
                            <p:childTnLst>
                              <p:par>
                                <p:cTn id="202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23" dur="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6" name=""/>
          <p:cNvGrpSpPr/>
          <p:nvPr/>
        </p:nvGrpSpPr>
        <p:grpSpPr>
          <a:xfrm>
            <a:off x="1971720" y="1754280"/>
            <a:ext cx="5408640" cy="4302000"/>
            <a:chOff x="1971720" y="1754280"/>
            <a:chExt cx="5408640" cy="4302000"/>
          </a:xfrm>
        </p:grpSpPr>
        <p:sp>
          <p:nvSpPr>
            <p:cNvPr id="2357" name=""/>
            <p:cNvSpPr/>
            <p:nvPr/>
          </p:nvSpPr>
          <p:spPr>
            <a:xfrm>
              <a:off x="1971720" y="1754280"/>
              <a:ext cx="5408640" cy="4302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041200" y="1893600"/>
              <a:ext cx="5302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mployment Rate in Canadian C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9" name=""/>
            <p:cNvGrpSpPr/>
            <p:nvPr/>
          </p:nvGrpSpPr>
          <p:grpSpPr>
            <a:xfrm>
              <a:off x="2645640" y="2463480"/>
              <a:ext cx="4356720" cy="2748600"/>
              <a:chOff x="2645640" y="2463480"/>
              <a:chExt cx="4356720" cy="2748600"/>
            </a:xfrm>
          </p:grpSpPr>
          <p:sp>
            <p:nvSpPr>
              <p:cNvPr id="2360" name=""/>
              <p:cNvSpPr/>
              <p:nvPr/>
            </p:nvSpPr>
            <p:spPr>
              <a:xfrm>
                <a:off x="2908440" y="2563200"/>
                <a:ext cx="4093920" cy="253656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908440" y="4820760"/>
                <a:ext cx="40939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908440" y="4541400"/>
                <a:ext cx="40939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2908440" y="4250880"/>
                <a:ext cx="40939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2908440" y="3971520"/>
                <a:ext cx="40939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2908440" y="3692160"/>
                <a:ext cx="40939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2908440" y="3412800"/>
                <a:ext cx="40939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2908440" y="3122280"/>
                <a:ext cx="40939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2908440" y="2842560"/>
                <a:ext cx="409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2908440" y="2563200"/>
                <a:ext cx="409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2908440" y="2563200"/>
                <a:ext cx="4093920" cy="2536560"/>
              </a:xfrm>
              <a:prstGeom prst="rect">
                <a:avLst/>
              </a:prstGeom>
              <a:noFill/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2908440" y="2563200"/>
                <a:ext cx="1440" cy="253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2859120" y="5100120"/>
                <a:ext cx="49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2859120" y="4820760"/>
                <a:ext cx="49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2859120" y="4541400"/>
                <a:ext cx="49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2859120" y="4250880"/>
                <a:ext cx="49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2859120" y="3971520"/>
                <a:ext cx="49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2859120" y="3692160"/>
                <a:ext cx="49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2859120" y="3412800"/>
                <a:ext cx="49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2859120" y="3122280"/>
                <a:ext cx="49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2859120" y="284256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2859120" y="256320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2908440" y="5100120"/>
                <a:ext cx="40939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V="1">
                <a:off x="2908440" y="509976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flipV="1">
                <a:off x="3186000" y="509976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V="1">
                <a:off x="3454560" y="509976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V="1">
                <a:off x="3732120" y="509976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V="1">
                <a:off x="3998880" y="509976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V="1">
                <a:off x="4276800" y="509976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V="1">
                <a:off x="4543560" y="509976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V="1">
                <a:off x="4821120" y="509976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V="1">
                <a:off x="5089680" y="509976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V="1">
                <a:off x="5367240" y="509976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V="1">
                <a:off x="5635800" y="509976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V="1">
                <a:off x="5911920" y="509976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 flipV="1">
                <a:off x="6180120" y="509976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flipV="1">
                <a:off x="6458040" y="509976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6724800" y="509976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flipV="1">
                <a:off x="7002360" y="5099760"/>
                <a:ext cx="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2645640" y="499860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2645640" y="471924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2645640" y="44398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2645640" y="414936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2645640" y="387000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2645640" y="35920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2645640" y="331272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2645640" y="302220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2645640" y="274284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2645640" y="24634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9" name=""/>
            <p:cNvSpPr/>
            <p:nvPr/>
          </p:nvSpPr>
          <p:spPr>
            <a:xfrm rot="16200000">
              <a:off x="1264320" y="3732120"/>
              <a:ext cx="21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% employ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0" name=""/>
          <p:cNvGrpSpPr/>
          <p:nvPr/>
        </p:nvGrpSpPr>
        <p:grpSpPr>
          <a:xfrm>
            <a:off x="2465640" y="5103360"/>
            <a:ext cx="4467600" cy="722160"/>
            <a:chOff x="2465640" y="5103360"/>
            <a:chExt cx="4467600" cy="722160"/>
          </a:xfrm>
        </p:grpSpPr>
        <p:sp>
          <p:nvSpPr>
            <p:cNvPr id="2411" name=""/>
            <p:cNvSpPr/>
            <p:nvPr/>
          </p:nvSpPr>
          <p:spPr>
            <a:xfrm rot="19140000">
              <a:off x="6473520" y="52887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Halifa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rot="19140000">
              <a:off x="6077880" y="536364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Montre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rot="19140000">
              <a:off x="5619960" y="5363640"/>
              <a:ext cx="77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Sherbrook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rot="19140000">
              <a:off x="5628600" y="5284440"/>
              <a:ext cx="51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Quebe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rot="19140000">
              <a:off x="5338080" y="5297400"/>
              <a:ext cx="529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Toron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rot="19140000">
              <a:off x="4995720" y="5280120"/>
              <a:ext cx="601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Hamilt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rot="19140000">
              <a:off x="4602600" y="5352840"/>
              <a:ext cx="64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Kitchen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rot="19140000">
              <a:off x="4423320" y="5324400"/>
              <a:ext cx="51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Lond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rot="19140000">
              <a:off x="3946680" y="5397480"/>
              <a:ext cx="855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Thunder Ba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rot="19140000">
              <a:off x="3973320" y="5319360"/>
              <a:ext cx="466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Regin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rot="19140000">
              <a:off x="3535560" y="5365440"/>
              <a:ext cx="707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Saskato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rot="19140000">
              <a:off x="3311280" y="5316480"/>
              <a:ext cx="63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Winnipe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rot="19140000">
              <a:off x="2967840" y="5335200"/>
              <a:ext cx="692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Edmont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rot="19140000">
              <a:off x="2649600" y="5324400"/>
              <a:ext cx="71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Vancou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 rot="19140000">
              <a:off x="2457360" y="5328360"/>
              <a:ext cx="51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808080"/>
                  </a:solidFill>
                  <a:latin typeface="Arial"/>
                </a:rPr>
                <a:t>Victor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6" name=""/>
          <p:cNvSpPr/>
          <p:nvPr/>
        </p:nvSpPr>
        <p:spPr>
          <a:xfrm flipV="1">
            <a:off x="2892600" y="3828600"/>
            <a:ext cx="314280" cy="552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 flipV="1">
            <a:off x="3197160" y="3003480"/>
            <a:ext cx="273240" cy="844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3460680" y="3022560"/>
            <a:ext cx="285840" cy="82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3740040" y="3098880"/>
            <a:ext cx="304920" cy="393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 flipV="1">
            <a:off x="4044960" y="3003120"/>
            <a:ext cx="228600" cy="476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267080" y="3009960"/>
            <a:ext cx="324000" cy="8571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156280" y="3149640"/>
            <a:ext cx="279360" cy="406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 flipH="1">
            <a:off x="4825800" y="3137040"/>
            <a:ext cx="330120" cy="3808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 flipH="1">
            <a:off x="6184800" y="3873600"/>
            <a:ext cx="36216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H="1">
            <a:off x="5423040" y="3263760"/>
            <a:ext cx="304560" cy="292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5727600" y="3251160"/>
            <a:ext cx="241560" cy="806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H="1" flipV="1">
            <a:off x="5955840" y="4044960"/>
            <a:ext cx="228600" cy="63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 flipH="1">
            <a:off x="4581360" y="3492360"/>
            <a:ext cx="270000" cy="368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 flipH="1" flipV="1">
            <a:off x="6527520" y="3879720"/>
            <a:ext cx="291960" cy="6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0" name=""/>
          <p:cNvGrpSpPr/>
          <p:nvPr/>
        </p:nvGrpSpPr>
        <p:grpSpPr>
          <a:xfrm>
            <a:off x="3187800" y="3054240"/>
            <a:ext cx="3619440" cy="2108160"/>
            <a:chOff x="3187800" y="3054240"/>
            <a:chExt cx="3619440" cy="2108160"/>
          </a:xfrm>
        </p:grpSpPr>
        <p:sp>
          <p:nvSpPr>
            <p:cNvPr id="2441" name=""/>
            <p:cNvSpPr/>
            <p:nvPr/>
          </p:nvSpPr>
          <p:spPr>
            <a:xfrm>
              <a:off x="3187800" y="3892320"/>
              <a:ext cx="0" cy="12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454560" y="3092400"/>
              <a:ext cx="0" cy="20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746520" y="3130200"/>
              <a:ext cx="0" cy="19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038480" y="3473280"/>
              <a:ext cx="0" cy="166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267080" y="3054240"/>
              <a:ext cx="0" cy="20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597560" y="3854160"/>
              <a:ext cx="0" cy="127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838760" y="348588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130720" y="3193920"/>
              <a:ext cx="0" cy="19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H="1">
              <a:off x="5410080" y="3524040"/>
              <a:ext cx="12960" cy="157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715000" y="3308040"/>
              <a:ext cx="0" cy="180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956200" y="407016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184800" y="4108320"/>
              <a:ext cx="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527880" y="389232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807240" y="3904920"/>
              <a:ext cx="0" cy="12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3537000" y="79200"/>
            <a:ext cx="2158920" cy="1320840"/>
            <a:chOff x="3537000" y="79200"/>
            <a:chExt cx="2158920" cy="1320840"/>
          </a:xfrm>
        </p:grpSpPr>
        <p:pic>
          <p:nvPicPr>
            <p:cNvPr id="2456" name="" descr=""/>
            <p:cNvPicPr/>
            <p:nvPr/>
          </p:nvPicPr>
          <p:blipFill>
            <a:blip r:embed="rId2"/>
            <a:stretch/>
          </p:blipFill>
          <p:spPr>
            <a:xfrm>
              <a:off x="3537000" y="85680"/>
              <a:ext cx="2158920" cy="1314360"/>
            </a:xfrm>
            <a:prstGeom prst="rect">
              <a:avLst/>
            </a:prstGeom>
            <a:ln w="0">
              <a:noFill/>
            </a:ln>
            <a:effectLst>
              <a:outerShdw dist="127008" dir="3183908" blurRad="0" rotWithShape="0">
                <a:srgbClr val="000000"/>
              </a:outerShdw>
            </a:effectLst>
          </p:spPr>
        </p:pic>
        <p:sp>
          <p:nvSpPr>
            <p:cNvPr id="2457" name=""/>
            <p:cNvSpPr/>
            <p:nvPr/>
          </p:nvSpPr>
          <p:spPr>
            <a:xfrm>
              <a:off x="3949920" y="79200"/>
              <a:ext cx="136656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ff00"/>
                  </a:solidFill>
                  <a:latin typeface="Times New Roman"/>
                </a:rPr>
                <a:t>Lin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 txBox="1"/>
            <p:nvPr/>
          </p:nvSpPr>
          <p:spPr>
            <a:xfrm>
              <a:off x="3652920" y="824040"/>
              <a:ext cx="1971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>
                      <a:alpha val="50000"/>
                    </a:srgbClr>
                  </a:solidFill>
                  <a:latin typeface="Times New Roman"/>
                </a:rPr>
                <a:t>Chart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2459" name=""/>
          <p:cNvSpPr/>
          <p:nvPr/>
        </p:nvSpPr>
        <p:spPr>
          <a:xfrm>
            <a:off x="304920" y="5829480"/>
            <a:ext cx="8534160" cy="459720"/>
          </a:xfrm>
          <a:prstGeom prst="rect">
            <a:avLst/>
          </a:prstGeom>
          <a:gradFill rotWithShape="0">
            <a:gsLst>
              <a:gs pos="0">
                <a:srgbClr val="cbe5f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paring a Line Chart for this type of dat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s not overly use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024" dur="indefinite" restart="never" nodeType="tmRoot">
          <p:childTnLst>
            <p:seq>
              <p:cTn id="2025" dur="indefinite" nodeType="mainSeq">
                <p:childTnLst>
                  <p:par>
                    <p:cTn id="2026" fill="hold">
                      <p:stCondLst>
                        <p:cond delay="0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0" dur="500"/>
                                        <p:tgtEl>
                                          <p:spTgt spid="2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500"/>
                            </p:stCondLst>
                            <p:childTnLst>
                              <p:par>
                                <p:cTn id="20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2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8" dur="500"/>
                                        <p:tgtEl>
                                          <p:spTgt spid="2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2" dur="5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6" dur="500"/>
                                        <p:tgtEl>
                                          <p:spTgt spid="2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0" dur="500"/>
                                        <p:tgtEl>
                                          <p:spTgt spid="2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8" dur="500"/>
                                        <p:tgtEl>
                                          <p:spTgt spid="2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2" dur="500"/>
                                        <p:tgtEl>
                                          <p:spTgt spid="2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6" dur="500"/>
                                        <p:tgtEl>
                                          <p:spTgt spid="2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0" dur="5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5500"/>
                            </p:stCondLst>
                            <p:childTnLst>
                              <p:par>
                                <p:cTn id="2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4" dur="500"/>
                                        <p:tgtEl>
                                          <p:spTgt spid="2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8" dur="500"/>
                                        <p:tgtEl>
                                          <p:spTgt spid="2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2" dur="500"/>
                                        <p:tgtEl>
                                          <p:spTgt spid="2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6" dur="5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7500"/>
                            </p:stCondLst>
                            <p:childTnLst>
                              <p:par>
                                <p:cTn id="20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0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4" dur="500"/>
                                        <p:tgtEl>
                                          <p:spTgt spid="2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9" dur="500"/>
                                        <p:tgtEl>
                                          <p:spTgt spid="2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0" name=""/>
          <p:cNvGrpSpPr/>
          <p:nvPr/>
        </p:nvGrpSpPr>
        <p:grpSpPr>
          <a:xfrm>
            <a:off x="1866960" y="1704960"/>
            <a:ext cx="5408640" cy="4302000"/>
            <a:chOff x="1866960" y="1704960"/>
            <a:chExt cx="5408640" cy="4302000"/>
          </a:xfrm>
        </p:grpSpPr>
        <p:sp>
          <p:nvSpPr>
            <p:cNvPr id="2461" name=""/>
            <p:cNvSpPr/>
            <p:nvPr/>
          </p:nvSpPr>
          <p:spPr>
            <a:xfrm>
              <a:off x="1866960" y="1704960"/>
              <a:ext cx="5408640" cy="4302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936440" y="1844280"/>
              <a:ext cx="5302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mployment Rate in Canadian C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3" name=""/>
            <p:cNvGrpSpPr/>
            <p:nvPr/>
          </p:nvGrpSpPr>
          <p:grpSpPr>
            <a:xfrm>
              <a:off x="2540880" y="2414160"/>
              <a:ext cx="4356720" cy="2748600"/>
              <a:chOff x="2540880" y="2414160"/>
              <a:chExt cx="4356720" cy="2748600"/>
            </a:xfrm>
          </p:grpSpPr>
          <p:sp>
            <p:nvSpPr>
              <p:cNvPr id="2464" name=""/>
              <p:cNvSpPr/>
              <p:nvPr/>
            </p:nvSpPr>
            <p:spPr>
              <a:xfrm>
                <a:off x="2803680" y="2513880"/>
                <a:ext cx="4093920" cy="253656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2803680" y="4771440"/>
                <a:ext cx="40939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2803680" y="4492080"/>
                <a:ext cx="40939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2803680" y="4201560"/>
                <a:ext cx="40939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2803680" y="3922200"/>
                <a:ext cx="40939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2803680" y="3642840"/>
                <a:ext cx="40939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2803680" y="3363480"/>
                <a:ext cx="40939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2803680" y="3072960"/>
                <a:ext cx="40939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2803680" y="2793240"/>
                <a:ext cx="409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2803680" y="2513880"/>
                <a:ext cx="409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2803680" y="2513880"/>
                <a:ext cx="4093920" cy="2536560"/>
              </a:xfrm>
              <a:prstGeom prst="rect">
                <a:avLst/>
              </a:prstGeom>
              <a:noFill/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2803680" y="2513880"/>
                <a:ext cx="1440" cy="253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2754360" y="5050800"/>
                <a:ext cx="49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2754360" y="4771440"/>
                <a:ext cx="49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2754360" y="4492080"/>
                <a:ext cx="49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2754360" y="4201560"/>
                <a:ext cx="49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2754360" y="3922200"/>
                <a:ext cx="49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2754360" y="3642840"/>
                <a:ext cx="49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2754360" y="3363480"/>
                <a:ext cx="49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2754360" y="3072960"/>
                <a:ext cx="49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2754360" y="279324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2754360" y="251388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2803680" y="5050800"/>
                <a:ext cx="40939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V="1">
                <a:off x="2803680" y="50504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3081240" y="50504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V="1">
                <a:off x="3349800" y="50504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>
                <a:off x="3627360" y="50504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V="1">
                <a:off x="3894120" y="50504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V="1">
                <a:off x="4172040" y="50504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V="1">
                <a:off x="4438800" y="50504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V="1">
                <a:off x="4716360" y="50504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V="1">
                <a:off x="4984920" y="50504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V="1">
                <a:off x="5262480" y="50504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V="1">
                <a:off x="5531040" y="50504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V="1">
                <a:off x="5807160" y="50504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V="1">
                <a:off x="6075360" y="50504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V="1">
                <a:off x="6353280" y="50504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V="1">
                <a:off x="6620040" y="50504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V="1">
                <a:off x="6897600" y="5050440"/>
                <a:ext cx="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2540880" y="49492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2540880" y="466992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2540880" y="439056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2540880" y="410004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2540880" y="38206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2540880" y="354276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2540880" y="326340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2540880" y="29728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2540880" y="269352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2540880" y="241416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3" name=""/>
            <p:cNvSpPr/>
            <p:nvPr/>
          </p:nvSpPr>
          <p:spPr>
            <a:xfrm rot="16200000">
              <a:off x="1159560" y="3682800"/>
              <a:ext cx="2152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% employ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4" name=""/>
          <p:cNvGrpSpPr/>
          <p:nvPr/>
        </p:nvGrpSpPr>
        <p:grpSpPr>
          <a:xfrm>
            <a:off x="2468160" y="2900520"/>
            <a:ext cx="4367160" cy="2891520"/>
            <a:chOff x="2468160" y="2900520"/>
            <a:chExt cx="4367160" cy="2891520"/>
          </a:xfrm>
        </p:grpSpPr>
        <p:grpSp>
          <p:nvGrpSpPr>
            <p:cNvPr id="2515" name=""/>
            <p:cNvGrpSpPr/>
            <p:nvPr/>
          </p:nvGrpSpPr>
          <p:grpSpPr>
            <a:xfrm>
              <a:off x="6377400" y="3866400"/>
              <a:ext cx="457920" cy="1686960"/>
              <a:chOff x="6377400" y="3866400"/>
              <a:chExt cx="457920" cy="1686960"/>
            </a:xfrm>
          </p:grpSpPr>
          <p:sp>
            <p:nvSpPr>
              <p:cNvPr id="2516" name=""/>
              <p:cNvSpPr/>
              <p:nvPr/>
            </p:nvSpPr>
            <p:spPr>
              <a:xfrm flipH="1">
                <a:off x="6649200" y="3866400"/>
                <a:ext cx="120960" cy="118548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 rot="19140000">
                <a:off x="6375600" y="5254560"/>
                <a:ext cx="46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Halifa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8" name=""/>
            <p:cNvGrpSpPr/>
            <p:nvPr/>
          </p:nvGrpSpPr>
          <p:grpSpPr>
            <a:xfrm>
              <a:off x="5995800" y="3876120"/>
              <a:ext cx="552240" cy="1793160"/>
              <a:chOff x="5995800" y="3876120"/>
              <a:chExt cx="552240" cy="1793160"/>
            </a:xfrm>
          </p:grpSpPr>
          <p:sp>
            <p:nvSpPr>
              <p:cNvPr id="2519" name=""/>
              <p:cNvSpPr/>
              <p:nvPr/>
            </p:nvSpPr>
            <p:spPr>
              <a:xfrm flipH="1">
                <a:off x="6377040" y="3876120"/>
                <a:ext cx="111600" cy="117576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 rot="19140000">
                <a:off x="5978880" y="5329440"/>
                <a:ext cx="586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Montre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1" name=""/>
            <p:cNvGrpSpPr/>
            <p:nvPr/>
          </p:nvGrpSpPr>
          <p:grpSpPr>
            <a:xfrm>
              <a:off x="5625360" y="4041720"/>
              <a:ext cx="697320" cy="1728720"/>
              <a:chOff x="5625360" y="4041720"/>
              <a:chExt cx="697320" cy="1728720"/>
            </a:xfrm>
          </p:grpSpPr>
          <p:sp>
            <p:nvSpPr>
              <p:cNvPr id="2522" name=""/>
              <p:cNvSpPr/>
              <p:nvPr/>
            </p:nvSpPr>
            <p:spPr>
              <a:xfrm flipH="1">
                <a:off x="6093720" y="4041720"/>
                <a:ext cx="122040" cy="100980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 rot="19140000">
                <a:off x="5584680" y="5367600"/>
                <a:ext cx="777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Sherbrook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4" name=""/>
            <p:cNvGrpSpPr/>
            <p:nvPr/>
          </p:nvGrpSpPr>
          <p:grpSpPr>
            <a:xfrm>
              <a:off x="5487120" y="3975480"/>
              <a:ext cx="498240" cy="1591200"/>
              <a:chOff x="5487120" y="3975480"/>
              <a:chExt cx="498240" cy="1591200"/>
            </a:xfrm>
          </p:grpSpPr>
          <p:sp>
            <p:nvSpPr>
              <p:cNvPr id="2525" name=""/>
              <p:cNvSpPr/>
              <p:nvPr/>
            </p:nvSpPr>
            <p:spPr>
              <a:xfrm flipH="1">
                <a:off x="5824440" y="3975480"/>
                <a:ext cx="109080" cy="107640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rot="19140000">
                <a:off x="5478840" y="5250600"/>
                <a:ext cx="514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Quebe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7" name=""/>
            <p:cNvGrpSpPr/>
            <p:nvPr/>
          </p:nvGrpSpPr>
          <p:grpSpPr>
            <a:xfrm>
              <a:off x="5249160" y="3220920"/>
              <a:ext cx="509760" cy="2401560"/>
              <a:chOff x="5249160" y="3220920"/>
              <a:chExt cx="509760" cy="2401560"/>
            </a:xfrm>
          </p:grpSpPr>
          <p:sp>
            <p:nvSpPr>
              <p:cNvPr id="2528" name=""/>
              <p:cNvSpPr/>
              <p:nvPr/>
            </p:nvSpPr>
            <p:spPr>
              <a:xfrm flipH="1">
                <a:off x="5540040" y="3220920"/>
                <a:ext cx="123120" cy="183060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rot="19140000">
                <a:off x="5239080" y="5301360"/>
                <a:ext cx="529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Toront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0" name=""/>
            <p:cNvGrpSpPr/>
            <p:nvPr/>
          </p:nvGrpSpPr>
          <p:grpSpPr>
            <a:xfrm>
              <a:off x="4940640" y="3487680"/>
              <a:ext cx="563760" cy="2128320"/>
              <a:chOff x="4940640" y="3487680"/>
              <a:chExt cx="563760" cy="2128320"/>
            </a:xfrm>
          </p:grpSpPr>
          <p:sp>
            <p:nvSpPr>
              <p:cNvPr id="2531" name=""/>
              <p:cNvSpPr/>
              <p:nvPr/>
            </p:nvSpPr>
            <p:spPr>
              <a:xfrm flipH="1">
                <a:off x="5269680" y="3487680"/>
                <a:ext cx="109080" cy="156384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 rot="19140000">
                <a:off x="4921920" y="5271480"/>
                <a:ext cx="601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Hamilt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3" name=""/>
            <p:cNvGrpSpPr/>
            <p:nvPr/>
          </p:nvGrpSpPr>
          <p:grpSpPr>
            <a:xfrm>
              <a:off x="4616640" y="3089520"/>
              <a:ext cx="598320" cy="2588400"/>
              <a:chOff x="4616640" y="3089520"/>
              <a:chExt cx="598320" cy="2588400"/>
            </a:xfrm>
          </p:grpSpPr>
          <p:sp>
            <p:nvSpPr>
              <p:cNvPr id="2534" name=""/>
              <p:cNvSpPr/>
              <p:nvPr/>
            </p:nvSpPr>
            <p:spPr>
              <a:xfrm flipH="1">
                <a:off x="4988880" y="3089520"/>
                <a:ext cx="120960" cy="196200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rot="19140000">
                <a:off x="4592160" y="5318280"/>
                <a:ext cx="646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Kitchen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6" name=""/>
            <p:cNvGrpSpPr/>
            <p:nvPr/>
          </p:nvGrpSpPr>
          <p:grpSpPr>
            <a:xfrm>
              <a:off x="4332240" y="3465360"/>
              <a:ext cx="496800" cy="2140560"/>
              <a:chOff x="4332240" y="3465360"/>
              <a:chExt cx="496800" cy="2140560"/>
            </a:xfrm>
          </p:grpSpPr>
          <p:sp>
            <p:nvSpPr>
              <p:cNvPr id="2537" name=""/>
              <p:cNvSpPr/>
              <p:nvPr/>
            </p:nvSpPr>
            <p:spPr>
              <a:xfrm flipH="1">
                <a:off x="4715280" y="3465360"/>
                <a:ext cx="111240" cy="158616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rot="19140000">
                <a:off x="4324320" y="5290200"/>
                <a:ext cx="512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Lond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9" name=""/>
            <p:cNvGrpSpPr/>
            <p:nvPr/>
          </p:nvGrpSpPr>
          <p:grpSpPr>
            <a:xfrm>
              <a:off x="3897360" y="3798720"/>
              <a:ext cx="756000" cy="1993320"/>
              <a:chOff x="3897360" y="3798720"/>
              <a:chExt cx="756000" cy="1993320"/>
            </a:xfrm>
          </p:grpSpPr>
          <p:sp>
            <p:nvSpPr>
              <p:cNvPr id="2540" name=""/>
              <p:cNvSpPr/>
              <p:nvPr/>
            </p:nvSpPr>
            <p:spPr>
              <a:xfrm flipH="1">
                <a:off x="4433760" y="3798720"/>
                <a:ext cx="120600" cy="125280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rot="19140000">
                <a:off x="3847320" y="5364000"/>
                <a:ext cx="855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Thunder Ba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2" name=""/>
            <p:cNvGrpSpPr/>
            <p:nvPr/>
          </p:nvGrpSpPr>
          <p:grpSpPr>
            <a:xfrm>
              <a:off x="3876480" y="2900520"/>
              <a:ext cx="462600" cy="2685600"/>
              <a:chOff x="3876480" y="2900520"/>
              <a:chExt cx="462600" cy="2685600"/>
            </a:xfrm>
          </p:grpSpPr>
          <p:sp>
            <p:nvSpPr>
              <p:cNvPr id="2543" name=""/>
              <p:cNvSpPr/>
              <p:nvPr/>
            </p:nvSpPr>
            <p:spPr>
              <a:xfrm flipH="1">
                <a:off x="4160880" y="2900520"/>
                <a:ext cx="111240" cy="215136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rot="19140000">
                <a:off x="3873960" y="5285520"/>
                <a:ext cx="466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Regin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5" name=""/>
            <p:cNvGrpSpPr/>
            <p:nvPr/>
          </p:nvGrpSpPr>
          <p:grpSpPr>
            <a:xfrm>
              <a:off x="3468240" y="3410280"/>
              <a:ext cx="644040" cy="2300040"/>
              <a:chOff x="3468240" y="3410280"/>
              <a:chExt cx="644040" cy="2300040"/>
            </a:xfrm>
          </p:grpSpPr>
          <p:sp>
            <p:nvSpPr>
              <p:cNvPr id="2546" name=""/>
              <p:cNvSpPr/>
              <p:nvPr/>
            </p:nvSpPr>
            <p:spPr>
              <a:xfrm flipH="1">
                <a:off x="3880080" y="3410280"/>
                <a:ext cx="120960" cy="164124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rot="19140000">
                <a:off x="3436200" y="5330520"/>
                <a:ext cx="707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Saskato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8" name=""/>
            <p:cNvGrpSpPr/>
            <p:nvPr/>
          </p:nvGrpSpPr>
          <p:grpSpPr>
            <a:xfrm>
              <a:off x="3234960" y="3000960"/>
              <a:ext cx="586800" cy="2636280"/>
              <a:chOff x="3234960" y="3000960"/>
              <a:chExt cx="586800" cy="2636280"/>
            </a:xfrm>
          </p:grpSpPr>
          <p:sp>
            <p:nvSpPr>
              <p:cNvPr id="2549" name=""/>
              <p:cNvSpPr/>
              <p:nvPr/>
            </p:nvSpPr>
            <p:spPr>
              <a:xfrm flipH="1">
                <a:off x="3607920" y="3000960"/>
                <a:ext cx="110160" cy="20509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 rot="19140000">
                <a:off x="3212280" y="5282640"/>
                <a:ext cx="631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Winnipe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1" name=""/>
            <p:cNvGrpSpPr/>
            <p:nvPr/>
          </p:nvGrpSpPr>
          <p:grpSpPr>
            <a:xfrm>
              <a:off x="2898720" y="2944440"/>
              <a:ext cx="632880" cy="2731680"/>
              <a:chOff x="2898720" y="2944440"/>
              <a:chExt cx="632880" cy="2731680"/>
            </a:xfrm>
          </p:grpSpPr>
          <p:sp>
            <p:nvSpPr>
              <p:cNvPr id="2552" name=""/>
              <p:cNvSpPr/>
              <p:nvPr/>
            </p:nvSpPr>
            <p:spPr>
              <a:xfrm flipH="1">
                <a:off x="3324960" y="2944440"/>
                <a:ext cx="120960" cy="210708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rot="19140000">
                <a:off x="2868480" y="5301360"/>
                <a:ext cx="692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Edmont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4" name=""/>
            <p:cNvGrpSpPr/>
            <p:nvPr/>
          </p:nvGrpSpPr>
          <p:grpSpPr>
            <a:xfrm>
              <a:off x="2583000" y="3732120"/>
              <a:ext cx="649800" cy="1940400"/>
              <a:chOff x="2583000" y="3732120"/>
              <a:chExt cx="649800" cy="1940400"/>
            </a:xfrm>
          </p:grpSpPr>
          <p:sp>
            <p:nvSpPr>
              <p:cNvPr id="2555" name=""/>
              <p:cNvSpPr/>
              <p:nvPr/>
            </p:nvSpPr>
            <p:spPr>
              <a:xfrm flipH="1">
                <a:off x="3053520" y="3732120"/>
                <a:ext cx="110160" cy="131940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rot="19140000">
                <a:off x="2550240" y="529056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Vancouv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7" name=""/>
            <p:cNvGrpSpPr/>
            <p:nvPr/>
          </p:nvGrpSpPr>
          <p:grpSpPr>
            <a:xfrm>
              <a:off x="2468160" y="4253400"/>
              <a:ext cx="499320" cy="1319400"/>
              <a:chOff x="2468160" y="4253400"/>
              <a:chExt cx="499320" cy="1319400"/>
            </a:xfrm>
          </p:grpSpPr>
          <p:sp>
            <p:nvSpPr>
              <p:cNvPr id="2558" name=""/>
              <p:cNvSpPr/>
              <p:nvPr/>
            </p:nvSpPr>
            <p:spPr>
              <a:xfrm flipH="1">
                <a:off x="2785320" y="4253400"/>
                <a:ext cx="120600" cy="798120"/>
              </a:xfrm>
              <a:prstGeom prst="rect">
                <a:avLst/>
              </a:prstGeom>
              <a:solidFill>
                <a:srgbClr val="ff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rot="19140000">
                <a:off x="2459880" y="5256000"/>
                <a:ext cx="515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808080"/>
                    </a:solidFill>
                    <a:latin typeface="Arial"/>
                  </a:rPr>
                  <a:t>Victori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0" name=""/>
          <p:cNvGrpSpPr/>
          <p:nvPr/>
        </p:nvGrpSpPr>
        <p:grpSpPr>
          <a:xfrm>
            <a:off x="2800440" y="2908440"/>
            <a:ext cx="3933720" cy="1409400"/>
            <a:chOff x="2800440" y="2908440"/>
            <a:chExt cx="3933720" cy="1409400"/>
          </a:xfrm>
        </p:grpSpPr>
        <p:sp>
          <p:nvSpPr>
            <p:cNvPr id="2561" name=""/>
            <p:cNvSpPr/>
            <p:nvPr/>
          </p:nvSpPr>
          <p:spPr>
            <a:xfrm flipV="1">
              <a:off x="2800440" y="3727440"/>
              <a:ext cx="304560" cy="590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3098880" y="2971800"/>
              <a:ext cx="272880" cy="81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3375000" y="2914560"/>
              <a:ext cx="291960" cy="88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3724200" y="3003480"/>
              <a:ext cx="235080" cy="419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V="1">
              <a:off x="3971880" y="2927520"/>
              <a:ext cx="228600" cy="475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4295880" y="2908440"/>
              <a:ext cx="209520" cy="89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070600" y="3086280"/>
              <a:ext cx="279360" cy="406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>
              <a:off x="4740120" y="3073320"/>
              <a:ext cx="33048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H="1">
              <a:off x="6111720" y="3848040"/>
              <a:ext cx="330480" cy="216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5336640" y="3200400"/>
              <a:ext cx="304920" cy="291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641920" y="3187800"/>
              <a:ext cx="241200" cy="787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 flipH="1" flipV="1">
              <a:off x="5908320" y="3975120"/>
              <a:ext cx="228600" cy="63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4486320" y="3429000"/>
              <a:ext cx="279360" cy="355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 flipH="1" flipV="1">
              <a:off x="6454800" y="3847680"/>
              <a:ext cx="279360" cy="12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3537000" y="79200"/>
            <a:ext cx="2158920" cy="1320840"/>
            <a:chOff x="3537000" y="79200"/>
            <a:chExt cx="2158920" cy="1320840"/>
          </a:xfrm>
        </p:grpSpPr>
        <p:pic>
          <p:nvPicPr>
            <p:cNvPr id="2576" name="" descr=""/>
            <p:cNvPicPr/>
            <p:nvPr/>
          </p:nvPicPr>
          <p:blipFill>
            <a:blip r:embed="rId2"/>
            <a:stretch/>
          </p:blipFill>
          <p:spPr>
            <a:xfrm>
              <a:off x="3537000" y="85680"/>
              <a:ext cx="2158920" cy="1314360"/>
            </a:xfrm>
            <a:prstGeom prst="rect">
              <a:avLst/>
            </a:prstGeom>
            <a:ln w="0">
              <a:noFill/>
            </a:ln>
            <a:effectLst>
              <a:outerShdw dist="127008" dir="3183908" blurRad="0" rotWithShape="0">
                <a:srgbClr val="000000"/>
              </a:outerShdw>
            </a:effectLst>
          </p:spPr>
        </p:pic>
        <p:sp>
          <p:nvSpPr>
            <p:cNvPr id="2577" name=""/>
            <p:cNvSpPr/>
            <p:nvPr/>
          </p:nvSpPr>
          <p:spPr>
            <a:xfrm>
              <a:off x="3949920" y="79200"/>
              <a:ext cx="136656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ff00"/>
                  </a:solidFill>
                  <a:latin typeface="Times New Roman"/>
                </a:rPr>
                <a:t>Lin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 txBox="1"/>
            <p:nvPr/>
          </p:nvSpPr>
          <p:spPr>
            <a:xfrm>
              <a:off x="3652920" y="824040"/>
              <a:ext cx="1971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>
                      <a:alpha val="50000"/>
                    </a:srgbClr>
                  </a:solidFill>
                  <a:latin typeface="Times New Roman"/>
                </a:rPr>
                <a:t>Chart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2579" name=""/>
          <p:cNvSpPr/>
          <p:nvPr/>
        </p:nvSpPr>
        <p:spPr>
          <a:xfrm>
            <a:off x="304920" y="5829480"/>
            <a:ext cx="8534160" cy="520560"/>
          </a:xfrm>
          <a:prstGeom prst="rect">
            <a:avLst/>
          </a:prstGeom>
          <a:gradFill rotWithShape="0">
            <a:gsLst>
              <a:gs pos="0">
                <a:srgbClr val="cbe5f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mbin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y better for displaying the da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100" dur="indefinite" restart="never" nodeType="tmRoot">
          <p:childTnLst>
            <p:seq>
              <p:cTn id="2101" dur="indefinite" nodeType="mainSeq">
                <p:childTnLst>
                  <p:par>
                    <p:cTn id="2102" fill="hold">
                      <p:stCondLst>
                        <p:cond delay="0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6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500"/>
                            </p:stCondLst>
                            <p:childTnLst>
                              <p:par>
                                <p:cTn id="2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0" dur="500"/>
                                        <p:tgtEl>
                                          <p:spTgt spid="2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4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9" dur="500"/>
                                        <p:tgtEl>
                                          <p:spTgt spid="2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"/>
          <p:cNvSpPr/>
          <p:nvPr/>
        </p:nvSpPr>
        <p:spPr>
          <a:xfrm>
            <a:off x="1305000" y="1693800"/>
            <a:ext cx="6572160" cy="83844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50000">
                <a:srgbClr val="f5c6e6"/>
              </a:gs>
              <a:gs pos="100000">
                <a:srgbClr val="d6009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requency 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Polygon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Ogiv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378000" y="2786040"/>
            <a:ext cx="3883680" cy="3652560"/>
            <a:chOff x="378000" y="2786040"/>
            <a:chExt cx="3883680" cy="3652560"/>
          </a:xfrm>
        </p:grpSpPr>
        <p:sp>
          <p:nvSpPr>
            <p:cNvPr id="2582" name=""/>
            <p:cNvSpPr/>
            <p:nvPr/>
          </p:nvSpPr>
          <p:spPr>
            <a:xfrm>
              <a:off x="386640" y="2786040"/>
              <a:ext cx="387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en-US" sz="3600" spc="-1" strike="noStrike">
                  <a:solidFill>
                    <a:srgbClr val="993300"/>
                  </a:solidFill>
                  <a:latin typeface="Times New Roman"/>
                </a:rPr>
                <a:t>requency Polyg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90760" y="3524040"/>
              <a:ext cx="3633840" cy="2553840"/>
            </a:xfrm>
            <a:custGeom>
              <a:avLst/>
              <a:gdLst/>
              <a:ahLst/>
              <a:rect l="l" t="t" r="r" b="b"/>
              <a:pathLst>
                <a:path w="2289" h="1609">
                  <a:moveTo>
                    <a:pt x="0" y="1609"/>
                  </a:moveTo>
                  <a:lnTo>
                    <a:pt x="2289" y="1609"/>
                  </a:lnTo>
                  <a:lnTo>
                    <a:pt x="2289" y="0"/>
                  </a:lnTo>
                  <a:lnTo>
                    <a:pt x="0" y="0"/>
                  </a:lnTo>
                  <a:lnTo>
                    <a:pt x="0" y="1609"/>
                  </a:lnTo>
                  <a:lnTo>
                    <a:pt x="0" y="1609"/>
                  </a:lnTo>
                </a:path>
              </a:pathLst>
            </a:cu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1290960" y="3646080"/>
              <a:ext cx="2781000" cy="1958760"/>
            </a:xfrm>
            <a:custGeom>
              <a:avLst/>
              <a:gdLst/>
              <a:ahLst/>
              <a:rect l="l" t="t" r="r" b="b"/>
              <a:pathLst>
                <a:path w="1373" h="965">
                  <a:moveTo>
                    <a:pt x="0" y="965"/>
                  </a:moveTo>
                  <a:lnTo>
                    <a:pt x="1373" y="965"/>
                  </a:lnTo>
                  <a:lnTo>
                    <a:pt x="1373" y="0"/>
                  </a:lnTo>
                  <a:lnTo>
                    <a:pt x="0" y="0"/>
                  </a:lnTo>
                  <a:lnTo>
                    <a:pt x="0" y="965"/>
                  </a:lnTo>
                  <a:lnTo>
                    <a:pt x="0" y="965"/>
                  </a:lnTo>
                </a:path>
              </a:pathLst>
            </a:cu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889440" y="5697360"/>
              <a:ext cx="57240" cy="1220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949920" y="5697360"/>
              <a:ext cx="57240" cy="1220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3381480" y="5697360"/>
              <a:ext cx="57240" cy="1220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441960" y="5697360"/>
              <a:ext cx="57240" cy="1220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875320" y="5697360"/>
              <a:ext cx="57240" cy="1220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935440" y="5697360"/>
              <a:ext cx="57240" cy="1220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365560" y="5697360"/>
              <a:ext cx="57240" cy="1220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427480" y="5697360"/>
              <a:ext cx="57240" cy="1220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859040" y="5697360"/>
              <a:ext cx="57240" cy="1220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920960" y="5697360"/>
              <a:ext cx="57240" cy="1220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1374840" y="5697360"/>
              <a:ext cx="57240" cy="1220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3949920" y="5605200"/>
              <a:ext cx="32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3441960" y="560520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935440" y="560520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427480" y="560520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920960" y="5605200"/>
              <a:ext cx="180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411560" y="5605200"/>
              <a:ext cx="32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971640" y="3673080"/>
              <a:ext cx="57240" cy="1220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036440" y="3673080"/>
              <a:ext cx="29520" cy="1220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063800" y="3673080"/>
              <a:ext cx="57240" cy="1220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971640" y="4268520"/>
              <a:ext cx="57240" cy="1220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1036440" y="4268520"/>
              <a:ext cx="29520" cy="1220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063800" y="4268520"/>
              <a:ext cx="57240" cy="1220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971640" y="4857480"/>
              <a:ext cx="57240" cy="1220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036440" y="4857480"/>
              <a:ext cx="29520" cy="1220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063800" y="4857480"/>
              <a:ext cx="57240" cy="1220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971640" y="5454360"/>
              <a:ext cx="57240" cy="1220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036440" y="5454360"/>
              <a:ext cx="29520" cy="1220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1063800" y="5454360"/>
              <a:ext cx="57240" cy="12204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H="1">
              <a:off x="1193760" y="3735000"/>
              <a:ext cx="968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flipH="1">
              <a:off x="1193760" y="4331880"/>
              <a:ext cx="968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 flipH="1">
              <a:off x="1193760" y="4917960"/>
              <a:ext cx="96840" cy="2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H="1">
              <a:off x="1193760" y="5514840"/>
              <a:ext cx="9684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1333800" y="5605200"/>
              <a:ext cx="269532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V="1">
              <a:off x="1290960" y="3682800"/>
              <a:ext cx="1440" cy="1885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1411560" y="3735000"/>
              <a:ext cx="2538360" cy="1779480"/>
            </a:xfrm>
            <a:custGeom>
              <a:avLst/>
              <a:gdLst/>
              <a:ahLst/>
              <a:rect l="l" t="t" r="r" b="b"/>
              <a:pathLst>
                <a:path w="1253" h="877">
                  <a:moveTo>
                    <a:pt x="0" y="877"/>
                  </a:moveTo>
                  <a:lnTo>
                    <a:pt x="251" y="294"/>
                  </a:lnTo>
                  <a:lnTo>
                    <a:pt x="450" y="0"/>
                  </a:lnTo>
                  <a:lnTo>
                    <a:pt x="653" y="147"/>
                  </a:lnTo>
                  <a:lnTo>
                    <a:pt x="851" y="436"/>
                  </a:lnTo>
                  <a:lnTo>
                    <a:pt x="1050" y="674"/>
                  </a:lnTo>
                  <a:lnTo>
                    <a:pt x="1253" y="791"/>
                  </a:lnTo>
                </a:path>
              </a:pathLst>
            </a:cu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 rot="16200000">
              <a:off x="-680040" y="4624920"/>
              <a:ext cx="2515320" cy="39888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lative Frequen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1964520" y="5918040"/>
              <a:ext cx="1110240" cy="52056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3" name=""/>
          <p:cNvGrpSpPr/>
          <p:nvPr/>
        </p:nvGrpSpPr>
        <p:grpSpPr>
          <a:xfrm>
            <a:off x="4594320" y="2948040"/>
            <a:ext cx="4125960" cy="3528720"/>
            <a:chOff x="4594320" y="2948040"/>
            <a:chExt cx="4125960" cy="3528720"/>
          </a:xfrm>
        </p:grpSpPr>
        <p:sp>
          <p:nvSpPr>
            <p:cNvPr id="2624" name=""/>
            <p:cNvSpPr/>
            <p:nvPr/>
          </p:nvSpPr>
          <p:spPr>
            <a:xfrm>
              <a:off x="6422400" y="2948040"/>
              <a:ext cx="132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3300"/>
                  </a:solidFill>
                  <a:latin typeface="Times New Roman"/>
                </a:rPr>
                <a:t>Ogiv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086800" y="3516120"/>
              <a:ext cx="3633480" cy="2554200"/>
            </a:xfrm>
            <a:custGeom>
              <a:avLst/>
              <a:gdLst/>
              <a:ahLst/>
              <a:rect l="l" t="t" r="r" b="b"/>
              <a:pathLst>
                <a:path w="2289" h="1609">
                  <a:moveTo>
                    <a:pt x="0" y="1609"/>
                  </a:moveTo>
                  <a:lnTo>
                    <a:pt x="2289" y="1609"/>
                  </a:lnTo>
                  <a:lnTo>
                    <a:pt x="2289" y="0"/>
                  </a:lnTo>
                  <a:lnTo>
                    <a:pt x="0" y="0"/>
                  </a:lnTo>
                  <a:lnTo>
                    <a:pt x="0" y="1609"/>
                  </a:lnTo>
                  <a:lnTo>
                    <a:pt x="0" y="1609"/>
                  </a:lnTo>
                </a:path>
              </a:pathLst>
            </a:custGeom>
            <a:gradFill rotWithShape="0">
              <a:gsLst>
                <a:gs pos="0">
                  <a:srgbClr val="96eab0"/>
                </a:gs>
                <a:gs pos="100000">
                  <a:srgbClr val="fefefe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797800" y="3684600"/>
              <a:ext cx="2781360" cy="1968480"/>
            </a:xfrm>
            <a:custGeom>
              <a:avLst/>
              <a:gdLst/>
              <a:ahLst/>
              <a:rect l="l" t="t" r="r" b="b"/>
              <a:pathLst>
                <a:path w="1373" h="965">
                  <a:moveTo>
                    <a:pt x="0" y="965"/>
                  </a:moveTo>
                  <a:lnTo>
                    <a:pt x="1373" y="965"/>
                  </a:lnTo>
                  <a:lnTo>
                    <a:pt x="1373" y="0"/>
                  </a:lnTo>
                  <a:lnTo>
                    <a:pt x="0" y="0"/>
                  </a:lnTo>
                  <a:lnTo>
                    <a:pt x="0" y="965"/>
                  </a:lnTo>
                  <a:lnTo>
                    <a:pt x="0" y="965"/>
                  </a:lnTo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8defb2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8396640" y="5748120"/>
              <a:ext cx="57240" cy="122040"/>
            </a:xfrm>
            <a:prstGeom prst="rect">
              <a:avLst/>
            </a:prstGeom>
            <a:solidFill>
              <a:srgbClr val="cb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8456760" y="5748120"/>
              <a:ext cx="57240" cy="122040"/>
            </a:xfrm>
            <a:prstGeom prst="rect">
              <a:avLst/>
            </a:prstGeom>
            <a:solidFill>
              <a:srgbClr val="cb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888680" y="5748120"/>
              <a:ext cx="57240" cy="122040"/>
            </a:xfrm>
            <a:prstGeom prst="rect">
              <a:avLst/>
            </a:prstGeom>
            <a:solidFill>
              <a:srgbClr val="cb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948800" y="5748120"/>
              <a:ext cx="57240" cy="122040"/>
            </a:xfrm>
            <a:prstGeom prst="rect">
              <a:avLst/>
            </a:prstGeom>
            <a:solidFill>
              <a:srgbClr val="cb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382160" y="5748120"/>
              <a:ext cx="57240" cy="122040"/>
            </a:xfrm>
            <a:prstGeom prst="rect">
              <a:avLst/>
            </a:prstGeom>
            <a:solidFill>
              <a:srgbClr val="cb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442640" y="5748120"/>
              <a:ext cx="57240" cy="122040"/>
            </a:xfrm>
            <a:prstGeom prst="rect">
              <a:avLst/>
            </a:prstGeom>
            <a:solidFill>
              <a:srgbClr val="cb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6874200" y="5748120"/>
              <a:ext cx="57240" cy="122040"/>
            </a:xfrm>
            <a:prstGeom prst="rect">
              <a:avLst/>
            </a:prstGeom>
            <a:solidFill>
              <a:srgbClr val="cb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934320" y="5748120"/>
              <a:ext cx="57240" cy="122040"/>
            </a:xfrm>
            <a:prstGeom prst="rect">
              <a:avLst/>
            </a:prstGeom>
            <a:solidFill>
              <a:srgbClr val="cb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367680" y="5748120"/>
              <a:ext cx="57240" cy="122040"/>
            </a:xfrm>
            <a:prstGeom prst="rect">
              <a:avLst/>
            </a:prstGeom>
            <a:solidFill>
              <a:srgbClr val="cb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423120" y="5748120"/>
              <a:ext cx="57240" cy="122040"/>
            </a:xfrm>
            <a:prstGeom prst="rect">
              <a:avLst/>
            </a:prstGeom>
            <a:solidFill>
              <a:srgbClr val="cb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877360" y="5748120"/>
              <a:ext cx="57240" cy="122040"/>
            </a:xfrm>
            <a:prstGeom prst="rect">
              <a:avLst/>
            </a:prstGeom>
            <a:solidFill>
              <a:srgbClr val="cb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8456760" y="5653080"/>
              <a:ext cx="32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948800" y="5653080"/>
              <a:ext cx="180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442640" y="565308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6934320" y="5653080"/>
              <a:ext cx="180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6428160" y="565308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5920200" y="565308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5482080" y="3711600"/>
              <a:ext cx="57240" cy="122040"/>
            </a:xfrm>
            <a:prstGeom prst="rect">
              <a:avLst/>
            </a:prstGeom>
            <a:solidFill>
              <a:srgbClr val="cb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5538600" y="3711600"/>
              <a:ext cx="29520" cy="122040"/>
            </a:xfrm>
            <a:prstGeom prst="rect">
              <a:avLst/>
            </a:prstGeom>
            <a:solidFill>
              <a:srgbClr val="cb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5570640" y="3711600"/>
              <a:ext cx="57240" cy="122040"/>
            </a:xfrm>
            <a:prstGeom prst="rect">
              <a:avLst/>
            </a:prstGeom>
            <a:solidFill>
              <a:srgbClr val="cb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482080" y="4601880"/>
              <a:ext cx="57240" cy="122040"/>
            </a:xfrm>
            <a:prstGeom prst="rect">
              <a:avLst/>
            </a:prstGeom>
            <a:solidFill>
              <a:srgbClr val="cb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5538600" y="4601880"/>
              <a:ext cx="29520" cy="122040"/>
            </a:xfrm>
            <a:prstGeom prst="rect">
              <a:avLst/>
            </a:prstGeom>
            <a:solidFill>
              <a:srgbClr val="cb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570640" y="4601880"/>
              <a:ext cx="57240" cy="122040"/>
            </a:xfrm>
            <a:prstGeom prst="rect">
              <a:avLst/>
            </a:prstGeom>
            <a:solidFill>
              <a:srgbClr val="cb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5482080" y="5502240"/>
              <a:ext cx="57240" cy="122040"/>
            </a:xfrm>
            <a:prstGeom prst="rect">
              <a:avLst/>
            </a:prstGeom>
            <a:solidFill>
              <a:srgbClr val="cb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538600" y="5502240"/>
              <a:ext cx="29520" cy="122040"/>
            </a:xfrm>
            <a:prstGeom prst="rect">
              <a:avLst/>
            </a:prstGeom>
            <a:solidFill>
              <a:srgbClr val="cb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5570640" y="5502240"/>
              <a:ext cx="57240" cy="122040"/>
            </a:xfrm>
            <a:prstGeom prst="rect">
              <a:avLst/>
            </a:prstGeom>
            <a:solidFill>
              <a:srgbClr val="cbe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 flipH="1">
              <a:off x="5700600" y="3774960"/>
              <a:ext cx="968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 flipH="1">
              <a:off x="5700600" y="4663800"/>
              <a:ext cx="968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 flipH="1">
              <a:off x="5700600" y="5562360"/>
              <a:ext cx="968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840640" y="5653080"/>
              <a:ext cx="2695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flipV="1">
              <a:off x="5797800" y="3720600"/>
              <a:ext cx="1440" cy="1895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5920200" y="3774960"/>
              <a:ext cx="2536560" cy="1787400"/>
            </a:xfrm>
            <a:custGeom>
              <a:avLst/>
              <a:gdLst/>
              <a:ahLst/>
              <a:rect l="l" t="t" r="r" b="b"/>
              <a:pathLst>
                <a:path w="1253" h="877">
                  <a:moveTo>
                    <a:pt x="0" y="877"/>
                  </a:moveTo>
                  <a:lnTo>
                    <a:pt x="251" y="704"/>
                  </a:lnTo>
                  <a:lnTo>
                    <a:pt x="450" y="436"/>
                  </a:lnTo>
                  <a:lnTo>
                    <a:pt x="653" y="220"/>
                  </a:lnTo>
                  <a:lnTo>
                    <a:pt x="851" y="86"/>
                  </a:lnTo>
                  <a:lnTo>
                    <a:pt x="1050" y="26"/>
                  </a:lnTo>
                  <a:lnTo>
                    <a:pt x="125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 rot="16200000">
              <a:off x="3596760" y="4437360"/>
              <a:ext cx="2698560" cy="7038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8cd2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umulative Relative Frequen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773040" y="5956200"/>
              <a:ext cx="1110240" cy="520560"/>
            </a:xfrm>
            <a:prstGeom prst="rect">
              <a:avLst/>
            </a:prstGeom>
            <a:gradFill rotWithShape="0">
              <a:gsLst>
                <a:gs pos="0">
                  <a:srgbClr val="97f1d1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1" name=""/>
          <p:cNvGrpSpPr/>
          <p:nvPr/>
        </p:nvGrpSpPr>
        <p:grpSpPr>
          <a:xfrm>
            <a:off x="3537000" y="79200"/>
            <a:ext cx="2158920" cy="1320840"/>
            <a:chOff x="3537000" y="79200"/>
            <a:chExt cx="2158920" cy="1320840"/>
          </a:xfrm>
        </p:grpSpPr>
        <p:pic>
          <p:nvPicPr>
            <p:cNvPr id="2662" name="" descr=""/>
            <p:cNvPicPr/>
            <p:nvPr/>
          </p:nvPicPr>
          <p:blipFill>
            <a:blip r:embed="rId1"/>
            <a:stretch/>
          </p:blipFill>
          <p:spPr>
            <a:xfrm>
              <a:off x="3537000" y="85680"/>
              <a:ext cx="2158920" cy="1314360"/>
            </a:xfrm>
            <a:prstGeom prst="rect">
              <a:avLst/>
            </a:prstGeom>
            <a:ln w="0">
              <a:noFill/>
            </a:ln>
            <a:effectLst>
              <a:outerShdw dist="127008" dir="3183908" blurRad="0" rotWithShape="0">
                <a:srgbClr val="000000"/>
              </a:outerShdw>
            </a:effectLst>
          </p:spPr>
        </p:pic>
        <p:sp>
          <p:nvSpPr>
            <p:cNvPr id="2663" name=""/>
            <p:cNvSpPr/>
            <p:nvPr/>
          </p:nvSpPr>
          <p:spPr>
            <a:xfrm>
              <a:off x="3949920" y="79200"/>
              <a:ext cx="1366560" cy="825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ff00"/>
                  </a:solidFill>
                  <a:latin typeface="Times New Roman"/>
                </a:rPr>
                <a:t>Lin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 txBox="1"/>
            <p:nvPr/>
          </p:nvSpPr>
          <p:spPr>
            <a:xfrm>
              <a:off x="3652920" y="824040"/>
              <a:ext cx="1971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>
                      <a:alpha val="50000"/>
                    </a:srgbClr>
                  </a:solidFill>
                  <a:latin typeface="Times New Roman"/>
                </a:rPr>
                <a:t>Chart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latin typeface="Times New Roman"/>
                <a:ea typeface="Times New Roman"/>
              </a:endParaRPr>
            </a:p>
          </p:txBody>
        </p:sp>
      </p:grpSp>
    </p:spTree>
  </p:cSld>
  <p:transition>
    <p:strips dir="ru"/>
  </p:transition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fill="hold">
                      <p:stCondLst>
                        <p:cond delay="0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2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2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500" fill="hold"/>
                                        <p:tgtEl>
                                          <p:spTgt spid="2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500" fill="hold"/>
                                        <p:tgtEl>
                                          <p:spTgt spid="2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4" dur="500"/>
                                        <p:tgtEl>
                                          <p:spTgt spid="2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9" dur="500"/>
                                        <p:tgtEl>
                                          <p:spTgt spid="2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"/>
          <p:cNvSpPr/>
          <p:nvPr/>
        </p:nvSpPr>
        <p:spPr>
          <a:xfrm>
            <a:off x="1676520" y="228600"/>
            <a:ext cx="5638680" cy="764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Test your learning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6" name=""/>
          <p:cNvGrpSpPr/>
          <p:nvPr/>
        </p:nvGrpSpPr>
        <p:grpSpPr>
          <a:xfrm>
            <a:off x="685800" y="1600200"/>
            <a:ext cx="7619760" cy="1312920"/>
            <a:chOff x="685800" y="1600200"/>
            <a:chExt cx="7619760" cy="1312920"/>
          </a:xfrm>
        </p:grpSpPr>
        <p:sp>
          <p:nvSpPr>
            <p:cNvPr id="2667" name=""/>
            <p:cNvSpPr/>
            <p:nvPr/>
          </p:nvSpPr>
          <p:spPr>
            <a:xfrm>
              <a:off x="685800" y="1600200"/>
              <a:ext cx="7619760" cy="1066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>
                    <a:alpha val="25098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879840" y="1844280"/>
              <a:ext cx="7293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a789c"/>
                  </a:solidFill>
                  <a:latin typeface="Times New Roman"/>
                </a:rPr>
                <a:t>      </a:t>
              </a:r>
              <a:r>
                <a:rPr b="0" lang="en-US" sz="3200" spc="-1" strike="noStrike" u="sng">
                  <a:solidFill>
                    <a:srgbClr val="eafc9c"/>
                  </a:solidFill>
                  <a:uFillTx/>
                  <a:latin typeface="Times New Roman"/>
                  <a:hlinkClick r:id="rId1"/>
                </a:rPr>
                <a:t>www.</a:t>
              </a:r>
              <a:r>
                <a:rPr b="0" lang="en-US" sz="3200" spc="-1" strike="noStrike" u="sng">
                  <a:solidFill>
                    <a:srgbClr val="eafc9c"/>
                  </a:solidFill>
                  <a:uFillTx/>
                  <a:latin typeface="Times New Roman"/>
                  <a:hlinkClick r:id="rId2"/>
                </a:rPr>
                <a:t>mcgrawhill</a:t>
              </a:r>
              <a:r>
                <a:rPr b="0" lang="en-US" sz="3200" spc="-1" strike="noStrike" u="sng">
                  <a:solidFill>
                    <a:srgbClr val="eafc9c"/>
                  </a:solidFill>
                  <a:uFillTx/>
                  <a:latin typeface="Times New Roman"/>
                  <a:hlinkClick r:id="rId3"/>
                </a:rPr>
                <a:t>.ca/college/</a:t>
              </a:r>
              <a:r>
                <a:rPr b="0" lang="en-US" sz="3200" spc="-1" strike="noStrike" u="sng">
                  <a:solidFill>
                    <a:srgbClr val="eafc9c"/>
                  </a:solidFill>
                  <a:uFillTx/>
                  <a:latin typeface="Times New Roman"/>
                  <a:hlinkClick r:id="rId4"/>
                </a:rPr>
                <a:t>li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9" name=""/>
          <p:cNvSpPr/>
          <p:nvPr/>
        </p:nvSpPr>
        <p:spPr>
          <a:xfrm rot="20514600">
            <a:off x="612720" y="1447920"/>
            <a:ext cx="20462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  <a:effectLst>
            <a:outerShdw dist="176971" dir="1205873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ick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1676520" y="5562720"/>
            <a:ext cx="5866920" cy="304560"/>
            <a:chOff x="1676520" y="5562720"/>
            <a:chExt cx="5866920" cy="304560"/>
          </a:xfrm>
        </p:grpSpPr>
        <p:sp>
          <p:nvSpPr>
            <p:cNvPr id="2671" name=""/>
            <p:cNvSpPr/>
            <p:nvPr/>
          </p:nvSpPr>
          <p:spPr>
            <a:xfrm flipV="1">
              <a:off x="1676520" y="5634000"/>
              <a:ext cx="5866920" cy="144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2" name="" descr=""/>
            <p:cNvPicPr/>
            <p:nvPr/>
          </p:nvPicPr>
          <p:blipFill>
            <a:blip r:embed="rId6"/>
            <a:stretch/>
          </p:blipFill>
          <p:spPr>
            <a:xfrm>
              <a:off x="4511880" y="5562720"/>
              <a:ext cx="4258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3" name=""/>
          <p:cNvSpPr/>
          <p:nvPr/>
        </p:nvSpPr>
        <p:spPr>
          <a:xfrm>
            <a:off x="1443960" y="266688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Learning C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4" name=""/>
          <p:cNvGrpSpPr/>
          <p:nvPr/>
        </p:nvGrpSpPr>
        <p:grpSpPr>
          <a:xfrm>
            <a:off x="1642680" y="3124080"/>
            <a:ext cx="5595840" cy="2281680"/>
            <a:chOff x="1642680" y="3124080"/>
            <a:chExt cx="5595840" cy="2281680"/>
          </a:xfrm>
        </p:grpSpPr>
        <p:sp>
          <p:nvSpPr>
            <p:cNvPr id="2675" name=""/>
            <p:cNvSpPr/>
            <p:nvPr/>
          </p:nvSpPr>
          <p:spPr>
            <a:xfrm>
              <a:off x="1642680" y="312408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quiz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078640" y="3483000"/>
              <a:ext cx="5159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tra 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s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able gloss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ss to Statistics Canada’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-St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much mor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77" name="OLC%20logo2" descr=""/>
          <p:cNvPicPr/>
          <p:nvPr/>
        </p:nvPicPr>
        <p:blipFill>
          <a:blip r:embed="rId7"/>
          <a:stretch/>
        </p:blipFill>
        <p:spPr>
          <a:xfrm>
            <a:off x="685800" y="2743200"/>
            <a:ext cx="847800" cy="741240"/>
          </a:xfrm>
          <a:prstGeom prst="rect">
            <a:avLst/>
          </a:prstGeom>
          <a:ln w="0">
            <a:noFill/>
          </a:ln>
        </p:spPr>
      </p:pic>
      <p:pic>
        <p:nvPicPr>
          <p:cNvPr id="2678" name="e-stat%20logo2" descr=""/>
          <p:cNvPicPr/>
          <p:nvPr/>
        </p:nvPicPr>
        <p:blipFill>
          <a:blip r:embed="rId8"/>
          <a:stretch/>
        </p:blipFill>
        <p:spPr>
          <a:xfrm>
            <a:off x="7238880" y="3809880"/>
            <a:ext cx="1063800" cy="148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0" name=""/>
          <p:cNvGrpSpPr/>
          <p:nvPr/>
        </p:nvGrpSpPr>
        <p:grpSpPr>
          <a:xfrm>
            <a:off x="725760" y="1085760"/>
            <a:ext cx="7669800" cy="4314960"/>
            <a:chOff x="725760" y="1085760"/>
            <a:chExt cx="7669800" cy="4314960"/>
          </a:xfrm>
        </p:grpSpPr>
        <p:sp>
          <p:nvSpPr>
            <p:cNvPr id="2681" name=""/>
            <p:cNvSpPr/>
            <p:nvPr/>
          </p:nvSpPr>
          <p:spPr>
            <a:xfrm>
              <a:off x="2340000" y="1085760"/>
              <a:ext cx="4429080" cy="43149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25760" y="2778120"/>
              <a:ext cx="7669800" cy="916920"/>
            </a:xfrm>
            <a:prstGeom prst="rect">
              <a:avLst/>
            </a:prstGeom>
            <a:solidFill>
              <a:srgbClr val="ffeac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This completes Chapter 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d"/>
  </p:transition>
  <p:timing>
    <p:tnLst>
      <p:par>
        <p:cTn id="2140" dur="indefinite" restart="never" nodeType="tmRoot">
          <p:childTnLst>
            <p:seq>
              <p:cTn id="2141" dur="indefinite" nodeType="mainSeq">
                <p:childTnLst>
                  <p:par>
                    <p:cTn id="2142" fill="hold">
                      <p:stCondLst>
                        <p:cond delay="0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6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 rot="121200">
            <a:off x="1458720" y="1196640"/>
            <a:ext cx="6224400" cy="2566800"/>
          </a:xfrm>
          <a:custGeom>
            <a:avLst/>
            <a:gdLst/>
            <a:ahLst/>
            <a:rect l="l" t="t" r="r" b="b"/>
            <a:pathLst>
              <a:path w="2085" h="2090">
                <a:moveTo>
                  <a:pt x="751" y="2087"/>
                </a:moveTo>
                <a:lnTo>
                  <a:pt x="754" y="2087"/>
                </a:lnTo>
                <a:lnTo>
                  <a:pt x="757" y="2087"/>
                </a:lnTo>
                <a:lnTo>
                  <a:pt x="759" y="2087"/>
                </a:lnTo>
                <a:lnTo>
                  <a:pt x="762" y="2087"/>
                </a:lnTo>
                <a:lnTo>
                  <a:pt x="765" y="2087"/>
                </a:lnTo>
                <a:lnTo>
                  <a:pt x="768" y="2087"/>
                </a:lnTo>
                <a:lnTo>
                  <a:pt x="770" y="2087"/>
                </a:lnTo>
                <a:lnTo>
                  <a:pt x="773" y="2084"/>
                </a:lnTo>
                <a:lnTo>
                  <a:pt x="776" y="2084"/>
                </a:lnTo>
                <a:lnTo>
                  <a:pt x="776" y="2084"/>
                </a:lnTo>
                <a:lnTo>
                  <a:pt x="779" y="2084"/>
                </a:lnTo>
                <a:lnTo>
                  <a:pt x="781" y="2084"/>
                </a:lnTo>
                <a:lnTo>
                  <a:pt x="781" y="2082"/>
                </a:lnTo>
                <a:lnTo>
                  <a:pt x="784" y="2082"/>
                </a:lnTo>
                <a:lnTo>
                  <a:pt x="787" y="2082"/>
                </a:lnTo>
                <a:lnTo>
                  <a:pt x="790" y="2082"/>
                </a:lnTo>
                <a:lnTo>
                  <a:pt x="825" y="2062"/>
                </a:lnTo>
                <a:lnTo>
                  <a:pt x="861" y="2040"/>
                </a:lnTo>
                <a:lnTo>
                  <a:pt x="894" y="2016"/>
                </a:lnTo>
                <a:lnTo>
                  <a:pt x="924" y="1988"/>
                </a:lnTo>
                <a:lnTo>
                  <a:pt x="955" y="1958"/>
                </a:lnTo>
                <a:lnTo>
                  <a:pt x="982" y="1928"/>
                </a:lnTo>
                <a:lnTo>
                  <a:pt x="1010" y="1895"/>
                </a:lnTo>
                <a:lnTo>
                  <a:pt x="1037" y="1864"/>
                </a:lnTo>
                <a:lnTo>
                  <a:pt x="1040" y="1862"/>
                </a:lnTo>
                <a:lnTo>
                  <a:pt x="1043" y="1862"/>
                </a:lnTo>
                <a:lnTo>
                  <a:pt x="1045" y="1862"/>
                </a:lnTo>
                <a:lnTo>
                  <a:pt x="1048" y="1862"/>
                </a:lnTo>
                <a:lnTo>
                  <a:pt x="1051" y="1862"/>
                </a:lnTo>
                <a:lnTo>
                  <a:pt x="1054" y="1862"/>
                </a:lnTo>
                <a:lnTo>
                  <a:pt x="1056" y="1862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70"/>
                </a:lnTo>
                <a:lnTo>
                  <a:pt x="1062" y="1870"/>
                </a:lnTo>
                <a:lnTo>
                  <a:pt x="1062" y="1870"/>
                </a:lnTo>
                <a:lnTo>
                  <a:pt x="1065" y="1870"/>
                </a:lnTo>
                <a:lnTo>
                  <a:pt x="1065" y="1870"/>
                </a:lnTo>
                <a:lnTo>
                  <a:pt x="1067" y="1873"/>
                </a:lnTo>
                <a:lnTo>
                  <a:pt x="1067" y="1873"/>
                </a:lnTo>
                <a:lnTo>
                  <a:pt x="1070" y="1875"/>
                </a:lnTo>
                <a:lnTo>
                  <a:pt x="1070" y="1875"/>
                </a:lnTo>
                <a:lnTo>
                  <a:pt x="1070" y="1875"/>
                </a:lnTo>
                <a:lnTo>
                  <a:pt x="1078" y="1884"/>
                </a:lnTo>
                <a:lnTo>
                  <a:pt x="1084" y="1895"/>
                </a:lnTo>
                <a:lnTo>
                  <a:pt x="1092" y="1903"/>
                </a:lnTo>
                <a:lnTo>
                  <a:pt x="1103" y="1911"/>
                </a:lnTo>
                <a:lnTo>
                  <a:pt x="1111" y="1919"/>
                </a:lnTo>
                <a:lnTo>
                  <a:pt x="1122" y="1925"/>
                </a:lnTo>
                <a:lnTo>
                  <a:pt x="1133" y="1930"/>
                </a:lnTo>
                <a:lnTo>
                  <a:pt x="1147" y="1933"/>
                </a:lnTo>
                <a:lnTo>
                  <a:pt x="1153" y="1936"/>
                </a:lnTo>
                <a:lnTo>
                  <a:pt x="1161" y="1936"/>
                </a:lnTo>
                <a:lnTo>
                  <a:pt x="1166" y="1936"/>
                </a:lnTo>
                <a:lnTo>
                  <a:pt x="1175" y="1936"/>
                </a:lnTo>
                <a:lnTo>
                  <a:pt x="1180" y="1936"/>
                </a:lnTo>
                <a:lnTo>
                  <a:pt x="1188" y="1933"/>
                </a:lnTo>
                <a:lnTo>
                  <a:pt x="1197" y="1933"/>
                </a:lnTo>
                <a:lnTo>
                  <a:pt x="1205" y="1933"/>
                </a:lnTo>
                <a:lnTo>
                  <a:pt x="1205" y="1933"/>
                </a:lnTo>
                <a:lnTo>
                  <a:pt x="1208" y="1933"/>
                </a:lnTo>
                <a:lnTo>
                  <a:pt x="1208" y="1930"/>
                </a:lnTo>
                <a:lnTo>
                  <a:pt x="1210" y="1930"/>
                </a:lnTo>
                <a:lnTo>
                  <a:pt x="1213" y="1930"/>
                </a:lnTo>
                <a:lnTo>
                  <a:pt x="1216" y="1928"/>
                </a:lnTo>
                <a:lnTo>
                  <a:pt x="1216" y="1928"/>
                </a:lnTo>
                <a:lnTo>
                  <a:pt x="1219" y="1928"/>
                </a:lnTo>
                <a:lnTo>
                  <a:pt x="1221" y="1928"/>
                </a:lnTo>
                <a:lnTo>
                  <a:pt x="1224" y="1925"/>
                </a:lnTo>
                <a:lnTo>
                  <a:pt x="1227" y="1925"/>
                </a:lnTo>
                <a:lnTo>
                  <a:pt x="1230" y="1925"/>
                </a:lnTo>
                <a:lnTo>
                  <a:pt x="1232" y="1922"/>
                </a:lnTo>
                <a:lnTo>
                  <a:pt x="1235" y="1922"/>
                </a:lnTo>
                <a:lnTo>
                  <a:pt x="1238" y="1922"/>
                </a:lnTo>
                <a:lnTo>
                  <a:pt x="1241" y="1919"/>
                </a:lnTo>
                <a:lnTo>
                  <a:pt x="1241" y="1919"/>
                </a:lnTo>
                <a:lnTo>
                  <a:pt x="1243" y="1919"/>
                </a:lnTo>
                <a:lnTo>
                  <a:pt x="1243" y="1917"/>
                </a:lnTo>
                <a:lnTo>
                  <a:pt x="1246" y="1917"/>
                </a:lnTo>
                <a:lnTo>
                  <a:pt x="1249" y="1917"/>
                </a:lnTo>
                <a:lnTo>
                  <a:pt x="1252" y="1914"/>
                </a:lnTo>
                <a:lnTo>
                  <a:pt x="1252" y="1914"/>
                </a:lnTo>
                <a:lnTo>
                  <a:pt x="1254" y="1914"/>
                </a:lnTo>
                <a:lnTo>
                  <a:pt x="1329" y="1878"/>
                </a:lnTo>
                <a:lnTo>
                  <a:pt x="1331" y="1878"/>
                </a:lnTo>
                <a:lnTo>
                  <a:pt x="1334" y="1878"/>
                </a:lnTo>
                <a:lnTo>
                  <a:pt x="1337" y="1878"/>
                </a:lnTo>
                <a:lnTo>
                  <a:pt x="1340" y="1878"/>
                </a:lnTo>
                <a:lnTo>
                  <a:pt x="1342" y="1881"/>
                </a:lnTo>
                <a:lnTo>
                  <a:pt x="1345" y="1881"/>
                </a:lnTo>
                <a:lnTo>
                  <a:pt x="1348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9"/>
                </a:lnTo>
                <a:lnTo>
                  <a:pt x="1353" y="1889"/>
                </a:lnTo>
                <a:lnTo>
                  <a:pt x="1356" y="1889"/>
                </a:lnTo>
                <a:lnTo>
                  <a:pt x="1356" y="1889"/>
                </a:lnTo>
                <a:lnTo>
                  <a:pt x="1356" y="1892"/>
                </a:lnTo>
                <a:lnTo>
                  <a:pt x="1356" y="1892"/>
                </a:lnTo>
                <a:lnTo>
                  <a:pt x="1356" y="1895"/>
                </a:lnTo>
                <a:lnTo>
                  <a:pt x="1359" y="1895"/>
                </a:lnTo>
                <a:lnTo>
                  <a:pt x="1359" y="1897"/>
                </a:lnTo>
                <a:lnTo>
                  <a:pt x="1359" y="1897"/>
                </a:lnTo>
                <a:lnTo>
                  <a:pt x="1359" y="1897"/>
                </a:lnTo>
                <a:lnTo>
                  <a:pt x="1364" y="1903"/>
                </a:lnTo>
                <a:lnTo>
                  <a:pt x="1370" y="1911"/>
                </a:lnTo>
                <a:lnTo>
                  <a:pt x="1375" y="1917"/>
                </a:lnTo>
                <a:lnTo>
                  <a:pt x="1384" y="1922"/>
                </a:lnTo>
                <a:lnTo>
                  <a:pt x="1389" y="1930"/>
                </a:lnTo>
                <a:lnTo>
                  <a:pt x="1395" y="1936"/>
                </a:lnTo>
                <a:lnTo>
                  <a:pt x="1403" y="1941"/>
                </a:lnTo>
                <a:lnTo>
                  <a:pt x="1408" y="1947"/>
                </a:lnTo>
                <a:lnTo>
                  <a:pt x="1414" y="1947"/>
                </a:lnTo>
                <a:lnTo>
                  <a:pt x="1417" y="1950"/>
                </a:lnTo>
                <a:lnTo>
                  <a:pt x="1422" y="1952"/>
                </a:lnTo>
                <a:lnTo>
                  <a:pt x="1428" y="1952"/>
                </a:lnTo>
                <a:lnTo>
                  <a:pt x="1436" y="1952"/>
                </a:lnTo>
                <a:lnTo>
                  <a:pt x="1441" y="1955"/>
                </a:lnTo>
                <a:lnTo>
                  <a:pt x="1447" y="1955"/>
                </a:lnTo>
                <a:lnTo>
                  <a:pt x="1452" y="1955"/>
                </a:lnTo>
                <a:lnTo>
                  <a:pt x="1494" y="1933"/>
                </a:lnTo>
                <a:lnTo>
                  <a:pt x="1529" y="1906"/>
                </a:lnTo>
                <a:lnTo>
                  <a:pt x="1560" y="1873"/>
                </a:lnTo>
                <a:lnTo>
                  <a:pt x="1590" y="1837"/>
                </a:lnTo>
                <a:lnTo>
                  <a:pt x="1617" y="1801"/>
                </a:lnTo>
                <a:lnTo>
                  <a:pt x="1645" y="1765"/>
                </a:lnTo>
                <a:lnTo>
                  <a:pt x="1672" y="1730"/>
                </a:lnTo>
                <a:lnTo>
                  <a:pt x="1703" y="1697"/>
                </a:lnTo>
                <a:lnTo>
                  <a:pt x="1733" y="1658"/>
                </a:lnTo>
                <a:lnTo>
                  <a:pt x="1763" y="1620"/>
                </a:lnTo>
                <a:lnTo>
                  <a:pt x="1793" y="1584"/>
                </a:lnTo>
                <a:lnTo>
                  <a:pt x="1821" y="1548"/>
                </a:lnTo>
                <a:lnTo>
                  <a:pt x="1848" y="1510"/>
                </a:lnTo>
                <a:lnTo>
                  <a:pt x="1873" y="1474"/>
                </a:lnTo>
                <a:lnTo>
                  <a:pt x="1898" y="1435"/>
                </a:lnTo>
                <a:lnTo>
                  <a:pt x="1920" y="1394"/>
                </a:lnTo>
                <a:lnTo>
                  <a:pt x="1945" y="1356"/>
                </a:lnTo>
                <a:lnTo>
                  <a:pt x="1967" y="1317"/>
                </a:lnTo>
                <a:lnTo>
                  <a:pt x="1991" y="1279"/>
                </a:lnTo>
                <a:lnTo>
                  <a:pt x="2013" y="1240"/>
                </a:lnTo>
                <a:lnTo>
                  <a:pt x="2033" y="1202"/>
                </a:lnTo>
                <a:lnTo>
                  <a:pt x="2052" y="1163"/>
                </a:lnTo>
                <a:lnTo>
                  <a:pt x="2071" y="1125"/>
                </a:lnTo>
                <a:lnTo>
                  <a:pt x="2085" y="1083"/>
                </a:lnTo>
                <a:lnTo>
                  <a:pt x="2085" y="1083"/>
                </a:lnTo>
                <a:lnTo>
                  <a:pt x="2085" y="1081"/>
                </a:lnTo>
                <a:lnTo>
                  <a:pt x="2085" y="1081"/>
                </a:lnTo>
                <a:lnTo>
                  <a:pt x="2085" y="1078"/>
                </a:lnTo>
                <a:lnTo>
                  <a:pt x="2082" y="1075"/>
                </a:lnTo>
                <a:lnTo>
                  <a:pt x="2082" y="1072"/>
                </a:lnTo>
                <a:lnTo>
                  <a:pt x="2082" y="1072"/>
                </a:lnTo>
                <a:lnTo>
                  <a:pt x="2079" y="1070"/>
                </a:lnTo>
                <a:lnTo>
                  <a:pt x="2079" y="1067"/>
                </a:lnTo>
                <a:lnTo>
                  <a:pt x="2077" y="1061"/>
                </a:lnTo>
                <a:lnTo>
                  <a:pt x="2074" y="1059"/>
                </a:lnTo>
                <a:lnTo>
                  <a:pt x="2071" y="1056"/>
                </a:lnTo>
                <a:lnTo>
                  <a:pt x="2068" y="1050"/>
                </a:lnTo>
                <a:lnTo>
                  <a:pt x="2066" y="1048"/>
                </a:lnTo>
                <a:lnTo>
                  <a:pt x="2063" y="1042"/>
                </a:lnTo>
                <a:lnTo>
                  <a:pt x="2060" y="1040"/>
                </a:lnTo>
                <a:lnTo>
                  <a:pt x="2057" y="1040"/>
                </a:lnTo>
                <a:lnTo>
                  <a:pt x="2057" y="1037"/>
                </a:lnTo>
                <a:lnTo>
                  <a:pt x="2055" y="1037"/>
                </a:lnTo>
                <a:lnTo>
                  <a:pt x="2052" y="1037"/>
                </a:lnTo>
                <a:lnTo>
                  <a:pt x="2052" y="1034"/>
                </a:lnTo>
                <a:lnTo>
                  <a:pt x="2049" y="1034"/>
                </a:lnTo>
                <a:lnTo>
                  <a:pt x="2049" y="1031"/>
                </a:lnTo>
                <a:lnTo>
                  <a:pt x="2046" y="1031"/>
                </a:lnTo>
                <a:lnTo>
                  <a:pt x="2044" y="1029"/>
                </a:lnTo>
                <a:lnTo>
                  <a:pt x="2038" y="1026"/>
                </a:lnTo>
                <a:lnTo>
                  <a:pt x="2035" y="1026"/>
                </a:lnTo>
                <a:lnTo>
                  <a:pt x="2030" y="1023"/>
                </a:lnTo>
                <a:lnTo>
                  <a:pt x="2027" y="1023"/>
                </a:lnTo>
                <a:lnTo>
                  <a:pt x="2022" y="1023"/>
                </a:lnTo>
                <a:lnTo>
                  <a:pt x="2019" y="1020"/>
                </a:lnTo>
                <a:lnTo>
                  <a:pt x="2016" y="1020"/>
                </a:lnTo>
                <a:lnTo>
                  <a:pt x="1991" y="1015"/>
                </a:lnTo>
                <a:lnTo>
                  <a:pt x="1967" y="1015"/>
                </a:lnTo>
                <a:lnTo>
                  <a:pt x="1945" y="1020"/>
                </a:lnTo>
                <a:lnTo>
                  <a:pt x="1920" y="1029"/>
                </a:lnTo>
                <a:lnTo>
                  <a:pt x="1901" y="1037"/>
                </a:lnTo>
                <a:lnTo>
                  <a:pt x="1879" y="1050"/>
                </a:lnTo>
                <a:lnTo>
                  <a:pt x="1859" y="1067"/>
                </a:lnTo>
                <a:lnTo>
                  <a:pt x="1843" y="1083"/>
                </a:lnTo>
                <a:lnTo>
                  <a:pt x="1840" y="1083"/>
                </a:lnTo>
                <a:lnTo>
                  <a:pt x="1837" y="1083"/>
                </a:lnTo>
                <a:lnTo>
                  <a:pt x="1835" y="1083"/>
                </a:lnTo>
                <a:lnTo>
                  <a:pt x="1832" y="1083"/>
                </a:lnTo>
                <a:lnTo>
                  <a:pt x="1832" y="1083"/>
                </a:lnTo>
                <a:lnTo>
                  <a:pt x="1829" y="1083"/>
                </a:lnTo>
                <a:lnTo>
                  <a:pt x="1826" y="1083"/>
                </a:lnTo>
                <a:lnTo>
                  <a:pt x="1824" y="1083"/>
                </a:lnTo>
                <a:lnTo>
                  <a:pt x="1835" y="1042"/>
                </a:lnTo>
                <a:lnTo>
                  <a:pt x="1854" y="1004"/>
                </a:lnTo>
                <a:lnTo>
                  <a:pt x="1873" y="965"/>
                </a:lnTo>
                <a:lnTo>
                  <a:pt x="1895" y="927"/>
                </a:lnTo>
                <a:lnTo>
                  <a:pt x="1912" y="888"/>
                </a:lnTo>
                <a:lnTo>
                  <a:pt x="1923" y="847"/>
                </a:lnTo>
                <a:lnTo>
                  <a:pt x="1925" y="803"/>
                </a:lnTo>
                <a:lnTo>
                  <a:pt x="1912" y="756"/>
                </a:lnTo>
                <a:lnTo>
                  <a:pt x="1901" y="748"/>
                </a:lnTo>
                <a:lnTo>
                  <a:pt x="1887" y="743"/>
                </a:lnTo>
                <a:lnTo>
                  <a:pt x="1870" y="737"/>
                </a:lnTo>
                <a:lnTo>
                  <a:pt x="1854" y="734"/>
                </a:lnTo>
                <a:lnTo>
                  <a:pt x="1837" y="732"/>
                </a:lnTo>
                <a:lnTo>
                  <a:pt x="1821" y="726"/>
                </a:lnTo>
                <a:lnTo>
                  <a:pt x="1807" y="721"/>
                </a:lnTo>
                <a:lnTo>
                  <a:pt x="1793" y="710"/>
                </a:lnTo>
                <a:lnTo>
                  <a:pt x="1793" y="710"/>
                </a:lnTo>
                <a:lnTo>
                  <a:pt x="1793" y="707"/>
                </a:lnTo>
                <a:lnTo>
                  <a:pt x="1793" y="704"/>
                </a:lnTo>
                <a:lnTo>
                  <a:pt x="1793" y="701"/>
                </a:lnTo>
                <a:lnTo>
                  <a:pt x="1793" y="699"/>
                </a:lnTo>
                <a:lnTo>
                  <a:pt x="1793" y="696"/>
                </a:lnTo>
                <a:lnTo>
                  <a:pt x="1793" y="693"/>
                </a:lnTo>
                <a:lnTo>
                  <a:pt x="1793" y="690"/>
                </a:lnTo>
                <a:lnTo>
                  <a:pt x="1793" y="690"/>
                </a:lnTo>
                <a:lnTo>
                  <a:pt x="1796" y="688"/>
                </a:lnTo>
                <a:lnTo>
                  <a:pt x="1796" y="688"/>
                </a:lnTo>
                <a:lnTo>
                  <a:pt x="1796" y="685"/>
                </a:lnTo>
                <a:lnTo>
                  <a:pt x="1799" y="685"/>
                </a:lnTo>
                <a:lnTo>
                  <a:pt x="1799" y="682"/>
                </a:lnTo>
                <a:lnTo>
                  <a:pt x="1799" y="682"/>
                </a:lnTo>
                <a:lnTo>
                  <a:pt x="1802" y="682"/>
                </a:lnTo>
                <a:lnTo>
                  <a:pt x="1802" y="679"/>
                </a:lnTo>
                <a:lnTo>
                  <a:pt x="1804" y="677"/>
                </a:lnTo>
                <a:lnTo>
                  <a:pt x="1804" y="677"/>
                </a:lnTo>
                <a:lnTo>
                  <a:pt x="1807" y="674"/>
                </a:lnTo>
                <a:lnTo>
                  <a:pt x="1810" y="671"/>
                </a:lnTo>
                <a:lnTo>
                  <a:pt x="1813" y="668"/>
                </a:lnTo>
                <a:lnTo>
                  <a:pt x="1815" y="666"/>
                </a:lnTo>
                <a:lnTo>
                  <a:pt x="1815" y="660"/>
                </a:lnTo>
                <a:lnTo>
                  <a:pt x="1818" y="657"/>
                </a:lnTo>
                <a:lnTo>
                  <a:pt x="1821" y="655"/>
                </a:lnTo>
                <a:lnTo>
                  <a:pt x="1824" y="652"/>
                </a:lnTo>
                <a:lnTo>
                  <a:pt x="1826" y="649"/>
                </a:lnTo>
                <a:lnTo>
                  <a:pt x="1826" y="646"/>
                </a:lnTo>
                <a:lnTo>
                  <a:pt x="1829" y="644"/>
                </a:lnTo>
                <a:lnTo>
                  <a:pt x="1832" y="641"/>
                </a:lnTo>
                <a:lnTo>
                  <a:pt x="1832" y="638"/>
                </a:lnTo>
                <a:lnTo>
                  <a:pt x="1848" y="613"/>
                </a:lnTo>
                <a:lnTo>
                  <a:pt x="1868" y="589"/>
                </a:lnTo>
                <a:lnTo>
                  <a:pt x="1887" y="561"/>
                </a:lnTo>
                <a:lnTo>
                  <a:pt x="1906" y="536"/>
                </a:lnTo>
                <a:lnTo>
                  <a:pt x="1925" y="509"/>
                </a:lnTo>
                <a:lnTo>
                  <a:pt x="1939" y="481"/>
                </a:lnTo>
                <a:lnTo>
                  <a:pt x="1953" y="451"/>
                </a:lnTo>
                <a:lnTo>
                  <a:pt x="1961" y="421"/>
                </a:lnTo>
                <a:lnTo>
                  <a:pt x="1961" y="418"/>
                </a:lnTo>
                <a:lnTo>
                  <a:pt x="1958" y="415"/>
                </a:lnTo>
                <a:lnTo>
                  <a:pt x="1958" y="413"/>
                </a:lnTo>
                <a:lnTo>
                  <a:pt x="1956" y="410"/>
                </a:lnTo>
                <a:lnTo>
                  <a:pt x="1956" y="407"/>
                </a:lnTo>
                <a:lnTo>
                  <a:pt x="1956" y="404"/>
                </a:lnTo>
                <a:lnTo>
                  <a:pt x="1953" y="402"/>
                </a:lnTo>
                <a:lnTo>
                  <a:pt x="1953" y="399"/>
                </a:lnTo>
                <a:lnTo>
                  <a:pt x="1950" y="393"/>
                </a:lnTo>
                <a:lnTo>
                  <a:pt x="1945" y="388"/>
                </a:lnTo>
                <a:lnTo>
                  <a:pt x="1942" y="382"/>
                </a:lnTo>
                <a:lnTo>
                  <a:pt x="1936" y="380"/>
                </a:lnTo>
                <a:lnTo>
                  <a:pt x="1931" y="374"/>
                </a:lnTo>
                <a:lnTo>
                  <a:pt x="1923" y="369"/>
                </a:lnTo>
                <a:lnTo>
                  <a:pt x="1917" y="366"/>
                </a:lnTo>
                <a:lnTo>
                  <a:pt x="1912" y="360"/>
                </a:lnTo>
                <a:lnTo>
                  <a:pt x="1912" y="360"/>
                </a:lnTo>
                <a:lnTo>
                  <a:pt x="1909" y="358"/>
                </a:lnTo>
                <a:lnTo>
                  <a:pt x="1906" y="358"/>
                </a:lnTo>
                <a:lnTo>
                  <a:pt x="1903" y="355"/>
                </a:lnTo>
                <a:lnTo>
                  <a:pt x="1903" y="355"/>
                </a:lnTo>
                <a:lnTo>
                  <a:pt x="1901" y="352"/>
                </a:lnTo>
                <a:lnTo>
                  <a:pt x="1898" y="352"/>
                </a:lnTo>
                <a:lnTo>
                  <a:pt x="1895" y="349"/>
                </a:lnTo>
                <a:lnTo>
                  <a:pt x="1892" y="349"/>
                </a:lnTo>
                <a:lnTo>
                  <a:pt x="1890" y="349"/>
                </a:lnTo>
                <a:lnTo>
                  <a:pt x="1887" y="349"/>
                </a:lnTo>
                <a:lnTo>
                  <a:pt x="1887" y="349"/>
                </a:lnTo>
                <a:lnTo>
                  <a:pt x="1884" y="349"/>
                </a:lnTo>
                <a:lnTo>
                  <a:pt x="1881" y="349"/>
                </a:lnTo>
                <a:lnTo>
                  <a:pt x="1881" y="347"/>
                </a:lnTo>
                <a:lnTo>
                  <a:pt x="1881" y="347"/>
                </a:lnTo>
                <a:lnTo>
                  <a:pt x="1873" y="347"/>
                </a:lnTo>
                <a:lnTo>
                  <a:pt x="1868" y="347"/>
                </a:lnTo>
                <a:lnTo>
                  <a:pt x="1862" y="347"/>
                </a:lnTo>
                <a:lnTo>
                  <a:pt x="1857" y="347"/>
                </a:lnTo>
                <a:lnTo>
                  <a:pt x="1851" y="347"/>
                </a:lnTo>
                <a:lnTo>
                  <a:pt x="1846" y="349"/>
                </a:lnTo>
                <a:lnTo>
                  <a:pt x="1840" y="349"/>
                </a:lnTo>
                <a:lnTo>
                  <a:pt x="1832" y="349"/>
                </a:lnTo>
                <a:lnTo>
                  <a:pt x="1832" y="352"/>
                </a:lnTo>
                <a:lnTo>
                  <a:pt x="1832" y="352"/>
                </a:lnTo>
                <a:lnTo>
                  <a:pt x="1829" y="352"/>
                </a:lnTo>
                <a:lnTo>
                  <a:pt x="1826" y="352"/>
                </a:lnTo>
                <a:lnTo>
                  <a:pt x="1826" y="352"/>
                </a:lnTo>
                <a:lnTo>
                  <a:pt x="1824" y="352"/>
                </a:lnTo>
                <a:lnTo>
                  <a:pt x="1821" y="352"/>
                </a:lnTo>
                <a:lnTo>
                  <a:pt x="1818" y="352"/>
                </a:lnTo>
                <a:lnTo>
                  <a:pt x="1782" y="377"/>
                </a:lnTo>
                <a:lnTo>
                  <a:pt x="1747" y="402"/>
                </a:lnTo>
                <a:lnTo>
                  <a:pt x="1714" y="432"/>
                </a:lnTo>
                <a:lnTo>
                  <a:pt x="1681" y="462"/>
                </a:lnTo>
                <a:lnTo>
                  <a:pt x="1650" y="495"/>
                </a:lnTo>
                <a:lnTo>
                  <a:pt x="1620" y="528"/>
                </a:lnTo>
                <a:lnTo>
                  <a:pt x="1587" y="561"/>
                </a:lnTo>
                <a:lnTo>
                  <a:pt x="1554" y="594"/>
                </a:lnTo>
                <a:lnTo>
                  <a:pt x="1551" y="597"/>
                </a:lnTo>
                <a:lnTo>
                  <a:pt x="1549" y="602"/>
                </a:lnTo>
                <a:lnTo>
                  <a:pt x="1546" y="605"/>
                </a:lnTo>
                <a:lnTo>
                  <a:pt x="1543" y="608"/>
                </a:lnTo>
                <a:lnTo>
                  <a:pt x="1540" y="611"/>
                </a:lnTo>
                <a:lnTo>
                  <a:pt x="1540" y="611"/>
                </a:lnTo>
                <a:lnTo>
                  <a:pt x="1538" y="613"/>
                </a:lnTo>
                <a:lnTo>
                  <a:pt x="1538" y="613"/>
                </a:lnTo>
                <a:lnTo>
                  <a:pt x="1535" y="616"/>
                </a:lnTo>
                <a:lnTo>
                  <a:pt x="1532" y="616"/>
                </a:lnTo>
                <a:lnTo>
                  <a:pt x="1529" y="616"/>
                </a:lnTo>
                <a:lnTo>
                  <a:pt x="1527" y="616"/>
                </a:lnTo>
                <a:lnTo>
                  <a:pt x="1524" y="619"/>
                </a:lnTo>
                <a:lnTo>
                  <a:pt x="1521" y="616"/>
                </a:lnTo>
                <a:lnTo>
                  <a:pt x="1521" y="616"/>
                </a:lnTo>
                <a:lnTo>
                  <a:pt x="1518" y="613"/>
                </a:lnTo>
                <a:lnTo>
                  <a:pt x="1518" y="611"/>
                </a:lnTo>
                <a:lnTo>
                  <a:pt x="1518" y="611"/>
                </a:lnTo>
                <a:lnTo>
                  <a:pt x="1518" y="608"/>
                </a:lnTo>
                <a:lnTo>
                  <a:pt x="1518" y="605"/>
                </a:lnTo>
                <a:lnTo>
                  <a:pt x="1518" y="602"/>
                </a:lnTo>
                <a:lnTo>
                  <a:pt x="1521" y="602"/>
                </a:lnTo>
                <a:lnTo>
                  <a:pt x="1521" y="600"/>
                </a:lnTo>
                <a:lnTo>
                  <a:pt x="1524" y="597"/>
                </a:lnTo>
                <a:lnTo>
                  <a:pt x="1524" y="597"/>
                </a:lnTo>
                <a:lnTo>
                  <a:pt x="1524" y="594"/>
                </a:lnTo>
                <a:lnTo>
                  <a:pt x="1524" y="591"/>
                </a:lnTo>
                <a:lnTo>
                  <a:pt x="1524" y="589"/>
                </a:lnTo>
                <a:lnTo>
                  <a:pt x="1524" y="589"/>
                </a:lnTo>
                <a:lnTo>
                  <a:pt x="1524" y="586"/>
                </a:lnTo>
                <a:lnTo>
                  <a:pt x="1527" y="583"/>
                </a:lnTo>
                <a:lnTo>
                  <a:pt x="1527" y="580"/>
                </a:lnTo>
                <a:lnTo>
                  <a:pt x="1540" y="550"/>
                </a:lnTo>
                <a:lnTo>
                  <a:pt x="1560" y="523"/>
                </a:lnTo>
                <a:lnTo>
                  <a:pt x="1576" y="495"/>
                </a:lnTo>
                <a:lnTo>
                  <a:pt x="1595" y="468"/>
                </a:lnTo>
                <a:lnTo>
                  <a:pt x="1615" y="440"/>
                </a:lnTo>
                <a:lnTo>
                  <a:pt x="1631" y="410"/>
                </a:lnTo>
                <a:lnTo>
                  <a:pt x="1645" y="380"/>
                </a:lnTo>
                <a:lnTo>
                  <a:pt x="1659" y="347"/>
                </a:lnTo>
                <a:lnTo>
                  <a:pt x="1659" y="333"/>
                </a:lnTo>
                <a:lnTo>
                  <a:pt x="1661" y="319"/>
                </a:lnTo>
                <a:lnTo>
                  <a:pt x="1661" y="305"/>
                </a:lnTo>
                <a:lnTo>
                  <a:pt x="1661" y="292"/>
                </a:lnTo>
                <a:lnTo>
                  <a:pt x="1659" y="278"/>
                </a:lnTo>
                <a:lnTo>
                  <a:pt x="1653" y="264"/>
                </a:lnTo>
                <a:lnTo>
                  <a:pt x="1648" y="253"/>
                </a:lnTo>
                <a:lnTo>
                  <a:pt x="1639" y="239"/>
                </a:lnTo>
                <a:lnTo>
                  <a:pt x="1639" y="239"/>
                </a:lnTo>
                <a:lnTo>
                  <a:pt x="1639" y="237"/>
                </a:lnTo>
                <a:lnTo>
                  <a:pt x="1637" y="237"/>
                </a:lnTo>
                <a:lnTo>
                  <a:pt x="1637" y="234"/>
                </a:lnTo>
                <a:lnTo>
                  <a:pt x="1634" y="231"/>
                </a:lnTo>
                <a:lnTo>
                  <a:pt x="1631" y="231"/>
                </a:lnTo>
                <a:lnTo>
                  <a:pt x="1631" y="228"/>
                </a:lnTo>
                <a:lnTo>
                  <a:pt x="1628" y="228"/>
                </a:lnTo>
                <a:lnTo>
                  <a:pt x="1617" y="223"/>
                </a:lnTo>
                <a:lnTo>
                  <a:pt x="1606" y="220"/>
                </a:lnTo>
                <a:lnTo>
                  <a:pt x="1595" y="217"/>
                </a:lnTo>
                <a:lnTo>
                  <a:pt x="1584" y="217"/>
                </a:lnTo>
                <a:lnTo>
                  <a:pt x="1571" y="217"/>
                </a:lnTo>
                <a:lnTo>
                  <a:pt x="1560" y="217"/>
                </a:lnTo>
                <a:lnTo>
                  <a:pt x="1549" y="220"/>
                </a:lnTo>
                <a:lnTo>
                  <a:pt x="1538" y="223"/>
                </a:lnTo>
                <a:lnTo>
                  <a:pt x="1496" y="242"/>
                </a:lnTo>
                <a:lnTo>
                  <a:pt x="1461" y="270"/>
                </a:lnTo>
                <a:lnTo>
                  <a:pt x="1425" y="300"/>
                </a:lnTo>
                <a:lnTo>
                  <a:pt x="1392" y="333"/>
                </a:lnTo>
                <a:lnTo>
                  <a:pt x="1362" y="366"/>
                </a:lnTo>
                <a:lnTo>
                  <a:pt x="1331" y="402"/>
                </a:lnTo>
                <a:lnTo>
                  <a:pt x="1304" y="437"/>
                </a:lnTo>
                <a:lnTo>
                  <a:pt x="1276" y="470"/>
                </a:lnTo>
                <a:lnTo>
                  <a:pt x="1243" y="506"/>
                </a:lnTo>
                <a:lnTo>
                  <a:pt x="1213" y="542"/>
                </a:lnTo>
                <a:lnTo>
                  <a:pt x="1183" y="578"/>
                </a:lnTo>
                <a:lnTo>
                  <a:pt x="1155" y="613"/>
                </a:lnTo>
                <a:lnTo>
                  <a:pt x="1125" y="649"/>
                </a:lnTo>
                <a:lnTo>
                  <a:pt x="1095" y="682"/>
                </a:lnTo>
                <a:lnTo>
                  <a:pt x="1065" y="718"/>
                </a:lnTo>
                <a:lnTo>
                  <a:pt x="1037" y="754"/>
                </a:lnTo>
                <a:lnTo>
                  <a:pt x="1018" y="776"/>
                </a:lnTo>
                <a:lnTo>
                  <a:pt x="999" y="795"/>
                </a:lnTo>
                <a:lnTo>
                  <a:pt x="982" y="814"/>
                </a:lnTo>
                <a:lnTo>
                  <a:pt x="966" y="833"/>
                </a:lnTo>
                <a:lnTo>
                  <a:pt x="949" y="853"/>
                </a:lnTo>
                <a:lnTo>
                  <a:pt x="933" y="869"/>
                </a:lnTo>
                <a:lnTo>
                  <a:pt x="916" y="888"/>
                </a:lnTo>
                <a:lnTo>
                  <a:pt x="900" y="908"/>
                </a:lnTo>
                <a:lnTo>
                  <a:pt x="897" y="908"/>
                </a:lnTo>
                <a:lnTo>
                  <a:pt x="897" y="908"/>
                </a:lnTo>
                <a:lnTo>
                  <a:pt x="894" y="908"/>
                </a:lnTo>
                <a:lnTo>
                  <a:pt x="891" y="910"/>
                </a:lnTo>
                <a:lnTo>
                  <a:pt x="889" y="910"/>
                </a:lnTo>
                <a:lnTo>
                  <a:pt x="889" y="910"/>
                </a:lnTo>
                <a:lnTo>
                  <a:pt x="886" y="908"/>
                </a:lnTo>
                <a:lnTo>
                  <a:pt x="883" y="908"/>
                </a:lnTo>
                <a:lnTo>
                  <a:pt x="905" y="866"/>
                </a:lnTo>
                <a:lnTo>
                  <a:pt x="927" y="825"/>
                </a:lnTo>
                <a:lnTo>
                  <a:pt x="952" y="787"/>
                </a:lnTo>
                <a:lnTo>
                  <a:pt x="977" y="745"/>
                </a:lnTo>
                <a:lnTo>
                  <a:pt x="1001" y="707"/>
                </a:lnTo>
                <a:lnTo>
                  <a:pt x="1029" y="668"/>
                </a:lnTo>
                <a:lnTo>
                  <a:pt x="1054" y="627"/>
                </a:lnTo>
                <a:lnTo>
                  <a:pt x="1078" y="589"/>
                </a:lnTo>
                <a:lnTo>
                  <a:pt x="1103" y="547"/>
                </a:lnTo>
                <a:lnTo>
                  <a:pt x="1128" y="509"/>
                </a:lnTo>
                <a:lnTo>
                  <a:pt x="1150" y="468"/>
                </a:lnTo>
                <a:lnTo>
                  <a:pt x="1175" y="429"/>
                </a:lnTo>
                <a:lnTo>
                  <a:pt x="1199" y="391"/>
                </a:lnTo>
                <a:lnTo>
                  <a:pt x="1224" y="349"/>
                </a:lnTo>
                <a:lnTo>
                  <a:pt x="1249" y="311"/>
                </a:lnTo>
                <a:lnTo>
                  <a:pt x="1276" y="272"/>
                </a:lnTo>
                <a:lnTo>
                  <a:pt x="1290" y="253"/>
                </a:lnTo>
                <a:lnTo>
                  <a:pt x="1301" y="231"/>
                </a:lnTo>
                <a:lnTo>
                  <a:pt x="1315" y="212"/>
                </a:lnTo>
                <a:lnTo>
                  <a:pt x="1329" y="193"/>
                </a:lnTo>
                <a:lnTo>
                  <a:pt x="1340" y="173"/>
                </a:lnTo>
                <a:lnTo>
                  <a:pt x="1351" y="154"/>
                </a:lnTo>
                <a:lnTo>
                  <a:pt x="1362" y="135"/>
                </a:lnTo>
                <a:lnTo>
                  <a:pt x="1373" y="113"/>
                </a:lnTo>
                <a:lnTo>
                  <a:pt x="1375" y="105"/>
                </a:lnTo>
                <a:lnTo>
                  <a:pt x="1375" y="96"/>
                </a:lnTo>
                <a:lnTo>
                  <a:pt x="1375" y="88"/>
                </a:lnTo>
                <a:lnTo>
                  <a:pt x="1375" y="83"/>
                </a:lnTo>
                <a:lnTo>
                  <a:pt x="1375" y="74"/>
                </a:lnTo>
                <a:lnTo>
                  <a:pt x="1375" y="66"/>
                </a:lnTo>
                <a:lnTo>
                  <a:pt x="1373" y="58"/>
                </a:lnTo>
                <a:lnTo>
                  <a:pt x="1373" y="47"/>
                </a:lnTo>
                <a:lnTo>
                  <a:pt x="1370" y="44"/>
                </a:lnTo>
                <a:lnTo>
                  <a:pt x="1367" y="39"/>
                </a:lnTo>
                <a:lnTo>
                  <a:pt x="1364" y="36"/>
                </a:lnTo>
                <a:lnTo>
                  <a:pt x="1362" y="30"/>
                </a:lnTo>
                <a:lnTo>
                  <a:pt x="1359" y="28"/>
                </a:lnTo>
                <a:lnTo>
                  <a:pt x="1353" y="22"/>
                </a:lnTo>
                <a:lnTo>
                  <a:pt x="1351" y="19"/>
                </a:lnTo>
                <a:lnTo>
                  <a:pt x="1345" y="17"/>
                </a:lnTo>
                <a:lnTo>
                  <a:pt x="1345" y="14"/>
                </a:lnTo>
                <a:lnTo>
                  <a:pt x="1342" y="14"/>
                </a:lnTo>
                <a:lnTo>
                  <a:pt x="1342" y="14"/>
                </a:lnTo>
                <a:lnTo>
                  <a:pt x="1340" y="14"/>
                </a:lnTo>
                <a:lnTo>
                  <a:pt x="1337" y="11"/>
                </a:lnTo>
                <a:lnTo>
                  <a:pt x="1337" y="11"/>
                </a:lnTo>
                <a:lnTo>
                  <a:pt x="1334" y="11"/>
                </a:lnTo>
                <a:lnTo>
                  <a:pt x="1331" y="8"/>
                </a:lnTo>
                <a:lnTo>
                  <a:pt x="1315" y="3"/>
                </a:lnTo>
                <a:lnTo>
                  <a:pt x="1301" y="0"/>
                </a:lnTo>
                <a:lnTo>
                  <a:pt x="1285" y="0"/>
                </a:lnTo>
                <a:lnTo>
                  <a:pt x="1268" y="3"/>
                </a:lnTo>
                <a:lnTo>
                  <a:pt x="1252" y="8"/>
                </a:lnTo>
                <a:lnTo>
                  <a:pt x="1235" y="17"/>
                </a:lnTo>
                <a:lnTo>
                  <a:pt x="1219" y="25"/>
                </a:lnTo>
                <a:lnTo>
                  <a:pt x="1205" y="33"/>
                </a:lnTo>
                <a:lnTo>
                  <a:pt x="1177" y="55"/>
                </a:lnTo>
                <a:lnTo>
                  <a:pt x="1150" y="80"/>
                </a:lnTo>
                <a:lnTo>
                  <a:pt x="1125" y="105"/>
                </a:lnTo>
                <a:lnTo>
                  <a:pt x="1098" y="132"/>
                </a:lnTo>
                <a:lnTo>
                  <a:pt x="1073" y="160"/>
                </a:lnTo>
                <a:lnTo>
                  <a:pt x="1048" y="184"/>
                </a:lnTo>
                <a:lnTo>
                  <a:pt x="1023" y="212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9"/>
                </a:lnTo>
                <a:lnTo>
                  <a:pt x="999" y="239"/>
                </a:lnTo>
                <a:lnTo>
                  <a:pt x="999" y="239"/>
                </a:lnTo>
                <a:lnTo>
                  <a:pt x="999" y="242"/>
                </a:lnTo>
                <a:lnTo>
                  <a:pt x="999" y="242"/>
                </a:lnTo>
                <a:lnTo>
                  <a:pt x="999" y="242"/>
                </a:lnTo>
                <a:lnTo>
                  <a:pt x="996" y="242"/>
                </a:lnTo>
                <a:lnTo>
                  <a:pt x="996" y="245"/>
                </a:lnTo>
                <a:lnTo>
                  <a:pt x="996" y="245"/>
                </a:lnTo>
                <a:lnTo>
                  <a:pt x="993" y="248"/>
                </a:lnTo>
                <a:lnTo>
                  <a:pt x="993" y="248"/>
                </a:lnTo>
                <a:lnTo>
                  <a:pt x="993" y="250"/>
                </a:lnTo>
                <a:lnTo>
                  <a:pt x="990" y="250"/>
                </a:lnTo>
                <a:lnTo>
                  <a:pt x="990" y="250"/>
                </a:lnTo>
                <a:lnTo>
                  <a:pt x="963" y="286"/>
                </a:lnTo>
                <a:lnTo>
                  <a:pt x="933" y="319"/>
                </a:lnTo>
                <a:lnTo>
                  <a:pt x="905" y="355"/>
                </a:lnTo>
                <a:lnTo>
                  <a:pt x="875" y="388"/>
                </a:lnTo>
                <a:lnTo>
                  <a:pt x="847" y="424"/>
                </a:lnTo>
                <a:lnTo>
                  <a:pt x="820" y="459"/>
                </a:lnTo>
                <a:lnTo>
                  <a:pt x="790" y="492"/>
                </a:lnTo>
                <a:lnTo>
                  <a:pt x="759" y="528"/>
                </a:lnTo>
                <a:lnTo>
                  <a:pt x="748" y="542"/>
                </a:lnTo>
                <a:lnTo>
                  <a:pt x="735" y="553"/>
                </a:lnTo>
                <a:lnTo>
                  <a:pt x="726" y="567"/>
                </a:lnTo>
                <a:lnTo>
                  <a:pt x="715" y="578"/>
                </a:lnTo>
                <a:lnTo>
                  <a:pt x="704" y="589"/>
                </a:lnTo>
                <a:lnTo>
                  <a:pt x="696" y="600"/>
                </a:lnTo>
                <a:lnTo>
                  <a:pt x="685" y="611"/>
                </a:lnTo>
                <a:lnTo>
                  <a:pt x="674" y="622"/>
                </a:lnTo>
                <a:lnTo>
                  <a:pt x="674" y="622"/>
                </a:lnTo>
                <a:lnTo>
                  <a:pt x="671" y="622"/>
                </a:lnTo>
                <a:lnTo>
                  <a:pt x="671" y="624"/>
                </a:lnTo>
                <a:lnTo>
                  <a:pt x="669" y="624"/>
                </a:lnTo>
                <a:lnTo>
                  <a:pt x="666" y="624"/>
                </a:lnTo>
                <a:lnTo>
                  <a:pt x="663" y="624"/>
                </a:lnTo>
                <a:lnTo>
                  <a:pt x="663" y="624"/>
                </a:lnTo>
                <a:lnTo>
                  <a:pt x="660" y="622"/>
                </a:lnTo>
                <a:lnTo>
                  <a:pt x="660" y="619"/>
                </a:lnTo>
                <a:lnTo>
                  <a:pt x="658" y="616"/>
                </a:lnTo>
                <a:lnTo>
                  <a:pt x="658" y="613"/>
                </a:lnTo>
                <a:lnTo>
                  <a:pt x="658" y="611"/>
                </a:lnTo>
                <a:lnTo>
                  <a:pt x="660" y="608"/>
                </a:lnTo>
                <a:lnTo>
                  <a:pt x="660" y="605"/>
                </a:lnTo>
                <a:lnTo>
                  <a:pt x="660" y="602"/>
                </a:lnTo>
                <a:lnTo>
                  <a:pt x="660" y="597"/>
                </a:lnTo>
                <a:lnTo>
                  <a:pt x="663" y="597"/>
                </a:lnTo>
                <a:lnTo>
                  <a:pt x="663" y="594"/>
                </a:lnTo>
                <a:lnTo>
                  <a:pt x="663" y="591"/>
                </a:lnTo>
                <a:lnTo>
                  <a:pt x="663" y="589"/>
                </a:lnTo>
                <a:lnTo>
                  <a:pt x="666" y="589"/>
                </a:lnTo>
                <a:lnTo>
                  <a:pt x="666" y="586"/>
                </a:lnTo>
                <a:lnTo>
                  <a:pt x="666" y="583"/>
                </a:lnTo>
                <a:lnTo>
                  <a:pt x="666" y="580"/>
                </a:lnTo>
                <a:lnTo>
                  <a:pt x="680" y="550"/>
                </a:lnTo>
                <a:lnTo>
                  <a:pt x="696" y="520"/>
                </a:lnTo>
                <a:lnTo>
                  <a:pt x="715" y="492"/>
                </a:lnTo>
                <a:lnTo>
                  <a:pt x="732" y="465"/>
                </a:lnTo>
                <a:lnTo>
                  <a:pt x="751" y="440"/>
                </a:lnTo>
                <a:lnTo>
                  <a:pt x="768" y="410"/>
                </a:lnTo>
                <a:lnTo>
                  <a:pt x="784" y="380"/>
                </a:lnTo>
                <a:lnTo>
                  <a:pt x="795" y="347"/>
                </a:lnTo>
                <a:lnTo>
                  <a:pt x="798" y="333"/>
                </a:lnTo>
                <a:lnTo>
                  <a:pt x="801" y="319"/>
                </a:lnTo>
                <a:lnTo>
                  <a:pt x="801" y="305"/>
                </a:lnTo>
                <a:lnTo>
                  <a:pt x="801" y="292"/>
                </a:lnTo>
                <a:lnTo>
                  <a:pt x="798" y="278"/>
                </a:lnTo>
                <a:lnTo>
                  <a:pt x="792" y="264"/>
                </a:lnTo>
                <a:lnTo>
                  <a:pt x="787" y="253"/>
                </a:lnTo>
                <a:lnTo>
                  <a:pt x="781" y="239"/>
                </a:lnTo>
                <a:lnTo>
                  <a:pt x="779" y="239"/>
                </a:lnTo>
                <a:lnTo>
                  <a:pt x="779" y="237"/>
                </a:lnTo>
                <a:lnTo>
                  <a:pt x="776" y="237"/>
                </a:lnTo>
                <a:lnTo>
                  <a:pt x="776" y="234"/>
                </a:lnTo>
                <a:lnTo>
                  <a:pt x="773" y="231"/>
                </a:lnTo>
                <a:lnTo>
                  <a:pt x="773" y="231"/>
                </a:lnTo>
                <a:lnTo>
                  <a:pt x="770" y="228"/>
                </a:lnTo>
                <a:lnTo>
                  <a:pt x="770" y="228"/>
                </a:lnTo>
                <a:lnTo>
                  <a:pt x="768" y="228"/>
                </a:lnTo>
                <a:lnTo>
                  <a:pt x="765" y="226"/>
                </a:lnTo>
                <a:lnTo>
                  <a:pt x="762" y="226"/>
                </a:lnTo>
                <a:lnTo>
                  <a:pt x="759" y="223"/>
                </a:lnTo>
                <a:lnTo>
                  <a:pt x="757" y="223"/>
                </a:lnTo>
                <a:lnTo>
                  <a:pt x="754" y="223"/>
                </a:lnTo>
                <a:lnTo>
                  <a:pt x="748" y="220"/>
                </a:lnTo>
                <a:lnTo>
                  <a:pt x="746" y="220"/>
                </a:lnTo>
                <a:lnTo>
                  <a:pt x="737" y="217"/>
                </a:lnTo>
                <a:lnTo>
                  <a:pt x="726" y="215"/>
                </a:lnTo>
                <a:lnTo>
                  <a:pt x="718" y="215"/>
                </a:lnTo>
                <a:lnTo>
                  <a:pt x="707" y="215"/>
                </a:lnTo>
                <a:lnTo>
                  <a:pt x="699" y="217"/>
                </a:lnTo>
                <a:lnTo>
                  <a:pt x="688" y="217"/>
                </a:lnTo>
                <a:lnTo>
                  <a:pt x="680" y="220"/>
                </a:lnTo>
                <a:lnTo>
                  <a:pt x="671" y="223"/>
                </a:lnTo>
                <a:lnTo>
                  <a:pt x="647" y="234"/>
                </a:lnTo>
                <a:lnTo>
                  <a:pt x="625" y="250"/>
                </a:lnTo>
                <a:lnTo>
                  <a:pt x="603" y="267"/>
                </a:lnTo>
                <a:lnTo>
                  <a:pt x="581" y="286"/>
                </a:lnTo>
                <a:lnTo>
                  <a:pt x="559" y="305"/>
                </a:lnTo>
                <a:lnTo>
                  <a:pt x="537" y="325"/>
                </a:lnTo>
                <a:lnTo>
                  <a:pt x="515" y="344"/>
                </a:lnTo>
                <a:lnTo>
                  <a:pt x="493" y="360"/>
                </a:lnTo>
                <a:lnTo>
                  <a:pt x="493" y="363"/>
                </a:lnTo>
                <a:lnTo>
                  <a:pt x="490" y="363"/>
                </a:lnTo>
                <a:lnTo>
                  <a:pt x="490" y="363"/>
                </a:lnTo>
                <a:lnTo>
                  <a:pt x="487" y="363"/>
                </a:lnTo>
                <a:lnTo>
                  <a:pt x="484" y="363"/>
                </a:lnTo>
                <a:lnTo>
                  <a:pt x="482" y="363"/>
                </a:lnTo>
                <a:lnTo>
                  <a:pt x="482" y="363"/>
                </a:lnTo>
                <a:lnTo>
                  <a:pt x="479" y="360"/>
                </a:lnTo>
                <a:lnTo>
                  <a:pt x="476" y="360"/>
                </a:lnTo>
                <a:lnTo>
                  <a:pt x="476" y="360"/>
                </a:lnTo>
                <a:lnTo>
                  <a:pt x="473" y="360"/>
                </a:lnTo>
                <a:lnTo>
                  <a:pt x="471" y="360"/>
                </a:lnTo>
                <a:lnTo>
                  <a:pt x="471" y="358"/>
                </a:lnTo>
                <a:lnTo>
                  <a:pt x="468" y="358"/>
                </a:lnTo>
                <a:lnTo>
                  <a:pt x="468" y="355"/>
                </a:lnTo>
                <a:lnTo>
                  <a:pt x="465" y="355"/>
                </a:lnTo>
                <a:lnTo>
                  <a:pt x="462" y="352"/>
                </a:lnTo>
                <a:lnTo>
                  <a:pt x="460" y="349"/>
                </a:lnTo>
                <a:lnTo>
                  <a:pt x="454" y="347"/>
                </a:lnTo>
                <a:lnTo>
                  <a:pt x="451" y="344"/>
                </a:lnTo>
                <a:lnTo>
                  <a:pt x="446" y="341"/>
                </a:lnTo>
                <a:lnTo>
                  <a:pt x="443" y="338"/>
                </a:lnTo>
                <a:lnTo>
                  <a:pt x="438" y="336"/>
                </a:lnTo>
                <a:lnTo>
                  <a:pt x="435" y="333"/>
                </a:lnTo>
                <a:lnTo>
                  <a:pt x="427" y="330"/>
                </a:lnTo>
                <a:lnTo>
                  <a:pt x="418" y="327"/>
                </a:lnTo>
                <a:lnTo>
                  <a:pt x="410" y="327"/>
                </a:lnTo>
                <a:lnTo>
                  <a:pt x="402" y="327"/>
                </a:lnTo>
                <a:lnTo>
                  <a:pt x="394" y="330"/>
                </a:lnTo>
                <a:lnTo>
                  <a:pt x="385" y="330"/>
                </a:lnTo>
                <a:lnTo>
                  <a:pt x="377" y="330"/>
                </a:lnTo>
                <a:lnTo>
                  <a:pt x="369" y="333"/>
                </a:lnTo>
                <a:lnTo>
                  <a:pt x="366" y="333"/>
                </a:lnTo>
                <a:lnTo>
                  <a:pt x="366" y="336"/>
                </a:lnTo>
                <a:lnTo>
                  <a:pt x="363" y="336"/>
                </a:lnTo>
                <a:lnTo>
                  <a:pt x="363" y="336"/>
                </a:lnTo>
                <a:lnTo>
                  <a:pt x="361" y="338"/>
                </a:lnTo>
                <a:lnTo>
                  <a:pt x="358" y="338"/>
                </a:lnTo>
                <a:lnTo>
                  <a:pt x="355" y="338"/>
                </a:lnTo>
                <a:lnTo>
                  <a:pt x="355" y="338"/>
                </a:lnTo>
                <a:lnTo>
                  <a:pt x="317" y="366"/>
                </a:lnTo>
                <a:lnTo>
                  <a:pt x="281" y="396"/>
                </a:lnTo>
                <a:lnTo>
                  <a:pt x="253" y="429"/>
                </a:lnTo>
                <a:lnTo>
                  <a:pt x="226" y="468"/>
                </a:lnTo>
                <a:lnTo>
                  <a:pt x="201" y="506"/>
                </a:lnTo>
                <a:lnTo>
                  <a:pt x="179" y="547"/>
                </a:lnTo>
                <a:lnTo>
                  <a:pt x="157" y="589"/>
                </a:lnTo>
                <a:lnTo>
                  <a:pt x="135" y="630"/>
                </a:lnTo>
                <a:lnTo>
                  <a:pt x="127" y="652"/>
                </a:lnTo>
                <a:lnTo>
                  <a:pt x="119" y="671"/>
                </a:lnTo>
                <a:lnTo>
                  <a:pt x="108" y="690"/>
                </a:lnTo>
                <a:lnTo>
                  <a:pt x="99" y="710"/>
                </a:lnTo>
                <a:lnTo>
                  <a:pt x="91" y="729"/>
                </a:lnTo>
                <a:lnTo>
                  <a:pt x="83" y="745"/>
                </a:lnTo>
                <a:lnTo>
                  <a:pt x="75" y="765"/>
                </a:lnTo>
                <a:lnTo>
                  <a:pt x="69" y="784"/>
                </a:lnTo>
                <a:lnTo>
                  <a:pt x="66" y="787"/>
                </a:lnTo>
                <a:lnTo>
                  <a:pt x="66" y="789"/>
                </a:lnTo>
                <a:lnTo>
                  <a:pt x="66" y="792"/>
                </a:lnTo>
                <a:lnTo>
                  <a:pt x="64" y="795"/>
                </a:lnTo>
                <a:lnTo>
                  <a:pt x="64" y="798"/>
                </a:lnTo>
                <a:lnTo>
                  <a:pt x="61" y="800"/>
                </a:lnTo>
                <a:lnTo>
                  <a:pt x="61" y="803"/>
                </a:lnTo>
                <a:lnTo>
                  <a:pt x="61" y="803"/>
                </a:lnTo>
                <a:lnTo>
                  <a:pt x="20" y="930"/>
                </a:lnTo>
                <a:lnTo>
                  <a:pt x="17" y="932"/>
                </a:lnTo>
                <a:lnTo>
                  <a:pt x="17" y="935"/>
                </a:lnTo>
                <a:lnTo>
                  <a:pt x="17" y="938"/>
                </a:lnTo>
                <a:lnTo>
                  <a:pt x="17" y="941"/>
                </a:lnTo>
                <a:lnTo>
                  <a:pt x="17" y="943"/>
                </a:lnTo>
                <a:lnTo>
                  <a:pt x="17" y="946"/>
                </a:lnTo>
                <a:lnTo>
                  <a:pt x="17" y="949"/>
                </a:lnTo>
                <a:lnTo>
                  <a:pt x="17" y="952"/>
                </a:lnTo>
                <a:lnTo>
                  <a:pt x="0" y="1053"/>
                </a:lnTo>
                <a:lnTo>
                  <a:pt x="0" y="1056"/>
                </a:lnTo>
                <a:lnTo>
                  <a:pt x="0" y="1059"/>
                </a:lnTo>
                <a:lnTo>
                  <a:pt x="3" y="1061"/>
                </a:lnTo>
                <a:lnTo>
                  <a:pt x="3" y="1064"/>
                </a:lnTo>
                <a:lnTo>
                  <a:pt x="3" y="1067"/>
                </a:lnTo>
                <a:lnTo>
                  <a:pt x="3" y="1070"/>
                </a:lnTo>
                <a:lnTo>
                  <a:pt x="6" y="1072"/>
                </a:lnTo>
                <a:lnTo>
                  <a:pt x="9" y="1075"/>
                </a:lnTo>
                <a:lnTo>
                  <a:pt x="9" y="1078"/>
                </a:lnTo>
                <a:lnTo>
                  <a:pt x="11" y="1078"/>
                </a:lnTo>
                <a:lnTo>
                  <a:pt x="11" y="1081"/>
                </a:lnTo>
                <a:lnTo>
                  <a:pt x="14" y="1081"/>
                </a:lnTo>
                <a:lnTo>
                  <a:pt x="17" y="1083"/>
                </a:lnTo>
                <a:lnTo>
                  <a:pt x="20" y="1083"/>
                </a:lnTo>
                <a:lnTo>
                  <a:pt x="22" y="1086"/>
                </a:lnTo>
                <a:lnTo>
                  <a:pt x="25" y="1089"/>
                </a:lnTo>
                <a:lnTo>
                  <a:pt x="132" y="1108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4"/>
                </a:lnTo>
                <a:lnTo>
                  <a:pt x="135" y="1114"/>
                </a:lnTo>
                <a:lnTo>
                  <a:pt x="138" y="1116"/>
                </a:lnTo>
                <a:lnTo>
                  <a:pt x="138" y="1116"/>
                </a:lnTo>
                <a:lnTo>
                  <a:pt x="141" y="1116"/>
                </a:lnTo>
                <a:lnTo>
                  <a:pt x="141" y="1119"/>
                </a:lnTo>
                <a:lnTo>
                  <a:pt x="138" y="1122"/>
                </a:lnTo>
                <a:lnTo>
                  <a:pt x="138" y="1122"/>
                </a:lnTo>
                <a:lnTo>
                  <a:pt x="138" y="1125"/>
                </a:lnTo>
                <a:lnTo>
                  <a:pt x="138" y="1125"/>
                </a:lnTo>
                <a:lnTo>
                  <a:pt x="135" y="1127"/>
                </a:lnTo>
                <a:lnTo>
                  <a:pt x="135" y="1130"/>
                </a:lnTo>
                <a:lnTo>
                  <a:pt x="135" y="1130"/>
                </a:lnTo>
                <a:lnTo>
                  <a:pt x="124" y="1149"/>
                </a:lnTo>
                <a:lnTo>
                  <a:pt x="116" y="1171"/>
                </a:lnTo>
                <a:lnTo>
                  <a:pt x="110" y="1191"/>
                </a:lnTo>
                <a:lnTo>
                  <a:pt x="105" y="1213"/>
                </a:lnTo>
                <a:lnTo>
                  <a:pt x="102" y="1235"/>
                </a:lnTo>
                <a:lnTo>
                  <a:pt x="99" y="1257"/>
                </a:lnTo>
                <a:lnTo>
                  <a:pt x="97" y="1276"/>
                </a:lnTo>
                <a:lnTo>
                  <a:pt x="94" y="1298"/>
                </a:lnTo>
                <a:lnTo>
                  <a:pt x="97" y="1303"/>
                </a:lnTo>
                <a:lnTo>
                  <a:pt x="97" y="1306"/>
                </a:lnTo>
                <a:lnTo>
                  <a:pt x="99" y="1309"/>
                </a:lnTo>
                <a:lnTo>
                  <a:pt x="99" y="1314"/>
                </a:lnTo>
                <a:lnTo>
                  <a:pt x="99" y="1317"/>
                </a:lnTo>
                <a:lnTo>
                  <a:pt x="102" y="1320"/>
                </a:lnTo>
                <a:lnTo>
                  <a:pt x="105" y="1325"/>
                </a:lnTo>
                <a:lnTo>
                  <a:pt x="108" y="1328"/>
                </a:lnTo>
                <a:lnTo>
                  <a:pt x="110" y="1328"/>
                </a:lnTo>
                <a:lnTo>
                  <a:pt x="110" y="1331"/>
                </a:lnTo>
                <a:lnTo>
                  <a:pt x="113" y="1331"/>
                </a:lnTo>
                <a:lnTo>
                  <a:pt x="113" y="1334"/>
                </a:lnTo>
                <a:lnTo>
                  <a:pt x="116" y="1334"/>
                </a:lnTo>
                <a:lnTo>
                  <a:pt x="116" y="1336"/>
                </a:lnTo>
                <a:lnTo>
                  <a:pt x="119" y="1336"/>
                </a:lnTo>
                <a:lnTo>
                  <a:pt x="119" y="1336"/>
                </a:lnTo>
                <a:lnTo>
                  <a:pt x="130" y="1342"/>
                </a:lnTo>
                <a:lnTo>
                  <a:pt x="143" y="1345"/>
                </a:lnTo>
                <a:lnTo>
                  <a:pt x="154" y="1347"/>
                </a:lnTo>
                <a:lnTo>
                  <a:pt x="168" y="1347"/>
                </a:lnTo>
                <a:lnTo>
                  <a:pt x="182" y="1347"/>
                </a:lnTo>
                <a:lnTo>
                  <a:pt x="196" y="1347"/>
                </a:lnTo>
                <a:lnTo>
                  <a:pt x="209" y="1345"/>
                </a:lnTo>
                <a:lnTo>
                  <a:pt x="220" y="1345"/>
                </a:lnTo>
                <a:lnTo>
                  <a:pt x="240" y="1331"/>
                </a:lnTo>
                <a:lnTo>
                  <a:pt x="259" y="1320"/>
                </a:lnTo>
                <a:lnTo>
                  <a:pt x="275" y="1306"/>
                </a:lnTo>
                <a:lnTo>
                  <a:pt x="292" y="1290"/>
                </a:lnTo>
                <a:lnTo>
                  <a:pt x="308" y="1276"/>
                </a:lnTo>
                <a:lnTo>
                  <a:pt x="328" y="1259"/>
                </a:lnTo>
                <a:lnTo>
                  <a:pt x="344" y="1243"/>
                </a:lnTo>
                <a:lnTo>
                  <a:pt x="361" y="1226"/>
                </a:lnTo>
                <a:lnTo>
                  <a:pt x="363" y="1226"/>
                </a:lnTo>
                <a:lnTo>
                  <a:pt x="363" y="1226"/>
                </a:lnTo>
                <a:lnTo>
                  <a:pt x="366" y="1226"/>
                </a:lnTo>
                <a:lnTo>
                  <a:pt x="369" y="1226"/>
                </a:lnTo>
                <a:lnTo>
                  <a:pt x="372" y="1226"/>
                </a:lnTo>
                <a:lnTo>
                  <a:pt x="372" y="1226"/>
                </a:lnTo>
                <a:lnTo>
                  <a:pt x="374" y="1226"/>
                </a:lnTo>
                <a:lnTo>
                  <a:pt x="374" y="1226"/>
                </a:lnTo>
                <a:lnTo>
                  <a:pt x="377" y="1229"/>
                </a:lnTo>
                <a:lnTo>
                  <a:pt x="377" y="1235"/>
                </a:lnTo>
                <a:lnTo>
                  <a:pt x="377" y="1237"/>
                </a:lnTo>
                <a:lnTo>
                  <a:pt x="377" y="1240"/>
                </a:lnTo>
                <a:lnTo>
                  <a:pt x="377" y="1246"/>
                </a:lnTo>
                <a:lnTo>
                  <a:pt x="374" y="1248"/>
                </a:lnTo>
                <a:lnTo>
                  <a:pt x="374" y="1251"/>
                </a:lnTo>
                <a:lnTo>
                  <a:pt x="374" y="1257"/>
                </a:lnTo>
                <a:lnTo>
                  <a:pt x="352" y="1301"/>
                </a:lnTo>
                <a:lnTo>
                  <a:pt x="330" y="1345"/>
                </a:lnTo>
                <a:lnTo>
                  <a:pt x="306" y="1389"/>
                </a:lnTo>
                <a:lnTo>
                  <a:pt x="281" y="1435"/>
                </a:lnTo>
                <a:lnTo>
                  <a:pt x="262" y="1482"/>
                </a:lnTo>
                <a:lnTo>
                  <a:pt x="248" y="1532"/>
                </a:lnTo>
                <a:lnTo>
                  <a:pt x="242" y="1581"/>
                </a:lnTo>
                <a:lnTo>
                  <a:pt x="248" y="1633"/>
                </a:lnTo>
                <a:lnTo>
                  <a:pt x="248" y="1636"/>
                </a:lnTo>
                <a:lnTo>
                  <a:pt x="248" y="1639"/>
                </a:lnTo>
                <a:lnTo>
                  <a:pt x="248" y="1639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9" y="1653"/>
                </a:lnTo>
                <a:lnTo>
                  <a:pt x="273" y="1661"/>
                </a:lnTo>
                <a:lnTo>
                  <a:pt x="284" y="1666"/>
                </a:lnTo>
                <a:lnTo>
                  <a:pt x="300" y="1669"/>
                </a:lnTo>
                <a:lnTo>
                  <a:pt x="314" y="1669"/>
                </a:lnTo>
                <a:lnTo>
                  <a:pt x="330" y="1669"/>
                </a:lnTo>
                <a:lnTo>
                  <a:pt x="347" y="1666"/>
                </a:lnTo>
                <a:lnTo>
                  <a:pt x="361" y="1664"/>
                </a:lnTo>
                <a:lnTo>
                  <a:pt x="380" y="1658"/>
                </a:lnTo>
                <a:lnTo>
                  <a:pt x="396" y="1650"/>
                </a:lnTo>
                <a:lnTo>
                  <a:pt x="413" y="1639"/>
                </a:lnTo>
                <a:lnTo>
                  <a:pt x="429" y="1628"/>
                </a:lnTo>
                <a:lnTo>
                  <a:pt x="443" y="1620"/>
                </a:lnTo>
                <a:lnTo>
                  <a:pt x="457" y="1609"/>
                </a:lnTo>
                <a:lnTo>
                  <a:pt x="473" y="1598"/>
                </a:lnTo>
                <a:lnTo>
                  <a:pt x="490" y="1589"/>
                </a:lnTo>
                <a:lnTo>
                  <a:pt x="493" y="1589"/>
                </a:lnTo>
                <a:lnTo>
                  <a:pt x="493" y="1589"/>
                </a:lnTo>
                <a:lnTo>
                  <a:pt x="495" y="1589"/>
                </a:lnTo>
                <a:lnTo>
                  <a:pt x="495" y="1589"/>
                </a:lnTo>
                <a:lnTo>
                  <a:pt x="498" y="1589"/>
                </a:lnTo>
                <a:lnTo>
                  <a:pt x="501" y="1589"/>
                </a:lnTo>
                <a:lnTo>
                  <a:pt x="501" y="1589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5"/>
                </a:lnTo>
                <a:lnTo>
                  <a:pt x="504" y="1595"/>
                </a:lnTo>
                <a:lnTo>
                  <a:pt x="504" y="1598"/>
                </a:lnTo>
                <a:lnTo>
                  <a:pt x="504" y="1600"/>
                </a:lnTo>
                <a:lnTo>
                  <a:pt x="487" y="1631"/>
                </a:lnTo>
                <a:lnTo>
                  <a:pt x="465" y="1664"/>
                </a:lnTo>
                <a:lnTo>
                  <a:pt x="440" y="1694"/>
                </a:lnTo>
                <a:lnTo>
                  <a:pt x="418" y="1727"/>
                </a:lnTo>
                <a:lnTo>
                  <a:pt x="402" y="1760"/>
                </a:lnTo>
                <a:lnTo>
                  <a:pt x="388" y="1796"/>
                </a:lnTo>
                <a:lnTo>
                  <a:pt x="385" y="1834"/>
                </a:lnTo>
                <a:lnTo>
                  <a:pt x="391" y="1875"/>
                </a:lnTo>
                <a:lnTo>
                  <a:pt x="391" y="1878"/>
                </a:lnTo>
                <a:lnTo>
                  <a:pt x="391" y="1881"/>
                </a:lnTo>
                <a:lnTo>
                  <a:pt x="394" y="1884"/>
                </a:lnTo>
                <a:lnTo>
                  <a:pt x="396" y="1886"/>
                </a:lnTo>
                <a:lnTo>
                  <a:pt x="399" y="1889"/>
                </a:lnTo>
                <a:lnTo>
                  <a:pt x="402" y="1892"/>
                </a:lnTo>
                <a:lnTo>
                  <a:pt x="402" y="1895"/>
                </a:lnTo>
                <a:lnTo>
                  <a:pt x="405" y="1897"/>
                </a:lnTo>
                <a:lnTo>
                  <a:pt x="407" y="1900"/>
                </a:lnTo>
                <a:lnTo>
                  <a:pt x="410" y="1900"/>
                </a:lnTo>
                <a:lnTo>
                  <a:pt x="413" y="1903"/>
                </a:lnTo>
                <a:lnTo>
                  <a:pt x="416" y="1903"/>
                </a:lnTo>
                <a:lnTo>
                  <a:pt x="416" y="1906"/>
                </a:lnTo>
                <a:lnTo>
                  <a:pt x="418" y="1908"/>
                </a:lnTo>
                <a:lnTo>
                  <a:pt x="421" y="1908"/>
                </a:lnTo>
                <a:lnTo>
                  <a:pt x="427" y="1911"/>
                </a:lnTo>
                <a:lnTo>
                  <a:pt x="438" y="1917"/>
                </a:lnTo>
                <a:lnTo>
                  <a:pt x="451" y="1917"/>
                </a:lnTo>
                <a:lnTo>
                  <a:pt x="465" y="1919"/>
                </a:lnTo>
                <a:lnTo>
                  <a:pt x="479" y="1917"/>
                </a:lnTo>
                <a:lnTo>
                  <a:pt x="493" y="1917"/>
                </a:lnTo>
                <a:lnTo>
                  <a:pt x="509" y="1914"/>
                </a:lnTo>
                <a:lnTo>
                  <a:pt x="523" y="1911"/>
                </a:lnTo>
                <a:lnTo>
                  <a:pt x="537" y="1906"/>
                </a:lnTo>
                <a:lnTo>
                  <a:pt x="572" y="1884"/>
                </a:lnTo>
                <a:lnTo>
                  <a:pt x="605" y="1859"/>
                </a:lnTo>
                <a:lnTo>
                  <a:pt x="638" y="1834"/>
                </a:lnTo>
                <a:lnTo>
                  <a:pt x="671" y="1804"/>
                </a:lnTo>
                <a:lnTo>
                  <a:pt x="704" y="1774"/>
                </a:lnTo>
                <a:lnTo>
                  <a:pt x="735" y="1743"/>
                </a:lnTo>
                <a:lnTo>
                  <a:pt x="768" y="1713"/>
                </a:lnTo>
                <a:lnTo>
                  <a:pt x="803" y="1686"/>
                </a:lnTo>
                <a:lnTo>
                  <a:pt x="803" y="1686"/>
                </a:lnTo>
                <a:lnTo>
                  <a:pt x="806" y="1686"/>
                </a:lnTo>
                <a:lnTo>
                  <a:pt x="809" y="1686"/>
                </a:lnTo>
                <a:lnTo>
                  <a:pt x="809" y="1686"/>
                </a:lnTo>
                <a:lnTo>
                  <a:pt x="812" y="1686"/>
                </a:lnTo>
                <a:lnTo>
                  <a:pt x="812" y="1686"/>
                </a:lnTo>
                <a:lnTo>
                  <a:pt x="814" y="1686"/>
                </a:lnTo>
                <a:lnTo>
                  <a:pt x="814" y="1686"/>
                </a:lnTo>
                <a:lnTo>
                  <a:pt x="814" y="1688"/>
                </a:lnTo>
                <a:lnTo>
                  <a:pt x="817" y="1688"/>
                </a:lnTo>
                <a:lnTo>
                  <a:pt x="817" y="1691"/>
                </a:lnTo>
                <a:lnTo>
                  <a:pt x="817" y="1694"/>
                </a:lnTo>
                <a:lnTo>
                  <a:pt x="817" y="1694"/>
                </a:lnTo>
                <a:lnTo>
                  <a:pt x="817" y="1697"/>
                </a:lnTo>
                <a:lnTo>
                  <a:pt x="817" y="1699"/>
                </a:lnTo>
                <a:lnTo>
                  <a:pt x="817" y="1702"/>
                </a:lnTo>
                <a:lnTo>
                  <a:pt x="817" y="1702"/>
                </a:lnTo>
                <a:lnTo>
                  <a:pt x="817" y="1705"/>
                </a:lnTo>
                <a:lnTo>
                  <a:pt x="817" y="1705"/>
                </a:lnTo>
                <a:lnTo>
                  <a:pt x="814" y="1708"/>
                </a:lnTo>
                <a:lnTo>
                  <a:pt x="814" y="1710"/>
                </a:lnTo>
                <a:lnTo>
                  <a:pt x="814" y="1710"/>
                </a:lnTo>
                <a:lnTo>
                  <a:pt x="812" y="1713"/>
                </a:lnTo>
                <a:lnTo>
                  <a:pt x="812" y="1716"/>
                </a:lnTo>
                <a:lnTo>
                  <a:pt x="792" y="1757"/>
                </a:lnTo>
                <a:lnTo>
                  <a:pt x="768" y="1796"/>
                </a:lnTo>
                <a:lnTo>
                  <a:pt x="743" y="1834"/>
                </a:lnTo>
                <a:lnTo>
                  <a:pt x="718" y="1875"/>
                </a:lnTo>
                <a:lnTo>
                  <a:pt x="693" y="1917"/>
                </a:lnTo>
                <a:lnTo>
                  <a:pt x="677" y="1958"/>
                </a:lnTo>
                <a:lnTo>
                  <a:pt x="671" y="2002"/>
                </a:lnTo>
                <a:lnTo>
                  <a:pt x="674" y="2051"/>
                </a:lnTo>
                <a:lnTo>
                  <a:pt x="677" y="2054"/>
                </a:lnTo>
                <a:lnTo>
                  <a:pt x="680" y="2057"/>
                </a:lnTo>
                <a:lnTo>
                  <a:pt x="680" y="2060"/>
                </a:lnTo>
                <a:lnTo>
                  <a:pt x="682" y="2062"/>
                </a:lnTo>
                <a:lnTo>
                  <a:pt x="685" y="2068"/>
                </a:lnTo>
                <a:lnTo>
                  <a:pt x="688" y="2071"/>
                </a:lnTo>
                <a:lnTo>
                  <a:pt x="691" y="2073"/>
                </a:lnTo>
                <a:lnTo>
                  <a:pt x="696" y="2076"/>
                </a:lnTo>
                <a:lnTo>
                  <a:pt x="696" y="2079"/>
                </a:lnTo>
                <a:lnTo>
                  <a:pt x="699" y="2079"/>
                </a:lnTo>
                <a:lnTo>
                  <a:pt x="702" y="2079"/>
                </a:lnTo>
                <a:lnTo>
                  <a:pt x="704" y="2082"/>
                </a:lnTo>
                <a:lnTo>
                  <a:pt x="707" y="2082"/>
                </a:lnTo>
                <a:lnTo>
                  <a:pt x="710" y="2082"/>
                </a:lnTo>
                <a:lnTo>
                  <a:pt x="713" y="2084"/>
                </a:lnTo>
                <a:lnTo>
                  <a:pt x="715" y="2084"/>
                </a:lnTo>
                <a:lnTo>
                  <a:pt x="718" y="2087"/>
                </a:lnTo>
                <a:lnTo>
                  <a:pt x="718" y="2087"/>
                </a:lnTo>
                <a:lnTo>
                  <a:pt x="721" y="2087"/>
                </a:lnTo>
                <a:lnTo>
                  <a:pt x="724" y="2087"/>
                </a:lnTo>
                <a:lnTo>
                  <a:pt x="726" y="2087"/>
                </a:lnTo>
                <a:lnTo>
                  <a:pt x="729" y="2090"/>
                </a:lnTo>
                <a:lnTo>
                  <a:pt x="729" y="2090"/>
                </a:lnTo>
                <a:lnTo>
                  <a:pt x="732" y="2090"/>
                </a:lnTo>
                <a:lnTo>
                  <a:pt x="735" y="2090"/>
                </a:lnTo>
                <a:lnTo>
                  <a:pt x="737" y="2090"/>
                </a:lnTo>
                <a:lnTo>
                  <a:pt x="740" y="2090"/>
                </a:lnTo>
                <a:lnTo>
                  <a:pt x="743" y="2090"/>
                </a:lnTo>
                <a:lnTo>
                  <a:pt x="746" y="2090"/>
                </a:lnTo>
                <a:lnTo>
                  <a:pt x="748" y="2090"/>
                </a:lnTo>
                <a:lnTo>
                  <a:pt x="748" y="2087"/>
                </a:lnTo>
                <a:lnTo>
                  <a:pt x="751" y="208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85840" y="1238040"/>
            <a:ext cx="8523360" cy="26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22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. Tillman is Dean of the School of Business.                      He wish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epare a repor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showing the                     </a:t>
            </a:r>
            <a:r>
              <a:rPr b="1" lang="en-US" sz="2800" spc="-1" strike="noStrike">
                <a:solidFill>
                  <a:srgbClr val="7912ea"/>
                </a:solidFill>
                <a:latin typeface="Times New Roman"/>
              </a:rPr>
              <a:t>number of hours per wee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7912ea"/>
                </a:solidFill>
                <a:latin typeface="Times New Roman"/>
              </a:rPr>
              <a:t>students sp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7912ea"/>
                </a:solidFill>
                <a:latin typeface="Times New Roman"/>
              </a:rPr>
              <a:t>study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elects a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andom sampl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3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stude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7912ea"/>
                </a:solidFill>
                <a:latin typeface="Times New Roman"/>
              </a:rPr>
              <a:t>determines the number of hou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each student studied last week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3932280"/>
            <a:ext cx="8820360" cy="1629000"/>
          </a:xfrm>
          <a:prstGeom prst="rect">
            <a:avLst/>
          </a:prstGeom>
          <a:solidFill>
            <a:srgbClr val="ffe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12ea"/>
                </a:solidFill>
                <a:latin typeface="Times New Roman"/>
              </a:rPr>
              <a:t>15.0,  23.7,  19.7,  15.4,  18.3,  23.0,  14.2,  20.8,  13.5, 20.7,  17.4,  18.6,  12.9,  20.3,  13.7,  21.4,  18.3,  29.8, 17.1,  18.9,  10.3,  26.1,  15.7,  14.0,  17.8,  33.8,  23.2, 12.9,  27.1,  16.6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47680" y="550548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83017" dir="12821405" blurRad="0" rotWithShape="0">
                    <a:srgbClr val="b2b2b2">
                      <a:alpha val="50000"/>
                    </a:srgbClr>
                  </a:outerShdw>
                </a:effectLst>
                <a:latin typeface="Arial Black"/>
              </a:rPr>
              <a:t>Required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83017" dir="12821405" blurRad="0" rotWithShape="0">
                  <a:srgbClr val="b2b2b2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1622520" y="5653080"/>
            <a:ext cx="7521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ganize the data into a frequency distrib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352680" y="285840"/>
            <a:ext cx="2486160" cy="871560"/>
            <a:chOff x="3352680" y="285840"/>
            <a:chExt cx="2486160" cy="871560"/>
          </a:xfrm>
        </p:grpSpPr>
        <p:sp>
          <p:nvSpPr>
            <p:cNvPr id="161" name=""/>
            <p:cNvSpPr txBox="1"/>
            <p:nvPr/>
          </p:nvSpPr>
          <p:spPr>
            <a:xfrm>
              <a:off x="3352680" y="285840"/>
              <a:ext cx="604800" cy="87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02298" dir="10375500" blurRad="0" rotWithShape="0">
                      <a:srgbClr val="868686"/>
                    </a:outerShdw>
                  </a:effectLst>
                  <a:latin typeface="Comic Sans MS"/>
                </a:rPr>
                <a:t>Q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2298" dir="10375500" blurRad="0" rotWithShape="0">
                    <a:srgbClr val="868686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3990960" y="495360"/>
              <a:ext cx="184788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ues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checker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124080" y="234324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ci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ow many classes you wish to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680" y="3159000"/>
            <a:ext cx="206856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Distributions by h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81320" y="3124080"/>
            <a:ext cx="55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term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class wid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66720" y="373680"/>
            <a:ext cx="7829280" cy="1614600"/>
            <a:chOff x="666720" y="373680"/>
            <a:chExt cx="7829280" cy="1614600"/>
          </a:xfrm>
        </p:grpSpPr>
        <p:sp>
          <p:nvSpPr>
            <p:cNvPr id="167" name=""/>
            <p:cNvSpPr/>
            <p:nvPr/>
          </p:nvSpPr>
          <p:spPr>
            <a:xfrm rot="121200">
              <a:off x="1927080" y="456840"/>
              <a:ext cx="4756680" cy="1447920"/>
            </a:xfrm>
            <a:custGeom>
              <a:avLst/>
              <a:gdLst/>
              <a:ahLst/>
              <a:rect l="l" t="t" r="r" b="b"/>
              <a:pathLst>
                <a:path w="2085" h="2090">
                  <a:moveTo>
                    <a:pt x="751" y="2087"/>
                  </a:moveTo>
                  <a:lnTo>
                    <a:pt x="754" y="2087"/>
                  </a:lnTo>
                  <a:lnTo>
                    <a:pt x="757" y="2087"/>
                  </a:lnTo>
                  <a:lnTo>
                    <a:pt x="759" y="2087"/>
                  </a:lnTo>
                  <a:lnTo>
                    <a:pt x="762" y="2087"/>
                  </a:lnTo>
                  <a:lnTo>
                    <a:pt x="765" y="2087"/>
                  </a:lnTo>
                  <a:lnTo>
                    <a:pt x="768" y="2087"/>
                  </a:lnTo>
                  <a:lnTo>
                    <a:pt x="770" y="2087"/>
                  </a:lnTo>
                  <a:lnTo>
                    <a:pt x="773" y="2084"/>
                  </a:lnTo>
                  <a:lnTo>
                    <a:pt x="776" y="2084"/>
                  </a:lnTo>
                  <a:lnTo>
                    <a:pt x="776" y="2084"/>
                  </a:lnTo>
                  <a:lnTo>
                    <a:pt x="779" y="2084"/>
                  </a:lnTo>
                  <a:lnTo>
                    <a:pt x="781" y="2084"/>
                  </a:lnTo>
                  <a:lnTo>
                    <a:pt x="781" y="2082"/>
                  </a:lnTo>
                  <a:lnTo>
                    <a:pt x="784" y="2082"/>
                  </a:lnTo>
                  <a:lnTo>
                    <a:pt x="787" y="2082"/>
                  </a:lnTo>
                  <a:lnTo>
                    <a:pt x="790" y="2082"/>
                  </a:lnTo>
                  <a:lnTo>
                    <a:pt x="825" y="2062"/>
                  </a:lnTo>
                  <a:lnTo>
                    <a:pt x="861" y="2040"/>
                  </a:lnTo>
                  <a:lnTo>
                    <a:pt x="894" y="2016"/>
                  </a:lnTo>
                  <a:lnTo>
                    <a:pt x="924" y="1988"/>
                  </a:lnTo>
                  <a:lnTo>
                    <a:pt x="955" y="1958"/>
                  </a:lnTo>
                  <a:lnTo>
                    <a:pt x="982" y="1928"/>
                  </a:lnTo>
                  <a:lnTo>
                    <a:pt x="1010" y="1895"/>
                  </a:lnTo>
                  <a:lnTo>
                    <a:pt x="1037" y="1864"/>
                  </a:lnTo>
                  <a:lnTo>
                    <a:pt x="1040" y="1862"/>
                  </a:lnTo>
                  <a:lnTo>
                    <a:pt x="1043" y="1862"/>
                  </a:lnTo>
                  <a:lnTo>
                    <a:pt x="1045" y="1862"/>
                  </a:lnTo>
                  <a:lnTo>
                    <a:pt x="1048" y="1862"/>
                  </a:lnTo>
                  <a:lnTo>
                    <a:pt x="1051" y="1862"/>
                  </a:lnTo>
                  <a:lnTo>
                    <a:pt x="1054" y="1862"/>
                  </a:lnTo>
                  <a:lnTo>
                    <a:pt x="1056" y="1862"/>
                  </a:lnTo>
                  <a:lnTo>
                    <a:pt x="1059" y="1864"/>
                  </a:lnTo>
                  <a:lnTo>
                    <a:pt x="1059" y="1864"/>
                  </a:lnTo>
                  <a:lnTo>
                    <a:pt x="1059" y="1864"/>
                  </a:lnTo>
                  <a:lnTo>
                    <a:pt x="1059" y="1864"/>
                  </a:lnTo>
                  <a:lnTo>
                    <a:pt x="1062" y="1867"/>
                  </a:lnTo>
                  <a:lnTo>
                    <a:pt x="1062" y="1867"/>
                  </a:lnTo>
                  <a:lnTo>
                    <a:pt x="1062" y="1867"/>
                  </a:lnTo>
                  <a:lnTo>
                    <a:pt x="1062" y="1870"/>
                  </a:lnTo>
                  <a:lnTo>
                    <a:pt x="1062" y="1870"/>
                  </a:lnTo>
                  <a:lnTo>
                    <a:pt x="1062" y="1870"/>
                  </a:lnTo>
                  <a:lnTo>
                    <a:pt x="1065" y="1870"/>
                  </a:lnTo>
                  <a:lnTo>
                    <a:pt x="1065" y="1870"/>
                  </a:lnTo>
                  <a:lnTo>
                    <a:pt x="1067" y="1873"/>
                  </a:lnTo>
                  <a:lnTo>
                    <a:pt x="1067" y="1873"/>
                  </a:lnTo>
                  <a:lnTo>
                    <a:pt x="1070" y="1875"/>
                  </a:lnTo>
                  <a:lnTo>
                    <a:pt x="1070" y="1875"/>
                  </a:lnTo>
                  <a:lnTo>
                    <a:pt x="1070" y="1875"/>
                  </a:lnTo>
                  <a:lnTo>
                    <a:pt x="1078" y="1884"/>
                  </a:lnTo>
                  <a:lnTo>
                    <a:pt x="1084" y="1895"/>
                  </a:lnTo>
                  <a:lnTo>
                    <a:pt x="1092" y="1903"/>
                  </a:lnTo>
                  <a:lnTo>
                    <a:pt x="1103" y="1911"/>
                  </a:lnTo>
                  <a:lnTo>
                    <a:pt x="1111" y="1919"/>
                  </a:lnTo>
                  <a:lnTo>
                    <a:pt x="1122" y="1925"/>
                  </a:lnTo>
                  <a:lnTo>
                    <a:pt x="1133" y="1930"/>
                  </a:lnTo>
                  <a:lnTo>
                    <a:pt x="1147" y="1933"/>
                  </a:lnTo>
                  <a:lnTo>
                    <a:pt x="1153" y="1936"/>
                  </a:lnTo>
                  <a:lnTo>
                    <a:pt x="1161" y="1936"/>
                  </a:lnTo>
                  <a:lnTo>
                    <a:pt x="1166" y="1936"/>
                  </a:lnTo>
                  <a:lnTo>
                    <a:pt x="1175" y="1936"/>
                  </a:lnTo>
                  <a:lnTo>
                    <a:pt x="1180" y="1936"/>
                  </a:lnTo>
                  <a:lnTo>
                    <a:pt x="1188" y="1933"/>
                  </a:lnTo>
                  <a:lnTo>
                    <a:pt x="1197" y="1933"/>
                  </a:lnTo>
                  <a:lnTo>
                    <a:pt x="1205" y="1933"/>
                  </a:lnTo>
                  <a:lnTo>
                    <a:pt x="1205" y="1933"/>
                  </a:lnTo>
                  <a:lnTo>
                    <a:pt x="1208" y="1933"/>
                  </a:lnTo>
                  <a:lnTo>
                    <a:pt x="1208" y="1930"/>
                  </a:lnTo>
                  <a:lnTo>
                    <a:pt x="1210" y="1930"/>
                  </a:lnTo>
                  <a:lnTo>
                    <a:pt x="1213" y="1930"/>
                  </a:lnTo>
                  <a:lnTo>
                    <a:pt x="1216" y="1928"/>
                  </a:lnTo>
                  <a:lnTo>
                    <a:pt x="1216" y="1928"/>
                  </a:lnTo>
                  <a:lnTo>
                    <a:pt x="1219" y="1928"/>
                  </a:lnTo>
                  <a:lnTo>
                    <a:pt x="1221" y="1928"/>
                  </a:lnTo>
                  <a:lnTo>
                    <a:pt x="1224" y="1925"/>
                  </a:lnTo>
                  <a:lnTo>
                    <a:pt x="1227" y="1925"/>
                  </a:lnTo>
                  <a:lnTo>
                    <a:pt x="1230" y="1925"/>
                  </a:lnTo>
                  <a:lnTo>
                    <a:pt x="1232" y="1922"/>
                  </a:lnTo>
                  <a:lnTo>
                    <a:pt x="1235" y="1922"/>
                  </a:lnTo>
                  <a:lnTo>
                    <a:pt x="1238" y="1922"/>
                  </a:lnTo>
                  <a:lnTo>
                    <a:pt x="1241" y="1919"/>
                  </a:lnTo>
                  <a:lnTo>
                    <a:pt x="1241" y="1919"/>
                  </a:lnTo>
                  <a:lnTo>
                    <a:pt x="1243" y="1919"/>
                  </a:lnTo>
                  <a:lnTo>
                    <a:pt x="1243" y="1917"/>
                  </a:lnTo>
                  <a:lnTo>
                    <a:pt x="1246" y="1917"/>
                  </a:lnTo>
                  <a:lnTo>
                    <a:pt x="1249" y="1917"/>
                  </a:lnTo>
                  <a:lnTo>
                    <a:pt x="1252" y="1914"/>
                  </a:lnTo>
                  <a:lnTo>
                    <a:pt x="1252" y="1914"/>
                  </a:lnTo>
                  <a:lnTo>
                    <a:pt x="1254" y="1914"/>
                  </a:lnTo>
                  <a:lnTo>
                    <a:pt x="1329" y="1878"/>
                  </a:lnTo>
                  <a:lnTo>
                    <a:pt x="1331" y="1878"/>
                  </a:lnTo>
                  <a:lnTo>
                    <a:pt x="1334" y="1878"/>
                  </a:lnTo>
                  <a:lnTo>
                    <a:pt x="1337" y="1878"/>
                  </a:lnTo>
                  <a:lnTo>
                    <a:pt x="1340" y="1878"/>
                  </a:lnTo>
                  <a:lnTo>
                    <a:pt x="1342" y="1881"/>
                  </a:lnTo>
                  <a:lnTo>
                    <a:pt x="1345" y="1881"/>
                  </a:lnTo>
                  <a:lnTo>
                    <a:pt x="1348" y="1884"/>
                  </a:lnTo>
                  <a:lnTo>
                    <a:pt x="1351" y="1884"/>
                  </a:lnTo>
                  <a:lnTo>
                    <a:pt x="1351" y="1884"/>
                  </a:lnTo>
                  <a:lnTo>
                    <a:pt x="1351" y="1884"/>
                  </a:lnTo>
                  <a:lnTo>
                    <a:pt x="1353" y="1886"/>
                  </a:lnTo>
                  <a:lnTo>
                    <a:pt x="1353" y="1886"/>
                  </a:lnTo>
                  <a:lnTo>
                    <a:pt x="1353" y="1886"/>
                  </a:lnTo>
                  <a:lnTo>
                    <a:pt x="1353" y="1889"/>
                  </a:lnTo>
                  <a:lnTo>
                    <a:pt x="1353" y="1889"/>
                  </a:lnTo>
                  <a:lnTo>
                    <a:pt x="1356" y="1889"/>
                  </a:lnTo>
                  <a:lnTo>
                    <a:pt x="1356" y="1889"/>
                  </a:lnTo>
                  <a:lnTo>
                    <a:pt x="1356" y="1892"/>
                  </a:lnTo>
                  <a:lnTo>
                    <a:pt x="1356" y="1892"/>
                  </a:lnTo>
                  <a:lnTo>
                    <a:pt x="1356" y="1895"/>
                  </a:lnTo>
                  <a:lnTo>
                    <a:pt x="1359" y="1895"/>
                  </a:lnTo>
                  <a:lnTo>
                    <a:pt x="1359" y="1897"/>
                  </a:lnTo>
                  <a:lnTo>
                    <a:pt x="1359" y="1897"/>
                  </a:lnTo>
                  <a:lnTo>
                    <a:pt x="1359" y="1897"/>
                  </a:lnTo>
                  <a:lnTo>
                    <a:pt x="1364" y="1903"/>
                  </a:lnTo>
                  <a:lnTo>
                    <a:pt x="1370" y="1911"/>
                  </a:lnTo>
                  <a:lnTo>
                    <a:pt x="1375" y="1917"/>
                  </a:lnTo>
                  <a:lnTo>
                    <a:pt x="1384" y="1922"/>
                  </a:lnTo>
                  <a:lnTo>
                    <a:pt x="1389" y="1930"/>
                  </a:lnTo>
                  <a:lnTo>
                    <a:pt x="1395" y="1936"/>
                  </a:lnTo>
                  <a:lnTo>
                    <a:pt x="1403" y="1941"/>
                  </a:lnTo>
                  <a:lnTo>
                    <a:pt x="1408" y="1947"/>
                  </a:lnTo>
                  <a:lnTo>
                    <a:pt x="1414" y="1947"/>
                  </a:lnTo>
                  <a:lnTo>
                    <a:pt x="1417" y="1950"/>
                  </a:lnTo>
                  <a:lnTo>
                    <a:pt x="1422" y="1952"/>
                  </a:lnTo>
                  <a:lnTo>
                    <a:pt x="1428" y="1952"/>
                  </a:lnTo>
                  <a:lnTo>
                    <a:pt x="1436" y="1952"/>
                  </a:lnTo>
                  <a:lnTo>
                    <a:pt x="1441" y="1955"/>
                  </a:lnTo>
                  <a:lnTo>
                    <a:pt x="1447" y="1955"/>
                  </a:lnTo>
                  <a:lnTo>
                    <a:pt x="1452" y="1955"/>
                  </a:lnTo>
                  <a:lnTo>
                    <a:pt x="1494" y="1933"/>
                  </a:lnTo>
                  <a:lnTo>
                    <a:pt x="1529" y="1906"/>
                  </a:lnTo>
                  <a:lnTo>
                    <a:pt x="1560" y="1873"/>
                  </a:lnTo>
                  <a:lnTo>
                    <a:pt x="1590" y="1837"/>
                  </a:lnTo>
                  <a:lnTo>
                    <a:pt x="1617" y="1801"/>
                  </a:lnTo>
                  <a:lnTo>
                    <a:pt x="1645" y="1765"/>
                  </a:lnTo>
                  <a:lnTo>
                    <a:pt x="1672" y="1730"/>
                  </a:lnTo>
                  <a:lnTo>
                    <a:pt x="1703" y="1697"/>
                  </a:lnTo>
                  <a:lnTo>
                    <a:pt x="1733" y="1658"/>
                  </a:lnTo>
                  <a:lnTo>
                    <a:pt x="1763" y="1620"/>
                  </a:lnTo>
                  <a:lnTo>
                    <a:pt x="1793" y="1584"/>
                  </a:lnTo>
                  <a:lnTo>
                    <a:pt x="1821" y="1548"/>
                  </a:lnTo>
                  <a:lnTo>
                    <a:pt x="1848" y="1510"/>
                  </a:lnTo>
                  <a:lnTo>
                    <a:pt x="1873" y="1474"/>
                  </a:lnTo>
                  <a:lnTo>
                    <a:pt x="1898" y="1435"/>
                  </a:lnTo>
                  <a:lnTo>
                    <a:pt x="1920" y="1394"/>
                  </a:lnTo>
                  <a:lnTo>
                    <a:pt x="1945" y="1356"/>
                  </a:lnTo>
                  <a:lnTo>
                    <a:pt x="1967" y="1317"/>
                  </a:lnTo>
                  <a:lnTo>
                    <a:pt x="1991" y="1279"/>
                  </a:lnTo>
                  <a:lnTo>
                    <a:pt x="2013" y="1240"/>
                  </a:lnTo>
                  <a:lnTo>
                    <a:pt x="2033" y="1202"/>
                  </a:lnTo>
                  <a:lnTo>
                    <a:pt x="2052" y="1163"/>
                  </a:lnTo>
                  <a:lnTo>
                    <a:pt x="2071" y="1125"/>
                  </a:lnTo>
                  <a:lnTo>
                    <a:pt x="2085" y="1083"/>
                  </a:lnTo>
                  <a:lnTo>
                    <a:pt x="2085" y="1083"/>
                  </a:lnTo>
                  <a:lnTo>
                    <a:pt x="2085" y="1081"/>
                  </a:lnTo>
                  <a:lnTo>
                    <a:pt x="2085" y="1081"/>
                  </a:lnTo>
                  <a:lnTo>
                    <a:pt x="2085" y="1078"/>
                  </a:lnTo>
                  <a:lnTo>
                    <a:pt x="2082" y="1075"/>
                  </a:lnTo>
                  <a:lnTo>
                    <a:pt x="2082" y="1072"/>
                  </a:lnTo>
                  <a:lnTo>
                    <a:pt x="2082" y="1072"/>
                  </a:lnTo>
                  <a:lnTo>
                    <a:pt x="2079" y="1070"/>
                  </a:lnTo>
                  <a:lnTo>
                    <a:pt x="2079" y="1067"/>
                  </a:lnTo>
                  <a:lnTo>
                    <a:pt x="2077" y="1061"/>
                  </a:lnTo>
                  <a:lnTo>
                    <a:pt x="2074" y="1059"/>
                  </a:lnTo>
                  <a:lnTo>
                    <a:pt x="2071" y="1056"/>
                  </a:lnTo>
                  <a:lnTo>
                    <a:pt x="2068" y="1050"/>
                  </a:lnTo>
                  <a:lnTo>
                    <a:pt x="2066" y="1048"/>
                  </a:lnTo>
                  <a:lnTo>
                    <a:pt x="2063" y="1042"/>
                  </a:lnTo>
                  <a:lnTo>
                    <a:pt x="2060" y="1040"/>
                  </a:lnTo>
                  <a:lnTo>
                    <a:pt x="2057" y="1040"/>
                  </a:lnTo>
                  <a:lnTo>
                    <a:pt x="2057" y="1037"/>
                  </a:lnTo>
                  <a:lnTo>
                    <a:pt x="2055" y="1037"/>
                  </a:lnTo>
                  <a:lnTo>
                    <a:pt x="2052" y="1037"/>
                  </a:lnTo>
                  <a:lnTo>
                    <a:pt x="2052" y="1034"/>
                  </a:lnTo>
                  <a:lnTo>
                    <a:pt x="2049" y="1034"/>
                  </a:lnTo>
                  <a:lnTo>
                    <a:pt x="2049" y="1031"/>
                  </a:lnTo>
                  <a:lnTo>
                    <a:pt x="2046" y="1031"/>
                  </a:lnTo>
                  <a:lnTo>
                    <a:pt x="2044" y="1029"/>
                  </a:lnTo>
                  <a:lnTo>
                    <a:pt x="2038" y="1026"/>
                  </a:lnTo>
                  <a:lnTo>
                    <a:pt x="2035" y="1026"/>
                  </a:lnTo>
                  <a:lnTo>
                    <a:pt x="2030" y="1023"/>
                  </a:lnTo>
                  <a:lnTo>
                    <a:pt x="2027" y="1023"/>
                  </a:lnTo>
                  <a:lnTo>
                    <a:pt x="2022" y="1023"/>
                  </a:lnTo>
                  <a:lnTo>
                    <a:pt x="2019" y="1020"/>
                  </a:lnTo>
                  <a:lnTo>
                    <a:pt x="2016" y="1020"/>
                  </a:lnTo>
                  <a:lnTo>
                    <a:pt x="1991" y="1015"/>
                  </a:lnTo>
                  <a:lnTo>
                    <a:pt x="1967" y="1015"/>
                  </a:lnTo>
                  <a:lnTo>
                    <a:pt x="1945" y="1020"/>
                  </a:lnTo>
                  <a:lnTo>
                    <a:pt x="1920" y="1029"/>
                  </a:lnTo>
                  <a:lnTo>
                    <a:pt x="1901" y="1037"/>
                  </a:lnTo>
                  <a:lnTo>
                    <a:pt x="1879" y="1050"/>
                  </a:lnTo>
                  <a:lnTo>
                    <a:pt x="1859" y="1067"/>
                  </a:lnTo>
                  <a:lnTo>
                    <a:pt x="1843" y="1083"/>
                  </a:lnTo>
                  <a:lnTo>
                    <a:pt x="1840" y="1083"/>
                  </a:lnTo>
                  <a:lnTo>
                    <a:pt x="1837" y="1083"/>
                  </a:lnTo>
                  <a:lnTo>
                    <a:pt x="1835" y="1083"/>
                  </a:lnTo>
                  <a:lnTo>
                    <a:pt x="1832" y="1083"/>
                  </a:lnTo>
                  <a:lnTo>
                    <a:pt x="1832" y="1083"/>
                  </a:lnTo>
                  <a:lnTo>
                    <a:pt x="1829" y="1083"/>
                  </a:lnTo>
                  <a:lnTo>
                    <a:pt x="1826" y="1083"/>
                  </a:lnTo>
                  <a:lnTo>
                    <a:pt x="1824" y="1083"/>
                  </a:lnTo>
                  <a:lnTo>
                    <a:pt x="1835" y="1042"/>
                  </a:lnTo>
                  <a:lnTo>
                    <a:pt x="1854" y="1004"/>
                  </a:lnTo>
                  <a:lnTo>
                    <a:pt x="1873" y="965"/>
                  </a:lnTo>
                  <a:lnTo>
                    <a:pt x="1895" y="927"/>
                  </a:lnTo>
                  <a:lnTo>
                    <a:pt x="1912" y="888"/>
                  </a:lnTo>
                  <a:lnTo>
                    <a:pt x="1923" y="847"/>
                  </a:lnTo>
                  <a:lnTo>
                    <a:pt x="1925" y="803"/>
                  </a:lnTo>
                  <a:lnTo>
                    <a:pt x="1912" y="756"/>
                  </a:lnTo>
                  <a:lnTo>
                    <a:pt x="1901" y="748"/>
                  </a:lnTo>
                  <a:lnTo>
                    <a:pt x="1887" y="743"/>
                  </a:lnTo>
                  <a:lnTo>
                    <a:pt x="1870" y="737"/>
                  </a:lnTo>
                  <a:lnTo>
                    <a:pt x="1854" y="734"/>
                  </a:lnTo>
                  <a:lnTo>
                    <a:pt x="1837" y="732"/>
                  </a:lnTo>
                  <a:lnTo>
                    <a:pt x="1821" y="726"/>
                  </a:lnTo>
                  <a:lnTo>
                    <a:pt x="1807" y="721"/>
                  </a:lnTo>
                  <a:lnTo>
                    <a:pt x="1793" y="710"/>
                  </a:lnTo>
                  <a:lnTo>
                    <a:pt x="1793" y="710"/>
                  </a:lnTo>
                  <a:lnTo>
                    <a:pt x="1793" y="707"/>
                  </a:lnTo>
                  <a:lnTo>
                    <a:pt x="1793" y="704"/>
                  </a:lnTo>
                  <a:lnTo>
                    <a:pt x="1793" y="701"/>
                  </a:lnTo>
                  <a:lnTo>
                    <a:pt x="1793" y="699"/>
                  </a:lnTo>
                  <a:lnTo>
                    <a:pt x="1793" y="696"/>
                  </a:lnTo>
                  <a:lnTo>
                    <a:pt x="1793" y="693"/>
                  </a:lnTo>
                  <a:lnTo>
                    <a:pt x="1793" y="690"/>
                  </a:lnTo>
                  <a:lnTo>
                    <a:pt x="1793" y="690"/>
                  </a:lnTo>
                  <a:lnTo>
                    <a:pt x="1796" y="688"/>
                  </a:lnTo>
                  <a:lnTo>
                    <a:pt x="1796" y="688"/>
                  </a:lnTo>
                  <a:lnTo>
                    <a:pt x="1796" y="685"/>
                  </a:lnTo>
                  <a:lnTo>
                    <a:pt x="1799" y="685"/>
                  </a:lnTo>
                  <a:lnTo>
                    <a:pt x="1799" y="682"/>
                  </a:lnTo>
                  <a:lnTo>
                    <a:pt x="1799" y="682"/>
                  </a:lnTo>
                  <a:lnTo>
                    <a:pt x="1802" y="682"/>
                  </a:lnTo>
                  <a:lnTo>
                    <a:pt x="1802" y="679"/>
                  </a:lnTo>
                  <a:lnTo>
                    <a:pt x="1804" y="677"/>
                  </a:lnTo>
                  <a:lnTo>
                    <a:pt x="1804" y="677"/>
                  </a:lnTo>
                  <a:lnTo>
                    <a:pt x="1807" y="674"/>
                  </a:lnTo>
                  <a:lnTo>
                    <a:pt x="1810" y="671"/>
                  </a:lnTo>
                  <a:lnTo>
                    <a:pt x="1813" y="668"/>
                  </a:lnTo>
                  <a:lnTo>
                    <a:pt x="1815" y="666"/>
                  </a:lnTo>
                  <a:lnTo>
                    <a:pt x="1815" y="660"/>
                  </a:lnTo>
                  <a:lnTo>
                    <a:pt x="1818" y="657"/>
                  </a:lnTo>
                  <a:lnTo>
                    <a:pt x="1821" y="655"/>
                  </a:lnTo>
                  <a:lnTo>
                    <a:pt x="1824" y="652"/>
                  </a:lnTo>
                  <a:lnTo>
                    <a:pt x="1826" y="649"/>
                  </a:lnTo>
                  <a:lnTo>
                    <a:pt x="1826" y="646"/>
                  </a:lnTo>
                  <a:lnTo>
                    <a:pt x="1829" y="644"/>
                  </a:lnTo>
                  <a:lnTo>
                    <a:pt x="1832" y="641"/>
                  </a:lnTo>
                  <a:lnTo>
                    <a:pt x="1832" y="638"/>
                  </a:lnTo>
                  <a:lnTo>
                    <a:pt x="1848" y="613"/>
                  </a:lnTo>
                  <a:lnTo>
                    <a:pt x="1868" y="589"/>
                  </a:lnTo>
                  <a:lnTo>
                    <a:pt x="1887" y="561"/>
                  </a:lnTo>
                  <a:lnTo>
                    <a:pt x="1906" y="536"/>
                  </a:lnTo>
                  <a:lnTo>
                    <a:pt x="1925" y="509"/>
                  </a:lnTo>
                  <a:lnTo>
                    <a:pt x="1939" y="481"/>
                  </a:lnTo>
                  <a:lnTo>
                    <a:pt x="1953" y="451"/>
                  </a:lnTo>
                  <a:lnTo>
                    <a:pt x="1961" y="421"/>
                  </a:lnTo>
                  <a:lnTo>
                    <a:pt x="1961" y="418"/>
                  </a:lnTo>
                  <a:lnTo>
                    <a:pt x="1958" y="415"/>
                  </a:lnTo>
                  <a:lnTo>
                    <a:pt x="1958" y="413"/>
                  </a:lnTo>
                  <a:lnTo>
                    <a:pt x="1956" y="410"/>
                  </a:lnTo>
                  <a:lnTo>
                    <a:pt x="1956" y="407"/>
                  </a:lnTo>
                  <a:lnTo>
                    <a:pt x="1956" y="404"/>
                  </a:lnTo>
                  <a:lnTo>
                    <a:pt x="1953" y="402"/>
                  </a:lnTo>
                  <a:lnTo>
                    <a:pt x="1953" y="399"/>
                  </a:lnTo>
                  <a:lnTo>
                    <a:pt x="1950" y="393"/>
                  </a:lnTo>
                  <a:lnTo>
                    <a:pt x="1945" y="388"/>
                  </a:lnTo>
                  <a:lnTo>
                    <a:pt x="1942" y="382"/>
                  </a:lnTo>
                  <a:lnTo>
                    <a:pt x="1936" y="380"/>
                  </a:lnTo>
                  <a:lnTo>
                    <a:pt x="1931" y="374"/>
                  </a:lnTo>
                  <a:lnTo>
                    <a:pt x="1923" y="369"/>
                  </a:lnTo>
                  <a:lnTo>
                    <a:pt x="1917" y="366"/>
                  </a:lnTo>
                  <a:lnTo>
                    <a:pt x="1912" y="360"/>
                  </a:lnTo>
                  <a:lnTo>
                    <a:pt x="1912" y="360"/>
                  </a:lnTo>
                  <a:lnTo>
                    <a:pt x="1909" y="358"/>
                  </a:lnTo>
                  <a:lnTo>
                    <a:pt x="1906" y="358"/>
                  </a:lnTo>
                  <a:lnTo>
                    <a:pt x="1903" y="355"/>
                  </a:lnTo>
                  <a:lnTo>
                    <a:pt x="1903" y="355"/>
                  </a:lnTo>
                  <a:lnTo>
                    <a:pt x="1901" y="352"/>
                  </a:lnTo>
                  <a:lnTo>
                    <a:pt x="1898" y="352"/>
                  </a:lnTo>
                  <a:lnTo>
                    <a:pt x="1895" y="349"/>
                  </a:lnTo>
                  <a:lnTo>
                    <a:pt x="1892" y="349"/>
                  </a:lnTo>
                  <a:lnTo>
                    <a:pt x="1890" y="349"/>
                  </a:lnTo>
                  <a:lnTo>
                    <a:pt x="1887" y="349"/>
                  </a:lnTo>
                  <a:lnTo>
                    <a:pt x="1887" y="349"/>
                  </a:lnTo>
                  <a:lnTo>
                    <a:pt x="1884" y="349"/>
                  </a:lnTo>
                  <a:lnTo>
                    <a:pt x="1881" y="349"/>
                  </a:lnTo>
                  <a:lnTo>
                    <a:pt x="1881" y="347"/>
                  </a:lnTo>
                  <a:lnTo>
                    <a:pt x="1881" y="347"/>
                  </a:lnTo>
                  <a:lnTo>
                    <a:pt x="1873" y="347"/>
                  </a:lnTo>
                  <a:lnTo>
                    <a:pt x="1868" y="347"/>
                  </a:lnTo>
                  <a:lnTo>
                    <a:pt x="1862" y="347"/>
                  </a:lnTo>
                  <a:lnTo>
                    <a:pt x="1857" y="347"/>
                  </a:lnTo>
                  <a:lnTo>
                    <a:pt x="1851" y="347"/>
                  </a:lnTo>
                  <a:lnTo>
                    <a:pt x="1846" y="349"/>
                  </a:lnTo>
                  <a:lnTo>
                    <a:pt x="1840" y="349"/>
                  </a:lnTo>
                  <a:lnTo>
                    <a:pt x="1832" y="349"/>
                  </a:lnTo>
                  <a:lnTo>
                    <a:pt x="1832" y="352"/>
                  </a:lnTo>
                  <a:lnTo>
                    <a:pt x="1832" y="352"/>
                  </a:lnTo>
                  <a:lnTo>
                    <a:pt x="1829" y="352"/>
                  </a:lnTo>
                  <a:lnTo>
                    <a:pt x="1826" y="352"/>
                  </a:lnTo>
                  <a:lnTo>
                    <a:pt x="1826" y="352"/>
                  </a:lnTo>
                  <a:lnTo>
                    <a:pt x="1824" y="352"/>
                  </a:lnTo>
                  <a:lnTo>
                    <a:pt x="1821" y="352"/>
                  </a:lnTo>
                  <a:lnTo>
                    <a:pt x="1818" y="352"/>
                  </a:lnTo>
                  <a:lnTo>
                    <a:pt x="1782" y="377"/>
                  </a:lnTo>
                  <a:lnTo>
                    <a:pt x="1747" y="402"/>
                  </a:lnTo>
                  <a:lnTo>
                    <a:pt x="1714" y="432"/>
                  </a:lnTo>
                  <a:lnTo>
                    <a:pt x="1681" y="462"/>
                  </a:lnTo>
                  <a:lnTo>
                    <a:pt x="1650" y="495"/>
                  </a:lnTo>
                  <a:lnTo>
                    <a:pt x="1620" y="528"/>
                  </a:lnTo>
                  <a:lnTo>
                    <a:pt x="1587" y="561"/>
                  </a:lnTo>
                  <a:lnTo>
                    <a:pt x="1554" y="594"/>
                  </a:lnTo>
                  <a:lnTo>
                    <a:pt x="1551" y="597"/>
                  </a:lnTo>
                  <a:lnTo>
                    <a:pt x="1549" y="602"/>
                  </a:lnTo>
                  <a:lnTo>
                    <a:pt x="1546" y="605"/>
                  </a:lnTo>
                  <a:lnTo>
                    <a:pt x="1543" y="608"/>
                  </a:lnTo>
                  <a:lnTo>
                    <a:pt x="1540" y="611"/>
                  </a:lnTo>
                  <a:lnTo>
                    <a:pt x="1540" y="611"/>
                  </a:lnTo>
                  <a:lnTo>
                    <a:pt x="1538" y="613"/>
                  </a:lnTo>
                  <a:lnTo>
                    <a:pt x="1538" y="613"/>
                  </a:lnTo>
                  <a:lnTo>
                    <a:pt x="1535" y="616"/>
                  </a:lnTo>
                  <a:lnTo>
                    <a:pt x="1532" y="616"/>
                  </a:lnTo>
                  <a:lnTo>
                    <a:pt x="1529" y="616"/>
                  </a:lnTo>
                  <a:lnTo>
                    <a:pt x="1527" y="616"/>
                  </a:lnTo>
                  <a:lnTo>
                    <a:pt x="1524" y="619"/>
                  </a:lnTo>
                  <a:lnTo>
                    <a:pt x="1521" y="616"/>
                  </a:lnTo>
                  <a:lnTo>
                    <a:pt x="1521" y="616"/>
                  </a:lnTo>
                  <a:lnTo>
                    <a:pt x="1518" y="613"/>
                  </a:lnTo>
                  <a:lnTo>
                    <a:pt x="1518" y="611"/>
                  </a:lnTo>
                  <a:lnTo>
                    <a:pt x="1518" y="611"/>
                  </a:lnTo>
                  <a:lnTo>
                    <a:pt x="1518" y="608"/>
                  </a:lnTo>
                  <a:lnTo>
                    <a:pt x="1518" y="605"/>
                  </a:lnTo>
                  <a:lnTo>
                    <a:pt x="1518" y="602"/>
                  </a:lnTo>
                  <a:lnTo>
                    <a:pt x="1521" y="602"/>
                  </a:lnTo>
                  <a:lnTo>
                    <a:pt x="1521" y="600"/>
                  </a:lnTo>
                  <a:lnTo>
                    <a:pt x="1524" y="597"/>
                  </a:lnTo>
                  <a:lnTo>
                    <a:pt x="1524" y="597"/>
                  </a:lnTo>
                  <a:lnTo>
                    <a:pt x="1524" y="594"/>
                  </a:lnTo>
                  <a:lnTo>
                    <a:pt x="1524" y="591"/>
                  </a:lnTo>
                  <a:lnTo>
                    <a:pt x="1524" y="589"/>
                  </a:lnTo>
                  <a:lnTo>
                    <a:pt x="1524" y="589"/>
                  </a:lnTo>
                  <a:lnTo>
                    <a:pt x="1524" y="586"/>
                  </a:lnTo>
                  <a:lnTo>
                    <a:pt x="1527" y="583"/>
                  </a:lnTo>
                  <a:lnTo>
                    <a:pt x="1527" y="580"/>
                  </a:lnTo>
                  <a:lnTo>
                    <a:pt x="1540" y="550"/>
                  </a:lnTo>
                  <a:lnTo>
                    <a:pt x="1560" y="523"/>
                  </a:lnTo>
                  <a:lnTo>
                    <a:pt x="1576" y="495"/>
                  </a:lnTo>
                  <a:lnTo>
                    <a:pt x="1595" y="468"/>
                  </a:lnTo>
                  <a:lnTo>
                    <a:pt x="1615" y="440"/>
                  </a:lnTo>
                  <a:lnTo>
                    <a:pt x="1631" y="410"/>
                  </a:lnTo>
                  <a:lnTo>
                    <a:pt x="1645" y="380"/>
                  </a:lnTo>
                  <a:lnTo>
                    <a:pt x="1659" y="347"/>
                  </a:lnTo>
                  <a:lnTo>
                    <a:pt x="1659" y="333"/>
                  </a:lnTo>
                  <a:lnTo>
                    <a:pt x="1661" y="319"/>
                  </a:lnTo>
                  <a:lnTo>
                    <a:pt x="1661" y="305"/>
                  </a:lnTo>
                  <a:lnTo>
                    <a:pt x="1661" y="292"/>
                  </a:lnTo>
                  <a:lnTo>
                    <a:pt x="1659" y="278"/>
                  </a:lnTo>
                  <a:lnTo>
                    <a:pt x="1653" y="264"/>
                  </a:lnTo>
                  <a:lnTo>
                    <a:pt x="1648" y="253"/>
                  </a:lnTo>
                  <a:lnTo>
                    <a:pt x="1639" y="239"/>
                  </a:lnTo>
                  <a:lnTo>
                    <a:pt x="1639" y="239"/>
                  </a:lnTo>
                  <a:lnTo>
                    <a:pt x="1639" y="237"/>
                  </a:lnTo>
                  <a:lnTo>
                    <a:pt x="1637" y="237"/>
                  </a:lnTo>
                  <a:lnTo>
                    <a:pt x="1637" y="234"/>
                  </a:lnTo>
                  <a:lnTo>
                    <a:pt x="1634" y="231"/>
                  </a:lnTo>
                  <a:lnTo>
                    <a:pt x="1631" y="231"/>
                  </a:lnTo>
                  <a:lnTo>
                    <a:pt x="1631" y="228"/>
                  </a:lnTo>
                  <a:lnTo>
                    <a:pt x="1628" y="228"/>
                  </a:lnTo>
                  <a:lnTo>
                    <a:pt x="1617" y="223"/>
                  </a:lnTo>
                  <a:lnTo>
                    <a:pt x="1606" y="220"/>
                  </a:lnTo>
                  <a:lnTo>
                    <a:pt x="1595" y="217"/>
                  </a:lnTo>
                  <a:lnTo>
                    <a:pt x="1584" y="217"/>
                  </a:lnTo>
                  <a:lnTo>
                    <a:pt x="1571" y="217"/>
                  </a:lnTo>
                  <a:lnTo>
                    <a:pt x="1560" y="217"/>
                  </a:lnTo>
                  <a:lnTo>
                    <a:pt x="1549" y="220"/>
                  </a:lnTo>
                  <a:lnTo>
                    <a:pt x="1538" y="223"/>
                  </a:lnTo>
                  <a:lnTo>
                    <a:pt x="1496" y="242"/>
                  </a:lnTo>
                  <a:lnTo>
                    <a:pt x="1461" y="270"/>
                  </a:lnTo>
                  <a:lnTo>
                    <a:pt x="1425" y="300"/>
                  </a:lnTo>
                  <a:lnTo>
                    <a:pt x="1392" y="333"/>
                  </a:lnTo>
                  <a:lnTo>
                    <a:pt x="1362" y="366"/>
                  </a:lnTo>
                  <a:lnTo>
                    <a:pt x="1331" y="402"/>
                  </a:lnTo>
                  <a:lnTo>
                    <a:pt x="1304" y="437"/>
                  </a:lnTo>
                  <a:lnTo>
                    <a:pt x="1276" y="470"/>
                  </a:lnTo>
                  <a:lnTo>
                    <a:pt x="1243" y="506"/>
                  </a:lnTo>
                  <a:lnTo>
                    <a:pt x="1213" y="542"/>
                  </a:lnTo>
                  <a:lnTo>
                    <a:pt x="1183" y="578"/>
                  </a:lnTo>
                  <a:lnTo>
                    <a:pt x="1155" y="613"/>
                  </a:lnTo>
                  <a:lnTo>
                    <a:pt x="1125" y="649"/>
                  </a:lnTo>
                  <a:lnTo>
                    <a:pt x="1095" y="682"/>
                  </a:lnTo>
                  <a:lnTo>
                    <a:pt x="1065" y="718"/>
                  </a:lnTo>
                  <a:lnTo>
                    <a:pt x="1037" y="754"/>
                  </a:lnTo>
                  <a:lnTo>
                    <a:pt x="1018" y="776"/>
                  </a:lnTo>
                  <a:lnTo>
                    <a:pt x="999" y="795"/>
                  </a:lnTo>
                  <a:lnTo>
                    <a:pt x="982" y="814"/>
                  </a:lnTo>
                  <a:lnTo>
                    <a:pt x="966" y="833"/>
                  </a:lnTo>
                  <a:lnTo>
                    <a:pt x="949" y="853"/>
                  </a:lnTo>
                  <a:lnTo>
                    <a:pt x="933" y="869"/>
                  </a:lnTo>
                  <a:lnTo>
                    <a:pt x="916" y="888"/>
                  </a:lnTo>
                  <a:lnTo>
                    <a:pt x="900" y="908"/>
                  </a:lnTo>
                  <a:lnTo>
                    <a:pt x="897" y="908"/>
                  </a:lnTo>
                  <a:lnTo>
                    <a:pt x="897" y="908"/>
                  </a:lnTo>
                  <a:lnTo>
                    <a:pt x="894" y="908"/>
                  </a:lnTo>
                  <a:lnTo>
                    <a:pt x="891" y="910"/>
                  </a:lnTo>
                  <a:lnTo>
                    <a:pt x="889" y="910"/>
                  </a:lnTo>
                  <a:lnTo>
                    <a:pt x="889" y="910"/>
                  </a:lnTo>
                  <a:lnTo>
                    <a:pt x="886" y="908"/>
                  </a:lnTo>
                  <a:lnTo>
                    <a:pt x="883" y="908"/>
                  </a:lnTo>
                  <a:lnTo>
                    <a:pt x="905" y="866"/>
                  </a:lnTo>
                  <a:lnTo>
                    <a:pt x="927" y="825"/>
                  </a:lnTo>
                  <a:lnTo>
                    <a:pt x="952" y="787"/>
                  </a:lnTo>
                  <a:lnTo>
                    <a:pt x="977" y="745"/>
                  </a:lnTo>
                  <a:lnTo>
                    <a:pt x="1001" y="707"/>
                  </a:lnTo>
                  <a:lnTo>
                    <a:pt x="1029" y="668"/>
                  </a:lnTo>
                  <a:lnTo>
                    <a:pt x="1054" y="627"/>
                  </a:lnTo>
                  <a:lnTo>
                    <a:pt x="1078" y="589"/>
                  </a:lnTo>
                  <a:lnTo>
                    <a:pt x="1103" y="547"/>
                  </a:lnTo>
                  <a:lnTo>
                    <a:pt x="1128" y="509"/>
                  </a:lnTo>
                  <a:lnTo>
                    <a:pt x="1150" y="468"/>
                  </a:lnTo>
                  <a:lnTo>
                    <a:pt x="1175" y="429"/>
                  </a:lnTo>
                  <a:lnTo>
                    <a:pt x="1199" y="391"/>
                  </a:lnTo>
                  <a:lnTo>
                    <a:pt x="1224" y="349"/>
                  </a:lnTo>
                  <a:lnTo>
                    <a:pt x="1249" y="311"/>
                  </a:lnTo>
                  <a:lnTo>
                    <a:pt x="1276" y="272"/>
                  </a:lnTo>
                  <a:lnTo>
                    <a:pt x="1290" y="253"/>
                  </a:lnTo>
                  <a:lnTo>
                    <a:pt x="1301" y="231"/>
                  </a:lnTo>
                  <a:lnTo>
                    <a:pt x="1315" y="212"/>
                  </a:lnTo>
                  <a:lnTo>
                    <a:pt x="1329" y="193"/>
                  </a:lnTo>
                  <a:lnTo>
                    <a:pt x="1340" y="173"/>
                  </a:lnTo>
                  <a:lnTo>
                    <a:pt x="1351" y="154"/>
                  </a:lnTo>
                  <a:lnTo>
                    <a:pt x="1362" y="135"/>
                  </a:lnTo>
                  <a:lnTo>
                    <a:pt x="1373" y="113"/>
                  </a:lnTo>
                  <a:lnTo>
                    <a:pt x="1375" y="105"/>
                  </a:lnTo>
                  <a:lnTo>
                    <a:pt x="1375" y="96"/>
                  </a:lnTo>
                  <a:lnTo>
                    <a:pt x="1375" y="88"/>
                  </a:lnTo>
                  <a:lnTo>
                    <a:pt x="1375" y="83"/>
                  </a:lnTo>
                  <a:lnTo>
                    <a:pt x="1375" y="74"/>
                  </a:lnTo>
                  <a:lnTo>
                    <a:pt x="1375" y="66"/>
                  </a:lnTo>
                  <a:lnTo>
                    <a:pt x="1373" y="58"/>
                  </a:lnTo>
                  <a:lnTo>
                    <a:pt x="1373" y="47"/>
                  </a:lnTo>
                  <a:lnTo>
                    <a:pt x="1370" y="44"/>
                  </a:lnTo>
                  <a:lnTo>
                    <a:pt x="1367" y="39"/>
                  </a:lnTo>
                  <a:lnTo>
                    <a:pt x="1364" y="36"/>
                  </a:lnTo>
                  <a:lnTo>
                    <a:pt x="1362" y="30"/>
                  </a:lnTo>
                  <a:lnTo>
                    <a:pt x="1359" y="28"/>
                  </a:lnTo>
                  <a:lnTo>
                    <a:pt x="1353" y="22"/>
                  </a:lnTo>
                  <a:lnTo>
                    <a:pt x="1351" y="19"/>
                  </a:lnTo>
                  <a:lnTo>
                    <a:pt x="1345" y="17"/>
                  </a:lnTo>
                  <a:lnTo>
                    <a:pt x="1345" y="14"/>
                  </a:lnTo>
                  <a:lnTo>
                    <a:pt x="1342" y="14"/>
                  </a:lnTo>
                  <a:lnTo>
                    <a:pt x="1342" y="14"/>
                  </a:lnTo>
                  <a:lnTo>
                    <a:pt x="1340" y="14"/>
                  </a:lnTo>
                  <a:lnTo>
                    <a:pt x="1337" y="11"/>
                  </a:lnTo>
                  <a:lnTo>
                    <a:pt x="1337" y="11"/>
                  </a:lnTo>
                  <a:lnTo>
                    <a:pt x="1334" y="11"/>
                  </a:lnTo>
                  <a:lnTo>
                    <a:pt x="1331" y="8"/>
                  </a:lnTo>
                  <a:lnTo>
                    <a:pt x="1315" y="3"/>
                  </a:lnTo>
                  <a:lnTo>
                    <a:pt x="1301" y="0"/>
                  </a:lnTo>
                  <a:lnTo>
                    <a:pt x="1285" y="0"/>
                  </a:lnTo>
                  <a:lnTo>
                    <a:pt x="1268" y="3"/>
                  </a:lnTo>
                  <a:lnTo>
                    <a:pt x="1252" y="8"/>
                  </a:lnTo>
                  <a:lnTo>
                    <a:pt x="1235" y="17"/>
                  </a:lnTo>
                  <a:lnTo>
                    <a:pt x="1219" y="25"/>
                  </a:lnTo>
                  <a:lnTo>
                    <a:pt x="1205" y="33"/>
                  </a:lnTo>
                  <a:lnTo>
                    <a:pt x="1177" y="55"/>
                  </a:lnTo>
                  <a:lnTo>
                    <a:pt x="1150" y="80"/>
                  </a:lnTo>
                  <a:lnTo>
                    <a:pt x="1125" y="105"/>
                  </a:lnTo>
                  <a:lnTo>
                    <a:pt x="1098" y="132"/>
                  </a:lnTo>
                  <a:lnTo>
                    <a:pt x="1073" y="160"/>
                  </a:lnTo>
                  <a:lnTo>
                    <a:pt x="1048" y="184"/>
                  </a:lnTo>
                  <a:lnTo>
                    <a:pt x="1023" y="212"/>
                  </a:lnTo>
                  <a:lnTo>
                    <a:pt x="1001" y="237"/>
                  </a:lnTo>
                  <a:lnTo>
                    <a:pt x="1001" y="237"/>
                  </a:lnTo>
                  <a:lnTo>
                    <a:pt x="1001" y="237"/>
                  </a:lnTo>
                  <a:lnTo>
                    <a:pt x="1001" y="239"/>
                  </a:lnTo>
                  <a:lnTo>
                    <a:pt x="999" y="239"/>
                  </a:lnTo>
                  <a:lnTo>
                    <a:pt x="999" y="239"/>
                  </a:lnTo>
                  <a:lnTo>
                    <a:pt x="999" y="242"/>
                  </a:lnTo>
                  <a:lnTo>
                    <a:pt x="999" y="242"/>
                  </a:lnTo>
                  <a:lnTo>
                    <a:pt x="999" y="242"/>
                  </a:lnTo>
                  <a:lnTo>
                    <a:pt x="996" y="242"/>
                  </a:lnTo>
                  <a:lnTo>
                    <a:pt x="996" y="245"/>
                  </a:lnTo>
                  <a:lnTo>
                    <a:pt x="996" y="245"/>
                  </a:lnTo>
                  <a:lnTo>
                    <a:pt x="993" y="248"/>
                  </a:lnTo>
                  <a:lnTo>
                    <a:pt x="993" y="248"/>
                  </a:lnTo>
                  <a:lnTo>
                    <a:pt x="993" y="250"/>
                  </a:lnTo>
                  <a:lnTo>
                    <a:pt x="990" y="250"/>
                  </a:lnTo>
                  <a:lnTo>
                    <a:pt x="990" y="250"/>
                  </a:lnTo>
                  <a:lnTo>
                    <a:pt x="963" y="286"/>
                  </a:lnTo>
                  <a:lnTo>
                    <a:pt x="933" y="319"/>
                  </a:lnTo>
                  <a:lnTo>
                    <a:pt x="905" y="355"/>
                  </a:lnTo>
                  <a:lnTo>
                    <a:pt x="875" y="388"/>
                  </a:lnTo>
                  <a:lnTo>
                    <a:pt x="847" y="424"/>
                  </a:lnTo>
                  <a:lnTo>
                    <a:pt x="820" y="459"/>
                  </a:lnTo>
                  <a:lnTo>
                    <a:pt x="790" y="492"/>
                  </a:lnTo>
                  <a:lnTo>
                    <a:pt x="759" y="528"/>
                  </a:lnTo>
                  <a:lnTo>
                    <a:pt x="748" y="542"/>
                  </a:lnTo>
                  <a:lnTo>
                    <a:pt x="735" y="553"/>
                  </a:lnTo>
                  <a:lnTo>
                    <a:pt x="726" y="567"/>
                  </a:lnTo>
                  <a:lnTo>
                    <a:pt x="715" y="578"/>
                  </a:lnTo>
                  <a:lnTo>
                    <a:pt x="704" y="589"/>
                  </a:lnTo>
                  <a:lnTo>
                    <a:pt x="696" y="600"/>
                  </a:lnTo>
                  <a:lnTo>
                    <a:pt x="685" y="611"/>
                  </a:lnTo>
                  <a:lnTo>
                    <a:pt x="674" y="622"/>
                  </a:lnTo>
                  <a:lnTo>
                    <a:pt x="674" y="622"/>
                  </a:lnTo>
                  <a:lnTo>
                    <a:pt x="671" y="622"/>
                  </a:lnTo>
                  <a:lnTo>
                    <a:pt x="671" y="624"/>
                  </a:lnTo>
                  <a:lnTo>
                    <a:pt x="669" y="624"/>
                  </a:lnTo>
                  <a:lnTo>
                    <a:pt x="666" y="624"/>
                  </a:lnTo>
                  <a:lnTo>
                    <a:pt x="663" y="624"/>
                  </a:lnTo>
                  <a:lnTo>
                    <a:pt x="663" y="624"/>
                  </a:lnTo>
                  <a:lnTo>
                    <a:pt x="660" y="622"/>
                  </a:lnTo>
                  <a:lnTo>
                    <a:pt x="660" y="619"/>
                  </a:lnTo>
                  <a:lnTo>
                    <a:pt x="658" y="616"/>
                  </a:lnTo>
                  <a:lnTo>
                    <a:pt x="658" y="613"/>
                  </a:lnTo>
                  <a:lnTo>
                    <a:pt x="658" y="611"/>
                  </a:lnTo>
                  <a:lnTo>
                    <a:pt x="660" y="608"/>
                  </a:lnTo>
                  <a:lnTo>
                    <a:pt x="660" y="605"/>
                  </a:lnTo>
                  <a:lnTo>
                    <a:pt x="660" y="602"/>
                  </a:lnTo>
                  <a:lnTo>
                    <a:pt x="660" y="597"/>
                  </a:lnTo>
                  <a:lnTo>
                    <a:pt x="663" y="597"/>
                  </a:lnTo>
                  <a:lnTo>
                    <a:pt x="663" y="594"/>
                  </a:lnTo>
                  <a:lnTo>
                    <a:pt x="663" y="591"/>
                  </a:lnTo>
                  <a:lnTo>
                    <a:pt x="663" y="589"/>
                  </a:lnTo>
                  <a:lnTo>
                    <a:pt x="666" y="589"/>
                  </a:lnTo>
                  <a:lnTo>
                    <a:pt x="666" y="586"/>
                  </a:lnTo>
                  <a:lnTo>
                    <a:pt x="666" y="583"/>
                  </a:lnTo>
                  <a:lnTo>
                    <a:pt x="666" y="580"/>
                  </a:lnTo>
                  <a:lnTo>
                    <a:pt x="680" y="550"/>
                  </a:lnTo>
                  <a:lnTo>
                    <a:pt x="696" y="520"/>
                  </a:lnTo>
                  <a:lnTo>
                    <a:pt x="715" y="492"/>
                  </a:lnTo>
                  <a:lnTo>
                    <a:pt x="732" y="465"/>
                  </a:lnTo>
                  <a:lnTo>
                    <a:pt x="751" y="440"/>
                  </a:lnTo>
                  <a:lnTo>
                    <a:pt x="768" y="410"/>
                  </a:lnTo>
                  <a:lnTo>
                    <a:pt x="784" y="380"/>
                  </a:lnTo>
                  <a:lnTo>
                    <a:pt x="795" y="347"/>
                  </a:lnTo>
                  <a:lnTo>
                    <a:pt x="798" y="333"/>
                  </a:lnTo>
                  <a:lnTo>
                    <a:pt x="801" y="319"/>
                  </a:lnTo>
                  <a:lnTo>
                    <a:pt x="801" y="305"/>
                  </a:lnTo>
                  <a:lnTo>
                    <a:pt x="801" y="292"/>
                  </a:lnTo>
                  <a:lnTo>
                    <a:pt x="798" y="278"/>
                  </a:lnTo>
                  <a:lnTo>
                    <a:pt x="792" y="264"/>
                  </a:lnTo>
                  <a:lnTo>
                    <a:pt x="787" y="253"/>
                  </a:lnTo>
                  <a:lnTo>
                    <a:pt x="781" y="239"/>
                  </a:lnTo>
                  <a:lnTo>
                    <a:pt x="779" y="239"/>
                  </a:lnTo>
                  <a:lnTo>
                    <a:pt x="779" y="237"/>
                  </a:lnTo>
                  <a:lnTo>
                    <a:pt x="776" y="237"/>
                  </a:lnTo>
                  <a:lnTo>
                    <a:pt x="776" y="234"/>
                  </a:lnTo>
                  <a:lnTo>
                    <a:pt x="773" y="231"/>
                  </a:lnTo>
                  <a:lnTo>
                    <a:pt x="773" y="231"/>
                  </a:lnTo>
                  <a:lnTo>
                    <a:pt x="770" y="228"/>
                  </a:lnTo>
                  <a:lnTo>
                    <a:pt x="770" y="228"/>
                  </a:lnTo>
                  <a:lnTo>
                    <a:pt x="768" y="228"/>
                  </a:lnTo>
                  <a:lnTo>
                    <a:pt x="765" y="226"/>
                  </a:lnTo>
                  <a:lnTo>
                    <a:pt x="762" y="226"/>
                  </a:lnTo>
                  <a:lnTo>
                    <a:pt x="759" y="223"/>
                  </a:lnTo>
                  <a:lnTo>
                    <a:pt x="757" y="223"/>
                  </a:lnTo>
                  <a:lnTo>
                    <a:pt x="754" y="223"/>
                  </a:lnTo>
                  <a:lnTo>
                    <a:pt x="748" y="220"/>
                  </a:lnTo>
                  <a:lnTo>
                    <a:pt x="746" y="220"/>
                  </a:lnTo>
                  <a:lnTo>
                    <a:pt x="737" y="217"/>
                  </a:lnTo>
                  <a:lnTo>
                    <a:pt x="726" y="215"/>
                  </a:lnTo>
                  <a:lnTo>
                    <a:pt x="718" y="215"/>
                  </a:lnTo>
                  <a:lnTo>
                    <a:pt x="707" y="215"/>
                  </a:lnTo>
                  <a:lnTo>
                    <a:pt x="699" y="217"/>
                  </a:lnTo>
                  <a:lnTo>
                    <a:pt x="688" y="217"/>
                  </a:lnTo>
                  <a:lnTo>
                    <a:pt x="680" y="220"/>
                  </a:lnTo>
                  <a:lnTo>
                    <a:pt x="671" y="223"/>
                  </a:lnTo>
                  <a:lnTo>
                    <a:pt x="647" y="234"/>
                  </a:lnTo>
                  <a:lnTo>
                    <a:pt x="625" y="250"/>
                  </a:lnTo>
                  <a:lnTo>
                    <a:pt x="603" y="267"/>
                  </a:lnTo>
                  <a:lnTo>
                    <a:pt x="581" y="286"/>
                  </a:lnTo>
                  <a:lnTo>
                    <a:pt x="559" y="305"/>
                  </a:lnTo>
                  <a:lnTo>
                    <a:pt x="537" y="325"/>
                  </a:lnTo>
                  <a:lnTo>
                    <a:pt x="515" y="344"/>
                  </a:lnTo>
                  <a:lnTo>
                    <a:pt x="493" y="360"/>
                  </a:lnTo>
                  <a:lnTo>
                    <a:pt x="493" y="363"/>
                  </a:lnTo>
                  <a:lnTo>
                    <a:pt x="490" y="363"/>
                  </a:lnTo>
                  <a:lnTo>
                    <a:pt x="490" y="363"/>
                  </a:lnTo>
                  <a:lnTo>
                    <a:pt x="487" y="363"/>
                  </a:lnTo>
                  <a:lnTo>
                    <a:pt x="484" y="363"/>
                  </a:lnTo>
                  <a:lnTo>
                    <a:pt x="482" y="363"/>
                  </a:lnTo>
                  <a:lnTo>
                    <a:pt x="482" y="363"/>
                  </a:lnTo>
                  <a:lnTo>
                    <a:pt x="479" y="360"/>
                  </a:lnTo>
                  <a:lnTo>
                    <a:pt x="476" y="360"/>
                  </a:lnTo>
                  <a:lnTo>
                    <a:pt x="476" y="360"/>
                  </a:lnTo>
                  <a:lnTo>
                    <a:pt x="473" y="360"/>
                  </a:lnTo>
                  <a:lnTo>
                    <a:pt x="471" y="360"/>
                  </a:lnTo>
                  <a:lnTo>
                    <a:pt x="471" y="358"/>
                  </a:lnTo>
                  <a:lnTo>
                    <a:pt x="468" y="358"/>
                  </a:lnTo>
                  <a:lnTo>
                    <a:pt x="468" y="355"/>
                  </a:lnTo>
                  <a:lnTo>
                    <a:pt x="465" y="355"/>
                  </a:lnTo>
                  <a:lnTo>
                    <a:pt x="462" y="352"/>
                  </a:lnTo>
                  <a:lnTo>
                    <a:pt x="460" y="349"/>
                  </a:lnTo>
                  <a:lnTo>
                    <a:pt x="454" y="347"/>
                  </a:lnTo>
                  <a:lnTo>
                    <a:pt x="451" y="344"/>
                  </a:lnTo>
                  <a:lnTo>
                    <a:pt x="446" y="341"/>
                  </a:lnTo>
                  <a:lnTo>
                    <a:pt x="443" y="338"/>
                  </a:lnTo>
                  <a:lnTo>
                    <a:pt x="438" y="336"/>
                  </a:lnTo>
                  <a:lnTo>
                    <a:pt x="435" y="333"/>
                  </a:lnTo>
                  <a:lnTo>
                    <a:pt x="427" y="330"/>
                  </a:lnTo>
                  <a:lnTo>
                    <a:pt x="418" y="327"/>
                  </a:lnTo>
                  <a:lnTo>
                    <a:pt x="410" y="327"/>
                  </a:lnTo>
                  <a:lnTo>
                    <a:pt x="402" y="327"/>
                  </a:lnTo>
                  <a:lnTo>
                    <a:pt x="394" y="330"/>
                  </a:lnTo>
                  <a:lnTo>
                    <a:pt x="385" y="330"/>
                  </a:lnTo>
                  <a:lnTo>
                    <a:pt x="377" y="330"/>
                  </a:lnTo>
                  <a:lnTo>
                    <a:pt x="369" y="333"/>
                  </a:lnTo>
                  <a:lnTo>
                    <a:pt x="366" y="333"/>
                  </a:lnTo>
                  <a:lnTo>
                    <a:pt x="366" y="336"/>
                  </a:lnTo>
                  <a:lnTo>
                    <a:pt x="363" y="336"/>
                  </a:lnTo>
                  <a:lnTo>
                    <a:pt x="363" y="336"/>
                  </a:lnTo>
                  <a:lnTo>
                    <a:pt x="361" y="338"/>
                  </a:lnTo>
                  <a:lnTo>
                    <a:pt x="358" y="338"/>
                  </a:lnTo>
                  <a:lnTo>
                    <a:pt x="355" y="338"/>
                  </a:lnTo>
                  <a:lnTo>
                    <a:pt x="355" y="338"/>
                  </a:lnTo>
                  <a:lnTo>
                    <a:pt x="317" y="366"/>
                  </a:lnTo>
                  <a:lnTo>
                    <a:pt x="281" y="396"/>
                  </a:lnTo>
                  <a:lnTo>
                    <a:pt x="253" y="429"/>
                  </a:lnTo>
                  <a:lnTo>
                    <a:pt x="226" y="468"/>
                  </a:lnTo>
                  <a:lnTo>
                    <a:pt x="201" y="506"/>
                  </a:lnTo>
                  <a:lnTo>
                    <a:pt x="179" y="547"/>
                  </a:lnTo>
                  <a:lnTo>
                    <a:pt x="157" y="589"/>
                  </a:lnTo>
                  <a:lnTo>
                    <a:pt x="135" y="630"/>
                  </a:lnTo>
                  <a:lnTo>
                    <a:pt x="127" y="652"/>
                  </a:lnTo>
                  <a:lnTo>
                    <a:pt x="119" y="671"/>
                  </a:lnTo>
                  <a:lnTo>
                    <a:pt x="108" y="690"/>
                  </a:lnTo>
                  <a:lnTo>
                    <a:pt x="99" y="710"/>
                  </a:lnTo>
                  <a:lnTo>
                    <a:pt x="91" y="729"/>
                  </a:lnTo>
                  <a:lnTo>
                    <a:pt x="83" y="745"/>
                  </a:lnTo>
                  <a:lnTo>
                    <a:pt x="75" y="765"/>
                  </a:lnTo>
                  <a:lnTo>
                    <a:pt x="69" y="784"/>
                  </a:lnTo>
                  <a:lnTo>
                    <a:pt x="66" y="787"/>
                  </a:lnTo>
                  <a:lnTo>
                    <a:pt x="66" y="789"/>
                  </a:lnTo>
                  <a:lnTo>
                    <a:pt x="66" y="792"/>
                  </a:lnTo>
                  <a:lnTo>
                    <a:pt x="64" y="795"/>
                  </a:lnTo>
                  <a:lnTo>
                    <a:pt x="64" y="798"/>
                  </a:lnTo>
                  <a:lnTo>
                    <a:pt x="61" y="800"/>
                  </a:lnTo>
                  <a:lnTo>
                    <a:pt x="61" y="803"/>
                  </a:lnTo>
                  <a:lnTo>
                    <a:pt x="61" y="803"/>
                  </a:lnTo>
                  <a:lnTo>
                    <a:pt x="20" y="930"/>
                  </a:lnTo>
                  <a:lnTo>
                    <a:pt x="17" y="932"/>
                  </a:lnTo>
                  <a:lnTo>
                    <a:pt x="17" y="935"/>
                  </a:lnTo>
                  <a:lnTo>
                    <a:pt x="17" y="938"/>
                  </a:lnTo>
                  <a:lnTo>
                    <a:pt x="17" y="941"/>
                  </a:lnTo>
                  <a:lnTo>
                    <a:pt x="17" y="943"/>
                  </a:lnTo>
                  <a:lnTo>
                    <a:pt x="17" y="946"/>
                  </a:lnTo>
                  <a:lnTo>
                    <a:pt x="17" y="949"/>
                  </a:lnTo>
                  <a:lnTo>
                    <a:pt x="17" y="952"/>
                  </a:lnTo>
                  <a:lnTo>
                    <a:pt x="0" y="1053"/>
                  </a:lnTo>
                  <a:lnTo>
                    <a:pt x="0" y="1056"/>
                  </a:lnTo>
                  <a:lnTo>
                    <a:pt x="0" y="1059"/>
                  </a:lnTo>
                  <a:lnTo>
                    <a:pt x="3" y="1061"/>
                  </a:lnTo>
                  <a:lnTo>
                    <a:pt x="3" y="1064"/>
                  </a:lnTo>
                  <a:lnTo>
                    <a:pt x="3" y="1067"/>
                  </a:lnTo>
                  <a:lnTo>
                    <a:pt x="3" y="1070"/>
                  </a:lnTo>
                  <a:lnTo>
                    <a:pt x="6" y="1072"/>
                  </a:lnTo>
                  <a:lnTo>
                    <a:pt x="9" y="1075"/>
                  </a:lnTo>
                  <a:lnTo>
                    <a:pt x="9" y="1078"/>
                  </a:lnTo>
                  <a:lnTo>
                    <a:pt x="11" y="1078"/>
                  </a:lnTo>
                  <a:lnTo>
                    <a:pt x="11" y="1081"/>
                  </a:lnTo>
                  <a:lnTo>
                    <a:pt x="14" y="1081"/>
                  </a:lnTo>
                  <a:lnTo>
                    <a:pt x="17" y="1083"/>
                  </a:lnTo>
                  <a:lnTo>
                    <a:pt x="20" y="1083"/>
                  </a:lnTo>
                  <a:lnTo>
                    <a:pt x="22" y="1086"/>
                  </a:lnTo>
                  <a:lnTo>
                    <a:pt x="25" y="1089"/>
                  </a:lnTo>
                  <a:lnTo>
                    <a:pt x="132" y="1108"/>
                  </a:lnTo>
                  <a:lnTo>
                    <a:pt x="135" y="1111"/>
                  </a:lnTo>
                  <a:lnTo>
                    <a:pt x="135" y="1111"/>
                  </a:lnTo>
                  <a:lnTo>
                    <a:pt x="135" y="1111"/>
                  </a:lnTo>
                  <a:lnTo>
                    <a:pt x="135" y="1114"/>
                  </a:lnTo>
                  <a:lnTo>
                    <a:pt x="135" y="1114"/>
                  </a:lnTo>
                  <a:lnTo>
                    <a:pt x="138" y="1116"/>
                  </a:lnTo>
                  <a:lnTo>
                    <a:pt x="138" y="1116"/>
                  </a:lnTo>
                  <a:lnTo>
                    <a:pt x="141" y="1116"/>
                  </a:lnTo>
                  <a:lnTo>
                    <a:pt x="141" y="1119"/>
                  </a:lnTo>
                  <a:lnTo>
                    <a:pt x="138" y="1122"/>
                  </a:lnTo>
                  <a:lnTo>
                    <a:pt x="138" y="1122"/>
                  </a:lnTo>
                  <a:lnTo>
                    <a:pt x="138" y="1125"/>
                  </a:lnTo>
                  <a:lnTo>
                    <a:pt x="138" y="1125"/>
                  </a:lnTo>
                  <a:lnTo>
                    <a:pt x="135" y="1127"/>
                  </a:lnTo>
                  <a:lnTo>
                    <a:pt x="135" y="1130"/>
                  </a:lnTo>
                  <a:lnTo>
                    <a:pt x="135" y="1130"/>
                  </a:lnTo>
                  <a:lnTo>
                    <a:pt x="124" y="1149"/>
                  </a:lnTo>
                  <a:lnTo>
                    <a:pt x="116" y="1171"/>
                  </a:lnTo>
                  <a:lnTo>
                    <a:pt x="110" y="1191"/>
                  </a:lnTo>
                  <a:lnTo>
                    <a:pt x="105" y="1213"/>
                  </a:lnTo>
                  <a:lnTo>
                    <a:pt x="102" y="1235"/>
                  </a:lnTo>
                  <a:lnTo>
                    <a:pt x="99" y="1257"/>
                  </a:lnTo>
                  <a:lnTo>
                    <a:pt x="97" y="1276"/>
                  </a:lnTo>
                  <a:lnTo>
                    <a:pt x="94" y="1298"/>
                  </a:lnTo>
                  <a:lnTo>
                    <a:pt x="97" y="1303"/>
                  </a:lnTo>
                  <a:lnTo>
                    <a:pt x="97" y="1306"/>
                  </a:lnTo>
                  <a:lnTo>
                    <a:pt x="99" y="1309"/>
                  </a:lnTo>
                  <a:lnTo>
                    <a:pt x="99" y="1314"/>
                  </a:lnTo>
                  <a:lnTo>
                    <a:pt x="99" y="1317"/>
                  </a:lnTo>
                  <a:lnTo>
                    <a:pt x="102" y="1320"/>
                  </a:lnTo>
                  <a:lnTo>
                    <a:pt x="105" y="1325"/>
                  </a:lnTo>
                  <a:lnTo>
                    <a:pt x="108" y="1328"/>
                  </a:lnTo>
                  <a:lnTo>
                    <a:pt x="110" y="1328"/>
                  </a:lnTo>
                  <a:lnTo>
                    <a:pt x="110" y="1331"/>
                  </a:lnTo>
                  <a:lnTo>
                    <a:pt x="113" y="1331"/>
                  </a:lnTo>
                  <a:lnTo>
                    <a:pt x="113" y="1334"/>
                  </a:lnTo>
                  <a:lnTo>
                    <a:pt x="116" y="1334"/>
                  </a:lnTo>
                  <a:lnTo>
                    <a:pt x="116" y="1336"/>
                  </a:lnTo>
                  <a:lnTo>
                    <a:pt x="119" y="1336"/>
                  </a:lnTo>
                  <a:lnTo>
                    <a:pt x="119" y="1336"/>
                  </a:lnTo>
                  <a:lnTo>
                    <a:pt x="130" y="1342"/>
                  </a:lnTo>
                  <a:lnTo>
                    <a:pt x="143" y="1345"/>
                  </a:lnTo>
                  <a:lnTo>
                    <a:pt x="154" y="1347"/>
                  </a:lnTo>
                  <a:lnTo>
                    <a:pt x="168" y="1347"/>
                  </a:lnTo>
                  <a:lnTo>
                    <a:pt x="182" y="1347"/>
                  </a:lnTo>
                  <a:lnTo>
                    <a:pt x="196" y="1347"/>
                  </a:lnTo>
                  <a:lnTo>
                    <a:pt x="209" y="1345"/>
                  </a:lnTo>
                  <a:lnTo>
                    <a:pt x="220" y="1345"/>
                  </a:lnTo>
                  <a:lnTo>
                    <a:pt x="240" y="1331"/>
                  </a:lnTo>
                  <a:lnTo>
                    <a:pt x="259" y="1320"/>
                  </a:lnTo>
                  <a:lnTo>
                    <a:pt x="275" y="1306"/>
                  </a:lnTo>
                  <a:lnTo>
                    <a:pt x="292" y="1290"/>
                  </a:lnTo>
                  <a:lnTo>
                    <a:pt x="308" y="1276"/>
                  </a:lnTo>
                  <a:lnTo>
                    <a:pt x="328" y="1259"/>
                  </a:lnTo>
                  <a:lnTo>
                    <a:pt x="344" y="1243"/>
                  </a:lnTo>
                  <a:lnTo>
                    <a:pt x="361" y="1226"/>
                  </a:lnTo>
                  <a:lnTo>
                    <a:pt x="363" y="1226"/>
                  </a:lnTo>
                  <a:lnTo>
                    <a:pt x="363" y="1226"/>
                  </a:lnTo>
                  <a:lnTo>
                    <a:pt x="366" y="1226"/>
                  </a:lnTo>
                  <a:lnTo>
                    <a:pt x="369" y="1226"/>
                  </a:lnTo>
                  <a:lnTo>
                    <a:pt x="372" y="1226"/>
                  </a:lnTo>
                  <a:lnTo>
                    <a:pt x="372" y="1226"/>
                  </a:lnTo>
                  <a:lnTo>
                    <a:pt x="374" y="1226"/>
                  </a:lnTo>
                  <a:lnTo>
                    <a:pt x="374" y="1226"/>
                  </a:lnTo>
                  <a:lnTo>
                    <a:pt x="377" y="1229"/>
                  </a:lnTo>
                  <a:lnTo>
                    <a:pt x="377" y="1235"/>
                  </a:lnTo>
                  <a:lnTo>
                    <a:pt x="377" y="1237"/>
                  </a:lnTo>
                  <a:lnTo>
                    <a:pt x="377" y="1240"/>
                  </a:lnTo>
                  <a:lnTo>
                    <a:pt x="377" y="1246"/>
                  </a:lnTo>
                  <a:lnTo>
                    <a:pt x="374" y="1248"/>
                  </a:lnTo>
                  <a:lnTo>
                    <a:pt x="374" y="1251"/>
                  </a:lnTo>
                  <a:lnTo>
                    <a:pt x="374" y="1257"/>
                  </a:lnTo>
                  <a:lnTo>
                    <a:pt x="352" y="1301"/>
                  </a:lnTo>
                  <a:lnTo>
                    <a:pt x="330" y="1345"/>
                  </a:lnTo>
                  <a:lnTo>
                    <a:pt x="306" y="1389"/>
                  </a:lnTo>
                  <a:lnTo>
                    <a:pt x="281" y="1435"/>
                  </a:lnTo>
                  <a:lnTo>
                    <a:pt x="262" y="1482"/>
                  </a:lnTo>
                  <a:lnTo>
                    <a:pt x="248" y="1532"/>
                  </a:lnTo>
                  <a:lnTo>
                    <a:pt x="242" y="1581"/>
                  </a:lnTo>
                  <a:lnTo>
                    <a:pt x="248" y="1633"/>
                  </a:lnTo>
                  <a:lnTo>
                    <a:pt x="248" y="1636"/>
                  </a:lnTo>
                  <a:lnTo>
                    <a:pt x="248" y="1639"/>
                  </a:lnTo>
                  <a:lnTo>
                    <a:pt x="248" y="1639"/>
                  </a:lnTo>
                  <a:lnTo>
                    <a:pt x="251" y="1642"/>
                  </a:lnTo>
                  <a:lnTo>
                    <a:pt x="251" y="1642"/>
                  </a:lnTo>
                  <a:lnTo>
                    <a:pt x="251" y="1642"/>
                  </a:lnTo>
                  <a:lnTo>
                    <a:pt x="251" y="1642"/>
                  </a:lnTo>
                  <a:lnTo>
                    <a:pt x="251" y="1642"/>
                  </a:lnTo>
                  <a:lnTo>
                    <a:pt x="259" y="1653"/>
                  </a:lnTo>
                  <a:lnTo>
                    <a:pt x="273" y="1661"/>
                  </a:lnTo>
                  <a:lnTo>
                    <a:pt x="284" y="1666"/>
                  </a:lnTo>
                  <a:lnTo>
                    <a:pt x="300" y="1669"/>
                  </a:lnTo>
                  <a:lnTo>
                    <a:pt x="314" y="1669"/>
                  </a:lnTo>
                  <a:lnTo>
                    <a:pt x="330" y="1669"/>
                  </a:lnTo>
                  <a:lnTo>
                    <a:pt x="347" y="1666"/>
                  </a:lnTo>
                  <a:lnTo>
                    <a:pt x="361" y="1664"/>
                  </a:lnTo>
                  <a:lnTo>
                    <a:pt x="380" y="1658"/>
                  </a:lnTo>
                  <a:lnTo>
                    <a:pt x="396" y="1650"/>
                  </a:lnTo>
                  <a:lnTo>
                    <a:pt x="413" y="1639"/>
                  </a:lnTo>
                  <a:lnTo>
                    <a:pt x="429" y="1628"/>
                  </a:lnTo>
                  <a:lnTo>
                    <a:pt x="443" y="1620"/>
                  </a:lnTo>
                  <a:lnTo>
                    <a:pt x="457" y="1609"/>
                  </a:lnTo>
                  <a:lnTo>
                    <a:pt x="473" y="1598"/>
                  </a:lnTo>
                  <a:lnTo>
                    <a:pt x="490" y="1589"/>
                  </a:lnTo>
                  <a:lnTo>
                    <a:pt x="493" y="1589"/>
                  </a:lnTo>
                  <a:lnTo>
                    <a:pt x="493" y="1589"/>
                  </a:lnTo>
                  <a:lnTo>
                    <a:pt x="495" y="1589"/>
                  </a:lnTo>
                  <a:lnTo>
                    <a:pt x="495" y="1589"/>
                  </a:lnTo>
                  <a:lnTo>
                    <a:pt x="498" y="1589"/>
                  </a:lnTo>
                  <a:lnTo>
                    <a:pt x="501" y="1589"/>
                  </a:lnTo>
                  <a:lnTo>
                    <a:pt x="501" y="1589"/>
                  </a:lnTo>
                  <a:lnTo>
                    <a:pt x="504" y="1592"/>
                  </a:lnTo>
                  <a:lnTo>
                    <a:pt x="504" y="1592"/>
                  </a:lnTo>
                  <a:lnTo>
                    <a:pt x="504" y="1592"/>
                  </a:lnTo>
                  <a:lnTo>
                    <a:pt x="504" y="1592"/>
                  </a:lnTo>
                  <a:lnTo>
                    <a:pt x="504" y="1592"/>
                  </a:lnTo>
                  <a:lnTo>
                    <a:pt x="504" y="1595"/>
                  </a:lnTo>
                  <a:lnTo>
                    <a:pt x="504" y="1595"/>
                  </a:lnTo>
                  <a:lnTo>
                    <a:pt x="504" y="1598"/>
                  </a:lnTo>
                  <a:lnTo>
                    <a:pt x="504" y="1600"/>
                  </a:lnTo>
                  <a:lnTo>
                    <a:pt x="487" y="1631"/>
                  </a:lnTo>
                  <a:lnTo>
                    <a:pt x="465" y="1664"/>
                  </a:lnTo>
                  <a:lnTo>
                    <a:pt x="440" y="1694"/>
                  </a:lnTo>
                  <a:lnTo>
                    <a:pt x="418" y="1727"/>
                  </a:lnTo>
                  <a:lnTo>
                    <a:pt x="402" y="1760"/>
                  </a:lnTo>
                  <a:lnTo>
                    <a:pt x="388" y="1796"/>
                  </a:lnTo>
                  <a:lnTo>
                    <a:pt x="385" y="1834"/>
                  </a:lnTo>
                  <a:lnTo>
                    <a:pt x="391" y="1875"/>
                  </a:lnTo>
                  <a:lnTo>
                    <a:pt x="391" y="1878"/>
                  </a:lnTo>
                  <a:lnTo>
                    <a:pt x="391" y="1881"/>
                  </a:lnTo>
                  <a:lnTo>
                    <a:pt x="394" y="1884"/>
                  </a:lnTo>
                  <a:lnTo>
                    <a:pt x="396" y="1886"/>
                  </a:lnTo>
                  <a:lnTo>
                    <a:pt x="399" y="1889"/>
                  </a:lnTo>
                  <a:lnTo>
                    <a:pt x="402" y="1892"/>
                  </a:lnTo>
                  <a:lnTo>
                    <a:pt x="402" y="1895"/>
                  </a:lnTo>
                  <a:lnTo>
                    <a:pt x="405" y="1897"/>
                  </a:lnTo>
                  <a:lnTo>
                    <a:pt x="407" y="1900"/>
                  </a:lnTo>
                  <a:lnTo>
                    <a:pt x="410" y="1900"/>
                  </a:lnTo>
                  <a:lnTo>
                    <a:pt x="413" y="1903"/>
                  </a:lnTo>
                  <a:lnTo>
                    <a:pt x="416" y="1903"/>
                  </a:lnTo>
                  <a:lnTo>
                    <a:pt x="416" y="1906"/>
                  </a:lnTo>
                  <a:lnTo>
                    <a:pt x="418" y="1908"/>
                  </a:lnTo>
                  <a:lnTo>
                    <a:pt x="421" y="1908"/>
                  </a:lnTo>
                  <a:lnTo>
                    <a:pt x="427" y="1911"/>
                  </a:lnTo>
                  <a:lnTo>
                    <a:pt x="438" y="1917"/>
                  </a:lnTo>
                  <a:lnTo>
                    <a:pt x="451" y="1917"/>
                  </a:lnTo>
                  <a:lnTo>
                    <a:pt x="465" y="1919"/>
                  </a:lnTo>
                  <a:lnTo>
                    <a:pt x="479" y="1917"/>
                  </a:lnTo>
                  <a:lnTo>
                    <a:pt x="493" y="1917"/>
                  </a:lnTo>
                  <a:lnTo>
                    <a:pt x="509" y="1914"/>
                  </a:lnTo>
                  <a:lnTo>
                    <a:pt x="523" y="1911"/>
                  </a:lnTo>
                  <a:lnTo>
                    <a:pt x="537" y="1906"/>
                  </a:lnTo>
                  <a:lnTo>
                    <a:pt x="572" y="1884"/>
                  </a:lnTo>
                  <a:lnTo>
                    <a:pt x="605" y="1859"/>
                  </a:lnTo>
                  <a:lnTo>
                    <a:pt x="638" y="1834"/>
                  </a:lnTo>
                  <a:lnTo>
                    <a:pt x="671" y="1804"/>
                  </a:lnTo>
                  <a:lnTo>
                    <a:pt x="704" y="1774"/>
                  </a:lnTo>
                  <a:lnTo>
                    <a:pt x="735" y="1743"/>
                  </a:lnTo>
                  <a:lnTo>
                    <a:pt x="768" y="1713"/>
                  </a:lnTo>
                  <a:lnTo>
                    <a:pt x="803" y="1686"/>
                  </a:lnTo>
                  <a:lnTo>
                    <a:pt x="803" y="1686"/>
                  </a:lnTo>
                  <a:lnTo>
                    <a:pt x="806" y="1686"/>
                  </a:lnTo>
                  <a:lnTo>
                    <a:pt x="809" y="1686"/>
                  </a:lnTo>
                  <a:lnTo>
                    <a:pt x="809" y="1686"/>
                  </a:lnTo>
                  <a:lnTo>
                    <a:pt x="812" y="1686"/>
                  </a:lnTo>
                  <a:lnTo>
                    <a:pt x="812" y="1686"/>
                  </a:lnTo>
                  <a:lnTo>
                    <a:pt x="814" y="1686"/>
                  </a:lnTo>
                  <a:lnTo>
                    <a:pt x="814" y="1686"/>
                  </a:lnTo>
                  <a:lnTo>
                    <a:pt x="814" y="1688"/>
                  </a:lnTo>
                  <a:lnTo>
                    <a:pt x="817" y="1688"/>
                  </a:lnTo>
                  <a:lnTo>
                    <a:pt x="817" y="1691"/>
                  </a:lnTo>
                  <a:lnTo>
                    <a:pt x="817" y="1694"/>
                  </a:lnTo>
                  <a:lnTo>
                    <a:pt x="817" y="1694"/>
                  </a:lnTo>
                  <a:lnTo>
                    <a:pt x="817" y="1697"/>
                  </a:lnTo>
                  <a:lnTo>
                    <a:pt x="817" y="1699"/>
                  </a:lnTo>
                  <a:lnTo>
                    <a:pt x="817" y="1702"/>
                  </a:lnTo>
                  <a:lnTo>
                    <a:pt x="817" y="1702"/>
                  </a:lnTo>
                  <a:lnTo>
                    <a:pt x="817" y="1705"/>
                  </a:lnTo>
                  <a:lnTo>
                    <a:pt x="817" y="1705"/>
                  </a:lnTo>
                  <a:lnTo>
                    <a:pt x="814" y="1708"/>
                  </a:lnTo>
                  <a:lnTo>
                    <a:pt x="814" y="1710"/>
                  </a:lnTo>
                  <a:lnTo>
                    <a:pt x="814" y="1710"/>
                  </a:lnTo>
                  <a:lnTo>
                    <a:pt x="812" y="1713"/>
                  </a:lnTo>
                  <a:lnTo>
                    <a:pt x="812" y="1716"/>
                  </a:lnTo>
                  <a:lnTo>
                    <a:pt x="792" y="1757"/>
                  </a:lnTo>
                  <a:lnTo>
                    <a:pt x="768" y="1796"/>
                  </a:lnTo>
                  <a:lnTo>
                    <a:pt x="743" y="1834"/>
                  </a:lnTo>
                  <a:lnTo>
                    <a:pt x="718" y="1875"/>
                  </a:lnTo>
                  <a:lnTo>
                    <a:pt x="693" y="1917"/>
                  </a:lnTo>
                  <a:lnTo>
                    <a:pt x="677" y="1958"/>
                  </a:lnTo>
                  <a:lnTo>
                    <a:pt x="671" y="2002"/>
                  </a:lnTo>
                  <a:lnTo>
                    <a:pt x="674" y="2051"/>
                  </a:lnTo>
                  <a:lnTo>
                    <a:pt x="677" y="2054"/>
                  </a:lnTo>
                  <a:lnTo>
                    <a:pt x="680" y="2057"/>
                  </a:lnTo>
                  <a:lnTo>
                    <a:pt x="680" y="2060"/>
                  </a:lnTo>
                  <a:lnTo>
                    <a:pt x="682" y="2062"/>
                  </a:lnTo>
                  <a:lnTo>
                    <a:pt x="685" y="2068"/>
                  </a:lnTo>
                  <a:lnTo>
                    <a:pt x="688" y="2071"/>
                  </a:lnTo>
                  <a:lnTo>
                    <a:pt x="691" y="2073"/>
                  </a:lnTo>
                  <a:lnTo>
                    <a:pt x="696" y="2076"/>
                  </a:lnTo>
                  <a:lnTo>
                    <a:pt x="696" y="2079"/>
                  </a:lnTo>
                  <a:lnTo>
                    <a:pt x="699" y="2079"/>
                  </a:lnTo>
                  <a:lnTo>
                    <a:pt x="702" y="2079"/>
                  </a:lnTo>
                  <a:lnTo>
                    <a:pt x="704" y="2082"/>
                  </a:lnTo>
                  <a:lnTo>
                    <a:pt x="707" y="2082"/>
                  </a:lnTo>
                  <a:lnTo>
                    <a:pt x="710" y="2082"/>
                  </a:lnTo>
                  <a:lnTo>
                    <a:pt x="713" y="2084"/>
                  </a:lnTo>
                  <a:lnTo>
                    <a:pt x="715" y="2084"/>
                  </a:lnTo>
                  <a:lnTo>
                    <a:pt x="718" y="2087"/>
                  </a:lnTo>
                  <a:lnTo>
                    <a:pt x="718" y="2087"/>
                  </a:lnTo>
                  <a:lnTo>
                    <a:pt x="721" y="2087"/>
                  </a:lnTo>
                  <a:lnTo>
                    <a:pt x="724" y="2087"/>
                  </a:lnTo>
                  <a:lnTo>
                    <a:pt x="726" y="2087"/>
                  </a:lnTo>
                  <a:lnTo>
                    <a:pt x="729" y="2090"/>
                  </a:lnTo>
                  <a:lnTo>
                    <a:pt x="729" y="2090"/>
                  </a:lnTo>
                  <a:lnTo>
                    <a:pt x="732" y="2090"/>
                  </a:lnTo>
                  <a:lnTo>
                    <a:pt x="735" y="2090"/>
                  </a:lnTo>
                  <a:lnTo>
                    <a:pt x="737" y="2090"/>
                  </a:lnTo>
                  <a:lnTo>
                    <a:pt x="740" y="2090"/>
                  </a:lnTo>
                  <a:lnTo>
                    <a:pt x="743" y="2090"/>
                  </a:lnTo>
                  <a:lnTo>
                    <a:pt x="746" y="2090"/>
                  </a:lnTo>
                  <a:lnTo>
                    <a:pt x="748" y="2090"/>
                  </a:lnTo>
                  <a:lnTo>
                    <a:pt x="748" y="2087"/>
                  </a:lnTo>
                  <a:lnTo>
                    <a:pt x="751" y="2087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26000" y="399960"/>
              <a:ext cx="6659640" cy="14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re are 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five steps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at can be used to                                    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Construct a Frequency Distribution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6720" y="1981080"/>
              <a:ext cx="7829280" cy="0"/>
            </a:xfrm>
            <a:prstGeom prst="line">
              <a:avLst/>
            </a:prstGeom>
            <a:ln w="76320">
              <a:solidFill>
                <a:srgbClr val="6a78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495520" y="2305080"/>
            <a:ext cx="533160" cy="609480"/>
            <a:chOff x="2495520" y="2305080"/>
            <a:chExt cx="533160" cy="609480"/>
          </a:xfrm>
        </p:grpSpPr>
        <p:sp>
          <p:nvSpPr>
            <p:cNvPr id="171" name=""/>
            <p:cNvSpPr/>
            <p:nvPr/>
          </p:nvSpPr>
          <p:spPr>
            <a:xfrm>
              <a:off x="2495520" y="2305080"/>
              <a:ext cx="53316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40186" dir="11896359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2647800" y="2381040"/>
              <a:ext cx="32400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</a:rPr>
                <a:t>1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514600" y="3905280"/>
            <a:ext cx="533520" cy="609480"/>
            <a:chOff x="2514600" y="3905280"/>
            <a:chExt cx="533520" cy="609480"/>
          </a:xfrm>
        </p:grpSpPr>
        <p:sp>
          <p:nvSpPr>
            <p:cNvPr id="174" name=""/>
            <p:cNvSpPr/>
            <p:nvPr/>
          </p:nvSpPr>
          <p:spPr>
            <a:xfrm>
              <a:off x="2514600" y="3905280"/>
              <a:ext cx="53352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40186" dir="11896359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2667240" y="3981240"/>
              <a:ext cx="32364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</a:rPr>
                <a:t>3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514600" y="3086280"/>
            <a:ext cx="533160" cy="609480"/>
            <a:chOff x="2514600" y="3086280"/>
            <a:chExt cx="533160" cy="609480"/>
          </a:xfrm>
        </p:grpSpPr>
        <p:sp>
          <p:nvSpPr>
            <p:cNvPr id="177" name=""/>
            <p:cNvSpPr/>
            <p:nvPr/>
          </p:nvSpPr>
          <p:spPr>
            <a:xfrm>
              <a:off x="2514600" y="3086280"/>
              <a:ext cx="53316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40186" dir="11896359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2666880" y="3162240"/>
              <a:ext cx="32400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</a:rPr>
                <a:t>2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514600" y="4686480"/>
            <a:ext cx="533160" cy="609480"/>
            <a:chOff x="2514600" y="4686480"/>
            <a:chExt cx="533160" cy="609480"/>
          </a:xfrm>
        </p:grpSpPr>
        <p:sp>
          <p:nvSpPr>
            <p:cNvPr id="180" name=""/>
            <p:cNvSpPr/>
            <p:nvPr/>
          </p:nvSpPr>
          <p:spPr>
            <a:xfrm>
              <a:off x="2514600" y="4686480"/>
              <a:ext cx="53316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40186" dir="11896359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2666880" y="4762440"/>
              <a:ext cx="3236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</a:rPr>
                <a:t>4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533680" y="5448240"/>
            <a:ext cx="533520" cy="609840"/>
            <a:chOff x="2533680" y="5448240"/>
            <a:chExt cx="533520" cy="609840"/>
          </a:xfrm>
        </p:grpSpPr>
        <p:sp>
          <p:nvSpPr>
            <p:cNvPr id="183" name=""/>
            <p:cNvSpPr/>
            <p:nvPr/>
          </p:nvSpPr>
          <p:spPr>
            <a:xfrm>
              <a:off x="2533680" y="5448240"/>
              <a:ext cx="53352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40186" dir="11896359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2686320" y="5524560"/>
              <a:ext cx="3236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</a:rPr>
                <a:t>5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143160" y="390528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et u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individual class lim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4705200"/>
            <a:ext cx="52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Tall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tems into the cla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62240" y="544824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Cou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umber of items in each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38400" y="6191280"/>
            <a:ext cx="6705360" cy="276120"/>
            <a:chOff x="1238400" y="6191280"/>
            <a:chExt cx="6705360" cy="276120"/>
          </a:xfrm>
        </p:grpSpPr>
        <p:sp>
          <p:nvSpPr>
            <p:cNvPr id="189" name=""/>
            <p:cNvSpPr/>
            <p:nvPr/>
          </p:nvSpPr>
          <p:spPr>
            <a:xfrm>
              <a:off x="1238400" y="6286680"/>
              <a:ext cx="6705360" cy="759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3"/>
            <a:stretch/>
          </p:blipFill>
          <p:spPr>
            <a:xfrm>
              <a:off x="4452840" y="6191280"/>
              <a:ext cx="276480" cy="276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r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75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0" dur="75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75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6" dur="75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75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975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eda"/>
            </a:gs>
            <a:gs pos="100000">
              <a:srgbClr val="fff5e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16280" y="285840"/>
            <a:ext cx="65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ci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any class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wish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352520" y="228600"/>
            <a:ext cx="571320" cy="609480"/>
            <a:chOff x="1352520" y="228600"/>
            <a:chExt cx="571320" cy="609480"/>
          </a:xfrm>
        </p:grpSpPr>
        <p:sp>
          <p:nvSpPr>
            <p:cNvPr id="193" name=""/>
            <p:cNvSpPr/>
            <p:nvPr/>
          </p:nvSpPr>
          <p:spPr>
            <a:xfrm>
              <a:off x="1352520" y="228600"/>
              <a:ext cx="57132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40186" dir="11896359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1515600" y="304560"/>
              <a:ext cx="347040" cy="45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Comic Sans MS"/>
                </a:rPr>
                <a:t>1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990800" y="892080"/>
            <a:ext cx="6171840" cy="290160"/>
            <a:chOff x="1990800" y="892080"/>
            <a:chExt cx="6171840" cy="290160"/>
          </a:xfrm>
        </p:grpSpPr>
        <p:sp>
          <p:nvSpPr>
            <p:cNvPr id="196" name=""/>
            <p:cNvSpPr/>
            <p:nvPr/>
          </p:nvSpPr>
          <p:spPr>
            <a:xfrm>
              <a:off x="1990800" y="988560"/>
              <a:ext cx="6171840" cy="96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46400" y="892080"/>
              <a:ext cx="173520" cy="2901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343240" y="3162240"/>
            <a:ext cx="45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 the </a:t>
            </a:r>
            <a:r>
              <a:rPr b="1" i="1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2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to the </a:t>
            </a:r>
            <a:r>
              <a:rPr b="1" i="1" lang="en-US" sz="3200" spc="-1" strike="noStrike" u="sng">
                <a:solidFill>
                  <a:srgbClr val="ff6600"/>
                </a:solidFill>
                <a:uFillTx/>
                <a:latin typeface="Times New Roman"/>
              </a:rPr>
              <a:t>K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5640" y="3772080"/>
            <a:ext cx="8210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o that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aised to the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power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2800" spc="-1" strike="noStrike">
                <a:solidFill>
                  <a:srgbClr val="ff6600"/>
                </a:solidFill>
                <a:latin typeface="Times New Roman"/>
              </a:rPr>
              <a:t>greater th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number of data points (n) or 3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9000" y="1333440"/>
            <a:ext cx="7543800" cy="178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99"/>
                </a:solidFill>
                <a:uFillTx/>
                <a:latin typeface="Times New Roman"/>
              </a:rPr>
              <a:t>Rule of Thum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12ea"/>
                </a:solidFill>
                <a:latin typeface="Times New Roman"/>
              </a:rPr>
              <a:t>For most data sets, you would want             </a:t>
            </a:r>
            <a:r>
              <a:rPr b="1" lang="en-US" sz="3600" spc="-1" strike="noStrike">
                <a:solidFill>
                  <a:srgbClr val="010000"/>
                </a:solidFill>
                <a:latin typeface="Times New Roman"/>
              </a:rPr>
              <a:t>between </a:t>
            </a:r>
            <a:r>
              <a:rPr b="1" lang="en-US" sz="3600" spc="-1" strike="noStrike">
                <a:solidFill>
                  <a:srgbClr val="9671e9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936de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10000"/>
                </a:solidFill>
                <a:latin typeface="Times New Roman"/>
              </a:rPr>
              <a:t>and </a:t>
            </a:r>
            <a:r>
              <a:rPr b="1" lang="en-US" sz="3600" spc="-1" strike="noStrike">
                <a:solidFill>
                  <a:srgbClr val="9671e9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010000"/>
                </a:solidFill>
                <a:latin typeface="Times New Roman"/>
              </a:rPr>
              <a:t> classe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43160" y="499104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 baseline="30000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7912ea"/>
                </a:solidFill>
                <a:latin typeface="Times New Roman"/>
              </a:rPr>
              <a:t>30 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5562720"/>
            <a:ext cx="66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 baseline="30000">
                <a:solidFill>
                  <a:srgbClr val="ff3300"/>
                </a:solidFill>
                <a:latin typeface="Times New Roman"/>
              </a:rPr>
              <a:t>5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3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so use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600" spc="-1" strike="noStrike">
                <a:solidFill>
                  <a:srgbClr val="7912ea"/>
                </a:solidFill>
                <a:latin typeface="Times New Roman"/>
              </a:rPr>
              <a:t>about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7912ea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10000"/>
                </a:solidFill>
                <a:latin typeface="Times New Roman"/>
              </a:rPr>
              <a:t>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0640" y="4917960"/>
            <a:ext cx="1203480" cy="947160"/>
          </a:xfrm>
          <a:prstGeom prst="rect">
            <a:avLst/>
          </a:prstGeom>
          <a:solidFill>
            <a:srgbClr val="ffeac5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is cas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75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75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Colleen Quinn &amp; Ron Thornbury</dc:creator>
  <dc:description/>
  <dc:language>en-US</dc:language>
  <cp:lastModifiedBy>jeff_skinner</cp:lastModifiedBy>
  <dcterms:modified xsi:type="dcterms:W3CDTF">2003-04-28T14:06:06Z</dcterms:modified>
  <cp:revision>196</cp:revision>
  <dc:subject/>
  <dc:title>No Slide Title</dc:title>
</cp:coreProperties>
</file>