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60.jpeg" ContentType="image/jpeg"/>
  <Override PartName="/ppt/media/image3.jpeg" ContentType="image/jpeg"/>
  <Override PartName="/ppt/media/image11.jpeg" ContentType="image/jpeg"/>
  <Override PartName="/ppt/media/image24.png" ContentType="image/png"/>
  <Override PartName="/ppt/media/image61.jpeg" ContentType="image/jpeg"/>
  <Override PartName="/ppt/media/image8.wmf" ContentType="image/x-wmf"/>
  <Override PartName="/ppt/media/image40.png" ContentType="image/png"/>
  <Override PartName="/ppt/media/image26.png" ContentType="image/png"/>
  <Override PartName="/ppt/media/image14.wmf" ContentType="image/x-wmf"/>
  <Override PartName="/ppt/media/image57.png" ContentType="image/png"/>
  <Override PartName="/ppt/media/image20.png" ContentType="image/png"/>
  <Override PartName="/ppt/media/image22.png" ContentType="image/png"/>
  <Override PartName="/ppt/media/image21.jpeg" ContentType="image/jpeg"/>
  <Override PartName="/ppt/media/image16.wmf" ContentType="image/x-wmf"/>
  <Override PartName="/ppt/media/image1.png" ContentType="image/png"/>
  <Override PartName="/ppt/media/image2.jpeg" ContentType="image/jpeg"/>
  <Override PartName="/ppt/media/image31.png" ContentType="image/png"/>
  <Override PartName="/ppt/media/image53.png" ContentType="image/png"/>
  <Override PartName="/ppt/media/image10.wmf" ContentType="image/x-wmf"/>
  <Override PartName="/ppt/media/image54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3.png" ContentType="image/png"/>
  <Override PartName="/ppt/media/image35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wmf" ContentType="image/x-wmf"/>
  <Override PartName="/ppt/media/image50.png" ContentType="image/png"/>
  <Override PartName="/ppt/media/image49.wmf" ContentType="image/x-wmf"/>
  <Override PartName="/ppt/media/image29.png" ContentType="image/png"/>
  <Override PartName="/ppt/media/image51.wmf" ContentType="image/x-wmf"/>
  <Override PartName="/ppt/media/image52.png" ContentType="image/png"/>
  <Override PartName="/ppt/media/image56.png" ContentType="image/png"/>
  <Override PartName="/ppt/media/image15.wmf" ContentType="image/x-wmf"/>
  <Override PartName="/ppt/media/image58.png" ContentType="image/png"/>
  <Override PartName="/ppt/media/image59.jpeg" ContentType="image/jpeg"/>
  <Override PartName="/ppt/media/image6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1" name=""/>
          <p:cNvSpPr txBox="1"/>
          <p:nvPr/>
        </p:nvSpPr>
        <p:spPr>
          <a:xfrm>
            <a:off x="533520" y="228600"/>
            <a:ext cx="304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70102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- </a:t>
            </a:r>
            <a:fld id="{5798AC63-DA83-4A35-BD78-982F1AC1F03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80880" y="664848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image" Target="../media/image25.png"/><Relationship Id="rId5" Type="http://schemas.openxmlformats.org/officeDocument/2006/relationships/image" Target="../media/image12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2.png"/><Relationship Id="rId4" Type="http://schemas.openxmlformats.org/officeDocument/2006/relationships/image" Target="../media/image2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7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20.png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2.pn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11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2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png"/><Relationship Id="rId3" Type="http://schemas.openxmlformats.org/officeDocument/2006/relationships/image" Target="../media/image55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58.png"/><Relationship Id="rId7" Type="http://schemas.openxmlformats.org/officeDocument/2006/relationships/image" Target="../media/image59.jpe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Lind%20Cover%20Huge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2357280" y="5424480"/>
            <a:ext cx="4391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3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243828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cc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Describing Data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cc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cc"/>
                    </a:gs>
                    <a:gs pos="100000">
                      <a:srgbClr val="ff33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Measures of Central Tendenc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cc"/>
                  </a:gs>
                  <a:gs pos="100000">
                    <a:srgbClr val="ff3300"/>
                  </a:gs>
                </a:gsLst>
                <a:lin ang="8100000"/>
              </a:gra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47840" y="228600"/>
            <a:ext cx="5219640" cy="11300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pertie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of an        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thmetic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447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very s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interval-level and ratio-level data has a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81160" y="2416320"/>
            <a:ext cx="5981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l the values are includ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computing the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2320" y="3352680"/>
            <a:ext cx="658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et of data has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nique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35240" y="3352680"/>
            <a:ext cx="41724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52640" y="152388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274760" y="2492280"/>
            <a:ext cx="401760" cy="45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47720" y="4876920"/>
            <a:ext cx="547560" cy="4572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52480" y="4952880"/>
            <a:ext cx="762012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rithmetic mean is the                                                                             only measure of central tendency where                                                                       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sum of the deviations                                                                                      of each value from the mean is zer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4172040"/>
            <a:ext cx="304920" cy="30456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92320" y="4038480"/>
            <a:ext cx="6580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ean is affected by unusually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r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mall data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4120" y="2209680"/>
            <a:ext cx="838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47840" y="228600"/>
            <a:ext cx="5219640" cy="10688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thmetic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n                  as a Balanc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4929" t="0" r="7427" b="5786"/>
          <a:stretch/>
        </p:blipFill>
        <p:spPr>
          <a:xfrm>
            <a:off x="533520" y="1371600"/>
            <a:ext cx="977760" cy="93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704960" y="1568520"/>
            <a:ext cx="6753240" cy="477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lustrate the mean of the values 3, 8 and 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209680"/>
            <a:ext cx="16002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5 /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rcRect l="7558" t="0" r="0" b="3277"/>
          <a:stretch/>
        </p:blipFill>
        <p:spPr>
          <a:xfrm>
            <a:off x="762120" y="2895480"/>
            <a:ext cx="7619760" cy="3060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75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75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5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25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75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rot="1462200">
            <a:off x="3785760" y="19098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63920" y="2300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20089200">
            <a:off x="3268440" y="291096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410200">
            <a:off x="4569840" y="305424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569200">
            <a:off x="5008320" y="199548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9440" y="1216080"/>
            <a:ext cx="7858080" cy="5626440"/>
            <a:chOff x="649440" y="1216080"/>
            <a:chExt cx="7858080" cy="562644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3049560" y="2125800"/>
              <a:ext cx="3056040" cy="26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9440" y="1216080"/>
              <a:ext cx="7858080" cy="56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3300"/>
                  </a:solidFill>
                  <a:latin typeface="Times New Roman"/>
                </a:rPr>
                <a:t>Determining 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7200" spc="-1" strike="noStrike">
                  <a:solidFill>
                    <a:srgbClr val="ff3300"/>
                  </a:solidFill>
                  <a:latin typeface="Times New Roman"/>
                </a:rPr>
                <a:t>the Mean                       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3300"/>
                  </a:solidFill>
                  <a:latin typeface="Times New Roman"/>
                </a:rPr>
                <a:t>in Excel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439800" y="2320920"/>
            <a:ext cx="3826080" cy="3656160"/>
            <a:chOff x="3439800" y="2320920"/>
            <a:chExt cx="3826080" cy="3656160"/>
          </a:xfrm>
        </p:grpSpPr>
        <p:sp>
          <p:nvSpPr>
            <p:cNvPr id="199" name=""/>
            <p:cNvSpPr/>
            <p:nvPr/>
          </p:nvSpPr>
          <p:spPr>
            <a:xfrm>
              <a:off x="3439800" y="2440080"/>
              <a:ext cx="768960" cy="581400"/>
            </a:xfrm>
            <a:prstGeom prst="rect">
              <a:avLst/>
            </a:prstGeom>
            <a:solidFill>
              <a:srgbClr val="fcfeda"/>
            </a:solidFill>
            <a:ln w="0">
              <a:noFill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S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rcRect l="24513" t="14666" r="58004" b="55339"/>
            <a:stretch/>
          </p:blipFill>
          <p:spPr>
            <a:xfrm>
              <a:off x="4197240" y="2320920"/>
              <a:ext cx="3068640" cy="365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" descr=""/>
          <p:cNvPicPr/>
          <p:nvPr/>
        </p:nvPicPr>
        <p:blipFill>
          <a:blip r:embed="rId2"/>
          <a:srcRect l="0" t="50035" r="0" b="24931"/>
          <a:stretch/>
        </p:blipFill>
        <p:spPr>
          <a:xfrm>
            <a:off x="606600" y="1695600"/>
            <a:ext cx="7924680" cy="68868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203" name="" descr=""/>
            <p:cNvPicPr/>
            <p:nvPr/>
          </p:nvPicPr>
          <p:blipFill>
            <a:blip r:embed="rId3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683240" y="651240"/>
            <a:ext cx="3432600" cy="1692000"/>
            <a:chOff x="4683240" y="651240"/>
            <a:chExt cx="3432600" cy="1692000"/>
          </a:xfrm>
        </p:grpSpPr>
        <p:sp>
          <p:nvSpPr>
            <p:cNvPr id="206" name=""/>
            <p:cNvSpPr/>
            <p:nvPr/>
          </p:nvSpPr>
          <p:spPr>
            <a:xfrm>
              <a:off x="4683240" y="1771560"/>
              <a:ext cx="1046160" cy="57168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0485800">
              <a:off x="5720760" y="1015560"/>
              <a:ext cx="237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Too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4"/>
            <a:srcRect l="18768" t="2318" r="77500" b="94576"/>
            <a:stretch/>
          </p:blipFill>
          <p:spPr>
            <a:xfrm>
              <a:off x="4759200" y="1812960"/>
              <a:ext cx="909720" cy="45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1200240" y="4336920"/>
            <a:ext cx="6085800" cy="1634400"/>
            <a:chOff x="1200240" y="4336920"/>
            <a:chExt cx="6085800" cy="1634400"/>
          </a:xfrm>
        </p:grpSpPr>
        <p:sp>
          <p:nvSpPr>
            <p:cNvPr id="210" name=""/>
            <p:cNvSpPr/>
            <p:nvPr/>
          </p:nvSpPr>
          <p:spPr>
            <a:xfrm>
              <a:off x="1200240" y="4336920"/>
              <a:ext cx="2907000" cy="947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ATA ANALY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6"/>
            <a:srcRect l="24753" t="37504" r="58269" b="55434"/>
            <a:stretch/>
          </p:blipFill>
          <p:spPr>
            <a:xfrm>
              <a:off x="4256280" y="5045040"/>
              <a:ext cx="3029760" cy="92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4360" y="5400720"/>
            <a:ext cx="7769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ligh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SCRIPTIVE STATISTICS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lick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rcRect l="27343" t="33337" r="34376" b="41670"/>
          <a:stretch/>
        </p:blipFill>
        <p:spPr>
          <a:xfrm>
            <a:off x="457200" y="1442880"/>
            <a:ext cx="8229600" cy="39722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3200" y="1066680"/>
            <a:ext cx="768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809880"/>
            <a:ext cx="2514600" cy="304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2"/>
          <a:srcRect l="0" t="2033" r="35158" b="31250"/>
          <a:stretch/>
        </p:blipFill>
        <p:spPr>
          <a:xfrm>
            <a:off x="0" y="838080"/>
            <a:ext cx="7620120" cy="5878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743920" y="2286000"/>
            <a:ext cx="87120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7040" y="1981080"/>
            <a:ext cx="229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3276720"/>
            <a:ext cx="158904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2209680"/>
            <a:ext cx="914400" cy="46483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320040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3:A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3962520"/>
            <a:ext cx="160020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3581280"/>
            <a:ext cx="914400" cy="4572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4876920"/>
            <a:ext cx="335268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5410080"/>
            <a:ext cx="1295280" cy="3049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20328600">
            <a:off x="6789240" y="1175040"/>
            <a:ext cx="2094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33960" y="601992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64040" y="3200400"/>
            <a:ext cx="1589040" cy="380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0" t="13481" r="77345" b="52567"/>
          <a:stretch/>
        </p:blipFill>
        <p:spPr>
          <a:xfrm>
            <a:off x="1219320" y="1371600"/>
            <a:ext cx="4744800" cy="533412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29800" y="762120"/>
            <a:ext cx="231732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057400"/>
            <a:ext cx="5029200" cy="380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6248520"/>
            <a:ext cx="2833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e solu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rcRect l="0" t="2028" r="66407" b="61490"/>
          <a:stretch/>
        </p:blipFill>
        <p:spPr>
          <a:xfrm>
            <a:off x="1257480" y="990720"/>
            <a:ext cx="6629400" cy="540072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886200" y="2108160"/>
            <a:ext cx="4800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LICK 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E F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rcRect l="27074" t="27632" r="35158" b="34375"/>
          <a:stretch/>
        </p:blipFill>
        <p:spPr>
          <a:xfrm>
            <a:off x="3390840" y="2971800"/>
            <a:ext cx="4305240" cy="3247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545240" y="609588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952960" y="762120"/>
            <a:ext cx="2044080" cy="1218600"/>
            <a:chOff x="5952960" y="762120"/>
            <a:chExt cx="2044080" cy="1218600"/>
          </a:xfrm>
        </p:grpSpPr>
        <p:sp>
          <p:nvSpPr>
            <p:cNvPr id="252" name=""/>
            <p:cNvSpPr/>
            <p:nvPr/>
          </p:nvSpPr>
          <p:spPr>
            <a:xfrm>
              <a:off x="5952960" y="1523880"/>
              <a:ext cx="609840" cy="4568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33240" y="762120"/>
              <a:ext cx="1963800" cy="520560"/>
            </a:xfrm>
            <a:prstGeom prst="rect">
              <a:avLst/>
            </a:prstGeom>
            <a:solidFill>
              <a:srgbClr val="fcfeda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LICK 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68360" y="2666880"/>
            <a:ext cx="87120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" descr=""/>
          <p:cNvPicPr/>
          <p:nvPr/>
        </p:nvPicPr>
        <p:blipFill>
          <a:blip r:embed="rId2"/>
          <a:srcRect l="0" t="0" r="35158" b="34375"/>
          <a:stretch/>
        </p:blipFill>
        <p:spPr>
          <a:xfrm>
            <a:off x="876240" y="990720"/>
            <a:ext cx="7391520" cy="5610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759440" y="609588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02680" y="2743200"/>
            <a:ext cx="5203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CROLL DOWN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38480" y="4648320"/>
            <a:ext cx="685800" cy="152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28126" t="28124" r="35158" b="34375"/>
          <a:stretch/>
        </p:blipFill>
        <p:spPr>
          <a:xfrm>
            <a:off x="1600200" y="1600200"/>
            <a:ext cx="5791320" cy="44355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264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797360" y="4594320"/>
            <a:ext cx="3287880" cy="1425240"/>
            <a:chOff x="4797360" y="4594320"/>
            <a:chExt cx="3287880" cy="1425240"/>
          </a:xfrm>
        </p:grpSpPr>
        <p:sp>
          <p:nvSpPr>
            <p:cNvPr id="267" name=""/>
            <p:cNvSpPr/>
            <p:nvPr/>
          </p:nvSpPr>
          <p:spPr>
            <a:xfrm>
              <a:off x="4797360" y="5547960"/>
              <a:ext cx="1524240" cy="471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328600">
              <a:off x="5967000" y="4955040"/>
              <a:ext cx="20948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O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471680" y="1371600"/>
            <a:ext cx="6199200" cy="1371600"/>
            <a:chOff x="1471680" y="1371600"/>
            <a:chExt cx="6199200" cy="1371600"/>
          </a:xfrm>
        </p:grpSpPr>
        <p:sp>
          <p:nvSpPr>
            <p:cNvPr id="270" name=""/>
            <p:cNvSpPr/>
            <p:nvPr/>
          </p:nvSpPr>
          <p:spPr>
            <a:xfrm>
              <a:off x="1471680" y="1371600"/>
              <a:ext cx="6199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HIGHLIGH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ERAG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IN RIGHT MEN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67080" y="2514600"/>
              <a:ext cx="2743200" cy="228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62840" y="1905120"/>
            <a:ext cx="87120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59440" y="609588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57200" y="1676520"/>
            <a:ext cx="609480" cy="581400"/>
            <a:chOff x="457200" y="1676520"/>
            <a:chExt cx="609480" cy="5814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457200" y="1751040"/>
              <a:ext cx="609480" cy="5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4240" y="16765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1828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lculate the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arithmet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weighte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US" sz="2200" spc="-1" strike="noStrike">
                <a:solidFill>
                  <a:srgbClr val="339966"/>
                </a:solidFill>
                <a:latin typeface="Times New Roman"/>
              </a:rPr>
              <a:t>media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1" i="1" lang="en-US" sz="2200" spc="-1" strike="noStrike">
                <a:solidFill>
                  <a:srgbClr val="ff00ff"/>
                </a:solidFill>
                <a:latin typeface="Times New Roman"/>
              </a:rPr>
              <a:t>mod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and the </a:t>
            </a:r>
            <a:r>
              <a:rPr b="1" i="1" lang="en-US" sz="2200" spc="-1" strike="noStrike">
                <a:solidFill>
                  <a:srgbClr val="808080"/>
                </a:solidFill>
                <a:latin typeface="Times New Roman"/>
              </a:rPr>
              <a:t>geometric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mea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of a given data se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2697120"/>
            <a:ext cx="609480" cy="581400"/>
            <a:chOff x="457200" y="2697120"/>
            <a:chExt cx="609480" cy="5814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457200" y="277164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34240" y="26971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295280" y="2743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dentify the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relative position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arithmetic mea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median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mod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both symmetric and skewed distribution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76440" y="1522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2" name=""/>
          <p:cNvSpPr/>
          <p:nvPr/>
        </p:nvSpPr>
        <p:spPr>
          <a:xfrm>
            <a:off x="576360" y="12193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617220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5720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lain your choice of the measure of central tendency of da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3657600"/>
            <a:ext cx="609480" cy="581400"/>
            <a:chOff x="457200" y="3657600"/>
            <a:chExt cx="609480" cy="581400"/>
          </a:xfrm>
        </p:grpSpPr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457200" y="373212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34240" y="365760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295280" y="3657600"/>
            <a:ext cx="7239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oint out th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proper us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common misuse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of each measure.</a:t>
            </a:r>
            <a:r>
              <a:rPr b="1" lang="en-US" sz="23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4572000"/>
            <a:ext cx="609480" cy="581400"/>
            <a:chOff x="457200" y="4572000"/>
            <a:chExt cx="609480" cy="581400"/>
          </a:xfrm>
        </p:grpSpPr>
        <p:pic>
          <p:nvPicPr>
            <p:cNvPr id="60" name="" descr=""/>
            <p:cNvPicPr/>
            <p:nvPr/>
          </p:nvPicPr>
          <p:blipFill>
            <a:blip r:embed="rId6"/>
            <a:stretch/>
          </p:blipFill>
          <p:spPr>
            <a:xfrm>
              <a:off x="457200" y="464652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34240" y="457200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" y="5440320"/>
            <a:ext cx="609480" cy="581400"/>
            <a:chOff x="457200" y="5440320"/>
            <a:chExt cx="609480" cy="58140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457200" y="5514840"/>
              <a:ext cx="60948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240" y="5440320"/>
              <a:ext cx="48708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295280" y="548640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lain the result of your analy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rcRect l="0" t="0" r="54387" b="48688"/>
          <a:stretch/>
        </p:blipFill>
        <p:spPr>
          <a:xfrm>
            <a:off x="380880" y="1143000"/>
            <a:ext cx="4419720" cy="54100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058120" y="838080"/>
            <a:ext cx="87120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rcRect l="0" t="0" r="75784" b="26042"/>
          <a:stretch/>
        </p:blipFill>
        <p:spPr>
          <a:xfrm>
            <a:off x="5105520" y="1143000"/>
            <a:ext cx="3733560" cy="54100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905120" y="5027760"/>
            <a:ext cx="6781680" cy="1800360"/>
          </a:xfrm>
          <a:prstGeom prst="rect">
            <a:avLst/>
          </a:prstGeom>
          <a:solidFill>
            <a:srgbClr val="fcf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n (averag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placed                                              in the cell on the worksheet where   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our cursor was when you beg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1981080"/>
            <a:ext cx="3429000" cy="3812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833560" y="247680"/>
            <a:ext cx="3476880" cy="1047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2f75"/>
              </a:gs>
              <a:gs pos="100000">
                <a:srgbClr val="0066ff"/>
              </a:gs>
            </a:gsLst>
            <a:lin ang="5400000"/>
          </a:gradFill>
          <a:ln w="0">
            <a:noFill/>
          </a:ln>
          <a:effectLst>
            <a:outerShdw dist="252134" dir="83431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da"/>
                </a:solidFill>
                <a:latin typeface="Times New Roman"/>
              </a:rPr>
              <a:t>Weighted M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2480" y="1371600"/>
            <a:ext cx="7875720" cy="205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36173" dir="757551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weighted me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a set of numbers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..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                    with corresponding weight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...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    is computed from the following formul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4280" y="579132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010280" y="6105600"/>
            <a:ext cx="173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14400" y="3809880"/>
          <a:ext cx="7238880" cy="15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809880"/>
                    <a:ext cx="723888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5064120" cy="44960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229360" y="3429000"/>
            <a:ext cx="2923920" cy="210168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3848040" y="5562720"/>
            <a:ext cx="1447920" cy="533160"/>
            <a:chOff x="3848040" y="5562720"/>
            <a:chExt cx="1447920" cy="533160"/>
          </a:xfrm>
        </p:grpSpPr>
        <p:sp>
          <p:nvSpPr>
            <p:cNvPr id="292" name=""/>
            <p:cNvSpPr/>
            <p:nvPr/>
          </p:nvSpPr>
          <p:spPr>
            <a:xfrm>
              <a:off x="3848040" y="5562720"/>
              <a:ext cx="144792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861000" y="5599080"/>
              <a:ext cx="1305360" cy="434520"/>
              <a:chOff x="3861000" y="5599080"/>
              <a:chExt cx="1305360" cy="434520"/>
            </a:xfrm>
          </p:grpSpPr>
          <p:sp>
            <p:nvSpPr>
              <p:cNvPr id="294" name=""/>
              <p:cNvSpPr/>
              <p:nvPr/>
            </p:nvSpPr>
            <p:spPr>
              <a:xfrm>
                <a:off x="4833360" y="563724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89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718880" y="5637240"/>
                <a:ext cx="831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85960" y="563724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57360" y="5637240"/>
                <a:ext cx="2682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</a:rPr>
                  <a:t>$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61000" y="5599080"/>
                <a:ext cx="2628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"/>
          <p:cNvGrpSpPr/>
          <p:nvPr/>
        </p:nvGrpSpPr>
        <p:grpSpPr>
          <a:xfrm>
            <a:off x="2388240" y="5429160"/>
            <a:ext cx="1234080" cy="879120"/>
            <a:chOff x="2388240" y="5429160"/>
            <a:chExt cx="1234080" cy="879120"/>
          </a:xfrm>
        </p:grpSpPr>
        <p:sp>
          <p:nvSpPr>
            <p:cNvPr id="300" name=""/>
            <p:cNvSpPr/>
            <p:nvPr/>
          </p:nvSpPr>
          <p:spPr>
            <a:xfrm>
              <a:off x="2693160" y="5862240"/>
              <a:ext cx="9291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94120" y="5911920"/>
              <a:ext cx="333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9600" y="5429160"/>
              <a:ext cx="333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97880" y="5429160"/>
              <a:ext cx="83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71000" y="5429160"/>
              <a:ext cx="3330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08640" y="54291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88240" y="560592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813400" y="4495680"/>
            <a:ext cx="5415840" cy="913680"/>
            <a:chOff x="2813400" y="4495680"/>
            <a:chExt cx="5415840" cy="913680"/>
          </a:xfrm>
        </p:grpSpPr>
        <p:sp>
          <p:nvSpPr>
            <p:cNvPr id="308" name=""/>
            <p:cNvSpPr/>
            <p:nvPr/>
          </p:nvSpPr>
          <p:spPr>
            <a:xfrm>
              <a:off x="2816280" y="4965480"/>
              <a:ext cx="541296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3400" y="4555800"/>
              <a:ext cx="1053720" cy="396360"/>
              <a:chOff x="2813400" y="4555800"/>
              <a:chExt cx="1053720" cy="396360"/>
            </a:xfrm>
          </p:grpSpPr>
          <p:sp>
            <p:nvSpPr>
              <p:cNvPr id="310" name=""/>
              <p:cNvSpPr/>
              <p:nvPr/>
            </p:nvSpPr>
            <p:spPr>
              <a:xfrm>
                <a:off x="3756600" y="455580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3300"/>
                    </a:solidFill>
                    <a:latin typeface="Times New Roman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8800" y="455580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3300"/>
                    </a:solidFill>
                    <a:latin typeface="Times New Roman"/>
                  </a:rPr>
                  <a:t>5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372840" y="4555800"/>
                <a:ext cx="831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3300"/>
                    </a:solidFill>
                    <a:latin typeface="Times New Roman"/>
                  </a:rPr>
                  <a:t>.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18040" y="455580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62080" y="4555800"/>
                <a:ext cx="2764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3300"/>
                    </a:solidFill>
                    <a:latin typeface="Times New Roman"/>
                  </a:rPr>
                  <a:t>($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13400" y="455580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626720" y="4974840"/>
              <a:ext cx="1820160" cy="434520"/>
              <a:chOff x="4626720" y="4974840"/>
              <a:chExt cx="1820160" cy="434520"/>
            </a:xfrm>
          </p:grpSpPr>
          <p:sp>
            <p:nvSpPr>
              <p:cNvPr id="317" name=""/>
              <p:cNvSpPr/>
              <p:nvPr/>
            </p:nvSpPr>
            <p:spPr>
              <a:xfrm>
                <a:off x="6113880" y="501300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9900"/>
                    </a:solidFill>
                    <a:latin typeface="Times New Roman"/>
                  </a:rPr>
                  <a:t>1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65240" y="501300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8000"/>
                    </a:solidFill>
                    <a:latin typeface="Times New Roman"/>
                  </a:rPr>
                  <a:t>1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18760" y="501300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ff"/>
                    </a:solidFill>
                    <a:latin typeface="Times New Roman"/>
                  </a:rPr>
                  <a:t>1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626720" y="501300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3300"/>
                    </a:solidFill>
                    <a:latin typeface="Times New Roman"/>
                  </a:rPr>
                  <a:t>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14080" y="4974840"/>
                <a:ext cx="194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366160" y="4974840"/>
                <a:ext cx="194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818960" y="4974840"/>
                <a:ext cx="194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759000" y="4495680"/>
              <a:ext cx="1402920" cy="434520"/>
              <a:chOff x="6759000" y="4495680"/>
              <a:chExt cx="1402920" cy="434520"/>
            </a:xfrm>
          </p:grpSpPr>
          <p:sp>
            <p:nvSpPr>
              <p:cNvPr id="325" name=""/>
              <p:cNvSpPr/>
              <p:nvPr/>
            </p:nvSpPr>
            <p:spPr>
              <a:xfrm>
                <a:off x="8051400" y="453384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9900"/>
                    </a:solidFill>
                    <a:latin typeface="Times New Roman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46840" y="453384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9900"/>
                    </a:solidFill>
                    <a:latin typeface="Times New Roman"/>
                  </a:rPr>
                  <a:t>1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71960" y="4533840"/>
                <a:ext cx="831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9900"/>
                    </a:solidFill>
                    <a:latin typeface="Times New Roman"/>
                  </a:rPr>
                  <a:t>.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516080" y="453384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9900"/>
                    </a:solidFill>
                    <a:latin typeface="Times New Roman"/>
                  </a:rPr>
                  <a:t>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61920" y="4533840"/>
                <a:ext cx="2764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9900"/>
                    </a:solidFill>
                    <a:latin typeface="Times New Roman"/>
                  </a:rPr>
                  <a:t>($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58080" y="453384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9900"/>
                    </a:solidFill>
                    <a:latin typeface="Times New Roman"/>
                  </a:rPr>
                  <a:t>1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59000" y="4495680"/>
                <a:ext cx="194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360040" y="4517640"/>
              <a:ext cx="1406880" cy="434520"/>
              <a:chOff x="5360040" y="4517640"/>
              <a:chExt cx="1406880" cy="434520"/>
            </a:xfrm>
          </p:grpSpPr>
          <p:sp>
            <p:nvSpPr>
              <p:cNvPr id="333" name=""/>
              <p:cNvSpPr/>
              <p:nvPr/>
            </p:nvSpPr>
            <p:spPr>
              <a:xfrm>
                <a:off x="6656400" y="455580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8000"/>
                    </a:solidFill>
                    <a:latin typeface="Times New Roman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47880" y="455580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8000"/>
                    </a:solidFill>
                    <a:latin typeface="Times New Roman"/>
                  </a:rPr>
                  <a:t>9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71200" y="4555800"/>
                <a:ext cx="831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8000"/>
                    </a:solidFill>
                    <a:latin typeface="Times New Roman"/>
                  </a:rPr>
                  <a:t>.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18200" y="455580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8000"/>
                    </a:solidFill>
                    <a:latin typeface="Times New Roman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62600" y="4555800"/>
                <a:ext cx="2764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8000"/>
                    </a:solidFill>
                    <a:latin typeface="Times New Roman"/>
                  </a:rPr>
                  <a:t>($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558040" y="455580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8000"/>
                    </a:solidFill>
                    <a:latin typeface="Times New Roman"/>
                  </a:rPr>
                  <a:t>1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60040" y="4517640"/>
                <a:ext cx="194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954960" y="4517640"/>
              <a:ext cx="1402560" cy="434520"/>
              <a:chOff x="3954960" y="4517640"/>
              <a:chExt cx="1402560" cy="434520"/>
            </a:xfrm>
          </p:grpSpPr>
          <p:sp>
            <p:nvSpPr>
              <p:cNvPr id="341" name=""/>
              <p:cNvSpPr/>
              <p:nvPr/>
            </p:nvSpPr>
            <p:spPr>
              <a:xfrm>
                <a:off x="5247000" y="4555800"/>
                <a:ext cx="1105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ff"/>
                    </a:solidFill>
                    <a:latin typeface="Times New Roman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42800" y="455580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ff"/>
                    </a:solidFill>
                    <a:latin typeface="Times New Roman"/>
                  </a:rPr>
                  <a:t>7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69000" y="4555800"/>
                <a:ext cx="831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ff"/>
                    </a:solidFill>
                    <a:latin typeface="Times New Roman"/>
                  </a:rPr>
                  <a:t>.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13840" y="455580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ff"/>
                    </a:solidFill>
                    <a:latin typeface="Times New Roman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58240" y="4555800"/>
                <a:ext cx="2764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ff"/>
                    </a:solidFill>
                    <a:latin typeface="Times New Roman"/>
                  </a:rPr>
                  <a:t>($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53680" y="4555800"/>
                <a:ext cx="333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ff"/>
                    </a:solidFill>
                    <a:latin typeface="Times New Roman"/>
                  </a:rPr>
                  <a:t>15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954960" y="4517640"/>
                <a:ext cx="1944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1600200" y="4800600"/>
            <a:ext cx="1006200" cy="572040"/>
            <a:chOff x="1600200" y="4800600"/>
            <a:chExt cx="1006200" cy="572040"/>
          </a:xfrm>
        </p:grpSpPr>
        <p:sp>
          <p:nvSpPr>
            <p:cNvPr id="349" name=""/>
            <p:cNvSpPr/>
            <p:nvPr/>
          </p:nvSpPr>
          <p:spPr>
            <a:xfrm>
              <a:off x="2343600" y="4800600"/>
              <a:ext cx="2628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04760" y="50911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00200" y="4854600"/>
              <a:ext cx="3967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μ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3124080" y="304920"/>
            <a:ext cx="29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640" y="91440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ring a one hour period on a hot Saturday afternoon cabana boy Chris served fifty drinks.                                                           He so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ive drinks for $0.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fifteen for $0.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ifteen for $0.90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fifteen for $1.1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ompu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- the weighted mean of the price of the drink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14400" y="4419720"/>
            <a:ext cx="731520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09480" y="1676520"/>
            <a:ext cx="7925040" cy="175248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50000">
                <a:srgbClr val="fefefe"/>
              </a:gs>
              <a:gs pos="100000">
                <a:srgbClr val="ff33cc"/>
              </a:gs>
            </a:gsLst>
            <a:lin ang="8100000"/>
          </a:gradFill>
          <a:ln w="0">
            <a:noFill/>
          </a:ln>
          <a:effectLst>
            <a:outerShdw dist="368453" dir="8016864" blurRad="0" rotWithShape="0">
              <a:srgbClr val="98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Median</a:t>
            </a:r>
            <a:r>
              <a:rPr b="1" lang="en-US" sz="3600" spc="-1" strike="noStrike">
                <a:solidFill>
                  <a:srgbClr val="4db14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1" lang="en-US" sz="3600" spc="-1" strike="noStrike">
                <a:solidFill>
                  <a:srgbClr val="4db14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dpoint of the values after they have been ordered from the smallest to the larg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3886200"/>
            <a:ext cx="8229600" cy="1409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efefe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as many values                                              </a:t>
            </a:r>
            <a:r>
              <a:rPr b="1" lang="en-US" sz="3200" spc="-1" strike="noStrike" u="sng">
                <a:solidFill>
                  <a:srgbClr val="ff33cc"/>
                </a:solidFill>
                <a:uFillTx/>
                <a:latin typeface="Times New Roman"/>
              </a:rPr>
              <a:t>above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the median as </a:t>
            </a:r>
            <a:r>
              <a:rPr b="1" lang="en-US" sz="3200" spc="-1" strike="noStrike" u="sng">
                <a:solidFill>
                  <a:srgbClr val="ff33cc"/>
                </a:solidFill>
                <a:uFillTx/>
                <a:latin typeface="Times New Roman"/>
              </a:rPr>
              <a:t>below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it in the data arr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57400" y="95400"/>
            <a:ext cx="5029200" cy="1047600"/>
            <a:chOff x="2057400" y="95400"/>
            <a:chExt cx="5029200" cy="1047600"/>
          </a:xfrm>
        </p:grpSpPr>
        <p:sp>
          <p:nvSpPr>
            <p:cNvPr id="359" name=""/>
            <p:cNvSpPr/>
            <p:nvPr/>
          </p:nvSpPr>
          <p:spPr>
            <a:xfrm>
              <a:off x="2833560" y="95400"/>
              <a:ext cx="3476880" cy="1047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  <a:effectLst>
              <a:outerShdw dist="296447" dir="820628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Times New Roman"/>
                </a:rPr>
                <a:t>The </a:t>
              </a:r>
              <a:r>
                <a:rPr b="1" lang="en-US" sz="4000" spc="-1" strike="noStrike">
                  <a:solidFill>
                    <a:srgbClr val="ff33cc"/>
                  </a:solidFill>
                  <a:latin typeface="Times New Roman"/>
                </a:rPr>
                <a:t>Media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2057400" y="837720"/>
              <a:ext cx="5029200" cy="305280"/>
              <a:chOff x="2057400" y="837720"/>
              <a:chExt cx="5029200" cy="30528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2057400" y="837720"/>
                <a:ext cx="5029200" cy="305280"/>
                <a:chOff x="2057400" y="837720"/>
                <a:chExt cx="5029200" cy="3052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057400" y="83808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057400" y="1143000"/>
                  <a:ext cx="5029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7086600" y="83772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flipV="1">
                <a:off x="4572000" y="837720"/>
                <a:ext cx="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6" name=""/>
          <p:cNvSpPr txBox="1"/>
          <p:nvPr/>
        </p:nvSpPr>
        <p:spPr>
          <a:xfrm rot="20749800">
            <a:off x="304920" y="3733560"/>
            <a:ext cx="1085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No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367" name=""/>
          <p:cNvSpPr/>
          <p:nvPr/>
        </p:nvSpPr>
        <p:spPr>
          <a:xfrm>
            <a:off x="762120" y="4952880"/>
            <a:ext cx="8076960" cy="2531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efefe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ven set of valu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                                                      the </a:t>
            </a:r>
            <a:r>
              <a:rPr b="1" lang="en-US" sz="3200" spc="-1" strike="noStrike" u="sng">
                <a:solidFill>
                  <a:srgbClr val="ff33cc"/>
                </a:solidFill>
                <a:uFillTx/>
                <a:latin typeface="Times New Roman"/>
              </a:rPr>
              <a:t>media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ill be the                                                                                        </a:t>
            </a:r>
            <a:r>
              <a:rPr b="1" i="1" lang="en-US" sz="3200" spc="-1" strike="noStrike" u="sng">
                <a:solidFill>
                  <a:srgbClr val="ff33cc"/>
                </a:solidFill>
                <a:uFillTx/>
                <a:latin typeface="Times New Roman"/>
              </a:rPr>
              <a:t>arithmetic average of the two middle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ges for a sample of five college student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1, 25, 19, 20,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809880"/>
            <a:ext cx="83059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ights of four basketball players, in inches, ar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6, 73, 80, 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124080" y="304920"/>
            <a:ext cx="29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21680" y="3048120"/>
            <a:ext cx="350028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us the median i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3680" y="5867280"/>
            <a:ext cx="3855240" cy="520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fefe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us the median i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5.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0880" y="16002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A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434340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merType Md BT"/>
              </a:rPr>
              <a:t>B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merType Md BT"/>
              <a:ea typeface="AmerType Md BT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5257800"/>
            <a:ext cx="990720" cy="5335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057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nging the data in ascending order gives: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9, 20, 21, 22,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9720" y="2514600"/>
            <a:ext cx="533160" cy="5335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4800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nging the data in ascending order gives: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73, 75, 76,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013120" y="171360"/>
            <a:ext cx="5073480" cy="8193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66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erties of the Medi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1143000"/>
            <a:ext cx="7772400" cy="525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2625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re is a unique median for each data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26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not affec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by extremely large or small values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s therefore a valuable measure of central tendency when such value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2999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It can be computed for </a:t>
            </a: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ratio-level,                   interval-level, and ordinal-leve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2625"/>
              </a:spcBef>
              <a:buClr>
                <a:srgbClr val="99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It can be computed for an                                                          open-ended frequency distribution                                                      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if the media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                             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does not lie in an open-ended clas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781360" y="304920"/>
            <a:ext cx="3581280" cy="685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ff3399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57480" y="1219320"/>
            <a:ext cx="6629400" cy="1676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33cc"/>
              </a:gs>
              <a:gs pos="100000">
                <a:srgbClr val="3333cc"/>
              </a:gs>
            </a:gsLst>
            <a:lin ang="10800000"/>
          </a:gra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Mode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                                                               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is the value of the observa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that appears most frequently u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268800" y="3048120"/>
            <a:ext cx="2604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3581280"/>
            <a:ext cx="7162560" cy="1556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xam scores for ten students are:                                   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81, 93, 84, 75, 68, 87, 81, 75, 81, 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523880" y="4114800"/>
            <a:ext cx="5486040" cy="533520"/>
            <a:chOff x="1523880" y="4114800"/>
            <a:chExt cx="5486040" cy="533520"/>
          </a:xfrm>
        </p:grpSpPr>
        <p:sp>
          <p:nvSpPr>
            <p:cNvPr id="389" name=""/>
            <p:cNvSpPr/>
            <p:nvPr/>
          </p:nvSpPr>
          <p:spPr>
            <a:xfrm>
              <a:off x="1523880" y="4114800"/>
              <a:ext cx="618840" cy="533520"/>
            </a:xfrm>
            <a:prstGeom prst="ellipse">
              <a:avLst/>
            </a:prstGeom>
            <a:noFill/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51600" y="4114800"/>
              <a:ext cx="619560" cy="533520"/>
            </a:xfrm>
            <a:prstGeom prst="ellipse">
              <a:avLst/>
            </a:prstGeom>
            <a:noFill/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90360" y="4114800"/>
              <a:ext cx="619560" cy="533520"/>
            </a:xfrm>
            <a:prstGeom prst="ellipse">
              <a:avLst/>
            </a:prstGeom>
            <a:noFill/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104840" y="4876920"/>
            <a:ext cx="6934320" cy="1068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score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of 81 occurs the most often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it is 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od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562040" y="1219320"/>
            <a:ext cx="6058080" cy="5181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276640" y="304920"/>
            <a:ext cx="458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200" y="1219320"/>
            <a:ext cx="7866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Geometric Me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G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of a                                  set of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bers is defined as the                                       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oot of the product of the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umb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geometric mean is used to average percents, indexes, and relativ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The formula is: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510080" y="3322800"/>
                <a:ext cx="104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28800" y="152280"/>
            <a:ext cx="54864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eometric Me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79320" y="4800600"/>
            <a:ext cx="7778880" cy="1294200"/>
            <a:chOff x="679320" y="4800600"/>
            <a:chExt cx="7778880" cy="1294200"/>
          </a:xfrm>
        </p:grpSpPr>
        <p:sp>
          <p:nvSpPr>
            <p:cNvPr id="400" name=""/>
            <p:cNvSpPr/>
            <p:nvPr/>
          </p:nvSpPr>
          <p:spPr>
            <a:xfrm flipV="1">
              <a:off x="2367720" y="5654160"/>
              <a:ext cx="85680" cy="7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53400" y="5675040"/>
              <a:ext cx="124920" cy="41976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592000" y="4870080"/>
              <a:ext cx="163440" cy="122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55440" y="4870440"/>
              <a:ext cx="562500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9320" y="4920120"/>
              <a:ext cx="9414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G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12720" y="492012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44640" y="492012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33800" y="492012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85280" y="4920120"/>
              <a:ext cx="2811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74720" y="530748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19560" y="50184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48320" y="4800600"/>
              <a:ext cx="4456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3720" y="492012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62520" y="4920120"/>
              <a:ext cx="372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53480" y="4920120"/>
              <a:ext cx="372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15640" y="4920120"/>
              <a:ext cx="3268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11280" y="4920120"/>
              <a:ext cx="14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98840" y="4920120"/>
              <a:ext cx="140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14120" y="492012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71720" y="4920120"/>
              <a:ext cx="186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98640" y="53074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51440" y="53074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40240" y="530748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762120" y="6172200"/>
            <a:ext cx="7696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06520" y="1676520"/>
            <a:ext cx="8130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interest rate on three bonds was                              5, 21, and 4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Geometric 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152280"/>
            <a:ext cx="5486400" cy="9144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6600"/>
              </a:gs>
              <a:gs pos="100000">
                <a:srgbClr val="17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eometric Me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268800" y="1143000"/>
            <a:ext cx="2604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642320" y="3276360"/>
            <a:ext cx="5824080" cy="593280"/>
            <a:chOff x="1642320" y="3276360"/>
            <a:chExt cx="5824080" cy="593280"/>
          </a:xfrm>
        </p:grpSpPr>
        <p:grpSp>
          <p:nvGrpSpPr>
            <p:cNvPr id="429" name=""/>
            <p:cNvGrpSpPr/>
            <p:nvPr/>
          </p:nvGrpSpPr>
          <p:grpSpPr>
            <a:xfrm>
              <a:off x="1642320" y="3276360"/>
              <a:ext cx="5824080" cy="593280"/>
              <a:chOff x="1642320" y="3276360"/>
              <a:chExt cx="5824080" cy="59328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3065400" y="3276360"/>
                <a:ext cx="2698920" cy="495000"/>
                <a:chOff x="3065400" y="3276360"/>
                <a:chExt cx="2698920" cy="495000"/>
              </a:xfrm>
            </p:grpSpPr>
            <p:sp>
              <p:nvSpPr>
                <p:cNvPr id="431" name=""/>
                <p:cNvSpPr/>
                <p:nvPr/>
              </p:nvSpPr>
              <p:spPr>
                <a:xfrm flipV="1">
                  <a:off x="3065400" y="3597480"/>
                  <a:ext cx="73080" cy="28440"/>
                </a:xfrm>
                <a:prstGeom prst="line">
                  <a:avLst/>
                </a:prstGeom>
                <a:ln w="255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3138480" y="3282480"/>
                  <a:ext cx="260280" cy="488880"/>
                  <a:chOff x="3138480" y="3282480"/>
                  <a:chExt cx="260280" cy="488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3138480" y="3606480"/>
                    <a:ext cx="101520" cy="164880"/>
                  </a:xfrm>
                  <a:prstGeom prst="line">
                    <a:avLst/>
                  </a:prstGeom>
                  <a:ln w="4932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V="1">
                    <a:off x="3254400" y="3282480"/>
                    <a:ext cx="144360" cy="488880"/>
                  </a:xfrm>
                  <a:prstGeom prst="line">
                    <a:avLst/>
                  </a:prstGeom>
                  <a:ln w="255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5" name=""/>
                <p:cNvSpPr/>
                <p:nvPr/>
              </p:nvSpPr>
              <p:spPr>
                <a:xfrm>
                  <a:off x="3398760" y="3276360"/>
                  <a:ext cx="2365560" cy="720"/>
                </a:xfrm>
                <a:prstGeom prst="line">
                  <a:avLst/>
                </a:prstGeom>
                <a:ln w="255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7008480" y="3320640"/>
                <a:ext cx="457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49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811560" y="3320640"/>
                <a:ext cx="1152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538680" y="3320640"/>
                <a:ext cx="229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673600" y="3320640"/>
                <a:ext cx="1530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390640" y="3320640"/>
                <a:ext cx="229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003280" y="332064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)(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85960" y="3320640"/>
                <a:ext cx="4579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2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063680" y="332064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)(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69920" y="3320640"/>
                <a:ext cx="229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68320" y="3320640"/>
                <a:ext cx="1530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(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894760" y="3310200"/>
                <a:ext cx="16668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ffff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87240" y="327636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382120" y="327636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42320" y="3320640"/>
                <a:ext cx="738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ff"/>
                    </a:solidFill>
                    <a:latin typeface="Times New Roman"/>
                  </a:rPr>
                  <a:t>GM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0" name=""/>
          <p:cNvSpPr/>
          <p:nvPr/>
        </p:nvSpPr>
        <p:spPr>
          <a:xfrm>
            <a:off x="3505320" y="2133720"/>
            <a:ext cx="533160" cy="5331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82480" y="4152960"/>
            <a:ext cx="813132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ithmetic me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5+21+4)/3 =10.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G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ives a more conservative profit figure because it is not heavily weighted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the rate of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1perc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6400800"/>
            <a:ext cx="74674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00200" y="1828800"/>
            <a:ext cx="6095880" cy="42958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" y="1981080"/>
            <a:ext cx="861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use of the geometric mean is to determine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ercent increase in sal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duction or other business or economic seri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from one time period to anoth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828800" y="152280"/>
            <a:ext cx="5486400" cy="1677960"/>
            <a:chOff x="1828800" y="152280"/>
            <a:chExt cx="5486400" cy="1677960"/>
          </a:xfrm>
        </p:grpSpPr>
        <p:sp>
          <p:nvSpPr>
            <p:cNvPr id="457" name=""/>
            <p:cNvSpPr/>
            <p:nvPr/>
          </p:nvSpPr>
          <p:spPr>
            <a:xfrm>
              <a:off x="1828800" y="152280"/>
              <a:ext cx="5486400" cy="914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00"/>
                </a:gs>
                <a:gs pos="100000">
                  <a:srgbClr val="172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Geometric Mea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2362320" y="1219320"/>
              <a:ext cx="26049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3160" y="13096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3381840" y="388620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rmula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520" y="6172200"/>
            <a:ext cx="800100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609480" y="4495680"/>
            <a:ext cx="7848720" cy="1524240"/>
            <a:chOff x="609480" y="4495680"/>
            <a:chExt cx="7848720" cy="1524240"/>
          </a:xfrm>
        </p:grpSpPr>
        <p:sp>
          <p:nvSpPr>
            <p:cNvPr id="463" name=""/>
            <p:cNvSpPr/>
            <p:nvPr/>
          </p:nvSpPr>
          <p:spPr>
            <a:xfrm>
              <a:off x="609480" y="4495680"/>
              <a:ext cx="7848720" cy="15242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13502" dir="6993903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762120" y="4662000"/>
              <a:ext cx="7373160" cy="1130400"/>
              <a:chOff x="762120" y="4662000"/>
              <a:chExt cx="7373160" cy="1130400"/>
            </a:xfrm>
          </p:grpSpPr>
          <p:sp>
            <p:nvSpPr>
              <p:cNvPr id="465" name=""/>
              <p:cNvSpPr/>
              <p:nvPr/>
            </p:nvSpPr>
            <p:spPr>
              <a:xfrm>
                <a:off x="2700720" y="5195520"/>
                <a:ext cx="4292280" cy="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2303640" y="4662000"/>
                <a:ext cx="5006880" cy="1066680"/>
                <a:chOff x="2303640" y="4662000"/>
                <a:chExt cx="5006880" cy="1066680"/>
              </a:xfrm>
            </p:grpSpPr>
            <p:sp>
              <p:nvSpPr>
                <p:cNvPr id="467" name=""/>
                <p:cNvSpPr/>
                <p:nvPr/>
              </p:nvSpPr>
              <p:spPr>
                <a:xfrm flipV="1">
                  <a:off x="2303640" y="5325840"/>
                  <a:ext cx="70200" cy="298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373840" y="5337000"/>
                  <a:ext cx="96840" cy="391680"/>
                </a:xfrm>
                <a:prstGeom prst="line">
                  <a:avLst/>
                </a:prstGeom>
                <a:ln w="46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V="1">
                  <a:off x="2485800" y="4662000"/>
                  <a:ext cx="138600" cy="10666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624400" y="4662360"/>
                  <a:ext cx="4686120" cy="576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>
                <a:off x="7424280" y="4738320"/>
                <a:ext cx="71100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</a:t>
                </a:r>
                <a:endParaRPr b="0" lang="en-US" sz="4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33120" y="4798800"/>
                <a:ext cx="29016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1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4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62120" y="4890960"/>
                <a:ext cx="103140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M =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103200" y="4738320"/>
                <a:ext cx="379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Value at end of period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90000" y="5271840"/>
                <a:ext cx="474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Value at beginning of period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in" orient="vert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76520" y="152280"/>
            <a:ext cx="5867280" cy="1828800"/>
          </a:xfrm>
          <a:prstGeom prst="rect">
            <a:avLst/>
          </a:prstGeom>
          <a:gradFill rotWithShape="0">
            <a:gsLst>
              <a:gs pos="0">
                <a:srgbClr val="ff9999">
                  <a:alpha val="50196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v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asures of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entral Ten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6324480"/>
            <a:ext cx="5637240" cy="30492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57360" y="1798560"/>
          <a:ext cx="33336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1798560"/>
                    <a:ext cx="333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629400" y="1798560"/>
            <a:ext cx="457200" cy="38124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19120" y="2255760"/>
          <a:ext cx="33336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19120" y="2255760"/>
                    <a:ext cx="333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724280" y="2332080"/>
            <a:ext cx="304920" cy="3049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676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722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ithmeti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09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ighted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1722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209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metri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29000" y="2743200"/>
            <a:ext cx="2251080" cy="533520"/>
          </a:xfrm>
          <a:prstGeom prst="rect">
            <a:avLst/>
          </a:prstGeom>
        </p:spPr>
        <p:txBody>
          <a:bodyPr wrap="none" lIns="0" rIns="0" tIns="0" bIns="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Times New Roman"/>
              </a:rPr>
              <a:t>Exampl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08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360" y="3398760"/>
            <a:ext cx="4457520" cy="947160"/>
          </a:xfrm>
          <a:prstGeom prst="rect">
            <a:avLst/>
          </a:prstGeom>
          <a:gradFill rotWithShape="0">
            <a:gsLst>
              <a:gs pos="0">
                <a:srgbClr val="ffbbbb"/>
              </a:gs>
              <a:gs pos="50000">
                <a:srgbClr val="fefbfb"/>
              </a:gs>
              <a:gs pos="100000">
                <a:srgbClr val="ffbbbb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19669" dir="73181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rage price of a house in Ottawa (2000) was $126 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465800"/>
            <a:ext cx="4495680" cy="1557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27008" dir="76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verage income of two parent families with children in Canada was $65,847 in 1995 and            $72,910 in 1999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tatC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3475080"/>
            <a:ext cx="365760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da"/>
              </a:gs>
            </a:gsLst>
            <a:lin ang="8100000"/>
          </a:gradFill>
          <a:ln w="0">
            <a:noFill/>
          </a:ln>
          <a:effectLst>
            <a:outerShdw dist="162651" dir="771721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verage price of a house in Toronto in 1996 was $238,51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tatC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5045040"/>
            <a:ext cx="3581280" cy="825480"/>
          </a:xfrm>
          <a:prstGeom prst="rect">
            <a:avLst/>
          </a:prstGeom>
          <a:gradFill rotWithShape="0">
            <a:gsLst>
              <a:gs pos="0">
                <a:srgbClr val="fcfeda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grade point average for last semester was 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53880" y="2133720"/>
            <a:ext cx="8588520" cy="137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otal number of females enrolled in American colleges increased from                                                                  755,000 in 1992 to 835,000 in 2000.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762120" y="3733920"/>
                <a:ext cx="76960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8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828800" y="152280"/>
            <a:ext cx="5486400" cy="1677960"/>
            <a:chOff x="1828800" y="152280"/>
            <a:chExt cx="5486400" cy="1677960"/>
          </a:xfrm>
        </p:grpSpPr>
        <p:sp>
          <p:nvSpPr>
            <p:cNvPr id="480" name=""/>
            <p:cNvSpPr/>
            <p:nvPr/>
          </p:nvSpPr>
          <p:spPr>
            <a:xfrm>
              <a:off x="1828800" y="152280"/>
              <a:ext cx="5486400" cy="914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6600"/>
                </a:gs>
                <a:gs pos="100000">
                  <a:srgbClr val="172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Geometric Mean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2362320" y="1219320"/>
              <a:ext cx="26049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33160" y="130968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33160" y="5334120"/>
            <a:ext cx="80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e. the </a:t>
            </a: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ometric </a:t>
            </a: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ate of increase is 1.2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rcRect l="14390" t="30350" r="28351" b="55679"/>
          <a:stretch/>
        </p:blipFill>
        <p:spPr>
          <a:xfrm>
            <a:off x="3505320" y="304920"/>
            <a:ext cx="2365200" cy="20602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719280" y="2438280"/>
            <a:ext cx="7858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etermining  the Median, Mode or Geometric Mean                     in Exc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rcRect l="24513" t="14666" r="58004" b="55339"/>
          <a:stretch/>
        </p:blipFill>
        <p:spPr>
          <a:xfrm>
            <a:off x="4197240" y="2135160"/>
            <a:ext cx="3068640" cy="36561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rcRect l="0" t="50035" r="0" b="24931"/>
          <a:stretch/>
        </p:blipFill>
        <p:spPr>
          <a:xfrm>
            <a:off x="606600" y="1509840"/>
            <a:ext cx="7924680" cy="68868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3397320" y="228600"/>
            <a:ext cx="2382840" cy="842760"/>
            <a:chOff x="3397320" y="228600"/>
            <a:chExt cx="2382840" cy="842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rcRect l="14390" t="30350" r="28351" b="55679"/>
            <a:stretch/>
          </p:blipFill>
          <p:spPr>
            <a:xfrm>
              <a:off x="5067360" y="37296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3397320" y="22860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683240" y="465480"/>
            <a:ext cx="3432600" cy="1692000"/>
            <a:chOff x="4683240" y="465480"/>
            <a:chExt cx="3432600" cy="1692000"/>
          </a:xfrm>
        </p:grpSpPr>
        <p:sp>
          <p:nvSpPr>
            <p:cNvPr id="492" name=""/>
            <p:cNvSpPr/>
            <p:nvPr/>
          </p:nvSpPr>
          <p:spPr>
            <a:xfrm>
              <a:off x="4683240" y="1585800"/>
              <a:ext cx="1046160" cy="57168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0485800">
              <a:off x="5720760" y="829800"/>
              <a:ext cx="237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Tool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4"/>
            <a:srcRect l="18768" t="2318" r="77500" b="94576"/>
            <a:stretch/>
          </p:blipFill>
          <p:spPr>
            <a:xfrm>
              <a:off x="4759200" y="1627200"/>
              <a:ext cx="90972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85800" y="4640400"/>
            <a:ext cx="5791320" cy="947160"/>
            <a:chOff x="685800" y="4640400"/>
            <a:chExt cx="5791320" cy="947160"/>
          </a:xfrm>
        </p:grpSpPr>
        <p:sp>
          <p:nvSpPr>
            <p:cNvPr id="497" name=""/>
            <p:cNvSpPr/>
            <p:nvPr/>
          </p:nvSpPr>
          <p:spPr>
            <a:xfrm>
              <a:off x="685800" y="4640400"/>
              <a:ext cx="3440160" cy="947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lick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DATA ANALY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19720" y="4945320"/>
              <a:ext cx="2057400" cy="38088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005280" y="1143000"/>
            <a:ext cx="5605200" cy="279576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01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66640" y="1523880"/>
            <a:ext cx="6629400" cy="1922760"/>
            <a:chOff x="566640" y="1523880"/>
            <a:chExt cx="6629400" cy="1922760"/>
          </a:xfrm>
        </p:grpSpPr>
        <p:sp>
          <p:nvSpPr>
            <p:cNvPr id="504" name=""/>
            <p:cNvSpPr/>
            <p:nvPr/>
          </p:nvSpPr>
          <p:spPr>
            <a:xfrm>
              <a:off x="566640" y="1523880"/>
              <a:ext cx="2361960" cy="192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99"/>
              </a:solidFill>
              <a:miter/>
            </a:ln>
            <a:effectLst>
              <a:outerShdw dist="137587" dir="742140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Highligh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DESCRIPTIVE STATISTICS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81240" y="1981080"/>
              <a:ext cx="4114800" cy="304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3386160" y="2971800"/>
            <a:ext cx="4876920" cy="294336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719280" y="4648320"/>
            <a:ext cx="4495680" cy="825480"/>
            <a:chOff x="719280" y="4648320"/>
            <a:chExt cx="4495680" cy="825480"/>
          </a:xfrm>
        </p:grpSpPr>
        <p:sp>
          <p:nvSpPr>
            <p:cNvPr id="508" name=""/>
            <p:cNvSpPr/>
            <p:nvPr/>
          </p:nvSpPr>
          <p:spPr>
            <a:xfrm>
              <a:off x="719280" y="4648320"/>
              <a:ext cx="2514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ffcc"/>
              </a:solidFill>
              <a:miter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SUMMARY STATISTIC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62480" y="4876560"/>
              <a:ext cx="1752480" cy="304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87520" y="3174840"/>
            <a:ext cx="6532200" cy="459720"/>
            <a:chOff x="587520" y="3174840"/>
            <a:chExt cx="6532200" cy="459720"/>
          </a:xfrm>
        </p:grpSpPr>
        <p:sp>
          <p:nvSpPr>
            <p:cNvPr id="511" name=""/>
            <p:cNvSpPr/>
            <p:nvPr/>
          </p:nvSpPr>
          <p:spPr>
            <a:xfrm>
              <a:off x="5367240" y="3276360"/>
              <a:ext cx="1752480" cy="3049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7520" y="3174840"/>
              <a:ext cx="2216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ffcc"/>
              </a:solidFill>
              <a:miter/>
            </a:ln>
            <a:effectLst>
              <a:outerShdw dist="136842" dir="67064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INPUT NEE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252120" y="6024600"/>
            <a:ext cx="2654280" cy="520560"/>
          </a:xfrm>
          <a:prstGeom prst="rect">
            <a:avLst/>
          </a:prstGeom>
          <a:solidFill>
            <a:srgbClr val="99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rcRect l="0" t="13481" r="77345" b="52567"/>
          <a:stretch/>
        </p:blipFill>
        <p:spPr>
          <a:xfrm>
            <a:off x="1219320" y="1600200"/>
            <a:ext cx="47448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16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757680" y="1066680"/>
            <a:ext cx="162684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19320" y="2819520"/>
            <a:ext cx="4343400" cy="30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5880" y="6172200"/>
            <a:ext cx="2833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e solu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19320" y="3124080"/>
            <a:ext cx="4343400" cy="381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095880" y="2682720"/>
            <a:ext cx="898200" cy="745920"/>
            <a:chOff x="6095880" y="2682720"/>
            <a:chExt cx="898200" cy="745920"/>
          </a:xfrm>
        </p:grpSpPr>
        <p:sp>
          <p:nvSpPr>
            <p:cNvPr id="523" name=""/>
            <p:cNvSpPr/>
            <p:nvPr/>
          </p:nvSpPr>
          <p:spPr>
            <a:xfrm>
              <a:off x="6095880" y="2710080"/>
              <a:ext cx="839160" cy="71856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5"/>
                  </a:lnTo>
                  <a:lnTo>
                    <a:pt x="192" y="397"/>
                  </a:lnTo>
                  <a:lnTo>
                    <a:pt x="79" y="660"/>
                  </a:lnTo>
                  <a:lnTo>
                    <a:pt x="344" y="499"/>
                  </a:lnTo>
                  <a:lnTo>
                    <a:pt x="567" y="677"/>
                  </a:lnTo>
                  <a:lnTo>
                    <a:pt x="520" y="419"/>
                  </a:lnTo>
                  <a:lnTo>
                    <a:pt x="724" y="254"/>
                  </a:lnTo>
                  <a:lnTo>
                    <a:pt x="449" y="245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ababa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54920" y="2682720"/>
              <a:ext cx="839160" cy="718920"/>
            </a:xfrm>
            <a:custGeom>
              <a:avLst/>
              <a:gdLst/>
              <a:ahLst/>
              <a:rect l="l" t="t" r="r" b="b"/>
              <a:pathLst>
                <a:path w="724" h="677">
                  <a:moveTo>
                    <a:pt x="362" y="0"/>
                  </a:moveTo>
                  <a:lnTo>
                    <a:pt x="259" y="241"/>
                  </a:lnTo>
                  <a:lnTo>
                    <a:pt x="0" y="236"/>
                  </a:lnTo>
                  <a:lnTo>
                    <a:pt x="193" y="399"/>
                  </a:lnTo>
                  <a:lnTo>
                    <a:pt x="78" y="660"/>
                  </a:lnTo>
                  <a:lnTo>
                    <a:pt x="344" y="499"/>
                  </a:lnTo>
                  <a:lnTo>
                    <a:pt x="566" y="677"/>
                  </a:lnTo>
                  <a:lnTo>
                    <a:pt x="519" y="419"/>
                  </a:lnTo>
                  <a:lnTo>
                    <a:pt x="724" y="254"/>
                  </a:lnTo>
                  <a:lnTo>
                    <a:pt x="448" y="246"/>
                  </a:lnTo>
                  <a:lnTo>
                    <a:pt x="362" y="7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ffff14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 rot="19894800">
              <a:off x="6329880" y="2908440"/>
              <a:ext cx="500760" cy="25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28496" dir="9225519" blurRad="0" rotWithShape="0">
                      <a:srgbClr val="b2b2b2">
                        <a:alpha val="50000"/>
                      </a:srgbClr>
                    </a:outerShdw>
                  </a:effectLst>
                  <a:latin typeface="Arial Black"/>
                </a:rPr>
                <a:t>Not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496" dir="9225519" blurRad="0" rotWithShape="0">
                    <a:srgbClr val="b2b2b2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5867280" y="3352680"/>
            <a:ext cx="3124440" cy="2009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eometric mean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n’t show up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statistic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rcRect l="0" t="2028" r="66407" b="61490"/>
          <a:stretch/>
        </p:blipFill>
        <p:spPr>
          <a:xfrm>
            <a:off x="1257480" y="990720"/>
            <a:ext cx="6629400" cy="5400720"/>
          </a:xfrm>
          <a:prstGeom prst="rect">
            <a:avLst/>
          </a:prstGeom>
          <a:ln w="0">
            <a:noFill/>
          </a:ln>
        </p:spPr>
      </p:pic>
      <p:grpSp>
        <p:nvGrpSpPr>
          <p:cNvPr id="528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29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886200" y="2108160"/>
            <a:ext cx="4800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LICK 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E F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3"/>
          <a:srcRect l="27074" t="27632" r="35158" b="34375"/>
          <a:stretch/>
        </p:blipFill>
        <p:spPr>
          <a:xfrm>
            <a:off x="3390840" y="2971800"/>
            <a:ext cx="4305240" cy="32479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545240" y="609588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952960" y="762120"/>
            <a:ext cx="2044080" cy="1218600"/>
            <a:chOff x="5952960" y="762120"/>
            <a:chExt cx="2044080" cy="1218600"/>
          </a:xfrm>
        </p:grpSpPr>
        <p:sp>
          <p:nvSpPr>
            <p:cNvPr id="535" name=""/>
            <p:cNvSpPr/>
            <p:nvPr/>
          </p:nvSpPr>
          <p:spPr>
            <a:xfrm>
              <a:off x="5952960" y="1523880"/>
              <a:ext cx="609840" cy="4568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33240" y="762120"/>
              <a:ext cx="1963800" cy="520560"/>
            </a:xfrm>
            <a:prstGeom prst="rect">
              <a:avLst/>
            </a:prstGeom>
            <a:solidFill>
              <a:srgbClr val="fcfeda"/>
            </a:solidFill>
            <a:ln w="0">
              <a:noFill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LICK 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5868360" y="2666880"/>
            <a:ext cx="87120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39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2"/>
          <a:srcRect l="0" t="0" r="35158" b="34375"/>
          <a:stretch/>
        </p:blipFill>
        <p:spPr>
          <a:xfrm>
            <a:off x="876240" y="990720"/>
            <a:ext cx="7391520" cy="56102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rcRect l="27074" t="27297" r="35158" b="34375"/>
          <a:stretch/>
        </p:blipFill>
        <p:spPr>
          <a:xfrm>
            <a:off x="2895480" y="2494080"/>
            <a:ext cx="5334120" cy="4059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029200" y="1447920"/>
            <a:ext cx="270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CROLL DOWN to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773840" y="617220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95480" y="4114800"/>
            <a:ext cx="11430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7759800" y="6095880"/>
            <a:ext cx="94284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rcRect l="42191" t="42708" r="20315" b="25004"/>
          <a:stretch/>
        </p:blipFill>
        <p:spPr>
          <a:xfrm>
            <a:off x="838080" y="1265400"/>
            <a:ext cx="7467840" cy="4822560"/>
          </a:xfrm>
          <a:prstGeom prst="rect">
            <a:avLst/>
          </a:prstGeom>
          <a:ln w="0">
            <a:noFill/>
          </a:ln>
        </p:spPr>
      </p:pic>
      <p:grpSp>
        <p:nvGrpSpPr>
          <p:cNvPr id="551" name=""/>
          <p:cNvGrpSpPr/>
          <p:nvPr/>
        </p:nvGrpSpPr>
        <p:grpSpPr>
          <a:xfrm>
            <a:off x="4267080" y="1022400"/>
            <a:ext cx="3733920" cy="3016080"/>
            <a:chOff x="4267080" y="1022400"/>
            <a:chExt cx="3733920" cy="3016080"/>
          </a:xfrm>
        </p:grpSpPr>
        <p:sp>
          <p:nvSpPr>
            <p:cNvPr id="552" name=""/>
            <p:cNvSpPr/>
            <p:nvPr/>
          </p:nvSpPr>
          <p:spPr>
            <a:xfrm>
              <a:off x="4495680" y="1022400"/>
              <a:ext cx="335304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HIGHLIGHT MEDIAN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                              IN RIGHT MEN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67080" y="3657600"/>
              <a:ext cx="3733920" cy="3808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10560" y="1905120"/>
            <a:ext cx="87120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0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/>
          <a:srcRect l="27343" t="28124" r="35158" b="41670"/>
          <a:stretch/>
        </p:blipFill>
        <p:spPr>
          <a:xfrm>
            <a:off x="1600200" y="1447920"/>
            <a:ext cx="66294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556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57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762840" y="1905120"/>
            <a:ext cx="87120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58720" y="5997600"/>
            <a:ext cx="1198800" cy="58140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572000" y="1219320"/>
            <a:ext cx="3352680" cy="3733560"/>
            <a:chOff x="4572000" y="1219320"/>
            <a:chExt cx="3352680" cy="3733560"/>
          </a:xfrm>
        </p:grpSpPr>
        <p:sp>
          <p:nvSpPr>
            <p:cNvPr id="562" name=""/>
            <p:cNvSpPr/>
            <p:nvPr/>
          </p:nvSpPr>
          <p:spPr>
            <a:xfrm>
              <a:off x="4724280" y="1219320"/>
              <a:ext cx="3200400" cy="192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HIGHLIGHT   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OMETRIC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AN                               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IN RIGHT MEN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72000" y="4495680"/>
              <a:ext cx="3352680" cy="457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Bar dir="vert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rcRect l="27343" t="28124" r="35158" b="39583"/>
          <a:stretch/>
        </p:blipFill>
        <p:spPr>
          <a:xfrm>
            <a:off x="1066680" y="1143000"/>
            <a:ext cx="7086600" cy="504972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66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762840" y="1905120"/>
            <a:ext cx="871200" cy="581400"/>
          </a:xfrm>
          <a:prstGeom prst="rect">
            <a:avLst/>
          </a:prstGeom>
          <a:solidFill>
            <a:srgbClr val="fcfeda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59440" y="6095880"/>
            <a:ext cx="925920" cy="459720"/>
          </a:xfrm>
          <a:prstGeom prst="rect">
            <a:avLst/>
          </a:prstGeom>
          <a:gradFill rotWithShape="0">
            <a:gsLst>
              <a:gs pos="0">
                <a:srgbClr val="6b6b6b"/>
              </a:gs>
              <a:gs pos="50000">
                <a:srgbClr val="ffffff"/>
              </a:gs>
              <a:gs pos="100000">
                <a:srgbClr val="6b6b6b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267080" y="1066680"/>
            <a:ext cx="3581640" cy="3733920"/>
            <a:chOff x="4267080" y="1066680"/>
            <a:chExt cx="3581640" cy="3733920"/>
          </a:xfrm>
        </p:grpSpPr>
        <p:sp>
          <p:nvSpPr>
            <p:cNvPr id="571" name=""/>
            <p:cNvSpPr/>
            <p:nvPr/>
          </p:nvSpPr>
          <p:spPr>
            <a:xfrm>
              <a:off x="4648320" y="1066680"/>
              <a:ext cx="281916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HIGHLIGHT MODE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                     IN RIGHT MEN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67080" y="4419720"/>
              <a:ext cx="3581640" cy="3808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horz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 rot="5400000">
            <a:off x="-1676520" y="3657600"/>
            <a:ext cx="4572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52280"/>
            <a:ext cx="392436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rithmetic M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58128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values are us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24160" y="4343400"/>
            <a:ext cx="55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u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67280" y="5105520"/>
            <a:ext cx="7428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um of the devi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rom the mean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is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5280" y="1895400"/>
            <a:ext cx="452520" cy="434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57520" y="2917800"/>
            <a:ext cx="452160" cy="434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747880" y="3581280"/>
            <a:ext cx="452520" cy="435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138400" y="4343400"/>
            <a:ext cx="452520" cy="434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297080" y="5105520"/>
            <a:ext cx="452520" cy="4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3880" y="1873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is calculated by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umming the 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ividing by the number of 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88756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requires the </a:t>
            </a: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interval sca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38080" y="5791320"/>
            <a:ext cx="7391520" cy="74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0000" y="965160"/>
            <a:ext cx="816804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most widely used measure of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52280" y="4952880"/>
            <a:ext cx="7772400" cy="947160"/>
          </a:xfrm>
          <a:prstGeom prst="rect">
            <a:avLst/>
          </a:prstGeom>
          <a:solidFill>
            <a:srgbClr val="fcfe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alculated 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placed  in the cell on the worksheet whe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our cursor was when you be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75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7" name="" descr=""/>
          <p:cNvPicPr/>
          <p:nvPr/>
        </p:nvPicPr>
        <p:blipFill>
          <a:blip r:embed="rId2"/>
          <a:srcRect l="2529" t="3125" r="67190" b="71881"/>
          <a:stretch/>
        </p:blipFill>
        <p:spPr>
          <a:xfrm>
            <a:off x="990720" y="990720"/>
            <a:ext cx="7162560" cy="3809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3962520" y="3581280"/>
            <a:ext cx="3886200" cy="304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2520" y="3886200"/>
            <a:ext cx="3886200" cy="380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62520" y="4267080"/>
            <a:ext cx="3886200" cy="3812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6934320" y="5715000"/>
            <a:ext cx="2057400" cy="990720"/>
            <a:chOff x="6934320" y="5715000"/>
            <a:chExt cx="2057400" cy="990720"/>
          </a:xfrm>
        </p:grpSpPr>
        <p:pic>
          <p:nvPicPr>
            <p:cNvPr id="582" name="" descr=""/>
            <p:cNvPicPr/>
            <p:nvPr/>
          </p:nvPicPr>
          <p:blipFill>
            <a:blip r:embed="rId3"/>
            <a:srcRect l="4929" t="0" r="-7157" b="148"/>
            <a:stretch/>
          </p:blipFill>
          <p:spPr>
            <a:xfrm>
              <a:off x="7925040" y="5715000"/>
              <a:ext cx="1066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6934320" y="594504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e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480" y="1076400"/>
            <a:ext cx="7162920" cy="578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5" name=""/>
          <p:cNvGraphicFramePr/>
          <p:nvPr/>
        </p:nvGraphicFramePr>
        <p:xfrm>
          <a:off x="380880" y="985680"/>
          <a:ext cx="7391520" cy="5599440"/>
        </p:xfrm>
        <a:graphic>
          <a:graphicData uri="http://schemas.openxmlformats.org/drawingml/2006/table">
            <a:tbl>
              <a:tblPr/>
              <a:tblGrid>
                <a:gridCol w="3221280"/>
                <a:gridCol w="4170240"/>
              </a:tblGrid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 Visi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nditur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Cdn mill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tral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minican Re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 K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x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her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itzer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King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ed 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1371600" y="162000"/>
            <a:ext cx="6400800" cy="67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table shows the expenditures of Canadians in 15 countries they visited in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6858000" y="5916600"/>
            <a:ext cx="2133720" cy="789120"/>
            <a:chOff x="6858000" y="5916600"/>
            <a:chExt cx="2133720" cy="789120"/>
          </a:xfrm>
        </p:grpSpPr>
        <p:sp>
          <p:nvSpPr>
            <p:cNvPr id="588" name=""/>
            <p:cNvSpPr/>
            <p:nvPr/>
          </p:nvSpPr>
          <p:spPr>
            <a:xfrm>
              <a:off x="6858000" y="6324480"/>
              <a:ext cx="2133720" cy="0"/>
            </a:xfrm>
            <a:prstGeom prst="line">
              <a:avLst/>
            </a:prstGeom>
            <a:ln w="5724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9" name="" descr=""/>
            <p:cNvPicPr/>
            <p:nvPr/>
          </p:nvPicPr>
          <p:blipFill>
            <a:blip r:embed="rId2"/>
            <a:srcRect l="4929" t="0" r="7427" b="5786"/>
            <a:stretch/>
          </p:blipFill>
          <p:spPr>
            <a:xfrm>
              <a:off x="7785000" y="5916600"/>
              <a:ext cx="825480" cy="7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0" name=""/>
          <p:cNvGrpSpPr/>
          <p:nvPr/>
        </p:nvGrpSpPr>
        <p:grpSpPr>
          <a:xfrm>
            <a:off x="6400800" y="1752480"/>
            <a:ext cx="2590920" cy="3766680"/>
            <a:chOff x="6400800" y="1752480"/>
            <a:chExt cx="2590920" cy="3766680"/>
          </a:xfrm>
        </p:grpSpPr>
        <p:sp>
          <p:nvSpPr>
            <p:cNvPr id="591" name=""/>
            <p:cNvSpPr/>
            <p:nvPr/>
          </p:nvSpPr>
          <p:spPr>
            <a:xfrm>
              <a:off x="6400800" y="1752480"/>
              <a:ext cx="2590920" cy="37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Source:           Statistics Canada, Tourism                        and the               Centre for Education Statist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10640" y="1981080"/>
              <a:ext cx="1295280" cy="762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rcRect l="4929" t="0" r="-2768" b="5786"/>
          <a:stretch/>
        </p:blipFill>
        <p:spPr>
          <a:xfrm>
            <a:off x="3892680" y="152280"/>
            <a:ext cx="1517400" cy="12985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523880" y="1600200"/>
            <a:ext cx="601992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mean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medi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xpenditure a </a:t>
            </a:r>
            <a:r>
              <a:rPr b="1" i="1" lang="en-US" sz="2800" spc="-1" strike="noStrike">
                <a:solidFill>
                  <a:srgbClr val="cc3399"/>
                </a:solidFill>
                <a:latin typeface="Times New Roman"/>
              </a:rPr>
              <a:t>more accurate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flection of the “average” Canadian out-of-country expendi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0880" y="3838680"/>
            <a:ext cx="8763120" cy="202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happens to the values of the </a:t>
            </a:r>
            <a:r>
              <a:rPr b="1" i="1" lang="en-US" sz="2800" spc="-1" strike="noStrike">
                <a:solidFill>
                  <a:srgbClr val="cc3399"/>
                </a:solidFill>
                <a:latin typeface="Times New Roman"/>
              </a:rPr>
              <a:t>me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3399"/>
                </a:solidFill>
                <a:latin typeface="Times New Roman"/>
              </a:rPr>
              <a:t>medi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hen you remove the United States expenditures              from the sam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remove both the UK and US from the sam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54280" y="610236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rcRect l="3127" t="13348" r="71095" b="53128"/>
          <a:stretch/>
        </p:blipFill>
        <p:spPr>
          <a:xfrm>
            <a:off x="876240" y="990720"/>
            <a:ext cx="7391520" cy="5410080"/>
          </a:xfrm>
          <a:prstGeom prst="rect">
            <a:avLst/>
          </a:prstGeom>
          <a:ln w="0">
            <a:noFill/>
          </a:ln>
        </p:spPr>
      </p:pic>
      <p:grpSp>
        <p:nvGrpSpPr>
          <p:cNvPr id="598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599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66640" y="1420920"/>
            <a:ext cx="719280" cy="712800"/>
            <a:chOff x="566640" y="1420920"/>
            <a:chExt cx="719280" cy="712800"/>
          </a:xfrm>
        </p:grpSpPr>
        <p:grpSp>
          <p:nvGrpSpPr>
            <p:cNvPr id="602" name=""/>
            <p:cNvGrpSpPr/>
            <p:nvPr/>
          </p:nvGrpSpPr>
          <p:grpSpPr>
            <a:xfrm>
              <a:off x="566640" y="1420920"/>
              <a:ext cx="719280" cy="712800"/>
              <a:chOff x="566640" y="1420920"/>
              <a:chExt cx="719280" cy="712800"/>
            </a:xfrm>
          </p:grpSpPr>
          <p:sp>
            <p:nvSpPr>
              <p:cNvPr id="603" name=""/>
              <p:cNvSpPr/>
              <p:nvPr/>
            </p:nvSpPr>
            <p:spPr>
              <a:xfrm>
                <a:off x="566640" y="144792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52680" y="142092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 txBox="1"/>
            <p:nvPr/>
          </p:nvSpPr>
          <p:spPr>
            <a:xfrm>
              <a:off x="719280" y="156240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419040" y="4648320"/>
            <a:ext cx="8305920" cy="916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 mean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strongly affected by the inclusion of these two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UT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920" y="5638680"/>
            <a:ext cx="853416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medi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more appropriate measu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f “average” in this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990720"/>
            <a:ext cx="4038480" cy="380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3429000"/>
            <a:ext cx="4038480" cy="8380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 rot="5400000">
            <a:off x="7186320" y="2185920"/>
            <a:ext cx="2514600" cy="4287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4114800" y="2057400"/>
            <a:ext cx="4038480" cy="7621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27320" y="228600"/>
            <a:ext cx="4935600" cy="14479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ean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up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31760" y="2362320"/>
            <a:ext cx="7232760" cy="1611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cc"/>
              </a:gs>
            </a:gsLst>
            <a:lin ang="5400000"/>
          </a:gradFill>
          <a:ln w="0">
            <a:noFill/>
          </a:ln>
          <a:effectLst>
            <a:outerShdw dist="176340" dir="721690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ean of a sample of data organized in a frequency distribution is computed by the following formu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5943600"/>
            <a:ext cx="7391520" cy="76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201840" y="4248000"/>
            <a:ext cx="2894040" cy="1535760"/>
            <a:chOff x="3201840" y="4248000"/>
            <a:chExt cx="2894040" cy="1535760"/>
          </a:xfrm>
        </p:grpSpPr>
        <p:sp>
          <p:nvSpPr>
            <p:cNvPr id="617" name=""/>
            <p:cNvSpPr/>
            <p:nvPr/>
          </p:nvSpPr>
          <p:spPr>
            <a:xfrm>
              <a:off x="4645080" y="4979880"/>
              <a:ext cx="145080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3201840" y="4248000"/>
              <a:ext cx="2687400" cy="1535760"/>
              <a:chOff x="3201840" y="4248000"/>
              <a:chExt cx="2687400" cy="1535760"/>
            </a:xfrm>
          </p:grpSpPr>
          <p:sp>
            <p:nvSpPr>
              <p:cNvPr id="619" name=""/>
              <p:cNvSpPr/>
              <p:nvPr/>
            </p:nvSpPr>
            <p:spPr>
              <a:xfrm>
                <a:off x="5105520" y="5067360"/>
                <a:ext cx="43200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7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390280" y="4248000"/>
                <a:ext cx="49896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700" spc="-1" strike="noStrike">
                    <a:solidFill>
                      <a:srgbClr val="000000"/>
                    </a:solidFill>
                    <a:latin typeface="Times New Roman"/>
                  </a:rPr>
                  <a:t>fx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800600" y="4267080"/>
                <a:ext cx="35424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159440" y="4529160"/>
                <a:ext cx="47628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3" name=""/>
              <p:cNvGraphicFramePr/>
              <p:nvPr/>
            </p:nvGraphicFramePr>
            <p:xfrm>
              <a:off x="3201840" y="4419720"/>
              <a:ext cx="760680" cy="9903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24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201840" y="4419720"/>
                        <a:ext cx="760680" cy="99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>
    <p:wipe dir="d"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0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735120" y="2743200"/>
            <a:ext cx="7723080" cy="2362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99ff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  <a:effectLst>
            <a:outerShdw dist="188838" dir="793774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ample of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ie theatres in a metropolitan area tallied the total number of movies showing last week.                                         Compute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movies showing per theatre.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27320" y="228600"/>
            <a:ext cx="4935600" cy="14479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Mean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up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68800" y="1981080"/>
            <a:ext cx="2604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vert"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2583000" y="1447920"/>
            <a:ext cx="4815000" cy="520560"/>
            <a:chOff x="2583000" y="1447920"/>
            <a:chExt cx="4815000" cy="520560"/>
          </a:xfrm>
        </p:grpSpPr>
        <p:sp>
          <p:nvSpPr>
            <p:cNvPr id="629" name=""/>
            <p:cNvSpPr txBox="1"/>
            <p:nvPr/>
          </p:nvSpPr>
          <p:spPr>
            <a:xfrm>
              <a:off x="2583000" y="1447920"/>
              <a:ext cx="26049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60320" y="1447920"/>
              <a:ext cx="21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6858000" y="6059520"/>
            <a:ext cx="198108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0" y="6059520"/>
            <a:ext cx="228600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6059520"/>
            <a:ext cx="2057400" cy="581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4920" y="6059520"/>
            <a:ext cx="2209680" cy="58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58000" y="5479920"/>
            <a:ext cx="1981080" cy="579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5479920"/>
            <a:ext cx="2286000" cy="579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14600" y="5479920"/>
            <a:ext cx="2057400" cy="579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4920" y="5479920"/>
            <a:ext cx="2209680" cy="579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to under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0" y="4898880"/>
            <a:ext cx="198108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0" y="4898880"/>
            <a:ext cx="228600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4600" y="4898880"/>
            <a:ext cx="2057400" cy="581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4920" y="4898880"/>
            <a:ext cx="2209680" cy="58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to under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0" y="4317840"/>
            <a:ext cx="198108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4317840"/>
            <a:ext cx="228600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14600" y="4317840"/>
            <a:ext cx="2057400" cy="581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4317840"/>
            <a:ext cx="2209680" cy="58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to und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0" y="3586320"/>
            <a:ext cx="1981080" cy="731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3586320"/>
            <a:ext cx="2286000" cy="7315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4600" y="3586320"/>
            <a:ext cx="2057400" cy="731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4920" y="3586320"/>
            <a:ext cx="2209680" cy="731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to und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58000" y="3006720"/>
            <a:ext cx="1981080" cy="579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72000" y="3006720"/>
            <a:ext cx="2286000" cy="579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514600" y="3006720"/>
            <a:ext cx="2057400" cy="579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4920" y="3006720"/>
            <a:ext cx="2209680" cy="579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efefe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to und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0" y="1905120"/>
            <a:ext cx="1981080" cy="110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1905120"/>
            <a:ext cx="2286000" cy="1101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 Mid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514600" y="1905120"/>
            <a:ext cx="2057400" cy="1101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04920" y="1905120"/>
            <a:ext cx="2209680" cy="110160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ies Sh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4920" y="190512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4920" y="30067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4920" y="35863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04920" y="431784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920" y="48988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920" y="54799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920" y="605952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920" y="6640560"/>
            <a:ext cx="85341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04920" y="1905120"/>
            <a:ext cx="0" cy="4735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14600" y="19051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19051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858000" y="1905120"/>
            <a:ext cx="0" cy="47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839080" y="1905120"/>
            <a:ext cx="0" cy="4735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523880" y="90360"/>
            <a:ext cx="6705720" cy="1204560"/>
            <a:chOff x="1523880" y="90360"/>
            <a:chExt cx="6705720" cy="1204560"/>
          </a:xfrm>
        </p:grpSpPr>
        <p:sp>
          <p:nvSpPr>
            <p:cNvPr id="673" name=""/>
            <p:cNvSpPr/>
            <p:nvPr/>
          </p:nvSpPr>
          <p:spPr>
            <a:xfrm>
              <a:off x="1523880" y="152280"/>
              <a:ext cx="6705720" cy="106704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  <a:effectLst>
              <a:outerShdw dist="179718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The Mean              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Grouped Data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6054840" y="90360"/>
              <a:ext cx="2098440" cy="1204560"/>
              <a:chOff x="6054840" y="90360"/>
              <a:chExt cx="2098440" cy="1204560"/>
            </a:xfrm>
          </p:grpSpPr>
          <p:sp>
            <p:nvSpPr>
              <p:cNvPr id="675" name=""/>
              <p:cNvSpPr/>
              <p:nvPr/>
            </p:nvSpPr>
            <p:spPr>
              <a:xfrm>
                <a:off x="6848640" y="698400"/>
                <a:ext cx="130464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314480" y="700200"/>
                <a:ext cx="35892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492680" y="90360"/>
                <a:ext cx="4136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fx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10280" y="101520"/>
                <a:ext cx="3236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402600" y="304920"/>
                <a:ext cx="47628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80" name=""/>
              <p:cNvGraphicFramePr/>
              <p:nvPr/>
            </p:nvGraphicFramePr>
            <p:xfrm>
              <a:off x="6054840" y="339840"/>
              <a:ext cx="522000" cy="588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54840" y="339840"/>
                        <a:ext cx="522000" cy="58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>
    <p:dissolve/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6095880" y="5394240"/>
            <a:ext cx="1419480" cy="5490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9184" dir="752830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 6.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4572000" y="5181480"/>
            <a:ext cx="1193760" cy="1066320"/>
            <a:chOff x="4572000" y="5181480"/>
            <a:chExt cx="1193760" cy="1066320"/>
          </a:xfrm>
        </p:grpSpPr>
        <p:sp>
          <p:nvSpPr>
            <p:cNvPr id="684" name=""/>
            <p:cNvSpPr/>
            <p:nvPr/>
          </p:nvSpPr>
          <p:spPr>
            <a:xfrm>
              <a:off x="5029200" y="5714640"/>
              <a:ext cx="736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1240" y="569880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99480" y="5181480"/>
              <a:ext cx="457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72000" y="5333760"/>
              <a:ext cx="366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247760" y="4043520"/>
            <a:ext cx="719280" cy="712800"/>
            <a:chOff x="1247760" y="4043520"/>
            <a:chExt cx="719280" cy="712800"/>
          </a:xfrm>
        </p:grpSpPr>
        <p:grpSp>
          <p:nvGrpSpPr>
            <p:cNvPr id="689" name=""/>
            <p:cNvGrpSpPr/>
            <p:nvPr/>
          </p:nvGrpSpPr>
          <p:grpSpPr>
            <a:xfrm>
              <a:off x="1247760" y="4043520"/>
              <a:ext cx="719280" cy="712800"/>
              <a:chOff x="1247760" y="4043520"/>
              <a:chExt cx="719280" cy="712800"/>
            </a:xfrm>
          </p:grpSpPr>
          <p:sp>
            <p:nvSpPr>
              <p:cNvPr id="690" name=""/>
              <p:cNvSpPr/>
              <p:nvPr/>
            </p:nvSpPr>
            <p:spPr>
              <a:xfrm>
                <a:off x="1247760" y="407052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333800" y="404352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"/>
            <p:cNvSpPr txBox="1"/>
            <p:nvPr/>
          </p:nvSpPr>
          <p:spPr>
            <a:xfrm>
              <a:off x="1400400" y="418500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2583000" y="1447920"/>
            <a:ext cx="4815000" cy="520560"/>
            <a:chOff x="2583000" y="1447920"/>
            <a:chExt cx="4815000" cy="520560"/>
          </a:xfrm>
        </p:grpSpPr>
        <p:sp>
          <p:nvSpPr>
            <p:cNvPr id="694" name=""/>
            <p:cNvSpPr txBox="1"/>
            <p:nvPr/>
          </p:nvSpPr>
          <p:spPr>
            <a:xfrm>
              <a:off x="2583000" y="1447920"/>
              <a:ext cx="26049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53753" dir="2700000" blurRad="0" rotWithShape="0">
                      <a:srgbClr val="868686">
                        <a:alpha val="50000"/>
                      </a:srgbClr>
                    </a:outerShdw>
                  </a:effectLst>
                  <a:latin typeface="Times New Roman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60320" y="1447920"/>
              <a:ext cx="21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tinued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219320" y="6324480"/>
            <a:ext cx="6705360" cy="381240"/>
            <a:chOff x="1219320" y="6324480"/>
            <a:chExt cx="6705360" cy="381240"/>
          </a:xfrm>
        </p:grpSpPr>
        <p:sp>
          <p:nvSpPr>
            <p:cNvPr id="697" name=""/>
            <p:cNvSpPr/>
            <p:nvPr/>
          </p:nvSpPr>
          <p:spPr>
            <a:xfrm>
              <a:off x="1219320" y="6477120"/>
              <a:ext cx="6705360" cy="759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19720" y="6324480"/>
              <a:ext cx="304560" cy="38124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04920" y="1905120"/>
            <a:ext cx="8534160" cy="1724040"/>
            <a:chOff x="304920" y="1905120"/>
            <a:chExt cx="8534160" cy="1724040"/>
          </a:xfrm>
        </p:grpSpPr>
        <p:grpSp>
          <p:nvGrpSpPr>
            <p:cNvPr id="700" name=""/>
            <p:cNvGrpSpPr/>
            <p:nvPr/>
          </p:nvGrpSpPr>
          <p:grpSpPr>
            <a:xfrm>
              <a:off x="304920" y="1905120"/>
              <a:ext cx="8534160" cy="1101600"/>
              <a:chOff x="304920" y="1905120"/>
              <a:chExt cx="8534160" cy="1101600"/>
            </a:xfrm>
          </p:grpSpPr>
          <p:sp>
            <p:nvSpPr>
              <p:cNvPr id="701" name=""/>
              <p:cNvSpPr/>
              <p:nvPr/>
            </p:nvSpPr>
            <p:spPr>
              <a:xfrm>
                <a:off x="6858000" y="1905120"/>
                <a:ext cx="1980720" cy="110160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efefe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572000" y="1905120"/>
                <a:ext cx="2285640" cy="1101600"/>
              </a:xfrm>
              <a:prstGeom prst="rect">
                <a:avLst/>
              </a:prstGeom>
              <a:gradFill rotWithShape="0">
                <a:gsLst>
                  <a:gs pos="0">
                    <a:srgbClr val="ffccff"/>
                  </a:gs>
                  <a:gs pos="5000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ass Midpoi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14600" y="1905120"/>
                <a:ext cx="2057040" cy="110160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requenc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04920" y="1905120"/>
                <a:ext cx="2209680" cy="1101600"/>
              </a:xfrm>
              <a:prstGeom prst="rect">
                <a:avLst/>
              </a:prstGeom>
              <a:gradFill rotWithShape="0">
                <a:gsLst>
                  <a:gs pos="0">
                    <a:srgbClr val="46755e"/>
                  </a:gs>
                  <a:gs pos="50000">
                    <a:srgbClr val="99ffcc"/>
                  </a:gs>
                  <a:gs pos="100000">
                    <a:srgbClr val="46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ovies Show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04920" y="1905120"/>
                <a:ext cx="8534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04920" y="300672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304920" y="3048120"/>
              <a:ext cx="8534160" cy="581040"/>
              <a:chOff x="304920" y="3048120"/>
              <a:chExt cx="8534160" cy="581040"/>
            </a:xfrm>
          </p:grpSpPr>
          <p:sp>
            <p:nvSpPr>
              <p:cNvPr id="708" name=""/>
              <p:cNvSpPr/>
              <p:nvPr/>
            </p:nvSpPr>
            <p:spPr>
              <a:xfrm>
                <a:off x="6858000" y="3048120"/>
                <a:ext cx="1981080" cy="58104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efefe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6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572000" y="3048120"/>
                <a:ext cx="2286000" cy="581040"/>
              </a:xfrm>
              <a:prstGeom prst="rect">
                <a:avLst/>
              </a:prstGeom>
              <a:gradFill rotWithShape="0">
                <a:gsLst>
                  <a:gs pos="0">
                    <a:srgbClr val="ffccff"/>
                  </a:gs>
                  <a:gs pos="50000">
                    <a:srgbClr val="fefefe"/>
                  </a:gs>
                  <a:gs pos="100000">
                    <a:srgbClr val="ff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514600" y="3048120"/>
                <a:ext cx="2057400" cy="5810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04920" y="3048120"/>
                <a:ext cx="2209680" cy="5810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fefefe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Tot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4920" y="304812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4920" y="3629160"/>
                <a:ext cx="8534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2695680" y="3657600"/>
            <a:ext cx="4010040" cy="1219320"/>
            <a:chOff x="2695680" y="3657600"/>
            <a:chExt cx="4010040" cy="1219320"/>
          </a:xfrm>
        </p:grpSpPr>
        <p:sp>
          <p:nvSpPr>
            <p:cNvPr id="715" name=""/>
            <p:cNvSpPr/>
            <p:nvPr/>
          </p:nvSpPr>
          <p:spPr>
            <a:xfrm>
              <a:off x="4114800" y="3657600"/>
              <a:ext cx="2590920" cy="121932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95680" y="3886200"/>
              <a:ext cx="137160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4114800" y="3701880"/>
              <a:ext cx="2150640" cy="1099440"/>
              <a:chOff x="4114800" y="3701880"/>
              <a:chExt cx="2150640" cy="1099440"/>
            </a:xfrm>
          </p:grpSpPr>
          <p:sp>
            <p:nvSpPr>
              <p:cNvPr id="718" name=""/>
              <p:cNvSpPr/>
              <p:nvPr/>
            </p:nvSpPr>
            <p:spPr>
              <a:xfrm>
                <a:off x="4960800" y="4309920"/>
                <a:ext cx="130464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623920" y="4206600"/>
                <a:ext cx="27648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639760" y="3701880"/>
                <a:ext cx="49608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Xf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71840" y="3713040"/>
                <a:ext cx="3236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554360" y="3885840"/>
                <a:ext cx="47628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23" name=""/>
                  <p:cNvSpPr txBox="1"/>
                  <p:nvPr/>
                </p:nvSpPr>
                <p:spPr>
                  <a:xfrm>
                    <a:off x="4114800" y="3951000"/>
                    <a:ext cx="626760" cy="588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724" name=""/>
          <p:cNvGrpSpPr/>
          <p:nvPr/>
        </p:nvGrpSpPr>
        <p:grpSpPr>
          <a:xfrm>
            <a:off x="1523880" y="90360"/>
            <a:ext cx="6705720" cy="1204560"/>
            <a:chOff x="1523880" y="90360"/>
            <a:chExt cx="6705720" cy="1204560"/>
          </a:xfrm>
        </p:grpSpPr>
        <p:sp>
          <p:nvSpPr>
            <p:cNvPr id="725" name=""/>
            <p:cNvSpPr/>
            <p:nvPr/>
          </p:nvSpPr>
          <p:spPr>
            <a:xfrm>
              <a:off x="1523880" y="152280"/>
              <a:ext cx="6705720" cy="1067040"/>
            </a:xfrm>
            <a:prstGeom prst="rect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  <a:effectLst>
              <a:outerShdw dist="179718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The Mean              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Grouped Data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"/>
            <p:cNvGrpSpPr/>
            <p:nvPr/>
          </p:nvGrpSpPr>
          <p:grpSpPr>
            <a:xfrm>
              <a:off x="6054840" y="90360"/>
              <a:ext cx="2098440" cy="1204560"/>
              <a:chOff x="6054840" y="90360"/>
              <a:chExt cx="2098440" cy="1204560"/>
            </a:xfrm>
          </p:grpSpPr>
          <p:sp>
            <p:nvSpPr>
              <p:cNvPr id="727" name=""/>
              <p:cNvSpPr/>
              <p:nvPr/>
            </p:nvSpPr>
            <p:spPr>
              <a:xfrm>
                <a:off x="6848640" y="698400"/>
                <a:ext cx="130464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314480" y="700200"/>
                <a:ext cx="35892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492680" y="90360"/>
                <a:ext cx="4136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fx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10280" y="101520"/>
                <a:ext cx="3236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402600" y="304920"/>
                <a:ext cx="47628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32" name=""/>
              <p:cNvGraphicFramePr/>
              <p:nvPr/>
            </p:nvGraphicFramePr>
            <p:xfrm>
              <a:off x="6054840" y="339840"/>
              <a:ext cx="522000" cy="588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054840" y="339840"/>
                        <a:ext cx="522000" cy="58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>
    <p:pull dir="rd"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76320" y="144792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Example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0" y="6135840"/>
            <a:ext cx="198108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72000" y="6135840"/>
            <a:ext cx="228600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58000" y="5556240"/>
            <a:ext cx="1981080" cy="579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5556240"/>
            <a:ext cx="2286000" cy="5796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2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0" y="4975200"/>
            <a:ext cx="198108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7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75200"/>
            <a:ext cx="228600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0" y="4394160"/>
            <a:ext cx="1981080" cy="581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4394160"/>
            <a:ext cx="2286000" cy="5810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0" y="3662280"/>
            <a:ext cx="1981080" cy="731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72000" y="3662280"/>
            <a:ext cx="2286000" cy="731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858000" y="3083040"/>
            <a:ext cx="1981080" cy="579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2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3083040"/>
            <a:ext cx="2286000" cy="5792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efefe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04920" y="1981080"/>
            <a:ext cx="8534160" cy="4735440"/>
            <a:chOff x="304920" y="1981080"/>
            <a:chExt cx="8534160" cy="4735440"/>
          </a:xfrm>
        </p:grpSpPr>
        <p:sp>
          <p:nvSpPr>
            <p:cNvPr id="748" name=""/>
            <p:cNvSpPr/>
            <p:nvPr/>
          </p:nvSpPr>
          <p:spPr>
            <a:xfrm>
              <a:off x="2514600" y="6135480"/>
              <a:ext cx="2057040" cy="58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920" y="6135480"/>
              <a:ext cx="2209680" cy="581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Tot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304920" y="1981080"/>
              <a:ext cx="8534160" cy="4735440"/>
              <a:chOff x="304920" y="1981080"/>
              <a:chExt cx="8534160" cy="4735440"/>
            </a:xfrm>
          </p:grpSpPr>
          <p:sp>
            <p:nvSpPr>
              <p:cNvPr id="751" name=""/>
              <p:cNvSpPr/>
              <p:nvPr/>
            </p:nvSpPr>
            <p:spPr>
              <a:xfrm>
                <a:off x="2514600" y="5556240"/>
                <a:ext cx="2057040" cy="5792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04920" y="5556240"/>
                <a:ext cx="2209680" cy="5792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fefefe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0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unde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3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514600" y="4975200"/>
                <a:ext cx="2057040" cy="5810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4975200"/>
                <a:ext cx="2209680" cy="5810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fefefe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5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unde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3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514600" y="4394160"/>
                <a:ext cx="2057040" cy="5810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04920" y="4394160"/>
                <a:ext cx="2209680" cy="58104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fefefe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0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o under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2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514600" y="3662280"/>
                <a:ext cx="2057040" cy="7318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04920" y="3668760"/>
                <a:ext cx="2209680" cy="73188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fefefe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to under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14600" y="3082680"/>
                <a:ext cx="2057040" cy="57960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4920" y="3082680"/>
                <a:ext cx="2209680" cy="579600"/>
              </a:xfrm>
              <a:prstGeom prst="rect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fefefe"/>
                  </a:gs>
                  <a:gs pos="100000">
                    <a:srgbClr val="00cc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to under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858000" y="1981080"/>
                <a:ext cx="1980720" cy="1101600"/>
              </a:xfrm>
              <a:prstGeom prst="rect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efefe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(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572000" y="1981080"/>
                <a:ext cx="2285640" cy="1101600"/>
              </a:xfrm>
              <a:prstGeom prst="rect">
                <a:avLst/>
              </a:prstGeom>
              <a:gradFill rotWithShape="0">
                <a:gsLst>
                  <a:gs pos="0">
                    <a:srgbClr val="ffccff"/>
                  </a:gs>
                  <a:gs pos="50000">
                    <a:srgbClr val="fefefe"/>
                  </a:gs>
                  <a:gs pos="100000">
                    <a:srgbClr val="ff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lass Midpoi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514600" y="1981080"/>
                <a:ext cx="2057040" cy="110160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requenc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1981080"/>
                <a:ext cx="2209680" cy="1101600"/>
              </a:xfrm>
              <a:prstGeom prst="rect">
                <a:avLst/>
              </a:prstGeom>
              <a:gradFill rotWithShape="0">
                <a:gsLst>
                  <a:gs pos="0">
                    <a:srgbClr val="46755e"/>
                  </a:gs>
                  <a:gs pos="50000">
                    <a:srgbClr val="99ffcc"/>
                  </a:gs>
                  <a:gs pos="100000">
                    <a:srgbClr val="46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Hours Study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04920" y="1981080"/>
                <a:ext cx="8534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04920" y="308268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04920" y="366228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04920" y="439416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497520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04920" y="555624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04920" y="6135480"/>
                <a:ext cx="85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04920" y="6716520"/>
                <a:ext cx="85341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04920" y="1981080"/>
                <a:ext cx="0" cy="4735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514600" y="1981080"/>
                <a:ext cx="0" cy="47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572000" y="1981080"/>
                <a:ext cx="0" cy="47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858000" y="1981080"/>
                <a:ext cx="0" cy="473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839080" y="1981080"/>
                <a:ext cx="0" cy="47354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8" name=""/>
          <p:cNvSpPr/>
          <p:nvPr/>
        </p:nvSpPr>
        <p:spPr>
          <a:xfrm>
            <a:off x="2438280" y="1371600"/>
            <a:ext cx="6705720" cy="5205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 the average student study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1523880" y="90360"/>
            <a:ext cx="6705720" cy="1204560"/>
            <a:chOff x="1523880" y="90360"/>
            <a:chExt cx="6705720" cy="1204560"/>
          </a:xfrm>
        </p:grpSpPr>
        <p:sp>
          <p:nvSpPr>
            <p:cNvPr id="780" name=""/>
            <p:cNvSpPr/>
            <p:nvPr/>
          </p:nvSpPr>
          <p:spPr>
            <a:xfrm>
              <a:off x="1523880" y="152280"/>
              <a:ext cx="6705720" cy="1067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  <a:effectLst>
              <a:outerShdw dist="179718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The Mean                                             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of </a:t>
              </a: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Grouped Data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6054840" y="90360"/>
              <a:ext cx="2098440" cy="1204560"/>
              <a:chOff x="6054840" y="90360"/>
              <a:chExt cx="2098440" cy="1204560"/>
            </a:xfrm>
          </p:grpSpPr>
          <p:sp>
            <p:nvSpPr>
              <p:cNvPr id="782" name=""/>
              <p:cNvSpPr/>
              <p:nvPr/>
            </p:nvSpPr>
            <p:spPr>
              <a:xfrm>
                <a:off x="6848640" y="698400"/>
                <a:ext cx="1304640" cy="1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314480" y="700200"/>
                <a:ext cx="35892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492680" y="90360"/>
                <a:ext cx="413640" cy="59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900" spc="-1" strike="noStrike">
                    <a:solidFill>
                      <a:srgbClr val="000000"/>
                    </a:solidFill>
                    <a:latin typeface="Times New Roman"/>
                  </a:rPr>
                  <a:t>fx</a:t>
                </a:r>
                <a:endParaRPr b="0" lang="en-US" sz="3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010280" y="101520"/>
                <a:ext cx="3236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</a:t>
                </a:r>
                <a:endParaRPr b="0" lang="en-US" sz="4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02600" y="304920"/>
                <a:ext cx="476280" cy="71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7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4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87" name=""/>
              <p:cNvGraphicFramePr/>
              <p:nvPr/>
            </p:nvGraphicFramePr>
            <p:xfrm>
              <a:off x="6054840" y="339840"/>
              <a:ext cx="522000" cy="588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8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54840" y="339840"/>
                        <a:ext cx="522000" cy="588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89" name=""/>
          <p:cNvGrpSpPr/>
          <p:nvPr/>
        </p:nvGrpSpPr>
        <p:grpSpPr>
          <a:xfrm>
            <a:off x="333360" y="4789440"/>
            <a:ext cx="6905520" cy="1230480"/>
            <a:chOff x="333360" y="4789440"/>
            <a:chExt cx="6905520" cy="1230480"/>
          </a:xfrm>
        </p:grpSpPr>
        <p:sp>
          <p:nvSpPr>
            <p:cNvPr id="790" name=""/>
            <p:cNvSpPr/>
            <p:nvPr/>
          </p:nvSpPr>
          <p:spPr>
            <a:xfrm>
              <a:off x="4267080" y="4789440"/>
              <a:ext cx="2971800" cy="123048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efefe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7632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333360" y="4800600"/>
              <a:ext cx="6676920" cy="1219320"/>
              <a:chOff x="333360" y="4800600"/>
              <a:chExt cx="6676920" cy="1219320"/>
            </a:xfrm>
          </p:grpSpPr>
          <p:sp>
            <p:nvSpPr>
              <p:cNvPr id="792" name=""/>
              <p:cNvSpPr/>
              <p:nvPr/>
            </p:nvSpPr>
            <p:spPr>
              <a:xfrm>
                <a:off x="1752480" y="4800600"/>
                <a:ext cx="2590920" cy="121932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50000">
                    <a:srgbClr val="fefefe"/>
                  </a:gs>
                  <a:gs pos="100000">
                    <a:srgbClr val="66ffff"/>
                  </a:gs>
                </a:gsLst>
                <a:lin ang="5400000"/>
              </a:gradFill>
              <a:ln w="0">
                <a:noFill/>
              </a:ln>
              <a:effectLst>
                <a:outerShdw dist="107932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333360" y="4800600"/>
                <a:ext cx="6676920" cy="1204560"/>
                <a:chOff x="333360" y="4800600"/>
                <a:chExt cx="6676920" cy="120456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5562720" y="5116680"/>
                  <a:ext cx="144756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=  20.3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5" name=""/>
                <p:cNvGrpSpPr/>
                <p:nvPr/>
              </p:nvGrpSpPr>
              <p:grpSpPr>
                <a:xfrm>
                  <a:off x="4338000" y="4917960"/>
                  <a:ext cx="1148400" cy="888840"/>
                  <a:chOff x="4338000" y="4917960"/>
                  <a:chExt cx="1148400" cy="88884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4835520" y="5344920"/>
                    <a:ext cx="65088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5009400" y="5379840"/>
                    <a:ext cx="3574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4875480" y="4917960"/>
                    <a:ext cx="535680" cy="42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61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4338000" y="5087880"/>
                    <a:ext cx="323640" cy="487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333360" y="5029200"/>
                  <a:ext cx="1371600" cy="4597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71785" dir="81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cc"/>
                      </a:solidFill>
                      <a:latin typeface="Times New Roman"/>
                    </a:rPr>
                    <a:t>Formula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1" name=""/>
                <p:cNvGrpSpPr/>
                <p:nvPr/>
              </p:nvGrpSpPr>
              <p:grpSpPr>
                <a:xfrm>
                  <a:off x="2133720" y="4800600"/>
                  <a:ext cx="2098440" cy="1204560"/>
                  <a:chOff x="2133720" y="4800600"/>
                  <a:chExt cx="2098440" cy="120456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>
                    <a:off x="2927520" y="5408640"/>
                    <a:ext cx="1304640" cy="1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3393360" y="5410440"/>
                    <a:ext cx="358920" cy="59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9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N</a:t>
                    </a:r>
                    <a:endParaRPr b="0" lang="en-US" sz="3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3571560" y="4800600"/>
                    <a:ext cx="413640" cy="594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x</a:t>
                    </a:r>
                    <a:endParaRPr b="0" lang="en-US" sz="3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3089160" y="4811760"/>
                    <a:ext cx="323640" cy="655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43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0" lang="en-US" sz="4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81480" y="5015160"/>
                    <a:ext cx="476280" cy="71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7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</a:t>
                    </a:r>
                    <a:endParaRPr b="0" lang="en-US" sz="4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807" name=""/>
                  <p:cNvGraphicFramePr/>
                  <p:nvPr/>
                </p:nvGraphicFramePr>
                <p:xfrm>
                  <a:off x="2133720" y="5050080"/>
                  <a:ext cx="522000" cy="588960"/>
                </p:xfrm>
                <a:graphic>
                  <a:graphicData uri="http://schemas.openxmlformats.org/presentationml/2006/ole">
                    <p:oleObj r:id="rId4" spid="">
                      <p:embed/>
                      <p:pic>
                        <p:nvPicPr>
                          <p:cNvPr id="808" name="" descr=""/>
                          <p:cNvPicPr/>
                          <p:nvPr/>
                        </p:nvPicPr>
                        <p:blipFill>
                          <a:blip r:embed="rId5"/>
                          <a:stretch/>
                        </p:blipFill>
                        <p:spPr>
                          <a:xfrm>
                            <a:off x="2133720" y="5050080"/>
                            <a:ext cx="522000" cy="588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</p:grpSp>
      </p:grpSp>
    </p:spTree>
  </p:cSld>
  <p:transition>
    <p:pull dir="r"/>
  </p:transition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0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00800" cy="556272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1600200" y="304920"/>
            <a:ext cx="5915160" cy="9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84159" dir="9206096" blurRad="0" rotWithShape="0">
              <a:srgbClr val="99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Finding the Median of Grouped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44680" y="2209680"/>
            <a:ext cx="820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Construct 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umulative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quenc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83000" y="1447920"/>
            <a:ext cx="77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etermine the median class for Grouped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838080" y="6324480"/>
            <a:ext cx="754380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520" y="2971800"/>
            <a:ext cx="820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vide the total number of data values by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33520" y="3809880"/>
            <a:ext cx="820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termine which class will contain thi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50,   50/2  = 25,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th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determ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 class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ll contain the 25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0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90920" y="152280"/>
            <a:ext cx="392436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opulation M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81080" y="914400"/>
            <a:ext cx="3662640" cy="1425600"/>
            <a:chOff x="1981080" y="914400"/>
            <a:chExt cx="3662640" cy="1425600"/>
          </a:xfrm>
        </p:grpSpPr>
        <p:graphicFrame>
          <p:nvGraphicFramePr>
            <p:cNvPr id="101" name=""/>
            <p:cNvGraphicFramePr/>
            <p:nvPr/>
          </p:nvGraphicFramePr>
          <p:xfrm>
            <a:off x="3479760" y="914400"/>
            <a:ext cx="2163960" cy="142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79760" y="914400"/>
                      <a:ext cx="2163960" cy="1425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81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1981080" y="1203480"/>
              <a:ext cx="137160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295280" y="251460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 population mea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ounc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m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19920" y="990720"/>
            <a:ext cx="106668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3476520"/>
            <a:ext cx="762012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total number of observa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s a particular valu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ndicates the operation of adding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sigma</a:t>
            </a:r>
            <a:r>
              <a:rPr b="1" lang="en-US" sz="35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2209680"/>
            <a:ext cx="685800" cy="3278520"/>
            <a:chOff x="380880" y="2209680"/>
            <a:chExt cx="685800" cy="3278520"/>
          </a:xfrm>
        </p:grpSpPr>
        <p:sp>
          <p:nvSpPr>
            <p:cNvPr id="108" name=""/>
            <p:cNvSpPr/>
            <p:nvPr/>
          </p:nvSpPr>
          <p:spPr>
            <a:xfrm>
              <a:off x="383040" y="2209680"/>
              <a:ext cx="57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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0880" y="3429000"/>
              <a:ext cx="68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8640" y="4174920"/>
              <a:ext cx="4032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4960" y="4860720"/>
              <a:ext cx="4442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52480" y="610236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533600" y="1849320"/>
            <a:ext cx="5905800" cy="1427760"/>
            <a:chOff x="1533600" y="1849320"/>
            <a:chExt cx="5905800" cy="1427760"/>
          </a:xfrm>
        </p:grpSpPr>
        <p:sp>
          <p:nvSpPr>
            <p:cNvPr id="819" name=""/>
            <p:cNvSpPr/>
            <p:nvPr/>
          </p:nvSpPr>
          <p:spPr>
            <a:xfrm>
              <a:off x="5097600" y="2342880"/>
              <a:ext cx="3888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33800" y="2786040"/>
              <a:ext cx="1851120" cy="1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15200" y="246852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932520" y="246852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229000" y="23382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93840" y="199224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24760" y="24685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14800" y="28350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cc3399"/>
                  </a:solidFill>
                  <a:latin typeface="Times New Roman"/>
                </a:rPr>
                <a:t>f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90920" y="2046240"/>
              <a:ext cx="491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3333cc"/>
                  </a:solidFill>
                  <a:latin typeface="Times New Roman"/>
                </a:rPr>
                <a:t>CF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86160" y="184932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18680" y="2468520"/>
              <a:ext cx="622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33600" y="2468520"/>
              <a:ext cx="2073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Median =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685800" y="6477120"/>
            <a:ext cx="7772400" cy="75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7772400" y="1666800"/>
            <a:ext cx="10666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w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833" name=""/>
          <p:cNvSpPr/>
          <p:nvPr/>
        </p:nvSpPr>
        <p:spPr>
          <a:xfrm>
            <a:off x="762120" y="3473280"/>
            <a:ext cx="792468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5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lower limit of the median clas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3500" spc="-1" strike="noStrike">
                <a:solidFill>
                  <a:srgbClr val="3333cc"/>
                </a:solidFill>
                <a:latin typeface="Times New Roman"/>
              </a:rPr>
              <a:t>cumulative frequency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as you                                                        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enter the median clas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of the median clas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class interv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304920" y="3397320"/>
            <a:ext cx="914400" cy="3080880"/>
            <a:chOff x="304920" y="3397320"/>
            <a:chExt cx="914400" cy="3080880"/>
          </a:xfrm>
        </p:grpSpPr>
        <p:sp>
          <p:nvSpPr>
            <p:cNvPr id="835" name=""/>
            <p:cNvSpPr/>
            <p:nvPr/>
          </p:nvSpPr>
          <p:spPr>
            <a:xfrm>
              <a:off x="457200" y="3397320"/>
              <a:ext cx="68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2320" y="4006800"/>
              <a:ext cx="7750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3333cc"/>
                  </a:solidFill>
                  <a:latin typeface="Times New Roman"/>
                </a:rPr>
                <a:t>CF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3920" y="5073480"/>
              <a:ext cx="3286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cc3399"/>
                  </a:solidFill>
                  <a:latin typeface="Times New Roman"/>
                </a:rPr>
                <a:t>f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4920" y="58356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685800" y="3321000"/>
            <a:ext cx="777240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00200" y="304920"/>
            <a:ext cx="5915160" cy="99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284159" dir="9206096" blurRad="0" rotWithShape="0">
              <a:srgbClr val="99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Finding the Median of Grouped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-228600" y="1386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imate the median value within chosen clas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0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7" dur="500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2" dur="500"/>
                                        <p:tgtEl>
                                          <p:spTgt spid="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"/>
                            </p:stCondLst>
                            <p:childTnLst>
                              <p:par>
                                <p:cTn id="15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457200" y="1905120"/>
            <a:ext cx="6553080" cy="4735440"/>
            <a:chOff x="457200" y="1905120"/>
            <a:chExt cx="6553080" cy="4735440"/>
          </a:xfrm>
        </p:grpSpPr>
        <p:sp>
          <p:nvSpPr>
            <p:cNvPr id="843" name=""/>
            <p:cNvSpPr/>
            <p:nvPr/>
          </p:nvSpPr>
          <p:spPr>
            <a:xfrm>
              <a:off x="4724280" y="1905120"/>
              <a:ext cx="2286000" cy="1101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umulati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724280" y="6059520"/>
              <a:ext cx="2286000" cy="58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6880" y="6059520"/>
              <a:ext cx="2057400" cy="58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7200" y="6059520"/>
              <a:ext cx="2209680" cy="581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Tot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724280" y="5479920"/>
              <a:ext cx="2286000" cy="579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666880" y="5479920"/>
              <a:ext cx="2057400" cy="579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57200" y="5479920"/>
              <a:ext cx="2209680" cy="579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 to under 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24280" y="4800600"/>
              <a:ext cx="2286000" cy="67932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666880" y="4800600"/>
              <a:ext cx="2057400" cy="58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7200" y="4800600"/>
              <a:ext cx="2209680" cy="6793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to under 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724280" y="4267080"/>
              <a:ext cx="2286000" cy="58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66880" y="4267080"/>
              <a:ext cx="2057400" cy="58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57200" y="4267080"/>
              <a:ext cx="2209680" cy="581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to under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24280" y="3586320"/>
              <a:ext cx="2286000" cy="73152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66880" y="3586320"/>
              <a:ext cx="2057400" cy="731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57200" y="3586320"/>
              <a:ext cx="2209680" cy="731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to under 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724280" y="3006720"/>
              <a:ext cx="2286000" cy="579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666880" y="3006720"/>
              <a:ext cx="2057400" cy="579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57200" y="3006720"/>
              <a:ext cx="2209680" cy="579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 to under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666880" y="1905120"/>
              <a:ext cx="2057400" cy="110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7200" y="1905120"/>
              <a:ext cx="2209680" cy="1101600"/>
            </a:xfrm>
            <a:prstGeom prst="rect">
              <a:avLst/>
            </a:prstGeom>
            <a:gradFill rotWithShape="0">
              <a:gsLst>
                <a:gs pos="0">
                  <a:srgbClr val="46755e"/>
                </a:gs>
                <a:gs pos="50000">
                  <a:srgbClr val="99ffcc"/>
                </a:gs>
                <a:gs pos="100000">
                  <a:srgbClr val="46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vies Show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57200" y="1905120"/>
              <a:ext cx="0" cy="4735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666880" y="1905120"/>
              <a:ext cx="0" cy="47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24280" y="1905120"/>
              <a:ext cx="0" cy="47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7200" y="1905120"/>
              <a:ext cx="655308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7200" y="2971800"/>
              <a:ext cx="6553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7200" y="3581280"/>
              <a:ext cx="65530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7200" y="4191120"/>
              <a:ext cx="6553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57200" y="4800600"/>
              <a:ext cx="6553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7200" y="5410080"/>
              <a:ext cx="65530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" y="6019920"/>
              <a:ext cx="6553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 txBox="1"/>
          <p:nvPr/>
        </p:nvSpPr>
        <p:spPr>
          <a:xfrm>
            <a:off x="1143000" y="1447920"/>
            <a:ext cx="5029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Using earlier example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477120" y="2743200"/>
            <a:ext cx="259056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30844" dir="71377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696080" y="4129200"/>
            <a:ext cx="725400" cy="762120"/>
            <a:chOff x="7696080" y="4129200"/>
            <a:chExt cx="725400" cy="762120"/>
          </a:xfrm>
        </p:grpSpPr>
        <p:sp>
          <p:nvSpPr>
            <p:cNvPr id="877" name=""/>
            <p:cNvSpPr/>
            <p:nvPr/>
          </p:nvSpPr>
          <p:spPr>
            <a:xfrm>
              <a:off x="7842240" y="451008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696080" y="4508640"/>
              <a:ext cx="33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077680" y="4205160"/>
              <a:ext cx="343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33cc"/>
                  </a:solidFill>
                  <a:latin typeface="Times New Roman"/>
                </a:rPr>
                <a:t>- 3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96080" y="412920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6857640" y="4433760"/>
            <a:ext cx="75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+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38880" y="5562720"/>
            <a:ext cx="1403640" cy="520560"/>
          </a:xfrm>
          <a:prstGeom prst="rect">
            <a:avLst/>
          </a:prstGeom>
          <a:solidFill>
            <a:srgbClr val="99ffcc"/>
          </a:solidFill>
          <a:ln w="9360">
            <a:solidFill>
              <a:srgbClr val="99ffcc"/>
            </a:solidFill>
            <a:miter/>
          </a:ln>
          <a:effectLst>
            <a:outerShdw dist="153378" dir="686396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6.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620120" y="4815000"/>
            <a:ext cx="838080" cy="520560"/>
            <a:chOff x="7620120" y="4815000"/>
            <a:chExt cx="838080" cy="520560"/>
          </a:xfrm>
        </p:grpSpPr>
        <p:sp>
          <p:nvSpPr>
            <p:cNvPr id="884" name=""/>
            <p:cNvSpPr/>
            <p:nvPr/>
          </p:nvSpPr>
          <p:spPr>
            <a:xfrm>
              <a:off x="7620120" y="489096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45200" y="4815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8610480" y="4586400"/>
            <a:ext cx="381240" cy="381240"/>
            <a:chOff x="8610480" y="4586400"/>
            <a:chExt cx="381240" cy="381240"/>
          </a:xfrm>
        </p:grpSpPr>
        <p:sp>
          <p:nvSpPr>
            <p:cNvPr id="887" name=""/>
            <p:cNvSpPr/>
            <p:nvPr/>
          </p:nvSpPr>
          <p:spPr>
            <a:xfrm>
              <a:off x="8686800" y="458640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610480" y="4586400"/>
              <a:ext cx="381240" cy="3808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573600" y="2743200"/>
            <a:ext cx="2418840" cy="1198440"/>
            <a:chOff x="6573600" y="2743200"/>
            <a:chExt cx="2418840" cy="1198440"/>
          </a:xfrm>
        </p:grpSpPr>
        <p:sp>
          <p:nvSpPr>
            <p:cNvPr id="890" name=""/>
            <p:cNvSpPr/>
            <p:nvPr/>
          </p:nvSpPr>
          <p:spPr>
            <a:xfrm>
              <a:off x="7315200" y="3111840"/>
              <a:ext cx="252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75960" y="3467520"/>
              <a:ext cx="1201320" cy="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868240" y="326664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620920" y="326664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35080" y="310752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13080" y="289188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748000" y="326664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90480" y="349956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006040" y="2923920"/>
              <a:ext cx="491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3333cc"/>
                  </a:solidFill>
                  <a:latin typeface="Times New Roman"/>
                </a:rPr>
                <a:t>CF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94040" y="274320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573600" y="3266640"/>
              <a:ext cx="622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9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r>
                <a:rPr b="1" i="1" lang="en-US" sz="29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648320" y="3592440"/>
            <a:ext cx="1600200" cy="533520"/>
            <a:chOff x="4648320" y="3592440"/>
            <a:chExt cx="1600200" cy="533520"/>
          </a:xfrm>
        </p:grpSpPr>
        <p:sp>
          <p:nvSpPr>
            <p:cNvPr id="902" name=""/>
            <p:cNvSpPr/>
            <p:nvPr/>
          </p:nvSpPr>
          <p:spPr>
            <a:xfrm>
              <a:off x="5562720" y="3592440"/>
              <a:ext cx="685800" cy="5335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48320" y="359244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cc"/>
                  </a:solidFill>
                  <a:latin typeface="Times New Roman"/>
                </a:rPr>
                <a:t>C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3745080"/>
            <a:ext cx="220968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7200" y="4191120"/>
            <a:ext cx="5715000" cy="609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76320" y="4191120"/>
            <a:ext cx="838080" cy="609480"/>
            <a:chOff x="76320" y="4191120"/>
            <a:chExt cx="838080" cy="609480"/>
          </a:xfrm>
        </p:grpSpPr>
        <p:sp>
          <p:nvSpPr>
            <p:cNvPr id="907" name=""/>
            <p:cNvSpPr/>
            <p:nvPr/>
          </p:nvSpPr>
          <p:spPr>
            <a:xfrm>
              <a:off x="533520" y="4267080"/>
              <a:ext cx="380880" cy="5335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320" y="4191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429000" y="4191120"/>
            <a:ext cx="990720" cy="609480"/>
            <a:chOff x="3429000" y="4191120"/>
            <a:chExt cx="990720" cy="609480"/>
          </a:xfrm>
        </p:grpSpPr>
        <p:sp>
          <p:nvSpPr>
            <p:cNvPr id="910" name=""/>
            <p:cNvSpPr/>
            <p:nvPr/>
          </p:nvSpPr>
          <p:spPr>
            <a:xfrm>
              <a:off x="3429000" y="4191120"/>
              <a:ext cx="533520" cy="609480"/>
            </a:xfrm>
            <a:prstGeom prst="ellipse">
              <a:avLst/>
            </a:prstGeom>
            <a:noFill/>
            <a:ln w="381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038480" y="42274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3399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28600" y="5105520"/>
            <a:ext cx="457200" cy="446040"/>
            <a:chOff x="228600" y="5105520"/>
            <a:chExt cx="457200" cy="446040"/>
          </a:xfrm>
        </p:grpSpPr>
        <p:sp>
          <p:nvSpPr>
            <p:cNvPr id="913" name=""/>
            <p:cNvSpPr/>
            <p:nvPr/>
          </p:nvSpPr>
          <p:spPr>
            <a:xfrm flipH="1">
              <a:off x="228600" y="5551560"/>
              <a:ext cx="4572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8600" y="5105520"/>
              <a:ext cx="457200" cy="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8600" y="5105520"/>
              <a:ext cx="0" cy="4460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2590920" y="5181480"/>
            <a:ext cx="838080" cy="533520"/>
          </a:xfrm>
          <a:prstGeom prst="ellipse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600200" y="228600"/>
            <a:ext cx="5915160" cy="99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284159" dir="9206096" blurRad="0" rotWithShape="0">
              <a:srgbClr val="99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Finding the Median of Grouped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405080" y="228600"/>
            <a:ext cx="6486480" cy="81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de of Group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2280" y="1143000"/>
            <a:ext cx="881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de for grouped dat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pproximated b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idpoint of the class with the largest class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762120" y="2209680"/>
            <a:ext cx="6552720" cy="4154400"/>
            <a:chOff x="762120" y="2209680"/>
            <a:chExt cx="6552720" cy="4154400"/>
          </a:xfrm>
        </p:grpSpPr>
        <p:sp>
          <p:nvSpPr>
            <p:cNvPr id="922" name=""/>
            <p:cNvSpPr/>
            <p:nvPr/>
          </p:nvSpPr>
          <p:spPr>
            <a:xfrm>
              <a:off x="5029200" y="5784840"/>
              <a:ext cx="2285640" cy="5792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71800" y="5784840"/>
              <a:ext cx="2057040" cy="5792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62120" y="5784840"/>
              <a:ext cx="2209680" cy="5792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 to under 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029200" y="5203800"/>
              <a:ext cx="2285640" cy="58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971800" y="5203800"/>
              <a:ext cx="2057040" cy="58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62120" y="5203800"/>
              <a:ext cx="2209680" cy="581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to under 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029200" y="4622760"/>
              <a:ext cx="2285640" cy="58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971800" y="4622760"/>
              <a:ext cx="2057040" cy="58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2120" y="4622760"/>
              <a:ext cx="2209680" cy="581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to under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029200" y="3890880"/>
              <a:ext cx="2285640" cy="73188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71800" y="3890880"/>
              <a:ext cx="2057040" cy="7318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2120" y="3890880"/>
              <a:ext cx="2209680" cy="73188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to under 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29200" y="3311280"/>
              <a:ext cx="2285640" cy="579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971800" y="3311280"/>
              <a:ext cx="2057040" cy="579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2120" y="3311280"/>
              <a:ext cx="2209680" cy="579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 to under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29200" y="2209680"/>
              <a:ext cx="2285640" cy="1101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ass Midpo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71800" y="2209680"/>
              <a:ext cx="2057040" cy="110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2120" y="2209680"/>
              <a:ext cx="2209680" cy="1101600"/>
            </a:xfrm>
            <a:prstGeom prst="rect">
              <a:avLst/>
            </a:prstGeom>
            <a:gradFill rotWithShape="0">
              <a:gsLst>
                <a:gs pos="0">
                  <a:srgbClr val="46755e"/>
                </a:gs>
                <a:gs pos="50000">
                  <a:srgbClr val="99ffcc"/>
                </a:gs>
                <a:gs pos="100000">
                  <a:srgbClr val="46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ovies Show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762120" y="4648320"/>
            <a:ext cx="6019560" cy="533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62120" y="5715000"/>
            <a:ext cx="6019560" cy="649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791320" y="4622760"/>
            <a:ext cx="761760" cy="55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91320" y="5715000"/>
            <a:ext cx="838080" cy="6094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010280" y="3352680"/>
            <a:ext cx="1981440" cy="1922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considered to be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BiMod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3"/>
          <a:srcRect l="4929" t="0" r="-2768" b="5786"/>
          <a:stretch/>
        </p:blipFill>
        <p:spPr>
          <a:xfrm>
            <a:off x="8077320" y="5943600"/>
            <a:ext cx="838080" cy="717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500"/>
                            </p:stCondLst>
                            <p:childTnLst>
                              <p:par>
                                <p:cTn id="1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762120" y="1131840"/>
            <a:ext cx="7467480" cy="717480"/>
            <a:chOff x="762120" y="1131840"/>
            <a:chExt cx="7467480" cy="717480"/>
          </a:xfrm>
        </p:grpSpPr>
        <p:sp>
          <p:nvSpPr>
            <p:cNvPr id="947" name=""/>
            <p:cNvSpPr/>
            <p:nvPr/>
          </p:nvSpPr>
          <p:spPr>
            <a:xfrm>
              <a:off x="1524240" y="1239840"/>
              <a:ext cx="6705360" cy="520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pproximate the Mode of this distribu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8" name="" descr=""/>
            <p:cNvPicPr/>
            <p:nvPr/>
          </p:nvPicPr>
          <p:blipFill>
            <a:blip r:embed="rId2"/>
            <a:srcRect l="4929" t="0" r="-2768" b="5786"/>
            <a:stretch/>
          </p:blipFill>
          <p:spPr>
            <a:xfrm>
              <a:off x="762120" y="1131840"/>
              <a:ext cx="83808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9" name=""/>
          <p:cNvSpPr/>
          <p:nvPr/>
        </p:nvSpPr>
        <p:spPr>
          <a:xfrm>
            <a:off x="1405080" y="228600"/>
            <a:ext cx="6486480" cy="819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7181" dir="7838368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de of Group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295280" y="1893960"/>
            <a:ext cx="6553080" cy="4735440"/>
            <a:chOff x="1295280" y="1893960"/>
            <a:chExt cx="6553080" cy="4735440"/>
          </a:xfrm>
        </p:grpSpPr>
        <p:sp>
          <p:nvSpPr>
            <p:cNvPr id="952" name=""/>
            <p:cNvSpPr/>
            <p:nvPr/>
          </p:nvSpPr>
          <p:spPr>
            <a:xfrm>
              <a:off x="5562360" y="6048360"/>
              <a:ext cx="2286000" cy="58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562360" y="5469120"/>
              <a:ext cx="2286000" cy="5792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2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562360" y="4888080"/>
              <a:ext cx="2286000" cy="58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7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62360" y="4307040"/>
              <a:ext cx="2286000" cy="58104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2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562360" y="3575160"/>
              <a:ext cx="2286000" cy="73188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7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562360" y="2995560"/>
              <a:ext cx="2286000" cy="579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04960" y="6048360"/>
              <a:ext cx="2057400" cy="58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95280" y="6048360"/>
              <a:ext cx="2209680" cy="581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Tot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04960" y="5469120"/>
              <a:ext cx="2057400" cy="5792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295280" y="5469120"/>
              <a:ext cx="2209680" cy="5792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unde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504960" y="4888080"/>
              <a:ext cx="2057400" cy="58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95280" y="4888080"/>
              <a:ext cx="2209680" cy="581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5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unde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04960" y="4307040"/>
              <a:ext cx="2057400" cy="58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295280" y="4307040"/>
              <a:ext cx="2209680" cy="5810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o unde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504960" y="3575160"/>
              <a:ext cx="2057400" cy="7318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295280" y="3581640"/>
              <a:ext cx="2209680" cy="73152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to under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504960" y="2995560"/>
              <a:ext cx="2057400" cy="579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295280" y="2995560"/>
              <a:ext cx="2209680" cy="5796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efefe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to under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62360" y="1893960"/>
              <a:ext cx="2286000" cy="11016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efefe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ass Midpo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504960" y="1893960"/>
              <a:ext cx="2057400" cy="110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50000">
                  <a:srgbClr val="fefefe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reque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295280" y="1893960"/>
              <a:ext cx="2209680" cy="1101600"/>
            </a:xfrm>
            <a:prstGeom prst="rect">
              <a:avLst/>
            </a:prstGeom>
            <a:gradFill rotWithShape="0">
              <a:gsLst>
                <a:gs pos="0">
                  <a:srgbClr val="46755e"/>
                </a:gs>
                <a:gs pos="50000">
                  <a:srgbClr val="99ffcc"/>
                </a:gs>
                <a:gs pos="100000">
                  <a:srgbClr val="46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urs Study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295280" y="1893960"/>
              <a:ext cx="0" cy="4735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504960" y="1893960"/>
              <a:ext cx="0" cy="47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62360" y="1893960"/>
              <a:ext cx="0" cy="47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848360" y="1893960"/>
              <a:ext cx="0" cy="473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295280" y="1893960"/>
              <a:ext cx="655308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95280" y="2960640"/>
              <a:ext cx="65530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295280" y="3570480"/>
              <a:ext cx="6553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295280" y="4179960"/>
              <a:ext cx="6553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295280" y="4789440"/>
              <a:ext cx="655308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295280" y="5399280"/>
              <a:ext cx="6553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295280" y="6008760"/>
              <a:ext cx="65530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295280" y="3581280"/>
            <a:ext cx="6553440" cy="6098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38080" y="4419720"/>
            <a:ext cx="7467840" cy="106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dal class i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15 to under 2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pproximatel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066680" y="1371600"/>
            <a:ext cx="6934320" cy="47181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zero skewness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od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di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m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1752480" y="2819520"/>
            <a:ext cx="5714640" cy="3047760"/>
            <a:chOff x="1752480" y="2819520"/>
            <a:chExt cx="5714640" cy="3047760"/>
          </a:xfrm>
        </p:grpSpPr>
        <p:sp>
          <p:nvSpPr>
            <p:cNvPr id="988" name=""/>
            <p:cNvSpPr/>
            <p:nvPr/>
          </p:nvSpPr>
          <p:spPr>
            <a:xfrm>
              <a:off x="4492080" y="2819520"/>
              <a:ext cx="0" cy="304776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52480" y="5867280"/>
              <a:ext cx="571464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628640" y="152280"/>
            <a:ext cx="6037560" cy="838440"/>
            <a:chOff x="1628640" y="152280"/>
            <a:chExt cx="6037560" cy="838440"/>
          </a:xfrm>
        </p:grpSpPr>
        <p:sp>
          <p:nvSpPr>
            <p:cNvPr id="992" name=""/>
            <p:cNvSpPr/>
            <p:nvPr/>
          </p:nvSpPr>
          <p:spPr>
            <a:xfrm>
              <a:off x="1628640" y="152280"/>
              <a:ext cx="603756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ymmetric Distribut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14800" y="152280"/>
              <a:ext cx="1066680" cy="838440"/>
            </a:xfrm>
            <a:custGeom>
              <a:avLst/>
              <a:gdLst/>
              <a:ahLst/>
              <a:rect l="l" t="t" r="r" b="b"/>
              <a:pathLst>
                <a:path w="1536" h="672">
                  <a:moveTo>
                    <a:pt x="0" y="672"/>
                  </a:moveTo>
                  <a:cubicBezTo>
                    <a:pt x="280" y="336"/>
                    <a:pt x="560" y="0"/>
                    <a:pt x="816" y="0"/>
                  </a:cubicBezTo>
                  <a:cubicBezTo>
                    <a:pt x="1072" y="0"/>
                    <a:pt x="1416" y="560"/>
                    <a:pt x="1536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1828800" y="2819520"/>
            <a:ext cx="5562720" cy="3047760"/>
          </a:xfrm>
          <a:custGeom>
            <a:avLst/>
            <a:gdLst/>
            <a:ahLst/>
            <a:rect l="l" t="t" r="r" b="b"/>
            <a:pathLst>
              <a:path w="3504" h="1920">
                <a:moveTo>
                  <a:pt x="0" y="1920"/>
                </a:moveTo>
                <a:cubicBezTo>
                  <a:pt x="548" y="960"/>
                  <a:pt x="1096" y="0"/>
                  <a:pt x="1680" y="0"/>
                </a:cubicBezTo>
                <a:cubicBezTo>
                  <a:pt x="2264" y="0"/>
                  <a:pt x="3208" y="1608"/>
                  <a:pt x="3504" y="192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0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1447920" y="304920"/>
            <a:ext cx="6248160" cy="761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cc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kewed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914400" y="1143000"/>
            <a:ext cx="7391520" cy="53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Mean 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di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to the right of the Mode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3352680" y="1808280"/>
            <a:ext cx="2462040" cy="1163160"/>
            <a:chOff x="3352680" y="1808280"/>
            <a:chExt cx="2462040" cy="1163160"/>
          </a:xfrm>
        </p:grpSpPr>
        <p:sp>
          <p:nvSpPr>
            <p:cNvPr id="999" name=""/>
            <p:cNvSpPr/>
            <p:nvPr/>
          </p:nvSpPr>
          <p:spPr>
            <a:xfrm>
              <a:off x="3352680" y="2237760"/>
              <a:ext cx="267120" cy="730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19800" y="1935360"/>
              <a:ext cx="267480" cy="10324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55120" y="2023200"/>
              <a:ext cx="267120" cy="945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7640" y="1808280"/>
              <a:ext cx="267480" cy="1159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422600" y="2023200"/>
              <a:ext cx="267480" cy="945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90080" y="2108880"/>
              <a:ext cx="267480" cy="858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57920" y="2323800"/>
              <a:ext cx="267120" cy="6444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225400" y="2692440"/>
              <a:ext cx="292320" cy="279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522400" y="2812320"/>
              <a:ext cx="292320" cy="1555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114800" y="1543680"/>
            <a:ext cx="2341080" cy="1784160"/>
            <a:chOff x="4114800" y="1543680"/>
            <a:chExt cx="2341080" cy="1784160"/>
          </a:xfrm>
        </p:grpSpPr>
        <p:grpSp>
          <p:nvGrpSpPr>
            <p:cNvPr id="1009" name=""/>
            <p:cNvGrpSpPr/>
            <p:nvPr/>
          </p:nvGrpSpPr>
          <p:grpSpPr>
            <a:xfrm>
              <a:off x="4114800" y="1649160"/>
              <a:ext cx="1343160" cy="1516680"/>
              <a:chOff x="4114800" y="1649160"/>
              <a:chExt cx="1343160" cy="1516680"/>
            </a:xfrm>
          </p:grpSpPr>
          <p:sp>
            <p:nvSpPr>
              <p:cNvPr id="1010" name=""/>
              <p:cNvSpPr/>
              <p:nvPr/>
            </p:nvSpPr>
            <p:spPr>
              <a:xfrm>
                <a:off x="4149360" y="1649160"/>
                <a:ext cx="0" cy="151668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114800" y="2551680"/>
                <a:ext cx="1343160" cy="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"/>
            <p:cNvSpPr/>
            <p:nvPr/>
          </p:nvSpPr>
          <p:spPr>
            <a:xfrm rot="2874000">
              <a:off x="4623840" y="2205720"/>
              <a:ext cx="19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kewed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458640" y="175248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Positively 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97280" y="518148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de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430440" y="5638680"/>
            <a:ext cx="15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dian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16240" y="609588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3276720"/>
            <a:ext cx="0" cy="17524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343400" y="3505320"/>
            <a:ext cx="0" cy="1523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72000" y="3886200"/>
            <a:ext cx="0" cy="1128600"/>
          </a:xfrm>
          <a:prstGeom prst="line">
            <a:avLst/>
          </a:prstGeom>
          <a:ln w="572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2514600" y="3200400"/>
            <a:ext cx="4648320" cy="1828800"/>
            <a:chOff x="2514600" y="3200400"/>
            <a:chExt cx="4648320" cy="1828800"/>
          </a:xfrm>
        </p:grpSpPr>
        <p:sp>
          <p:nvSpPr>
            <p:cNvPr id="1021" name=""/>
            <p:cNvSpPr/>
            <p:nvPr/>
          </p:nvSpPr>
          <p:spPr>
            <a:xfrm>
              <a:off x="2514600" y="5029200"/>
              <a:ext cx="4648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71800" y="3200400"/>
              <a:ext cx="3962520" cy="1814400"/>
            </a:xfrm>
            <a:custGeom>
              <a:avLst/>
              <a:gdLst/>
              <a:ahLst/>
              <a:rect l="l" t="t" r="r" b="b"/>
              <a:pathLst>
                <a:path w="2400" h="2160">
                  <a:moveTo>
                    <a:pt x="0" y="2160"/>
                  </a:moveTo>
                  <a:cubicBezTo>
                    <a:pt x="232" y="1176"/>
                    <a:pt x="464" y="192"/>
                    <a:pt x="672" y="96"/>
                  </a:cubicBezTo>
                  <a:cubicBezTo>
                    <a:pt x="880" y="0"/>
                    <a:pt x="960" y="1240"/>
                    <a:pt x="1248" y="1584"/>
                  </a:cubicBezTo>
                  <a:cubicBezTo>
                    <a:pt x="1536" y="1928"/>
                    <a:pt x="2208" y="2064"/>
                    <a:pt x="2400" y="21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0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500"/>
                            </p:stCondLst>
                            <p:childTnLst>
                              <p:par>
                                <p:cTn id="1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447920" y="304920"/>
            <a:ext cx="6248160" cy="761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cc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ef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kewed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14400" y="1143000"/>
            <a:ext cx="7010280" cy="53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Mean </a:t>
            </a: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di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to the left of the Mode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429000" y="1919160"/>
            <a:ext cx="2437920" cy="1163880"/>
            <a:chOff x="3429000" y="1919160"/>
            <a:chExt cx="2437920" cy="1163880"/>
          </a:xfrm>
        </p:grpSpPr>
        <p:sp>
          <p:nvSpPr>
            <p:cNvPr id="1027" name=""/>
            <p:cNvSpPr/>
            <p:nvPr/>
          </p:nvSpPr>
          <p:spPr>
            <a:xfrm flipH="1">
              <a:off x="5601960" y="2348640"/>
              <a:ext cx="264600" cy="730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5337360" y="2046240"/>
              <a:ext cx="264960" cy="10328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4807440" y="2134080"/>
              <a:ext cx="264600" cy="945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5072400" y="1919160"/>
              <a:ext cx="264960" cy="1160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542480" y="2134080"/>
              <a:ext cx="264960" cy="945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4277520" y="2219760"/>
              <a:ext cx="264960" cy="859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4012560" y="2434680"/>
              <a:ext cx="264600" cy="6444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3723120" y="2803680"/>
              <a:ext cx="289440" cy="279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3429000" y="2923560"/>
              <a:ext cx="289440" cy="1555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392400" y="207180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Negatively 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2821320" y="1690560"/>
            <a:ext cx="2283840" cy="1887120"/>
            <a:chOff x="2821320" y="1690560"/>
            <a:chExt cx="2283840" cy="1887120"/>
          </a:xfrm>
        </p:grpSpPr>
        <p:grpSp>
          <p:nvGrpSpPr>
            <p:cNvPr id="1038" name=""/>
            <p:cNvGrpSpPr/>
            <p:nvPr/>
          </p:nvGrpSpPr>
          <p:grpSpPr>
            <a:xfrm>
              <a:off x="4219200" y="1690560"/>
              <a:ext cx="885960" cy="1517760"/>
              <a:chOff x="4219200" y="1690560"/>
              <a:chExt cx="885960" cy="15177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82480" y="1690560"/>
                <a:ext cx="0" cy="151776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4219200" y="2593440"/>
                <a:ext cx="885960" cy="0"/>
              </a:xfrm>
              <a:prstGeom prst="line">
                <a:avLst/>
              </a:prstGeom>
              <a:ln w="5724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 flipH="1" rot="18726000">
              <a:off x="2664000" y="2455920"/>
              <a:ext cx="19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kewed le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2973240" y="3443400"/>
            <a:ext cx="2936520" cy="3111120"/>
            <a:chOff x="2973240" y="3443400"/>
            <a:chExt cx="2936520" cy="3111120"/>
          </a:xfrm>
        </p:grpSpPr>
        <p:sp>
          <p:nvSpPr>
            <p:cNvPr id="1043" name=""/>
            <p:cNvSpPr/>
            <p:nvPr/>
          </p:nvSpPr>
          <p:spPr>
            <a:xfrm>
              <a:off x="4569120" y="5195880"/>
              <a:ext cx="134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&lt; 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386520" y="5576760"/>
              <a:ext cx="163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&lt; Medi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3240" y="6033960"/>
              <a:ext cx="10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99"/>
                  </a:solidFill>
                  <a:latin typeface="Times New Roman"/>
                </a:rPr>
                <a:t>Me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724280" y="3443400"/>
              <a:ext cx="0" cy="17524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495680" y="3605040"/>
              <a:ext cx="0" cy="15904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67080" y="4003560"/>
              <a:ext cx="1800" cy="1177560"/>
            </a:xfrm>
            <a:prstGeom prst="line">
              <a:avLst/>
            </a:prstGeom>
            <a:ln w="5724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1828440" y="3367080"/>
            <a:ext cx="4343400" cy="1828800"/>
            <a:chOff x="1828440" y="3367080"/>
            <a:chExt cx="4343400" cy="1828800"/>
          </a:xfrm>
        </p:grpSpPr>
        <p:sp>
          <p:nvSpPr>
            <p:cNvPr id="1050" name=""/>
            <p:cNvSpPr/>
            <p:nvPr/>
          </p:nvSpPr>
          <p:spPr>
            <a:xfrm flipH="1">
              <a:off x="1828440" y="5195880"/>
              <a:ext cx="4343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2041920" y="3367080"/>
              <a:ext cx="3702600" cy="1814400"/>
            </a:xfrm>
            <a:custGeom>
              <a:avLst/>
              <a:gdLst/>
              <a:ahLst/>
              <a:rect l="l" t="t" r="r" b="b"/>
              <a:pathLst>
                <a:path w="2400" h="2160">
                  <a:moveTo>
                    <a:pt x="0" y="2160"/>
                  </a:moveTo>
                  <a:cubicBezTo>
                    <a:pt x="232" y="1176"/>
                    <a:pt x="464" y="192"/>
                    <a:pt x="672" y="96"/>
                  </a:cubicBezTo>
                  <a:cubicBezTo>
                    <a:pt x="880" y="0"/>
                    <a:pt x="960" y="1240"/>
                    <a:pt x="1248" y="1584"/>
                  </a:cubicBezTo>
                  <a:cubicBezTo>
                    <a:pt x="1536" y="1928"/>
                    <a:pt x="2208" y="2064"/>
                    <a:pt x="2400" y="21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0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500"/>
                            </p:stCondLst>
                            <p:childTnLst>
                              <p:par>
                                <p:cTn id="17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1054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1058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9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0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1062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4" name="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582200" y="3078000"/>
            <a:ext cx="5723640" cy="703440"/>
          </a:xfrm>
          <a:prstGeom prst="rect">
            <a:avLst/>
          </a:prstGeom>
          <a:noFill/>
          <a:ln w="0">
            <a:noFill/>
          </a:ln>
          <a:effectLst>
            <a:outerShdw dist="64600" dir="101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completes Chapte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0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448000" y="76320"/>
            <a:ext cx="4245840" cy="1434600"/>
            <a:chOff x="2448000" y="76320"/>
            <a:chExt cx="4245840" cy="1434600"/>
          </a:xfrm>
        </p:grpSpPr>
        <p:sp>
          <p:nvSpPr>
            <p:cNvPr id="114" name=""/>
            <p:cNvSpPr/>
            <p:nvPr/>
          </p:nvSpPr>
          <p:spPr>
            <a:xfrm>
              <a:off x="2448000" y="189000"/>
              <a:ext cx="838080" cy="1219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17181" dir="1376163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53040" y="76320"/>
              <a:ext cx="4240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erminology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450960" y="129528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P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rame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1981080"/>
            <a:ext cx="6705360" cy="113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009" dir="7893982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a measurable characteristic of 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29240" y="396252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S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ti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4648320"/>
            <a:ext cx="6705360" cy="113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009" dir="7893982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a measurable characteristic of a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75"/>
                            </p:stCondLst>
                            <p:childTnLst>
                              <p:par>
                                <p:cTn id="2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4120" y="5181480"/>
            <a:ext cx="16002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48 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69400" y="1523880"/>
            <a:ext cx="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1523880"/>
            <a:ext cx="3200400" cy="4190400"/>
            <a:chOff x="228600" y="1523880"/>
            <a:chExt cx="3200400" cy="4190400"/>
          </a:xfrm>
        </p:grpSpPr>
        <p:sp>
          <p:nvSpPr>
            <p:cNvPr id="123" name=""/>
            <p:cNvSpPr/>
            <p:nvPr/>
          </p:nvSpPr>
          <p:spPr>
            <a:xfrm>
              <a:off x="228600" y="2212200"/>
              <a:ext cx="3200400" cy="3502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7240" indent="-57240"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e Kiers family owns four cars. The following is the current mileage on each of the four car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28600" y="1523880"/>
              <a:ext cx="604800" cy="10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495680" y="2666880"/>
            <a:ext cx="3353040" cy="7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da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mean mileage for the c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152280"/>
            <a:ext cx="392436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opulation M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648320"/>
            <a:ext cx="3200400" cy="9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6,000    23,00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2,000    73,00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507120" y="4052880"/>
            <a:ext cx="5443200" cy="1008000"/>
            <a:chOff x="3507120" y="4052880"/>
            <a:chExt cx="5443200" cy="1008000"/>
          </a:xfrm>
        </p:grpSpPr>
        <p:sp>
          <p:nvSpPr>
            <p:cNvPr id="129" name=""/>
            <p:cNvSpPr/>
            <p:nvPr/>
          </p:nvSpPr>
          <p:spPr>
            <a:xfrm>
              <a:off x="3540240" y="4052880"/>
              <a:ext cx="5410080" cy="10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6000 + 23000 + 42000 + 73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21120" y="4586400"/>
              <a:ext cx="472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07120" y="4281480"/>
              <a:ext cx="4122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81080" y="914400"/>
            <a:ext cx="3662640" cy="1425600"/>
            <a:chOff x="1981080" y="914400"/>
            <a:chExt cx="3662640" cy="1425600"/>
          </a:xfrm>
        </p:grpSpPr>
        <p:sp>
          <p:nvSpPr>
            <p:cNvPr id="133" name=""/>
            <p:cNvSpPr/>
            <p:nvPr/>
          </p:nvSpPr>
          <p:spPr>
            <a:xfrm>
              <a:off x="1981080" y="1203480"/>
              <a:ext cx="137160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3479760" y="914400"/>
            <a:ext cx="2163960" cy="1425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79760" y="914400"/>
                      <a:ext cx="2163960" cy="1425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81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438280" y="152280"/>
            <a:ext cx="3924360" cy="64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ample Me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08440" y="2463840"/>
            <a:ext cx="70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 sample mean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“x bar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19920" y="990720"/>
            <a:ext cx="106668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247920"/>
            <a:ext cx="830592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number of sample observa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s a particular valu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ndicates the operation of adding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5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500" spc="-1" strike="noStrike">
                <a:solidFill>
                  <a:srgbClr val="ff3300"/>
                </a:solidFill>
                <a:latin typeface="Times New Roman"/>
              </a:rPr>
              <a:t>sigma</a:t>
            </a:r>
            <a:r>
              <a:rPr b="1" lang="en-US" sz="35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4280" y="5950080"/>
            <a:ext cx="5637240" cy="527040"/>
          </a:xfrm>
          <a:custGeom>
            <a:avLst/>
            <a:gdLst/>
            <a:ahLst/>
            <a:rect l="l" t="t" r="r" b="b"/>
            <a:pathLst>
              <a:path w="4750" h="855">
                <a:moveTo>
                  <a:pt x="4750" y="411"/>
                </a:moveTo>
                <a:lnTo>
                  <a:pt x="4750" y="411"/>
                </a:lnTo>
                <a:lnTo>
                  <a:pt x="4746" y="411"/>
                </a:lnTo>
                <a:lnTo>
                  <a:pt x="4746" y="406"/>
                </a:lnTo>
                <a:lnTo>
                  <a:pt x="4741" y="406"/>
                </a:lnTo>
                <a:lnTo>
                  <a:pt x="4741" y="406"/>
                </a:lnTo>
                <a:lnTo>
                  <a:pt x="4736" y="402"/>
                </a:lnTo>
                <a:lnTo>
                  <a:pt x="4736" y="402"/>
                </a:lnTo>
                <a:lnTo>
                  <a:pt x="4736" y="397"/>
                </a:lnTo>
                <a:lnTo>
                  <a:pt x="4680" y="364"/>
                </a:lnTo>
                <a:lnTo>
                  <a:pt x="4666" y="346"/>
                </a:lnTo>
                <a:lnTo>
                  <a:pt x="4614" y="332"/>
                </a:lnTo>
                <a:lnTo>
                  <a:pt x="4563" y="322"/>
                </a:lnTo>
                <a:lnTo>
                  <a:pt x="4511" y="308"/>
                </a:lnTo>
                <a:lnTo>
                  <a:pt x="4460" y="299"/>
                </a:lnTo>
                <a:lnTo>
                  <a:pt x="4408" y="289"/>
                </a:lnTo>
                <a:lnTo>
                  <a:pt x="4357" y="280"/>
                </a:lnTo>
                <a:lnTo>
                  <a:pt x="4305" y="271"/>
                </a:lnTo>
                <a:lnTo>
                  <a:pt x="4254" y="261"/>
                </a:lnTo>
                <a:lnTo>
                  <a:pt x="4197" y="257"/>
                </a:lnTo>
                <a:lnTo>
                  <a:pt x="4141" y="247"/>
                </a:lnTo>
                <a:lnTo>
                  <a:pt x="4085" y="243"/>
                </a:lnTo>
                <a:lnTo>
                  <a:pt x="4029" y="238"/>
                </a:lnTo>
                <a:lnTo>
                  <a:pt x="3973" y="233"/>
                </a:lnTo>
                <a:lnTo>
                  <a:pt x="3916" y="229"/>
                </a:lnTo>
                <a:lnTo>
                  <a:pt x="3860" y="224"/>
                </a:lnTo>
                <a:lnTo>
                  <a:pt x="3804" y="219"/>
                </a:lnTo>
                <a:lnTo>
                  <a:pt x="3743" y="219"/>
                </a:lnTo>
                <a:lnTo>
                  <a:pt x="3682" y="219"/>
                </a:lnTo>
                <a:lnTo>
                  <a:pt x="3617" y="219"/>
                </a:lnTo>
                <a:lnTo>
                  <a:pt x="3556" y="219"/>
                </a:lnTo>
                <a:lnTo>
                  <a:pt x="3495" y="219"/>
                </a:lnTo>
                <a:lnTo>
                  <a:pt x="3434" y="219"/>
                </a:lnTo>
                <a:lnTo>
                  <a:pt x="3373" y="224"/>
                </a:lnTo>
                <a:lnTo>
                  <a:pt x="3312" y="224"/>
                </a:lnTo>
                <a:lnTo>
                  <a:pt x="3298" y="229"/>
                </a:lnTo>
                <a:lnTo>
                  <a:pt x="3284" y="229"/>
                </a:lnTo>
                <a:lnTo>
                  <a:pt x="3275" y="229"/>
                </a:lnTo>
                <a:lnTo>
                  <a:pt x="3260" y="229"/>
                </a:lnTo>
                <a:lnTo>
                  <a:pt x="3246" y="229"/>
                </a:lnTo>
                <a:lnTo>
                  <a:pt x="3237" y="229"/>
                </a:lnTo>
                <a:lnTo>
                  <a:pt x="3223" y="229"/>
                </a:lnTo>
                <a:lnTo>
                  <a:pt x="3214" y="229"/>
                </a:lnTo>
                <a:lnTo>
                  <a:pt x="3167" y="238"/>
                </a:lnTo>
                <a:lnTo>
                  <a:pt x="3125" y="243"/>
                </a:lnTo>
                <a:lnTo>
                  <a:pt x="3082" y="252"/>
                </a:lnTo>
                <a:lnTo>
                  <a:pt x="3040" y="257"/>
                </a:lnTo>
                <a:lnTo>
                  <a:pt x="2998" y="266"/>
                </a:lnTo>
                <a:lnTo>
                  <a:pt x="2956" y="271"/>
                </a:lnTo>
                <a:lnTo>
                  <a:pt x="2914" y="275"/>
                </a:lnTo>
                <a:lnTo>
                  <a:pt x="2872" y="285"/>
                </a:lnTo>
                <a:lnTo>
                  <a:pt x="2848" y="285"/>
                </a:lnTo>
                <a:lnTo>
                  <a:pt x="2820" y="289"/>
                </a:lnTo>
                <a:lnTo>
                  <a:pt x="2797" y="294"/>
                </a:lnTo>
                <a:lnTo>
                  <a:pt x="2773" y="294"/>
                </a:lnTo>
                <a:lnTo>
                  <a:pt x="2745" y="299"/>
                </a:lnTo>
                <a:lnTo>
                  <a:pt x="2722" y="303"/>
                </a:lnTo>
                <a:lnTo>
                  <a:pt x="2698" y="303"/>
                </a:lnTo>
                <a:lnTo>
                  <a:pt x="2675" y="303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9"/>
                </a:lnTo>
                <a:lnTo>
                  <a:pt x="2670" y="294"/>
                </a:lnTo>
                <a:lnTo>
                  <a:pt x="2670" y="294"/>
                </a:lnTo>
                <a:lnTo>
                  <a:pt x="2675" y="294"/>
                </a:lnTo>
                <a:lnTo>
                  <a:pt x="2675" y="289"/>
                </a:lnTo>
                <a:lnTo>
                  <a:pt x="2675" y="289"/>
                </a:lnTo>
                <a:lnTo>
                  <a:pt x="2680" y="280"/>
                </a:lnTo>
                <a:lnTo>
                  <a:pt x="2689" y="275"/>
                </a:lnTo>
                <a:lnTo>
                  <a:pt x="2698" y="271"/>
                </a:lnTo>
                <a:lnTo>
                  <a:pt x="2708" y="266"/>
                </a:lnTo>
                <a:lnTo>
                  <a:pt x="2717" y="266"/>
                </a:lnTo>
                <a:lnTo>
                  <a:pt x="2731" y="261"/>
                </a:lnTo>
                <a:lnTo>
                  <a:pt x="2740" y="257"/>
                </a:lnTo>
                <a:lnTo>
                  <a:pt x="2750" y="252"/>
                </a:lnTo>
                <a:lnTo>
                  <a:pt x="2792" y="243"/>
                </a:lnTo>
                <a:lnTo>
                  <a:pt x="2829" y="233"/>
                </a:lnTo>
                <a:lnTo>
                  <a:pt x="2872" y="219"/>
                </a:lnTo>
                <a:lnTo>
                  <a:pt x="2909" y="210"/>
                </a:lnTo>
                <a:lnTo>
                  <a:pt x="2947" y="196"/>
                </a:lnTo>
                <a:lnTo>
                  <a:pt x="2989" y="182"/>
                </a:lnTo>
                <a:lnTo>
                  <a:pt x="3026" y="168"/>
                </a:lnTo>
                <a:lnTo>
                  <a:pt x="3059" y="149"/>
                </a:lnTo>
                <a:lnTo>
                  <a:pt x="3078" y="135"/>
                </a:lnTo>
                <a:lnTo>
                  <a:pt x="3087" y="121"/>
                </a:lnTo>
                <a:lnTo>
                  <a:pt x="3101" y="107"/>
                </a:lnTo>
                <a:lnTo>
                  <a:pt x="3111" y="93"/>
                </a:lnTo>
                <a:lnTo>
                  <a:pt x="3120" y="74"/>
                </a:lnTo>
                <a:lnTo>
                  <a:pt x="3125" y="56"/>
                </a:lnTo>
                <a:lnTo>
                  <a:pt x="3134" y="42"/>
                </a:lnTo>
                <a:lnTo>
                  <a:pt x="3139" y="23"/>
                </a:lnTo>
                <a:lnTo>
                  <a:pt x="3139" y="23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8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9" y="14"/>
                </a:lnTo>
                <a:lnTo>
                  <a:pt x="3134" y="14"/>
                </a:lnTo>
                <a:lnTo>
                  <a:pt x="3134" y="14"/>
                </a:lnTo>
                <a:lnTo>
                  <a:pt x="3134" y="9"/>
                </a:lnTo>
                <a:lnTo>
                  <a:pt x="3134" y="9"/>
                </a:lnTo>
                <a:lnTo>
                  <a:pt x="3129" y="9"/>
                </a:lnTo>
                <a:lnTo>
                  <a:pt x="3125" y="9"/>
                </a:lnTo>
                <a:lnTo>
                  <a:pt x="3120" y="4"/>
                </a:lnTo>
                <a:lnTo>
                  <a:pt x="3111" y="4"/>
                </a:lnTo>
                <a:lnTo>
                  <a:pt x="3106" y="4"/>
                </a:lnTo>
                <a:lnTo>
                  <a:pt x="3101" y="4"/>
                </a:lnTo>
                <a:lnTo>
                  <a:pt x="3096" y="4"/>
                </a:lnTo>
                <a:lnTo>
                  <a:pt x="3087" y="4"/>
                </a:lnTo>
                <a:lnTo>
                  <a:pt x="3050" y="4"/>
                </a:lnTo>
                <a:lnTo>
                  <a:pt x="3017" y="0"/>
                </a:lnTo>
                <a:lnTo>
                  <a:pt x="2979" y="0"/>
                </a:lnTo>
                <a:lnTo>
                  <a:pt x="2942" y="0"/>
                </a:lnTo>
                <a:lnTo>
                  <a:pt x="2904" y="0"/>
                </a:lnTo>
                <a:lnTo>
                  <a:pt x="2872" y="0"/>
                </a:lnTo>
                <a:lnTo>
                  <a:pt x="2834" y="0"/>
                </a:lnTo>
                <a:lnTo>
                  <a:pt x="2801" y="0"/>
                </a:lnTo>
                <a:lnTo>
                  <a:pt x="2787" y="0"/>
                </a:lnTo>
                <a:lnTo>
                  <a:pt x="2773" y="4"/>
                </a:lnTo>
                <a:lnTo>
                  <a:pt x="2759" y="4"/>
                </a:lnTo>
                <a:lnTo>
                  <a:pt x="2745" y="4"/>
                </a:lnTo>
                <a:lnTo>
                  <a:pt x="2736" y="4"/>
                </a:lnTo>
                <a:lnTo>
                  <a:pt x="2722" y="4"/>
                </a:lnTo>
                <a:lnTo>
                  <a:pt x="2708" y="9"/>
                </a:lnTo>
                <a:lnTo>
                  <a:pt x="2694" y="9"/>
                </a:lnTo>
                <a:lnTo>
                  <a:pt x="2698" y="9"/>
                </a:lnTo>
                <a:lnTo>
                  <a:pt x="2698" y="9"/>
                </a:lnTo>
                <a:lnTo>
                  <a:pt x="2703" y="9"/>
                </a:lnTo>
                <a:lnTo>
                  <a:pt x="2703" y="9"/>
                </a:lnTo>
                <a:lnTo>
                  <a:pt x="2708" y="9"/>
                </a:lnTo>
                <a:lnTo>
                  <a:pt x="2708" y="9"/>
                </a:lnTo>
                <a:lnTo>
                  <a:pt x="2712" y="14"/>
                </a:lnTo>
                <a:lnTo>
                  <a:pt x="2712" y="14"/>
                </a:lnTo>
                <a:lnTo>
                  <a:pt x="2131" y="70"/>
                </a:lnTo>
                <a:lnTo>
                  <a:pt x="2089" y="79"/>
                </a:lnTo>
                <a:lnTo>
                  <a:pt x="2047" y="88"/>
                </a:lnTo>
                <a:lnTo>
                  <a:pt x="2010" y="98"/>
                </a:lnTo>
                <a:lnTo>
                  <a:pt x="1967" y="102"/>
                </a:lnTo>
                <a:lnTo>
                  <a:pt x="1930" y="112"/>
                </a:lnTo>
                <a:lnTo>
                  <a:pt x="1888" y="121"/>
                </a:lnTo>
                <a:lnTo>
                  <a:pt x="1850" y="131"/>
                </a:lnTo>
                <a:lnTo>
                  <a:pt x="1808" y="140"/>
                </a:lnTo>
                <a:lnTo>
                  <a:pt x="1752" y="154"/>
                </a:lnTo>
                <a:lnTo>
                  <a:pt x="1691" y="168"/>
                </a:lnTo>
                <a:lnTo>
                  <a:pt x="1635" y="182"/>
                </a:lnTo>
                <a:lnTo>
                  <a:pt x="1579" y="191"/>
                </a:lnTo>
                <a:lnTo>
                  <a:pt x="1522" y="205"/>
                </a:lnTo>
                <a:lnTo>
                  <a:pt x="1466" y="215"/>
                </a:lnTo>
                <a:lnTo>
                  <a:pt x="1410" y="229"/>
                </a:lnTo>
                <a:lnTo>
                  <a:pt x="1354" y="238"/>
                </a:lnTo>
                <a:lnTo>
                  <a:pt x="1335" y="243"/>
                </a:lnTo>
                <a:lnTo>
                  <a:pt x="1321" y="247"/>
                </a:lnTo>
                <a:lnTo>
                  <a:pt x="1302" y="252"/>
                </a:lnTo>
                <a:lnTo>
                  <a:pt x="1288" y="252"/>
                </a:lnTo>
                <a:lnTo>
                  <a:pt x="1274" y="257"/>
                </a:lnTo>
                <a:lnTo>
                  <a:pt x="1255" y="261"/>
                </a:lnTo>
                <a:lnTo>
                  <a:pt x="1241" y="266"/>
                </a:lnTo>
                <a:lnTo>
                  <a:pt x="1227" y="271"/>
                </a:lnTo>
                <a:lnTo>
                  <a:pt x="1208" y="275"/>
                </a:lnTo>
                <a:lnTo>
                  <a:pt x="1190" y="280"/>
                </a:lnTo>
                <a:lnTo>
                  <a:pt x="1171" y="285"/>
                </a:lnTo>
                <a:lnTo>
                  <a:pt x="1157" y="294"/>
                </a:lnTo>
                <a:lnTo>
                  <a:pt x="1138" y="299"/>
                </a:lnTo>
                <a:lnTo>
                  <a:pt x="1124" y="303"/>
                </a:lnTo>
                <a:lnTo>
                  <a:pt x="1105" y="308"/>
                </a:lnTo>
                <a:lnTo>
                  <a:pt x="1091" y="313"/>
                </a:lnTo>
                <a:lnTo>
                  <a:pt x="1082" y="313"/>
                </a:lnTo>
                <a:lnTo>
                  <a:pt x="1073" y="317"/>
                </a:lnTo>
                <a:lnTo>
                  <a:pt x="1063" y="317"/>
                </a:lnTo>
                <a:lnTo>
                  <a:pt x="1054" y="322"/>
                </a:lnTo>
                <a:lnTo>
                  <a:pt x="1044" y="327"/>
                </a:lnTo>
                <a:lnTo>
                  <a:pt x="1035" y="327"/>
                </a:lnTo>
                <a:lnTo>
                  <a:pt x="1026" y="332"/>
                </a:lnTo>
                <a:lnTo>
                  <a:pt x="1016" y="332"/>
                </a:lnTo>
                <a:lnTo>
                  <a:pt x="1002" y="336"/>
                </a:lnTo>
                <a:lnTo>
                  <a:pt x="988" y="341"/>
                </a:lnTo>
                <a:lnTo>
                  <a:pt x="974" y="346"/>
                </a:lnTo>
                <a:lnTo>
                  <a:pt x="955" y="350"/>
                </a:lnTo>
                <a:lnTo>
                  <a:pt x="941" y="350"/>
                </a:lnTo>
                <a:lnTo>
                  <a:pt x="927" y="355"/>
                </a:lnTo>
                <a:lnTo>
                  <a:pt x="913" y="360"/>
                </a:lnTo>
                <a:lnTo>
                  <a:pt x="899" y="369"/>
                </a:lnTo>
                <a:lnTo>
                  <a:pt x="871" y="374"/>
                </a:lnTo>
                <a:lnTo>
                  <a:pt x="843" y="383"/>
                </a:lnTo>
                <a:lnTo>
                  <a:pt x="810" y="392"/>
                </a:lnTo>
                <a:lnTo>
                  <a:pt x="782" y="397"/>
                </a:lnTo>
                <a:lnTo>
                  <a:pt x="754" y="406"/>
                </a:lnTo>
                <a:lnTo>
                  <a:pt x="726" y="416"/>
                </a:lnTo>
                <a:lnTo>
                  <a:pt x="698" y="430"/>
                </a:lnTo>
                <a:lnTo>
                  <a:pt x="670" y="439"/>
                </a:lnTo>
                <a:lnTo>
                  <a:pt x="660" y="444"/>
                </a:lnTo>
                <a:lnTo>
                  <a:pt x="646" y="444"/>
                </a:lnTo>
                <a:lnTo>
                  <a:pt x="632" y="448"/>
                </a:lnTo>
                <a:lnTo>
                  <a:pt x="623" y="453"/>
                </a:lnTo>
                <a:lnTo>
                  <a:pt x="609" y="458"/>
                </a:lnTo>
                <a:lnTo>
                  <a:pt x="599" y="462"/>
                </a:lnTo>
                <a:lnTo>
                  <a:pt x="585" y="467"/>
                </a:lnTo>
                <a:lnTo>
                  <a:pt x="576" y="476"/>
                </a:lnTo>
                <a:lnTo>
                  <a:pt x="567" y="472"/>
                </a:lnTo>
                <a:lnTo>
                  <a:pt x="562" y="472"/>
                </a:lnTo>
                <a:lnTo>
                  <a:pt x="557" y="476"/>
                </a:lnTo>
                <a:lnTo>
                  <a:pt x="548" y="476"/>
                </a:lnTo>
                <a:lnTo>
                  <a:pt x="543" y="481"/>
                </a:lnTo>
                <a:lnTo>
                  <a:pt x="539" y="481"/>
                </a:lnTo>
                <a:lnTo>
                  <a:pt x="534" y="486"/>
                </a:lnTo>
                <a:lnTo>
                  <a:pt x="529" y="486"/>
                </a:lnTo>
                <a:lnTo>
                  <a:pt x="510" y="490"/>
                </a:lnTo>
                <a:lnTo>
                  <a:pt x="510" y="490"/>
                </a:lnTo>
                <a:lnTo>
                  <a:pt x="510" y="490"/>
                </a:lnTo>
                <a:lnTo>
                  <a:pt x="506" y="490"/>
                </a:lnTo>
                <a:lnTo>
                  <a:pt x="506" y="490"/>
                </a:lnTo>
                <a:lnTo>
                  <a:pt x="506" y="495"/>
                </a:lnTo>
                <a:lnTo>
                  <a:pt x="506" y="495"/>
                </a:lnTo>
                <a:lnTo>
                  <a:pt x="506" y="495"/>
                </a:lnTo>
                <a:lnTo>
                  <a:pt x="501" y="495"/>
                </a:lnTo>
                <a:lnTo>
                  <a:pt x="440" y="514"/>
                </a:lnTo>
                <a:lnTo>
                  <a:pt x="421" y="514"/>
                </a:lnTo>
                <a:lnTo>
                  <a:pt x="412" y="518"/>
                </a:lnTo>
                <a:lnTo>
                  <a:pt x="407" y="523"/>
                </a:lnTo>
                <a:lnTo>
                  <a:pt x="398" y="523"/>
                </a:lnTo>
                <a:lnTo>
                  <a:pt x="389" y="528"/>
                </a:lnTo>
                <a:lnTo>
                  <a:pt x="379" y="528"/>
                </a:lnTo>
                <a:lnTo>
                  <a:pt x="375" y="528"/>
                </a:lnTo>
                <a:lnTo>
                  <a:pt x="365" y="532"/>
                </a:lnTo>
                <a:lnTo>
                  <a:pt x="356" y="532"/>
                </a:lnTo>
                <a:lnTo>
                  <a:pt x="351" y="532"/>
                </a:lnTo>
                <a:lnTo>
                  <a:pt x="351" y="532"/>
                </a:lnTo>
                <a:lnTo>
                  <a:pt x="351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46" y="528"/>
                </a:lnTo>
                <a:lnTo>
                  <a:pt x="328" y="537"/>
                </a:lnTo>
                <a:lnTo>
                  <a:pt x="314" y="537"/>
                </a:lnTo>
                <a:lnTo>
                  <a:pt x="295" y="542"/>
                </a:lnTo>
                <a:lnTo>
                  <a:pt x="276" y="542"/>
                </a:lnTo>
                <a:lnTo>
                  <a:pt x="262" y="546"/>
                </a:lnTo>
                <a:lnTo>
                  <a:pt x="243" y="546"/>
                </a:lnTo>
                <a:lnTo>
                  <a:pt x="225" y="551"/>
                </a:lnTo>
                <a:lnTo>
                  <a:pt x="211" y="556"/>
                </a:lnTo>
                <a:lnTo>
                  <a:pt x="206" y="551"/>
                </a:lnTo>
                <a:lnTo>
                  <a:pt x="201" y="551"/>
                </a:lnTo>
                <a:lnTo>
                  <a:pt x="197" y="551"/>
                </a:lnTo>
                <a:lnTo>
                  <a:pt x="192" y="546"/>
                </a:lnTo>
                <a:lnTo>
                  <a:pt x="192" y="546"/>
                </a:lnTo>
                <a:lnTo>
                  <a:pt x="187" y="542"/>
                </a:lnTo>
                <a:lnTo>
                  <a:pt x="187" y="537"/>
                </a:lnTo>
                <a:lnTo>
                  <a:pt x="182" y="537"/>
                </a:lnTo>
                <a:lnTo>
                  <a:pt x="159" y="528"/>
                </a:lnTo>
                <a:lnTo>
                  <a:pt x="145" y="514"/>
                </a:lnTo>
                <a:lnTo>
                  <a:pt x="145" y="514"/>
                </a:lnTo>
                <a:lnTo>
                  <a:pt x="145" y="509"/>
                </a:lnTo>
                <a:lnTo>
                  <a:pt x="140" y="509"/>
                </a:lnTo>
                <a:lnTo>
                  <a:pt x="140" y="509"/>
                </a:lnTo>
                <a:lnTo>
                  <a:pt x="136" y="509"/>
                </a:lnTo>
                <a:lnTo>
                  <a:pt x="136" y="509"/>
                </a:lnTo>
                <a:lnTo>
                  <a:pt x="131" y="509"/>
                </a:lnTo>
                <a:lnTo>
                  <a:pt x="126" y="509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6" y="504"/>
                </a:lnTo>
                <a:lnTo>
                  <a:pt x="122" y="504"/>
                </a:lnTo>
                <a:lnTo>
                  <a:pt x="122" y="500"/>
                </a:lnTo>
                <a:lnTo>
                  <a:pt x="122" y="500"/>
                </a:lnTo>
                <a:lnTo>
                  <a:pt x="122" y="500"/>
                </a:lnTo>
                <a:lnTo>
                  <a:pt x="117" y="495"/>
                </a:lnTo>
                <a:lnTo>
                  <a:pt x="117" y="495"/>
                </a:lnTo>
                <a:lnTo>
                  <a:pt x="112" y="490"/>
                </a:lnTo>
                <a:lnTo>
                  <a:pt x="112" y="490"/>
                </a:lnTo>
                <a:lnTo>
                  <a:pt x="107" y="490"/>
                </a:lnTo>
                <a:lnTo>
                  <a:pt x="103" y="490"/>
                </a:lnTo>
                <a:lnTo>
                  <a:pt x="98" y="490"/>
                </a:lnTo>
                <a:lnTo>
                  <a:pt x="93" y="490"/>
                </a:lnTo>
                <a:lnTo>
                  <a:pt x="56" y="532"/>
                </a:lnTo>
                <a:lnTo>
                  <a:pt x="56" y="532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6" y="537"/>
                </a:lnTo>
                <a:lnTo>
                  <a:pt x="51" y="546"/>
                </a:lnTo>
                <a:lnTo>
                  <a:pt x="47" y="551"/>
                </a:lnTo>
                <a:lnTo>
                  <a:pt x="42" y="556"/>
                </a:lnTo>
                <a:lnTo>
                  <a:pt x="37" y="561"/>
                </a:lnTo>
                <a:lnTo>
                  <a:pt x="28" y="565"/>
                </a:lnTo>
                <a:lnTo>
                  <a:pt x="23" y="570"/>
                </a:lnTo>
                <a:lnTo>
                  <a:pt x="14" y="575"/>
                </a:lnTo>
                <a:lnTo>
                  <a:pt x="9" y="579"/>
                </a:lnTo>
                <a:lnTo>
                  <a:pt x="0" y="617"/>
                </a:lnTo>
                <a:lnTo>
                  <a:pt x="9" y="626"/>
                </a:lnTo>
                <a:lnTo>
                  <a:pt x="0" y="640"/>
                </a:lnTo>
                <a:lnTo>
                  <a:pt x="0" y="640"/>
                </a:lnTo>
                <a:lnTo>
                  <a:pt x="0" y="645"/>
                </a:lnTo>
                <a:lnTo>
                  <a:pt x="0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4" y="645"/>
                </a:lnTo>
                <a:lnTo>
                  <a:pt x="14" y="673"/>
                </a:lnTo>
                <a:lnTo>
                  <a:pt x="4" y="687"/>
                </a:lnTo>
                <a:lnTo>
                  <a:pt x="9" y="691"/>
                </a:lnTo>
                <a:lnTo>
                  <a:pt x="9" y="691"/>
                </a:lnTo>
                <a:lnTo>
                  <a:pt x="14" y="691"/>
                </a:lnTo>
                <a:lnTo>
                  <a:pt x="14" y="691"/>
                </a:lnTo>
                <a:lnTo>
                  <a:pt x="18" y="696"/>
                </a:lnTo>
                <a:lnTo>
                  <a:pt x="18" y="696"/>
                </a:lnTo>
                <a:lnTo>
                  <a:pt x="23" y="701"/>
                </a:lnTo>
                <a:lnTo>
                  <a:pt x="23" y="701"/>
                </a:lnTo>
                <a:lnTo>
                  <a:pt x="23" y="747"/>
                </a:lnTo>
                <a:lnTo>
                  <a:pt x="33" y="752"/>
                </a:lnTo>
                <a:lnTo>
                  <a:pt x="42" y="757"/>
                </a:lnTo>
                <a:lnTo>
                  <a:pt x="51" y="761"/>
                </a:lnTo>
                <a:lnTo>
                  <a:pt x="65" y="766"/>
                </a:lnTo>
                <a:lnTo>
                  <a:pt x="75" y="771"/>
                </a:lnTo>
                <a:lnTo>
                  <a:pt x="84" y="776"/>
                </a:lnTo>
                <a:lnTo>
                  <a:pt x="89" y="785"/>
                </a:lnTo>
                <a:lnTo>
                  <a:pt x="98" y="794"/>
                </a:lnTo>
                <a:lnTo>
                  <a:pt x="98" y="794"/>
                </a:lnTo>
                <a:lnTo>
                  <a:pt x="98" y="794"/>
                </a:lnTo>
                <a:lnTo>
                  <a:pt x="98" y="799"/>
                </a:lnTo>
                <a:lnTo>
                  <a:pt x="98" y="799"/>
                </a:lnTo>
                <a:lnTo>
                  <a:pt x="98" y="804"/>
                </a:lnTo>
                <a:lnTo>
                  <a:pt x="98" y="804"/>
                </a:lnTo>
                <a:lnTo>
                  <a:pt x="98" y="804"/>
                </a:lnTo>
                <a:lnTo>
                  <a:pt x="103" y="808"/>
                </a:lnTo>
                <a:lnTo>
                  <a:pt x="178" y="836"/>
                </a:lnTo>
                <a:lnTo>
                  <a:pt x="178" y="836"/>
                </a:lnTo>
                <a:lnTo>
                  <a:pt x="178" y="836"/>
                </a:lnTo>
                <a:lnTo>
                  <a:pt x="178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2" y="832"/>
                </a:lnTo>
                <a:lnTo>
                  <a:pt x="187" y="832"/>
                </a:lnTo>
                <a:lnTo>
                  <a:pt x="197" y="836"/>
                </a:lnTo>
                <a:lnTo>
                  <a:pt x="206" y="841"/>
                </a:lnTo>
                <a:lnTo>
                  <a:pt x="215" y="841"/>
                </a:lnTo>
                <a:lnTo>
                  <a:pt x="229" y="841"/>
                </a:lnTo>
                <a:lnTo>
                  <a:pt x="239" y="836"/>
                </a:lnTo>
                <a:lnTo>
                  <a:pt x="253" y="841"/>
                </a:lnTo>
                <a:lnTo>
                  <a:pt x="262" y="841"/>
                </a:lnTo>
                <a:lnTo>
                  <a:pt x="271" y="846"/>
                </a:lnTo>
                <a:lnTo>
                  <a:pt x="295" y="846"/>
                </a:lnTo>
                <a:lnTo>
                  <a:pt x="295" y="846"/>
                </a:lnTo>
                <a:lnTo>
                  <a:pt x="300" y="846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0" y="850"/>
                </a:lnTo>
                <a:lnTo>
                  <a:pt x="304" y="850"/>
                </a:lnTo>
                <a:lnTo>
                  <a:pt x="304" y="850"/>
                </a:lnTo>
                <a:lnTo>
                  <a:pt x="309" y="850"/>
                </a:lnTo>
                <a:lnTo>
                  <a:pt x="309" y="850"/>
                </a:lnTo>
                <a:lnTo>
                  <a:pt x="314" y="850"/>
                </a:lnTo>
                <a:lnTo>
                  <a:pt x="314" y="850"/>
                </a:lnTo>
                <a:lnTo>
                  <a:pt x="318" y="850"/>
                </a:lnTo>
                <a:lnTo>
                  <a:pt x="318" y="855"/>
                </a:lnTo>
                <a:lnTo>
                  <a:pt x="323" y="855"/>
                </a:lnTo>
                <a:lnTo>
                  <a:pt x="323" y="855"/>
                </a:lnTo>
                <a:lnTo>
                  <a:pt x="398" y="832"/>
                </a:lnTo>
                <a:lnTo>
                  <a:pt x="398" y="832"/>
                </a:lnTo>
                <a:lnTo>
                  <a:pt x="398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3" y="832"/>
                </a:lnTo>
                <a:lnTo>
                  <a:pt x="407" y="832"/>
                </a:lnTo>
                <a:lnTo>
                  <a:pt x="407" y="832"/>
                </a:lnTo>
                <a:lnTo>
                  <a:pt x="412" y="832"/>
                </a:lnTo>
                <a:lnTo>
                  <a:pt x="417" y="827"/>
                </a:lnTo>
                <a:lnTo>
                  <a:pt x="421" y="827"/>
                </a:lnTo>
                <a:lnTo>
                  <a:pt x="426" y="827"/>
                </a:lnTo>
                <a:lnTo>
                  <a:pt x="431" y="822"/>
                </a:lnTo>
                <a:lnTo>
                  <a:pt x="435" y="822"/>
                </a:lnTo>
                <a:lnTo>
                  <a:pt x="440" y="822"/>
                </a:lnTo>
                <a:lnTo>
                  <a:pt x="445" y="818"/>
                </a:lnTo>
                <a:lnTo>
                  <a:pt x="454" y="813"/>
                </a:lnTo>
                <a:lnTo>
                  <a:pt x="459" y="813"/>
                </a:lnTo>
                <a:lnTo>
                  <a:pt x="468" y="808"/>
                </a:lnTo>
                <a:lnTo>
                  <a:pt x="473" y="804"/>
                </a:lnTo>
                <a:lnTo>
                  <a:pt x="478" y="799"/>
                </a:lnTo>
                <a:lnTo>
                  <a:pt x="487" y="799"/>
                </a:lnTo>
                <a:lnTo>
                  <a:pt x="492" y="799"/>
                </a:lnTo>
                <a:lnTo>
                  <a:pt x="501" y="794"/>
                </a:lnTo>
                <a:lnTo>
                  <a:pt x="506" y="794"/>
                </a:lnTo>
                <a:lnTo>
                  <a:pt x="515" y="790"/>
                </a:lnTo>
                <a:lnTo>
                  <a:pt x="520" y="790"/>
                </a:lnTo>
                <a:lnTo>
                  <a:pt x="529" y="785"/>
                </a:lnTo>
                <a:lnTo>
                  <a:pt x="534" y="785"/>
                </a:lnTo>
                <a:lnTo>
                  <a:pt x="543" y="785"/>
                </a:lnTo>
                <a:lnTo>
                  <a:pt x="548" y="785"/>
                </a:lnTo>
                <a:lnTo>
                  <a:pt x="557" y="785"/>
                </a:lnTo>
                <a:lnTo>
                  <a:pt x="553" y="785"/>
                </a:lnTo>
                <a:lnTo>
                  <a:pt x="553" y="785"/>
                </a:lnTo>
                <a:lnTo>
                  <a:pt x="553" y="780"/>
                </a:lnTo>
                <a:lnTo>
                  <a:pt x="553" y="780"/>
                </a:lnTo>
                <a:lnTo>
                  <a:pt x="553" y="780"/>
                </a:lnTo>
                <a:lnTo>
                  <a:pt x="553" y="776"/>
                </a:lnTo>
                <a:lnTo>
                  <a:pt x="553" y="776"/>
                </a:lnTo>
                <a:lnTo>
                  <a:pt x="553" y="776"/>
                </a:lnTo>
                <a:lnTo>
                  <a:pt x="590" y="757"/>
                </a:lnTo>
                <a:lnTo>
                  <a:pt x="721" y="701"/>
                </a:lnTo>
                <a:lnTo>
                  <a:pt x="735" y="691"/>
                </a:lnTo>
                <a:lnTo>
                  <a:pt x="754" y="691"/>
                </a:lnTo>
                <a:lnTo>
                  <a:pt x="759" y="687"/>
                </a:lnTo>
                <a:lnTo>
                  <a:pt x="759" y="687"/>
                </a:lnTo>
                <a:lnTo>
                  <a:pt x="759" y="687"/>
                </a:lnTo>
                <a:lnTo>
                  <a:pt x="763" y="682"/>
                </a:lnTo>
                <a:lnTo>
                  <a:pt x="763" y="682"/>
                </a:lnTo>
                <a:lnTo>
                  <a:pt x="763" y="682"/>
                </a:lnTo>
                <a:lnTo>
                  <a:pt x="768" y="677"/>
                </a:lnTo>
                <a:lnTo>
                  <a:pt x="768" y="677"/>
                </a:lnTo>
                <a:lnTo>
                  <a:pt x="787" y="668"/>
                </a:lnTo>
                <a:lnTo>
                  <a:pt x="801" y="659"/>
                </a:lnTo>
                <a:lnTo>
                  <a:pt x="834" y="645"/>
                </a:lnTo>
                <a:lnTo>
                  <a:pt x="899" y="603"/>
                </a:lnTo>
                <a:lnTo>
                  <a:pt x="927" y="589"/>
                </a:lnTo>
                <a:lnTo>
                  <a:pt x="941" y="575"/>
                </a:lnTo>
                <a:lnTo>
                  <a:pt x="955" y="565"/>
                </a:lnTo>
                <a:lnTo>
                  <a:pt x="974" y="551"/>
                </a:lnTo>
                <a:lnTo>
                  <a:pt x="993" y="542"/>
                </a:lnTo>
                <a:lnTo>
                  <a:pt x="1012" y="532"/>
                </a:lnTo>
                <a:lnTo>
                  <a:pt x="1030" y="523"/>
                </a:lnTo>
                <a:lnTo>
                  <a:pt x="1049" y="514"/>
                </a:lnTo>
                <a:lnTo>
                  <a:pt x="1073" y="504"/>
                </a:lnTo>
                <a:lnTo>
                  <a:pt x="1096" y="495"/>
                </a:lnTo>
                <a:lnTo>
                  <a:pt x="1115" y="486"/>
                </a:lnTo>
                <a:lnTo>
                  <a:pt x="1138" y="476"/>
                </a:lnTo>
                <a:lnTo>
                  <a:pt x="1162" y="462"/>
                </a:lnTo>
                <a:lnTo>
                  <a:pt x="1185" y="453"/>
                </a:lnTo>
                <a:lnTo>
                  <a:pt x="1208" y="444"/>
                </a:lnTo>
                <a:lnTo>
                  <a:pt x="1232" y="434"/>
                </a:lnTo>
                <a:lnTo>
                  <a:pt x="1255" y="425"/>
                </a:lnTo>
                <a:lnTo>
                  <a:pt x="1255" y="425"/>
                </a:lnTo>
                <a:lnTo>
                  <a:pt x="1255" y="425"/>
                </a:lnTo>
                <a:lnTo>
                  <a:pt x="1260" y="425"/>
                </a:lnTo>
                <a:lnTo>
                  <a:pt x="1260" y="420"/>
                </a:lnTo>
                <a:lnTo>
                  <a:pt x="1260" y="420"/>
                </a:lnTo>
                <a:lnTo>
                  <a:pt x="1260" y="420"/>
                </a:lnTo>
                <a:lnTo>
                  <a:pt x="1279" y="416"/>
                </a:lnTo>
                <a:lnTo>
                  <a:pt x="1293" y="411"/>
                </a:lnTo>
                <a:lnTo>
                  <a:pt x="1307" y="402"/>
                </a:lnTo>
                <a:lnTo>
                  <a:pt x="1321" y="397"/>
                </a:lnTo>
                <a:lnTo>
                  <a:pt x="1340" y="392"/>
                </a:lnTo>
                <a:lnTo>
                  <a:pt x="1354" y="388"/>
                </a:lnTo>
                <a:lnTo>
                  <a:pt x="1368" y="383"/>
                </a:lnTo>
                <a:lnTo>
                  <a:pt x="1382" y="378"/>
                </a:lnTo>
                <a:lnTo>
                  <a:pt x="1415" y="360"/>
                </a:lnTo>
                <a:lnTo>
                  <a:pt x="1452" y="346"/>
                </a:lnTo>
                <a:lnTo>
                  <a:pt x="1485" y="332"/>
                </a:lnTo>
                <a:lnTo>
                  <a:pt x="1522" y="317"/>
                </a:lnTo>
                <a:lnTo>
                  <a:pt x="1555" y="308"/>
                </a:lnTo>
                <a:lnTo>
                  <a:pt x="1593" y="294"/>
                </a:lnTo>
                <a:lnTo>
                  <a:pt x="1625" y="285"/>
                </a:lnTo>
                <a:lnTo>
                  <a:pt x="1663" y="271"/>
                </a:lnTo>
                <a:lnTo>
                  <a:pt x="1677" y="266"/>
                </a:lnTo>
                <a:lnTo>
                  <a:pt x="1691" y="261"/>
                </a:lnTo>
                <a:lnTo>
                  <a:pt x="1710" y="257"/>
                </a:lnTo>
                <a:lnTo>
                  <a:pt x="1724" y="252"/>
                </a:lnTo>
                <a:lnTo>
                  <a:pt x="1743" y="247"/>
                </a:lnTo>
                <a:lnTo>
                  <a:pt x="1757" y="243"/>
                </a:lnTo>
                <a:lnTo>
                  <a:pt x="1775" y="238"/>
                </a:lnTo>
                <a:lnTo>
                  <a:pt x="1794" y="233"/>
                </a:lnTo>
                <a:lnTo>
                  <a:pt x="1832" y="219"/>
                </a:lnTo>
                <a:lnTo>
                  <a:pt x="1869" y="210"/>
                </a:lnTo>
                <a:lnTo>
                  <a:pt x="1907" y="201"/>
                </a:lnTo>
                <a:lnTo>
                  <a:pt x="1944" y="191"/>
                </a:lnTo>
                <a:lnTo>
                  <a:pt x="1981" y="177"/>
                </a:lnTo>
                <a:lnTo>
                  <a:pt x="2019" y="168"/>
                </a:lnTo>
                <a:lnTo>
                  <a:pt x="2056" y="159"/>
                </a:lnTo>
                <a:lnTo>
                  <a:pt x="2089" y="149"/>
                </a:lnTo>
                <a:lnTo>
                  <a:pt x="2103" y="149"/>
                </a:lnTo>
                <a:lnTo>
                  <a:pt x="2113" y="145"/>
                </a:lnTo>
                <a:lnTo>
                  <a:pt x="2122" y="145"/>
                </a:lnTo>
                <a:lnTo>
                  <a:pt x="2136" y="140"/>
                </a:lnTo>
                <a:lnTo>
                  <a:pt x="2145" y="135"/>
                </a:lnTo>
                <a:lnTo>
                  <a:pt x="2159" y="135"/>
                </a:lnTo>
                <a:lnTo>
                  <a:pt x="2169" y="131"/>
                </a:lnTo>
                <a:lnTo>
                  <a:pt x="2178" y="131"/>
                </a:lnTo>
                <a:lnTo>
                  <a:pt x="2234" y="121"/>
                </a:lnTo>
                <a:lnTo>
                  <a:pt x="2291" y="112"/>
                </a:lnTo>
                <a:lnTo>
                  <a:pt x="2347" y="102"/>
                </a:lnTo>
                <a:lnTo>
                  <a:pt x="2403" y="93"/>
                </a:lnTo>
                <a:lnTo>
                  <a:pt x="2459" y="88"/>
                </a:lnTo>
                <a:lnTo>
                  <a:pt x="2516" y="84"/>
                </a:lnTo>
                <a:lnTo>
                  <a:pt x="2572" y="79"/>
                </a:lnTo>
                <a:lnTo>
                  <a:pt x="2633" y="74"/>
                </a:lnTo>
                <a:lnTo>
                  <a:pt x="2656" y="74"/>
                </a:lnTo>
                <a:lnTo>
                  <a:pt x="2684" y="74"/>
                </a:lnTo>
                <a:lnTo>
                  <a:pt x="2712" y="74"/>
                </a:lnTo>
                <a:lnTo>
                  <a:pt x="2736" y="79"/>
                </a:lnTo>
                <a:lnTo>
                  <a:pt x="2764" y="79"/>
                </a:lnTo>
                <a:lnTo>
                  <a:pt x="2787" y="79"/>
                </a:lnTo>
                <a:lnTo>
                  <a:pt x="2815" y="84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88"/>
                </a:lnTo>
                <a:lnTo>
                  <a:pt x="2843" y="93"/>
                </a:lnTo>
                <a:lnTo>
                  <a:pt x="2834" y="98"/>
                </a:lnTo>
                <a:lnTo>
                  <a:pt x="2820" y="102"/>
                </a:lnTo>
                <a:lnTo>
                  <a:pt x="2806" y="107"/>
                </a:lnTo>
                <a:lnTo>
                  <a:pt x="2792" y="112"/>
                </a:lnTo>
                <a:lnTo>
                  <a:pt x="2778" y="112"/>
                </a:lnTo>
                <a:lnTo>
                  <a:pt x="2764" y="117"/>
                </a:lnTo>
                <a:lnTo>
                  <a:pt x="2750" y="121"/>
                </a:lnTo>
                <a:lnTo>
                  <a:pt x="2736" y="126"/>
                </a:lnTo>
                <a:lnTo>
                  <a:pt x="2680" y="140"/>
                </a:lnTo>
                <a:lnTo>
                  <a:pt x="2623" y="154"/>
                </a:lnTo>
                <a:lnTo>
                  <a:pt x="2567" y="168"/>
                </a:lnTo>
                <a:lnTo>
                  <a:pt x="2516" y="182"/>
                </a:lnTo>
                <a:lnTo>
                  <a:pt x="2459" y="196"/>
                </a:lnTo>
                <a:lnTo>
                  <a:pt x="2403" y="210"/>
                </a:lnTo>
                <a:lnTo>
                  <a:pt x="2352" y="224"/>
                </a:lnTo>
                <a:lnTo>
                  <a:pt x="2295" y="243"/>
                </a:lnTo>
                <a:lnTo>
                  <a:pt x="2244" y="257"/>
                </a:lnTo>
                <a:lnTo>
                  <a:pt x="2192" y="271"/>
                </a:lnTo>
                <a:lnTo>
                  <a:pt x="2141" y="289"/>
                </a:lnTo>
                <a:lnTo>
                  <a:pt x="2094" y="308"/>
                </a:lnTo>
                <a:lnTo>
                  <a:pt x="2042" y="327"/>
                </a:lnTo>
                <a:lnTo>
                  <a:pt x="1996" y="346"/>
                </a:lnTo>
                <a:lnTo>
                  <a:pt x="1944" y="369"/>
                </a:lnTo>
                <a:lnTo>
                  <a:pt x="1897" y="388"/>
                </a:lnTo>
                <a:lnTo>
                  <a:pt x="1869" y="397"/>
                </a:lnTo>
                <a:lnTo>
                  <a:pt x="1846" y="411"/>
                </a:lnTo>
                <a:lnTo>
                  <a:pt x="1822" y="425"/>
                </a:lnTo>
                <a:lnTo>
                  <a:pt x="1799" y="444"/>
                </a:lnTo>
                <a:lnTo>
                  <a:pt x="1780" y="462"/>
                </a:lnTo>
                <a:lnTo>
                  <a:pt x="1761" y="476"/>
                </a:lnTo>
                <a:lnTo>
                  <a:pt x="1743" y="495"/>
                </a:lnTo>
                <a:lnTo>
                  <a:pt x="1724" y="509"/>
                </a:lnTo>
                <a:lnTo>
                  <a:pt x="1710" y="532"/>
                </a:lnTo>
                <a:lnTo>
                  <a:pt x="1710" y="542"/>
                </a:lnTo>
                <a:lnTo>
                  <a:pt x="1714" y="546"/>
                </a:lnTo>
                <a:lnTo>
                  <a:pt x="1714" y="556"/>
                </a:lnTo>
                <a:lnTo>
                  <a:pt x="1719" y="561"/>
                </a:lnTo>
                <a:lnTo>
                  <a:pt x="1724" y="570"/>
                </a:lnTo>
                <a:lnTo>
                  <a:pt x="1728" y="575"/>
                </a:lnTo>
                <a:lnTo>
                  <a:pt x="1738" y="579"/>
                </a:lnTo>
                <a:lnTo>
                  <a:pt x="1743" y="584"/>
                </a:lnTo>
                <a:lnTo>
                  <a:pt x="1771" y="593"/>
                </a:lnTo>
                <a:lnTo>
                  <a:pt x="1803" y="593"/>
                </a:lnTo>
                <a:lnTo>
                  <a:pt x="1836" y="593"/>
                </a:lnTo>
                <a:lnTo>
                  <a:pt x="1864" y="584"/>
                </a:lnTo>
                <a:lnTo>
                  <a:pt x="1897" y="575"/>
                </a:lnTo>
                <a:lnTo>
                  <a:pt x="1930" y="561"/>
                </a:lnTo>
                <a:lnTo>
                  <a:pt x="1958" y="551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1" y="537"/>
                </a:lnTo>
                <a:lnTo>
                  <a:pt x="1996" y="537"/>
                </a:lnTo>
                <a:lnTo>
                  <a:pt x="1996" y="537"/>
                </a:lnTo>
                <a:lnTo>
                  <a:pt x="1996" y="542"/>
                </a:lnTo>
                <a:lnTo>
                  <a:pt x="2000" y="542"/>
                </a:lnTo>
                <a:lnTo>
                  <a:pt x="2000" y="537"/>
                </a:lnTo>
                <a:lnTo>
                  <a:pt x="2005" y="537"/>
                </a:lnTo>
                <a:lnTo>
                  <a:pt x="2014" y="532"/>
                </a:lnTo>
                <a:lnTo>
                  <a:pt x="2019" y="532"/>
                </a:lnTo>
                <a:lnTo>
                  <a:pt x="2028" y="528"/>
                </a:lnTo>
                <a:lnTo>
                  <a:pt x="2033" y="523"/>
                </a:lnTo>
                <a:lnTo>
                  <a:pt x="2042" y="523"/>
                </a:lnTo>
                <a:lnTo>
                  <a:pt x="2052" y="518"/>
                </a:lnTo>
                <a:lnTo>
                  <a:pt x="2056" y="518"/>
                </a:lnTo>
                <a:lnTo>
                  <a:pt x="2080" y="509"/>
                </a:lnTo>
                <a:lnTo>
                  <a:pt x="2099" y="504"/>
                </a:lnTo>
                <a:lnTo>
                  <a:pt x="2122" y="495"/>
                </a:lnTo>
                <a:lnTo>
                  <a:pt x="2141" y="490"/>
                </a:lnTo>
                <a:lnTo>
                  <a:pt x="2159" y="481"/>
                </a:lnTo>
                <a:lnTo>
                  <a:pt x="2178" y="476"/>
                </a:lnTo>
                <a:lnTo>
                  <a:pt x="2202" y="467"/>
                </a:lnTo>
                <a:lnTo>
                  <a:pt x="2220" y="462"/>
                </a:lnTo>
                <a:lnTo>
                  <a:pt x="2230" y="462"/>
                </a:lnTo>
                <a:lnTo>
                  <a:pt x="2234" y="458"/>
                </a:lnTo>
                <a:lnTo>
                  <a:pt x="2239" y="458"/>
                </a:lnTo>
                <a:lnTo>
                  <a:pt x="2244" y="453"/>
                </a:lnTo>
                <a:lnTo>
                  <a:pt x="2249" y="453"/>
                </a:lnTo>
                <a:lnTo>
                  <a:pt x="2253" y="453"/>
                </a:lnTo>
                <a:lnTo>
                  <a:pt x="2258" y="448"/>
                </a:lnTo>
                <a:lnTo>
                  <a:pt x="2263" y="444"/>
                </a:lnTo>
                <a:lnTo>
                  <a:pt x="2277" y="444"/>
                </a:lnTo>
                <a:lnTo>
                  <a:pt x="2286" y="444"/>
                </a:lnTo>
                <a:lnTo>
                  <a:pt x="2295" y="439"/>
                </a:lnTo>
                <a:lnTo>
                  <a:pt x="2305" y="434"/>
                </a:lnTo>
                <a:lnTo>
                  <a:pt x="2319" y="430"/>
                </a:lnTo>
                <a:lnTo>
                  <a:pt x="2328" y="430"/>
                </a:lnTo>
                <a:lnTo>
                  <a:pt x="2338" y="425"/>
                </a:lnTo>
                <a:lnTo>
                  <a:pt x="2352" y="425"/>
                </a:lnTo>
                <a:lnTo>
                  <a:pt x="2356" y="420"/>
                </a:lnTo>
                <a:lnTo>
                  <a:pt x="2361" y="420"/>
                </a:lnTo>
                <a:lnTo>
                  <a:pt x="2366" y="416"/>
                </a:lnTo>
                <a:lnTo>
                  <a:pt x="2370" y="416"/>
                </a:lnTo>
                <a:lnTo>
                  <a:pt x="2375" y="416"/>
                </a:lnTo>
                <a:lnTo>
                  <a:pt x="2380" y="411"/>
                </a:lnTo>
                <a:lnTo>
                  <a:pt x="2389" y="411"/>
                </a:lnTo>
                <a:lnTo>
                  <a:pt x="2394" y="411"/>
                </a:lnTo>
                <a:lnTo>
                  <a:pt x="2398" y="416"/>
                </a:lnTo>
                <a:lnTo>
                  <a:pt x="2408" y="420"/>
                </a:lnTo>
                <a:lnTo>
                  <a:pt x="2412" y="425"/>
                </a:lnTo>
                <a:lnTo>
                  <a:pt x="2422" y="434"/>
                </a:lnTo>
                <a:lnTo>
                  <a:pt x="2427" y="439"/>
                </a:lnTo>
                <a:lnTo>
                  <a:pt x="2436" y="448"/>
                </a:lnTo>
                <a:lnTo>
                  <a:pt x="2445" y="448"/>
                </a:lnTo>
                <a:lnTo>
                  <a:pt x="2455" y="453"/>
                </a:lnTo>
                <a:lnTo>
                  <a:pt x="2473" y="453"/>
                </a:lnTo>
                <a:lnTo>
                  <a:pt x="2487" y="448"/>
                </a:lnTo>
                <a:lnTo>
                  <a:pt x="2501" y="448"/>
                </a:lnTo>
                <a:lnTo>
                  <a:pt x="2516" y="444"/>
                </a:lnTo>
                <a:lnTo>
                  <a:pt x="2534" y="439"/>
                </a:lnTo>
                <a:lnTo>
                  <a:pt x="2548" y="434"/>
                </a:lnTo>
                <a:lnTo>
                  <a:pt x="2562" y="430"/>
                </a:lnTo>
                <a:lnTo>
                  <a:pt x="2576" y="430"/>
                </a:lnTo>
                <a:lnTo>
                  <a:pt x="2600" y="430"/>
                </a:lnTo>
                <a:lnTo>
                  <a:pt x="2623" y="425"/>
                </a:lnTo>
                <a:lnTo>
                  <a:pt x="2647" y="425"/>
                </a:lnTo>
                <a:lnTo>
                  <a:pt x="2670" y="425"/>
                </a:lnTo>
                <a:lnTo>
                  <a:pt x="2694" y="420"/>
                </a:lnTo>
                <a:lnTo>
                  <a:pt x="2717" y="420"/>
                </a:lnTo>
                <a:lnTo>
                  <a:pt x="2736" y="420"/>
                </a:lnTo>
                <a:lnTo>
                  <a:pt x="2759" y="420"/>
                </a:lnTo>
                <a:lnTo>
                  <a:pt x="2820" y="420"/>
                </a:lnTo>
                <a:lnTo>
                  <a:pt x="2881" y="416"/>
                </a:lnTo>
                <a:lnTo>
                  <a:pt x="2942" y="416"/>
                </a:lnTo>
                <a:lnTo>
                  <a:pt x="3003" y="411"/>
                </a:lnTo>
                <a:lnTo>
                  <a:pt x="3064" y="411"/>
                </a:lnTo>
                <a:lnTo>
                  <a:pt x="3125" y="411"/>
                </a:lnTo>
                <a:lnTo>
                  <a:pt x="3190" y="416"/>
                </a:lnTo>
                <a:lnTo>
                  <a:pt x="3251" y="420"/>
                </a:lnTo>
                <a:lnTo>
                  <a:pt x="3312" y="420"/>
                </a:lnTo>
                <a:lnTo>
                  <a:pt x="3373" y="425"/>
                </a:lnTo>
                <a:lnTo>
                  <a:pt x="3434" y="430"/>
                </a:lnTo>
                <a:lnTo>
                  <a:pt x="3495" y="430"/>
                </a:lnTo>
                <a:lnTo>
                  <a:pt x="3556" y="430"/>
                </a:lnTo>
                <a:lnTo>
                  <a:pt x="3617" y="430"/>
                </a:lnTo>
                <a:lnTo>
                  <a:pt x="3673" y="430"/>
                </a:lnTo>
                <a:lnTo>
                  <a:pt x="3734" y="420"/>
                </a:lnTo>
                <a:lnTo>
                  <a:pt x="3757" y="416"/>
                </a:lnTo>
                <a:lnTo>
                  <a:pt x="3780" y="411"/>
                </a:lnTo>
                <a:lnTo>
                  <a:pt x="3799" y="411"/>
                </a:lnTo>
                <a:lnTo>
                  <a:pt x="3823" y="406"/>
                </a:lnTo>
                <a:lnTo>
                  <a:pt x="3846" y="406"/>
                </a:lnTo>
                <a:lnTo>
                  <a:pt x="3865" y="406"/>
                </a:lnTo>
                <a:lnTo>
                  <a:pt x="3888" y="402"/>
                </a:lnTo>
                <a:lnTo>
                  <a:pt x="3907" y="397"/>
                </a:lnTo>
                <a:lnTo>
                  <a:pt x="3912" y="397"/>
                </a:lnTo>
                <a:lnTo>
                  <a:pt x="3916" y="397"/>
                </a:lnTo>
                <a:lnTo>
                  <a:pt x="3921" y="397"/>
                </a:lnTo>
                <a:lnTo>
                  <a:pt x="3926" y="397"/>
                </a:lnTo>
                <a:lnTo>
                  <a:pt x="3930" y="397"/>
                </a:lnTo>
                <a:lnTo>
                  <a:pt x="3935" y="397"/>
                </a:lnTo>
                <a:lnTo>
                  <a:pt x="3935" y="397"/>
                </a:lnTo>
                <a:lnTo>
                  <a:pt x="3940" y="392"/>
                </a:lnTo>
                <a:lnTo>
                  <a:pt x="4268" y="392"/>
                </a:lnTo>
                <a:lnTo>
                  <a:pt x="4315" y="397"/>
                </a:lnTo>
                <a:lnTo>
                  <a:pt x="4361" y="402"/>
                </a:lnTo>
                <a:lnTo>
                  <a:pt x="4413" y="402"/>
                </a:lnTo>
                <a:lnTo>
                  <a:pt x="4460" y="402"/>
                </a:lnTo>
                <a:lnTo>
                  <a:pt x="4511" y="406"/>
                </a:lnTo>
                <a:lnTo>
                  <a:pt x="4558" y="406"/>
                </a:lnTo>
                <a:lnTo>
                  <a:pt x="4605" y="411"/>
                </a:lnTo>
                <a:lnTo>
                  <a:pt x="4657" y="420"/>
                </a:lnTo>
                <a:lnTo>
                  <a:pt x="4666" y="425"/>
                </a:lnTo>
                <a:lnTo>
                  <a:pt x="4680" y="430"/>
                </a:lnTo>
                <a:lnTo>
                  <a:pt x="4694" y="434"/>
                </a:lnTo>
                <a:lnTo>
                  <a:pt x="4703" y="434"/>
                </a:lnTo>
                <a:lnTo>
                  <a:pt x="4717" y="434"/>
                </a:lnTo>
                <a:lnTo>
                  <a:pt x="4727" y="430"/>
                </a:lnTo>
                <a:lnTo>
                  <a:pt x="4741" y="425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6"/>
                </a:lnTo>
                <a:lnTo>
                  <a:pt x="4750" y="411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0880" y="2471760"/>
            <a:ext cx="685800" cy="2864160"/>
            <a:chOff x="380880" y="2471760"/>
            <a:chExt cx="685800" cy="2864160"/>
          </a:xfrm>
        </p:grpSpPr>
        <p:sp>
          <p:nvSpPr>
            <p:cNvPr id="142" name=""/>
            <p:cNvSpPr/>
            <p:nvPr/>
          </p:nvSpPr>
          <p:spPr>
            <a:xfrm>
              <a:off x="380880" y="3276720"/>
              <a:ext cx="68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640" y="4022640"/>
              <a:ext cx="4032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4960" y="4708440"/>
              <a:ext cx="4442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430200" y="2471760"/>
            <a:ext cx="501840" cy="65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2471760"/>
                      <a:ext cx="50184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"/>
          <p:cNvGrpSpPr/>
          <p:nvPr/>
        </p:nvGrpSpPr>
        <p:grpSpPr>
          <a:xfrm>
            <a:off x="1828800" y="914400"/>
            <a:ext cx="3765600" cy="1425600"/>
            <a:chOff x="1828800" y="914400"/>
            <a:chExt cx="3765600" cy="1425600"/>
          </a:xfrm>
        </p:grpSpPr>
        <p:sp>
          <p:nvSpPr>
            <p:cNvPr id="148" name=""/>
            <p:cNvSpPr/>
            <p:nvPr/>
          </p:nvSpPr>
          <p:spPr>
            <a:xfrm>
              <a:off x="1828800" y="1203480"/>
              <a:ext cx="137160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9" name=""/>
            <p:cNvGraphicFramePr/>
            <p:nvPr/>
          </p:nvGraphicFramePr>
          <p:xfrm>
            <a:off x="3529080" y="914400"/>
            <a:ext cx="2065320" cy="1425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29080" y="914400"/>
                      <a:ext cx="2065320" cy="1425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81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>
    <p:cover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5d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43000" y="914400"/>
            <a:ext cx="7391520" cy="5624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1143000"/>
            <a:ext cx="815328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e of five executives received the following bonuses last year ($00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.0       15.0       17.0       16.0        15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0360" y="2986200"/>
            <a:ext cx="78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e the average bonus given last ye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880" y="3325680"/>
            <a:ext cx="719280" cy="712800"/>
            <a:chOff x="380880" y="3325680"/>
            <a:chExt cx="719280" cy="712800"/>
          </a:xfrm>
        </p:grpSpPr>
        <p:grpSp>
          <p:nvGrpSpPr>
            <p:cNvPr id="155" name=""/>
            <p:cNvGrpSpPr/>
            <p:nvPr/>
          </p:nvGrpSpPr>
          <p:grpSpPr>
            <a:xfrm>
              <a:off x="380880" y="3325680"/>
              <a:ext cx="719280" cy="712800"/>
              <a:chOff x="380880" y="3325680"/>
              <a:chExt cx="719280" cy="712800"/>
            </a:xfrm>
          </p:grpSpPr>
          <p:sp>
            <p:nvSpPr>
              <p:cNvPr id="156" name=""/>
              <p:cNvSpPr/>
              <p:nvPr/>
            </p:nvSpPr>
            <p:spPr>
              <a:xfrm>
                <a:off x="380880" y="3352680"/>
                <a:ext cx="63360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399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6920" y="3325680"/>
                <a:ext cx="633240" cy="685800"/>
              </a:xfrm>
              <a:custGeom>
                <a:avLst/>
                <a:gdLst/>
                <a:ahLst/>
                <a:rect l="l" t="t" r="r" b="b"/>
                <a:pathLst>
                  <a:path w="800" h="865">
                    <a:moveTo>
                      <a:pt x="0" y="865"/>
                    </a:moveTo>
                    <a:lnTo>
                      <a:pt x="401" y="0"/>
                    </a:lnTo>
                    <a:lnTo>
                      <a:pt x="800" y="865"/>
                    </a:lnTo>
                    <a:lnTo>
                      <a:pt x="0" y="8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fefefe"/>
                  </a:gs>
                  <a:gs pos="100000">
                    <a:srgbClr val="ffffcc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 txBox="1"/>
            <p:nvPr/>
          </p:nvSpPr>
          <p:spPr>
            <a:xfrm>
              <a:off x="533520" y="3467160"/>
              <a:ext cx="4572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005360" y="3962520"/>
            <a:ext cx="4071960" cy="1008000"/>
            <a:chOff x="4005360" y="3962520"/>
            <a:chExt cx="4071960" cy="1008000"/>
          </a:xfrm>
        </p:grpSpPr>
        <p:sp>
          <p:nvSpPr>
            <p:cNvPr id="160" name=""/>
            <p:cNvSpPr/>
            <p:nvPr/>
          </p:nvSpPr>
          <p:spPr>
            <a:xfrm>
              <a:off x="4037040" y="3962520"/>
              <a:ext cx="4040280" cy="10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4 + 15 + 17 + 16 + 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95960" y="4495680"/>
              <a:ext cx="352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05360" y="41911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095880" y="5059440"/>
            <a:ext cx="16002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1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81560" y="228600"/>
            <a:ext cx="2485440" cy="871560"/>
            <a:chOff x="3481560" y="228600"/>
            <a:chExt cx="2485440" cy="871560"/>
          </a:xfrm>
        </p:grpSpPr>
        <p:sp>
          <p:nvSpPr>
            <p:cNvPr id="165" name=""/>
            <p:cNvSpPr txBox="1"/>
            <p:nvPr/>
          </p:nvSpPr>
          <p:spPr>
            <a:xfrm>
              <a:off x="3481560" y="228600"/>
              <a:ext cx="60444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119480" y="438120"/>
              <a:ext cx="184752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80880" y="5715000"/>
            <a:ext cx="8305920" cy="52056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1040" dir="827915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The average bonus given last year was $15 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5059440"/>
            <a:ext cx="16002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77 /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80880" y="3809880"/>
            <a:ext cx="3513240" cy="1425600"/>
            <a:chOff x="380880" y="3809880"/>
            <a:chExt cx="3513240" cy="1425600"/>
          </a:xfrm>
        </p:grpSpPr>
        <p:sp>
          <p:nvSpPr>
            <p:cNvPr id="170" name=""/>
            <p:cNvSpPr/>
            <p:nvPr/>
          </p:nvSpPr>
          <p:spPr>
            <a:xfrm>
              <a:off x="380880" y="4267080"/>
              <a:ext cx="1371600" cy="45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71785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Formu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1828800" y="3809880"/>
            <a:ext cx="2065320" cy="1425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3809880"/>
                      <a:ext cx="2065320" cy="14256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81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>
    <p:dissolv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75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5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75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75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11:56:08Z</dcterms:created>
  <dc:creator>Colleen Quinn &amp; Ron Thornbury</dc:creator>
  <dc:description/>
  <dc:language>en-US</dc:language>
  <cp:lastModifiedBy>jeff_skinner</cp:lastModifiedBy>
  <dcterms:modified xsi:type="dcterms:W3CDTF">2003-04-28T14:06:23Z</dcterms:modified>
  <cp:revision>155</cp:revision>
  <dc:subject/>
  <dc:title>PowerPoint Presentation</dc:title>
</cp:coreProperties>
</file>