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8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6.wmf" ContentType="image/x-wmf"/>
  <Override PartName="/ppt/media/image9.jpeg" ContentType="image/jpeg"/>
  <Override PartName="/ppt/media/image32.png" ContentType="image/png"/>
  <Override PartName="/ppt/media/image15.wmf" ContentType="image/x-wmf"/>
  <Override PartName="/ppt/media/image34.wmf" ContentType="image/x-wmf"/>
  <Override PartName="/ppt/media/image35.png" ContentType="image/png"/>
  <Override PartName="/ppt/media/image13.png" ContentType="image/png"/>
  <Override PartName="/ppt/media/image8.wmf" ContentType="image/x-wmf"/>
  <Override PartName="/ppt/media/image33.wmf" ContentType="image/x-wmf"/>
  <Override PartName="/ppt/media/image37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39.jpeg" ContentType="image/jpeg"/>
  <Override PartName="/ppt/media/image10.png" ContentType="image/png"/>
  <Override PartName="/ppt/media/image4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6.jpeg" ContentType="image/jpeg"/>
  <Override PartName="/ppt/media/image18.wmf" ContentType="image/x-wmf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" name=""/>
          <p:cNvSpPr txBox="1"/>
          <p:nvPr/>
        </p:nvSpPr>
        <p:spPr>
          <a:xfrm>
            <a:off x="533520" y="228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 - </a:t>
            </a:r>
            <a:fld id="{FE08DFDB-6B4A-4DFA-BB36-73B269225B08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4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95280" y="2438280"/>
            <a:ext cx="6477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Other Descriptive Measur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143000" y="68760"/>
            <a:ext cx="6477120" cy="1326600"/>
            <a:chOff x="1143000" y="68760"/>
            <a:chExt cx="6477120" cy="1326600"/>
          </a:xfrm>
        </p:grpSpPr>
        <p:sp>
          <p:nvSpPr>
            <p:cNvPr id="186" name=""/>
            <p:cNvSpPr/>
            <p:nvPr/>
          </p:nvSpPr>
          <p:spPr>
            <a:xfrm rot="121200">
              <a:off x="2284560" y="155520"/>
              <a:ext cx="4952880" cy="1152720"/>
            </a:xfrm>
            <a:custGeom>
              <a:avLst/>
              <a:gdLst/>
              <a:ahLst/>
              <a:rect l="l" t="t" r="r" b="b"/>
              <a:pathLst>
                <a:path w="2085" h="2090">
                  <a:moveTo>
                    <a:pt x="751" y="2087"/>
                  </a:moveTo>
                  <a:lnTo>
                    <a:pt x="754" y="2087"/>
                  </a:lnTo>
                  <a:lnTo>
                    <a:pt x="757" y="2087"/>
                  </a:lnTo>
                  <a:lnTo>
                    <a:pt x="759" y="2087"/>
                  </a:lnTo>
                  <a:lnTo>
                    <a:pt x="762" y="2087"/>
                  </a:lnTo>
                  <a:lnTo>
                    <a:pt x="765" y="2087"/>
                  </a:lnTo>
                  <a:lnTo>
                    <a:pt x="768" y="2087"/>
                  </a:lnTo>
                  <a:lnTo>
                    <a:pt x="770" y="2087"/>
                  </a:lnTo>
                  <a:lnTo>
                    <a:pt x="773" y="2084"/>
                  </a:lnTo>
                  <a:lnTo>
                    <a:pt x="776" y="2084"/>
                  </a:lnTo>
                  <a:lnTo>
                    <a:pt x="776" y="2084"/>
                  </a:lnTo>
                  <a:lnTo>
                    <a:pt x="779" y="2084"/>
                  </a:lnTo>
                  <a:lnTo>
                    <a:pt x="781" y="2084"/>
                  </a:lnTo>
                  <a:lnTo>
                    <a:pt x="781" y="2082"/>
                  </a:lnTo>
                  <a:lnTo>
                    <a:pt x="784" y="2082"/>
                  </a:lnTo>
                  <a:lnTo>
                    <a:pt x="787" y="2082"/>
                  </a:lnTo>
                  <a:lnTo>
                    <a:pt x="790" y="2082"/>
                  </a:lnTo>
                  <a:lnTo>
                    <a:pt x="825" y="2062"/>
                  </a:lnTo>
                  <a:lnTo>
                    <a:pt x="861" y="2040"/>
                  </a:lnTo>
                  <a:lnTo>
                    <a:pt x="894" y="2016"/>
                  </a:lnTo>
                  <a:lnTo>
                    <a:pt x="924" y="1988"/>
                  </a:lnTo>
                  <a:lnTo>
                    <a:pt x="955" y="1958"/>
                  </a:lnTo>
                  <a:lnTo>
                    <a:pt x="982" y="1928"/>
                  </a:lnTo>
                  <a:lnTo>
                    <a:pt x="1010" y="1895"/>
                  </a:lnTo>
                  <a:lnTo>
                    <a:pt x="1037" y="1864"/>
                  </a:lnTo>
                  <a:lnTo>
                    <a:pt x="1040" y="1862"/>
                  </a:lnTo>
                  <a:lnTo>
                    <a:pt x="1043" y="1862"/>
                  </a:lnTo>
                  <a:lnTo>
                    <a:pt x="1045" y="1862"/>
                  </a:lnTo>
                  <a:lnTo>
                    <a:pt x="1048" y="1862"/>
                  </a:lnTo>
                  <a:lnTo>
                    <a:pt x="1051" y="1862"/>
                  </a:lnTo>
                  <a:lnTo>
                    <a:pt x="1054" y="1862"/>
                  </a:lnTo>
                  <a:lnTo>
                    <a:pt x="1056" y="1862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5" y="1870"/>
                  </a:lnTo>
                  <a:lnTo>
                    <a:pt x="1065" y="1870"/>
                  </a:lnTo>
                  <a:lnTo>
                    <a:pt x="1067" y="1873"/>
                  </a:lnTo>
                  <a:lnTo>
                    <a:pt x="1067" y="1873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8" y="1884"/>
                  </a:lnTo>
                  <a:lnTo>
                    <a:pt x="1084" y="1895"/>
                  </a:lnTo>
                  <a:lnTo>
                    <a:pt x="1092" y="1903"/>
                  </a:lnTo>
                  <a:lnTo>
                    <a:pt x="1103" y="1911"/>
                  </a:lnTo>
                  <a:lnTo>
                    <a:pt x="1111" y="1919"/>
                  </a:lnTo>
                  <a:lnTo>
                    <a:pt x="1122" y="1925"/>
                  </a:lnTo>
                  <a:lnTo>
                    <a:pt x="1133" y="1930"/>
                  </a:lnTo>
                  <a:lnTo>
                    <a:pt x="1147" y="1933"/>
                  </a:lnTo>
                  <a:lnTo>
                    <a:pt x="1153" y="1936"/>
                  </a:lnTo>
                  <a:lnTo>
                    <a:pt x="1161" y="1936"/>
                  </a:lnTo>
                  <a:lnTo>
                    <a:pt x="1166" y="1936"/>
                  </a:lnTo>
                  <a:lnTo>
                    <a:pt x="1175" y="1936"/>
                  </a:lnTo>
                  <a:lnTo>
                    <a:pt x="1180" y="1936"/>
                  </a:lnTo>
                  <a:lnTo>
                    <a:pt x="1188" y="1933"/>
                  </a:lnTo>
                  <a:lnTo>
                    <a:pt x="1197" y="1933"/>
                  </a:lnTo>
                  <a:lnTo>
                    <a:pt x="1205" y="1933"/>
                  </a:lnTo>
                  <a:lnTo>
                    <a:pt x="1205" y="1933"/>
                  </a:lnTo>
                  <a:lnTo>
                    <a:pt x="1208" y="1933"/>
                  </a:lnTo>
                  <a:lnTo>
                    <a:pt x="1208" y="1930"/>
                  </a:lnTo>
                  <a:lnTo>
                    <a:pt x="1210" y="1930"/>
                  </a:lnTo>
                  <a:lnTo>
                    <a:pt x="1213" y="1930"/>
                  </a:lnTo>
                  <a:lnTo>
                    <a:pt x="1216" y="1928"/>
                  </a:lnTo>
                  <a:lnTo>
                    <a:pt x="1216" y="1928"/>
                  </a:lnTo>
                  <a:lnTo>
                    <a:pt x="1219" y="1928"/>
                  </a:lnTo>
                  <a:lnTo>
                    <a:pt x="1221" y="1928"/>
                  </a:lnTo>
                  <a:lnTo>
                    <a:pt x="1224" y="1925"/>
                  </a:lnTo>
                  <a:lnTo>
                    <a:pt x="1227" y="1925"/>
                  </a:lnTo>
                  <a:lnTo>
                    <a:pt x="1230" y="1925"/>
                  </a:lnTo>
                  <a:lnTo>
                    <a:pt x="1232" y="1922"/>
                  </a:lnTo>
                  <a:lnTo>
                    <a:pt x="1235" y="1922"/>
                  </a:lnTo>
                  <a:lnTo>
                    <a:pt x="1238" y="1922"/>
                  </a:lnTo>
                  <a:lnTo>
                    <a:pt x="1241" y="1919"/>
                  </a:lnTo>
                  <a:lnTo>
                    <a:pt x="1241" y="1919"/>
                  </a:lnTo>
                  <a:lnTo>
                    <a:pt x="1243" y="1919"/>
                  </a:lnTo>
                  <a:lnTo>
                    <a:pt x="1243" y="1917"/>
                  </a:lnTo>
                  <a:lnTo>
                    <a:pt x="1246" y="1917"/>
                  </a:lnTo>
                  <a:lnTo>
                    <a:pt x="1249" y="1917"/>
                  </a:lnTo>
                  <a:lnTo>
                    <a:pt x="1252" y="1914"/>
                  </a:lnTo>
                  <a:lnTo>
                    <a:pt x="1252" y="1914"/>
                  </a:lnTo>
                  <a:lnTo>
                    <a:pt x="1254" y="1914"/>
                  </a:lnTo>
                  <a:lnTo>
                    <a:pt x="1329" y="1878"/>
                  </a:lnTo>
                  <a:lnTo>
                    <a:pt x="1331" y="1878"/>
                  </a:lnTo>
                  <a:lnTo>
                    <a:pt x="1334" y="1878"/>
                  </a:lnTo>
                  <a:lnTo>
                    <a:pt x="1337" y="1878"/>
                  </a:lnTo>
                  <a:lnTo>
                    <a:pt x="1340" y="1878"/>
                  </a:lnTo>
                  <a:lnTo>
                    <a:pt x="1342" y="1881"/>
                  </a:lnTo>
                  <a:lnTo>
                    <a:pt x="1345" y="1881"/>
                  </a:lnTo>
                  <a:lnTo>
                    <a:pt x="1348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9"/>
                  </a:lnTo>
                  <a:lnTo>
                    <a:pt x="1353" y="1889"/>
                  </a:lnTo>
                  <a:lnTo>
                    <a:pt x="1356" y="1889"/>
                  </a:lnTo>
                  <a:lnTo>
                    <a:pt x="1356" y="1889"/>
                  </a:lnTo>
                  <a:lnTo>
                    <a:pt x="1356" y="1892"/>
                  </a:lnTo>
                  <a:lnTo>
                    <a:pt x="1356" y="1892"/>
                  </a:lnTo>
                  <a:lnTo>
                    <a:pt x="1356" y="1895"/>
                  </a:lnTo>
                  <a:lnTo>
                    <a:pt x="1359" y="1895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64" y="1903"/>
                  </a:lnTo>
                  <a:lnTo>
                    <a:pt x="1370" y="1911"/>
                  </a:lnTo>
                  <a:lnTo>
                    <a:pt x="1375" y="1917"/>
                  </a:lnTo>
                  <a:lnTo>
                    <a:pt x="1384" y="1922"/>
                  </a:lnTo>
                  <a:lnTo>
                    <a:pt x="1389" y="1930"/>
                  </a:lnTo>
                  <a:lnTo>
                    <a:pt x="1395" y="1936"/>
                  </a:lnTo>
                  <a:lnTo>
                    <a:pt x="1403" y="1941"/>
                  </a:lnTo>
                  <a:lnTo>
                    <a:pt x="1408" y="1947"/>
                  </a:lnTo>
                  <a:lnTo>
                    <a:pt x="1414" y="1947"/>
                  </a:lnTo>
                  <a:lnTo>
                    <a:pt x="1417" y="1950"/>
                  </a:lnTo>
                  <a:lnTo>
                    <a:pt x="1422" y="1952"/>
                  </a:lnTo>
                  <a:lnTo>
                    <a:pt x="1428" y="1952"/>
                  </a:lnTo>
                  <a:lnTo>
                    <a:pt x="1436" y="1952"/>
                  </a:lnTo>
                  <a:lnTo>
                    <a:pt x="1441" y="1955"/>
                  </a:lnTo>
                  <a:lnTo>
                    <a:pt x="1447" y="1955"/>
                  </a:lnTo>
                  <a:lnTo>
                    <a:pt x="1452" y="1955"/>
                  </a:lnTo>
                  <a:lnTo>
                    <a:pt x="1494" y="1933"/>
                  </a:lnTo>
                  <a:lnTo>
                    <a:pt x="1529" y="1906"/>
                  </a:lnTo>
                  <a:lnTo>
                    <a:pt x="1560" y="1873"/>
                  </a:lnTo>
                  <a:lnTo>
                    <a:pt x="1590" y="1837"/>
                  </a:lnTo>
                  <a:lnTo>
                    <a:pt x="1617" y="1801"/>
                  </a:lnTo>
                  <a:lnTo>
                    <a:pt x="1645" y="1765"/>
                  </a:lnTo>
                  <a:lnTo>
                    <a:pt x="1672" y="1730"/>
                  </a:lnTo>
                  <a:lnTo>
                    <a:pt x="1703" y="1697"/>
                  </a:lnTo>
                  <a:lnTo>
                    <a:pt x="1733" y="1658"/>
                  </a:lnTo>
                  <a:lnTo>
                    <a:pt x="1763" y="1620"/>
                  </a:lnTo>
                  <a:lnTo>
                    <a:pt x="1793" y="1584"/>
                  </a:lnTo>
                  <a:lnTo>
                    <a:pt x="1821" y="1548"/>
                  </a:lnTo>
                  <a:lnTo>
                    <a:pt x="1848" y="1510"/>
                  </a:lnTo>
                  <a:lnTo>
                    <a:pt x="1873" y="1474"/>
                  </a:lnTo>
                  <a:lnTo>
                    <a:pt x="1898" y="1435"/>
                  </a:lnTo>
                  <a:lnTo>
                    <a:pt x="1920" y="1394"/>
                  </a:lnTo>
                  <a:lnTo>
                    <a:pt x="1945" y="1356"/>
                  </a:lnTo>
                  <a:lnTo>
                    <a:pt x="1967" y="1317"/>
                  </a:lnTo>
                  <a:lnTo>
                    <a:pt x="1991" y="1279"/>
                  </a:lnTo>
                  <a:lnTo>
                    <a:pt x="2013" y="1240"/>
                  </a:lnTo>
                  <a:lnTo>
                    <a:pt x="2033" y="1202"/>
                  </a:lnTo>
                  <a:lnTo>
                    <a:pt x="2052" y="1163"/>
                  </a:lnTo>
                  <a:lnTo>
                    <a:pt x="2071" y="1125"/>
                  </a:lnTo>
                  <a:lnTo>
                    <a:pt x="2085" y="1083"/>
                  </a:lnTo>
                  <a:lnTo>
                    <a:pt x="2085" y="1083"/>
                  </a:lnTo>
                  <a:lnTo>
                    <a:pt x="2085" y="1081"/>
                  </a:lnTo>
                  <a:lnTo>
                    <a:pt x="2085" y="1081"/>
                  </a:lnTo>
                  <a:lnTo>
                    <a:pt x="2085" y="1078"/>
                  </a:lnTo>
                  <a:lnTo>
                    <a:pt x="2082" y="1075"/>
                  </a:lnTo>
                  <a:lnTo>
                    <a:pt x="2082" y="1072"/>
                  </a:lnTo>
                  <a:lnTo>
                    <a:pt x="2082" y="1072"/>
                  </a:lnTo>
                  <a:lnTo>
                    <a:pt x="2079" y="1070"/>
                  </a:lnTo>
                  <a:lnTo>
                    <a:pt x="2079" y="1067"/>
                  </a:lnTo>
                  <a:lnTo>
                    <a:pt x="2077" y="1061"/>
                  </a:lnTo>
                  <a:lnTo>
                    <a:pt x="2074" y="1059"/>
                  </a:lnTo>
                  <a:lnTo>
                    <a:pt x="2071" y="1056"/>
                  </a:lnTo>
                  <a:lnTo>
                    <a:pt x="2068" y="1050"/>
                  </a:lnTo>
                  <a:lnTo>
                    <a:pt x="2066" y="1048"/>
                  </a:lnTo>
                  <a:lnTo>
                    <a:pt x="2063" y="1042"/>
                  </a:lnTo>
                  <a:lnTo>
                    <a:pt x="2060" y="1040"/>
                  </a:lnTo>
                  <a:lnTo>
                    <a:pt x="2057" y="1040"/>
                  </a:lnTo>
                  <a:lnTo>
                    <a:pt x="2057" y="1037"/>
                  </a:lnTo>
                  <a:lnTo>
                    <a:pt x="2055" y="1037"/>
                  </a:lnTo>
                  <a:lnTo>
                    <a:pt x="2052" y="1037"/>
                  </a:lnTo>
                  <a:lnTo>
                    <a:pt x="2052" y="1034"/>
                  </a:lnTo>
                  <a:lnTo>
                    <a:pt x="2049" y="1034"/>
                  </a:lnTo>
                  <a:lnTo>
                    <a:pt x="2049" y="1031"/>
                  </a:lnTo>
                  <a:lnTo>
                    <a:pt x="2046" y="1031"/>
                  </a:lnTo>
                  <a:lnTo>
                    <a:pt x="2044" y="1029"/>
                  </a:lnTo>
                  <a:lnTo>
                    <a:pt x="2038" y="1026"/>
                  </a:lnTo>
                  <a:lnTo>
                    <a:pt x="2035" y="1026"/>
                  </a:lnTo>
                  <a:lnTo>
                    <a:pt x="2030" y="1023"/>
                  </a:lnTo>
                  <a:lnTo>
                    <a:pt x="2027" y="1023"/>
                  </a:lnTo>
                  <a:lnTo>
                    <a:pt x="2022" y="1023"/>
                  </a:lnTo>
                  <a:lnTo>
                    <a:pt x="2019" y="1020"/>
                  </a:lnTo>
                  <a:lnTo>
                    <a:pt x="2016" y="1020"/>
                  </a:lnTo>
                  <a:lnTo>
                    <a:pt x="1991" y="1015"/>
                  </a:lnTo>
                  <a:lnTo>
                    <a:pt x="1967" y="1015"/>
                  </a:lnTo>
                  <a:lnTo>
                    <a:pt x="1945" y="1020"/>
                  </a:lnTo>
                  <a:lnTo>
                    <a:pt x="1920" y="1029"/>
                  </a:lnTo>
                  <a:lnTo>
                    <a:pt x="1901" y="1037"/>
                  </a:lnTo>
                  <a:lnTo>
                    <a:pt x="1879" y="1050"/>
                  </a:lnTo>
                  <a:lnTo>
                    <a:pt x="1859" y="1067"/>
                  </a:lnTo>
                  <a:lnTo>
                    <a:pt x="1843" y="1083"/>
                  </a:lnTo>
                  <a:lnTo>
                    <a:pt x="1840" y="1083"/>
                  </a:lnTo>
                  <a:lnTo>
                    <a:pt x="1837" y="1083"/>
                  </a:lnTo>
                  <a:lnTo>
                    <a:pt x="1835" y="1083"/>
                  </a:lnTo>
                  <a:lnTo>
                    <a:pt x="1832" y="1083"/>
                  </a:lnTo>
                  <a:lnTo>
                    <a:pt x="1832" y="1083"/>
                  </a:lnTo>
                  <a:lnTo>
                    <a:pt x="1829" y="1083"/>
                  </a:lnTo>
                  <a:lnTo>
                    <a:pt x="1826" y="1083"/>
                  </a:lnTo>
                  <a:lnTo>
                    <a:pt x="1824" y="1083"/>
                  </a:lnTo>
                  <a:lnTo>
                    <a:pt x="1835" y="1042"/>
                  </a:lnTo>
                  <a:lnTo>
                    <a:pt x="1854" y="1004"/>
                  </a:lnTo>
                  <a:lnTo>
                    <a:pt x="1873" y="965"/>
                  </a:lnTo>
                  <a:lnTo>
                    <a:pt x="1895" y="927"/>
                  </a:lnTo>
                  <a:lnTo>
                    <a:pt x="1912" y="888"/>
                  </a:lnTo>
                  <a:lnTo>
                    <a:pt x="1923" y="847"/>
                  </a:lnTo>
                  <a:lnTo>
                    <a:pt x="1925" y="803"/>
                  </a:lnTo>
                  <a:lnTo>
                    <a:pt x="1912" y="756"/>
                  </a:lnTo>
                  <a:lnTo>
                    <a:pt x="1901" y="748"/>
                  </a:lnTo>
                  <a:lnTo>
                    <a:pt x="1887" y="743"/>
                  </a:lnTo>
                  <a:lnTo>
                    <a:pt x="1870" y="737"/>
                  </a:lnTo>
                  <a:lnTo>
                    <a:pt x="1854" y="734"/>
                  </a:lnTo>
                  <a:lnTo>
                    <a:pt x="1837" y="732"/>
                  </a:lnTo>
                  <a:lnTo>
                    <a:pt x="1821" y="726"/>
                  </a:lnTo>
                  <a:lnTo>
                    <a:pt x="1807" y="721"/>
                  </a:lnTo>
                  <a:lnTo>
                    <a:pt x="1793" y="710"/>
                  </a:lnTo>
                  <a:lnTo>
                    <a:pt x="1793" y="710"/>
                  </a:lnTo>
                  <a:lnTo>
                    <a:pt x="1793" y="707"/>
                  </a:lnTo>
                  <a:lnTo>
                    <a:pt x="1793" y="704"/>
                  </a:lnTo>
                  <a:lnTo>
                    <a:pt x="1793" y="701"/>
                  </a:lnTo>
                  <a:lnTo>
                    <a:pt x="1793" y="699"/>
                  </a:lnTo>
                  <a:lnTo>
                    <a:pt x="1793" y="696"/>
                  </a:lnTo>
                  <a:lnTo>
                    <a:pt x="1793" y="693"/>
                  </a:lnTo>
                  <a:lnTo>
                    <a:pt x="1793" y="690"/>
                  </a:lnTo>
                  <a:lnTo>
                    <a:pt x="1793" y="690"/>
                  </a:lnTo>
                  <a:lnTo>
                    <a:pt x="1796" y="688"/>
                  </a:lnTo>
                  <a:lnTo>
                    <a:pt x="1796" y="688"/>
                  </a:lnTo>
                  <a:lnTo>
                    <a:pt x="1796" y="685"/>
                  </a:lnTo>
                  <a:lnTo>
                    <a:pt x="1799" y="685"/>
                  </a:lnTo>
                  <a:lnTo>
                    <a:pt x="1799" y="682"/>
                  </a:lnTo>
                  <a:lnTo>
                    <a:pt x="1799" y="682"/>
                  </a:lnTo>
                  <a:lnTo>
                    <a:pt x="1802" y="682"/>
                  </a:lnTo>
                  <a:lnTo>
                    <a:pt x="1802" y="679"/>
                  </a:lnTo>
                  <a:lnTo>
                    <a:pt x="1804" y="677"/>
                  </a:lnTo>
                  <a:lnTo>
                    <a:pt x="1804" y="677"/>
                  </a:lnTo>
                  <a:lnTo>
                    <a:pt x="1807" y="674"/>
                  </a:lnTo>
                  <a:lnTo>
                    <a:pt x="1810" y="671"/>
                  </a:lnTo>
                  <a:lnTo>
                    <a:pt x="1813" y="668"/>
                  </a:lnTo>
                  <a:lnTo>
                    <a:pt x="1815" y="666"/>
                  </a:lnTo>
                  <a:lnTo>
                    <a:pt x="1815" y="660"/>
                  </a:lnTo>
                  <a:lnTo>
                    <a:pt x="1818" y="657"/>
                  </a:lnTo>
                  <a:lnTo>
                    <a:pt x="1821" y="655"/>
                  </a:lnTo>
                  <a:lnTo>
                    <a:pt x="1824" y="652"/>
                  </a:lnTo>
                  <a:lnTo>
                    <a:pt x="1826" y="649"/>
                  </a:lnTo>
                  <a:lnTo>
                    <a:pt x="1826" y="646"/>
                  </a:lnTo>
                  <a:lnTo>
                    <a:pt x="1829" y="644"/>
                  </a:lnTo>
                  <a:lnTo>
                    <a:pt x="1832" y="641"/>
                  </a:lnTo>
                  <a:lnTo>
                    <a:pt x="1832" y="638"/>
                  </a:lnTo>
                  <a:lnTo>
                    <a:pt x="1848" y="613"/>
                  </a:lnTo>
                  <a:lnTo>
                    <a:pt x="1868" y="589"/>
                  </a:lnTo>
                  <a:lnTo>
                    <a:pt x="1887" y="561"/>
                  </a:lnTo>
                  <a:lnTo>
                    <a:pt x="1906" y="536"/>
                  </a:lnTo>
                  <a:lnTo>
                    <a:pt x="1925" y="509"/>
                  </a:lnTo>
                  <a:lnTo>
                    <a:pt x="1939" y="481"/>
                  </a:lnTo>
                  <a:lnTo>
                    <a:pt x="1953" y="451"/>
                  </a:lnTo>
                  <a:lnTo>
                    <a:pt x="1961" y="421"/>
                  </a:lnTo>
                  <a:lnTo>
                    <a:pt x="1961" y="418"/>
                  </a:lnTo>
                  <a:lnTo>
                    <a:pt x="1958" y="415"/>
                  </a:lnTo>
                  <a:lnTo>
                    <a:pt x="1958" y="413"/>
                  </a:lnTo>
                  <a:lnTo>
                    <a:pt x="1956" y="410"/>
                  </a:lnTo>
                  <a:lnTo>
                    <a:pt x="1956" y="407"/>
                  </a:lnTo>
                  <a:lnTo>
                    <a:pt x="1956" y="404"/>
                  </a:lnTo>
                  <a:lnTo>
                    <a:pt x="1953" y="402"/>
                  </a:lnTo>
                  <a:lnTo>
                    <a:pt x="1953" y="399"/>
                  </a:lnTo>
                  <a:lnTo>
                    <a:pt x="1950" y="393"/>
                  </a:lnTo>
                  <a:lnTo>
                    <a:pt x="1945" y="388"/>
                  </a:lnTo>
                  <a:lnTo>
                    <a:pt x="1942" y="382"/>
                  </a:lnTo>
                  <a:lnTo>
                    <a:pt x="1936" y="380"/>
                  </a:lnTo>
                  <a:lnTo>
                    <a:pt x="1931" y="374"/>
                  </a:lnTo>
                  <a:lnTo>
                    <a:pt x="1923" y="369"/>
                  </a:lnTo>
                  <a:lnTo>
                    <a:pt x="1917" y="366"/>
                  </a:lnTo>
                  <a:lnTo>
                    <a:pt x="1912" y="360"/>
                  </a:lnTo>
                  <a:lnTo>
                    <a:pt x="1912" y="360"/>
                  </a:lnTo>
                  <a:lnTo>
                    <a:pt x="1909" y="358"/>
                  </a:lnTo>
                  <a:lnTo>
                    <a:pt x="1906" y="358"/>
                  </a:lnTo>
                  <a:lnTo>
                    <a:pt x="1903" y="355"/>
                  </a:lnTo>
                  <a:lnTo>
                    <a:pt x="1903" y="355"/>
                  </a:lnTo>
                  <a:lnTo>
                    <a:pt x="1901" y="352"/>
                  </a:lnTo>
                  <a:lnTo>
                    <a:pt x="1898" y="352"/>
                  </a:lnTo>
                  <a:lnTo>
                    <a:pt x="1895" y="349"/>
                  </a:lnTo>
                  <a:lnTo>
                    <a:pt x="1892" y="349"/>
                  </a:lnTo>
                  <a:lnTo>
                    <a:pt x="1890" y="349"/>
                  </a:lnTo>
                  <a:lnTo>
                    <a:pt x="1887" y="349"/>
                  </a:lnTo>
                  <a:lnTo>
                    <a:pt x="1887" y="349"/>
                  </a:lnTo>
                  <a:lnTo>
                    <a:pt x="1884" y="349"/>
                  </a:lnTo>
                  <a:lnTo>
                    <a:pt x="1881" y="349"/>
                  </a:lnTo>
                  <a:lnTo>
                    <a:pt x="1881" y="347"/>
                  </a:lnTo>
                  <a:lnTo>
                    <a:pt x="1881" y="347"/>
                  </a:lnTo>
                  <a:lnTo>
                    <a:pt x="1873" y="347"/>
                  </a:lnTo>
                  <a:lnTo>
                    <a:pt x="1868" y="347"/>
                  </a:lnTo>
                  <a:lnTo>
                    <a:pt x="1862" y="347"/>
                  </a:lnTo>
                  <a:lnTo>
                    <a:pt x="1857" y="347"/>
                  </a:lnTo>
                  <a:lnTo>
                    <a:pt x="1851" y="347"/>
                  </a:lnTo>
                  <a:lnTo>
                    <a:pt x="1846" y="349"/>
                  </a:lnTo>
                  <a:lnTo>
                    <a:pt x="1840" y="349"/>
                  </a:lnTo>
                  <a:lnTo>
                    <a:pt x="1832" y="349"/>
                  </a:lnTo>
                  <a:lnTo>
                    <a:pt x="1832" y="352"/>
                  </a:lnTo>
                  <a:lnTo>
                    <a:pt x="1832" y="352"/>
                  </a:lnTo>
                  <a:lnTo>
                    <a:pt x="1829" y="352"/>
                  </a:lnTo>
                  <a:lnTo>
                    <a:pt x="1826" y="352"/>
                  </a:lnTo>
                  <a:lnTo>
                    <a:pt x="1826" y="352"/>
                  </a:lnTo>
                  <a:lnTo>
                    <a:pt x="1824" y="352"/>
                  </a:lnTo>
                  <a:lnTo>
                    <a:pt x="1821" y="352"/>
                  </a:lnTo>
                  <a:lnTo>
                    <a:pt x="1818" y="352"/>
                  </a:lnTo>
                  <a:lnTo>
                    <a:pt x="1782" y="377"/>
                  </a:lnTo>
                  <a:lnTo>
                    <a:pt x="1747" y="402"/>
                  </a:lnTo>
                  <a:lnTo>
                    <a:pt x="1714" y="432"/>
                  </a:lnTo>
                  <a:lnTo>
                    <a:pt x="1681" y="462"/>
                  </a:lnTo>
                  <a:lnTo>
                    <a:pt x="1650" y="495"/>
                  </a:lnTo>
                  <a:lnTo>
                    <a:pt x="1620" y="528"/>
                  </a:lnTo>
                  <a:lnTo>
                    <a:pt x="1587" y="561"/>
                  </a:lnTo>
                  <a:lnTo>
                    <a:pt x="1554" y="594"/>
                  </a:lnTo>
                  <a:lnTo>
                    <a:pt x="1551" y="597"/>
                  </a:lnTo>
                  <a:lnTo>
                    <a:pt x="1549" y="602"/>
                  </a:lnTo>
                  <a:lnTo>
                    <a:pt x="1546" y="605"/>
                  </a:lnTo>
                  <a:lnTo>
                    <a:pt x="1543" y="608"/>
                  </a:lnTo>
                  <a:lnTo>
                    <a:pt x="1540" y="611"/>
                  </a:lnTo>
                  <a:lnTo>
                    <a:pt x="1540" y="611"/>
                  </a:lnTo>
                  <a:lnTo>
                    <a:pt x="1538" y="613"/>
                  </a:lnTo>
                  <a:lnTo>
                    <a:pt x="1538" y="613"/>
                  </a:lnTo>
                  <a:lnTo>
                    <a:pt x="1535" y="616"/>
                  </a:lnTo>
                  <a:lnTo>
                    <a:pt x="1532" y="616"/>
                  </a:lnTo>
                  <a:lnTo>
                    <a:pt x="1529" y="616"/>
                  </a:lnTo>
                  <a:lnTo>
                    <a:pt x="1527" y="616"/>
                  </a:lnTo>
                  <a:lnTo>
                    <a:pt x="1524" y="619"/>
                  </a:lnTo>
                  <a:lnTo>
                    <a:pt x="1521" y="616"/>
                  </a:lnTo>
                  <a:lnTo>
                    <a:pt x="1521" y="616"/>
                  </a:lnTo>
                  <a:lnTo>
                    <a:pt x="1518" y="613"/>
                  </a:lnTo>
                  <a:lnTo>
                    <a:pt x="1518" y="611"/>
                  </a:lnTo>
                  <a:lnTo>
                    <a:pt x="1518" y="611"/>
                  </a:lnTo>
                  <a:lnTo>
                    <a:pt x="1518" y="608"/>
                  </a:lnTo>
                  <a:lnTo>
                    <a:pt x="1518" y="605"/>
                  </a:lnTo>
                  <a:lnTo>
                    <a:pt x="1518" y="602"/>
                  </a:lnTo>
                  <a:lnTo>
                    <a:pt x="1521" y="602"/>
                  </a:lnTo>
                  <a:lnTo>
                    <a:pt x="1521" y="600"/>
                  </a:lnTo>
                  <a:lnTo>
                    <a:pt x="1524" y="597"/>
                  </a:lnTo>
                  <a:lnTo>
                    <a:pt x="1524" y="597"/>
                  </a:lnTo>
                  <a:lnTo>
                    <a:pt x="1524" y="594"/>
                  </a:lnTo>
                  <a:lnTo>
                    <a:pt x="1524" y="591"/>
                  </a:lnTo>
                  <a:lnTo>
                    <a:pt x="1524" y="589"/>
                  </a:lnTo>
                  <a:lnTo>
                    <a:pt x="1524" y="589"/>
                  </a:lnTo>
                  <a:lnTo>
                    <a:pt x="1524" y="586"/>
                  </a:lnTo>
                  <a:lnTo>
                    <a:pt x="1527" y="583"/>
                  </a:lnTo>
                  <a:lnTo>
                    <a:pt x="1527" y="580"/>
                  </a:lnTo>
                  <a:lnTo>
                    <a:pt x="1540" y="550"/>
                  </a:lnTo>
                  <a:lnTo>
                    <a:pt x="1560" y="523"/>
                  </a:lnTo>
                  <a:lnTo>
                    <a:pt x="1576" y="495"/>
                  </a:lnTo>
                  <a:lnTo>
                    <a:pt x="1595" y="468"/>
                  </a:lnTo>
                  <a:lnTo>
                    <a:pt x="1615" y="440"/>
                  </a:lnTo>
                  <a:lnTo>
                    <a:pt x="1631" y="410"/>
                  </a:lnTo>
                  <a:lnTo>
                    <a:pt x="1645" y="380"/>
                  </a:lnTo>
                  <a:lnTo>
                    <a:pt x="1659" y="347"/>
                  </a:lnTo>
                  <a:lnTo>
                    <a:pt x="1659" y="333"/>
                  </a:lnTo>
                  <a:lnTo>
                    <a:pt x="1661" y="319"/>
                  </a:lnTo>
                  <a:lnTo>
                    <a:pt x="1661" y="305"/>
                  </a:lnTo>
                  <a:lnTo>
                    <a:pt x="1661" y="292"/>
                  </a:lnTo>
                  <a:lnTo>
                    <a:pt x="1659" y="278"/>
                  </a:lnTo>
                  <a:lnTo>
                    <a:pt x="1653" y="264"/>
                  </a:lnTo>
                  <a:lnTo>
                    <a:pt x="1648" y="253"/>
                  </a:lnTo>
                  <a:lnTo>
                    <a:pt x="1639" y="239"/>
                  </a:lnTo>
                  <a:lnTo>
                    <a:pt x="1639" y="239"/>
                  </a:lnTo>
                  <a:lnTo>
                    <a:pt x="1639" y="237"/>
                  </a:lnTo>
                  <a:lnTo>
                    <a:pt x="1637" y="237"/>
                  </a:lnTo>
                  <a:lnTo>
                    <a:pt x="1637" y="234"/>
                  </a:lnTo>
                  <a:lnTo>
                    <a:pt x="1634" y="231"/>
                  </a:lnTo>
                  <a:lnTo>
                    <a:pt x="1631" y="231"/>
                  </a:lnTo>
                  <a:lnTo>
                    <a:pt x="1631" y="228"/>
                  </a:lnTo>
                  <a:lnTo>
                    <a:pt x="1628" y="228"/>
                  </a:lnTo>
                  <a:lnTo>
                    <a:pt x="1617" y="223"/>
                  </a:lnTo>
                  <a:lnTo>
                    <a:pt x="1606" y="220"/>
                  </a:lnTo>
                  <a:lnTo>
                    <a:pt x="1595" y="217"/>
                  </a:lnTo>
                  <a:lnTo>
                    <a:pt x="1584" y="217"/>
                  </a:lnTo>
                  <a:lnTo>
                    <a:pt x="1571" y="217"/>
                  </a:lnTo>
                  <a:lnTo>
                    <a:pt x="1560" y="217"/>
                  </a:lnTo>
                  <a:lnTo>
                    <a:pt x="1549" y="220"/>
                  </a:lnTo>
                  <a:lnTo>
                    <a:pt x="1538" y="223"/>
                  </a:lnTo>
                  <a:lnTo>
                    <a:pt x="1496" y="242"/>
                  </a:lnTo>
                  <a:lnTo>
                    <a:pt x="1461" y="270"/>
                  </a:lnTo>
                  <a:lnTo>
                    <a:pt x="1425" y="300"/>
                  </a:lnTo>
                  <a:lnTo>
                    <a:pt x="1392" y="333"/>
                  </a:lnTo>
                  <a:lnTo>
                    <a:pt x="1362" y="366"/>
                  </a:lnTo>
                  <a:lnTo>
                    <a:pt x="1331" y="402"/>
                  </a:lnTo>
                  <a:lnTo>
                    <a:pt x="1304" y="437"/>
                  </a:lnTo>
                  <a:lnTo>
                    <a:pt x="1276" y="470"/>
                  </a:lnTo>
                  <a:lnTo>
                    <a:pt x="1243" y="506"/>
                  </a:lnTo>
                  <a:lnTo>
                    <a:pt x="1213" y="542"/>
                  </a:lnTo>
                  <a:lnTo>
                    <a:pt x="1183" y="578"/>
                  </a:lnTo>
                  <a:lnTo>
                    <a:pt x="1155" y="613"/>
                  </a:lnTo>
                  <a:lnTo>
                    <a:pt x="1125" y="649"/>
                  </a:lnTo>
                  <a:lnTo>
                    <a:pt x="1095" y="682"/>
                  </a:lnTo>
                  <a:lnTo>
                    <a:pt x="1065" y="718"/>
                  </a:lnTo>
                  <a:lnTo>
                    <a:pt x="1037" y="754"/>
                  </a:lnTo>
                  <a:lnTo>
                    <a:pt x="1018" y="776"/>
                  </a:lnTo>
                  <a:lnTo>
                    <a:pt x="999" y="795"/>
                  </a:lnTo>
                  <a:lnTo>
                    <a:pt x="982" y="814"/>
                  </a:lnTo>
                  <a:lnTo>
                    <a:pt x="966" y="833"/>
                  </a:lnTo>
                  <a:lnTo>
                    <a:pt x="949" y="853"/>
                  </a:lnTo>
                  <a:lnTo>
                    <a:pt x="933" y="869"/>
                  </a:lnTo>
                  <a:lnTo>
                    <a:pt x="916" y="888"/>
                  </a:lnTo>
                  <a:lnTo>
                    <a:pt x="900" y="908"/>
                  </a:lnTo>
                  <a:lnTo>
                    <a:pt x="897" y="908"/>
                  </a:lnTo>
                  <a:lnTo>
                    <a:pt x="897" y="908"/>
                  </a:lnTo>
                  <a:lnTo>
                    <a:pt x="894" y="908"/>
                  </a:lnTo>
                  <a:lnTo>
                    <a:pt x="891" y="910"/>
                  </a:lnTo>
                  <a:lnTo>
                    <a:pt x="889" y="910"/>
                  </a:lnTo>
                  <a:lnTo>
                    <a:pt x="889" y="910"/>
                  </a:lnTo>
                  <a:lnTo>
                    <a:pt x="886" y="908"/>
                  </a:lnTo>
                  <a:lnTo>
                    <a:pt x="883" y="908"/>
                  </a:lnTo>
                  <a:lnTo>
                    <a:pt x="905" y="866"/>
                  </a:lnTo>
                  <a:lnTo>
                    <a:pt x="927" y="825"/>
                  </a:lnTo>
                  <a:lnTo>
                    <a:pt x="952" y="787"/>
                  </a:lnTo>
                  <a:lnTo>
                    <a:pt x="977" y="745"/>
                  </a:lnTo>
                  <a:lnTo>
                    <a:pt x="1001" y="707"/>
                  </a:lnTo>
                  <a:lnTo>
                    <a:pt x="1029" y="668"/>
                  </a:lnTo>
                  <a:lnTo>
                    <a:pt x="1054" y="627"/>
                  </a:lnTo>
                  <a:lnTo>
                    <a:pt x="1078" y="589"/>
                  </a:lnTo>
                  <a:lnTo>
                    <a:pt x="1103" y="547"/>
                  </a:lnTo>
                  <a:lnTo>
                    <a:pt x="1128" y="509"/>
                  </a:lnTo>
                  <a:lnTo>
                    <a:pt x="1150" y="468"/>
                  </a:lnTo>
                  <a:lnTo>
                    <a:pt x="1175" y="429"/>
                  </a:lnTo>
                  <a:lnTo>
                    <a:pt x="1199" y="391"/>
                  </a:lnTo>
                  <a:lnTo>
                    <a:pt x="1224" y="349"/>
                  </a:lnTo>
                  <a:lnTo>
                    <a:pt x="1249" y="311"/>
                  </a:lnTo>
                  <a:lnTo>
                    <a:pt x="1276" y="272"/>
                  </a:lnTo>
                  <a:lnTo>
                    <a:pt x="1290" y="253"/>
                  </a:lnTo>
                  <a:lnTo>
                    <a:pt x="1301" y="231"/>
                  </a:lnTo>
                  <a:lnTo>
                    <a:pt x="1315" y="212"/>
                  </a:lnTo>
                  <a:lnTo>
                    <a:pt x="1329" y="193"/>
                  </a:lnTo>
                  <a:lnTo>
                    <a:pt x="1340" y="173"/>
                  </a:lnTo>
                  <a:lnTo>
                    <a:pt x="1351" y="154"/>
                  </a:lnTo>
                  <a:lnTo>
                    <a:pt x="1362" y="135"/>
                  </a:lnTo>
                  <a:lnTo>
                    <a:pt x="1373" y="113"/>
                  </a:lnTo>
                  <a:lnTo>
                    <a:pt x="1375" y="105"/>
                  </a:lnTo>
                  <a:lnTo>
                    <a:pt x="1375" y="96"/>
                  </a:lnTo>
                  <a:lnTo>
                    <a:pt x="1375" y="88"/>
                  </a:lnTo>
                  <a:lnTo>
                    <a:pt x="1375" y="83"/>
                  </a:lnTo>
                  <a:lnTo>
                    <a:pt x="1375" y="74"/>
                  </a:lnTo>
                  <a:lnTo>
                    <a:pt x="1375" y="66"/>
                  </a:lnTo>
                  <a:lnTo>
                    <a:pt x="1373" y="58"/>
                  </a:lnTo>
                  <a:lnTo>
                    <a:pt x="1373" y="47"/>
                  </a:lnTo>
                  <a:lnTo>
                    <a:pt x="1370" y="44"/>
                  </a:lnTo>
                  <a:lnTo>
                    <a:pt x="1367" y="39"/>
                  </a:lnTo>
                  <a:lnTo>
                    <a:pt x="1364" y="36"/>
                  </a:lnTo>
                  <a:lnTo>
                    <a:pt x="1362" y="30"/>
                  </a:lnTo>
                  <a:lnTo>
                    <a:pt x="1359" y="28"/>
                  </a:lnTo>
                  <a:lnTo>
                    <a:pt x="1353" y="22"/>
                  </a:lnTo>
                  <a:lnTo>
                    <a:pt x="1351" y="19"/>
                  </a:lnTo>
                  <a:lnTo>
                    <a:pt x="1345" y="17"/>
                  </a:lnTo>
                  <a:lnTo>
                    <a:pt x="1345" y="14"/>
                  </a:lnTo>
                  <a:lnTo>
                    <a:pt x="1342" y="14"/>
                  </a:lnTo>
                  <a:lnTo>
                    <a:pt x="1342" y="14"/>
                  </a:lnTo>
                  <a:lnTo>
                    <a:pt x="1340" y="14"/>
                  </a:lnTo>
                  <a:lnTo>
                    <a:pt x="1337" y="11"/>
                  </a:lnTo>
                  <a:lnTo>
                    <a:pt x="1337" y="11"/>
                  </a:lnTo>
                  <a:lnTo>
                    <a:pt x="1334" y="11"/>
                  </a:lnTo>
                  <a:lnTo>
                    <a:pt x="1331" y="8"/>
                  </a:lnTo>
                  <a:lnTo>
                    <a:pt x="1315" y="3"/>
                  </a:lnTo>
                  <a:lnTo>
                    <a:pt x="1301" y="0"/>
                  </a:lnTo>
                  <a:lnTo>
                    <a:pt x="1285" y="0"/>
                  </a:lnTo>
                  <a:lnTo>
                    <a:pt x="1268" y="3"/>
                  </a:lnTo>
                  <a:lnTo>
                    <a:pt x="1252" y="8"/>
                  </a:lnTo>
                  <a:lnTo>
                    <a:pt x="1235" y="17"/>
                  </a:lnTo>
                  <a:lnTo>
                    <a:pt x="1219" y="25"/>
                  </a:lnTo>
                  <a:lnTo>
                    <a:pt x="1205" y="33"/>
                  </a:lnTo>
                  <a:lnTo>
                    <a:pt x="1177" y="55"/>
                  </a:lnTo>
                  <a:lnTo>
                    <a:pt x="1150" y="80"/>
                  </a:lnTo>
                  <a:lnTo>
                    <a:pt x="1125" y="105"/>
                  </a:lnTo>
                  <a:lnTo>
                    <a:pt x="1098" y="132"/>
                  </a:lnTo>
                  <a:lnTo>
                    <a:pt x="1073" y="160"/>
                  </a:lnTo>
                  <a:lnTo>
                    <a:pt x="1048" y="184"/>
                  </a:lnTo>
                  <a:lnTo>
                    <a:pt x="1023" y="212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9"/>
                  </a:lnTo>
                  <a:lnTo>
                    <a:pt x="999" y="239"/>
                  </a:lnTo>
                  <a:lnTo>
                    <a:pt x="999" y="239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6" y="242"/>
                  </a:lnTo>
                  <a:lnTo>
                    <a:pt x="996" y="245"/>
                  </a:lnTo>
                  <a:lnTo>
                    <a:pt x="996" y="245"/>
                  </a:lnTo>
                  <a:lnTo>
                    <a:pt x="993" y="248"/>
                  </a:lnTo>
                  <a:lnTo>
                    <a:pt x="993" y="248"/>
                  </a:lnTo>
                  <a:lnTo>
                    <a:pt x="993" y="250"/>
                  </a:lnTo>
                  <a:lnTo>
                    <a:pt x="990" y="250"/>
                  </a:lnTo>
                  <a:lnTo>
                    <a:pt x="990" y="250"/>
                  </a:lnTo>
                  <a:lnTo>
                    <a:pt x="963" y="286"/>
                  </a:lnTo>
                  <a:lnTo>
                    <a:pt x="933" y="319"/>
                  </a:lnTo>
                  <a:lnTo>
                    <a:pt x="905" y="355"/>
                  </a:lnTo>
                  <a:lnTo>
                    <a:pt x="875" y="388"/>
                  </a:lnTo>
                  <a:lnTo>
                    <a:pt x="847" y="424"/>
                  </a:lnTo>
                  <a:lnTo>
                    <a:pt x="820" y="459"/>
                  </a:lnTo>
                  <a:lnTo>
                    <a:pt x="790" y="492"/>
                  </a:lnTo>
                  <a:lnTo>
                    <a:pt x="759" y="528"/>
                  </a:lnTo>
                  <a:lnTo>
                    <a:pt x="748" y="542"/>
                  </a:lnTo>
                  <a:lnTo>
                    <a:pt x="735" y="553"/>
                  </a:lnTo>
                  <a:lnTo>
                    <a:pt x="726" y="567"/>
                  </a:lnTo>
                  <a:lnTo>
                    <a:pt x="715" y="578"/>
                  </a:lnTo>
                  <a:lnTo>
                    <a:pt x="704" y="589"/>
                  </a:lnTo>
                  <a:lnTo>
                    <a:pt x="696" y="600"/>
                  </a:lnTo>
                  <a:lnTo>
                    <a:pt x="685" y="611"/>
                  </a:lnTo>
                  <a:lnTo>
                    <a:pt x="674" y="622"/>
                  </a:lnTo>
                  <a:lnTo>
                    <a:pt x="674" y="622"/>
                  </a:lnTo>
                  <a:lnTo>
                    <a:pt x="671" y="622"/>
                  </a:lnTo>
                  <a:lnTo>
                    <a:pt x="671" y="624"/>
                  </a:lnTo>
                  <a:lnTo>
                    <a:pt x="669" y="624"/>
                  </a:lnTo>
                  <a:lnTo>
                    <a:pt x="666" y="624"/>
                  </a:lnTo>
                  <a:lnTo>
                    <a:pt x="663" y="624"/>
                  </a:lnTo>
                  <a:lnTo>
                    <a:pt x="663" y="624"/>
                  </a:lnTo>
                  <a:lnTo>
                    <a:pt x="660" y="622"/>
                  </a:lnTo>
                  <a:lnTo>
                    <a:pt x="660" y="619"/>
                  </a:lnTo>
                  <a:lnTo>
                    <a:pt x="658" y="616"/>
                  </a:lnTo>
                  <a:lnTo>
                    <a:pt x="658" y="613"/>
                  </a:lnTo>
                  <a:lnTo>
                    <a:pt x="658" y="611"/>
                  </a:lnTo>
                  <a:lnTo>
                    <a:pt x="660" y="608"/>
                  </a:lnTo>
                  <a:lnTo>
                    <a:pt x="660" y="605"/>
                  </a:lnTo>
                  <a:lnTo>
                    <a:pt x="660" y="602"/>
                  </a:lnTo>
                  <a:lnTo>
                    <a:pt x="660" y="597"/>
                  </a:lnTo>
                  <a:lnTo>
                    <a:pt x="663" y="597"/>
                  </a:lnTo>
                  <a:lnTo>
                    <a:pt x="663" y="594"/>
                  </a:lnTo>
                  <a:lnTo>
                    <a:pt x="663" y="591"/>
                  </a:lnTo>
                  <a:lnTo>
                    <a:pt x="663" y="589"/>
                  </a:lnTo>
                  <a:lnTo>
                    <a:pt x="666" y="589"/>
                  </a:lnTo>
                  <a:lnTo>
                    <a:pt x="666" y="586"/>
                  </a:lnTo>
                  <a:lnTo>
                    <a:pt x="666" y="583"/>
                  </a:lnTo>
                  <a:lnTo>
                    <a:pt x="666" y="580"/>
                  </a:lnTo>
                  <a:lnTo>
                    <a:pt x="680" y="550"/>
                  </a:lnTo>
                  <a:lnTo>
                    <a:pt x="696" y="520"/>
                  </a:lnTo>
                  <a:lnTo>
                    <a:pt x="715" y="492"/>
                  </a:lnTo>
                  <a:lnTo>
                    <a:pt x="732" y="465"/>
                  </a:lnTo>
                  <a:lnTo>
                    <a:pt x="751" y="440"/>
                  </a:lnTo>
                  <a:lnTo>
                    <a:pt x="768" y="410"/>
                  </a:lnTo>
                  <a:lnTo>
                    <a:pt x="784" y="380"/>
                  </a:lnTo>
                  <a:lnTo>
                    <a:pt x="795" y="347"/>
                  </a:lnTo>
                  <a:lnTo>
                    <a:pt x="798" y="333"/>
                  </a:lnTo>
                  <a:lnTo>
                    <a:pt x="801" y="319"/>
                  </a:lnTo>
                  <a:lnTo>
                    <a:pt x="801" y="305"/>
                  </a:lnTo>
                  <a:lnTo>
                    <a:pt x="801" y="292"/>
                  </a:lnTo>
                  <a:lnTo>
                    <a:pt x="798" y="278"/>
                  </a:lnTo>
                  <a:lnTo>
                    <a:pt x="792" y="264"/>
                  </a:lnTo>
                  <a:lnTo>
                    <a:pt x="787" y="253"/>
                  </a:lnTo>
                  <a:lnTo>
                    <a:pt x="781" y="239"/>
                  </a:lnTo>
                  <a:lnTo>
                    <a:pt x="779" y="239"/>
                  </a:lnTo>
                  <a:lnTo>
                    <a:pt x="779" y="237"/>
                  </a:lnTo>
                  <a:lnTo>
                    <a:pt x="776" y="237"/>
                  </a:lnTo>
                  <a:lnTo>
                    <a:pt x="776" y="234"/>
                  </a:lnTo>
                  <a:lnTo>
                    <a:pt x="773" y="231"/>
                  </a:lnTo>
                  <a:lnTo>
                    <a:pt x="773" y="231"/>
                  </a:lnTo>
                  <a:lnTo>
                    <a:pt x="770" y="228"/>
                  </a:lnTo>
                  <a:lnTo>
                    <a:pt x="770" y="228"/>
                  </a:lnTo>
                  <a:lnTo>
                    <a:pt x="768" y="228"/>
                  </a:lnTo>
                  <a:lnTo>
                    <a:pt x="765" y="226"/>
                  </a:lnTo>
                  <a:lnTo>
                    <a:pt x="762" y="226"/>
                  </a:lnTo>
                  <a:lnTo>
                    <a:pt x="759" y="223"/>
                  </a:lnTo>
                  <a:lnTo>
                    <a:pt x="757" y="223"/>
                  </a:lnTo>
                  <a:lnTo>
                    <a:pt x="754" y="223"/>
                  </a:lnTo>
                  <a:lnTo>
                    <a:pt x="748" y="220"/>
                  </a:lnTo>
                  <a:lnTo>
                    <a:pt x="746" y="220"/>
                  </a:lnTo>
                  <a:lnTo>
                    <a:pt x="737" y="217"/>
                  </a:lnTo>
                  <a:lnTo>
                    <a:pt x="726" y="215"/>
                  </a:lnTo>
                  <a:lnTo>
                    <a:pt x="718" y="215"/>
                  </a:lnTo>
                  <a:lnTo>
                    <a:pt x="707" y="215"/>
                  </a:lnTo>
                  <a:lnTo>
                    <a:pt x="699" y="217"/>
                  </a:lnTo>
                  <a:lnTo>
                    <a:pt x="688" y="217"/>
                  </a:lnTo>
                  <a:lnTo>
                    <a:pt x="680" y="220"/>
                  </a:lnTo>
                  <a:lnTo>
                    <a:pt x="671" y="223"/>
                  </a:lnTo>
                  <a:lnTo>
                    <a:pt x="647" y="234"/>
                  </a:lnTo>
                  <a:lnTo>
                    <a:pt x="625" y="250"/>
                  </a:lnTo>
                  <a:lnTo>
                    <a:pt x="603" y="267"/>
                  </a:lnTo>
                  <a:lnTo>
                    <a:pt x="581" y="286"/>
                  </a:lnTo>
                  <a:lnTo>
                    <a:pt x="559" y="305"/>
                  </a:lnTo>
                  <a:lnTo>
                    <a:pt x="537" y="325"/>
                  </a:lnTo>
                  <a:lnTo>
                    <a:pt x="515" y="344"/>
                  </a:lnTo>
                  <a:lnTo>
                    <a:pt x="493" y="360"/>
                  </a:lnTo>
                  <a:lnTo>
                    <a:pt x="493" y="363"/>
                  </a:lnTo>
                  <a:lnTo>
                    <a:pt x="490" y="363"/>
                  </a:lnTo>
                  <a:lnTo>
                    <a:pt x="490" y="363"/>
                  </a:lnTo>
                  <a:lnTo>
                    <a:pt x="487" y="363"/>
                  </a:lnTo>
                  <a:lnTo>
                    <a:pt x="484" y="363"/>
                  </a:lnTo>
                  <a:lnTo>
                    <a:pt x="482" y="363"/>
                  </a:lnTo>
                  <a:lnTo>
                    <a:pt x="482" y="363"/>
                  </a:lnTo>
                  <a:lnTo>
                    <a:pt x="479" y="360"/>
                  </a:lnTo>
                  <a:lnTo>
                    <a:pt x="476" y="360"/>
                  </a:lnTo>
                  <a:lnTo>
                    <a:pt x="476" y="360"/>
                  </a:lnTo>
                  <a:lnTo>
                    <a:pt x="473" y="360"/>
                  </a:lnTo>
                  <a:lnTo>
                    <a:pt x="471" y="360"/>
                  </a:lnTo>
                  <a:lnTo>
                    <a:pt x="471" y="358"/>
                  </a:lnTo>
                  <a:lnTo>
                    <a:pt x="468" y="358"/>
                  </a:lnTo>
                  <a:lnTo>
                    <a:pt x="468" y="355"/>
                  </a:lnTo>
                  <a:lnTo>
                    <a:pt x="465" y="355"/>
                  </a:lnTo>
                  <a:lnTo>
                    <a:pt x="462" y="352"/>
                  </a:lnTo>
                  <a:lnTo>
                    <a:pt x="460" y="349"/>
                  </a:lnTo>
                  <a:lnTo>
                    <a:pt x="454" y="347"/>
                  </a:lnTo>
                  <a:lnTo>
                    <a:pt x="451" y="344"/>
                  </a:lnTo>
                  <a:lnTo>
                    <a:pt x="446" y="341"/>
                  </a:lnTo>
                  <a:lnTo>
                    <a:pt x="443" y="338"/>
                  </a:lnTo>
                  <a:lnTo>
                    <a:pt x="438" y="336"/>
                  </a:lnTo>
                  <a:lnTo>
                    <a:pt x="435" y="333"/>
                  </a:lnTo>
                  <a:lnTo>
                    <a:pt x="427" y="330"/>
                  </a:lnTo>
                  <a:lnTo>
                    <a:pt x="418" y="327"/>
                  </a:lnTo>
                  <a:lnTo>
                    <a:pt x="410" y="327"/>
                  </a:lnTo>
                  <a:lnTo>
                    <a:pt x="402" y="327"/>
                  </a:lnTo>
                  <a:lnTo>
                    <a:pt x="394" y="330"/>
                  </a:lnTo>
                  <a:lnTo>
                    <a:pt x="385" y="330"/>
                  </a:lnTo>
                  <a:lnTo>
                    <a:pt x="377" y="330"/>
                  </a:lnTo>
                  <a:lnTo>
                    <a:pt x="369" y="333"/>
                  </a:lnTo>
                  <a:lnTo>
                    <a:pt x="366" y="333"/>
                  </a:lnTo>
                  <a:lnTo>
                    <a:pt x="366" y="336"/>
                  </a:lnTo>
                  <a:lnTo>
                    <a:pt x="363" y="336"/>
                  </a:lnTo>
                  <a:lnTo>
                    <a:pt x="363" y="336"/>
                  </a:lnTo>
                  <a:lnTo>
                    <a:pt x="361" y="338"/>
                  </a:lnTo>
                  <a:lnTo>
                    <a:pt x="358" y="338"/>
                  </a:lnTo>
                  <a:lnTo>
                    <a:pt x="355" y="338"/>
                  </a:lnTo>
                  <a:lnTo>
                    <a:pt x="355" y="338"/>
                  </a:lnTo>
                  <a:lnTo>
                    <a:pt x="317" y="366"/>
                  </a:lnTo>
                  <a:lnTo>
                    <a:pt x="281" y="396"/>
                  </a:lnTo>
                  <a:lnTo>
                    <a:pt x="253" y="429"/>
                  </a:lnTo>
                  <a:lnTo>
                    <a:pt x="226" y="468"/>
                  </a:lnTo>
                  <a:lnTo>
                    <a:pt x="201" y="506"/>
                  </a:lnTo>
                  <a:lnTo>
                    <a:pt x="179" y="547"/>
                  </a:lnTo>
                  <a:lnTo>
                    <a:pt x="157" y="589"/>
                  </a:lnTo>
                  <a:lnTo>
                    <a:pt x="135" y="630"/>
                  </a:lnTo>
                  <a:lnTo>
                    <a:pt x="127" y="652"/>
                  </a:lnTo>
                  <a:lnTo>
                    <a:pt x="119" y="671"/>
                  </a:lnTo>
                  <a:lnTo>
                    <a:pt x="108" y="690"/>
                  </a:lnTo>
                  <a:lnTo>
                    <a:pt x="99" y="710"/>
                  </a:lnTo>
                  <a:lnTo>
                    <a:pt x="91" y="729"/>
                  </a:lnTo>
                  <a:lnTo>
                    <a:pt x="83" y="745"/>
                  </a:lnTo>
                  <a:lnTo>
                    <a:pt x="75" y="765"/>
                  </a:lnTo>
                  <a:lnTo>
                    <a:pt x="69" y="784"/>
                  </a:lnTo>
                  <a:lnTo>
                    <a:pt x="66" y="787"/>
                  </a:lnTo>
                  <a:lnTo>
                    <a:pt x="66" y="789"/>
                  </a:lnTo>
                  <a:lnTo>
                    <a:pt x="66" y="792"/>
                  </a:lnTo>
                  <a:lnTo>
                    <a:pt x="64" y="795"/>
                  </a:lnTo>
                  <a:lnTo>
                    <a:pt x="64" y="798"/>
                  </a:lnTo>
                  <a:lnTo>
                    <a:pt x="61" y="800"/>
                  </a:lnTo>
                  <a:lnTo>
                    <a:pt x="61" y="803"/>
                  </a:lnTo>
                  <a:lnTo>
                    <a:pt x="61" y="803"/>
                  </a:lnTo>
                  <a:lnTo>
                    <a:pt x="20" y="930"/>
                  </a:lnTo>
                  <a:lnTo>
                    <a:pt x="17" y="932"/>
                  </a:lnTo>
                  <a:lnTo>
                    <a:pt x="17" y="935"/>
                  </a:lnTo>
                  <a:lnTo>
                    <a:pt x="17" y="938"/>
                  </a:lnTo>
                  <a:lnTo>
                    <a:pt x="17" y="941"/>
                  </a:lnTo>
                  <a:lnTo>
                    <a:pt x="17" y="943"/>
                  </a:lnTo>
                  <a:lnTo>
                    <a:pt x="17" y="946"/>
                  </a:lnTo>
                  <a:lnTo>
                    <a:pt x="17" y="949"/>
                  </a:lnTo>
                  <a:lnTo>
                    <a:pt x="17" y="952"/>
                  </a:lnTo>
                  <a:lnTo>
                    <a:pt x="0" y="1053"/>
                  </a:lnTo>
                  <a:lnTo>
                    <a:pt x="0" y="1056"/>
                  </a:lnTo>
                  <a:lnTo>
                    <a:pt x="0" y="1059"/>
                  </a:lnTo>
                  <a:lnTo>
                    <a:pt x="3" y="1061"/>
                  </a:lnTo>
                  <a:lnTo>
                    <a:pt x="3" y="1064"/>
                  </a:lnTo>
                  <a:lnTo>
                    <a:pt x="3" y="1067"/>
                  </a:lnTo>
                  <a:lnTo>
                    <a:pt x="3" y="1070"/>
                  </a:lnTo>
                  <a:lnTo>
                    <a:pt x="6" y="1072"/>
                  </a:lnTo>
                  <a:lnTo>
                    <a:pt x="9" y="1075"/>
                  </a:lnTo>
                  <a:lnTo>
                    <a:pt x="9" y="1078"/>
                  </a:lnTo>
                  <a:lnTo>
                    <a:pt x="11" y="1078"/>
                  </a:lnTo>
                  <a:lnTo>
                    <a:pt x="11" y="1081"/>
                  </a:lnTo>
                  <a:lnTo>
                    <a:pt x="14" y="1081"/>
                  </a:lnTo>
                  <a:lnTo>
                    <a:pt x="17" y="1083"/>
                  </a:lnTo>
                  <a:lnTo>
                    <a:pt x="20" y="1083"/>
                  </a:lnTo>
                  <a:lnTo>
                    <a:pt x="22" y="1086"/>
                  </a:lnTo>
                  <a:lnTo>
                    <a:pt x="25" y="1089"/>
                  </a:lnTo>
                  <a:lnTo>
                    <a:pt x="132" y="1108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4"/>
                  </a:lnTo>
                  <a:lnTo>
                    <a:pt x="135" y="1114"/>
                  </a:lnTo>
                  <a:lnTo>
                    <a:pt x="138" y="1116"/>
                  </a:lnTo>
                  <a:lnTo>
                    <a:pt x="138" y="1116"/>
                  </a:lnTo>
                  <a:lnTo>
                    <a:pt x="141" y="1116"/>
                  </a:lnTo>
                  <a:lnTo>
                    <a:pt x="141" y="1119"/>
                  </a:lnTo>
                  <a:lnTo>
                    <a:pt x="138" y="1122"/>
                  </a:lnTo>
                  <a:lnTo>
                    <a:pt x="138" y="1122"/>
                  </a:lnTo>
                  <a:lnTo>
                    <a:pt x="138" y="1125"/>
                  </a:lnTo>
                  <a:lnTo>
                    <a:pt x="138" y="1125"/>
                  </a:lnTo>
                  <a:lnTo>
                    <a:pt x="135" y="1127"/>
                  </a:lnTo>
                  <a:lnTo>
                    <a:pt x="135" y="1130"/>
                  </a:lnTo>
                  <a:lnTo>
                    <a:pt x="135" y="1130"/>
                  </a:lnTo>
                  <a:lnTo>
                    <a:pt x="124" y="1149"/>
                  </a:lnTo>
                  <a:lnTo>
                    <a:pt x="116" y="1171"/>
                  </a:lnTo>
                  <a:lnTo>
                    <a:pt x="110" y="1191"/>
                  </a:lnTo>
                  <a:lnTo>
                    <a:pt x="105" y="1213"/>
                  </a:lnTo>
                  <a:lnTo>
                    <a:pt x="102" y="1235"/>
                  </a:lnTo>
                  <a:lnTo>
                    <a:pt x="99" y="1257"/>
                  </a:lnTo>
                  <a:lnTo>
                    <a:pt x="97" y="1276"/>
                  </a:lnTo>
                  <a:lnTo>
                    <a:pt x="94" y="1298"/>
                  </a:lnTo>
                  <a:lnTo>
                    <a:pt x="97" y="1303"/>
                  </a:lnTo>
                  <a:lnTo>
                    <a:pt x="97" y="1306"/>
                  </a:lnTo>
                  <a:lnTo>
                    <a:pt x="99" y="1309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102" y="1320"/>
                  </a:lnTo>
                  <a:lnTo>
                    <a:pt x="105" y="1325"/>
                  </a:lnTo>
                  <a:lnTo>
                    <a:pt x="108" y="1328"/>
                  </a:lnTo>
                  <a:lnTo>
                    <a:pt x="110" y="1328"/>
                  </a:lnTo>
                  <a:lnTo>
                    <a:pt x="110" y="1331"/>
                  </a:lnTo>
                  <a:lnTo>
                    <a:pt x="113" y="1331"/>
                  </a:lnTo>
                  <a:lnTo>
                    <a:pt x="113" y="1334"/>
                  </a:lnTo>
                  <a:lnTo>
                    <a:pt x="116" y="1334"/>
                  </a:lnTo>
                  <a:lnTo>
                    <a:pt x="116" y="1336"/>
                  </a:lnTo>
                  <a:lnTo>
                    <a:pt x="119" y="1336"/>
                  </a:lnTo>
                  <a:lnTo>
                    <a:pt x="119" y="1336"/>
                  </a:lnTo>
                  <a:lnTo>
                    <a:pt x="130" y="1342"/>
                  </a:lnTo>
                  <a:lnTo>
                    <a:pt x="143" y="1345"/>
                  </a:lnTo>
                  <a:lnTo>
                    <a:pt x="154" y="1347"/>
                  </a:lnTo>
                  <a:lnTo>
                    <a:pt x="168" y="1347"/>
                  </a:lnTo>
                  <a:lnTo>
                    <a:pt x="182" y="1347"/>
                  </a:lnTo>
                  <a:lnTo>
                    <a:pt x="196" y="1347"/>
                  </a:lnTo>
                  <a:lnTo>
                    <a:pt x="209" y="1345"/>
                  </a:lnTo>
                  <a:lnTo>
                    <a:pt x="220" y="1345"/>
                  </a:lnTo>
                  <a:lnTo>
                    <a:pt x="240" y="1331"/>
                  </a:lnTo>
                  <a:lnTo>
                    <a:pt x="259" y="1320"/>
                  </a:lnTo>
                  <a:lnTo>
                    <a:pt x="275" y="1306"/>
                  </a:lnTo>
                  <a:lnTo>
                    <a:pt x="292" y="1290"/>
                  </a:lnTo>
                  <a:lnTo>
                    <a:pt x="308" y="1276"/>
                  </a:lnTo>
                  <a:lnTo>
                    <a:pt x="328" y="1259"/>
                  </a:lnTo>
                  <a:lnTo>
                    <a:pt x="344" y="1243"/>
                  </a:lnTo>
                  <a:lnTo>
                    <a:pt x="361" y="1226"/>
                  </a:lnTo>
                  <a:lnTo>
                    <a:pt x="363" y="1226"/>
                  </a:lnTo>
                  <a:lnTo>
                    <a:pt x="363" y="1226"/>
                  </a:lnTo>
                  <a:lnTo>
                    <a:pt x="366" y="1226"/>
                  </a:lnTo>
                  <a:lnTo>
                    <a:pt x="369" y="1226"/>
                  </a:lnTo>
                  <a:lnTo>
                    <a:pt x="372" y="1226"/>
                  </a:lnTo>
                  <a:lnTo>
                    <a:pt x="372" y="1226"/>
                  </a:lnTo>
                  <a:lnTo>
                    <a:pt x="374" y="1226"/>
                  </a:lnTo>
                  <a:lnTo>
                    <a:pt x="374" y="1226"/>
                  </a:lnTo>
                  <a:lnTo>
                    <a:pt x="377" y="1229"/>
                  </a:lnTo>
                  <a:lnTo>
                    <a:pt x="377" y="1235"/>
                  </a:lnTo>
                  <a:lnTo>
                    <a:pt x="377" y="1237"/>
                  </a:lnTo>
                  <a:lnTo>
                    <a:pt x="377" y="1240"/>
                  </a:lnTo>
                  <a:lnTo>
                    <a:pt x="377" y="1246"/>
                  </a:lnTo>
                  <a:lnTo>
                    <a:pt x="374" y="1248"/>
                  </a:lnTo>
                  <a:lnTo>
                    <a:pt x="374" y="1251"/>
                  </a:lnTo>
                  <a:lnTo>
                    <a:pt x="374" y="1257"/>
                  </a:lnTo>
                  <a:lnTo>
                    <a:pt x="352" y="1301"/>
                  </a:lnTo>
                  <a:lnTo>
                    <a:pt x="330" y="1345"/>
                  </a:lnTo>
                  <a:lnTo>
                    <a:pt x="306" y="1389"/>
                  </a:lnTo>
                  <a:lnTo>
                    <a:pt x="281" y="1435"/>
                  </a:lnTo>
                  <a:lnTo>
                    <a:pt x="262" y="1482"/>
                  </a:lnTo>
                  <a:lnTo>
                    <a:pt x="248" y="1532"/>
                  </a:lnTo>
                  <a:lnTo>
                    <a:pt x="242" y="1581"/>
                  </a:lnTo>
                  <a:lnTo>
                    <a:pt x="248" y="1633"/>
                  </a:lnTo>
                  <a:lnTo>
                    <a:pt x="248" y="1636"/>
                  </a:lnTo>
                  <a:lnTo>
                    <a:pt x="248" y="1639"/>
                  </a:lnTo>
                  <a:lnTo>
                    <a:pt x="248" y="1639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9" y="1653"/>
                  </a:lnTo>
                  <a:lnTo>
                    <a:pt x="273" y="1661"/>
                  </a:lnTo>
                  <a:lnTo>
                    <a:pt x="284" y="1666"/>
                  </a:lnTo>
                  <a:lnTo>
                    <a:pt x="300" y="1669"/>
                  </a:lnTo>
                  <a:lnTo>
                    <a:pt x="314" y="1669"/>
                  </a:lnTo>
                  <a:lnTo>
                    <a:pt x="330" y="1669"/>
                  </a:lnTo>
                  <a:lnTo>
                    <a:pt x="347" y="1666"/>
                  </a:lnTo>
                  <a:lnTo>
                    <a:pt x="361" y="1664"/>
                  </a:lnTo>
                  <a:lnTo>
                    <a:pt x="380" y="1658"/>
                  </a:lnTo>
                  <a:lnTo>
                    <a:pt x="396" y="1650"/>
                  </a:lnTo>
                  <a:lnTo>
                    <a:pt x="413" y="1639"/>
                  </a:lnTo>
                  <a:lnTo>
                    <a:pt x="429" y="1628"/>
                  </a:lnTo>
                  <a:lnTo>
                    <a:pt x="443" y="1620"/>
                  </a:lnTo>
                  <a:lnTo>
                    <a:pt x="457" y="1609"/>
                  </a:lnTo>
                  <a:lnTo>
                    <a:pt x="473" y="1598"/>
                  </a:lnTo>
                  <a:lnTo>
                    <a:pt x="490" y="1589"/>
                  </a:lnTo>
                  <a:lnTo>
                    <a:pt x="493" y="1589"/>
                  </a:lnTo>
                  <a:lnTo>
                    <a:pt x="493" y="1589"/>
                  </a:lnTo>
                  <a:lnTo>
                    <a:pt x="495" y="1589"/>
                  </a:lnTo>
                  <a:lnTo>
                    <a:pt x="495" y="1589"/>
                  </a:lnTo>
                  <a:lnTo>
                    <a:pt x="498" y="1589"/>
                  </a:lnTo>
                  <a:lnTo>
                    <a:pt x="501" y="1589"/>
                  </a:lnTo>
                  <a:lnTo>
                    <a:pt x="501" y="1589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5"/>
                  </a:lnTo>
                  <a:lnTo>
                    <a:pt x="504" y="1595"/>
                  </a:lnTo>
                  <a:lnTo>
                    <a:pt x="504" y="1598"/>
                  </a:lnTo>
                  <a:lnTo>
                    <a:pt x="504" y="1600"/>
                  </a:lnTo>
                  <a:lnTo>
                    <a:pt x="487" y="1631"/>
                  </a:lnTo>
                  <a:lnTo>
                    <a:pt x="465" y="1664"/>
                  </a:lnTo>
                  <a:lnTo>
                    <a:pt x="440" y="1694"/>
                  </a:lnTo>
                  <a:lnTo>
                    <a:pt x="418" y="1727"/>
                  </a:lnTo>
                  <a:lnTo>
                    <a:pt x="402" y="1760"/>
                  </a:lnTo>
                  <a:lnTo>
                    <a:pt x="388" y="1796"/>
                  </a:lnTo>
                  <a:lnTo>
                    <a:pt x="385" y="1834"/>
                  </a:lnTo>
                  <a:lnTo>
                    <a:pt x="391" y="1875"/>
                  </a:lnTo>
                  <a:lnTo>
                    <a:pt x="391" y="1878"/>
                  </a:lnTo>
                  <a:lnTo>
                    <a:pt x="391" y="1881"/>
                  </a:lnTo>
                  <a:lnTo>
                    <a:pt x="394" y="1884"/>
                  </a:lnTo>
                  <a:lnTo>
                    <a:pt x="396" y="1886"/>
                  </a:lnTo>
                  <a:lnTo>
                    <a:pt x="399" y="1889"/>
                  </a:lnTo>
                  <a:lnTo>
                    <a:pt x="402" y="1892"/>
                  </a:lnTo>
                  <a:lnTo>
                    <a:pt x="402" y="1895"/>
                  </a:lnTo>
                  <a:lnTo>
                    <a:pt x="405" y="1897"/>
                  </a:lnTo>
                  <a:lnTo>
                    <a:pt x="407" y="1900"/>
                  </a:lnTo>
                  <a:lnTo>
                    <a:pt x="410" y="1900"/>
                  </a:lnTo>
                  <a:lnTo>
                    <a:pt x="413" y="1903"/>
                  </a:lnTo>
                  <a:lnTo>
                    <a:pt x="416" y="1903"/>
                  </a:lnTo>
                  <a:lnTo>
                    <a:pt x="416" y="1906"/>
                  </a:lnTo>
                  <a:lnTo>
                    <a:pt x="418" y="1908"/>
                  </a:lnTo>
                  <a:lnTo>
                    <a:pt x="421" y="1908"/>
                  </a:lnTo>
                  <a:lnTo>
                    <a:pt x="427" y="1911"/>
                  </a:lnTo>
                  <a:lnTo>
                    <a:pt x="438" y="1917"/>
                  </a:lnTo>
                  <a:lnTo>
                    <a:pt x="451" y="1917"/>
                  </a:lnTo>
                  <a:lnTo>
                    <a:pt x="465" y="1919"/>
                  </a:lnTo>
                  <a:lnTo>
                    <a:pt x="479" y="1917"/>
                  </a:lnTo>
                  <a:lnTo>
                    <a:pt x="493" y="1917"/>
                  </a:lnTo>
                  <a:lnTo>
                    <a:pt x="509" y="1914"/>
                  </a:lnTo>
                  <a:lnTo>
                    <a:pt x="523" y="1911"/>
                  </a:lnTo>
                  <a:lnTo>
                    <a:pt x="537" y="1906"/>
                  </a:lnTo>
                  <a:lnTo>
                    <a:pt x="572" y="1884"/>
                  </a:lnTo>
                  <a:lnTo>
                    <a:pt x="605" y="1859"/>
                  </a:lnTo>
                  <a:lnTo>
                    <a:pt x="638" y="1834"/>
                  </a:lnTo>
                  <a:lnTo>
                    <a:pt x="671" y="1804"/>
                  </a:lnTo>
                  <a:lnTo>
                    <a:pt x="704" y="1774"/>
                  </a:lnTo>
                  <a:lnTo>
                    <a:pt x="735" y="1743"/>
                  </a:lnTo>
                  <a:lnTo>
                    <a:pt x="768" y="1713"/>
                  </a:lnTo>
                  <a:lnTo>
                    <a:pt x="803" y="1686"/>
                  </a:lnTo>
                  <a:lnTo>
                    <a:pt x="803" y="1686"/>
                  </a:lnTo>
                  <a:lnTo>
                    <a:pt x="806" y="1686"/>
                  </a:lnTo>
                  <a:lnTo>
                    <a:pt x="809" y="1686"/>
                  </a:lnTo>
                  <a:lnTo>
                    <a:pt x="809" y="1686"/>
                  </a:lnTo>
                  <a:lnTo>
                    <a:pt x="812" y="1686"/>
                  </a:lnTo>
                  <a:lnTo>
                    <a:pt x="812" y="1686"/>
                  </a:lnTo>
                  <a:lnTo>
                    <a:pt x="814" y="1686"/>
                  </a:lnTo>
                  <a:lnTo>
                    <a:pt x="814" y="1686"/>
                  </a:lnTo>
                  <a:lnTo>
                    <a:pt x="814" y="1688"/>
                  </a:lnTo>
                  <a:lnTo>
                    <a:pt x="817" y="1688"/>
                  </a:lnTo>
                  <a:lnTo>
                    <a:pt x="817" y="1691"/>
                  </a:lnTo>
                  <a:lnTo>
                    <a:pt x="817" y="1694"/>
                  </a:lnTo>
                  <a:lnTo>
                    <a:pt x="817" y="1694"/>
                  </a:lnTo>
                  <a:lnTo>
                    <a:pt x="817" y="1697"/>
                  </a:lnTo>
                  <a:lnTo>
                    <a:pt x="817" y="1699"/>
                  </a:lnTo>
                  <a:lnTo>
                    <a:pt x="817" y="1702"/>
                  </a:lnTo>
                  <a:lnTo>
                    <a:pt x="817" y="1702"/>
                  </a:lnTo>
                  <a:lnTo>
                    <a:pt x="817" y="1705"/>
                  </a:lnTo>
                  <a:lnTo>
                    <a:pt x="817" y="1705"/>
                  </a:lnTo>
                  <a:lnTo>
                    <a:pt x="814" y="1708"/>
                  </a:lnTo>
                  <a:lnTo>
                    <a:pt x="814" y="1710"/>
                  </a:lnTo>
                  <a:lnTo>
                    <a:pt x="814" y="1710"/>
                  </a:lnTo>
                  <a:lnTo>
                    <a:pt x="812" y="1713"/>
                  </a:lnTo>
                  <a:lnTo>
                    <a:pt x="812" y="1716"/>
                  </a:lnTo>
                  <a:lnTo>
                    <a:pt x="792" y="1757"/>
                  </a:lnTo>
                  <a:lnTo>
                    <a:pt x="768" y="1796"/>
                  </a:lnTo>
                  <a:lnTo>
                    <a:pt x="743" y="1834"/>
                  </a:lnTo>
                  <a:lnTo>
                    <a:pt x="718" y="1875"/>
                  </a:lnTo>
                  <a:lnTo>
                    <a:pt x="693" y="1917"/>
                  </a:lnTo>
                  <a:lnTo>
                    <a:pt x="677" y="1958"/>
                  </a:lnTo>
                  <a:lnTo>
                    <a:pt x="671" y="2002"/>
                  </a:lnTo>
                  <a:lnTo>
                    <a:pt x="674" y="2051"/>
                  </a:lnTo>
                  <a:lnTo>
                    <a:pt x="677" y="2054"/>
                  </a:lnTo>
                  <a:lnTo>
                    <a:pt x="680" y="2057"/>
                  </a:lnTo>
                  <a:lnTo>
                    <a:pt x="680" y="2060"/>
                  </a:lnTo>
                  <a:lnTo>
                    <a:pt x="682" y="2062"/>
                  </a:lnTo>
                  <a:lnTo>
                    <a:pt x="685" y="2068"/>
                  </a:lnTo>
                  <a:lnTo>
                    <a:pt x="688" y="2071"/>
                  </a:lnTo>
                  <a:lnTo>
                    <a:pt x="691" y="2073"/>
                  </a:lnTo>
                  <a:lnTo>
                    <a:pt x="696" y="2076"/>
                  </a:lnTo>
                  <a:lnTo>
                    <a:pt x="696" y="2079"/>
                  </a:lnTo>
                  <a:lnTo>
                    <a:pt x="699" y="2079"/>
                  </a:lnTo>
                  <a:lnTo>
                    <a:pt x="702" y="2079"/>
                  </a:lnTo>
                  <a:lnTo>
                    <a:pt x="704" y="2082"/>
                  </a:lnTo>
                  <a:lnTo>
                    <a:pt x="707" y="2082"/>
                  </a:lnTo>
                  <a:lnTo>
                    <a:pt x="710" y="2082"/>
                  </a:lnTo>
                  <a:lnTo>
                    <a:pt x="713" y="2084"/>
                  </a:lnTo>
                  <a:lnTo>
                    <a:pt x="715" y="2084"/>
                  </a:lnTo>
                  <a:lnTo>
                    <a:pt x="718" y="2087"/>
                  </a:lnTo>
                  <a:lnTo>
                    <a:pt x="718" y="2087"/>
                  </a:lnTo>
                  <a:lnTo>
                    <a:pt x="721" y="2087"/>
                  </a:lnTo>
                  <a:lnTo>
                    <a:pt x="724" y="2087"/>
                  </a:lnTo>
                  <a:lnTo>
                    <a:pt x="726" y="2087"/>
                  </a:lnTo>
                  <a:lnTo>
                    <a:pt x="729" y="2090"/>
                  </a:lnTo>
                  <a:lnTo>
                    <a:pt x="729" y="2090"/>
                  </a:lnTo>
                  <a:lnTo>
                    <a:pt x="732" y="2090"/>
                  </a:lnTo>
                  <a:lnTo>
                    <a:pt x="735" y="2090"/>
                  </a:lnTo>
                  <a:lnTo>
                    <a:pt x="737" y="2090"/>
                  </a:lnTo>
                  <a:lnTo>
                    <a:pt x="740" y="2090"/>
                  </a:lnTo>
                  <a:lnTo>
                    <a:pt x="743" y="2090"/>
                  </a:lnTo>
                  <a:lnTo>
                    <a:pt x="746" y="2090"/>
                  </a:lnTo>
                  <a:lnTo>
                    <a:pt x="748" y="2090"/>
                  </a:lnTo>
                  <a:lnTo>
                    <a:pt x="748" y="2087"/>
                  </a:lnTo>
                  <a:lnTo>
                    <a:pt x="751" y="208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0480" y="228600"/>
              <a:ext cx="5184720" cy="102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ages of the Dunn family are:     2,  18,  34,  42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1371600"/>
              <a:ext cx="609624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"/>
            <a:srcRect l="4929" t="0" r="7427" b="5786"/>
            <a:stretch/>
          </p:blipFill>
          <p:spPr>
            <a:xfrm>
              <a:off x="1143000" y="131760"/>
              <a:ext cx="977760" cy="9349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14800" y="2325600"/>
                <a:ext cx="89676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121360" y="2590920"/>
                <a:ext cx="8222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192560" y="3809880"/>
                <a:ext cx="41893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4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4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59160" y="4724280"/>
                <a:ext cx="10749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4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257720" y="5715000"/>
                <a:ext cx="1000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762120" y="1371600"/>
            <a:ext cx="7543800" cy="685800"/>
            <a:chOff x="762120" y="1371600"/>
            <a:chExt cx="7543800" cy="685800"/>
          </a:xfrm>
        </p:grpSpPr>
        <p:sp>
          <p:nvSpPr>
            <p:cNvPr id="196" name=""/>
            <p:cNvSpPr/>
            <p:nvPr/>
          </p:nvSpPr>
          <p:spPr>
            <a:xfrm>
              <a:off x="762120" y="1371600"/>
              <a:ext cx="754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hat is the population </a:t>
              </a:r>
              <a:r>
                <a:rPr b="1" i="1" lang="en-US" sz="3600" spc="-1" strike="noStrike">
                  <a:solidFill>
                    <a:srgbClr val="3333cc"/>
                  </a:solidFill>
                  <a:latin typeface="Times New Roman"/>
                </a:rPr>
                <a:t>mea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i="1" lang="en-US" sz="3600" spc="-1" strike="noStrike">
                  <a:solidFill>
                    <a:srgbClr val="008000"/>
                  </a:solidFill>
                  <a:latin typeface="Times New Roman"/>
                </a:rPr>
                <a:t>variance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990720" y="1980720"/>
              <a:ext cx="7086600" cy="76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1447920" y="3809880"/>
          <a:ext cx="26668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2666880" cy="1067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8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514600" y="2362320"/>
          <a:ext cx="16002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362320"/>
                    <a:ext cx="1600200" cy="110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cover dir="r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152280"/>
            <a:ext cx="670536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ff3300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opulation Standard D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1447920"/>
            <a:ext cx="5410080" cy="1371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3300"/>
              </a:gs>
              <a:gs pos="100000">
                <a:srgbClr val="3333cc"/>
              </a:gs>
            </a:gsLst>
            <a:lin ang="13500000"/>
          </a:gradFill>
          <a:ln w="76320">
            <a:solidFill>
              <a:srgbClr val="ff3300"/>
            </a:solidFill>
            <a:miter/>
          </a:ln>
          <a:effectLst>
            <a:outerShdw dist="197537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s the </a:t>
            </a: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square root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  of the population varian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34290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previous examp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519360" y="4038480"/>
            <a:ext cx="2043360" cy="764280"/>
            <a:chOff x="3519360" y="4038480"/>
            <a:chExt cx="2043360" cy="764280"/>
          </a:xfrm>
        </p:grpSpPr>
        <p:sp>
          <p:nvSpPr>
            <p:cNvPr id="206" name=""/>
            <p:cNvSpPr/>
            <p:nvPr/>
          </p:nvSpPr>
          <p:spPr>
            <a:xfrm>
              <a:off x="3519360" y="4038480"/>
              <a:ext cx="51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589640" y="4608000"/>
              <a:ext cx="77760" cy="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92600" y="4591080"/>
              <a:ext cx="112680" cy="185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92680" y="4191120"/>
              <a:ext cx="149040" cy="5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41720" y="4191120"/>
              <a:ext cx="3924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52520" y="4038480"/>
              <a:ext cx="337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7600" y="411480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57800" y="403848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190400" y="4983120"/>
            <a:ext cx="1753200" cy="731520"/>
            <a:chOff x="4190400" y="4983120"/>
            <a:chExt cx="1753200" cy="731520"/>
          </a:xfrm>
        </p:grpSpPr>
        <p:sp>
          <p:nvSpPr>
            <p:cNvPr id="215" name=""/>
            <p:cNvSpPr/>
            <p:nvPr/>
          </p:nvSpPr>
          <p:spPr>
            <a:xfrm>
              <a:off x="4190400" y="4983120"/>
              <a:ext cx="4852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5520" y="5118120"/>
              <a:ext cx="7984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795920" y="5522400"/>
              <a:ext cx="81000" cy="3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54600" y="5527800"/>
              <a:ext cx="117360" cy="185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959360" y="5127120"/>
              <a:ext cx="155520" cy="5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65560" y="5059440"/>
              <a:ext cx="87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248520" y="5029200"/>
            <a:ext cx="1752480" cy="6426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ff33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 15.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43480" y="5881680"/>
            <a:ext cx="16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8120" y="380880"/>
            <a:ext cx="2971800" cy="685800"/>
          </a:xfrm>
          <a:prstGeom prst="rect">
            <a:avLst/>
          </a:prstGeom>
          <a:noFill/>
          <a:ln w="0">
            <a:noFill/>
          </a:ln>
          <a:effectLst>
            <a:outerShdw dist="346814" dir="1250723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279440"/>
            <a:ext cx="8229600" cy="152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  <a:effectLst>
            <a:outerShdw dist="236173" dir="8624488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ourly wages earned by a sample of five students are: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$7,  $5,  $11,  $8,  $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ari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andard Devi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3392640"/>
            <a:ext cx="1295640" cy="487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7.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958720" y="3143160"/>
            <a:ext cx="975600" cy="907920"/>
            <a:chOff x="5958720" y="3143160"/>
            <a:chExt cx="975600" cy="907920"/>
          </a:xfrm>
        </p:grpSpPr>
        <p:sp>
          <p:nvSpPr>
            <p:cNvPr id="227" name=""/>
            <p:cNvSpPr/>
            <p:nvPr/>
          </p:nvSpPr>
          <p:spPr>
            <a:xfrm>
              <a:off x="6394320" y="3670200"/>
              <a:ext cx="54000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8040" y="3624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19160" y="314316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58720" y="33937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543800" y="4535640"/>
            <a:ext cx="1371600" cy="487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.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6280920" y="4383000"/>
            <a:ext cx="1110240" cy="853920"/>
            <a:chOff x="6280920" y="4383000"/>
            <a:chExt cx="1110240" cy="853920"/>
          </a:xfrm>
        </p:grpSpPr>
        <p:sp>
          <p:nvSpPr>
            <p:cNvPr id="233" name=""/>
            <p:cNvSpPr/>
            <p:nvPr/>
          </p:nvSpPr>
          <p:spPr>
            <a:xfrm>
              <a:off x="6629400" y="4809960"/>
              <a:ext cx="7617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63320" y="4809960"/>
              <a:ext cx="476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-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28680" y="4383000"/>
              <a:ext cx="6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80920" y="45813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747880" y="4230720"/>
            <a:ext cx="3500640" cy="953280"/>
            <a:chOff x="2747880" y="4230720"/>
            <a:chExt cx="3500640" cy="953280"/>
          </a:xfrm>
        </p:grpSpPr>
        <p:sp>
          <p:nvSpPr>
            <p:cNvPr id="238" name=""/>
            <p:cNvSpPr/>
            <p:nvPr/>
          </p:nvSpPr>
          <p:spPr>
            <a:xfrm>
              <a:off x="2758320" y="423072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21680" y="425916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5440" y="423072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5040" y="4259160"/>
              <a:ext cx="1638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7880" y="4840200"/>
              <a:ext cx="35002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7008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82600" y="4365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0656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56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73640" y="43657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656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29440" y="43657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628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136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89400" y="42307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423072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203360" y="4764240"/>
              <a:ext cx="594360" cy="419760"/>
              <a:chOff x="4203360" y="4764240"/>
              <a:chExt cx="594360" cy="419760"/>
            </a:xfrm>
          </p:grpSpPr>
          <p:sp>
            <p:nvSpPr>
              <p:cNvPr id="255" name=""/>
              <p:cNvSpPr/>
              <p:nvPr/>
            </p:nvSpPr>
            <p:spPr>
              <a:xfrm>
                <a:off x="4644720" y="48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03360" y="4817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460760" y="476424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291640" y="4311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68840" y="43117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07600" y="423072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41360" y="4311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229600" y="54100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5678640"/>
            <a:ext cx="1447920" cy="518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=  2.3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72640" y="5602320"/>
            <a:ext cx="1865520" cy="686160"/>
            <a:chOff x="5372640" y="5602320"/>
            <a:chExt cx="1865520" cy="686160"/>
          </a:xfrm>
        </p:grpSpPr>
        <p:grpSp>
          <p:nvGrpSpPr>
            <p:cNvPr id="265" name=""/>
            <p:cNvGrpSpPr/>
            <p:nvPr/>
          </p:nvGrpSpPr>
          <p:grpSpPr>
            <a:xfrm>
              <a:off x="5819760" y="5754960"/>
              <a:ext cx="1418400" cy="457200"/>
              <a:chOff x="5819760" y="5754960"/>
              <a:chExt cx="1418400" cy="45720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5819760" y="6052680"/>
                <a:ext cx="73080" cy="3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892840" y="6063840"/>
                <a:ext cx="102600" cy="1483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010560" y="5754960"/>
                <a:ext cx="147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58160" y="5754960"/>
                <a:ext cx="10800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6192360" y="5708880"/>
              <a:ext cx="84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5.29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72640" y="5602320"/>
              <a:ext cx="4244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650760" y="5648400"/>
            <a:ext cx="2013480" cy="676800"/>
            <a:chOff x="3650760" y="5648400"/>
            <a:chExt cx="2013480" cy="676800"/>
          </a:xfrm>
        </p:grpSpPr>
        <p:grpSp>
          <p:nvGrpSpPr>
            <p:cNvPr id="273" name=""/>
            <p:cNvGrpSpPr/>
            <p:nvPr/>
          </p:nvGrpSpPr>
          <p:grpSpPr>
            <a:xfrm>
              <a:off x="4411800" y="5648400"/>
              <a:ext cx="1252440" cy="640440"/>
              <a:chOff x="4411800" y="5648400"/>
              <a:chExt cx="1252440" cy="64044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4411800" y="5687640"/>
                <a:ext cx="1252440" cy="599760"/>
                <a:chOff x="4411800" y="5687640"/>
                <a:chExt cx="1252440" cy="59976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4411800" y="6073200"/>
                  <a:ext cx="95400" cy="3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507200" y="6085080"/>
                  <a:ext cx="131760" cy="201960"/>
                </a:xfrm>
                <a:prstGeom prst="line">
                  <a:avLst/>
                </a:prstGeom>
                <a:ln w="74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4657680" y="5687640"/>
                  <a:ext cx="189000" cy="599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46680" y="5687640"/>
                  <a:ext cx="817560" cy="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4970520" y="5648400"/>
                <a:ext cx="3636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i="1" lang="en-US" sz="42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3650760" y="5684760"/>
              <a:ext cx="6454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200" spc="-1" strike="noStrike">
                  <a:solidFill>
                    <a:srgbClr val="000000"/>
                  </a:solidFill>
                  <a:latin typeface="Times New Roman"/>
                </a:rPr>
                <a:t>s =</a:t>
              </a:r>
              <a:endParaRPr b="0" lang="en-US" sz="4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228600" y="4267080"/>
          <a:ext cx="24177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267080"/>
                    <a:ext cx="241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267080" y="3124080"/>
          <a:ext cx="160020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124080"/>
                    <a:ext cx="16002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35120" y="3276720"/>
            <a:ext cx="7723080" cy="23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88838" dir="793774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 theatres in a metropolitan area tallied the total number of movies showing last week.                                         Compute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umber of movies showing per theatre.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27320" y="228600"/>
            <a:ext cx="4935600" cy="1447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an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268800" y="1981080"/>
            <a:ext cx="26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6320" y="990720"/>
            <a:ext cx="4572000" cy="2211120"/>
            <a:chOff x="76320" y="990720"/>
            <a:chExt cx="4572000" cy="22111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76320" y="990720"/>
              <a:ext cx="13158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38080" y="2681280"/>
              <a:ext cx="38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om chapter 3…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2583000" y="1447920"/>
            <a:ext cx="4815000" cy="520560"/>
            <a:chOff x="2583000" y="1447920"/>
            <a:chExt cx="4815000" cy="520560"/>
          </a:xfrm>
        </p:grpSpPr>
        <p:sp>
          <p:nvSpPr>
            <p:cNvPr id="292" name=""/>
            <p:cNvSpPr txBox="1"/>
            <p:nvPr/>
          </p:nvSpPr>
          <p:spPr>
            <a:xfrm>
              <a:off x="2583000" y="1447920"/>
              <a:ext cx="2604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60320" y="144792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605952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605952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4600" y="605952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5952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0" y="5479920"/>
            <a:ext cx="198108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5479920"/>
            <a:ext cx="228600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5479920"/>
            <a:ext cx="205740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54799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to und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489888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89888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89888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489888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to und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0" y="431784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431784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431784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431784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to und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586320"/>
            <a:ext cx="1981080" cy="731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3586320"/>
            <a:ext cx="2286000" cy="731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14600" y="3586320"/>
            <a:ext cx="2057400" cy="73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3586320"/>
            <a:ext cx="2209680" cy="731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to und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3006720"/>
            <a:ext cx="198108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3006720"/>
            <a:ext cx="228600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3006720"/>
            <a:ext cx="205740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30067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to und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1905120"/>
            <a:ext cx="1981080" cy="110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1905120"/>
            <a:ext cx="2286000" cy="1101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Mid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14600" y="1905120"/>
            <a:ext cx="2057400" cy="110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920" y="1905120"/>
            <a:ext cx="2209680" cy="1101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s Sh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30067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35863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3178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48988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54799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0595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64056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9051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146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839080" y="19051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371600" y="90360"/>
            <a:ext cx="6781680" cy="1204560"/>
            <a:chOff x="1371600" y="90360"/>
            <a:chExt cx="6781680" cy="1204560"/>
          </a:xfrm>
        </p:grpSpPr>
        <p:sp>
          <p:nvSpPr>
            <p:cNvPr id="336" name=""/>
            <p:cNvSpPr/>
            <p:nvPr/>
          </p:nvSpPr>
          <p:spPr>
            <a:xfrm>
              <a:off x="1371600" y="152280"/>
              <a:ext cx="6705720" cy="106704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79718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The Mean              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Grouped Data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054840" y="90360"/>
              <a:ext cx="2098440" cy="1204560"/>
              <a:chOff x="6054840" y="90360"/>
              <a:chExt cx="2098440" cy="1204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48640" y="698400"/>
                <a:ext cx="1304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14480" y="700200"/>
                <a:ext cx="358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92680" y="90360"/>
                <a:ext cx="4136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10152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402600" y="30492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43" name=""/>
              <p:cNvGraphicFramePr/>
              <p:nvPr/>
            </p:nvGraphicFramePr>
            <p:xfrm>
              <a:off x="6054840" y="339840"/>
              <a:ext cx="522000" cy="588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4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54840" y="339840"/>
                        <a:ext cx="522000" cy="58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972040" y="5318280"/>
            <a:ext cx="1419480" cy="5490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6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448160" y="5105520"/>
            <a:ext cx="1193760" cy="1066320"/>
            <a:chOff x="4448160" y="5105520"/>
            <a:chExt cx="1193760" cy="1066320"/>
          </a:xfrm>
        </p:grpSpPr>
        <p:sp>
          <p:nvSpPr>
            <p:cNvPr id="347" name=""/>
            <p:cNvSpPr/>
            <p:nvPr/>
          </p:nvSpPr>
          <p:spPr>
            <a:xfrm>
              <a:off x="4905360" y="5638680"/>
              <a:ext cx="736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7400" y="562284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75640" y="510552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48160" y="5257800"/>
              <a:ext cx="366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247760" y="3809880"/>
            <a:ext cx="719280" cy="712800"/>
            <a:chOff x="1247760" y="3809880"/>
            <a:chExt cx="719280" cy="712800"/>
          </a:xfrm>
        </p:grpSpPr>
        <p:grpSp>
          <p:nvGrpSpPr>
            <p:cNvPr id="352" name=""/>
            <p:cNvGrpSpPr/>
            <p:nvPr/>
          </p:nvGrpSpPr>
          <p:grpSpPr>
            <a:xfrm>
              <a:off x="1247760" y="3809880"/>
              <a:ext cx="719280" cy="712800"/>
              <a:chOff x="1247760" y="3809880"/>
              <a:chExt cx="719280" cy="712800"/>
            </a:xfrm>
          </p:grpSpPr>
          <p:sp>
            <p:nvSpPr>
              <p:cNvPr id="353" name=""/>
              <p:cNvSpPr/>
              <p:nvPr/>
            </p:nvSpPr>
            <p:spPr>
              <a:xfrm>
                <a:off x="1247760" y="38368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3800" y="38098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 txBox="1"/>
            <p:nvPr/>
          </p:nvSpPr>
          <p:spPr>
            <a:xfrm>
              <a:off x="1400400" y="39513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1447920"/>
            <a:ext cx="4815000" cy="520560"/>
            <a:chOff x="1981080" y="1447920"/>
            <a:chExt cx="4815000" cy="520560"/>
          </a:xfrm>
        </p:grpSpPr>
        <p:sp>
          <p:nvSpPr>
            <p:cNvPr id="357" name=""/>
            <p:cNvSpPr txBox="1"/>
            <p:nvPr/>
          </p:nvSpPr>
          <p:spPr>
            <a:xfrm>
              <a:off x="1981080" y="1447920"/>
              <a:ext cx="2604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8400" y="144792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219320" y="6324480"/>
            <a:ext cx="6705360" cy="381240"/>
            <a:chOff x="1219320" y="6324480"/>
            <a:chExt cx="6705360" cy="381240"/>
          </a:xfrm>
        </p:grpSpPr>
        <p:sp>
          <p:nvSpPr>
            <p:cNvPr id="360" name=""/>
            <p:cNvSpPr/>
            <p:nvPr/>
          </p:nvSpPr>
          <p:spPr>
            <a:xfrm>
              <a:off x="1219320" y="6477120"/>
              <a:ext cx="6705360" cy="759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19720" y="6324480"/>
              <a:ext cx="304560" cy="38124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04920" y="1933560"/>
            <a:ext cx="8534160" cy="1724040"/>
            <a:chOff x="304920" y="1933560"/>
            <a:chExt cx="8534160" cy="1724040"/>
          </a:xfrm>
        </p:grpSpPr>
        <p:grpSp>
          <p:nvGrpSpPr>
            <p:cNvPr id="363" name=""/>
            <p:cNvGrpSpPr/>
            <p:nvPr/>
          </p:nvGrpSpPr>
          <p:grpSpPr>
            <a:xfrm>
              <a:off x="304920" y="1933560"/>
              <a:ext cx="8534160" cy="1101600"/>
              <a:chOff x="304920" y="1933560"/>
              <a:chExt cx="8534160" cy="1101600"/>
            </a:xfrm>
          </p:grpSpPr>
          <p:sp>
            <p:nvSpPr>
              <p:cNvPr id="364" name=""/>
              <p:cNvSpPr/>
              <p:nvPr/>
            </p:nvSpPr>
            <p:spPr>
              <a:xfrm>
                <a:off x="6858000" y="1933560"/>
                <a:ext cx="1980720" cy="11016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572000" y="1933560"/>
                <a:ext cx="2285640" cy="110160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ass Midpoi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14600" y="1933560"/>
                <a:ext cx="2057040" cy="11016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4920" y="1933560"/>
                <a:ext cx="2209680" cy="1101600"/>
              </a:xfrm>
              <a:prstGeom prst="rect">
                <a:avLst/>
              </a:prstGeom>
              <a:gradFill rotWithShape="0">
                <a:gsLst>
                  <a:gs pos="0">
                    <a:srgbClr val="46755e"/>
                  </a:gs>
                  <a:gs pos="50000">
                    <a:srgbClr val="99ffcc"/>
                  </a:gs>
                  <a:gs pos="100000">
                    <a:srgbClr val="46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ovies Show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4920" y="193356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4920" y="303516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304920" y="3076560"/>
              <a:ext cx="8534160" cy="581040"/>
              <a:chOff x="304920" y="3076560"/>
              <a:chExt cx="8534160" cy="581040"/>
            </a:xfrm>
          </p:grpSpPr>
          <p:sp>
            <p:nvSpPr>
              <p:cNvPr id="371" name=""/>
              <p:cNvSpPr/>
              <p:nvPr/>
            </p:nvSpPr>
            <p:spPr>
              <a:xfrm>
                <a:off x="6858000" y="3076560"/>
                <a:ext cx="1981080" cy="58104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572000" y="3076560"/>
                <a:ext cx="2286000" cy="58104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fefefe"/>
                  </a:gs>
                  <a:gs pos="100000">
                    <a:srgbClr val="ff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514600" y="3076560"/>
                <a:ext cx="2057400" cy="5810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4920" y="3076560"/>
                <a:ext cx="2209680" cy="5810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Tot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4920" y="307656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365760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533520" y="4952880"/>
            <a:ext cx="335268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88838" dir="793774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w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mpute th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vari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standard deviatio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676520" y="90360"/>
            <a:ext cx="5943600" cy="1204560"/>
            <a:chOff x="1676520" y="90360"/>
            <a:chExt cx="5943600" cy="1204560"/>
          </a:xfrm>
        </p:grpSpPr>
        <p:sp>
          <p:nvSpPr>
            <p:cNvPr id="379" name=""/>
            <p:cNvSpPr/>
            <p:nvPr/>
          </p:nvSpPr>
          <p:spPr>
            <a:xfrm>
              <a:off x="1676520" y="152280"/>
              <a:ext cx="5943600" cy="106704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79718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he Mean             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Grouped Data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5486400" y="90360"/>
              <a:ext cx="2098440" cy="1204560"/>
              <a:chOff x="5486400" y="90360"/>
              <a:chExt cx="2098440" cy="1204560"/>
            </a:xfrm>
          </p:grpSpPr>
          <p:sp>
            <p:nvSpPr>
              <p:cNvPr id="381" name=""/>
              <p:cNvSpPr/>
              <p:nvPr/>
            </p:nvSpPr>
            <p:spPr>
              <a:xfrm>
                <a:off x="6280200" y="698400"/>
                <a:ext cx="1304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746040" y="700200"/>
                <a:ext cx="358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24240" y="90360"/>
                <a:ext cx="4136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441840" y="10152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4160" y="30492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6" name=""/>
              <p:cNvGraphicFramePr/>
              <p:nvPr/>
            </p:nvGraphicFramePr>
            <p:xfrm>
              <a:off x="5486400" y="339840"/>
              <a:ext cx="522000" cy="588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486400" y="339840"/>
                        <a:ext cx="522000" cy="58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88" name=""/>
          <p:cNvGrpSpPr/>
          <p:nvPr/>
        </p:nvGrpSpPr>
        <p:grpSpPr>
          <a:xfrm>
            <a:off x="2590920" y="3733920"/>
            <a:ext cx="4010040" cy="1218960"/>
            <a:chOff x="2590920" y="3733920"/>
            <a:chExt cx="4010040" cy="1218960"/>
          </a:xfrm>
        </p:grpSpPr>
        <p:sp>
          <p:nvSpPr>
            <p:cNvPr id="389" name=""/>
            <p:cNvSpPr/>
            <p:nvPr/>
          </p:nvSpPr>
          <p:spPr>
            <a:xfrm>
              <a:off x="4010040" y="3733920"/>
              <a:ext cx="2590920" cy="121896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2590920" y="3733920"/>
              <a:ext cx="3698640" cy="1204200"/>
              <a:chOff x="2590920" y="3733920"/>
              <a:chExt cx="3698640" cy="1204200"/>
            </a:xfrm>
          </p:grpSpPr>
          <p:sp>
            <p:nvSpPr>
              <p:cNvPr id="391" name=""/>
              <p:cNvSpPr/>
              <p:nvPr/>
            </p:nvSpPr>
            <p:spPr>
              <a:xfrm>
                <a:off x="2590920" y="3962520"/>
                <a:ext cx="1371600" cy="459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71785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Formula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4191120" y="3733920"/>
                <a:ext cx="2098440" cy="1204200"/>
                <a:chOff x="4191120" y="3733920"/>
                <a:chExt cx="2098440" cy="12042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984920" y="4341600"/>
                  <a:ext cx="1304640" cy="1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450760" y="4343400"/>
                  <a:ext cx="35892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900" spc="-1" strike="noStrike">
                      <a:solidFill>
                        <a:srgbClr val="ff3300"/>
                      </a:solidFill>
                      <a:latin typeface="Times New Roman"/>
                    </a:rPr>
                    <a:t>N</a:t>
                  </a:r>
                  <a:endParaRPr b="0" lang="en-US" sz="3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28960" y="3733920"/>
                  <a:ext cx="413640" cy="5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900" spc="-1" strike="noStrike">
                      <a:solidFill>
                        <a:srgbClr val="000000"/>
                      </a:solidFill>
                      <a:latin typeface="Times New Roman"/>
                    </a:rPr>
                    <a:t>fx</a:t>
                  </a:r>
                  <a:endParaRPr b="0" lang="en-US" sz="3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146560" y="3744720"/>
                  <a:ext cx="323640" cy="65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3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endParaRPr b="0" lang="en-US" sz="4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538880" y="3948120"/>
                  <a:ext cx="476280" cy="71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</a:t>
                  </a:r>
                  <a:endParaRPr b="0" lang="en-US" sz="4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98" name=""/>
                <p:cNvGraphicFramePr/>
                <p:nvPr/>
              </p:nvGraphicFramePr>
              <p:xfrm>
                <a:off x="4191120" y="3983040"/>
                <a:ext cx="522000" cy="5886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9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4191120" y="3983040"/>
                          <a:ext cx="522000" cy="588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14600" y="304920"/>
            <a:ext cx="4114800" cy="838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100000"/>
          </a:gradFill>
          <a:ln w="0">
            <a:noFill/>
          </a:ln>
          <a:effectLst>
            <a:outerShdw dist="215809" dir="7083674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 Variance               for Grou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1523880"/>
            <a:ext cx="7309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rmula for the sample variance for grouped data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5334120"/>
            <a:ext cx="7772400" cy="9169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class frequency and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lass mi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708400">
            <a:off x="3526920" y="4486320"/>
            <a:ext cx="1640880" cy="7642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994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86000" y="2666880"/>
            <a:ext cx="4419720" cy="1595880"/>
            <a:chOff x="2286000" y="2666880"/>
            <a:chExt cx="4419720" cy="1595880"/>
          </a:xfrm>
        </p:grpSpPr>
        <p:sp>
          <p:nvSpPr>
            <p:cNvPr id="405" name=""/>
            <p:cNvSpPr/>
            <p:nvPr/>
          </p:nvSpPr>
          <p:spPr>
            <a:xfrm>
              <a:off x="5091120" y="3265560"/>
              <a:ext cx="156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4840" y="3732120"/>
              <a:ext cx="326088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11080" y="3774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68240" y="2784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26760" y="2784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51040" y="26668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41520" y="29494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42680" y="34592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3160" y="37306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05320" y="2739960"/>
              <a:ext cx="24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48760" y="2976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79760" y="2976480"/>
              <a:ext cx="24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71080" y="34290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38240" y="37749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4880" y="331488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15640" y="2784600"/>
              <a:ext cx="31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90080" y="3021120"/>
              <a:ext cx="31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86000" y="350532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324480" y="5830920"/>
            <a:ext cx="121932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9720" y="5791320"/>
            <a:ext cx="190476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830920"/>
            <a:ext cx="190512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583092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24480" y="5251320"/>
            <a:ext cx="121932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19720" y="5257800"/>
            <a:ext cx="190476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14600" y="5251320"/>
            <a:ext cx="190512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52513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to und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24480" y="4670280"/>
            <a:ext cx="121932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19720" y="4648320"/>
            <a:ext cx="190476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4600" y="4670280"/>
            <a:ext cx="190512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467028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to und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24480" y="4089240"/>
            <a:ext cx="121932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9720" y="4114800"/>
            <a:ext cx="190476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4089240"/>
            <a:ext cx="190512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408924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to und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3357720"/>
            <a:ext cx="1219320" cy="731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267080" y="3352680"/>
            <a:ext cx="2057400" cy="731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3357720"/>
            <a:ext cx="1905120" cy="73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3357720"/>
            <a:ext cx="2209680" cy="731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to und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24480" y="2778120"/>
            <a:ext cx="121932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743200"/>
            <a:ext cx="190476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14600" y="2778120"/>
            <a:ext cx="190512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7781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to und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72200" y="1676520"/>
            <a:ext cx="1371600" cy="110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1676520"/>
            <a:ext cx="1904760" cy="1101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Mid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1676520"/>
            <a:ext cx="1905120" cy="110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1676520"/>
            <a:ext cx="2209680" cy="1101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s Sh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67652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1196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6765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14600" y="16765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32320" y="16765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24480" y="16765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43800" y="16765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839080" y="16765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43800" y="5830920"/>
            <a:ext cx="1295280" cy="58104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43800" y="5251320"/>
            <a:ext cx="1295280" cy="57960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4670280"/>
            <a:ext cx="1295280" cy="58104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4089240"/>
            <a:ext cx="1295280" cy="58104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43800" y="3357720"/>
            <a:ext cx="1295280" cy="73152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2778120"/>
            <a:ext cx="1295280" cy="57960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43800" y="1676520"/>
            <a:ext cx="1295280" cy="110160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50000">
                <a:srgbClr val="fefefe"/>
              </a:gs>
              <a:gs pos="100000">
                <a:srgbClr val="dd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43800" y="16765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2778120"/>
            <a:ext cx="853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920" y="5251320"/>
            <a:ext cx="853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46702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920" y="40892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920" y="33577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5830920"/>
            <a:ext cx="853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62320" y="304920"/>
            <a:ext cx="4114800" cy="838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100000"/>
          </a:gradFill>
          <a:ln w="0">
            <a:noFill/>
          </a:ln>
          <a:effectLst>
            <a:outerShdw dist="215809" dir="7083674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 Variance               for Grou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304920" y="1436760"/>
            <a:ext cx="8534160" cy="1687320"/>
            <a:chOff x="304920" y="1436760"/>
            <a:chExt cx="8534160" cy="1687320"/>
          </a:xfrm>
        </p:grpSpPr>
        <p:sp>
          <p:nvSpPr>
            <p:cNvPr id="475" name=""/>
            <p:cNvSpPr/>
            <p:nvPr/>
          </p:nvSpPr>
          <p:spPr>
            <a:xfrm>
              <a:off x="6172200" y="1436760"/>
              <a:ext cx="1371600" cy="1101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19720" y="1436760"/>
              <a:ext cx="1904760" cy="1101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ass Mid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4600" y="1436760"/>
              <a:ext cx="1905120" cy="110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20" y="1436760"/>
              <a:ext cx="2209680" cy="110160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vies Sh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143676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43800" y="1436760"/>
              <a:ext cx="1295280" cy="1101600"/>
            </a:xfrm>
            <a:prstGeom prst="rect">
              <a:avLst/>
            </a:prstGeom>
            <a:gradFill rotWithShape="0">
              <a:gsLst>
                <a:gs pos="0">
                  <a:srgbClr val="ddddff"/>
                </a:gs>
                <a:gs pos="50000">
                  <a:srgbClr val="fefefe"/>
                </a:gs>
                <a:gs pos="100000">
                  <a:srgbClr val="dddd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4920" y="2538360"/>
              <a:ext cx="853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24480" y="2543040"/>
              <a:ext cx="1219320" cy="5806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6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720" y="2503440"/>
              <a:ext cx="1904760" cy="58068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4600" y="254304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920" y="2543040"/>
              <a:ext cx="2209680" cy="5806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920" y="3124080"/>
              <a:ext cx="8534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43800" y="2543040"/>
              <a:ext cx="1295280" cy="580680"/>
            </a:xfrm>
            <a:prstGeom prst="rect">
              <a:avLst/>
            </a:prstGeom>
            <a:gradFill rotWithShape="0">
              <a:gsLst>
                <a:gs pos="0">
                  <a:srgbClr val="ddddff"/>
                </a:gs>
                <a:gs pos="50000">
                  <a:srgbClr val="fefefe"/>
                </a:gs>
                <a:gs pos="100000">
                  <a:srgbClr val="dddd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0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920" y="2543040"/>
              <a:ext cx="853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286000" y="3129120"/>
            <a:ext cx="4419720" cy="1595520"/>
            <a:chOff x="2286000" y="3129120"/>
            <a:chExt cx="4419720" cy="1595520"/>
          </a:xfrm>
        </p:grpSpPr>
        <p:sp>
          <p:nvSpPr>
            <p:cNvPr id="490" name=""/>
            <p:cNvSpPr/>
            <p:nvPr/>
          </p:nvSpPr>
          <p:spPr>
            <a:xfrm>
              <a:off x="5091120" y="3727440"/>
              <a:ext cx="15638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44840" y="4194000"/>
              <a:ext cx="3260880" cy="144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11080" y="42368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68240" y="3246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126760" y="32464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51040" y="3129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41520" y="34113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42680" y="39211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33160" y="41925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05320" y="3201840"/>
              <a:ext cx="24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48760" y="34383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79760" y="3438360"/>
              <a:ext cx="24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71080" y="389088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38240" y="42368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44880" y="377676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5640" y="3246480"/>
              <a:ext cx="31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90080" y="3483000"/>
              <a:ext cx="314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r>
                <a:rPr b="1" i="1" lang="en-US" sz="2800" spc="-1" strike="noStrike">
                  <a:solidFill>
                    <a:srgbClr val="0033cc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0" y="3967200"/>
              <a:ext cx="19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048120" y="4815000"/>
            <a:ext cx="480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800" y="4981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505320" y="4753080"/>
            <a:ext cx="1981080" cy="887040"/>
            <a:chOff x="3505320" y="4753080"/>
            <a:chExt cx="1981080" cy="887040"/>
          </a:xfrm>
        </p:grpSpPr>
        <p:sp>
          <p:nvSpPr>
            <p:cNvPr id="511" name=""/>
            <p:cNvSpPr/>
            <p:nvPr/>
          </p:nvSpPr>
          <p:spPr>
            <a:xfrm>
              <a:off x="3505320" y="49050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8 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95680" y="47530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19720" y="51955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5680" y="51195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505320" y="5576760"/>
            <a:ext cx="1904760" cy="520560"/>
            <a:chOff x="3505320" y="5576760"/>
            <a:chExt cx="1904760" cy="520560"/>
          </a:xfrm>
        </p:grpSpPr>
        <p:sp>
          <p:nvSpPr>
            <p:cNvPr id="516" name=""/>
            <p:cNvSpPr/>
            <p:nvPr/>
          </p:nvSpPr>
          <p:spPr>
            <a:xfrm>
              <a:off x="3505320" y="557676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14800" y="557676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971800" y="6033960"/>
            <a:ext cx="144792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8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228600"/>
            <a:ext cx="4114800" cy="8380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100000"/>
          </a:gradFill>
          <a:ln w="0">
            <a:noFill/>
          </a:ln>
          <a:effectLst>
            <a:outerShdw dist="215809" dir="7083674" blurRad="0" rotWithShape="0">
              <a:srgbClr val="98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 Variance               for Groupe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6033960"/>
            <a:ext cx="2666880" cy="5205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arianc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5041800"/>
            <a:ext cx="2819520" cy="1595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ndard devia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943600" y="5956200"/>
            <a:ext cx="1418760" cy="579600"/>
            <a:chOff x="5943600" y="5956200"/>
            <a:chExt cx="1418760" cy="579600"/>
          </a:xfrm>
        </p:grpSpPr>
        <p:grpSp>
          <p:nvGrpSpPr>
            <p:cNvPr id="523" name=""/>
            <p:cNvGrpSpPr/>
            <p:nvPr/>
          </p:nvGrpSpPr>
          <p:grpSpPr>
            <a:xfrm>
              <a:off x="5943600" y="6002280"/>
              <a:ext cx="1418760" cy="457200"/>
              <a:chOff x="5943600" y="6002280"/>
              <a:chExt cx="1418760" cy="457200"/>
            </a:xfrm>
          </p:grpSpPr>
          <p:sp>
            <p:nvSpPr>
              <p:cNvPr id="524" name=""/>
              <p:cNvSpPr/>
              <p:nvPr/>
            </p:nvSpPr>
            <p:spPr>
              <a:xfrm flipV="1">
                <a:off x="5943600" y="6300000"/>
                <a:ext cx="73080" cy="32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016680" y="6311160"/>
                <a:ext cx="102600" cy="148320"/>
              </a:xfrm>
              <a:prstGeom prst="line">
                <a:avLst/>
              </a:prstGeom>
              <a:ln w="74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34400" y="6002280"/>
                <a:ext cx="14760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82000" y="6002280"/>
                <a:ext cx="10803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6316560" y="5956200"/>
              <a:ext cx="848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Times New Roman"/>
                </a:rPr>
                <a:t>8.04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7391520" y="5924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2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019240" y="247680"/>
            <a:ext cx="4800600" cy="1276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pretation and Uses                  of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a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8200" y="1600200"/>
            <a:ext cx="7192800" cy="2743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hebyshev’s Theorem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any set of observations,       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minimum proportion of the values                                                       that lie within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andard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via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of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s at le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5410080"/>
            <a:ext cx="769644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i="1" lang="en-US" sz="36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an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stant greater th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391520" y="6248520"/>
            <a:ext cx="1352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443320" y="4267080"/>
            <a:ext cx="3728880" cy="1189440"/>
            <a:chOff x="2443320" y="4267080"/>
            <a:chExt cx="3728880" cy="1189440"/>
          </a:xfrm>
        </p:grpSpPr>
        <p:grpSp>
          <p:nvGrpSpPr>
            <p:cNvPr id="535" name=""/>
            <p:cNvGrpSpPr/>
            <p:nvPr/>
          </p:nvGrpSpPr>
          <p:grpSpPr>
            <a:xfrm>
              <a:off x="4177440" y="4267080"/>
              <a:ext cx="1994760" cy="1189440"/>
              <a:chOff x="4177440" y="4267080"/>
              <a:chExt cx="1994760" cy="1189440"/>
            </a:xfrm>
          </p:grpSpPr>
          <p:sp>
            <p:nvSpPr>
              <p:cNvPr id="536" name=""/>
              <p:cNvSpPr/>
              <p:nvPr/>
            </p:nvSpPr>
            <p:spPr>
              <a:xfrm>
                <a:off x="5224680" y="4881600"/>
                <a:ext cx="947520" cy="1440"/>
              </a:xfrm>
              <a:prstGeom prst="line">
                <a:avLst/>
              </a:prstGeom>
              <a:ln w="39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719320" y="4876920"/>
                <a:ext cx="172800" cy="4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500080" y="426708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7440" y="457380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01440" y="4876920"/>
                <a:ext cx="243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8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92240" y="4518000"/>
                <a:ext cx="160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3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2443320" y="4647960"/>
              <a:ext cx="1371600" cy="459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04920" y="2063880"/>
            <a:ext cx="609480" cy="581400"/>
            <a:chOff x="304920" y="2063880"/>
            <a:chExt cx="609480" cy="581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2138400"/>
              <a:ext cx="60948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81960" y="20638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35160" y="2139840"/>
            <a:ext cx="69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and interpret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dev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400" spc="-1" strike="noStrike">
                <a:solidFill>
                  <a:srgbClr val="00cc66"/>
                </a:solidFill>
                <a:latin typeface="Times New Roman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standard dev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     and the </a:t>
            </a:r>
            <a:r>
              <a:rPr b="1" i="1" lang="en-US" sz="2400" spc="-1" strike="noStrike">
                <a:solidFill>
                  <a:srgbClr val="00ccff"/>
                </a:solidFill>
                <a:latin typeface="Times New Roman"/>
              </a:rPr>
              <a:t>coefficient of var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group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4920" y="3465360"/>
            <a:ext cx="609480" cy="581400"/>
            <a:chOff x="304920" y="3465360"/>
            <a:chExt cx="609480" cy="581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04920" y="353988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81960" y="346536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143000" y="3541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and interpret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an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400" spc="-1" strike="noStrike">
                <a:solidFill>
                  <a:srgbClr val="00cc66"/>
                </a:solidFill>
                <a:latin typeface="Times New Roman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     and the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standard devi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up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5640" y="624852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5424" dir="12050110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5424" dir="12050110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4920" y="4456080"/>
            <a:ext cx="609480" cy="581400"/>
            <a:chOff x="304920" y="4456080"/>
            <a:chExt cx="609480" cy="581400"/>
          </a:xfrm>
        </p:grpSpPr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304920" y="453060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81960" y="44560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162080" y="454644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lain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                    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each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5050" t="26945" r="64254" b="36005"/>
          <a:stretch/>
        </p:blipFill>
        <p:spPr>
          <a:xfrm>
            <a:off x="228600" y="2362320"/>
            <a:ext cx="6553080" cy="42480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0" y="988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that a wholesale plumbing supply company has a group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0 sales vouc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a particular day.            The amount of these voucher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048120"/>
            <a:ext cx="2133720" cy="308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98339" dir="77907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ell does this data set            fit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ebychev’s Theor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rcRect l="4929" t="0" r="7427" b="5786"/>
          <a:stretch/>
        </p:blipFill>
        <p:spPr>
          <a:xfrm>
            <a:off x="3886200" y="55440"/>
            <a:ext cx="977760" cy="9352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7400880" y="5881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3278520" y="932040"/>
            <a:ext cx="2258280" cy="744480"/>
            <a:chOff x="3278520" y="932040"/>
            <a:chExt cx="2258280" cy="744480"/>
          </a:xfrm>
        </p:grpSpPr>
        <p:pic>
          <p:nvPicPr>
            <p:cNvPr id="549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4824360" y="978120"/>
              <a:ext cx="71244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3278520" y="932040"/>
              <a:ext cx="142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675520" y="166680"/>
            <a:ext cx="34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69280" y="1690560"/>
            <a:ext cx="5522040" cy="1069920"/>
            <a:chOff x="269280" y="1690560"/>
            <a:chExt cx="5522040" cy="1069920"/>
          </a:xfrm>
        </p:grpSpPr>
        <p:sp>
          <p:nvSpPr>
            <p:cNvPr id="553" name=""/>
            <p:cNvSpPr/>
            <p:nvPr/>
          </p:nvSpPr>
          <p:spPr>
            <a:xfrm>
              <a:off x="1295280" y="1935000"/>
              <a:ext cx="4496040" cy="825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841805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termine the  mean and              standard deviation of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9280" y="169056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324480" y="1919160"/>
            <a:ext cx="243864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n = $319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$101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23200" y="3062160"/>
            <a:ext cx="4882320" cy="1602720"/>
            <a:chOff x="223200" y="3062160"/>
            <a:chExt cx="4882320" cy="1602720"/>
          </a:xfrm>
        </p:grpSpPr>
        <p:sp>
          <p:nvSpPr>
            <p:cNvPr id="557" name=""/>
            <p:cNvSpPr/>
            <p:nvPr/>
          </p:nvSpPr>
          <p:spPr>
            <a:xfrm>
              <a:off x="1295280" y="3290760"/>
              <a:ext cx="3810240" cy="1374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ffff"/>
                  </a:solidFill>
                  <a:latin typeface="Times New Roman"/>
                </a:rPr>
                <a:t>Input</a:t>
              </a:r>
              <a:r>
                <a:rPr b="1" i="1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ffffff"/>
                  </a:solidFill>
                  <a:latin typeface="Times New Roman"/>
                </a:rPr>
                <a:t>k =2</a:t>
              </a:r>
              <a:r>
                <a:rPr b="1" i="1" lang="en-US" sz="3200" spc="-1" strike="noStrike">
                  <a:solidFill>
                    <a:srgbClr val="00ffff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                                   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into Chebyshev’s theor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3200" y="306216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105520" y="3290760"/>
            <a:ext cx="1523880" cy="990360"/>
            <a:chOff x="5105520" y="3290760"/>
            <a:chExt cx="1523880" cy="990360"/>
          </a:xfrm>
        </p:grpSpPr>
        <p:sp>
          <p:nvSpPr>
            <p:cNvPr id="560" name=""/>
            <p:cNvSpPr/>
            <p:nvPr/>
          </p:nvSpPr>
          <p:spPr>
            <a:xfrm>
              <a:off x="5105520" y="3290760"/>
              <a:ext cx="1523880" cy="990360"/>
            </a:xfrm>
            <a:prstGeom prst="rect">
              <a:avLst/>
            </a:prstGeom>
            <a:solidFill>
              <a:srgbClr val="fff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7160" y="3822480"/>
              <a:ext cx="719280" cy="14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60960" y="336672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73840" y="382392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4000" y="3463560"/>
              <a:ext cx="74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-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705720" y="3519360"/>
            <a:ext cx="2286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9320" y="4510080"/>
            <a:ext cx="7010280" cy="11300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e.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lea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.7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observations will fall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m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172200" y="5943600"/>
            <a:ext cx="2743200" cy="642600"/>
            <a:chOff x="6172200" y="5943600"/>
            <a:chExt cx="2743200" cy="642600"/>
          </a:xfrm>
        </p:grpSpPr>
        <p:sp>
          <p:nvSpPr>
            <p:cNvPr id="568" name=""/>
            <p:cNvSpPr/>
            <p:nvPr/>
          </p:nvSpPr>
          <p:spPr>
            <a:xfrm>
              <a:off x="6172200" y="6324480"/>
              <a:ext cx="2743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67640" y="5943600"/>
              <a:ext cx="157068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650160" y="1066680"/>
            <a:ext cx="5369760" cy="2061000"/>
            <a:chOff x="650160" y="1066680"/>
            <a:chExt cx="5369760" cy="2061000"/>
          </a:xfrm>
        </p:grpSpPr>
        <p:sp>
          <p:nvSpPr>
            <p:cNvPr id="571" name=""/>
            <p:cNvSpPr/>
            <p:nvPr/>
          </p:nvSpPr>
          <p:spPr>
            <a:xfrm>
              <a:off x="1523880" y="1327320"/>
              <a:ext cx="4496040" cy="1800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ff"/>
                  </a:solidFill>
                  <a:latin typeface="Times New Roman"/>
                </a:rPr>
                <a:t>Using the mean and SD,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find the range of data values                   within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 SD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of th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0160" y="1066680"/>
              <a:ext cx="11073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Step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6095880" y="1600200"/>
            <a:ext cx="243864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n = $319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$101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2895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319 - (2)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1.7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319 +2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1.7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35053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115.44, 522.5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960" y="4343400"/>
            <a:ext cx="7886520" cy="1373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, go back to the sample data,                               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ee 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portion of the values fall betwe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115.44 and 522.56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75520" y="166680"/>
            <a:ext cx="34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019920" y="6033960"/>
            <a:ext cx="2743200" cy="520560"/>
            <a:chOff x="6019920" y="6033960"/>
            <a:chExt cx="2743200" cy="520560"/>
          </a:xfrm>
        </p:grpSpPr>
        <p:sp>
          <p:nvSpPr>
            <p:cNvPr id="579" name=""/>
            <p:cNvSpPr/>
            <p:nvPr/>
          </p:nvSpPr>
          <p:spPr>
            <a:xfrm>
              <a:off x="6019920" y="6324480"/>
              <a:ext cx="2743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472440" y="6033960"/>
              <a:ext cx="1860120" cy="52056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04920" y="2895480"/>
            <a:ext cx="2666880" cy="731520"/>
            <a:chOff x="304920" y="2895480"/>
            <a:chExt cx="2666880" cy="731520"/>
          </a:xfrm>
        </p:grpSpPr>
        <p:sp>
          <p:nvSpPr>
            <p:cNvPr id="582" name=""/>
            <p:cNvSpPr/>
            <p:nvPr/>
          </p:nvSpPr>
          <p:spPr>
            <a:xfrm>
              <a:off x="304920" y="2895480"/>
              <a:ext cx="266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    - 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  + 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33520" y="304524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600200" y="3045240"/>
              <a:ext cx="3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019240" y="990720"/>
            <a:ext cx="4800600" cy="1800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rtion of the values                       that fall                                                         between 115.44 and 522.5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rcRect l="5050" t="26945" r="64254" b="36005"/>
          <a:stretch/>
        </p:blipFill>
        <p:spPr>
          <a:xfrm>
            <a:off x="152280" y="2362320"/>
            <a:ext cx="6553440" cy="41148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0" y="2505240"/>
            <a:ext cx="2133720" cy="41173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find t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8-50                or 96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of the data values are in this range                   – certainly    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t least 75%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the theorem sugges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675520" y="166680"/>
            <a:ext cx="341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52280" y="2362320"/>
            <a:ext cx="6477120" cy="4114440"/>
            <a:chOff x="152280" y="2362320"/>
            <a:chExt cx="6477120" cy="4114440"/>
          </a:xfrm>
        </p:grpSpPr>
        <p:sp>
          <p:nvSpPr>
            <p:cNvPr id="590" name=""/>
            <p:cNvSpPr/>
            <p:nvPr/>
          </p:nvSpPr>
          <p:spPr>
            <a:xfrm>
              <a:off x="152280" y="2362320"/>
              <a:ext cx="6477120" cy="2872440"/>
            </a:xfrm>
            <a:prstGeom prst="rect">
              <a:avLst/>
            </a:prstGeom>
            <a:solidFill>
              <a:srgbClr val="66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2280" y="5234760"/>
              <a:ext cx="4820040" cy="1242000"/>
            </a:xfrm>
            <a:prstGeom prst="rect">
              <a:avLst/>
            </a:prstGeom>
            <a:solidFill>
              <a:srgbClr val="66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828800" y="247680"/>
            <a:ext cx="5427720" cy="1047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pretation and Uses of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1371600"/>
            <a:ext cx="846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mpirical Rule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ny symmetrical, bell-shaped distribu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2743200"/>
            <a:ext cx="686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bout 68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observations will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e within 1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of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14400" y="38862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bout 95%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observations will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e within 2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 the m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0040" y="5567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66680" y="510552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irtually 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observations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ll be within 3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of the me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99040" y="5538960"/>
            <a:ext cx="6882840" cy="1528200"/>
            <a:chOff x="1499040" y="5538960"/>
            <a:chExt cx="6882840" cy="1528200"/>
          </a:xfrm>
        </p:grpSpPr>
        <p:sp>
          <p:nvSpPr>
            <p:cNvPr id="599" name=""/>
            <p:cNvSpPr/>
            <p:nvPr/>
          </p:nvSpPr>
          <p:spPr>
            <a:xfrm rot="384000">
              <a:off x="1522440" y="5979600"/>
              <a:ext cx="6021360" cy="754200"/>
            </a:xfrm>
            <a:custGeom>
              <a:avLst/>
              <a:gdLst/>
              <a:ahLst/>
              <a:rect l="l" t="t" r="r" b="b"/>
              <a:pathLst>
                <a:path w="2572" h="394">
                  <a:moveTo>
                    <a:pt x="2453" y="63"/>
                  </a:moveTo>
                  <a:lnTo>
                    <a:pt x="2440" y="58"/>
                  </a:lnTo>
                  <a:lnTo>
                    <a:pt x="2414" y="53"/>
                  </a:lnTo>
                  <a:lnTo>
                    <a:pt x="2388" y="48"/>
                  </a:lnTo>
                  <a:lnTo>
                    <a:pt x="2375" y="48"/>
                  </a:lnTo>
                  <a:lnTo>
                    <a:pt x="2348" y="44"/>
                  </a:lnTo>
                  <a:lnTo>
                    <a:pt x="2322" y="44"/>
                  </a:lnTo>
                  <a:lnTo>
                    <a:pt x="2296" y="48"/>
                  </a:lnTo>
                  <a:lnTo>
                    <a:pt x="2270" y="48"/>
                  </a:lnTo>
                  <a:lnTo>
                    <a:pt x="2230" y="53"/>
                  </a:lnTo>
                  <a:lnTo>
                    <a:pt x="2191" y="58"/>
                  </a:lnTo>
                  <a:lnTo>
                    <a:pt x="2165" y="63"/>
                  </a:lnTo>
                  <a:lnTo>
                    <a:pt x="2125" y="68"/>
                  </a:lnTo>
                  <a:lnTo>
                    <a:pt x="2086" y="72"/>
                  </a:lnTo>
                  <a:lnTo>
                    <a:pt x="2060" y="77"/>
                  </a:lnTo>
                  <a:lnTo>
                    <a:pt x="2020" y="87"/>
                  </a:lnTo>
                  <a:lnTo>
                    <a:pt x="1981" y="92"/>
                  </a:lnTo>
                  <a:lnTo>
                    <a:pt x="1955" y="96"/>
                  </a:lnTo>
                  <a:lnTo>
                    <a:pt x="1916" y="106"/>
                  </a:lnTo>
                  <a:lnTo>
                    <a:pt x="1889" y="111"/>
                  </a:lnTo>
                  <a:lnTo>
                    <a:pt x="1850" y="120"/>
                  </a:lnTo>
                  <a:lnTo>
                    <a:pt x="1824" y="125"/>
                  </a:lnTo>
                  <a:lnTo>
                    <a:pt x="1784" y="135"/>
                  </a:lnTo>
                  <a:lnTo>
                    <a:pt x="1758" y="140"/>
                  </a:lnTo>
                  <a:lnTo>
                    <a:pt x="1719" y="149"/>
                  </a:lnTo>
                  <a:lnTo>
                    <a:pt x="1692" y="159"/>
                  </a:lnTo>
                  <a:lnTo>
                    <a:pt x="1666" y="168"/>
                  </a:lnTo>
                  <a:lnTo>
                    <a:pt x="1627" y="173"/>
                  </a:lnTo>
                  <a:lnTo>
                    <a:pt x="1601" y="183"/>
                  </a:lnTo>
                  <a:lnTo>
                    <a:pt x="1561" y="192"/>
                  </a:lnTo>
                  <a:lnTo>
                    <a:pt x="1535" y="197"/>
                  </a:lnTo>
                  <a:lnTo>
                    <a:pt x="1509" y="207"/>
                  </a:lnTo>
                  <a:lnTo>
                    <a:pt x="1469" y="216"/>
                  </a:lnTo>
                  <a:lnTo>
                    <a:pt x="1443" y="221"/>
                  </a:lnTo>
                  <a:lnTo>
                    <a:pt x="1417" y="231"/>
                  </a:lnTo>
                  <a:lnTo>
                    <a:pt x="1378" y="240"/>
                  </a:lnTo>
                  <a:lnTo>
                    <a:pt x="1351" y="245"/>
                  </a:lnTo>
                  <a:lnTo>
                    <a:pt x="1325" y="255"/>
                  </a:lnTo>
                  <a:lnTo>
                    <a:pt x="1286" y="260"/>
                  </a:lnTo>
                  <a:lnTo>
                    <a:pt x="1260" y="269"/>
                  </a:lnTo>
                  <a:lnTo>
                    <a:pt x="1233" y="274"/>
                  </a:lnTo>
                  <a:lnTo>
                    <a:pt x="1207" y="284"/>
                  </a:lnTo>
                  <a:lnTo>
                    <a:pt x="1168" y="288"/>
                  </a:lnTo>
                  <a:lnTo>
                    <a:pt x="1141" y="293"/>
                  </a:lnTo>
                  <a:lnTo>
                    <a:pt x="1102" y="303"/>
                  </a:lnTo>
                  <a:lnTo>
                    <a:pt x="1076" y="308"/>
                  </a:lnTo>
                  <a:lnTo>
                    <a:pt x="1036" y="317"/>
                  </a:lnTo>
                  <a:lnTo>
                    <a:pt x="997" y="322"/>
                  </a:lnTo>
                  <a:lnTo>
                    <a:pt x="971" y="332"/>
                  </a:lnTo>
                  <a:lnTo>
                    <a:pt x="932" y="336"/>
                  </a:lnTo>
                  <a:lnTo>
                    <a:pt x="892" y="341"/>
                  </a:lnTo>
                  <a:lnTo>
                    <a:pt x="853" y="351"/>
                  </a:lnTo>
                  <a:lnTo>
                    <a:pt x="813" y="356"/>
                  </a:lnTo>
                  <a:lnTo>
                    <a:pt x="761" y="360"/>
                  </a:lnTo>
                  <a:lnTo>
                    <a:pt x="722" y="365"/>
                  </a:lnTo>
                  <a:lnTo>
                    <a:pt x="682" y="375"/>
                  </a:lnTo>
                  <a:lnTo>
                    <a:pt x="643" y="380"/>
                  </a:lnTo>
                  <a:lnTo>
                    <a:pt x="604" y="380"/>
                  </a:lnTo>
                  <a:lnTo>
                    <a:pt x="564" y="384"/>
                  </a:lnTo>
                  <a:lnTo>
                    <a:pt x="512" y="389"/>
                  </a:lnTo>
                  <a:lnTo>
                    <a:pt x="472" y="389"/>
                  </a:lnTo>
                  <a:lnTo>
                    <a:pt x="433" y="394"/>
                  </a:lnTo>
                  <a:lnTo>
                    <a:pt x="394" y="394"/>
                  </a:lnTo>
                  <a:lnTo>
                    <a:pt x="354" y="394"/>
                  </a:lnTo>
                  <a:lnTo>
                    <a:pt x="315" y="394"/>
                  </a:lnTo>
                  <a:lnTo>
                    <a:pt x="276" y="394"/>
                  </a:lnTo>
                  <a:lnTo>
                    <a:pt x="236" y="389"/>
                  </a:lnTo>
                  <a:lnTo>
                    <a:pt x="197" y="389"/>
                  </a:lnTo>
                  <a:lnTo>
                    <a:pt x="157" y="384"/>
                  </a:lnTo>
                  <a:lnTo>
                    <a:pt x="118" y="380"/>
                  </a:lnTo>
                  <a:lnTo>
                    <a:pt x="79" y="370"/>
                  </a:lnTo>
                  <a:lnTo>
                    <a:pt x="52" y="365"/>
                  </a:lnTo>
                  <a:lnTo>
                    <a:pt x="13" y="356"/>
                  </a:lnTo>
                  <a:lnTo>
                    <a:pt x="0" y="346"/>
                  </a:lnTo>
                  <a:lnTo>
                    <a:pt x="0" y="332"/>
                  </a:lnTo>
                  <a:lnTo>
                    <a:pt x="13" y="327"/>
                  </a:lnTo>
                  <a:lnTo>
                    <a:pt x="26" y="317"/>
                  </a:lnTo>
                  <a:lnTo>
                    <a:pt x="39" y="312"/>
                  </a:lnTo>
                  <a:lnTo>
                    <a:pt x="52" y="312"/>
                  </a:lnTo>
                  <a:lnTo>
                    <a:pt x="79" y="312"/>
                  </a:lnTo>
                  <a:lnTo>
                    <a:pt x="92" y="317"/>
                  </a:lnTo>
                  <a:lnTo>
                    <a:pt x="105" y="322"/>
                  </a:lnTo>
                  <a:lnTo>
                    <a:pt x="131" y="327"/>
                  </a:lnTo>
                  <a:lnTo>
                    <a:pt x="157" y="332"/>
                  </a:lnTo>
                  <a:lnTo>
                    <a:pt x="184" y="336"/>
                  </a:lnTo>
                  <a:lnTo>
                    <a:pt x="210" y="341"/>
                  </a:lnTo>
                  <a:lnTo>
                    <a:pt x="236" y="341"/>
                  </a:lnTo>
                  <a:lnTo>
                    <a:pt x="262" y="346"/>
                  </a:lnTo>
                  <a:lnTo>
                    <a:pt x="289" y="346"/>
                  </a:lnTo>
                  <a:lnTo>
                    <a:pt x="302" y="351"/>
                  </a:lnTo>
                  <a:lnTo>
                    <a:pt x="328" y="351"/>
                  </a:lnTo>
                  <a:lnTo>
                    <a:pt x="354" y="351"/>
                  </a:lnTo>
                  <a:lnTo>
                    <a:pt x="380" y="351"/>
                  </a:lnTo>
                  <a:lnTo>
                    <a:pt x="407" y="351"/>
                  </a:lnTo>
                  <a:lnTo>
                    <a:pt x="420" y="351"/>
                  </a:lnTo>
                  <a:lnTo>
                    <a:pt x="446" y="351"/>
                  </a:lnTo>
                  <a:lnTo>
                    <a:pt x="472" y="351"/>
                  </a:lnTo>
                  <a:lnTo>
                    <a:pt x="499" y="351"/>
                  </a:lnTo>
                  <a:lnTo>
                    <a:pt x="538" y="346"/>
                  </a:lnTo>
                  <a:lnTo>
                    <a:pt x="564" y="346"/>
                  </a:lnTo>
                  <a:lnTo>
                    <a:pt x="604" y="341"/>
                  </a:lnTo>
                  <a:lnTo>
                    <a:pt x="630" y="341"/>
                  </a:lnTo>
                  <a:lnTo>
                    <a:pt x="656" y="336"/>
                  </a:lnTo>
                  <a:lnTo>
                    <a:pt x="695" y="332"/>
                  </a:lnTo>
                  <a:lnTo>
                    <a:pt x="722" y="327"/>
                  </a:lnTo>
                  <a:lnTo>
                    <a:pt x="761" y="322"/>
                  </a:lnTo>
                  <a:lnTo>
                    <a:pt x="800" y="322"/>
                  </a:lnTo>
                  <a:lnTo>
                    <a:pt x="827" y="312"/>
                  </a:lnTo>
                  <a:lnTo>
                    <a:pt x="866" y="308"/>
                  </a:lnTo>
                  <a:lnTo>
                    <a:pt x="892" y="303"/>
                  </a:lnTo>
                  <a:lnTo>
                    <a:pt x="932" y="298"/>
                  </a:lnTo>
                  <a:lnTo>
                    <a:pt x="958" y="288"/>
                  </a:lnTo>
                  <a:lnTo>
                    <a:pt x="997" y="284"/>
                  </a:lnTo>
                  <a:lnTo>
                    <a:pt x="1036" y="279"/>
                  </a:lnTo>
                  <a:lnTo>
                    <a:pt x="1063" y="269"/>
                  </a:lnTo>
                  <a:lnTo>
                    <a:pt x="1102" y="264"/>
                  </a:lnTo>
                  <a:lnTo>
                    <a:pt x="1128" y="255"/>
                  </a:lnTo>
                  <a:lnTo>
                    <a:pt x="1168" y="245"/>
                  </a:lnTo>
                  <a:lnTo>
                    <a:pt x="1207" y="240"/>
                  </a:lnTo>
                  <a:lnTo>
                    <a:pt x="1233" y="231"/>
                  </a:lnTo>
                  <a:lnTo>
                    <a:pt x="1273" y="221"/>
                  </a:lnTo>
                  <a:lnTo>
                    <a:pt x="1299" y="216"/>
                  </a:lnTo>
                  <a:lnTo>
                    <a:pt x="1338" y="207"/>
                  </a:lnTo>
                  <a:lnTo>
                    <a:pt x="1378" y="197"/>
                  </a:lnTo>
                  <a:lnTo>
                    <a:pt x="1404" y="192"/>
                  </a:lnTo>
                  <a:lnTo>
                    <a:pt x="1443" y="183"/>
                  </a:lnTo>
                  <a:lnTo>
                    <a:pt x="1469" y="173"/>
                  </a:lnTo>
                  <a:lnTo>
                    <a:pt x="1509" y="168"/>
                  </a:lnTo>
                  <a:lnTo>
                    <a:pt x="1535" y="159"/>
                  </a:lnTo>
                  <a:lnTo>
                    <a:pt x="1574" y="149"/>
                  </a:lnTo>
                  <a:lnTo>
                    <a:pt x="1601" y="144"/>
                  </a:lnTo>
                  <a:lnTo>
                    <a:pt x="1640" y="135"/>
                  </a:lnTo>
                  <a:lnTo>
                    <a:pt x="1666" y="125"/>
                  </a:lnTo>
                  <a:lnTo>
                    <a:pt x="1706" y="116"/>
                  </a:lnTo>
                  <a:lnTo>
                    <a:pt x="1758" y="106"/>
                  </a:lnTo>
                  <a:lnTo>
                    <a:pt x="1811" y="92"/>
                  </a:lnTo>
                  <a:lnTo>
                    <a:pt x="1863" y="77"/>
                  </a:lnTo>
                  <a:lnTo>
                    <a:pt x="1916" y="68"/>
                  </a:lnTo>
                  <a:lnTo>
                    <a:pt x="1968" y="53"/>
                  </a:lnTo>
                  <a:lnTo>
                    <a:pt x="2034" y="39"/>
                  </a:lnTo>
                  <a:lnTo>
                    <a:pt x="2086" y="29"/>
                  </a:lnTo>
                  <a:lnTo>
                    <a:pt x="2152" y="20"/>
                  </a:lnTo>
                  <a:lnTo>
                    <a:pt x="2217" y="10"/>
                  </a:lnTo>
                  <a:lnTo>
                    <a:pt x="2270" y="5"/>
                  </a:lnTo>
                  <a:lnTo>
                    <a:pt x="2335" y="0"/>
                  </a:lnTo>
                  <a:lnTo>
                    <a:pt x="2388" y="0"/>
                  </a:lnTo>
                  <a:lnTo>
                    <a:pt x="2440" y="5"/>
                  </a:lnTo>
                  <a:lnTo>
                    <a:pt x="2493" y="10"/>
                  </a:lnTo>
                  <a:lnTo>
                    <a:pt x="2545" y="20"/>
                  </a:lnTo>
                  <a:lnTo>
                    <a:pt x="2558" y="29"/>
                  </a:lnTo>
                  <a:lnTo>
                    <a:pt x="2572" y="39"/>
                  </a:lnTo>
                  <a:lnTo>
                    <a:pt x="2572" y="53"/>
                  </a:lnTo>
                  <a:lnTo>
                    <a:pt x="2558" y="63"/>
                  </a:lnTo>
                  <a:lnTo>
                    <a:pt x="2558" y="68"/>
                  </a:lnTo>
                  <a:lnTo>
                    <a:pt x="2545" y="68"/>
                  </a:lnTo>
                  <a:lnTo>
                    <a:pt x="2532" y="72"/>
                  </a:lnTo>
                  <a:lnTo>
                    <a:pt x="2519" y="72"/>
                  </a:lnTo>
                  <a:lnTo>
                    <a:pt x="2506" y="72"/>
                  </a:lnTo>
                  <a:lnTo>
                    <a:pt x="2493" y="72"/>
                  </a:lnTo>
                  <a:lnTo>
                    <a:pt x="2480" y="68"/>
                  </a:lnTo>
                  <a:lnTo>
                    <a:pt x="2453" y="6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7543800" y="5538960"/>
              <a:ext cx="838080" cy="1242720"/>
              <a:chOff x="7543800" y="5538960"/>
              <a:chExt cx="838080" cy="1242720"/>
            </a:xfrm>
          </p:grpSpPr>
          <p:sp>
            <p:nvSpPr>
              <p:cNvPr id="601" name=""/>
              <p:cNvSpPr/>
              <p:nvPr/>
            </p:nvSpPr>
            <p:spPr>
              <a:xfrm>
                <a:off x="7615080" y="643428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24"/>
                    </a:moveTo>
                    <a:lnTo>
                      <a:pt x="0" y="9"/>
                    </a:lnTo>
                    <a:lnTo>
                      <a:pt x="13" y="4"/>
                    </a:lnTo>
                    <a:lnTo>
                      <a:pt x="52" y="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93200" y="6397560"/>
                <a:ext cx="671400" cy="384120"/>
              </a:xfrm>
              <a:custGeom>
                <a:avLst/>
                <a:gdLst/>
                <a:ahLst/>
                <a:rect l="l" t="t" r="r" b="b"/>
                <a:pathLst>
                  <a:path w="997" h="212">
                    <a:moveTo>
                      <a:pt x="13" y="0"/>
                    </a:moveTo>
                    <a:lnTo>
                      <a:pt x="879" y="68"/>
                    </a:lnTo>
                    <a:lnTo>
                      <a:pt x="931" y="82"/>
                    </a:lnTo>
                    <a:lnTo>
                      <a:pt x="971" y="106"/>
                    </a:lnTo>
                    <a:lnTo>
                      <a:pt x="984" y="130"/>
                    </a:lnTo>
                    <a:lnTo>
                      <a:pt x="997" y="154"/>
                    </a:lnTo>
                    <a:lnTo>
                      <a:pt x="984" y="173"/>
                    </a:lnTo>
                    <a:lnTo>
                      <a:pt x="958" y="192"/>
                    </a:lnTo>
                    <a:lnTo>
                      <a:pt x="918" y="207"/>
                    </a:lnTo>
                    <a:lnTo>
                      <a:pt x="866" y="212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26" y="68"/>
                    </a:lnTo>
                    <a:lnTo>
                      <a:pt x="13" y="6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13" y="44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32720" y="6397560"/>
                <a:ext cx="87120" cy="139680"/>
              </a:xfrm>
              <a:custGeom>
                <a:avLst/>
                <a:gdLst/>
                <a:ahLst/>
                <a:rect l="l" t="t" r="r" b="b"/>
                <a:pathLst>
                  <a:path w="131" h="77">
                    <a:moveTo>
                      <a:pt x="131" y="77"/>
                    </a:moveTo>
                    <a:lnTo>
                      <a:pt x="131" y="72"/>
                    </a:lnTo>
                    <a:lnTo>
                      <a:pt x="118" y="68"/>
                    </a:lnTo>
                    <a:lnTo>
                      <a:pt x="105" y="58"/>
                    </a:lnTo>
                    <a:lnTo>
                      <a:pt x="92" y="58"/>
                    </a:lnTo>
                    <a:lnTo>
                      <a:pt x="92" y="48"/>
                    </a:lnTo>
                    <a:lnTo>
                      <a:pt x="105" y="44"/>
                    </a:lnTo>
                    <a:lnTo>
                      <a:pt x="105" y="29"/>
                    </a:lnTo>
                    <a:lnTo>
                      <a:pt x="92" y="20"/>
                    </a:lnTo>
                    <a:lnTo>
                      <a:pt x="105" y="15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13" y="20"/>
                    </a:lnTo>
                    <a:lnTo>
                      <a:pt x="26" y="20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13" y="24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26" y="34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3" y="39"/>
                    </a:lnTo>
                    <a:lnTo>
                      <a:pt x="131" y="77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51720" y="631980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79" h="29">
                    <a:moveTo>
                      <a:pt x="26" y="0"/>
                    </a:moveTo>
                    <a:lnTo>
                      <a:pt x="0" y="24"/>
                    </a:lnTo>
                    <a:lnTo>
                      <a:pt x="13" y="29"/>
                    </a:lnTo>
                    <a:lnTo>
                      <a:pt x="79" y="19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543800" y="6319800"/>
                <a:ext cx="34920" cy="5256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13" y="19"/>
                    </a:moveTo>
                    <a:lnTo>
                      <a:pt x="26" y="24"/>
                    </a:lnTo>
                    <a:lnTo>
                      <a:pt x="52" y="5"/>
                    </a:lnTo>
                    <a:lnTo>
                      <a:pt x="39" y="0"/>
                    </a:lnTo>
                    <a:lnTo>
                      <a:pt x="0" y="24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3" y="29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51720" y="635472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5"/>
                    </a:moveTo>
                    <a:lnTo>
                      <a:pt x="13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561440" y="6346800"/>
                <a:ext cx="61560" cy="2556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66" y="4"/>
                    </a:moveTo>
                    <a:lnTo>
                      <a:pt x="66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66" y="4"/>
                    </a:lnTo>
                    <a:lnTo>
                      <a:pt x="79" y="0"/>
                    </a:lnTo>
                    <a:lnTo>
                      <a:pt x="66" y="4"/>
                    </a:lnTo>
                    <a:lnTo>
                      <a:pt x="92" y="4"/>
                    </a:lnTo>
                    <a:lnTo>
                      <a:pt x="79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569360" y="6311880"/>
                <a:ext cx="45720" cy="4284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13" y="10"/>
                    </a:moveTo>
                    <a:lnTo>
                      <a:pt x="0" y="10"/>
                    </a:lnTo>
                    <a:lnTo>
                      <a:pt x="53" y="24"/>
                    </a:lnTo>
                    <a:lnTo>
                      <a:pt x="66" y="2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605720" y="5548320"/>
                <a:ext cx="768240" cy="781200"/>
              </a:xfrm>
              <a:custGeom>
                <a:avLst/>
                <a:gdLst/>
                <a:ahLst/>
                <a:rect l="l" t="t" r="r" b="b"/>
                <a:pathLst>
                  <a:path w="1141" h="432">
                    <a:moveTo>
                      <a:pt x="144" y="432"/>
                    </a:moveTo>
                    <a:lnTo>
                      <a:pt x="1102" y="120"/>
                    </a:lnTo>
                    <a:lnTo>
                      <a:pt x="1115" y="106"/>
                    </a:lnTo>
                    <a:lnTo>
                      <a:pt x="1128" y="91"/>
                    </a:lnTo>
                    <a:lnTo>
                      <a:pt x="1141" y="77"/>
                    </a:lnTo>
                    <a:lnTo>
                      <a:pt x="1141" y="62"/>
                    </a:lnTo>
                    <a:lnTo>
                      <a:pt x="1128" y="48"/>
                    </a:lnTo>
                    <a:lnTo>
                      <a:pt x="1115" y="38"/>
                    </a:lnTo>
                    <a:lnTo>
                      <a:pt x="1102" y="29"/>
                    </a:lnTo>
                    <a:lnTo>
                      <a:pt x="1075" y="19"/>
                    </a:lnTo>
                    <a:lnTo>
                      <a:pt x="1049" y="14"/>
                    </a:lnTo>
                    <a:lnTo>
                      <a:pt x="1023" y="5"/>
                    </a:lnTo>
                    <a:lnTo>
                      <a:pt x="984" y="0"/>
                    </a:lnTo>
                    <a:lnTo>
                      <a:pt x="957" y="0"/>
                    </a:lnTo>
                    <a:lnTo>
                      <a:pt x="918" y="0"/>
                    </a:lnTo>
                    <a:lnTo>
                      <a:pt x="879" y="5"/>
                    </a:lnTo>
                    <a:lnTo>
                      <a:pt x="839" y="10"/>
                    </a:lnTo>
                    <a:lnTo>
                      <a:pt x="800" y="19"/>
                    </a:lnTo>
                    <a:lnTo>
                      <a:pt x="13" y="370"/>
                    </a:lnTo>
                    <a:lnTo>
                      <a:pt x="26" y="374"/>
                    </a:lnTo>
                    <a:lnTo>
                      <a:pt x="26" y="379"/>
                    </a:lnTo>
                    <a:lnTo>
                      <a:pt x="13" y="389"/>
                    </a:lnTo>
                    <a:lnTo>
                      <a:pt x="0" y="394"/>
                    </a:lnTo>
                    <a:lnTo>
                      <a:pt x="13" y="398"/>
                    </a:lnTo>
                    <a:lnTo>
                      <a:pt x="26" y="398"/>
                    </a:lnTo>
                    <a:lnTo>
                      <a:pt x="26" y="403"/>
                    </a:lnTo>
                    <a:lnTo>
                      <a:pt x="39" y="403"/>
                    </a:lnTo>
                    <a:lnTo>
                      <a:pt x="52" y="408"/>
                    </a:lnTo>
                    <a:lnTo>
                      <a:pt x="65" y="413"/>
                    </a:lnTo>
                    <a:lnTo>
                      <a:pt x="65" y="418"/>
                    </a:lnTo>
                    <a:lnTo>
                      <a:pt x="78" y="427"/>
                    </a:lnTo>
                    <a:lnTo>
                      <a:pt x="78" y="422"/>
                    </a:lnTo>
                    <a:lnTo>
                      <a:pt x="91" y="422"/>
                    </a:lnTo>
                    <a:lnTo>
                      <a:pt x="105" y="422"/>
                    </a:lnTo>
                    <a:lnTo>
                      <a:pt x="118" y="427"/>
                    </a:lnTo>
                    <a:lnTo>
                      <a:pt x="118" y="427"/>
                    </a:lnTo>
                    <a:lnTo>
                      <a:pt x="131" y="427"/>
                    </a:lnTo>
                    <a:lnTo>
                      <a:pt x="131" y="432"/>
                    </a:lnTo>
                    <a:lnTo>
                      <a:pt x="144" y="432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693200" y="5756400"/>
                <a:ext cx="663480" cy="582480"/>
              </a:xfrm>
              <a:custGeom>
                <a:avLst/>
                <a:gdLst/>
                <a:ahLst/>
                <a:rect l="l" t="t" r="r" b="b"/>
                <a:pathLst>
                  <a:path w="984" h="322">
                    <a:moveTo>
                      <a:pt x="958" y="0"/>
                    </a:moveTo>
                    <a:lnTo>
                      <a:pt x="958" y="0"/>
                    </a:lnTo>
                    <a:lnTo>
                      <a:pt x="0" y="317"/>
                    </a:lnTo>
                    <a:lnTo>
                      <a:pt x="13" y="322"/>
                    </a:lnTo>
                    <a:lnTo>
                      <a:pt x="971" y="5"/>
                    </a:lnTo>
                    <a:lnTo>
                      <a:pt x="984" y="5"/>
                    </a:lnTo>
                    <a:lnTo>
                      <a:pt x="971" y="5"/>
                    </a:lnTo>
                    <a:lnTo>
                      <a:pt x="984" y="5"/>
                    </a:lnTo>
                    <a:lnTo>
                      <a:pt x="984" y="5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337600" y="573084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26" y="0"/>
                    </a:moveTo>
                    <a:lnTo>
                      <a:pt x="26" y="0"/>
                    </a:lnTo>
                    <a:lnTo>
                      <a:pt x="0" y="14"/>
                    </a:lnTo>
                    <a:lnTo>
                      <a:pt x="26" y="19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356680" y="570384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3" y="5"/>
                    </a:moveTo>
                    <a:lnTo>
                      <a:pt x="13" y="0"/>
                    </a:lnTo>
                    <a:lnTo>
                      <a:pt x="0" y="15"/>
                    </a:lnTo>
                    <a:lnTo>
                      <a:pt x="13" y="2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64600" y="56865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3" y="1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364600" y="565956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356680" y="563400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5"/>
                    </a:moveTo>
                    <a:lnTo>
                      <a:pt x="0" y="5"/>
                    </a:lnTo>
                    <a:lnTo>
                      <a:pt x="13" y="14"/>
                    </a:lnTo>
                    <a:lnTo>
                      <a:pt x="26" y="1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346960" y="561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5"/>
                    </a:moveTo>
                    <a:lnTo>
                      <a:pt x="0" y="0"/>
                    </a:lnTo>
                    <a:lnTo>
                      <a:pt x="13" y="15"/>
                    </a:lnTo>
                    <a:lnTo>
                      <a:pt x="39" y="1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337600" y="55911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5"/>
                    </a:moveTo>
                    <a:lnTo>
                      <a:pt x="0" y="5"/>
                    </a:lnTo>
                    <a:lnTo>
                      <a:pt x="13" y="19"/>
                    </a:lnTo>
                    <a:lnTo>
                      <a:pt x="39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319960" y="557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13" y="10"/>
                    </a:moveTo>
                    <a:lnTo>
                      <a:pt x="0" y="10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310600" y="55656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4"/>
                    </a:moveTo>
                    <a:lnTo>
                      <a:pt x="0" y="4"/>
                    </a:lnTo>
                    <a:lnTo>
                      <a:pt x="26" y="14"/>
                    </a:lnTo>
                    <a:lnTo>
                      <a:pt x="40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92960" y="554832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0"/>
                    </a:moveTo>
                    <a:lnTo>
                      <a:pt x="0" y="10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267760" y="554832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5"/>
                    </a:moveTo>
                    <a:lnTo>
                      <a:pt x="0" y="5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240760" y="55389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13" y="10"/>
                    </a:moveTo>
                    <a:lnTo>
                      <a:pt x="0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223120" y="553896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10"/>
                    </a:moveTo>
                    <a:lnTo>
                      <a:pt x="0" y="10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197920" y="5538960"/>
                <a:ext cx="25200" cy="2664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15"/>
                    </a:moveTo>
                    <a:lnTo>
                      <a:pt x="0" y="15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169120" y="55483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14"/>
                    </a:moveTo>
                    <a:lnTo>
                      <a:pt x="0" y="14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134200" y="55562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6" y="14"/>
                    </a:moveTo>
                    <a:lnTo>
                      <a:pt x="13" y="19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05720" y="5573880"/>
                <a:ext cx="546120" cy="650880"/>
              </a:xfrm>
              <a:custGeom>
                <a:avLst/>
                <a:gdLst/>
                <a:ahLst/>
                <a:rect l="l" t="t" r="r" b="b"/>
                <a:pathLst>
                  <a:path w="813" h="360">
                    <a:moveTo>
                      <a:pt x="13" y="356"/>
                    </a:moveTo>
                    <a:lnTo>
                      <a:pt x="13" y="360"/>
                    </a:lnTo>
                    <a:lnTo>
                      <a:pt x="813" y="5"/>
                    </a:lnTo>
                    <a:lnTo>
                      <a:pt x="787" y="0"/>
                    </a:lnTo>
                    <a:lnTo>
                      <a:pt x="0" y="356"/>
                    </a:lnTo>
                    <a:lnTo>
                      <a:pt x="0" y="360"/>
                    </a:lnTo>
                    <a:lnTo>
                      <a:pt x="0" y="356"/>
                    </a:lnTo>
                    <a:lnTo>
                      <a:pt x="0" y="356"/>
                    </a:lnTo>
                    <a:lnTo>
                      <a:pt x="0" y="360"/>
                    </a:lnTo>
                    <a:lnTo>
                      <a:pt x="13" y="356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605720" y="62164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15080" y="622476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605720" y="62341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596360" y="624204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14" y="10"/>
                    </a:moveTo>
                    <a:lnTo>
                      <a:pt x="27" y="14"/>
                    </a:lnTo>
                    <a:lnTo>
                      <a:pt x="40" y="5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14" y="1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605720" y="626112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05720" y="62611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15080" y="62611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4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623000" y="62676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32720" y="62769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632720" y="6286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40640" y="62946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640640" y="63039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3" y="4"/>
                    </a:moveTo>
                    <a:lnTo>
                      <a:pt x="26" y="4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26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650000" y="631188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58280" y="6303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66200" y="63039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677000" y="6311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77000" y="63118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84920" y="631188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84920" y="63198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693200" y="63198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96360" y="63468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1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569360" y="6338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588080" y="6338880"/>
                <a:ext cx="78120" cy="792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578720" y="6329520"/>
                <a:ext cx="114480" cy="9360"/>
              </a:xfrm>
              <a:custGeom>
                <a:avLst/>
                <a:gdLst/>
                <a:ahLst/>
                <a:rect l="l" t="t" r="r" b="b"/>
                <a:pathLst>
                  <a:path w="171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1" y="0"/>
                    </a:lnTo>
                    <a:lnTo>
                      <a:pt x="14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578720" y="6311880"/>
                <a:ext cx="106200" cy="7920"/>
              </a:xfrm>
              <a:custGeom>
                <a:avLst/>
                <a:gdLst/>
                <a:ahLst/>
                <a:rect l="l" t="t" r="r" b="b"/>
                <a:pathLst>
                  <a:path w="158" h="5">
                    <a:moveTo>
                      <a:pt x="0" y="5"/>
                    </a:moveTo>
                    <a:lnTo>
                      <a:pt x="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78720" y="629460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105" h="5">
                    <a:moveTo>
                      <a:pt x="0" y="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588080" y="627696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88080" y="626760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5"/>
                    </a:moveTo>
                    <a:lnTo>
                      <a:pt x="1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596360" y="625140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5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05720" y="6234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5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605720" y="621648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615080" y="62247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10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05720" y="623412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26" y="10"/>
                    </a:moveTo>
                    <a:lnTo>
                      <a:pt x="2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596360" y="6251400"/>
                <a:ext cx="26640" cy="162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7" y="5"/>
                    </a:moveTo>
                    <a:lnTo>
                      <a:pt x="27" y="9"/>
                    </a:lnTo>
                    <a:lnTo>
                      <a:pt x="40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05720" y="6261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15080" y="626112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15080" y="62676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23000" y="626760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32720" y="627696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32720" y="6286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640640" y="629460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650000" y="630396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3" y="4"/>
                    </a:moveTo>
                    <a:lnTo>
                      <a:pt x="26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58280" y="6311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66200" y="63039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666200" y="63039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77000" y="6311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677000" y="631188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684920" y="63118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84920" y="63198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684920" y="631980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26" y="10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26" y="10"/>
                    </a:lnTo>
                    <a:lnTo>
                      <a:pt x="39" y="10"/>
                    </a:lnTo>
                    <a:lnTo>
                      <a:pt x="26" y="5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578720" y="6319800"/>
                <a:ext cx="123840" cy="44640"/>
              </a:xfrm>
              <a:custGeom>
                <a:avLst/>
                <a:gdLst/>
                <a:ahLst/>
                <a:rect l="l" t="t" r="r" b="b"/>
                <a:pathLst>
                  <a:path w="184" h="24">
                    <a:moveTo>
                      <a:pt x="13" y="19"/>
                    </a:moveTo>
                    <a:lnTo>
                      <a:pt x="26" y="24"/>
                    </a:lnTo>
                    <a:lnTo>
                      <a:pt x="184" y="10"/>
                    </a:lnTo>
                    <a:lnTo>
                      <a:pt x="171" y="0"/>
                    </a:lnTo>
                    <a:lnTo>
                      <a:pt x="13" y="15"/>
                    </a:lnTo>
                    <a:lnTo>
                      <a:pt x="26" y="24"/>
                    </a:lnTo>
                    <a:lnTo>
                      <a:pt x="13" y="19"/>
                    </a:lnTo>
                    <a:lnTo>
                      <a:pt x="0" y="24"/>
                    </a:lnTo>
                    <a:lnTo>
                      <a:pt x="26" y="24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88080" y="63468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27" y="4"/>
                    </a:lnTo>
                    <a:lnTo>
                      <a:pt x="27" y="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588080" y="63388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13" y="9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13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13" y="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588080" y="633888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569360" y="6346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4"/>
                    </a:moveTo>
                    <a:lnTo>
                      <a:pt x="26" y="9"/>
                    </a:lnTo>
                    <a:lnTo>
                      <a:pt x="39" y="4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26" y="4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26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69360" y="6338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13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578720" y="632952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578720" y="63295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10"/>
                    </a:moveTo>
                    <a:lnTo>
                      <a:pt x="0" y="10"/>
                    </a:lnTo>
                    <a:lnTo>
                      <a:pt x="13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551720" y="632952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13" y="5"/>
                    </a:moveTo>
                    <a:lnTo>
                      <a:pt x="26" y="10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39" y="10"/>
                    </a:lnTo>
                    <a:lnTo>
                      <a:pt x="13" y="5"/>
                    </a:lnTo>
                    <a:lnTo>
                      <a:pt x="0" y="19"/>
                    </a:lnTo>
                    <a:lnTo>
                      <a:pt x="26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561440" y="632952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0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569360" y="631980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1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13" y="0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569360" y="63198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51720" y="6319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13" y="5"/>
                    </a:moveTo>
                    <a:lnTo>
                      <a:pt x="26" y="10"/>
                    </a:lnTo>
                    <a:lnTo>
                      <a:pt x="39" y="1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9" y="10"/>
                    </a:lnTo>
                    <a:lnTo>
                      <a:pt x="13" y="5"/>
                    </a:lnTo>
                    <a:lnTo>
                      <a:pt x="0" y="15"/>
                    </a:lnTo>
                    <a:lnTo>
                      <a:pt x="26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61440" y="6208560"/>
                <a:ext cx="61560" cy="13032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79" y="5"/>
                    </a:moveTo>
                    <a:lnTo>
                      <a:pt x="66" y="5"/>
                    </a:lnTo>
                    <a:lnTo>
                      <a:pt x="0" y="67"/>
                    </a:lnTo>
                    <a:lnTo>
                      <a:pt x="26" y="72"/>
                    </a:lnTo>
                    <a:lnTo>
                      <a:pt x="92" y="5"/>
                    </a:lnTo>
                    <a:lnTo>
                      <a:pt x="66" y="9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66" y="5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134200" y="586116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13" y="0"/>
                    </a:lnTo>
                    <a:lnTo>
                      <a:pt x="5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118360" y="58341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26" y="15"/>
                    </a:moveTo>
                    <a:lnTo>
                      <a:pt x="0" y="0"/>
                    </a:lnTo>
                    <a:lnTo>
                      <a:pt x="157" y="20"/>
                    </a:lnTo>
                    <a:lnTo>
                      <a:pt x="144" y="24"/>
                    </a:lnTo>
                    <a:lnTo>
                      <a:pt x="78" y="20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91360" y="5818320"/>
                <a:ext cx="141480" cy="5220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40" y="9"/>
                    </a:moveTo>
                    <a:lnTo>
                      <a:pt x="0" y="0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64360" y="5799240"/>
                <a:ext cx="176400" cy="61920"/>
              </a:xfrm>
              <a:custGeom>
                <a:avLst/>
                <a:gdLst/>
                <a:ahLst/>
                <a:rect l="l" t="t" r="r" b="b"/>
                <a:pathLst>
                  <a:path w="262" h="34">
                    <a:moveTo>
                      <a:pt x="39" y="10"/>
                    </a:moveTo>
                    <a:lnTo>
                      <a:pt x="0" y="0"/>
                    </a:lnTo>
                    <a:lnTo>
                      <a:pt x="262" y="29"/>
                    </a:lnTo>
                    <a:lnTo>
                      <a:pt x="249" y="34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47080" y="5783400"/>
                <a:ext cx="210960" cy="68040"/>
              </a:xfrm>
              <a:custGeom>
                <a:avLst/>
                <a:gdLst/>
                <a:ahLst/>
                <a:rect l="l" t="t" r="r" b="b"/>
                <a:pathLst>
                  <a:path w="314" h="38">
                    <a:moveTo>
                      <a:pt x="26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14" y="33"/>
                    </a:lnTo>
                    <a:lnTo>
                      <a:pt x="288" y="38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47080" y="5764320"/>
                <a:ext cx="220680" cy="77760"/>
              </a:xfrm>
              <a:custGeom>
                <a:avLst/>
                <a:gdLst/>
                <a:ahLst/>
                <a:rect l="l" t="t" r="r" b="b"/>
                <a:pathLst>
                  <a:path w="328" h="43">
                    <a:moveTo>
                      <a:pt x="0" y="10"/>
                    </a:moveTo>
                    <a:lnTo>
                      <a:pt x="0" y="0"/>
                    </a:lnTo>
                    <a:lnTo>
                      <a:pt x="328" y="38"/>
                    </a:lnTo>
                    <a:lnTo>
                      <a:pt x="314" y="4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37360" y="5746680"/>
                <a:ext cx="238320" cy="87480"/>
              </a:xfrm>
              <a:custGeom>
                <a:avLst/>
                <a:gdLst/>
                <a:ahLst/>
                <a:rect l="l" t="t" r="r" b="b"/>
                <a:pathLst>
                  <a:path w="355" h="48">
                    <a:moveTo>
                      <a:pt x="14" y="10"/>
                    </a:moveTo>
                    <a:lnTo>
                      <a:pt x="0" y="0"/>
                    </a:lnTo>
                    <a:lnTo>
                      <a:pt x="355" y="44"/>
                    </a:lnTo>
                    <a:lnTo>
                      <a:pt x="342" y="48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37360" y="574056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368" h="48">
                    <a:moveTo>
                      <a:pt x="0" y="4"/>
                    </a:moveTo>
                    <a:lnTo>
                      <a:pt x="0" y="0"/>
                    </a:lnTo>
                    <a:lnTo>
                      <a:pt x="368" y="38"/>
                    </a:lnTo>
                    <a:lnTo>
                      <a:pt x="355" y="4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28000" y="5721480"/>
                <a:ext cx="264960" cy="87120"/>
              </a:xfrm>
              <a:custGeom>
                <a:avLst/>
                <a:gdLst/>
                <a:ahLst/>
                <a:rect l="l" t="t" r="r" b="b"/>
                <a:pathLst>
                  <a:path w="394" h="48">
                    <a:moveTo>
                      <a:pt x="13" y="10"/>
                    </a:moveTo>
                    <a:lnTo>
                      <a:pt x="0" y="0"/>
                    </a:lnTo>
                    <a:lnTo>
                      <a:pt x="394" y="43"/>
                    </a:lnTo>
                    <a:lnTo>
                      <a:pt x="381" y="48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28000" y="5711760"/>
                <a:ext cx="282600" cy="87480"/>
              </a:xfrm>
              <a:custGeom>
                <a:avLst/>
                <a:gdLst/>
                <a:ahLst/>
                <a:rect l="l" t="t" r="r" b="b"/>
                <a:pathLst>
                  <a:path w="420" h="48">
                    <a:moveTo>
                      <a:pt x="0" y="5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420" y="43"/>
                    </a:lnTo>
                    <a:lnTo>
                      <a:pt x="394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37360" y="5703840"/>
                <a:ext cx="282600" cy="85680"/>
              </a:xfrm>
              <a:custGeom>
                <a:avLst/>
                <a:gdLst/>
                <a:ahLst/>
                <a:rect l="l" t="t" r="r" b="b"/>
                <a:pathLst>
                  <a:path w="420" h="48">
                    <a:moveTo>
                      <a:pt x="0" y="5"/>
                    </a:moveTo>
                    <a:lnTo>
                      <a:pt x="14" y="0"/>
                    </a:lnTo>
                    <a:lnTo>
                      <a:pt x="420" y="44"/>
                    </a:lnTo>
                    <a:lnTo>
                      <a:pt x="407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47080" y="5686560"/>
                <a:ext cx="282600" cy="96840"/>
              </a:xfrm>
              <a:custGeom>
                <a:avLst/>
                <a:gdLst/>
                <a:ahLst/>
                <a:rect l="l" t="t" r="r" b="b"/>
                <a:pathLst>
                  <a:path w="419" h="53">
                    <a:moveTo>
                      <a:pt x="0" y="9"/>
                    </a:moveTo>
                    <a:lnTo>
                      <a:pt x="13" y="0"/>
                    </a:lnTo>
                    <a:lnTo>
                      <a:pt x="419" y="48"/>
                    </a:lnTo>
                    <a:lnTo>
                      <a:pt x="406" y="5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56440" y="5678640"/>
                <a:ext cx="290520" cy="95040"/>
              </a:xfrm>
              <a:custGeom>
                <a:avLst/>
                <a:gdLst/>
                <a:ahLst/>
                <a:rect l="l" t="t" r="r" b="b"/>
                <a:pathLst>
                  <a:path w="433" h="53">
                    <a:moveTo>
                      <a:pt x="0" y="5"/>
                    </a:moveTo>
                    <a:lnTo>
                      <a:pt x="13" y="0"/>
                    </a:lnTo>
                    <a:lnTo>
                      <a:pt x="433" y="48"/>
                    </a:lnTo>
                    <a:lnTo>
                      <a:pt x="406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64360" y="5668920"/>
                <a:ext cx="282600" cy="95400"/>
              </a:xfrm>
              <a:custGeom>
                <a:avLst/>
                <a:gdLst/>
                <a:ahLst/>
                <a:rect l="l" t="t" r="r" b="b"/>
                <a:pathLst>
                  <a:path w="420" h="53">
                    <a:moveTo>
                      <a:pt x="0" y="5"/>
                    </a:moveTo>
                    <a:lnTo>
                      <a:pt x="0" y="0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64360" y="5659560"/>
                <a:ext cx="292320" cy="96840"/>
              </a:xfrm>
              <a:custGeom>
                <a:avLst/>
                <a:gdLst/>
                <a:ahLst/>
                <a:rect l="l" t="t" r="r" b="b"/>
                <a:pathLst>
                  <a:path w="433" h="53">
                    <a:moveTo>
                      <a:pt x="0" y="5"/>
                    </a:moveTo>
                    <a:lnTo>
                      <a:pt x="26" y="0"/>
                    </a:lnTo>
                    <a:lnTo>
                      <a:pt x="433" y="48"/>
                    </a:lnTo>
                    <a:lnTo>
                      <a:pt x="433" y="48"/>
                    </a:lnTo>
                    <a:lnTo>
                      <a:pt x="433" y="48"/>
                    </a:lnTo>
                    <a:lnTo>
                      <a:pt x="433" y="53"/>
                    </a:lnTo>
                    <a:lnTo>
                      <a:pt x="420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82000" y="5653080"/>
                <a:ext cx="282600" cy="93600"/>
              </a:xfrm>
              <a:custGeom>
                <a:avLst/>
                <a:gdLst/>
                <a:ahLst/>
                <a:rect l="l" t="t" r="r" b="b"/>
                <a:pathLst>
                  <a:path w="420" h="52">
                    <a:moveTo>
                      <a:pt x="0" y="4"/>
                    </a:moveTo>
                    <a:lnTo>
                      <a:pt x="13" y="0"/>
                    </a:lnTo>
                    <a:lnTo>
                      <a:pt x="420" y="43"/>
                    </a:lnTo>
                    <a:lnTo>
                      <a:pt x="420" y="48"/>
                    </a:lnTo>
                    <a:lnTo>
                      <a:pt x="407" y="48"/>
                    </a:lnTo>
                    <a:lnTo>
                      <a:pt x="407" y="48"/>
                    </a:lnTo>
                    <a:lnTo>
                      <a:pt x="407" y="5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91360" y="5634000"/>
                <a:ext cx="273240" cy="96840"/>
              </a:xfrm>
              <a:custGeom>
                <a:avLst/>
                <a:gdLst/>
                <a:ahLst/>
                <a:rect l="l" t="t" r="r" b="b"/>
                <a:pathLst>
                  <a:path w="407" h="53">
                    <a:moveTo>
                      <a:pt x="0" y="10"/>
                    </a:moveTo>
                    <a:lnTo>
                      <a:pt x="13" y="0"/>
                    </a:lnTo>
                    <a:lnTo>
                      <a:pt x="407" y="48"/>
                    </a:lnTo>
                    <a:lnTo>
                      <a:pt x="407" y="48"/>
                    </a:lnTo>
                    <a:lnTo>
                      <a:pt x="407" y="53"/>
                    </a:lnTo>
                    <a:lnTo>
                      <a:pt x="407" y="53"/>
                    </a:lnTo>
                    <a:lnTo>
                      <a:pt x="407" y="5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99280" y="5626080"/>
                <a:ext cx="274680" cy="95400"/>
              </a:xfrm>
              <a:custGeom>
                <a:avLst/>
                <a:gdLst/>
                <a:ahLst/>
                <a:rect l="l" t="t" r="r" b="b"/>
                <a:pathLst>
                  <a:path w="407" h="53">
                    <a:moveTo>
                      <a:pt x="0" y="5"/>
                    </a:moveTo>
                    <a:lnTo>
                      <a:pt x="13" y="0"/>
                    </a:lnTo>
                    <a:lnTo>
                      <a:pt x="407" y="43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107200" y="5616720"/>
                <a:ext cx="266760" cy="87120"/>
              </a:xfrm>
              <a:custGeom>
                <a:avLst/>
                <a:gdLst/>
                <a:ahLst/>
                <a:rect l="l" t="t" r="r" b="b"/>
                <a:pathLst>
                  <a:path w="394" h="48">
                    <a:moveTo>
                      <a:pt x="0" y="5"/>
                    </a:moveTo>
                    <a:lnTo>
                      <a:pt x="14" y="0"/>
                    </a:lnTo>
                    <a:lnTo>
                      <a:pt x="394" y="44"/>
                    </a:lnTo>
                    <a:lnTo>
                      <a:pt x="394" y="44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118360" y="5608800"/>
                <a:ext cx="255600" cy="87120"/>
              </a:xfrm>
              <a:custGeom>
                <a:avLst/>
                <a:gdLst/>
                <a:ahLst/>
                <a:rect l="l" t="t" r="r" b="b"/>
                <a:pathLst>
                  <a:path w="380" h="48">
                    <a:moveTo>
                      <a:pt x="0" y="4"/>
                    </a:moveTo>
                    <a:lnTo>
                      <a:pt x="13" y="0"/>
                    </a:lnTo>
                    <a:lnTo>
                      <a:pt x="380" y="43"/>
                    </a:lnTo>
                    <a:lnTo>
                      <a:pt x="380" y="43"/>
                    </a:lnTo>
                    <a:lnTo>
                      <a:pt x="380" y="43"/>
                    </a:lnTo>
                    <a:lnTo>
                      <a:pt x="380" y="48"/>
                    </a:lnTo>
                    <a:lnTo>
                      <a:pt x="380" y="4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126280" y="560088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367" h="48">
                    <a:moveTo>
                      <a:pt x="0" y="5"/>
                    </a:moveTo>
                    <a:lnTo>
                      <a:pt x="13" y="0"/>
                    </a:lnTo>
                    <a:lnTo>
                      <a:pt x="367" y="38"/>
                    </a:lnTo>
                    <a:lnTo>
                      <a:pt x="367" y="43"/>
                    </a:lnTo>
                    <a:lnTo>
                      <a:pt x="367" y="43"/>
                    </a:lnTo>
                    <a:lnTo>
                      <a:pt x="367" y="43"/>
                    </a:lnTo>
                    <a:lnTo>
                      <a:pt x="367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134200" y="559116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354" h="43">
                    <a:moveTo>
                      <a:pt x="0" y="5"/>
                    </a:moveTo>
                    <a:lnTo>
                      <a:pt x="13" y="0"/>
                    </a:lnTo>
                    <a:lnTo>
                      <a:pt x="354" y="38"/>
                    </a:lnTo>
                    <a:lnTo>
                      <a:pt x="354" y="38"/>
                    </a:lnTo>
                    <a:lnTo>
                      <a:pt x="354" y="38"/>
                    </a:lnTo>
                    <a:lnTo>
                      <a:pt x="354" y="43"/>
                    </a:lnTo>
                    <a:lnTo>
                      <a:pt x="354" y="4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143920" y="5573880"/>
                <a:ext cx="230040" cy="85680"/>
              </a:xfrm>
              <a:custGeom>
                <a:avLst/>
                <a:gdLst/>
                <a:ahLst/>
                <a:rect l="l" t="t" r="r" b="b"/>
                <a:pathLst>
                  <a:path w="341" h="48">
                    <a:moveTo>
                      <a:pt x="0" y="1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1" y="44"/>
                    </a:lnTo>
                    <a:lnTo>
                      <a:pt x="341" y="44"/>
                    </a:lnTo>
                    <a:lnTo>
                      <a:pt x="341" y="4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151840" y="5565600"/>
                <a:ext cx="222120" cy="78120"/>
              </a:xfrm>
              <a:custGeom>
                <a:avLst/>
                <a:gdLst/>
                <a:ahLst/>
                <a:rect l="l" t="t" r="r" b="b"/>
                <a:pathLst>
                  <a:path w="328" h="43">
                    <a:moveTo>
                      <a:pt x="0" y="4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315" y="33"/>
                    </a:lnTo>
                    <a:lnTo>
                      <a:pt x="315" y="38"/>
                    </a:lnTo>
                    <a:lnTo>
                      <a:pt x="315" y="38"/>
                    </a:lnTo>
                    <a:lnTo>
                      <a:pt x="315" y="43"/>
                    </a:lnTo>
                    <a:lnTo>
                      <a:pt x="328" y="4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161200" y="5556240"/>
                <a:ext cx="203400" cy="69840"/>
              </a:xfrm>
              <a:custGeom>
                <a:avLst/>
                <a:gdLst/>
                <a:ahLst/>
                <a:rect l="l" t="t" r="r" b="b"/>
                <a:pathLst>
                  <a:path w="302" h="38">
                    <a:moveTo>
                      <a:pt x="0" y="5"/>
                    </a:move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289" y="33"/>
                    </a:lnTo>
                    <a:lnTo>
                      <a:pt x="289" y="33"/>
                    </a:lnTo>
                    <a:lnTo>
                      <a:pt x="302" y="33"/>
                    </a:lnTo>
                    <a:lnTo>
                      <a:pt x="302" y="38"/>
                    </a:lnTo>
                    <a:lnTo>
                      <a:pt x="302" y="3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178840" y="5556240"/>
                <a:ext cx="177840" cy="60480"/>
              </a:xfrm>
              <a:custGeom>
                <a:avLst/>
                <a:gdLst/>
                <a:ahLst/>
                <a:rect l="l" t="t" r="r" b="b"/>
                <a:pathLst>
                  <a:path w="263" h="33">
                    <a:moveTo>
                      <a:pt x="0" y="0"/>
                    </a:moveTo>
                    <a:lnTo>
                      <a:pt x="13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250" y="24"/>
                    </a:lnTo>
                    <a:lnTo>
                      <a:pt x="250" y="24"/>
                    </a:lnTo>
                    <a:lnTo>
                      <a:pt x="263" y="29"/>
                    </a:lnTo>
                    <a:lnTo>
                      <a:pt x="263" y="29"/>
                    </a:lnTo>
                    <a:lnTo>
                      <a:pt x="26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205840" y="5548320"/>
                <a:ext cx="141120" cy="5256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0" y="5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183" y="14"/>
                    </a:lnTo>
                    <a:lnTo>
                      <a:pt x="183" y="19"/>
                    </a:lnTo>
                    <a:lnTo>
                      <a:pt x="197" y="24"/>
                    </a:lnTo>
                    <a:lnTo>
                      <a:pt x="210" y="24"/>
                    </a:lnTo>
                    <a:lnTo>
                      <a:pt x="21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32840" y="5548320"/>
                <a:ext cx="96840" cy="255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0" y="0"/>
                    </a:moveTo>
                    <a:lnTo>
                      <a:pt x="13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105" y="10"/>
                    </a:lnTo>
                    <a:lnTo>
                      <a:pt x="131" y="14"/>
                    </a:lnTo>
                    <a:lnTo>
                      <a:pt x="1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693200" y="631980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658280" y="6303960"/>
                <a:ext cx="61560" cy="15840"/>
              </a:xfrm>
              <a:custGeom>
                <a:avLst/>
                <a:gdLst/>
                <a:ahLst/>
                <a:rect l="l" t="t" r="r" b="b"/>
                <a:pathLst>
                  <a:path w="92" h="9">
                    <a:moveTo>
                      <a:pt x="53" y="9"/>
                    </a:moveTo>
                    <a:lnTo>
                      <a:pt x="40" y="9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92" y="4"/>
                    </a:lnTo>
                    <a:lnTo>
                      <a:pt x="79" y="9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666200" y="629460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14" y="0"/>
                    </a:lnTo>
                    <a:lnTo>
                      <a:pt x="105" y="5"/>
                    </a:lnTo>
                    <a:lnTo>
                      <a:pt x="79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677000" y="62866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5"/>
                    </a:moveTo>
                    <a:lnTo>
                      <a:pt x="26" y="0"/>
                    </a:lnTo>
                    <a:lnTo>
                      <a:pt x="104" y="0"/>
                    </a:lnTo>
                    <a:lnTo>
                      <a:pt x="91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93200" y="62676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92" h="10">
                    <a:moveTo>
                      <a:pt x="0" y="10"/>
                    </a:moveTo>
                    <a:lnTo>
                      <a:pt x="13" y="0"/>
                    </a:lnTo>
                    <a:lnTo>
                      <a:pt x="92" y="5"/>
                    </a:lnTo>
                    <a:lnTo>
                      <a:pt x="7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702560" y="62611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4"/>
                    </a:moveTo>
                    <a:lnTo>
                      <a:pt x="26" y="0"/>
                    </a:lnTo>
                    <a:lnTo>
                      <a:pt x="105" y="0"/>
                    </a:lnTo>
                    <a:lnTo>
                      <a:pt x="79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719840" y="6251400"/>
                <a:ext cx="71640" cy="9720"/>
              </a:xfrm>
              <a:custGeom>
                <a:avLst/>
                <a:gdLst/>
                <a:ahLst/>
                <a:rect l="l" t="t" r="r" b="b"/>
                <a:pathLst>
                  <a:path w="105" h="5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7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728120" y="623412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10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737480" y="622476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27" y="0"/>
                    </a:lnTo>
                    <a:lnTo>
                      <a:pt x="105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756560" y="6216480"/>
                <a:ext cx="69840" cy="828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7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764480" y="6199200"/>
                <a:ext cx="79200" cy="172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781760" y="618984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791480" y="618156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26" y="0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807320" y="616428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9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816680" y="615636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0" y="5"/>
                    </a:moveTo>
                    <a:lnTo>
                      <a:pt x="27" y="0"/>
                    </a:lnTo>
                    <a:lnTo>
                      <a:pt x="119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34320" y="613728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10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43680" y="613080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26" y="0"/>
                    </a:lnTo>
                    <a:lnTo>
                      <a:pt x="118" y="4"/>
                    </a:lnTo>
                    <a:lnTo>
                      <a:pt x="92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61320" y="61214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9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69240" y="6103800"/>
                <a:ext cx="8100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886880" y="60944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14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97680" y="6086520"/>
                <a:ext cx="77760" cy="1728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1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905600" y="6068880"/>
                <a:ext cx="7956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23240" y="605952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932600" y="6051600"/>
                <a:ext cx="77760" cy="792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26" y="0"/>
                    </a:lnTo>
                    <a:lnTo>
                      <a:pt x="118" y="0"/>
                    </a:lnTo>
                    <a:lnTo>
                      <a:pt x="10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950240" y="6033960"/>
                <a:ext cx="77760" cy="176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9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9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958160" y="6026040"/>
                <a:ext cx="7920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27" y="0"/>
                    </a:lnTo>
                    <a:lnTo>
                      <a:pt x="118" y="0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975440" y="600696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91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85160" y="600084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26" y="0"/>
                    </a:lnTo>
                    <a:lnTo>
                      <a:pt x="118" y="4"/>
                    </a:lnTo>
                    <a:lnTo>
                      <a:pt x="10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002440" y="599112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010360" y="597384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20080" y="5964120"/>
                <a:ext cx="87120" cy="1764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6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7360" y="5956200"/>
                <a:ext cx="81000" cy="17640"/>
              </a:xfrm>
              <a:custGeom>
                <a:avLst/>
                <a:gdLst/>
                <a:ahLst/>
                <a:rect l="l" t="t" r="r" b="b"/>
                <a:pathLst>
                  <a:path w="119" h="9">
                    <a:moveTo>
                      <a:pt x="0" y="4"/>
                    </a:moveTo>
                    <a:lnTo>
                      <a:pt x="14" y="0"/>
                    </a:lnTo>
                    <a:lnTo>
                      <a:pt x="119" y="0"/>
                    </a:lnTo>
                    <a:lnTo>
                      <a:pt x="10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47080" y="593892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10"/>
                    </a:moveTo>
                    <a:lnTo>
                      <a:pt x="26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64360" y="5929200"/>
                <a:ext cx="7956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74080" y="59198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6" y="0"/>
                    </a:lnTo>
                    <a:lnTo>
                      <a:pt x="131" y="0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091360" y="5904000"/>
                <a:ext cx="777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9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099280" y="5896080"/>
                <a:ext cx="88920" cy="172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7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18360" y="5886360"/>
                <a:ext cx="7956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104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26280" y="587052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31" h="9">
                    <a:moveTo>
                      <a:pt x="0" y="9"/>
                    </a:moveTo>
                    <a:lnTo>
                      <a:pt x="26" y="0"/>
                    </a:lnTo>
                    <a:lnTo>
                      <a:pt x="131" y="4"/>
                    </a:lnTo>
                    <a:lnTo>
                      <a:pt x="10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43920" y="58611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0" y="0"/>
                    </a:lnTo>
                    <a:lnTo>
                      <a:pt x="105" y="5"/>
                    </a:lnTo>
                    <a:lnTo>
                      <a:pt x="105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50000" y="629460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0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40640" y="6276960"/>
                <a:ext cx="52560" cy="176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9" y="0"/>
                    </a:lnTo>
                    <a:lnTo>
                      <a:pt x="5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32720" y="6261120"/>
                <a:ext cx="77760" cy="2556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13" y="14"/>
                    </a:move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18" y="0"/>
                    </a:lnTo>
                    <a:lnTo>
                      <a:pt x="92" y="9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15080" y="6242040"/>
                <a:ext cx="113040" cy="25560"/>
              </a:xfrm>
              <a:custGeom>
                <a:avLst/>
                <a:gdLst/>
                <a:ahLst/>
                <a:rect l="l" t="t" r="r" b="b"/>
                <a:pathLst>
                  <a:path w="170" h="14">
                    <a:moveTo>
                      <a:pt x="26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10"/>
                    </a:lnTo>
                    <a:lnTo>
                      <a:pt x="170" y="0"/>
                    </a:lnTo>
                    <a:lnTo>
                      <a:pt x="144" y="10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23000" y="622476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183" h="20">
                    <a:moveTo>
                      <a:pt x="0" y="20"/>
                    </a:moveTo>
                    <a:lnTo>
                      <a:pt x="13" y="10"/>
                    </a:lnTo>
                    <a:lnTo>
                      <a:pt x="183" y="0"/>
                    </a:lnTo>
                    <a:lnTo>
                      <a:pt x="157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158320" y="5581800"/>
                <a:ext cx="156960" cy="77760"/>
              </a:xfrm>
              <a:custGeom>
                <a:avLst/>
                <a:gdLst/>
                <a:ahLst/>
                <a:rect l="l" t="t" r="r" b="b"/>
                <a:pathLst>
                  <a:path w="237" h="43">
                    <a:moveTo>
                      <a:pt x="0" y="43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3" y="19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66" y="5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18" y="0"/>
                    </a:lnTo>
                    <a:lnTo>
                      <a:pt x="145" y="0"/>
                    </a:lnTo>
                    <a:lnTo>
                      <a:pt x="171" y="0"/>
                    </a:lnTo>
                    <a:lnTo>
                      <a:pt x="184" y="5"/>
                    </a:lnTo>
                    <a:lnTo>
                      <a:pt x="197" y="10"/>
                    </a:lnTo>
                    <a:lnTo>
                      <a:pt x="210" y="15"/>
                    </a:lnTo>
                    <a:lnTo>
                      <a:pt x="237" y="29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37" y="34"/>
                    </a:lnTo>
                    <a:lnTo>
                      <a:pt x="223" y="24"/>
                    </a:lnTo>
                    <a:lnTo>
                      <a:pt x="210" y="19"/>
                    </a:lnTo>
                    <a:lnTo>
                      <a:pt x="197" y="15"/>
                    </a:lnTo>
                    <a:lnTo>
                      <a:pt x="184" y="10"/>
                    </a:lnTo>
                    <a:lnTo>
                      <a:pt x="158" y="5"/>
                    </a:lnTo>
                    <a:lnTo>
                      <a:pt x="145" y="0"/>
                    </a:lnTo>
                    <a:lnTo>
                      <a:pt x="118" y="0"/>
                    </a:lnTo>
                    <a:lnTo>
                      <a:pt x="92" y="0"/>
                    </a:lnTo>
                    <a:lnTo>
                      <a:pt x="79" y="5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27" y="19"/>
                    </a:lnTo>
                    <a:lnTo>
                      <a:pt x="13" y="2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158320" y="5659560"/>
                <a:ext cx="156960" cy="81000"/>
              </a:xfrm>
              <a:custGeom>
                <a:avLst/>
                <a:gdLst/>
                <a:ahLst/>
                <a:rect l="l" t="t" r="r" b="b"/>
                <a:pathLst>
                  <a:path w="23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40" y="34"/>
                    </a:lnTo>
                    <a:lnTo>
                      <a:pt x="53" y="34"/>
                    </a:lnTo>
                    <a:lnTo>
                      <a:pt x="66" y="39"/>
                    </a:lnTo>
                    <a:lnTo>
                      <a:pt x="92" y="44"/>
                    </a:lnTo>
                    <a:lnTo>
                      <a:pt x="105" y="44"/>
                    </a:lnTo>
                    <a:lnTo>
                      <a:pt x="132" y="44"/>
                    </a:lnTo>
                    <a:lnTo>
                      <a:pt x="158" y="44"/>
                    </a:lnTo>
                    <a:lnTo>
                      <a:pt x="171" y="39"/>
                    </a:lnTo>
                    <a:lnTo>
                      <a:pt x="197" y="34"/>
                    </a:lnTo>
                    <a:lnTo>
                      <a:pt x="210" y="29"/>
                    </a:lnTo>
                    <a:lnTo>
                      <a:pt x="237" y="15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37" y="10"/>
                    </a:lnTo>
                    <a:lnTo>
                      <a:pt x="223" y="15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184" y="34"/>
                    </a:lnTo>
                    <a:lnTo>
                      <a:pt x="158" y="39"/>
                    </a:lnTo>
                    <a:lnTo>
                      <a:pt x="145" y="39"/>
                    </a:lnTo>
                    <a:lnTo>
                      <a:pt x="118" y="44"/>
                    </a:lnTo>
                    <a:lnTo>
                      <a:pt x="92" y="39"/>
                    </a:lnTo>
                    <a:lnTo>
                      <a:pt x="79" y="39"/>
                    </a:lnTo>
                    <a:lnTo>
                      <a:pt x="53" y="34"/>
                    </a:lnTo>
                    <a:lnTo>
                      <a:pt x="40" y="29"/>
                    </a:lnTo>
                    <a:lnTo>
                      <a:pt x="27" y="24"/>
                    </a:lnTo>
                    <a:lnTo>
                      <a:pt x="13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158320" y="5581800"/>
                <a:ext cx="156960" cy="77760"/>
              </a:xfrm>
              <a:custGeom>
                <a:avLst/>
                <a:gdLst/>
                <a:ahLst/>
                <a:rect l="l" t="t" r="r" b="b"/>
                <a:pathLst>
                  <a:path w="237" h="43">
                    <a:moveTo>
                      <a:pt x="0" y="43"/>
                    </a:moveTo>
                    <a:lnTo>
                      <a:pt x="0" y="34"/>
                    </a:lnTo>
                    <a:lnTo>
                      <a:pt x="13" y="24"/>
                    </a:lnTo>
                    <a:lnTo>
                      <a:pt x="27" y="19"/>
                    </a:lnTo>
                    <a:lnTo>
                      <a:pt x="40" y="15"/>
                    </a:lnTo>
                    <a:lnTo>
                      <a:pt x="53" y="10"/>
                    </a:lnTo>
                    <a:lnTo>
                      <a:pt x="79" y="5"/>
                    </a:lnTo>
                    <a:lnTo>
                      <a:pt x="92" y="0"/>
                    </a:lnTo>
                    <a:lnTo>
                      <a:pt x="118" y="0"/>
                    </a:lnTo>
                    <a:lnTo>
                      <a:pt x="145" y="0"/>
                    </a:lnTo>
                    <a:lnTo>
                      <a:pt x="158" y="5"/>
                    </a:lnTo>
                    <a:lnTo>
                      <a:pt x="184" y="10"/>
                    </a:lnTo>
                    <a:lnTo>
                      <a:pt x="197" y="15"/>
                    </a:lnTo>
                    <a:lnTo>
                      <a:pt x="210" y="19"/>
                    </a:lnTo>
                    <a:lnTo>
                      <a:pt x="223" y="24"/>
                    </a:lnTo>
                    <a:lnTo>
                      <a:pt x="237" y="34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23" y="43"/>
                    </a:lnTo>
                    <a:lnTo>
                      <a:pt x="223" y="43"/>
                    </a:lnTo>
                    <a:lnTo>
                      <a:pt x="223" y="34"/>
                    </a:lnTo>
                    <a:lnTo>
                      <a:pt x="223" y="29"/>
                    </a:lnTo>
                    <a:lnTo>
                      <a:pt x="210" y="19"/>
                    </a:lnTo>
                    <a:lnTo>
                      <a:pt x="197" y="15"/>
                    </a:lnTo>
                    <a:lnTo>
                      <a:pt x="184" y="10"/>
                    </a:lnTo>
                    <a:lnTo>
                      <a:pt x="158" y="5"/>
                    </a:lnTo>
                    <a:lnTo>
                      <a:pt x="145" y="5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79" y="5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13" y="34"/>
                    </a:lnTo>
                    <a:lnTo>
                      <a:pt x="13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158320" y="5659560"/>
                <a:ext cx="156960" cy="81000"/>
              </a:xfrm>
              <a:custGeom>
                <a:avLst/>
                <a:gdLst/>
                <a:ahLst/>
                <a:rect l="l" t="t" r="r" b="b"/>
                <a:pathLst>
                  <a:path w="23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7" y="24"/>
                    </a:lnTo>
                    <a:lnTo>
                      <a:pt x="40" y="29"/>
                    </a:lnTo>
                    <a:lnTo>
                      <a:pt x="53" y="34"/>
                    </a:lnTo>
                    <a:lnTo>
                      <a:pt x="79" y="39"/>
                    </a:lnTo>
                    <a:lnTo>
                      <a:pt x="92" y="39"/>
                    </a:lnTo>
                    <a:lnTo>
                      <a:pt x="118" y="44"/>
                    </a:lnTo>
                    <a:lnTo>
                      <a:pt x="145" y="39"/>
                    </a:lnTo>
                    <a:lnTo>
                      <a:pt x="158" y="39"/>
                    </a:lnTo>
                    <a:lnTo>
                      <a:pt x="184" y="34"/>
                    </a:lnTo>
                    <a:lnTo>
                      <a:pt x="197" y="29"/>
                    </a:lnTo>
                    <a:lnTo>
                      <a:pt x="210" y="24"/>
                    </a:lnTo>
                    <a:lnTo>
                      <a:pt x="223" y="15"/>
                    </a:lnTo>
                    <a:lnTo>
                      <a:pt x="237" y="10"/>
                    </a:lnTo>
                    <a:lnTo>
                      <a:pt x="237" y="0"/>
                    </a:lnTo>
                    <a:lnTo>
                      <a:pt x="223" y="0"/>
                    </a:lnTo>
                    <a:lnTo>
                      <a:pt x="223" y="10"/>
                    </a:lnTo>
                    <a:lnTo>
                      <a:pt x="223" y="15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184" y="34"/>
                    </a:lnTo>
                    <a:lnTo>
                      <a:pt x="158" y="39"/>
                    </a:lnTo>
                    <a:lnTo>
                      <a:pt x="145" y="39"/>
                    </a:lnTo>
                    <a:lnTo>
                      <a:pt x="118" y="39"/>
                    </a:lnTo>
                    <a:lnTo>
                      <a:pt x="92" y="39"/>
                    </a:lnTo>
                    <a:lnTo>
                      <a:pt x="79" y="39"/>
                    </a:lnTo>
                    <a:lnTo>
                      <a:pt x="53" y="34"/>
                    </a:lnTo>
                    <a:lnTo>
                      <a:pt x="40" y="29"/>
                    </a:lnTo>
                    <a:lnTo>
                      <a:pt x="27" y="24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166240" y="5581800"/>
                <a:ext cx="139680" cy="77760"/>
              </a:xfrm>
              <a:custGeom>
                <a:avLst/>
                <a:gdLst/>
                <a:ahLst/>
                <a:rect l="l" t="t" r="r" b="b"/>
                <a:pathLst>
                  <a:path w="210" h="43">
                    <a:moveTo>
                      <a:pt x="0" y="43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4" y="19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66" y="5"/>
                    </a:lnTo>
                    <a:lnTo>
                      <a:pt x="79" y="5"/>
                    </a:lnTo>
                    <a:lnTo>
                      <a:pt x="105" y="0"/>
                    </a:lnTo>
                    <a:lnTo>
                      <a:pt x="132" y="5"/>
                    </a:lnTo>
                    <a:lnTo>
                      <a:pt x="145" y="5"/>
                    </a:lnTo>
                    <a:lnTo>
                      <a:pt x="171" y="10"/>
                    </a:lnTo>
                    <a:lnTo>
                      <a:pt x="184" y="15"/>
                    </a:lnTo>
                    <a:lnTo>
                      <a:pt x="197" y="19"/>
                    </a:lnTo>
                    <a:lnTo>
                      <a:pt x="210" y="29"/>
                    </a:lnTo>
                    <a:lnTo>
                      <a:pt x="210" y="34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34"/>
                    </a:lnTo>
                    <a:lnTo>
                      <a:pt x="197" y="29"/>
                    </a:lnTo>
                    <a:lnTo>
                      <a:pt x="197" y="19"/>
                    </a:lnTo>
                    <a:lnTo>
                      <a:pt x="184" y="15"/>
                    </a:lnTo>
                    <a:lnTo>
                      <a:pt x="158" y="10"/>
                    </a:lnTo>
                    <a:lnTo>
                      <a:pt x="145" y="10"/>
                    </a:lnTo>
                    <a:lnTo>
                      <a:pt x="132" y="5"/>
                    </a:lnTo>
                    <a:lnTo>
                      <a:pt x="105" y="5"/>
                    </a:lnTo>
                    <a:lnTo>
                      <a:pt x="79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14" y="19"/>
                    </a:lnTo>
                    <a:lnTo>
                      <a:pt x="14" y="29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166240" y="565956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10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4" y="24"/>
                    </a:lnTo>
                    <a:lnTo>
                      <a:pt x="27" y="29"/>
                    </a:lnTo>
                    <a:lnTo>
                      <a:pt x="40" y="34"/>
                    </a:lnTo>
                    <a:lnTo>
                      <a:pt x="66" y="39"/>
                    </a:lnTo>
                    <a:lnTo>
                      <a:pt x="79" y="39"/>
                    </a:lnTo>
                    <a:lnTo>
                      <a:pt x="105" y="39"/>
                    </a:lnTo>
                    <a:lnTo>
                      <a:pt x="132" y="39"/>
                    </a:lnTo>
                    <a:lnTo>
                      <a:pt x="145" y="39"/>
                    </a:lnTo>
                    <a:lnTo>
                      <a:pt x="171" y="34"/>
                    </a:lnTo>
                    <a:lnTo>
                      <a:pt x="184" y="29"/>
                    </a:lnTo>
                    <a:lnTo>
                      <a:pt x="197" y="24"/>
                    </a:lnTo>
                    <a:lnTo>
                      <a:pt x="210" y="15"/>
                    </a:lnTo>
                    <a:lnTo>
                      <a:pt x="210" y="1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0" y="5"/>
                    </a:lnTo>
                    <a:lnTo>
                      <a:pt x="197" y="15"/>
                    </a:lnTo>
                    <a:lnTo>
                      <a:pt x="197" y="20"/>
                    </a:lnTo>
                    <a:lnTo>
                      <a:pt x="184" y="24"/>
                    </a:lnTo>
                    <a:lnTo>
                      <a:pt x="158" y="29"/>
                    </a:lnTo>
                    <a:lnTo>
                      <a:pt x="145" y="34"/>
                    </a:lnTo>
                    <a:lnTo>
                      <a:pt x="132" y="39"/>
                    </a:lnTo>
                    <a:lnTo>
                      <a:pt x="105" y="39"/>
                    </a:lnTo>
                    <a:lnTo>
                      <a:pt x="79" y="39"/>
                    </a:lnTo>
                    <a:lnTo>
                      <a:pt x="66" y="34"/>
                    </a:lnTo>
                    <a:lnTo>
                      <a:pt x="53" y="29"/>
                    </a:lnTo>
                    <a:lnTo>
                      <a:pt x="40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166240" y="5591160"/>
                <a:ext cx="139680" cy="68400"/>
              </a:xfrm>
              <a:custGeom>
                <a:avLst/>
                <a:gdLst/>
                <a:ahLst/>
                <a:rect l="l" t="t" r="r" b="b"/>
                <a:pathLst>
                  <a:path w="210" h="38">
                    <a:moveTo>
                      <a:pt x="0" y="38"/>
                    </a:moveTo>
                    <a:lnTo>
                      <a:pt x="0" y="29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40" y="10"/>
                    </a:lnTo>
                    <a:lnTo>
                      <a:pt x="53" y="5"/>
                    </a:lnTo>
                    <a:lnTo>
                      <a:pt x="66" y="5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45" y="5"/>
                    </a:lnTo>
                    <a:lnTo>
                      <a:pt x="158" y="5"/>
                    </a:lnTo>
                    <a:lnTo>
                      <a:pt x="184" y="10"/>
                    </a:lnTo>
                    <a:lnTo>
                      <a:pt x="197" y="14"/>
                    </a:lnTo>
                    <a:lnTo>
                      <a:pt x="197" y="24"/>
                    </a:lnTo>
                    <a:lnTo>
                      <a:pt x="210" y="29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197" y="29"/>
                    </a:lnTo>
                    <a:lnTo>
                      <a:pt x="197" y="24"/>
                    </a:lnTo>
                    <a:lnTo>
                      <a:pt x="184" y="19"/>
                    </a:lnTo>
                    <a:lnTo>
                      <a:pt x="171" y="14"/>
                    </a:lnTo>
                    <a:lnTo>
                      <a:pt x="158" y="10"/>
                    </a:lnTo>
                    <a:lnTo>
                      <a:pt x="145" y="5"/>
                    </a:lnTo>
                    <a:lnTo>
                      <a:pt x="119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66" y="5"/>
                    </a:lnTo>
                    <a:lnTo>
                      <a:pt x="53" y="10"/>
                    </a:lnTo>
                    <a:lnTo>
                      <a:pt x="40" y="14"/>
                    </a:lnTo>
                    <a:lnTo>
                      <a:pt x="27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166240" y="565956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10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40" y="24"/>
                    </a:lnTo>
                    <a:lnTo>
                      <a:pt x="53" y="29"/>
                    </a:lnTo>
                    <a:lnTo>
                      <a:pt x="66" y="34"/>
                    </a:lnTo>
                    <a:lnTo>
                      <a:pt x="79" y="39"/>
                    </a:lnTo>
                    <a:lnTo>
                      <a:pt x="105" y="39"/>
                    </a:lnTo>
                    <a:lnTo>
                      <a:pt x="132" y="39"/>
                    </a:lnTo>
                    <a:lnTo>
                      <a:pt x="145" y="34"/>
                    </a:lnTo>
                    <a:lnTo>
                      <a:pt x="158" y="29"/>
                    </a:lnTo>
                    <a:lnTo>
                      <a:pt x="184" y="24"/>
                    </a:lnTo>
                    <a:lnTo>
                      <a:pt x="197" y="20"/>
                    </a:lnTo>
                    <a:lnTo>
                      <a:pt x="197" y="15"/>
                    </a:lnTo>
                    <a:lnTo>
                      <a:pt x="210" y="5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197" y="5"/>
                    </a:lnTo>
                    <a:lnTo>
                      <a:pt x="197" y="15"/>
                    </a:lnTo>
                    <a:lnTo>
                      <a:pt x="184" y="20"/>
                    </a:lnTo>
                    <a:lnTo>
                      <a:pt x="171" y="24"/>
                    </a:lnTo>
                    <a:lnTo>
                      <a:pt x="158" y="29"/>
                    </a:lnTo>
                    <a:lnTo>
                      <a:pt x="145" y="34"/>
                    </a:lnTo>
                    <a:lnTo>
                      <a:pt x="119" y="34"/>
                    </a:lnTo>
                    <a:lnTo>
                      <a:pt x="105" y="34"/>
                    </a:lnTo>
                    <a:lnTo>
                      <a:pt x="92" y="34"/>
                    </a:lnTo>
                    <a:lnTo>
                      <a:pt x="66" y="34"/>
                    </a:lnTo>
                    <a:lnTo>
                      <a:pt x="53" y="29"/>
                    </a:lnTo>
                    <a:lnTo>
                      <a:pt x="40" y="24"/>
                    </a:lnTo>
                    <a:lnTo>
                      <a:pt x="27" y="20"/>
                    </a:lnTo>
                    <a:lnTo>
                      <a:pt x="14" y="1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175600" y="5591160"/>
                <a:ext cx="130320" cy="68400"/>
              </a:xfrm>
              <a:custGeom>
                <a:avLst/>
                <a:gdLst/>
                <a:ahLst/>
                <a:rect l="l" t="t" r="r" b="b"/>
                <a:pathLst>
                  <a:path w="196" h="38"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13" y="19"/>
                    </a:lnTo>
                    <a:lnTo>
                      <a:pt x="26" y="14"/>
                    </a:lnTo>
                    <a:lnTo>
                      <a:pt x="39" y="10"/>
                    </a:lnTo>
                    <a:lnTo>
                      <a:pt x="52" y="5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5"/>
                    </a:lnTo>
                    <a:lnTo>
                      <a:pt x="144" y="10"/>
                    </a:lnTo>
                    <a:lnTo>
                      <a:pt x="157" y="14"/>
                    </a:lnTo>
                    <a:lnTo>
                      <a:pt x="170" y="19"/>
                    </a:lnTo>
                    <a:lnTo>
                      <a:pt x="183" y="24"/>
                    </a:lnTo>
                    <a:lnTo>
                      <a:pt x="183" y="29"/>
                    </a:lnTo>
                    <a:lnTo>
                      <a:pt x="196" y="38"/>
                    </a:lnTo>
                    <a:lnTo>
                      <a:pt x="196" y="38"/>
                    </a:lnTo>
                    <a:lnTo>
                      <a:pt x="183" y="38"/>
                    </a:lnTo>
                    <a:lnTo>
                      <a:pt x="183" y="38"/>
                    </a:lnTo>
                    <a:lnTo>
                      <a:pt x="183" y="29"/>
                    </a:lnTo>
                    <a:lnTo>
                      <a:pt x="183" y="24"/>
                    </a:lnTo>
                    <a:lnTo>
                      <a:pt x="170" y="19"/>
                    </a:lnTo>
                    <a:lnTo>
                      <a:pt x="157" y="14"/>
                    </a:lnTo>
                    <a:lnTo>
                      <a:pt x="144" y="10"/>
                    </a:lnTo>
                    <a:lnTo>
                      <a:pt x="131" y="5"/>
                    </a:lnTo>
                    <a:lnTo>
                      <a:pt x="105" y="5"/>
                    </a:lnTo>
                    <a:lnTo>
                      <a:pt x="91" y="5"/>
                    </a:lnTo>
                    <a:lnTo>
                      <a:pt x="78" y="5"/>
                    </a:lnTo>
                    <a:lnTo>
                      <a:pt x="52" y="5"/>
                    </a:lnTo>
                    <a:lnTo>
                      <a:pt x="39" y="10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4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75600" y="5659560"/>
                <a:ext cx="130320" cy="61920"/>
              </a:xfrm>
              <a:custGeom>
                <a:avLst/>
                <a:gdLst/>
                <a:ahLst/>
                <a:rect l="l" t="t" r="r" b="b"/>
                <a:pathLst>
                  <a:path w="196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13" y="20"/>
                    </a:lnTo>
                    <a:lnTo>
                      <a:pt x="26" y="24"/>
                    </a:lnTo>
                    <a:lnTo>
                      <a:pt x="39" y="29"/>
                    </a:lnTo>
                    <a:lnTo>
                      <a:pt x="52" y="34"/>
                    </a:lnTo>
                    <a:lnTo>
                      <a:pt x="78" y="34"/>
                    </a:lnTo>
                    <a:lnTo>
                      <a:pt x="91" y="34"/>
                    </a:lnTo>
                    <a:lnTo>
                      <a:pt x="105" y="34"/>
                    </a:lnTo>
                    <a:lnTo>
                      <a:pt x="131" y="34"/>
                    </a:lnTo>
                    <a:lnTo>
                      <a:pt x="144" y="29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83" y="15"/>
                    </a:lnTo>
                    <a:lnTo>
                      <a:pt x="183" y="5"/>
                    </a:lnTo>
                    <a:lnTo>
                      <a:pt x="196" y="0"/>
                    </a:lnTo>
                    <a:lnTo>
                      <a:pt x="183" y="0"/>
                    </a:lnTo>
                    <a:lnTo>
                      <a:pt x="183" y="5"/>
                    </a:lnTo>
                    <a:lnTo>
                      <a:pt x="183" y="15"/>
                    </a:lnTo>
                    <a:lnTo>
                      <a:pt x="170" y="20"/>
                    </a:lnTo>
                    <a:lnTo>
                      <a:pt x="157" y="24"/>
                    </a:lnTo>
                    <a:lnTo>
                      <a:pt x="144" y="29"/>
                    </a:lnTo>
                    <a:lnTo>
                      <a:pt x="131" y="29"/>
                    </a:lnTo>
                    <a:lnTo>
                      <a:pt x="105" y="34"/>
                    </a:lnTo>
                    <a:lnTo>
                      <a:pt x="91" y="34"/>
                    </a:lnTo>
                    <a:lnTo>
                      <a:pt x="78" y="34"/>
                    </a:lnTo>
                    <a:lnTo>
                      <a:pt x="52" y="29"/>
                    </a:lnTo>
                    <a:lnTo>
                      <a:pt x="39" y="29"/>
                    </a:lnTo>
                    <a:lnTo>
                      <a:pt x="26" y="24"/>
                    </a:lnTo>
                    <a:lnTo>
                      <a:pt x="13" y="20"/>
                    </a:lnTo>
                    <a:lnTo>
                      <a:pt x="13" y="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175600" y="560088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0" y="33"/>
                    </a:moveTo>
                    <a:lnTo>
                      <a:pt x="0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52" y="0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0"/>
                    </a:lnTo>
                    <a:lnTo>
                      <a:pt x="144" y="5"/>
                    </a:lnTo>
                    <a:lnTo>
                      <a:pt x="157" y="9"/>
                    </a:lnTo>
                    <a:lnTo>
                      <a:pt x="170" y="14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29"/>
                    </a:lnTo>
                    <a:lnTo>
                      <a:pt x="170" y="19"/>
                    </a:lnTo>
                    <a:lnTo>
                      <a:pt x="170" y="14"/>
                    </a:lnTo>
                    <a:lnTo>
                      <a:pt x="157" y="9"/>
                    </a:lnTo>
                    <a:lnTo>
                      <a:pt x="144" y="5"/>
                    </a:lnTo>
                    <a:lnTo>
                      <a:pt x="131" y="5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78" y="0"/>
                    </a:lnTo>
                    <a:lnTo>
                      <a:pt x="65" y="5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175600" y="5659560"/>
                <a:ext cx="120600" cy="6192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26" y="24"/>
                    </a:lnTo>
                    <a:lnTo>
                      <a:pt x="39" y="29"/>
                    </a:lnTo>
                    <a:lnTo>
                      <a:pt x="52" y="29"/>
                    </a:lnTo>
                    <a:lnTo>
                      <a:pt x="78" y="34"/>
                    </a:lnTo>
                    <a:lnTo>
                      <a:pt x="91" y="34"/>
                    </a:lnTo>
                    <a:lnTo>
                      <a:pt x="105" y="34"/>
                    </a:lnTo>
                    <a:lnTo>
                      <a:pt x="131" y="29"/>
                    </a:lnTo>
                    <a:lnTo>
                      <a:pt x="144" y="29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83" y="15"/>
                    </a:lnTo>
                    <a:lnTo>
                      <a:pt x="183" y="5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3" y="5"/>
                    </a:lnTo>
                    <a:lnTo>
                      <a:pt x="170" y="10"/>
                    </a:lnTo>
                    <a:lnTo>
                      <a:pt x="170" y="20"/>
                    </a:lnTo>
                    <a:lnTo>
                      <a:pt x="157" y="24"/>
                    </a:lnTo>
                    <a:lnTo>
                      <a:pt x="144" y="24"/>
                    </a:lnTo>
                    <a:lnTo>
                      <a:pt x="131" y="29"/>
                    </a:lnTo>
                    <a:lnTo>
                      <a:pt x="105" y="29"/>
                    </a:lnTo>
                    <a:lnTo>
                      <a:pt x="91" y="34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39" y="24"/>
                    </a:lnTo>
                    <a:lnTo>
                      <a:pt x="26" y="24"/>
                    </a:lnTo>
                    <a:lnTo>
                      <a:pt x="26" y="2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175600" y="560088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0" y="33"/>
                    </a:moveTo>
                    <a:lnTo>
                      <a:pt x="0" y="29"/>
                    </a:lnTo>
                    <a:lnTo>
                      <a:pt x="13" y="19"/>
                    </a:lnTo>
                    <a:lnTo>
                      <a:pt x="26" y="14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65" y="5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5"/>
                    </a:lnTo>
                    <a:lnTo>
                      <a:pt x="144" y="5"/>
                    </a:lnTo>
                    <a:lnTo>
                      <a:pt x="157" y="9"/>
                    </a:lnTo>
                    <a:lnTo>
                      <a:pt x="170" y="14"/>
                    </a:lnTo>
                    <a:lnTo>
                      <a:pt x="170" y="19"/>
                    </a:lnTo>
                    <a:lnTo>
                      <a:pt x="183" y="29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70" y="33"/>
                    </a:lnTo>
                    <a:lnTo>
                      <a:pt x="170" y="33"/>
                    </a:lnTo>
                    <a:lnTo>
                      <a:pt x="170" y="29"/>
                    </a:lnTo>
                    <a:lnTo>
                      <a:pt x="170" y="19"/>
                    </a:lnTo>
                    <a:lnTo>
                      <a:pt x="157" y="14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18" y="5"/>
                    </a:lnTo>
                    <a:lnTo>
                      <a:pt x="105" y="5"/>
                    </a:lnTo>
                    <a:lnTo>
                      <a:pt x="91" y="5"/>
                    </a:lnTo>
                    <a:lnTo>
                      <a:pt x="78" y="5"/>
                    </a:lnTo>
                    <a:lnTo>
                      <a:pt x="65" y="5"/>
                    </a:lnTo>
                    <a:lnTo>
                      <a:pt x="52" y="9"/>
                    </a:lnTo>
                    <a:lnTo>
                      <a:pt x="39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9"/>
                    </a:lnTo>
                    <a:lnTo>
                      <a:pt x="13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175600" y="5659560"/>
                <a:ext cx="120600" cy="6192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20"/>
                    </a:lnTo>
                    <a:lnTo>
                      <a:pt x="26" y="24"/>
                    </a:lnTo>
                    <a:lnTo>
                      <a:pt x="39" y="24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1" y="34"/>
                    </a:lnTo>
                    <a:lnTo>
                      <a:pt x="105" y="29"/>
                    </a:lnTo>
                    <a:lnTo>
                      <a:pt x="131" y="29"/>
                    </a:lnTo>
                    <a:lnTo>
                      <a:pt x="144" y="24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83" y="5"/>
                    </a:lnTo>
                    <a:lnTo>
                      <a:pt x="183" y="0"/>
                    </a:lnTo>
                    <a:lnTo>
                      <a:pt x="170" y="0"/>
                    </a:lnTo>
                    <a:lnTo>
                      <a:pt x="170" y="5"/>
                    </a:lnTo>
                    <a:lnTo>
                      <a:pt x="170" y="10"/>
                    </a:lnTo>
                    <a:lnTo>
                      <a:pt x="157" y="15"/>
                    </a:lnTo>
                    <a:lnTo>
                      <a:pt x="144" y="20"/>
                    </a:lnTo>
                    <a:lnTo>
                      <a:pt x="144" y="24"/>
                    </a:lnTo>
                    <a:lnTo>
                      <a:pt x="118" y="29"/>
                    </a:lnTo>
                    <a:lnTo>
                      <a:pt x="105" y="29"/>
                    </a:lnTo>
                    <a:lnTo>
                      <a:pt x="91" y="29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52" y="24"/>
                    </a:lnTo>
                    <a:lnTo>
                      <a:pt x="39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183520" y="5608800"/>
                <a:ext cx="104760" cy="50760"/>
              </a:xfrm>
              <a:custGeom>
                <a:avLst/>
                <a:gdLst/>
                <a:ahLst/>
                <a:rect l="l" t="t" r="r" b="b"/>
                <a:pathLst>
                  <a:path w="157" h="28">
                    <a:moveTo>
                      <a:pt x="0" y="28"/>
                    </a:moveTo>
                    <a:lnTo>
                      <a:pt x="0" y="24"/>
                    </a:lnTo>
                    <a:lnTo>
                      <a:pt x="0" y="14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39" y="4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31" y="4"/>
                    </a:lnTo>
                    <a:lnTo>
                      <a:pt x="131" y="4"/>
                    </a:lnTo>
                    <a:lnTo>
                      <a:pt x="144" y="9"/>
                    </a:lnTo>
                    <a:lnTo>
                      <a:pt x="157" y="14"/>
                    </a:lnTo>
                    <a:lnTo>
                      <a:pt x="157" y="24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4"/>
                    </a:lnTo>
                    <a:lnTo>
                      <a:pt x="144" y="19"/>
                    </a:lnTo>
                    <a:lnTo>
                      <a:pt x="144" y="14"/>
                    </a:lnTo>
                    <a:lnTo>
                      <a:pt x="131" y="9"/>
                    </a:lnTo>
                    <a:lnTo>
                      <a:pt x="118" y="4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13" y="14"/>
                    </a:lnTo>
                    <a:lnTo>
                      <a:pt x="13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183520" y="565956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157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9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2" y="29"/>
                    </a:lnTo>
                    <a:lnTo>
                      <a:pt x="105" y="29"/>
                    </a:lnTo>
                    <a:lnTo>
                      <a:pt x="131" y="24"/>
                    </a:lnTo>
                    <a:lnTo>
                      <a:pt x="131" y="20"/>
                    </a:lnTo>
                    <a:lnTo>
                      <a:pt x="144" y="15"/>
                    </a:lnTo>
                    <a:lnTo>
                      <a:pt x="157" y="10"/>
                    </a:lnTo>
                    <a:lnTo>
                      <a:pt x="157" y="5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5"/>
                    </a:lnTo>
                    <a:lnTo>
                      <a:pt x="144" y="10"/>
                    </a:lnTo>
                    <a:lnTo>
                      <a:pt x="144" y="15"/>
                    </a:lnTo>
                    <a:lnTo>
                      <a:pt x="131" y="20"/>
                    </a:lnTo>
                    <a:lnTo>
                      <a:pt x="118" y="24"/>
                    </a:lnTo>
                    <a:lnTo>
                      <a:pt x="105" y="24"/>
                    </a:lnTo>
                    <a:lnTo>
                      <a:pt x="92" y="29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52" y="24"/>
                    </a:lnTo>
                    <a:lnTo>
                      <a:pt x="39" y="24"/>
                    </a:lnTo>
                    <a:lnTo>
                      <a:pt x="26" y="20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183520" y="5608800"/>
                <a:ext cx="104760" cy="50760"/>
              </a:xfrm>
              <a:custGeom>
                <a:avLst/>
                <a:gdLst/>
                <a:ahLst/>
                <a:rect l="l" t="t" r="r" b="b"/>
                <a:pathLst>
                  <a:path w="157" h="28">
                    <a:moveTo>
                      <a:pt x="0" y="28"/>
                    </a:moveTo>
                    <a:lnTo>
                      <a:pt x="0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26" y="9"/>
                    </a:lnTo>
                    <a:lnTo>
                      <a:pt x="39" y="4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18" y="4"/>
                    </a:lnTo>
                    <a:lnTo>
                      <a:pt x="131" y="9"/>
                    </a:lnTo>
                    <a:lnTo>
                      <a:pt x="144" y="14"/>
                    </a:lnTo>
                    <a:lnTo>
                      <a:pt x="144" y="19"/>
                    </a:lnTo>
                    <a:lnTo>
                      <a:pt x="157" y="24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44" y="28"/>
                    </a:lnTo>
                    <a:lnTo>
                      <a:pt x="144" y="28"/>
                    </a:lnTo>
                    <a:lnTo>
                      <a:pt x="144" y="24"/>
                    </a:lnTo>
                    <a:lnTo>
                      <a:pt x="144" y="19"/>
                    </a:lnTo>
                    <a:lnTo>
                      <a:pt x="131" y="14"/>
                    </a:lnTo>
                    <a:lnTo>
                      <a:pt x="131" y="9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2" y="4"/>
                    </a:lnTo>
                    <a:lnTo>
                      <a:pt x="78" y="0"/>
                    </a:lnTo>
                    <a:lnTo>
                      <a:pt x="65" y="4"/>
                    </a:lnTo>
                    <a:lnTo>
                      <a:pt x="52" y="4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4"/>
                    </a:lnTo>
                    <a:lnTo>
                      <a:pt x="13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183520" y="565956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157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2" y="29"/>
                    </a:lnTo>
                    <a:lnTo>
                      <a:pt x="105" y="24"/>
                    </a:lnTo>
                    <a:lnTo>
                      <a:pt x="118" y="24"/>
                    </a:lnTo>
                    <a:lnTo>
                      <a:pt x="131" y="20"/>
                    </a:lnTo>
                    <a:lnTo>
                      <a:pt x="144" y="15"/>
                    </a:lnTo>
                    <a:lnTo>
                      <a:pt x="144" y="10"/>
                    </a:lnTo>
                    <a:lnTo>
                      <a:pt x="157" y="5"/>
                    </a:lnTo>
                    <a:lnTo>
                      <a:pt x="157" y="0"/>
                    </a:lnTo>
                    <a:lnTo>
                      <a:pt x="144" y="0"/>
                    </a:lnTo>
                    <a:lnTo>
                      <a:pt x="144" y="5"/>
                    </a:lnTo>
                    <a:lnTo>
                      <a:pt x="144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18" y="20"/>
                    </a:lnTo>
                    <a:lnTo>
                      <a:pt x="105" y="24"/>
                    </a:lnTo>
                    <a:lnTo>
                      <a:pt x="92" y="24"/>
                    </a:lnTo>
                    <a:lnTo>
                      <a:pt x="78" y="24"/>
                    </a:lnTo>
                    <a:lnTo>
                      <a:pt x="65" y="24"/>
                    </a:lnTo>
                    <a:lnTo>
                      <a:pt x="52" y="24"/>
                    </a:lnTo>
                    <a:lnTo>
                      <a:pt x="39" y="20"/>
                    </a:lnTo>
                    <a:lnTo>
                      <a:pt x="26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191440" y="560880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0" y="28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39" y="4"/>
                    </a:lnTo>
                    <a:lnTo>
                      <a:pt x="52" y="4"/>
                    </a:lnTo>
                    <a:lnTo>
                      <a:pt x="65" y="0"/>
                    </a:lnTo>
                    <a:lnTo>
                      <a:pt x="79" y="4"/>
                    </a:lnTo>
                    <a:lnTo>
                      <a:pt x="92" y="4"/>
                    </a:lnTo>
                    <a:lnTo>
                      <a:pt x="105" y="4"/>
                    </a:lnTo>
                    <a:lnTo>
                      <a:pt x="118" y="9"/>
                    </a:lnTo>
                    <a:lnTo>
                      <a:pt x="118" y="14"/>
                    </a:lnTo>
                    <a:lnTo>
                      <a:pt x="131" y="19"/>
                    </a:lnTo>
                    <a:lnTo>
                      <a:pt x="131" y="24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4"/>
                    </a:lnTo>
                    <a:lnTo>
                      <a:pt x="131" y="19"/>
                    </a:lnTo>
                    <a:lnTo>
                      <a:pt x="118" y="14"/>
                    </a:lnTo>
                    <a:lnTo>
                      <a:pt x="118" y="9"/>
                    </a:lnTo>
                    <a:lnTo>
                      <a:pt x="105" y="9"/>
                    </a:lnTo>
                    <a:lnTo>
                      <a:pt x="92" y="4"/>
                    </a:lnTo>
                    <a:lnTo>
                      <a:pt x="79" y="4"/>
                    </a:lnTo>
                    <a:lnTo>
                      <a:pt x="65" y="4"/>
                    </a:lnTo>
                    <a:lnTo>
                      <a:pt x="52" y="4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191440" y="5659560"/>
                <a:ext cx="87480" cy="4428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4"/>
                    </a:lnTo>
                    <a:lnTo>
                      <a:pt x="79" y="24"/>
                    </a:lnTo>
                    <a:lnTo>
                      <a:pt x="92" y="24"/>
                    </a:lnTo>
                    <a:lnTo>
                      <a:pt x="105" y="20"/>
                    </a:lnTo>
                    <a:lnTo>
                      <a:pt x="118" y="20"/>
                    </a:lnTo>
                    <a:lnTo>
                      <a:pt x="118" y="15"/>
                    </a:lnTo>
                    <a:lnTo>
                      <a:pt x="131" y="10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10"/>
                    </a:lnTo>
                    <a:lnTo>
                      <a:pt x="118" y="15"/>
                    </a:lnTo>
                    <a:lnTo>
                      <a:pt x="118" y="15"/>
                    </a:lnTo>
                    <a:lnTo>
                      <a:pt x="105" y="20"/>
                    </a:lnTo>
                    <a:lnTo>
                      <a:pt x="92" y="24"/>
                    </a:lnTo>
                    <a:lnTo>
                      <a:pt x="79" y="24"/>
                    </a:lnTo>
                    <a:lnTo>
                      <a:pt x="65" y="24"/>
                    </a:lnTo>
                    <a:lnTo>
                      <a:pt x="52" y="24"/>
                    </a:lnTo>
                    <a:lnTo>
                      <a:pt x="39" y="24"/>
                    </a:lnTo>
                    <a:lnTo>
                      <a:pt x="26" y="20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191440" y="5616720"/>
                <a:ext cx="87480" cy="4284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5" y="5"/>
                    </a:lnTo>
                    <a:lnTo>
                      <a:pt x="118" y="5"/>
                    </a:lnTo>
                    <a:lnTo>
                      <a:pt x="118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18" y="20"/>
                    </a:lnTo>
                    <a:lnTo>
                      <a:pt x="118" y="15"/>
                    </a:lnTo>
                    <a:lnTo>
                      <a:pt x="118" y="10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92" y="5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1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191440" y="5659560"/>
                <a:ext cx="87480" cy="4428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4"/>
                    </a:lnTo>
                    <a:lnTo>
                      <a:pt x="79" y="24"/>
                    </a:lnTo>
                    <a:lnTo>
                      <a:pt x="92" y="24"/>
                    </a:lnTo>
                    <a:lnTo>
                      <a:pt x="105" y="20"/>
                    </a:lnTo>
                    <a:lnTo>
                      <a:pt x="118" y="15"/>
                    </a:lnTo>
                    <a:lnTo>
                      <a:pt x="118" y="15"/>
                    </a:lnTo>
                    <a:lnTo>
                      <a:pt x="131" y="10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18" y="5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05" y="15"/>
                    </a:lnTo>
                    <a:lnTo>
                      <a:pt x="105" y="20"/>
                    </a:lnTo>
                    <a:lnTo>
                      <a:pt x="92" y="20"/>
                    </a:lnTo>
                    <a:lnTo>
                      <a:pt x="79" y="20"/>
                    </a:lnTo>
                    <a:lnTo>
                      <a:pt x="65" y="20"/>
                    </a:lnTo>
                    <a:lnTo>
                      <a:pt x="52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201160" y="5616720"/>
                <a:ext cx="77760" cy="42840"/>
              </a:xfrm>
              <a:custGeom>
                <a:avLst/>
                <a:gdLst/>
                <a:ahLst/>
                <a:rect l="l" t="t" r="r" b="b"/>
                <a:pathLst>
                  <a:path w="1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92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20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05" y="24"/>
                    </a:lnTo>
                    <a:lnTo>
                      <a:pt x="105" y="24"/>
                    </a:lnTo>
                    <a:lnTo>
                      <a:pt x="105" y="20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92" y="10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66" y="5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201160" y="565956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39" y="20"/>
                    </a:lnTo>
                    <a:lnTo>
                      <a:pt x="52" y="20"/>
                    </a:lnTo>
                    <a:lnTo>
                      <a:pt x="66" y="20"/>
                    </a:lnTo>
                    <a:lnTo>
                      <a:pt x="79" y="20"/>
                    </a:lnTo>
                    <a:lnTo>
                      <a:pt x="92" y="20"/>
                    </a:lnTo>
                    <a:lnTo>
                      <a:pt x="92" y="15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79" y="15"/>
                    </a:lnTo>
                    <a:lnTo>
                      <a:pt x="79" y="20"/>
                    </a:lnTo>
                    <a:lnTo>
                      <a:pt x="66" y="20"/>
                    </a:lnTo>
                    <a:lnTo>
                      <a:pt x="52" y="20"/>
                    </a:lnTo>
                    <a:lnTo>
                      <a:pt x="39" y="20"/>
                    </a:lnTo>
                    <a:lnTo>
                      <a:pt x="26" y="20"/>
                    </a:lnTo>
                    <a:lnTo>
                      <a:pt x="26" y="15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201160" y="562608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19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92" y="5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5"/>
                    </a:lnTo>
                    <a:lnTo>
                      <a:pt x="105" y="10"/>
                    </a:lnTo>
                    <a:lnTo>
                      <a:pt x="92" y="10"/>
                    </a:lnTo>
                    <a:lnTo>
                      <a:pt x="92" y="5"/>
                    </a:lnTo>
                    <a:lnTo>
                      <a:pt x="79" y="5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01160" y="56595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05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26" y="15"/>
                    </a:lnTo>
                    <a:lnTo>
                      <a:pt x="26" y="20"/>
                    </a:lnTo>
                    <a:lnTo>
                      <a:pt x="39" y="20"/>
                    </a:lnTo>
                    <a:lnTo>
                      <a:pt x="52" y="20"/>
                    </a:lnTo>
                    <a:lnTo>
                      <a:pt x="66" y="20"/>
                    </a:lnTo>
                    <a:lnTo>
                      <a:pt x="79" y="20"/>
                    </a:lnTo>
                    <a:lnTo>
                      <a:pt x="79" y="15"/>
                    </a:lnTo>
                    <a:lnTo>
                      <a:pt x="92" y="15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79" y="15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52" y="20"/>
                    </a:lnTo>
                    <a:lnTo>
                      <a:pt x="39" y="15"/>
                    </a:lnTo>
                    <a:lnTo>
                      <a:pt x="39" y="15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201160" y="562608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19"/>
                    </a:moveTo>
                    <a:lnTo>
                      <a:pt x="0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92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92" y="19"/>
                    </a:lnTo>
                    <a:lnTo>
                      <a:pt x="92" y="19"/>
                    </a:lnTo>
                    <a:lnTo>
                      <a:pt x="92" y="15"/>
                    </a:lnTo>
                    <a:lnTo>
                      <a:pt x="79" y="5"/>
                    </a:lnTo>
                    <a:lnTo>
                      <a:pt x="66" y="5"/>
                    </a:lnTo>
                    <a:lnTo>
                      <a:pt x="52" y="0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13" y="15"/>
                    </a:lnTo>
                    <a:lnTo>
                      <a:pt x="13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201160" y="56595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05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15"/>
                    </a:lnTo>
                    <a:lnTo>
                      <a:pt x="39" y="15"/>
                    </a:lnTo>
                    <a:lnTo>
                      <a:pt x="39" y="15"/>
                    </a:lnTo>
                    <a:lnTo>
                      <a:pt x="52" y="20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79" y="15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92" y="5"/>
                    </a:lnTo>
                    <a:lnTo>
                      <a:pt x="79" y="10"/>
                    </a:lnTo>
                    <a:lnTo>
                      <a:pt x="66" y="15"/>
                    </a:lnTo>
                    <a:lnTo>
                      <a:pt x="52" y="15"/>
                    </a:lnTo>
                    <a:lnTo>
                      <a:pt x="39" y="15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210520" y="562608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79" h="19">
                    <a:moveTo>
                      <a:pt x="0" y="19"/>
                    </a:moveTo>
                    <a:lnTo>
                      <a:pt x="0" y="1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3" y="5"/>
                    </a:lnTo>
                    <a:lnTo>
                      <a:pt x="66" y="5"/>
                    </a:lnTo>
                    <a:lnTo>
                      <a:pt x="79" y="15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5"/>
                    </a:lnTo>
                    <a:lnTo>
                      <a:pt x="66" y="10"/>
                    </a:lnTo>
                    <a:lnTo>
                      <a:pt x="53" y="5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13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210520" y="565956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15"/>
                    </a:lnTo>
                    <a:lnTo>
                      <a:pt x="39" y="15"/>
                    </a:lnTo>
                    <a:lnTo>
                      <a:pt x="53" y="15"/>
                    </a:lnTo>
                    <a:lnTo>
                      <a:pt x="66" y="10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39" y="15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210520" y="563400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14"/>
                    </a:moveTo>
                    <a:lnTo>
                      <a:pt x="0" y="10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6" y="5"/>
                    </a:lnTo>
                    <a:lnTo>
                      <a:pt x="79" y="10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66" y="10"/>
                    </a:lnTo>
                    <a:lnTo>
                      <a:pt x="66" y="5"/>
                    </a:lnTo>
                    <a:lnTo>
                      <a:pt x="53" y="5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10520" y="565956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39" y="15"/>
                    </a:lnTo>
                    <a:lnTo>
                      <a:pt x="53" y="10"/>
                    </a:lnTo>
                    <a:lnTo>
                      <a:pt x="66" y="10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6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39" y="10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18440" y="563400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66" h="14">
                    <a:moveTo>
                      <a:pt x="0" y="14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10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218440" y="565956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6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40" y="10"/>
                    </a:lnTo>
                    <a:lnTo>
                      <a:pt x="53" y="10"/>
                    </a:lnTo>
                    <a:lnTo>
                      <a:pt x="53" y="5"/>
                    </a:lnTo>
                    <a:lnTo>
                      <a:pt x="66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218440" y="5643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0" y="9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8440" y="56595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218440" y="56437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0" y="9"/>
                    </a:moveTo>
                    <a:lnTo>
                      <a:pt x="0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218440" y="56595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228160" y="56595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228160" y="565956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096400" y="560088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144" h="81">
                    <a:moveTo>
                      <a:pt x="144" y="81"/>
                    </a:moveTo>
                    <a:lnTo>
                      <a:pt x="118" y="77"/>
                    </a:lnTo>
                    <a:lnTo>
                      <a:pt x="91" y="72"/>
                    </a:lnTo>
                    <a:lnTo>
                      <a:pt x="65" y="62"/>
                    </a:lnTo>
                    <a:lnTo>
                      <a:pt x="39" y="53"/>
                    </a:lnTo>
                    <a:lnTo>
                      <a:pt x="13" y="43"/>
                    </a:lnTo>
                    <a:lnTo>
                      <a:pt x="13" y="29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39" y="14"/>
                    </a:lnTo>
                    <a:lnTo>
                      <a:pt x="39" y="24"/>
                    </a:lnTo>
                    <a:lnTo>
                      <a:pt x="52" y="38"/>
                    </a:lnTo>
                    <a:lnTo>
                      <a:pt x="52" y="48"/>
                    </a:lnTo>
                    <a:lnTo>
                      <a:pt x="65" y="57"/>
                    </a:lnTo>
                    <a:lnTo>
                      <a:pt x="91" y="67"/>
                    </a:lnTo>
                    <a:lnTo>
                      <a:pt x="118" y="77"/>
                    </a:lnTo>
                    <a:lnTo>
                      <a:pt x="144" y="81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 thruBlk="true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2819520" y="4397400"/>
            <a:ext cx="914400" cy="1418400"/>
            <a:chOff x="2819520" y="4397400"/>
            <a:chExt cx="914400" cy="1418400"/>
          </a:xfrm>
        </p:grpSpPr>
        <p:sp>
          <p:nvSpPr>
            <p:cNvPr id="807" name=""/>
            <p:cNvSpPr/>
            <p:nvPr/>
          </p:nvSpPr>
          <p:spPr>
            <a:xfrm>
              <a:off x="3276720" y="4397400"/>
              <a:ext cx="0" cy="9907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19520" y="5464440"/>
              <a:ext cx="914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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384720" y="2895480"/>
            <a:ext cx="799200" cy="3277800"/>
            <a:chOff x="3384720" y="2895480"/>
            <a:chExt cx="799200" cy="3277800"/>
          </a:xfrm>
        </p:grpSpPr>
        <p:sp>
          <p:nvSpPr>
            <p:cNvPr id="810" name=""/>
            <p:cNvSpPr/>
            <p:nvPr/>
          </p:nvSpPr>
          <p:spPr>
            <a:xfrm>
              <a:off x="3733920" y="2895480"/>
              <a:ext cx="0" cy="2503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84720" y="5715000"/>
              <a:ext cx="79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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892680" y="1905120"/>
            <a:ext cx="799200" cy="4641480"/>
            <a:chOff x="3892680" y="1905120"/>
            <a:chExt cx="799200" cy="4641480"/>
          </a:xfrm>
        </p:grpSpPr>
        <p:sp>
          <p:nvSpPr>
            <p:cNvPr id="813" name=""/>
            <p:cNvSpPr/>
            <p:nvPr/>
          </p:nvSpPr>
          <p:spPr>
            <a:xfrm>
              <a:off x="4241880" y="1905120"/>
              <a:ext cx="0" cy="34858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92680" y="6088320"/>
              <a:ext cx="79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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4424040" y="1523880"/>
            <a:ext cx="448560" cy="4343040"/>
            <a:chOff x="4424040" y="1523880"/>
            <a:chExt cx="448560" cy="4343040"/>
          </a:xfrm>
        </p:grpSpPr>
        <p:sp>
          <p:nvSpPr>
            <p:cNvPr id="816" name=""/>
            <p:cNvSpPr/>
            <p:nvPr/>
          </p:nvSpPr>
          <p:spPr>
            <a:xfrm flipH="1">
              <a:off x="4632480" y="1523880"/>
              <a:ext cx="15840" cy="3886200"/>
            </a:xfrm>
            <a:prstGeom prst="line">
              <a:avLst/>
            </a:prstGeom>
            <a:ln w="255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24040" y="5225760"/>
              <a:ext cx="448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691520" y="1828800"/>
            <a:ext cx="875520" cy="4724640"/>
            <a:chOff x="4691520" y="1828800"/>
            <a:chExt cx="875520" cy="4724640"/>
          </a:xfrm>
        </p:grpSpPr>
        <p:sp>
          <p:nvSpPr>
            <p:cNvPr id="819" name=""/>
            <p:cNvSpPr/>
            <p:nvPr/>
          </p:nvSpPr>
          <p:spPr>
            <a:xfrm>
              <a:off x="5029200" y="1828800"/>
              <a:ext cx="0" cy="35553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91520" y="6095160"/>
              <a:ext cx="87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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947120" y="2819520"/>
            <a:ext cx="875520" cy="3353760"/>
            <a:chOff x="4947120" y="2819520"/>
            <a:chExt cx="875520" cy="3353760"/>
          </a:xfrm>
        </p:grpSpPr>
        <p:sp>
          <p:nvSpPr>
            <p:cNvPr id="822" name=""/>
            <p:cNvSpPr/>
            <p:nvPr/>
          </p:nvSpPr>
          <p:spPr>
            <a:xfrm>
              <a:off x="5410080" y="2819520"/>
              <a:ext cx="0" cy="25905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47120" y="5715000"/>
              <a:ext cx="875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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5486400" y="4156200"/>
            <a:ext cx="914400" cy="1659240"/>
            <a:chOff x="5486400" y="4156200"/>
            <a:chExt cx="914400" cy="1659240"/>
          </a:xfrm>
        </p:grpSpPr>
        <p:sp>
          <p:nvSpPr>
            <p:cNvPr id="825" name=""/>
            <p:cNvSpPr/>
            <p:nvPr/>
          </p:nvSpPr>
          <p:spPr>
            <a:xfrm>
              <a:off x="5867280" y="4156200"/>
              <a:ext cx="0" cy="12412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86400" y="5464080"/>
              <a:ext cx="9144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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209680" y="1523880"/>
            <a:ext cx="4648320" cy="3904200"/>
            <a:chOff x="2209680" y="1523880"/>
            <a:chExt cx="4648320" cy="3904200"/>
          </a:xfrm>
        </p:grpSpPr>
        <p:grpSp>
          <p:nvGrpSpPr>
            <p:cNvPr id="828" name=""/>
            <p:cNvGrpSpPr/>
            <p:nvPr/>
          </p:nvGrpSpPr>
          <p:grpSpPr>
            <a:xfrm>
              <a:off x="2501640" y="1523880"/>
              <a:ext cx="4137840" cy="3904200"/>
              <a:chOff x="2501640" y="1523880"/>
              <a:chExt cx="4137840" cy="3904200"/>
            </a:xfrm>
          </p:grpSpPr>
          <p:sp>
            <p:nvSpPr>
              <p:cNvPr id="829" name=""/>
              <p:cNvSpPr/>
              <p:nvPr/>
            </p:nvSpPr>
            <p:spPr>
              <a:xfrm>
                <a:off x="2958840" y="1523880"/>
                <a:ext cx="3223800" cy="3756600"/>
              </a:xfrm>
              <a:custGeom>
                <a:avLst/>
                <a:gdLst/>
                <a:ahLst/>
                <a:rect l="l" t="t" r="r" b="b"/>
                <a:pathLst>
                  <a:path w="2064" h="2784">
                    <a:moveTo>
                      <a:pt x="0" y="2784"/>
                    </a:moveTo>
                    <a:cubicBezTo>
                      <a:pt x="380" y="1392"/>
                      <a:pt x="760" y="0"/>
                      <a:pt x="1104" y="0"/>
                    </a:cubicBezTo>
                    <a:cubicBezTo>
                      <a:pt x="1448" y="0"/>
                      <a:pt x="1904" y="2320"/>
                      <a:pt x="2064" y="2784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85600">
                <a:off x="2508840" y="5215320"/>
                <a:ext cx="449640" cy="1940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cubicBezTo>
                      <a:pt x="76" y="132"/>
                      <a:pt x="152" y="120"/>
                      <a:pt x="192" y="96"/>
                    </a:cubicBezTo>
                    <a:cubicBezTo>
                      <a:pt x="232" y="72"/>
                      <a:pt x="232" y="16"/>
                      <a:pt x="240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rot="21314400">
                <a:off x="6182280" y="5215680"/>
                <a:ext cx="449640" cy="19404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cubicBezTo>
                      <a:pt x="76" y="132"/>
                      <a:pt x="152" y="120"/>
                      <a:pt x="192" y="96"/>
                    </a:cubicBezTo>
                    <a:cubicBezTo>
                      <a:pt x="232" y="72"/>
                      <a:pt x="232" y="16"/>
                      <a:pt x="240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2209680" y="5410080"/>
              <a:ext cx="4648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1676520" y="152280"/>
            <a:ext cx="5943600" cy="2668680"/>
            <a:chOff x="1676520" y="152280"/>
            <a:chExt cx="5943600" cy="2668680"/>
          </a:xfrm>
        </p:grpSpPr>
        <p:grpSp>
          <p:nvGrpSpPr>
            <p:cNvPr id="834" name=""/>
            <p:cNvGrpSpPr/>
            <p:nvPr/>
          </p:nvGrpSpPr>
          <p:grpSpPr>
            <a:xfrm>
              <a:off x="1676520" y="152280"/>
              <a:ext cx="5943600" cy="1294920"/>
              <a:chOff x="1676520" y="152280"/>
              <a:chExt cx="5943600" cy="1294920"/>
            </a:xfrm>
          </p:grpSpPr>
          <p:sp>
            <p:nvSpPr>
              <p:cNvPr id="835" name=""/>
              <p:cNvSpPr/>
              <p:nvPr/>
            </p:nvSpPr>
            <p:spPr>
              <a:xfrm>
                <a:off x="1676520" y="152280"/>
                <a:ext cx="5943600" cy="129492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8100000"/>
              </a:gradFill>
              <a:ln w="93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699200" y="159480"/>
                <a:ext cx="5897880" cy="1280520"/>
              </a:xfrm>
              <a:custGeom>
                <a:avLst/>
                <a:gdLst/>
                <a:ahLst/>
                <a:rect l="l" t="t" r="r" b="b"/>
                <a:pathLst>
                  <a:path w="4144" h="712">
                    <a:moveTo>
                      <a:pt x="37" y="493"/>
                    </a:moveTo>
                    <a:lnTo>
                      <a:pt x="111" y="473"/>
                    </a:lnTo>
                    <a:lnTo>
                      <a:pt x="184" y="454"/>
                    </a:lnTo>
                    <a:lnTo>
                      <a:pt x="258" y="426"/>
                    </a:lnTo>
                    <a:lnTo>
                      <a:pt x="327" y="403"/>
                    </a:lnTo>
                    <a:lnTo>
                      <a:pt x="397" y="379"/>
                    </a:lnTo>
                    <a:lnTo>
                      <a:pt x="470" y="356"/>
                    </a:lnTo>
                    <a:lnTo>
                      <a:pt x="544" y="333"/>
                    </a:lnTo>
                    <a:lnTo>
                      <a:pt x="621" y="309"/>
                    </a:lnTo>
                    <a:lnTo>
                      <a:pt x="621" y="309"/>
                    </a:lnTo>
                    <a:lnTo>
                      <a:pt x="626" y="309"/>
                    </a:lnTo>
                    <a:lnTo>
                      <a:pt x="626" y="305"/>
                    </a:lnTo>
                    <a:lnTo>
                      <a:pt x="626" y="305"/>
                    </a:lnTo>
                    <a:lnTo>
                      <a:pt x="626" y="305"/>
                    </a:lnTo>
                    <a:lnTo>
                      <a:pt x="626" y="305"/>
                    </a:lnTo>
                    <a:lnTo>
                      <a:pt x="630" y="305"/>
                    </a:lnTo>
                    <a:lnTo>
                      <a:pt x="630" y="305"/>
                    </a:lnTo>
                    <a:lnTo>
                      <a:pt x="634" y="305"/>
                    </a:lnTo>
                    <a:lnTo>
                      <a:pt x="634" y="305"/>
                    </a:lnTo>
                    <a:lnTo>
                      <a:pt x="638" y="305"/>
                    </a:lnTo>
                    <a:lnTo>
                      <a:pt x="642" y="305"/>
                    </a:lnTo>
                    <a:lnTo>
                      <a:pt x="646" y="305"/>
                    </a:lnTo>
                    <a:lnTo>
                      <a:pt x="646" y="305"/>
                    </a:lnTo>
                    <a:lnTo>
                      <a:pt x="724" y="289"/>
                    </a:lnTo>
                    <a:lnTo>
                      <a:pt x="801" y="270"/>
                    </a:lnTo>
                    <a:lnTo>
                      <a:pt x="879" y="250"/>
                    </a:lnTo>
                    <a:lnTo>
                      <a:pt x="956" y="235"/>
                    </a:lnTo>
                    <a:lnTo>
                      <a:pt x="1034" y="215"/>
                    </a:lnTo>
                    <a:lnTo>
                      <a:pt x="1116" y="199"/>
                    </a:lnTo>
                    <a:lnTo>
                      <a:pt x="1189" y="184"/>
                    </a:lnTo>
                    <a:lnTo>
                      <a:pt x="1267" y="172"/>
                    </a:lnTo>
                    <a:lnTo>
                      <a:pt x="1353" y="156"/>
                    </a:lnTo>
                    <a:lnTo>
                      <a:pt x="1439" y="145"/>
                    </a:lnTo>
                    <a:lnTo>
                      <a:pt x="1520" y="133"/>
                    </a:lnTo>
                    <a:lnTo>
                      <a:pt x="1602" y="125"/>
                    </a:lnTo>
                    <a:lnTo>
                      <a:pt x="1684" y="113"/>
                    </a:lnTo>
                    <a:lnTo>
                      <a:pt x="1770" y="106"/>
                    </a:lnTo>
                    <a:lnTo>
                      <a:pt x="1851" y="98"/>
                    </a:lnTo>
                    <a:lnTo>
                      <a:pt x="1937" y="90"/>
                    </a:lnTo>
                    <a:lnTo>
                      <a:pt x="1966" y="90"/>
                    </a:lnTo>
                    <a:lnTo>
                      <a:pt x="1990" y="90"/>
                    </a:lnTo>
                    <a:lnTo>
                      <a:pt x="2015" y="86"/>
                    </a:lnTo>
                    <a:lnTo>
                      <a:pt x="2039" y="86"/>
                    </a:lnTo>
                    <a:lnTo>
                      <a:pt x="2064" y="82"/>
                    </a:lnTo>
                    <a:lnTo>
                      <a:pt x="2084" y="82"/>
                    </a:lnTo>
                    <a:lnTo>
                      <a:pt x="2109" y="82"/>
                    </a:lnTo>
                    <a:lnTo>
                      <a:pt x="2137" y="78"/>
                    </a:lnTo>
                    <a:lnTo>
                      <a:pt x="2080" y="94"/>
                    </a:lnTo>
                    <a:lnTo>
                      <a:pt x="2019" y="106"/>
                    </a:lnTo>
                    <a:lnTo>
                      <a:pt x="1954" y="121"/>
                    </a:lnTo>
                    <a:lnTo>
                      <a:pt x="1892" y="133"/>
                    </a:lnTo>
                    <a:lnTo>
                      <a:pt x="1827" y="145"/>
                    </a:lnTo>
                    <a:lnTo>
                      <a:pt x="1761" y="160"/>
                    </a:lnTo>
                    <a:lnTo>
                      <a:pt x="1700" y="176"/>
                    </a:lnTo>
                    <a:lnTo>
                      <a:pt x="1639" y="192"/>
                    </a:lnTo>
                    <a:lnTo>
                      <a:pt x="1557" y="203"/>
                    </a:lnTo>
                    <a:lnTo>
                      <a:pt x="1475" y="223"/>
                    </a:lnTo>
                    <a:lnTo>
                      <a:pt x="1398" y="243"/>
                    </a:lnTo>
                    <a:lnTo>
                      <a:pt x="1324" y="266"/>
                    </a:lnTo>
                    <a:lnTo>
                      <a:pt x="1251" y="293"/>
                    </a:lnTo>
                    <a:lnTo>
                      <a:pt x="1181" y="321"/>
                    </a:lnTo>
                    <a:lnTo>
                      <a:pt x="1112" y="348"/>
                    </a:lnTo>
                    <a:lnTo>
                      <a:pt x="1046" y="372"/>
                    </a:lnTo>
                    <a:lnTo>
                      <a:pt x="1042" y="376"/>
                    </a:lnTo>
                    <a:lnTo>
                      <a:pt x="1042" y="376"/>
                    </a:lnTo>
                    <a:lnTo>
                      <a:pt x="1038" y="376"/>
                    </a:lnTo>
                    <a:lnTo>
                      <a:pt x="1038" y="379"/>
                    </a:lnTo>
                    <a:lnTo>
                      <a:pt x="1034" y="379"/>
                    </a:lnTo>
                    <a:lnTo>
                      <a:pt x="1034" y="379"/>
                    </a:lnTo>
                    <a:lnTo>
                      <a:pt x="1030" y="379"/>
                    </a:lnTo>
                    <a:lnTo>
                      <a:pt x="1030" y="383"/>
                    </a:lnTo>
                    <a:lnTo>
                      <a:pt x="1030" y="466"/>
                    </a:lnTo>
                    <a:lnTo>
                      <a:pt x="1030" y="469"/>
                    </a:lnTo>
                    <a:lnTo>
                      <a:pt x="1034" y="469"/>
                    </a:lnTo>
                    <a:lnTo>
                      <a:pt x="1034" y="473"/>
                    </a:lnTo>
                    <a:lnTo>
                      <a:pt x="1038" y="477"/>
                    </a:lnTo>
                    <a:lnTo>
                      <a:pt x="1042" y="477"/>
                    </a:lnTo>
                    <a:lnTo>
                      <a:pt x="1046" y="481"/>
                    </a:lnTo>
                    <a:lnTo>
                      <a:pt x="1050" y="481"/>
                    </a:lnTo>
                    <a:lnTo>
                      <a:pt x="1055" y="485"/>
                    </a:lnTo>
                    <a:lnTo>
                      <a:pt x="1275" y="450"/>
                    </a:lnTo>
                    <a:lnTo>
                      <a:pt x="1275" y="454"/>
                    </a:lnTo>
                    <a:lnTo>
                      <a:pt x="1275" y="458"/>
                    </a:lnTo>
                    <a:lnTo>
                      <a:pt x="1271" y="462"/>
                    </a:lnTo>
                    <a:lnTo>
                      <a:pt x="1267" y="462"/>
                    </a:lnTo>
                    <a:lnTo>
                      <a:pt x="1263" y="466"/>
                    </a:lnTo>
                    <a:lnTo>
                      <a:pt x="1255" y="466"/>
                    </a:lnTo>
                    <a:lnTo>
                      <a:pt x="1251" y="469"/>
                    </a:lnTo>
                    <a:lnTo>
                      <a:pt x="1247" y="469"/>
                    </a:lnTo>
                    <a:lnTo>
                      <a:pt x="1247" y="469"/>
                    </a:lnTo>
                    <a:lnTo>
                      <a:pt x="1247" y="469"/>
                    </a:lnTo>
                    <a:lnTo>
                      <a:pt x="1243" y="469"/>
                    </a:lnTo>
                    <a:lnTo>
                      <a:pt x="1243" y="473"/>
                    </a:lnTo>
                    <a:lnTo>
                      <a:pt x="1238" y="473"/>
                    </a:lnTo>
                    <a:lnTo>
                      <a:pt x="1238" y="473"/>
                    </a:lnTo>
                    <a:lnTo>
                      <a:pt x="1234" y="473"/>
                    </a:lnTo>
                    <a:lnTo>
                      <a:pt x="1230" y="473"/>
                    </a:lnTo>
                    <a:lnTo>
                      <a:pt x="1230" y="481"/>
                    </a:lnTo>
                    <a:lnTo>
                      <a:pt x="1226" y="485"/>
                    </a:lnTo>
                    <a:lnTo>
                      <a:pt x="1226" y="489"/>
                    </a:lnTo>
                    <a:lnTo>
                      <a:pt x="1226" y="493"/>
                    </a:lnTo>
                    <a:lnTo>
                      <a:pt x="1226" y="501"/>
                    </a:lnTo>
                    <a:lnTo>
                      <a:pt x="1222" y="505"/>
                    </a:lnTo>
                    <a:lnTo>
                      <a:pt x="1222" y="513"/>
                    </a:lnTo>
                    <a:lnTo>
                      <a:pt x="1218" y="516"/>
                    </a:lnTo>
                    <a:lnTo>
                      <a:pt x="1218" y="524"/>
                    </a:lnTo>
                    <a:lnTo>
                      <a:pt x="1222" y="532"/>
                    </a:lnTo>
                    <a:lnTo>
                      <a:pt x="1222" y="536"/>
                    </a:lnTo>
                    <a:lnTo>
                      <a:pt x="1222" y="544"/>
                    </a:lnTo>
                    <a:lnTo>
                      <a:pt x="1222" y="552"/>
                    </a:lnTo>
                    <a:lnTo>
                      <a:pt x="1226" y="556"/>
                    </a:lnTo>
                    <a:lnTo>
                      <a:pt x="1230" y="563"/>
                    </a:lnTo>
                    <a:lnTo>
                      <a:pt x="1234" y="571"/>
                    </a:lnTo>
                    <a:lnTo>
                      <a:pt x="1234" y="571"/>
                    </a:lnTo>
                    <a:lnTo>
                      <a:pt x="1238" y="571"/>
                    </a:lnTo>
                    <a:lnTo>
                      <a:pt x="1238" y="571"/>
                    </a:lnTo>
                    <a:lnTo>
                      <a:pt x="1238" y="571"/>
                    </a:lnTo>
                    <a:lnTo>
                      <a:pt x="1243" y="571"/>
                    </a:lnTo>
                    <a:lnTo>
                      <a:pt x="1243" y="571"/>
                    </a:lnTo>
                    <a:lnTo>
                      <a:pt x="1243" y="575"/>
                    </a:lnTo>
                    <a:lnTo>
                      <a:pt x="1247" y="575"/>
                    </a:lnTo>
                    <a:lnTo>
                      <a:pt x="1459" y="540"/>
                    </a:lnTo>
                    <a:lnTo>
                      <a:pt x="1459" y="540"/>
                    </a:lnTo>
                    <a:lnTo>
                      <a:pt x="1459" y="540"/>
                    </a:lnTo>
                    <a:lnTo>
                      <a:pt x="1463" y="540"/>
                    </a:lnTo>
                    <a:lnTo>
                      <a:pt x="1463" y="540"/>
                    </a:lnTo>
                    <a:lnTo>
                      <a:pt x="1463" y="540"/>
                    </a:lnTo>
                    <a:lnTo>
                      <a:pt x="1467" y="540"/>
                    </a:lnTo>
                    <a:lnTo>
                      <a:pt x="1467" y="544"/>
                    </a:lnTo>
                    <a:lnTo>
                      <a:pt x="1467" y="544"/>
                    </a:lnTo>
                    <a:lnTo>
                      <a:pt x="1447" y="556"/>
                    </a:lnTo>
                    <a:lnTo>
                      <a:pt x="1422" y="567"/>
                    </a:lnTo>
                    <a:lnTo>
                      <a:pt x="1398" y="575"/>
                    </a:lnTo>
                    <a:lnTo>
                      <a:pt x="1373" y="587"/>
                    </a:lnTo>
                    <a:lnTo>
                      <a:pt x="1349" y="595"/>
                    </a:lnTo>
                    <a:lnTo>
                      <a:pt x="1324" y="606"/>
                    </a:lnTo>
                    <a:lnTo>
                      <a:pt x="1308" y="622"/>
                    </a:lnTo>
                    <a:lnTo>
                      <a:pt x="1296" y="638"/>
                    </a:lnTo>
                    <a:lnTo>
                      <a:pt x="1296" y="649"/>
                    </a:lnTo>
                    <a:lnTo>
                      <a:pt x="1296" y="661"/>
                    </a:lnTo>
                    <a:lnTo>
                      <a:pt x="1296" y="669"/>
                    </a:lnTo>
                    <a:lnTo>
                      <a:pt x="1296" y="681"/>
                    </a:lnTo>
                    <a:lnTo>
                      <a:pt x="1300" y="689"/>
                    </a:lnTo>
                    <a:lnTo>
                      <a:pt x="1304" y="696"/>
                    </a:lnTo>
                    <a:lnTo>
                      <a:pt x="1312" y="704"/>
                    </a:lnTo>
                    <a:lnTo>
                      <a:pt x="1324" y="712"/>
                    </a:lnTo>
                    <a:lnTo>
                      <a:pt x="1410" y="712"/>
                    </a:lnTo>
                    <a:lnTo>
                      <a:pt x="1500" y="708"/>
                    </a:lnTo>
                    <a:lnTo>
                      <a:pt x="1582" y="704"/>
                    </a:lnTo>
                    <a:lnTo>
                      <a:pt x="1667" y="693"/>
                    </a:lnTo>
                    <a:lnTo>
                      <a:pt x="1749" y="685"/>
                    </a:lnTo>
                    <a:lnTo>
                      <a:pt x="1831" y="673"/>
                    </a:lnTo>
                    <a:lnTo>
                      <a:pt x="1917" y="665"/>
                    </a:lnTo>
                    <a:lnTo>
                      <a:pt x="2003" y="661"/>
                    </a:lnTo>
                    <a:lnTo>
                      <a:pt x="2084" y="653"/>
                    </a:lnTo>
                    <a:lnTo>
                      <a:pt x="2170" y="642"/>
                    </a:lnTo>
                    <a:lnTo>
                      <a:pt x="2252" y="634"/>
                    </a:lnTo>
                    <a:lnTo>
                      <a:pt x="2338" y="622"/>
                    </a:lnTo>
                    <a:lnTo>
                      <a:pt x="2419" y="614"/>
                    </a:lnTo>
                    <a:lnTo>
                      <a:pt x="2505" y="603"/>
                    </a:lnTo>
                    <a:lnTo>
                      <a:pt x="2587" y="595"/>
                    </a:lnTo>
                    <a:lnTo>
                      <a:pt x="2669" y="583"/>
                    </a:lnTo>
                    <a:lnTo>
                      <a:pt x="2754" y="575"/>
                    </a:lnTo>
                    <a:lnTo>
                      <a:pt x="2840" y="567"/>
                    </a:lnTo>
                    <a:lnTo>
                      <a:pt x="2926" y="556"/>
                    </a:lnTo>
                    <a:lnTo>
                      <a:pt x="3008" y="548"/>
                    </a:lnTo>
                    <a:lnTo>
                      <a:pt x="3094" y="540"/>
                    </a:lnTo>
                    <a:lnTo>
                      <a:pt x="3175" y="532"/>
                    </a:lnTo>
                    <a:lnTo>
                      <a:pt x="3261" y="524"/>
                    </a:lnTo>
                    <a:lnTo>
                      <a:pt x="3347" y="516"/>
                    </a:lnTo>
                    <a:lnTo>
                      <a:pt x="3433" y="509"/>
                    </a:lnTo>
                    <a:lnTo>
                      <a:pt x="3514" y="501"/>
                    </a:lnTo>
                    <a:lnTo>
                      <a:pt x="3600" y="493"/>
                    </a:lnTo>
                    <a:lnTo>
                      <a:pt x="3682" y="485"/>
                    </a:lnTo>
                    <a:lnTo>
                      <a:pt x="3768" y="477"/>
                    </a:lnTo>
                    <a:lnTo>
                      <a:pt x="3849" y="469"/>
                    </a:lnTo>
                    <a:lnTo>
                      <a:pt x="3931" y="454"/>
                    </a:lnTo>
                    <a:lnTo>
                      <a:pt x="4017" y="434"/>
                    </a:lnTo>
                    <a:lnTo>
                      <a:pt x="4021" y="434"/>
                    </a:lnTo>
                    <a:lnTo>
                      <a:pt x="4025" y="434"/>
                    </a:lnTo>
                    <a:lnTo>
                      <a:pt x="4025" y="434"/>
                    </a:lnTo>
                    <a:lnTo>
                      <a:pt x="4029" y="434"/>
                    </a:lnTo>
                    <a:lnTo>
                      <a:pt x="4029" y="430"/>
                    </a:lnTo>
                    <a:lnTo>
                      <a:pt x="4033" y="430"/>
                    </a:lnTo>
                    <a:lnTo>
                      <a:pt x="4033" y="430"/>
                    </a:lnTo>
                    <a:lnTo>
                      <a:pt x="4033" y="430"/>
                    </a:lnTo>
                    <a:lnTo>
                      <a:pt x="3964" y="387"/>
                    </a:lnTo>
                    <a:lnTo>
                      <a:pt x="3960" y="383"/>
                    </a:lnTo>
                    <a:lnTo>
                      <a:pt x="3956" y="383"/>
                    </a:lnTo>
                    <a:lnTo>
                      <a:pt x="3952" y="383"/>
                    </a:lnTo>
                    <a:lnTo>
                      <a:pt x="3952" y="383"/>
                    </a:lnTo>
                    <a:lnTo>
                      <a:pt x="3948" y="383"/>
                    </a:lnTo>
                    <a:lnTo>
                      <a:pt x="3948" y="379"/>
                    </a:lnTo>
                    <a:lnTo>
                      <a:pt x="3943" y="379"/>
                    </a:lnTo>
                    <a:lnTo>
                      <a:pt x="3943" y="376"/>
                    </a:lnTo>
                    <a:lnTo>
                      <a:pt x="4050" y="368"/>
                    </a:lnTo>
                    <a:lnTo>
                      <a:pt x="4144" y="348"/>
                    </a:lnTo>
                    <a:lnTo>
                      <a:pt x="4074" y="356"/>
                    </a:lnTo>
                    <a:lnTo>
                      <a:pt x="4005" y="364"/>
                    </a:lnTo>
                    <a:lnTo>
                      <a:pt x="3935" y="372"/>
                    </a:lnTo>
                    <a:lnTo>
                      <a:pt x="3866" y="376"/>
                    </a:lnTo>
                    <a:lnTo>
                      <a:pt x="3792" y="379"/>
                    </a:lnTo>
                    <a:lnTo>
                      <a:pt x="3723" y="383"/>
                    </a:lnTo>
                    <a:lnTo>
                      <a:pt x="3649" y="387"/>
                    </a:lnTo>
                    <a:lnTo>
                      <a:pt x="3580" y="395"/>
                    </a:lnTo>
                    <a:lnTo>
                      <a:pt x="3490" y="399"/>
                    </a:lnTo>
                    <a:lnTo>
                      <a:pt x="3404" y="407"/>
                    </a:lnTo>
                    <a:lnTo>
                      <a:pt x="3318" y="415"/>
                    </a:lnTo>
                    <a:lnTo>
                      <a:pt x="3232" y="419"/>
                    </a:lnTo>
                    <a:lnTo>
                      <a:pt x="3147" y="426"/>
                    </a:lnTo>
                    <a:lnTo>
                      <a:pt x="3061" y="434"/>
                    </a:lnTo>
                    <a:lnTo>
                      <a:pt x="2975" y="442"/>
                    </a:lnTo>
                    <a:lnTo>
                      <a:pt x="2889" y="450"/>
                    </a:lnTo>
                    <a:lnTo>
                      <a:pt x="2807" y="458"/>
                    </a:lnTo>
                    <a:lnTo>
                      <a:pt x="2722" y="466"/>
                    </a:lnTo>
                    <a:lnTo>
                      <a:pt x="2636" y="473"/>
                    </a:lnTo>
                    <a:lnTo>
                      <a:pt x="2554" y="485"/>
                    </a:lnTo>
                    <a:lnTo>
                      <a:pt x="2472" y="493"/>
                    </a:lnTo>
                    <a:lnTo>
                      <a:pt x="2387" y="505"/>
                    </a:lnTo>
                    <a:lnTo>
                      <a:pt x="2305" y="513"/>
                    </a:lnTo>
                    <a:lnTo>
                      <a:pt x="2223" y="524"/>
                    </a:lnTo>
                    <a:lnTo>
                      <a:pt x="2186" y="528"/>
                    </a:lnTo>
                    <a:lnTo>
                      <a:pt x="2154" y="532"/>
                    </a:lnTo>
                    <a:lnTo>
                      <a:pt x="2121" y="536"/>
                    </a:lnTo>
                    <a:lnTo>
                      <a:pt x="2088" y="540"/>
                    </a:lnTo>
                    <a:lnTo>
                      <a:pt x="2052" y="544"/>
                    </a:lnTo>
                    <a:lnTo>
                      <a:pt x="2019" y="548"/>
                    </a:lnTo>
                    <a:lnTo>
                      <a:pt x="1986" y="552"/>
                    </a:lnTo>
                    <a:lnTo>
                      <a:pt x="1949" y="556"/>
                    </a:lnTo>
                    <a:lnTo>
                      <a:pt x="1921" y="559"/>
                    </a:lnTo>
                    <a:lnTo>
                      <a:pt x="1888" y="563"/>
                    </a:lnTo>
                    <a:lnTo>
                      <a:pt x="1860" y="567"/>
                    </a:lnTo>
                    <a:lnTo>
                      <a:pt x="1827" y="571"/>
                    </a:lnTo>
                    <a:lnTo>
                      <a:pt x="1798" y="575"/>
                    </a:lnTo>
                    <a:lnTo>
                      <a:pt x="1770" y="579"/>
                    </a:lnTo>
                    <a:lnTo>
                      <a:pt x="1741" y="579"/>
                    </a:lnTo>
                    <a:lnTo>
                      <a:pt x="1712" y="579"/>
                    </a:lnTo>
                    <a:lnTo>
                      <a:pt x="1712" y="579"/>
                    </a:lnTo>
                    <a:lnTo>
                      <a:pt x="1712" y="579"/>
                    </a:lnTo>
                    <a:lnTo>
                      <a:pt x="1708" y="575"/>
                    </a:lnTo>
                    <a:lnTo>
                      <a:pt x="1708" y="575"/>
                    </a:lnTo>
                    <a:lnTo>
                      <a:pt x="1708" y="575"/>
                    </a:lnTo>
                    <a:lnTo>
                      <a:pt x="1708" y="575"/>
                    </a:lnTo>
                    <a:lnTo>
                      <a:pt x="1708" y="575"/>
                    </a:lnTo>
                    <a:lnTo>
                      <a:pt x="1712" y="575"/>
                    </a:lnTo>
                    <a:lnTo>
                      <a:pt x="1745" y="563"/>
                    </a:lnTo>
                    <a:lnTo>
                      <a:pt x="1778" y="556"/>
                    </a:lnTo>
                    <a:lnTo>
                      <a:pt x="1810" y="544"/>
                    </a:lnTo>
                    <a:lnTo>
                      <a:pt x="1847" y="536"/>
                    </a:lnTo>
                    <a:lnTo>
                      <a:pt x="1880" y="524"/>
                    </a:lnTo>
                    <a:lnTo>
                      <a:pt x="1921" y="516"/>
                    </a:lnTo>
                    <a:lnTo>
                      <a:pt x="1958" y="505"/>
                    </a:lnTo>
                    <a:lnTo>
                      <a:pt x="1998" y="497"/>
                    </a:lnTo>
                    <a:lnTo>
                      <a:pt x="2084" y="481"/>
                    </a:lnTo>
                    <a:lnTo>
                      <a:pt x="2166" y="466"/>
                    </a:lnTo>
                    <a:lnTo>
                      <a:pt x="2248" y="454"/>
                    </a:lnTo>
                    <a:lnTo>
                      <a:pt x="2325" y="438"/>
                    </a:lnTo>
                    <a:lnTo>
                      <a:pt x="2407" y="430"/>
                    </a:lnTo>
                    <a:lnTo>
                      <a:pt x="2489" y="419"/>
                    </a:lnTo>
                    <a:lnTo>
                      <a:pt x="2575" y="415"/>
                    </a:lnTo>
                    <a:lnTo>
                      <a:pt x="2664" y="411"/>
                    </a:lnTo>
                    <a:lnTo>
                      <a:pt x="2673" y="415"/>
                    </a:lnTo>
                    <a:lnTo>
                      <a:pt x="2677" y="415"/>
                    </a:lnTo>
                    <a:lnTo>
                      <a:pt x="2681" y="415"/>
                    </a:lnTo>
                    <a:lnTo>
                      <a:pt x="2689" y="415"/>
                    </a:lnTo>
                    <a:lnTo>
                      <a:pt x="2693" y="415"/>
                    </a:lnTo>
                    <a:lnTo>
                      <a:pt x="2697" y="411"/>
                    </a:lnTo>
                    <a:lnTo>
                      <a:pt x="2701" y="411"/>
                    </a:lnTo>
                    <a:lnTo>
                      <a:pt x="2709" y="407"/>
                    </a:lnTo>
                    <a:lnTo>
                      <a:pt x="2718" y="395"/>
                    </a:lnTo>
                    <a:lnTo>
                      <a:pt x="2726" y="383"/>
                    </a:lnTo>
                    <a:lnTo>
                      <a:pt x="2734" y="372"/>
                    </a:lnTo>
                    <a:lnTo>
                      <a:pt x="2742" y="356"/>
                    </a:lnTo>
                    <a:lnTo>
                      <a:pt x="2746" y="340"/>
                    </a:lnTo>
                    <a:lnTo>
                      <a:pt x="2750" y="329"/>
                    </a:lnTo>
                    <a:lnTo>
                      <a:pt x="2750" y="313"/>
                    </a:lnTo>
                    <a:lnTo>
                      <a:pt x="2746" y="301"/>
                    </a:lnTo>
                    <a:lnTo>
                      <a:pt x="2742" y="301"/>
                    </a:lnTo>
                    <a:lnTo>
                      <a:pt x="2742" y="297"/>
                    </a:lnTo>
                    <a:lnTo>
                      <a:pt x="2742" y="297"/>
                    </a:lnTo>
                    <a:lnTo>
                      <a:pt x="2738" y="297"/>
                    </a:lnTo>
                    <a:lnTo>
                      <a:pt x="2738" y="297"/>
                    </a:lnTo>
                    <a:lnTo>
                      <a:pt x="2738" y="293"/>
                    </a:lnTo>
                    <a:lnTo>
                      <a:pt x="2738" y="293"/>
                    </a:lnTo>
                    <a:lnTo>
                      <a:pt x="2738" y="293"/>
                    </a:lnTo>
                    <a:lnTo>
                      <a:pt x="2256" y="336"/>
                    </a:lnTo>
                    <a:lnTo>
                      <a:pt x="2268" y="243"/>
                    </a:lnTo>
                    <a:lnTo>
                      <a:pt x="2190" y="250"/>
                    </a:lnTo>
                    <a:lnTo>
                      <a:pt x="2105" y="258"/>
                    </a:lnTo>
                    <a:lnTo>
                      <a:pt x="2023" y="266"/>
                    </a:lnTo>
                    <a:lnTo>
                      <a:pt x="1941" y="278"/>
                    </a:lnTo>
                    <a:lnTo>
                      <a:pt x="1855" y="286"/>
                    </a:lnTo>
                    <a:lnTo>
                      <a:pt x="1770" y="293"/>
                    </a:lnTo>
                    <a:lnTo>
                      <a:pt x="1688" y="305"/>
                    </a:lnTo>
                    <a:lnTo>
                      <a:pt x="1602" y="309"/>
                    </a:lnTo>
                    <a:lnTo>
                      <a:pt x="1590" y="313"/>
                    </a:lnTo>
                    <a:lnTo>
                      <a:pt x="1582" y="313"/>
                    </a:lnTo>
                    <a:lnTo>
                      <a:pt x="1569" y="313"/>
                    </a:lnTo>
                    <a:lnTo>
                      <a:pt x="1561" y="317"/>
                    </a:lnTo>
                    <a:lnTo>
                      <a:pt x="1549" y="317"/>
                    </a:lnTo>
                    <a:lnTo>
                      <a:pt x="1541" y="317"/>
                    </a:lnTo>
                    <a:lnTo>
                      <a:pt x="1533" y="317"/>
                    </a:lnTo>
                    <a:lnTo>
                      <a:pt x="1520" y="317"/>
                    </a:lnTo>
                    <a:lnTo>
                      <a:pt x="1586" y="293"/>
                    </a:lnTo>
                    <a:lnTo>
                      <a:pt x="1655" y="266"/>
                    </a:lnTo>
                    <a:lnTo>
                      <a:pt x="1729" y="246"/>
                    </a:lnTo>
                    <a:lnTo>
                      <a:pt x="1802" y="223"/>
                    </a:lnTo>
                    <a:lnTo>
                      <a:pt x="1880" y="203"/>
                    </a:lnTo>
                    <a:lnTo>
                      <a:pt x="1958" y="184"/>
                    </a:lnTo>
                    <a:lnTo>
                      <a:pt x="2035" y="164"/>
                    </a:lnTo>
                    <a:lnTo>
                      <a:pt x="2117" y="149"/>
                    </a:lnTo>
                    <a:lnTo>
                      <a:pt x="2162" y="141"/>
                    </a:lnTo>
                    <a:lnTo>
                      <a:pt x="2207" y="129"/>
                    </a:lnTo>
                    <a:lnTo>
                      <a:pt x="2248" y="125"/>
                    </a:lnTo>
                    <a:lnTo>
                      <a:pt x="2293" y="117"/>
                    </a:lnTo>
                    <a:lnTo>
                      <a:pt x="2334" y="109"/>
                    </a:lnTo>
                    <a:lnTo>
                      <a:pt x="2374" y="106"/>
                    </a:lnTo>
                    <a:lnTo>
                      <a:pt x="2415" y="98"/>
                    </a:lnTo>
                    <a:lnTo>
                      <a:pt x="2456" y="90"/>
                    </a:lnTo>
                    <a:lnTo>
                      <a:pt x="2481" y="0"/>
                    </a:lnTo>
                    <a:lnTo>
                      <a:pt x="2436" y="0"/>
                    </a:lnTo>
                    <a:lnTo>
                      <a:pt x="2391" y="0"/>
                    </a:lnTo>
                    <a:lnTo>
                      <a:pt x="2346" y="4"/>
                    </a:lnTo>
                    <a:lnTo>
                      <a:pt x="2301" y="8"/>
                    </a:lnTo>
                    <a:lnTo>
                      <a:pt x="2252" y="12"/>
                    </a:lnTo>
                    <a:lnTo>
                      <a:pt x="2207" y="16"/>
                    </a:lnTo>
                    <a:lnTo>
                      <a:pt x="2162" y="23"/>
                    </a:lnTo>
                    <a:lnTo>
                      <a:pt x="2117" y="27"/>
                    </a:lnTo>
                    <a:lnTo>
                      <a:pt x="2052" y="35"/>
                    </a:lnTo>
                    <a:lnTo>
                      <a:pt x="1986" y="43"/>
                    </a:lnTo>
                    <a:lnTo>
                      <a:pt x="1921" y="47"/>
                    </a:lnTo>
                    <a:lnTo>
                      <a:pt x="1855" y="55"/>
                    </a:lnTo>
                    <a:lnTo>
                      <a:pt x="1790" y="59"/>
                    </a:lnTo>
                    <a:lnTo>
                      <a:pt x="1725" y="63"/>
                    </a:lnTo>
                    <a:lnTo>
                      <a:pt x="1659" y="66"/>
                    </a:lnTo>
                    <a:lnTo>
                      <a:pt x="1598" y="74"/>
                    </a:lnTo>
                    <a:lnTo>
                      <a:pt x="1516" y="86"/>
                    </a:lnTo>
                    <a:lnTo>
                      <a:pt x="1439" y="98"/>
                    </a:lnTo>
                    <a:lnTo>
                      <a:pt x="1357" y="109"/>
                    </a:lnTo>
                    <a:lnTo>
                      <a:pt x="1275" y="125"/>
                    </a:lnTo>
                    <a:lnTo>
                      <a:pt x="1193" y="137"/>
                    </a:lnTo>
                    <a:lnTo>
                      <a:pt x="1112" y="153"/>
                    </a:lnTo>
                    <a:lnTo>
                      <a:pt x="1034" y="168"/>
                    </a:lnTo>
                    <a:lnTo>
                      <a:pt x="952" y="184"/>
                    </a:lnTo>
                    <a:lnTo>
                      <a:pt x="916" y="196"/>
                    </a:lnTo>
                    <a:lnTo>
                      <a:pt x="875" y="203"/>
                    </a:lnTo>
                    <a:lnTo>
                      <a:pt x="838" y="211"/>
                    </a:lnTo>
                    <a:lnTo>
                      <a:pt x="801" y="223"/>
                    </a:lnTo>
                    <a:lnTo>
                      <a:pt x="760" y="231"/>
                    </a:lnTo>
                    <a:lnTo>
                      <a:pt x="724" y="243"/>
                    </a:lnTo>
                    <a:lnTo>
                      <a:pt x="683" y="250"/>
                    </a:lnTo>
                    <a:lnTo>
                      <a:pt x="642" y="262"/>
                    </a:lnTo>
                    <a:lnTo>
                      <a:pt x="564" y="282"/>
                    </a:lnTo>
                    <a:lnTo>
                      <a:pt x="487" y="305"/>
                    </a:lnTo>
                    <a:lnTo>
                      <a:pt x="409" y="329"/>
                    </a:lnTo>
                    <a:lnTo>
                      <a:pt x="335" y="348"/>
                    </a:lnTo>
                    <a:lnTo>
                      <a:pt x="262" y="372"/>
                    </a:lnTo>
                    <a:lnTo>
                      <a:pt x="188" y="395"/>
                    </a:lnTo>
                    <a:lnTo>
                      <a:pt x="119" y="419"/>
                    </a:lnTo>
                    <a:lnTo>
                      <a:pt x="49" y="442"/>
                    </a:lnTo>
                    <a:lnTo>
                      <a:pt x="41" y="446"/>
                    </a:lnTo>
                    <a:lnTo>
                      <a:pt x="33" y="446"/>
                    </a:lnTo>
                    <a:lnTo>
                      <a:pt x="25" y="450"/>
                    </a:lnTo>
                    <a:lnTo>
                      <a:pt x="17" y="450"/>
                    </a:lnTo>
                    <a:lnTo>
                      <a:pt x="13" y="454"/>
                    </a:lnTo>
                    <a:lnTo>
                      <a:pt x="9" y="454"/>
                    </a:lnTo>
                    <a:lnTo>
                      <a:pt x="4" y="458"/>
                    </a:lnTo>
                    <a:lnTo>
                      <a:pt x="0" y="462"/>
                    </a:lnTo>
                    <a:lnTo>
                      <a:pt x="33" y="493"/>
                    </a:lnTo>
                    <a:lnTo>
                      <a:pt x="33" y="493"/>
                    </a:lnTo>
                    <a:lnTo>
                      <a:pt x="37" y="493"/>
                    </a:lnTo>
                    <a:lnTo>
                      <a:pt x="37" y="493"/>
                    </a:lnTo>
                    <a:lnTo>
                      <a:pt x="37" y="4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8100000"/>
              </a:gradFill>
              <a:ln w="936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805040" y="152280"/>
              <a:ext cx="5583240" cy="2668680"/>
              <a:chOff x="1805040" y="152280"/>
              <a:chExt cx="5583240" cy="2668680"/>
            </a:xfrm>
          </p:grpSpPr>
          <p:sp>
            <p:nvSpPr>
              <p:cNvPr id="838" name=""/>
              <p:cNvSpPr/>
              <p:nvPr/>
            </p:nvSpPr>
            <p:spPr>
              <a:xfrm>
                <a:off x="3333240" y="152280"/>
                <a:ext cx="305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ell-Shaped Curv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5040" y="593640"/>
                <a:ext cx="5583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howing the relationship betwee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3733920" y="898560"/>
                <a:ext cx="1667160" cy="1922400"/>
                <a:chOff x="3733920" y="898560"/>
                <a:chExt cx="1667160" cy="192240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3733920" y="898560"/>
                  <a:ext cx="617400" cy="19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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4253040" y="1041480"/>
                  <a:ext cx="843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nd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4952520" y="898560"/>
                  <a:ext cx="4485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33cc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44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7861320" y="5694480"/>
            <a:ext cx="977760" cy="93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0"/>
                            </p:stCondLst>
                            <p:childTnLst>
                              <p:par>
                                <p:cTn id="7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3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rcRect l="5050" t="26945" r="64254" b="36005"/>
          <a:stretch/>
        </p:blipFill>
        <p:spPr>
          <a:xfrm>
            <a:off x="0" y="2590920"/>
            <a:ext cx="6553080" cy="401940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6858000" y="3048120"/>
            <a:ext cx="1905120" cy="3080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98339" dir="77907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well does this data set            fit the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mpirical Ru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00880" y="5881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988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that a wholesale plumbing supply company has a group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0 sales vouc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a particular day.            The amount of these voucher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3"/>
          <a:srcRect l="4929" t="0" r="7427" b="5786"/>
          <a:stretch/>
        </p:blipFill>
        <p:spPr>
          <a:xfrm>
            <a:off x="3886200" y="55440"/>
            <a:ext cx="977760" cy="935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914400" y="3049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880" y="1141560"/>
            <a:ext cx="838224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rst check if the histogram has an approximate mound-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rcRect l="4001" t="22000" r="21002" b="30001"/>
          <a:stretch/>
        </p:blipFill>
        <p:spPr>
          <a:xfrm>
            <a:off x="380880" y="1676520"/>
            <a:ext cx="8229600" cy="365760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228600" y="5410080"/>
            <a:ext cx="8686800" cy="947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 bad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we’ll proce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need to calculate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852720" y="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257480" y="304920"/>
            <a:ext cx="678168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efefe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:  $319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: $101.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1600" y="994320"/>
            <a:ext cx="4211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alculate the interval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59840" y="1752480"/>
            <a:ext cx="2431440" cy="605880"/>
            <a:chOff x="159840" y="1752480"/>
            <a:chExt cx="2431440" cy="605880"/>
          </a:xfrm>
        </p:grpSpPr>
        <p:sp>
          <p:nvSpPr>
            <p:cNvPr id="858" name=""/>
            <p:cNvSpPr/>
            <p:nvPr/>
          </p:nvSpPr>
          <p:spPr>
            <a:xfrm>
              <a:off x="372240" y="1946160"/>
              <a:ext cx="2120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455840" y="1946160"/>
              <a:ext cx="210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476080" y="180936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30280" y="18093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33720" y="1809360"/>
              <a:ext cx="1152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9840" y="180936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754640" y="1752480"/>
              <a:ext cx="26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1880" y="17524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127240" y="180936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38560" y="1809360"/>
              <a:ext cx="276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037160" y="1809360"/>
              <a:ext cx="178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6040" y="1809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2518200" y="19051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(319-101.78,  319+101.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238800" y="1905120"/>
            <a:ext cx="2372400" cy="405720"/>
            <a:chOff x="6238800" y="1905120"/>
            <a:chExt cx="2372400" cy="405720"/>
          </a:xfrm>
        </p:grpSpPr>
        <p:sp>
          <p:nvSpPr>
            <p:cNvPr id="872" name=""/>
            <p:cNvSpPr/>
            <p:nvPr/>
          </p:nvSpPr>
          <p:spPr>
            <a:xfrm>
              <a:off x="7670160" y="1944720"/>
              <a:ext cx="94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20.7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573240" y="194472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217.2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38800" y="190512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5" name="" descr=""/>
          <p:cNvPicPr/>
          <p:nvPr/>
        </p:nvPicPr>
        <p:blipFill>
          <a:blip r:embed="rId1"/>
          <a:srcRect l="3000" t="20670" r="49001" b="32666"/>
          <a:stretch/>
        </p:blipFill>
        <p:spPr>
          <a:xfrm>
            <a:off x="380880" y="3733920"/>
            <a:ext cx="36576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876" name=""/>
          <p:cNvGrpSpPr/>
          <p:nvPr/>
        </p:nvGrpSpPr>
        <p:grpSpPr>
          <a:xfrm>
            <a:off x="34200" y="2438280"/>
            <a:ext cx="2697120" cy="529200"/>
            <a:chOff x="34200" y="2438280"/>
            <a:chExt cx="2697120" cy="529200"/>
          </a:xfrm>
        </p:grpSpPr>
        <p:sp>
          <p:nvSpPr>
            <p:cNvPr id="877" name=""/>
            <p:cNvSpPr/>
            <p:nvPr/>
          </p:nvSpPr>
          <p:spPr>
            <a:xfrm>
              <a:off x="231840" y="2579760"/>
              <a:ext cx="195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58720" y="2579760"/>
              <a:ext cx="195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37360" y="24382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0880" y="24382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28360" y="24796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96240" y="24796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71080" y="247968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54960" y="247968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7360" y="2479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" y="24796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08320" y="24796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2160" y="2479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74600" y="247968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15280" y="2479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2565360" y="251460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19 -(2)101.78, 319 +2(101.7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38280" y="32004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19-(3)101.78, 319 + 3(101.78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51560" y="3124080"/>
            <a:ext cx="2206800" cy="572760"/>
            <a:chOff x="151560" y="3124080"/>
            <a:chExt cx="2206800" cy="572760"/>
          </a:xfrm>
        </p:grpSpPr>
        <p:sp>
          <p:nvSpPr>
            <p:cNvPr id="894" name=""/>
            <p:cNvSpPr/>
            <p:nvPr/>
          </p:nvSpPr>
          <p:spPr>
            <a:xfrm>
              <a:off x="351000" y="3254040"/>
              <a:ext cx="198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4680" y="3274920"/>
              <a:ext cx="196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669320" y="312408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8080" y="31240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21920" y="316836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96480" y="31683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239120" y="31683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9440" y="31683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1560" y="31478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24000" y="31683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428120" y="31683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55520" y="31683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36240" y="31478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009920" y="3216240"/>
            <a:ext cx="1914120" cy="366120"/>
            <a:chOff x="7009920" y="3216240"/>
            <a:chExt cx="1914120" cy="366120"/>
          </a:xfrm>
        </p:grpSpPr>
        <p:sp>
          <p:nvSpPr>
            <p:cNvPr id="908" name=""/>
            <p:cNvSpPr/>
            <p:nvPr/>
          </p:nvSpPr>
          <p:spPr>
            <a:xfrm>
              <a:off x="7983000" y="3216240"/>
              <a:ext cx="94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24.3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140320" y="321624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009920" y="3216240"/>
              <a:ext cx="86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13.66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1" name="" descr=""/>
          <p:cNvPicPr/>
          <p:nvPr/>
        </p:nvPicPr>
        <p:blipFill>
          <a:blip r:embed="rId2"/>
          <a:srcRect l="3000" t="21029" r="47003" b="30001"/>
          <a:stretch/>
        </p:blipFill>
        <p:spPr>
          <a:xfrm>
            <a:off x="380880" y="3678120"/>
            <a:ext cx="3810240" cy="2799000"/>
          </a:xfrm>
          <a:prstGeom prst="rect">
            <a:avLst/>
          </a:prstGeom>
          <a:ln w="0">
            <a:noFill/>
          </a:ln>
        </p:spPr>
      </p:pic>
      <p:sp>
        <p:nvSpPr>
          <p:cNvPr id="912" name=""/>
          <p:cNvSpPr/>
          <p:nvPr/>
        </p:nvSpPr>
        <p:spPr>
          <a:xfrm>
            <a:off x="380880" y="4955400"/>
            <a:ext cx="85345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 Narrow"/>
              </a:rPr>
              <a:t>Interval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  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Empirical Rul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 Narrow"/>
              </a:rPr>
              <a:t>Actual # valu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    </a:t>
            </a:r>
            <a:r>
              <a:rPr b="1" lang="en-US" sz="2400" spc="-1" strike="noStrike" u="sng">
                <a:solidFill>
                  <a:srgbClr val="ff33cc"/>
                </a:solidFill>
                <a:uFillTx/>
                <a:latin typeface="Arial Narrow"/>
              </a:rPr>
              <a:t>Actual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217.22, 420.78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68%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31/5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6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115.44, 522.56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95%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48/5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9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 Narrow"/>
              </a:rPr>
              <a:t>13.66, 624.34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100%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49/5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82400" y="25146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(115.44, 522.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3"/>
          <a:srcRect l="3255" t="20670" r="49001" b="30001"/>
          <a:stretch/>
        </p:blipFill>
        <p:spPr>
          <a:xfrm>
            <a:off x="457200" y="3657600"/>
            <a:ext cx="3352680" cy="2598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4275000" cy="3929040"/>
          </a:xfrm>
          <a:prstGeom prst="rect">
            <a:avLst/>
          </a:prstGeom>
          <a:ln w="0">
            <a:noFill/>
          </a:ln>
        </p:spPr>
      </p:pic>
      <p:sp>
        <p:nvSpPr>
          <p:cNvPr id="916" name=""/>
          <p:cNvSpPr/>
          <p:nvPr/>
        </p:nvSpPr>
        <p:spPr>
          <a:xfrm>
            <a:off x="725400" y="2819520"/>
            <a:ext cx="7845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efficient of skewn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can range from -3.00 up to +3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981440" y="380880"/>
            <a:ext cx="5234760" cy="762120"/>
            <a:chOff x="1981440" y="380880"/>
            <a:chExt cx="5234760" cy="762120"/>
          </a:xfrm>
        </p:grpSpPr>
        <p:grpSp>
          <p:nvGrpSpPr>
            <p:cNvPr id="918" name=""/>
            <p:cNvGrpSpPr/>
            <p:nvPr/>
          </p:nvGrpSpPr>
          <p:grpSpPr>
            <a:xfrm>
              <a:off x="4930560" y="380880"/>
              <a:ext cx="2285640" cy="685800"/>
              <a:chOff x="4930560" y="380880"/>
              <a:chExt cx="2285640" cy="685800"/>
            </a:xfrm>
          </p:grpSpPr>
          <p:grpSp>
            <p:nvGrpSpPr>
              <p:cNvPr id="919" name=""/>
              <p:cNvGrpSpPr/>
              <p:nvPr/>
            </p:nvGrpSpPr>
            <p:grpSpPr>
              <a:xfrm>
                <a:off x="4930560" y="380880"/>
                <a:ext cx="2285640" cy="685800"/>
                <a:chOff x="4930560" y="380880"/>
                <a:chExt cx="2285640" cy="6858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4930560" y="633960"/>
                  <a:ext cx="248040" cy="43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178600" y="455760"/>
                  <a:ext cx="248400" cy="60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675760" y="507600"/>
                  <a:ext cx="24804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427000" y="380880"/>
                  <a:ext cx="248400" cy="6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923800" y="507600"/>
                  <a:ext cx="24840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172200" y="558000"/>
                  <a:ext cx="24840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420960" y="684720"/>
                  <a:ext cx="248040" cy="37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669000" y="902160"/>
                  <a:ext cx="271440" cy="16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944760" y="972720"/>
                  <a:ext cx="271440" cy="9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5692680" y="398520"/>
                <a:ext cx="1342440" cy="644040"/>
                <a:chOff x="5692680" y="398520"/>
                <a:chExt cx="1342440" cy="6440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5727240" y="398520"/>
                  <a:ext cx="0" cy="644040"/>
                </a:xfrm>
                <a:prstGeom prst="line">
                  <a:avLst/>
                </a:prstGeom>
                <a:ln w="76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692680" y="781560"/>
                  <a:ext cx="1342440" cy="0"/>
                </a:xfrm>
                <a:prstGeom prst="line">
                  <a:avLst/>
                </a:prstGeom>
                <a:ln w="5724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2" name=""/>
            <p:cNvGrpSpPr/>
            <p:nvPr/>
          </p:nvGrpSpPr>
          <p:grpSpPr>
            <a:xfrm>
              <a:off x="1981440" y="380880"/>
              <a:ext cx="2263320" cy="685800"/>
              <a:chOff x="1981440" y="380880"/>
              <a:chExt cx="2263320" cy="685800"/>
            </a:xfrm>
          </p:grpSpPr>
          <p:grpSp>
            <p:nvGrpSpPr>
              <p:cNvPr id="933" name=""/>
              <p:cNvGrpSpPr/>
              <p:nvPr/>
            </p:nvGrpSpPr>
            <p:grpSpPr>
              <a:xfrm>
                <a:off x="1981440" y="380880"/>
                <a:ext cx="2263320" cy="685800"/>
                <a:chOff x="1981440" y="380880"/>
                <a:chExt cx="2263320" cy="685800"/>
              </a:xfrm>
            </p:grpSpPr>
            <p:sp>
              <p:nvSpPr>
                <p:cNvPr id="934" name=""/>
                <p:cNvSpPr/>
                <p:nvPr/>
              </p:nvSpPr>
              <p:spPr>
                <a:xfrm flipH="1">
                  <a:off x="3999240" y="633960"/>
                  <a:ext cx="245520" cy="43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3753000" y="455760"/>
                  <a:ext cx="245880" cy="60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3261600" y="507600"/>
                  <a:ext cx="2455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>
                  <a:off x="3506760" y="380880"/>
                  <a:ext cx="245880" cy="6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>
                  <a:off x="3015000" y="507600"/>
                  <a:ext cx="24588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2768760" y="558000"/>
                  <a:ext cx="24588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2523600" y="684720"/>
                  <a:ext cx="245520" cy="37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2253960" y="902160"/>
                  <a:ext cx="268920" cy="16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1981080" y="972720"/>
                  <a:ext cx="268920" cy="9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2644200" y="380880"/>
                <a:ext cx="885960" cy="662040"/>
                <a:chOff x="2644200" y="380880"/>
                <a:chExt cx="885960" cy="6620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507480" y="380880"/>
                  <a:ext cx="0" cy="662040"/>
                </a:xfrm>
                <a:prstGeom prst="line">
                  <a:avLst/>
                </a:prstGeom>
                <a:ln w="76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2644200" y="774720"/>
                  <a:ext cx="885960" cy="0"/>
                </a:xfrm>
                <a:prstGeom prst="line">
                  <a:avLst/>
                </a:prstGeom>
                <a:ln w="5724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6" name=""/>
            <p:cNvSpPr/>
            <p:nvPr/>
          </p:nvSpPr>
          <p:spPr>
            <a:xfrm>
              <a:off x="3306600" y="533520"/>
              <a:ext cx="307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kewnes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2286000" y="11430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asur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ack of symmet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2599920" y="4952880"/>
            <a:ext cx="4158720" cy="914760"/>
            <a:chOff x="2599920" y="4952880"/>
            <a:chExt cx="4158720" cy="914760"/>
          </a:xfrm>
        </p:grpSpPr>
        <p:sp>
          <p:nvSpPr>
            <p:cNvPr id="949" name=""/>
            <p:cNvSpPr/>
            <p:nvPr/>
          </p:nvSpPr>
          <p:spPr>
            <a:xfrm>
              <a:off x="4028400" y="49528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19320" y="49528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599920" y="4983120"/>
              <a:ext cx="4105800" cy="884520"/>
              <a:chOff x="2599920" y="4983120"/>
              <a:chExt cx="4105800" cy="884520"/>
            </a:xfrm>
          </p:grpSpPr>
          <p:sp>
            <p:nvSpPr>
              <p:cNvPr id="952" name=""/>
              <p:cNvSpPr/>
              <p:nvPr/>
            </p:nvSpPr>
            <p:spPr>
              <a:xfrm>
                <a:off x="3781440" y="5410080"/>
                <a:ext cx="29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648320" y="5257800"/>
                <a:ext cx="2750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σ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244040" y="4983120"/>
                <a:ext cx="22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ean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Media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599920" y="5029200"/>
                <a:ext cx="1067400" cy="6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K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808080" y="501336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1346760" y="5257800"/>
            <a:ext cx="6882840" cy="1528200"/>
            <a:chOff x="1346760" y="5257800"/>
            <a:chExt cx="6882840" cy="1528200"/>
          </a:xfrm>
        </p:grpSpPr>
        <p:sp>
          <p:nvSpPr>
            <p:cNvPr id="958" name=""/>
            <p:cNvSpPr/>
            <p:nvPr/>
          </p:nvSpPr>
          <p:spPr>
            <a:xfrm rot="384000">
              <a:off x="1370160" y="5698440"/>
              <a:ext cx="6021360" cy="754200"/>
            </a:xfrm>
            <a:custGeom>
              <a:avLst/>
              <a:gdLst/>
              <a:ahLst/>
              <a:rect l="l" t="t" r="r" b="b"/>
              <a:pathLst>
                <a:path w="2572" h="394">
                  <a:moveTo>
                    <a:pt x="2453" y="63"/>
                  </a:moveTo>
                  <a:lnTo>
                    <a:pt x="2440" y="58"/>
                  </a:lnTo>
                  <a:lnTo>
                    <a:pt x="2414" y="53"/>
                  </a:lnTo>
                  <a:lnTo>
                    <a:pt x="2388" y="48"/>
                  </a:lnTo>
                  <a:lnTo>
                    <a:pt x="2375" y="48"/>
                  </a:lnTo>
                  <a:lnTo>
                    <a:pt x="2348" y="44"/>
                  </a:lnTo>
                  <a:lnTo>
                    <a:pt x="2322" y="44"/>
                  </a:lnTo>
                  <a:lnTo>
                    <a:pt x="2296" y="48"/>
                  </a:lnTo>
                  <a:lnTo>
                    <a:pt x="2270" y="48"/>
                  </a:lnTo>
                  <a:lnTo>
                    <a:pt x="2230" y="53"/>
                  </a:lnTo>
                  <a:lnTo>
                    <a:pt x="2191" y="58"/>
                  </a:lnTo>
                  <a:lnTo>
                    <a:pt x="2165" y="63"/>
                  </a:lnTo>
                  <a:lnTo>
                    <a:pt x="2125" y="68"/>
                  </a:lnTo>
                  <a:lnTo>
                    <a:pt x="2086" y="72"/>
                  </a:lnTo>
                  <a:lnTo>
                    <a:pt x="2060" y="77"/>
                  </a:lnTo>
                  <a:lnTo>
                    <a:pt x="2020" y="87"/>
                  </a:lnTo>
                  <a:lnTo>
                    <a:pt x="1981" y="92"/>
                  </a:lnTo>
                  <a:lnTo>
                    <a:pt x="1955" y="96"/>
                  </a:lnTo>
                  <a:lnTo>
                    <a:pt x="1916" y="106"/>
                  </a:lnTo>
                  <a:lnTo>
                    <a:pt x="1889" y="111"/>
                  </a:lnTo>
                  <a:lnTo>
                    <a:pt x="1850" y="120"/>
                  </a:lnTo>
                  <a:lnTo>
                    <a:pt x="1824" y="125"/>
                  </a:lnTo>
                  <a:lnTo>
                    <a:pt x="1784" y="135"/>
                  </a:lnTo>
                  <a:lnTo>
                    <a:pt x="1758" y="140"/>
                  </a:lnTo>
                  <a:lnTo>
                    <a:pt x="1719" y="149"/>
                  </a:lnTo>
                  <a:lnTo>
                    <a:pt x="1692" y="159"/>
                  </a:lnTo>
                  <a:lnTo>
                    <a:pt x="1666" y="168"/>
                  </a:lnTo>
                  <a:lnTo>
                    <a:pt x="1627" y="173"/>
                  </a:lnTo>
                  <a:lnTo>
                    <a:pt x="1601" y="183"/>
                  </a:lnTo>
                  <a:lnTo>
                    <a:pt x="1561" y="192"/>
                  </a:lnTo>
                  <a:lnTo>
                    <a:pt x="1535" y="197"/>
                  </a:lnTo>
                  <a:lnTo>
                    <a:pt x="1509" y="207"/>
                  </a:lnTo>
                  <a:lnTo>
                    <a:pt x="1469" y="216"/>
                  </a:lnTo>
                  <a:lnTo>
                    <a:pt x="1443" y="221"/>
                  </a:lnTo>
                  <a:lnTo>
                    <a:pt x="1417" y="231"/>
                  </a:lnTo>
                  <a:lnTo>
                    <a:pt x="1378" y="240"/>
                  </a:lnTo>
                  <a:lnTo>
                    <a:pt x="1351" y="245"/>
                  </a:lnTo>
                  <a:lnTo>
                    <a:pt x="1325" y="255"/>
                  </a:lnTo>
                  <a:lnTo>
                    <a:pt x="1286" y="260"/>
                  </a:lnTo>
                  <a:lnTo>
                    <a:pt x="1260" y="269"/>
                  </a:lnTo>
                  <a:lnTo>
                    <a:pt x="1233" y="274"/>
                  </a:lnTo>
                  <a:lnTo>
                    <a:pt x="1207" y="284"/>
                  </a:lnTo>
                  <a:lnTo>
                    <a:pt x="1168" y="288"/>
                  </a:lnTo>
                  <a:lnTo>
                    <a:pt x="1141" y="293"/>
                  </a:lnTo>
                  <a:lnTo>
                    <a:pt x="1102" y="303"/>
                  </a:lnTo>
                  <a:lnTo>
                    <a:pt x="1076" y="308"/>
                  </a:lnTo>
                  <a:lnTo>
                    <a:pt x="1036" y="317"/>
                  </a:lnTo>
                  <a:lnTo>
                    <a:pt x="997" y="322"/>
                  </a:lnTo>
                  <a:lnTo>
                    <a:pt x="971" y="332"/>
                  </a:lnTo>
                  <a:lnTo>
                    <a:pt x="932" y="336"/>
                  </a:lnTo>
                  <a:lnTo>
                    <a:pt x="892" y="341"/>
                  </a:lnTo>
                  <a:lnTo>
                    <a:pt x="853" y="351"/>
                  </a:lnTo>
                  <a:lnTo>
                    <a:pt x="813" y="356"/>
                  </a:lnTo>
                  <a:lnTo>
                    <a:pt x="761" y="360"/>
                  </a:lnTo>
                  <a:lnTo>
                    <a:pt x="722" y="365"/>
                  </a:lnTo>
                  <a:lnTo>
                    <a:pt x="682" y="375"/>
                  </a:lnTo>
                  <a:lnTo>
                    <a:pt x="643" y="380"/>
                  </a:lnTo>
                  <a:lnTo>
                    <a:pt x="604" y="380"/>
                  </a:lnTo>
                  <a:lnTo>
                    <a:pt x="564" y="384"/>
                  </a:lnTo>
                  <a:lnTo>
                    <a:pt x="512" y="389"/>
                  </a:lnTo>
                  <a:lnTo>
                    <a:pt x="472" y="389"/>
                  </a:lnTo>
                  <a:lnTo>
                    <a:pt x="433" y="394"/>
                  </a:lnTo>
                  <a:lnTo>
                    <a:pt x="394" y="394"/>
                  </a:lnTo>
                  <a:lnTo>
                    <a:pt x="354" y="394"/>
                  </a:lnTo>
                  <a:lnTo>
                    <a:pt x="315" y="394"/>
                  </a:lnTo>
                  <a:lnTo>
                    <a:pt x="276" y="394"/>
                  </a:lnTo>
                  <a:lnTo>
                    <a:pt x="236" y="389"/>
                  </a:lnTo>
                  <a:lnTo>
                    <a:pt x="197" y="389"/>
                  </a:lnTo>
                  <a:lnTo>
                    <a:pt x="157" y="384"/>
                  </a:lnTo>
                  <a:lnTo>
                    <a:pt x="118" y="380"/>
                  </a:lnTo>
                  <a:lnTo>
                    <a:pt x="79" y="370"/>
                  </a:lnTo>
                  <a:lnTo>
                    <a:pt x="52" y="365"/>
                  </a:lnTo>
                  <a:lnTo>
                    <a:pt x="13" y="356"/>
                  </a:lnTo>
                  <a:lnTo>
                    <a:pt x="0" y="346"/>
                  </a:lnTo>
                  <a:lnTo>
                    <a:pt x="0" y="332"/>
                  </a:lnTo>
                  <a:lnTo>
                    <a:pt x="13" y="327"/>
                  </a:lnTo>
                  <a:lnTo>
                    <a:pt x="26" y="317"/>
                  </a:lnTo>
                  <a:lnTo>
                    <a:pt x="39" y="312"/>
                  </a:lnTo>
                  <a:lnTo>
                    <a:pt x="52" y="312"/>
                  </a:lnTo>
                  <a:lnTo>
                    <a:pt x="79" y="312"/>
                  </a:lnTo>
                  <a:lnTo>
                    <a:pt x="92" y="317"/>
                  </a:lnTo>
                  <a:lnTo>
                    <a:pt x="105" y="322"/>
                  </a:lnTo>
                  <a:lnTo>
                    <a:pt x="131" y="327"/>
                  </a:lnTo>
                  <a:lnTo>
                    <a:pt x="157" y="332"/>
                  </a:lnTo>
                  <a:lnTo>
                    <a:pt x="184" y="336"/>
                  </a:lnTo>
                  <a:lnTo>
                    <a:pt x="210" y="341"/>
                  </a:lnTo>
                  <a:lnTo>
                    <a:pt x="236" y="341"/>
                  </a:lnTo>
                  <a:lnTo>
                    <a:pt x="262" y="346"/>
                  </a:lnTo>
                  <a:lnTo>
                    <a:pt x="289" y="346"/>
                  </a:lnTo>
                  <a:lnTo>
                    <a:pt x="302" y="351"/>
                  </a:lnTo>
                  <a:lnTo>
                    <a:pt x="328" y="351"/>
                  </a:lnTo>
                  <a:lnTo>
                    <a:pt x="354" y="351"/>
                  </a:lnTo>
                  <a:lnTo>
                    <a:pt x="380" y="351"/>
                  </a:lnTo>
                  <a:lnTo>
                    <a:pt x="407" y="351"/>
                  </a:lnTo>
                  <a:lnTo>
                    <a:pt x="420" y="351"/>
                  </a:lnTo>
                  <a:lnTo>
                    <a:pt x="446" y="351"/>
                  </a:lnTo>
                  <a:lnTo>
                    <a:pt x="472" y="351"/>
                  </a:lnTo>
                  <a:lnTo>
                    <a:pt x="499" y="351"/>
                  </a:lnTo>
                  <a:lnTo>
                    <a:pt x="538" y="346"/>
                  </a:lnTo>
                  <a:lnTo>
                    <a:pt x="564" y="346"/>
                  </a:lnTo>
                  <a:lnTo>
                    <a:pt x="604" y="341"/>
                  </a:lnTo>
                  <a:lnTo>
                    <a:pt x="630" y="341"/>
                  </a:lnTo>
                  <a:lnTo>
                    <a:pt x="656" y="336"/>
                  </a:lnTo>
                  <a:lnTo>
                    <a:pt x="695" y="332"/>
                  </a:lnTo>
                  <a:lnTo>
                    <a:pt x="722" y="327"/>
                  </a:lnTo>
                  <a:lnTo>
                    <a:pt x="761" y="322"/>
                  </a:lnTo>
                  <a:lnTo>
                    <a:pt x="800" y="322"/>
                  </a:lnTo>
                  <a:lnTo>
                    <a:pt x="827" y="312"/>
                  </a:lnTo>
                  <a:lnTo>
                    <a:pt x="866" y="308"/>
                  </a:lnTo>
                  <a:lnTo>
                    <a:pt x="892" y="303"/>
                  </a:lnTo>
                  <a:lnTo>
                    <a:pt x="932" y="298"/>
                  </a:lnTo>
                  <a:lnTo>
                    <a:pt x="958" y="288"/>
                  </a:lnTo>
                  <a:lnTo>
                    <a:pt x="997" y="284"/>
                  </a:lnTo>
                  <a:lnTo>
                    <a:pt x="1036" y="279"/>
                  </a:lnTo>
                  <a:lnTo>
                    <a:pt x="1063" y="269"/>
                  </a:lnTo>
                  <a:lnTo>
                    <a:pt x="1102" y="264"/>
                  </a:lnTo>
                  <a:lnTo>
                    <a:pt x="1128" y="255"/>
                  </a:lnTo>
                  <a:lnTo>
                    <a:pt x="1168" y="245"/>
                  </a:lnTo>
                  <a:lnTo>
                    <a:pt x="1207" y="240"/>
                  </a:lnTo>
                  <a:lnTo>
                    <a:pt x="1233" y="231"/>
                  </a:lnTo>
                  <a:lnTo>
                    <a:pt x="1273" y="221"/>
                  </a:lnTo>
                  <a:lnTo>
                    <a:pt x="1299" y="216"/>
                  </a:lnTo>
                  <a:lnTo>
                    <a:pt x="1338" y="207"/>
                  </a:lnTo>
                  <a:lnTo>
                    <a:pt x="1378" y="197"/>
                  </a:lnTo>
                  <a:lnTo>
                    <a:pt x="1404" y="192"/>
                  </a:lnTo>
                  <a:lnTo>
                    <a:pt x="1443" y="183"/>
                  </a:lnTo>
                  <a:lnTo>
                    <a:pt x="1469" y="173"/>
                  </a:lnTo>
                  <a:lnTo>
                    <a:pt x="1509" y="168"/>
                  </a:lnTo>
                  <a:lnTo>
                    <a:pt x="1535" y="159"/>
                  </a:lnTo>
                  <a:lnTo>
                    <a:pt x="1574" y="149"/>
                  </a:lnTo>
                  <a:lnTo>
                    <a:pt x="1601" y="144"/>
                  </a:lnTo>
                  <a:lnTo>
                    <a:pt x="1640" y="135"/>
                  </a:lnTo>
                  <a:lnTo>
                    <a:pt x="1666" y="125"/>
                  </a:lnTo>
                  <a:lnTo>
                    <a:pt x="1706" y="116"/>
                  </a:lnTo>
                  <a:lnTo>
                    <a:pt x="1758" y="106"/>
                  </a:lnTo>
                  <a:lnTo>
                    <a:pt x="1811" y="92"/>
                  </a:lnTo>
                  <a:lnTo>
                    <a:pt x="1863" y="77"/>
                  </a:lnTo>
                  <a:lnTo>
                    <a:pt x="1916" y="68"/>
                  </a:lnTo>
                  <a:lnTo>
                    <a:pt x="1968" y="53"/>
                  </a:lnTo>
                  <a:lnTo>
                    <a:pt x="2034" y="39"/>
                  </a:lnTo>
                  <a:lnTo>
                    <a:pt x="2086" y="29"/>
                  </a:lnTo>
                  <a:lnTo>
                    <a:pt x="2152" y="20"/>
                  </a:lnTo>
                  <a:lnTo>
                    <a:pt x="2217" y="10"/>
                  </a:lnTo>
                  <a:lnTo>
                    <a:pt x="2270" y="5"/>
                  </a:lnTo>
                  <a:lnTo>
                    <a:pt x="2335" y="0"/>
                  </a:lnTo>
                  <a:lnTo>
                    <a:pt x="2388" y="0"/>
                  </a:lnTo>
                  <a:lnTo>
                    <a:pt x="2440" y="5"/>
                  </a:lnTo>
                  <a:lnTo>
                    <a:pt x="2493" y="10"/>
                  </a:lnTo>
                  <a:lnTo>
                    <a:pt x="2545" y="20"/>
                  </a:lnTo>
                  <a:lnTo>
                    <a:pt x="2558" y="29"/>
                  </a:lnTo>
                  <a:lnTo>
                    <a:pt x="2572" y="39"/>
                  </a:lnTo>
                  <a:lnTo>
                    <a:pt x="2572" y="53"/>
                  </a:lnTo>
                  <a:lnTo>
                    <a:pt x="2558" y="63"/>
                  </a:lnTo>
                  <a:lnTo>
                    <a:pt x="2558" y="68"/>
                  </a:lnTo>
                  <a:lnTo>
                    <a:pt x="2545" y="68"/>
                  </a:lnTo>
                  <a:lnTo>
                    <a:pt x="2532" y="72"/>
                  </a:lnTo>
                  <a:lnTo>
                    <a:pt x="2519" y="72"/>
                  </a:lnTo>
                  <a:lnTo>
                    <a:pt x="2506" y="72"/>
                  </a:lnTo>
                  <a:lnTo>
                    <a:pt x="2493" y="72"/>
                  </a:lnTo>
                  <a:lnTo>
                    <a:pt x="2480" y="68"/>
                  </a:lnTo>
                  <a:lnTo>
                    <a:pt x="2453" y="63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7391520" y="5257800"/>
              <a:ext cx="838080" cy="1242720"/>
              <a:chOff x="7391520" y="5257800"/>
              <a:chExt cx="838080" cy="1242720"/>
            </a:xfrm>
          </p:grpSpPr>
          <p:sp>
            <p:nvSpPr>
              <p:cNvPr id="960" name=""/>
              <p:cNvSpPr/>
              <p:nvPr/>
            </p:nvSpPr>
            <p:spPr>
              <a:xfrm>
                <a:off x="7462800" y="6153120"/>
                <a:ext cx="34920" cy="4428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52" y="24"/>
                    </a:moveTo>
                    <a:lnTo>
                      <a:pt x="0" y="9"/>
                    </a:lnTo>
                    <a:lnTo>
                      <a:pt x="13" y="4"/>
                    </a:lnTo>
                    <a:lnTo>
                      <a:pt x="52" y="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540920" y="6116400"/>
                <a:ext cx="671400" cy="384120"/>
              </a:xfrm>
              <a:custGeom>
                <a:avLst/>
                <a:gdLst/>
                <a:ahLst/>
                <a:rect l="l" t="t" r="r" b="b"/>
                <a:pathLst>
                  <a:path w="997" h="212">
                    <a:moveTo>
                      <a:pt x="13" y="0"/>
                    </a:moveTo>
                    <a:lnTo>
                      <a:pt x="879" y="68"/>
                    </a:lnTo>
                    <a:lnTo>
                      <a:pt x="931" y="82"/>
                    </a:lnTo>
                    <a:lnTo>
                      <a:pt x="971" y="106"/>
                    </a:lnTo>
                    <a:lnTo>
                      <a:pt x="984" y="130"/>
                    </a:lnTo>
                    <a:lnTo>
                      <a:pt x="997" y="154"/>
                    </a:lnTo>
                    <a:lnTo>
                      <a:pt x="984" y="173"/>
                    </a:lnTo>
                    <a:lnTo>
                      <a:pt x="958" y="192"/>
                    </a:lnTo>
                    <a:lnTo>
                      <a:pt x="918" y="207"/>
                    </a:lnTo>
                    <a:lnTo>
                      <a:pt x="866" y="212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26" y="68"/>
                    </a:lnTo>
                    <a:lnTo>
                      <a:pt x="13" y="6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13" y="44"/>
                    </a:lnTo>
                    <a:lnTo>
                      <a:pt x="0" y="34"/>
                    </a:lnTo>
                    <a:lnTo>
                      <a:pt x="0" y="20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80440" y="6116400"/>
                <a:ext cx="87120" cy="139680"/>
              </a:xfrm>
              <a:custGeom>
                <a:avLst/>
                <a:gdLst/>
                <a:ahLst/>
                <a:rect l="l" t="t" r="r" b="b"/>
                <a:pathLst>
                  <a:path w="131" h="77">
                    <a:moveTo>
                      <a:pt x="131" y="77"/>
                    </a:moveTo>
                    <a:lnTo>
                      <a:pt x="131" y="72"/>
                    </a:lnTo>
                    <a:lnTo>
                      <a:pt x="118" y="68"/>
                    </a:lnTo>
                    <a:lnTo>
                      <a:pt x="105" y="58"/>
                    </a:lnTo>
                    <a:lnTo>
                      <a:pt x="92" y="58"/>
                    </a:lnTo>
                    <a:lnTo>
                      <a:pt x="92" y="48"/>
                    </a:lnTo>
                    <a:lnTo>
                      <a:pt x="105" y="44"/>
                    </a:lnTo>
                    <a:lnTo>
                      <a:pt x="105" y="29"/>
                    </a:lnTo>
                    <a:lnTo>
                      <a:pt x="92" y="20"/>
                    </a:lnTo>
                    <a:lnTo>
                      <a:pt x="105" y="15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13" y="20"/>
                    </a:lnTo>
                    <a:lnTo>
                      <a:pt x="26" y="20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13" y="24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13" y="34"/>
                    </a:lnTo>
                    <a:lnTo>
                      <a:pt x="0" y="34"/>
                    </a:lnTo>
                    <a:lnTo>
                      <a:pt x="26" y="34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13" y="39"/>
                    </a:lnTo>
                    <a:lnTo>
                      <a:pt x="131" y="77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99440" y="6038640"/>
                <a:ext cx="54000" cy="52560"/>
              </a:xfrm>
              <a:custGeom>
                <a:avLst/>
                <a:gdLst/>
                <a:ahLst/>
                <a:rect l="l" t="t" r="r" b="b"/>
                <a:pathLst>
                  <a:path w="79" h="29">
                    <a:moveTo>
                      <a:pt x="26" y="0"/>
                    </a:moveTo>
                    <a:lnTo>
                      <a:pt x="0" y="24"/>
                    </a:lnTo>
                    <a:lnTo>
                      <a:pt x="13" y="29"/>
                    </a:lnTo>
                    <a:lnTo>
                      <a:pt x="79" y="19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91520" y="6038640"/>
                <a:ext cx="34920" cy="5256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13" y="19"/>
                    </a:moveTo>
                    <a:lnTo>
                      <a:pt x="26" y="24"/>
                    </a:lnTo>
                    <a:lnTo>
                      <a:pt x="52" y="5"/>
                    </a:lnTo>
                    <a:lnTo>
                      <a:pt x="39" y="0"/>
                    </a:lnTo>
                    <a:lnTo>
                      <a:pt x="0" y="24"/>
                    </a:lnTo>
                    <a:lnTo>
                      <a:pt x="13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3" y="29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99440" y="60735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5"/>
                    </a:moveTo>
                    <a:lnTo>
                      <a:pt x="13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09160" y="6065640"/>
                <a:ext cx="61560" cy="25560"/>
              </a:xfrm>
              <a:custGeom>
                <a:avLst/>
                <a:gdLst/>
                <a:ahLst/>
                <a:rect l="l" t="t" r="r" b="b"/>
                <a:pathLst>
                  <a:path w="92" h="14">
                    <a:moveTo>
                      <a:pt x="66" y="4"/>
                    </a:moveTo>
                    <a:lnTo>
                      <a:pt x="66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66" y="4"/>
                    </a:lnTo>
                    <a:lnTo>
                      <a:pt x="79" y="0"/>
                    </a:lnTo>
                    <a:lnTo>
                      <a:pt x="66" y="4"/>
                    </a:lnTo>
                    <a:lnTo>
                      <a:pt x="92" y="4"/>
                    </a:lnTo>
                    <a:lnTo>
                      <a:pt x="79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417080" y="6030720"/>
                <a:ext cx="45720" cy="4284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13" y="10"/>
                    </a:moveTo>
                    <a:lnTo>
                      <a:pt x="0" y="10"/>
                    </a:lnTo>
                    <a:lnTo>
                      <a:pt x="53" y="24"/>
                    </a:lnTo>
                    <a:lnTo>
                      <a:pt x="66" y="2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453440" y="5267160"/>
                <a:ext cx="768240" cy="781200"/>
              </a:xfrm>
              <a:custGeom>
                <a:avLst/>
                <a:gdLst/>
                <a:ahLst/>
                <a:rect l="l" t="t" r="r" b="b"/>
                <a:pathLst>
                  <a:path w="1141" h="432">
                    <a:moveTo>
                      <a:pt x="144" y="432"/>
                    </a:moveTo>
                    <a:lnTo>
                      <a:pt x="1102" y="120"/>
                    </a:lnTo>
                    <a:lnTo>
                      <a:pt x="1115" y="106"/>
                    </a:lnTo>
                    <a:lnTo>
                      <a:pt x="1128" y="91"/>
                    </a:lnTo>
                    <a:lnTo>
                      <a:pt x="1141" y="77"/>
                    </a:lnTo>
                    <a:lnTo>
                      <a:pt x="1141" y="62"/>
                    </a:lnTo>
                    <a:lnTo>
                      <a:pt x="1128" y="48"/>
                    </a:lnTo>
                    <a:lnTo>
                      <a:pt x="1115" y="38"/>
                    </a:lnTo>
                    <a:lnTo>
                      <a:pt x="1102" y="29"/>
                    </a:lnTo>
                    <a:lnTo>
                      <a:pt x="1075" y="19"/>
                    </a:lnTo>
                    <a:lnTo>
                      <a:pt x="1049" y="14"/>
                    </a:lnTo>
                    <a:lnTo>
                      <a:pt x="1023" y="5"/>
                    </a:lnTo>
                    <a:lnTo>
                      <a:pt x="984" y="0"/>
                    </a:lnTo>
                    <a:lnTo>
                      <a:pt x="957" y="0"/>
                    </a:lnTo>
                    <a:lnTo>
                      <a:pt x="918" y="0"/>
                    </a:lnTo>
                    <a:lnTo>
                      <a:pt x="879" y="5"/>
                    </a:lnTo>
                    <a:lnTo>
                      <a:pt x="839" y="10"/>
                    </a:lnTo>
                    <a:lnTo>
                      <a:pt x="800" y="19"/>
                    </a:lnTo>
                    <a:lnTo>
                      <a:pt x="13" y="370"/>
                    </a:lnTo>
                    <a:lnTo>
                      <a:pt x="26" y="374"/>
                    </a:lnTo>
                    <a:lnTo>
                      <a:pt x="26" y="379"/>
                    </a:lnTo>
                    <a:lnTo>
                      <a:pt x="13" y="389"/>
                    </a:lnTo>
                    <a:lnTo>
                      <a:pt x="0" y="394"/>
                    </a:lnTo>
                    <a:lnTo>
                      <a:pt x="13" y="398"/>
                    </a:lnTo>
                    <a:lnTo>
                      <a:pt x="26" y="398"/>
                    </a:lnTo>
                    <a:lnTo>
                      <a:pt x="26" y="403"/>
                    </a:lnTo>
                    <a:lnTo>
                      <a:pt x="39" y="403"/>
                    </a:lnTo>
                    <a:lnTo>
                      <a:pt x="52" y="408"/>
                    </a:lnTo>
                    <a:lnTo>
                      <a:pt x="65" y="413"/>
                    </a:lnTo>
                    <a:lnTo>
                      <a:pt x="65" y="418"/>
                    </a:lnTo>
                    <a:lnTo>
                      <a:pt x="78" y="427"/>
                    </a:lnTo>
                    <a:lnTo>
                      <a:pt x="78" y="422"/>
                    </a:lnTo>
                    <a:lnTo>
                      <a:pt x="91" y="422"/>
                    </a:lnTo>
                    <a:lnTo>
                      <a:pt x="105" y="422"/>
                    </a:lnTo>
                    <a:lnTo>
                      <a:pt x="118" y="427"/>
                    </a:lnTo>
                    <a:lnTo>
                      <a:pt x="118" y="427"/>
                    </a:lnTo>
                    <a:lnTo>
                      <a:pt x="131" y="427"/>
                    </a:lnTo>
                    <a:lnTo>
                      <a:pt x="131" y="432"/>
                    </a:lnTo>
                    <a:lnTo>
                      <a:pt x="144" y="432"/>
                    </a:lnTo>
                    <a:close/>
                  </a:path>
                </a:pathLst>
              </a:custGeom>
              <a:solidFill>
                <a:srgbClr val="cc3399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40920" y="5475240"/>
                <a:ext cx="663480" cy="582480"/>
              </a:xfrm>
              <a:custGeom>
                <a:avLst/>
                <a:gdLst/>
                <a:ahLst/>
                <a:rect l="l" t="t" r="r" b="b"/>
                <a:pathLst>
                  <a:path w="984" h="322">
                    <a:moveTo>
                      <a:pt x="958" y="0"/>
                    </a:moveTo>
                    <a:lnTo>
                      <a:pt x="958" y="0"/>
                    </a:lnTo>
                    <a:lnTo>
                      <a:pt x="0" y="317"/>
                    </a:lnTo>
                    <a:lnTo>
                      <a:pt x="13" y="322"/>
                    </a:lnTo>
                    <a:lnTo>
                      <a:pt x="971" y="5"/>
                    </a:lnTo>
                    <a:lnTo>
                      <a:pt x="984" y="5"/>
                    </a:lnTo>
                    <a:lnTo>
                      <a:pt x="971" y="5"/>
                    </a:lnTo>
                    <a:lnTo>
                      <a:pt x="984" y="5"/>
                    </a:lnTo>
                    <a:lnTo>
                      <a:pt x="984" y="5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185320" y="5449680"/>
                <a:ext cx="27000" cy="3348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26" y="0"/>
                    </a:moveTo>
                    <a:lnTo>
                      <a:pt x="26" y="0"/>
                    </a:lnTo>
                    <a:lnTo>
                      <a:pt x="0" y="14"/>
                    </a:lnTo>
                    <a:lnTo>
                      <a:pt x="26" y="19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204400" y="542268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13" y="5"/>
                    </a:moveTo>
                    <a:lnTo>
                      <a:pt x="13" y="0"/>
                    </a:lnTo>
                    <a:lnTo>
                      <a:pt x="0" y="15"/>
                    </a:lnTo>
                    <a:lnTo>
                      <a:pt x="13" y="2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212320" y="540540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3" y="1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212320" y="53784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204400" y="535284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5"/>
                    </a:moveTo>
                    <a:lnTo>
                      <a:pt x="0" y="5"/>
                    </a:lnTo>
                    <a:lnTo>
                      <a:pt x="13" y="14"/>
                    </a:lnTo>
                    <a:lnTo>
                      <a:pt x="26" y="14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194680" y="5335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5"/>
                    </a:moveTo>
                    <a:lnTo>
                      <a:pt x="0" y="0"/>
                    </a:lnTo>
                    <a:lnTo>
                      <a:pt x="13" y="15"/>
                    </a:lnTo>
                    <a:lnTo>
                      <a:pt x="39" y="1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185320" y="53100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5"/>
                    </a:moveTo>
                    <a:lnTo>
                      <a:pt x="0" y="5"/>
                    </a:lnTo>
                    <a:lnTo>
                      <a:pt x="13" y="19"/>
                    </a:lnTo>
                    <a:lnTo>
                      <a:pt x="39" y="14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167680" y="5292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13" y="10"/>
                    </a:moveTo>
                    <a:lnTo>
                      <a:pt x="0" y="10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158320" y="5284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4"/>
                    </a:moveTo>
                    <a:lnTo>
                      <a:pt x="0" y="4"/>
                    </a:lnTo>
                    <a:lnTo>
                      <a:pt x="26" y="14"/>
                    </a:lnTo>
                    <a:lnTo>
                      <a:pt x="40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140680" y="52671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0" y="10"/>
                    </a:moveTo>
                    <a:lnTo>
                      <a:pt x="0" y="10"/>
                    </a:lnTo>
                    <a:lnTo>
                      <a:pt x="26" y="14"/>
                    </a:lnTo>
                    <a:lnTo>
                      <a:pt x="26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115480" y="5267160"/>
                <a:ext cx="2520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5"/>
                    </a:moveTo>
                    <a:lnTo>
                      <a:pt x="0" y="5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88480" y="525780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13" y="10"/>
                    </a:moveTo>
                    <a:lnTo>
                      <a:pt x="0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70840" y="52578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10"/>
                    </a:moveTo>
                    <a:lnTo>
                      <a:pt x="0" y="10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045640" y="5257800"/>
                <a:ext cx="25200" cy="2664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15"/>
                    </a:moveTo>
                    <a:lnTo>
                      <a:pt x="0" y="15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016840" y="526716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0" y="14"/>
                    </a:moveTo>
                    <a:lnTo>
                      <a:pt x="0" y="14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981920" y="5275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26" y="14"/>
                    </a:moveTo>
                    <a:lnTo>
                      <a:pt x="13" y="19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453440" y="5292720"/>
                <a:ext cx="546120" cy="650880"/>
              </a:xfrm>
              <a:custGeom>
                <a:avLst/>
                <a:gdLst/>
                <a:ahLst/>
                <a:rect l="l" t="t" r="r" b="b"/>
                <a:pathLst>
                  <a:path w="813" h="360">
                    <a:moveTo>
                      <a:pt x="13" y="356"/>
                    </a:moveTo>
                    <a:lnTo>
                      <a:pt x="13" y="360"/>
                    </a:lnTo>
                    <a:lnTo>
                      <a:pt x="813" y="5"/>
                    </a:lnTo>
                    <a:lnTo>
                      <a:pt x="787" y="0"/>
                    </a:lnTo>
                    <a:lnTo>
                      <a:pt x="0" y="356"/>
                    </a:lnTo>
                    <a:lnTo>
                      <a:pt x="0" y="360"/>
                    </a:lnTo>
                    <a:lnTo>
                      <a:pt x="0" y="356"/>
                    </a:lnTo>
                    <a:lnTo>
                      <a:pt x="0" y="356"/>
                    </a:lnTo>
                    <a:lnTo>
                      <a:pt x="0" y="360"/>
                    </a:lnTo>
                    <a:lnTo>
                      <a:pt x="13" y="356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3440" y="59353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462800" y="5943600"/>
                <a:ext cx="792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53440" y="59529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10"/>
                    </a:moveTo>
                    <a:lnTo>
                      <a:pt x="26" y="10"/>
                    </a:lnTo>
                    <a:lnTo>
                      <a:pt x="26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444080" y="596088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14" y="10"/>
                    </a:moveTo>
                    <a:lnTo>
                      <a:pt x="27" y="14"/>
                    </a:lnTo>
                    <a:lnTo>
                      <a:pt x="40" y="5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14" y="1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453440" y="59799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453440" y="5979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462800" y="59799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4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0720" y="5986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480440" y="59958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480440" y="60055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88360" y="60134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488360" y="60228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3" y="4"/>
                    </a:moveTo>
                    <a:lnTo>
                      <a:pt x="26" y="4"/>
                    </a:lnTo>
                    <a:lnTo>
                      <a:pt x="26" y="0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26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26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497720" y="603072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06000" y="60228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13920" y="60228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24720" y="6030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24720" y="60307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32640" y="6030720"/>
                <a:ext cx="8280" cy="1764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32640" y="60386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40920" y="6038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44080" y="606564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40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1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17080" y="6057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35800" y="6057720"/>
                <a:ext cx="78120" cy="792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26440" y="6048360"/>
                <a:ext cx="114480" cy="9360"/>
              </a:xfrm>
              <a:custGeom>
                <a:avLst/>
                <a:gdLst/>
                <a:ahLst/>
                <a:rect l="l" t="t" r="r" b="b"/>
                <a:pathLst>
                  <a:path w="171" h="5">
                    <a:moveTo>
                      <a:pt x="0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1" y="0"/>
                    </a:lnTo>
                    <a:lnTo>
                      <a:pt x="14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26440" y="6030720"/>
                <a:ext cx="106200" cy="7920"/>
              </a:xfrm>
              <a:custGeom>
                <a:avLst/>
                <a:gdLst/>
                <a:ahLst/>
                <a:rect l="l" t="t" r="r" b="b"/>
                <a:pathLst>
                  <a:path w="158" h="5">
                    <a:moveTo>
                      <a:pt x="0" y="5"/>
                    </a:moveTo>
                    <a:lnTo>
                      <a:pt x="0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158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26440" y="6013440"/>
                <a:ext cx="71280" cy="9360"/>
              </a:xfrm>
              <a:custGeom>
                <a:avLst/>
                <a:gdLst/>
                <a:ahLst/>
                <a:rect l="l" t="t" r="r" b="b"/>
                <a:pathLst>
                  <a:path w="105" h="5">
                    <a:moveTo>
                      <a:pt x="0" y="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35800" y="59958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79" h="5">
                    <a:moveTo>
                      <a:pt x="0" y="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35800" y="598644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5"/>
                    </a:moveTo>
                    <a:lnTo>
                      <a:pt x="1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44080" y="597024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5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53440" y="59529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5"/>
                    </a:moveTo>
                    <a:lnTo>
                      <a:pt x="0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53440" y="593532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4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0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62800" y="59436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10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53440" y="595296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26" y="10"/>
                    </a:moveTo>
                    <a:lnTo>
                      <a:pt x="26" y="10"/>
                    </a:lnTo>
                    <a:lnTo>
                      <a:pt x="39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44080" y="5970240"/>
                <a:ext cx="26640" cy="162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7" y="5"/>
                    </a:moveTo>
                    <a:lnTo>
                      <a:pt x="27" y="9"/>
                    </a:lnTo>
                    <a:lnTo>
                      <a:pt x="40" y="0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27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53440" y="59799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62800" y="5979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4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62800" y="59864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70720" y="5986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80440" y="5995800"/>
                <a:ext cx="1728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80440" y="60055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88360" y="6013440"/>
                <a:ext cx="17640" cy="93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5"/>
                    </a:moveTo>
                    <a:lnTo>
                      <a:pt x="26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7720" y="6022800"/>
                <a:ext cx="16200" cy="1584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13" y="4"/>
                    </a:moveTo>
                    <a:lnTo>
                      <a:pt x="26" y="4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3" y="9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06000" y="6030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13920" y="60228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513920" y="60228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4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524720" y="6030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524720" y="603072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0"/>
                    </a:moveTo>
                    <a:lnTo>
                      <a:pt x="26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532640" y="60307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5"/>
                    </a:moveTo>
                    <a:lnTo>
                      <a:pt x="13" y="5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532640" y="603864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6" y="0"/>
                    </a:moveTo>
                    <a:lnTo>
                      <a:pt x="26" y="0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532640" y="603864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26" y="10"/>
                    </a:moveTo>
                    <a:lnTo>
                      <a:pt x="26" y="5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26" y="10"/>
                    </a:lnTo>
                    <a:lnTo>
                      <a:pt x="39" y="10"/>
                    </a:lnTo>
                    <a:lnTo>
                      <a:pt x="26" y="5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26440" y="6038640"/>
                <a:ext cx="123840" cy="44640"/>
              </a:xfrm>
              <a:custGeom>
                <a:avLst/>
                <a:gdLst/>
                <a:ahLst/>
                <a:rect l="l" t="t" r="r" b="b"/>
                <a:pathLst>
                  <a:path w="184" h="24">
                    <a:moveTo>
                      <a:pt x="13" y="19"/>
                    </a:moveTo>
                    <a:lnTo>
                      <a:pt x="26" y="24"/>
                    </a:lnTo>
                    <a:lnTo>
                      <a:pt x="184" y="10"/>
                    </a:lnTo>
                    <a:lnTo>
                      <a:pt x="171" y="0"/>
                    </a:lnTo>
                    <a:lnTo>
                      <a:pt x="13" y="15"/>
                    </a:lnTo>
                    <a:lnTo>
                      <a:pt x="26" y="24"/>
                    </a:lnTo>
                    <a:lnTo>
                      <a:pt x="13" y="19"/>
                    </a:lnTo>
                    <a:lnTo>
                      <a:pt x="0" y="24"/>
                    </a:lnTo>
                    <a:lnTo>
                      <a:pt x="26" y="24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35800" y="60656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3" y="9"/>
                    </a:lnTo>
                    <a:lnTo>
                      <a:pt x="27" y="4"/>
                    </a:lnTo>
                    <a:lnTo>
                      <a:pt x="27" y="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435800" y="60577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13" y="9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13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13" y="0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435800" y="605772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lnTo>
                      <a:pt x="13" y="9"/>
                    </a:lnTo>
                    <a:lnTo>
                      <a:pt x="13" y="9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17080" y="6065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4"/>
                    </a:moveTo>
                    <a:lnTo>
                      <a:pt x="26" y="9"/>
                    </a:lnTo>
                    <a:lnTo>
                      <a:pt x="39" y="4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26" y="4"/>
                    </a:lnTo>
                    <a:lnTo>
                      <a:pt x="0" y="4"/>
                    </a:lnTo>
                    <a:lnTo>
                      <a:pt x="0" y="14"/>
                    </a:lnTo>
                    <a:lnTo>
                      <a:pt x="26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17080" y="605772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13" y="5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26440" y="604836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1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26440" y="604836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10"/>
                    </a:moveTo>
                    <a:lnTo>
                      <a:pt x="0" y="10"/>
                    </a:lnTo>
                    <a:lnTo>
                      <a:pt x="13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99440" y="604836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13" y="5"/>
                    </a:moveTo>
                    <a:lnTo>
                      <a:pt x="26" y="10"/>
                    </a:lnTo>
                    <a:lnTo>
                      <a:pt x="39" y="10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39" y="10"/>
                    </a:lnTo>
                    <a:lnTo>
                      <a:pt x="13" y="5"/>
                    </a:lnTo>
                    <a:lnTo>
                      <a:pt x="0" y="19"/>
                    </a:lnTo>
                    <a:lnTo>
                      <a:pt x="26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09160" y="604836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0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26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17080" y="603864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13" y="1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13" y="0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17080" y="603864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399440" y="603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13" y="5"/>
                    </a:moveTo>
                    <a:lnTo>
                      <a:pt x="26" y="10"/>
                    </a:lnTo>
                    <a:lnTo>
                      <a:pt x="39" y="1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9" y="10"/>
                    </a:lnTo>
                    <a:lnTo>
                      <a:pt x="13" y="5"/>
                    </a:lnTo>
                    <a:lnTo>
                      <a:pt x="0" y="15"/>
                    </a:lnTo>
                    <a:lnTo>
                      <a:pt x="26" y="10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09160" y="5927400"/>
                <a:ext cx="61560" cy="130320"/>
              </a:xfrm>
              <a:custGeom>
                <a:avLst/>
                <a:gdLst/>
                <a:ahLst/>
                <a:rect l="l" t="t" r="r" b="b"/>
                <a:pathLst>
                  <a:path w="92" h="72">
                    <a:moveTo>
                      <a:pt x="79" y="5"/>
                    </a:moveTo>
                    <a:lnTo>
                      <a:pt x="66" y="5"/>
                    </a:lnTo>
                    <a:lnTo>
                      <a:pt x="0" y="67"/>
                    </a:lnTo>
                    <a:lnTo>
                      <a:pt x="26" y="72"/>
                    </a:lnTo>
                    <a:lnTo>
                      <a:pt x="92" y="5"/>
                    </a:lnTo>
                    <a:lnTo>
                      <a:pt x="66" y="9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66" y="5"/>
                    </a:lnTo>
                    <a:lnTo>
                      <a:pt x="79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981920" y="5580000"/>
                <a:ext cx="34920" cy="9360"/>
              </a:xfrm>
              <a:custGeom>
                <a:avLst/>
                <a:gdLst/>
                <a:ahLst/>
                <a:rect l="l" t="t" r="r" b="b"/>
                <a:pathLst>
                  <a:path w="52" h="5">
                    <a:moveTo>
                      <a:pt x="0" y="0"/>
                    </a:moveTo>
                    <a:lnTo>
                      <a:pt x="13" y="0"/>
                    </a:lnTo>
                    <a:lnTo>
                      <a:pt x="5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966080" y="555300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157" h="24">
                    <a:moveTo>
                      <a:pt x="26" y="15"/>
                    </a:moveTo>
                    <a:lnTo>
                      <a:pt x="0" y="0"/>
                    </a:lnTo>
                    <a:lnTo>
                      <a:pt x="157" y="20"/>
                    </a:lnTo>
                    <a:lnTo>
                      <a:pt x="144" y="24"/>
                    </a:lnTo>
                    <a:lnTo>
                      <a:pt x="78" y="20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39080" y="5537160"/>
                <a:ext cx="141480" cy="5220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40" y="9"/>
                    </a:moveTo>
                    <a:lnTo>
                      <a:pt x="0" y="0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912080" y="5518080"/>
                <a:ext cx="176400" cy="61920"/>
              </a:xfrm>
              <a:custGeom>
                <a:avLst/>
                <a:gdLst/>
                <a:ahLst/>
                <a:rect l="l" t="t" r="r" b="b"/>
                <a:pathLst>
                  <a:path w="262" h="34">
                    <a:moveTo>
                      <a:pt x="39" y="10"/>
                    </a:moveTo>
                    <a:lnTo>
                      <a:pt x="0" y="0"/>
                    </a:lnTo>
                    <a:lnTo>
                      <a:pt x="262" y="29"/>
                    </a:lnTo>
                    <a:lnTo>
                      <a:pt x="249" y="34"/>
                    </a:lnTo>
                    <a:lnTo>
                      <a:pt x="39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94800" y="5502240"/>
                <a:ext cx="210960" cy="68040"/>
              </a:xfrm>
              <a:custGeom>
                <a:avLst/>
                <a:gdLst/>
                <a:ahLst/>
                <a:rect l="l" t="t" r="r" b="b"/>
                <a:pathLst>
                  <a:path w="314" h="38">
                    <a:moveTo>
                      <a:pt x="26" y="9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14" y="33"/>
                    </a:lnTo>
                    <a:lnTo>
                      <a:pt x="288" y="38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894800" y="5483160"/>
                <a:ext cx="220680" cy="77760"/>
              </a:xfrm>
              <a:custGeom>
                <a:avLst/>
                <a:gdLst/>
                <a:ahLst/>
                <a:rect l="l" t="t" r="r" b="b"/>
                <a:pathLst>
                  <a:path w="328" h="43">
                    <a:moveTo>
                      <a:pt x="0" y="10"/>
                    </a:moveTo>
                    <a:lnTo>
                      <a:pt x="0" y="0"/>
                    </a:lnTo>
                    <a:lnTo>
                      <a:pt x="328" y="38"/>
                    </a:lnTo>
                    <a:lnTo>
                      <a:pt x="314" y="4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885080" y="5465520"/>
                <a:ext cx="238320" cy="87480"/>
              </a:xfrm>
              <a:custGeom>
                <a:avLst/>
                <a:gdLst/>
                <a:ahLst/>
                <a:rect l="l" t="t" r="r" b="b"/>
                <a:pathLst>
                  <a:path w="355" h="48">
                    <a:moveTo>
                      <a:pt x="14" y="10"/>
                    </a:moveTo>
                    <a:lnTo>
                      <a:pt x="0" y="0"/>
                    </a:lnTo>
                    <a:lnTo>
                      <a:pt x="355" y="44"/>
                    </a:lnTo>
                    <a:lnTo>
                      <a:pt x="342" y="48"/>
                    </a:ln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885080" y="545940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368" h="48">
                    <a:moveTo>
                      <a:pt x="0" y="4"/>
                    </a:moveTo>
                    <a:lnTo>
                      <a:pt x="0" y="0"/>
                    </a:lnTo>
                    <a:lnTo>
                      <a:pt x="368" y="38"/>
                    </a:lnTo>
                    <a:lnTo>
                      <a:pt x="355" y="4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875720" y="5440320"/>
                <a:ext cx="264960" cy="87120"/>
              </a:xfrm>
              <a:custGeom>
                <a:avLst/>
                <a:gdLst/>
                <a:ahLst/>
                <a:rect l="l" t="t" r="r" b="b"/>
                <a:pathLst>
                  <a:path w="394" h="48">
                    <a:moveTo>
                      <a:pt x="13" y="10"/>
                    </a:moveTo>
                    <a:lnTo>
                      <a:pt x="0" y="0"/>
                    </a:lnTo>
                    <a:lnTo>
                      <a:pt x="394" y="43"/>
                    </a:lnTo>
                    <a:lnTo>
                      <a:pt x="381" y="48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875720" y="5430600"/>
                <a:ext cx="282600" cy="87480"/>
              </a:xfrm>
              <a:custGeom>
                <a:avLst/>
                <a:gdLst/>
                <a:ahLst/>
                <a:rect l="l" t="t" r="r" b="b"/>
                <a:pathLst>
                  <a:path w="420" h="48">
                    <a:moveTo>
                      <a:pt x="0" y="5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420" y="43"/>
                    </a:lnTo>
                    <a:lnTo>
                      <a:pt x="394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885080" y="5422680"/>
                <a:ext cx="282600" cy="85680"/>
              </a:xfrm>
              <a:custGeom>
                <a:avLst/>
                <a:gdLst/>
                <a:ahLst/>
                <a:rect l="l" t="t" r="r" b="b"/>
                <a:pathLst>
                  <a:path w="420" h="48">
                    <a:moveTo>
                      <a:pt x="0" y="5"/>
                    </a:moveTo>
                    <a:lnTo>
                      <a:pt x="14" y="0"/>
                    </a:lnTo>
                    <a:lnTo>
                      <a:pt x="420" y="44"/>
                    </a:lnTo>
                    <a:lnTo>
                      <a:pt x="407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894800" y="5405400"/>
                <a:ext cx="282600" cy="96840"/>
              </a:xfrm>
              <a:custGeom>
                <a:avLst/>
                <a:gdLst/>
                <a:ahLst/>
                <a:rect l="l" t="t" r="r" b="b"/>
                <a:pathLst>
                  <a:path w="419" h="53">
                    <a:moveTo>
                      <a:pt x="0" y="9"/>
                    </a:moveTo>
                    <a:lnTo>
                      <a:pt x="13" y="0"/>
                    </a:lnTo>
                    <a:lnTo>
                      <a:pt x="419" y="48"/>
                    </a:lnTo>
                    <a:lnTo>
                      <a:pt x="406" y="5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904160" y="5397480"/>
                <a:ext cx="290520" cy="95040"/>
              </a:xfrm>
              <a:custGeom>
                <a:avLst/>
                <a:gdLst/>
                <a:ahLst/>
                <a:rect l="l" t="t" r="r" b="b"/>
                <a:pathLst>
                  <a:path w="433" h="53">
                    <a:moveTo>
                      <a:pt x="0" y="5"/>
                    </a:moveTo>
                    <a:lnTo>
                      <a:pt x="13" y="0"/>
                    </a:lnTo>
                    <a:lnTo>
                      <a:pt x="433" y="48"/>
                    </a:lnTo>
                    <a:lnTo>
                      <a:pt x="406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912080" y="5387760"/>
                <a:ext cx="282600" cy="95400"/>
              </a:xfrm>
              <a:custGeom>
                <a:avLst/>
                <a:gdLst/>
                <a:ahLst/>
                <a:rect l="l" t="t" r="r" b="b"/>
                <a:pathLst>
                  <a:path w="420" h="53">
                    <a:moveTo>
                      <a:pt x="0" y="5"/>
                    </a:moveTo>
                    <a:lnTo>
                      <a:pt x="0" y="0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48"/>
                    </a:lnTo>
                    <a:lnTo>
                      <a:pt x="420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912080" y="5378400"/>
                <a:ext cx="292320" cy="96840"/>
              </a:xfrm>
              <a:custGeom>
                <a:avLst/>
                <a:gdLst/>
                <a:ahLst/>
                <a:rect l="l" t="t" r="r" b="b"/>
                <a:pathLst>
                  <a:path w="433" h="53">
                    <a:moveTo>
                      <a:pt x="0" y="5"/>
                    </a:moveTo>
                    <a:lnTo>
                      <a:pt x="26" y="0"/>
                    </a:lnTo>
                    <a:lnTo>
                      <a:pt x="433" y="48"/>
                    </a:lnTo>
                    <a:lnTo>
                      <a:pt x="433" y="48"/>
                    </a:lnTo>
                    <a:lnTo>
                      <a:pt x="433" y="48"/>
                    </a:lnTo>
                    <a:lnTo>
                      <a:pt x="433" y="53"/>
                    </a:lnTo>
                    <a:lnTo>
                      <a:pt x="420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929720" y="5371920"/>
                <a:ext cx="282600" cy="93600"/>
              </a:xfrm>
              <a:custGeom>
                <a:avLst/>
                <a:gdLst/>
                <a:ahLst/>
                <a:rect l="l" t="t" r="r" b="b"/>
                <a:pathLst>
                  <a:path w="420" h="52">
                    <a:moveTo>
                      <a:pt x="0" y="4"/>
                    </a:moveTo>
                    <a:lnTo>
                      <a:pt x="13" y="0"/>
                    </a:lnTo>
                    <a:lnTo>
                      <a:pt x="420" y="43"/>
                    </a:lnTo>
                    <a:lnTo>
                      <a:pt x="420" y="48"/>
                    </a:lnTo>
                    <a:lnTo>
                      <a:pt x="407" y="48"/>
                    </a:lnTo>
                    <a:lnTo>
                      <a:pt x="407" y="48"/>
                    </a:lnTo>
                    <a:lnTo>
                      <a:pt x="407" y="5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939080" y="5352840"/>
                <a:ext cx="273240" cy="96840"/>
              </a:xfrm>
              <a:custGeom>
                <a:avLst/>
                <a:gdLst/>
                <a:ahLst/>
                <a:rect l="l" t="t" r="r" b="b"/>
                <a:pathLst>
                  <a:path w="407" h="53">
                    <a:moveTo>
                      <a:pt x="0" y="10"/>
                    </a:moveTo>
                    <a:lnTo>
                      <a:pt x="13" y="0"/>
                    </a:lnTo>
                    <a:lnTo>
                      <a:pt x="407" y="48"/>
                    </a:lnTo>
                    <a:lnTo>
                      <a:pt x="407" y="48"/>
                    </a:lnTo>
                    <a:lnTo>
                      <a:pt x="407" y="53"/>
                    </a:lnTo>
                    <a:lnTo>
                      <a:pt x="407" y="53"/>
                    </a:lnTo>
                    <a:lnTo>
                      <a:pt x="407" y="5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947000" y="5344920"/>
                <a:ext cx="274680" cy="95400"/>
              </a:xfrm>
              <a:custGeom>
                <a:avLst/>
                <a:gdLst/>
                <a:ahLst/>
                <a:rect l="l" t="t" r="r" b="b"/>
                <a:pathLst>
                  <a:path w="407" h="53">
                    <a:moveTo>
                      <a:pt x="0" y="5"/>
                    </a:moveTo>
                    <a:lnTo>
                      <a:pt x="13" y="0"/>
                    </a:lnTo>
                    <a:lnTo>
                      <a:pt x="407" y="43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5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954920" y="5335560"/>
                <a:ext cx="266760" cy="87120"/>
              </a:xfrm>
              <a:custGeom>
                <a:avLst/>
                <a:gdLst/>
                <a:ahLst/>
                <a:rect l="l" t="t" r="r" b="b"/>
                <a:pathLst>
                  <a:path w="394" h="48">
                    <a:moveTo>
                      <a:pt x="0" y="5"/>
                    </a:moveTo>
                    <a:lnTo>
                      <a:pt x="14" y="0"/>
                    </a:lnTo>
                    <a:lnTo>
                      <a:pt x="394" y="44"/>
                    </a:lnTo>
                    <a:lnTo>
                      <a:pt x="394" y="44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394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966080" y="5327640"/>
                <a:ext cx="255600" cy="87120"/>
              </a:xfrm>
              <a:custGeom>
                <a:avLst/>
                <a:gdLst/>
                <a:ahLst/>
                <a:rect l="l" t="t" r="r" b="b"/>
                <a:pathLst>
                  <a:path w="380" h="48">
                    <a:moveTo>
                      <a:pt x="0" y="4"/>
                    </a:moveTo>
                    <a:lnTo>
                      <a:pt x="13" y="0"/>
                    </a:lnTo>
                    <a:lnTo>
                      <a:pt x="380" y="43"/>
                    </a:lnTo>
                    <a:lnTo>
                      <a:pt x="380" y="43"/>
                    </a:lnTo>
                    <a:lnTo>
                      <a:pt x="380" y="43"/>
                    </a:lnTo>
                    <a:lnTo>
                      <a:pt x="380" y="48"/>
                    </a:lnTo>
                    <a:lnTo>
                      <a:pt x="380" y="4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974000" y="531972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367" h="48">
                    <a:moveTo>
                      <a:pt x="0" y="5"/>
                    </a:moveTo>
                    <a:lnTo>
                      <a:pt x="13" y="0"/>
                    </a:lnTo>
                    <a:lnTo>
                      <a:pt x="367" y="38"/>
                    </a:lnTo>
                    <a:lnTo>
                      <a:pt x="367" y="43"/>
                    </a:lnTo>
                    <a:lnTo>
                      <a:pt x="367" y="43"/>
                    </a:lnTo>
                    <a:lnTo>
                      <a:pt x="367" y="43"/>
                    </a:lnTo>
                    <a:lnTo>
                      <a:pt x="367" y="4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981920" y="5310000"/>
                <a:ext cx="239760" cy="77760"/>
              </a:xfrm>
              <a:custGeom>
                <a:avLst/>
                <a:gdLst/>
                <a:ahLst/>
                <a:rect l="l" t="t" r="r" b="b"/>
                <a:pathLst>
                  <a:path w="354" h="43">
                    <a:moveTo>
                      <a:pt x="0" y="5"/>
                    </a:moveTo>
                    <a:lnTo>
                      <a:pt x="13" y="0"/>
                    </a:lnTo>
                    <a:lnTo>
                      <a:pt x="354" y="38"/>
                    </a:lnTo>
                    <a:lnTo>
                      <a:pt x="354" y="38"/>
                    </a:lnTo>
                    <a:lnTo>
                      <a:pt x="354" y="38"/>
                    </a:lnTo>
                    <a:lnTo>
                      <a:pt x="354" y="43"/>
                    </a:lnTo>
                    <a:lnTo>
                      <a:pt x="354" y="4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991640" y="5292720"/>
                <a:ext cx="230040" cy="85680"/>
              </a:xfrm>
              <a:custGeom>
                <a:avLst/>
                <a:gdLst/>
                <a:ahLst/>
                <a:rect l="l" t="t" r="r" b="b"/>
                <a:pathLst>
                  <a:path w="341" h="48">
                    <a:moveTo>
                      <a:pt x="0" y="1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341" y="39"/>
                    </a:lnTo>
                    <a:lnTo>
                      <a:pt x="341" y="39"/>
                    </a:lnTo>
                    <a:lnTo>
                      <a:pt x="341" y="44"/>
                    </a:lnTo>
                    <a:lnTo>
                      <a:pt x="341" y="44"/>
                    </a:lnTo>
                    <a:lnTo>
                      <a:pt x="341" y="4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999560" y="5284440"/>
                <a:ext cx="222120" cy="78120"/>
              </a:xfrm>
              <a:custGeom>
                <a:avLst/>
                <a:gdLst/>
                <a:ahLst/>
                <a:rect l="l" t="t" r="r" b="b"/>
                <a:pathLst>
                  <a:path w="328" h="43">
                    <a:moveTo>
                      <a:pt x="0" y="4"/>
                    </a:moveTo>
                    <a:lnTo>
                      <a:pt x="0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315" y="33"/>
                    </a:lnTo>
                    <a:lnTo>
                      <a:pt x="315" y="38"/>
                    </a:lnTo>
                    <a:lnTo>
                      <a:pt x="315" y="38"/>
                    </a:lnTo>
                    <a:lnTo>
                      <a:pt x="315" y="43"/>
                    </a:lnTo>
                    <a:lnTo>
                      <a:pt x="328" y="4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008920" y="5275080"/>
                <a:ext cx="203400" cy="69840"/>
              </a:xfrm>
              <a:custGeom>
                <a:avLst/>
                <a:gdLst/>
                <a:ahLst/>
                <a:rect l="l" t="t" r="r" b="b"/>
                <a:pathLst>
                  <a:path w="302" h="38">
                    <a:moveTo>
                      <a:pt x="0" y="5"/>
                    </a:moveTo>
                    <a:lnTo>
                      <a:pt x="13" y="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0"/>
                    </a:lnTo>
                    <a:lnTo>
                      <a:pt x="289" y="33"/>
                    </a:lnTo>
                    <a:lnTo>
                      <a:pt x="289" y="33"/>
                    </a:lnTo>
                    <a:lnTo>
                      <a:pt x="302" y="33"/>
                    </a:lnTo>
                    <a:lnTo>
                      <a:pt x="302" y="38"/>
                    </a:lnTo>
                    <a:lnTo>
                      <a:pt x="302" y="38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026560" y="5275080"/>
                <a:ext cx="177840" cy="60480"/>
              </a:xfrm>
              <a:custGeom>
                <a:avLst/>
                <a:gdLst/>
                <a:ahLst/>
                <a:rect l="l" t="t" r="r" b="b"/>
                <a:pathLst>
                  <a:path w="263" h="33">
                    <a:moveTo>
                      <a:pt x="0" y="0"/>
                    </a:moveTo>
                    <a:lnTo>
                      <a:pt x="13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0" y="0"/>
                    </a:lnTo>
                    <a:lnTo>
                      <a:pt x="250" y="24"/>
                    </a:lnTo>
                    <a:lnTo>
                      <a:pt x="250" y="24"/>
                    </a:lnTo>
                    <a:lnTo>
                      <a:pt x="263" y="29"/>
                    </a:lnTo>
                    <a:lnTo>
                      <a:pt x="263" y="29"/>
                    </a:lnTo>
                    <a:lnTo>
                      <a:pt x="263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053560" y="5267160"/>
                <a:ext cx="141120" cy="52560"/>
              </a:xfrm>
              <a:custGeom>
                <a:avLst/>
                <a:gdLst/>
                <a:ahLst/>
                <a:rect l="l" t="t" r="r" b="b"/>
                <a:pathLst>
                  <a:path w="210" h="29">
                    <a:moveTo>
                      <a:pt x="0" y="5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183" y="14"/>
                    </a:lnTo>
                    <a:lnTo>
                      <a:pt x="183" y="19"/>
                    </a:lnTo>
                    <a:lnTo>
                      <a:pt x="197" y="24"/>
                    </a:lnTo>
                    <a:lnTo>
                      <a:pt x="210" y="24"/>
                    </a:lnTo>
                    <a:lnTo>
                      <a:pt x="210" y="2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080560" y="5267160"/>
                <a:ext cx="96840" cy="25560"/>
              </a:xfrm>
              <a:custGeom>
                <a:avLst/>
                <a:gdLst/>
                <a:ahLst/>
                <a:rect l="l" t="t" r="r" b="b"/>
                <a:pathLst>
                  <a:path w="144" h="14">
                    <a:moveTo>
                      <a:pt x="0" y="0"/>
                    </a:moveTo>
                    <a:lnTo>
                      <a:pt x="13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105" y="10"/>
                    </a:lnTo>
                    <a:lnTo>
                      <a:pt x="131" y="14"/>
                    </a:lnTo>
                    <a:lnTo>
                      <a:pt x="1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540920" y="60386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506000" y="6022800"/>
                <a:ext cx="61560" cy="15840"/>
              </a:xfrm>
              <a:custGeom>
                <a:avLst/>
                <a:gdLst/>
                <a:ahLst/>
                <a:rect l="l" t="t" r="r" b="b"/>
                <a:pathLst>
                  <a:path w="92" h="9">
                    <a:moveTo>
                      <a:pt x="53" y="9"/>
                    </a:moveTo>
                    <a:lnTo>
                      <a:pt x="40" y="9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0" y="4"/>
                    </a:lnTo>
                    <a:lnTo>
                      <a:pt x="13" y="0"/>
                    </a:lnTo>
                    <a:lnTo>
                      <a:pt x="92" y="4"/>
                    </a:lnTo>
                    <a:lnTo>
                      <a:pt x="79" y="9"/>
                    </a:lnTo>
                    <a:lnTo>
                      <a:pt x="53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13920" y="60134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14" y="0"/>
                    </a:lnTo>
                    <a:lnTo>
                      <a:pt x="105" y="5"/>
                    </a:lnTo>
                    <a:lnTo>
                      <a:pt x="79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24720" y="600552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04" h="10">
                    <a:moveTo>
                      <a:pt x="0" y="5"/>
                    </a:moveTo>
                    <a:lnTo>
                      <a:pt x="26" y="0"/>
                    </a:lnTo>
                    <a:lnTo>
                      <a:pt x="104" y="0"/>
                    </a:lnTo>
                    <a:lnTo>
                      <a:pt x="91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40920" y="598644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92" h="10">
                    <a:moveTo>
                      <a:pt x="0" y="10"/>
                    </a:moveTo>
                    <a:lnTo>
                      <a:pt x="13" y="0"/>
                    </a:lnTo>
                    <a:lnTo>
                      <a:pt x="92" y="5"/>
                    </a:lnTo>
                    <a:lnTo>
                      <a:pt x="78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50280" y="59799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4"/>
                    </a:moveTo>
                    <a:lnTo>
                      <a:pt x="26" y="0"/>
                    </a:lnTo>
                    <a:lnTo>
                      <a:pt x="105" y="0"/>
                    </a:lnTo>
                    <a:lnTo>
                      <a:pt x="79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67560" y="5970240"/>
                <a:ext cx="71640" cy="9720"/>
              </a:xfrm>
              <a:custGeom>
                <a:avLst/>
                <a:gdLst/>
                <a:ahLst/>
                <a:rect l="l" t="t" r="r" b="b"/>
                <a:pathLst>
                  <a:path w="105" h="5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79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75840" y="595296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10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5200" y="594360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27" y="0"/>
                    </a:lnTo>
                    <a:lnTo>
                      <a:pt x="105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04280" y="5935320"/>
                <a:ext cx="69840" cy="8280"/>
              </a:xfrm>
              <a:custGeom>
                <a:avLst/>
                <a:gdLst/>
                <a:ahLst/>
                <a:rect l="l" t="t" r="r" b="b"/>
                <a:pathLst>
                  <a:path w="105" h="4">
                    <a:moveTo>
                      <a:pt x="0" y="4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78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12200" y="5918040"/>
                <a:ext cx="79200" cy="172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29480" y="5908680"/>
                <a:ext cx="69840" cy="1872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39200" y="5900400"/>
                <a:ext cx="77760" cy="828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26" y="0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55040" y="588312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9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64400" y="587520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9" h="10">
                    <a:moveTo>
                      <a:pt x="0" y="5"/>
                    </a:moveTo>
                    <a:lnTo>
                      <a:pt x="27" y="0"/>
                    </a:lnTo>
                    <a:lnTo>
                      <a:pt x="119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82040" y="5856120"/>
                <a:ext cx="71280" cy="190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10"/>
                    </a:moveTo>
                    <a:lnTo>
                      <a:pt x="13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91400" y="584964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26" y="0"/>
                    </a:lnTo>
                    <a:lnTo>
                      <a:pt x="118" y="4"/>
                    </a:lnTo>
                    <a:lnTo>
                      <a:pt x="92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09040" y="584028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13" y="0"/>
                    </a:lnTo>
                    <a:lnTo>
                      <a:pt x="105" y="0"/>
                    </a:lnTo>
                    <a:lnTo>
                      <a:pt x="9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16960" y="5822640"/>
                <a:ext cx="8100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92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734600" y="581328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105" h="10">
                    <a:moveTo>
                      <a:pt x="0" y="5"/>
                    </a:moveTo>
                    <a:lnTo>
                      <a:pt x="14" y="0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45400" y="5805360"/>
                <a:ext cx="77760" cy="1728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1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753320" y="5787720"/>
                <a:ext cx="7956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26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70960" y="5778360"/>
                <a:ext cx="7920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2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80320" y="5770440"/>
                <a:ext cx="77760" cy="7920"/>
              </a:xfrm>
              <a:custGeom>
                <a:avLst/>
                <a:gdLst/>
                <a:ahLst/>
                <a:rect l="l" t="t" r="r" b="b"/>
                <a:pathLst>
                  <a:path w="118" h="5">
                    <a:moveTo>
                      <a:pt x="0" y="5"/>
                    </a:moveTo>
                    <a:lnTo>
                      <a:pt x="26" y="0"/>
                    </a:lnTo>
                    <a:lnTo>
                      <a:pt x="118" y="0"/>
                    </a:lnTo>
                    <a:lnTo>
                      <a:pt x="105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97960" y="5752800"/>
                <a:ext cx="77760" cy="176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9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9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805880" y="5744880"/>
                <a:ext cx="7920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27" y="0"/>
                    </a:lnTo>
                    <a:lnTo>
                      <a:pt x="118" y="0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823160" y="572580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91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832880" y="571968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4"/>
                    </a:moveTo>
                    <a:lnTo>
                      <a:pt x="26" y="0"/>
                    </a:lnTo>
                    <a:lnTo>
                      <a:pt x="118" y="4"/>
                    </a:lnTo>
                    <a:lnTo>
                      <a:pt x="10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850160" y="5709960"/>
                <a:ext cx="795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92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58080" y="569268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10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867800" y="5682960"/>
                <a:ext cx="87120" cy="1764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6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85080" y="5675040"/>
                <a:ext cx="81000" cy="17640"/>
              </a:xfrm>
              <a:custGeom>
                <a:avLst/>
                <a:gdLst/>
                <a:ahLst/>
                <a:rect l="l" t="t" r="r" b="b"/>
                <a:pathLst>
                  <a:path w="119" h="9">
                    <a:moveTo>
                      <a:pt x="0" y="4"/>
                    </a:moveTo>
                    <a:lnTo>
                      <a:pt x="14" y="0"/>
                    </a:lnTo>
                    <a:lnTo>
                      <a:pt x="119" y="0"/>
                    </a:lnTo>
                    <a:lnTo>
                      <a:pt x="105" y="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894800" y="56577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10"/>
                    </a:moveTo>
                    <a:lnTo>
                      <a:pt x="26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12080" y="5648040"/>
                <a:ext cx="79560" cy="1908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21800" y="563868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6" y="0"/>
                    </a:lnTo>
                    <a:lnTo>
                      <a:pt x="131" y="0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39080" y="5622840"/>
                <a:ext cx="77760" cy="158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0" y="9"/>
                    </a:moveTo>
                    <a:lnTo>
                      <a:pt x="13" y="0"/>
                    </a:lnTo>
                    <a:lnTo>
                      <a:pt x="118" y="5"/>
                    </a:lnTo>
                    <a:lnTo>
                      <a:pt x="10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47000" y="5614920"/>
                <a:ext cx="88920" cy="17280"/>
              </a:xfrm>
              <a:custGeom>
                <a:avLst/>
                <a:gdLst/>
                <a:ahLst/>
                <a:rect l="l" t="t" r="r" b="b"/>
                <a:pathLst>
                  <a:path w="131" h="10">
                    <a:moveTo>
                      <a:pt x="0" y="5"/>
                    </a:moveTo>
                    <a:lnTo>
                      <a:pt x="27" y="0"/>
                    </a:lnTo>
                    <a:lnTo>
                      <a:pt x="131" y="5"/>
                    </a:lnTo>
                    <a:lnTo>
                      <a:pt x="10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66080" y="5605200"/>
                <a:ext cx="79560" cy="17640"/>
              </a:xfrm>
              <a:custGeom>
                <a:avLst/>
                <a:gdLst/>
                <a:ahLst/>
                <a:rect l="l" t="t" r="r" b="b"/>
                <a:pathLst>
                  <a:path w="118" h="10">
                    <a:moveTo>
                      <a:pt x="0" y="5"/>
                    </a:moveTo>
                    <a:lnTo>
                      <a:pt x="13" y="0"/>
                    </a:lnTo>
                    <a:lnTo>
                      <a:pt x="118" y="0"/>
                    </a:lnTo>
                    <a:lnTo>
                      <a:pt x="104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74000" y="558936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31" h="9">
                    <a:moveTo>
                      <a:pt x="0" y="9"/>
                    </a:moveTo>
                    <a:lnTo>
                      <a:pt x="26" y="0"/>
                    </a:lnTo>
                    <a:lnTo>
                      <a:pt x="131" y="4"/>
                    </a:lnTo>
                    <a:lnTo>
                      <a:pt x="105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91640" y="558000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0" y="5"/>
                    </a:moveTo>
                    <a:lnTo>
                      <a:pt x="0" y="0"/>
                    </a:lnTo>
                    <a:lnTo>
                      <a:pt x="105" y="5"/>
                    </a:lnTo>
                    <a:lnTo>
                      <a:pt x="105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497720" y="60134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0" y="0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488360" y="5995800"/>
                <a:ext cx="52560" cy="176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13" y="10"/>
                    </a:moveTo>
                    <a:lnTo>
                      <a:pt x="13" y="1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79" y="0"/>
                    </a:lnTo>
                    <a:lnTo>
                      <a:pt x="53" y="10"/>
                    </a:lnTo>
                    <a:lnTo>
                      <a:pt x="13" y="1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480440" y="5979960"/>
                <a:ext cx="77760" cy="25560"/>
              </a:xfrm>
              <a:custGeom>
                <a:avLst/>
                <a:gdLst/>
                <a:ahLst/>
                <a:rect l="l" t="t" r="r" b="b"/>
                <a:pathLst>
                  <a:path w="118" h="14">
                    <a:moveTo>
                      <a:pt x="13" y="14"/>
                    </a:moveTo>
                    <a:lnTo>
                      <a:pt x="13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118" y="0"/>
                    </a:lnTo>
                    <a:lnTo>
                      <a:pt x="92" y="9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62800" y="5960880"/>
                <a:ext cx="113040" cy="25560"/>
              </a:xfrm>
              <a:custGeom>
                <a:avLst/>
                <a:gdLst/>
                <a:ahLst/>
                <a:rect l="l" t="t" r="r" b="b"/>
                <a:pathLst>
                  <a:path w="170" h="14">
                    <a:moveTo>
                      <a:pt x="26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3" y="10"/>
                    </a:lnTo>
                    <a:lnTo>
                      <a:pt x="170" y="0"/>
                    </a:lnTo>
                    <a:lnTo>
                      <a:pt x="144" y="10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70720" y="594360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183" h="20">
                    <a:moveTo>
                      <a:pt x="0" y="20"/>
                    </a:moveTo>
                    <a:lnTo>
                      <a:pt x="13" y="10"/>
                    </a:lnTo>
                    <a:lnTo>
                      <a:pt x="183" y="0"/>
                    </a:lnTo>
                    <a:lnTo>
                      <a:pt x="157" y="1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006040" y="5300640"/>
                <a:ext cx="156960" cy="77760"/>
              </a:xfrm>
              <a:custGeom>
                <a:avLst/>
                <a:gdLst/>
                <a:ahLst/>
                <a:rect l="l" t="t" r="r" b="b"/>
                <a:pathLst>
                  <a:path w="237" h="43">
                    <a:moveTo>
                      <a:pt x="0" y="43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3" y="19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66" y="5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18" y="0"/>
                    </a:lnTo>
                    <a:lnTo>
                      <a:pt x="145" y="0"/>
                    </a:lnTo>
                    <a:lnTo>
                      <a:pt x="171" y="0"/>
                    </a:lnTo>
                    <a:lnTo>
                      <a:pt x="184" y="5"/>
                    </a:lnTo>
                    <a:lnTo>
                      <a:pt x="197" y="10"/>
                    </a:lnTo>
                    <a:lnTo>
                      <a:pt x="210" y="15"/>
                    </a:lnTo>
                    <a:lnTo>
                      <a:pt x="237" y="29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37" y="34"/>
                    </a:lnTo>
                    <a:lnTo>
                      <a:pt x="223" y="24"/>
                    </a:lnTo>
                    <a:lnTo>
                      <a:pt x="210" y="19"/>
                    </a:lnTo>
                    <a:lnTo>
                      <a:pt x="197" y="15"/>
                    </a:lnTo>
                    <a:lnTo>
                      <a:pt x="184" y="10"/>
                    </a:lnTo>
                    <a:lnTo>
                      <a:pt x="158" y="5"/>
                    </a:lnTo>
                    <a:lnTo>
                      <a:pt x="145" y="0"/>
                    </a:lnTo>
                    <a:lnTo>
                      <a:pt x="118" y="0"/>
                    </a:lnTo>
                    <a:lnTo>
                      <a:pt x="92" y="0"/>
                    </a:lnTo>
                    <a:lnTo>
                      <a:pt x="79" y="5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27" y="19"/>
                    </a:lnTo>
                    <a:lnTo>
                      <a:pt x="13" y="2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06040" y="5378400"/>
                <a:ext cx="156960" cy="81000"/>
              </a:xfrm>
              <a:custGeom>
                <a:avLst/>
                <a:gdLst/>
                <a:ahLst/>
                <a:rect l="l" t="t" r="r" b="b"/>
                <a:pathLst>
                  <a:path w="23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40" y="34"/>
                    </a:lnTo>
                    <a:lnTo>
                      <a:pt x="53" y="34"/>
                    </a:lnTo>
                    <a:lnTo>
                      <a:pt x="66" y="39"/>
                    </a:lnTo>
                    <a:lnTo>
                      <a:pt x="92" y="44"/>
                    </a:lnTo>
                    <a:lnTo>
                      <a:pt x="105" y="44"/>
                    </a:lnTo>
                    <a:lnTo>
                      <a:pt x="132" y="44"/>
                    </a:lnTo>
                    <a:lnTo>
                      <a:pt x="158" y="44"/>
                    </a:lnTo>
                    <a:lnTo>
                      <a:pt x="171" y="39"/>
                    </a:lnTo>
                    <a:lnTo>
                      <a:pt x="197" y="34"/>
                    </a:lnTo>
                    <a:lnTo>
                      <a:pt x="210" y="29"/>
                    </a:lnTo>
                    <a:lnTo>
                      <a:pt x="237" y="15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37" y="10"/>
                    </a:lnTo>
                    <a:lnTo>
                      <a:pt x="223" y="15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184" y="34"/>
                    </a:lnTo>
                    <a:lnTo>
                      <a:pt x="158" y="39"/>
                    </a:lnTo>
                    <a:lnTo>
                      <a:pt x="145" y="39"/>
                    </a:lnTo>
                    <a:lnTo>
                      <a:pt x="118" y="44"/>
                    </a:lnTo>
                    <a:lnTo>
                      <a:pt x="92" y="39"/>
                    </a:lnTo>
                    <a:lnTo>
                      <a:pt x="79" y="39"/>
                    </a:lnTo>
                    <a:lnTo>
                      <a:pt x="53" y="34"/>
                    </a:lnTo>
                    <a:lnTo>
                      <a:pt x="40" y="29"/>
                    </a:lnTo>
                    <a:lnTo>
                      <a:pt x="27" y="24"/>
                    </a:lnTo>
                    <a:lnTo>
                      <a:pt x="13" y="15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006040" y="5300640"/>
                <a:ext cx="156960" cy="77760"/>
              </a:xfrm>
              <a:custGeom>
                <a:avLst/>
                <a:gdLst/>
                <a:ahLst/>
                <a:rect l="l" t="t" r="r" b="b"/>
                <a:pathLst>
                  <a:path w="237" h="43">
                    <a:moveTo>
                      <a:pt x="0" y="43"/>
                    </a:moveTo>
                    <a:lnTo>
                      <a:pt x="0" y="34"/>
                    </a:lnTo>
                    <a:lnTo>
                      <a:pt x="13" y="24"/>
                    </a:lnTo>
                    <a:lnTo>
                      <a:pt x="27" y="19"/>
                    </a:lnTo>
                    <a:lnTo>
                      <a:pt x="40" y="15"/>
                    </a:lnTo>
                    <a:lnTo>
                      <a:pt x="53" y="10"/>
                    </a:lnTo>
                    <a:lnTo>
                      <a:pt x="79" y="5"/>
                    </a:lnTo>
                    <a:lnTo>
                      <a:pt x="92" y="0"/>
                    </a:lnTo>
                    <a:lnTo>
                      <a:pt x="118" y="0"/>
                    </a:lnTo>
                    <a:lnTo>
                      <a:pt x="145" y="0"/>
                    </a:lnTo>
                    <a:lnTo>
                      <a:pt x="158" y="5"/>
                    </a:lnTo>
                    <a:lnTo>
                      <a:pt x="184" y="10"/>
                    </a:lnTo>
                    <a:lnTo>
                      <a:pt x="197" y="15"/>
                    </a:lnTo>
                    <a:lnTo>
                      <a:pt x="210" y="19"/>
                    </a:lnTo>
                    <a:lnTo>
                      <a:pt x="223" y="24"/>
                    </a:lnTo>
                    <a:lnTo>
                      <a:pt x="237" y="34"/>
                    </a:lnTo>
                    <a:lnTo>
                      <a:pt x="237" y="43"/>
                    </a:lnTo>
                    <a:lnTo>
                      <a:pt x="237" y="43"/>
                    </a:lnTo>
                    <a:lnTo>
                      <a:pt x="223" y="43"/>
                    </a:lnTo>
                    <a:lnTo>
                      <a:pt x="223" y="43"/>
                    </a:lnTo>
                    <a:lnTo>
                      <a:pt x="223" y="34"/>
                    </a:lnTo>
                    <a:lnTo>
                      <a:pt x="223" y="29"/>
                    </a:lnTo>
                    <a:lnTo>
                      <a:pt x="210" y="19"/>
                    </a:lnTo>
                    <a:lnTo>
                      <a:pt x="197" y="15"/>
                    </a:lnTo>
                    <a:lnTo>
                      <a:pt x="184" y="10"/>
                    </a:lnTo>
                    <a:lnTo>
                      <a:pt x="158" y="5"/>
                    </a:lnTo>
                    <a:lnTo>
                      <a:pt x="145" y="5"/>
                    </a:lnTo>
                    <a:lnTo>
                      <a:pt x="118" y="0"/>
                    </a:lnTo>
                    <a:lnTo>
                      <a:pt x="92" y="5"/>
                    </a:lnTo>
                    <a:lnTo>
                      <a:pt x="79" y="5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27" y="19"/>
                    </a:lnTo>
                    <a:lnTo>
                      <a:pt x="13" y="29"/>
                    </a:lnTo>
                    <a:lnTo>
                      <a:pt x="13" y="34"/>
                    </a:lnTo>
                    <a:lnTo>
                      <a:pt x="13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006040" y="5378400"/>
                <a:ext cx="156960" cy="81000"/>
              </a:xfrm>
              <a:custGeom>
                <a:avLst/>
                <a:gdLst/>
                <a:ahLst/>
                <a:rect l="l" t="t" r="r" b="b"/>
                <a:pathLst>
                  <a:path w="237" h="44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7" y="24"/>
                    </a:lnTo>
                    <a:lnTo>
                      <a:pt x="40" y="29"/>
                    </a:lnTo>
                    <a:lnTo>
                      <a:pt x="53" y="34"/>
                    </a:lnTo>
                    <a:lnTo>
                      <a:pt x="79" y="39"/>
                    </a:lnTo>
                    <a:lnTo>
                      <a:pt x="92" y="39"/>
                    </a:lnTo>
                    <a:lnTo>
                      <a:pt x="118" y="44"/>
                    </a:lnTo>
                    <a:lnTo>
                      <a:pt x="145" y="39"/>
                    </a:lnTo>
                    <a:lnTo>
                      <a:pt x="158" y="39"/>
                    </a:lnTo>
                    <a:lnTo>
                      <a:pt x="184" y="34"/>
                    </a:lnTo>
                    <a:lnTo>
                      <a:pt x="197" y="29"/>
                    </a:lnTo>
                    <a:lnTo>
                      <a:pt x="210" y="24"/>
                    </a:lnTo>
                    <a:lnTo>
                      <a:pt x="223" y="15"/>
                    </a:lnTo>
                    <a:lnTo>
                      <a:pt x="237" y="10"/>
                    </a:lnTo>
                    <a:lnTo>
                      <a:pt x="237" y="0"/>
                    </a:lnTo>
                    <a:lnTo>
                      <a:pt x="223" y="0"/>
                    </a:lnTo>
                    <a:lnTo>
                      <a:pt x="223" y="10"/>
                    </a:lnTo>
                    <a:lnTo>
                      <a:pt x="223" y="15"/>
                    </a:lnTo>
                    <a:lnTo>
                      <a:pt x="210" y="24"/>
                    </a:lnTo>
                    <a:lnTo>
                      <a:pt x="197" y="29"/>
                    </a:lnTo>
                    <a:lnTo>
                      <a:pt x="184" y="34"/>
                    </a:lnTo>
                    <a:lnTo>
                      <a:pt x="158" y="39"/>
                    </a:lnTo>
                    <a:lnTo>
                      <a:pt x="145" y="39"/>
                    </a:lnTo>
                    <a:lnTo>
                      <a:pt x="118" y="39"/>
                    </a:lnTo>
                    <a:lnTo>
                      <a:pt x="92" y="39"/>
                    </a:lnTo>
                    <a:lnTo>
                      <a:pt x="79" y="39"/>
                    </a:lnTo>
                    <a:lnTo>
                      <a:pt x="53" y="34"/>
                    </a:lnTo>
                    <a:lnTo>
                      <a:pt x="40" y="29"/>
                    </a:lnTo>
                    <a:lnTo>
                      <a:pt x="27" y="24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013960" y="5300640"/>
                <a:ext cx="139680" cy="77760"/>
              </a:xfrm>
              <a:custGeom>
                <a:avLst/>
                <a:gdLst/>
                <a:ahLst/>
                <a:rect l="l" t="t" r="r" b="b"/>
                <a:pathLst>
                  <a:path w="210" h="43">
                    <a:moveTo>
                      <a:pt x="0" y="43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4" y="19"/>
                    </a:lnTo>
                    <a:lnTo>
                      <a:pt x="27" y="15"/>
                    </a:lnTo>
                    <a:lnTo>
                      <a:pt x="40" y="10"/>
                    </a:lnTo>
                    <a:lnTo>
                      <a:pt x="66" y="5"/>
                    </a:lnTo>
                    <a:lnTo>
                      <a:pt x="79" y="5"/>
                    </a:lnTo>
                    <a:lnTo>
                      <a:pt x="105" y="0"/>
                    </a:lnTo>
                    <a:lnTo>
                      <a:pt x="132" y="5"/>
                    </a:lnTo>
                    <a:lnTo>
                      <a:pt x="145" y="5"/>
                    </a:lnTo>
                    <a:lnTo>
                      <a:pt x="171" y="10"/>
                    </a:lnTo>
                    <a:lnTo>
                      <a:pt x="184" y="15"/>
                    </a:lnTo>
                    <a:lnTo>
                      <a:pt x="197" y="19"/>
                    </a:lnTo>
                    <a:lnTo>
                      <a:pt x="210" y="29"/>
                    </a:lnTo>
                    <a:lnTo>
                      <a:pt x="210" y="34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43"/>
                    </a:lnTo>
                    <a:lnTo>
                      <a:pt x="210" y="34"/>
                    </a:lnTo>
                    <a:lnTo>
                      <a:pt x="197" y="29"/>
                    </a:lnTo>
                    <a:lnTo>
                      <a:pt x="197" y="19"/>
                    </a:lnTo>
                    <a:lnTo>
                      <a:pt x="184" y="15"/>
                    </a:lnTo>
                    <a:lnTo>
                      <a:pt x="158" y="10"/>
                    </a:lnTo>
                    <a:lnTo>
                      <a:pt x="145" y="10"/>
                    </a:lnTo>
                    <a:lnTo>
                      <a:pt x="132" y="5"/>
                    </a:lnTo>
                    <a:lnTo>
                      <a:pt x="105" y="5"/>
                    </a:lnTo>
                    <a:lnTo>
                      <a:pt x="79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40" y="15"/>
                    </a:lnTo>
                    <a:lnTo>
                      <a:pt x="14" y="19"/>
                    </a:lnTo>
                    <a:lnTo>
                      <a:pt x="14" y="29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013960" y="537840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10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14" y="24"/>
                    </a:lnTo>
                    <a:lnTo>
                      <a:pt x="27" y="29"/>
                    </a:lnTo>
                    <a:lnTo>
                      <a:pt x="40" y="34"/>
                    </a:lnTo>
                    <a:lnTo>
                      <a:pt x="66" y="39"/>
                    </a:lnTo>
                    <a:lnTo>
                      <a:pt x="79" y="39"/>
                    </a:lnTo>
                    <a:lnTo>
                      <a:pt x="105" y="39"/>
                    </a:lnTo>
                    <a:lnTo>
                      <a:pt x="132" y="39"/>
                    </a:lnTo>
                    <a:lnTo>
                      <a:pt x="145" y="39"/>
                    </a:lnTo>
                    <a:lnTo>
                      <a:pt x="171" y="34"/>
                    </a:lnTo>
                    <a:lnTo>
                      <a:pt x="184" y="29"/>
                    </a:lnTo>
                    <a:lnTo>
                      <a:pt x="197" y="24"/>
                    </a:lnTo>
                    <a:lnTo>
                      <a:pt x="210" y="15"/>
                    </a:lnTo>
                    <a:lnTo>
                      <a:pt x="210" y="1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0" y="5"/>
                    </a:lnTo>
                    <a:lnTo>
                      <a:pt x="197" y="15"/>
                    </a:lnTo>
                    <a:lnTo>
                      <a:pt x="197" y="20"/>
                    </a:lnTo>
                    <a:lnTo>
                      <a:pt x="184" y="24"/>
                    </a:lnTo>
                    <a:lnTo>
                      <a:pt x="158" y="29"/>
                    </a:lnTo>
                    <a:lnTo>
                      <a:pt x="145" y="34"/>
                    </a:lnTo>
                    <a:lnTo>
                      <a:pt x="132" y="39"/>
                    </a:lnTo>
                    <a:lnTo>
                      <a:pt x="105" y="39"/>
                    </a:lnTo>
                    <a:lnTo>
                      <a:pt x="79" y="39"/>
                    </a:lnTo>
                    <a:lnTo>
                      <a:pt x="66" y="34"/>
                    </a:lnTo>
                    <a:lnTo>
                      <a:pt x="53" y="29"/>
                    </a:lnTo>
                    <a:lnTo>
                      <a:pt x="40" y="24"/>
                    </a:lnTo>
                    <a:lnTo>
                      <a:pt x="14" y="20"/>
                    </a:lnTo>
                    <a:lnTo>
                      <a:pt x="14" y="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013960" y="5310000"/>
                <a:ext cx="139680" cy="68400"/>
              </a:xfrm>
              <a:custGeom>
                <a:avLst/>
                <a:gdLst/>
                <a:ahLst/>
                <a:rect l="l" t="t" r="r" b="b"/>
                <a:pathLst>
                  <a:path w="210" h="38">
                    <a:moveTo>
                      <a:pt x="0" y="38"/>
                    </a:moveTo>
                    <a:lnTo>
                      <a:pt x="0" y="29"/>
                    </a:lnTo>
                    <a:lnTo>
                      <a:pt x="14" y="24"/>
                    </a:lnTo>
                    <a:lnTo>
                      <a:pt x="14" y="14"/>
                    </a:lnTo>
                    <a:lnTo>
                      <a:pt x="40" y="10"/>
                    </a:lnTo>
                    <a:lnTo>
                      <a:pt x="53" y="5"/>
                    </a:lnTo>
                    <a:lnTo>
                      <a:pt x="66" y="5"/>
                    </a:lnTo>
                    <a:lnTo>
                      <a:pt x="79" y="0"/>
                    </a:lnTo>
                    <a:lnTo>
                      <a:pt x="105" y="0"/>
                    </a:lnTo>
                    <a:lnTo>
                      <a:pt x="132" y="0"/>
                    </a:lnTo>
                    <a:lnTo>
                      <a:pt x="145" y="5"/>
                    </a:lnTo>
                    <a:lnTo>
                      <a:pt x="158" y="5"/>
                    </a:lnTo>
                    <a:lnTo>
                      <a:pt x="184" y="10"/>
                    </a:lnTo>
                    <a:lnTo>
                      <a:pt x="197" y="14"/>
                    </a:lnTo>
                    <a:lnTo>
                      <a:pt x="197" y="24"/>
                    </a:lnTo>
                    <a:lnTo>
                      <a:pt x="210" y="29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210" y="38"/>
                    </a:lnTo>
                    <a:lnTo>
                      <a:pt x="197" y="29"/>
                    </a:lnTo>
                    <a:lnTo>
                      <a:pt x="197" y="24"/>
                    </a:lnTo>
                    <a:lnTo>
                      <a:pt x="184" y="19"/>
                    </a:lnTo>
                    <a:lnTo>
                      <a:pt x="171" y="14"/>
                    </a:lnTo>
                    <a:lnTo>
                      <a:pt x="158" y="10"/>
                    </a:lnTo>
                    <a:lnTo>
                      <a:pt x="145" y="5"/>
                    </a:lnTo>
                    <a:lnTo>
                      <a:pt x="119" y="0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66" y="5"/>
                    </a:lnTo>
                    <a:lnTo>
                      <a:pt x="53" y="10"/>
                    </a:lnTo>
                    <a:lnTo>
                      <a:pt x="40" y="14"/>
                    </a:lnTo>
                    <a:lnTo>
                      <a:pt x="27" y="19"/>
                    </a:lnTo>
                    <a:lnTo>
                      <a:pt x="14" y="24"/>
                    </a:lnTo>
                    <a:lnTo>
                      <a:pt x="14" y="29"/>
                    </a:lnTo>
                    <a:lnTo>
                      <a:pt x="1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013960" y="5378400"/>
                <a:ext cx="139680" cy="71280"/>
              </a:xfrm>
              <a:custGeom>
                <a:avLst/>
                <a:gdLst/>
                <a:ahLst/>
                <a:rect l="l" t="t" r="r" b="b"/>
                <a:pathLst>
                  <a:path w="210" h="3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4" y="15"/>
                    </a:lnTo>
                    <a:lnTo>
                      <a:pt x="14" y="20"/>
                    </a:lnTo>
                    <a:lnTo>
                      <a:pt x="40" y="24"/>
                    </a:lnTo>
                    <a:lnTo>
                      <a:pt x="53" y="29"/>
                    </a:lnTo>
                    <a:lnTo>
                      <a:pt x="66" y="34"/>
                    </a:lnTo>
                    <a:lnTo>
                      <a:pt x="79" y="39"/>
                    </a:lnTo>
                    <a:lnTo>
                      <a:pt x="105" y="39"/>
                    </a:lnTo>
                    <a:lnTo>
                      <a:pt x="132" y="39"/>
                    </a:lnTo>
                    <a:lnTo>
                      <a:pt x="145" y="34"/>
                    </a:lnTo>
                    <a:lnTo>
                      <a:pt x="158" y="29"/>
                    </a:lnTo>
                    <a:lnTo>
                      <a:pt x="184" y="24"/>
                    </a:lnTo>
                    <a:lnTo>
                      <a:pt x="197" y="20"/>
                    </a:lnTo>
                    <a:lnTo>
                      <a:pt x="197" y="15"/>
                    </a:lnTo>
                    <a:lnTo>
                      <a:pt x="210" y="5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197" y="5"/>
                    </a:lnTo>
                    <a:lnTo>
                      <a:pt x="197" y="15"/>
                    </a:lnTo>
                    <a:lnTo>
                      <a:pt x="184" y="20"/>
                    </a:lnTo>
                    <a:lnTo>
                      <a:pt x="171" y="24"/>
                    </a:lnTo>
                    <a:lnTo>
                      <a:pt x="158" y="29"/>
                    </a:lnTo>
                    <a:lnTo>
                      <a:pt x="145" y="34"/>
                    </a:lnTo>
                    <a:lnTo>
                      <a:pt x="119" y="34"/>
                    </a:lnTo>
                    <a:lnTo>
                      <a:pt x="105" y="34"/>
                    </a:lnTo>
                    <a:lnTo>
                      <a:pt x="92" y="34"/>
                    </a:lnTo>
                    <a:lnTo>
                      <a:pt x="66" y="34"/>
                    </a:lnTo>
                    <a:lnTo>
                      <a:pt x="53" y="29"/>
                    </a:lnTo>
                    <a:lnTo>
                      <a:pt x="40" y="24"/>
                    </a:lnTo>
                    <a:lnTo>
                      <a:pt x="27" y="20"/>
                    </a:lnTo>
                    <a:lnTo>
                      <a:pt x="14" y="1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023320" y="5310000"/>
                <a:ext cx="130320" cy="68400"/>
              </a:xfrm>
              <a:custGeom>
                <a:avLst/>
                <a:gdLst/>
                <a:ahLst/>
                <a:rect l="l" t="t" r="r" b="b"/>
                <a:pathLst>
                  <a:path w="196" h="38">
                    <a:moveTo>
                      <a:pt x="0" y="38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13" y="19"/>
                    </a:lnTo>
                    <a:lnTo>
                      <a:pt x="26" y="14"/>
                    </a:lnTo>
                    <a:lnTo>
                      <a:pt x="39" y="10"/>
                    </a:lnTo>
                    <a:lnTo>
                      <a:pt x="52" y="5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5"/>
                    </a:lnTo>
                    <a:lnTo>
                      <a:pt x="144" y="10"/>
                    </a:lnTo>
                    <a:lnTo>
                      <a:pt x="157" y="14"/>
                    </a:lnTo>
                    <a:lnTo>
                      <a:pt x="170" y="19"/>
                    </a:lnTo>
                    <a:lnTo>
                      <a:pt x="183" y="24"/>
                    </a:lnTo>
                    <a:lnTo>
                      <a:pt x="183" y="29"/>
                    </a:lnTo>
                    <a:lnTo>
                      <a:pt x="196" y="38"/>
                    </a:lnTo>
                    <a:lnTo>
                      <a:pt x="196" y="38"/>
                    </a:lnTo>
                    <a:lnTo>
                      <a:pt x="183" y="38"/>
                    </a:lnTo>
                    <a:lnTo>
                      <a:pt x="183" y="38"/>
                    </a:lnTo>
                    <a:lnTo>
                      <a:pt x="183" y="29"/>
                    </a:lnTo>
                    <a:lnTo>
                      <a:pt x="183" y="24"/>
                    </a:lnTo>
                    <a:lnTo>
                      <a:pt x="170" y="19"/>
                    </a:lnTo>
                    <a:lnTo>
                      <a:pt x="157" y="14"/>
                    </a:lnTo>
                    <a:lnTo>
                      <a:pt x="144" y="10"/>
                    </a:lnTo>
                    <a:lnTo>
                      <a:pt x="131" y="5"/>
                    </a:lnTo>
                    <a:lnTo>
                      <a:pt x="105" y="5"/>
                    </a:lnTo>
                    <a:lnTo>
                      <a:pt x="91" y="5"/>
                    </a:lnTo>
                    <a:lnTo>
                      <a:pt x="78" y="5"/>
                    </a:lnTo>
                    <a:lnTo>
                      <a:pt x="52" y="5"/>
                    </a:lnTo>
                    <a:lnTo>
                      <a:pt x="39" y="10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4"/>
                    </a:lnTo>
                    <a:lnTo>
                      <a:pt x="0" y="29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023320" y="5378400"/>
                <a:ext cx="130320" cy="61920"/>
              </a:xfrm>
              <a:custGeom>
                <a:avLst/>
                <a:gdLst/>
                <a:ahLst/>
                <a:rect l="l" t="t" r="r" b="b"/>
                <a:pathLst>
                  <a:path w="196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5"/>
                    </a:lnTo>
                    <a:lnTo>
                      <a:pt x="13" y="20"/>
                    </a:lnTo>
                    <a:lnTo>
                      <a:pt x="26" y="24"/>
                    </a:lnTo>
                    <a:lnTo>
                      <a:pt x="39" y="29"/>
                    </a:lnTo>
                    <a:lnTo>
                      <a:pt x="52" y="34"/>
                    </a:lnTo>
                    <a:lnTo>
                      <a:pt x="78" y="34"/>
                    </a:lnTo>
                    <a:lnTo>
                      <a:pt x="91" y="34"/>
                    </a:lnTo>
                    <a:lnTo>
                      <a:pt x="105" y="34"/>
                    </a:lnTo>
                    <a:lnTo>
                      <a:pt x="131" y="34"/>
                    </a:lnTo>
                    <a:lnTo>
                      <a:pt x="144" y="29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83" y="15"/>
                    </a:lnTo>
                    <a:lnTo>
                      <a:pt x="183" y="5"/>
                    </a:lnTo>
                    <a:lnTo>
                      <a:pt x="196" y="0"/>
                    </a:lnTo>
                    <a:lnTo>
                      <a:pt x="183" y="0"/>
                    </a:lnTo>
                    <a:lnTo>
                      <a:pt x="183" y="5"/>
                    </a:lnTo>
                    <a:lnTo>
                      <a:pt x="183" y="15"/>
                    </a:lnTo>
                    <a:lnTo>
                      <a:pt x="170" y="20"/>
                    </a:lnTo>
                    <a:lnTo>
                      <a:pt x="157" y="24"/>
                    </a:lnTo>
                    <a:lnTo>
                      <a:pt x="144" y="29"/>
                    </a:lnTo>
                    <a:lnTo>
                      <a:pt x="131" y="29"/>
                    </a:lnTo>
                    <a:lnTo>
                      <a:pt x="105" y="34"/>
                    </a:lnTo>
                    <a:lnTo>
                      <a:pt x="91" y="34"/>
                    </a:lnTo>
                    <a:lnTo>
                      <a:pt x="78" y="34"/>
                    </a:lnTo>
                    <a:lnTo>
                      <a:pt x="52" y="29"/>
                    </a:lnTo>
                    <a:lnTo>
                      <a:pt x="39" y="29"/>
                    </a:lnTo>
                    <a:lnTo>
                      <a:pt x="26" y="24"/>
                    </a:lnTo>
                    <a:lnTo>
                      <a:pt x="13" y="20"/>
                    </a:lnTo>
                    <a:lnTo>
                      <a:pt x="13" y="1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023320" y="531972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0" y="33"/>
                    </a:moveTo>
                    <a:lnTo>
                      <a:pt x="0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52" y="0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0"/>
                    </a:lnTo>
                    <a:lnTo>
                      <a:pt x="144" y="5"/>
                    </a:lnTo>
                    <a:lnTo>
                      <a:pt x="157" y="9"/>
                    </a:lnTo>
                    <a:lnTo>
                      <a:pt x="170" y="14"/>
                    </a:lnTo>
                    <a:lnTo>
                      <a:pt x="183" y="19"/>
                    </a:lnTo>
                    <a:lnTo>
                      <a:pt x="183" y="24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83" y="29"/>
                    </a:lnTo>
                    <a:lnTo>
                      <a:pt x="170" y="19"/>
                    </a:lnTo>
                    <a:lnTo>
                      <a:pt x="170" y="14"/>
                    </a:lnTo>
                    <a:lnTo>
                      <a:pt x="157" y="9"/>
                    </a:lnTo>
                    <a:lnTo>
                      <a:pt x="144" y="5"/>
                    </a:lnTo>
                    <a:lnTo>
                      <a:pt x="131" y="5"/>
                    </a:lnTo>
                    <a:lnTo>
                      <a:pt x="105" y="0"/>
                    </a:lnTo>
                    <a:lnTo>
                      <a:pt x="91" y="0"/>
                    </a:lnTo>
                    <a:lnTo>
                      <a:pt x="78" y="0"/>
                    </a:lnTo>
                    <a:lnTo>
                      <a:pt x="65" y="5"/>
                    </a:lnTo>
                    <a:lnTo>
                      <a:pt x="39" y="5"/>
                    </a:lnTo>
                    <a:lnTo>
                      <a:pt x="26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023320" y="5378400"/>
                <a:ext cx="120600" cy="6192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26" y="24"/>
                    </a:lnTo>
                    <a:lnTo>
                      <a:pt x="39" y="29"/>
                    </a:lnTo>
                    <a:lnTo>
                      <a:pt x="52" y="29"/>
                    </a:lnTo>
                    <a:lnTo>
                      <a:pt x="78" y="34"/>
                    </a:lnTo>
                    <a:lnTo>
                      <a:pt x="91" y="34"/>
                    </a:lnTo>
                    <a:lnTo>
                      <a:pt x="105" y="34"/>
                    </a:lnTo>
                    <a:lnTo>
                      <a:pt x="131" y="29"/>
                    </a:lnTo>
                    <a:lnTo>
                      <a:pt x="144" y="29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83" y="15"/>
                    </a:lnTo>
                    <a:lnTo>
                      <a:pt x="183" y="5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3" y="5"/>
                    </a:lnTo>
                    <a:lnTo>
                      <a:pt x="170" y="10"/>
                    </a:lnTo>
                    <a:lnTo>
                      <a:pt x="170" y="20"/>
                    </a:lnTo>
                    <a:lnTo>
                      <a:pt x="157" y="24"/>
                    </a:lnTo>
                    <a:lnTo>
                      <a:pt x="144" y="24"/>
                    </a:lnTo>
                    <a:lnTo>
                      <a:pt x="131" y="29"/>
                    </a:lnTo>
                    <a:lnTo>
                      <a:pt x="105" y="29"/>
                    </a:lnTo>
                    <a:lnTo>
                      <a:pt x="91" y="34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39" y="24"/>
                    </a:lnTo>
                    <a:lnTo>
                      <a:pt x="26" y="24"/>
                    </a:lnTo>
                    <a:lnTo>
                      <a:pt x="26" y="2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023320" y="531972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183" h="33">
                    <a:moveTo>
                      <a:pt x="0" y="33"/>
                    </a:moveTo>
                    <a:lnTo>
                      <a:pt x="0" y="29"/>
                    </a:lnTo>
                    <a:lnTo>
                      <a:pt x="13" y="19"/>
                    </a:lnTo>
                    <a:lnTo>
                      <a:pt x="26" y="14"/>
                    </a:lnTo>
                    <a:lnTo>
                      <a:pt x="26" y="9"/>
                    </a:lnTo>
                    <a:lnTo>
                      <a:pt x="39" y="5"/>
                    </a:lnTo>
                    <a:lnTo>
                      <a:pt x="65" y="5"/>
                    </a:lnTo>
                    <a:lnTo>
                      <a:pt x="78" y="0"/>
                    </a:lnTo>
                    <a:lnTo>
                      <a:pt x="91" y="0"/>
                    </a:lnTo>
                    <a:lnTo>
                      <a:pt x="105" y="0"/>
                    </a:lnTo>
                    <a:lnTo>
                      <a:pt x="131" y="5"/>
                    </a:lnTo>
                    <a:lnTo>
                      <a:pt x="144" y="5"/>
                    </a:lnTo>
                    <a:lnTo>
                      <a:pt x="157" y="9"/>
                    </a:lnTo>
                    <a:lnTo>
                      <a:pt x="170" y="14"/>
                    </a:lnTo>
                    <a:lnTo>
                      <a:pt x="170" y="19"/>
                    </a:lnTo>
                    <a:lnTo>
                      <a:pt x="183" y="29"/>
                    </a:lnTo>
                    <a:lnTo>
                      <a:pt x="183" y="33"/>
                    </a:lnTo>
                    <a:lnTo>
                      <a:pt x="183" y="33"/>
                    </a:lnTo>
                    <a:lnTo>
                      <a:pt x="170" y="33"/>
                    </a:lnTo>
                    <a:lnTo>
                      <a:pt x="170" y="33"/>
                    </a:lnTo>
                    <a:lnTo>
                      <a:pt x="170" y="29"/>
                    </a:lnTo>
                    <a:lnTo>
                      <a:pt x="170" y="19"/>
                    </a:lnTo>
                    <a:lnTo>
                      <a:pt x="157" y="14"/>
                    </a:lnTo>
                    <a:lnTo>
                      <a:pt x="144" y="9"/>
                    </a:lnTo>
                    <a:lnTo>
                      <a:pt x="144" y="9"/>
                    </a:lnTo>
                    <a:lnTo>
                      <a:pt x="118" y="5"/>
                    </a:lnTo>
                    <a:lnTo>
                      <a:pt x="105" y="5"/>
                    </a:lnTo>
                    <a:lnTo>
                      <a:pt x="91" y="5"/>
                    </a:lnTo>
                    <a:lnTo>
                      <a:pt x="78" y="5"/>
                    </a:lnTo>
                    <a:lnTo>
                      <a:pt x="65" y="5"/>
                    </a:lnTo>
                    <a:lnTo>
                      <a:pt x="52" y="9"/>
                    </a:lnTo>
                    <a:lnTo>
                      <a:pt x="39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9"/>
                    </a:lnTo>
                    <a:lnTo>
                      <a:pt x="13" y="3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23320" y="5378400"/>
                <a:ext cx="120600" cy="61920"/>
              </a:xfrm>
              <a:custGeom>
                <a:avLst/>
                <a:gdLst/>
                <a:ahLst/>
                <a:rect l="l" t="t" r="r" b="b"/>
                <a:pathLst>
                  <a:path w="183" h="3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20"/>
                    </a:lnTo>
                    <a:lnTo>
                      <a:pt x="26" y="24"/>
                    </a:lnTo>
                    <a:lnTo>
                      <a:pt x="39" y="24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1" y="34"/>
                    </a:lnTo>
                    <a:lnTo>
                      <a:pt x="105" y="29"/>
                    </a:lnTo>
                    <a:lnTo>
                      <a:pt x="131" y="29"/>
                    </a:lnTo>
                    <a:lnTo>
                      <a:pt x="144" y="24"/>
                    </a:lnTo>
                    <a:lnTo>
                      <a:pt x="157" y="24"/>
                    </a:lnTo>
                    <a:lnTo>
                      <a:pt x="170" y="20"/>
                    </a:lnTo>
                    <a:lnTo>
                      <a:pt x="170" y="10"/>
                    </a:lnTo>
                    <a:lnTo>
                      <a:pt x="183" y="5"/>
                    </a:lnTo>
                    <a:lnTo>
                      <a:pt x="183" y="0"/>
                    </a:lnTo>
                    <a:lnTo>
                      <a:pt x="170" y="0"/>
                    </a:lnTo>
                    <a:lnTo>
                      <a:pt x="170" y="5"/>
                    </a:lnTo>
                    <a:lnTo>
                      <a:pt x="170" y="10"/>
                    </a:lnTo>
                    <a:lnTo>
                      <a:pt x="157" y="15"/>
                    </a:lnTo>
                    <a:lnTo>
                      <a:pt x="144" y="20"/>
                    </a:lnTo>
                    <a:lnTo>
                      <a:pt x="144" y="24"/>
                    </a:lnTo>
                    <a:lnTo>
                      <a:pt x="118" y="29"/>
                    </a:lnTo>
                    <a:lnTo>
                      <a:pt x="105" y="29"/>
                    </a:lnTo>
                    <a:lnTo>
                      <a:pt x="91" y="29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52" y="24"/>
                    </a:lnTo>
                    <a:lnTo>
                      <a:pt x="39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031240" y="5327640"/>
                <a:ext cx="104760" cy="50760"/>
              </a:xfrm>
              <a:custGeom>
                <a:avLst/>
                <a:gdLst/>
                <a:ahLst/>
                <a:rect l="l" t="t" r="r" b="b"/>
                <a:pathLst>
                  <a:path w="157" h="28">
                    <a:moveTo>
                      <a:pt x="0" y="28"/>
                    </a:moveTo>
                    <a:lnTo>
                      <a:pt x="0" y="24"/>
                    </a:lnTo>
                    <a:lnTo>
                      <a:pt x="0" y="14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39" y="4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31" y="4"/>
                    </a:lnTo>
                    <a:lnTo>
                      <a:pt x="131" y="4"/>
                    </a:lnTo>
                    <a:lnTo>
                      <a:pt x="144" y="9"/>
                    </a:lnTo>
                    <a:lnTo>
                      <a:pt x="157" y="14"/>
                    </a:lnTo>
                    <a:lnTo>
                      <a:pt x="157" y="24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57" y="24"/>
                    </a:lnTo>
                    <a:lnTo>
                      <a:pt x="144" y="19"/>
                    </a:lnTo>
                    <a:lnTo>
                      <a:pt x="144" y="14"/>
                    </a:lnTo>
                    <a:lnTo>
                      <a:pt x="131" y="9"/>
                    </a:lnTo>
                    <a:lnTo>
                      <a:pt x="118" y="4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78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13" y="14"/>
                    </a:lnTo>
                    <a:lnTo>
                      <a:pt x="13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031240" y="537840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157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9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2" y="29"/>
                    </a:lnTo>
                    <a:lnTo>
                      <a:pt x="105" y="29"/>
                    </a:lnTo>
                    <a:lnTo>
                      <a:pt x="131" y="24"/>
                    </a:lnTo>
                    <a:lnTo>
                      <a:pt x="131" y="20"/>
                    </a:lnTo>
                    <a:lnTo>
                      <a:pt x="144" y="15"/>
                    </a:lnTo>
                    <a:lnTo>
                      <a:pt x="157" y="10"/>
                    </a:lnTo>
                    <a:lnTo>
                      <a:pt x="157" y="5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5"/>
                    </a:lnTo>
                    <a:lnTo>
                      <a:pt x="144" y="10"/>
                    </a:lnTo>
                    <a:lnTo>
                      <a:pt x="144" y="15"/>
                    </a:lnTo>
                    <a:lnTo>
                      <a:pt x="131" y="20"/>
                    </a:lnTo>
                    <a:lnTo>
                      <a:pt x="118" y="24"/>
                    </a:lnTo>
                    <a:lnTo>
                      <a:pt x="105" y="24"/>
                    </a:lnTo>
                    <a:lnTo>
                      <a:pt x="92" y="29"/>
                    </a:lnTo>
                    <a:lnTo>
                      <a:pt x="78" y="29"/>
                    </a:lnTo>
                    <a:lnTo>
                      <a:pt x="65" y="29"/>
                    </a:lnTo>
                    <a:lnTo>
                      <a:pt x="52" y="24"/>
                    </a:lnTo>
                    <a:lnTo>
                      <a:pt x="39" y="24"/>
                    </a:lnTo>
                    <a:lnTo>
                      <a:pt x="26" y="20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031240" y="5327640"/>
                <a:ext cx="104760" cy="50760"/>
              </a:xfrm>
              <a:custGeom>
                <a:avLst/>
                <a:gdLst/>
                <a:ahLst/>
                <a:rect l="l" t="t" r="r" b="b"/>
                <a:pathLst>
                  <a:path w="157" h="28">
                    <a:moveTo>
                      <a:pt x="0" y="28"/>
                    </a:moveTo>
                    <a:lnTo>
                      <a:pt x="0" y="24"/>
                    </a:lnTo>
                    <a:lnTo>
                      <a:pt x="13" y="19"/>
                    </a:lnTo>
                    <a:lnTo>
                      <a:pt x="13" y="14"/>
                    </a:lnTo>
                    <a:lnTo>
                      <a:pt x="26" y="9"/>
                    </a:lnTo>
                    <a:lnTo>
                      <a:pt x="39" y="4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8" y="0"/>
                    </a:lnTo>
                    <a:lnTo>
                      <a:pt x="92" y="0"/>
                    </a:lnTo>
                    <a:lnTo>
                      <a:pt x="105" y="0"/>
                    </a:lnTo>
                    <a:lnTo>
                      <a:pt x="118" y="4"/>
                    </a:lnTo>
                    <a:lnTo>
                      <a:pt x="131" y="9"/>
                    </a:lnTo>
                    <a:lnTo>
                      <a:pt x="144" y="14"/>
                    </a:lnTo>
                    <a:lnTo>
                      <a:pt x="144" y="19"/>
                    </a:lnTo>
                    <a:lnTo>
                      <a:pt x="157" y="24"/>
                    </a:lnTo>
                    <a:lnTo>
                      <a:pt x="157" y="28"/>
                    </a:lnTo>
                    <a:lnTo>
                      <a:pt x="157" y="28"/>
                    </a:lnTo>
                    <a:lnTo>
                      <a:pt x="144" y="28"/>
                    </a:lnTo>
                    <a:lnTo>
                      <a:pt x="144" y="28"/>
                    </a:lnTo>
                    <a:lnTo>
                      <a:pt x="144" y="24"/>
                    </a:lnTo>
                    <a:lnTo>
                      <a:pt x="144" y="19"/>
                    </a:lnTo>
                    <a:lnTo>
                      <a:pt x="131" y="14"/>
                    </a:lnTo>
                    <a:lnTo>
                      <a:pt x="131" y="9"/>
                    </a:lnTo>
                    <a:lnTo>
                      <a:pt x="118" y="4"/>
                    </a:lnTo>
                    <a:lnTo>
                      <a:pt x="105" y="4"/>
                    </a:lnTo>
                    <a:lnTo>
                      <a:pt x="92" y="4"/>
                    </a:lnTo>
                    <a:lnTo>
                      <a:pt x="78" y="0"/>
                    </a:lnTo>
                    <a:lnTo>
                      <a:pt x="65" y="4"/>
                    </a:lnTo>
                    <a:lnTo>
                      <a:pt x="52" y="4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26" y="14"/>
                    </a:lnTo>
                    <a:lnTo>
                      <a:pt x="13" y="19"/>
                    </a:lnTo>
                    <a:lnTo>
                      <a:pt x="13" y="24"/>
                    </a:lnTo>
                    <a:lnTo>
                      <a:pt x="13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31240" y="5378400"/>
                <a:ext cx="104760" cy="52200"/>
              </a:xfrm>
              <a:custGeom>
                <a:avLst/>
                <a:gdLst/>
                <a:ahLst/>
                <a:rect l="l" t="t" r="r" b="b"/>
                <a:pathLst>
                  <a:path w="157" h="2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9"/>
                    </a:lnTo>
                    <a:lnTo>
                      <a:pt x="78" y="29"/>
                    </a:lnTo>
                    <a:lnTo>
                      <a:pt x="92" y="29"/>
                    </a:lnTo>
                    <a:lnTo>
                      <a:pt x="105" y="24"/>
                    </a:lnTo>
                    <a:lnTo>
                      <a:pt x="118" y="24"/>
                    </a:lnTo>
                    <a:lnTo>
                      <a:pt x="131" y="20"/>
                    </a:lnTo>
                    <a:lnTo>
                      <a:pt x="144" y="15"/>
                    </a:lnTo>
                    <a:lnTo>
                      <a:pt x="144" y="10"/>
                    </a:lnTo>
                    <a:lnTo>
                      <a:pt x="157" y="5"/>
                    </a:lnTo>
                    <a:lnTo>
                      <a:pt x="157" y="0"/>
                    </a:lnTo>
                    <a:lnTo>
                      <a:pt x="144" y="0"/>
                    </a:lnTo>
                    <a:lnTo>
                      <a:pt x="144" y="5"/>
                    </a:lnTo>
                    <a:lnTo>
                      <a:pt x="144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18" y="20"/>
                    </a:lnTo>
                    <a:lnTo>
                      <a:pt x="105" y="24"/>
                    </a:lnTo>
                    <a:lnTo>
                      <a:pt x="92" y="24"/>
                    </a:lnTo>
                    <a:lnTo>
                      <a:pt x="78" y="24"/>
                    </a:lnTo>
                    <a:lnTo>
                      <a:pt x="65" y="24"/>
                    </a:lnTo>
                    <a:lnTo>
                      <a:pt x="52" y="24"/>
                    </a:lnTo>
                    <a:lnTo>
                      <a:pt x="39" y="20"/>
                    </a:lnTo>
                    <a:lnTo>
                      <a:pt x="26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8039160" y="5327640"/>
                <a:ext cx="87480" cy="5076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0" y="28"/>
                    </a:moveTo>
                    <a:lnTo>
                      <a:pt x="0" y="24"/>
                    </a:lnTo>
                    <a:lnTo>
                      <a:pt x="0" y="19"/>
                    </a:lnTo>
                    <a:lnTo>
                      <a:pt x="13" y="14"/>
                    </a:lnTo>
                    <a:lnTo>
                      <a:pt x="13" y="9"/>
                    </a:lnTo>
                    <a:lnTo>
                      <a:pt x="26" y="4"/>
                    </a:lnTo>
                    <a:lnTo>
                      <a:pt x="39" y="4"/>
                    </a:lnTo>
                    <a:lnTo>
                      <a:pt x="52" y="4"/>
                    </a:lnTo>
                    <a:lnTo>
                      <a:pt x="65" y="0"/>
                    </a:lnTo>
                    <a:lnTo>
                      <a:pt x="79" y="4"/>
                    </a:lnTo>
                    <a:lnTo>
                      <a:pt x="92" y="4"/>
                    </a:lnTo>
                    <a:lnTo>
                      <a:pt x="105" y="4"/>
                    </a:lnTo>
                    <a:lnTo>
                      <a:pt x="118" y="9"/>
                    </a:lnTo>
                    <a:lnTo>
                      <a:pt x="118" y="14"/>
                    </a:lnTo>
                    <a:lnTo>
                      <a:pt x="131" y="19"/>
                    </a:lnTo>
                    <a:lnTo>
                      <a:pt x="131" y="24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8"/>
                    </a:lnTo>
                    <a:lnTo>
                      <a:pt x="131" y="24"/>
                    </a:lnTo>
                    <a:lnTo>
                      <a:pt x="131" y="19"/>
                    </a:lnTo>
                    <a:lnTo>
                      <a:pt x="118" y="14"/>
                    </a:lnTo>
                    <a:lnTo>
                      <a:pt x="118" y="9"/>
                    </a:lnTo>
                    <a:lnTo>
                      <a:pt x="105" y="9"/>
                    </a:lnTo>
                    <a:lnTo>
                      <a:pt x="92" y="4"/>
                    </a:lnTo>
                    <a:lnTo>
                      <a:pt x="79" y="4"/>
                    </a:lnTo>
                    <a:lnTo>
                      <a:pt x="65" y="4"/>
                    </a:lnTo>
                    <a:lnTo>
                      <a:pt x="52" y="4"/>
                    </a:lnTo>
                    <a:lnTo>
                      <a:pt x="39" y="4"/>
                    </a:lnTo>
                    <a:lnTo>
                      <a:pt x="26" y="9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8039160" y="5378400"/>
                <a:ext cx="87480" cy="4428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4"/>
                    </a:lnTo>
                    <a:lnTo>
                      <a:pt x="79" y="24"/>
                    </a:lnTo>
                    <a:lnTo>
                      <a:pt x="92" y="24"/>
                    </a:lnTo>
                    <a:lnTo>
                      <a:pt x="105" y="20"/>
                    </a:lnTo>
                    <a:lnTo>
                      <a:pt x="118" y="20"/>
                    </a:lnTo>
                    <a:lnTo>
                      <a:pt x="118" y="15"/>
                    </a:lnTo>
                    <a:lnTo>
                      <a:pt x="131" y="10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1" y="5"/>
                    </a:lnTo>
                    <a:lnTo>
                      <a:pt x="131" y="10"/>
                    </a:lnTo>
                    <a:lnTo>
                      <a:pt x="118" y="15"/>
                    </a:lnTo>
                    <a:lnTo>
                      <a:pt x="118" y="15"/>
                    </a:lnTo>
                    <a:lnTo>
                      <a:pt x="105" y="20"/>
                    </a:lnTo>
                    <a:lnTo>
                      <a:pt x="92" y="24"/>
                    </a:lnTo>
                    <a:lnTo>
                      <a:pt x="79" y="24"/>
                    </a:lnTo>
                    <a:lnTo>
                      <a:pt x="65" y="24"/>
                    </a:lnTo>
                    <a:lnTo>
                      <a:pt x="52" y="24"/>
                    </a:lnTo>
                    <a:lnTo>
                      <a:pt x="39" y="24"/>
                    </a:lnTo>
                    <a:lnTo>
                      <a:pt x="26" y="20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039160" y="5335560"/>
                <a:ext cx="87480" cy="4284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5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79" y="0"/>
                    </a:lnTo>
                    <a:lnTo>
                      <a:pt x="92" y="0"/>
                    </a:lnTo>
                    <a:lnTo>
                      <a:pt x="105" y="5"/>
                    </a:lnTo>
                    <a:lnTo>
                      <a:pt x="118" y="5"/>
                    </a:lnTo>
                    <a:lnTo>
                      <a:pt x="118" y="10"/>
                    </a:lnTo>
                    <a:lnTo>
                      <a:pt x="131" y="15"/>
                    </a:lnTo>
                    <a:lnTo>
                      <a:pt x="131" y="20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31" y="24"/>
                    </a:lnTo>
                    <a:lnTo>
                      <a:pt x="118" y="20"/>
                    </a:lnTo>
                    <a:lnTo>
                      <a:pt x="118" y="15"/>
                    </a:lnTo>
                    <a:lnTo>
                      <a:pt x="118" y="10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92" y="5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13" y="20"/>
                    </a:lnTo>
                    <a:lnTo>
                      <a:pt x="13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039160" y="5378400"/>
                <a:ext cx="87480" cy="4428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39" y="24"/>
                    </a:lnTo>
                    <a:lnTo>
                      <a:pt x="52" y="24"/>
                    </a:lnTo>
                    <a:lnTo>
                      <a:pt x="65" y="24"/>
                    </a:lnTo>
                    <a:lnTo>
                      <a:pt x="79" y="24"/>
                    </a:lnTo>
                    <a:lnTo>
                      <a:pt x="92" y="24"/>
                    </a:lnTo>
                    <a:lnTo>
                      <a:pt x="105" y="20"/>
                    </a:lnTo>
                    <a:lnTo>
                      <a:pt x="118" y="15"/>
                    </a:lnTo>
                    <a:lnTo>
                      <a:pt x="118" y="15"/>
                    </a:lnTo>
                    <a:lnTo>
                      <a:pt x="131" y="10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18" y="5"/>
                    </a:lnTo>
                    <a:lnTo>
                      <a:pt x="118" y="10"/>
                    </a:lnTo>
                    <a:lnTo>
                      <a:pt x="118" y="10"/>
                    </a:lnTo>
                    <a:lnTo>
                      <a:pt x="105" y="15"/>
                    </a:lnTo>
                    <a:lnTo>
                      <a:pt x="105" y="20"/>
                    </a:lnTo>
                    <a:lnTo>
                      <a:pt x="92" y="20"/>
                    </a:lnTo>
                    <a:lnTo>
                      <a:pt x="79" y="20"/>
                    </a:lnTo>
                    <a:lnTo>
                      <a:pt x="65" y="20"/>
                    </a:lnTo>
                    <a:lnTo>
                      <a:pt x="52" y="20"/>
                    </a:lnTo>
                    <a:lnTo>
                      <a:pt x="39" y="20"/>
                    </a:lnTo>
                    <a:lnTo>
                      <a:pt x="39" y="20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048880" y="5335560"/>
                <a:ext cx="77760" cy="42840"/>
              </a:xfrm>
              <a:custGeom>
                <a:avLst/>
                <a:gdLst/>
                <a:ahLst/>
                <a:rect l="l" t="t" r="r" b="b"/>
                <a:pathLst>
                  <a:path w="1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92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20"/>
                    </a:lnTo>
                    <a:lnTo>
                      <a:pt x="118" y="24"/>
                    </a:lnTo>
                    <a:lnTo>
                      <a:pt x="118" y="24"/>
                    </a:lnTo>
                    <a:lnTo>
                      <a:pt x="105" y="24"/>
                    </a:lnTo>
                    <a:lnTo>
                      <a:pt x="105" y="24"/>
                    </a:lnTo>
                    <a:lnTo>
                      <a:pt x="105" y="20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92" y="10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66" y="5"/>
                    </a:lnTo>
                    <a:lnTo>
                      <a:pt x="52" y="5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048880" y="537840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118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3" y="15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39" y="20"/>
                    </a:lnTo>
                    <a:lnTo>
                      <a:pt x="52" y="20"/>
                    </a:lnTo>
                    <a:lnTo>
                      <a:pt x="66" y="20"/>
                    </a:lnTo>
                    <a:lnTo>
                      <a:pt x="79" y="20"/>
                    </a:lnTo>
                    <a:lnTo>
                      <a:pt x="92" y="20"/>
                    </a:lnTo>
                    <a:lnTo>
                      <a:pt x="92" y="15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18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10"/>
                    </a:lnTo>
                    <a:lnTo>
                      <a:pt x="92" y="15"/>
                    </a:lnTo>
                    <a:lnTo>
                      <a:pt x="79" y="15"/>
                    </a:lnTo>
                    <a:lnTo>
                      <a:pt x="79" y="20"/>
                    </a:lnTo>
                    <a:lnTo>
                      <a:pt x="66" y="20"/>
                    </a:lnTo>
                    <a:lnTo>
                      <a:pt x="52" y="20"/>
                    </a:lnTo>
                    <a:lnTo>
                      <a:pt x="39" y="20"/>
                    </a:lnTo>
                    <a:lnTo>
                      <a:pt x="26" y="20"/>
                    </a:lnTo>
                    <a:lnTo>
                      <a:pt x="26" y="15"/>
                    </a:lnTo>
                    <a:lnTo>
                      <a:pt x="13" y="15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048880" y="53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19"/>
                    </a:moveTo>
                    <a:lnTo>
                      <a:pt x="0" y="1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92" y="5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105" y="15"/>
                    </a:lnTo>
                    <a:lnTo>
                      <a:pt x="105" y="10"/>
                    </a:lnTo>
                    <a:lnTo>
                      <a:pt x="92" y="10"/>
                    </a:lnTo>
                    <a:lnTo>
                      <a:pt x="92" y="5"/>
                    </a:lnTo>
                    <a:lnTo>
                      <a:pt x="79" y="5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52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048880" y="537840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05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13" y="15"/>
                    </a:lnTo>
                    <a:lnTo>
                      <a:pt x="26" y="15"/>
                    </a:lnTo>
                    <a:lnTo>
                      <a:pt x="26" y="20"/>
                    </a:lnTo>
                    <a:lnTo>
                      <a:pt x="39" y="20"/>
                    </a:lnTo>
                    <a:lnTo>
                      <a:pt x="52" y="20"/>
                    </a:lnTo>
                    <a:lnTo>
                      <a:pt x="66" y="20"/>
                    </a:lnTo>
                    <a:lnTo>
                      <a:pt x="79" y="20"/>
                    </a:lnTo>
                    <a:lnTo>
                      <a:pt x="79" y="15"/>
                    </a:lnTo>
                    <a:lnTo>
                      <a:pt x="92" y="15"/>
                    </a:lnTo>
                    <a:lnTo>
                      <a:pt x="105" y="1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79" y="15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52" y="20"/>
                    </a:lnTo>
                    <a:lnTo>
                      <a:pt x="39" y="15"/>
                    </a:lnTo>
                    <a:lnTo>
                      <a:pt x="39" y="15"/>
                    </a:lnTo>
                    <a:lnTo>
                      <a:pt x="26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48880" y="5344920"/>
                <a:ext cx="69840" cy="33480"/>
              </a:xfrm>
              <a:custGeom>
                <a:avLst/>
                <a:gdLst/>
                <a:ahLst/>
                <a:rect l="l" t="t" r="r" b="b"/>
                <a:pathLst>
                  <a:path w="105" h="19">
                    <a:moveTo>
                      <a:pt x="0" y="19"/>
                    </a:moveTo>
                    <a:lnTo>
                      <a:pt x="0" y="1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52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9" y="5"/>
                    </a:lnTo>
                    <a:lnTo>
                      <a:pt x="92" y="5"/>
                    </a:lnTo>
                    <a:lnTo>
                      <a:pt x="92" y="10"/>
                    </a:lnTo>
                    <a:lnTo>
                      <a:pt x="105" y="10"/>
                    </a:lnTo>
                    <a:lnTo>
                      <a:pt x="105" y="15"/>
                    </a:lnTo>
                    <a:lnTo>
                      <a:pt x="105" y="19"/>
                    </a:lnTo>
                    <a:lnTo>
                      <a:pt x="105" y="19"/>
                    </a:lnTo>
                    <a:lnTo>
                      <a:pt x="92" y="19"/>
                    </a:lnTo>
                    <a:lnTo>
                      <a:pt x="92" y="19"/>
                    </a:lnTo>
                    <a:lnTo>
                      <a:pt x="92" y="15"/>
                    </a:lnTo>
                    <a:lnTo>
                      <a:pt x="79" y="5"/>
                    </a:lnTo>
                    <a:lnTo>
                      <a:pt x="66" y="5"/>
                    </a:lnTo>
                    <a:lnTo>
                      <a:pt x="52" y="0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13" y="15"/>
                    </a:lnTo>
                    <a:lnTo>
                      <a:pt x="13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048880" y="537840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105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26" y="15"/>
                    </a:lnTo>
                    <a:lnTo>
                      <a:pt x="39" y="15"/>
                    </a:lnTo>
                    <a:lnTo>
                      <a:pt x="39" y="15"/>
                    </a:lnTo>
                    <a:lnTo>
                      <a:pt x="52" y="20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79" y="15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105" y="5"/>
                    </a:lnTo>
                    <a:lnTo>
                      <a:pt x="105" y="5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92" y="5"/>
                    </a:lnTo>
                    <a:lnTo>
                      <a:pt x="79" y="10"/>
                    </a:lnTo>
                    <a:lnTo>
                      <a:pt x="66" y="15"/>
                    </a:lnTo>
                    <a:lnTo>
                      <a:pt x="52" y="15"/>
                    </a:lnTo>
                    <a:lnTo>
                      <a:pt x="39" y="15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058240" y="5344920"/>
                <a:ext cx="52560" cy="33480"/>
              </a:xfrm>
              <a:custGeom>
                <a:avLst/>
                <a:gdLst/>
                <a:ahLst/>
                <a:rect l="l" t="t" r="r" b="b"/>
                <a:pathLst>
                  <a:path w="79" h="19">
                    <a:moveTo>
                      <a:pt x="0" y="19"/>
                    </a:moveTo>
                    <a:lnTo>
                      <a:pt x="0" y="15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53" y="5"/>
                    </a:lnTo>
                    <a:lnTo>
                      <a:pt x="66" y="5"/>
                    </a:lnTo>
                    <a:lnTo>
                      <a:pt x="79" y="15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9"/>
                    </a:lnTo>
                    <a:lnTo>
                      <a:pt x="79" y="15"/>
                    </a:lnTo>
                    <a:lnTo>
                      <a:pt x="66" y="10"/>
                    </a:lnTo>
                    <a:lnTo>
                      <a:pt x="53" y="5"/>
                    </a:lnTo>
                    <a:lnTo>
                      <a:pt x="39" y="5"/>
                    </a:lnTo>
                    <a:lnTo>
                      <a:pt x="26" y="5"/>
                    </a:lnTo>
                    <a:lnTo>
                      <a:pt x="13" y="10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058240" y="537840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15"/>
                    </a:lnTo>
                    <a:lnTo>
                      <a:pt x="39" y="15"/>
                    </a:lnTo>
                    <a:lnTo>
                      <a:pt x="53" y="15"/>
                    </a:lnTo>
                    <a:lnTo>
                      <a:pt x="66" y="10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39" y="15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058240" y="535284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79" h="14">
                    <a:moveTo>
                      <a:pt x="0" y="14"/>
                    </a:moveTo>
                    <a:lnTo>
                      <a:pt x="0" y="10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39" y="0"/>
                    </a:lnTo>
                    <a:lnTo>
                      <a:pt x="53" y="0"/>
                    </a:lnTo>
                    <a:lnTo>
                      <a:pt x="66" y="5"/>
                    </a:lnTo>
                    <a:lnTo>
                      <a:pt x="79" y="10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79" y="14"/>
                    </a:lnTo>
                    <a:lnTo>
                      <a:pt x="66" y="10"/>
                    </a:lnTo>
                    <a:lnTo>
                      <a:pt x="66" y="5"/>
                    </a:lnTo>
                    <a:lnTo>
                      <a:pt x="53" y="5"/>
                    </a:lnTo>
                    <a:lnTo>
                      <a:pt x="39" y="0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13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058240" y="537840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39" y="15"/>
                    </a:lnTo>
                    <a:lnTo>
                      <a:pt x="53" y="10"/>
                    </a:lnTo>
                    <a:lnTo>
                      <a:pt x="66" y="10"/>
                    </a:lnTo>
                    <a:lnTo>
                      <a:pt x="79" y="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6" y="5"/>
                    </a:lnTo>
                    <a:lnTo>
                      <a:pt x="66" y="10"/>
                    </a:lnTo>
                    <a:lnTo>
                      <a:pt x="53" y="10"/>
                    </a:lnTo>
                    <a:lnTo>
                      <a:pt x="39" y="10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066160" y="53528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66" h="14">
                    <a:moveTo>
                      <a:pt x="0" y="14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26" y="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10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066160" y="537840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66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40" y="10"/>
                    </a:lnTo>
                    <a:lnTo>
                      <a:pt x="53" y="10"/>
                    </a:lnTo>
                    <a:lnTo>
                      <a:pt x="53" y="5"/>
                    </a:lnTo>
                    <a:lnTo>
                      <a:pt x="66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40" y="10"/>
                    </a:lnTo>
                    <a:lnTo>
                      <a:pt x="26" y="10"/>
                    </a:lnTo>
                    <a:lnTo>
                      <a:pt x="13" y="1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066160" y="5362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0" y="9"/>
                    </a:move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26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66160" y="53784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10"/>
                    </a:lnTo>
                    <a:lnTo>
                      <a:pt x="26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1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066160" y="5362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53" h="9">
                    <a:moveTo>
                      <a:pt x="0" y="9"/>
                    </a:moveTo>
                    <a:lnTo>
                      <a:pt x="0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26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066160" y="53784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6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13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075880" y="53784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075880" y="537840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944120" y="53197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144" h="81">
                    <a:moveTo>
                      <a:pt x="144" y="81"/>
                    </a:moveTo>
                    <a:lnTo>
                      <a:pt x="118" y="77"/>
                    </a:lnTo>
                    <a:lnTo>
                      <a:pt x="91" y="72"/>
                    </a:lnTo>
                    <a:lnTo>
                      <a:pt x="65" y="62"/>
                    </a:lnTo>
                    <a:lnTo>
                      <a:pt x="39" y="53"/>
                    </a:lnTo>
                    <a:lnTo>
                      <a:pt x="13" y="43"/>
                    </a:lnTo>
                    <a:lnTo>
                      <a:pt x="13" y="29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39" y="0"/>
                    </a:lnTo>
                    <a:lnTo>
                      <a:pt x="39" y="14"/>
                    </a:lnTo>
                    <a:lnTo>
                      <a:pt x="39" y="24"/>
                    </a:lnTo>
                    <a:lnTo>
                      <a:pt x="52" y="38"/>
                    </a:lnTo>
                    <a:lnTo>
                      <a:pt x="52" y="48"/>
                    </a:lnTo>
                    <a:lnTo>
                      <a:pt x="65" y="57"/>
                    </a:lnTo>
                    <a:lnTo>
                      <a:pt x="91" y="67"/>
                    </a:lnTo>
                    <a:lnTo>
                      <a:pt x="118" y="77"/>
                    </a:lnTo>
                    <a:lnTo>
                      <a:pt x="144" y="81"/>
                    </a:lnTo>
                    <a:close/>
                  </a:path>
                </a:pathLst>
              </a:cu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5" name=""/>
          <p:cNvSpPr/>
          <p:nvPr/>
        </p:nvSpPr>
        <p:spPr>
          <a:xfrm>
            <a:off x="685800" y="3962520"/>
            <a:ext cx="784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A value of 0 indicates a symmetric 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compu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9" name=""/>
          <p:cNvSpPr/>
          <p:nvPr/>
        </p:nvSpPr>
        <p:spPr>
          <a:xfrm>
            <a:off x="1754280" y="57913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04920" y="1387440"/>
            <a:ext cx="609480" cy="581400"/>
            <a:chOff x="304920" y="1387440"/>
            <a:chExt cx="609480" cy="5814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304920" y="146196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1960" y="138744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920" y="2470320"/>
            <a:ext cx="609480" cy="581400"/>
            <a:chOff x="304920" y="2470320"/>
            <a:chExt cx="609480" cy="581400"/>
          </a:xfrm>
        </p:grpSpPr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304920" y="2544480"/>
              <a:ext cx="60948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1960" y="24703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04920" y="3352680"/>
            <a:ext cx="609480" cy="581400"/>
            <a:chOff x="304920" y="3352680"/>
            <a:chExt cx="609480" cy="581400"/>
          </a:xfrm>
        </p:grpSpPr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304920" y="342720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1960" y="33526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04920" y="4281480"/>
            <a:ext cx="609480" cy="581400"/>
            <a:chOff x="304920" y="4281480"/>
            <a:chExt cx="609480" cy="581400"/>
          </a:xfrm>
        </p:grpSpPr>
        <p:pic>
          <p:nvPicPr>
            <p:cNvPr id="70" name="" descr=""/>
            <p:cNvPicPr/>
            <p:nvPr/>
          </p:nvPicPr>
          <p:blipFill>
            <a:blip r:embed="rId6"/>
            <a:stretch/>
          </p:blipFill>
          <p:spPr>
            <a:xfrm>
              <a:off x="304920" y="435600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1960" y="428148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600200" y="1463760"/>
            <a:ext cx="739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6920" y="1387440"/>
            <a:ext cx="731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tand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Chebyshev’s theor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orm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or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empirical ru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s it relates to a set of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66920" y="239400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and interpret 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percenti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quarti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interquartile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48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 and interpret box p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66920" y="426708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and describe th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oefficient of skewne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kurtos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data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"/>
          <p:cNvGrpSpPr/>
          <p:nvPr/>
        </p:nvGrpSpPr>
        <p:grpSpPr>
          <a:xfrm>
            <a:off x="1775160" y="380880"/>
            <a:ext cx="5234760" cy="762120"/>
            <a:chOff x="1775160" y="380880"/>
            <a:chExt cx="5234760" cy="762120"/>
          </a:xfrm>
        </p:grpSpPr>
        <p:grpSp>
          <p:nvGrpSpPr>
            <p:cNvPr id="1167" name=""/>
            <p:cNvGrpSpPr/>
            <p:nvPr/>
          </p:nvGrpSpPr>
          <p:grpSpPr>
            <a:xfrm>
              <a:off x="4724280" y="380880"/>
              <a:ext cx="2285640" cy="685800"/>
              <a:chOff x="4724280" y="380880"/>
              <a:chExt cx="2285640" cy="685800"/>
            </a:xfrm>
          </p:grpSpPr>
          <p:grpSp>
            <p:nvGrpSpPr>
              <p:cNvPr id="1168" name=""/>
              <p:cNvGrpSpPr/>
              <p:nvPr/>
            </p:nvGrpSpPr>
            <p:grpSpPr>
              <a:xfrm>
                <a:off x="4724280" y="380880"/>
                <a:ext cx="2285640" cy="685800"/>
                <a:chOff x="4724280" y="380880"/>
                <a:chExt cx="2285640" cy="68580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4724280" y="633960"/>
                  <a:ext cx="248040" cy="43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972320" y="455760"/>
                  <a:ext cx="248400" cy="60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469480" y="507600"/>
                  <a:ext cx="24804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220720" y="380880"/>
                  <a:ext cx="248400" cy="6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717520" y="507600"/>
                  <a:ext cx="24840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965920" y="558000"/>
                  <a:ext cx="24840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6214680" y="684720"/>
                  <a:ext cx="248040" cy="37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62720" y="902160"/>
                  <a:ext cx="271440" cy="16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738480" y="972720"/>
                  <a:ext cx="271440" cy="9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5486400" y="398520"/>
                <a:ext cx="1342440" cy="644040"/>
                <a:chOff x="5486400" y="398520"/>
                <a:chExt cx="1342440" cy="64404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5520960" y="398520"/>
                  <a:ext cx="0" cy="644040"/>
                </a:xfrm>
                <a:prstGeom prst="line">
                  <a:avLst/>
                </a:prstGeom>
                <a:ln w="76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486400" y="781560"/>
                  <a:ext cx="1342440" cy="0"/>
                </a:xfrm>
                <a:prstGeom prst="line">
                  <a:avLst/>
                </a:prstGeom>
                <a:ln w="5724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1775160" y="380880"/>
              <a:ext cx="2263320" cy="685800"/>
              <a:chOff x="1775160" y="380880"/>
              <a:chExt cx="2263320" cy="68580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1775160" y="380880"/>
                <a:ext cx="2263320" cy="685800"/>
                <a:chOff x="1775160" y="380880"/>
                <a:chExt cx="2263320" cy="68580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3792960" y="633960"/>
                  <a:ext cx="245520" cy="430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H="1">
                  <a:off x="3546720" y="455760"/>
                  <a:ext cx="245880" cy="608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flipH="1">
                  <a:off x="3055320" y="507600"/>
                  <a:ext cx="24552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H="1">
                  <a:off x="3300480" y="380880"/>
                  <a:ext cx="245880" cy="683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flipH="1">
                  <a:off x="2808720" y="507600"/>
                  <a:ext cx="245880" cy="5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flipH="1">
                  <a:off x="2562480" y="558000"/>
                  <a:ext cx="245880" cy="50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>
                  <a:off x="2317320" y="684720"/>
                  <a:ext cx="245520" cy="37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flipH="1">
                  <a:off x="2047680" y="902160"/>
                  <a:ext cx="268920" cy="16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flipH="1">
                  <a:off x="1774800" y="972720"/>
                  <a:ext cx="268920" cy="91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ff00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2437920" y="380880"/>
                <a:ext cx="885960" cy="662040"/>
                <a:chOff x="2437920" y="380880"/>
                <a:chExt cx="885960" cy="6620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301200" y="380880"/>
                  <a:ext cx="0" cy="662040"/>
                </a:xfrm>
                <a:prstGeom prst="line">
                  <a:avLst/>
                </a:prstGeom>
                <a:ln w="76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H="1">
                  <a:off x="2437920" y="774720"/>
                  <a:ext cx="885960" cy="0"/>
                </a:xfrm>
                <a:prstGeom prst="line">
                  <a:avLst/>
                </a:prstGeom>
                <a:ln w="5724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5" name=""/>
            <p:cNvSpPr/>
            <p:nvPr/>
          </p:nvSpPr>
          <p:spPr>
            <a:xfrm>
              <a:off x="3100320" y="533520"/>
              <a:ext cx="307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kewnes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2506680" y="2319480"/>
            <a:ext cx="4275000" cy="392904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304920" y="20574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lowing are the earnings per share for a sample of 15 software companies for the year 2000. The earnings per share are arranged from smallest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3581280"/>
            <a:ext cx="8153280" cy="1339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$0.09     0.13    0.41    0.51     1.12     1.20    1.49    3.18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3.50     6.36    7.83    8.92   10.13   12.99  16.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04920" y="4648320"/>
            <a:ext cx="1828800" cy="1800360"/>
          </a:xfrm>
          <a:prstGeom prst="rect">
            <a:avLst/>
          </a:prstGeom>
          <a:solidFill>
            <a:srgbClr val="ffeb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coefficient of skew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1460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   = 4.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14600" y="5272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 = 3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514600" y="5715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= 5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4967280"/>
            <a:ext cx="38862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SK</a:t>
            </a:r>
            <a:r>
              <a:rPr b="1" lang="en-US" sz="2800" spc="-1" strike="noStrike" baseline="-25000">
                <a:solidFill>
                  <a:srgbClr val="008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(4.95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.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410080" y="5576760"/>
            <a:ext cx="1752840" cy="520560"/>
          </a:xfrm>
          <a:prstGeom prst="rect">
            <a:avLst/>
          </a:prstGeom>
          <a:solidFill>
            <a:srgbClr val="ffebff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0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2599920" y="1295280"/>
            <a:ext cx="4158720" cy="914760"/>
            <a:chOff x="2599920" y="1295280"/>
            <a:chExt cx="4158720" cy="914760"/>
          </a:xfrm>
        </p:grpSpPr>
        <p:sp>
          <p:nvSpPr>
            <p:cNvPr id="1206" name=""/>
            <p:cNvSpPr/>
            <p:nvPr/>
          </p:nvSpPr>
          <p:spPr>
            <a:xfrm>
              <a:off x="4028400" y="12952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619320" y="1295280"/>
              <a:ext cx="139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2599920" y="1325520"/>
              <a:ext cx="4105800" cy="884520"/>
              <a:chOff x="2599920" y="1325520"/>
              <a:chExt cx="4105800" cy="884520"/>
            </a:xfrm>
          </p:grpSpPr>
          <p:sp>
            <p:nvSpPr>
              <p:cNvPr id="1209" name=""/>
              <p:cNvSpPr/>
              <p:nvPr/>
            </p:nvSpPr>
            <p:spPr>
              <a:xfrm>
                <a:off x="3781440" y="1752480"/>
                <a:ext cx="29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648320" y="1600200"/>
                <a:ext cx="2750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3300"/>
                    </a:solidFill>
                    <a:latin typeface="Times New Roman"/>
                    <a:ea typeface="Times New Roman"/>
                  </a:rPr>
                  <a:t>σ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244040" y="1325520"/>
                <a:ext cx="22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ean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Media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599920" y="1371600"/>
                <a:ext cx="1067400" cy="6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8000"/>
                    </a:solidFill>
                    <a:latin typeface="Times New Roman"/>
                  </a:rPr>
                  <a:t>SK</a:t>
                </a:r>
                <a:r>
                  <a:rPr b="1" lang="en-US" sz="3600" spc="-1" strike="noStrike" baseline="-25000">
                    <a:solidFill>
                      <a:srgbClr val="008000"/>
                    </a:solidFill>
                    <a:latin typeface="Times New Roman"/>
                  </a:rPr>
                  <a:t>1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808080" y="1355760"/>
                <a:ext cx="1789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9" dur="75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4" dur="75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1523880" y="304920"/>
            <a:ext cx="6248520" cy="761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cc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ositivel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kewed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14400" y="1143000"/>
            <a:ext cx="739152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o the right of the Mode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3352680" y="1808280"/>
            <a:ext cx="2462040" cy="1163160"/>
            <a:chOff x="3352680" y="1808280"/>
            <a:chExt cx="2462040" cy="1163160"/>
          </a:xfrm>
        </p:grpSpPr>
        <p:sp>
          <p:nvSpPr>
            <p:cNvPr id="1218" name=""/>
            <p:cNvSpPr/>
            <p:nvPr/>
          </p:nvSpPr>
          <p:spPr>
            <a:xfrm>
              <a:off x="3352680" y="2237760"/>
              <a:ext cx="267120" cy="730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619800" y="1935360"/>
              <a:ext cx="267480" cy="103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155120" y="2023200"/>
              <a:ext cx="26712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87640" y="1808280"/>
              <a:ext cx="267480" cy="1159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22600" y="2023200"/>
              <a:ext cx="26748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90080" y="2108880"/>
              <a:ext cx="267480" cy="858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957920" y="2323800"/>
              <a:ext cx="267120" cy="644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5400" y="2692440"/>
              <a:ext cx="292320" cy="279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22400" y="2812320"/>
              <a:ext cx="292320" cy="155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4114800" y="1543680"/>
            <a:ext cx="2341080" cy="1784160"/>
            <a:chOff x="4114800" y="1543680"/>
            <a:chExt cx="2341080" cy="1784160"/>
          </a:xfrm>
        </p:grpSpPr>
        <p:grpSp>
          <p:nvGrpSpPr>
            <p:cNvPr id="1228" name=""/>
            <p:cNvGrpSpPr/>
            <p:nvPr/>
          </p:nvGrpSpPr>
          <p:grpSpPr>
            <a:xfrm>
              <a:off x="4114800" y="1649160"/>
              <a:ext cx="1343160" cy="1516680"/>
              <a:chOff x="4114800" y="1649160"/>
              <a:chExt cx="1343160" cy="1516680"/>
            </a:xfrm>
          </p:grpSpPr>
          <p:sp>
            <p:nvSpPr>
              <p:cNvPr id="1229" name=""/>
              <p:cNvSpPr/>
              <p:nvPr/>
            </p:nvSpPr>
            <p:spPr>
              <a:xfrm>
                <a:off x="4149360" y="1649160"/>
                <a:ext cx="0" cy="151668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114800" y="2551680"/>
                <a:ext cx="1343160" cy="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 rot="2874000">
              <a:off x="4623840" y="2205720"/>
              <a:ext cx="19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ewed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2897280" y="504360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de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430440" y="550080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116240" y="59580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3276720"/>
            <a:ext cx="0" cy="1752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343400" y="3505320"/>
            <a:ext cx="0" cy="1523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572000" y="3886200"/>
            <a:ext cx="0" cy="1128600"/>
          </a:xfrm>
          <a:prstGeom prst="line">
            <a:avLst/>
          </a:prstGeom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514600" y="3200400"/>
            <a:ext cx="4648320" cy="1828800"/>
            <a:chOff x="2514600" y="3200400"/>
            <a:chExt cx="4648320" cy="1828800"/>
          </a:xfrm>
        </p:grpSpPr>
        <p:sp>
          <p:nvSpPr>
            <p:cNvPr id="1239" name=""/>
            <p:cNvSpPr/>
            <p:nvPr/>
          </p:nvSpPr>
          <p:spPr>
            <a:xfrm>
              <a:off x="2514600" y="5029200"/>
              <a:ext cx="4648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971800" y="3200400"/>
              <a:ext cx="3962520" cy="181440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2160"/>
                  </a:moveTo>
                  <a:cubicBezTo>
                    <a:pt x="232" y="1176"/>
                    <a:pt x="464" y="192"/>
                    <a:pt x="672" y="96"/>
                  </a:cubicBezTo>
                  <a:cubicBezTo>
                    <a:pt x="880" y="0"/>
                    <a:pt x="960" y="1240"/>
                    <a:pt x="1248" y="1584"/>
                  </a:cubicBezTo>
                  <a:cubicBezTo>
                    <a:pt x="1536" y="1928"/>
                    <a:pt x="2208" y="2064"/>
                    <a:pt x="2400" y="2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371600" y="228600"/>
            <a:ext cx="6781680" cy="7621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cc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kewed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14400" y="1143000"/>
            <a:ext cx="701028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o the left of the Mode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3429000" y="1919160"/>
            <a:ext cx="2437920" cy="1163880"/>
            <a:chOff x="3429000" y="1919160"/>
            <a:chExt cx="2437920" cy="1163880"/>
          </a:xfrm>
        </p:grpSpPr>
        <p:sp>
          <p:nvSpPr>
            <p:cNvPr id="1245" name=""/>
            <p:cNvSpPr/>
            <p:nvPr/>
          </p:nvSpPr>
          <p:spPr>
            <a:xfrm flipH="1">
              <a:off x="5601960" y="2348640"/>
              <a:ext cx="264600" cy="730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5337360" y="2046240"/>
              <a:ext cx="264960" cy="103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4807440" y="2134080"/>
              <a:ext cx="264600" cy="945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5072400" y="1919160"/>
              <a:ext cx="264960" cy="1160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542480" y="2134080"/>
              <a:ext cx="264960" cy="945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4277520" y="2219760"/>
              <a:ext cx="264960" cy="859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4012560" y="2434680"/>
              <a:ext cx="264600" cy="644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723120" y="2803680"/>
              <a:ext cx="289440" cy="279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3429000" y="2923560"/>
              <a:ext cx="289440" cy="155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2821320" y="1690560"/>
            <a:ext cx="2283840" cy="1887120"/>
            <a:chOff x="2821320" y="1690560"/>
            <a:chExt cx="2283840" cy="1887120"/>
          </a:xfrm>
        </p:grpSpPr>
        <p:grpSp>
          <p:nvGrpSpPr>
            <p:cNvPr id="1255" name=""/>
            <p:cNvGrpSpPr/>
            <p:nvPr/>
          </p:nvGrpSpPr>
          <p:grpSpPr>
            <a:xfrm>
              <a:off x="4219200" y="1690560"/>
              <a:ext cx="885960" cy="1517760"/>
              <a:chOff x="4219200" y="1690560"/>
              <a:chExt cx="885960" cy="1517760"/>
            </a:xfrm>
          </p:grpSpPr>
          <p:sp>
            <p:nvSpPr>
              <p:cNvPr id="1256" name=""/>
              <p:cNvSpPr/>
              <p:nvPr/>
            </p:nvSpPr>
            <p:spPr>
              <a:xfrm>
                <a:off x="5082480" y="1690560"/>
                <a:ext cx="0" cy="151776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4219200" y="2593440"/>
                <a:ext cx="885960" cy="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 flipH="1" rot="18726000">
              <a:off x="2664000" y="2455920"/>
              <a:ext cx="19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ewed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2973240" y="3276720"/>
            <a:ext cx="2936520" cy="3111120"/>
            <a:chOff x="2973240" y="3276720"/>
            <a:chExt cx="2936520" cy="3111120"/>
          </a:xfrm>
        </p:grpSpPr>
        <p:sp>
          <p:nvSpPr>
            <p:cNvPr id="1260" name=""/>
            <p:cNvSpPr/>
            <p:nvPr/>
          </p:nvSpPr>
          <p:spPr>
            <a:xfrm>
              <a:off x="4569120" y="5029200"/>
              <a:ext cx="134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&lt; 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86520" y="5410080"/>
              <a:ext cx="163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&lt; Medi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973240" y="586728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99"/>
                  </a:solidFill>
                  <a:latin typeface="Times New Roman"/>
                </a:rPr>
                <a:t>Me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24280" y="3276720"/>
              <a:ext cx="0" cy="1752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495680" y="3438360"/>
              <a:ext cx="0" cy="1590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267080" y="3836880"/>
              <a:ext cx="1800" cy="1177560"/>
            </a:xfrm>
            <a:prstGeom prst="line">
              <a:avLst/>
            </a:prstGeom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1828440" y="3200400"/>
            <a:ext cx="4343400" cy="1828800"/>
            <a:chOff x="1828440" y="3200400"/>
            <a:chExt cx="4343400" cy="1828800"/>
          </a:xfrm>
        </p:grpSpPr>
        <p:sp>
          <p:nvSpPr>
            <p:cNvPr id="1267" name=""/>
            <p:cNvSpPr/>
            <p:nvPr/>
          </p:nvSpPr>
          <p:spPr>
            <a:xfrm flipH="1">
              <a:off x="1828440" y="5029200"/>
              <a:ext cx="4343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2041920" y="3200400"/>
              <a:ext cx="3702600" cy="181440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2160"/>
                  </a:moveTo>
                  <a:cubicBezTo>
                    <a:pt x="232" y="1176"/>
                    <a:pt x="464" y="192"/>
                    <a:pt x="672" y="96"/>
                  </a:cubicBezTo>
                  <a:cubicBezTo>
                    <a:pt x="880" y="0"/>
                    <a:pt x="960" y="1240"/>
                    <a:pt x="1248" y="1584"/>
                  </a:cubicBezTo>
                  <a:cubicBezTo>
                    <a:pt x="1536" y="1928"/>
                    <a:pt x="2208" y="2064"/>
                    <a:pt x="2400" y="2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2263680" y="1600200"/>
            <a:ext cx="4767480" cy="476712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457200" y="2057400"/>
            <a:ext cx="83059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ance between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ird quart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irst quart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143480" y="5881680"/>
            <a:ext cx="16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71800" y="457200"/>
            <a:ext cx="3352680" cy="1312920"/>
          </a:xfrm>
          <a:prstGeom prst="rect">
            <a:avLst/>
          </a:prstGeom>
          <a:noFill/>
          <a:ln w="0">
            <a:noFill/>
          </a:ln>
          <a:effectLst>
            <a:outerShdw dist="381096" dir="13988456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Interquart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57200" y="3276720"/>
            <a:ext cx="83059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dist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ill include the middle 50 percent of the observ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" y="48769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erquartile Range =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70080"/>
            <a:ext cx="8077320" cy="452124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304920" y="1436760"/>
            <a:ext cx="8588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 set of observations the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ird quartile is 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irst quartile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10.                                                            What is the interquartile range?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381480" y="106200"/>
            <a:ext cx="25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92880" y="5970600"/>
            <a:ext cx="19080" cy="9360"/>
          </a:xfrm>
          <a:custGeom>
            <a:avLst/>
            <a:gdLst/>
            <a:ahLst/>
            <a:rect l="l" t="t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302600" y="5952960"/>
            <a:ext cx="17280" cy="8280"/>
          </a:xfrm>
          <a:custGeom>
            <a:avLst/>
            <a:gdLst/>
            <a:ahLst/>
            <a:rect l="l" t="t" r="r" b="b"/>
            <a:pathLst>
              <a:path w="26" h="5">
                <a:moveTo>
                  <a:pt x="0" y="5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26" y="0"/>
                </a:lnTo>
                <a:lnTo>
                  <a:pt x="26" y="5"/>
                </a:lnTo>
                <a:lnTo>
                  <a:pt x="26" y="5"/>
                </a:lnTo>
                <a:lnTo>
                  <a:pt x="0" y="5"/>
                </a:lnTo>
                <a:close/>
              </a:path>
            </a:pathLst>
          </a:cu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354800" y="6031080"/>
            <a:ext cx="792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3" y="0"/>
                </a:lnTo>
                <a:lnTo>
                  <a:pt x="0" y="0"/>
                </a:lnTo>
                <a:lnTo>
                  <a:pt x="0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5"/>
                </a:lnTo>
                <a:lnTo>
                  <a:pt x="13" y="0"/>
                </a:lnTo>
                <a:close/>
              </a:path>
            </a:pathLst>
          </a:cu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1270800" y="5105520"/>
            <a:ext cx="6882480" cy="1527840"/>
            <a:chOff x="1270800" y="5105520"/>
            <a:chExt cx="6882480" cy="1527840"/>
          </a:xfrm>
        </p:grpSpPr>
        <p:sp>
          <p:nvSpPr>
            <p:cNvPr id="1282" name=""/>
            <p:cNvSpPr/>
            <p:nvPr/>
          </p:nvSpPr>
          <p:spPr>
            <a:xfrm rot="384000">
              <a:off x="1293840" y="5546160"/>
              <a:ext cx="6021360" cy="753840"/>
            </a:xfrm>
            <a:custGeom>
              <a:avLst/>
              <a:gdLst/>
              <a:ahLst/>
              <a:rect l="l" t="t" r="r" b="b"/>
              <a:pathLst>
                <a:path w="2572" h="394">
                  <a:moveTo>
                    <a:pt x="2453" y="63"/>
                  </a:moveTo>
                  <a:lnTo>
                    <a:pt x="2440" y="58"/>
                  </a:lnTo>
                  <a:lnTo>
                    <a:pt x="2414" y="53"/>
                  </a:lnTo>
                  <a:lnTo>
                    <a:pt x="2388" y="48"/>
                  </a:lnTo>
                  <a:lnTo>
                    <a:pt x="2375" y="48"/>
                  </a:lnTo>
                  <a:lnTo>
                    <a:pt x="2348" y="44"/>
                  </a:lnTo>
                  <a:lnTo>
                    <a:pt x="2322" y="44"/>
                  </a:lnTo>
                  <a:lnTo>
                    <a:pt x="2296" y="48"/>
                  </a:lnTo>
                  <a:lnTo>
                    <a:pt x="2270" y="48"/>
                  </a:lnTo>
                  <a:lnTo>
                    <a:pt x="2230" y="53"/>
                  </a:lnTo>
                  <a:lnTo>
                    <a:pt x="2191" y="58"/>
                  </a:lnTo>
                  <a:lnTo>
                    <a:pt x="2165" y="63"/>
                  </a:lnTo>
                  <a:lnTo>
                    <a:pt x="2125" y="68"/>
                  </a:lnTo>
                  <a:lnTo>
                    <a:pt x="2086" y="72"/>
                  </a:lnTo>
                  <a:lnTo>
                    <a:pt x="2060" y="77"/>
                  </a:lnTo>
                  <a:lnTo>
                    <a:pt x="2020" y="87"/>
                  </a:lnTo>
                  <a:lnTo>
                    <a:pt x="1981" y="92"/>
                  </a:lnTo>
                  <a:lnTo>
                    <a:pt x="1955" y="96"/>
                  </a:lnTo>
                  <a:lnTo>
                    <a:pt x="1916" y="106"/>
                  </a:lnTo>
                  <a:lnTo>
                    <a:pt x="1889" y="111"/>
                  </a:lnTo>
                  <a:lnTo>
                    <a:pt x="1850" y="120"/>
                  </a:lnTo>
                  <a:lnTo>
                    <a:pt x="1824" y="125"/>
                  </a:lnTo>
                  <a:lnTo>
                    <a:pt x="1784" y="135"/>
                  </a:lnTo>
                  <a:lnTo>
                    <a:pt x="1758" y="140"/>
                  </a:lnTo>
                  <a:lnTo>
                    <a:pt x="1719" y="149"/>
                  </a:lnTo>
                  <a:lnTo>
                    <a:pt x="1692" y="159"/>
                  </a:lnTo>
                  <a:lnTo>
                    <a:pt x="1666" y="168"/>
                  </a:lnTo>
                  <a:lnTo>
                    <a:pt x="1627" y="173"/>
                  </a:lnTo>
                  <a:lnTo>
                    <a:pt x="1601" y="183"/>
                  </a:lnTo>
                  <a:lnTo>
                    <a:pt x="1561" y="192"/>
                  </a:lnTo>
                  <a:lnTo>
                    <a:pt x="1535" y="197"/>
                  </a:lnTo>
                  <a:lnTo>
                    <a:pt x="1509" y="207"/>
                  </a:lnTo>
                  <a:lnTo>
                    <a:pt x="1469" y="216"/>
                  </a:lnTo>
                  <a:lnTo>
                    <a:pt x="1443" y="221"/>
                  </a:lnTo>
                  <a:lnTo>
                    <a:pt x="1417" y="231"/>
                  </a:lnTo>
                  <a:lnTo>
                    <a:pt x="1378" y="240"/>
                  </a:lnTo>
                  <a:lnTo>
                    <a:pt x="1351" y="245"/>
                  </a:lnTo>
                  <a:lnTo>
                    <a:pt x="1325" y="255"/>
                  </a:lnTo>
                  <a:lnTo>
                    <a:pt x="1286" y="260"/>
                  </a:lnTo>
                  <a:lnTo>
                    <a:pt x="1260" y="269"/>
                  </a:lnTo>
                  <a:lnTo>
                    <a:pt x="1233" y="274"/>
                  </a:lnTo>
                  <a:lnTo>
                    <a:pt x="1207" y="284"/>
                  </a:lnTo>
                  <a:lnTo>
                    <a:pt x="1168" y="288"/>
                  </a:lnTo>
                  <a:lnTo>
                    <a:pt x="1141" y="293"/>
                  </a:lnTo>
                  <a:lnTo>
                    <a:pt x="1102" y="303"/>
                  </a:lnTo>
                  <a:lnTo>
                    <a:pt x="1076" y="308"/>
                  </a:lnTo>
                  <a:lnTo>
                    <a:pt x="1036" y="317"/>
                  </a:lnTo>
                  <a:lnTo>
                    <a:pt x="997" y="322"/>
                  </a:lnTo>
                  <a:lnTo>
                    <a:pt x="971" y="332"/>
                  </a:lnTo>
                  <a:lnTo>
                    <a:pt x="932" y="336"/>
                  </a:lnTo>
                  <a:lnTo>
                    <a:pt x="892" y="341"/>
                  </a:lnTo>
                  <a:lnTo>
                    <a:pt x="853" y="351"/>
                  </a:lnTo>
                  <a:lnTo>
                    <a:pt x="813" y="356"/>
                  </a:lnTo>
                  <a:lnTo>
                    <a:pt x="761" y="360"/>
                  </a:lnTo>
                  <a:lnTo>
                    <a:pt x="722" y="365"/>
                  </a:lnTo>
                  <a:lnTo>
                    <a:pt x="682" y="375"/>
                  </a:lnTo>
                  <a:lnTo>
                    <a:pt x="643" y="380"/>
                  </a:lnTo>
                  <a:lnTo>
                    <a:pt x="604" y="380"/>
                  </a:lnTo>
                  <a:lnTo>
                    <a:pt x="564" y="384"/>
                  </a:lnTo>
                  <a:lnTo>
                    <a:pt x="512" y="389"/>
                  </a:lnTo>
                  <a:lnTo>
                    <a:pt x="472" y="389"/>
                  </a:lnTo>
                  <a:lnTo>
                    <a:pt x="433" y="394"/>
                  </a:lnTo>
                  <a:lnTo>
                    <a:pt x="394" y="394"/>
                  </a:lnTo>
                  <a:lnTo>
                    <a:pt x="354" y="394"/>
                  </a:lnTo>
                  <a:lnTo>
                    <a:pt x="315" y="394"/>
                  </a:lnTo>
                  <a:lnTo>
                    <a:pt x="276" y="394"/>
                  </a:lnTo>
                  <a:lnTo>
                    <a:pt x="236" y="389"/>
                  </a:lnTo>
                  <a:lnTo>
                    <a:pt x="197" y="389"/>
                  </a:lnTo>
                  <a:lnTo>
                    <a:pt x="157" y="384"/>
                  </a:lnTo>
                  <a:lnTo>
                    <a:pt x="118" y="380"/>
                  </a:lnTo>
                  <a:lnTo>
                    <a:pt x="79" y="370"/>
                  </a:lnTo>
                  <a:lnTo>
                    <a:pt x="52" y="365"/>
                  </a:lnTo>
                  <a:lnTo>
                    <a:pt x="13" y="356"/>
                  </a:lnTo>
                  <a:lnTo>
                    <a:pt x="0" y="346"/>
                  </a:lnTo>
                  <a:lnTo>
                    <a:pt x="0" y="332"/>
                  </a:lnTo>
                  <a:lnTo>
                    <a:pt x="13" y="327"/>
                  </a:lnTo>
                  <a:lnTo>
                    <a:pt x="26" y="317"/>
                  </a:lnTo>
                  <a:lnTo>
                    <a:pt x="39" y="312"/>
                  </a:lnTo>
                  <a:lnTo>
                    <a:pt x="52" y="312"/>
                  </a:lnTo>
                  <a:lnTo>
                    <a:pt x="79" y="312"/>
                  </a:lnTo>
                  <a:lnTo>
                    <a:pt x="92" y="317"/>
                  </a:lnTo>
                  <a:lnTo>
                    <a:pt x="105" y="322"/>
                  </a:lnTo>
                  <a:lnTo>
                    <a:pt x="131" y="327"/>
                  </a:lnTo>
                  <a:lnTo>
                    <a:pt x="157" y="332"/>
                  </a:lnTo>
                  <a:lnTo>
                    <a:pt x="184" y="336"/>
                  </a:lnTo>
                  <a:lnTo>
                    <a:pt x="210" y="341"/>
                  </a:lnTo>
                  <a:lnTo>
                    <a:pt x="236" y="341"/>
                  </a:lnTo>
                  <a:lnTo>
                    <a:pt x="262" y="346"/>
                  </a:lnTo>
                  <a:lnTo>
                    <a:pt x="289" y="346"/>
                  </a:lnTo>
                  <a:lnTo>
                    <a:pt x="302" y="351"/>
                  </a:lnTo>
                  <a:lnTo>
                    <a:pt x="328" y="351"/>
                  </a:lnTo>
                  <a:lnTo>
                    <a:pt x="354" y="351"/>
                  </a:lnTo>
                  <a:lnTo>
                    <a:pt x="380" y="351"/>
                  </a:lnTo>
                  <a:lnTo>
                    <a:pt x="407" y="351"/>
                  </a:lnTo>
                  <a:lnTo>
                    <a:pt x="420" y="351"/>
                  </a:lnTo>
                  <a:lnTo>
                    <a:pt x="446" y="351"/>
                  </a:lnTo>
                  <a:lnTo>
                    <a:pt x="472" y="351"/>
                  </a:lnTo>
                  <a:lnTo>
                    <a:pt x="499" y="351"/>
                  </a:lnTo>
                  <a:lnTo>
                    <a:pt x="538" y="346"/>
                  </a:lnTo>
                  <a:lnTo>
                    <a:pt x="564" y="346"/>
                  </a:lnTo>
                  <a:lnTo>
                    <a:pt x="604" y="341"/>
                  </a:lnTo>
                  <a:lnTo>
                    <a:pt x="630" y="341"/>
                  </a:lnTo>
                  <a:lnTo>
                    <a:pt x="656" y="336"/>
                  </a:lnTo>
                  <a:lnTo>
                    <a:pt x="695" y="332"/>
                  </a:lnTo>
                  <a:lnTo>
                    <a:pt x="722" y="327"/>
                  </a:lnTo>
                  <a:lnTo>
                    <a:pt x="761" y="322"/>
                  </a:lnTo>
                  <a:lnTo>
                    <a:pt x="800" y="322"/>
                  </a:lnTo>
                  <a:lnTo>
                    <a:pt x="827" y="312"/>
                  </a:lnTo>
                  <a:lnTo>
                    <a:pt x="866" y="308"/>
                  </a:lnTo>
                  <a:lnTo>
                    <a:pt x="892" y="303"/>
                  </a:lnTo>
                  <a:lnTo>
                    <a:pt x="932" y="298"/>
                  </a:lnTo>
                  <a:lnTo>
                    <a:pt x="958" y="288"/>
                  </a:lnTo>
                  <a:lnTo>
                    <a:pt x="997" y="284"/>
                  </a:lnTo>
                  <a:lnTo>
                    <a:pt x="1036" y="279"/>
                  </a:lnTo>
                  <a:lnTo>
                    <a:pt x="1063" y="269"/>
                  </a:lnTo>
                  <a:lnTo>
                    <a:pt x="1102" y="264"/>
                  </a:lnTo>
                  <a:lnTo>
                    <a:pt x="1128" y="255"/>
                  </a:lnTo>
                  <a:lnTo>
                    <a:pt x="1168" y="245"/>
                  </a:lnTo>
                  <a:lnTo>
                    <a:pt x="1207" y="240"/>
                  </a:lnTo>
                  <a:lnTo>
                    <a:pt x="1233" y="231"/>
                  </a:lnTo>
                  <a:lnTo>
                    <a:pt x="1273" y="221"/>
                  </a:lnTo>
                  <a:lnTo>
                    <a:pt x="1299" y="216"/>
                  </a:lnTo>
                  <a:lnTo>
                    <a:pt x="1338" y="207"/>
                  </a:lnTo>
                  <a:lnTo>
                    <a:pt x="1378" y="197"/>
                  </a:lnTo>
                  <a:lnTo>
                    <a:pt x="1404" y="192"/>
                  </a:lnTo>
                  <a:lnTo>
                    <a:pt x="1443" y="183"/>
                  </a:lnTo>
                  <a:lnTo>
                    <a:pt x="1469" y="173"/>
                  </a:lnTo>
                  <a:lnTo>
                    <a:pt x="1509" y="168"/>
                  </a:lnTo>
                  <a:lnTo>
                    <a:pt x="1535" y="159"/>
                  </a:lnTo>
                  <a:lnTo>
                    <a:pt x="1574" y="149"/>
                  </a:lnTo>
                  <a:lnTo>
                    <a:pt x="1601" y="144"/>
                  </a:lnTo>
                  <a:lnTo>
                    <a:pt x="1640" y="135"/>
                  </a:lnTo>
                  <a:lnTo>
                    <a:pt x="1666" y="125"/>
                  </a:lnTo>
                  <a:lnTo>
                    <a:pt x="1706" y="116"/>
                  </a:lnTo>
                  <a:lnTo>
                    <a:pt x="1758" y="106"/>
                  </a:lnTo>
                  <a:lnTo>
                    <a:pt x="1811" y="92"/>
                  </a:lnTo>
                  <a:lnTo>
                    <a:pt x="1863" y="77"/>
                  </a:lnTo>
                  <a:lnTo>
                    <a:pt x="1916" y="68"/>
                  </a:lnTo>
                  <a:lnTo>
                    <a:pt x="1968" y="53"/>
                  </a:lnTo>
                  <a:lnTo>
                    <a:pt x="2034" y="39"/>
                  </a:lnTo>
                  <a:lnTo>
                    <a:pt x="2086" y="29"/>
                  </a:lnTo>
                  <a:lnTo>
                    <a:pt x="2152" y="20"/>
                  </a:lnTo>
                  <a:lnTo>
                    <a:pt x="2217" y="10"/>
                  </a:lnTo>
                  <a:lnTo>
                    <a:pt x="2270" y="5"/>
                  </a:lnTo>
                  <a:lnTo>
                    <a:pt x="2335" y="0"/>
                  </a:lnTo>
                  <a:lnTo>
                    <a:pt x="2388" y="0"/>
                  </a:lnTo>
                  <a:lnTo>
                    <a:pt x="2440" y="5"/>
                  </a:lnTo>
                  <a:lnTo>
                    <a:pt x="2493" y="10"/>
                  </a:lnTo>
                  <a:lnTo>
                    <a:pt x="2545" y="20"/>
                  </a:lnTo>
                  <a:lnTo>
                    <a:pt x="2558" y="29"/>
                  </a:lnTo>
                  <a:lnTo>
                    <a:pt x="2572" y="39"/>
                  </a:lnTo>
                  <a:lnTo>
                    <a:pt x="2572" y="53"/>
                  </a:lnTo>
                  <a:lnTo>
                    <a:pt x="2558" y="63"/>
                  </a:lnTo>
                  <a:lnTo>
                    <a:pt x="2558" y="68"/>
                  </a:lnTo>
                  <a:lnTo>
                    <a:pt x="2545" y="68"/>
                  </a:lnTo>
                  <a:lnTo>
                    <a:pt x="2532" y="72"/>
                  </a:lnTo>
                  <a:lnTo>
                    <a:pt x="2519" y="72"/>
                  </a:lnTo>
                  <a:lnTo>
                    <a:pt x="2506" y="72"/>
                  </a:lnTo>
                  <a:lnTo>
                    <a:pt x="2493" y="72"/>
                  </a:lnTo>
                  <a:lnTo>
                    <a:pt x="2480" y="68"/>
                  </a:lnTo>
                  <a:lnTo>
                    <a:pt x="2453" y="6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386480" y="6000480"/>
              <a:ext cx="34920" cy="442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4"/>
                  </a:moveTo>
                  <a:lnTo>
                    <a:pt x="0" y="9"/>
                  </a:lnTo>
                  <a:lnTo>
                    <a:pt x="13" y="4"/>
                  </a:lnTo>
                  <a:lnTo>
                    <a:pt x="52" y="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464240" y="5964120"/>
              <a:ext cx="671760" cy="383760"/>
            </a:xfrm>
            <a:custGeom>
              <a:avLst/>
              <a:gdLst/>
              <a:ahLst/>
              <a:rect l="l" t="t" r="r" b="b"/>
              <a:pathLst>
                <a:path w="997" h="212">
                  <a:moveTo>
                    <a:pt x="13" y="0"/>
                  </a:moveTo>
                  <a:lnTo>
                    <a:pt x="879" y="68"/>
                  </a:lnTo>
                  <a:lnTo>
                    <a:pt x="931" y="82"/>
                  </a:lnTo>
                  <a:lnTo>
                    <a:pt x="971" y="106"/>
                  </a:lnTo>
                  <a:lnTo>
                    <a:pt x="984" y="130"/>
                  </a:lnTo>
                  <a:lnTo>
                    <a:pt x="997" y="154"/>
                  </a:lnTo>
                  <a:lnTo>
                    <a:pt x="984" y="173"/>
                  </a:lnTo>
                  <a:lnTo>
                    <a:pt x="958" y="192"/>
                  </a:lnTo>
                  <a:lnTo>
                    <a:pt x="918" y="207"/>
                  </a:lnTo>
                  <a:lnTo>
                    <a:pt x="866" y="212"/>
                  </a:lnTo>
                  <a:lnTo>
                    <a:pt x="39" y="77"/>
                  </a:lnTo>
                  <a:lnTo>
                    <a:pt x="39" y="72"/>
                  </a:lnTo>
                  <a:lnTo>
                    <a:pt x="26" y="68"/>
                  </a:lnTo>
                  <a:lnTo>
                    <a:pt x="13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3" y="44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04120" y="5964120"/>
              <a:ext cx="87120" cy="139320"/>
            </a:xfrm>
            <a:custGeom>
              <a:avLst/>
              <a:gdLst/>
              <a:ahLst/>
              <a:rect l="l" t="t" r="r" b="b"/>
              <a:pathLst>
                <a:path w="131" h="77">
                  <a:moveTo>
                    <a:pt x="131" y="77"/>
                  </a:moveTo>
                  <a:lnTo>
                    <a:pt x="131" y="72"/>
                  </a:lnTo>
                  <a:lnTo>
                    <a:pt x="118" y="68"/>
                  </a:lnTo>
                  <a:lnTo>
                    <a:pt x="105" y="58"/>
                  </a:lnTo>
                  <a:lnTo>
                    <a:pt x="92" y="58"/>
                  </a:lnTo>
                  <a:lnTo>
                    <a:pt x="92" y="48"/>
                  </a:lnTo>
                  <a:lnTo>
                    <a:pt x="105" y="44"/>
                  </a:lnTo>
                  <a:lnTo>
                    <a:pt x="105" y="29"/>
                  </a:lnTo>
                  <a:lnTo>
                    <a:pt x="92" y="20"/>
                  </a:lnTo>
                  <a:lnTo>
                    <a:pt x="105" y="15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3" y="24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3" y="34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131" y="77"/>
                  </a:ln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323120" y="5886360"/>
              <a:ext cx="54000" cy="5184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6" y="0"/>
                  </a:moveTo>
                  <a:lnTo>
                    <a:pt x="0" y="24"/>
                  </a:lnTo>
                  <a:lnTo>
                    <a:pt x="13" y="29"/>
                  </a:lnTo>
                  <a:lnTo>
                    <a:pt x="79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315200" y="5886360"/>
              <a:ext cx="34920" cy="5184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13" y="19"/>
                  </a:moveTo>
                  <a:lnTo>
                    <a:pt x="26" y="24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0" y="24"/>
                  </a:lnTo>
                  <a:lnTo>
                    <a:pt x="13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3" y="2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323120" y="5921280"/>
              <a:ext cx="9360" cy="16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5"/>
                  </a:moveTo>
                  <a:lnTo>
                    <a:pt x="13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32480" y="5913360"/>
              <a:ext cx="61920" cy="2484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6" y="4"/>
                  </a:moveTo>
                  <a:lnTo>
                    <a:pt x="66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66" y="4"/>
                  </a:lnTo>
                  <a:lnTo>
                    <a:pt x="79" y="0"/>
                  </a:lnTo>
                  <a:lnTo>
                    <a:pt x="66" y="4"/>
                  </a:lnTo>
                  <a:lnTo>
                    <a:pt x="92" y="4"/>
                  </a:lnTo>
                  <a:lnTo>
                    <a:pt x="7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340400" y="5878440"/>
              <a:ext cx="46080" cy="4248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13" y="10"/>
                  </a:moveTo>
                  <a:lnTo>
                    <a:pt x="0" y="10"/>
                  </a:lnTo>
                  <a:lnTo>
                    <a:pt x="53" y="24"/>
                  </a:lnTo>
                  <a:lnTo>
                    <a:pt x="66" y="2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377120" y="5114520"/>
              <a:ext cx="768240" cy="780840"/>
            </a:xfrm>
            <a:custGeom>
              <a:avLst/>
              <a:gdLst/>
              <a:ahLst/>
              <a:rect l="l" t="t" r="r" b="b"/>
              <a:pathLst>
                <a:path w="1141" h="432">
                  <a:moveTo>
                    <a:pt x="144" y="432"/>
                  </a:moveTo>
                  <a:lnTo>
                    <a:pt x="1102" y="120"/>
                  </a:lnTo>
                  <a:lnTo>
                    <a:pt x="1115" y="106"/>
                  </a:lnTo>
                  <a:lnTo>
                    <a:pt x="1128" y="91"/>
                  </a:lnTo>
                  <a:lnTo>
                    <a:pt x="1141" y="77"/>
                  </a:lnTo>
                  <a:lnTo>
                    <a:pt x="1141" y="62"/>
                  </a:lnTo>
                  <a:lnTo>
                    <a:pt x="1128" y="48"/>
                  </a:lnTo>
                  <a:lnTo>
                    <a:pt x="1115" y="38"/>
                  </a:lnTo>
                  <a:lnTo>
                    <a:pt x="1102" y="29"/>
                  </a:lnTo>
                  <a:lnTo>
                    <a:pt x="1075" y="19"/>
                  </a:lnTo>
                  <a:lnTo>
                    <a:pt x="1049" y="14"/>
                  </a:lnTo>
                  <a:lnTo>
                    <a:pt x="1023" y="5"/>
                  </a:lnTo>
                  <a:lnTo>
                    <a:pt x="984" y="0"/>
                  </a:lnTo>
                  <a:lnTo>
                    <a:pt x="957" y="0"/>
                  </a:lnTo>
                  <a:lnTo>
                    <a:pt x="918" y="0"/>
                  </a:lnTo>
                  <a:lnTo>
                    <a:pt x="879" y="5"/>
                  </a:lnTo>
                  <a:lnTo>
                    <a:pt x="839" y="10"/>
                  </a:lnTo>
                  <a:lnTo>
                    <a:pt x="800" y="19"/>
                  </a:lnTo>
                  <a:lnTo>
                    <a:pt x="13" y="370"/>
                  </a:lnTo>
                  <a:lnTo>
                    <a:pt x="26" y="374"/>
                  </a:lnTo>
                  <a:lnTo>
                    <a:pt x="26" y="379"/>
                  </a:lnTo>
                  <a:lnTo>
                    <a:pt x="13" y="389"/>
                  </a:lnTo>
                  <a:lnTo>
                    <a:pt x="0" y="394"/>
                  </a:lnTo>
                  <a:lnTo>
                    <a:pt x="13" y="398"/>
                  </a:lnTo>
                  <a:lnTo>
                    <a:pt x="26" y="398"/>
                  </a:lnTo>
                  <a:lnTo>
                    <a:pt x="26" y="403"/>
                  </a:lnTo>
                  <a:lnTo>
                    <a:pt x="39" y="403"/>
                  </a:lnTo>
                  <a:lnTo>
                    <a:pt x="52" y="408"/>
                  </a:lnTo>
                  <a:lnTo>
                    <a:pt x="65" y="413"/>
                  </a:lnTo>
                  <a:lnTo>
                    <a:pt x="65" y="418"/>
                  </a:lnTo>
                  <a:lnTo>
                    <a:pt x="78" y="427"/>
                  </a:lnTo>
                  <a:lnTo>
                    <a:pt x="78" y="422"/>
                  </a:lnTo>
                  <a:lnTo>
                    <a:pt x="91" y="422"/>
                  </a:lnTo>
                  <a:lnTo>
                    <a:pt x="105" y="422"/>
                  </a:lnTo>
                  <a:lnTo>
                    <a:pt x="118" y="427"/>
                  </a:lnTo>
                  <a:lnTo>
                    <a:pt x="118" y="427"/>
                  </a:lnTo>
                  <a:lnTo>
                    <a:pt x="131" y="427"/>
                  </a:lnTo>
                  <a:lnTo>
                    <a:pt x="131" y="432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464240" y="5322600"/>
              <a:ext cx="663840" cy="582480"/>
            </a:xfrm>
            <a:custGeom>
              <a:avLst/>
              <a:gdLst/>
              <a:ahLst/>
              <a:rect l="l" t="t" r="r" b="b"/>
              <a:pathLst>
                <a:path w="984" h="322">
                  <a:moveTo>
                    <a:pt x="958" y="0"/>
                  </a:moveTo>
                  <a:lnTo>
                    <a:pt x="958" y="0"/>
                  </a:lnTo>
                  <a:lnTo>
                    <a:pt x="0" y="317"/>
                  </a:lnTo>
                  <a:lnTo>
                    <a:pt x="13" y="322"/>
                  </a:lnTo>
                  <a:lnTo>
                    <a:pt x="971" y="5"/>
                  </a:lnTo>
                  <a:lnTo>
                    <a:pt x="984" y="5"/>
                  </a:lnTo>
                  <a:lnTo>
                    <a:pt x="971" y="5"/>
                  </a:lnTo>
                  <a:lnTo>
                    <a:pt x="984" y="5"/>
                  </a:lnTo>
                  <a:lnTo>
                    <a:pt x="984" y="5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109000" y="5297400"/>
              <a:ext cx="27000" cy="32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26" y="0"/>
                  </a:moveTo>
                  <a:lnTo>
                    <a:pt x="26" y="0"/>
                  </a:lnTo>
                  <a:lnTo>
                    <a:pt x="0" y="14"/>
                  </a:lnTo>
                  <a:lnTo>
                    <a:pt x="26" y="1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128080" y="5270400"/>
              <a:ext cx="17280" cy="3600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3" y="5"/>
                  </a:moveTo>
                  <a:lnTo>
                    <a:pt x="13" y="0"/>
                  </a:lnTo>
                  <a:lnTo>
                    <a:pt x="0" y="15"/>
                  </a:lnTo>
                  <a:lnTo>
                    <a:pt x="13" y="2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136000" y="5252760"/>
              <a:ext cx="172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3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36000" y="5225760"/>
              <a:ext cx="17280" cy="2664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28080" y="5200560"/>
              <a:ext cx="17280" cy="248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5"/>
                  </a:moveTo>
                  <a:lnTo>
                    <a:pt x="0" y="5"/>
                  </a:lnTo>
                  <a:lnTo>
                    <a:pt x="13" y="14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118360" y="5182920"/>
              <a:ext cx="27000" cy="2664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5"/>
                  </a:moveTo>
                  <a:lnTo>
                    <a:pt x="0" y="0"/>
                  </a:lnTo>
                  <a:lnTo>
                    <a:pt x="13" y="15"/>
                  </a:lnTo>
                  <a:lnTo>
                    <a:pt x="39" y="1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09000" y="5157720"/>
              <a:ext cx="27000" cy="34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5"/>
                  </a:moveTo>
                  <a:lnTo>
                    <a:pt x="0" y="5"/>
                  </a:lnTo>
                  <a:lnTo>
                    <a:pt x="13" y="19"/>
                  </a:lnTo>
                  <a:lnTo>
                    <a:pt x="39" y="1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91360" y="5140080"/>
              <a:ext cx="27000" cy="2664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13" y="10"/>
                  </a:moveTo>
                  <a:lnTo>
                    <a:pt x="0" y="10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082000" y="5132160"/>
              <a:ext cx="27000" cy="252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4"/>
                  </a:moveTo>
                  <a:lnTo>
                    <a:pt x="0" y="4"/>
                  </a:lnTo>
                  <a:lnTo>
                    <a:pt x="26" y="14"/>
                  </a:lnTo>
                  <a:lnTo>
                    <a:pt x="40" y="4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64360" y="5114520"/>
              <a:ext cx="1764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0"/>
                  </a:moveTo>
                  <a:lnTo>
                    <a:pt x="0" y="10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39160" y="5114520"/>
              <a:ext cx="25200" cy="172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5"/>
                  </a:moveTo>
                  <a:lnTo>
                    <a:pt x="0" y="5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012160" y="5105520"/>
              <a:ext cx="27000" cy="1728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13" y="10"/>
                  </a:moveTo>
                  <a:lnTo>
                    <a:pt x="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4520" y="5105520"/>
              <a:ext cx="25560" cy="172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1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69320" y="5105520"/>
              <a:ext cx="25200" cy="2664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15"/>
                  </a:moveTo>
                  <a:lnTo>
                    <a:pt x="0" y="15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940520" y="5114520"/>
              <a:ext cx="28800" cy="252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4"/>
                  </a:moveTo>
                  <a:lnTo>
                    <a:pt x="0" y="14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905600" y="5122800"/>
              <a:ext cx="34920" cy="3456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6" y="14"/>
                  </a:moveTo>
                  <a:lnTo>
                    <a:pt x="13" y="1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377120" y="5140080"/>
              <a:ext cx="546120" cy="650520"/>
            </a:xfrm>
            <a:custGeom>
              <a:avLst/>
              <a:gdLst/>
              <a:ahLst/>
              <a:rect l="l" t="t" r="r" b="b"/>
              <a:pathLst>
                <a:path w="813" h="360">
                  <a:moveTo>
                    <a:pt x="13" y="356"/>
                  </a:moveTo>
                  <a:lnTo>
                    <a:pt x="13" y="360"/>
                  </a:lnTo>
                  <a:lnTo>
                    <a:pt x="813" y="5"/>
                  </a:lnTo>
                  <a:lnTo>
                    <a:pt x="787" y="0"/>
                  </a:lnTo>
                  <a:lnTo>
                    <a:pt x="0" y="356"/>
                  </a:lnTo>
                  <a:lnTo>
                    <a:pt x="0" y="360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60"/>
                  </a:lnTo>
                  <a:lnTo>
                    <a:pt x="13" y="3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377120" y="5783040"/>
              <a:ext cx="17280" cy="169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386480" y="5790960"/>
              <a:ext cx="7920" cy="17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377120" y="580032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10"/>
                  </a:moveTo>
                  <a:lnTo>
                    <a:pt x="26" y="10"/>
                  </a:lnTo>
                  <a:lnTo>
                    <a:pt x="26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367400" y="5808600"/>
              <a:ext cx="27000" cy="248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4" y="10"/>
                  </a:moveTo>
                  <a:lnTo>
                    <a:pt x="27" y="14"/>
                  </a:lnTo>
                  <a:lnTo>
                    <a:pt x="40" y="5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14" y="1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377120" y="5827320"/>
              <a:ext cx="9360" cy="612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377120" y="582732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386480" y="5827320"/>
              <a:ext cx="17640" cy="158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4"/>
                  </a:lnTo>
                  <a:lnTo>
                    <a:pt x="13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394400" y="5833800"/>
              <a:ext cx="17640" cy="187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04120" y="5843520"/>
              <a:ext cx="17280" cy="169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404120" y="5852880"/>
              <a:ext cx="17280" cy="75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412040" y="5860800"/>
              <a:ext cx="17280" cy="90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412040" y="587016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3" y="4"/>
                  </a:moveTo>
                  <a:lnTo>
                    <a:pt x="26" y="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3" y="9"/>
                  </a:lnTo>
                  <a:lnTo>
                    <a:pt x="26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9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421400" y="5878440"/>
              <a:ext cx="15840" cy="75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429320" y="5870160"/>
              <a:ext cx="7920" cy="158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37240" y="5870160"/>
              <a:ext cx="11160" cy="15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48400" y="5878440"/>
              <a:ext cx="7920" cy="75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448400" y="5878440"/>
              <a:ext cx="15840" cy="169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56320" y="5878440"/>
              <a:ext cx="7920" cy="169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456320" y="5886360"/>
              <a:ext cx="17640" cy="90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64240" y="5886360"/>
              <a:ext cx="972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67400" y="5913360"/>
              <a:ext cx="27000" cy="7560"/>
            </a:xfrm>
            <a:custGeom>
              <a:avLst/>
              <a:gdLst/>
              <a:ahLst/>
              <a:rect l="l" t="t" r="r" b="b"/>
              <a:pathLst>
                <a:path w="40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1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340400" y="5905440"/>
              <a:ext cx="9720" cy="75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359480" y="5905440"/>
              <a:ext cx="77760" cy="756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50120" y="5895720"/>
              <a:ext cx="114120" cy="9360"/>
            </a:xfrm>
            <a:custGeom>
              <a:avLst/>
              <a:gdLst/>
              <a:ahLst/>
              <a:rect l="l" t="t" r="r" b="b"/>
              <a:pathLst>
                <a:path w="171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14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350120" y="5878440"/>
              <a:ext cx="106200" cy="7560"/>
            </a:xfrm>
            <a:custGeom>
              <a:avLst/>
              <a:gdLst/>
              <a:ahLst/>
              <a:rect l="l" t="t" r="r" b="b"/>
              <a:pathLst>
                <a:path w="158" h="5">
                  <a:moveTo>
                    <a:pt x="0" y="5"/>
                  </a:moveTo>
                  <a:lnTo>
                    <a:pt x="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50120" y="5860800"/>
              <a:ext cx="71280" cy="9000"/>
            </a:xfrm>
            <a:custGeom>
              <a:avLst/>
              <a:gdLst/>
              <a:ahLst/>
              <a:rect l="l" t="t" r="r" b="b"/>
              <a:pathLst>
                <a:path w="105" h="5">
                  <a:moveTo>
                    <a:pt x="0" y="5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359480" y="5843520"/>
              <a:ext cx="52560" cy="9000"/>
            </a:xfrm>
            <a:custGeom>
              <a:avLst/>
              <a:gdLst/>
              <a:ahLst/>
              <a:rect l="l" t="t" r="r" b="b"/>
              <a:pathLst>
                <a:path w="79" h="5">
                  <a:moveTo>
                    <a:pt x="0" y="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359480" y="5833800"/>
              <a:ext cx="34920" cy="936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5"/>
                  </a:moveTo>
                  <a:lnTo>
                    <a:pt x="1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377120" y="5783040"/>
              <a:ext cx="17280" cy="169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386480" y="579096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10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377120" y="5800320"/>
              <a:ext cx="27000" cy="172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26" y="10"/>
                  </a:moveTo>
                  <a:lnTo>
                    <a:pt x="26" y="10"/>
                  </a:lnTo>
                  <a:lnTo>
                    <a:pt x="39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367400" y="5817960"/>
              <a:ext cx="27000" cy="1548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27" y="5"/>
                  </a:moveTo>
                  <a:lnTo>
                    <a:pt x="27" y="9"/>
                  </a:lnTo>
                  <a:lnTo>
                    <a:pt x="4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5"/>
                  </a:lnTo>
                  <a:lnTo>
                    <a:pt x="0" y="9"/>
                  </a:lnTo>
                  <a:lnTo>
                    <a:pt x="14" y="9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77120" y="5827320"/>
              <a:ext cx="9360" cy="158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386480" y="5827320"/>
              <a:ext cx="7920" cy="158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3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386480" y="5833800"/>
              <a:ext cx="1764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394400" y="5833800"/>
              <a:ext cx="17640" cy="187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404120" y="5843520"/>
              <a:ext cx="17280" cy="169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04120" y="5852880"/>
              <a:ext cx="17280" cy="75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412040" y="5860800"/>
              <a:ext cx="17280" cy="90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21400" y="5870160"/>
              <a:ext cx="15840" cy="1584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3" y="4"/>
                  </a:moveTo>
                  <a:lnTo>
                    <a:pt x="26" y="4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3" y="9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37240" y="5870160"/>
              <a:ext cx="11160" cy="15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437240" y="5870160"/>
              <a:ext cx="11160" cy="15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448400" y="5878440"/>
              <a:ext cx="7920" cy="756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448400" y="5878440"/>
              <a:ext cx="15840" cy="169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456320" y="5878440"/>
              <a:ext cx="17640" cy="169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456320" y="5886360"/>
              <a:ext cx="17640" cy="90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456320" y="5886360"/>
              <a:ext cx="25560" cy="1872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26" y="10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26" y="5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350120" y="5886360"/>
              <a:ext cx="123840" cy="43920"/>
            </a:xfrm>
            <a:custGeom>
              <a:avLst/>
              <a:gdLst/>
              <a:ahLst/>
              <a:rect l="l" t="t" r="r" b="b"/>
              <a:pathLst>
                <a:path w="184" h="24">
                  <a:moveTo>
                    <a:pt x="13" y="19"/>
                  </a:moveTo>
                  <a:lnTo>
                    <a:pt x="26" y="24"/>
                  </a:lnTo>
                  <a:lnTo>
                    <a:pt x="184" y="10"/>
                  </a:lnTo>
                  <a:lnTo>
                    <a:pt x="171" y="0"/>
                  </a:lnTo>
                  <a:lnTo>
                    <a:pt x="13" y="15"/>
                  </a:lnTo>
                  <a:lnTo>
                    <a:pt x="26" y="24"/>
                  </a:lnTo>
                  <a:lnTo>
                    <a:pt x="13" y="19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359480" y="5913360"/>
              <a:ext cx="17640" cy="1692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59480" y="5905440"/>
              <a:ext cx="17640" cy="154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13" y="9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59480" y="5905440"/>
              <a:ext cx="7920" cy="154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340400" y="5913360"/>
              <a:ext cx="27000" cy="248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4"/>
                  </a:moveTo>
                  <a:lnTo>
                    <a:pt x="26" y="9"/>
                  </a:lnTo>
                  <a:lnTo>
                    <a:pt x="39" y="4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26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40400" y="5905440"/>
              <a:ext cx="27000" cy="1548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13" y="5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350120" y="589572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1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350120" y="5895720"/>
              <a:ext cx="9360" cy="17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23120" y="5895720"/>
              <a:ext cx="27000" cy="345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13" y="5"/>
                  </a:moveTo>
                  <a:lnTo>
                    <a:pt x="26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39" y="10"/>
                  </a:lnTo>
                  <a:lnTo>
                    <a:pt x="13" y="5"/>
                  </a:lnTo>
                  <a:lnTo>
                    <a:pt x="0" y="19"/>
                  </a:lnTo>
                  <a:lnTo>
                    <a:pt x="26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32480" y="589572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0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340400" y="5886360"/>
              <a:ext cx="19080" cy="1872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1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13" y="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40400" y="5886360"/>
              <a:ext cx="9720" cy="18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23120" y="5886360"/>
              <a:ext cx="27000" cy="2664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3" y="5"/>
                  </a:moveTo>
                  <a:lnTo>
                    <a:pt x="26" y="10"/>
                  </a:lnTo>
                  <a:lnTo>
                    <a:pt x="39" y="10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39" y="10"/>
                  </a:lnTo>
                  <a:lnTo>
                    <a:pt x="13" y="5"/>
                  </a:lnTo>
                  <a:lnTo>
                    <a:pt x="0" y="15"/>
                  </a:lnTo>
                  <a:lnTo>
                    <a:pt x="26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32480" y="5775120"/>
              <a:ext cx="61920" cy="12996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79" y="5"/>
                  </a:moveTo>
                  <a:lnTo>
                    <a:pt x="66" y="5"/>
                  </a:lnTo>
                  <a:lnTo>
                    <a:pt x="0" y="67"/>
                  </a:lnTo>
                  <a:lnTo>
                    <a:pt x="26" y="72"/>
                  </a:lnTo>
                  <a:lnTo>
                    <a:pt x="92" y="5"/>
                  </a:lnTo>
                  <a:lnTo>
                    <a:pt x="66" y="9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66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905600" y="5427360"/>
              <a:ext cx="34920" cy="936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13" y="0"/>
                  </a:lnTo>
                  <a:lnTo>
                    <a:pt x="5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89760" y="5400360"/>
              <a:ext cx="104760" cy="4248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26" y="15"/>
                  </a:moveTo>
                  <a:lnTo>
                    <a:pt x="0" y="0"/>
                  </a:lnTo>
                  <a:lnTo>
                    <a:pt x="157" y="20"/>
                  </a:lnTo>
                  <a:lnTo>
                    <a:pt x="144" y="24"/>
                  </a:lnTo>
                  <a:lnTo>
                    <a:pt x="78" y="2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62760" y="5384520"/>
              <a:ext cx="141480" cy="52200"/>
            </a:xfrm>
            <a:custGeom>
              <a:avLst/>
              <a:gdLst/>
              <a:ahLst/>
              <a:rect l="l" t="t" r="r" b="b"/>
              <a:pathLst>
                <a:path w="210" h="29">
                  <a:moveTo>
                    <a:pt x="40" y="9"/>
                  </a:moveTo>
                  <a:lnTo>
                    <a:pt x="0" y="0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835760" y="5365440"/>
              <a:ext cx="176400" cy="61560"/>
            </a:xfrm>
            <a:custGeom>
              <a:avLst/>
              <a:gdLst/>
              <a:ahLst/>
              <a:rect l="l" t="t" r="r" b="b"/>
              <a:pathLst>
                <a:path w="262" h="34">
                  <a:moveTo>
                    <a:pt x="39" y="10"/>
                  </a:moveTo>
                  <a:lnTo>
                    <a:pt x="0" y="0"/>
                  </a:lnTo>
                  <a:lnTo>
                    <a:pt x="262" y="29"/>
                  </a:lnTo>
                  <a:lnTo>
                    <a:pt x="249" y="34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818480" y="5349600"/>
              <a:ext cx="210960" cy="68040"/>
            </a:xfrm>
            <a:custGeom>
              <a:avLst/>
              <a:gdLst/>
              <a:ahLst/>
              <a:rect l="l" t="t" r="r" b="b"/>
              <a:pathLst>
                <a:path w="314" h="38">
                  <a:moveTo>
                    <a:pt x="26" y="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4" y="33"/>
                  </a:lnTo>
                  <a:lnTo>
                    <a:pt x="288" y="38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18480" y="5330520"/>
              <a:ext cx="220680" cy="77400"/>
            </a:xfrm>
            <a:custGeom>
              <a:avLst/>
              <a:gdLst/>
              <a:ahLst/>
              <a:rect l="l" t="t" r="r" b="b"/>
              <a:pathLst>
                <a:path w="328" h="43">
                  <a:moveTo>
                    <a:pt x="0" y="10"/>
                  </a:moveTo>
                  <a:lnTo>
                    <a:pt x="0" y="0"/>
                  </a:lnTo>
                  <a:lnTo>
                    <a:pt x="328" y="38"/>
                  </a:lnTo>
                  <a:lnTo>
                    <a:pt x="314" y="4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808760" y="5313240"/>
              <a:ext cx="238320" cy="86760"/>
            </a:xfrm>
            <a:custGeom>
              <a:avLst/>
              <a:gdLst/>
              <a:ahLst/>
              <a:rect l="l" t="t" r="r" b="b"/>
              <a:pathLst>
                <a:path w="355" h="48">
                  <a:moveTo>
                    <a:pt x="14" y="10"/>
                  </a:moveTo>
                  <a:lnTo>
                    <a:pt x="0" y="0"/>
                  </a:lnTo>
                  <a:lnTo>
                    <a:pt x="355" y="44"/>
                  </a:lnTo>
                  <a:lnTo>
                    <a:pt x="342" y="4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808760" y="5306760"/>
              <a:ext cx="247680" cy="85320"/>
            </a:xfrm>
            <a:custGeom>
              <a:avLst/>
              <a:gdLst/>
              <a:ahLst/>
              <a:rect l="l" t="t" r="r" b="b"/>
              <a:pathLst>
                <a:path w="368" h="48">
                  <a:moveTo>
                    <a:pt x="0" y="4"/>
                  </a:moveTo>
                  <a:lnTo>
                    <a:pt x="0" y="0"/>
                  </a:lnTo>
                  <a:lnTo>
                    <a:pt x="368" y="38"/>
                  </a:lnTo>
                  <a:lnTo>
                    <a:pt x="355" y="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99400" y="5287680"/>
              <a:ext cx="264960" cy="87120"/>
            </a:xfrm>
            <a:custGeom>
              <a:avLst/>
              <a:gdLst/>
              <a:ahLst/>
              <a:rect l="l" t="t" r="r" b="b"/>
              <a:pathLst>
                <a:path w="394" h="48">
                  <a:moveTo>
                    <a:pt x="13" y="10"/>
                  </a:moveTo>
                  <a:lnTo>
                    <a:pt x="0" y="0"/>
                  </a:lnTo>
                  <a:lnTo>
                    <a:pt x="394" y="43"/>
                  </a:lnTo>
                  <a:lnTo>
                    <a:pt x="381" y="48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799400" y="5278320"/>
              <a:ext cx="282600" cy="86760"/>
            </a:xfrm>
            <a:custGeom>
              <a:avLst/>
              <a:gdLst/>
              <a:ahLst/>
              <a:rect l="l" t="t" r="r" b="b"/>
              <a:pathLst>
                <a:path w="420" h="48">
                  <a:moveTo>
                    <a:pt x="0" y="5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420" y="43"/>
                  </a:lnTo>
                  <a:lnTo>
                    <a:pt x="394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08760" y="5270400"/>
              <a:ext cx="282600" cy="85320"/>
            </a:xfrm>
            <a:custGeom>
              <a:avLst/>
              <a:gdLst/>
              <a:ahLst/>
              <a:rect l="l" t="t" r="r" b="b"/>
              <a:pathLst>
                <a:path w="420" h="48">
                  <a:moveTo>
                    <a:pt x="0" y="5"/>
                  </a:moveTo>
                  <a:lnTo>
                    <a:pt x="14" y="0"/>
                  </a:lnTo>
                  <a:lnTo>
                    <a:pt x="420" y="44"/>
                  </a:lnTo>
                  <a:lnTo>
                    <a:pt x="407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818480" y="5252760"/>
              <a:ext cx="282600" cy="96480"/>
            </a:xfrm>
            <a:custGeom>
              <a:avLst/>
              <a:gdLst/>
              <a:ahLst/>
              <a:rect l="l" t="t" r="r" b="b"/>
              <a:pathLst>
                <a:path w="419" h="53">
                  <a:moveTo>
                    <a:pt x="0" y="9"/>
                  </a:moveTo>
                  <a:lnTo>
                    <a:pt x="13" y="0"/>
                  </a:lnTo>
                  <a:lnTo>
                    <a:pt x="419" y="48"/>
                  </a:lnTo>
                  <a:lnTo>
                    <a:pt x="406" y="5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827840" y="5244840"/>
              <a:ext cx="290520" cy="95040"/>
            </a:xfrm>
            <a:custGeom>
              <a:avLst/>
              <a:gdLst/>
              <a:ahLst/>
              <a:rect l="l" t="t" r="r" b="b"/>
              <a:pathLst>
                <a:path w="433" h="53">
                  <a:moveTo>
                    <a:pt x="0" y="5"/>
                  </a:moveTo>
                  <a:lnTo>
                    <a:pt x="13" y="0"/>
                  </a:lnTo>
                  <a:lnTo>
                    <a:pt x="433" y="48"/>
                  </a:lnTo>
                  <a:lnTo>
                    <a:pt x="406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835760" y="5235480"/>
              <a:ext cx="282600" cy="94680"/>
            </a:xfrm>
            <a:custGeom>
              <a:avLst/>
              <a:gdLst/>
              <a:ahLst/>
              <a:rect l="l" t="t" r="r" b="b"/>
              <a:pathLst>
                <a:path w="420" h="53">
                  <a:moveTo>
                    <a:pt x="0" y="5"/>
                  </a:moveTo>
                  <a:lnTo>
                    <a:pt x="0" y="0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35760" y="5225760"/>
              <a:ext cx="292320" cy="96480"/>
            </a:xfrm>
            <a:custGeom>
              <a:avLst/>
              <a:gdLst/>
              <a:ahLst/>
              <a:rect l="l" t="t" r="r" b="b"/>
              <a:pathLst>
                <a:path w="433" h="53">
                  <a:moveTo>
                    <a:pt x="0" y="5"/>
                  </a:moveTo>
                  <a:lnTo>
                    <a:pt x="26" y="0"/>
                  </a:lnTo>
                  <a:lnTo>
                    <a:pt x="433" y="48"/>
                  </a:lnTo>
                  <a:lnTo>
                    <a:pt x="433" y="48"/>
                  </a:lnTo>
                  <a:lnTo>
                    <a:pt x="433" y="48"/>
                  </a:lnTo>
                  <a:lnTo>
                    <a:pt x="433" y="53"/>
                  </a:lnTo>
                  <a:lnTo>
                    <a:pt x="420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853400" y="5219640"/>
              <a:ext cx="282600" cy="93240"/>
            </a:xfrm>
            <a:custGeom>
              <a:avLst/>
              <a:gdLst/>
              <a:ahLst/>
              <a:rect l="l" t="t" r="r" b="b"/>
              <a:pathLst>
                <a:path w="420" h="52">
                  <a:moveTo>
                    <a:pt x="0" y="4"/>
                  </a:moveTo>
                  <a:lnTo>
                    <a:pt x="13" y="0"/>
                  </a:lnTo>
                  <a:lnTo>
                    <a:pt x="420" y="43"/>
                  </a:lnTo>
                  <a:lnTo>
                    <a:pt x="420" y="48"/>
                  </a:lnTo>
                  <a:lnTo>
                    <a:pt x="407" y="48"/>
                  </a:lnTo>
                  <a:lnTo>
                    <a:pt x="407" y="48"/>
                  </a:lnTo>
                  <a:lnTo>
                    <a:pt x="407" y="5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862760" y="5200560"/>
              <a:ext cx="273240" cy="96480"/>
            </a:xfrm>
            <a:custGeom>
              <a:avLst/>
              <a:gdLst/>
              <a:ahLst/>
              <a:rect l="l" t="t" r="r" b="b"/>
              <a:pathLst>
                <a:path w="407" h="53">
                  <a:moveTo>
                    <a:pt x="0" y="10"/>
                  </a:moveTo>
                  <a:lnTo>
                    <a:pt x="13" y="0"/>
                  </a:lnTo>
                  <a:lnTo>
                    <a:pt x="407" y="48"/>
                  </a:lnTo>
                  <a:lnTo>
                    <a:pt x="407" y="48"/>
                  </a:lnTo>
                  <a:lnTo>
                    <a:pt x="407" y="53"/>
                  </a:lnTo>
                  <a:lnTo>
                    <a:pt x="407" y="53"/>
                  </a:lnTo>
                  <a:lnTo>
                    <a:pt x="407" y="5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870680" y="5192640"/>
              <a:ext cx="274680" cy="94680"/>
            </a:xfrm>
            <a:custGeom>
              <a:avLst/>
              <a:gdLst/>
              <a:ahLst/>
              <a:rect l="l" t="t" r="r" b="b"/>
              <a:pathLst>
                <a:path w="407" h="53">
                  <a:moveTo>
                    <a:pt x="0" y="5"/>
                  </a:moveTo>
                  <a:lnTo>
                    <a:pt x="13" y="0"/>
                  </a:lnTo>
                  <a:lnTo>
                    <a:pt x="407" y="43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878600" y="5182920"/>
              <a:ext cx="266760" cy="87120"/>
            </a:xfrm>
            <a:custGeom>
              <a:avLst/>
              <a:gdLst/>
              <a:ahLst/>
              <a:rect l="l" t="t" r="r" b="b"/>
              <a:pathLst>
                <a:path w="394" h="48">
                  <a:moveTo>
                    <a:pt x="0" y="5"/>
                  </a:moveTo>
                  <a:lnTo>
                    <a:pt x="14" y="0"/>
                  </a:lnTo>
                  <a:lnTo>
                    <a:pt x="394" y="44"/>
                  </a:lnTo>
                  <a:lnTo>
                    <a:pt x="394" y="44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889760" y="5175000"/>
              <a:ext cx="255600" cy="87120"/>
            </a:xfrm>
            <a:custGeom>
              <a:avLst/>
              <a:gdLst/>
              <a:ahLst/>
              <a:rect l="l" t="t" r="r" b="b"/>
              <a:pathLst>
                <a:path w="380" h="48">
                  <a:moveTo>
                    <a:pt x="0" y="4"/>
                  </a:moveTo>
                  <a:lnTo>
                    <a:pt x="13" y="0"/>
                  </a:lnTo>
                  <a:lnTo>
                    <a:pt x="380" y="43"/>
                  </a:lnTo>
                  <a:lnTo>
                    <a:pt x="380" y="43"/>
                  </a:lnTo>
                  <a:lnTo>
                    <a:pt x="380" y="43"/>
                  </a:lnTo>
                  <a:lnTo>
                    <a:pt x="380" y="48"/>
                  </a:lnTo>
                  <a:lnTo>
                    <a:pt x="380" y="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97680" y="5167080"/>
              <a:ext cx="247680" cy="85320"/>
            </a:xfrm>
            <a:custGeom>
              <a:avLst/>
              <a:gdLst/>
              <a:ahLst/>
              <a:rect l="l" t="t" r="r" b="b"/>
              <a:pathLst>
                <a:path w="367" h="48">
                  <a:moveTo>
                    <a:pt x="0" y="5"/>
                  </a:moveTo>
                  <a:lnTo>
                    <a:pt x="13" y="0"/>
                  </a:lnTo>
                  <a:lnTo>
                    <a:pt x="367" y="38"/>
                  </a:lnTo>
                  <a:lnTo>
                    <a:pt x="367" y="43"/>
                  </a:lnTo>
                  <a:lnTo>
                    <a:pt x="367" y="43"/>
                  </a:lnTo>
                  <a:lnTo>
                    <a:pt x="367" y="43"/>
                  </a:lnTo>
                  <a:lnTo>
                    <a:pt x="367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905600" y="5157720"/>
              <a:ext cx="239760" cy="77400"/>
            </a:xfrm>
            <a:custGeom>
              <a:avLst/>
              <a:gdLst/>
              <a:ahLst/>
              <a:rect l="l" t="t" r="r" b="b"/>
              <a:pathLst>
                <a:path w="354" h="43">
                  <a:moveTo>
                    <a:pt x="0" y="5"/>
                  </a:moveTo>
                  <a:lnTo>
                    <a:pt x="13" y="0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4" y="43"/>
                  </a:lnTo>
                  <a:lnTo>
                    <a:pt x="354" y="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915320" y="5140080"/>
              <a:ext cx="230040" cy="85320"/>
            </a:xfrm>
            <a:custGeom>
              <a:avLst/>
              <a:gdLst/>
              <a:ahLst/>
              <a:rect l="l" t="t" r="r" b="b"/>
              <a:pathLst>
                <a:path w="341" h="48">
                  <a:moveTo>
                    <a:pt x="0" y="1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341" y="39"/>
                  </a:lnTo>
                  <a:lnTo>
                    <a:pt x="341" y="39"/>
                  </a:lnTo>
                  <a:lnTo>
                    <a:pt x="341" y="44"/>
                  </a:lnTo>
                  <a:lnTo>
                    <a:pt x="341" y="44"/>
                  </a:lnTo>
                  <a:lnTo>
                    <a:pt x="341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923240" y="5132160"/>
              <a:ext cx="222120" cy="77400"/>
            </a:xfrm>
            <a:custGeom>
              <a:avLst/>
              <a:gdLst/>
              <a:ahLst/>
              <a:rect l="l" t="t" r="r" b="b"/>
              <a:pathLst>
                <a:path w="328" h="43">
                  <a:moveTo>
                    <a:pt x="0" y="4"/>
                  </a:moveTo>
                  <a:lnTo>
                    <a:pt x="0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315" y="33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43"/>
                  </a:lnTo>
                  <a:lnTo>
                    <a:pt x="328" y="4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932600" y="5122800"/>
              <a:ext cx="203400" cy="69480"/>
            </a:xfrm>
            <a:custGeom>
              <a:avLst/>
              <a:gdLst/>
              <a:ahLst/>
              <a:rect l="l" t="t" r="r" b="b"/>
              <a:pathLst>
                <a:path w="302" h="38">
                  <a:moveTo>
                    <a:pt x="0" y="5"/>
                  </a:move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89" y="33"/>
                  </a:lnTo>
                  <a:lnTo>
                    <a:pt x="289" y="33"/>
                  </a:lnTo>
                  <a:lnTo>
                    <a:pt x="302" y="33"/>
                  </a:lnTo>
                  <a:lnTo>
                    <a:pt x="302" y="38"/>
                  </a:lnTo>
                  <a:lnTo>
                    <a:pt x="302" y="3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950240" y="5122800"/>
              <a:ext cx="177840" cy="5976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250" y="24"/>
                  </a:lnTo>
                  <a:lnTo>
                    <a:pt x="250" y="24"/>
                  </a:lnTo>
                  <a:lnTo>
                    <a:pt x="263" y="29"/>
                  </a:lnTo>
                  <a:lnTo>
                    <a:pt x="263" y="29"/>
                  </a:lnTo>
                  <a:lnTo>
                    <a:pt x="263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77240" y="5114520"/>
              <a:ext cx="141120" cy="52200"/>
            </a:xfrm>
            <a:custGeom>
              <a:avLst/>
              <a:gdLst/>
              <a:ahLst/>
              <a:rect l="l" t="t" r="r" b="b"/>
              <a:pathLst>
                <a:path w="210" h="29">
                  <a:moveTo>
                    <a:pt x="0" y="5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183" y="14"/>
                  </a:lnTo>
                  <a:lnTo>
                    <a:pt x="183" y="19"/>
                  </a:lnTo>
                  <a:lnTo>
                    <a:pt x="197" y="24"/>
                  </a:lnTo>
                  <a:lnTo>
                    <a:pt x="210" y="24"/>
                  </a:lnTo>
                  <a:lnTo>
                    <a:pt x="210" y="2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004240" y="5114520"/>
              <a:ext cx="96840" cy="25200"/>
            </a:xfrm>
            <a:custGeom>
              <a:avLst/>
              <a:gdLst/>
              <a:ahLst/>
              <a:rect l="l" t="t" r="r" b="b"/>
              <a:pathLst>
                <a:path w="144" h="14">
                  <a:moveTo>
                    <a:pt x="0" y="0"/>
                  </a:moveTo>
                  <a:lnTo>
                    <a:pt x="13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105" y="10"/>
                  </a:lnTo>
                  <a:lnTo>
                    <a:pt x="131" y="14"/>
                  </a:lnTo>
                  <a:lnTo>
                    <a:pt x="1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464240" y="5886360"/>
              <a:ext cx="17640" cy="900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29320" y="5870160"/>
              <a:ext cx="61920" cy="15840"/>
            </a:xfrm>
            <a:custGeom>
              <a:avLst/>
              <a:gdLst/>
              <a:ahLst/>
              <a:rect l="l" t="t" r="r" b="b"/>
              <a:pathLst>
                <a:path w="92" h="9">
                  <a:moveTo>
                    <a:pt x="53" y="9"/>
                  </a:moveTo>
                  <a:lnTo>
                    <a:pt x="40" y="9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0" y="4"/>
                  </a:lnTo>
                  <a:lnTo>
                    <a:pt x="13" y="0"/>
                  </a:lnTo>
                  <a:lnTo>
                    <a:pt x="92" y="4"/>
                  </a:lnTo>
                  <a:lnTo>
                    <a:pt x="79" y="9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37240" y="5860800"/>
              <a:ext cx="71640" cy="1728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14" y="0"/>
                  </a:lnTo>
                  <a:lnTo>
                    <a:pt x="105" y="5"/>
                  </a:lnTo>
                  <a:lnTo>
                    <a:pt x="79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48400" y="5852880"/>
              <a:ext cx="69840" cy="16920"/>
            </a:xfrm>
            <a:custGeom>
              <a:avLst/>
              <a:gdLst/>
              <a:ahLst/>
              <a:rect l="l" t="t" r="r" b="b"/>
              <a:pathLst>
                <a:path w="104" h="10">
                  <a:moveTo>
                    <a:pt x="0" y="5"/>
                  </a:moveTo>
                  <a:lnTo>
                    <a:pt x="26" y="0"/>
                  </a:lnTo>
                  <a:lnTo>
                    <a:pt x="104" y="0"/>
                  </a:lnTo>
                  <a:lnTo>
                    <a:pt x="91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64240" y="5833800"/>
              <a:ext cx="63720" cy="1872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3" y="0"/>
                  </a:lnTo>
                  <a:lnTo>
                    <a:pt x="92" y="5"/>
                  </a:lnTo>
                  <a:lnTo>
                    <a:pt x="7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73960" y="5827320"/>
              <a:ext cx="71280" cy="1584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4"/>
                  </a:moveTo>
                  <a:lnTo>
                    <a:pt x="26" y="0"/>
                  </a:lnTo>
                  <a:lnTo>
                    <a:pt x="105" y="0"/>
                  </a:lnTo>
                  <a:lnTo>
                    <a:pt x="79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91240" y="5817960"/>
              <a:ext cx="71640" cy="9000"/>
            </a:xfrm>
            <a:custGeom>
              <a:avLst/>
              <a:gdLst/>
              <a:ahLst/>
              <a:rect l="l" t="t" r="r" b="b"/>
              <a:pathLst>
                <a:path w="105" h="5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7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99160" y="5800320"/>
              <a:ext cx="71640" cy="1728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10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508880" y="5790960"/>
              <a:ext cx="69840" cy="1728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27" y="0"/>
                  </a:lnTo>
                  <a:lnTo>
                    <a:pt x="105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527960" y="5783040"/>
              <a:ext cx="69840" cy="7560"/>
            </a:xfrm>
            <a:custGeom>
              <a:avLst/>
              <a:gdLst/>
              <a:ahLst/>
              <a:rect l="l" t="t" r="r" b="b"/>
              <a:pathLst>
                <a:path w="105" h="4">
                  <a:moveTo>
                    <a:pt x="0" y="4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7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35880" y="5765400"/>
              <a:ext cx="7920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553160" y="5756040"/>
              <a:ext cx="69840" cy="1872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562880" y="5748120"/>
              <a:ext cx="77760" cy="756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26" y="0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78720" y="5730480"/>
              <a:ext cx="71280" cy="1728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9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588080" y="5722560"/>
              <a:ext cx="81000" cy="17280"/>
            </a:xfrm>
            <a:custGeom>
              <a:avLst/>
              <a:gdLst/>
              <a:ahLst/>
              <a:rect l="l" t="t" r="r" b="b"/>
              <a:pathLst>
                <a:path w="119" h="10">
                  <a:moveTo>
                    <a:pt x="0" y="5"/>
                  </a:moveTo>
                  <a:lnTo>
                    <a:pt x="27" y="0"/>
                  </a:lnTo>
                  <a:lnTo>
                    <a:pt x="119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605720" y="5703480"/>
              <a:ext cx="71280" cy="1872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10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615080" y="5697360"/>
              <a:ext cx="79560" cy="154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26" y="0"/>
                  </a:lnTo>
                  <a:lnTo>
                    <a:pt x="118" y="4"/>
                  </a:lnTo>
                  <a:lnTo>
                    <a:pt x="92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632720" y="5687640"/>
              <a:ext cx="71280" cy="1548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9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640640" y="5670360"/>
              <a:ext cx="81000" cy="16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657920" y="5660640"/>
              <a:ext cx="71640" cy="1728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14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669080" y="5652720"/>
              <a:ext cx="77760" cy="172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677000" y="5635440"/>
              <a:ext cx="79560" cy="16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694640" y="5625720"/>
              <a:ext cx="79200" cy="187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704000" y="5617800"/>
              <a:ext cx="77760" cy="756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26" y="0"/>
                  </a:lnTo>
                  <a:lnTo>
                    <a:pt x="118" y="0"/>
                  </a:lnTo>
                  <a:lnTo>
                    <a:pt x="10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721640" y="5600520"/>
              <a:ext cx="77760" cy="1692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9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9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29560" y="5592600"/>
              <a:ext cx="79200" cy="16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27" y="0"/>
                  </a:lnTo>
                  <a:lnTo>
                    <a:pt x="118" y="0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746840" y="5573520"/>
              <a:ext cx="81000" cy="187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9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756560" y="5567040"/>
              <a:ext cx="79200" cy="154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26" y="0"/>
                  </a:lnTo>
                  <a:lnTo>
                    <a:pt x="118" y="4"/>
                  </a:lnTo>
                  <a:lnTo>
                    <a:pt x="10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773840" y="5557680"/>
              <a:ext cx="79560" cy="154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781760" y="5540040"/>
              <a:ext cx="8100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91480" y="5530680"/>
              <a:ext cx="87120" cy="1692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6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808760" y="5522760"/>
              <a:ext cx="81000" cy="16920"/>
            </a:xfrm>
            <a:custGeom>
              <a:avLst/>
              <a:gdLst/>
              <a:ahLst/>
              <a:rect l="l" t="t" r="r" b="b"/>
              <a:pathLst>
                <a:path w="119" h="9">
                  <a:moveTo>
                    <a:pt x="0" y="4"/>
                  </a:moveTo>
                  <a:lnTo>
                    <a:pt x="14" y="0"/>
                  </a:lnTo>
                  <a:lnTo>
                    <a:pt x="119" y="0"/>
                  </a:lnTo>
                  <a:lnTo>
                    <a:pt x="10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818480" y="5505120"/>
              <a:ext cx="87120" cy="1728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10"/>
                  </a:moveTo>
                  <a:lnTo>
                    <a:pt x="26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835760" y="5495760"/>
              <a:ext cx="79560" cy="187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845480" y="5486040"/>
              <a:ext cx="87120" cy="1872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6" y="0"/>
                  </a:lnTo>
                  <a:lnTo>
                    <a:pt x="131" y="0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862760" y="5470200"/>
              <a:ext cx="77760" cy="154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9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870680" y="5462280"/>
              <a:ext cx="88920" cy="1728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7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889760" y="5452920"/>
              <a:ext cx="79560" cy="1692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10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897680" y="5437080"/>
              <a:ext cx="88920" cy="15480"/>
            </a:xfrm>
            <a:custGeom>
              <a:avLst/>
              <a:gdLst/>
              <a:ahLst/>
              <a:rect l="l" t="t" r="r" b="b"/>
              <a:pathLst>
                <a:path w="131" h="9">
                  <a:moveTo>
                    <a:pt x="0" y="9"/>
                  </a:moveTo>
                  <a:lnTo>
                    <a:pt x="26" y="0"/>
                  </a:lnTo>
                  <a:lnTo>
                    <a:pt x="131" y="4"/>
                  </a:lnTo>
                  <a:lnTo>
                    <a:pt x="10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915320" y="5427360"/>
              <a:ext cx="71280" cy="1548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0" y="0"/>
                  </a:lnTo>
                  <a:lnTo>
                    <a:pt x="105" y="5"/>
                  </a:lnTo>
                  <a:lnTo>
                    <a:pt x="105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421400" y="5860800"/>
              <a:ext cx="27000" cy="1728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412040" y="5843520"/>
              <a:ext cx="52200" cy="1692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13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79" y="0"/>
                  </a:lnTo>
                  <a:lnTo>
                    <a:pt x="5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404120" y="5827320"/>
              <a:ext cx="77760" cy="2520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13" y="14"/>
                  </a:move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118" y="0"/>
                  </a:lnTo>
                  <a:lnTo>
                    <a:pt x="92" y="9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386480" y="5808600"/>
              <a:ext cx="112680" cy="24840"/>
            </a:xfrm>
            <a:custGeom>
              <a:avLst/>
              <a:gdLst/>
              <a:ahLst/>
              <a:rect l="l" t="t" r="r" b="b"/>
              <a:pathLst>
                <a:path w="170" h="14">
                  <a:moveTo>
                    <a:pt x="26" y="14"/>
                  </a:moveTo>
                  <a:lnTo>
                    <a:pt x="13" y="14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3" y="10"/>
                  </a:lnTo>
                  <a:lnTo>
                    <a:pt x="170" y="0"/>
                  </a:lnTo>
                  <a:lnTo>
                    <a:pt x="144" y="10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394400" y="5790960"/>
              <a:ext cx="123840" cy="3600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20"/>
                  </a:moveTo>
                  <a:lnTo>
                    <a:pt x="13" y="10"/>
                  </a:lnTo>
                  <a:lnTo>
                    <a:pt x="183" y="0"/>
                  </a:lnTo>
                  <a:lnTo>
                    <a:pt x="157" y="1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929360" y="5148000"/>
              <a:ext cx="157320" cy="7740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43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13" y="19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66" y="5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45" y="0"/>
                  </a:lnTo>
                  <a:lnTo>
                    <a:pt x="171" y="0"/>
                  </a:lnTo>
                  <a:lnTo>
                    <a:pt x="184" y="5"/>
                  </a:lnTo>
                  <a:lnTo>
                    <a:pt x="197" y="10"/>
                  </a:lnTo>
                  <a:lnTo>
                    <a:pt x="210" y="15"/>
                  </a:lnTo>
                  <a:lnTo>
                    <a:pt x="237" y="29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37" y="34"/>
                  </a:lnTo>
                  <a:lnTo>
                    <a:pt x="223" y="24"/>
                  </a:lnTo>
                  <a:lnTo>
                    <a:pt x="210" y="19"/>
                  </a:lnTo>
                  <a:lnTo>
                    <a:pt x="197" y="15"/>
                  </a:lnTo>
                  <a:lnTo>
                    <a:pt x="184" y="10"/>
                  </a:lnTo>
                  <a:lnTo>
                    <a:pt x="158" y="5"/>
                  </a:lnTo>
                  <a:lnTo>
                    <a:pt x="145" y="0"/>
                  </a:lnTo>
                  <a:lnTo>
                    <a:pt x="118" y="0"/>
                  </a:lnTo>
                  <a:lnTo>
                    <a:pt x="92" y="0"/>
                  </a:lnTo>
                  <a:lnTo>
                    <a:pt x="79" y="5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27" y="19"/>
                  </a:lnTo>
                  <a:lnTo>
                    <a:pt x="13" y="2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29360" y="5225760"/>
              <a:ext cx="157320" cy="80640"/>
            </a:xfrm>
            <a:custGeom>
              <a:avLst/>
              <a:gdLst/>
              <a:ahLst/>
              <a:rect l="l" t="t" r="r" b="b"/>
              <a:pathLst>
                <a:path w="237" h="4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7" y="24"/>
                  </a:lnTo>
                  <a:lnTo>
                    <a:pt x="27" y="29"/>
                  </a:lnTo>
                  <a:lnTo>
                    <a:pt x="40" y="34"/>
                  </a:lnTo>
                  <a:lnTo>
                    <a:pt x="53" y="34"/>
                  </a:lnTo>
                  <a:lnTo>
                    <a:pt x="66" y="39"/>
                  </a:lnTo>
                  <a:lnTo>
                    <a:pt x="92" y="44"/>
                  </a:lnTo>
                  <a:lnTo>
                    <a:pt x="105" y="44"/>
                  </a:lnTo>
                  <a:lnTo>
                    <a:pt x="132" y="44"/>
                  </a:lnTo>
                  <a:lnTo>
                    <a:pt x="158" y="44"/>
                  </a:lnTo>
                  <a:lnTo>
                    <a:pt x="171" y="39"/>
                  </a:lnTo>
                  <a:lnTo>
                    <a:pt x="197" y="34"/>
                  </a:lnTo>
                  <a:lnTo>
                    <a:pt x="210" y="29"/>
                  </a:lnTo>
                  <a:lnTo>
                    <a:pt x="237" y="15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10"/>
                  </a:lnTo>
                  <a:lnTo>
                    <a:pt x="223" y="15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184" y="34"/>
                  </a:lnTo>
                  <a:lnTo>
                    <a:pt x="158" y="39"/>
                  </a:lnTo>
                  <a:lnTo>
                    <a:pt x="145" y="39"/>
                  </a:lnTo>
                  <a:lnTo>
                    <a:pt x="118" y="44"/>
                  </a:lnTo>
                  <a:lnTo>
                    <a:pt x="92" y="39"/>
                  </a:lnTo>
                  <a:lnTo>
                    <a:pt x="79" y="39"/>
                  </a:lnTo>
                  <a:lnTo>
                    <a:pt x="53" y="34"/>
                  </a:lnTo>
                  <a:lnTo>
                    <a:pt x="40" y="29"/>
                  </a:lnTo>
                  <a:lnTo>
                    <a:pt x="27" y="24"/>
                  </a:lnTo>
                  <a:lnTo>
                    <a:pt x="13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29360" y="5148000"/>
              <a:ext cx="157320" cy="7740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43"/>
                  </a:moveTo>
                  <a:lnTo>
                    <a:pt x="0" y="34"/>
                  </a:lnTo>
                  <a:lnTo>
                    <a:pt x="13" y="24"/>
                  </a:lnTo>
                  <a:lnTo>
                    <a:pt x="27" y="19"/>
                  </a:lnTo>
                  <a:lnTo>
                    <a:pt x="40" y="15"/>
                  </a:lnTo>
                  <a:lnTo>
                    <a:pt x="53" y="10"/>
                  </a:lnTo>
                  <a:lnTo>
                    <a:pt x="79" y="5"/>
                  </a:lnTo>
                  <a:lnTo>
                    <a:pt x="92" y="0"/>
                  </a:lnTo>
                  <a:lnTo>
                    <a:pt x="118" y="0"/>
                  </a:lnTo>
                  <a:lnTo>
                    <a:pt x="145" y="0"/>
                  </a:lnTo>
                  <a:lnTo>
                    <a:pt x="158" y="5"/>
                  </a:lnTo>
                  <a:lnTo>
                    <a:pt x="184" y="10"/>
                  </a:lnTo>
                  <a:lnTo>
                    <a:pt x="197" y="15"/>
                  </a:lnTo>
                  <a:lnTo>
                    <a:pt x="210" y="19"/>
                  </a:lnTo>
                  <a:lnTo>
                    <a:pt x="223" y="24"/>
                  </a:lnTo>
                  <a:lnTo>
                    <a:pt x="237" y="34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23" y="43"/>
                  </a:lnTo>
                  <a:lnTo>
                    <a:pt x="223" y="43"/>
                  </a:lnTo>
                  <a:lnTo>
                    <a:pt x="223" y="34"/>
                  </a:lnTo>
                  <a:lnTo>
                    <a:pt x="223" y="29"/>
                  </a:lnTo>
                  <a:lnTo>
                    <a:pt x="210" y="19"/>
                  </a:lnTo>
                  <a:lnTo>
                    <a:pt x="197" y="15"/>
                  </a:lnTo>
                  <a:lnTo>
                    <a:pt x="184" y="10"/>
                  </a:lnTo>
                  <a:lnTo>
                    <a:pt x="158" y="5"/>
                  </a:lnTo>
                  <a:lnTo>
                    <a:pt x="145" y="5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27" y="19"/>
                  </a:lnTo>
                  <a:lnTo>
                    <a:pt x="13" y="29"/>
                  </a:lnTo>
                  <a:lnTo>
                    <a:pt x="13" y="34"/>
                  </a:lnTo>
                  <a:lnTo>
                    <a:pt x="13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29360" y="5225760"/>
              <a:ext cx="157320" cy="80640"/>
            </a:xfrm>
            <a:custGeom>
              <a:avLst/>
              <a:gdLst/>
              <a:ahLst/>
              <a:rect l="l" t="t" r="r" b="b"/>
              <a:pathLst>
                <a:path w="237" h="44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7" y="24"/>
                  </a:lnTo>
                  <a:lnTo>
                    <a:pt x="40" y="29"/>
                  </a:lnTo>
                  <a:lnTo>
                    <a:pt x="53" y="34"/>
                  </a:lnTo>
                  <a:lnTo>
                    <a:pt x="79" y="39"/>
                  </a:lnTo>
                  <a:lnTo>
                    <a:pt x="92" y="39"/>
                  </a:lnTo>
                  <a:lnTo>
                    <a:pt x="118" y="44"/>
                  </a:lnTo>
                  <a:lnTo>
                    <a:pt x="145" y="39"/>
                  </a:lnTo>
                  <a:lnTo>
                    <a:pt x="158" y="39"/>
                  </a:lnTo>
                  <a:lnTo>
                    <a:pt x="184" y="34"/>
                  </a:lnTo>
                  <a:lnTo>
                    <a:pt x="197" y="29"/>
                  </a:lnTo>
                  <a:lnTo>
                    <a:pt x="210" y="24"/>
                  </a:lnTo>
                  <a:lnTo>
                    <a:pt x="223" y="15"/>
                  </a:lnTo>
                  <a:lnTo>
                    <a:pt x="237" y="1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23" y="10"/>
                  </a:lnTo>
                  <a:lnTo>
                    <a:pt x="223" y="15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184" y="34"/>
                  </a:lnTo>
                  <a:lnTo>
                    <a:pt x="158" y="39"/>
                  </a:lnTo>
                  <a:lnTo>
                    <a:pt x="145" y="39"/>
                  </a:lnTo>
                  <a:lnTo>
                    <a:pt x="118" y="39"/>
                  </a:lnTo>
                  <a:lnTo>
                    <a:pt x="92" y="39"/>
                  </a:lnTo>
                  <a:lnTo>
                    <a:pt x="79" y="39"/>
                  </a:lnTo>
                  <a:lnTo>
                    <a:pt x="53" y="34"/>
                  </a:lnTo>
                  <a:lnTo>
                    <a:pt x="40" y="29"/>
                  </a:lnTo>
                  <a:lnTo>
                    <a:pt x="27" y="24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37280" y="5148000"/>
              <a:ext cx="139680" cy="77400"/>
            </a:xfrm>
            <a:custGeom>
              <a:avLst/>
              <a:gdLst/>
              <a:ahLst/>
              <a:rect l="l" t="t" r="r" b="b"/>
              <a:pathLst>
                <a:path w="210" h="43">
                  <a:moveTo>
                    <a:pt x="0" y="43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66" y="5"/>
                  </a:lnTo>
                  <a:lnTo>
                    <a:pt x="79" y="5"/>
                  </a:lnTo>
                  <a:lnTo>
                    <a:pt x="105" y="0"/>
                  </a:lnTo>
                  <a:lnTo>
                    <a:pt x="132" y="5"/>
                  </a:lnTo>
                  <a:lnTo>
                    <a:pt x="145" y="5"/>
                  </a:lnTo>
                  <a:lnTo>
                    <a:pt x="171" y="10"/>
                  </a:lnTo>
                  <a:lnTo>
                    <a:pt x="184" y="15"/>
                  </a:lnTo>
                  <a:lnTo>
                    <a:pt x="197" y="19"/>
                  </a:lnTo>
                  <a:lnTo>
                    <a:pt x="210" y="29"/>
                  </a:lnTo>
                  <a:lnTo>
                    <a:pt x="210" y="34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34"/>
                  </a:lnTo>
                  <a:lnTo>
                    <a:pt x="197" y="29"/>
                  </a:lnTo>
                  <a:lnTo>
                    <a:pt x="197" y="19"/>
                  </a:lnTo>
                  <a:lnTo>
                    <a:pt x="184" y="15"/>
                  </a:lnTo>
                  <a:lnTo>
                    <a:pt x="158" y="10"/>
                  </a:lnTo>
                  <a:lnTo>
                    <a:pt x="145" y="10"/>
                  </a:lnTo>
                  <a:lnTo>
                    <a:pt x="132" y="5"/>
                  </a:lnTo>
                  <a:lnTo>
                    <a:pt x="105" y="5"/>
                  </a:lnTo>
                  <a:lnTo>
                    <a:pt x="79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14" y="19"/>
                  </a:lnTo>
                  <a:lnTo>
                    <a:pt x="14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937280" y="5225760"/>
              <a:ext cx="139680" cy="7128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40" y="34"/>
                  </a:lnTo>
                  <a:lnTo>
                    <a:pt x="66" y="39"/>
                  </a:lnTo>
                  <a:lnTo>
                    <a:pt x="79" y="39"/>
                  </a:lnTo>
                  <a:lnTo>
                    <a:pt x="105" y="39"/>
                  </a:lnTo>
                  <a:lnTo>
                    <a:pt x="132" y="39"/>
                  </a:lnTo>
                  <a:lnTo>
                    <a:pt x="145" y="39"/>
                  </a:lnTo>
                  <a:lnTo>
                    <a:pt x="171" y="34"/>
                  </a:lnTo>
                  <a:lnTo>
                    <a:pt x="184" y="29"/>
                  </a:lnTo>
                  <a:lnTo>
                    <a:pt x="197" y="24"/>
                  </a:lnTo>
                  <a:lnTo>
                    <a:pt x="210" y="15"/>
                  </a:lnTo>
                  <a:lnTo>
                    <a:pt x="210" y="1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5"/>
                  </a:lnTo>
                  <a:lnTo>
                    <a:pt x="197" y="15"/>
                  </a:lnTo>
                  <a:lnTo>
                    <a:pt x="197" y="20"/>
                  </a:lnTo>
                  <a:lnTo>
                    <a:pt x="184" y="24"/>
                  </a:lnTo>
                  <a:lnTo>
                    <a:pt x="158" y="29"/>
                  </a:lnTo>
                  <a:lnTo>
                    <a:pt x="145" y="34"/>
                  </a:lnTo>
                  <a:lnTo>
                    <a:pt x="132" y="39"/>
                  </a:lnTo>
                  <a:lnTo>
                    <a:pt x="105" y="39"/>
                  </a:lnTo>
                  <a:lnTo>
                    <a:pt x="79" y="39"/>
                  </a:lnTo>
                  <a:lnTo>
                    <a:pt x="66" y="34"/>
                  </a:lnTo>
                  <a:lnTo>
                    <a:pt x="53" y="29"/>
                  </a:lnTo>
                  <a:lnTo>
                    <a:pt x="40" y="24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37280" y="5157720"/>
              <a:ext cx="139680" cy="67680"/>
            </a:xfrm>
            <a:custGeom>
              <a:avLst/>
              <a:gdLst/>
              <a:ahLst/>
              <a:rect l="l" t="t" r="r" b="b"/>
              <a:pathLst>
                <a:path w="210" h="38">
                  <a:moveTo>
                    <a:pt x="0" y="38"/>
                  </a:moveTo>
                  <a:lnTo>
                    <a:pt x="0" y="29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66" y="5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32" y="0"/>
                  </a:lnTo>
                  <a:lnTo>
                    <a:pt x="145" y="5"/>
                  </a:lnTo>
                  <a:lnTo>
                    <a:pt x="158" y="5"/>
                  </a:lnTo>
                  <a:lnTo>
                    <a:pt x="184" y="10"/>
                  </a:lnTo>
                  <a:lnTo>
                    <a:pt x="197" y="14"/>
                  </a:lnTo>
                  <a:lnTo>
                    <a:pt x="197" y="24"/>
                  </a:lnTo>
                  <a:lnTo>
                    <a:pt x="210" y="29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197" y="29"/>
                  </a:lnTo>
                  <a:lnTo>
                    <a:pt x="197" y="24"/>
                  </a:lnTo>
                  <a:lnTo>
                    <a:pt x="184" y="19"/>
                  </a:lnTo>
                  <a:lnTo>
                    <a:pt x="171" y="14"/>
                  </a:lnTo>
                  <a:lnTo>
                    <a:pt x="158" y="10"/>
                  </a:lnTo>
                  <a:lnTo>
                    <a:pt x="145" y="5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66" y="5"/>
                  </a:lnTo>
                  <a:lnTo>
                    <a:pt x="53" y="10"/>
                  </a:lnTo>
                  <a:lnTo>
                    <a:pt x="40" y="14"/>
                  </a:lnTo>
                  <a:lnTo>
                    <a:pt x="27" y="19"/>
                  </a:lnTo>
                  <a:lnTo>
                    <a:pt x="14" y="24"/>
                  </a:lnTo>
                  <a:lnTo>
                    <a:pt x="14" y="29"/>
                  </a:lnTo>
                  <a:lnTo>
                    <a:pt x="14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37280" y="5225760"/>
              <a:ext cx="139680" cy="7128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40" y="24"/>
                  </a:lnTo>
                  <a:lnTo>
                    <a:pt x="53" y="29"/>
                  </a:lnTo>
                  <a:lnTo>
                    <a:pt x="66" y="34"/>
                  </a:lnTo>
                  <a:lnTo>
                    <a:pt x="79" y="39"/>
                  </a:lnTo>
                  <a:lnTo>
                    <a:pt x="105" y="39"/>
                  </a:lnTo>
                  <a:lnTo>
                    <a:pt x="132" y="39"/>
                  </a:lnTo>
                  <a:lnTo>
                    <a:pt x="145" y="34"/>
                  </a:lnTo>
                  <a:lnTo>
                    <a:pt x="158" y="29"/>
                  </a:lnTo>
                  <a:lnTo>
                    <a:pt x="184" y="24"/>
                  </a:lnTo>
                  <a:lnTo>
                    <a:pt x="197" y="20"/>
                  </a:lnTo>
                  <a:lnTo>
                    <a:pt x="197" y="15"/>
                  </a:lnTo>
                  <a:lnTo>
                    <a:pt x="210" y="5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7" y="5"/>
                  </a:lnTo>
                  <a:lnTo>
                    <a:pt x="197" y="15"/>
                  </a:lnTo>
                  <a:lnTo>
                    <a:pt x="184" y="20"/>
                  </a:lnTo>
                  <a:lnTo>
                    <a:pt x="171" y="24"/>
                  </a:lnTo>
                  <a:lnTo>
                    <a:pt x="158" y="29"/>
                  </a:lnTo>
                  <a:lnTo>
                    <a:pt x="145" y="34"/>
                  </a:lnTo>
                  <a:lnTo>
                    <a:pt x="119" y="34"/>
                  </a:lnTo>
                  <a:lnTo>
                    <a:pt x="105" y="34"/>
                  </a:lnTo>
                  <a:lnTo>
                    <a:pt x="92" y="34"/>
                  </a:lnTo>
                  <a:lnTo>
                    <a:pt x="66" y="34"/>
                  </a:lnTo>
                  <a:lnTo>
                    <a:pt x="53" y="29"/>
                  </a:lnTo>
                  <a:lnTo>
                    <a:pt x="40" y="24"/>
                  </a:lnTo>
                  <a:lnTo>
                    <a:pt x="27" y="20"/>
                  </a:lnTo>
                  <a:lnTo>
                    <a:pt x="14" y="1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47000" y="5157720"/>
              <a:ext cx="129960" cy="67680"/>
            </a:xfrm>
            <a:custGeom>
              <a:avLst/>
              <a:gdLst/>
              <a:ahLst/>
              <a:rect l="l" t="t" r="r" b="b"/>
              <a:pathLst>
                <a:path w="196" h="38">
                  <a:moveTo>
                    <a:pt x="0" y="38"/>
                  </a:moveTo>
                  <a:lnTo>
                    <a:pt x="0" y="29"/>
                  </a:lnTo>
                  <a:lnTo>
                    <a:pt x="0" y="24"/>
                  </a:lnTo>
                  <a:lnTo>
                    <a:pt x="13" y="19"/>
                  </a:lnTo>
                  <a:lnTo>
                    <a:pt x="26" y="14"/>
                  </a:lnTo>
                  <a:lnTo>
                    <a:pt x="39" y="10"/>
                  </a:lnTo>
                  <a:lnTo>
                    <a:pt x="52" y="5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5"/>
                  </a:lnTo>
                  <a:lnTo>
                    <a:pt x="144" y="10"/>
                  </a:lnTo>
                  <a:lnTo>
                    <a:pt x="157" y="14"/>
                  </a:lnTo>
                  <a:lnTo>
                    <a:pt x="170" y="19"/>
                  </a:lnTo>
                  <a:lnTo>
                    <a:pt x="183" y="24"/>
                  </a:lnTo>
                  <a:lnTo>
                    <a:pt x="183" y="29"/>
                  </a:lnTo>
                  <a:lnTo>
                    <a:pt x="196" y="38"/>
                  </a:lnTo>
                  <a:lnTo>
                    <a:pt x="196" y="38"/>
                  </a:lnTo>
                  <a:lnTo>
                    <a:pt x="183" y="38"/>
                  </a:lnTo>
                  <a:lnTo>
                    <a:pt x="183" y="38"/>
                  </a:lnTo>
                  <a:lnTo>
                    <a:pt x="183" y="29"/>
                  </a:lnTo>
                  <a:lnTo>
                    <a:pt x="183" y="24"/>
                  </a:lnTo>
                  <a:lnTo>
                    <a:pt x="170" y="19"/>
                  </a:lnTo>
                  <a:lnTo>
                    <a:pt x="157" y="14"/>
                  </a:lnTo>
                  <a:lnTo>
                    <a:pt x="144" y="10"/>
                  </a:lnTo>
                  <a:lnTo>
                    <a:pt x="131" y="5"/>
                  </a:lnTo>
                  <a:lnTo>
                    <a:pt x="105" y="5"/>
                  </a:lnTo>
                  <a:lnTo>
                    <a:pt x="91" y="5"/>
                  </a:lnTo>
                  <a:lnTo>
                    <a:pt x="78" y="5"/>
                  </a:lnTo>
                  <a:lnTo>
                    <a:pt x="52" y="5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947000" y="5225760"/>
              <a:ext cx="129960" cy="61560"/>
            </a:xfrm>
            <a:custGeom>
              <a:avLst/>
              <a:gdLst/>
              <a:ahLst/>
              <a:rect l="l" t="t" r="r" b="b"/>
              <a:pathLst>
                <a:path w="196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3" y="20"/>
                  </a:lnTo>
                  <a:lnTo>
                    <a:pt x="26" y="24"/>
                  </a:lnTo>
                  <a:lnTo>
                    <a:pt x="39" y="29"/>
                  </a:lnTo>
                  <a:lnTo>
                    <a:pt x="52" y="34"/>
                  </a:lnTo>
                  <a:lnTo>
                    <a:pt x="78" y="34"/>
                  </a:lnTo>
                  <a:lnTo>
                    <a:pt x="91" y="34"/>
                  </a:lnTo>
                  <a:lnTo>
                    <a:pt x="105" y="34"/>
                  </a:lnTo>
                  <a:lnTo>
                    <a:pt x="131" y="34"/>
                  </a:lnTo>
                  <a:lnTo>
                    <a:pt x="144" y="29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83" y="15"/>
                  </a:lnTo>
                  <a:lnTo>
                    <a:pt x="183" y="5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83" y="5"/>
                  </a:lnTo>
                  <a:lnTo>
                    <a:pt x="183" y="15"/>
                  </a:lnTo>
                  <a:lnTo>
                    <a:pt x="170" y="20"/>
                  </a:lnTo>
                  <a:lnTo>
                    <a:pt x="157" y="24"/>
                  </a:lnTo>
                  <a:lnTo>
                    <a:pt x="144" y="29"/>
                  </a:lnTo>
                  <a:lnTo>
                    <a:pt x="131" y="29"/>
                  </a:lnTo>
                  <a:lnTo>
                    <a:pt x="105" y="34"/>
                  </a:lnTo>
                  <a:lnTo>
                    <a:pt x="91" y="34"/>
                  </a:lnTo>
                  <a:lnTo>
                    <a:pt x="78" y="34"/>
                  </a:lnTo>
                  <a:lnTo>
                    <a:pt x="52" y="29"/>
                  </a:lnTo>
                  <a:lnTo>
                    <a:pt x="39" y="29"/>
                  </a:lnTo>
                  <a:lnTo>
                    <a:pt x="26" y="24"/>
                  </a:lnTo>
                  <a:lnTo>
                    <a:pt x="13" y="20"/>
                  </a:lnTo>
                  <a:lnTo>
                    <a:pt x="13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947000" y="5167080"/>
              <a:ext cx="120600" cy="5832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0" y="33"/>
                  </a:moveTo>
                  <a:lnTo>
                    <a:pt x="0" y="24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52" y="0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0"/>
                  </a:lnTo>
                  <a:lnTo>
                    <a:pt x="144" y="5"/>
                  </a:lnTo>
                  <a:lnTo>
                    <a:pt x="157" y="9"/>
                  </a:lnTo>
                  <a:lnTo>
                    <a:pt x="170" y="14"/>
                  </a:lnTo>
                  <a:lnTo>
                    <a:pt x="183" y="19"/>
                  </a:lnTo>
                  <a:lnTo>
                    <a:pt x="183" y="24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29"/>
                  </a:lnTo>
                  <a:lnTo>
                    <a:pt x="170" y="19"/>
                  </a:lnTo>
                  <a:lnTo>
                    <a:pt x="170" y="14"/>
                  </a:lnTo>
                  <a:lnTo>
                    <a:pt x="157" y="9"/>
                  </a:lnTo>
                  <a:lnTo>
                    <a:pt x="144" y="5"/>
                  </a:lnTo>
                  <a:lnTo>
                    <a:pt x="131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5" y="5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947000" y="5225760"/>
              <a:ext cx="120600" cy="61560"/>
            </a:xfrm>
            <a:custGeom>
              <a:avLst/>
              <a:gdLst/>
              <a:ahLst/>
              <a:rect l="l" t="t" r="r" b="b"/>
              <a:pathLst>
                <a:path w="183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26" y="24"/>
                  </a:lnTo>
                  <a:lnTo>
                    <a:pt x="39" y="29"/>
                  </a:lnTo>
                  <a:lnTo>
                    <a:pt x="52" y="29"/>
                  </a:lnTo>
                  <a:lnTo>
                    <a:pt x="78" y="34"/>
                  </a:lnTo>
                  <a:lnTo>
                    <a:pt x="91" y="34"/>
                  </a:lnTo>
                  <a:lnTo>
                    <a:pt x="105" y="34"/>
                  </a:lnTo>
                  <a:lnTo>
                    <a:pt x="131" y="29"/>
                  </a:lnTo>
                  <a:lnTo>
                    <a:pt x="144" y="29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83" y="1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5"/>
                  </a:lnTo>
                  <a:lnTo>
                    <a:pt x="170" y="10"/>
                  </a:lnTo>
                  <a:lnTo>
                    <a:pt x="170" y="20"/>
                  </a:lnTo>
                  <a:lnTo>
                    <a:pt x="157" y="24"/>
                  </a:lnTo>
                  <a:lnTo>
                    <a:pt x="144" y="24"/>
                  </a:lnTo>
                  <a:lnTo>
                    <a:pt x="131" y="29"/>
                  </a:lnTo>
                  <a:lnTo>
                    <a:pt x="105" y="29"/>
                  </a:lnTo>
                  <a:lnTo>
                    <a:pt x="91" y="34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39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947000" y="5167080"/>
              <a:ext cx="120600" cy="5832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0" y="33"/>
                  </a:moveTo>
                  <a:lnTo>
                    <a:pt x="0" y="29"/>
                  </a:lnTo>
                  <a:lnTo>
                    <a:pt x="13" y="19"/>
                  </a:lnTo>
                  <a:lnTo>
                    <a:pt x="26" y="14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65" y="5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5"/>
                  </a:lnTo>
                  <a:lnTo>
                    <a:pt x="144" y="5"/>
                  </a:lnTo>
                  <a:lnTo>
                    <a:pt x="157" y="9"/>
                  </a:lnTo>
                  <a:lnTo>
                    <a:pt x="170" y="14"/>
                  </a:lnTo>
                  <a:lnTo>
                    <a:pt x="170" y="19"/>
                  </a:lnTo>
                  <a:lnTo>
                    <a:pt x="183" y="29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70" y="33"/>
                  </a:lnTo>
                  <a:lnTo>
                    <a:pt x="170" y="33"/>
                  </a:lnTo>
                  <a:lnTo>
                    <a:pt x="170" y="29"/>
                  </a:lnTo>
                  <a:lnTo>
                    <a:pt x="170" y="19"/>
                  </a:lnTo>
                  <a:lnTo>
                    <a:pt x="157" y="14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18" y="5"/>
                  </a:lnTo>
                  <a:lnTo>
                    <a:pt x="105" y="5"/>
                  </a:lnTo>
                  <a:lnTo>
                    <a:pt x="91" y="5"/>
                  </a:lnTo>
                  <a:lnTo>
                    <a:pt x="78" y="5"/>
                  </a:lnTo>
                  <a:lnTo>
                    <a:pt x="65" y="5"/>
                  </a:lnTo>
                  <a:lnTo>
                    <a:pt x="52" y="9"/>
                  </a:lnTo>
                  <a:lnTo>
                    <a:pt x="39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9"/>
                  </a:lnTo>
                  <a:lnTo>
                    <a:pt x="1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947000" y="5225760"/>
              <a:ext cx="120600" cy="61560"/>
            </a:xfrm>
            <a:custGeom>
              <a:avLst/>
              <a:gdLst/>
              <a:ahLst/>
              <a:rect l="l" t="t" r="r" b="b"/>
              <a:pathLst>
                <a:path w="183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39" y="24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1" y="34"/>
                  </a:lnTo>
                  <a:lnTo>
                    <a:pt x="105" y="29"/>
                  </a:lnTo>
                  <a:lnTo>
                    <a:pt x="131" y="29"/>
                  </a:lnTo>
                  <a:lnTo>
                    <a:pt x="144" y="24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70" y="10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170" y="0"/>
                  </a:lnTo>
                  <a:lnTo>
                    <a:pt x="170" y="5"/>
                  </a:lnTo>
                  <a:lnTo>
                    <a:pt x="170" y="10"/>
                  </a:lnTo>
                  <a:lnTo>
                    <a:pt x="157" y="15"/>
                  </a:lnTo>
                  <a:lnTo>
                    <a:pt x="144" y="20"/>
                  </a:lnTo>
                  <a:lnTo>
                    <a:pt x="144" y="24"/>
                  </a:lnTo>
                  <a:lnTo>
                    <a:pt x="118" y="29"/>
                  </a:lnTo>
                  <a:lnTo>
                    <a:pt x="105" y="29"/>
                  </a:lnTo>
                  <a:lnTo>
                    <a:pt x="91" y="29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52" y="24"/>
                  </a:lnTo>
                  <a:lnTo>
                    <a:pt x="39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954920" y="5175000"/>
              <a:ext cx="104760" cy="50400"/>
            </a:xfrm>
            <a:custGeom>
              <a:avLst/>
              <a:gdLst/>
              <a:ahLst/>
              <a:rect l="l" t="t" r="r" b="b"/>
              <a:pathLst>
                <a:path w="157" h="28">
                  <a:moveTo>
                    <a:pt x="0" y="28"/>
                  </a:moveTo>
                  <a:lnTo>
                    <a:pt x="0" y="24"/>
                  </a:lnTo>
                  <a:lnTo>
                    <a:pt x="0" y="14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39" y="4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31" y="4"/>
                  </a:lnTo>
                  <a:lnTo>
                    <a:pt x="131" y="4"/>
                  </a:lnTo>
                  <a:lnTo>
                    <a:pt x="144" y="9"/>
                  </a:lnTo>
                  <a:lnTo>
                    <a:pt x="157" y="14"/>
                  </a:lnTo>
                  <a:lnTo>
                    <a:pt x="157" y="24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4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1" y="9"/>
                  </a:lnTo>
                  <a:lnTo>
                    <a:pt x="118" y="4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13" y="14"/>
                  </a:lnTo>
                  <a:lnTo>
                    <a:pt x="1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54920" y="5225760"/>
              <a:ext cx="104760" cy="52200"/>
            </a:xfrm>
            <a:custGeom>
              <a:avLst/>
              <a:gdLst/>
              <a:ahLst/>
              <a:rect l="l" t="t" r="r" b="b"/>
              <a:pathLst>
                <a:path w="157" h="2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9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2" y="29"/>
                  </a:lnTo>
                  <a:lnTo>
                    <a:pt x="105" y="29"/>
                  </a:lnTo>
                  <a:lnTo>
                    <a:pt x="131" y="24"/>
                  </a:lnTo>
                  <a:lnTo>
                    <a:pt x="131" y="20"/>
                  </a:lnTo>
                  <a:lnTo>
                    <a:pt x="144" y="15"/>
                  </a:lnTo>
                  <a:lnTo>
                    <a:pt x="157" y="10"/>
                  </a:lnTo>
                  <a:lnTo>
                    <a:pt x="157" y="5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44" y="10"/>
                  </a:lnTo>
                  <a:lnTo>
                    <a:pt x="144" y="15"/>
                  </a:lnTo>
                  <a:lnTo>
                    <a:pt x="131" y="20"/>
                  </a:lnTo>
                  <a:lnTo>
                    <a:pt x="118" y="24"/>
                  </a:lnTo>
                  <a:lnTo>
                    <a:pt x="105" y="24"/>
                  </a:lnTo>
                  <a:lnTo>
                    <a:pt x="92" y="29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52" y="24"/>
                  </a:lnTo>
                  <a:lnTo>
                    <a:pt x="39" y="24"/>
                  </a:lnTo>
                  <a:lnTo>
                    <a:pt x="26" y="20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954920" y="5175000"/>
              <a:ext cx="104760" cy="50400"/>
            </a:xfrm>
            <a:custGeom>
              <a:avLst/>
              <a:gdLst/>
              <a:ahLst/>
              <a:rect l="l" t="t" r="r" b="b"/>
              <a:pathLst>
                <a:path w="157" h="28">
                  <a:moveTo>
                    <a:pt x="0" y="28"/>
                  </a:moveTo>
                  <a:lnTo>
                    <a:pt x="0" y="24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26" y="9"/>
                  </a:lnTo>
                  <a:lnTo>
                    <a:pt x="39" y="4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31" y="9"/>
                  </a:lnTo>
                  <a:lnTo>
                    <a:pt x="144" y="14"/>
                  </a:lnTo>
                  <a:lnTo>
                    <a:pt x="144" y="19"/>
                  </a:lnTo>
                  <a:lnTo>
                    <a:pt x="157" y="24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44" y="28"/>
                  </a:lnTo>
                  <a:lnTo>
                    <a:pt x="144" y="28"/>
                  </a:lnTo>
                  <a:lnTo>
                    <a:pt x="144" y="24"/>
                  </a:lnTo>
                  <a:lnTo>
                    <a:pt x="144" y="19"/>
                  </a:lnTo>
                  <a:lnTo>
                    <a:pt x="131" y="14"/>
                  </a:lnTo>
                  <a:lnTo>
                    <a:pt x="131" y="9"/>
                  </a:lnTo>
                  <a:lnTo>
                    <a:pt x="118" y="4"/>
                  </a:lnTo>
                  <a:lnTo>
                    <a:pt x="105" y="4"/>
                  </a:lnTo>
                  <a:lnTo>
                    <a:pt x="92" y="4"/>
                  </a:lnTo>
                  <a:lnTo>
                    <a:pt x="78" y="0"/>
                  </a:lnTo>
                  <a:lnTo>
                    <a:pt x="65" y="4"/>
                  </a:lnTo>
                  <a:lnTo>
                    <a:pt x="52" y="4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3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954920" y="5225760"/>
              <a:ext cx="104760" cy="52200"/>
            </a:xfrm>
            <a:custGeom>
              <a:avLst/>
              <a:gdLst/>
              <a:ahLst/>
              <a:rect l="l" t="t" r="r" b="b"/>
              <a:pathLst>
                <a:path w="157" h="2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2" y="29"/>
                  </a:lnTo>
                  <a:lnTo>
                    <a:pt x="105" y="24"/>
                  </a:lnTo>
                  <a:lnTo>
                    <a:pt x="118" y="24"/>
                  </a:lnTo>
                  <a:lnTo>
                    <a:pt x="131" y="20"/>
                  </a:lnTo>
                  <a:lnTo>
                    <a:pt x="144" y="15"/>
                  </a:lnTo>
                  <a:lnTo>
                    <a:pt x="144" y="10"/>
                  </a:lnTo>
                  <a:lnTo>
                    <a:pt x="157" y="5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44" y="5"/>
                  </a:lnTo>
                  <a:lnTo>
                    <a:pt x="144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18" y="20"/>
                  </a:lnTo>
                  <a:lnTo>
                    <a:pt x="105" y="24"/>
                  </a:lnTo>
                  <a:lnTo>
                    <a:pt x="92" y="24"/>
                  </a:lnTo>
                  <a:lnTo>
                    <a:pt x="78" y="24"/>
                  </a:lnTo>
                  <a:lnTo>
                    <a:pt x="65" y="24"/>
                  </a:lnTo>
                  <a:lnTo>
                    <a:pt x="52" y="24"/>
                  </a:lnTo>
                  <a:lnTo>
                    <a:pt x="39" y="20"/>
                  </a:lnTo>
                  <a:lnTo>
                    <a:pt x="26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962840" y="5175000"/>
              <a:ext cx="87120" cy="5040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0" y="28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39" y="4"/>
                  </a:lnTo>
                  <a:lnTo>
                    <a:pt x="52" y="4"/>
                  </a:lnTo>
                  <a:lnTo>
                    <a:pt x="65" y="0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4"/>
                  </a:lnTo>
                  <a:lnTo>
                    <a:pt x="118" y="9"/>
                  </a:lnTo>
                  <a:lnTo>
                    <a:pt x="118" y="14"/>
                  </a:lnTo>
                  <a:lnTo>
                    <a:pt x="131" y="19"/>
                  </a:lnTo>
                  <a:lnTo>
                    <a:pt x="131" y="24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4"/>
                  </a:lnTo>
                  <a:lnTo>
                    <a:pt x="131" y="19"/>
                  </a:lnTo>
                  <a:lnTo>
                    <a:pt x="118" y="14"/>
                  </a:lnTo>
                  <a:lnTo>
                    <a:pt x="118" y="9"/>
                  </a:lnTo>
                  <a:lnTo>
                    <a:pt x="105" y="9"/>
                  </a:lnTo>
                  <a:lnTo>
                    <a:pt x="92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52" y="4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962840" y="5225760"/>
              <a:ext cx="87120" cy="4428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4"/>
                  </a:lnTo>
                  <a:lnTo>
                    <a:pt x="79" y="24"/>
                  </a:lnTo>
                  <a:lnTo>
                    <a:pt x="92" y="24"/>
                  </a:lnTo>
                  <a:lnTo>
                    <a:pt x="105" y="20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1" y="1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05" y="20"/>
                  </a:lnTo>
                  <a:lnTo>
                    <a:pt x="92" y="24"/>
                  </a:lnTo>
                  <a:lnTo>
                    <a:pt x="79" y="24"/>
                  </a:lnTo>
                  <a:lnTo>
                    <a:pt x="65" y="24"/>
                  </a:lnTo>
                  <a:lnTo>
                    <a:pt x="52" y="24"/>
                  </a:lnTo>
                  <a:lnTo>
                    <a:pt x="39" y="24"/>
                  </a:lnTo>
                  <a:lnTo>
                    <a:pt x="26" y="20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962840" y="5182920"/>
              <a:ext cx="87120" cy="4248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24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18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18" y="10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92" y="5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962840" y="5225760"/>
              <a:ext cx="87120" cy="4428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4"/>
                  </a:lnTo>
                  <a:lnTo>
                    <a:pt x="79" y="24"/>
                  </a:lnTo>
                  <a:lnTo>
                    <a:pt x="92" y="24"/>
                  </a:lnTo>
                  <a:lnTo>
                    <a:pt x="105" y="2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18" y="5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05" y="15"/>
                  </a:lnTo>
                  <a:lnTo>
                    <a:pt x="105" y="20"/>
                  </a:lnTo>
                  <a:lnTo>
                    <a:pt x="92" y="20"/>
                  </a:lnTo>
                  <a:lnTo>
                    <a:pt x="79" y="20"/>
                  </a:lnTo>
                  <a:lnTo>
                    <a:pt x="65" y="20"/>
                  </a:lnTo>
                  <a:lnTo>
                    <a:pt x="52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972200" y="5182920"/>
              <a:ext cx="77760" cy="4248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24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92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20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05" y="24"/>
                  </a:lnTo>
                  <a:lnTo>
                    <a:pt x="105" y="24"/>
                  </a:lnTo>
                  <a:lnTo>
                    <a:pt x="105" y="20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2" y="10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66" y="5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972200" y="5225760"/>
              <a:ext cx="77760" cy="36360"/>
            </a:xfrm>
            <a:custGeom>
              <a:avLst/>
              <a:gdLst/>
              <a:ahLst/>
              <a:rect l="l" t="t" r="r" b="b"/>
              <a:pathLst>
                <a:path w="118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9" y="20"/>
                  </a:lnTo>
                  <a:lnTo>
                    <a:pt x="52" y="20"/>
                  </a:lnTo>
                  <a:lnTo>
                    <a:pt x="66" y="20"/>
                  </a:lnTo>
                  <a:lnTo>
                    <a:pt x="79" y="20"/>
                  </a:lnTo>
                  <a:lnTo>
                    <a:pt x="92" y="20"/>
                  </a:lnTo>
                  <a:lnTo>
                    <a:pt x="92" y="15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10"/>
                  </a:lnTo>
                  <a:lnTo>
                    <a:pt x="92" y="15"/>
                  </a:lnTo>
                  <a:lnTo>
                    <a:pt x="79" y="15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2" y="20"/>
                  </a:lnTo>
                  <a:lnTo>
                    <a:pt x="39" y="20"/>
                  </a:lnTo>
                  <a:lnTo>
                    <a:pt x="26" y="20"/>
                  </a:lnTo>
                  <a:lnTo>
                    <a:pt x="26" y="15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972200" y="5192640"/>
              <a:ext cx="69840" cy="3276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2" y="5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5"/>
                  </a:lnTo>
                  <a:lnTo>
                    <a:pt x="105" y="10"/>
                  </a:lnTo>
                  <a:lnTo>
                    <a:pt x="92" y="10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972200" y="5225760"/>
              <a:ext cx="69840" cy="36360"/>
            </a:xfrm>
            <a:custGeom>
              <a:avLst/>
              <a:gdLst/>
              <a:ahLst/>
              <a:rect l="l" t="t" r="r" b="b"/>
              <a:pathLst>
                <a:path w="105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26" y="15"/>
                  </a:lnTo>
                  <a:lnTo>
                    <a:pt x="26" y="20"/>
                  </a:lnTo>
                  <a:lnTo>
                    <a:pt x="39" y="20"/>
                  </a:lnTo>
                  <a:lnTo>
                    <a:pt x="52" y="20"/>
                  </a:lnTo>
                  <a:lnTo>
                    <a:pt x="66" y="20"/>
                  </a:lnTo>
                  <a:lnTo>
                    <a:pt x="79" y="20"/>
                  </a:lnTo>
                  <a:lnTo>
                    <a:pt x="79" y="15"/>
                  </a:lnTo>
                  <a:lnTo>
                    <a:pt x="92" y="15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79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2" y="2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972200" y="5192640"/>
              <a:ext cx="69840" cy="3276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92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92" y="19"/>
                  </a:lnTo>
                  <a:lnTo>
                    <a:pt x="92" y="19"/>
                  </a:lnTo>
                  <a:lnTo>
                    <a:pt x="92" y="15"/>
                  </a:lnTo>
                  <a:lnTo>
                    <a:pt x="79" y="5"/>
                  </a:lnTo>
                  <a:lnTo>
                    <a:pt x="66" y="5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972200" y="5225760"/>
              <a:ext cx="69840" cy="36360"/>
            </a:xfrm>
            <a:custGeom>
              <a:avLst/>
              <a:gdLst/>
              <a:ahLst/>
              <a:rect l="l" t="t" r="r" b="b"/>
              <a:pathLst>
                <a:path w="105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2" y="2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79" y="15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79" y="10"/>
                  </a:lnTo>
                  <a:lnTo>
                    <a:pt x="66" y="15"/>
                  </a:lnTo>
                  <a:lnTo>
                    <a:pt x="52" y="15"/>
                  </a:lnTo>
                  <a:lnTo>
                    <a:pt x="39" y="15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981920" y="5192640"/>
              <a:ext cx="52200" cy="327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9"/>
                  </a:moveTo>
                  <a:lnTo>
                    <a:pt x="0" y="1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3" y="5"/>
                  </a:lnTo>
                  <a:lnTo>
                    <a:pt x="66" y="5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5"/>
                  </a:lnTo>
                  <a:lnTo>
                    <a:pt x="66" y="10"/>
                  </a:lnTo>
                  <a:lnTo>
                    <a:pt x="53" y="5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1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81920" y="5225760"/>
              <a:ext cx="5220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15"/>
                  </a:lnTo>
                  <a:lnTo>
                    <a:pt x="39" y="15"/>
                  </a:lnTo>
                  <a:lnTo>
                    <a:pt x="53" y="15"/>
                  </a:lnTo>
                  <a:lnTo>
                    <a:pt x="66" y="10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39" y="15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981920" y="5200560"/>
              <a:ext cx="52200" cy="24840"/>
            </a:xfrm>
            <a:custGeom>
              <a:avLst/>
              <a:gdLst/>
              <a:ahLst/>
              <a:rect l="l" t="t" r="r" b="b"/>
              <a:pathLst>
                <a:path w="79" h="14">
                  <a:moveTo>
                    <a:pt x="0" y="14"/>
                  </a:moveTo>
                  <a:lnTo>
                    <a:pt x="0" y="10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6" y="5"/>
                  </a:lnTo>
                  <a:lnTo>
                    <a:pt x="79" y="10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53" y="5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81920" y="5225760"/>
              <a:ext cx="52200" cy="2664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39" y="15"/>
                  </a:lnTo>
                  <a:lnTo>
                    <a:pt x="53" y="10"/>
                  </a:lnTo>
                  <a:lnTo>
                    <a:pt x="66" y="10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6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39" y="10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989840" y="5200560"/>
              <a:ext cx="44280" cy="2484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14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10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989840" y="5225760"/>
              <a:ext cx="44280" cy="18720"/>
            </a:xfrm>
            <a:custGeom>
              <a:avLst/>
              <a:gdLst/>
              <a:ahLst/>
              <a:rect l="l" t="t" r="r" b="b"/>
              <a:pathLst>
                <a:path w="66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40" y="10"/>
                  </a:lnTo>
                  <a:lnTo>
                    <a:pt x="53" y="10"/>
                  </a:lnTo>
                  <a:lnTo>
                    <a:pt x="53" y="5"/>
                  </a:lnTo>
                  <a:lnTo>
                    <a:pt x="66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989840" y="5209920"/>
              <a:ext cx="34920" cy="15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9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989840" y="5225760"/>
              <a:ext cx="34920" cy="187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989840" y="5209920"/>
              <a:ext cx="34920" cy="1548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9"/>
                  </a:moveTo>
                  <a:lnTo>
                    <a:pt x="0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989840" y="5225760"/>
              <a:ext cx="34920" cy="1872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999200" y="5225760"/>
              <a:ext cx="17640" cy="9360"/>
            </a:xfrm>
            <a:custGeom>
              <a:avLst/>
              <a:gdLst/>
              <a:ahLst/>
              <a:rect l="l" t="t" r="r" b="b"/>
              <a:pathLst>
                <a:path w="27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999200" y="5225760"/>
              <a:ext cx="17640" cy="9360"/>
            </a:xfrm>
            <a:custGeom>
              <a:avLst/>
              <a:gdLst/>
              <a:ahLst/>
              <a:rect l="l" t="t" r="r" b="b"/>
              <a:pathLst>
                <a:path w="27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867440" y="5167080"/>
              <a:ext cx="95400" cy="145800"/>
            </a:xfrm>
            <a:custGeom>
              <a:avLst/>
              <a:gdLst/>
              <a:ahLst/>
              <a:rect l="l" t="t" r="r" b="b"/>
              <a:pathLst>
                <a:path w="144" h="81">
                  <a:moveTo>
                    <a:pt x="144" y="81"/>
                  </a:moveTo>
                  <a:lnTo>
                    <a:pt x="118" y="77"/>
                  </a:lnTo>
                  <a:lnTo>
                    <a:pt x="91" y="72"/>
                  </a:lnTo>
                  <a:lnTo>
                    <a:pt x="65" y="62"/>
                  </a:lnTo>
                  <a:lnTo>
                    <a:pt x="39" y="53"/>
                  </a:lnTo>
                  <a:lnTo>
                    <a:pt x="13" y="43"/>
                  </a:lnTo>
                  <a:lnTo>
                    <a:pt x="13" y="29"/>
                  </a:lnTo>
                  <a:lnTo>
                    <a:pt x="0" y="19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39" y="14"/>
                  </a:lnTo>
                  <a:lnTo>
                    <a:pt x="39" y="24"/>
                  </a:lnTo>
                  <a:lnTo>
                    <a:pt x="52" y="38"/>
                  </a:lnTo>
                  <a:lnTo>
                    <a:pt x="52" y="48"/>
                  </a:lnTo>
                  <a:lnTo>
                    <a:pt x="65" y="57"/>
                  </a:lnTo>
                  <a:lnTo>
                    <a:pt x="91" y="67"/>
                  </a:lnTo>
                  <a:lnTo>
                    <a:pt x="118" y="77"/>
                  </a:lnTo>
                  <a:lnTo>
                    <a:pt x="144" y="8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5" name=""/>
          <p:cNvSpPr/>
          <p:nvPr/>
        </p:nvSpPr>
        <p:spPr>
          <a:xfrm>
            <a:off x="304920" y="3722760"/>
            <a:ext cx="8588160" cy="16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nterquartile range i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14.                     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fty perc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the observations                                    will occur between 10 and 2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0" y="304812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ieces of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eeded to construct a box plo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Minimum 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First Quart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ird Quart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Maximu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3200040" y="152280"/>
            <a:ext cx="2762280" cy="1752480"/>
            <a:chOff x="3200040" y="152280"/>
            <a:chExt cx="2762280" cy="1752480"/>
          </a:xfrm>
        </p:grpSpPr>
        <p:sp>
          <p:nvSpPr>
            <p:cNvPr id="1488" name=""/>
            <p:cNvSpPr/>
            <p:nvPr/>
          </p:nvSpPr>
          <p:spPr>
            <a:xfrm flipH="1">
              <a:off x="3199680" y="152280"/>
              <a:ext cx="2762280" cy="1752480"/>
            </a:xfrm>
            <a:prstGeom prst="cube">
              <a:avLst>
                <a:gd name="adj" fmla="val 1684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ff00"/>
                </a:gs>
                <a:gs pos="100000">
                  <a:srgbClr val="ff33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504960" y="685800"/>
              <a:ext cx="2436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Box Plo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685800" y="1981080"/>
            <a:ext cx="7848720" cy="10688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ical display, based on quarti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s to picture a set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143480" y="5881680"/>
            <a:ext cx="169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1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1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228600" y="1143000"/>
            <a:ext cx="875664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ed on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mple of 20 deliveri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Buddy’s Pizza determined the following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…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minimum delivery time was 13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maximum 30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irst quartile was 1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edian 18 minutes,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ird quartile 22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a box plot for the delivery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352680" y="106200"/>
            <a:ext cx="253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990720" y="5878440"/>
            <a:ext cx="7391160" cy="76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400880" y="5881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5" dur="500"/>
                                        <p:tgtEl>
                                          <p:spTgt spid="1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1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"/>
          <p:cNvGrpSpPr/>
          <p:nvPr/>
        </p:nvGrpSpPr>
        <p:grpSpPr>
          <a:xfrm>
            <a:off x="1066680" y="3808440"/>
            <a:ext cx="7620120" cy="855720"/>
            <a:chOff x="1066680" y="3808440"/>
            <a:chExt cx="7620120" cy="855720"/>
          </a:xfrm>
        </p:grpSpPr>
        <p:sp>
          <p:nvSpPr>
            <p:cNvPr id="1497" name=""/>
            <p:cNvSpPr/>
            <p:nvPr/>
          </p:nvSpPr>
          <p:spPr>
            <a:xfrm>
              <a:off x="1219320" y="411300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12193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18907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39085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45799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525456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92596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65959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79423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66680" y="4265280"/>
              <a:ext cx="746784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      14       16      18       20      22       24       26      28       30       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19051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5909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327672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457200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7238880" y="380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990720" y="2070000"/>
            <a:ext cx="67816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. Q1  Median        Q3                       M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1600200" y="251280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7238880" y="2512800"/>
            <a:ext cx="0" cy="1600200"/>
          </a:xfrm>
          <a:prstGeom prst="line">
            <a:avLst/>
          </a:prstGeom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209680" y="2513160"/>
            <a:ext cx="0" cy="1600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4572000" y="2512800"/>
            <a:ext cx="0" cy="1600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507120" y="-76320"/>
            <a:ext cx="21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209680" y="2819520"/>
            <a:ext cx="2362320" cy="914400"/>
          </a:xfrm>
          <a:prstGeom prst="rect">
            <a:avLst/>
          </a:prstGeom>
          <a:solidFill>
            <a:srgbClr val="ff33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3276720" y="251280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"/>
          <p:cNvGrpSpPr/>
          <p:nvPr/>
        </p:nvGrpSpPr>
        <p:grpSpPr>
          <a:xfrm>
            <a:off x="1940760" y="50040"/>
            <a:ext cx="5374440" cy="6459480"/>
            <a:chOff x="1940760" y="50040"/>
            <a:chExt cx="5374440" cy="6459480"/>
          </a:xfrm>
        </p:grpSpPr>
        <p:pic>
          <p:nvPicPr>
            <p:cNvPr id="1521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 rot="277200">
              <a:off x="2178000" y="236520"/>
              <a:ext cx="4876920" cy="60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2" name=""/>
            <p:cNvGrpSpPr/>
            <p:nvPr/>
          </p:nvGrpSpPr>
          <p:grpSpPr>
            <a:xfrm>
              <a:off x="2057400" y="228600"/>
              <a:ext cx="5257800" cy="914400"/>
              <a:chOff x="2057400" y="228600"/>
              <a:chExt cx="5257800" cy="914400"/>
            </a:xfrm>
          </p:grpSpPr>
          <p:sp>
            <p:nvSpPr>
              <p:cNvPr id="1523" name=""/>
              <p:cNvSpPr txBox="1"/>
              <p:nvPr/>
            </p:nvSpPr>
            <p:spPr>
              <a:xfrm>
                <a:off x="2057400" y="228600"/>
                <a:ext cx="5257800" cy="75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Invest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24" name=""/>
              <p:cNvSpPr txBox="1"/>
              <p:nvPr/>
            </p:nvSpPr>
            <p:spPr>
              <a:xfrm>
                <a:off x="2887560" y="685800"/>
                <a:ext cx="35197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Times New Roman"/>
                  </a:rPr>
                  <a:t>Decision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525" name=""/>
          <p:cNvSpPr/>
          <p:nvPr/>
        </p:nvSpPr>
        <p:spPr>
          <a:xfrm>
            <a:off x="533520" y="1114560"/>
            <a:ext cx="797220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llowing are the average rates of return for Stocks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ver a six year peri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hich of the following Stocks would you prefer to inv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71600" y="4708800"/>
            <a:ext cx="651528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Stock A: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7   6   8   5   7   3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371600" y="5480640"/>
            <a:ext cx="649440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Narrow"/>
              </a:rPr>
              <a:t>Stock B:  15  -10  18  10  -5 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41360" y="1362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"/>
          <p:cNvGrpSpPr/>
          <p:nvPr/>
        </p:nvGrpSpPr>
        <p:grpSpPr>
          <a:xfrm>
            <a:off x="1940760" y="50040"/>
            <a:ext cx="5374440" cy="6459480"/>
            <a:chOff x="1940760" y="50040"/>
            <a:chExt cx="5374440" cy="6459480"/>
          </a:xfrm>
        </p:grpSpPr>
        <p:pic>
          <p:nvPicPr>
            <p:cNvPr id="1530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 rot="277200">
              <a:off x="2178000" y="236520"/>
              <a:ext cx="4876920" cy="60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1" name=""/>
            <p:cNvGrpSpPr/>
            <p:nvPr/>
          </p:nvGrpSpPr>
          <p:grpSpPr>
            <a:xfrm>
              <a:off x="2057400" y="228600"/>
              <a:ext cx="5257800" cy="914400"/>
              <a:chOff x="2057400" y="228600"/>
              <a:chExt cx="5257800" cy="914400"/>
            </a:xfrm>
          </p:grpSpPr>
          <p:sp>
            <p:nvSpPr>
              <p:cNvPr id="1532" name=""/>
              <p:cNvSpPr txBox="1"/>
              <p:nvPr/>
            </p:nvSpPr>
            <p:spPr>
              <a:xfrm>
                <a:off x="2057400" y="228600"/>
                <a:ext cx="5257800" cy="75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Invest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33" name=""/>
              <p:cNvSpPr txBox="1"/>
              <p:nvPr/>
            </p:nvSpPr>
            <p:spPr>
              <a:xfrm>
                <a:off x="2887560" y="685800"/>
                <a:ext cx="35197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Times New Roman"/>
                  </a:rPr>
                  <a:t>Decision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534" name=""/>
          <p:cNvSpPr/>
          <p:nvPr/>
        </p:nvSpPr>
        <p:spPr>
          <a:xfrm>
            <a:off x="1828800" y="1447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ate of return for         each of the two st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819000" y="1066680"/>
            <a:ext cx="933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Fir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371600" y="2883240"/>
            <a:ext cx="651528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Stock A: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7   6   8   5   7   3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400040" y="4626360"/>
            <a:ext cx="649476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Narrow"/>
              </a:rPr>
              <a:t>Stock B:  15  -10  18  10  -5 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438280" y="371808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 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37180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/6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514600" y="5546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 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24280" y="554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/6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7543800" y="601992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N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78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87640" y="160020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2438280"/>
            <a:ext cx="6248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2651" dir="84827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difference between th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s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e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l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0480" y="4191120"/>
            <a:ext cx="7767720" cy="1551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two values are used in its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influenced by an extrem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easy to compute and under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"/>
          <p:cNvGrpSpPr/>
          <p:nvPr/>
        </p:nvGrpSpPr>
        <p:grpSpPr>
          <a:xfrm>
            <a:off x="1940760" y="50040"/>
            <a:ext cx="5374440" cy="6459480"/>
            <a:chOff x="1940760" y="50040"/>
            <a:chExt cx="5374440" cy="6459480"/>
          </a:xfrm>
        </p:grpSpPr>
        <p:pic>
          <p:nvPicPr>
            <p:cNvPr id="1544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 rot="277200">
              <a:off x="2178000" y="236520"/>
              <a:ext cx="4876920" cy="60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5" name=""/>
            <p:cNvGrpSpPr/>
            <p:nvPr/>
          </p:nvGrpSpPr>
          <p:grpSpPr>
            <a:xfrm>
              <a:off x="2057400" y="228600"/>
              <a:ext cx="5257800" cy="914400"/>
              <a:chOff x="2057400" y="228600"/>
              <a:chExt cx="5257800" cy="914400"/>
            </a:xfrm>
          </p:grpSpPr>
          <p:sp>
            <p:nvSpPr>
              <p:cNvPr id="1546" name=""/>
              <p:cNvSpPr txBox="1"/>
              <p:nvPr/>
            </p:nvSpPr>
            <p:spPr>
              <a:xfrm>
                <a:off x="2057400" y="228600"/>
                <a:ext cx="5257800" cy="752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53753" dir="2700000" blurRad="0" rotWithShape="0">
                        <a:srgbClr val="868686">
                          <a:alpha val="50000"/>
                        </a:srgbClr>
                      </a:outerShdw>
                    </a:effectLst>
                    <a:latin typeface="Times New Roman"/>
                  </a:rPr>
                  <a:t>Invest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547" name=""/>
              <p:cNvSpPr txBox="1"/>
              <p:nvPr/>
            </p:nvSpPr>
            <p:spPr>
              <a:xfrm>
                <a:off x="2887560" y="685800"/>
                <a:ext cx="351972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3300"/>
                    </a:solidFill>
                    <a:latin typeface="Times New Roman"/>
                  </a:rPr>
                  <a:t>Decision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548" name=""/>
          <p:cNvSpPr/>
          <p:nvPr/>
        </p:nvSpPr>
        <p:spPr>
          <a:xfrm>
            <a:off x="3390840" y="3200400"/>
            <a:ext cx="2514600" cy="7034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– 3 =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95480" y="4952880"/>
            <a:ext cx="3505320" cy="7034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 – ( -10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847880" y="144792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ange of Val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each st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819000" y="1066680"/>
            <a:ext cx="933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Nex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371600" y="2213280"/>
            <a:ext cx="651528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Stock A: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ff3300"/>
                </a:solidFill>
                <a:latin typeface="Arial Narrow"/>
              </a:rPr>
              <a:t>7   6   8   5   7   3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400040" y="4042080"/>
            <a:ext cx="6494760" cy="7642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Narrow"/>
              </a:rPr>
              <a:t>Stock B:  15  -10  18  10  -5 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679760" y="576900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refore, Stock B is riski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5" name=""/>
          <p:cNvGrpSpPr/>
          <p:nvPr/>
        </p:nvGrpSpPr>
        <p:grpSpPr>
          <a:xfrm>
            <a:off x="1752480" y="152280"/>
            <a:ext cx="5791320" cy="990720"/>
            <a:chOff x="1752480" y="152280"/>
            <a:chExt cx="5791320" cy="990720"/>
          </a:xfrm>
        </p:grpSpPr>
        <p:sp>
          <p:nvSpPr>
            <p:cNvPr id="1556" name=""/>
            <p:cNvSpPr/>
            <p:nvPr/>
          </p:nvSpPr>
          <p:spPr>
            <a:xfrm>
              <a:off x="1752480" y="152280"/>
              <a:ext cx="5791320" cy="990720"/>
            </a:xfrm>
            <a:prstGeom prst="beve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971720" y="304920"/>
              <a:ext cx="519876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33cc"/>
                  </a:solidFill>
                  <a:latin typeface="Times New Roman"/>
                </a:rPr>
                <a:t>Relative Dispers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304920" y="1294920"/>
            <a:ext cx="8839080" cy="1600200"/>
            <a:chOff x="304920" y="1294920"/>
            <a:chExt cx="8839080" cy="1600200"/>
          </a:xfrm>
        </p:grpSpPr>
        <p:sp>
          <p:nvSpPr>
            <p:cNvPr id="1559" name=""/>
            <p:cNvSpPr/>
            <p:nvPr/>
          </p:nvSpPr>
          <p:spPr>
            <a:xfrm flipV="1">
              <a:off x="457200" y="1294200"/>
              <a:ext cx="8686800" cy="1600200"/>
            </a:xfrm>
            <a:custGeom>
              <a:avLst/>
              <a:gdLst>
                <a:gd name="textAreaLeft" fmla="*/ 1320840 w 8686800"/>
                <a:gd name="textAreaRight" fmla="*/ 7365960 w 8686800"/>
                <a:gd name="textAreaTop" fmla="*/ 243360 h 1600200"/>
                <a:gd name="textAreaBottom" fmla="*/ 135684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837" y="21600"/>
                  </a:lnTo>
                  <a:lnTo>
                    <a:pt x="27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04920" y="1295280"/>
              <a:ext cx="8686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3200" spc="-1" strike="noStrike">
                  <a:solidFill>
                    <a:srgbClr val="cc3399"/>
                  </a:solidFill>
                  <a:latin typeface="Times New Roman"/>
                </a:rPr>
                <a:t>coefficient of variatio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is the ratio of the standard deviation to the arithmetic mean, expressed as a percentag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"/>
          <p:cNvSpPr/>
          <p:nvPr/>
        </p:nvSpPr>
        <p:spPr>
          <a:xfrm>
            <a:off x="800280" y="4037760"/>
            <a:ext cx="7696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andard deviation of 10 may be perceiv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large when the mean value is 1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but on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derately lar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when the mean value is 500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2977200" y="2743200"/>
            <a:ext cx="3348360" cy="1507680"/>
            <a:chOff x="2977200" y="2743200"/>
            <a:chExt cx="3348360" cy="1507680"/>
          </a:xfrm>
        </p:grpSpPr>
        <p:sp>
          <p:nvSpPr>
            <p:cNvPr id="1563" name=""/>
            <p:cNvSpPr/>
            <p:nvPr/>
          </p:nvSpPr>
          <p:spPr>
            <a:xfrm>
              <a:off x="4213080" y="3468600"/>
              <a:ext cx="47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2977200" y="2743200"/>
              <a:ext cx="3348360" cy="1507680"/>
              <a:chOff x="2977200" y="2743200"/>
              <a:chExt cx="3348360" cy="1507680"/>
            </a:xfrm>
          </p:grpSpPr>
          <p:sp>
            <p:nvSpPr>
              <p:cNvPr id="1565" name=""/>
              <p:cNvSpPr/>
              <p:nvPr/>
            </p:nvSpPr>
            <p:spPr>
              <a:xfrm>
                <a:off x="2977200" y="3200400"/>
                <a:ext cx="6620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CV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375080" y="2743200"/>
                <a:ext cx="21240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044600" y="3656160"/>
                <a:ext cx="53316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742200" y="3143160"/>
                <a:ext cx="3938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774680" y="3200400"/>
                <a:ext cx="1652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919760" y="3200400"/>
                <a:ext cx="140580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100%)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Bar dir="vert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1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"/>
          <p:cNvSpPr/>
          <p:nvPr/>
        </p:nvSpPr>
        <p:spPr>
          <a:xfrm>
            <a:off x="-76320" y="1676520"/>
            <a:ext cx="883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                               </a:t>
            </a: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s of return over the past 6 years for  two mutual funds are shown below.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und A:   8.3,   -6.0,   18.9,   -5.7,   23.6,   2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d B:    12,   -4.8,     6.4,   10.2,   25.3,  1.4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2666880" y="152280"/>
            <a:ext cx="3871800" cy="1066680"/>
            <a:chOff x="2666880" y="152280"/>
            <a:chExt cx="3871800" cy="1066680"/>
          </a:xfrm>
        </p:grpSpPr>
        <p:sp>
          <p:nvSpPr>
            <p:cNvPr id="1573" name=""/>
            <p:cNvSpPr txBox="1"/>
            <p:nvPr/>
          </p:nvSpPr>
          <p:spPr>
            <a:xfrm>
              <a:off x="2666880" y="152280"/>
              <a:ext cx="2652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Co-effici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574" name=""/>
            <p:cNvSpPr txBox="1"/>
            <p:nvPr/>
          </p:nvSpPr>
          <p:spPr>
            <a:xfrm>
              <a:off x="3262320" y="76176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of Vari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7400880" y="594360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685800" y="4495680"/>
            <a:ext cx="7543800" cy="914400"/>
            <a:chOff x="685800" y="4495680"/>
            <a:chExt cx="7543800" cy="914400"/>
          </a:xfrm>
        </p:grpSpPr>
        <p:sp>
          <p:nvSpPr>
            <p:cNvPr id="1577" name=""/>
            <p:cNvSpPr/>
            <p:nvPr/>
          </p:nvSpPr>
          <p:spPr>
            <a:xfrm>
              <a:off x="685800" y="467820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hich one has a 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higher level of risk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8" name="" descr=""/>
            <p:cNvPicPr/>
            <p:nvPr/>
          </p:nvPicPr>
          <p:blipFill>
            <a:blip r:embed="rId1"/>
            <a:stretch/>
          </p:blipFill>
          <p:spPr>
            <a:xfrm>
              <a:off x="803160" y="4495680"/>
              <a:ext cx="64476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0" y="2133720"/>
            <a:ext cx="1828800" cy="302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us use the Excel printout that is run from the “Descriptive Statistics” sub-m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1828800" y="1236600"/>
            <a:ext cx="7192800" cy="5183280"/>
            <a:chOff x="1828800" y="1236600"/>
            <a:chExt cx="7192800" cy="5183280"/>
          </a:xfrm>
        </p:grpSpPr>
        <p:sp>
          <p:nvSpPr>
            <p:cNvPr id="1581" name=""/>
            <p:cNvSpPr/>
            <p:nvPr/>
          </p:nvSpPr>
          <p:spPr>
            <a:xfrm>
              <a:off x="264996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Fund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3612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cc"/>
                  </a:solidFill>
                  <a:latin typeface="Arial"/>
                </a:rPr>
                <a:t>Fund 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88820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5228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.8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25384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44020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4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88856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5228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.3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25420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4020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.2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88784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512600" y="263844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25348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40200" y="263844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3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88820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5212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25384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03844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88676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1260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1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5240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29872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.2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88640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37256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73.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25204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15904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5.8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88748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3080" y="399888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2.2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25276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440200" y="399888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8712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573080" y="433872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0.4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5276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440200" y="43387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6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88820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12600" y="468000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9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5384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440200" y="46800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0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8748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933800" y="5019840"/>
              <a:ext cx="2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5312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500680" y="501984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4.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88748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65228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3.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25312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44020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5.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8820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5228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9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25384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44020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88856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01444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25384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80056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182880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82880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425304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25304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519408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9408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763884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3884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828800" y="1236600"/>
              <a:ext cx="71722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898056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98056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82880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82880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25304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25304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19408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9408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63884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63884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828800" y="1596960"/>
              <a:ext cx="717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828800" y="1596960"/>
              <a:ext cx="71722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898056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98056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82880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82880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25304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25304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19408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9408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3884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3884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828800" y="6361200"/>
              <a:ext cx="71722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98056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98056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82880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2880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5304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5304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9408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9408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3884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3884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98056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98056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900108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001080" y="12574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9001080" y="15969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9001080" y="159696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828800" y="1938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828800" y="1938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828800" y="2278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828800" y="2278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828800" y="2617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828800" y="2617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828800" y="295920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828800" y="295920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28800" y="329868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28800" y="329868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28800" y="36385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828800" y="36385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828800" y="397836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828800" y="397836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28800" y="431964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828800" y="43196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828800" y="46594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828800" y="46594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828800" y="499896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828800" y="4998960"/>
              <a:ext cx="719280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28800" y="5340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828800" y="5340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828800" y="5680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28800" y="5680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828800" y="6019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828800" y="6019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9001080" y="6380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9001080" y="63802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2666880" y="152280"/>
            <a:ext cx="3871800" cy="1066680"/>
            <a:chOff x="2666880" y="152280"/>
            <a:chExt cx="3871800" cy="1066680"/>
          </a:xfrm>
        </p:grpSpPr>
        <p:sp>
          <p:nvSpPr>
            <p:cNvPr id="1712" name=""/>
            <p:cNvSpPr txBox="1"/>
            <p:nvPr/>
          </p:nvSpPr>
          <p:spPr>
            <a:xfrm>
              <a:off x="2666880" y="152280"/>
              <a:ext cx="2652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Co-effici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13" name=""/>
            <p:cNvSpPr txBox="1"/>
            <p:nvPr/>
          </p:nvSpPr>
          <p:spPr>
            <a:xfrm>
              <a:off x="3262320" y="76176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of Vari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714" name=""/>
          <p:cNvSpPr/>
          <p:nvPr/>
        </p:nvSpPr>
        <p:spPr>
          <a:xfrm>
            <a:off x="85680" y="1066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500"/>
                            </p:stCondLst>
                            <p:childTnLst>
                              <p:par>
                                <p:cTn id="1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"/>
          <p:cNvSpPr/>
          <p:nvPr/>
        </p:nvSpPr>
        <p:spPr>
          <a:xfrm>
            <a:off x="152280" y="2133720"/>
            <a:ext cx="1600200" cy="4359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und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skier because it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ation is larg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1828800" y="1236600"/>
            <a:ext cx="7192800" cy="5183280"/>
            <a:chOff x="1828800" y="1236600"/>
            <a:chExt cx="7192800" cy="5183280"/>
          </a:xfrm>
        </p:grpSpPr>
        <p:sp>
          <p:nvSpPr>
            <p:cNvPr id="1717" name=""/>
            <p:cNvSpPr/>
            <p:nvPr/>
          </p:nvSpPr>
          <p:spPr>
            <a:xfrm>
              <a:off x="264996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Fund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03612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cc"/>
                  </a:solidFill>
                  <a:latin typeface="Arial"/>
                </a:rPr>
                <a:t>Fund 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88820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65228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.8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25384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44020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4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88856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65228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.3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25420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44020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.2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8784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512600" y="263844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25348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440200" y="263844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3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88820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5212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25384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03844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88676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1260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1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25240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29872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.2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88640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37256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73.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25204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15904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5.8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8748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573080" y="399888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2.2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25276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440200" y="399888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88712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573080" y="433872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0.4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5276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440200" y="43387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6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8820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12600" y="468000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9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5384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440200" y="46800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0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8748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933800" y="5019840"/>
              <a:ext cx="2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5312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500680" y="501984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4.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88748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5228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3.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5312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44020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5.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88820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5228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9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25384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44020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88856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1444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5384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80056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182880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82880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425304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25304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519408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19408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763884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63884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828800" y="1236600"/>
              <a:ext cx="71722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898056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98056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82880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82880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25304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25304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9408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19408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63884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63884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28800" y="1596960"/>
              <a:ext cx="717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828800" y="1596960"/>
              <a:ext cx="71722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98056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98056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82880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82880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25304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25304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19408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19408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63884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63884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828800" y="6361200"/>
              <a:ext cx="71722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98056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98056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2880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82880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25304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5304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9408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9408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63884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63884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898056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98056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900108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9001080" y="12574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9001080" y="15969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9001080" y="159696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28800" y="1938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28800" y="1938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28800" y="2278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828800" y="2278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828800" y="2617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828800" y="2617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828800" y="295920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28800" y="295920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828800" y="329868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828800" y="329868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828800" y="36385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828800" y="36385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828800" y="397836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828800" y="397836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28800" y="431964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828800" y="43196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828800" y="46594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828800" y="46594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828800" y="499896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828800" y="4998960"/>
              <a:ext cx="719280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828800" y="5340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828800" y="5340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828800" y="5680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828800" y="5680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828800" y="6019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828800" y="6019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9001080" y="6380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001080" y="63802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1828800" y="3276720"/>
            <a:ext cx="3352680" cy="380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181480" y="3276720"/>
            <a:ext cx="3810240" cy="380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2666880" y="152280"/>
            <a:ext cx="3871800" cy="1066680"/>
            <a:chOff x="2666880" y="152280"/>
            <a:chExt cx="3871800" cy="1066680"/>
          </a:xfrm>
        </p:grpSpPr>
        <p:sp>
          <p:nvSpPr>
            <p:cNvPr id="1850" name=""/>
            <p:cNvSpPr txBox="1"/>
            <p:nvPr/>
          </p:nvSpPr>
          <p:spPr>
            <a:xfrm>
              <a:off x="2666880" y="152280"/>
              <a:ext cx="2652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Co-effici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851" name=""/>
            <p:cNvSpPr txBox="1"/>
            <p:nvPr/>
          </p:nvSpPr>
          <p:spPr>
            <a:xfrm>
              <a:off x="3262320" y="76176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of Vari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85680" y="1066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"/>
          <p:cNvSpPr/>
          <p:nvPr/>
        </p:nvSpPr>
        <p:spPr>
          <a:xfrm>
            <a:off x="152280" y="2133720"/>
            <a:ext cx="1676520" cy="2226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he means of the two funds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4" name=""/>
          <p:cNvGrpSpPr/>
          <p:nvPr/>
        </p:nvGrpSpPr>
        <p:grpSpPr>
          <a:xfrm>
            <a:off x="1828800" y="1236600"/>
            <a:ext cx="7192800" cy="5183280"/>
            <a:chOff x="1828800" y="1236600"/>
            <a:chExt cx="7192800" cy="5183280"/>
          </a:xfrm>
        </p:grpSpPr>
        <p:sp>
          <p:nvSpPr>
            <p:cNvPr id="1855" name=""/>
            <p:cNvSpPr/>
            <p:nvPr/>
          </p:nvSpPr>
          <p:spPr>
            <a:xfrm>
              <a:off x="264996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3300"/>
                  </a:solidFill>
                  <a:latin typeface="Arial"/>
                </a:rPr>
                <a:t>Fund 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036120" y="1278000"/>
              <a:ext cx="919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333cc"/>
                  </a:solidFill>
                  <a:latin typeface="Arial"/>
                </a:rPr>
                <a:t>Fund 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8820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65228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9.8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253840" y="195732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440200" y="1957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4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856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65228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.3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254200" y="2298600"/>
              <a:ext cx="1747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Error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440200" y="2298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.2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8784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512600" y="263844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253480" y="2638440"/>
              <a:ext cx="87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edia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440200" y="263844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8.3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88820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45212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53840" y="297828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38440" y="2978280"/>
              <a:ext cx="593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#N/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88676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51260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3.1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252400" y="3317760"/>
              <a:ext cx="2266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andard Deviatio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298720" y="331776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.2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640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37256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73.8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252040" y="3659040"/>
              <a:ext cx="2030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ample Varian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159040" y="3659040"/>
              <a:ext cx="81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05.8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8748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73080" y="399888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2.2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252760" y="3998880"/>
              <a:ext cx="965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urtosi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440200" y="399888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9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8712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573080" y="4338720"/>
              <a:ext cx="607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0.44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52760" y="433872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kewnes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440200" y="43387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.6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8820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12600" y="4680000"/>
              <a:ext cx="666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9.6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253840" y="4680000"/>
              <a:ext cx="784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440200" y="46800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30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88748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933800" y="5019840"/>
              <a:ext cx="23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53120" y="5019840"/>
              <a:ext cx="1082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8500680" y="5019840"/>
              <a:ext cx="45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4.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88748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65228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3.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53120" y="5359320"/>
              <a:ext cx="1157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xim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440200" y="535932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5.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88820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5228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9.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53840" y="5700600"/>
              <a:ext cx="549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440200" y="5700600"/>
              <a:ext cx="51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0.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88856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1444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253840" y="6040440"/>
              <a:ext cx="71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800560" y="60404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182880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82880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425304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25304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519408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19408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7638840" y="12574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638840" y="1236600"/>
              <a:ext cx="208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828800" y="1236600"/>
              <a:ext cx="717228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898056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8980560" y="123660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2880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2880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5304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25304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19408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9408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638840" y="1278000"/>
              <a:ext cx="180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638840" y="1278000"/>
              <a:ext cx="2088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828800" y="1596960"/>
              <a:ext cx="7172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828800" y="1596960"/>
              <a:ext cx="717228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980560" y="1278000"/>
              <a:ext cx="1440" cy="318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8980560" y="1278000"/>
              <a:ext cx="20520" cy="318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82880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82880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25304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25304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9408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19408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638840" y="1617840"/>
              <a:ext cx="180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638840" y="1617840"/>
              <a:ext cx="2088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28800" y="6361200"/>
              <a:ext cx="717228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980560" y="1617840"/>
              <a:ext cx="1440" cy="4743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980560" y="1617840"/>
              <a:ext cx="20520" cy="474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2880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2880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25304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25304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19408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19408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638840" y="64008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638840" y="6400800"/>
              <a:ext cx="208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8980560" y="64008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8980560" y="6400800"/>
              <a:ext cx="2052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9001080" y="12574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001080" y="12574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001080" y="15969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9001080" y="1596960"/>
              <a:ext cx="2052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828800" y="1938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828800" y="1938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828800" y="2278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828800" y="2278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828800" y="2617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828800" y="2617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828800" y="295920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828800" y="295920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828800" y="329868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828800" y="329868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28800" y="36385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28800" y="36385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28800" y="397836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28800" y="397836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28800" y="431964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28800" y="43196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28800" y="46594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28800" y="46594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828800" y="499896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828800" y="4998960"/>
              <a:ext cx="719280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28800" y="5340240"/>
              <a:ext cx="7172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28800" y="5340240"/>
              <a:ext cx="719280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828800" y="568008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828800" y="568008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828800" y="6019920"/>
              <a:ext cx="7172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828800" y="6019920"/>
              <a:ext cx="7192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001080" y="638028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9001080" y="6380280"/>
              <a:ext cx="2052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1828800" y="3276720"/>
            <a:ext cx="7238880" cy="380880"/>
            <a:chOff x="1828800" y="3276720"/>
            <a:chExt cx="7238880" cy="380880"/>
          </a:xfrm>
        </p:grpSpPr>
        <p:sp>
          <p:nvSpPr>
            <p:cNvPr id="1986" name=""/>
            <p:cNvSpPr/>
            <p:nvPr/>
          </p:nvSpPr>
          <p:spPr>
            <a:xfrm>
              <a:off x="1828800" y="3276720"/>
              <a:ext cx="3352680" cy="3808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257800" y="3276720"/>
              <a:ext cx="3809880" cy="380880"/>
            </a:xfrm>
            <a:prstGeom prst="rect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8" name=""/>
          <p:cNvSpPr/>
          <p:nvPr/>
        </p:nvSpPr>
        <p:spPr>
          <a:xfrm>
            <a:off x="1828800" y="1981080"/>
            <a:ext cx="3352680" cy="304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257800" y="1981080"/>
            <a:ext cx="3809880" cy="304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2666880" y="152280"/>
            <a:ext cx="3871800" cy="1066680"/>
            <a:chOff x="2666880" y="152280"/>
            <a:chExt cx="3871800" cy="1066680"/>
          </a:xfrm>
        </p:grpSpPr>
        <p:sp>
          <p:nvSpPr>
            <p:cNvPr id="1991" name=""/>
            <p:cNvSpPr txBox="1"/>
            <p:nvPr/>
          </p:nvSpPr>
          <p:spPr>
            <a:xfrm>
              <a:off x="2666880" y="152280"/>
              <a:ext cx="2652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Co-effici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92" name=""/>
            <p:cNvSpPr txBox="1"/>
            <p:nvPr/>
          </p:nvSpPr>
          <p:spPr>
            <a:xfrm>
              <a:off x="3262320" y="76176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of Vari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2438280" y="3886200"/>
            <a:ext cx="5562720" cy="265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s a higher rate of return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t also has a larger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fore we need to compar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lative vari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using the coefficient of var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5680" y="1066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"/>
          <p:cNvSpPr/>
          <p:nvPr/>
        </p:nvSpPr>
        <p:spPr>
          <a:xfrm>
            <a:off x="2095560" y="2590920"/>
            <a:ext cx="5524560" cy="107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53009" dir="789398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 A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V  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3.19 / 9.85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 B: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.29 / 8.42 = 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028880" y="3809880"/>
            <a:ext cx="7124400" cy="1556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206639" dir="82482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now we say that ther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re variabilit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Fun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compared to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6760" y="5486400"/>
            <a:ext cx="57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refore,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Fund A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riski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8" name=""/>
          <p:cNvGrpSpPr/>
          <p:nvPr/>
        </p:nvGrpSpPr>
        <p:grpSpPr>
          <a:xfrm>
            <a:off x="2666880" y="152280"/>
            <a:ext cx="3871800" cy="1066680"/>
            <a:chOff x="2666880" y="152280"/>
            <a:chExt cx="3871800" cy="1066680"/>
          </a:xfrm>
        </p:grpSpPr>
        <p:sp>
          <p:nvSpPr>
            <p:cNvPr id="1999" name=""/>
            <p:cNvSpPr txBox="1"/>
            <p:nvPr/>
          </p:nvSpPr>
          <p:spPr>
            <a:xfrm>
              <a:off x="2666880" y="152280"/>
              <a:ext cx="2652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Co-effici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000" name=""/>
            <p:cNvSpPr txBox="1"/>
            <p:nvPr/>
          </p:nvSpPr>
          <p:spPr>
            <a:xfrm>
              <a:off x="3262320" y="761760"/>
              <a:ext cx="3276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Arial Black"/>
                </a:rPr>
                <a:t>of Vari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001" name=""/>
          <p:cNvSpPr/>
          <p:nvPr/>
        </p:nvSpPr>
        <p:spPr>
          <a:xfrm>
            <a:off x="85680" y="106668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2" name=""/>
          <p:cNvGrpSpPr/>
          <p:nvPr/>
        </p:nvGrpSpPr>
        <p:grpSpPr>
          <a:xfrm>
            <a:off x="1270440" y="5462640"/>
            <a:ext cx="6882840" cy="1528560"/>
            <a:chOff x="1270440" y="5462640"/>
            <a:chExt cx="6882840" cy="1528560"/>
          </a:xfrm>
        </p:grpSpPr>
        <p:sp>
          <p:nvSpPr>
            <p:cNvPr id="2003" name=""/>
            <p:cNvSpPr/>
            <p:nvPr/>
          </p:nvSpPr>
          <p:spPr>
            <a:xfrm rot="384000">
              <a:off x="1293840" y="5903640"/>
              <a:ext cx="6021360" cy="754200"/>
            </a:xfrm>
            <a:custGeom>
              <a:avLst/>
              <a:gdLst/>
              <a:ahLst/>
              <a:rect l="l" t="t" r="r" b="b"/>
              <a:pathLst>
                <a:path w="2572" h="394">
                  <a:moveTo>
                    <a:pt x="2453" y="63"/>
                  </a:moveTo>
                  <a:lnTo>
                    <a:pt x="2440" y="58"/>
                  </a:lnTo>
                  <a:lnTo>
                    <a:pt x="2414" y="53"/>
                  </a:lnTo>
                  <a:lnTo>
                    <a:pt x="2388" y="48"/>
                  </a:lnTo>
                  <a:lnTo>
                    <a:pt x="2375" y="48"/>
                  </a:lnTo>
                  <a:lnTo>
                    <a:pt x="2348" y="44"/>
                  </a:lnTo>
                  <a:lnTo>
                    <a:pt x="2322" y="44"/>
                  </a:lnTo>
                  <a:lnTo>
                    <a:pt x="2296" y="48"/>
                  </a:lnTo>
                  <a:lnTo>
                    <a:pt x="2270" y="48"/>
                  </a:lnTo>
                  <a:lnTo>
                    <a:pt x="2230" y="53"/>
                  </a:lnTo>
                  <a:lnTo>
                    <a:pt x="2191" y="58"/>
                  </a:lnTo>
                  <a:lnTo>
                    <a:pt x="2165" y="63"/>
                  </a:lnTo>
                  <a:lnTo>
                    <a:pt x="2125" y="68"/>
                  </a:lnTo>
                  <a:lnTo>
                    <a:pt x="2086" y="72"/>
                  </a:lnTo>
                  <a:lnTo>
                    <a:pt x="2060" y="77"/>
                  </a:lnTo>
                  <a:lnTo>
                    <a:pt x="2020" y="87"/>
                  </a:lnTo>
                  <a:lnTo>
                    <a:pt x="1981" y="92"/>
                  </a:lnTo>
                  <a:lnTo>
                    <a:pt x="1955" y="96"/>
                  </a:lnTo>
                  <a:lnTo>
                    <a:pt x="1916" y="106"/>
                  </a:lnTo>
                  <a:lnTo>
                    <a:pt x="1889" y="111"/>
                  </a:lnTo>
                  <a:lnTo>
                    <a:pt x="1850" y="120"/>
                  </a:lnTo>
                  <a:lnTo>
                    <a:pt x="1824" y="125"/>
                  </a:lnTo>
                  <a:lnTo>
                    <a:pt x="1784" y="135"/>
                  </a:lnTo>
                  <a:lnTo>
                    <a:pt x="1758" y="140"/>
                  </a:lnTo>
                  <a:lnTo>
                    <a:pt x="1719" y="149"/>
                  </a:lnTo>
                  <a:lnTo>
                    <a:pt x="1692" y="159"/>
                  </a:lnTo>
                  <a:lnTo>
                    <a:pt x="1666" y="168"/>
                  </a:lnTo>
                  <a:lnTo>
                    <a:pt x="1627" y="173"/>
                  </a:lnTo>
                  <a:lnTo>
                    <a:pt x="1601" y="183"/>
                  </a:lnTo>
                  <a:lnTo>
                    <a:pt x="1561" y="192"/>
                  </a:lnTo>
                  <a:lnTo>
                    <a:pt x="1535" y="197"/>
                  </a:lnTo>
                  <a:lnTo>
                    <a:pt x="1509" y="207"/>
                  </a:lnTo>
                  <a:lnTo>
                    <a:pt x="1469" y="216"/>
                  </a:lnTo>
                  <a:lnTo>
                    <a:pt x="1443" y="221"/>
                  </a:lnTo>
                  <a:lnTo>
                    <a:pt x="1417" y="231"/>
                  </a:lnTo>
                  <a:lnTo>
                    <a:pt x="1378" y="240"/>
                  </a:lnTo>
                  <a:lnTo>
                    <a:pt x="1351" y="245"/>
                  </a:lnTo>
                  <a:lnTo>
                    <a:pt x="1325" y="255"/>
                  </a:lnTo>
                  <a:lnTo>
                    <a:pt x="1286" y="260"/>
                  </a:lnTo>
                  <a:lnTo>
                    <a:pt x="1260" y="269"/>
                  </a:lnTo>
                  <a:lnTo>
                    <a:pt x="1233" y="274"/>
                  </a:lnTo>
                  <a:lnTo>
                    <a:pt x="1207" y="284"/>
                  </a:lnTo>
                  <a:lnTo>
                    <a:pt x="1168" y="288"/>
                  </a:lnTo>
                  <a:lnTo>
                    <a:pt x="1141" y="293"/>
                  </a:lnTo>
                  <a:lnTo>
                    <a:pt x="1102" y="303"/>
                  </a:lnTo>
                  <a:lnTo>
                    <a:pt x="1076" y="308"/>
                  </a:lnTo>
                  <a:lnTo>
                    <a:pt x="1036" y="317"/>
                  </a:lnTo>
                  <a:lnTo>
                    <a:pt x="997" y="322"/>
                  </a:lnTo>
                  <a:lnTo>
                    <a:pt x="971" y="332"/>
                  </a:lnTo>
                  <a:lnTo>
                    <a:pt x="932" y="336"/>
                  </a:lnTo>
                  <a:lnTo>
                    <a:pt x="892" y="341"/>
                  </a:lnTo>
                  <a:lnTo>
                    <a:pt x="853" y="351"/>
                  </a:lnTo>
                  <a:lnTo>
                    <a:pt x="813" y="356"/>
                  </a:lnTo>
                  <a:lnTo>
                    <a:pt x="761" y="360"/>
                  </a:lnTo>
                  <a:lnTo>
                    <a:pt x="722" y="365"/>
                  </a:lnTo>
                  <a:lnTo>
                    <a:pt x="682" y="375"/>
                  </a:lnTo>
                  <a:lnTo>
                    <a:pt x="643" y="380"/>
                  </a:lnTo>
                  <a:lnTo>
                    <a:pt x="604" y="380"/>
                  </a:lnTo>
                  <a:lnTo>
                    <a:pt x="564" y="384"/>
                  </a:lnTo>
                  <a:lnTo>
                    <a:pt x="512" y="389"/>
                  </a:lnTo>
                  <a:lnTo>
                    <a:pt x="472" y="389"/>
                  </a:lnTo>
                  <a:lnTo>
                    <a:pt x="433" y="394"/>
                  </a:lnTo>
                  <a:lnTo>
                    <a:pt x="394" y="394"/>
                  </a:lnTo>
                  <a:lnTo>
                    <a:pt x="354" y="394"/>
                  </a:lnTo>
                  <a:lnTo>
                    <a:pt x="315" y="394"/>
                  </a:lnTo>
                  <a:lnTo>
                    <a:pt x="276" y="394"/>
                  </a:lnTo>
                  <a:lnTo>
                    <a:pt x="236" y="389"/>
                  </a:lnTo>
                  <a:lnTo>
                    <a:pt x="197" y="389"/>
                  </a:lnTo>
                  <a:lnTo>
                    <a:pt x="157" y="384"/>
                  </a:lnTo>
                  <a:lnTo>
                    <a:pt x="118" y="380"/>
                  </a:lnTo>
                  <a:lnTo>
                    <a:pt x="79" y="370"/>
                  </a:lnTo>
                  <a:lnTo>
                    <a:pt x="52" y="365"/>
                  </a:lnTo>
                  <a:lnTo>
                    <a:pt x="13" y="356"/>
                  </a:lnTo>
                  <a:lnTo>
                    <a:pt x="0" y="346"/>
                  </a:lnTo>
                  <a:lnTo>
                    <a:pt x="0" y="332"/>
                  </a:lnTo>
                  <a:lnTo>
                    <a:pt x="13" y="327"/>
                  </a:lnTo>
                  <a:lnTo>
                    <a:pt x="26" y="317"/>
                  </a:lnTo>
                  <a:lnTo>
                    <a:pt x="39" y="312"/>
                  </a:lnTo>
                  <a:lnTo>
                    <a:pt x="52" y="312"/>
                  </a:lnTo>
                  <a:lnTo>
                    <a:pt x="79" y="312"/>
                  </a:lnTo>
                  <a:lnTo>
                    <a:pt x="92" y="317"/>
                  </a:lnTo>
                  <a:lnTo>
                    <a:pt x="105" y="322"/>
                  </a:lnTo>
                  <a:lnTo>
                    <a:pt x="131" y="327"/>
                  </a:lnTo>
                  <a:lnTo>
                    <a:pt x="157" y="332"/>
                  </a:lnTo>
                  <a:lnTo>
                    <a:pt x="184" y="336"/>
                  </a:lnTo>
                  <a:lnTo>
                    <a:pt x="210" y="341"/>
                  </a:lnTo>
                  <a:lnTo>
                    <a:pt x="236" y="341"/>
                  </a:lnTo>
                  <a:lnTo>
                    <a:pt x="262" y="346"/>
                  </a:lnTo>
                  <a:lnTo>
                    <a:pt x="289" y="346"/>
                  </a:lnTo>
                  <a:lnTo>
                    <a:pt x="302" y="351"/>
                  </a:lnTo>
                  <a:lnTo>
                    <a:pt x="328" y="351"/>
                  </a:lnTo>
                  <a:lnTo>
                    <a:pt x="354" y="351"/>
                  </a:lnTo>
                  <a:lnTo>
                    <a:pt x="380" y="351"/>
                  </a:lnTo>
                  <a:lnTo>
                    <a:pt x="407" y="351"/>
                  </a:lnTo>
                  <a:lnTo>
                    <a:pt x="420" y="351"/>
                  </a:lnTo>
                  <a:lnTo>
                    <a:pt x="446" y="351"/>
                  </a:lnTo>
                  <a:lnTo>
                    <a:pt x="472" y="351"/>
                  </a:lnTo>
                  <a:lnTo>
                    <a:pt x="499" y="351"/>
                  </a:lnTo>
                  <a:lnTo>
                    <a:pt x="538" y="346"/>
                  </a:lnTo>
                  <a:lnTo>
                    <a:pt x="564" y="346"/>
                  </a:lnTo>
                  <a:lnTo>
                    <a:pt x="604" y="341"/>
                  </a:lnTo>
                  <a:lnTo>
                    <a:pt x="630" y="341"/>
                  </a:lnTo>
                  <a:lnTo>
                    <a:pt x="656" y="336"/>
                  </a:lnTo>
                  <a:lnTo>
                    <a:pt x="695" y="332"/>
                  </a:lnTo>
                  <a:lnTo>
                    <a:pt x="722" y="327"/>
                  </a:lnTo>
                  <a:lnTo>
                    <a:pt x="761" y="322"/>
                  </a:lnTo>
                  <a:lnTo>
                    <a:pt x="800" y="322"/>
                  </a:lnTo>
                  <a:lnTo>
                    <a:pt x="827" y="312"/>
                  </a:lnTo>
                  <a:lnTo>
                    <a:pt x="866" y="308"/>
                  </a:lnTo>
                  <a:lnTo>
                    <a:pt x="892" y="303"/>
                  </a:lnTo>
                  <a:lnTo>
                    <a:pt x="932" y="298"/>
                  </a:lnTo>
                  <a:lnTo>
                    <a:pt x="958" y="288"/>
                  </a:lnTo>
                  <a:lnTo>
                    <a:pt x="997" y="284"/>
                  </a:lnTo>
                  <a:lnTo>
                    <a:pt x="1036" y="279"/>
                  </a:lnTo>
                  <a:lnTo>
                    <a:pt x="1063" y="269"/>
                  </a:lnTo>
                  <a:lnTo>
                    <a:pt x="1102" y="264"/>
                  </a:lnTo>
                  <a:lnTo>
                    <a:pt x="1128" y="255"/>
                  </a:lnTo>
                  <a:lnTo>
                    <a:pt x="1168" y="245"/>
                  </a:lnTo>
                  <a:lnTo>
                    <a:pt x="1207" y="240"/>
                  </a:lnTo>
                  <a:lnTo>
                    <a:pt x="1233" y="231"/>
                  </a:lnTo>
                  <a:lnTo>
                    <a:pt x="1273" y="221"/>
                  </a:lnTo>
                  <a:lnTo>
                    <a:pt x="1299" y="216"/>
                  </a:lnTo>
                  <a:lnTo>
                    <a:pt x="1338" y="207"/>
                  </a:lnTo>
                  <a:lnTo>
                    <a:pt x="1378" y="197"/>
                  </a:lnTo>
                  <a:lnTo>
                    <a:pt x="1404" y="192"/>
                  </a:lnTo>
                  <a:lnTo>
                    <a:pt x="1443" y="183"/>
                  </a:lnTo>
                  <a:lnTo>
                    <a:pt x="1469" y="173"/>
                  </a:lnTo>
                  <a:lnTo>
                    <a:pt x="1509" y="168"/>
                  </a:lnTo>
                  <a:lnTo>
                    <a:pt x="1535" y="159"/>
                  </a:lnTo>
                  <a:lnTo>
                    <a:pt x="1574" y="149"/>
                  </a:lnTo>
                  <a:lnTo>
                    <a:pt x="1601" y="144"/>
                  </a:lnTo>
                  <a:lnTo>
                    <a:pt x="1640" y="135"/>
                  </a:lnTo>
                  <a:lnTo>
                    <a:pt x="1666" y="125"/>
                  </a:lnTo>
                  <a:lnTo>
                    <a:pt x="1706" y="116"/>
                  </a:lnTo>
                  <a:lnTo>
                    <a:pt x="1758" y="106"/>
                  </a:lnTo>
                  <a:lnTo>
                    <a:pt x="1811" y="92"/>
                  </a:lnTo>
                  <a:lnTo>
                    <a:pt x="1863" y="77"/>
                  </a:lnTo>
                  <a:lnTo>
                    <a:pt x="1916" y="68"/>
                  </a:lnTo>
                  <a:lnTo>
                    <a:pt x="1968" y="53"/>
                  </a:lnTo>
                  <a:lnTo>
                    <a:pt x="2034" y="39"/>
                  </a:lnTo>
                  <a:lnTo>
                    <a:pt x="2086" y="29"/>
                  </a:lnTo>
                  <a:lnTo>
                    <a:pt x="2152" y="20"/>
                  </a:lnTo>
                  <a:lnTo>
                    <a:pt x="2217" y="10"/>
                  </a:lnTo>
                  <a:lnTo>
                    <a:pt x="2270" y="5"/>
                  </a:lnTo>
                  <a:lnTo>
                    <a:pt x="2335" y="0"/>
                  </a:lnTo>
                  <a:lnTo>
                    <a:pt x="2388" y="0"/>
                  </a:lnTo>
                  <a:lnTo>
                    <a:pt x="2440" y="5"/>
                  </a:lnTo>
                  <a:lnTo>
                    <a:pt x="2493" y="10"/>
                  </a:lnTo>
                  <a:lnTo>
                    <a:pt x="2545" y="20"/>
                  </a:lnTo>
                  <a:lnTo>
                    <a:pt x="2558" y="29"/>
                  </a:lnTo>
                  <a:lnTo>
                    <a:pt x="2572" y="39"/>
                  </a:lnTo>
                  <a:lnTo>
                    <a:pt x="2572" y="53"/>
                  </a:lnTo>
                  <a:lnTo>
                    <a:pt x="2558" y="63"/>
                  </a:lnTo>
                  <a:lnTo>
                    <a:pt x="2558" y="68"/>
                  </a:lnTo>
                  <a:lnTo>
                    <a:pt x="2545" y="68"/>
                  </a:lnTo>
                  <a:lnTo>
                    <a:pt x="2532" y="72"/>
                  </a:lnTo>
                  <a:lnTo>
                    <a:pt x="2519" y="72"/>
                  </a:lnTo>
                  <a:lnTo>
                    <a:pt x="2506" y="72"/>
                  </a:lnTo>
                  <a:lnTo>
                    <a:pt x="2493" y="72"/>
                  </a:lnTo>
                  <a:lnTo>
                    <a:pt x="2480" y="68"/>
                  </a:lnTo>
                  <a:lnTo>
                    <a:pt x="2453" y="63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386480" y="6357960"/>
              <a:ext cx="34920" cy="4464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52" y="24"/>
                  </a:moveTo>
                  <a:lnTo>
                    <a:pt x="0" y="9"/>
                  </a:lnTo>
                  <a:lnTo>
                    <a:pt x="13" y="4"/>
                  </a:lnTo>
                  <a:lnTo>
                    <a:pt x="52" y="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464240" y="6321600"/>
              <a:ext cx="671760" cy="384120"/>
            </a:xfrm>
            <a:custGeom>
              <a:avLst/>
              <a:gdLst/>
              <a:ahLst/>
              <a:rect l="l" t="t" r="r" b="b"/>
              <a:pathLst>
                <a:path w="997" h="212">
                  <a:moveTo>
                    <a:pt x="13" y="0"/>
                  </a:moveTo>
                  <a:lnTo>
                    <a:pt x="879" y="68"/>
                  </a:lnTo>
                  <a:lnTo>
                    <a:pt x="931" y="82"/>
                  </a:lnTo>
                  <a:lnTo>
                    <a:pt x="971" y="106"/>
                  </a:lnTo>
                  <a:lnTo>
                    <a:pt x="984" y="130"/>
                  </a:lnTo>
                  <a:lnTo>
                    <a:pt x="997" y="154"/>
                  </a:lnTo>
                  <a:lnTo>
                    <a:pt x="984" y="173"/>
                  </a:lnTo>
                  <a:lnTo>
                    <a:pt x="958" y="192"/>
                  </a:lnTo>
                  <a:lnTo>
                    <a:pt x="918" y="207"/>
                  </a:lnTo>
                  <a:lnTo>
                    <a:pt x="866" y="212"/>
                  </a:lnTo>
                  <a:lnTo>
                    <a:pt x="39" y="77"/>
                  </a:lnTo>
                  <a:lnTo>
                    <a:pt x="39" y="72"/>
                  </a:lnTo>
                  <a:lnTo>
                    <a:pt x="26" y="68"/>
                  </a:lnTo>
                  <a:lnTo>
                    <a:pt x="13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13" y="44"/>
                  </a:lnTo>
                  <a:lnTo>
                    <a:pt x="0" y="34"/>
                  </a:lnTo>
                  <a:lnTo>
                    <a:pt x="0" y="20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04120" y="6321600"/>
              <a:ext cx="87120" cy="139680"/>
            </a:xfrm>
            <a:custGeom>
              <a:avLst/>
              <a:gdLst/>
              <a:ahLst/>
              <a:rect l="l" t="t" r="r" b="b"/>
              <a:pathLst>
                <a:path w="131" h="77">
                  <a:moveTo>
                    <a:pt x="131" y="77"/>
                  </a:moveTo>
                  <a:lnTo>
                    <a:pt x="131" y="72"/>
                  </a:lnTo>
                  <a:lnTo>
                    <a:pt x="118" y="68"/>
                  </a:lnTo>
                  <a:lnTo>
                    <a:pt x="105" y="58"/>
                  </a:lnTo>
                  <a:lnTo>
                    <a:pt x="92" y="58"/>
                  </a:lnTo>
                  <a:lnTo>
                    <a:pt x="92" y="48"/>
                  </a:lnTo>
                  <a:lnTo>
                    <a:pt x="105" y="44"/>
                  </a:lnTo>
                  <a:lnTo>
                    <a:pt x="105" y="29"/>
                  </a:lnTo>
                  <a:lnTo>
                    <a:pt x="92" y="20"/>
                  </a:lnTo>
                  <a:lnTo>
                    <a:pt x="105" y="15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13" y="24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3" y="34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3" y="39"/>
                  </a:lnTo>
                  <a:lnTo>
                    <a:pt x="131" y="77"/>
                  </a:lnTo>
                  <a:close/>
                </a:path>
              </a:pathLst>
            </a:custGeom>
            <a:solidFill>
              <a:srgbClr val="cc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323120" y="6243840"/>
              <a:ext cx="54000" cy="5220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6" y="0"/>
                  </a:moveTo>
                  <a:lnTo>
                    <a:pt x="0" y="24"/>
                  </a:lnTo>
                  <a:lnTo>
                    <a:pt x="13" y="29"/>
                  </a:lnTo>
                  <a:lnTo>
                    <a:pt x="79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315200" y="6243840"/>
              <a:ext cx="34920" cy="5220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13" y="19"/>
                  </a:moveTo>
                  <a:lnTo>
                    <a:pt x="26" y="24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0" y="24"/>
                  </a:lnTo>
                  <a:lnTo>
                    <a:pt x="13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3" y="29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323120" y="6278760"/>
              <a:ext cx="9360" cy="17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5"/>
                  </a:moveTo>
                  <a:lnTo>
                    <a:pt x="13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332480" y="6270840"/>
              <a:ext cx="61920" cy="25200"/>
            </a:xfrm>
            <a:custGeom>
              <a:avLst/>
              <a:gdLst/>
              <a:ahLst/>
              <a:rect l="l" t="t" r="r" b="b"/>
              <a:pathLst>
                <a:path w="92" h="14">
                  <a:moveTo>
                    <a:pt x="66" y="4"/>
                  </a:moveTo>
                  <a:lnTo>
                    <a:pt x="66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66" y="4"/>
                  </a:lnTo>
                  <a:lnTo>
                    <a:pt x="79" y="0"/>
                  </a:lnTo>
                  <a:lnTo>
                    <a:pt x="66" y="4"/>
                  </a:lnTo>
                  <a:lnTo>
                    <a:pt x="92" y="4"/>
                  </a:lnTo>
                  <a:lnTo>
                    <a:pt x="79" y="0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340400" y="6235920"/>
              <a:ext cx="46080" cy="4284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13" y="10"/>
                  </a:moveTo>
                  <a:lnTo>
                    <a:pt x="0" y="10"/>
                  </a:lnTo>
                  <a:lnTo>
                    <a:pt x="53" y="24"/>
                  </a:lnTo>
                  <a:lnTo>
                    <a:pt x="66" y="2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77120" y="5472000"/>
              <a:ext cx="768240" cy="781200"/>
            </a:xfrm>
            <a:custGeom>
              <a:avLst/>
              <a:gdLst/>
              <a:ahLst/>
              <a:rect l="l" t="t" r="r" b="b"/>
              <a:pathLst>
                <a:path w="1141" h="432">
                  <a:moveTo>
                    <a:pt x="144" y="432"/>
                  </a:moveTo>
                  <a:lnTo>
                    <a:pt x="1102" y="120"/>
                  </a:lnTo>
                  <a:lnTo>
                    <a:pt x="1115" y="106"/>
                  </a:lnTo>
                  <a:lnTo>
                    <a:pt x="1128" y="91"/>
                  </a:lnTo>
                  <a:lnTo>
                    <a:pt x="1141" y="77"/>
                  </a:lnTo>
                  <a:lnTo>
                    <a:pt x="1141" y="62"/>
                  </a:lnTo>
                  <a:lnTo>
                    <a:pt x="1128" y="48"/>
                  </a:lnTo>
                  <a:lnTo>
                    <a:pt x="1115" y="38"/>
                  </a:lnTo>
                  <a:lnTo>
                    <a:pt x="1102" y="29"/>
                  </a:lnTo>
                  <a:lnTo>
                    <a:pt x="1075" y="19"/>
                  </a:lnTo>
                  <a:lnTo>
                    <a:pt x="1049" y="14"/>
                  </a:lnTo>
                  <a:lnTo>
                    <a:pt x="1023" y="5"/>
                  </a:lnTo>
                  <a:lnTo>
                    <a:pt x="984" y="0"/>
                  </a:lnTo>
                  <a:lnTo>
                    <a:pt x="957" y="0"/>
                  </a:lnTo>
                  <a:lnTo>
                    <a:pt x="918" y="0"/>
                  </a:lnTo>
                  <a:lnTo>
                    <a:pt x="879" y="5"/>
                  </a:lnTo>
                  <a:lnTo>
                    <a:pt x="839" y="10"/>
                  </a:lnTo>
                  <a:lnTo>
                    <a:pt x="800" y="19"/>
                  </a:lnTo>
                  <a:lnTo>
                    <a:pt x="13" y="370"/>
                  </a:lnTo>
                  <a:lnTo>
                    <a:pt x="26" y="374"/>
                  </a:lnTo>
                  <a:lnTo>
                    <a:pt x="26" y="379"/>
                  </a:lnTo>
                  <a:lnTo>
                    <a:pt x="13" y="389"/>
                  </a:lnTo>
                  <a:lnTo>
                    <a:pt x="0" y="394"/>
                  </a:lnTo>
                  <a:lnTo>
                    <a:pt x="13" y="398"/>
                  </a:lnTo>
                  <a:lnTo>
                    <a:pt x="26" y="398"/>
                  </a:lnTo>
                  <a:lnTo>
                    <a:pt x="26" y="403"/>
                  </a:lnTo>
                  <a:lnTo>
                    <a:pt x="39" y="403"/>
                  </a:lnTo>
                  <a:lnTo>
                    <a:pt x="52" y="408"/>
                  </a:lnTo>
                  <a:lnTo>
                    <a:pt x="65" y="413"/>
                  </a:lnTo>
                  <a:lnTo>
                    <a:pt x="65" y="418"/>
                  </a:lnTo>
                  <a:lnTo>
                    <a:pt x="78" y="427"/>
                  </a:lnTo>
                  <a:lnTo>
                    <a:pt x="78" y="422"/>
                  </a:lnTo>
                  <a:lnTo>
                    <a:pt x="91" y="422"/>
                  </a:lnTo>
                  <a:lnTo>
                    <a:pt x="105" y="422"/>
                  </a:lnTo>
                  <a:lnTo>
                    <a:pt x="118" y="427"/>
                  </a:lnTo>
                  <a:lnTo>
                    <a:pt x="118" y="427"/>
                  </a:lnTo>
                  <a:lnTo>
                    <a:pt x="131" y="427"/>
                  </a:lnTo>
                  <a:lnTo>
                    <a:pt x="131" y="432"/>
                  </a:lnTo>
                  <a:lnTo>
                    <a:pt x="144" y="43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464240" y="5680080"/>
              <a:ext cx="663840" cy="582840"/>
            </a:xfrm>
            <a:custGeom>
              <a:avLst/>
              <a:gdLst/>
              <a:ahLst/>
              <a:rect l="l" t="t" r="r" b="b"/>
              <a:pathLst>
                <a:path w="984" h="322">
                  <a:moveTo>
                    <a:pt x="958" y="0"/>
                  </a:moveTo>
                  <a:lnTo>
                    <a:pt x="958" y="0"/>
                  </a:lnTo>
                  <a:lnTo>
                    <a:pt x="0" y="317"/>
                  </a:lnTo>
                  <a:lnTo>
                    <a:pt x="13" y="322"/>
                  </a:lnTo>
                  <a:lnTo>
                    <a:pt x="971" y="5"/>
                  </a:lnTo>
                  <a:lnTo>
                    <a:pt x="984" y="5"/>
                  </a:lnTo>
                  <a:lnTo>
                    <a:pt x="971" y="5"/>
                  </a:lnTo>
                  <a:lnTo>
                    <a:pt x="984" y="5"/>
                  </a:lnTo>
                  <a:lnTo>
                    <a:pt x="984" y="5"/>
                  </a:lnTo>
                  <a:lnTo>
                    <a:pt x="958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109000" y="5654880"/>
              <a:ext cx="27000" cy="331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26" y="0"/>
                  </a:moveTo>
                  <a:lnTo>
                    <a:pt x="26" y="0"/>
                  </a:lnTo>
                  <a:lnTo>
                    <a:pt x="0" y="14"/>
                  </a:lnTo>
                  <a:lnTo>
                    <a:pt x="26" y="1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128080" y="5627880"/>
              <a:ext cx="17280" cy="36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3" y="5"/>
                  </a:moveTo>
                  <a:lnTo>
                    <a:pt x="13" y="0"/>
                  </a:lnTo>
                  <a:lnTo>
                    <a:pt x="0" y="15"/>
                  </a:lnTo>
                  <a:lnTo>
                    <a:pt x="13" y="2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136000" y="561024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13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136000" y="5583240"/>
              <a:ext cx="17280" cy="2700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26" y="1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128080" y="5558040"/>
              <a:ext cx="17280" cy="2520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5"/>
                  </a:moveTo>
                  <a:lnTo>
                    <a:pt x="0" y="5"/>
                  </a:lnTo>
                  <a:lnTo>
                    <a:pt x="13" y="14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118360" y="5540400"/>
              <a:ext cx="27000" cy="2700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5"/>
                  </a:moveTo>
                  <a:lnTo>
                    <a:pt x="0" y="0"/>
                  </a:lnTo>
                  <a:lnTo>
                    <a:pt x="13" y="15"/>
                  </a:lnTo>
                  <a:lnTo>
                    <a:pt x="39" y="1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109000" y="5515200"/>
              <a:ext cx="27000" cy="349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5"/>
                  </a:moveTo>
                  <a:lnTo>
                    <a:pt x="0" y="5"/>
                  </a:lnTo>
                  <a:lnTo>
                    <a:pt x="13" y="19"/>
                  </a:lnTo>
                  <a:lnTo>
                    <a:pt x="39" y="1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8091360" y="5497560"/>
              <a:ext cx="27000" cy="27000"/>
            </a:xfrm>
            <a:custGeom>
              <a:avLst/>
              <a:gdLst/>
              <a:ahLst/>
              <a:rect l="l" t="t" r="r" b="b"/>
              <a:pathLst>
                <a:path w="40" h="15">
                  <a:moveTo>
                    <a:pt x="13" y="10"/>
                  </a:moveTo>
                  <a:lnTo>
                    <a:pt x="0" y="10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082000" y="5489640"/>
              <a:ext cx="27000" cy="2556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4"/>
                  </a:moveTo>
                  <a:lnTo>
                    <a:pt x="0" y="4"/>
                  </a:lnTo>
                  <a:lnTo>
                    <a:pt x="26" y="14"/>
                  </a:lnTo>
                  <a:lnTo>
                    <a:pt x="40" y="4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064360" y="5472000"/>
              <a:ext cx="17640" cy="2556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0"/>
                  </a:moveTo>
                  <a:lnTo>
                    <a:pt x="0" y="10"/>
                  </a:lnTo>
                  <a:lnTo>
                    <a:pt x="26" y="14"/>
                  </a:lnTo>
                  <a:lnTo>
                    <a:pt x="26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039160" y="5472000"/>
              <a:ext cx="25200" cy="176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5"/>
                  </a:moveTo>
                  <a:lnTo>
                    <a:pt x="0" y="5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012160" y="5462640"/>
              <a:ext cx="27000" cy="17640"/>
            </a:xfrm>
            <a:custGeom>
              <a:avLst/>
              <a:gdLst/>
              <a:ahLst/>
              <a:rect l="l" t="t" r="r" b="b"/>
              <a:pathLst>
                <a:path w="40" h="10">
                  <a:moveTo>
                    <a:pt x="13" y="10"/>
                  </a:moveTo>
                  <a:lnTo>
                    <a:pt x="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994520" y="5462640"/>
              <a:ext cx="25560" cy="176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0" y="10"/>
                  </a:moveTo>
                  <a:lnTo>
                    <a:pt x="0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969320" y="5462640"/>
              <a:ext cx="25200" cy="2700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0" y="15"/>
                  </a:moveTo>
                  <a:lnTo>
                    <a:pt x="0" y="15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940520" y="5472000"/>
              <a:ext cx="28800" cy="2556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14"/>
                  </a:moveTo>
                  <a:lnTo>
                    <a:pt x="0" y="14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905600" y="5480280"/>
              <a:ext cx="34920" cy="3492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6" y="14"/>
                  </a:moveTo>
                  <a:lnTo>
                    <a:pt x="13" y="1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77120" y="5497560"/>
              <a:ext cx="546120" cy="650880"/>
            </a:xfrm>
            <a:custGeom>
              <a:avLst/>
              <a:gdLst/>
              <a:ahLst/>
              <a:rect l="l" t="t" r="r" b="b"/>
              <a:pathLst>
                <a:path w="813" h="360">
                  <a:moveTo>
                    <a:pt x="13" y="356"/>
                  </a:moveTo>
                  <a:lnTo>
                    <a:pt x="13" y="360"/>
                  </a:lnTo>
                  <a:lnTo>
                    <a:pt x="813" y="5"/>
                  </a:lnTo>
                  <a:lnTo>
                    <a:pt x="787" y="0"/>
                  </a:lnTo>
                  <a:lnTo>
                    <a:pt x="0" y="356"/>
                  </a:lnTo>
                  <a:lnTo>
                    <a:pt x="0" y="360"/>
                  </a:lnTo>
                  <a:lnTo>
                    <a:pt x="0" y="356"/>
                  </a:lnTo>
                  <a:lnTo>
                    <a:pt x="0" y="356"/>
                  </a:lnTo>
                  <a:lnTo>
                    <a:pt x="0" y="360"/>
                  </a:lnTo>
                  <a:lnTo>
                    <a:pt x="13" y="356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77120" y="614052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86480" y="6148440"/>
              <a:ext cx="7920" cy="176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377120" y="6157800"/>
              <a:ext cx="17280" cy="176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10"/>
                  </a:moveTo>
                  <a:lnTo>
                    <a:pt x="26" y="10"/>
                  </a:lnTo>
                  <a:lnTo>
                    <a:pt x="26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367400" y="6166080"/>
              <a:ext cx="27000" cy="2520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14" y="10"/>
                  </a:moveTo>
                  <a:lnTo>
                    <a:pt x="27" y="14"/>
                  </a:lnTo>
                  <a:lnTo>
                    <a:pt x="40" y="5"/>
                  </a:lnTo>
                  <a:lnTo>
                    <a:pt x="14" y="0"/>
                  </a:lnTo>
                  <a:lnTo>
                    <a:pt x="0" y="10"/>
                  </a:lnTo>
                  <a:lnTo>
                    <a:pt x="14" y="1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4" y="14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377120" y="6184800"/>
              <a:ext cx="9360" cy="648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377120" y="6184800"/>
              <a:ext cx="17280" cy="1620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386480" y="6184800"/>
              <a:ext cx="17640" cy="1620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4"/>
                  </a:lnTo>
                  <a:lnTo>
                    <a:pt x="13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394400" y="6191280"/>
              <a:ext cx="17640" cy="190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404120" y="620100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404120" y="6210360"/>
              <a:ext cx="1728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412040" y="6218280"/>
              <a:ext cx="1728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412040" y="6227640"/>
              <a:ext cx="17280" cy="1620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3" y="4"/>
                  </a:moveTo>
                  <a:lnTo>
                    <a:pt x="26" y="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13" y="9"/>
                  </a:lnTo>
                  <a:lnTo>
                    <a:pt x="26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26" y="9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21400" y="6235920"/>
              <a:ext cx="1584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429320" y="6227640"/>
              <a:ext cx="7920" cy="16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437240" y="622764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448400" y="6235920"/>
              <a:ext cx="79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48400" y="6235920"/>
              <a:ext cx="1584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456320" y="6235920"/>
              <a:ext cx="7920" cy="172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456320" y="6243840"/>
              <a:ext cx="1764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464240" y="6243840"/>
              <a:ext cx="9720" cy="190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367400" y="6270840"/>
              <a:ext cx="27000" cy="7920"/>
            </a:xfrm>
            <a:custGeom>
              <a:avLst/>
              <a:gdLst/>
              <a:ahLst/>
              <a:rect l="l" t="t" r="r" b="b"/>
              <a:pathLst>
                <a:path w="40" h="4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0" y="0"/>
                  </a:lnTo>
                  <a:lnTo>
                    <a:pt x="1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340400" y="6262920"/>
              <a:ext cx="97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359480" y="6262920"/>
              <a:ext cx="77760" cy="792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50120" y="6253200"/>
              <a:ext cx="114120" cy="9720"/>
            </a:xfrm>
            <a:custGeom>
              <a:avLst/>
              <a:gdLst/>
              <a:ahLst/>
              <a:rect l="l" t="t" r="r" b="b"/>
              <a:pathLst>
                <a:path w="171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1" y="0"/>
                  </a:lnTo>
                  <a:lnTo>
                    <a:pt x="14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50120" y="6235920"/>
              <a:ext cx="106200" cy="7920"/>
            </a:xfrm>
            <a:custGeom>
              <a:avLst/>
              <a:gdLst/>
              <a:ahLst/>
              <a:rect l="l" t="t" r="r" b="b"/>
              <a:pathLst>
                <a:path w="158" h="5">
                  <a:moveTo>
                    <a:pt x="0" y="5"/>
                  </a:moveTo>
                  <a:lnTo>
                    <a:pt x="0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350120" y="6218280"/>
              <a:ext cx="71280" cy="9360"/>
            </a:xfrm>
            <a:custGeom>
              <a:avLst/>
              <a:gdLst/>
              <a:ahLst/>
              <a:rect l="l" t="t" r="r" b="b"/>
              <a:pathLst>
                <a:path w="105" h="5">
                  <a:moveTo>
                    <a:pt x="0" y="5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359480" y="6201000"/>
              <a:ext cx="52560" cy="9360"/>
            </a:xfrm>
            <a:custGeom>
              <a:avLst/>
              <a:gdLst/>
              <a:ahLst/>
              <a:rect l="l" t="t" r="r" b="b"/>
              <a:pathLst>
                <a:path w="79" h="5">
                  <a:moveTo>
                    <a:pt x="0" y="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359480" y="6191280"/>
              <a:ext cx="34920" cy="972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5"/>
                  </a:moveTo>
                  <a:lnTo>
                    <a:pt x="1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377120" y="614052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4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386480" y="6148440"/>
              <a:ext cx="17640" cy="176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10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377120" y="6157800"/>
              <a:ext cx="27000" cy="1764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26" y="10"/>
                  </a:moveTo>
                  <a:lnTo>
                    <a:pt x="26" y="10"/>
                  </a:lnTo>
                  <a:lnTo>
                    <a:pt x="39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367400" y="6175440"/>
              <a:ext cx="27000" cy="1584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27" y="5"/>
                  </a:moveTo>
                  <a:lnTo>
                    <a:pt x="27" y="9"/>
                  </a:lnTo>
                  <a:lnTo>
                    <a:pt x="4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4" y="9"/>
                  </a:lnTo>
                  <a:lnTo>
                    <a:pt x="14" y="5"/>
                  </a:lnTo>
                  <a:lnTo>
                    <a:pt x="0" y="9"/>
                  </a:lnTo>
                  <a:lnTo>
                    <a:pt x="14" y="9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377120" y="6184800"/>
              <a:ext cx="9360" cy="16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386480" y="6184800"/>
              <a:ext cx="7920" cy="162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3" y="4"/>
                  </a:lnTo>
                  <a:lnTo>
                    <a:pt x="0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386480" y="6191280"/>
              <a:ext cx="17640" cy="97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394400" y="6191280"/>
              <a:ext cx="17640" cy="190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04120" y="6201000"/>
              <a:ext cx="1728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04120" y="6210360"/>
              <a:ext cx="1728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412040" y="6218280"/>
              <a:ext cx="1728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5"/>
                  </a:moveTo>
                  <a:lnTo>
                    <a:pt x="26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421400" y="6227640"/>
              <a:ext cx="15840" cy="1620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3" y="4"/>
                  </a:moveTo>
                  <a:lnTo>
                    <a:pt x="26" y="4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3" y="9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437240" y="622764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14" y="9"/>
                  </a:lnTo>
                  <a:lnTo>
                    <a:pt x="0" y="9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437240" y="6227640"/>
              <a:ext cx="11160" cy="162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4"/>
                  </a:lnTo>
                  <a:lnTo>
                    <a:pt x="14" y="0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448400" y="6235920"/>
              <a:ext cx="79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3" y="0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448400" y="6235920"/>
              <a:ext cx="1584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0"/>
                  </a:moveTo>
                  <a:lnTo>
                    <a:pt x="26" y="0"/>
                  </a:lnTo>
                  <a:lnTo>
                    <a:pt x="13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456320" y="6235920"/>
              <a:ext cx="17640" cy="172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5"/>
                  </a:moveTo>
                  <a:lnTo>
                    <a:pt x="13" y="5"/>
                  </a:lnTo>
                  <a:lnTo>
                    <a:pt x="13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456320" y="6243840"/>
              <a:ext cx="1764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6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456320" y="6243840"/>
              <a:ext cx="25560" cy="19080"/>
            </a:xfrm>
            <a:custGeom>
              <a:avLst/>
              <a:gdLst/>
              <a:ahLst/>
              <a:rect l="l" t="t" r="r" b="b"/>
              <a:pathLst>
                <a:path w="39" h="10">
                  <a:moveTo>
                    <a:pt x="26" y="10"/>
                  </a:moveTo>
                  <a:lnTo>
                    <a:pt x="26" y="5"/>
                  </a:lnTo>
                  <a:lnTo>
                    <a:pt x="26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26" y="5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50120" y="6243840"/>
              <a:ext cx="123840" cy="44280"/>
            </a:xfrm>
            <a:custGeom>
              <a:avLst/>
              <a:gdLst/>
              <a:ahLst/>
              <a:rect l="l" t="t" r="r" b="b"/>
              <a:pathLst>
                <a:path w="184" h="24">
                  <a:moveTo>
                    <a:pt x="13" y="19"/>
                  </a:moveTo>
                  <a:lnTo>
                    <a:pt x="26" y="24"/>
                  </a:lnTo>
                  <a:lnTo>
                    <a:pt x="184" y="10"/>
                  </a:lnTo>
                  <a:lnTo>
                    <a:pt x="171" y="0"/>
                  </a:lnTo>
                  <a:lnTo>
                    <a:pt x="13" y="15"/>
                  </a:lnTo>
                  <a:lnTo>
                    <a:pt x="26" y="24"/>
                  </a:lnTo>
                  <a:lnTo>
                    <a:pt x="13" y="19"/>
                  </a:lnTo>
                  <a:lnTo>
                    <a:pt x="0" y="24"/>
                  </a:lnTo>
                  <a:lnTo>
                    <a:pt x="26" y="24"/>
                  </a:lnTo>
                  <a:lnTo>
                    <a:pt x="13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359480" y="6270840"/>
              <a:ext cx="17640" cy="1728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3" y="9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59480" y="6262920"/>
              <a:ext cx="17640" cy="15840"/>
            </a:xfrm>
            <a:custGeom>
              <a:avLst/>
              <a:gdLst/>
              <a:ahLst/>
              <a:rect l="l" t="t" r="r" b="b"/>
              <a:pathLst>
                <a:path w="27" h="9">
                  <a:moveTo>
                    <a:pt x="13" y="9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3" y="0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359480" y="6262920"/>
              <a:ext cx="7920" cy="1584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9"/>
                  </a:moveTo>
                  <a:lnTo>
                    <a:pt x="13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340400" y="6270840"/>
              <a:ext cx="27000" cy="2520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4"/>
                  </a:moveTo>
                  <a:lnTo>
                    <a:pt x="26" y="9"/>
                  </a:lnTo>
                  <a:lnTo>
                    <a:pt x="39" y="4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26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40400" y="6262920"/>
              <a:ext cx="27000" cy="1584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13" y="5"/>
                  </a:moveTo>
                  <a:lnTo>
                    <a:pt x="13" y="0"/>
                  </a:lnTo>
                  <a:lnTo>
                    <a:pt x="0" y="9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350120" y="6253200"/>
              <a:ext cx="17280" cy="176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1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0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350120" y="6253200"/>
              <a:ext cx="9360" cy="176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0" y="10"/>
                  </a:moveTo>
                  <a:lnTo>
                    <a:pt x="0" y="10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323120" y="6253200"/>
              <a:ext cx="27000" cy="349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13" y="5"/>
                  </a:moveTo>
                  <a:lnTo>
                    <a:pt x="26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39" y="10"/>
                  </a:lnTo>
                  <a:lnTo>
                    <a:pt x="13" y="5"/>
                  </a:lnTo>
                  <a:lnTo>
                    <a:pt x="0" y="19"/>
                  </a:lnTo>
                  <a:lnTo>
                    <a:pt x="26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332480" y="6253200"/>
              <a:ext cx="17640" cy="1764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0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340400" y="6243840"/>
              <a:ext cx="19080" cy="190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13" y="1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13" y="0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40400" y="6243840"/>
              <a:ext cx="9720" cy="190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3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323120" y="6243840"/>
              <a:ext cx="27000" cy="2700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13" y="5"/>
                  </a:moveTo>
                  <a:lnTo>
                    <a:pt x="26" y="10"/>
                  </a:lnTo>
                  <a:lnTo>
                    <a:pt x="39" y="10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39" y="10"/>
                  </a:lnTo>
                  <a:lnTo>
                    <a:pt x="13" y="5"/>
                  </a:lnTo>
                  <a:lnTo>
                    <a:pt x="0" y="15"/>
                  </a:lnTo>
                  <a:lnTo>
                    <a:pt x="26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332480" y="6132600"/>
              <a:ext cx="61920" cy="1303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79" y="5"/>
                  </a:moveTo>
                  <a:lnTo>
                    <a:pt x="66" y="5"/>
                  </a:lnTo>
                  <a:lnTo>
                    <a:pt x="0" y="67"/>
                  </a:lnTo>
                  <a:lnTo>
                    <a:pt x="26" y="72"/>
                  </a:lnTo>
                  <a:lnTo>
                    <a:pt x="92" y="5"/>
                  </a:lnTo>
                  <a:lnTo>
                    <a:pt x="66" y="9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66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905600" y="5784840"/>
              <a:ext cx="34920" cy="97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0" y="0"/>
                  </a:moveTo>
                  <a:lnTo>
                    <a:pt x="13" y="0"/>
                  </a:lnTo>
                  <a:lnTo>
                    <a:pt x="5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889760" y="5757840"/>
              <a:ext cx="104760" cy="4284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26" y="15"/>
                  </a:moveTo>
                  <a:lnTo>
                    <a:pt x="0" y="0"/>
                  </a:lnTo>
                  <a:lnTo>
                    <a:pt x="157" y="20"/>
                  </a:lnTo>
                  <a:lnTo>
                    <a:pt x="144" y="24"/>
                  </a:lnTo>
                  <a:lnTo>
                    <a:pt x="78" y="2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862760" y="5742000"/>
              <a:ext cx="141480" cy="52560"/>
            </a:xfrm>
            <a:custGeom>
              <a:avLst/>
              <a:gdLst/>
              <a:ahLst/>
              <a:rect l="l" t="t" r="r" b="b"/>
              <a:pathLst>
                <a:path w="210" h="29">
                  <a:moveTo>
                    <a:pt x="40" y="9"/>
                  </a:moveTo>
                  <a:lnTo>
                    <a:pt x="0" y="0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4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835760" y="5722920"/>
              <a:ext cx="176400" cy="61920"/>
            </a:xfrm>
            <a:custGeom>
              <a:avLst/>
              <a:gdLst/>
              <a:ahLst/>
              <a:rect l="l" t="t" r="r" b="b"/>
              <a:pathLst>
                <a:path w="262" h="34">
                  <a:moveTo>
                    <a:pt x="39" y="10"/>
                  </a:moveTo>
                  <a:lnTo>
                    <a:pt x="0" y="0"/>
                  </a:lnTo>
                  <a:lnTo>
                    <a:pt x="262" y="29"/>
                  </a:lnTo>
                  <a:lnTo>
                    <a:pt x="249" y="34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18480" y="5707080"/>
              <a:ext cx="210960" cy="68400"/>
            </a:xfrm>
            <a:custGeom>
              <a:avLst/>
              <a:gdLst/>
              <a:ahLst/>
              <a:rect l="l" t="t" r="r" b="b"/>
              <a:pathLst>
                <a:path w="314" h="38">
                  <a:moveTo>
                    <a:pt x="26" y="9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14" y="33"/>
                  </a:lnTo>
                  <a:lnTo>
                    <a:pt x="288" y="38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818480" y="5688000"/>
              <a:ext cx="220680" cy="77760"/>
            </a:xfrm>
            <a:custGeom>
              <a:avLst/>
              <a:gdLst/>
              <a:ahLst/>
              <a:rect l="l" t="t" r="r" b="b"/>
              <a:pathLst>
                <a:path w="328" h="43">
                  <a:moveTo>
                    <a:pt x="0" y="10"/>
                  </a:moveTo>
                  <a:lnTo>
                    <a:pt x="0" y="0"/>
                  </a:lnTo>
                  <a:lnTo>
                    <a:pt x="328" y="38"/>
                  </a:lnTo>
                  <a:lnTo>
                    <a:pt x="314" y="4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808760" y="5670720"/>
              <a:ext cx="238320" cy="87120"/>
            </a:xfrm>
            <a:custGeom>
              <a:avLst/>
              <a:gdLst/>
              <a:ahLst/>
              <a:rect l="l" t="t" r="r" b="b"/>
              <a:pathLst>
                <a:path w="355" h="48">
                  <a:moveTo>
                    <a:pt x="14" y="10"/>
                  </a:moveTo>
                  <a:lnTo>
                    <a:pt x="0" y="0"/>
                  </a:lnTo>
                  <a:lnTo>
                    <a:pt x="355" y="44"/>
                  </a:lnTo>
                  <a:lnTo>
                    <a:pt x="342" y="48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808760" y="5664240"/>
              <a:ext cx="247680" cy="85680"/>
            </a:xfrm>
            <a:custGeom>
              <a:avLst/>
              <a:gdLst/>
              <a:ahLst/>
              <a:rect l="l" t="t" r="r" b="b"/>
              <a:pathLst>
                <a:path w="368" h="48">
                  <a:moveTo>
                    <a:pt x="0" y="4"/>
                  </a:moveTo>
                  <a:lnTo>
                    <a:pt x="0" y="0"/>
                  </a:lnTo>
                  <a:lnTo>
                    <a:pt x="368" y="38"/>
                  </a:lnTo>
                  <a:lnTo>
                    <a:pt x="355" y="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7799400" y="5645160"/>
              <a:ext cx="264960" cy="87480"/>
            </a:xfrm>
            <a:custGeom>
              <a:avLst/>
              <a:gdLst/>
              <a:ahLst/>
              <a:rect l="l" t="t" r="r" b="b"/>
              <a:pathLst>
                <a:path w="394" h="48">
                  <a:moveTo>
                    <a:pt x="13" y="10"/>
                  </a:moveTo>
                  <a:lnTo>
                    <a:pt x="0" y="0"/>
                  </a:lnTo>
                  <a:lnTo>
                    <a:pt x="394" y="43"/>
                  </a:lnTo>
                  <a:lnTo>
                    <a:pt x="381" y="48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799400" y="5635800"/>
              <a:ext cx="282600" cy="87120"/>
            </a:xfrm>
            <a:custGeom>
              <a:avLst/>
              <a:gdLst/>
              <a:ahLst/>
              <a:rect l="l" t="t" r="r" b="b"/>
              <a:pathLst>
                <a:path w="420" h="48">
                  <a:moveTo>
                    <a:pt x="0" y="5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420" y="43"/>
                  </a:lnTo>
                  <a:lnTo>
                    <a:pt x="394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808760" y="5627880"/>
              <a:ext cx="282600" cy="85680"/>
            </a:xfrm>
            <a:custGeom>
              <a:avLst/>
              <a:gdLst/>
              <a:ahLst/>
              <a:rect l="l" t="t" r="r" b="b"/>
              <a:pathLst>
                <a:path w="420" h="48">
                  <a:moveTo>
                    <a:pt x="0" y="5"/>
                  </a:moveTo>
                  <a:lnTo>
                    <a:pt x="14" y="0"/>
                  </a:lnTo>
                  <a:lnTo>
                    <a:pt x="420" y="44"/>
                  </a:lnTo>
                  <a:lnTo>
                    <a:pt x="407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18480" y="5610240"/>
              <a:ext cx="282600" cy="96840"/>
            </a:xfrm>
            <a:custGeom>
              <a:avLst/>
              <a:gdLst/>
              <a:ahLst/>
              <a:rect l="l" t="t" r="r" b="b"/>
              <a:pathLst>
                <a:path w="419" h="53">
                  <a:moveTo>
                    <a:pt x="0" y="9"/>
                  </a:moveTo>
                  <a:lnTo>
                    <a:pt x="13" y="0"/>
                  </a:lnTo>
                  <a:lnTo>
                    <a:pt x="419" y="48"/>
                  </a:lnTo>
                  <a:lnTo>
                    <a:pt x="406" y="5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827840" y="5602320"/>
              <a:ext cx="290520" cy="95400"/>
            </a:xfrm>
            <a:custGeom>
              <a:avLst/>
              <a:gdLst/>
              <a:ahLst/>
              <a:rect l="l" t="t" r="r" b="b"/>
              <a:pathLst>
                <a:path w="433" h="53">
                  <a:moveTo>
                    <a:pt x="0" y="5"/>
                  </a:moveTo>
                  <a:lnTo>
                    <a:pt x="13" y="0"/>
                  </a:lnTo>
                  <a:lnTo>
                    <a:pt x="433" y="48"/>
                  </a:lnTo>
                  <a:lnTo>
                    <a:pt x="406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835760" y="5592960"/>
              <a:ext cx="282600" cy="95040"/>
            </a:xfrm>
            <a:custGeom>
              <a:avLst/>
              <a:gdLst/>
              <a:ahLst/>
              <a:rect l="l" t="t" r="r" b="b"/>
              <a:pathLst>
                <a:path w="420" h="53">
                  <a:moveTo>
                    <a:pt x="0" y="5"/>
                  </a:moveTo>
                  <a:lnTo>
                    <a:pt x="0" y="0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48"/>
                  </a:lnTo>
                  <a:lnTo>
                    <a:pt x="420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835760" y="5583240"/>
              <a:ext cx="292320" cy="96840"/>
            </a:xfrm>
            <a:custGeom>
              <a:avLst/>
              <a:gdLst/>
              <a:ahLst/>
              <a:rect l="l" t="t" r="r" b="b"/>
              <a:pathLst>
                <a:path w="433" h="53">
                  <a:moveTo>
                    <a:pt x="0" y="5"/>
                  </a:moveTo>
                  <a:lnTo>
                    <a:pt x="26" y="0"/>
                  </a:lnTo>
                  <a:lnTo>
                    <a:pt x="433" y="48"/>
                  </a:lnTo>
                  <a:lnTo>
                    <a:pt x="433" y="48"/>
                  </a:lnTo>
                  <a:lnTo>
                    <a:pt x="433" y="48"/>
                  </a:lnTo>
                  <a:lnTo>
                    <a:pt x="433" y="53"/>
                  </a:lnTo>
                  <a:lnTo>
                    <a:pt x="420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853400" y="5577120"/>
              <a:ext cx="282600" cy="93600"/>
            </a:xfrm>
            <a:custGeom>
              <a:avLst/>
              <a:gdLst/>
              <a:ahLst/>
              <a:rect l="l" t="t" r="r" b="b"/>
              <a:pathLst>
                <a:path w="420" h="52">
                  <a:moveTo>
                    <a:pt x="0" y="4"/>
                  </a:moveTo>
                  <a:lnTo>
                    <a:pt x="13" y="0"/>
                  </a:lnTo>
                  <a:lnTo>
                    <a:pt x="420" y="43"/>
                  </a:lnTo>
                  <a:lnTo>
                    <a:pt x="420" y="48"/>
                  </a:lnTo>
                  <a:lnTo>
                    <a:pt x="407" y="48"/>
                  </a:lnTo>
                  <a:lnTo>
                    <a:pt x="407" y="48"/>
                  </a:lnTo>
                  <a:lnTo>
                    <a:pt x="407" y="5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862760" y="5558040"/>
              <a:ext cx="273240" cy="96840"/>
            </a:xfrm>
            <a:custGeom>
              <a:avLst/>
              <a:gdLst/>
              <a:ahLst/>
              <a:rect l="l" t="t" r="r" b="b"/>
              <a:pathLst>
                <a:path w="407" h="53">
                  <a:moveTo>
                    <a:pt x="0" y="10"/>
                  </a:moveTo>
                  <a:lnTo>
                    <a:pt x="13" y="0"/>
                  </a:lnTo>
                  <a:lnTo>
                    <a:pt x="407" y="48"/>
                  </a:lnTo>
                  <a:lnTo>
                    <a:pt x="407" y="48"/>
                  </a:lnTo>
                  <a:lnTo>
                    <a:pt x="407" y="53"/>
                  </a:lnTo>
                  <a:lnTo>
                    <a:pt x="407" y="53"/>
                  </a:lnTo>
                  <a:lnTo>
                    <a:pt x="407" y="5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870680" y="5550120"/>
              <a:ext cx="274680" cy="95040"/>
            </a:xfrm>
            <a:custGeom>
              <a:avLst/>
              <a:gdLst/>
              <a:ahLst/>
              <a:rect l="l" t="t" r="r" b="b"/>
              <a:pathLst>
                <a:path w="407" h="53">
                  <a:moveTo>
                    <a:pt x="0" y="5"/>
                  </a:moveTo>
                  <a:lnTo>
                    <a:pt x="13" y="0"/>
                  </a:lnTo>
                  <a:lnTo>
                    <a:pt x="407" y="43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5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878600" y="5540400"/>
              <a:ext cx="266760" cy="87480"/>
            </a:xfrm>
            <a:custGeom>
              <a:avLst/>
              <a:gdLst/>
              <a:ahLst/>
              <a:rect l="l" t="t" r="r" b="b"/>
              <a:pathLst>
                <a:path w="394" h="48">
                  <a:moveTo>
                    <a:pt x="0" y="5"/>
                  </a:moveTo>
                  <a:lnTo>
                    <a:pt x="14" y="0"/>
                  </a:lnTo>
                  <a:lnTo>
                    <a:pt x="394" y="44"/>
                  </a:lnTo>
                  <a:lnTo>
                    <a:pt x="394" y="44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394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889760" y="5532480"/>
              <a:ext cx="255600" cy="87480"/>
            </a:xfrm>
            <a:custGeom>
              <a:avLst/>
              <a:gdLst/>
              <a:ahLst/>
              <a:rect l="l" t="t" r="r" b="b"/>
              <a:pathLst>
                <a:path w="380" h="48">
                  <a:moveTo>
                    <a:pt x="0" y="4"/>
                  </a:moveTo>
                  <a:lnTo>
                    <a:pt x="13" y="0"/>
                  </a:lnTo>
                  <a:lnTo>
                    <a:pt x="380" y="43"/>
                  </a:lnTo>
                  <a:lnTo>
                    <a:pt x="380" y="43"/>
                  </a:lnTo>
                  <a:lnTo>
                    <a:pt x="380" y="43"/>
                  </a:lnTo>
                  <a:lnTo>
                    <a:pt x="380" y="48"/>
                  </a:lnTo>
                  <a:lnTo>
                    <a:pt x="380" y="4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897680" y="5524560"/>
              <a:ext cx="247680" cy="85680"/>
            </a:xfrm>
            <a:custGeom>
              <a:avLst/>
              <a:gdLst/>
              <a:ahLst/>
              <a:rect l="l" t="t" r="r" b="b"/>
              <a:pathLst>
                <a:path w="367" h="48">
                  <a:moveTo>
                    <a:pt x="0" y="5"/>
                  </a:moveTo>
                  <a:lnTo>
                    <a:pt x="13" y="0"/>
                  </a:lnTo>
                  <a:lnTo>
                    <a:pt x="367" y="38"/>
                  </a:lnTo>
                  <a:lnTo>
                    <a:pt x="367" y="43"/>
                  </a:lnTo>
                  <a:lnTo>
                    <a:pt x="367" y="43"/>
                  </a:lnTo>
                  <a:lnTo>
                    <a:pt x="367" y="43"/>
                  </a:lnTo>
                  <a:lnTo>
                    <a:pt x="367" y="4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905600" y="5515200"/>
              <a:ext cx="239760" cy="77760"/>
            </a:xfrm>
            <a:custGeom>
              <a:avLst/>
              <a:gdLst/>
              <a:ahLst/>
              <a:rect l="l" t="t" r="r" b="b"/>
              <a:pathLst>
                <a:path w="354" h="43">
                  <a:moveTo>
                    <a:pt x="0" y="5"/>
                  </a:moveTo>
                  <a:lnTo>
                    <a:pt x="13" y="0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4" y="38"/>
                  </a:lnTo>
                  <a:lnTo>
                    <a:pt x="354" y="43"/>
                  </a:lnTo>
                  <a:lnTo>
                    <a:pt x="354" y="4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915320" y="5497560"/>
              <a:ext cx="230040" cy="85680"/>
            </a:xfrm>
            <a:custGeom>
              <a:avLst/>
              <a:gdLst/>
              <a:ahLst/>
              <a:rect l="l" t="t" r="r" b="b"/>
              <a:pathLst>
                <a:path w="341" h="48">
                  <a:moveTo>
                    <a:pt x="0" y="1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341" y="39"/>
                  </a:lnTo>
                  <a:lnTo>
                    <a:pt x="341" y="39"/>
                  </a:lnTo>
                  <a:lnTo>
                    <a:pt x="341" y="44"/>
                  </a:lnTo>
                  <a:lnTo>
                    <a:pt x="341" y="44"/>
                  </a:lnTo>
                  <a:lnTo>
                    <a:pt x="341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923240" y="5489640"/>
              <a:ext cx="222120" cy="77760"/>
            </a:xfrm>
            <a:custGeom>
              <a:avLst/>
              <a:gdLst/>
              <a:ahLst/>
              <a:rect l="l" t="t" r="r" b="b"/>
              <a:pathLst>
                <a:path w="328" h="43">
                  <a:moveTo>
                    <a:pt x="0" y="4"/>
                  </a:moveTo>
                  <a:lnTo>
                    <a:pt x="0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315" y="33"/>
                  </a:lnTo>
                  <a:lnTo>
                    <a:pt x="315" y="38"/>
                  </a:lnTo>
                  <a:lnTo>
                    <a:pt x="315" y="38"/>
                  </a:lnTo>
                  <a:lnTo>
                    <a:pt x="315" y="43"/>
                  </a:lnTo>
                  <a:lnTo>
                    <a:pt x="328" y="4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932600" y="5480280"/>
              <a:ext cx="203400" cy="69840"/>
            </a:xfrm>
            <a:custGeom>
              <a:avLst/>
              <a:gdLst/>
              <a:ahLst/>
              <a:rect l="l" t="t" r="r" b="b"/>
              <a:pathLst>
                <a:path w="302" h="38">
                  <a:moveTo>
                    <a:pt x="0" y="5"/>
                  </a:moveTo>
                  <a:lnTo>
                    <a:pt x="13" y="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89" y="33"/>
                  </a:lnTo>
                  <a:lnTo>
                    <a:pt x="289" y="33"/>
                  </a:lnTo>
                  <a:lnTo>
                    <a:pt x="302" y="33"/>
                  </a:lnTo>
                  <a:lnTo>
                    <a:pt x="302" y="38"/>
                  </a:lnTo>
                  <a:lnTo>
                    <a:pt x="302" y="3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950240" y="5480280"/>
              <a:ext cx="177840" cy="6012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250" y="24"/>
                  </a:lnTo>
                  <a:lnTo>
                    <a:pt x="250" y="24"/>
                  </a:lnTo>
                  <a:lnTo>
                    <a:pt x="263" y="29"/>
                  </a:lnTo>
                  <a:lnTo>
                    <a:pt x="263" y="29"/>
                  </a:lnTo>
                  <a:lnTo>
                    <a:pt x="263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977240" y="5472000"/>
              <a:ext cx="141120" cy="52560"/>
            </a:xfrm>
            <a:custGeom>
              <a:avLst/>
              <a:gdLst/>
              <a:ahLst/>
              <a:rect l="l" t="t" r="r" b="b"/>
              <a:pathLst>
                <a:path w="210" h="29">
                  <a:moveTo>
                    <a:pt x="0" y="5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183" y="14"/>
                  </a:lnTo>
                  <a:lnTo>
                    <a:pt x="183" y="19"/>
                  </a:lnTo>
                  <a:lnTo>
                    <a:pt x="197" y="24"/>
                  </a:lnTo>
                  <a:lnTo>
                    <a:pt x="210" y="24"/>
                  </a:lnTo>
                  <a:lnTo>
                    <a:pt x="210" y="2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004240" y="5472000"/>
              <a:ext cx="96840" cy="25560"/>
            </a:xfrm>
            <a:custGeom>
              <a:avLst/>
              <a:gdLst/>
              <a:ahLst/>
              <a:rect l="l" t="t" r="r" b="b"/>
              <a:pathLst>
                <a:path w="144" h="14">
                  <a:moveTo>
                    <a:pt x="0" y="0"/>
                  </a:moveTo>
                  <a:lnTo>
                    <a:pt x="13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105" y="10"/>
                  </a:lnTo>
                  <a:lnTo>
                    <a:pt x="131" y="14"/>
                  </a:lnTo>
                  <a:lnTo>
                    <a:pt x="1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464240" y="6243840"/>
              <a:ext cx="17640" cy="936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429320" y="6227640"/>
              <a:ext cx="61920" cy="16200"/>
            </a:xfrm>
            <a:custGeom>
              <a:avLst/>
              <a:gdLst/>
              <a:ahLst/>
              <a:rect l="l" t="t" r="r" b="b"/>
              <a:pathLst>
                <a:path w="92" h="9">
                  <a:moveTo>
                    <a:pt x="53" y="9"/>
                  </a:moveTo>
                  <a:lnTo>
                    <a:pt x="40" y="9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0" y="4"/>
                  </a:lnTo>
                  <a:lnTo>
                    <a:pt x="13" y="0"/>
                  </a:lnTo>
                  <a:lnTo>
                    <a:pt x="92" y="4"/>
                  </a:lnTo>
                  <a:lnTo>
                    <a:pt x="79" y="9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437240" y="6218280"/>
              <a:ext cx="71640" cy="1764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14" y="0"/>
                  </a:lnTo>
                  <a:lnTo>
                    <a:pt x="105" y="5"/>
                  </a:lnTo>
                  <a:lnTo>
                    <a:pt x="79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448400" y="6210360"/>
              <a:ext cx="69840" cy="17280"/>
            </a:xfrm>
            <a:custGeom>
              <a:avLst/>
              <a:gdLst/>
              <a:ahLst/>
              <a:rect l="l" t="t" r="r" b="b"/>
              <a:pathLst>
                <a:path w="104" h="10">
                  <a:moveTo>
                    <a:pt x="0" y="5"/>
                  </a:moveTo>
                  <a:lnTo>
                    <a:pt x="26" y="0"/>
                  </a:lnTo>
                  <a:lnTo>
                    <a:pt x="104" y="0"/>
                  </a:lnTo>
                  <a:lnTo>
                    <a:pt x="91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464240" y="6191280"/>
              <a:ext cx="63720" cy="19080"/>
            </a:xfrm>
            <a:custGeom>
              <a:avLst/>
              <a:gdLst/>
              <a:ahLst/>
              <a:rect l="l" t="t" r="r" b="b"/>
              <a:pathLst>
                <a:path w="92" h="10">
                  <a:moveTo>
                    <a:pt x="0" y="10"/>
                  </a:moveTo>
                  <a:lnTo>
                    <a:pt x="13" y="0"/>
                  </a:lnTo>
                  <a:lnTo>
                    <a:pt x="92" y="5"/>
                  </a:lnTo>
                  <a:lnTo>
                    <a:pt x="78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473960" y="6184800"/>
              <a:ext cx="71280" cy="1620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4"/>
                  </a:moveTo>
                  <a:lnTo>
                    <a:pt x="26" y="0"/>
                  </a:lnTo>
                  <a:lnTo>
                    <a:pt x="105" y="0"/>
                  </a:lnTo>
                  <a:lnTo>
                    <a:pt x="79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491240" y="6175440"/>
              <a:ext cx="71640" cy="9360"/>
            </a:xfrm>
            <a:custGeom>
              <a:avLst/>
              <a:gdLst/>
              <a:ahLst/>
              <a:rect l="l" t="t" r="r" b="b"/>
              <a:pathLst>
                <a:path w="105" h="5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79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499160" y="6157800"/>
              <a:ext cx="71640" cy="1764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10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508880" y="6148440"/>
              <a:ext cx="69840" cy="1764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27" y="0"/>
                  </a:lnTo>
                  <a:lnTo>
                    <a:pt x="105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527960" y="6140520"/>
              <a:ext cx="69840" cy="7920"/>
            </a:xfrm>
            <a:custGeom>
              <a:avLst/>
              <a:gdLst/>
              <a:ahLst/>
              <a:rect l="l" t="t" r="r" b="b"/>
              <a:pathLst>
                <a:path w="105" h="4">
                  <a:moveTo>
                    <a:pt x="0" y="4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78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535880" y="6122880"/>
              <a:ext cx="79200" cy="176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553160" y="6113520"/>
              <a:ext cx="69840" cy="1908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562880" y="6105600"/>
              <a:ext cx="77760" cy="792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26" y="0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578720" y="6087960"/>
              <a:ext cx="71280" cy="1764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9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88080" y="6080040"/>
              <a:ext cx="81000" cy="17640"/>
            </a:xfrm>
            <a:custGeom>
              <a:avLst/>
              <a:gdLst/>
              <a:ahLst/>
              <a:rect l="l" t="t" r="r" b="b"/>
              <a:pathLst>
                <a:path w="119" h="10">
                  <a:moveTo>
                    <a:pt x="0" y="5"/>
                  </a:moveTo>
                  <a:lnTo>
                    <a:pt x="27" y="0"/>
                  </a:lnTo>
                  <a:lnTo>
                    <a:pt x="119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605720" y="6060960"/>
              <a:ext cx="71280" cy="1908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10"/>
                  </a:moveTo>
                  <a:lnTo>
                    <a:pt x="13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615080" y="6054840"/>
              <a:ext cx="79560" cy="1584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26" y="0"/>
                  </a:lnTo>
                  <a:lnTo>
                    <a:pt x="118" y="4"/>
                  </a:lnTo>
                  <a:lnTo>
                    <a:pt x="92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632720" y="6045120"/>
              <a:ext cx="71280" cy="1584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13" y="0"/>
                  </a:lnTo>
                  <a:lnTo>
                    <a:pt x="105" y="0"/>
                  </a:lnTo>
                  <a:lnTo>
                    <a:pt x="9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640640" y="6027840"/>
              <a:ext cx="8100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9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657920" y="6018120"/>
              <a:ext cx="71640" cy="17640"/>
            </a:xfrm>
            <a:custGeom>
              <a:avLst/>
              <a:gdLst/>
              <a:ahLst/>
              <a:rect l="l" t="t" r="r" b="b"/>
              <a:pathLst>
                <a:path w="105" h="10">
                  <a:moveTo>
                    <a:pt x="0" y="5"/>
                  </a:moveTo>
                  <a:lnTo>
                    <a:pt x="14" y="0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669080" y="6010200"/>
              <a:ext cx="77760" cy="1764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1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677000" y="5992920"/>
              <a:ext cx="7956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26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694640" y="5983200"/>
              <a:ext cx="79200" cy="190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704000" y="5975280"/>
              <a:ext cx="77760" cy="7920"/>
            </a:xfrm>
            <a:custGeom>
              <a:avLst/>
              <a:gdLst/>
              <a:ahLst/>
              <a:rect l="l" t="t" r="r" b="b"/>
              <a:pathLst>
                <a:path w="118" h="5">
                  <a:moveTo>
                    <a:pt x="0" y="5"/>
                  </a:moveTo>
                  <a:lnTo>
                    <a:pt x="26" y="0"/>
                  </a:lnTo>
                  <a:lnTo>
                    <a:pt x="118" y="0"/>
                  </a:lnTo>
                  <a:lnTo>
                    <a:pt x="105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721640" y="5958000"/>
              <a:ext cx="77760" cy="1728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9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9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729560" y="5950080"/>
              <a:ext cx="7920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27" y="0"/>
                  </a:lnTo>
                  <a:lnTo>
                    <a:pt x="118" y="0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746840" y="5931000"/>
              <a:ext cx="81000" cy="190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9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756560" y="5924520"/>
              <a:ext cx="79200" cy="1584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4"/>
                  </a:moveTo>
                  <a:lnTo>
                    <a:pt x="26" y="0"/>
                  </a:lnTo>
                  <a:lnTo>
                    <a:pt x="118" y="4"/>
                  </a:lnTo>
                  <a:lnTo>
                    <a:pt x="10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73840" y="5915160"/>
              <a:ext cx="79560" cy="1584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9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81760" y="5897520"/>
              <a:ext cx="81000" cy="1764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10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791480" y="5888160"/>
              <a:ext cx="87120" cy="1728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6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808760" y="5880240"/>
              <a:ext cx="81000" cy="17280"/>
            </a:xfrm>
            <a:custGeom>
              <a:avLst/>
              <a:gdLst/>
              <a:ahLst/>
              <a:rect l="l" t="t" r="r" b="b"/>
              <a:pathLst>
                <a:path w="119" h="9">
                  <a:moveTo>
                    <a:pt x="0" y="4"/>
                  </a:moveTo>
                  <a:lnTo>
                    <a:pt x="14" y="0"/>
                  </a:lnTo>
                  <a:lnTo>
                    <a:pt x="119" y="0"/>
                  </a:lnTo>
                  <a:lnTo>
                    <a:pt x="10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818480" y="5862600"/>
              <a:ext cx="87120" cy="176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10"/>
                  </a:moveTo>
                  <a:lnTo>
                    <a:pt x="26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35760" y="5853240"/>
              <a:ext cx="79560" cy="190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845480" y="5843520"/>
              <a:ext cx="87120" cy="1908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6" y="0"/>
                  </a:lnTo>
                  <a:lnTo>
                    <a:pt x="131" y="0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862760" y="5827680"/>
              <a:ext cx="77760" cy="15840"/>
            </a:xfrm>
            <a:custGeom>
              <a:avLst/>
              <a:gdLst/>
              <a:ahLst/>
              <a:rect l="l" t="t" r="r" b="b"/>
              <a:pathLst>
                <a:path w="118" h="9">
                  <a:moveTo>
                    <a:pt x="0" y="9"/>
                  </a:moveTo>
                  <a:lnTo>
                    <a:pt x="13" y="0"/>
                  </a:lnTo>
                  <a:lnTo>
                    <a:pt x="118" y="5"/>
                  </a:lnTo>
                  <a:lnTo>
                    <a:pt x="10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870680" y="5819760"/>
              <a:ext cx="88920" cy="176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0" y="5"/>
                  </a:moveTo>
                  <a:lnTo>
                    <a:pt x="27" y="0"/>
                  </a:lnTo>
                  <a:lnTo>
                    <a:pt x="131" y="5"/>
                  </a:lnTo>
                  <a:lnTo>
                    <a:pt x="10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889760" y="5810400"/>
              <a:ext cx="79560" cy="17280"/>
            </a:xfrm>
            <a:custGeom>
              <a:avLst/>
              <a:gdLst/>
              <a:ahLst/>
              <a:rect l="l" t="t" r="r" b="b"/>
              <a:pathLst>
                <a:path w="118" h="10">
                  <a:moveTo>
                    <a:pt x="0" y="5"/>
                  </a:moveTo>
                  <a:lnTo>
                    <a:pt x="13" y="0"/>
                  </a:lnTo>
                  <a:lnTo>
                    <a:pt x="118" y="0"/>
                  </a:lnTo>
                  <a:lnTo>
                    <a:pt x="10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897680" y="5794560"/>
              <a:ext cx="88920" cy="15840"/>
            </a:xfrm>
            <a:custGeom>
              <a:avLst/>
              <a:gdLst/>
              <a:ahLst/>
              <a:rect l="l" t="t" r="r" b="b"/>
              <a:pathLst>
                <a:path w="131" h="9">
                  <a:moveTo>
                    <a:pt x="0" y="9"/>
                  </a:moveTo>
                  <a:lnTo>
                    <a:pt x="26" y="0"/>
                  </a:lnTo>
                  <a:lnTo>
                    <a:pt x="131" y="4"/>
                  </a:lnTo>
                  <a:lnTo>
                    <a:pt x="105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915320" y="5784840"/>
              <a:ext cx="71280" cy="15840"/>
            </a:xfrm>
            <a:custGeom>
              <a:avLst/>
              <a:gdLst/>
              <a:ahLst/>
              <a:rect l="l" t="t" r="r" b="b"/>
              <a:pathLst>
                <a:path w="105" h="9">
                  <a:moveTo>
                    <a:pt x="0" y="5"/>
                  </a:moveTo>
                  <a:lnTo>
                    <a:pt x="0" y="0"/>
                  </a:lnTo>
                  <a:lnTo>
                    <a:pt x="105" y="5"/>
                  </a:lnTo>
                  <a:lnTo>
                    <a:pt x="105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421400" y="6218280"/>
              <a:ext cx="27000" cy="1764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0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12040" y="6201000"/>
              <a:ext cx="52200" cy="1728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13" y="10"/>
                  </a:moveTo>
                  <a:lnTo>
                    <a:pt x="13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79" y="0"/>
                  </a:lnTo>
                  <a:lnTo>
                    <a:pt x="5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04120" y="6184800"/>
              <a:ext cx="77760" cy="25560"/>
            </a:xfrm>
            <a:custGeom>
              <a:avLst/>
              <a:gdLst/>
              <a:ahLst/>
              <a:rect l="l" t="t" r="r" b="b"/>
              <a:pathLst>
                <a:path w="118" h="14">
                  <a:moveTo>
                    <a:pt x="13" y="14"/>
                  </a:moveTo>
                  <a:lnTo>
                    <a:pt x="1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118" y="0"/>
                  </a:lnTo>
                  <a:lnTo>
                    <a:pt x="92" y="9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386480" y="6166080"/>
              <a:ext cx="112680" cy="25200"/>
            </a:xfrm>
            <a:custGeom>
              <a:avLst/>
              <a:gdLst/>
              <a:ahLst/>
              <a:rect l="l" t="t" r="r" b="b"/>
              <a:pathLst>
                <a:path w="170" h="14">
                  <a:moveTo>
                    <a:pt x="26" y="14"/>
                  </a:moveTo>
                  <a:lnTo>
                    <a:pt x="13" y="14"/>
                  </a:lnTo>
                  <a:lnTo>
                    <a:pt x="13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3" y="10"/>
                  </a:lnTo>
                  <a:lnTo>
                    <a:pt x="170" y="0"/>
                  </a:lnTo>
                  <a:lnTo>
                    <a:pt x="144" y="10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394400" y="6148440"/>
              <a:ext cx="123840" cy="3636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20"/>
                  </a:moveTo>
                  <a:lnTo>
                    <a:pt x="13" y="10"/>
                  </a:lnTo>
                  <a:lnTo>
                    <a:pt x="183" y="0"/>
                  </a:lnTo>
                  <a:lnTo>
                    <a:pt x="157" y="1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929360" y="5505480"/>
              <a:ext cx="157320" cy="7776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43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13" y="19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66" y="5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18" y="0"/>
                  </a:lnTo>
                  <a:lnTo>
                    <a:pt x="145" y="0"/>
                  </a:lnTo>
                  <a:lnTo>
                    <a:pt x="171" y="0"/>
                  </a:lnTo>
                  <a:lnTo>
                    <a:pt x="184" y="5"/>
                  </a:lnTo>
                  <a:lnTo>
                    <a:pt x="197" y="10"/>
                  </a:lnTo>
                  <a:lnTo>
                    <a:pt x="210" y="15"/>
                  </a:lnTo>
                  <a:lnTo>
                    <a:pt x="237" y="29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37" y="34"/>
                  </a:lnTo>
                  <a:lnTo>
                    <a:pt x="223" y="24"/>
                  </a:lnTo>
                  <a:lnTo>
                    <a:pt x="210" y="19"/>
                  </a:lnTo>
                  <a:lnTo>
                    <a:pt x="197" y="15"/>
                  </a:lnTo>
                  <a:lnTo>
                    <a:pt x="184" y="10"/>
                  </a:lnTo>
                  <a:lnTo>
                    <a:pt x="158" y="5"/>
                  </a:lnTo>
                  <a:lnTo>
                    <a:pt x="145" y="0"/>
                  </a:lnTo>
                  <a:lnTo>
                    <a:pt x="118" y="0"/>
                  </a:lnTo>
                  <a:lnTo>
                    <a:pt x="92" y="0"/>
                  </a:lnTo>
                  <a:lnTo>
                    <a:pt x="79" y="5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27" y="19"/>
                  </a:lnTo>
                  <a:lnTo>
                    <a:pt x="13" y="2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929360" y="5583240"/>
              <a:ext cx="157320" cy="81000"/>
            </a:xfrm>
            <a:custGeom>
              <a:avLst/>
              <a:gdLst/>
              <a:ahLst/>
              <a:rect l="l" t="t" r="r" b="b"/>
              <a:pathLst>
                <a:path w="237" h="4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27" y="24"/>
                  </a:lnTo>
                  <a:lnTo>
                    <a:pt x="27" y="29"/>
                  </a:lnTo>
                  <a:lnTo>
                    <a:pt x="40" y="34"/>
                  </a:lnTo>
                  <a:lnTo>
                    <a:pt x="53" y="34"/>
                  </a:lnTo>
                  <a:lnTo>
                    <a:pt x="66" y="39"/>
                  </a:lnTo>
                  <a:lnTo>
                    <a:pt x="92" y="44"/>
                  </a:lnTo>
                  <a:lnTo>
                    <a:pt x="105" y="44"/>
                  </a:lnTo>
                  <a:lnTo>
                    <a:pt x="132" y="44"/>
                  </a:lnTo>
                  <a:lnTo>
                    <a:pt x="158" y="44"/>
                  </a:lnTo>
                  <a:lnTo>
                    <a:pt x="171" y="39"/>
                  </a:lnTo>
                  <a:lnTo>
                    <a:pt x="197" y="34"/>
                  </a:lnTo>
                  <a:lnTo>
                    <a:pt x="210" y="29"/>
                  </a:lnTo>
                  <a:lnTo>
                    <a:pt x="237" y="15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7" y="10"/>
                  </a:lnTo>
                  <a:lnTo>
                    <a:pt x="223" y="15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184" y="34"/>
                  </a:lnTo>
                  <a:lnTo>
                    <a:pt x="158" y="39"/>
                  </a:lnTo>
                  <a:lnTo>
                    <a:pt x="145" y="39"/>
                  </a:lnTo>
                  <a:lnTo>
                    <a:pt x="118" y="44"/>
                  </a:lnTo>
                  <a:lnTo>
                    <a:pt x="92" y="39"/>
                  </a:lnTo>
                  <a:lnTo>
                    <a:pt x="79" y="39"/>
                  </a:lnTo>
                  <a:lnTo>
                    <a:pt x="53" y="34"/>
                  </a:lnTo>
                  <a:lnTo>
                    <a:pt x="40" y="29"/>
                  </a:lnTo>
                  <a:lnTo>
                    <a:pt x="27" y="24"/>
                  </a:lnTo>
                  <a:lnTo>
                    <a:pt x="13" y="15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929360" y="5505480"/>
              <a:ext cx="157320" cy="77760"/>
            </a:xfrm>
            <a:custGeom>
              <a:avLst/>
              <a:gdLst/>
              <a:ahLst/>
              <a:rect l="l" t="t" r="r" b="b"/>
              <a:pathLst>
                <a:path w="237" h="43">
                  <a:moveTo>
                    <a:pt x="0" y="43"/>
                  </a:moveTo>
                  <a:lnTo>
                    <a:pt x="0" y="34"/>
                  </a:lnTo>
                  <a:lnTo>
                    <a:pt x="13" y="24"/>
                  </a:lnTo>
                  <a:lnTo>
                    <a:pt x="27" y="19"/>
                  </a:lnTo>
                  <a:lnTo>
                    <a:pt x="40" y="15"/>
                  </a:lnTo>
                  <a:lnTo>
                    <a:pt x="53" y="10"/>
                  </a:lnTo>
                  <a:lnTo>
                    <a:pt x="79" y="5"/>
                  </a:lnTo>
                  <a:lnTo>
                    <a:pt x="92" y="0"/>
                  </a:lnTo>
                  <a:lnTo>
                    <a:pt x="118" y="0"/>
                  </a:lnTo>
                  <a:lnTo>
                    <a:pt x="145" y="0"/>
                  </a:lnTo>
                  <a:lnTo>
                    <a:pt x="158" y="5"/>
                  </a:lnTo>
                  <a:lnTo>
                    <a:pt x="184" y="10"/>
                  </a:lnTo>
                  <a:lnTo>
                    <a:pt x="197" y="15"/>
                  </a:lnTo>
                  <a:lnTo>
                    <a:pt x="210" y="19"/>
                  </a:lnTo>
                  <a:lnTo>
                    <a:pt x="223" y="24"/>
                  </a:lnTo>
                  <a:lnTo>
                    <a:pt x="237" y="34"/>
                  </a:lnTo>
                  <a:lnTo>
                    <a:pt x="237" y="43"/>
                  </a:lnTo>
                  <a:lnTo>
                    <a:pt x="237" y="43"/>
                  </a:lnTo>
                  <a:lnTo>
                    <a:pt x="223" y="43"/>
                  </a:lnTo>
                  <a:lnTo>
                    <a:pt x="223" y="43"/>
                  </a:lnTo>
                  <a:lnTo>
                    <a:pt x="223" y="34"/>
                  </a:lnTo>
                  <a:lnTo>
                    <a:pt x="223" y="29"/>
                  </a:lnTo>
                  <a:lnTo>
                    <a:pt x="210" y="19"/>
                  </a:lnTo>
                  <a:lnTo>
                    <a:pt x="197" y="15"/>
                  </a:lnTo>
                  <a:lnTo>
                    <a:pt x="184" y="10"/>
                  </a:lnTo>
                  <a:lnTo>
                    <a:pt x="158" y="5"/>
                  </a:lnTo>
                  <a:lnTo>
                    <a:pt x="145" y="5"/>
                  </a:lnTo>
                  <a:lnTo>
                    <a:pt x="118" y="0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27" y="19"/>
                  </a:lnTo>
                  <a:lnTo>
                    <a:pt x="13" y="29"/>
                  </a:lnTo>
                  <a:lnTo>
                    <a:pt x="13" y="34"/>
                  </a:lnTo>
                  <a:lnTo>
                    <a:pt x="13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929360" y="5583240"/>
              <a:ext cx="157320" cy="81000"/>
            </a:xfrm>
            <a:custGeom>
              <a:avLst/>
              <a:gdLst/>
              <a:ahLst/>
              <a:rect l="l" t="t" r="r" b="b"/>
              <a:pathLst>
                <a:path w="237" h="44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7" y="24"/>
                  </a:lnTo>
                  <a:lnTo>
                    <a:pt x="40" y="29"/>
                  </a:lnTo>
                  <a:lnTo>
                    <a:pt x="53" y="34"/>
                  </a:lnTo>
                  <a:lnTo>
                    <a:pt x="79" y="39"/>
                  </a:lnTo>
                  <a:lnTo>
                    <a:pt x="92" y="39"/>
                  </a:lnTo>
                  <a:lnTo>
                    <a:pt x="118" y="44"/>
                  </a:lnTo>
                  <a:lnTo>
                    <a:pt x="145" y="39"/>
                  </a:lnTo>
                  <a:lnTo>
                    <a:pt x="158" y="39"/>
                  </a:lnTo>
                  <a:lnTo>
                    <a:pt x="184" y="34"/>
                  </a:lnTo>
                  <a:lnTo>
                    <a:pt x="197" y="29"/>
                  </a:lnTo>
                  <a:lnTo>
                    <a:pt x="210" y="24"/>
                  </a:lnTo>
                  <a:lnTo>
                    <a:pt x="223" y="15"/>
                  </a:lnTo>
                  <a:lnTo>
                    <a:pt x="237" y="10"/>
                  </a:lnTo>
                  <a:lnTo>
                    <a:pt x="237" y="0"/>
                  </a:lnTo>
                  <a:lnTo>
                    <a:pt x="223" y="0"/>
                  </a:lnTo>
                  <a:lnTo>
                    <a:pt x="223" y="10"/>
                  </a:lnTo>
                  <a:lnTo>
                    <a:pt x="223" y="15"/>
                  </a:lnTo>
                  <a:lnTo>
                    <a:pt x="210" y="24"/>
                  </a:lnTo>
                  <a:lnTo>
                    <a:pt x="197" y="29"/>
                  </a:lnTo>
                  <a:lnTo>
                    <a:pt x="184" y="34"/>
                  </a:lnTo>
                  <a:lnTo>
                    <a:pt x="158" y="39"/>
                  </a:lnTo>
                  <a:lnTo>
                    <a:pt x="145" y="39"/>
                  </a:lnTo>
                  <a:lnTo>
                    <a:pt x="118" y="39"/>
                  </a:lnTo>
                  <a:lnTo>
                    <a:pt x="92" y="39"/>
                  </a:lnTo>
                  <a:lnTo>
                    <a:pt x="79" y="39"/>
                  </a:lnTo>
                  <a:lnTo>
                    <a:pt x="53" y="34"/>
                  </a:lnTo>
                  <a:lnTo>
                    <a:pt x="40" y="29"/>
                  </a:lnTo>
                  <a:lnTo>
                    <a:pt x="27" y="24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937280" y="5505480"/>
              <a:ext cx="139680" cy="77760"/>
            </a:xfrm>
            <a:custGeom>
              <a:avLst/>
              <a:gdLst/>
              <a:ahLst/>
              <a:rect l="l" t="t" r="r" b="b"/>
              <a:pathLst>
                <a:path w="210" h="43">
                  <a:moveTo>
                    <a:pt x="0" y="43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14" y="19"/>
                  </a:lnTo>
                  <a:lnTo>
                    <a:pt x="27" y="15"/>
                  </a:lnTo>
                  <a:lnTo>
                    <a:pt x="40" y="10"/>
                  </a:lnTo>
                  <a:lnTo>
                    <a:pt x="66" y="5"/>
                  </a:lnTo>
                  <a:lnTo>
                    <a:pt x="79" y="5"/>
                  </a:lnTo>
                  <a:lnTo>
                    <a:pt x="105" y="0"/>
                  </a:lnTo>
                  <a:lnTo>
                    <a:pt x="132" y="5"/>
                  </a:lnTo>
                  <a:lnTo>
                    <a:pt x="145" y="5"/>
                  </a:lnTo>
                  <a:lnTo>
                    <a:pt x="171" y="10"/>
                  </a:lnTo>
                  <a:lnTo>
                    <a:pt x="184" y="15"/>
                  </a:lnTo>
                  <a:lnTo>
                    <a:pt x="197" y="19"/>
                  </a:lnTo>
                  <a:lnTo>
                    <a:pt x="210" y="29"/>
                  </a:lnTo>
                  <a:lnTo>
                    <a:pt x="210" y="34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43"/>
                  </a:lnTo>
                  <a:lnTo>
                    <a:pt x="210" y="34"/>
                  </a:lnTo>
                  <a:lnTo>
                    <a:pt x="197" y="29"/>
                  </a:lnTo>
                  <a:lnTo>
                    <a:pt x="197" y="19"/>
                  </a:lnTo>
                  <a:lnTo>
                    <a:pt x="184" y="15"/>
                  </a:lnTo>
                  <a:lnTo>
                    <a:pt x="158" y="10"/>
                  </a:lnTo>
                  <a:lnTo>
                    <a:pt x="145" y="10"/>
                  </a:lnTo>
                  <a:lnTo>
                    <a:pt x="132" y="5"/>
                  </a:lnTo>
                  <a:lnTo>
                    <a:pt x="105" y="5"/>
                  </a:lnTo>
                  <a:lnTo>
                    <a:pt x="79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40" y="15"/>
                  </a:lnTo>
                  <a:lnTo>
                    <a:pt x="14" y="19"/>
                  </a:lnTo>
                  <a:lnTo>
                    <a:pt x="14" y="29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937280" y="5583240"/>
              <a:ext cx="139680" cy="716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4" y="24"/>
                  </a:lnTo>
                  <a:lnTo>
                    <a:pt x="27" y="29"/>
                  </a:lnTo>
                  <a:lnTo>
                    <a:pt x="40" y="34"/>
                  </a:lnTo>
                  <a:lnTo>
                    <a:pt x="66" y="39"/>
                  </a:lnTo>
                  <a:lnTo>
                    <a:pt x="79" y="39"/>
                  </a:lnTo>
                  <a:lnTo>
                    <a:pt x="105" y="39"/>
                  </a:lnTo>
                  <a:lnTo>
                    <a:pt x="132" y="39"/>
                  </a:lnTo>
                  <a:lnTo>
                    <a:pt x="145" y="39"/>
                  </a:lnTo>
                  <a:lnTo>
                    <a:pt x="171" y="34"/>
                  </a:lnTo>
                  <a:lnTo>
                    <a:pt x="184" y="29"/>
                  </a:lnTo>
                  <a:lnTo>
                    <a:pt x="197" y="24"/>
                  </a:lnTo>
                  <a:lnTo>
                    <a:pt x="210" y="15"/>
                  </a:lnTo>
                  <a:lnTo>
                    <a:pt x="210" y="1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0" y="5"/>
                  </a:lnTo>
                  <a:lnTo>
                    <a:pt x="197" y="15"/>
                  </a:lnTo>
                  <a:lnTo>
                    <a:pt x="197" y="20"/>
                  </a:lnTo>
                  <a:lnTo>
                    <a:pt x="184" y="24"/>
                  </a:lnTo>
                  <a:lnTo>
                    <a:pt x="158" y="29"/>
                  </a:lnTo>
                  <a:lnTo>
                    <a:pt x="145" y="34"/>
                  </a:lnTo>
                  <a:lnTo>
                    <a:pt x="132" y="39"/>
                  </a:lnTo>
                  <a:lnTo>
                    <a:pt x="105" y="39"/>
                  </a:lnTo>
                  <a:lnTo>
                    <a:pt x="79" y="39"/>
                  </a:lnTo>
                  <a:lnTo>
                    <a:pt x="66" y="34"/>
                  </a:lnTo>
                  <a:lnTo>
                    <a:pt x="53" y="29"/>
                  </a:lnTo>
                  <a:lnTo>
                    <a:pt x="40" y="24"/>
                  </a:lnTo>
                  <a:lnTo>
                    <a:pt x="14" y="20"/>
                  </a:lnTo>
                  <a:lnTo>
                    <a:pt x="14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937280" y="5515200"/>
              <a:ext cx="139680" cy="68040"/>
            </a:xfrm>
            <a:custGeom>
              <a:avLst/>
              <a:gdLst/>
              <a:ahLst/>
              <a:rect l="l" t="t" r="r" b="b"/>
              <a:pathLst>
                <a:path w="210" h="38">
                  <a:moveTo>
                    <a:pt x="0" y="38"/>
                  </a:moveTo>
                  <a:lnTo>
                    <a:pt x="0" y="29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40" y="10"/>
                  </a:lnTo>
                  <a:lnTo>
                    <a:pt x="53" y="5"/>
                  </a:lnTo>
                  <a:lnTo>
                    <a:pt x="66" y="5"/>
                  </a:lnTo>
                  <a:lnTo>
                    <a:pt x="79" y="0"/>
                  </a:lnTo>
                  <a:lnTo>
                    <a:pt x="105" y="0"/>
                  </a:lnTo>
                  <a:lnTo>
                    <a:pt x="132" y="0"/>
                  </a:lnTo>
                  <a:lnTo>
                    <a:pt x="145" y="5"/>
                  </a:lnTo>
                  <a:lnTo>
                    <a:pt x="158" y="5"/>
                  </a:lnTo>
                  <a:lnTo>
                    <a:pt x="184" y="10"/>
                  </a:lnTo>
                  <a:lnTo>
                    <a:pt x="197" y="14"/>
                  </a:lnTo>
                  <a:lnTo>
                    <a:pt x="197" y="24"/>
                  </a:lnTo>
                  <a:lnTo>
                    <a:pt x="210" y="29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197" y="29"/>
                  </a:lnTo>
                  <a:lnTo>
                    <a:pt x="197" y="24"/>
                  </a:lnTo>
                  <a:lnTo>
                    <a:pt x="184" y="19"/>
                  </a:lnTo>
                  <a:lnTo>
                    <a:pt x="171" y="14"/>
                  </a:lnTo>
                  <a:lnTo>
                    <a:pt x="158" y="10"/>
                  </a:lnTo>
                  <a:lnTo>
                    <a:pt x="145" y="5"/>
                  </a:lnTo>
                  <a:lnTo>
                    <a:pt x="119" y="0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66" y="5"/>
                  </a:lnTo>
                  <a:lnTo>
                    <a:pt x="53" y="10"/>
                  </a:lnTo>
                  <a:lnTo>
                    <a:pt x="40" y="14"/>
                  </a:lnTo>
                  <a:lnTo>
                    <a:pt x="27" y="19"/>
                  </a:lnTo>
                  <a:lnTo>
                    <a:pt x="14" y="24"/>
                  </a:lnTo>
                  <a:lnTo>
                    <a:pt x="14" y="29"/>
                  </a:lnTo>
                  <a:lnTo>
                    <a:pt x="14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937280" y="5583240"/>
              <a:ext cx="139680" cy="71640"/>
            </a:xfrm>
            <a:custGeom>
              <a:avLst/>
              <a:gdLst/>
              <a:ahLst/>
              <a:rect l="l" t="t" r="r" b="b"/>
              <a:pathLst>
                <a:path w="210" h="3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40" y="24"/>
                  </a:lnTo>
                  <a:lnTo>
                    <a:pt x="53" y="29"/>
                  </a:lnTo>
                  <a:lnTo>
                    <a:pt x="66" y="34"/>
                  </a:lnTo>
                  <a:lnTo>
                    <a:pt x="79" y="39"/>
                  </a:lnTo>
                  <a:lnTo>
                    <a:pt x="105" y="39"/>
                  </a:lnTo>
                  <a:lnTo>
                    <a:pt x="132" y="39"/>
                  </a:lnTo>
                  <a:lnTo>
                    <a:pt x="145" y="34"/>
                  </a:lnTo>
                  <a:lnTo>
                    <a:pt x="158" y="29"/>
                  </a:lnTo>
                  <a:lnTo>
                    <a:pt x="184" y="24"/>
                  </a:lnTo>
                  <a:lnTo>
                    <a:pt x="197" y="20"/>
                  </a:lnTo>
                  <a:lnTo>
                    <a:pt x="197" y="15"/>
                  </a:lnTo>
                  <a:lnTo>
                    <a:pt x="210" y="5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7" y="5"/>
                  </a:lnTo>
                  <a:lnTo>
                    <a:pt x="197" y="15"/>
                  </a:lnTo>
                  <a:lnTo>
                    <a:pt x="184" y="20"/>
                  </a:lnTo>
                  <a:lnTo>
                    <a:pt x="171" y="24"/>
                  </a:lnTo>
                  <a:lnTo>
                    <a:pt x="158" y="29"/>
                  </a:lnTo>
                  <a:lnTo>
                    <a:pt x="145" y="34"/>
                  </a:lnTo>
                  <a:lnTo>
                    <a:pt x="119" y="34"/>
                  </a:lnTo>
                  <a:lnTo>
                    <a:pt x="105" y="34"/>
                  </a:lnTo>
                  <a:lnTo>
                    <a:pt x="92" y="34"/>
                  </a:lnTo>
                  <a:lnTo>
                    <a:pt x="66" y="34"/>
                  </a:lnTo>
                  <a:lnTo>
                    <a:pt x="53" y="29"/>
                  </a:lnTo>
                  <a:lnTo>
                    <a:pt x="40" y="24"/>
                  </a:lnTo>
                  <a:lnTo>
                    <a:pt x="27" y="20"/>
                  </a:lnTo>
                  <a:lnTo>
                    <a:pt x="14" y="1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947000" y="5515200"/>
              <a:ext cx="129960" cy="68040"/>
            </a:xfrm>
            <a:custGeom>
              <a:avLst/>
              <a:gdLst/>
              <a:ahLst/>
              <a:rect l="l" t="t" r="r" b="b"/>
              <a:pathLst>
                <a:path w="196" h="38">
                  <a:moveTo>
                    <a:pt x="0" y="38"/>
                  </a:moveTo>
                  <a:lnTo>
                    <a:pt x="0" y="29"/>
                  </a:lnTo>
                  <a:lnTo>
                    <a:pt x="0" y="24"/>
                  </a:lnTo>
                  <a:lnTo>
                    <a:pt x="13" y="19"/>
                  </a:lnTo>
                  <a:lnTo>
                    <a:pt x="26" y="14"/>
                  </a:lnTo>
                  <a:lnTo>
                    <a:pt x="39" y="10"/>
                  </a:lnTo>
                  <a:lnTo>
                    <a:pt x="52" y="5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5"/>
                  </a:lnTo>
                  <a:lnTo>
                    <a:pt x="144" y="10"/>
                  </a:lnTo>
                  <a:lnTo>
                    <a:pt x="157" y="14"/>
                  </a:lnTo>
                  <a:lnTo>
                    <a:pt x="170" y="19"/>
                  </a:lnTo>
                  <a:lnTo>
                    <a:pt x="183" y="24"/>
                  </a:lnTo>
                  <a:lnTo>
                    <a:pt x="183" y="29"/>
                  </a:lnTo>
                  <a:lnTo>
                    <a:pt x="196" y="38"/>
                  </a:lnTo>
                  <a:lnTo>
                    <a:pt x="196" y="38"/>
                  </a:lnTo>
                  <a:lnTo>
                    <a:pt x="183" y="38"/>
                  </a:lnTo>
                  <a:lnTo>
                    <a:pt x="183" y="38"/>
                  </a:lnTo>
                  <a:lnTo>
                    <a:pt x="183" y="29"/>
                  </a:lnTo>
                  <a:lnTo>
                    <a:pt x="183" y="24"/>
                  </a:lnTo>
                  <a:lnTo>
                    <a:pt x="170" y="19"/>
                  </a:lnTo>
                  <a:lnTo>
                    <a:pt x="157" y="14"/>
                  </a:lnTo>
                  <a:lnTo>
                    <a:pt x="144" y="10"/>
                  </a:lnTo>
                  <a:lnTo>
                    <a:pt x="131" y="5"/>
                  </a:lnTo>
                  <a:lnTo>
                    <a:pt x="105" y="5"/>
                  </a:lnTo>
                  <a:lnTo>
                    <a:pt x="91" y="5"/>
                  </a:lnTo>
                  <a:lnTo>
                    <a:pt x="78" y="5"/>
                  </a:lnTo>
                  <a:lnTo>
                    <a:pt x="52" y="5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947000" y="5583240"/>
              <a:ext cx="129960" cy="61920"/>
            </a:xfrm>
            <a:custGeom>
              <a:avLst/>
              <a:gdLst/>
              <a:ahLst/>
              <a:rect l="l" t="t" r="r" b="b"/>
              <a:pathLst>
                <a:path w="196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5"/>
                  </a:lnTo>
                  <a:lnTo>
                    <a:pt x="13" y="20"/>
                  </a:lnTo>
                  <a:lnTo>
                    <a:pt x="26" y="24"/>
                  </a:lnTo>
                  <a:lnTo>
                    <a:pt x="39" y="29"/>
                  </a:lnTo>
                  <a:lnTo>
                    <a:pt x="52" y="34"/>
                  </a:lnTo>
                  <a:lnTo>
                    <a:pt x="78" y="34"/>
                  </a:lnTo>
                  <a:lnTo>
                    <a:pt x="91" y="34"/>
                  </a:lnTo>
                  <a:lnTo>
                    <a:pt x="105" y="34"/>
                  </a:lnTo>
                  <a:lnTo>
                    <a:pt x="131" y="34"/>
                  </a:lnTo>
                  <a:lnTo>
                    <a:pt x="144" y="29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83" y="15"/>
                  </a:lnTo>
                  <a:lnTo>
                    <a:pt x="183" y="5"/>
                  </a:lnTo>
                  <a:lnTo>
                    <a:pt x="196" y="0"/>
                  </a:lnTo>
                  <a:lnTo>
                    <a:pt x="183" y="0"/>
                  </a:lnTo>
                  <a:lnTo>
                    <a:pt x="183" y="5"/>
                  </a:lnTo>
                  <a:lnTo>
                    <a:pt x="183" y="15"/>
                  </a:lnTo>
                  <a:lnTo>
                    <a:pt x="170" y="20"/>
                  </a:lnTo>
                  <a:lnTo>
                    <a:pt x="157" y="24"/>
                  </a:lnTo>
                  <a:lnTo>
                    <a:pt x="144" y="29"/>
                  </a:lnTo>
                  <a:lnTo>
                    <a:pt x="131" y="29"/>
                  </a:lnTo>
                  <a:lnTo>
                    <a:pt x="105" y="34"/>
                  </a:lnTo>
                  <a:lnTo>
                    <a:pt x="91" y="34"/>
                  </a:lnTo>
                  <a:lnTo>
                    <a:pt x="78" y="34"/>
                  </a:lnTo>
                  <a:lnTo>
                    <a:pt x="52" y="29"/>
                  </a:lnTo>
                  <a:lnTo>
                    <a:pt x="39" y="29"/>
                  </a:lnTo>
                  <a:lnTo>
                    <a:pt x="26" y="24"/>
                  </a:lnTo>
                  <a:lnTo>
                    <a:pt x="13" y="20"/>
                  </a:lnTo>
                  <a:lnTo>
                    <a:pt x="13" y="1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947000" y="5524560"/>
              <a:ext cx="120600" cy="5868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0" y="33"/>
                  </a:moveTo>
                  <a:lnTo>
                    <a:pt x="0" y="24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52" y="0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0"/>
                  </a:lnTo>
                  <a:lnTo>
                    <a:pt x="144" y="5"/>
                  </a:lnTo>
                  <a:lnTo>
                    <a:pt x="157" y="9"/>
                  </a:lnTo>
                  <a:lnTo>
                    <a:pt x="170" y="14"/>
                  </a:lnTo>
                  <a:lnTo>
                    <a:pt x="183" y="19"/>
                  </a:lnTo>
                  <a:lnTo>
                    <a:pt x="183" y="24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83" y="29"/>
                  </a:lnTo>
                  <a:lnTo>
                    <a:pt x="170" y="19"/>
                  </a:lnTo>
                  <a:lnTo>
                    <a:pt x="170" y="14"/>
                  </a:lnTo>
                  <a:lnTo>
                    <a:pt x="157" y="9"/>
                  </a:lnTo>
                  <a:lnTo>
                    <a:pt x="144" y="5"/>
                  </a:lnTo>
                  <a:lnTo>
                    <a:pt x="131" y="5"/>
                  </a:lnTo>
                  <a:lnTo>
                    <a:pt x="105" y="0"/>
                  </a:lnTo>
                  <a:lnTo>
                    <a:pt x="91" y="0"/>
                  </a:lnTo>
                  <a:lnTo>
                    <a:pt x="78" y="0"/>
                  </a:lnTo>
                  <a:lnTo>
                    <a:pt x="65" y="5"/>
                  </a:lnTo>
                  <a:lnTo>
                    <a:pt x="39" y="5"/>
                  </a:lnTo>
                  <a:lnTo>
                    <a:pt x="26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947000" y="5583240"/>
              <a:ext cx="120600" cy="61920"/>
            </a:xfrm>
            <a:custGeom>
              <a:avLst/>
              <a:gdLst/>
              <a:ahLst/>
              <a:rect l="l" t="t" r="r" b="b"/>
              <a:pathLst>
                <a:path w="183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26" y="24"/>
                  </a:lnTo>
                  <a:lnTo>
                    <a:pt x="39" y="29"/>
                  </a:lnTo>
                  <a:lnTo>
                    <a:pt x="52" y="29"/>
                  </a:lnTo>
                  <a:lnTo>
                    <a:pt x="78" y="34"/>
                  </a:lnTo>
                  <a:lnTo>
                    <a:pt x="91" y="34"/>
                  </a:lnTo>
                  <a:lnTo>
                    <a:pt x="105" y="34"/>
                  </a:lnTo>
                  <a:lnTo>
                    <a:pt x="131" y="29"/>
                  </a:lnTo>
                  <a:lnTo>
                    <a:pt x="144" y="29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83" y="15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3" y="5"/>
                  </a:lnTo>
                  <a:lnTo>
                    <a:pt x="170" y="10"/>
                  </a:lnTo>
                  <a:lnTo>
                    <a:pt x="170" y="20"/>
                  </a:lnTo>
                  <a:lnTo>
                    <a:pt x="157" y="24"/>
                  </a:lnTo>
                  <a:lnTo>
                    <a:pt x="144" y="24"/>
                  </a:lnTo>
                  <a:lnTo>
                    <a:pt x="131" y="29"/>
                  </a:lnTo>
                  <a:lnTo>
                    <a:pt x="105" y="29"/>
                  </a:lnTo>
                  <a:lnTo>
                    <a:pt x="91" y="34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39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947000" y="5524560"/>
              <a:ext cx="120600" cy="5868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0" y="33"/>
                  </a:moveTo>
                  <a:lnTo>
                    <a:pt x="0" y="29"/>
                  </a:lnTo>
                  <a:lnTo>
                    <a:pt x="13" y="19"/>
                  </a:lnTo>
                  <a:lnTo>
                    <a:pt x="26" y="14"/>
                  </a:lnTo>
                  <a:lnTo>
                    <a:pt x="26" y="9"/>
                  </a:lnTo>
                  <a:lnTo>
                    <a:pt x="39" y="5"/>
                  </a:lnTo>
                  <a:lnTo>
                    <a:pt x="65" y="5"/>
                  </a:lnTo>
                  <a:lnTo>
                    <a:pt x="78" y="0"/>
                  </a:lnTo>
                  <a:lnTo>
                    <a:pt x="91" y="0"/>
                  </a:lnTo>
                  <a:lnTo>
                    <a:pt x="105" y="0"/>
                  </a:lnTo>
                  <a:lnTo>
                    <a:pt x="131" y="5"/>
                  </a:lnTo>
                  <a:lnTo>
                    <a:pt x="144" y="5"/>
                  </a:lnTo>
                  <a:lnTo>
                    <a:pt x="157" y="9"/>
                  </a:lnTo>
                  <a:lnTo>
                    <a:pt x="170" y="14"/>
                  </a:lnTo>
                  <a:lnTo>
                    <a:pt x="170" y="19"/>
                  </a:lnTo>
                  <a:lnTo>
                    <a:pt x="183" y="29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170" y="33"/>
                  </a:lnTo>
                  <a:lnTo>
                    <a:pt x="170" y="33"/>
                  </a:lnTo>
                  <a:lnTo>
                    <a:pt x="170" y="29"/>
                  </a:lnTo>
                  <a:lnTo>
                    <a:pt x="170" y="19"/>
                  </a:lnTo>
                  <a:lnTo>
                    <a:pt x="157" y="14"/>
                  </a:lnTo>
                  <a:lnTo>
                    <a:pt x="144" y="9"/>
                  </a:lnTo>
                  <a:lnTo>
                    <a:pt x="144" y="9"/>
                  </a:lnTo>
                  <a:lnTo>
                    <a:pt x="118" y="5"/>
                  </a:lnTo>
                  <a:lnTo>
                    <a:pt x="105" y="5"/>
                  </a:lnTo>
                  <a:lnTo>
                    <a:pt x="91" y="5"/>
                  </a:lnTo>
                  <a:lnTo>
                    <a:pt x="78" y="5"/>
                  </a:lnTo>
                  <a:lnTo>
                    <a:pt x="65" y="5"/>
                  </a:lnTo>
                  <a:lnTo>
                    <a:pt x="52" y="9"/>
                  </a:lnTo>
                  <a:lnTo>
                    <a:pt x="39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9"/>
                  </a:lnTo>
                  <a:lnTo>
                    <a:pt x="13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947000" y="5583240"/>
              <a:ext cx="120600" cy="61920"/>
            </a:xfrm>
            <a:custGeom>
              <a:avLst/>
              <a:gdLst/>
              <a:ahLst/>
              <a:rect l="l" t="t" r="r" b="b"/>
              <a:pathLst>
                <a:path w="183" h="3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39" y="24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1" y="34"/>
                  </a:lnTo>
                  <a:lnTo>
                    <a:pt x="105" y="29"/>
                  </a:lnTo>
                  <a:lnTo>
                    <a:pt x="131" y="29"/>
                  </a:lnTo>
                  <a:lnTo>
                    <a:pt x="144" y="24"/>
                  </a:lnTo>
                  <a:lnTo>
                    <a:pt x="157" y="24"/>
                  </a:lnTo>
                  <a:lnTo>
                    <a:pt x="170" y="20"/>
                  </a:lnTo>
                  <a:lnTo>
                    <a:pt x="170" y="10"/>
                  </a:lnTo>
                  <a:lnTo>
                    <a:pt x="183" y="5"/>
                  </a:lnTo>
                  <a:lnTo>
                    <a:pt x="183" y="0"/>
                  </a:lnTo>
                  <a:lnTo>
                    <a:pt x="170" y="0"/>
                  </a:lnTo>
                  <a:lnTo>
                    <a:pt x="170" y="5"/>
                  </a:lnTo>
                  <a:lnTo>
                    <a:pt x="170" y="10"/>
                  </a:lnTo>
                  <a:lnTo>
                    <a:pt x="157" y="15"/>
                  </a:lnTo>
                  <a:lnTo>
                    <a:pt x="144" y="20"/>
                  </a:lnTo>
                  <a:lnTo>
                    <a:pt x="144" y="24"/>
                  </a:lnTo>
                  <a:lnTo>
                    <a:pt x="118" y="29"/>
                  </a:lnTo>
                  <a:lnTo>
                    <a:pt x="105" y="29"/>
                  </a:lnTo>
                  <a:lnTo>
                    <a:pt x="91" y="29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52" y="24"/>
                  </a:lnTo>
                  <a:lnTo>
                    <a:pt x="39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954920" y="5532480"/>
              <a:ext cx="104760" cy="50760"/>
            </a:xfrm>
            <a:custGeom>
              <a:avLst/>
              <a:gdLst/>
              <a:ahLst/>
              <a:rect l="l" t="t" r="r" b="b"/>
              <a:pathLst>
                <a:path w="157" h="28">
                  <a:moveTo>
                    <a:pt x="0" y="28"/>
                  </a:moveTo>
                  <a:lnTo>
                    <a:pt x="0" y="24"/>
                  </a:lnTo>
                  <a:lnTo>
                    <a:pt x="0" y="14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39" y="4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31" y="4"/>
                  </a:lnTo>
                  <a:lnTo>
                    <a:pt x="131" y="4"/>
                  </a:lnTo>
                  <a:lnTo>
                    <a:pt x="144" y="9"/>
                  </a:lnTo>
                  <a:lnTo>
                    <a:pt x="157" y="14"/>
                  </a:lnTo>
                  <a:lnTo>
                    <a:pt x="157" y="24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57" y="24"/>
                  </a:lnTo>
                  <a:lnTo>
                    <a:pt x="144" y="19"/>
                  </a:lnTo>
                  <a:lnTo>
                    <a:pt x="144" y="14"/>
                  </a:lnTo>
                  <a:lnTo>
                    <a:pt x="131" y="9"/>
                  </a:lnTo>
                  <a:lnTo>
                    <a:pt x="118" y="4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13" y="14"/>
                  </a:lnTo>
                  <a:lnTo>
                    <a:pt x="1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954920" y="5583240"/>
              <a:ext cx="104760" cy="52560"/>
            </a:xfrm>
            <a:custGeom>
              <a:avLst/>
              <a:gdLst/>
              <a:ahLst/>
              <a:rect l="l" t="t" r="r" b="b"/>
              <a:pathLst>
                <a:path w="157" h="2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9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2" y="29"/>
                  </a:lnTo>
                  <a:lnTo>
                    <a:pt x="105" y="29"/>
                  </a:lnTo>
                  <a:lnTo>
                    <a:pt x="131" y="24"/>
                  </a:lnTo>
                  <a:lnTo>
                    <a:pt x="131" y="20"/>
                  </a:lnTo>
                  <a:lnTo>
                    <a:pt x="144" y="15"/>
                  </a:lnTo>
                  <a:lnTo>
                    <a:pt x="157" y="10"/>
                  </a:lnTo>
                  <a:lnTo>
                    <a:pt x="157" y="5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44" y="10"/>
                  </a:lnTo>
                  <a:lnTo>
                    <a:pt x="144" y="15"/>
                  </a:lnTo>
                  <a:lnTo>
                    <a:pt x="131" y="20"/>
                  </a:lnTo>
                  <a:lnTo>
                    <a:pt x="118" y="24"/>
                  </a:lnTo>
                  <a:lnTo>
                    <a:pt x="105" y="24"/>
                  </a:lnTo>
                  <a:lnTo>
                    <a:pt x="92" y="29"/>
                  </a:lnTo>
                  <a:lnTo>
                    <a:pt x="78" y="29"/>
                  </a:lnTo>
                  <a:lnTo>
                    <a:pt x="65" y="29"/>
                  </a:lnTo>
                  <a:lnTo>
                    <a:pt x="52" y="24"/>
                  </a:lnTo>
                  <a:lnTo>
                    <a:pt x="39" y="24"/>
                  </a:lnTo>
                  <a:lnTo>
                    <a:pt x="26" y="20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954920" y="5532480"/>
              <a:ext cx="104760" cy="50760"/>
            </a:xfrm>
            <a:custGeom>
              <a:avLst/>
              <a:gdLst/>
              <a:ahLst/>
              <a:rect l="l" t="t" r="r" b="b"/>
              <a:pathLst>
                <a:path w="157" h="28">
                  <a:moveTo>
                    <a:pt x="0" y="28"/>
                  </a:moveTo>
                  <a:lnTo>
                    <a:pt x="0" y="24"/>
                  </a:lnTo>
                  <a:lnTo>
                    <a:pt x="13" y="19"/>
                  </a:lnTo>
                  <a:lnTo>
                    <a:pt x="13" y="14"/>
                  </a:lnTo>
                  <a:lnTo>
                    <a:pt x="26" y="9"/>
                  </a:lnTo>
                  <a:lnTo>
                    <a:pt x="39" y="4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8" y="0"/>
                  </a:lnTo>
                  <a:lnTo>
                    <a:pt x="92" y="0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31" y="9"/>
                  </a:lnTo>
                  <a:lnTo>
                    <a:pt x="144" y="14"/>
                  </a:lnTo>
                  <a:lnTo>
                    <a:pt x="144" y="19"/>
                  </a:lnTo>
                  <a:lnTo>
                    <a:pt x="157" y="24"/>
                  </a:lnTo>
                  <a:lnTo>
                    <a:pt x="157" y="28"/>
                  </a:lnTo>
                  <a:lnTo>
                    <a:pt x="157" y="28"/>
                  </a:lnTo>
                  <a:lnTo>
                    <a:pt x="144" y="28"/>
                  </a:lnTo>
                  <a:lnTo>
                    <a:pt x="144" y="28"/>
                  </a:lnTo>
                  <a:lnTo>
                    <a:pt x="144" y="24"/>
                  </a:lnTo>
                  <a:lnTo>
                    <a:pt x="144" y="19"/>
                  </a:lnTo>
                  <a:lnTo>
                    <a:pt x="131" y="14"/>
                  </a:lnTo>
                  <a:lnTo>
                    <a:pt x="131" y="9"/>
                  </a:lnTo>
                  <a:lnTo>
                    <a:pt x="118" y="4"/>
                  </a:lnTo>
                  <a:lnTo>
                    <a:pt x="105" y="4"/>
                  </a:lnTo>
                  <a:lnTo>
                    <a:pt x="92" y="4"/>
                  </a:lnTo>
                  <a:lnTo>
                    <a:pt x="78" y="0"/>
                  </a:lnTo>
                  <a:lnTo>
                    <a:pt x="65" y="4"/>
                  </a:lnTo>
                  <a:lnTo>
                    <a:pt x="52" y="4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26" y="14"/>
                  </a:lnTo>
                  <a:lnTo>
                    <a:pt x="13" y="19"/>
                  </a:lnTo>
                  <a:lnTo>
                    <a:pt x="13" y="24"/>
                  </a:lnTo>
                  <a:lnTo>
                    <a:pt x="13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954920" y="5583240"/>
              <a:ext cx="104760" cy="52560"/>
            </a:xfrm>
            <a:custGeom>
              <a:avLst/>
              <a:gdLst/>
              <a:ahLst/>
              <a:rect l="l" t="t" r="r" b="b"/>
              <a:pathLst>
                <a:path w="157" h="29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9"/>
                  </a:lnTo>
                  <a:lnTo>
                    <a:pt x="78" y="29"/>
                  </a:lnTo>
                  <a:lnTo>
                    <a:pt x="92" y="29"/>
                  </a:lnTo>
                  <a:lnTo>
                    <a:pt x="105" y="24"/>
                  </a:lnTo>
                  <a:lnTo>
                    <a:pt x="118" y="24"/>
                  </a:lnTo>
                  <a:lnTo>
                    <a:pt x="131" y="20"/>
                  </a:lnTo>
                  <a:lnTo>
                    <a:pt x="144" y="15"/>
                  </a:lnTo>
                  <a:lnTo>
                    <a:pt x="144" y="10"/>
                  </a:lnTo>
                  <a:lnTo>
                    <a:pt x="157" y="5"/>
                  </a:lnTo>
                  <a:lnTo>
                    <a:pt x="157" y="0"/>
                  </a:lnTo>
                  <a:lnTo>
                    <a:pt x="144" y="0"/>
                  </a:lnTo>
                  <a:lnTo>
                    <a:pt x="144" y="5"/>
                  </a:lnTo>
                  <a:lnTo>
                    <a:pt x="144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18" y="20"/>
                  </a:lnTo>
                  <a:lnTo>
                    <a:pt x="105" y="24"/>
                  </a:lnTo>
                  <a:lnTo>
                    <a:pt x="92" y="24"/>
                  </a:lnTo>
                  <a:lnTo>
                    <a:pt x="78" y="24"/>
                  </a:lnTo>
                  <a:lnTo>
                    <a:pt x="65" y="24"/>
                  </a:lnTo>
                  <a:lnTo>
                    <a:pt x="52" y="24"/>
                  </a:lnTo>
                  <a:lnTo>
                    <a:pt x="39" y="20"/>
                  </a:lnTo>
                  <a:lnTo>
                    <a:pt x="26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962840" y="5532480"/>
              <a:ext cx="87120" cy="50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0" y="28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13" y="14"/>
                  </a:lnTo>
                  <a:lnTo>
                    <a:pt x="13" y="9"/>
                  </a:lnTo>
                  <a:lnTo>
                    <a:pt x="26" y="4"/>
                  </a:lnTo>
                  <a:lnTo>
                    <a:pt x="39" y="4"/>
                  </a:lnTo>
                  <a:lnTo>
                    <a:pt x="52" y="4"/>
                  </a:lnTo>
                  <a:lnTo>
                    <a:pt x="65" y="0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4"/>
                  </a:lnTo>
                  <a:lnTo>
                    <a:pt x="118" y="9"/>
                  </a:lnTo>
                  <a:lnTo>
                    <a:pt x="118" y="14"/>
                  </a:lnTo>
                  <a:lnTo>
                    <a:pt x="131" y="19"/>
                  </a:lnTo>
                  <a:lnTo>
                    <a:pt x="131" y="24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8"/>
                  </a:lnTo>
                  <a:lnTo>
                    <a:pt x="131" y="24"/>
                  </a:lnTo>
                  <a:lnTo>
                    <a:pt x="131" y="19"/>
                  </a:lnTo>
                  <a:lnTo>
                    <a:pt x="118" y="14"/>
                  </a:lnTo>
                  <a:lnTo>
                    <a:pt x="118" y="9"/>
                  </a:lnTo>
                  <a:lnTo>
                    <a:pt x="105" y="9"/>
                  </a:lnTo>
                  <a:lnTo>
                    <a:pt x="92" y="4"/>
                  </a:lnTo>
                  <a:lnTo>
                    <a:pt x="79" y="4"/>
                  </a:lnTo>
                  <a:lnTo>
                    <a:pt x="65" y="4"/>
                  </a:lnTo>
                  <a:lnTo>
                    <a:pt x="52" y="4"/>
                  </a:lnTo>
                  <a:lnTo>
                    <a:pt x="39" y="4"/>
                  </a:lnTo>
                  <a:lnTo>
                    <a:pt x="26" y="9"/>
                  </a:lnTo>
                  <a:lnTo>
                    <a:pt x="13" y="9"/>
                  </a:lnTo>
                  <a:lnTo>
                    <a:pt x="13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962840" y="5583240"/>
              <a:ext cx="87120" cy="4464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4"/>
                  </a:lnTo>
                  <a:lnTo>
                    <a:pt x="79" y="24"/>
                  </a:lnTo>
                  <a:lnTo>
                    <a:pt x="92" y="24"/>
                  </a:lnTo>
                  <a:lnTo>
                    <a:pt x="105" y="20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1" y="1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05" y="20"/>
                  </a:lnTo>
                  <a:lnTo>
                    <a:pt x="92" y="24"/>
                  </a:lnTo>
                  <a:lnTo>
                    <a:pt x="79" y="24"/>
                  </a:lnTo>
                  <a:lnTo>
                    <a:pt x="65" y="24"/>
                  </a:lnTo>
                  <a:lnTo>
                    <a:pt x="52" y="24"/>
                  </a:lnTo>
                  <a:lnTo>
                    <a:pt x="39" y="24"/>
                  </a:lnTo>
                  <a:lnTo>
                    <a:pt x="26" y="20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962840" y="5540400"/>
              <a:ext cx="87120" cy="4284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24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5" y="5"/>
                  </a:lnTo>
                  <a:lnTo>
                    <a:pt x="118" y="5"/>
                  </a:lnTo>
                  <a:lnTo>
                    <a:pt x="118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18" y="20"/>
                  </a:lnTo>
                  <a:lnTo>
                    <a:pt x="118" y="15"/>
                  </a:lnTo>
                  <a:lnTo>
                    <a:pt x="118" y="10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92" y="5"/>
                  </a:lnTo>
                  <a:lnTo>
                    <a:pt x="79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962840" y="5583240"/>
              <a:ext cx="87120" cy="44640"/>
            </a:xfrm>
            <a:custGeom>
              <a:avLst/>
              <a:gdLst/>
              <a:ahLst/>
              <a:rect l="l" t="t" r="r" b="b"/>
              <a:pathLst>
                <a:path w="131" h="24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39" y="24"/>
                  </a:lnTo>
                  <a:lnTo>
                    <a:pt x="52" y="24"/>
                  </a:lnTo>
                  <a:lnTo>
                    <a:pt x="65" y="24"/>
                  </a:lnTo>
                  <a:lnTo>
                    <a:pt x="79" y="24"/>
                  </a:lnTo>
                  <a:lnTo>
                    <a:pt x="92" y="24"/>
                  </a:lnTo>
                  <a:lnTo>
                    <a:pt x="105" y="20"/>
                  </a:lnTo>
                  <a:lnTo>
                    <a:pt x="118" y="15"/>
                  </a:lnTo>
                  <a:lnTo>
                    <a:pt x="118" y="15"/>
                  </a:lnTo>
                  <a:lnTo>
                    <a:pt x="131" y="10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18" y="5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05" y="15"/>
                  </a:lnTo>
                  <a:lnTo>
                    <a:pt x="105" y="20"/>
                  </a:lnTo>
                  <a:lnTo>
                    <a:pt x="92" y="20"/>
                  </a:lnTo>
                  <a:lnTo>
                    <a:pt x="79" y="20"/>
                  </a:lnTo>
                  <a:lnTo>
                    <a:pt x="65" y="20"/>
                  </a:lnTo>
                  <a:lnTo>
                    <a:pt x="52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972200" y="5540400"/>
              <a:ext cx="77760" cy="42840"/>
            </a:xfrm>
            <a:custGeom>
              <a:avLst/>
              <a:gdLst/>
              <a:ahLst/>
              <a:rect l="l" t="t" r="r" b="b"/>
              <a:pathLst>
                <a:path w="118" h="24">
                  <a:moveTo>
                    <a:pt x="0" y="24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92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20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05" y="24"/>
                  </a:lnTo>
                  <a:lnTo>
                    <a:pt x="105" y="24"/>
                  </a:lnTo>
                  <a:lnTo>
                    <a:pt x="105" y="20"/>
                  </a:lnTo>
                  <a:lnTo>
                    <a:pt x="105" y="15"/>
                  </a:lnTo>
                  <a:lnTo>
                    <a:pt x="105" y="15"/>
                  </a:lnTo>
                  <a:lnTo>
                    <a:pt x="92" y="10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66" y="5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7972200" y="5583240"/>
              <a:ext cx="77760" cy="36720"/>
            </a:xfrm>
            <a:custGeom>
              <a:avLst/>
              <a:gdLst/>
              <a:ahLst/>
              <a:rect l="l" t="t" r="r" b="b"/>
              <a:pathLst>
                <a:path w="118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3" y="15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9" y="20"/>
                  </a:lnTo>
                  <a:lnTo>
                    <a:pt x="52" y="20"/>
                  </a:lnTo>
                  <a:lnTo>
                    <a:pt x="66" y="20"/>
                  </a:lnTo>
                  <a:lnTo>
                    <a:pt x="79" y="20"/>
                  </a:lnTo>
                  <a:lnTo>
                    <a:pt x="92" y="20"/>
                  </a:lnTo>
                  <a:lnTo>
                    <a:pt x="92" y="15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18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10"/>
                  </a:lnTo>
                  <a:lnTo>
                    <a:pt x="92" y="15"/>
                  </a:lnTo>
                  <a:lnTo>
                    <a:pt x="79" y="15"/>
                  </a:lnTo>
                  <a:lnTo>
                    <a:pt x="79" y="20"/>
                  </a:lnTo>
                  <a:lnTo>
                    <a:pt x="66" y="20"/>
                  </a:lnTo>
                  <a:lnTo>
                    <a:pt x="52" y="20"/>
                  </a:lnTo>
                  <a:lnTo>
                    <a:pt x="39" y="20"/>
                  </a:lnTo>
                  <a:lnTo>
                    <a:pt x="26" y="20"/>
                  </a:lnTo>
                  <a:lnTo>
                    <a:pt x="26" y="15"/>
                  </a:lnTo>
                  <a:lnTo>
                    <a:pt x="13" y="15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7972200" y="5550120"/>
              <a:ext cx="69840" cy="331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1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92" y="5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5" y="15"/>
                  </a:lnTo>
                  <a:lnTo>
                    <a:pt x="105" y="10"/>
                  </a:lnTo>
                  <a:lnTo>
                    <a:pt x="92" y="10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7972200" y="5583240"/>
              <a:ext cx="69840" cy="36720"/>
            </a:xfrm>
            <a:custGeom>
              <a:avLst/>
              <a:gdLst/>
              <a:ahLst/>
              <a:rect l="l" t="t" r="r" b="b"/>
              <a:pathLst>
                <a:path w="105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26" y="15"/>
                  </a:lnTo>
                  <a:lnTo>
                    <a:pt x="26" y="20"/>
                  </a:lnTo>
                  <a:lnTo>
                    <a:pt x="39" y="20"/>
                  </a:lnTo>
                  <a:lnTo>
                    <a:pt x="52" y="20"/>
                  </a:lnTo>
                  <a:lnTo>
                    <a:pt x="66" y="20"/>
                  </a:lnTo>
                  <a:lnTo>
                    <a:pt x="79" y="20"/>
                  </a:lnTo>
                  <a:lnTo>
                    <a:pt x="79" y="15"/>
                  </a:lnTo>
                  <a:lnTo>
                    <a:pt x="92" y="15"/>
                  </a:lnTo>
                  <a:lnTo>
                    <a:pt x="105" y="1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79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2" y="2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26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7972200" y="5550120"/>
              <a:ext cx="69840" cy="33120"/>
            </a:xfrm>
            <a:custGeom>
              <a:avLst/>
              <a:gdLst/>
              <a:ahLst/>
              <a:rect l="l" t="t" r="r" b="b"/>
              <a:pathLst>
                <a:path w="105" h="19">
                  <a:moveTo>
                    <a:pt x="0" y="19"/>
                  </a:moveTo>
                  <a:lnTo>
                    <a:pt x="0" y="1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92" y="5"/>
                  </a:lnTo>
                  <a:lnTo>
                    <a:pt x="92" y="10"/>
                  </a:lnTo>
                  <a:lnTo>
                    <a:pt x="105" y="10"/>
                  </a:lnTo>
                  <a:lnTo>
                    <a:pt x="105" y="15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92" y="19"/>
                  </a:lnTo>
                  <a:lnTo>
                    <a:pt x="92" y="19"/>
                  </a:lnTo>
                  <a:lnTo>
                    <a:pt x="92" y="15"/>
                  </a:lnTo>
                  <a:lnTo>
                    <a:pt x="79" y="5"/>
                  </a:lnTo>
                  <a:lnTo>
                    <a:pt x="66" y="5"/>
                  </a:lnTo>
                  <a:lnTo>
                    <a:pt x="52" y="0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13" y="15"/>
                  </a:lnTo>
                  <a:lnTo>
                    <a:pt x="1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972200" y="5583240"/>
              <a:ext cx="69840" cy="36720"/>
            </a:xfrm>
            <a:custGeom>
              <a:avLst/>
              <a:gdLst/>
              <a:ahLst/>
              <a:rect l="l" t="t" r="r" b="b"/>
              <a:pathLst>
                <a:path w="105" h="2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26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2" y="2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79" y="15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105" y="5"/>
                  </a:lnTo>
                  <a:lnTo>
                    <a:pt x="105" y="5"/>
                  </a:lnTo>
                  <a:lnTo>
                    <a:pt x="105" y="0"/>
                  </a:lnTo>
                  <a:lnTo>
                    <a:pt x="92" y="0"/>
                  </a:lnTo>
                  <a:lnTo>
                    <a:pt x="92" y="5"/>
                  </a:lnTo>
                  <a:lnTo>
                    <a:pt x="79" y="10"/>
                  </a:lnTo>
                  <a:lnTo>
                    <a:pt x="66" y="15"/>
                  </a:lnTo>
                  <a:lnTo>
                    <a:pt x="52" y="15"/>
                  </a:lnTo>
                  <a:lnTo>
                    <a:pt x="39" y="15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981920" y="5550120"/>
              <a:ext cx="52200" cy="3312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9"/>
                  </a:moveTo>
                  <a:lnTo>
                    <a:pt x="0" y="15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53" y="5"/>
                  </a:lnTo>
                  <a:lnTo>
                    <a:pt x="66" y="5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5"/>
                  </a:lnTo>
                  <a:lnTo>
                    <a:pt x="66" y="10"/>
                  </a:lnTo>
                  <a:lnTo>
                    <a:pt x="53" y="5"/>
                  </a:lnTo>
                  <a:lnTo>
                    <a:pt x="39" y="5"/>
                  </a:lnTo>
                  <a:lnTo>
                    <a:pt x="26" y="5"/>
                  </a:lnTo>
                  <a:lnTo>
                    <a:pt x="13" y="10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981920" y="5583240"/>
              <a:ext cx="52200" cy="2700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15"/>
                  </a:lnTo>
                  <a:lnTo>
                    <a:pt x="39" y="15"/>
                  </a:lnTo>
                  <a:lnTo>
                    <a:pt x="53" y="15"/>
                  </a:lnTo>
                  <a:lnTo>
                    <a:pt x="66" y="10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39" y="15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981920" y="5558040"/>
              <a:ext cx="52200" cy="25200"/>
            </a:xfrm>
            <a:custGeom>
              <a:avLst/>
              <a:gdLst/>
              <a:ahLst/>
              <a:rect l="l" t="t" r="r" b="b"/>
              <a:pathLst>
                <a:path w="79" h="14">
                  <a:moveTo>
                    <a:pt x="0" y="14"/>
                  </a:moveTo>
                  <a:lnTo>
                    <a:pt x="0" y="10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3" y="0"/>
                  </a:lnTo>
                  <a:lnTo>
                    <a:pt x="66" y="5"/>
                  </a:lnTo>
                  <a:lnTo>
                    <a:pt x="79" y="10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53" y="5"/>
                  </a:lnTo>
                  <a:lnTo>
                    <a:pt x="39" y="0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981920" y="5583240"/>
              <a:ext cx="52200" cy="2700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39" y="15"/>
                  </a:lnTo>
                  <a:lnTo>
                    <a:pt x="53" y="10"/>
                  </a:lnTo>
                  <a:lnTo>
                    <a:pt x="66" y="10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66" y="5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39" y="10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989840" y="5558040"/>
              <a:ext cx="44280" cy="2520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14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26" y="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10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989840" y="5583240"/>
              <a:ext cx="44280" cy="19080"/>
            </a:xfrm>
            <a:custGeom>
              <a:avLst/>
              <a:gdLst/>
              <a:ahLst/>
              <a:rect l="l" t="t" r="r" b="b"/>
              <a:pathLst>
                <a:path w="66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40" y="10"/>
                  </a:lnTo>
                  <a:lnTo>
                    <a:pt x="53" y="10"/>
                  </a:lnTo>
                  <a:lnTo>
                    <a:pt x="53" y="5"/>
                  </a:lnTo>
                  <a:lnTo>
                    <a:pt x="66" y="0"/>
                  </a:lnTo>
                  <a:lnTo>
                    <a:pt x="53" y="0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26" y="10"/>
                  </a:lnTo>
                  <a:lnTo>
                    <a:pt x="13" y="1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989840" y="5567400"/>
              <a:ext cx="34920" cy="158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9"/>
                  </a:move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989840" y="5583240"/>
              <a:ext cx="34920" cy="1908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10"/>
                  </a:lnTo>
                  <a:lnTo>
                    <a:pt x="26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1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989840" y="5567400"/>
              <a:ext cx="34920" cy="1584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0" y="9"/>
                  </a:moveTo>
                  <a:lnTo>
                    <a:pt x="0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989840" y="5583240"/>
              <a:ext cx="34920" cy="19080"/>
            </a:xfrm>
            <a:custGeom>
              <a:avLst/>
              <a:gdLst/>
              <a:ahLst/>
              <a:rect l="l" t="t" r="r" b="b"/>
              <a:pathLst>
                <a:path w="53" h="1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6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13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7999200" y="5583240"/>
              <a:ext cx="17640" cy="9720"/>
            </a:xfrm>
            <a:custGeom>
              <a:avLst/>
              <a:gdLst/>
              <a:ahLst/>
              <a:rect l="l" t="t" r="r" b="b"/>
              <a:pathLst>
                <a:path w="27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7999200" y="5583240"/>
              <a:ext cx="17640" cy="9720"/>
            </a:xfrm>
            <a:custGeom>
              <a:avLst/>
              <a:gdLst/>
              <a:ahLst/>
              <a:rect l="l" t="t" r="r" b="b"/>
              <a:pathLst>
                <a:path w="27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7867440" y="5524560"/>
              <a:ext cx="95400" cy="146160"/>
            </a:xfrm>
            <a:custGeom>
              <a:avLst/>
              <a:gdLst/>
              <a:ahLst/>
              <a:rect l="l" t="t" r="r" b="b"/>
              <a:pathLst>
                <a:path w="144" h="81">
                  <a:moveTo>
                    <a:pt x="144" y="81"/>
                  </a:moveTo>
                  <a:lnTo>
                    <a:pt x="118" y="77"/>
                  </a:lnTo>
                  <a:lnTo>
                    <a:pt x="91" y="72"/>
                  </a:lnTo>
                  <a:lnTo>
                    <a:pt x="65" y="62"/>
                  </a:lnTo>
                  <a:lnTo>
                    <a:pt x="39" y="53"/>
                  </a:lnTo>
                  <a:lnTo>
                    <a:pt x="13" y="43"/>
                  </a:lnTo>
                  <a:lnTo>
                    <a:pt x="13" y="29"/>
                  </a:lnTo>
                  <a:lnTo>
                    <a:pt x="0" y="19"/>
                  </a:lnTo>
                  <a:lnTo>
                    <a:pt x="13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39" y="0"/>
                  </a:lnTo>
                  <a:lnTo>
                    <a:pt x="39" y="14"/>
                  </a:lnTo>
                  <a:lnTo>
                    <a:pt x="39" y="24"/>
                  </a:lnTo>
                  <a:lnTo>
                    <a:pt x="52" y="38"/>
                  </a:lnTo>
                  <a:lnTo>
                    <a:pt x="52" y="48"/>
                  </a:lnTo>
                  <a:lnTo>
                    <a:pt x="65" y="57"/>
                  </a:lnTo>
                  <a:lnTo>
                    <a:pt x="91" y="67"/>
                  </a:lnTo>
                  <a:lnTo>
                    <a:pt x="118" y="77"/>
                  </a:lnTo>
                  <a:lnTo>
                    <a:pt x="144" y="81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2977200" y="1158840"/>
            <a:ext cx="3348360" cy="1507680"/>
            <a:chOff x="2977200" y="1158840"/>
            <a:chExt cx="3348360" cy="1507680"/>
          </a:xfrm>
        </p:grpSpPr>
        <p:sp>
          <p:nvSpPr>
            <p:cNvPr id="2207" name=""/>
            <p:cNvSpPr/>
            <p:nvPr/>
          </p:nvSpPr>
          <p:spPr>
            <a:xfrm>
              <a:off x="4213080" y="1884240"/>
              <a:ext cx="47952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8" name=""/>
            <p:cNvGrpSpPr/>
            <p:nvPr/>
          </p:nvGrpSpPr>
          <p:grpSpPr>
            <a:xfrm>
              <a:off x="2977200" y="1158840"/>
              <a:ext cx="3348360" cy="1507680"/>
              <a:chOff x="2977200" y="1158840"/>
              <a:chExt cx="3348360" cy="1507680"/>
            </a:xfrm>
          </p:grpSpPr>
          <p:sp>
            <p:nvSpPr>
              <p:cNvPr id="2209" name=""/>
              <p:cNvSpPr/>
              <p:nvPr/>
            </p:nvSpPr>
            <p:spPr>
              <a:xfrm>
                <a:off x="2977200" y="1616040"/>
                <a:ext cx="6620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CV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375080" y="1158840"/>
                <a:ext cx="21240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V="1">
                <a:off x="4044600" y="2071800"/>
                <a:ext cx="53316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742200" y="1558800"/>
                <a:ext cx="3938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774680" y="1616040"/>
                <a:ext cx="1652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919760" y="1616040"/>
                <a:ext cx="140580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100%)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8" dur="75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375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be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2217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9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2221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2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3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2225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7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2228" name="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"/>
          <p:cNvSpPr/>
          <p:nvPr/>
        </p:nvSpPr>
        <p:spPr>
          <a:xfrm>
            <a:off x="1582200" y="3078000"/>
            <a:ext cx="5723640" cy="703440"/>
          </a:xfrm>
          <a:prstGeom prst="rect">
            <a:avLst/>
          </a:prstGeom>
          <a:noFill/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2597040" y="3276720"/>
          <a:ext cx="3875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3276720"/>
                    <a:ext cx="3875040" cy="129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86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97640" y="1447920"/>
            <a:ext cx="32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M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an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133720"/>
            <a:ext cx="80769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2651" dir="8482788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arithmetic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of the  absolute values of the 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the arithmetic me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724280"/>
            <a:ext cx="8758080" cy="155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values are used in the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not unduly influenced by large or small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bsolute values a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ic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manipul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276720" y="195120"/>
            <a:ext cx="2485440" cy="871560"/>
            <a:chOff x="3276720" y="195120"/>
            <a:chExt cx="2485440" cy="871560"/>
          </a:xfrm>
        </p:grpSpPr>
        <p:sp>
          <p:nvSpPr>
            <p:cNvPr id="92" name=""/>
            <p:cNvSpPr txBox="1"/>
            <p:nvPr/>
          </p:nvSpPr>
          <p:spPr>
            <a:xfrm>
              <a:off x="3276720" y="19512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3914640" y="40464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066680" y="1004760"/>
            <a:ext cx="7391520" cy="4710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1614600"/>
            <a:ext cx="7809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eights of a sample of crates containing books for the bookstore             (in kg) ar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3     97    101     106      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6720" y="4343400"/>
            <a:ext cx="7809120" cy="5814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efefe"/>
              </a:gs>
              <a:gs pos="100000">
                <a:srgbClr val="eaeaea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range and the mean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772400" y="6172200"/>
            <a:ext cx="1218960" cy="609120"/>
            <a:chOff x="7772400" y="6172200"/>
            <a:chExt cx="1218960" cy="609120"/>
          </a:xfrm>
        </p:grpSpPr>
        <p:sp>
          <p:nvSpPr>
            <p:cNvPr id="98" name=""/>
            <p:cNvSpPr/>
            <p:nvPr/>
          </p:nvSpPr>
          <p:spPr>
            <a:xfrm>
              <a:off x="7772400" y="6249240"/>
              <a:ext cx="1204560" cy="53208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  <a:close/>
                </a:path>
              </a:pathLst>
            </a:custGeom>
            <a:solidFill>
              <a:srgbClr val="4c9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72400" y="6172200"/>
              <a:ext cx="1204560" cy="609120"/>
            </a:xfrm>
            <a:custGeom>
              <a:avLst/>
              <a:gdLst/>
              <a:ahLst/>
              <a:rect l="l" t="t" r="r" b="b"/>
              <a:pathLst>
                <a:path w="1470" h="330">
                  <a:moveTo>
                    <a:pt x="1338" y="0"/>
                  </a:moveTo>
                  <a:lnTo>
                    <a:pt x="132" y="0"/>
                  </a:lnTo>
                  <a:lnTo>
                    <a:pt x="114" y="0"/>
                  </a:lnTo>
                  <a:lnTo>
                    <a:pt x="102" y="0"/>
                  </a:lnTo>
                  <a:lnTo>
                    <a:pt x="90" y="3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8" y="13"/>
                  </a:lnTo>
                  <a:lnTo>
                    <a:pt x="36" y="16"/>
                  </a:lnTo>
                  <a:lnTo>
                    <a:pt x="30" y="18"/>
                  </a:lnTo>
                  <a:lnTo>
                    <a:pt x="24" y="23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6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6" y="294"/>
                  </a:lnTo>
                  <a:lnTo>
                    <a:pt x="12" y="299"/>
                  </a:lnTo>
                  <a:lnTo>
                    <a:pt x="18" y="301"/>
                  </a:lnTo>
                  <a:lnTo>
                    <a:pt x="24" y="307"/>
                  </a:lnTo>
                  <a:lnTo>
                    <a:pt x="30" y="312"/>
                  </a:lnTo>
                  <a:lnTo>
                    <a:pt x="36" y="314"/>
                  </a:lnTo>
                  <a:lnTo>
                    <a:pt x="48" y="317"/>
                  </a:lnTo>
                  <a:lnTo>
                    <a:pt x="60" y="322"/>
                  </a:lnTo>
                  <a:lnTo>
                    <a:pt x="66" y="325"/>
                  </a:lnTo>
                  <a:lnTo>
                    <a:pt x="78" y="325"/>
                  </a:lnTo>
                  <a:lnTo>
                    <a:pt x="90" y="327"/>
                  </a:lnTo>
                  <a:lnTo>
                    <a:pt x="102" y="330"/>
                  </a:lnTo>
                  <a:lnTo>
                    <a:pt x="114" y="330"/>
                  </a:lnTo>
                  <a:lnTo>
                    <a:pt x="132" y="330"/>
                  </a:lnTo>
                  <a:lnTo>
                    <a:pt x="1338" y="330"/>
                  </a:lnTo>
                  <a:lnTo>
                    <a:pt x="1356" y="330"/>
                  </a:lnTo>
                  <a:lnTo>
                    <a:pt x="1368" y="330"/>
                  </a:lnTo>
                  <a:lnTo>
                    <a:pt x="1380" y="327"/>
                  </a:lnTo>
                  <a:lnTo>
                    <a:pt x="1392" y="325"/>
                  </a:lnTo>
                  <a:lnTo>
                    <a:pt x="1404" y="325"/>
                  </a:lnTo>
                  <a:lnTo>
                    <a:pt x="1416" y="322"/>
                  </a:lnTo>
                  <a:lnTo>
                    <a:pt x="1422" y="317"/>
                  </a:lnTo>
                  <a:lnTo>
                    <a:pt x="1434" y="314"/>
                  </a:lnTo>
                  <a:lnTo>
                    <a:pt x="1440" y="312"/>
                  </a:lnTo>
                  <a:lnTo>
                    <a:pt x="1446" y="307"/>
                  </a:lnTo>
                  <a:lnTo>
                    <a:pt x="1452" y="301"/>
                  </a:lnTo>
                  <a:lnTo>
                    <a:pt x="1458" y="299"/>
                  </a:lnTo>
                  <a:lnTo>
                    <a:pt x="1464" y="294"/>
                  </a:lnTo>
                  <a:lnTo>
                    <a:pt x="1470" y="288"/>
                  </a:lnTo>
                  <a:lnTo>
                    <a:pt x="1470" y="283"/>
                  </a:lnTo>
                  <a:lnTo>
                    <a:pt x="1470" y="278"/>
                  </a:lnTo>
                  <a:lnTo>
                    <a:pt x="1470" y="52"/>
                  </a:lnTo>
                  <a:lnTo>
                    <a:pt x="1470" y="47"/>
                  </a:lnTo>
                  <a:lnTo>
                    <a:pt x="1470" y="42"/>
                  </a:lnTo>
                  <a:lnTo>
                    <a:pt x="1464" y="36"/>
                  </a:lnTo>
                  <a:lnTo>
                    <a:pt x="1458" y="31"/>
                  </a:lnTo>
                  <a:lnTo>
                    <a:pt x="1452" y="29"/>
                  </a:lnTo>
                  <a:lnTo>
                    <a:pt x="1446" y="23"/>
                  </a:lnTo>
                  <a:lnTo>
                    <a:pt x="1440" y="18"/>
                  </a:lnTo>
                  <a:lnTo>
                    <a:pt x="1434" y="16"/>
                  </a:lnTo>
                  <a:lnTo>
                    <a:pt x="1422" y="13"/>
                  </a:lnTo>
                  <a:lnTo>
                    <a:pt x="1416" y="8"/>
                  </a:lnTo>
                  <a:lnTo>
                    <a:pt x="1404" y="5"/>
                  </a:lnTo>
                  <a:lnTo>
                    <a:pt x="1392" y="5"/>
                  </a:lnTo>
                  <a:lnTo>
                    <a:pt x="1380" y="3"/>
                  </a:lnTo>
                  <a:lnTo>
                    <a:pt x="1368" y="0"/>
                  </a:lnTo>
                  <a:lnTo>
                    <a:pt x="1356" y="0"/>
                  </a:lnTo>
                  <a:lnTo>
                    <a:pt x="1338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0880" y="6379920"/>
              <a:ext cx="1140480" cy="255960"/>
            </a:xfrm>
            <a:custGeom>
              <a:avLst/>
              <a:gdLst/>
              <a:ahLst/>
              <a:rect l="l" t="t" r="r" b="b"/>
              <a:pathLst>
                <a:path w="1248" h="161">
                  <a:moveTo>
                    <a:pt x="1002" y="46"/>
                  </a:moveTo>
                  <a:lnTo>
                    <a:pt x="6" y="46"/>
                  </a:lnTo>
                  <a:lnTo>
                    <a:pt x="0" y="114"/>
                  </a:lnTo>
                  <a:lnTo>
                    <a:pt x="996" y="114"/>
                  </a:lnTo>
                  <a:lnTo>
                    <a:pt x="888" y="161"/>
                  </a:lnTo>
                  <a:lnTo>
                    <a:pt x="1056" y="158"/>
                  </a:lnTo>
                  <a:lnTo>
                    <a:pt x="1248" y="83"/>
                  </a:lnTo>
                  <a:lnTo>
                    <a:pt x="1068" y="2"/>
                  </a:lnTo>
                  <a:lnTo>
                    <a:pt x="900" y="0"/>
                  </a:lnTo>
                  <a:lnTo>
                    <a:pt x="100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7968960" y="6249240"/>
              <a:ext cx="693000" cy="4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cc"/>
                  </a:solidFill>
                  <a:effectLst>
                    <a:outerShdw dist="28496" dir="12374481" blurRad="0" rotWithShape="0">
                      <a:srgbClr val="000000"/>
                    </a:outerShdw>
                  </a:effectLst>
                  <a:latin typeface="Arial Black"/>
                </a:rPr>
                <a:t>Sol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28496" dir="12374481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09480" y="1855080"/>
            <a:ext cx="4648320" cy="1166400"/>
            <a:chOff x="609480" y="1855080"/>
            <a:chExt cx="4648320" cy="1166400"/>
          </a:xfrm>
        </p:grpSpPr>
        <p:grpSp>
          <p:nvGrpSpPr>
            <p:cNvPr id="103" name=""/>
            <p:cNvGrpSpPr/>
            <p:nvPr/>
          </p:nvGrpSpPr>
          <p:grpSpPr>
            <a:xfrm>
              <a:off x="1265400" y="1855080"/>
              <a:ext cx="3992400" cy="1166400"/>
              <a:chOff x="1265400" y="1855080"/>
              <a:chExt cx="3992400" cy="1166400"/>
            </a:xfrm>
          </p:grpSpPr>
          <p:sp>
            <p:nvSpPr>
              <p:cNvPr id="104" name=""/>
              <p:cNvSpPr/>
              <p:nvPr/>
            </p:nvSpPr>
            <p:spPr>
              <a:xfrm rot="121200">
                <a:off x="1814400" y="1904760"/>
                <a:ext cx="2851200" cy="1066680"/>
              </a:xfrm>
              <a:custGeom>
                <a:avLst/>
                <a:gdLst/>
                <a:ahLst/>
                <a:rect l="l" t="t" r="r" b="b"/>
                <a:pathLst>
                  <a:path w="2085" h="2090">
                    <a:moveTo>
                      <a:pt x="751" y="2087"/>
                    </a:moveTo>
                    <a:lnTo>
                      <a:pt x="754" y="2087"/>
                    </a:lnTo>
                    <a:lnTo>
                      <a:pt x="757" y="2087"/>
                    </a:lnTo>
                    <a:lnTo>
                      <a:pt x="759" y="2087"/>
                    </a:lnTo>
                    <a:lnTo>
                      <a:pt x="762" y="2087"/>
                    </a:lnTo>
                    <a:lnTo>
                      <a:pt x="765" y="2087"/>
                    </a:lnTo>
                    <a:lnTo>
                      <a:pt x="768" y="2087"/>
                    </a:lnTo>
                    <a:lnTo>
                      <a:pt x="770" y="2087"/>
                    </a:lnTo>
                    <a:lnTo>
                      <a:pt x="773" y="2084"/>
                    </a:lnTo>
                    <a:lnTo>
                      <a:pt x="776" y="2084"/>
                    </a:lnTo>
                    <a:lnTo>
                      <a:pt x="776" y="2084"/>
                    </a:lnTo>
                    <a:lnTo>
                      <a:pt x="779" y="2084"/>
                    </a:lnTo>
                    <a:lnTo>
                      <a:pt x="781" y="2084"/>
                    </a:lnTo>
                    <a:lnTo>
                      <a:pt x="781" y="2082"/>
                    </a:lnTo>
                    <a:lnTo>
                      <a:pt x="784" y="2082"/>
                    </a:lnTo>
                    <a:lnTo>
                      <a:pt x="787" y="2082"/>
                    </a:lnTo>
                    <a:lnTo>
                      <a:pt x="790" y="2082"/>
                    </a:lnTo>
                    <a:lnTo>
                      <a:pt x="825" y="2062"/>
                    </a:lnTo>
                    <a:lnTo>
                      <a:pt x="861" y="2040"/>
                    </a:lnTo>
                    <a:lnTo>
                      <a:pt x="894" y="2016"/>
                    </a:lnTo>
                    <a:lnTo>
                      <a:pt x="924" y="1988"/>
                    </a:lnTo>
                    <a:lnTo>
                      <a:pt x="955" y="1958"/>
                    </a:lnTo>
                    <a:lnTo>
                      <a:pt x="982" y="1928"/>
                    </a:lnTo>
                    <a:lnTo>
                      <a:pt x="1010" y="1895"/>
                    </a:lnTo>
                    <a:lnTo>
                      <a:pt x="1037" y="1864"/>
                    </a:lnTo>
                    <a:lnTo>
                      <a:pt x="1040" y="1862"/>
                    </a:lnTo>
                    <a:lnTo>
                      <a:pt x="1043" y="1862"/>
                    </a:lnTo>
                    <a:lnTo>
                      <a:pt x="1045" y="1862"/>
                    </a:lnTo>
                    <a:lnTo>
                      <a:pt x="1048" y="1862"/>
                    </a:lnTo>
                    <a:lnTo>
                      <a:pt x="1051" y="1862"/>
                    </a:lnTo>
                    <a:lnTo>
                      <a:pt x="1054" y="1862"/>
                    </a:lnTo>
                    <a:lnTo>
                      <a:pt x="1056" y="1862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62" y="1867"/>
                    </a:lnTo>
                    <a:lnTo>
                      <a:pt x="1062" y="1867"/>
                    </a:lnTo>
                    <a:lnTo>
                      <a:pt x="1062" y="1867"/>
                    </a:lnTo>
                    <a:lnTo>
                      <a:pt x="1062" y="1870"/>
                    </a:lnTo>
                    <a:lnTo>
                      <a:pt x="1062" y="1870"/>
                    </a:lnTo>
                    <a:lnTo>
                      <a:pt x="1062" y="1870"/>
                    </a:lnTo>
                    <a:lnTo>
                      <a:pt x="1065" y="1870"/>
                    </a:lnTo>
                    <a:lnTo>
                      <a:pt x="1065" y="1870"/>
                    </a:lnTo>
                    <a:lnTo>
                      <a:pt x="1067" y="1873"/>
                    </a:lnTo>
                    <a:lnTo>
                      <a:pt x="1067" y="1873"/>
                    </a:lnTo>
                    <a:lnTo>
                      <a:pt x="1070" y="1875"/>
                    </a:lnTo>
                    <a:lnTo>
                      <a:pt x="1070" y="1875"/>
                    </a:lnTo>
                    <a:lnTo>
                      <a:pt x="1070" y="1875"/>
                    </a:lnTo>
                    <a:lnTo>
                      <a:pt x="1078" y="1884"/>
                    </a:lnTo>
                    <a:lnTo>
                      <a:pt x="1084" y="1895"/>
                    </a:lnTo>
                    <a:lnTo>
                      <a:pt x="1092" y="1903"/>
                    </a:lnTo>
                    <a:lnTo>
                      <a:pt x="1103" y="1911"/>
                    </a:lnTo>
                    <a:lnTo>
                      <a:pt x="1111" y="1919"/>
                    </a:lnTo>
                    <a:lnTo>
                      <a:pt x="1122" y="1925"/>
                    </a:lnTo>
                    <a:lnTo>
                      <a:pt x="1133" y="1930"/>
                    </a:lnTo>
                    <a:lnTo>
                      <a:pt x="1147" y="1933"/>
                    </a:lnTo>
                    <a:lnTo>
                      <a:pt x="1153" y="1936"/>
                    </a:lnTo>
                    <a:lnTo>
                      <a:pt x="1161" y="1936"/>
                    </a:lnTo>
                    <a:lnTo>
                      <a:pt x="1166" y="1936"/>
                    </a:lnTo>
                    <a:lnTo>
                      <a:pt x="1175" y="1936"/>
                    </a:lnTo>
                    <a:lnTo>
                      <a:pt x="1180" y="1936"/>
                    </a:lnTo>
                    <a:lnTo>
                      <a:pt x="1188" y="1933"/>
                    </a:lnTo>
                    <a:lnTo>
                      <a:pt x="1197" y="1933"/>
                    </a:lnTo>
                    <a:lnTo>
                      <a:pt x="1205" y="1933"/>
                    </a:lnTo>
                    <a:lnTo>
                      <a:pt x="1205" y="1933"/>
                    </a:lnTo>
                    <a:lnTo>
                      <a:pt x="1208" y="1933"/>
                    </a:lnTo>
                    <a:lnTo>
                      <a:pt x="1208" y="1930"/>
                    </a:lnTo>
                    <a:lnTo>
                      <a:pt x="1210" y="1930"/>
                    </a:lnTo>
                    <a:lnTo>
                      <a:pt x="1213" y="1930"/>
                    </a:lnTo>
                    <a:lnTo>
                      <a:pt x="1216" y="1928"/>
                    </a:lnTo>
                    <a:lnTo>
                      <a:pt x="1216" y="1928"/>
                    </a:lnTo>
                    <a:lnTo>
                      <a:pt x="1219" y="1928"/>
                    </a:lnTo>
                    <a:lnTo>
                      <a:pt x="1221" y="1928"/>
                    </a:lnTo>
                    <a:lnTo>
                      <a:pt x="1224" y="1925"/>
                    </a:lnTo>
                    <a:lnTo>
                      <a:pt x="1227" y="1925"/>
                    </a:lnTo>
                    <a:lnTo>
                      <a:pt x="1230" y="1925"/>
                    </a:lnTo>
                    <a:lnTo>
                      <a:pt x="1232" y="1922"/>
                    </a:lnTo>
                    <a:lnTo>
                      <a:pt x="1235" y="1922"/>
                    </a:lnTo>
                    <a:lnTo>
                      <a:pt x="1238" y="1922"/>
                    </a:lnTo>
                    <a:lnTo>
                      <a:pt x="1241" y="1919"/>
                    </a:lnTo>
                    <a:lnTo>
                      <a:pt x="1241" y="1919"/>
                    </a:lnTo>
                    <a:lnTo>
                      <a:pt x="1243" y="1919"/>
                    </a:lnTo>
                    <a:lnTo>
                      <a:pt x="1243" y="1917"/>
                    </a:lnTo>
                    <a:lnTo>
                      <a:pt x="1246" y="1917"/>
                    </a:lnTo>
                    <a:lnTo>
                      <a:pt x="1249" y="1917"/>
                    </a:lnTo>
                    <a:lnTo>
                      <a:pt x="1252" y="1914"/>
                    </a:lnTo>
                    <a:lnTo>
                      <a:pt x="1252" y="1914"/>
                    </a:lnTo>
                    <a:lnTo>
                      <a:pt x="1254" y="1914"/>
                    </a:lnTo>
                    <a:lnTo>
                      <a:pt x="1329" y="1878"/>
                    </a:lnTo>
                    <a:lnTo>
                      <a:pt x="1331" y="1878"/>
                    </a:lnTo>
                    <a:lnTo>
                      <a:pt x="1334" y="1878"/>
                    </a:lnTo>
                    <a:lnTo>
                      <a:pt x="1337" y="1878"/>
                    </a:lnTo>
                    <a:lnTo>
                      <a:pt x="1340" y="1878"/>
                    </a:lnTo>
                    <a:lnTo>
                      <a:pt x="1342" y="1881"/>
                    </a:lnTo>
                    <a:lnTo>
                      <a:pt x="1345" y="1881"/>
                    </a:lnTo>
                    <a:lnTo>
                      <a:pt x="1348" y="1884"/>
                    </a:lnTo>
                    <a:lnTo>
                      <a:pt x="1351" y="1884"/>
                    </a:lnTo>
                    <a:lnTo>
                      <a:pt x="1351" y="1884"/>
                    </a:lnTo>
                    <a:lnTo>
                      <a:pt x="1351" y="1884"/>
                    </a:lnTo>
                    <a:lnTo>
                      <a:pt x="1353" y="1886"/>
                    </a:lnTo>
                    <a:lnTo>
                      <a:pt x="1353" y="1886"/>
                    </a:lnTo>
                    <a:lnTo>
                      <a:pt x="1353" y="1886"/>
                    </a:lnTo>
                    <a:lnTo>
                      <a:pt x="1353" y="1889"/>
                    </a:lnTo>
                    <a:lnTo>
                      <a:pt x="1353" y="1889"/>
                    </a:lnTo>
                    <a:lnTo>
                      <a:pt x="1356" y="1889"/>
                    </a:lnTo>
                    <a:lnTo>
                      <a:pt x="1356" y="1889"/>
                    </a:lnTo>
                    <a:lnTo>
                      <a:pt x="1356" y="1892"/>
                    </a:lnTo>
                    <a:lnTo>
                      <a:pt x="1356" y="1892"/>
                    </a:lnTo>
                    <a:lnTo>
                      <a:pt x="1356" y="1895"/>
                    </a:lnTo>
                    <a:lnTo>
                      <a:pt x="1359" y="1895"/>
                    </a:lnTo>
                    <a:lnTo>
                      <a:pt x="1359" y="1897"/>
                    </a:lnTo>
                    <a:lnTo>
                      <a:pt x="1359" y="1897"/>
                    </a:lnTo>
                    <a:lnTo>
                      <a:pt x="1359" y="1897"/>
                    </a:lnTo>
                    <a:lnTo>
                      <a:pt x="1364" y="1903"/>
                    </a:lnTo>
                    <a:lnTo>
                      <a:pt x="1370" y="1911"/>
                    </a:lnTo>
                    <a:lnTo>
                      <a:pt x="1375" y="1917"/>
                    </a:lnTo>
                    <a:lnTo>
                      <a:pt x="1384" y="1922"/>
                    </a:lnTo>
                    <a:lnTo>
                      <a:pt x="1389" y="1930"/>
                    </a:lnTo>
                    <a:lnTo>
                      <a:pt x="1395" y="1936"/>
                    </a:lnTo>
                    <a:lnTo>
                      <a:pt x="1403" y="1941"/>
                    </a:lnTo>
                    <a:lnTo>
                      <a:pt x="1408" y="1947"/>
                    </a:lnTo>
                    <a:lnTo>
                      <a:pt x="1414" y="1947"/>
                    </a:lnTo>
                    <a:lnTo>
                      <a:pt x="1417" y="1950"/>
                    </a:lnTo>
                    <a:lnTo>
                      <a:pt x="1422" y="1952"/>
                    </a:lnTo>
                    <a:lnTo>
                      <a:pt x="1428" y="1952"/>
                    </a:lnTo>
                    <a:lnTo>
                      <a:pt x="1436" y="1952"/>
                    </a:lnTo>
                    <a:lnTo>
                      <a:pt x="1441" y="1955"/>
                    </a:lnTo>
                    <a:lnTo>
                      <a:pt x="1447" y="1955"/>
                    </a:lnTo>
                    <a:lnTo>
                      <a:pt x="1452" y="1955"/>
                    </a:lnTo>
                    <a:lnTo>
                      <a:pt x="1494" y="1933"/>
                    </a:lnTo>
                    <a:lnTo>
                      <a:pt x="1529" y="1906"/>
                    </a:lnTo>
                    <a:lnTo>
                      <a:pt x="1560" y="1873"/>
                    </a:lnTo>
                    <a:lnTo>
                      <a:pt x="1590" y="1837"/>
                    </a:lnTo>
                    <a:lnTo>
                      <a:pt x="1617" y="1801"/>
                    </a:lnTo>
                    <a:lnTo>
                      <a:pt x="1645" y="1765"/>
                    </a:lnTo>
                    <a:lnTo>
                      <a:pt x="1672" y="1730"/>
                    </a:lnTo>
                    <a:lnTo>
                      <a:pt x="1703" y="1697"/>
                    </a:lnTo>
                    <a:lnTo>
                      <a:pt x="1733" y="1658"/>
                    </a:lnTo>
                    <a:lnTo>
                      <a:pt x="1763" y="1620"/>
                    </a:lnTo>
                    <a:lnTo>
                      <a:pt x="1793" y="1584"/>
                    </a:lnTo>
                    <a:lnTo>
                      <a:pt x="1821" y="1548"/>
                    </a:lnTo>
                    <a:lnTo>
                      <a:pt x="1848" y="1510"/>
                    </a:lnTo>
                    <a:lnTo>
                      <a:pt x="1873" y="1474"/>
                    </a:lnTo>
                    <a:lnTo>
                      <a:pt x="1898" y="1435"/>
                    </a:lnTo>
                    <a:lnTo>
                      <a:pt x="1920" y="1394"/>
                    </a:lnTo>
                    <a:lnTo>
                      <a:pt x="1945" y="1356"/>
                    </a:lnTo>
                    <a:lnTo>
                      <a:pt x="1967" y="1317"/>
                    </a:lnTo>
                    <a:lnTo>
                      <a:pt x="1991" y="1279"/>
                    </a:lnTo>
                    <a:lnTo>
                      <a:pt x="2013" y="1240"/>
                    </a:lnTo>
                    <a:lnTo>
                      <a:pt x="2033" y="1202"/>
                    </a:lnTo>
                    <a:lnTo>
                      <a:pt x="2052" y="1163"/>
                    </a:lnTo>
                    <a:lnTo>
                      <a:pt x="2071" y="1125"/>
                    </a:lnTo>
                    <a:lnTo>
                      <a:pt x="2085" y="1083"/>
                    </a:lnTo>
                    <a:lnTo>
                      <a:pt x="2085" y="1083"/>
                    </a:lnTo>
                    <a:lnTo>
                      <a:pt x="2085" y="1081"/>
                    </a:lnTo>
                    <a:lnTo>
                      <a:pt x="2085" y="1081"/>
                    </a:lnTo>
                    <a:lnTo>
                      <a:pt x="2085" y="1078"/>
                    </a:lnTo>
                    <a:lnTo>
                      <a:pt x="2082" y="1075"/>
                    </a:lnTo>
                    <a:lnTo>
                      <a:pt x="2082" y="1072"/>
                    </a:lnTo>
                    <a:lnTo>
                      <a:pt x="2082" y="1072"/>
                    </a:lnTo>
                    <a:lnTo>
                      <a:pt x="2079" y="1070"/>
                    </a:lnTo>
                    <a:lnTo>
                      <a:pt x="2079" y="1067"/>
                    </a:lnTo>
                    <a:lnTo>
                      <a:pt x="2077" y="1061"/>
                    </a:lnTo>
                    <a:lnTo>
                      <a:pt x="2074" y="1059"/>
                    </a:lnTo>
                    <a:lnTo>
                      <a:pt x="2071" y="1056"/>
                    </a:lnTo>
                    <a:lnTo>
                      <a:pt x="2068" y="1050"/>
                    </a:lnTo>
                    <a:lnTo>
                      <a:pt x="2066" y="1048"/>
                    </a:lnTo>
                    <a:lnTo>
                      <a:pt x="2063" y="1042"/>
                    </a:lnTo>
                    <a:lnTo>
                      <a:pt x="2060" y="1040"/>
                    </a:lnTo>
                    <a:lnTo>
                      <a:pt x="2057" y="1040"/>
                    </a:lnTo>
                    <a:lnTo>
                      <a:pt x="2057" y="1037"/>
                    </a:lnTo>
                    <a:lnTo>
                      <a:pt x="2055" y="1037"/>
                    </a:lnTo>
                    <a:lnTo>
                      <a:pt x="2052" y="1037"/>
                    </a:lnTo>
                    <a:lnTo>
                      <a:pt x="2052" y="1034"/>
                    </a:lnTo>
                    <a:lnTo>
                      <a:pt x="2049" y="1034"/>
                    </a:lnTo>
                    <a:lnTo>
                      <a:pt x="2049" y="1031"/>
                    </a:lnTo>
                    <a:lnTo>
                      <a:pt x="2046" y="1031"/>
                    </a:lnTo>
                    <a:lnTo>
                      <a:pt x="2044" y="1029"/>
                    </a:lnTo>
                    <a:lnTo>
                      <a:pt x="2038" y="1026"/>
                    </a:lnTo>
                    <a:lnTo>
                      <a:pt x="2035" y="1026"/>
                    </a:lnTo>
                    <a:lnTo>
                      <a:pt x="2030" y="1023"/>
                    </a:lnTo>
                    <a:lnTo>
                      <a:pt x="2027" y="1023"/>
                    </a:lnTo>
                    <a:lnTo>
                      <a:pt x="2022" y="1023"/>
                    </a:lnTo>
                    <a:lnTo>
                      <a:pt x="2019" y="1020"/>
                    </a:lnTo>
                    <a:lnTo>
                      <a:pt x="2016" y="1020"/>
                    </a:lnTo>
                    <a:lnTo>
                      <a:pt x="1991" y="1015"/>
                    </a:lnTo>
                    <a:lnTo>
                      <a:pt x="1967" y="1015"/>
                    </a:lnTo>
                    <a:lnTo>
                      <a:pt x="1945" y="1020"/>
                    </a:lnTo>
                    <a:lnTo>
                      <a:pt x="1920" y="1029"/>
                    </a:lnTo>
                    <a:lnTo>
                      <a:pt x="1901" y="1037"/>
                    </a:lnTo>
                    <a:lnTo>
                      <a:pt x="1879" y="1050"/>
                    </a:lnTo>
                    <a:lnTo>
                      <a:pt x="1859" y="1067"/>
                    </a:lnTo>
                    <a:lnTo>
                      <a:pt x="1843" y="1083"/>
                    </a:lnTo>
                    <a:lnTo>
                      <a:pt x="1840" y="1083"/>
                    </a:lnTo>
                    <a:lnTo>
                      <a:pt x="1837" y="1083"/>
                    </a:lnTo>
                    <a:lnTo>
                      <a:pt x="1835" y="1083"/>
                    </a:lnTo>
                    <a:lnTo>
                      <a:pt x="1832" y="1083"/>
                    </a:lnTo>
                    <a:lnTo>
                      <a:pt x="1832" y="1083"/>
                    </a:lnTo>
                    <a:lnTo>
                      <a:pt x="1829" y="1083"/>
                    </a:lnTo>
                    <a:lnTo>
                      <a:pt x="1826" y="1083"/>
                    </a:lnTo>
                    <a:lnTo>
                      <a:pt x="1824" y="1083"/>
                    </a:lnTo>
                    <a:lnTo>
                      <a:pt x="1835" y="1042"/>
                    </a:lnTo>
                    <a:lnTo>
                      <a:pt x="1854" y="1004"/>
                    </a:lnTo>
                    <a:lnTo>
                      <a:pt x="1873" y="965"/>
                    </a:lnTo>
                    <a:lnTo>
                      <a:pt x="1895" y="927"/>
                    </a:lnTo>
                    <a:lnTo>
                      <a:pt x="1912" y="888"/>
                    </a:lnTo>
                    <a:lnTo>
                      <a:pt x="1923" y="847"/>
                    </a:lnTo>
                    <a:lnTo>
                      <a:pt x="1925" y="803"/>
                    </a:lnTo>
                    <a:lnTo>
                      <a:pt x="1912" y="756"/>
                    </a:lnTo>
                    <a:lnTo>
                      <a:pt x="1901" y="748"/>
                    </a:lnTo>
                    <a:lnTo>
                      <a:pt x="1887" y="743"/>
                    </a:lnTo>
                    <a:lnTo>
                      <a:pt x="1870" y="737"/>
                    </a:lnTo>
                    <a:lnTo>
                      <a:pt x="1854" y="734"/>
                    </a:lnTo>
                    <a:lnTo>
                      <a:pt x="1837" y="732"/>
                    </a:lnTo>
                    <a:lnTo>
                      <a:pt x="1821" y="726"/>
                    </a:lnTo>
                    <a:lnTo>
                      <a:pt x="1807" y="721"/>
                    </a:lnTo>
                    <a:lnTo>
                      <a:pt x="1793" y="710"/>
                    </a:lnTo>
                    <a:lnTo>
                      <a:pt x="1793" y="710"/>
                    </a:lnTo>
                    <a:lnTo>
                      <a:pt x="1793" y="707"/>
                    </a:lnTo>
                    <a:lnTo>
                      <a:pt x="1793" y="704"/>
                    </a:lnTo>
                    <a:lnTo>
                      <a:pt x="1793" y="701"/>
                    </a:lnTo>
                    <a:lnTo>
                      <a:pt x="1793" y="699"/>
                    </a:lnTo>
                    <a:lnTo>
                      <a:pt x="1793" y="696"/>
                    </a:lnTo>
                    <a:lnTo>
                      <a:pt x="1793" y="693"/>
                    </a:lnTo>
                    <a:lnTo>
                      <a:pt x="1793" y="690"/>
                    </a:lnTo>
                    <a:lnTo>
                      <a:pt x="1793" y="690"/>
                    </a:lnTo>
                    <a:lnTo>
                      <a:pt x="1796" y="688"/>
                    </a:lnTo>
                    <a:lnTo>
                      <a:pt x="1796" y="688"/>
                    </a:lnTo>
                    <a:lnTo>
                      <a:pt x="1796" y="685"/>
                    </a:lnTo>
                    <a:lnTo>
                      <a:pt x="1799" y="685"/>
                    </a:lnTo>
                    <a:lnTo>
                      <a:pt x="1799" y="682"/>
                    </a:lnTo>
                    <a:lnTo>
                      <a:pt x="1799" y="682"/>
                    </a:lnTo>
                    <a:lnTo>
                      <a:pt x="1802" y="682"/>
                    </a:lnTo>
                    <a:lnTo>
                      <a:pt x="1802" y="679"/>
                    </a:lnTo>
                    <a:lnTo>
                      <a:pt x="1804" y="677"/>
                    </a:lnTo>
                    <a:lnTo>
                      <a:pt x="1804" y="677"/>
                    </a:lnTo>
                    <a:lnTo>
                      <a:pt x="1807" y="674"/>
                    </a:lnTo>
                    <a:lnTo>
                      <a:pt x="1810" y="671"/>
                    </a:lnTo>
                    <a:lnTo>
                      <a:pt x="1813" y="668"/>
                    </a:lnTo>
                    <a:lnTo>
                      <a:pt x="1815" y="666"/>
                    </a:lnTo>
                    <a:lnTo>
                      <a:pt x="1815" y="660"/>
                    </a:lnTo>
                    <a:lnTo>
                      <a:pt x="1818" y="657"/>
                    </a:lnTo>
                    <a:lnTo>
                      <a:pt x="1821" y="655"/>
                    </a:lnTo>
                    <a:lnTo>
                      <a:pt x="1824" y="652"/>
                    </a:lnTo>
                    <a:lnTo>
                      <a:pt x="1826" y="649"/>
                    </a:lnTo>
                    <a:lnTo>
                      <a:pt x="1826" y="646"/>
                    </a:lnTo>
                    <a:lnTo>
                      <a:pt x="1829" y="644"/>
                    </a:lnTo>
                    <a:lnTo>
                      <a:pt x="1832" y="641"/>
                    </a:lnTo>
                    <a:lnTo>
                      <a:pt x="1832" y="638"/>
                    </a:lnTo>
                    <a:lnTo>
                      <a:pt x="1848" y="613"/>
                    </a:lnTo>
                    <a:lnTo>
                      <a:pt x="1868" y="589"/>
                    </a:lnTo>
                    <a:lnTo>
                      <a:pt x="1887" y="561"/>
                    </a:lnTo>
                    <a:lnTo>
                      <a:pt x="1906" y="536"/>
                    </a:lnTo>
                    <a:lnTo>
                      <a:pt x="1925" y="509"/>
                    </a:lnTo>
                    <a:lnTo>
                      <a:pt x="1939" y="481"/>
                    </a:lnTo>
                    <a:lnTo>
                      <a:pt x="1953" y="451"/>
                    </a:lnTo>
                    <a:lnTo>
                      <a:pt x="1961" y="421"/>
                    </a:lnTo>
                    <a:lnTo>
                      <a:pt x="1961" y="418"/>
                    </a:lnTo>
                    <a:lnTo>
                      <a:pt x="1958" y="415"/>
                    </a:lnTo>
                    <a:lnTo>
                      <a:pt x="1958" y="413"/>
                    </a:lnTo>
                    <a:lnTo>
                      <a:pt x="1956" y="410"/>
                    </a:lnTo>
                    <a:lnTo>
                      <a:pt x="1956" y="407"/>
                    </a:lnTo>
                    <a:lnTo>
                      <a:pt x="1956" y="404"/>
                    </a:lnTo>
                    <a:lnTo>
                      <a:pt x="1953" y="402"/>
                    </a:lnTo>
                    <a:lnTo>
                      <a:pt x="1953" y="399"/>
                    </a:lnTo>
                    <a:lnTo>
                      <a:pt x="1950" y="393"/>
                    </a:lnTo>
                    <a:lnTo>
                      <a:pt x="1945" y="388"/>
                    </a:lnTo>
                    <a:lnTo>
                      <a:pt x="1942" y="382"/>
                    </a:lnTo>
                    <a:lnTo>
                      <a:pt x="1936" y="380"/>
                    </a:lnTo>
                    <a:lnTo>
                      <a:pt x="1931" y="374"/>
                    </a:lnTo>
                    <a:lnTo>
                      <a:pt x="1923" y="369"/>
                    </a:lnTo>
                    <a:lnTo>
                      <a:pt x="1917" y="366"/>
                    </a:lnTo>
                    <a:lnTo>
                      <a:pt x="1912" y="360"/>
                    </a:lnTo>
                    <a:lnTo>
                      <a:pt x="1912" y="360"/>
                    </a:lnTo>
                    <a:lnTo>
                      <a:pt x="1909" y="358"/>
                    </a:lnTo>
                    <a:lnTo>
                      <a:pt x="1906" y="358"/>
                    </a:lnTo>
                    <a:lnTo>
                      <a:pt x="1903" y="355"/>
                    </a:lnTo>
                    <a:lnTo>
                      <a:pt x="1903" y="355"/>
                    </a:lnTo>
                    <a:lnTo>
                      <a:pt x="1901" y="352"/>
                    </a:lnTo>
                    <a:lnTo>
                      <a:pt x="1898" y="352"/>
                    </a:lnTo>
                    <a:lnTo>
                      <a:pt x="1895" y="349"/>
                    </a:lnTo>
                    <a:lnTo>
                      <a:pt x="1892" y="349"/>
                    </a:lnTo>
                    <a:lnTo>
                      <a:pt x="1890" y="349"/>
                    </a:lnTo>
                    <a:lnTo>
                      <a:pt x="1887" y="349"/>
                    </a:lnTo>
                    <a:lnTo>
                      <a:pt x="1887" y="349"/>
                    </a:lnTo>
                    <a:lnTo>
                      <a:pt x="1884" y="349"/>
                    </a:lnTo>
                    <a:lnTo>
                      <a:pt x="1881" y="349"/>
                    </a:lnTo>
                    <a:lnTo>
                      <a:pt x="1881" y="347"/>
                    </a:lnTo>
                    <a:lnTo>
                      <a:pt x="1881" y="347"/>
                    </a:lnTo>
                    <a:lnTo>
                      <a:pt x="1873" y="347"/>
                    </a:lnTo>
                    <a:lnTo>
                      <a:pt x="1868" y="347"/>
                    </a:lnTo>
                    <a:lnTo>
                      <a:pt x="1862" y="347"/>
                    </a:lnTo>
                    <a:lnTo>
                      <a:pt x="1857" y="347"/>
                    </a:lnTo>
                    <a:lnTo>
                      <a:pt x="1851" y="347"/>
                    </a:lnTo>
                    <a:lnTo>
                      <a:pt x="1846" y="349"/>
                    </a:lnTo>
                    <a:lnTo>
                      <a:pt x="1840" y="349"/>
                    </a:lnTo>
                    <a:lnTo>
                      <a:pt x="1832" y="349"/>
                    </a:lnTo>
                    <a:lnTo>
                      <a:pt x="1832" y="352"/>
                    </a:lnTo>
                    <a:lnTo>
                      <a:pt x="1832" y="352"/>
                    </a:lnTo>
                    <a:lnTo>
                      <a:pt x="1829" y="352"/>
                    </a:lnTo>
                    <a:lnTo>
                      <a:pt x="1826" y="352"/>
                    </a:lnTo>
                    <a:lnTo>
                      <a:pt x="1826" y="352"/>
                    </a:lnTo>
                    <a:lnTo>
                      <a:pt x="1824" y="352"/>
                    </a:lnTo>
                    <a:lnTo>
                      <a:pt x="1821" y="352"/>
                    </a:lnTo>
                    <a:lnTo>
                      <a:pt x="1818" y="352"/>
                    </a:lnTo>
                    <a:lnTo>
                      <a:pt x="1782" y="377"/>
                    </a:lnTo>
                    <a:lnTo>
                      <a:pt x="1747" y="402"/>
                    </a:lnTo>
                    <a:lnTo>
                      <a:pt x="1714" y="432"/>
                    </a:lnTo>
                    <a:lnTo>
                      <a:pt x="1681" y="462"/>
                    </a:lnTo>
                    <a:lnTo>
                      <a:pt x="1650" y="495"/>
                    </a:lnTo>
                    <a:lnTo>
                      <a:pt x="1620" y="528"/>
                    </a:lnTo>
                    <a:lnTo>
                      <a:pt x="1587" y="561"/>
                    </a:lnTo>
                    <a:lnTo>
                      <a:pt x="1554" y="594"/>
                    </a:lnTo>
                    <a:lnTo>
                      <a:pt x="1551" y="597"/>
                    </a:lnTo>
                    <a:lnTo>
                      <a:pt x="1549" y="602"/>
                    </a:lnTo>
                    <a:lnTo>
                      <a:pt x="1546" y="605"/>
                    </a:lnTo>
                    <a:lnTo>
                      <a:pt x="1543" y="608"/>
                    </a:lnTo>
                    <a:lnTo>
                      <a:pt x="1540" y="611"/>
                    </a:lnTo>
                    <a:lnTo>
                      <a:pt x="1540" y="611"/>
                    </a:lnTo>
                    <a:lnTo>
                      <a:pt x="1538" y="613"/>
                    </a:lnTo>
                    <a:lnTo>
                      <a:pt x="1538" y="613"/>
                    </a:lnTo>
                    <a:lnTo>
                      <a:pt x="1535" y="616"/>
                    </a:lnTo>
                    <a:lnTo>
                      <a:pt x="1532" y="616"/>
                    </a:lnTo>
                    <a:lnTo>
                      <a:pt x="1529" y="616"/>
                    </a:lnTo>
                    <a:lnTo>
                      <a:pt x="1527" y="616"/>
                    </a:lnTo>
                    <a:lnTo>
                      <a:pt x="1524" y="619"/>
                    </a:lnTo>
                    <a:lnTo>
                      <a:pt x="1521" y="616"/>
                    </a:lnTo>
                    <a:lnTo>
                      <a:pt x="1521" y="616"/>
                    </a:lnTo>
                    <a:lnTo>
                      <a:pt x="1518" y="613"/>
                    </a:lnTo>
                    <a:lnTo>
                      <a:pt x="1518" y="611"/>
                    </a:lnTo>
                    <a:lnTo>
                      <a:pt x="1518" y="611"/>
                    </a:lnTo>
                    <a:lnTo>
                      <a:pt x="1518" y="608"/>
                    </a:lnTo>
                    <a:lnTo>
                      <a:pt x="1518" y="605"/>
                    </a:lnTo>
                    <a:lnTo>
                      <a:pt x="1518" y="602"/>
                    </a:lnTo>
                    <a:lnTo>
                      <a:pt x="1521" y="602"/>
                    </a:lnTo>
                    <a:lnTo>
                      <a:pt x="1521" y="600"/>
                    </a:lnTo>
                    <a:lnTo>
                      <a:pt x="1524" y="597"/>
                    </a:lnTo>
                    <a:lnTo>
                      <a:pt x="1524" y="597"/>
                    </a:lnTo>
                    <a:lnTo>
                      <a:pt x="1524" y="594"/>
                    </a:lnTo>
                    <a:lnTo>
                      <a:pt x="1524" y="591"/>
                    </a:lnTo>
                    <a:lnTo>
                      <a:pt x="1524" y="589"/>
                    </a:lnTo>
                    <a:lnTo>
                      <a:pt x="1524" y="589"/>
                    </a:lnTo>
                    <a:lnTo>
                      <a:pt x="1524" y="586"/>
                    </a:lnTo>
                    <a:lnTo>
                      <a:pt x="1527" y="583"/>
                    </a:lnTo>
                    <a:lnTo>
                      <a:pt x="1527" y="580"/>
                    </a:lnTo>
                    <a:lnTo>
                      <a:pt x="1540" y="550"/>
                    </a:lnTo>
                    <a:lnTo>
                      <a:pt x="1560" y="523"/>
                    </a:lnTo>
                    <a:lnTo>
                      <a:pt x="1576" y="495"/>
                    </a:lnTo>
                    <a:lnTo>
                      <a:pt x="1595" y="468"/>
                    </a:lnTo>
                    <a:lnTo>
                      <a:pt x="1615" y="440"/>
                    </a:lnTo>
                    <a:lnTo>
                      <a:pt x="1631" y="410"/>
                    </a:lnTo>
                    <a:lnTo>
                      <a:pt x="1645" y="380"/>
                    </a:lnTo>
                    <a:lnTo>
                      <a:pt x="1659" y="347"/>
                    </a:lnTo>
                    <a:lnTo>
                      <a:pt x="1659" y="333"/>
                    </a:lnTo>
                    <a:lnTo>
                      <a:pt x="1661" y="319"/>
                    </a:lnTo>
                    <a:lnTo>
                      <a:pt x="1661" y="305"/>
                    </a:lnTo>
                    <a:lnTo>
                      <a:pt x="1661" y="292"/>
                    </a:lnTo>
                    <a:lnTo>
                      <a:pt x="1659" y="278"/>
                    </a:lnTo>
                    <a:lnTo>
                      <a:pt x="1653" y="264"/>
                    </a:lnTo>
                    <a:lnTo>
                      <a:pt x="1648" y="253"/>
                    </a:lnTo>
                    <a:lnTo>
                      <a:pt x="1639" y="239"/>
                    </a:lnTo>
                    <a:lnTo>
                      <a:pt x="1639" y="239"/>
                    </a:lnTo>
                    <a:lnTo>
                      <a:pt x="1639" y="237"/>
                    </a:lnTo>
                    <a:lnTo>
                      <a:pt x="1637" y="237"/>
                    </a:lnTo>
                    <a:lnTo>
                      <a:pt x="1637" y="234"/>
                    </a:lnTo>
                    <a:lnTo>
                      <a:pt x="1634" y="231"/>
                    </a:lnTo>
                    <a:lnTo>
                      <a:pt x="1631" y="231"/>
                    </a:lnTo>
                    <a:lnTo>
                      <a:pt x="1631" y="228"/>
                    </a:lnTo>
                    <a:lnTo>
                      <a:pt x="1628" y="228"/>
                    </a:lnTo>
                    <a:lnTo>
                      <a:pt x="1617" y="223"/>
                    </a:lnTo>
                    <a:lnTo>
                      <a:pt x="1606" y="220"/>
                    </a:lnTo>
                    <a:lnTo>
                      <a:pt x="1595" y="217"/>
                    </a:lnTo>
                    <a:lnTo>
                      <a:pt x="1584" y="217"/>
                    </a:lnTo>
                    <a:lnTo>
                      <a:pt x="1571" y="217"/>
                    </a:lnTo>
                    <a:lnTo>
                      <a:pt x="1560" y="217"/>
                    </a:lnTo>
                    <a:lnTo>
                      <a:pt x="1549" y="220"/>
                    </a:lnTo>
                    <a:lnTo>
                      <a:pt x="1538" y="223"/>
                    </a:lnTo>
                    <a:lnTo>
                      <a:pt x="1496" y="242"/>
                    </a:lnTo>
                    <a:lnTo>
                      <a:pt x="1461" y="270"/>
                    </a:lnTo>
                    <a:lnTo>
                      <a:pt x="1425" y="300"/>
                    </a:lnTo>
                    <a:lnTo>
                      <a:pt x="1392" y="333"/>
                    </a:lnTo>
                    <a:lnTo>
                      <a:pt x="1362" y="366"/>
                    </a:lnTo>
                    <a:lnTo>
                      <a:pt x="1331" y="402"/>
                    </a:lnTo>
                    <a:lnTo>
                      <a:pt x="1304" y="437"/>
                    </a:lnTo>
                    <a:lnTo>
                      <a:pt x="1276" y="470"/>
                    </a:lnTo>
                    <a:lnTo>
                      <a:pt x="1243" y="506"/>
                    </a:lnTo>
                    <a:lnTo>
                      <a:pt x="1213" y="542"/>
                    </a:lnTo>
                    <a:lnTo>
                      <a:pt x="1183" y="578"/>
                    </a:lnTo>
                    <a:lnTo>
                      <a:pt x="1155" y="613"/>
                    </a:lnTo>
                    <a:lnTo>
                      <a:pt x="1125" y="649"/>
                    </a:lnTo>
                    <a:lnTo>
                      <a:pt x="1095" y="682"/>
                    </a:lnTo>
                    <a:lnTo>
                      <a:pt x="1065" y="718"/>
                    </a:lnTo>
                    <a:lnTo>
                      <a:pt x="1037" y="754"/>
                    </a:lnTo>
                    <a:lnTo>
                      <a:pt x="1018" y="776"/>
                    </a:lnTo>
                    <a:lnTo>
                      <a:pt x="999" y="795"/>
                    </a:lnTo>
                    <a:lnTo>
                      <a:pt x="982" y="814"/>
                    </a:lnTo>
                    <a:lnTo>
                      <a:pt x="966" y="833"/>
                    </a:lnTo>
                    <a:lnTo>
                      <a:pt x="949" y="853"/>
                    </a:lnTo>
                    <a:lnTo>
                      <a:pt x="933" y="869"/>
                    </a:lnTo>
                    <a:lnTo>
                      <a:pt x="916" y="888"/>
                    </a:lnTo>
                    <a:lnTo>
                      <a:pt x="900" y="908"/>
                    </a:lnTo>
                    <a:lnTo>
                      <a:pt x="897" y="908"/>
                    </a:lnTo>
                    <a:lnTo>
                      <a:pt x="897" y="908"/>
                    </a:lnTo>
                    <a:lnTo>
                      <a:pt x="894" y="908"/>
                    </a:lnTo>
                    <a:lnTo>
                      <a:pt x="891" y="910"/>
                    </a:lnTo>
                    <a:lnTo>
                      <a:pt x="889" y="910"/>
                    </a:lnTo>
                    <a:lnTo>
                      <a:pt x="889" y="910"/>
                    </a:lnTo>
                    <a:lnTo>
                      <a:pt x="886" y="908"/>
                    </a:lnTo>
                    <a:lnTo>
                      <a:pt x="883" y="908"/>
                    </a:lnTo>
                    <a:lnTo>
                      <a:pt x="905" y="866"/>
                    </a:lnTo>
                    <a:lnTo>
                      <a:pt x="927" y="825"/>
                    </a:lnTo>
                    <a:lnTo>
                      <a:pt x="952" y="787"/>
                    </a:lnTo>
                    <a:lnTo>
                      <a:pt x="977" y="745"/>
                    </a:lnTo>
                    <a:lnTo>
                      <a:pt x="1001" y="707"/>
                    </a:lnTo>
                    <a:lnTo>
                      <a:pt x="1029" y="668"/>
                    </a:lnTo>
                    <a:lnTo>
                      <a:pt x="1054" y="627"/>
                    </a:lnTo>
                    <a:lnTo>
                      <a:pt x="1078" y="589"/>
                    </a:lnTo>
                    <a:lnTo>
                      <a:pt x="1103" y="547"/>
                    </a:lnTo>
                    <a:lnTo>
                      <a:pt x="1128" y="509"/>
                    </a:lnTo>
                    <a:lnTo>
                      <a:pt x="1150" y="468"/>
                    </a:lnTo>
                    <a:lnTo>
                      <a:pt x="1175" y="429"/>
                    </a:lnTo>
                    <a:lnTo>
                      <a:pt x="1199" y="391"/>
                    </a:lnTo>
                    <a:lnTo>
                      <a:pt x="1224" y="349"/>
                    </a:lnTo>
                    <a:lnTo>
                      <a:pt x="1249" y="311"/>
                    </a:lnTo>
                    <a:lnTo>
                      <a:pt x="1276" y="272"/>
                    </a:lnTo>
                    <a:lnTo>
                      <a:pt x="1290" y="253"/>
                    </a:lnTo>
                    <a:lnTo>
                      <a:pt x="1301" y="231"/>
                    </a:lnTo>
                    <a:lnTo>
                      <a:pt x="1315" y="212"/>
                    </a:lnTo>
                    <a:lnTo>
                      <a:pt x="1329" y="193"/>
                    </a:lnTo>
                    <a:lnTo>
                      <a:pt x="1340" y="173"/>
                    </a:lnTo>
                    <a:lnTo>
                      <a:pt x="1351" y="154"/>
                    </a:lnTo>
                    <a:lnTo>
                      <a:pt x="1362" y="135"/>
                    </a:lnTo>
                    <a:lnTo>
                      <a:pt x="1373" y="113"/>
                    </a:lnTo>
                    <a:lnTo>
                      <a:pt x="1375" y="105"/>
                    </a:lnTo>
                    <a:lnTo>
                      <a:pt x="1375" y="96"/>
                    </a:lnTo>
                    <a:lnTo>
                      <a:pt x="1375" y="88"/>
                    </a:lnTo>
                    <a:lnTo>
                      <a:pt x="1375" y="83"/>
                    </a:lnTo>
                    <a:lnTo>
                      <a:pt x="1375" y="74"/>
                    </a:lnTo>
                    <a:lnTo>
                      <a:pt x="1375" y="66"/>
                    </a:lnTo>
                    <a:lnTo>
                      <a:pt x="1373" y="58"/>
                    </a:lnTo>
                    <a:lnTo>
                      <a:pt x="1373" y="47"/>
                    </a:lnTo>
                    <a:lnTo>
                      <a:pt x="1370" y="44"/>
                    </a:lnTo>
                    <a:lnTo>
                      <a:pt x="1367" y="39"/>
                    </a:lnTo>
                    <a:lnTo>
                      <a:pt x="1364" y="36"/>
                    </a:lnTo>
                    <a:lnTo>
                      <a:pt x="1362" y="30"/>
                    </a:lnTo>
                    <a:lnTo>
                      <a:pt x="1359" y="28"/>
                    </a:lnTo>
                    <a:lnTo>
                      <a:pt x="1353" y="22"/>
                    </a:lnTo>
                    <a:lnTo>
                      <a:pt x="1351" y="19"/>
                    </a:lnTo>
                    <a:lnTo>
                      <a:pt x="1345" y="17"/>
                    </a:lnTo>
                    <a:lnTo>
                      <a:pt x="1345" y="14"/>
                    </a:lnTo>
                    <a:lnTo>
                      <a:pt x="1342" y="14"/>
                    </a:lnTo>
                    <a:lnTo>
                      <a:pt x="1342" y="14"/>
                    </a:lnTo>
                    <a:lnTo>
                      <a:pt x="1340" y="14"/>
                    </a:lnTo>
                    <a:lnTo>
                      <a:pt x="1337" y="11"/>
                    </a:lnTo>
                    <a:lnTo>
                      <a:pt x="1337" y="11"/>
                    </a:lnTo>
                    <a:lnTo>
                      <a:pt x="1334" y="11"/>
                    </a:lnTo>
                    <a:lnTo>
                      <a:pt x="1331" y="8"/>
                    </a:lnTo>
                    <a:lnTo>
                      <a:pt x="1315" y="3"/>
                    </a:lnTo>
                    <a:lnTo>
                      <a:pt x="1301" y="0"/>
                    </a:lnTo>
                    <a:lnTo>
                      <a:pt x="1285" y="0"/>
                    </a:lnTo>
                    <a:lnTo>
                      <a:pt x="1268" y="3"/>
                    </a:lnTo>
                    <a:lnTo>
                      <a:pt x="1252" y="8"/>
                    </a:lnTo>
                    <a:lnTo>
                      <a:pt x="1235" y="17"/>
                    </a:lnTo>
                    <a:lnTo>
                      <a:pt x="1219" y="25"/>
                    </a:lnTo>
                    <a:lnTo>
                      <a:pt x="1205" y="33"/>
                    </a:lnTo>
                    <a:lnTo>
                      <a:pt x="1177" y="55"/>
                    </a:lnTo>
                    <a:lnTo>
                      <a:pt x="1150" y="80"/>
                    </a:lnTo>
                    <a:lnTo>
                      <a:pt x="1125" y="105"/>
                    </a:lnTo>
                    <a:lnTo>
                      <a:pt x="1098" y="132"/>
                    </a:lnTo>
                    <a:lnTo>
                      <a:pt x="1073" y="160"/>
                    </a:lnTo>
                    <a:lnTo>
                      <a:pt x="1048" y="184"/>
                    </a:lnTo>
                    <a:lnTo>
                      <a:pt x="1023" y="212"/>
                    </a:lnTo>
                    <a:lnTo>
                      <a:pt x="1001" y="237"/>
                    </a:lnTo>
                    <a:lnTo>
                      <a:pt x="1001" y="237"/>
                    </a:lnTo>
                    <a:lnTo>
                      <a:pt x="1001" y="237"/>
                    </a:lnTo>
                    <a:lnTo>
                      <a:pt x="1001" y="239"/>
                    </a:lnTo>
                    <a:lnTo>
                      <a:pt x="999" y="239"/>
                    </a:lnTo>
                    <a:lnTo>
                      <a:pt x="999" y="239"/>
                    </a:lnTo>
                    <a:lnTo>
                      <a:pt x="999" y="242"/>
                    </a:lnTo>
                    <a:lnTo>
                      <a:pt x="999" y="242"/>
                    </a:lnTo>
                    <a:lnTo>
                      <a:pt x="999" y="242"/>
                    </a:lnTo>
                    <a:lnTo>
                      <a:pt x="996" y="242"/>
                    </a:lnTo>
                    <a:lnTo>
                      <a:pt x="996" y="245"/>
                    </a:lnTo>
                    <a:lnTo>
                      <a:pt x="996" y="245"/>
                    </a:lnTo>
                    <a:lnTo>
                      <a:pt x="993" y="248"/>
                    </a:lnTo>
                    <a:lnTo>
                      <a:pt x="993" y="248"/>
                    </a:lnTo>
                    <a:lnTo>
                      <a:pt x="993" y="250"/>
                    </a:lnTo>
                    <a:lnTo>
                      <a:pt x="990" y="250"/>
                    </a:lnTo>
                    <a:lnTo>
                      <a:pt x="990" y="250"/>
                    </a:lnTo>
                    <a:lnTo>
                      <a:pt x="963" y="286"/>
                    </a:lnTo>
                    <a:lnTo>
                      <a:pt x="933" y="319"/>
                    </a:lnTo>
                    <a:lnTo>
                      <a:pt x="905" y="355"/>
                    </a:lnTo>
                    <a:lnTo>
                      <a:pt x="875" y="388"/>
                    </a:lnTo>
                    <a:lnTo>
                      <a:pt x="847" y="424"/>
                    </a:lnTo>
                    <a:lnTo>
                      <a:pt x="820" y="459"/>
                    </a:lnTo>
                    <a:lnTo>
                      <a:pt x="790" y="492"/>
                    </a:lnTo>
                    <a:lnTo>
                      <a:pt x="759" y="528"/>
                    </a:lnTo>
                    <a:lnTo>
                      <a:pt x="748" y="542"/>
                    </a:lnTo>
                    <a:lnTo>
                      <a:pt x="735" y="553"/>
                    </a:lnTo>
                    <a:lnTo>
                      <a:pt x="726" y="567"/>
                    </a:lnTo>
                    <a:lnTo>
                      <a:pt x="715" y="578"/>
                    </a:lnTo>
                    <a:lnTo>
                      <a:pt x="704" y="589"/>
                    </a:lnTo>
                    <a:lnTo>
                      <a:pt x="696" y="600"/>
                    </a:lnTo>
                    <a:lnTo>
                      <a:pt x="685" y="611"/>
                    </a:lnTo>
                    <a:lnTo>
                      <a:pt x="674" y="622"/>
                    </a:lnTo>
                    <a:lnTo>
                      <a:pt x="674" y="622"/>
                    </a:lnTo>
                    <a:lnTo>
                      <a:pt x="671" y="622"/>
                    </a:lnTo>
                    <a:lnTo>
                      <a:pt x="671" y="624"/>
                    </a:lnTo>
                    <a:lnTo>
                      <a:pt x="669" y="624"/>
                    </a:lnTo>
                    <a:lnTo>
                      <a:pt x="666" y="624"/>
                    </a:lnTo>
                    <a:lnTo>
                      <a:pt x="663" y="624"/>
                    </a:lnTo>
                    <a:lnTo>
                      <a:pt x="663" y="624"/>
                    </a:lnTo>
                    <a:lnTo>
                      <a:pt x="660" y="622"/>
                    </a:lnTo>
                    <a:lnTo>
                      <a:pt x="660" y="619"/>
                    </a:lnTo>
                    <a:lnTo>
                      <a:pt x="658" y="616"/>
                    </a:lnTo>
                    <a:lnTo>
                      <a:pt x="658" y="613"/>
                    </a:lnTo>
                    <a:lnTo>
                      <a:pt x="658" y="611"/>
                    </a:lnTo>
                    <a:lnTo>
                      <a:pt x="660" y="608"/>
                    </a:lnTo>
                    <a:lnTo>
                      <a:pt x="660" y="605"/>
                    </a:lnTo>
                    <a:lnTo>
                      <a:pt x="660" y="602"/>
                    </a:lnTo>
                    <a:lnTo>
                      <a:pt x="660" y="597"/>
                    </a:lnTo>
                    <a:lnTo>
                      <a:pt x="663" y="597"/>
                    </a:lnTo>
                    <a:lnTo>
                      <a:pt x="663" y="594"/>
                    </a:lnTo>
                    <a:lnTo>
                      <a:pt x="663" y="591"/>
                    </a:lnTo>
                    <a:lnTo>
                      <a:pt x="663" y="589"/>
                    </a:lnTo>
                    <a:lnTo>
                      <a:pt x="666" y="589"/>
                    </a:lnTo>
                    <a:lnTo>
                      <a:pt x="666" y="586"/>
                    </a:lnTo>
                    <a:lnTo>
                      <a:pt x="666" y="583"/>
                    </a:lnTo>
                    <a:lnTo>
                      <a:pt x="666" y="580"/>
                    </a:lnTo>
                    <a:lnTo>
                      <a:pt x="680" y="550"/>
                    </a:lnTo>
                    <a:lnTo>
                      <a:pt x="696" y="520"/>
                    </a:lnTo>
                    <a:lnTo>
                      <a:pt x="715" y="492"/>
                    </a:lnTo>
                    <a:lnTo>
                      <a:pt x="732" y="465"/>
                    </a:lnTo>
                    <a:lnTo>
                      <a:pt x="751" y="440"/>
                    </a:lnTo>
                    <a:lnTo>
                      <a:pt x="768" y="410"/>
                    </a:lnTo>
                    <a:lnTo>
                      <a:pt x="784" y="380"/>
                    </a:lnTo>
                    <a:lnTo>
                      <a:pt x="795" y="347"/>
                    </a:lnTo>
                    <a:lnTo>
                      <a:pt x="798" y="333"/>
                    </a:lnTo>
                    <a:lnTo>
                      <a:pt x="801" y="319"/>
                    </a:lnTo>
                    <a:lnTo>
                      <a:pt x="801" y="305"/>
                    </a:lnTo>
                    <a:lnTo>
                      <a:pt x="801" y="292"/>
                    </a:lnTo>
                    <a:lnTo>
                      <a:pt x="798" y="278"/>
                    </a:lnTo>
                    <a:lnTo>
                      <a:pt x="792" y="264"/>
                    </a:lnTo>
                    <a:lnTo>
                      <a:pt x="787" y="253"/>
                    </a:lnTo>
                    <a:lnTo>
                      <a:pt x="781" y="239"/>
                    </a:lnTo>
                    <a:lnTo>
                      <a:pt x="779" y="239"/>
                    </a:lnTo>
                    <a:lnTo>
                      <a:pt x="779" y="237"/>
                    </a:lnTo>
                    <a:lnTo>
                      <a:pt x="776" y="237"/>
                    </a:lnTo>
                    <a:lnTo>
                      <a:pt x="776" y="234"/>
                    </a:lnTo>
                    <a:lnTo>
                      <a:pt x="773" y="231"/>
                    </a:lnTo>
                    <a:lnTo>
                      <a:pt x="773" y="231"/>
                    </a:lnTo>
                    <a:lnTo>
                      <a:pt x="770" y="228"/>
                    </a:lnTo>
                    <a:lnTo>
                      <a:pt x="770" y="228"/>
                    </a:lnTo>
                    <a:lnTo>
                      <a:pt x="768" y="228"/>
                    </a:lnTo>
                    <a:lnTo>
                      <a:pt x="765" y="226"/>
                    </a:lnTo>
                    <a:lnTo>
                      <a:pt x="762" y="226"/>
                    </a:lnTo>
                    <a:lnTo>
                      <a:pt x="759" y="223"/>
                    </a:lnTo>
                    <a:lnTo>
                      <a:pt x="757" y="223"/>
                    </a:lnTo>
                    <a:lnTo>
                      <a:pt x="754" y="223"/>
                    </a:lnTo>
                    <a:lnTo>
                      <a:pt x="748" y="220"/>
                    </a:lnTo>
                    <a:lnTo>
                      <a:pt x="746" y="220"/>
                    </a:lnTo>
                    <a:lnTo>
                      <a:pt x="737" y="217"/>
                    </a:lnTo>
                    <a:lnTo>
                      <a:pt x="726" y="215"/>
                    </a:lnTo>
                    <a:lnTo>
                      <a:pt x="718" y="215"/>
                    </a:lnTo>
                    <a:lnTo>
                      <a:pt x="707" y="215"/>
                    </a:lnTo>
                    <a:lnTo>
                      <a:pt x="699" y="217"/>
                    </a:lnTo>
                    <a:lnTo>
                      <a:pt x="688" y="217"/>
                    </a:lnTo>
                    <a:lnTo>
                      <a:pt x="680" y="220"/>
                    </a:lnTo>
                    <a:lnTo>
                      <a:pt x="671" y="223"/>
                    </a:lnTo>
                    <a:lnTo>
                      <a:pt x="647" y="234"/>
                    </a:lnTo>
                    <a:lnTo>
                      <a:pt x="625" y="250"/>
                    </a:lnTo>
                    <a:lnTo>
                      <a:pt x="603" y="267"/>
                    </a:lnTo>
                    <a:lnTo>
                      <a:pt x="581" y="286"/>
                    </a:lnTo>
                    <a:lnTo>
                      <a:pt x="559" y="305"/>
                    </a:lnTo>
                    <a:lnTo>
                      <a:pt x="537" y="325"/>
                    </a:lnTo>
                    <a:lnTo>
                      <a:pt x="515" y="344"/>
                    </a:lnTo>
                    <a:lnTo>
                      <a:pt x="493" y="360"/>
                    </a:lnTo>
                    <a:lnTo>
                      <a:pt x="493" y="363"/>
                    </a:lnTo>
                    <a:lnTo>
                      <a:pt x="490" y="363"/>
                    </a:lnTo>
                    <a:lnTo>
                      <a:pt x="490" y="363"/>
                    </a:lnTo>
                    <a:lnTo>
                      <a:pt x="487" y="363"/>
                    </a:lnTo>
                    <a:lnTo>
                      <a:pt x="484" y="363"/>
                    </a:lnTo>
                    <a:lnTo>
                      <a:pt x="482" y="363"/>
                    </a:lnTo>
                    <a:lnTo>
                      <a:pt x="482" y="363"/>
                    </a:lnTo>
                    <a:lnTo>
                      <a:pt x="479" y="360"/>
                    </a:lnTo>
                    <a:lnTo>
                      <a:pt x="476" y="360"/>
                    </a:lnTo>
                    <a:lnTo>
                      <a:pt x="476" y="360"/>
                    </a:lnTo>
                    <a:lnTo>
                      <a:pt x="473" y="360"/>
                    </a:lnTo>
                    <a:lnTo>
                      <a:pt x="471" y="360"/>
                    </a:lnTo>
                    <a:lnTo>
                      <a:pt x="471" y="358"/>
                    </a:lnTo>
                    <a:lnTo>
                      <a:pt x="468" y="358"/>
                    </a:lnTo>
                    <a:lnTo>
                      <a:pt x="468" y="355"/>
                    </a:lnTo>
                    <a:lnTo>
                      <a:pt x="465" y="355"/>
                    </a:lnTo>
                    <a:lnTo>
                      <a:pt x="462" y="352"/>
                    </a:lnTo>
                    <a:lnTo>
                      <a:pt x="460" y="349"/>
                    </a:lnTo>
                    <a:lnTo>
                      <a:pt x="454" y="347"/>
                    </a:lnTo>
                    <a:lnTo>
                      <a:pt x="451" y="344"/>
                    </a:lnTo>
                    <a:lnTo>
                      <a:pt x="446" y="341"/>
                    </a:lnTo>
                    <a:lnTo>
                      <a:pt x="443" y="338"/>
                    </a:lnTo>
                    <a:lnTo>
                      <a:pt x="438" y="336"/>
                    </a:lnTo>
                    <a:lnTo>
                      <a:pt x="435" y="333"/>
                    </a:lnTo>
                    <a:lnTo>
                      <a:pt x="427" y="330"/>
                    </a:lnTo>
                    <a:lnTo>
                      <a:pt x="418" y="327"/>
                    </a:lnTo>
                    <a:lnTo>
                      <a:pt x="410" y="327"/>
                    </a:lnTo>
                    <a:lnTo>
                      <a:pt x="402" y="327"/>
                    </a:lnTo>
                    <a:lnTo>
                      <a:pt x="394" y="330"/>
                    </a:lnTo>
                    <a:lnTo>
                      <a:pt x="385" y="330"/>
                    </a:lnTo>
                    <a:lnTo>
                      <a:pt x="377" y="330"/>
                    </a:lnTo>
                    <a:lnTo>
                      <a:pt x="369" y="333"/>
                    </a:lnTo>
                    <a:lnTo>
                      <a:pt x="366" y="333"/>
                    </a:lnTo>
                    <a:lnTo>
                      <a:pt x="366" y="336"/>
                    </a:lnTo>
                    <a:lnTo>
                      <a:pt x="363" y="336"/>
                    </a:lnTo>
                    <a:lnTo>
                      <a:pt x="363" y="336"/>
                    </a:lnTo>
                    <a:lnTo>
                      <a:pt x="361" y="338"/>
                    </a:lnTo>
                    <a:lnTo>
                      <a:pt x="358" y="338"/>
                    </a:lnTo>
                    <a:lnTo>
                      <a:pt x="355" y="338"/>
                    </a:lnTo>
                    <a:lnTo>
                      <a:pt x="355" y="338"/>
                    </a:lnTo>
                    <a:lnTo>
                      <a:pt x="317" y="366"/>
                    </a:lnTo>
                    <a:lnTo>
                      <a:pt x="281" y="396"/>
                    </a:lnTo>
                    <a:lnTo>
                      <a:pt x="253" y="429"/>
                    </a:lnTo>
                    <a:lnTo>
                      <a:pt x="226" y="468"/>
                    </a:lnTo>
                    <a:lnTo>
                      <a:pt x="201" y="506"/>
                    </a:lnTo>
                    <a:lnTo>
                      <a:pt x="179" y="547"/>
                    </a:lnTo>
                    <a:lnTo>
                      <a:pt x="157" y="589"/>
                    </a:lnTo>
                    <a:lnTo>
                      <a:pt x="135" y="630"/>
                    </a:lnTo>
                    <a:lnTo>
                      <a:pt x="127" y="652"/>
                    </a:lnTo>
                    <a:lnTo>
                      <a:pt x="119" y="671"/>
                    </a:lnTo>
                    <a:lnTo>
                      <a:pt x="108" y="690"/>
                    </a:lnTo>
                    <a:lnTo>
                      <a:pt x="99" y="710"/>
                    </a:lnTo>
                    <a:lnTo>
                      <a:pt x="91" y="729"/>
                    </a:lnTo>
                    <a:lnTo>
                      <a:pt x="83" y="745"/>
                    </a:lnTo>
                    <a:lnTo>
                      <a:pt x="75" y="765"/>
                    </a:lnTo>
                    <a:lnTo>
                      <a:pt x="69" y="784"/>
                    </a:lnTo>
                    <a:lnTo>
                      <a:pt x="66" y="787"/>
                    </a:lnTo>
                    <a:lnTo>
                      <a:pt x="66" y="789"/>
                    </a:lnTo>
                    <a:lnTo>
                      <a:pt x="66" y="792"/>
                    </a:lnTo>
                    <a:lnTo>
                      <a:pt x="64" y="795"/>
                    </a:lnTo>
                    <a:lnTo>
                      <a:pt x="64" y="798"/>
                    </a:lnTo>
                    <a:lnTo>
                      <a:pt x="61" y="800"/>
                    </a:lnTo>
                    <a:lnTo>
                      <a:pt x="61" y="803"/>
                    </a:lnTo>
                    <a:lnTo>
                      <a:pt x="61" y="803"/>
                    </a:lnTo>
                    <a:lnTo>
                      <a:pt x="20" y="930"/>
                    </a:lnTo>
                    <a:lnTo>
                      <a:pt x="17" y="932"/>
                    </a:lnTo>
                    <a:lnTo>
                      <a:pt x="17" y="935"/>
                    </a:lnTo>
                    <a:lnTo>
                      <a:pt x="17" y="938"/>
                    </a:lnTo>
                    <a:lnTo>
                      <a:pt x="17" y="941"/>
                    </a:lnTo>
                    <a:lnTo>
                      <a:pt x="17" y="943"/>
                    </a:lnTo>
                    <a:lnTo>
                      <a:pt x="17" y="946"/>
                    </a:lnTo>
                    <a:lnTo>
                      <a:pt x="17" y="949"/>
                    </a:lnTo>
                    <a:lnTo>
                      <a:pt x="17" y="952"/>
                    </a:lnTo>
                    <a:lnTo>
                      <a:pt x="0" y="1053"/>
                    </a:lnTo>
                    <a:lnTo>
                      <a:pt x="0" y="1056"/>
                    </a:lnTo>
                    <a:lnTo>
                      <a:pt x="0" y="1059"/>
                    </a:lnTo>
                    <a:lnTo>
                      <a:pt x="3" y="1061"/>
                    </a:lnTo>
                    <a:lnTo>
                      <a:pt x="3" y="1064"/>
                    </a:lnTo>
                    <a:lnTo>
                      <a:pt x="3" y="1067"/>
                    </a:lnTo>
                    <a:lnTo>
                      <a:pt x="3" y="1070"/>
                    </a:lnTo>
                    <a:lnTo>
                      <a:pt x="6" y="1072"/>
                    </a:lnTo>
                    <a:lnTo>
                      <a:pt x="9" y="1075"/>
                    </a:lnTo>
                    <a:lnTo>
                      <a:pt x="9" y="1078"/>
                    </a:lnTo>
                    <a:lnTo>
                      <a:pt x="11" y="1078"/>
                    </a:lnTo>
                    <a:lnTo>
                      <a:pt x="11" y="1081"/>
                    </a:lnTo>
                    <a:lnTo>
                      <a:pt x="14" y="1081"/>
                    </a:lnTo>
                    <a:lnTo>
                      <a:pt x="17" y="1083"/>
                    </a:lnTo>
                    <a:lnTo>
                      <a:pt x="20" y="1083"/>
                    </a:lnTo>
                    <a:lnTo>
                      <a:pt x="22" y="1086"/>
                    </a:lnTo>
                    <a:lnTo>
                      <a:pt x="25" y="1089"/>
                    </a:lnTo>
                    <a:lnTo>
                      <a:pt x="132" y="1108"/>
                    </a:lnTo>
                    <a:lnTo>
                      <a:pt x="135" y="1111"/>
                    </a:lnTo>
                    <a:lnTo>
                      <a:pt x="135" y="1111"/>
                    </a:lnTo>
                    <a:lnTo>
                      <a:pt x="135" y="1111"/>
                    </a:lnTo>
                    <a:lnTo>
                      <a:pt x="135" y="1114"/>
                    </a:lnTo>
                    <a:lnTo>
                      <a:pt x="135" y="1114"/>
                    </a:lnTo>
                    <a:lnTo>
                      <a:pt x="138" y="1116"/>
                    </a:lnTo>
                    <a:lnTo>
                      <a:pt x="138" y="1116"/>
                    </a:lnTo>
                    <a:lnTo>
                      <a:pt x="141" y="1116"/>
                    </a:lnTo>
                    <a:lnTo>
                      <a:pt x="141" y="1119"/>
                    </a:lnTo>
                    <a:lnTo>
                      <a:pt x="138" y="1122"/>
                    </a:lnTo>
                    <a:lnTo>
                      <a:pt x="138" y="1122"/>
                    </a:lnTo>
                    <a:lnTo>
                      <a:pt x="138" y="1125"/>
                    </a:lnTo>
                    <a:lnTo>
                      <a:pt x="138" y="1125"/>
                    </a:lnTo>
                    <a:lnTo>
                      <a:pt x="135" y="1127"/>
                    </a:lnTo>
                    <a:lnTo>
                      <a:pt x="135" y="1130"/>
                    </a:lnTo>
                    <a:lnTo>
                      <a:pt x="135" y="1130"/>
                    </a:lnTo>
                    <a:lnTo>
                      <a:pt x="124" y="1149"/>
                    </a:lnTo>
                    <a:lnTo>
                      <a:pt x="116" y="1171"/>
                    </a:lnTo>
                    <a:lnTo>
                      <a:pt x="110" y="1191"/>
                    </a:lnTo>
                    <a:lnTo>
                      <a:pt x="105" y="1213"/>
                    </a:lnTo>
                    <a:lnTo>
                      <a:pt x="102" y="1235"/>
                    </a:lnTo>
                    <a:lnTo>
                      <a:pt x="99" y="1257"/>
                    </a:lnTo>
                    <a:lnTo>
                      <a:pt x="97" y="1276"/>
                    </a:lnTo>
                    <a:lnTo>
                      <a:pt x="94" y="1298"/>
                    </a:lnTo>
                    <a:lnTo>
                      <a:pt x="97" y="1303"/>
                    </a:lnTo>
                    <a:lnTo>
                      <a:pt x="97" y="1306"/>
                    </a:lnTo>
                    <a:lnTo>
                      <a:pt x="99" y="1309"/>
                    </a:lnTo>
                    <a:lnTo>
                      <a:pt x="99" y="1314"/>
                    </a:lnTo>
                    <a:lnTo>
                      <a:pt x="99" y="1317"/>
                    </a:lnTo>
                    <a:lnTo>
                      <a:pt x="102" y="1320"/>
                    </a:lnTo>
                    <a:lnTo>
                      <a:pt x="105" y="1325"/>
                    </a:lnTo>
                    <a:lnTo>
                      <a:pt x="108" y="1328"/>
                    </a:lnTo>
                    <a:lnTo>
                      <a:pt x="110" y="1328"/>
                    </a:lnTo>
                    <a:lnTo>
                      <a:pt x="110" y="1331"/>
                    </a:lnTo>
                    <a:lnTo>
                      <a:pt x="113" y="1331"/>
                    </a:lnTo>
                    <a:lnTo>
                      <a:pt x="113" y="1334"/>
                    </a:lnTo>
                    <a:lnTo>
                      <a:pt x="116" y="1334"/>
                    </a:lnTo>
                    <a:lnTo>
                      <a:pt x="116" y="1336"/>
                    </a:lnTo>
                    <a:lnTo>
                      <a:pt x="119" y="1336"/>
                    </a:lnTo>
                    <a:lnTo>
                      <a:pt x="119" y="1336"/>
                    </a:lnTo>
                    <a:lnTo>
                      <a:pt x="130" y="1342"/>
                    </a:lnTo>
                    <a:lnTo>
                      <a:pt x="143" y="1345"/>
                    </a:lnTo>
                    <a:lnTo>
                      <a:pt x="154" y="1347"/>
                    </a:lnTo>
                    <a:lnTo>
                      <a:pt x="168" y="1347"/>
                    </a:lnTo>
                    <a:lnTo>
                      <a:pt x="182" y="1347"/>
                    </a:lnTo>
                    <a:lnTo>
                      <a:pt x="196" y="1347"/>
                    </a:lnTo>
                    <a:lnTo>
                      <a:pt x="209" y="1345"/>
                    </a:lnTo>
                    <a:lnTo>
                      <a:pt x="220" y="1345"/>
                    </a:lnTo>
                    <a:lnTo>
                      <a:pt x="240" y="1331"/>
                    </a:lnTo>
                    <a:lnTo>
                      <a:pt x="259" y="1320"/>
                    </a:lnTo>
                    <a:lnTo>
                      <a:pt x="275" y="1306"/>
                    </a:lnTo>
                    <a:lnTo>
                      <a:pt x="292" y="1290"/>
                    </a:lnTo>
                    <a:lnTo>
                      <a:pt x="308" y="1276"/>
                    </a:lnTo>
                    <a:lnTo>
                      <a:pt x="328" y="1259"/>
                    </a:lnTo>
                    <a:lnTo>
                      <a:pt x="344" y="1243"/>
                    </a:lnTo>
                    <a:lnTo>
                      <a:pt x="361" y="1226"/>
                    </a:lnTo>
                    <a:lnTo>
                      <a:pt x="363" y="1226"/>
                    </a:lnTo>
                    <a:lnTo>
                      <a:pt x="363" y="1226"/>
                    </a:lnTo>
                    <a:lnTo>
                      <a:pt x="366" y="1226"/>
                    </a:lnTo>
                    <a:lnTo>
                      <a:pt x="369" y="1226"/>
                    </a:lnTo>
                    <a:lnTo>
                      <a:pt x="372" y="1226"/>
                    </a:lnTo>
                    <a:lnTo>
                      <a:pt x="372" y="1226"/>
                    </a:lnTo>
                    <a:lnTo>
                      <a:pt x="374" y="1226"/>
                    </a:lnTo>
                    <a:lnTo>
                      <a:pt x="374" y="1226"/>
                    </a:lnTo>
                    <a:lnTo>
                      <a:pt x="377" y="1229"/>
                    </a:lnTo>
                    <a:lnTo>
                      <a:pt x="377" y="1235"/>
                    </a:lnTo>
                    <a:lnTo>
                      <a:pt x="377" y="1237"/>
                    </a:lnTo>
                    <a:lnTo>
                      <a:pt x="377" y="1240"/>
                    </a:lnTo>
                    <a:lnTo>
                      <a:pt x="377" y="1246"/>
                    </a:lnTo>
                    <a:lnTo>
                      <a:pt x="374" y="1248"/>
                    </a:lnTo>
                    <a:lnTo>
                      <a:pt x="374" y="1251"/>
                    </a:lnTo>
                    <a:lnTo>
                      <a:pt x="374" y="1257"/>
                    </a:lnTo>
                    <a:lnTo>
                      <a:pt x="352" y="1301"/>
                    </a:lnTo>
                    <a:lnTo>
                      <a:pt x="330" y="1345"/>
                    </a:lnTo>
                    <a:lnTo>
                      <a:pt x="306" y="1389"/>
                    </a:lnTo>
                    <a:lnTo>
                      <a:pt x="281" y="1435"/>
                    </a:lnTo>
                    <a:lnTo>
                      <a:pt x="262" y="1482"/>
                    </a:lnTo>
                    <a:lnTo>
                      <a:pt x="248" y="1532"/>
                    </a:lnTo>
                    <a:lnTo>
                      <a:pt x="242" y="1581"/>
                    </a:lnTo>
                    <a:lnTo>
                      <a:pt x="248" y="1633"/>
                    </a:lnTo>
                    <a:lnTo>
                      <a:pt x="248" y="1636"/>
                    </a:lnTo>
                    <a:lnTo>
                      <a:pt x="248" y="1639"/>
                    </a:lnTo>
                    <a:lnTo>
                      <a:pt x="248" y="1639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9" y="1653"/>
                    </a:lnTo>
                    <a:lnTo>
                      <a:pt x="273" y="1661"/>
                    </a:lnTo>
                    <a:lnTo>
                      <a:pt x="284" y="1666"/>
                    </a:lnTo>
                    <a:lnTo>
                      <a:pt x="300" y="1669"/>
                    </a:lnTo>
                    <a:lnTo>
                      <a:pt x="314" y="1669"/>
                    </a:lnTo>
                    <a:lnTo>
                      <a:pt x="330" y="1669"/>
                    </a:lnTo>
                    <a:lnTo>
                      <a:pt x="347" y="1666"/>
                    </a:lnTo>
                    <a:lnTo>
                      <a:pt x="361" y="1664"/>
                    </a:lnTo>
                    <a:lnTo>
                      <a:pt x="380" y="1658"/>
                    </a:lnTo>
                    <a:lnTo>
                      <a:pt x="396" y="1650"/>
                    </a:lnTo>
                    <a:lnTo>
                      <a:pt x="413" y="1639"/>
                    </a:lnTo>
                    <a:lnTo>
                      <a:pt x="429" y="1628"/>
                    </a:lnTo>
                    <a:lnTo>
                      <a:pt x="443" y="1620"/>
                    </a:lnTo>
                    <a:lnTo>
                      <a:pt x="457" y="1609"/>
                    </a:lnTo>
                    <a:lnTo>
                      <a:pt x="473" y="1598"/>
                    </a:lnTo>
                    <a:lnTo>
                      <a:pt x="490" y="1589"/>
                    </a:lnTo>
                    <a:lnTo>
                      <a:pt x="493" y="1589"/>
                    </a:lnTo>
                    <a:lnTo>
                      <a:pt x="493" y="1589"/>
                    </a:lnTo>
                    <a:lnTo>
                      <a:pt x="495" y="1589"/>
                    </a:lnTo>
                    <a:lnTo>
                      <a:pt x="495" y="1589"/>
                    </a:lnTo>
                    <a:lnTo>
                      <a:pt x="498" y="1589"/>
                    </a:lnTo>
                    <a:lnTo>
                      <a:pt x="501" y="1589"/>
                    </a:lnTo>
                    <a:lnTo>
                      <a:pt x="501" y="1589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5"/>
                    </a:lnTo>
                    <a:lnTo>
                      <a:pt x="504" y="1595"/>
                    </a:lnTo>
                    <a:lnTo>
                      <a:pt x="504" y="1598"/>
                    </a:lnTo>
                    <a:lnTo>
                      <a:pt x="504" y="1600"/>
                    </a:lnTo>
                    <a:lnTo>
                      <a:pt x="487" y="1631"/>
                    </a:lnTo>
                    <a:lnTo>
                      <a:pt x="465" y="1664"/>
                    </a:lnTo>
                    <a:lnTo>
                      <a:pt x="440" y="1694"/>
                    </a:lnTo>
                    <a:lnTo>
                      <a:pt x="418" y="1727"/>
                    </a:lnTo>
                    <a:lnTo>
                      <a:pt x="402" y="1760"/>
                    </a:lnTo>
                    <a:lnTo>
                      <a:pt x="388" y="1796"/>
                    </a:lnTo>
                    <a:lnTo>
                      <a:pt x="385" y="1834"/>
                    </a:lnTo>
                    <a:lnTo>
                      <a:pt x="391" y="1875"/>
                    </a:lnTo>
                    <a:lnTo>
                      <a:pt x="391" y="1878"/>
                    </a:lnTo>
                    <a:lnTo>
                      <a:pt x="391" y="1881"/>
                    </a:lnTo>
                    <a:lnTo>
                      <a:pt x="394" y="1884"/>
                    </a:lnTo>
                    <a:lnTo>
                      <a:pt x="396" y="1886"/>
                    </a:lnTo>
                    <a:lnTo>
                      <a:pt x="399" y="1889"/>
                    </a:lnTo>
                    <a:lnTo>
                      <a:pt x="402" y="1892"/>
                    </a:lnTo>
                    <a:lnTo>
                      <a:pt x="402" y="1895"/>
                    </a:lnTo>
                    <a:lnTo>
                      <a:pt x="405" y="1897"/>
                    </a:lnTo>
                    <a:lnTo>
                      <a:pt x="407" y="1900"/>
                    </a:lnTo>
                    <a:lnTo>
                      <a:pt x="410" y="1900"/>
                    </a:lnTo>
                    <a:lnTo>
                      <a:pt x="413" y="1903"/>
                    </a:lnTo>
                    <a:lnTo>
                      <a:pt x="416" y="1903"/>
                    </a:lnTo>
                    <a:lnTo>
                      <a:pt x="416" y="1906"/>
                    </a:lnTo>
                    <a:lnTo>
                      <a:pt x="418" y="1908"/>
                    </a:lnTo>
                    <a:lnTo>
                      <a:pt x="421" y="1908"/>
                    </a:lnTo>
                    <a:lnTo>
                      <a:pt x="427" y="1911"/>
                    </a:lnTo>
                    <a:lnTo>
                      <a:pt x="438" y="1917"/>
                    </a:lnTo>
                    <a:lnTo>
                      <a:pt x="451" y="1917"/>
                    </a:lnTo>
                    <a:lnTo>
                      <a:pt x="465" y="1919"/>
                    </a:lnTo>
                    <a:lnTo>
                      <a:pt x="479" y="1917"/>
                    </a:lnTo>
                    <a:lnTo>
                      <a:pt x="493" y="1917"/>
                    </a:lnTo>
                    <a:lnTo>
                      <a:pt x="509" y="1914"/>
                    </a:lnTo>
                    <a:lnTo>
                      <a:pt x="523" y="1911"/>
                    </a:lnTo>
                    <a:lnTo>
                      <a:pt x="537" y="1906"/>
                    </a:lnTo>
                    <a:lnTo>
                      <a:pt x="572" y="1884"/>
                    </a:lnTo>
                    <a:lnTo>
                      <a:pt x="605" y="1859"/>
                    </a:lnTo>
                    <a:lnTo>
                      <a:pt x="638" y="1834"/>
                    </a:lnTo>
                    <a:lnTo>
                      <a:pt x="671" y="1804"/>
                    </a:lnTo>
                    <a:lnTo>
                      <a:pt x="704" y="1774"/>
                    </a:lnTo>
                    <a:lnTo>
                      <a:pt x="735" y="1743"/>
                    </a:lnTo>
                    <a:lnTo>
                      <a:pt x="768" y="1713"/>
                    </a:lnTo>
                    <a:lnTo>
                      <a:pt x="803" y="1686"/>
                    </a:lnTo>
                    <a:lnTo>
                      <a:pt x="803" y="1686"/>
                    </a:lnTo>
                    <a:lnTo>
                      <a:pt x="806" y="1686"/>
                    </a:lnTo>
                    <a:lnTo>
                      <a:pt x="809" y="1686"/>
                    </a:lnTo>
                    <a:lnTo>
                      <a:pt x="809" y="1686"/>
                    </a:lnTo>
                    <a:lnTo>
                      <a:pt x="812" y="1686"/>
                    </a:lnTo>
                    <a:lnTo>
                      <a:pt x="812" y="1686"/>
                    </a:lnTo>
                    <a:lnTo>
                      <a:pt x="814" y="1686"/>
                    </a:lnTo>
                    <a:lnTo>
                      <a:pt x="814" y="1686"/>
                    </a:lnTo>
                    <a:lnTo>
                      <a:pt x="814" y="1688"/>
                    </a:lnTo>
                    <a:lnTo>
                      <a:pt x="817" y="1688"/>
                    </a:lnTo>
                    <a:lnTo>
                      <a:pt x="817" y="1691"/>
                    </a:lnTo>
                    <a:lnTo>
                      <a:pt x="817" y="1694"/>
                    </a:lnTo>
                    <a:lnTo>
                      <a:pt x="817" y="1694"/>
                    </a:lnTo>
                    <a:lnTo>
                      <a:pt x="817" y="1697"/>
                    </a:lnTo>
                    <a:lnTo>
                      <a:pt x="817" y="1699"/>
                    </a:lnTo>
                    <a:lnTo>
                      <a:pt x="817" y="1702"/>
                    </a:lnTo>
                    <a:lnTo>
                      <a:pt x="817" y="1702"/>
                    </a:lnTo>
                    <a:lnTo>
                      <a:pt x="817" y="1705"/>
                    </a:lnTo>
                    <a:lnTo>
                      <a:pt x="817" y="1705"/>
                    </a:lnTo>
                    <a:lnTo>
                      <a:pt x="814" y="1708"/>
                    </a:lnTo>
                    <a:lnTo>
                      <a:pt x="814" y="1710"/>
                    </a:lnTo>
                    <a:lnTo>
                      <a:pt x="814" y="1710"/>
                    </a:lnTo>
                    <a:lnTo>
                      <a:pt x="812" y="1713"/>
                    </a:lnTo>
                    <a:lnTo>
                      <a:pt x="812" y="1716"/>
                    </a:lnTo>
                    <a:lnTo>
                      <a:pt x="792" y="1757"/>
                    </a:lnTo>
                    <a:lnTo>
                      <a:pt x="768" y="1796"/>
                    </a:lnTo>
                    <a:lnTo>
                      <a:pt x="743" y="1834"/>
                    </a:lnTo>
                    <a:lnTo>
                      <a:pt x="718" y="1875"/>
                    </a:lnTo>
                    <a:lnTo>
                      <a:pt x="693" y="1917"/>
                    </a:lnTo>
                    <a:lnTo>
                      <a:pt x="677" y="1958"/>
                    </a:lnTo>
                    <a:lnTo>
                      <a:pt x="671" y="2002"/>
                    </a:lnTo>
                    <a:lnTo>
                      <a:pt x="674" y="2051"/>
                    </a:lnTo>
                    <a:lnTo>
                      <a:pt x="677" y="2054"/>
                    </a:lnTo>
                    <a:lnTo>
                      <a:pt x="680" y="2057"/>
                    </a:lnTo>
                    <a:lnTo>
                      <a:pt x="680" y="2060"/>
                    </a:lnTo>
                    <a:lnTo>
                      <a:pt x="682" y="2062"/>
                    </a:lnTo>
                    <a:lnTo>
                      <a:pt x="685" y="2068"/>
                    </a:lnTo>
                    <a:lnTo>
                      <a:pt x="688" y="2071"/>
                    </a:lnTo>
                    <a:lnTo>
                      <a:pt x="691" y="2073"/>
                    </a:lnTo>
                    <a:lnTo>
                      <a:pt x="696" y="2076"/>
                    </a:lnTo>
                    <a:lnTo>
                      <a:pt x="696" y="2079"/>
                    </a:lnTo>
                    <a:lnTo>
                      <a:pt x="699" y="2079"/>
                    </a:lnTo>
                    <a:lnTo>
                      <a:pt x="702" y="2079"/>
                    </a:lnTo>
                    <a:lnTo>
                      <a:pt x="704" y="2082"/>
                    </a:lnTo>
                    <a:lnTo>
                      <a:pt x="707" y="2082"/>
                    </a:lnTo>
                    <a:lnTo>
                      <a:pt x="710" y="2082"/>
                    </a:lnTo>
                    <a:lnTo>
                      <a:pt x="713" y="2084"/>
                    </a:lnTo>
                    <a:lnTo>
                      <a:pt x="715" y="2084"/>
                    </a:lnTo>
                    <a:lnTo>
                      <a:pt x="718" y="2087"/>
                    </a:lnTo>
                    <a:lnTo>
                      <a:pt x="718" y="2087"/>
                    </a:lnTo>
                    <a:lnTo>
                      <a:pt x="721" y="2087"/>
                    </a:lnTo>
                    <a:lnTo>
                      <a:pt x="724" y="2087"/>
                    </a:lnTo>
                    <a:lnTo>
                      <a:pt x="726" y="2087"/>
                    </a:lnTo>
                    <a:lnTo>
                      <a:pt x="729" y="2090"/>
                    </a:lnTo>
                    <a:lnTo>
                      <a:pt x="729" y="2090"/>
                    </a:lnTo>
                    <a:lnTo>
                      <a:pt x="732" y="2090"/>
                    </a:lnTo>
                    <a:lnTo>
                      <a:pt x="735" y="2090"/>
                    </a:lnTo>
                    <a:lnTo>
                      <a:pt x="737" y="2090"/>
                    </a:lnTo>
                    <a:lnTo>
                      <a:pt x="740" y="2090"/>
                    </a:lnTo>
                    <a:lnTo>
                      <a:pt x="743" y="2090"/>
                    </a:lnTo>
                    <a:lnTo>
                      <a:pt x="746" y="2090"/>
                    </a:lnTo>
                    <a:lnTo>
                      <a:pt x="748" y="2090"/>
                    </a:lnTo>
                    <a:lnTo>
                      <a:pt x="748" y="2087"/>
                    </a:lnTo>
                    <a:lnTo>
                      <a:pt x="751" y="20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65400" y="2117880"/>
                <a:ext cx="3992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nd the mean weigh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9480" y="2057400"/>
              <a:ext cx="533160" cy="609480"/>
              <a:chOff x="609480" y="2057400"/>
              <a:chExt cx="533160" cy="6094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9480" y="2057400"/>
                <a:ext cx="533160" cy="609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40186" dir="1189635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761760" y="2133360"/>
                <a:ext cx="324000" cy="456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</a:rPr>
                  <a:t>1.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  <a:ea typeface="Comic Sans MS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219320" y="6200640"/>
            <a:ext cx="6705360" cy="276120"/>
            <a:chOff x="1219320" y="6200640"/>
            <a:chExt cx="6705360" cy="276120"/>
          </a:xfrm>
        </p:grpSpPr>
        <p:sp>
          <p:nvSpPr>
            <p:cNvPr id="110" name=""/>
            <p:cNvSpPr/>
            <p:nvPr/>
          </p:nvSpPr>
          <p:spPr>
            <a:xfrm>
              <a:off x="1219320" y="6296040"/>
              <a:ext cx="6705360" cy="759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433760" y="6200640"/>
              <a:ext cx="276480" cy="2761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629400" y="2057400"/>
                <a:ext cx="949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696080" y="2362320"/>
                <a:ext cx="990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457200" y="3052080"/>
            <a:ext cx="5745240" cy="1211040"/>
            <a:chOff x="457200" y="3052080"/>
            <a:chExt cx="5745240" cy="1211040"/>
          </a:xfrm>
        </p:grpSpPr>
        <p:grpSp>
          <p:nvGrpSpPr>
            <p:cNvPr id="115" name=""/>
            <p:cNvGrpSpPr/>
            <p:nvPr/>
          </p:nvGrpSpPr>
          <p:grpSpPr>
            <a:xfrm>
              <a:off x="639720" y="3276720"/>
              <a:ext cx="533160" cy="609480"/>
              <a:chOff x="639720" y="3276720"/>
              <a:chExt cx="53316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639720" y="3276720"/>
                <a:ext cx="533160" cy="609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40186" dir="1189635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92000" y="3352680"/>
                <a:ext cx="324000" cy="456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</a:rPr>
                  <a:t>2.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  <a:ea typeface="Comic Sans MS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457200" y="3052080"/>
              <a:ext cx="5745240" cy="1211040"/>
              <a:chOff x="457200" y="3052080"/>
              <a:chExt cx="5745240" cy="1211040"/>
            </a:xfrm>
          </p:grpSpPr>
          <p:sp>
            <p:nvSpPr>
              <p:cNvPr id="119" name=""/>
              <p:cNvSpPr/>
              <p:nvPr/>
            </p:nvSpPr>
            <p:spPr>
              <a:xfrm rot="121200">
                <a:off x="1249920" y="3123720"/>
                <a:ext cx="4103280" cy="1067040"/>
              </a:xfrm>
              <a:custGeom>
                <a:avLst/>
                <a:gdLst/>
                <a:ahLst/>
                <a:rect l="l" t="t" r="r" b="b"/>
                <a:pathLst>
                  <a:path w="2085" h="2090">
                    <a:moveTo>
                      <a:pt x="751" y="2087"/>
                    </a:moveTo>
                    <a:lnTo>
                      <a:pt x="754" y="2087"/>
                    </a:lnTo>
                    <a:lnTo>
                      <a:pt x="757" y="2087"/>
                    </a:lnTo>
                    <a:lnTo>
                      <a:pt x="759" y="2087"/>
                    </a:lnTo>
                    <a:lnTo>
                      <a:pt x="762" y="2087"/>
                    </a:lnTo>
                    <a:lnTo>
                      <a:pt x="765" y="2087"/>
                    </a:lnTo>
                    <a:lnTo>
                      <a:pt x="768" y="2087"/>
                    </a:lnTo>
                    <a:lnTo>
                      <a:pt x="770" y="2087"/>
                    </a:lnTo>
                    <a:lnTo>
                      <a:pt x="773" y="2084"/>
                    </a:lnTo>
                    <a:lnTo>
                      <a:pt x="776" y="2084"/>
                    </a:lnTo>
                    <a:lnTo>
                      <a:pt x="776" y="2084"/>
                    </a:lnTo>
                    <a:lnTo>
                      <a:pt x="779" y="2084"/>
                    </a:lnTo>
                    <a:lnTo>
                      <a:pt x="781" y="2084"/>
                    </a:lnTo>
                    <a:lnTo>
                      <a:pt x="781" y="2082"/>
                    </a:lnTo>
                    <a:lnTo>
                      <a:pt x="784" y="2082"/>
                    </a:lnTo>
                    <a:lnTo>
                      <a:pt x="787" y="2082"/>
                    </a:lnTo>
                    <a:lnTo>
                      <a:pt x="790" y="2082"/>
                    </a:lnTo>
                    <a:lnTo>
                      <a:pt x="825" y="2062"/>
                    </a:lnTo>
                    <a:lnTo>
                      <a:pt x="861" y="2040"/>
                    </a:lnTo>
                    <a:lnTo>
                      <a:pt x="894" y="2016"/>
                    </a:lnTo>
                    <a:lnTo>
                      <a:pt x="924" y="1988"/>
                    </a:lnTo>
                    <a:lnTo>
                      <a:pt x="955" y="1958"/>
                    </a:lnTo>
                    <a:lnTo>
                      <a:pt x="982" y="1928"/>
                    </a:lnTo>
                    <a:lnTo>
                      <a:pt x="1010" y="1895"/>
                    </a:lnTo>
                    <a:lnTo>
                      <a:pt x="1037" y="1864"/>
                    </a:lnTo>
                    <a:lnTo>
                      <a:pt x="1040" y="1862"/>
                    </a:lnTo>
                    <a:lnTo>
                      <a:pt x="1043" y="1862"/>
                    </a:lnTo>
                    <a:lnTo>
                      <a:pt x="1045" y="1862"/>
                    </a:lnTo>
                    <a:lnTo>
                      <a:pt x="1048" y="1862"/>
                    </a:lnTo>
                    <a:lnTo>
                      <a:pt x="1051" y="1862"/>
                    </a:lnTo>
                    <a:lnTo>
                      <a:pt x="1054" y="1862"/>
                    </a:lnTo>
                    <a:lnTo>
                      <a:pt x="1056" y="1862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59" y="1864"/>
                    </a:lnTo>
                    <a:lnTo>
                      <a:pt x="1062" y="1867"/>
                    </a:lnTo>
                    <a:lnTo>
                      <a:pt x="1062" y="1867"/>
                    </a:lnTo>
                    <a:lnTo>
                      <a:pt x="1062" y="1867"/>
                    </a:lnTo>
                    <a:lnTo>
                      <a:pt x="1062" y="1870"/>
                    </a:lnTo>
                    <a:lnTo>
                      <a:pt x="1062" y="1870"/>
                    </a:lnTo>
                    <a:lnTo>
                      <a:pt x="1062" y="1870"/>
                    </a:lnTo>
                    <a:lnTo>
                      <a:pt x="1065" y="1870"/>
                    </a:lnTo>
                    <a:lnTo>
                      <a:pt x="1065" y="1870"/>
                    </a:lnTo>
                    <a:lnTo>
                      <a:pt x="1067" y="1873"/>
                    </a:lnTo>
                    <a:lnTo>
                      <a:pt x="1067" y="1873"/>
                    </a:lnTo>
                    <a:lnTo>
                      <a:pt x="1070" y="1875"/>
                    </a:lnTo>
                    <a:lnTo>
                      <a:pt x="1070" y="1875"/>
                    </a:lnTo>
                    <a:lnTo>
                      <a:pt x="1070" y="1875"/>
                    </a:lnTo>
                    <a:lnTo>
                      <a:pt x="1078" y="1884"/>
                    </a:lnTo>
                    <a:lnTo>
                      <a:pt x="1084" y="1895"/>
                    </a:lnTo>
                    <a:lnTo>
                      <a:pt x="1092" y="1903"/>
                    </a:lnTo>
                    <a:lnTo>
                      <a:pt x="1103" y="1911"/>
                    </a:lnTo>
                    <a:lnTo>
                      <a:pt x="1111" y="1919"/>
                    </a:lnTo>
                    <a:lnTo>
                      <a:pt x="1122" y="1925"/>
                    </a:lnTo>
                    <a:lnTo>
                      <a:pt x="1133" y="1930"/>
                    </a:lnTo>
                    <a:lnTo>
                      <a:pt x="1147" y="1933"/>
                    </a:lnTo>
                    <a:lnTo>
                      <a:pt x="1153" y="1936"/>
                    </a:lnTo>
                    <a:lnTo>
                      <a:pt x="1161" y="1936"/>
                    </a:lnTo>
                    <a:lnTo>
                      <a:pt x="1166" y="1936"/>
                    </a:lnTo>
                    <a:lnTo>
                      <a:pt x="1175" y="1936"/>
                    </a:lnTo>
                    <a:lnTo>
                      <a:pt x="1180" y="1936"/>
                    </a:lnTo>
                    <a:lnTo>
                      <a:pt x="1188" y="1933"/>
                    </a:lnTo>
                    <a:lnTo>
                      <a:pt x="1197" y="1933"/>
                    </a:lnTo>
                    <a:lnTo>
                      <a:pt x="1205" y="1933"/>
                    </a:lnTo>
                    <a:lnTo>
                      <a:pt x="1205" y="1933"/>
                    </a:lnTo>
                    <a:lnTo>
                      <a:pt x="1208" y="1933"/>
                    </a:lnTo>
                    <a:lnTo>
                      <a:pt x="1208" y="1930"/>
                    </a:lnTo>
                    <a:lnTo>
                      <a:pt x="1210" y="1930"/>
                    </a:lnTo>
                    <a:lnTo>
                      <a:pt x="1213" y="1930"/>
                    </a:lnTo>
                    <a:lnTo>
                      <a:pt x="1216" y="1928"/>
                    </a:lnTo>
                    <a:lnTo>
                      <a:pt x="1216" y="1928"/>
                    </a:lnTo>
                    <a:lnTo>
                      <a:pt x="1219" y="1928"/>
                    </a:lnTo>
                    <a:lnTo>
                      <a:pt x="1221" y="1928"/>
                    </a:lnTo>
                    <a:lnTo>
                      <a:pt x="1224" y="1925"/>
                    </a:lnTo>
                    <a:lnTo>
                      <a:pt x="1227" y="1925"/>
                    </a:lnTo>
                    <a:lnTo>
                      <a:pt x="1230" y="1925"/>
                    </a:lnTo>
                    <a:lnTo>
                      <a:pt x="1232" y="1922"/>
                    </a:lnTo>
                    <a:lnTo>
                      <a:pt x="1235" y="1922"/>
                    </a:lnTo>
                    <a:lnTo>
                      <a:pt x="1238" y="1922"/>
                    </a:lnTo>
                    <a:lnTo>
                      <a:pt x="1241" y="1919"/>
                    </a:lnTo>
                    <a:lnTo>
                      <a:pt x="1241" y="1919"/>
                    </a:lnTo>
                    <a:lnTo>
                      <a:pt x="1243" y="1919"/>
                    </a:lnTo>
                    <a:lnTo>
                      <a:pt x="1243" y="1917"/>
                    </a:lnTo>
                    <a:lnTo>
                      <a:pt x="1246" y="1917"/>
                    </a:lnTo>
                    <a:lnTo>
                      <a:pt x="1249" y="1917"/>
                    </a:lnTo>
                    <a:lnTo>
                      <a:pt x="1252" y="1914"/>
                    </a:lnTo>
                    <a:lnTo>
                      <a:pt x="1252" y="1914"/>
                    </a:lnTo>
                    <a:lnTo>
                      <a:pt x="1254" y="1914"/>
                    </a:lnTo>
                    <a:lnTo>
                      <a:pt x="1329" y="1878"/>
                    </a:lnTo>
                    <a:lnTo>
                      <a:pt x="1331" y="1878"/>
                    </a:lnTo>
                    <a:lnTo>
                      <a:pt x="1334" y="1878"/>
                    </a:lnTo>
                    <a:lnTo>
                      <a:pt x="1337" y="1878"/>
                    </a:lnTo>
                    <a:lnTo>
                      <a:pt x="1340" y="1878"/>
                    </a:lnTo>
                    <a:lnTo>
                      <a:pt x="1342" y="1881"/>
                    </a:lnTo>
                    <a:lnTo>
                      <a:pt x="1345" y="1881"/>
                    </a:lnTo>
                    <a:lnTo>
                      <a:pt x="1348" y="1884"/>
                    </a:lnTo>
                    <a:lnTo>
                      <a:pt x="1351" y="1884"/>
                    </a:lnTo>
                    <a:lnTo>
                      <a:pt x="1351" y="1884"/>
                    </a:lnTo>
                    <a:lnTo>
                      <a:pt x="1351" y="1884"/>
                    </a:lnTo>
                    <a:lnTo>
                      <a:pt x="1353" y="1886"/>
                    </a:lnTo>
                    <a:lnTo>
                      <a:pt x="1353" y="1886"/>
                    </a:lnTo>
                    <a:lnTo>
                      <a:pt x="1353" y="1886"/>
                    </a:lnTo>
                    <a:lnTo>
                      <a:pt x="1353" y="1889"/>
                    </a:lnTo>
                    <a:lnTo>
                      <a:pt x="1353" y="1889"/>
                    </a:lnTo>
                    <a:lnTo>
                      <a:pt x="1356" y="1889"/>
                    </a:lnTo>
                    <a:lnTo>
                      <a:pt x="1356" y="1889"/>
                    </a:lnTo>
                    <a:lnTo>
                      <a:pt x="1356" y="1892"/>
                    </a:lnTo>
                    <a:lnTo>
                      <a:pt x="1356" y="1892"/>
                    </a:lnTo>
                    <a:lnTo>
                      <a:pt x="1356" y="1895"/>
                    </a:lnTo>
                    <a:lnTo>
                      <a:pt x="1359" y="1895"/>
                    </a:lnTo>
                    <a:lnTo>
                      <a:pt x="1359" y="1897"/>
                    </a:lnTo>
                    <a:lnTo>
                      <a:pt x="1359" y="1897"/>
                    </a:lnTo>
                    <a:lnTo>
                      <a:pt x="1359" y="1897"/>
                    </a:lnTo>
                    <a:lnTo>
                      <a:pt x="1364" y="1903"/>
                    </a:lnTo>
                    <a:lnTo>
                      <a:pt x="1370" y="1911"/>
                    </a:lnTo>
                    <a:lnTo>
                      <a:pt x="1375" y="1917"/>
                    </a:lnTo>
                    <a:lnTo>
                      <a:pt x="1384" y="1922"/>
                    </a:lnTo>
                    <a:lnTo>
                      <a:pt x="1389" y="1930"/>
                    </a:lnTo>
                    <a:lnTo>
                      <a:pt x="1395" y="1936"/>
                    </a:lnTo>
                    <a:lnTo>
                      <a:pt x="1403" y="1941"/>
                    </a:lnTo>
                    <a:lnTo>
                      <a:pt x="1408" y="1947"/>
                    </a:lnTo>
                    <a:lnTo>
                      <a:pt x="1414" y="1947"/>
                    </a:lnTo>
                    <a:lnTo>
                      <a:pt x="1417" y="1950"/>
                    </a:lnTo>
                    <a:lnTo>
                      <a:pt x="1422" y="1952"/>
                    </a:lnTo>
                    <a:lnTo>
                      <a:pt x="1428" y="1952"/>
                    </a:lnTo>
                    <a:lnTo>
                      <a:pt x="1436" y="1952"/>
                    </a:lnTo>
                    <a:lnTo>
                      <a:pt x="1441" y="1955"/>
                    </a:lnTo>
                    <a:lnTo>
                      <a:pt x="1447" y="1955"/>
                    </a:lnTo>
                    <a:lnTo>
                      <a:pt x="1452" y="1955"/>
                    </a:lnTo>
                    <a:lnTo>
                      <a:pt x="1494" y="1933"/>
                    </a:lnTo>
                    <a:lnTo>
                      <a:pt x="1529" y="1906"/>
                    </a:lnTo>
                    <a:lnTo>
                      <a:pt x="1560" y="1873"/>
                    </a:lnTo>
                    <a:lnTo>
                      <a:pt x="1590" y="1837"/>
                    </a:lnTo>
                    <a:lnTo>
                      <a:pt x="1617" y="1801"/>
                    </a:lnTo>
                    <a:lnTo>
                      <a:pt x="1645" y="1765"/>
                    </a:lnTo>
                    <a:lnTo>
                      <a:pt x="1672" y="1730"/>
                    </a:lnTo>
                    <a:lnTo>
                      <a:pt x="1703" y="1697"/>
                    </a:lnTo>
                    <a:lnTo>
                      <a:pt x="1733" y="1658"/>
                    </a:lnTo>
                    <a:lnTo>
                      <a:pt x="1763" y="1620"/>
                    </a:lnTo>
                    <a:lnTo>
                      <a:pt x="1793" y="1584"/>
                    </a:lnTo>
                    <a:lnTo>
                      <a:pt x="1821" y="1548"/>
                    </a:lnTo>
                    <a:lnTo>
                      <a:pt x="1848" y="1510"/>
                    </a:lnTo>
                    <a:lnTo>
                      <a:pt x="1873" y="1474"/>
                    </a:lnTo>
                    <a:lnTo>
                      <a:pt x="1898" y="1435"/>
                    </a:lnTo>
                    <a:lnTo>
                      <a:pt x="1920" y="1394"/>
                    </a:lnTo>
                    <a:lnTo>
                      <a:pt x="1945" y="1356"/>
                    </a:lnTo>
                    <a:lnTo>
                      <a:pt x="1967" y="1317"/>
                    </a:lnTo>
                    <a:lnTo>
                      <a:pt x="1991" y="1279"/>
                    </a:lnTo>
                    <a:lnTo>
                      <a:pt x="2013" y="1240"/>
                    </a:lnTo>
                    <a:lnTo>
                      <a:pt x="2033" y="1202"/>
                    </a:lnTo>
                    <a:lnTo>
                      <a:pt x="2052" y="1163"/>
                    </a:lnTo>
                    <a:lnTo>
                      <a:pt x="2071" y="1125"/>
                    </a:lnTo>
                    <a:lnTo>
                      <a:pt x="2085" y="1083"/>
                    </a:lnTo>
                    <a:lnTo>
                      <a:pt x="2085" y="1083"/>
                    </a:lnTo>
                    <a:lnTo>
                      <a:pt x="2085" y="1081"/>
                    </a:lnTo>
                    <a:lnTo>
                      <a:pt x="2085" y="1081"/>
                    </a:lnTo>
                    <a:lnTo>
                      <a:pt x="2085" y="1078"/>
                    </a:lnTo>
                    <a:lnTo>
                      <a:pt x="2082" y="1075"/>
                    </a:lnTo>
                    <a:lnTo>
                      <a:pt x="2082" y="1072"/>
                    </a:lnTo>
                    <a:lnTo>
                      <a:pt x="2082" y="1072"/>
                    </a:lnTo>
                    <a:lnTo>
                      <a:pt x="2079" y="1070"/>
                    </a:lnTo>
                    <a:lnTo>
                      <a:pt x="2079" y="1067"/>
                    </a:lnTo>
                    <a:lnTo>
                      <a:pt x="2077" y="1061"/>
                    </a:lnTo>
                    <a:lnTo>
                      <a:pt x="2074" y="1059"/>
                    </a:lnTo>
                    <a:lnTo>
                      <a:pt x="2071" y="1056"/>
                    </a:lnTo>
                    <a:lnTo>
                      <a:pt x="2068" y="1050"/>
                    </a:lnTo>
                    <a:lnTo>
                      <a:pt x="2066" y="1048"/>
                    </a:lnTo>
                    <a:lnTo>
                      <a:pt x="2063" y="1042"/>
                    </a:lnTo>
                    <a:lnTo>
                      <a:pt x="2060" y="1040"/>
                    </a:lnTo>
                    <a:lnTo>
                      <a:pt x="2057" y="1040"/>
                    </a:lnTo>
                    <a:lnTo>
                      <a:pt x="2057" y="1037"/>
                    </a:lnTo>
                    <a:lnTo>
                      <a:pt x="2055" y="1037"/>
                    </a:lnTo>
                    <a:lnTo>
                      <a:pt x="2052" y="1037"/>
                    </a:lnTo>
                    <a:lnTo>
                      <a:pt x="2052" y="1034"/>
                    </a:lnTo>
                    <a:lnTo>
                      <a:pt x="2049" y="1034"/>
                    </a:lnTo>
                    <a:lnTo>
                      <a:pt x="2049" y="1031"/>
                    </a:lnTo>
                    <a:lnTo>
                      <a:pt x="2046" y="1031"/>
                    </a:lnTo>
                    <a:lnTo>
                      <a:pt x="2044" y="1029"/>
                    </a:lnTo>
                    <a:lnTo>
                      <a:pt x="2038" y="1026"/>
                    </a:lnTo>
                    <a:lnTo>
                      <a:pt x="2035" y="1026"/>
                    </a:lnTo>
                    <a:lnTo>
                      <a:pt x="2030" y="1023"/>
                    </a:lnTo>
                    <a:lnTo>
                      <a:pt x="2027" y="1023"/>
                    </a:lnTo>
                    <a:lnTo>
                      <a:pt x="2022" y="1023"/>
                    </a:lnTo>
                    <a:lnTo>
                      <a:pt x="2019" y="1020"/>
                    </a:lnTo>
                    <a:lnTo>
                      <a:pt x="2016" y="1020"/>
                    </a:lnTo>
                    <a:lnTo>
                      <a:pt x="1991" y="1015"/>
                    </a:lnTo>
                    <a:lnTo>
                      <a:pt x="1967" y="1015"/>
                    </a:lnTo>
                    <a:lnTo>
                      <a:pt x="1945" y="1020"/>
                    </a:lnTo>
                    <a:lnTo>
                      <a:pt x="1920" y="1029"/>
                    </a:lnTo>
                    <a:lnTo>
                      <a:pt x="1901" y="1037"/>
                    </a:lnTo>
                    <a:lnTo>
                      <a:pt x="1879" y="1050"/>
                    </a:lnTo>
                    <a:lnTo>
                      <a:pt x="1859" y="1067"/>
                    </a:lnTo>
                    <a:lnTo>
                      <a:pt x="1843" y="1083"/>
                    </a:lnTo>
                    <a:lnTo>
                      <a:pt x="1840" y="1083"/>
                    </a:lnTo>
                    <a:lnTo>
                      <a:pt x="1837" y="1083"/>
                    </a:lnTo>
                    <a:lnTo>
                      <a:pt x="1835" y="1083"/>
                    </a:lnTo>
                    <a:lnTo>
                      <a:pt x="1832" y="1083"/>
                    </a:lnTo>
                    <a:lnTo>
                      <a:pt x="1832" y="1083"/>
                    </a:lnTo>
                    <a:lnTo>
                      <a:pt x="1829" y="1083"/>
                    </a:lnTo>
                    <a:lnTo>
                      <a:pt x="1826" y="1083"/>
                    </a:lnTo>
                    <a:lnTo>
                      <a:pt x="1824" y="1083"/>
                    </a:lnTo>
                    <a:lnTo>
                      <a:pt x="1835" y="1042"/>
                    </a:lnTo>
                    <a:lnTo>
                      <a:pt x="1854" y="1004"/>
                    </a:lnTo>
                    <a:lnTo>
                      <a:pt x="1873" y="965"/>
                    </a:lnTo>
                    <a:lnTo>
                      <a:pt x="1895" y="927"/>
                    </a:lnTo>
                    <a:lnTo>
                      <a:pt x="1912" y="888"/>
                    </a:lnTo>
                    <a:lnTo>
                      <a:pt x="1923" y="847"/>
                    </a:lnTo>
                    <a:lnTo>
                      <a:pt x="1925" y="803"/>
                    </a:lnTo>
                    <a:lnTo>
                      <a:pt x="1912" y="756"/>
                    </a:lnTo>
                    <a:lnTo>
                      <a:pt x="1901" y="748"/>
                    </a:lnTo>
                    <a:lnTo>
                      <a:pt x="1887" y="743"/>
                    </a:lnTo>
                    <a:lnTo>
                      <a:pt x="1870" y="737"/>
                    </a:lnTo>
                    <a:lnTo>
                      <a:pt x="1854" y="734"/>
                    </a:lnTo>
                    <a:lnTo>
                      <a:pt x="1837" y="732"/>
                    </a:lnTo>
                    <a:lnTo>
                      <a:pt x="1821" y="726"/>
                    </a:lnTo>
                    <a:lnTo>
                      <a:pt x="1807" y="721"/>
                    </a:lnTo>
                    <a:lnTo>
                      <a:pt x="1793" y="710"/>
                    </a:lnTo>
                    <a:lnTo>
                      <a:pt x="1793" y="710"/>
                    </a:lnTo>
                    <a:lnTo>
                      <a:pt x="1793" y="707"/>
                    </a:lnTo>
                    <a:lnTo>
                      <a:pt x="1793" y="704"/>
                    </a:lnTo>
                    <a:lnTo>
                      <a:pt x="1793" y="701"/>
                    </a:lnTo>
                    <a:lnTo>
                      <a:pt x="1793" y="699"/>
                    </a:lnTo>
                    <a:lnTo>
                      <a:pt x="1793" y="696"/>
                    </a:lnTo>
                    <a:lnTo>
                      <a:pt x="1793" y="693"/>
                    </a:lnTo>
                    <a:lnTo>
                      <a:pt x="1793" y="690"/>
                    </a:lnTo>
                    <a:lnTo>
                      <a:pt x="1793" y="690"/>
                    </a:lnTo>
                    <a:lnTo>
                      <a:pt x="1796" y="688"/>
                    </a:lnTo>
                    <a:lnTo>
                      <a:pt x="1796" y="688"/>
                    </a:lnTo>
                    <a:lnTo>
                      <a:pt x="1796" y="685"/>
                    </a:lnTo>
                    <a:lnTo>
                      <a:pt x="1799" y="685"/>
                    </a:lnTo>
                    <a:lnTo>
                      <a:pt x="1799" y="682"/>
                    </a:lnTo>
                    <a:lnTo>
                      <a:pt x="1799" y="682"/>
                    </a:lnTo>
                    <a:lnTo>
                      <a:pt x="1802" y="682"/>
                    </a:lnTo>
                    <a:lnTo>
                      <a:pt x="1802" y="679"/>
                    </a:lnTo>
                    <a:lnTo>
                      <a:pt x="1804" y="677"/>
                    </a:lnTo>
                    <a:lnTo>
                      <a:pt x="1804" y="677"/>
                    </a:lnTo>
                    <a:lnTo>
                      <a:pt x="1807" y="674"/>
                    </a:lnTo>
                    <a:lnTo>
                      <a:pt x="1810" y="671"/>
                    </a:lnTo>
                    <a:lnTo>
                      <a:pt x="1813" y="668"/>
                    </a:lnTo>
                    <a:lnTo>
                      <a:pt x="1815" y="666"/>
                    </a:lnTo>
                    <a:lnTo>
                      <a:pt x="1815" y="660"/>
                    </a:lnTo>
                    <a:lnTo>
                      <a:pt x="1818" y="657"/>
                    </a:lnTo>
                    <a:lnTo>
                      <a:pt x="1821" y="655"/>
                    </a:lnTo>
                    <a:lnTo>
                      <a:pt x="1824" y="652"/>
                    </a:lnTo>
                    <a:lnTo>
                      <a:pt x="1826" y="649"/>
                    </a:lnTo>
                    <a:lnTo>
                      <a:pt x="1826" y="646"/>
                    </a:lnTo>
                    <a:lnTo>
                      <a:pt x="1829" y="644"/>
                    </a:lnTo>
                    <a:lnTo>
                      <a:pt x="1832" y="641"/>
                    </a:lnTo>
                    <a:lnTo>
                      <a:pt x="1832" y="638"/>
                    </a:lnTo>
                    <a:lnTo>
                      <a:pt x="1848" y="613"/>
                    </a:lnTo>
                    <a:lnTo>
                      <a:pt x="1868" y="589"/>
                    </a:lnTo>
                    <a:lnTo>
                      <a:pt x="1887" y="561"/>
                    </a:lnTo>
                    <a:lnTo>
                      <a:pt x="1906" y="536"/>
                    </a:lnTo>
                    <a:lnTo>
                      <a:pt x="1925" y="509"/>
                    </a:lnTo>
                    <a:lnTo>
                      <a:pt x="1939" y="481"/>
                    </a:lnTo>
                    <a:lnTo>
                      <a:pt x="1953" y="451"/>
                    </a:lnTo>
                    <a:lnTo>
                      <a:pt x="1961" y="421"/>
                    </a:lnTo>
                    <a:lnTo>
                      <a:pt x="1961" y="418"/>
                    </a:lnTo>
                    <a:lnTo>
                      <a:pt x="1958" y="415"/>
                    </a:lnTo>
                    <a:lnTo>
                      <a:pt x="1958" y="413"/>
                    </a:lnTo>
                    <a:lnTo>
                      <a:pt x="1956" y="410"/>
                    </a:lnTo>
                    <a:lnTo>
                      <a:pt x="1956" y="407"/>
                    </a:lnTo>
                    <a:lnTo>
                      <a:pt x="1956" y="404"/>
                    </a:lnTo>
                    <a:lnTo>
                      <a:pt x="1953" y="402"/>
                    </a:lnTo>
                    <a:lnTo>
                      <a:pt x="1953" y="399"/>
                    </a:lnTo>
                    <a:lnTo>
                      <a:pt x="1950" y="393"/>
                    </a:lnTo>
                    <a:lnTo>
                      <a:pt x="1945" y="388"/>
                    </a:lnTo>
                    <a:lnTo>
                      <a:pt x="1942" y="382"/>
                    </a:lnTo>
                    <a:lnTo>
                      <a:pt x="1936" y="380"/>
                    </a:lnTo>
                    <a:lnTo>
                      <a:pt x="1931" y="374"/>
                    </a:lnTo>
                    <a:lnTo>
                      <a:pt x="1923" y="369"/>
                    </a:lnTo>
                    <a:lnTo>
                      <a:pt x="1917" y="366"/>
                    </a:lnTo>
                    <a:lnTo>
                      <a:pt x="1912" y="360"/>
                    </a:lnTo>
                    <a:lnTo>
                      <a:pt x="1912" y="360"/>
                    </a:lnTo>
                    <a:lnTo>
                      <a:pt x="1909" y="358"/>
                    </a:lnTo>
                    <a:lnTo>
                      <a:pt x="1906" y="358"/>
                    </a:lnTo>
                    <a:lnTo>
                      <a:pt x="1903" y="355"/>
                    </a:lnTo>
                    <a:lnTo>
                      <a:pt x="1903" y="355"/>
                    </a:lnTo>
                    <a:lnTo>
                      <a:pt x="1901" y="352"/>
                    </a:lnTo>
                    <a:lnTo>
                      <a:pt x="1898" y="352"/>
                    </a:lnTo>
                    <a:lnTo>
                      <a:pt x="1895" y="349"/>
                    </a:lnTo>
                    <a:lnTo>
                      <a:pt x="1892" y="349"/>
                    </a:lnTo>
                    <a:lnTo>
                      <a:pt x="1890" y="349"/>
                    </a:lnTo>
                    <a:lnTo>
                      <a:pt x="1887" y="349"/>
                    </a:lnTo>
                    <a:lnTo>
                      <a:pt x="1887" y="349"/>
                    </a:lnTo>
                    <a:lnTo>
                      <a:pt x="1884" y="349"/>
                    </a:lnTo>
                    <a:lnTo>
                      <a:pt x="1881" y="349"/>
                    </a:lnTo>
                    <a:lnTo>
                      <a:pt x="1881" y="347"/>
                    </a:lnTo>
                    <a:lnTo>
                      <a:pt x="1881" y="347"/>
                    </a:lnTo>
                    <a:lnTo>
                      <a:pt x="1873" y="347"/>
                    </a:lnTo>
                    <a:lnTo>
                      <a:pt x="1868" y="347"/>
                    </a:lnTo>
                    <a:lnTo>
                      <a:pt x="1862" y="347"/>
                    </a:lnTo>
                    <a:lnTo>
                      <a:pt x="1857" y="347"/>
                    </a:lnTo>
                    <a:lnTo>
                      <a:pt x="1851" y="347"/>
                    </a:lnTo>
                    <a:lnTo>
                      <a:pt x="1846" y="349"/>
                    </a:lnTo>
                    <a:lnTo>
                      <a:pt x="1840" y="349"/>
                    </a:lnTo>
                    <a:lnTo>
                      <a:pt x="1832" y="349"/>
                    </a:lnTo>
                    <a:lnTo>
                      <a:pt x="1832" y="352"/>
                    </a:lnTo>
                    <a:lnTo>
                      <a:pt x="1832" y="352"/>
                    </a:lnTo>
                    <a:lnTo>
                      <a:pt x="1829" y="352"/>
                    </a:lnTo>
                    <a:lnTo>
                      <a:pt x="1826" y="352"/>
                    </a:lnTo>
                    <a:lnTo>
                      <a:pt x="1826" y="352"/>
                    </a:lnTo>
                    <a:lnTo>
                      <a:pt x="1824" y="352"/>
                    </a:lnTo>
                    <a:lnTo>
                      <a:pt x="1821" y="352"/>
                    </a:lnTo>
                    <a:lnTo>
                      <a:pt x="1818" y="352"/>
                    </a:lnTo>
                    <a:lnTo>
                      <a:pt x="1782" y="377"/>
                    </a:lnTo>
                    <a:lnTo>
                      <a:pt x="1747" y="402"/>
                    </a:lnTo>
                    <a:lnTo>
                      <a:pt x="1714" y="432"/>
                    </a:lnTo>
                    <a:lnTo>
                      <a:pt x="1681" y="462"/>
                    </a:lnTo>
                    <a:lnTo>
                      <a:pt x="1650" y="495"/>
                    </a:lnTo>
                    <a:lnTo>
                      <a:pt x="1620" y="528"/>
                    </a:lnTo>
                    <a:lnTo>
                      <a:pt x="1587" y="561"/>
                    </a:lnTo>
                    <a:lnTo>
                      <a:pt x="1554" y="594"/>
                    </a:lnTo>
                    <a:lnTo>
                      <a:pt x="1551" y="597"/>
                    </a:lnTo>
                    <a:lnTo>
                      <a:pt x="1549" y="602"/>
                    </a:lnTo>
                    <a:lnTo>
                      <a:pt x="1546" y="605"/>
                    </a:lnTo>
                    <a:lnTo>
                      <a:pt x="1543" y="608"/>
                    </a:lnTo>
                    <a:lnTo>
                      <a:pt x="1540" y="611"/>
                    </a:lnTo>
                    <a:lnTo>
                      <a:pt x="1540" y="611"/>
                    </a:lnTo>
                    <a:lnTo>
                      <a:pt x="1538" y="613"/>
                    </a:lnTo>
                    <a:lnTo>
                      <a:pt x="1538" y="613"/>
                    </a:lnTo>
                    <a:lnTo>
                      <a:pt x="1535" y="616"/>
                    </a:lnTo>
                    <a:lnTo>
                      <a:pt x="1532" y="616"/>
                    </a:lnTo>
                    <a:lnTo>
                      <a:pt x="1529" y="616"/>
                    </a:lnTo>
                    <a:lnTo>
                      <a:pt x="1527" y="616"/>
                    </a:lnTo>
                    <a:lnTo>
                      <a:pt x="1524" y="619"/>
                    </a:lnTo>
                    <a:lnTo>
                      <a:pt x="1521" y="616"/>
                    </a:lnTo>
                    <a:lnTo>
                      <a:pt x="1521" y="616"/>
                    </a:lnTo>
                    <a:lnTo>
                      <a:pt x="1518" y="613"/>
                    </a:lnTo>
                    <a:lnTo>
                      <a:pt x="1518" y="611"/>
                    </a:lnTo>
                    <a:lnTo>
                      <a:pt x="1518" y="611"/>
                    </a:lnTo>
                    <a:lnTo>
                      <a:pt x="1518" y="608"/>
                    </a:lnTo>
                    <a:lnTo>
                      <a:pt x="1518" y="605"/>
                    </a:lnTo>
                    <a:lnTo>
                      <a:pt x="1518" y="602"/>
                    </a:lnTo>
                    <a:lnTo>
                      <a:pt x="1521" y="602"/>
                    </a:lnTo>
                    <a:lnTo>
                      <a:pt x="1521" y="600"/>
                    </a:lnTo>
                    <a:lnTo>
                      <a:pt x="1524" y="597"/>
                    </a:lnTo>
                    <a:lnTo>
                      <a:pt x="1524" y="597"/>
                    </a:lnTo>
                    <a:lnTo>
                      <a:pt x="1524" y="594"/>
                    </a:lnTo>
                    <a:lnTo>
                      <a:pt x="1524" y="591"/>
                    </a:lnTo>
                    <a:lnTo>
                      <a:pt x="1524" y="589"/>
                    </a:lnTo>
                    <a:lnTo>
                      <a:pt x="1524" y="589"/>
                    </a:lnTo>
                    <a:lnTo>
                      <a:pt x="1524" y="586"/>
                    </a:lnTo>
                    <a:lnTo>
                      <a:pt x="1527" y="583"/>
                    </a:lnTo>
                    <a:lnTo>
                      <a:pt x="1527" y="580"/>
                    </a:lnTo>
                    <a:lnTo>
                      <a:pt x="1540" y="550"/>
                    </a:lnTo>
                    <a:lnTo>
                      <a:pt x="1560" y="523"/>
                    </a:lnTo>
                    <a:lnTo>
                      <a:pt x="1576" y="495"/>
                    </a:lnTo>
                    <a:lnTo>
                      <a:pt x="1595" y="468"/>
                    </a:lnTo>
                    <a:lnTo>
                      <a:pt x="1615" y="440"/>
                    </a:lnTo>
                    <a:lnTo>
                      <a:pt x="1631" y="410"/>
                    </a:lnTo>
                    <a:lnTo>
                      <a:pt x="1645" y="380"/>
                    </a:lnTo>
                    <a:lnTo>
                      <a:pt x="1659" y="347"/>
                    </a:lnTo>
                    <a:lnTo>
                      <a:pt x="1659" y="333"/>
                    </a:lnTo>
                    <a:lnTo>
                      <a:pt x="1661" y="319"/>
                    </a:lnTo>
                    <a:lnTo>
                      <a:pt x="1661" y="305"/>
                    </a:lnTo>
                    <a:lnTo>
                      <a:pt x="1661" y="292"/>
                    </a:lnTo>
                    <a:lnTo>
                      <a:pt x="1659" y="278"/>
                    </a:lnTo>
                    <a:lnTo>
                      <a:pt x="1653" y="264"/>
                    </a:lnTo>
                    <a:lnTo>
                      <a:pt x="1648" y="253"/>
                    </a:lnTo>
                    <a:lnTo>
                      <a:pt x="1639" y="239"/>
                    </a:lnTo>
                    <a:lnTo>
                      <a:pt x="1639" y="239"/>
                    </a:lnTo>
                    <a:lnTo>
                      <a:pt x="1639" y="237"/>
                    </a:lnTo>
                    <a:lnTo>
                      <a:pt x="1637" y="237"/>
                    </a:lnTo>
                    <a:lnTo>
                      <a:pt x="1637" y="234"/>
                    </a:lnTo>
                    <a:lnTo>
                      <a:pt x="1634" y="231"/>
                    </a:lnTo>
                    <a:lnTo>
                      <a:pt x="1631" y="231"/>
                    </a:lnTo>
                    <a:lnTo>
                      <a:pt x="1631" y="228"/>
                    </a:lnTo>
                    <a:lnTo>
                      <a:pt x="1628" y="228"/>
                    </a:lnTo>
                    <a:lnTo>
                      <a:pt x="1617" y="223"/>
                    </a:lnTo>
                    <a:lnTo>
                      <a:pt x="1606" y="220"/>
                    </a:lnTo>
                    <a:lnTo>
                      <a:pt x="1595" y="217"/>
                    </a:lnTo>
                    <a:lnTo>
                      <a:pt x="1584" y="217"/>
                    </a:lnTo>
                    <a:lnTo>
                      <a:pt x="1571" y="217"/>
                    </a:lnTo>
                    <a:lnTo>
                      <a:pt x="1560" y="217"/>
                    </a:lnTo>
                    <a:lnTo>
                      <a:pt x="1549" y="220"/>
                    </a:lnTo>
                    <a:lnTo>
                      <a:pt x="1538" y="223"/>
                    </a:lnTo>
                    <a:lnTo>
                      <a:pt x="1496" y="242"/>
                    </a:lnTo>
                    <a:lnTo>
                      <a:pt x="1461" y="270"/>
                    </a:lnTo>
                    <a:lnTo>
                      <a:pt x="1425" y="300"/>
                    </a:lnTo>
                    <a:lnTo>
                      <a:pt x="1392" y="333"/>
                    </a:lnTo>
                    <a:lnTo>
                      <a:pt x="1362" y="366"/>
                    </a:lnTo>
                    <a:lnTo>
                      <a:pt x="1331" y="402"/>
                    </a:lnTo>
                    <a:lnTo>
                      <a:pt x="1304" y="437"/>
                    </a:lnTo>
                    <a:lnTo>
                      <a:pt x="1276" y="470"/>
                    </a:lnTo>
                    <a:lnTo>
                      <a:pt x="1243" y="506"/>
                    </a:lnTo>
                    <a:lnTo>
                      <a:pt x="1213" y="542"/>
                    </a:lnTo>
                    <a:lnTo>
                      <a:pt x="1183" y="578"/>
                    </a:lnTo>
                    <a:lnTo>
                      <a:pt x="1155" y="613"/>
                    </a:lnTo>
                    <a:lnTo>
                      <a:pt x="1125" y="649"/>
                    </a:lnTo>
                    <a:lnTo>
                      <a:pt x="1095" y="682"/>
                    </a:lnTo>
                    <a:lnTo>
                      <a:pt x="1065" y="718"/>
                    </a:lnTo>
                    <a:lnTo>
                      <a:pt x="1037" y="754"/>
                    </a:lnTo>
                    <a:lnTo>
                      <a:pt x="1018" y="776"/>
                    </a:lnTo>
                    <a:lnTo>
                      <a:pt x="999" y="795"/>
                    </a:lnTo>
                    <a:lnTo>
                      <a:pt x="982" y="814"/>
                    </a:lnTo>
                    <a:lnTo>
                      <a:pt x="966" y="833"/>
                    </a:lnTo>
                    <a:lnTo>
                      <a:pt x="949" y="853"/>
                    </a:lnTo>
                    <a:lnTo>
                      <a:pt x="933" y="869"/>
                    </a:lnTo>
                    <a:lnTo>
                      <a:pt x="916" y="888"/>
                    </a:lnTo>
                    <a:lnTo>
                      <a:pt x="900" y="908"/>
                    </a:lnTo>
                    <a:lnTo>
                      <a:pt x="897" y="908"/>
                    </a:lnTo>
                    <a:lnTo>
                      <a:pt x="897" y="908"/>
                    </a:lnTo>
                    <a:lnTo>
                      <a:pt x="894" y="908"/>
                    </a:lnTo>
                    <a:lnTo>
                      <a:pt x="891" y="910"/>
                    </a:lnTo>
                    <a:lnTo>
                      <a:pt x="889" y="910"/>
                    </a:lnTo>
                    <a:lnTo>
                      <a:pt x="889" y="910"/>
                    </a:lnTo>
                    <a:lnTo>
                      <a:pt x="886" y="908"/>
                    </a:lnTo>
                    <a:lnTo>
                      <a:pt x="883" y="908"/>
                    </a:lnTo>
                    <a:lnTo>
                      <a:pt x="905" y="866"/>
                    </a:lnTo>
                    <a:lnTo>
                      <a:pt x="927" y="825"/>
                    </a:lnTo>
                    <a:lnTo>
                      <a:pt x="952" y="787"/>
                    </a:lnTo>
                    <a:lnTo>
                      <a:pt x="977" y="745"/>
                    </a:lnTo>
                    <a:lnTo>
                      <a:pt x="1001" y="707"/>
                    </a:lnTo>
                    <a:lnTo>
                      <a:pt x="1029" y="668"/>
                    </a:lnTo>
                    <a:lnTo>
                      <a:pt x="1054" y="627"/>
                    </a:lnTo>
                    <a:lnTo>
                      <a:pt x="1078" y="589"/>
                    </a:lnTo>
                    <a:lnTo>
                      <a:pt x="1103" y="547"/>
                    </a:lnTo>
                    <a:lnTo>
                      <a:pt x="1128" y="509"/>
                    </a:lnTo>
                    <a:lnTo>
                      <a:pt x="1150" y="468"/>
                    </a:lnTo>
                    <a:lnTo>
                      <a:pt x="1175" y="429"/>
                    </a:lnTo>
                    <a:lnTo>
                      <a:pt x="1199" y="391"/>
                    </a:lnTo>
                    <a:lnTo>
                      <a:pt x="1224" y="349"/>
                    </a:lnTo>
                    <a:lnTo>
                      <a:pt x="1249" y="311"/>
                    </a:lnTo>
                    <a:lnTo>
                      <a:pt x="1276" y="272"/>
                    </a:lnTo>
                    <a:lnTo>
                      <a:pt x="1290" y="253"/>
                    </a:lnTo>
                    <a:lnTo>
                      <a:pt x="1301" y="231"/>
                    </a:lnTo>
                    <a:lnTo>
                      <a:pt x="1315" y="212"/>
                    </a:lnTo>
                    <a:lnTo>
                      <a:pt x="1329" y="193"/>
                    </a:lnTo>
                    <a:lnTo>
                      <a:pt x="1340" y="173"/>
                    </a:lnTo>
                    <a:lnTo>
                      <a:pt x="1351" y="154"/>
                    </a:lnTo>
                    <a:lnTo>
                      <a:pt x="1362" y="135"/>
                    </a:lnTo>
                    <a:lnTo>
                      <a:pt x="1373" y="113"/>
                    </a:lnTo>
                    <a:lnTo>
                      <a:pt x="1375" y="105"/>
                    </a:lnTo>
                    <a:lnTo>
                      <a:pt x="1375" y="96"/>
                    </a:lnTo>
                    <a:lnTo>
                      <a:pt x="1375" y="88"/>
                    </a:lnTo>
                    <a:lnTo>
                      <a:pt x="1375" y="83"/>
                    </a:lnTo>
                    <a:lnTo>
                      <a:pt x="1375" y="74"/>
                    </a:lnTo>
                    <a:lnTo>
                      <a:pt x="1375" y="66"/>
                    </a:lnTo>
                    <a:lnTo>
                      <a:pt x="1373" y="58"/>
                    </a:lnTo>
                    <a:lnTo>
                      <a:pt x="1373" y="47"/>
                    </a:lnTo>
                    <a:lnTo>
                      <a:pt x="1370" y="44"/>
                    </a:lnTo>
                    <a:lnTo>
                      <a:pt x="1367" y="39"/>
                    </a:lnTo>
                    <a:lnTo>
                      <a:pt x="1364" y="36"/>
                    </a:lnTo>
                    <a:lnTo>
                      <a:pt x="1362" y="30"/>
                    </a:lnTo>
                    <a:lnTo>
                      <a:pt x="1359" y="28"/>
                    </a:lnTo>
                    <a:lnTo>
                      <a:pt x="1353" y="22"/>
                    </a:lnTo>
                    <a:lnTo>
                      <a:pt x="1351" y="19"/>
                    </a:lnTo>
                    <a:lnTo>
                      <a:pt x="1345" y="17"/>
                    </a:lnTo>
                    <a:lnTo>
                      <a:pt x="1345" y="14"/>
                    </a:lnTo>
                    <a:lnTo>
                      <a:pt x="1342" y="14"/>
                    </a:lnTo>
                    <a:lnTo>
                      <a:pt x="1342" y="14"/>
                    </a:lnTo>
                    <a:lnTo>
                      <a:pt x="1340" y="14"/>
                    </a:lnTo>
                    <a:lnTo>
                      <a:pt x="1337" y="11"/>
                    </a:lnTo>
                    <a:lnTo>
                      <a:pt x="1337" y="11"/>
                    </a:lnTo>
                    <a:lnTo>
                      <a:pt x="1334" y="11"/>
                    </a:lnTo>
                    <a:lnTo>
                      <a:pt x="1331" y="8"/>
                    </a:lnTo>
                    <a:lnTo>
                      <a:pt x="1315" y="3"/>
                    </a:lnTo>
                    <a:lnTo>
                      <a:pt x="1301" y="0"/>
                    </a:lnTo>
                    <a:lnTo>
                      <a:pt x="1285" y="0"/>
                    </a:lnTo>
                    <a:lnTo>
                      <a:pt x="1268" y="3"/>
                    </a:lnTo>
                    <a:lnTo>
                      <a:pt x="1252" y="8"/>
                    </a:lnTo>
                    <a:lnTo>
                      <a:pt x="1235" y="17"/>
                    </a:lnTo>
                    <a:lnTo>
                      <a:pt x="1219" y="25"/>
                    </a:lnTo>
                    <a:lnTo>
                      <a:pt x="1205" y="33"/>
                    </a:lnTo>
                    <a:lnTo>
                      <a:pt x="1177" y="55"/>
                    </a:lnTo>
                    <a:lnTo>
                      <a:pt x="1150" y="80"/>
                    </a:lnTo>
                    <a:lnTo>
                      <a:pt x="1125" y="105"/>
                    </a:lnTo>
                    <a:lnTo>
                      <a:pt x="1098" y="132"/>
                    </a:lnTo>
                    <a:lnTo>
                      <a:pt x="1073" y="160"/>
                    </a:lnTo>
                    <a:lnTo>
                      <a:pt x="1048" y="184"/>
                    </a:lnTo>
                    <a:lnTo>
                      <a:pt x="1023" y="212"/>
                    </a:lnTo>
                    <a:lnTo>
                      <a:pt x="1001" y="237"/>
                    </a:lnTo>
                    <a:lnTo>
                      <a:pt x="1001" y="237"/>
                    </a:lnTo>
                    <a:lnTo>
                      <a:pt x="1001" y="237"/>
                    </a:lnTo>
                    <a:lnTo>
                      <a:pt x="1001" y="239"/>
                    </a:lnTo>
                    <a:lnTo>
                      <a:pt x="999" y="239"/>
                    </a:lnTo>
                    <a:lnTo>
                      <a:pt x="999" y="239"/>
                    </a:lnTo>
                    <a:lnTo>
                      <a:pt x="999" y="242"/>
                    </a:lnTo>
                    <a:lnTo>
                      <a:pt x="999" y="242"/>
                    </a:lnTo>
                    <a:lnTo>
                      <a:pt x="999" y="242"/>
                    </a:lnTo>
                    <a:lnTo>
                      <a:pt x="996" y="242"/>
                    </a:lnTo>
                    <a:lnTo>
                      <a:pt x="996" y="245"/>
                    </a:lnTo>
                    <a:lnTo>
                      <a:pt x="996" y="245"/>
                    </a:lnTo>
                    <a:lnTo>
                      <a:pt x="993" y="248"/>
                    </a:lnTo>
                    <a:lnTo>
                      <a:pt x="993" y="248"/>
                    </a:lnTo>
                    <a:lnTo>
                      <a:pt x="993" y="250"/>
                    </a:lnTo>
                    <a:lnTo>
                      <a:pt x="990" y="250"/>
                    </a:lnTo>
                    <a:lnTo>
                      <a:pt x="990" y="250"/>
                    </a:lnTo>
                    <a:lnTo>
                      <a:pt x="963" y="286"/>
                    </a:lnTo>
                    <a:lnTo>
                      <a:pt x="933" y="319"/>
                    </a:lnTo>
                    <a:lnTo>
                      <a:pt x="905" y="355"/>
                    </a:lnTo>
                    <a:lnTo>
                      <a:pt x="875" y="388"/>
                    </a:lnTo>
                    <a:lnTo>
                      <a:pt x="847" y="424"/>
                    </a:lnTo>
                    <a:lnTo>
                      <a:pt x="820" y="459"/>
                    </a:lnTo>
                    <a:lnTo>
                      <a:pt x="790" y="492"/>
                    </a:lnTo>
                    <a:lnTo>
                      <a:pt x="759" y="528"/>
                    </a:lnTo>
                    <a:lnTo>
                      <a:pt x="748" y="542"/>
                    </a:lnTo>
                    <a:lnTo>
                      <a:pt x="735" y="553"/>
                    </a:lnTo>
                    <a:lnTo>
                      <a:pt x="726" y="567"/>
                    </a:lnTo>
                    <a:lnTo>
                      <a:pt x="715" y="578"/>
                    </a:lnTo>
                    <a:lnTo>
                      <a:pt x="704" y="589"/>
                    </a:lnTo>
                    <a:lnTo>
                      <a:pt x="696" y="600"/>
                    </a:lnTo>
                    <a:lnTo>
                      <a:pt x="685" y="611"/>
                    </a:lnTo>
                    <a:lnTo>
                      <a:pt x="674" y="622"/>
                    </a:lnTo>
                    <a:lnTo>
                      <a:pt x="674" y="622"/>
                    </a:lnTo>
                    <a:lnTo>
                      <a:pt x="671" y="622"/>
                    </a:lnTo>
                    <a:lnTo>
                      <a:pt x="671" y="624"/>
                    </a:lnTo>
                    <a:lnTo>
                      <a:pt x="669" y="624"/>
                    </a:lnTo>
                    <a:lnTo>
                      <a:pt x="666" y="624"/>
                    </a:lnTo>
                    <a:lnTo>
                      <a:pt x="663" y="624"/>
                    </a:lnTo>
                    <a:lnTo>
                      <a:pt x="663" y="624"/>
                    </a:lnTo>
                    <a:lnTo>
                      <a:pt x="660" y="622"/>
                    </a:lnTo>
                    <a:lnTo>
                      <a:pt x="660" y="619"/>
                    </a:lnTo>
                    <a:lnTo>
                      <a:pt x="658" y="616"/>
                    </a:lnTo>
                    <a:lnTo>
                      <a:pt x="658" y="613"/>
                    </a:lnTo>
                    <a:lnTo>
                      <a:pt x="658" y="611"/>
                    </a:lnTo>
                    <a:lnTo>
                      <a:pt x="660" y="608"/>
                    </a:lnTo>
                    <a:lnTo>
                      <a:pt x="660" y="605"/>
                    </a:lnTo>
                    <a:lnTo>
                      <a:pt x="660" y="602"/>
                    </a:lnTo>
                    <a:lnTo>
                      <a:pt x="660" y="597"/>
                    </a:lnTo>
                    <a:lnTo>
                      <a:pt x="663" y="597"/>
                    </a:lnTo>
                    <a:lnTo>
                      <a:pt x="663" y="594"/>
                    </a:lnTo>
                    <a:lnTo>
                      <a:pt x="663" y="591"/>
                    </a:lnTo>
                    <a:lnTo>
                      <a:pt x="663" y="589"/>
                    </a:lnTo>
                    <a:lnTo>
                      <a:pt x="666" y="589"/>
                    </a:lnTo>
                    <a:lnTo>
                      <a:pt x="666" y="586"/>
                    </a:lnTo>
                    <a:lnTo>
                      <a:pt x="666" y="583"/>
                    </a:lnTo>
                    <a:lnTo>
                      <a:pt x="666" y="580"/>
                    </a:lnTo>
                    <a:lnTo>
                      <a:pt x="680" y="550"/>
                    </a:lnTo>
                    <a:lnTo>
                      <a:pt x="696" y="520"/>
                    </a:lnTo>
                    <a:lnTo>
                      <a:pt x="715" y="492"/>
                    </a:lnTo>
                    <a:lnTo>
                      <a:pt x="732" y="465"/>
                    </a:lnTo>
                    <a:lnTo>
                      <a:pt x="751" y="440"/>
                    </a:lnTo>
                    <a:lnTo>
                      <a:pt x="768" y="410"/>
                    </a:lnTo>
                    <a:lnTo>
                      <a:pt x="784" y="380"/>
                    </a:lnTo>
                    <a:lnTo>
                      <a:pt x="795" y="347"/>
                    </a:lnTo>
                    <a:lnTo>
                      <a:pt x="798" y="333"/>
                    </a:lnTo>
                    <a:lnTo>
                      <a:pt x="801" y="319"/>
                    </a:lnTo>
                    <a:lnTo>
                      <a:pt x="801" y="305"/>
                    </a:lnTo>
                    <a:lnTo>
                      <a:pt x="801" y="292"/>
                    </a:lnTo>
                    <a:lnTo>
                      <a:pt x="798" y="278"/>
                    </a:lnTo>
                    <a:lnTo>
                      <a:pt x="792" y="264"/>
                    </a:lnTo>
                    <a:lnTo>
                      <a:pt x="787" y="253"/>
                    </a:lnTo>
                    <a:lnTo>
                      <a:pt x="781" y="239"/>
                    </a:lnTo>
                    <a:lnTo>
                      <a:pt x="779" y="239"/>
                    </a:lnTo>
                    <a:lnTo>
                      <a:pt x="779" y="237"/>
                    </a:lnTo>
                    <a:lnTo>
                      <a:pt x="776" y="237"/>
                    </a:lnTo>
                    <a:lnTo>
                      <a:pt x="776" y="234"/>
                    </a:lnTo>
                    <a:lnTo>
                      <a:pt x="773" y="231"/>
                    </a:lnTo>
                    <a:lnTo>
                      <a:pt x="773" y="231"/>
                    </a:lnTo>
                    <a:lnTo>
                      <a:pt x="770" y="228"/>
                    </a:lnTo>
                    <a:lnTo>
                      <a:pt x="770" y="228"/>
                    </a:lnTo>
                    <a:lnTo>
                      <a:pt x="768" y="228"/>
                    </a:lnTo>
                    <a:lnTo>
                      <a:pt x="765" y="226"/>
                    </a:lnTo>
                    <a:lnTo>
                      <a:pt x="762" y="226"/>
                    </a:lnTo>
                    <a:lnTo>
                      <a:pt x="759" y="223"/>
                    </a:lnTo>
                    <a:lnTo>
                      <a:pt x="757" y="223"/>
                    </a:lnTo>
                    <a:lnTo>
                      <a:pt x="754" y="223"/>
                    </a:lnTo>
                    <a:lnTo>
                      <a:pt x="748" y="220"/>
                    </a:lnTo>
                    <a:lnTo>
                      <a:pt x="746" y="220"/>
                    </a:lnTo>
                    <a:lnTo>
                      <a:pt x="737" y="217"/>
                    </a:lnTo>
                    <a:lnTo>
                      <a:pt x="726" y="215"/>
                    </a:lnTo>
                    <a:lnTo>
                      <a:pt x="718" y="215"/>
                    </a:lnTo>
                    <a:lnTo>
                      <a:pt x="707" y="215"/>
                    </a:lnTo>
                    <a:lnTo>
                      <a:pt x="699" y="217"/>
                    </a:lnTo>
                    <a:lnTo>
                      <a:pt x="688" y="217"/>
                    </a:lnTo>
                    <a:lnTo>
                      <a:pt x="680" y="220"/>
                    </a:lnTo>
                    <a:lnTo>
                      <a:pt x="671" y="223"/>
                    </a:lnTo>
                    <a:lnTo>
                      <a:pt x="647" y="234"/>
                    </a:lnTo>
                    <a:lnTo>
                      <a:pt x="625" y="250"/>
                    </a:lnTo>
                    <a:lnTo>
                      <a:pt x="603" y="267"/>
                    </a:lnTo>
                    <a:lnTo>
                      <a:pt x="581" y="286"/>
                    </a:lnTo>
                    <a:lnTo>
                      <a:pt x="559" y="305"/>
                    </a:lnTo>
                    <a:lnTo>
                      <a:pt x="537" y="325"/>
                    </a:lnTo>
                    <a:lnTo>
                      <a:pt x="515" y="344"/>
                    </a:lnTo>
                    <a:lnTo>
                      <a:pt x="493" y="360"/>
                    </a:lnTo>
                    <a:lnTo>
                      <a:pt x="493" y="363"/>
                    </a:lnTo>
                    <a:lnTo>
                      <a:pt x="490" y="363"/>
                    </a:lnTo>
                    <a:lnTo>
                      <a:pt x="490" y="363"/>
                    </a:lnTo>
                    <a:lnTo>
                      <a:pt x="487" y="363"/>
                    </a:lnTo>
                    <a:lnTo>
                      <a:pt x="484" y="363"/>
                    </a:lnTo>
                    <a:lnTo>
                      <a:pt x="482" y="363"/>
                    </a:lnTo>
                    <a:lnTo>
                      <a:pt x="482" y="363"/>
                    </a:lnTo>
                    <a:lnTo>
                      <a:pt x="479" y="360"/>
                    </a:lnTo>
                    <a:lnTo>
                      <a:pt x="476" y="360"/>
                    </a:lnTo>
                    <a:lnTo>
                      <a:pt x="476" y="360"/>
                    </a:lnTo>
                    <a:lnTo>
                      <a:pt x="473" y="360"/>
                    </a:lnTo>
                    <a:lnTo>
                      <a:pt x="471" y="360"/>
                    </a:lnTo>
                    <a:lnTo>
                      <a:pt x="471" y="358"/>
                    </a:lnTo>
                    <a:lnTo>
                      <a:pt x="468" y="358"/>
                    </a:lnTo>
                    <a:lnTo>
                      <a:pt x="468" y="355"/>
                    </a:lnTo>
                    <a:lnTo>
                      <a:pt x="465" y="355"/>
                    </a:lnTo>
                    <a:lnTo>
                      <a:pt x="462" y="352"/>
                    </a:lnTo>
                    <a:lnTo>
                      <a:pt x="460" y="349"/>
                    </a:lnTo>
                    <a:lnTo>
                      <a:pt x="454" y="347"/>
                    </a:lnTo>
                    <a:lnTo>
                      <a:pt x="451" y="344"/>
                    </a:lnTo>
                    <a:lnTo>
                      <a:pt x="446" y="341"/>
                    </a:lnTo>
                    <a:lnTo>
                      <a:pt x="443" y="338"/>
                    </a:lnTo>
                    <a:lnTo>
                      <a:pt x="438" y="336"/>
                    </a:lnTo>
                    <a:lnTo>
                      <a:pt x="435" y="333"/>
                    </a:lnTo>
                    <a:lnTo>
                      <a:pt x="427" y="330"/>
                    </a:lnTo>
                    <a:lnTo>
                      <a:pt x="418" y="327"/>
                    </a:lnTo>
                    <a:lnTo>
                      <a:pt x="410" y="327"/>
                    </a:lnTo>
                    <a:lnTo>
                      <a:pt x="402" y="327"/>
                    </a:lnTo>
                    <a:lnTo>
                      <a:pt x="394" y="330"/>
                    </a:lnTo>
                    <a:lnTo>
                      <a:pt x="385" y="330"/>
                    </a:lnTo>
                    <a:lnTo>
                      <a:pt x="377" y="330"/>
                    </a:lnTo>
                    <a:lnTo>
                      <a:pt x="369" y="333"/>
                    </a:lnTo>
                    <a:lnTo>
                      <a:pt x="366" y="333"/>
                    </a:lnTo>
                    <a:lnTo>
                      <a:pt x="366" y="336"/>
                    </a:lnTo>
                    <a:lnTo>
                      <a:pt x="363" y="336"/>
                    </a:lnTo>
                    <a:lnTo>
                      <a:pt x="363" y="336"/>
                    </a:lnTo>
                    <a:lnTo>
                      <a:pt x="361" y="338"/>
                    </a:lnTo>
                    <a:lnTo>
                      <a:pt x="358" y="338"/>
                    </a:lnTo>
                    <a:lnTo>
                      <a:pt x="355" y="338"/>
                    </a:lnTo>
                    <a:lnTo>
                      <a:pt x="355" y="338"/>
                    </a:lnTo>
                    <a:lnTo>
                      <a:pt x="317" y="366"/>
                    </a:lnTo>
                    <a:lnTo>
                      <a:pt x="281" y="396"/>
                    </a:lnTo>
                    <a:lnTo>
                      <a:pt x="253" y="429"/>
                    </a:lnTo>
                    <a:lnTo>
                      <a:pt x="226" y="468"/>
                    </a:lnTo>
                    <a:lnTo>
                      <a:pt x="201" y="506"/>
                    </a:lnTo>
                    <a:lnTo>
                      <a:pt x="179" y="547"/>
                    </a:lnTo>
                    <a:lnTo>
                      <a:pt x="157" y="589"/>
                    </a:lnTo>
                    <a:lnTo>
                      <a:pt x="135" y="630"/>
                    </a:lnTo>
                    <a:lnTo>
                      <a:pt x="127" y="652"/>
                    </a:lnTo>
                    <a:lnTo>
                      <a:pt x="119" y="671"/>
                    </a:lnTo>
                    <a:lnTo>
                      <a:pt x="108" y="690"/>
                    </a:lnTo>
                    <a:lnTo>
                      <a:pt x="99" y="710"/>
                    </a:lnTo>
                    <a:lnTo>
                      <a:pt x="91" y="729"/>
                    </a:lnTo>
                    <a:lnTo>
                      <a:pt x="83" y="745"/>
                    </a:lnTo>
                    <a:lnTo>
                      <a:pt x="75" y="765"/>
                    </a:lnTo>
                    <a:lnTo>
                      <a:pt x="69" y="784"/>
                    </a:lnTo>
                    <a:lnTo>
                      <a:pt x="66" y="787"/>
                    </a:lnTo>
                    <a:lnTo>
                      <a:pt x="66" y="789"/>
                    </a:lnTo>
                    <a:lnTo>
                      <a:pt x="66" y="792"/>
                    </a:lnTo>
                    <a:lnTo>
                      <a:pt x="64" y="795"/>
                    </a:lnTo>
                    <a:lnTo>
                      <a:pt x="64" y="798"/>
                    </a:lnTo>
                    <a:lnTo>
                      <a:pt x="61" y="800"/>
                    </a:lnTo>
                    <a:lnTo>
                      <a:pt x="61" y="803"/>
                    </a:lnTo>
                    <a:lnTo>
                      <a:pt x="61" y="803"/>
                    </a:lnTo>
                    <a:lnTo>
                      <a:pt x="20" y="930"/>
                    </a:lnTo>
                    <a:lnTo>
                      <a:pt x="17" y="932"/>
                    </a:lnTo>
                    <a:lnTo>
                      <a:pt x="17" y="935"/>
                    </a:lnTo>
                    <a:lnTo>
                      <a:pt x="17" y="938"/>
                    </a:lnTo>
                    <a:lnTo>
                      <a:pt x="17" y="941"/>
                    </a:lnTo>
                    <a:lnTo>
                      <a:pt x="17" y="943"/>
                    </a:lnTo>
                    <a:lnTo>
                      <a:pt x="17" y="946"/>
                    </a:lnTo>
                    <a:lnTo>
                      <a:pt x="17" y="949"/>
                    </a:lnTo>
                    <a:lnTo>
                      <a:pt x="17" y="952"/>
                    </a:lnTo>
                    <a:lnTo>
                      <a:pt x="0" y="1053"/>
                    </a:lnTo>
                    <a:lnTo>
                      <a:pt x="0" y="1056"/>
                    </a:lnTo>
                    <a:lnTo>
                      <a:pt x="0" y="1059"/>
                    </a:lnTo>
                    <a:lnTo>
                      <a:pt x="3" y="1061"/>
                    </a:lnTo>
                    <a:lnTo>
                      <a:pt x="3" y="1064"/>
                    </a:lnTo>
                    <a:lnTo>
                      <a:pt x="3" y="1067"/>
                    </a:lnTo>
                    <a:lnTo>
                      <a:pt x="3" y="1070"/>
                    </a:lnTo>
                    <a:lnTo>
                      <a:pt x="6" y="1072"/>
                    </a:lnTo>
                    <a:lnTo>
                      <a:pt x="9" y="1075"/>
                    </a:lnTo>
                    <a:lnTo>
                      <a:pt x="9" y="1078"/>
                    </a:lnTo>
                    <a:lnTo>
                      <a:pt x="11" y="1078"/>
                    </a:lnTo>
                    <a:lnTo>
                      <a:pt x="11" y="1081"/>
                    </a:lnTo>
                    <a:lnTo>
                      <a:pt x="14" y="1081"/>
                    </a:lnTo>
                    <a:lnTo>
                      <a:pt x="17" y="1083"/>
                    </a:lnTo>
                    <a:lnTo>
                      <a:pt x="20" y="1083"/>
                    </a:lnTo>
                    <a:lnTo>
                      <a:pt x="22" y="1086"/>
                    </a:lnTo>
                    <a:lnTo>
                      <a:pt x="25" y="1089"/>
                    </a:lnTo>
                    <a:lnTo>
                      <a:pt x="132" y="1108"/>
                    </a:lnTo>
                    <a:lnTo>
                      <a:pt x="135" y="1111"/>
                    </a:lnTo>
                    <a:lnTo>
                      <a:pt x="135" y="1111"/>
                    </a:lnTo>
                    <a:lnTo>
                      <a:pt x="135" y="1111"/>
                    </a:lnTo>
                    <a:lnTo>
                      <a:pt x="135" y="1114"/>
                    </a:lnTo>
                    <a:lnTo>
                      <a:pt x="135" y="1114"/>
                    </a:lnTo>
                    <a:lnTo>
                      <a:pt x="138" y="1116"/>
                    </a:lnTo>
                    <a:lnTo>
                      <a:pt x="138" y="1116"/>
                    </a:lnTo>
                    <a:lnTo>
                      <a:pt x="141" y="1116"/>
                    </a:lnTo>
                    <a:lnTo>
                      <a:pt x="141" y="1119"/>
                    </a:lnTo>
                    <a:lnTo>
                      <a:pt x="138" y="1122"/>
                    </a:lnTo>
                    <a:lnTo>
                      <a:pt x="138" y="1122"/>
                    </a:lnTo>
                    <a:lnTo>
                      <a:pt x="138" y="1125"/>
                    </a:lnTo>
                    <a:lnTo>
                      <a:pt x="138" y="1125"/>
                    </a:lnTo>
                    <a:lnTo>
                      <a:pt x="135" y="1127"/>
                    </a:lnTo>
                    <a:lnTo>
                      <a:pt x="135" y="1130"/>
                    </a:lnTo>
                    <a:lnTo>
                      <a:pt x="135" y="1130"/>
                    </a:lnTo>
                    <a:lnTo>
                      <a:pt x="124" y="1149"/>
                    </a:lnTo>
                    <a:lnTo>
                      <a:pt x="116" y="1171"/>
                    </a:lnTo>
                    <a:lnTo>
                      <a:pt x="110" y="1191"/>
                    </a:lnTo>
                    <a:lnTo>
                      <a:pt x="105" y="1213"/>
                    </a:lnTo>
                    <a:lnTo>
                      <a:pt x="102" y="1235"/>
                    </a:lnTo>
                    <a:lnTo>
                      <a:pt x="99" y="1257"/>
                    </a:lnTo>
                    <a:lnTo>
                      <a:pt x="97" y="1276"/>
                    </a:lnTo>
                    <a:lnTo>
                      <a:pt x="94" y="1298"/>
                    </a:lnTo>
                    <a:lnTo>
                      <a:pt x="97" y="1303"/>
                    </a:lnTo>
                    <a:lnTo>
                      <a:pt x="97" y="1306"/>
                    </a:lnTo>
                    <a:lnTo>
                      <a:pt x="99" y="1309"/>
                    </a:lnTo>
                    <a:lnTo>
                      <a:pt x="99" y="1314"/>
                    </a:lnTo>
                    <a:lnTo>
                      <a:pt x="99" y="1317"/>
                    </a:lnTo>
                    <a:lnTo>
                      <a:pt x="102" y="1320"/>
                    </a:lnTo>
                    <a:lnTo>
                      <a:pt x="105" y="1325"/>
                    </a:lnTo>
                    <a:lnTo>
                      <a:pt x="108" y="1328"/>
                    </a:lnTo>
                    <a:lnTo>
                      <a:pt x="110" y="1328"/>
                    </a:lnTo>
                    <a:lnTo>
                      <a:pt x="110" y="1331"/>
                    </a:lnTo>
                    <a:lnTo>
                      <a:pt x="113" y="1331"/>
                    </a:lnTo>
                    <a:lnTo>
                      <a:pt x="113" y="1334"/>
                    </a:lnTo>
                    <a:lnTo>
                      <a:pt x="116" y="1334"/>
                    </a:lnTo>
                    <a:lnTo>
                      <a:pt x="116" y="1336"/>
                    </a:lnTo>
                    <a:lnTo>
                      <a:pt x="119" y="1336"/>
                    </a:lnTo>
                    <a:lnTo>
                      <a:pt x="119" y="1336"/>
                    </a:lnTo>
                    <a:lnTo>
                      <a:pt x="130" y="1342"/>
                    </a:lnTo>
                    <a:lnTo>
                      <a:pt x="143" y="1345"/>
                    </a:lnTo>
                    <a:lnTo>
                      <a:pt x="154" y="1347"/>
                    </a:lnTo>
                    <a:lnTo>
                      <a:pt x="168" y="1347"/>
                    </a:lnTo>
                    <a:lnTo>
                      <a:pt x="182" y="1347"/>
                    </a:lnTo>
                    <a:lnTo>
                      <a:pt x="196" y="1347"/>
                    </a:lnTo>
                    <a:lnTo>
                      <a:pt x="209" y="1345"/>
                    </a:lnTo>
                    <a:lnTo>
                      <a:pt x="220" y="1345"/>
                    </a:lnTo>
                    <a:lnTo>
                      <a:pt x="240" y="1331"/>
                    </a:lnTo>
                    <a:lnTo>
                      <a:pt x="259" y="1320"/>
                    </a:lnTo>
                    <a:lnTo>
                      <a:pt x="275" y="1306"/>
                    </a:lnTo>
                    <a:lnTo>
                      <a:pt x="292" y="1290"/>
                    </a:lnTo>
                    <a:lnTo>
                      <a:pt x="308" y="1276"/>
                    </a:lnTo>
                    <a:lnTo>
                      <a:pt x="328" y="1259"/>
                    </a:lnTo>
                    <a:lnTo>
                      <a:pt x="344" y="1243"/>
                    </a:lnTo>
                    <a:lnTo>
                      <a:pt x="361" y="1226"/>
                    </a:lnTo>
                    <a:lnTo>
                      <a:pt x="363" y="1226"/>
                    </a:lnTo>
                    <a:lnTo>
                      <a:pt x="363" y="1226"/>
                    </a:lnTo>
                    <a:lnTo>
                      <a:pt x="366" y="1226"/>
                    </a:lnTo>
                    <a:lnTo>
                      <a:pt x="369" y="1226"/>
                    </a:lnTo>
                    <a:lnTo>
                      <a:pt x="372" y="1226"/>
                    </a:lnTo>
                    <a:lnTo>
                      <a:pt x="372" y="1226"/>
                    </a:lnTo>
                    <a:lnTo>
                      <a:pt x="374" y="1226"/>
                    </a:lnTo>
                    <a:lnTo>
                      <a:pt x="374" y="1226"/>
                    </a:lnTo>
                    <a:lnTo>
                      <a:pt x="377" y="1229"/>
                    </a:lnTo>
                    <a:lnTo>
                      <a:pt x="377" y="1235"/>
                    </a:lnTo>
                    <a:lnTo>
                      <a:pt x="377" y="1237"/>
                    </a:lnTo>
                    <a:lnTo>
                      <a:pt x="377" y="1240"/>
                    </a:lnTo>
                    <a:lnTo>
                      <a:pt x="377" y="1246"/>
                    </a:lnTo>
                    <a:lnTo>
                      <a:pt x="374" y="1248"/>
                    </a:lnTo>
                    <a:lnTo>
                      <a:pt x="374" y="1251"/>
                    </a:lnTo>
                    <a:lnTo>
                      <a:pt x="374" y="1257"/>
                    </a:lnTo>
                    <a:lnTo>
                      <a:pt x="352" y="1301"/>
                    </a:lnTo>
                    <a:lnTo>
                      <a:pt x="330" y="1345"/>
                    </a:lnTo>
                    <a:lnTo>
                      <a:pt x="306" y="1389"/>
                    </a:lnTo>
                    <a:lnTo>
                      <a:pt x="281" y="1435"/>
                    </a:lnTo>
                    <a:lnTo>
                      <a:pt x="262" y="1482"/>
                    </a:lnTo>
                    <a:lnTo>
                      <a:pt x="248" y="1532"/>
                    </a:lnTo>
                    <a:lnTo>
                      <a:pt x="242" y="1581"/>
                    </a:lnTo>
                    <a:lnTo>
                      <a:pt x="248" y="1633"/>
                    </a:lnTo>
                    <a:lnTo>
                      <a:pt x="248" y="1636"/>
                    </a:lnTo>
                    <a:lnTo>
                      <a:pt x="248" y="1639"/>
                    </a:lnTo>
                    <a:lnTo>
                      <a:pt x="248" y="1639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1" y="1642"/>
                    </a:lnTo>
                    <a:lnTo>
                      <a:pt x="259" y="1653"/>
                    </a:lnTo>
                    <a:lnTo>
                      <a:pt x="273" y="1661"/>
                    </a:lnTo>
                    <a:lnTo>
                      <a:pt x="284" y="1666"/>
                    </a:lnTo>
                    <a:lnTo>
                      <a:pt x="300" y="1669"/>
                    </a:lnTo>
                    <a:lnTo>
                      <a:pt x="314" y="1669"/>
                    </a:lnTo>
                    <a:lnTo>
                      <a:pt x="330" y="1669"/>
                    </a:lnTo>
                    <a:lnTo>
                      <a:pt x="347" y="1666"/>
                    </a:lnTo>
                    <a:lnTo>
                      <a:pt x="361" y="1664"/>
                    </a:lnTo>
                    <a:lnTo>
                      <a:pt x="380" y="1658"/>
                    </a:lnTo>
                    <a:lnTo>
                      <a:pt x="396" y="1650"/>
                    </a:lnTo>
                    <a:lnTo>
                      <a:pt x="413" y="1639"/>
                    </a:lnTo>
                    <a:lnTo>
                      <a:pt x="429" y="1628"/>
                    </a:lnTo>
                    <a:lnTo>
                      <a:pt x="443" y="1620"/>
                    </a:lnTo>
                    <a:lnTo>
                      <a:pt x="457" y="1609"/>
                    </a:lnTo>
                    <a:lnTo>
                      <a:pt x="473" y="1598"/>
                    </a:lnTo>
                    <a:lnTo>
                      <a:pt x="490" y="1589"/>
                    </a:lnTo>
                    <a:lnTo>
                      <a:pt x="493" y="1589"/>
                    </a:lnTo>
                    <a:lnTo>
                      <a:pt x="493" y="1589"/>
                    </a:lnTo>
                    <a:lnTo>
                      <a:pt x="495" y="1589"/>
                    </a:lnTo>
                    <a:lnTo>
                      <a:pt x="495" y="1589"/>
                    </a:lnTo>
                    <a:lnTo>
                      <a:pt x="498" y="1589"/>
                    </a:lnTo>
                    <a:lnTo>
                      <a:pt x="501" y="1589"/>
                    </a:lnTo>
                    <a:lnTo>
                      <a:pt x="501" y="1589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2"/>
                    </a:lnTo>
                    <a:lnTo>
                      <a:pt x="504" y="1595"/>
                    </a:lnTo>
                    <a:lnTo>
                      <a:pt x="504" y="1595"/>
                    </a:lnTo>
                    <a:lnTo>
                      <a:pt x="504" y="1598"/>
                    </a:lnTo>
                    <a:lnTo>
                      <a:pt x="504" y="1600"/>
                    </a:lnTo>
                    <a:lnTo>
                      <a:pt x="487" y="1631"/>
                    </a:lnTo>
                    <a:lnTo>
                      <a:pt x="465" y="1664"/>
                    </a:lnTo>
                    <a:lnTo>
                      <a:pt x="440" y="1694"/>
                    </a:lnTo>
                    <a:lnTo>
                      <a:pt x="418" y="1727"/>
                    </a:lnTo>
                    <a:lnTo>
                      <a:pt x="402" y="1760"/>
                    </a:lnTo>
                    <a:lnTo>
                      <a:pt x="388" y="1796"/>
                    </a:lnTo>
                    <a:lnTo>
                      <a:pt x="385" y="1834"/>
                    </a:lnTo>
                    <a:lnTo>
                      <a:pt x="391" y="1875"/>
                    </a:lnTo>
                    <a:lnTo>
                      <a:pt x="391" y="1878"/>
                    </a:lnTo>
                    <a:lnTo>
                      <a:pt x="391" y="1881"/>
                    </a:lnTo>
                    <a:lnTo>
                      <a:pt x="394" y="1884"/>
                    </a:lnTo>
                    <a:lnTo>
                      <a:pt x="396" y="1886"/>
                    </a:lnTo>
                    <a:lnTo>
                      <a:pt x="399" y="1889"/>
                    </a:lnTo>
                    <a:lnTo>
                      <a:pt x="402" y="1892"/>
                    </a:lnTo>
                    <a:lnTo>
                      <a:pt x="402" y="1895"/>
                    </a:lnTo>
                    <a:lnTo>
                      <a:pt x="405" y="1897"/>
                    </a:lnTo>
                    <a:lnTo>
                      <a:pt x="407" y="1900"/>
                    </a:lnTo>
                    <a:lnTo>
                      <a:pt x="410" y="1900"/>
                    </a:lnTo>
                    <a:lnTo>
                      <a:pt x="413" y="1903"/>
                    </a:lnTo>
                    <a:lnTo>
                      <a:pt x="416" y="1903"/>
                    </a:lnTo>
                    <a:lnTo>
                      <a:pt x="416" y="1906"/>
                    </a:lnTo>
                    <a:lnTo>
                      <a:pt x="418" y="1908"/>
                    </a:lnTo>
                    <a:lnTo>
                      <a:pt x="421" y="1908"/>
                    </a:lnTo>
                    <a:lnTo>
                      <a:pt x="427" y="1911"/>
                    </a:lnTo>
                    <a:lnTo>
                      <a:pt x="438" y="1917"/>
                    </a:lnTo>
                    <a:lnTo>
                      <a:pt x="451" y="1917"/>
                    </a:lnTo>
                    <a:lnTo>
                      <a:pt x="465" y="1919"/>
                    </a:lnTo>
                    <a:lnTo>
                      <a:pt x="479" y="1917"/>
                    </a:lnTo>
                    <a:lnTo>
                      <a:pt x="493" y="1917"/>
                    </a:lnTo>
                    <a:lnTo>
                      <a:pt x="509" y="1914"/>
                    </a:lnTo>
                    <a:lnTo>
                      <a:pt x="523" y="1911"/>
                    </a:lnTo>
                    <a:lnTo>
                      <a:pt x="537" y="1906"/>
                    </a:lnTo>
                    <a:lnTo>
                      <a:pt x="572" y="1884"/>
                    </a:lnTo>
                    <a:lnTo>
                      <a:pt x="605" y="1859"/>
                    </a:lnTo>
                    <a:lnTo>
                      <a:pt x="638" y="1834"/>
                    </a:lnTo>
                    <a:lnTo>
                      <a:pt x="671" y="1804"/>
                    </a:lnTo>
                    <a:lnTo>
                      <a:pt x="704" y="1774"/>
                    </a:lnTo>
                    <a:lnTo>
                      <a:pt x="735" y="1743"/>
                    </a:lnTo>
                    <a:lnTo>
                      <a:pt x="768" y="1713"/>
                    </a:lnTo>
                    <a:lnTo>
                      <a:pt x="803" y="1686"/>
                    </a:lnTo>
                    <a:lnTo>
                      <a:pt x="803" y="1686"/>
                    </a:lnTo>
                    <a:lnTo>
                      <a:pt x="806" y="1686"/>
                    </a:lnTo>
                    <a:lnTo>
                      <a:pt x="809" y="1686"/>
                    </a:lnTo>
                    <a:lnTo>
                      <a:pt x="809" y="1686"/>
                    </a:lnTo>
                    <a:lnTo>
                      <a:pt x="812" y="1686"/>
                    </a:lnTo>
                    <a:lnTo>
                      <a:pt x="812" y="1686"/>
                    </a:lnTo>
                    <a:lnTo>
                      <a:pt x="814" y="1686"/>
                    </a:lnTo>
                    <a:lnTo>
                      <a:pt x="814" y="1686"/>
                    </a:lnTo>
                    <a:lnTo>
                      <a:pt x="814" y="1688"/>
                    </a:lnTo>
                    <a:lnTo>
                      <a:pt x="817" y="1688"/>
                    </a:lnTo>
                    <a:lnTo>
                      <a:pt x="817" y="1691"/>
                    </a:lnTo>
                    <a:lnTo>
                      <a:pt x="817" y="1694"/>
                    </a:lnTo>
                    <a:lnTo>
                      <a:pt x="817" y="1694"/>
                    </a:lnTo>
                    <a:lnTo>
                      <a:pt x="817" y="1697"/>
                    </a:lnTo>
                    <a:lnTo>
                      <a:pt x="817" y="1699"/>
                    </a:lnTo>
                    <a:lnTo>
                      <a:pt x="817" y="1702"/>
                    </a:lnTo>
                    <a:lnTo>
                      <a:pt x="817" y="1702"/>
                    </a:lnTo>
                    <a:lnTo>
                      <a:pt x="817" y="1705"/>
                    </a:lnTo>
                    <a:lnTo>
                      <a:pt x="817" y="1705"/>
                    </a:lnTo>
                    <a:lnTo>
                      <a:pt x="814" y="1708"/>
                    </a:lnTo>
                    <a:lnTo>
                      <a:pt x="814" y="1710"/>
                    </a:lnTo>
                    <a:lnTo>
                      <a:pt x="814" y="1710"/>
                    </a:lnTo>
                    <a:lnTo>
                      <a:pt x="812" y="1713"/>
                    </a:lnTo>
                    <a:lnTo>
                      <a:pt x="812" y="1716"/>
                    </a:lnTo>
                    <a:lnTo>
                      <a:pt x="792" y="1757"/>
                    </a:lnTo>
                    <a:lnTo>
                      <a:pt x="768" y="1796"/>
                    </a:lnTo>
                    <a:lnTo>
                      <a:pt x="743" y="1834"/>
                    </a:lnTo>
                    <a:lnTo>
                      <a:pt x="718" y="1875"/>
                    </a:lnTo>
                    <a:lnTo>
                      <a:pt x="693" y="1917"/>
                    </a:lnTo>
                    <a:lnTo>
                      <a:pt x="677" y="1958"/>
                    </a:lnTo>
                    <a:lnTo>
                      <a:pt x="671" y="2002"/>
                    </a:lnTo>
                    <a:lnTo>
                      <a:pt x="674" y="2051"/>
                    </a:lnTo>
                    <a:lnTo>
                      <a:pt x="677" y="2054"/>
                    </a:lnTo>
                    <a:lnTo>
                      <a:pt x="680" y="2057"/>
                    </a:lnTo>
                    <a:lnTo>
                      <a:pt x="680" y="2060"/>
                    </a:lnTo>
                    <a:lnTo>
                      <a:pt x="682" y="2062"/>
                    </a:lnTo>
                    <a:lnTo>
                      <a:pt x="685" y="2068"/>
                    </a:lnTo>
                    <a:lnTo>
                      <a:pt x="688" y="2071"/>
                    </a:lnTo>
                    <a:lnTo>
                      <a:pt x="691" y="2073"/>
                    </a:lnTo>
                    <a:lnTo>
                      <a:pt x="696" y="2076"/>
                    </a:lnTo>
                    <a:lnTo>
                      <a:pt x="696" y="2079"/>
                    </a:lnTo>
                    <a:lnTo>
                      <a:pt x="699" y="2079"/>
                    </a:lnTo>
                    <a:lnTo>
                      <a:pt x="702" y="2079"/>
                    </a:lnTo>
                    <a:lnTo>
                      <a:pt x="704" y="2082"/>
                    </a:lnTo>
                    <a:lnTo>
                      <a:pt x="707" y="2082"/>
                    </a:lnTo>
                    <a:lnTo>
                      <a:pt x="710" y="2082"/>
                    </a:lnTo>
                    <a:lnTo>
                      <a:pt x="713" y="2084"/>
                    </a:lnTo>
                    <a:lnTo>
                      <a:pt x="715" y="2084"/>
                    </a:lnTo>
                    <a:lnTo>
                      <a:pt x="718" y="2087"/>
                    </a:lnTo>
                    <a:lnTo>
                      <a:pt x="718" y="2087"/>
                    </a:lnTo>
                    <a:lnTo>
                      <a:pt x="721" y="2087"/>
                    </a:lnTo>
                    <a:lnTo>
                      <a:pt x="724" y="2087"/>
                    </a:lnTo>
                    <a:lnTo>
                      <a:pt x="726" y="2087"/>
                    </a:lnTo>
                    <a:lnTo>
                      <a:pt x="729" y="2090"/>
                    </a:lnTo>
                    <a:lnTo>
                      <a:pt x="729" y="2090"/>
                    </a:lnTo>
                    <a:lnTo>
                      <a:pt x="732" y="2090"/>
                    </a:lnTo>
                    <a:lnTo>
                      <a:pt x="735" y="2090"/>
                    </a:lnTo>
                    <a:lnTo>
                      <a:pt x="737" y="2090"/>
                    </a:lnTo>
                    <a:lnTo>
                      <a:pt x="740" y="2090"/>
                    </a:lnTo>
                    <a:lnTo>
                      <a:pt x="743" y="2090"/>
                    </a:lnTo>
                    <a:lnTo>
                      <a:pt x="746" y="2090"/>
                    </a:lnTo>
                    <a:lnTo>
                      <a:pt x="748" y="2090"/>
                    </a:lnTo>
                    <a:lnTo>
                      <a:pt x="748" y="2087"/>
                    </a:lnTo>
                    <a:lnTo>
                      <a:pt x="751" y="2087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7200" y="3352680"/>
                <a:ext cx="574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ind the mean deviat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762120" y="5286240"/>
            <a:ext cx="533160" cy="609480"/>
            <a:chOff x="762120" y="5286240"/>
            <a:chExt cx="533160" cy="609480"/>
          </a:xfrm>
        </p:grpSpPr>
        <p:sp>
          <p:nvSpPr>
            <p:cNvPr id="122" name=""/>
            <p:cNvSpPr/>
            <p:nvPr/>
          </p:nvSpPr>
          <p:spPr>
            <a:xfrm>
              <a:off x="762120" y="5286240"/>
              <a:ext cx="53316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914400" y="5362560"/>
              <a:ext cx="323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3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19320" y="5165640"/>
            <a:ext cx="3581280" cy="1156320"/>
            <a:chOff x="1219320" y="5165640"/>
            <a:chExt cx="3581280" cy="1156320"/>
          </a:xfrm>
        </p:grpSpPr>
        <p:sp>
          <p:nvSpPr>
            <p:cNvPr id="125" name=""/>
            <p:cNvSpPr/>
            <p:nvPr/>
          </p:nvSpPr>
          <p:spPr>
            <a:xfrm rot="121200">
              <a:off x="1712880" y="5210280"/>
              <a:ext cx="2557800" cy="1066680"/>
            </a:xfrm>
            <a:custGeom>
              <a:avLst/>
              <a:gdLst/>
              <a:ahLst/>
              <a:rect l="l" t="t" r="r" b="b"/>
              <a:pathLst>
                <a:path w="2085" h="2090">
                  <a:moveTo>
                    <a:pt x="751" y="2087"/>
                  </a:moveTo>
                  <a:lnTo>
                    <a:pt x="754" y="2087"/>
                  </a:lnTo>
                  <a:lnTo>
                    <a:pt x="757" y="2087"/>
                  </a:lnTo>
                  <a:lnTo>
                    <a:pt x="759" y="2087"/>
                  </a:lnTo>
                  <a:lnTo>
                    <a:pt x="762" y="2087"/>
                  </a:lnTo>
                  <a:lnTo>
                    <a:pt x="765" y="2087"/>
                  </a:lnTo>
                  <a:lnTo>
                    <a:pt x="768" y="2087"/>
                  </a:lnTo>
                  <a:lnTo>
                    <a:pt x="770" y="2087"/>
                  </a:lnTo>
                  <a:lnTo>
                    <a:pt x="773" y="2084"/>
                  </a:lnTo>
                  <a:lnTo>
                    <a:pt x="776" y="2084"/>
                  </a:lnTo>
                  <a:lnTo>
                    <a:pt x="776" y="2084"/>
                  </a:lnTo>
                  <a:lnTo>
                    <a:pt x="779" y="2084"/>
                  </a:lnTo>
                  <a:lnTo>
                    <a:pt x="781" y="2084"/>
                  </a:lnTo>
                  <a:lnTo>
                    <a:pt x="781" y="2082"/>
                  </a:lnTo>
                  <a:lnTo>
                    <a:pt x="784" y="2082"/>
                  </a:lnTo>
                  <a:lnTo>
                    <a:pt x="787" y="2082"/>
                  </a:lnTo>
                  <a:lnTo>
                    <a:pt x="790" y="2082"/>
                  </a:lnTo>
                  <a:lnTo>
                    <a:pt x="825" y="2062"/>
                  </a:lnTo>
                  <a:lnTo>
                    <a:pt x="861" y="2040"/>
                  </a:lnTo>
                  <a:lnTo>
                    <a:pt x="894" y="2016"/>
                  </a:lnTo>
                  <a:lnTo>
                    <a:pt x="924" y="1988"/>
                  </a:lnTo>
                  <a:lnTo>
                    <a:pt x="955" y="1958"/>
                  </a:lnTo>
                  <a:lnTo>
                    <a:pt x="982" y="1928"/>
                  </a:lnTo>
                  <a:lnTo>
                    <a:pt x="1010" y="1895"/>
                  </a:lnTo>
                  <a:lnTo>
                    <a:pt x="1037" y="1864"/>
                  </a:lnTo>
                  <a:lnTo>
                    <a:pt x="1040" y="1862"/>
                  </a:lnTo>
                  <a:lnTo>
                    <a:pt x="1043" y="1862"/>
                  </a:lnTo>
                  <a:lnTo>
                    <a:pt x="1045" y="1862"/>
                  </a:lnTo>
                  <a:lnTo>
                    <a:pt x="1048" y="1862"/>
                  </a:lnTo>
                  <a:lnTo>
                    <a:pt x="1051" y="1862"/>
                  </a:lnTo>
                  <a:lnTo>
                    <a:pt x="1054" y="1862"/>
                  </a:lnTo>
                  <a:lnTo>
                    <a:pt x="1056" y="1862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5" y="1870"/>
                  </a:lnTo>
                  <a:lnTo>
                    <a:pt x="1065" y="1870"/>
                  </a:lnTo>
                  <a:lnTo>
                    <a:pt x="1067" y="1873"/>
                  </a:lnTo>
                  <a:lnTo>
                    <a:pt x="1067" y="1873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8" y="1884"/>
                  </a:lnTo>
                  <a:lnTo>
                    <a:pt x="1084" y="1895"/>
                  </a:lnTo>
                  <a:lnTo>
                    <a:pt x="1092" y="1903"/>
                  </a:lnTo>
                  <a:lnTo>
                    <a:pt x="1103" y="1911"/>
                  </a:lnTo>
                  <a:lnTo>
                    <a:pt x="1111" y="1919"/>
                  </a:lnTo>
                  <a:lnTo>
                    <a:pt x="1122" y="1925"/>
                  </a:lnTo>
                  <a:lnTo>
                    <a:pt x="1133" y="1930"/>
                  </a:lnTo>
                  <a:lnTo>
                    <a:pt x="1147" y="1933"/>
                  </a:lnTo>
                  <a:lnTo>
                    <a:pt x="1153" y="1936"/>
                  </a:lnTo>
                  <a:lnTo>
                    <a:pt x="1161" y="1936"/>
                  </a:lnTo>
                  <a:lnTo>
                    <a:pt x="1166" y="1936"/>
                  </a:lnTo>
                  <a:lnTo>
                    <a:pt x="1175" y="1936"/>
                  </a:lnTo>
                  <a:lnTo>
                    <a:pt x="1180" y="1936"/>
                  </a:lnTo>
                  <a:lnTo>
                    <a:pt x="1188" y="1933"/>
                  </a:lnTo>
                  <a:lnTo>
                    <a:pt x="1197" y="1933"/>
                  </a:lnTo>
                  <a:lnTo>
                    <a:pt x="1205" y="1933"/>
                  </a:lnTo>
                  <a:lnTo>
                    <a:pt x="1205" y="1933"/>
                  </a:lnTo>
                  <a:lnTo>
                    <a:pt x="1208" y="1933"/>
                  </a:lnTo>
                  <a:lnTo>
                    <a:pt x="1208" y="1930"/>
                  </a:lnTo>
                  <a:lnTo>
                    <a:pt x="1210" y="1930"/>
                  </a:lnTo>
                  <a:lnTo>
                    <a:pt x="1213" y="1930"/>
                  </a:lnTo>
                  <a:lnTo>
                    <a:pt x="1216" y="1928"/>
                  </a:lnTo>
                  <a:lnTo>
                    <a:pt x="1216" y="1928"/>
                  </a:lnTo>
                  <a:lnTo>
                    <a:pt x="1219" y="1928"/>
                  </a:lnTo>
                  <a:lnTo>
                    <a:pt x="1221" y="1928"/>
                  </a:lnTo>
                  <a:lnTo>
                    <a:pt x="1224" y="1925"/>
                  </a:lnTo>
                  <a:lnTo>
                    <a:pt x="1227" y="1925"/>
                  </a:lnTo>
                  <a:lnTo>
                    <a:pt x="1230" y="1925"/>
                  </a:lnTo>
                  <a:lnTo>
                    <a:pt x="1232" y="1922"/>
                  </a:lnTo>
                  <a:lnTo>
                    <a:pt x="1235" y="1922"/>
                  </a:lnTo>
                  <a:lnTo>
                    <a:pt x="1238" y="1922"/>
                  </a:lnTo>
                  <a:lnTo>
                    <a:pt x="1241" y="1919"/>
                  </a:lnTo>
                  <a:lnTo>
                    <a:pt x="1241" y="1919"/>
                  </a:lnTo>
                  <a:lnTo>
                    <a:pt x="1243" y="1919"/>
                  </a:lnTo>
                  <a:lnTo>
                    <a:pt x="1243" y="1917"/>
                  </a:lnTo>
                  <a:lnTo>
                    <a:pt x="1246" y="1917"/>
                  </a:lnTo>
                  <a:lnTo>
                    <a:pt x="1249" y="1917"/>
                  </a:lnTo>
                  <a:lnTo>
                    <a:pt x="1252" y="1914"/>
                  </a:lnTo>
                  <a:lnTo>
                    <a:pt x="1252" y="1914"/>
                  </a:lnTo>
                  <a:lnTo>
                    <a:pt x="1254" y="1914"/>
                  </a:lnTo>
                  <a:lnTo>
                    <a:pt x="1329" y="1878"/>
                  </a:lnTo>
                  <a:lnTo>
                    <a:pt x="1331" y="1878"/>
                  </a:lnTo>
                  <a:lnTo>
                    <a:pt x="1334" y="1878"/>
                  </a:lnTo>
                  <a:lnTo>
                    <a:pt x="1337" y="1878"/>
                  </a:lnTo>
                  <a:lnTo>
                    <a:pt x="1340" y="1878"/>
                  </a:lnTo>
                  <a:lnTo>
                    <a:pt x="1342" y="1881"/>
                  </a:lnTo>
                  <a:lnTo>
                    <a:pt x="1345" y="1881"/>
                  </a:lnTo>
                  <a:lnTo>
                    <a:pt x="1348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9"/>
                  </a:lnTo>
                  <a:lnTo>
                    <a:pt x="1353" y="1889"/>
                  </a:lnTo>
                  <a:lnTo>
                    <a:pt x="1356" y="1889"/>
                  </a:lnTo>
                  <a:lnTo>
                    <a:pt x="1356" y="1889"/>
                  </a:lnTo>
                  <a:lnTo>
                    <a:pt x="1356" y="1892"/>
                  </a:lnTo>
                  <a:lnTo>
                    <a:pt x="1356" y="1892"/>
                  </a:lnTo>
                  <a:lnTo>
                    <a:pt x="1356" y="1895"/>
                  </a:lnTo>
                  <a:lnTo>
                    <a:pt x="1359" y="1895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64" y="1903"/>
                  </a:lnTo>
                  <a:lnTo>
                    <a:pt x="1370" y="1911"/>
                  </a:lnTo>
                  <a:lnTo>
                    <a:pt x="1375" y="1917"/>
                  </a:lnTo>
                  <a:lnTo>
                    <a:pt x="1384" y="1922"/>
                  </a:lnTo>
                  <a:lnTo>
                    <a:pt x="1389" y="1930"/>
                  </a:lnTo>
                  <a:lnTo>
                    <a:pt x="1395" y="1936"/>
                  </a:lnTo>
                  <a:lnTo>
                    <a:pt x="1403" y="1941"/>
                  </a:lnTo>
                  <a:lnTo>
                    <a:pt x="1408" y="1947"/>
                  </a:lnTo>
                  <a:lnTo>
                    <a:pt x="1414" y="1947"/>
                  </a:lnTo>
                  <a:lnTo>
                    <a:pt x="1417" y="1950"/>
                  </a:lnTo>
                  <a:lnTo>
                    <a:pt x="1422" y="1952"/>
                  </a:lnTo>
                  <a:lnTo>
                    <a:pt x="1428" y="1952"/>
                  </a:lnTo>
                  <a:lnTo>
                    <a:pt x="1436" y="1952"/>
                  </a:lnTo>
                  <a:lnTo>
                    <a:pt x="1441" y="1955"/>
                  </a:lnTo>
                  <a:lnTo>
                    <a:pt x="1447" y="1955"/>
                  </a:lnTo>
                  <a:lnTo>
                    <a:pt x="1452" y="1955"/>
                  </a:lnTo>
                  <a:lnTo>
                    <a:pt x="1494" y="1933"/>
                  </a:lnTo>
                  <a:lnTo>
                    <a:pt x="1529" y="1906"/>
                  </a:lnTo>
                  <a:lnTo>
                    <a:pt x="1560" y="1873"/>
                  </a:lnTo>
                  <a:lnTo>
                    <a:pt x="1590" y="1837"/>
                  </a:lnTo>
                  <a:lnTo>
                    <a:pt x="1617" y="1801"/>
                  </a:lnTo>
                  <a:lnTo>
                    <a:pt x="1645" y="1765"/>
                  </a:lnTo>
                  <a:lnTo>
                    <a:pt x="1672" y="1730"/>
                  </a:lnTo>
                  <a:lnTo>
                    <a:pt x="1703" y="1697"/>
                  </a:lnTo>
                  <a:lnTo>
                    <a:pt x="1733" y="1658"/>
                  </a:lnTo>
                  <a:lnTo>
                    <a:pt x="1763" y="1620"/>
                  </a:lnTo>
                  <a:lnTo>
                    <a:pt x="1793" y="1584"/>
                  </a:lnTo>
                  <a:lnTo>
                    <a:pt x="1821" y="1548"/>
                  </a:lnTo>
                  <a:lnTo>
                    <a:pt x="1848" y="1510"/>
                  </a:lnTo>
                  <a:lnTo>
                    <a:pt x="1873" y="1474"/>
                  </a:lnTo>
                  <a:lnTo>
                    <a:pt x="1898" y="1435"/>
                  </a:lnTo>
                  <a:lnTo>
                    <a:pt x="1920" y="1394"/>
                  </a:lnTo>
                  <a:lnTo>
                    <a:pt x="1945" y="1356"/>
                  </a:lnTo>
                  <a:lnTo>
                    <a:pt x="1967" y="1317"/>
                  </a:lnTo>
                  <a:lnTo>
                    <a:pt x="1991" y="1279"/>
                  </a:lnTo>
                  <a:lnTo>
                    <a:pt x="2013" y="1240"/>
                  </a:lnTo>
                  <a:lnTo>
                    <a:pt x="2033" y="1202"/>
                  </a:lnTo>
                  <a:lnTo>
                    <a:pt x="2052" y="1163"/>
                  </a:lnTo>
                  <a:lnTo>
                    <a:pt x="2071" y="1125"/>
                  </a:lnTo>
                  <a:lnTo>
                    <a:pt x="2085" y="1083"/>
                  </a:lnTo>
                  <a:lnTo>
                    <a:pt x="2085" y="1083"/>
                  </a:lnTo>
                  <a:lnTo>
                    <a:pt x="2085" y="1081"/>
                  </a:lnTo>
                  <a:lnTo>
                    <a:pt x="2085" y="1081"/>
                  </a:lnTo>
                  <a:lnTo>
                    <a:pt x="2085" y="1078"/>
                  </a:lnTo>
                  <a:lnTo>
                    <a:pt x="2082" y="1075"/>
                  </a:lnTo>
                  <a:lnTo>
                    <a:pt x="2082" y="1072"/>
                  </a:lnTo>
                  <a:lnTo>
                    <a:pt x="2082" y="1072"/>
                  </a:lnTo>
                  <a:lnTo>
                    <a:pt x="2079" y="1070"/>
                  </a:lnTo>
                  <a:lnTo>
                    <a:pt x="2079" y="1067"/>
                  </a:lnTo>
                  <a:lnTo>
                    <a:pt x="2077" y="1061"/>
                  </a:lnTo>
                  <a:lnTo>
                    <a:pt x="2074" y="1059"/>
                  </a:lnTo>
                  <a:lnTo>
                    <a:pt x="2071" y="1056"/>
                  </a:lnTo>
                  <a:lnTo>
                    <a:pt x="2068" y="1050"/>
                  </a:lnTo>
                  <a:lnTo>
                    <a:pt x="2066" y="1048"/>
                  </a:lnTo>
                  <a:lnTo>
                    <a:pt x="2063" y="1042"/>
                  </a:lnTo>
                  <a:lnTo>
                    <a:pt x="2060" y="1040"/>
                  </a:lnTo>
                  <a:lnTo>
                    <a:pt x="2057" y="1040"/>
                  </a:lnTo>
                  <a:lnTo>
                    <a:pt x="2057" y="1037"/>
                  </a:lnTo>
                  <a:lnTo>
                    <a:pt x="2055" y="1037"/>
                  </a:lnTo>
                  <a:lnTo>
                    <a:pt x="2052" y="1037"/>
                  </a:lnTo>
                  <a:lnTo>
                    <a:pt x="2052" y="1034"/>
                  </a:lnTo>
                  <a:lnTo>
                    <a:pt x="2049" y="1034"/>
                  </a:lnTo>
                  <a:lnTo>
                    <a:pt x="2049" y="1031"/>
                  </a:lnTo>
                  <a:lnTo>
                    <a:pt x="2046" y="1031"/>
                  </a:lnTo>
                  <a:lnTo>
                    <a:pt x="2044" y="1029"/>
                  </a:lnTo>
                  <a:lnTo>
                    <a:pt x="2038" y="1026"/>
                  </a:lnTo>
                  <a:lnTo>
                    <a:pt x="2035" y="1026"/>
                  </a:lnTo>
                  <a:lnTo>
                    <a:pt x="2030" y="1023"/>
                  </a:lnTo>
                  <a:lnTo>
                    <a:pt x="2027" y="1023"/>
                  </a:lnTo>
                  <a:lnTo>
                    <a:pt x="2022" y="1023"/>
                  </a:lnTo>
                  <a:lnTo>
                    <a:pt x="2019" y="1020"/>
                  </a:lnTo>
                  <a:lnTo>
                    <a:pt x="2016" y="1020"/>
                  </a:lnTo>
                  <a:lnTo>
                    <a:pt x="1991" y="1015"/>
                  </a:lnTo>
                  <a:lnTo>
                    <a:pt x="1967" y="1015"/>
                  </a:lnTo>
                  <a:lnTo>
                    <a:pt x="1945" y="1020"/>
                  </a:lnTo>
                  <a:lnTo>
                    <a:pt x="1920" y="1029"/>
                  </a:lnTo>
                  <a:lnTo>
                    <a:pt x="1901" y="1037"/>
                  </a:lnTo>
                  <a:lnTo>
                    <a:pt x="1879" y="1050"/>
                  </a:lnTo>
                  <a:lnTo>
                    <a:pt x="1859" y="1067"/>
                  </a:lnTo>
                  <a:lnTo>
                    <a:pt x="1843" y="1083"/>
                  </a:lnTo>
                  <a:lnTo>
                    <a:pt x="1840" y="1083"/>
                  </a:lnTo>
                  <a:lnTo>
                    <a:pt x="1837" y="1083"/>
                  </a:lnTo>
                  <a:lnTo>
                    <a:pt x="1835" y="1083"/>
                  </a:lnTo>
                  <a:lnTo>
                    <a:pt x="1832" y="1083"/>
                  </a:lnTo>
                  <a:lnTo>
                    <a:pt x="1832" y="1083"/>
                  </a:lnTo>
                  <a:lnTo>
                    <a:pt x="1829" y="1083"/>
                  </a:lnTo>
                  <a:lnTo>
                    <a:pt x="1826" y="1083"/>
                  </a:lnTo>
                  <a:lnTo>
                    <a:pt x="1824" y="1083"/>
                  </a:lnTo>
                  <a:lnTo>
                    <a:pt x="1835" y="1042"/>
                  </a:lnTo>
                  <a:lnTo>
                    <a:pt x="1854" y="1004"/>
                  </a:lnTo>
                  <a:lnTo>
                    <a:pt x="1873" y="965"/>
                  </a:lnTo>
                  <a:lnTo>
                    <a:pt x="1895" y="927"/>
                  </a:lnTo>
                  <a:lnTo>
                    <a:pt x="1912" y="888"/>
                  </a:lnTo>
                  <a:lnTo>
                    <a:pt x="1923" y="847"/>
                  </a:lnTo>
                  <a:lnTo>
                    <a:pt x="1925" y="803"/>
                  </a:lnTo>
                  <a:lnTo>
                    <a:pt x="1912" y="756"/>
                  </a:lnTo>
                  <a:lnTo>
                    <a:pt x="1901" y="748"/>
                  </a:lnTo>
                  <a:lnTo>
                    <a:pt x="1887" y="743"/>
                  </a:lnTo>
                  <a:lnTo>
                    <a:pt x="1870" y="737"/>
                  </a:lnTo>
                  <a:lnTo>
                    <a:pt x="1854" y="734"/>
                  </a:lnTo>
                  <a:lnTo>
                    <a:pt x="1837" y="732"/>
                  </a:lnTo>
                  <a:lnTo>
                    <a:pt x="1821" y="726"/>
                  </a:lnTo>
                  <a:lnTo>
                    <a:pt x="1807" y="721"/>
                  </a:lnTo>
                  <a:lnTo>
                    <a:pt x="1793" y="710"/>
                  </a:lnTo>
                  <a:lnTo>
                    <a:pt x="1793" y="710"/>
                  </a:lnTo>
                  <a:lnTo>
                    <a:pt x="1793" y="707"/>
                  </a:lnTo>
                  <a:lnTo>
                    <a:pt x="1793" y="704"/>
                  </a:lnTo>
                  <a:lnTo>
                    <a:pt x="1793" y="701"/>
                  </a:lnTo>
                  <a:lnTo>
                    <a:pt x="1793" y="699"/>
                  </a:lnTo>
                  <a:lnTo>
                    <a:pt x="1793" y="696"/>
                  </a:lnTo>
                  <a:lnTo>
                    <a:pt x="1793" y="693"/>
                  </a:lnTo>
                  <a:lnTo>
                    <a:pt x="1793" y="690"/>
                  </a:lnTo>
                  <a:lnTo>
                    <a:pt x="1793" y="690"/>
                  </a:lnTo>
                  <a:lnTo>
                    <a:pt x="1796" y="688"/>
                  </a:lnTo>
                  <a:lnTo>
                    <a:pt x="1796" y="688"/>
                  </a:lnTo>
                  <a:lnTo>
                    <a:pt x="1796" y="685"/>
                  </a:lnTo>
                  <a:lnTo>
                    <a:pt x="1799" y="685"/>
                  </a:lnTo>
                  <a:lnTo>
                    <a:pt x="1799" y="682"/>
                  </a:lnTo>
                  <a:lnTo>
                    <a:pt x="1799" y="682"/>
                  </a:lnTo>
                  <a:lnTo>
                    <a:pt x="1802" y="682"/>
                  </a:lnTo>
                  <a:lnTo>
                    <a:pt x="1802" y="679"/>
                  </a:lnTo>
                  <a:lnTo>
                    <a:pt x="1804" y="677"/>
                  </a:lnTo>
                  <a:lnTo>
                    <a:pt x="1804" y="677"/>
                  </a:lnTo>
                  <a:lnTo>
                    <a:pt x="1807" y="674"/>
                  </a:lnTo>
                  <a:lnTo>
                    <a:pt x="1810" y="671"/>
                  </a:lnTo>
                  <a:lnTo>
                    <a:pt x="1813" y="668"/>
                  </a:lnTo>
                  <a:lnTo>
                    <a:pt x="1815" y="666"/>
                  </a:lnTo>
                  <a:lnTo>
                    <a:pt x="1815" y="660"/>
                  </a:lnTo>
                  <a:lnTo>
                    <a:pt x="1818" y="657"/>
                  </a:lnTo>
                  <a:lnTo>
                    <a:pt x="1821" y="655"/>
                  </a:lnTo>
                  <a:lnTo>
                    <a:pt x="1824" y="652"/>
                  </a:lnTo>
                  <a:lnTo>
                    <a:pt x="1826" y="649"/>
                  </a:lnTo>
                  <a:lnTo>
                    <a:pt x="1826" y="646"/>
                  </a:lnTo>
                  <a:lnTo>
                    <a:pt x="1829" y="644"/>
                  </a:lnTo>
                  <a:lnTo>
                    <a:pt x="1832" y="641"/>
                  </a:lnTo>
                  <a:lnTo>
                    <a:pt x="1832" y="638"/>
                  </a:lnTo>
                  <a:lnTo>
                    <a:pt x="1848" y="613"/>
                  </a:lnTo>
                  <a:lnTo>
                    <a:pt x="1868" y="589"/>
                  </a:lnTo>
                  <a:lnTo>
                    <a:pt x="1887" y="561"/>
                  </a:lnTo>
                  <a:lnTo>
                    <a:pt x="1906" y="536"/>
                  </a:lnTo>
                  <a:lnTo>
                    <a:pt x="1925" y="509"/>
                  </a:lnTo>
                  <a:lnTo>
                    <a:pt x="1939" y="481"/>
                  </a:lnTo>
                  <a:lnTo>
                    <a:pt x="1953" y="451"/>
                  </a:lnTo>
                  <a:lnTo>
                    <a:pt x="1961" y="421"/>
                  </a:lnTo>
                  <a:lnTo>
                    <a:pt x="1961" y="418"/>
                  </a:lnTo>
                  <a:lnTo>
                    <a:pt x="1958" y="415"/>
                  </a:lnTo>
                  <a:lnTo>
                    <a:pt x="1958" y="413"/>
                  </a:lnTo>
                  <a:lnTo>
                    <a:pt x="1956" y="410"/>
                  </a:lnTo>
                  <a:lnTo>
                    <a:pt x="1956" y="407"/>
                  </a:lnTo>
                  <a:lnTo>
                    <a:pt x="1956" y="404"/>
                  </a:lnTo>
                  <a:lnTo>
                    <a:pt x="1953" y="402"/>
                  </a:lnTo>
                  <a:lnTo>
                    <a:pt x="1953" y="399"/>
                  </a:lnTo>
                  <a:lnTo>
                    <a:pt x="1950" y="393"/>
                  </a:lnTo>
                  <a:lnTo>
                    <a:pt x="1945" y="388"/>
                  </a:lnTo>
                  <a:lnTo>
                    <a:pt x="1942" y="382"/>
                  </a:lnTo>
                  <a:lnTo>
                    <a:pt x="1936" y="380"/>
                  </a:lnTo>
                  <a:lnTo>
                    <a:pt x="1931" y="374"/>
                  </a:lnTo>
                  <a:lnTo>
                    <a:pt x="1923" y="369"/>
                  </a:lnTo>
                  <a:lnTo>
                    <a:pt x="1917" y="366"/>
                  </a:lnTo>
                  <a:lnTo>
                    <a:pt x="1912" y="360"/>
                  </a:lnTo>
                  <a:lnTo>
                    <a:pt x="1912" y="360"/>
                  </a:lnTo>
                  <a:lnTo>
                    <a:pt x="1909" y="358"/>
                  </a:lnTo>
                  <a:lnTo>
                    <a:pt x="1906" y="358"/>
                  </a:lnTo>
                  <a:lnTo>
                    <a:pt x="1903" y="355"/>
                  </a:lnTo>
                  <a:lnTo>
                    <a:pt x="1903" y="355"/>
                  </a:lnTo>
                  <a:lnTo>
                    <a:pt x="1901" y="352"/>
                  </a:lnTo>
                  <a:lnTo>
                    <a:pt x="1898" y="352"/>
                  </a:lnTo>
                  <a:lnTo>
                    <a:pt x="1895" y="349"/>
                  </a:lnTo>
                  <a:lnTo>
                    <a:pt x="1892" y="349"/>
                  </a:lnTo>
                  <a:lnTo>
                    <a:pt x="1890" y="349"/>
                  </a:lnTo>
                  <a:lnTo>
                    <a:pt x="1887" y="349"/>
                  </a:lnTo>
                  <a:lnTo>
                    <a:pt x="1887" y="349"/>
                  </a:lnTo>
                  <a:lnTo>
                    <a:pt x="1884" y="349"/>
                  </a:lnTo>
                  <a:lnTo>
                    <a:pt x="1881" y="349"/>
                  </a:lnTo>
                  <a:lnTo>
                    <a:pt x="1881" y="347"/>
                  </a:lnTo>
                  <a:lnTo>
                    <a:pt x="1881" y="347"/>
                  </a:lnTo>
                  <a:lnTo>
                    <a:pt x="1873" y="347"/>
                  </a:lnTo>
                  <a:lnTo>
                    <a:pt x="1868" y="347"/>
                  </a:lnTo>
                  <a:lnTo>
                    <a:pt x="1862" y="347"/>
                  </a:lnTo>
                  <a:lnTo>
                    <a:pt x="1857" y="347"/>
                  </a:lnTo>
                  <a:lnTo>
                    <a:pt x="1851" y="347"/>
                  </a:lnTo>
                  <a:lnTo>
                    <a:pt x="1846" y="349"/>
                  </a:lnTo>
                  <a:lnTo>
                    <a:pt x="1840" y="349"/>
                  </a:lnTo>
                  <a:lnTo>
                    <a:pt x="1832" y="349"/>
                  </a:lnTo>
                  <a:lnTo>
                    <a:pt x="1832" y="352"/>
                  </a:lnTo>
                  <a:lnTo>
                    <a:pt x="1832" y="352"/>
                  </a:lnTo>
                  <a:lnTo>
                    <a:pt x="1829" y="352"/>
                  </a:lnTo>
                  <a:lnTo>
                    <a:pt x="1826" y="352"/>
                  </a:lnTo>
                  <a:lnTo>
                    <a:pt x="1826" y="352"/>
                  </a:lnTo>
                  <a:lnTo>
                    <a:pt x="1824" y="352"/>
                  </a:lnTo>
                  <a:lnTo>
                    <a:pt x="1821" y="352"/>
                  </a:lnTo>
                  <a:lnTo>
                    <a:pt x="1818" y="352"/>
                  </a:lnTo>
                  <a:lnTo>
                    <a:pt x="1782" y="377"/>
                  </a:lnTo>
                  <a:lnTo>
                    <a:pt x="1747" y="402"/>
                  </a:lnTo>
                  <a:lnTo>
                    <a:pt x="1714" y="432"/>
                  </a:lnTo>
                  <a:lnTo>
                    <a:pt x="1681" y="462"/>
                  </a:lnTo>
                  <a:lnTo>
                    <a:pt x="1650" y="495"/>
                  </a:lnTo>
                  <a:lnTo>
                    <a:pt x="1620" y="528"/>
                  </a:lnTo>
                  <a:lnTo>
                    <a:pt x="1587" y="561"/>
                  </a:lnTo>
                  <a:lnTo>
                    <a:pt x="1554" y="594"/>
                  </a:lnTo>
                  <a:lnTo>
                    <a:pt x="1551" y="597"/>
                  </a:lnTo>
                  <a:lnTo>
                    <a:pt x="1549" y="602"/>
                  </a:lnTo>
                  <a:lnTo>
                    <a:pt x="1546" y="605"/>
                  </a:lnTo>
                  <a:lnTo>
                    <a:pt x="1543" y="608"/>
                  </a:lnTo>
                  <a:lnTo>
                    <a:pt x="1540" y="611"/>
                  </a:lnTo>
                  <a:lnTo>
                    <a:pt x="1540" y="611"/>
                  </a:lnTo>
                  <a:lnTo>
                    <a:pt x="1538" y="613"/>
                  </a:lnTo>
                  <a:lnTo>
                    <a:pt x="1538" y="613"/>
                  </a:lnTo>
                  <a:lnTo>
                    <a:pt x="1535" y="616"/>
                  </a:lnTo>
                  <a:lnTo>
                    <a:pt x="1532" y="616"/>
                  </a:lnTo>
                  <a:lnTo>
                    <a:pt x="1529" y="616"/>
                  </a:lnTo>
                  <a:lnTo>
                    <a:pt x="1527" y="616"/>
                  </a:lnTo>
                  <a:lnTo>
                    <a:pt x="1524" y="619"/>
                  </a:lnTo>
                  <a:lnTo>
                    <a:pt x="1521" y="616"/>
                  </a:lnTo>
                  <a:lnTo>
                    <a:pt x="1521" y="616"/>
                  </a:lnTo>
                  <a:lnTo>
                    <a:pt x="1518" y="613"/>
                  </a:lnTo>
                  <a:lnTo>
                    <a:pt x="1518" y="611"/>
                  </a:lnTo>
                  <a:lnTo>
                    <a:pt x="1518" y="611"/>
                  </a:lnTo>
                  <a:lnTo>
                    <a:pt x="1518" y="608"/>
                  </a:lnTo>
                  <a:lnTo>
                    <a:pt x="1518" y="605"/>
                  </a:lnTo>
                  <a:lnTo>
                    <a:pt x="1518" y="602"/>
                  </a:lnTo>
                  <a:lnTo>
                    <a:pt x="1521" y="602"/>
                  </a:lnTo>
                  <a:lnTo>
                    <a:pt x="1521" y="600"/>
                  </a:lnTo>
                  <a:lnTo>
                    <a:pt x="1524" y="597"/>
                  </a:lnTo>
                  <a:lnTo>
                    <a:pt x="1524" y="597"/>
                  </a:lnTo>
                  <a:lnTo>
                    <a:pt x="1524" y="594"/>
                  </a:lnTo>
                  <a:lnTo>
                    <a:pt x="1524" y="591"/>
                  </a:lnTo>
                  <a:lnTo>
                    <a:pt x="1524" y="589"/>
                  </a:lnTo>
                  <a:lnTo>
                    <a:pt x="1524" y="589"/>
                  </a:lnTo>
                  <a:lnTo>
                    <a:pt x="1524" y="586"/>
                  </a:lnTo>
                  <a:lnTo>
                    <a:pt x="1527" y="583"/>
                  </a:lnTo>
                  <a:lnTo>
                    <a:pt x="1527" y="580"/>
                  </a:lnTo>
                  <a:lnTo>
                    <a:pt x="1540" y="550"/>
                  </a:lnTo>
                  <a:lnTo>
                    <a:pt x="1560" y="523"/>
                  </a:lnTo>
                  <a:lnTo>
                    <a:pt x="1576" y="495"/>
                  </a:lnTo>
                  <a:lnTo>
                    <a:pt x="1595" y="468"/>
                  </a:lnTo>
                  <a:lnTo>
                    <a:pt x="1615" y="440"/>
                  </a:lnTo>
                  <a:lnTo>
                    <a:pt x="1631" y="410"/>
                  </a:lnTo>
                  <a:lnTo>
                    <a:pt x="1645" y="380"/>
                  </a:lnTo>
                  <a:lnTo>
                    <a:pt x="1659" y="347"/>
                  </a:lnTo>
                  <a:lnTo>
                    <a:pt x="1659" y="333"/>
                  </a:lnTo>
                  <a:lnTo>
                    <a:pt x="1661" y="319"/>
                  </a:lnTo>
                  <a:lnTo>
                    <a:pt x="1661" y="305"/>
                  </a:lnTo>
                  <a:lnTo>
                    <a:pt x="1661" y="292"/>
                  </a:lnTo>
                  <a:lnTo>
                    <a:pt x="1659" y="278"/>
                  </a:lnTo>
                  <a:lnTo>
                    <a:pt x="1653" y="264"/>
                  </a:lnTo>
                  <a:lnTo>
                    <a:pt x="1648" y="253"/>
                  </a:lnTo>
                  <a:lnTo>
                    <a:pt x="1639" y="239"/>
                  </a:lnTo>
                  <a:lnTo>
                    <a:pt x="1639" y="239"/>
                  </a:lnTo>
                  <a:lnTo>
                    <a:pt x="1639" y="237"/>
                  </a:lnTo>
                  <a:lnTo>
                    <a:pt x="1637" y="237"/>
                  </a:lnTo>
                  <a:lnTo>
                    <a:pt x="1637" y="234"/>
                  </a:lnTo>
                  <a:lnTo>
                    <a:pt x="1634" y="231"/>
                  </a:lnTo>
                  <a:lnTo>
                    <a:pt x="1631" y="231"/>
                  </a:lnTo>
                  <a:lnTo>
                    <a:pt x="1631" y="228"/>
                  </a:lnTo>
                  <a:lnTo>
                    <a:pt x="1628" y="228"/>
                  </a:lnTo>
                  <a:lnTo>
                    <a:pt x="1617" y="223"/>
                  </a:lnTo>
                  <a:lnTo>
                    <a:pt x="1606" y="220"/>
                  </a:lnTo>
                  <a:lnTo>
                    <a:pt x="1595" y="217"/>
                  </a:lnTo>
                  <a:lnTo>
                    <a:pt x="1584" y="217"/>
                  </a:lnTo>
                  <a:lnTo>
                    <a:pt x="1571" y="217"/>
                  </a:lnTo>
                  <a:lnTo>
                    <a:pt x="1560" y="217"/>
                  </a:lnTo>
                  <a:lnTo>
                    <a:pt x="1549" y="220"/>
                  </a:lnTo>
                  <a:lnTo>
                    <a:pt x="1538" y="223"/>
                  </a:lnTo>
                  <a:lnTo>
                    <a:pt x="1496" y="242"/>
                  </a:lnTo>
                  <a:lnTo>
                    <a:pt x="1461" y="270"/>
                  </a:lnTo>
                  <a:lnTo>
                    <a:pt x="1425" y="300"/>
                  </a:lnTo>
                  <a:lnTo>
                    <a:pt x="1392" y="333"/>
                  </a:lnTo>
                  <a:lnTo>
                    <a:pt x="1362" y="366"/>
                  </a:lnTo>
                  <a:lnTo>
                    <a:pt x="1331" y="402"/>
                  </a:lnTo>
                  <a:lnTo>
                    <a:pt x="1304" y="437"/>
                  </a:lnTo>
                  <a:lnTo>
                    <a:pt x="1276" y="470"/>
                  </a:lnTo>
                  <a:lnTo>
                    <a:pt x="1243" y="506"/>
                  </a:lnTo>
                  <a:lnTo>
                    <a:pt x="1213" y="542"/>
                  </a:lnTo>
                  <a:lnTo>
                    <a:pt x="1183" y="578"/>
                  </a:lnTo>
                  <a:lnTo>
                    <a:pt x="1155" y="613"/>
                  </a:lnTo>
                  <a:lnTo>
                    <a:pt x="1125" y="649"/>
                  </a:lnTo>
                  <a:lnTo>
                    <a:pt x="1095" y="682"/>
                  </a:lnTo>
                  <a:lnTo>
                    <a:pt x="1065" y="718"/>
                  </a:lnTo>
                  <a:lnTo>
                    <a:pt x="1037" y="754"/>
                  </a:lnTo>
                  <a:lnTo>
                    <a:pt x="1018" y="776"/>
                  </a:lnTo>
                  <a:lnTo>
                    <a:pt x="999" y="795"/>
                  </a:lnTo>
                  <a:lnTo>
                    <a:pt x="982" y="814"/>
                  </a:lnTo>
                  <a:lnTo>
                    <a:pt x="966" y="833"/>
                  </a:lnTo>
                  <a:lnTo>
                    <a:pt x="949" y="853"/>
                  </a:lnTo>
                  <a:lnTo>
                    <a:pt x="933" y="869"/>
                  </a:lnTo>
                  <a:lnTo>
                    <a:pt x="916" y="888"/>
                  </a:lnTo>
                  <a:lnTo>
                    <a:pt x="900" y="908"/>
                  </a:lnTo>
                  <a:lnTo>
                    <a:pt x="897" y="908"/>
                  </a:lnTo>
                  <a:lnTo>
                    <a:pt x="897" y="908"/>
                  </a:lnTo>
                  <a:lnTo>
                    <a:pt x="894" y="908"/>
                  </a:lnTo>
                  <a:lnTo>
                    <a:pt x="891" y="910"/>
                  </a:lnTo>
                  <a:lnTo>
                    <a:pt x="889" y="910"/>
                  </a:lnTo>
                  <a:lnTo>
                    <a:pt x="889" y="910"/>
                  </a:lnTo>
                  <a:lnTo>
                    <a:pt x="886" y="908"/>
                  </a:lnTo>
                  <a:lnTo>
                    <a:pt x="883" y="908"/>
                  </a:lnTo>
                  <a:lnTo>
                    <a:pt x="905" y="866"/>
                  </a:lnTo>
                  <a:lnTo>
                    <a:pt x="927" y="825"/>
                  </a:lnTo>
                  <a:lnTo>
                    <a:pt x="952" y="787"/>
                  </a:lnTo>
                  <a:lnTo>
                    <a:pt x="977" y="745"/>
                  </a:lnTo>
                  <a:lnTo>
                    <a:pt x="1001" y="707"/>
                  </a:lnTo>
                  <a:lnTo>
                    <a:pt x="1029" y="668"/>
                  </a:lnTo>
                  <a:lnTo>
                    <a:pt x="1054" y="627"/>
                  </a:lnTo>
                  <a:lnTo>
                    <a:pt x="1078" y="589"/>
                  </a:lnTo>
                  <a:lnTo>
                    <a:pt x="1103" y="547"/>
                  </a:lnTo>
                  <a:lnTo>
                    <a:pt x="1128" y="509"/>
                  </a:lnTo>
                  <a:lnTo>
                    <a:pt x="1150" y="468"/>
                  </a:lnTo>
                  <a:lnTo>
                    <a:pt x="1175" y="429"/>
                  </a:lnTo>
                  <a:lnTo>
                    <a:pt x="1199" y="391"/>
                  </a:lnTo>
                  <a:lnTo>
                    <a:pt x="1224" y="349"/>
                  </a:lnTo>
                  <a:lnTo>
                    <a:pt x="1249" y="311"/>
                  </a:lnTo>
                  <a:lnTo>
                    <a:pt x="1276" y="272"/>
                  </a:lnTo>
                  <a:lnTo>
                    <a:pt x="1290" y="253"/>
                  </a:lnTo>
                  <a:lnTo>
                    <a:pt x="1301" y="231"/>
                  </a:lnTo>
                  <a:lnTo>
                    <a:pt x="1315" y="212"/>
                  </a:lnTo>
                  <a:lnTo>
                    <a:pt x="1329" y="193"/>
                  </a:lnTo>
                  <a:lnTo>
                    <a:pt x="1340" y="173"/>
                  </a:lnTo>
                  <a:lnTo>
                    <a:pt x="1351" y="154"/>
                  </a:lnTo>
                  <a:lnTo>
                    <a:pt x="1362" y="135"/>
                  </a:lnTo>
                  <a:lnTo>
                    <a:pt x="1373" y="113"/>
                  </a:lnTo>
                  <a:lnTo>
                    <a:pt x="1375" y="105"/>
                  </a:lnTo>
                  <a:lnTo>
                    <a:pt x="1375" y="96"/>
                  </a:lnTo>
                  <a:lnTo>
                    <a:pt x="1375" y="88"/>
                  </a:lnTo>
                  <a:lnTo>
                    <a:pt x="1375" y="83"/>
                  </a:lnTo>
                  <a:lnTo>
                    <a:pt x="1375" y="74"/>
                  </a:lnTo>
                  <a:lnTo>
                    <a:pt x="1375" y="66"/>
                  </a:lnTo>
                  <a:lnTo>
                    <a:pt x="1373" y="58"/>
                  </a:lnTo>
                  <a:lnTo>
                    <a:pt x="1373" y="47"/>
                  </a:lnTo>
                  <a:lnTo>
                    <a:pt x="1370" y="44"/>
                  </a:lnTo>
                  <a:lnTo>
                    <a:pt x="1367" y="39"/>
                  </a:lnTo>
                  <a:lnTo>
                    <a:pt x="1364" y="36"/>
                  </a:lnTo>
                  <a:lnTo>
                    <a:pt x="1362" y="30"/>
                  </a:lnTo>
                  <a:lnTo>
                    <a:pt x="1359" y="28"/>
                  </a:lnTo>
                  <a:lnTo>
                    <a:pt x="1353" y="22"/>
                  </a:lnTo>
                  <a:lnTo>
                    <a:pt x="1351" y="19"/>
                  </a:lnTo>
                  <a:lnTo>
                    <a:pt x="1345" y="17"/>
                  </a:lnTo>
                  <a:lnTo>
                    <a:pt x="1345" y="14"/>
                  </a:lnTo>
                  <a:lnTo>
                    <a:pt x="1342" y="14"/>
                  </a:lnTo>
                  <a:lnTo>
                    <a:pt x="1342" y="14"/>
                  </a:lnTo>
                  <a:lnTo>
                    <a:pt x="1340" y="14"/>
                  </a:lnTo>
                  <a:lnTo>
                    <a:pt x="1337" y="11"/>
                  </a:lnTo>
                  <a:lnTo>
                    <a:pt x="1337" y="11"/>
                  </a:lnTo>
                  <a:lnTo>
                    <a:pt x="1334" y="11"/>
                  </a:lnTo>
                  <a:lnTo>
                    <a:pt x="1331" y="8"/>
                  </a:lnTo>
                  <a:lnTo>
                    <a:pt x="1315" y="3"/>
                  </a:lnTo>
                  <a:lnTo>
                    <a:pt x="1301" y="0"/>
                  </a:lnTo>
                  <a:lnTo>
                    <a:pt x="1285" y="0"/>
                  </a:lnTo>
                  <a:lnTo>
                    <a:pt x="1268" y="3"/>
                  </a:lnTo>
                  <a:lnTo>
                    <a:pt x="1252" y="8"/>
                  </a:lnTo>
                  <a:lnTo>
                    <a:pt x="1235" y="17"/>
                  </a:lnTo>
                  <a:lnTo>
                    <a:pt x="1219" y="25"/>
                  </a:lnTo>
                  <a:lnTo>
                    <a:pt x="1205" y="33"/>
                  </a:lnTo>
                  <a:lnTo>
                    <a:pt x="1177" y="55"/>
                  </a:lnTo>
                  <a:lnTo>
                    <a:pt x="1150" y="80"/>
                  </a:lnTo>
                  <a:lnTo>
                    <a:pt x="1125" y="105"/>
                  </a:lnTo>
                  <a:lnTo>
                    <a:pt x="1098" y="132"/>
                  </a:lnTo>
                  <a:lnTo>
                    <a:pt x="1073" y="160"/>
                  </a:lnTo>
                  <a:lnTo>
                    <a:pt x="1048" y="184"/>
                  </a:lnTo>
                  <a:lnTo>
                    <a:pt x="1023" y="212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9"/>
                  </a:lnTo>
                  <a:lnTo>
                    <a:pt x="999" y="239"/>
                  </a:lnTo>
                  <a:lnTo>
                    <a:pt x="999" y="239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6" y="242"/>
                  </a:lnTo>
                  <a:lnTo>
                    <a:pt x="996" y="245"/>
                  </a:lnTo>
                  <a:lnTo>
                    <a:pt x="996" y="245"/>
                  </a:lnTo>
                  <a:lnTo>
                    <a:pt x="993" y="248"/>
                  </a:lnTo>
                  <a:lnTo>
                    <a:pt x="993" y="248"/>
                  </a:lnTo>
                  <a:lnTo>
                    <a:pt x="993" y="250"/>
                  </a:lnTo>
                  <a:lnTo>
                    <a:pt x="990" y="250"/>
                  </a:lnTo>
                  <a:lnTo>
                    <a:pt x="990" y="250"/>
                  </a:lnTo>
                  <a:lnTo>
                    <a:pt x="963" y="286"/>
                  </a:lnTo>
                  <a:lnTo>
                    <a:pt x="933" y="319"/>
                  </a:lnTo>
                  <a:lnTo>
                    <a:pt x="905" y="355"/>
                  </a:lnTo>
                  <a:lnTo>
                    <a:pt x="875" y="388"/>
                  </a:lnTo>
                  <a:lnTo>
                    <a:pt x="847" y="424"/>
                  </a:lnTo>
                  <a:lnTo>
                    <a:pt x="820" y="459"/>
                  </a:lnTo>
                  <a:lnTo>
                    <a:pt x="790" y="492"/>
                  </a:lnTo>
                  <a:lnTo>
                    <a:pt x="759" y="528"/>
                  </a:lnTo>
                  <a:lnTo>
                    <a:pt x="748" y="542"/>
                  </a:lnTo>
                  <a:lnTo>
                    <a:pt x="735" y="553"/>
                  </a:lnTo>
                  <a:lnTo>
                    <a:pt x="726" y="567"/>
                  </a:lnTo>
                  <a:lnTo>
                    <a:pt x="715" y="578"/>
                  </a:lnTo>
                  <a:lnTo>
                    <a:pt x="704" y="589"/>
                  </a:lnTo>
                  <a:lnTo>
                    <a:pt x="696" y="600"/>
                  </a:lnTo>
                  <a:lnTo>
                    <a:pt x="685" y="611"/>
                  </a:lnTo>
                  <a:lnTo>
                    <a:pt x="674" y="622"/>
                  </a:lnTo>
                  <a:lnTo>
                    <a:pt x="674" y="622"/>
                  </a:lnTo>
                  <a:lnTo>
                    <a:pt x="671" y="622"/>
                  </a:lnTo>
                  <a:lnTo>
                    <a:pt x="671" y="624"/>
                  </a:lnTo>
                  <a:lnTo>
                    <a:pt x="669" y="624"/>
                  </a:lnTo>
                  <a:lnTo>
                    <a:pt x="666" y="624"/>
                  </a:lnTo>
                  <a:lnTo>
                    <a:pt x="663" y="624"/>
                  </a:lnTo>
                  <a:lnTo>
                    <a:pt x="663" y="624"/>
                  </a:lnTo>
                  <a:lnTo>
                    <a:pt x="660" y="622"/>
                  </a:lnTo>
                  <a:lnTo>
                    <a:pt x="660" y="619"/>
                  </a:lnTo>
                  <a:lnTo>
                    <a:pt x="658" y="616"/>
                  </a:lnTo>
                  <a:lnTo>
                    <a:pt x="658" y="613"/>
                  </a:lnTo>
                  <a:lnTo>
                    <a:pt x="658" y="611"/>
                  </a:lnTo>
                  <a:lnTo>
                    <a:pt x="660" y="608"/>
                  </a:lnTo>
                  <a:lnTo>
                    <a:pt x="660" y="605"/>
                  </a:lnTo>
                  <a:lnTo>
                    <a:pt x="660" y="602"/>
                  </a:lnTo>
                  <a:lnTo>
                    <a:pt x="660" y="597"/>
                  </a:lnTo>
                  <a:lnTo>
                    <a:pt x="663" y="597"/>
                  </a:lnTo>
                  <a:lnTo>
                    <a:pt x="663" y="594"/>
                  </a:lnTo>
                  <a:lnTo>
                    <a:pt x="663" y="591"/>
                  </a:lnTo>
                  <a:lnTo>
                    <a:pt x="663" y="589"/>
                  </a:lnTo>
                  <a:lnTo>
                    <a:pt x="666" y="589"/>
                  </a:lnTo>
                  <a:lnTo>
                    <a:pt x="666" y="586"/>
                  </a:lnTo>
                  <a:lnTo>
                    <a:pt x="666" y="583"/>
                  </a:lnTo>
                  <a:lnTo>
                    <a:pt x="666" y="580"/>
                  </a:lnTo>
                  <a:lnTo>
                    <a:pt x="680" y="550"/>
                  </a:lnTo>
                  <a:lnTo>
                    <a:pt x="696" y="520"/>
                  </a:lnTo>
                  <a:lnTo>
                    <a:pt x="715" y="492"/>
                  </a:lnTo>
                  <a:lnTo>
                    <a:pt x="732" y="465"/>
                  </a:lnTo>
                  <a:lnTo>
                    <a:pt x="751" y="440"/>
                  </a:lnTo>
                  <a:lnTo>
                    <a:pt x="768" y="410"/>
                  </a:lnTo>
                  <a:lnTo>
                    <a:pt x="784" y="380"/>
                  </a:lnTo>
                  <a:lnTo>
                    <a:pt x="795" y="347"/>
                  </a:lnTo>
                  <a:lnTo>
                    <a:pt x="798" y="333"/>
                  </a:lnTo>
                  <a:lnTo>
                    <a:pt x="801" y="319"/>
                  </a:lnTo>
                  <a:lnTo>
                    <a:pt x="801" y="305"/>
                  </a:lnTo>
                  <a:lnTo>
                    <a:pt x="801" y="292"/>
                  </a:lnTo>
                  <a:lnTo>
                    <a:pt x="798" y="278"/>
                  </a:lnTo>
                  <a:lnTo>
                    <a:pt x="792" y="264"/>
                  </a:lnTo>
                  <a:lnTo>
                    <a:pt x="787" y="253"/>
                  </a:lnTo>
                  <a:lnTo>
                    <a:pt x="781" y="239"/>
                  </a:lnTo>
                  <a:lnTo>
                    <a:pt x="779" y="239"/>
                  </a:lnTo>
                  <a:lnTo>
                    <a:pt x="779" y="237"/>
                  </a:lnTo>
                  <a:lnTo>
                    <a:pt x="776" y="237"/>
                  </a:lnTo>
                  <a:lnTo>
                    <a:pt x="776" y="234"/>
                  </a:lnTo>
                  <a:lnTo>
                    <a:pt x="773" y="231"/>
                  </a:lnTo>
                  <a:lnTo>
                    <a:pt x="773" y="231"/>
                  </a:lnTo>
                  <a:lnTo>
                    <a:pt x="770" y="228"/>
                  </a:lnTo>
                  <a:lnTo>
                    <a:pt x="770" y="228"/>
                  </a:lnTo>
                  <a:lnTo>
                    <a:pt x="768" y="228"/>
                  </a:lnTo>
                  <a:lnTo>
                    <a:pt x="765" y="226"/>
                  </a:lnTo>
                  <a:lnTo>
                    <a:pt x="762" y="226"/>
                  </a:lnTo>
                  <a:lnTo>
                    <a:pt x="759" y="223"/>
                  </a:lnTo>
                  <a:lnTo>
                    <a:pt x="757" y="223"/>
                  </a:lnTo>
                  <a:lnTo>
                    <a:pt x="754" y="223"/>
                  </a:lnTo>
                  <a:lnTo>
                    <a:pt x="748" y="220"/>
                  </a:lnTo>
                  <a:lnTo>
                    <a:pt x="746" y="220"/>
                  </a:lnTo>
                  <a:lnTo>
                    <a:pt x="737" y="217"/>
                  </a:lnTo>
                  <a:lnTo>
                    <a:pt x="726" y="215"/>
                  </a:lnTo>
                  <a:lnTo>
                    <a:pt x="718" y="215"/>
                  </a:lnTo>
                  <a:lnTo>
                    <a:pt x="707" y="215"/>
                  </a:lnTo>
                  <a:lnTo>
                    <a:pt x="699" y="217"/>
                  </a:lnTo>
                  <a:lnTo>
                    <a:pt x="688" y="217"/>
                  </a:lnTo>
                  <a:lnTo>
                    <a:pt x="680" y="220"/>
                  </a:lnTo>
                  <a:lnTo>
                    <a:pt x="671" y="223"/>
                  </a:lnTo>
                  <a:lnTo>
                    <a:pt x="647" y="234"/>
                  </a:lnTo>
                  <a:lnTo>
                    <a:pt x="625" y="250"/>
                  </a:lnTo>
                  <a:lnTo>
                    <a:pt x="603" y="267"/>
                  </a:lnTo>
                  <a:lnTo>
                    <a:pt x="581" y="286"/>
                  </a:lnTo>
                  <a:lnTo>
                    <a:pt x="559" y="305"/>
                  </a:lnTo>
                  <a:lnTo>
                    <a:pt x="537" y="325"/>
                  </a:lnTo>
                  <a:lnTo>
                    <a:pt x="515" y="344"/>
                  </a:lnTo>
                  <a:lnTo>
                    <a:pt x="493" y="360"/>
                  </a:lnTo>
                  <a:lnTo>
                    <a:pt x="493" y="363"/>
                  </a:lnTo>
                  <a:lnTo>
                    <a:pt x="490" y="363"/>
                  </a:lnTo>
                  <a:lnTo>
                    <a:pt x="490" y="363"/>
                  </a:lnTo>
                  <a:lnTo>
                    <a:pt x="487" y="363"/>
                  </a:lnTo>
                  <a:lnTo>
                    <a:pt x="484" y="363"/>
                  </a:lnTo>
                  <a:lnTo>
                    <a:pt x="482" y="363"/>
                  </a:lnTo>
                  <a:lnTo>
                    <a:pt x="482" y="363"/>
                  </a:lnTo>
                  <a:lnTo>
                    <a:pt x="479" y="360"/>
                  </a:lnTo>
                  <a:lnTo>
                    <a:pt x="476" y="360"/>
                  </a:lnTo>
                  <a:lnTo>
                    <a:pt x="476" y="360"/>
                  </a:lnTo>
                  <a:lnTo>
                    <a:pt x="473" y="360"/>
                  </a:lnTo>
                  <a:lnTo>
                    <a:pt x="471" y="360"/>
                  </a:lnTo>
                  <a:lnTo>
                    <a:pt x="471" y="358"/>
                  </a:lnTo>
                  <a:lnTo>
                    <a:pt x="468" y="358"/>
                  </a:lnTo>
                  <a:lnTo>
                    <a:pt x="468" y="355"/>
                  </a:lnTo>
                  <a:lnTo>
                    <a:pt x="465" y="355"/>
                  </a:lnTo>
                  <a:lnTo>
                    <a:pt x="462" y="352"/>
                  </a:lnTo>
                  <a:lnTo>
                    <a:pt x="460" y="349"/>
                  </a:lnTo>
                  <a:lnTo>
                    <a:pt x="454" y="347"/>
                  </a:lnTo>
                  <a:lnTo>
                    <a:pt x="451" y="344"/>
                  </a:lnTo>
                  <a:lnTo>
                    <a:pt x="446" y="341"/>
                  </a:lnTo>
                  <a:lnTo>
                    <a:pt x="443" y="338"/>
                  </a:lnTo>
                  <a:lnTo>
                    <a:pt x="438" y="336"/>
                  </a:lnTo>
                  <a:lnTo>
                    <a:pt x="435" y="333"/>
                  </a:lnTo>
                  <a:lnTo>
                    <a:pt x="427" y="330"/>
                  </a:lnTo>
                  <a:lnTo>
                    <a:pt x="418" y="327"/>
                  </a:lnTo>
                  <a:lnTo>
                    <a:pt x="410" y="327"/>
                  </a:lnTo>
                  <a:lnTo>
                    <a:pt x="402" y="327"/>
                  </a:lnTo>
                  <a:lnTo>
                    <a:pt x="394" y="330"/>
                  </a:lnTo>
                  <a:lnTo>
                    <a:pt x="385" y="330"/>
                  </a:lnTo>
                  <a:lnTo>
                    <a:pt x="377" y="330"/>
                  </a:lnTo>
                  <a:lnTo>
                    <a:pt x="369" y="333"/>
                  </a:lnTo>
                  <a:lnTo>
                    <a:pt x="366" y="333"/>
                  </a:lnTo>
                  <a:lnTo>
                    <a:pt x="366" y="336"/>
                  </a:lnTo>
                  <a:lnTo>
                    <a:pt x="363" y="336"/>
                  </a:lnTo>
                  <a:lnTo>
                    <a:pt x="363" y="336"/>
                  </a:lnTo>
                  <a:lnTo>
                    <a:pt x="361" y="338"/>
                  </a:lnTo>
                  <a:lnTo>
                    <a:pt x="358" y="338"/>
                  </a:lnTo>
                  <a:lnTo>
                    <a:pt x="355" y="338"/>
                  </a:lnTo>
                  <a:lnTo>
                    <a:pt x="355" y="338"/>
                  </a:lnTo>
                  <a:lnTo>
                    <a:pt x="317" y="366"/>
                  </a:lnTo>
                  <a:lnTo>
                    <a:pt x="281" y="396"/>
                  </a:lnTo>
                  <a:lnTo>
                    <a:pt x="253" y="429"/>
                  </a:lnTo>
                  <a:lnTo>
                    <a:pt x="226" y="468"/>
                  </a:lnTo>
                  <a:lnTo>
                    <a:pt x="201" y="506"/>
                  </a:lnTo>
                  <a:lnTo>
                    <a:pt x="179" y="547"/>
                  </a:lnTo>
                  <a:lnTo>
                    <a:pt x="157" y="589"/>
                  </a:lnTo>
                  <a:lnTo>
                    <a:pt x="135" y="630"/>
                  </a:lnTo>
                  <a:lnTo>
                    <a:pt x="127" y="652"/>
                  </a:lnTo>
                  <a:lnTo>
                    <a:pt x="119" y="671"/>
                  </a:lnTo>
                  <a:lnTo>
                    <a:pt x="108" y="690"/>
                  </a:lnTo>
                  <a:lnTo>
                    <a:pt x="99" y="710"/>
                  </a:lnTo>
                  <a:lnTo>
                    <a:pt x="91" y="729"/>
                  </a:lnTo>
                  <a:lnTo>
                    <a:pt x="83" y="745"/>
                  </a:lnTo>
                  <a:lnTo>
                    <a:pt x="75" y="765"/>
                  </a:lnTo>
                  <a:lnTo>
                    <a:pt x="69" y="784"/>
                  </a:lnTo>
                  <a:lnTo>
                    <a:pt x="66" y="787"/>
                  </a:lnTo>
                  <a:lnTo>
                    <a:pt x="66" y="789"/>
                  </a:lnTo>
                  <a:lnTo>
                    <a:pt x="66" y="792"/>
                  </a:lnTo>
                  <a:lnTo>
                    <a:pt x="64" y="795"/>
                  </a:lnTo>
                  <a:lnTo>
                    <a:pt x="64" y="798"/>
                  </a:lnTo>
                  <a:lnTo>
                    <a:pt x="61" y="800"/>
                  </a:lnTo>
                  <a:lnTo>
                    <a:pt x="61" y="803"/>
                  </a:lnTo>
                  <a:lnTo>
                    <a:pt x="61" y="803"/>
                  </a:lnTo>
                  <a:lnTo>
                    <a:pt x="20" y="930"/>
                  </a:lnTo>
                  <a:lnTo>
                    <a:pt x="17" y="932"/>
                  </a:lnTo>
                  <a:lnTo>
                    <a:pt x="17" y="935"/>
                  </a:lnTo>
                  <a:lnTo>
                    <a:pt x="17" y="938"/>
                  </a:lnTo>
                  <a:lnTo>
                    <a:pt x="17" y="941"/>
                  </a:lnTo>
                  <a:lnTo>
                    <a:pt x="17" y="943"/>
                  </a:lnTo>
                  <a:lnTo>
                    <a:pt x="17" y="946"/>
                  </a:lnTo>
                  <a:lnTo>
                    <a:pt x="17" y="949"/>
                  </a:lnTo>
                  <a:lnTo>
                    <a:pt x="17" y="952"/>
                  </a:lnTo>
                  <a:lnTo>
                    <a:pt x="0" y="1053"/>
                  </a:lnTo>
                  <a:lnTo>
                    <a:pt x="0" y="1056"/>
                  </a:lnTo>
                  <a:lnTo>
                    <a:pt x="0" y="1059"/>
                  </a:lnTo>
                  <a:lnTo>
                    <a:pt x="3" y="1061"/>
                  </a:lnTo>
                  <a:lnTo>
                    <a:pt x="3" y="1064"/>
                  </a:lnTo>
                  <a:lnTo>
                    <a:pt x="3" y="1067"/>
                  </a:lnTo>
                  <a:lnTo>
                    <a:pt x="3" y="1070"/>
                  </a:lnTo>
                  <a:lnTo>
                    <a:pt x="6" y="1072"/>
                  </a:lnTo>
                  <a:lnTo>
                    <a:pt x="9" y="1075"/>
                  </a:lnTo>
                  <a:lnTo>
                    <a:pt x="9" y="1078"/>
                  </a:lnTo>
                  <a:lnTo>
                    <a:pt x="11" y="1078"/>
                  </a:lnTo>
                  <a:lnTo>
                    <a:pt x="11" y="1081"/>
                  </a:lnTo>
                  <a:lnTo>
                    <a:pt x="14" y="1081"/>
                  </a:lnTo>
                  <a:lnTo>
                    <a:pt x="17" y="1083"/>
                  </a:lnTo>
                  <a:lnTo>
                    <a:pt x="20" y="1083"/>
                  </a:lnTo>
                  <a:lnTo>
                    <a:pt x="22" y="1086"/>
                  </a:lnTo>
                  <a:lnTo>
                    <a:pt x="25" y="1089"/>
                  </a:lnTo>
                  <a:lnTo>
                    <a:pt x="132" y="1108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4"/>
                  </a:lnTo>
                  <a:lnTo>
                    <a:pt x="135" y="1114"/>
                  </a:lnTo>
                  <a:lnTo>
                    <a:pt x="138" y="1116"/>
                  </a:lnTo>
                  <a:lnTo>
                    <a:pt x="138" y="1116"/>
                  </a:lnTo>
                  <a:lnTo>
                    <a:pt x="141" y="1116"/>
                  </a:lnTo>
                  <a:lnTo>
                    <a:pt x="141" y="1119"/>
                  </a:lnTo>
                  <a:lnTo>
                    <a:pt x="138" y="1122"/>
                  </a:lnTo>
                  <a:lnTo>
                    <a:pt x="138" y="1122"/>
                  </a:lnTo>
                  <a:lnTo>
                    <a:pt x="138" y="1125"/>
                  </a:lnTo>
                  <a:lnTo>
                    <a:pt x="138" y="1125"/>
                  </a:lnTo>
                  <a:lnTo>
                    <a:pt x="135" y="1127"/>
                  </a:lnTo>
                  <a:lnTo>
                    <a:pt x="135" y="1130"/>
                  </a:lnTo>
                  <a:lnTo>
                    <a:pt x="135" y="1130"/>
                  </a:lnTo>
                  <a:lnTo>
                    <a:pt x="124" y="1149"/>
                  </a:lnTo>
                  <a:lnTo>
                    <a:pt x="116" y="1171"/>
                  </a:lnTo>
                  <a:lnTo>
                    <a:pt x="110" y="1191"/>
                  </a:lnTo>
                  <a:lnTo>
                    <a:pt x="105" y="1213"/>
                  </a:lnTo>
                  <a:lnTo>
                    <a:pt x="102" y="1235"/>
                  </a:lnTo>
                  <a:lnTo>
                    <a:pt x="99" y="1257"/>
                  </a:lnTo>
                  <a:lnTo>
                    <a:pt x="97" y="1276"/>
                  </a:lnTo>
                  <a:lnTo>
                    <a:pt x="94" y="1298"/>
                  </a:lnTo>
                  <a:lnTo>
                    <a:pt x="97" y="1303"/>
                  </a:lnTo>
                  <a:lnTo>
                    <a:pt x="97" y="1306"/>
                  </a:lnTo>
                  <a:lnTo>
                    <a:pt x="99" y="1309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102" y="1320"/>
                  </a:lnTo>
                  <a:lnTo>
                    <a:pt x="105" y="1325"/>
                  </a:lnTo>
                  <a:lnTo>
                    <a:pt x="108" y="1328"/>
                  </a:lnTo>
                  <a:lnTo>
                    <a:pt x="110" y="1328"/>
                  </a:lnTo>
                  <a:lnTo>
                    <a:pt x="110" y="1331"/>
                  </a:lnTo>
                  <a:lnTo>
                    <a:pt x="113" y="1331"/>
                  </a:lnTo>
                  <a:lnTo>
                    <a:pt x="113" y="1334"/>
                  </a:lnTo>
                  <a:lnTo>
                    <a:pt x="116" y="1334"/>
                  </a:lnTo>
                  <a:lnTo>
                    <a:pt x="116" y="1336"/>
                  </a:lnTo>
                  <a:lnTo>
                    <a:pt x="119" y="1336"/>
                  </a:lnTo>
                  <a:lnTo>
                    <a:pt x="119" y="1336"/>
                  </a:lnTo>
                  <a:lnTo>
                    <a:pt x="130" y="1342"/>
                  </a:lnTo>
                  <a:lnTo>
                    <a:pt x="143" y="1345"/>
                  </a:lnTo>
                  <a:lnTo>
                    <a:pt x="154" y="1347"/>
                  </a:lnTo>
                  <a:lnTo>
                    <a:pt x="168" y="1347"/>
                  </a:lnTo>
                  <a:lnTo>
                    <a:pt x="182" y="1347"/>
                  </a:lnTo>
                  <a:lnTo>
                    <a:pt x="196" y="1347"/>
                  </a:lnTo>
                  <a:lnTo>
                    <a:pt x="209" y="1345"/>
                  </a:lnTo>
                  <a:lnTo>
                    <a:pt x="220" y="1345"/>
                  </a:lnTo>
                  <a:lnTo>
                    <a:pt x="240" y="1331"/>
                  </a:lnTo>
                  <a:lnTo>
                    <a:pt x="259" y="1320"/>
                  </a:lnTo>
                  <a:lnTo>
                    <a:pt x="275" y="1306"/>
                  </a:lnTo>
                  <a:lnTo>
                    <a:pt x="292" y="1290"/>
                  </a:lnTo>
                  <a:lnTo>
                    <a:pt x="308" y="1276"/>
                  </a:lnTo>
                  <a:lnTo>
                    <a:pt x="328" y="1259"/>
                  </a:lnTo>
                  <a:lnTo>
                    <a:pt x="344" y="1243"/>
                  </a:lnTo>
                  <a:lnTo>
                    <a:pt x="361" y="1226"/>
                  </a:lnTo>
                  <a:lnTo>
                    <a:pt x="363" y="1226"/>
                  </a:lnTo>
                  <a:lnTo>
                    <a:pt x="363" y="1226"/>
                  </a:lnTo>
                  <a:lnTo>
                    <a:pt x="366" y="1226"/>
                  </a:lnTo>
                  <a:lnTo>
                    <a:pt x="369" y="1226"/>
                  </a:lnTo>
                  <a:lnTo>
                    <a:pt x="372" y="1226"/>
                  </a:lnTo>
                  <a:lnTo>
                    <a:pt x="372" y="1226"/>
                  </a:lnTo>
                  <a:lnTo>
                    <a:pt x="374" y="1226"/>
                  </a:lnTo>
                  <a:lnTo>
                    <a:pt x="374" y="1226"/>
                  </a:lnTo>
                  <a:lnTo>
                    <a:pt x="377" y="1229"/>
                  </a:lnTo>
                  <a:lnTo>
                    <a:pt x="377" y="1235"/>
                  </a:lnTo>
                  <a:lnTo>
                    <a:pt x="377" y="1237"/>
                  </a:lnTo>
                  <a:lnTo>
                    <a:pt x="377" y="1240"/>
                  </a:lnTo>
                  <a:lnTo>
                    <a:pt x="377" y="1246"/>
                  </a:lnTo>
                  <a:lnTo>
                    <a:pt x="374" y="1248"/>
                  </a:lnTo>
                  <a:lnTo>
                    <a:pt x="374" y="1251"/>
                  </a:lnTo>
                  <a:lnTo>
                    <a:pt x="374" y="1257"/>
                  </a:lnTo>
                  <a:lnTo>
                    <a:pt x="352" y="1301"/>
                  </a:lnTo>
                  <a:lnTo>
                    <a:pt x="330" y="1345"/>
                  </a:lnTo>
                  <a:lnTo>
                    <a:pt x="306" y="1389"/>
                  </a:lnTo>
                  <a:lnTo>
                    <a:pt x="281" y="1435"/>
                  </a:lnTo>
                  <a:lnTo>
                    <a:pt x="262" y="1482"/>
                  </a:lnTo>
                  <a:lnTo>
                    <a:pt x="248" y="1532"/>
                  </a:lnTo>
                  <a:lnTo>
                    <a:pt x="242" y="1581"/>
                  </a:lnTo>
                  <a:lnTo>
                    <a:pt x="248" y="1633"/>
                  </a:lnTo>
                  <a:lnTo>
                    <a:pt x="248" y="1636"/>
                  </a:lnTo>
                  <a:lnTo>
                    <a:pt x="248" y="1639"/>
                  </a:lnTo>
                  <a:lnTo>
                    <a:pt x="248" y="1639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9" y="1653"/>
                  </a:lnTo>
                  <a:lnTo>
                    <a:pt x="273" y="1661"/>
                  </a:lnTo>
                  <a:lnTo>
                    <a:pt x="284" y="1666"/>
                  </a:lnTo>
                  <a:lnTo>
                    <a:pt x="300" y="1669"/>
                  </a:lnTo>
                  <a:lnTo>
                    <a:pt x="314" y="1669"/>
                  </a:lnTo>
                  <a:lnTo>
                    <a:pt x="330" y="1669"/>
                  </a:lnTo>
                  <a:lnTo>
                    <a:pt x="347" y="1666"/>
                  </a:lnTo>
                  <a:lnTo>
                    <a:pt x="361" y="1664"/>
                  </a:lnTo>
                  <a:lnTo>
                    <a:pt x="380" y="1658"/>
                  </a:lnTo>
                  <a:lnTo>
                    <a:pt x="396" y="1650"/>
                  </a:lnTo>
                  <a:lnTo>
                    <a:pt x="413" y="1639"/>
                  </a:lnTo>
                  <a:lnTo>
                    <a:pt x="429" y="1628"/>
                  </a:lnTo>
                  <a:lnTo>
                    <a:pt x="443" y="1620"/>
                  </a:lnTo>
                  <a:lnTo>
                    <a:pt x="457" y="1609"/>
                  </a:lnTo>
                  <a:lnTo>
                    <a:pt x="473" y="1598"/>
                  </a:lnTo>
                  <a:lnTo>
                    <a:pt x="490" y="1589"/>
                  </a:lnTo>
                  <a:lnTo>
                    <a:pt x="493" y="1589"/>
                  </a:lnTo>
                  <a:lnTo>
                    <a:pt x="493" y="1589"/>
                  </a:lnTo>
                  <a:lnTo>
                    <a:pt x="495" y="1589"/>
                  </a:lnTo>
                  <a:lnTo>
                    <a:pt x="495" y="1589"/>
                  </a:lnTo>
                  <a:lnTo>
                    <a:pt x="498" y="1589"/>
                  </a:lnTo>
                  <a:lnTo>
                    <a:pt x="501" y="1589"/>
                  </a:lnTo>
                  <a:lnTo>
                    <a:pt x="501" y="1589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5"/>
                  </a:lnTo>
                  <a:lnTo>
                    <a:pt x="504" y="1595"/>
                  </a:lnTo>
                  <a:lnTo>
                    <a:pt x="504" y="1598"/>
                  </a:lnTo>
                  <a:lnTo>
                    <a:pt x="504" y="1600"/>
                  </a:lnTo>
                  <a:lnTo>
                    <a:pt x="487" y="1631"/>
                  </a:lnTo>
                  <a:lnTo>
                    <a:pt x="465" y="1664"/>
                  </a:lnTo>
                  <a:lnTo>
                    <a:pt x="440" y="1694"/>
                  </a:lnTo>
                  <a:lnTo>
                    <a:pt x="418" y="1727"/>
                  </a:lnTo>
                  <a:lnTo>
                    <a:pt x="402" y="1760"/>
                  </a:lnTo>
                  <a:lnTo>
                    <a:pt x="388" y="1796"/>
                  </a:lnTo>
                  <a:lnTo>
                    <a:pt x="385" y="1834"/>
                  </a:lnTo>
                  <a:lnTo>
                    <a:pt x="391" y="1875"/>
                  </a:lnTo>
                  <a:lnTo>
                    <a:pt x="391" y="1878"/>
                  </a:lnTo>
                  <a:lnTo>
                    <a:pt x="391" y="1881"/>
                  </a:lnTo>
                  <a:lnTo>
                    <a:pt x="394" y="1884"/>
                  </a:lnTo>
                  <a:lnTo>
                    <a:pt x="396" y="1886"/>
                  </a:lnTo>
                  <a:lnTo>
                    <a:pt x="399" y="1889"/>
                  </a:lnTo>
                  <a:lnTo>
                    <a:pt x="402" y="1892"/>
                  </a:lnTo>
                  <a:lnTo>
                    <a:pt x="402" y="1895"/>
                  </a:lnTo>
                  <a:lnTo>
                    <a:pt x="405" y="1897"/>
                  </a:lnTo>
                  <a:lnTo>
                    <a:pt x="407" y="1900"/>
                  </a:lnTo>
                  <a:lnTo>
                    <a:pt x="410" y="1900"/>
                  </a:lnTo>
                  <a:lnTo>
                    <a:pt x="413" y="1903"/>
                  </a:lnTo>
                  <a:lnTo>
                    <a:pt x="416" y="1903"/>
                  </a:lnTo>
                  <a:lnTo>
                    <a:pt x="416" y="1906"/>
                  </a:lnTo>
                  <a:lnTo>
                    <a:pt x="418" y="1908"/>
                  </a:lnTo>
                  <a:lnTo>
                    <a:pt x="421" y="1908"/>
                  </a:lnTo>
                  <a:lnTo>
                    <a:pt x="427" y="1911"/>
                  </a:lnTo>
                  <a:lnTo>
                    <a:pt x="438" y="1917"/>
                  </a:lnTo>
                  <a:lnTo>
                    <a:pt x="451" y="1917"/>
                  </a:lnTo>
                  <a:lnTo>
                    <a:pt x="465" y="1919"/>
                  </a:lnTo>
                  <a:lnTo>
                    <a:pt x="479" y="1917"/>
                  </a:lnTo>
                  <a:lnTo>
                    <a:pt x="493" y="1917"/>
                  </a:lnTo>
                  <a:lnTo>
                    <a:pt x="509" y="1914"/>
                  </a:lnTo>
                  <a:lnTo>
                    <a:pt x="523" y="1911"/>
                  </a:lnTo>
                  <a:lnTo>
                    <a:pt x="537" y="1906"/>
                  </a:lnTo>
                  <a:lnTo>
                    <a:pt x="572" y="1884"/>
                  </a:lnTo>
                  <a:lnTo>
                    <a:pt x="605" y="1859"/>
                  </a:lnTo>
                  <a:lnTo>
                    <a:pt x="638" y="1834"/>
                  </a:lnTo>
                  <a:lnTo>
                    <a:pt x="671" y="1804"/>
                  </a:lnTo>
                  <a:lnTo>
                    <a:pt x="704" y="1774"/>
                  </a:lnTo>
                  <a:lnTo>
                    <a:pt x="735" y="1743"/>
                  </a:lnTo>
                  <a:lnTo>
                    <a:pt x="768" y="1713"/>
                  </a:lnTo>
                  <a:lnTo>
                    <a:pt x="803" y="1686"/>
                  </a:lnTo>
                  <a:lnTo>
                    <a:pt x="803" y="1686"/>
                  </a:lnTo>
                  <a:lnTo>
                    <a:pt x="806" y="1686"/>
                  </a:lnTo>
                  <a:lnTo>
                    <a:pt x="809" y="1686"/>
                  </a:lnTo>
                  <a:lnTo>
                    <a:pt x="809" y="1686"/>
                  </a:lnTo>
                  <a:lnTo>
                    <a:pt x="812" y="1686"/>
                  </a:lnTo>
                  <a:lnTo>
                    <a:pt x="812" y="1686"/>
                  </a:lnTo>
                  <a:lnTo>
                    <a:pt x="814" y="1686"/>
                  </a:lnTo>
                  <a:lnTo>
                    <a:pt x="814" y="1686"/>
                  </a:lnTo>
                  <a:lnTo>
                    <a:pt x="814" y="1688"/>
                  </a:lnTo>
                  <a:lnTo>
                    <a:pt x="817" y="1688"/>
                  </a:lnTo>
                  <a:lnTo>
                    <a:pt x="817" y="1691"/>
                  </a:lnTo>
                  <a:lnTo>
                    <a:pt x="817" y="1694"/>
                  </a:lnTo>
                  <a:lnTo>
                    <a:pt x="817" y="1694"/>
                  </a:lnTo>
                  <a:lnTo>
                    <a:pt x="817" y="1697"/>
                  </a:lnTo>
                  <a:lnTo>
                    <a:pt x="817" y="1699"/>
                  </a:lnTo>
                  <a:lnTo>
                    <a:pt x="817" y="1702"/>
                  </a:lnTo>
                  <a:lnTo>
                    <a:pt x="817" y="1702"/>
                  </a:lnTo>
                  <a:lnTo>
                    <a:pt x="817" y="1705"/>
                  </a:lnTo>
                  <a:lnTo>
                    <a:pt x="817" y="1705"/>
                  </a:lnTo>
                  <a:lnTo>
                    <a:pt x="814" y="1708"/>
                  </a:lnTo>
                  <a:lnTo>
                    <a:pt x="814" y="1710"/>
                  </a:lnTo>
                  <a:lnTo>
                    <a:pt x="814" y="1710"/>
                  </a:lnTo>
                  <a:lnTo>
                    <a:pt x="812" y="1713"/>
                  </a:lnTo>
                  <a:lnTo>
                    <a:pt x="812" y="1716"/>
                  </a:lnTo>
                  <a:lnTo>
                    <a:pt x="792" y="1757"/>
                  </a:lnTo>
                  <a:lnTo>
                    <a:pt x="768" y="1796"/>
                  </a:lnTo>
                  <a:lnTo>
                    <a:pt x="743" y="1834"/>
                  </a:lnTo>
                  <a:lnTo>
                    <a:pt x="718" y="1875"/>
                  </a:lnTo>
                  <a:lnTo>
                    <a:pt x="693" y="1917"/>
                  </a:lnTo>
                  <a:lnTo>
                    <a:pt x="677" y="1958"/>
                  </a:lnTo>
                  <a:lnTo>
                    <a:pt x="671" y="2002"/>
                  </a:lnTo>
                  <a:lnTo>
                    <a:pt x="674" y="2051"/>
                  </a:lnTo>
                  <a:lnTo>
                    <a:pt x="677" y="2054"/>
                  </a:lnTo>
                  <a:lnTo>
                    <a:pt x="680" y="2057"/>
                  </a:lnTo>
                  <a:lnTo>
                    <a:pt x="680" y="2060"/>
                  </a:lnTo>
                  <a:lnTo>
                    <a:pt x="682" y="2062"/>
                  </a:lnTo>
                  <a:lnTo>
                    <a:pt x="685" y="2068"/>
                  </a:lnTo>
                  <a:lnTo>
                    <a:pt x="688" y="2071"/>
                  </a:lnTo>
                  <a:lnTo>
                    <a:pt x="691" y="2073"/>
                  </a:lnTo>
                  <a:lnTo>
                    <a:pt x="696" y="2076"/>
                  </a:lnTo>
                  <a:lnTo>
                    <a:pt x="696" y="2079"/>
                  </a:lnTo>
                  <a:lnTo>
                    <a:pt x="699" y="2079"/>
                  </a:lnTo>
                  <a:lnTo>
                    <a:pt x="702" y="2079"/>
                  </a:lnTo>
                  <a:lnTo>
                    <a:pt x="704" y="2082"/>
                  </a:lnTo>
                  <a:lnTo>
                    <a:pt x="707" y="2082"/>
                  </a:lnTo>
                  <a:lnTo>
                    <a:pt x="710" y="2082"/>
                  </a:lnTo>
                  <a:lnTo>
                    <a:pt x="713" y="2084"/>
                  </a:lnTo>
                  <a:lnTo>
                    <a:pt x="715" y="2084"/>
                  </a:lnTo>
                  <a:lnTo>
                    <a:pt x="718" y="2087"/>
                  </a:lnTo>
                  <a:lnTo>
                    <a:pt x="718" y="2087"/>
                  </a:lnTo>
                  <a:lnTo>
                    <a:pt x="721" y="2087"/>
                  </a:lnTo>
                  <a:lnTo>
                    <a:pt x="724" y="2087"/>
                  </a:lnTo>
                  <a:lnTo>
                    <a:pt x="726" y="2087"/>
                  </a:lnTo>
                  <a:lnTo>
                    <a:pt x="729" y="2090"/>
                  </a:lnTo>
                  <a:lnTo>
                    <a:pt x="729" y="2090"/>
                  </a:lnTo>
                  <a:lnTo>
                    <a:pt x="732" y="2090"/>
                  </a:lnTo>
                  <a:lnTo>
                    <a:pt x="735" y="2090"/>
                  </a:lnTo>
                  <a:lnTo>
                    <a:pt x="737" y="2090"/>
                  </a:lnTo>
                  <a:lnTo>
                    <a:pt x="740" y="2090"/>
                  </a:lnTo>
                  <a:lnTo>
                    <a:pt x="743" y="2090"/>
                  </a:lnTo>
                  <a:lnTo>
                    <a:pt x="746" y="2090"/>
                  </a:lnTo>
                  <a:lnTo>
                    <a:pt x="748" y="2090"/>
                  </a:lnTo>
                  <a:lnTo>
                    <a:pt x="748" y="2087"/>
                  </a:lnTo>
                  <a:lnTo>
                    <a:pt x="751" y="208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543852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ind the rang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434960" y="1111320"/>
            <a:ext cx="6273720" cy="642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03     97    101     106      1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114800" y="5438880"/>
            <a:ext cx="2819520" cy="685800"/>
            <a:chOff x="4114800" y="5438880"/>
            <a:chExt cx="2819520" cy="685800"/>
          </a:xfrm>
        </p:grpSpPr>
        <p:sp>
          <p:nvSpPr>
            <p:cNvPr id="129" name=""/>
            <p:cNvSpPr/>
            <p:nvPr/>
          </p:nvSpPr>
          <p:spPr>
            <a:xfrm>
              <a:off x="6172200" y="5438880"/>
              <a:ext cx="533520" cy="685800"/>
            </a:xfrm>
            <a:prstGeom prst="rect">
              <a:avLst/>
            </a:prstGeom>
            <a:gradFill rotWithShape="0">
              <a:gsLst>
                <a:gs pos="0">
                  <a:srgbClr val="4d0808"/>
                </a:gs>
                <a:gs pos="5000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55152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6 – 97  =  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467480" y="4495680"/>
            <a:ext cx="1067040" cy="5205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2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157000" y="4341960"/>
            <a:ext cx="1924920" cy="910440"/>
            <a:chOff x="5157000" y="4341960"/>
            <a:chExt cx="1924920" cy="910440"/>
          </a:xfrm>
        </p:grpSpPr>
        <p:sp>
          <p:nvSpPr>
            <p:cNvPr id="133" name=""/>
            <p:cNvSpPr/>
            <p:nvPr/>
          </p:nvSpPr>
          <p:spPr>
            <a:xfrm>
              <a:off x="5165640" y="4807080"/>
              <a:ext cx="1916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42960" y="48560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3360" y="4381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9400" y="4381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09480" y="4381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5760" y="4381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7000" y="43815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2520" y="43419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97400" y="43419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4200" y="43419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44920" y="434196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57880" y="4299120"/>
            <a:ext cx="4259880" cy="953280"/>
            <a:chOff x="857880" y="4299120"/>
            <a:chExt cx="4259880" cy="953280"/>
          </a:xfrm>
        </p:grpSpPr>
        <p:sp>
          <p:nvSpPr>
            <p:cNvPr id="145" name=""/>
            <p:cNvSpPr/>
            <p:nvPr/>
          </p:nvSpPr>
          <p:spPr>
            <a:xfrm>
              <a:off x="1211400" y="4346640"/>
              <a:ext cx="144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3200" y="4346640"/>
              <a:ext cx="180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28920" y="4346640"/>
              <a:ext cx="180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91080" y="4346640"/>
              <a:ext cx="144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70000" y="4807080"/>
              <a:ext cx="3470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24920" y="48560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73400" y="4338720"/>
              <a:ext cx="498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8920" y="4338720"/>
              <a:ext cx="498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0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4338720"/>
              <a:ext cx="247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55520" y="4338720"/>
              <a:ext cx="498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1040" y="4338720"/>
              <a:ext cx="498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103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07080" y="429912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63600" y="429912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52400" y="4299120"/>
              <a:ext cx="194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7760" y="429912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7880" y="455436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54960" y="455436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76720" y="195120"/>
            <a:ext cx="2485440" cy="871560"/>
            <a:chOff x="3276720" y="195120"/>
            <a:chExt cx="2485440" cy="871560"/>
          </a:xfrm>
        </p:grpSpPr>
        <p:sp>
          <p:nvSpPr>
            <p:cNvPr id="163" name=""/>
            <p:cNvSpPr txBox="1"/>
            <p:nvPr/>
          </p:nvSpPr>
          <p:spPr>
            <a:xfrm>
              <a:off x="3276720" y="19512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914640" y="40464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5638680" y="3352680"/>
          <a:ext cx="235116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352680"/>
                    <a:ext cx="235116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257800" y="1981080"/>
          <a:ext cx="1249200" cy="107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981080"/>
                    <a:ext cx="1249200" cy="107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448000" y="166680"/>
            <a:ext cx="4245840" cy="1434600"/>
            <a:chOff x="2448000" y="166680"/>
            <a:chExt cx="4245840" cy="1434600"/>
          </a:xfrm>
        </p:grpSpPr>
        <p:sp>
          <p:nvSpPr>
            <p:cNvPr id="170" name=""/>
            <p:cNvSpPr/>
            <p:nvPr/>
          </p:nvSpPr>
          <p:spPr>
            <a:xfrm>
              <a:off x="2448000" y="27936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3040" y="16668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603240" y="1400040"/>
            <a:ext cx="199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Times New Roman"/>
              </a:rPr>
              <a:t>V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ri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133720"/>
            <a:ext cx="62481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62651" dir="8482788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arithmetic mean of the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quared 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from the arithmetic me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09880"/>
            <a:ext cx="7239240" cy="2478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79b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values are used in the calc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79b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not influenced by extreme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79b6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nits are awkward…the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quare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original uni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760" y="5881680"/>
            <a:ext cx="23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07840" y="1523880"/>
            <a:ext cx="179784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920"/>
            <a:ext cx="510552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uting the </a:t>
            </a:r>
            <a:r>
              <a:rPr b="1" lang="en-US" sz="4000" spc="-1" strike="noStrike">
                <a:solidFill>
                  <a:srgbClr val="79b600"/>
                </a:solidFill>
                <a:latin typeface="Times New Roman"/>
              </a:rPr>
              <a:t>V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ianc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102120" y="2352600"/>
          <a:ext cx="383832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2120" y="2352600"/>
                    <a:ext cx="3838320" cy="1135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79b600"/>
                    </a:outerShdw>
                  </a:effectLst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657600" y="169056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Pop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759040" y="4651200"/>
          <a:ext cx="4476960" cy="15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59040" y="4651200"/>
                    <a:ext cx="4476960" cy="1540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79b600"/>
                    </a:outerShdw>
                  </a:effectLst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676160" y="3809880"/>
            <a:ext cx="1797840" cy="581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mu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402264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 Sam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625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325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1:56:08Z</dcterms:created>
  <dc:creator>Colleen Quinn &amp; Ron Thornbury</dc:creator>
  <dc:description/>
  <dc:language>en-US</dc:language>
  <cp:lastModifiedBy>jeff_skinner</cp:lastModifiedBy>
  <dcterms:modified xsi:type="dcterms:W3CDTF">2003-04-28T14:06:35Z</dcterms:modified>
  <cp:revision>110</cp:revision>
  <dc:subject/>
  <dc:title>PowerPoint Presentation</dc:title>
</cp:coreProperties>
</file>