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png" ContentType="image/png"/>
  <Override PartName="/ppt/media/image31.wmf" ContentType="image/x-wmf"/>
  <Override PartName="/ppt/media/image22.png" ContentType="image/png"/>
  <Override PartName="/ppt/media/image24.jpeg" ContentType="image/jpeg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7.png" ContentType="image/png"/>
  <Override PartName="/ppt/media/image32.png" ContentType="image/png"/>
  <Override PartName="/ppt/media/image12.wmf" ContentType="image/x-wmf"/>
  <Override PartName="/ppt/media/image27.png" ContentType="image/png"/>
  <Override PartName="/ppt/media/image33.jpeg" ContentType="image/jpeg"/>
  <Override PartName="/ppt/media/image8.png" ContentType="image/png"/>
  <Override PartName="/ppt/media/image4.png" ContentType="image/png"/>
  <Override PartName="/ppt/media/image34.png" ContentType="image/png"/>
  <Override PartName="/ppt/media/image35.jpeg" ContentType="image/jpeg"/>
  <Override PartName="/ppt/media/image9.wmf" ContentType="image/x-wmf"/>
  <Override PartName="/ppt/media/image11.wmf" ContentType="image/x-wmf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1.png" ContentType="image/png"/>
  <Override PartName="/ppt/media/image20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19800" y="0"/>
            <a:ext cx="169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353360" y="343080"/>
            <a:ext cx="135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52280"/>
            <a:ext cx="914400" cy="712800"/>
            <a:chOff x="228600" y="152280"/>
            <a:chExt cx="914400" cy="7128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228600" y="152280"/>
              <a:ext cx="914400" cy="712800"/>
            </a:xfrm>
            <a:prstGeom prst="rect">
              <a:avLst/>
            </a:prstGeom>
            <a:ln w="0">
              <a:noFill/>
            </a:ln>
            <a:effectLst>
              <a:outerShdw dist="81185" dir="8478030" blurRad="0" rotWithShape="0">
                <a:srgbClr val="808080"/>
              </a:outerShdw>
            </a:effectLst>
          </p:spPr>
        </p:pic>
        <p:sp>
          <p:nvSpPr>
            <p:cNvPr id="4" name=""/>
            <p:cNvSpPr txBox="1"/>
            <p:nvPr/>
          </p:nvSpPr>
          <p:spPr>
            <a:xfrm>
              <a:off x="457200" y="25560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Arial Black"/>
                </a:rPr>
                <a:t>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- </a:t>
            </a:r>
            <a:fld id="{AD78BF95-7E08-4406-BDA7-00EE261ED56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457200" y="6648480"/>
            <a:ext cx="457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Copyright © 2004 by The McGraw-Hill Companies, Inc. 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24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0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mcgrawhill.ca/college/lind" TargetMode="External"/><Relationship Id="rId2" Type="http://schemas.openxmlformats.org/officeDocument/2006/relationships/hyperlink" Target="http://www.mcgrawhill.ca/college/lind" TargetMode="External"/><Relationship Id="rId3" Type="http://schemas.openxmlformats.org/officeDocument/2006/relationships/hyperlink" Target="http://www.mcgrawhill.ca/college/lind" TargetMode="External"/><Relationship Id="rId4" Type="http://schemas.openxmlformats.org/officeDocument/2006/relationships/hyperlink" Target="http://www.mcgrawhill.ca/college/lind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ind%20Cover%20Huge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614840" cy="5781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362320" y="5410080"/>
            <a:ext cx="4390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</a:rPr>
              <a:t>Chapter 6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5929" dir="7428877" blurRad="0" rotWithShape="0">
                  <a:srgbClr val="ffffcc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45" name=""/>
          <p:cNvSpPr/>
          <p:nvPr/>
        </p:nvSpPr>
        <p:spPr>
          <a:xfrm>
            <a:off x="382680" y="2895480"/>
            <a:ext cx="84103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iscrete Probability Distribu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95280" y="1447920"/>
            <a:ext cx="6553440" cy="4890960"/>
          </a:xfrm>
          <a:prstGeom prst="rect">
            <a:avLst/>
          </a:prstGeom>
          <a:ln w="0">
            <a:noFill/>
          </a:ln>
        </p:spPr>
      </p:pic>
      <p:sp>
        <p:nvSpPr>
          <p:cNvPr id="1610" name=""/>
          <p:cNvSpPr/>
          <p:nvPr/>
        </p:nvSpPr>
        <p:spPr>
          <a:xfrm>
            <a:off x="1219320" y="1905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rts the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central loc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171880" y="228600"/>
            <a:ext cx="4762440" cy="15562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ean of a 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crete                                                    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ability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2" name=""/>
          <p:cNvGraphicFramePr/>
          <p:nvPr/>
        </p:nvGraphicFramePr>
        <p:xfrm>
          <a:off x="657360" y="2057400"/>
          <a:ext cx="333360" cy="38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7360" y="2057400"/>
                    <a:ext cx="3333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4" name=""/>
          <p:cNvGraphicFramePr/>
          <p:nvPr/>
        </p:nvGraphicFramePr>
        <p:xfrm>
          <a:off x="685800" y="4572000"/>
          <a:ext cx="33336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4572000"/>
                    <a:ext cx="3333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6" name=""/>
          <p:cNvSpPr/>
          <p:nvPr/>
        </p:nvSpPr>
        <p:spPr>
          <a:xfrm>
            <a:off x="914400" y="3352680"/>
            <a:ext cx="457200" cy="38124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905120" y="5638680"/>
            <a:ext cx="304560" cy="3049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762120" y="6248520"/>
            <a:ext cx="7467120" cy="304200"/>
            <a:chOff x="762120" y="6248520"/>
            <a:chExt cx="7467120" cy="304200"/>
          </a:xfrm>
        </p:grpSpPr>
        <p:sp>
          <p:nvSpPr>
            <p:cNvPr id="1619" name=""/>
            <p:cNvSpPr/>
            <p:nvPr/>
          </p:nvSpPr>
          <p:spPr>
            <a:xfrm>
              <a:off x="762120" y="6326280"/>
              <a:ext cx="7467120" cy="781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0" name="YELLOW" descr=""/>
            <p:cNvPicPr/>
            <p:nvPr/>
          </p:nvPicPr>
          <p:blipFill>
            <a:blip r:embed="rId7"/>
            <a:stretch/>
          </p:blipFill>
          <p:spPr>
            <a:xfrm>
              <a:off x="4401360" y="6248520"/>
              <a:ext cx="399960" cy="30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1" name=""/>
          <p:cNvSpPr/>
          <p:nvPr/>
        </p:nvSpPr>
        <p:spPr>
          <a:xfrm>
            <a:off x="1447920" y="327672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long-run average val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the random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990720" y="4419720"/>
            <a:ext cx="789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so referred to as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ts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expected val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E(X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a probability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588040" y="5486400"/>
            <a:ext cx="37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weighted 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85800" y="254484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denoted by the Greek symbol </a:t>
            </a:r>
            <a:r>
              <a:rPr b="1" lang="en-US" sz="3200" spc="-1" strike="noStrike">
                <a:solidFill>
                  <a:srgbClr val="ff66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5" name=""/>
          <p:cNvGrpSpPr/>
          <p:nvPr/>
        </p:nvGrpSpPr>
        <p:grpSpPr>
          <a:xfrm>
            <a:off x="6858000" y="2362320"/>
            <a:ext cx="1676520" cy="4343400"/>
            <a:chOff x="6858000" y="2362320"/>
            <a:chExt cx="1676520" cy="4343400"/>
          </a:xfrm>
        </p:grpSpPr>
        <p:grpSp>
          <p:nvGrpSpPr>
            <p:cNvPr id="1626" name=""/>
            <p:cNvGrpSpPr/>
            <p:nvPr/>
          </p:nvGrpSpPr>
          <p:grpSpPr>
            <a:xfrm>
              <a:off x="6858000" y="2362320"/>
              <a:ext cx="1676520" cy="4343400"/>
              <a:chOff x="6858000" y="2362320"/>
              <a:chExt cx="1676520" cy="4343400"/>
            </a:xfrm>
          </p:grpSpPr>
          <p:grpSp>
            <p:nvGrpSpPr>
              <p:cNvPr id="1627" name=""/>
              <p:cNvGrpSpPr/>
              <p:nvPr/>
            </p:nvGrpSpPr>
            <p:grpSpPr>
              <a:xfrm>
                <a:off x="6858000" y="2362320"/>
                <a:ext cx="1676520" cy="4343400"/>
                <a:chOff x="6858000" y="2362320"/>
                <a:chExt cx="1676520" cy="434340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6858000" y="2362320"/>
                  <a:ext cx="1676520" cy="4343400"/>
                </a:xfrm>
                <a:prstGeom prst="rect">
                  <a:avLst/>
                </a:prstGeom>
                <a:solidFill>
                  <a:srgbClr val="fcf3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6934320" y="2514600"/>
                  <a:ext cx="1447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3600" spc="-1" strike="noStrike">
                      <a:solidFill>
                        <a:srgbClr val="ff3300"/>
                      </a:solidFill>
                      <a:latin typeface="Times New Roman"/>
                    </a:rPr>
                    <a:t>x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P(</a:t>
                  </a:r>
                  <a:r>
                    <a:rPr b="1" lang="en-US" sz="3600" spc="-1" strike="noStrike">
                      <a:solidFill>
                        <a:srgbClr val="ff3300"/>
                      </a:solidFill>
                      <a:latin typeface="Times New Roman"/>
                    </a:rPr>
                    <a:t>x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0" name=""/>
              <p:cNvSpPr/>
              <p:nvPr/>
            </p:nvSpPr>
            <p:spPr>
              <a:xfrm>
                <a:off x="6858000" y="320040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1" name=""/>
            <p:cNvSpPr/>
            <p:nvPr/>
          </p:nvSpPr>
          <p:spPr>
            <a:xfrm>
              <a:off x="6934320" y="571500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2" name=""/>
          <p:cNvSpPr/>
          <p:nvPr/>
        </p:nvSpPr>
        <p:spPr>
          <a:xfrm>
            <a:off x="2171880" y="152280"/>
            <a:ext cx="4762440" cy="15562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ean of a 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crete                                                    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ability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228600" y="1523880"/>
            <a:ext cx="2486160" cy="871560"/>
            <a:chOff x="228600" y="1523880"/>
            <a:chExt cx="2486160" cy="871560"/>
          </a:xfrm>
        </p:grpSpPr>
        <p:sp>
          <p:nvSpPr>
            <p:cNvPr id="1634" name=""/>
            <p:cNvSpPr txBox="1"/>
            <p:nvPr/>
          </p:nvSpPr>
          <p:spPr>
            <a:xfrm>
              <a:off x="228600" y="152388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35" name=""/>
            <p:cNvSpPr txBox="1"/>
            <p:nvPr/>
          </p:nvSpPr>
          <p:spPr>
            <a:xfrm>
              <a:off x="866880" y="1733400"/>
              <a:ext cx="18478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304920" y="4038480"/>
            <a:ext cx="3727440" cy="8780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e the number of head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130320" y="2514600"/>
            <a:ext cx="4213080" cy="1328760"/>
            <a:chOff x="130320" y="2514600"/>
            <a:chExt cx="4213080" cy="1328760"/>
          </a:xfrm>
        </p:grpSpPr>
        <p:grpSp>
          <p:nvGrpSpPr>
            <p:cNvPr id="1638" name=""/>
            <p:cNvGrpSpPr/>
            <p:nvPr/>
          </p:nvGrpSpPr>
          <p:grpSpPr>
            <a:xfrm>
              <a:off x="1060560" y="2514600"/>
              <a:ext cx="1682640" cy="1328760"/>
              <a:chOff x="1060560" y="2514600"/>
              <a:chExt cx="1682640" cy="1328760"/>
            </a:xfrm>
          </p:grpSpPr>
          <p:sp>
            <p:nvSpPr>
              <p:cNvPr id="1639" name=""/>
              <p:cNvSpPr/>
              <p:nvPr/>
            </p:nvSpPr>
            <p:spPr>
              <a:xfrm>
                <a:off x="1185840" y="2521080"/>
                <a:ext cx="1557360" cy="1176480"/>
              </a:xfrm>
              <a:custGeom>
                <a:avLst/>
                <a:gdLst/>
                <a:ahLst/>
                <a:rect l="l" t="t" r="r" b="b"/>
                <a:pathLst>
                  <a:path w="981" h="741">
                    <a:moveTo>
                      <a:pt x="17" y="741"/>
                    </a:moveTo>
                    <a:lnTo>
                      <a:pt x="28" y="737"/>
                    </a:lnTo>
                    <a:lnTo>
                      <a:pt x="39" y="737"/>
                    </a:lnTo>
                    <a:lnTo>
                      <a:pt x="45" y="733"/>
                    </a:lnTo>
                    <a:lnTo>
                      <a:pt x="56" y="729"/>
                    </a:lnTo>
                    <a:lnTo>
                      <a:pt x="67" y="729"/>
                    </a:lnTo>
                    <a:lnTo>
                      <a:pt x="78" y="729"/>
                    </a:lnTo>
                    <a:lnTo>
                      <a:pt x="90" y="725"/>
                    </a:lnTo>
                    <a:lnTo>
                      <a:pt x="101" y="725"/>
                    </a:lnTo>
                    <a:lnTo>
                      <a:pt x="118" y="725"/>
                    </a:lnTo>
                    <a:lnTo>
                      <a:pt x="135" y="725"/>
                    </a:lnTo>
                    <a:lnTo>
                      <a:pt x="151" y="725"/>
                    </a:lnTo>
                    <a:lnTo>
                      <a:pt x="168" y="725"/>
                    </a:lnTo>
                    <a:lnTo>
                      <a:pt x="185" y="725"/>
                    </a:lnTo>
                    <a:lnTo>
                      <a:pt x="202" y="725"/>
                    </a:lnTo>
                    <a:lnTo>
                      <a:pt x="219" y="725"/>
                    </a:lnTo>
                    <a:lnTo>
                      <a:pt x="235" y="725"/>
                    </a:lnTo>
                    <a:lnTo>
                      <a:pt x="252" y="725"/>
                    </a:lnTo>
                    <a:lnTo>
                      <a:pt x="269" y="729"/>
                    </a:lnTo>
                    <a:lnTo>
                      <a:pt x="286" y="729"/>
                    </a:lnTo>
                    <a:lnTo>
                      <a:pt x="303" y="729"/>
                    </a:lnTo>
                    <a:lnTo>
                      <a:pt x="320" y="729"/>
                    </a:lnTo>
                    <a:lnTo>
                      <a:pt x="336" y="729"/>
                    </a:lnTo>
                    <a:lnTo>
                      <a:pt x="353" y="729"/>
                    </a:lnTo>
                    <a:lnTo>
                      <a:pt x="370" y="725"/>
                    </a:lnTo>
                    <a:lnTo>
                      <a:pt x="376" y="725"/>
                    </a:lnTo>
                    <a:lnTo>
                      <a:pt x="387" y="725"/>
                    </a:lnTo>
                    <a:lnTo>
                      <a:pt x="398" y="725"/>
                    </a:lnTo>
                    <a:lnTo>
                      <a:pt x="404" y="725"/>
                    </a:lnTo>
                    <a:lnTo>
                      <a:pt x="415" y="721"/>
                    </a:lnTo>
                    <a:lnTo>
                      <a:pt x="426" y="721"/>
                    </a:lnTo>
                    <a:lnTo>
                      <a:pt x="432" y="721"/>
                    </a:lnTo>
                    <a:lnTo>
                      <a:pt x="443" y="721"/>
                    </a:lnTo>
                    <a:lnTo>
                      <a:pt x="454" y="721"/>
                    </a:lnTo>
                    <a:lnTo>
                      <a:pt x="460" y="717"/>
                    </a:lnTo>
                    <a:lnTo>
                      <a:pt x="471" y="717"/>
                    </a:lnTo>
                    <a:lnTo>
                      <a:pt x="477" y="717"/>
                    </a:lnTo>
                    <a:lnTo>
                      <a:pt x="488" y="717"/>
                    </a:lnTo>
                    <a:lnTo>
                      <a:pt x="499" y="717"/>
                    </a:lnTo>
                    <a:lnTo>
                      <a:pt x="505" y="713"/>
                    </a:lnTo>
                    <a:lnTo>
                      <a:pt x="516" y="713"/>
                    </a:lnTo>
                    <a:lnTo>
                      <a:pt x="527" y="713"/>
                    </a:lnTo>
                    <a:lnTo>
                      <a:pt x="533" y="709"/>
                    </a:lnTo>
                    <a:lnTo>
                      <a:pt x="544" y="709"/>
                    </a:lnTo>
                    <a:lnTo>
                      <a:pt x="555" y="705"/>
                    </a:lnTo>
                    <a:lnTo>
                      <a:pt x="561" y="705"/>
                    </a:lnTo>
                    <a:lnTo>
                      <a:pt x="566" y="701"/>
                    </a:lnTo>
                    <a:lnTo>
                      <a:pt x="578" y="697"/>
                    </a:lnTo>
                    <a:lnTo>
                      <a:pt x="583" y="690"/>
                    </a:lnTo>
                    <a:lnTo>
                      <a:pt x="583" y="693"/>
                    </a:lnTo>
                    <a:lnTo>
                      <a:pt x="589" y="693"/>
                    </a:lnTo>
                    <a:lnTo>
                      <a:pt x="589" y="693"/>
                    </a:lnTo>
                    <a:lnTo>
                      <a:pt x="594" y="693"/>
                    </a:lnTo>
                    <a:lnTo>
                      <a:pt x="600" y="693"/>
                    </a:lnTo>
                    <a:lnTo>
                      <a:pt x="606" y="693"/>
                    </a:lnTo>
                    <a:lnTo>
                      <a:pt x="611" y="693"/>
                    </a:lnTo>
                    <a:lnTo>
                      <a:pt x="617" y="690"/>
                    </a:lnTo>
                    <a:lnTo>
                      <a:pt x="628" y="690"/>
                    </a:lnTo>
                    <a:lnTo>
                      <a:pt x="634" y="690"/>
                    </a:lnTo>
                    <a:lnTo>
                      <a:pt x="639" y="690"/>
                    </a:lnTo>
                    <a:lnTo>
                      <a:pt x="645" y="690"/>
                    </a:lnTo>
                    <a:lnTo>
                      <a:pt x="656" y="686"/>
                    </a:lnTo>
                    <a:lnTo>
                      <a:pt x="667" y="686"/>
                    </a:lnTo>
                    <a:lnTo>
                      <a:pt x="679" y="686"/>
                    </a:lnTo>
                    <a:lnTo>
                      <a:pt x="684" y="690"/>
                    </a:lnTo>
                    <a:lnTo>
                      <a:pt x="695" y="690"/>
                    </a:lnTo>
                    <a:lnTo>
                      <a:pt x="707" y="690"/>
                    </a:lnTo>
                    <a:lnTo>
                      <a:pt x="718" y="690"/>
                    </a:lnTo>
                    <a:lnTo>
                      <a:pt x="729" y="690"/>
                    </a:lnTo>
                    <a:lnTo>
                      <a:pt x="735" y="690"/>
                    </a:lnTo>
                    <a:lnTo>
                      <a:pt x="746" y="690"/>
                    </a:lnTo>
                    <a:lnTo>
                      <a:pt x="757" y="690"/>
                    </a:lnTo>
                    <a:lnTo>
                      <a:pt x="768" y="690"/>
                    </a:lnTo>
                    <a:lnTo>
                      <a:pt x="779" y="686"/>
                    </a:lnTo>
                    <a:lnTo>
                      <a:pt x="785" y="686"/>
                    </a:lnTo>
                    <a:lnTo>
                      <a:pt x="796" y="686"/>
                    </a:lnTo>
                    <a:lnTo>
                      <a:pt x="808" y="682"/>
                    </a:lnTo>
                    <a:lnTo>
                      <a:pt x="819" y="678"/>
                    </a:lnTo>
                    <a:lnTo>
                      <a:pt x="830" y="670"/>
                    </a:lnTo>
                    <a:lnTo>
                      <a:pt x="836" y="662"/>
                    </a:lnTo>
                    <a:lnTo>
                      <a:pt x="836" y="650"/>
                    </a:lnTo>
                    <a:lnTo>
                      <a:pt x="836" y="642"/>
                    </a:lnTo>
                    <a:lnTo>
                      <a:pt x="836" y="630"/>
                    </a:lnTo>
                    <a:lnTo>
                      <a:pt x="830" y="618"/>
                    </a:lnTo>
                    <a:lnTo>
                      <a:pt x="824" y="610"/>
                    </a:lnTo>
                    <a:lnTo>
                      <a:pt x="841" y="610"/>
                    </a:lnTo>
                    <a:lnTo>
                      <a:pt x="852" y="610"/>
                    </a:lnTo>
                    <a:lnTo>
                      <a:pt x="869" y="606"/>
                    </a:lnTo>
                    <a:lnTo>
                      <a:pt x="880" y="602"/>
                    </a:lnTo>
                    <a:lnTo>
                      <a:pt x="897" y="598"/>
                    </a:lnTo>
                    <a:lnTo>
                      <a:pt x="908" y="590"/>
                    </a:lnTo>
                    <a:lnTo>
                      <a:pt x="914" y="582"/>
                    </a:lnTo>
                    <a:lnTo>
                      <a:pt x="925" y="574"/>
                    </a:lnTo>
                    <a:lnTo>
                      <a:pt x="925" y="562"/>
                    </a:lnTo>
                    <a:lnTo>
                      <a:pt x="931" y="554"/>
                    </a:lnTo>
                    <a:lnTo>
                      <a:pt x="925" y="542"/>
                    </a:lnTo>
                    <a:lnTo>
                      <a:pt x="920" y="534"/>
                    </a:lnTo>
                    <a:lnTo>
                      <a:pt x="914" y="522"/>
                    </a:lnTo>
                    <a:lnTo>
                      <a:pt x="903" y="518"/>
                    </a:lnTo>
                    <a:lnTo>
                      <a:pt x="892" y="510"/>
                    </a:lnTo>
                    <a:lnTo>
                      <a:pt x="875" y="506"/>
                    </a:lnTo>
                    <a:lnTo>
                      <a:pt x="886" y="506"/>
                    </a:lnTo>
                    <a:lnTo>
                      <a:pt x="897" y="506"/>
                    </a:lnTo>
                    <a:lnTo>
                      <a:pt x="914" y="506"/>
                    </a:lnTo>
                    <a:lnTo>
                      <a:pt x="925" y="506"/>
                    </a:lnTo>
                    <a:lnTo>
                      <a:pt x="937" y="502"/>
                    </a:lnTo>
                    <a:lnTo>
                      <a:pt x="942" y="498"/>
                    </a:lnTo>
                    <a:lnTo>
                      <a:pt x="953" y="494"/>
                    </a:lnTo>
                    <a:lnTo>
                      <a:pt x="959" y="490"/>
                    </a:lnTo>
                    <a:lnTo>
                      <a:pt x="970" y="474"/>
                    </a:lnTo>
                    <a:lnTo>
                      <a:pt x="976" y="462"/>
                    </a:lnTo>
                    <a:lnTo>
                      <a:pt x="976" y="446"/>
                    </a:lnTo>
                    <a:lnTo>
                      <a:pt x="970" y="430"/>
                    </a:lnTo>
                    <a:lnTo>
                      <a:pt x="970" y="426"/>
                    </a:lnTo>
                    <a:lnTo>
                      <a:pt x="965" y="426"/>
                    </a:lnTo>
                    <a:lnTo>
                      <a:pt x="965" y="422"/>
                    </a:lnTo>
                    <a:lnTo>
                      <a:pt x="959" y="418"/>
                    </a:lnTo>
                    <a:lnTo>
                      <a:pt x="959" y="414"/>
                    </a:lnTo>
                    <a:lnTo>
                      <a:pt x="953" y="414"/>
                    </a:lnTo>
                    <a:lnTo>
                      <a:pt x="953" y="411"/>
                    </a:lnTo>
                    <a:lnTo>
                      <a:pt x="948" y="407"/>
                    </a:lnTo>
                    <a:lnTo>
                      <a:pt x="942" y="407"/>
                    </a:lnTo>
                    <a:lnTo>
                      <a:pt x="942" y="407"/>
                    </a:lnTo>
                    <a:lnTo>
                      <a:pt x="937" y="403"/>
                    </a:lnTo>
                    <a:lnTo>
                      <a:pt x="931" y="403"/>
                    </a:lnTo>
                    <a:lnTo>
                      <a:pt x="925" y="403"/>
                    </a:lnTo>
                    <a:lnTo>
                      <a:pt x="920" y="403"/>
                    </a:lnTo>
                    <a:lnTo>
                      <a:pt x="914" y="403"/>
                    </a:lnTo>
                    <a:lnTo>
                      <a:pt x="908" y="403"/>
                    </a:lnTo>
                    <a:lnTo>
                      <a:pt x="925" y="399"/>
                    </a:lnTo>
                    <a:lnTo>
                      <a:pt x="942" y="395"/>
                    </a:lnTo>
                    <a:lnTo>
                      <a:pt x="953" y="387"/>
                    </a:lnTo>
                    <a:lnTo>
                      <a:pt x="965" y="379"/>
                    </a:lnTo>
                    <a:lnTo>
                      <a:pt x="970" y="371"/>
                    </a:lnTo>
                    <a:lnTo>
                      <a:pt x="976" y="363"/>
                    </a:lnTo>
                    <a:lnTo>
                      <a:pt x="981" y="351"/>
                    </a:lnTo>
                    <a:lnTo>
                      <a:pt x="976" y="339"/>
                    </a:lnTo>
                    <a:lnTo>
                      <a:pt x="976" y="327"/>
                    </a:lnTo>
                    <a:lnTo>
                      <a:pt x="965" y="315"/>
                    </a:lnTo>
                    <a:lnTo>
                      <a:pt x="959" y="303"/>
                    </a:lnTo>
                    <a:lnTo>
                      <a:pt x="948" y="291"/>
                    </a:lnTo>
                    <a:lnTo>
                      <a:pt x="931" y="283"/>
                    </a:lnTo>
                    <a:lnTo>
                      <a:pt x="920" y="275"/>
                    </a:lnTo>
                    <a:lnTo>
                      <a:pt x="903" y="271"/>
                    </a:lnTo>
                    <a:lnTo>
                      <a:pt x="880" y="267"/>
                    </a:lnTo>
                    <a:lnTo>
                      <a:pt x="869" y="267"/>
                    </a:lnTo>
                    <a:lnTo>
                      <a:pt x="858" y="267"/>
                    </a:lnTo>
                    <a:lnTo>
                      <a:pt x="841" y="267"/>
                    </a:lnTo>
                    <a:lnTo>
                      <a:pt x="830" y="267"/>
                    </a:lnTo>
                    <a:lnTo>
                      <a:pt x="819" y="267"/>
                    </a:lnTo>
                    <a:lnTo>
                      <a:pt x="802" y="263"/>
                    </a:lnTo>
                    <a:lnTo>
                      <a:pt x="791" y="263"/>
                    </a:lnTo>
                    <a:lnTo>
                      <a:pt x="779" y="263"/>
                    </a:lnTo>
                    <a:lnTo>
                      <a:pt x="763" y="263"/>
                    </a:lnTo>
                    <a:lnTo>
                      <a:pt x="751" y="263"/>
                    </a:lnTo>
                    <a:lnTo>
                      <a:pt x="740" y="263"/>
                    </a:lnTo>
                    <a:lnTo>
                      <a:pt x="723" y="267"/>
                    </a:lnTo>
                    <a:lnTo>
                      <a:pt x="712" y="267"/>
                    </a:lnTo>
                    <a:lnTo>
                      <a:pt x="701" y="267"/>
                    </a:lnTo>
                    <a:lnTo>
                      <a:pt x="690" y="271"/>
                    </a:lnTo>
                    <a:lnTo>
                      <a:pt x="673" y="275"/>
                    </a:lnTo>
                    <a:lnTo>
                      <a:pt x="673" y="275"/>
                    </a:lnTo>
                    <a:lnTo>
                      <a:pt x="667" y="275"/>
                    </a:lnTo>
                    <a:lnTo>
                      <a:pt x="667" y="279"/>
                    </a:lnTo>
                    <a:lnTo>
                      <a:pt x="662" y="283"/>
                    </a:lnTo>
                    <a:lnTo>
                      <a:pt x="667" y="279"/>
                    </a:lnTo>
                    <a:lnTo>
                      <a:pt x="667" y="279"/>
                    </a:lnTo>
                    <a:lnTo>
                      <a:pt x="667" y="275"/>
                    </a:lnTo>
                    <a:lnTo>
                      <a:pt x="667" y="275"/>
                    </a:lnTo>
                    <a:lnTo>
                      <a:pt x="656" y="271"/>
                    </a:lnTo>
                    <a:lnTo>
                      <a:pt x="645" y="271"/>
                    </a:lnTo>
                    <a:lnTo>
                      <a:pt x="628" y="271"/>
                    </a:lnTo>
                    <a:lnTo>
                      <a:pt x="617" y="267"/>
                    </a:lnTo>
                    <a:lnTo>
                      <a:pt x="606" y="267"/>
                    </a:lnTo>
                    <a:lnTo>
                      <a:pt x="594" y="271"/>
                    </a:lnTo>
                    <a:lnTo>
                      <a:pt x="583" y="271"/>
                    </a:lnTo>
                    <a:lnTo>
                      <a:pt x="566" y="271"/>
                    </a:lnTo>
                    <a:lnTo>
                      <a:pt x="555" y="271"/>
                    </a:lnTo>
                    <a:lnTo>
                      <a:pt x="544" y="275"/>
                    </a:lnTo>
                    <a:lnTo>
                      <a:pt x="533" y="275"/>
                    </a:lnTo>
                    <a:lnTo>
                      <a:pt x="521" y="275"/>
                    </a:lnTo>
                    <a:lnTo>
                      <a:pt x="505" y="275"/>
                    </a:lnTo>
                    <a:lnTo>
                      <a:pt x="493" y="279"/>
                    </a:lnTo>
                    <a:lnTo>
                      <a:pt x="482" y="279"/>
                    </a:lnTo>
                    <a:lnTo>
                      <a:pt x="465" y="279"/>
                    </a:lnTo>
                    <a:lnTo>
                      <a:pt x="465" y="279"/>
                    </a:lnTo>
                    <a:lnTo>
                      <a:pt x="471" y="279"/>
                    </a:lnTo>
                    <a:lnTo>
                      <a:pt x="471" y="279"/>
                    </a:lnTo>
                    <a:lnTo>
                      <a:pt x="471" y="279"/>
                    </a:lnTo>
                    <a:lnTo>
                      <a:pt x="471" y="271"/>
                    </a:lnTo>
                    <a:lnTo>
                      <a:pt x="465" y="263"/>
                    </a:lnTo>
                    <a:lnTo>
                      <a:pt x="465" y="255"/>
                    </a:lnTo>
                    <a:lnTo>
                      <a:pt x="460" y="251"/>
                    </a:lnTo>
                    <a:lnTo>
                      <a:pt x="471" y="243"/>
                    </a:lnTo>
                    <a:lnTo>
                      <a:pt x="482" y="235"/>
                    </a:lnTo>
                    <a:lnTo>
                      <a:pt x="493" y="223"/>
                    </a:lnTo>
                    <a:lnTo>
                      <a:pt x="505" y="215"/>
                    </a:lnTo>
                    <a:lnTo>
                      <a:pt x="516" y="207"/>
                    </a:lnTo>
                    <a:lnTo>
                      <a:pt x="521" y="195"/>
                    </a:lnTo>
                    <a:lnTo>
                      <a:pt x="533" y="183"/>
                    </a:lnTo>
                    <a:lnTo>
                      <a:pt x="538" y="171"/>
                    </a:lnTo>
                    <a:lnTo>
                      <a:pt x="544" y="167"/>
                    </a:lnTo>
                    <a:lnTo>
                      <a:pt x="544" y="163"/>
                    </a:lnTo>
                    <a:lnTo>
                      <a:pt x="550" y="155"/>
                    </a:lnTo>
                    <a:lnTo>
                      <a:pt x="544" y="151"/>
                    </a:lnTo>
                    <a:lnTo>
                      <a:pt x="544" y="151"/>
                    </a:lnTo>
                    <a:lnTo>
                      <a:pt x="544" y="151"/>
                    </a:lnTo>
                    <a:lnTo>
                      <a:pt x="544" y="151"/>
                    </a:lnTo>
                    <a:lnTo>
                      <a:pt x="550" y="151"/>
                    </a:lnTo>
                    <a:lnTo>
                      <a:pt x="555" y="143"/>
                    </a:lnTo>
                    <a:lnTo>
                      <a:pt x="561" y="135"/>
                    </a:lnTo>
                    <a:lnTo>
                      <a:pt x="566" y="128"/>
                    </a:lnTo>
                    <a:lnTo>
                      <a:pt x="572" y="116"/>
                    </a:lnTo>
                    <a:lnTo>
                      <a:pt x="572" y="108"/>
                    </a:lnTo>
                    <a:lnTo>
                      <a:pt x="572" y="100"/>
                    </a:lnTo>
                    <a:lnTo>
                      <a:pt x="572" y="88"/>
                    </a:lnTo>
                    <a:lnTo>
                      <a:pt x="572" y="80"/>
                    </a:lnTo>
                    <a:lnTo>
                      <a:pt x="572" y="68"/>
                    </a:lnTo>
                    <a:lnTo>
                      <a:pt x="572" y="60"/>
                    </a:lnTo>
                    <a:lnTo>
                      <a:pt x="566" y="48"/>
                    </a:lnTo>
                    <a:lnTo>
                      <a:pt x="566" y="40"/>
                    </a:lnTo>
                    <a:lnTo>
                      <a:pt x="561" y="28"/>
                    </a:lnTo>
                    <a:lnTo>
                      <a:pt x="555" y="20"/>
                    </a:lnTo>
                    <a:lnTo>
                      <a:pt x="544" y="12"/>
                    </a:lnTo>
                    <a:lnTo>
                      <a:pt x="533" y="4"/>
                    </a:lnTo>
                    <a:lnTo>
                      <a:pt x="527" y="0"/>
                    </a:lnTo>
                    <a:lnTo>
                      <a:pt x="521" y="0"/>
                    </a:lnTo>
                    <a:lnTo>
                      <a:pt x="510" y="0"/>
                    </a:lnTo>
                    <a:lnTo>
                      <a:pt x="505" y="0"/>
                    </a:lnTo>
                    <a:lnTo>
                      <a:pt x="499" y="4"/>
                    </a:lnTo>
                    <a:lnTo>
                      <a:pt x="493" y="4"/>
                    </a:lnTo>
                    <a:lnTo>
                      <a:pt x="488" y="8"/>
                    </a:lnTo>
                    <a:lnTo>
                      <a:pt x="482" y="12"/>
                    </a:lnTo>
                    <a:lnTo>
                      <a:pt x="482" y="16"/>
                    </a:lnTo>
                    <a:lnTo>
                      <a:pt x="482" y="16"/>
                    </a:lnTo>
                    <a:lnTo>
                      <a:pt x="482" y="16"/>
                    </a:lnTo>
                    <a:lnTo>
                      <a:pt x="482" y="16"/>
                    </a:lnTo>
                    <a:lnTo>
                      <a:pt x="482" y="24"/>
                    </a:lnTo>
                    <a:lnTo>
                      <a:pt x="477" y="32"/>
                    </a:lnTo>
                    <a:lnTo>
                      <a:pt x="471" y="40"/>
                    </a:lnTo>
                    <a:lnTo>
                      <a:pt x="465" y="52"/>
                    </a:lnTo>
                    <a:lnTo>
                      <a:pt x="460" y="60"/>
                    </a:lnTo>
                    <a:lnTo>
                      <a:pt x="454" y="68"/>
                    </a:lnTo>
                    <a:lnTo>
                      <a:pt x="443" y="76"/>
                    </a:lnTo>
                    <a:lnTo>
                      <a:pt x="437" y="84"/>
                    </a:lnTo>
                    <a:lnTo>
                      <a:pt x="432" y="88"/>
                    </a:lnTo>
                    <a:lnTo>
                      <a:pt x="426" y="96"/>
                    </a:lnTo>
                    <a:lnTo>
                      <a:pt x="421" y="100"/>
                    </a:lnTo>
                    <a:lnTo>
                      <a:pt x="415" y="108"/>
                    </a:lnTo>
                    <a:lnTo>
                      <a:pt x="409" y="112"/>
                    </a:lnTo>
                    <a:lnTo>
                      <a:pt x="398" y="120"/>
                    </a:lnTo>
                    <a:lnTo>
                      <a:pt x="393" y="124"/>
                    </a:lnTo>
                    <a:lnTo>
                      <a:pt x="387" y="132"/>
                    </a:lnTo>
                    <a:lnTo>
                      <a:pt x="387" y="132"/>
                    </a:lnTo>
                    <a:lnTo>
                      <a:pt x="387" y="132"/>
                    </a:lnTo>
                    <a:lnTo>
                      <a:pt x="387" y="132"/>
                    </a:lnTo>
                    <a:lnTo>
                      <a:pt x="387" y="132"/>
                    </a:lnTo>
                    <a:lnTo>
                      <a:pt x="381" y="139"/>
                    </a:lnTo>
                    <a:lnTo>
                      <a:pt x="376" y="147"/>
                    </a:lnTo>
                    <a:lnTo>
                      <a:pt x="370" y="155"/>
                    </a:lnTo>
                    <a:lnTo>
                      <a:pt x="370" y="163"/>
                    </a:lnTo>
                    <a:lnTo>
                      <a:pt x="370" y="163"/>
                    </a:lnTo>
                    <a:lnTo>
                      <a:pt x="364" y="163"/>
                    </a:lnTo>
                    <a:lnTo>
                      <a:pt x="364" y="167"/>
                    </a:lnTo>
                    <a:lnTo>
                      <a:pt x="364" y="167"/>
                    </a:lnTo>
                    <a:lnTo>
                      <a:pt x="359" y="171"/>
                    </a:lnTo>
                    <a:lnTo>
                      <a:pt x="353" y="175"/>
                    </a:lnTo>
                    <a:lnTo>
                      <a:pt x="353" y="179"/>
                    </a:lnTo>
                    <a:lnTo>
                      <a:pt x="348" y="183"/>
                    </a:lnTo>
                    <a:lnTo>
                      <a:pt x="342" y="187"/>
                    </a:lnTo>
                    <a:lnTo>
                      <a:pt x="342" y="191"/>
                    </a:lnTo>
                    <a:lnTo>
                      <a:pt x="336" y="195"/>
                    </a:lnTo>
                    <a:lnTo>
                      <a:pt x="331" y="199"/>
                    </a:lnTo>
                    <a:lnTo>
                      <a:pt x="325" y="203"/>
                    </a:lnTo>
                    <a:lnTo>
                      <a:pt x="320" y="207"/>
                    </a:lnTo>
                    <a:lnTo>
                      <a:pt x="314" y="211"/>
                    </a:lnTo>
                    <a:lnTo>
                      <a:pt x="308" y="215"/>
                    </a:lnTo>
                    <a:lnTo>
                      <a:pt x="303" y="219"/>
                    </a:lnTo>
                    <a:lnTo>
                      <a:pt x="297" y="223"/>
                    </a:lnTo>
                    <a:lnTo>
                      <a:pt x="297" y="227"/>
                    </a:lnTo>
                    <a:lnTo>
                      <a:pt x="292" y="231"/>
                    </a:lnTo>
                    <a:lnTo>
                      <a:pt x="286" y="231"/>
                    </a:lnTo>
                    <a:lnTo>
                      <a:pt x="280" y="239"/>
                    </a:lnTo>
                    <a:lnTo>
                      <a:pt x="280" y="243"/>
                    </a:lnTo>
                    <a:lnTo>
                      <a:pt x="275" y="247"/>
                    </a:lnTo>
                    <a:lnTo>
                      <a:pt x="258" y="263"/>
                    </a:lnTo>
                    <a:lnTo>
                      <a:pt x="247" y="279"/>
                    </a:lnTo>
                    <a:lnTo>
                      <a:pt x="235" y="295"/>
                    </a:lnTo>
                    <a:lnTo>
                      <a:pt x="230" y="315"/>
                    </a:lnTo>
                    <a:lnTo>
                      <a:pt x="219" y="331"/>
                    </a:lnTo>
                    <a:lnTo>
                      <a:pt x="213" y="347"/>
                    </a:lnTo>
                    <a:lnTo>
                      <a:pt x="202" y="367"/>
                    </a:lnTo>
                    <a:lnTo>
                      <a:pt x="191" y="383"/>
                    </a:lnTo>
                    <a:lnTo>
                      <a:pt x="179" y="391"/>
                    </a:lnTo>
                    <a:lnTo>
                      <a:pt x="174" y="399"/>
                    </a:lnTo>
                    <a:lnTo>
                      <a:pt x="168" y="403"/>
                    </a:lnTo>
                    <a:lnTo>
                      <a:pt x="157" y="411"/>
                    </a:lnTo>
                    <a:lnTo>
                      <a:pt x="151" y="414"/>
                    </a:lnTo>
                    <a:lnTo>
                      <a:pt x="140" y="422"/>
                    </a:lnTo>
                    <a:lnTo>
                      <a:pt x="135" y="426"/>
                    </a:lnTo>
                    <a:lnTo>
                      <a:pt x="123" y="430"/>
                    </a:lnTo>
                    <a:lnTo>
                      <a:pt x="112" y="430"/>
                    </a:lnTo>
                    <a:lnTo>
                      <a:pt x="106" y="434"/>
                    </a:lnTo>
                    <a:lnTo>
                      <a:pt x="101" y="434"/>
                    </a:lnTo>
                    <a:lnTo>
                      <a:pt x="90" y="434"/>
                    </a:lnTo>
                    <a:lnTo>
                      <a:pt x="84" y="438"/>
                    </a:lnTo>
                    <a:lnTo>
                      <a:pt x="73" y="438"/>
                    </a:lnTo>
                    <a:lnTo>
                      <a:pt x="67" y="438"/>
                    </a:lnTo>
                    <a:lnTo>
                      <a:pt x="62" y="438"/>
                    </a:lnTo>
                    <a:lnTo>
                      <a:pt x="50" y="438"/>
                    </a:lnTo>
                    <a:lnTo>
                      <a:pt x="45" y="438"/>
                    </a:lnTo>
                    <a:lnTo>
                      <a:pt x="34" y="438"/>
                    </a:lnTo>
                    <a:lnTo>
                      <a:pt x="28" y="442"/>
                    </a:lnTo>
                    <a:lnTo>
                      <a:pt x="22" y="442"/>
                    </a:lnTo>
                    <a:lnTo>
                      <a:pt x="11" y="442"/>
                    </a:lnTo>
                    <a:lnTo>
                      <a:pt x="6" y="442"/>
                    </a:lnTo>
                    <a:lnTo>
                      <a:pt x="0" y="442"/>
                    </a:lnTo>
                    <a:lnTo>
                      <a:pt x="17" y="74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212840" y="3665520"/>
                <a:ext cx="133560" cy="3816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84" y="0"/>
                    </a:moveTo>
                    <a:lnTo>
                      <a:pt x="84" y="0"/>
                    </a:lnTo>
                    <a:lnTo>
                      <a:pt x="73" y="4"/>
                    </a:lnTo>
                    <a:lnTo>
                      <a:pt x="61" y="4"/>
                    </a:lnTo>
                    <a:lnTo>
                      <a:pt x="50" y="4"/>
                    </a:lnTo>
                    <a:lnTo>
                      <a:pt x="39" y="8"/>
                    </a:lnTo>
                    <a:lnTo>
                      <a:pt x="28" y="8"/>
                    </a:lnTo>
                    <a:lnTo>
                      <a:pt x="17" y="12"/>
                    </a:lnTo>
                    <a:lnTo>
                      <a:pt x="11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11" y="20"/>
                    </a:lnTo>
                    <a:lnTo>
                      <a:pt x="22" y="16"/>
                    </a:lnTo>
                    <a:lnTo>
                      <a:pt x="33" y="16"/>
                    </a:lnTo>
                    <a:lnTo>
                      <a:pt x="39" y="12"/>
                    </a:lnTo>
                    <a:lnTo>
                      <a:pt x="50" y="12"/>
                    </a:lnTo>
                    <a:lnTo>
                      <a:pt x="61" y="8"/>
                    </a:lnTo>
                    <a:lnTo>
                      <a:pt x="73" y="8"/>
                    </a:lnTo>
                    <a:lnTo>
                      <a:pt x="84" y="8"/>
                    </a:lnTo>
                    <a:lnTo>
                      <a:pt x="84" y="8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346400" y="3665520"/>
                <a:ext cx="426960" cy="19080"/>
              </a:xfrm>
              <a:custGeom>
                <a:avLst/>
                <a:gdLst/>
                <a:ahLst/>
                <a:rect l="l" t="t" r="r" b="b"/>
                <a:pathLst>
                  <a:path w="269" h="12">
                    <a:moveTo>
                      <a:pt x="269" y="4"/>
                    </a:moveTo>
                    <a:lnTo>
                      <a:pt x="269" y="4"/>
                    </a:lnTo>
                    <a:lnTo>
                      <a:pt x="252" y="4"/>
                    </a:lnTo>
                    <a:lnTo>
                      <a:pt x="235" y="4"/>
                    </a:lnTo>
                    <a:lnTo>
                      <a:pt x="219" y="4"/>
                    </a:lnTo>
                    <a:lnTo>
                      <a:pt x="202" y="4"/>
                    </a:lnTo>
                    <a:lnTo>
                      <a:pt x="185" y="4"/>
                    </a:lnTo>
                    <a:lnTo>
                      <a:pt x="168" y="4"/>
                    </a:lnTo>
                    <a:lnTo>
                      <a:pt x="151" y="4"/>
                    </a:lnTo>
                    <a:lnTo>
                      <a:pt x="134" y="4"/>
                    </a:lnTo>
                    <a:lnTo>
                      <a:pt x="118" y="0"/>
                    </a:lnTo>
                    <a:lnTo>
                      <a:pt x="101" y="0"/>
                    </a:lnTo>
                    <a:lnTo>
                      <a:pt x="84" y="0"/>
                    </a:lnTo>
                    <a:lnTo>
                      <a:pt x="67" y="0"/>
                    </a:lnTo>
                    <a:lnTo>
                      <a:pt x="50" y="0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7" y="8"/>
                    </a:lnTo>
                    <a:lnTo>
                      <a:pt x="34" y="4"/>
                    </a:lnTo>
                    <a:lnTo>
                      <a:pt x="50" y="4"/>
                    </a:lnTo>
                    <a:lnTo>
                      <a:pt x="67" y="4"/>
                    </a:lnTo>
                    <a:lnTo>
                      <a:pt x="84" y="4"/>
                    </a:lnTo>
                    <a:lnTo>
                      <a:pt x="101" y="8"/>
                    </a:lnTo>
                    <a:lnTo>
                      <a:pt x="118" y="8"/>
                    </a:lnTo>
                    <a:lnTo>
                      <a:pt x="134" y="8"/>
                    </a:lnTo>
                    <a:lnTo>
                      <a:pt x="151" y="8"/>
                    </a:lnTo>
                    <a:lnTo>
                      <a:pt x="168" y="8"/>
                    </a:lnTo>
                    <a:lnTo>
                      <a:pt x="185" y="8"/>
                    </a:lnTo>
                    <a:lnTo>
                      <a:pt x="202" y="12"/>
                    </a:lnTo>
                    <a:lnTo>
                      <a:pt x="219" y="12"/>
                    </a:lnTo>
                    <a:lnTo>
                      <a:pt x="235" y="8"/>
                    </a:lnTo>
                    <a:lnTo>
                      <a:pt x="252" y="8"/>
                    </a:lnTo>
                    <a:lnTo>
                      <a:pt x="269" y="8"/>
                    </a:lnTo>
                    <a:lnTo>
                      <a:pt x="269" y="8"/>
                    </a:lnTo>
                    <a:lnTo>
                      <a:pt x="269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773360" y="3646440"/>
                <a:ext cx="231840" cy="32040"/>
              </a:xfrm>
              <a:custGeom>
                <a:avLst/>
                <a:gdLst/>
                <a:ahLst/>
                <a:rect l="l" t="t" r="r" b="b"/>
                <a:pathLst>
                  <a:path w="146" h="20">
                    <a:moveTo>
                      <a:pt x="146" y="0"/>
                    </a:moveTo>
                    <a:lnTo>
                      <a:pt x="146" y="0"/>
                    </a:lnTo>
                    <a:lnTo>
                      <a:pt x="135" y="4"/>
                    </a:lnTo>
                    <a:lnTo>
                      <a:pt x="129" y="4"/>
                    </a:lnTo>
                    <a:lnTo>
                      <a:pt x="118" y="4"/>
                    </a:lnTo>
                    <a:lnTo>
                      <a:pt x="107" y="4"/>
                    </a:lnTo>
                    <a:lnTo>
                      <a:pt x="101" y="8"/>
                    </a:lnTo>
                    <a:lnTo>
                      <a:pt x="90" y="8"/>
                    </a:lnTo>
                    <a:lnTo>
                      <a:pt x="84" y="8"/>
                    </a:lnTo>
                    <a:lnTo>
                      <a:pt x="73" y="8"/>
                    </a:lnTo>
                    <a:lnTo>
                      <a:pt x="62" y="8"/>
                    </a:lnTo>
                    <a:lnTo>
                      <a:pt x="56" y="8"/>
                    </a:lnTo>
                    <a:lnTo>
                      <a:pt x="45" y="12"/>
                    </a:lnTo>
                    <a:lnTo>
                      <a:pt x="34" y="12"/>
                    </a:lnTo>
                    <a:lnTo>
                      <a:pt x="28" y="12"/>
                    </a:lnTo>
                    <a:lnTo>
                      <a:pt x="17" y="12"/>
                    </a:lnTo>
                    <a:lnTo>
                      <a:pt x="6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7" y="20"/>
                    </a:lnTo>
                    <a:lnTo>
                      <a:pt x="28" y="16"/>
                    </a:lnTo>
                    <a:lnTo>
                      <a:pt x="34" y="16"/>
                    </a:lnTo>
                    <a:lnTo>
                      <a:pt x="45" y="16"/>
                    </a:lnTo>
                    <a:lnTo>
                      <a:pt x="56" y="16"/>
                    </a:lnTo>
                    <a:lnTo>
                      <a:pt x="62" y="16"/>
                    </a:lnTo>
                    <a:lnTo>
                      <a:pt x="73" y="16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101" y="12"/>
                    </a:lnTo>
                    <a:lnTo>
                      <a:pt x="107" y="12"/>
                    </a:lnTo>
                    <a:lnTo>
                      <a:pt x="118" y="12"/>
                    </a:lnTo>
                    <a:lnTo>
                      <a:pt x="129" y="8"/>
                    </a:lnTo>
                    <a:lnTo>
                      <a:pt x="135" y="8"/>
                    </a:lnTo>
                    <a:lnTo>
                      <a:pt x="146" y="8"/>
                    </a:lnTo>
                    <a:lnTo>
                      <a:pt x="146" y="8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2005200" y="3603600"/>
                <a:ext cx="115920" cy="55800"/>
              </a:xfrm>
              <a:custGeom>
                <a:avLst/>
                <a:gdLst/>
                <a:ahLst/>
                <a:rect l="l" t="t" r="r" b="b"/>
                <a:pathLst>
                  <a:path w="73" h="35">
                    <a:moveTo>
                      <a:pt x="73" y="8"/>
                    </a:moveTo>
                    <a:lnTo>
                      <a:pt x="62" y="8"/>
                    </a:lnTo>
                    <a:lnTo>
                      <a:pt x="56" y="11"/>
                    </a:lnTo>
                    <a:lnTo>
                      <a:pt x="50" y="15"/>
                    </a:lnTo>
                    <a:lnTo>
                      <a:pt x="45" y="19"/>
                    </a:lnTo>
                    <a:lnTo>
                      <a:pt x="34" y="23"/>
                    </a:lnTo>
                    <a:lnTo>
                      <a:pt x="28" y="23"/>
                    </a:lnTo>
                    <a:lnTo>
                      <a:pt x="17" y="27"/>
                    </a:lnTo>
                    <a:lnTo>
                      <a:pt x="11" y="27"/>
                    </a:lnTo>
                    <a:lnTo>
                      <a:pt x="0" y="27"/>
                    </a:lnTo>
                    <a:lnTo>
                      <a:pt x="0" y="35"/>
                    </a:lnTo>
                    <a:lnTo>
                      <a:pt x="11" y="35"/>
                    </a:lnTo>
                    <a:lnTo>
                      <a:pt x="22" y="31"/>
                    </a:lnTo>
                    <a:lnTo>
                      <a:pt x="28" y="31"/>
                    </a:lnTo>
                    <a:lnTo>
                      <a:pt x="39" y="27"/>
                    </a:lnTo>
                    <a:lnTo>
                      <a:pt x="45" y="23"/>
                    </a:lnTo>
                    <a:lnTo>
                      <a:pt x="56" y="19"/>
                    </a:lnTo>
                    <a:lnTo>
                      <a:pt x="62" y="15"/>
                    </a:lnTo>
                    <a:lnTo>
                      <a:pt x="67" y="11"/>
                    </a:lnTo>
                    <a:lnTo>
                      <a:pt x="62" y="8"/>
                    </a:lnTo>
                    <a:lnTo>
                      <a:pt x="73" y="8"/>
                    </a:lnTo>
                    <a:lnTo>
                      <a:pt x="73" y="0"/>
                    </a:lnTo>
                    <a:lnTo>
                      <a:pt x="62" y="8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103480" y="361656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3"/>
                    </a:moveTo>
                    <a:lnTo>
                      <a:pt x="16" y="3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3"/>
                    </a:lnTo>
                    <a:lnTo>
                      <a:pt x="16" y="7"/>
                    </a:lnTo>
                    <a:lnTo>
                      <a:pt x="11" y="3"/>
                    </a:lnTo>
                    <a:lnTo>
                      <a:pt x="11" y="7"/>
                    </a:lnTo>
                    <a:lnTo>
                      <a:pt x="16" y="7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129040" y="3610080"/>
                <a:ext cx="81000" cy="17640"/>
              </a:xfrm>
              <a:custGeom>
                <a:avLst/>
                <a:gdLst/>
                <a:ahLst/>
                <a:rect l="l" t="t" r="r" b="b"/>
                <a:pathLst>
                  <a:path w="51" h="11">
                    <a:moveTo>
                      <a:pt x="51" y="0"/>
                    </a:moveTo>
                    <a:lnTo>
                      <a:pt x="51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4" y="0"/>
                    </a:lnTo>
                    <a:lnTo>
                      <a:pt x="23" y="4"/>
                    </a:lnTo>
                    <a:lnTo>
                      <a:pt x="17" y="4"/>
                    </a:lnTo>
                    <a:lnTo>
                      <a:pt x="12" y="4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7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40" y="7"/>
                    </a:lnTo>
                    <a:lnTo>
                      <a:pt x="45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210040" y="3597480"/>
                <a:ext cx="258480" cy="23760"/>
              </a:xfrm>
              <a:custGeom>
                <a:avLst/>
                <a:gdLst/>
                <a:ahLst/>
                <a:rect l="l" t="t" r="r" b="b"/>
                <a:pathLst>
                  <a:path w="163" h="15">
                    <a:moveTo>
                      <a:pt x="163" y="0"/>
                    </a:moveTo>
                    <a:lnTo>
                      <a:pt x="163" y="0"/>
                    </a:lnTo>
                    <a:lnTo>
                      <a:pt x="151" y="4"/>
                    </a:lnTo>
                    <a:lnTo>
                      <a:pt x="140" y="4"/>
                    </a:lnTo>
                    <a:lnTo>
                      <a:pt x="134" y="8"/>
                    </a:lnTo>
                    <a:lnTo>
                      <a:pt x="123" y="8"/>
                    </a:lnTo>
                    <a:lnTo>
                      <a:pt x="112" y="8"/>
                    </a:lnTo>
                    <a:lnTo>
                      <a:pt x="101" y="8"/>
                    </a:lnTo>
                    <a:lnTo>
                      <a:pt x="90" y="8"/>
                    </a:lnTo>
                    <a:lnTo>
                      <a:pt x="84" y="8"/>
                    </a:lnTo>
                    <a:lnTo>
                      <a:pt x="73" y="8"/>
                    </a:lnTo>
                    <a:lnTo>
                      <a:pt x="62" y="8"/>
                    </a:lnTo>
                    <a:lnTo>
                      <a:pt x="50" y="8"/>
                    </a:lnTo>
                    <a:lnTo>
                      <a:pt x="39" y="8"/>
                    </a:lnTo>
                    <a:lnTo>
                      <a:pt x="34" y="8"/>
                    </a:lnTo>
                    <a:lnTo>
                      <a:pt x="22" y="8"/>
                    </a:lnTo>
                    <a:lnTo>
                      <a:pt x="11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22" y="12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50" y="12"/>
                    </a:lnTo>
                    <a:lnTo>
                      <a:pt x="62" y="12"/>
                    </a:lnTo>
                    <a:lnTo>
                      <a:pt x="73" y="15"/>
                    </a:lnTo>
                    <a:lnTo>
                      <a:pt x="84" y="15"/>
                    </a:lnTo>
                    <a:lnTo>
                      <a:pt x="90" y="15"/>
                    </a:lnTo>
                    <a:lnTo>
                      <a:pt x="101" y="15"/>
                    </a:lnTo>
                    <a:lnTo>
                      <a:pt x="112" y="12"/>
                    </a:lnTo>
                    <a:lnTo>
                      <a:pt x="123" y="12"/>
                    </a:lnTo>
                    <a:lnTo>
                      <a:pt x="134" y="12"/>
                    </a:lnTo>
                    <a:lnTo>
                      <a:pt x="146" y="12"/>
                    </a:lnTo>
                    <a:lnTo>
                      <a:pt x="151" y="8"/>
                    </a:lnTo>
                    <a:lnTo>
                      <a:pt x="163" y="8"/>
                    </a:lnTo>
                    <a:lnTo>
                      <a:pt x="163" y="8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2468520" y="3483000"/>
                <a:ext cx="52560" cy="127080"/>
              </a:xfrm>
              <a:custGeom>
                <a:avLst/>
                <a:gdLst/>
                <a:ahLst/>
                <a:rect l="l" t="t" r="r" b="b"/>
                <a:pathLst>
                  <a:path w="33" h="80">
                    <a:moveTo>
                      <a:pt x="16" y="0"/>
                    </a:moveTo>
                    <a:lnTo>
                      <a:pt x="11" y="4"/>
                    </a:lnTo>
                    <a:lnTo>
                      <a:pt x="16" y="16"/>
                    </a:lnTo>
                    <a:lnTo>
                      <a:pt x="22" y="24"/>
                    </a:lnTo>
                    <a:lnTo>
                      <a:pt x="28" y="36"/>
                    </a:lnTo>
                    <a:lnTo>
                      <a:pt x="28" y="44"/>
                    </a:lnTo>
                    <a:lnTo>
                      <a:pt x="22" y="52"/>
                    </a:lnTo>
                    <a:lnTo>
                      <a:pt x="16" y="60"/>
                    </a:lnTo>
                    <a:lnTo>
                      <a:pt x="11" y="68"/>
                    </a:lnTo>
                    <a:lnTo>
                      <a:pt x="0" y="72"/>
                    </a:lnTo>
                    <a:lnTo>
                      <a:pt x="0" y="80"/>
                    </a:lnTo>
                    <a:lnTo>
                      <a:pt x="16" y="72"/>
                    </a:lnTo>
                    <a:lnTo>
                      <a:pt x="22" y="64"/>
                    </a:lnTo>
                    <a:lnTo>
                      <a:pt x="33" y="56"/>
                    </a:lnTo>
                    <a:lnTo>
                      <a:pt x="33" y="44"/>
                    </a:lnTo>
                    <a:lnTo>
                      <a:pt x="33" y="36"/>
                    </a:lnTo>
                    <a:lnTo>
                      <a:pt x="33" y="24"/>
                    </a:lnTo>
                    <a:lnTo>
                      <a:pt x="28" y="12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11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494080" y="3432240"/>
                <a:ext cx="160200" cy="6372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96" y="0"/>
                    </a:moveTo>
                    <a:lnTo>
                      <a:pt x="96" y="0"/>
                    </a:lnTo>
                    <a:lnTo>
                      <a:pt x="90" y="8"/>
                    </a:lnTo>
                    <a:lnTo>
                      <a:pt x="79" y="16"/>
                    </a:lnTo>
                    <a:lnTo>
                      <a:pt x="68" y="20"/>
                    </a:lnTo>
                    <a:lnTo>
                      <a:pt x="56" y="24"/>
                    </a:lnTo>
                    <a:lnTo>
                      <a:pt x="45" y="28"/>
                    </a:lnTo>
                    <a:lnTo>
                      <a:pt x="28" y="32"/>
                    </a:lnTo>
                    <a:lnTo>
                      <a:pt x="17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17" y="40"/>
                    </a:lnTo>
                    <a:lnTo>
                      <a:pt x="34" y="36"/>
                    </a:lnTo>
                    <a:lnTo>
                      <a:pt x="45" y="36"/>
                    </a:lnTo>
                    <a:lnTo>
                      <a:pt x="62" y="32"/>
                    </a:lnTo>
                    <a:lnTo>
                      <a:pt x="73" y="24"/>
                    </a:lnTo>
                    <a:lnTo>
                      <a:pt x="84" y="20"/>
                    </a:lnTo>
                    <a:lnTo>
                      <a:pt x="96" y="12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575080" y="331812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56" h="72">
                    <a:moveTo>
                      <a:pt x="0" y="0"/>
                    </a:moveTo>
                    <a:lnTo>
                      <a:pt x="0" y="4"/>
                    </a:lnTo>
                    <a:lnTo>
                      <a:pt x="11" y="8"/>
                    </a:lnTo>
                    <a:lnTo>
                      <a:pt x="22" y="16"/>
                    </a:lnTo>
                    <a:lnTo>
                      <a:pt x="33" y="24"/>
                    </a:lnTo>
                    <a:lnTo>
                      <a:pt x="39" y="32"/>
                    </a:lnTo>
                    <a:lnTo>
                      <a:pt x="45" y="40"/>
                    </a:lnTo>
                    <a:lnTo>
                      <a:pt x="50" y="52"/>
                    </a:lnTo>
                    <a:lnTo>
                      <a:pt x="50" y="60"/>
                    </a:lnTo>
                    <a:lnTo>
                      <a:pt x="45" y="72"/>
                    </a:lnTo>
                    <a:lnTo>
                      <a:pt x="50" y="72"/>
                    </a:lnTo>
                    <a:lnTo>
                      <a:pt x="56" y="60"/>
                    </a:lnTo>
                    <a:lnTo>
                      <a:pt x="56" y="52"/>
                    </a:lnTo>
                    <a:lnTo>
                      <a:pt x="56" y="40"/>
                    </a:lnTo>
                    <a:lnTo>
                      <a:pt x="50" y="28"/>
                    </a:lnTo>
                    <a:lnTo>
                      <a:pt x="39" y="20"/>
                    </a:lnTo>
                    <a:lnTo>
                      <a:pt x="28" y="12"/>
                    </a:lnTo>
                    <a:lnTo>
                      <a:pt x="17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575080" y="3292560"/>
                <a:ext cx="142920" cy="38160"/>
              </a:xfrm>
              <a:custGeom>
                <a:avLst/>
                <a:gdLst/>
                <a:ahLst/>
                <a:rect l="l" t="t" r="r" b="b"/>
                <a:pathLst>
                  <a:path w="90" h="24">
                    <a:moveTo>
                      <a:pt x="84" y="0"/>
                    </a:moveTo>
                    <a:lnTo>
                      <a:pt x="84" y="0"/>
                    </a:lnTo>
                    <a:lnTo>
                      <a:pt x="78" y="8"/>
                    </a:lnTo>
                    <a:lnTo>
                      <a:pt x="67" y="8"/>
                    </a:lnTo>
                    <a:lnTo>
                      <a:pt x="56" y="12"/>
                    </a:lnTo>
                    <a:lnTo>
                      <a:pt x="45" y="16"/>
                    </a:lnTo>
                    <a:lnTo>
                      <a:pt x="39" y="16"/>
                    </a:lnTo>
                    <a:lnTo>
                      <a:pt x="22" y="16"/>
                    </a:lnTo>
                    <a:lnTo>
                      <a:pt x="11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11" y="24"/>
                    </a:lnTo>
                    <a:lnTo>
                      <a:pt x="22" y="24"/>
                    </a:lnTo>
                    <a:lnTo>
                      <a:pt x="39" y="24"/>
                    </a:lnTo>
                    <a:lnTo>
                      <a:pt x="50" y="20"/>
                    </a:lnTo>
                    <a:lnTo>
                      <a:pt x="62" y="20"/>
                    </a:lnTo>
                    <a:lnTo>
                      <a:pt x="73" y="16"/>
                    </a:lnTo>
                    <a:lnTo>
                      <a:pt x="78" y="12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708280" y="3203640"/>
                <a:ext cx="34920" cy="95400"/>
              </a:xfrm>
              <a:custGeom>
                <a:avLst/>
                <a:gdLst/>
                <a:ahLst/>
                <a:rect l="l" t="t" r="r" b="b"/>
                <a:pathLst>
                  <a:path w="22" h="60">
                    <a:moveTo>
                      <a:pt x="6" y="0"/>
                    </a:moveTo>
                    <a:lnTo>
                      <a:pt x="6" y="0"/>
                    </a:lnTo>
                    <a:lnTo>
                      <a:pt x="11" y="16"/>
                    </a:lnTo>
                    <a:lnTo>
                      <a:pt x="11" y="32"/>
                    </a:lnTo>
                    <a:lnTo>
                      <a:pt x="11" y="44"/>
                    </a:lnTo>
                    <a:lnTo>
                      <a:pt x="0" y="56"/>
                    </a:lnTo>
                    <a:lnTo>
                      <a:pt x="6" y="60"/>
                    </a:lnTo>
                    <a:lnTo>
                      <a:pt x="17" y="48"/>
                    </a:lnTo>
                    <a:lnTo>
                      <a:pt x="22" y="32"/>
                    </a:lnTo>
                    <a:lnTo>
                      <a:pt x="17" y="1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2691000" y="3167280"/>
                <a:ext cx="44280" cy="363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4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28" y="23"/>
                    </a:lnTo>
                    <a:lnTo>
                      <a:pt x="22" y="19"/>
                    </a:lnTo>
                    <a:lnTo>
                      <a:pt x="22" y="15"/>
                    </a:lnTo>
                    <a:lnTo>
                      <a:pt x="22" y="11"/>
                    </a:lnTo>
                    <a:lnTo>
                      <a:pt x="17" y="11"/>
                    </a:lnTo>
                    <a:lnTo>
                      <a:pt x="17" y="7"/>
                    </a:lnTo>
                    <a:lnTo>
                      <a:pt x="11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2610000" y="3154320"/>
                <a:ext cx="88920" cy="19080"/>
              </a:xfrm>
              <a:custGeom>
                <a:avLst/>
                <a:gdLst/>
                <a:ahLst/>
                <a:rect l="l" t="t" r="r" b="b"/>
                <a:pathLst>
                  <a:path w="56" h="12">
                    <a:moveTo>
                      <a:pt x="11" y="0"/>
                    </a:moveTo>
                    <a:lnTo>
                      <a:pt x="11" y="4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5" y="12"/>
                    </a:lnTo>
                    <a:lnTo>
                      <a:pt x="51" y="12"/>
                    </a:lnTo>
                    <a:lnTo>
                      <a:pt x="56" y="8"/>
                    </a:lnTo>
                    <a:lnTo>
                      <a:pt x="51" y="4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4" y="4"/>
                    </a:lnTo>
                    <a:lnTo>
                      <a:pt x="28" y="4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1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2627280" y="305928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68" y="0"/>
                    </a:moveTo>
                    <a:lnTo>
                      <a:pt x="68" y="0"/>
                    </a:lnTo>
                    <a:lnTo>
                      <a:pt x="68" y="12"/>
                    </a:lnTo>
                    <a:lnTo>
                      <a:pt x="62" y="20"/>
                    </a:lnTo>
                    <a:lnTo>
                      <a:pt x="62" y="32"/>
                    </a:lnTo>
                    <a:lnTo>
                      <a:pt x="51" y="40"/>
                    </a:lnTo>
                    <a:lnTo>
                      <a:pt x="40" y="44"/>
                    </a:lnTo>
                    <a:lnTo>
                      <a:pt x="29" y="52"/>
                    </a:lnTo>
                    <a:lnTo>
                      <a:pt x="17" y="56"/>
                    </a:lnTo>
                    <a:lnTo>
                      <a:pt x="0" y="60"/>
                    </a:lnTo>
                    <a:lnTo>
                      <a:pt x="6" y="64"/>
                    </a:lnTo>
                    <a:lnTo>
                      <a:pt x="17" y="64"/>
                    </a:lnTo>
                    <a:lnTo>
                      <a:pt x="34" y="56"/>
                    </a:lnTo>
                    <a:lnTo>
                      <a:pt x="45" y="52"/>
                    </a:lnTo>
                    <a:lnTo>
                      <a:pt x="57" y="44"/>
                    </a:lnTo>
                    <a:lnTo>
                      <a:pt x="68" y="32"/>
                    </a:lnTo>
                    <a:lnTo>
                      <a:pt x="73" y="24"/>
                    </a:lnTo>
                    <a:lnTo>
                      <a:pt x="73" y="12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2583000" y="2944800"/>
                <a:ext cx="160200" cy="114480"/>
              </a:xfrm>
              <a:custGeom>
                <a:avLst/>
                <a:gdLst/>
                <a:ahLst/>
                <a:rect l="l" t="t" r="r" b="b"/>
                <a:pathLst>
                  <a:path w="101" h="72">
                    <a:moveTo>
                      <a:pt x="0" y="4"/>
                    </a:moveTo>
                    <a:lnTo>
                      <a:pt x="0" y="4"/>
                    </a:lnTo>
                    <a:lnTo>
                      <a:pt x="23" y="8"/>
                    </a:lnTo>
                    <a:lnTo>
                      <a:pt x="34" y="12"/>
                    </a:lnTo>
                    <a:lnTo>
                      <a:pt x="51" y="20"/>
                    </a:lnTo>
                    <a:lnTo>
                      <a:pt x="62" y="28"/>
                    </a:lnTo>
                    <a:lnTo>
                      <a:pt x="73" y="36"/>
                    </a:lnTo>
                    <a:lnTo>
                      <a:pt x="85" y="48"/>
                    </a:lnTo>
                    <a:lnTo>
                      <a:pt x="90" y="60"/>
                    </a:lnTo>
                    <a:lnTo>
                      <a:pt x="96" y="72"/>
                    </a:lnTo>
                    <a:lnTo>
                      <a:pt x="101" y="72"/>
                    </a:lnTo>
                    <a:lnTo>
                      <a:pt x="96" y="60"/>
                    </a:lnTo>
                    <a:lnTo>
                      <a:pt x="90" y="48"/>
                    </a:lnTo>
                    <a:lnTo>
                      <a:pt x="79" y="32"/>
                    </a:lnTo>
                    <a:lnTo>
                      <a:pt x="68" y="24"/>
                    </a:lnTo>
                    <a:lnTo>
                      <a:pt x="57" y="12"/>
                    </a:lnTo>
                    <a:lnTo>
                      <a:pt x="40" y="4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2254320" y="2932200"/>
                <a:ext cx="328680" cy="25560"/>
              </a:xfrm>
              <a:custGeom>
                <a:avLst/>
                <a:gdLst/>
                <a:ahLst/>
                <a:rect l="l" t="t" r="r" b="b"/>
                <a:pathLst>
                  <a:path w="207" h="16">
                    <a:moveTo>
                      <a:pt x="6" y="16"/>
                    </a:moveTo>
                    <a:lnTo>
                      <a:pt x="6" y="16"/>
                    </a:lnTo>
                    <a:lnTo>
                      <a:pt x="17" y="16"/>
                    </a:lnTo>
                    <a:lnTo>
                      <a:pt x="28" y="12"/>
                    </a:lnTo>
                    <a:lnTo>
                      <a:pt x="39" y="12"/>
                    </a:lnTo>
                    <a:lnTo>
                      <a:pt x="50" y="8"/>
                    </a:lnTo>
                    <a:lnTo>
                      <a:pt x="67" y="8"/>
                    </a:lnTo>
                    <a:lnTo>
                      <a:pt x="78" y="8"/>
                    </a:lnTo>
                    <a:lnTo>
                      <a:pt x="90" y="8"/>
                    </a:lnTo>
                    <a:lnTo>
                      <a:pt x="106" y="8"/>
                    </a:lnTo>
                    <a:lnTo>
                      <a:pt x="118" y="8"/>
                    </a:lnTo>
                    <a:lnTo>
                      <a:pt x="129" y="8"/>
                    </a:lnTo>
                    <a:lnTo>
                      <a:pt x="146" y="8"/>
                    </a:lnTo>
                    <a:lnTo>
                      <a:pt x="157" y="8"/>
                    </a:lnTo>
                    <a:lnTo>
                      <a:pt x="168" y="12"/>
                    </a:lnTo>
                    <a:lnTo>
                      <a:pt x="185" y="12"/>
                    </a:lnTo>
                    <a:lnTo>
                      <a:pt x="196" y="12"/>
                    </a:lnTo>
                    <a:lnTo>
                      <a:pt x="207" y="12"/>
                    </a:lnTo>
                    <a:lnTo>
                      <a:pt x="207" y="8"/>
                    </a:lnTo>
                    <a:lnTo>
                      <a:pt x="196" y="8"/>
                    </a:lnTo>
                    <a:lnTo>
                      <a:pt x="185" y="4"/>
                    </a:lnTo>
                    <a:lnTo>
                      <a:pt x="168" y="4"/>
                    </a:lnTo>
                    <a:lnTo>
                      <a:pt x="157" y="4"/>
                    </a:lnTo>
                    <a:lnTo>
                      <a:pt x="146" y="4"/>
                    </a:lnTo>
                    <a:lnTo>
                      <a:pt x="129" y="4"/>
                    </a:lnTo>
                    <a:lnTo>
                      <a:pt x="118" y="0"/>
                    </a:lnTo>
                    <a:lnTo>
                      <a:pt x="106" y="0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7" y="4"/>
                    </a:lnTo>
                    <a:lnTo>
                      <a:pt x="50" y="4"/>
                    </a:lnTo>
                    <a:lnTo>
                      <a:pt x="39" y="4"/>
                    </a:lnTo>
                    <a:lnTo>
                      <a:pt x="28" y="8"/>
                    </a:lnTo>
                    <a:lnTo>
                      <a:pt x="11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2236680" y="29512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8"/>
                    </a:moveTo>
                    <a:lnTo>
                      <a:pt x="5" y="12"/>
                    </a:lnTo>
                    <a:lnTo>
                      <a:pt x="5" y="8"/>
                    </a:lnTo>
                    <a:lnTo>
                      <a:pt x="11" y="8"/>
                    </a:lnTo>
                    <a:lnTo>
                      <a:pt x="11" y="4"/>
                    </a:lnTo>
                    <a:lnTo>
                      <a:pt x="17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236680" y="295128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5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11" y="8"/>
                    </a:lnTo>
                    <a:lnTo>
                      <a:pt x="11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924200" y="2944800"/>
                <a:ext cx="320760" cy="19080"/>
              </a:xfrm>
              <a:custGeom>
                <a:avLst/>
                <a:gdLst/>
                <a:ahLst/>
                <a:rect l="l" t="t" r="r" b="b"/>
                <a:pathLst>
                  <a:path w="202" h="12">
                    <a:moveTo>
                      <a:pt x="0" y="12"/>
                    </a:moveTo>
                    <a:lnTo>
                      <a:pt x="0" y="12"/>
                    </a:lnTo>
                    <a:lnTo>
                      <a:pt x="17" y="12"/>
                    </a:lnTo>
                    <a:lnTo>
                      <a:pt x="28" y="12"/>
                    </a:lnTo>
                    <a:lnTo>
                      <a:pt x="40" y="12"/>
                    </a:lnTo>
                    <a:lnTo>
                      <a:pt x="56" y="12"/>
                    </a:lnTo>
                    <a:lnTo>
                      <a:pt x="68" y="12"/>
                    </a:lnTo>
                    <a:lnTo>
                      <a:pt x="79" y="8"/>
                    </a:lnTo>
                    <a:lnTo>
                      <a:pt x="90" y="8"/>
                    </a:lnTo>
                    <a:lnTo>
                      <a:pt x="101" y="8"/>
                    </a:lnTo>
                    <a:lnTo>
                      <a:pt x="118" y="4"/>
                    </a:lnTo>
                    <a:lnTo>
                      <a:pt x="129" y="4"/>
                    </a:lnTo>
                    <a:lnTo>
                      <a:pt x="141" y="4"/>
                    </a:lnTo>
                    <a:lnTo>
                      <a:pt x="152" y="4"/>
                    </a:lnTo>
                    <a:lnTo>
                      <a:pt x="163" y="4"/>
                    </a:lnTo>
                    <a:lnTo>
                      <a:pt x="180" y="8"/>
                    </a:lnTo>
                    <a:lnTo>
                      <a:pt x="191" y="8"/>
                    </a:lnTo>
                    <a:lnTo>
                      <a:pt x="202" y="12"/>
                    </a:lnTo>
                    <a:lnTo>
                      <a:pt x="202" y="4"/>
                    </a:lnTo>
                    <a:lnTo>
                      <a:pt x="191" y="4"/>
                    </a:lnTo>
                    <a:lnTo>
                      <a:pt x="180" y="0"/>
                    </a:lnTo>
                    <a:lnTo>
                      <a:pt x="163" y="0"/>
                    </a:lnTo>
                    <a:lnTo>
                      <a:pt x="152" y="0"/>
                    </a:lnTo>
                    <a:lnTo>
                      <a:pt x="141" y="0"/>
                    </a:lnTo>
                    <a:lnTo>
                      <a:pt x="129" y="0"/>
                    </a:lnTo>
                    <a:lnTo>
                      <a:pt x="118" y="0"/>
                    </a:lnTo>
                    <a:lnTo>
                      <a:pt x="101" y="0"/>
                    </a:lnTo>
                    <a:lnTo>
                      <a:pt x="90" y="4"/>
                    </a:lnTo>
                    <a:lnTo>
                      <a:pt x="79" y="4"/>
                    </a:lnTo>
                    <a:lnTo>
                      <a:pt x="68" y="4"/>
                    </a:lnTo>
                    <a:lnTo>
                      <a:pt x="56" y="4"/>
                    </a:lnTo>
                    <a:lnTo>
                      <a:pt x="40" y="8"/>
                    </a:lnTo>
                    <a:lnTo>
                      <a:pt x="28" y="8"/>
                    </a:lnTo>
                    <a:lnTo>
                      <a:pt x="17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924200" y="295776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4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2" y="4"/>
                    </a:lnTo>
                    <a:lnTo>
                      <a:pt x="6" y="8"/>
                    </a:lnTo>
                    <a:lnTo>
                      <a:pt x="12" y="8"/>
                    </a:lnTo>
                    <a:lnTo>
                      <a:pt x="12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898640" y="2913120"/>
                <a:ext cx="44640" cy="5076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5" y="0"/>
                    </a:moveTo>
                    <a:lnTo>
                      <a:pt x="5" y="4"/>
                    </a:lnTo>
                    <a:lnTo>
                      <a:pt x="11" y="12"/>
                    </a:lnTo>
                    <a:lnTo>
                      <a:pt x="16" y="16"/>
                    </a:lnTo>
                    <a:lnTo>
                      <a:pt x="16" y="24"/>
                    </a:lnTo>
                    <a:lnTo>
                      <a:pt x="16" y="32"/>
                    </a:lnTo>
                    <a:lnTo>
                      <a:pt x="28" y="32"/>
                    </a:lnTo>
                    <a:lnTo>
                      <a:pt x="22" y="24"/>
                    </a:lnTo>
                    <a:lnTo>
                      <a:pt x="22" y="16"/>
                    </a:lnTo>
                    <a:lnTo>
                      <a:pt x="16" y="8"/>
                    </a:lnTo>
                    <a:lnTo>
                      <a:pt x="11" y="0"/>
                    </a:lnTo>
                    <a:lnTo>
                      <a:pt x="11" y="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906560" y="2792520"/>
                <a:ext cx="142920" cy="127080"/>
              </a:xfrm>
              <a:custGeom>
                <a:avLst/>
                <a:gdLst/>
                <a:ahLst/>
                <a:rect l="l" t="t" r="r" b="b"/>
                <a:pathLst>
                  <a:path w="90" h="80">
                    <a:moveTo>
                      <a:pt x="79" y="0"/>
                    </a:moveTo>
                    <a:lnTo>
                      <a:pt x="79" y="0"/>
                    </a:lnTo>
                    <a:lnTo>
                      <a:pt x="73" y="12"/>
                    </a:lnTo>
                    <a:lnTo>
                      <a:pt x="67" y="24"/>
                    </a:lnTo>
                    <a:lnTo>
                      <a:pt x="56" y="32"/>
                    </a:lnTo>
                    <a:lnTo>
                      <a:pt x="45" y="44"/>
                    </a:lnTo>
                    <a:lnTo>
                      <a:pt x="34" y="52"/>
                    </a:lnTo>
                    <a:lnTo>
                      <a:pt x="28" y="60"/>
                    </a:lnTo>
                    <a:lnTo>
                      <a:pt x="11" y="68"/>
                    </a:lnTo>
                    <a:lnTo>
                      <a:pt x="0" y="76"/>
                    </a:lnTo>
                    <a:lnTo>
                      <a:pt x="6" y="80"/>
                    </a:lnTo>
                    <a:lnTo>
                      <a:pt x="17" y="72"/>
                    </a:lnTo>
                    <a:lnTo>
                      <a:pt x="34" y="64"/>
                    </a:lnTo>
                    <a:lnTo>
                      <a:pt x="45" y="56"/>
                    </a:lnTo>
                    <a:lnTo>
                      <a:pt x="56" y="48"/>
                    </a:lnTo>
                    <a:lnTo>
                      <a:pt x="62" y="36"/>
                    </a:lnTo>
                    <a:lnTo>
                      <a:pt x="73" y="24"/>
                    </a:lnTo>
                    <a:lnTo>
                      <a:pt x="79" y="12"/>
                    </a:lnTo>
                    <a:lnTo>
                      <a:pt x="90" y="4"/>
                    </a:lnTo>
                    <a:lnTo>
                      <a:pt x="90" y="4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032200" y="2741760"/>
                <a:ext cx="27000" cy="572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7" y="12"/>
                    </a:moveTo>
                    <a:lnTo>
                      <a:pt x="5" y="12"/>
                    </a:lnTo>
                    <a:lnTo>
                      <a:pt x="11" y="16"/>
                    </a:lnTo>
                    <a:lnTo>
                      <a:pt x="11" y="24"/>
                    </a:lnTo>
                    <a:lnTo>
                      <a:pt x="5" y="28"/>
                    </a:lnTo>
                    <a:lnTo>
                      <a:pt x="0" y="32"/>
                    </a:lnTo>
                    <a:lnTo>
                      <a:pt x="11" y="36"/>
                    </a:lnTo>
                    <a:lnTo>
                      <a:pt x="17" y="28"/>
                    </a:lnTo>
                    <a:lnTo>
                      <a:pt x="17" y="24"/>
                    </a:lnTo>
                    <a:lnTo>
                      <a:pt x="17" y="16"/>
                    </a:lnTo>
                    <a:lnTo>
                      <a:pt x="17" y="8"/>
                    </a:lnTo>
                    <a:lnTo>
                      <a:pt x="5" y="8"/>
                    </a:lnTo>
                    <a:lnTo>
                      <a:pt x="17" y="8"/>
                    </a:lnTo>
                    <a:lnTo>
                      <a:pt x="11" y="0"/>
                    </a:lnTo>
                    <a:lnTo>
                      <a:pt x="5" y="8"/>
                    </a:lnTo>
                    <a:lnTo>
                      <a:pt x="1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2040120" y="275436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6" y="4"/>
                    </a:moveTo>
                    <a:lnTo>
                      <a:pt x="6" y="4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049480" y="2648160"/>
                <a:ext cx="54000" cy="118800"/>
              </a:xfrm>
              <a:custGeom>
                <a:avLst/>
                <a:gdLst/>
                <a:ahLst/>
                <a:rect l="l" t="t" r="r" b="b"/>
                <a:pathLst>
                  <a:path w="34" h="75">
                    <a:moveTo>
                      <a:pt x="28" y="0"/>
                    </a:moveTo>
                    <a:lnTo>
                      <a:pt x="28" y="0"/>
                    </a:lnTo>
                    <a:lnTo>
                      <a:pt x="28" y="8"/>
                    </a:lnTo>
                    <a:lnTo>
                      <a:pt x="28" y="20"/>
                    </a:lnTo>
                    <a:lnTo>
                      <a:pt x="22" y="28"/>
                    </a:lnTo>
                    <a:lnTo>
                      <a:pt x="22" y="36"/>
                    </a:lnTo>
                    <a:lnTo>
                      <a:pt x="17" y="48"/>
                    </a:lnTo>
                    <a:lnTo>
                      <a:pt x="11" y="55"/>
                    </a:lnTo>
                    <a:lnTo>
                      <a:pt x="6" y="63"/>
                    </a:lnTo>
                    <a:lnTo>
                      <a:pt x="0" y="71"/>
                    </a:lnTo>
                    <a:lnTo>
                      <a:pt x="6" y="75"/>
                    </a:lnTo>
                    <a:lnTo>
                      <a:pt x="17" y="63"/>
                    </a:lnTo>
                    <a:lnTo>
                      <a:pt x="22" y="55"/>
                    </a:lnTo>
                    <a:lnTo>
                      <a:pt x="28" y="48"/>
                    </a:lnTo>
                    <a:lnTo>
                      <a:pt x="28" y="40"/>
                    </a:lnTo>
                    <a:lnTo>
                      <a:pt x="34" y="28"/>
                    </a:lnTo>
                    <a:lnTo>
                      <a:pt x="34" y="20"/>
                    </a:lnTo>
                    <a:lnTo>
                      <a:pt x="34" y="8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022480" y="2527560"/>
                <a:ext cx="81000" cy="120600"/>
              </a:xfrm>
              <a:custGeom>
                <a:avLst/>
                <a:gdLst/>
                <a:ahLst/>
                <a:rect l="l" t="t" r="r" b="b"/>
                <a:pathLst>
                  <a:path w="51" h="76">
                    <a:moveTo>
                      <a:pt x="0" y="4"/>
                    </a:moveTo>
                    <a:lnTo>
                      <a:pt x="0" y="4"/>
                    </a:lnTo>
                    <a:lnTo>
                      <a:pt x="11" y="8"/>
                    </a:lnTo>
                    <a:lnTo>
                      <a:pt x="23" y="16"/>
                    </a:lnTo>
                    <a:lnTo>
                      <a:pt x="28" y="24"/>
                    </a:lnTo>
                    <a:lnTo>
                      <a:pt x="34" y="36"/>
                    </a:lnTo>
                    <a:lnTo>
                      <a:pt x="34" y="44"/>
                    </a:lnTo>
                    <a:lnTo>
                      <a:pt x="39" y="56"/>
                    </a:lnTo>
                    <a:lnTo>
                      <a:pt x="39" y="64"/>
                    </a:lnTo>
                    <a:lnTo>
                      <a:pt x="45" y="76"/>
                    </a:lnTo>
                    <a:lnTo>
                      <a:pt x="51" y="76"/>
                    </a:lnTo>
                    <a:lnTo>
                      <a:pt x="51" y="64"/>
                    </a:lnTo>
                    <a:lnTo>
                      <a:pt x="45" y="56"/>
                    </a:lnTo>
                    <a:lnTo>
                      <a:pt x="45" y="44"/>
                    </a:lnTo>
                    <a:lnTo>
                      <a:pt x="39" y="32"/>
                    </a:lnTo>
                    <a:lnTo>
                      <a:pt x="34" y="24"/>
                    </a:lnTo>
                    <a:lnTo>
                      <a:pt x="28" y="16"/>
                    </a:lnTo>
                    <a:lnTo>
                      <a:pt x="23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943280" y="2514600"/>
                <a:ext cx="88920" cy="32040"/>
              </a:xfrm>
              <a:custGeom>
                <a:avLst/>
                <a:gdLst/>
                <a:ahLst/>
                <a:rect l="l" t="t" r="r" b="b"/>
                <a:pathLst>
                  <a:path w="56" h="20">
                    <a:moveTo>
                      <a:pt x="11" y="20"/>
                    </a:moveTo>
                    <a:lnTo>
                      <a:pt x="11" y="20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3" y="8"/>
                    </a:lnTo>
                    <a:lnTo>
                      <a:pt x="44" y="8"/>
                    </a:lnTo>
                    <a:lnTo>
                      <a:pt x="50" y="8"/>
                    </a:lnTo>
                    <a:lnTo>
                      <a:pt x="50" y="12"/>
                    </a:lnTo>
                    <a:lnTo>
                      <a:pt x="56" y="8"/>
                    </a:lnTo>
                    <a:lnTo>
                      <a:pt x="50" y="4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2" y="4"/>
                    </a:lnTo>
                    <a:lnTo>
                      <a:pt x="11" y="8"/>
                    </a:lnTo>
                    <a:lnTo>
                      <a:pt x="5" y="12"/>
                    </a:lnTo>
                    <a:lnTo>
                      <a:pt x="0" y="16"/>
                    </a:lnTo>
                    <a:lnTo>
                      <a:pt x="5" y="16"/>
                    </a:lnTo>
                    <a:lnTo>
                      <a:pt x="11" y="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943280" y="254016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1" y="8"/>
                    </a:moveTo>
                    <a:lnTo>
                      <a:pt x="11" y="0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11" y="8"/>
                    </a:lnTo>
                    <a:lnTo>
                      <a:pt x="16" y="4"/>
                    </a:lnTo>
                    <a:lnTo>
                      <a:pt x="11" y="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879560" y="2546640"/>
                <a:ext cx="81000" cy="107640"/>
              </a:xfrm>
              <a:custGeom>
                <a:avLst/>
                <a:gdLst/>
                <a:ahLst/>
                <a:rect l="l" t="t" r="r" b="b"/>
                <a:pathLst>
                  <a:path w="51" h="68">
                    <a:moveTo>
                      <a:pt x="6" y="68"/>
                    </a:moveTo>
                    <a:lnTo>
                      <a:pt x="6" y="68"/>
                    </a:lnTo>
                    <a:lnTo>
                      <a:pt x="12" y="60"/>
                    </a:lnTo>
                    <a:lnTo>
                      <a:pt x="17" y="52"/>
                    </a:lnTo>
                    <a:lnTo>
                      <a:pt x="23" y="44"/>
                    </a:lnTo>
                    <a:lnTo>
                      <a:pt x="28" y="36"/>
                    </a:lnTo>
                    <a:lnTo>
                      <a:pt x="34" y="28"/>
                    </a:lnTo>
                    <a:lnTo>
                      <a:pt x="40" y="16"/>
                    </a:lnTo>
                    <a:lnTo>
                      <a:pt x="45" y="8"/>
                    </a:lnTo>
                    <a:lnTo>
                      <a:pt x="51" y="4"/>
                    </a:lnTo>
                    <a:lnTo>
                      <a:pt x="45" y="0"/>
                    </a:lnTo>
                    <a:lnTo>
                      <a:pt x="40" y="8"/>
                    </a:lnTo>
                    <a:lnTo>
                      <a:pt x="34" y="16"/>
                    </a:lnTo>
                    <a:lnTo>
                      <a:pt x="28" y="24"/>
                    </a:lnTo>
                    <a:lnTo>
                      <a:pt x="23" y="32"/>
                    </a:lnTo>
                    <a:lnTo>
                      <a:pt x="17" y="40"/>
                    </a:lnTo>
                    <a:lnTo>
                      <a:pt x="12" y="48"/>
                    </a:lnTo>
                    <a:lnTo>
                      <a:pt x="6" y="56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6" y="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800360" y="2648160"/>
                <a:ext cx="88920" cy="82440"/>
              </a:xfrm>
              <a:custGeom>
                <a:avLst/>
                <a:gdLst/>
                <a:ahLst/>
                <a:rect l="l" t="t" r="r" b="b"/>
                <a:pathLst>
                  <a:path w="56" h="52">
                    <a:moveTo>
                      <a:pt x="6" y="52"/>
                    </a:moveTo>
                    <a:lnTo>
                      <a:pt x="6" y="52"/>
                    </a:lnTo>
                    <a:lnTo>
                      <a:pt x="11" y="44"/>
                    </a:lnTo>
                    <a:lnTo>
                      <a:pt x="17" y="40"/>
                    </a:lnTo>
                    <a:lnTo>
                      <a:pt x="22" y="36"/>
                    </a:lnTo>
                    <a:lnTo>
                      <a:pt x="28" y="28"/>
                    </a:lnTo>
                    <a:lnTo>
                      <a:pt x="34" y="24"/>
                    </a:lnTo>
                    <a:lnTo>
                      <a:pt x="45" y="16"/>
                    </a:lnTo>
                    <a:lnTo>
                      <a:pt x="50" y="12"/>
                    </a:lnTo>
                    <a:lnTo>
                      <a:pt x="56" y="4"/>
                    </a:lnTo>
                    <a:lnTo>
                      <a:pt x="50" y="0"/>
                    </a:lnTo>
                    <a:lnTo>
                      <a:pt x="45" y="8"/>
                    </a:lnTo>
                    <a:lnTo>
                      <a:pt x="34" y="12"/>
                    </a:lnTo>
                    <a:lnTo>
                      <a:pt x="28" y="20"/>
                    </a:lnTo>
                    <a:lnTo>
                      <a:pt x="22" y="24"/>
                    </a:lnTo>
                    <a:lnTo>
                      <a:pt x="17" y="32"/>
                    </a:lnTo>
                    <a:lnTo>
                      <a:pt x="11" y="36"/>
                    </a:lnTo>
                    <a:lnTo>
                      <a:pt x="6" y="44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790640" y="2705400"/>
                <a:ext cx="2700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2" y="16"/>
                    </a:move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6" y="12"/>
                    </a:lnTo>
                    <a:lnTo>
                      <a:pt x="0" y="16"/>
                    </a:lnTo>
                    <a:lnTo>
                      <a:pt x="12" y="19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6" y="12"/>
                    </a:lnTo>
                    <a:lnTo>
                      <a:pt x="12" y="16"/>
                    </a:lnTo>
                    <a:lnTo>
                      <a:pt x="17" y="0"/>
                    </a:lnTo>
                    <a:lnTo>
                      <a:pt x="6" y="12"/>
                    </a:lnTo>
                    <a:lnTo>
                      <a:pt x="12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773360" y="2724120"/>
                <a:ext cx="36360" cy="61920"/>
              </a:xfrm>
              <a:custGeom>
                <a:avLst/>
                <a:gdLst/>
                <a:ahLst/>
                <a:rect l="l" t="t" r="r" b="b"/>
                <a:pathLst>
                  <a:path w="23" h="39">
                    <a:moveTo>
                      <a:pt x="0" y="39"/>
                    </a:moveTo>
                    <a:lnTo>
                      <a:pt x="6" y="35"/>
                    </a:lnTo>
                    <a:lnTo>
                      <a:pt x="6" y="27"/>
                    </a:lnTo>
                    <a:lnTo>
                      <a:pt x="11" y="19"/>
                    </a:lnTo>
                    <a:lnTo>
                      <a:pt x="17" y="11"/>
                    </a:lnTo>
                    <a:lnTo>
                      <a:pt x="23" y="4"/>
                    </a:lnTo>
                    <a:lnTo>
                      <a:pt x="17" y="0"/>
                    </a:lnTo>
                    <a:lnTo>
                      <a:pt x="6" y="7"/>
                    </a:lnTo>
                    <a:lnTo>
                      <a:pt x="0" y="15"/>
                    </a:lnTo>
                    <a:lnTo>
                      <a:pt x="0" y="27"/>
                    </a:lnTo>
                    <a:lnTo>
                      <a:pt x="0" y="35"/>
                    </a:lnTo>
                    <a:lnTo>
                      <a:pt x="6" y="31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5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755720" y="277344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5" y="8"/>
                    </a:moveTo>
                    <a:lnTo>
                      <a:pt x="5" y="8"/>
                    </a:lnTo>
                    <a:lnTo>
                      <a:pt x="5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738440" y="2779920"/>
                <a:ext cx="25200" cy="316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5" y="20"/>
                    </a:moveTo>
                    <a:lnTo>
                      <a:pt x="5" y="20"/>
                    </a:lnTo>
                    <a:lnTo>
                      <a:pt x="11" y="16"/>
                    </a:lnTo>
                    <a:lnTo>
                      <a:pt x="11" y="12"/>
                    </a:lnTo>
                    <a:lnTo>
                      <a:pt x="16" y="8"/>
                    </a:lnTo>
                    <a:lnTo>
                      <a:pt x="16" y="4"/>
                    </a:lnTo>
                    <a:lnTo>
                      <a:pt x="11" y="0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666800" y="2811600"/>
                <a:ext cx="79560" cy="50760"/>
              </a:xfrm>
              <a:custGeom>
                <a:avLst/>
                <a:gdLst/>
                <a:ahLst/>
                <a:rect l="l" t="t" r="r" b="b"/>
                <a:pathLst>
                  <a:path w="50" h="32">
                    <a:moveTo>
                      <a:pt x="11" y="32"/>
                    </a:moveTo>
                    <a:lnTo>
                      <a:pt x="11" y="32"/>
                    </a:lnTo>
                    <a:lnTo>
                      <a:pt x="11" y="28"/>
                    </a:lnTo>
                    <a:lnTo>
                      <a:pt x="17" y="24"/>
                    </a:lnTo>
                    <a:lnTo>
                      <a:pt x="22" y="20"/>
                    </a:lnTo>
                    <a:lnTo>
                      <a:pt x="28" y="16"/>
                    </a:lnTo>
                    <a:lnTo>
                      <a:pt x="33" y="12"/>
                    </a:lnTo>
                    <a:lnTo>
                      <a:pt x="39" y="8"/>
                    </a:lnTo>
                    <a:lnTo>
                      <a:pt x="45" y="4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2" y="12"/>
                    </a:lnTo>
                    <a:lnTo>
                      <a:pt x="17" y="16"/>
                    </a:lnTo>
                    <a:lnTo>
                      <a:pt x="11" y="20"/>
                    </a:lnTo>
                    <a:lnTo>
                      <a:pt x="5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1" y="3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612800" y="2855880"/>
                <a:ext cx="71640" cy="5724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6" y="36"/>
                    </a:moveTo>
                    <a:lnTo>
                      <a:pt x="6" y="36"/>
                    </a:lnTo>
                    <a:lnTo>
                      <a:pt x="11" y="32"/>
                    </a:lnTo>
                    <a:lnTo>
                      <a:pt x="17" y="28"/>
                    </a:lnTo>
                    <a:lnTo>
                      <a:pt x="23" y="24"/>
                    </a:lnTo>
                    <a:lnTo>
                      <a:pt x="23" y="20"/>
                    </a:lnTo>
                    <a:lnTo>
                      <a:pt x="28" y="16"/>
                    </a:lnTo>
                    <a:lnTo>
                      <a:pt x="34" y="12"/>
                    </a:lnTo>
                    <a:lnTo>
                      <a:pt x="39" y="8"/>
                    </a:lnTo>
                    <a:lnTo>
                      <a:pt x="45" y="4"/>
                    </a:lnTo>
                    <a:lnTo>
                      <a:pt x="34" y="0"/>
                    </a:lnTo>
                    <a:lnTo>
                      <a:pt x="34" y="4"/>
                    </a:lnTo>
                    <a:lnTo>
                      <a:pt x="28" y="8"/>
                    </a:lnTo>
                    <a:lnTo>
                      <a:pt x="23" y="12"/>
                    </a:lnTo>
                    <a:lnTo>
                      <a:pt x="17" y="16"/>
                    </a:lnTo>
                    <a:lnTo>
                      <a:pt x="17" y="20"/>
                    </a:lnTo>
                    <a:lnTo>
                      <a:pt x="11" y="24"/>
                    </a:lnTo>
                    <a:lnTo>
                      <a:pt x="6" y="28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79600" y="2907000"/>
                <a:ext cx="142920" cy="222120"/>
              </a:xfrm>
              <a:custGeom>
                <a:avLst/>
                <a:gdLst/>
                <a:ahLst/>
                <a:rect l="l" t="t" r="r" b="b"/>
                <a:pathLst>
                  <a:path w="90" h="140">
                    <a:moveTo>
                      <a:pt x="6" y="140"/>
                    </a:moveTo>
                    <a:lnTo>
                      <a:pt x="6" y="140"/>
                    </a:lnTo>
                    <a:lnTo>
                      <a:pt x="22" y="124"/>
                    </a:lnTo>
                    <a:lnTo>
                      <a:pt x="34" y="108"/>
                    </a:lnTo>
                    <a:lnTo>
                      <a:pt x="39" y="88"/>
                    </a:lnTo>
                    <a:lnTo>
                      <a:pt x="45" y="72"/>
                    </a:lnTo>
                    <a:lnTo>
                      <a:pt x="56" y="52"/>
                    </a:lnTo>
                    <a:lnTo>
                      <a:pt x="67" y="36"/>
                    </a:lnTo>
                    <a:lnTo>
                      <a:pt x="79" y="20"/>
                    </a:lnTo>
                    <a:lnTo>
                      <a:pt x="90" y="4"/>
                    </a:lnTo>
                    <a:lnTo>
                      <a:pt x="84" y="0"/>
                    </a:lnTo>
                    <a:lnTo>
                      <a:pt x="67" y="16"/>
                    </a:lnTo>
                    <a:lnTo>
                      <a:pt x="56" y="36"/>
                    </a:lnTo>
                    <a:lnTo>
                      <a:pt x="50" y="52"/>
                    </a:lnTo>
                    <a:lnTo>
                      <a:pt x="39" y="68"/>
                    </a:lnTo>
                    <a:lnTo>
                      <a:pt x="34" y="88"/>
                    </a:lnTo>
                    <a:lnTo>
                      <a:pt x="22" y="104"/>
                    </a:lnTo>
                    <a:lnTo>
                      <a:pt x="11" y="124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6" y="14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373400" y="3129120"/>
                <a:ext cx="115920" cy="74520"/>
              </a:xfrm>
              <a:custGeom>
                <a:avLst/>
                <a:gdLst/>
                <a:ahLst/>
                <a:rect l="l" t="t" r="r" b="b"/>
                <a:pathLst>
                  <a:path w="73" h="47">
                    <a:moveTo>
                      <a:pt x="5" y="47"/>
                    </a:moveTo>
                    <a:lnTo>
                      <a:pt x="5" y="47"/>
                    </a:lnTo>
                    <a:lnTo>
                      <a:pt x="17" y="43"/>
                    </a:lnTo>
                    <a:lnTo>
                      <a:pt x="28" y="39"/>
                    </a:lnTo>
                    <a:lnTo>
                      <a:pt x="33" y="35"/>
                    </a:lnTo>
                    <a:lnTo>
                      <a:pt x="45" y="28"/>
                    </a:lnTo>
                    <a:lnTo>
                      <a:pt x="50" y="24"/>
                    </a:lnTo>
                    <a:lnTo>
                      <a:pt x="61" y="16"/>
                    </a:lnTo>
                    <a:lnTo>
                      <a:pt x="67" y="8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8"/>
                    </a:lnTo>
                    <a:lnTo>
                      <a:pt x="56" y="12"/>
                    </a:lnTo>
                    <a:lnTo>
                      <a:pt x="45" y="20"/>
                    </a:lnTo>
                    <a:lnTo>
                      <a:pt x="39" y="24"/>
                    </a:lnTo>
                    <a:lnTo>
                      <a:pt x="28" y="31"/>
                    </a:lnTo>
                    <a:lnTo>
                      <a:pt x="22" y="35"/>
                    </a:lnTo>
                    <a:lnTo>
                      <a:pt x="11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185840" y="3197520"/>
                <a:ext cx="195480" cy="31680"/>
              </a:xfrm>
              <a:custGeom>
                <a:avLst/>
                <a:gdLst/>
                <a:ahLst/>
                <a:rect l="l" t="t" r="r" b="b"/>
                <a:pathLst>
                  <a:path w="123" h="20">
                    <a:moveTo>
                      <a:pt x="0" y="20"/>
                    </a:moveTo>
                    <a:lnTo>
                      <a:pt x="6" y="20"/>
                    </a:lnTo>
                    <a:lnTo>
                      <a:pt x="17" y="20"/>
                    </a:lnTo>
                    <a:lnTo>
                      <a:pt x="22" y="16"/>
                    </a:lnTo>
                    <a:lnTo>
                      <a:pt x="28" y="16"/>
                    </a:lnTo>
                    <a:lnTo>
                      <a:pt x="34" y="16"/>
                    </a:lnTo>
                    <a:lnTo>
                      <a:pt x="45" y="16"/>
                    </a:lnTo>
                    <a:lnTo>
                      <a:pt x="50" y="16"/>
                    </a:lnTo>
                    <a:lnTo>
                      <a:pt x="62" y="16"/>
                    </a:lnTo>
                    <a:lnTo>
                      <a:pt x="67" y="16"/>
                    </a:lnTo>
                    <a:lnTo>
                      <a:pt x="73" y="16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101" y="12"/>
                    </a:lnTo>
                    <a:lnTo>
                      <a:pt x="106" y="8"/>
                    </a:lnTo>
                    <a:lnTo>
                      <a:pt x="118" y="8"/>
                    </a:lnTo>
                    <a:lnTo>
                      <a:pt x="123" y="4"/>
                    </a:lnTo>
                    <a:lnTo>
                      <a:pt x="118" y="0"/>
                    </a:lnTo>
                    <a:lnTo>
                      <a:pt x="112" y="4"/>
                    </a:lnTo>
                    <a:lnTo>
                      <a:pt x="106" y="4"/>
                    </a:lnTo>
                    <a:lnTo>
                      <a:pt x="95" y="4"/>
                    </a:lnTo>
                    <a:lnTo>
                      <a:pt x="90" y="8"/>
                    </a:lnTo>
                    <a:lnTo>
                      <a:pt x="84" y="8"/>
                    </a:lnTo>
                    <a:lnTo>
                      <a:pt x="73" y="8"/>
                    </a:lnTo>
                    <a:lnTo>
                      <a:pt x="67" y="8"/>
                    </a:lnTo>
                    <a:lnTo>
                      <a:pt x="62" y="8"/>
                    </a:lnTo>
                    <a:lnTo>
                      <a:pt x="50" y="8"/>
                    </a:lnTo>
                    <a:lnTo>
                      <a:pt x="45" y="12"/>
                    </a:lnTo>
                    <a:lnTo>
                      <a:pt x="34" y="12"/>
                    </a:lnTo>
                    <a:lnTo>
                      <a:pt x="28" y="12"/>
                    </a:lnTo>
                    <a:lnTo>
                      <a:pt x="22" y="12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0" y="16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103480" y="2982960"/>
                <a:ext cx="523800" cy="195480"/>
              </a:xfrm>
              <a:custGeom>
                <a:avLst/>
                <a:gdLst/>
                <a:ahLst/>
                <a:rect l="l" t="t" r="r" b="b"/>
                <a:pathLst>
                  <a:path w="330" h="123">
                    <a:moveTo>
                      <a:pt x="330" y="0"/>
                    </a:moveTo>
                    <a:lnTo>
                      <a:pt x="319" y="0"/>
                    </a:lnTo>
                    <a:lnTo>
                      <a:pt x="314" y="4"/>
                    </a:lnTo>
                    <a:lnTo>
                      <a:pt x="308" y="4"/>
                    </a:lnTo>
                    <a:lnTo>
                      <a:pt x="297" y="4"/>
                    </a:lnTo>
                    <a:lnTo>
                      <a:pt x="291" y="4"/>
                    </a:lnTo>
                    <a:lnTo>
                      <a:pt x="280" y="8"/>
                    </a:lnTo>
                    <a:lnTo>
                      <a:pt x="274" y="8"/>
                    </a:lnTo>
                    <a:lnTo>
                      <a:pt x="269" y="8"/>
                    </a:lnTo>
                    <a:lnTo>
                      <a:pt x="258" y="12"/>
                    </a:lnTo>
                    <a:lnTo>
                      <a:pt x="252" y="12"/>
                    </a:lnTo>
                    <a:lnTo>
                      <a:pt x="246" y="16"/>
                    </a:lnTo>
                    <a:lnTo>
                      <a:pt x="235" y="20"/>
                    </a:lnTo>
                    <a:lnTo>
                      <a:pt x="230" y="20"/>
                    </a:lnTo>
                    <a:lnTo>
                      <a:pt x="224" y="24"/>
                    </a:lnTo>
                    <a:lnTo>
                      <a:pt x="218" y="28"/>
                    </a:lnTo>
                    <a:lnTo>
                      <a:pt x="213" y="32"/>
                    </a:lnTo>
                    <a:lnTo>
                      <a:pt x="213" y="32"/>
                    </a:lnTo>
                    <a:lnTo>
                      <a:pt x="213" y="36"/>
                    </a:lnTo>
                    <a:lnTo>
                      <a:pt x="213" y="36"/>
                    </a:lnTo>
                    <a:lnTo>
                      <a:pt x="218" y="36"/>
                    </a:lnTo>
                    <a:lnTo>
                      <a:pt x="213" y="36"/>
                    </a:lnTo>
                    <a:lnTo>
                      <a:pt x="207" y="32"/>
                    </a:lnTo>
                    <a:lnTo>
                      <a:pt x="201" y="32"/>
                    </a:lnTo>
                    <a:lnTo>
                      <a:pt x="201" y="32"/>
                    </a:lnTo>
                    <a:lnTo>
                      <a:pt x="190" y="32"/>
                    </a:lnTo>
                    <a:lnTo>
                      <a:pt x="179" y="32"/>
                    </a:lnTo>
                    <a:lnTo>
                      <a:pt x="168" y="36"/>
                    </a:lnTo>
                    <a:lnTo>
                      <a:pt x="162" y="36"/>
                    </a:lnTo>
                    <a:lnTo>
                      <a:pt x="151" y="36"/>
                    </a:lnTo>
                    <a:lnTo>
                      <a:pt x="140" y="36"/>
                    </a:lnTo>
                    <a:lnTo>
                      <a:pt x="134" y="36"/>
                    </a:lnTo>
                    <a:lnTo>
                      <a:pt x="123" y="36"/>
                    </a:lnTo>
                    <a:lnTo>
                      <a:pt x="112" y="40"/>
                    </a:lnTo>
                    <a:lnTo>
                      <a:pt x="106" y="40"/>
                    </a:lnTo>
                    <a:lnTo>
                      <a:pt x="95" y="40"/>
                    </a:lnTo>
                    <a:lnTo>
                      <a:pt x="84" y="44"/>
                    </a:lnTo>
                    <a:lnTo>
                      <a:pt x="78" y="44"/>
                    </a:lnTo>
                    <a:lnTo>
                      <a:pt x="67" y="48"/>
                    </a:lnTo>
                    <a:lnTo>
                      <a:pt x="56" y="48"/>
                    </a:lnTo>
                    <a:lnTo>
                      <a:pt x="50" y="52"/>
                    </a:lnTo>
                    <a:lnTo>
                      <a:pt x="39" y="56"/>
                    </a:lnTo>
                    <a:lnTo>
                      <a:pt x="33" y="60"/>
                    </a:lnTo>
                    <a:lnTo>
                      <a:pt x="28" y="64"/>
                    </a:lnTo>
                    <a:lnTo>
                      <a:pt x="16" y="68"/>
                    </a:lnTo>
                    <a:lnTo>
                      <a:pt x="11" y="76"/>
                    </a:lnTo>
                    <a:lnTo>
                      <a:pt x="5" y="80"/>
                    </a:lnTo>
                    <a:lnTo>
                      <a:pt x="5" y="88"/>
                    </a:lnTo>
                    <a:lnTo>
                      <a:pt x="0" y="92"/>
                    </a:lnTo>
                    <a:lnTo>
                      <a:pt x="0" y="100"/>
                    </a:lnTo>
                    <a:lnTo>
                      <a:pt x="0" y="104"/>
                    </a:lnTo>
                    <a:lnTo>
                      <a:pt x="0" y="108"/>
                    </a:lnTo>
                    <a:lnTo>
                      <a:pt x="5" y="116"/>
                    </a:lnTo>
                    <a:lnTo>
                      <a:pt x="5" y="120"/>
                    </a:lnTo>
                    <a:lnTo>
                      <a:pt x="11" y="120"/>
                    </a:lnTo>
                    <a:lnTo>
                      <a:pt x="16" y="123"/>
                    </a:lnTo>
                    <a:lnTo>
                      <a:pt x="22" y="123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432160" y="2976840"/>
                <a:ext cx="195120" cy="56880"/>
              </a:xfrm>
              <a:custGeom>
                <a:avLst/>
                <a:gdLst/>
                <a:ahLst/>
                <a:rect l="l" t="t" r="r" b="b"/>
                <a:pathLst>
                  <a:path w="123" h="36">
                    <a:moveTo>
                      <a:pt x="6" y="32"/>
                    </a:moveTo>
                    <a:lnTo>
                      <a:pt x="11" y="36"/>
                    </a:lnTo>
                    <a:lnTo>
                      <a:pt x="17" y="36"/>
                    </a:lnTo>
                    <a:lnTo>
                      <a:pt x="23" y="32"/>
                    </a:lnTo>
                    <a:lnTo>
                      <a:pt x="28" y="28"/>
                    </a:lnTo>
                    <a:lnTo>
                      <a:pt x="34" y="24"/>
                    </a:lnTo>
                    <a:lnTo>
                      <a:pt x="39" y="24"/>
                    </a:lnTo>
                    <a:lnTo>
                      <a:pt x="45" y="20"/>
                    </a:lnTo>
                    <a:lnTo>
                      <a:pt x="56" y="20"/>
                    </a:lnTo>
                    <a:lnTo>
                      <a:pt x="62" y="16"/>
                    </a:lnTo>
                    <a:lnTo>
                      <a:pt x="67" y="16"/>
                    </a:lnTo>
                    <a:lnTo>
                      <a:pt x="79" y="12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101" y="12"/>
                    </a:lnTo>
                    <a:lnTo>
                      <a:pt x="107" y="8"/>
                    </a:lnTo>
                    <a:lnTo>
                      <a:pt x="118" y="8"/>
                    </a:lnTo>
                    <a:lnTo>
                      <a:pt x="123" y="8"/>
                    </a:lnTo>
                    <a:lnTo>
                      <a:pt x="123" y="0"/>
                    </a:lnTo>
                    <a:lnTo>
                      <a:pt x="112" y="4"/>
                    </a:lnTo>
                    <a:lnTo>
                      <a:pt x="107" y="4"/>
                    </a:lnTo>
                    <a:lnTo>
                      <a:pt x="101" y="4"/>
                    </a:lnTo>
                    <a:lnTo>
                      <a:pt x="90" y="4"/>
                    </a:lnTo>
                    <a:lnTo>
                      <a:pt x="84" y="8"/>
                    </a:lnTo>
                    <a:lnTo>
                      <a:pt x="73" y="8"/>
                    </a:lnTo>
                    <a:lnTo>
                      <a:pt x="67" y="8"/>
                    </a:lnTo>
                    <a:lnTo>
                      <a:pt x="56" y="12"/>
                    </a:lnTo>
                    <a:lnTo>
                      <a:pt x="51" y="12"/>
                    </a:lnTo>
                    <a:lnTo>
                      <a:pt x="45" y="16"/>
                    </a:lnTo>
                    <a:lnTo>
                      <a:pt x="34" y="16"/>
                    </a:lnTo>
                    <a:lnTo>
                      <a:pt x="28" y="20"/>
                    </a:lnTo>
                    <a:lnTo>
                      <a:pt x="23" y="24"/>
                    </a:lnTo>
                    <a:lnTo>
                      <a:pt x="17" y="24"/>
                    </a:lnTo>
                    <a:lnTo>
                      <a:pt x="11" y="28"/>
                    </a:lnTo>
                    <a:lnTo>
                      <a:pt x="0" y="32"/>
                    </a:lnTo>
                    <a:lnTo>
                      <a:pt x="6" y="36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432160" y="30276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6" y="12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11" y="8"/>
                    </a:lnTo>
                    <a:lnTo>
                      <a:pt x="11" y="4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1" y="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1" y="8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422440" y="30276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2" y="8"/>
                    </a:lnTo>
                    <a:lnTo>
                      <a:pt x="12" y="12"/>
                    </a:lnTo>
                    <a:lnTo>
                      <a:pt x="17" y="8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173320" y="3027600"/>
                <a:ext cx="249120" cy="44280"/>
              </a:xfrm>
              <a:custGeom>
                <a:avLst/>
                <a:gdLst/>
                <a:ahLst/>
                <a:rect l="l" t="t" r="r" b="b"/>
                <a:pathLst>
                  <a:path w="157" h="28">
                    <a:moveTo>
                      <a:pt x="6" y="28"/>
                    </a:moveTo>
                    <a:lnTo>
                      <a:pt x="6" y="28"/>
                    </a:lnTo>
                    <a:lnTo>
                      <a:pt x="17" y="24"/>
                    </a:lnTo>
                    <a:lnTo>
                      <a:pt x="23" y="24"/>
                    </a:lnTo>
                    <a:lnTo>
                      <a:pt x="34" y="20"/>
                    </a:lnTo>
                    <a:lnTo>
                      <a:pt x="40" y="16"/>
                    </a:lnTo>
                    <a:lnTo>
                      <a:pt x="51" y="16"/>
                    </a:lnTo>
                    <a:lnTo>
                      <a:pt x="62" y="16"/>
                    </a:lnTo>
                    <a:lnTo>
                      <a:pt x="68" y="12"/>
                    </a:lnTo>
                    <a:lnTo>
                      <a:pt x="79" y="12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07" y="12"/>
                    </a:lnTo>
                    <a:lnTo>
                      <a:pt x="118" y="8"/>
                    </a:lnTo>
                    <a:lnTo>
                      <a:pt x="124" y="8"/>
                    </a:lnTo>
                    <a:lnTo>
                      <a:pt x="135" y="8"/>
                    </a:lnTo>
                    <a:lnTo>
                      <a:pt x="146" y="8"/>
                    </a:lnTo>
                    <a:lnTo>
                      <a:pt x="157" y="8"/>
                    </a:lnTo>
                    <a:lnTo>
                      <a:pt x="157" y="0"/>
                    </a:lnTo>
                    <a:lnTo>
                      <a:pt x="146" y="0"/>
                    </a:lnTo>
                    <a:lnTo>
                      <a:pt x="135" y="4"/>
                    </a:lnTo>
                    <a:lnTo>
                      <a:pt x="124" y="4"/>
                    </a:lnTo>
                    <a:lnTo>
                      <a:pt x="118" y="4"/>
                    </a:lnTo>
                    <a:lnTo>
                      <a:pt x="107" y="4"/>
                    </a:lnTo>
                    <a:lnTo>
                      <a:pt x="96" y="4"/>
                    </a:lnTo>
                    <a:lnTo>
                      <a:pt x="90" y="4"/>
                    </a:lnTo>
                    <a:lnTo>
                      <a:pt x="79" y="8"/>
                    </a:lnTo>
                    <a:lnTo>
                      <a:pt x="68" y="8"/>
                    </a:lnTo>
                    <a:lnTo>
                      <a:pt x="57" y="8"/>
                    </a:lnTo>
                    <a:lnTo>
                      <a:pt x="51" y="12"/>
                    </a:lnTo>
                    <a:lnTo>
                      <a:pt x="40" y="12"/>
                    </a:lnTo>
                    <a:lnTo>
                      <a:pt x="28" y="12"/>
                    </a:lnTo>
                    <a:lnTo>
                      <a:pt x="23" y="16"/>
                    </a:lnTo>
                    <a:lnTo>
                      <a:pt x="12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094120" y="3059280"/>
                <a:ext cx="88920" cy="69840"/>
              </a:xfrm>
              <a:custGeom>
                <a:avLst/>
                <a:gdLst/>
                <a:ahLst/>
                <a:rect l="l" t="t" r="r" b="b"/>
                <a:pathLst>
                  <a:path w="56" h="44">
                    <a:moveTo>
                      <a:pt x="11" y="44"/>
                    </a:moveTo>
                    <a:lnTo>
                      <a:pt x="11" y="44"/>
                    </a:lnTo>
                    <a:lnTo>
                      <a:pt x="11" y="40"/>
                    </a:lnTo>
                    <a:lnTo>
                      <a:pt x="17" y="32"/>
                    </a:lnTo>
                    <a:lnTo>
                      <a:pt x="22" y="28"/>
                    </a:lnTo>
                    <a:lnTo>
                      <a:pt x="28" y="24"/>
                    </a:lnTo>
                    <a:lnTo>
                      <a:pt x="34" y="20"/>
                    </a:lnTo>
                    <a:lnTo>
                      <a:pt x="39" y="16"/>
                    </a:lnTo>
                    <a:lnTo>
                      <a:pt x="50" y="12"/>
                    </a:lnTo>
                    <a:lnTo>
                      <a:pt x="56" y="8"/>
                    </a:lnTo>
                    <a:lnTo>
                      <a:pt x="50" y="0"/>
                    </a:lnTo>
                    <a:lnTo>
                      <a:pt x="45" y="4"/>
                    </a:lnTo>
                    <a:lnTo>
                      <a:pt x="34" y="8"/>
                    </a:lnTo>
                    <a:lnTo>
                      <a:pt x="28" y="12"/>
                    </a:lnTo>
                    <a:lnTo>
                      <a:pt x="22" y="20"/>
                    </a:lnTo>
                    <a:lnTo>
                      <a:pt x="17" y="24"/>
                    </a:lnTo>
                    <a:lnTo>
                      <a:pt x="11" y="32"/>
                    </a:lnTo>
                    <a:lnTo>
                      <a:pt x="6" y="36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1" y="4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094120" y="3129120"/>
                <a:ext cx="44280" cy="55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8" y="31"/>
                    </a:moveTo>
                    <a:lnTo>
                      <a:pt x="22" y="28"/>
                    </a:lnTo>
                    <a:lnTo>
                      <a:pt x="22" y="28"/>
                    </a:lnTo>
                    <a:lnTo>
                      <a:pt x="17" y="24"/>
                    </a:lnTo>
                    <a:lnTo>
                      <a:pt x="11" y="20"/>
                    </a:lnTo>
                    <a:lnTo>
                      <a:pt x="11" y="16"/>
                    </a:lnTo>
                    <a:lnTo>
                      <a:pt x="11" y="12"/>
                    </a:lnTo>
                    <a:lnTo>
                      <a:pt x="11" y="8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6" y="24"/>
                    </a:lnTo>
                    <a:lnTo>
                      <a:pt x="11" y="28"/>
                    </a:lnTo>
                    <a:lnTo>
                      <a:pt x="17" y="31"/>
                    </a:lnTo>
                    <a:lnTo>
                      <a:pt x="22" y="35"/>
                    </a:lnTo>
                    <a:lnTo>
                      <a:pt x="28" y="35"/>
                    </a:lnTo>
                    <a:lnTo>
                      <a:pt x="28" y="3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094120" y="3160800"/>
                <a:ext cx="533160" cy="150840"/>
              </a:xfrm>
              <a:custGeom>
                <a:avLst/>
                <a:gdLst/>
                <a:ahLst/>
                <a:rect l="l" t="t" r="r" b="b"/>
                <a:pathLst>
                  <a:path w="336" h="95">
                    <a:moveTo>
                      <a:pt x="336" y="0"/>
                    </a:moveTo>
                    <a:lnTo>
                      <a:pt x="325" y="4"/>
                    </a:lnTo>
                    <a:lnTo>
                      <a:pt x="314" y="4"/>
                    </a:lnTo>
                    <a:lnTo>
                      <a:pt x="297" y="8"/>
                    </a:lnTo>
                    <a:lnTo>
                      <a:pt x="286" y="8"/>
                    </a:lnTo>
                    <a:lnTo>
                      <a:pt x="269" y="8"/>
                    </a:lnTo>
                    <a:lnTo>
                      <a:pt x="258" y="8"/>
                    </a:lnTo>
                    <a:lnTo>
                      <a:pt x="247" y="11"/>
                    </a:lnTo>
                    <a:lnTo>
                      <a:pt x="230" y="11"/>
                    </a:lnTo>
                    <a:lnTo>
                      <a:pt x="219" y="11"/>
                    </a:lnTo>
                    <a:lnTo>
                      <a:pt x="207" y="11"/>
                    </a:lnTo>
                    <a:lnTo>
                      <a:pt x="191" y="11"/>
                    </a:lnTo>
                    <a:lnTo>
                      <a:pt x="179" y="11"/>
                    </a:lnTo>
                    <a:lnTo>
                      <a:pt x="163" y="11"/>
                    </a:lnTo>
                    <a:lnTo>
                      <a:pt x="151" y="15"/>
                    </a:lnTo>
                    <a:lnTo>
                      <a:pt x="135" y="15"/>
                    </a:lnTo>
                    <a:lnTo>
                      <a:pt x="123" y="15"/>
                    </a:lnTo>
                    <a:lnTo>
                      <a:pt x="112" y="19"/>
                    </a:lnTo>
                    <a:lnTo>
                      <a:pt x="101" y="15"/>
                    </a:lnTo>
                    <a:lnTo>
                      <a:pt x="84" y="15"/>
                    </a:lnTo>
                    <a:lnTo>
                      <a:pt x="73" y="15"/>
                    </a:lnTo>
                    <a:lnTo>
                      <a:pt x="62" y="11"/>
                    </a:lnTo>
                    <a:lnTo>
                      <a:pt x="50" y="11"/>
                    </a:lnTo>
                    <a:lnTo>
                      <a:pt x="39" y="11"/>
                    </a:lnTo>
                    <a:lnTo>
                      <a:pt x="28" y="11"/>
                    </a:lnTo>
                    <a:lnTo>
                      <a:pt x="22" y="15"/>
                    </a:lnTo>
                    <a:lnTo>
                      <a:pt x="11" y="19"/>
                    </a:lnTo>
                    <a:lnTo>
                      <a:pt x="6" y="27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6" y="63"/>
                    </a:lnTo>
                    <a:lnTo>
                      <a:pt x="6" y="71"/>
                    </a:lnTo>
                    <a:lnTo>
                      <a:pt x="11" y="75"/>
                    </a:lnTo>
                    <a:lnTo>
                      <a:pt x="17" y="79"/>
                    </a:lnTo>
                    <a:lnTo>
                      <a:pt x="22" y="83"/>
                    </a:lnTo>
                    <a:lnTo>
                      <a:pt x="34" y="87"/>
                    </a:lnTo>
                    <a:lnTo>
                      <a:pt x="39" y="87"/>
                    </a:lnTo>
                    <a:lnTo>
                      <a:pt x="50" y="91"/>
                    </a:lnTo>
                    <a:lnTo>
                      <a:pt x="56" y="91"/>
                    </a:lnTo>
                    <a:lnTo>
                      <a:pt x="62" y="95"/>
                    </a:lnTo>
                    <a:lnTo>
                      <a:pt x="62" y="95"/>
                    </a:lnTo>
                    <a:lnTo>
                      <a:pt x="62" y="95"/>
                    </a:lnTo>
                    <a:lnTo>
                      <a:pt x="62" y="95"/>
                    </a:lnTo>
                    <a:lnTo>
                      <a:pt x="62" y="95"/>
                    </a:lnTo>
                    <a:lnTo>
                      <a:pt x="3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289240" y="3154320"/>
                <a:ext cx="347760" cy="36720"/>
              </a:xfrm>
              <a:custGeom>
                <a:avLst/>
                <a:gdLst/>
                <a:ahLst/>
                <a:rect l="l" t="t" r="r" b="b"/>
                <a:pathLst>
                  <a:path w="219" h="23">
                    <a:moveTo>
                      <a:pt x="0" y="23"/>
                    </a:moveTo>
                    <a:lnTo>
                      <a:pt x="0" y="23"/>
                    </a:lnTo>
                    <a:lnTo>
                      <a:pt x="12" y="23"/>
                    </a:lnTo>
                    <a:lnTo>
                      <a:pt x="28" y="19"/>
                    </a:lnTo>
                    <a:lnTo>
                      <a:pt x="40" y="19"/>
                    </a:lnTo>
                    <a:lnTo>
                      <a:pt x="56" y="19"/>
                    </a:lnTo>
                    <a:lnTo>
                      <a:pt x="68" y="19"/>
                    </a:lnTo>
                    <a:lnTo>
                      <a:pt x="84" y="19"/>
                    </a:lnTo>
                    <a:lnTo>
                      <a:pt x="96" y="19"/>
                    </a:lnTo>
                    <a:lnTo>
                      <a:pt x="107" y="15"/>
                    </a:lnTo>
                    <a:lnTo>
                      <a:pt x="124" y="15"/>
                    </a:lnTo>
                    <a:lnTo>
                      <a:pt x="135" y="15"/>
                    </a:lnTo>
                    <a:lnTo>
                      <a:pt x="146" y="15"/>
                    </a:lnTo>
                    <a:lnTo>
                      <a:pt x="163" y="15"/>
                    </a:lnTo>
                    <a:lnTo>
                      <a:pt x="174" y="12"/>
                    </a:lnTo>
                    <a:lnTo>
                      <a:pt x="191" y="12"/>
                    </a:lnTo>
                    <a:lnTo>
                      <a:pt x="202" y="8"/>
                    </a:lnTo>
                    <a:lnTo>
                      <a:pt x="219" y="8"/>
                    </a:lnTo>
                    <a:lnTo>
                      <a:pt x="213" y="0"/>
                    </a:lnTo>
                    <a:lnTo>
                      <a:pt x="202" y="4"/>
                    </a:lnTo>
                    <a:lnTo>
                      <a:pt x="191" y="8"/>
                    </a:lnTo>
                    <a:lnTo>
                      <a:pt x="174" y="8"/>
                    </a:lnTo>
                    <a:lnTo>
                      <a:pt x="163" y="8"/>
                    </a:lnTo>
                    <a:lnTo>
                      <a:pt x="146" y="8"/>
                    </a:lnTo>
                    <a:lnTo>
                      <a:pt x="135" y="12"/>
                    </a:lnTo>
                    <a:lnTo>
                      <a:pt x="124" y="12"/>
                    </a:lnTo>
                    <a:lnTo>
                      <a:pt x="107" y="12"/>
                    </a:lnTo>
                    <a:lnTo>
                      <a:pt x="96" y="12"/>
                    </a:lnTo>
                    <a:lnTo>
                      <a:pt x="84" y="12"/>
                    </a:lnTo>
                    <a:lnTo>
                      <a:pt x="68" y="12"/>
                    </a:lnTo>
                    <a:lnTo>
                      <a:pt x="56" y="12"/>
                    </a:lnTo>
                    <a:lnTo>
                      <a:pt x="40" y="15"/>
                    </a:lnTo>
                    <a:lnTo>
                      <a:pt x="28" y="15"/>
                    </a:lnTo>
                    <a:lnTo>
                      <a:pt x="12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138400" y="3173400"/>
                <a:ext cx="150840" cy="17640"/>
              </a:xfrm>
              <a:custGeom>
                <a:avLst/>
                <a:gdLst/>
                <a:ahLst/>
                <a:rect l="l" t="t" r="r" b="b"/>
                <a:pathLst>
                  <a:path w="95" h="11">
                    <a:moveTo>
                      <a:pt x="6" y="7"/>
                    </a:moveTo>
                    <a:lnTo>
                      <a:pt x="6" y="7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34" y="7"/>
                    </a:lnTo>
                    <a:lnTo>
                      <a:pt x="45" y="7"/>
                    </a:lnTo>
                    <a:lnTo>
                      <a:pt x="56" y="11"/>
                    </a:lnTo>
                    <a:lnTo>
                      <a:pt x="73" y="11"/>
                    </a:lnTo>
                    <a:lnTo>
                      <a:pt x="84" y="11"/>
                    </a:lnTo>
                    <a:lnTo>
                      <a:pt x="95" y="11"/>
                    </a:lnTo>
                    <a:lnTo>
                      <a:pt x="95" y="7"/>
                    </a:lnTo>
                    <a:lnTo>
                      <a:pt x="84" y="7"/>
                    </a:lnTo>
                    <a:lnTo>
                      <a:pt x="73" y="7"/>
                    </a:lnTo>
                    <a:lnTo>
                      <a:pt x="62" y="3"/>
                    </a:lnTo>
                    <a:lnTo>
                      <a:pt x="50" y="3"/>
                    </a:lnTo>
                    <a:lnTo>
                      <a:pt x="39" y="3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084400" y="3178440"/>
                <a:ext cx="63720" cy="95040"/>
              </a:xfrm>
              <a:custGeom>
                <a:avLst/>
                <a:gdLst/>
                <a:ahLst/>
                <a:rect l="l" t="t" r="r" b="b"/>
                <a:pathLst>
                  <a:path w="40" h="60">
                    <a:moveTo>
                      <a:pt x="17" y="56"/>
                    </a:moveTo>
                    <a:lnTo>
                      <a:pt x="17" y="56"/>
                    </a:lnTo>
                    <a:lnTo>
                      <a:pt x="12" y="52"/>
                    </a:lnTo>
                    <a:lnTo>
                      <a:pt x="12" y="40"/>
                    </a:lnTo>
                    <a:lnTo>
                      <a:pt x="12" y="32"/>
                    </a:lnTo>
                    <a:lnTo>
                      <a:pt x="12" y="24"/>
                    </a:lnTo>
                    <a:lnTo>
                      <a:pt x="17" y="16"/>
                    </a:lnTo>
                    <a:lnTo>
                      <a:pt x="23" y="12"/>
                    </a:lnTo>
                    <a:lnTo>
                      <a:pt x="28" y="8"/>
                    </a:lnTo>
                    <a:lnTo>
                      <a:pt x="40" y="4"/>
                    </a:lnTo>
                    <a:lnTo>
                      <a:pt x="34" y="0"/>
                    </a:lnTo>
                    <a:lnTo>
                      <a:pt x="23" y="4"/>
                    </a:lnTo>
                    <a:lnTo>
                      <a:pt x="12" y="8"/>
                    </a:lnTo>
                    <a:lnTo>
                      <a:pt x="6" y="16"/>
                    </a:lnTo>
                    <a:lnTo>
                      <a:pt x="6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6" y="52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17" y="5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103480" y="3267360"/>
                <a:ext cx="133200" cy="5076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56" y="32"/>
                    </a:moveTo>
                    <a:lnTo>
                      <a:pt x="61" y="24"/>
                    </a:lnTo>
                    <a:lnTo>
                      <a:pt x="50" y="24"/>
                    </a:lnTo>
                    <a:lnTo>
                      <a:pt x="44" y="20"/>
                    </a:lnTo>
                    <a:lnTo>
                      <a:pt x="33" y="20"/>
                    </a:lnTo>
                    <a:lnTo>
                      <a:pt x="28" y="16"/>
                    </a:lnTo>
                    <a:lnTo>
                      <a:pt x="22" y="12"/>
                    </a:lnTo>
                    <a:lnTo>
                      <a:pt x="16" y="12"/>
                    </a:lnTo>
                    <a:lnTo>
                      <a:pt x="11" y="8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12"/>
                    </a:lnTo>
                    <a:lnTo>
                      <a:pt x="11" y="16"/>
                    </a:lnTo>
                    <a:lnTo>
                      <a:pt x="16" y="20"/>
                    </a:lnTo>
                    <a:lnTo>
                      <a:pt x="22" y="24"/>
                    </a:lnTo>
                    <a:lnTo>
                      <a:pt x="33" y="24"/>
                    </a:lnTo>
                    <a:lnTo>
                      <a:pt x="39" y="28"/>
                    </a:lnTo>
                    <a:lnTo>
                      <a:pt x="50" y="28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56" y="32"/>
                    </a:lnTo>
                    <a:lnTo>
                      <a:pt x="84" y="32"/>
                    </a:lnTo>
                    <a:lnTo>
                      <a:pt x="61" y="24"/>
                    </a:lnTo>
                    <a:lnTo>
                      <a:pt x="5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192400" y="330516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0" h="8">
                    <a:moveTo>
                      <a:pt x="0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040120" y="3305160"/>
                <a:ext cx="534960" cy="152640"/>
              </a:xfrm>
              <a:custGeom>
                <a:avLst/>
                <a:gdLst/>
                <a:ahLst/>
                <a:rect l="l" t="t" r="r" b="b"/>
                <a:pathLst>
                  <a:path w="337" h="96">
                    <a:moveTo>
                      <a:pt x="337" y="12"/>
                    </a:moveTo>
                    <a:lnTo>
                      <a:pt x="326" y="12"/>
                    </a:lnTo>
                    <a:lnTo>
                      <a:pt x="314" y="12"/>
                    </a:lnTo>
                    <a:lnTo>
                      <a:pt x="303" y="12"/>
                    </a:lnTo>
                    <a:lnTo>
                      <a:pt x="298" y="16"/>
                    </a:lnTo>
                    <a:lnTo>
                      <a:pt x="286" y="16"/>
                    </a:lnTo>
                    <a:lnTo>
                      <a:pt x="275" y="16"/>
                    </a:lnTo>
                    <a:lnTo>
                      <a:pt x="264" y="20"/>
                    </a:lnTo>
                    <a:lnTo>
                      <a:pt x="253" y="20"/>
                    </a:lnTo>
                    <a:lnTo>
                      <a:pt x="247" y="20"/>
                    </a:lnTo>
                    <a:lnTo>
                      <a:pt x="236" y="20"/>
                    </a:lnTo>
                    <a:lnTo>
                      <a:pt x="225" y="24"/>
                    </a:lnTo>
                    <a:lnTo>
                      <a:pt x="213" y="24"/>
                    </a:lnTo>
                    <a:lnTo>
                      <a:pt x="202" y="24"/>
                    </a:lnTo>
                    <a:lnTo>
                      <a:pt x="191" y="24"/>
                    </a:lnTo>
                    <a:lnTo>
                      <a:pt x="180" y="24"/>
                    </a:lnTo>
                    <a:lnTo>
                      <a:pt x="169" y="24"/>
                    </a:lnTo>
                    <a:lnTo>
                      <a:pt x="157" y="20"/>
                    </a:lnTo>
                    <a:lnTo>
                      <a:pt x="146" y="20"/>
                    </a:lnTo>
                    <a:lnTo>
                      <a:pt x="135" y="16"/>
                    </a:lnTo>
                    <a:lnTo>
                      <a:pt x="124" y="12"/>
                    </a:lnTo>
                    <a:lnTo>
                      <a:pt x="107" y="8"/>
                    </a:lnTo>
                    <a:lnTo>
                      <a:pt x="96" y="4"/>
                    </a:lnTo>
                    <a:lnTo>
                      <a:pt x="84" y="0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51" y="0"/>
                    </a:lnTo>
                    <a:lnTo>
                      <a:pt x="40" y="0"/>
                    </a:lnTo>
                    <a:lnTo>
                      <a:pt x="34" y="4"/>
                    </a:lnTo>
                    <a:lnTo>
                      <a:pt x="23" y="8"/>
                    </a:lnTo>
                    <a:lnTo>
                      <a:pt x="17" y="12"/>
                    </a:lnTo>
                    <a:lnTo>
                      <a:pt x="12" y="16"/>
                    </a:lnTo>
                    <a:lnTo>
                      <a:pt x="6" y="24"/>
                    </a:lnTo>
                    <a:lnTo>
                      <a:pt x="0" y="36"/>
                    </a:lnTo>
                    <a:lnTo>
                      <a:pt x="0" y="48"/>
                    </a:lnTo>
                    <a:lnTo>
                      <a:pt x="6" y="60"/>
                    </a:lnTo>
                    <a:lnTo>
                      <a:pt x="17" y="72"/>
                    </a:lnTo>
                    <a:lnTo>
                      <a:pt x="23" y="76"/>
                    </a:lnTo>
                    <a:lnTo>
                      <a:pt x="34" y="80"/>
                    </a:lnTo>
                    <a:lnTo>
                      <a:pt x="45" y="84"/>
                    </a:lnTo>
                    <a:lnTo>
                      <a:pt x="51" y="88"/>
                    </a:lnTo>
                    <a:lnTo>
                      <a:pt x="62" y="92"/>
                    </a:lnTo>
                    <a:lnTo>
                      <a:pt x="73" y="92"/>
                    </a:lnTo>
                    <a:lnTo>
                      <a:pt x="84" y="96"/>
                    </a:lnTo>
                    <a:lnTo>
                      <a:pt x="96" y="96"/>
                    </a:lnTo>
                    <a:lnTo>
                      <a:pt x="33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308320" y="3318120"/>
                <a:ext cx="266760" cy="25200"/>
              </a:xfrm>
              <a:custGeom>
                <a:avLst/>
                <a:gdLst/>
                <a:ahLst/>
                <a:rect l="l" t="t" r="r" b="b"/>
                <a:pathLst>
                  <a:path w="168" h="16">
                    <a:moveTo>
                      <a:pt x="0" y="16"/>
                    </a:moveTo>
                    <a:lnTo>
                      <a:pt x="0" y="16"/>
                    </a:lnTo>
                    <a:lnTo>
                      <a:pt x="11" y="16"/>
                    </a:lnTo>
                    <a:lnTo>
                      <a:pt x="22" y="16"/>
                    </a:lnTo>
                    <a:lnTo>
                      <a:pt x="33" y="16"/>
                    </a:lnTo>
                    <a:lnTo>
                      <a:pt x="44" y="16"/>
                    </a:lnTo>
                    <a:lnTo>
                      <a:pt x="56" y="16"/>
                    </a:lnTo>
                    <a:lnTo>
                      <a:pt x="67" y="16"/>
                    </a:lnTo>
                    <a:lnTo>
                      <a:pt x="78" y="16"/>
                    </a:lnTo>
                    <a:lnTo>
                      <a:pt x="84" y="16"/>
                    </a:lnTo>
                    <a:lnTo>
                      <a:pt x="95" y="12"/>
                    </a:lnTo>
                    <a:lnTo>
                      <a:pt x="106" y="12"/>
                    </a:lnTo>
                    <a:lnTo>
                      <a:pt x="117" y="12"/>
                    </a:lnTo>
                    <a:lnTo>
                      <a:pt x="129" y="8"/>
                    </a:lnTo>
                    <a:lnTo>
                      <a:pt x="134" y="8"/>
                    </a:lnTo>
                    <a:lnTo>
                      <a:pt x="145" y="8"/>
                    </a:lnTo>
                    <a:lnTo>
                      <a:pt x="157" y="8"/>
                    </a:lnTo>
                    <a:lnTo>
                      <a:pt x="168" y="4"/>
                    </a:lnTo>
                    <a:lnTo>
                      <a:pt x="168" y="0"/>
                    </a:lnTo>
                    <a:lnTo>
                      <a:pt x="157" y="0"/>
                    </a:lnTo>
                    <a:lnTo>
                      <a:pt x="145" y="4"/>
                    </a:lnTo>
                    <a:lnTo>
                      <a:pt x="134" y="4"/>
                    </a:lnTo>
                    <a:lnTo>
                      <a:pt x="123" y="4"/>
                    </a:lnTo>
                    <a:lnTo>
                      <a:pt x="117" y="4"/>
                    </a:lnTo>
                    <a:lnTo>
                      <a:pt x="106" y="8"/>
                    </a:lnTo>
                    <a:lnTo>
                      <a:pt x="95" y="8"/>
                    </a:lnTo>
                    <a:lnTo>
                      <a:pt x="84" y="8"/>
                    </a:lnTo>
                    <a:lnTo>
                      <a:pt x="78" y="8"/>
                    </a:lnTo>
                    <a:lnTo>
                      <a:pt x="67" y="12"/>
                    </a:lnTo>
                    <a:lnTo>
                      <a:pt x="56" y="12"/>
                    </a:lnTo>
                    <a:lnTo>
                      <a:pt x="44" y="12"/>
                    </a:lnTo>
                    <a:lnTo>
                      <a:pt x="33" y="12"/>
                    </a:lnTo>
                    <a:lnTo>
                      <a:pt x="22" y="12"/>
                    </a:lnTo>
                    <a:lnTo>
                      <a:pt x="1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48120" y="3299040"/>
                <a:ext cx="160200" cy="44280"/>
              </a:xfrm>
              <a:custGeom>
                <a:avLst/>
                <a:gdLst/>
                <a:ahLst/>
                <a:rect l="l" t="t" r="r" b="b"/>
                <a:pathLst>
                  <a:path w="101" h="28">
                    <a:moveTo>
                      <a:pt x="0" y="4"/>
                    </a:moveTo>
                    <a:lnTo>
                      <a:pt x="0" y="4"/>
                    </a:lnTo>
                    <a:lnTo>
                      <a:pt x="16" y="8"/>
                    </a:lnTo>
                    <a:lnTo>
                      <a:pt x="28" y="12"/>
                    </a:lnTo>
                    <a:lnTo>
                      <a:pt x="39" y="16"/>
                    </a:lnTo>
                    <a:lnTo>
                      <a:pt x="50" y="20"/>
                    </a:lnTo>
                    <a:lnTo>
                      <a:pt x="61" y="24"/>
                    </a:lnTo>
                    <a:lnTo>
                      <a:pt x="78" y="24"/>
                    </a:lnTo>
                    <a:lnTo>
                      <a:pt x="89" y="28"/>
                    </a:lnTo>
                    <a:lnTo>
                      <a:pt x="101" y="28"/>
                    </a:lnTo>
                    <a:lnTo>
                      <a:pt x="101" y="24"/>
                    </a:lnTo>
                    <a:lnTo>
                      <a:pt x="89" y="20"/>
                    </a:lnTo>
                    <a:lnTo>
                      <a:pt x="78" y="20"/>
                    </a:lnTo>
                    <a:lnTo>
                      <a:pt x="67" y="16"/>
                    </a:lnTo>
                    <a:lnTo>
                      <a:pt x="56" y="12"/>
                    </a:lnTo>
                    <a:lnTo>
                      <a:pt x="44" y="8"/>
                    </a:lnTo>
                    <a:lnTo>
                      <a:pt x="28" y="4"/>
                    </a:lnTo>
                    <a:lnTo>
                      <a:pt x="16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040120" y="3299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73" h="28">
                    <a:moveTo>
                      <a:pt x="12" y="28"/>
                    </a:moveTo>
                    <a:lnTo>
                      <a:pt x="12" y="28"/>
                    </a:lnTo>
                    <a:lnTo>
                      <a:pt x="17" y="24"/>
                    </a:lnTo>
                    <a:lnTo>
                      <a:pt x="23" y="20"/>
                    </a:lnTo>
                    <a:lnTo>
                      <a:pt x="28" y="16"/>
                    </a:lnTo>
                    <a:lnTo>
                      <a:pt x="34" y="12"/>
                    </a:lnTo>
                    <a:lnTo>
                      <a:pt x="45" y="8"/>
                    </a:lnTo>
                    <a:lnTo>
                      <a:pt x="51" y="4"/>
                    </a:lnTo>
                    <a:lnTo>
                      <a:pt x="62" y="4"/>
                    </a:lnTo>
                    <a:lnTo>
                      <a:pt x="68" y="4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51" y="0"/>
                    </a:lnTo>
                    <a:lnTo>
                      <a:pt x="40" y="4"/>
                    </a:lnTo>
                    <a:lnTo>
                      <a:pt x="28" y="4"/>
                    </a:lnTo>
                    <a:lnTo>
                      <a:pt x="23" y="8"/>
                    </a:lnTo>
                    <a:lnTo>
                      <a:pt x="12" y="16"/>
                    </a:lnTo>
                    <a:lnTo>
                      <a:pt x="6" y="2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032200" y="3343320"/>
                <a:ext cx="34920" cy="76320"/>
              </a:xfrm>
              <a:custGeom>
                <a:avLst/>
                <a:gdLst/>
                <a:ahLst/>
                <a:rect l="l" t="t" r="r" b="b"/>
                <a:pathLst>
                  <a:path w="22" h="48">
                    <a:moveTo>
                      <a:pt x="22" y="44"/>
                    </a:moveTo>
                    <a:lnTo>
                      <a:pt x="22" y="44"/>
                    </a:lnTo>
                    <a:lnTo>
                      <a:pt x="11" y="36"/>
                    </a:lnTo>
                    <a:lnTo>
                      <a:pt x="11" y="24"/>
                    </a:lnTo>
                    <a:lnTo>
                      <a:pt x="11" y="12"/>
                    </a:lnTo>
                    <a:lnTo>
                      <a:pt x="17" y="0"/>
                    </a:lnTo>
                    <a:lnTo>
                      <a:pt x="5" y="0"/>
                    </a:lnTo>
                    <a:lnTo>
                      <a:pt x="5" y="12"/>
                    </a:lnTo>
                    <a:lnTo>
                      <a:pt x="0" y="24"/>
                    </a:lnTo>
                    <a:lnTo>
                      <a:pt x="5" y="36"/>
                    </a:lnTo>
                    <a:lnTo>
                      <a:pt x="17" y="48"/>
                    </a:lnTo>
                    <a:lnTo>
                      <a:pt x="17" y="48"/>
                    </a:lnTo>
                    <a:lnTo>
                      <a:pt x="22" y="4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059200" y="3413160"/>
                <a:ext cx="133200" cy="50760"/>
              </a:xfrm>
              <a:custGeom>
                <a:avLst/>
                <a:gdLst/>
                <a:ahLst/>
                <a:rect l="l" t="t" r="r" b="b"/>
                <a:pathLst>
                  <a:path w="84" h="32">
                    <a:moveTo>
                      <a:pt x="84" y="28"/>
                    </a:moveTo>
                    <a:lnTo>
                      <a:pt x="72" y="24"/>
                    </a:lnTo>
                    <a:lnTo>
                      <a:pt x="61" y="24"/>
                    </a:lnTo>
                    <a:lnTo>
                      <a:pt x="50" y="20"/>
                    </a:lnTo>
                    <a:lnTo>
                      <a:pt x="44" y="16"/>
                    </a:lnTo>
                    <a:lnTo>
                      <a:pt x="33" y="12"/>
                    </a:lnTo>
                    <a:lnTo>
                      <a:pt x="22" y="8"/>
                    </a:lnTo>
                    <a:lnTo>
                      <a:pt x="16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1" y="8"/>
                    </a:lnTo>
                    <a:lnTo>
                      <a:pt x="16" y="16"/>
                    </a:lnTo>
                    <a:lnTo>
                      <a:pt x="28" y="20"/>
                    </a:lnTo>
                    <a:lnTo>
                      <a:pt x="39" y="24"/>
                    </a:lnTo>
                    <a:lnTo>
                      <a:pt x="50" y="24"/>
                    </a:lnTo>
                    <a:lnTo>
                      <a:pt x="61" y="28"/>
                    </a:lnTo>
                    <a:lnTo>
                      <a:pt x="72" y="32"/>
                    </a:lnTo>
                    <a:lnTo>
                      <a:pt x="84" y="32"/>
                    </a:lnTo>
                    <a:lnTo>
                      <a:pt x="84" y="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005200" y="3444840"/>
                <a:ext cx="488880" cy="171720"/>
              </a:xfrm>
              <a:custGeom>
                <a:avLst/>
                <a:gdLst/>
                <a:ahLst/>
                <a:rect l="l" t="t" r="r" b="b"/>
                <a:pathLst>
                  <a:path w="308" h="108">
                    <a:moveTo>
                      <a:pt x="308" y="28"/>
                    </a:moveTo>
                    <a:lnTo>
                      <a:pt x="297" y="28"/>
                    </a:lnTo>
                    <a:lnTo>
                      <a:pt x="286" y="28"/>
                    </a:lnTo>
                    <a:lnTo>
                      <a:pt x="269" y="28"/>
                    </a:lnTo>
                    <a:lnTo>
                      <a:pt x="258" y="28"/>
                    </a:lnTo>
                    <a:lnTo>
                      <a:pt x="247" y="24"/>
                    </a:lnTo>
                    <a:lnTo>
                      <a:pt x="230" y="24"/>
                    </a:lnTo>
                    <a:lnTo>
                      <a:pt x="219" y="24"/>
                    </a:lnTo>
                    <a:lnTo>
                      <a:pt x="207" y="24"/>
                    </a:lnTo>
                    <a:lnTo>
                      <a:pt x="191" y="20"/>
                    </a:lnTo>
                    <a:lnTo>
                      <a:pt x="179" y="20"/>
                    </a:lnTo>
                    <a:lnTo>
                      <a:pt x="168" y="20"/>
                    </a:lnTo>
                    <a:lnTo>
                      <a:pt x="157" y="16"/>
                    </a:lnTo>
                    <a:lnTo>
                      <a:pt x="146" y="16"/>
                    </a:lnTo>
                    <a:lnTo>
                      <a:pt x="129" y="12"/>
                    </a:lnTo>
                    <a:lnTo>
                      <a:pt x="118" y="12"/>
                    </a:lnTo>
                    <a:lnTo>
                      <a:pt x="112" y="8"/>
                    </a:lnTo>
                    <a:lnTo>
                      <a:pt x="95" y="4"/>
                    </a:lnTo>
                    <a:lnTo>
                      <a:pt x="78" y="4"/>
                    </a:lnTo>
                    <a:lnTo>
                      <a:pt x="67" y="0"/>
                    </a:lnTo>
                    <a:lnTo>
                      <a:pt x="50" y="0"/>
                    </a:lnTo>
                    <a:lnTo>
                      <a:pt x="39" y="4"/>
                    </a:lnTo>
                    <a:lnTo>
                      <a:pt x="28" y="8"/>
                    </a:lnTo>
                    <a:lnTo>
                      <a:pt x="17" y="16"/>
                    </a:lnTo>
                    <a:lnTo>
                      <a:pt x="5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0" y="52"/>
                    </a:lnTo>
                    <a:lnTo>
                      <a:pt x="5" y="60"/>
                    </a:lnTo>
                    <a:lnTo>
                      <a:pt x="11" y="68"/>
                    </a:lnTo>
                    <a:lnTo>
                      <a:pt x="22" y="72"/>
                    </a:lnTo>
                    <a:lnTo>
                      <a:pt x="28" y="76"/>
                    </a:lnTo>
                    <a:lnTo>
                      <a:pt x="39" y="80"/>
                    </a:lnTo>
                    <a:lnTo>
                      <a:pt x="45" y="80"/>
                    </a:lnTo>
                    <a:lnTo>
                      <a:pt x="50" y="84"/>
                    </a:lnTo>
                    <a:lnTo>
                      <a:pt x="56" y="84"/>
                    </a:lnTo>
                    <a:lnTo>
                      <a:pt x="67" y="88"/>
                    </a:lnTo>
                    <a:lnTo>
                      <a:pt x="73" y="88"/>
                    </a:lnTo>
                    <a:lnTo>
                      <a:pt x="78" y="92"/>
                    </a:lnTo>
                    <a:lnTo>
                      <a:pt x="90" y="92"/>
                    </a:lnTo>
                    <a:lnTo>
                      <a:pt x="95" y="96"/>
                    </a:lnTo>
                    <a:lnTo>
                      <a:pt x="106" y="96"/>
                    </a:lnTo>
                    <a:lnTo>
                      <a:pt x="112" y="100"/>
                    </a:lnTo>
                    <a:lnTo>
                      <a:pt x="118" y="100"/>
                    </a:lnTo>
                    <a:lnTo>
                      <a:pt x="129" y="104"/>
                    </a:lnTo>
                    <a:lnTo>
                      <a:pt x="134" y="104"/>
                    </a:lnTo>
                    <a:lnTo>
                      <a:pt x="146" y="104"/>
                    </a:lnTo>
                    <a:lnTo>
                      <a:pt x="151" y="108"/>
                    </a:lnTo>
                    <a:lnTo>
                      <a:pt x="308" y="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173320" y="3451320"/>
                <a:ext cx="320760" cy="44640"/>
              </a:xfrm>
              <a:custGeom>
                <a:avLst/>
                <a:gdLst/>
                <a:ahLst/>
                <a:rect l="l" t="t" r="r" b="b"/>
                <a:pathLst>
                  <a:path w="202" h="28">
                    <a:moveTo>
                      <a:pt x="0" y="8"/>
                    </a:moveTo>
                    <a:lnTo>
                      <a:pt x="0" y="8"/>
                    </a:lnTo>
                    <a:lnTo>
                      <a:pt x="12" y="8"/>
                    </a:lnTo>
                    <a:lnTo>
                      <a:pt x="23" y="12"/>
                    </a:lnTo>
                    <a:lnTo>
                      <a:pt x="40" y="12"/>
                    </a:lnTo>
                    <a:lnTo>
                      <a:pt x="51" y="16"/>
                    </a:lnTo>
                    <a:lnTo>
                      <a:pt x="62" y="16"/>
                    </a:lnTo>
                    <a:lnTo>
                      <a:pt x="73" y="20"/>
                    </a:lnTo>
                    <a:lnTo>
                      <a:pt x="85" y="20"/>
                    </a:lnTo>
                    <a:lnTo>
                      <a:pt x="101" y="20"/>
                    </a:lnTo>
                    <a:lnTo>
                      <a:pt x="113" y="24"/>
                    </a:lnTo>
                    <a:lnTo>
                      <a:pt x="124" y="24"/>
                    </a:lnTo>
                    <a:lnTo>
                      <a:pt x="141" y="24"/>
                    </a:lnTo>
                    <a:lnTo>
                      <a:pt x="152" y="24"/>
                    </a:lnTo>
                    <a:lnTo>
                      <a:pt x="163" y="28"/>
                    </a:lnTo>
                    <a:lnTo>
                      <a:pt x="180" y="28"/>
                    </a:lnTo>
                    <a:lnTo>
                      <a:pt x="191" y="28"/>
                    </a:lnTo>
                    <a:lnTo>
                      <a:pt x="202" y="28"/>
                    </a:lnTo>
                    <a:lnTo>
                      <a:pt x="202" y="20"/>
                    </a:lnTo>
                    <a:lnTo>
                      <a:pt x="191" y="20"/>
                    </a:lnTo>
                    <a:lnTo>
                      <a:pt x="180" y="20"/>
                    </a:lnTo>
                    <a:lnTo>
                      <a:pt x="163" y="20"/>
                    </a:lnTo>
                    <a:lnTo>
                      <a:pt x="152" y="20"/>
                    </a:lnTo>
                    <a:lnTo>
                      <a:pt x="141" y="20"/>
                    </a:lnTo>
                    <a:lnTo>
                      <a:pt x="124" y="20"/>
                    </a:lnTo>
                    <a:lnTo>
                      <a:pt x="113" y="16"/>
                    </a:lnTo>
                    <a:lnTo>
                      <a:pt x="101" y="16"/>
                    </a:lnTo>
                    <a:lnTo>
                      <a:pt x="90" y="16"/>
                    </a:lnTo>
                    <a:lnTo>
                      <a:pt x="73" y="12"/>
                    </a:lnTo>
                    <a:lnTo>
                      <a:pt x="62" y="12"/>
                    </a:lnTo>
                    <a:lnTo>
                      <a:pt x="51" y="8"/>
                    </a:lnTo>
                    <a:lnTo>
                      <a:pt x="40" y="8"/>
                    </a:lnTo>
                    <a:lnTo>
                      <a:pt x="28" y="4"/>
                    </a:lnTo>
                    <a:lnTo>
                      <a:pt x="17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005200" y="3444840"/>
                <a:ext cx="177840" cy="38160"/>
              </a:xfrm>
              <a:custGeom>
                <a:avLst/>
                <a:gdLst/>
                <a:ahLst/>
                <a:rect l="l" t="t" r="r" b="b"/>
                <a:pathLst>
                  <a:path w="112" h="24">
                    <a:moveTo>
                      <a:pt x="11" y="24"/>
                    </a:moveTo>
                    <a:lnTo>
                      <a:pt x="11" y="24"/>
                    </a:lnTo>
                    <a:lnTo>
                      <a:pt x="17" y="16"/>
                    </a:lnTo>
                    <a:lnTo>
                      <a:pt x="28" y="12"/>
                    </a:lnTo>
                    <a:lnTo>
                      <a:pt x="39" y="8"/>
                    </a:lnTo>
                    <a:lnTo>
                      <a:pt x="50" y="4"/>
                    </a:lnTo>
                    <a:lnTo>
                      <a:pt x="67" y="4"/>
                    </a:lnTo>
                    <a:lnTo>
                      <a:pt x="78" y="4"/>
                    </a:lnTo>
                    <a:lnTo>
                      <a:pt x="95" y="8"/>
                    </a:lnTo>
                    <a:lnTo>
                      <a:pt x="106" y="12"/>
                    </a:lnTo>
                    <a:lnTo>
                      <a:pt x="112" y="4"/>
                    </a:lnTo>
                    <a:lnTo>
                      <a:pt x="95" y="0"/>
                    </a:lnTo>
                    <a:lnTo>
                      <a:pt x="84" y="0"/>
                    </a:lnTo>
                    <a:lnTo>
                      <a:pt x="67" y="0"/>
                    </a:lnTo>
                    <a:lnTo>
                      <a:pt x="50" y="0"/>
                    </a:lnTo>
                    <a:lnTo>
                      <a:pt x="39" y="0"/>
                    </a:lnTo>
                    <a:lnTo>
                      <a:pt x="22" y="4"/>
                    </a:lnTo>
                    <a:lnTo>
                      <a:pt x="11" y="1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995480" y="3483000"/>
                <a:ext cx="63720" cy="88920"/>
              </a:xfrm>
              <a:custGeom>
                <a:avLst/>
                <a:gdLst/>
                <a:ahLst/>
                <a:rect l="l" t="t" r="r" b="b"/>
                <a:pathLst>
                  <a:path w="40" h="56">
                    <a:moveTo>
                      <a:pt x="40" y="48"/>
                    </a:moveTo>
                    <a:lnTo>
                      <a:pt x="40" y="48"/>
                    </a:lnTo>
                    <a:lnTo>
                      <a:pt x="28" y="44"/>
                    </a:lnTo>
                    <a:lnTo>
                      <a:pt x="23" y="40"/>
                    </a:lnTo>
                    <a:lnTo>
                      <a:pt x="17" y="36"/>
                    </a:lnTo>
                    <a:lnTo>
                      <a:pt x="11" y="28"/>
                    </a:lnTo>
                    <a:lnTo>
                      <a:pt x="11" y="24"/>
                    </a:lnTo>
                    <a:lnTo>
                      <a:pt x="11" y="16"/>
                    </a:lnTo>
                    <a:lnTo>
                      <a:pt x="11" y="8"/>
                    </a:lnTo>
                    <a:lnTo>
                      <a:pt x="17" y="0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6" y="32"/>
                    </a:lnTo>
                    <a:lnTo>
                      <a:pt x="11" y="36"/>
                    </a:lnTo>
                    <a:lnTo>
                      <a:pt x="17" y="44"/>
                    </a:lnTo>
                    <a:lnTo>
                      <a:pt x="23" y="48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4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049480" y="3559320"/>
                <a:ext cx="195480" cy="57240"/>
              </a:xfrm>
              <a:custGeom>
                <a:avLst/>
                <a:gdLst/>
                <a:ahLst/>
                <a:rect l="l" t="t" r="r" b="b"/>
                <a:pathLst>
                  <a:path w="123" h="36">
                    <a:moveTo>
                      <a:pt x="123" y="32"/>
                    </a:moveTo>
                    <a:lnTo>
                      <a:pt x="118" y="32"/>
                    </a:lnTo>
                    <a:lnTo>
                      <a:pt x="106" y="28"/>
                    </a:lnTo>
                    <a:lnTo>
                      <a:pt x="101" y="28"/>
                    </a:lnTo>
                    <a:lnTo>
                      <a:pt x="90" y="2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67" y="20"/>
                    </a:lnTo>
                    <a:lnTo>
                      <a:pt x="62" y="20"/>
                    </a:lnTo>
                    <a:lnTo>
                      <a:pt x="56" y="16"/>
                    </a:lnTo>
                    <a:lnTo>
                      <a:pt x="45" y="16"/>
                    </a:lnTo>
                    <a:lnTo>
                      <a:pt x="39" y="12"/>
                    </a:lnTo>
                    <a:lnTo>
                      <a:pt x="34" y="12"/>
                    </a:lnTo>
                    <a:lnTo>
                      <a:pt x="22" y="8"/>
                    </a:lnTo>
                    <a:lnTo>
                      <a:pt x="17" y="4"/>
                    </a:lnTo>
                    <a:lnTo>
                      <a:pt x="11" y="4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1" y="12"/>
                    </a:lnTo>
                    <a:lnTo>
                      <a:pt x="22" y="12"/>
                    </a:lnTo>
                    <a:lnTo>
                      <a:pt x="28" y="16"/>
                    </a:lnTo>
                    <a:lnTo>
                      <a:pt x="39" y="20"/>
                    </a:lnTo>
                    <a:lnTo>
                      <a:pt x="45" y="20"/>
                    </a:lnTo>
                    <a:lnTo>
                      <a:pt x="50" y="24"/>
                    </a:lnTo>
                    <a:lnTo>
                      <a:pt x="62" y="24"/>
                    </a:lnTo>
                    <a:lnTo>
                      <a:pt x="67" y="28"/>
                    </a:lnTo>
                    <a:lnTo>
                      <a:pt x="73" y="28"/>
                    </a:lnTo>
                    <a:lnTo>
                      <a:pt x="84" y="32"/>
                    </a:lnTo>
                    <a:lnTo>
                      <a:pt x="90" y="32"/>
                    </a:lnTo>
                    <a:lnTo>
                      <a:pt x="101" y="32"/>
                    </a:lnTo>
                    <a:lnTo>
                      <a:pt x="106" y="36"/>
                    </a:lnTo>
                    <a:lnTo>
                      <a:pt x="112" y="36"/>
                    </a:lnTo>
                    <a:lnTo>
                      <a:pt x="123" y="36"/>
                    </a:lnTo>
                    <a:lnTo>
                      <a:pt x="123" y="3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44960" y="3508560"/>
                <a:ext cx="44280" cy="8244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28" y="0"/>
                    </a:moveTo>
                    <a:lnTo>
                      <a:pt x="23" y="4"/>
                    </a:lnTo>
                    <a:lnTo>
                      <a:pt x="17" y="12"/>
                    </a:lnTo>
                    <a:lnTo>
                      <a:pt x="17" y="20"/>
                    </a:lnTo>
                    <a:lnTo>
                      <a:pt x="17" y="24"/>
                    </a:lnTo>
                    <a:lnTo>
                      <a:pt x="12" y="32"/>
                    </a:lnTo>
                    <a:lnTo>
                      <a:pt x="12" y="40"/>
                    </a:lnTo>
                    <a:lnTo>
                      <a:pt x="6" y="44"/>
                    </a:lnTo>
                    <a:lnTo>
                      <a:pt x="0" y="5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6680" y="3502080"/>
                <a:ext cx="52560" cy="95400"/>
              </a:xfrm>
              <a:custGeom>
                <a:avLst/>
                <a:gdLst/>
                <a:ahLst/>
                <a:rect l="l" t="t" r="r" b="b"/>
                <a:pathLst>
                  <a:path w="33" h="60">
                    <a:moveTo>
                      <a:pt x="11" y="60"/>
                    </a:moveTo>
                    <a:lnTo>
                      <a:pt x="17" y="52"/>
                    </a:lnTo>
                    <a:lnTo>
                      <a:pt x="22" y="44"/>
                    </a:lnTo>
                    <a:lnTo>
                      <a:pt x="22" y="36"/>
                    </a:lnTo>
                    <a:lnTo>
                      <a:pt x="22" y="28"/>
                    </a:lnTo>
                    <a:lnTo>
                      <a:pt x="28" y="24"/>
                    </a:lnTo>
                    <a:lnTo>
                      <a:pt x="28" y="16"/>
                    </a:lnTo>
                    <a:lnTo>
                      <a:pt x="33" y="12"/>
                    </a:lnTo>
                    <a:lnTo>
                      <a:pt x="33" y="4"/>
                    </a:lnTo>
                    <a:lnTo>
                      <a:pt x="28" y="0"/>
                    </a:lnTo>
                    <a:lnTo>
                      <a:pt x="22" y="8"/>
                    </a:lnTo>
                    <a:lnTo>
                      <a:pt x="22" y="16"/>
                    </a:lnTo>
                    <a:lnTo>
                      <a:pt x="17" y="24"/>
                    </a:lnTo>
                    <a:lnTo>
                      <a:pt x="17" y="28"/>
                    </a:lnTo>
                    <a:lnTo>
                      <a:pt x="17" y="36"/>
                    </a:lnTo>
                    <a:lnTo>
                      <a:pt x="11" y="44"/>
                    </a:lnTo>
                    <a:lnTo>
                      <a:pt x="5" y="48"/>
                    </a:lnTo>
                    <a:lnTo>
                      <a:pt x="0" y="56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032200" y="3457800"/>
                <a:ext cx="106200" cy="101520"/>
              </a:xfrm>
              <a:custGeom>
                <a:avLst/>
                <a:gdLst/>
                <a:ahLst/>
                <a:rect l="l" t="t" r="r" b="b"/>
                <a:pathLst>
                  <a:path w="67" h="64">
                    <a:moveTo>
                      <a:pt x="67" y="4"/>
                    </a:moveTo>
                    <a:lnTo>
                      <a:pt x="67" y="12"/>
                    </a:lnTo>
                    <a:lnTo>
                      <a:pt x="67" y="20"/>
                    </a:lnTo>
                    <a:lnTo>
                      <a:pt x="67" y="28"/>
                    </a:lnTo>
                    <a:lnTo>
                      <a:pt x="67" y="36"/>
                    </a:lnTo>
                    <a:lnTo>
                      <a:pt x="61" y="44"/>
                    </a:lnTo>
                    <a:lnTo>
                      <a:pt x="61" y="52"/>
                    </a:lnTo>
                    <a:lnTo>
                      <a:pt x="50" y="60"/>
                    </a:lnTo>
                    <a:lnTo>
                      <a:pt x="45" y="64"/>
                    </a:lnTo>
                    <a:lnTo>
                      <a:pt x="39" y="64"/>
                    </a:lnTo>
                    <a:lnTo>
                      <a:pt x="28" y="60"/>
                    </a:lnTo>
                    <a:lnTo>
                      <a:pt x="22" y="56"/>
                    </a:lnTo>
                    <a:lnTo>
                      <a:pt x="17" y="56"/>
                    </a:lnTo>
                    <a:lnTo>
                      <a:pt x="11" y="52"/>
                    </a:lnTo>
                    <a:lnTo>
                      <a:pt x="5" y="48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5" y="20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8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3" y="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45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7" y="4"/>
                    </a:lnTo>
                    <a:lnTo>
                      <a:pt x="67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094120" y="3463920"/>
                <a:ext cx="54000" cy="101880"/>
              </a:xfrm>
              <a:custGeom>
                <a:avLst/>
                <a:gdLst/>
                <a:ahLst/>
                <a:rect l="l" t="t" r="r" b="b"/>
                <a:pathLst>
                  <a:path w="34" h="64">
                    <a:moveTo>
                      <a:pt x="6" y="64"/>
                    </a:moveTo>
                    <a:lnTo>
                      <a:pt x="6" y="64"/>
                    </a:lnTo>
                    <a:lnTo>
                      <a:pt x="17" y="60"/>
                    </a:lnTo>
                    <a:lnTo>
                      <a:pt x="22" y="52"/>
                    </a:lnTo>
                    <a:lnTo>
                      <a:pt x="28" y="44"/>
                    </a:lnTo>
                    <a:lnTo>
                      <a:pt x="34" y="32"/>
                    </a:lnTo>
                    <a:lnTo>
                      <a:pt x="34" y="24"/>
                    </a:lnTo>
                    <a:lnTo>
                      <a:pt x="34" y="16"/>
                    </a:lnTo>
                    <a:lnTo>
                      <a:pt x="34" y="8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8"/>
                    </a:lnTo>
                    <a:lnTo>
                      <a:pt x="28" y="16"/>
                    </a:lnTo>
                    <a:lnTo>
                      <a:pt x="28" y="24"/>
                    </a:lnTo>
                    <a:lnTo>
                      <a:pt x="22" y="32"/>
                    </a:lnTo>
                    <a:lnTo>
                      <a:pt x="22" y="40"/>
                    </a:lnTo>
                    <a:lnTo>
                      <a:pt x="17" y="48"/>
                    </a:lnTo>
                    <a:lnTo>
                      <a:pt x="11" y="56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022480" y="3514680"/>
                <a:ext cx="81000" cy="51120"/>
              </a:xfrm>
              <a:custGeom>
                <a:avLst/>
                <a:gdLst/>
                <a:ahLst/>
                <a:rect l="l" t="t" r="r" b="b"/>
                <a:pathLst>
                  <a:path w="51" h="32">
                    <a:moveTo>
                      <a:pt x="0" y="0"/>
                    </a:moveTo>
                    <a:lnTo>
                      <a:pt x="0" y="0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11" y="16"/>
                    </a:lnTo>
                    <a:lnTo>
                      <a:pt x="17" y="20"/>
                    </a:lnTo>
                    <a:lnTo>
                      <a:pt x="28" y="24"/>
                    </a:lnTo>
                    <a:lnTo>
                      <a:pt x="34" y="28"/>
                    </a:lnTo>
                    <a:lnTo>
                      <a:pt x="39" y="28"/>
                    </a:lnTo>
                    <a:lnTo>
                      <a:pt x="51" y="32"/>
                    </a:lnTo>
                    <a:lnTo>
                      <a:pt x="51" y="28"/>
                    </a:lnTo>
                    <a:lnTo>
                      <a:pt x="45" y="24"/>
                    </a:lnTo>
                    <a:lnTo>
                      <a:pt x="39" y="20"/>
                    </a:lnTo>
                    <a:lnTo>
                      <a:pt x="28" y="20"/>
                    </a:lnTo>
                    <a:lnTo>
                      <a:pt x="23" y="16"/>
                    </a:lnTo>
                    <a:lnTo>
                      <a:pt x="17" y="12"/>
                    </a:lnTo>
                    <a:lnTo>
                      <a:pt x="11" y="8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022480" y="3476880"/>
                <a:ext cx="36720" cy="378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7" y="0"/>
                    </a:moveTo>
                    <a:lnTo>
                      <a:pt x="11" y="0"/>
                    </a:lnTo>
                    <a:lnTo>
                      <a:pt x="11" y="4"/>
                    </a:lnTo>
                    <a:lnTo>
                      <a:pt x="6" y="12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11" y="24"/>
                    </a:lnTo>
                    <a:lnTo>
                      <a:pt x="11" y="20"/>
                    </a:lnTo>
                    <a:lnTo>
                      <a:pt x="11" y="12"/>
                    </a:lnTo>
                    <a:lnTo>
                      <a:pt x="17" y="8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049480" y="3457800"/>
                <a:ext cx="44640" cy="2520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28" y="0"/>
                    </a:moveTo>
                    <a:lnTo>
                      <a:pt x="28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1" y="4"/>
                    </a:lnTo>
                    <a:lnTo>
                      <a:pt x="6" y="4"/>
                    </a:lnTo>
                    <a:lnTo>
                      <a:pt x="6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22" y="8"/>
                    </a:lnTo>
                    <a:lnTo>
                      <a:pt x="22" y="4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2094120" y="3451320"/>
                <a:ext cx="54000" cy="12600"/>
              </a:xfrm>
              <a:custGeom>
                <a:avLst/>
                <a:gdLst/>
                <a:ahLst/>
                <a:rect l="l" t="t" r="r" b="b"/>
                <a:pathLst>
                  <a:path w="34" h="8">
                    <a:moveTo>
                      <a:pt x="34" y="8"/>
                    </a:moveTo>
                    <a:lnTo>
                      <a:pt x="34" y="8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2" y="4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4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076480" y="3318120"/>
                <a:ext cx="96840" cy="1080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61" y="4"/>
                    </a:moveTo>
                    <a:lnTo>
                      <a:pt x="61" y="16"/>
                    </a:lnTo>
                    <a:lnTo>
                      <a:pt x="61" y="24"/>
                    </a:lnTo>
                    <a:lnTo>
                      <a:pt x="61" y="32"/>
                    </a:lnTo>
                    <a:lnTo>
                      <a:pt x="61" y="40"/>
                    </a:lnTo>
                    <a:lnTo>
                      <a:pt x="56" y="48"/>
                    </a:lnTo>
                    <a:lnTo>
                      <a:pt x="50" y="56"/>
                    </a:lnTo>
                    <a:lnTo>
                      <a:pt x="50" y="64"/>
                    </a:lnTo>
                    <a:lnTo>
                      <a:pt x="39" y="68"/>
                    </a:lnTo>
                    <a:lnTo>
                      <a:pt x="22" y="64"/>
                    </a:lnTo>
                    <a:lnTo>
                      <a:pt x="11" y="56"/>
                    </a:lnTo>
                    <a:lnTo>
                      <a:pt x="5" y="52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0" y="20"/>
                    </a:lnTo>
                    <a:lnTo>
                      <a:pt x="5" y="12"/>
                    </a:lnTo>
                    <a:lnTo>
                      <a:pt x="11" y="8"/>
                    </a:lnTo>
                    <a:lnTo>
                      <a:pt x="17" y="4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50" y="0"/>
                    </a:lnTo>
                    <a:lnTo>
                      <a:pt x="56" y="4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61" y="4"/>
                    </a:lnTo>
                    <a:lnTo>
                      <a:pt x="6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138400" y="3324240"/>
                <a:ext cx="44640" cy="108000"/>
              </a:xfrm>
              <a:custGeom>
                <a:avLst/>
                <a:gdLst/>
                <a:ahLst/>
                <a:rect l="l" t="t" r="r" b="b"/>
                <a:pathLst>
                  <a:path w="28" h="68">
                    <a:moveTo>
                      <a:pt x="0" y="68"/>
                    </a:moveTo>
                    <a:lnTo>
                      <a:pt x="6" y="68"/>
                    </a:lnTo>
                    <a:lnTo>
                      <a:pt x="11" y="60"/>
                    </a:lnTo>
                    <a:lnTo>
                      <a:pt x="17" y="52"/>
                    </a:lnTo>
                    <a:lnTo>
                      <a:pt x="22" y="44"/>
                    </a:lnTo>
                    <a:lnTo>
                      <a:pt x="22" y="36"/>
                    </a:lnTo>
                    <a:lnTo>
                      <a:pt x="28" y="28"/>
                    </a:lnTo>
                    <a:lnTo>
                      <a:pt x="28" y="20"/>
                    </a:lnTo>
                    <a:lnTo>
                      <a:pt x="28" y="12"/>
                    </a:lnTo>
                    <a:lnTo>
                      <a:pt x="28" y="0"/>
                    </a:lnTo>
                    <a:lnTo>
                      <a:pt x="17" y="0"/>
                    </a:lnTo>
                    <a:lnTo>
                      <a:pt x="17" y="12"/>
                    </a:lnTo>
                    <a:lnTo>
                      <a:pt x="17" y="20"/>
                    </a:lnTo>
                    <a:lnTo>
                      <a:pt x="17" y="28"/>
                    </a:lnTo>
                    <a:lnTo>
                      <a:pt x="17" y="36"/>
                    </a:lnTo>
                    <a:lnTo>
                      <a:pt x="11" y="40"/>
                    </a:lnTo>
                    <a:lnTo>
                      <a:pt x="11" y="48"/>
                    </a:lnTo>
                    <a:lnTo>
                      <a:pt x="6" y="56"/>
                    </a:lnTo>
                    <a:lnTo>
                      <a:pt x="0" y="64"/>
                    </a:lnTo>
                    <a:lnTo>
                      <a:pt x="6" y="64"/>
                    </a:lnTo>
                    <a:lnTo>
                      <a:pt x="0" y="68"/>
                    </a:lnTo>
                    <a:lnTo>
                      <a:pt x="6" y="68"/>
                    </a:lnTo>
                    <a:lnTo>
                      <a:pt x="6" y="68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067120" y="3330720"/>
                <a:ext cx="81000" cy="101520"/>
              </a:xfrm>
              <a:custGeom>
                <a:avLst/>
                <a:gdLst/>
                <a:ahLst/>
                <a:rect l="l" t="t" r="r" b="b"/>
                <a:pathLst>
                  <a:path w="51" h="64">
                    <a:moveTo>
                      <a:pt x="11" y="0"/>
                    </a:moveTo>
                    <a:lnTo>
                      <a:pt x="11" y="0"/>
                    </a:lnTo>
                    <a:lnTo>
                      <a:pt x="6" y="12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6" y="44"/>
                    </a:lnTo>
                    <a:lnTo>
                      <a:pt x="17" y="52"/>
                    </a:lnTo>
                    <a:lnTo>
                      <a:pt x="28" y="60"/>
                    </a:lnTo>
                    <a:lnTo>
                      <a:pt x="45" y="64"/>
                    </a:lnTo>
                    <a:lnTo>
                      <a:pt x="51" y="60"/>
                    </a:lnTo>
                    <a:lnTo>
                      <a:pt x="34" y="52"/>
                    </a:lnTo>
                    <a:lnTo>
                      <a:pt x="23" y="48"/>
                    </a:lnTo>
                    <a:lnTo>
                      <a:pt x="11" y="40"/>
                    </a:lnTo>
                    <a:lnTo>
                      <a:pt x="11" y="36"/>
                    </a:lnTo>
                    <a:lnTo>
                      <a:pt x="6" y="28"/>
                    </a:lnTo>
                    <a:lnTo>
                      <a:pt x="11" y="20"/>
                    </a:lnTo>
                    <a:lnTo>
                      <a:pt x="11" y="12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084400" y="3311640"/>
                <a:ext cx="98640" cy="31680"/>
              </a:xfrm>
              <a:custGeom>
                <a:avLst/>
                <a:gdLst/>
                <a:ahLst/>
                <a:rect l="l" t="t" r="r" b="b"/>
                <a:pathLst>
                  <a:path w="62" h="20">
                    <a:moveTo>
                      <a:pt x="51" y="12"/>
                    </a:moveTo>
                    <a:lnTo>
                      <a:pt x="62" y="8"/>
                    </a:lnTo>
                    <a:lnTo>
                      <a:pt x="51" y="4"/>
                    </a:lnTo>
                    <a:lnTo>
                      <a:pt x="45" y="4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17" y="0"/>
                    </a:lnTo>
                    <a:lnTo>
                      <a:pt x="12" y="4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6" y="16"/>
                    </a:lnTo>
                    <a:lnTo>
                      <a:pt x="12" y="12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40" y="8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62" y="12"/>
                    </a:lnTo>
                    <a:lnTo>
                      <a:pt x="51" y="12"/>
                    </a:lnTo>
                    <a:lnTo>
                      <a:pt x="62" y="20"/>
                    </a:lnTo>
                    <a:lnTo>
                      <a:pt x="62" y="12"/>
                    </a:lnTo>
                    <a:lnTo>
                      <a:pt x="51" y="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165400" y="33242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103480" y="3191040"/>
                <a:ext cx="106560" cy="95040"/>
              </a:xfrm>
              <a:custGeom>
                <a:avLst/>
                <a:gdLst/>
                <a:ahLst/>
                <a:rect l="l" t="t" r="r" b="b"/>
                <a:pathLst>
                  <a:path w="67" h="60">
                    <a:moveTo>
                      <a:pt x="56" y="8"/>
                    </a:moveTo>
                    <a:lnTo>
                      <a:pt x="61" y="16"/>
                    </a:lnTo>
                    <a:lnTo>
                      <a:pt x="61" y="24"/>
                    </a:lnTo>
                    <a:lnTo>
                      <a:pt x="67" y="32"/>
                    </a:lnTo>
                    <a:lnTo>
                      <a:pt x="67" y="36"/>
                    </a:lnTo>
                    <a:lnTo>
                      <a:pt x="61" y="44"/>
                    </a:lnTo>
                    <a:lnTo>
                      <a:pt x="61" y="52"/>
                    </a:lnTo>
                    <a:lnTo>
                      <a:pt x="56" y="56"/>
                    </a:lnTo>
                    <a:lnTo>
                      <a:pt x="44" y="60"/>
                    </a:lnTo>
                    <a:lnTo>
                      <a:pt x="39" y="60"/>
                    </a:lnTo>
                    <a:lnTo>
                      <a:pt x="33" y="60"/>
                    </a:lnTo>
                    <a:lnTo>
                      <a:pt x="28" y="60"/>
                    </a:lnTo>
                    <a:lnTo>
                      <a:pt x="22" y="60"/>
                    </a:lnTo>
                    <a:lnTo>
                      <a:pt x="16" y="56"/>
                    </a:lnTo>
                    <a:lnTo>
                      <a:pt x="11" y="52"/>
                    </a:lnTo>
                    <a:lnTo>
                      <a:pt x="5" y="48"/>
                    </a:lnTo>
                    <a:lnTo>
                      <a:pt x="5" y="44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5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4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56" y="8"/>
                    </a:lnTo>
                    <a:lnTo>
                      <a:pt x="56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173320" y="3197520"/>
                <a:ext cx="36720" cy="95040"/>
              </a:xfrm>
              <a:custGeom>
                <a:avLst/>
                <a:gdLst/>
                <a:ahLst/>
                <a:rect l="l" t="t" r="r" b="b"/>
                <a:pathLst>
                  <a:path w="23" h="60">
                    <a:moveTo>
                      <a:pt x="6" y="60"/>
                    </a:moveTo>
                    <a:lnTo>
                      <a:pt x="6" y="60"/>
                    </a:lnTo>
                    <a:lnTo>
                      <a:pt x="12" y="56"/>
                    </a:lnTo>
                    <a:lnTo>
                      <a:pt x="23" y="48"/>
                    </a:lnTo>
                    <a:lnTo>
                      <a:pt x="23" y="44"/>
                    </a:lnTo>
                    <a:lnTo>
                      <a:pt x="23" y="32"/>
                    </a:lnTo>
                    <a:lnTo>
                      <a:pt x="23" y="28"/>
                    </a:lnTo>
                    <a:lnTo>
                      <a:pt x="23" y="16"/>
                    </a:lnTo>
                    <a:lnTo>
                      <a:pt x="23" y="8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12" y="12"/>
                    </a:lnTo>
                    <a:lnTo>
                      <a:pt x="17" y="20"/>
                    </a:lnTo>
                    <a:lnTo>
                      <a:pt x="17" y="28"/>
                    </a:lnTo>
                    <a:lnTo>
                      <a:pt x="17" y="32"/>
                    </a:lnTo>
                    <a:lnTo>
                      <a:pt x="17" y="40"/>
                    </a:lnTo>
                    <a:lnTo>
                      <a:pt x="12" y="48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103480" y="3254400"/>
                <a:ext cx="79560" cy="3816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0" y="4"/>
                    </a:moveTo>
                    <a:lnTo>
                      <a:pt x="0" y="4"/>
                    </a:lnTo>
                    <a:lnTo>
                      <a:pt x="5" y="8"/>
                    </a:lnTo>
                    <a:lnTo>
                      <a:pt x="5" y="12"/>
                    </a:lnTo>
                    <a:lnTo>
                      <a:pt x="16" y="16"/>
                    </a:lnTo>
                    <a:lnTo>
                      <a:pt x="22" y="20"/>
                    </a:lnTo>
                    <a:lnTo>
                      <a:pt x="28" y="24"/>
                    </a:lnTo>
                    <a:lnTo>
                      <a:pt x="33" y="24"/>
                    </a:lnTo>
                    <a:lnTo>
                      <a:pt x="39" y="24"/>
                    </a:lnTo>
                    <a:lnTo>
                      <a:pt x="50" y="24"/>
                    </a:lnTo>
                    <a:lnTo>
                      <a:pt x="44" y="16"/>
                    </a:lnTo>
                    <a:lnTo>
                      <a:pt x="39" y="20"/>
                    </a:lnTo>
                    <a:lnTo>
                      <a:pt x="33" y="20"/>
                    </a:lnTo>
                    <a:lnTo>
                      <a:pt x="28" y="16"/>
                    </a:lnTo>
                    <a:lnTo>
                      <a:pt x="22" y="16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11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094120" y="3197520"/>
                <a:ext cx="27000" cy="6336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11" y="0"/>
                    </a:moveTo>
                    <a:lnTo>
                      <a:pt x="11" y="0"/>
                    </a:lnTo>
                    <a:lnTo>
                      <a:pt x="6" y="8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6" y="40"/>
                    </a:lnTo>
                    <a:lnTo>
                      <a:pt x="11" y="36"/>
                    </a:lnTo>
                    <a:lnTo>
                      <a:pt x="11" y="28"/>
                    </a:lnTo>
                    <a:lnTo>
                      <a:pt x="11" y="20"/>
                    </a:lnTo>
                    <a:lnTo>
                      <a:pt x="11" y="12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111400" y="3184560"/>
                <a:ext cx="44640" cy="1908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28" y="0"/>
                    </a:moveTo>
                    <a:lnTo>
                      <a:pt x="28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4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156040" y="31845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8"/>
                    </a:move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1" y="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23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121120" y="3090960"/>
                <a:ext cx="106200" cy="87480"/>
              </a:xfrm>
              <a:custGeom>
                <a:avLst/>
                <a:gdLst/>
                <a:ahLst/>
                <a:rect l="l" t="t" r="r" b="b"/>
                <a:pathLst>
                  <a:path w="67" h="55">
                    <a:moveTo>
                      <a:pt x="56" y="0"/>
                    </a:moveTo>
                    <a:lnTo>
                      <a:pt x="61" y="8"/>
                    </a:lnTo>
                    <a:lnTo>
                      <a:pt x="61" y="16"/>
                    </a:lnTo>
                    <a:lnTo>
                      <a:pt x="67" y="24"/>
                    </a:lnTo>
                    <a:lnTo>
                      <a:pt x="67" y="32"/>
                    </a:lnTo>
                    <a:lnTo>
                      <a:pt x="67" y="40"/>
                    </a:lnTo>
                    <a:lnTo>
                      <a:pt x="67" y="44"/>
                    </a:lnTo>
                    <a:lnTo>
                      <a:pt x="61" y="52"/>
                    </a:lnTo>
                    <a:lnTo>
                      <a:pt x="56" y="52"/>
                    </a:lnTo>
                    <a:lnTo>
                      <a:pt x="50" y="55"/>
                    </a:lnTo>
                    <a:lnTo>
                      <a:pt x="45" y="55"/>
                    </a:lnTo>
                    <a:lnTo>
                      <a:pt x="39" y="55"/>
                    </a:lnTo>
                    <a:lnTo>
                      <a:pt x="33" y="55"/>
                    </a:lnTo>
                    <a:lnTo>
                      <a:pt x="28" y="52"/>
                    </a:lnTo>
                    <a:lnTo>
                      <a:pt x="22" y="52"/>
                    </a:lnTo>
                    <a:lnTo>
                      <a:pt x="17" y="52"/>
                    </a:lnTo>
                    <a:lnTo>
                      <a:pt x="11" y="48"/>
                    </a:lnTo>
                    <a:lnTo>
                      <a:pt x="5" y="44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5" y="16"/>
                    </a:lnTo>
                    <a:lnTo>
                      <a:pt x="5" y="12"/>
                    </a:lnTo>
                    <a:lnTo>
                      <a:pt x="17" y="8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33" y="4"/>
                    </a:lnTo>
                    <a:lnTo>
                      <a:pt x="45" y="4"/>
                    </a:lnTo>
                    <a:lnTo>
                      <a:pt x="50" y="4"/>
                    </a:lnTo>
                    <a:lnTo>
                      <a:pt x="56" y="4"/>
                    </a:lnTo>
                    <a:lnTo>
                      <a:pt x="61" y="8"/>
                    </a:lnTo>
                    <a:lnTo>
                      <a:pt x="61" y="16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200320" y="3090960"/>
                <a:ext cx="36360" cy="87480"/>
              </a:xfrm>
              <a:custGeom>
                <a:avLst/>
                <a:gdLst/>
                <a:ahLst/>
                <a:rect l="l" t="t" r="r" b="b"/>
                <a:pathLst>
                  <a:path w="23" h="55">
                    <a:moveTo>
                      <a:pt x="6" y="55"/>
                    </a:moveTo>
                    <a:lnTo>
                      <a:pt x="6" y="55"/>
                    </a:lnTo>
                    <a:lnTo>
                      <a:pt x="17" y="52"/>
                    </a:lnTo>
                    <a:lnTo>
                      <a:pt x="23" y="48"/>
                    </a:lnTo>
                    <a:lnTo>
                      <a:pt x="23" y="40"/>
                    </a:lnTo>
                    <a:lnTo>
                      <a:pt x="23" y="32"/>
                    </a:lnTo>
                    <a:lnTo>
                      <a:pt x="23" y="24"/>
                    </a:lnTo>
                    <a:lnTo>
                      <a:pt x="17" y="16"/>
                    </a:lnTo>
                    <a:lnTo>
                      <a:pt x="11" y="8"/>
                    </a:lnTo>
                    <a:lnTo>
                      <a:pt x="11" y="0"/>
                    </a:lnTo>
                    <a:lnTo>
                      <a:pt x="0" y="4"/>
                    </a:lnTo>
                    <a:lnTo>
                      <a:pt x="6" y="8"/>
                    </a:lnTo>
                    <a:lnTo>
                      <a:pt x="6" y="16"/>
                    </a:lnTo>
                    <a:lnTo>
                      <a:pt x="11" y="24"/>
                    </a:lnTo>
                    <a:lnTo>
                      <a:pt x="11" y="32"/>
                    </a:lnTo>
                    <a:lnTo>
                      <a:pt x="11" y="40"/>
                    </a:lnTo>
                    <a:lnTo>
                      <a:pt x="11" y="44"/>
                    </a:lnTo>
                    <a:lnTo>
                      <a:pt x="11" y="48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138400" y="3167280"/>
                <a:ext cx="7164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4"/>
                    </a:moveTo>
                    <a:lnTo>
                      <a:pt x="0" y="4"/>
                    </a:lnTo>
                    <a:lnTo>
                      <a:pt x="6" y="4"/>
                    </a:lnTo>
                    <a:lnTo>
                      <a:pt x="11" y="7"/>
                    </a:lnTo>
                    <a:lnTo>
                      <a:pt x="17" y="7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9" y="7"/>
                    </a:lnTo>
                    <a:lnTo>
                      <a:pt x="45" y="7"/>
                    </a:lnTo>
                    <a:lnTo>
                      <a:pt x="45" y="4"/>
                    </a:lnTo>
                    <a:lnTo>
                      <a:pt x="39" y="4"/>
                    </a:lnTo>
                    <a:lnTo>
                      <a:pt x="34" y="4"/>
                    </a:lnTo>
                    <a:lnTo>
                      <a:pt x="28" y="4"/>
                    </a:lnTo>
                    <a:lnTo>
                      <a:pt x="22" y="4"/>
                    </a:lnTo>
                    <a:lnTo>
                      <a:pt x="17" y="4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111400" y="3135600"/>
                <a:ext cx="36720" cy="378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6" y="12"/>
                    </a:lnTo>
                    <a:lnTo>
                      <a:pt x="11" y="20"/>
                    </a:lnTo>
                    <a:lnTo>
                      <a:pt x="17" y="24"/>
                    </a:lnTo>
                    <a:lnTo>
                      <a:pt x="23" y="20"/>
                    </a:lnTo>
                    <a:lnTo>
                      <a:pt x="17" y="16"/>
                    </a:lnTo>
                    <a:lnTo>
                      <a:pt x="11" y="12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111400" y="309744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7" y="0"/>
                    </a:moveTo>
                    <a:lnTo>
                      <a:pt x="17" y="0"/>
                    </a:lnTo>
                    <a:lnTo>
                      <a:pt x="11" y="4"/>
                    </a:lnTo>
                    <a:lnTo>
                      <a:pt x="6" y="12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11" y="24"/>
                    </a:lnTo>
                    <a:lnTo>
                      <a:pt x="11" y="20"/>
                    </a:lnTo>
                    <a:lnTo>
                      <a:pt x="11" y="12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138400" y="3090960"/>
                <a:ext cx="88920" cy="25560"/>
              </a:xfrm>
              <a:custGeom>
                <a:avLst/>
                <a:gdLst/>
                <a:ahLst/>
                <a:rect l="l" t="t" r="r" b="b"/>
                <a:pathLst>
                  <a:path w="56" h="16">
                    <a:moveTo>
                      <a:pt x="56" y="12"/>
                    </a:moveTo>
                    <a:lnTo>
                      <a:pt x="50" y="8"/>
                    </a:lnTo>
                    <a:lnTo>
                      <a:pt x="45" y="4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1" y="4"/>
                    </a:lnTo>
                    <a:lnTo>
                      <a:pt x="0" y="4"/>
                    </a:lnTo>
                    <a:lnTo>
                      <a:pt x="6" y="12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22" y="8"/>
                    </a:lnTo>
                    <a:lnTo>
                      <a:pt x="34" y="8"/>
                    </a:lnTo>
                    <a:lnTo>
                      <a:pt x="39" y="8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5" y="16"/>
                    </a:lnTo>
                    <a:lnTo>
                      <a:pt x="56" y="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1943280" y="2963880"/>
                <a:ext cx="133200" cy="108000"/>
              </a:xfrm>
              <a:custGeom>
                <a:avLst/>
                <a:gdLst/>
                <a:ahLst/>
                <a:rect l="l" t="t" r="r" b="b"/>
                <a:pathLst>
                  <a:path w="84" h="68">
                    <a:moveTo>
                      <a:pt x="0" y="0"/>
                    </a:moveTo>
                    <a:lnTo>
                      <a:pt x="11" y="4"/>
                    </a:lnTo>
                    <a:lnTo>
                      <a:pt x="16" y="8"/>
                    </a:lnTo>
                    <a:lnTo>
                      <a:pt x="28" y="12"/>
                    </a:lnTo>
                    <a:lnTo>
                      <a:pt x="33" y="16"/>
                    </a:lnTo>
                    <a:lnTo>
                      <a:pt x="44" y="20"/>
                    </a:lnTo>
                    <a:lnTo>
                      <a:pt x="50" y="24"/>
                    </a:lnTo>
                    <a:lnTo>
                      <a:pt x="56" y="28"/>
                    </a:lnTo>
                    <a:lnTo>
                      <a:pt x="61" y="32"/>
                    </a:lnTo>
                    <a:lnTo>
                      <a:pt x="67" y="36"/>
                    </a:lnTo>
                    <a:lnTo>
                      <a:pt x="67" y="40"/>
                    </a:lnTo>
                    <a:lnTo>
                      <a:pt x="73" y="44"/>
                    </a:lnTo>
                    <a:lnTo>
                      <a:pt x="73" y="48"/>
                    </a:lnTo>
                    <a:lnTo>
                      <a:pt x="78" y="56"/>
                    </a:lnTo>
                    <a:lnTo>
                      <a:pt x="78" y="60"/>
                    </a:lnTo>
                    <a:lnTo>
                      <a:pt x="84" y="64"/>
                    </a:lnTo>
                    <a:lnTo>
                      <a:pt x="8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943280" y="2963880"/>
                <a:ext cx="96840" cy="50760"/>
              </a:xfrm>
              <a:custGeom>
                <a:avLst/>
                <a:gdLst/>
                <a:ahLst/>
                <a:rect l="l" t="t" r="r" b="b"/>
                <a:pathLst>
                  <a:path w="61" h="32">
                    <a:moveTo>
                      <a:pt x="61" y="28"/>
                    </a:moveTo>
                    <a:lnTo>
                      <a:pt x="61" y="28"/>
                    </a:lnTo>
                    <a:lnTo>
                      <a:pt x="56" y="24"/>
                    </a:lnTo>
                    <a:lnTo>
                      <a:pt x="50" y="20"/>
                    </a:lnTo>
                    <a:lnTo>
                      <a:pt x="44" y="16"/>
                    </a:lnTo>
                    <a:lnTo>
                      <a:pt x="39" y="12"/>
                    </a:lnTo>
                    <a:lnTo>
                      <a:pt x="28" y="8"/>
                    </a:lnTo>
                    <a:lnTo>
                      <a:pt x="22" y="8"/>
                    </a:lnTo>
                    <a:lnTo>
                      <a:pt x="11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11" y="8"/>
                    </a:lnTo>
                    <a:lnTo>
                      <a:pt x="16" y="12"/>
                    </a:lnTo>
                    <a:lnTo>
                      <a:pt x="28" y="16"/>
                    </a:lnTo>
                    <a:lnTo>
                      <a:pt x="33" y="16"/>
                    </a:lnTo>
                    <a:lnTo>
                      <a:pt x="39" y="20"/>
                    </a:lnTo>
                    <a:lnTo>
                      <a:pt x="44" y="24"/>
                    </a:lnTo>
                    <a:lnTo>
                      <a:pt x="50" y="28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61" y="2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032200" y="3008520"/>
                <a:ext cx="52200" cy="6336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33" y="40"/>
                    </a:moveTo>
                    <a:lnTo>
                      <a:pt x="28" y="36"/>
                    </a:lnTo>
                    <a:lnTo>
                      <a:pt x="28" y="28"/>
                    </a:lnTo>
                    <a:lnTo>
                      <a:pt x="22" y="24"/>
                    </a:lnTo>
                    <a:lnTo>
                      <a:pt x="22" y="20"/>
                    </a:lnTo>
                    <a:lnTo>
                      <a:pt x="22" y="16"/>
                    </a:lnTo>
                    <a:lnTo>
                      <a:pt x="17" y="12"/>
                    </a:lnTo>
                    <a:lnTo>
                      <a:pt x="11" y="8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8"/>
                    </a:lnTo>
                    <a:lnTo>
                      <a:pt x="11" y="12"/>
                    </a:lnTo>
                    <a:lnTo>
                      <a:pt x="11" y="20"/>
                    </a:lnTo>
                    <a:lnTo>
                      <a:pt x="17" y="24"/>
                    </a:lnTo>
                    <a:lnTo>
                      <a:pt x="17" y="28"/>
                    </a:lnTo>
                    <a:lnTo>
                      <a:pt x="22" y="32"/>
                    </a:lnTo>
                    <a:lnTo>
                      <a:pt x="22" y="36"/>
                    </a:lnTo>
                    <a:lnTo>
                      <a:pt x="22" y="40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1916280" y="2963880"/>
                <a:ext cx="17280" cy="133560"/>
              </a:xfrm>
              <a:custGeom>
                <a:avLst/>
                <a:gdLst/>
                <a:ahLst/>
                <a:rect l="l" t="t" r="r" b="b"/>
                <a:pathLst>
                  <a:path w="11" h="84">
                    <a:moveTo>
                      <a:pt x="11" y="0"/>
                    </a:moveTo>
                    <a:lnTo>
                      <a:pt x="11" y="20"/>
                    </a:lnTo>
                    <a:lnTo>
                      <a:pt x="11" y="44"/>
                    </a:lnTo>
                    <a:lnTo>
                      <a:pt x="5" y="64"/>
                    </a:lnTo>
                    <a:lnTo>
                      <a:pt x="0" y="8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906560" y="2963880"/>
                <a:ext cx="36720" cy="133560"/>
              </a:xfrm>
              <a:custGeom>
                <a:avLst/>
                <a:gdLst/>
                <a:ahLst/>
                <a:rect l="l" t="t" r="r" b="b"/>
                <a:pathLst>
                  <a:path w="23" h="84">
                    <a:moveTo>
                      <a:pt x="11" y="84"/>
                    </a:moveTo>
                    <a:lnTo>
                      <a:pt x="11" y="64"/>
                    </a:lnTo>
                    <a:lnTo>
                      <a:pt x="17" y="44"/>
                    </a:lnTo>
                    <a:lnTo>
                      <a:pt x="23" y="2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17" y="20"/>
                    </a:lnTo>
                    <a:lnTo>
                      <a:pt x="11" y="44"/>
                    </a:lnTo>
                    <a:lnTo>
                      <a:pt x="6" y="64"/>
                    </a:lnTo>
                    <a:lnTo>
                      <a:pt x="0" y="84"/>
                    </a:lnTo>
                    <a:lnTo>
                      <a:pt x="11" y="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1817640" y="2976840"/>
                <a:ext cx="338400" cy="379080"/>
              </a:xfrm>
              <a:custGeom>
                <a:avLst/>
                <a:gdLst/>
                <a:ahLst/>
                <a:rect l="l" t="t" r="r" b="b"/>
                <a:pathLst>
                  <a:path w="213" h="239">
                    <a:moveTo>
                      <a:pt x="213" y="0"/>
                    </a:moveTo>
                    <a:lnTo>
                      <a:pt x="208" y="16"/>
                    </a:lnTo>
                    <a:lnTo>
                      <a:pt x="202" y="32"/>
                    </a:lnTo>
                    <a:lnTo>
                      <a:pt x="191" y="52"/>
                    </a:lnTo>
                    <a:lnTo>
                      <a:pt x="185" y="68"/>
                    </a:lnTo>
                    <a:lnTo>
                      <a:pt x="174" y="84"/>
                    </a:lnTo>
                    <a:lnTo>
                      <a:pt x="163" y="100"/>
                    </a:lnTo>
                    <a:lnTo>
                      <a:pt x="152" y="116"/>
                    </a:lnTo>
                    <a:lnTo>
                      <a:pt x="140" y="131"/>
                    </a:lnTo>
                    <a:lnTo>
                      <a:pt x="123" y="147"/>
                    </a:lnTo>
                    <a:lnTo>
                      <a:pt x="112" y="163"/>
                    </a:lnTo>
                    <a:lnTo>
                      <a:pt x="95" y="179"/>
                    </a:lnTo>
                    <a:lnTo>
                      <a:pt x="79" y="191"/>
                    </a:lnTo>
                    <a:lnTo>
                      <a:pt x="62" y="203"/>
                    </a:lnTo>
                    <a:lnTo>
                      <a:pt x="45" y="215"/>
                    </a:lnTo>
                    <a:lnTo>
                      <a:pt x="23" y="227"/>
                    </a:lnTo>
                    <a:lnTo>
                      <a:pt x="0" y="239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1817640" y="2976840"/>
                <a:ext cx="347760" cy="379080"/>
              </a:xfrm>
              <a:custGeom>
                <a:avLst/>
                <a:gdLst/>
                <a:ahLst/>
                <a:rect l="l" t="t" r="r" b="b"/>
                <a:pathLst>
                  <a:path w="219" h="239">
                    <a:moveTo>
                      <a:pt x="6" y="239"/>
                    </a:moveTo>
                    <a:lnTo>
                      <a:pt x="28" y="231"/>
                    </a:lnTo>
                    <a:lnTo>
                      <a:pt x="45" y="219"/>
                    </a:lnTo>
                    <a:lnTo>
                      <a:pt x="62" y="207"/>
                    </a:lnTo>
                    <a:lnTo>
                      <a:pt x="84" y="195"/>
                    </a:lnTo>
                    <a:lnTo>
                      <a:pt x="101" y="179"/>
                    </a:lnTo>
                    <a:lnTo>
                      <a:pt x="112" y="167"/>
                    </a:lnTo>
                    <a:lnTo>
                      <a:pt x="129" y="151"/>
                    </a:lnTo>
                    <a:lnTo>
                      <a:pt x="140" y="135"/>
                    </a:lnTo>
                    <a:lnTo>
                      <a:pt x="157" y="120"/>
                    </a:lnTo>
                    <a:lnTo>
                      <a:pt x="168" y="104"/>
                    </a:lnTo>
                    <a:lnTo>
                      <a:pt x="174" y="84"/>
                    </a:lnTo>
                    <a:lnTo>
                      <a:pt x="185" y="68"/>
                    </a:lnTo>
                    <a:lnTo>
                      <a:pt x="196" y="52"/>
                    </a:lnTo>
                    <a:lnTo>
                      <a:pt x="202" y="36"/>
                    </a:lnTo>
                    <a:lnTo>
                      <a:pt x="213" y="16"/>
                    </a:lnTo>
                    <a:lnTo>
                      <a:pt x="219" y="0"/>
                    </a:lnTo>
                    <a:lnTo>
                      <a:pt x="213" y="0"/>
                    </a:lnTo>
                    <a:lnTo>
                      <a:pt x="202" y="16"/>
                    </a:lnTo>
                    <a:lnTo>
                      <a:pt x="196" y="32"/>
                    </a:lnTo>
                    <a:lnTo>
                      <a:pt x="191" y="48"/>
                    </a:lnTo>
                    <a:lnTo>
                      <a:pt x="180" y="68"/>
                    </a:lnTo>
                    <a:lnTo>
                      <a:pt x="168" y="84"/>
                    </a:lnTo>
                    <a:lnTo>
                      <a:pt x="157" y="100"/>
                    </a:lnTo>
                    <a:lnTo>
                      <a:pt x="146" y="116"/>
                    </a:lnTo>
                    <a:lnTo>
                      <a:pt x="135" y="131"/>
                    </a:lnTo>
                    <a:lnTo>
                      <a:pt x="123" y="147"/>
                    </a:lnTo>
                    <a:lnTo>
                      <a:pt x="107" y="163"/>
                    </a:lnTo>
                    <a:lnTo>
                      <a:pt x="90" y="175"/>
                    </a:lnTo>
                    <a:lnTo>
                      <a:pt x="73" y="191"/>
                    </a:lnTo>
                    <a:lnTo>
                      <a:pt x="56" y="203"/>
                    </a:lnTo>
                    <a:lnTo>
                      <a:pt x="39" y="215"/>
                    </a:lnTo>
                    <a:lnTo>
                      <a:pt x="23" y="227"/>
                    </a:lnTo>
                    <a:lnTo>
                      <a:pt x="0" y="235"/>
                    </a:lnTo>
                    <a:lnTo>
                      <a:pt x="6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1773360" y="2779920"/>
                <a:ext cx="61920" cy="19080"/>
              </a:xfrm>
              <a:custGeom>
                <a:avLst/>
                <a:gdLst/>
                <a:ahLst/>
                <a:rect l="l" t="t" r="r" b="b"/>
                <a:pathLst>
                  <a:path w="39" h="12">
                    <a:moveTo>
                      <a:pt x="0" y="0"/>
                    </a:moveTo>
                    <a:lnTo>
                      <a:pt x="6" y="0"/>
                    </a:lnTo>
                    <a:lnTo>
                      <a:pt x="11" y="4"/>
                    </a:lnTo>
                    <a:lnTo>
                      <a:pt x="17" y="4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8" y="12"/>
                    </a:lnTo>
                    <a:lnTo>
                      <a:pt x="34" y="12"/>
                    </a:lnTo>
                    <a:lnTo>
                      <a:pt x="39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1773360" y="2773440"/>
                <a:ext cx="61920" cy="25560"/>
              </a:xfrm>
              <a:custGeom>
                <a:avLst/>
                <a:gdLst/>
                <a:ahLst/>
                <a:rect l="l" t="t" r="r" b="b"/>
                <a:pathLst>
                  <a:path w="39" h="16">
                    <a:moveTo>
                      <a:pt x="39" y="12"/>
                    </a:moveTo>
                    <a:lnTo>
                      <a:pt x="34" y="12"/>
                    </a:lnTo>
                    <a:lnTo>
                      <a:pt x="28" y="12"/>
                    </a:lnTo>
                    <a:lnTo>
                      <a:pt x="23" y="12"/>
                    </a:lnTo>
                    <a:lnTo>
                      <a:pt x="23" y="8"/>
                    </a:lnTo>
                    <a:lnTo>
                      <a:pt x="17" y="8"/>
                    </a:lnTo>
                    <a:lnTo>
                      <a:pt x="11" y="4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11" y="12"/>
                    </a:lnTo>
                    <a:lnTo>
                      <a:pt x="17" y="16"/>
                    </a:lnTo>
                    <a:lnTo>
                      <a:pt x="23" y="16"/>
                    </a:lnTo>
                    <a:lnTo>
                      <a:pt x="28" y="16"/>
                    </a:lnTo>
                    <a:lnTo>
                      <a:pt x="34" y="16"/>
                    </a:lnTo>
                    <a:lnTo>
                      <a:pt x="39" y="16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1763640" y="2805120"/>
                <a:ext cx="54000" cy="19080"/>
              </a:xfrm>
              <a:custGeom>
                <a:avLst/>
                <a:gdLst/>
                <a:ahLst/>
                <a:rect l="l" t="t" r="r" b="b"/>
                <a:pathLst>
                  <a:path w="34" h="12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1755720" y="2805120"/>
                <a:ext cx="61920" cy="25560"/>
              </a:xfrm>
              <a:custGeom>
                <a:avLst/>
                <a:gdLst/>
                <a:ahLst/>
                <a:rect l="l" t="t" r="r" b="b"/>
                <a:pathLst>
                  <a:path w="39" h="16">
                    <a:moveTo>
                      <a:pt x="39" y="8"/>
                    </a:moveTo>
                    <a:lnTo>
                      <a:pt x="34" y="8"/>
                    </a:lnTo>
                    <a:lnTo>
                      <a:pt x="28" y="8"/>
                    </a:lnTo>
                    <a:lnTo>
                      <a:pt x="22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2" y="16"/>
                    </a:lnTo>
                    <a:lnTo>
                      <a:pt x="28" y="16"/>
                    </a:lnTo>
                    <a:lnTo>
                      <a:pt x="34" y="16"/>
                    </a:lnTo>
                    <a:lnTo>
                      <a:pt x="39" y="16"/>
                    </a:lnTo>
                    <a:lnTo>
                      <a:pt x="39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1879560" y="2654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2" y="8"/>
                    </a:lnTo>
                    <a:lnTo>
                      <a:pt x="12" y="12"/>
                    </a:lnTo>
                    <a:lnTo>
                      <a:pt x="12" y="8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1898640" y="2571840"/>
                <a:ext cx="11448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61" y="0"/>
                    </a:moveTo>
                    <a:lnTo>
                      <a:pt x="61" y="0"/>
                    </a:lnTo>
                    <a:lnTo>
                      <a:pt x="67" y="12"/>
                    </a:lnTo>
                    <a:lnTo>
                      <a:pt x="61" y="20"/>
                    </a:lnTo>
                    <a:lnTo>
                      <a:pt x="56" y="32"/>
                    </a:lnTo>
                    <a:lnTo>
                      <a:pt x="50" y="40"/>
                    </a:lnTo>
                    <a:lnTo>
                      <a:pt x="39" y="44"/>
                    </a:lnTo>
                    <a:lnTo>
                      <a:pt x="28" y="52"/>
                    </a:lnTo>
                    <a:lnTo>
                      <a:pt x="16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16" y="60"/>
                    </a:lnTo>
                    <a:lnTo>
                      <a:pt x="33" y="56"/>
                    </a:lnTo>
                    <a:lnTo>
                      <a:pt x="44" y="52"/>
                    </a:lnTo>
                    <a:lnTo>
                      <a:pt x="56" y="44"/>
                    </a:lnTo>
                    <a:lnTo>
                      <a:pt x="67" y="32"/>
                    </a:lnTo>
                    <a:lnTo>
                      <a:pt x="72" y="24"/>
                    </a:lnTo>
                    <a:lnTo>
                      <a:pt x="72" y="12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1943280" y="2540160"/>
                <a:ext cx="69840" cy="3168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0" y="4"/>
                    </a:moveTo>
                    <a:lnTo>
                      <a:pt x="5" y="4"/>
                    </a:lnTo>
                    <a:lnTo>
                      <a:pt x="11" y="4"/>
                    </a:lnTo>
                    <a:lnTo>
                      <a:pt x="16" y="8"/>
                    </a:lnTo>
                    <a:lnTo>
                      <a:pt x="22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44" y="20"/>
                    </a:lnTo>
                    <a:lnTo>
                      <a:pt x="39" y="16"/>
                    </a:lnTo>
                    <a:lnTo>
                      <a:pt x="33" y="12"/>
                    </a:lnTo>
                    <a:lnTo>
                      <a:pt x="33" y="8"/>
                    </a:lnTo>
                    <a:lnTo>
                      <a:pt x="28" y="4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013120" y="2748240"/>
                <a:ext cx="36360" cy="126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23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005200" y="274176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28" y="8"/>
                    </a:moveTo>
                    <a:lnTo>
                      <a:pt x="28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11" y="8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8" y="12"/>
                    </a:lnTo>
                    <a:lnTo>
                      <a:pt x="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432160" y="3065760"/>
                <a:ext cx="17280" cy="95040"/>
              </a:xfrm>
              <a:custGeom>
                <a:avLst/>
                <a:gdLst/>
                <a:ahLst/>
                <a:rect l="l" t="t" r="r" b="b"/>
                <a:pathLst>
                  <a:path w="11" h="60">
                    <a:moveTo>
                      <a:pt x="0" y="0"/>
                    </a:moveTo>
                    <a:lnTo>
                      <a:pt x="6" y="16"/>
                    </a:lnTo>
                    <a:lnTo>
                      <a:pt x="6" y="28"/>
                    </a:lnTo>
                    <a:lnTo>
                      <a:pt x="11" y="44"/>
                    </a:lnTo>
                    <a:lnTo>
                      <a:pt x="11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432160" y="3065760"/>
                <a:ext cx="17280" cy="95040"/>
              </a:xfrm>
              <a:custGeom>
                <a:avLst/>
                <a:gdLst/>
                <a:ahLst/>
                <a:rect l="l" t="t" r="r" b="b"/>
                <a:pathLst>
                  <a:path w="11" h="60">
                    <a:moveTo>
                      <a:pt x="11" y="60"/>
                    </a:moveTo>
                    <a:lnTo>
                      <a:pt x="11" y="44"/>
                    </a:lnTo>
                    <a:lnTo>
                      <a:pt x="11" y="28"/>
                    </a:lnTo>
                    <a:lnTo>
                      <a:pt x="11" y="16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16"/>
                    </a:lnTo>
                    <a:lnTo>
                      <a:pt x="6" y="28"/>
                    </a:lnTo>
                    <a:lnTo>
                      <a:pt x="6" y="44"/>
                    </a:lnTo>
                    <a:lnTo>
                      <a:pt x="6" y="60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673360" y="3021120"/>
                <a:ext cx="25560" cy="82440"/>
              </a:xfrm>
              <a:custGeom>
                <a:avLst/>
                <a:gdLst/>
                <a:ahLst/>
                <a:rect l="l" t="t" r="r" b="b"/>
                <a:pathLst>
                  <a:path w="16" h="52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5" y="24"/>
                    </a:lnTo>
                    <a:lnTo>
                      <a:pt x="5" y="32"/>
                    </a:lnTo>
                    <a:lnTo>
                      <a:pt x="11" y="40"/>
                    </a:lnTo>
                    <a:lnTo>
                      <a:pt x="11" y="44"/>
                    </a:lnTo>
                    <a:lnTo>
                      <a:pt x="11" y="52"/>
                    </a:lnTo>
                    <a:lnTo>
                      <a:pt x="11" y="52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6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664000" y="3014640"/>
                <a:ext cx="34920" cy="114480"/>
              </a:xfrm>
              <a:custGeom>
                <a:avLst/>
                <a:gdLst/>
                <a:ahLst/>
                <a:rect l="l" t="t" r="r" b="b"/>
                <a:pathLst>
                  <a:path w="22" h="72">
                    <a:moveTo>
                      <a:pt x="11" y="56"/>
                    </a:moveTo>
                    <a:lnTo>
                      <a:pt x="22" y="56"/>
                    </a:lnTo>
                    <a:lnTo>
                      <a:pt x="22" y="48"/>
                    </a:lnTo>
                    <a:lnTo>
                      <a:pt x="22" y="40"/>
                    </a:lnTo>
                    <a:lnTo>
                      <a:pt x="17" y="32"/>
                    </a:lnTo>
                    <a:lnTo>
                      <a:pt x="11" y="28"/>
                    </a:lnTo>
                    <a:lnTo>
                      <a:pt x="11" y="20"/>
                    </a:lnTo>
                    <a:lnTo>
                      <a:pt x="6" y="16"/>
                    </a:lnTo>
                    <a:lnTo>
                      <a:pt x="6" y="8"/>
                    </a:lnTo>
                    <a:lnTo>
                      <a:pt x="11" y="4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6" y="28"/>
                    </a:lnTo>
                    <a:lnTo>
                      <a:pt x="6" y="36"/>
                    </a:lnTo>
                    <a:lnTo>
                      <a:pt x="11" y="44"/>
                    </a:lnTo>
                    <a:lnTo>
                      <a:pt x="11" y="48"/>
                    </a:lnTo>
                    <a:lnTo>
                      <a:pt x="11" y="56"/>
                    </a:lnTo>
                    <a:lnTo>
                      <a:pt x="22" y="56"/>
                    </a:lnTo>
                    <a:lnTo>
                      <a:pt x="11" y="56"/>
                    </a:lnTo>
                    <a:lnTo>
                      <a:pt x="17" y="72"/>
                    </a:lnTo>
                    <a:lnTo>
                      <a:pt x="22" y="56"/>
                    </a:lnTo>
                    <a:lnTo>
                      <a:pt x="11" y="5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681280" y="3097440"/>
                <a:ext cx="1764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6" y="4"/>
                    </a:lnTo>
                    <a:lnTo>
                      <a:pt x="11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333520" y="3210120"/>
                <a:ext cx="19080" cy="95040"/>
              </a:xfrm>
              <a:custGeom>
                <a:avLst/>
                <a:gdLst/>
                <a:ahLst/>
                <a:rect l="l" t="t" r="r" b="b"/>
                <a:pathLst>
                  <a:path w="12" h="60">
                    <a:moveTo>
                      <a:pt x="12" y="0"/>
                    </a:moveTo>
                    <a:lnTo>
                      <a:pt x="12" y="16"/>
                    </a:lnTo>
                    <a:lnTo>
                      <a:pt x="6" y="28"/>
                    </a:lnTo>
                    <a:lnTo>
                      <a:pt x="6" y="44"/>
                    </a:lnTo>
                    <a:lnTo>
                      <a:pt x="0" y="6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33520" y="3210120"/>
                <a:ext cx="27000" cy="9504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6" y="60"/>
                    </a:moveTo>
                    <a:lnTo>
                      <a:pt x="12" y="44"/>
                    </a:lnTo>
                    <a:lnTo>
                      <a:pt x="12" y="28"/>
                    </a:lnTo>
                    <a:lnTo>
                      <a:pt x="12" y="16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6" y="16"/>
                    </a:lnTo>
                    <a:lnTo>
                      <a:pt x="6" y="28"/>
                    </a:lnTo>
                    <a:lnTo>
                      <a:pt x="0" y="44"/>
                    </a:lnTo>
                    <a:lnTo>
                      <a:pt x="0" y="60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673360" y="3184560"/>
                <a:ext cx="17640" cy="95400"/>
              </a:xfrm>
              <a:custGeom>
                <a:avLst/>
                <a:gdLst/>
                <a:ahLst/>
                <a:rect l="l" t="t" r="r" b="b"/>
                <a:pathLst>
                  <a:path w="11" h="60">
                    <a:moveTo>
                      <a:pt x="5" y="0"/>
                    </a:moveTo>
                    <a:lnTo>
                      <a:pt x="0" y="16"/>
                    </a:lnTo>
                    <a:lnTo>
                      <a:pt x="5" y="28"/>
                    </a:lnTo>
                    <a:lnTo>
                      <a:pt x="5" y="44"/>
                    </a:lnTo>
                    <a:lnTo>
                      <a:pt x="11" y="6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673360" y="3184560"/>
                <a:ext cx="17640" cy="95400"/>
              </a:xfrm>
              <a:custGeom>
                <a:avLst/>
                <a:gdLst/>
                <a:ahLst/>
                <a:rect l="l" t="t" r="r" b="b"/>
                <a:pathLst>
                  <a:path w="11" h="60">
                    <a:moveTo>
                      <a:pt x="11" y="60"/>
                    </a:moveTo>
                    <a:lnTo>
                      <a:pt x="11" y="44"/>
                    </a:lnTo>
                    <a:lnTo>
                      <a:pt x="5" y="28"/>
                    </a:lnTo>
                    <a:lnTo>
                      <a:pt x="5" y="16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0" y="28"/>
                    </a:lnTo>
                    <a:lnTo>
                      <a:pt x="0" y="44"/>
                    </a:lnTo>
                    <a:lnTo>
                      <a:pt x="5" y="60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557440" y="3343320"/>
                <a:ext cx="2556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16" y="0"/>
                    </a:moveTo>
                    <a:lnTo>
                      <a:pt x="11" y="20"/>
                    </a:lnTo>
                    <a:lnTo>
                      <a:pt x="11" y="40"/>
                    </a:lnTo>
                    <a:lnTo>
                      <a:pt x="11" y="56"/>
                    </a:lnTo>
                    <a:lnTo>
                      <a:pt x="0" y="7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557440" y="3343320"/>
                <a:ext cx="34920" cy="120600"/>
              </a:xfrm>
              <a:custGeom>
                <a:avLst/>
                <a:gdLst/>
                <a:ahLst/>
                <a:rect l="l" t="t" r="r" b="b"/>
                <a:pathLst>
                  <a:path w="22" h="76">
                    <a:moveTo>
                      <a:pt x="5" y="76"/>
                    </a:moveTo>
                    <a:lnTo>
                      <a:pt x="16" y="56"/>
                    </a:lnTo>
                    <a:lnTo>
                      <a:pt x="16" y="40"/>
                    </a:lnTo>
                    <a:lnTo>
                      <a:pt x="16" y="20"/>
                    </a:lnTo>
                    <a:lnTo>
                      <a:pt x="22" y="4"/>
                    </a:lnTo>
                    <a:lnTo>
                      <a:pt x="11" y="0"/>
                    </a:lnTo>
                    <a:lnTo>
                      <a:pt x="11" y="20"/>
                    </a:lnTo>
                    <a:lnTo>
                      <a:pt x="11" y="40"/>
                    </a:lnTo>
                    <a:lnTo>
                      <a:pt x="5" y="56"/>
                    </a:lnTo>
                    <a:lnTo>
                      <a:pt x="0" y="76"/>
                    </a:lnTo>
                    <a:lnTo>
                      <a:pt x="5" y="7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271600" y="3355920"/>
                <a:ext cx="27000" cy="9540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17" y="0"/>
                    </a:moveTo>
                    <a:lnTo>
                      <a:pt x="11" y="16"/>
                    </a:lnTo>
                    <a:lnTo>
                      <a:pt x="11" y="28"/>
                    </a:lnTo>
                    <a:lnTo>
                      <a:pt x="6" y="44"/>
                    </a:lnTo>
                    <a:lnTo>
                      <a:pt x="0" y="6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263680" y="3355920"/>
                <a:ext cx="34920" cy="95400"/>
              </a:xfrm>
              <a:custGeom>
                <a:avLst/>
                <a:gdLst/>
                <a:ahLst/>
                <a:rect l="l" t="t" r="r" b="b"/>
                <a:pathLst>
                  <a:path w="22" h="60">
                    <a:moveTo>
                      <a:pt x="11" y="60"/>
                    </a:moveTo>
                    <a:lnTo>
                      <a:pt x="16" y="44"/>
                    </a:lnTo>
                    <a:lnTo>
                      <a:pt x="16" y="28"/>
                    </a:lnTo>
                    <a:lnTo>
                      <a:pt x="22" y="16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1" y="16"/>
                    </a:lnTo>
                    <a:lnTo>
                      <a:pt x="11" y="28"/>
                    </a:lnTo>
                    <a:lnTo>
                      <a:pt x="5" y="44"/>
                    </a:lnTo>
                    <a:lnTo>
                      <a:pt x="0" y="60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123920" y="3203640"/>
                <a:ext cx="106560" cy="557280"/>
              </a:xfrm>
              <a:custGeom>
                <a:avLst/>
                <a:gdLst/>
                <a:ahLst/>
                <a:rect l="l" t="t" r="r" b="b"/>
                <a:pathLst>
                  <a:path w="67" h="351">
                    <a:moveTo>
                      <a:pt x="67" y="347"/>
                    </a:moveTo>
                    <a:lnTo>
                      <a:pt x="67" y="283"/>
                    </a:lnTo>
                    <a:lnTo>
                      <a:pt x="67" y="220"/>
                    </a:lnTo>
                    <a:lnTo>
                      <a:pt x="67" y="164"/>
                    </a:lnTo>
                    <a:lnTo>
                      <a:pt x="61" y="108"/>
                    </a:lnTo>
                    <a:lnTo>
                      <a:pt x="56" y="64"/>
                    </a:lnTo>
                    <a:lnTo>
                      <a:pt x="50" y="28"/>
                    </a:lnTo>
                    <a:lnTo>
                      <a:pt x="50" y="8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33" y="351"/>
                    </a:lnTo>
                    <a:lnTo>
                      <a:pt x="67" y="34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195560" y="3197520"/>
                <a:ext cx="44280" cy="556920"/>
              </a:xfrm>
              <a:custGeom>
                <a:avLst/>
                <a:gdLst/>
                <a:ahLst/>
                <a:rect l="l" t="t" r="r" b="b"/>
                <a:pathLst>
                  <a:path w="28" h="351">
                    <a:moveTo>
                      <a:pt x="0" y="4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5" y="32"/>
                    </a:lnTo>
                    <a:lnTo>
                      <a:pt x="5" y="68"/>
                    </a:lnTo>
                    <a:lnTo>
                      <a:pt x="11" y="112"/>
                    </a:lnTo>
                    <a:lnTo>
                      <a:pt x="16" y="168"/>
                    </a:lnTo>
                    <a:lnTo>
                      <a:pt x="22" y="224"/>
                    </a:lnTo>
                    <a:lnTo>
                      <a:pt x="22" y="287"/>
                    </a:lnTo>
                    <a:lnTo>
                      <a:pt x="16" y="351"/>
                    </a:lnTo>
                    <a:lnTo>
                      <a:pt x="28" y="351"/>
                    </a:lnTo>
                    <a:lnTo>
                      <a:pt x="28" y="287"/>
                    </a:lnTo>
                    <a:lnTo>
                      <a:pt x="28" y="224"/>
                    </a:lnTo>
                    <a:lnTo>
                      <a:pt x="28" y="168"/>
                    </a:lnTo>
                    <a:lnTo>
                      <a:pt x="22" y="112"/>
                    </a:lnTo>
                    <a:lnTo>
                      <a:pt x="16" y="68"/>
                    </a:lnTo>
                    <a:lnTo>
                      <a:pt x="11" y="32"/>
                    </a:lnTo>
                    <a:lnTo>
                      <a:pt x="5" y="12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123920" y="3197520"/>
                <a:ext cx="71640" cy="1260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5" y="4"/>
                    </a:moveTo>
                    <a:lnTo>
                      <a:pt x="0" y="8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1123920" y="3203640"/>
                <a:ext cx="61920" cy="563760"/>
              </a:xfrm>
              <a:custGeom>
                <a:avLst/>
                <a:gdLst/>
                <a:ahLst/>
                <a:rect l="l" t="t" r="r" b="b"/>
                <a:pathLst>
                  <a:path w="39" h="355">
                    <a:moveTo>
                      <a:pt x="33" y="347"/>
                    </a:moveTo>
                    <a:lnTo>
                      <a:pt x="39" y="35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28" y="351"/>
                    </a:lnTo>
                    <a:lnTo>
                      <a:pt x="33" y="351"/>
                    </a:lnTo>
                    <a:lnTo>
                      <a:pt x="28" y="351"/>
                    </a:lnTo>
                    <a:lnTo>
                      <a:pt x="28" y="355"/>
                    </a:lnTo>
                    <a:lnTo>
                      <a:pt x="33" y="351"/>
                    </a:lnTo>
                    <a:lnTo>
                      <a:pt x="33" y="34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176480" y="3748320"/>
                <a:ext cx="63360" cy="12600"/>
              </a:xfrm>
              <a:custGeom>
                <a:avLst/>
                <a:gdLst/>
                <a:ahLst/>
                <a:rect l="l" t="t" r="r" b="b"/>
                <a:pathLst>
                  <a:path w="40" h="8">
                    <a:moveTo>
                      <a:pt x="28" y="4"/>
                    </a:moveTo>
                    <a:lnTo>
                      <a:pt x="34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34" y="8"/>
                    </a:lnTo>
                    <a:lnTo>
                      <a:pt x="40" y="4"/>
                    </a:lnTo>
                    <a:lnTo>
                      <a:pt x="34" y="8"/>
                    </a:lnTo>
                    <a:lnTo>
                      <a:pt x="40" y="8"/>
                    </a:lnTo>
                    <a:lnTo>
                      <a:pt x="40" y="4"/>
                    </a:lnTo>
                    <a:lnTo>
                      <a:pt x="28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069920" y="3197520"/>
                <a:ext cx="115920" cy="639720"/>
              </a:xfrm>
              <a:custGeom>
                <a:avLst/>
                <a:gdLst/>
                <a:ahLst/>
                <a:rect l="l" t="t" r="r" b="b"/>
                <a:pathLst>
                  <a:path w="73" h="403">
                    <a:moveTo>
                      <a:pt x="67" y="399"/>
                    </a:moveTo>
                    <a:lnTo>
                      <a:pt x="73" y="323"/>
                    </a:lnTo>
                    <a:lnTo>
                      <a:pt x="73" y="252"/>
                    </a:lnTo>
                    <a:lnTo>
                      <a:pt x="67" y="184"/>
                    </a:lnTo>
                    <a:lnTo>
                      <a:pt x="62" y="124"/>
                    </a:lnTo>
                    <a:lnTo>
                      <a:pt x="56" y="72"/>
                    </a:lnTo>
                    <a:lnTo>
                      <a:pt x="50" y="32"/>
                    </a:lnTo>
                    <a:lnTo>
                      <a:pt x="50" y="8"/>
                    </a:lnTo>
                    <a:lnTo>
                      <a:pt x="45" y="0"/>
                    </a:lnTo>
                    <a:lnTo>
                      <a:pt x="0" y="0"/>
                    </a:lnTo>
                    <a:lnTo>
                      <a:pt x="22" y="403"/>
                    </a:lnTo>
                    <a:lnTo>
                      <a:pt x="67" y="39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131840" y="3191040"/>
                <a:ext cx="63720" cy="639720"/>
              </a:xfrm>
              <a:custGeom>
                <a:avLst/>
                <a:gdLst/>
                <a:ahLst/>
                <a:rect l="l" t="t" r="r" b="b"/>
                <a:pathLst>
                  <a:path w="40" h="403">
                    <a:moveTo>
                      <a:pt x="6" y="8"/>
                    </a:moveTo>
                    <a:lnTo>
                      <a:pt x="0" y="4"/>
                    </a:lnTo>
                    <a:lnTo>
                      <a:pt x="6" y="12"/>
                    </a:lnTo>
                    <a:lnTo>
                      <a:pt x="11" y="36"/>
                    </a:lnTo>
                    <a:lnTo>
                      <a:pt x="17" y="76"/>
                    </a:lnTo>
                    <a:lnTo>
                      <a:pt x="23" y="128"/>
                    </a:lnTo>
                    <a:lnTo>
                      <a:pt x="28" y="188"/>
                    </a:lnTo>
                    <a:lnTo>
                      <a:pt x="28" y="256"/>
                    </a:lnTo>
                    <a:lnTo>
                      <a:pt x="28" y="327"/>
                    </a:lnTo>
                    <a:lnTo>
                      <a:pt x="23" y="403"/>
                    </a:lnTo>
                    <a:lnTo>
                      <a:pt x="34" y="403"/>
                    </a:lnTo>
                    <a:lnTo>
                      <a:pt x="40" y="327"/>
                    </a:lnTo>
                    <a:lnTo>
                      <a:pt x="40" y="256"/>
                    </a:lnTo>
                    <a:lnTo>
                      <a:pt x="34" y="188"/>
                    </a:lnTo>
                    <a:lnTo>
                      <a:pt x="28" y="128"/>
                    </a:lnTo>
                    <a:lnTo>
                      <a:pt x="23" y="76"/>
                    </a:lnTo>
                    <a:lnTo>
                      <a:pt x="17" y="36"/>
                    </a:lnTo>
                    <a:lnTo>
                      <a:pt x="11" y="12"/>
                    </a:lnTo>
                    <a:lnTo>
                      <a:pt x="11" y="4"/>
                    </a:lnTo>
                    <a:lnTo>
                      <a:pt x="6" y="0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060560" y="3191040"/>
                <a:ext cx="81000" cy="12600"/>
              </a:xfrm>
              <a:custGeom>
                <a:avLst/>
                <a:gdLst/>
                <a:ahLst/>
                <a:rect l="l" t="t" r="r" b="b"/>
                <a:pathLst>
                  <a:path w="51" h="8">
                    <a:moveTo>
                      <a:pt x="12" y="4"/>
                    </a:moveTo>
                    <a:lnTo>
                      <a:pt x="6" y="8"/>
                    </a:lnTo>
                    <a:lnTo>
                      <a:pt x="51" y="8"/>
                    </a:lnTo>
                    <a:lnTo>
                      <a:pt x="51" y="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060560" y="3197520"/>
                <a:ext cx="54000" cy="645840"/>
              </a:xfrm>
              <a:custGeom>
                <a:avLst/>
                <a:gdLst/>
                <a:ahLst/>
                <a:rect l="l" t="t" r="r" b="b"/>
                <a:pathLst>
                  <a:path w="34" h="407">
                    <a:moveTo>
                      <a:pt x="28" y="399"/>
                    </a:moveTo>
                    <a:lnTo>
                      <a:pt x="34" y="403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23" y="403"/>
                    </a:lnTo>
                    <a:lnTo>
                      <a:pt x="28" y="407"/>
                    </a:lnTo>
                    <a:lnTo>
                      <a:pt x="23" y="403"/>
                    </a:lnTo>
                    <a:lnTo>
                      <a:pt x="23" y="407"/>
                    </a:lnTo>
                    <a:lnTo>
                      <a:pt x="28" y="407"/>
                    </a:lnTo>
                    <a:lnTo>
                      <a:pt x="28" y="39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104840" y="3824280"/>
                <a:ext cx="81000" cy="19080"/>
              </a:xfrm>
              <a:custGeom>
                <a:avLst/>
                <a:gdLst/>
                <a:ahLst/>
                <a:rect l="l" t="t" r="r" b="b"/>
                <a:pathLst>
                  <a:path w="51" h="12">
                    <a:moveTo>
                      <a:pt x="40" y="4"/>
                    </a:moveTo>
                    <a:lnTo>
                      <a:pt x="45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45" y="8"/>
                    </a:lnTo>
                    <a:lnTo>
                      <a:pt x="51" y="4"/>
                    </a:lnTo>
                    <a:lnTo>
                      <a:pt x="45" y="8"/>
                    </a:lnTo>
                    <a:lnTo>
                      <a:pt x="51" y="8"/>
                    </a:lnTo>
                    <a:lnTo>
                      <a:pt x="51" y="4"/>
                    </a:lnTo>
                    <a:lnTo>
                      <a:pt x="4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8" name=""/>
            <p:cNvSpPr/>
            <p:nvPr/>
          </p:nvSpPr>
          <p:spPr>
            <a:xfrm>
              <a:off x="130320" y="3098880"/>
              <a:ext cx="42130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Flip a coin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three time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4908240" y="1249200"/>
            <a:ext cx="4084920" cy="1097640"/>
            <a:chOff x="4908240" y="1249200"/>
            <a:chExt cx="4084920" cy="1097640"/>
          </a:xfrm>
        </p:grpSpPr>
        <p:sp>
          <p:nvSpPr>
            <p:cNvPr id="1770" name=""/>
            <p:cNvSpPr/>
            <p:nvPr/>
          </p:nvSpPr>
          <p:spPr>
            <a:xfrm>
              <a:off x="8425440" y="1249200"/>
              <a:ext cx="56772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000000"/>
                  </a:solidFill>
                  <a:latin typeface="Times New Roman"/>
                </a:rPr>
                <a:t>)]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774920" y="1249200"/>
              <a:ext cx="28404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665040" y="1295280"/>
              <a:ext cx="28404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097480" y="1325520"/>
              <a:ext cx="37872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97240" y="1325520"/>
              <a:ext cx="89820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700" spc="-1" strike="noStrike">
                  <a:solidFill>
                    <a:srgbClr val="000000"/>
                  </a:solidFill>
                  <a:latin typeface="Times New Roman"/>
                </a:rPr>
                <a:t>xP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224400" y="1325520"/>
              <a:ext cx="50364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504760" y="1325520"/>
              <a:ext cx="67752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908240" y="1249200"/>
              <a:ext cx="49140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7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6127920" y="1249200"/>
            <a:ext cx="68364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3300"/>
                </a:solidFill>
                <a:latin typeface="Symbol"/>
                <a:ea typeface="Symbol"/>
              </a:rPr>
              <a:t>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9" name=""/>
          <p:cNvGrpSpPr/>
          <p:nvPr/>
        </p:nvGrpSpPr>
        <p:grpSpPr>
          <a:xfrm>
            <a:off x="6889320" y="1249200"/>
            <a:ext cx="1779120" cy="1097640"/>
            <a:chOff x="6889320" y="1249200"/>
            <a:chExt cx="1779120" cy="1097640"/>
          </a:xfrm>
        </p:grpSpPr>
        <p:sp>
          <p:nvSpPr>
            <p:cNvPr id="1780" name=""/>
            <p:cNvSpPr/>
            <p:nvPr/>
          </p:nvSpPr>
          <p:spPr>
            <a:xfrm>
              <a:off x="8384400" y="1249200"/>
              <a:ext cx="28404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767000" y="1249200"/>
              <a:ext cx="28404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8089560" y="1325520"/>
              <a:ext cx="37872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7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889320" y="1325520"/>
              <a:ext cx="89820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700" spc="-1" strike="noStrike">
                  <a:solidFill>
                    <a:srgbClr val="ff3300"/>
                  </a:solidFill>
                  <a:latin typeface="Times New Roman"/>
                </a:rPr>
                <a:t>xP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3111120" y="1630440"/>
            <a:ext cx="179784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rmu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315200" y="32004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315200" y="3809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315200" y="5181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315200" y="45100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934320" y="5867280"/>
            <a:ext cx="152388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3b2"/>
                </a:solidFill>
                <a:latin typeface="Times New Roman"/>
              </a:rPr>
              <a:t>12/8=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4191120" y="2362320"/>
            <a:ext cx="2514600" cy="4343400"/>
            <a:chOff x="4191120" y="2362320"/>
            <a:chExt cx="2514600" cy="4343400"/>
          </a:xfrm>
        </p:grpSpPr>
        <p:grpSp>
          <p:nvGrpSpPr>
            <p:cNvPr id="1791" name=""/>
            <p:cNvGrpSpPr/>
            <p:nvPr/>
          </p:nvGrpSpPr>
          <p:grpSpPr>
            <a:xfrm>
              <a:off x="4191120" y="2362320"/>
              <a:ext cx="2514600" cy="4343400"/>
              <a:chOff x="4191120" y="2362320"/>
              <a:chExt cx="2514600" cy="4343400"/>
            </a:xfrm>
          </p:grpSpPr>
          <p:grpSp>
            <p:nvGrpSpPr>
              <p:cNvPr id="1792" name=""/>
              <p:cNvGrpSpPr/>
              <p:nvPr/>
            </p:nvGrpSpPr>
            <p:grpSpPr>
              <a:xfrm>
                <a:off x="4191120" y="2362320"/>
                <a:ext cx="685800" cy="4343040"/>
                <a:chOff x="4191120" y="2362320"/>
                <a:chExt cx="685800" cy="4343040"/>
              </a:xfrm>
            </p:grpSpPr>
            <p:grpSp>
              <p:nvGrpSpPr>
                <p:cNvPr id="1793" name=""/>
                <p:cNvGrpSpPr/>
                <p:nvPr/>
              </p:nvGrpSpPr>
              <p:grpSpPr>
                <a:xfrm>
                  <a:off x="4191120" y="2362320"/>
                  <a:ext cx="685800" cy="4343040"/>
                  <a:chOff x="4191120" y="2362320"/>
                  <a:chExt cx="685800" cy="4343040"/>
                </a:xfrm>
              </p:grpSpPr>
              <p:grpSp>
                <p:nvGrpSpPr>
                  <p:cNvPr id="1794" name=""/>
                  <p:cNvGrpSpPr/>
                  <p:nvPr/>
                </p:nvGrpSpPr>
                <p:grpSpPr>
                  <a:xfrm>
                    <a:off x="4191120" y="2362320"/>
                    <a:ext cx="685800" cy="4343040"/>
                    <a:chOff x="4191120" y="2362320"/>
                    <a:chExt cx="685800" cy="4343040"/>
                  </a:xfrm>
                </p:grpSpPr>
                <p:sp>
                  <p:nvSpPr>
                    <p:cNvPr id="1795" name=""/>
                    <p:cNvSpPr/>
                    <p:nvPr/>
                  </p:nvSpPr>
                  <p:spPr>
                    <a:xfrm>
                      <a:off x="4191120" y="2362320"/>
                      <a:ext cx="685800" cy="4343040"/>
                    </a:xfrm>
                    <a:prstGeom prst="rect">
                      <a:avLst/>
                    </a:prstGeom>
                    <a:solidFill>
                      <a:srgbClr val="fcf3b2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6" name=""/>
                    <p:cNvSpPr/>
                    <p:nvPr/>
                  </p:nvSpPr>
                  <p:spPr>
                    <a:xfrm>
                      <a:off x="4191120" y="2442240"/>
                      <a:ext cx="68580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7" name=""/>
                  <p:cNvSpPr/>
                  <p:nvPr/>
                </p:nvSpPr>
                <p:spPr>
                  <a:xfrm>
                    <a:off x="4191120" y="3200400"/>
                    <a:ext cx="685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>
                  <a:off x="4267080" y="320184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267080" y="380988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267080" y="448308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267080" y="519588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2" name=""/>
              <p:cNvGrpSpPr/>
              <p:nvPr/>
            </p:nvGrpSpPr>
            <p:grpSpPr>
              <a:xfrm>
                <a:off x="5029200" y="2362320"/>
                <a:ext cx="1676520" cy="4343400"/>
                <a:chOff x="5029200" y="2362320"/>
                <a:chExt cx="1676520" cy="4343400"/>
              </a:xfrm>
            </p:grpSpPr>
            <p:grpSp>
              <p:nvGrpSpPr>
                <p:cNvPr id="1803" name=""/>
                <p:cNvGrpSpPr/>
                <p:nvPr/>
              </p:nvGrpSpPr>
              <p:grpSpPr>
                <a:xfrm>
                  <a:off x="5029200" y="2362320"/>
                  <a:ext cx="1676520" cy="4343400"/>
                  <a:chOff x="5029200" y="2362320"/>
                  <a:chExt cx="1676520" cy="4343400"/>
                </a:xfrm>
              </p:grpSpPr>
              <p:grpSp>
                <p:nvGrpSpPr>
                  <p:cNvPr id="1804" name=""/>
                  <p:cNvGrpSpPr/>
                  <p:nvPr/>
                </p:nvGrpSpPr>
                <p:grpSpPr>
                  <a:xfrm>
                    <a:off x="5029200" y="2362320"/>
                    <a:ext cx="1676520" cy="4343400"/>
                    <a:chOff x="5029200" y="2362320"/>
                    <a:chExt cx="1676520" cy="4343400"/>
                  </a:xfrm>
                </p:grpSpPr>
                <p:sp>
                  <p:nvSpPr>
                    <p:cNvPr id="1805" name=""/>
                    <p:cNvSpPr/>
                    <p:nvPr/>
                  </p:nvSpPr>
                  <p:spPr>
                    <a:xfrm>
                      <a:off x="5029200" y="2362320"/>
                      <a:ext cx="1676520" cy="4343400"/>
                    </a:xfrm>
                    <a:prstGeom prst="rect">
                      <a:avLst/>
                    </a:prstGeom>
                    <a:solidFill>
                      <a:srgbClr val="fcf3b2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6" name=""/>
                    <p:cNvSpPr/>
                    <p:nvPr/>
                  </p:nvSpPr>
                  <p:spPr>
                    <a:xfrm>
                      <a:off x="5105520" y="2514600"/>
                      <a:ext cx="1447560" cy="642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</a:t>
                      </a:r>
                      <a:r>
                        <a:rPr b="1" lang="en-US" sz="3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07" name=""/>
                  <p:cNvSpPr/>
                  <p:nvPr/>
                </p:nvSpPr>
                <p:spPr>
                  <a:xfrm>
                    <a:off x="5029200" y="3200400"/>
                    <a:ext cx="1676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8" name=""/>
                <p:cNvSpPr/>
                <p:nvPr/>
              </p:nvSpPr>
              <p:spPr>
                <a:xfrm>
                  <a:off x="5105520" y="3201840"/>
                  <a:ext cx="1600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/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5105520" y="3809880"/>
                  <a:ext cx="1600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/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5105520" y="4494240"/>
                  <a:ext cx="1600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/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105520" y="5195880"/>
                  <a:ext cx="1600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/8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5334120" y="5943600"/>
                  <a:ext cx="1143000" cy="45720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5105520" y="5881680"/>
                  <a:ext cx="1600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8/8 = 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4" name=""/>
            <p:cNvSpPr/>
            <p:nvPr/>
          </p:nvSpPr>
          <p:spPr>
            <a:xfrm>
              <a:off x="5105520" y="571500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1905120" y="1447920"/>
            <a:ext cx="5181480" cy="4647960"/>
          </a:xfrm>
          <a:prstGeom prst="sun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247840" y="228600"/>
            <a:ext cx="4762440" cy="16174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Variance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of a 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crete                                                    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ability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371600" y="17524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es the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amount of sprea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of a distrib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009880" y="3124080"/>
            <a:ext cx="51242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oted by the Greek letter  </a:t>
            </a:r>
            <a:r>
              <a:rPr b="1" lang="en-US" sz="4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US" sz="4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sigma square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2014560" y="4602240"/>
            <a:ext cx="5148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tandard devi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                                  the square root of </a:t>
            </a:r>
            <a:r>
              <a:rPr b="1" lang="en-US" sz="4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US" sz="4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0" name="ORG_BLU" descr=""/>
          <p:cNvPicPr/>
          <p:nvPr/>
        </p:nvPicPr>
        <p:blipFill>
          <a:blip r:embed="rId1"/>
          <a:stretch/>
        </p:blipFill>
        <p:spPr>
          <a:xfrm>
            <a:off x="1584360" y="4754520"/>
            <a:ext cx="417600" cy="457200"/>
          </a:xfrm>
          <a:prstGeom prst="rect">
            <a:avLst/>
          </a:prstGeom>
          <a:ln w="0">
            <a:noFill/>
          </a:ln>
        </p:spPr>
      </p:pic>
      <p:pic>
        <p:nvPicPr>
          <p:cNvPr id="1821" name="BLU_EYE" descr=""/>
          <p:cNvPicPr/>
          <p:nvPr/>
        </p:nvPicPr>
        <p:blipFill>
          <a:blip r:embed="rId2"/>
          <a:stretch/>
        </p:blipFill>
        <p:spPr>
          <a:xfrm>
            <a:off x="1052640" y="190512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1822" name="YLO_3D" descr=""/>
          <p:cNvPicPr/>
          <p:nvPr/>
        </p:nvPicPr>
        <p:blipFill>
          <a:blip r:embed="rId3"/>
          <a:stretch/>
        </p:blipFill>
        <p:spPr>
          <a:xfrm>
            <a:off x="1743120" y="3276720"/>
            <a:ext cx="401760" cy="457200"/>
          </a:xfrm>
          <a:prstGeom prst="rect">
            <a:avLst/>
          </a:prstGeom>
          <a:ln w="0">
            <a:noFill/>
          </a:ln>
        </p:spPr>
      </p:pic>
      <p:grpSp>
        <p:nvGrpSpPr>
          <p:cNvPr id="1823" name=""/>
          <p:cNvGrpSpPr/>
          <p:nvPr/>
        </p:nvGrpSpPr>
        <p:grpSpPr>
          <a:xfrm>
            <a:off x="762120" y="6019920"/>
            <a:ext cx="7467120" cy="304200"/>
            <a:chOff x="762120" y="6019920"/>
            <a:chExt cx="7467120" cy="304200"/>
          </a:xfrm>
        </p:grpSpPr>
        <p:sp>
          <p:nvSpPr>
            <p:cNvPr id="1824" name=""/>
            <p:cNvSpPr/>
            <p:nvPr/>
          </p:nvSpPr>
          <p:spPr>
            <a:xfrm>
              <a:off x="762120" y="6097680"/>
              <a:ext cx="7467120" cy="781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5" name="YELLOW" descr=""/>
            <p:cNvPicPr/>
            <p:nvPr/>
          </p:nvPicPr>
          <p:blipFill>
            <a:blip r:embed="rId5"/>
            <a:stretch/>
          </p:blipFill>
          <p:spPr>
            <a:xfrm>
              <a:off x="4401360" y="6019920"/>
              <a:ext cx="399960" cy="30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6" name=""/>
          <p:cNvGrpSpPr/>
          <p:nvPr/>
        </p:nvGrpSpPr>
        <p:grpSpPr>
          <a:xfrm>
            <a:off x="5219640" y="3276720"/>
            <a:ext cx="1600200" cy="3276360"/>
            <a:chOff x="5219640" y="3276720"/>
            <a:chExt cx="1600200" cy="3276360"/>
          </a:xfrm>
        </p:grpSpPr>
        <p:sp>
          <p:nvSpPr>
            <p:cNvPr id="1827" name=""/>
            <p:cNvSpPr/>
            <p:nvPr/>
          </p:nvSpPr>
          <p:spPr>
            <a:xfrm>
              <a:off x="5219640" y="3276720"/>
              <a:ext cx="1524240" cy="3276360"/>
            </a:xfrm>
            <a:prstGeom prst="rect">
              <a:avLst/>
            </a:prstGeom>
            <a:solidFill>
              <a:srgbClr val="fcf3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81560" y="3352680"/>
              <a:ext cx="15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   )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219640" y="40384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848920" y="3276720"/>
              <a:ext cx="72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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1" name=""/>
          <p:cNvSpPr/>
          <p:nvPr/>
        </p:nvSpPr>
        <p:spPr>
          <a:xfrm>
            <a:off x="2247840" y="228600"/>
            <a:ext cx="4762440" cy="16174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Variance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of a 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crete                                                    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ability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2" name=""/>
          <p:cNvGrpSpPr/>
          <p:nvPr/>
        </p:nvGrpSpPr>
        <p:grpSpPr>
          <a:xfrm>
            <a:off x="1496880" y="1447920"/>
            <a:ext cx="6122880" cy="1066680"/>
            <a:chOff x="1496880" y="1447920"/>
            <a:chExt cx="6122880" cy="1066680"/>
          </a:xfrm>
        </p:grpSpPr>
        <p:sp>
          <p:nvSpPr>
            <p:cNvPr id="1833" name=""/>
            <p:cNvSpPr/>
            <p:nvPr/>
          </p:nvSpPr>
          <p:spPr>
            <a:xfrm>
              <a:off x="1496880" y="1600200"/>
              <a:ext cx="6122880" cy="75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34955" dir="83271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lip a coin three times.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28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be the number of head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 txBox="1"/>
            <p:nvPr/>
          </p:nvSpPr>
          <p:spPr>
            <a:xfrm>
              <a:off x="1649160" y="144792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grpSp>
        <p:nvGrpSpPr>
          <p:cNvPr id="1835" name=""/>
          <p:cNvGrpSpPr/>
          <p:nvPr/>
        </p:nvGrpSpPr>
        <p:grpSpPr>
          <a:xfrm>
            <a:off x="4550040" y="2347920"/>
            <a:ext cx="4214160" cy="852480"/>
            <a:chOff x="4550040" y="2347920"/>
            <a:chExt cx="4214160" cy="852480"/>
          </a:xfrm>
        </p:grpSpPr>
        <p:sp>
          <p:nvSpPr>
            <p:cNvPr id="1836" name=""/>
            <p:cNvSpPr/>
            <p:nvPr/>
          </p:nvSpPr>
          <p:spPr>
            <a:xfrm>
              <a:off x="8339760" y="2419560"/>
              <a:ext cx="424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)]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792560" y="2419560"/>
              <a:ext cx="212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870240" y="2419560"/>
              <a:ext cx="212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150520" y="2419560"/>
              <a:ext cx="424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[(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56360" y="236952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045640" y="2419560"/>
              <a:ext cx="282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389000" y="2419560"/>
              <a:ext cx="389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608800" y="2419560"/>
              <a:ext cx="282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22480" y="2347920"/>
              <a:ext cx="366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129720" y="2347920"/>
              <a:ext cx="212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50040" y="2438280"/>
              <a:ext cx="1014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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3414240" y="2438280"/>
            <a:ext cx="1235520" cy="762120"/>
            <a:chOff x="3414240" y="2438280"/>
            <a:chExt cx="1235520" cy="762120"/>
          </a:xfrm>
        </p:grpSpPr>
        <p:grpSp>
          <p:nvGrpSpPr>
            <p:cNvPr id="1848" name=""/>
            <p:cNvGrpSpPr/>
            <p:nvPr/>
          </p:nvGrpSpPr>
          <p:grpSpPr>
            <a:xfrm>
              <a:off x="3414240" y="2438280"/>
              <a:ext cx="665280" cy="762120"/>
              <a:chOff x="3414240" y="2438280"/>
              <a:chExt cx="665280" cy="762120"/>
            </a:xfrm>
          </p:grpSpPr>
          <p:sp>
            <p:nvSpPr>
              <p:cNvPr id="1849" name=""/>
              <p:cNvSpPr/>
              <p:nvPr/>
            </p:nvSpPr>
            <p:spPr>
              <a:xfrm>
                <a:off x="3708720" y="2460600"/>
                <a:ext cx="3708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414240" y="2438280"/>
                <a:ext cx="3834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5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>
              <a:off x="4144680" y="2438280"/>
              <a:ext cx="505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3924360" y="3276720"/>
            <a:ext cx="1295280" cy="3276360"/>
            <a:chOff x="3924360" y="3276720"/>
            <a:chExt cx="1295280" cy="3276360"/>
          </a:xfrm>
        </p:grpSpPr>
        <p:grpSp>
          <p:nvGrpSpPr>
            <p:cNvPr id="1853" name=""/>
            <p:cNvGrpSpPr/>
            <p:nvPr/>
          </p:nvGrpSpPr>
          <p:grpSpPr>
            <a:xfrm>
              <a:off x="3924360" y="3276720"/>
              <a:ext cx="1295280" cy="3276360"/>
              <a:chOff x="3924360" y="3276720"/>
              <a:chExt cx="1295280" cy="3276360"/>
            </a:xfrm>
          </p:grpSpPr>
          <p:sp>
            <p:nvSpPr>
              <p:cNvPr id="1854" name=""/>
              <p:cNvSpPr/>
              <p:nvPr/>
            </p:nvSpPr>
            <p:spPr>
              <a:xfrm>
                <a:off x="3924360" y="3276720"/>
                <a:ext cx="1295280" cy="3276360"/>
              </a:xfrm>
              <a:prstGeom prst="rect">
                <a:avLst/>
              </a:prstGeom>
              <a:solidFill>
                <a:srgbClr val="fcf3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983040" y="3390480"/>
                <a:ext cx="1120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X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6" name=""/>
            <p:cNvSpPr/>
            <p:nvPr/>
          </p:nvSpPr>
          <p:spPr>
            <a:xfrm>
              <a:off x="3924360" y="4038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191120" y="3276720"/>
              <a:ext cx="982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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8" name=""/>
          <p:cNvSpPr/>
          <p:nvPr/>
        </p:nvSpPr>
        <p:spPr>
          <a:xfrm>
            <a:off x="4152960" y="3962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152960" y="44416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191120" y="5305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229280" y="49150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562720" y="44244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562720" y="5338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486400" y="4881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6743880" y="3276720"/>
            <a:ext cx="2397960" cy="3286080"/>
            <a:chOff x="6743880" y="3276720"/>
            <a:chExt cx="2397960" cy="3286080"/>
          </a:xfrm>
        </p:grpSpPr>
        <p:sp>
          <p:nvSpPr>
            <p:cNvPr id="1866" name=""/>
            <p:cNvSpPr/>
            <p:nvPr/>
          </p:nvSpPr>
          <p:spPr>
            <a:xfrm>
              <a:off x="6824520" y="3276720"/>
              <a:ext cx="2205360" cy="3286080"/>
            </a:xfrm>
            <a:prstGeom prst="rect">
              <a:avLst/>
            </a:prstGeom>
            <a:solidFill>
              <a:srgbClr val="fcf3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743880" y="3392640"/>
              <a:ext cx="188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    )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824520" y="4037040"/>
              <a:ext cx="2205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393320" y="3276720"/>
              <a:ext cx="72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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920360" y="339408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1" name=""/>
          <p:cNvSpPr/>
          <p:nvPr/>
        </p:nvSpPr>
        <p:spPr>
          <a:xfrm>
            <a:off x="7124760" y="39528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281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6972480" y="4424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093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429680" y="5867280"/>
            <a:ext cx="990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621320" y="2346480"/>
            <a:ext cx="560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972480" y="4867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093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124760" y="5324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281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7" name=""/>
          <p:cNvGrpSpPr/>
          <p:nvPr/>
        </p:nvGrpSpPr>
        <p:grpSpPr>
          <a:xfrm>
            <a:off x="7374240" y="2438280"/>
            <a:ext cx="1169640" cy="762120"/>
            <a:chOff x="7374240" y="2438280"/>
            <a:chExt cx="1169640" cy="762120"/>
          </a:xfrm>
        </p:grpSpPr>
        <p:sp>
          <p:nvSpPr>
            <p:cNvPr id="1878" name=""/>
            <p:cNvSpPr/>
            <p:nvPr/>
          </p:nvSpPr>
          <p:spPr>
            <a:xfrm>
              <a:off x="7803720" y="2438280"/>
              <a:ext cx="212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891200" y="2438280"/>
              <a:ext cx="652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i="1" lang="en-US" sz="5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0" lang="en-US" sz="5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374240" y="2438280"/>
              <a:ext cx="389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0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5594400" y="2365200"/>
            <a:ext cx="1280160" cy="835200"/>
            <a:chOff x="5594400" y="2365200"/>
            <a:chExt cx="1280160" cy="835200"/>
          </a:xfrm>
        </p:grpSpPr>
        <p:sp>
          <p:nvSpPr>
            <p:cNvPr id="1882" name=""/>
            <p:cNvSpPr/>
            <p:nvPr/>
          </p:nvSpPr>
          <p:spPr>
            <a:xfrm>
              <a:off x="5594400" y="2438280"/>
              <a:ext cx="282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508080" y="2365200"/>
              <a:ext cx="366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115320" y="2365200"/>
              <a:ext cx="212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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1523520" y="2544840"/>
            <a:ext cx="179784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rmu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114480" y="3276720"/>
            <a:ext cx="3848040" cy="3276360"/>
            <a:chOff x="114480" y="3276720"/>
            <a:chExt cx="3848040" cy="3276360"/>
          </a:xfrm>
        </p:grpSpPr>
        <p:grpSp>
          <p:nvGrpSpPr>
            <p:cNvPr id="1887" name=""/>
            <p:cNvGrpSpPr/>
            <p:nvPr/>
          </p:nvGrpSpPr>
          <p:grpSpPr>
            <a:xfrm>
              <a:off x="2343240" y="3276720"/>
              <a:ext cx="1581120" cy="3276360"/>
              <a:chOff x="2343240" y="3276720"/>
              <a:chExt cx="1581120" cy="3276360"/>
            </a:xfrm>
          </p:grpSpPr>
          <p:sp>
            <p:nvSpPr>
              <p:cNvPr id="1888" name=""/>
              <p:cNvSpPr/>
              <p:nvPr/>
            </p:nvSpPr>
            <p:spPr>
              <a:xfrm>
                <a:off x="2343240" y="3276720"/>
                <a:ext cx="1581120" cy="3276360"/>
              </a:xfrm>
              <a:prstGeom prst="rect">
                <a:avLst/>
              </a:prstGeom>
              <a:solidFill>
                <a:srgbClr val="fcf3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416320" y="3391560"/>
                <a:ext cx="136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x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P(</a:t>
                </a: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x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0" name=""/>
            <p:cNvSpPr/>
            <p:nvPr/>
          </p:nvSpPr>
          <p:spPr>
            <a:xfrm>
              <a:off x="2774880" y="3925800"/>
              <a:ext cx="7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74880" y="4379760"/>
              <a:ext cx="7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/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774880" y="5338800"/>
              <a:ext cx="7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/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774880" y="4844880"/>
              <a:ext cx="79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/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114480" y="3276720"/>
              <a:ext cx="647640" cy="3276360"/>
              <a:chOff x="114480" y="3276720"/>
              <a:chExt cx="647640" cy="3276360"/>
            </a:xfrm>
          </p:grpSpPr>
          <p:sp>
            <p:nvSpPr>
              <p:cNvPr id="1895" name=""/>
              <p:cNvSpPr/>
              <p:nvPr/>
            </p:nvSpPr>
            <p:spPr>
              <a:xfrm>
                <a:off x="114480" y="3276720"/>
                <a:ext cx="647640" cy="3276360"/>
              </a:xfrm>
              <a:prstGeom prst="rect">
                <a:avLst/>
              </a:prstGeom>
              <a:solidFill>
                <a:srgbClr val="fcf3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14480" y="333828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114480" y="403848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85760" y="39258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85760" y="43797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85760" y="48261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85760" y="53388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2" name=""/>
            <p:cNvGrpSpPr/>
            <p:nvPr/>
          </p:nvGrpSpPr>
          <p:grpSpPr>
            <a:xfrm>
              <a:off x="762120" y="3276720"/>
              <a:ext cx="1581120" cy="3276360"/>
              <a:chOff x="762120" y="3276720"/>
              <a:chExt cx="1581120" cy="3276360"/>
            </a:xfrm>
          </p:grpSpPr>
          <p:sp>
            <p:nvSpPr>
              <p:cNvPr id="1903" name=""/>
              <p:cNvSpPr/>
              <p:nvPr/>
            </p:nvSpPr>
            <p:spPr>
              <a:xfrm>
                <a:off x="762120" y="3276720"/>
                <a:ext cx="1581120" cy="3276360"/>
              </a:xfrm>
              <a:prstGeom prst="rect">
                <a:avLst/>
              </a:prstGeom>
              <a:solidFill>
                <a:srgbClr val="fcf3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833760" y="3391560"/>
                <a:ext cx="136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P(</a:t>
                </a: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x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5" name=""/>
            <p:cNvSpPr/>
            <p:nvPr/>
          </p:nvSpPr>
          <p:spPr>
            <a:xfrm>
              <a:off x="762120" y="403848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33400" y="3925800"/>
              <a:ext cx="15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/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33400" y="4379760"/>
              <a:ext cx="15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/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33400" y="4835520"/>
              <a:ext cx="15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/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33400" y="5338800"/>
              <a:ext cx="15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/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38080" y="5853240"/>
              <a:ext cx="1289160" cy="5443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33400" y="5867280"/>
              <a:ext cx="15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/8 = 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2" name=""/>
            <p:cNvGrpSpPr/>
            <p:nvPr/>
          </p:nvGrpSpPr>
          <p:grpSpPr>
            <a:xfrm>
              <a:off x="2475000" y="5759280"/>
              <a:ext cx="1377720" cy="703440"/>
              <a:chOff x="2475000" y="5759280"/>
              <a:chExt cx="1377720" cy="703440"/>
            </a:xfrm>
          </p:grpSpPr>
          <p:sp>
            <p:nvSpPr>
              <p:cNvPr id="1913" name=""/>
              <p:cNvSpPr/>
              <p:nvPr/>
            </p:nvSpPr>
            <p:spPr>
              <a:xfrm>
                <a:off x="2485080" y="5880600"/>
                <a:ext cx="1367640" cy="520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f3b2"/>
                    </a:solidFill>
                    <a:latin typeface="Times New Roman"/>
                  </a:rPr>
                  <a:t>=1.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475000" y="5759280"/>
                <a:ext cx="473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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5" name=""/>
            <p:cNvSpPr/>
            <p:nvPr/>
          </p:nvSpPr>
          <p:spPr>
            <a:xfrm>
              <a:off x="1066680" y="57754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666880" y="57754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7" name=""/>
          <p:cNvSpPr/>
          <p:nvPr/>
        </p:nvSpPr>
        <p:spPr>
          <a:xfrm>
            <a:off x="7467480" y="5791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5334120" y="4038480"/>
            <a:ext cx="1371600" cy="381240"/>
          </a:xfrm>
          <a:prstGeom prst="rect">
            <a:avLst/>
          </a:prstGeom>
          <a:solidFill>
            <a:srgbClr val="e5b0e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5486400" y="3952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838080" y="4038480"/>
            <a:ext cx="1371600" cy="381240"/>
          </a:xfrm>
          <a:prstGeom prst="rect">
            <a:avLst/>
          </a:prstGeom>
          <a:solidFill>
            <a:srgbClr val="e5b0e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"/>
          <p:cNvSpPr/>
          <p:nvPr/>
        </p:nvSpPr>
        <p:spPr>
          <a:xfrm>
            <a:off x="152280" y="1219320"/>
            <a:ext cx="2819520" cy="411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91658" dir="741765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 Desch, owner of College Painters, studied his records for the past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0 wee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and reported the following                                                                 number of houses painted per wee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2" name=""/>
          <p:cNvGrpSpPr/>
          <p:nvPr/>
        </p:nvGrpSpPr>
        <p:grpSpPr>
          <a:xfrm>
            <a:off x="6705720" y="1143000"/>
            <a:ext cx="2286000" cy="3962520"/>
            <a:chOff x="6705720" y="1143000"/>
            <a:chExt cx="2286000" cy="3962520"/>
          </a:xfrm>
        </p:grpSpPr>
        <p:grpSp>
          <p:nvGrpSpPr>
            <p:cNvPr id="1923" name=""/>
            <p:cNvGrpSpPr/>
            <p:nvPr/>
          </p:nvGrpSpPr>
          <p:grpSpPr>
            <a:xfrm>
              <a:off x="6705720" y="1143000"/>
              <a:ext cx="2285640" cy="3962520"/>
              <a:chOff x="6705720" y="1143000"/>
              <a:chExt cx="2285640" cy="3962520"/>
            </a:xfrm>
          </p:grpSpPr>
          <p:sp>
            <p:nvSpPr>
              <p:cNvPr id="1924" name=""/>
              <p:cNvSpPr/>
              <p:nvPr/>
            </p:nvSpPr>
            <p:spPr>
              <a:xfrm>
                <a:off x="6705720" y="1143000"/>
                <a:ext cx="2285640" cy="3962520"/>
              </a:xfrm>
              <a:prstGeom prst="rect">
                <a:avLst/>
              </a:prstGeom>
              <a:solidFill>
                <a:srgbClr val="fcf3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809760" y="1281600"/>
                <a:ext cx="197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P(</a:t>
                </a:r>
                <a:r>
                  <a:rPr b="1" i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x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6" name=""/>
            <p:cNvSpPr/>
            <p:nvPr/>
          </p:nvSpPr>
          <p:spPr>
            <a:xfrm>
              <a:off x="6705720" y="19810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7" name=""/>
          <p:cNvSpPr/>
          <p:nvPr/>
        </p:nvSpPr>
        <p:spPr>
          <a:xfrm>
            <a:off x="6808680" y="2058840"/>
            <a:ext cx="21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/20 = 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08680" y="2666880"/>
            <a:ext cx="21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/20 = 0.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6808680" y="3351240"/>
            <a:ext cx="21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/20 = 0.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808680" y="4052880"/>
            <a:ext cx="21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/20 = 0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1" name=""/>
          <p:cNvGrpSpPr/>
          <p:nvPr/>
        </p:nvGrpSpPr>
        <p:grpSpPr>
          <a:xfrm>
            <a:off x="6808680" y="4495680"/>
            <a:ext cx="2183040" cy="596880"/>
            <a:chOff x="6808680" y="4495680"/>
            <a:chExt cx="2183040" cy="596880"/>
          </a:xfrm>
        </p:grpSpPr>
        <p:sp>
          <p:nvSpPr>
            <p:cNvPr id="1932" name=""/>
            <p:cNvSpPr/>
            <p:nvPr/>
          </p:nvSpPr>
          <p:spPr>
            <a:xfrm>
              <a:off x="6934320" y="4495680"/>
              <a:ext cx="1828800" cy="53352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efefe"/>
                </a:gs>
                <a:gs pos="100000">
                  <a:srgbClr val="00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73964" dir="726356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808680" y="4572000"/>
              <a:ext cx="21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0/20 = 1.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5105520" y="6019920"/>
            <a:ext cx="3809520" cy="657720"/>
            <a:chOff x="5105520" y="6019920"/>
            <a:chExt cx="3809520" cy="657720"/>
          </a:xfrm>
        </p:grpSpPr>
        <p:sp>
          <p:nvSpPr>
            <p:cNvPr id="1935" name=""/>
            <p:cNvSpPr/>
            <p:nvPr/>
          </p:nvSpPr>
          <p:spPr>
            <a:xfrm>
              <a:off x="5105520" y="6476760"/>
              <a:ext cx="380952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528880" y="6095880"/>
              <a:ext cx="2962440" cy="520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17181" dir="836163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mputing th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842960" y="6019920"/>
              <a:ext cx="4503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7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3328920" y="195120"/>
            <a:ext cx="2486160" cy="871560"/>
            <a:chOff x="3328920" y="195120"/>
            <a:chExt cx="2486160" cy="871560"/>
          </a:xfrm>
        </p:grpSpPr>
        <p:sp>
          <p:nvSpPr>
            <p:cNvPr id="1939" name=""/>
            <p:cNvSpPr txBox="1"/>
            <p:nvPr/>
          </p:nvSpPr>
          <p:spPr>
            <a:xfrm>
              <a:off x="3328920" y="19512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940" name=""/>
            <p:cNvSpPr txBox="1"/>
            <p:nvPr/>
          </p:nvSpPr>
          <p:spPr>
            <a:xfrm>
              <a:off x="3967200" y="404640"/>
              <a:ext cx="18478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941" name=""/>
          <p:cNvSpPr/>
          <p:nvPr/>
        </p:nvSpPr>
        <p:spPr>
          <a:xfrm>
            <a:off x="152280" y="5257800"/>
            <a:ext cx="883944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2388" dir="7183193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obability distrib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it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33cc"/>
                </a:solidFill>
                <a:latin typeface="Times New Roman"/>
              </a:rPr>
              <a:t>vari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3124080" y="1143000"/>
            <a:ext cx="3505320" cy="3962520"/>
            <a:chOff x="3124080" y="1143000"/>
            <a:chExt cx="3505320" cy="3962520"/>
          </a:xfrm>
        </p:grpSpPr>
        <p:grpSp>
          <p:nvGrpSpPr>
            <p:cNvPr id="1943" name=""/>
            <p:cNvGrpSpPr/>
            <p:nvPr/>
          </p:nvGrpSpPr>
          <p:grpSpPr>
            <a:xfrm>
              <a:off x="3124080" y="1143000"/>
              <a:ext cx="3505320" cy="3962520"/>
              <a:chOff x="3124080" y="1143000"/>
              <a:chExt cx="3505320" cy="3962520"/>
            </a:xfrm>
          </p:grpSpPr>
          <p:grpSp>
            <p:nvGrpSpPr>
              <p:cNvPr id="1944" name=""/>
              <p:cNvGrpSpPr/>
              <p:nvPr/>
            </p:nvGrpSpPr>
            <p:grpSpPr>
              <a:xfrm>
                <a:off x="3124080" y="1143000"/>
                <a:ext cx="1752840" cy="3962520"/>
                <a:chOff x="3124080" y="1143000"/>
                <a:chExt cx="1752840" cy="3962520"/>
              </a:xfrm>
            </p:grpSpPr>
            <p:grpSp>
              <p:nvGrpSpPr>
                <p:cNvPr id="1945" name=""/>
                <p:cNvGrpSpPr/>
                <p:nvPr/>
              </p:nvGrpSpPr>
              <p:grpSpPr>
                <a:xfrm>
                  <a:off x="3124080" y="1143000"/>
                  <a:ext cx="1752840" cy="3962520"/>
                  <a:chOff x="3124080" y="1143000"/>
                  <a:chExt cx="1752840" cy="3962520"/>
                </a:xfrm>
              </p:grpSpPr>
              <p:sp>
                <p:nvSpPr>
                  <p:cNvPr id="1946" name=""/>
                  <p:cNvSpPr/>
                  <p:nvPr/>
                </p:nvSpPr>
                <p:spPr>
                  <a:xfrm>
                    <a:off x="3124080" y="1143000"/>
                    <a:ext cx="1752840" cy="3962520"/>
                  </a:xfrm>
                  <a:prstGeom prst="rect">
                    <a:avLst/>
                  </a:prstGeom>
                  <a:solidFill>
                    <a:srgbClr val="fcf3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3124080" y="1212840"/>
                    <a:ext cx="175284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# of Painted Hous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8" name=""/>
                <p:cNvSpPr/>
                <p:nvPr/>
              </p:nvSpPr>
              <p:spPr>
                <a:xfrm>
                  <a:off x="3124080" y="1968480"/>
                  <a:ext cx="1752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9" name=""/>
              <p:cNvSpPr/>
              <p:nvPr/>
            </p:nvSpPr>
            <p:spPr>
              <a:xfrm>
                <a:off x="3319560" y="2120760"/>
                <a:ext cx="136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319560" y="2728800"/>
                <a:ext cx="136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319560" y="3402000"/>
                <a:ext cx="136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319560" y="4114800"/>
                <a:ext cx="136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3" name=""/>
              <p:cNvGrpSpPr/>
              <p:nvPr/>
            </p:nvGrpSpPr>
            <p:grpSpPr>
              <a:xfrm>
                <a:off x="4952880" y="1143000"/>
                <a:ext cx="1676520" cy="3962520"/>
                <a:chOff x="4952880" y="1143000"/>
                <a:chExt cx="1676520" cy="3962520"/>
              </a:xfrm>
            </p:grpSpPr>
            <p:grpSp>
              <p:nvGrpSpPr>
                <p:cNvPr id="1954" name=""/>
                <p:cNvGrpSpPr/>
                <p:nvPr/>
              </p:nvGrpSpPr>
              <p:grpSpPr>
                <a:xfrm>
                  <a:off x="4952880" y="1143000"/>
                  <a:ext cx="1676520" cy="3962520"/>
                  <a:chOff x="4952880" y="1143000"/>
                  <a:chExt cx="1676520" cy="3962520"/>
                </a:xfrm>
              </p:grpSpPr>
              <p:sp>
                <p:nvSpPr>
                  <p:cNvPr id="1955" name=""/>
                  <p:cNvSpPr/>
                  <p:nvPr/>
                </p:nvSpPr>
                <p:spPr>
                  <a:xfrm>
                    <a:off x="4952880" y="1143000"/>
                    <a:ext cx="1676520" cy="3962520"/>
                  </a:xfrm>
                  <a:prstGeom prst="rect">
                    <a:avLst/>
                  </a:prstGeom>
                  <a:solidFill>
                    <a:srgbClr val="fcf3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>
                    <a:off x="5029200" y="1281600"/>
                    <a:ext cx="14475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8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Weeks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57" name=""/>
                <p:cNvSpPr/>
                <p:nvPr/>
              </p:nvSpPr>
              <p:spPr>
                <a:xfrm>
                  <a:off x="4952880" y="1981080"/>
                  <a:ext cx="1676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8" name=""/>
              <p:cNvSpPr/>
              <p:nvPr/>
            </p:nvSpPr>
            <p:spPr>
              <a:xfrm>
                <a:off x="5029200" y="2058840"/>
                <a:ext cx="16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029200" y="2666880"/>
                <a:ext cx="16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029200" y="3351240"/>
                <a:ext cx="16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029200" y="4052880"/>
                <a:ext cx="160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2" name=""/>
              <p:cNvGrpSpPr/>
              <p:nvPr/>
            </p:nvGrpSpPr>
            <p:grpSpPr>
              <a:xfrm>
                <a:off x="5029200" y="4495680"/>
                <a:ext cx="1600200" cy="539640"/>
                <a:chOff x="5029200" y="4495680"/>
                <a:chExt cx="1600200" cy="539640"/>
              </a:xfrm>
            </p:grpSpPr>
            <p:sp>
              <p:nvSpPr>
                <p:cNvPr id="1963" name=""/>
                <p:cNvSpPr/>
                <p:nvPr/>
              </p:nvSpPr>
              <p:spPr>
                <a:xfrm>
                  <a:off x="5257800" y="4495680"/>
                  <a:ext cx="1143000" cy="52380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  <a:effectLst>
                  <a:outerShdw dist="91658" dir="7417659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5029200" y="4514760"/>
                  <a:ext cx="1600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65" name=""/>
            <p:cNvSpPr/>
            <p:nvPr/>
          </p:nvSpPr>
          <p:spPr>
            <a:xfrm>
              <a:off x="4541760" y="1447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6" name=""/>
          <p:cNvGrpSpPr/>
          <p:nvPr/>
        </p:nvGrpSpPr>
        <p:grpSpPr>
          <a:xfrm>
            <a:off x="3276000" y="990720"/>
            <a:ext cx="4084560" cy="1097640"/>
            <a:chOff x="3276000" y="990720"/>
            <a:chExt cx="4084560" cy="1097640"/>
          </a:xfrm>
        </p:grpSpPr>
        <p:sp>
          <p:nvSpPr>
            <p:cNvPr id="1967" name=""/>
            <p:cNvSpPr/>
            <p:nvPr/>
          </p:nvSpPr>
          <p:spPr>
            <a:xfrm>
              <a:off x="6792840" y="990720"/>
              <a:ext cx="56772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000000"/>
                  </a:solidFill>
                  <a:latin typeface="Times New Roman"/>
                </a:rPr>
                <a:t>)]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142680" y="990720"/>
              <a:ext cx="28404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926240" y="1036800"/>
              <a:ext cx="49752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67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464880" y="1067040"/>
              <a:ext cx="37872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7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264640" y="1067040"/>
              <a:ext cx="89820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700" spc="-1" strike="noStrike">
                  <a:solidFill>
                    <a:srgbClr val="000000"/>
                  </a:solidFill>
                  <a:latin typeface="Times New Roman"/>
                </a:rPr>
                <a:t>xP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4591800" y="1067040"/>
              <a:ext cx="50364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872520" y="1067040"/>
              <a:ext cx="67752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276000" y="990720"/>
              <a:ext cx="49140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7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5" name=""/>
          <p:cNvSpPr/>
          <p:nvPr/>
        </p:nvSpPr>
        <p:spPr>
          <a:xfrm>
            <a:off x="4540320" y="990720"/>
            <a:ext cx="68364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3300"/>
                </a:solidFill>
                <a:latin typeface="Symbol"/>
                <a:ea typeface="Symbol"/>
              </a:rPr>
              <a:t>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6" name=""/>
          <p:cNvGrpSpPr/>
          <p:nvPr/>
        </p:nvGrpSpPr>
        <p:grpSpPr>
          <a:xfrm>
            <a:off x="5276520" y="990720"/>
            <a:ext cx="1779120" cy="1097640"/>
            <a:chOff x="5276520" y="990720"/>
            <a:chExt cx="1779120" cy="1097640"/>
          </a:xfrm>
        </p:grpSpPr>
        <p:sp>
          <p:nvSpPr>
            <p:cNvPr id="1977" name=""/>
            <p:cNvSpPr/>
            <p:nvPr/>
          </p:nvSpPr>
          <p:spPr>
            <a:xfrm>
              <a:off x="6771600" y="990720"/>
              <a:ext cx="28404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154200" y="990720"/>
              <a:ext cx="28404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7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476760" y="1067040"/>
              <a:ext cx="37872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7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276520" y="1067040"/>
              <a:ext cx="898200" cy="10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700" spc="-1" strike="noStrike">
                  <a:solidFill>
                    <a:srgbClr val="ff3300"/>
                  </a:solidFill>
                  <a:latin typeface="Times New Roman"/>
                </a:rPr>
                <a:t>xP</a:t>
              </a:r>
              <a:endParaRPr b="0" lang="en-US" sz="6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5562720" y="2057400"/>
            <a:ext cx="1676160" cy="4038480"/>
            <a:chOff x="5562720" y="2057400"/>
            <a:chExt cx="1676160" cy="4038480"/>
          </a:xfrm>
        </p:grpSpPr>
        <p:grpSp>
          <p:nvGrpSpPr>
            <p:cNvPr id="1982" name=""/>
            <p:cNvGrpSpPr/>
            <p:nvPr/>
          </p:nvGrpSpPr>
          <p:grpSpPr>
            <a:xfrm>
              <a:off x="5562720" y="2057400"/>
              <a:ext cx="1676160" cy="4038480"/>
              <a:chOff x="5562720" y="2057400"/>
              <a:chExt cx="1676160" cy="4038480"/>
            </a:xfrm>
          </p:grpSpPr>
          <p:sp>
            <p:nvSpPr>
              <p:cNvPr id="1983" name=""/>
              <p:cNvSpPr/>
              <p:nvPr/>
            </p:nvSpPr>
            <p:spPr>
              <a:xfrm>
                <a:off x="5562720" y="2057400"/>
                <a:ext cx="1676160" cy="4038480"/>
              </a:xfrm>
              <a:prstGeom prst="rect">
                <a:avLst/>
              </a:prstGeom>
              <a:solidFill>
                <a:srgbClr val="fcf3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638680" y="2198880"/>
                <a:ext cx="144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x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P(</a:t>
                </a:r>
                <a:r>
                  <a:rPr b="1" i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x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5" name=""/>
            <p:cNvSpPr/>
            <p:nvPr/>
          </p:nvSpPr>
          <p:spPr>
            <a:xfrm>
              <a:off x="5562720" y="283644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6" name=""/>
          <p:cNvSpPr/>
          <p:nvPr/>
        </p:nvSpPr>
        <p:spPr>
          <a:xfrm>
            <a:off x="6019920" y="2895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019920" y="35053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019920" y="4876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6019920" y="4191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638680" y="5400720"/>
            <a:ext cx="1524240" cy="52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3b2"/>
                </a:solidFill>
                <a:latin typeface="Times New Roman"/>
              </a:rPr>
              <a:t>11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1" name=""/>
          <p:cNvGrpSpPr/>
          <p:nvPr/>
        </p:nvGrpSpPr>
        <p:grpSpPr>
          <a:xfrm>
            <a:off x="2514600" y="-76320"/>
            <a:ext cx="4114800" cy="1023480"/>
            <a:chOff x="2514600" y="-76320"/>
            <a:chExt cx="4114800" cy="1023480"/>
          </a:xfrm>
        </p:grpSpPr>
        <p:sp>
          <p:nvSpPr>
            <p:cNvPr id="1992" name=""/>
            <p:cNvSpPr/>
            <p:nvPr/>
          </p:nvSpPr>
          <p:spPr>
            <a:xfrm>
              <a:off x="2514600" y="209520"/>
              <a:ext cx="4114800" cy="7034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17181" dir="836163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omputing t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985000" y="-76320"/>
              <a:ext cx="62712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1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6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334120" y="5943600"/>
            <a:ext cx="3352680" cy="762120"/>
            <a:chOff x="5334120" y="5943600"/>
            <a:chExt cx="3352680" cy="762120"/>
          </a:xfrm>
        </p:grpSpPr>
        <p:sp>
          <p:nvSpPr>
            <p:cNvPr id="1995" name=""/>
            <p:cNvSpPr/>
            <p:nvPr/>
          </p:nvSpPr>
          <p:spPr>
            <a:xfrm>
              <a:off x="5334120" y="6477120"/>
              <a:ext cx="335268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638680" y="6122880"/>
              <a:ext cx="2743200" cy="520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17181" dir="836163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uting th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7695720" y="5943600"/>
              <a:ext cx="665280" cy="762120"/>
              <a:chOff x="7695720" y="5943600"/>
              <a:chExt cx="665280" cy="762120"/>
            </a:xfrm>
          </p:grpSpPr>
          <p:sp>
            <p:nvSpPr>
              <p:cNvPr id="1998" name=""/>
              <p:cNvSpPr/>
              <p:nvPr/>
            </p:nvSpPr>
            <p:spPr>
              <a:xfrm>
                <a:off x="7990200" y="5965920"/>
                <a:ext cx="3708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695720" y="5943600"/>
                <a:ext cx="3834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5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0" name=""/>
          <p:cNvSpPr/>
          <p:nvPr/>
        </p:nvSpPr>
        <p:spPr>
          <a:xfrm>
            <a:off x="1250640" y="1295280"/>
            <a:ext cx="179784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rmu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3657600" y="2057400"/>
            <a:ext cx="1904760" cy="4038480"/>
            <a:chOff x="3657600" y="2057400"/>
            <a:chExt cx="1904760" cy="4038480"/>
          </a:xfrm>
        </p:grpSpPr>
        <p:grpSp>
          <p:nvGrpSpPr>
            <p:cNvPr id="2002" name=""/>
            <p:cNvGrpSpPr/>
            <p:nvPr/>
          </p:nvGrpSpPr>
          <p:grpSpPr>
            <a:xfrm>
              <a:off x="3657600" y="2057400"/>
              <a:ext cx="1904400" cy="4038480"/>
              <a:chOff x="3657600" y="2057400"/>
              <a:chExt cx="1904400" cy="4038480"/>
            </a:xfrm>
          </p:grpSpPr>
          <p:sp>
            <p:nvSpPr>
              <p:cNvPr id="2003" name=""/>
              <p:cNvSpPr/>
              <p:nvPr/>
            </p:nvSpPr>
            <p:spPr>
              <a:xfrm>
                <a:off x="3657600" y="2057400"/>
                <a:ext cx="1904400" cy="4038480"/>
              </a:xfrm>
              <a:prstGeom prst="rect">
                <a:avLst/>
              </a:prstGeom>
              <a:solidFill>
                <a:srgbClr val="fcf3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744000" y="2198880"/>
                <a:ext cx="164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P(</a:t>
                </a:r>
                <a:r>
                  <a:rPr b="1" i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x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5" name=""/>
            <p:cNvSpPr/>
            <p:nvPr/>
          </p:nvSpPr>
          <p:spPr>
            <a:xfrm>
              <a:off x="3657600" y="283644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6" name=""/>
          <p:cNvSpPr/>
          <p:nvPr/>
        </p:nvSpPr>
        <p:spPr>
          <a:xfrm>
            <a:off x="3670200" y="3505320"/>
            <a:ext cx="18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/20 = 0.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670200" y="4189320"/>
            <a:ext cx="18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/20 = 0.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670200" y="4890960"/>
            <a:ext cx="18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/20 = 0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733920" y="5410080"/>
            <a:ext cx="1790640" cy="5461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85328" dir="69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657600" y="548784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/20 = 1.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905120" y="2057400"/>
            <a:ext cx="1752480" cy="4038480"/>
          </a:xfrm>
          <a:prstGeom prst="rect">
            <a:avLst/>
          </a:prstGeom>
          <a:solidFill>
            <a:srgbClr val="fcf3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90512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# of Painted H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905120" y="2836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00240" y="3567240"/>
            <a:ext cx="13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100240" y="4240080"/>
            <a:ext cx="13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100240" y="4952880"/>
            <a:ext cx="13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657600" y="533412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5562720" y="533412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133720" y="2971800"/>
            <a:ext cx="1371600" cy="380880"/>
          </a:xfrm>
          <a:prstGeom prst="rect">
            <a:avLst/>
          </a:prstGeom>
          <a:solidFill>
            <a:srgbClr val="e5b0e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800600" y="2971800"/>
            <a:ext cx="762120" cy="380880"/>
          </a:xfrm>
          <a:prstGeom prst="rect">
            <a:avLst/>
          </a:prstGeom>
          <a:solidFill>
            <a:srgbClr val="e5b0e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670200" y="2895480"/>
            <a:ext cx="18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/20 = 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100240" y="2971800"/>
            <a:ext cx="13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3" name=""/>
          <p:cNvGrpSpPr/>
          <p:nvPr/>
        </p:nvGrpSpPr>
        <p:grpSpPr>
          <a:xfrm>
            <a:off x="4092840" y="1066680"/>
            <a:ext cx="4214160" cy="852480"/>
            <a:chOff x="4092840" y="1066680"/>
            <a:chExt cx="4214160" cy="852480"/>
          </a:xfrm>
        </p:grpSpPr>
        <p:sp>
          <p:nvSpPr>
            <p:cNvPr id="2024" name=""/>
            <p:cNvSpPr/>
            <p:nvPr/>
          </p:nvSpPr>
          <p:spPr>
            <a:xfrm>
              <a:off x="7882560" y="1138320"/>
              <a:ext cx="424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)]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335360" y="1138320"/>
              <a:ext cx="212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413040" y="1138320"/>
              <a:ext cx="212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693320" y="1138320"/>
              <a:ext cx="424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[(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599160" y="10882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588440" y="1138320"/>
              <a:ext cx="282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931800" y="1138320"/>
              <a:ext cx="389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151600" y="1138320"/>
              <a:ext cx="282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065280" y="1066680"/>
              <a:ext cx="366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672520" y="1066680"/>
              <a:ext cx="212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092840" y="1157040"/>
              <a:ext cx="1014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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2957040" y="1143000"/>
            <a:ext cx="1235520" cy="762120"/>
            <a:chOff x="2957040" y="1143000"/>
            <a:chExt cx="1235520" cy="762120"/>
          </a:xfrm>
        </p:grpSpPr>
        <p:grpSp>
          <p:nvGrpSpPr>
            <p:cNvPr id="2036" name=""/>
            <p:cNvGrpSpPr/>
            <p:nvPr/>
          </p:nvGrpSpPr>
          <p:grpSpPr>
            <a:xfrm>
              <a:off x="2957040" y="1143000"/>
              <a:ext cx="665280" cy="762120"/>
              <a:chOff x="2957040" y="1143000"/>
              <a:chExt cx="665280" cy="762120"/>
            </a:xfrm>
          </p:grpSpPr>
          <p:sp>
            <p:nvSpPr>
              <p:cNvPr id="2037" name=""/>
              <p:cNvSpPr/>
              <p:nvPr/>
            </p:nvSpPr>
            <p:spPr>
              <a:xfrm>
                <a:off x="3251520" y="1165320"/>
                <a:ext cx="3708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57040" y="1143000"/>
                <a:ext cx="3834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5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9" name=""/>
            <p:cNvSpPr/>
            <p:nvPr/>
          </p:nvSpPr>
          <p:spPr>
            <a:xfrm>
              <a:off x="3687480" y="1143000"/>
              <a:ext cx="505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0" name=""/>
          <p:cNvGrpSpPr/>
          <p:nvPr/>
        </p:nvGrpSpPr>
        <p:grpSpPr>
          <a:xfrm>
            <a:off x="4533840" y="2057400"/>
            <a:ext cx="1714320" cy="4038480"/>
            <a:chOff x="4533840" y="2057400"/>
            <a:chExt cx="1714320" cy="4038480"/>
          </a:xfrm>
        </p:grpSpPr>
        <p:sp>
          <p:nvSpPr>
            <p:cNvPr id="2041" name=""/>
            <p:cNvSpPr/>
            <p:nvPr/>
          </p:nvSpPr>
          <p:spPr>
            <a:xfrm>
              <a:off x="4533840" y="2057400"/>
              <a:ext cx="1633680" cy="4038480"/>
            </a:xfrm>
            <a:prstGeom prst="rect">
              <a:avLst/>
            </a:prstGeom>
            <a:solidFill>
              <a:srgbClr val="fcf3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533840" y="2819520"/>
              <a:ext cx="16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3" name=""/>
            <p:cNvGrpSpPr/>
            <p:nvPr/>
          </p:nvGrpSpPr>
          <p:grpSpPr>
            <a:xfrm>
              <a:off x="4572000" y="2117880"/>
              <a:ext cx="1676160" cy="723240"/>
              <a:chOff x="4572000" y="2117880"/>
              <a:chExt cx="1676160" cy="723240"/>
            </a:xfrm>
          </p:grpSpPr>
          <p:sp>
            <p:nvSpPr>
              <p:cNvPr id="2044" name=""/>
              <p:cNvSpPr/>
              <p:nvPr/>
            </p:nvSpPr>
            <p:spPr>
              <a:xfrm>
                <a:off x="4572000" y="2198520"/>
                <a:ext cx="1676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x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-    )</a:t>
                </a:r>
                <a:r>
                  <a:rPr b="1" lang="en-US" sz="36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183280" y="2117880"/>
                <a:ext cx="727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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6" name=""/>
          <p:cNvSpPr/>
          <p:nvPr/>
        </p:nvSpPr>
        <p:spPr>
          <a:xfrm>
            <a:off x="4952880" y="351936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876920" y="2895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952880" y="489096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876920" y="42051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6248520" y="2057400"/>
            <a:ext cx="2547360" cy="4038480"/>
            <a:chOff x="6248520" y="2057400"/>
            <a:chExt cx="2547360" cy="4038480"/>
          </a:xfrm>
        </p:grpSpPr>
        <p:sp>
          <p:nvSpPr>
            <p:cNvPr id="2051" name=""/>
            <p:cNvSpPr/>
            <p:nvPr/>
          </p:nvSpPr>
          <p:spPr>
            <a:xfrm>
              <a:off x="6336000" y="2057400"/>
              <a:ext cx="2389320" cy="4038480"/>
            </a:xfrm>
            <a:prstGeom prst="rect">
              <a:avLst/>
            </a:prstGeom>
            <a:solidFill>
              <a:srgbClr val="fcf3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248520" y="2198520"/>
              <a:ext cx="204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-     )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330600" y="2819520"/>
              <a:ext cx="2394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981840" y="2057400"/>
              <a:ext cx="72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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574400" y="220356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6" name=""/>
          <p:cNvSpPr/>
          <p:nvPr/>
        </p:nvSpPr>
        <p:spPr>
          <a:xfrm>
            <a:off x="6591240" y="28954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42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438960" y="3505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0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896160" y="5424480"/>
            <a:ext cx="99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0.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151160" y="1127160"/>
            <a:ext cx="55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438960" y="42051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17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6591240" y="489096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28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2" name=""/>
          <p:cNvGrpSpPr/>
          <p:nvPr/>
        </p:nvGrpSpPr>
        <p:grpSpPr>
          <a:xfrm>
            <a:off x="6937920" y="1143000"/>
            <a:ext cx="1125360" cy="762120"/>
            <a:chOff x="6937920" y="1143000"/>
            <a:chExt cx="1125360" cy="762120"/>
          </a:xfrm>
        </p:grpSpPr>
        <p:sp>
          <p:nvSpPr>
            <p:cNvPr id="2063" name=""/>
            <p:cNvSpPr/>
            <p:nvPr/>
          </p:nvSpPr>
          <p:spPr>
            <a:xfrm>
              <a:off x="7341840" y="1143000"/>
              <a:ext cx="212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410600" y="1143000"/>
              <a:ext cx="652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i="1" lang="en-US" sz="5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0" lang="en-US" sz="5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937920" y="1143000"/>
              <a:ext cx="389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0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2514600" y="228600"/>
            <a:ext cx="4114800" cy="762120"/>
            <a:chOff x="2514600" y="228600"/>
            <a:chExt cx="4114800" cy="762120"/>
          </a:xfrm>
        </p:grpSpPr>
        <p:sp>
          <p:nvSpPr>
            <p:cNvPr id="2067" name=""/>
            <p:cNvSpPr/>
            <p:nvPr/>
          </p:nvSpPr>
          <p:spPr>
            <a:xfrm>
              <a:off x="2514600" y="285840"/>
              <a:ext cx="4114800" cy="7034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dist="117181" dir="836163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omputing t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8" name=""/>
            <p:cNvGrpSpPr/>
            <p:nvPr/>
          </p:nvGrpSpPr>
          <p:grpSpPr>
            <a:xfrm>
              <a:off x="5943240" y="228600"/>
              <a:ext cx="665280" cy="762120"/>
              <a:chOff x="5943240" y="228600"/>
              <a:chExt cx="665280" cy="762120"/>
            </a:xfrm>
          </p:grpSpPr>
          <p:sp>
            <p:nvSpPr>
              <p:cNvPr id="2069" name=""/>
              <p:cNvSpPr/>
              <p:nvPr/>
            </p:nvSpPr>
            <p:spPr>
              <a:xfrm>
                <a:off x="6237720" y="250920"/>
                <a:ext cx="3708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943240" y="228600"/>
                <a:ext cx="3834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5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1" name=""/>
          <p:cNvGrpSpPr/>
          <p:nvPr/>
        </p:nvGrpSpPr>
        <p:grpSpPr>
          <a:xfrm>
            <a:off x="1676520" y="2057400"/>
            <a:ext cx="1523880" cy="4038480"/>
            <a:chOff x="1676520" y="2057400"/>
            <a:chExt cx="1523880" cy="4038480"/>
          </a:xfrm>
        </p:grpSpPr>
        <p:sp>
          <p:nvSpPr>
            <p:cNvPr id="2072" name=""/>
            <p:cNvSpPr/>
            <p:nvPr/>
          </p:nvSpPr>
          <p:spPr>
            <a:xfrm>
              <a:off x="1752480" y="2057400"/>
              <a:ext cx="1295640" cy="4038480"/>
            </a:xfrm>
            <a:prstGeom prst="rect">
              <a:avLst/>
            </a:prstGeom>
            <a:solidFill>
              <a:srgbClr val="fcf3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822320" y="2198520"/>
              <a:ext cx="122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676520" y="2836800"/>
              <a:ext cx="14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685880" y="2897280"/>
              <a:ext cx="14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685880" y="3505320"/>
              <a:ext cx="14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685880" y="4189320"/>
              <a:ext cx="14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685880" y="4890960"/>
              <a:ext cx="140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9" name=""/>
            <p:cNvGrpSpPr/>
            <p:nvPr/>
          </p:nvGrpSpPr>
          <p:grpSpPr>
            <a:xfrm>
              <a:off x="1676520" y="5410080"/>
              <a:ext cx="1523880" cy="588600"/>
              <a:chOff x="1676520" y="5410080"/>
              <a:chExt cx="1523880" cy="588600"/>
            </a:xfrm>
          </p:grpSpPr>
          <p:sp>
            <p:nvSpPr>
              <p:cNvPr id="2080" name=""/>
              <p:cNvSpPr/>
              <p:nvPr/>
            </p:nvSpPr>
            <p:spPr>
              <a:xfrm>
                <a:off x="1763640" y="5410080"/>
                <a:ext cx="1276560" cy="47664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efefe"/>
                  </a:gs>
                  <a:gs pos="100000">
                    <a:srgbClr val="00ff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85328" dir="6993903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676520" y="5478120"/>
                <a:ext cx="1523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.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2" name=""/>
          <p:cNvGrpSpPr/>
          <p:nvPr/>
        </p:nvGrpSpPr>
        <p:grpSpPr>
          <a:xfrm>
            <a:off x="609480" y="2057400"/>
            <a:ext cx="1362240" cy="4038480"/>
            <a:chOff x="609480" y="2057400"/>
            <a:chExt cx="1362240" cy="4038480"/>
          </a:xfrm>
        </p:grpSpPr>
        <p:grpSp>
          <p:nvGrpSpPr>
            <p:cNvPr id="2083" name=""/>
            <p:cNvGrpSpPr/>
            <p:nvPr/>
          </p:nvGrpSpPr>
          <p:grpSpPr>
            <a:xfrm>
              <a:off x="838080" y="2057400"/>
              <a:ext cx="914040" cy="4038480"/>
              <a:chOff x="838080" y="2057400"/>
              <a:chExt cx="914040" cy="4038480"/>
            </a:xfrm>
          </p:grpSpPr>
          <p:grpSp>
            <p:nvGrpSpPr>
              <p:cNvPr id="2084" name=""/>
              <p:cNvGrpSpPr/>
              <p:nvPr/>
            </p:nvGrpSpPr>
            <p:grpSpPr>
              <a:xfrm>
                <a:off x="838080" y="2057400"/>
                <a:ext cx="913680" cy="4038480"/>
                <a:chOff x="838080" y="2057400"/>
                <a:chExt cx="913680" cy="4038480"/>
              </a:xfrm>
            </p:grpSpPr>
            <p:sp>
              <p:nvSpPr>
                <p:cNvPr id="2085" name=""/>
                <p:cNvSpPr/>
                <p:nvPr/>
              </p:nvSpPr>
              <p:spPr>
                <a:xfrm>
                  <a:off x="838080" y="2057400"/>
                  <a:ext cx="913680" cy="4038480"/>
                </a:xfrm>
                <a:prstGeom prst="rect">
                  <a:avLst/>
                </a:prstGeom>
                <a:solidFill>
                  <a:srgbClr val="fcf3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838080" y="2131920"/>
                  <a:ext cx="913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ff3300"/>
                      </a:solidFill>
                      <a:latin typeface="Times New Roman"/>
                    </a:rPr>
                    <a:t>x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7" name=""/>
              <p:cNvSpPr/>
              <p:nvPr/>
            </p:nvSpPr>
            <p:spPr>
              <a:xfrm>
                <a:off x="838080" y="2836440"/>
                <a:ext cx="91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8" name=""/>
            <p:cNvSpPr/>
            <p:nvPr/>
          </p:nvSpPr>
          <p:spPr>
            <a:xfrm>
              <a:off x="609480" y="2958840"/>
              <a:ext cx="136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09480" y="3566880"/>
              <a:ext cx="136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09480" y="4240080"/>
              <a:ext cx="136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09480" y="4952880"/>
              <a:ext cx="136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2" name=""/>
          <p:cNvGrpSpPr/>
          <p:nvPr/>
        </p:nvGrpSpPr>
        <p:grpSpPr>
          <a:xfrm>
            <a:off x="3048120" y="2057400"/>
            <a:ext cx="1295280" cy="4038480"/>
            <a:chOff x="3048120" y="2057400"/>
            <a:chExt cx="1295280" cy="4038480"/>
          </a:xfrm>
        </p:grpSpPr>
        <p:sp>
          <p:nvSpPr>
            <p:cNvPr id="2093" name=""/>
            <p:cNvSpPr/>
            <p:nvPr/>
          </p:nvSpPr>
          <p:spPr>
            <a:xfrm>
              <a:off x="3048120" y="2057400"/>
              <a:ext cx="1295280" cy="4038480"/>
            </a:xfrm>
            <a:prstGeom prst="rect">
              <a:avLst/>
            </a:prstGeom>
            <a:solidFill>
              <a:srgbClr val="fcf3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106800" y="2198520"/>
              <a:ext cx="1236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048120" y="28368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276720" y="28954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276720" y="3505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276720" y="48769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276720" y="41911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048120" y="5410080"/>
              <a:ext cx="1295280" cy="520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f3b2"/>
                  </a:solidFill>
                  <a:latin typeface="Times New Roman"/>
                </a:rPr>
                <a:t>1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1" name=""/>
          <p:cNvGrpSpPr/>
          <p:nvPr/>
        </p:nvGrpSpPr>
        <p:grpSpPr>
          <a:xfrm>
            <a:off x="4911840" y="1066680"/>
            <a:ext cx="1888200" cy="833760"/>
            <a:chOff x="4911840" y="1066680"/>
            <a:chExt cx="1888200" cy="833760"/>
          </a:xfrm>
        </p:grpSpPr>
        <p:sp>
          <p:nvSpPr>
            <p:cNvPr id="2102" name=""/>
            <p:cNvSpPr/>
            <p:nvPr/>
          </p:nvSpPr>
          <p:spPr>
            <a:xfrm>
              <a:off x="6413040" y="1138320"/>
              <a:ext cx="212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615000" y="10890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911840" y="1138320"/>
              <a:ext cx="494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5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035760" y="1066680"/>
              <a:ext cx="366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590440" y="1066680"/>
              <a:ext cx="212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1066320" y="1219320"/>
            <a:ext cx="17978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rmu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752480" y="533412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324480" y="53341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419720" y="2849400"/>
            <a:ext cx="1981080" cy="5814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0-11.3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838080" y="2971800"/>
            <a:ext cx="914400" cy="380880"/>
          </a:xfrm>
          <a:prstGeom prst="rect">
            <a:avLst/>
          </a:prstGeom>
          <a:solidFill>
            <a:srgbClr val="e5b0e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952880" y="2971800"/>
            <a:ext cx="914400" cy="380880"/>
          </a:xfrm>
          <a:prstGeom prst="rect">
            <a:avLst/>
          </a:prstGeom>
          <a:solidFill>
            <a:srgbClr val="e5b0e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"/>
          <p:cNvSpPr/>
          <p:nvPr/>
        </p:nvSpPr>
        <p:spPr>
          <a:xfrm>
            <a:off x="2209680" y="1905120"/>
            <a:ext cx="4762800" cy="283716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6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nomial</a:t>
            </a:r>
            <a:r>
              <a:rPr b="1" i="1" lang="en-US" sz="6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obability </a:t>
            </a:r>
            <a:r>
              <a:rPr b="1" i="1" lang="en-US" sz="6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4" name=""/>
          <p:cNvGrpSpPr/>
          <p:nvPr/>
        </p:nvGrpSpPr>
        <p:grpSpPr>
          <a:xfrm>
            <a:off x="2448000" y="76320"/>
            <a:ext cx="4245840" cy="1434600"/>
            <a:chOff x="2448000" y="76320"/>
            <a:chExt cx="4245840" cy="1434600"/>
          </a:xfrm>
        </p:grpSpPr>
        <p:sp>
          <p:nvSpPr>
            <p:cNvPr id="2115" name=""/>
            <p:cNvSpPr/>
            <p:nvPr/>
          </p:nvSpPr>
          <p:spPr>
            <a:xfrm>
              <a:off x="2448000" y="189000"/>
              <a:ext cx="838080" cy="121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453040" y="76320"/>
              <a:ext cx="4240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7" name=""/>
          <p:cNvSpPr/>
          <p:nvPr/>
        </p:nvSpPr>
        <p:spPr>
          <a:xfrm>
            <a:off x="2904840" y="1295280"/>
            <a:ext cx="31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B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rnoulli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T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219320" y="1981080"/>
            <a:ext cx="6705360" cy="1495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009" dir="7893982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random experiment in which the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number of</a:t>
            </a:r>
            <a:r>
              <a:rPr b="1" i="1" lang="en-U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possible outcom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is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recisely two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9" name=""/>
          <p:cNvGrpSpPr/>
          <p:nvPr/>
        </p:nvGrpSpPr>
        <p:grpSpPr>
          <a:xfrm>
            <a:off x="3201480" y="4311720"/>
            <a:ext cx="994680" cy="914400"/>
            <a:chOff x="3201480" y="4311720"/>
            <a:chExt cx="994680" cy="914400"/>
          </a:xfrm>
        </p:grpSpPr>
        <p:sp>
          <p:nvSpPr>
            <p:cNvPr id="2120" name=""/>
            <p:cNvSpPr/>
            <p:nvPr/>
          </p:nvSpPr>
          <p:spPr>
            <a:xfrm>
              <a:off x="3267720" y="4311720"/>
              <a:ext cx="856800" cy="914400"/>
            </a:xfrm>
            <a:custGeom>
              <a:avLst/>
              <a:gdLst/>
              <a:ahLst/>
              <a:rect l="l" t="t" r="r" b="b"/>
              <a:pathLst>
                <a:path w="802" h="828">
                  <a:moveTo>
                    <a:pt x="400" y="0"/>
                  </a:moveTo>
                  <a:lnTo>
                    <a:pt x="400" y="0"/>
                  </a:lnTo>
                  <a:lnTo>
                    <a:pt x="421" y="1"/>
                  </a:lnTo>
                  <a:lnTo>
                    <a:pt x="461" y="5"/>
                  </a:lnTo>
                  <a:lnTo>
                    <a:pt x="501" y="13"/>
                  </a:lnTo>
                  <a:lnTo>
                    <a:pt x="537" y="25"/>
                  </a:lnTo>
                  <a:lnTo>
                    <a:pt x="574" y="42"/>
                  </a:lnTo>
                  <a:lnTo>
                    <a:pt x="608" y="61"/>
                  </a:lnTo>
                  <a:lnTo>
                    <a:pt x="641" y="82"/>
                  </a:lnTo>
                  <a:lnTo>
                    <a:pt x="669" y="108"/>
                  </a:lnTo>
                  <a:lnTo>
                    <a:pt x="698" y="137"/>
                  </a:lnTo>
                  <a:lnTo>
                    <a:pt x="722" y="166"/>
                  </a:lnTo>
                  <a:lnTo>
                    <a:pt x="744" y="199"/>
                  </a:lnTo>
                  <a:lnTo>
                    <a:pt x="762" y="234"/>
                  </a:lnTo>
                  <a:lnTo>
                    <a:pt x="778" y="272"/>
                  </a:lnTo>
                  <a:lnTo>
                    <a:pt x="789" y="310"/>
                  </a:lnTo>
                  <a:lnTo>
                    <a:pt x="797" y="351"/>
                  </a:lnTo>
                  <a:lnTo>
                    <a:pt x="802" y="413"/>
                  </a:lnTo>
                  <a:lnTo>
                    <a:pt x="802" y="413"/>
                  </a:lnTo>
                  <a:lnTo>
                    <a:pt x="801" y="435"/>
                  </a:lnTo>
                  <a:lnTo>
                    <a:pt x="797" y="477"/>
                  </a:lnTo>
                  <a:lnTo>
                    <a:pt x="789" y="516"/>
                  </a:lnTo>
                  <a:lnTo>
                    <a:pt x="778" y="556"/>
                  </a:lnTo>
                  <a:lnTo>
                    <a:pt x="762" y="592"/>
                  </a:lnTo>
                  <a:lnTo>
                    <a:pt x="744" y="628"/>
                  </a:lnTo>
                  <a:lnTo>
                    <a:pt x="722" y="662"/>
                  </a:lnTo>
                  <a:lnTo>
                    <a:pt x="698" y="691"/>
                  </a:lnTo>
                  <a:lnTo>
                    <a:pt x="669" y="720"/>
                  </a:lnTo>
                  <a:lnTo>
                    <a:pt x="641" y="746"/>
                  </a:lnTo>
                  <a:lnTo>
                    <a:pt x="608" y="767"/>
                  </a:lnTo>
                  <a:lnTo>
                    <a:pt x="574" y="786"/>
                  </a:lnTo>
                  <a:lnTo>
                    <a:pt x="537" y="803"/>
                  </a:lnTo>
                  <a:lnTo>
                    <a:pt x="501" y="815"/>
                  </a:lnTo>
                  <a:lnTo>
                    <a:pt x="461" y="823"/>
                  </a:lnTo>
                  <a:lnTo>
                    <a:pt x="400" y="828"/>
                  </a:lnTo>
                  <a:lnTo>
                    <a:pt x="400" y="828"/>
                  </a:lnTo>
                  <a:lnTo>
                    <a:pt x="380" y="827"/>
                  </a:lnTo>
                  <a:lnTo>
                    <a:pt x="341" y="823"/>
                  </a:lnTo>
                  <a:lnTo>
                    <a:pt x="301" y="815"/>
                  </a:lnTo>
                  <a:lnTo>
                    <a:pt x="263" y="803"/>
                  </a:lnTo>
                  <a:lnTo>
                    <a:pt x="226" y="786"/>
                  </a:lnTo>
                  <a:lnTo>
                    <a:pt x="193" y="767"/>
                  </a:lnTo>
                  <a:lnTo>
                    <a:pt x="161" y="746"/>
                  </a:lnTo>
                  <a:lnTo>
                    <a:pt x="131" y="720"/>
                  </a:lnTo>
                  <a:lnTo>
                    <a:pt x="104" y="691"/>
                  </a:lnTo>
                  <a:lnTo>
                    <a:pt x="80" y="662"/>
                  </a:lnTo>
                  <a:lnTo>
                    <a:pt x="58" y="628"/>
                  </a:lnTo>
                  <a:lnTo>
                    <a:pt x="39" y="592"/>
                  </a:lnTo>
                  <a:lnTo>
                    <a:pt x="24" y="556"/>
                  </a:lnTo>
                  <a:lnTo>
                    <a:pt x="12" y="516"/>
                  </a:lnTo>
                  <a:lnTo>
                    <a:pt x="4" y="477"/>
                  </a:lnTo>
                  <a:lnTo>
                    <a:pt x="0" y="413"/>
                  </a:lnTo>
                  <a:lnTo>
                    <a:pt x="0" y="413"/>
                  </a:lnTo>
                  <a:lnTo>
                    <a:pt x="0" y="393"/>
                  </a:lnTo>
                  <a:lnTo>
                    <a:pt x="4" y="351"/>
                  </a:lnTo>
                  <a:lnTo>
                    <a:pt x="12" y="310"/>
                  </a:lnTo>
                  <a:lnTo>
                    <a:pt x="24" y="272"/>
                  </a:lnTo>
                  <a:lnTo>
                    <a:pt x="39" y="234"/>
                  </a:lnTo>
                  <a:lnTo>
                    <a:pt x="58" y="199"/>
                  </a:lnTo>
                  <a:lnTo>
                    <a:pt x="80" y="166"/>
                  </a:lnTo>
                  <a:lnTo>
                    <a:pt x="104" y="137"/>
                  </a:lnTo>
                  <a:lnTo>
                    <a:pt x="131" y="108"/>
                  </a:lnTo>
                  <a:lnTo>
                    <a:pt x="161" y="82"/>
                  </a:lnTo>
                  <a:lnTo>
                    <a:pt x="193" y="61"/>
                  </a:lnTo>
                  <a:lnTo>
                    <a:pt x="226" y="42"/>
                  </a:lnTo>
                  <a:lnTo>
                    <a:pt x="263" y="25"/>
                  </a:lnTo>
                  <a:lnTo>
                    <a:pt x="301" y="13"/>
                  </a:lnTo>
                  <a:lnTo>
                    <a:pt x="341" y="5"/>
                  </a:lnTo>
                  <a:lnTo>
                    <a:pt x="4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0800000"/>
            </a:gradFill>
            <a:ln w="0">
              <a:solidFill>
                <a:srgbClr val="808080"/>
              </a:solidFill>
            </a:ln>
            <a:effectLst>
              <a:outerShdw dist="38160" dir="108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201480" y="461664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Hea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4782960" y="4311720"/>
            <a:ext cx="855720" cy="914400"/>
            <a:chOff x="4782960" y="4311720"/>
            <a:chExt cx="855720" cy="914400"/>
          </a:xfrm>
        </p:grpSpPr>
        <p:sp>
          <p:nvSpPr>
            <p:cNvPr id="2123" name=""/>
            <p:cNvSpPr/>
            <p:nvPr/>
          </p:nvSpPr>
          <p:spPr>
            <a:xfrm>
              <a:off x="4782960" y="4311720"/>
              <a:ext cx="855720" cy="914400"/>
            </a:xfrm>
            <a:custGeom>
              <a:avLst/>
              <a:gdLst/>
              <a:ahLst/>
              <a:rect l="l" t="t" r="r" b="b"/>
              <a:pathLst>
                <a:path w="802" h="828">
                  <a:moveTo>
                    <a:pt x="400" y="0"/>
                  </a:moveTo>
                  <a:lnTo>
                    <a:pt x="400" y="0"/>
                  </a:lnTo>
                  <a:lnTo>
                    <a:pt x="421" y="1"/>
                  </a:lnTo>
                  <a:lnTo>
                    <a:pt x="461" y="5"/>
                  </a:lnTo>
                  <a:lnTo>
                    <a:pt x="501" y="13"/>
                  </a:lnTo>
                  <a:lnTo>
                    <a:pt x="537" y="25"/>
                  </a:lnTo>
                  <a:lnTo>
                    <a:pt x="574" y="42"/>
                  </a:lnTo>
                  <a:lnTo>
                    <a:pt x="608" y="61"/>
                  </a:lnTo>
                  <a:lnTo>
                    <a:pt x="641" y="82"/>
                  </a:lnTo>
                  <a:lnTo>
                    <a:pt x="669" y="108"/>
                  </a:lnTo>
                  <a:lnTo>
                    <a:pt x="698" y="137"/>
                  </a:lnTo>
                  <a:lnTo>
                    <a:pt x="722" y="166"/>
                  </a:lnTo>
                  <a:lnTo>
                    <a:pt x="744" y="199"/>
                  </a:lnTo>
                  <a:lnTo>
                    <a:pt x="762" y="234"/>
                  </a:lnTo>
                  <a:lnTo>
                    <a:pt x="778" y="272"/>
                  </a:lnTo>
                  <a:lnTo>
                    <a:pt x="789" y="310"/>
                  </a:lnTo>
                  <a:lnTo>
                    <a:pt x="797" y="351"/>
                  </a:lnTo>
                  <a:lnTo>
                    <a:pt x="802" y="413"/>
                  </a:lnTo>
                  <a:lnTo>
                    <a:pt x="802" y="413"/>
                  </a:lnTo>
                  <a:lnTo>
                    <a:pt x="801" y="435"/>
                  </a:lnTo>
                  <a:lnTo>
                    <a:pt x="797" y="477"/>
                  </a:lnTo>
                  <a:lnTo>
                    <a:pt x="789" y="516"/>
                  </a:lnTo>
                  <a:lnTo>
                    <a:pt x="778" y="556"/>
                  </a:lnTo>
                  <a:lnTo>
                    <a:pt x="762" y="592"/>
                  </a:lnTo>
                  <a:lnTo>
                    <a:pt x="744" y="628"/>
                  </a:lnTo>
                  <a:lnTo>
                    <a:pt x="722" y="662"/>
                  </a:lnTo>
                  <a:lnTo>
                    <a:pt x="698" y="691"/>
                  </a:lnTo>
                  <a:lnTo>
                    <a:pt x="669" y="720"/>
                  </a:lnTo>
                  <a:lnTo>
                    <a:pt x="641" y="746"/>
                  </a:lnTo>
                  <a:lnTo>
                    <a:pt x="608" y="767"/>
                  </a:lnTo>
                  <a:lnTo>
                    <a:pt x="574" y="786"/>
                  </a:lnTo>
                  <a:lnTo>
                    <a:pt x="537" y="803"/>
                  </a:lnTo>
                  <a:lnTo>
                    <a:pt x="501" y="815"/>
                  </a:lnTo>
                  <a:lnTo>
                    <a:pt x="461" y="823"/>
                  </a:lnTo>
                  <a:lnTo>
                    <a:pt x="400" y="828"/>
                  </a:lnTo>
                  <a:lnTo>
                    <a:pt x="400" y="828"/>
                  </a:lnTo>
                  <a:lnTo>
                    <a:pt x="380" y="827"/>
                  </a:lnTo>
                  <a:lnTo>
                    <a:pt x="341" y="823"/>
                  </a:lnTo>
                  <a:lnTo>
                    <a:pt x="301" y="815"/>
                  </a:lnTo>
                  <a:lnTo>
                    <a:pt x="263" y="803"/>
                  </a:lnTo>
                  <a:lnTo>
                    <a:pt x="226" y="786"/>
                  </a:lnTo>
                  <a:lnTo>
                    <a:pt x="193" y="767"/>
                  </a:lnTo>
                  <a:lnTo>
                    <a:pt x="161" y="746"/>
                  </a:lnTo>
                  <a:lnTo>
                    <a:pt x="131" y="720"/>
                  </a:lnTo>
                  <a:lnTo>
                    <a:pt x="104" y="691"/>
                  </a:lnTo>
                  <a:lnTo>
                    <a:pt x="80" y="662"/>
                  </a:lnTo>
                  <a:lnTo>
                    <a:pt x="58" y="628"/>
                  </a:lnTo>
                  <a:lnTo>
                    <a:pt x="39" y="592"/>
                  </a:lnTo>
                  <a:lnTo>
                    <a:pt x="24" y="556"/>
                  </a:lnTo>
                  <a:lnTo>
                    <a:pt x="12" y="516"/>
                  </a:lnTo>
                  <a:lnTo>
                    <a:pt x="4" y="477"/>
                  </a:lnTo>
                  <a:lnTo>
                    <a:pt x="0" y="413"/>
                  </a:lnTo>
                  <a:lnTo>
                    <a:pt x="0" y="413"/>
                  </a:lnTo>
                  <a:lnTo>
                    <a:pt x="0" y="393"/>
                  </a:lnTo>
                  <a:lnTo>
                    <a:pt x="4" y="351"/>
                  </a:lnTo>
                  <a:lnTo>
                    <a:pt x="12" y="310"/>
                  </a:lnTo>
                  <a:lnTo>
                    <a:pt x="24" y="272"/>
                  </a:lnTo>
                  <a:lnTo>
                    <a:pt x="39" y="234"/>
                  </a:lnTo>
                  <a:lnTo>
                    <a:pt x="58" y="199"/>
                  </a:lnTo>
                  <a:lnTo>
                    <a:pt x="80" y="166"/>
                  </a:lnTo>
                  <a:lnTo>
                    <a:pt x="104" y="137"/>
                  </a:lnTo>
                  <a:lnTo>
                    <a:pt x="131" y="108"/>
                  </a:lnTo>
                  <a:lnTo>
                    <a:pt x="161" y="82"/>
                  </a:lnTo>
                  <a:lnTo>
                    <a:pt x="193" y="61"/>
                  </a:lnTo>
                  <a:lnTo>
                    <a:pt x="226" y="42"/>
                  </a:lnTo>
                  <a:lnTo>
                    <a:pt x="263" y="25"/>
                  </a:lnTo>
                  <a:lnTo>
                    <a:pt x="301" y="13"/>
                  </a:lnTo>
                  <a:lnTo>
                    <a:pt x="341" y="5"/>
                  </a:lnTo>
                  <a:lnTo>
                    <a:pt x="4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a9a9a"/>
                </a:gs>
                <a:gs pos="100000">
                  <a:srgbClr val="ffffff"/>
                </a:gs>
              </a:gsLst>
              <a:lin ang="10800000"/>
            </a:gradFill>
            <a:ln w="0">
              <a:solidFill>
                <a:srgbClr val="808080"/>
              </a:solidFill>
            </a:ln>
            <a:effectLst>
              <a:outerShdw dist="38160" dir="108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802760" y="461664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Tai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5" name=""/>
          <p:cNvSpPr/>
          <p:nvPr/>
        </p:nvSpPr>
        <p:spPr>
          <a:xfrm>
            <a:off x="3124440" y="522612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540320" y="525636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176760" y="5835600"/>
            <a:ext cx="3781080" cy="642600"/>
            <a:chOff x="176760" y="5835600"/>
            <a:chExt cx="3781080" cy="642600"/>
          </a:xfrm>
        </p:grpSpPr>
        <p:sp>
          <p:nvSpPr>
            <p:cNvPr id="2128" name=""/>
            <p:cNvSpPr/>
            <p:nvPr/>
          </p:nvSpPr>
          <p:spPr>
            <a:xfrm>
              <a:off x="176760" y="5856120"/>
              <a:ext cx="304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urse Grade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446280" y="5835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0" name=""/>
          <p:cNvSpPr/>
          <p:nvPr/>
        </p:nvSpPr>
        <p:spPr>
          <a:xfrm>
            <a:off x="4753800" y="5886360"/>
            <a:ext cx="32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or C or D or…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312720" y="365760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r Examp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 txBox="1"/>
          <p:nvPr/>
        </p:nvSpPr>
        <p:spPr>
          <a:xfrm rot="5400000">
            <a:off x="-1676520" y="3657600"/>
            <a:ext cx="4572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2171880" y="152280"/>
            <a:ext cx="4762440" cy="10688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mial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abilit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371600" y="388620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robability of succes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stays the sa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each tri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324160" y="4952880"/>
            <a:ext cx="55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rials are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independ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96920" y="5638680"/>
            <a:ext cx="6213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ested in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umber of suc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8" name="" descr=""/>
          <p:cNvPicPr/>
          <p:nvPr/>
        </p:nvPicPr>
        <p:blipFill>
          <a:blip r:embed="rId1"/>
          <a:stretch/>
        </p:blipFill>
        <p:spPr>
          <a:xfrm>
            <a:off x="1295280" y="1698480"/>
            <a:ext cx="452520" cy="435240"/>
          </a:xfrm>
          <a:prstGeom prst="rect">
            <a:avLst/>
          </a:prstGeom>
          <a:ln w="0">
            <a:noFill/>
          </a:ln>
        </p:spPr>
      </p:pic>
      <p:pic>
        <p:nvPicPr>
          <p:cNvPr id="2139" name="" descr=""/>
          <p:cNvPicPr/>
          <p:nvPr/>
        </p:nvPicPr>
        <p:blipFill>
          <a:blip r:embed="rId2"/>
          <a:stretch/>
        </p:blipFill>
        <p:spPr>
          <a:xfrm>
            <a:off x="1297080" y="2438280"/>
            <a:ext cx="452520" cy="435240"/>
          </a:xfrm>
          <a:prstGeom prst="rect">
            <a:avLst/>
          </a:prstGeom>
          <a:ln w="0">
            <a:noFill/>
          </a:ln>
        </p:spPr>
      </p:pic>
      <p:pic>
        <p:nvPicPr>
          <p:cNvPr id="2140" name="" descr=""/>
          <p:cNvPicPr/>
          <p:nvPr/>
        </p:nvPicPr>
        <p:blipFill>
          <a:blip r:embed="rId3"/>
          <a:stretch/>
        </p:blipFill>
        <p:spPr>
          <a:xfrm>
            <a:off x="1297080" y="3886200"/>
            <a:ext cx="452520" cy="434880"/>
          </a:xfrm>
          <a:prstGeom prst="rect">
            <a:avLst/>
          </a:prstGeom>
          <a:ln w="0">
            <a:noFill/>
          </a:ln>
        </p:spPr>
      </p:pic>
      <p:pic>
        <p:nvPicPr>
          <p:cNvPr id="2141" name="" descr=""/>
          <p:cNvPicPr/>
          <p:nvPr/>
        </p:nvPicPr>
        <p:blipFill>
          <a:blip r:embed="rId4"/>
          <a:stretch/>
        </p:blipFill>
        <p:spPr>
          <a:xfrm>
            <a:off x="1297080" y="4952880"/>
            <a:ext cx="452520" cy="435240"/>
          </a:xfrm>
          <a:prstGeom prst="rect">
            <a:avLst/>
          </a:prstGeom>
          <a:ln w="0">
            <a:noFill/>
          </a:ln>
        </p:spPr>
      </p:pic>
      <p:pic>
        <p:nvPicPr>
          <p:cNvPr id="2142" name="" descr=""/>
          <p:cNvPicPr/>
          <p:nvPr/>
        </p:nvPicPr>
        <p:blipFill>
          <a:blip r:embed="rId5"/>
          <a:stretch/>
        </p:blipFill>
        <p:spPr>
          <a:xfrm>
            <a:off x="1297080" y="5638680"/>
            <a:ext cx="452520" cy="435240"/>
          </a:xfrm>
          <a:prstGeom prst="rect">
            <a:avLst/>
          </a:prstGeom>
          <a:ln w="0">
            <a:noFill/>
          </a:ln>
        </p:spPr>
      </p:pic>
      <p:sp>
        <p:nvSpPr>
          <p:cNvPr id="2143" name=""/>
          <p:cNvSpPr/>
          <p:nvPr/>
        </p:nvSpPr>
        <p:spPr>
          <a:xfrm>
            <a:off x="2000520" y="1676520"/>
            <a:ext cx="68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xperiment consists o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n Bernoulli t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981080" y="2362320"/>
            <a:ext cx="63248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outcomes are classified into                            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 of two mutually exclusive categori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          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uccess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5" name="NAVYBLUE" descr=""/>
          <p:cNvPicPr/>
          <p:nvPr/>
        </p:nvPicPr>
        <p:blipFill>
          <a:blip r:embed="rId6"/>
          <a:stretch/>
        </p:blipFill>
        <p:spPr>
          <a:xfrm>
            <a:off x="1143000" y="6113520"/>
            <a:ext cx="7391520" cy="74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04920" y="1676520"/>
            <a:ext cx="609480" cy="581400"/>
            <a:chOff x="304920" y="1676520"/>
            <a:chExt cx="609480" cy="581400"/>
          </a:xfrm>
        </p:grpSpPr>
        <p:pic>
          <p:nvPicPr>
            <p:cNvPr id="47" name="MARBLE_1" descr=""/>
            <p:cNvPicPr/>
            <p:nvPr/>
          </p:nvPicPr>
          <p:blipFill>
            <a:blip r:embed="rId1"/>
            <a:stretch/>
          </p:blipFill>
          <p:spPr>
            <a:xfrm>
              <a:off x="304920" y="1751040"/>
              <a:ext cx="609480" cy="50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81960" y="167652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176480" y="1690560"/>
            <a:ext cx="6672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terms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probability distrib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random vari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04920" y="2590920"/>
            <a:ext cx="609480" cy="581400"/>
            <a:chOff x="304920" y="2590920"/>
            <a:chExt cx="609480" cy="581400"/>
          </a:xfrm>
        </p:grpSpPr>
        <p:pic>
          <p:nvPicPr>
            <p:cNvPr id="51" name="MARBLE_1" descr=""/>
            <p:cNvPicPr/>
            <p:nvPr/>
          </p:nvPicPr>
          <p:blipFill>
            <a:blip r:embed="rId2"/>
            <a:stretch/>
          </p:blipFill>
          <p:spPr>
            <a:xfrm>
              <a:off x="304920" y="2665080"/>
              <a:ext cx="60948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81960" y="259092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143000" y="2666880"/>
            <a:ext cx="8001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inguis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iscre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continuous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random variab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04920" y="3505320"/>
            <a:ext cx="609480" cy="581400"/>
            <a:chOff x="304920" y="3505320"/>
            <a:chExt cx="609480" cy="581400"/>
          </a:xfrm>
        </p:grpSpPr>
        <p:pic>
          <p:nvPicPr>
            <p:cNvPr id="55" name="MARBLE_1" descr=""/>
            <p:cNvPicPr/>
            <p:nvPr/>
          </p:nvPicPr>
          <p:blipFill>
            <a:blip r:embed="rId3"/>
            <a:stretch/>
          </p:blipFill>
          <p:spPr>
            <a:xfrm>
              <a:off x="304920" y="3579840"/>
              <a:ext cx="60948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81960" y="350532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143000" y="3581280"/>
            <a:ext cx="7620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cul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m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vari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i="1" lang="en-US" sz="2400" spc="-1" strike="noStrike">
                <a:solidFill>
                  <a:srgbClr val="ff66cc"/>
                </a:solidFill>
                <a:latin typeface="Times New Roman"/>
              </a:rPr>
              <a:t>standard devi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discrete probability distributio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04920" y="4525920"/>
            <a:ext cx="609480" cy="581400"/>
            <a:chOff x="304920" y="4525920"/>
            <a:chExt cx="609480" cy="581400"/>
          </a:xfrm>
        </p:grpSpPr>
        <p:pic>
          <p:nvPicPr>
            <p:cNvPr id="59" name="MARBLE_1" descr=""/>
            <p:cNvPicPr/>
            <p:nvPr/>
          </p:nvPicPr>
          <p:blipFill>
            <a:blip r:embed="rId4"/>
            <a:stretch/>
          </p:blipFill>
          <p:spPr>
            <a:xfrm>
              <a:off x="304920" y="4600800"/>
              <a:ext cx="60948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81600" y="452592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179360" y="4541760"/>
            <a:ext cx="758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b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characteristics and compute probabiliti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oiss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obability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476440" y="1522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63" name=""/>
          <p:cNvSpPr/>
          <p:nvPr/>
        </p:nvSpPr>
        <p:spPr>
          <a:xfrm>
            <a:off x="576360" y="12193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4280" y="6019920"/>
            <a:ext cx="5637240" cy="527040"/>
          </a:xfrm>
          <a:custGeom>
            <a:avLst/>
            <a:gdLst/>
            <a:ahLst/>
            <a:rect l="l" t="t" r="r" b="b"/>
            <a:pathLst>
              <a:path w="4750" h="855">
                <a:moveTo>
                  <a:pt x="4750" y="411"/>
                </a:moveTo>
                <a:lnTo>
                  <a:pt x="4750" y="411"/>
                </a:lnTo>
                <a:lnTo>
                  <a:pt x="4746" y="411"/>
                </a:lnTo>
                <a:lnTo>
                  <a:pt x="4746" y="406"/>
                </a:lnTo>
                <a:lnTo>
                  <a:pt x="4741" y="406"/>
                </a:lnTo>
                <a:lnTo>
                  <a:pt x="4741" y="406"/>
                </a:lnTo>
                <a:lnTo>
                  <a:pt x="4736" y="402"/>
                </a:lnTo>
                <a:lnTo>
                  <a:pt x="4736" y="402"/>
                </a:lnTo>
                <a:lnTo>
                  <a:pt x="4736" y="397"/>
                </a:lnTo>
                <a:lnTo>
                  <a:pt x="4680" y="364"/>
                </a:lnTo>
                <a:lnTo>
                  <a:pt x="4666" y="346"/>
                </a:lnTo>
                <a:lnTo>
                  <a:pt x="4614" y="332"/>
                </a:lnTo>
                <a:lnTo>
                  <a:pt x="4563" y="322"/>
                </a:lnTo>
                <a:lnTo>
                  <a:pt x="4511" y="308"/>
                </a:lnTo>
                <a:lnTo>
                  <a:pt x="4460" y="299"/>
                </a:lnTo>
                <a:lnTo>
                  <a:pt x="4408" y="289"/>
                </a:lnTo>
                <a:lnTo>
                  <a:pt x="4357" y="280"/>
                </a:lnTo>
                <a:lnTo>
                  <a:pt x="4305" y="271"/>
                </a:lnTo>
                <a:lnTo>
                  <a:pt x="4254" y="261"/>
                </a:lnTo>
                <a:lnTo>
                  <a:pt x="4197" y="257"/>
                </a:lnTo>
                <a:lnTo>
                  <a:pt x="4141" y="247"/>
                </a:lnTo>
                <a:lnTo>
                  <a:pt x="4085" y="243"/>
                </a:lnTo>
                <a:lnTo>
                  <a:pt x="4029" y="238"/>
                </a:lnTo>
                <a:lnTo>
                  <a:pt x="3973" y="233"/>
                </a:lnTo>
                <a:lnTo>
                  <a:pt x="3916" y="229"/>
                </a:lnTo>
                <a:lnTo>
                  <a:pt x="3860" y="224"/>
                </a:lnTo>
                <a:lnTo>
                  <a:pt x="3804" y="219"/>
                </a:lnTo>
                <a:lnTo>
                  <a:pt x="3743" y="219"/>
                </a:lnTo>
                <a:lnTo>
                  <a:pt x="3682" y="219"/>
                </a:lnTo>
                <a:lnTo>
                  <a:pt x="3617" y="219"/>
                </a:lnTo>
                <a:lnTo>
                  <a:pt x="3556" y="219"/>
                </a:lnTo>
                <a:lnTo>
                  <a:pt x="3495" y="219"/>
                </a:lnTo>
                <a:lnTo>
                  <a:pt x="3434" y="219"/>
                </a:lnTo>
                <a:lnTo>
                  <a:pt x="3373" y="224"/>
                </a:lnTo>
                <a:lnTo>
                  <a:pt x="3312" y="224"/>
                </a:lnTo>
                <a:lnTo>
                  <a:pt x="3298" y="229"/>
                </a:lnTo>
                <a:lnTo>
                  <a:pt x="3284" y="229"/>
                </a:lnTo>
                <a:lnTo>
                  <a:pt x="3275" y="229"/>
                </a:lnTo>
                <a:lnTo>
                  <a:pt x="3260" y="229"/>
                </a:lnTo>
                <a:lnTo>
                  <a:pt x="3246" y="229"/>
                </a:lnTo>
                <a:lnTo>
                  <a:pt x="3237" y="229"/>
                </a:lnTo>
                <a:lnTo>
                  <a:pt x="3223" y="229"/>
                </a:lnTo>
                <a:lnTo>
                  <a:pt x="3214" y="229"/>
                </a:lnTo>
                <a:lnTo>
                  <a:pt x="3167" y="238"/>
                </a:lnTo>
                <a:lnTo>
                  <a:pt x="3125" y="243"/>
                </a:lnTo>
                <a:lnTo>
                  <a:pt x="3082" y="252"/>
                </a:lnTo>
                <a:lnTo>
                  <a:pt x="3040" y="257"/>
                </a:lnTo>
                <a:lnTo>
                  <a:pt x="2998" y="266"/>
                </a:lnTo>
                <a:lnTo>
                  <a:pt x="2956" y="271"/>
                </a:lnTo>
                <a:lnTo>
                  <a:pt x="2914" y="275"/>
                </a:lnTo>
                <a:lnTo>
                  <a:pt x="2872" y="285"/>
                </a:lnTo>
                <a:lnTo>
                  <a:pt x="2848" y="285"/>
                </a:lnTo>
                <a:lnTo>
                  <a:pt x="2820" y="289"/>
                </a:lnTo>
                <a:lnTo>
                  <a:pt x="2797" y="294"/>
                </a:lnTo>
                <a:lnTo>
                  <a:pt x="2773" y="294"/>
                </a:lnTo>
                <a:lnTo>
                  <a:pt x="2745" y="299"/>
                </a:lnTo>
                <a:lnTo>
                  <a:pt x="2722" y="303"/>
                </a:lnTo>
                <a:lnTo>
                  <a:pt x="2698" y="303"/>
                </a:lnTo>
                <a:lnTo>
                  <a:pt x="2675" y="303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4"/>
                </a:lnTo>
                <a:lnTo>
                  <a:pt x="2670" y="294"/>
                </a:lnTo>
                <a:lnTo>
                  <a:pt x="2675" y="294"/>
                </a:lnTo>
                <a:lnTo>
                  <a:pt x="2675" y="289"/>
                </a:lnTo>
                <a:lnTo>
                  <a:pt x="2675" y="289"/>
                </a:lnTo>
                <a:lnTo>
                  <a:pt x="2680" y="280"/>
                </a:lnTo>
                <a:lnTo>
                  <a:pt x="2689" y="275"/>
                </a:lnTo>
                <a:lnTo>
                  <a:pt x="2698" y="271"/>
                </a:lnTo>
                <a:lnTo>
                  <a:pt x="2708" y="266"/>
                </a:lnTo>
                <a:lnTo>
                  <a:pt x="2717" y="266"/>
                </a:lnTo>
                <a:lnTo>
                  <a:pt x="2731" y="261"/>
                </a:lnTo>
                <a:lnTo>
                  <a:pt x="2740" y="257"/>
                </a:lnTo>
                <a:lnTo>
                  <a:pt x="2750" y="252"/>
                </a:lnTo>
                <a:lnTo>
                  <a:pt x="2792" y="243"/>
                </a:lnTo>
                <a:lnTo>
                  <a:pt x="2829" y="233"/>
                </a:lnTo>
                <a:lnTo>
                  <a:pt x="2872" y="219"/>
                </a:lnTo>
                <a:lnTo>
                  <a:pt x="2909" y="210"/>
                </a:lnTo>
                <a:lnTo>
                  <a:pt x="2947" y="196"/>
                </a:lnTo>
                <a:lnTo>
                  <a:pt x="2989" y="182"/>
                </a:lnTo>
                <a:lnTo>
                  <a:pt x="3026" y="168"/>
                </a:lnTo>
                <a:lnTo>
                  <a:pt x="3059" y="149"/>
                </a:lnTo>
                <a:lnTo>
                  <a:pt x="3078" y="135"/>
                </a:lnTo>
                <a:lnTo>
                  <a:pt x="3087" y="121"/>
                </a:lnTo>
                <a:lnTo>
                  <a:pt x="3101" y="107"/>
                </a:lnTo>
                <a:lnTo>
                  <a:pt x="3111" y="93"/>
                </a:lnTo>
                <a:lnTo>
                  <a:pt x="3120" y="74"/>
                </a:lnTo>
                <a:lnTo>
                  <a:pt x="3125" y="56"/>
                </a:lnTo>
                <a:lnTo>
                  <a:pt x="3134" y="42"/>
                </a:lnTo>
                <a:lnTo>
                  <a:pt x="3139" y="23"/>
                </a:lnTo>
                <a:lnTo>
                  <a:pt x="3139" y="23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4" y="14"/>
                </a:lnTo>
                <a:lnTo>
                  <a:pt x="3134" y="14"/>
                </a:lnTo>
                <a:lnTo>
                  <a:pt x="3134" y="9"/>
                </a:lnTo>
                <a:lnTo>
                  <a:pt x="3134" y="9"/>
                </a:lnTo>
                <a:lnTo>
                  <a:pt x="3129" y="9"/>
                </a:lnTo>
                <a:lnTo>
                  <a:pt x="3125" y="9"/>
                </a:lnTo>
                <a:lnTo>
                  <a:pt x="3120" y="4"/>
                </a:lnTo>
                <a:lnTo>
                  <a:pt x="3111" y="4"/>
                </a:lnTo>
                <a:lnTo>
                  <a:pt x="3106" y="4"/>
                </a:lnTo>
                <a:lnTo>
                  <a:pt x="3101" y="4"/>
                </a:lnTo>
                <a:lnTo>
                  <a:pt x="3096" y="4"/>
                </a:lnTo>
                <a:lnTo>
                  <a:pt x="3087" y="4"/>
                </a:lnTo>
                <a:lnTo>
                  <a:pt x="3050" y="4"/>
                </a:lnTo>
                <a:lnTo>
                  <a:pt x="3017" y="0"/>
                </a:lnTo>
                <a:lnTo>
                  <a:pt x="2979" y="0"/>
                </a:lnTo>
                <a:lnTo>
                  <a:pt x="2942" y="0"/>
                </a:lnTo>
                <a:lnTo>
                  <a:pt x="2904" y="0"/>
                </a:lnTo>
                <a:lnTo>
                  <a:pt x="2872" y="0"/>
                </a:lnTo>
                <a:lnTo>
                  <a:pt x="2834" y="0"/>
                </a:lnTo>
                <a:lnTo>
                  <a:pt x="2801" y="0"/>
                </a:lnTo>
                <a:lnTo>
                  <a:pt x="2787" y="0"/>
                </a:lnTo>
                <a:lnTo>
                  <a:pt x="2773" y="4"/>
                </a:lnTo>
                <a:lnTo>
                  <a:pt x="2759" y="4"/>
                </a:lnTo>
                <a:lnTo>
                  <a:pt x="2745" y="4"/>
                </a:lnTo>
                <a:lnTo>
                  <a:pt x="2736" y="4"/>
                </a:lnTo>
                <a:lnTo>
                  <a:pt x="2722" y="4"/>
                </a:lnTo>
                <a:lnTo>
                  <a:pt x="2708" y="9"/>
                </a:lnTo>
                <a:lnTo>
                  <a:pt x="2694" y="9"/>
                </a:lnTo>
                <a:lnTo>
                  <a:pt x="2698" y="9"/>
                </a:lnTo>
                <a:lnTo>
                  <a:pt x="2698" y="9"/>
                </a:lnTo>
                <a:lnTo>
                  <a:pt x="2703" y="9"/>
                </a:lnTo>
                <a:lnTo>
                  <a:pt x="2703" y="9"/>
                </a:lnTo>
                <a:lnTo>
                  <a:pt x="2708" y="9"/>
                </a:lnTo>
                <a:lnTo>
                  <a:pt x="2708" y="9"/>
                </a:lnTo>
                <a:lnTo>
                  <a:pt x="2712" y="14"/>
                </a:lnTo>
                <a:lnTo>
                  <a:pt x="2712" y="14"/>
                </a:lnTo>
                <a:lnTo>
                  <a:pt x="2131" y="70"/>
                </a:lnTo>
                <a:lnTo>
                  <a:pt x="2089" y="79"/>
                </a:lnTo>
                <a:lnTo>
                  <a:pt x="2047" y="88"/>
                </a:lnTo>
                <a:lnTo>
                  <a:pt x="2010" y="98"/>
                </a:lnTo>
                <a:lnTo>
                  <a:pt x="1967" y="102"/>
                </a:lnTo>
                <a:lnTo>
                  <a:pt x="1930" y="112"/>
                </a:lnTo>
                <a:lnTo>
                  <a:pt x="1888" y="121"/>
                </a:lnTo>
                <a:lnTo>
                  <a:pt x="1850" y="131"/>
                </a:lnTo>
                <a:lnTo>
                  <a:pt x="1808" y="140"/>
                </a:lnTo>
                <a:lnTo>
                  <a:pt x="1752" y="154"/>
                </a:lnTo>
                <a:lnTo>
                  <a:pt x="1691" y="168"/>
                </a:lnTo>
                <a:lnTo>
                  <a:pt x="1635" y="182"/>
                </a:lnTo>
                <a:lnTo>
                  <a:pt x="1579" y="191"/>
                </a:lnTo>
                <a:lnTo>
                  <a:pt x="1522" y="205"/>
                </a:lnTo>
                <a:lnTo>
                  <a:pt x="1466" y="215"/>
                </a:lnTo>
                <a:lnTo>
                  <a:pt x="1410" y="229"/>
                </a:lnTo>
                <a:lnTo>
                  <a:pt x="1354" y="238"/>
                </a:lnTo>
                <a:lnTo>
                  <a:pt x="1335" y="243"/>
                </a:lnTo>
                <a:lnTo>
                  <a:pt x="1321" y="247"/>
                </a:lnTo>
                <a:lnTo>
                  <a:pt x="1302" y="252"/>
                </a:lnTo>
                <a:lnTo>
                  <a:pt x="1288" y="252"/>
                </a:lnTo>
                <a:lnTo>
                  <a:pt x="1274" y="257"/>
                </a:lnTo>
                <a:lnTo>
                  <a:pt x="1255" y="261"/>
                </a:lnTo>
                <a:lnTo>
                  <a:pt x="1241" y="266"/>
                </a:lnTo>
                <a:lnTo>
                  <a:pt x="1227" y="271"/>
                </a:lnTo>
                <a:lnTo>
                  <a:pt x="1208" y="275"/>
                </a:lnTo>
                <a:lnTo>
                  <a:pt x="1190" y="280"/>
                </a:lnTo>
                <a:lnTo>
                  <a:pt x="1171" y="285"/>
                </a:lnTo>
                <a:lnTo>
                  <a:pt x="1157" y="294"/>
                </a:lnTo>
                <a:lnTo>
                  <a:pt x="1138" y="299"/>
                </a:lnTo>
                <a:lnTo>
                  <a:pt x="1124" y="303"/>
                </a:lnTo>
                <a:lnTo>
                  <a:pt x="1105" y="308"/>
                </a:lnTo>
                <a:lnTo>
                  <a:pt x="1091" y="313"/>
                </a:lnTo>
                <a:lnTo>
                  <a:pt x="1082" y="313"/>
                </a:lnTo>
                <a:lnTo>
                  <a:pt x="1073" y="317"/>
                </a:lnTo>
                <a:lnTo>
                  <a:pt x="1063" y="317"/>
                </a:lnTo>
                <a:lnTo>
                  <a:pt x="1054" y="322"/>
                </a:lnTo>
                <a:lnTo>
                  <a:pt x="1044" y="327"/>
                </a:lnTo>
                <a:lnTo>
                  <a:pt x="1035" y="327"/>
                </a:lnTo>
                <a:lnTo>
                  <a:pt x="1026" y="332"/>
                </a:lnTo>
                <a:lnTo>
                  <a:pt x="1016" y="332"/>
                </a:lnTo>
                <a:lnTo>
                  <a:pt x="1002" y="336"/>
                </a:lnTo>
                <a:lnTo>
                  <a:pt x="988" y="341"/>
                </a:lnTo>
                <a:lnTo>
                  <a:pt x="974" y="346"/>
                </a:lnTo>
                <a:lnTo>
                  <a:pt x="955" y="350"/>
                </a:lnTo>
                <a:lnTo>
                  <a:pt x="941" y="350"/>
                </a:lnTo>
                <a:lnTo>
                  <a:pt x="927" y="355"/>
                </a:lnTo>
                <a:lnTo>
                  <a:pt x="913" y="360"/>
                </a:lnTo>
                <a:lnTo>
                  <a:pt x="899" y="369"/>
                </a:lnTo>
                <a:lnTo>
                  <a:pt x="871" y="374"/>
                </a:lnTo>
                <a:lnTo>
                  <a:pt x="843" y="383"/>
                </a:lnTo>
                <a:lnTo>
                  <a:pt x="810" y="392"/>
                </a:lnTo>
                <a:lnTo>
                  <a:pt x="782" y="397"/>
                </a:lnTo>
                <a:lnTo>
                  <a:pt x="754" y="406"/>
                </a:lnTo>
                <a:lnTo>
                  <a:pt x="726" y="416"/>
                </a:lnTo>
                <a:lnTo>
                  <a:pt x="698" y="430"/>
                </a:lnTo>
                <a:lnTo>
                  <a:pt x="670" y="439"/>
                </a:lnTo>
                <a:lnTo>
                  <a:pt x="660" y="444"/>
                </a:lnTo>
                <a:lnTo>
                  <a:pt x="646" y="444"/>
                </a:lnTo>
                <a:lnTo>
                  <a:pt x="632" y="448"/>
                </a:lnTo>
                <a:lnTo>
                  <a:pt x="623" y="453"/>
                </a:lnTo>
                <a:lnTo>
                  <a:pt x="609" y="458"/>
                </a:lnTo>
                <a:lnTo>
                  <a:pt x="599" y="462"/>
                </a:lnTo>
                <a:lnTo>
                  <a:pt x="585" y="467"/>
                </a:lnTo>
                <a:lnTo>
                  <a:pt x="576" y="476"/>
                </a:lnTo>
                <a:lnTo>
                  <a:pt x="567" y="472"/>
                </a:lnTo>
                <a:lnTo>
                  <a:pt x="562" y="472"/>
                </a:lnTo>
                <a:lnTo>
                  <a:pt x="557" y="476"/>
                </a:lnTo>
                <a:lnTo>
                  <a:pt x="548" y="476"/>
                </a:lnTo>
                <a:lnTo>
                  <a:pt x="543" y="481"/>
                </a:lnTo>
                <a:lnTo>
                  <a:pt x="539" y="481"/>
                </a:lnTo>
                <a:lnTo>
                  <a:pt x="534" y="486"/>
                </a:lnTo>
                <a:lnTo>
                  <a:pt x="529" y="486"/>
                </a:lnTo>
                <a:lnTo>
                  <a:pt x="510" y="490"/>
                </a:lnTo>
                <a:lnTo>
                  <a:pt x="510" y="490"/>
                </a:lnTo>
                <a:lnTo>
                  <a:pt x="510" y="490"/>
                </a:lnTo>
                <a:lnTo>
                  <a:pt x="506" y="490"/>
                </a:lnTo>
                <a:lnTo>
                  <a:pt x="506" y="490"/>
                </a:lnTo>
                <a:lnTo>
                  <a:pt x="506" y="495"/>
                </a:lnTo>
                <a:lnTo>
                  <a:pt x="506" y="495"/>
                </a:lnTo>
                <a:lnTo>
                  <a:pt x="506" y="495"/>
                </a:lnTo>
                <a:lnTo>
                  <a:pt x="501" y="495"/>
                </a:lnTo>
                <a:lnTo>
                  <a:pt x="440" y="514"/>
                </a:lnTo>
                <a:lnTo>
                  <a:pt x="421" y="514"/>
                </a:lnTo>
                <a:lnTo>
                  <a:pt x="412" y="518"/>
                </a:lnTo>
                <a:lnTo>
                  <a:pt x="407" y="523"/>
                </a:lnTo>
                <a:lnTo>
                  <a:pt x="398" y="523"/>
                </a:lnTo>
                <a:lnTo>
                  <a:pt x="389" y="528"/>
                </a:lnTo>
                <a:lnTo>
                  <a:pt x="379" y="528"/>
                </a:lnTo>
                <a:lnTo>
                  <a:pt x="375" y="528"/>
                </a:lnTo>
                <a:lnTo>
                  <a:pt x="365" y="532"/>
                </a:lnTo>
                <a:lnTo>
                  <a:pt x="356" y="532"/>
                </a:lnTo>
                <a:lnTo>
                  <a:pt x="351" y="532"/>
                </a:lnTo>
                <a:lnTo>
                  <a:pt x="351" y="532"/>
                </a:lnTo>
                <a:lnTo>
                  <a:pt x="351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28" y="537"/>
                </a:lnTo>
                <a:lnTo>
                  <a:pt x="314" y="537"/>
                </a:lnTo>
                <a:lnTo>
                  <a:pt x="295" y="542"/>
                </a:lnTo>
                <a:lnTo>
                  <a:pt x="276" y="542"/>
                </a:lnTo>
                <a:lnTo>
                  <a:pt x="262" y="546"/>
                </a:lnTo>
                <a:lnTo>
                  <a:pt x="243" y="546"/>
                </a:lnTo>
                <a:lnTo>
                  <a:pt x="225" y="551"/>
                </a:lnTo>
                <a:lnTo>
                  <a:pt x="211" y="556"/>
                </a:lnTo>
                <a:lnTo>
                  <a:pt x="206" y="551"/>
                </a:lnTo>
                <a:lnTo>
                  <a:pt x="201" y="551"/>
                </a:lnTo>
                <a:lnTo>
                  <a:pt x="197" y="551"/>
                </a:lnTo>
                <a:lnTo>
                  <a:pt x="192" y="546"/>
                </a:lnTo>
                <a:lnTo>
                  <a:pt x="192" y="546"/>
                </a:lnTo>
                <a:lnTo>
                  <a:pt x="187" y="542"/>
                </a:lnTo>
                <a:lnTo>
                  <a:pt x="187" y="537"/>
                </a:lnTo>
                <a:lnTo>
                  <a:pt x="182" y="537"/>
                </a:lnTo>
                <a:lnTo>
                  <a:pt x="159" y="528"/>
                </a:lnTo>
                <a:lnTo>
                  <a:pt x="145" y="514"/>
                </a:lnTo>
                <a:lnTo>
                  <a:pt x="145" y="514"/>
                </a:lnTo>
                <a:lnTo>
                  <a:pt x="145" y="509"/>
                </a:lnTo>
                <a:lnTo>
                  <a:pt x="140" y="509"/>
                </a:lnTo>
                <a:lnTo>
                  <a:pt x="140" y="509"/>
                </a:lnTo>
                <a:lnTo>
                  <a:pt x="136" y="509"/>
                </a:lnTo>
                <a:lnTo>
                  <a:pt x="136" y="509"/>
                </a:lnTo>
                <a:lnTo>
                  <a:pt x="131" y="509"/>
                </a:lnTo>
                <a:lnTo>
                  <a:pt x="126" y="509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2" y="504"/>
                </a:lnTo>
                <a:lnTo>
                  <a:pt x="122" y="500"/>
                </a:lnTo>
                <a:lnTo>
                  <a:pt x="122" y="500"/>
                </a:lnTo>
                <a:lnTo>
                  <a:pt x="122" y="500"/>
                </a:lnTo>
                <a:lnTo>
                  <a:pt x="117" y="495"/>
                </a:lnTo>
                <a:lnTo>
                  <a:pt x="117" y="495"/>
                </a:lnTo>
                <a:lnTo>
                  <a:pt x="112" y="490"/>
                </a:lnTo>
                <a:lnTo>
                  <a:pt x="112" y="490"/>
                </a:lnTo>
                <a:lnTo>
                  <a:pt x="107" y="490"/>
                </a:lnTo>
                <a:lnTo>
                  <a:pt x="103" y="490"/>
                </a:lnTo>
                <a:lnTo>
                  <a:pt x="98" y="490"/>
                </a:lnTo>
                <a:lnTo>
                  <a:pt x="93" y="490"/>
                </a:lnTo>
                <a:lnTo>
                  <a:pt x="56" y="532"/>
                </a:lnTo>
                <a:lnTo>
                  <a:pt x="56" y="532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1" y="546"/>
                </a:lnTo>
                <a:lnTo>
                  <a:pt x="47" y="551"/>
                </a:lnTo>
                <a:lnTo>
                  <a:pt x="42" y="556"/>
                </a:lnTo>
                <a:lnTo>
                  <a:pt x="37" y="561"/>
                </a:lnTo>
                <a:lnTo>
                  <a:pt x="28" y="565"/>
                </a:lnTo>
                <a:lnTo>
                  <a:pt x="23" y="570"/>
                </a:lnTo>
                <a:lnTo>
                  <a:pt x="14" y="575"/>
                </a:lnTo>
                <a:lnTo>
                  <a:pt x="9" y="579"/>
                </a:lnTo>
                <a:lnTo>
                  <a:pt x="0" y="617"/>
                </a:lnTo>
                <a:lnTo>
                  <a:pt x="9" y="626"/>
                </a:lnTo>
                <a:lnTo>
                  <a:pt x="0" y="640"/>
                </a:lnTo>
                <a:lnTo>
                  <a:pt x="0" y="640"/>
                </a:lnTo>
                <a:lnTo>
                  <a:pt x="0" y="645"/>
                </a:lnTo>
                <a:lnTo>
                  <a:pt x="0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14" y="673"/>
                </a:lnTo>
                <a:lnTo>
                  <a:pt x="4" y="687"/>
                </a:lnTo>
                <a:lnTo>
                  <a:pt x="9" y="691"/>
                </a:lnTo>
                <a:lnTo>
                  <a:pt x="9" y="691"/>
                </a:lnTo>
                <a:lnTo>
                  <a:pt x="14" y="691"/>
                </a:lnTo>
                <a:lnTo>
                  <a:pt x="14" y="691"/>
                </a:lnTo>
                <a:lnTo>
                  <a:pt x="18" y="696"/>
                </a:lnTo>
                <a:lnTo>
                  <a:pt x="18" y="696"/>
                </a:lnTo>
                <a:lnTo>
                  <a:pt x="23" y="701"/>
                </a:lnTo>
                <a:lnTo>
                  <a:pt x="23" y="701"/>
                </a:lnTo>
                <a:lnTo>
                  <a:pt x="23" y="747"/>
                </a:lnTo>
                <a:lnTo>
                  <a:pt x="33" y="752"/>
                </a:lnTo>
                <a:lnTo>
                  <a:pt x="42" y="757"/>
                </a:lnTo>
                <a:lnTo>
                  <a:pt x="51" y="761"/>
                </a:lnTo>
                <a:lnTo>
                  <a:pt x="65" y="766"/>
                </a:lnTo>
                <a:lnTo>
                  <a:pt x="75" y="771"/>
                </a:lnTo>
                <a:lnTo>
                  <a:pt x="84" y="776"/>
                </a:lnTo>
                <a:lnTo>
                  <a:pt x="89" y="785"/>
                </a:lnTo>
                <a:lnTo>
                  <a:pt x="98" y="794"/>
                </a:lnTo>
                <a:lnTo>
                  <a:pt x="98" y="794"/>
                </a:lnTo>
                <a:lnTo>
                  <a:pt x="98" y="794"/>
                </a:lnTo>
                <a:lnTo>
                  <a:pt x="98" y="799"/>
                </a:lnTo>
                <a:lnTo>
                  <a:pt x="98" y="799"/>
                </a:lnTo>
                <a:lnTo>
                  <a:pt x="98" y="804"/>
                </a:lnTo>
                <a:lnTo>
                  <a:pt x="98" y="804"/>
                </a:lnTo>
                <a:lnTo>
                  <a:pt x="98" y="804"/>
                </a:lnTo>
                <a:lnTo>
                  <a:pt x="103" y="808"/>
                </a:lnTo>
                <a:lnTo>
                  <a:pt x="178" y="836"/>
                </a:lnTo>
                <a:lnTo>
                  <a:pt x="178" y="836"/>
                </a:lnTo>
                <a:lnTo>
                  <a:pt x="178" y="836"/>
                </a:lnTo>
                <a:lnTo>
                  <a:pt x="178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7" y="832"/>
                </a:lnTo>
                <a:lnTo>
                  <a:pt x="197" y="836"/>
                </a:lnTo>
                <a:lnTo>
                  <a:pt x="206" y="841"/>
                </a:lnTo>
                <a:lnTo>
                  <a:pt x="215" y="841"/>
                </a:lnTo>
                <a:lnTo>
                  <a:pt x="229" y="841"/>
                </a:lnTo>
                <a:lnTo>
                  <a:pt x="239" y="836"/>
                </a:lnTo>
                <a:lnTo>
                  <a:pt x="253" y="841"/>
                </a:lnTo>
                <a:lnTo>
                  <a:pt x="262" y="841"/>
                </a:lnTo>
                <a:lnTo>
                  <a:pt x="271" y="846"/>
                </a:lnTo>
                <a:lnTo>
                  <a:pt x="295" y="846"/>
                </a:lnTo>
                <a:lnTo>
                  <a:pt x="295" y="846"/>
                </a:lnTo>
                <a:lnTo>
                  <a:pt x="300" y="846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4" y="850"/>
                </a:lnTo>
                <a:lnTo>
                  <a:pt x="304" y="850"/>
                </a:lnTo>
                <a:lnTo>
                  <a:pt x="309" y="850"/>
                </a:lnTo>
                <a:lnTo>
                  <a:pt x="309" y="850"/>
                </a:lnTo>
                <a:lnTo>
                  <a:pt x="314" y="850"/>
                </a:lnTo>
                <a:lnTo>
                  <a:pt x="314" y="850"/>
                </a:lnTo>
                <a:lnTo>
                  <a:pt x="318" y="850"/>
                </a:lnTo>
                <a:lnTo>
                  <a:pt x="318" y="855"/>
                </a:lnTo>
                <a:lnTo>
                  <a:pt x="323" y="855"/>
                </a:lnTo>
                <a:lnTo>
                  <a:pt x="323" y="855"/>
                </a:lnTo>
                <a:lnTo>
                  <a:pt x="398" y="832"/>
                </a:lnTo>
                <a:lnTo>
                  <a:pt x="398" y="832"/>
                </a:lnTo>
                <a:lnTo>
                  <a:pt x="398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7" y="832"/>
                </a:lnTo>
                <a:lnTo>
                  <a:pt x="407" y="832"/>
                </a:lnTo>
                <a:lnTo>
                  <a:pt x="412" y="832"/>
                </a:lnTo>
                <a:lnTo>
                  <a:pt x="417" y="827"/>
                </a:lnTo>
                <a:lnTo>
                  <a:pt x="421" y="827"/>
                </a:lnTo>
                <a:lnTo>
                  <a:pt x="426" y="827"/>
                </a:lnTo>
                <a:lnTo>
                  <a:pt x="431" y="822"/>
                </a:lnTo>
                <a:lnTo>
                  <a:pt x="435" y="822"/>
                </a:lnTo>
                <a:lnTo>
                  <a:pt x="440" y="822"/>
                </a:lnTo>
                <a:lnTo>
                  <a:pt x="445" y="818"/>
                </a:lnTo>
                <a:lnTo>
                  <a:pt x="454" y="813"/>
                </a:lnTo>
                <a:lnTo>
                  <a:pt x="459" y="813"/>
                </a:lnTo>
                <a:lnTo>
                  <a:pt x="468" y="808"/>
                </a:lnTo>
                <a:lnTo>
                  <a:pt x="473" y="804"/>
                </a:lnTo>
                <a:lnTo>
                  <a:pt x="478" y="799"/>
                </a:lnTo>
                <a:lnTo>
                  <a:pt x="487" y="799"/>
                </a:lnTo>
                <a:lnTo>
                  <a:pt x="492" y="799"/>
                </a:lnTo>
                <a:lnTo>
                  <a:pt x="501" y="794"/>
                </a:lnTo>
                <a:lnTo>
                  <a:pt x="506" y="794"/>
                </a:lnTo>
                <a:lnTo>
                  <a:pt x="515" y="790"/>
                </a:lnTo>
                <a:lnTo>
                  <a:pt x="520" y="790"/>
                </a:lnTo>
                <a:lnTo>
                  <a:pt x="529" y="785"/>
                </a:lnTo>
                <a:lnTo>
                  <a:pt x="534" y="785"/>
                </a:lnTo>
                <a:lnTo>
                  <a:pt x="543" y="785"/>
                </a:lnTo>
                <a:lnTo>
                  <a:pt x="548" y="785"/>
                </a:lnTo>
                <a:lnTo>
                  <a:pt x="557" y="785"/>
                </a:lnTo>
                <a:lnTo>
                  <a:pt x="553" y="785"/>
                </a:lnTo>
                <a:lnTo>
                  <a:pt x="553" y="785"/>
                </a:lnTo>
                <a:lnTo>
                  <a:pt x="553" y="780"/>
                </a:lnTo>
                <a:lnTo>
                  <a:pt x="553" y="780"/>
                </a:lnTo>
                <a:lnTo>
                  <a:pt x="553" y="780"/>
                </a:lnTo>
                <a:lnTo>
                  <a:pt x="553" y="776"/>
                </a:lnTo>
                <a:lnTo>
                  <a:pt x="553" y="776"/>
                </a:lnTo>
                <a:lnTo>
                  <a:pt x="553" y="776"/>
                </a:lnTo>
                <a:lnTo>
                  <a:pt x="590" y="757"/>
                </a:lnTo>
                <a:lnTo>
                  <a:pt x="721" y="701"/>
                </a:lnTo>
                <a:lnTo>
                  <a:pt x="735" y="691"/>
                </a:lnTo>
                <a:lnTo>
                  <a:pt x="754" y="691"/>
                </a:lnTo>
                <a:lnTo>
                  <a:pt x="759" y="687"/>
                </a:lnTo>
                <a:lnTo>
                  <a:pt x="759" y="687"/>
                </a:lnTo>
                <a:lnTo>
                  <a:pt x="759" y="687"/>
                </a:lnTo>
                <a:lnTo>
                  <a:pt x="763" y="682"/>
                </a:lnTo>
                <a:lnTo>
                  <a:pt x="763" y="682"/>
                </a:lnTo>
                <a:lnTo>
                  <a:pt x="763" y="682"/>
                </a:lnTo>
                <a:lnTo>
                  <a:pt x="768" y="677"/>
                </a:lnTo>
                <a:lnTo>
                  <a:pt x="768" y="677"/>
                </a:lnTo>
                <a:lnTo>
                  <a:pt x="787" y="668"/>
                </a:lnTo>
                <a:lnTo>
                  <a:pt x="801" y="659"/>
                </a:lnTo>
                <a:lnTo>
                  <a:pt x="834" y="645"/>
                </a:lnTo>
                <a:lnTo>
                  <a:pt x="899" y="603"/>
                </a:lnTo>
                <a:lnTo>
                  <a:pt x="927" y="589"/>
                </a:lnTo>
                <a:lnTo>
                  <a:pt x="941" y="575"/>
                </a:lnTo>
                <a:lnTo>
                  <a:pt x="955" y="565"/>
                </a:lnTo>
                <a:lnTo>
                  <a:pt x="974" y="551"/>
                </a:lnTo>
                <a:lnTo>
                  <a:pt x="993" y="542"/>
                </a:lnTo>
                <a:lnTo>
                  <a:pt x="1012" y="532"/>
                </a:lnTo>
                <a:lnTo>
                  <a:pt x="1030" y="523"/>
                </a:lnTo>
                <a:lnTo>
                  <a:pt x="1049" y="514"/>
                </a:lnTo>
                <a:lnTo>
                  <a:pt x="1073" y="504"/>
                </a:lnTo>
                <a:lnTo>
                  <a:pt x="1096" y="495"/>
                </a:lnTo>
                <a:lnTo>
                  <a:pt x="1115" y="486"/>
                </a:lnTo>
                <a:lnTo>
                  <a:pt x="1138" y="476"/>
                </a:lnTo>
                <a:lnTo>
                  <a:pt x="1162" y="462"/>
                </a:lnTo>
                <a:lnTo>
                  <a:pt x="1185" y="453"/>
                </a:lnTo>
                <a:lnTo>
                  <a:pt x="1208" y="444"/>
                </a:lnTo>
                <a:lnTo>
                  <a:pt x="1232" y="434"/>
                </a:lnTo>
                <a:lnTo>
                  <a:pt x="1255" y="425"/>
                </a:lnTo>
                <a:lnTo>
                  <a:pt x="1255" y="425"/>
                </a:lnTo>
                <a:lnTo>
                  <a:pt x="1255" y="425"/>
                </a:lnTo>
                <a:lnTo>
                  <a:pt x="1260" y="425"/>
                </a:lnTo>
                <a:lnTo>
                  <a:pt x="1260" y="420"/>
                </a:lnTo>
                <a:lnTo>
                  <a:pt x="1260" y="420"/>
                </a:lnTo>
                <a:lnTo>
                  <a:pt x="1260" y="420"/>
                </a:lnTo>
                <a:lnTo>
                  <a:pt x="1279" y="416"/>
                </a:lnTo>
                <a:lnTo>
                  <a:pt x="1293" y="411"/>
                </a:lnTo>
                <a:lnTo>
                  <a:pt x="1307" y="402"/>
                </a:lnTo>
                <a:lnTo>
                  <a:pt x="1321" y="397"/>
                </a:lnTo>
                <a:lnTo>
                  <a:pt x="1340" y="392"/>
                </a:lnTo>
                <a:lnTo>
                  <a:pt x="1354" y="388"/>
                </a:lnTo>
                <a:lnTo>
                  <a:pt x="1368" y="383"/>
                </a:lnTo>
                <a:lnTo>
                  <a:pt x="1382" y="378"/>
                </a:lnTo>
                <a:lnTo>
                  <a:pt x="1415" y="360"/>
                </a:lnTo>
                <a:lnTo>
                  <a:pt x="1452" y="346"/>
                </a:lnTo>
                <a:lnTo>
                  <a:pt x="1485" y="332"/>
                </a:lnTo>
                <a:lnTo>
                  <a:pt x="1522" y="317"/>
                </a:lnTo>
                <a:lnTo>
                  <a:pt x="1555" y="308"/>
                </a:lnTo>
                <a:lnTo>
                  <a:pt x="1593" y="294"/>
                </a:lnTo>
                <a:lnTo>
                  <a:pt x="1625" y="285"/>
                </a:lnTo>
                <a:lnTo>
                  <a:pt x="1663" y="271"/>
                </a:lnTo>
                <a:lnTo>
                  <a:pt x="1677" y="266"/>
                </a:lnTo>
                <a:lnTo>
                  <a:pt x="1691" y="261"/>
                </a:lnTo>
                <a:lnTo>
                  <a:pt x="1710" y="257"/>
                </a:lnTo>
                <a:lnTo>
                  <a:pt x="1724" y="252"/>
                </a:lnTo>
                <a:lnTo>
                  <a:pt x="1743" y="247"/>
                </a:lnTo>
                <a:lnTo>
                  <a:pt x="1757" y="243"/>
                </a:lnTo>
                <a:lnTo>
                  <a:pt x="1775" y="238"/>
                </a:lnTo>
                <a:lnTo>
                  <a:pt x="1794" y="233"/>
                </a:lnTo>
                <a:lnTo>
                  <a:pt x="1832" y="219"/>
                </a:lnTo>
                <a:lnTo>
                  <a:pt x="1869" y="210"/>
                </a:lnTo>
                <a:lnTo>
                  <a:pt x="1907" y="201"/>
                </a:lnTo>
                <a:lnTo>
                  <a:pt x="1944" y="191"/>
                </a:lnTo>
                <a:lnTo>
                  <a:pt x="1981" y="177"/>
                </a:lnTo>
                <a:lnTo>
                  <a:pt x="2019" y="168"/>
                </a:lnTo>
                <a:lnTo>
                  <a:pt x="2056" y="159"/>
                </a:lnTo>
                <a:lnTo>
                  <a:pt x="2089" y="149"/>
                </a:lnTo>
                <a:lnTo>
                  <a:pt x="2103" y="149"/>
                </a:lnTo>
                <a:lnTo>
                  <a:pt x="2113" y="145"/>
                </a:lnTo>
                <a:lnTo>
                  <a:pt x="2122" y="145"/>
                </a:lnTo>
                <a:lnTo>
                  <a:pt x="2136" y="140"/>
                </a:lnTo>
                <a:lnTo>
                  <a:pt x="2145" y="135"/>
                </a:lnTo>
                <a:lnTo>
                  <a:pt x="2159" y="135"/>
                </a:lnTo>
                <a:lnTo>
                  <a:pt x="2169" y="131"/>
                </a:lnTo>
                <a:lnTo>
                  <a:pt x="2178" y="131"/>
                </a:lnTo>
                <a:lnTo>
                  <a:pt x="2234" y="121"/>
                </a:lnTo>
                <a:lnTo>
                  <a:pt x="2291" y="112"/>
                </a:lnTo>
                <a:lnTo>
                  <a:pt x="2347" y="102"/>
                </a:lnTo>
                <a:lnTo>
                  <a:pt x="2403" y="93"/>
                </a:lnTo>
                <a:lnTo>
                  <a:pt x="2459" y="88"/>
                </a:lnTo>
                <a:lnTo>
                  <a:pt x="2516" y="84"/>
                </a:lnTo>
                <a:lnTo>
                  <a:pt x="2572" y="79"/>
                </a:lnTo>
                <a:lnTo>
                  <a:pt x="2633" y="74"/>
                </a:lnTo>
                <a:lnTo>
                  <a:pt x="2656" y="74"/>
                </a:lnTo>
                <a:lnTo>
                  <a:pt x="2684" y="74"/>
                </a:lnTo>
                <a:lnTo>
                  <a:pt x="2712" y="74"/>
                </a:lnTo>
                <a:lnTo>
                  <a:pt x="2736" y="79"/>
                </a:lnTo>
                <a:lnTo>
                  <a:pt x="2764" y="79"/>
                </a:lnTo>
                <a:lnTo>
                  <a:pt x="2787" y="79"/>
                </a:lnTo>
                <a:lnTo>
                  <a:pt x="2815" y="84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93"/>
                </a:lnTo>
                <a:lnTo>
                  <a:pt x="2834" y="98"/>
                </a:lnTo>
                <a:lnTo>
                  <a:pt x="2820" y="102"/>
                </a:lnTo>
                <a:lnTo>
                  <a:pt x="2806" y="107"/>
                </a:lnTo>
                <a:lnTo>
                  <a:pt x="2792" y="112"/>
                </a:lnTo>
                <a:lnTo>
                  <a:pt x="2778" y="112"/>
                </a:lnTo>
                <a:lnTo>
                  <a:pt x="2764" y="117"/>
                </a:lnTo>
                <a:lnTo>
                  <a:pt x="2750" y="121"/>
                </a:lnTo>
                <a:lnTo>
                  <a:pt x="2736" y="126"/>
                </a:lnTo>
                <a:lnTo>
                  <a:pt x="2680" y="140"/>
                </a:lnTo>
                <a:lnTo>
                  <a:pt x="2623" y="154"/>
                </a:lnTo>
                <a:lnTo>
                  <a:pt x="2567" y="168"/>
                </a:lnTo>
                <a:lnTo>
                  <a:pt x="2516" y="182"/>
                </a:lnTo>
                <a:lnTo>
                  <a:pt x="2459" y="196"/>
                </a:lnTo>
                <a:lnTo>
                  <a:pt x="2403" y="210"/>
                </a:lnTo>
                <a:lnTo>
                  <a:pt x="2352" y="224"/>
                </a:lnTo>
                <a:lnTo>
                  <a:pt x="2295" y="243"/>
                </a:lnTo>
                <a:lnTo>
                  <a:pt x="2244" y="257"/>
                </a:lnTo>
                <a:lnTo>
                  <a:pt x="2192" y="271"/>
                </a:lnTo>
                <a:lnTo>
                  <a:pt x="2141" y="289"/>
                </a:lnTo>
                <a:lnTo>
                  <a:pt x="2094" y="308"/>
                </a:lnTo>
                <a:lnTo>
                  <a:pt x="2042" y="327"/>
                </a:lnTo>
                <a:lnTo>
                  <a:pt x="1996" y="346"/>
                </a:lnTo>
                <a:lnTo>
                  <a:pt x="1944" y="369"/>
                </a:lnTo>
                <a:lnTo>
                  <a:pt x="1897" y="388"/>
                </a:lnTo>
                <a:lnTo>
                  <a:pt x="1869" y="397"/>
                </a:lnTo>
                <a:lnTo>
                  <a:pt x="1846" y="411"/>
                </a:lnTo>
                <a:lnTo>
                  <a:pt x="1822" y="425"/>
                </a:lnTo>
                <a:lnTo>
                  <a:pt x="1799" y="444"/>
                </a:lnTo>
                <a:lnTo>
                  <a:pt x="1780" y="462"/>
                </a:lnTo>
                <a:lnTo>
                  <a:pt x="1761" y="476"/>
                </a:lnTo>
                <a:lnTo>
                  <a:pt x="1743" y="495"/>
                </a:lnTo>
                <a:lnTo>
                  <a:pt x="1724" y="509"/>
                </a:lnTo>
                <a:lnTo>
                  <a:pt x="1710" y="532"/>
                </a:lnTo>
                <a:lnTo>
                  <a:pt x="1710" y="542"/>
                </a:lnTo>
                <a:lnTo>
                  <a:pt x="1714" y="546"/>
                </a:lnTo>
                <a:lnTo>
                  <a:pt x="1714" y="556"/>
                </a:lnTo>
                <a:lnTo>
                  <a:pt x="1719" y="561"/>
                </a:lnTo>
                <a:lnTo>
                  <a:pt x="1724" y="570"/>
                </a:lnTo>
                <a:lnTo>
                  <a:pt x="1728" y="575"/>
                </a:lnTo>
                <a:lnTo>
                  <a:pt x="1738" y="579"/>
                </a:lnTo>
                <a:lnTo>
                  <a:pt x="1743" y="584"/>
                </a:lnTo>
                <a:lnTo>
                  <a:pt x="1771" y="593"/>
                </a:lnTo>
                <a:lnTo>
                  <a:pt x="1803" y="593"/>
                </a:lnTo>
                <a:lnTo>
                  <a:pt x="1836" y="593"/>
                </a:lnTo>
                <a:lnTo>
                  <a:pt x="1864" y="584"/>
                </a:lnTo>
                <a:lnTo>
                  <a:pt x="1897" y="575"/>
                </a:lnTo>
                <a:lnTo>
                  <a:pt x="1930" y="561"/>
                </a:lnTo>
                <a:lnTo>
                  <a:pt x="1958" y="551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6" y="537"/>
                </a:lnTo>
                <a:lnTo>
                  <a:pt x="1996" y="537"/>
                </a:lnTo>
                <a:lnTo>
                  <a:pt x="1996" y="542"/>
                </a:lnTo>
                <a:lnTo>
                  <a:pt x="2000" y="542"/>
                </a:lnTo>
                <a:lnTo>
                  <a:pt x="2000" y="537"/>
                </a:lnTo>
                <a:lnTo>
                  <a:pt x="2005" y="537"/>
                </a:lnTo>
                <a:lnTo>
                  <a:pt x="2014" y="532"/>
                </a:lnTo>
                <a:lnTo>
                  <a:pt x="2019" y="532"/>
                </a:lnTo>
                <a:lnTo>
                  <a:pt x="2028" y="528"/>
                </a:lnTo>
                <a:lnTo>
                  <a:pt x="2033" y="523"/>
                </a:lnTo>
                <a:lnTo>
                  <a:pt x="2042" y="523"/>
                </a:lnTo>
                <a:lnTo>
                  <a:pt x="2052" y="518"/>
                </a:lnTo>
                <a:lnTo>
                  <a:pt x="2056" y="518"/>
                </a:lnTo>
                <a:lnTo>
                  <a:pt x="2080" y="509"/>
                </a:lnTo>
                <a:lnTo>
                  <a:pt x="2099" y="504"/>
                </a:lnTo>
                <a:lnTo>
                  <a:pt x="2122" y="495"/>
                </a:lnTo>
                <a:lnTo>
                  <a:pt x="2141" y="490"/>
                </a:lnTo>
                <a:lnTo>
                  <a:pt x="2159" y="481"/>
                </a:lnTo>
                <a:lnTo>
                  <a:pt x="2178" y="476"/>
                </a:lnTo>
                <a:lnTo>
                  <a:pt x="2202" y="467"/>
                </a:lnTo>
                <a:lnTo>
                  <a:pt x="2220" y="462"/>
                </a:lnTo>
                <a:lnTo>
                  <a:pt x="2230" y="462"/>
                </a:lnTo>
                <a:lnTo>
                  <a:pt x="2234" y="458"/>
                </a:lnTo>
                <a:lnTo>
                  <a:pt x="2239" y="458"/>
                </a:lnTo>
                <a:lnTo>
                  <a:pt x="2244" y="453"/>
                </a:lnTo>
                <a:lnTo>
                  <a:pt x="2249" y="453"/>
                </a:lnTo>
                <a:lnTo>
                  <a:pt x="2253" y="453"/>
                </a:lnTo>
                <a:lnTo>
                  <a:pt x="2258" y="448"/>
                </a:lnTo>
                <a:lnTo>
                  <a:pt x="2263" y="444"/>
                </a:lnTo>
                <a:lnTo>
                  <a:pt x="2277" y="444"/>
                </a:lnTo>
                <a:lnTo>
                  <a:pt x="2286" y="444"/>
                </a:lnTo>
                <a:lnTo>
                  <a:pt x="2295" y="439"/>
                </a:lnTo>
                <a:lnTo>
                  <a:pt x="2305" y="434"/>
                </a:lnTo>
                <a:lnTo>
                  <a:pt x="2319" y="430"/>
                </a:lnTo>
                <a:lnTo>
                  <a:pt x="2328" y="430"/>
                </a:lnTo>
                <a:lnTo>
                  <a:pt x="2338" y="425"/>
                </a:lnTo>
                <a:lnTo>
                  <a:pt x="2352" y="425"/>
                </a:lnTo>
                <a:lnTo>
                  <a:pt x="2356" y="420"/>
                </a:lnTo>
                <a:lnTo>
                  <a:pt x="2361" y="420"/>
                </a:lnTo>
                <a:lnTo>
                  <a:pt x="2366" y="416"/>
                </a:lnTo>
                <a:lnTo>
                  <a:pt x="2370" y="416"/>
                </a:lnTo>
                <a:lnTo>
                  <a:pt x="2375" y="416"/>
                </a:lnTo>
                <a:lnTo>
                  <a:pt x="2380" y="411"/>
                </a:lnTo>
                <a:lnTo>
                  <a:pt x="2389" y="411"/>
                </a:lnTo>
                <a:lnTo>
                  <a:pt x="2394" y="411"/>
                </a:lnTo>
                <a:lnTo>
                  <a:pt x="2398" y="416"/>
                </a:lnTo>
                <a:lnTo>
                  <a:pt x="2408" y="420"/>
                </a:lnTo>
                <a:lnTo>
                  <a:pt x="2412" y="425"/>
                </a:lnTo>
                <a:lnTo>
                  <a:pt x="2422" y="434"/>
                </a:lnTo>
                <a:lnTo>
                  <a:pt x="2427" y="439"/>
                </a:lnTo>
                <a:lnTo>
                  <a:pt x="2436" y="448"/>
                </a:lnTo>
                <a:lnTo>
                  <a:pt x="2445" y="448"/>
                </a:lnTo>
                <a:lnTo>
                  <a:pt x="2455" y="453"/>
                </a:lnTo>
                <a:lnTo>
                  <a:pt x="2473" y="453"/>
                </a:lnTo>
                <a:lnTo>
                  <a:pt x="2487" y="448"/>
                </a:lnTo>
                <a:lnTo>
                  <a:pt x="2501" y="448"/>
                </a:lnTo>
                <a:lnTo>
                  <a:pt x="2516" y="444"/>
                </a:lnTo>
                <a:lnTo>
                  <a:pt x="2534" y="439"/>
                </a:lnTo>
                <a:lnTo>
                  <a:pt x="2548" y="434"/>
                </a:lnTo>
                <a:lnTo>
                  <a:pt x="2562" y="430"/>
                </a:lnTo>
                <a:lnTo>
                  <a:pt x="2576" y="430"/>
                </a:lnTo>
                <a:lnTo>
                  <a:pt x="2600" y="430"/>
                </a:lnTo>
                <a:lnTo>
                  <a:pt x="2623" y="425"/>
                </a:lnTo>
                <a:lnTo>
                  <a:pt x="2647" y="425"/>
                </a:lnTo>
                <a:lnTo>
                  <a:pt x="2670" y="425"/>
                </a:lnTo>
                <a:lnTo>
                  <a:pt x="2694" y="420"/>
                </a:lnTo>
                <a:lnTo>
                  <a:pt x="2717" y="420"/>
                </a:lnTo>
                <a:lnTo>
                  <a:pt x="2736" y="420"/>
                </a:lnTo>
                <a:lnTo>
                  <a:pt x="2759" y="420"/>
                </a:lnTo>
                <a:lnTo>
                  <a:pt x="2820" y="420"/>
                </a:lnTo>
                <a:lnTo>
                  <a:pt x="2881" y="416"/>
                </a:lnTo>
                <a:lnTo>
                  <a:pt x="2942" y="416"/>
                </a:lnTo>
                <a:lnTo>
                  <a:pt x="3003" y="411"/>
                </a:lnTo>
                <a:lnTo>
                  <a:pt x="3064" y="411"/>
                </a:lnTo>
                <a:lnTo>
                  <a:pt x="3125" y="411"/>
                </a:lnTo>
                <a:lnTo>
                  <a:pt x="3190" y="416"/>
                </a:lnTo>
                <a:lnTo>
                  <a:pt x="3251" y="420"/>
                </a:lnTo>
                <a:lnTo>
                  <a:pt x="3312" y="420"/>
                </a:lnTo>
                <a:lnTo>
                  <a:pt x="3373" y="425"/>
                </a:lnTo>
                <a:lnTo>
                  <a:pt x="3434" y="430"/>
                </a:lnTo>
                <a:lnTo>
                  <a:pt x="3495" y="430"/>
                </a:lnTo>
                <a:lnTo>
                  <a:pt x="3556" y="430"/>
                </a:lnTo>
                <a:lnTo>
                  <a:pt x="3617" y="430"/>
                </a:lnTo>
                <a:lnTo>
                  <a:pt x="3673" y="430"/>
                </a:lnTo>
                <a:lnTo>
                  <a:pt x="3734" y="420"/>
                </a:lnTo>
                <a:lnTo>
                  <a:pt x="3757" y="416"/>
                </a:lnTo>
                <a:lnTo>
                  <a:pt x="3780" y="411"/>
                </a:lnTo>
                <a:lnTo>
                  <a:pt x="3799" y="411"/>
                </a:lnTo>
                <a:lnTo>
                  <a:pt x="3823" y="406"/>
                </a:lnTo>
                <a:lnTo>
                  <a:pt x="3846" y="406"/>
                </a:lnTo>
                <a:lnTo>
                  <a:pt x="3865" y="406"/>
                </a:lnTo>
                <a:lnTo>
                  <a:pt x="3888" y="402"/>
                </a:lnTo>
                <a:lnTo>
                  <a:pt x="3907" y="397"/>
                </a:lnTo>
                <a:lnTo>
                  <a:pt x="3912" y="397"/>
                </a:lnTo>
                <a:lnTo>
                  <a:pt x="3916" y="397"/>
                </a:lnTo>
                <a:lnTo>
                  <a:pt x="3921" y="397"/>
                </a:lnTo>
                <a:lnTo>
                  <a:pt x="3926" y="397"/>
                </a:lnTo>
                <a:lnTo>
                  <a:pt x="3930" y="397"/>
                </a:lnTo>
                <a:lnTo>
                  <a:pt x="3935" y="397"/>
                </a:lnTo>
                <a:lnTo>
                  <a:pt x="3935" y="397"/>
                </a:lnTo>
                <a:lnTo>
                  <a:pt x="3940" y="392"/>
                </a:lnTo>
                <a:lnTo>
                  <a:pt x="4268" y="392"/>
                </a:lnTo>
                <a:lnTo>
                  <a:pt x="4315" y="397"/>
                </a:lnTo>
                <a:lnTo>
                  <a:pt x="4361" y="402"/>
                </a:lnTo>
                <a:lnTo>
                  <a:pt x="4413" y="402"/>
                </a:lnTo>
                <a:lnTo>
                  <a:pt x="4460" y="402"/>
                </a:lnTo>
                <a:lnTo>
                  <a:pt x="4511" y="406"/>
                </a:lnTo>
                <a:lnTo>
                  <a:pt x="4558" y="406"/>
                </a:lnTo>
                <a:lnTo>
                  <a:pt x="4605" y="411"/>
                </a:lnTo>
                <a:lnTo>
                  <a:pt x="4657" y="420"/>
                </a:lnTo>
                <a:lnTo>
                  <a:pt x="4666" y="425"/>
                </a:lnTo>
                <a:lnTo>
                  <a:pt x="4680" y="430"/>
                </a:lnTo>
                <a:lnTo>
                  <a:pt x="4694" y="434"/>
                </a:lnTo>
                <a:lnTo>
                  <a:pt x="4703" y="434"/>
                </a:lnTo>
                <a:lnTo>
                  <a:pt x="4717" y="434"/>
                </a:lnTo>
                <a:lnTo>
                  <a:pt x="4727" y="430"/>
                </a:lnTo>
                <a:lnTo>
                  <a:pt x="4741" y="425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1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66680" y="1295280"/>
            <a:ext cx="7010640" cy="5334120"/>
          </a:xfrm>
          <a:prstGeom prst="rect">
            <a:avLst/>
          </a:prstGeom>
          <a:ln w="0">
            <a:noFill/>
          </a:ln>
        </p:spPr>
      </p:pic>
      <p:sp>
        <p:nvSpPr>
          <p:cNvPr id="2147" name=""/>
          <p:cNvSpPr/>
          <p:nvPr/>
        </p:nvSpPr>
        <p:spPr>
          <a:xfrm>
            <a:off x="228600" y="2351160"/>
            <a:ext cx="8686800" cy="20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be the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number of t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be th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umber of observed success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 the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probability of succes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n each 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2589840" y="4419720"/>
            <a:ext cx="5770800" cy="1108440"/>
            <a:chOff x="2589840" y="4419720"/>
            <a:chExt cx="5770800" cy="1108440"/>
          </a:xfrm>
        </p:grpSpPr>
        <p:sp>
          <p:nvSpPr>
            <p:cNvPr id="2149" name=""/>
            <p:cNvSpPr/>
            <p:nvPr/>
          </p:nvSpPr>
          <p:spPr>
            <a:xfrm>
              <a:off x="7767000" y="4469040"/>
              <a:ext cx="5936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447320" y="4469040"/>
              <a:ext cx="3956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5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673600" y="4469040"/>
              <a:ext cx="3344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097240" y="4994280"/>
              <a:ext cx="223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422960" y="4994280"/>
              <a:ext cx="2476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019640" y="4527720"/>
              <a:ext cx="37548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9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418000" y="4527720"/>
              <a:ext cx="37548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9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703760" y="4527720"/>
              <a:ext cx="50076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214440" y="4527720"/>
              <a:ext cx="37548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589840" y="4527720"/>
              <a:ext cx="45936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9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701480" y="4419720"/>
              <a:ext cx="3711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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647040" y="4442040"/>
              <a:ext cx="25056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508560" y="4535640"/>
              <a:ext cx="97164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351200" y="4527720"/>
              <a:ext cx="25056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067440" y="4527720"/>
              <a:ext cx="56304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021000" y="4527720"/>
              <a:ext cx="25056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525480" y="4527720"/>
              <a:ext cx="25056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997000" y="4527720"/>
              <a:ext cx="250560" cy="8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5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7" name=""/>
          <p:cNvSpPr/>
          <p:nvPr/>
        </p:nvSpPr>
        <p:spPr>
          <a:xfrm>
            <a:off x="2171880" y="152280"/>
            <a:ext cx="4762440" cy="10688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mial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abilit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761760" y="4630680"/>
            <a:ext cx="179784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rmu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948840" y="152388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Le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0" name="NAVYBLUE" descr=""/>
          <p:cNvPicPr/>
          <p:nvPr/>
        </p:nvPicPr>
        <p:blipFill>
          <a:blip r:embed="rId3"/>
          <a:stretch/>
        </p:blipFill>
        <p:spPr>
          <a:xfrm>
            <a:off x="1790640" y="5867280"/>
            <a:ext cx="5562720" cy="7430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66680" y="1004760"/>
            <a:ext cx="7391520" cy="5624640"/>
          </a:xfrm>
          <a:prstGeom prst="rect">
            <a:avLst/>
          </a:prstGeom>
          <a:ln w="0">
            <a:noFill/>
          </a:ln>
        </p:spPr>
      </p:pic>
      <p:grpSp>
        <p:nvGrpSpPr>
          <p:cNvPr id="2172" name=""/>
          <p:cNvGrpSpPr/>
          <p:nvPr/>
        </p:nvGrpSpPr>
        <p:grpSpPr>
          <a:xfrm>
            <a:off x="3328920" y="76320"/>
            <a:ext cx="2486160" cy="871560"/>
            <a:chOff x="3328920" y="76320"/>
            <a:chExt cx="2486160" cy="871560"/>
          </a:xfrm>
        </p:grpSpPr>
        <p:sp>
          <p:nvSpPr>
            <p:cNvPr id="2173" name=""/>
            <p:cNvSpPr txBox="1"/>
            <p:nvPr/>
          </p:nvSpPr>
          <p:spPr>
            <a:xfrm>
              <a:off x="3328920" y="7632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174" name=""/>
            <p:cNvSpPr txBox="1"/>
            <p:nvPr/>
          </p:nvSpPr>
          <p:spPr>
            <a:xfrm>
              <a:off x="3967200" y="285840"/>
              <a:ext cx="18478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175" name=""/>
          <p:cNvSpPr/>
          <p:nvPr/>
        </p:nvSpPr>
        <p:spPr>
          <a:xfrm>
            <a:off x="457200" y="11430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epartment of Labour reports that              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20%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of the workfor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aged between 15 and 19 year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unemploy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30360" y="2590920"/>
            <a:ext cx="78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a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sample of 10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ers in this age group, calculate the following probab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600200" y="3733920"/>
            <a:ext cx="5943600" cy="20671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1040" dir="827915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actly th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nempl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t least th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unempl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aaeb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N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nempl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33cc"/>
                </a:solidFill>
                <a:latin typeface="Times New Roman"/>
              </a:rPr>
              <a:t>At least 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nempl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8" name=""/>
          <p:cNvGrpSpPr/>
          <p:nvPr/>
        </p:nvGrpSpPr>
        <p:grpSpPr>
          <a:xfrm>
            <a:off x="5791320" y="6248520"/>
            <a:ext cx="3047760" cy="459720"/>
            <a:chOff x="5791320" y="6248520"/>
            <a:chExt cx="3047760" cy="459720"/>
          </a:xfrm>
        </p:grpSpPr>
        <p:sp>
          <p:nvSpPr>
            <p:cNvPr id="2179" name=""/>
            <p:cNvSpPr/>
            <p:nvPr/>
          </p:nvSpPr>
          <p:spPr>
            <a:xfrm>
              <a:off x="5791320" y="6477120"/>
              <a:ext cx="304776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248160" y="6248520"/>
              <a:ext cx="2209320" cy="459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17181" dir="836163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alcul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9400" y="1676520"/>
            <a:ext cx="67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xactly </a:t>
            </a: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thre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unemplo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765720" y="388620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t least thre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r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unemplo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4" name=""/>
          <p:cNvGrpSpPr/>
          <p:nvPr/>
        </p:nvGrpSpPr>
        <p:grpSpPr>
          <a:xfrm>
            <a:off x="1309320" y="0"/>
            <a:ext cx="6537600" cy="2057400"/>
            <a:chOff x="1309320" y="0"/>
            <a:chExt cx="6537600" cy="2057400"/>
          </a:xfrm>
        </p:grpSpPr>
        <p:grpSp>
          <p:nvGrpSpPr>
            <p:cNvPr id="2185" name=""/>
            <p:cNvGrpSpPr/>
            <p:nvPr/>
          </p:nvGrpSpPr>
          <p:grpSpPr>
            <a:xfrm>
              <a:off x="2011320" y="0"/>
              <a:ext cx="5236200" cy="986400"/>
              <a:chOff x="2011320" y="0"/>
              <a:chExt cx="5236200" cy="986400"/>
            </a:xfrm>
          </p:grpSpPr>
          <p:sp>
            <p:nvSpPr>
              <p:cNvPr id="2186" name=""/>
              <p:cNvSpPr/>
              <p:nvPr/>
            </p:nvSpPr>
            <p:spPr>
              <a:xfrm>
                <a:off x="6874920" y="48960"/>
                <a:ext cx="3726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489360" y="48960"/>
                <a:ext cx="3056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752360" y="48960"/>
                <a:ext cx="1728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120560" y="574560"/>
                <a:ext cx="1728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449160" y="574560"/>
                <a:ext cx="19116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052680" y="107640"/>
                <a:ext cx="30564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3300"/>
                    </a:solidFill>
                    <a:latin typeface="Times New Roman"/>
                  </a:rPr>
                  <a:t>p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451040" y="107640"/>
                <a:ext cx="30564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3300"/>
                    </a:solidFill>
                    <a:latin typeface="Times New Roman"/>
                  </a:rPr>
                  <a:t>p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747600" y="107640"/>
                <a:ext cx="40752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2628360" y="107640"/>
                <a:ext cx="30564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2011320" y="107640"/>
                <a:ext cx="37260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3300"/>
                    </a:solidFill>
                    <a:latin typeface="Times New Roman"/>
                  </a:rPr>
                  <a:t>P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826320" y="0"/>
                <a:ext cx="1152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667840" y="21960"/>
                <a:ext cx="20340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2977560" y="115560"/>
                <a:ext cx="79020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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6372000" y="107640"/>
                <a:ext cx="20340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17760" y="107640"/>
                <a:ext cx="45792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041800" y="107640"/>
                <a:ext cx="20340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927160" y="107640"/>
                <a:ext cx="20340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398680" y="107640"/>
                <a:ext cx="20340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04" name="NAVYBLUE" descr=""/>
            <p:cNvPicPr/>
            <p:nvPr/>
          </p:nvPicPr>
          <p:blipFill>
            <a:blip r:embed="rId1"/>
            <a:stretch/>
          </p:blipFill>
          <p:spPr>
            <a:xfrm>
              <a:off x="1752480" y="1314360"/>
              <a:ext cx="55627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5" name=""/>
            <p:cNvSpPr/>
            <p:nvPr/>
          </p:nvSpPr>
          <p:spPr>
            <a:xfrm>
              <a:off x="1309320" y="990720"/>
              <a:ext cx="653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ATA: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 20% Unemployed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Sample of 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6" name=""/>
          <p:cNvGrpSpPr/>
          <p:nvPr/>
        </p:nvGrpSpPr>
        <p:grpSpPr>
          <a:xfrm>
            <a:off x="4132080" y="2233440"/>
            <a:ext cx="907200" cy="488880"/>
            <a:chOff x="4132080" y="2233440"/>
            <a:chExt cx="907200" cy="488880"/>
          </a:xfrm>
        </p:grpSpPr>
        <p:sp>
          <p:nvSpPr>
            <p:cNvPr id="2207" name=""/>
            <p:cNvSpPr/>
            <p:nvPr/>
          </p:nvSpPr>
          <p:spPr>
            <a:xfrm>
              <a:off x="4924080" y="2233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807080" y="226512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393800" y="226512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Times New Roman"/>
                </a:rPr>
                <a:t>2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132080" y="226512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(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5130720" y="2220840"/>
            <a:ext cx="1688040" cy="501840"/>
            <a:chOff x="5130720" y="2220840"/>
            <a:chExt cx="1688040" cy="501840"/>
          </a:xfrm>
        </p:grpSpPr>
        <p:sp>
          <p:nvSpPr>
            <p:cNvPr id="2212" name=""/>
            <p:cNvSpPr/>
            <p:nvPr/>
          </p:nvSpPr>
          <p:spPr>
            <a:xfrm>
              <a:off x="6167160" y="2233800"/>
              <a:ext cx="65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1800" spc="-1" strike="noStrike">
                  <a:solidFill>
                    <a:srgbClr val="ff33cc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315120" y="22654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902200" y="226548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769720" y="2265480"/>
              <a:ext cx="9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243040" y="22654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130720" y="22654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22208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428640" y="2265480"/>
            <a:ext cx="631080" cy="512640"/>
            <a:chOff x="3428640" y="2265480"/>
            <a:chExt cx="631080" cy="512640"/>
          </a:xfrm>
        </p:grpSpPr>
        <p:grpSp>
          <p:nvGrpSpPr>
            <p:cNvPr id="2220" name=""/>
            <p:cNvGrpSpPr/>
            <p:nvPr/>
          </p:nvGrpSpPr>
          <p:grpSpPr>
            <a:xfrm>
              <a:off x="3666600" y="2265480"/>
              <a:ext cx="393120" cy="512640"/>
              <a:chOff x="3666600" y="2265480"/>
              <a:chExt cx="393120" cy="512640"/>
            </a:xfrm>
          </p:grpSpPr>
          <p:sp>
            <p:nvSpPr>
              <p:cNvPr id="2221" name=""/>
              <p:cNvSpPr/>
              <p:nvPr/>
            </p:nvSpPr>
            <p:spPr>
              <a:xfrm>
                <a:off x="3944520" y="250344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666600" y="2265480"/>
                <a:ext cx="25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3" name=""/>
            <p:cNvSpPr/>
            <p:nvPr/>
          </p:nvSpPr>
          <p:spPr>
            <a:xfrm>
              <a:off x="3428640" y="25034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4" name=""/>
          <p:cNvGrpSpPr/>
          <p:nvPr/>
        </p:nvGrpSpPr>
        <p:grpSpPr>
          <a:xfrm>
            <a:off x="2361960" y="2220840"/>
            <a:ext cx="1074600" cy="501840"/>
            <a:chOff x="2361960" y="2220840"/>
            <a:chExt cx="1074600" cy="501840"/>
          </a:xfrm>
        </p:grpSpPr>
        <p:sp>
          <p:nvSpPr>
            <p:cNvPr id="2225" name=""/>
            <p:cNvSpPr/>
            <p:nvPr/>
          </p:nvSpPr>
          <p:spPr>
            <a:xfrm>
              <a:off x="2975040" y="22654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777760" y="22654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cc"/>
                  </a:solidFill>
                  <a:latin typeface="Times New Roman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630520" y="22654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132720" y="222084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361960" y="2265480"/>
              <a:ext cx="23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0" name=""/>
          <p:cNvSpPr/>
          <p:nvPr/>
        </p:nvSpPr>
        <p:spPr>
          <a:xfrm>
            <a:off x="5365800" y="2787480"/>
            <a:ext cx="11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.2097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4298760" y="2787480"/>
            <a:ext cx="11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.008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476520" y="2787480"/>
            <a:ext cx="82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120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3132720" y="2743200"/>
            <a:ext cx="30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4" name=""/>
          <p:cNvGrpSpPr/>
          <p:nvPr/>
        </p:nvGrpSpPr>
        <p:grpSpPr>
          <a:xfrm>
            <a:off x="3132720" y="3308400"/>
            <a:ext cx="3052800" cy="501480"/>
            <a:chOff x="3132720" y="3308400"/>
            <a:chExt cx="3052800" cy="501480"/>
          </a:xfrm>
        </p:grpSpPr>
        <p:sp>
          <p:nvSpPr>
            <p:cNvPr id="2235" name=""/>
            <p:cNvSpPr/>
            <p:nvPr/>
          </p:nvSpPr>
          <p:spPr>
            <a:xfrm>
              <a:off x="4952880" y="3352680"/>
              <a:ext cx="1219320" cy="457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33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68321" dir="671817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522240" y="3352680"/>
              <a:ext cx="266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.2013 or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0.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132720" y="33084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8" name=""/>
          <p:cNvGrpSpPr/>
          <p:nvPr/>
        </p:nvGrpSpPr>
        <p:grpSpPr>
          <a:xfrm>
            <a:off x="7815960" y="4495680"/>
            <a:ext cx="871560" cy="524520"/>
            <a:chOff x="7815960" y="4495680"/>
            <a:chExt cx="871560" cy="524520"/>
          </a:xfrm>
        </p:grpSpPr>
        <p:sp>
          <p:nvSpPr>
            <p:cNvPr id="2239" name=""/>
            <p:cNvSpPr/>
            <p:nvPr/>
          </p:nvSpPr>
          <p:spPr>
            <a:xfrm>
              <a:off x="8558640" y="44956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445960" y="45324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8047080" y="45324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815960" y="453240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6782760" y="4495680"/>
            <a:ext cx="975240" cy="524520"/>
            <a:chOff x="6782760" y="4495680"/>
            <a:chExt cx="975240" cy="524520"/>
          </a:xfrm>
        </p:grpSpPr>
        <p:sp>
          <p:nvSpPr>
            <p:cNvPr id="2244" name=""/>
            <p:cNvSpPr/>
            <p:nvPr/>
          </p:nvSpPr>
          <p:spPr>
            <a:xfrm>
              <a:off x="7501320" y="449568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413120" y="45324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013880" y="45324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782760" y="453240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4021920" y="4495680"/>
            <a:ext cx="1171080" cy="524520"/>
            <a:chOff x="4021920" y="4495680"/>
            <a:chExt cx="1171080" cy="524520"/>
          </a:xfrm>
        </p:grpSpPr>
        <p:sp>
          <p:nvSpPr>
            <p:cNvPr id="2249" name=""/>
            <p:cNvSpPr/>
            <p:nvPr/>
          </p:nvSpPr>
          <p:spPr>
            <a:xfrm>
              <a:off x="4466880" y="4495680"/>
              <a:ext cx="726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000" spc="-1" strike="noStrike">
                  <a:solidFill>
                    <a:srgbClr val="ff33cc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652280" y="45324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253040" y="45324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021920" y="453240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2362680" y="4495680"/>
            <a:ext cx="1597680" cy="626040"/>
            <a:chOff x="2362680" y="4495680"/>
            <a:chExt cx="1597680" cy="626040"/>
          </a:xfrm>
        </p:grpSpPr>
        <p:sp>
          <p:nvSpPr>
            <p:cNvPr id="2254" name=""/>
            <p:cNvSpPr/>
            <p:nvPr/>
          </p:nvSpPr>
          <p:spPr>
            <a:xfrm>
              <a:off x="3831480" y="449568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cc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02680" y="4816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cc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362680" y="4816440"/>
              <a:ext cx="256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3723480" y="45324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322800" y="45324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093480" y="453240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73000" y="45324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"/>
          <p:cNvSpPr/>
          <p:nvPr/>
        </p:nvSpPr>
        <p:spPr>
          <a:xfrm>
            <a:off x="685080" y="45324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2" name=""/>
          <p:cNvGrpSpPr/>
          <p:nvPr/>
        </p:nvGrpSpPr>
        <p:grpSpPr>
          <a:xfrm>
            <a:off x="5804640" y="4479840"/>
            <a:ext cx="918360" cy="641880"/>
            <a:chOff x="5804640" y="4479840"/>
            <a:chExt cx="918360" cy="641880"/>
          </a:xfrm>
        </p:grpSpPr>
        <p:grpSp>
          <p:nvGrpSpPr>
            <p:cNvPr id="2263" name=""/>
            <p:cNvGrpSpPr/>
            <p:nvPr/>
          </p:nvGrpSpPr>
          <p:grpSpPr>
            <a:xfrm>
              <a:off x="5993280" y="4532400"/>
              <a:ext cx="729720" cy="589320"/>
              <a:chOff x="5993280" y="4532400"/>
              <a:chExt cx="729720" cy="589320"/>
            </a:xfrm>
          </p:grpSpPr>
          <p:grpSp>
            <p:nvGrpSpPr>
              <p:cNvPr id="2264" name=""/>
              <p:cNvGrpSpPr/>
              <p:nvPr/>
            </p:nvGrpSpPr>
            <p:grpSpPr>
              <a:xfrm>
                <a:off x="6257880" y="4532400"/>
                <a:ext cx="465120" cy="589320"/>
                <a:chOff x="6257880" y="4532400"/>
                <a:chExt cx="465120" cy="589320"/>
              </a:xfrm>
            </p:grpSpPr>
            <p:sp>
              <p:nvSpPr>
                <p:cNvPr id="2265" name=""/>
                <p:cNvSpPr/>
                <p:nvPr/>
              </p:nvSpPr>
              <p:spPr>
                <a:xfrm>
                  <a:off x="6466320" y="4816440"/>
                  <a:ext cx="2566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6257880" y="4532400"/>
                  <a:ext cx="2721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7" name=""/>
              <p:cNvSpPr/>
              <p:nvPr/>
            </p:nvSpPr>
            <p:spPr>
              <a:xfrm>
                <a:off x="5993280" y="4816440"/>
                <a:ext cx="256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8" name=""/>
            <p:cNvSpPr/>
            <p:nvPr/>
          </p:nvSpPr>
          <p:spPr>
            <a:xfrm>
              <a:off x="5804640" y="447984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9" name=""/>
          <p:cNvGrpSpPr/>
          <p:nvPr/>
        </p:nvGrpSpPr>
        <p:grpSpPr>
          <a:xfrm>
            <a:off x="5250600" y="4479840"/>
            <a:ext cx="541800" cy="540360"/>
            <a:chOff x="5250600" y="4479840"/>
            <a:chExt cx="541800" cy="540360"/>
          </a:xfrm>
        </p:grpSpPr>
        <p:sp>
          <p:nvSpPr>
            <p:cNvPr id="2270" name=""/>
            <p:cNvSpPr/>
            <p:nvPr/>
          </p:nvSpPr>
          <p:spPr>
            <a:xfrm>
              <a:off x="5485320" y="4532400"/>
              <a:ext cx="3070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250600" y="447984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2" name=""/>
          <p:cNvSpPr/>
          <p:nvPr/>
        </p:nvSpPr>
        <p:spPr>
          <a:xfrm>
            <a:off x="2004480" y="447984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3" name=""/>
          <p:cNvGrpSpPr/>
          <p:nvPr/>
        </p:nvGrpSpPr>
        <p:grpSpPr>
          <a:xfrm>
            <a:off x="940680" y="4503600"/>
            <a:ext cx="1052280" cy="516600"/>
            <a:chOff x="940680" y="4503600"/>
            <a:chExt cx="1052280" cy="516600"/>
          </a:xfrm>
        </p:grpSpPr>
        <p:sp>
          <p:nvSpPr>
            <p:cNvPr id="2274" name=""/>
            <p:cNvSpPr/>
            <p:nvPr/>
          </p:nvSpPr>
          <p:spPr>
            <a:xfrm>
              <a:off x="1856520" y="45324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5" name=""/>
            <p:cNvGrpSpPr/>
            <p:nvPr/>
          </p:nvGrpSpPr>
          <p:grpSpPr>
            <a:xfrm>
              <a:off x="940680" y="4503600"/>
              <a:ext cx="933120" cy="516600"/>
              <a:chOff x="940680" y="4503600"/>
              <a:chExt cx="933120" cy="516600"/>
            </a:xfrm>
          </p:grpSpPr>
          <p:sp>
            <p:nvSpPr>
              <p:cNvPr id="2276" name=""/>
              <p:cNvSpPr/>
              <p:nvPr/>
            </p:nvSpPr>
            <p:spPr>
              <a:xfrm>
                <a:off x="1668960" y="45324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940680" y="4532400"/>
                <a:ext cx="136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1091160" y="453240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329120" y="4503600"/>
                <a:ext cx="323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0" name=""/>
          <p:cNvGrpSpPr/>
          <p:nvPr/>
        </p:nvGrpSpPr>
        <p:grpSpPr>
          <a:xfrm>
            <a:off x="5955480" y="5187960"/>
            <a:ext cx="712440" cy="487800"/>
            <a:chOff x="5955480" y="5187960"/>
            <a:chExt cx="712440" cy="487800"/>
          </a:xfrm>
        </p:grpSpPr>
        <p:sp>
          <p:nvSpPr>
            <p:cNvPr id="2281" name=""/>
            <p:cNvSpPr/>
            <p:nvPr/>
          </p:nvSpPr>
          <p:spPr>
            <a:xfrm>
              <a:off x="6054480" y="5187960"/>
              <a:ext cx="613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0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955480" y="51879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3" name=""/>
          <p:cNvGrpSpPr/>
          <p:nvPr/>
        </p:nvGrpSpPr>
        <p:grpSpPr>
          <a:xfrm>
            <a:off x="3988800" y="5187960"/>
            <a:ext cx="914400" cy="487800"/>
            <a:chOff x="3988800" y="5187960"/>
            <a:chExt cx="914400" cy="487800"/>
          </a:xfrm>
        </p:grpSpPr>
        <p:sp>
          <p:nvSpPr>
            <p:cNvPr id="2284" name=""/>
            <p:cNvSpPr/>
            <p:nvPr/>
          </p:nvSpPr>
          <p:spPr>
            <a:xfrm>
              <a:off x="4085640" y="5187960"/>
              <a:ext cx="817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88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988800" y="51879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6" name=""/>
          <p:cNvGrpSpPr/>
          <p:nvPr/>
        </p:nvGrpSpPr>
        <p:grpSpPr>
          <a:xfrm>
            <a:off x="2636280" y="5187960"/>
            <a:ext cx="915840" cy="487800"/>
            <a:chOff x="2636280" y="5187960"/>
            <a:chExt cx="915840" cy="487800"/>
          </a:xfrm>
        </p:grpSpPr>
        <p:sp>
          <p:nvSpPr>
            <p:cNvPr id="2287" name=""/>
            <p:cNvSpPr/>
            <p:nvPr/>
          </p:nvSpPr>
          <p:spPr>
            <a:xfrm>
              <a:off x="2734560" y="5187960"/>
              <a:ext cx="817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01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636280" y="51879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9" name=""/>
          <p:cNvGrpSpPr/>
          <p:nvPr/>
        </p:nvGrpSpPr>
        <p:grpSpPr>
          <a:xfrm>
            <a:off x="2219400" y="5746680"/>
            <a:ext cx="2962080" cy="487800"/>
            <a:chOff x="2219400" y="5746680"/>
            <a:chExt cx="2962080" cy="487800"/>
          </a:xfrm>
        </p:grpSpPr>
        <p:sp>
          <p:nvSpPr>
            <p:cNvPr id="2290" name=""/>
            <p:cNvSpPr/>
            <p:nvPr/>
          </p:nvSpPr>
          <p:spPr>
            <a:xfrm>
              <a:off x="4038480" y="5746680"/>
              <a:ext cx="1143000" cy="457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99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68321" dir="671817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661840" y="5746680"/>
              <a:ext cx="2515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22 or  32.2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219400" y="57466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3" name=""/>
          <p:cNvSpPr/>
          <p:nvPr/>
        </p:nvSpPr>
        <p:spPr>
          <a:xfrm>
            <a:off x="5644440" y="5135400"/>
            <a:ext cx="23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4" name=""/>
          <p:cNvGrpSpPr/>
          <p:nvPr/>
        </p:nvGrpSpPr>
        <p:grpSpPr>
          <a:xfrm>
            <a:off x="5033160" y="5135400"/>
            <a:ext cx="521280" cy="487800"/>
            <a:chOff x="5033160" y="5135400"/>
            <a:chExt cx="521280" cy="487800"/>
          </a:xfrm>
        </p:grpSpPr>
        <p:sp>
          <p:nvSpPr>
            <p:cNvPr id="2295" name=""/>
            <p:cNvSpPr/>
            <p:nvPr/>
          </p:nvSpPr>
          <p:spPr>
            <a:xfrm>
              <a:off x="5288400" y="5187960"/>
              <a:ext cx="26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33160" y="513540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3685320" y="5135400"/>
            <a:ext cx="23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2198160" y="510048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9" name=""/>
          <p:cNvGrpSpPr/>
          <p:nvPr/>
        </p:nvGrpSpPr>
        <p:grpSpPr>
          <a:xfrm>
            <a:off x="6705720" y="6162840"/>
            <a:ext cx="2133360" cy="520560"/>
            <a:chOff x="6705720" y="6162840"/>
            <a:chExt cx="2133360" cy="520560"/>
          </a:xfrm>
        </p:grpSpPr>
        <p:sp>
          <p:nvSpPr>
            <p:cNvPr id="2300" name=""/>
            <p:cNvSpPr/>
            <p:nvPr/>
          </p:nvSpPr>
          <p:spPr>
            <a:xfrm>
              <a:off x="6705720" y="6477120"/>
              <a:ext cx="21333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093080" y="6162840"/>
              <a:ext cx="1363320" cy="520560"/>
            </a:xfrm>
            <a:prstGeom prst="rect">
              <a:avLst/>
            </a:prstGeom>
            <a:solidFill>
              <a:srgbClr val="e5b0ee"/>
            </a:solidFill>
            <a:ln w="0">
              <a:noFill/>
            </a:ln>
            <a:effectLst>
              <a:outerShdw dist="134955" dir="83271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re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/>
          <p:nvPr/>
        </p:nvSpPr>
        <p:spPr>
          <a:xfrm>
            <a:off x="1506960" y="1720800"/>
            <a:ext cx="52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Non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unemplo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475640" y="403848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At</a:t>
            </a: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least one</a:t>
            </a:r>
            <a:r>
              <a:rPr b="1" i="1" lang="en-US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40000"/>
                </a:solidFill>
                <a:latin typeface="Times New Roman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unemplo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57200" y="5805360"/>
            <a:ext cx="2057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838080" y="4572000"/>
            <a:ext cx="7543800" cy="1019880"/>
          </a:xfrm>
          <a:prstGeom prst="rect">
            <a:avLst/>
          </a:prstGeom>
          <a:solidFill>
            <a:srgbClr val="e5b0ee"/>
          </a:solidFill>
          <a:ln w="0">
            <a:noFill/>
          </a:ln>
          <a:effectLst>
            <a:outerShdw dist="162651" dir="848278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e a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ll the ti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(100%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xcept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n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 unemploye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6" name=""/>
          <p:cNvGrpSpPr/>
          <p:nvPr/>
        </p:nvGrpSpPr>
        <p:grpSpPr>
          <a:xfrm>
            <a:off x="4117680" y="2382840"/>
            <a:ext cx="907200" cy="488880"/>
            <a:chOff x="4117680" y="2382840"/>
            <a:chExt cx="907200" cy="488880"/>
          </a:xfrm>
        </p:grpSpPr>
        <p:sp>
          <p:nvSpPr>
            <p:cNvPr id="2307" name=""/>
            <p:cNvSpPr/>
            <p:nvPr/>
          </p:nvSpPr>
          <p:spPr>
            <a:xfrm>
              <a:off x="4909680" y="2382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792680" y="241452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379400" y="241452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Times New Roman"/>
                </a:rPr>
                <a:t>2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117680" y="241452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(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1" name=""/>
          <p:cNvGrpSpPr/>
          <p:nvPr/>
        </p:nvGrpSpPr>
        <p:grpSpPr>
          <a:xfrm>
            <a:off x="5099040" y="2362320"/>
            <a:ext cx="1659240" cy="501480"/>
            <a:chOff x="5099040" y="2362320"/>
            <a:chExt cx="1659240" cy="501480"/>
          </a:xfrm>
        </p:grpSpPr>
        <p:sp>
          <p:nvSpPr>
            <p:cNvPr id="2312" name=""/>
            <p:cNvSpPr/>
            <p:nvPr/>
          </p:nvSpPr>
          <p:spPr>
            <a:xfrm>
              <a:off x="6164280" y="2374920"/>
              <a:ext cx="59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1800" spc="-1" strike="noStrike">
                  <a:solidFill>
                    <a:srgbClr val="ff33cc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283440" y="24066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870520" y="2406600"/>
              <a:ext cx="38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738040" y="2406600"/>
              <a:ext cx="9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211360" y="240660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099040" y="24066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548320" y="236232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9" name=""/>
          <p:cNvGrpSpPr/>
          <p:nvPr/>
        </p:nvGrpSpPr>
        <p:grpSpPr>
          <a:xfrm>
            <a:off x="3428640" y="2406600"/>
            <a:ext cx="599040" cy="513000"/>
            <a:chOff x="3428640" y="2406600"/>
            <a:chExt cx="599040" cy="513000"/>
          </a:xfrm>
        </p:grpSpPr>
        <p:grpSp>
          <p:nvGrpSpPr>
            <p:cNvPr id="2320" name=""/>
            <p:cNvGrpSpPr/>
            <p:nvPr/>
          </p:nvGrpSpPr>
          <p:grpSpPr>
            <a:xfrm>
              <a:off x="3634560" y="2406600"/>
              <a:ext cx="393120" cy="512640"/>
              <a:chOff x="3634560" y="2406600"/>
              <a:chExt cx="393120" cy="512640"/>
            </a:xfrm>
          </p:grpSpPr>
          <p:sp>
            <p:nvSpPr>
              <p:cNvPr id="2321" name=""/>
              <p:cNvSpPr/>
              <p:nvPr/>
            </p:nvSpPr>
            <p:spPr>
              <a:xfrm>
                <a:off x="3912480" y="2644560"/>
                <a:ext cx="115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cc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3634560" y="2406600"/>
                <a:ext cx="25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3" name=""/>
            <p:cNvSpPr/>
            <p:nvPr/>
          </p:nvSpPr>
          <p:spPr>
            <a:xfrm>
              <a:off x="3428640" y="26449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4" name=""/>
          <p:cNvGrpSpPr/>
          <p:nvPr/>
        </p:nvGrpSpPr>
        <p:grpSpPr>
          <a:xfrm>
            <a:off x="2330280" y="2362320"/>
            <a:ext cx="1074600" cy="501480"/>
            <a:chOff x="2330280" y="2362320"/>
            <a:chExt cx="1074600" cy="501480"/>
          </a:xfrm>
        </p:grpSpPr>
        <p:sp>
          <p:nvSpPr>
            <p:cNvPr id="2325" name=""/>
            <p:cNvSpPr/>
            <p:nvPr/>
          </p:nvSpPr>
          <p:spPr>
            <a:xfrm>
              <a:off x="2943360" y="24066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746080" y="240660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cc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598840" y="24066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101040" y="236232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330280" y="2406600"/>
              <a:ext cx="23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0" name=""/>
          <p:cNvSpPr/>
          <p:nvPr/>
        </p:nvSpPr>
        <p:spPr>
          <a:xfrm>
            <a:off x="4495680" y="2992320"/>
            <a:ext cx="11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.1074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038480" y="2992320"/>
            <a:ext cx="44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635280" y="2992320"/>
            <a:ext cx="44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101040" y="2948040"/>
            <a:ext cx="30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4" name=""/>
          <p:cNvGrpSpPr/>
          <p:nvPr/>
        </p:nvGrpSpPr>
        <p:grpSpPr>
          <a:xfrm>
            <a:off x="3101040" y="3557520"/>
            <a:ext cx="3052800" cy="501840"/>
            <a:chOff x="3101040" y="3557520"/>
            <a:chExt cx="3052800" cy="501840"/>
          </a:xfrm>
        </p:grpSpPr>
        <p:sp>
          <p:nvSpPr>
            <p:cNvPr id="2335" name=""/>
            <p:cNvSpPr/>
            <p:nvPr/>
          </p:nvSpPr>
          <p:spPr>
            <a:xfrm>
              <a:off x="4921200" y="3602160"/>
              <a:ext cx="1219320" cy="4572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efef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68321" dir="671817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490560" y="3602160"/>
              <a:ext cx="266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.1074 or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.74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101040" y="355752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8" name=""/>
          <p:cNvSpPr/>
          <p:nvPr/>
        </p:nvSpPr>
        <p:spPr>
          <a:xfrm>
            <a:off x="2364840" y="5867280"/>
            <a:ext cx="30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 - .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10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9" name=""/>
          <p:cNvGrpSpPr/>
          <p:nvPr/>
        </p:nvGrpSpPr>
        <p:grpSpPr>
          <a:xfrm>
            <a:off x="5487840" y="5867280"/>
            <a:ext cx="3275280" cy="520560"/>
            <a:chOff x="5487840" y="5867280"/>
            <a:chExt cx="3275280" cy="520560"/>
          </a:xfrm>
        </p:grpSpPr>
        <p:sp>
          <p:nvSpPr>
            <p:cNvPr id="2340" name=""/>
            <p:cNvSpPr/>
            <p:nvPr/>
          </p:nvSpPr>
          <p:spPr>
            <a:xfrm>
              <a:off x="5487840" y="5867280"/>
              <a:ext cx="169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ff33cc"/>
                  </a:solidFill>
                  <a:latin typeface="Times New Roman"/>
                </a:rPr>
                <a:t>.8926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238880" y="5867280"/>
              <a:ext cx="1524240" cy="5205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cc"/>
                  </a:solidFill>
                  <a:latin typeface="Times New Roman"/>
                </a:rPr>
                <a:t>89.26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1309320" y="0"/>
            <a:ext cx="6537600" cy="2057400"/>
            <a:chOff x="1309320" y="0"/>
            <a:chExt cx="6537600" cy="2057400"/>
          </a:xfrm>
        </p:grpSpPr>
        <p:grpSp>
          <p:nvGrpSpPr>
            <p:cNvPr id="2343" name=""/>
            <p:cNvGrpSpPr/>
            <p:nvPr/>
          </p:nvGrpSpPr>
          <p:grpSpPr>
            <a:xfrm>
              <a:off x="2011320" y="0"/>
              <a:ext cx="5236200" cy="986400"/>
              <a:chOff x="2011320" y="0"/>
              <a:chExt cx="5236200" cy="986400"/>
            </a:xfrm>
          </p:grpSpPr>
          <p:sp>
            <p:nvSpPr>
              <p:cNvPr id="2344" name=""/>
              <p:cNvSpPr/>
              <p:nvPr/>
            </p:nvSpPr>
            <p:spPr>
              <a:xfrm>
                <a:off x="6874920" y="48960"/>
                <a:ext cx="3726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6489360" y="48960"/>
                <a:ext cx="30564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4752360" y="48960"/>
                <a:ext cx="1728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4120560" y="574560"/>
                <a:ext cx="1728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3449160" y="574560"/>
                <a:ext cx="19116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7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052680" y="107640"/>
                <a:ext cx="30564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3300"/>
                    </a:solidFill>
                    <a:latin typeface="Times New Roman"/>
                  </a:rPr>
                  <a:t>p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4451040" y="107640"/>
                <a:ext cx="30564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3300"/>
                    </a:solidFill>
                    <a:latin typeface="Times New Roman"/>
                  </a:rPr>
                  <a:t>p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747600" y="107640"/>
                <a:ext cx="40752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628360" y="107640"/>
                <a:ext cx="30564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2011320" y="107640"/>
                <a:ext cx="37260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3300"/>
                    </a:solidFill>
                    <a:latin typeface="Times New Roman"/>
                  </a:rPr>
                  <a:t>P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6826320" y="0"/>
                <a:ext cx="1152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667840" y="21960"/>
                <a:ext cx="20340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2977560" y="115560"/>
                <a:ext cx="79020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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372000" y="107640"/>
                <a:ext cx="20340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117760" y="107640"/>
                <a:ext cx="45792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041800" y="107640"/>
                <a:ext cx="20340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927160" y="107640"/>
                <a:ext cx="20340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398680" y="107640"/>
                <a:ext cx="20340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62" name="NAVYBLUE" descr=""/>
            <p:cNvPicPr/>
            <p:nvPr/>
          </p:nvPicPr>
          <p:blipFill>
            <a:blip r:embed="rId1"/>
            <a:stretch/>
          </p:blipFill>
          <p:spPr>
            <a:xfrm>
              <a:off x="1752480" y="1314360"/>
              <a:ext cx="55627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3" name=""/>
            <p:cNvSpPr/>
            <p:nvPr/>
          </p:nvSpPr>
          <p:spPr>
            <a:xfrm>
              <a:off x="1309320" y="990720"/>
              <a:ext cx="653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ATA: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 20% Unemployed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Sample of 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4" name=""/>
          <p:cNvGrpSpPr/>
          <p:nvPr/>
        </p:nvGrpSpPr>
        <p:grpSpPr>
          <a:xfrm>
            <a:off x="76320" y="1905120"/>
            <a:ext cx="8991360" cy="4591080"/>
            <a:chOff x="76320" y="1905120"/>
            <a:chExt cx="8991360" cy="4591080"/>
          </a:xfrm>
        </p:grpSpPr>
        <p:sp>
          <p:nvSpPr>
            <p:cNvPr id="2365" name=""/>
            <p:cNvSpPr/>
            <p:nvPr/>
          </p:nvSpPr>
          <p:spPr>
            <a:xfrm>
              <a:off x="152280" y="5943600"/>
              <a:ext cx="457200" cy="490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09480" y="2011320"/>
              <a:ext cx="838224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0.05     0.10     0.20     0.30    0.40    0.50     0.60     0.70     0.80     0.90     0.95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85800" y="2438280"/>
              <a:ext cx="8305920" cy="405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599   0.349   0.107   0.028  0.006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1   0.000   0.000   0.000   0.000  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315   0.387   0.268   0.12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4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1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0  0.00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75   0.194   0.302   0.233  0.121  0.044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11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0  0.0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00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10   0.057   0.201   0.267  0.215  0.117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42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9   0.001  0.0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00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1   0.011   0.088   0.200  0.251  0.205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111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37  0.006  0.0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00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1   0.026   0.103  0.201  0.246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201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103   0.026  0.00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00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0   0.006   0.037  0.111  0.205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251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200   0.088  0.01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001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0   0.001   0.009  0.042  0.117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215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267   0.201  0.057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01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1   0.000   0.001  0.011  0.044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12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233   0.302  0.194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075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0   0.000   0.000  0.002  0.010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40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121   0.268  0.387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315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1   0.000   0.000  0.000  0.001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6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28   0.107  0.349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5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25360" y="2376360"/>
              <a:ext cx="311040" cy="349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01600" y="1981080"/>
              <a:ext cx="365040" cy="398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6320" y="1905120"/>
              <a:ext cx="89913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6320" y="2438280"/>
              <a:ext cx="89913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09480" y="1905120"/>
              <a:ext cx="0" cy="4572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6320" y="6477120"/>
              <a:ext cx="89913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4" name=""/>
          <p:cNvSpPr/>
          <p:nvPr/>
        </p:nvSpPr>
        <p:spPr>
          <a:xfrm>
            <a:off x="2171880" y="152280"/>
            <a:ext cx="4762440" cy="10688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mial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abilit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3620520" y="1285920"/>
            <a:ext cx="1901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77760" y="146196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able 6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7" name=""/>
          <p:cNvGrpSpPr/>
          <p:nvPr/>
        </p:nvGrpSpPr>
        <p:grpSpPr>
          <a:xfrm>
            <a:off x="685800" y="1981080"/>
            <a:ext cx="8381880" cy="1718280"/>
            <a:chOff x="685800" y="1981080"/>
            <a:chExt cx="8381880" cy="1718280"/>
          </a:xfrm>
        </p:grpSpPr>
        <p:sp>
          <p:nvSpPr>
            <p:cNvPr id="2378" name=""/>
            <p:cNvSpPr/>
            <p:nvPr/>
          </p:nvSpPr>
          <p:spPr>
            <a:xfrm>
              <a:off x="685800" y="1981080"/>
              <a:ext cx="838188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0.05     0.10     0.20     0.30    0.40    0.50     0.60     0.70     0.80     0.90     0.95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098360" y="3117960"/>
              <a:ext cx="430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presents the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‘Probability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84240" y="1981080"/>
            <a:ext cx="8151480" cy="4498920"/>
            <a:chOff x="84240" y="1981080"/>
            <a:chExt cx="8151480" cy="4498920"/>
          </a:xfrm>
        </p:grpSpPr>
        <p:grpSp>
          <p:nvGrpSpPr>
            <p:cNvPr id="2381" name=""/>
            <p:cNvGrpSpPr/>
            <p:nvPr/>
          </p:nvGrpSpPr>
          <p:grpSpPr>
            <a:xfrm>
              <a:off x="84240" y="1981080"/>
              <a:ext cx="612720" cy="4498920"/>
              <a:chOff x="84240" y="1981080"/>
              <a:chExt cx="612720" cy="4498920"/>
            </a:xfrm>
          </p:grpSpPr>
          <p:sp>
            <p:nvSpPr>
              <p:cNvPr id="2382" name=""/>
              <p:cNvSpPr/>
              <p:nvPr/>
            </p:nvSpPr>
            <p:spPr>
              <a:xfrm>
                <a:off x="84240" y="2376360"/>
                <a:ext cx="612720" cy="41036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87480" y="1981080"/>
                <a:ext cx="609480" cy="398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4" name=""/>
            <p:cNvSpPr/>
            <p:nvPr/>
          </p:nvSpPr>
          <p:spPr>
            <a:xfrm>
              <a:off x="951480" y="2590920"/>
              <a:ext cx="728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represents the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‘Number Unemployed’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5" name=""/>
          <p:cNvGrpSpPr/>
          <p:nvPr/>
        </p:nvGrpSpPr>
        <p:grpSpPr>
          <a:xfrm>
            <a:off x="685800" y="2438280"/>
            <a:ext cx="8305560" cy="4057920"/>
            <a:chOff x="685800" y="2438280"/>
            <a:chExt cx="8305560" cy="4057920"/>
          </a:xfrm>
        </p:grpSpPr>
        <p:sp>
          <p:nvSpPr>
            <p:cNvPr id="2386" name=""/>
            <p:cNvSpPr/>
            <p:nvPr/>
          </p:nvSpPr>
          <p:spPr>
            <a:xfrm>
              <a:off x="685800" y="2438280"/>
              <a:ext cx="8305560" cy="405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599   0.349   0.107   0.028  0.006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1   0.000   0.000   0.000   0.000  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315   0.387   0.268   0.12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4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1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0  0.00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75   0.194   0.302   0.233  0.121  0.044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11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0  0.0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00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10   0.057   0.201   0.267  0.215  0.117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42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9   0.001  0.0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00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1   0.011   0.088   0.200  0.251  0.205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111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37  0.006  0.000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00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1   0.026   0.103  0.201  0.246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201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103   0.026  0.00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00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0   0.006   0.037  0.111  0.205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251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200   0.088  0.01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001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0   0.001   0.009  0.042  0.117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215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267   0.201  0.057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01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1   0.000   0.001  0.011  0.044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12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233   0.302  0.194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075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0   0.000   0.000  0.002  0.010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40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121   0.268  0.387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315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1   0.000   0.000  0.000  0.001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6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28   0.107  0.349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0.5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251000" y="5029200"/>
              <a:ext cx="7168320" cy="703440"/>
            </a:xfrm>
            <a:prstGeom prst="rect">
              <a:avLst/>
            </a:prstGeom>
            <a:solidFill>
              <a:srgbClr val="e5b0ee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presents the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 PROBABILITY’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when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n = 1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8" name=""/>
          <p:cNvSpPr/>
          <p:nvPr/>
        </p:nvSpPr>
        <p:spPr>
          <a:xfrm>
            <a:off x="3054240" y="3962520"/>
            <a:ext cx="3033720" cy="703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e5b0ee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la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2171880" y="152280"/>
            <a:ext cx="4762440" cy="10688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mial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abilit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0" name=""/>
          <p:cNvGrpSpPr/>
          <p:nvPr/>
        </p:nvGrpSpPr>
        <p:grpSpPr>
          <a:xfrm>
            <a:off x="720" y="1285920"/>
            <a:ext cx="9066960" cy="5191200"/>
            <a:chOff x="720" y="1285920"/>
            <a:chExt cx="9066960" cy="5191200"/>
          </a:xfrm>
        </p:grpSpPr>
        <p:sp>
          <p:nvSpPr>
            <p:cNvPr id="2391" name=""/>
            <p:cNvSpPr/>
            <p:nvPr/>
          </p:nvSpPr>
          <p:spPr>
            <a:xfrm>
              <a:off x="3620520" y="1285920"/>
              <a:ext cx="19011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babil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20" y="1461960"/>
              <a:ext cx="344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rom text Appendix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6320" y="1905120"/>
              <a:ext cx="89913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320" y="2438280"/>
              <a:ext cx="89913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85800" y="1905120"/>
              <a:ext cx="0" cy="4572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6320" y="6477120"/>
              <a:ext cx="89913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7" name=""/>
          <p:cNvGrpSpPr/>
          <p:nvPr/>
        </p:nvGrpSpPr>
        <p:grpSpPr>
          <a:xfrm>
            <a:off x="5791320" y="6172200"/>
            <a:ext cx="3047760" cy="459720"/>
            <a:chOff x="5791320" y="6172200"/>
            <a:chExt cx="3047760" cy="459720"/>
          </a:xfrm>
        </p:grpSpPr>
        <p:sp>
          <p:nvSpPr>
            <p:cNvPr id="2398" name=""/>
            <p:cNvSpPr/>
            <p:nvPr/>
          </p:nvSpPr>
          <p:spPr>
            <a:xfrm>
              <a:off x="5791320" y="6477120"/>
              <a:ext cx="304776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045840" y="6172200"/>
              <a:ext cx="2567160" cy="4597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00ffff"/>
                </a:gs>
                <a:gs pos="100000">
                  <a:srgbClr val="ffff00"/>
                </a:gs>
              </a:gsLst>
              <a:lin ang="135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sing Appendix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"/>
          <p:cNvSpPr/>
          <p:nvPr/>
        </p:nvSpPr>
        <p:spPr>
          <a:xfrm>
            <a:off x="2465640" y="130320"/>
            <a:ext cx="4231440" cy="642600"/>
          </a:xfrm>
          <a:prstGeom prst="rect">
            <a:avLst/>
          </a:prstGeom>
          <a:solidFill>
            <a:srgbClr val="e5b0ee"/>
          </a:soli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ernate Solutio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45440" y="914400"/>
            <a:ext cx="532116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5b0ee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Appendix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nomial Probabilit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1309320" y="1905120"/>
            <a:ext cx="6537960" cy="1066320"/>
            <a:chOff x="1309320" y="1905120"/>
            <a:chExt cx="6537960" cy="1066320"/>
          </a:xfrm>
        </p:grpSpPr>
        <p:pic>
          <p:nvPicPr>
            <p:cNvPr id="2403" name="NAVYBLUE" descr=""/>
            <p:cNvPicPr/>
            <p:nvPr/>
          </p:nvPicPr>
          <p:blipFill>
            <a:blip r:embed="rId1"/>
            <a:stretch/>
          </p:blipFill>
          <p:spPr>
            <a:xfrm>
              <a:off x="1752480" y="2228760"/>
              <a:ext cx="556272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4" name=""/>
            <p:cNvSpPr/>
            <p:nvPr/>
          </p:nvSpPr>
          <p:spPr>
            <a:xfrm>
              <a:off x="1309320" y="1905120"/>
              <a:ext cx="653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ATA: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20% Unemployed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ample of 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5" name=""/>
          <p:cNvSpPr/>
          <p:nvPr/>
        </p:nvSpPr>
        <p:spPr>
          <a:xfrm>
            <a:off x="1488240" y="2697120"/>
            <a:ext cx="61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actly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thre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nem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6" name=""/>
          <p:cNvGrpSpPr/>
          <p:nvPr/>
        </p:nvGrpSpPr>
        <p:grpSpPr>
          <a:xfrm>
            <a:off x="2829240" y="5823000"/>
            <a:ext cx="3411360" cy="501480"/>
            <a:chOff x="2829240" y="5823000"/>
            <a:chExt cx="3411360" cy="501480"/>
          </a:xfrm>
        </p:grpSpPr>
        <p:sp>
          <p:nvSpPr>
            <p:cNvPr id="2407" name=""/>
            <p:cNvSpPr/>
            <p:nvPr/>
          </p:nvSpPr>
          <p:spPr>
            <a:xfrm>
              <a:off x="4905360" y="5867280"/>
              <a:ext cx="1335240" cy="457200"/>
            </a:xfrm>
            <a:prstGeom prst="rect">
              <a:avLst/>
            </a:prstGeom>
            <a:gradFill rotWithShape="0">
              <a:gsLst>
                <a:gs pos="0">
                  <a:srgbClr val="ff33cc"/>
                </a:gs>
                <a:gs pos="50000">
                  <a:srgbClr val="fefefe"/>
                </a:gs>
                <a:gs pos="100000">
                  <a:srgbClr val="ff33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68321" dir="671817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551760" y="5867280"/>
              <a:ext cx="2486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.201  or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0.1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829240" y="5823000"/>
              <a:ext cx="494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0" name=""/>
          <p:cNvGrpSpPr/>
          <p:nvPr/>
        </p:nvGrpSpPr>
        <p:grpSpPr>
          <a:xfrm>
            <a:off x="304920" y="3276720"/>
            <a:ext cx="8534160" cy="2514600"/>
            <a:chOff x="304920" y="3276720"/>
            <a:chExt cx="8534160" cy="2514600"/>
          </a:xfrm>
        </p:grpSpPr>
        <p:sp>
          <p:nvSpPr>
            <p:cNvPr id="2411" name=""/>
            <p:cNvSpPr/>
            <p:nvPr/>
          </p:nvSpPr>
          <p:spPr>
            <a:xfrm>
              <a:off x="1066680" y="3383280"/>
              <a:ext cx="77724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.05     0.10      0.20    0.30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     …0.80      0.90     0.9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203480" y="3810240"/>
              <a:ext cx="7635600" cy="192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599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349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107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28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…0.000   0.000   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31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387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268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12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…0.000   0.000   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7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19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30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233       …0.000   0.000   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1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57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20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267       …0.001   0.000   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0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1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88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200       …0.006   0.000   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90600" y="3748320"/>
              <a:ext cx="366480" cy="1977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76920" y="3303720"/>
              <a:ext cx="400320" cy="459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04920" y="3276720"/>
              <a:ext cx="85341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04920" y="3810240"/>
              <a:ext cx="85341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990720" y="3276720"/>
              <a:ext cx="0" cy="2514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V="1">
              <a:off x="395280" y="5637960"/>
              <a:ext cx="8443800" cy="152280"/>
            </a:xfrm>
            <a:custGeom>
              <a:avLst/>
              <a:gdLst/>
              <a:ahLst/>
              <a:rect l="l" t="t" r="r" b="b"/>
              <a:pathLst>
                <a:path w="4444" h="73">
                  <a:moveTo>
                    <a:pt x="0" y="31"/>
                  </a:moveTo>
                  <a:cubicBezTo>
                    <a:pt x="73" y="17"/>
                    <a:pt x="146" y="10"/>
                    <a:pt x="220" y="3"/>
                  </a:cubicBezTo>
                  <a:cubicBezTo>
                    <a:pt x="313" y="7"/>
                    <a:pt x="436" y="0"/>
                    <a:pt x="531" y="31"/>
                  </a:cubicBezTo>
                  <a:cubicBezTo>
                    <a:pt x="892" y="23"/>
                    <a:pt x="1237" y="34"/>
                    <a:pt x="1600" y="40"/>
                  </a:cubicBezTo>
                  <a:cubicBezTo>
                    <a:pt x="1740" y="35"/>
                    <a:pt x="1881" y="22"/>
                    <a:pt x="2021" y="22"/>
                  </a:cubicBezTo>
                  <a:cubicBezTo>
                    <a:pt x="2207" y="22"/>
                    <a:pt x="2439" y="45"/>
                    <a:pt x="2615" y="49"/>
                  </a:cubicBezTo>
                  <a:cubicBezTo>
                    <a:pt x="2746" y="58"/>
                    <a:pt x="2881" y="73"/>
                    <a:pt x="3008" y="31"/>
                  </a:cubicBezTo>
                  <a:cubicBezTo>
                    <a:pt x="3477" y="43"/>
                    <a:pt x="3946" y="35"/>
                    <a:pt x="4416" y="40"/>
                  </a:cubicBezTo>
                  <a:cubicBezTo>
                    <a:pt x="4425" y="43"/>
                    <a:pt x="4444" y="49"/>
                    <a:pt x="4444" y="4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9" name=""/>
          <p:cNvGrpSpPr/>
          <p:nvPr/>
        </p:nvGrpSpPr>
        <p:grpSpPr>
          <a:xfrm>
            <a:off x="401760" y="4876920"/>
            <a:ext cx="360360" cy="459720"/>
            <a:chOff x="401760" y="4876920"/>
            <a:chExt cx="360360" cy="459720"/>
          </a:xfrm>
        </p:grpSpPr>
        <p:sp>
          <p:nvSpPr>
            <p:cNvPr id="2420" name=""/>
            <p:cNvSpPr/>
            <p:nvPr/>
          </p:nvSpPr>
          <p:spPr>
            <a:xfrm>
              <a:off x="417600" y="5002200"/>
              <a:ext cx="344520" cy="291960"/>
            </a:xfrm>
            <a:prstGeom prst="ellipse">
              <a:avLst/>
            </a:prstGeom>
            <a:noFill/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01760" y="4876920"/>
              <a:ext cx="333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2" name=""/>
          <p:cNvSpPr/>
          <p:nvPr/>
        </p:nvSpPr>
        <p:spPr>
          <a:xfrm>
            <a:off x="3048120" y="3809880"/>
            <a:ext cx="761760" cy="1447920"/>
          </a:xfrm>
          <a:prstGeom prst="rect">
            <a:avLst/>
          </a:prstGeom>
          <a:solidFill>
            <a:srgbClr val="e5b0e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143000" y="4952880"/>
            <a:ext cx="2666880" cy="304920"/>
          </a:xfrm>
          <a:prstGeom prst="rect">
            <a:avLst/>
          </a:prstGeom>
          <a:solidFill>
            <a:srgbClr val="e5b0e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971800" y="4876920"/>
            <a:ext cx="914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0.2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"/>
          <p:cNvSpPr/>
          <p:nvPr/>
        </p:nvSpPr>
        <p:spPr>
          <a:xfrm>
            <a:off x="2465640" y="130320"/>
            <a:ext cx="4231440" cy="642600"/>
          </a:xfrm>
          <a:prstGeom prst="rect">
            <a:avLst/>
          </a:prstGeom>
          <a:solidFill>
            <a:srgbClr val="e5b0ee"/>
          </a:soli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ernate Solutio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1531800" y="2666880"/>
            <a:ext cx="59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t least thre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unem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945440" y="914400"/>
            <a:ext cx="532116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5b0ee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Appendix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nomial Probabilit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1309320" y="1905120"/>
            <a:ext cx="6537960" cy="1066320"/>
            <a:chOff x="1309320" y="1905120"/>
            <a:chExt cx="6537960" cy="1066320"/>
          </a:xfrm>
        </p:grpSpPr>
        <p:pic>
          <p:nvPicPr>
            <p:cNvPr id="2429" name="NAVYBLUE" descr=""/>
            <p:cNvPicPr/>
            <p:nvPr/>
          </p:nvPicPr>
          <p:blipFill>
            <a:blip r:embed="rId1"/>
            <a:stretch/>
          </p:blipFill>
          <p:spPr>
            <a:xfrm>
              <a:off x="1752480" y="2228760"/>
              <a:ext cx="556272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0" name=""/>
            <p:cNvSpPr/>
            <p:nvPr/>
          </p:nvSpPr>
          <p:spPr>
            <a:xfrm>
              <a:off x="1309320" y="1905120"/>
              <a:ext cx="653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ATA: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20% Unemployed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ample of 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1" name=""/>
          <p:cNvSpPr/>
          <p:nvPr/>
        </p:nvSpPr>
        <p:spPr>
          <a:xfrm>
            <a:off x="1546200" y="3200400"/>
            <a:ext cx="605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ternate Reasoning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‘at least three are unemployed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it follows that                                    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i="1" lang="en-US" sz="3200" spc="-1" strike="noStrike" u="sng">
                <a:solidFill>
                  <a:srgbClr val="ff33cc"/>
                </a:solidFill>
                <a:uFillTx/>
                <a:latin typeface="Times New Roman"/>
              </a:rPr>
              <a:t>at most seven are employed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!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1752480" y="6172200"/>
            <a:ext cx="5638680" cy="456840"/>
            <a:chOff x="1752480" y="6172200"/>
            <a:chExt cx="5638680" cy="456840"/>
          </a:xfrm>
        </p:grpSpPr>
        <p:sp>
          <p:nvSpPr>
            <p:cNvPr id="2433" name=""/>
            <p:cNvSpPr/>
            <p:nvPr/>
          </p:nvSpPr>
          <p:spPr>
            <a:xfrm>
              <a:off x="1752480" y="6172200"/>
              <a:ext cx="5638680" cy="273240"/>
            </a:xfrm>
            <a:custGeom>
              <a:avLst/>
              <a:gdLst/>
              <a:ahLst/>
              <a:rect l="l" t="t" r="r" b="b"/>
              <a:pathLst>
                <a:path w="1952" h="367">
                  <a:moveTo>
                    <a:pt x="0" y="184"/>
                  </a:moveTo>
                  <a:lnTo>
                    <a:pt x="19" y="214"/>
                  </a:lnTo>
                  <a:lnTo>
                    <a:pt x="42" y="237"/>
                  </a:lnTo>
                  <a:lnTo>
                    <a:pt x="71" y="254"/>
                  </a:lnTo>
                  <a:lnTo>
                    <a:pt x="104" y="266"/>
                  </a:lnTo>
                  <a:lnTo>
                    <a:pt x="142" y="270"/>
                  </a:lnTo>
                  <a:lnTo>
                    <a:pt x="182" y="270"/>
                  </a:lnTo>
                  <a:lnTo>
                    <a:pt x="228" y="266"/>
                  </a:lnTo>
                  <a:lnTo>
                    <a:pt x="276" y="258"/>
                  </a:lnTo>
                  <a:lnTo>
                    <a:pt x="326" y="247"/>
                  </a:lnTo>
                  <a:lnTo>
                    <a:pt x="378" y="232"/>
                  </a:lnTo>
                  <a:lnTo>
                    <a:pt x="489" y="197"/>
                  </a:lnTo>
                  <a:lnTo>
                    <a:pt x="606" y="159"/>
                  </a:lnTo>
                  <a:lnTo>
                    <a:pt x="723" y="119"/>
                  </a:lnTo>
                  <a:lnTo>
                    <a:pt x="827" y="88"/>
                  </a:lnTo>
                  <a:lnTo>
                    <a:pt x="928" y="61"/>
                  </a:lnTo>
                  <a:lnTo>
                    <a:pt x="1026" y="40"/>
                  </a:lnTo>
                  <a:lnTo>
                    <a:pt x="1118" y="25"/>
                  </a:lnTo>
                  <a:lnTo>
                    <a:pt x="1204" y="11"/>
                  </a:lnTo>
                  <a:lnTo>
                    <a:pt x="1285" y="4"/>
                  </a:lnTo>
                  <a:lnTo>
                    <a:pt x="1356" y="0"/>
                  </a:lnTo>
                  <a:lnTo>
                    <a:pt x="1419" y="0"/>
                  </a:lnTo>
                  <a:lnTo>
                    <a:pt x="1463" y="4"/>
                  </a:lnTo>
                  <a:lnTo>
                    <a:pt x="1505" y="8"/>
                  </a:lnTo>
                  <a:lnTo>
                    <a:pt x="1546" y="13"/>
                  </a:lnTo>
                  <a:lnTo>
                    <a:pt x="1582" y="21"/>
                  </a:lnTo>
                  <a:lnTo>
                    <a:pt x="1651" y="40"/>
                  </a:lnTo>
                  <a:lnTo>
                    <a:pt x="1709" y="63"/>
                  </a:lnTo>
                  <a:lnTo>
                    <a:pt x="1760" y="88"/>
                  </a:lnTo>
                  <a:lnTo>
                    <a:pt x="1803" y="117"/>
                  </a:lnTo>
                  <a:lnTo>
                    <a:pt x="1839" y="147"/>
                  </a:lnTo>
                  <a:lnTo>
                    <a:pt x="1870" y="180"/>
                  </a:lnTo>
                  <a:lnTo>
                    <a:pt x="1895" y="210"/>
                  </a:lnTo>
                  <a:lnTo>
                    <a:pt x="1914" y="241"/>
                  </a:lnTo>
                  <a:lnTo>
                    <a:pt x="1927" y="270"/>
                  </a:lnTo>
                  <a:lnTo>
                    <a:pt x="1939" y="295"/>
                  </a:lnTo>
                  <a:lnTo>
                    <a:pt x="1944" y="318"/>
                  </a:lnTo>
                  <a:lnTo>
                    <a:pt x="1950" y="337"/>
                  </a:lnTo>
                  <a:lnTo>
                    <a:pt x="1952" y="350"/>
                  </a:lnTo>
                  <a:lnTo>
                    <a:pt x="1952" y="358"/>
                  </a:lnTo>
                  <a:lnTo>
                    <a:pt x="1931" y="306"/>
                  </a:lnTo>
                  <a:lnTo>
                    <a:pt x="1904" y="260"/>
                  </a:lnTo>
                  <a:lnTo>
                    <a:pt x="1874" y="220"/>
                  </a:lnTo>
                  <a:lnTo>
                    <a:pt x="1837" y="188"/>
                  </a:lnTo>
                  <a:lnTo>
                    <a:pt x="1799" y="161"/>
                  </a:lnTo>
                  <a:lnTo>
                    <a:pt x="1755" y="140"/>
                  </a:lnTo>
                  <a:lnTo>
                    <a:pt x="1709" y="122"/>
                  </a:lnTo>
                  <a:lnTo>
                    <a:pt x="1661" y="111"/>
                  </a:lnTo>
                  <a:lnTo>
                    <a:pt x="1607" y="103"/>
                  </a:lnTo>
                  <a:lnTo>
                    <a:pt x="1553" y="101"/>
                  </a:lnTo>
                  <a:lnTo>
                    <a:pt x="1496" y="101"/>
                  </a:lnTo>
                  <a:lnTo>
                    <a:pt x="1438" y="105"/>
                  </a:lnTo>
                  <a:lnTo>
                    <a:pt x="1377" y="113"/>
                  </a:lnTo>
                  <a:lnTo>
                    <a:pt x="1316" y="122"/>
                  </a:lnTo>
                  <a:lnTo>
                    <a:pt x="1191" y="149"/>
                  </a:lnTo>
                  <a:lnTo>
                    <a:pt x="1062" y="182"/>
                  </a:lnTo>
                  <a:lnTo>
                    <a:pt x="936" y="218"/>
                  </a:lnTo>
                  <a:lnTo>
                    <a:pt x="813" y="256"/>
                  </a:lnTo>
                  <a:lnTo>
                    <a:pt x="696" y="293"/>
                  </a:lnTo>
                  <a:lnTo>
                    <a:pt x="640" y="310"/>
                  </a:lnTo>
                  <a:lnTo>
                    <a:pt x="587" y="325"/>
                  </a:lnTo>
                  <a:lnTo>
                    <a:pt x="537" y="339"/>
                  </a:lnTo>
                  <a:lnTo>
                    <a:pt x="489" y="350"/>
                  </a:lnTo>
                  <a:lnTo>
                    <a:pt x="443" y="360"/>
                  </a:lnTo>
                  <a:lnTo>
                    <a:pt x="403" y="365"/>
                  </a:lnTo>
                  <a:lnTo>
                    <a:pt x="364" y="367"/>
                  </a:lnTo>
                  <a:lnTo>
                    <a:pt x="332" y="367"/>
                  </a:lnTo>
                  <a:lnTo>
                    <a:pt x="272" y="362"/>
                  </a:lnTo>
                  <a:lnTo>
                    <a:pt x="222" y="352"/>
                  </a:lnTo>
                  <a:lnTo>
                    <a:pt x="178" y="341"/>
                  </a:lnTo>
                  <a:lnTo>
                    <a:pt x="140" y="329"/>
                  </a:lnTo>
                  <a:lnTo>
                    <a:pt x="107" y="314"/>
                  </a:lnTo>
                  <a:lnTo>
                    <a:pt x="81" y="298"/>
                  </a:lnTo>
                  <a:lnTo>
                    <a:pt x="59" y="283"/>
                  </a:lnTo>
                  <a:lnTo>
                    <a:pt x="42" y="266"/>
                  </a:lnTo>
                  <a:lnTo>
                    <a:pt x="29" y="251"/>
                  </a:lnTo>
                  <a:lnTo>
                    <a:pt x="19" y="235"/>
                  </a:lnTo>
                  <a:lnTo>
                    <a:pt x="12" y="222"/>
                  </a:lnTo>
                  <a:lnTo>
                    <a:pt x="6" y="209"/>
                  </a:lnTo>
                  <a:lnTo>
                    <a:pt x="4" y="199"/>
                  </a:lnTo>
                  <a:lnTo>
                    <a:pt x="2" y="191"/>
                  </a:lnTo>
                  <a:lnTo>
                    <a:pt x="2" y="184"/>
                  </a:lnTo>
                  <a:lnTo>
                    <a:pt x="0" y="184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fecaeb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018160" y="6312600"/>
              <a:ext cx="4950720" cy="316440"/>
            </a:xfrm>
            <a:custGeom>
              <a:avLst/>
              <a:gdLst/>
              <a:ahLst/>
              <a:rect l="l" t="t" r="r" b="b"/>
              <a:pathLst>
                <a:path w="1714" h="425">
                  <a:moveTo>
                    <a:pt x="0" y="167"/>
                  </a:moveTo>
                  <a:lnTo>
                    <a:pt x="0" y="169"/>
                  </a:lnTo>
                  <a:lnTo>
                    <a:pt x="4" y="173"/>
                  </a:lnTo>
                  <a:lnTo>
                    <a:pt x="10" y="180"/>
                  </a:lnTo>
                  <a:lnTo>
                    <a:pt x="19" y="188"/>
                  </a:lnTo>
                  <a:lnTo>
                    <a:pt x="33" y="197"/>
                  </a:lnTo>
                  <a:lnTo>
                    <a:pt x="50" y="209"/>
                  </a:lnTo>
                  <a:lnTo>
                    <a:pt x="73" y="219"/>
                  </a:lnTo>
                  <a:lnTo>
                    <a:pt x="102" y="228"/>
                  </a:lnTo>
                  <a:lnTo>
                    <a:pt x="136" y="236"/>
                  </a:lnTo>
                  <a:lnTo>
                    <a:pt x="178" y="241"/>
                  </a:lnTo>
                  <a:lnTo>
                    <a:pt x="228" y="243"/>
                  </a:lnTo>
                  <a:lnTo>
                    <a:pt x="286" y="243"/>
                  </a:lnTo>
                  <a:lnTo>
                    <a:pt x="353" y="240"/>
                  </a:lnTo>
                  <a:lnTo>
                    <a:pt x="389" y="236"/>
                  </a:lnTo>
                  <a:lnTo>
                    <a:pt x="430" y="230"/>
                  </a:lnTo>
                  <a:lnTo>
                    <a:pt x="472" y="224"/>
                  </a:lnTo>
                  <a:lnTo>
                    <a:pt x="516" y="217"/>
                  </a:lnTo>
                  <a:lnTo>
                    <a:pt x="562" y="207"/>
                  </a:lnTo>
                  <a:lnTo>
                    <a:pt x="612" y="197"/>
                  </a:lnTo>
                  <a:lnTo>
                    <a:pt x="702" y="175"/>
                  </a:lnTo>
                  <a:lnTo>
                    <a:pt x="798" y="146"/>
                  </a:lnTo>
                  <a:lnTo>
                    <a:pt x="898" y="113"/>
                  </a:lnTo>
                  <a:lnTo>
                    <a:pt x="999" y="79"/>
                  </a:lnTo>
                  <a:lnTo>
                    <a:pt x="1105" y="48"/>
                  </a:lnTo>
                  <a:lnTo>
                    <a:pt x="1212" y="21"/>
                  </a:lnTo>
                  <a:lnTo>
                    <a:pt x="1319" y="6"/>
                  </a:lnTo>
                  <a:lnTo>
                    <a:pt x="1373" y="0"/>
                  </a:lnTo>
                  <a:lnTo>
                    <a:pt x="1427" y="0"/>
                  </a:lnTo>
                  <a:lnTo>
                    <a:pt x="1459" y="2"/>
                  </a:lnTo>
                  <a:lnTo>
                    <a:pt x="1490" y="8"/>
                  </a:lnTo>
                  <a:lnTo>
                    <a:pt x="1548" y="25"/>
                  </a:lnTo>
                  <a:lnTo>
                    <a:pt x="1596" y="48"/>
                  </a:lnTo>
                  <a:lnTo>
                    <a:pt x="1636" y="77"/>
                  </a:lnTo>
                  <a:lnTo>
                    <a:pt x="1668" y="108"/>
                  </a:lnTo>
                  <a:lnTo>
                    <a:pt x="1693" y="140"/>
                  </a:lnTo>
                  <a:lnTo>
                    <a:pt x="1709" y="171"/>
                  </a:lnTo>
                  <a:lnTo>
                    <a:pt x="1714" y="199"/>
                  </a:lnTo>
                  <a:lnTo>
                    <a:pt x="1711" y="228"/>
                  </a:lnTo>
                  <a:lnTo>
                    <a:pt x="1699" y="263"/>
                  </a:lnTo>
                  <a:lnTo>
                    <a:pt x="1678" y="299"/>
                  </a:lnTo>
                  <a:lnTo>
                    <a:pt x="1665" y="318"/>
                  </a:lnTo>
                  <a:lnTo>
                    <a:pt x="1647" y="337"/>
                  </a:lnTo>
                  <a:lnTo>
                    <a:pt x="1628" y="354"/>
                  </a:lnTo>
                  <a:lnTo>
                    <a:pt x="1605" y="372"/>
                  </a:lnTo>
                  <a:lnTo>
                    <a:pt x="1580" y="385"/>
                  </a:lnTo>
                  <a:lnTo>
                    <a:pt x="1551" y="398"/>
                  </a:lnTo>
                  <a:lnTo>
                    <a:pt x="1519" y="410"/>
                  </a:lnTo>
                  <a:lnTo>
                    <a:pt x="1480" y="418"/>
                  </a:lnTo>
                  <a:lnTo>
                    <a:pt x="1440" y="423"/>
                  </a:lnTo>
                  <a:lnTo>
                    <a:pt x="1396" y="425"/>
                  </a:lnTo>
                  <a:lnTo>
                    <a:pt x="1350" y="425"/>
                  </a:lnTo>
                  <a:lnTo>
                    <a:pt x="1310" y="421"/>
                  </a:lnTo>
                  <a:lnTo>
                    <a:pt x="1273" y="416"/>
                  </a:lnTo>
                  <a:lnTo>
                    <a:pt x="1239" y="406"/>
                  </a:lnTo>
                  <a:lnTo>
                    <a:pt x="1208" y="396"/>
                  </a:lnTo>
                  <a:lnTo>
                    <a:pt x="1181" y="385"/>
                  </a:lnTo>
                  <a:lnTo>
                    <a:pt x="1158" y="374"/>
                  </a:lnTo>
                  <a:lnTo>
                    <a:pt x="1137" y="360"/>
                  </a:lnTo>
                  <a:lnTo>
                    <a:pt x="1107" y="333"/>
                  </a:lnTo>
                  <a:lnTo>
                    <a:pt x="1084" y="307"/>
                  </a:lnTo>
                  <a:lnTo>
                    <a:pt x="1072" y="284"/>
                  </a:lnTo>
                  <a:lnTo>
                    <a:pt x="1068" y="266"/>
                  </a:lnTo>
                  <a:lnTo>
                    <a:pt x="1076" y="278"/>
                  </a:lnTo>
                  <a:lnTo>
                    <a:pt x="1085" y="289"/>
                  </a:lnTo>
                  <a:lnTo>
                    <a:pt x="1112" y="307"/>
                  </a:lnTo>
                  <a:lnTo>
                    <a:pt x="1147" y="320"/>
                  </a:lnTo>
                  <a:lnTo>
                    <a:pt x="1189" y="331"/>
                  </a:lnTo>
                  <a:lnTo>
                    <a:pt x="1237" y="339"/>
                  </a:lnTo>
                  <a:lnTo>
                    <a:pt x="1287" y="345"/>
                  </a:lnTo>
                  <a:lnTo>
                    <a:pt x="1390" y="347"/>
                  </a:lnTo>
                  <a:lnTo>
                    <a:pt x="1446" y="343"/>
                  </a:lnTo>
                  <a:lnTo>
                    <a:pt x="1502" y="335"/>
                  </a:lnTo>
                  <a:lnTo>
                    <a:pt x="1551" y="324"/>
                  </a:lnTo>
                  <a:lnTo>
                    <a:pt x="1597" y="307"/>
                  </a:lnTo>
                  <a:lnTo>
                    <a:pt x="1636" y="287"/>
                  </a:lnTo>
                  <a:lnTo>
                    <a:pt x="1651" y="274"/>
                  </a:lnTo>
                  <a:lnTo>
                    <a:pt x="1674" y="247"/>
                  </a:lnTo>
                  <a:lnTo>
                    <a:pt x="1680" y="232"/>
                  </a:lnTo>
                  <a:lnTo>
                    <a:pt x="1684" y="215"/>
                  </a:lnTo>
                  <a:lnTo>
                    <a:pt x="1684" y="197"/>
                  </a:lnTo>
                  <a:lnTo>
                    <a:pt x="1674" y="165"/>
                  </a:lnTo>
                  <a:lnTo>
                    <a:pt x="1659" y="140"/>
                  </a:lnTo>
                  <a:lnTo>
                    <a:pt x="1636" y="121"/>
                  </a:lnTo>
                  <a:lnTo>
                    <a:pt x="1605" y="108"/>
                  </a:lnTo>
                  <a:lnTo>
                    <a:pt x="1569" y="98"/>
                  </a:lnTo>
                  <a:lnTo>
                    <a:pt x="1523" y="94"/>
                  </a:lnTo>
                  <a:lnTo>
                    <a:pt x="1471" y="96"/>
                  </a:lnTo>
                  <a:lnTo>
                    <a:pt x="1410" y="102"/>
                  </a:lnTo>
                  <a:lnTo>
                    <a:pt x="1375" y="108"/>
                  </a:lnTo>
                  <a:lnTo>
                    <a:pt x="1335" y="117"/>
                  </a:lnTo>
                  <a:lnTo>
                    <a:pt x="1293" y="131"/>
                  </a:lnTo>
                  <a:lnTo>
                    <a:pt x="1247" y="144"/>
                  </a:lnTo>
                  <a:lnTo>
                    <a:pt x="1199" y="161"/>
                  </a:lnTo>
                  <a:lnTo>
                    <a:pt x="1149" y="178"/>
                  </a:lnTo>
                  <a:lnTo>
                    <a:pt x="1097" y="196"/>
                  </a:lnTo>
                  <a:lnTo>
                    <a:pt x="1045" y="215"/>
                  </a:lnTo>
                  <a:lnTo>
                    <a:pt x="938" y="253"/>
                  </a:lnTo>
                  <a:lnTo>
                    <a:pt x="830" y="287"/>
                  </a:lnTo>
                  <a:lnTo>
                    <a:pt x="729" y="316"/>
                  </a:lnTo>
                  <a:lnTo>
                    <a:pt x="681" y="328"/>
                  </a:lnTo>
                  <a:lnTo>
                    <a:pt x="635" y="335"/>
                  </a:lnTo>
                  <a:lnTo>
                    <a:pt x="552" y="345"/>
                  </a:lnTo>
                  <a:lnTo>
                    <a:pt x="476" y="349"/>
                  </a:lnTo>
                  <a:lnTo>
                    <a:pt x="407" y="349"/>
                  </a:lnTo>
                  <a:lnTo>
                    <a:pt x="343" y="343"/>
                  </a:lnTo>
                  <a:lnTo>
                    <a:pt x="286" y="333"/>
                  </a:lnTo>
                  <a:lnTo>
                    <a:pt x="234" y="322"/>
                  </a:lnTo>
                  <a:lnTo>
                    <a:pt x="190" y="307"/>
                  </a:lnTo>
                  <a:lnTo>
                    <a:pt x="150" y="291"/>
                  </a:lnTo>
                  <a:lnTo>
                    <a:pt x="115" y="274"/>
                  </a:lnTo>
                  <a:lnTo>
                    <a:pt x="84" y="255"/>
                  </a:lnTo>
                  <a:lnTo>
                    <a:pt x="59" y="238"/>
                  </a:lnTo>
                  <a:lnTo>
                    <a:pt x="40" y="220"/>
                  </a:lnTo>
                  <a:lnTo>
                    <a:pt x="23" y="203"/>
                  </a:lnTo>
                  <a:lnTo>
                    <a:pt x="12" y="190"/>
                  </a:lnTo>
                  <a:lnTo>
                    <a:pt x="4" y="178"/>
                  </a:lnTo>
                  <a:lnTo>
                    <a:pt x="0" y="171"/>
                  </a:lnTo>
                  <a:lnTo>
                    <a:pt x="0" y="167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fecaeb"/>
                </a:gs>
              </a:gsLst>
              <a:lin ang="54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5" name=""/>
          <p:cNvSpPr/>
          <p:nvPr/>
        </p:nvSpPr>
        <p:spPr>
          <a:xfrm>
            <a:off x="1828800" y="51814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turn this into a problem of   </a:t>
            </a:r>
            <a:r>
              <a:rPr b="1" i="1" lang="en-US" sz="2800" spc="-1" strike="noStrike">
                <a:solidFill>
                  <a:srgbClr val="ff33cc"/>
                </a:solidFill>
                <a:latin typeface="Times New Roman"/>
              </a:rPr>
              <a:t>80% employ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you w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6" name=""/>
          <p:cNvGrpSpPr/>
          <p:nvPr/>
        </p:nvGrpSpPr>
        <p:grpSpPr>
          <a:xfrm>
            <a:off x="5245920" y="5105520"/>
            <a:ext cx="3212280" cy="457200"/>
            <a:chOff x="5245920" y="5105520"/>
            <a:chExt cx="3212280" cy="457200"/>
          </a:xfrm>
        </p:grpSpPr>
        <p:sp>
          <p:nvSpPr>
            <p:cNvPr id="2437" name=""/>
            <p:cNvSpPr/>
            <p:nvPr/>
          </p:nvSpPr>
          <p:spPr>
            <a:xfrm>
              <a:off x="7134120" y="5105520"/>
              <a:ext cx="1324080" cy="457200"/>
            </a:xfrm>
            <a:prstGeom prst="rect">
              <a:avLst/>
            </a:prstGeom>
            <a:gradFill rotWithShape="0">
              <a:gsLst>
                <a:gs pos="0">
                  <a:srgbClr val="82c1fa"/>
                </a:gs>
                <a:gs pos="50000">
                  <a:srgbClr val="fefefe"/>
                </a:gs>
                <a:gs pos="100000">
                  <a:srgbClr val="82c1fa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68321" dir="671817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691240" y="5105520"/>
              <a:ext cx="2646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322  or    32.2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245920" y="5105520"/>
              <a:ext cx="46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0" name=""/>
          <p:cNvSpPr/>
          <p:nvPr/>
        </p:nvSpPr>
        <p:spPr>
          <a:xfrm>
            <a:off x="1208520" y="236232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At least thre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r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unemplo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1" name=""/>
          <p:cNvGrpSpPr/>
          <p:nvPr/>
        </p:nvGrpSpPr>
        <p:grpSpPr>
          <a:xfrm>
            <a:off x="65160" y="2895480"/>
            <a:ext cx="2830320" cy="6014520"/>
            <a:chOff x="65160" y="2895480"/>
            <a:chExt cx="2830320" cy="6014520"/>
          </a:xfrm>
        </p:grpSpPr>
        <p:sp>
          <p:nvSpPr>
            <p:cNvPr id="2442" name=""/>
            <p:cNvSpPr/>
            <p:nvPr/>
          </p:nvSpPr>
          <p:spPr>
            <a:xfrm>
              <a:off x="101520" y="3300480"/>
              <a:ext cx="507960" cy="34480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5160" y="2895480"/>
              <a:ext cx="544320" cy="398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33520" y="3327480"/>
              <a:ext cx="2361960" cy="55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599   0.349   0.107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315   0.387   0.268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75   0.194   0.302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10   0.057   0.201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1   0.011   0.088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1   0.026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0   0.006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0   0.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0   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0   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971800"/>
                  <a:tab algn="l" pos="3714840"/>
                  <a:tab algn="l" pos="4457880"/>
                  <a:tab algn="l" pos="5257800"/>
                  <a:tab algn="l" pos="6000840"/>
                  <a:tab algn="l" pos="6743880"/>
                  <a:tab algn="l" pos="742968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 0.000   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33520" y="2895480"/>
              <a:ext cx="23619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0.05     0.10     0.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6320" y="2895480"/>
              <a:ext cx="2819160" cy="4572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7" name=""/>
          <p:cNvSpPr/>
          <p:nvPr/>
        </p:nvSpPr>
        <p:spPr>
          <a:xfrm>
            <a:off x="2971800" y="3013200"/>
            <a:ext cx="57913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account for the ‘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leas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3 unemployed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        we must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OTAL the percentag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from 3 to 10, inclus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057400" y="4267080"/>
            <a:ext cx="762120" cy="2438640"/>
          </a:xfrm>
          <a:prstGeom prst="rect">
            <a:avLst/>
          </a:prstGeom>
          <a:solidFill>
            <a:srgbClr val="82c1f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9" name=""/>
          <p:cNvGrpSpPr/>
          <p:nvPr/>
        </p:nvGrpSpPr>
        <p:grpSpPr>
          <a:xfrm>
            <a:off x="2882520" y="4087800"/>
            <a:ext cx="2273760" cy="2533320"/>
            <a:chOff x="2882520" y="4087800"/>
            <a:chExt cx="2273760" cy="2533320"/>
          </a:xfrm>
        </p:grpSpPr>
        <p:sp>
          <p:nvSpPr>
            <p:cNvPr id="2450" name=""/>
            <p:cNvSpPr/>
            <p:nvPr/>
          </p:nvSpPr>
          <p:spPr>
            <a:xfrm flipV="1" rot="5440800">
              <a:off x="2476080" y="4685760"/>
              <a:ext cx="2210040" cy="1371600"/>
            </a:xfrm>
            <a:prstGeom prst="parallelogram">
              <a:avLst>
                <a:gd name="adj" fmla="val 16948"/>
              </a:avLst>
            </a:prstGeom>
            <a:solidFill>
              <a:srgbClr val="82c1f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143240" y="4087800"/>
              <a:ext cx="1013040" cy="2533320"/>
            </a:xfrm>
            <a:prstGeom prst="rect">
              <a:avLst/>
            </a:prstGeom>
            <a:solidFill>
              <a:srgbClr val="82c1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2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8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2" name=""/>
          <p:cNvSpPr/>
          <p:nvPr/>
        </p:nvSpPr>
        <p:spPr>
          <a:xfrm>
            <a:off x="1945440" y="730080"/>
            <a:ext cx="532116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5b0ee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Appendix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nomial Probabilit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3" name=""/>
          <p:cNvGrpSpPr/>
          <p:nvPr/>
        </p:nvGrpSpPr>
        <p:grpSpPr>
          <a:xfrm>
            <a:off x="1309320" y="1720800"/>
            <a:ext cx="6537960" cy="1066320"/>
            <a:chOff x="1309320" y="1720800"/>
            <a:chExt cx="6537960" cy="1066320"/>
          </a:xfrm>
        </p:grpSpPr>
        <p:pic>
          <p:nvPicPr>
            <p:cNvPr id="2454" name="NAVYBLUE" descr=""/>
            <p:cNvPicPr/>
            <p:nvPr/>
          </p:nvPicPr>
          <p:blipFill>
            <a:blip r:embed="rId1"/>
            <a:stretch/>
          </p:blipFill>
          <p:spPr>
            <a:xfrm>
              <a:off x="1752480" y="2044440"/>
              <a:ext cx="556272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5" name=""/>
            <p:cNvSpPr/>
            <p:nvPr/>
          </p:nvSpPr>
          <p:spPr>
            <a:xfrm>
              <a:off x="1309320" y="1720800"/>
              <a:ext cx="653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ATA: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20% Unemployed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ample of 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6" name=""/>
          <p:cNvSpPr/>
          <p:nvPr/>
        </p:nvSpPr>
        <p:spPr>
          <a:xfrm>
            <a:off x="2913480" y="228600"/>
            <a:ext cx="3332520" cy="520560"/>
          </a:xfrm>
          <a:prstGeom prst="rect">
            <a:avLst/>
          </a:prstGeom>
          <a:solidFill>
            <a:srgbClr val="e5b0ee"/>
          </a:soli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ternate Solutio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7" name=""/>
          <p:cNvGrpSpPr/>
          <p:nvPr/>
        </p:nvGrpSpPr>
        <p:grpSpPr>
          <a:xfrm>
            <a:off x="304920" y="3276720"/>
            <a:ext cx="8534160" cy="2514600"/>
            <a:chOff x="304920" y="3276720"/>
            <a:chExt cx="8534160" cy="2514600"/>
          </a:xfrm>
        </p:grpSpPr>
        <p:sp>
          <p:nvSpPr>
            <p:cNvPr id="2458" name=""/>
            <p:cNvSpPr/>
            <p:nvPr/>
          </p:nvSpPr>
          <p:spPr>
            <a:xfrm>
              <a:off x="1066680" y="3383280"/>
              <a:ext cx="77724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.05     0.10      0.20    0.30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     …0.80      0.90     0.9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203480" y="3810240"/>
              <a:ext cx="7635600" cy="192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599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349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107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28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…0.000   0.000   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31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387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268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12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…0.000   0.000   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7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19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30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233       …0.000   0.000   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1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57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20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267       …0.001   0.000   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0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1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88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200       …0.006   0.000   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90600" y="3748320"/>
              <a:ext cx="366480" cy="1977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76920" y="3303720"/>
              <a:ext cx="400320" cy="4597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04920" y="3276720"/>
              <a:ext cx="85341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04920" y="3810240"/>
              <a:ext cx="85341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990720" y="3276720"/>
              <a:ext cx="0" cy="25146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395280" y="5637960"/>
              <a:ext cx="8443800" cy="152280"/>
            </a:xfrm>
            <a:custGeom>
              <a:avLst/>
              <a:gdLst/>
              <a:ahLst/>
              <a:rect l="l" t="t" r="r" b="b"/>
              <a:pathLst>
                <a:path w="4444" h="73">
                  <a:moveTo>
                    <a:pt x="0" y="31"/>
                  </a:moveTo>
                  <a:cubicBezTo>
                    <a:pt x="73" y="17"/>
                    <a:pt x="146" y="10"/>
                    <a:pt x="220" y="3"/>
                  </a:cubicBezTo>
                  <a:cubicBezTo>
                    <a:pt x="313" y="7"/>
                    <a:pt x="436" y="0"/>
                    <a:pt x="531" y="31"/>
                  </a:cubicBezTo>
                  <a:cubicBezTo>
                    <a:pt x="892" y="23"/>
                    <a:pt x="1237" y="34"/>
                    <a:pt x="1600" y="40"/>
                  </a:cubicBezTo>
                  <a:cubicBezTo>
                    <a:pt x="1740" y="35"/>
                    <a:pt x="1881" y="22"/>
                    <a:pt x="2021" y="22"/>
                  </a:cubicBezTo>
                  <a:cubicBezTo>
                    <a:pt x="2207" y="22"/>
                    <a:pt x="2439" y="45"/>
                    <a:pt x="2615" y="49"/>
                  </a:cubicBezTo>
                  <a:cubicBezTo>
                    <a:pt x="2746" y="58"/>
                    <a:pt x="2881" y="73"/>
                    <a:pt x="3008" y="31"/>
                  </a:cubicBezTo>
                  <a:cubicBezTo>
                    <a:pt x="3477" y="43"/>
                    <a:pt x="3946" y="35"/>
                    <a:pt x="4416" y="40"/>
                  </a:cubicBezTo>
                  <a:cubicBezTo>
                    <a:pt x="4425" y="43"/>
                    <a:pt x="4444" y="49"/>
                    <a:pt x="4444" y="4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6" name=""/>
          <p:cNvSpPr/>
          <p:nvPr/>
        </p:nvSpPr>
        <p:spPr>
          <a:xfrm>
            <a:off x="2465640" y="130320"/>
            <a:ext cx="4231440" cy="642600"/>
          </a:xfrm>
          <a:prstGeom prst="rect">
            <a:avLst/>
          </a:prstGeom>
          <a:solidFill>
            <a:srgbClr val="e5b0ee"/>
          </a:soli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ernate Solutio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1302840" y="1905120"/>
            <a:ext cx="6537960" cy="1066320"/>
            <a:chOff x="1302840" y="1905120"/>
            <a:chExt cx="6537960" cy="1066320"/>
          </a:xfrm>
        </p:grpSpPr>
        <p:pic>
          <p:nvPicPr>
            <p:cNvPr id="2468" name="NAVYBLUE" descr=""/>
            <p:cNvPicPr/>
            <p:nvPr/>
          </p:nvPicPr>
          <p:blipFill>
            <a:blip r:embed="rId1"/>
            <a:stretch/>
          </p:blipFill>
          <p:spPr>
            <a:xfrm>
              <a:off x="1746000" y="2228760"/>
              <a:ext cx="556236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9" name=""/>
            <p:cNvSpPr/>
            <p:nvPr/>
          </p:nvSpPr>
          <p:spPr>
            <a:xfrm>
              <a:off x="1302840" y="1905120"/>
              <a:ext cx="653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ATA: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20% Unemployed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ample of 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0" name=""/>
          <p:cNvSpPr/>
          <p:nvPr/>
        </p:nvSpPr>
        <p:spPr>
          <a:xfrm>
            <a:off x="2206800" y="2697120"/>
            <a:ext cx="47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N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nem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1" name=""/>
          <p:cNvGrpSpPr/>
          <p:nvPr/>
        </p:nvGrpSpPr>
        <p:grpSpPr>
          <a:xfrm>
            <a:off x="3000960" y="5867280"/>
            <a:ext cx="3039480" cy="501480"/>
            <a:chOff x="3000960" y="5867280"/>
            <a:chExt cx="3039480" cy="501480"/>
          </a:xfrm>
        </p:grpSpPr>
        <p:sp>
          <p:nvSpPr>
            <p:cNvPr id="2472" name=""/>
            <p:cNvSpPr/>
            <p:nvPr/>
          </p:nvSpPr>
          <p:spPr>
            <a:xfrm>
              <a:off x="4821120" y="5911560"/>
              <a:ext cx="1219320" cy="45720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fefefe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68321" dir="671817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479040" y="5911560"/>
              <a:ext cx="2486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.107 or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.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000960" y="586728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5" name=""/>
          <p:cNvGrpSpPr/>
          <p:nvPr/>
        </p:nvGrpSpPr>
        <p:grpSpPr>
          <a:xfrm>
            <a:off x="382680" y="3809880"/>
            <a:ext cx="360360" cy="459720"/>
            <a:chOff x="382680" y="3809880"/>
            <a:chExt cx="360360" cy="459720"/>
          </a:xfrm>
        </p:grpSpPr>
        <p:sp>
          <p:nvSpPr>
            <p:cNvPr id="2476" name=""/>
            <p:cNvSpPr/>
            <p:nvPr/>
          </p:nvSpPr>
          <p:spPr>
            <a:xfrm>
              <a:off x="398520" y="3879720"/>
              <a:ext cx="344520" cy="341280"/>
            </a:xfrm>
            <a:prstGeom prst="ellipse">
              <a:avLst/>
            </a:prstGeom>
            <a:noFill/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82680" y="3809880"/>
              <a:ext cx="333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8" name=""/>
          <p:cNvSpPr/>
          <p:nvPr/>
        </p:nvSpPr>
        <p:spPr>
          <a:xfrm>
            <a:off x="3048120" y="3886200"/>
            <a:ext cx="838080" cy="304920"/>
          </a:xfrm>
          <a:prstGeom prst="rect">
            <a:avLst/>
          </a:prstGeom>
          <a:solidFill>
            <a:srgbClr val="e5b0e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1143000" y="3886200"/>
            <a:ext cx="2743200" cy="304920"/>
          </a:xfrm>
          <a:prstGeom prst="rect">
            <a:avLst/>
          </a:prstGeom>
          <a:solidFill>
            <a:srgbClr val="00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9718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0.1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945440" y="914400"/>
            <a:ext cx="532116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5b0ee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Appendix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nomial Probabilit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448000" y="166680"/>
            <a:ext cx="4245840" cy="1434600"/>
            <a:chOff x="2448000" y="166680"/>
            <a:chExt cx="4245840" cy="1434600"/>
          </a:xfrm>
        </p:grpSpPr>
        <p:sp>
          <p:nvSpPr>
            <p:cNvPr id="66" name=""/>
            <p:cNvSpPr/>
            <p:nvPr/>
          </p:nvSpPr>
          <p:spPr>
            <a:xfrm>
              <a:off x="2448000" y="279360"/>
              <a:ext cx="838080" cy="121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53040" y="166680"/>
              <a:ext cx="4240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2920" y="1600200"/>
            <a:ext cx="36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R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ndom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V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438280"/>
            <a:ext cx="6248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62651" dir="8482788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numerical value determined by the outcome of an experi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3240" y="3581280"/>
            <a:ext cx="48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obability </a:t>
            </a:r>
            <a:r>
              <a:rPr b="1" lang="en-US" sz="3600" spc="-1" strike="noStrike" u="sng">
                <a:solidFill>
                  <a:srgbClr val="0066ff"/>
                </a:solidFill>
                <a:uFillTx/>
                <a:latin typeface="Times New Roman"/>
              </a:rPr>
              <a:t>D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4267080"/>
            <a:ext cx="6400800" cy="137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009" dir="7893982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listing of </a:t>
            </a:r>
            <a:r>
              <a:rPr b="1" i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all possible outcom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of an experiment                                   and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rresponding probabil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"/>
          <p:cNvSpPr/>
          <p:nvPr/>
        </p:nvSpPr>
        <p:spPr>
          <a:xfrm>
            <a:off x="2465640" y="130320"/>
            <a:ext cx="4231440" cy="642600"/>
          </a:xfrm>
          <a:prstGeom prst="rect">
            <a:avLst/>
          </a:prstGeom>
          <a:solidFill>
            <a:srgbClr val="e5b0ee"/>
          </a:soli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ernate Solutio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3" name=""/>
          <p:cNvGrpSpPr/>
          <p:nvPr/>
        </p:nvGrpSpPr>
        <p:grpSpPr>
          <a:xfrm>
            <a:off x="1302840" y="1905120"/>
            <a:ext cx="6537960" cy="1066320"/>
            <a:chOff x="1302840" y="1905120"/>
            <a:chExt cx="6537960" cy="1066320"/>
          </a:xfrm>
        </p:grpSpPr>
        <p:pic>
          <p:nvPicPr>
            <p:cNvPr id="2484" name="NAVYBLUE" descr=""/>
            <p:cNvPicPr/>
            <p:nvPr/>
          </p:nvPicPr>
          <p:blipFill>
            <a:blip r:embed="rId1"/>
            <a:stretch/>
          </p:blipFill>
          <p:spPr>
            <a:xfrm>
              <a:off x="1746000" y="2228760"/>
              <a:ext cx="556236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5" name=""/>
            <p:cNvSpPr/>
            <p:nvPr/>
          </p:nvSpPr>
          <p:spPr>
            <a:xfrm>
              <a:off x="1302840" y="1905120"/>
              <a:ext cx="653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ATA: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20% Unemployed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amp;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ample of 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6" name=""/>
          <p:cNvSpPr/>
          <p:nvPr/>
        </p:nvSpPr>
        <p:spPr>
          <a:xfrm>
            <a:off x="4191120" y="27576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t least one</a:t>
            </a:r>
            <a:r>
              <a:rPr b="1" i="1" lang="en-U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nempl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7" name=""/>
          <p:cNvGrpSpPr/>
          <p:nvPr/>
        </p:nvGrpSpPr>
        <p:grpSpPr>
          <a:xfrm>
            <a:off x="4815000" y="4662360"/>
            <a:ext cx="3185640" cy="520560"/>
            <a:chOff x="4815000" y="4662360"/>
            <a:chExt cx="3185640" cy="520560"/>
          </a:xfrm>
        </p:grpSpPr>
        <p:sp>
          <p:nvSpPr>
            <p:cNvPr id="2488" name=""/>
            <p:cNvSpPr/>
            <p:nvPr/>
          </p:nvSpPr>
          <p:spPr>
            <a:xfrm>
              <a:off x="4815000" y="4662360"/>
              <a:ext cx="151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.89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476760" y="4662360"/>
              <a:ext cx="1523880" cy="5205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efefe"/>
                </a:gs>
                <a:gs pos="100000">
                  <a:srgbClr val="ff3300"/>
                </a:gs>
              </a:gsLst>
              <a:lin ang="135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89.2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0" name=""/>
          <p:cNvGrpSpPr/>
          <p:nvPr/>
        </p:nvGrpSpPr>
        <p:grpSpPr>
          <a:xfrm>
            <a:off x="152280" y="2803680"/>
            <a:ext cx="2971800" cy="5725080"/>
            <a:chOff x="152280" y="2803680"/>
            <a:chExt cx="2971800" cy="5725080"/>
          </a:xfrm>
        </p:grpSpPr>
        <p:grpSp>
          <p:nvGrpSpPr>
            <p:cNvPr id="2491" name=""/>
            <p:cNvGrpSpPr/>
            <p:nvPr/>
          </p:nvGrpSpPr>
          <p:grpSpPr>
            <a:xfrm>
              <a:off x="152280" y="2803680"/>
              <a:ext cx="2971800" cy="5725080"/>
              <a:chOff x="152280" y="2803680"/>
              <a:chExt cx="2971800" cy="5725080"/>
            </a:xfrm>
          </p:grpSpPr>
          <p:sp>
            <p:nvSpPr>
              <p:cNvPr id="2492" name=""/>
              <p:cNvSpPr/>
              <p:nvPr/>
            </p:nvSpPr>
            <p:spPr>
              <a:xfrm>
                <a:off x="609480" y="2803680"/>
                <a:ext cx="2514600" cy="398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0.05     0.10     0.2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09480" y="3251160"/>
                <a:ext cx="2514600" cy="5277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2971800"/>
                    <a:tab algn="l" pos="3714840"/>
                    <a:tab algn="l" pos="4457880"/>
                    <a:tab algn="l" pos="5257800"/>
                    <a:tab algn="l" pos="6000840"/>
                    <a:tab algn="l" pos="6743880"/>
                    <a:tab algn="l" pos="742968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599   0.349   0.107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2971800"/>
                    <a:tab algn="l" pos="3714840"/>
                    <a:tab algn="l" pos="4457880"/>
                    <a:tab algn="l" pos="5257800"/>
                    <a:tab algn="l" pos="6000840"/>
                    <a:tab algn="l" pos="6743880"/>
                    <a:tab algn="l" pos="742968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315   0.387   0.268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2971800"/>
                    <a:tab algn="l" pos="3714840"/>
                    <a:tab algn="l" pos="4457880"/>
                    <a:tab algn="l" pos="5257800"/>
                    <a:tab algn="l" pos="6000840"/>
                    <a:tab algn="l" pos="6743880"/>
                    <a:tab algn="l" pos="742968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075   0.194   0.302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2971800"/>
                    <a:tab algn="l" pos="3714840"/>
                    <a:tab algn="l" pos="4457880"/>
                    <a:tab algn="l" pos="5257800"/>
                    <a:tab algn="l" pos="6000840"/>
                    <a:tab algn="l" pos="6743880"/>
                    <a:tab algn="l" pos="742968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010   0.057   0.201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2971800"/>
                    <a:tab algn="l" pos="3714840"/>
                    <a:tab algn="l" pos="4457880"/>
                    <a:tab algn="l" pos="5257800"/>
                    <a:tab algn="l" pos="6000840"/>
                    <a:tab algn="l" pos="6743880"/>
                    <a:tab algn="l" pos="742968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001   0.011   0.088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2971800"/>
                    <a:tab algn="l" pos="3714840"/>
                    <a:tab algn="l" pos="4457880"/>
                    <a:tab algn="l" pos="5257800"/>
                    <a:tab algn="l" pos="6000840"/>
                    <a:tab algn="l" pos="6743880"/>
                    <a:tab algn="l" pos="742968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000   0.001   0.026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2971800"/>
                    <a:tab algn="l" pos="3714840"/>
                    <a:tab algn="l" pos="4457880"/>
                    <a:tab algn="l" pos="5257800"/>
                    <a:tab algn="l" pos="6000840"/>
                    <a:tab algn="l" pos="6743880"/>
                    <a:tab algn="l" pos="742968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000   0.000   0.006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2971800"/>
                    <a:tab algn="l" pos="3714840"/>
                    <a:tab algn="l" pos="4457880"/>
                    <a:tab algn="l" pos="5257800"/>
                    <a:tab algn="l" pos="6000840"/>
                    <a:tab algn="l" pos="6743880"/>
                    <a:tab algn="l" pos="742968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000   0.000   0.001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2971800"/>
                    <a:tab algn="l" pos="3714840"/>
                    <a:tab algn="l" pos="4457880"/>
                    <a:tab algn="l" pos="5257800"/>
                    <a:tab algn="l" pos="6000840"/>
                    <a:tab algn="l" pos="6743880"/>
                    <a:tab algn="l" pos="742968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000   0.001   0.000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2971800"/>
                    <a:tab algn="l" pos="3714840"/>
                    <a:tab algn="l" pos="4457880"/>
                    <a:tab algn="l" pos="5257800"/>
                    <a:tab algn="l" pos="6000840"/>
                    <a:tab algn="l" pos="6743880"/>
                    <a:tab algn="l" pos="742968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000   0.000   0.000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2971800"/>
                    <a:tab algn="l" pos="3714840"/>
                    <a:tab algn="l" pos="4457880"/>
                    <a:tab algn="l" pos="5257800"/>
                    <a:tab algn="l" pos="6000840"/>
                    <a:tab algn="l" pos="6743880"/>
                    <a:tab algn="l" pos="742968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000   0.001   0.000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52280" y="3200400"/>
                <a:ext cx="457200" cy="34938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52280" y="2803680"/>
                <a:ext cx="415800" cy="398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6" name=""/>
            <p:cNvSpPr/>
            <p:nvPr/>
          </p:nvSpPr>
          <p:spPr>
            <a:xfrm>
              <a:off x="152280" y="2819520"/>
              <a:ext cx="2971800" cy="457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7" name=""/>
          <p:cNvSpPr/>
          <p:nvPr/>
        </p:nvSpPr>
        <p:spPr>
          <a:xfrm>
            <a:off x="2133720" y="3581280"/>
            <a:ext cx="761760" cy="3048120"/>
          </a:xfrm>
          <a:prstGeom prst="rect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2889720" y="2895480"/>
            <a:ext cx="1636200" cy="3751560"/>
            <a:chOff x="2889720" y="2895480"/>
            <a:chExt cx="1636200" cy="3751560"/>
          </a:xfrm>
        </p:grpSpPr>
        <p:sp>
          <p:nvSpPr>
            <p:cNvPr id="2499" name=""/>
            <p:cNvSpPr/>
            <p:nvPr/>
          </p:nvSpPr>
          <p:spPr>
            <a:xfrm>
              <a:off x="3659400" y="2895480"/>
              <a:ext cx="866520" cy="37515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0.26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0.3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0.2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0.08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0.0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0.0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0.0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0.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rot="5383800">
              <a:off x="2399040" y="4532760"/>
              <a:ext cx="1752840" cy="763560"/>
            </a:xfrm>
            <a:custGeom>
              <a:avLst/>
              <a:gdLst>
                <a:gd name="textAreaLeft" fmla="*/ 236520 w 1752840"/>
                <a:gd name="textAreaRight" fmla="*/ 1516320 w 1752840"/>
                <a:gd name="textAreaTop" fmla="*/ 102960 h 763560"/>
                <a:gd name="textAreaBottom" fmla="*/ 66060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99" y="21600"/>
                  </a:lnTo>
                  <a:lnTo>
                    <a:pt x="2101" y="21600"/>
                  </a:lnTo>
                  <a:close/>
                </a:path>
              </a:pathLst>
            </a:cu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1" name=""/>
          <p:cNvSpPr/>
          <p:nvPr/>
        </p:nvSpPr>
        <p:spPr>
          <a:xfrm>
            <a:off x="1945440" y="914400"/>
            <a:ext cx="532116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5b0ee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Appendix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nomial Probabilit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6019920" y="3352680"/>
            <a:ext cx="2286000" cy="8254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 mos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ine are employ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3" name=""/>
          <p:cNvGrpSpPr/>
          <p:nvPr/>
        </p:nvGrpSpPr>
        <p:grpSpPr>
          <a:xfrm>
            <a:off x="6198120" y="1525680"/>
            <a:ext cx="1269720" cy="837360"/>
            <a:chOff x="6198120" y="1525680"/>
            <a:chExt cx="1269720" cy="837360"/>
          </a:xfrm>
        </p:grpSpPr>
        <p:sp>
          <p:nvSpPr>
            <p:cNvPr id="2504" name=""/>
            <p:cNvSpPr/>
            <p:nvPr/>
          </p:nvSpPr>
          <p:spPr>
            <a:xfrm>
              <a:off x="6780960" y="1525680"/>
              <a:ext cx="6868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54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198120" y="153972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6" name=""/>
          <p:cNvGrpSpPr/>
          <p:nvPr/>
        </p:nvGrpSpPr>
        <p:grpSpPr>
          <a:xfrm>
            <a:off x="5902200" y="3505320"/>
            <a:ext cx="2912760" cy="951840"/>
            <a:chOff x="5902200" y="3505320"/>
            <a:chExt cx="2912760" cy="951840"/>
          </a:xfrm>
        </p:grpSpPr>
        <p:sp>
          <p:nvSpPr>
            <p:cNvPr id="2507" name=""/>
            <p:cNvSpPr/>
            <p:nvPr/>
          </p:nvSpPr>
          <p:spPr>
            <a:xfrm>
              <a:off x="8594640" y="3627360"/>
              <a:ext cx="2203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422480" y="3627360"/>
              <a:ext cx="331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277040" y="3627360"/>
              <a:ext cx="2203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8271720" y="3505320"/>
              <a:ext cx="331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2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6639480" y="3581280"/>
              <a:ext cx="6624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52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896960" y="3552840"/>
              <a:ext cx="2203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902200" y="363384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5715000" y="2362320"/>
            <a:ext cx="160020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0(.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5791320" y="4419720"/>
            <a:ext cx="259056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0(.20)(.8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.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8969400" y="1447920"/>
            <a:ext cx="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1523880" y="-76320"/>
            <a:ext cx="6363000" cy="1635120"/>
            <a:chOff x="1523880" y="-76320"/>
            <a:chExt cx="6363000" cy="1635120"/>
          </a:xfrm>
        </p:grpSpPr>
        <p:sp>
          <p:nvSpPr>
            <p:cNvPr id="2519" name=""/>
            <p:cNvSpPr/>
            <p:nvPr/>
          </p:nvSpPr>
          <p:spPr>
            <a:xfrm>
              <a:off x="1523880" y="75960"/>
              <a:ext cx="6363000" cy="14828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  <a:effectLst>
              <a:outerShdw dist="144956" dir="8529747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ea</a:t>
              </a: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n  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 Varia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of a</a:t>
              </a: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B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omial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P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obability </a:t>
              </a: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D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stribu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0" name=""/>
            <p:cNvGrpSpPr/>
            <p:nvPr/>
          </p:nvGrpSpPr>
          <p:grpSpPr>
            <a:xfrm>
              <a:off x="6581880" y="-30240"/>
              <a:ext cx="585000" cy="640440"/>
              <a:chOff x="6581880" y="-30240"/>
              <a:chExt cx="585000" cy="640440"/>
            </a:xfrm>
          </p:grpSpPr>
          <p:sp>
            <p:nvSpPr>
              <p:cNvPr id="2521" name=""/>
              <p:cNvSpPr/>
              <p:nvPr/>
            </p:nvSpPr>
            <p:spPr>
              <a:xfrm>
                <a:off x="6897600" y="-7920"/>
                <a:ext cx="269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6581880" y="-30240"/>
                <a:ext cx="32220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3" name=""/>
            <p:cNvSpPr/>
            <p:nvPr/>
          </p:nvSpPr>
          <p:spPr>
            <a:xfrm>
              <a:off x="3736080" y="-7632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4" name=""/>
          <p:cNvGrpSpPr/>
          <p:nvPr/>
        </p:nvGrpSpPr>
        <p:grpSpPr>
          <a:xfrm>
            <a:off x="228600" y="1447920"/>
            <a:ext cx="3200400" cy="3429000"/>
            <a:chOff x="228600" y="1447920"/>
            <a:chExt cx="3200400" cy="3429000"/>
          </a:xfrm>
        </p:grpSpPr>
        <p:sp>
          <p:nvSpPr>
            <p:cNvPr id="2525" name=""/>
            <p:cNvSpPr/>
            <p:nvPr/>
          </p:nvSpPr>
          <p:spPr>
            <a:xfrm>
              <a:off x="228600" y="2011320"/>
              <a:ext cx="3200400" cy="2865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7240" indent="-57240" algn="ctr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The Ontario Department of Labour reports that </a:t>
              </a:r>
              <a:r>
                <a:rPr b="1" i="1" lang="en-US" sz="2600" spc="-1" strike="noStrike">
                  <a:solidFill>
                    <a:srgbClr val="ff6600"/>
                  </a:solidFill>
                  <a:latin typeface="Times New Roman"/>
                </a:rPr>
                <a:t>20%</a:t>
              </a: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 of the workforce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aged between                   15 and 19 years is unemployed.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 txBox="1"/>
            <p:nvPr/>
          </p:nvSpPr>
          <p:spPr>
            <a:xfrm>
              <a:off x="228600" y="144792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grpSp>
        <p:nvGrpSpPr>
          <p:cNvPr id="2527" name=""/>
          <p:cNvGrpSpPr/>
          <p:nvPr/>
        </p:nvGrpSpPr>
        <p:grpSpPr>
          <a:xfrm>
            <a:off x="3428640" y="1447920"/>
            <a:ext cx="2608560" cy="823320"/>
            <a:chOff x="3428640" y="1447920"/>
            <a:chExt cx="2608560" cy="823320"/>
          </a:xfrm>
        </p:grpSpPr>
        <p:sp>
          <p:nvSpPr>
            <p:cNvPr id="2528" name=""/>
            <p:cNvSpPr/>
            <p:nvPr/>
          </p:nvSpPr>
          <p:spPr>
            <a:xfrm>
              <a:off x="5641920" y="1447920"/>
              <a:ext cx="3952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428640" y="1676520"/>
              <a:ext cx="1797840" cy="581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27008" dir="761609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ormul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0" name=""/>
          <p:cNvGrpSpPr/>
          <p:nvPr/>
        </p:nvGrpSpPr>
        <p:grpSpPr>
          <a:xfrm>
            <a:off x="3504960" y="3633840"/>
            <a:ext cx="2491200" cy="792360"/>
            <a:chOff x="3504960" y="3633840"/>
            <a:chExt cx="2491200" cy="792360"/>
          </a:xfrm>
        </p:grpSpPr>
        <p:grpSp>
          <p:nvGrpSpPr>
            <p:cNvPr id="2531" name=""/>
            <p:cNvGrpSpPr/>
            <p:nvPr/>
          </p:nvGrpSpPr>
          <p:grpSpPr>
            <a:xfrm>
              <a:off x="5410080" y="3633840"/>
              <a:ext cx="586080" cy="792360"/>
              <a:chOff x="5410080" y="3633840"/>
              <a:chExt cx="586080" cy="792360"/>
            </a:xfrm>
          </p:grpSpPr>
          <p:sp>
            <p:nvSpPr>
              <p:cNvPr id="2532" name=""/>
              <p:cNvSpPr/>
              <p:nvPr/>
            </p:nvSpPr>
            <p:spPr>
              <a:xfrm>
                <a:off x="5805000" y="365436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410080" y="3633840"/>
                <a:ext cx="39852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5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4" name=""/>
            <p:cNvSpPr/>
            <p:nvPr/>
          </p:nvSpPr>
          <p:spPr>
            <a:xfrm>
              <a:off x="3504960" y="3733920"/>
              <a:ext cx="1797840" cy="581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27008" dir="761609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ormul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5" name=""/>
          <p:cNvGrpSpPr/>
          <p:nvPr/>
        </p:nvGrpSpPr>
        <p:grpSpPr>
          <a:xfrm>
            <a:off x="3809880" y="5638680"/>
            <a:ext cx="5105160" cy="825480"/>
            <a:chOff x="3809880" y="5638680"/>
            <a:chExt cx="5105160" cy="825480"/>
          </a:xfrm>
        </p:grpSpPr>
        <p:sp>
          <p:nvSpPr>
            <p:cNvPr id="2536" name=""/>
            <p:cNvSpPr/>
            <p:nvPr/>
          </p:nvSpPr>
          <p:spPr>
            <a:xfrm>
              <a:off x="3809880" y="5638680"/>
              <a:ext cx="5105160" cy="82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d0e3"/>
                </a:gs>
              </a:gsLst>
              <a:lin ang="5400000"/>
            </a:gradFill>
            <a:ln w="0">
              <a:noFill/>
            </a:ln>
            <a:effectLst>
              <a:outerShdw dist="171040" dir="7920846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herefore, the                                     standard deviation is    1.6 = 1.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7" name=""/>
                <p:cNvSpPr txBox="1"/>
                <p:nvPr/>
              </p:nvSpPr>
              <p:spPr>
                <a:xfrm>
                  <a:off x="7030080" y="6003720"/>
                  <a:ext cx="4629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/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38" name=""/>
          <p:cNvGrpSpPr/>
          <p:nvPr/>
        </p:nvGrpSpPr>
        <p:grpSpPr>
          <a:xfrm>
            <a:off x="152280" y="4927680"/>
            <a:ext cx="3353040" cy="1749960"/>
            <a:chOff x="152280" y="4927680"/>
            <a:chExt cx="3353040" cy="1749960"/>
          </a:xfrm>
        </p:grpSpPr>
        <p:sp>
          <p:nvSpPr>
            <p:cNvPr id="2539" name=""/>
            <p:cNvSpPr/>
            <p:nvPr/>
          </p:nvSpPr>
          <p:spPr>
            <a:xfrm>
              <a:off x="152280" y="4927680"/>
              <a:ext cx="335304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From a </a:t>
              </a:r>
              <a:r>
                <a:rPr b="1" i="1" lang="en-US" sz="2600" spc="-1" strike="noStrike">
                  <a:solidFill>
                    <a:srgbClr val="ff6600"/>
                  </a:solidFill>
                  <a:latin typeface="Times New Roman"/>
                </a:rPr>
                <a:t>sample of 10</a:t>
              </a:r>
              <a:r>
                <a:rPr b="1" lang="en-US" sz="26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workers in this age group, calculate:               an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0" name=""/>
            <p:cNvGrpSpPr/>
            <p:nvPr/>
          </p:nvGrpSpPr>
          <p:grpSpPr>
            <a:xfrm>
              <a:off x="903240" y="5943600"/>
              <a:ext cx="1986120" cy="734040"/>
              <a:chOff x="903240" y="5943600"/>
              <a:chExt cx="1986120" cy="734040"/>
            </a:xfrm>
          </p:grpSpPr>
          <p:sp>
            <p:nvSpPr>
              <p:cNvPr id="2541" name=""/>
              <p:cNvSpPr/>
              <p:nvPr/>
            </p:nvSpPr>
            <p:spPr>
              <a:xfrm>
                <a:off x="903240" y="5943600"/>
                <a:ext cx="473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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2159280" y="5943600"/>
                <a:ext cx="50220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2574360" y="6019920"/>
                <a:ext cx="31500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"/>
          <p:cNvSpPr/>
          <p:nvPr/>
        </p:nvSpPr>
        <p:spPr>
          <a:xfrm>
            <a:off x="1523880" y="2843280"/>
            <a:ext cx="6096240" cy="1482840"/>
          </a:xfrm>
          <a:prstGeom prst="rect">
            <a:avLst/>
          </a:prstGeom>
          <a:gradFill rotWithShape="0">
            <a:gsLst>
              <a:gs pos="0">
                <a:srgbClr val="e5b0e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Poisson</a:t>
            </a:r>
            <a:r>
              <a:rPr b="1" i="1" lang="en-US" sz="4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obability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"/>
          <p:cNvSpPr/>
          <p:nvPr/>
        </p:nvSpPr>
        <p:spPr>
          <a:xfrm>
            <a:off x="685800" y="3962520"/>
            <a:ext cx="7848720" cy="2514600"/>
          </a:xfrm>
          <a:prstGeom prst="bevel">
            <a:avLst>
              <a:gd name="adj" fmla="val 91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6" name=""/>
          <p:cNvGrpSpPr/>
          <p:nvPr/>
        </p:nvGrpSpPr>
        <p:grpSpPr>
          <a:xfrm>
            <a:off x="3100320" y="2362320"/>
            <a:ext cx="2462040" cy="1163160"/>
            <a:chOff x="3100320" y="2362320"/>
            <a:chExt cx="2462040" cy="1163160"/>
          </a:xfrm>
        </p:grpSpPr>
        <p:sp>
          <p:nvSpPr>
            <p:cNvPr id="2547" name=""/>
            <p:cNvSpPr/>
            <p:nvPr/>
          </p:nvSpPr>
          <p:spPr>
            <a:xfrm>
              <a:off x="3100320" y="2791800"/>
              <a:ext cx="267120" cy="730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367440" y="2489400"/>
              <a:ext cx="267480" cy="10324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902760" y="2577240"/>
              <a:ext cx="267120" cy="945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635280" y="2362320"/>
              <a:ext cx="267480" cy="1159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4170240" y="2577240"/>
              <a:ext cx="267480" cy="945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437720" y="2662920"/>
              <a:ext cx="267480" cy="858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4705560" y="2877840"/>
              <a:ext cx="267120" cy="6444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4973040" y="3246480"/>
              <a:ext cx="292320" cy="279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270040" y="3366360"/>
              <a:ext cx="292320" cy="1555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6" name=""/>
          <p:cNvGrpSpPr/>
          <p:nvPr/>
        </p:nvGrpSpPr>
        <p:grpSpPr>
          <a:xfrm>
            <a:off x="3889440" y="2010600"/>
            <a:ext cx="1897560" cy="1779840"/>
            <a:chOff x="3889440" y="2010600"/>
            <a:chExt cx="1897560" cy="1779840"/>
          </a:xfrm>
        </p:grpSpPr>
        <p:grpSp>
          <p:nvGrpSpPr>
            <p:cNvPr id="2557" name=""/>
            <p:cNvGrpSpPr/>
            <p:nvPr/>
          </p:nvGrpSpPr>
          <p:grpSpPr>
            <a:xfrm>
              <a:off x="3889440" y="2059920"/>
              <a:ext cx="990360" cy="1516680"/>
              <a:chOff x="3889440" y="2059920"/>
              <a:chExt cx="990360" cy="1516680"/>
            </a:xfrm>
          </p:grpSpPr>
          <p:sp>
            <p:nvSpPr>
              <p:cNvPr id="2558" name=""/>
              <p:cNvSpPr/>
              <p:nvPr/>
            </p:nvSpPr>
            <p:spPr>
              <a:xfrm>
                <a:off x="3914640" y="2059920"/>
                <a:ext cx="0" cy="151668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889440" y="2962440"/>
                <a:ext cx="990360" cy="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0" name=""/>
            <p:cNvSpPr/>
            <p:nvPr/>
          </p:nvSpPr>
          <p:spPr>
            <a:xfrm rot="2874000">
              <a:off x="3959640" y="2670480"/>
              <a:ext cx="198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kewed R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1" name=""/>
          <p:cNvSpPr/>
          <p:nvPr/>
        </p:nvSpPr>
        <p:spPr>
          <a:xfrm>
            <a:off x="1676520" y="129528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B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mial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tribution becomes                                                   more skewed to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5946120" y="2438280"/>
            <a:ext cx="1703160" cy="6426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1100520" y="3397320"/>
            <a:ext cx="69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ability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uccess become sma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133720" y="152280"/>
            <a:ext cx="4876560" cy="1019880"/>
          </a:xfrm>
          <a:prstGeom prst="rect">
            <a:avLst/>
          </a:prstGeom>
          <a:gradFill rotWithShape="0">
            <a:gsLst>
              <a:gs pos="0">
                <a:srgbClr val="e5b0e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oisson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abilit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 txBox="1"/>
          <p:nvPr/>
        </p:nvSpPr>
        <p:spPr>
          <a:xfrm>
            <a:off x="1447920" y="266688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716e6"/>
                </a:solidFill>
                <a:latin typeface="Arial Black"/>
              </a:rPr>
              <a:t>Reca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716e6"/>
              </a:solidFill>
              <a:latin typeface="Arial Black"/>
              <a:ea typeface="Arial Black"/>
            </a:endParaRPr>
          </a:p>
        </p:txBody>
      </p:sp>
      <p:sp>
        <p:nvSpPr>
          <p:cNvPr id="2566" name=""/>
          <p:cNvSpPr/>
          <p:nvPr/>
        </p:nvSpPr>
        <p:spPr>
          <a:xfrm>
            <a:off x="914400" y="4114800"/>
            <a:ext cx="73915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miting form of t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al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ribution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ability of succe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is sma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is larg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called 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oisson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ability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380880" y="1370160"/>
            <a:ext cx="83822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oisson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abilit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described mathematically using the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2513880" y="2325600"/>
            <a:ext cx="4093200" cy="1178640"/>
            <a:chOff x="2513880" y="2325600"/>
            <a:chExt cx="4093200" cy="1178640"/>
          </a:xfrm>
        </p:grpSpPr>
        <p:sp>
          <p:nvSpPr>
            <p:cNvPr id="2569" name=""/>
            <p:cNvSpPr/>
            <p:nvPr/>
          </p:nvSpPr>
          <p:spPr>
            <a:xfrm>
              <a:off x="4727520" y="2971800"/>
              <a:ext cx="187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2513880" y="2625840"/>
              <a:ext cx="3268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3306600" y="262584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645160" y="2376360"/>
              <a:ext cx="2368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445720" y="286380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269320" y="234792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230880" y="23479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716e6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979360" y="2625840"/>
              <a:ext cx="1789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3682800" y="2625840"/>
              <a:ext cx="1789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837040" y="2863800"/>
              <a:ext cx="1789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159080" y="2585880"/>
              <a:ext cx="46404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033240" y="23256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4945680" y="2336760"/>
              <a:ext cx="3085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d716e6"/>
                  </a:solidFill>
                  <a:latin typeface="Symbol"/>
                  <a:ea typeface="Symbol"/>
                </a:rPr>
                <a:t>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2" name=""/>
          <p:cNvSpPr/>
          <p:nvPr/>
        </p:nvSpPr>
        <p:spPr>
          <a:xfrm>
            <a:off x="2133720" y="152280"/>
            <a:ext cx="4876560" cy="1068840"/>
          </a:xfrm>
          <a:prstGeom prst="rect">
            <a:avLst/>
          </a:prstGeom>
          <a:gradFill rotWithShape="0">
            <a:gsLst>
              <a:gs pos="0">
                <a:srgbClr val="e5b0e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oisson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abilit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610200" y="347508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2683080" y="3400560"/>
            <a:ext cx="444240" cy="64260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91658" dir="87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429000" y="3521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800" spc="-1" strike="noStrike">
                <a:solidFill>
                  <a:srgbClr val="d716e6"/>
                </a:solidFill>
                <a:latin typeface="Times New Roman"/>
              </a:rPr>
              <a:t>mean number of successes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16e6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d716e6"/>
                </a:solidFill>
                <a:latin typeface="Times New Roman"/>
              </a:rPr>
              <a:t>in a particular interval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668680" y="4375080"/>
            <a:ext cx="3834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81185" dir="77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429720" y="4502160"/>
            <a:ext cx="36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nstant 2.718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2656080" y="5149800"/>
            <a:ext cx="40932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99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3431880" y="52038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number of suc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0" name=""/>
          <p:cNvGrpSpPr/>
          <p:nvPr/>
        </p:nvGrpSpPr>
        <p:grpSpPr>
          <a:xfrm>
            <a:off x="1752480" y="6095880"/>
            <a:ext cx="5639040" cy="381240"/>
            <a:chOff x="1752480" y="6095880"/>
            <a:chExt cx="5639040" cy="381240"/>
          </a:xfrm>
        </p:grpSpPr>
        <p:sp>
          <p:nvSpPr>
            <p:cNvPr id="2591" name=""/>
            <p:cNvSpPr/>
            <p:nvPr/>
          </p:nvSpPr>
          <p:spPr>
            <a:xfrm>
              <a:off x="1752480" y="6248520"/>
              <a:ext cx="5639040" cy="7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d716e6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343400" y="6095880"/>
              <a:ext cx="457200" cy="381240"/>
            </a:xfrm>
            <a:prstGeom prst="sun">
              <a:avLst>
                <a:gd name="adj" fmla="val 25000"/>
              </a:avLst>
            </a:prstGeom>
            <a:solidFill>
              <a:srgbClr val="ff33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"/>
          <p:cNvSpPr/>
          <p:nvPr/>
        </p:nvSpPr>
        <p:spPr>
          <a:xfrm>
            <a:off x="2133720" y="152280"/>
            <a:ext cx="4876560" cy="1068840"/>
          </a:xfrm>
          <a:prstGeom prst="rect">
            <a:avLst/>
          </a:prstGeom>
          <a:gradFill rotWithShape="0">
            <a:gsLst>
              <a:gs pos="0">
                <a:srgbClr val="e5b0e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oisson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abilit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953640" y="1690560"/>
            <a:ext cx="51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33cc"/>
                </a:solidFill>
                <a:latin typeface="Times New Roman"/>
              </a:rPr>
              <a:t>mea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numb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success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762120" y="22860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determined in binomial situations b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2113920" y="3276720"/>
            <a:ext cx="49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mber of t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1897200" y="3819600"/>
            <a:ext cx="528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4000" spc="-1" strike="noStrike">
                <a:solidFill>
                  <a:srgbClr val="e8831e"/>
                </a:solidFill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e8831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obability of a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489800" y="251460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4000" spc="-1" strike="noStrike">
                <a:solidFill>
                  <a:srgbClr val="e8831e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7720200" y="1461960"/>
            <a:ext cx="488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d716e6"/>
                </a:solidFill>
                <a:latin typeface="Symbol"/>
                <a:ea typeface="Symbol"/>
              </a:rPr>
              <a:t>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0" name=""/>
          <p:cNvGrpSpPr/>
          <p:nvPr/>
        </p:nvGrpSpPr>
        <p:grpSpPr>
          <a:xfrm>
            <a:off x="457200" y="4541760"/>
            <a:ext cx="8229600" cy="1373400"/>
            <a:chOff x="457200" y="4541760"/>
            <a:chExt cx="8229600" cy="1373400"/>
          </a:xfrm>
        </p:grpSpPr>
        <p:sp>
          <p:nvSpPr>
            <p:cNvPr id="2601" name=""/>
            <p:cNvSpPr/>
            <p:nvPr/>
          </p:nvSpPr>
          <p:spPr>
            <a:xfrm>
              <a:off x="457200" y="4724280"/>
              <a:ext cx="8229600" cy="11908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e5b0ee"/>
                </a:gs>
              </a:gsLst>
              <a:lin ang="10800000"/>
            </a:gradFill>
            <a:ln w="0">
              <a:noFill/>
            </a:ln>
            <a:effectLst>
              <a:outerShdw dist="162651" dir="771721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variance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of the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Poisson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istribution                      is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lso equal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i="1" lang="en-US" sz="4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i="1" lang="en-US" sz="4000" spc="-1" strike="noStrike">
                  <a:solidFill>
                    <a:srgbClr val="e8831e"/>
                  </a:solidFill>
                  <a:latin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2" name=""/>
            <p:cNvGrpSpPr/>
            <p:nvPr/>
          </p:nvGrpSpPr>
          <p:grpSpPr>
            <a:xfrm>
              <a:off x="3124080" y="4541760"/>
              <a:ext cx="586080" cy="792360"/>
              <a:chOff x="3124080" y="4541760"/>
              <a:chExt cx="586080" cy="792360"/>
            </a:xfrm>
          </p:grpSpPr>
          <p:sp>
            <p:nvSpPr>
              <p:cNvPr id="2603" name=""/>
              <p:cNvSpPr/>
              <p:nvPr/>
            </p:nvSpPr>
            <p:spPr>
              <a:xfrm>
                <a:off x="3519000" y="4562280"/>
                <a:ext cx="191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124080" y="4541760"/>
                <a:ext cx="39852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5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5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5" name=""/>
          <p:cNvGrpSpPr/>
          <p:nvPr/>
        </p:nvGrpSpPr>
        <p:grpSpPr>
          <a:xfrm>
            <a:off x="3328920" y="1338120"/>
            <a:ext cx="2486160" cy="871560"/>
            <a:chOff x="3328920" y="1338120"/>
            <a:chExt cx="2486160" cy="871560"/>
          </a:xfrm>
        </p:grpSpPr>
        <p:sp>
          <p:nvSpPr>
            <p:cNvPr id="2606" name=""/>
            <p:cNvSpPr txBox="1"/>
            <p:nvPr/>
          </p:nvSpPr>
          <p:spPr>
            <a:xfrm>
              <a:off x="3328920" y="133812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607" name=""/>
            <p:cNvSpPr txBox="1"/>
            <p:nvPr/>
          </p:nvSpPr>
          <p:spPr>
            <a:xfrm>
              <a:off x="3967200" y="1547640"/>
              <a:ext cx="18478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608" name=""/>
          <p:cNvSpPr/>
          <p:nvPr/>
        </p:nvSpPr>
        <p:spPr>
          <a:xfrm>
            <a:off x="228600" y="2286000"/>
            <a:ext cx="876312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aily (Statistics Canada) reports that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5%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lege and bachelor degre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students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default on their student loa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ithin 2 years of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graduation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368280" y="4495680"/>
            <a:ext cx="840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a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sample of 10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ents,                                      find the probability that  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ctly 1 will default on their lo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2133720" y="152280"/>
            <a:ext cx="4876560" cy="1068840"/>
          </a:xfrm>
          <a:prstGeom prst="rect">
            <a:avLst/>
          </a:prstGeom>
          <a:gradFill rotWithShape="0">
            <a:gsLst>
              <a:gs pos="0">
                <a:srgbClr val="e5b0e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oisson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abilit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1" name=""/>
          <p:cNvGrpSpPr/>
          <p:nvPr/>
        </p:nvGrpSpPr>
        <p:grpSpPr>
          <a:xfrm>
            <a:off x="1752480" y="6095880"/>
            <a:ext cx="5639040" cy="381240"/>
            <a:chOff x="1752480" y="6095880"/>
            <a:chExt cx="5639040" cy="381240"/>
          </a:xfrm>
        </p:grpSpPr>
        <p:sp>
          <p:nvSpPr>
            <p:cNvPr id="2612" name=""/>
            <p:cNvSpPr/>
            <p:nvPr/>
          </p:nvSpPr>
          <p:spPr>
            <a:xfrm>
              <a:off x="1752480" y="6248520"/>
              <a:ext cx="5639040" cy="7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d716e6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343400" y="6095880"/>
              <a:ext cx="457200" cy="381240"/>
            </a:xfrm>
            <a:prstGeom prst="sun">
              <a:avLst>
                <a:gd name="adj" fmla="val 25000"/>
              </a:avLst>
            </a:prstGeom>
            <a:solidFill>
              <a:srgbClr val="ff33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4" name=""/>
          <p:cNvGrpSpPr/>
          <p:nvPr/>
        </p:nvGrpSpPr>
        <p:grpSpPr>
          <a:xfrm>
            <a:off x="228600" y="2100240"/>
            <a:ext cx="3505320" cy="4529160"/>
            <a:chOff x="228600" y="2100240"/>
            <a:chExt cx="3505320" cy="4529160"/>
          </a:xfrm>
        </p:grpSpPr>
        <p:sp>
          <p:nvSpPr>
            <p:cNvPr id="2615" name=""/>
            <p:cNvSpPr/>
            <p:nvPr/>
          </p:nvSpPr>
          <p:spPr>
            <a:xfrm>
              <a:off x="228600" y="2629080"/>
              <a:ext cx="3505320" cy="4000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27008" dir="85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Daily (Statistics Canada) reports that                      </a:t>
              </a:r>
              <a:r>
                <a:rPr b="1" i="1" lang="en-US" sz="2800" spc="-1" strike="noStrike">
                  <a:solidFill>
                    <a:srgbClr val="ff6600"/>
                  </a:solidFill>
                  <a:latin typeface="Times New Roman"/>
                </a:rPr>
                <a:t>5%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llege and bachelor degree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students default on their student loan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within 2 years of</a:t>
              </a: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graduation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 txBox="1"/>
            <p:nvPr/>
          </p:nvSpPr>
          <p:spPr>
            <a:xfrm>
              <a:off x="380880" y="210024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2617" name=""/>
          <p:cNvSpPr/>
          <p:nvPr/>
        </p:nvSpPr>
        <p:spPr>
          <a:xfrm>
            <a:off x="2133720" y="152280"/>
            <a:ext cx="4876560" cy="1068840"/>
          </a:xfrm>
          <a:prstGeom prst="rect">
            <a:avLst/>
          </a:prstGeom>
          <a:gradFill rotWithShape="0">
            <a:gsLst>
              <a:gs pos="0">
                <a:srgbClr val="e5b0e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oisson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abilit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033880" y="4890960"/>
            <a:ext cx="3424320" cy="640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.0476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or 4.76%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9" name=""/>
          <p:cNvGrpSpPr/>
          <p:nvPr/>
        </p:nvGrpSpPr>
        <p:grpSpPr>
          <a:xfrm>
            <a:off x="5357520" y="3375000"/>
            <a:ext cx="2491200" cy="1273680"/>
            <a:chOff x="5357520" y="3375000"/>
            <a:chExt cx="2491200" cy="1273680"/>
          </a:xfrm>
        </p:grpSpPr>
        <p:sp>
          <p:nvSpPr>
            <p:cNvPr id="2620" name=""/>
            <p:cNvSpPr/>
            <p:nvPr/>
          </p:nvSpPr>
          <p:spPr>
            <a:xfrm>
              <a:off x="5943600" y="408456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1" name=""/>
            <p:cNvGrpSpPr/>
            <p:nvPr/>
          </p:nvGrpSpPr>
          <p:grpSpPr>
            <a:xfrm>
              <a:off x="6663600" y="4008240"/>
              <a:ext cx="460080" cy="640440"/>
              <a:chOff x="6663600" y="4008240"/>
              <a:chExt cx="460080" cy="640440"/>
            </a:xfrm>
          </p:grpSpPr>
          <p:sp>
            <p:nvSpPr>
              <p:cNvPr id="2622" name=""/>
              <p:cNvSpPr/>
              <p:nvPr/>
            </p:nvSpPr>
            <p:spPr>
              <a:xfrm>
                <a:off x="6944760" y="4008240"/>
                <a:ext cx="17892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200" spc="-1" strike="noStrike"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663600" y="4008240"/>
                <a:ext cx="40140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200" spc="-1" strike="noStrike">
                    <a:solidFill>
                      <a:srgbClr val="009900"/>
                    </a:solidFill>
                    <a:latin typeface="Times New Roman"/>
                  </a:rPr>
                  <a:t>1 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4" name=""/>
            <p:cNvSpPr/>
            <p:nvPr/>
          </p:nvSpPr>
          <p:spPr>
            <a:xfrm>
              <a:off x="6011280" y="3449520"/>
              <a:ext cx="6685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4200" spc="-1" strike="noStrike">
                  <a:solidFill>
                    <a:srgbClr val="ff33cc"/>
                  </a:solidFill>
                  <a:latin typeface="Times New Roman"/>
                </a:rPr>
                <a:t>05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459200" y="3406680"/>
              <a:ext cx="381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571800" y="34066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357520" y="3720960"/>
              <a:ext cx="424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242120" y="33750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908040" y="3449520"/>
              <a:ext cx="2368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0" name=""/>
          <p:cNvGrpSpPr/>
          <p:nvPr/>
        </p:nvGrpSpPr>
        <p:grpSpPr>
          <a:xfrm>
            <a:off x="4088520" y="3691080"/>
            <a:ext cx="1081080" cy="640440"/>
            <a:chOff x="4088520" y="3691080"/>
            <a:chExt cx="1081080" cy="640440"/>
          </a:xfrm>
        </p:grpSpPr>
        <p:sp>
          <p:nvSpPr>
            <p:cNvPr id="2631" name=""/>
            <p:cNvSpPr/>
            <p:nvPr/>
          </p:nvSpPr>
          <p:spPr>
            <a:xfrm>
              <a:off x="4990680" y="3691080"/>
              <a:ext cx="1789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465080" y="3691080"/>
              <a:ext cx="1789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4696920" y="3691080"/>
              <a:ext cx="267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009900"/>
                  </a:solidFill>
                  <a:latin typeface="Times New Roman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4088520" y="3691080"/>
              <a:ext cx="3268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5" name=""/>
          <p:cNvGrpSpPr/>
          <p:nvPr/>
        </p:nvGrpSpPr>
        <p:grpSpPr>
          <a:xfrm>
            <a:off x="1295280" y="1295280"/>
            <a:ext cx="7238880" cy="1524240"/>
            <a:chOff x="1295280" y="1295280"/>
            <a:chExt cx="7238880" cy="1524240"/>
          </a:xfrm>
        </p:grpSpPr>
        <p:grpSp>
          <p:nvGrpSpPr>
            <p:cNvPr id="2636" name=""/>
            <p:cNvGrpSpPr/>
            <p:nvPr/>
          </p:nvGrpSpPr>
          <p:grpSpPr>
            <a:xfrm>
              <a:off x="3580560" y="1295280"/>
              <a:ext cx="4093200" cy="1178640"/>
              <a:chOff x="3580560" y="1295280"/>
              <a:chExt cx="4093200" cy="1178640"/>
            </a:xfrm>
          </p:grpSpPr>
          <p:sp>
            <p:nvSpPr>
              <p:cNvPr id="2637" name=""/>
              <p:cNvSpPr/>
              <p:nvPr/>
            </p:nvSpPr>
            <p:spPr>
              <a:xfrm>
                <a:off x="5794200" y="1941480"/>
                <a:ext cx="1879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3580560" y="1595520"/>
                <a:ext cx="3268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200" spc="-1" strike="noStrike">
                    <a:solidFill>
                      <a:srgbClr val="ff3300"/>
                    </a:solidFill>
                    <a:latin typeface="Times New Roman"/>
                  </a:rPr>
                  <a:t>P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4373280" y="1595520"/>
                <a:ext cx="2674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2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711840" y="1346040"/>
                <a:ext cx="2368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200" spc="-1" strike="noStrike">
                    <a:solidFill>
                      <a:srgbClr val="ff3300"/>
                    </a:solidFill>
                    <a:latin typeface="Times New Roman"/>
                  </a:rPr>
                  <a:t>e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512400" y="1833480"/>
                <a:ext cx="2674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2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336000" y="1317600"/>
                <a:ext cx="229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297560" y="1317600"/>
                <a:ext cx="169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d716e6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046040" y="1595520"/>
                <a:ext cx="17892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4749480" y="1595520"/>
                <a:ext cx="17892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903720" y="1833480"/>
                <a:ext cx="17892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200" spc="-1" strike="noStrike"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5225760" y="1555560"/>
                <a:ext cx="464040" cy="70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4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099920" y="129528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012360" y="1306440"/>
                <a:ext cx="30852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200" spc="-1" strike="noStrike">
                    <a:solidFill>
                      <a:srgbClr val="d716e6"/>
                    </a:solidFill>
                    <a:latin typeface="Symbol"/>
                    <a:ea typeface="Symbol"/>
                  </a:rPr>
                  <a:t>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0" name=""/>
            <p:cNvSpPr/>
            <p:nvPr/>
          </p:nvSpPr>
          <p:spPr>
            <a:xfrm>
              <a:off x="1295280" y="1523880"/>
              <a:ext cx="1796760" cy="581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27008" dir="761609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ormul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1" name=""/>
            <p:cNvGrpSpPr/>
            <p:nvPr/>
          </p:nvGrpSpPr>
          <p:grpSpPr>
            <a:xfrm>
              <a:off x="2895480" y="2438280"/>
              <a:ext cx="5638680" cy="381240"/>
              <a:chOff x="2895480" y="2438280"/>
              <a:chExt cx="5638680" cy="381240"/>
            </a:xfrm>
          </p:grpSpPr>
          <p:sp>
            <p:nvSpPr>
              <p:cNvPr id="2652" name=""/>
              <p:cNvSpPr/>
              <p:nvPr/>
            </p:nvSpPr>
            <p:spPr>
              <a:xfrm>
                <a:off x="2895480" y="2590920"/>
                <a:ext cx="5638680" cy="759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333cc"/>
                  </a:gs>
                  <a:gs pos="50000">
                    <a:srgbClr val="d716e6"/>
                  </a:gs>
                  <a:gs pos="100000">
                    <a:srgbClr val="3333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5486040" y="2438280"/>
                <a:ext cx="456840" cy="381240"/>
              </a:xfrm>
              <a:prstGeom prst="sun">
                <a:avLst>
                  <a:gd name="adj" fmla="val 25000"/>
                </a:avLst>
              </a:prstGeom>
              <a:solidFill>
                <a:srgbClr val="ff3399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4" name=""/>
          <p:cNvSpPr/>
          <p:nvPr/>
        </p:nvSpPr>
        <p:spPr>
          <a:xfrm>
            <a:off x="4114800" y="48006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6" name=""/>
          <p:cNvGrpSpPr/>
          <p:nvPr/>
        </p:nvGrpSpPr>
        <p:grpSpPr>
          <a:xfrm>
            <a:off x="685800" y="1600200"/>
            <a:ext cx="7619760" cy="1312920"/>
            <a:chOff x="685800" y="1600200"/>
            <a:chExt cx="7619760" cy="1312920"/>
          </a:xfrm>
        </p:grpSpPr>
        <p:sp>
          <p:nvSpPr>
            <p:cNvPr id="2657" name=""/>
            <p:cNvSpPr/>
            <p:nvPr/>
          </p:nvSpPr>
          <p:spPr>
            <a:xfrm>
              <a:off x="685800" y="16002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879840" y="1844280"/>
              <a:ext cx="7293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www.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mcgrawhill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.ca/college/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9" name=""/>
          <p:cNvSpPr/>
          <p:nvPr/>
        </p:nvSpPr>
        <p:spPr>
          <a:xfrm rot="20514600">
            <a:off x="612720" y="14479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0" name=""/>
          <p:cNvGrpSpPr/>
          <p:nvPr/>
        </p:nvGrpSpPr>
        <p:grpSpPr>
          <a:xfrm>
            <a:off x="1676520" y="5562720"/>
            <a:ext cx="5866920" cy="304560"/>
            <a:chOff x="1676520" y="5562720"/>
            <a:chExt cx="5866920" cy="304560"/>
          </a:xfrm>
        </p:grpSpPr>
        <p:sp>
          <p:nvSpPr>
            <p:cNvPr id="2661" name=""/>
            <p:cNvSpPr/>
            <p:nvPr/>
          </p:nvSpPr>
          <p:spPr>
            <a:xfrm flipV="1">
              <a:off x="1676520" y="5634000"/>
              <a:ext cx="5866920" cy="1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62" name="" descr=""/>
            <p:cNvPicPr/>
            <p:nvPr/>
          </p:nvPicPr>
          <p:blipFill>
            <a:blip r:embed="rId6"/>
            <a:stretch/>
          </p:blipFill>
          <p:spPr>
            <a:xfrm>
              <a:off x="4511880" y="5562720"/>
              <a:ext cx="4258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3" name=""/>
          <p:cNvSpPr/>
          <p:nvPr/>
        </p:nvSpPr>
        <p:spPr>
          <a:xfrm>
            <a:off x="1443960" y="26668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4" name=""/>
          <p:cNvGrpSpPr/>
          <p:nvPr/>
        </p:nvGrpSpPr>
        <p:grpSpPr>
          <a:xfrm>
            <a:off x="1642680" y="3124080"/>
            <a:ext cx="5595840" cy="2281680"/>
            <a:chOff x="1642680" y="3124080"/>
            <a:chExt cx="5595840" cy="2281680"/>
          </a:xfrm>
        </p:grpSpPr>
        <p:sp>
          <p:nvSpPr>
            <p:cNvPr id="2665" name=""/>
            <p:cNvSpPr/>
            <p:nvPr/>
          </p:nvSpPr>
          <p:spPr>
            <a:xfrm>
              <a:off x="1642680" y="31240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078640" y="34830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67" name="OLC%20logo6" descr=""/>
          <p:cNvPicPr/>
          <p:nvPr/>
        </p:nvPicPr>
        <p:blipFill>
          <a:blip r:embed="rId7"/>
          <a:stretch/>
        </p:blipFill>
        <p:spPr>
          <a:xfrm>
            <a:off x="685800" y="27432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2668" name="e-stat%20logo6" descr=""/>
          <p:cNvPicPr/>
          <p:nvPr/>
        </p:nvPicPr>
        <p:blipFill>
          <a:blip r:embed="rId8"/>
          <a:stretch/>
        </p:blipFill>
        <p:spPr>
          <a:xfrm>
            <a:off x="7391520" y="3809880"/>
            <a:ext cx="10936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0000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725760" y="2971800"/>
            <a:ext cx="76698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is completes Chapter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2209680"/>
            <a:ext cx="2209680" cy="52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47920" y="76320"/>
            <a:ext cx="7827120" cy="1191240"/>
            <a:chOff x="1447920" y="76320"/>
            <a:chExt cx="7827120" cy="1191240"/>
          </a:xfrm>
        </p:grpSpPr>
        <p:sp>
          <p:nvSpPr>
            <p:cNvPr id="74" name=""/>
            <p:cNvSpPr/>
            <p:nvPr/>
          </p:nvSpPr>
          <p:spPr>
            <a:xfrm>
              <a:off x="1447920" y="169920"/>
              <a:ext cx="761760" cy="1041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50440" y="76320"/>
              <a:ext cx="782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ypes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f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Probability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Distributions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352680" y="1143000"/>
            <a:ext cx="2361960" cy="1599840"/>
            <a:chOff x="3352680" y="1143000"/>
            <a:chExt cx="2361960" cy="1599840"/>
          </a:xfrm>
        </p:grpSpPr>
        <p:sp>
          <p:nvSpPr>
            <p:cNvPr id="77" name=""/>
            <p:cNvSpPr/>
            <p:nvPr/>
          </p:nvSpPr>
          <p:spPr>
            <a:xfrm>
              <a:off x="3352680" y="2209320"/>
              <a:ext cx="2361960" cy="533520"/>
            </a:xfrm>
            <a:custGeom>
              <a:avLst/>
              <a:gdLst/>
              <a:ahLst/>
              <a:rect l="l" t="t" r="r" b="b"/>
              <a:pathLst>
                <a:path w="1152" h="119">
                  <a:moveTo>
                    <a:pt x="870" y="41"/>
                  </a:moveTo>
                  <a:lnTo>
                    <a:pt x="870" y="0"/>
                  </a:lnTo>
                  <a:lnTo>
                    <a:pt x="1152" y="61"/>
                  </a:lnTo>
                  <a:lnTo>
                    <a:pt x="870" y="119"/>
                  </a:lnTo>
                  <a:lnTo>
                    <a:pt x="870" y="78"/>
                  </a:lnTo>
                  <a:lnTo>
                    <a:pt x="282" y="78"/>
                  </a:lnTo>
                  <a:lnTo>
                    <a:pt x="282" y="119"/>
                  </a:lnTo>
                  <a:lnTo>
                    <a:pt x="0" y="61"/>
                  </a:lnTo>
                  <a:lnTo>
                    <a:pt x="282" y="0"/>
                  </a:lnTo>
                  <a:lnTo>
                    <a:pt x="282" y="41"/>
                  </a:lnTo>
                  <a:lnTo>
                    <a:pt x="870" y="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5200" y="1143000"/>
              <a:ext cx="196920" cy="1332720"/>
            </a:xfrm>
            <a:custGeom>
              <a:avLst/>
              <a:gdLst/>
              <a:ahLst/>
              <a:rect l="l" t="t" r="r" b="b"/>
              <a:pathLst>
                <a:path w="84" h="803">
                  <a:moveTo>
                    <a:pt x="42" y="803"/>
                  </a:moveTo>
                  <a:lnTo>
                    <a:pt x="84" y="80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803"/>
                  </a:lnTo>
                  <a:lnTo>
                    <a:pt x="42" y="803"/>
                  </a:lnTo>
                  <a:lnTo>
                    <a:pt x="42" y="80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04920" y="3200400"/>
            <a:ext cx="4038480" cy="231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Under this distribution the </a:t>
            </a: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random variable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 has a                              </a:t>
            </a:r>
            <a:r>
              <a:rPr b="1" i="1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CA" sz="3600" spc="-1" strike="noStrike">
                <a:solidFill>
                  <a:srgbClr val="000000"/>
                </a:solidFill>
                <a:latin typeface="Times New Roman"/>
              </a:rPr>
              <a:t>countable number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           of possible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3200400"/>
            <a:ext cx="3962520" cy="2316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Under this distribution the </a:t>
            </a: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random variable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 has an                                 </a:t>
            </a:r>
            <a:r>
              <a:rPr b="1" i="1" lang="en-CA" sz="3600" spc="-1" strike="noStrike">
                <a:solidFill>
                  <a:srgbClr val="000000"/>
                </a:solidFill>
                <a:latin typeface="Times New Roman"/>
              </a:rPr>
              <a:t>infinite number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                of possible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2241720"/>
            <a:ext cx="2209680" cy="4878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638680" y="5791320"/>
            <a:ext cx="3352680" cy="703440"/>
            <a:chOff x="5638680" y="5791320"/>
            <a:chExt cx="3352680" cy="703440"/>
          </a:xfrm>
        </p:grpSpPr>
        <p:sp>
          <p:nvSpPr>
            <p:cNvPr id="83" name=""/>
            <p:cNvSpPr/>
            <p:nvPr/>
          </p:nvSpPr>
          <p:spPr>
            <a:xfrm>
              <a:off x="5638680" y="6172200"/>
              <a:ext cx="335268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50320" y="5791320"/>
              <a:ext cx="2297520" cy="7034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53009" dir="8306017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Exampl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60400" y="1447920"/>
            <a:ext cx="2209680" cy="52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429000" y="1066680"/>
            <a:ext cx="2361960" cy="914400"/>
            <a:chOff x="3429000" y="1066680"/>
            <a:chExt cx="2361960" cy="914400"/>
          </a:xfrm>
        </p:grpSpPr>
        <p:sp>
          <p:nvSpPr>
            <p:cNvPr id="87" name=""/>
            <p:cNvSpPr/>
            <p:nvPr/>
          </p:nvSpPr>
          <p:spPr>
            <a:xfrm>
              <a:off x="3429000" y="1676160"/>
              <a:ext cx="2361960" cy="304920"/>
            </a:xfrm>
            <a:custGeom>
              <a:avLst/>
              <a:gdLst/>
              <a:ahLst/>
              <a:rect l="l" t="t" r="r" b="b"/>
              <a:pathLst>
                <a:path w="1152" h="119">
                  <a:moveTo>
                    <a:pt x="870" y="41"/>
                  </a:moveTo>
                  <a:lnTo>
                    <a:pt x="870" y="0"/>
                  </a:lnTo>
                  <a:lnTo>
                    <a:pt x="1152" y="61"/>
                  </a:lnTo>
                  <a:lnTo>
                    <a:pt x="870" y="119"/>
                  </a:lnTo>
                  <a:lnTo>
                    <a:pt x="870" y="78"/>
                  </a:lnTo>
                  <a:lnTo>
                    <a:pt x="282" y="78"/>
                  </a:lnTo>
                  <a:lnTo>
                    <a:pt x="282" y="119"/>
                  </a:lnTo>
                  <a:lnTo>
                    <a:pt x="0" y="61"/>
                  </a:lnTo>
                  <a:lnTo>
                    <a:pt x="282" y="0"/>
                  </a:lnTo>
                  <a:lnTo>
                    <a:pt x="282" y="41"/>
                  </a:lnTo>
                  <a:lnTo>
                    <a:pt x="870" y="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11520" y="1066680"/>
              <a:ext cx="196920" cy="761760"/>
            </a:xfrm>
            <a:custGeom>
              <a:avLst/>
              <a:gdLst/>
              <a:ahLst/>
              <a:rect l="l" t="t" r="r" b="b"/>
              <a:pathLst>
                <a:path w="84" h="803">
                  <a:moveTo>
                    <a:pt x="42" y="803"/>
                  </a:moveTo>
                  <a:lnTo>
                    <a:pt x="84" y="80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803"/>
                  </a:lnTo>
                  <a:lnTo>
                    <a:pt x="42" y="803"/>
                  </a:lnTo>
                  <a:lnTo>
                    <a:pt x="42" y="80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13280" y="1479600"/>
            <a:ext cx="2210040" cy="4878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31160" y="2041560"/>
            <a:ext cx="2297520" cy="70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009" dir="830601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2280" y="2209680"/>
            <a:ext cx="3048120" cy="1552320"/>
            <a:chOff x="152280" y="2209680"/>
            <a:chExt cx="3048120" cy="155232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52280" y="2209680"/>
              <a:ext cx="3048120" cy="15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68560" y="2223720"/>
              <a:ext cx="28994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ffff"/>
                  </a:solidFill>
                  <a:latin typeface="Times New Roman"/>
                </a:rPr>
                <a:t>Students</a:t>
              </a:r>
              <a:r>
                <a:rPr b="1" lang="en-US" sz="2800" spc="-1" strike="noStrike">
                  <a:solidFill>
                    <a:srgbClr val="00ffff"/>
                  </a:solidFill>
                  <a:latin typeface="Times New Roman"/>
                </a:rPr>
                <a:t> in a cla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809880"/>
            <a:ext cx="3373560" cy="1419480"/>
            <a:chOff x="0" y="3809880"/>
            <a:chExt cx="3373560" cy="141948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1066680" y="3809880"/>
              <a:ext cx="121788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0" y="4038480"/>
              <a:ext cx="3373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hildren in a famil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317600" y="76320"/>
            <a:ext cx="7827120" cy="1191240"/>
            <a:chOff x="1317600" y="76320"/>
            <a:chExt cx="7827120" cy="1191240"/>
          </a:xfrm>
        </p:grpSpPr>
        <p:sp>
          <p:nvSpPr>
            <p:cNvPr id="98" name=""/>
            <p:cNvSpPr/>
            <p:nvPr/>
          </p:nvSpPr>
          <p:spPr>
            <a:xfrm>
              <a:off x="1317600" y="169920"/>
              <a:ext cx="761760" cy="1041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20120" y="76320"/>
              <a:ext cx="7824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ypes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f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Probability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Distributions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8600" y="5257800"/>
            <a:ext cx="3581280" cy="1175400"/>
            <a:chOff x="228600" y="5257800"/>
            <a:chExt cx="3581280" cy="1175400"/>
          </a:xfrm>
        </p:grpSpPr>
        <p:grpSp>
          <p:nvGrpSpPr>
            <p:cNvPr id="101" name=""/>
            <p:cNvGrpSpPr/>
            <p:nvPr/>
          </p:nvGrpSpPr>
          <p:grpSpPr>
            <a:xfrm>
              <a:off x="990720" y="5257800"/>
              <a:ext cx="1372680" cy="1169640"/>
              <a:chOff x="990720" y="5257800"/>
              <a:chExt cx="1372680" cy="1169640"/>
            </a:xfrm>
          </p:grpSpPr>
          <p:sp>
            <p:nvSpPr>
              <p:cNvPr id="102" name=""/>
              <p:cNvSpPr/>
              <p:nvPr/>
            </p:nvSpPr>
            <p:spPr>
              <a:xfrm>
                <a:off x="1227600" y="6255000"/>
                <a:ext cx="1135800" cy="172440"/>
              </a:xfrm>
              <a:custGeom>
                <a:avLst/>
                <a:gdLst/>
                <a:ahLst/>
                <a:rect l="l" t="t" r="r" b="b"/>
                <a:pathLst>
                  <a:path w="718" h="158">
                    <a:moveTo>
                      <a:pt x="9" y="158"/>
                    </a:moveTo>
                    <a:lnTo>
                      <a:pt x="15" y="155"/>
                    </a:lnTo>
                    <a:lnTo>
                      <a:pt x="20" y="152"/>
                    </a:lnTo>
                    <a:lnTo>
                      <a:pt x="23" y="149"/>
                    </a:lnTo>
                    <a:lnTo>
                      <a:pt x="32" y="144"/>
                    </a:lnTo>
                    <a:lnTo>
                      <a:pt x="35" y="138"/>
                    </a:lnTo>
                    <a:lnTo>
                      <a:pt x="38" y="132"/>
                    </a:lnTo>
                    <a:lnTo>
                      <a:pt x="43" y="126"/>
                    </a:lnTo>
                    <a:lnTo>
                      <a:pt x="46" y="118"/>
                    </a:lnTo>
                    <a:lnTo>
                      <a:pt x="49" y="109"/>
                    </a:lnTo>
                    <a:lnTo>
                      <a:pt x="52" y="100"/>
                    </a:lnTo>
                    <a:lnTo>
                      <a:pt x="52" y="92"/>
                    </a:lnTo>
                    <a:lnTo>
                      <a:pt x="55" y="83"/>
                    </a:lnTo>
                    <a:lnTo>
                      <a:pt x="52" y="75"/>
                    </a:lnTo>
                    <a:lnTo>
                      <a:pt x="52" y="63"/>
                    </a:lnTo>
                    <a:lnTo>
                      <a:pt x="52" y="54"/>
                    </a:lnTo>
                    <a:lnTo>
                      <a:pt x="49" y="46"/>
                    </a:lnTo>
                    <a:lnTo>
                      <a:pt x="46" y="40"/>
                    </a:lnTo>
                    <a:lnTo>
                      <a:pt x="43" y="31"/>
                    </a:lnTo>
                    <a:lnTo>
                      <a:pt x="38" y="23"/>
                    </a:lnTo>
                    <a:lnTo>
                      <a:pt x="32" y="17"/>
                    </a:lnTo>
                    <a:lnTo>
                      <a:pt x="29" y="14"/>
                    </a:lnTo>
                    <a:lnTo>
                      <a:pt x="23" y="8"/>
                    </a:lnTo>
                    <a:lnTo>
                      <a:pt x="17" y="5"/>
                    </a:lnTo>
                    <a:lnTo>
                      <a:pt x="12" y="2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660" y="0"/>
                    </a:lnTo>
                    <a:lnTo>
                      <a:pt x="672" y="2"/>
                    </a:lnTo>
                    <a:lnTo>
                      <a:pt x="677" y="2"/>
                    </a:lnTo>
                    <a:lnTo>
                      <a:pt x="683" y="5"/>
                    </a:lnTo>
                    <a:lnTo>
                      <a:pt x="686" y="8"/>
                    </a:lnTo>
                    <a:lnTo>
                      <a:pt x="692" y="14"/>
                    </a:lnTo>
                    <a:lnTo>
                      <a:pt x="698" y="17"/>
                    </a:lnTo>
                    <a:lnTo>
                      <a:pt x="703" y="23"/>
                    </a:lnTo>
                    <a:lnTo>
                      <a:pt x="706" y="31"/>
                    </a:lnTo>
                    <a:lnTo>
                      <a:pt x="709" y="40"/>
                    </a:lnTo>
                    <a:lnTo>
                      <a:pt x="712" y="46"/>
                    </a:lnTo>
                    <a:lnTo>
                      <a:pt x="715" y="54"/>
                    </a:lnTo>
                    <a:lnTo>
                      <a:pt x="718" y="63"/>
                    </a:lnTo>
                    <a:lnTo>
                      <a:pt x="718" y="75"/>
                    </a:lnTo>
                    <a:lnTo>
                      <a:pt x="718" y="83"/>
                    </a:lnTo>
                    <a:lnTo>
                      <a:pt x="718" y="92"/>
                    </a:lnTo>
                    <a:lnTo>
                      <a:pt x="715" y="100"/>
                    </a:lnTo>
                    <a:lnTo>
                      <a:pt x="712" y="109"/>
                    </a:lnTo>
                    <a:lnTo>
                      <a:pt x="709" y="118"/>
                    </a:lnTo>
                    <a:lnTo>
                      <a:pt x="706" y="126"/>
                    </a:lnTo>
                    <a:lnTo>
                      <a:pt x="703" y="132"/>
                    </a:lnTo>
                    <a:lnTo>
                      <a:pt x="700" y="138"/>
                    </a:lnTo>
                    <a:lnTo>
                      <a:pt x="695" y="144"/>
                    </a:lnTo>
                    <a:lnTo>
                      <a:pt x="689" y="149"/>
                    </a:lnTo>
                    <a:lnTo>
                      <a:pt x="683" y="152"/>
                    </a:lnTo>
                    <a:lnTo>
                      <a:pt x="677" y="155"/>
                    </a:lnTo>
                    <a:lnTo>
                      <a:pt x="672" y="158"/>
                    </a:lnTo>
                    <a:lnTo>
                      <a:pt x="9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95920" y="6255000"/>
                <a:ext cx="118440" cy="100440"/>
              </a:xfrm>
              <a:custGeom>
                <a:avLst/>
                <a:gdLst/>
                <a:ahLst/>
                <a:rect l="l" t="t" r="r" b="b"/>
                <a:pathLst>
                  <a:path w="75" h="92">
                    <a:moveTo>
                      <a:pt x="72" y="92"/>
                    </a:moveTo>
                    <a:lnTo>
                      <a:pt x="75" y="83"/>
                    </a:lnTo>
                    <a:lnTo>
                      <a:pt x="72" y="75"/>
                    </a:lnTo>
                    <a:lnTo>
                      <a:pt x="72" y="63"/>
                    </a:lnTo>
                    <a:lnTo>
                      <a:pt x="72" y="54"/>
                    </a:lnTo>
                    <a:lnTo>
                      <a:pt x="69" y="46"/>
                    </a:lnTo>
                    <a:lnTo>
                      <a:pt x="66" y="40"/>
                    </a:lnTo>
                    <a:lnTo>
                      <a:pt x="63" y="31"/>
                    </a:lnTo>
                    <a:lnTo>
                      <a:pt x="58" y="23"/>
                    </a:lnTo>
                    <a:lnTo>
                      <a:pt x="52" y="17"/>
                    </a:lnTo>
                    <a:lnTo>
                      <a:pt x="49" y="14"/>
                    </a:lnTo>
                    <a:lnTo>
                      <a:pt x="43" y="8"/>
                    </a:lnTo>
                    <a:lnTo>
                      <a:pt x="37" y="5"/>
                    </a:lnTo>
                    <a:lnTo>
                      <a:pt x="32" y="2"/>
                    </a:lnTo>
                    <a:lnTo>
                      <a:pt x="26" y="2"/>
                    </a:lnTo>
                    <a:lnTo>
                      <a:pt x="20" y="0"/>
                    </a:lnTo>
                    <a:lnTo>
                      <a:pt x="17" y="2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6" y="17"/>
                    </a:lnTo>
                    <a:lnTo>
                      <a:pt x="3" y="26"/>
                    </a:lnTo>
                    <a:lnTo>
                      <a:pt x="3" y="31"/>
                    </a:lnTo>
                    <a:lnTo>
                      <a:pt x="0" y="37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3" y="80"/>
                    </a:lnTo>
                    <a:lnTo>
                      <a:pt x="6" y="83"/>
                    </a:lnTo>
                    <a:lnTo>
                      <a:pt x="9" y="89"/>
                    </a:lnTo>
                    <a:lnTo>
                      <a:pt x="11" y="92"/>
                    </a:lnTo>
                    <a:lnTo>
                      <a:pt x="72" y="92"/>
                    </a:lnTo>
                    <a:close/>
                  </a:path>
                </a:pathLst>
              </a:custGeom>
              <a:solidFill>
                <a:srgbClr val="fcf3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5257800"/>
                <a:ext cx="159840" cy="160200"/>
              </a:xfrm>
              <a:custGeom>
                <a:avLst/>
                <a:gdLst/>
                <a:ahLst/>
                <a:rect l="l" t="t" r="r" b="b"/>
                <a:pathLst>
                  <a:path w="101" h="147">
                    <a:moveTo>
                      <a:pt x="0" y="81"/>
                    </a:moveTo>
                    <a:lnTo>
                      <a:pt x="0" y="89"/>
                    </a:lnTo>
                    <a:lnTo>
                      <a:pt x="0" y="98"/>
                    </a:lnTo>
                    <a:lnTo>
                      <a:pt x="3" y="107"/>
                    </a:lnTo>
                    <a:lnTo>
                      <a:pt x="6" y="115"/>
                    </a:lnTo>
                    <a:lnTo>
                      <a:pt x="9" y="124"/>
                    </a:lnTo>
                    <a:lnTo>
                      <a:pt x="12" y="130"/>
                    </a:lnTo>
                    <a:lnTo>
                      <a:pt x="18" y="135"/>
                    </a:lnTo>
                    <a:lnTo>
                      <a:pt x="20" y="144"/>
                    </a:lnTo>
                    <a:lnTo>
                      <a:pt x="26" y="147"/>
                    </a:lnTo>
                    <a:lnTo>
                      <a:pt x="101" y="147"/>
                    </a:lnTo>
                    <a:lnTo>
                      <a:pt x="101" y="72"/>
                    </a:lnTo>
                    <a:lnTo>
                      <a:pt x="101" y="63"/>
                    </a:lnTo>
                    <a:lnTo>
                      <a:pt x="98" y="55"/>
                    </a:lnTo>
                    <a:lnTo>
                      <a:pt x="98" y="46"/>
                    </a:lnTo>
                    <a:lnTo>
                      <a:pt x="92" y="37"/>
                    </a:lnTo>
                    <a:lnTo>
                      <a:pt x="90" y="32"/>
                    </a:lnTo>
                    <a:lnTo>
                      <a:pt x="87" y="23"/>
                    </a:lnTo>
                    <a:lnTo>
                      <a:pt x="81" y="17"/>
                    </a:lnTo>
                    <a:lnTo>
                      <a:pt x="78" y="11"/>
                    </a:lnTo>
                    <a:lnTo>
                      <a:pt x="72" y="9"/>
                    </a:lnTo>
                    <a:lnTo>
                      <a:pt x="67" y="6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3" y="3"/>
                    </a:lnTo>
                    <a:lnTo>
                      <a:pt x="35" y="6"/>
                    </a:lnTo>
                    <a:lnTo>
                      <a:pt x="32" y="9"/>
                    </a:lnTo>
                    <a:lnTo>
                      <a:pt x="26" y="11"/>
                    </a:lnTo>
                    <a:lnTo>
                      <a:pt x="20" y="17"/>
                    </a:lnTo>
                    <a:lnTo>
                      <a:pt x="18" y="23"/>
                    </a:lnTo>
                    <a:lnTo>
                      <a:pt x="12" y="32"/>
                    </a:lnTo>
                    <a:lnTo>
                      <a:pt x="9" y="37"/>
                    </a:lnTo>
                    <a:lnTo>
                      <a:pt x="6" y="46"/>
                    </a:lnTo>
                    <a:lnTo>
                      <a:pt x="3" y="55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cf3b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77120" y="5257800"/>
                <a:ext cx="1141200" cy="1169640"/>
              </a:xfrm>
              <a:custGeom>
                <a:avLst/>
                <a:gdLst/>
                <a:ahLst/>
                <a:rect l="l" t="t" r="r" b="b"/>
                <a:pathLst>
                  <a:path w="721" h="1072">
                    <a:moveTo>
                      <a:pt x="46" y="72"/>
                    </a:moveTo>
                    <a:lnTo>
                      <a:pt x="46" y="63"/>
                    </a:lnTo>
                    <a:lnTo>
                      <a:pt x="43" y="55"/>
                    </a:lnTo>
                    <a:lnTo>
                      <a:pt x="43" y="46"/>
                    </a:lnTo>
                    <a:lnTo>
                      <a:pt x="37" y="37"/>
                    </a:lnTo>
                    <a:lnTo>
                      <a:pt x="35" y="32"/>
                    </a:lnTo>
                    <a:lnTo>
                      <a:pt x="32" y="23"/>
                    </a:lnTo>
                    <a:lnTo>
                      <a:pt x="26" y="17"/>
                    </a:lnTo>
                    <a:lnTo>
                      <a:pt x="23" y="11"/>
                    </a:lnTo>
                    <a:lnTo>
                      <a:pt x="17" y="9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657" y="0"/>
                    </a:lnTo>
                    <a:lnTo>
                      <a:pt x="669" y="3"/>
                    </a:lnTo>
                    <a:lnTo>
                      <a:pt x="674" y="3"/>
                    </a:lnTo>
                    <a:lnTo>
                      <a:pt x="680" y="3"/>
                    </a:lnTo>
                    <a:lnTo>
                      <a:pt x="686" y="6"/>
                    </a:lnTo>
                    <a:lnTo>
                      <a:pt x="692" y="9"/>
                    </a:lnTo>
                    <a:lnTo>
                      <a:pt x="697" y="14"/>
                    </a:lnTo>
                    <a:lnTo>
                      <a:pt x="703" y="20"/>
                    </a:lnTo>
                    <a:lnTo>
                      <a:pt x="706" y="23"/>
                    </a:lnTo>
                    <a:lnTo>
                      <a:pt x="709" y="32"/>
                    </a:lnTo>
                    <a:lnTo>
                      <a:pt x="715" y="40"/>
                    </a:lnTo>
                    <a:lnTo>
                      <a:pt x="718" y="49"/>
                    </a:lnTo>
                    <a:lnTo>
                      <a:pt x="718" y="58"/>
                    </a:lnTo>
                    <a:lnTo>
                      <a:pt x="721" y="63"/>
                    </a:lnTo>
                    <a:lnTo>
                      <a:pt x="721" y="75"/>
                    </a:lnTo>
                    <a:lnTo>
                      <a:pt x="721" y="83"/>
                    </a:lnTo>
                    <a:lnTo>
                      <a:pt x="721" y="92"/>
                    </a:lnTo>
                    <a:lnTo>
                      <a:pt x="721" y="95"/>
                    </a:lnTo>
                    <a:lnTo>
                      <a:pt x="721" y="409"/>
                    </a:lnTo>
                    <a:lnTo>
                      <a:pt x="721" y="914"/>
                    </a:lnTo>
                    <a:lnTo>
                      <a:pt x="95" y="914"/>
                    </a:lnTo>
                    <a:lnTo>
                      <a:pt x="92" y="916"/>
                    </a:lnTo>
                    <a:lnTo>
                      <a:pt x="86" y="922"/>
                    </a:lnTo>
                    <a:lnTo>
                      <a:pt x="84" y="925"/>
                    </a:lnTo>
                    <a:lnTo>
                      <a:pt x="81" y="931"/>
                    </a:lnTo>
                    <a:lnTo>
                      <a:pt x="78" y="940"/>
                    </a:lnTo>
                    <a:lnTo>
                      <a:pt x="78" y="945"/>
                    </a:lnTo>
                    <a:lnTo>
                      <a:pt x="75" y="951"/>
                    </a:lnTo>
                    <a:lnTo>
                      <a:pt x="75" y="957"/>
                    </a:lnTo>
                    <a:lnTo>
                      <a:pt x="75" y="963"/>
                    </a:lnTo>
                    <a:lnTo>
                      <a:pt x="75" y="968"/>
                    </a:lnTo>
                    <a:lnTo>
                      <a:pt x="75" y="977"/>
                    </a:lnTo>
                    <a:lnTo>
                      <a:pt x="75" y="980"/>
                    </a:lnTo>
                    <a:lnTo>
                      <a:pt x="75" y="989"/>
                    </a:lnTo>
                    <a:lnTo>
                      <a:pt x="78" y="994"/>
                    </a:lnTo>
                    <a:lnTo>
                      <a:pt x="81" y="997"/>
                    </a:lnTo>
                    <a:lnTo>
                      <a:pt x="84" y="1003"/>
                    </a:lnTo>
                    <a:lnTo>
                      <a:pt x="86" y="1006"/>
                    </a:lnTo>
                    <a:lnTo>
                      <a:pt x="147" y="1006"/>
                    </a:lnTo>
                    <a:lnTo>
                      <a:pt x="147" y="1014"/>
                    </a:lnTo>
                    <a:lnTo>
                      <a:pt x="144" y="1023"/>
                    </a:lnTo>
                    <a:lnTo>
                      <a:pt x="141" y="1032"/>
                    </a:lnTo>
                    <a:lnTo>
                      <a:pt x="138" y="1040"/>
                    </a:lnTo>
                    <a:lnTo>
                      <a:pt x="133" y="1046"/>
                    </a:lnTo>
                    <a:lnTo>
                      <a:pt x="130" y="1052"/>
                    </a:lnTo>
                    <a:lnTo>
                      <a:pt x="127" y="1058"/>
                    </a:lnTo>
                    <a:lnTo>
                      <a:pt x="118" y="1063"/>
                    </a:lnTo>
                    <a:lnTo>
                      <a:pt x="110" y="1069"/>
                    </a:lnTo>
                    <a:lnTo>
                      <a:pt x="104" y="1072"/>
                    </a:lnTo>
                    <a:lnTo>
                      <a:pt x="95" y="1072"/>
                    </a:lnTo>
                    <a:lnTo>
                      <a:pt x="92" y="1069"/>
                    </a:lnTo>
                    <a:lnTo>
                      <a:pt x="86" y="1069"/>
                    </a:lnTo>
                    <a:lnTo>
                      <a:pt x="81" y="1066"/>
                    </a:lnTo>
                    <a:lnTo>
                      <a:pt x="75" y="1063"/>
                    </a:lnTo>
                    <a:lnTo>
                      <a:pt x="69" y="1058"/>
                    </a:lnTo>
                    <a:lnTo>
                      <a:pt x="66" y="1052"/>
                    </a:lnTo>
                    <a:lnTo>
                      <a:pt x="61" y="1046"/>
                    </a:lnTo>
                    <a:lnTo>
                      <a:pt x="58" y="1040"/>
                    </a:lnTo>
                    <a:lnTo>
                      <a:pt x="55" y="1032"/>
                    </a:lnTo>
                    <a:lnTo>
                      <a:pt x="52" y="1023"/>
                    </a:lnTo>
                    <a:lnTo>
                      <a:pt x="49" y="1014"/>
                    </a:lnTo>
                    <a:lnTo>
                      <a:pt x="46" y="1006"/>
                    </a:lnTo>
                    <a:lnTo>
                      <a:pt x="46" y="997"/>
                    </a:lnTo>
                    <a:lnTo>
                      <a:pt x="46" y="989"/>
                    </a:lnTo>
                    <a:lnTo>
                      <a:pt x="46" y="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288080" y="5556600"/>
                <a:ext cx="783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88080" y="5581440"/>
                <a:ext cx="783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288080" y="5609880"/>
                <a:ext cx="783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88080" y="5638320"/>
                <a:ext cx="783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288080" y="5666760"/>
                <a:ext cx="5274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46120" y="5695200"/>
                <a:ext cx="62496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88080" y="5722200"/>
                <a:ext cx="783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88080" y="5748480"/>
                <a:ext cx="783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88080" y="5775840"/>
                <a:ext cx="783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88080" y="5804280"/>
                <a:ext cx="39492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42880" y="5832720"/>
                <a:ext cx="6282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288080" y="5860800"/>
                <a:ext cx="783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88080" y="5889240"/>
                <a:ext cx="783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88080" y="5917680"/>
                <a:ext cx="783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288080" y="5942880"/>
                <a:ext cx="783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88080" y="5971320"/>
                <a:ext cx="783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288080" y="5999400"/>
                <a:ext cx="783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288080" y="6027840"/>
                <a:ext cx="783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88080" y="6056280"/>
                <a:ext cx="783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288080" y="6084720"/>
                <a:ext cx="783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88080" y="6113160"/>
                <a:ext cx="783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88080" y="6138000"/>
                <a:ext cx="586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1450080" y="6166440"/>
                <a:ext cx="621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288080" y="6194880"/>
                <a:ext cx="78300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88080" y="6223320"/>
                <a:ext cx="7830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65960" y="5327280"/>
                <a:ext cx="1191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ortgage Loa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228600" y="5486040"/>
              <a:ext cx="3581280" cy="947160"/>
            </a:xfrm>
            <a:prstGeom prst="rect">
              <a:avLst/>
            </a:prstGeom>
            <a:solidFill>
              <a:srgbClr val="fcf3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of Mortgages approved in a mon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8966160" y="3902040"/>
            <a:ext cx="180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74200" y="373068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88240" y="3730680"/>
            <a:ext cx="180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72000" y="2911320"/>
            <a:ext cx="4571640" cy="1023120"/>
            <a:chOff x="4572000" y="2911320"/>
            <a:chExt cx="4571640" cy="1023120"/>
          </a:xfrm>
        </p:grpSpPr>
        <p:sp>
          <p:nvSpPr>
            <p:cNvPr id="137" name=""/>
            <p:cNvSpPr/>
            <p:nvPr/>
          </p:nvSpPr>
          <p:spPr>
            <a:xfrm>
              <a:off x="9138960" y="35985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5607000" y="2911320"/>
              <a:ext cx="2627640" cy="838080"/>
              <a:chOff x="5607000" y="2911320"/>
              <a:chExt cx="2627640" cy="83808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5672520" y="2913840"/>
                <a:ext cx="2562120" cy="820800"/>
                <a:chOff x="5672520" y="2913840"/>
                <a:chExt cx="2562120" cy="8208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715720" y="3024000"/>
                  <a:ext cx="554040" cy="65880"/>
                </a:xfrm>
                <a:custGeom>
                  <a:avLst/>
                  <a:gdLst/>
                  <a:ahLst/>
                  <a:rect l="l" t="t" r="r" b="b"/>
                  <a:pathLst>
                    <a:path w="650" h="73">
                      <a:moveTo>
                        <a:pt x="0" y="60"/>
                      </a:moveTo>
                      <a:lnTo>
                        <a:pt x="6" y="57"/>
                      </a:lnTo>
                      <a:lnTo>
                        <a:pt x="13" y="57"/>
                      </a:lnTo>
                      <a:lnTo>
                        <a:pt x="16" y="54"/>
                      </a:lnTo>
                      <a:lnTo>
                        <a:pt x="22" y="54"/>
                      </a:lnTo>
                      <a:lnTo>
                        <a:pt x="29" y="54"/>
                      </a:lnTo>
                      <a:lnTo>
                        <a:pt x="32" y="51"/>
                      </a:lnTo>
                      <a:lnTo>
                        <a:pt x="38" y="51"/>
                      </a:lnTo>
                      <a:lnTo>
                        <a:pt x="44" y="47"/>
                      </a:lnTo>
                      <a:lnTo>
                        <a:pt x="51" y="47"/>
                      </a:lnTo>
                      <a:lnTo>
                        <a:pt x="54" y="47"/>
                      </a:lnTo>
                      <a:lnTo>
                        <a:pt x="60" y="44"/>
                      </a:lnTo>
                      <a:lnTo>
                        <a:pt x="67" y="44"/>
                      </a:lnTo>
                      <a:lnTo>
                        <a:pt x="70" y="44"/>
                      </a:lnTo>
                      <a:lnTo>
                        <a:pt x="76" y="41"/>
                      </a:lnTo>
                      <a:lnTo>
                        <a:pt x="83" y="41"/>
                      </a:lnTo>
                      <a:lnTo>
                        <a:pt x="89" y="41"/>
                      </a:lnTo>
                      <a:lnTo>
                        <a:pt x="102" y="38"/>
                      </a:lnTo>
                      <a:lnTo>
                        <a:pt x="115" y="38"/>
                      </a:lnTo>
                      <a:lnTo>
                        <a:pt x="127" y="35"/>
                      </a:lnTo>
                      <a:lnTo>
                        <a:pt x="143" y="35"/>
                      </a:lnTo>
                      <a:lnTo>
                        <a:pt x="156" y="31"/>
                      </a:lnTo>
                      <a:lnTo>
                        <a:pt x="169" y="31"/>
                      </a:lnTo>
                      <a:lnTo>
                        <a:pt x="185" y="28"/>
                      </a:lnTo>
                      <a:lnTo>
                        <a:pt x="197" y="28"/>
                      </a:lnTo>
                      <a:lnTo>
                        <a:pt x="210" y="25"/>
                      </a:lnTo>
                      <a:lnTo>
                        <a:pt x="223" y="25"/>
                      </a:lnTo>
                      <a:lnTo>
                        <a:pt x="239" y="22"/>
                      </a:lnTo>
                      <a:lnTo>
                        <a:pt x="252" y="22"/>
                      </a:lnTo>
                      <a:lnTo>
                        <a:pt x="264" y="22"/>
                      </a:lnTo>
                      <a:lnTo>
                        <a:pt x="280" y="19"/>
                      </a:lnTo>
                      <a:lnTo>
                        <a:pt x="293" y="19"/>
                      </a:lnTo>
                      <a:lnTo>
                        <a:pt x="306" y="19"/>
                      </a:lnTo>
                      <a:lnTo>
                        <a:pt x="315" y="16"/>
                      </a:lnTo>
                      <a:lnTo>
                        <a:pt x="328" y="16"/>
                      </a:lnTo>
                      <a:lnTo>
                        <a:pt x="338" y="16"/>
                      </a:lnTo>
                      <a:lnTo>
                        <a:pt x="347" y="12"/>
                      </a:lnTo>
                      <a:lnTo>
                        <a:pt x="360" y="12"/>
                      </a:lnTo>
                      <a:lnTo>
                        <a:pt x="370" y="12"/>
                      </a:lnTo>
                      <a:lnTo>
                        <a:pt x="379" y="12"/>
                      </a:lnTo>
                      <a:lnTo>
                        <a:pt x="389" y="9"/>
                      </a:lnTo>
                      <a:lnTo>
                        <a:pt x="402" y="9"/>
                      </a:lnTo>
                      <a:lnTo>
                        <a:pt x="411" y="9"/>
                      </a:lnTo>
                      <a:lnTo>
                        <a:pt x="421" y="6"/>
                      </a:lnTo>
                      <a:lnTo>
                        <a:pt x="433" y="6"/>
                      </a:lnTo>
                      <a:lnTo>
                        <a:pt x="443" y="6"/>
                      </a:lnTo>
                      <a:lnTo>
                        <a:pt x="453" y="6"/>
                      </a:lnTo>
                      <a:lnTo>
                        <a:pt x="465" y="6"/>
                      </a:lnTo>
                      <a:lnTo>
                        <a:pt x="475" y="6"/>
                      </a:lnTo>
                      <a:lnTo>
                        <a:pt x="484" y="3"/>
                      </a:lnTo>
                      <a:lnTo>
                        <a:pt x="497" y="3"/>
                      </a:lnTo>
                      <a:lnTo>
                        <a:pt x="507" y="3"/>
                      </a:lnTo>
                      <a:lnTo>
                        <a:pt x="519" y="3"/>
                      </a:lnTo>
                      <a:lnTo>
                        <a:pt x="529" y="3"/>
                      </a:lnTo>
                      <a:lnTo>
                        <a:pt x="542" y="3"/>
                      </a:lnTo>
                      <a:lnTo>
                        <a:pt x="551" y="3"/>
                      </a:lnTo>
                      <a:lnTo>
                        <a:pt x="564" y="3"/>
                      </a:lnTo>
                      <a:lnTo>
                        <a:pt x="574" y="3"/>
                      </a:lnTo>
                      <a:lnTo>
                        <a:pt x="586" y="3"/>
                      </a:lnTo>
                      <a:lnTo>
                        <a:pt x="596" y="0"/>
                      </a:lnTo>
                      <a:lnTo>
                        <a:pt x="609" y="0"/>
                      </a:lnTo>
                      <a:lnTo>
                        <a:pt x="618" y="0"/>
                      </a:lnTo>
                      <a:lnTo>
                        <a:pt x="631" y="0"/>
                      </a:lnTo>
                      <a:lnTo>
                        <a:pt x="641" y="0"/>
                      </a:lnTo>
                      <a:lnTo>
                        <a:pt x="650" y="0"/>
                      </a:lnTo>
                      <a:lnTo>
                        <a:pt x="644" y="0"/>
                      </a:lnTo>
                      <a:lnTo>
                        <a:pt x="637" y="3"/>
                      </a:lnTo>
                      <a:lnTo>
                        <a:pt x="628" y="6"/>
                      </a:lnTo>
                      <a:lnTo>
                        <a:pt x="615" y="9"/>
                      </a:lnTo>
                      <a:lnTo>
                        <a:pt x="602" y="12"/>
                      </a:lnTo>
                      <a:lnTo>
                        <a:pt x="586" y="12"/>
                      </a:lnTo>
                      <a:lnTo>
                        <a:pt x="570" y="16"/>
                      </a:lnTo>
                      <a:lnTo>
                        <a:pt x="558" y="22"/>
                      </a:lnTo>
                      <a:lnTo>
                        <a:pt x="542" y="25"/>
                      </a:lnTo>
                      <a:lnTo>
                        <a:pt x="526" y="28"/>
                      </a:lnTo>
                      <a:lnTo>
                        <a:pt x="513" y="31"/>
                      </a:lnTo>
                      <a:lnTo>
                        <a:pt x="500" y="31"/>
                      </a:lnTo>
                      <a:lnTo>
                        <a:pt x="488" y="35"/>
                      </a:lnTo>
                      <a:lnTo>
                        <a:pt x="478" y="38"/>
                      </a:lnTo>
                      <a:lnTo>
                        <a:pt x="468" y="41"/>
                      </a:lnTo>
                      <a:lnTo>
                        <a:pt x="462" y="41"/>
                      </a:lnTo>
                      <a:lnTo>
                        <a:pt x="462" y="38"/>
                      </a:lnTo>
                      <a:lnTo>
                        <a:pt x="459" y="38"/>
                      </a:lnTo>
                      <a:lnTo>
                        <a:pt x="459" y="35"/>
                      </a:lnTo>
                      <a:lnTo>
                        <a:pt x="459" y="35"/>
                      </a:lnTo>
                      <a:lnTo>
                        <a:pt x="456" y="31"/>
                      </a:lnTo>
                      <a:lnTo>
                        <a:pt x="456" y="31"/>
                      </a:lnTo>
                      <a:lnTo>
                        <a:pt x="453" y="28"/>
                      </a:lnTo>
                      <a:lnTo>
                        <a:pt x="449" y="28"/>
                      </a:lnTo>
                      <a:lnTo>
                        <a:pt x="446" y="28"/>
                      </a:lnTo>
                      <a:lnTo>
                        <a:pt x="443" y="28"/>
                      </a:lnTo>
                      <a:lnTo>
                        <a:pt x="437" y="28"/>
                      </a:lnTo>
                      <a:lnTo>
                        <a:pt x="430" y="28"/>
                      </a:lnTo>
                      <a:lnTo>
                        <a:pt x="424" y="28"/>
                      </a:lnTo>
                      <a:lnTo>
                        <a:pt x="417" y="28"/>
                      </a:lnTo>
                      <a:lnTo>
                        <a:pt x="408" y="28"/>
                      </a:lnTo>
                      <a:lnTo>
                        <a:pt x="398" y="28"/>
                      </a:lnTo>
                      <a:lnTo>
                        <a:pt x="392" y="31"/>
                      </a:lnTo>
                      <a:lnTo>
                        <a:pt x="382" y="31"/>
                      </a:lnTo>
                      <a:lnTo>
                        <a:pt x="376" y="31"/>
                      </a:lnTo>
                      <a:lnTo>
                        <a:pt x="366" y="31"/>
                      </a:lnTo>
                      <a:lnTo>
                        <a:pt x="360" y="35"/>
                      </a:lnTo>
                      <a:lnTo>
                        <a:pt x="351" y="35"/>
                      </a:lnTo>
                      <a:lnTo>
                        <a:pt x="344" y="35"/>
                      </a:lnTo>
                      <a:lnTo>
                        <a:pt x="335" y="38"/>
                      </a:lnTo>
                      <a:lnTo>
                        <a:pt x="328" y="38"/>
                      </a:lnTo>
                      <a:lnTo>
                        <a:pt x="319" y="38"/>
                      </a:lnTo>
                      <a:lnTo>
                        <a:pt x="312" y="41"/>
                      </a:lnTo>
                      <a:lnTo>
                        <a:pt x="306" y="41"/>
                      </a:lnTo>
                      <a:lnTo>
                        <a:pt x="296" y="41"/>
                      </a:lnTo>
                      <a:lnTo>
                        <a:pt x="290" y="44"/>
                      </a:lnTo>
                      <a:lnTo>
                        <a:pt x="280" y="44"/>
                      </a:lnTo>
                      <a:lnTo>
                        <a:pt x="274" y="44"/>
                      </a:lnTo>
                      <a:lnTo>
                        <a:pt x="264" y="47"/>
                      </a:lnTo>
                      <a:lnTo>
                        <a:pt x="258" y="47"/>
                      </a:lnTo>
                      <a:lnTo>
                        <a:pt x="249" y="47"/>
                      </a:lnTo>
                      <a:lnTo>
                        <a:pt x="242" y="51"/>
                      </a:lnTo>
                      <a:lnTo>
                        <a:pt x="233" y="51"/>
                      </a:lnTo>
                      <a:lnTo>
                        <a:pt x="226" y="51"/>
                      </a:lnTo>
                      <a:lnTo>
                        <a:pt x="220" y="54"/>
                      </a:lnTo>
                      <a:lnTo>
                        <a:pt x="210" y="54"/>
                      </a:lnTo>
                      <a:lnTo>
                        <a:pt x="204" y="57"/>
                      </a:lnTo>
                      <a:lnTo>
                        <a:pt x="194" y="57"/>
                      </a:lnTo>
                      <a:lnTo>
                        <a:pt x="188" y="57"/>
                      </a:lnTo>
                      <a:lnTo>
                        <a:pt x="178" y="60"/>
                      </a:lnTo>
                      <a:lnTo>
                        <a:pt x="172" y="60"/>
                      </a:lnTo>
                      <a:lnTo>
                        <a:pt x="166" y="63"/>
                      </a:lnTo>
                      <a:lnTo>
                        <a:pt x="156" y="63"/>
                      </a:lnTo>
                      <a:lnTo>
                        <a:pt x="150" y="63"/>
                      </a:lnTo>
                      <a:lnTo>
                        <a:pt x="146" y="67"/>
                      </a:lnTo>
                      <a:lnTo>
                        <a:pt x="146" y="67"/>
                      </a:lnTo>
                      <a:lnTo>
                        <a:pt x="143" y="67"/>
                      </a:lnTo>
                      <a:lnTo>
                        <a:pt x="143" y="67"/>
                      </a:lnTo>
                      <a:lnTo>
                        <a:pt x="140" y="70"/>
                      </a:lnTo>
                      <a:lnTo>
                        <a:pt x="140" y="70"/>
                      </a:lnTo>
                      <a:lnTo>
                        <a:pt x="140" y="70"/>
                      </a:lnTo>
                      <a:lnTo>
                        <a:pt x="137" y="73"/>
                      </a:lnTo>
                      <a:lnTo>
                        <a:pt x="127" y="70"/>
                      </a:lnTo>
                      <a:lnTo>
                        <a:pt x="121" y="70"/>
                      </a:lnTo>
                      <a:lnTo>
                        <a:pt x="111" y="70"/>
                      </a:lnTo>
                      <a:lnTo>
                        <a:pt x="102" y="70"/>
                      </a:lnTo>
                      <a:lnTo>
                        <a:pt x="95" y="67"/>
                      </a:lnTo>
                      <a:lnTo>
                        <a:pt x="86" y="67"/>
                      </a:lnTo>
                      <a:lnTo>
                        <a:pt x="76" y="67"/>
                      </a:lnTo>
                      <a:lnTo>
                        <a:pt x="70" y="67"/>
                      </a:lnTo>
                      <a:lnTo>
                        <a:pt x="60" y="63"/>
                      </a:lnTo>
                      <a:lnTo>
                        <a:pt x="51" y="63"/>
                      </a:lnTo>
                      <a:lnTo>
                        <a:pt x="44" y="63"/>
                      </a:lnTo>
                      <a:lnTo>
                        <a:pt x="35" y="63"/>
                      </a:lnTo>
                      <a:lnTo>
                        <a:pt x="25" y="60"/>
                      </a:lnTo>
                      <a:lnTo>
                        <a:pt x="16" y="60"/>
                      </a:lnTo>
                      <a:lnTo>
                        <a:pt x="9" y="60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715720" y="3017520"/>
                  <a:ext cx="556560" cy="66600"/>
                </a:xfrm>
                <a:custGeom>
                  <a:avLst/>
                  <a:gdLst/>
                  <a:ahLst/>
                  <a:rect l="l" t="t" r="r" b="b"/>
                  <a:pathLst>
                    <a:path w="653" h="74">
                      <a:moveTo>
                        <a:pt x="0" y="58"/>
                      </a:moveTo>
                      <a:lnTo>
                        <a:pt x="6" y="58"/>
                      </a:lnTo>
                      <a:lnTo>
                        <a:pt x="13" y="58"/>
                      </a:lnTo>
                      <a:lnTo>
                        <a:pt x="16" y="54"/>
                      </a:lnTo>
                      <a:lnTo>
                        <a:pt x="22" y="54"/>
                      </a:lnTo>
                      <a:lnTo>
                        <a:pt x="29" y="51"/>
                      </a:lnTo>
                      <a:lnTo>
                        <a:pt x="32" y="51"/>
                      </a:lnTo>
                      <a:lnTo>
                        <a:pt x="38" y="51"/>
                      </a:lnTo>
                      <a:lnTo>
                        <a:pt x="44" y="48"/>
                      </a:lnTo>
                      <a:lnTo>
                        <a:pt x="51" y="48"/>
                      </a:lnTo>
                      <a:lnTo>
                        <a:pt x="54" y="45"/>
                      </a:lnTo>
                      <a:lnTo>
                        <a:pt x="60" y="45"/>
                      </a:lnTo>
                      <a:lnTo>
                        <a:pt x="67" y="45"/>
                      </a:lnTo>
                      <a:lnTo>
                        <a:pt x="73" y="45"/>
                      </a:lnTo>
                      <a:lnTo>
                        <a:pt x="76" y="42"/>
                      </a:lnTo>
                      <a:lnTo>
                        <a:pt x="83" y="42"/>
                      </a:lnTo>
                      <a:lnTo>
                        <a:pt x="89" y="42"/>
                      </a:lnTo>
                      <a:lnTo>
                        <a:pt x="95" y="38"/>
                      </a:lnTo>
                      <a:lnTo>
                        <a:pt x="102" y="38"/>
                      </a:lnTo>
                      <a:lnTo>
                        <a:pt x="108" y="38"/>
                      </a:lnTo>
                      <a:lnTo>
                        <a:pt x="115" y="38"/>
                      </a:lnTo>
                      <a:lnTo>
                        <a:pt x="121" y="35"/>
                      </a:lnTo>
                      <a:lnTo>
                        <a:pt x="127" y="35"/>
                      </a:lnTo>
                      <a:lnTo>
                        <a:pt x="137" y="35"/>
                      </a:lnTo>
                      <a:lnTo>
                        <a:pt x="143" y="35"/>
                      </a:lnTo>
                      <a:lnTo>
                        <a:pt x="150" y="32"/>
                      </a:lnTo>
                      <a:lnTo>
                        <a:pt x="156" y="32"/>
                      </a:lnTo>
                      <a:lnTo>
                        <a:pt x="162" y="32"/>
                      </a:lnTo>
                      <a:lnTo>
                        <a:pt x="169" y="32"/>
                      </a:lnTo>
                      <a:lnTo>
                        <a:pt x="175" y="29"/>
                      </a:lnTo>
                      <a:lnTo>
                        <a:pt x="185" y="29"/>
                      </a:lnTo>
                      <a:lnTo>
                        <a:pt x="191" y="29"/>
                      </a:lnTo>
                      <a:lnTo>
                        <a:pt x="197" y="29"/>
                      </a:lnTo>
                      <a:lnTo>
                        <a:pt x="204" y="29"/>
                      </a:lnTo>
                      <a:lnTo>
                        <a:pt x="210" y="26"/>
                      </a:lnTo>
                      <a:lnTo>
                        <a:pt x="217" y="26"/>
                      </a:lnTo>
                      <a:lnTo>
                        <a:pt x="226" y="26"/>
                      </a:lnTo>
                      <a:lnTo>
                        <a:pt x="233" y="26"/>
                      </a:lnTo>
                      <a:lnTo>
                        <a:pt x="239" y="23"/>
                      </a:lnTo>
                      <a:lnTo>
                        <a:pt x="245" y="23"/>
                      </a:lnTo>
                      <a:lnTo>
                        <a:pt x="252" y="23"/>
                      </a:lnTo>
                      <a:lnTo>
                        <a:pt x="258" y="23"/>
                      </a:lnTo>
                      <a:lnTo>
                        <a:pt x="264" y="23"/>
                      </a:lnTo>
                      <a:lnTo>
                        <a:pt x="274" y="19"/>
                      </a:lnTo>
                      <a:lnTo>
                        <a:pt x="280" y="19"/>
                      </a:lnTo>
                      <a:lnTo>
                        <a:pt x="287" y="19"/>
                      </a:lnTo>
                      <a:lnTo>
                        <a:pt x="293" y="19"/>
                      </a:lnTo>
                      <a:lnTo>
                        <a:pt x="300" y="19"/>
                      </a:lnTo>
                      <a:lnTo>
                        <a:pt x="306" y="19"/>
                      </a:lnTo>
                      <a:lnTo>
                        <a:pt x="319" y="16"/>
                      </a:lnTo>
                      <a:lnTo>
                        <a:pt x="328" y="16"/>
                      </a:lnTo>
                      <a:lnTo>
                        <a:pt x="338" y="16"/>
                      </a:lnTo>
                      <a:lnTo>
                        <a:pt x="351" y="13"/>
                      </a:lnTo>
                      <a:lnTo>
                        <a:pt x="360" y="13"/>
                      </a:lnTo>
                      <a:lnTo>
                        <a:pt x="370" y="13"/>
                      </a:lnTo>
                      <a:lnTo>
                        <a:pt x="379" y="10"/>
                      </a:lnTo>
                      <a:lnTo>
                        <a:pt x="392" y="10"/>
                      </a:lnTo>
                      <a:lnTo>
                        <a:pt x="402" y="10"/>
                      </a:lnTo>
                      <a:lnTo>
                        <a:pt x="411" y="10"/>
                      </a:lnTo>
                      <a:lnTo>
                        <a:pt x="421" y="7"/>
                      </a:lnTo>
                      <a:lnTo>
                        <a:pt x="433" y="7"/>
                      </a:lnTo>
                      <a:lnTo>
                        <a:pt x="443" y="7"/>
                      </a:lnTo>
                      <a:lnTo>
                        <a:pt x="453" y="7"/>
                      </a:lnTo>
                      <a:lnTo>
                        <a:pt x="465" y="7"/>
                      </a:lnTo>
                      <a:lnTo>
                        <a:pt x="475" y="3"/>
                      </a:lnTo>
                      <a:lnTo>
                        <a:pt x="484" y="3"/>
                      </a:lnTo>
                      <a:lnTo>
                        <a:pt x="497" y="3"/>
                      </a:lnTo>
                      <a:lnTo>
                        <a:pt x="507" y="3"/>
                      </a:lnTo>
                      <a:lnTo>
                        <a:pt x="519" y="3"/>
                      </a:lnTo>
                      <a:lnTo>
                        <a:pt x="529" y="3"/>
                      </a:lnTo>
                      <a:lnTo>
                        <a:pt x="542" y="3"/>
                      </a:lnTo>
                      <a:lnTo>
                        <a:pt x="551" y="3"/>
                      </a:lnTo>
                      <a:lnTo>
                        <a:pt x="564" y="3"/>
                      </a:lnTo>
                      <a:lnTo>
                        <a:pt x="574" y="0"/>
                      </a:lnTo>
                      <a:lnTo>
                        <a:pt x="586" y="0"/>
                      </a:lnTo>
                      <a:lnTo>
                        <a:pt x="596" y="0"/>
                      </a:lnTo>
                      <a:lnTo>
                        <a:pt x="609" y="0"/>
                      </a:lnTo>
                      <a:lnTo>
                        <a:pt x="618" y="0"/>
                      </a:lnTo>
                      <a:lnTo>
                        <a:pt x="631" y="0"/>
                      </a:lnTo>
                      <a:lnTo>
                        <a:pt x="641" y="0"/>
                      </a:lnTo>
                      <a:lnTo>
                        <a:pt x="653" y="0"/>
                      </a:lnTo>
                      <a:lnTo>
                        <a:pt x="647" y="0"/>
                      </a:lnTo>
                      <a:lnTo>
                        <a:pt x="641" y="3"/>
                      </a:lnTo>
                      <a:lnTo>
                        <a:pt x="637" y="3"/>
                      </a:lnTo>
                      <a:lnTo>
                        <a:pt x="631" y="3"/>
                      </a:lnTo>
                      <a:lnTo>
                        <a:pt x="625" y="7"/>
                      </a:lnTo>
                      <a:lnTo>
                        <a:pt x="621" y="7"/>
                      </a:lnTo>
                      <a:lnTo>
                        <a:pt x="615" y="7"/>
                      </a:lnTo>
                      <a:lnTo>
                        <a:pt x="609" y="10"/>
                      </a:lnTo>
                      <a:lnTo>
                        <a:pt x="606" y="10"/>
                      </a:lnTo>
                      <a:lnTo>
                        <a:pt x="599" y="13"/>
                      </a:lnTo>
                      <a:lnTo>
                        <a:pt x="593" y="13"/>
                      </a:lnTo>
                      <a:lnTo>
                        <a:pt x="590" y="13"/>
                      </a:lnTo>
                      <a:lnTo>
                        <a:pt x="583" y="16"/>
                      </a:lnTo>
                      <a:lnTo>
                        <a:pt x="580" y="16"/>
                      </a:lnTo>
                      <a:lnTo>
                        <a:pt x="574" y="16"/>
                      </a:lnTo>
                      <a:lnTo>
                        <a:pt x="567" y="19"/>
                      </a:lnTo>
                      <a:lnTo>
                        <a:pt x="558" y="19"/>
                      </a:lnTo>
                      <a:lnTo>
                        <a:pt x="548" y="19"/>
                      </a:lnTo>
                      <a:lnTo>
                        <a:pt x="535" y="19"/>
                      </a:lnTo>
                      <a:lnTo>
                        <a:pt x="526" y="19"/>
                      </a:lnTo>
                      <a:lnTo>
                        <a:pt x="516" y="23"/>
                      </a:lnTo>
                      <a:lnTo>
                        <a:pt x="504" y="23"/>
                      </a:lnTo>
                      <a:lnTo>
                        <a:pt x="494" y="23"/>
                      </a:lnTo>
                      <a:lnTo>
                        <a:pt x="484" y="23"/>
                      </a:lnTo>
                      <a:lnTo>
                        <a:pt x="472" y="23"/>
                      </a:lnTo>
                      <a:lnTo>
                        <a:pt x="462" y="26"/>
                      </a:lnTo>
                      <a:lnTo>
                        <a:pt x="453" y="26"/>
                      </a:lnTo>
                      <a:lnTo>
                        <a:pt x="440" y="26"/>
                      </a:lnTo>
                      <a:lnTo>
                        <a:pt x="430" y="26"/>
                      </a:lnTo>
                      <a:lnTo>
                        <a:pt x="421" y="29"/>
                      </a:lnTo>
                      <a:lnTo>
                        <a:pt x="408" y="29"/>
                      </a:lnTo>
                      <a:lnTo>
                        <a:pt x="398" y="29"/>
                      </a:lnTo>
                      <a:lnTo>
                        <a:pt x="392" y="32"/>
                      </a:lnTo>
                      <a:lnTo>
                        <a:pt x="382" y="32"/>
                      </a:lnTo>
                      <a:lnTo>
                        <a:pt x="376" y="32"/>
                      </a:lnTo>
                      <a:lnTo>
                        <a:pt x="366" y="32"/>
                      </a:lnTo>
                      <a:lnTo>
                        <a:pt x="360" y="35"/>
                      </a:lnTo>
                      <a:lnTo>
                        <a:pt x="351" y="35"/>
                      </a:lnTo>
                      <a:lnTo>
                        <a:pt x="344" y="35"/>
                      </a:lnTo>
                      <a:lnTo>
                        <a:pt x="335" y="38"/>
                      </a:lnTo>
                      <a:lnTo>
                        <a:pt x="328" y="38"/>
                      </a:lnTo>
                      <a:lnTo>
                        <a:pt x="319" y="38"/>
                      </a:lnTo>
                      <a:lnTo>
                        <a:pt x="312" y="42"/>
                      </a:lnTo>
                      <a:lnTo>
                        <a:pt x="306" y="42"/>
                      </a:lnTo>
                      <a:lnTo>
                        <a:pt x="296" y="42"/>
                      </a:lnTo>
                      <a:lnTo>
                        <a:pt x="290" y="45"/>
                      </a:lnTo>
                      <a:lnTo>
                        <a:pt x="280" y="45"/>
                      </a:lnTo>
                      <a:lnTo>
                        <a:pt x="274" y="45"/>
                      </a:lnTo>
                      <a:lnTo>
                        <a:pt x="264" y="48"/>
                      </a:lnTo>
                      <a:lnTo>
                        <a:pt x="258" y="48"/>
                      </a:lnTo>
                      <a:lnTo>
                        <a:pt x="249" y="48"/>
                      </a:lnTo>
                      <a:lnTo>
                        <a:pt x="242" y="51"/>
                      </a:lnTo>
                      <a:lnTo>
                        <a:pt x="236" y="51"/>
                      </a:lnTo>
                      <a:lnTo>
                        <a:pt x="226" y="51"/>
                      </a:lnTo>
                      <a:lnTo>
                        <a:pt x="220" y="54"/>
                      </a:lnTo>
                      <a:lnTo>
                        <a:pt x="210" y="54"/>
                      </a:lnTo>
                      <a:lnTo>
                        <a:pt x="204" y="58"/>
                      </a:lnTo>
                      <a:lnTo>
                        <a:pt x="194" y="58"/>
                      </a:lnTo>
                      <a:lnTo>
                        <a:pt x="188" y="58"/>
                      </a:lnTo>
                      <a:lnTo>
                        <a:pt x="182" y="61"/>
                      </a:lnTo>
                      <a:lnTo>
                        <a:pt x="172" y="61"/>
                      </a:lnTo>
                      <a:lnTo>
                        <a:pt x="166" y="64"/>
                      </a:lnTo>
                      <a:lnTo>
                        <a:pt x="156" y="64"/>
                      </a:lnTo>
                      <a:lnTo>
                        <a:pt x="150" y="64"/>
                      </a:lnTo>
                      <a:lnTo>
                        <a:pt x="146" y="64"/>
                      </a:lnTo>
                      <a:lnTo>
                        <a:pt x="146" y="67"/>
                      </a:lnTo>
                      <a:lnTo>
                        <a:pt x="143" y="67"/>
                      </a:lnTo>
                      <a:lnTo>
                        <a:pt x="143" y="67"/>
                      </a:lnTo>
                      <a:lnTo>
                        <a:pt x="140" y="70"/>
                      </a:lnTo>
                      <a:lnTo>
                        <a:pt x="140" y="70"/>
                      </a:lnTo>
                      <a:lnTo>
                        <a:pt x="140" y="70"/>
                      </a:lnTo>
                      <a:lnTo>
                        <a:pt x="137" y="74"/>
                      </a:lnTo>
                      <a:lnTo>
                        <a:pt x="127" y="70"/>
                      </a:lnTo>
                      <a:lnTo>
                        <a:pt x="121" y="70"/>
                      </a:lnTo>
                      <a:lnTo>
                        <a:pt x="111" y="70"/>
                      </a:lnTo>
                      <a:lnTo>
                        <a:pt x="102" y="70"/>
                      </a:lnTo>
                      <a:lnTo>
                        <a:pt x="95" y="67"/>
                      </a:lnTo>
                      <a:lnTo>
                        <a:pt x="86" y="67"/>
                      </a:lnTo>
                      <a:lnTo>
                        <a:pt x="76" y="67"/>
                      </a:lnTo>
                      <a:lnTo>
                        <a:pt x="70" y="67"/>
                      </a:lnTo>
                      <a:lnTo>
                        <a:pt x="60" y="64"/>
                      </a:lnTo>
                      <a:lnTo>
                        <a:pt x="51" y="64"/>
                      </a:lnTo>
                      <a:lnTo>
                        <a:pt x="44" y="64"/>
                      </a:lnTo>
                      <a:lnTo>
                        <a:pt x="35" y="61"/>
                      </a:lnTo>
                      <a:lnTo>
                        <a:pt x="25" y="61"/>
                      </a:lnTo>
                      <a:lnTo>
                        <a:pt x="19" y="61"/>
                      </a:lnTo>
                      <a:lnTo>
                        <a:pt x="9" y="61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718600" y="3015000"/>
                  <a:ext cx="553680" cy="65880"/>
                </a:xfrm>
                <a:custGeom>
                  <a:avLst/>
                  <a:gdLst/>
                  <a:ahLst/>
                  <a:rect l="l" t="t" r="r" b="b"/>
                  <a:pathLst>
                    <a:path w="650" h="73">
                      <a:moveTo>
                        <a:pt x="0" y="57"/>
                      </a:moveTo>
                      <a:lnTo>
                        <a:pt x="6" y="57"/>
                      </a:lnTo>
                      <a:lnTo>
                        <a:pt x="10" y="54"/>
                      </a:lnTo>
                      <a:lnTo>
                        <a:pt x="16" y="54"/>
                      </a:lnTo>
                      <a:lnTo>
                        <a:pt x="19" y="54"/>
                      </a:lnTo>
                      <a:lnTo>
                        <a:pt x="26" y="51"/>
                      </a:lnTo>
                      <a:lnTo>
                        <a:pt x="29" y="51"/>
                      </a:lnTo>
                      <a:lnTo>
                        <a:pt x="35" y="48"/>
                      </a:lnTo>
                      <a:lnTo>
                        <a:pt x="41" y="48"/>
                      </a:lnTo>
                      <a:lnTo>
                        <a:pt x="48" y="48"/>
                      </a:lnTo>
                      <a:lnTo>
                        <a:pt x="51" y="45"/>
                      </a:lnTo>
                      <a:lnTo>
                        <a:pt x="57" y="45"/>
                      </a:lnTo>
                      <a:lnTo>
                        <a:pt x="64" y="45"/>
                      </a:lnTo>
                      <a:lnTo>
                        <a:pt x="70" y="41"/>
                      </a:lnTo>
                      <a:lnTo>
                        <a:pt x="73" y="41"/>
                      </a:lnTo>
                      <a:lnTo>
                        <a:pt x="80" y="41"/>
                      </a:lnTo>
                      <a:lnTo>
                        <a:pt x="86" y="38"/>
                      </a:lnTo>
                      <a:lnTo>
                        <a:pt x="99" y="38"/>
                      </a:lnTo>
                      <a:lnTo>
                        <a:pt x="112" y="35"/>
                      </a:lnTo>
                      <a:lnTo>
                        <a:pt x="128" y="35"/>
                      </a:lnTo>
                      <a:lnTo>
                        <a:pt x="140" y="32"/>
                      </a:lnTo>
                      <a:lnTo>
                        <a:pt x="153" y="32"/>
                      </a:lnTo>
                      <a:lnTo>
                        <a:pt x="166" y="29"/>
                      </a:lnTo>
                      <a:lnTo>
                        <a:pt x="182" y="29"/>
                      </a:lnTo>
                      <a:lnTo>
                        <a:pt x="194" y="26"/>
                      </a:lnTo>
                      <a:lnTo>
                        <a:pt x="207" y="26"/>
                      </a:lnTo>
                      <a:lnTo>
                        <a:pt x="223" y="26"/>
                      </a:lnTo>
                      <a:lnTo>
                        <a:pt x="236" y="22"/>
                      </a:lnTo>
                      <a:lnTo>
                        <a:pt x="249" y="22"/>
                      </a:lnTo>
                      <a:lnTo>
                        <a:pt x="261" y="19"/>
                      </a:lnTo>
                      <a:lnTo>
                        <a:pt x="277" y="19"/>
                      </a:lnTo>
                      <a:lnTo>
                        <a:pt x="290" y="19"/>
                      </a:lnTo>
                      <a:lnTo>
                        <a:pt x="303" y="16"/>
                      </a:lnTo>
                      <a:lnTo>
                        <a:pt x="316" y="16"/>
                      </a:lnTo>
                      <a:lnTo>
                        <a:pt x="325" y="16"/>
                      </a:lnTo>
                      <a:lnTo>
                        <a:pt x="335" y="13"/>
                      </a:lnTo>
                      <a:lnTo>
                        <a:pt x="348" y="13"/>
                      </a:lnTo>
                      <a:lnTo>
                        <a:pt x="357" y="13"/>
                      </a:lnTo>
                      <a:lnTo>
                        <a:pt x="367" y="13"/>
                      </a:lnTo>
                      <a:lnTo>
                        <a:pt x="376" y="10"/>
                      </a:lnTo>
                      <a:lnTo>
                        <a:pt x="389" y="10"/>
                      </a:lnTo>
                      <a:lnTo>
                        <a:pt x="399" y="10"/>
                      </a:lnTo>
                      <a:lnTo>
                        <a:pt x="408" y="10"/>
                      </a:lnTo>
                      <a:lnTo>
                        <a:pt x="418" y="6"/>
                      </a:lnTo>
                      <a:lnTo>
                        <a:pt x="430" y="6"/>
                      </a:lnTo>
                      <a:lnTo>
                        <a:pt x="440" y="6"/>
                      </a:lnTo>
                      <a:lnTo>
                        <a:pt x="450" y="6"/>
                      </a:lnTo>
                      <a:lnTo>
                        <a:pt x="462" y="3"/>
                      </a:lnTo>
                      <a:lnTo>
                        <a:pt x="472" y="3"/>
                      </a:lnTo>
                      <a:lnTo>
                        <a:pt x="481" y="3"/>
                      </a:lnTo>
                      <a:lnTo>
                        <a:pt x="494" y="3"/>
                      </a:lnTo>
                      <a:lnTo>
                        <a:pt x="504" y="3"/>
                      </a:lnTo>
                      <a:lnTo>
                        <a:pt x="516" y="3"/>
                      </a:lnTo>
                      <a:lnTo>
                        <a:pt x="526" y="3"/>
                      </a:lnTo>
                      <a:lnTo>
                        <a:pt x="539" y="3"/>
                      </a:lnTo>
                      <a:lnTo>
                        <a:pt x="548" y="0"/>
                      </a:lnTo>
                      <a:lnTo>
                        <a:pt x="561" y="0"/>
                      </a:lnTo>
                      <a:lnTo>
                        <a:pt x="571" y="0"/>
                      </a:lnTo>
                      <a:lnTo>
                        <a:pt x="583" y="0"/>
                      </a:lnTo>
                      <a:lnTo>
                        <a:pt x="593" y="0"/>
                      </a:lnTo>
                      <a:lnTo>
                        <a:pt x="606" y="0"/>
                      </a:lnTo>
                      <a:lnTo>
                        <a:pt x="615" y="0"/>
                      </a:lnTo>
                      <a:lnTo>
                        <a:pt x="628" y="0"/>
                      </a:lnTo>
                      <a:lnTo>
                        <a:pt x="638" y="0"/>
                      </a:lnTo>
                      <a:lnTo>
                        <a:pt x="650" y="0"/>
                      </a:lnTo>
                      <a:lnTo>
                        <a:pt x="644" y="0"/>
                      </a:lnTo>
                      <a:lnTo>
                        <a:pt x="638" y="0"/>
                      </a:lnTo>
                      <a:lnTo>
                        <a:pt x="634" y="3"/>
                      </a:lnTo>
                      <a:lnTo>
                        <a:pt x="628" y="3"/>
                      </a:lnTo>
                      <a:lnTo>
                        <a:pt x="622" y="6"/>
                      </a:lnTo>
                      <a:lnTo>
                        <a:pt x="618" y="6"/>
                      </a:lnTo>
                      <a:lnTo>
                        <a:pt x="612" y="6"/>
                      </a:lnTo>
                      <a:lnTo>
                        <a:pt x="606" y="10"/>
                      </a:lnTo>
                      <a:lnTo>
                        <a:pt x="603" y="10"/>
                      </a:lnTo>
                      <a:lnTo>
                        <a:pt x="596" y="10"/>
                      </a:lnTo>
                      <a:lnTo>
                        <a:pt x="593" y="13"/>
                      </a:lnTo>
                      <a:lnTo>
                        <a:pt x="587" y="13"/>
                      </a:lnTo>
                      <a:lnTo>
                        <a:pt x="580" y="13"/>
                      </a:lnTo>
                      <a:lnTo>
                        <a:pt x="577" y="16"/>
                      </a:lnTo>
                      <a:lnTo>
                        <a:pt x="571" y="16"/>
                      </a:lnTo>
                      <a:lnTo>
                        <a:pt x="564" y="16"/>
                      </a:lnTo>
                      <a:lnTo>
                        <a:pt x="555" y="19"/>
                      </a:lnTo>
                      <a:lnTo>
                        <a:pt x="545" y="19"/>
                      </a:lnTo>
                      <a:lnTo>
                        <a:pt x="532" y="19"/>
                      </a:lnTo>
                      <a:lnTo>
                        <a:pt x="523" y="19"/>
                      </a:lnTo>
                      <a:lnTo>
                        <a:pt x="513" y="22"/>
                      </a:lnTo>
                      <a:lnTo>
                        <a:pt x="501" y="22"/>
                      </a:lnTo>
                      <a:lnTo>
                        <a:pt x="491" y="22"/>
                      </a:lnTo>
                      <a:lnTo>
                        <a:pt x="481" y="22"/>
                      </a:lnTo>
                      <a:lnTo>
                        <a:pt x="469" y="22"/>
                      </a:lnTo>
                      <a:lnTo>
                        <a:pt x="459" y="22"/>
                      </a:lnTo>
                      <a:lnTo>
                        <a:pt x="450" y="26"/>
                      </a:lnTo>
                      <a:lnTo>
                        <a:pt x="437" y="26"/>
                      </a:lnTo>
                      <a:lnTo>
                        <a:pt x="427" y="26"/>
                      </a:lnTo>
                      <a:lnTo>
                        <a:pt x="418" y="29"/>
                      </a:lnTo>
                      <a:lnTo>
                        <a:pt x="405" y="29"/>
                      </a:lnTo>
                      <a:lnTo>
                        <a:pt x="395" y="29"/>
                      </a:lnTo>
                      <a:lnTo>
                        <a:pt x="389" y="29"/>
                      </a:lnTo>
                      <a:lnTo>
                        <a:pt x="379" y="32"/>
                      </a:lnTo>
                      <a:lnTo>
                        <a:pt x="373" y="32"/>
                      </a:lnTo>
                      <a:lnTo>
                        <a:pt x="363" y="32"/>
                      </a:lnTo>
                      <a:lnTo>
                        <a:pt x="357" y="35"/>
                      </a:lnTo>
                      <a:lnTo>
                        <a:pt x="348" y="35"/>
                      </a:lnTo>
                      <a:lnTo>
                        <a:pt x="341" y="35"/>
                      </a:lnTo>
                      <a:lnTo>
                        <a:pt x="332" y="35"/>
                      </a:lnTo>
                      <a:lnTo>
                        <a:pt x="325" y="38"/>
                      </a:lnTo>
                      <a:lnTo>
                        <a:pt x="316" y="38"/>
                      </a:lnTo>
                      <a:lnTo>
                        <a:pt x="309" y="38"/>
                      </a:lnTo>
                      <a:lnTo>
                        <a:pt x="303" y="41"/>
                      </a:lnTo>
                      <a:lnTo>
                        <a:pt x="293" y="41"/>
                      </a:lnTo>
                      <a:lnTo>
                        <a:pt x="287" y="41"/>
                      </a:lnTo>
                      <a:lnTo>
                        <a:pt x="277" y="45"/>
                      </a:lnTo>
                      <a:lnTo>
                        <a:pt x="271" y="45"/>
                      </a:lnTo>
                      <a:lnTo>
                        <a:pt x="261" y="48"/>
                      </a:lnTo>
                      <a:lnTo>
                        <a:pt x="255" y="48"/>
                      </a:lnTo>
                      <a:lnTo>
                        <a:pt x="246" y="48"/>
                      </a:lnTo>
                      <a:lnTo>
                        <a:pt x="239" y="51"/>
                      </a:lnTo>
                      <a:lnTo>
                        <a:pt x="233" y="51"/>
                      </a:lnTo>
                      <a:lnTo>
                        <a:pt x="223" y="51"/>
                      </a:lnTo>
                      <a:lnTo>
                        <a:pt x="217" y="54"/>
                      </a:lnTo>
                      <a:lnTo>
                        <a:pt x="207" y="54"/>
                      </a:lnTo>
                      <a:lnTo>
                        <a:pt x="201" y="54"/>
                      </a:lnTo>
                      <a:lnTo>
                        <a:pt x="191" y="57"/>
                      </a:lnTo>
                      <a:lnTo>
                        <a:pt x="185" y="57"/>
                      </a:lnTo>
                      <a:lnTo>
                        <a:pt x="179" y="61"/>
                      </a:lnTo>
                      <a:lnTo>
                        <a:pt x="169" y="61"/>
                      </a:lnTo>
                      <a:lnTo>
                        <a:pt x="163" y="61"/>
                      </a:lnTo>
                      <a:lnTo>
                        <a:pt x="153" y="64"/>
                      </a:lnTo>
                      <a:lnTo>
                        <a:pt x="147" y="64"/>
                      </a:lnTo>
                      <a:lnTo>
                        <a:pt x="143" y="64"/>
                      </a:lnTo>
                      <a:lnTo>
                        <a:pt x="143" y="64"/>
                      </a:lnTo>
                      <a:lnTo>
                        <a:pt x="140" y="67"/>
                      </a:lnTo>
                      <a:lnTo>
                        <a:pt x="140" y="67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7" y="70"/>
                      </a:lnTo>
                      <a:lnTo>
                        <a:pt x="134" y="73"/>
                      </a:lnTo>
                      <a:lnTo>
                        <a:pt x="124" y="70"/>
                      </a:lnTo>
                      <a:lnTo>
                        <a:pt x="118" y="70"/>
                      </a:lnTo>
                      <a:lnTo>
                        <a:pt x="108" y="70"/>
                      </a:lnTo>
                      <a:lnTo>
                        <a:pt x="99" y="70"/>
                      </a:lnTo>
                      <a:lnTo>
                        <a:pt x="92" y="67"/>
                      </a:lnTo>
                      <a:lnTo>
                        <a:pt x="83" y="67"/>
                      </a:lnTo>
                      <a:lnTo>
                        <a:pt x="77" y="67"/>
                      </a:lnTo>
                      <a:lnTo>
                        <a:pt x="67" y="64"/>
                      </a:lnTo>
                      <a:lnTo>
                        <a:pt x="57" y="64"/>
                      </a:lnTo>
                      <a:lnTo>
                        <a:pt x="51" y="64"/>
                      </a:lnTo>
                      <a:lnTo>
                        <a:pt x="41" y="64"/>
                      </a:lnTo>
                      <a:lnTo>
                        <a:pt x="35" y="61"/>
                      </a:lnTo>
                      <a:lnTo>
                        <a:pt x="26" y="61"/>
                      </a:lnTo>
                      <a:lnTo>
                        <a:pt x="19" y="61"/>
                      </a:lnTo>
                      <a:lnTo>
                        <a:pt x="10" y="61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ad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672520" y="3441240"/>
                  <a:ext cx="2562120" cy="293400"/>
                </a:xfrm>
                <a:custGeom>
                  <a:avLst/>
                  <a:gdLst/>
                  <a:ahLst/>
                  <a:rect l="l" t="t" r="r" b="b"/>
                  <a:pathLst>
                    <a:path w="3006" h="325">
                      <a:moveTo>
                        <a:pt x="2968" y="121"/>
                      </a:moveTo>
                      <a:lnTo>
                        <a:pt x="2984" y="124"/>
                      </a:lnTo>
                      <a:lnTo>
                        <a:pt x="2993" y="128"/>
                      </a:lnTo>
                      <a:lnTo>
                        <a:pt x="3003" y="134"/>
                      </a:lnTo>
                      <a:lnTo>
                        <a:pt x="3006" y="140"/>
                      </a:lnTo>
                      <a:lnTo>
                        <a:pt x="3006" y="147"/>
                      </a:lnTo>
                      <a:lnTo>
                        <a:pt x="3006" y="153"/>
                      </a:lnTo>
                      <a:lnTo>
                        <a:pt x="3003" y="159"/>
                      </a:lnTo>
                      <a:lnTo>
                        <a:pt x="2996" y="163"/>
                      </a:lnTo>
                      <a:lnTo>
                        <a:pt x="2990" y="166"/>
                      </a:lnTo>
                      <a:lnTo>
                        <a:pt x="2984" y="172"/>
                      </a:lnTo>
                      <a:lnTo>
                        <a:pt x="2977" y="175"/>
                      </a:lnTo>
                      <a:lnTo>
                        <a:pt x="2971" y="179"/>
                      </a:lnTo>
                      <a:lnTo>
                        <a:pt x="2965" y="182"/>
                      </a:lnTo>
                      <a:lnTo>
                        <a:pt x="2955" y="185"/>
                      </a:lnTo>
                      <a:lnTo>
                        <a:pt x="2949" y="188"/>
                      </a:lnTo>
                      <a:lnTo>
                        <a:pt x="2942" y="195"/>
                      </a:lnTo>
                      <a:lnTo>
                        <a:pt x="2933" y="198"/>
                      </a:lnTo>
                      <a:lnTo>
                        <a:pt x="2926" y="198"/>
                      </a:lnTo>
                      <a:lnTo>
                        <a:pt x="2920" y="201"/>
                      </a:lnTo>
                      <a:lnTo>
                        <a:pt x="2910" y="204"/>
                      </a:lnTo>
                      <a:lnTo>
                        <a:pt x="2904" y="207"/>
                      </a:lnTo>
                      <a:lnTo>
                        <a:pt x="2894" y="210"/>
                      </a:lnTo>
                      <a:lnTo>
                        <a:pt x="2888" y="214"/>
                      </a:lnTo>
                      <a:lnTo>
                        <a:pt x="2882" y="217"/>
                      </a:lnTo>
                      <a:lnTo>
                        <a:pt x="2872" y="220"/>
                      </a:lnTo>
                      <a:lnTo>
                        <a:pt x="2866" y="220"/>
                      </a:lnTo>
                      <a:lnTo>
                        <a:pt x="2856" y="223"/>
                      </a:lnTo>
                      <a:lnTo>
                        <a:pt x="2850" y="226"/>
                      </a:lnTo>
                      <a:lnTo>
                        <a:pt x="2840" y="230"/>
                      </a:lnTo>
                      <a:lnTo>
                        <a:pt x="2834" y="233"/>
                      </a:lnTo>
                      <a:lnTo>
                        <a:pt x="2824" y="236"/>
                      </a:lnTo>
                      <a:lnTo>
                        <a:pt x="2818" y="239"/>
                      </a:lnTo>
                      <a:lnTo>
                        <a:pt x="2808" y="239"/>
                      </a:lnTo>
                      <a:lnTo>
                        <a:pt x="2802" y="242"/>
                      </a:lnTo>
                      <a:lnTo>
                        <a:pt x="2792" y="246"/>
                      </a:lnTo>
                      <a:lnTo>
                        <a:pt x="2786" y="249"/>
                      </a:lnTo>
                      <a:lnTo>
                        <a:pt x="2780" y="252"/>
                      </a:lnTo>
                      <a:lnTo>
                        <a:pt x="2770" y="255"/>
                      </a:lnTo>
                      <a:lnTo>
                        <a:pt x="2764" y="255"/>
                      </a:lnTo>
                      <a:lnTo>
                        <a:pt x="2754" y="258"/>
                      </a:lnTo>
                      <a:lnTo>
                        <a:pt x="2748" y="262"/>
                      </a:lnTo>
                      <a:lnTo>
                        <a:pt x="2738" y="265"/>
                      </a:lnTo>
                      <a:lnTo>
                        <a:pt x="2732" y="265"/>
                      </a:lnTo>
                      <a:lnTo>
                        <a:pt x="2722" y="268"/>
                      </a:lnTo>
                      <a:lnTo>
                        <a:pt x="2716" y="271"/>
                      </a:lnTo>
                      <a:lnTo>
                        <a:pt x="2706" y="274"/>
                      </a:lnTo>
                      <a:lnTo>
                        <a:pt x="2700" y="277"/>
                      </a:lnTo>
                      <a:lnTo>
                        <a:pt x="2690" y="277"/>
                      </a:lnTo>
                      <a:lnTo>
                        <a:pt x="2684" y="281"/>
                      </a:lnTo>
                      <a:lnTo>
                        <a:pt x="2674" y="284"/>
                      </a:lnTo>
                      <a:lnTo>
                        <a:pt x="2668" y="287"/>
                      </a:lnTo>
                      <a:lnTo>
                        <a:pt x="2659" y="290"/>
                      </a:lnTo>
                      <a:lnTo>
                        <a:pt x="2652" y="290"/>
                      </a:lnTo>
                      <a:lnTo>
                        <a:pt x="2643" y="293"/>
                      </a:lnTo>
                      <a:lnTo>
                        <a:pt x="2636" y="297"/>
                      </a:lnTo>
                      <a:lnTo>
                        <a:pt x="2627" y="300"/>
                      </a:lnTo>
                      <a:lnTo>
                        <a:pt x="2620" y="300"/>
                      </a:lnTo>
                      <a:lnTo>
                        <a:pt x="2617" y="303"/>
                      </a:lnTo>
                      <a:lnTo>
                        <a:pt x="2611" y="303"/>
                      </a:lnTo>
                      <a:lnTo>
                        <a:pt x="2604" y="303"/>
                      </a:lnTo>
                      <a:lnTo>
                        <a:pt x="2598" y="306"/>
                      </a:lnTo>
                      <a:lnTo>
                        <a:pt x="2595" y="306"/>
                      </a:lnTo>
                      <a:lnTo>
                        <a:pt x="2588" y="309"/>
                      </a:lnTo>
                      <a:lnTo>
                        <a:pt x="2582" y="309"/>
                      </a:lnTo>
                      <a:lnTo>
                        <a:pt x="2576" y="309"/>
                      </a:lnTo>
                      <a:lnTo>
                        <a:pt x="2569" y="309"/>
                      </a:lnTo>
                      <a:lnTo>
                        <a:pt x="2566" y="313"/>
                      </a:lnTo>
                      <a:lnTo>
                        <a:pt x="2560" y="313"/>
                      </a:lnTo>
                      <a:lnTo>
                        <a:pt x="2553" y="313"/>
                      </a:lnTo>
                      <a:lnTo>
                        <a:pt x="2547" y="313"/>
                      </a:lnTo>
                      <a:lnTo>
                        <a:pt x="2544" y="313"/>
                      </a:lnTo>
                      <a:lnTo>
                        <a:pt x="2537" y="316"/>
                      </a:lnTo>
                      <a:lnTo>
                        <a:pt x="2525" y="316"/>
                      </a:lnTo>
                      <a:lnTo>
                        <a:pt x="2515" y="316"/>
                      </a:lnTo>
                      <a:lnTo>
                        <a:pt x="2506" y="316"/>
                      </a:lnTo>
                      <a:lnTo>
                        <a:pt x="2493" y="319"/>
                      </a:lnTo>
                      <a:lnTo>
                        <a:pt x="2483" y="319"/>
                      </a:lnTo>
                      <a:lnTo>
                        <a:pt x="2474" y="319"/>
                      </a:lnTo>
                      <a:lnTo>
                        <a:pt x="2461" y="319"/>
                      </a:lnTo>
                      <a:lnTo>
                        <a:pt x="2451" y="319"/>
                      </a:lnTo>
                      <a:lnTo>
                        <a:pt x="2442" y="322"/>
                      </a:lnTo>
                      <a:lnTo>
                        <a:pt x="2429" y="322"/>
                      </a:lnTo>
                      <a:lnTo>
                        <a:pt x="2419" y="322"/>
                      </a:lnTo>
                      <a:lnTo>
                        <a:pt x="2410" y="322"/>
                      </a:lnTo>
                      <a:lnTo>
                        <a:pt x="2397" y="322"/>
                      </a:lnTo>
                      <a:lnTo>
                        <a:pt x="2388" y="322"/>
                      </a:lnTo>
                      <a:lnTo>
                        <a:pt x="2378" y="322"/>
                      </a:lnTo>
                      <a:lnTo>
                        <a:pt x="2365" y="322"/>
                      </a:lnTo>
                      <a:lnTo>
                        <a:pt x="2356" y="322"/>
                      </a:lnTo>
                      <a:lnTo>
                        <a:pt x="2346" y="325"/>
                      </a:lnTo>
                      <a:lnTo>
                        <a:pt x="2333" y="325"/>
                      </a:lnTo>
                      <a:lnTo>
                        <a:pt x="2324" y="325"/>
                      </a:lnTo>
                      <a:lnTo>
                        <a:pt x="2314" y="325"/>
                      </a:lnTo>
                      <a:lnTo>
                        <a:pt x="2301" y="325"/>
                      </a:lnTo>
                      <a:lnTo>
                        <a:pt x="2292" y="325"/>
                      </a:lnTo>
                      <a:lnTo>
                        <a:pt x="2282" y="325"/>
                      </a:lnTo>
                      <a:lnTo>
                        <a:pt x="2270" y="325"/>
                      </a:lnTo>
                      <a:lnTo>
                        <a:pt x="2260" y="325"/>
                      </a:lnTo>
                      <a:lnTo>
                        <a:pt x="2250" y="325"/>
                      </a:lnTo>
                      <a:lnTo>
                        <a:pt x="2238" y="325"/>
                      </a:lnTo>
                      <a:lnTo>
                        <a:pt x="2228" y="325"/>
                      </a:lnTo>
                      <a:lnTo>
                        <a:pt x="2219" y="325"/>
                      </a:lnTo>
                      <a:lnTo>
                        <a:pt x="2206" y="325"/>
                      </a:lnTo>
                      <a:lnTo>
                        <a:pt x="2196" y="325"/>
                      </a:lnTo>
                      <a:lnTo>
                        <a:pt x="2187" y="325"/>
                      </a:lnTo>
                      <a:lnTo>
                        <a:pt x="2180" y="325"/>
                      </a:lnTo>
                      <a:lnTo>
                        <a:pt x="2171" y="325"/>
                      </a:lnTo>
                      <a:lnTo>
                        <a:pt x="2164" y="325"/>
                      </a:lnTo>
                      <a:lnTo>
                        <a:pt x="2158" y="325"/>
                      </a:lnTo>
                      <a:lnTo>
                        <a:pt x="2148" y="325"/>
                      </a:lnTo>
                      <a:lnTo>
                        <a:pt x="2142" y="325"/>
                      </a:lnTo>
                      <a:lnTo>
                        <a:pt x="2133" y="325"/>
                      </a:lnTo>
                      <a:lnTo>
                        <a:pt x="2126" y="325"/>
                      </a:lnTo>
                      <a:lnTo>
                        <a:pt x="2117" y="325"/>
                      </a:lnTo>
                      <a:lnTo>
                        <a:pt x="2110" y="325"/>
                      </a:lnTo>
                      <a:lnTo>
                        <a:pt x="2101" y="325"/>
                      </a:lnTo>
                      <a:lnTo>
                        <a:pt x="2094" y="325"/>
                      </a:lnTo>
                      <a:lnTo>
                        <a:pt x="2085" y="325"/>
                      </a:lnTo>
                      <a:lnTo>
                        <a:pt x="2078" y="325"/>
                      </a:lnTo>
                      <a:lnTo>
                        <a:pt x="2072" y="325"/>
                      </a:lnTo>
                      <a:lnTo>
                        <a:pt x="2062" y="325"/>
                      </a:lnTo>
                      <a:lnTo>
                        <a:pt x="2053" y="325"/>
                      </a:lnTo>
                      <a:lnTo>
                        <a:pt x="2046" y="325"/>
                      </a:lnTo>
                      <a:lnTo>
                        <a:pt x="2037" y="322"/>
                      </a:lnTo>
                      <a:lnTo>
                        <a:pt x="2027" y="322"/>
                      </a:lnTo>
                      <a:lnTo>
                        <a:pt x="2018" y="322"/>
                      </a:lnTo>
                      <a:lnTo>
                        <a:pt x="2008" y="322"/>
                      </a:lnTo>
                      <a:lnTo>
                        <a:pt x="2002" y="322"/>
                      </a:lnTo>
                      <a:lnTo>
                        <a:pt x="1992" y="322"/>
                      </a:lnTo>
                      <a:lnTo>
                        <a:pt x="1983" y="319"/>
                      </a:lnTo>
                      <a:lnTo>
                        <a:pt x="1973" y="319"/>
                      </a:lnTo>
                      <a:lnTo>
                        <a:pt x="1964" y="319"/>
                      </a:lnTo>
                      <a:lnTo>
                        <a:pt x="1954" y="319"/>
                      </a:lnTo>
                      <a:lnTo>
                        <a:pt x="1944" y="319"/>
                      </a:lnTo>
                      <a:lnTo>
                        <a:pt x="1935" y="319"/>
                      </a:lnTo>
                      <a:lnTo>
                        <a:pt x="1925" y="319"/>
                      </a:lnTo>
                      <a:lnTo>
                        <a:pt x="1916" y="316"/>
                      </a:lnTo>
                      <a:lnTo>
                        <a:pt x="1906" y="316"/>
                      </a:lnTo>
                      <a:lnTo>
                        <a:pt x="1897" y="316"/>
                      </a:lnTo>
                      <a:lnTo>
                        <a:pt x="1887" y="316"/>
                      </a:lnTo>
                      <a:lnTo>
                        <a:pt x="1877" y="316"/>
                      </a:lnTo>
                      <a:lnTo>
                        <a:pt x="1868" y="316"/>
                      </a:lnTo>
                      <a:lnTo>
                        <a:pt x="1858" y="313"/>
                      </a:lnTo>
                      <a:lnTo>
                        <a:pt x="1849" y="313"/>
                      </a:lnTo>
                      <a:lnTo>
                        <a:pt x="1839" y="313"/>
                      </a:lnTo>
                      <a:lnTo>
                        <a:pt x="1833" y="313"/>
                      </a:lnTo>
                      <a:lnTo>
                        <a:pt x="1823" y="313"/>
                      </a:lnTo>
                      <a:lnTo>
                        <a:pt x="1814" y="313"/>
                      </a:lnTo>
                      <a:lnTo>
                        <a:pt x="1804" y="309"/>
                      </a:lnTo>
                      <a:lnTo>
                        <a:pt x="1798" y="309"/>
                      </a:lnTo>
                      <a:lnTo>
                        <a:pt x="1788" y="309"/>
                      </a:lnTo>
                      <a:lnTo>
                        <a:pt x="1779" y="309"/>
                      </a:lnTo>
                      <a:lnTo>
                        <a:pt x="1769" y="309"/>
                      </a:lnTo>
                      <a:lnTo>
                        <a:pt x="1760" y="309"/>
                      </a:lnTo>
                      <a:lnTo>
                        <a:pt x="1750" y="306"/>
                      </a:lnTo>
                      <a:lnTo>
                        <a:pt x="1740" y="306"/>
                      </a:lnTo>
                      <a:lnTo>
                        <a:pt x="1731" y="306"/>
                      </a:lnTo>
                      <a:lnTo>
                        <a:pt x="1721" y="306"/>
                      </a:lnTo>
                      <a:lnTo>
                        <a:pt x="1712" y="303"/>
                      </a:lnTo>
                      <a:lnTo>
                        <a:pt x="1702" y="303"/>
                      </a:lnTo>
                      <a:lnTo>
                        <a:pt x="1696" y="303"/>
                      </a:lnTo>
                      <a:lnTo>
                        <a:pt x="1686" y="303"/>
                      </a:lnTo>
                      <a:lnTo>
                        <a:pt x="1677" y="300"/>
                      </a:lnTo>
                      <a:lnTo>
                        <a:pt x="1667" y="300"/>
                      </a:lnTo>
                      <a:lnTo>
                        <a:pt x="1658" y="300"/>
                      </a:lnTo>
                      <a:lnTo>
                        <a:pt x="1651" y="300"/>
                      </a:lnTo>
                      <a:lnTo>
                        <a:pt x="1642" y="297"/>
                      </a:lnTo>
                      <a:lnTo>
                        <a:pt x="1632" y="297"/>
                      </a:lnTo>
                      <a:lnTo>
                        <a:pt x="1622" y="297"/>
                      </a:lnTo>
                      <a:lnTo>
                        <a:pt x="1616" y="293"/>
                      </a:lnTo>
                      <a:lnTo>
                        <a:pt x="1607" y="293"/>
                      </a:lnTo>
                      <a:lnTo>
                        <a:pt x="1597" y="293"/>
                      </a:lnTo>
                      <a:lnTo>
                        <a:pt x="1587" y="293"/>
                      </a:lnTo>
                      <a:lnTo>
                        <a:pt x="1578" y="290"/>
                      </a:lnTo>
                      <a:lnTo>
                        <a:pt x="1571" y="290"/>
                      </a:lnTo>
                      <a:lnTo>
                        <a:pt x="1562" y="290"/>
                      </a:lnTo>
                      <a:lnTo>
                        <a:pt x="1552" y="290"/>
                      </a:lnTo>
                      <a:lnTo>
                        <a:pt x="1543" y="287"/>
                      </a:lnTo>
                      <a:lnTo>
                        <a:pt x="1533" y="287"/>
                      </a:lnTo>
                      <a:lnTo>
                        <a:pt x="1524" y="287"/>
                      </a:lnTo>
                      <a:lnTo>
                        <a:pt x="1514" y="287"/>
                      </a:lnTo>
                      <a:lnTo>
                        <a:pt x="1505" y="284"/>
                      </a:lnTo>
                      <a:lnTo>
                        <a:pt x="1495" y="284"/>
                      </a:lnTo>
                      <a:lnTo>
                        <a:pt x="1485" y="284"/>
                      </a:lnTo>
                      <a:lnTo>
                        <a:pt x="1476" y="284"/>
                      </a:lnTo>
                      <a:lnTo>
                        <a:pt x="1466" y="284"/>
                      </a:lnTo>
                      <a:lnTo>
                        <a:pt x="1457" y="284"/>
                      </a:lnTo>
                      <a:lnTo>
                        <a:pt x="1447" y="281"/>
                      </a:lnTo>
                      <a:lnTo>
                        <a:pt x="1441" y="281"/>
                      </a:lnTo>
                      <a:lnTo>
                        <a:pt x="1431" y="281"/>
                      </a:lnTo>
                      <a:lnTo>
                        <a:pt x="1422" y="281"/>
                      </a:lnTo>
                      <a:lnTo>
                        <a:pt x="1412" y="281"/>
                      </a:lnTo>
                      <a:lnTo>
                        <a:pt x="1403" y="281"/>
                      </a:lnTo>
                      <a:lnTo>
                        <a:pt x="1393" y="281"/>
                      </a:lnTo>
                      <a:lnTo>
                        <a:pt x="1383" y="277"/>
                      </a:lnTo>
                      <a:lnTo>
                        <a:pt x="1377" y="277"/>
                      </a:lnTo>
                      <a:lnTo>
                        <a:pt x="1367" y="277"/>
                      </a:lnTo>
                      <a:lnTo>
                        <a:pt x="1358" y="277"/>
                      </a:lnTo>
                      <a:lnTo>
                        <a:pt x="1348" y="277"/>
                      </a:lnTo>
                      <a:lnTo>
                        <a:pt x="1339" y="277"/>
                      </a:lnTo>
                      <a:lnTo>
                        <a:pt x="1329" y="277"/>
                      </a:lnTo>
                      <a:lnTo>
                        <a:pt x="1323" y="274"/>
                      </a:lnTo>
                      <a:lnTo>
                        <a:pt x="1313" y="274"/>
                      </a:lnTo>
                      <a:lnTo>
                        <a:pt x="1304" y="274"/>
                      </a:lnTo>
                      <a:lnTo>
                        <a:pt x="1294" y="274"/>
                      </a:lnTo>
                      <a:lnTo>
                        <a:pt x="1285" y="274"/>
                      </a:lnTo>
                      <a:lnTo>
                        <a:pt x="1275" y="274"/>
                      </a:lnTo>
                      <a:lnTo>
                        <a:pt x="1265" y="274"/>
                      </a:lnTo>
                      <a:lnTo>
                        <a:pt x="1259" y="271"/>
                      </a:lnTo>
                      <a:lnTo>
                        <a:pt x="1249" y="271"/>
                      </a:lnTo>
                      <a:lnTo>
                        <a:pt x="1240" y="271"/>
                      </a:lnTo>
                      <a:lnTo>
                        <a:pt x="1230" y="271"/>
                      </a:lnTo>
                      <a:lnTo>
                        <a:pt x="1221" y="271"/>
                      </a:lnTo>
                      <a:lnTo>
                        <a:pt x="1211" y="268"/>
                      </a:lnTo>
                      <a:lnTo>
                        <a:pt x="1202" y="268"/>
                      </a:lnTo>
                      <a:lnTo>
                        <a:pt x="1195" y="268"/>
                      </a:lnTo>
                      <a:lnTo>
                        <a:pt x="1183" y="268"/>
                      </a:lnTo>
                      <a:lnTo>
                        <a:pt x="1170" y="265"/>
                      </a:lnTo>
                      <a:lnTo>
                        <a:pt x="1157" y="265"/>
                      </a:lnTo>
                      <a:lnTo>
                        <a:pt x="1144" y="265"/>
                      </a:lnTo>
                      <a:lnTo>
                        <a:pt x="1135" y="262"/>
                      </a:lnTo>
                      <a:lnTo>
                        <a:pt x="1122" y="262"/>
                      </a:lnTo>
                      <a:lnTo>
                        <a:pt x="1109" y="262"/>
                      </a:lnTo>
                      <a:lnTo>
                        <a:pt x="1096" y="258"/>
                      </a:lnTo>
                      <a:lnTo>
                        <a:pt x="1087" y="258"/>
                      </a:lnTo>
                      <a:lnTo>
                        <a:pt x="1074" y="258"/>
                      </a:lnTo>
                      <a:lnTo>
                        <a:pt x="1061" y="255"/>
                      </a:lnTo>
                      <a:lnTo>
                        <a:pt x="1049" y="255"/>
                      </a:lnTo>
                      <a:lnTo>
                        <a:pt x="1039" y="255"/>
                      </a:lnTo>
                      <a:lnTo>
                        <a:pt x="1026" y="252"/>
                      </a:lnTo>
                      <a:lnTo>
                        <a:pt x="1014" y="252"/>
                      </a:lnTo>
                      <a:lnTo>
                        <a:pt x="1001" y="252"/>
                      </a:lnTo>
                      <a:lnTo>
                        <a:pt x="991" y="249"/>
                      </a:lnTo>
                      <a:lnTo>
                        <a:pt x="979" y="249"/>
                      </a:lnTo>
                      <a:lnTo>
                        <a:pt x="966" y="246"/>
                      </a:lnTo>
                      <a:lnTo>
                        <a:pt x="953" y="246"/>
                      </a:lnTo>
                      <a:lnTo>
                        <a:pt x="943" y="246"/>
                      </a:lnTo>
                      <a:lnTo>
                        <a:pt x="931" y="242"/>
                      </a:lnTo>
                      <a:lnTo>
                        <a:pt x="918" y="242"/>
                      </a:lnTo>
                      <a:lnTo>
                        <a:pt x="905" y="239"/>
                      </a:lnTo>
                      <a:lnTo>
                        <a:pt x="896" y="239"/>
                      </a:lnTo>
                      <a:lnTo>
                        <a:pt x="883" y="239"/>
                      </a:lnTo>
                      <a:lnTo>
                        <a:pt x="870" y="236"/>
                      </a:lnTo>
                      <a:lnTo>
                        <a:pt x="857" y="236"/>
                      </a:lnTo>
                      <a:lnTo>
                        <a:pt x="845" y="236"/>
                      </a:lnTo>
                      <a:lnTo>
                        <a:pt x="835" y="233"/>
                      </a:lnTo>
                      <a:lnTo>
                        <a:pt x="822" y="233"/>
                      </a:lnTo>
                      <a:lnTo>
                        <a:pt x="810" y="230"/>
                      </a:lnTo>
                      <a:lnTo>
                        <a:pt x="797" y="230"/>
                      </a:lnTo>
                      <a:lnTo>
                        <a:pt x="784" y="230"/>
                      </a:lnTo>
                      <a:lnTo>
                        <a:pt x="771" y="226"/>
                      </a:lnTo>
                      <a:lnTo>
                        <a:pt x="759" y="226"/>
                      </a:lnTo>
                      <a:lnTo>
                        <a:pt x="743" y="226"/>
                      </a:lnTo>
                      <a:lnTo>
                        <a:pt x="730" y="223"/>
                      </a:lnTo>
                      <a:lnTo>
                        <a:pt x="717" y="223"/>
                      </a:lnTo>
                      <a:lnTo>
                        <a:pt x="704" y="223"/>
                      </a:lnTo>
                      <a:lnTo>
                        <a:pt x="692" y="220"/>
                      </a:lnTo>
                      <a:lnTo>
                        <a:pt x="679" y="220"/>
                      </a:lnTo>
                      <a:lnTo>
                        <a:pt x="666" y="220"/>
                      </a:lnTo>
                      <a:lnTo>
                        <a:pt x="653" y="217"/>
                      </a:lnTo>
                      <a:lnTo>
                        <a:pt x="637" y="217"/>
                      </a:lnTo>
                      <a:lnTo>
                        <a:pt x="625" y="217"/>
                      </a:lnTo>
                      <a:lnTo>
                        <a:pt x="612" y="214"/>
                      </a:lnTo>
                      <a:lnTo>
                        <a:pt x="599" y="214"/>
                      </a:lnTo>
                      <a:lnTo>
                        <a:pt x="590" y="210"/>
                      </a:lnTo>
                      <a:lnTo>
                        <a:pt x="577" y="210"/>
                      </a:lnTo>
                      <a:lnTo>
                        <a:pt x="567" y="210"/>
                      </a:lnTo>
                      <a:lnTo>
                        <a:pt x="558" y="207"/>
                      </a:lnTo>
                      <a:lnTo>
                        <a:pt x="545" y="207"/>
                      </a:lnTo>
                      <a:lnTo>
                        <a:pt x="535" y="207"/>
                      </a:lnTo>
                      <a:lnTo>
                        <a:pt x="526" y="204"/>
                      </a:lnTo>
                      <a:lnTo>
                        <a:pt x="516" y="204"/>
                      </a:lnTo>
                      <a:lnTo>
                        <a:pt x="504" y="204"/>
                      </a:lnTo>
                      <a:lnTo>
                        <a:pt x="494" y="201"/>
                      </a:lnTo>
                      <a:lnTo>
                        <a:pt x="484" y="201"/>
                      </a:lnTo>
                      <a:lnTo>
                        <a:pt x="475" y="198"/>
                      </a:lnTo>
                      <a:lnTo>
                        <a:pt x="462" y="198"/>
                      </a:lnTo>
                      <a:lnTo>
                        <a:pt x="453" y="198"/>
                      </a:lnTo>
                      <a:lnTo>
                        <a:pt x="443" y="195"/>
                      </a:lnTo>
                      <a:lnTo>
                        <a:pt x="433" y="195"/>
                      </a:lnTo>
                      <a:lnTo>
                        <a:pt x="424" y="195"/>
                      </a:lnTo>
                      <a:lnTo>
                        <a:pt x="414" y="191"/>
                      </a:lnTo>
                      <a:lnTo>
                        <a:pt x="402" y="191"/>
                      </a:lnTo>
                      <a:lnTo>
                        <a:pt x="392" y="191"/>
                      </a:lnTo>
                      <a:lnTo>
                        <a:pt x="382" y="188"/>
                      </a:lnTo>
                      <a:lnTo>
                        <a:pt x="373" y="188"/>
                      </a:lnTo>
                      <a:lnTo>
                        <a:pt x="363" y="188"/>
                      </a:lnTo>
                      <a:lnTo>
                        <a:pt x="354" y="185"/>
                      </a:lnTo>
                      <a:lnTo>
                        <a:pt x="344" y="185"/>
                      </a:lnTo>
                      <a:lnTo>
                        <a:pt x="335" y="185"/>
                      </a:lnTo>
                      <a:lnTo>
                        <a:pt x="322" y="182"/>
                      </a:lnTo>
                      <a:lnTo>
                        <a:pt x="312" y="182"/>
                      </a:lnTo>
                      <a:lnTo>
                        <a:pt x="303" y="182"/>
                      </a:lnTo>
                      <a:lnTo>
                        <a:pt x="293" y="179"/>
                      </a:lnTo>
                      <a:lnTo>
                        <a:pt x="284" y="179"/>
                      </a:lnTo>
                      <a:lnTo>
                        <a:pt x="274" y="179"/>
                      </a:lnTo>
                      <a:lnTo>
                        <a:pt x="264" y="179"/>
                      </a:lnTo>
                      <a:lnTo>
                        <a:pt x="258" y="175"/>
                      </a:lnTo>
                      <a:lnTo>
                        <a:pt x="248" y="175"/>
                      </a:lnTo>
                      <a:lnTo>
                        <a:pt x="242" y="175"/>
                      </a:lnTo>
                      <a:lnTo>
                        <a:pt x="233" y="172"/>
                      </a:lnTo>
                      <a:lnTo>
                        <a:pt x="223" y="172"/>
                      </a:lnTo>
                      <a:lnTo>
                        <a:pt x="213" y="172"/>
                      </a:lnTo>
                      <a:lnTo>
                        <a:pt x="204" y="169"/>
                      </a:lnTo>
                      <a:lnTo>
                        <a:pt x="194" y="169"/>
                      </a:lnTo>
                      <a:lnTo>
                        <a:pt x="185" y="169"/>
                      </a:lnTo>
                      <a:lnTo>
                        <a:pt x="175" y="166"/>
                      </a:lnTo>
                      <a:lnTo>
                        <a:pt x="166" y="166"/>
                      </a:lnTo>
                      <a:lnTo>
                        <a:pt x="156" y="163"/>
                      </a:lnTo>
                      <a:lnTo>
                        <a:pt x="146" y="163"/>
                      </a:lnTo>
                      <a:lnTo>
                        <a:pt x="137" y="163"/>
                      </a:lnTo>
                      <a:lnTo>
                        <a:pt x="127" y="159"/>
                      </a:lnTo>
                      <a:lnTo>
                        <a:pt x="118" y="159"/>
                      </a:lnTo>
                      <a:lnTo>
                        <a:pt x="108" y="156"/>
                      </a:lnTo>
                      <a:lnTo>
                        <a:pt x="99" y="156"/>
                      </a:lnTo>
                      <a:lnTo>
                        <a:pt x="89" y="153"/>
                      </a:lnTo>
                      <a:lnTo>
                        <a:pt x="80" y="150"/>
                      </a:lnTo>
                      <a:lnTo>
                        <a:pt x="70" y="150"/>
                      </a:lnTo>
                      <a:lnTo>
                        <a:pt x="64" y="147"/>
                      </a:lnTo>
                      <a:lnTo>
                        <a:pt x="54" y="147"/>
                      </a:lnTo>
                      <a:lnTo>
                        <a:pt x="48" y="144"/>
                      </a:lnTo>
                      <a:lnTo>
                        <a:pt x="41" y="144"/>
                      </a:lnTo>
                      <a:lnTo>
                        <a:pt x="35" y="140"/>
                      </a:lnTo>
                      <a:lnTo>
                        <a:pt x="29" y="137"/>
                      </a:lnTo>
                      <a:lnTo>
                        <a:pt x="22" y="137"/>
                      </a:lnTo>
                      <a:lnTo>
                        <a:pt x="19" y="134"/>
                      </a:lnTo>
                      <a:lnTo>
                        <a:pt x="13" y="134"/>
                      </a:lnTo>
                      <a:lnTo>
                        <a:pt x="9" y="131"/>
                      </a:lnTo>
                      <a:lnTo>
                        <a:pt x="3" y="128"/>
                      </a:lnTo>
                      <a:lnTo>
                        <a:pt x="0" y="121"/>
                      </a:lnTo>
                      <a:lnTo>
                        <a:pt x="0" y="118"/>
                      </a:lnTo>
                      <a:lnTo>
                        <a:pt x="0" y="112"/>
                      </a:lnTo>
                      <a:lnTo>
                        <a:pt x="3" y="108"/>
                      </a:lnTo>
                      <a:lnTo>
                        <a:pt x="6" y="102"/>
                      </a:lnTo>
                      <a:lnTo>
                        <a:pt x="13" y="96"/>
                      </a:lnTo>
                      <a:lnTo>
                        <a:pt x="19" y="92"/>
                      </a:lnTo>
                      <a:lnTo>
                        <a:pt x="29" y="86"/>
                      </a:lnTo>
                      <a:lnTo>
                        <a:pt x="38" y="83"/>
                      </a:lnTo>
                      <a:lnTo>
                        <a:pt x="51" y="77"/>
                      </a:lnTo>
                      <a:lnTo>
                        <a:pt x="64" y="73"/>
                      </a:lnTo>
                      <a:lnTo>
                        <a:pt x="76" y="67"/>
                      </a:lnTo>
                      <a:lnTo>
                        <a:pt x="92" y="64"/>
                      </a:lnTo>
                      <a:lnTo>
                        <a:pt x="105" y="57"/>
                      </a:lnTo>
                      <a:lnTo>
                        <a:pt x="121" y="54"/>
                      </a:lnTo>
                      <a:lnTo>
                        <a:pt x="137" y="48"/>
                      </a:lnTo>
                      <a:lnTo>
                        <a:pt x="153" y="45"/>
                      </a:lnTo>
                      <a:lnTo>
                        <a:pt x="169" y="41"/>
                      </a:lnTo>
                      <a:lnTo>
                        <a:pt x="185" y="35"/>
                      </a:lnTo>
                      <a:lnTo>
                        <a:pt x="201" y="32"/>
                      </a:lnTo>
                      <a:lnTo>
                        <a:pt x="217" y="29"/>
                      </a:lnTo>
                      <a:lnTo>
                        <a:pt x="233" y="26"/>
                      </a:lnTo>
                      <a:lnTo>
                        <a:pt x="248" y="22"/>
                      </a:lnTo>
                      <a:lnTo>
                        <a:pt x="261" y="19"/>
                      </a:lnTo>
                      <a:lnTo>
                        <a:pt x="274" y="16"/>
                      </a:lnTo>
                      <a:lnTo>
                        <a:pt x="287" y="13"/>
                      </a:lnTo>
                      <a:lnTo>
                        <a:pt x="296" y="13"/>
                      </a:lnTo>
                      <a:lnTo>
                        <a:pt x="306" y="10"/>
                      </a:lnTo>
                      <a:lnTo>
                        <a:pt x="315" y="10"/>
                      </a:lnTo>
                      <a:lnTo>
                        <a:pt x="322" y="10"/>
                      </a:lnTo>
                      <a:lnTo>
                        <a:pt x="328" y="6"/>
                      </a:lnTo>
                      <a:lnTo>
                        <a:pt x="366" y="3"/>
                      </a:lnTo>
                      <a:lnTo>
                        <a:pt x="411" y="3"/>
                      </a:lnTo>
                      <a:lnTo>
                        <a:pt x="465" y="0"/>
                      </a:lnTo>
                      <a:lnTo>
                        <a:pt x="523" y="0"/>
                      </a:lnTo>
                      <a:lnTo>
                        <a:pt x="590" y="0"/>
                      </a:lnTo>
                      <a:lnTo>
                        <a:pt x="663" y="0"/>
                      </a:lnTo>
                      <a:lnTo>
                        <a:pt x="739" y="0"/>
                      </a:lnTo>
                      <a:lnTo>
                        <a:pt x="819" y="3"/>
                      </a:lnTo>
                      <a:lnTo>
                        <a:pt x="905" y="3"/>
                      </a:lnTo>
                      <a:lnTo>
                        <a:pt x="994" y="6"/>
                      </a:lnTo>
                      <a:lnTo>
                        <a:pt x="1087" y="10"/>
                      </a:lnTo>
                      <a:lnTo>
                        <a:pt x="1183" y="13"/>
                      </a:lnTo>
                      <a:lnTo>
                        <a:pt x="1281" y="16"/>
                      </a:lnTo>
                      <a:lnTo>
                        <a:pt x="1380" y="19"/>
                      </a:lnTo>
                      <a:lnTo>
                        <a:pt x="1482" y="26"/>
                      </a:lnTo>
                      <a:lnTo>
                        <a:pt x="1584" y="29"/>
                      </a:lnTo>
                      <a:lnTo>
                        <a:pt x="1686" y="35"/>
                      </a:lnTo>
                      <a:lnTo>
                        <a:pt x="1791" y="38"/>
                      </a:lnTo>
                      <a:lnTo>
                        <a:pt x="1893" y="45"/>
                      </a:lnTo>
                      <a:lnTo>
                        <a:pt x="1992" y="51"/>
                      </a:lnTo>
                      <a:lnTo>
                        <a:pt x="2094" y="57"/>
                      </a:lnTo>
                      <a:lnTo>
                        <a:pt x="2193" y="61"/>
                      </a:lnTo>
                      <a:lnTo>
                        <a:pt x="2289" y="67"/>
                      </a:lnTo>
                      <a:lnTo>
                        <a:pt x="2381" y="73"/>
                      </a:lnTo>
                      <a:lnTo>
                        <a:pt x="2470" y="80"/>
                      </a:lnTo>
                      <a:lnTo>
                        <a:pt x="2557" y="86"/>
                      </a:lnTo>
                      <a:lnTo>
                        <a:pt x="2639" y="92"/>
                      </a:lnTo>
                      <a:lnTo>
                        <a:pt x="2716" y="99"/>
                      </a:lnTo>
                      <a:lnTo>
                        <a:pt x="2786" y="105"/>
                      </a:lnTo>
                      <a:lnTo>
                        <a:pt x="2853" y="112"/>
                      </a:lnTo>
                      <a:lnTo>
                        <a:pt x="2914" y="115"/>
                      </a:lnTo>
                      <a:lnTo>
                        <a:pt x="2968" y="1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99520" y="3441240"/>
                  <a:ext cx="2526480" cy="290520"/>
                </a:xfrm>
                <a:custGeom>
                  <a:avLst/>
                  <a:gdLst/>
                  <a:ahLst/>
                  <a:rect l="l" t="t" r="r" b="b"/>
                  <a:pathLst>
                    <a:path w="2964" h="322">
                      <a:moveTo>
                        <a:pt x="2926" y="121"/>
                      </a:moveTo>
                      <a:lnTo>
                        <a:pt x="2942" y="124"/>
                      </a:lnTo>
                      <a:lnTo>
                        <a:pt x="2952" y="131"/>
                      </a:lnTo>
                      <a:lnTo>
                        <a:pt x="2961" y="134"/>
                      </a:lnTo>
                      <a:lnTo>
                        <a:pt x="2964" y="140"/>
                      </a:lnTo>
                      <a:lnTo>
                        <a:pt x="2964" y="147"/>
                      </a:lnTo>
                      <a:lnTo>
                        <a:pt x="2964" y="153"/>
                      </a:lnTo>
                      <a:lnTo>
                        <a:pt x="2961" y="156"/>
                      </a:lnTo>
                      <a:lnTo>
                        <a:pt x="2958" y="159"/>
                      </a:lnTo>
                      <a:lnTo>
                        <a:pt x="2952" y="166"/>
                      </a:lnTo>
                      <a:lnTo>
                        <a:pt x="2945" y="169"/>
                      </a:lnTo>
                      <a:lnTo>
                        <a:pt x="2939" y="172"/>
                      </a:lnTo>
                      <a:lnTo>
                        <a:pt x="2929" y="175"/>
                      </a:lnTo>
                      <a:lnTo>
                        <a:pt x="2923" y="182"/>
                      </a:lnTo>
                      <a:lnTo>
                        <a:pt x="2917" y="185"/>
                      </a:lnTo>
                      <a:lnTo>
                        <a:pt x="2907" y="188"/>
                      </a:lnTo>
                      <a:lnTo>
                        <a:pt x="2901" y="191"/>
                      </a:lnTo>
                      <a:lnTo>
                        <a:pt x="2894" y="191"/>
                      </a:lnTo>
                      <a:lnTo>
                        <a:pt x="2885" y="195"/>
                      </a:lnTo>
                      <a:lnTo>
                        <a:pt x="2878" y="198"/>
                      </a:lnTo>
                      <a:lnTo>
                        <a:pt x="2872" y="201"/>
                      </a:lnTo>
                      <a:lnTo>
                        <a:pt x="2862" y="204"/>
                      </a:lnTo>
                      <a:lnTo>
                        <a:pt x="2856" y="207"/>
                      </a:lnTo>
                      <a:lnTo>
                        <a:pt x="2850" y="210"/>
                      </a:lnTo>
                      <a:lnTo>
                        <a:pt x="2840" y="210"/>
                      </a:lnTo>
                      <a:lnTo>
                        <a:pt x="2834" y="214"/>
                      </a:lnTo>
                      <a:lnTo>
                        <a:pt x="2824" y="217"/>
                      </a:lnTo>
                      <a:lnTo>
                        <a:pt x="2818" y="220"/>
                      </a:lnTo>
                      <a:lnTo>
                        <a:pt x="2808" y="223"/>
                      </a:lnTo>
                      <a:lnTo>
                        <a:pt x="2802" y="226"/>
                      </a:lnTo>
                      <a:lnTo>
                        <a:pt x="2795" y="230"/>
                      </a:lnTo>
                      <a:lnTo>
                        <a:pt x="2786" y="230"/>
                      </a:lnTo>
                      <a:lnTo>
                        <a:pt x="2780" y="233"/>
                      </a:lnTo>
                      <a:lnTo>
                        <a:pt x="2770" y="236"/>
                      </a:lnTo>
                      <a:lnTo>
                        <a:pt x="2764" y="239"/>
                      </a:lnTo>
                      <a:lnTo>
                        <a:pt x="2754" y="242"/>
                      </a:lnTo>
                      <a:lnTo>
                        <a:pt x="2748" y="242"/>
                      </a:lnTo>
                      <a:lnTo>
                        <a:pt x="2741" y="246"/>
                      </a:lnTo>
                      <a:lnTo>
                        <a:pt x="2732" y="249"/>
                      </a:lnTo>
                      <a:lnTo>
                        <a:pt x="2725" y="252"/>
                      </a:lnTo>
                      <a:lnTo>
                        <a:pt x="2716" y="255"/>
                      </a:lnTo>
                      <a:lnTo>
                        <a:pt x="2709" y="255"/>
                      </a:lnTo>
                      <a:lnTo>
                        <a:pt x="2700" y="258"/>
                      </a:lnTo>
                      <a:lnTo>
                        <a:pt x="2693" y="262"/>
                      </a:lnTo>
                      <a:lnTo>
                        <a:pt x="2687" y="265"/>
                      </a:lnTo>
                      <a:lnTo>
                        <a:pt x="2678" y="265"/>
                      </a:lnTo>
                      <a:lnTo>
                        <a:pt x="2671" y="268"/>
                      </a:lnTo>
                      <a:lnTo>
                        <a:pt x="2662" y="271"/>
                      </a:lnTo>
                      <a:lnTo>
                        <a:pt x="2655" y="274"/>
                      </a:lnTo>
                      <a:lnTo>
                        <a:pt x="2649" y="274"/>
                      </a:lnTo>
                      <a:lnTo>
                        <a:pt x="2639" y="277"/>
                      </a:lnTo>
                      <a:lnTo>
                        <a:pt x="2633" y="281"/>
                      </a:lnTo>
                      <a:lnTo>
                        <a:pt x="2623" y="284"/>
                      </a:lnTo>
                      <a:lnTo>
                        <a:pt x="2617" y="284"/>
                      </a:lnTo>
                      <a:lnTo>
                        <a:pt x="2607" y="287"/>
                      </a:lnTo>
                      <a:lnTo>
                        <a:pt x="2601" y="290"/>
                      </a:lnTo>
                      <a:lnTo>
                        <a:pt x="2591" y="293"/>
                      </a:lnTo>
                      <a:lnTo>
                        <a:pt x="2585" y="293"/>
                      </a:lnTo>
                      <a:lnTo>
                        <a:pt x="2582" y="297"/>
                      </a:lnTo>
                      <a:lnTo>
                        <a:pt x="2576" y="297"/>
                      </a:lnTo>
                      <a:lnTo>
                        <a:pt x="2569" y="297"/>
                      </a:lnTo>
                      <a:lnTo>
                        <a:pt x="2563" y="300"/>
                      </a:lnTo>
                      <a:lnTo>
                        <a:pt x="2556" y="300"/>
                      </a:lnTo>
                      <a:lnTo>
                        <a:pt x="2550" y="303"/>
                      </a:lnTo>
                      <a:lnTo>
                        <a:pt x="2547" y="303"/>
                      </a:lnTo>
                      <a:lnTo>
                        <a:pt x="2540" y="303"/>
                      </a:lnTo>
                      <a:lnTo>
                        <a:pt x="2534" y="303"/>
                      </a:lnTo>
                      <a:lnTo>
                        <a:pt x="2528" y="306"/>
                      </a:lnTo>
                      <a:lnTo>
                        <a:pt x="2521" y="306"/>
                      </a:lnTo>
                      <a:lnTo>
                        <a:pt x="2518" y="306"/>
                      </a:lnTo>
                      <a:lnTo>
                        <a:pt x="2512" y="306"/>
                      </a:lnTo>
                      <a:lnTo>
                        <a:pt x="2505" y="309"/>
                      </a:lnTo>
                      <a:lnTo>
                        <a:pt x="2499" y="309"/>
                      </a:lnTo>
                      <a:lnTo>
                        <a:pt x="2489" y="309"/>
                      </a:lnTo>
                      <a:lnTo>
                        <a:pt x="2480" y="309"/>
                      </a:lnTo>
                      <a:lnTo>
                        <a:pt x="2467" y="313"/>
                      </a:lnTo>
                      <a:lnTo>
                        <a:pt x="2458" y="313"/>
                      </a:lnTo>
                      <a:lnTo>
                        <a:pt x="2448" y="313"/>
                      </a:lnTo>
                      <a:lnTo>
                        <a:pt x="2435" y="313"/>
                      </a:lnTo>
                      <a:lnTo>
                        <a:pt x="2426" y="316"/>
                      </a:lnTo>
                      <a:lnTo>
                        <a:pt x="2416" y="316"/>
                      </a:lnTo>
                      <a:lnTo>
                        <a:pt x="2407" y="316"/>
                      </a:lnTo>
                      <a:lnTo>
                        <a:pt x="2394" y="316"/>
                      </a:lnTo>
                      <a:lnTo>
                        <a:pt x="2384" y="316"/>
                      </a:lnTo>
                      <a:lnTo>
                        <a:pt x="2375" y="319"/>
                      </a:lnTo>
                      <a:lnTo>
                        <a:pt x="2362" y="319"/>
                      </a:lnTo>
                      <a:lnTo>
                        <a:pt x="2352" y="319"/>
                      </a:lnTo>
                      <a:lnTo>
                        <a:pt x="2343" y="319"/>
                      </a:lnTo>
                      <a:lnTo>
                        <a:pt x="2333" y="319"/>
                      </a:lnTo>
                      <a:lnTo>
                        <a:pt x="2320" y="319"/>
                      </a:lnTo>
                      <a:lnTo>
                        <a:pt x="2311" y="319"/>
                      </a:lnTo>
                      <a:lnTo>
                        <a:pt x="2301" y="319"/>
                      </a:lnTo>
                      <a:lnTo>
                        <a:pt x="2289" y="319"/>
                      </a:lnTo>
                      <a:lnTo>
                        <a:pt x="2279" y="319"/>
                      </a:lnTo>
                      <a:lnTo>
                        <a:pt x="2269" y="319"/>
                      </a:lnTo>
                      <a:lnTo>
                        <a:pt x="2257" y="319"/>
                      </a:lnTo>
                      <a:lnTo>
                        <a:pt x="2247" y="322"/>
                      </a:lnTo>
                      <a:lnTo>
                        <a:pt x="2238" y="322"/>
                      </a:lnTo>
                      <a:lnTo>
                        <a:pt x="2225" y="322"/>
                      </a:lnTo>
                      <a:lnTo>
                        <a:pt x="2215" y="322"/>
                      </a:lnTo>
                      <a:lnTo>
                        <a:pt x="2206" y="322"/>
                      </a:lnTo>
                      <a:lnTo>
                        <a:pt x="2193" y="322"/>
                      </a:lnTo>
                      <a:lnTo>
                        <a:pt x="2183" y="322"/>
                      </a:lnTo>
                      <a:lnTo>
                        <a:pt x="2174" y="322"/>
                      </a:lnTo>
                      <a:lnTo>
                        <a:pt x="2161" y="322"/>
                      </a:lnTo>
                      <a:lnTo>
                        <a:pt x="2155" y="322"/>
                      </a:lnTo>
                      <a:lnTo>
                        <a:pt x="2145" y="322"/>
                      </a:lnTo>
                      <a:lnTo>
                        <a:pt x="2139" y="322"/>
                      </a:lnTo>
                      <a:lnTo>
                        <a:pt x="2132" y="322"/>
                      </a:lnTo>
                      <a:lnTo>
                        <a:pt x="2123" y="322"/>
                      </a:lnTo>
                      <a:lnTo>
                        <a:pt x="2116" y="322"/>
                      </a:lnTo>
                      <a:lnTo>
                        <a:pt x="2107" y="322"/>
                      </a:lnTo>
                      <a:lnTo>
                        <a:pt x="2101" y="322"/>
                      </a:lnTo>
                      <a:lnTo>
                        <a:pt x="2091" y="322"/>
                      </a:lnTo>
                      <a:lnTo>
                        <a:pt x="2085" y="322"/>
                      </a:lnTo>
                      <a:lnTo>
                        <a:pt x="2075" y="322"/>
                      </a:lnTo>
                      <a:lnTo>
                        <a:pt x="2069" y="322"/>
                      </a:lnTo>
                      <a:lnTo>
                        <a:pt x="2059" y="322"/>
                      </a:lnTo>
                      <a:lnTo>
                        <a:pt x="2053" y="322"/>
                      </a:lnTo>
                      <a:lnTo>
                        <a:pt x="2043" y="322"/>
                      </a:lnTo>
                      <a:lnTo>
                        <a:pt x="2037" y="322"/>
                      </a:lnTo>
                      <a:lnTo>
                        <a:pt x="2027" y="322"/>
                      </a:lnTo>
                      <a:lnTo>
                        <a:pt x="2021" y="322"/>
                      </a:lnTo>
                      <a:lnTo>
                        <a:pt x="2011" y="322"/>
                      </a:lnTo>
                      <a:lnTo>
                        <a:pt x="2002" y="322"/>
                      </a:lnTo>
                      <a:lnTo>
                        <a:pt x="1992" y="322"/>
                      </a:lnTo>
                      <a:lnTo>
                        <a:pt x="1986" y="319"/>
                      </a:lnTo>
                      <a:lnTo>
                        <a:pt x="1976" y="319"/>
                      </a:lnTo>
                      <a:lnTo>
                        <a:pt x="1967" y="319"/>
                      </a:lnTo>
                      <a:lnTo>
                        <a:pt x="1957" y="319"/>
                      </a:lnTo>
                      <a:lnTo>
                        <a:pt x="1948" y="319"/>
                      </a:lnTo>
                      <a:lnTo>
                        <a:pt x="1938" y="319"/>
                      </a:lnTo>
                      <a:lnTo>
                        <a:pt x="1928" y="319"/>
                      </a:lnTo>
                      <a:lnTo>
                        <a:pt x="1919" y="316"/>
                      </a:lnTo>
                      <a:lnTo>
                        <a:pt x="1909" y="316"/>
                      </a:lnTo>
                      <a:lnTo>
                        <a:pt x="1900" y="316"/>
                      </a:lnTo>
                      <a:lnTo>
                        <a:pt x="1890" y="316"/>
                      </a:lnTo>
                      <a:lnTo>
                        <a:pt x="1881" y="316"/>
                      </a:lnTo>
                      <a:lnTo>
                        <a:pt x="1871" y="316"/>
                      </a:lnTo>
                      <a:lnTo>
                        <a:pt x="1861" y="313"/>
                      </a:lnTo>
                      <a:lnTo>
                        <a:pt x="1852" y="313"/>
                      </a:lnTo>
                      <a:lnTo>
                        <a:pt x="1842" y="313"/>
                      </a:lnTo>
                      <a:lnTo>
                        <a:pt x="1833" y="313"/>
                      </a:lnTo>
                      <a:lnTo>
                        <a:pt x="1823" y="313"/>
                      </a:lnTo>
                      <a:lnTo>
                        <a:pt x="1814" y="313"/>
                      </a:lnTo>
                      <a:lnTo>
                        <a:pt x="1804" y="313"/>
                      </a:lnTo>
                      <a:lnTo>
                        <a:pt x="1798" y="309"/>
                      </a:lnTo>
                      <a:lnTo>
                        <a:pt x="1788" y="309"/>
                      </a:lnTo>
                      <a:lnTo>
                        <a:pt x="1779" y="309"/>
                      </a:lnTo>
                      <a:lnTo>
                        <a:pt x="1769" y="309"/>
                      </a:lnTo>
                      <a:lnTo>
                        <a:pt x="1759" y="309"/>
                      </a:lnTo>
                      <a:lnTo>
                        <a:pt x="1753" y="309"/>
                      </a:lnTo>
                      <a:lnTo>
                        <a:pt x="1743" y="309"/>
                      </a:lnTo>
                      <a:lnTo>
                        <a:pt x="1734" y="306"/>
                      </a:lnTo>
                      <a:lnTo>
                        <a:pt x="1724" y="306"/>
                      </a:lnTo>
                      <a:lnTo>
                        <a:pt x="1715" y="306"/>
                      </a:lnTo>
                      <a:lnTo>
                        <a:pt x="1705" y="306"/>
                      </a:lnTo>
                      <a:lnTo>
                        <a:pt x="1696" y="303"/>
                      </a:lnTo>
                      <a:lnTo>
                        <a:pt x="1686" y="303"/>
                      </a:lnTo>
                      <a:lnTo>
                        <a:pt x="1677" y="303"/>
                      </a:lnTo>
                      <a:lnTo>
                        <a:pt x="1667" y="303"/>
                      </a:lnTo>
                      <a:lnTo>
                        <a:pt x="1657" y="300"/>
                      </a:lnTo>
                      <a:lnTo>
                        <a:pt x="1648" y="300"/>
                      </a:lnTo>
                      <a:lnTo>
                        <a:pt x="1641" y="300"/>
                      </a:lnTo>
                      <a:lnTo>
                        <a:pt x="1632" y="297"/>
                      </a:lnTo>
                      <a:lnTo>
                        <a:pt x="1622" y="297"/>
                      </a:lnTo>
                      <a:lnTo>
                        <a:pt x="1613" y="297"/>
                      </a:lnTo>
                      <a:lnTo>
                        <a:pt x="1603" y="293"/>
                      </a:lnTo>
                      <a:lnTo>
                        <a:pt x="1594" y="293"/>
                      </a:lnTo>
                      <a:lnTo>
                        <a:pt x="1584" y="290"/>
                      </a:lnTo>
                      <a:lnTo>
                        <a:pt x="1578" y="290"/>
                      </a:lnTo>
                      <a:lnTo>
                        <a:pt x="1568" y="290"/>
                      </a:lnTo>
                      <a:lnTo>
                        <a:pt x="1559" y="287"/>
                      </a:lnTo>
                      <a:lnTo>
                        <a:pt x="1549" y="287"/>
                      </a:lnTo>
                      <a:lnTo>
                        <a:pt x="1539" y="287"/>
                      </a:lnTo>
                      <a:lnTo>
                        <a:pt x="1530" y="284"/>
                      </a:lnTo>
                      <a:lnTo>
                        <a:pt x="1520" y="284"/>
                      </a:lnTo>
                      <a:lnTo>
                        <a:pt x="1514" y="284"/>
                      </a:lnTo>
                      <a:lnTo>
                        <a:pt x="1504" y="281"/>
                      </a:lnTo>
                      <a:lnTo>
                        <a:pt x="1495" y="281"/>
                      </a:lnTo>
                      <a:lnTo>
                        <a:pt x="1485" y="281"/>
                      </a:lnTo>
                      <a:lnTo>
                        <a:pt x="1476" y="281"/>
                      </a:lnTo>
                      <a:lnTo>
                        <a:pt x="1466" y="277"/>
                      </a:lnTo>
                      <a:lnTo>
                        <a:pt x="1453" y="277"/>
                      </a:lnTo>
                      <a:lnTo>
                        <a:pt x="1444" y="277"/>
                      </a:lnTo>
                      <a:lnTo>
                        <a:pt x="1434" y="277"/>
                      </a:lnTo>
                      <a:lnTo>
                        <a:pt x="1428" y="277"/>
                      </a:lnTo>
                      <a:lnTo>
                        <a:pt x="1418" y="277"/>
                      </a:lnTo>
                      <a:lnTo>
                        <a:pt x="1409" y="277"/>
                      </a:lnTo>
                      <a:lnTo>
                        <a:pt x="1399" y="274"/>
                      </a:lnTo>
                      <a:lnTo>
                        <a:pt x="1393" y="274"/>
                      </a:lnTo>
                      <a:lnTo>
                        <a:pt x="1383" y="274"/>
                      </a:lnTo>
                      <a:lnTo>
                        <a:pt x="1374" y="274"/>
                      </a:lnTo>
                      <a:lnTo>
                        <a:pt x="1364" y="274"/>
                      </a:lnTo>
                      <a:lnTo>
                        <a:pt x="1358" y="274"/>
                      </a:lnTo>
                      <a:lnTo>
                        <a:pt x="1348" y="274"/>
                      </a:lnTo>
                      <a:lnTo>
                        <a:pt x="1339" y="274"/>
                      </a:lnTo>
                      <a:lnTo>
                        <a:pt x="1329" y="271"/>
                      </a:lnTo>
                      <a:lnTo>
                        <a:pt x="1323" y="271"/>
                      </a:lnTo>
                      <a:lnTo>
                        <a:pt x="1313" y="271"/>
                      </a:lnTo>
                      <a:lnTo>
                        <a:pt x="1304" y="271"/>
                      </a:lnTo>
                      <a:lnTo>
                        <a:pt x="1294" y="271"/>
                      </a:lnTo>
                      <a:lnTo>
                        <a:pt x="1288" y="271"/>
                      </a:lnTo>
                      <a:lnTo>
                        <a:pt x="1278" y="271"/>
                      </a:lnTo>
                      <a:lnTo>
                        <a:pt x="1268" y="268"/>
                      </a:lnTo>
                      <a:lnTo>
                        <a:pt x="1259" y="268"/>
                      </a:lnTo>
                      <a:lnTo>
                        <a:pt x="1249" y="268"/>
                      </a:lnTo>
                      <a:lnTo>
                        <a:pt x="1243" y="268"/>
                      </a:lnTo>
                      <a:lnTo>
                        <a:pt x="1233" y="268"/>
                      </a:lnTo>
                      <a:lnTo>
                        <a:pt x="1224" y="265"/>
                      </a:lnTo>
                      <a:lnTo>
                        <a:pt x="1214" y="265"/>
                      </a:lnTo>
                      <a:lnTo>
                        <a:pt x="1208" y="265"/>
                      </a:lnTo>
                      <a:lnTo>
                        <a:pt x="1198" y="265"/>
                      </a:lnTo>
                      <a:lnTo>
                        <a:pt x="1189" y="265"/>
                      </a:lnTo>
                      <a:lnTo>
                        <a:pt x="1179" y="265"/>
                      </a:lnTo>
                      <a:lnTo>
                        <a:pt x="1170" y="262"/>
                      </a:lnTo>
                      <a:lnTo>
                        <a:pt x="1160" y="262"/>
                      </a:lnTo>
                      <a:lnTo>
                        <a:pt x="1151" y="262"/>
                      </a:lnTo>
                      <a:lnTo>
                        <a:pt x="1138" y="258"/>
                      </a:lnTo>
                      <a:lnTo>
                        <a:pt x="1125" y="258"/>
                      </a:lnTo>
                      <a:lnTo>
                        <a:pt x="1112" y="258"/>
                      </a:lnTo>
                      <a:lnTo>
                        <a:pt x="1103" y="258"/>
                      </a:lnTo>
                      <a:lnTo>
                        <a:pt x="1090" y="255"/>
                      </a:lnTo>
                      <a:lnTo>
                        <a:pt x="1077" y="255"/>
                      </a:lnTo>
                      <a:lnTo>
                        <a:pt x="1064" y="255"/>
                      </a:lnTo>
                      <a:lnTo>
                        <a:pt x="1055" y="252"/>
                      </a:lnTo>
                      <a:lnTo>
                        <a:pt x="1042" y="252"/>
                      </a:lnTo>
                      <a:lnTo>
                        <a:pt x="1029" y="252"/>
                      </a:lnTo>
                      <a:lnTo>
                        <a:pt x="1017" y="249"/>
                      </a:lnTo>
                      <a:lnTo>
                        <a:pt x="1004" y="249"/>
                      </a:lnTo>
                      <a:lnTo>
                        <a:pt x="994" y="249"/>
                      </a:lnTo>
                      <a:lnTo>
                        <a:pt x="982" y="246"/>
                      </a:lnTo>
                      <a:lnTo>
                        <a:pt x="969" y="246"/>
                      </a:lnTo>
                      <a:lnTo>
                        <a:pt x="956" y="246"/>
                      </a:lnTo>
                      <a:lnTo>
                        <a:pt x="947" y="242"/>
                      </a:lnTo>
                      <a:lnTo>
                        <a:pt x="934" y="242"/>
                      </a:lnTo>
                      <a:lnTo>
                        <a:pt x="921" y="242"/>
                      </a:lnTo>
                      <a:lnTo>
                        <a:pt x="908" y="239"/>
                      </a:lnTo>
                      <a:lnTo>
                        <a:pt x="896" y="239"/>
                      </a:lnTo>
                      <a:lnTo>
                        <a:pt x="886" y="236"/>
                      </a:lnTo>
                      <a:lnTo>
                        <a:pt x="873" y="236"/>
                      </a:lnTo>
                      <a:lnTo>
                        <a:pt x="860" y="236"/>
                      </a:lnTo>
                      <a:lnTo>
                        <a:pt x="848" y="233"/>
                      </a:lnTo>
                      <a:lnTo>
                        <a:pt x="838" y="233"/>
                      </a:lnTo>
                      <a:lnTo>
                        <a:pt x="825" y="233"/>
                      </a:lnTo>
                      <a:lnTo>
                        <a:pt x="813" y="230"/>
                      </a:lnTo>
                      <a:lnTo>
                        <a:pt x="800" y="230"/>
                      </a:lnTo>
                      <a:lnTo>
                        <a:pt x="790" y="230"/>
                      </a:lnTo>
                      <a:lnTo>
                        <a:pt x="778" y="226"/>
                      </a:lnTo>
                      <a:lnTo>
                        <a:pt x="765" y="226"/>
                      </a:lnTo>
                      <a:lnTo>
                        <a:pt x="752" y="226"/>
                      </a:lnTo>
                      <a:lnTo>
                        <a:pt x="739" y="223"/>
                      </a:lnTo>
                      <a:lnTo>
                        <a:pt x="723" y="223"/>
                      </a:lnTo>
                      <a:lnTo>
                        <a:pt x="711" y="223"/>
                      </a:lnTo>
                      <a:lnTo>
                        <a:pt x="698" y="220"/>
                      </a:lnTo>
                      <a:lnTo>
                        <a:pt x="685" y="220"/>
                      </a:lnTo>
                      <a:lnTo>
                        <a:pt x="672" y="220"/>
                      </a:lnTo>
                      <a:lnTo>
                        <a:pt x="660" y="217"/>
                      </a:lnTo>
                      <a:lnTo>
                        <a:pt x="647" y="217"/>
                      </a:lnTo>
                      <a:lnTo>
                        <a:pt x="634" y="217"/>
                      </a:lnTo>
                      <a:lnTo>
                        <a:pt x="621" y="214"/>
                      </a:lnTo>
                      <a:lnTo>
                        <a:pt x="609" y="214"/>
                      </a:lnTo>
                      <a:lnTo>
                        <a:pt x="596" y="210"/>
                      </a:lnTo>
                      <a:lnTo>
                        <a:pt x="580" y="210"/>
                      </a:lnTo>
                      <a:lnTo>
                        <a:pt x="567" y="210"/>
                      </a:lnTo>
                      <a:lnTo>
                        <a:pt x="558" y="207"/>
                      </a:lnTo>
                      <a:lnTo>
                        <a:pt x="548" y="207"/>
                      </a:lnTo>
                      <a:lnTo>
                        <a:pt x="535" y="207"/>
                      </a:lnTo>
                      <a:lnTo>
                        <a:pt x="526" y="204"/>
                      </a:lnTo>
                      <a:lnTo>
                        <a:pt x="513" y="204"/>
                      </a:lnTo>
                      <a:lnTo>
                        <a:pt x="503" y="204"/>
                      </a:lnTo>
                      <a:lnTo>
                        <a:pt x="494" y="201"/>
                      </a:lnTo>
                      <a:lnTo>
                        <a:pt x="484" y="201"/>
                      </a:lnTo>
                      <a:lnTo>
                        <a:pt x="472" y="201"/>
                      </a:lnTo>
                      <a:lnTo>
                        <a:pt x="462" y="198"/>
                      </a:lnTo>
                      <a:lnTo>
                        <a:pt x="452" y="198"/>
                      </a:lnTo>
                      <a:lnTo>
                        <a:pt x="443" y="198"/>
                      </a:lnTo>
                      <a:lnTo>
                        <a:pt x="433" y="198"/>
                      </a:lnTo>
                      <a:lnTo>
                        <a:pt x="421" y="195"/>
                      </a:lnTo>
                      <a:lnTo>
                        <a:pt x="411" y="195"/>
                      </a:lnTo>
                      <a:lnTo>
                        <a:pt x="401" y="195"/>
                      </a:lnTo>
                      <a:lnTo>
                        <a:pt x="392" y="191"/>
                      </a:lnTo>
                      <a:lnTo>
                        <a:pt x="382" y="191"/>
                      </a:lnTo>
                      <a:lnTo>
                        <a:pt x="373" y="191"/>
                      </a:lnTo>
                      <a:lnTo>
                        <a:pt x="363" y="188"/>
                      </a:lnTo>
                      <a:lnTo>
                        <a:pt x="350" y="188"/>
                      </a:lnTo>
                      <a:lnTo>
                        <a:pt x="341" y="188"/>
                      </a:lnTo>
                      <a:lnTo>
                        <a:pt x="331" y="185"/>
                      </a:lnTo>
                      <a:lnTo>
                        <a:pt x="322" y="185"/>
                      </a:lnTo>
                      <a:lnTo>
                        <a:pt x="312" y="185"/>
                      </a:lnTo>
                      <a:lnTo>
                        <a:pt x="303" y="182"/>
                      </a:lnTo>
                      <a:lnTo>
                        <a:pt x="293" y="182"/>
                      </a:lnTo>
                      <a:lnTo>
                        <a:pt x="283" y="182"/>
                      </a:lnTo>
                      <a:lnTo>
                        <a:pt x="274" y="179"/>
                      </a:lnTo>
                      <a:lnTo>
                        <a:pt x="264" y="179"/>
                      </a:lnTo>
                      <a:lnTo>
                        <a:pt x="252" y="175"/>
                      </a:lnTo>
                      <a:lnTo>
                        <a:pt x="242" y="175"/>
                      </a:lnTo>
                      <a:lnTo>
                        <a:pt x="236" y="175"/>
                      </a:lnTo>
                      <a:lnTo>
                        <a:pt x="229" y="172"/>
                      </a:lnTo>
                      <a:lnTo>
                        <a:pt x="223" y="172"/>
                      </a:lnTo>
                      <a:lnTo>
                        <a:pt x="213" y="172"/>
                      </a:lnTo>
                      <a:lnTo>
                        <a:pt x="207" y="172"/>
                      </a:lnTo>
                      <a:lnTo>
                        <a:pt x="197" y="169"/>
                      </a:lnTo>
                      <a:lnTo>
                        <a:pt x="191" y="169"/>
                      </a:lnTo>
                      <a:lnTo>
                        <a:pt x="181" y="166"/>
                      </a:lnTo>
                      <a:lnTo>
                        <a:pt x="172" y="166"/>
                      </a:lnTo>
                      <a:lnTo>
                        <a:pt x="165" y="166"/>
                      </a:lnTo>
                      <a:lnTo>
                        <a:pt x="156" y="163"/>
                      </a:lnTo>
                      <a:lnTo>
                        <a:pt x="146" y="163"/>
                      </a:lnTo>
                      <a:lnTo>
                        <a:pt x="140" y="159"/>
                      </a:lnTo>
                      <a:lnTo>
                        <a:pt x="130" y="159"/>
                      </a:lnTo>
                      <a:lnTo>
                        <a:pt x="121" y="156"/>
                      </a:lnTo>
                      <a:lnTo>
                        <a:pt x="114" y="156"/>
                      </a:lnTo>
                      <a:lnTo>
                        <a:pt x="105" y="153"/>
                      </a:lnTo>
                      <a:lnTo>
                        <a:pt x="99" y="153"/>
                      </a:lnTo>
                      <a:lnTo>
                        <a:pt x="89" y="150"/>
                      </a:lnTo>
                      <a:lnTo>
                        <a:pt x="83" y="150"/>
                      </a:lnTo>
                      <a:lnTo>
                        <a:pt x="73" y="147"/>
                      </a:lnTo>
                      <a:lnTo>
                        <a:pt x="67" y="147"/>
                      </a:lnTo>
                      <a:lnTo>
                        <a:pt x="60" y="144"/>
                      </a:lnTo>
                      <a:lnTo>
                        <a:pt x="54" y="144"/>
                      </a:lnTo>
                      <a:lnTo>
                        <a:pt x="48" y="140"/>
                      </a:lnTo>
                      <a:lnTo>
                        <a:pt x="41" y="140"/>
                      </a:lnTo>
                      <a:lnTo>
                        <a:pt x="35" y="137"/>
                      </a:lnTo>
                      <a:lnTo>
                        <a:pt x="28" y="134"/>
                      </a:lnTo>
                      <a:lnTo>
                        <a:pt x="25" y="134"/>
                      </a:lnTo>
                      <a:lnTo>
                        <a:pt x="19" y="131"/>
                      </a:lnTo>
                      <a:lnTo>
                        <a:pt x="16" y="131"/>
                      </a:lnTo>
                      <a:lnTo>
                        <a:pt x="12" y="128"/>
                      </a:lnTo>
                      <a:lnTo>
                        <a:pt x="6" y="124"/>
                      </a:lnTo>
                      <a:lnTo>
                        <a:pt x="0" y="118"/>
                      </a:lnTo>
                      <a:lnTo>
                        <a:pt x="0" y="115"/>
                      </a:lnTo>
                      <a:lnTo>
                        <a:pt x="0" y="108"/>
                      </a:lnTo>
                      <a:lnTo>
                        <a:pt x="3" y="105"/>
                      </a:lnTo>
                      <a:lnTo>
                        <a:pt x="6" y="99"/>
                      </a:lnTo>
                      <a:lnTo>
                        <a:pt x="12" y="96"/>
                      </a:lnTo>
                      <a:lnTo>
                        <a:pt x="19" y="89"/>
                      </a:lnTo>
                      <a:lnTo>
                        <a:pt x="25" y="86"/>
                      </a:lnTo>
                      <a:lnTo>
                        <a:pt x="35" y="80"/>
                      </a:lnTo>
                      <a:lnTo>
                        <a:pt x="48" y="77"/>
                      </a:lnTo>
                      <a:lnTo>
                        <a:pt x="57" y="70"/>
                      </a:lnTo>
                      <a:lnTo>
                        <a:pt x="70" y="67"/>
                      </a:lnTo>
                      <a:lnTo>
                        <a:pt x="86" y="61"/>
                      </a:lnTo>
                      <a:lnTo>
                        <a:pt x="99" y="57"/>
                      </a:lnTo>
                      <a:lnTo>
                        <a:pt x="114" y="51"/>
                      </a:lnTo>
                      <a:lnTo>
                        <a:pt x="127" y="48"/>
                      </a:lnTo>
                      <a:lnTo>
                        <a:pt x="143" y="45"/>
                      </a:lnTo>
                      <a:lnTo>
                        <a:pt x="159" y="41"/>
                      </a:lnTo>
                      <a:lnTo>
                        <a:pt x="172" y="35"/>
                      </a:lnTo>
                      <a:lnTo>
                        <a:pt x="188" y="32"/>
                      </a:lnTo>
                      <a:lnTo>
                        <a:pt x="204" y="29"/>
                      </a:lnTo>
                      <a:lnTo>
                        <a:pt x="216" y="26"/>
                      </a:lnTo>
                      <a:lnTo>
                        <a:pt x="232" y="22"/>
                      </a:lnTo>
                      <a:lnTo>
                        <a:pt x="245" y="19"/>
                      </a:lnTo>
                      <a:lnTo>
                        <a:pt x="258" y="19"/>
                      </a:lnTo>
                      <a:lnTo>
                        <a:pt x="268" y="16"/>
                      </a:lnTo>
                      <a:lnTo>
                        <a:pt x="280" y="13"/>
                      </a:lnTo>
                      <a:lnTo>
                        <a:pt x="287" y="13"/>
                      </a:lnTo>
                      <a:lnTo>
                        <a:pt x="296" y="13"/>
                      </a:lnTo>
                      <a:lnTo>
                        <a:pt x="303" y="10"/>
                      </a:lnTo>
                      <a:lnTo>
                        <a:pt x="309" y="10"/>
                      </a:lnTo>
                      <a:lnTo>
                        <a:pt x="347" y="6"/>
                      </a:lnTo>
                      <a:lnTo>
                        <a:pt x="392" y="3"/>
                      </a:lnTo>
                      <a:lnTo>
                        <a:pt x="446" y="3"/>
                      </a:lnTo>
                      <a:lnTo>
                        <a:pt x="503" y="0"/>
                      </a:lnTo>
                      <a:lnTo>
                        <a:pt x="570" y="0"/>
                      </a:lnTo>
                      <a:lnTo>
                        <a:pt x="640" y="0"/>
                      </a:lnTo>
                      <a:lnTo>
                        <a:pt x="717" y="3"/>
                      </a:lnTo>
                      <a:lnTo>
                        <a:pt x="797" y="3"/>
                      </a:lnTo>
                      <a:lnTo>
                        <a:pt x="883" y="6"/>
                      </a:lnTo>
                      <a:lnTo>
                        <a:pt x="972" y="6"/>
                      </a:lnTo>
                      <a:lnTo>
                        <a:pt x="1061" y="10"/>
                      </a:lnTo>
                      <a:lnTo>
                        <a:pt x="1157" y="13"/>
                      </a:lnTo>
                      <a:lnTo>
                        <a:pt x="1253" y="16"/>
                      </a:lnTo>
                      <a:lnTo>
                        <a:pt x="1351" y="22"/>
                      </a:lnTo>
                      <a:lnTo>
                        <a:pt x="1453" y="26"/>
                      </a:lnTo>
                      <a:lnTo>
                        <a:pt x="1555" y="29"/>
                      </a:lnTo>
                      <a:lnTo>
                        <a:pt x="1657" y="35"/>
                      </a:lnTo>
                      <a:lnTo>
                        <a:pt x="1756" y="41"/>
                      </a:lnTo>
                      <a:lnTo>
                        <a:pt x="1858" y="45"/>
                      </a:lnTo>
                      <a:lnTo>
                        <a:pt x="1960" y="51"/>
                      </a:lnTo>
                      <a:lnTo>
                        <a:pt x="2059" y="57"/>
                      </a:lnTo>
                      <a:lnTo>
                        <a:pt x="2155" y="64"/>
                      </a:lnTo>
                      <a:lnTo>
                        <a:pt x="2250" y="67"/>
                      </a:lnTo>
                      <a:lnTo>
                        <a:pt x="2343" y="73"/>
                      </a:lnTo>
                      <a:lnTo>
                        <a:pt x="2432" y="80"/>
                      </a:lnTo>
                      <a:lnTo>
                        <a:pt x="2518" y="86"/>
                      </a:lnTo>
                      <a:lnTo>
                        <a:pt x="2598" y="92"/>
                      </a:lnTo>
                      <a:lnTo>
                        <a:pt x="2674" y="99"/>
                      </a:lnTo>
                      <a:lnTo>
                        <a:pt x="2748" y="105"/>
                      </a:lnTo>
                      <a:lnTo>
                        <a:pt x="2811" y="112"/>
                      </a:lnTo>
                      <a:lnTo>
                        <a:pt x="2872" y="118"/>
                      </a:lnTo>
                      <a:lnTo>
                        <a:pt x="2926" y="12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26880" y="3443760"/>
                  <a:ext cx="2493720" cy="288000"/>
                </a:xfrm>
                <a:custGeom>
                  <a:avLst/>
                  <a:gdLst/>
                  <a:ahLst/>
                  <a:rect l="l" t="t" r="r" b="b"/>
                  <a:pathLst>
                    <a:path w="2926" h="319">
                      <a:moveTo>
                        <a:pt x="2885" y="118"/>
                      </a:moveTo>
                      <a:lnTo>
                        <a:pt x="2901" y="121"/>
                      </a:lnTo>
                      <a:lnTo>
                        <a:pt x="2913" y="128"/>
                      </a:lnTo>
                      <a:lnTo>
                        <a:pt x="2920" y="131"/>
                      </a:lnTo>
                      <a:lnTo>
                        <a:pt x="2923" y="137"/>
                      </a:lnTo>
                      <a:lnTo>
                        <a:pt x="2926" y="144"/>
                      </a:lnTo>
                      <a:lnTo>
                        <a:pt x="2923" y="147"/>
                      </a:lnTo>
                      <a:lnTo>
                        <a:pt x="2923" y="153"/>
                      </a:lnTo>
                      <a:lnTo>
                        <a:pt x="2916" y="156"/>
                      </a:lnTo>
                      <a:lnTo>
                        <a:pt x="2910" y="160"/>
                      </a:lnTo>
                      <a:lnTo>
                        <a:pt x="2904" y="163"/>
                      </a:lnTo>
                      <a:lnTo>
                        <a:pt x="2897" y="169"/>
                      </a:lnTo>
                      <a:lnTo>
                        <a:pt x="2891" y="172"/>
                      </a:lnTo>
                      <a:lnTo>
                        <a:pt x="2885" y="176"/>
                      </a:lnTo>
                      <a:lnTo>
                        <a:pt x="2875" y="179"/>
                      </a:lnTo>
                      <a:lnTo>
                        <a:pt x="2869" y="182"/>
                      </a:lnTo>
                      <a:lnTo>
                        <a:pt x="2862" y="185"/>
                      </a:lnTo>
                      <a:lnTo>
                        <a:pt x="2853" y="185"/>
                      </a:lnTo>
                      <a:lnTo>
                        <a:pt x="2846" y="188"/>
                      </a:lnTo>
                      <a:lnTo>
                        <a:pt x="2840" y="192"/>
                      </a:lnTo>
                      <a:lnTo>
                        <a:pt x="2830" y="195"/>
                      </a:lnTo>
                      <a:lnTo>
                        <a:pt x="2824" y="198"/>
                      </a:lnTo>
                      <a:lnTo>
                        <a:pt x="2818" y="198"/>
                      </a:lnTo>
                      <a:lnTo>
                        <a:pt x="2808" y="201"/>
                      </a:lnTo>
                      <a:lnTo>
                        <a:pt x="2802" y="204"/>
                      </a:lnTo>
                      <a:lnTo>
                        <a:pt x="2795" y="207"/>
                      </a:lnTo>
                      <a:lnTo>
                        <a:pt x="2786" y="211"/>
                      </a:lnTo>
                      <a:lnTo>
                        <a:pt x="2779" y="214"/>
                      </a:lnTo>
                      <a:lnTo>
                        <a:pt x="2770" y="217"/>
                      </a:lnTo>
                      <a:lnTo>
                        <a:pt x="2763" y="217"/>
                      </a:lnTo>
                      <a:lnTo>
                        <a:pt x="2754" y="220"/>
                      </a:lnTo>
                      <a:lnTo>
                        <a:pt x="2748" y="223"/>
                      </a:lnTo>
                      <a:lnTo>
                        <a:pt x="2741" y="227"/>
                      </a:lnTo>
                      <a:lnTo>
                        <a:pt x="2732" y="230"/>
                      </a:lnTo>
                      <a:lnTo>
                        <a:pt x="2725" y="233"/>
                      </a:lnTo>
                      <a:lnTo>
                        <a:pt x="2719" y="233"/>
                      </a:lnTo>
                      <a:lnTo>
                        <a:pt x="2709" y="236"/>
                      </a:lnTo>
                      <a:lnTo>
                        <a:pt x="2703" y="239"/>
                      </a:lnTo>
                      <a:lnTo>
                        <a:pt x="2693" y="243"/>
                      </a:lnTo>
                      <a:lnTo>
                        <a:pt x="2687" y="243"/>
                      </a:lnTo>
                      <a:lnTo>
                        <a:pt x="2681" y="246"/>
                      </a:lnTo>
                      <a:lnTo>
                        <a:pt x="2671" y="249"/>
                      </a:lnTo>
                      <a:lnTo>
                        <a:pt x="2665" y="252"/>
                      </a:lnTo>
                      <a:lnTo>
                        <a:pt x="2658" y="252"/>
                      </a:lnTo>
                      <a:lnTo>
                        <a:pt x="2649" y="255"/>
                      </a:lnTo>
                      <a:lnTo>
                        <a:pt x="2642" y="259"/>
                      </a:lnTo>
                      <a:lnTo>
                        <a:pt x="2633" y="262"/>
                      </a:lnTo>
                      <a:lnTo>
                        <a:pt x="2626" y="262"/>
                      </a:lnTo>
                      <a:lnTo>
                        <a:pt x="2620" y="265"/>
                      </a:lnTo>
                      <a:lnTo>
                        <a:pt x="2610" y="268"/>
                      </a:lnTo>
                      <a:lnTo>
                        <a:pt x="2604" y="271"/>
                      </a:lnTo>
                      <a:lnTo>
                        <a:pt x="2595" y="271"/>
                      </a:lnTo>
                      <a:lnTo>
                        <a:pt x="2588" y="274"/>
                      </a:lnTo>
                      <a:lnTo>
                        <a:pt x="2579" y="278"/>
                      </a:lnTo>
                      <a:lnTo>
                        <a:pt x="2572" y="281"/>
                      </a:lnTo>
                      <a:lnTo>
                        <a:pt x="2563" y="281"/>
                      </a:lnTo>
                      <a:lnTo>
                        <a:pt x="2556" y="284"/>
                      </a:lnTo>
                      <a:lnTo>
                        <a:pt x="2550" y="287"/>
                      </a:lnTo>
                      <a:lnTo>
                        <a:pt x="2544" y="287"/>
                      </a:lnTo>
                      <a:lnTo>
                        <a:pt x="2537" y="290"/>
                      </a:lnTo>
                      <a:lnTo>
                        <a:pt x="2534" y="290"/>
                      </a:lnTo>
                      <a:lnTo>
                        <a:pt x="2528" y="290"/>
                      </a:lnTo>
                      <a:lnTo>
                        <a:pt x="2521" y="294"/>
                      </a:lnTo>
                      <a:lnTo>
                        <a:pt x="2515" y="294"/>
                      </a:lnTo>
                      <a:lnTo>
                        <a:pt x="2508" y="294"/>
                      </a:lnTo>
                      <a:lnTo>
                        <a:pt x="2502" y="297"/>
                      </a:lnTo>
                      <a:lnTo>
                        <a:pt x="2499" y="297"/>
                      </a:lnTo>
                      <a:lnTo>
                        <a:pt x="2493" y="297"/>
                      </a:lnTo>
                      <a:lnTo>
                        <a:pt x="2486" y="297"/>
                      </a:lnTo>
                      <a:lnTo>
                        <a:pt x="2480" y="300"/>
                      </a:lnTo>
                      <a:lnTo>
                        <a:pt x="2473" y="300"/>
                      </a:lnTo>
                      <a:lnTo>
                        <a:pt x="2467" y="300"/>
                      </a:lnTo>
                      <a:lnTo>
                        <a:pt x="2464" y="300"/>
                      </a:lnTo>
                      <a:lnTo>
                        <a:pt x="2451" y="300"/>
                      </a:lnTo>
                      <a:lnTo>
                        <a:pt x="2442" y="303"/>
                      </a:lnTo>
                      <a:lnTo>
                        <a:pt x="2432" y="303"/>
                      </a:lnTo>
                      <a:lnTo>
                        <a:pt x="2419" y="303"/>
                      </a:lnTo>
                      <a:lnTo>
                        <a:pt x="2410" y="306"/>
                      </a:lnTo>
                      <a:lnTo>
                        <a:pt x="2400" y="306"/>
                      </a:lnTo>
                      <a:lnTo>
                        <a:pt x="2390" y="306"/>
                      </a:lnTo>
                      <a:lnTo>
                        <a:pt x="2381" y="306"/>
                      </a:lnTo>
                      <a:lnTo>
                        <a:pt x="2368" y="310"/>
                      </a:lnTo>
                      <a:lnTo>
                        <a:pt x="2359" y="310"/>
                      </a:lnTo>
                      <a:lnTo>
                        <a:pt x="2349" y="310"/>
                      </a:lnTo>
                      <a:lnTo>
                        <a:pt x="2339" y="310"/>
                      </a:lnTo>
                      <a:lnTo>
                        <a:pt x="2327" y="310"/>
                      </a:lnTo>
                      <a:lnTo>
                        <a:pt x="2317" y="310"/>
                      </a:lnTo>
                      <a:lnTo>
                        <a:pt x="2308" y="310"/>
                      </a:lnTo>
                      <a:lnTo>
                        <a:pt x="2298" y="310"/>
                      </a:lnTo>
                      <a:lnTo>
                        <a:pt x="2285" y="313"/>
                      </a:lnTo>
                      <a:lnTo>
                        <a:pt x="2276" y="313"/>
                      </a:lnTo>
                      <a:lnTo>
                        <a:pt x="2266" y="313"/>
                      </a:lnTo>
                      <a:lnTo>
                        <a:pt x="2253" y="313"/>
                      </a:lnTo>
                      <a:lnTo>
                        <a:pt x="2244" y="313"/>
                      </a:lnTo>
                      <a:lnTo>
                        <a:pt x="2234" y="313"/>
                      </a:lnTo>
                      <a:lnTo>
                        <a:pt x="2225" y="313"/>
                      </a:lnTo>
                      <a:lnTo>
                        <a:pt x="2212" y="313"/>
                      </a:lnTo>
                      <a:lnTo>
                        <a:pt x="2202" y="316"/>
                      </a:lnTo>
                      <a:lnTo>
                        <a:pt x="2193" y="316"/>
                      </a:lnTo>
                      <a:lnTo>
                        <a:pt x="2180" y="316"/>
                      </a:lnTo>
                      <a:lnTo>
                        <a:pt x="2171" y="316"/>
                      </a:lnTo>
                      <a:lnTo>
                        <a:pt x="2161" y="316"/>
                      </a:lnTo>
                      <a:lnTo>
                        <a:pt x="2151" y="316"/>
                      </a:lnTo>
                      <a:lnTo>
                        <a:pt x="2139" y="316"/>
                      </a:lnTo>
                      <a:lnTo>
                        <a:pt x="2129" y="316"/>
                      </a:lnTo>
                      <a:lnTo>
                        <a:pt x="2123" y="316"/>
                      </a:lnTo>
                      <a:lnTo>
                        <a:pt x="2113" y="316"/>
                      </a:lnTo>
                      <a:lnTo>
                        <a:pt x="2107" y="316"/>
                      </a:lnTo>
                      <a:lnTo>
                        <a:pt x="2097" y="316"/>
                      </a:lnTo>
                      <a:lnTo>
                        <a:pt x="2091" y="316"/>
                      </a:lnTo>
                      <a:lnTo>
                        <a:pt x="2081" y="316"/>
                      </a:lnTo>
                      <a:lnTo>
                        <a:pt x="2075" y="316"/>
                      </a:lnTo>
                      <a:lnTo>
                        <a:pt x="2065" y="316"/>
                      </a:lnTo>
                      <a:lnTo>
                        <a:pt x="2059" y="319"/>
                      </a:lnTo>
                      <a:lnTo>
                        <a:pt x="2049" y="319"/>
                      </a:lnTo>
                      <a:lnTo>
                        <a:pt x="2043" y="319"/>
                      </a:lnTo>
                      <a:lnTo>
                        <a:pt x="2033" y="319"/>
                      </a:lnTo>
                      <a:lnTo>
                        <a:pt x="2027" y="319"/>
                      </a:lnTo>
                      <a:lnTo>
                        <a:pt x="2018" y="319"/>
                      </a:lnTo>
                      <a:lnTo>
                        <a:pt x="2011" y="319"/>
                      </a:lnTo>
                      <a:lnTo>
                        <a:pt x="2002" y="319"/>
                      </a:lnTo>
                      <a:lnTo>
                        <a:pt x="1995" y="319"/>
                      </a:lnTo>
                      <a:lnTo>
                        <a:pt x="1986" y="316"/>
                      </a:lnTo>
                      <a:lnTo>
                        <a:pt x="1976" y="316"/>
                      </a:lnTo>
                      <a:lnTo>
                        <a:pt x="1970" y="316"/>
                      </a:lnTo>
                      <a:lnTo>
                        <a:pt x="1960" y="316"/>
                      </a:lnTo>
                      <a:lnTo>
                        <a:pt x="1951" y="316"/>
                      </a:lnTo>
                      <a:lnTo>
                        <a:pt x="1941" y="316"/>
                      </a:lnTo>
                      <a:lnTo>
                        <a:pt x="1931" y="316"/>
                      </a:lnTo>
                      <a:lnTo>
                        <a:pt x="1922" y="316"/>
                      </a:lnTo>
                      <a:lnTo>
                        <a:pt x="1912" y="313"/>
                      </a:lnTo>
                      <a:lnTo>
                        <a:pt x="1903" y="313"/>
                      </a:lnTo>
                      <a:lnTo>
                        <a:pt x="1893" y="313"/>
                      </a:lnTo>
                      <a:lnTo>
                        <a:pt x="1884" y="313"/>
                      </a:lnTo>
                      <a:lnTo>
                        <a:pt x="1874" y="313"/>
                      </a:lnTo>
                      <a:lnTo>
                        <a:pt x="1865" y="313"/>
                      </a:lnTo>
                      <a:lnTo>
                        <a:pt x="1855" y="313"/>
                      </a:lnTo>
                      <a:lnTo>
                        <a:pt x="1845" y="310"/>
                      </a:lnTo>
                      <a:lnTo>
                        <a:pt x="1836" y="310"/>
                      </a:lnTo>
                      <a:lnTo>
                        <a:pt x="1826" y="310"/>
                      </a:lnTo>
                      <a:lnTo>
                        <a:pt x="1817" y="310"/>
                      </a:lnTo>
                      <a:lnTo>
                        <a:pt x="1807" y="310"/>
                      </a:lnTo>
                      <a:lnTo>
                        <a:pt x="1798" y="310"/>
                      </a:lnTo>
                      <a:lnTo>
                        <a:pt x="1788" y="310"/>
                      </a:lnTo>
                      <a:lnTo>
                        <a:pt x="1778" y="306"/>
                      </a:lnTo>
                      <a:lnTo>
                        <a:pt x="1769" y="306"/>
                      </a:lnTo>
                      <a:lnTo>
                        <a:pt x="1762" y="306"/>
                      </a:lnTo>
                      <a:lnTo>
                        <a:pt x="1753" y="306"/>
                      </a:lnTo>
                      <a:lnTo>
                        <a:pt x="1743" y="306"/>
                      </a:lnTo>
                      <a:lnTo>
                        <a:pt x="1734" y="306"/>
                      </a:lnTo>
                      <a:lnTo>
                        <a:pt x="1724" y="306"/>
                      </a:lnTo>
                      <a:lnTo>
                        <a:pt x="1718" y="303"/>
                      </a:lnTo>
                      <a:lnTo>
                        <a:pt x="1708" y="303"/>
                      </a:lnTo>
                      <a:lnTo>
                        <a:pt x="1699" y="303"/>
                      </a:lnTo>
                      <a:lnTo>
                        <a:pt x="1689" y="303"/>
                      </a:lnTo>
                      <a:lnTo>
                        <a:pt x="1680" y="303"/>
                      </a:lnTo>
                      <a:lnTo>
                        <a:pt x="1670" y="300"/>
                      </a:lnTo>
                      <a:lnTo>
                        <a:pt x="1660" y="300"/>
                      </a:lnTo>
                      <a:lnTo>
                        <a:pt x="1651" y="300"/>
                      </a:lnTo>
                      <a:lnTo>
                        <a:pt x="1641" y="297"/>
                      </a:lnTo>
                      <a:lnTo>
                        <a:pt x="1632" y="297"/>
                      </a:lnTo>
                      <a:lnTo>
                        <a:pt x="1622" y="297"/>
                      </a:lnTo>
                      <a:lnTo>
                        <a:pt x="1613" y="294"/>
                      </a:lnTo>
                      <a:lnTo>
                        <a:pt x="1603" y="294"/>
                      </a:lnTo>
                      <a:lnTo>
                        <a:pt x="1594" y="294"/>
                      </a:lnTo>
                      <a:lnTo>
                        <a:pt x="1584" y="290"/>
                      </a:lnTo>
                      <a:lnTo>
                        <a:pt x="1574" y="290"/>
                      </a:lnTo>
                      <a:lnTo>
                        <a:pt x="1568" y="287"/>
                      </a:lnTo>
                      <a:lnTo>
                        <a:pt x="1558" y="287"/>
                      </a:lnTo>
                      <a:lnTo>
                        <a:pt x="1549" y="284"/>
                      </a:lnTo>
                      <a:lnTo>
                        <a:pt x="1539" y="284"/>
                      </a:lnTo>
                      <a:lnTo>
                        <a:pt x="1530" y="284"/>
                      </a:lnTo>
                      <a:lnTo>
                        <a:pt x="1520" y="281"/>
                      </a:lnTo>
                      <a:lnTo>
                        <a:pt x="1511" y="281"/>
                      </a:lnTo>
                      <a:lnTo>
                        <a:pt x="1501" y="278"/>
                      </a:lnTo>
                      <a:lnTo>
                        <a:pt x="1492" y="278"/>
                      </a:lnTo>
                      <a:lnTo>
                        <a:pt x="1482" y="278"/>
                      </a:lnTo>
                      <a:lnTo>
                        <a:pt x="1476" y="274"/>
                      </a:lnTo>
                      <a:lnTo>
                        <a:pt x="1466" y="274"/>
                      </a:lnTo>
                      <a:lnTo>
                        <a:pt x="1456" y="274"/>
                      </a:lnTo>
                      <a:lnTo>
                        <a:pt x="1447" y="271"/>
                      </a:lnTo>
                      <a:lnTo>
                        <a:pt x="1437" y="271"/>
                      </a:lnTo>
                      <a:lnTo>
                        <a:pt x="1425" y="271"/>
                      </a:lnTo>
                      <a:lnTo>
                        <a:pt x="1415" y="271"/>
                      </a:lnTo>
                      <a:lnTo>
                        <a:pt x="1405" y="268"/>
                      </a:lnTo>
                      <a:lnTo>
                        <a:pt x="1396" y="268"/>
                      </a:lnTo>
                      <a:lnTo>
                        <a:pt x="1390" y="268"/>
                      </a:lnTo>
                      <a:lnTo>
                        <a:pt x="1380" y="268"/>
                      </a:lnTo>
                      <a:lnTo>
                        <a:pt x="1370" y="268"/>
                      </a:lnTo>
                      <a:lnTo>
                        <a:pt x="1361" y="268"/>
                      </a:lnTo>
                      <a:lnTo>
                        <a:pt x="1354" y="268"/>
                      </a:lnTo>
                      <a:lnTo>
                        <a:pt x="1345" y="265"/>
                      </a:lnTo>
                      <a:lnTo>
                        <a:pt x="1335" y="265"/>
                      </a:lnTo>
                      <a:lnTo>
                        <a:pt x="1329" y="265"/>
                      </a:lnTo>
                      <a:lnTo>
                        <a:pt x="1319" y="265"/>
                      </a:lnTo>
                      <a:lnTo>
                        <a:pt x="1310" y="265"/>
                      </a:lnTo>
                      <a:lnTo>
                        <a:pt x="1300" y="265"/>
                      </a:lnTo>
                      <a:lnTo>
                        <a:pt x="1294" y="265"/>
                      </a:lnTo>
                      <a:lnTo>
                        <a:pt x="1284" y="265"/>
                      </a:lnTo>
                      <a:lnTo>
                        <a:pt x="1278" y="262"/>
                      </a:lnTo>
                      <a:lnTo>
                        <a:pt x="1268" y="262"/>
                      </a:lnTo>
                      <a:lnTo>
                        <a:pt x="1259" y="262"/>
                      </a:lnTo>
                      <a:lnTo>
                        <a:pt x="1249" y="262"/>
                      </a:lnTo>
                      <a:lnTo>
                        <a:pt x="1243" y="262"/>
                      </a:lnTo>
                      <a:lnTo>
                        <a:pt x="1233" y="262"/>
                      </a:lnTo>
                      <a:lnTo>
                        <a:pt x="1224" y="262"/>
                      </a:lnTo>
                      <a:lnTo>
                        <a:pt x="1217" y="259"/>
                      </a:lnTo>
                      <a:lnTo>
                        <a:pt x="1208" y="259"/>
                      </a:lnTo>
                      <a:lnTo>
                        <a:pt x="1198" y="259"/>
                      </a:lnTo>
                      <a:lnTo>
                        <a:pt x="1192" y="259"/>
                      </a:lnTo>
                      <a:lnTo>
                        <a:pt x="1182" y="259"/>
                      </a:lnTo>
                      <a:lnTo>
                        <a:pt x="1173" y="255"/>
                      </a:lnTo>
                      <a:lnTo>
                        <a:pt x="1163" y="255"/>
                      </a:lnTo>
                      <a:lnTo>
                        <a:pt x="1157" y="255"/>
                      </a:lnTo>
                      <a:lnTo>
                        <a:pt x="1147" y="255"/>
                      </a:lnTo>
                      <a:lnTo>
                        <a:pt x="1138" y="255"/>
                      </a:lnTo>
                      <a:lnTo>
                        <a:pt x="1128" y="252"/>
                      </a:lnTo>
                      <a:lnTo>
                        <a:pt x="1115" y="252"/>
                      </a:lnTo>
                      <a:lnTo>
                        <a:pt x="1106" y="252"/>
                      </a:lnTo>
                      <a:lnTo>
                        <a:pt x="1093" y="252"/>
                      </a:lnTo>
                      <a:lnTo>
                        <a:pt x="1080" y="249"/>
                      </a:lnTo>
                      <a:lnTo>
                        <a:pt x="1068" y="249"/>
                      </a:lnTo>
                      <a:lnTo>
                        <a:pt x="1058" y="249"/>
                      </a:lnTo>
                      <a:lnTo>
                        <a:pt x="1045" y="246"/>
                      </a:lnTo>
                      <a:lnTo>
                        <a:pt x="1032" y="246"/>
                      </a:lnTo>
                      <a:lnTo>
                        <a:pt x="1020" y="246"/>
                      </a:lnTo>
                      <a:lnTo>
                        <a:pt x="1010" y="243"/>
                      </a:lnTo>
                      <a:lnTo>
                        <a:pt x="997" y="243"/>
                      </a:lnTo>
                      <a:lnTo>
                        <a:pt x="985" y="243"/>
                      </a:lnTo>
                      <a:lnTo>
                        <a:pt x="972" y="239"/>
                      </a:lnTo>
                      <a:lnTo>
                        <a:pt x="959" y="239"/>
                      </a:lnTo>
                      <a:lnTo>
                        <a:pt x="950" y="239"/>
                      </a:lnTo>
                      <a:lnTo>
                        <a:pt x="937" y="239"/>
                      </a:lnTo>
                      <a:lnTo>
                        <a:pt x="924" y="236"/>
                      </a:lnTo>
                      <a:lnTo>
                        <a:pt x="911" y="236"/>
                      </a:lnTo>
                      <a:lnTo>
                        <a:pt x="902" y="236"/>
                      </a:lnTo>
                      <a:lnTo>
                        <a:pt x="889" y="233"/>
                      </a:lnTo>
                      <a:lnTo>
                        <a:pt x="876" y="233"/>
                      </a:lnTo>
                      <a:lnTo>
                        <a:pt x="864" y="233"/>
                      </a:lnTo>
                      <a:lnTo>
                        <a:pt x="851" y="230"/>
                      </a:lnTo>
                      <a:lnTo>
                        <a:pt x="841" y="230"/>
                      </a:lnTo>
                      <a:lnTo>
                        <a:pt x="828" y="227"/>
                      </a:lnTo>
                      <a:lnTo>
                        <a:pt x="816" y="227"/>
                      </a:lnTo>
                      <a:lnTo>
                        <a:pt x="803" y="227"/>
                      </a:lnTo>
                      <a:lnTo>
                        <a:pt x="793" y="223"/>
                      </a:lnTo>
                      <a:lnTo>
                        <a:pt x="781" y="223"/>
                      </a:lnTo>
                      <a:lnTo>
                        <a:pt x="768" y="223"/>
                      </a:lnTo>
                      <a:lnTo>
                        <a:pt x="755" y="220"/>
                      </a:lnTo>
                      <a:lnTo>
                        <a:pt x="746" y="220"/>
                      </a:lnTo>
                      <a:lnTo>
                        <a:pt x="730" y="220"/>
                      </a:lnTo>
                      <a:lnTo>
                        <a:pt x="717" y="217"/>
                      </a:lnTo>
                      <a:lnTo>
                        <a:pt x="704" y="217"/>
                      </a:lnTo>
                      <a:lnTo>
                        <a:pt x="691" y="217"/>
                      </a:lnTo>
                      <a:lnTo>
                        <a:pt x="679" y="217"/>
                      </a:lnTo>
                      <a:lnTo>
                        <a:pt x="666" y="214"/>
                      </a:lnTo>
                      <a:lnTo>
                        <a:pt x="653" y="214"/>
                      </a:lnTo>
                      <a:lnTo>
                        <a:pt x="640" y="214"/>
                      </a:lnTo>
                      <a:lnTo>
                        <a:pt x="628" y="211"/>
                      </a:lnTo>
                      <a:lnTo>
                        <a:pt x="615" y="211"/>
                      </a:lnTo>
                      <a:lnTo>
                        <a:pt x="602" y="211"/>
                      </a:lnTo>
                      <a:lnTo>
                        <a:pt x="589" y="207"/>
                      </a:lnTo>
                      <a:lnTo>
                        <a:pt x="577" y="207"/>
                      </a:lnTo>
                      <a:lnTo>
                        <a:pt x="564" y="207"/>
                      </a:lnTo>
                      <a:lnTo>
                        <a:pt x="551" y="204"/>
                      </a:lnTo>
                      <a:lnTo>
                        <a:pt x="538" y="204"/>
                      </a:lnTo>
                      <a:lnTo>
                        <a:pt x="526" y="204"/>
                      </a:lnTo>
                      <a:lnTo>
                        <a:pt x="516" y="201"/>
                      </a:lnTo>
                      <a:lnTo>
                        <a:pt x="506" y="201"/>
                      </a:lnTo>
                      <a:lnTo>
                        <a:pt x="494" y="201"/>
                      </a:lnTo>
                      <a:lnTo>
                        <a:pt x="484" y="198"/>
                      </a:lnTo>
                      <a:lnTo>
                        <a:pt x="475" y="198"/>
                      </a:lnTo>
                      <a:lnTo>
                        <a:pt x="462" y="198"/>
                      </a:lnTo>
                      <a:lnTo>
                        <a:pt x="452" y="198"/>
                      </a:lnTo>
                      <a:lnTo>
                        <a:pt x="443" y="195"/>
                      </a:lnTo>
                      <a:lnTo>
                        <a:pt x="433" y="195"/>
                      </a:lnTo>
                      <a:lnTo>
                        <a:pt x="420" y="195"/>
                      </a:lnTo>
                      <a:lnTo>
                        <a:pt x="411" y="195"/>
                      </a:lnTo>
                      <a:lnTo>
                        <a:pt x="401" y="192"/>
                      </a:lnTo>
                      <a:lnTo>
                        <a:pt x="392" y="192"/>
                      </a:lnTo>
                      <a:lnTo>
                        <a:pt x="382" y="192"/>
                      </a:lnTo>
                      <a:lnTo>
                        <a:pt x="373" y="188"/>
                      </a:lnTo>
                      <a:lnTo>
                        <a:pt x="360" y="188"/>
                      </a:lnTo>
                      <a:lnTo>
                        <a:pt x="350" y="188"/>
                      </a:lnTo>
                      <a:lnTo>
                        <a:pt x="341" y="188"/>
                      </a:lnTo>
                      <a:lnTo>
                        <a:pt x="331" y="185"/>
                      </a:lnTo>
                      <a:lnTo>
                        <a:pt x="322" y="185"/>
                      </a:lnTo>
                      <a:lnTo>
                        <a:pt x="312" y="185"/>
                      </a:lnTo>
                      <a:lnTo>
                        <a:pt x="302" y="182"/>
                      </a:lnTo>
                      <a:lnTo>
                        <a:pt x="293" y="182"/>
                      </a:lnTo>
                      <a:lnTo>
                        <a:pt x="280" y="182"/>
                      </a:lnTo>
                      <a:lnTo>
                        <a:pt x="271" y="179"/>
                      </a:lnTo>
                      <a:lnTo>
                        <a:pt x="261" y="179"/>
                      </a:lnTo>
                      <a:lnTo>
                        <a:pt x="251" y="179"/>
                      </a:lnTo>
                      <a:lnTo>
                        <a:pt x="242" y="176"/>
                      </a:lnTo>
                      <a:lnTo>
                        <a:pt x="232" y="176"/>
                      </a:lnTo>
                      <a:lnTo>
                        <a:pt x="223" y="172"/>
                      </a:lnTo>
                      <a:lnTo>
                        <a:pt x="213" y="172"/>
                      </a:lnTo>
                      <a:lnTo>
                        <a:pt x="200" y="169"/>
                      </a:lnTo>
                      <a:lnTo>
                        <a:pt x="184" y="166"/>
                      </a:lnTo>
                      <a:lnTo>
                        <a:pt x="172" y="166"/>
                      </a:lnTo>
                      <a:lnTo>
                        <a:pt x="159" y="163"/>
                      </a:lnTo>
                      <a:lnTo>
                        <a:pt x="143" y="160"/>
                      </a:lnTo>
                      <a:lnTo>
                        <a:pt x="130" y="156"/>
                      </a:lnTo>
                      <a:lnTo>
                        <a:pt x="114" y="153"/>
                      </a:lnTo>
                      <a:lnTo>
                        <a:pt x="102" y="150"/>
                      </a:lnTo>
                      <a:lnTo>
                        <a:pt x="89" y="147"/>
                      </a:lnTo>
                      <a:lnTo>
                        <a:pt x="73" y="144"/>
                      </a:lnTo>
                      <a:lnTo>
                        <a:pt x="60" y="141"/>
                      </a:lnTo>
                      <a:lnTo>
                        <a:pt x="51" y="137"/>
                      </a:lnTo>
                      <a:lnTo>
                        <a:pt x="38" y="134"/>
                      </a:lnTo>
                      <a:lnTo>
                        <a:pt x="28" y="131"/>
                      </a:lnTo>
                      <a:lnTo>
                        <a:pt x="22" y="125"/>
                      </a:lnTo>
                      <a:lnTo>
                        <a:pt x="12" y="121"/>
                      </a:lnTo>
                      <a:lnTo>
                        <a:pt x="6" y="118"/>
                      </a:lnTo>
                      <a:lnTo>
                        <a:pt x="3" y="112"/>
                      </a:lnTo>
                      <a:lnTo>
                        <a:pt x="0" y="109"/>
                      </a:lnTo>
                      <a:lnTo>
                        <a:pt x="0" y="102"/>
                      </a:lnTo>
                      <a:lnTo>
                        <a:pt x="3" y="99"/>
                      </a:lnTo>
                      <a:lnTo>
                        <a:pt x="6" y="93"/>
                      </a:lnTo>
                      <a:lnTo>
                        <a:pt x="9" y="89"/>
                      </a:lnTo>
                      <a:lnTo>
                        <a:pt x="16" y="86"/>
                      </a:lnTo>
                      <a:lnTo>
                        <a:pt x="25" y="80"/>
                      </a:lnTo>
                      <a:lnTo>
                        <a:pt x="31" y="77"/>
                      </a:lnTo>
                      <a:lnTo>
                        <a:pt x="44" y="70"/>
                      </a:lnTo>
                      <a:lnTo>
                        <a:pt x="54" y="67"/>
                      </a:lnTo>
                      <a:lnTo>
                        <a:pt x="67" y="61"/>
                      </a:lnTo>
                      <a:lnTo>
                        <a:pt x="79" y="58"/>
                      </a:lnTo>
                      <a:lnTo>
                        <a:pt x="92" y="54"/>
                      </a:lnTo>
                      <a:lnTo>
                        <a:pt x="105" y="48"/>
                      </a:lnTo>
                      <a:lnTo>
                        <a:pt x="118" y="45"/>
                      </a:lnTo>
                      <a:lnTo>
                        <a:pt x="133" y="42"/>
                      </a:lnTo>
                      <a:lnTo>
                        <a:pt x="146" y="38"/>
                      </a:lnTo>
                      <a:lnTo>
                        <a:pt x="162" y="32"/>
                      </a:lnTo>
                      <a:lnTo>
                        <a:pt x="175" y="29"/>
                      </a:lnTo>
                      <a:lnTo>
                        <a:pt x="191" y="26"/>
                      </a:lnTo>
                      <a:lnTo>
                        <a:pt x="204" y="26"/>
                      </a:lnTo>
                      <a:lnTo>
                        <a:pt x="216" y="23"/>
                      </a:lnTo>
                      <a:lnTo>
                        <a:pt x="229" y="19"/>
                      </a:lnTo>
                      <a:lnTo>
                        <a:pt x="242" y="16"/>
                      </a:lnTo>
                      <a:lnTo>
                        <a:pt x="251" y="13"/>
                      </a:lnTo>
                      <a:lnTo>
                        <a:pt x="261" y="13"/>
                      </a:lnTo>
                      <a:lnTo>
                        <a:pt x="271" y="10"/>
                      </a:lnTo>
                      <a:lnTo>
                        <a:pt x="277" y="10"/>
                      </a:lnTo>
                      <a:lnTo>
                        <a:pt x="283" y="10"/>
                      </a:lnTo>
                      <a:lnTo>
                        <a:pt x="290" y="7"/>
                      </a:lnTo>
                      <a:lnTo>
                        <a:pt x="328" y="3"/>
                      </a:lnTo>
                      <a:lnTo>
                        <a:pt x="373" y="3"/>
                      </a:lnTo>
                      <a:lnTo>
                        <a:pt x="427" y="0"/>
                      </a:lnTo>
                      <a:lnTo>
                        <a:pt x="484" y="0"/>
                      </a:lnTo>
                      <a:lnTo>
                        <a:pt x="548" y="0"/>
                      </a:lnTo>
                      <a:lnTo>
                        <a:pt x="621" y="0"/>
                      </a:lnTo>
                      <a:lnTo>
                        <a:pt x="695" y="0"/>
                      </a:lnTo>
                      <a:lnTo>
                        <a:pt x="774" y="3"/>
                      </a:lnTo>
                      <a:lnTo>
                        <a:pt x="860" y="3"/>
                      </a:lnTo>
                      <a:lnTo>
                        <a:pt x="946" y="7"/>
                      </a:lnTo>
                      <a:lnTo>
                        <a:pt x="1039" y="10"/>
                      </a:lnTo>
                      <a:lnTo>
                        <a:pt x="1131" y="13"/>
                      </a:lnTo>
                      <a:lnTo>
                        <a:pt x="1227" y="16"/>
                      </a:lnTo>
                      <a:lnTo>
                        <a:pt x="1326" y="19"/>
                      </a:lnTo>
                      <a:lnTo>
                        <a:pt x="1425" y="23"/>
                      </a:lnTo>
                      <a:lnTo>
                        <a:pt x="1523" y="29"/>
                      </a:lnTo>
                      <a:lnTo>
                        <a:pt x="1625" y="32"/>
                      </a:lnTo>
                      <a:lnTo>
                        <a:pt x="1727" y="38"/>
                      </a:lnTo>
                      <a:lnTo>
                        <a:pt x="1826" y="45"/>
                      </a:lnTo>
                      <a:lnTo>
                        <a:pt x="1925" y="48"/>
                      </a:lnTo>
                      <a:lnTo>
                        <a:pt x="2024" y="54"/>
                      </a:lnTo>
                      <a:lnTo>
                        <a:pt x="2120" y="61"/>
                      </a:lnTo>
                      <a:lnTo>
                        <a:pt x="2215" y="67"/>
                      </a:lnTo>
                      <a:lnTo>
                        <a:pt x="2304" y="74"/>
                      </a:lnTo>
                      <a:lnTo>
                        <a:pt x="2394" y="77"/>
                      </a:lnTo>
                      <a:lnTo>
                        <a:pt x="2480" y="83"/>
                      </a:lnTo>
                      <a:lnTo>
                        <a:pt x="2559" y="89"/>
                      </a:lnTo>
                      <a:lnTo>
                        <a:pt x="2636" y="96"/>
                      </a:lnTo>
                      <a:lnTo>
                        <a:pt x="2706" y="102"/>
                      </a:lnTo>
                      <a:lnTo>
                        <a:pt x="2773" y="109"/>
                      </a:lnTo>
                      <a:lnTo>
                        <a:pt x="2830" y="115"/>
                      </a:lnTo>
                      <a:lnTo>
                        <a:pt x="2885" y="118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53160" y="3446640"/>
                  <a:ext cx="2458800" cy="282600"/>
                </a:xfrm>
                <a:custGeom>
                  <a:avLst/>
                  <a:gdLst/>
                  <a:ahLst/>
                  <a:rect l="l" t="t" r="r" b="b"/>
                  <a:pathLst>
                    <a:path w="2885" h="313">
                      <a:moveTo>
                        <a:pt x="2844" y="118"/>
                      </a:moveTo>
                      <a:lnTo>
                        <a:pt x="2860" y="122"/>
                      </a:lnTo>
                      <a:lnTo>
                        <a:pt x="2873" y="125"/>
                      </a:lnTo>
                      <a:lnTo>
                        <a:pt x="2879" y="128"/>
                      </a:lnTo>
                      <a:lnTo>
                        <a:pt x="2885" y="134"/>
                      </a:lnTo>
                      <a:lnTo>
                        <a:pt x="2885" y="138"/>
                      </a:lnTo>
                      <a:lnTo>
                        <a:pt x="2885" y="144"/>
                      </a:lnTo>
                      <a:lnTo>
                        <a:pt x="2882" y="147"/>
                      </a:lnTo>
                      <a:lnTo>
                        <a:pt x="2879" y="150"/>
                      </a:lnTo>
                      <a:lnTo>
                        <a:pt x="2873" y="157"/>
                      </a:lnTo>
                      <a:lnTo>
                        <a:pt x="2866" y="160"/>
                      </a:lnTo>
                      <a:lnTo>
                        <a:pt x="2860" y="163"/>
                      </a:lnTo>
                      <a:lnTo>
                        <a:pt x="2854" y="166"/>
                      </a:lnTo>
                      <a:lnTo>
                        <a:pt x="2844" y="169"/>
                      </a:lnTo>
                      <a:lnTo>
                        <a:pt x="2838" y="173"/>
                      </a:lnTo>
                      <a:lnTo>
                        <a:pt x="2831" y="176"/>
                      </a:lnTo>
                      <a:lnTo>
                        <a:pt x="2822" y="179"/>
                      </a:lnTo>
                      <a:lnTo>
                        <a:pt x="2815" y="179"/>
                      </a:lnTo>
                      <a:lnTo>
                        <a:pt x="2809" y="182"/>
                      </a:lnTo>
                      <a:lnTo>
                        <a:pt x="2799" y="185"/>
                      </a:lnTo>
                      <a:lnTo>
                        <a:pt x="2793" y="189"/>
                      </a:lnTo>
                      <a:lnTo>
                        <a:pt x="2787" y="192"/>
                      </a:lnTo>
                      <a:lnTo>
                        <a:pt x="2777" y="192"/>
                      </a:lnTo>
                      <a:lnTo>
                        <a:pt x="2771" y="195"/>
                      </a:lnTo>
                      <a:lnTo>
                        <a:pt x="2764" y="198"/>
                      </a:lnTo>
                      <a:lnTo>
                        <a:pt x="2755" y="201"/>
                      </a:lnTo>
                      <a:lnTo>
                        <a:pt x="2748" y="204"/>
                      </a:lnTo>
                      <a:lnTo>
                        <a:pt x="2739" y="204"/>
                      </a:lnTo>
                      <a:lnTo>
                        <a:pt x="2732" y="208"/>
                      </a:lnTo>
                      <a:lnTo>
                        <a:pt x="2726" y="211"/>
                      </a:lnTo>
                      <a:lnTo>
                        <a:pt x="2717" y="214"/>
                      </a:lnTo>
                      <a:lnTo>
                        <a:pt x="2710" y="217"/>
                      </a:lnTo>
                      <a:lnTo>
                        <a:pt x="2701" y="220"/>
                      </a:lnTo>
                      <a:lnTo>
                        <a:pt x="2694" y="220"/>
                      </a:lnTo>
                      <a:lnTo>
                        <a:pt x="2688" y="224"/>
                      </a:lnTo>
                      <a:lnTo>
                        <a:pt x="2678" y="227"/>
                      </a:lnTo>
                      <a:lnTo>
                        <a:pt x="2672" y="230"/>
                      </a:lnTo>
                      <a:lnTo>
                        <a:pt x="2666" y="230"/>
                      </a:lnTo>
                      <a:lnTo>
                        <a:pt x="2656" y="233"/>
                      </a:lnTo>
                      <a:lnTo>
                        <a:pt x="2650" y="236"/>
                      </a:lnTo>
                      <a:lnTo>
                        <a:pt x="2643" y="240"/>
                      </a:lnTo>
                      <a:lnTo>
                        <a:pt x="2637" y="240"/>
                      </a:lnTo>
                      <a:lnTo>
                        <a:pt x="2627" y="243"/>
                      </a:lnTo>
                      <a:lnTo>
                        <a:pt x="2621" y="246"/>
                      </a:lnTo>
                      <a:lnTo>
                        <a:pt x="2615" y="249"/>
                      </a:lnTo>
                      <a:lnTo>
                        <a:pt x="2605" y="249"/>
                      </a:lnTo>
                      <a:lnTo>
                        <a:pt x="2599" y="252"/>
                      </a:lnTo>
                      <a:lnTo>
                        <a:pt x="2592" y="256"/>
                      </a:lnTo>
                      <a:lnTo>
                        <a:pt x="2583" y="256"/>
                      </a:lnTo>
                      <a:lnTo>
                        <a:pt x="2576" y="259"/>
                      </a:lnTo>
                      <a:lnTo>
                        <a:pt x="2570" y="262"/>
                      </a:lnTo>
                      <a:lnTo>
                        <a:pt x="2560" y="265"/>
                      </a:lnTo>
                      <a:lnTo>
                        <a:pt x="2554" y="265"/>
                      </a:lnTo>
                      <a:lnTo>
                        <a:pt x="2544" y="268"/>
                      </a:lnTo>
                      <a:lnTo>
                        <a:pt x="2538" y="271"/>
                      </a:lnTo>
                      <a:lnTo>
                        <a:pt x="2528" y="275"/>
                      </a:lnTo>
                      <a:lnTo>
                        <a:pt x="2522" y="275"/>
                      </a:lnTo>
                      <a:lnTo>
                        <a:pt x="2516" y="278"/>
                      </a:lnTo>
                      <a:lnTo>
                        <a:pt x="2509" y="278"/>
                      </a:lnTo>
                      <a:lnTo>
                        <a:pt x="2506" y="281"/>
                      </a:lnTo>
                      <a:lnTo>
                        <a:pt x="2500" y="281"/>
                      </a:lnTo>
                      <a:lnTo>
                        <a:pt x="2493" y="284"/>
                      </a:lnTo>
                      <a:lnTo>
                        <a:pt x="2487" y="284"/>
                      </a:lnTo>
                      <a:lnTo>
                        <a:pt x="2481" y="284"/>
                      </a:lnTo>
                      <a:lnTo>
                        <a:pt x="2474" y="284"/>
                      </a:lnTo>
                      <a:lnTo>
                        <a:pt x="2468" y="287"/>
                      </a:lnTo>
                      <a:lnTo>
                        <a:pt x="2462" y="287"/>
                      </a:lnTo>
                      <a:lnTo>
                        <a:pt x="2455" y="287"/>
                      </a:lnTo>
                      <a:lnTo>
                        <a:pt x="2449" y="291"/>
                      </a:lnTo>
                      <a:lnTo>
                        <a:pt x="2442" y="291"/>
                      </a:lnTo>
                      <a:lnTo>
                        <a:pt x="2436" y="291"/>
                      </a:lnTo>
                      <a:lnTo>
                        <a:pt x="2433" y="291"/>
                      </a:lnTo>
                      <a:lnTo>
                        <a:pt x="2426" y="291"/>
                      </a:lnTo>
                      <a:lnTo>
                        <a:pt x="2414" y="291"/>
                      </a:lnTo>
                      <a:lnTo>
                        <a:pt x="2404" y="294"/>
                      </a:lnTo>
                      <a:lnTo>
                        <a:pt x="2395" y="294"/>
                      </a:lnTo>
                      <a:lnTo>
                        <a:pt x="2385" y="297"/>
                      </a:lnTo>
                      <a:lnTo>
                        <a:pt x="2375" y="297"/>
                      </a:lnTo>
                      <a:lnTo>
                        <a:pt x="2363" y="297"/>
                      </a:lnTo>
                      <a:lnTo>
                        <a:pt x="2353" y="297"/>
                      </a:lnTo>
                      <a:lnTo>
                        <a:pt x="2344" y="300"/>
                      </a:lnTo>
                      <a:lnTo>
                        <a:pt x="2334" y="300"/>
                      </a:lnTo>
                      <a:lnTo>
                        <a:pt x="2324" y="300"/>
                      </a:lnTo>
                      <a:lnTo>
                        <a:pt x="2315" y="300"/>
                      </a:lnTo>
                      <a:lnTo>
                        <a:pt x="2305" y="303"/>
                      </a:lnTo>
                      <a:lnTo>
                        <a:pt x="2296" y="303"/>
                      </a:lnTo>
                      <a:lnTo>
                        <a:pt x="2283" y="303"/>
                      </a:lnTo>
                      <a:lnTo>
                        <a:pt x="2273" y="303"/>
                      </a:lnTo>
                      <a:lnTo>
                        <a:pt x="2264" y="303"/>
                      </a:lnTo>
                      <a:lnTo>
                        <a:pt x="2254" y="303"/>
                      </a:lnTo>
                      <a:lnTo>
                        <a:pt x="2242" y="303"/>
                      </a:lnTo>
                      <a:lnTo>
                        <a:pt x="2232" y="303"/>
                      </a:lnTo>
                      <a:lnTo>
                        <a:pt x="2222" y="307"/>
                      </a:lnTo>
                      <a:lnTo>
                        <a:pt x="2210" y="307"/>
                      </a:lnTo>
                      <a:lnTo>
                        <a:pt x="2200" y="307"/>
                      </a:lnTo>
                      <a:lnTo>
                        <a:pt x="2191" y="307"/>
                      </a:lnTo>
                      <a:lnTo>
                        <a:pt x="2181" y="307"/>
                      </a:lnTo>
                      <a:lnTo>
                        <a:pt x="2168" y="307"/>
                      </a:lnTo>
                      <a:lnTo>
                        <a:pt x="2159" y="310"/>
                      </a:lnTo>
                      <a:lnTo>
                        <a:pt x="2149" y="310"/>
                      </a:lnTo>
                      <a:lnTo>
                        <a:pt x="2136" y="310"/>
                      </a:lnTo>
                      <a:lnTo>
                        <a:pt x="2127" y="310"/>
                      </a:lnTo>
                      <a:lnTo>
                        <a:pt x="2117" y="310"/>
                      </a:lnTo>
                      <a:lnTo>
                        <a:pt x="2108" y="310"/>
                      </a:lnTo>
                      <a:lnTo>
                        <a:pt x="2095" y="310"/>
                      </a:lnTo>
                      <a:lnTo>
                        <a:pt x="2089" y="310"/>
                      </a:lnTo>
                      <a:lnTo>
                        <a:pt x="2079" y="310"/>
                      </a:lnTo>
                      <a:lnTo>
                        <a:pt x="2073" y="310"/>
                      </a:lnTo>
                      <a:lnTo>
                        <a:pt x="2063" y="310"/>
                      </a:lnTo>
                      <a:lnTo>
                        <a:pt x="2057" y="310"/>
                      </a:lnTo>
                      <a:lnTo>
                        <a:pt x="2047" y="310"/>
                      </a:lnTo>
                      <a:lnTo>
                        <a:pt x="2041" y="310"/>
                      </a:lnTo>
                      <a:lnTo>
                        <a:pt x="2031" y="313"/>
                      </a:lnTo>
                      <a:lnTo>
                        <a:pt x="2025" y="313"/>
                      </a:lnTo>
                      <a:lnTo>
                        <a:pt x="2018" y="313"/>
                      </a:lnTo>
                      <a:lnTo>
                        <a:pt x="2009" y="313"/>
                      </a:lnTo>
                      <a:lnTo>
                        <a:pt x="2002" y="313"/>
                      </a:lnTo>
                      <a:lnTo>
                        <a:pt x="1993" y="313"/>
                      </a:lnTo>
                      <a:lnTo>
                        <a:pt x="1987" y="313"/>
                      </a:lnTo>
                      <a:lnTo>
                        <a:pt x="1977" y="313"/>
                      </a:lnTo>
                      <a:lnTo>
                        <a:pt x="1971" y="313"/>
                      </a:lnTo>
                      <a:lnTo>
                        <a:pt x="1961" y="313"/>
                      </a:lnTo>
                      <a:lnTo>
                        <a:pt x="1955" y="313"/>
                      </a:lnTo>
                      <a:lnTo>
                        <a:pt x="1945" y="313"/>
                      </a:lnTo>
                      <a:lnTo>
                        <a:pt x="1936" y="313"/>
                      </a:lnTo>
                      <a:lnTo>
                        <a:pt x="1926" y="310"/>
                      </a:lnTo>
                      <a:lnTo>
                        <a:pt x="1916" y="310"/>
                      </a:lnTo>
                      <a:lnTo>
                        <a:pt x="1910" y="310"/>
                      </a:lnTo>
                      <a:lnTo>
                        <a:pt x="1900" y="310"/>
                      </a:lnTo>
                      <a:lnTo>
                        <a:pt x="1891" y="310"/>
                      </a:lnTo>
                      <a:lnTo>
                        <a:pt x="1881" y="310"/>
                      </a:lnTo>
                      <a:lnTo>
                        <a:pt x="1872" y="310"/>
                      </a:lnTo>
                      <a:lnTo>
                        <a:pt x="1862" y="307"/>
                      </a:lnTo>
                      <a:lnTo>
                        <a:pt x="1853" y="307"/>
                      </a:lnTo>
                      <a:lnTo>
                        <a:pt x="1843" y="307"/>
                      </a:lnTo>
                      <a:lnTo>
                        <a:pt x="1834" y="307"/>
                      </a:lnTo>
                      <a:lnTo>
                        <a:pt x="1821" y="307"/>
                      </a:lnTo>
                      <a:lnTo>
                        <a:pt x="1811" y="307"/>
                      </a:lnTo>
                      <a:lnTo>
                        <a:pt x="1802" y="307"/>
                      </a:lnTo>
                      <a:lnTo>
                        <a:pt x="1792" y="307"/>
                      </a:lnTo>
                      <a:lnTo>
                        <a:pt x="1782" y="303"/>
                      </a:lnTo>
                      <a:lnTo>
                        <a:pt x="1773" y="303"/>
                      </a:lnTo>
                      <a:lnTo>
                        <a:pt x="1763" y="303"/>
                      </a:lnTo>
                      <a:lnTo>
                        <a:pt x="1754" y="303"/>
                      </a:lnTo>
                      <a:lnTo>
                        <a:pt x="1744" y="303"/>
                      </a:lnTo>
                      <a:lnTo>
                        <a:pt x="1735" y="303"/>
                      </a:lnTo>
                      <a:lnTo>
                        <a:pt x="1725" y="303"/>
                      </a:lnTo>
                      <a:lnTo>
                        <a:pt x="1719" y="300"/>
                      </a:lnTo>
                      <a:lnTo>
                        <a:pt x="1709" y="300"/>
                      </a:lnTo>
                      <a:lnTo>
                        <a:pt x="1700" y="300"/>
                      </a:lnTo>
                      <a:lnTo>
                        <a:pt x="1690" y="300"/>
                      </a:lnTo>
                      <a:lnTo>
                        <a:pt x="1684" y="300"/>
                      </a:lnTo>
                      <a:lnTo>
                        <a:pt x="1674" y="300"/>
                      </a:lnTo>
                      <a:lnTo>
                        <a:pt x="1665" y="297"/>
                      </a:lnTo>
                      <a:lnTo>
                        <a:pt x="1655" y="297"/>
                      </a:lnTo>
                      <a:lnTo>
                        <a:pt x="1645" y="297"/>
                      </a:lnTo>
                      <a:lnTo>
                        <a:pt x="1633" y="297"/>
                      </a:lnTo>
                      <a:lnTo>
                        <a:pt x="1623" y="294"/>
                      </a:lnTo>
                      <a:lnTo>
                        <a:pt x="1614" y="294"/>
                      </a:lnTo>
                      <a:lnTo>
                        <a:pt x="1604" y="294"/>
                      </a:lnTo>
                      <a:lnTo>
                        <a:pt x="1594" y="291"/>
                      </a:lnTo>
                      <a:lnTo>
                        <a:pt x="1588" y="291"/>
                      </a:lnTo>
                      <a:lnTo>
                        <a:pt x="1578" y="291"/>
                      </a:lnTo>
                      <a:lnTo>
                        <a:pt x="1569" y="287"/>
                      </a:lnTo>
                      <a:lnTo>
                        <a:pt x="1559" y="287"/>
                      </a:lnTo>
                      <a:lnTo>
                        <a:pt x="1550" y="284"/>
                      </a:lnTo>
                      <a:lnTo>
                        <a:pt x="1540" y="284"/>
                      </a:lnTo>
                      <a:lnTo>
                        <a:pt x="1531" y="281"/>
                      </a:lnTo>
                      <a:lnTo>
                        <a:pt x="1521" y="281"/>
                      </a:lnTo>
                      <a:lnTo>
                        <a:pt x="1512" y="278"/>
                      </a:lnTo>
                      <a:lnTo>
                        <a:pt x="1502" y="278"/>
                      </a:lnTo>
                      <a:lnTo>
                        <a:pt x="1492" y="275"/>
                      </a:lnTo>
                      <a:lnTo>
                        <a:pt x="1483" y="275"/>
                      </a:lnTo>
                      <a:lnTo>
                        <a:pt x="1473" y="271"/>
                      </a:lnTo>
                      <a:lnTo>
                        <a:pt x="1464" y="271"/>
                      </a:lnTo>
                      <a:lnTo>
                        <a:pt x="1457" y="268"/>
                      </a:lnTo>
                      <a:lnTo>
                        <a:pt x="1448" y="268"/>
                      </a:lnTo>
                      <a:lnTo>
                        <a:pt x="1438" y="268"/>
                      </a:lnTo>
                      <a:lnTo>
                        <a:pt x="1429" y="265"/>
                      </a:lnTo>
                      <a:lnTo>
                        <a:pt x="1419" y="265"/>
                      </a:lnTo>
                      <a:lnTo>
                        <a:pt x="1410" y="265"/>
                      </a:lnTo>
                      <a:lnTo>
                        <a:pt x="1400" y="262"/>
                      </a:lnTo>
                      <a:lnTo>
                        <a:pt x="1390" y="262"/>
                      </a:lnTo>
                      <a:lnTo>
                        <a:pt x="1378" y="262"/>
                      </a:lnTo>
                      <a:lnTo>
                        <a:pt x="1368" y="262"/>
                      </a:lnTo>
                      <a:lnTo>
                        <a:pt x="1359" y="259"/>
                      </a:lnTo>
                      <a:lnTo>
                        <a:pt x="1352" y="259"/>
                      </a:lnTo>
                      <a:lnTo>
                        <a:pt x="1343" y="259"/>
                      </a:lnTo>
                      <a:lnTo>
                        <a:pt x="1333" y="259"/>
                      </a:lnTo>
                      <a:lnTo>
                        <a:pt x="1323" y="259"/>
                      </a:lnTo>
                      <a:lnTo>
                        <a:pt x="1317" y="259"/>
                      </a:lnTo>
                      <a:lnTo>
                        <a:pt x="1308" y="259"/>
                      </a:lnTo>
                      <a:lnTo>
                        <a:pt x="1298" y="259"/>
                      </a:lnTo>
                      <a:lnTo>
                        <a:pt x="1292" y="256"/>
                      </a:lnTo>
                      <a:lnTo>
                        <a:pt x="1282" y="256"/>
                      </a:lnTo>
                      <a:lnTo>
                        <a:pt x="1276" y="256"/>
                      </a:lnTo>
                      <a:lnTo>
                        <a:pt x="1266" y="256"/>
                      </a:lnTo>
                      <a:lnTo>
                        <a:pt x="1256" y="256"/>
                      </a:lnTo>
                      <a:lnTo>
                        <a:pt x="1250" y="256"/>
                      </a:lnTo>
                      <a:lnTo>
                        <a:pt x="1241" y="256"/>
                      </a:lnTo>
                      <a:lnTo>
                        <a:pt x="1234" y="252"/>
                      </a:lnTo>
                      <a:lnTo>
                        <a:pt x="1225" y="252"/>
                      </a:lnTo>
                      <a:lnTo>
                        <a:pt x="1215" y="252"/>
                      </a:lnTo>
                      <a:lnTo>
                        <a:pt x="1209" y="252"/>
                      </a:lnTo>
                      <a:lnTo>
                        <a:pt x="1199" y="252"/>
                      </a:lnTo>
                      <a:lnTo>
                        <a:pt x="1193" y="252"/>
                      </a:lnTo>
                      <a:lnTo>
                        <a:pt x="1183" y="252"/>
                      </a:lnTo>
                      <a:lnTo>
                        <a:pt x="1174" y="252"/>
                      </a:lnTo>
                      <a:lnTo>
                        <a:pt x="1167" y="249"/>
                      </a:lnTo>
                      <a:lnTo>
                        <a:pt x="1158" y="249"/>
                      </a:lnTo>
                      <a:lnTo>
                        <a:pt x="1148" y="249"/>
                      </a:lnTo>
                      <a:lnTo>
                        <a:pt x="1142" y="249"/>
                      </a:lnTo>
                      <a:lnTo>
                        <a:pt x="1132" y="249"/>
                      </a:lnTo>
                      <a:lnTo>
                        <a:pt x="1123" y="246"/>
                      </a:lnTo>
                      <a:lnTo>
                        <a:pt x="1113" y="246"/>
                      </a:lnTo>
                      <a:lnTo>
                        <a:pt x="1107" y="246"/>
                      </a:lnTo>
                      <a:lnTo>
                        <a:pt x="1097" y="246"/>
                      </a:lnTo>
                      <a:lnTo>
                        <a:pt x="1084" y="246"/>
                      </a:lnTo>
                      <a:lnTo>
                        <a:pt x="1072" y="243"/>
                      </a:lnTo>
                      <a:lnTo>
                        <a:pt x="1062" y="243"/>
                      </a:lnTo>
                      <a:lnTo>
                        <a:pt x="1049" y="243"/>
                      </a:lnTo>
                      <a:lnTo>
                        <a:pt x="1037" y="240"/>
                      </a:lnTo>
                      <a:lnTo>
                        <a:pt x="1024" y="240"/>
                      </a:lnTo>
                      <a:lnTo>
                        <a:pt x="1011" y="240"/>
                      </a:lnTo>
                      <a:lnTo>
                        <a:pt x="1001" y="236"/>
                      </a:lnTo>
                      <a:lnTo>
                        <a:pt x="989" y="236"/>
                      </a:lnTo>
                      <a:lnTo>
                        <a:pt x="976" y="236"/>
                      </a:lnTo>
                      <a:lnTo>
                        <a:pt x="963" y="236"/>
                      </a:lnTo>
                      <a:lnTo>
                        <a:pt x="954" y="233"/>
                      </a:lnTo>
                      <a:lnTo>
                        <a:pt x="941" y="233"/>
                      </a:lnTo>
                      <a:lnTo>
                        <a:pt x="928" y="233"/>
                      </a:lnTo>
                      <a:lnTo>
                        <a:pt x="915" y="230"/>
                      </a:lnTo>
                      <a:lnTo>
                        <a:pt x="906" y="230"/>
                      </a:lnTo>
                      <a:lnTo>
                        <a:pt x="893" y="230"/>
                      </a:lnTo>
                      <a:lnTo>
                        <a:pt x="880" y="230"/>
                      </a:lnTo>
                      <a:lnTo>
                        <a:pt x="868" y="227"/>
                      </a:lnTo>
                      <a:lnTo>
                        <a:pt x="855" y="227"/>
                      </a:lnTo>
                      <a:lnTo>
                        <a:pt x="845" y="227"/>
                      </a:lnTo>
                      <a:lnTo>
                        <a:pt x="833" y="224"/>
                      </a:lnTo>
                      <a:lnTo>
                        <a:pt x="820" y="224"/>
                      </a:lnTo>
                      <a:lnTo>
                        <a:pt x="807" y="224"/>
                      </a:lnTo>
                      <a:lnTo>
                        <a:pt x="797" y="220"/>
                      </a:lnTo>
                      <a:lnTo>
                        <a:pt x="785" y="220"/>
                      </a:lnTo>
                      <a:lnTo>
                        <a:pt x="772" y="220"/>
                      </a:lnTo>
                      <a:lnTo>
                        <a:pt x="759" y="217"/>
                      </a:lnTo>
                      <a:lnTo>
                        <a:pt x="750" y="217"/>
                      </a:lnTo>
                      <a:lnTo>
                        <a:pt x="737" y="217"/>
                      </a:lnTo>
                      <a:lnTo>
                        <a:pt x="724" y="214"/>
                      </a:lnTo>
                      <a:lnTo>
                        <a:pt x="711" y="214"/>
                      </a:lnTo>
                      <a:lnTo>
                        <a:pt x="699" y="214"/>
                      </a:lnTo>
                      <a:lnTo>
                        <a:pt x="686" y="211"/>
                      </a:lnTo>
                      <a:lnTo>
                        <a:pt x="673" y="211"/>
                      </a:lnTo>
                      <a:lnTo>
                        <a:pt x="660" y="211"/>
                      </a:lnTo>
                      <a:lnTo>
                        <a:pt x="648" y="208"/>
                      </a:lnTo>
                      <a:lnTo>
                        <a:pt x="635" y="208"/>
                      </a:lnTo>
                      <a:lnTo>
                        <a:pt x="622" y="208"/>
                      </a:lnTo>
                      <a:lnTo>
                        <a:pt x="609" y="208"/>
                      </a:lnTo>
                      <a:lnTo>
                        <a:pt x="597" y="204"/>
                      </a:lnTo>
                      <a:lnTo>
                        <a:pt x="584" y="204"/>
                      </a:lnTo>
                      <a:lnTo>
                        <a:pt x="571" y="204"/>
                      </a:lnTo>
                      <a:lnTo>
                        <a:pt x="558" y="204"/>
                      </a:lnTo>
                      <a:lnTo>
                        <a:pt x="546" y="201"/>
                      </a:lnTo>
                      <a:lnTo>
                        <a:pt x="533" y="201"/>
                      </a:lnTo>
                      <a:lnTo>
                        <a:pt x="520" y="201"/>
                      </a:lnTo>
                      <a:lnTo>
                        <a:pt x="507" y="198"/>
                      </a:lnTo>
                      <a:lnTo>
                        <a:pt x="498" y="198"/>
                      </a:lnTo>
                      <a:lnTo>
                        <a:pt x="485" y="198"/>
                      </a:lnTo>
                      <a:lnTo>
                        <a:pt x="475" y="195"/>
                      </a:lnTo>
                      <a:lnTo>
                        <a:pt x="466" y="195"/>
                      </a:lnTo>
                      <a:lnTo>
                        <a:pt x="453" y="195"/>
                      </a:lnTo>
                      <a:lnTo>
                        <a:pt x="444" y="192"/>
                      </a:lnTo>
                      <a:lnTo>
                        <a:pt x="434" y="192"/>
                      </a:lnTo>
                      <a:lnTo>
                        <a:pt x="421" y="192"/>
                      </a:lnTo>
                      <a:lnTo>
                        <a:pt x="412" y="192"/>
                      </a:lnTo>
                      <a:lnTo>
                        <a:pt x="402" y="192"/>
                      </a:lnTo>
                      <a:lnTo>
                        <a:pt x="393" y="189"/>
                      </a:lnTo>
                      <a:lnTo>
                        <a:pt x="380" y="189"/>
                      </a:lnTo>
                      <a:lnTo>
                        <a:pt x="370" y="189"/>
                      </a:lnTo>
                      <a:lnTo>
                        <a:pt x="361" y="189"/>
                      </a:lnTo>
                      <a:lnTo>
                        <a:pt x="351" y="185"/>
                      </a:lnTo>
                      <a:lnTo>
                        <a:pt x="342" y="185"/>
                      </a:lnTo>
                      <a:lnTo>
                        <a:pt x="332" y="185"/>
                      </a:lnTo>
                      <a:lnTo>
                        <a:pt x="322" y="185"/>
                      </a:lnTo>
                      <a:lnTo>
                        <a:pt x="310" y="182"/>
                      </a:lnTo>
                      <a:lnTo>
                        <a:pt x="300" y="182"/>
                      </a:lnTo>
                      <a:lnTo>
                        <a:pt x="291" y="182"/>
                      </a:lnTo>
                      <a:lnTo>
                        <a:pt x="281" y="179"/>
                      </a:lnTo>
                      <a:lnTo>
                        <a:pt x="271" y="179"/>
                      </a:lnTo>
                      <a:lnTo>
                        <a:pt x="262" y="179"/>
                      </a:lnTo>
                      <a:lnTo>
                        <a:pt x="252" y="176"/>
                      </a:lnTo>
                      <a:lnTo>
                        <a:pt x="243" y="176"/>
                      </a:lnTo>
                      <a:lnTo>
                        <a:pt x="233" y="176"/>
                      </a:lnTo>
                      <a:lnTo>
                        <a:pt x="224" y="173"/>
                      </a:lnTo>
                      <a:lnTo>
                        <a:pt x="214" y="173"/>
                      </a:lnTo>
                      <a:lnTo>
                        <a:pt x="205" y="169"/>
                      </a:lnTo>
                      <a:lnTo>
                        <a:pt x="195" y="169"/>
                      </a:lnTo>
                      <a:lnTo>
                        <a:pt x="185" y="166"/>
                      </a:lnTo>
                      <a:lnTo>
                        <a:pt x="173" y="163"/>
                      </a:lnTo>
                      <a:lnTo>
                        <a:pt x="160" y="160"/>
                      </a:lnTo>
                      <a:lnTo>
                        <a:pt x="147" y="160"/>
                      </a:lnTo>
                      <a:lnTo>
                        <a:pt x="134" y="157"/>
                      </a:lnTo>
                      <a:lnTo>
                        <a:pt x="125" y="153"/>
                      </a:lnTo>
                      <a:lnTo>
                        <a:pt x="112" y="150"/>
                      </a:lnTo>
                      <a:lnTo>
                        <a:pt x="99" y="147"/>
                      </a:lnTo>
                      <a:lnTo>
                        <a:pt x="90" y="144"/>
                      </a:lnTo>
                      <a:lnTo>
                        <a:pt x="77" y="141"/>
                      </a:lnTo>
                      <a:lnTo>
                        <a:pt x="67" y="138"/>
                      </a:lnTo>
                      <a:lnTo>
                        <a:pt x="58" y="134"/>
                      </a:lnTo>
                      <a:lnTo>
                        <a:pt x="48" y="131"/>
                      </a:lnTo>
                      <a:lnTo>
                        <a:pt x="39" y="128"/>
                      </a:lnTo>
                      <a:lnTo>
                        <a:pt x="29" y="125"/>
                      </a:lnTo>
                      <a:lnTo>
                        <a:pt x="23" y="118"/>
                      </a:lnTo>
                      <a:lnTo>
                        <a:pt x="13" y="115"/>
                      </a:lnTo>
                      <a:lnTo>
                        <a:pt x="7" y="112"/>
                      </a:lnTo>
                      <a:lnTo>
                        <a:pt x="4" y="106"/>
                      </a:lnTo>
                      <a:lnTo>
                        <a:pt x="0" y="102"/>
                      </a:lnTo>
                      <a:lnTo>
                        <a:pt x="0" y="99"/>
                      </a:lnTo>
                      <a:lnTo>
                        <a:pt x="4" y="93"/>
                      </a:lnTo>
                      <a:lnTo>
                        <a:pt x="7" y="90"/>
                      </a:lnTo>
                      <a:lnTo>
                        <a:pt x="10" y="83"/>
                      </a:lnTo>
                      <a:lnTo>
                        <a:pt x="16" y="80"/>
                      </a:lnTo>
                      <a:lnTo>
                        <a:pt x="23" y="77"/>
                      </a:lnTo>
                      <a:lnTo>
                        <a:pt x="29" y="71"/>
                      </a:lnTo>
                      <a:lnTo>
                        <a:pt x="39" y="67"/>
                      </a:lnTo>
                      <a:lnTo>
                        <a:pt x="48" y="61"/>
                      </a:lnTo>
                      <a:lnTo>
                        <a:pt x="61" y="58"/>
                      </a:lnTo>
                      <a:lnTo>
                        <a:pt x="71" y="55"/>
                      </a:lnTo>
                      <a:lnTo>
                        <a:pt x="83" y="51"/>
                      </a:lnTo>
                      <a:lnTo>
                        <a:pt x="96" y="45"/>
                      </a:lnTo>
                      <a:lnTo>
                        <a:pt x="109" y="42"/>
                      </a:lnTo>
                      <a:lnTo>
                        <a:pt x="122" y="39"/>
                      </a:lnTo>
                      <a:lnTo>
                        <a:pt x="138" y="35"/>
                      </a:lnTo>
                      <a:lnTo>
                        <a:pt x="150" y="32"/>
                      </a:lnTo>
                      <a:lnTo>
                        <a:pt x="163" y="29"/>
                      </a:lnTo>
                      <a:lnTo>
                        <a:pt x="176" y="26"/>
                      </a:lnTo>
                      <a:lnTo>
                        <a:pt x="189" y="23"/>
                      </a:lnTo>
                      <a:lnTo>
                        <a:pt x="201" y="20"/>
                      </a:lnTo>
                      <a:lnTo>
                        <a:pt x="214" y="16"/>
                      </a:lnTo>
                      <a:lnTo>
                        <a:pt x="224" y="16"/>
                      </a:lnTo>
                      <a:lnTo>
                        <a:pt x="236" y="13"/>
                      </a:lnTo>
                      <a:lnTo>
                        <a:pt x="246" y="13"/>
                      </a:lnTo>
                      <a:lnTo>
                        <a:pt x="252" y="10"/>
                      </a:lnTo>
                      <a:lnTo>
                        <a:pt x="262" y="10"/>
                      </a:lnTo>
                      <a:lnTo>
                        <a:pt x="268" y="7"/>
                      </a:lnTo>
                      <a:lnTo>
                        <a:pt x="271" y="7"/>
                      </a:lnTo>
                      <a:lnTo>
                        <a:pt x="310" y="4"/>
                      </a:lnTo>
                      <a:lnTo>
                        <a:pt x="354" y="4"/>
                      </a:lnTo>
                      <a:lnTo>
                        <a:pt x="409" y="0"/>
                      </a:lnTo>
                      <a:lnTo>
                        <a:pt x="466" y="0"/>
                      </a:lnTo>
                      <a:lnTo>
                        <a:pt x="530" y="0"/>
                      </a:lnTo>
                      <a:lnTo>
                        <a:pt x="600" y="0"/>
                      </a:lnTo>
                      <a:lnTo>
                        <a:pt x="676" y="0"/>
                      </a:lnTo>
                      <a:lnTo>
                        <a:pt x="753" y="0"/>
                      </a:lnTo>
                      <a:lnTo>
                        <a:pt x="839" y="4"/>
                      </a:lnTo>
                      <a:lnTo>
                        <a:pt x="925" y="7"/>
                      </a:lnTo>
                      <a:lnTo>
                        <a:pt x="1014" y="7"/>
                      </a:lnTo>
                      <a:lnTo>
                        <a:pt x="1107" y="10"/>
                      </a:lnTo>
                      <a:lnTo>
                        <a:pt x="1202" y="13"/>
                      </a:lnTo>
                      <a:lnTo>
                        <a:pt x="1298" y="20"/>
                      </a:lnTo>
                      <a:lnTo>
                        <a:pt x="1397" y="23"/>
                      </a:lnTo>
                      <a:lnTo>
                        <a:pt x="1496" y="26"/>
                      </a:lnTo>
                      <a:lnTo>
                        <a:pt x="1594" y="32"/>
                      </a:lnTo>
                      <a:lnTo>
                        <a:pt x="1696" y="35"/>
                      </a:lnTo>
                      <a:lnTo>
                        <a:pt x="1795" y="42"/>
                      </a:lnTo>
                      <a:lnTo>
                        <a:pt x="1894" y="48"/>
                      </a:lnTo>
                      <a:lnTo>
                        <a:pt x="1990" y="51"/>
                      </a:lnTo>
                      <a:lnTo>
                        <a:pt x="2085" y="58"/>
                      </a:lnTo>
                      <a:lnTo>
                        <a:pt x="2178" y="64"/>
                      </a:lnTo>
                      <a:lnTo>
                        <a:pt x="2270" y="71"/>
                      </a:lnTo>
                      <a:lnTo>
                        <a:pt x="2356" y="77"/>
                      </a:lnTo>
                      <a:lnTo>
                        <a:pt x="2442" y="83"/>
                      </a:lnTo>
                      <a:lnTo>
                        <a:pt x="2522" y="86"/>
                      </a:lnTo>
                      <a:lnTo>
                        <a:pt x="2595" y="93"/>
                      </a:lnTo>
                      <a:lnTo>
                        <a:pt x="2666" y="99"/>
                      </a:lnTo>
                      <a:lnTo>
                        <a:pt x="2732" y="106"/>
                      </a:lnTo>
                      <a:lnTo>
                        <a:pt x="2793" y="112"/>
                      </a:lnTo>
                      <a:lnTo>
                        <a:pt x="2844" y="118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80520" y="3446640"/>
                  <a:ext cx="2426760" cy="282600"/>
                </a:xfrm>
                <a:custGeom>
                  <a:avLst/>
                  <a:gdLst/>
                  <a:ahLst/>
                  <a:rect l="l" t="t" r="r" b="b"/>
                  <a:pathLst>
                    <a:path w="2847" h="313">
                      <a:moveTo>
                        <a:pt x="2802" y="118"/>
                      </a:moveTo>
                      <a:lnTo>
                        <a:pt x="2822" y="122"/>
                      </a:lnTo>
                      <a:lnTo>
                        <a:pt x="2831" y="125"/>
                      </a:lnTo>
                      <a:lnTo>
                        <a:pt x="2841" y="128"/>
                      </a:lnTo>
                      <a:lnTo>
                        <a:pt x="2844" y="131"/>
                      </a:lnTo>
                      <a:lnTo>
                        <a:pt x="2847" y="138"/>
                      </a:lnTo>
                      <a:lnTo>
                        <a:pt x="2844" y="141"/>
                      </a:lnTo>
                      <a:lnTo>
                        <a:pt x="2844" y="144"/>
                      </a:lnTo>
                      <a:lnTo>
                        <a:pt x="2838" y="150"/>
                      </a:lnTo>
                      <a:lnTo>
                        <a:pt x="2831" y="153"/>
                      </a:lnTo>
                      <a:lnTo>
                        <a:pt x="2825" y="157"/>
                      </a:lnTo>
                      <a:lnTo>
                        <a:pt x="2818" y="160"/>
                      </a:lnTo>
                      <a:lnTo>
                        <a:pt x="2812" y="163"/>
                      </a:lnTo>
                      <a:lnTo>
                        <a:pt x="2806" y="166"/>
                      </a:lnTo>
                      <a:lnTo>
                        <a:pt x="2799" y="169"/>
                      </a:lnTo>
                      <a:lnTo>
                        <a:pt x="2790" y="173"/>
                      </a:lnTo>
                      <a:lnTo>
                        <a:pt x="2783" y="176"/>
                      </a:lnTo>
                      <a:lnTo>
                        <a:pt x="2777" y="176"/>
                      </a:lnTo>
                      <a:lnTo>
                        <a:pt x="2767" y="179"/>
                      </a:lnTo>
                      <a:lnTo>
                        <a:pt x="2761" y="182"/>
                      </a:lnTo>
                      <a:lnTo>
                        <a:pt x="2755" y="182"/>
                      </a:lnTo>
                      <a:lnTo>
                        <a:pt x="2745" y="185"/>
                      </a:lnTo>
                      <a:lnTo>
                        <a:pt x="2739" y="189"/>
                      </a:lnTo>
                      <a:lnTo>
                        <a:pt x="2732" y="192"/>
                      </a:lnTo>
                      <a:lnTo>
                        <a:pt x="2726" y="192"/>
                      </a:lnTo>
                      <a:lnTo>
                        <a:pt x="2716" y="195"/>
                      </a:lnTo>
                      <a:lnTo>
                        <a:pt x="2710" y="198"/>
                      </a:lnTo>
                      <a:lnTo>
                        <a:pt x="2700" y="201"/>
                      </a:lnTo>
                      <a:lnTo>
                        <a:pt x="2694" y="204"/>
                      </a:lnTo>
                      <a:lnTo>
                        <a:pt x="2685" y="208"/>
                      </a:lnTo>
                      <a:lnTo>
                        <a:pt x="2678" y="211"/>
                      </a:lnTo>
                      <a:lnTo>
                        <a:pt x="2672" y="211"/>
                      </a:lnTo>
                      <a:lnTo>
                        <a:pt x="2665" y="214"/>
                      </a:lnTo>
                      <a:lnTo>
                        <a:pt x="2656" y="217"/>
                      </a:lnTo>
                      <a:lnTo>
                        <a:pt x="2649" y="220"/>
                      </a:lnTo>
                      <a:lnTo>
                        <a:pt x="2643" y="220"/>
                      </a:lnTo>
                      <a:lnTo>
                        <a:pt x="2634" y="224"/>
                      </a:lnTo>
                      <a:lnTo>
                        <a:pt x="2627" y="227"/>
                      </a:lnTo>
                      <a:lnTo>
                        <a:pt x="2621" y="230"/>
                      </a:lnTo>
                      <a:lnTo>
                        <a:pt x="2614" y="230"/>
                      </a:lnTo>
                      <a:lnTo>
                        <a:pt x="2605" y="233"/>
                      </a:lnTo>
                      <a:lnTo>
                        <a:pt x="2598" y="236"/>
                      </a:lnTo>
                      <a:lnTo>
                        <a:pt x="2592" y="240"/>
                      </a:lnTo>
                      <a:lnTo>
                        <a:pt x="2583" y="240"/>
                      </a:lnTo>
                      <a:lnTo>
                        <a:pt x="2576" y="243"/>
                      </a:lnTo>
                      <a:lnTo>
                        <a:pt x="2570" y="246"/>
                      </a:lnTo>
                      <a:lnTo>
                        <a:pt x="2563" y="246"/>
                      </a:lnTo>
                      <a:lnTo>
                        <a:pt x="2554" y="249"/>
                      </a:lnTo>
                      <a:lnTo>
                        <a:pt x="2547" y="252"/>
                      </a:lnTo>
                      <a:lnTo>
                        <a:pt x="2541" y="252"/>
                      </a:lnTo>
                      <a:lnTo>
                        <a:pt x="2532" y="256"/>
                      </a:lnTo>
                      <a:lnTo>
                        <a:pt x="2525" y="259"/>
                      </a:lnTo>
                      <a:lnTo>
                        <a:pt x="2519" y="262"/>
                      </a:lnTo>
                      <a:lnTo>
                        <a:pt x="2509" y="262"/>
                      </a:lnTo>
                      <a:lnTo>
                        <a:pt x="2503" y="265"/>
                      </a:lnTo>
                      <a:lnTo>
                        <a:pt x="2493" y="268"/>
                      </a:lnTo>
                      <a:lnTo>
                        <a:pt x="2487" y="271"/>
                      </a:lnTo>
                      <a:lnTo>
                        <a:pt x="2481" y="271"/>
                      </a:lnTo>
                      <a:lnTo>
                        <a:pt x="2474" y="275"/>
                      </a:lnTo>
                      <a:lnTo>
                        <a:pt x="2468" y="275"/>
                      </a:lnTo>
                      <a:lnTo>
                        <a:pt x="2461" y="275"/>
                      </a:lnTo>
                      <a:lnTo>
                        <a:pt x="2455" y="278"/>
                      </a:lnTo>
                      <a:lnTo>
                        <a:pt x="2449" y="278"/>
                      </a:lnTo>
                      <a:lnTo>
                        <a:pt x="2445" y="278"/>
                      </a:lnTo>
                      <a:lnTo>
                        <a:pt x="2439" y="281"/>
                      </a:lnTo>
                      <a:lnTo>
                        <a:pt x="2430" y="281"/>
                      </a:lnTo>
                      <a:lnTo>
                        <a:pt x="2426" y="281"/>
                      </a:lnTo>
                      <a:lnTo>
                        <a:pt x="2420" y="284"/>
                      </a:lnTo>
                      <a:lnTo>
                        <a:pt x="2414" y="284"/>
                      </a:lnTo>
                      <a:lnTo>
                        <a:pt x="2407" y="284"/>
                      </a:lnTo>
                      <a:lnTo>
                        <a:pt x="2401" y="284"/>
                      </a:lnTo>
                      <a:lnTo>
                        <a:pt x="2394" y="284"/>
                      </a:lnTo>
                      <a:lnTo>
                        <a:pt x="2388" y="287"/>
                      </a:lnTo>
                      <a:lnTo>
                        <a:pt x="2379" y="287"/>
                      </a:lnTo>
                      <a:lnTo>
                        <a:pt x="2369" y="287"/>
                      </a:lnTo>
                      <a:lnTo>
                        <a:pt x="2359" y="291"/>
                      </a:lnTo>
                      <a:lnTo>
                        <a:pt x="2347" y="291"/>
                      </a:lnTo>
                      <a:lnTo>
                        <a:pt x="2337" y="291"/>
                      </a:lnTo>
                      <a:lnTo>
                        <a:pt x="2327" y="291"/>
                      </a:lnTo>
                      <a:lnTo>
                        <a:pt x="2318" y="294"/>
                      </a:lnTo>
                      <a:lnTo>
                        <a:pt x="2308" y="294"/>
                      </a:lnTo>
                      <a:lnTo>
                        <a:pt x="2299" y="294"/>
                      </a:lnTo>
                      <a:lnTo>
                        <a:pt x="2289" y="297"/>
                      </a:lnTo>
                      <a:lnTo>
                        <a:pt x="2280" y="297"/>
                      </a:lnTo>
                      <a:lnTo>
                        <a:pt x="2270" y="297"/>
                      </a:lnTo>
                      <a:lnTo>
                        <a:pt x="2261" y="297"/>
                      </a:lnTo>
                      <a:lnTo>
                        <a:pt x="2248" y="297"/>
                      </a:lnTo>
                      <a:lnTo>
                        <a:pt x="2238" y="297"/>
                      </a:lnTo>
                      <a:lnTo>
                        <a:pt x="2229" y="297"/>
                      </a:lnTo>
                      <a:lnTo>
                        <a:pt x="2219" y="300"/>
                      </a:lnTo>
                      <a:lnTo>
                        <a:pt x="2206" y="300"/>
                      </a:lnTo>
                      <a:lnTo>
                        <a:pt x="2197" y="300"/>
                      </a:lnTo>
                      <a:lnTo>
                        <a:pt x="2187" y="300"/>
                      </a:lnTo>
                      <a:lnTo>
                        <a:pt x="2178" y="300"/>
                      </a:lnTo>
                      <a:lnTo>
                        <a:pt x="2165" y="303"/>
                      </a:lnTo>
                      <a:lnTo>
                        <a:pt x="2155" y="303"/>
                      </a:lnTo>
                      <a:lnTo>
                        <a:pt x="2146" y="303"/>
                      </a:lnTo>
                      <a:lnTo>
                        <a:pt x="2136" y="303"/>
                      </a:lnTo>
                      <a:lnTo>
                        <a:pt x="2123" y="307"/>
                      </a:lnTo>
                      <a:lnTo>
                        <a:pt x="2114" y="307"/>
                      </a:lnTo>
                      <a:lnTo>
                        <a:pt x="2104" y="307"/>
                      </a:lnTo>
                      <a:lnTo>
                        <a:pt x="2095" y="307"/>
                      </a:lnTo>
                      <a:lnTo>
                        <a:pt x="2082" y="307"/>
                      </a:lnTo>
                      <a:lnTo>
                        <a:pt x="2072" y="307"/>
                      </a:lnTo>
                      <a:lnTo>
                        <a:pt x="2063" y="307"/>
                      </a:lnTo>
                      <a:lnTo>
                        <a:pt x="2053" y="307"/>
                      </a:lnTo>
                      <a:lnTo>
                        <a:pt x="2047" y="307"/>
                      </a:lnTo>
                      <a:lnTo>
                        <a:pt x="2037" y="307"/>
                      </a:lnTo>
                      <a:lnTo>
                        <a:pt x="2031" y="307"/>
                      </a:lnTo>
                      <a:lnTo>
                        <a:pt x="2021" y="307"/>
                      </a:lnTo>
                      <a:lnTo>
                        <a:pt x="2015" y="310"/>
                      </a:lnTo>
                      <a:lnTo>
                        <a:pt x="2006" y="310"/>
                      </a:lnTo>
                      <a:lnTo>
                        <a:pt x="1999" y="310"/>
                      </a:lnTo>
                      <a:lnTo>
                        <a:pt x="1990" y="310"/>
                      </a:lnTo>
                      <a:lnTo>
                        <a:pt x="1983" y="310"/>
                      </a:lnTo>
                      <a:lnTo>
                        <a:pt x="1974" y="310"/>
                      </a:lnTo>
                      <a:lnTo>
                        <a:pt x="1967" y="313"/>
                      </a:lnTo>
                      <a:lnTo>
                        <a:pt x="1961" y="313"/>
                      </a:lnTo>
                      <a:lnTo>
                        <a:pt x="1951" y="313"/>
                      </a:lnTo>
                      <a:lnTo>
                        <a:pt x="1945" y="313"/>
                      </a:lnTo>
                      <a:lnTo>
                        <a:pt x="1935" y="313"/>
                      </a:lnTo>
                      <a:lnTo>
                        <a:pt x="1929" y="313"/>
                      </a:lnTo>
                      <a:lnTo>
                        <a:pt x="1919" y="310"/>
                      </a:lnTo>
                      <a:lnTo>
                        <a:pt x="1910" y="310"/>
                      </a:lnTo>
                      <a:lnTo>
                        <a:pt x="1900" y="310"/>
                      </a:lnTo>
                      <a:lnTo>
                        <a:pt x="1894" y="310"/>
                      </a:lnTo>
                      <a:lnTo>
                        <a:pt x="1884" y="310"/>
                      </a:lnTo>
                      <a:lnTo>
                        <a:pt x="1875" y="310"/>
                      </a:lnTo>
                      <a:lnTo>
                        <a:pt x="1865" y="310"/>
                      </a:lnTo>
                      <a:lnTo>
                        <a:pt x="1856" y="307"/>
                      </a:lnTo>
                      <a:lnTo>
                        <a:pt x="1846" y="307"/>
                      </a:lnTo>
                      <a:lnTo>
                        <a:pt x="1837" y="307"/>
                      </a:lnTo>
                      <a:lnTo>
                        <a:pt x="1827" y="307"/>
                      </a:lnTo>
                      <a:lnTo>
                        <a:pt x="1817" y="307"/>
                      </a:lnTo>
                      <a:lnTo>
                        <a:pt x="1808" y="307"/>
                      </a:lnTo>
                      <a:lnTo>
                        <a:pt x="1798" y="307"/>
                      </a:lnTo>
                      <a:lnTo>
                        <a:pt x="1789" y="307"/>
                      </a:lnTo>
                      <a:lnTo>
                        <a:pt x="1779" y="303"/>
                      </a:lnTo>
                      <a:lnTo>
                        <a:pt x="1766" y="303"/>
                      </a:lnTo>
                      <a:lnTo>
                        <a:pt x="1757" y="303"/>
                      </a:lnTo>
                      <a:lnTo>
                        <a:pt x="1747" y="303"/>
                      </a:lnTo>
                      <a:lnTo>
                        <a:pt x="1738" y="303"/>
                      </a:lnTo>
                      <a:lnTo>
                        <a:pt x="1728" y="303"/>
                      </a:lnTo>
                      <a:lnTo>
                        <a:pt x="1719" y="303"/>
                      </a:lnTo>
                      <a:lnTo>
                        <a:pt x="1709" y="303"/>
                      </a:lnTo>
                      <a:lnTo>
                        <a:pt x="1699" y="300"/>
                      </a:lnTo>
                      <a:lnTo>
                        <a:pt x="1690" y="300"/>
                      </a:lnTo>
                      <a:lnTo>
                        <a:pt x="1684" y="300"/>
                      </a:lnTo>
                      <a:lnTo>
                        <a:pt x="1674" y="300"/>
                      </a:lnTo>
                      <a:lnTo>
                        <a:pt x="1664" y="300"/>
                      </a:lnTo>
                      <a:lnTo>
                        <a:pt x="1655" y="300"/>
                      </a:lnTo>
                      <a:lnTo>
                        <a:pt x="1648" y="300"/>
                      </a:lnTo>
                      <a:lnTo>
                        <a:pt x="1639" y="297"/>
                      </a:lnTo>
                      <a:lnTo>
                        <a:pt x="1629" y="297"/>
                      </a:lnTo>
                      <a:lnTo>
                        <a:pt x="1620" y="297"/>
                      </a:lnTo>
                      <a:lnTo>
                        <a:pt x="1610" y="297"/>
                      </a:lnTo>
                      <a:lnTo>
                        <a:pt x="1601" y="294"/>
                      </a:lnTo>
                      <a:lnTo>
                        <a:pt x="1588" y="294"/>
                      </a:lnTo>
                      <a:lnTo>
                        <a:pt x="1578" y="294"/>
                      </a:lnTo>
                      <a:lnTo>
                        <a:pt x="1569" y="291"/>
                      </a:lnTo>
                      <a:lnTo>
                        <a:pt x="1559" y="291"/>
                      </a:lnTo>
                      <a:lnTo>
                        <a:pt x="1550" y="287"/>
                      </a:lnTo>
                      <a:lnTo>
                        <a:pt x="1540" y="287"/>
                      </a:lnTo>
                      <a:lnTo>
                        <a:pt x="1531" y="284"/>
                      </a:lnTo>
                      <a:lnTo>
                        <a:pt x="1521" y="284"/>
                      </a:lnTo>
                      <a:lnTo>
                        <a:pt x="1511" y="281"/>
                      </a:lnTo>
                      <a:lnTo>
                        <a:pt x="1502" y="281"/>
                      </a:lnTo>
                      <a:lnTo>
                        <a:pt x="1492" y="278"/>
                      </a:lnTo>
                      <a:lnTo>
                        <a:pt x="1483" y="278"/>
                      </a:lnTo>
                      <a:lnTo>
                        <a:pt x="1476" y="275"/>
                      </a:lnTo>
                      <a:lnTo>
                        <a:pt x="1467" y="275"/>
                      </a:lnTo>
                      <a:lnTo>
                        <a:pt x="1457" y="271"/>
                      </a:lnTo>
                      <a:lnTo>
                        <a:pt x="1448" y="271"/>
                      </a:lnTo>
                      <a:lnTo>
                        <a:pt x="1438" y="268"/>
                      </a:lnTo>
                      <a:lnTo>
                        <a:pt x="1429" y="268"/>
                      </a:lnTo>
                      <a:lnTo>
                        <a:pt x="1419" y="265"/>
                      </a:lnTo>
                      <a:lnTo>
                        <a:pt x="1409" y="265"/>
                      </a:lnTo>
                      <a:lnTo>
                        <a:pt x="1400" y="262"/>
                      </a:lnTo>
                      <a:lnTo>
                        <a:pt x="1390" y="262"/>
                      </a:lnTo>
                      <a:lnTo>
                        <a:pt x="1381" y="259"/>
                      </a:lnTo>
                      <a:lnTo>
                        <a:pt x="1368" y="259"/>
                      </a:lnTo>
                      <a:lnTo>
                        <a:pt x="1358" y="259"/>
                      </a:lnTo>
                      <a:lnTo>
                        <a:pt x="1349" y="256"/>
                      </a:lnTo>
                      <a:lnTo>
                        <a:pt x="1339" y="256"/>
                      </a:lnTo>
                      <a:lnTo>
                        <a:pt x="1330" y="256"/>
                      </a:lnTo>
                      <a:lnTo>
                        <a:pt x="1320" y="256"/>
                      </a:lnTo>
                      <a:lnTo>
                        <a:pt x="1311" y="256"/>
                      </a:lnTo>
                      <a:lnTo>
                        <a:pt x="1304" y="252"/>
                      </a:lnTo>
                      <a:lnTo>
                        <a:pt x="1295" y="252"/>
                      </a:lnTo>
                      <a:lnTo>
                        <a:pt x="1285" y="252"/>
                      </a:lnTo>
                      <a:lnTo>
                        <a:pt x="1279" y="252"/>
                      </a:lnTo>
                      <a:lnTo>
                        <a:pt x="1269" y="252"/>
                      </a:lnTo>
                      <a:lnTo>
                        <a:pt x="1263" y="252"/>
                      </a:lnTo>
                      <a:lnTo>
                        <a:pt x="1253" y="252"/>
                      </a:lnTo>
                      <a:lnTo>
                        <a:pt x="1244" y="252"/>
                      </a:lnTo>
                      <a:lnTo>
                        <a:pt x="1237" y="252"/>
                      </a:lnTo>
                      <a:lnTo>
                        <a:pt x="1228" y="249"/>
                      </a:lnTo>
                      <a:lnTo>
                        <a:pt x="1221" y="249"/>
                      </a:lnTo>
                      <a:lnTo>
                        <a:pt x="1212" y="249"/>
                      </a:lnTo>
                      <a:lnTo>
                        <a:pt x="1205" y="249"/>
                      </a:lnTo>
                      <a:lnTo>
                        <a:pt x="1196" y="249"/>
                      </a:lnTo>
                      <a:lnTo>
                        <a:pt x="1189" y="249"/>
                      </a:lnTo>
                      <a:lnTo>
                        <a:pt x="1180" y="249"/>
                      </a:lnTo>
                      <a:lnTo>
                        <a:pt x="1173" y="246"/>
                      </a:lnTo>
                      <a:lnTo>
                        <a:pt x="1164" y="246"/>
                      </a:lnTo>
                      <a:lnTo>
                        <a:pt x="1158" y="246"/>
                      </a:lnTo>
                      <a:lnTo>
                        <a:pt x="1148" y="246"/>
                      </a:lnTo>
                      <a:lnTo>
                        <a:pt x="1142" y="246"/>
                      </a:lnTo>
                      <a:lnTo>
                        <a:pt x="1132" y="246"/>
                      </a:lnTo>
                      <a:lnTo>
                        <a:pt x="1126" y="246"/>
                      </a:lnTo>
                      <a:lnTo>
                        <a:pt x="1116" y="243"/>
                      </a:lnTo>
                      <a:lnTo>
                        <a:pt x="1107" y="243"/>
                      </a:lnTo>
                      <a:lnTo>
                        <a:pt x="1100" y="243"/>
                      </a:lnTo>
                      <a:lnTo>
                        <a:pt x="1091" y="243"/>
                      </a:lnTo>
                      <a:lnTo>
                        <a:pt x="1081" y="240"/>
                      </a:lnTo>
                      <a:lnTo>
                        <a:pt x="1075" y="240"/>
                      </a:lnTo>
                      <a:lnTo>
                        <a:pt x="1065" y="240"/>
                      </a:lnTo>
                      <a:lnTo>
                        <a:pt x="1052" y="240"/>
                      </a:lnTo>
                      <a:lnTo>
                        <a:pt x="1040" y="236"/>
                      </a:lnTo>
                      <a:lnTo>
                        <a:pt x="1027" y="236"/>
                      </a:lnTo>
                      <a:lnTo>
                        <a:pt x="1017" y="236"/>
                      </a:lnTo>
                      <a:lnTo>
                        <a:pt x="1005" y="236"/>
                      </a:lnTo>
                      <a:lnTo>
                        <a:pt x="992" y="233"/>
                      </a:lnTo>
                      <a:lnTo>
                        <a:pt x="979" y="233"/>
                      </a:lnTo>
                      <a:lnTo>
                        <a:pt x="969" y="233"/>
                      </a:lnTo>
                      <a:lnTo>
                        <a:pt x="957" y="233"/>
                      </a:lnTo>
                      <a:lnTo>
                        <a:pt x="944" y="230"/>
                      </a:lnTo>
                      <a:lnTo>
                        <a:pt x="931" y="230"/>
                      </a:lnTo>
                      <a:lnTo>
                        <a:pt x="922" y="230"/>
                      </a:lnTo>
                      <a:lnTo>
                        <a:pt x="909" y="230"/>
                      </a:lnTo>
                      <a:lnTo>
                        <a:pt x="896" y="227"/>
                      </a:lnTo>
                      <a:lnTo>
                        <a:pt x="883" y="227"/>
                      </a:lnTo>
                      <a:lnTo>
                        <a:pt x="871" y="227"/>
                      </a:lnTo>
                      <a:lnTo>
                        <a:pt x="861" y="224"/>
                      </a:lnTo>
                      <a:lnTo>
                        <a:pt x="848" y="224"/>
                      </a:lnTo>
                      <a:lnTo>
                        <a:pt x="836" y="224"/>
                      </a:lnTo>
                      <a:lnTo>
                        <a:pt x="823" y="224"/>
                      </a:lnTo>
                      <a:lnTo>
                        <a:pt x="813" y="220"/>
                      </a:lnTo>
                      <a:lnTo>
                        <a:pt x="801" y="220"/>
                      </a:lnTo>
                      <a:lnTo>
                        <a:pt x="788" y="220"/>
                      </a:lnTo>
                      <a:lnTo>
                        <a:pt x="775" y="217"/>
                      </a:lnTo>
                      <a:lnTo>
                        <a:pt x="762" y="217"/>
                      </a:lnTo>
                      <a:lnTo>
                        <a:pt x="753" y="217"/>
                      </a:lnTo>
                      <a:lnTo>
                        <a:pt x="740" y="214"/>
                      </a:lnTo>
                      <a:lnTo>
                        <a:pt x="727" y="214"/>
                      </a:lnTo>
                      <a:lnTo>
                        <a:pt x="714" y="214"/>
                      </a:lnTo>
                      <a:lnTo>
                        <a:pt x="705" y="211"/>
                      </a:lnTo>
                      <a:lnTo>
                        <a:pt x="692" y="211"/>
                      </a:lnTo>
                      <a:lnTo>
                        <a:pt x="679" y="211"/>
                      </a:lnTo>
                      <a:lnTo>
                        <a:pt x="667" y="208"/>
                      </a:lnTo>
                      <a:lnTo>
                        <a:pt x="654" y="208"/>
                      </a:lnTo>
                      <a:lnTo>
                        <a:pt x="641" y="208"/>
                      </a:lnTo>
                      <a:lnTo>
                        <a:pt x="628" y="204"/>
                      </a:lnTo>
                      <a:lnTo>
                        <a:pt x="616" y="204"/>
                      </a:lnTo>
                      <a:lnTo>
                        <a:pt x="603" y="204"/>
                      </a:lnTo>
                      <a:lnTo>
                        <a:pt x="590" y="204"/>
                      </a:lnTo>
                      <a:lnTo>
                        <a:pt x="577" y="204"/>
                      </a:lnTo>
                      <a:lnTo>
                        <a:pt x="565" y="201"/>
                      </a:lnTo>
                      <a:lnTo>
                        <a:pt x="552" y="201"/>
                      </a:lnTo>
                      <a:lnTo>
                        <a:pt x="542" y="201"/>
                      </a:lnTo>
                      <a:lnTo>
                        <a:pt x="530" y="201"/>
                      </a:lnTo>
                      <a:lnTo>
                        <a:pt x="517" y="198"/>
                      </a:lnTo>
                      <a:lnTo>
                        <a:pt x="504" y="198"/>
                      </a:lnTo>
                      <a:lnTo>
                        <a:pt x="491" y="198"/>
                      </a:lnTo>
                      <a:lnTo>
                        <a:pt x="475" y="195"/>
                      </a:lnTo>
                      <a:lnTo>
                        <a:pt x="466" y="195"/>
                      </a:lnTo>
                      <a:lnTo>
                        <a:pt x="456" y="195"/>
                      </a:lnTo>
                      <a:lnTo>
                        <a:pt x="443" y="192"/>
                      </a:lnTo>
                      <a:lnTo>
                        <a:pt x="434" y="192"/>
                      </a:lnTo>
                      <a:lnTo>
                        <a:pt x="424" y="192"/>
                      </a:lnTo>
                      <a:lnTo>
                        <a:pt x="412" y="192"/>
                      </a:lnTo>
                      <a:lnTo>
                        <a:pt x="402" y="189"/>
                      </a:lnTo>
                      <a:lnTo>
                        <a:pt x="392" y="189"/>
                      </a:lnTo>
                      <a:lnTo>
                        <a:pt x="383" y="189"/>
                      </a:lnTo>
                      <a:lnTo>
                        <a:pt x="370" y="189"/>
                      </a:lnTo>
                      <a:lnTo>
                        <a:pt x="361" y="189"/>
                      </a:lnTo>
                      <a:lnTo>
                        <a:pt x="351" y="189"/>
                      </a:lnTo>
                      <a:lnTo>
                        <a:pt x="341" y="185"/>
                      </a:lnTo>
                      <a:lnTo>
                        <a:pt x="329" y="185"/>
                      </a:lnTo>
                      <a:lnTo>
                        <a:pt x="319" y="185"/>
                      </a:lnTo>
                      <a:lnTo>
                        <a:pt x="310" y="185"/>
                      </a:lnTo>
                      <a:lnTo>
                        <a:pt x="300" y="185"/>
                      </a:lnTo>
                      <a:lnTo>
                        <a:pt x="290" y="185"/>
                      </a:lnTo>
                      <a:lnTo>
                        <a:pt x="281" y="182"/>
                      </a:lnTo>
                      <a:lnTo>
                        <a:pt x="271" y="182"/>
                      </a:lnTo>
                      <a:lnTo>
                        <a:pt x="262" y="182"/>
                      </a:lnTo>
                      <a:lnTo>
                        <a:pt x="252" y="182"/>
                      </a:lnTo>
                      <a:lnTo>
                        <a:pt x="239" y="179"/>
                      </a:lnTo>
                      <a:lnTo>
                        <a:pt x="230" y="179"/>
                      </a:lnTo>
                      <a:lnTo>
                        <a:pt x="220" y="176"/>
                      </a:lnTo>
                      <a:lnTo>
                        <a:pt x="211" y="176"/>
                      </a:lnTo>
                      <a:lnTo>
                        <a:pt x="201" y="176"/>
                      </a:lnTo>
                      <a:lnTo>
                        <a:pt x="192" y="173"/>
                      </a:lnTo>
                      <a:lnTo>
                        <a:pt x="182" y="169"/>
                      </a:lnTo>
                      <a:lnTo>
                        <a:pt x="173" y="169"/>
                      </a:lnTo>
                      <a:lnTo>
                        <a:pt x="163" y="166"/>
                      </a:lnTo>
                      <a:lnTo>
                        <a:pt x="153" y="163"/>
                      </a:lnTo>
                      <a:lnTo>
                        <a:pt x="141" y="160"/>
                      </a:lnTo>
                      <a:lnTo>
                        <a:pt x="131" y="160"/>
                      </a:lnTo>
                      <a:lnTo>
                        <a:pt x="121" y="157"/>
                      </a:lnTo>
                      <a:lnTo>
                        <a:pt x="112" y="153"/>
                      </a:lnTo>
                      <a:lnTo>
                        <a:pt x="102" y="150"/>
                      </a:lnTo>
                      <a:lnTo>
                        <a:pt x="93" y="147"/>
                      </a:lnTo>
                      <a:lnTo>
                        <a:pt x="83" y="144"/>
                      </a:lnTo>
                      <a:lnTo>
                        <a:pt x="77" y="141"/>
                      </a:lnTo>
                      <a:lnTo>
                        <a:pt x="67" y="138"/>
                      </a:lnTo>
                      <a:lnTo>
                        <a:pt x="61" y="134"/>
                      </a:lnTo>
                      <a:lnTo>
                        <a:pt x="51" y="131"/>
                      </a:lnTo>
                      <a:lnTo>
                        <a:pt x="45" y="128"/>
                      </a:lnTo>
                      <a:lnTo>
                        <a:pt x="35" y="125"/>
                      </a:lnTo>
                      <a:lnTo>
                        <a:pt x="29" y="122"/>
                      </a:lnTo>
                      <a:lnTo>
                        <a:pt x="23" y="115"/>
                      </a:lnTo>
                      <a:lnTo>
                        <a:pt x="16" y="112"/>
                      </a:lnTo>
                      <a:lnTo>
                        <a:pt x="10" y="109"/>
                      </a:lnTo>
                      <a:lnTo>
                        <a:pt x="4" y="106"/>
                      </a:lnTo>
                      <a:lnTo>
                        <a:pt x="4" y="99"/>
                      </a:lnTo>
                      <a:lnTo>
                        <a:pt x="0" y="96"/>
                      </a:lnTo>
                      <a:lnTo>
                        <a:pt x="4" y="90"/>
                      </a:lnTo>
                      <a:lnTo>
                        <a:pt x="4" y="86"/>
                      </a:lnTo>
                      <a:lnTo>
                        <a:pt x="10" y="83"/>
                      </a:lnTo>
                      <a:lnTo>
                        <a:pt x="13" y="77"/>
                      </a:lnTo>
                      <a:lnTo>
                        <a:pt x="19" y="74"/>
                      </a:lnTo>
                      <a:lnTo>
                        <a:pt x="26" y="71"/>
                      </a:lnTo>
                      <a:lnTo>
                        <a:pt x="35" y="64"/>
                      </a:lnTo>
                      <a:lnTo>
                        <a:pt x="45" y="61"/>
                      </a:lnTo>
                      <a:lnTo>
                        <a:pt x="55" y="58"/>
                      </a:lnTo>
                      <a:lnTo>
                        <a:pt x="64" y="51"/>
                      </a:lnTo>
                      <a:lnTo>
                        <a:pt x="77" y="48"/>
                      </a:lnTo>
                      <a:lnTo>
                        <a:pt x="90" y="45"/>
                      </a:lnTo>
                      <a:lnTo>
                        <a:pt x="99" y="42"/>
                      </a:lnTo>
                      <a:lnTo>
                        <a:pt x="112" y="39"/>
                      </a:lnTo>
                      <a:lnTo>
                        <a:pt x="125" y="35"/>
                      </a:lnTo>
                      <a:lnTo>
                        <a:pt x="137" y="32"/>
                      </a:lnTo>
                      <a:lnTo>
                        <a:pt x="150" y="29"/>
                      </a:lnTo>
                      <a:lnTo>
                        <a:pt x="163" y="26"/>
                      </a:lnTo>
                      <a:lnTo>
                        <a:pt x="176" y="23"/>
                      </a:lnTo>
                      <a:lnTo>
                        <a:pt x="185" y="23"/>
                      </a:lnTo>
                      <a:lnTo>
                        <a:pt x="198" y="20"/>
                      </a:lnTo>
                      <a:lnTo>
                        <a:pt x="208" y="16"/>
                      </a:lnTo>
                      <a:lnTo>
                        <a:pt x="217" y="16"/>
                      </a:lnTo>
                      <a:lnTo>
                        <a:pt x="227" y="13"/>
                      </a:lnTo>
                      <a:lnTo>
                        <a:pt x="236" y="13"/>
                      </a:lnTo>
                      <a:lnTo>
                        <a:pt x="243" y="10"/>
                      </a:lnTo>
                      <a:lnTo>
                        <a:pt x="249" y="10"/>
                      </a:lnTo>
                      <a:lnTo>
                        <a:pt x="252" y="10"/>
                      </a:lnTo>
                      <a:lnTo>
                        <a:pt x="290" y="7"/>
                      </a:lnTo>
                      <a:lnTo>
                        <a:pt x="338" y="4"/>
                      </a:lnTo>
                      <a:lnTo>
                        <a:pt x="389" y="4"/>
                      </a:lnTo>
                      <a:lnTo>
                        <a:pt x="447" y="0"/>
                      </a:lnTo>
                      <a:lnTo>
                        <a:pt x="510" y="0"/>
                      </a:lnTo>
                      <a:lnTo>
                        <a:pt x="581" y="0"/>
                      </a:lnTo>
                      <a:lnTo>
                        <a:pt x="654" y="4"/>
                      </a:lnTo>
                      <a:lnTo>
                        <a:pt x="734" y="4"/>
                      </a:lnTo>
                      <a:lnTo>
                        <a:pt x="813" y="4"/>
                      </a:lnTo>
                      <a:lnTo>
                        <a:pt x="899" y="7"/>
                      </a:lnTo>
                      <a:lnTo>
                        <a:pt x="989" y="10"/>
                      </a:lnTo>
                      <a:lnTo>
                        <a:pt x="1081" y="13"/>
                      </a:lnTo>
                      <a:lnTo>
                        <a:pt x="1177" y="16"/>
                      </a:lnTo>
                      <a:lnTo>
                        <a:pt x="1272" y="20"/>
                      </a:lnTo>
                      <a:lnTo>
                        <a:pt x="1368" y="23"/>
                      </a:lnTo>
                      <a:lnTo>
                        <a:pt x="1467" y="29"/>
                      </a:lnTo>
                      <a:lnTo>
                        <a:pt x="1566" y="32"/>
                      </a:lnTo>
                      <a:lnTo>
                        <a:pt x="1664" y="39"/>
                      </a:lnTo>
                      <a:lnTo>
                        <a:pt x="1763" y="42"/>
                      </a:lnTo>
                      <a:lnTo>
                        <a:pt x="1859" y="48"/>
                      </a:lnTo>
                      <a:lnTo>
                        <a:pt x="1955" y="55"/>
                      </a:lnTo>
                      <a:lnTo>
                        <a:pt x="2050" y="61"/>
                      </a:lnTo>
                      <a:lnTo>
                        <a:pt x="2143" y="64"/>
                      </a:lnTo>
                      <a:lnTo>
                        <a:pt x="2232" y="71"/>
                      </a:lnTo>
                      <a:lnTo>
                        <a:pt x="2318" y="77"/>
                      </a:lnTo>
                      <a:lnTo>
                        <a:pt x="2401" y="83"/>
                      </a:lnTo>
                      <a:lnTo>
                        <a:pt x="2481" y="90"/>
                      </a:lnTo>
                      <a:lnTo>
                        <a:pt x="2557" y="96"/>
                      </a:lnTo>
                      <a:lnTo>
                        <a:pt x="2627" y="99"/>
                      </a:lnTo>
                      <a:lnTo>
                        <a:pt x="2691" y="106"/>
                      </a:lnTo>
                      <a:lnTo>
                        <a:pt x="2751" y="112"/>
                      </a:lnTo>
                      <a:lnTo>
                        <a:pt x="2802" y="118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810400" y="3450240"/>
                  <a:ext cx="2388960" cy="276480"/>
                </a:xfrm>
                <a:custGeom>
                  <a:avLst/>
                  <a:gdLst/>
                  <a:ahLst/>
                  <a:rect l="l" t="t" r="r" b="b"/>
                  <a:pathLst>
                    <a:path w="2803" h="306">
                      <a:moveTo>
                        <a:pt x="2761" y="114"/>
                      </a:moveTo>
                      <a:lnTo>
                        <a:pt x="2777" y="118"/>
                      </a:lnTo>
                      <a:lnTo>
                        <a:pt x="2790" y="121"/>
                      </a:lnTo>
                      <a:lnTo>
                        <a:pt x="2796" y="124"/>
                      </a:lnTo>
                      <a:lnTo>
                        <a:pt x="2799" y="127"/>
                      </a:lnTo>
                      <a:lnTo>
                        <a:pt x="2803" y="134"/>
                      </a:lnTo>
                      <a:lnTo>
                        <a:pt x="2803" y="137"/>
                      </a:lnTo>
                      <a:lnTo>
                        <a:pt x="2799" y="140"/>
                      </a:lnTo>
                      <a:lnTo>
                        <a:pt x="2796" y="143"/>
                      </a:lnTo>
                      <a:lnTo>
                        <a:pt x="2790" y="146"/>
                      </a:lnTo>
                      <a:lnTo>
                        <a:pt x="2783" y="153"/>
                      </a:lnTo>
                      <a:lnTo>
                        <a:pt x="2777" y="156"/>
                      </a:lnTo>
                      <a:lnTo>
                        <a:pt x="2771" y="159"/>
                      </a:lnTo>
                      <a:lnTo>
                        <a:pt x="2761" y="162"/>
                      </a:lnTo>
                      <a:lnTo>
                        <a:pt x="2755" y="162"/>
                      </a:lnTo>
                      <a:lnTo>
                        <a:pt x="2748" y="165"/>
                      </a:lnTo>
                      <a:lnTo>
                        <a:pt x="2742" y="169"/>
                      </a:lnTo>
                      <a:lnTo>
                        <a:pt x="2732" y="172"/>
                      </a:lnTo>
                      <a:lnTo>
                        <a:pt x="2726" y="172"/>
                      </a:lnTo>
                      <a:lnTo>
                        <a:pt x="2720" y="175"/>
                      </a:lnTo>
                      <a:lnTo>
                        <a:pt x="2710" y="178"/>
                      </a:lnTo>
                      <a:lnTo>
                        <a:pt x="2704" y="178"/>
                      </a:lnTo>
                      <a:lnTo>
                        <a:pt x="2697" y="181"/>
                      </a:lnTo>
                      <a:lnTo>
                        <a:pt x="2688" y="185"/>
                      </a:lnTo>
                      <a:lnTo>
                        <a:pt x="2681" y="185"/>
                      </a:lnTo>
                      <a:lnTo>
                        <a:pt x="2675" y="188"/>
                      </a:lnTo>
                      <a:lnTo>
                        <a:pt x="2665" y="191"/>
                      </a:lnTo>
                      <a:lnTo>
                        <a:pt x="2659" y="194"/>
                      </a:lnTo>
                      <a:lnTo>
                        <a:pt x="2650" y="197"/>
                      </a:lnTo>
                      <a:lnTo>
                        <a:pt x="2643" y="200"/>
                      </a:lnTo>
                      <a:lnTo>
                        <a:pt x="2637" y="200"/>
                      </a:lnTo>
                      <a:lnTo>
                        <a:pt x="2630" y="204"/>
                      </a:lnTo>
                      <a:lnTo>
                        <a:pt x="2621" y="207"/>
                      </a:lnTo>
                      <a:lnTo>
                        <a:pt x="2614" y="210"/>
                      </a:lnTo>
                      <a:lnTo>
                        <a:pt x="2608" y="210"/>
                      </a:lnTo>
                      <a:lnTo>
                        <a:pt x="2602" y="213"/>
                      </a:lnTo>
                      <a:lnTo>
                        <a:pt x="2592" y="216"/>
                      </a:lnTo>
                      <a:lnTo>
                        <a:pt x="2586" y="220"/>
                      </a:lnTo>
                      <a:lnTo>
                        <a:pt x="2579" y="220"/>
                      </a:lnTo>
                      <a:lnTo>
                        <a:pt x="2573" y="223"/>
                      </a:lnTo>
                      <a:lnTo>
                        <a:pt x="2567" y="226"/>
                      </a:lnTo>
                      <a:lnTo>
                        <a:pt x="2557" y="226"/>
                      </a:lnTo>
                      <a:lnTo>
                        <a:pt x="2551" y="229"/>
                      </a:lnTo>
                      <a:lnTo>
                        <a:pt x="2544" y="232"/>
                      </a:lnTo>
                      <a:lnTo>
                        <a:pt x="2538" y="232"/>
                      </a:lnTo>
                      <a:lnTo>
                        <a:pt x="2532" y="236"/>
                      </a:lnTo>
                      <a:lnTo>
                        <a:pt x="2522" y="239"/>
                      </a:lnTo>
                      <a:lnTo>
                        <a:pt x="2516" y="242"/>
                      </a:lnTo>
                      <a:lnTo>
                        <a:pt x="2509" y="242"/>
                      </a:lnTo>
                      <a:lnTo>
                        <a:pt x="2500" y="245"/>
                      </a:lnTo>
                      <a:lnTo>
                        <a:pt x="2493" y="248"/>
                      </a:lnTo>
                      <a:lnTo>
                        <a:pt x="2487" y="248"/>
                      </a:lnTo>
                      <a:lnTo>
                        <a:pt x="2477" y="252"/>
                      </a:lnTo>
                      <a:lnTo>
                        <a:pt x="2471" y="255"/>
                      </a:lnTo>
                      <a:lnTo>
                        <a:pt x="2465" y="255"/>
                      </a:lnTo>
                      <a:lnTo>
                        <a:pt x="2455" y="258"/>
                      </a:lnTo>
                      <a:lnTo>
                        <a:pt x="2449" y="261"/>
                      </a:lnTo>
                      <a:lnTo>
                        <a:pt x="2442" y="264"/>
                      </a:lnTo>
                      <a:lnTo>
                        <a:pt x="2436" y="264"/>
                      </a:lnTo>
                      <a:lnTo>
                        <a:pt x="2430" y="264"/>
                      </a:lnTo>
                      <a:lnTo>
                        <a:pt x="2423" y="267"/>
                      </a:lnTo>
                      <a:lnTo>
                        <a:pt x="2417" y="267"/>
                      </a:lnTo>
                      <a:lnTo>
                        <a:pt x="2410" y="271"/>
                      </a:lnTo>
                      <a:lnTo>
                        <a:pt x="2404" y="271"/>
                      </a:lnTo>
                      <a:lnTo>
                        <a:pt x="2398" y="271"/>
                      </a:lnTo>
                      <a:lnTo>
                        <a:pt x="2391" y="271"/>
                      </a:lnTo>
                      <a:lnTo>
                        <a:pt x="2385" y="274"/>
                      </a:lnTo>
                      <a:lnTo>
                        <a:pt x="2379" y="274"/>
                      </a:lnTo>
                      <a:lnTo>
                        <a:pt x="2372" y="274"/>
                      </a:lnTo>
                      <a:lnTo>
                        <a:pt x="2366" y="274"/>
                      </a:lnTo>
                      <a:lnTo>
                        <a:pt x="2359" y="277"/>
                      </a:lnTo>
                      <a:lnTo>
                        <a:pt x="2353" y="277"/>
                      </a:lnTo>
                      <a:lnTo>
                        <a:pt x="2347" y="277"/>
                      </a:lnTo>
                      <a:lnTo>
                        <a:pt x="2337" y="277"/>
                      </a:lnTo>
                      <a:lnTo>
                        <a:pt x="2328" y="280"/>
                      </a:lnTo>
                      <a:lnTo>
                        <a:pt x="2318" y="280"/>
                      </a:lnTo>
                      <a:lnTo>
                        <a:pt x="2308" y="280"/>
                      </a:lnTo>
                      <a:lnTo>
                        <a:pt x="2299" y="283"/>
                      </a:lnTo>
                      <a:lnTo>
                        <a:pt x="2289" y="283"/>
                      </a:lnTo>
                      <a:lnTo>
                        <a:pt x="2280" y="283"/>
                      </a:lnTo>
                      <a:lnTo>
                        <a:pt x="2270" y="287"/>
                      </a:lnTo>
                      <a:lnTo>
                        <a:pt x="2261" y="287"/>
                      </a:lnTo>
                      <a:lnTo>
                        <a:pt x="2251" y="287"/>
                      </a:lnTo>
                      <a:lnTo>
                        <a:pt x="2241" y="287"/>
                      </a:lnTo>
                      <a:lnTo>
                        <a:pt x="2232" y="290"/>
                      </a:lnTo>
                      <a:lnTo>
                        <a:pt x="2222" y="290"/>
                      </a:lnTo>
                      <a:lnTo>
                        <a:pt x="2213" y="290"/>
                      </a:lnTo>
                      <a:lnTo>
                        <a:pt x="2203" y="290"/>
                      </a:lnTo>
                      <a:lnTo>
                        <a:pt x="2190" y="290"/>
                      </a:lnTo>
                      <a:lnTo>
                        <a:pt x="2181" y="290"/>
                      </a:lnTo>
                      <a:lnTo>
                        <a:pt x="2171" y="293"/>
                      </a:lnTo>
                      <a:lnTo>
                        <a:pt x="2159" y="293"/>
                      </a:lnTo>
                      <a:lnTo>
                        <a:pt x="2149" y="293"/>
                      </a:lnTo>
                      <a:lnTo>
                        <a:pt x="2139" y="293"/>
                      </a:lnTo>
                      <a:lnTo>
                        <a:pt x="2130" y="293"/>
                      </a:lnTo>
                      <a:lnTo>
                        <a:pt x="2117" y="296"/>
                      </a:lnTo>
                      <a:lnTo>
                        <a:pt x="2108" y="296"/>
                      </a:lnTo>
                      <a:lnTo>
                        <a:pt x="2098" y="296"/>
                      </a:lnTo>
                      <a:lnTo>
                        <a:pt x="2088" y="299"/>
                      </a:lnTo>
                      <a:lnTo>
                        <a:pt x="2079" y="299"/>
                      </a:lnTo>
                      <a:lnTo>
                        <a:pt x="2066" y="299"/>
                      </a:lnTo>
                      <a:lnTo>
                        <a:pt x="2057" y="299"/>
                      </a:lnTo>
                      <a:lnTo>
                        <a:pt x="2047" y="299"/>
                      </a:lnTo>
                      <a:lnTo>
                        <a:pt x="2037" y="299"/>
                      </a:lnTo>
                      <a:lnTo>
                        <a:pt x="2025" y="299"/>
                      </a:lnTo>
                      <a:lnTo>
                        <a:pt x="2018" y="299"/>
                      </a:lnTo>
                      <a:lnTo>
                        <a:pt x="2009" y="299"/>
                      </a:lnTo>
                      <a:lnTo>
                        <a:pt x="2002" y="299"/>
                      </a:lnTo>
                      <a:lnTo>
                        <a:pt x="1993" y="303"/>
                      </a:lnTo>
                      <a:lnTo>
                        <a:pt x="1986" y="303"/>
                      </a:lnTo>
                      <a:lnTo>
                        <a:pt x="1977" y="303"/>
                      </a:lnTo>
                      <a:lnTo>
                        <a:pt x="1971" y="303"/>
                      </a:lnTo>
                      <a:lnTo>
                        <a:pt x="1961" y="303"/>
                      </a:lnTo>
                      <a:lnTo>
                        <a:pt x="1955" y="306"/>
                      </a:lnTo>
                      <a:lnTo>
                        <a:pt x="1945" y="306"/>
                      </a:lnTo>
                      <a:lnTo>
                        <a:pt x="1939" y="306"/>
                      </a:lnTo>
                      <a:lnTo>
                        <a:pt x="1932" y="306"/>
                      </a:lnTo>
                      <a:lnTo>
                        <a:pt x="1923" y="306"/>
                      </a:lnTo>
                      <a:lnTo>
                        <a:pt x="1916" y="306"/>
                      </a:lnTo>
                      <a:lnTo>
                        <a:pt x="1907" y="306"/>
                      </a:lnTo>
                      <a:lnTo>
                        <a:pt x="1900" y="306"/>
                      </a:lnTo>
                      <a:lnTo>
                        <a:pt x="1891" y="306"/>
                      </a:lnTo>
                      <a:lnTo>
                        <a:pt x="1884" y="306"/>
                      </a:lnTo>
                      <a:lnTo>
                        <a:pt x="1875" y="306"/>
                      </a:lnTo>
                      <a:lnTo>
                        <a:pt x="1865" y="303"/>
                      </a:lnTo>
                      <a:lnTo>
                        <a:pt x="1856" y="303"/>
                      </a:lnTo>
                      <a:lnTo>
                        <a:pt x="1846" y="303"/>
                      </a:lnTo>
                      <a:lnTo>
                        <a:pt x="1837" y="303"/>
                      </a:lnTo>
                      <a:lnTo>
                        <a:pt x="1827" y="303"/>
                      </a:lnTo>
                      <a:lnTo>
                        <a:pt x="1818" y="303"/>
                      </a:lnTo>
                      <a:lnTo>
                        <a:pt x="1808" y="303"/>
                      </a:lnTo>
                      <a:lnTo>
                        <a:pt x="1798" y="303"/>
                      </a:lnTo>
                      <a:lnTo>
                        <a:pt x="1789" y="303"/>
                      </a:lnTo>
                      <a:lnTo>
                        <a:pt x="1779" y="303"/>
                      </a:lnTo>
                      <a:lnTo>
                        <a:pt x="1770" y="299"/>
                      </a:lnTo>
                      <a:lnTo>
                        <a:pt x="1760" y="299"/>
                      </a:lnTo>
                      <a:lnTo>
                        <a:pt x="1751" y="299"/>
                      </a:lnTo>
                      <a:lnTo>
                        <a:pt x="1741" y="299"/>
                      </a:lnTo>
                      <a:lnTo>
                        <a:pt x="1728" y="299"/>
                      </a:lnTo>
                      <a:lnTo>
                        <a:pt x="1719" y="299"/>
                      </a:lnTo>
                      <a:lnTo>
                        <a:pt x="1709" y="299"/>
                      </a:lnTo>
                      <a:lnTo>
                        <a:pt x="1700" y="299"/>
                      </a:lnTo>
                      <a:lnTo>
                        <a:pt x="1690" y="299"/>
                      </a:lnTo>
                      <a:lnTo>
                        <a:pt x="1680" y="296"/>
                      </a:lnTo>
                      <a:lnTo>
                        <a:pt x="1671" y="296"/>
                      </a:lnTo>
                      <a:lnTo>
                        <a:pt x="1661" y="296"/>
                      </a:lnTo>
                      <a:lnTo>
                        <a:pt x="1652" y="296"/>
                      </a:lnTo>
                      <a:lnTo>
                        <a:pt x="1642" y="296"/>
                      </a:lnTo>
                      <a:lnTo>
                        <a:pt x="1636" y="296"/>
                      </a:lnTo>
                      <a:lnTo>
                        <a:pt x="1626" y="296"/>
                      </a:lnTo>
                      <a:lnTo>
                        <a:pt x="1617" y="296"/>
                      </a:lnTo>
                      <a:lnTo>
                        <a:pt x="1607" y="293"/>
                      </a:lnTo>
                      <a:lnTo>
                        <a:pt x="1601" y="293"/>
                      </a:lnTo>
                      <a:lnTo>
                        <a:pt x="1591" y="293"/>
                      </a:lnTo>
                      <a:lnTo>
                        <a:pt x="1578" y="293"/>
                      </a:lnTo>
                      <a:lnTo>
                        <a:pt x="1569" y="293"/>
                      </a:lnTo>
                      <a:lnTo>
                        <a:pt x="1559" y="290"/>
                      </a:lnTo>
                      <a:lnTo>
                        <a:pt x="1550" y="290"/>
                      </a:lnTo>
                      <a:lnTo>
                        <a:pt x="1540" y="287"/>
                      </a:lnTo>
                      <a:lnTo>
                        <a:pt x="1531" y="287"/>
                      </a:lnTo>
                      <a:lnTo>
                        <a:pt x="1521" y="287"/>
                      </a:lnTo>
                      <a:lnTo>
                        <a:pt x="1511" y="283"/>
                      </a:lnTo>
                      <a:lnTo>
                        <a:pt x="1502" y="280"/>
                      </a:lnTo>
                      <a:lnTo>
                        <a:pt x="1492" y="280"/>
                      </a:lnTo>
                      <a:lnTo>
                        <a:pt x="1483" y="277"/>
                      </a:lnTo>
                      <a:lnTo>
                        <a:pt x="1473" y="277"/>
                      </a:lnTo>
                      <a:lnTo>
                        <a:pt x="1464" y="274"/>
                      </a:lnTo>
                      <a:lnTo>
                        <a:pt x="1454" y="271"/>
                      </a:lnTo>
                      <a:lnTo>
                        <a:pt x="1445" y="271"/>
                      </a:lnTo>
                      <a:lnTo>
                        <a:pt x="1435" y="267"/>
                      </a:lnTo>
                      <a:lnTo>
                        <a:pt x="1425" y="267"/>
                      </a:lnTo>
                      <a:lnTo>
                        <a:pt x="1416" y="264"/>
                      </a:lnTo>
                      <a:lnTo>
                        <a:pt x="1406" y="261"/>
                      </a:lnTo>
                      <a:lnTo>
                        <a:pt x="1397" y="261"/>
                      </a:lnTo>
                      <a:lnTo>
                        <a:pt x="1387" y="258"/>
                      </a:lnTo>
                      <a:lnTo>
                        <a:pt x="1378" y="258"/>
                      </a:lnTo>
                      <a:lnTo>
                        <a:pt x="1368" y="255"/>
                      </a:lnTo>
                      <a:lnTo>
                        <a:pt x="1358" y="255"/>
                      </a:lnTo>
                      <a:lnTo>
                        <a:pt x="1346" y="252"/>
                      </a:lnTo>
                      <a:lnTo>
                        <a:pt x="1336" y="252"/>
                      </a:lnTo>
                      <a:lnTo>
                        <a:pt x="1327" y="248"/>
                      </a:lnTo>
                      <a:lnTo>
                        <a:pt x="1317" y="248"/>
                      </a:lnTo>
                      <a:lnTo>
                        <a:pt x="1307" y="248"/>
                      </a:lnTo>
                      <a:lnTo>
                        <a:pt x="1298" y="248"/>
                      </a:lnTo>
                      <a:lnTo>
                        <a:pt x="1288" y="245"/>
                      </a:lnTo>
                      <a:lnTo>
                        <a:pt x="1279" y="245"/>
                      </a:lnTo>
                      <a:lnTo>
                        <a:pt x="1269" y="245"/>
                      </a:lnTo>
                      <a:lnTo>
                        <a:pt x="1263" y="245"/>
                      </a:lnTo>
                      <a:lnTo>
                        <a:pt x="1253" y="245"/>
                      </a:lnTo>
                      <a:lnTo>
                        <a:pt x="1244" y="245"/>
                      </a:lnTo>
                      <a:lnTo>
                        <a:pt x="1237" y="245"/>
                      </a:lnTo>
                      <a:lnTo>
                        <a:pt x="1228" y="242"/>
                      </a:lnTo>
                      <a:lnTo>
                        <a:pt x="1221" y="242"/>
                      </a:lnTo>
                      <a:lnTo>
                        <a:pt x="1212" y="242"/>
                      </a:lnTo>
                      <a:lnTo>
                        <a:pt x="1205" y="242"/>
                      </a:lnTo>
                      <a:lnTo>
                        <a:pt x="1196" y="242"/>
                      </a:lnTo>
                      <a:lnTo>
                        <a:pt x="1189" y="242"/>
                      </a:lnTo>
                      <a:lnTo>
                        <a:pt x="1180" y="242"/>
                      </a:lnTo>
                      <a:lnTo>
                        <a:pt x="1174" y="242"/>
                      </a:lnTo>
                      <a:lnTo>
                        <a:pt x="1167" y="239"/>
                      </a:lnTo>
                      <a:lnTo>
                        <a:pt x="1158" y="239"/>
                      </a:lnTo>
                      <a:lnTo>
                        <a:pt x="1151" y="239"/>
                      </a:lnTo>
                      <a:lnTo>
                        <a:pt x="1142" y="239"/>
                      </a:lnTo>
                      <a:lnTo>
                        <a:pt x="1135" y="239"/>
                      </a:lnTo>
                      <a:lnTo>
                        <a:pt x="1129" y="239"/>
                      </a:lnTo>
                      <a:lnTo>
                        <a:pt x="1119" y="236"/>
                      </a:lnTo>
                      <a:lnTo>
                        <a:pt x="1113" y="236"/>
                      </a:lnTo>
                      <a:lnTo>
                        <a:pt x="1103" y="236"/>
                      </a:lnTo>
                      <a:lnTo>
                        <a:pt x="1097" y="236"/>
                      </a:lnTo>
                      <a:lnTo>
                        <a:pt x="1087" y="236"/>
                      </a:lnTo>
                      <a:lnTo>
                        <a:pt x="1081" y="236"/>
                      </a:lnTo>
                      <a:lnTo>
                        <a:pt x="1072" y="232"/>
                      </a:lnTo>
                      <a:lnTo>
                        <a:pt x="1062" y="232"/>
                      </a:lnTo>
                      <a:lnTo>
                        <a:pt x="1056" y="232"/>
                      </a:lnTo>
                      <a:lnTo>
                        <a:pt x="1046" y="232"/>
                      </a:lnTo>
                      <a:lnTo>
                        <a:pt x="1036" y="232"/>
                      </a:lnTo>
                      <a:lnTo>
                        <a:pt x="1030" y="229"/>
                      </a:lnTo>
                      <a:lnTo>
                        <a:pt x="1017" y="229"/>
                      </a:lnTo>
                      <a:lnTo>
                        <a:pt x="1005" y="229"/>
                      </a:lnTo>
                      <a:lnTo>
                        <a:pt x="992" y="229"/>
                      </a:lnTo>
                      <a:lnTo>
                        <a:pt x="982" y="226"/>
                      </a:lnTo>
                      <a:lnTo>
                        <a:pt x="970" y="226"/>
                      </a:lnTo>
                      <a:lnTo>
                        <a:pt x="957" y="226"/>
                      </a:lnTo>
                      <a:lnTo>
                        <a:pt x="944" y="226"/>
                      </a:lnTo>
                      <a:lnTo>
                        <a:pt x="931" y="223"/>
                      </a:lnTo>
                      <a:lnTo>
                        <a:pt x="922" y="223"/>
                      </a:lnTo>
                      <a:lnTo>
                        <a:pt x="909" y="223"/>
                      </a:lnTo>
                      <a:lnTo>
                        <a:pt x="896" y="223"/>
                      </a:lnTo>
                      <a:lnTo>
                        <a:pt x="883" y="220"/>
                      </a:lnTo>
                      <a:lnTo>
                        <a:pt x="874" y="220"/>
                      </a:lnTo>
                      <a:lnTo>
                        <a:pt x="861" y="220"/>
                      </a:lnTo>
                      <a:lnTo>
                        <a:pt x="848" y="220"/>
                      </a:lnTo>
                      <a:lnTo>
                        <a:pt x="836" y="216"/>
                      </a:lnTo>
                      <a:lnTo>
                        <a:pt x="823" y="216"/>
                      </a:lnTo>
                      <a:lnTo>
                        <a:pt x="813" y="216"/>
                      </a:lnTo>
                      <a:lnTo>
                        <a:pt x="801" y="216"/>
                      </a:lnTo>
                      <a:lnTo>
                        <a:pt x="788" y="213"/>
                      </a:lnTo>
                      <a:lnTo>
                        <a:pt x="775" y="213"/>
                      </a:lnTo>
                      <a:lnTo>
                        <a:pt x="766" y="213"/>
                      </a:lnTo>
                      <a:lnTo>
                        <a:pt x="753" y="213"/>
                      </a:lnTo>
                      <a:lnTo>
                        <a:pt x="740" y="210"/>
                      </a:lnTo>
                      <a:lnTo>
                        <a:pt x="727" y="210"/>
                      </a:lnTo>
                      <a:lnTo>
                        <a:pt x="718" y="210"/>
                      </a:lnTo>
                      <a:lnTo>
                        <a:pt x="705" y="207"/>
                      </a:lnTo>
                      <a:lnTo>
                        <a:pt x="692" y="207"/>
                      </a:lnTo>
                      <a:lnTo>
                        <a:pt x="679" y="207"/>
                      </a:lnTo>
                      <a:lnTo>
                        <a:pt x="667" y="204"/>
                      </a:lnTo>
                      <a:lnTo>
                        <a:pt x="657" y="204"/>
                      </a:lnTo>
                      <a:lnTo>
                        <a:pt x="644" y="204"/>
                      </a:lnTo>
                      <a:lnTo>
                        <a:pt x="632" y="200"/>
                      </a:lnTo>
                      <a:lnTo>
                        <a:pt x="619" y="200"/>
                      </a:lnTo>
                      <a:lnTo>
                        <a:pt x="606" y="200"/>
                      </a:lnTo>
                      <a:lnTo>
                        <a:pt x="593" y="200"/>
                      </a:lnTo>
                      <a:lnTo>
                        <a:pt x="581" y="197"/>
                      </a:lnTo>
                      <a:lnTo>
                        <a:pt x="568" y="197"/>
                      </a:lnTo>
                      <a:lnTo>
                        <a:pt x="555" y="197"/>
                      </a:lnTo>
                      <a:lnTo>
                        <a:pt x="542" y="197"/>
                      </a:lnTo>
                      <a:lnTo>
                        <a:pt x="530" y="197"/>
                      </a:lnTo>
                      <a:lnTo>
                        <a:pt x="520" y="194"/>
                      </a:lnTo>
                      <a:lnTo>
                        <a:pt x="507" y="194"/>
                      </a:lnTo>
                      <a:lnTo>
                        <a:pt x="495" y="194"/>
                      </a:lnTo>
                      <a:lnTo>
                        <a:pt x="482" y="194"/>
                      </a:lnTo>
                      <a:lnTo>
                        <a:pt x="469" y="191"/>
                      </a:lnTo>
                      <a:lnTo>
                        <a:pt x="456" y="191"/>
                      </a:lnTo>
                      <a:lnTo>
                        <a:pt x="444" y="188"/>
                      </a:lnTo>
                      <a:lnTo>
                        <a:pt x="431" y="188"/>
                      </a:lnTo>
                      <a:lnTo>
                        <a:pt x="421" y="188"/>
                      </a:lnTo>
                      <a:lnTo>
                        <a:pt x="408" y="188"/>
                      </a:lnTo>
                      <a:lnTo>
                        <a:pt x="399" y="185"/>
                      </a:lnTo>
                      <a:lnTo>
                        <a:pt x="389" y="185"/>
                      </a:lnTo>
                      <a:lnTo>
                        <a:pt x="380" y="185"/>
                      </a:lnTo>
                      <a:lnTo>
                        <a:pt x="367" y="185"/>
                      </a:lnTo>
                      <a:lnTo>
                        <a:pt x="357" y="185"/>
                      </a:lnTo>
                      <a:lnTo>
                        <a:pt x="348" y="185"/>
                      </a:lnTo>
                      <a:lnTo>
                        <a:pt x="338" y="181"/>
                      </a:lnTo>
                      <a:lnTo>
                        <a:pt x="326" y="181"/>
                      </a:lnTo>
                      <a:lnTo>
                        <a:pt x="316" y="181"/>
                      </a:lnTo>
                      <a:lnTo>
                        <a:pt x="306" y="181"/>
                      </a:lnTo>
                      <a:lnTo>
                        <a:pt x="297" y="181"/>
                      </a:lnTo>
                      <a:lnTo>
                        <a:pt x="287" y="181"/>
                      </a:lnTo>
                      <a:lnTo>
                        <a:pt x="275" y="181"/>
                      </a:lnTo>
                      <a:lnTo>
                        <a:pt x="265" y="181"/>
                      </a:lnTo>
                      <a:lnTo>
                        <a:pt x="255" y="178"/>
                      </a:lnTo>
                      <a:lnTo>
                        <a:pt x="246" y="178"/>
                      </a:lnTo>
                      <a:lnTo>
                        <a:pt x="236" y="178"/>
                      </a:lnTo>
                      <a:lnTo>
                        <a:pt x="227" y="178"/>
                      </a:lnTo>
                      <a:lnTo>
                        <a:pt x="217" y="178"/>
                      </a:lnTo>
                      <a:lnTo>
                        <a:pt x="208" y="175"/>
                      </a:lnTo>
                      <a:lnTo>
                        <a:pt x="198" y="175"/>
                      </a:lnTo>
                      <a:lnTo>
                        <a:pt x="189" y="172"/>
                      </a:lnTo>
                      <a:lnTo>
                        <a:pt x="179" y="172"/>
                      </a:lnTo>
                      <a:lnTo>
                        <a:pt x="169" y="172"/>
                      </a:lnTo>
                      <a:lnTo>
                        <a:pt x="160" y="169"/>
                      </a:lnTo>
                      <a:lnTo>
                        <a:pt x="150" y="165"/>
                      </a:lnTo>
                      <a:lnTo>
                        <a:pt x="141" y="165"/>
                      </a:lnTo>
                      <a:lnTo>
                        <a:pt x="131" y="162"/>
                      </a:lnTo>
                      <a:lnTo>
                        <a:pt x="122" y="159"/>
                      </a:lnTo>
                      <a:lnTo>
                        <a:pt x="109" y="156"/>
                      </a:lnTo>
                      <a:lnTo>
                        <a:pt x="99" y="153"/>
                      </a:lnTo>
                      <a:lnTo>
                        <a:pt x="93" y="149"/>
                      </a:lnTo>
                      <a:lnTo>
                        <a:pt x="86" y="146"/>
                      </a:lnTo>
                      <a:lnTo>
                        <a:pt x="77" y="143"/>
                      </a:lnTo>
                      <a:lnTo>
                        <a:pt x="71" y="140"/>
                      </a:lnTo>
                      <a:lnTo>
                        <a:pt x="64" y="137"/>
                      </a:lnTo>
                      <a:lnTo>
                        <a:pt x="61" y="134"/>
                      </a:lnTo>
                      <a:lnTo>
                        <a:pt x="55" y="130"/>
                      </a:lnTo>
                      <a:lnTo>
                        <a:pt x="48" y="127"/>
                      </a:lnTo>
                      <a:lnTo>
                        <a:pt x="45" y="124"/>
                      </a:lnTo>
                      <a:lnTo>
                        <a:pt x="39" y="121"/>
                      </a:lnTo>
                      <a:lnTo>
                        <a:pt x="32" y="118"/>
                      </a:lnTo>
                      <a:lnTo>
                        <a:pt x="26" y="114"/>
                      </a:lnTo>
                      <a:lnTo>
                        <a:pt x="20" y="111"/>
                      </a:lnTo>
                      <a:lnTo>
                        <a:pt x="13" y="108"/>
                      </a:lnTo>
                      <a:lnTo>
                        <a:pt x="7" y="102"/>
                      </a:lnTo>
                      <a:lnTo>
                        <a:pt x="4" y="98"/>
                      </a:lnTo>
                      <a:lnTo>
                        <a:pt x="0" y="92"/>
                      </a:lnTo>
                      <a:lnTo>
                        <a:pt x="0" y="89"/>
                      </a:lnTo>
                      <a:lnTo>
                        <a:pt x="0" y="86"/>
                      </a:lnTo>
                      <a:lnTo>
                        <a:pt x="0" y="79"/>
                      </a:lnTo>
                      <a:lnTo>
                        <a:pt x="4" y="76"/>
                      </a:lnTo>
                      <a:lnTo>
                        <a:pt x="10" y="73"/>
                      </a:lnTo>
                      <a:lnTo>
                        <a:pt x="13" y="67"/>
                      </a:lnTo>
                      <a:lnTo>
                        <a:pt x="20" y="63"/>
                      </a:lnTo>
                      <a:lnTo>
                        <a:pt x="29" y="60"/>
                      </a:lnTo>
                      <a:lnTo>
                        <a:pt x="35" y="57"/>
                      </a:lnTo>
                      <a:lnTo>
                        <a:pt x="45" y="54"/>
                      </a:lnTo>
                      <a:lnTo>
                        <a:pt x="55" y="47"/>
                      </a:lnTo>
                      <a:lnTo>
                        <a:pt x="64" y="44"/>
                      </a:lnTo>
                      <a:lnTo>
                        <a:pt x="77" y="41"/>
                      </a:lnTo>
                      <a:lnTo>
                        <a:pt x="86" y="38"/>
                      </a:lnTo>
                      <a:lnTo>
                        <a:pt x="99" y="35"/>
                      </a:lnTo>
                      <a:lnTo>
                        <a:pt x="109" y="31"/>
                      </a:lnTo>
                      <a:lnTo>
                        <a:pt x="122" y="28"/>
                      </a:lnTo>
                      <a:lnTo>
                        <a:pt x="134" y="25"/>
                      </a:lnTo>
                      <a:lnTo>
                        <a:pt x="144" y="25"/>
                      </a:lnTo>
                      <a:lnTo>
                        <a:pt x="157" y="22"/>
                      </a:lnTo>
                      <a:lnTo>
                        <a:pt x="166" y="19"/>
                      </a:lnTo>
                      <a:lnTo>
                        <a:pt x="179" y="16"/>
                      </a:lnTo>
                      <a:lnTo>
                        <a:pt x="189" y="16"/>
                      </a:lnTo>
                      <a:lnTo>
                        <a:pt x="198" y="12"/>
                      </a:lnTo>
                      <a:lnTo>
                        <a:pt x="208" y="12"/>
                      </a:lnTo>
                      <a:lnTo>
                        <a:pt x="214" y="9"/>
                      </a:lnTo>
                      <a:lnTo>
                        <a:pt x="220" y="9"/>
                      </a:lnTo>
                      <a:lnTo>
                        <a:pt x="227" y="9"/>
                      </a:lnTo>
                      <a:lnTo>
                        <a:pt x="230" y="9"/>
                      </a:lnTo>
                      <a:lnTo>
                        <a:pt x="268" y="6"/>
                      </a:lnTo>
                      <a:lnTo>
                        <a:pt x="316" y="3"/>
                      </a:lnTo>
                      <a:lnTo>
                        <a:pt x="367" y="3"/>
                      </a:lnTo>
                      <a:lnTo>
                        <a:pt x="424" y="0"/>
                      </a:lnTo>
                      <a:lnTo>
                        <a:pt x="488" y="0"/>
                      </a:lnTo>
                      <a:lnTo>
                        <a:pt x="555" y="0"/>
                      </a:lnTo>
                      <a:lnTo>
                        <a:pt x="628" y="0"/>
                      </a:lnTo>
                      <a:lnTo>
                        <a:pt x="708" y="3"/>
                      </a:lnTo>
                      <a:lnTo>
                        <a:pt x="788" y="3"/>
                      </a:lnTo>
                      <a:lnTo>
                        <a:pt x="874" y="6"/>
                      </a:lnTo>
                      <a:lnTo>
                        <a:pt x="963" y="6"/>
                      </a:lnTo>
                      <a:lnTo>
                        <a:pt x="1052" y="9"/>
                      </a:lnTo>
                      <a:lnTo>
                        <a:pt x="1145" y="12"/>
                      </a:lnTo>
                      <a:lnTo>
                        <a:pt x="1241" y="19"/>
                      </a:lnTo>
                      <a:lnTo>
                        <a:pt x="1336" y="22"/>
                      </a:lnTo>
                      <a:lnTo>
                        <a:pt x="1435" y="25"/>
                      </a:lnTo>
                      <a:lnTo>
                        <a:pt x="1531" y="31"/>
                      </a:lnTo>
                      <a:lnTo>
                        <a:pt x="1629" y="35"/>
                      </a:lnTo>
                      <a:lnTo>
                        <a:pt x="1725" y="41"/>
                      </a:lnTo>
                      <a:lnTo>
                        <a:pt x="1821" y="44"/>
                      </a:lnTo>
                      <a:lnTo>
                        <a:pt x="1916" y="51"/>
                      </a:lnTo>
                      <a:lnTo>
                        <a:pt x="2012" y="57"/>
                      </a:lnTo>
                      <a:lnTo>
                        <a:pt x="2101" y="63"/>
                      </a:lnTo>
                      <a:lnTo>
                        <a:pt x="2190" y="67"/>
                      </a:lnTo>
                      <a:lnTo>
                        <a:pt x="2277" y="73"/>
                      </a:lnTo>
                      <a:lnTo>
                        <a:pt x="2359" y="79"/>
                      </a:lnTo>
                      <a:lnTo>
                        <a:pt x="2439" y="86"/>
                      </a:lnTo>
                      <a:lnTo>
                        <a:pt x="2512" y="92"/>
                      </a:lnTo>
                      <a:lnTo>
                        <a:pt x="2583" y="98"/>
                      </a:lnTo>
                      <a:lnTo>
                        <a:pt x="2646" y="102"/>
                      </a:lnTo>
                      <a:lnTo>
                        <a:pt x="2707" y="108"/>
                      </a:lnTo>
                      <a:lnTo>
                        <a:pt x="2761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688720" y="2913840"/>
                  <a:ext cx="2543400" cy="745920"/>
                </a:xfrm>
                <a:custGeom>
                  <a:avLst/>
                  <a:gdLst/>
                  <a:ahLst/>
                  <a:rect l="l" t="t" r="r" b="b"/>
                  <a:pathLst>
                    <a:path w="2984" h="826">
                      <a:moveTo>
                        <a:pt x="2053" y="820"/>
                      </a:moveTo>
                      <a:lnTo>
                        <a:pt x="2059" y="820"/>
                      </a:lnTo>
                      <a:lnTo>
                        <a:pt x="2069" y="820"/>
                      </a:lnTo>
                      <a:lnTo>
                        <a:pt x="2075" y="820"/>
                      </a:lnTo>
                      <a:lnTo>
                        <a:pt x="2085" y="820"/>
                      </a:lnTo>
                      <a:lnTo>
                        <a:pt x="2091" y="820"/>
                      </a:lnTo>
                      <a:lnTo>
                        <a:pt x="2101" y="823"/>
                      </a:lnTo>
                      <a:lnTo>
                        <a:pt x="2107" y="823"/>
                      </a:lnTo>
                      <a:lnTo>
                        <a:pt x="2117" y="823"/>
                      </a:lnTo>
                      <a:lnTo>
                        <a:pt x="2123" y="823"/>
                      </a:lnTo>
                      <a:lnTo>
                        <a:pt x="2133" y="823"/>
                      </a:lnTo>
                      <a:lnTo>
                        <a:pt x="2139" y="826"/>
                      </a:lnTo>
                      <a:lnTo>
                        <a:pt x="2149" y="826"/>
                      </a:lnTo>
                      <a:lnTo>
                        <a:pt x="2155" y="826"/>
                      </a:lnTo>
                      <a:lnTo>
                        <a:pt x="2165" y="826"/>
                      </a:lnTo>
                      <a:lnTo>
                        <a:pt x="2171" y="826"/>
                      </a:lnTo>
                      <a:lnTo>
                        <a:pt x="2180" y="826"/>
                      </a:lnTo>
                      <a:lnTo>
                        <a:pt x="2190" y="826"/>
                      </a:lnTo>
                      <a:lnTo>
                        <a:pt x="2200" y="826"/>
                      </a:lnTo>
                      <a:lnTo>
                        <a:pt x="2212" y="826"/>
                      </a:lnTo>
                      <a:lnTo>
                        <a:pt x="2222" y="826"/>
                      </a:lnTo>
                      <a:lnTo>
                        <a:pt x="2231" y="826"/>
                      </a:lnTo>
                      <a:lnTo>
                        <a:pt x="2244" y="826"/>
                      </a:lnTo>
                      <a:lnTo>
                        <a:pt x="2254" y="826"/>
                      </a:lnTo>
                      <a:lnTo>
                        <a:pt x="2263" y="826"/>
                      </a:lnTo>
                      <a:lnTo>
                        <a:pt x="2276" y="826"/>
                      </a:lnTo>
                      <a:lnTo>
                        <a:pt x="2286" y="826"/>
                      </a:lnTo>
                      <a:lnTo>
                        <a:pt x="2295" y="826"/>
                      </a:lnTo>
                      <a:lnTo>
                        <a:pt x="2308" y="826"/>
                      </a:lnTo>
                      <a:lnTo>
                        <a:pt x="2318" y="826"/>
                      </a:lnTo>
                      <a:lnTo>
                        <a:pt x="2327" y="826"/>
                      </a:lnTo>
                      <a:lnTo>
                        <a:pt x="2340" y="826"/>
                      </a:lnTo>
                      <a:lnTo>
                        <a:pt x="2349" y="826"/>
                      </a:lnTo>
                      <a:lnTo>
                        <a:pt x="2359" y="826"/>
                      </a:lnTo>
                      <a:lnTo>
                        <a:pt x="2372" y="826"/>
                      </a:lnTo>
                      <a:lnTo>
                        <a:pt x="2381" y="826"/>
                      </a:lnTo>
                      <a:lnTo>
                        <a:pt x="2391" y="823"/>
                      </a:lnTo>
                      <a:lnTo>
                        <a:pt x="2404" y="823"/>
                      </a:lnTo>
                      <a:lnTo>
                        <a:pt x="2413" y="823"/>
                      </a:lnTo>
                      <a:lnTo>
                        <a:pt x="2423" y="823"/>
                      </a:lnTo>
                      <a:lnTo>
                        <a:pt x="2435" y="823"/>
                      </a:lnTo>
                      <a:lnTo>
                        <a:pt x="2445" y="823"/>
                      </a:lnTo>
                      <a:lnTo>
                        <a:pt x="2455" y="820"/>
                      </a:lnTo>
                      <a:lnTo>
                        <a:pt x="2467" y="820"/>
                      </a:lnTo>
                      <a:lnTo>
                        <a:pt x="2477" y="820"/>
                      </a:lnTo>
                      <a:lnTo>
                        <a:pt x="2487" y="820"/>
                      </a:lnTo>
                      <a:lnTo>
                        <a:pt x="2499" y="820"/>
                      </a:lnTo>
                      <a:lnTo>
                        <a:pt x="2509" y="817"/>
                      </a:lnTo>
                      <a:lnTo>
                        <a:pt x="2518" y="817"/>
                      </a:lnTo>
                      <a:lnTo>
                        <a:pt x="2525" y="817"/>
                      </a:lnTo>
                      <a:lnTo>
                        <a:pt x="2531" y="817"/>
                      </a:lnTo>
                      <a:lnTo>
                        <a:pt x="2538" y="814"/>
                      </a:lnTo>
                      <a:lnTo>
                        <a:pt x="2541" y="814"/>
                      </a:lnTo>
                      <a:lnTo>
                        <a:pt x="2547" y="814"/>
                      </a:lnTo>
                      <a:lnTo>
                        <a:pt x="2553" y="814"/>
                      </a:lnTo>
                      <a:lnTo>
                        <a:pt x="2560" y="810"/>
                      </a:lnTo>
                      <a:lnTo>
                        <a:pt x="2566" y="810"/>
                      </a:lnTo>
                      <a:lnTo>
                        <a:pt x="2569" y="810"/>
                      </a:lnTo>
                      <a:lnTo>
                        <a:pt x="2576" y="810"/>
                      </a:lnTo>
                      <a:lnTo>
                        <a:pt x="2582" y="807"/>
                      </a:lnTo>
                      <a:lnTo>
                        <a:pt x="2589" y="807"/>
                      </a:lnTo>
                      <a:lnTo>
                        <a:pt x="2592" y="804"/>
                      </a:lnTo>
                      <a:lnTo>
                        <a:pt x="2598" y="804"/>
                      </a:lnTo>
                      <a:lnTo>
                        <a:pt x="2604" y="804"/>
                      </a:lnTo>
                      <a:lnTo>
                        <a:pt x="2611" y="801"/>
                      </a:lnTo>
                      <a:lnTo>
                        <a:pt x="2617" y="798"/>
                      </a:lnTo>
                      <a:lnTo>
                        <a:pt x="2627" y="794"/>
                      </a:lnTo>
                      <a:lnTo>
                        <a:pt x="2633" y="794"/>
                      </a:lnTo>
                      <a:lnTo>
                        <a:pt x="2643" y="791"/>
                      </a:lnTo>
                      <a:lnTo>
                        <a:pt x="2649" y="788"/>
                      </a:lnTo>
                      <a:lnTo>
                        <a:pt x="2659" y="785"/>
                      </a:lnTo>
                      <a:lnTo>
                        <a:pt x="2665" y="782"/>
                      </a:lnTo>
                      <a:lnTo>
                        <a:pt x="2675" y="782"/>
                      </a:lnTo>
                      <a:lnTo>
                        <a:pt x="2681" y="779"/>
                      </a:lnTo>
                      <a:lnTo>
                        <a:pt x="2691" y="775"/>
                      </a:lnTo>
                      <a:lnTo>
                        <a:pt x="2697" y="772"/>
                      </a:lnTo>
                      <a:lnTo>
                        <a:pt x="2706" y="769"/>
                      </a:lnTo>
                      <a:lnTo>
                        <a:pt x="2713" y="766"/>
                      </a:lnTo>
                      <a:lnTo>
                        <a:pt x="2722" y="766"/>
                      </a:lnTo>
                      <a:lnTo>
                        <a:pt x="2729" y="763"/>
                      </a:lnTo>
                      <a:lnTo>
                        <a:pt x="2738" y="759"/>
                      </a:lnTo>
                      <a:lnTo>
                        <a:pt x="2745" y="756"/>
                      </a:lnTo>
                      <a:lnTo>
                        <a:pt x="2754" y="753"/>
                      </a:lnTo>
                      <a:lnTo>
                        <a:pt x="2764" y="750"/>
                      </a:lnTo>
                      <a:lnTo>
                        <a:pt x="2770" y="747"/>
                      </a:lnTo>
                      <a:lnTo>
                        <a:pt x="2780" y="743"/>
                      </a:lnTo>
                      <a:lnTo>
                        <a:pt x="2786" y="740"/>
                      </a:lnTo>
                      <a:lnTo>
                        <a:pt x="2793" y="740"/>
                      </a:lnTo>
                      <a:lnTo>
                        <a:pt x="2802" y="737"/>
                      </a:lnTo>
                      <a:lnTo>
                        <a:pt x="2812" y="734"/>
                      </a:lnTo>
                      <a:lnTo>
                        <a:pt x="2818" y="731"/>
                      </a:lnTo>
                      <a:lnTo>
                        <a:pt x="2828" y="728"/>
                      </a:lnTo>
                      <a:lnTo>
                        <a:pt x="2834" y="724"/>
                      </a:lnTo>
                      <a:lnTo>
                        <a:pt x="2844" y="721"/>
                      </a:lnTo>
                      <a:lnTo>
                        <a:pt x="2850" y="718"/>
                      </a:lnTo>
                      <a:lnTo>
                        <a:pt x="2859" y="715"/>
                      </a:lnTo>
                      <a:lnTo>
                        <a:pt x="2866" y="712"/>
                      </a:lnTo>
                      <a:lnTo>
                        <a:pt x="2872" y="712"/>
                      </a:lnTo>
                      <a:lnTo>
                        <a:pt x="2882" y="708"/>
                      </a:lnTo>
                      <a:lnTo>
                        <a:pt x="2888" y="705"/>
                      </a:lnTo>
                      <a:lnTo>
                        <a:pt x="2895" y="702"/>
                      </a:lnTo>
                      <a:lnTo>
                        <a:pt x="2904" y="702"/>
                      </a:lnTo>
                      <a:lnTo>
                        <a:pt x="2910" y="699"/>
                      </a:lnTo>
                      <a:lnTo>
                        <a:pt x="2917" y="696"/>
                      </a:lnTo>
                      <a:lnTo>
                        <a:pt x="2926" y="692"/>
                      </a:lnTo>
                      <a:lnTo>
                        <a:pt x="2933" y="689"/>
                      </a:lnTo>
                      <a:lnTo>
                        <a:pt x="2939" y="686"/>
                      </a:lnTo>
                      <a:lnTo>
                        <a:pt x="2946" y="683"/>
                      </a:lnTo>
                      <a:lnTo>
                        <a:pt x="2955" y="680"/>
                      </a:lnTo>
                      <a:lnTo>
                        <a:pt x="2961" y="676"/>
                      </a:lnTo>
                      <a:lnTo>
                        <a:pt x="2968" y="673"/>
                      </a:lnTo>
                      <a:lnTo>
                        <a:pt x="2974" y="670"/>
                      </a:lnTo>
                      <a:lnTo>
                        <a:pt x="2981" y="667"/>
                      </a:lnTo>
                      <a:lnTo>
                        <a:pt x="2984" y="664"/>
                      </a:lnTo>
                      <a:lnTo>
                        <a:pt x="2984" y="661"/>
                      </a:lnTo>
                      <a:lnTo>
                        <a:pt x="2984" y="657"/>
                      </a:lnTo>
                      <a:lnTo>
                        <a:pt x="2984" y="651"/>
                      </a:lnTo>
                      <a:lnTo>
                        <a:pt x="2981" y="648"/>
                      </a:lnTo>
                      <a:lnTo>
                        <a:pt x="2981" y="645"/>
                      </a:lnTo>
                      <a:lnTo>
                        <a:pt x="2977" y="641"/>
                      </a:lnTo>
                      <a:lnTo>
                        <a:pt x="2974" y="638"/>
                      </a:lnTo>
                      <a:lnTo>
                        <a:pt x="2968" y="632"/>
                      </a:lnTo>
                      <a:lnTo>
                        <a:pt x="2965" y="629"/>
                      </a:lnTo>
                      <a:lnTo>
                        <a:pt x="2961" y="622"/>
                      </a:lnTo>
                      <a:lnTo>
                        <a:pt x="2958" y="616"/>
                      </a:lnTo>
                      <a:lnTo>
                        <a:pt x="2955" y="610"/>
                      </a:lnTo>
                      <a:lnTo>
                        <a:pt x="2952" y="603"/>
                      </a:lnTo>
                      <a:lnTo>
                        <a:pt x="2949" y="597"/>
                      </a:lnTo>
                      <a:lnTo>
                        <a:pt x="2946" y="594"/>
                      </a:lnTo>
                      <a:lnTo>
                        <a:pt x="2946" y="587"/>
                      </a:lnTo>
                      <a:lnTo>
                        <a:pt x="2949" y="581"/>
                      </a:lnTo>
                      <a:lnTo>
                        <a:pt x="2949" y="574"/>
                      </a:lnTo>
                      <a:lnTo>
                        <a:pt x="2952" y="571"/>
                      </a:lnTo>
                      <a:lnTo>
                        <a:pt x="2952" y="565"/>
                      </a:lnTo>
                      <a:lnTo>
                        <a:pt x="2955" y="559"/>
                      </a:lnTo>
                      <a:lnTo>
                        <a:pt x="2955" y="552"/>
                      </a:lnTo>
                      <a:lnTo>
                        <a:pt x="2955" y="549"/>
                      </a:lnTo>
                      <a:lnTo>
                        <a:pt x="2958" y="539"/>
                      </a:lnTo>
                      <a:lnTo>
                        <a:pt x="2958" y="530"/>
                      </a:lnTo>
                      <a:lnTo>
                        <a:pt x="2961" y="520"/>
                      </a:lnTo>
                      <a:lnTo>
                        <a:pt x="2965" y="511"/>
                      </a:lnTo>
                      <a:lnTo>
                        <a:pt x="2965" y="501"/>
                      </a:lnTo>
                      <a:lnTo>
                        <a:pt x="2968" y="492"/>
                      </a:lnTo>
                      <a:lnTo>
                        <a:pt x="2968" y="482"/>
                      </a:lnTo>
                      <a:lnTo>
                        <a:pt x="2968" y="472"/>
                      </a:lnTo>
                      <a:lnTo>
                        <a:pt x="2965" y="463"/>
                      </a:lnTo>
                      <a:lnTo>
                        <a:pt x="2961" y="456"/>
                      </a:lnTo>
                      <a:lnTo>
                        <a:pt x="2958" y="447"/>
                      </a:lnTo>
                      <a:lnTo>
                        <a:pt x="2955" y="441"/>
                      </a:lnTo>
                      <a:lnTo>
                        <a:pt x="2949" y="431"/>
                      </a:lnTo>
                      <a:lnTo>
                        <a:pt x="2946" y="425"/>
                      </a:lnTo>
                      <a:lnTo>
                        <a:pt x="2939" y="418"/>
                      </a:lnTo>
                      <a:lnTo>
                        <a:pt x="2933" y="412"/>
                      </a:lnTo>
                      <a:lnTo>
                        <a:pt x="2923" y="405"/>
                      </a:lnTo>
                      <a:lnTo>
                        <a:pt x="2914" y="396"/>
                      </a:lnTo>
                      <a:lnTo>
                        <a:pt x="2904" y="389"/>
                      </a:lnTo>
                      <a:lnTo>
                        <a:pt x="2895" y="380"/>
                      </a:lnTo>
                      <a:lnTo>
                        <a:pt x="2885" y="374"/>
                      </a:lnTo>
                      <a:lnTo>
                        <a:pt x="2872" y="367"/>
                      </a:lnTo>
                      <a:lnTo>
                        <a:pt x="2863" y="361"/>
                      </a:lnTo>
                      <a:lnTo>
                        <a:pt x="2853" y="354"/>
                      </a:lnTo>
                      <a:lnTo>
                        <a:pt x="2844" y="348"/>
                      </a:lnTo>
                      <a:lnTo>
                        <a:pt x="2831" y="342"/>
                      </a:lnTo>
                      <a:lnTo>
                        <a:pt x="2821" y="335"/>
                      </a:lnTo>
                      <a:lnTo>
                        <a:pt x="2808" y="329"/>
                      </a:lnTo>
                      <a:lnTo>
                        <a:pt x="2799" y="323"/>
                      </a:lnTo>
                      <a:lnTo>
                        <a:pt x="2789" y="316"/>
                      </a:lnTo>
                      <a:lnTo>
                        <a:pt x="2777" y="313"/>
                      </a:lnTo>
                      <a:lnTo>
                        <a:pt x="2767" y="307"/>
                      </a:lnTo>
                      <a:lnTo>
                        <a:pt x="2754" y="300"/>
                      </a:lnTo>
                      <a:lnTo>
                        <a:pt x="2742" y="294"/>
                      </a:lnTo>
                      <a:lnTo>
                        <a:pt x="2729" y="287"/>
                      </a:lnTo>
                      <a:lnTo>
                        <a:pt x="2716" y="281"/>
                      </a:lnTo>
                      <a:lnTo>
                        <a:pt x="2703" y="275"/>
                      </a:lnTo>
                      <a:lnTo>
                        <a:pt x="2691" y="268"/>
                      </a:lnTo>
                      <a:lnTo>
                        <a:pt x="2678" y="262"/>
                      </a:lnTo>
                      <a:lnTo>
                        <a:pt x="2665" y="259"/>
                      </a:lnTo>
                      <a:lnTo>
                        <a:pt x="2652" y="252"/>
                      </a:lnTo>
                      <a:lnTo>
                        <a:pt x="2640" y="249"/>
                      </a:lnTo>
                      <a:lnTo>
                        <a:pt x="2627" y="243"/>
                      </a:lnTo>
                      <a:lnTo>
                        <a:pt x="2614" y="240"/>
                      </a:lnTo>
                      <a:lnTo>
                        <a:pt x="2601" y="233"/>
                      </a:lnTo>
                      <a:lnTo>
                        <a:pt x="2589" y="230"/>
                      </a:lnTo>
                      <a:lnTo>
                        <a:pt x="2573" y="224"/>
                      </a:lnTo>
                      <a:lnTo>
                        <a:pt x="2560" y="220"/>
                      </a:lnTo>
                      <a:lnTo>
                        <a:pt x="2550" y="217"/>
                      </a:lnTo>
                      <a:lnTo>
                        <a:pt x="2544" y="214"/>
                      </a:lnTo>
                      <a:lnTo>
                        <a:pt x="2534" y="214"/>
                      </a:lnTo>
                      <a:lnTo>
                        <a:pt x="2525" y="211"/>
                      </a:lnTo>
                      <a:lnTo>
                        <a:pt x="2515" y="208"/>
                      </a:lnTo>
                      <a:lnTo>
                        <a:pt x="2506" y="208"/>
                      </a:lnTo>
                      <a:lnTo>
                        <a:pt x="2496" y="205"/>
                      </a:lnTo>
                      <a:lnTo>
                        <a:pt x="2487" y="201"/>
                      </a:lnTo>
                      <a:lnTo>
                        <a:pt x="2477" y="201"/>
                      </a:lnTo>
                      <a:lnTo>
                        <a:pt x="2467" y="198"/>
                      </a:lnTo>
                      <a:lnTo>
                        <a:pt x="2461" y="198"/>
                      </a:lnTo>
                      <a:lnTo>
                        <a:pt x="2451" y="198"/>
                      </a:lnTo>
                      <a:lnTo>
                        <a:pt x="2442" y="195"/>
                      </a:lnTo>
                      <a:lnTo>
                        <a:pt x="2432" y="195"/>
                      </a:lnTo>
                      <a:lnTo>
                        <a:pt x="2423" y="192"/>
                      </a:lnTo>
                      <a:lnTo>
                        <a:pt x="2413" y="192"/>
                      </a:lnTo>
                      <a:lnTo>
                        <a:pt x="2407" y="192"/>
                      </a:lnTo>
                      <a:lnTo>
                        <a:pt x="2397" y="192"/>
                      </a:lnTo>
                      <a:lnTo>
                        <a:pt x="2391" y="192"/>
                      </a:lnTo>
                      <a:lnTo>
                        <a:pt x="2384" y="192"/>
                      </a:lnTo>
                      <a:lnTo>
                        <a:pt x="2375" y="192"/>
                      </a:lnTo>
                      <a:lnTo>
                        <a:pt x="2369" y="189"/>
                      </a:lnTo>
                      <a:lnTo>
                        <a:pt x="2359" y="189"/>
                      </a:lnTo>
                      <a:lnTo>
                        <a:pt x="2353" y="189"/>
                      </a:lnTo>
                      <a:lnTo>
                        <a:pt x="2343" y="189"/>
                      </a:lnTo>
                      <a:lnTo>
                        <a:pt x="2337" y="189"/>
                      </a:lnTo>
                      <a:lnTo>
                        <a:pt x="2327" y="189"/>
                      </a:lnTo>
                      <a:lnTo>
                        <a:pt x="2321" y="192"/>
                      </a:lnTo>
                      <a:lnTo>
                        <a:pt x="2311" y="192"/>
                      </a:lnTo>
                      <a:lnTo>
                        <a:pt x="2302" y="192"/>
                      </a:lnTo>
                      <a:lnTo>
                        <a:pt x="2295" y="192"/>
                      </a:lnTo>
                      <a:lnTo>
                        <a:pt x="2286" y="192"/>
                      </a:lnTo>
                      <a:lnTo>
                        <a:pt x="2279" y="192"/>
                      </a:lnTo>
                      <a:lnTo>
                        <a:pt x="2276" y="192"/>
                      </a:lnTo>
                      <a:lnTo>
                        <a:pt x="2270" y="192"/>
                      </a:lnTo>
                      <a:lnTo>
                        <a:pt x="2263" y="189"/>
                      </a:lnTo>
                      <a:lnTo>
                        <a:pt x="2260" y="189"/>
                      </a:lnTo>
                      <a:lnTo>
                        <a:pt x="2254" y="189"/>
                      </a:lnTo>
                      <a:lnTo>
                        <a:pt x="2251" y="185"/>
                      </a:lnTo>
                      <a:lnTo>
                        <a:pt x="2244" y="185"/>
                      </a:lnTo>
                      <a:lnTo>
                        <a:pt x="2235" y="182"/>
                      </a:lnTo>
                      <a:lnTo>
                        <a:pt x="2222" y="176"/>
                      </a:lnTo>
                      <a:lnTo>
                        <a:pt x="2212" y="173"/>
                      </a:lnTo>
                      <a:lnTo>
                        <a:pt x="2203" y="169"/>
                      </a:lnTo>
                      <a:lnTo>
                        <a:pt x="2193" y="166"/>
                      </a:lnTo>
                      <a:lnTo>
                        <a:pt x="2184" y="163"/>
                      </a:lnTo>
                      <a:lnTo>
                        <a:pt x="2171" y="160"/>
                      </a:lnTo>
                      <a:lnTo>
                        <a:pt x="2161" y="153"/>
                      </a:lnTo>
                      <a:lnTo>
                        <a:pt x="2152" y="150"/>
                      </a:lnTo>
                      <a:lnTo>
                        <a:pt x="2142" y="147"/>
                      </a:lnTo>
                      <a:lnTo>
                        <a:pt x="2133" y="144"/>
                      </a:lnTo>
                      <a:lnTo>
                        <a:pt x="2120" y="141"/>
                      </a:lnTo>
                      <a:lnTo>
                        <a:pt x="2110" y="138"/>
                      </a:lnTo>
                      <a:lnTo>
                        <a:pt x="2101" y="131"/>
                      </a:lnTo>
                      <a:lnTo>
                        <a:pt x="2091" y="128"/>
                      </a:lnTo>
                      <a:lnTo>
                        <a:pt x="2082" y="125"/>
                      </a:lnTo>
                      <a:lnTo>
                        <a:pt x="2069" y="122"/>
                      </a:lnTo>
                      <a:lnTo>
                        <a:pt x="2059" y="118"/>
                      </a:lnTo>
                      <a:lnTo>
                        <a:pt x="2050" y="112"/>
                      </a:lnTo>
                      <a:lnTo>
                        <a:pt x="2040" y="109"/>
                      </a:lnTo>
                      <a:lnTo>
                        <a:pt x="2031" y="106"/>
                      </a:lnTo>
                      <a:lnTo>
                        <a:pt x="2018" y="102"/>
                      </a:lnTo>
                      <a:lnTo>
                        <a:pt x="2008" y="99"/>
                      </a:lnTo>
                      <a:lnTo>
                        <a:pt x="1999" y="96"/>
                      </a:lnTo>
                      <a:lnTo>
                        <a:pt x="1989" y="93"/>
                      </a:lnTo>
                      <a:lnTo>
                        <a:pt x="1976" y="90"/>
                      </a:lnTo>
                      <a:lnTo>
                        <a:pt x="1967" y="87"/>
                      </a:lnTo>
                      <a:lnTo>
                        <a:pt x="1957" y="83"/>
                      </a:lnTo>
                      <a:lnTo>
                        <a:pt x="1948" y="77"/>
                      </a:lnTo>
                      <a:lnTo>
                        <a:pt x="1938" y="74"/>
                      </a:lnTo>
                      <a:lnTo>
                        <a:pt x="1925" y="71"/>
                      </a:lnTo>
                      <a:lnTo>
                        <a:pt x="1916" y="67"/>
                      </a:lnTo>
                      <a:lnTo>
                        <a:pt x="1910" y="67"/>
                      </a:lnTo>
                      <a:lnTo>
                        <a:pt x="1900" y="64"/>
                      </a:lnTo>
                      <a:lnTo>
                        <a:pt x="1890" y="61"/>
                      </a:lnTo>
                      <a:lnTo>
                        <a:pt x="1884" y="58"/>
                      </a:lnTo>
                      <a:lnTo>
                        <a:pt x="1874" y="58"/>
                      </a:lnTo>
                      <a:lnTo>
                        <a:pt x="1868" y="55"/>
                      </a:lnTo>
                      <a:lnTo>
                        <a:pt x="1858" y="51"/>
                      </a:lnTo>
                      <a:lnTo>
                        <a:pt x="1852" y="51"/>
                      </a:lnTo>
                      <a:lnTo>
                        <a:pt x="1843" y="48"/>
                      </a:lnTo>
                      <a:lnTo>
                        <a:pt x="1833" y="45"/>
                      </a:lnTo>
                      <a:lnTo>
                        <a:pt x="1827" y="42"/>
                      </a:lnTo>
                      <a:lnTo>
                        <a:pt x="1817" y="42"/>
                      </a:lnTo>
                      <a:lnTo>
                        <a:pt x="1811" y="39"/>
                      </a:lnTo>
                      <a:lnTo>
                        <a:pt x="1801" y="35"/>
                      </a:lnTo>
                      <a:lnTo>
                        <a:pt x="1795" y="35"/>
                      </a:lnTo>
                      <a:lnTo>
                        <a:pt x="1785" y="32"/>
                      </a:lnTo>
                      <a:lnTo>
                        <a:pt x="1776" y="32"/>
                      </a:lnTo>
                      <a:lnTo>
                        <a:pt x="1769" y="29"/>
                      </a:lnTo>
                      <a:lnTo>
                        <a:pt x="1760" y="26"/>
                      </a:lnTo>
                      <a:lnTo>
                        <a:pt x="1753" y="26"/>
                      </a:lnTo>
                      <a:lnTo>
                        <a:pt x="1744" y="23"/>
                      </a:lnTo>
                      <a:lnTo>
                        <a:pt x="1734" y="23"/>
                      </a:lnTo>
                      <a:lnTo>
                        <a:pt x="1728" y="20"/>
                      </a:lnTo>
                      <a:lnTo>
                        <a:pt x="1718" y="20"/>
                      </a:lnTo>
                      <a:lnTo>
                        <a:pt x="1712" y="16"/>
                      </a:lnTo>
                      <a:lnTo>
                        <a:pt x="1702" y="16"/>
                      </a:lnTo>
                      <a:lnTo>
                        <a:pt x="1693" y="13"/>
                      </a:lnTo>
                      <a:lnTo>
                        <a:pt x="1686" y="13"/>
                      </a:lnTo>
                      <a:lnTo>
                        <a:pt x="1677" y="10"/>
                      </a:lnTo>
                      <a:lnTo>
                        <a:pt x="1670" y="10"/>
                      </a:lnTo>
                      <a:lnTo>
                        <a:pt x="1661" y="7"/>
                      </a:lnTo>
                      <a:lnTo>
                        <a:pt x="1651" y="7"/>
                      </a:lnTo>
                      <a:lnTo>
                        <a:pt x="1639" y="7"/>
                      </a:lnTo>
                      <a:lnTo>
                        <a:pt x="1626" y="4"/>
                      </a:lnTo>
                      <a:lnTo>
                        <a:pt x="1613" y="4"/>
                      </a:lnTo>
                      <a:lnTo>
                        <a:pt x="1597" y="0"/>
                      </a:lnTo>
                      <a:lnTo>
                        <a:pt x="1584" y="0"/>
                      </a:lnTo>
                      <a:lnTo>
                        <a:pt x="1572" y="0"/>
                      </a:lnTo>
                      <a:lnTo>
                        <a:pt x="1556" y="0"/>
                      </a:lnTo>
                      <a:lnTo>
                        <a:pt x="1543" y="0"/>
                      </a:lnTo>
                      <a:lnTo>
                        <a:pt x="1530" y="0"/>
                      </a:lnTo>
                      <a:lnTo>
                        <a:pt x="1514" y="0"/>
                      </a:lnTo>
                      <a:lnTo>
                        <a:pt x="1501" y="0"/>
                      </a:lnTo>
                      <a:lnTo>
                        <a:pt x="1489" y="0"/>
                      </a:lnTo>
                      <a:lnTo>
                        <a:pt x="1473" y="0"/>
                      </a:lnTo>
                      <a:lnTo>
                        <a:pt x="1460" y="0"/>
                      </a:lnTo>
                      <a:lnTo>
                        <a:pt x="1447" y="0"/>
                      </a:lnTo>
                      <a:lnTo>
                        <a:pt x="1431" y="0"/>
                      </a:lnTo>
                      <a:lnTo>
                        <a:pt x="1422" y="4"/>
                      </a:lnTo>
                      <a:lnTo>
                        <a:pt x="1412" y="4"/>
                      </a:lnTo>
                      <a:lnTo>
                        <a:pt x="1403" y="4"/>
                      </a:lnTo>
                      <a:lnTo>
                        <a:pt x="1390" y="4"/>
                      </a:lnTo>
                      <a:lnTo>
                        <a:pt x="1380" y="4"/>
                      </a:lnTo>
                      <a:lnTo>
                        <a:pt x="1371" y="7"/>
                      </a:lnTo>
                      <a:lnTo>
                        <a:pt x="1358" y="7"/>
                      </a:lnTo>
                      <a:lnTo>
                        <a:pt x="1348" y="7"/>
                      </a:lnTo>
                      <a:lnTo>
                        <a:pt x="1339" y="7"/>
                      </a:lnTo>
                      <a:lnTo>
                        <a:pt x="1326" y="10"/>
                      </a:lnTo>
                      <a:lnTo>
                        <a:pt x="1317" y="10"/>
                      </a:lnTo>
                      <a:lnTo>
                        <a:pt x="1307" y="10"/>
                      </a:lnTo>
                      <a:lnTo>
                        <a:pt x="1297" y="10"/>
                      </a:lnTo>
                      <a:lnTo>
                        <a:pt x="1285" y="13"/>
                      </a:lnTo>
                      <a:lnTo>
                        <a:pt x="1275" y="13"/>
                      </a:lnTo>
                      <a:lnTo>
                        <a:pt x="1266" y="13"/>
                      </a:lnTo>
                      <a:lnTo>
                        <a:pt x="1253" y="16"/>
                      </a:lnTo>
                      <a:lnTo>
                        <a:pt x="1243" y="16"/>
                      </a:lnTo>
                      <a:lnTo>
                        <a:pt x="1234" y="16"/>
                      </a:lnTo>
                      <a:lnTo>
                        <a:pt x="1221" y="20"/>
                      </a:lnTo>
                      <a:lnTo>
                        <a:pt x="1211" y="20"/>
                      </a:lnTo>
                      <a:lnTo>
                        <a:pt x="1202" y="20"/>
                      </a:lnTo>
                      <a:lnTo>
                        <a:pt x="1189" y="23"/>
                      </a:lnTo>
                      <a:lnTo>
                        <a:pt x="1179" y="23"/>
                      </a:lnTo>
                      <a:lnTo>
                        <a:pt x="1170" y="26"/>
                      </a:lnTo>
                      <a:lnTo>
                        <a:pt x="1160" y="26"/>
                      </a:lnTo>
                      <a:lnTo>
                        <a:pt x="1148" y="26"/>
                      </a:lnTo>
                      <a:lnTo>
                        <a:pt x="1138" y="29"/>
                      </a:lnTo>
                      <a:lnTo>
                        <a:pt x="1128" y="29"/>
                      </a:lnTo>
                      <a:lnTo>
                        <a:pt x="1116" y="32"/>
                      </a:lnTo>
                      <a:lnTo>
                        <a:pt x="1106" y="32"/>
                      </a:lnTo>
                      <a:lnTo>
                        <a:pt x="1097" y="35"/>
                      </a:lnTo>
                      <a:lnTo>
                        <a:pt x="1087" y="35"/>
                      </a:lnTo>
                      <a:lnTo>
                        <a:pt x="1077" y="35"/>
                      </a:lnTo>
                      <a:lnTo>
                        <a:pt x="1068" y="39"/>
                      </a:lnTo>
                      <a:lnTo>
                        <a:pt x="1055" y="39"/>
                      </a:lnTo>
                      <a:lnTo>
                        <a:pt x="1046" y="42"/>
                      </a:lnTo>
                      <a:lnTo>
                        <a:pt x="1036" y="42"/>
                      </a:lnTo>
                      <a:lnTo>
                        <a:pt x="1026" y="45"/>
                      </a:lnTo>
                      <a:lnTo>
                        <a:pt x="1017" y="45"/>
                      </a:lnTo>
                      <a:lnTo>
                        <a:pt x="1007" y="48"/>
                      </a:lnTo>
                      <a:lnTo>
                        <a:pt x="998" y="48"/>
                      </a:lnTo>
                      <a:lnTo>
                        <a:pt x="988" y="51"/>
                      </a:lnTo>
                      <a:lnTo>
                        <a:pt x="979" y="51"/>
                      </a:lnTo>
                      <a:lnTo>
                        <a:pt x="969" y="55"/>
                      </a:lnTo>
                      <a:lnTo>
                        <a:pt x="956" y="55"/>
                      </a:lnTo>
                      <a:lnTo>
                        <a:pt x="947" y="58"/>
                      </a:lnTo>
                      <a:lnTo>
                        <a:pt x="937" y="58"/>
                      </a:lnTo>
                      <a:lnTo>
                        <a:pt x="928" y="61"/>
                      </a:lnTo>
                      <a:lnTo>
                        <a:pt x="918" y="64"/>
                      </a:lnTo>
                      <a:lnTo>
                        <a:pt x="909" y="64"/>
                      </a:lnTo>
                      <a:lnTo>
                        <a:pt x="899" y="67"/>
                      </a:lnTo>
                      <a:lnTo>
                        <a:pt x="889" y="67"/>
                      </a:lnTo>
                      <a:lnTo>
                        <a:pt x="880" y="71"/>
                      </a:lnTo>
                      <a:lnTo>
                        <a:pt x="870" y="74"/>
                      </a:lnTo>
                      <a:lnTo>
                        <a:pt x="861" y="74"/>
                      </a:lnTo>
                      <a:lnTo>
                        <a:pt x="851" y="77"/>
                      </a:lnTo>
                      <a:lnTo>
                        <a:pt x="842" y="77"/>
                      </a:lnTo>
                      <a:lnTo>
                        <a:pt x="832" y="80"/>
                      </a:lnTo>
                      <a:lnTo>
                        <a:pt x="819" y="83"/>
                      </a:lnTo>
                      <a:lnTo>
                        <a:pt x="810" y="83"/>
                      </a:lnTo>
                      <a:lnTo>
                        <a:pt x="800" y="87"/>
                      </a:lnTo>
                      <a:lnTo>
                        <a:pt x="791" y="87"/>
                      </a:lnTo>
                      <a:lnTo>
                        <a:pt x="781" y="90"/>
                      </a:lnTo>
                      <a:lnTo>
                        <a:pt x="775" y="90"/>
                      </a:lnTo>
                      <a:lnTo>
                        <a:pt x="765" y="93"/>
                      </a:lnTo>
                      <a:lnTo>
                        <a:pt x="759" y="93"/>
                      </a:lnTo>
                      <a:lnTo>
                        <a:pt x="749" y="96"/>
                      </a:lnTo>
                      <a:lnTo>
                        <a:pt x="743" y="96"/>
                      </a:lnTo>
                      <a:lnTo>
                        <a:pt x="733" y="99"/>
                      </a:lnTo>
                      <a:lnTo>
                        <a:pt x="727" y="102"/>
                      </a:lnTo>
                      <a:lnTo>
                        <a:pt x="717" y="102"/>
                      </a:lnTo>
                      <a:lnTo>
                        <a:pt x="711" y="106"/>
                      </a:lnTo>
                      <a:lnTo>
                        <a:pt x="701" y="106"/>
                      </a:lnTo>
                      <a:lnTo>
                        <a:pt x="695" y="109"/>
                      </a:lnTo>
                      <a:lnTo>
                        <a:pt x="685" y="112"/>
                      </a:lnTo>
                      <a:lnTo>
                        <a:pt x="679" y="112"/>
                      </a:lnTo>
                      <a:lnTo>
                        <a:pt x="669" y="115"/>
                      </a:lnTo>
                      <a:lnTo>
                        <a:pt x="663" y="115"/>
                      </a:lnTo>
                      <a:lnTo>
                        <a:pt x="653" y="118"/>
                      </a:lnTo>
                      <a:lnTo>
                        <a:pt x="647" y="118"/>
                      </a:lnTo>
                      <a:lnTo>
                        <a:pt x="638" y="122"/>
                      </a:lnTo>
                      <a:lnTo>
                        <a:pt x="628" y="125"/>
                      </a:lnTo>
                      <a:lnTo>
                        <a:pt x="615" y="125"/>
                      </a:lnTo>
                      <a:lnTo>
                        <a:pt x="606" y="128"/>
                      </a:lnTo>
                      <a:lnTo>
                        <a:pt x="593" y="131"/>
                      </a:lnTo>
                      <a:lnTo>
                        <a:pt x="583" y="134"/>
                      </a:lnTo>
                      <a:lnTo>
                        <a:pt x="571" y="134"/>
                      </a:lnTo>
                      <a:lnTo>
                        <a:pt x="558" y="138"/>
                      </a:lnTo>
                      <a:lnTo>
                        <a:pt x="545" y="141"/>
                      </a:lnTo>
                      <a:lnTo>
                        <a:pt x="532" y="144"/>
                      </a:lnTo>
                      <a:lnTo>
                        <a:pt x="520" y="147"/>
                      </a:lnTo>
                      <a:lnTo>
                        <a:pt x="507" y="150"/>
                      </a:lnTo>
                      <a:lnTo>
                        <a:pt x="494" y="150"/>
                      </a:lnTo>
                      <a:lnTo>
                        <a:pt x="481" y="157"/>
                      </a:lnTo>
                      <a:lnTo>
                        <a:pt x="469" y="160"/>
                      </a:lnTo>
                      <a:lnTo>
                        <a:pt x="453" y="160"/>
                      </a:lnTo>
                      <a:lnTo>
                        <a:pt x="437" y="160"/>
                      </a:lnTo>
                      <a:lnTo>
                        <a:pt x="424" y="160"/>
                      </a:lnTo>
                      <a:lnTo>
                        <a:pt x="408" y="163"/>
                      </a:lnTo>
                      <a:lnTo>
                        <a:pt x="392" y="163"/>
                      </a:lnTo>
                      <a:lnTo>
                        <a:pt x="379" y="166"/>
                      </a:lnTo>
                      <a:lnTo>
                        <a:pt x="363" y="166"/>
                      </a:lnTo>
                      <a:lnTo>
                        <a:pt x="347" y="169"/>
                      </a:lnTo>
                      <a:lnTo>
                        <a:pt x="332" y="169"/>
                      </a:lnTo>
                      <a:lnTo>
                        <a:pt x="316" y="173"/>
                      </a:lnTo>
                      <a:lnTo>
                        <a:pt x="303" y="173"/>
                      </a:lnTo>
                      <a:lnTo>
                        <a:pt x="287" y="176"/>
                      </a:lnTo>
                      <a:lnTo>
                        <a:pt x="271" y="179"/>
                      </a:lnTo>
                      <a:lnTo>
                        <a:pt x="258" y="182"/>
                      </a:lnTo>
                      <a:lnTo>
                        <a:pt x="242" y="182"/>
                      </a:lnTo>
                      <a:lnTo>
                        <a:pt x="226" y="185"/>
                      </a:lnTo>
                      <a:lnTo>
                        <a:pt x="214" y="189"/>
                      </a:lnTo>
                      <a:lnTo>
                        <a:pt x="198" y="189"/>
                      </a:lnTo>
                      <a:lnTo>
                        <a:pt x="185" y="192"/>
                      </a:lnTo>
                      <a:lnTo>
                        <a:pt x="169" y="195"/>
                      </a:lnTo>
                      <a:lnTo>
                        <a:pt x="156" y="198"/>
                      </a:lnTo>
                      <a:lnTo>
                        <a:pt x="140" y="198"/>
                      </a:lnTo>
                      <a:lnTo>
                        <a:pt x="127" y="201"/>
                      </a:lnTo>
                      <a:lnTo>
                        <a:pt x="115" y="205"/>
                      </a:lnTo>
                      <a:lnTo>
                        <a:pt x="102" y="208"/>
                      </a:lnTo>
                      <a:lnTo>
                        <a:pt x="89" y="211"/>
                      </a:lnTo>
                      <a:lnTo>
                        <a:pt x="76" y="211"/>
                      </a:lnTo>
                      <a:lnTo>
                        <a:pt x="64" y="214"/>
                      </a:lnTo>
                      <a:lnTo>
                        <a:pt x="54" y="217"/>
                      </a:lnTo>
                      <a:lnTo>
                        <a:pt x="41" y="220"/>
                      </a:lnTo>
                      <a:lnTo>
                        <a:pt x="32" y="220"/>
                      </a:lnTo>
                      <a:lnTo>
                        <a:pt x="19" y="224"/>
                      </a:lnTo>
                      <a:lnTo>
                        <a:pt x="19" y="227"/>
                      </a:lnTo>
                      <a:lnTo>
                        <a:pt x="16" y="230"/>
                      </a:lnTo>
                      <a:lnTo>
                        <a:pt x="13" y="233"/>
                      </a:lnTo>
                      <a:lnTo>
                        <a:pt x="10" y="236"/>
                      </a:lnTo>
                      <a:lnTo>
                        <a:pt x="6" y="240"/>
                      </a:lnTo>
                      <a:lnTo>
                        <a:pt x="3" y="243"/>
                      </a:lnTo>
                      <a:lnTo>
                        <a:pt x="3" y="246"/>
                      </a:lnTo>
                      <a:lnTo>
                        <a:pt x="3" y="252"/>
                      </a:lnTo>
                      <a:lnTo>
                        <a:pt x="0" y="275"/>
                      </a:lnTo>
                      <a:lnTo>
                        <a:pt x="0" y="300"/>
                      </a:lnTo>
                      <a:lnTo>
                        <a:pt x="0" y="326"/>
                      </a:lnTo>
                      <a:lnTo>
                        <a:pt x="3" y="348"/>
                      </a:lnTo>
                      <a:lnTo>
                        <a:pt x="10" y="370"/>
                      </a:lnTo>
                      <a:lnTo>
                        <a:pt x="13" y="389"/>
                      </a:lnTo>
                      <a:lnTo>
                        <a:pt x="16" y="412"/>
                      </a:lnTo>
                      <a:lnTo>
                        <a:pt x="22" y="431"/>
                      </a:lnTo>
                      <a:lnTo>
                        <a:pt x="29" y="450"/>
                      </a:lnTo>
                      <a:lnTo>
                        <a:pt x="35" y="472"/>
                      </a:lnTo>
                      <a:lnTo>
                        <a:pt x="45" y="488"/>
                      </a:lnTo>
                      <a:lnTo>
                        <a:pt x="54" y="507"/>
                      </a:lnTo>
                      <a:lnTo>
                        <a:pt x="57" y="514"/>
                      </a:lnTo>
                      <a:lnTo>
                        <a:pt x="64" y="523"/>
                      </a:lnTo>
                      <a:lnTo>
                        <a:pt x="70" y="530"/>
                      </a:lnTo>
                      <a:lnTo>
                        <a:pt x="73" y="536"/>
                      </a:lnTo>
                      <a:lnTo>
                        <a:pt x="80" y="543"/>
                      </a:lnTo>
                      <a:lnTo>
                        <a:pt x="86" y="549"/>
                      </a:lnTo>
                      <a:lnTo>
                        <a:pt x="92" y="555"/>
                      </a:lnTo>
                      <a:lnTo>
                        <a:pt x="99" y="559"/>
                      </a:lnTo>
                      <a:lnTo>
                        <a:pt x="105" y="565"/>
                      </a:lnTo>
                      <a:lnTo>
                        <a:pt x="112" y="571"/>
                      </a:lnTo>
                      <a:lnTo>
                        <a:pt x="118" y="578"/>
                      </a:lnTo>
                      <a:lnTo>
                        <a:pt x="127" y="581"/>
                      </a:lnTo>
                      <a:lnTo>
                        <a:pt x="134" y="587"/>
                      </a:lnTo>
                      <a:lnTo>
                        <a:pt x="140" y="590"/>
                      </a:lnTo>
                      <a:lnTo>
                        <a:pt x="147" y="597"/>
                      </a:lnTo>
                      <a:lnTo>
                        <a:pt x="156" y="600"/>
                      </a:lnTo>
                      <a:lnTo>
                        <a:pt x="163" y="606"/>
                      </a:lnTo>
                      <a:lnTo>
                        <a:pt x="169" y="610"/>
                      </a:lnTo>
                      <a:lnTo>
                        <a:pt x="175" y="613"/>
                      </a:lnTo>
                      <a:lnTo>
                        <a:pt x="182" y="616"/>
                      </a:lnTo>
                      <a:lnTo>
                        <a:pt x="188" y="619"/>
                      </a:lnTo>
                      <a:lnTo>
                        <a:pt x="198" y="622"/>
                      </a:lnTo>
                      <a:lnTo>
                        <a:pt x="204" y="625"/>
                      </a:lnTo>
                      <a:lnTo>
                        <a:pt x="210" y="629"/>
                      </a:lnTo>
                      <a:lnTo>
                        <a:pt x="217" y="632"/>
                      </a:lnTo>
                      <a:lnTo>
                        <a:pt x="226" y="635"/>
                      </a:lnTo>
                      <a:lnTo>
                        <a:pt x="233" y="638"/>
                      </a:lnTo>
                      <a:lnTo>
                        <a:pt x="239" y="641"/>
                      </a:lnTo>
                      <a:lnTo>
                        <a:pt x="249" y="641"/>
                      </a:lnTo>
                      <a:lnTo>
                        <a:pt x="255" y="645"/>
                      </a:lnTo>
                      <a:lnTo>
                        <a:pt x="265" y="648"/>
                      </a:lnTo>
                      <a:lnTo>
                        <a:pt x="271" y="648"/>
                      </a:lnTo>
                      <a:lnTo>
                        <a:pt x="281" y="651"/>
                      </a:lnTo>
                      <a:lnTo>
                        <a:pt x="290" y="654"/>
                      </a:lnTo>
                      <a:lnTo>
                        <a:pt x="300" y="657"/>
                      </a:lnTo>
                      <a:lnTo>
                        <a:pt x="309" y="657"/>
                      </a:lnTo>
                      <a:lnTo>
                        <a:pt x="319" y="661"/>
                      </a:lnTo>
                      <a:lnTo>
                        <a:pt x="328" y="664"/>
                      </a:lnTo>
                      <a:lnTo>
                        <a:pt x="338" y="667"/>
                      </a:lnTo>
                      <a:lnTo>
                        <a:pt x="347" y="667"/>
                      </a:lnTo>
                      <a:lnTo>
                        <a:pt x="357" y="670"/>
                      </a:lnTo>
                      <a:lnTo>
                        <a:pt x="367" y="673"/>
                      </a:lnTo>
                      <a:lnTo>
                        <a:pt x="376" y="676"/>
                      </a:lnTo>
                      <a:lnTo>
                        <a:pt x="386" y="676"/>
                      </a:lnTo>
                      <a:lnTo>
                        <a:pt x="395" y="680"/>
                      </a:lnTo>
                      <a:lnTo>
                        <a:pt x="405" y="683"/>
                      </a:lnTo>
                      <a:lnTo>
                        <a:pt x="414" y="683"/>
                      </a:lnTo>
                      <a:lnTo>
                        <a:pt x="424" y="686"/>
                      </a:lnTo>
                      <a:lnTo>
                        <a:pt x="437" y="689"/>
                      </a:lnTo>
                      <a:lnTo>
                        <a:pt x="446" y="689"/>
                      </a:lnTo>
                      <a:lnTo>
                        <a:pt x="456" y="692"/>
                      </a:lnTo>
                      <a:lnTo>
                        <a:pt x="465" y="696"/>
                      </a:lnTo>
                      <a:lnTo>
                        <a:pt x="475" y="696"/>
                      </a:lnTo>
                      <a:lnTo>
                        <a:pt x="485" y="699"/>
                      </a:lnTo>
                      <a:lnTo>
                        <a:pt x="494" y="699"/>
                      </a:lnTo>
                      <a:lnTo>
                        <a:pt x="504" y="702"/>
                      </a:lnTo>
                      <a:lnTo>
                        <a:pt x="513" y="705"/>
                      </a:lnTo>
                      <a:lnTo>
                        <a:pt x="523" y="705"/>
                      </a:lnTo>
                      <a:lnTo>
                        <a:pt x="532" y="708"/>
                      </a:lnTo>
                      <a:lnTo>
                        <a:pt x="542" y="708"/>
                      </a:lnTo>
                      <a:lnTo>
                        <a:pt x="551" y="712"/>
                      </a:lnTo>
                      <a:lnTo>
                        <a:pt x="564" y="712"/>
                      </a:lnTo>
                      <a:lnTo>
                        <a:pt x="574" y="715"/>
                      </a:lnTo>
                      <a:lnTo>
                        <a:pt x="583" y="715"/>
                      </a:lnTo>
                      <a:lnTo>
                        <a:pt x="596" y="718"/>
                      </a:lnTo>
                      <a:lnTo>
                        <a:pt x="609" y="718"/>
                      </a:lnTo>
                      <a:lnTo>
                        <a:pt x="622" y="721"/>
                      </a:lnTo>
                      <a:lnTo>
                        <a:pt x="634" y="721"/>
                      </a:lnTo>
                      <a:lnTo>
                        <a:pt x="647" y="724"/>
                      </a:lnTo>
                      <a:lnTo>
                        <a:pt x="660" y="724"/>
                      </a:lnTo>
                      <a:lnTo>
                        <a:pt x="673" y="724"/>
                      </a:lnTo>
                      <a:lnTo>
                        <a:pt x="689" y="728"/>
                      </a:lnTo>
                      <a:lnTo>
                        <a:pt x="701" y="728"/>
                      </a:lnTo>
                      <a:lnTo>
                        <a:pt x="714" y="728"/>
                      </a:lnTo>
                      <a:lnTo>
                        <a:pt x="727" y="728"/>
                      </a:lnTo>
                      <a:lnTo>
                        <a:pt x="740" y="731"/>
                      </a:lnTo>
                      <a:lnTo>
                        <a:pt x="752" y="731"/>
                      </a:lnTo>
                      <a:lnTo>
                        <a:pt x="765" y="731"/>
                      </a:lnTo>
                      <a:lnTo>
                        <a:pt x="778" y="734"/>
                      </a:lnTo>
                      <a:lnTo>
                        <a:pt x="794" y="734"/>
                      </a:lnTo>
                      <a:lnTo>
                        <a:pt x="803" y="734"/>
                      </a:lnTo>
                      <a:lnTo>
                        <a:pt x="816" y="737"/>
                      </a:lnTo>
                      <a:lnTo>
                        <a:pt x="829" y="737"/>
                      </a:lnTo>
                      <a:lnTo>
                        <a:pt x="842" y="737"/>
                      </a:lnTo>
                      <a:lnTo>
                        <a:pt x="851" y="740"/>
                      </a:lnTo>
                      <a:lnTo>
                        <a:pt x="864" y="740"/>
                      </a:lnTo>
                      <a:lnTo>
                        <a:pt x="877" y="743"/>
                      </a:lnTo>
                      <a:lnTo>
                        <a:pt x="889" y="743"/>
                      </a:lnTo>
                      <a:lnTo>
                        <a:pt x="902" y="743"/>
                      </a:lnTo>
                      <a:lnTo>
                        <a:pt x="912" y="747"/>
                      </a:lnTo>
                      <a:lnTo>
                        <a:pt x="924" y="747"/>
                      </a:lnTo>
                      <a:lnTo>
                        <a:pt x="937" y="747"/>
                      </a:lnTo>
                      <a:lnTo>
                        <a:pt x="950" y="750"/>
                      </a:lnTo>
                      <a:lnTo>
                        <a:pt x="960" y="750"/>
                      </a:lnTo>
                      <a:lnTo>
                        <a:pt x="972" y="753"/>
                      </a:lnTo>
                      <a:lnTo>
                        <a:pt x="985" y="753"/>
                      </a:lnTo>
                      <a:lnTo>
                        <a:pt x="998" y="753"/>
                      </a:lnTo>
                      <a:lnTo>
                        <a:pt x="1007" y="756"/>
                      </a:lnTo>
                      <a:lnTo>
                        <a:pt x="1020" y="756"/>
                      </a:lnTo>
                      <a:lnTo>
                        <a:pt x="1033" y="756"/>
                      </a:lnTo>
                      <a:lnTo>
                        <a:pt x="1046" y="759"/>
                      </a:lnTo>
                      <a:lnTo>
                        <a:pt x="1058" y="759"/>
                      </a:lnTo>
                      <a:lnTo>
                        <a:pt x="1068" y="759"/>
                      </a:lnTo>
                      <a:lnTo>
                        <a:pt x="1081" y="763"/>
                      </a:lnTo>
                      <a:lnTo>
                        <a:pt x="1093" y="763"/>
                      </a:lnTo>
                      <a:lnTo>
                        <a:pt x="1106" y="766"/>
                      </a:lnTo>
                      <a:lnTo>
                        <a:pt x="1116" y="766"/>
                      </a:lnTo>
                      <a:lnTo>
                        <a:pt x="1128" y="766"/>
                      </a:lnTo>
                      <a:lnTo>
                        <a:pt x="1141" y="766"/>
                      </a:lnTo>
                      <a:lnTo>
                        <a:pt x="1154" y="769"/>
                      </a:lnTo>
                      <a:lnTo>
                        <a:pt x="1164" y="769"/>
                      </a:lnTo>
                      <a:lnTo>
                        <a:pt x="1176" y="769"/>
                      </a:lnTo>
                      <a:lnTo>
                        <a:pt x="1186" y="772"/>
                      </a:lnTo>
                      <a:lnTo>
                        <a:pt x="1195" y="772"/>
                      </a:lnTo>
                      <a:lnTo>
                        <a:pt x="1205" y="772"/>
                      </a:lnTo>
                      <a:lnTo>
                        <a:pt x="1215" y="772"/>
                      </a:lnTo>
                      <a:lnTo>
                        <a:pt x="1221" y="772"/>
                      </a:lnTo>
                      <a:lnTo>
                        <a:pt x="1230" y="775"/>
                      </a:lnTo>
                      <a:lnTo>
                        <a:pt x="1240" y="775"/>
                      </a:lnTo>
                      <a:lnTo>
                        <a:pt x="1250" y="775"/>
                      </a:lnTo>
                      <a:lnTo>
                        <a:pt x="1259" y="775"/>
                      </a:lnTo>
                      <a:lnTo>
                        <a:pt x="1269" y="775"/>
                      </a:lnTo>
                      <a:lnTo>
                        <a:pt x="1278" y="775"/>
                      </a:lnTo>
                      <a:lnTo>
                        <a:pt x="1285" y="779"/>
                      </a:lnTo>
                      <a:lnTo>
                        <a:pt x="1294" y="779"/>
                      </a:lnTo>
                      <a:lnTo>
                        <a:pt x="1304" y="779"/>
                      </a:lnTo>
                      <a:lnTo>
                        <a:pt x="1313" y="779"/>
                      </a:lnTo>
                      <a:lnTo>
                        <a:pt x="1323" y="779"/>
                      </a:lnTo>
                      <a:lnTo>
                        <a:pt x="1332" y="779"/>
                      </a:lnTo>
                      <a:lnTo>
                        <a:pt x="1339" y="779"/>
                      </a:lnTo>
                      <a:lnTo>
                        <a:pt x="1348" y="782"/>
                      </a:lnTo>
                      <a:lnTo>
                        <a:pt x="1358" y="782"/>
                      </a:lnTo>
                      <a:lnTo>
                        <a:pt x="1368" y="782"/>
                      </a:lnTo>
                      <a:lnTo>
                        <a:pt x="1377" y="782"/>
                      </a:lnTo>
                      <a:lnTo>
                        <a:pt x="1387" y="782"/>
                      </a:lnTo>
                      <a:lnTo>
                        <a:pt x="1396" y="782"/>
                      </a:lnTo>
                      <a:lnTo>
                        <a:pt x="1403" y="782"/>
                      </a:lnTo>
                      <a:lnTo>
                        <a:pt x="1412" y="785"/>
                      </a:lnTo>
                      <a:lnTo>
                        <a:pt x="1422" y="785"/>
                      </a:lnTo>
                      <a:lnTo>
                        <a:pt x="1431" y="785"/>
                      </a:lnTo>
                      <a:lnTo>
                        <a:pt x="1441" y="785"/>
                      </a:lnTo>
                      <a:lnTo>
                        <a:pt x="1450" y="785"/>
                      </a:lnTo>
                      <a:lnTo>
                        <a:pt x="1460" y="785"/>
                      </a:lnTo>
                      <a:lnTo>
                        <a:pt x="1466" y="785"/>
                      </a:lnTo>
                      <a:lnTo>
                        <a:pt x="1479" y="788"/>
                      </a:lnTo>
                      <a:lnTo>
                        <a:pt x="1489" y="788"/>
                      </a:lnTo>
                      <a:lnTo>
                        <a:pt x="1498" y="788"/>
                      </a:lnTo>
                      <a:lnTo>
                        <a:pt x="1508" y="788"/>
                      </a:lnTo>
                      <a:lnTo>
                        <a:pt x="1517" y="788"/>
                      </a:lnTo>
                      <a:lnTo>
                        <a:pt x="1527" y="788"/>
                      </a:lnTo>
                      <a:lnTo>
                        <a:pt x="1537" y="791"/>
                      </a:lnTo>
                      <a:lnTo>
                        <a:pt x="1546" y="791"/>
                      </a:lnTo>
                      <a:lnTo>
                        <a:pt x="1559" y="791"/>
                      </a:lnTo>
                      <a:lnTo>
                        <a:pt x="1568" y="791"/>
                      </a:lnTo>
                      <a:lnTo>
                        <a:pt x="1578" y="791"/>
                      </a:lnTo>
                      <a:lnTo>
                        <a:pt x="1588" y="791"/>
                      </a:lnTo>
                      <a:lnTo>
                        <a:pt x="1597" y="794"/>
                      </a:lnTo>
                      <a:lnTo>
                        <a:pt x="1607" y="794"/>
                      </a:lnTo>
                      <a:lnTo>
                        <a:pt x="1619" y="794"/>
                      </a:lnTo>
                      <a:lnTo>
                        <a:pt x="1629" y="794"/>
                      </a:lnTo>
                      <a:lnTo>
                        <a:pt x="1639" y="794"/>
                      </a:lnTo>
                      <a:lnTo>
                        <a:pt x="1648" y="794"/>
                      </a:lnTo>
                      <a:lnTo>
                        <a:pt x="1658" y="794"/>
                      </a:lnTo>
                      <a:lnTo>
                        <a:pt x="1670" y="798"/>
                      </a:lnTo>
                      <a:lnTo>
                        <a:pt x="1680" y="798"/>
                      </a:lnTo>
                      <a:lnTo>
                        <a:pt x="1690" y="798"/>
                      </a:lnTo>
                      <a:lnTo>
                        <a:pt x="1699" y="798"/>
                      </a:lnTo>
                      <a:lnTo>
                        <a:pt x="1709" y="798"/>
                      </a:lnTo>
                      <a:lnTo>
                        <a:pt x="1718" y="801"/>
                      </a:lnTo>
                      <a:lnTo>
                        <a:pt x="1731" y="801"/>
                      </a:lnTo>
                      <a:lnTo>
                        <a:pt x="1741" y="801"/>
                      </a:lnTo>
                      <a:lnTo>
                        <a:pt x="1750" y="801"/>
                      </a:lnTo>
                      <a:lnTo>
                        <a:pt x="1760" y="801"/>
                      </a:lnTo>
                      <a:lnTo>
                        <a:pt x="1769" y="801"/>
                      </a:lnTo>
                      <a:lnTo>
                        <a:pt x="1779" y="804"/>
                      </a:lnTo>
                      <a:lnTo>
                        <a:pt x="1788" y="804"/>
                      </a:lnTo>
                      <a:lnTo>
                        <a:pt x="1798" y="804"/>
                      </a:lnTo>
                      <a:lnTo>
                        <a:pt x="1807" y="804"/>
                      </a:lnTo>
                      <a:lnTo>
                        <a:pt x="1814" y="804"/>
                      </a:lnTo>
                      <a:lnTo>
                        <a:pt x="1823" y="804"/>
                      </a:lnTo>
                      <a:lnTo>
                        <a:pt x="1830" y="804"/>
                      </a:lnTo>
                      <a:lnTo>
                        <a:pt x="1839" y="807"/>
                      </a:lnTo>
                      <a:lnTo>
                        <a:pt x="1846" y="807"/>
                      </a:lnTo>
                      <a:lnTo>
                        <a:pt x="1855" y="807"/>
                      </a:lnTo>
                      <a:lnTo>
                        <a:pt x="1865" y="807"/>
                      </a:lnTo>
                      <a:lnTo>
                        <a:pt x="1871" y="807"/>
                      </a:lnTo>
                      <a:lnTo>
                        <a:pt x="1881" y="807"/>
                      </a:lnTo>
                      <a:lnTo>
                        <a:pt x="1887" y="807"/>
                      </a:lnTo>
                      <a:lnTo>
                        <a:pt x="1897" y="810"/>
                      </a:lnTo>
                      <a:lnTo>
                        <a:pt x="1906" y="810"/>
                      </a:lnTo>
                      <a:lnTo>
                        <a:pt x="1913" y="810"/>
                      </a:lnTo>
                      <a:lnTo>
                        <a:pt x="1922" y="810"/>
                      </a:lnTo>
                      <a:lnTo>
                        <a:pt x="1929" y="810"/>
                      </a:lnTo>
                      <a:lnTo>
                        <a:pt x="1938" y="810"/>
                      </a:lnTo>
                      <a:lnTo>
                        <a:pt x="1948" y="814"/>
                      </a:lnTo>
                      <a:lnTo>
                        <a:pt x="1954" y="814"/>
                      </a:lnTo>
                      <a:lnTo>
                        <a:pt x="1964" y="814"/>
                      </a:lnTo>
                      <a:lnTo>
                        <a:pt x="1970" y="814"/>
                      </a:lnTo>
                      <a:lnTo>
                        <a:pt x="1980" y="814"/>
                      </a:lnTo>
                      <a:lnTo>
                        <a:pt x="1986" y="814"/>
                      </a:lnTo>
                      <a:lnTo>
                        <a:pt x="1996" y="814"/>
                      </a:lnTo>
                      <a:lnTo>
                        <a:pt x="2005" y="817"/>
                      </a:lnTo>
                      <a:lnTo>
                        <a:pt x="2012" y="817"/>
                      </a:lnTo>
                      <a:lnTo>
                        <a:pt x="2021" y="817"/>
                      </a:lnTo>
                      <a:lnTo>
                        <a:pt x="2027" y="817"/>
                      </a:lnTo>
                      <a:lnTo>
                        <a:pt x="2037" y="817"/>
                      </a:lnTo>
                      <a:lnTo>
                        <a:pt x="2043" y="817"/>
                      </a:lnTo>
                      <a:lnTo>
                        <a:pt x="2053" y="82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688720" y="3141360"/>
                  <a:ext cx="2543400" cy="518400"/>
                </a:xfrm>
                <a:custGeom>
                  <a:avLst/>
                  <a:gdLst/>
                  <a:ahLst/>
                  <a:rect l="l" t="t" r="r" b="b"/>
                  <a:pathLst>
                    <a:path w="2984" h="574">
                      <a:moveTo>
                        <a:pt x="2946" y="342"/>
                      </a:moveTo>
                      <a:lnTo>
                        <a:pt x="2949" y="345"/>
                      </a:lnTo>
                      <a:lnTo>
                        <a:pt x="2955" y="351"/>
                      </a:lnTo>
                      <a:lnTo>
                        <a:pt x="2958" y="358"/>
                      </a:lnTo>
                      <a:lnTo>
                        <a:pt x="2961" y="364"/>
                      </a:lnTo>
                      <a:lnTo>
                        <a:pt x="2965" y="367"/>
                      </a:lnTo>
                      <a:lnTo>
                        <a:pt x="2968" y="373"/>
                      </a:lnTo>
                      <a:lnTo>
                        <a:pt x="2971" y="380"/>
                      </a:lnTo>
                      <a:lnTo>
                        <a:pt x="2974" y="386"/>
                      </a:lnTo>
                      <a:lnTo>
                        <a:pt x="2977" y="389"/>
                      </a:lnTo>
                      <a:lnTo>
                        <a:pt x="2977" y="393"/>
                      </a:lnTo>
                      <a:lnTo>
                        <a:pt x="2981" y="396"/>
                      </a:lnTo>
                      <a:lnTo>
                        <a:pt x="2984" y="402"/>
                      </a:lnTo>
                      <a:lnTo>
                        <a:pt x="2984" y="405"/>
                      </a:lnTo>
                      <a:lnTo>
                        <a:pt x="2984" y="409"/>
                      </a:lnTo>
                      <a:lnTo>
                        <a:pt x="2984" y="412"/>
                      </a:lnTo>
                      <a:lnTo>
                        <a:pt x="2981" y="415"/>
                      </a:lnTo>
                      <a:lnTo>
                        <a:pt x="2974" y="418"/>
                      </a:lnTo>
                      <a:lnTo>
                        <a:pt x="2968" y="421"/>
                      </a:lnTo>
                      <a:lnTo>
                        <a:pt x="2961" y="424"/>
                      </a:lnTo>
                      <a:lnTo>
                        <a:pt x="2955" y="428"/>
                      </a:lnTo>
                      <a:lnTo>
                        <a:pt x="2946" y="431"/>
                      </a:lnTo>
                      <a:lnTo>
                        <a:pt x="2939" y="434"/>
                      </a:lnTo>
                      <a:lnTo>
                        <a:pt x="2933" y="437"/>
                      </a:lnTo>
                      <a:lnTo>
                        <a:pt x="2926" y="440"/>
                      </a:lnTo>
                      <a:lnTo>
                        <a:pt x="2917" y="444"/>
                      </a:lnTo>
                      <a:lnTo>
                        <a:pt x="2910" y="447"/>
                      </a:lnTo>
                      <a:lnTo>
                        <a:pt x="2904" y="450"/>
                      </a:lnTo>
                      <a:lnTo>
                        <a:pt x="2895" y="450"/>
                      </a:lnTo>
                      <a:lnTo>
                        <a:pt x="2888" y="453"/>
                      </a:lnTo>
                      <a:lnTo>
                        <a:pt x="2882" y="456"/>
                      </a:lnTo>
                      <a:lnTo>
                        <a:pt x="2875" y="460"/>
                      </a:lnTo>
                      <a:lnTo>
                        <a:pt x="2866" y="460"/>
                      </a:lnTo>
                      <a:lnTo>
                        <a:pt x="2859" y="463"/>
                      </a:lnTo>
                      <a:lnTo>
                        <a:pt x="2850" y="466"/>
                      </a:lnTo>
                      <a:lnTo>
                        <a:pt x="2844" y="469"/>
                      </a:lnTo>
                      <a:lnTo>
                        <a:pt x="2834" y="472"/>
                      </a:lnTo>
                      <a:lnTo>
                        <a:pt x="2828" y="476"/>
                      </a:lnTo>
                      <a:lnTo>
                        <a:pt x="2818" y="479"/>
                      </a:lnTo>
                      <a:lnTo>
                        <a:pt x="2812" y="482"/>
                      </a:lnTo>
                      <a:lnTo>
                        <a:pt x="2802" y="485"/>
                      </a:lnTo>
                      <a:lnTo>
                        <a:pt x="2796" y="488"/>
                      </a:lnTo>
                      <a:lnTo>
                        <a:pt x="2786" y="491"/>
                      </a:lnTo>
                      <a:lnTo>
                        <a:pt x="2780" y="491"/>
                      </a:lnTo>
                      <a:lnTo>
                        <a:pt x="2770" y="495"/>
                      </a:lnTo>
                      <a:lnTo>
                        <a:pt x="2764" y="498"/>
                      </a:lnTo>
                      <a:lnTo>
                        <a:pt x="2754" y="501"/>
                      </a:lnTo>
                      <a:lnTo>
                        <a:pt x="2748" y="504"/>
                      </a:lnTo>
                      <a:lnTo>
                        <a:pt x="2738" y="507"/>
                      </a:lnTo>
                      <a:lnTo>
                        <a:pt x="2732" y="511"/>
                      </a:lnTo>
                      <a:lnTo>
                        <a:pt x="2722" y="514"/>
                      </a:lnTo>
                      <a:lnTo>
                        <a:pt x="2716" y="514"/>
                      </a:lnTo>
                      <a:lnTo>
                        <a:pt x="2706" y="517"/>
                      </a:lnTo>
                      <a:lnTo>
                        <a:pt x="2700" y="520"/>
                      </a:lnTo>
                      <a:lnTo>
                        <a:pt x="2691" y="523"/>
                      </a:lnTo>
                      <a:lnTo>
                        <a:pt x="2684" y="527"/>
                      </a:lnTo>
                      <a:lnTo>
                        <a:pt x="2675" y="530"/>
                      </a:lnTo>
                      <a:lnTo>
                        <a:pt x="2665" y="530"/>
                      </a:lnTo>
                      <a:lnTo>
                        <a:pt x="2659" y="533"/>
                      </a:lnTo>
                      <a:lnTo>
                        <a:pt x="2649" y="536"/>
                      </a:lnTo>
                      <a:lnTo>
                        <a:pt x="2643" y="539"/>
                      </a:lnTo>
                      <a:lnTo>
                        <a:pt x="2633" y="542"/>
                      </a:lnTo>
                      <a:lnTo>
                        <a:pt x="2627" y="542"/>
                      </a:lnTo>
                      <a:lnTo>
                        <a:pt x="2617" y="546"/>
                      </a:lnTo>
                      <a:lnTo>
                        <a:pt x="2611" y="549"/>
                      </a:lnTo>
                      <a:lnTo>
                        <a:pt x="2604" y="552"/>
                      </a:lnTo>
                      <a:lnTo>
                        <a:pt x="2598" y="552"/>
                      </a:lnTo>
                      <a:lnTo>
                        <a:pt x="2592" y="552"/>
                      </a:lnTo>
                      <a:lnTo>
                        <a:pt x="2589" y="555"/>
                      </a:lnTo>
                      <a:lnTo>
                        <a:pt x="2582" y="555"/>
                      </a:lnTo>
                      <a:lnTo>
                        <a:pt x="2576" y="558"/>
                      </a:lnTo>
                      <a:lnTo>
                        <a:pt x="2569" y="558"/>
                      </a:lnTo>
                      <a:lnTo>
                        <a:pt x="2566" y="558"/>
                      </a:lnTo>
                      <a:lnTo>
                        <a:pt x="2560" y="558"/>
                      </a:lnTo>
                      <a:lnTo>
                        <a:pt x="2553" y="562"/>
                      </a:lnTo>
                      <a:lnTo>
                        <a:pt x="2547" y="562"/>
                      </a:lnTo>
                      <a:lnTo>
                        <a:pt x="2541" y="562"/>
                      </a:lnTo>
                      <a:lnTo>
                        <a:pt x="2538" y="562"/>
                      </a:lnTo>
                      <a:lnTo>
                        <a:pt x="2531" y="565"/>
                      </a:lnTo>
                      <a:lnTo>
                        <a:pt x="2525" y="565"/>
                      </a:lnTo>
                      <a:lnTo>
                        <a:pt x="2518" y="565"/>
                      </a:lnTo>
                      <a:lnTo>
                        <a:pt x="2509" y="565"/>
                      </a:lnTo>
                      <a:lnTo>
                        <a:pt x="2499" y="568"/>
                      </a:lnTo>
                      <a:lnTo>
                        <a:pt x="2487" y="568"/>
                      </a:lnTo>
                      <a:lnTo>
                        <a:pt x="2477" y="568"/>
                      </a:lnTo>
                      <a:lnTo>
                        <a:pt x="2467" y="568"/>
                      </a:lnTo>
                      <a:lnTo>
                        <a:pt x="2455" y="568"/>
                      </a:lnTo>
                      <a:lnTo>
                        <a:pt x="2445" y="571"/>
                      </a:lnTo>
                      <a:lnTo>
                        <a:pt x="2435" y="571"/>
                      </a:lnTo>
                      <a:lnTo>
                        <a:pt x="2423" y="571"/>
                      </a:lnTo>
                      <a:lnTo>
                        <a:pt x="2413" y="571"/>
                      </a:lnTo>
                      <a:lnTo>
                        <a:pt x="2404" y="571"/>
                      </a:lnTo>
                      <a:lnTo>
                        <a:pt x="2391" y="571"/>
                      </a:lnTo>
                      <a:lnTo>
                        <a:pt x="2381" y="574"/>
                      </a:lnTo>
                      <a:lnTo>
                        <a:pt x="2372" y="574"/>
                      </a:lnTo>
                      <a:lnTo>
                        <a:pt x="2359" y="574"/>
                      </a:lnTo>
                      <a:lnTo>
                        <a:pt x="2349" y="574"/>
                      </a:lnTo>
                      <a:lnTo>
                        <a:pt x="2340" y="574"/>
                      </a:lnTo>
                      <a:lnTo>
                        <a:pt x="2327" y="574"/>
                      </a:lnTo>
                      <a:lnTo>
                        <a:pt x="2318" y="574"/>
                      </a:lnTo>
                      <a:lnTo>
                        <a:pt x="2308" y="574"/>
                      </a:lnTo>
                      <a:lnTo>
                        <a:pt x="2295" y="574"/>
                      </a:lnTo>
                      <a:lnTo>
                        <a:pt x="2286" y="574"/>
                      </a:lnTo>
                      <a:lnTo>
                        <a:pt x="2276" y="574"/>
                      </a:lnTo>
                      <a:lnTo>
                        <a:pt x="2263" y="574"/>
                      </a:lnTo>
                      <a:lnTo>
                        <a:pt x="2254" y="574"/>
                      </a:lnTo>
                      <a:lnTo>
                        <a:pt x="2244" y="574"/>
                      </a:lnTo>
                      <a:lnTo>
                        <a:pt x="2231" y="574"/>
                      </a:lnTo>
                      <a:lnTo>
                        <a:pt x="2222" y="574"/>
                      </a:lnTo>
                      <a:lnTo>
                        <a:pt x="2212" y="574"/>
                      </a:lnTo>
                      <a:lnTo>
                        <a:pt x="2200" y="574"/>
                      </a:lnTo>
                      <a:lnTo>
                        <a:pt x="2190" y="574"/>
                      </a:lnTo>
                      <a:lnTo>
                        <a:pt x="2180" y="574"/>
                      </a:lnTo>
                      <a:lnTo>
                        <a:pt x="2171" y="574"/>
                      </a:lnTo>
                      <a:lnTo>
                        <a:pt x="2165" y="574"/>
                      </a:lnTo>
                      <a:lnTo>
                        <a:pt x="2155" y="574"/>
                      </a:lnTo>
                      <a:lnTo>
                        <a:pt x="2149" y="574"/>
                      </a:lnTo>
                      <a:lnTo>
                        <a:pt x="2139" y="574"/>
                      </a:lnTo>
                      <a:lnTo>
                        <a:pt x="2133" y="571"/>
                      </a:lnTo>
                      <a:lnTo>
                        <a:pt x="2123" y="571"/>
                      </a:lnTo>
                      <a:lnTo>
                        <a:pt x="2117" y="571"/>
                      </a:lnTo>
                      <a:lnTo>
                        <a:pt x="2107" y="571"/>
                      </a:lnTo>
                      <a:lnTo>
                        <a:pt x="2101" y="571"/>
                      </a:lnTo>
                      <a:lnTo>
                        <a:pt x="2094" y="568"/>
                      </a:lnTo>
                      <a:lnTo>
                        <a:pt x="2085" y="568"/>
                      </a:lnTo>
                      <a:lnTo>
                        <a:pt x="2078" y="568"/>
                      </a:lnTo>
                      <a:lnTo>
                        <a:pt x="2069" y="568"/>
                      </a:lnTo>
                      <a:lnTo>
                        <a:pt x="2063" y="568"/>
                      </a:lnTo>
                      <a:lnTo>
                        <a:pt x="2053" y="568"/>
                      </a:lnTo>
                      <a:lnTo>
                        <a:pt x="2047" y="565"/>
                      </a:lnTo>
                      <a:lnTo>
                        <a:pt x="2037" y="565"/>
                      </a:lnTo>
                      <a:lnTo>
                        <a:pt x="2031" y="565"/>
                      </a:lnTo>
                      <a:lnTo>
                        <a:pt x="2021" y="565"/>
                      </a:lnTo>
                      <a:lnTo>
                        <a:pt x="2012" y="565"/>
                      </a:lnTo>
                      <a:lnTo>
                        <a:pt x="2005" y="565"/>
                      </a:lnTo>
                      <a:lnTo>
                        <a:pt x="1996" y="562"/>
                      </a:lnTo>
                      <a:lnTo>
                        <a:pt x="1989" y="562"/>
                      </a:lnTo>
                      <a:lnTo>
                        <a:pt x="1980" y="562"/>
                      </a:lnTo>
                      <a:lnTo>
                        <a:pt x="1970" y="562"/>
                      </a:lnTo>
                      <a:lnTo>
                        <a:pt x="1964" y="562"/>
                      </a:lnTo>
                      <a:lnTo>
                        <a:pt x="1954" y="562"/>
                      </a:lnTo>
                      <a:lnTo>
                        <a:pt x="1948" y="562"/>
                      </a:lnTo>
                      <a:lnTo>
                        <a:pt x="1938" y="558"/>
                      </a:lnTo>
                      <a:lnTo>
                        <a:pt x="1932" y="558"/>
                      </a:lnTo>
                      <a:lnTo>
                        <a:pt x="1922" y="558"/>
                      </a:lnTo>
                      <a:lnTo>
                        <a:pt x="1913" y="558"/>
                      </a:lnTo>
                      <a:lnTo>
                        <a:pt x="1906" y="558"/>
                      </a:lnTo>
                      <a:lnTo>
                        <a:pt x="1897" y="558"/>
                      </a:lnTo>
                      <a:lnTo>
                        <a:pt x="1890" y="555"/>
                      </a:lnTo>
                      <a:lnTo>
                        <a:pt x="1881" y="555"/>
                      </a:lnTo>
                      <a:lnTo>
                        <a:pt x="1871" y="555"/>
                      </a:lnTo>
                      <a:lnTo>
                        <a:pt x="1865" y="555"/>
                      </a:lnTo>
                      <a:lnTo>
                        <a:pt x="1855" y="555"/>
                      </a:lnTo>
                      <a:lnTo>
                        <a:pt x="1849" y="555"/>
                      </a:lnTo>
                      <a:lnTo>
                        <a:pt x="1839" y="555"/>
                      </a:lnTo>
                      <a:lnTo>
                        <a:pt x="1833" y="552"/>
                      </a:lnTo>
                      <a:lnTo>
                        <a:pt x="1823" y="552"/>
                      </a:lnTo>
                      <a:lnTo>
                        <a:pt x="1814" y="552"/>
                      </a:lnTo>
                      <a:lnTo>
                        <a:pt x="1807" y="552"/>
                      </a:lnTo>
                      <a:lnTo>
                        <a:pt x="1798" y="552"/>
                      </a:lnTo>
                      <a:lnTo>
                        <a:pt x="1792" y="552"/>
                      </a:lnTo>
                      <a:lnTo>
                        <a:pt x="1779" y="552"/>
                      </a:lnTo>
                      <a:lnTo>
                        <a:pt x="1769" y="549"/>
                      </a:lnTo>
                      <a:lnTo>
                        <a:pt x="1760" y="549"/>
                      </a:lnTo>
                      <a:lnTo>
                        <a:pt x="1750" y="549"/>
                      </a:lnTo>
                      <a:lnTo>
                        <a:pt x="1741" y="549"/>
                      </a:lnTo>
                      <a:lnTo>
                        <a:pt x="1731" y="549"/>
                      </a:lnTo>
                      <a:lnTo>
                        <a:pt x="1718" y="549"/>
                      </a:lnTo>
                      <a:lnTo>
                        <a:pt x="1709" y="546"/>
                      </a:lnTo>
                      <a:lnTo>
                        <a:pt x="1699" y="546"/>
                      </a:lnTo>
                      <a:lnTo>
                        <a:pt x="1690" y="546"/>
                      </a:lnTo>
                      <a:lnTo>
                        <a:pt x="1680" y="546"/>
                      </a:lnTo>
                      <a:lnTo>
                        <a:pt x="1670" y="546"/>
                      </a:lnTo>
                      <a:lnTo>
                        <a:pt x="1658" y="542"/>
                      </a:lnTo>
                      <a:lnTo>
                        <a:pt x="1648" y="542"/>
                      </a:lnTo>
                      <a:lnTo>
                        <a:pt x="1639" y="542"/>
                      </a:lnTo>
                      <a:lnTo>
                        <a:pt x="1629" y="542"/>
                      </a:lnTo>
                      <a:lnTo>
                        <a:pt x="1619" y="542"/>
                      </a:lnTo>
                      <a:lnTo>
                        <a:pt x="1610" y="542"/>
                      </a:lnTo>
                      <a:lnTo>
                        <a:pt x="1597" y="542"/>
                      </a:lnTo>
                      <a:lnTo>
                        <a:pt x="1588" y="539"/>
                      </a:lnTo>
                      <a:lnTo>
                        <a:pt x="1578" y="539"/>
                      </a:lnTo>
                      <a:lnTo>
                        <a:pt x="1568" y="539"/>
                      </a:lnTo>
                      <a:lnTo>
                        <a:pt x="1559" y="539"/>
                      </a:lnTo>
                      <a:lnTo>
                        <a:pt x="1549" y="539"/>
                      </a:lnTo>
                      <a:lnTo>
                        <a:pt x="1537" y="539"/>
                      </a:lnTo>
                      <a:lnTo>
                        <a:pt x="1527" y="536"/>
                      </a:lnTo>
                      <a:lnTo>
                        <a:pt x="1517" y="536"/>
                      </a:lnTo>
                      <a:lnTo>
                        <a:pt x="1508" y="536"/>
                      </a:lnTo>
                      <a:lnTo>
                        <a:pt x="1498" y="536"/>
                      </a:lnTo>
                      <a:lnTo>
                        <a:pt x="1489" y="536"/>
                      </a:lnTo>
                      <a:lnTo>
                        <a:pt x="1479" y="536"/>
                      </a:lnTo>
                      <a:lnTo>
                        <a:pt x="1466" y="533"/>
                      </a:lnTo>
                      <a:lnTo>
                        <a:pt x="1460" y="533"/>
                      </a:lnTo>
                      <a:lnTo>
                        <a:pt x="1450" y="533"/>
                      </a:lnTo>
                      <a:lnTo>
                        <a:pt x="1441" y="533"/>
                      </a:lnTo>
                      <a:lnTo>
                        <a:pt x="1431" y="533"/>
                      </a:lnTo>
                      <a:lnTo>
                        <a:pt x="1422" y="533"/>
                      </a:lnTo>
                      <a:lnTo>
                        <a:pt x="1412" y="533"/>
                      </a:lnTo>
                      <a:lnTo>
                        <a:pt x="1403" y="530"/>
                      </a:lnTo>
                      <a:lnTo>
                        <a:pt x="1396" y="530"/>
                      </a:lnTo>
                      <a:lnTo>
                        <a:pt x="1387" y="530"/>
                      </a:lnTo>
                      <a:lnTo>
                        <a:pt x="1377" y="530"/>
                      </a:lnTo>
                      <a:lnTo>
                        <a:pt x="1368" y="530"/>
                      </a:lnTo>
                      <a:lnTo>
                        <a:pt x="1358" y="530"/>
                      </a:lnTo>
                      <a:lnTo>
                        <a:pt x="1348" y="530"/>
                      </a:lnTo>
                      <a:lnTo>
                        <a:pt x="1342" y="527"/>
                      </a:lnTo>
                      <a:lnTo>
                        <a:pt x="1332" y="527"/>
                      </a:lnTo>
                      <a:lnTo>
                        <a:pt x="1323" y="527"/>
                      </a:lnTo>
                      <a:lnTo>
                        <a:pt x="1313" y="527"/>
                      </a:lnTo>
                      <a:lnTo>
                        <a:pt x="1304" y="527"/>
                      </a:lnTo>
                      <a:lnTo>
                        <a:pt x="1294" y="527"/>
                      </a:lnTo>
                      <a:lnTo>
                        <a:pt x="1285" y="527"/>
                      </a:lnTo>
                      <a:lnTo>
                        <a:pt x="1278" y="523"/>
                      </a:lnTo>
                      <a:lnTo>
                        <a:pt x="1269" y="523"/>
                      </a:lnTo>
                      <a:lnTo>
                        <a:pt x="1259" y="523"/>
                      </a:lnTo>
                      <a:lnTo>
                        <a:pt x="1250" y="523"/>
                      </a:lnTo>
                      <a:lnTo>
                        <a:pt x="1240" y="523"/>
                      </a:lnTo>
                      <a:lnTo>
                        <a:pt x="1230" y="523"/>
                      </a:lnTo>
                      <a:lnTo>
                        <a:pt x="1221" y="520"/>
                      </a:lnTo>
                      <a:lnTo>
                        <a:pt x="1215" y="520"/>
                      </a:lnTo>
                      <a:lnTo>
                        <a:pt x="1205" y="520"/>
                      </a:lnTo>
                      <a:lnTo>
                        <a:pt x="1195" y="520"/>
                      </a:lnTo>
                      <a:lnTo>
                        <a:pt x="1186" y="520"/>
                      </a:lnTo>
                      <a:lnTo>
                        <a:pt x="1176" y="517"/>
                      </a:lnTo>
                      <a:lnTo>
                        <a:pt x="1167" y="517"/>
                      </a:lnTo>
                      <a:lnTo>
                        <a:pt x="1154" y="517"/>
                      </a:lnTo>
                      <a:lnTo>
                        <a:pt x="1141" y="514"/>
                      </a:lnTo>
                      <a:lnTo>
                        <a:pt x="1128" y="514"/>
                      </a:lnTo>
                      <a:lnTo>
                        <a:pt x="1119" y="514"/>
                      </a:lnTo>
                      <a:lnTo>
                        <a:pt x="1106" y="514"/>
                      </a:lnTo>
                      <a:lnTo>
                        <a:pt x="1093" y="511"/>
                      </a:lnTo>
                      <a:lnTo>
                        <a:pt x="1081" y="511"/>
                      </a:lnTo>
                      <a:lnTo>
                        <a:pt x="1068" y="507"/>
                      </a:lnTo>
                      <a:lnTo>
                        <a:pt x="1058" y="507"/>
                      </a:lnTo>
                      <a:lnTo>
                        <a:pt x="1046" y="507"/>
                      </a:lnTo>
                      <a:lnTo>
                        <a:pt x="1033" y="504"/>
                      </a:lnTo>
                      <a:lnTo>
                        <a:pt x="1020" y="504"/>
                      </a:lnTo>
                      <a:lnTo>
                        <a:pt x="1011" y="504"/>
                      </a:lnTo>
                      <a:lnTo>
                        <a:pt x="998" y="501"/>
                      </a:lnTo>
                      <a:lnTo>
                        <a:pt x="985" y="501"/>
                      </a:lnTo>
                      <a:lnTo>
                        <a:pt x="972" y="501"/>
                      </a:lnTo>
                      <a:lnTo>
                        <a:pt x="963" y="498"/>
                      </a:lnTo>
                      <a:lnTo>
                        <a:pt x="950" y="498"/>
                      </a:lnTo>
                      <a:lnTo>
                        <a:pt x="937" y="495"/>
                      </a:lnTo>
                      <a:lnTo>
                        <a:pt x="924" y="495"/>
                      </a:lnTo>
                      <a:lnTo>
                        <a:pt x="915" y="495"/>
                      </a:lnTo>
                      <a:lnTo>
                        <a:pt x="902" y="491"/>
                      </a:lnTo>
                      <a:lnTo>
                        <a:pt x="889" y="491"/>
                      </a:lnTo>
                      <a:lnTo>
                        <a:pt x="877" y="491"/>
                      </a:lnTo>
                      <a:lnTo>
                        <a:pt x="864" y="488"/>
                      </a:lnTo>
                      <a:lnTo>
                        <a:pt x="854" y="488"/>
                      </a:lnTo>
                      <a:lnTo>
                        <a:pt x="842" y="485"/>
                      </a:lnTo>
                      <a:lnTo>
                        <a:pt x="829" y="485"/>
                      </a:lnTo>
                      <a:lnTo>
                        <a:pt x="816" y="485"/>
                      </a:lnTo>
                      <a:lnTo>
                        <a:pt x="806" y="482"/>
                      </a:lnTo>
                      <a:lnTo>
                        <a:pt x="794" y="482"/>
                      </a:lnTo>
                      <a:lnTo>
                        <a:pt x="781" y="482"/>
                      </a:lnTo>
                      <a:lnTo>
                        <a:pt x="768" y="479"/>
                      </a:lnTo>
                      <a:lnTo>
                        <a:pt x="752" y="479"/>
                      </a:lnTo>
                      <a:lnTo>
                        <a:pt x="740" y="479"/>
                      </a:lnTo>
                      <a:lnTo>
                        <a:pt x="727" y="476"/>
                      </a:lnTo>
                      <a:lnTo>
                        <a:pt x="714" y="476"/>
                      </a:lnTo>
                      <a:lnTo>
                        <a:pt x="701" y="476"/>
                      </a:lnTo>
                      <a:lnTo>
                        <a:pt x="689" y="476"/>
                      </a:lnTo>
                      <a:lnTo>
                        <a:pt x="673" y="472"/>
                      </a:lnTo>
                      <a:lnTo>
                        <a:pt x="660" y="472"/>
                      </a:lnTo>
                      <a:lnTo>
                        <a:pt x="647" y="472"/>
                      </a:lnTo>
                      <a:lnTo>
                        <a:pt x="634" y="469"/>
                      </a:lnTo>
                      <a:lnTo>
                        <a:pt x="622" y="469"/>
                      </a:lnTo>
                      <a:lnTo>
                        <a:pt x="609" y="466"/>
                      </a:lnTo>
                      <a:lnTo>
                        <a:pt x="596" y="466"/>
                      </a:lnTo>
                      <a:lnTo>
                        <a:pt x="583" y="463"/>
                      </a:lnTo>
                      <a:lnTo>
                        <a:pt x="574" y="463"/>
                      </a:lnTo>
                      <a:lnTo>
                        <a:pt x="564" y="460"/>
                      </a:lnTo>
                      <a:lnTo>
                        <a:pt x="551" y="460"/>
                      </a:lnTo>
                      <a:lnTo>
                        <a:pt x="542" y="456"/>
                      </a:lnTo>
                      <a:lnTo>
                        <a:pt x="532" y="456"/>
                      </a:lnTo>
                      <a:lnTo>
                        <a:pt x="523" y="453"/>
                      </a:lnTo>
                      <a:lnTo>
                        <a:pt x="513" y="453"/>
                      </a:lnTo>
                      <a:lnTo>
                        <a:pt x="504" y="450"/>
                      </a:lnTo>
                      <a:lnTo>
                        <a:pt x="494" y="447"/>
                      </a:lnTo>
                      <a:lnTo>
                        <a:pt x="485" y="447"/>
                      </a:lnTo>
                      <a:lnTo>
                        <a:pt x="475" y="444"/>
                      </a:lnTo>
                      <a:lnTo>
                        <a:pt x="465" y="444"/>
                      </a:lnTo>
                      <a:lnTo>
                        <a:pt x="456" y="440"/>
                      </a:lnTo>
                      <a:lnTo>
                        <a:pt x="446" y="437"/>
                      </a:lnTo>
                      <a:lnTo>
                        <a:pt x="437" y="437"/>
                      </a:lnTo>
                      <a:lnTo>
                        <a:pt x="427" y="434"/>
                      </a:lnTo>
                      <a:lnTo>
                        <a:pt x="418" y="431"/>
                      </a:lnTo>
                      <a:lnTo>
                        <a:pt x="408" y="431"/>
                      </a:lnTo>
                      <a:lnTo>
                        <a:pt x="395" y="428"/>
                      </a:lnTo>
                      <a:lnTo>
                        <a:pt x="386" y="424"/>
                      </a:lnTo>
                      <a:lnTo>
                        <a:pt x="376" y="424"/>
                      </a:lnTo>
                      <a:lnTo>
                        <a:pt x="367" y="421"/>
                      </a:lnTo>
                      <a:lnTo>
                        <a:pt x="357" y="418"/>
                      </a:lnTo>
                      <a:lnTo>
                        <a:pt x="347" y="415"/>
                      </a:lnTo>
                      <a:lnTo>
                        <a:pt x="338" y="415"/>
                      </a:lnTo>
                      <a:lnTo>
                        <a:pt x="328" y="412"/>
                      </a:lnTo>
                      <a:lnTo>
                        <a:pt x="319" y="409"/>
                      </a:lnTo>
                      <a:lnTo>
                        <a:pt x="309" y="405"/>
                      </a:lnTo>
                      <a:lnTo>
                        <a:pt x="300" y="405"/>
                      </a:lnTo>
                      <a:lnTo>
                        <a:pt x="290" y="402"/>
                      </a:lnTo>
                      <a:lnTo>
                        <a:pt x="281" y="399"/>
                      </a:lnTo>
                      <a:lnTo>
                        <a:pt x="271" y="396"/>
                      </a:lnTo>
                      <a:lnTo>
                        <a:pt x="265" y="396"/>
                      </a:lnTo>
                      <a:lnTo>
                        <a:pt x="255" y="393"/>
                      </a:lnTo>
                      <a:lnTo>
                        <a:pt x="249" y="389"/>
                      </a:lnTo>
                      <a:lnTo>
                        <a:pt x="242" y="389"/>
                      </a:lnTo>
                      <a:lnTo>
                        <a:pt x="233" y="386"/>
                      </a:lnTo>
                      <a:lnTo>
                        <a:pt x="226" y="383"/>
                      </a:lnTo>
                      <a:lnTo>
                        <a:pt x="220" y="380"/>
                      </a:lnTo>
                      <a:lnTo>
                        <a:pt x="210" y="377"/>
                      </a:lnTo>
                      <a:lnTo>
                        <a:pt x="204" y="373"/>
                      </a:lnTo>
                      <a:lnTo>
                        <a:pt x="198" y="370"/>
                      </a:lnTo>
                      <a:lnTo>
                        <a:pt x="188" y="367"/>
                      </a:lnTo>
                      <a:lnTo>
                        <a:pt x="182" y="364"/>
                      </a:lnTo>
                      <a:lnTo>
                        <a:pt x="175" y="361"/>
                      </a:lnTo>
                      <a:lnTo>
                        <a:pt x="169" y="358"/>
                      </a:lnTo>
                      <a:lnTo>
                        <a:pt x="163" y="354"/>
                      </a:lnTo>
                      <a:lnTo>
                        <a:pt x="156" y="348"/>
                      </a:lnTo>
                      <a:lnTo>
                        <a:pt x="147" y="345"/>
                      </a:lnTo>
                      <a:lnTo>
                        <a:pt x="140" y="338"/>
                      </a:lnTo>
                      <a:lnTo>
                        <a:pt x="134" y="335"/>
                      </a:lnTo>
                      <a:lnTo>
                        <a:pt x="127" y="329"/>
                      </a:lnTo>
                      <a:lnTo>
                        <a:pt x="121" y="326"/>
                      </a:lnTo>
                      <a:lnTo>
                        <a:pt x="112" y="319"/>
                      </a:lnTo>
                      <a:lnTo>
                        <a:pt x="105" y="313"/>
                      </a:lnTo>
                      <a:lnTo>
                        <a:pt x="99" y="307"/>
                      </a:lnTo>
                      <a:lnTo>
                        <a:pt x="92" y="303"/>
                      </a:lnTo>
                      <a:lnTo>
                        <a:pt x="86" y="297"/>
                      </a:lnTo>
                      <a:lnTo>
                        <a:pt x="80" y="291"/>
                      </a:lnTo>
                      <a:lnTo>
                        <a:pt x="73" y="284"/>
                      </a:lnTo>
                      <a:lnTo>
                        <a:pt x="70" y="278"/>
                      </a:lnTo>
                      <a:lnTo>
                        <a:pt x="64" y="271"/>
                      </a:lnTo>
                      <a:lnTo>
                        <a:pt x="57" y="265"/>
                      </a:lnTo>
                      <a:lnTo>
                        <a:pt x="54" y="255"/>
                      </a:lnTo>
                      <a:lnTo>
                        <a:pt x="45" y="240"/>
                      </a:lnTo>
                      <a:lnTo>
                        <a:pt x="35" y="220"/>
                      </a:lnTo>
                      <a:lnTo>
                        <a:pt x="29" y="201"/>
                      </a:lnTo>
                      <a:lnTo>
                        <a:pt x="22" y="179"/>
                      </a:lnTo>
                      <a:lnTo>
                        <a:pt x="16" y="160"/>
                      </a:lnTo>
                      <a:lnTo>
                        <a:pt x="13" y="137"/>
                      </a:lnTo>
                      <a:lnTo>
                        <a:pt x="10" y="118"/>
                      </a:lnTo>
                      <a:lnTo>
                        <a:pt x="3" y="96"/>
                      </a:lnTo>
                      <a:lnTo>
                        <a:pt x="0" y="74"/>
                      </a:lnTo>
                      <a:lnTo>
                        <a:pt x="0" y="48"/>
                      </a:lnTo>
                      <a:lnTo>
                        <a:pt x="0" y="23"/>
                      </a:lnTo>
                      <a:lnTo>
                        <a:pt x="3" y="0"/>
                      </a:lnTo>
                      <a:lnTo>
                        <a:pt x="10" y="4"/>
                      </a:lnTo>
                      <a:lnTo>
                        <a:pt x="19" y="7"/>
                      </a:lnTo>
                      <a:lnTo>
                        <a:pt x="29" y="10"/>
                      </a:lnTo>
                      <a:lnTo>
                        <a:pt x="38" y="13"/>
                      </a:lnTo>
                      <a:lnTo>
                        <a:pt x="48" y="16"/>
                      </a:lnTo>
                      <a:lnTo>
                        <a:pt x="61" y="23"/>
                      </a:lnTo>
                      <a:lnTo>
                        <a:pt x="70" y="23"/>
                      </a:lnTo>
                      <a:lnTo>
                        <a:pt x="80" y="29"/>
                      </a:lnTo>
                      <a:lnTo>
                        <a:pt x="92" y="29"/>
                      </a:lnTo>
                      <a:lnTo>
                        <a:pt x="102" y="32"/>
                      </a:lnTo>
                      <a:lnTo>
                        <a:pt x="115" y="35"/>
                      </a:lnTo>
                      <a:lnTo>
                        <a:pt x="127" y="39"/>
                      </a:lnTo>
                      <a:lnTo>
                        <a:pt x="140" y="42"/>
                      </a:lnTo>
                      <a:lnTo>
                        <a:pt x="153" y="45"/>
                      </a:lnTo>
                      <a:lnTo>
                        <a:pt x="166" y="48"/>
                      </a:lnTo>
                      <a:lnTo>
                        <a:pt x="178" y="51"/>
                      </a:lnTo>
                      <a:lnTo>
                        <a:pt x="185" y="51"/>
                      </a:lnTo>
                      <a:lnTo>
                        <a:pt x="188" y="55"/>
                      </a:lnTo>
                      <a:lnTo>
                        <a:pt x="194" y="55"/>
                      </a:lnTo>
                      <a:lnTo>
                        <a:pt x="201" y="58"/>
                      </a:lnTo>
                      <a:lnTo>
                        <a:pt x="207" y="61"/>
                      </a:lnTo>
                      <a:lnTo>
                        <a:pt x="214" y="61"/>
                      </a:lnTo>
                      <a:lnTo>
                        <a:pt x="220" y="64"/>
                      </a:lnTo>
                      <a:lnTo>
                        <a:pt x="229" y="67"/>
                      </a:lnTo>
                      <a:lnTo>
                        <a:pt x="236" y="67"/>
                      </a:lnTo>
                      <a:lnTo>
                        <a:pt x="242" y="71"/>
                      </a:lnTo>
                      <a:lnTo>
                        <a:pt x="249" y="74"/>
                      </a:lnTo>
                      <a:lnTo>
                        <a:pt x="255" y="74"/>
                      </a:lnTo>
                      <a:lnTo>
                        <a:pt x="261" y="74"/>
                      </a:lnTo>
                      <a:lnTo>
                        <a:pt x="268" y="77"/>
                      </a:lnTo>
                      <a:lnTo>
                        <a:pt x="271" y="77"/>
                      </a:lnTo>
                      <a:lnTo>
                        <a:pt x="274" y="77"/>
                      </a:lnTo>
                      <a:lnTo>
                        <a:pt x="281" y="74"/>
                      </a:lnTo>
                      <a:lnTo>
                        <a:pt x="284" y="74"/>
                      </a:lnTo>
                      <a:lnTo>
                        <a:pt x="290" y="71"/>
                      </a:lnTo>
                      <a:lnTo>
                        <a:pt x="296" y="71"/>
                      </a:lnTo>
                      <a:lnTo>
                        <a:pt x="300" y="67"/>
                      </a:lnTo>
                      <a:lnTo>
                        <a:pt x="306" y="67"/>
                      </a:lnTo>
                      <a:lnTo>
                        <a:pt x="312" y="64"/>
                      </a:lnTo>
                      <a:lnTo>
                        <a:pt x="319" y="64"/>
                      </a:lnTo>
                      <a:lnTo>
                        <a:pt x="322" y="61"/>
                      </a:lnTo>
                      <a:lnTo>
                        <a:pt x="328" y="61"/>
                      </a:lnTo>
                      <a:lnTo>
                        <a:pt x="335" y="58"/>
                      </a:lnTo>
                      <a:lnTo>
                        <a:pt x="341" y="58"/>
                      </a:lnTo>
                      <a:lnTo>
                        <a:pt x="344" y="58"/>
                      </a:lnTo>
                      <a:lnTo>
                        <a:pt x="351" y="55"/>
                      </a:lnTo>
                      <a:lnTo>
                        <a:pt x="354" y="55"/>
                      </a:lnTo>
                      <a:lnTo>
                        <a:pt x="360" y="55"/>
                      </a:lnTo>
                      <a:lnTo>
                        <a:pt x="373" y="58"/>
                      </a:lnTo>
                      <a:lnTo>
                        <a:pt x="386" y="58"/>
                      </a:lnTo>
                      <a:lnTo>
                        <a:pt x="398" y="61"/>
                      </a:lnTo>
                      <a:lnTo>
                        <a:pt x="411" y="67"/>
                      </a:lnTo>
                      <a:lnTo>
                        <a:pt x="421" y="74"/>
                      </a:lnTo>
                      <a:lnTo>
                        <a:pt x="430" y="80"/>
                      </a:lnTo>
                      <a:lnTo>
                        <a:pt x="440" y="86"/>
                      </a:lnTo>
                      <a:lnTo>
                        <a:pt x="449" y="93"/>
                      </a:lnTo>
                      <a:lnTo>
                        <a:pt x="459" y="102"/>
                      </a:lnTo>
                      <a:lnTo>
                        <a:pt x="469" y="109"/>
                      </a:lnTo>
                      <a:lnTo>
                        <a:pt x="478" y="118"/>
                      </a:lnTo>
                      <a:lnTo>
                        <a:pt x="488" y="125"/>
                      </a:lnTo>
                      <a:lnTo>
                        <a:pt x="497" y="134"/>
                      </a:lnTo>
                      <a:lnTo>
                        <a:pt x="507" y="141"/>
                      </a:lnTo>
                      <a:lnTo>
                        <a:pt x="516" y="147"/>
                      </a:lnTo>
                      <a:lnTo>
                        <a:pt x="526" y="153"/>
                      </a:lnTo>
                      <a:lnTo>
                        <a:pt x="526" y="144"/>
                      </a:lnTo>
                      <a:lnTo>
                        <a:pt x="523" y="137"/>
                      </a:lnTo>
                      <a:lnTo>
                        <a:pt x="520" y="128"/>
                      </a:lnTo>
                      <a:lnTo>
                        <a:pt x="516" y="118"/>
                      </a:lnTo>
                      <a:lnTo>
                        <a:pt x="513" y="112"/>
                      </a:lnTo>
                      <a:lnTo>
                        <a:pt x="510" y="106"/>
                      </a:lnTo>
                      <a:lnTo>
                        <a:pt x="507" y="96"/>
                      </a:lnTo>
                      <a:lnTo>
                        <a:pt x="504" y="90"/>
                      </a:lnTo>
                      <a:lnTo>
                        <a:pt x="507" y="93"/>
                      </a:lnTo>
                      <a:lnTo>
                        <a:pt x="513" y="93"/>
                      </a:lnTo>
                      <a:lnTo>
                        <a:pt x="516" y="96"/>
                      </a:lnTo>
                      <a:lnTo>
                        <a:pt x="523" y="99"/>
                      </a:lnTo>
                      <a:lnTo>
                        <a:pt x="526" y="99"/>
                      </a:lnTo>
                      <a:lnTo>
                        <a:pt x="529" y="102"/>
                      </a:lnTo>
                      <a:lnTo>
                        <a:pt x="536" y="106"/>
                      </a:lnTo>
                      <a:lnTo>
                        <a:pt x="539" y="109"/>
                      </a:lnTo>
                      <a:lnTo>
                        <a:pt x="542" y="112"/>
                      </a:lnTo>
                      <a:lnTo>
                        <a:pt x="545" y="115"/>
                      </a:lnTo>
                      <a:lnTo>
                        <a:pt x="548" y="118"/>
                      </a:lnTo>
                      <a:lnTo>
                        <a:pt x="551" y="118"/>
                      </a:lnTo>
                      <a:lnTo>
                        <a:pt x="555" y="122"/>
                      </a:lnTo>
                      <a:lnTo>
                        <a:pt x="558" y="125"/>
                      </a:lnTo>
                      <a:lnTo>
                        <a:pt x="561" y="125"/>
                      </a:lnTo>
                      <a:lnTo>
                        <a:pt x="564" y="128"/>
                      </a:lnTo>
                      <a:lnTo>
                        <a:pt x="571" y="128"/>
                      </a:lnTo>
                      <a:lnTo>
                        <a:pt x="574" y="128"/>
                      </a:lnTo>
                      <a:lnTo>
                        <a:pt x="580" y="128"/>
                      </a:lnTo>
                      <a:lnTo>
                        <a:pt x="587" y="131"/>
                      </a:lnTo>
                      <a:lnTo>
                        <a:pt x="590" y="131"/>
                      </a:lnTo>
                      <a:lnTo>
                        <a:pt x="596" y="128"/>
                      </a:lnTo>
                      <a:lnTo>
                        <a:pt x="602" y="128"/>
                      </a:lnTo>
                      <a:lnTo>
                        <a:pt x="606" y="128"/>
                      </a:lnTo>
                      <a:lnTo>
                        <a:pt x="612" y="128"/>
                      </a:lnTo>
                      <a:lnTo>
                        <a:pt x="618" y="128"/>
                      </a:lnTo>
                      <a:lnTo>
                        <a:pt x="622" y="125"/>
                      </a:lnTo>
                      <a:lnTo>
                        <a:pt x="628" y="125"/>
                      </a:lnTo>
                      <a:lnTo>
                        <a:pt x="634" y="125"/>
                      </a:lnTo>
                      <a:lnTo>
                        <a:pt x="641" y="125"/>
                      </a:lnTo>
                      <a:lnTo>
                        <a:pt x="647" y="125"/>
                      </a:lnTo>
                      <a:lnTo>
                        <a:pt x="653" y="122"/>
                      </a:lnTo>
                      <a:lnTo>
                        <a:pt x="663" y="122"/>
                      </a:lnTo>
                      <a:lnTo>
                        <a:pt x="673" y="122"/>
                      </a:lnTo>
                      <a:lnTo>
                        <a:pt x="682" y="125"/>
                      </a:lnTo>
                      <a:lnTo>
                        <a:pt x="689" y="125"/>
                      </a:lnTo>
                      <a:lnTo>
                        <a:pt x="698" y="125"/>
                      </a:lnTo>
                      <a:lnTo>
                        <a:pt x="708" y="125"/>
                      </a:lnTo>
                      <a:lnTo>
                        <a:pt x="717" y="125"/>
                      </a:lnTo>
                      <a:lnTo>
                        <a:pt x="727" y="125"/>
                      </a:lnTo>
                      <a:lnTo>
                        <a:pt x="733" y="125"/>
                      </a:lnTo>
                      <a:lnTo>
                        <a:pt x="743" y="128"/>
                      </a:lnTo>
                      <a:lnTo>
                        <a:pt x="752" y="128"/>
                      </a:lnTo>
                      <a:lnTo>
                        <a:pt x="762" y="128"/>
                      </a:lnTo>
                      <a:lnTo>
                        <a:pt x="771" y="128"/>
                      </a:lnTo>
                      <a:lnTo>
                        <a:pt x="778" y="128"/>
                      </a:lnTo>
                      <a:lnTo>
                        <a:pt x="787" y="131"/>
                      </a:lnTo>
                      <a:lnTo>
                        <a:pt x="797" y="131"/>
                      </a:lnTo>
                      <a:lnTo>
                        <a:pt x="803" y="131"/>
                      </a:lnTo>
                      <a:lnTo>
                        <a:pt x="810" y="134"/>
                      </a:lnTo>
                      <a:lnTo>
                        <a:pt x="819" y="134"/>
                      </a:lnTo>
                      <a:lnTo>
                        <a:pt x="826" y="134"/>
                      </a:lnTo>
                      <a:lnTo>
                        <a:pt x="832" y="134"/>
                      </a:lnTo>
                      <a:lnTo>
                        <a:pt x="838" y="137"/>
                      </a:lnTo>
                      <a:lnTo>
                        <a:pt x="845" y="137"/>
                      </a:lnTo>
                      <a:lnTo>
                        <a:pt x="854" y="137"/>
                      </a:lnTo>
                      <a:lnTo>
                        <a:pt x="861" y="137"/>
                      </a:lnTo>
                      <a:lnTo>
                        <a:pt x="867" y="141"/>
                      </a:lnTo>
                      <a:lnTo>
                        <a:pt x="873" y="141"/>
                      </a:lnTo>
                      <a:lnTo>
                        <a:pt x="880" y="144"/>
                      </a:lnTo>
                      <a:lnTo>
                        <a:pt x="889" y="144"/>
                      </a:lnTo>
                      <a:lnTo>
                        <a:pt x="896" y="144"/>
                      </a:lnTo>
                      <a:lnTo>
                        <a:pt x="902" y="144"/>
                      </a:lnTo>
                      <a:lnTo>
                        <a:pt x="909" y="147"/>
                      </a:lnTo>
                      <a:lnTo>
                        <a:pt x="915" y="147"/>
                      </a:lnTo>
                      <a:lnTo>
                        <a:pt x="924" y="147"/>
                      </a:lnTo>
                      <a:lnTo>
                        <a:pt x="931" y="150"/>
                      </a:lnTo>
                      <a:lnTo>
                        <a:pt x="937" y="150"/>
                      </a:lnTo>
                      <a:lnTo>
                        <a:pt x="944" y="153"/>
                      </a:lnTo>
                      <a:lnTo>
                        <a:pt x="950" y="153"/>
                      </a:lnTo>
                      <a:lnTo>
                        <a:pt x="960" y="153"/>
                      </a:lnTo>
                      <a:lnTo>
                        <a:pt x="966" y="153"/>
                      </a:lnTo>
                      <a:lnTo>
                        <a:pt x="972" y="157"/>
                      </a:lnTo>
                      <a:lnTo>
                        <a:pt x="979" y="157"/>
                      </a:lnTo>
                      <a:lnTo>
                        <a:pt x="985" y="157"/>
                      </a:lnTo>
                      <a:lnTo>
                        <a:pt x="995" y="160"/>
                      </a:lnTo>
                      <a:lnTo>
                        <a:pt x="1001" y="160"/>
                      </a:lnTo>
                      <a:lnTo>
                        <a:pt x="1007" y="160"/>
                      </a:lnTo>
                      <a:lnTo>
                        <a:pt x="1014" y="160"/>
                      </a:lnTo>
                      <a:lnTo>
                        <a:pt x="1020" y="163"/>
                      </a:lnTo>
                      <a:lnTo>
                        <a:pt x="1030" y="163"/>
                      </a:lnTo>
                      <a:lnTo>
                        <a:pt x="1036" y="163"/>
                      </a:lnTo>
                      <a:lnTo>
                        <a:pt x="1046" y="166"/>
                      </a:lnTo>
                      <a:lnTo>
                        <a:pt x="1055" y="166"/>
                      </a:lnTo>
                      <a:lnTo>
                        <a:pt x="1065" y="166"/>
                      </a:lnTo>
                      <a:lnTo>
                        <a:pt x="1071" y="169"/>
                      </a:lnTo>
                      <a:lnTo>
                        <a:pt x="1081" y="169"/>
                      </a:lnTo>
                      <a:lnTo>
                        <a:pt x="1090" y="169"/>
                      </a:lnTo>
                      <a:lnTo>
                        <a:pt x="1097" y="169"/>
                      </a:lnTo>
                      <a:lnTo>
                        <a:pt x="1106" y="173"/>
                      </a:lnTo>
                      <a:lnTo>
                        <a:pt x="1116" y="173"/>
                      </a:lnTo>
                      <a:lnTo>
                        <a:pt x="1122" y="173"/>
                      </a:lnTo>
                      <a:lnTo>
                        <a:pt x="1132" y="176"/>
                      </a:lnTo>
                      <a:lnTo>
                        <a:pt x="1141" y="176"/>
                      </a:lnTo>
                      <a:lnTo>
                        <a:pt x="1148" y="176"/>
                      </a:lnTo>
                      <a:lnTo>
                        <a:pt x="1157" y="176"/>
                      </a:lnTo>
                      <a:lnTo>
                        <a:pt x="1167" y="176"/>
                      </a:lnTo>
                      <a:lnTo>
                        <a:pt x="1176" y="179"/>
                      </a:lnTo>
                      <a:lnTo>
                        <a:pt x="1183" y="179"/>
                      </a:lnTo>
                      <a:lnTo>
                        <a:pt x="1192" y="179"/>
                      </a:lnTo>
                      <a:lnTo>
                        <a:pt x="1202" y="179"/>
                      </a:lnTo>
                      <a:lnTo>
                        <a:pt x="1208" y="182"/>
                      </a:lnTo>
                      <a:lnTo>
                        <a:pt x="1218" y="182"/>
                      </a:lnTo>
                      <a:lnTo>
                        <a:pt x="1227" y="182"/>
                      </a:lnTo>
                      <a:lnTo>
                        <a:pt x="1234" y="182"/>
                      </a:lnTo>
                      <a:lnTo>
                        <a:pt x="1243" y="182"/>
                      </a:lnTo>
                      <a:lnTo>
                        <a:pt x="1253" y="185"/>
                      </a:lnTo>
                      <a:lnTo>
                        <a:pt x="1259" y="185"/>
                      </a:lnTo>
                      <a:lnTo>
                        <a:pt x="1269" y="185"/>
                      </a:lnTo>
                      <a:lnTo>
                        <a:pt x="1278" y="185"/>
                      </a:lnTo>
                      <a:lnTo>
                        <a:pt x="1285" y="185"/>
                      </a:lnTo>
                      <a:lnTo>
                        <a:pt x="1294" y="185"/>
                      </a:lnTo>
                      <a:lnTo>
                        <a:pt x="1304" y="185"/>
                      </a:lnTo>
                      <a:lnTo>
                        <a:pt x="1313" y="189"/>
                      </a:lnTo>
                      <a:lnTo>
                        <a:pt x="1323" y="189"/>
                      </a:lnTo>
                      <a:lnTo>
                        <a:pt x="1332" y="189"/>
                      </a:lnTo>
                      <a:lnTo>
                        <a:pt x="1342" y="189"/>
                      </a:lnTo>
                      <a:lnTo>
                        <a:pt x="1352" y="189"/>
                      </a:lnTo>
                      <a:lnTo>
                        <a:pt x="1358" y="189"/>
                      </a:lnTo>
                      <a:lnTo>
                        <a:pt x="1368" y="189"/>
                      </a:lnTo>
                      <a:lnTo>
                        <a:pt x="1377" y="192"/>
                      </a:lnTo>
                      <a:lnTo>
                        <a:pt x="1387" y="192"/>
                      </a:lnTo>
                      <a:lnTo>
                        <a:pt x="1396" y="192"/>
                      </a:lnTo>
                      <a:lnTo>
                        <a:pt x="1406" y="192"/>
                      </a:lnTo>
                      <a:lnTo>
                        <a:pt x="1415" y="192"/>
                      </a:lnTo>
                      <a:lnTo>
                        <a:pt x="1425" y="192"/>
                      </a:lnTo>
                      <a:lnTo>
                        <a:pt x="1431" y="192"/>
                      </a:lnTo>
                      <a:lnTo>
                        <a:pt x="1441" y="192"/>
                      </a:lnTo>
                      <a:lnTo>
                        <a:pt x="1450" y="192"/>
                      </a:lnTo>
                      <a:lnTo>
                        <a:pt x="1460" y="192"/>
                      </a:lnTo>
                      <a:lnTo>
                        <a:pt x="1470" y="192"/>
                      </a:lnTo>
                      <a:lnTo>
                        <a:pt x="1479" y="192"/>
                      </a:lnTo>
                      <a:lnTo>
                        <a:pt x="1489" y="192"/>
                      </a:lnTo>
                      <a:lnTo>
                        <a:pt x="1498" y="192"/>
                      </a:lnTo>
                      <a:lnTo>
                        <a:pt x="1508" y="192"/>
                      </a:lnTo>
                      <a:lnTo>
                        <a:pt x="1517" y="192"/>
                      </a:lnTo>
                      <a:lnTo>
                        <a:pt x="1524" y="192"/>
                      </a:lnTo>
                      <a:lnTo>
                        <a:pt x="1533" y="192"/>
                      </a:lnTo>
                      <a:lnTo>
                        <a:pt x="1543" y="192"/>
                      </a:lnTo>
                      <a:lnTo>
                        <a:pt x="1552" y="192"/>
                      </a:lnTo>
                      <a:lnTo>
                        <a:pt x="1562" y="189"/>
                      </a:lnTo>
                      <a:lnTo>
                        <a:pt x="1572" y="189"/>
                      </a:lnTo>
                      <a:lnTo>
                        <a:pt x="1581" y="189"/>
                      </a:lnTo>
                      <a:lnTo>
                        <a:pt x="1591" y="189"/>
                      </a:lnTo>
                      <a:lnTo>
                        <a:pt x="1597" y="185"/>
                      </a:lnTo>
                      <a:lnTo>
                        <a:pt x="1603" y="185"/>
                      </a:lnTo>
                      <a:lnTo>
                        <a:pt x="1610" y="182"/>
                      </a:lnTo>
                      <a:lnTo>
                        <a:pt x="1619" y="179"/>
                      </a:lnTo>
                      <a:lnTo>
                        <a:pt x="1626" y="176"/>
                      </a:lnTo>
                      <a:lnTo>
                        <a:pt x="1632" y="173"/>
                      </a:lnTo>
                      <a:lnTo>
                        <a:pt x="1642" y="169"/>
                      </a:lnTo>
                      <a:lnTo>
                        <a:pt x="1648" y="163"/>
                      </a:lnTo>
                      <a:lnTo>
                        <a:pt x="1654" y="160"/>
                      </a:lnTo>
                      <a:lnTo>
                        <a:pt x="1661" y="157"/>
                      </a:lnTo>
                      <a:lnTo>
                        <a:pt x="1670" y="150"/>
                      </a:lnTo>
                      <a:lnTo>
                        <a:pt x="1677" y="147"/>
                      </a:lnTo>
                      <a:lnTo>
                        <a:pt x="1683" y="144"/>
                      </a:lnTo>
                      <a:lnTo>
                        <a:pt x="1690" y="141"/>
                      </a:lnTo>
                      <a:lnTo>
                        <a:pt x="1699" y="141"/>
                      </a:lnTo>
                      <a:lnTo>
                        <a:pt x="1705" y="137"/>
                      </a:lnTo>
                      <a:lnTo>
                        <a:pt x="1712" y="137"/>
                      </a:lnTo>
                      <a:lnTo>
                        <a:pt x="1718" y="137"/>
                      </a:lnTo>
                      <a:lnTo>
                        <a:pt x="1728" y="134"/>
                      </a:lnTo>
                      <a:lnTo>
                        <a:pt x="1734" y="134"/>
                      </a:lnTo>
                      <a:lnTo>
                        <a:pt x="1741" y="134"/>
                      </a:lnTo>
                      <a:lnTo>
                        <a:pt x="1747" y="134"/>
                      </a:lnTo>
                      <a:lnTo>
                        <a:pt x="1756" y="134"/>
                      </a:lnTo>
                      <a:lnTo>
                        <a:pt x="1763" y="134"/>
                      </a:lnTo>
                      <a:lnTo>
                        <a:pt x="1769" y="134"/>
                      </a:lnTo>
                      <a:lnTo>
                        <a:pt x="1779" y="137"/>
                      </a:lnTo>
                      <a:lnTo>
                        <a:pt x="1785" y="137"/>
                      </a:lnTo>
                      <a:lnTo>
                        <a:pt x="1792" y="137"/>
                      </a:lnTo>
                      <a:lnTo>
                        <a:pt x="1798" y="141"/>
                      </a:lnTo>
                      <a:lnTo>
                        <a:pt x="1804" y="141"/>
                      </a:lnTo>
                      <a:lnTo>
                        <a:pt x="1814" y="144"/>
                      </a:lnTo>
                      <a:lnTo>
                        <a:pt x="1820" y="144"/>
                      </a:lnTo>
                      <a:lnTo>
                        <a:pt x="1833" y="150"/>
                      </a:lnTo>
                      <a:lnTo>
                        <a:pt x="1846" y="153"/>
                      </a:lnTo>
                      <a:lnTo>
                        <a:pt x="1858" y="160"/>
                      </a:lnTo>
                      <a:lnTo>
                        <a:pt x="1871" y="166"/>
                      </a:lnTo>
                      <a:lnTo>
                        <a:pt x="1884" y="173"/>
                      </a:lnTo>
                      <a:lnTo>
                        <a:pt x="1894" y="179"/>
                      </a:lnTo>
                      <a:lnTo>
                        <a:pt x="1906" y="185"/>
                      </a:lnTo>
                      <a:lnTo>
                        <a:pt x="1919" y="192"/>
                      </a:lnTo>
                      <a:lnTo>
                        <a:pt x="1932" y="198"/>
                      </a:lnTo>
                      <a:lnTo>
                        <a:pt x="1945" y="208"/>
                      </a:lnTo>
                      <a:lnTo>
                        <a:pt x="1957" y="214"/>
                      </a:lnTo>
                      <a:lnTo>
                        <a:pt x="1967" y="220"/>
                      </a:lnTo>
                      <a:lnTo>
                        <a:pt x="1980" y="227"/>
                      </a:lnTo>
                      <a:lnTo>
                        <a:pt x="1992" y="233"/>
                      </a:lnTo>
                      <a:lnTo>
                        <a:pt x="2002" y="240"/>
                      </a:lnTo>
                      <a:lnTo>
                        <a:pt x="2015" y="246"/>
                      </a:lnTo>
                      <a:lnTo>
                        <a:pt x="2027" y="249"/>
                      </a:lnTo>
                      <a:lnTo>
                        <a:pt x="2040" y="255"/>
                      </a:lnTo>
                      <a:lnTo>
                        <a:pt x="2053" y="262"/>
                      </a:lnTo>
                      <a:lnTo>
                        <a:pt x="2066" y="265"/>
                      </a:lnTo>
                      <a:lnTo>
                        <a:pt x="2078" y="271"/>
                      </a:lnTo>
                      <a:lnTo>
                        <a:pt x="2091" y="275"/>
                      </a:lnTo>
                      <a:lnTo>
                        <a:pt x="2101" y="278"/>
                      </a:lnTo>
                      <a:lnTo>
                        <a:pt x="2114" y="281"/>
                      </a:lnTo>
                      <a:lnTo>
                        <a:pt x="2126" y="284"/>
                      </a:lnTo>
                      <a:lnTo>
                        <a:pt x="2139" y="287"/>
                      </a:lnTo>
                      <a:lnTo>
                        <a:pt x="2152" y="291"/>
                      </a:lnTo>
                      <a:lnTo>
                        <a:pt x="2165" y="294"/>
                      </a:lnTo>
                      <a:lnTo>
                        <a:pt x="2177" y="297"/>
                      </a:lnTo>
                      <a:lnTo>
                        <a:pt x="2190" y="300"/>
                      </a:lnTo>
                      <a:lnTo>
                        <a:pt x="2206" y="303"/>
                      </a:lnTo>
                      <a:lnTo>
                        <a:pt x="2219" y="307"/>
                      </a:lnTo>
                      <a:lnTo>
                        <a:pt x="2225" y="307"/>
                      </a:lnTo>
                      <a:lnTo>
                        <a:pt x="2235" y="310"/>
                      </a:lnTo>
                      <a:lnTo>
                        <a:pt x="2241" y="310"/>
                      </a:lnTo>
                      <a:lnTo>
                        <a:pt x="2247" y="313"/>
                      </a:lnTo>
                      <a:lnTo>
                        <a:pt x="2254" y="313"/>
                      </a:lnTo>
                      <a:lnTo>
                        <a:pt x="2263" y="313"/>
                      </a:lnTo>
                      <a:lnTo>
                        <a:pt x="2270" y="316"/>
                      </a:lnTo>
                      <a:lnTo>
                        <a:pt x="2276" y="316"/>
                      </a:lnTo>
                      <a:lnTo>
                        <a:pt x="2282" y="316"/>
                      </a:lnTo>
                      <a:lnTo>
                        <a:pt x="2289" y="319"/>
                      </a:lnTo>
                      <a:lnTo>
                        <a:pt x="2295" y="319"/>
                      </a:lnTo>
                      <a:lnTo>
                        <a:pt x="2305" y="319"/>
                      </a:lnTo>
                      <a:lnTo>
                        <a:pt x="2311" y="322"/>
                      </a:lnTo>
                      <a:lnTo>
                        <a:pt x="2318" y="322"/>
                      </a:lnTo>
                      <a:lnTo>
                        <a:pt x="2324" y="322"/>
                      </a:lnTo>
                      <a:lnTo>
                        <a:pt x="2330" y="322"/>
                      </a:lnTo>
                      <a:lnTo>
                        <a:pt x="2337" y="326"/>
                      </a:lnTo>
                      <a:lnTo>
                        <a:pt x="2343" y="326"/>
                      </a:lnTo>
                      <a:lnTo>
                        <a:pt x="2349" y="326"/>
                      </a:lnTo>
                      <a:lnTo>
                        <a:pt x="2356" y="326"/>
                      </a:lnTo>
                      <a:lnTo>
                        <a:pt x="2365" y="329"/>
                      </a:lnTo>
                      <a:lnTo>
                        <a:pt x="2372" y="329"/>
                      </a:lnTo>
                      <a:lnTo>
                        <a:pt x="2378" y="329"/>
                      </a:lnTo>
                      <a:lnTo>
                        <a:pt x="2384" y="329"/>
                      </a:lnTo>
                      <a:lnTo>
                        <a:pt x="2391" y="329"/>
                      </a:lnTo>
                      <a:lnTo>
                        <a:pt x="2397" y="332"/>
                      </a:lnTo>
                      <a:lnTo>
                        <a:pt x="2404" y="332"/>
                      </a:lnTo>
                      <a:lnTo>
                        <a:pt x="2410" y="332"/>
                      </a:lnTo>
                      <a:lnTo>
                        <a:pt x="2420" y="332"/>
                      </a:lnTo>
                      <a:lnTo>
                        <a:pt x="2426" y="335"/>
                      </a:lnTo>
                      <a:lnTo>
                        <a:pt x="2432" y="335"/>
                      </a:lnTo>
                      <a:lnTo>
                        <a:pt x="2439" y="335"/>
                      </a:lnTo>
                      <a:lnTo>
                        <a:pt x="2451" y="335"/>
                      </a:lnTo>
                      <a:lnTo>
                        <a:pt x="2467" y="338"/>
                      </a:lnTo>
                      <a:lnTo>
                        <a:pt x="2480" y="338"/>
                      </a:lnTo>
                      <a:lnTo>
                        <a:pt x="2493" y="338"/>
                      </a:lnTo>
                      <a:lnTo>
                        <a:pt x="2506" y="338"/>
                      </a:lnTo>
                      <a:lnTo>
                        <a:pt x="2518" y="335"/>
                      </a:lnTo>
                      <a:lnTo>
                        <a:pt x="2531" y="335"/>
                      </a:lnTo>
                      <a:lnTo>
                        <a:pt x="2544" y="332"/>
                      </a:lnTo>
                      <a:lnTo>
                        <a:pt x="2553" y="332"/>
                      </a:lnTo>
                      <a:lnTo>
                        <a:pt x="2569" y="329"/>
                      </a:lnTo>
                      <a:lnTo>
                        <a:pt x="2579" y="329"/>
                      </a:lnTo>
                      <a:lnTo>
                        <a:pt x="2592" y="326"/>
                      </a:lnTo>
                      <a:lnTo>
                        <a:pt x="2604" y="322"/>
                      </a:lnTo>
                      <a:lnTo>
                        <a:pt x="2620" y="322"/>
                      </a:lnTo>
                      <a:lnTo>
                        <a:pt x="2633" y="319"/>
                      </a:lnTo>
                      <a:lnTo>
                        <a:pt x="2646" y="316"/>
                      </a:lnTo>
                      <a:lnTo>
                        <a:pt x="2659" y="313"/>
                      </a:lnTo>
                      <a:lnTo>
                        <a:pt x="2671" y="310"/>
                      </a:lnTo>
                      <a:lnTo>
                        <a:pt x="2687" y="307"/>
                      </a:lnTo>
                      <a:lnTo>
                        <a:pt x="2700" y="303"/>
                      </a:lnTo>
                      <a:lnTo>
                        <a:pt x="2713" y="300"/>
                      </a:lnTo>
                      <a:lnTo>
                        <a:pt x="2726" y="297"/>
                      </a:lnTo>
                      <a:lnTo>
                        <a:pt x="2742" y="291"/>
                      </a:lnTo>
                      <a:lnTo>
                        <a:pt x="2754" y="287"/>
                      </a:lnTo>
                      <a:lnTo>
                        <a:pt x="2767" y="284"/>
                      </a:lnTo>
                      <a:lnTo>
                        <a:pt x="2780" y="278"/>
                      </a:lnTo>
                      <a:lnTo>
                        <a:pt x="2796" y="275"/>
                      </a:lnTo>
                      <a:lnTo>
                        <a:pt x="2808" y="268"/>
                      </a:lnTo>
                      <a:lnTo>
                        <a:pt x="2821" y="265"/>
                      </a:lnTo>
                      <a:lnTo>
                        <a:pt x="2837" y="262"/>
                      </a:lnTo>
                      <a:lnTo>
                        <a:pt x="2850" y="255"/>
                      </a:lnTo>
                      <a:lnTo>
                        <a:pt x="2863" y="252"/>
                      </a:lnTo>
                      <a:lnTo>
                        <a:pt x="2869" y="249"/>
                      </a:lnTo>
                      <a:lnTo>
                        <a:pt x="2875" y="246"/>
                      </a:lnTo>
                      <a:lnTo>
                        <a:pt x="2885" y="243"/>
                      </a:lnTo>
                      <a:lnTo>
                        <a:pt x="2891" y="240"/>
                      </a:lnTo>
                      <a:lnTo>
                        <a:pt x="2901" y="236"/>
                      </a:lnTo>
                      <a:lnTo>
                        <a:pt x="2910" y="233"/>
                      </a:lnTo>
                      <a:lnTo>
                        <a:pt x="2917" y="230"/>
                      </a:lnTo>
                      <a:lnTo>
                        <a:pt x="2926" y="227"/>
                      </a:lnTo>
                      <a:lnTo>
                        <a:pt x="2936" y="224"/>
                      </a:lnTo>
                      <a:lnTo>
                        <a:pt x="2942" y="224"/>
                      </a:lnTo>
                      <a:lnTo>
                        <a:pt x="2949" y="220"/>
                      </a:lnTo>
                      <a:lnTo>
                        <a:pt x="2955" y="220"/>
                      </a:lnTo>
                      <a:lnTo>
                        <a:pt x="2961" y="220"/>
                      </a:lnTo>
                      <a:lnTo>
                        <a:pt x="2965" y="224"/>
                      </a:lnTo>
                      <a:lnTo>
                        <a:pt x="2968" y="227"/>
                      </a:lnTo>
                      <a:lnTo>
                        <a:pt x="2968" y="233"/>
                      </a:lnTo>
                      <a:lnTo>
                        <a:pt x="2968" y="246"/>
                      </a:lnTo>
                      <a:lnTo>
                        <a:pt x="2965" y="259"/>
                      </a:lnTo>
                      <a:lnTo>
                        <a:pt x="2965" y="275"/>
                      </a:lnTo>
                      <a:lnTo>
                        <a:pt x="2961" y="287"/>
                      </a:lnTo>
                      <a:lnTo>
                        <a:pt x="2955" y="300"/>
                      </a:lnTo>
                      <a:lnTo>
                        <a:pt x="2952" y="313"/>
                      </a:lnTo>
                      <a:lnTo>
                        <a:pt x="2949" y="329"/>
                      </a:lnTo>
                      <a:lnTo>
                        <a:pt x="2946" y="342"/>
                      </a:lnTo>
                      <a:close/>
                    </a:path>
                  </a:pathLst>
                </a:custGeom>
                <a:solidFill>
                  <a:srgbClr val="e0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688720" y="3141360"/>
                  <a:ext cx="2543400" cy="518400"/>
                </a:xfrm>
                <a:custGeom>
                  <a:avLst/>
                  <a:gdLst/>
                  <a:ahLst/>
                  <a:rect l="l" t="t" r="r" b="b"/>
                  <a:pathLst>
                    <a:path w="2984" h="574">
                      <a:moveTo>
                        <a:pt x="2946" y="342"/>
                      </a:moveTo>
                      <a:lnTo>
                        <a:pt x="2949" y="345"/>
                      </a:lnTo>
                      <a:lnTo>
                        <a:pt x="2955" y="351"/>
                      </a:lnTo>
                      <a:lnTo>
                        <a:pt x="2958" y="358"/>
                      </a:lnTo>
                      <a:lnTo>
                        <a:pt x="2961" y="361"/>
                      </a:lnTo>
                      <a:lnTo>
                        <a:pt x="2965" y="367"/>
                      </a:lnTo>
                      <a:lnTo>
                        <a:pt x="2968" y="373"/>
                      </a:lnTo>
                      <a:lnTo>
                        <a:pt x="2971" y="377"/>
                      </a:lnTo>
                      <a:lnTo>
                        <a:pt x="2974" y="383"/>
                      </a:lnTo>
                      <a:lnTo>
                        <a:pt x="2977" y="386"/>
                      </a:lnTo>
                      <a:lnTo>
                        <a:pt x="2981" y="393"/>
                      </a:lnTo>
                      <a:lnTo>
                        <a:pt x="2981" y="396"/>
                      </a:lnTo>
                      <a:lnTo>
                        <a:pt x="2984" y="399"/>
                      </a:lnTo>
                      <a:lnTo>
                        <a:pt x="2984" y="405"/>
                      </a:lnTo>
                      <a:lnTo>
                        <a:pt x="2984" y="409"/>
                      </a:lnTo>
                      <a:lnTo>
                        <a:pt x="2984" y="412"/>
                      </a:lnTo>
                      <a:lnTo>
                        <a:pt x="2981" y="415"/>
                      </a:lnTo>
                      <a:lnTo>
                        <a:pt x="2974" y="418"/>
                      </a:lnTo>
                      <a:lnTo>
                        <a:pt x="2968" y="421"/>
                      </a:lnTo>
                      <a:lnTo>
                        <a:pt x="2961" y="424"/>
                      </a:lnTo>
                      <a:lnTo>
                        <a:pt x="2955" y="428"/>
                      </a:lnTo>
                      <a:lnTo>
                        <a:pt x="2946" y="431"/>
                      </a:lnTo>
                      <a:lnTo>
                        <a:pt x="2939" y="434"/>
                      </a:lnTo>
                      <a:lnTo>
                        <a:pt x="2933" y="437"/>
                      </a:lnTo>
                      <a:lnTo>
                        <a:pt x="2926" y="440"/>
                      </a:lnTo>
                      <a:lnTo>
                        <a:pt x="2917" y="444"/>
                      </a:lnTo>
                      <a:lnTo>
                        <a:pt x="2910" y="447"/>
                      </a:lnTo>
                      <a:lnTo>
                        <a:pt x="2904" y="450"/>
                      </a:lnTo>
                      <a:lnTo>
                        <a:pt x="2895" y="450"/>
                      </a:lnTo>
                      <a:lnTo>
                        <a:pt x="2888" y="453"/>
                      </a:lnTo>
                      <a:lnTo>
                        <a:pt x="2882" y="456"/>
                      </a:lnTo>
                      <a:lnTo>
                        <a:pt x="2875" y="460"/>
                      </a:lnTo>
                      <a:lnTo>
                        <a:pt x="2866" y="460"/>
                      </a:lnTo>
                      <a:lnTo>
                        <a:pt x="2859" y="463"/>
                      </a:lnTo>
                      <a:lnTo>
                        <a:pt x="2850" y="466"/>
                      </a:lnTo>
                      <a:lnTo>
                        <a:pt x="2844" y="469"/>
                      </a:lnTo>
                      <a:lnTo>
                        <a:pt x="2834" y="472"/>
                      </a:lnTo>
                      <a:lnTo>
                        <a:pt x="2828" y="476"/>
                      </a:lnTo>
                      <a:lnTo>
                        <a:pt x="2818" y="479"/>
                      </a:lnTo>
                      <a:lnTo>
                        <a:pt x="2812" y="482"/>
                      </a:lnTo>
                      <a:lnTo>
                        <a:pt x="2802" y="485"/>
                      </a:lnTo>
                      <a:lnTo>
                        <a:pt x="2796" y="488"/>
                      </a:lnTo>
                      <a:lnTo>
                        <a:pt x="2786" y="491"/>
                      </a:lnTo>
                      <a:lnTo>
                        <a:pt x="2780" y="491"/>
                      </a:lnTo>
                      <a:lnTo>
                        <a:pt x="2770" y="495"/>
                      </a:lnTo>
                      <a:lnTo>
                        <a:pt x="2764" y="498"/>
                      </a:lnTo>
                      <a:lnTo>
                        <a:pt x="2754" y="501"/>
                      </a:lnTo>
                      <a:lnTo>
                        <a:pt x="2748" y="504"/>
                      </a:lnTo>
                      <a:lnTo>
                        <a:pt x="2738" y="507"/>
                      </a:lnTo>
                      <a:lnTo>
                        <a:pt x="2732" y="511"/>
                      </a:lnTo>
                      <a:lnTo>
                        <a:pt x="2722" y="514"/>
                      </a:lnTo>
                      <a:lnTo>
                        <a:pt x="2716" y="514"/>
                      </a:lnTo>
                      <a:lnTo>
                        <a:pt x="2706" y="517"/>
                      </a:lnTo>
                      <a:lnTo>
                        <a:pt x="2700" y="520"/>
                      </a:lnTo>
                      <a:lnTo>
                        <a:pt x="2691" y="523"/>
                      </a:lnTo>
                      <a:lnTo>
                        <a:pt x="2684" y="527"/>
                      </a:lnTo>
                      <a:lnTo>
                        <a:pt x="2675" y="530"/>
                      </a:lnTo>
                      <a:lnTo>
                        <a:pt x="2665" y="530"/>
                      </a:lnTo>
                      <a:lnTo>
                        <a:pt x="2659" y="533"/>
                      </a:lnTo>
                      <a:lnTo>
                        <a:pt x="2649" y="536"/>
                      </a:lnTo>
                      <a:lnTo>
                        <a:pt x="2643" y="539"/>
                      </a:lnTo>
                      <a:lnTo>
                        <a:pt x="2633" y="542"/>
                      </a:lnTo>
                      <a:lnTo>
                        <a:pt x="2627" y="542"/>
                      </a:lnTo>
                      <a:lnTo>
                        <a:pt x="2617" y="546"/>
                      </a:lnTo>
                      <a:lnTo>
                        <a:pt x="2611" y="549"/>
                      </a:lnTo>
                      <a:lnTo>
                        <a:pt x="2604" y="552"/>
                      </a:lnTo>
                      <a:lnTo>
                        <a:pt x="2598" y="552"/>
                      </a:lnTo>
                      <a:lnTo>
                        <a:pt x="2592" y="552"/>
                      </a:lnTo>
                      <a:lnTo>
                        <a:pt x="2589" y="555"/>
                      </a:lnTo>
                      <a:lnTo>
                        <a:pt x="2582" y="555"/>
                      </a:lnTo>
                      <a:lnTo>
                        <a:pt x="2576" y="558"/>
                      </a:lnTo>
                      <a:lnTo>
                        <a:pt x="2569" y="558"/>
                      </a:lnTo>
                      <a:lnTo>
                        <a:pt x="2566" y="558"/>
                      </a:lnTo>
                      <a:lnTo>
                        <a:pt x="2560" y="558"/>
                      </a:lnTo>
                      <a:lnTo>
                        <a:pt x="2553" y="562"/>
                      </a:lnTo>
                      <a:lnTo>
                        <a:pt x="2547" y="562"/>
                      </a:lnTo>
                      <a:lnTo>
                        <a:pt x="2541" y="562"/>
                      </a:lnTo>
                      <a:lnTo>
                        <a:pt x="2538" y="562"/>
                      </a:lnTo>
                      <a:lnTo>
                        <a:pt x="2531" y="565"/>
                      </a:lnTo>
                      <a:lnTo>
                        <a:pt x="2525" y="565"/>
                      </a:lnTo>
                      <a:lnTo>
                        <a:pt x="2518" y="565"/>
                      </a:lnTo>
                      <a:lnTo>
                        <a:pt x="2509" y="565"/>
                      </a:lnTo>
                      <a:lnTo>
                        <a:pt x="2499" y="568"/>
                      </a:lnTo>
                      <a:lnTo>
                        <a:pt x="2487" y="568"/>
                      </a:lnTo>
                      <a:lnTo>
                        <a:pt x="2477" y="568"/>
                      </a:lnTo>
                      <a:lnTo>
                        <a:pt x="2467" y="568"/>
                      </a:lnTo>
                      <a:lnTo>
                        <a:pt x="2455" y="568"/>
                      </a:lnTo>
                      <a:lnTo>
                        <a:pt x="2445" y="571"/>
                      </a:lnTo>
                      <a:lnTo>
                        <a:pt x="2435" y="571"/>
                      </a:lnTo>
                      <a:lnTo>
                        <a:pt x="2423" y="571"/>
                      </a:lnTo>
                      <a:lnTo>
                        <a:pt x="2413" y="571"/>
                      </a:lnTo>
                      <a:lnTo>
                        <a:pt x="2404" y="571"/>
                      </a:lnTo>
                      <a:lnTo>
                        <a:pt x="2391" y="571"/>
                      </a:lnTo>
                      <a:lnTo>
                        <a:pt x="2381" y="574"/>
                      </a:lnTo>
                      <a:lnTo>
                        <a:pt x="2372" y="574"/>
                      </a:lnTo>
                      <a:lnTo>
                        <a:pt x="2359" y="574"/>
                      </a:lnTo>
                      <a:lnTo>
                        <a:pt x="2349" y="574"/>
                      </a:lnTo>
                      <a:lnTo>
                        <a:pt x="2340" y="574"/>
                      </a:lnTo>
                      <a:lnTo>
                        <a:pt x="2327" y="574"/>
                      </a:lnTo>
                      <a:lnTo>
                        <a:pt x="2318" y="574"/>
                      </a:lnTo>
                      <a:lnTo>
                        <a:pt x="2308" y="574"/>
                      </a:lnTo>
                      <a:lnTo>
                        <a:pt x="2295" y="574"/>
                      </a:lnTo>
                      <a:lnTo>
                        <a:pt x="2286" y="574"/>
                      </a:lnTo>
                      <a:lnTo>
                        <a:pt x="2276" y="574"/>
                      </a:lnTo>
                      <a:lnTo>
                        <a:pt x="2263" y="574"/>
                      </a:lnTo>
                      <a:lnTo>
                        <a:pt x="2254" y="574"/>
                      </a:lnTo>
                      <a:lnTo>
                        <a:pt x="2244" y="574"/>
                      </a:lnTo>
                      <a:lnTo>
                        <a:pt x="2231" y="574"/>
                      </a:lnTo>
                      <a:lnTo>
                        <a:pt x="2222" y="574"/>
                      </a:lnTo>
                      <a:lnTo>
                        <a:pt x="2212" y="574"/>
                      </a:lnTo>
                      <a:lnTo>
                        <a:pt x="2200" y="574"/>
                      </a:lnTo>
                      <a:lnTo>
                        <a:pt x="2190" y="574"/>
                      </a:lnTo>
                      <a:lnTo>
                        <a:pt x="2180" y="574"/>
                      </a:lnTo>
                      <a:lnTo>
                        <a:pt x="2171" y="574"/>
                      </a:lnTo>
                      <a:lnTo>
                        <a:pt x="2165" y="574"/>
                      </a:lnTo>
                      <a:lnTo>
                        <a:pt x="2155" y="574"/>
                      </a:lnTo>
                      <a:lnTo>
                        <a:pt x="2149" y="574"/>
                      </a:lnTo>
                      <a:lnTo>
                        <a:pt x="2139" y="574"/>
                      </a:lnTo>
                      <a:lnTo>
                        <a:pt x="2133" y="571"/>
                      </a:lnTo>
                      <a:lnTo>
                        <a:pt x="2123" y="571"/>
                      </a:lnTo>
                      <a:lnTo>
                        <a:pt x="2117" y="571"/>
                      </a:lnTo>
                      <a:lnTo>
                        <a:pt x="2107" y="571"/>
                      </a:lnTo>
                      <a:lnTo>
                        <a:pt x="2101" y="571"/>
                      </a:lnTo>
                      <a:lnTo>
                        <a:pt x="2094" y="568"/>
                      </a:lnTo>
                      <a:lnTo>
                        <a:pt x="2085" y="568"/>
                      </a:lnTo>
                      <a:lnTo>
                        <a:pt x="2078" y="568"/>
                      </a:lnTo>
                      <a:lnTo>
                        <a:pt x="2069" y="568"/>
                      </a:lnTo>
                      <a:lnTo>
                        <a:pt x="2063" y="568"/>
                      </a:lnTo>
                      <a:lnTo>
                        <a:pt x="2053" y="568"/>
                      </a:lnTo>
                      <a:lnTo>
                        <a:pt x="2047" y="565"/>
                      </a:lnTo>
                      <a:lnTo>
                        <a:pt x="2037" y="565"/>
                      </a:lnTo>
                      <a:lnTo>
                        <a:pt x="2031" y="565"/>
                      </a:lnTo>
                      <a:lnTo>
                        <a:pt x="2021" y="565"/>
                      </a:lnTo>
                      <a:lnTo>
                        <a:pt x="2012" y="565"/>
                      </a:lnTo>
                      <a:lnTo>
                        <a:pt x="2005" y="565"/>
                      </a:lnTo>
                      <a:lnTo>
                        <a:pt x="1996" y="562"/>
                      </a:lnTo>
                      <a:lnTo>
                        <a:pt x="1989" y="562"/>
                      </a:lnTo>
                      <a:lnTo>
                        <a:pt x="1980" y="562"/>
                      </a:lnTo>
                      <a:lnTo>
                        <a:pt x="1970" y="562"/>
                      </a:lnTo>
                      <a:lnTo>
                        <a:pt x="1964" y="562"/>
                      </a:lnTo>
                      <a:lnTo>
                        <a:pt x="1954" y="562"/>
                      </a:lnTo>
                      <a:lnTo>
                        <a:pt x="1948" y="562"/>
                      </a:lnTo>
                      <a:lnTo>
                        <a:pt x="1938" y="558"/>
                      </a:lnTo>
                      <a:lnTo>
                        <a:pt x="1932" y="558"/>
                      </a:lnTo>
                      <a:lnTo>
                        <a:pt x="1922" y="558"/>
                      </a:lnTo>
                      <a:lnTo>
                        <a:pt x="1913" y="558"/>
                      </a:lnTo>
                      <a:lnTo>
                        <a:pt x="1906" y="558"/>
                      </a:lnTo>
                      <a:lnTo>
                        <a:pt x="1897" y="558"/>
                      </a:lnTo>
                      <a:lnTo>
                        <a:pt x="1890" y="555"/>
                      </a:lnTo>
                      <a:lnTo>
                        <a:pt x="1881" y="555"/>
                      </a:lnTo>
                      <a:lnTo>
                        <a:pt x="1871" y="555"/>
                      </a:lnTo>
                      <a:lnTo>
                        <a:pt x="1865" y="555"/>
                      </a:lnTo>
                      <a:lnTo>
                        <a:pt x="1855" y="555"/>
                      </a:lnTo>
                      <a:lnTo>
                        <a:pt x="1849" y="555"/>
                      </a:lnTo>
                      <a:lnTo>
                        <a:pt x="1839" y="555"/>
                      </a:lnTo>
                      <a:lnTo>
                        <a:pt x="1833" y="552"/>
                      </a:lnTo>
                      <a:lnTo>
                        <a:pt x="1823" y="552"/>
                      </a:lnTo>
                      <a:lnTo>
                        <a:pt x="1814" y="552"/>
                      </a:lnTo>
                      <a:lnTo>
                        <a:pt x="1807" y="552"/>
                      </a:lnTo>
                      <a:lnTo>
                        <a:pt x="1798" y="552"/>
                      </a:lnTo>
                      <a:lnTo>
                        <a:pt x="1792" y="552"/>
                      </a:lnTo>
                      <a:lnTo>
                        <a:pt x="1779" y="552"/>
                      </a:lnTo>
                      <a:lnTo>
                        <a:pt x="1769" y="549"/>
                      </a:lnTo>
                      <a:lnTo>
                        <a:pt x="1760" y="549"/>
                      </a:lnTo>
                      <a:lnTo>
                        <a:pt x="1750" y="549"/>
                      </a:lnTo>
                      <a:lnTo>
                        <a:pt x="1741" y="549"/>
                      </a:lnTo>
                      <a:lnTo>
                        <a:pt x="1731" y="549"/>
                      </a:lnTo>
                      <a:lnTo>
                        <a:pt x="1718" y="549"/>
                      </a:lnTo>
                      <a:lnTo>
                        <a:pt x="1709" y="546"/>
                      </a:lnTo>
                      <a:lnTo>
                        <a:pt x="1699" y="546"/>
                      </a:lnTo>
                      <a:lnTo>
                        <a:pt x="1690" y="546"/>
                      </a:lnTo>
                      <a:lnTo>
                        <a:pt x="1680" y="546"/>
                      </a:lnTo>
                      <a:lnTo>
                        <a:pt x="1670" y="546"/>
                      </a:lnTo>
                      <a:lnTo>
                        <a:pt x="1658" y="542"/>
                      </a:lnTo>
                      <a:lnTo>
                        <a:pt x="1648" y="542"/>
                      </a:lnTo>
                      <a:lnTo>
                        <a:pt x="1639" y="542"/>
                      </a:lnTo>
                      <a:lnTo>
                        <a:pt x="1629" y="542"/>
                      </a:lnTo>
                      <a:lnTo>
                        <a:pt x="1619" y="542"/>
                      </a:lnTo>
                      <a:lnTo>
                        <a:pt x="1610" y="542"/>
                      </a:lnTo>
                      <a:lnTo>
                        <a:pt x="1597" y="542"/>
                      </a:lnTo>
                      <a:lnTo>
                        <a:pt x="1588" y="539"/>
                      </a:lnTo>
                      <a:lnTo>
                        <a:pt x="1578" y="539"/>
                      </a:lnTo>
                      <a:lnTo>
                        <a:pt x="1568" y="539"/>
                      </a:lnTo>
                      <a:lnTo>
                        <a:pt x="1559" y="539"/>
                      </a:lnTo>
                      <a:lnTo>
                        <a:pt x="1549" y="539"/>
                      </a:lnTo>
                      <a:lnTo>
                        <a:pt x="1537" y="539"/>
                      </a:lnTo>
                      <a:lnTo>
                        <a:pt x="1527" y="536"/>
                      </a:lnTo>
                      <a:lnTo>
                        <a:pt x="1517" y="536"/>
                      </a:lnTo>
                      <a:lnTo>
                        <a:pt x="1508" y="536"/>
                      </a:lnTo>
                      <a:lnTo>
                        <a:pt x="1498" y="536"/>
                      </a:lnTo>
                      <a:lnTo>
                        <a:pt x="1489" y="536"/>
                      </a:lnTo>
                      <a:lnTo>
                        <a:pt x="1479" y="536"/>
                      </a:lnTo>
                      <a:lnTo>
                        <a:pt x="1466" y="533"/>
                      </a:lnTo>
                      <a:lnTo>
                        <a:pt x="1460" y="533"/>
                      </a:lnTo>
                      <a:lnTo>
                        <a:pt x="1450" y="533"/>
                      </a:lnTo>
                      <a:lnTo>
                        <a:pt x="1441" y="533"/>
                      </a:lnTo>
                      <a:lnTo>
                        <a:pt x="1431" y="533"/>
                      </a:lnTo>
                      <a:lnTo>
                        <a:pt x="1422" y="533"/>
                      </a:lnTo>
                      <a:lnTo>
                        <a:pt x="1412" y="533"/>
                      </a:lnTo>
                      <a:lnTo>
                        <a:pt x="1403" y="530"/>
                      </a:lnTo>
                      <a:lnTo>
                        <a:pt x="1396" y="530"/>
                      </a:lnTo>
                      <a:lnTo>
                        <a:pt x="1387" y="530"/>
                      </a:lnTo>
                      <a:lnTo>
                        <a:pt x="1377" y="530"/>
                      </a:lnTo>
                      <a:lnTo>
                        <a:pt x="1368" y="530"/>
                      </a:lnTo>
                      <a:lnTo>
                        <a:pt x="1358" y="530"/>
                      </a:lnTo>
                      <a:lnTo>
                        <a:pt x="1348" y="530"/>
                      </a:lnTo>
                      <a:lnTo>
                        <a:pt x="1342" y="527"/>
                      </a:lnTo>
                      <a:lnTo>
                        <a:pt x="1332" y="527"/>
                      </a:lnTo>
                      <a:lnTo>
                        <a:pt x="1323" y="527"/>
                      </a:lnTo>
                      <a:lnTo>
                        <a:pt x="1313" y="527"/>
                      </a:lnTo>
                      <a:lnTo>
                        <a:pt x="1304" y="527"/>
                      </a:lnTo>
                      <a:lnTo>
                        <a:pt x="1294" y="527"/>
                      </a:lnTo>
                      <a:lnTo>
                        <a:pt x="1285" y="527"/>
                      </a:lnTo>
                      <a:lnTo>
                        <a:pt x="1278" y="523"/>
                      </a:lnTo>
                      <a:lnTo>
                        <a:pt x="1269" y="523"/>
                      </a:lnTo>
                      <a:lnTo>
                        <a:pt x="1259" y="523"/>
                      </a:lnTo>
                      <a:lnTo>
                        <a:pt x="1250" y="523"/>
                      </a:lnTo>
                      <a:lnTo>
                        <a:pt x="1240" y="523"/>
                      </a:lnTo>
                      <a:lnTo>
                        <a:pt x="1230" y="523"/>
                      </a:lnTo>
                      <a:lnTo>
                        <a:pt x="1221" y="520"/>
                      </a:lnTo>
                      <a:lnTo>
                        <a:pt x="1215" y="520"/>
                      </a:lnTo>
                      <a:lnTo>
                        <a:pt x="1205" y="520"/>
                      </a:lnTo>
                      <a:lnTo>
                        <a:pt x="1195" y="520"/>
                      </a:lnTo>
                      <a:lnTo>
                        <a:pt x="1186" y="520"/>
                      </a:lnTo>
                      <a:lnTo>
                        <a:pt x="1176" y="517"/>
                      </a:lnTo>
                      <a:lnTo>
                        <a:pt x="1167" y="517"/>
                      </a:lnTo>
                      <a:lnTo>
                        <a:pt x="1154" y="517"/>
                      </a:lnTo>
                      <a:lnTo>
                        <a:pt x="1141" y="514"/>
                      </a:lnTo>
                      <a:lnTo>
                        <a:pt x="1128" y="514"/>
                      </a:lnTo>
                      <a:lnTo>
                        <a:pt x="1119" y="514"/>
                      </a:lnTo>
                      <a:lnTo>
                        <a:pt x="1106" y="514"/>
                      </a:lnTo>
                      <a:lnTo>
                        <a:pt x="1093" y="511"/>
                      </a:lnTo>
                      <a:lnTo>
                        <a:pt x="1081" y="511"/>
                      </a:lnTo>
                      <a:lnTo>
                        <a:pt x="1068" y="507"/>
                      </a:lnTo>
                      <a:lnTo>
                        <a:pt x="1058" y="507"/>
                      </a:lnTo>
                      <a:lnTo>
                        <a:pt x="1046" y="507"/>
                      </a:lnTo>
                      <a:lnTo>
                        <a:pt x="1033" y="504"/>
                      </a:lnTo>
                      <a:lnTo>
                        <a:pt x="1020" y="504"/>
                      </a:lnTo>
                      <a:lnTo>
                        <a:pt x="1011" y="504"/>
                      </a:lnTo>
                      <a:lnTo>
                        <a:pt x="998" y="501"/>
                      </a:lnTo>
                      <a:lnTo>
                        <a:pt x="985" y="501"/>
                      </a:lnTo>
                      <a:lnTo>
                        <a:pt x="972" y="501"/>
                      </a:lnTo>
                      <a:lnTo>
                        <a:pt x="963" y="498"/>
                      </a:lnTo>
                      <a:lnTo>
                        <a:pt x="950" y="498"/>
                      </a:lnTo>
                      <a:lnTo>
                        <a:pt x="937" y="495"/>
                      </a:lnTo>
                      <a:lnTo>
                        <a:pt x="924" y="495"/>
                      </a:lnTo>
                      <a:lnTo>
                        <a:pt x="915" y="495"/>
                      </a:lnTo>
                      <a:lnTo>
                        <a:pt x="902" y="491"/>
                      </a:lnTo>
                      <a:lnTo>
                        <a:pt x="889" y="491"/>
                      </a:lnTo>
                      <a:lnTo>
                        <a:pt x="877" y="491"/>
                      </a:lnTo>
                      <a:lnTo>
                        <a:pt x="864" y="488"/>
                      </a:lnTo>
                      <a:lnTo>
                        <a:pt x="854" y="488"/>
                      </a:lnTo>
                      <a:lnTo>
                        <a:pt x="842" y="485"/>
                      </a:lnTo>
                      <a:lnTo>
                        <a:pt x="829" y="485"/>
                      </a:lnTo>
                      <a:lnTo>
                        <a:pt x="816" y="485"/>
                      </a:lnTo>
                      <a:lnTo>
                        <a:pt x="806" y="482"/>
                      </a:lnTo>
                      <a:lnTo>
                        <a:pt x="794" y="482"/>
                      </a:lnTo>
                      <a:lnTo>
                        <a:pt x="781" y="482"/>
                      </a:lnTo>
                      <a:lnTo>
                        <a:pt x="768" y="479"/>
                      </a:lnTo>
                      <a:lnTo>
                        <a:pt x="752" y="479"/>
                      </a:lnTo>
                      <a:lnTo>
                        <a:pt x="740" y="479"/>
                      </a:lnTo>
                      <a:lnTo>
                        <a:pt x="727" y="476"/>
                      </a:lnTo>
                      <a:lnTo>
                        <a:pt x="714" y="476"/>
                      </a:lnTo>
                      <a:lnTo>
                        <a:pt x="701" y="476"/>
                      </a:lnTo>
                      <a:lnTo>
                        <a:pt x="689" y="476"/>
                      </a:lnTo>
                      <a:lnTo>
                        <a:pt x="673" y="472"/>
                      </a:lnTo>
                      <a:lnTo>
                        <a:pt x="660" y="472"/>
                      </a:lnTo>
                      <a:lnTo>
                        <a:pt x="647" y="472"/>
                      </a:lnTo>
                      <a:lnTo>
                        <a:pt x="634" y="469"/>
                      </a:lnTo>
                      <a:lnTo>
                        <a:pt x="622" y="469"/>
                      </a:lnTo>
                      <a:lnTo>
                        <a:pt x="609" y="466"/>
                      </a:lnTo>
                      <a:lnTo>
                        <a:pt x="596" y="466"/>
                      </a:lnTo>
                      <a:lnTo>
                        <a:pt x="583" y="463"/>
                      </a:lnTo>
                      <a:lnTo>
                        <a:pt x="574" y="463"/>
                      </a:lnTo>
                      <a:lnTo>
                        <a:pt x="564" y="460"/>
                      </a:lnTo>
                      <a:lnTo>
                        <a:pt x="551" y="460"/>
                      </a:lnTo>
                      <a:lnTo>
                        <a:pt x="542" y="456"/>
                      </a:lnTo>
                      <a:lnTo>
                        <a:pt x="532" y="456"/>
                      </a:lnTo>
                      <a:lnTo>
                        <a:pt x="523" y="453"/>
                      </a:lnTo>
                      <a:lnTo>
                        <a:pt x="513" y="453"/>
                      </a:lnTo>
                      <a:lnTo>
                        <a:pt x="504" y="450"/>
                      </a:lnTo>
                      <a:lnTo>
                        <a:pt x="494" y="447"/>
                      </a:lnTo>
                      <a:lnTo>
                        <a:pt x="485" y="447"/>
                      </a:lnTo>
                      <a:lnTo>
                        <a:pt x="475" y="444"/>
                      </a:lnTo>
                      <a:lnTo>
                        <a:pt x="465" y="444"/>
                      </a:lnTo>
                      <a:lnTo>
                        <a:pt x="456" y="440"/>
                      </a:lnTo>
                      <a:lnTo>
                        <a:pt x="446" y="437"/>
                      </a:lnTo>
                      <a:lnTo>
                        <a:pt x="437" y="437"/>
                      </a:lnTo>
                      <a:lnTo>
                        <a:pt x="427" y="434"/>
                      </a:lnTo>
                      <a:lnTo>
                        <a:pt x="418" y="431"/>
                      </a:lnTo>
                      <a:lnTo>
                        <a:pt x="408" y="431"/>
                      </a:lnTo>
                      <a:lnTo>
                        <a:pt x="395" y="428"/>
                      </a:lnTo>
                      <a:lnTo>
                        <a:pt x="386" y="424"/>
                      </a:lnTo>
                      <a:lnTo>
                        <a:pt x="376" y="424"/>
                      </a:lnTo>
                      <a:lnTo>
                        <a:pt x="367" y="421"/>
                      </a:lnTo>
                      <a:lnTo>
                        <a:pt x="357" y="418"/>
                      </a:lnTo>
                      <a:lnTo>
                        <a:pt x="347" y="415"/>
                      </a:lnTo>
                      <a:lnTo>
                        <a:pt x="338" y="415"/>
                      </a:lnTo>
                      <a:lnTo>
                        <a:pt x="328" y="412"/>
                      </a:lnTo>
                      <a:lnTo>
                        <a:pt x="319" y="409"/>
                      </a:lnTo>
                      <a:lnTo>
                        <a:pt x="309" y="405"/>
                      </a:lnTo>
                      <a:lnTo>
                        <a:pt x="300" y="405"/>
                      </a:lnTo>
                      <a:lnTo>
                        <a:pt x="290" y="402"/>
                      </a:lnTo>
                      <a:lnTo>
                        <a:pt x="281" y="399"/>
                      </a:lnTo>
                      <a:lnTo>
                        <a:pt x="271" y="396"/>
                      </a:lnTo>
                      <a:lnTo>
                        <a:pt x="265" y="396"/>
                      </a:lnTo>
                      <a:lnTo>
                        <a:pt x="255" y="393"/>
                      </a:lnTo>
                      <a:lnTo>
                        <a:pt x="249" y="389"/>
                      </a:lnTo>
                      <a:lnTo>
                        <a:pt x="242" y="389"/>
                      </a:lnTo>
                      <a:lnTo>
                        <a:pt x="233" y="386"/>
                      </a:lnTo>
                      <a:lnTo>
                        <a:pt x="226" y="383"/>
                      </a:lnTo>
                      <a:lnTo>
                        <a:pt x="220" y="380"/>
                      </a:lnTo>
                      <a:lnTo>
                        <a:pt x="210" y="377"/>
                      </a:lnTo>
                      <a:lnTo>
                        <a:pt x="204" y="373"/>
                      </a:lnTo>
                      <a:lnTo>
                        <a:pt x="198" y="370"/>
                      </a:lnTo>
                      <a:lnTo>
                        <a:pt x="188" y="367"/>
                      </a:lnTo>
                      <a:lnTo>
                        <a:pt x="182" y="364"/>
                      </a:lnTo>
                      <a:lnTo>
                        <a:pt x="175" y="361"/>
                      </a:lnTo>
                      <a:lnTo>
                        <a:pt x="169" y="358"/>
                      </a:lnTo>
                      <a:lnTo>
                        <a:pt x="163" y="354"/>
                      </a:lnTo>
                      <a:lnTo>
                        <a:pt x="156" y="348"/>
                      </a:lnTo>
                      <a:lnTo>
                        <a:pt x="147" y="345"/>
                      </a:lnTo>
                      <a:lnTo>
                        <a:pt x="140" y="338"/>
                      </a:lnTo>
                      <a:lnTo>
                        <a:pt x="134" y="335"/>
                      </a:lnTo>
                      <a:lnTo>
                        <a:pt x="127" y="329"/>
                      </a:lnTo>
                      <a:lnTo>
                        <a:pt x="121" y="326"/>
                      </a:lnTo>
                      <a:lnTo>
                        <a:pt x="112" y="319"/>
                      </a:lnTo>
                      <a:lnTo>
                        <a:pt x="105" y="313"/>
                      </a:lnTo>
                      <a:lnTo>
                        <a:pt x="99" y="307"/>
                      </a:lnTo>
                      <a:lnTo>
                        <a:pt x="92" y="303"/>
                      </a:lnTo>
                      <a:lnTo>
                        <a:pt x="86" y="297"/>
                      </a:lnTo>
                      <a:lnTo>
                        <a:pt x="80" y="291"/>
                      </a:lnTo>
                      <a:lnTo>
                        <a:pt x="73" y="284"/>
                      </a:lnTo>
                      <a:lnTo>
                        <a:pt x="70" y="278"/>
                      </a:lnTo>
                      <a:lnTo>
                        <a:pt x="64" y="271"/>
                      </a:lnTo>
                      <a:lnTo>
                        <a:pt x="57" y="265"/>
                      </a:lnTo>
                      <a:lnTo>
                        <a:pt x="54" y="255"/>
                      </a:lnTo>
                      <a:lnTo>
                        <a:pt x="45" y="240"/>
                      </a:lnTo>
                      <a:lnTo>
                        <a:pt x="35" y="220"/>
                      </a:lnTo>
                      <a:lnTo>
                        <a:pt x="29" y="201"/>
                      </a:lnTo>
                      <a:lnTo>
                        <a:pt x="22" y="179"/>
                      </a:lnTo>
                      <a:lnTo>
                        <a:pt x="16" y="160"/>
                      </a:lnTo>
                      <a:lnTo>
                        <a:pt x="13" y="137"/>
                      </a:lnTo>
                      <a:lnTo>
                        <a:pt x="10" y="118"/>
                      </a:lnTo>
                      <a:lnTo>
                        <a:pt x="3" y="96"/>
                      </a:lnTo>
                      <a:lnTo>
                        <a:pt x="0" y="74"/>
                      </a:lnTo>
                      <a:lnTo>
                        <a:pt x="0" y="48"/>
                      </a:lnTo>
                      <a:lnTo>
                        <a:pt x="0" y="23"/>
                      </a:lnTo>
                      <a:lnTo>
                        <a:pt x="3" y="0"/>
                      </a:lnTo>
                      <a:lnTo>
                        <a:pt x="10" y="7"/>
                      </a:lnTo>
                      <a:lnTo>
                        <a:pt x="19" y="10"/>
                      </a:lnTo>
                      <a:lnTo>
                        <a:pt x="25" y="16"/>
                      </a:lnTo>
                      <a:lnTo>
                        <a:pt x="35" y="23"/>
                      </a:lnTo>
                      <a:lnTo>
                        <a:pt x="45" y="26"/>
                      </a:lnTo>
                      <a:lnTo>
                        <a:pt x="54" y="29"/>
                      </a:lnTo>
                      <a:lnTo>
                        <a:pt x="64" y="32"/>
                      </a:lnTo>
                      <a:lnTo>
                        <a:pt x="73" y="39"/>
                      </a:lnTo>
                      <a:lnTo>
                        <a:pt x="83" y="42"/>
                      </a:lnTo>
                      <a:lnTo>
                        <a:pt x="96" y="45"/>
                      </a:lnTo>
                      <a:lnTo>
                        <a:pt x="105" y="48"/>
                      </a:lnTo>
                      <a:lnTo>
                        <a:pt x="118" y="51"/>
                      </a:lnTo>
                      <a:lnTo>
                        <a:pt x="131" y="51"/>
                      </a:lnTo>
                      <a:lnTo>
                        <a:pt x="143" y="55"/>
                      </a:lnTo>
                      <a:lnTo>
                        <a:pt x="156" y="58"/>
                      </a:lnTo>
                      <a:lnTo>
                        <a:pt x="169" y="61"/>
                      </a:lnTo>
                      <a:lnTo>
                        <a:pt x="175" y="64"/>
                      </a:lnTo>
                      <a:lnTo>
                        <a:pt x="178" y="64"/>
                      </a:lnTo>
                      <a:lnTo>
                        <a:pt x="185" y="67"/>
                      </a:lnTo>
                      <a:lnTo>
                        <a:pt x="191" y="67"/>
                      </a:lnTo>
                      <a:lnTo>
                        <a:pt x="198" y="71"/>
                      </a:lnTo>
                      <a:lnTo>
                        <a:pt x="204" y="74"/>
                      </a:lnTo>
                      <a:lnTo>
                        <a:pt x="214" y="77"/>
                      </a:lnTo>
                      <a:lnTo>
                        <a:pt x="220" y="77"/>
                      </a:lnTo>
                      <a:lnTo>
                        <a:pt x="226" y="80"/>
                      </a:lnTo>
                      <a:lnTo>
                        <a:pt x="233" y="80"/>
                      </a:lnTo>
                      <a:lnTo>
                        <a:pt x="239" y="83"/>
                      </a:lnTo>
                      <a:lnTo>
                        <a:pt x="245" y="83"/>
                      </a:lnTo>
                      <a:lnTo>
                        <a:pt x="252" y="83"/>
                      </a:lnTo>
                      <a:lnTo>
                        <a:pt x="258" y="86"/>
                      </a:lnTo>
                      <a:lnTo>
                        <a:pt x="265" y="86"/>
                      </a:lnTo>
                      <a:lnTo>
                        <a:pt x="268" y="83"/>
                      </a:lnTo>
                      <a:lnTo>
                        <a:pt x="271" y="83"/>
                      </a:lnTo>
                      <a:lnTo>
                        <a:pt x="277" y="80"/>
                      </a:lnTo>
                      <a:lnTo>
                        <a:pt x="284" y="77"/>
                      </a:lnTo>
                      <a:lnTo>
                        <a:pt x="290" y="74"/>
                      </a:lnTo>
                      <a:lnTo>
                        <a:pt x="293" y="74"/>
                      </a:lnTo>
                      <a:lnTo>
                        <a:pt x="300" y="71"/>
                      </a:lnTo>
                      <a:lnTo>
                        <a:pt x="309" y="67"/>
                      </a:lnTo>
                      <a:lnTo>
                        <a:pt x="316" y="64"/>
                      </a:lnTo>
                      <a:lnTo>
                        <a:pt x="322" y="64"/>
                      </a:lnTo>
                      <a:lnTo>
                        <a:pt x="328" y="61"/>
                      </a:lnTo>
                      <a:lnTo>
                        <a:pt x="335" y="61"/>
                      </a:lnTo>
                      <a:lnTo>
                        <a:pt x="338" y="58"/>
                      </a:lnTo>
                      <a:lnTo>
                        <a:pt x="344" y="58"/>
                      </a:lnTo>
                      <a:lnTo>
                        <a:pt x="351" y="58"/>
                      </a:lnTo>
                      <a:lnTo>
                        <a:pt x="357" y="58"/>
                      </a:lnTo>
                      <a:lnTo>
                        <a:pt x="360" y="58"/>
                      </a:lnTo>
                      <a:lnTo>
                        <a:pt x="373" y="58"/>
                      </a:lnTo>
                      <a:lnTo>
                        <a:pt x="386" y="61"/>
                      </a:lnTo>
                      <a:lnTo>
                        <a:pt x="398" y="64"/>
                      </a:lnTo>
                      <a:lnTo>
                        <a:pt x="411" y="67"/>
                      </a:lnTo>
                      <a:lnTo>
                        <a:pt x="421" y="74"/>
                      </a:lnTo>
                      <a:lnTo>
                        <a:pt x="434" y="80"/>
                      </a:lnTo>
                      <a:lnTo>
                        <a:pt x="443" y="90"/>
                      </a:lnTo>
                      <a:lnTo>
                        <a:pt x="453" y="96"/>
                      </a:lnTo>
                      <a:lnTo>
                        <a:pt x="462" y="106"/>
                      </a:lnTo>
                      <a:lnTo>
                        <a:pt x="472" y="112"/>
                      </a:lnTo>
                      <a:lnTo>
                        <a:pt x="481" y="122"/>
                      </a:lnTo>
                      <a:lnTo>
                        <a:pt x="491" y="131"/>
                      </a:lnTo>
                      <a:lnTo>
                        <a:pt x="500" y="137"/>
                      </a:lnTo>
                      <a:lnTo>
                        <a:pt x="510" y="147"/>
                      </a:lnTo>
                      <a:lnTo>
                        <a:pt x="520" y="153"/>
                      </a:lnTo>
                      <a:lnTo>
                        <a:pt x="532" y="160"/>
                      </a:lnTo>
                      <a:lnTo>
                        <a:pt x="529" y="150"/>
                      </a:lnTo>
                      <a:lnTo>
                        <a:pt x="526" y="141"/>
                      </a:lnTo>
                      <a:lnTo>
                        <a:pt x="523" y="131"/>
                      </a:lnTo>
                      <a:lnTo>
                        <a:pt x="520" y="125"/>
                      </a:lnTo>
                      <a:lnTo>
                        <a:pt x="516" y="115"/>
                      </a:lnTo>
                      <a:lnTo>
                        <a:pt x="516" y="109"/>
                      </a:lnTo>
                      <a:lnTo>
                        <a:pt x="513" y="102"/>
                      </a:lnTo>
                      <a:lnTo>
                        <a:pt x="510" y="96"/>
                      </a:lnTo>
                      <a:lnTo>
                        <a:pt x="513" y="99"/>
                      </a:lnTo>
                      <a:lnTo>
                        <a:pt x="520" y="99"/>
                      </a:lnTo>
                      <a:lnTo>
                        <a:pt x="523" y="102"/>
                      </a:lnTo>
                      <a:lnTo>
                        <a:pt x="526" y="102"/>
                      </a:lnTo>
                      <a:lnTo>
                        <a:pt x="532" y="106"/>
                      </a:lnTo>
                      <a:lnTo>
                        <a:pt x="536" y="109"/>
                      </a:lnTo>
                      <a:lnTo>
                        <a:pt x="539" y="112"/>
                      </a:lnTo>
                      <a:lnTo>
                        <a:pt x="542" y="115"/>
                      </a:lnTo>
                      <a:lnTo>
                        <a:pt x="545" y="118"/>
                      </a:lnTo>
                      <a:lnTo>
                        <a:pt x="548" y="122"/>
                      </a:lnTo>
                      <a:lnTo>
                        <a:pt x="551" y="125"/>
                      </a:lnTo>
                      <a:lnTo>
                        <a:pt x="555" y="128"/>
                      </a:lnTo>
                      <a:lnTo>
                        <a:pt x="558" y="128"/>
                      </a:lnTo>
                      <a:lnTo>
                        <a:pt x="558" y="131"/>
                      </a:lnTo>
                      <a:lnTo>
                        <a:pt x="561" y="134"/>
                      </a:lnTo>
                      <a:lnTo>
                        <a:pt x="564" y="134"/>
                      </a:lnTo>
                      <a:lnTo>
                        <a:pt x="571" y="137"/>
                      </a:lnTo>
                      <a:lnTo>
                        <a:pt x="574" y="137"/>
                      </a:lnTo>
                      <a:lnTo>
                        <a:pt x="580" y="137"/>
                      </a:lnTo>
                      <a:lnTo>
                        <a:pt x="583" y="137"/>
                      </a:lnTo>
                      <a:lnTo>
                        <a:pt x="590" y="137"/>
                      </a:lnTo>
                      <a:lnTo>
                        <a:pt x="593" y="137"/>
                      </a:lnTo>
                      <a:lnTo>
                        <a:pt x="599" y="137"/>
                      </a:lnTo>
                      <a:lnTo>
                        <a:pt x="602" y="137"/>
                      </a:lnTo>
                      <a:lnTo>
                        <a:pt x="609" y="137"/>
                      </a:lnTo>
                      <a:lnTo>
                        <a:pt x="612" y="137"/>
                      </a:lnTo>
                      <a:lnTo>
                        <a:pt x="618" y="137"/>
                      </a:lnTo>
                      <a:lnTo>
                        <a:pt x="625" y="134"/>
                      </a:lnTo>
                      <a:lnTo>
                        <a:pt x="628" y="134"/>
                      </a:lnTo>
                      <a:lnTo>
                        <a:pt x="634" y="134"/>
                      </a:lnTo>
                      <a:lnTo>
                        <a:pt x="641" y="134"/>
                      </a:lnTo>
                      <a:lnTo>
                        <a:pt x="650" y="134"/>
                      </a:lnTo>
                      <a:lnTo>
                        <a:pt x="657" y="134"/>
                      </a:lnTo>
                      <a:lnTo>
                        <a:pt x="666" y="134"/>
                      </a:lnTo>
                      <a:lnTo>
                        <a:pt x="676" y="134"/>
                      </a:lnTo>
                      <a:lnTo>
                        <a:pt x="685" y="134"/>
                      </a:lnTo>
                      <a:lnTo>
                        <a:pt x="695" y="134"/>
                      </a:lnTo>
                      <a:lnTo>
                        <a:pt x="701" y="134"/>
                      </a:lnTo>
                      <a:lnTo>
                        <a:pt x="711" y="137"/>
                      </a:lnTo>
                      <a:lnTo>
                        <a:pt x="720" y="137"/>
                      </a:lnTo>
                      <a:lnTo>
                        <a:pt x="730" y="137"/>
                      </a:lnTo>
                      <a:lnTo>
                        <a:pt x="736" y="137"/>
                      </a:lnTo>
                      <a:lnTo>
                        <a:pt x="746" y="137"/>
                      </a:lnTo>
                      <a:lnTo>
                        <a:pt x="755" y="141"/>
                      </a:lnTo>
                      <a:lnTo>
                        <a:pt x="762" y="141"/>
                      </a:lnTo>
                      <a:lnTo>
                        <a:pt x="771" y="141"/>
                      </a:lnTo>
                      <a:lnTo>
                        <a:pt x="781" y="141"/>
                      </a:lnTo>
                      <a:lnTo>
                        <a:pt x="791" y="144"/>
                      </a:lnTo>
                      <a:lnTo>
                        <a:pt x="797" y="144"/>
                      </a:lnTo>
                      <a:lnTo>
                        <a:pt x="803" y="144"/>
                      </a:lnTo>
                      <a:lnTo>
                        <a:pt x="813" y="144"/>
                      </a:lnTo>
                      <a:lnTo>
                        <a:pt x="819" y="147"/>
                      </a:lnTo>
                      <a:lnTo>
                        <a:pt x="826" y="147"/>
                      </a:lnTo>
                      <a:lnTo>
                        <a:pt x="832" y="147"/>
                      </a:lnTo>
                      <a:lnTo>
                        <a:pt x="838" y="150"/>
                      </a:lnTo>
                      <a:lnTo>
                        <a:pt x="848" y="150"/>
                      </a:lnTo>
                      <a:lnTo>
                        <a:pt x="854" y="150"/>
                      </a:lnTo>
                      <a:lnTo>
                        <a:pt x="861" y="150"/>
                      </a:lnTo>
                      <a:lnTo>
                        <a:pt x="867" y="153"/>
                      </a:lnTo>
                      <a:lnTo>
                        <a:pt x="873" y="153"/>
                      </a:lnTo>
                      <a:lnTo>
                        <a:pt x="883" y="153"/>
                      </a:lnTo>
                      <a:lnTo>
                        <a:pt x="889" y="157"/>
                      </a:lnTo>
                      <a:lnTo>
                        <a:pt x="896" y="157"/>
                      </a:lnTo>
                      <a:lnTo>
                        <a:pt x="902" y="157"/>
                      </a:lnTo>
                      <a:lnTo>
                        <a:pt x="912" y="157"/>
                      </a:lnTo>
                      <a:lnTo>
                        <a:pt x="918" y="160"/>
                      </a:lnTo>
                      <a:lnTo>
                        <a:pt x="924" y="160"/>
                      </a:lnTo>
                      <a:lnTo>
                        <a:pt x="931" y="160"/>
                      </a:lnTo>
                      <a:lnTo>
                        <a:pt x="937" y="163"/>
                      </a:lnTo>
                      <a:lnTo>
                        <a:pt x="947" y="163"/>
                      </a:lnTo>
                      <a:lnTo>
                        <a:pt x="953" y="163"/>
                      </a:lnTo>
                      <a:lnTo>
                        <a:pt x="960" y="163"/>
                      </a:lnTo>
                      <a:lnTo>
                        <a:pt x="966" y="166"/>
                      </a:lnTo>
                      <a:lnTo>
                        <a:pt x="972" y="166"/>
                      </a:lnTo>
                      <a:lnTo>
                        <a:pt x="982" y="166"/>
                      </a:lnTo>
                      <a:lnTo>
                        <a:pt x="988" y="169"/>
                      </a:lnTo>
                      <a:lnTo>
                        <a:pt x="995" y="169"/>
                      </a:lnTo>
                      <a:lnTo>
                        <a:pt x="1001" y="169"/>
                      </a:lnTo>
                      <a:lnTo>
                        <a:pt x="1007" y="169"/>
                      </a:lnTo>
                      <a:lnTo>
                        <a:pt x="1014" y="173"/>
                      </a:lnTo>
                      <a:lnTo>
                        <a:pt x="1023" y="173"/>
                      </a:lnTo>
                      <a:lnTo>
                        <a:pt x="1033" y="173"/>
                      </a:lnTo>
                      <a:lnTo>
                        <a:pt x="1039" y="176"/>
                      </a:lnTo>
                      <a:lnTo>
                        <a:pt x="1049" y="176"/>
                      </a:lnTo>
                      <a:lnTo>
                        <a:pt x="1058" y="176"/>
                      </a:lnTo>
                      <a:lnTo>
                        <a:pt x="1068" y="176"/>
                      </a:lnTo>
                      <a:lnTo>
                        <a:pt x="1074" y="179"/>
                      </a:lnTo>
                      <a:lnTo>
                        <a:pt x="1084" y="179"/>
                      </a:lnTo>
                      <a:lnTo>
                        <a:pt x="1093" y="179"/>
                      </a:lnTo>
                      <a:lnTo>
                        <a:pt x="1100" y="182"/>
                      </a:lnTo>
                      <a:lnTo>
                        <a:pt x="1109" y="182"/>
                      </a:lnTo>
                      <a:lnTo>
                        <a:pt x="1119" y="182"/>
                      </a:lnTo>
                      <a:lnTo>
                        <a:pt x="1125" y="182"/>
                      </a:lnTo>
                      <a:lnTo>
                        <a:pt x="1135" y="185"/>
                      </a:lnTo>
                      <a:lnTo>
                        <a:pt x="1144" y="185"/>
                      </a:lnTo>
                      <a:lnTo>
                        <a:pt x="1154" y="185"/>
                      </a:lnTo>
                      <a:lnTo>
                        <a:pt x="1160" y="185"/>
                      </a:lnTo>
                      <a:lnTo>
                        <a:pt x="1170" y="189"/>
                      </a:lnTo>
                      <a:lnTo>
                        <a:pt x="1179" y="189"/>
                      </a:lnTo>
                      <a:lnTo>
                        <a:pt x="1186" y="189"/>
                      </a:lnTo>
                      <a:lnTo>
                        <a:pt x="1195" y="189"/>
                      </a:lnTo>
                      <a:lnTo>
                        <a:pt x="1205" y="192"/>
                      </a:lnTo>
                      <a:lnTo>
                        <a:pt x="1211" y="192"/>
                      </a:lnTo>
                      <a:lnTo>
                        <a:pt x="1221" y="192"/>
                      </a:lnTo>
                      <a:lnTo>
                        <a:pt x="1230" y="192"/>
                      </a:lnTo>
                      <a:lnTo>
                        <a:pt x="1240" y="192"/>
                      </a:lnTo>
                      <a:lnTo>
                        <a:pt x="1246" y="192"/>
                      </a:lnTo>
                      <a:lnTo>
                        <a:pt x="1256" y="195"/>
                      </a:lnTo>
                      <a:lnTo>
                        <a:pt x="1266" y="195"/>
                      </a:lnTo>
                      <a:lnTo>
                        <a:pt x="1272" y="195"/>
                      </a:lnTo>
                      <a:lnTo>
                        <a:pt x="1281" y="195"/>
                      </a:lnTo>
                      <a:lnTo>
                        <a:pt x="1291" y="195"/>
                      </a:lnTo>
                      <a:lnTo>
                        <a:pt x="1301" y="195"/>
                      </a:lnTo>
                      <a:lnTo>
                        <a:pt x="1307" y="195"/>
                      </a:lnTo>
                      <a:lnTo>
                        <a:pt x="1317" y="198"/>
                      </a:lnTo>
                      <a:lnTo>
                        <a:pt x="1326" y="198"/>
                      </a:lnTo>
                      <a:lnTo>
                        <a:pt x="1336" y="198"/>
                      </a:lnTo>
                      <a:lnTo>
                        <a:pt x="1345" y="198"/>
                      </a:lnTo>
                      <a:lnTo>
                        <a:pt x="1355" y="198"/>
                      </a:lnTo>
                      <a:lnTo>
                        <a:pt x="1364" y="198"/>
                      </a:lnTo>
                      <a:lnTo>
                        <a:pt x="1374" y="198"/>
                      </a:lnTo>
                      <a:lnTo>
                        <a:pt x="1384" y="198"/>
                      </a:lnTo>
                      <a:lnTo>
                        <a:pt x="1390" y="198"/>
                      </a:lnTo>
                      <a:lnTo>
                        <a:pt x="1399" y="198"/>
                      </a:lnTo>
                      <a:lnTo>
                        <a:pt x="1409" y="198"/>
                      </a:lnTo>
                      <a:lnTo>
                        <a:pt x="1419" y="198"/>
                      </a:lnTo>
                      <a:lnTo>
                        <a:pt x="1428" y="201"/>
                      </a:lnTo>
                      <a:lnTo>
                        <a:pt x="1438" y="201"/>
                      </a:lnTo>
                      <a:lnTo>
                        <a:pt x="1447" y="201"/>
                      </a:lnTo>
                      <a:lnTo>
                        <a:pt x="1457" y="201"/>
                      </a:lnTo>
                      <a:lnTo>
                        <a:pt x="1463" y="201"/>
                      </a:lnTo>
                      <a:lnTo>
                        <a:pt x="1473" y="198"/>
                      </a:lnTo>
                      <a:lnTo>
                        <a:pt x="1482" y="198"/>
                      </a:lnTo>
                      <a:lnTo>
                        <a:pt x="1492" y="198"/>
                      </a:lnTo>
                      <a:lnTo>
                        <a:pt x="1501" y="198"/>
                      </a:lnTo>
                      <a:lnTo>
                        <a:pt x="1511" y="198"/>
                      </a:lnTo>
                      <a:lnTo>
                        <a:pt x="1521" y="198"/>
                      </a:lnTo>
                      <a:lnTo>
                        <a:pt x="1530" y="198"/>
                      </a:lnTo>
                      <a:lnTo>
                        <a:pt x="1537" y="198"/>
                      </a:lnTo>
                      <a:lnTo>
                        <a:pt x="1546" y="198"/>
                      </a:lnTo>
                      <a:lnTo>
                        <a:pt x="1556" y="195"/>
                      </a:lnTo>
                      <a:lnTo>
                        <a:pt x="1565" y="195"/>
                      </a:lnTo>
                      <a:lnTo>
                        <a:pt x="1575" y="195"/>
                      </a:lnTo>
                      <a:lnTo>
                        <a:pt x="1584" y="195"/>
                      </a:lnTo>
                      <a:lnTo>
                        <a:pt x="1591" y="192"/>
                      </a:lnTo>
                      <a:lnTo>
                        <a:pt x="1597" y="192"/>
                      </a:lnTo>
                      <a:lnTo>
                        <a:pt x="1607" y="189"/>
                      </a:lnTo>
                      <a:lnTo>
                        <a:pt x="1613" y="185"/>
                      </a:lnTo>
                      <a:lnTo>
                        <a:pt x="1623" y="182"/>
                      </a:lnTo>
                      <a:lnTo>
                        <a:pt x="1629" y="176"/>
                      </a:lnTo>
                      <a:lnTo>
                        <a:pt x="1639" y="173"/>
                      </a:lnTo>
                      <a:lnTo>
                        <a:pt x="1645" y="166"/>
                      </a:lnTo>
                      <a:lnTo>
                        <a:pt x="1651" y="163"/>
                      </a:lnTo>
                      <a:lnTo>
                        <a:pt x="1661" y="157"/>
                      </a:lnTo>
                      <a:lnTo>
                        <a:pt x="1667" y="153"/>
                      </a:lnTo>
                      <a:lnTo>
                        <a:pt x="1677" y="150"/>
                      </a:lnTo>
                      <a:lnTo>
                        <a:pt x="1683" y="147"/>
                      </a:lnTo>
                      <a:lnTo>
                        <a:pt x="1690" y="144"/>
                      </a:lnTo>
                      <a:lnTo>
                        <a:pt x="1699" y="141"/>
                      </a:lnTo>
                      <a:lnTo>
                        <a:pt x="1705" y="137"/>
                      </a:lnTo>
                      <a:lnTo>
                        <a:pt x="1712" y="137"/>
                      </a:lnTo>
                      <a:lnTo>
                        <a:pt x="1718" y="137"/>
                      </a:lnTo>
                      <a:lnTo>
                        <a:pt x="1728" y="137"/>
                      </a:lnTo>
                      <a:lnTo>
                        <a:pt x="1734" y="134"/>
                      </a:lnTo>
                      <a:lnTo>
                        <a:pt x="1741" y="134"/>
                      </a:lnTo>
                      <a:lnTo>
                        <a:pt x="1750" y="134"/>
                      </a:lnTo>
                      <a:lnTo>
                        <a:pt x="1756" y="134"/>
                      </a:lnTo>
                      <a:lnTo>
                        <a:pt x="1763" y="134"/>
                      </a:lnTo>
                      <a:lnTo>
                        <a:pt x="1772" y="134"/>
                      </a:lnTo>
                      <a:lnTo>
                        <a:pt x="1779" y="137"/>
                      </a:lnTo>
                      <a:lnTo>
                        <a:pt x="1785" y="137"/>
                      </a:lnTo>
                      <a:lnTo>
                        <a:pt x="1792" y="137"/>
                      </a:lnTo>
                      <a:lnTo>
                        <a:pt x="1801" y="141"/>
                      </a:lnTo>
                      <a:lnTo>
                        <a:pt x="1807" y="141"/>
                      </a:lnTo>
                      <a:lnTo>
                        <a:pt x="1814" y="144"/>
                      </a:lnTo>
                      <a:lnTo>
                        <a:pt x="1820" y="144"/>
                      </a:lnTo>
                      <a:lnTo>
                        <a:pt x="1833" y="150"/>
                      </a:lnTo>
                      <a:lnTo>
                        <a:pt x="1846" y="157"/>
                      </a:lnTo>
                      <a:lnTo>
                        <a:pt x="1858" y="160"/>
                      </a:lnTo>
                      <a:lnTo>
                        <a:pt x="1871" y="166"/>
                      </a:lnTo>
                      <a:lnTo>
                        <a:pt x="1887" y="173"/>
                      </a:lnTo>
                      <a:lnTo>
                        <a:pt x="1900" y="179"/>
                      </a:lnTo>
                      <a:lnTo>
                        <a:pt x="1913" y="189"/>
                      </a:lnTo>
                      <a:lnTo>
                        <a:pt x="1925" y="195"/>
                      </a:lnTo>
                      <a:lnTo>
                        <a:pt x="1938" y="201"/>
                      </a:lnTo>
                      <a:lnTo>
                        <a:pt x="1948" y="208"/>
                      </a:lnTo>
                      <a:lnTo>
                        <a:pt x="1961" y="214"/>
                      </a:lnTo>
                      <a:lnTo>
                        <a:pt x="1973" y="224"/>
                      </a:lnTo>
                      <a:lnTo>
                        <a:pt x="1986" y="230"/>
                      </a:lnTo>
                      <a:lnTo>
                        <a:pt x="1996" y="236"/>
                      </a:lnTo>
                      <a:lnTo>
                        <a:pt x="2008" y="243"/>
                      </a:lnTo>
                      <a:lnTo>
                        <a:pt x="2018" y="249"/>
                      </a:lnTo>
                      <a:lnTo>
                        <a:pt x="2031" y="255"/>
                      </a:lnTo>
                      <a:lnTo>
                        <a:pt x="2043" y="262"/>
                      </a:lnTo>
                      <a:lnTo>
                        <a:pt x="2053" y="268"/>
                      </a:lnTo>
                      <a:lnTo>
                        <a:pt x="2066" y="275"/>
                      </a:lnTo>
                      <a:lnTo>
                        <a:pt x="2078" y="278"/>
                      </a:lnTo>
                      <a:lnTo>
                        <a:pt x="2088" y="284"/>
                      </a:lnTo>
                      <a:lnTo>
                        <a:pt x="2101" y="287"/>
                      </a:lnTo>
                      <a:lnTo>
                        <a:pt x="2114" y="291"/>
                      </a:lnTo>
                      <a:lnTo>
                        <a:pt x="2126" y="294"/>
                      </a:lnTo>
                      <a:lnTo>
                        <a:pt x="2139" y="297"/>
                      </a:lnTo>
                      <a:lnTo>
                        <a:pt x="2152" y="297"/>
                      </a:lnTo>
                      <a:lnTo>
                        <a:pt x="2165" y="300"/>
                      </a:lnTo>
                      <a:lnTo>
                        <a:pt x="2177" y="303"/>
                      </a:lnTo>
                      <a:lnTo>
                        <a:pt x="2190" y="307"/>
                      </a:lnTo>
                      <a:lnTo>
                        <a:pt x="2203" y="310"/>
                      </a:lnTo>
                      <a:lnTo>
                        <a:pt x="2219" y="313"/>
                      </a:lnTo>
                      <a:lnTo>
                        <a:pt x="2225" y="313"/>
                      </a:lnTo>
                      <a:lnTo>
                        <a:pt x="2231" y="313"/>
                      </a:lnTo>
                      <a:lnTo>
                        <a:pt x="2241" y="316"/>
                      </a:lnTo>
                      <a:lnTo>
                        <a:pt x="2247" y="316"/>
                      </a:lnTo>
                      <a:lnTo>
                        <a:pt x="2254" y="319"/>
                      </a:lnTo>
                      <a:lnTo>
                        <a:pt x="2260" y="319"/>
                      </a:lnTo>
                      <a:lnTo>
                        <a:pt x="2267" y="319"/>
                      </a:lnTo>
                      <a:lnTo>
                        <a:pt x="2276" y="322"/>
                      </a:lnTo>
                      <a:lnTo>
                        <a:pt x="2282" y="322"/>
                      </a:lnTo>
                      <a:lnTo>
                        <a:pt x="2289" y="322"/>
                      </a:lnTo>
                      <a:lnTo>
                        <a:pt x="2295" y="326"/>
                      </a:lnTo>
                      <a:lnTo>
                        <a:pt x="2302" y="326"/>
                      </a:lnTo>
                      <a:lnTo>
                        <a:pt x="2308" y="326"/>
                      </a:lnTo>
                      <a:lnTo>
                        <a:pt x="2318" y="326"/>
                      </a:lnTo>
                      <a:lnTo>
                        <a:pt x="2324" y="329"/>
                      </a:lnTo>
                      <a:lnTo>
                        <a:pt x="2330" y="329"/>
                      </a:lnTo>
                      <a:lnTo>
                        <a:pt x="2337" y="329"/>
                      </a:lnTo>
                      <a:lnTo>
                        <a:pt x="2343" y="329"/>
                      </a:lnTo>
                      <a:lnTo>
                        <a:pt x="2349" y="332"/>
                      </a:lnTo>
                      <a:lnTo>
                        <a:pt x="2356" y="332"/>
                      </a:lnTo>
                      <a:lnTo>
                        <a:pt x="2365" y="332"/>
                      </a:lnTo>
                      <a:lnTo>
                        <a:pt x="2372" y="332"/>
                      </a:lnTo>
                      <a:lnTo>
                        <a:pt x="2378" y="335"/>
                      </a:lnTo>
                      <a:lnTo>
                        <a:pt x="2384" y="335"/>
                      </a:lnTo>
                      <a:lnTo>
                        <a:pt x="2391" y="335"/>
                      </a:lnTo>
                      <a:lnTo>
                        <a:pt x="2397" y="335"/>
                      </a:lnTo>
                      <a:lnTo>
                        <a:pt x="2407" y="335"/>
                      </a:lnTo>
                      <a:lnTo>
                        <a:pt x="2413" y="338"/>
                      </a:lnTo>
                      <a:lnTo>
                        <a:pt x="2420" y="338"/>
                      </a:lnTo>
                      <a:lnTo>
                        <a:pt x="2426" y="338"/>
                      </a:lnTo>
                      <a:lnTo>
                        <a:pt x="2432" y="338"/>
                      </a:lnTo>
                      <a:lnTo>
                        <a:pt x="2442" y="342"/>
                      </a:lnTo>
                      <a:lnTo>
                        <a:pt x="2455" y="342"/>
                      </a:lnTo>
                      <a:lnTo>
                        <a:pt x="2467" y="342"/>
                      </a:lnTo>
                      <a:lnTo>
                        <a:pt x="2480" y="342"/>
                      </a:lnTo>
                      <a:lnTo>
                        <a:pt x="2493" y="342"/>
                      </a:lnTo>
                      <a:lnTo>
                        <a:pt x="2506" y="342"/>
                      </a:lnTo>
                      <a:lnTo>
                        <a:pt x="2518" y="342"/>
                      </a:lnTo>
                      <a:lnTo>
                        <a:pt x="2531" y="338"/>
                      </a:lnTo>
                      <a:lnTo>
                        <a:pt x="2544" y="335"/>
                      </a:lnTo>
                      <a:lnTo>
                        <a:pt x="2557" y="335"/>
                      </a:lnTo>
                      <a:lnTo>
                        <a:pt x="2569" y="332"/>
                      </a:lnTo>
                      <a:lnTo>
                        <a:pt x="2579" y="329"/>
                      </a:lnTo>
                      <a:lnTo>
                        <a:pt x="2592" y="329"/>
                      </a:lnTo>
                      <a:lnTo>
                        <a:pt x="2604" y="326"/>
                      </a:lnTo>
                      <a:lnTo>
                        <a:pt x="2620" y="322"/>
                      </a:lnTo>
                      <a:lnTo>
                        <a:pt x="2633" y="319"/>
                      </a:lnTo>
                      <a:lnTo>
                        <a:pt x="2646" y="319"/>
                      </a:lnTo>
                      <a:lnTo>
                        <a:pt x="2659" y="316"/>
                      </a:lnTo>
                      <a:lnTo>
                        <a:pt x="2671" y="313"/>
                      </a:lnTo>
                      <a:lnTo>
                        <a:pt x="2687" y="310"/>
                      </a:lnTo>
                      <a:lnTo>
                        <a:pt x="2700" y="307"/>
                      </a:lnTo>
                      <a:lnTo>
                        <a:pt x="2713" y="303"/>
                      </a:lnTo>
                      <a:lnTo>
                        <a:pt x="2729" y="297"/>
                      </a:lnTo>
                      <a:lnTo>
                        <a:pt x="2742" y="294"/>
                      </a:lnTo>
                      <a:lnTo>
                        <a:pt x="2754" y="291"/>
                      </a:lnTo>
                      <a:lnTo>
                        <a:pt x="2767" y="284"/>
                      </a:lnTo>
                      <a:lnTo>
                        <a:pt x="2780" y="281"/>
                      </a:lnTo>
                      <a:lnTo>
                        <a:pt x="2796" y="275"/>
                      </a:lnTo>
                      <a:lnTo>
                        <a:pt x="2808" y="271"/>
                      </a:lnTo>
                      <a:lnTo>
                        <a:pt x="2821" y="268"/>
                      </a:lnTo>
                      <a:lnTo>
                        <a:pt x="2834" y="262"/>
                      </a:lnTo>
                      <a:lnTo>
                        <a:pt x="2850" y="259"/>
                      </a:lnTo>
                      <a:lnTo>
                        <a:pt x="2863" y="252"/>
                      </a:lnTo>
                      <a:lnTo>
                        <a:pt x="2869" y="252"/>
                      </a:lnTo>
                      <a:lnTo>
                        <a:pt x="2875" y="249"/>
                      </a:lnTo>
                      <a:lnTo>
                        <a:pt x="2885" y="246"/>
                      </a:lnTo>
                      <a:lnTo>
                        <a:pt x="2891" y="243"/>
                      </a:lnTo>
                      <a:lnTo>
                        <a:pt x="2901" y="236"/>
                      </a:lnTo>
                      <a:lnTo>
                        <a:pt x="2910" y="233"/>
                      </a:lnTo>
                      <a:lnTo>
                        <a:pt x="2917" y="230"/>
                      </a:lnTo>
                      <a:lnTo>
                        <a:pt x="2926" y="227"/>
                      </a:lnTo>
                      <a:lnTo>
                        <a:pt x="2936" y="227"/>
                      </a:lnTo>
                      <a:lnTo>
                        <a:pt x="2942" y="224"/>
                      </a:lnTo>
                      <a:lnTo>
                        <a:pt x="2949" y="220"/>
                      </a:lnTo>
                      <a:lnTo>
                        <a:pt x="2955" y="220"/>
                      </a:lnTo>
                      <a:lnTo>
                        <a:pt x="2961" y="224"/>
                      </a:lnTo>
                      <a:lnTo>
                        <a:pt x="2965" y="224"/>
                      </a:lnTo>
                      <a:lnTo>
                        <a:pt x="2968" y="227"/>
                      </a:lnTo>
                      <a:lnTo>
                        <a:pt x="2968" y="233"/>
                      </a:lnTo>
                      <a:lnTo>
                        <a:pt x="2968" y="246"/>
                      </a:lnTo>
                      <a:lnTo>
                        <a:pt x="2965" y="259"/>
                      </a:lnTo>
                      <a:lnTo>
                        <a:pt x="2965" y="275"/>
                      </a:lnTo>
                      <a:lnTo>
                        <a:pt x="2961" y="287"/>
                      </a:lnTo>
                      <a:lnTo>
                        <a:pt x="2955" y="300"/>
                      </a:lnTo>
                      <a:lnTo>
                        <a:pt x="2952" y="313"/>
                      </a:lnTo>
                      <a:lnTo>
                        <a:pt x="2949" y="329"/>
                      </a:lnTo>
                      <a:lnTo>
                        <a:pt x="2946" y="342"/>
                      </a:lnTo>
                      <a:close/>
                    </a:path>
                  </a:pathLst>
                </a:custGeom>
                <a:solidFill>
                  <a:srgbClr val="d1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688720" y="3141360"/>
                  <a:ext cx="2543400" cy="518400"/>
                </a:xfrm>
                <a:custGeom>
                  <a:avLst/>
                  <a:gdLst/>
                  <a:ahLst/>
                  <a:rect l="l" t="t" r="r" b="b"/>
                  <a:pathLst>
                    <a:path w="2984" h="574">
                      <a:moveTo>
                        <a:pt x="2946" y="342"/>
                      </a:moveTo>
                      <a:lnTo>
                        <a:pt x="2952" y="345"/>
                      </a:lnTo>
                      <a:lnTo>
                        <a:pt x="2955" y="351"/>
                      </a:lnTo>
                      <a:lnTo>
                        <a:pt x="2958" y="358"/>
                      </a:lnTo>
                      <a:lnTo>
                        <a:pt x="2961" y="364"/>
                      </a:lnTo>
                      <a:lnTo>
                        <a:pt x="2968" y="370"/>
                      </a:lnTo>
                      <a:lnTo>
                        <a:pt x="2971" y="373"/>
                      </a:lnTo>
                      <a:lnTo>
                        <a:pt x="2974" y="380"/>
                      </a:lnTo>
                      <a:lnTo>
                        <a:pt x="2977" y="386"/>
                      </a:lnTo>
                      <a:lnTo>
                        <a:pt x="2977" y="389"/>
                      </a:lnTo>
                      <a:lnTo>
                        <a:pt x="2981" y="393"/>
                      </a:lnTo>
                      <a:lnTo>
                        <a:pt x="2984" y="396"/>
                      </a:lnTo>
                      <a:lnTo>
                        <a:pt x="2984" y="402"/>
                      </a:lnTo>
                      <a:lnTo>
                        <a:pt x="2984" y="405"/>
                      </a:lnTo>
                      <a:lnTo>
                        <a:pt x="2984" y="409"/>
                      </a:lnTo>
                      <a:lnTo>
                        <a:pt x="2984" y="412"/>
                      </a:lnTo>
                      <a:lnTo>
                        <a:pt x="2981" y="415"/>
                      </a:lnTo>
                      <a:lnTo>
                        <a:pt x="2974" y="418"/>
                      </a:lnTo>
                      <a:lnTo>
                        <a:pt x="2968" y="421"/>
                      </a:lnTo>
                      <a:lnTo>
                        <a:pt x="2961" y="424"/>
                      </a:lnTo>
                      <a:lnTo>
                        <a:pt x="2955" y="428"/>
                      </a:lnTo>
                      <a:lnTo>
                        <a:pt x="2946" y="431"/>
                      </a:lnTo>
                      <a:lnTo>
                        <a:pt x="2939" y="434"/>
                      </a:lnTo>
                      <a:lnTo>
                        <a:pt x="2933" y="437"/>
                      </a:lnTo>
                      <a:lnTo>
                        <a:pt x="2926" y="440"/>
                      </a:lnTo>
                      <a:lnTo>
                        <a:pt x="2917" y="444"/>
                      </a:lnTo>
                      <a:lnTo>
                        <a:pt x="2910" y="447"/>
                      </a:lnTo>
                      <a:lnTo>
                        <a:pt x="2904" y="450"/>
                      </a:lnTo>
                      <a:lnTo>
                        <a:pt x="2895" y="450"/>
                      </a:lnTo>
                      <a:lnTo>
                        <a:pt x="2888" y="453"/>
                      </a:lnTo>
                      <a:lnTo>
                        <a:pt x="2882" y="456"/>
                      </a:lnTo>
                      <a:lnTo>
                        <a:pt x="2875" y="460"/>
                      </a:lnTo>
                      <a:lnTo>
                        <a:pt x="2866" y="460"/>
                      </a:lnTo>
                      <a:lnTo>
                        <a:pt x="2859" y="463"/>
                      </a:lnTo>
                      <a:lnTo>
                        <a:pt x="2850" y="466"/>
                      </a:lnTo>
                      <a:lnTo>
                        <a:pt x="2844" y="469"/>
                      </a:lnTo>
                      <a:lnTo>
                        <a:pt x="2834" y="472"/>
                      </a:lnTo>
                      <a:lnTo>
                        <a:pt x="2828" y="476"/>
                      </a:lnTo>
                      <a:lnTo>
                        <a:pt x="2818" y="479"/>
                      </a:lnTo>
                      <a:lnTo>
                        <a:pt x="2812" y="482"/>
                      </a:lnTo>
                      <a:lnTo>
                        <a:pt x="2802" y="485"/>
                      </a:lnTo>
                      <a:lnTo>
                        <a:pt x="2796" y="488"/>
                      </a:lnTo>
                      <a:lnTo>
                        <a:pt x="2786" y="491"/>
                      </a:lnTo>
                      <a:lnTo>
                        <a:pt x="2780" y="491"/>
                      </a:lnTo>
                      <a:lnTo>
                        <a:pt x="2770" y="495"/>
                      </a:lnTo>
                      <a:lnTo>
                        <a:pt x="2764" y="498"/>
                      </a:lnTo>
                      <a:lnTo>
                        <a:pt x="2754" y="501"/>
                      </a:lnTo>
                      <a:lnTo>
                        <a:pt x="2748" y="504"/>
                      </a:lnTo>
                      <a:lnTo>
                        <a:pt x="2738" y="507"/>
                      </a:lnTo>
                      <a:lnTo>
                        <a:pt x="2732" y="511"/>
                      </a:lnTo>
                      <a:lnTo>
                        <a:pt x="2722" y="514"/>
                      </a:lnTo>
                      <a:lnTo>
                        <a:pt x="2716" y="514"/>
                      </a:lnTo>
                      <a:lnTo>
                        <a:pt x="2706" y="517"/>
                      </a:lnTo>
                      <a:lnTo>
                        <a:pt x="2700" y="520"/>
                      </a:lnTo>
                      <a:lnTo>
                        <a:pt x="2691" y="523"/>
                      </a:lnTo>
                      <a:lnTo>
                        <a:pt x="2684" y="527"/>
                      </a:lnTo>
                      <a:lnTo>
                        <a:pt x="2675" y="530"/>
                      </a:lnTo>
                      <a:lnTo>
                        <a:pt x="2665" y="530"/>
                      </a:lnTo>
                      <a:lnTo>
                        <a:pt x="2659" y="533"/>
                      </a:lnTo>
                      <a:lnTo>
                        <a:pt x="2649" y="536"/>
                      </a:lnTo>
                      <a:lnTo>
                        <a:pt x="2643" y="539"/>
                      </a:lnTo>
                      <a:lnTo>
                        <a:pt x="2633" y="542"/>
                      </a:lnTo>
                      <a:lnTo>
                        <a:pt x="2627" y="542"/>
                      </a:lnTo>
                      <a:lnTo>
                        <a:pt x="2617" y="546"/>
                      </a:lnTo>
                      <a:lnTo>
                        <a:pt x="2611" y="549"/>
                      </a:lnTo>
                      <a:lnTo>
                        <a:pt x="2604" y="552"/>
                      </a:lnTo>
                      <a:lnTo>
                        <a:pt x="2598" y="552"/>
                      </a:lnTo>
                      <a:lnTo>
                        <a:pt x="2592" y="552"/>
                      </a:lnTo>
                      <a:lnTo>
                        <a:pt x="2589" y="555"/>
                      </a:lnTo>
                      <a:lnTo>
                        <a:pt x="2582" y="555"/>
                      </a:lnTo>
                      <a:lnTo>
                        <a:pt x="2576" y="558"/>
                      </a:lnTo>
                      <a:lnTo>
                        <a:pt x="2569" y="558"/>
                      </a:lnTo>
                      <a:lnTo>
                        <a:pt x="2566" y="558"/>
                      </a:lnTo>
                      <a:lnTo>
                        <a:pt x="2560" y="558"/>
                      </a:lnTo>
                      <a:lnTo>
                        <a:pt x="2553" y="562"/>
                      </a:lnTo>
                      <a:lnTo>
                        <a:pt x="2547" y="562"/>
                      </a:lnTo>
                      <a:lnTo>
                        <a:pt x="2541" y="562"/>
                      </a:lnTo>
                      <a:lnTo>
                        <a:pt x="2538" y="562"/>
                      </a:lnTo>
                      <a:lnTo>
                        <a:pt x="2531" y="565"/>
                      </a:lnTo>
                      <a:lnTo>
                        <a:pt x="2525" y="565"/>
                      </a:lnTo>
                      <a:lnTo>
                        <a:pt x="2518" y="565"/>
                      </a:lnTo>
                      <a:lnTo>
                        <a:pt x="2509" y="565"/>
                      </a:lnTo>
                      <a:lnTo>
                        <a:pt x="2499" y="568"/>
                      </a:lnTo>
                      <a:lnTo>
                        <a:pt x="2487" y="568"/>
                      </a:lnTo>
                      <a:lnTo>
                        <a:pt x="2477" y="568"/>
                      </a:lnTo>
                      <a:lnTo>
                        <a:pt x="2467" y="568"/>
                      </a:lnTo>
                      <a:lnTo>
                        <a:pt x="2455" y="568"/>
                      </a:lnTo>
                      <a:lnTo>
                        <a:pt x="2445" y="571"/>
                      </a:lnTo>
                      <a:lnTo>
                        <a:pt x="2435" y="571"/>
                      </a:lnTo>
                      <a:lnTo>
                        <a:pt x="2423" y="571"/>
                      </a:lnTo>
                      <a:lnTo>
                        <a:pt x="2413" y="571"/>
                      </a:lnTo>
                      <a:lnTo>
                        <a:pt x="2404" y="571"/>
                      </a:lnTo>
                      <a:lnTo>
                        <a:pt x="2391" y="571"/>
                      </a:lnTo>
                      <a:lnTo>
                        <a:pt x="2381" y="574"/>
                      </a:lnTo>
                      <a:lnTo>
                        <a:pt x="2372" y="574"/>
                      </a:lnTo>
                      <a:lnTo>
                        <a:pt x="2359" y="574"/>
                      </a:lnTo>
                      <a:lnTo>
                        <a:pt x="2349" y="574"/>
                      </a:lnTo>
                      <a:lnTo>
                        <a:pt x="2340" y="574"/>
                      </a:lnTo>
                      <a:lnTo>
                        <a:pt x="2327" y="574"/>
                      </a:lnTo>
                      <a:lnTo>
                        <a:pt x="2318" y="574"/>
                      </a:lnTo>
                      <a:lnTo>
                        <a:pt x="2308" y="574"/>
                      </a:lnTo>
                      <a:lnTo>
                        <a:pt x="2295" y="574"/>
                      </a:lnTo>
                      <a:lnTo>
                        <a:pt x="2286" y="574"/>
                      </a:lnTo>
                      <a:lnTo>
                        <a:pt x="2276" y="574"/>
                      </a:lnTo>
                      <a:lnTo>
                        <a:pt x="2263" y="574"/>
                      </a:lnTo>
                      <a:lnTo>
                        <a:pt x="2254" y="574"/>
                      </a:lnTo>
                      <a:lnTo>
                        <a:pt x="2244" y="574"/>
                      </a:lnTo>
                      <a:lnTo>
                        <a:pt x="2231" y="574"/>
                      </a:lnTo>
                      <a:lnTo>
                        <a:pt x="2222" y="574"/>
                      </a:lnTo>
                      <a:lnTo>
                        <a:pt x="2212" y="574"/>
                      </a:lnTo>
                      <a:lnTo>
                        <a:pt x="2200" y="574"/>
                      </a:lnTo>
                      <a:lnTo>
                        <a:pt x="2190" y="574"/>
                      </a:lnTo>
                      <a:lnTo>
                        <a:pt x="2180" y="574"/>
                      </a:lnTo>
                      <a:lnTo>
                        <a:pt x="2171" y="574"/>
                      </a:lnTo>
                      <a:lnTo>
                        <a:pt x="2165" y="574"/>
                      </a:lnTo>
                      <a:lnTo>
                        <a:pt x="2155" y="574"/>
                      </a:lnTo>
                      <a:lnTo>
                        <a:pt x="2149" y="574"/>
                      </a:lnTo>
                      <a:lnTo>
                        <a:pt x="2139" y="574"/>
                      </a:lnTo>
                      <a:lnTo>
                        <a:pt x="2133" y="571"/>
                      </a:lnTo>
                      <a:lnTo>
                        <a:pt x="2123" y="571"/>
                      </a:lnTo>
                      <a:lnTo>
                        <a:pt x="2117" y="571"/>
                      </a:lnTo>
                      <a:lnTo>
                        <a:pt x="2107" y="571"/>
                      </a:lnTo>
                      <a:lnTo>
                        <a:pt x="2101" y="571"/>
                      </a:lnTo>
                      <a:lnTo>
                        <a:pt x="2094" y="568"/>
                      </a:lnTo>
                      <a:lnTo>
                        <a:pt x="2085" y="568"/>
                      </a:lnTo>
                      <a:lnTo>
                        <a:pt x="2078" y="568"/>
                      </a:lnTo>
                      <a:lnTo>
                        <a:pt x="2069" y="568"/>
                      </a:lnTo>
                      <a:lnTo>
                        <a:pt x="2063" y="568"/>
                      </a:lnTo>
                      <a:lnTo>
                        <a:pt x="2053" y="568"/>
                      </a:lnTo>
                      <a:lnTo>
                        <a:pt x="2047" y="565"/>
                      </a:lnTo>
                      <a:lnTo>
                        <a:pt x="2037" y="565"/>
                      </a:lnTo>
                      <a:lnTo>
                        <a:pt x="2031" y="565"/>
                      </a:lnTo>
                      <a:lnTo>
                        <a:pt x="2021" y="565"/>
                      </a:lnTo>
                      <a:lnTo>
                        <a:pt x="2012" y="565"/>
                      </a:lnTo>
                      <a:lnTo>
                        <a:pt x="2005" y="565"/>
                      </a:lnTo>
                      <a:lnTo>
                        <a:pt x="1996" y="562"/>
                      </a:lnTo>
                      <a:lnTo>
                        <a:pt x="1989" y="562"/>
                      </a:lnTo>
                      <a:lnTo>
                        <a:pt x="1980" y="562"/>
                      </a:lnTo>
                      <a:lnTo>
                        <a:pt x="1970" y="562"/>
                      </a:lnTo>
                      <a:lnTo>
                        <a:pt x="1964" y="562"/>
                      </a:lnTo>
                      <a:lnTo>
                        <a:pt x="1954" y="562"/>
                      </a:lnTo>
                      <a:lnTo>
                        <a:pt x="1948" y="562"/>
                      </a:lnTo>
                      <a:lnTo>
                        <a:pt x="1938" y="558"/>
                      </a:lnTo>
                      <a:lnTo>
                        <a:pt x="1932" y="558"/>
                      </a:lnTo>
                      <a:lnTo>
                        <a:pt x="1922" y="558"/>
                      </a:lnTo>
                      <a:lnTo>
                        <a:pt x="1913" y="558"/>
                      </a:lnTo>
                      <a:lnTo>
                        <a:pt x="1906" y="558"/>
                      </a:lnTo>
                      <a:lnTo>
                        <a:pt x="1897" y="558"/>
                      </a:lnTo>
                      <a:lnTo>
                        <a:pt x="1890" y="555"/>
                      </a:lnTo>
                      <a:lnTo>
                        <a:pt x="1881" y="555"/>
                      </a:lnTo>
                      <a:lnTo>
                        <a:pt x="1871" y="555"/>
                      </a:lnTo>
                      <a:lnTo>
                        <a:pt x="1865" y="555"/>
                      </a:lnTo>
                      <a:lnTo>
                        <a:pt x="1855" y="555"/>
                      </a:lnTo>
                      <a:lnTo>
                        <a:pt x="1849" y="555"/>
                      </a:lnTo>
                      <a:lnTo>
                        <a:pt x="1839" y="555"/>
                      </a:lnTo>
                      <a:lnTo>
                        <a:pt x="1833" y="552"/>
                      </a:lnTo>
                      <a:lnTo>
                        <a:pt x="1823" y="552"/>
                      </a:lnTo>
                      <a:lnTo>
                        <a:pt x="1814" y="552"/>
                      </a:lnTo>
                      <a:lnTo>
                        <a:pt x="1807" y="552"/>
                      </a:lnTo>
                      <a:lnTo>
                        <a:pt x="1798" y="552"/>
                      </a:lnTo>
                      <a:lnTo>
                        <a:pt x="1792" y="552"/>
                      </a:lnTo>
                      <a:lnTo>
                        <a:pt x="1779" y="552"/>
                      </a:lnTo>
                      <a:lnTo>
                        <a:pt x="1769" y="549"/>
                      </a:lnTo>
                      <a:lnTo>
                        <a:pt x="1760" y="549"/>
                      </a:lnTo>
                      <a:lnTo>
                        <a:pt x="1750" y="549"/>
                      </a:lnTo>
                      <a:lnTo>
                        <a:pt x="1741" y="549"/>
                      </a:lnTo>
                      <a:lnTo>
                        <a:pt x="1731" y="549"/>
                      </a:lnTo>
                      <a:lnTo>
                        <a:pt x="1718" y="549"/>
                      </a:lnTo>
                      <a:lnTo>
                        <a:pt x="1709" y="546"/>
                      </a:lnTo>
                      <a:lnTo>
                        <a:pt x="1699" y="546"/>
                      </a:lnTo>
                      <a:lnTo>
                        <a:pt x="1690" y="546"/>
                      </a:lnTo>
                      <a:lnTo>
                        <a:pt x="1680" y="546"/>
                      </a:lnTo>
                      <a:lnTo>
                        <a:pt x="1670" y="546"/>
                      </a:lnTo>
                      <a:lnTo>
                        <a:pt x="1658" y="542"/>
                      </a:lnTo>
                      <a:lnTo>
                        <a:pt x="1648" y="542"/>
                      </a:lnTo>
                      <a:lnTo>
                        <a:pt x="1639" y="542"/>
                      </a:lnTo>
                      <a:lnTo>
                        <a:pt x="1629" y="542"/>
                      </a:lnTo>
                      <a:lnTo>
                        <a:pt x="1619" y="542"/>
                      </a:lnTo>
                      <a:lnTo>
                        <a:pt x="1610" y="542"/>
                      </a:lnTo>
                      <a:lnTo>
                        <a:pt x="1597" y="542"/>
                      </a:lnTo>
                      <a:lnTo>
                        <a:pt x="1588" y="539"/>
                      </a:lnTo>
                      <a:lnTo>
                        <a:pt x="1578" y="539"/>
                      </a:lnTo>
                      <a:lnTo>
                        <a:pt x="1568" y="539"/>
                      </a:lnTo>
                      <a:lnTo>
                        <a:pt x="1559" y="539"/>
                      </a:lnTo>
                      <a:lnTo>
                        <a:pt x="1549" y="539"/>
                      </a:lnTo>
                      <a:lnTo>
                        <a:pt x="1537" y="539"/>
                      </a:lnTo>
                      <a:lnTo>
                        <a:pt x="1527" y="536"/>
                      </a:lnTo>
                      <a:lnTo>
                        <a:pt x="1517" y="536"/>
                      </a:lnTo>
                      <a:lnTo>
                        <a:pt x="1508" y="536"/>
                      </a:lnTo>
                      <a:lnTo>
                        <a:pt x="1498" y="536"/>
                      </a:lnTo>
                      <a:lnTo>
                        <a:pt x="1489" y="536"/>
                      </a:lnTo>
                      <a:lnTo>
                        <a:pt x="1479" y="536"/>
                      </a:lnTo>
                      <a:lnTo>
                        <a:pt x="1466" y="533"/>
                      </a:lnTo>
                      <a:lnTo>
                        <a:pt x="1460" y="533"/>
                      </a:lnTo>
                      <a:lnTo>
                        <a:pt x="1450" y="533"/>
                      </a:lnTo>
                      <a:lnTo>
                        <a:pt x="1441" y="533"/>
                      </a:lnTo>
                      <a:lnTo>
                        <a:pt x="1431" y="533"/>
                      </a:lnTo>
                      <a:lnTo>
                        <a:pt x="1422" y="533"/>
                      </a:lnTo>
                      <a:lnTo>
                        <a:pt x="1412" y="533"/>
                      </a:lnTo>
                      <a:lnTo>
                        <a:pt x="1403" y="530"/>
                      </a:lnTo>
                      <a:lnTo>
                        <a:pt x="1396" y="530"/>
                      </a:lnTo>
                      <a:lnTo>
                        <a:pt x="1387" y="530"/>
                      </a:lnTo>
                      <a:lnTo>
                        <a:pt x="1377" y="530"/>
                      </a:lnTo>
                      <a:lnTo>
                        <a:pt x="1368" y="530"/>
                      </a:lnTo>
                      <a:lnTo>
                        <a:pt x="1358" y="530"/>
                      </a:lnTo>
                      <a:lnTo>
                        <a:pt x="1348" y="530"/>
                      </a:lnTo>
                      <a:lnTo>
                        <a:pt x="1342" y="527"/>
                      </a:lnTo>
                      <a:lnTo>
                        <a:pt x="1332" y="527"/>
                      </a:lnTo>
                      <a:lnTo>
                        <a:pt x="1323" y="527"/>
                      </a:lnTo>
                      <a:lnTo>
                        <a:pt x="1313" y="527"/>
                      </a:lnTo>
                      <a:lnTo>
                        <a:pt x="1304" y="527"/>
                      </a:lnTo>
                      <a:lnTo>
                        <a:pt x="1294" y="527"/>
                      </a:lnTo>
                      <a:lnTo>
                        <a:pt x="1285" y="527"/>
                      </a:lnTo>
                      <a:lnTo>
                        <a:pt x="1278" y="523"/>
                      </a:lnTo>
                      <a:lnTo>
                        <a:pt x="1269" y="523"/>
                      </a:lnTo>
                      <a:lnTo>
                        <a:pt x="1259" y="523"/>
                      </a:lnTo>
                      <a:lnTo>
                        <a:pt x="1250" y="523"/>
                      </a:lnTo>
                      <a:lnTo>
                        <a:pt x="1240" y="523"/>
                      </a:lnTo>
                      <a:lnTo>
                        <a:pt x="1230" y="523"/>
                      </a:lnTo>
                      <a:lnTo>
                        <a:pt x="1221" y="520"/>
                      </a:lnTo>
                      <a:lnTo>
                        <a:pt x="1215" y="520"/>
                      </a:lnTo>
                      <a:lnTo>
                        <a:pt x="1205" y="520"/>
                      </a:lnTo>
                      <a:lnTo>
                        <a:pt x="1195" y="520"/>
                      </a:lnTo>
                      <a:lnTo>
                        <a:pt x="1186" y="520"/>
                      </a:lnTo>
                      <a:lnTo>
                        <a:pt x="1176" y="517"/>
                      </a:lnTo>
                      <a:lnTo>
                        <a:pt x="1167" y="517"/>
                      </a:lnTo>
                      <a:lnTo>
                        <a:pt x="1154" y="517"/>
                      </a:lnTo>
                      <a:lnTo>
                        <a:pt x="1141" y="514"/>
                      </a:lnTo>
                      <a:lnTo>
                        <a:pt x="1128" y="514"/>
                      </a:lnTo>
                      <a:lnTo>
                        <a:pt x="1119" y="514"/>
                      </a:lnTo>
                      <a:lnTo>
                        <a:pt x="1106" y="514"/>
                      </a:lnTo>
                      <a:lnTo>
                        <a:pt x="1093" y="511"/>
                      </a:lnTo>
                      <a:lnTo>
                        <a:pt x="1081" y="511"/>
                      </a:lnTo>
                      <a:lnTo>
                        <a:pt x="1068" y="507"/>
                      </a:lnTo>
                      <a:lnTo>
                        <a:pt x="1058" y="507"/>
                      </a:lnTo>
                      <a:lnTo>
                        <a:pt x="1046" y="507"/>
                      </a:lnTo>
                      <a:lnTo>
                        <a:pt x="1033" y="504"/>
                      </a:lnTo>
                      <a:lnTo>
                        <a:pt x="1020" y="504"/>
                      </a:lnTo>
                      <a:lnTo>
                        <a:pt x="1011" y="504"/>
                      </a:lnTo>
                      <a:lnTo>
                        <a:pt x="998" y="501"/>
                      </a:lnTo>
                      <a:lnTo>
                        <a:pt x="985" y="501"/>
                      </a:lnTo>
                      <a:lnTo>
                        <a:pt x="972" y="501"/>
                      </a:lnTo>
                      <a:lnTo>
                        <a:pt x="963" y="498"/>
                      </a:lnTo>
                      <a:lnTo>
                        <a:pt x="950" y="498"/>
                      </a:lnTo>
                      <a:lnTo>
                        <a:pt x="937" y="495"/>
                      </a:lnTo>
                      <a:lnTo>
                        <a:pt x="924" y="495"/>
                      </a:lnTo>
                      <a:lnTo>
                        <a:pt x="915" y="495"/>
                      </a:lnTo>
                      <a:lnTo>
                        <a:pt x="902" y="491"/>
                      </a:lnTo>
                      <a:lnTo>
                        <a:pt x="889" y="491"/>
                      </a:lnTo>
                      <a:lnTo>
                        <a:pt x="877" y="491"/>
                      </a:lnTo>
                      <a:lnTo>
                        <a:pt x="864" y="488"/>
                      </a:lnTo>
                      <a:lnTo>
                        <a:pt x="854" y="488"/>
                      </a:lnTo>
                      <a:lnTo>
                        <a:pt x="842" y="485"/>
                      </a:lnTo>
                      <a:lnTo>
                        <a:pt x="829" y="485"/>
                      </a:lnTo>
                      <a:lnTo>
                        <a:pt x="816" y="485"/>
                      </a:lnTo>
                      <a:lnTo>
                        <a:pt x="806" y="482"/>
                      </a:lnTo>
                      <a:lnTo>
                        <a:pt x="794" y="482"/>
                      </a:lnTo>
                      <a:lnTo>
                        <a:pt x="781" y="482"/>
                      </a:lnTo>
                      <a:lnTo>
                        <a:pt x="768" y="479"/>
                      </a:lnTo>
                      <a:lnTo>
                        <a:pt x="752" y="479"/>
                      </a:lnTo>
                      <a:lnTo>
                        <a:pt x="740" y="479"/>
                      </a:lnTo>
                      <a:lnTo>
                        <a:pt x="727" y="476"/>
                      </a:lnTo>
                      <a:lnTo>
                        <a:pt x="714" y="476"/>
                      </a:lnTo>
                      <a:lnTo>
                        <a:pt x="701" y="476"/>
                      </a:lnTo>
                      <a:lnTo>
                        <a:pt x="689" y="476"/>
                      </a:lnTo>
                      <a:lnTo>
                        <a:pt x="673" y="472"/>
                      </a:lnTo>
                      <a:lnTo>
                        <a:pt x="660" y="472"/>
                      </a:lnTo>
                      <a:lnTo>
                        <a:pt x="647" y="472"/>
                      </a:lnTo>
                      <a:lnTo>
                        <a:pt x="634" y="469"/>
                      </a:lnTo>
                      <a:lnTo>
                        <a:pt x="622" y="469"/>
                      </a:lnTo>
                      <a:lnTo>
                        <a:pt x="609" y="466"/>
                      </a:lnTo>
                      <a:lnTo>
                        <a:pt x="596" y="466"/>
                      </a:lnTo>
                      <a:lnTo>
                        <a:pt x="583" y="463"/>
                      </a:lnTo>
                      <a:lnTo>
                        <a:pt x="574" y="463"/>
                      </a:lnTo>
                      <a:lnTo>
                        <a:pt x="564" y="460"/>
                      </a:lnTo>
                      <a:lnTo>
                        <a:pt x="551" y="460"/>
                      </a:lnTo>
                      <a:lnTo>
                        <a:pt x="542" y="456"/>
                      </a:lnTo>
                      <a:lnTo>
                        <a:pt x="532" y="456"/>
                      </a:lnTo>
                      <a:lnTo>
                        <a:pt x="523" y="453"/>
                      </a:lnTo>
                      <a:lnTo>
                        <a:pt x="513" y="453"/>
                      </a:lnTo>
                      <a:lnTo>
                        <a:pt x="504" y="450"/>
                      </a:lnTo>
                      <a:lnTo>
                        <a:pt x="494" y="447"/>
                      </a:lnTo>
                      <a:lnTo>
                        <a:pt x="485" y="447"/>
                      </a:lnTo>
                      <a:lnTo>
                        <a:pt x="475" y="444"/>
                      </a:lnTo>
                      <a:lnTo>
                        <a:pt x="465" y="444"/>
                      </a:lnTo>
                      <a:lnTo>
                        <a:pt x="456" y="440"/>
                      </a:lnTo>
                      <a:lnTo>
                        <a:pt x="446" y="437"/>
                      </a:lnTo>
                      <a:lnTo>
                        <a:pt x="437" y="437"/>
                      </a:lnTo>
                      <a:lnTo>
                        <a:pt x="427" y="434"/>
                      </a:lnTo>
                      <a:lnTo>
                        <a:pt x="418" y="431"/>
                      </a:lnTo>
                      <a:lnTo>
                        <a:pt x="408" y="431"/>
                      </a:lnTo>
                      <a:lnTo>
                        <a:pt x="395" y="428"/>
                      </a:lnTo>
                      <a:lnTo>
                        <a:pt x="386" y="424"/>
                      </a:lnTo>
                      <a:lnTo>
                        <a:pt x="376" y="424"/>
                      </a:lnTo>
                      <a:lnTo>
                        <a:pt x="367" y="421"/>
                      </a:lnTo>
                      <a:lnTo>
                        <a:pt x="357" y="418"/>
                      </a:lnTo>
                      <a:lnTo>
                        <a:pt x="347" y="415"/>
                      </a:lnTo>
                      <a:lnTo>
                        <a:pt x="338" y="415"/>
                      </a:lnTo>
                      <a:lnTo>
                        <a:pt x="328" y="412"/>
                      </a:lnTo>
                      <a:lnTo>
                        <a:pt x="319" y="409"/>
                      </a:lnTo>
                      <a:lnTo>
                        <a:pt x="309" y="405"/>
                      </a:lnTo>
                      <a:lnTo>
                        <a:pt x="300" y="405"/>
                      </a:lnTo>
                      <a:lnTo>
                        <a:pt x="290" y="402"/>
                      </a:lnTo>
                      <a:lnTo>
                        <a:pt x="281" y="399"/>
                      </a:lnTo>
                      <a:lnTo>
                        <a:pt x="271" y="396"/>
                      </a:lnTo>
                      <a:lnTo>
                        <a:pt x="265" y="396"/>
                      </a:lnTo>
                      <a:lnTo>
                        <a:pt x="255" y="393"/>
                      </a:lnTo>
                      <a:lnTo>
                        <a:pt x="249" y="389"/>
                      </a:lnTo>
                      <a:lnTo>
                        <a:pt x="242" y="389"/>
                      </a:lnTo>
                      <a:lnTo>
                        <a:pt x="233" y="386"/>
                      </a:lnTo>
                      <a:lnTo>
                        <a:pt x="226" y="383"/>
                      </a:lnTo>
                      <a:lnTo>
                        <a:pt x="220" y="380"/>
                      </a:lnTo>
                      <a:lnTo>
                        <a:pt x="210" y="377"/>
                      </a:lnTo>
                      <a:lnTo>
                        <a:pt x="204" y="373"/>
                      </a:lnTo>
                      <a:lnTo>
                        <a:pt x="198" y="370"/>
                      </a:lnTo>
                      <a:lnTo>
                        <a:pt x="188" y="367"/>
                      </a:lnTo>
                      <a:lnTo>
                        <a:pt x="182" y="364"/>
                      </a:lnTo>
                      <a:lnTo>
                        <a:pt x="175" y="361"/>
                      </a:lnTo>
                      <a:lnTo>
                        <a:pt x="169" y="358"/>
                      </a:lnTo>
                      <a:lnTo>
                        <a:pt x="163" y="354"/>
                      </a:lnTo>
                      <a:lnTo>
                        <a:pt x="156" y="348"/>
                      </a:lnTo>
                      <a:lnTo>
                        <a:pt x="147" y="345"/>
                      </a:lnTo>
                      <a:lnTo>
                        <a:pt x="140" y="338"/>
                      </a:lnTo>
                      <a:lnTo>
                        <a:pt x="134" y="335"/>
                      </a:lnTo>
                      <a:lnTo>
                        <a:pt x="127" y="329"/>
                      </a:lnTo>
                      <a:lnTo>
                        <a:pt x="121" y="326"/>
                      </a:lnTo>
                      <a:lnTo>
                        <a:pt x="112" y="319"/>
                      </a:lnTo>
                      <a:lnTo>
                        <a:pt x="105" y="313"/>
                      </a:lnTo>
                      <a:lnTo>
                        <a:pt x="99" y="307"/>
                      </a:lnTo>
                      <a:lnTo>
                        <a:pt x="92" y="303"/>
                      </a:lnTo>
                      <a:lnTo>
                        <a:pt x="86" y="297"/>
                      </a:lnTo>
                      <a:lnTo>
                        <a:pt x="80" y="291"/>
                      </a:lnTo>
                      <a:lnTo>
                        <a:pt x="73" y="284"/>
                      </a:lnTo>
                      <a:lnTo>
                        <a:pt x="70" y="278"/>
                      </a:lnTo>
                      <a:lnTo>
                        <a:pt x="64" y="271"/>
                      </a:lnTo>
                      <a:lnTo>
                        <a:pt x="57" y="265"/>
                      </a:lnTo>
                      <a:lnTo>
                        <a:pt x="54" y="255"/>
                      </a:lnTo>
                      <a:lnTo>
                        <a:pt x="45" y="240"/>
                      </a:lnTo>
                      <a:lnTo>
                        <a:pt x="35" y="220"/>
                      </a:lnTo>
                      <a:lnTo>
                        <a:pt x="29" y="201"/>
                      </a:lnTo>
                      <a:lnTo>
                        <a:pt x="22" y="179"/>
                      </a:lnTo>
                      <a:lnTo>
                        <a:pt x="16" y="160"/>
                      </a:lnTo>
                      <a:lnTo>
                        <a:pt x="13" y="137"/>
                      </a:lnTo>
                      <a:lnTo>
                        <a:pt x="10" y="118"/>
                      </a:lnTo>
                      <a:lnTo>
                        <a:pt x="3" y="96"/>
                      </a:lnTo>
                      <a:lnTo>
                        <a:pt x="0" y="74"/>
                      </a:lnTo>
                      <a:lnTo>
                        <a:pt x="0" y="48"/>
                      </a:lnTo>
                      <a:lnTo>
                        <a:pt x="0" y="23"/>
                      </a:lnTo>
                      <a:lnTo>
                        <a:pt x="3" y="0"/>
                      </a:lnTo>
                      <a:lnTo>
                        <a:pt x="10" y="7"/>
                      </a:lnTo>
                      <a:lnTo>
                        <a:pt x="16" y="13"/>
                      </a:lnTo>
                      <a:lnTo>
                        <a:pt x="22" y="23"/>
                      </a:lnTo>
                      <a:lnTo>
                        <a:pt x="32" y="26"/>
                      </a:lnTo>
                      <a:lnTo>
                        <a:pt x="38" y="32"/>
                      </a:lnTo>
                      <a:lnTo>
                        <a:pt x="48" y="39"/>
                      </a:lnTo>
                      <a:lnTo>
                        <a:pt x="57" y="42"/>
                      </a:lnTo>
                      <a:lnTo>
                        <a:pt x="67" y="45"/>
                      </a:lnTo>
                      <a:lnTo>
                        <a:pt x="76" y="51"/>
                      </a:lnTo>
                      <a:lnTo>
                        <a:pt x="86" y="55"/>
                      </a:lnTo>
                      <a:lnTo>
                        <a:pt x="96" y="58"/>
                      </a:lnTo>
                      <a:lnTo>
                        <a:pt x="108" y="61"/>
                      </a:lnTo>
                      <a:lnTo>
                        <a:pt x="121" y="64"/>
                      </a:lnTo>
                      <a:lnTo>
                        <a:pt x="134" y="67"/>
                      </a:lnTo>
                      <a:lnTo>
                        <a:pt x="147" y="71"/>
                      </a:lnTo>
                      <a:lnTo>
                        <a:pt x="159" y="74"/>
                      </a:lnTo>
                      <a:lnTo>
                        <a:pt x="163" y="74"/>
                      </a:lnTo>
                      <a:lnTo>
                        <a:pt x="169" y="77"/>
                      </a:lnTo>
                      <a:lnTo>
                        <a:pt x="175" y="77"/>
                      </a:lnTo>
                      <a:lnTo>
                        <a:pt x="182" y="80"/>
                      </a:lnTo>
                      <a:lnTo>
                        <a:pt x="188" y="80"/>
                      </a:lnTo>
                      <a:lnTo>
                        <a:pt x="194" y="83"/>
                      </a:lnTo>
                      <a:lnTo>
                        <a:pt x="204" y="86"/>
                      </a:lnTo>
                      <a:lnTo>
                        <a:pt x="210" y="86"/>
                      </a:lnTo>
                      <a:lnTo>
                        <a:pt x="217" y="90"/>
                      </a:lnTo>
                      <a:lnTo>
                        <a:pt x="226" y="90"/>
                      </a:lnTo>
                      <a:lnTo>
                        <a:pt x="233" y="93"/>
                      </a:lnTo>
                      <a:lnTo>
                        <a:pt x="239" y="93"/>
                      </a:lnTo>
                      <a:lnTo>
                        <a:pt x="245" y="93"/>
                      </a:lnTo>
                      <a:lnTo>
                        <a:pt x="249" y="93"/>
                      </a:lnTo>
                      <a:lnTo>
                        <a:pt x="255" y="93"/>
                      </a:lnTo>
                      <a:lnTo>
                        <a:pt x="258" y="93"/>
                      </a:lnTo>
                      <a:lnTo>
                        <a:pt x="265" y="90"/>
                      </a:lnTo>
                      <a:lnTo>
                        <a:pt x="268" y="86"/>
                      </a:lnTo>
                      <a:lnTo>
                        <a:pt x="274" y="83"/>
                      </a:lnTo>
                      <a:lnTo>
                        <a:pt x="281" y="80"/>
                      </a:lnTo>
                      <a:lnTo>
                        <a:pt x="287" y="77"/>
                      </a:lnTo>
                      <a:lnTo>
                        <a:pt x="296" y="74"/>
                      </a:lnTo>
                      <a:lnTo>
                        <a:pt x="303" y="71"/>
                      </a:lnTo>
                      <a:lnTo>
                        <a:pt x="309" y="67"/>
                      </a:lnTo>
                      <a:lnTo>
                        <a:pt x="319" y="67"/>
                      </a:lnTo>
                      <a:lnTo>
                        <a:pt x="325" y="64"/>
                      </a:lnTo>
                      <a:lnTo>
                        <a:pt x="332" y="61"/>
                      </a:lnTo>
                      <a:lnTo>
                        <a:pt x="338" y="61"/>
                      </a:lnTo>
                      <a:lnTo>
                        <a:pt x="344" y="58"/>
                      </a:lnTo>
                      <a:lnTo>
                        <a:pt x="351" y="58"/>
                      </a:lnTo>
                      <a:lnTo>
                        <a:pt x="357" y="58"/>
                      </a:lnTo>
                      <a:lnTo>
                        <a:pt x="360" y="58"/>
                      </a:lnTo>
                      <a:lnTo>
                        <a:pt x="373" y="58"/>
                      </a:lnTo>
                      <a:lnTo>
                        <a:pt x="389" y="61"/>
                      </a:lnTo>
                      <a:lnTo>
                        <a:pt x="398" y="64"/>
                      </a:lnTo>
                      <a:lnTo>
                        <a:pt x="411" y="67"/>
                      </a:lnTo>
                      <a:lnTo>
                        <a:pt x="424" y="77"/>
                      </a:lnTo>
                      <a:lnTo>
                        <a:pt x="434" y="83"/>
                      </a:lnTo>
                      <a:lnTo>
                        <a:pt x="443" y="90"/>
                      </a:lnTo>
                      <a:lnTo>
                        <a:pt x="456" y="99"/>
                      </a:lnTo>
                      <a:lnTo>
                        <a:pt x="465" y="109"/>
                      </a:lnTo>
                      <a:lnTo>
                        <a:pt x="475" y="115"/>
                      </a:lnTo>
                      <a:lnTo>
                        <a:pt x="485" y="125"/>
                      </a:lnTo>
                      <a:lnTo>
                        <a:pt x="494" y="134"/>
                      </a:lnTo>
                      <a:lnTo>
                        <a:pt x="504" y="144"/>
                      </a:lnTo>
                      <a:lnTo>
                        <a:pt x="516" y="150"/>
                      </a:lnTo>
                      <a:lnTo>
                        <a:pt x="526" y="157"/>
                      </a:lnTo>
                      <a:lnTo>
                        <a:pt x="536" y="163"/>
                      </a:lnTo>
                      <a:lnTo>
                        <a:pt x="532" y="157"/>
                      </a:lnTo>
                      <a:lnTo>
                        <a:pt x="529" y="147"/>
                      </a:lnTo>
                      <a:lnTo>
                        <a:pt x="526" y="137"/>
                      </a:lnTo>
                      <a:lnTo>
                        <a:pt x="526" y="128"/>
                      </a:lnTo>
                      <a:lnTo>
                        <a:pt x="523" y="122"/>
                      </a:lnTo>
                      <a:lnTo>
                        <a:pt x="520" y="115"/>
                      </a:lnTo>
                      <a:lnTo>
                        <a:pt x="516" y="109"/>
                      </a:lnTo>
                      <a:lnTo>
                        <a:pt x="516" y="102"/>
                      </a:lnTo>
                      <a:lnTo>
                        <a:pt x="523" y="106"/>
                      </a:lnTo>
                      <a:lnTo>
                        <a:pt x="532" y="109"/>
                      </a:lnTo>
                      <a:lnTo>
                        <a:pt x="539" y="115"/>
                      </a:lnTo>
                      <a:lnTo>
                        <a:pt x="545" y="122"/>
                      </a:lnTo>
                      <a:lnTo>
                        <a:pt x="551" y="128"/>
                      </a:lnTo>
                      <a:lnTo>
                        <a:pt x="555" y="134"/>
                      </a:lnTo>
                      <a:lnTo>
                        <a:pt x="561" y="137"/>
                      </a:lnTo>
                      <a:lnTo>
                        <a:pt x="567" y="144"/>
                      </a:lnTo>
                      <a:lnTo>
                        <a:pt x="571" y="144"/>
                      </a:lnTo>
                      <a:lnTo>
                        <a:pt x="574" y="147"/>
                      </a:lnTo>
                      <a:lnTo>
                        <a:pt x="577" y="147"/>
                      </a:lnTo>
                      <a:lnTo>
                        <a:pt x="583" y="147"/>
                      </a:lnTo>
                      <a:lnTo>
                        <a:pt x="587" y="147"/>
                      </a:lnTo>
                      <a:lnTo>
                        <a:pt x="590" y="147"/>
                      </a:lnTo>
                      <a:lnTo>
                        <a:pt x="596" y="147"/>
                      </a:lnTo>
                      <a:lnTo>
                        <a:pt x="599" y="147"/>
                      </a:lnTo>
                      <a:lnTo>
                        <a:pt x="606" y="147"/>
                      </a:lnTo>
                      <a:lnTo>
                        <a:pt x="609" y="147"/>
                      </a:lnTo>
                      <a:lnTo>
                        <a:pt x="615" y="147"/>
                      </a:lnTo>
                      <a:lnTo>
                        <a:pt x="618" y="147"/>
                      </a:lnTo>
                      <a:lnTo>
                        <a:pt x="625" y="147"/>
                      </a:lnTo>
                      <a:lnTo>
                        <a:pt x="631" y="147"/>
                      </a:lnTo>
                      <a:lnTo>
                        <a:pt x="638" y="147"/>
                      </a:lnTo>
                      <a:lnTo>
                        <a:pt x="644" y="147"/>
                      </a:lnTo>
                      <a:lnTo>
                        <a:pt x="653" y="147"/>
                      </a:lnTo>
                      <a:lnTo>
                        <a:pt x="663" y="147"/>
                      </a:lnTo>
                      <a:lnTo>
                        <a:pt x="673" y="147"/>
                      </a:lnTo>
                      <a:lnTo>
                        <a:pt x="679" y="147"/>
                      </a:lnTo>
                      <a:lnTo>
                        <a:pt x="689" y="147"/>
                      </a:lnTo>
                      <a:lnTo>
                        <a:pt x="698" y="147"/>
                      </a:lnTo>
                      <a:lnTo>
                        <a:pt x="704" y="147"/>
                      </a:lnTo>
                      <a:lnTo>
                        <a:pt x="714" y="147"/>
                      </a:lnTo>
                      <a:lnTo>
                        <a:pt x="724" y="147"/>
                      </a:lnTo>
                      <a:lnTo>
                        <a:pt x="730" y="150"/>
                      </a:lnTo>
                      <a:lnTo>
                        <a:pt x="740" y="150"/>
                      </a:lnTo>
                      <a:lnTo>
                        <a:pt x="749" y="150"/>
                      </a:lnTo>
                      <a:lnTo>
                        <a:pt x="755" y="150"/>
                      </a:lnTo>
                      <a:lnTo>
                        <a:pt x="765" y="153"/>
                      </a:lnTo>
                      <a:lnTo>
                        <a:pt x="775" y="153"/>
                      </a:lnTo>
                      <a:lnTo>
                        <a:pt x="784" y="153"/>
                      </a:lnTo>
                      <a:lnTo>
                        <a:pt x="791" y="153"/>
                      </a:lnTo>
                      <a:lnTo>
                        <a:pt x="797" y="157"/>
                      </a:lnTo>
                      <a:lnTo>
                        <a:pt x="803" y="157"/>
                      </a:lnTo>
                      <a:lnTo>
                        <a:pt x="813" y="157"/>
                      </a:lnTo>
                      <a:lnTo>
                        <a:pt x="819" y="157"/>
                      </a:lnTo>
                      <a:lnTo>
                        <a:pt x="826" y="160"/>
                      </a:lnTo>
                      <a:lnTo>
                        <a:pt x="832" y="160"/>
                      </a:lnTo>
                      <a:lnTo>
                        <a:pt x="842" y="160"/>
                      </a:lnTo>
                      <a:lnTo>
                        <a:pt x="848" y="160"/>
                      </a:lnTo>
                      <a:lnTo>
                        <a:pt x="854" y="163"/>
                      </a:lnTo>
                      <a:lnTo>
                        <a:pt x="861" y="163"/>
                      </a:lnTo>
                      <a:lnTo>
                        <a:pt x="867" y="163"/>
                      </a:lnTo>
                      <a:lnTo>
                        <a:pt x="877" y="163"/>
                      </a:lnTo>
                      <a:lnTo>
                        <a:pt x="883" y="166"/>
                      </a:lnTo>
                      <a:lnTo>
                        <a:pt x="889" y="166"/>
                      </a:lnTo>
                      <a:lnTo>
                        <a:pt x="896" y="166"/>
                      </a:lnTo>
                      <a:lnTo>
                        <a:pt x="905" y="169"/>
                      </a:lnTo>
                      <a:lnTo>
                        <a:pt x="912" y="169"/>
                      </a:lnTo>
                      <a:lnTo>
                        <a:pt x="918" y="169"/>
                      </a:lnTo>
                      <a:lnTo>
                        <a:pt x="924" y="169"/>
                      </a:lnTo>
                      <a:lnTo>
                        <a:pt x="934" y="173"/>
                      </a:lnTo>
                      <a:lnTo>
                        <a:pt x="940" y="173"/>
                      </a:lnTo>
                      <a:lnTo>
                        <a:pt x="947" y="173"/>
                      </a:lnTo>
                      <a:lnTo>
                        <a:pt x="953" y="176"/>
                      </a:lnTo>
                      <a:lnTo>
                        <a:pt x="960" y="176"/>
                      </a:lnTo>
                      <a:lnTo>
                        <a:pt x="969" y="176"/>
                      </a:lnTo>
                      <a:lnTo>
                        <a:pt x="975" y="176"/>
                      </a:lnTo>
                      <a:lnTo>
                        <a:pt x="982" y="179"/>
                      </a:lnTo>
                      <a:lnTo>
                        <a:pt x="988" y="179"/>
                      </a:lnTo>
                      <a:lnTo>
                        <a:pt x="998" y="179"/>
                      </a:lnTo>
                      <a:lnTo>
                        <a:pt x="1004" y="179"/>
                      </a:lnTo>
                      <a:lnTo>
                        <a:pt x="1011" y="182"/>
                      </a:lnTo>
                      <a:lnTo>
                        <a:pt x="1020" y="182"/>
                      </a:lnTo>
                      <a:lnTo>
                        <a:pt x="1026" y="182"/>
                      </a:lnTo>
                      <a:lnTo>
                        <a:pt x="1036" y="185"/>
                      </a:lnTo>
                      <a:lnTo>
                        <a:pt x="1046" y="185"/>
                      </a:lnTo>
                      <a:lnTo>
                        <a:pt x="1052" y="185"/>
                      </a:lnTo>
                      <a:lnTo>
                        <a:pt x="1062" y="185"/>
                      </a:lnTo>
                      <a:lnTo>
                        <a:pt x="1071" y="189"/>
                      </a:lnTo>
                      <a:lnTo>
                        <a:pt x="1077" y="189"/>
                      </a:lnTo>
                      <a:lnTo>
                        <a:pt x="1087" y="189"/>
                      </a:lnTo>
                      <a:lnTo>
                        <a:pt x="1097" y="192"/>
                      </a:lnTo>
                      <a:lnTo>
                        <a:pt x="1106" y="192"/>
                      </a:lnTo>
                      <a:lnTo>
                        <a:pt x="1113" y="192"/>
                      </a:lnTo>
                      <a:lnTo>
                        <a:pt x="1122" y="192"/>
                      </a:lnTo>
                      <a:lnTo>
                        <a:pt x="1132" y="192"/>
                      </a:lnTo>
                      <a:lnTo>
                        <a:pt x="1138" y="195"/>
                      </a:lnTo>
                      <a:lnTo>
                        <a:pt x="1148" y="195"/>
                      </a:lnTo>
                      <a:lnTo>
                        <a:pt x="1157" y="195"/>
                      </a:lnTo>
                      <a:lnTo>
                        <a:pt x="1167" y="195"/>
                      </a:lnTo>
                      <a:lnTo>
                        <a:pt x="1173" y="198"/>
                      </a:lnTo>
                      <a:lnTo>
                        <a:pt x="1183" y="198"/>
                      </a:lnTo>
                      <a:lnTo>
                        <a:pt x="1192" y="198"/>
                      </a:lnTo>
                      <a:lnTo>
                        <a:pt x="1199" y="198"/>
                      </a:lnTo>
                      <a:lnTo>
                        <a:pt x="1208" y="198"/>
                      </a:lnTo>
                      <a:lnTo>
                        <a:pt x="1218" y="198"/>
                      </a:lnTo>
                      <a:lnTo>
                        <a:pt x="1227" y="201"/>
                      </a:lnTo>
                      <a:lnTo>
                        <a:pt x="1234" y="201"/>
                      </a:lnTo>
                      <a:lnTo>
                        <a:pt x="1243" y="201"/>
                      </a:lnTo>
                      <a:lnTo>
                        <a:pt x="1253" y="201"/>
                      </a:lnTo>
                      <a:lnTo>
                        <a:pt x="1259" y="201"/>
                      </a:lnTo>
                      <a:lnTo>
                        <a:pt x="1269" y="201"/>
                      </a:lnTo>
                      <a:lnTo>
                        <a:pt x="1278" y="204"/>
                      </a:lnTo>
                      <a:lnTo>
                        <a:pt x="1285" y="204"/>
                      </a:lnTo>
                      <a:lnTo>
                        <a:pt x="1294" y="204"/>
                      </a:lnTo>
                      <a:lnTo>
                        <a:pt x="1304" y="204"/>
                      </a:lnTo>
                      <a:lnTo>
                        <a:pt x="1313" y="204"/>
                      </a:lnTo>
                      <a:lnTo>
                        <a:pt x="1323" y="204"/>
                      </a:lnTo>
                      <a:lnTo>
                        <a:pt x="1332" y="204"/>
                      </a:lnTo>
                      <a:lnTo>
                        <a:pt x="1342" y="204"/>
                      </a:lnTo>
                      <a:lnTo>
                        <a:pt x="1352" y="208"/>
                      </a:lnTo>
                      <a:lnTo>
                        <a:pt x="1358" y="208"/>
                      </a:lnTo>
                      <a:lnTo>
                        <a:pt x="1368" y="208"/>
                      </a:lnTo>
                      <a:lnTo>
                        <a:pt x="1377" y="208"/>
                      </a:lnTo>
                      <a:lnTo>
                        <a:pt x="1387" y="208"/>
                      </a:lnTo>
                      <a:lnTo>
                        <a:pt x="1396" y="208"/>
                      </a:lnTo>
                      <a:lnTo>
                        <a:pt x="1406" y="208"/>
                      </a:lnTo>
                      <a:lnTo>
                        <a:pt x="1415" y="208"/>
                      </a:lnTo>
                      <a:lnTo>
                        <a:pt x="1425" y="208"/>
                      </a:lnTo>
                      <a:lnTo>
                        <a:pt x="1431" y="208"/>
                      </a:lnTo>
                      <a:lnTo>
                        <a:pt x="1441" y="208"/>
                      </a:lnTo>
                      <a:lnTo>
                        <a:pt x="1450" y="208"/>
                      </a:lnTo>
                      <a:lnTo>
                        <a:pt x="1460" y="208"/>
                      </a:lnTo>
                      <a:lnTo>
                        <a:pt x="1470" y="208"/>
                      </a:lnTo>
                      <a:lnTo>
                        <a:pt x="1479" y="208"/>
                      </a:lnTo>
                      <a:lnTo>
                        <a:pt x="1489" y="208"/>
                      </a:lnTo>
                      <a:lnTo>
                        <a:pt x="1495" y="208"/>
                      </a:lnTo>
                      <a:lnTo>
                        <a:pt x="1505" y="204"/>
                      </a:lnTo>
                      <a:lnTo>
                        <a:pt x="1514" y="204"/>
                      </a:lnTo>
                      <a:lnTo>
                        <a:pt x="1524" y="204"/>
                      </a:lnTo>
                      <a:lnTo>
                        <a:pt x="1533" y="204"/>
                      </a:lnTo>
                      <a:lnTo>
                        <a:pt x="1543" y="204"/>
                      </a:lnTo>
                      <a:lnTo>
                        <a:pt x="1552" y="204"/>
                      </a:lnTo>
                      <a:lnTo>
                        <a:pt x="1562" y="201"/>
                      </a:lnTo>
                      <a:lnTo>
                        <a:pt x="1568" y="201"/>
                      </a:lnTo>
                      <a:lnTo>
                        <a:pt x="1578" y="201"/>
                      </a:lnTo>
                      <a:lnTo>
                        <a:pt x="1588" y="198"/>
                      </a:lnTo>
                      <a:lnTo>
                        <a:pt x="1594" y="198"/>
                      </a:lnTo>
                      <a:lnTo>
                        <a:pt x="1600" y="195"/>
                      </a:lnTo>
                      <a:lnTo>
                        <a:pt x="1610" y="192"/>
                      </a:lnTo>
                      <a:lnTo>
                        <a:pt x="1616" y="185"/>
                      </a:lnTo>
                      <a:lnTo>
                        <a:pt x="1626" y="182"/>
                      </a:lnTo>
                      <a:lnTo>
                        <a:pt x="1635" y="176"/>
                      </a:lnTo>
                      <a:lnTo>
                        <a:pt x="1642" y="169"/>
                      </a:lnTo>
                      <a:lnTo>
                        <a:pt x="1651" y="166"/>
                      </a:lnTo>
                      <a:lnTo>
                        <a:pt x="1658" y="160"/>
                      </a:lnTo>
                      <a:lnTo>
                        <a:pt x="1667" y="157"/>
                      </a:lnTo>
                      <a:lnTo>
                        <a:pt x="1674" y="150"/>
                      </a:lnTo>
                      <a:lnTo>
                        <a:pt x="1683" y="147"/>
                      </a:lnTo>
                      <a:lnTo>
                        <a:pt x="1690" y="144"/>
                      </a:lnTo>
                      <a:lnTo>
                        <a:pt x="1699" y="141"/>
                      </a:lnTo>
                      <a:lnTo>
                        <a:pt x="1705" y="141"/>
                      </a:lnTo>
                      <a:lnTo>
                        <a:pt x="1712" y="137"/>
                      </a:lnTo>
                      <a:lnTo>
                        <a:pt x="1718" y="137"/>
                      </a:lnTo>
                      <a:lnTo>
                        <a:pt x="1728" y="137"/>
                      </a:lnTo>
                      <a:lnTo>
                        <a:pt x="1734" y="137"/>
                      </a:lnTo>
                      <a:lnTo>
                        <a:pt x="1741" y="134"/>
                      </a:lnTo>
                      <a:lnTo>
                        <a:pt x="1750" y="134"/>
                      </a:lnTo>
                      <a:lnTo>
                        <a:pt x="1756" y="134"/>
                      </a:lnTo>
                      <a:lnTo>
                        <a:pt x="1763" y="134"/>
                      </a:lnTo>
                      <a:lnTo>
                        <a:pt x="1772" y="134"/>
                      </a:lnTo>
                      <a:lnTo>
                        <a:pt x="1779" y="137"/>
                      </a:lnTo>
                      <a:lnTo>
                        <a:pt x="1785" y="137"/>
                      </a:lnTo>
                      <a:lnTo>
                        <a:pt x="1795" y="137"/>
                      </a:lnTo>
                      <a:lnTo>
                        <a:pt x="1801" y="141"/>
                      </a:lnTo>
                      <a:lnTo>
                        <a:pt x="1807" y="141"/>
                      </a:lnTo>
                      <a:lnTo>
                        <a:pt x="1817" y="144"/>
                      </a:lnTo>
                      <a:lnTo>
                        <a:pt x="1823" y="144"/>
                      </a:lnTo>
                      <a:lnTo>
                        <a:pt x="1836" y="150"/>
                      </a:lnTo>
                      <a:lnTo>
                        <a:pt x="1849" y="157"/>
                      </a:lnTo>
                      <a:lnTo>
                        <a:pt x="1862" y="160"/>
                      </a:lnTo>
                      <a:lnTo>
                        <a:pt x="1874" y="166"/>
                      </a:lnTo>
                      <a:lnTo>
                        <a:pt x="1890" y="176"/>
                      </a:lnTo>
                      <a:lnTo>
                        <a:pt x="1903" y="182"/>
                      </a:lnTo>
                      <a:lnTo>
                        <a:pt x="1916" y="189"/>
                      </a:lnTo>
                      <a:lnTo>
                        <a:pt x="1929" y="195"/>
                      </a:lnTo>
                      <a:lnTo>
                        <a:pt x="1941" y="204"/>
                      </a:lnTo>
                      <a:lnTo>
                        <a:pt x="1954" y="211"/>
                      </a:lnTo>
                      <a:lnTo>
                        <a:pt x="1967" y="217"/>
                      </a:lnTo>
                      <a:lnTo>
                        <a:pt x="1980" y="227"/>
                      </a:lnTo>
                      <a:lnTo>
                        <a:pt x="1989" y="233"/>
                      </a:lnTo>
                      <a:lnTo>
                        <a:pt x="2002" y="240"/>
                      </a:lnTo>
                      <a:lnTo>
                        <a:pt x="2012" y="249"/>
                      </a:lnTo>
                      <a:lnTo>
                        <a:pt x="2021" y="255"/>
                      </a:lnTo>
                      <a:lnTo>
                        <a:pt x="2034" y="262"/>
                      </a:lnTo>
                      <a:lnTo>
                        <a:pt x="2043" y="268"/>
                      </a:lnTo>
                      <a:lnTo>
                        <a:pt x="2056" y="275"/>
                      </a:lnTo>
                      <a:lnTo>
                        <a:pt x="2066" y="281"/>
                      </a:lnTo>
                      <a:lnTo>
                        <a:pt x="2078" y="287"/>
                      </a:lnTo>
                      <a:lnTo>
                        <a:pt x="2088" y="291"/>
                      </a:lnTo>
                      <a:lnTo>
                        <a:pt x="2101" y="294"/>
                      </a:lnTo>
                      <a:lnTo>
                        <a:pt x="2114" y="297"/>
                      </a:lnTo>
                      <a:lnTo>
                        <a:pt x="2123" y="300"/>
                      </a:lnTo>
                      <a:lnTo>
                        <a:pt x="2136" y="303"/>
                      </a:lnTo>
                      <a:lnTo>
                        <a:pt x="2149" y="307"/>
                      </a:lnTo>
                      <a:lnTo>
                        <a:pt x="2161" y="307"/>
                      </a:lnTo>
                      <a:lnTo>
                        <a:pt x="2174" y="310"/>
                      </a:lnTo>
                      <a:lnTo>
                        <a:pt x="2187" y="313"/>
                      </a:lnTo>
                      <a:lnTo>
                        <a:pt x="2203" y="313"/>
                      </a:lnTo>
                      <a:lnTo>
                        <a:pt x="2216" y="316"/>
                      </a:lnTo>
                      <a:lnTo>
                        <a:pt x="2222" y="319"/>
                      </a:lnTo>
                      <a:lnTo>
                        <a:pt x="2231" y="319"/>
                      </a:lnTo>
                      <a:lnTo>
                        <a:pt x="2238" y="322"/>
                      </a:lnTo>
                      <a:lnTo>
                        <a:pt x="2244" y="322"/>
                      </a:lnTo>
                      <a:lnTo>
                        <a:pt x="2251" y="322"/>
                      </a:lnTo>
                      <a:lnTo>
                        <a:pt x="2260" y="326"/>
                      </a:lnTo>
                      <a:lnTo>
                        <a:pt x="2267" y="326"/>
                      </a:lnTo>
                      <a:lnTo>
                        <a:pt x="2273" y="326"/>
                      </a:lnTo>
                      <a:lnTo>
                        <a:pt x="2279" y="329"/>
                      </a:lnTo>
                      <a:lnTo>
                        <a:pt x="2286" y="329"/>
                      </a:lnTo>
                      <a:lnTo>
                        <a:pt x="2295" y="329"/>
                      </a:lnTo>
                      <a:lnTo>
                        <a:pt x="2302" y="332"/>
                      </a:lnTo>
                      <a:lnTo>
                        <a:pt x="2308" y="332"/>
                      </a:lnTo>
                      <a:lnTo>
                        <a:pt x="2314" y="332"/>
                      </a:lnTo>
                      <a:lnTo>
                        <a:pt x="2321" y="332"/>
                      </a:lnTo>
                      <a:lnTo>
                        <a:pt x="2330" y="335"/>
                      </a:lnTo>
                      <a:lnTo>
                        <a:pt x="2337" y="335"/>
                      </a:lnTo>
                      <a:lnTo>
                        <a:pt x="2343" y="335"/>
                      </a:lnTo>
                      <a:lnTo>
                        <a:pt x="2349" y="335"/>
                      </a:lnTo>
                      <a:lnTo>
                        <a:pt x="2356" y="335"/>
                      </a:lnTo>
                      <a:lnTo>
                        <a:pt x="2362" y="338"/>
                      </a:lnTo>
                      <a:lnTo>
                        <a:pt x="2372" y="338"/>
                      </a:lnTo>
                      <a:lnTo>
                        <a:pt x="2378" y="338"/>
                      </a:lnTo>
                      <a:lnTo>
                        <a:pt x="2384" y="338"/>
                      </a:lnTo>
                      <a:lnTo>
                        <a:pt x="2391" y="342"/>
                      </a:lnTo>
                      <a:lnTo>
                        <a:pt x="2397" y="342"/>
                      </a:lnTo>
                      <a:lnTo>
                        <a:pt x="2407" y="342"/>
                      </a:lnTo>
                      <a:lnTo>
                        <a:pt x="2413" y="342"/>
                      </a:lnTo>
                      <a:lnTo>
                        <a:pt x="2420" y="345"/>
                      </a:lnTo>
                      <a:lnTo>
                        <a:pt x="2426" y="345"/>
                      </a:lnTo>
                      <a:lnTo>
                        <a:pt x="2432" y="345"/>
                      </a:lnTo>
                      <a:lnTo>
                        <a:pt x="2442" y="345"/>
                      </a:lnTo>
                      <a:lnTo>
                        <a:pt x="2455" y="348"/>
                      </a:lnTo>
                      <a:lnTo>
                        <a:pt x="2467" y="348"/>
                      </a:lnTo>
                      <a:lnTo>
                        <a:pt x="2480" y="348"/>
                      </a:lnTo>
                      <a:lnTo>
                        <a:pt x="2493" y="345"/>
                      </a:lnTo>
                      <a:lnTo>
                        <a:pt x="2506" y="345"/>
                      </a:lnTo>
                      <a:lnTo>
                        <a:pt x="2518" y="345"/>
                      </a:lnTo>
                      <a:lnTo>
                        <a:pt x="2531" y="342"/>
                      </a:lnTo>
                      <a:lnTo>
                        <a:pt x="2544" y="338"/>
                      </a:lnTo>
                      <a:lnTo>
                        <a:pt x="2557" y="338"/>
                      </a:lnTo>
                      <a:lnTo>
                        <a:pt x="2569" y="335"/>
                      </a:lnTo>
                      <a:lnTo>
                        <a:pt x="2582" y="332"/>
                      </a:lnTo>
                      <a:lnTo>
                        <a:pt x="2592" y="329"/>
                      </a:lnTo>
                      <a:lnTo>
                        <a:pt x="2604" y="326"/>
                      </a:lnTo>
                      <a:lnTo>
                        <a:pt x="2620" y="322"/>
                      </a:lnTo>
                      <a:lnTo>
                        <a:pt x="2633" y="322"/>
                      </a:lnTo>
                      <a:lnTo>
                        <a:pt x="2646" y="319"/>
                      </a:lnTo>
                      <a:lnTo>
                        <a:pt x="2659" y="316"/>
                      </a:lnTo>
                      <a:lnTo>
                        <a:pt x="2671" y="313"/>
                      </a:lnTo>
                      <a:lnTo>
                        <a:pt x="2687" y="310"/>
                      </a:lnTo>
                      <a:lnTo>
                        <a:pt x="2700" y="307"/>
                      </a:lnTo>
                      <a:lnTo>
                        <a:pt x="2713" y="303"/>
                      </a:lnTo>
                      <a:lnTo>
                        <a:pt x="2729" y="300"/>
                      </a:lnTo>
                      <a:lnTo>
                        <a:pt x="2742" y="294"/>
                      </a:lnTo>
                      <a:lnTo>
                        <a:pt x="2754" y="291"/>
                      </a:lnTo>
                      <a:lnTo>
                        <a:pt x="2767" y="287"/>
                      </a:lnTo>
                      <a:lnTo>
                        <a:pt x="2780" y="281"/>
                      </a:lnTo>
                      <a:lnTo>
                        <a:pt x="2796" y="278"/>
                      </a:lnTo>
                      <a:lnTo>
                        <a:pt x="2808" y="275"/>
                      </a:lnTo>
                      <a:lnTo>
                        <a:pt x="2821" y="268"/>
                      </a:lnTo>
                      <a:lnTo>
                        <a:pt x="2834" y="265"/>
                      </a:lnTo>
                      <a:lnTo>
                        <a:pt x="2850" y="259"/>
                      </a:lnTo>
                      <a:lnTo>
                        <a:pt x="2863" y="255"/>
                      </a:lnTo>
                      <a:lnTo>
                        <a:pt x="2869" y="252"/>
                      </a:lnTo>
                      <a:lnTo>
                        <a:pt x="2875" y="249"/>
                      </a:lnTo>
                      <a:lnTo>
                        <a:pt x="2882" y="246"/>
                      </a:lnTo>
                      <a:lnTo>
                        <a:pt x="2891" y="243"/>
                      </a:lnTo>
                      <a:lnTo>
                        <a:pt x="2901" y="240"/>
                      </a:lnTo>
                      <a:lnTo>
                        <a:pt x="2910" y="236"/>
                      </a:lnTo>
                      <a:lnTo>
                        <a:pt x="2917" y="233"/>
                      </a:lnTo>
                      <a:lnTo>
                        <a:pt x="2926" y="230"/>
                      </a:lnTo>
                      <a:lnTo>
                        <a:pt x="2933" y="227"/>
                      </a:lnTo>
                      <a:lnTo>
                        <a:pt x="2942" y="224"/>
                      </a:lnTo>
                      <a:lnTo>
                        <a:pt x="2949" y="224"/>
                      </a:lnTo>
                      <a:lnTo>
                        <a:pt x="2955" y="224"/>
                      </a:lnTo>
                      <a:lnTo>
                        <a:pt x="2961" y="224"/>
                      </a:lnTo>
                      <a:lnTo>
                        <a:pt x="2965" y="224"/>
                      </a:lnTo>
                      <a:lnTo>
                        <a:pt x="2968" y="227"/>
                      </a:lnTo>
                      <a:lnTo>
                        <a:pt x="2968" y="233"/>
                      </a:lnTo>
                      <a:lnTo>
                        <a:pt x="2968" y="246"/>
                      </a:lnTo>
                      <a:lnTo>
                        <a:pt x="2965" y="259"/>
                      </a:lnTo>
                      <a:lnTo>
                        <a:pt x="2965" y="275"/>
                      </a:lnTo>
                      <a:lnTo>
                        <a:pt x="2961" y="287"/>
                      </a:lnTo>
                      <a:lnTo>
                        <a:pt x="2955" y="300"/>
                      </a:lnTo>
                      <a:lnTo>
                        <a:pt x="2952" y="313"/>
                      </a:lnTo>
                      <a:lnTo>
                        <a:pt x="2949" y="329"/>
                      </a:lnTo>
                      <a:lnTo>
                        <a:pt x="2946" y="342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688720" y="3141360"/>
                  <a:ext cx="2543400" cy="518400"/>
                </a:xfrm>
                <a:custGeom>
                  <a:avLst/>
                  <a:gdLst/>
                  <a:ahLst/>
                  <a:rect l="l" t="t" r="r" b="b"/>
                  <a:pathLst>
                    <a:path w="2984" h="574">
                      <a:moveTo>
                        <a:pt x="2946" y="342"/>
                      </a:moveTo>
                      <a:lnTo>
                        <a:pt x="2949" y="345"/>
                      </a:lnTo>
                      <a:lnTo>
                        <a:pt x="2955" y="351"/>
                      </a:lnTo>
                      <a:lnTo>
                        <a:pt x="2958" y="358"/>
                      </a:lnTo>
                      <a:lnTo>
                        <a:pt x="2961" y="361"/>
                      </a:lnTo>
                      <a:lnTo>
                        <a:pt x="2965" y="367"/>
                      </a:lnTo>
                      <a:lnTo>
                        <a:pt x="2968" y="373"/>
                      </a:lnTo>
                      <a:lnTo>
                        <a:pt x="2974" y="377"/>
                      </a:lnTo>
                      <a:lnTo>
                        <a:pt x="2977" y="383"/>
                      </a:lnTo>
                      <a:lnTo>
                        <a:pt x="2977" y="386"/>
                      </a:lnTo>
                      <a:lnTo>
                        <a:pt x="2981" y="393"/>
                      </a:lnTo>
                      <a:lnTo>
                        <a:pt x="2984" y="396"/>
                      </a:lnTo>
                      <a:lnTo>
                        <a:pt x="2984" y="399"/>
                      </a:lnTo>
                      <a:lnTo>
                        <a:pt x="2984" y="405"/>
                      </a:lnTo>
                      <a:lnTo>
                        <a:pt x="2984" y="409"/>
                      </a:lnTo>
                      <a:lnTo>
                        <a:pt x="2984" y="412"/>
                      </a:lnTo>
                      <a:lnTo>
                        <a:pt x="2981" y="415"/>
                      </a:lnTo>
                      <a:lnTo>
                        <a:pt x="2974" y="418"/>
                      </a:lnTo>
                      <a:lnTo>
                        <a:pt x="2968" y="421"/>
                      </a:lnTo>
                      <a:lnTo>
                        <a:pt x="2961" y="424"/>
                      </a:lnTo>
                      <a:lnTo>
                        <a:pt x="2955" y="428"/>
                      </a:lnTo>
                      <a:lnTo>
                        <a:pt x="2946" y="431"/>
                      </a:lnTo>
                      <a:lnTo>
                        <a:pt x="2939" y="434"/>
                      </a:lnTo>
                      <a:lnTo>
                        <a:pt x="2933" y="437"/>
                      </a:lnTo>
                      <a:lnTo>
                        <a:pt x="2926" y="440"/>
                      </a:lnTo>
                      <a:lnTo>
                        <a:pt x="2917" y="444"/>
                      </a:lnTo>
                      <a:lnTo>
                        <a:pt x="2910" y="447"/>
                      </a:lnTo>
                      <a:lnTo>
                        <a:pt x="2904" y="450"/>
                      </a:lnTo>
                      <a:lnTo>
                        <a:pt x="2895" y="450"/>
                      </a:lnTo>
                      <a:lnTo>
                        <a:pt x="2888" y="453"/>
                      </a:lnTo>
                      <a:lnTo>
                        <a:pt x="2882" y="456"/>
                      </a:lnTo>
                      <a:lnTo>
                        <a:pt x="2875" y="460"/>
                      </a:lnTo>
                      <a:lnTo>
                        <a:pt x="2866" y="460"/>
                      </a:lnTo>
                      <a:lnTo>
                        <a:pt x="2859" y="463"/>
                      </a:lnTo>
                      <a:lnTo>
                        <a:pt x="2850" y="466"/>
                      </a:lnTo>
                      <a:lnTo>
                        <a:pt x="2844" y="469"/>
                      </a:lnTo>
                      <a:lnTo>
                        <a:pt x="2834" y="472"/>
                      </a:lnTo>
                      <a:lnTo>
                        <a:pt x="2828" y="476"/>
                      </a:lnTo>
                      <a:lnTo>
                        <a:pt x="2818" y="479"/>
                      </a:lnTo>
                      <a:lnTo>
                        <a:pt x="2812" y="482"/>
                      </a:lnTo>
                      <a:lnTo>
                        <a:pt x="2802" y="485"/>
                      </a:lnTo>
                      <a:lnTo>
                        <a:pt x="2796" y="488"/>
                      </a:lnTo>
                      <a:lnTo>
                        <a:pt x="2786" y="491"/>
                      </a:lnTo>
                      <a:lnTo>
                        <a:pt x="2780" y="491"/>
                      </a:lnTo>
                      <a:lnTo>
                        <a:pt x="2770" y="495"/>
                      </a:lnTo>
                      <a:lnTo>
                        <a:pt x="2764" y="498"/>
                      </a:lnTo>
                      <a:lnTo>
                        <a:pt x="2754" y="501"/>
                      </a:lnTo>
                      <a:lnTo>
                        <a:pt x="2748" y="504"/>
                      </a:lnTo>
                      <a:lnTo>
                        <a:pt x="2738" y="507"/>
                      </a:lnTo>
                      <a:lnTo>
                        <a:pt x="2732" y="511"/>
                      </a:lnTo>
                      <a:lnTo>
                        <a:pt x="2722" y="514"/>
                      </a:lnTo>
                      <a:lnTo>
                        <a:pt x="2716" y="514"/>
                      </a:lnTo>
                      <a:lnTo>
                        <a:pt x="2706" y="517"/>
                      </a:lnTo>
                      <a:lnTo>
                        <a:pt x="2700" y="520"/>
                      </a:lnTo>
                      <a:lnTo>
                        <a:pt x="2691" y="523"/>
                      </a:lnTo>
                      <a:lnTo>
                        <a:pt x="2684" y="527"/>
                      </a:lnTo>
                      <a:lnTo>
                        <a:pt x="2675" y="530"/>
                      </a:lnTo>
                      <a:lnTo>
                        <a:pt x="2665" y="530"/>
                      </a:lnTo>
                      <a:lnTo>
                        <a:pt x="2659" y="533"/>
                      </a:lnTo>
                      <a:lnTo>
                        <a:pt x="2649" y="536"/>
                      </a:lnTo>
                      <a:lnTo>
                        <a:pt x="2643" y="539"/>
                      </a:lnTo>
                      <a:lnTo>
                        <a:pt x="2633" y="542"/>
                      </a:lnTo>
                      <a:lnTo>
                        <a:pt x="2627" y="542"/>
                      </a:lnTo>
                      <a:lnTo>
                        <a:pt x="2617" y="546"/>
                      </a:lnTo>
                      <a:lnTo>
                        <a:pt x="2611" y="549"/>
                      </a:lnTo>
                      <a:lnTo>
                        <a:pt x="2604" y="552"/>
                      </a:lnTo>
                      <a:lnTo>
                        <a:pt x="2598" y="552"/>
                      </a:lnTo>
                      <a:lnTo>
                        <a:pt x="2592" y="552"/>
                      </a:lnTo>
                      <a:lnTo>
                        <a:pt x="2589" y="555"/>
                      </a:lnTo>
                      <a:lnTo>
                        <a:pt x="2582" y="555"/>
                      </a:lnTo>
                      <a:lnTo>
                        <a:pt x="2576" y="558"/>
                      </a:lnTo>
                      <a:lnTo>
                        <a:pt x="2569" y="558"/>
                      </a:lnTo>
                      <a:lnTo>
                        <a:pt x="2566" y="558"/>
                      </a:lnTo>
                      <a:lnTo>
                        <a:pt x="2560" y="558"/>
                      </a:lnTo>
                      <a:lnTo>
                        <a:pt x="2553" y="562"/>
                      </a:lnTo>
                      <a:lnTo>
                        <a:pt x="2547" y="562"/>
                      </a:lnTo>
                      <a:lnTo>
                        <a:pt x="2541" y="562"/>
                      </a:lnTo>
                      <a:lnTo>
                        <a:pt x="2538" y="562"/>
                      </a:lnTo>
                      <a:lnTo>
                        <a:pt x="2531" y="565"/>
                      </a:lnTo>
                      <a:lnTo>
                        <a:pt x="2525" y="565"/>
                      </a:lnTo>
                      <a:lnTo>
                        <a:pt x="2518" y="565"/>
                      </a:lnTo>
                      <a:lnTo>
                        <a:pt x="2509" y="565"/>
                      </a:lnTo>
                      <a:lnTo>
                        <a:pt x="2499" y="568"/>
                      </a:lnTo>
                      <a:lnTo>
                        <a:pt x="2487" y="568"/>
                      </a:lnTo>
                      <a:lnTo>
                        <a:pt x="2477" y="568"/>
                      </a:lnTo>
                      <a:lnTo>
                        <a:pt x="2467" y="568"/>
                      </a:lnTo>
                      <a:lnTo>
                        <a:pt x="2455" y="568"/>
                      </a:lnTo>
                      <a:lnTo>
                        <a:pt x="2445" y="571"/>
                      </a:lnTo>
                      <a:lnTo>
                        <a:pt x="2435" y="571"/>
                      </a:lnTo>
                      <a:lnTo>
                        <a:pt x="2423" y="571"/>
                      </a:lnTo>
                      <a:lnTo>
                        <a:pt x="2413" y="571"/>
                      </a:lnTo>
                      <a:lnTo>
                        <a:pt x="2404" y="571"/>
                      </a:lnTo>
                      <a:lnTo>
                        <a:pt x="2391" y="571"/>
                      </a:lnTo>
                      <a:lnTo>
                        <a:pt x="2381" y="574"/>
                      </a:lnTo>
                      <a:lnTo>
                        <a:pt x="2372" y="574"/>
                      </a:lnTo>
                      <a:lnTo>
                        <a:pt x="2359" y="574"/>
                      </a:lnTo>
                      <a:lnTo>
                        <a:pt x="2349" y="574"/>
                      </a:lnTo>
                      <a:lnTo>
                        <a:pt x="2340" y="574"/>
                      </a:lnTo>
                      <a:lnTo>
                        <a:pt x="2327" y="574"/>
                      </a:lnTo>
                      <a:lnTo>
                        <a:pt x="2318" y="574"/>
                      </a:lnTo>
                      <a:lnTo>
                        <a:pt x="2308" y="574"/>
                      </a:lnTo>
                      <a:lnTo>
                        <a:pt x="2295" y="574"/>
                      </a:lnTo>
                      <a:lnTo>
                        <a:pt x="2286" y="574"/>
                      </a:lnTo>
                      <a:lnTo>
                        <a:pt x="2276" y="574"/>
                      </a:lnTo>
                      <a:lnTo>
                        <a:pt x="2263" y="574"/>
                      </a:lnTo>
                      <a:lnTo>
                        <a:pt x="2254" y="574"/>
                      </a:lnTo>
                      <a:lnTo>
                        <a:pt x="2244" y="574"/>
                      </a:lnTo>
                      <a:lnTo>
                        <a:pt x="2231" y="574"/>
                      </a:lnTo>
                      <a:lnTo>
                        <a:pt x="2222" y="574"/>
                      </a:lnTo>
                      <a:lnTo>
                        <a:pt x="2212" y="574"/>
                      </a:lnTo>
                      <a:lnTo>
                        <a:pt x="2200" y="574"/>
                      </a:lnTo>
                      <a:lnTo>
                        <a:pt x="2190" y="574"/>
                      </a:lnTo>
                      <a:lnTo>
                        <a:pt x="2180" y="574"/>
                      </a:lnTo>
                      <a:lnTo>
                        <a:pt x="2171" y="574"/>
                      </a:lnTo>
                      <a:lnTo>
                        <a:pt x="2165" y="574"/>
                      </a:lnTo>
                      <a:lnTo>
                        <a:pt x="2155" y="574"/>
                      </a:lnTo>
                      <a:lnTo>
                        <a:pt x="2149" y="574"/>
                      </a:lnTo>
                      <a:lnTo>
                        <a:pt x="2139" y="574"/>
                      </a:lnTo>
                      <a:lnTo>
                        <a:pt x="2133" y="571"/>
                      </a:lnTo>
                      <a:lnTo>
                        <a:pt x="2123" y="571"/>
                      </a:lnTo>
                      <a:lnTo>
                        <a:pt x="2117" y="571"/>
                      </a:lnTo>
                      <a:lnTo>
                        <a:pt x="2107" y="571"/>
                      </a:lnTo>
                      <a:lnTo>
                        <a:pt x="2101" y="571"/>
                      </a:lnTo>
                      <a:lnTo>
                        <a:pt x="2094" y="568"/>
                      </a:lnTo>
                      <a:lnTo>
                        <a:pt x="2085" y="568"/>
                      </a:lnTo>
                      <a:lnTo>
                        <a:pt x="2078" y="568"/>
                      </a:lnTo>
                      <a:lnTo>
                        <a:pt x="2069" y="568"/>
                      </a:lnTo>
                      <a:lnTo>
                        <a:pt x="2063" y="568"/>
                      </a:lnTo>
                      <a:lnTo>
                        <a:pt x="2053" y="568"/>
                      </a:lnTo>
                      <a:lnTo>
                        <a:pt x="2047" y="565"/>
                      </a:lnTo>
                      <a:lnTo>
                        <a:pt x="2037" y="565"/>
                      </a:lnTo>
                      <a:lnTo>
                        <a:pt x="2031" y="565"/>
                      </a:lnTo>
                      <a:lnTo>
                        <a:pt x="2021" y="565"/>
                      </a:lnTo>
                      <a:lnTo>
                        <a:pt x="2012" y="565"/>
                      </a:lnTo>
                      <a:lnTo>
                        <a:pt x="2005" y="565"/>
                      </a:lnTo>
                      <a:lnTo>
                        <a:pt x="1996" y="562"/>
                      </a:lnTo>
                      <a:lnTo>
                        <a:pt x="1989" y="562"/>
                      </a:lnTo>
                      <a:lnTo>
                        <a:pt x="1980" y="562"/>
                      </a:lnTo>
                      <a:lnTo>
                        <a:pt x="1970" y="562"/>
                      </a:lnTo>
                      <a:lnTo>
                        <a:pt x="1964" y="562"/>
                      </a:lnTo>
                      <a:lnTo>
                        <a:pt x="1954" y="562"/>
                      </a:lnTo>
                      <a:lnTo>
                        <a:pt x="1948" y="562"/>
                      </a:lnTo>
                      <a:lnTo>
                        <a:pt x="1938" y="558"/>
                      </a:lnTo>
                      <a:lnTo>
                        <a:pt x="1932" y="558"/>
                      </a:lnTo>
                      <a:lnTo>
                        <a:pt x="1922" y="558"/>
                      </a:lnTo>
                      <a:lnTo>
                        <a:pt x="1913" y="558"/>
                      </a:lnTo>
                      <a:lnTo>
                        <a:pt x="1906" y="558"/>
                      </a:lnTo>
                      <a:lnTo>
                        <a:pt x="1897" y="558"/>
                      </a:lnTo>
                      <a:lnTo>
                        <a:pt x="1890" y="555"/>
                      </a:lnTo>
                      <a:lnTo>
                        <a:pt x="1881" y="555"/>
                      </a:lnTo>
                      <a:lnTo>
                        <a:pt x="1871" y="555"/>
                      </a:lnTo>
                      <a:lnTo>
                        <a:pt x="1865" y="555"/>
                      </a:lnTo>
                      <a:lnTo>
                        <a:pt x="1855" y="555"/>
                      </a:lnTo>
                      <a:lnTo>
                        <a:pt x="1849" y="555"/>
                      </a:lnTo>
                      <a:lnTo>
                        <a:pt x="1839" y="555"/>
                      </a:lnTo>
                      <a:lnTo>
                        <a:pt x="1833" y="552"/>
                      </a:lnTo>
                      <a:lnTo>
                        <a:pt x="1823" y="552"/>
                      </a:lnTo>
                      <a:lnTo>
                        <a:pt x="1814" y="552"/>
                      </a:lnTo>
                      <a:lnTo>
                        <a:pt x="1807" y="552"/>
                      </a:lnTo>
                      <a:lnTo>
                        <a:pt x="1798" y="552"/>
                      </a:lnTo>
                      <a:lnTo>
                        <a:pt x="1792" y="552"/>
                      </a:lnTo>
                      <a:lnTo>
                        <a:pt x="1779" y="552"/>
                      </a:lnTo>
                      <a:lnTo>
                        <a:pt x="1769" y="549"/>
                      </a:lnTo>
                      <a:lnTo>
                        <a:pt x="1760" y="549"/>
                      </a:lnTo>
                      <a:lnTo>
                        <a:pt x="1750" y="549"/>
                      </a:lnTo>
                      <a:lnTo>
                        <a:pt x="1741" y="549"/>
                      </a:lnTo>
                      <a:lnTo>
                        <a:pt x="1731" y="549"/>
                      </a:lnTo>
                      <a:lnTo>
                        <a:pt x="1718" y="549"/>
                      </a:lnTo>
                      <a:lnTo>
                        <a:pt x="1709" y="546"/>
                      </a:lnTo>
                      <a:lnTo>
                        <a:pt x="1699" y="546"/>
                      </a:lnTo>
                      <a:lnTo>
                        <a:pt x="1690" y="546"/>
                      </a:lnTo>
                      <a:lnTo>
                        <a:pt x="1680" y="546"/>
                      </a:lnTo>
                      <a:lnTo>
                        <a:pt x="1670" y="546"/>
                      </a:lnTo>
                      <a:lnTo>
                        <a:pt x="1658" y="542"/>
                      </a:lnTo>
                      <a:lnTo>
                        <a:pt x="1648" y="542"/>
                      </a:lnTo>
                      <a:lnTo>
                        <a:pt x="1639" y="542"/>
                      </a:lnTo>
                      <a:lnTo>
                        <a:pt x="1629" y="542"/>
                      </a:lnTo>
                      <a:lnTo>
                        <a:pt x="1619" y="542"/>
                      </a:lnTo>
                      <a:lnTo>
                        <a:pt x="1610" y="542"/>
                      </a:lnTo>
                      <a:lnTo>
                        <a:pt x="1597" y="542"/>
                      </a:lnTo>
                      <a:lnTo>
                        <a:pt x="1588" y="539"/>
                      </a:lnTo>
                      <a:lnTo>
                        <a:pt x="1578" y="539"/>
                      </a:lnTo>
                      <a:lnTo>
                        <a:pt x="1568" y="539"/>
                      </a:lnTo>
                      <a:lnTo>
                        <a:pt x="1559" y="539"/>
                      </a:lnTo>
                      <a:lnTo>
                        <a:pt x="1549" y="539"/>
                      </a:lnTo>
                      <a:lnTo>
                        <a:pt x="1537" y="539"/>
                      </a:lnTo>
                      <a:lnTo>
                        <a:pt x="1527" y="536"/>
                      </a:lnTo>
                      <a:lnTo>
                        <a:pt x="1517" y="536"/>
                      </a:lnTo>
                      <a:lnTo>
                        <a:pt x="1508" y="536"/>
                      </a:lnTo>
                      <a:lnTo>
                        <a:pt x="1498" y="536"/>
                      </a:lnTo>
                      <a:lnTo>
                        <a:pt x="1489" y="536"/>
                      </a:lnTo>
                      <a:lnTo>
                        <a:pt x="1479" y="536"/>
                      </a:lnTo>
                      <a:lnTo>
                        <a:pt x="1466" y="533"/>
                      </a:lnTo>
                      <a:lnTo>
                        <a:pt x="1460" y="533"/>
                      </a:lnTo>
                      <a:lnTo>
                        <a:pt x="1450" y="533"/>
                      </a:lnTo>
                      <a:lnTo>
                        <a:pt x="1441" y="533"/>
                      </a:lnTo>
                      <a:lnTo>
                        <a:pt x="1431" y="533"/>
                      </a:lnTo>
                      <a:lnTo>
                        <a:pt x="1422" y="533"/>
                      </a:lnTo>
                      <a:lnTo>
                        <a:pt x="1412" y="533"/>
                      </a:lnTo>
                      <a:lnTo>
                        <a:pt x="1403" y="530"/>
                      </a:lnTo>
                      <a:lnTo>
                        <a:pt x="1396" y="530"/>
                      </a:lnTo>
                      <a:lnTo>
                        <a:pt x="1387" y="530"/>
                      </a:lnTo>
                      <a:lnTo>
                        <a:pt x="1377" y="530"/>
                      </a:lnTo>
                      <a:lnTo>
                        <a:pt x="1368" y="530"/>
                      </a:lnTo>
                      <a:lnTo>
                        <a:pt x="1358" y="530"/>
                      </a:lnTo>
                      <a:lnTo>
                        <a:pt x="1348" y="530"/>
                      </a:lnTo>
                      <a:lnTo>
                        <a:pt x="1342" y="527"/>
                      </a:lnTo>
                      <a:lnTo>
                        <a:pt x="1332" y="527"/>
                      </a:lnTo>
                      <a:lnTo>
                        <a:pt x="1323" y="527"/>
                      </a:lnTo>
                      <a:lnTo>
                        <a:pt x="1313" y="527"/>
                      </a:lnTo>
                      <a:lnTo>
                        <a:pt x="1304" y="527"/>
                      </a:lnTo>
                      <a:lnTo>
                        <a:pt x="1294" y="527"/>
                      </a:lnTo>
                      <a:lnTo>
                        <a:pt x="1285" y="527"/>
                      </a:lnTo>
                      <a:lnTo>
                        <a:pt x="1278" y="523"/>
                      </a:lnTo>
                      <a:lnTo>
                        <a:pt x="1269" y="523"/>
                      </a:lnTo>
                      <a:lnTo>
                        <a:pt x="1259" y="523"/>
                      </a:lnTo>
                      <a:lnTo>
                        <a:pt x="1250" y="523"/>
                      </a:lnTo>
                      <a:lnTo>
                        <a:pt x="1240" y="523"/>
                      </a:lnTo>
                      <a:lnTo>
                        <a:pt x="1230" y="523"/>
                      </a:lnTo>
                      <a:lnTo>
                        <a:pt x="1221" y="520"/>
                      </a:lnTo>
                      <a:lnTo>
                        <a:pt x="1215" y="520"/>
                      </a:lnTo>
                      <a:lnTo>
                        <a:pt x="1205" y="520"/>
                      </a:lnTo>
                      <a:lnTo>
                        <a:pt x="1195" y="520"/>
                      </a:lnTo>
                      <a:lnTo>
                        <a:pt x="1186" y="520"/>
                      </a:lnTo>
                      <a:lnTo>
                        <a:pt x="1176" y="517"/>
                      </a:lnTo>
                      <a:lnTo>
                        <a:pt x="1167" y="517"/>
                      </a:lnTo>
                      <a:lnTo>
                        <a:pt x="1154" y="517"/>
                      </a:lnTo>
                      <a:lnTo>
                        <a:pt x="1141" y="514"/>
                      </a:lnTo>
                      <a:lnTo>
                        <a:pt x="1128" y="514"/>
                      </a:lnTo>
                      <a:lnTo>
                        <a:pt x="1119" y="514"/>
                      </a:lnTo>
                      <a:lnTo>
                        <a:pt x="1106" y="514"/>
                      </a:lnTo>
                      <a:lnTo>
                        <a:pt x="1093" y="511"/>
                      </a:lnTo>
                      <a:lnTo>
                        <a:pt x="1081" y="511"/>
                      </a:lnTo>
                      <a:lnTo>
                        <a:pt x="1068" y="507"/>
                      </a:lnTo>
                      <a:lnTo>
                        <a:pt x="1058" y="507"/>
                      </a:lnTo>
                      <a:lnTo>
                        <a:pt x="1046" y="507"/>
                      </a:lnTo>
                      <a:lnTo>
                        <a:pt x="1033" y="504"/>
                      </a:lnTo>
                      <a:lnTo>
                        <a:pt x="1020" y="504"/>
                      </a:lnTo>
                      <a:lnTo>
                        <a:pt x="1011" y="504"/>
                      </a:lnTo>
                      <a:lnTo>
                        <a:pt x="998" y="501"/>
                      </a:lnTo>
                      <a:lnTo>
                        <a:pt x="985" y="501"/>
                      </a:lnTo>
                      <a:lnTo>
                        <a:pt x="972" y="501"/>
                      </a:lnTo>
                      <a:lnTo>
                        <a:pt x="963" y="498"/>
                      </a:lnTo>
                      <a:lnTo>
                        <a:pt x="950" y="498"/>
                      </a:lnTo>
                      <a:lnTo>
                        <a:pt x="937" y="495"/>
                      </a:lnTo>
                      <a:lnTo>
                        <a:pt x="924" y="495"/>
                      </a:lnTo>
                      <a:lnTo>
                        <a:pt x="915" y="495"/>
                      </a:lnTo>
                      <a:lnTo>
                        <a:pt x="902" y="491"/>
                      </a:lnTo>
                      <a:lnTo>
                        <a:pt x="889" y="491"/>
                      </a:lnTo>
                      <a:lnTo>
                        <a:pt x="877" y="491"/>
                      </a:lnTo>
                      <a:lnTo>
                        <a:pt x="864" y="488"/>
                      </a:lnTo>
                      <a:lnTo>
                        <a:pt x="854" y="488"/>
                      </a:lnTo>
                      <a:lnTo>
                        <a:pt x="842" y="485"/>
                      </a:lnTo>
                      <a:lnTo>
                        <a:pt x="829" y="485"/>
                      </a:lnTo>
                      <a:lnTo>
                        <a:pt x="816" y="485"/>
                      </a:lnTo>
                      <a:lnTo>
                        <a:pt x="806" y="482"/>
                      </a:lnTo>
                      <a:lnTo>
                        <a:pt x="794" y="482"/>
                      </a:lnTo>
                      <a:lnTo>
                        <a:pt x="781" y="482"/>
                      </a:lnTo>
                      <a:lnTo>
                        <a:pt x="768" y="479"/>
                      </a:lnTo>
                      <a:lnTo>
                        <a:pt x="752" y="479"/>
                      </a:lnTo>
                      <a:lnTo>
                        <a:pt x="740" y="479"/>
                      </a:lnTo>
                      <a:lnTo>
                        <a:pt x="727" y="476"/>
                      </a:lnTo>
                      <a:lnTo>
                        <a:pt x="714" y="476"/>
                      </a:lnTo>
                      <a:lnTo>
                        <a:pt x="701" y="476"/>
                      </a:lnTo>
                      <a:lnTo>
                        <a:pt x="689" y="476"/>
                      </a:lnTo>
                      <a:lnTo>
                        <a:pt x="673" y="472"/>
                      </a:lnTo>
                      <a:lnTo>
                        <a:pt x="660" y="472"/>
                      </a:lnTo>
                      <a:lnTo>
                        <a:pt x="647" y="472"/>
                      </a:lnTo>
                      <a:lnTo>
                        <a:pt x="634" y="469"/>
                      </a:lnTo>
                      <a:lnTo>
                        <a:pt x="622" y="469"/>
                      </a:lnTo>
                      <a:lnTo>
                        <a:pt x="609" y="466"/>
                      </a:lnTo>
                      <a:lnTo>
                        <a:pt x="596" y="466"/>
                      </a:lnTo>
                      <a:lnTo>
                        <a:pt x="583" y="463"/>
                      </a:lnTo>
                      <a:lnTo>
                        <a:pt x="574" y="463"/>
                      </a:lnTo>
                      <a:lnTo>
                        <a:pt x="564" y="460"/>
                      </a:lnTo>
                      <a:lnTo>
                        <a:pt x="551" y="460"/>
                      </a:lnTo>
                      <a:lnTo>
                        <a:pt x="542" y="456"/>
                      </a:lnTo>
                      <a:lnTo>
                        <a:pt x="532" y="456"/>
                      </a:lnTo>
                      <a:lnTo>
                        <a:pt x="523" y="453"/>
                      </a:lnTo>
                      <a:lnTo>
                        <a:pt x="513" y="453"/>
                      </a:lnTo>
                      <a:lnTo>
                        <a:pt x="504" y="450"/>
                      </a:lnTo>
                      <a:lnTo>
                        <a:pt x="494" y="447"/>
                      </a:lnTo>
                      <a:lnTo>
                        <a:pt x="485" y="447"/>
                      </a:lnTo>
                      <a:lnTo>
                        <a:pt x="475" y="444"/>
                      </a:lnTo>
                      <a:lnTo>
                        <a:pt x="465" y="444"/>
                      </a:lnTo>
                      <a:lnTo>
                        <a:pt x="456" y="440"/>
                      </a:lnTo>
                      <a:lnTo>
                        <a:pt x="446" y="437"/>
                      </a:lnTo>
                      <a:lnTo>
                        <a:pt x="437" y="437"/>
                      </a:lnTo>
                      <a:lnTo>
                        <a:pt x="427" y="434"/>
                      </a:lnTo>
                      <a:lnTo>
                        <a:pt x="418" y="431"/>
                      </a:lnTo>
                      <a:lnTo>
                        <a:pt x="408" y="431"/>
                      </a:lnTo>
                      <a:lnTo>
                        <a:pt x="395" y="428"/>
                      </a:lnTo>
                      <a:lnTo>
                        <a:pt x="386" y="424"/>
                      </a:lnTo>
                      <a:lnTo>
                        <a:pt x="376" y="424"/>
                      </a:lnTo>
                      <a:lnTo>
                        <a:pt x="367" y="421"/>
                      </a:lnTo>
                      <a:lnTo>
                        <a:pt x="357" y="418"/>
                      </a:lnTo>
                      <a:lnTo>
                        <a:pt x="347" y="415"/>
                      </a:lnTo>
                      <a:lnTo>
                        <a:pt x="338" y="415"/>
                      </a:lnTo>
                      <a:lnTo>
                        <a:pt x="328" y="412"/>
                      </a:lnTo>
                      <a:lnTo>
                        <a:pt x="319" y="409"/>
                      </a:lnTo>
                      <a:lnTo>
                        <a:pt x="309" y="405"/>
                      </a:lnTo>
                      <a:lnTo>
                        <a:pt x="300" y="405"/>
                      </a:lnTo>
                      <a:lnTo>
                        <a:pt x="290" y="402"/>
                      </a:lnTo>
                      <a:lnTo>
                        <a:pt x="281" y="399"/>
                      </a:lnTo>
                      <a:lnTo>
                        <a:pt x="271" y="396"/>
                      </a:lnTo>
                      <a:lnTo>
                        <a:pt x="265" y="396"/>
                      </a:lnTo>
                      <a:lnTo>
                        <a:pt x="255" y="393"/>
                      </a:lnTo>
                      <a:lnTo>
                        <a:pt x="249" y="389"/>
                      </a:lnTo>
                      <a:lnTo>
                        <a:pt x="242" y="389"/>
                      </a:lnTo>
                      <a:lnTo>
                        <a:pt x="233" y="386"/>
                      </a:lnTo>
                      <a:lnTo>
                        <a:pt x="226" y="383"/>
                      </a:lnTo>
                      <a:lnTo>
                        <a:pt x="220" y="380"/>
                      </a:lnTo>
                      <a:lnTo>
                        <a:pt x="210" y="377"/>
                      </a:lnTo>
                      <a:lnTo>
                        <a:pt x="204" y="373"/>
                      </a:lnTo>
                      <a:lnTo>
                        <a:pt x="198" y="370"/>
                      </a:lnTo>
                      <a:lnTo>
                        <a:pt x="188" y="367"/>
                      </a:lnTo>
                      <a:lnTo>
                        <a:pt x="182" y="364"/>
                      </a:lnTo>
                      <a:lnTo>
                        <a:pt x="175" y="361"/>
                      </a:lnTo>
                      <a:lnTo>
                        <a:pt x="169" y="358"/>
                      </a:lnTo>
                      <a:lnTo>
                        <a:pt x="163" y="354"/>
                      </a:lnTo>
                      <a:lnTo>
                        <a:pt x="156" y="348"/>
                      </a:lnTo>
                      <a:lnTo>
                        <a:pt x="147" y="345"/>
                      </a:lnTo>
                      <a:lnTo>
                        <a:pt x="140" y="338"/>
                      </a:lnTo>
                      <a:lnTo>
                        <a:pt x="134" y="335"/>
                      </a:lnTo>
                      <a:lnTo>
                        <a:pt x="127" y="329"/>
                      </a:lnTo>
                      <a:lnTo>
                        <a:pt x="121" y="326"/>
                      </a:lnTo>
                      <a:lnTo>
                        <a:pt x="112" y="319"/>
                      </a:lnTo>
                      <a:lnTo>
                        <a:pt x="105" y="313"/>
                      </a:lnTo>
                      <a:lnTo>
                        <a:pt x="99" y="307"/>
                      </a:lnTo>
                      <a:lnTo>
                        <a:pt x="92" y="303"/>
                      </a:lnTo>
                      <a:lnTo>
                        <a:pt x="86" y="297"/>
                      </a:lnTo>
                      <a:lnTo>
                        <a:pt x="80" y="291"/>
                      </a:lnTo>
                      <a:lnTo>
                        <a:pt x="73" y="284"/>
                      </a:lnTo>
                      <a:lnTo>
                        <a:pt x="70" y="278"/>
                      </a:lnTo>
                      <a:lnTo>
                        <a:pt x="64" y="271"/>
                      </a:lnTo>
                      <a:lnTo>
                        <a:pt x="57" y="265"/>
                      </a:lnTo>
                      <a:lnTo>
                        <a:pt x="54" y="255"/>
                      </a:lnTo>
                      <a:lnTo>
                        <a:pt x="45" y="240"/>
                      </a:lnTo>
                      <a:lnTo>
                        <a:pt x="35" y="220"/>
                      </a:lnTo>
                      <a:lnTo>
                        <a:pt x="29" y="201"/>
                      </a:lnTo>
                      <a:lnTo>
                        <a:pt x="22" y="179"/>
                      </a:lnTo>
                      <a:lnTo>
                        <a:pt x="16" y="160"/>
                      </a:lnTo>
                      <a:lnTo>
                        <a:pt x="13" y="137"/>
                      </a:lnTo>
                      <a:lnTo>
                        <a:pt x="10" y="118"/>
                      </a:lnTo>
                      <a:lnTo>
                        <a:pt x="3" y="96"/>
                      </a:lnTo>
                      <a:lnTo>
                        <a:pt x="0" y="74"/>
                      </a:lnTo>
                      <a:lnTo>
                        <a:pt x="0" y="48"/>
                      </a:lnTo>
                      <a:lnTo>
                        <a:pt x="0" y="23"/>
                      </a:lnTo>
                      <a:lnTo>
                        <a:pt x="3" y="0"/>
                      </a:lnTo>
                      <a:lnTo>
                        <a:pt x="6" y="10"/>
                      </a:lnTo>
                      <a:lnTo>
                        <a:pt x="13" y="19"/>
                      </a:lnTo>
                      <a:lnTo>
                        <a:pt x="19" y="26"/>
                      </a:lnTo>
                      <a:lnTo>
                        <a:pt x="25" y="35"/>
                      </a:lnTo>
                      <a:lnTo>
                        <a:pt x="35" y="42"/>
                      </a:lnTo>
                      <a:lnTo>
                        <a:pt x="41" y="45"/>
                      </a:lnTo>
                      <a:lnTo>
                        <a:pt x="51" y="51"/>
                      </a:lnTo>
                      <a:lnTo>
                        <a:pt x="57" y="58"/>
                      </a:lnTo>
                      <a:lnTo>
                        <a:pt x="67" y="61"/>
                      </a:lnTo>
                      <a:lnTo>
                        <a:pt x="76" y="64"/>
                      </a:lnTo>
                      <a:lnTo>
                        <a:pt x="89" y="67"/>
                      </a:lnTo>
                      <a:lnTo>
                        <a:pt x="99" y="71"/>
                      </a:lnTo>
                      <a:lnTo>
                        <a:pt x="112" y="74"/>
                      </a:lnTo>
                      <a:lnTo>
                        <a:pt x="124" y="77"/>
                      </a:lnTo>
                      <a:lnTo>
                        <a:pt x="137" y="80"/>
                      </a:lnTo>
                      <a:lnTo>
                        <a:pt x="150" y="83"/>
                      </a:lnTo>
                      <a:lnTo>
                        <a:pt x="153" y="83"/>
                      </a:lnTo>
                      <a:lnTo>
                        <a:pt x="159" y="86"/>
                      </a:lnTo>
                      <a:lnTo>
                        <a:pt x="166" y="90"/>
                      </a:lnTo>
                      <a:lnTo>
                        <a:pt x="172" y="90"/>
                      </a:lnTo>
                      <a:lnTo>
                        <a:pt x="178" y="93"/>
                      </a:lnTo>
                      <a:lnTo>
                        <a:pt x="185" y="93"/>
                      </a:lnTo>
                      <a:lnTo>
                        <a:pt x="194" y="96"/>
                      </a:lnTo>
                      <a:lnTo>
                        <a:pt x="201" y="99"/>
                      </a:lnTo>
                      <a:lnTo>
                        <a:pt x="210" y="99"/>
                      </a:lnTo>
                      <a:lnTo>
                        <a:pt x="217" y="102"/>
                      </a:lnTo>
                      <a:lnTo>
                        <a:pt x="223" y="102"/>
                      </a:lnTo>
                      <a:lnTo>
                        <a:pt x="229" y="102"/>
                      </a:lnTo>
                      <a:lnTo>
                        <a:pt x="236" y="106"/>
                      </a:lnTo>
                      <a:lnTo>
                        <a:pt x="242" y="102"/>
                      </a:lnTo>
                      <a:lnTo>
                        <a:pt x="245" y="102"/>
                      </a:lnTo>
                      <a:lnTo>
                        <a:pt x="249" y="99"/>
                      </a:lnTo>
                      <a:lnTo>
                        <a:pt x="255" y="96"/>
                      </a:lnTo>
                      <a:lnTo>
                        <a:pt x="261" y="93"/>
                      </a:lnTo>
                      <a:lnTo>
                        <a:pt x="268" y="90"/>
                      </a:lnTo>
                      <a:lnTo>
                        <a:pt x="274" y="83"/>
                      </a:lnTo>
                      <a:lnTo>
                        <a:pt x="284" y="80"/>
                      </a:lnTo>
                      <a:lnTo>
                        <a:pt x="290" y="77"/>
                      </a:lnTo>
                      <a:lnTo>
                        <a:pt x="300" y="74"/>
                      </a:lnTo>
                      <a:lnTo>
                        <a:pt x="306" y="71"/>
                      </a:lnTo>
                      <a:lnTo>
                        <a:pt x="316" y="67"/>
                      </a:lnTo>
                      <a:lnTo>
                        <a:pt x="322" y="64"/>
                      </a:lnTo>
                      <a:lnTo>
                        <a:pt x="332" y="64"/>
                      </a:lnTo>
                      <a:lnTo>
                        <a:pt x="338" y="61"/>
                      </a:lnTo>
                      <a:lnTo>
                        <a:pt x="344" y="61"/>
                      </a:lnTo>
                      <a:lnTo>
                        <a:pt x="351" y="58"/>
                      </a:lnTo>
                      <a:lnTo>
                        <a:pt x="357" y="58"/>
                      </a:lnTo>
                      <a:lnTo>
                        <a:pt x="360" y="58"/>
                      </a:lnTo>
                      <a:lnTo>
                        <a:pt x="373" y="58"/>
                      </a:lnTo>
                      <a:lnTo>
                        <a:pt x="386" y="61"/>
                      </a:lnTo>
                      <a:lnTo>
                        <a:pt x="398" y="64"/>
                      </a:lnTo>
                      <a:lnTo>
                        <a:pt x="411" y="71"/>
                      </a:lnTo>
                      <a:lnTo>
                        <a:pt x="424" y="77"/>
                      </a:lnTo>
                      <a:lnTo>
                        <a:pt x="434" y="86"/>
                      </a:lnTo>
                      <a:lnTo>
                        <a:pt x="446" y="93"/>
                      </a:lnTo>
                      <a:lnTo>
                        <a:pt x="456" y="102"/>
                      </a:lnTo>
                      <a:lnTo>
                        <a:pt x="469" y="112"/>
                      </a:lnTo>
                      <a:lnTo>
                        <a:pt x="478" y="122"/>
                      </a:lnTo>
                      <a:lnTo>
                        <a:pt x="488" y="131"/>
                      </a:lnTo>
                      <a:lnTo>
                        <a:pt x="497" y="141"/>
                      </a:lnTo>
                      <a:lnTo>
                        <a:pt x="510" y="150"/>
                      </a:lnTo>
                      <a:lnTo>
                        <a:pt x="520" y="157"/>
                      </a:lnTo>
                      <a:lnTo>
                        <a:pt x="529" y="163"/>
                      </a:lnTo>
                      <a:lnTo>
                        <a:pt x="539" y="169"/>
                      </a:lnTo>
                      <a:lnTo>
                        <a:pt x="539" y="160"/>
                      </a:lnTo>
                      <a:lnTo>
                        <a:pt x="536" y="153"/>
                      </a:lnTo>
                      <a:lnTo>
                        <a:pt x="532" y="144"/>
                      </a:lnTo>
                      <a:lnTo>
                        <a:pt x="529" y="134"/>
                      </a:lnTo>
                      <a:lnTo>
                        <a:pt x="526" y="128"/>
                      </a:lnTo>
                      <a:lnTo>
                        <a:pt x="526" y="118"/>
                      </a:lnTo>
                      <a:lnTo>
                        <a:pt x="523" y="115"/>
                      </a:lnTo>
                      <a:lnTo>
                        <a:pt x="523" y="109"/>
                      </a:lnTo>
                      <a:lnTo>
                        <a:pt x="529" y="112"/>
                      </a:lnTo>
                      <a:lnTo>
                        <a:pt x="536" y="115"/>
                      </a:lnTo>
                      <a:lnTo>
                        <a:pt x="542" y="122"/>
                      </a:lnTo>
                      <a:lnTo>
                        <a:pt x="548" y="128"/>
                      </a:lnTo>
                      <a:lnTo>
                        <a:pt x="551" y="134"/>
                      </a:lnTo>
                      <a:lnTo>
                        <a:pt x="558" y="141"/>
                      </a:lnTo>
                      <a:lnTo>
                        <a:pt x="564" y="147"/>
                      </a:lnTo>
                      <a:lnTo>
                        <a:pt x="571" y="150"/>
                      </a:lnTo>
                      <a:lnTo>
                        <a:pt x="574" y="153"/>
                      </a:lnTo>
                      <a:lnTo>
                        <a:pt x="577" y="153"/>
                      </a:lnTo>
                      <a:lnTo>
                        <a:pt x="577" y="153"/>
                      </a:lnTo>
                      <a:lnTo>
                        <a:pt x="580" y="157"/>
                      </a:lnTo>
                      <a:lnTo>
                        <a:pt x="587" y="157"/>
                      </a:lnTo>
                      <a:lnTo>
                        <a:pt x="590" y="157"/>
                      </a:lnTo>
                      <a:lnTo>
                        <a:pt x="593" y="157"/>
                      </a:lnTo>
                      <a:lnTo>
                        <a:pt x="596" y="157"/>
                      </a:lnTo>
                      <a:lnTo>
                        <a:pt x="599" y="157"/>
                      </a:lnTo>
                      <a:lnTo>
                        <a:pt x="606" y="157"/>
                      </a:lnTo>
                      <a:lnTo>
                        <a:pt x="609" y="157"/>
                      </a:lnTo>
                      <a:lnTo>
                        <a:pt x="615" y="157"/>
                      </a:lnTo>
                      <a:lnTo>
                        <a:pt x="622" y="157"/>
                      </a:lnTo>
                      <a:lnTo>
                        <a:pt x="628" y="157"/>
                      </a:lnTo>
                      <a:lnTo>
                        <a:pt x="634" y="157"/>
                      </a:lnTo>
                      <a:lnTo>
                        <a:pt x="641" y="157"/>
                      </a:lnTo>
                      <a:lnTo>
                        <a:pt x="650" y="157"/>
                      </a:lnTo>
                      <a:lnTo>
                        <a:pt x="657" y="157"/>
                      </a:lnTo>
                      <a:lnTo>
                        <a:pt x="666" y="157"/>
                      </a:lnTo>
                      <a:lnTo>
                        <a:pt x="676" y="157"/>
                      </a:lnTo>
                      <a:lnTo>
                        <a:pt x="682" y="157"/>
                      </a:lnTo>
                      <a:lnTo>
                        <a:pt x="692" y="160"/>
                      </a:lnTo>
                      <a:lnTo>
                        <a:pt x="701" y="160"/>
                      </a:lnTo>
                      <a:lnTo>
                        <a:pt x="708" y="160"/>
                      </a:lnTo>
                      <a:lnTo>
                        <a:pt x="717" y="160"/>
                      </a:lnTo>
                      <a:lnTo>
                        <a:pt x="724" y="160"/>
                      </a:lnTo>
                      <a:lnTo>
                        <a:pt x="733" y="160"/>
                      </a:lnTo>
                      <a:lnTo>
                        <a:pt x="743" y="160"/>
                      </a:lnTo>
                      <a:lnTo>
                        <a:pt x="749" y="163"/>
                      </a:lnTo>
                      <a:lnTo>
                        <a:pt x="759" y="163"/>
                      </a:lnTo>
                      <a:lnTo>
                        <a:pt x="768" y="163"/>
                      </a:lnTo>
                      <a:lnTo>
                        <a:pt x="778" y="166"/>
                      </a:lnTo>
                      <a:lnTo>
                        <a:pt x="784" y="166"/>
                      </a:lnTo>
                      <a:lnTo>
                        <a:pt x="791" y="166"/>
                      </a:lnTo>
                      <a:lnTo>
                        <a:pt x="797" y="166"/>
                      </a:lnTo>
                      <a:lnTo>
                        <a:pt x="803" y="169"/>
                      </a:lnTo>
                      <a:lnTo>
                        <a:pt x="813" y="169"/>
                      </a:lnTo>
                      <a:lnTo>
                        <a:pt x="819" y="169"/>
                      </a:lnTo>
                      <a:lnTo>
                        <a:pt x="826" y="169"/>
                      </a:lnTo>
                      <a:lnTo>
                        <a:pt x="832" y="173"/>
                      </a:lnTo>
                      <a:lnTo>
                        <a:pt x="842" y="173"/>
                      </a:lnTo>
                      <a:lnTo>
                        <a:pt x="848" y="173"/>
                      </a:lnTo>
                      <a:lnTo>
                        <a:pt x="854" y="173"/>
                      </a:lnTo>
                      <a:lnTo>
                        <a:pt x="861" y="176"/>
                      </a:lnTo>
                      <a:lnTo>
                        <a:pt x="870" y="176"/>
                      </a:lnTo>
                      <a:lnTo>
                        <a:pt x="877" y="176"/>
                      </a:lnTo>
                      <a:lnTo>
                        <a:pt x="883" y="176"/>
                      </a:lnTo>
                      <a:lnTo>
                        <a:pt x="893" y="179"/>
                      </a:lnTo>
                      <a:lnTo>
                        <a:pt x="899" y="179"/>
                      </a:lnTo>
                      <a:lnTo>
                        <a:pt x="905" y="179"/>
                      </a:lnTo>
                      <a:lnTo>
                        <a:pt x="912" y="179"/>
                      </a:lnTo>
                      <a:lnTo>
                        <a:pt x="921" y="182"/>
                      </a:lnTo>
                      <a:lnTo>
                        <a:pt x="928" y="182"/>
                      </a:lnTo>
                      <a:lnTo>
                        <a:pt x="934" y="182"/>
                      </a:lnTo>
                      <a:lnTo>
                        <a:pt x="940" y="182"/>
                      </a:lnTo>
                      <a:lnTo>
                        <a:pt x="950" y="185"/>
                      </a:lnTo>
                      <a:lnTo>
                        <a:pt x="956" y="185"/>
                      </a:lnTo>
                      <a:lnTo>
                        <a:pt x="963" y="185"/>
                      </a:lnTo>
                      <a:lnTo>
                        <a:pt x="969" y="185"/>
                      </a:lnTo>
                      <a:lnTo>
                        <a:pt x="975" y="189"/>
                      </a:lnTo>
                      <a:lnTo>
                        <a:pt x="985" y="189"/>
                      </a:lnTo>
                      <a:lnTo>
                        <a:pt x="991" y="189"/>
                      </a:lnTo>
                      <a:lnTo>
                        <a:pt x="998" y="192"/>
                      </a:lnTo>
                      <a:lnTo>
                        <a:pt x="1004" y="192"/>
                      </a:lnTo>
                      <a:lnTo>
                        <a:pt x="1014" y="192"/>
                      </a:lnTo>
                      <a:lnTo>
                        <a:pt x="1023" y="192"/>
                      </a:lnTo>
                      <a:lnTo>
                        <a:pt x="1030" y="195"/>
                      </a:lnTo>
                      <a:lnTo>
                        <a:pt x="1039" y="195"/>
                      </a:lnTo>
                      <a:lnTo>
                        <a:pt x="1049" y="195"/>
                      </a:lnTo>
                      <a:lnTo>
                        <a:pt x="1055" y="195"/>
                      </a:lnTo>
                      <a:lnTo>
                        <a:pt x="1065" y="198"/>
                      </a:lnTo>
                      <a:lnTo>
                        <a:pt x="1074" y="198"/>
                      </a:lnTo>
                      <a:lnTo>
                        <a:pt x="1081" y="198"/>
                      </a:lnTo>
                      <a:lnTo>
                        <a:pt x="1090" y="198"/>
                      </a:lnTo>
                      <a:lnTo>
                        <a:pt x="1100" y="201"/>
                      </a:lnTo>
                      <a:lnTo>
                        <a:pt x="1109" y="201"/>
                      </a:lnTo>
                      <a:lnTo>
                        <a:pt x="1116" y="201"/>
                      </a:lnTo>
                      <a:lnTo>
                        <a:pt x="1125" y="201"/>
                      </a:lnTo>
                      <a:lnTo>
                        <a:pt x="1135" y="204"/>
                      </a:lnTo>
                      <a:lnTo>
                        <a:pt x="1144" y="204"/>
                      </a:lnTo>
                      <a:lnTo>
                        <a:pt x="1151" y="204"/>
                      </a:lnTo>
                      <a:lnTo>
                        <a:pt x="1160" y="204"/>
                      </a:lnTo>
                      <a:lnTo>
                        <a:pt x="1170" y="204"/>
                      </a:lnTo>
                      <a:lnTo>
                        <a:pt x="1179" y="208"/>
                      </a:lnTo>
                      <a:lnTo>
                        <a:pt x="1186" y="208"/>
                      </a:lnTo>
                      <a:lnTo>
                        <a:pt x="1195" y="208"/>
                      </a:lnTo>
                      <a:lnTo>
                        <a:pt x="1205" y="208"/>
                      </a:lnTo>
                      <a:lnTo>
                        <a:pt x="1211" y="208"/>
                      </a:lnTo>
                      <a:lnTo>
                        <a:pt x="1221" y="208"/>
                      </a:lnTo>
                      <a:lnTo>
                        <a:pt x="1230" y="211"/>
                      </a:lnTo>
                      <a:lnTo>
                        <a:pt x="1240" y="211"/>
                      </a:lnTo>
                      <a:lnTo>
                        <a:pt x="1246" y="211"/>
                      </a:lnTo>
                      <a:lnTo>
                        <a:pt x="1256" y="211"/>
                      </a:lnTo>
                      <a:lnTo>
                        <a:pt x="1266" y="211"/>
                      </a:lnTo>
                      <a:lnTo>
                        <a:pt x="1272" y="211"/>
                      </a:lnTo>
                      <a:lnTo>
                        <a:pt x="1281" y="214"/>
                      </a:lnTo>
                      <a:lnTo>
                        <a:pt x="1291" y="214"/>
                      </a:lnTo>
                      <a:lnTo>
                        <a:pt x="1301" y="214"/>
                      </a:lnTo>
                      <a:lnTo>
                        <a:pt x="1310" y="214"/>
                      </a:lnTo>
                      <a:lnTo>
                        <a:pt x="1320" y="214"/>
                      </a:lnTo>
                      <a:lnTo>
                        <a:pt x="1329" y="214"/>
                      </a:lnTo>
                      <a:lnTo>
                        <a:pt x="1336" y="214"/>
                      </a:lnTo>
                      <a:lnTo>
                        <a:pt x="1345" y="214"/>
                      </a:lnTo>
                      <a:lnTo>
                        <a:pt x="1355" y="214"/>
                      </a:lnTo>
                      <a:lnTo>
                        <a:pt x="1364" y="214"/>
                      </a:lnTo>
                      <a:lnTo>
                        <a:pt x="1374" y="214"/>
                      </a:lnTo>
                      <a:lnTo>
                        <a:pt x="1384" y="214"/>
                      </a:lnTo>
                      <a:lnTo>
                        <a:pt x="1393" y="214"/>
                      </a:lnTo>
                      <a:lnTo>
                        <a:pt x="1403" y="214"/>
                      </a:lnTo>
                      <a:lnTo>
                        <a:pt x="1409" y="214"/>
                      </a:lnTo>
                      <a:lnTo>
                        <a:pt x="1419" y="214"/>
                      </a:lnTo>
                      <a:lnTo>
                        <a:pt x="1428" y="214"/>
                      </a:lnTo>
                      <a:lnTo>
                        <a:pt x="1438" y="214"/>
                      </a:lnTo>
                      <a:lnTo>
                        <a:pt x="1447" y="214"/>
                      </a:lnTo>
                      <a:lnTo>
                        <a:pt x="1454" y="214"/>
                      </a:lnTo>
                      <a:lnTo>
                        <a:pt x="1463" y="214"/>
                      </a:lnTo>
                      <a:lnTo>
                        <a:pt x="1473" y="214"/>
                      </a:lnTo>
                      <a:lnTo>
                        <a:pt x="1482" y="214"/>
                      </a:lnTo>
                      <a:lnTo>
                        <a:pt x="1492" y="214"/>
                      </a:lnTo>
                      <a:lnTo>
                        <a:pt x="1501" y="214"/>
                      </a:lnTo>
                      <a:lnTo>
                        <a:pt x="1511" y="214"/>
                      </a:lnTo>
                      <a:lnTo>
                        <a:pt x="1517" y="211"/>
                      </a:lnTo>
                      <a:lnTo>
                        <a:pt x="1527" y="211"/>
                      </a:lnTo>
                      <a:lnTo>
                        <a:pt x="1537" y="211"/>
                      </a:lnTo>
                      <a:lnTo>
                        <a:pt x="1546" y="211"/>
                      </a:lnTo>
                      <a:lnTo>
                        <a:pt x="1556" y="208"/>
                      </a:lnTo>
                      <a:lnTo>
                        <a:pt x="1565" y="208"/>
                      </a:lnTo>
                      <a:lnTo>
                        <a:pt x="1575" y="208"/>
                      </a:lnTo>
                      <a:lnTo>
                        <a:pt x="1581" y="208"/>
                      </a:lnTo>
                      <a:lnTo>
                        <a:pt x="1591" y="204"/>
                      </a:lnTo>
                      <a:lnTo>
                        <a:pt x="1597" y="201"/>
                      </a:lnTo>
                      <a:lnTo>
                        <a:pt x="1607" y="195"/>
                      </a:lnTo>
                      <a:lnTo>
                        <a:pt x="1613" y="192"/>
                      </a:lnTo>
                      <a:lnTo>
                        <a:pt x="1623" y="185"/>
                      </a:lnTo>
                      <a:lnTo>
                        <a:pt x="1632" y="182"/>
                      </a:lnTo>
                      <a:lnTo>
                        <a:pt x="1642" y="176"/>
                      </a:lnTo>
                      <a:lnTo>
                        <a:pt x="1648" y="169"/>
                      </a:lnTo>
                      <a:lnTo>
                        <a:pt x="1658" y="163"/>
                      </a:lnTo>
                      <a:lnTo>
                        <a:pt x="1667" y="157"/>
                      </a:lnTo>
                      <a:lnTo>
                        <a:pt x="1674" y="153"/>
                      </a:lnTo>
                      <a:lnTo>
                        <a:pt x="1683" y="147"/>
                      </a:lnTo>
                      <a:lnTo>
                        <a:pt x="1690" y="144"/>
                      </a:lnTo>
                      <a:lnTo>
                        <a:pt x="1699" y="141"/>
                      </a:lnTo>
                      <a:lnTo>
                        <a:pt x="1705" y="141"/>
                      </a:lnTo>
                      <a:lnTo>
                        <a:pt x="1712" y="141"/>
                      </a:lnTo>
                      <a:lnTo>
                        <a:pt x="1721" y="137"/>
                      </a:lnTo>
                      <a:lnTo>
                        <a:pt x="1728" y="137"/>
                      </a:lnTo>
                      <a:lnTo>
                        <a:pt x="1734" y="137"/>
                      </a:lnTo>
                      <a:lnTo>
                        <a:pt x="1744" y="137"/>
                      </a:lnTo>
                      <a:lnTo>
                        <a:pt x="1750" y="137"/>
                      </a:lnTo>
                      <a:lnTo>
                        <a:pt x="1756" y="137"/>
                      </a:lnTo>
                      <a:lnTo>
                        <a:pt x="1766" y="137"/>
                      </a:lnTo>
                      <a:lnTo>
                        <a:pt x="1772" y="137"/>
                      </a:lnTo>
                      <a:lnTo>
                        <a:pt x="1782" y="137"/>
                      </a:lnTo>
                      <a:lnTo>
                        <a:pt x="1788" y="137"/>
                      </a:lnTo>
                      <a:lnTo>
                        <a:pt x="1795" y="137"/>
                      </a:lnTo>
                      <a:lnTo>
                        <a:pt x="1801" y="141"/>
                      </a:lnTo>
                      <a:lnTo>
                        <a:pt x="1811" y="141"/>
                      </a:lnTo>
                      <a:lnTo>
                        <a:pt x="1817" y="144"/>
                      </a:lnTo>
                      <a:lnTo>
                        <a:pt x="1823" y="144"/>
                      </a:lnTo>
                      <a:lnTo>
                        <a:pt x="1836" y="150"/>
                      </a:lnTo>
                      <a:lnTo>
                        <a:pt x="1849" y="157"/>
                      </a:lnTo>
                      <a:lnTo>
                        <a:pt x="1865" y="163"/>
                      </a:lnTo>
                      <a:lnTo>
                        <a:pt x="1878" y="169"/>
                      </a:lnTo>
                      <a:lnTo>
                        <a:pt x="1890" y="176"/>
                      </a:lnTo>
                      <a:lnTo>
                        <a:pt x="1906" y="182"/>
                      </a:lnTo>
                      <a:lnTo>
                        <a:pt x="1919" y="189"/>
                      </a:lnTo>
                      <a:lnTo>
                        <a:pt x="1935" y="198"/>
                      </a:lnTo>
                      <a:lnTo>
                        <a:pt x="1948" y="204"/>
                      </a:lnTo>
                      <a:lnTo>
                        <a:pt x="1961" y="214"/>
                      </a:lnTo>
                      <a:lnTo>
                        <a:pt x="1973" y="220"/>
                      </a:lnTo>
                      <a:lnTo>
                        <a:pt x="1986" y="230"/>
                      </a:lnTo>
                      <a:lnTo>
                        <a:pt x="1996" y="236"/>
                      </a:lnTo>
                      <a:lnTo>
                        <a:pt x="2005" y="246"/>
                      </a:lnTo>
                      <a:lnTo>
                        <a:pt x="2015" y="252"/>
                      </a:lnTo>
                      <a:lnTo>
                        <a:pt x="2024" y="259"/>
                      </a:lnTo>
                      <a:lnTo>
                        <a:pt x="2037" y="268"/>
                      </a:lnTo>
                      <a:lnTo>
                        <a:pt x="2047" y="278"/>
                      </a:lnTo>
                      <a:lnTo>
                        <a:pt x="2056" y="284"/>
                      </a:lnTo>
                      <a:lnTo>
                        <a:pt x="2066" y="291"/>
                      </a:lnTo>
                      <a:lnTo>
                        <a:pt x="2078" y="294"/>
                      </a:lnTo>
                      <a:lnTo>
                        <a:pt x="2088" y="297"/>
                      </a:lnTo>
                      <a:lnTo>
                        <a:pt x="2101" y="303"/>
                      </a:lnTo>
                      <a:lnTo>
                        <a:pt x="2110" y="303"/>
                      </a:lnTo>
                      <a:lnTo>
                        <a:pt x="2123" y="307"/>
                      </a:lnTo>
                      <a:lnTo>
                        <a:pt x="2136" y="310"/>
                      </a:lnTo>
                      <a:lnTo>
                        <a:pt x="2149" y="313"/>
                      </a:lnTo>
                      <a:lnTo>
                        <a:pt x="2161" y="313"/>
                      </a:lnTo>
                      <a:lnTo>
                        <a:pt x="2174" y="316"/>
                      </a:lnTo>
                      <a:lnTo>
                        <a:pt x="2187" y="316"/>
                      </a:lnTo>
                      <a:lnTo>
                        <a:pt x="2200" y="319"/>
                      </a:lnTo>
                      <a:lnTo>
                        <a:pt x="2216" y="322"/>
                      </a:lnTo>
                      <a:lnTo>
                        <a:pt x="2222" y="322"/>
                      </a:lnTo>
                      <a:lnTo>
                        <a:pt x="2228" y="326"/>
                      </a:lnTo>
                      <a:lnTo>
                        <a:pt x="2235" y="326"/>
                      </a:lnTo>
                      <a:lnTo>
                        <a:pt x="2244" y="329"/>
                      </a:lnTo>
                      <a:lnTo>
                        <a:pt x="2251" y="329"/>
                      </a:lnTo>
                      <a:lnTo>
                        <a:pt x="2257" y="329"/>
                      </a:lnTo>
                      <a:lnTo>
                        <a:pt x="2263" y="332"/>
                      </a:lnTo>
                      <a:lnTo>
                        <a:pt x="2273" y="332"/>
                      </a:lnTo>
                      <a:lnTo>
                        <a:pt x="2279" y="332"/>
                      </a:lnTo>
                      <a:lnTo>
                        <a:pt x="2286" y="335"/>
                      </a:lnTo>
                      <a:lnTo>
                        <a:pt x="2292" y="335"/>
                      </a:lnTo>
                      <a:lnTo>
                        <a:pt x="2298" y="335"/>
                      </a:lnTo>
                      <a:lnTo>
                        <a:pt x="2308" y="335"/>
                      </a:lnTo>
                      <a:lnTo>
                        <a:pt x="2314" y="338"/>
                      </a:lnTo>
                      <a:lnTo>
                        <a:pt x="2321" y="338"/>
                      </a:lnTo>
                      <a:lnTo>
                        <a:pt x="2327" y="338"/>
                      </a:lnTo>
                      <a:lnTo>
                        <a:pt x="2337" y="338"/>
                      </a:lnTo>
                      <a:lnTo>
                        <a:pt x="2343" y="342"/>
                      </a:lnTo>
                      <a:lnTo>
                        <a:pt x="2349" y="342"/>
                      </a:lnTo>
                      <a:lnTo>
                        <a:pt x="2356" y="342"/>
                      </a:lnTo>
                      <a:lnTo>
                        <a:pt x="2362" y="342"/>
                      </a:lnTo>
                      <a:lnTo>
                        <a:pt x="2372" y="345"/>
                      </a:lnTo>
                      <a:lnTo>
                        <a:pt x="2378" y="345"/>
                      </a:lnTo>
                      <a:lnTo>
                        <a:pt x="2384" y="345"/>
                      </a:lnTo>
                      <a:lnTo>
                        <a:pt x="2391" y="345"/>
                      </a:lnTo>
                      <a:lnTo>
                        <a:pt x="2397" y="345"/>
                      </a:lnTo>
                      <a:lnTo>
                        <a:pt x="2407" y="348"/>
                      </a:lnTo>
                      <a:lnTo>
                        <a:pt x="2413" y="348"/>
                      </a:lnTo>
                      <a:lnTo>
                        <a:pt x="2420" y="348"/>
                      </a:lnTo>
                      <a:lnTo>
                        <a:pt x="2426" y="348"/>
                      </a:lnTo>
                      <a:lnTo>
                        <a:pt x="2432" y="351"/>
                      </a:lnTo>
                      <a:lnTo>
                        <a:pt x="2442" y="351"/>
                      </a:lnTo>
                      <a:lnTo>
                        <a:pt x="2455" y="351"/>
                      </a:lnTo>
                      <a:lnTo>
                        <a:pt x="2467" y="351"/>
                      </a:lnTo>
                      <a:lnTo>
                        <a:pt x="2480" y="351"/>
                      </a:lnTo>
                      <a:lnTo>
                        <a:pt x="2493" y="351"/>
                      </a:lnTo>
                      <a:lnTo>
                        <a:pt x="2506" y="348"/>
                      </a:lnTo>
                      <a:lnTo>
                        <a:pt x="2518" y="348"/>
                      </a:lnTo>
                      <a:lnTo>
                        <a:pt x="2531" y="345"/>
                      </a:lnTo>
                      <a:lnTo>
                        <a:pt x="2544" y="342"/>
                      </a:lnTo>
                      <a:lnTo>
                        <a:pt x="2557" y="338"/>
                      </a:lnTo>
                      <a:lnTo>
                        <a:pt x="2569" y="338"/>
                      </a:lnTo>
                      <a:lnTo>
                        <a:pt x="2582" y="335"/>
                      </a:lnTo>
                      <a:lnTo>
                        <a:pt x="2592" y="332"/>
                      </a:lnTo>
                      <a:lnTo>
                        <a:pt x="2604" y="329"/>
                      </a:lnTo>
                      <a:lnTo>
                        <a:pt x="2620" y="326"/>
                      </a:lnTo>
                      <a:lnTo>
                        <a:pt x="2633" y="322"/>
                      </a:lnTo>
                      <a:lnTo>
                        <a:pt x="2646" y="319"/>
                      </a:lnTo>
                      <a:lnTo>
                        <a:pt x="2659" y="316"/>
                      </a:lnTo>
                      <a:lnTo>
                        <a:pt x="2671" y="313"/>
                      </a:lnTo>
                      <a:lnTo>
                        <a:pt x="2687" y="313"/>
                      </a:lnTo>
                      <a:lnTo>
                        <a:pt x="2700" y="307"/>
                      </a:lnTo>
                      <a:lnTo>
                        <a:pt x="2713" y="303"/>
                      </a:lnTo>
                      <a:lnTo>
                        <a:pt x="2726" y="300"/>
                      </a:lnTo>
                      <a:lnTo>
                        <a:pt x="2742" y="297"/>
                      </a:lnTo>
                      <a:lnTo>
                        <a:pt x="2754" y="294"/>
                      </a:lnTo>
                      <a:lnTo>
                        <a:pt x="2767" y="287"/>
                      </a:lnTo>
                      <a:lnTo>
                        <a:pt x="2780" y="284"/>
                      </a:lnTo>
                      <a:lnTo>
                        <a:pt x="2796" y="281"/>
                      </a:lnTo>
                      <a:lnTo>
                        <a:pt x="2808" y="275"/>
                      </a:lnTo>
                      <a:lnTo>
                        <a:pt x="2821" y="271"/>
                      </a:lnTo>
                      <a:lnTo>
                        <a:pt x="2834" y="265"/>
                      </a:lnTo>
                      <a:lnTo>
                        <a:pt x="2850" y="262"/>
                      </a:lnTo>
                      <a:lnTo>
                        <a:pt x="2863" y="255"/>
                      </a:lnTo>
                      <a:lnTo>
                        <a:pt x="2869" y="255"/>
                      </a:lnTo>
                      <a:lnTo>
                        <a:pt x="2875" y="252"/>
                      </a:lnTo>
                      <a:lnTo>
                        <a:pt x="2882" y="249"/>
                      </a:lnTo>
                      <a:lnTo>
                        <a:pt x="2891" y="246"/>
                      </a:lnTo>
                      <a:lnTo>
                        <a:pt x="2901" y="240"/>
                      </a:lnTo>
                      <a:lnTo>
                        <a:pt x="2910" y="236"/>
                      </a:lnTo>
                      <a:lnTo>
                        <a:pt x="2917" y="233"/>
                      </a:lnTo>
                      <a:lnTo>
                        <a:pt x="2926" y="230"/>
                      </a:lnTo>
                      <a:lnTo>
                        <a:pt x="2933" y="227"/>
                      </a:lnTo>
                      <a:lnTo>
                        <a:pt x="2942" y="227"/>
                      </a:lnTo>
                      <a:lnTo>
                        <a:pt x="2949" y="224"/>
                      </a:lnTo>
                      <a:lnTo>
                        <a:pt x="2955" y="224"/>
                      </a:lnTo>
                      <a:lnTo>
                        <a:pt x="2961" y="224"/>
                      </a:lnTo>
                      <a:lnTo>
                        <a:pt x="2965" y="227"/>
                      </a:lnTo>
                      <a:lnTo>
                        <a:pt x="2968" y="230"/>
                      </a:lnTo>
                      <a:lnTo>
                        <a:pt x="2968" y="233"/>
                      </a:lnTo>
                      <a:lnTo>
                        <a:pt x="2968" y="246"/>
                      </a:lnTo>
                      <a:lnTo>
                        <a:pt x="2965" y="259"/>
                      </a:lnTo>
                      <a:lnTo>
                        <a:pt x="2965" y="275"/>
                      </a:lnTo>
                      <a:lnTo>
                        <a:pt x="2961" y="287"/>
                      </a:lnTo>
                      <a:lnTo>
                        <a:pt x="2955" y="300"/>
                      </a:lnTo>
                      <a:lnTo>
                        <a:pt x="2952" y="313"/>
                      </a:lnTo>
                      <a:lnTo>
                        <a:pt x="2949" y="329"/>
                      </a:lnTo>
                      <a:lnTo>
                        <a:pt x="2946" y="342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688720" y="3141360"/>
                  <a:ext cx="2545920" cy="518400"/>
                </a:xfrm>
                <a:custGeom>
                  <a:avLst/>
                  <a:gdLst/>
                  <a:ahLst/>
                  <a:rect l="l" t="t" r="r" b="b"/>
                  <a:pathLst>
                    <a:path w="2987" h="574">
                      <a:moveTo>
                        <a:pt x="2946" y="342"/>
                      </a:moveTo>
                      <a:lnTo>
                        <a:pt x="2949" y="348"/>
                      </a:lnTo>
                      <a:lnTo>
                        <a:pt x="2952" y="351"/>
                      </a:lnTo>
                      <a:lnTo>
                        <a:pt x="2958" y="358"/>
                      </a:lnTo>
                      <a:lnTo>
                        <a:pt x="2961" y="364"/>
                      </a:lnTo>
                      <a:lnTo>
                        <a:pt x="2968" y="370"/>
                      </a:lnTo>
                      <a:lnTo>
                        <a:pt x="2971" y="377"/>
                      </a:lnTo>
                      <a:lnTo>
                        <a:pt x="2977" y="383"/>
                      </a:lnTo>
                      <a:lnTo>
                        <a:pt x="2981" y="386"/>
                      </a:lnTo>
                      <a:lnTo>
                        <a:pt x="2984" y="396"/>
                      </a:lnTo>
                      <a:lnTo>
                        <a:pt x="2987" y="402"/>
                      </a:lnTo>
                      <a:lnTo>
                        <a:pt x="2984" y="409"/>
                      </a:lnTo>
                      <a:lnTo>
                        <a:pt x="2981" y="415"/>
                      </a:lnTo>
                      <a:lnTo>
                        <a:pt x="2974" y="418"/>
                      </a:lnTo>
                      <a:lnTo>
                        <a:pt x="2968" y="421"/>
                      </a:lnTo>
                      <a:lnTo>
                        <a:pt x="2961" y="424"/>
                      </a:lnTo>
                      <a:lnTo>
                        <a:pt x="2955" y="428"/>
                      </a:lnTo>
                      <a:lnTo>
                        <a:pt x="2946" y="431"/>
                      </a:lnTo>
                      <a:lnTo>
                        <a:pt x="2939" y="434"/>
                      </a:lnTo>
                      <a:lnTo>
                        <a:pt x="2933" y="437"/>
                      </a:lnTo>
                      <a:lnTo>
                        <a:pt x="2926" y="440"/>
                      </a:lnTo>
                      <a:lnTo>
                        <a:pt x="2917" y="444"/>
                      </a:lnTo>
                      <a:lnTo>
                        <a:pt x="2910" y="447"/>
                      </a:lnTo>
                      <a:lnTo>
                        <a:pt x="2904" y="450"/>
                      </a:lnTo>
                      <a:lnTo>
                        <a:pt x="2895" y="450"/>
                      </a:lnTo>
                      <a:lnTo>
                        <a:pt x="2888" y="453"/>
                      </a:lnTo>
                      <a:lnTo>
                        <a:pt x="2882" y="456"/>
                      </a:lnTo>
                      <a:lnTo>
                        <a:pt x="2875" y="460"/>
                      </a:lnTo>
                      <a:lnTo>
                        <a:pt x="2866" y="460"/>
                      </a:lnTo>
                      <a:lnTo>
                        <a:pt x="2859" y="463"/>
                      </a:lnTo>
                      <a:lnTo>
                        <a:pt x="2850" y="466"/>
                      </a:lnTo>
                      <a:lnTo>
                        <a:pt x="2844" y="469"/>
                      </a:lnTo>
                      <a:lnTo>
                        <a:pt x="2834" y="472"/>
                      </a:lnTo>
                      <a:lnTo>
                        <a:pt x="2828" y="476"/>
                      </a:lnTo>
                      <a:lnTo>
                        <a:pt x="2818" y="479"/>
                      </a:lnTo>
                      <a:lnTo>
                        <a:pt x="2812" y="482"/>
                      </a:lnTo>
                      <a:lnTo>
                        <a:pt x="2802" y="485"/>
                      </a:lnTo>
                      <a:lnTo>
                        <a:pt x="2796" y="488"/>
                      </a:lnTo>
                      <a:lnTo>
                        <a:pt x="2786" y="491"/>
                      </a:lnTo>
                      <a:lnTo>
                        <a:pt x="2780" y="491"/>
                      </a:lnTo>
                      <a:lnTo>
                        <a:pt x="2770" y="495"/>
                      </a:lnTo>
                      <a:lnTo>
                        <a:pt x="2764" y="498"/>
                      </a:lnTo>
                      <a:lnTo>
                        <a:pt x="2754" y="501"/>
                      </a:lnTo>
                      <a:lnTo>
                        <a:pt x="2748" y="504"/>
                      </a:lnTo>
                      <a:lnTo>
                        <a:pt x="2738" y="507"/>
                      </a:lnTo>
                      <a:lnTo>
                        <a:pt x="2732" y="511"/>
                      </a:lnTo>
                      <a:lnTo>
                        <a:pt x="2722" y="514"/>
                      </a:lnTo>
                      <a:lnTo>
                        <a:pt x="2716" y="514"/>
                      </a:lnTo>
                      <a:lnTo>
                        <a:pt x="2706" y="517"/>
                      </a:lnTo>
                      <a:lnTo>
                        <a:pt x="2700" y="520"/>
                      </a:lnTo>
                      <a:lnTo>
                        <a:pt x="2691" y="523"/>
                      </a:lnTo>
                      <a:lnTo>
                        <a:pt x="2684" y="527"/>
                      </a:lnTo>
                      <a:lnTo>
                        <a:pt x="2675" y="530"/>
                      </a:lnTo>
                      <a:lnTo>
                        <a:pt x="2665" y="530"/>
                      </a:lnTo>
                      <a:lnTo>
                        <a:pt x="2659" y="533"/>
                      </a:lnTo>
                      <a:lnTo>
                        <a:pt x="2649" y="536"/>
                      </a:lnTo>
                      <a:lnTo>
                        <a:pt x="2643" y="539"/>
                      </a:lnTo>
                      <a:lnTo>
                        <a:pt x="2633" y="542"/>
                      </a:lnTo>
                      <a:lnTo>
                        <a:pt x="2627" y="542"/>
                      </a:lnTo>
                      <a:lnTo>
                        <a:pt x="2617" y="546"/>
                      </a:lnTo>
                      <a:lnTo>
                        <a:pt x="2611" y="549"/>
                      </a:lnTo>
                      <a:lnTo>
                        <a:pt x="2604" y="552"/>
                      </a:lnTo>
                      <a:lnTo>
                        <a:pt x="2598" y="552"/>
                      </a:lnTo>
                      <a:lnTo>
                        <a:pt x="2592" y="552"/>
                      </a:lnTo>
                      <a:lnTo>
                        <a:pt x="2589" y="555"/>
                      </a:lnTo>
                      <a:lnTo>
                        <a:pt x="2582" y="555"/>
                      </a:lnTo>
                      <a:lnTo>
                        <a:pt x="2576" y="558"/>
                      </a:lnTo>
                      <a:lnTo>
                        <a:pt x="2569" y="558"/>
                      </a:lnTo>
                      <a:lnTo>
                        <a:pt x="2566" y="558"/>
                      </a:lnTo>
                      <a:lnTo>
                        <a:pt x="2560" y="558"/>
                      </a:lnTo>
                      <a:lnTo>
                        <a:pt x="2553" y="562"/>
                      </a:lnTo>
                      <a:lnTo>
                        <a:pt x="2547" y="562"/>
                      </a:lnTo>
                      <a:lnTo>
                        <a:pt x="2541" y="562"/>
                      </a:lnTo>
                      <a:lnTo>
                        <a:pt x="2538" y="562"/>
                      </a:lnTo>
                      <a:lnTo>
                        <a:pt x="2531" y="565"/>
                      </a:lnTo>
                      <a:lnTo>
                        <a:pt x="2525" y="565"/>
                      </a:lnTo>
                      <a:lnTo>
                        <a:pt x="2518" y="565"/>
                      </a:lnTo>
                      <a:lnTo>
                        <a:pt x="2509" y="565"/>
                      </a:lnTo>
                      <a:lnTo>
                        <a:pt x="2499" y="568"/>
                      </a:lnTo>
                      <a:lnTo>
                        <a:pt x="2487" y="568"/>
                      </a:lnTo>
                      <a:lnTo>
                        <a:pt x="2477" y="568"/>
                      </a:lnTo>
                      <a:lnTo>
                        <a:pt x="2467" y="568"/>
                      </a:lnTo>
                      <a:lnTo>
                        <a:pt x="2455" y="568"/>
                      </a:lnTo>
                      <a:lnTo>
                        <a:pt x="2445" y="571"/>
                      </a:lnTo>
                      <a:lnTo>
                        <a:pt x="2435" y="571"/>
                      </a:lnTo>
                      <a:lnTo>
                        <a:pt x="2423" y="571"/>
                      </a:lnTo>
                      <a:lnTo>
                        <a:pt x="2413" y="571"/>
                      </a:lnTo>
                      <a:lnTo>
                        <a:pt x="2404" y="571"/>
                      </a:lnTo>
                      <a:lnTo>
                        <a:pt x="2391" y="571"/>
                      </a:lnTo>
                      <a:lnTo>
                        <a:pt x="2381" y="574"/>
                      </a:lnTo>
                      <a:lnTo>
                        <a:pt x="2372" y="574"/>
                      </a:lnTo>
                      <a:lnTo>
                        <a:pt x="2359" y="574"/>
                      </a:lnTo>
                      <a:lnTo>
                        <a:pt x="2349" y="574"/>
                      </a:lnTo>
                      <a:lnTo>
                        <a:pt x="2340" y="574"/>
                      </a:lnTo>
                      <a:lnTo>
                        <a:pt x="2327" y="574"/>
                      </a:lnTo>
                      <a:lnTo>
                        <a:pt x="2318" y="574"/>
                      </a:lnTo>
                      <a:lnTo>
                        <a:pt x="2308" y="574"/>
                      </a:lnTo>
                      <a:lnTo>
                        <a:pt x="2295" y="574"/>
                      </a:lnTo>
                      <a:lnTo>
                        <a:pt x="2286" y="574"/>
                      </a:lnTo>
                      <a:lnTo>
                        <a:pt x="2276" y="574"/>
                      </a:lnTo>
                      <a:lnTo>
                        <a:pt x="2263" y="574"/>
                      </a:lnTo>
                      <a:lnTo>
                        <a:pt x="2254" y="574"/>
                      </a:lnTo>
                      <a:lnTo>
                        <a:pt x="2244" y="574"/>
                      </a:lnTo>
                      <a:lnTo>
                        <a:pt x="2231" y="574"/>
                      </a:lnTo>
                      <a:lnTo>
                        <a:pt x="2222" y="574"/>
                      </a:lnTo>
                      <a:lnTo>
                        <a:pt x="2212" y="574"/>
                      </a:lnTo>
                      <a:lnTo>
                        <a:pt x="2200" y="574"/>
                      </a:lnTo>
                      <a:lnTo>
                        <a:pt x="2190" y="574"/>
                      </a:lnTo>
                      <a:lnTo>
                        <a:pt x="2180" y="574"/>
                      </a:lnTo>
                      <a:lnTo>
                        <a:pt x="2171" y="574"/>
                      </a:lnTo>
                      <a:lnTo>
                        <a:pt x="2165" y="574"/>
                      </a:lnTo>
                      <a:lnTo>
                        <a:pt x="2155" y="574"/>
                      </a:lnTo>
                      <a:lnTo>
                        <a:pt x="2149" y="574"/>
                      </a:lnTo>
                      <a:lnTo>
                        <a:pt x="2139" y="574"/>
                      </a:lnTo>
                      <a:lnTo>
                        <a:pt x="2133" y="571"/>
                      </a:lnTo>
                      <a:lnTo>
                        <a:pt x="2123" y="571"/>
                      </a:lnTo>
                      <a:lnTo>
                        <a:pt x="2117" y="571"/>
                      </a:lnTo>
                      <a:lnTo>
                        <a:pt x="2107" y="571"/>
                      </a:lnTo>
                      <a:lnTo>
                        <a:pt x="2101" y="571"/>
                      </a:lnTo>
                      <a:lnTo>
                        <a:pt x="2094" y="568"/>
                      </a:lnTo>
                      <a:lnTo>
                        <a:pt x="2085" y="568"/>
                      </a:lnTo>
                      <a:lnTo>
                        <a:pt x="2078" y="568"/>
                      </a:lnTo>
                      <a:lnTo>
                        <a:pt x="2069" y="568"/>
                      </a:lnTo>
                      <a:lnTo>
                        <a:pt x="2063" y="568"/>
                      </a:lnTo>
                      <a:lnTo>
                        <a:pt x="2053" y="568"/>
                      </a:lnTo>
                      <a:lnTo>
                        <a:pt x="2047" y="565"/>
                      </a:lnTo>
                      <a:lnTo>
                        <a:pt x="2037" y="565"/>
                      </a:lnTo>
                      <a:lnTo>
                        <a:pt x="2031" y="565"/>
                      </a:lnTo>
                      <a:lnTo>
                        <a:pt x="2021" y="565"/>
                      </a:lnTo>
                      <a:lnTo>
                        <a:pt x="2012" y="565"/>
                      </a:lnTo>
                      <a:lnTo>
                        <a:pt x="2005" y="565"/>
                      </a:lnTo>
                      <a:lnTo>
                        <a:pt x="1996" y="562"/>
                      </a:lnTo>
                      <a:lnTo>
                        <a:pt x="1989" y="562"/>
                      </a:lnTo>
                      <a:lnTo>
                        <a:pt x="1980" y="562"/>
                      </a:lnTo>
                      <a:lnTo>
                        <a:pt x="1970" y="562"/>
                      </a:lnTo>
                      <a:lnTo>
                        <a:pt x="1964" y="562"/>
                      </a:lnTo>
                      <a:lnTo>
                        <a:pt x="1954" y="562"/>
                      </a:lnTo>
                      <a:lnTo>
                        <a:pt x="1948" y="562"/>
                      </a:lnTo>
                      <a:lnTo>
                        <a:pt x="1938" y="558"/>
                      </a:lnTo>
                      <a:lnTo>
                        <a:pt x="1932" y="558"/>
                      </a:lnTo>
                      <a:lnTo>
                        <a:pt x="1922" y="558"/>
                      </a:lnTo>
                      <a:lnTo>
                        <a:pt x="1913" y="558"/>
                      </a:lnTo>
                      <a:lnTo>
                        <a:pt x="1906" y="558"/>
                      </a:lnTo>
                      <a:lnTo>
                        <a:pt x="1897" y="558"/>
                      </a:lnTo>
                      <a:lnTo>
                        <a:pt x="1890" y="555"/>
                      </a:lnTo>
                      <a:lnTo>
                        <a:pt x="1881" y="555"/>
                      </a:lnTo>
                      <a:lnTo>
                        <a:pt x="1871" y="555"/>
                      </a:lnTo>
                      <a:lnTo>
                        <a:pt x="1865" y="555"/>
                      </a:lnTo>
                      <a:lnTo>
                        <a:pt x="1855" y="555"/>
                      </a:lnTo>
                      <a:lnTo>
                        <a:pt x="1849" y="555"/>
                      </a:lnTo>
                      <a:lnTo>
                        <a:pt x="1839" y="555"/>
                      </a:lnTo>
                      <a:lnTo>
                        <a:pt x="1833" y="552"/>
                      </a:lnTo>
                      <a:lnTo>
                        <a:pt x="1823" y="552"/>
                      </a:lnTo>
                      <a:lnTo>
                        <a:pt x="1814" y="552"/>
                      </a:lnTo>
                      <a:lnTo>
                        <a:pt x="1807" y="552"/>
                      </a:lnTo>
                      <a:lnTo>
                        <a:pt x="1798" y="552"/>
                      </a:lnTo>
                      <a:lnTo>
                        <a:pt x="1792" y="552"/>
                      </a:lnTo>
                      <a:lnTo>
                        <a:pt x="1779" y="552"/>
                      </a:lnTo>
                      <a:lnTo>
                        <a:pt x="1769" y="549"/>
                      </a:lnTo>
                      <a:lnTo>
                        <a:pt x="1760" y="549"/>
                      </a:lnTo>
                      <a:lnTo>
                        <a:pt x="1750" y="549"/>
                      </a:lnTo>
                      <a:lnTo>
                        <a:pt x="1741" y="549"/>
                      </a:lnTo>
                      <a:lnTo>
                        <a:pt x="1731" y="549"/>
                      </a:lnTo>
                      <a:lnTo>
                        <a:pt x="1718" y="549"/>
                      </a:lnTo>
                      <a:lnTo>
                        <a:pt x="1709" y="546"/>
                      </a:lnTo>
                      <a:lnTo>
                        <a:pt x="1699" y="546"/>
                      </a:lnTo>
                      <a:lnTo>
                        <a:pt x="1690" y="546"/>
                      </a:lnTo>
                      <a:lnTo>
                        <a:pt x="1680" y="546"/>
                      </a:lnTo>
                      <a:lnTo>
                        <a:pt x="1670" y="546"/>
                      </a:lnTo>
                      <a:lnTo>
                        <a:pt x="1658" y="542"/>
                      </a:lnTo>
                      <a:lnTo>
                        <a:pt x="1648" y="542"/>
                      </a:lnTo>
                      <a:lnTo>
                        <a:pt x="1639" y="542"/>
                      </a:lnTo>
                      <a:lnTo>
                        <a:pt x="1629" y="542"/>
                      </a:lnTo>
                      <a:lnTo>
                        <a:pt x="1619" y="542"/>
                      </a:lnTo>
                      <a:lnTo>
                        <a:pt x="1610" y="542"/>
                      </a:lnTo>
                      <a:lnTo>
                        <a:pt x="1597" y="542"/>
                      </a:lnTo>
                      <a:lnTo>
                        <a:pt x="1588" y="539"/>
                      </a:lnTo>
                      <a:lnTo>
                        <a:pt x="1578" y="539"/>
                      </a:lnTo>
                      <a:lnTo>
                        <a:pt x="1568" y="539"/>
                      </a:lnTo>
                      <a:lnTo>
                        <a:pt x="1559" y="539"/>
                      </a:lnTo>
                      <a:lnTo>
                        <a:pt x="1549" y="539"/>
                      </a:lnTo>
                      <a:lnTo>
                        <a:pt x="1537" y="539"/>
                      </a:lnTo>
                      <a:lnTo>
                        <a:pt x="1527" y="536"/>
                      </a:lnTo>
                      <a:lnTo>
                        <a:pt x="1517" y="536"/>
                      </a:lnTo>
                      <a:lnTo>
                        <a:pt x="1508" y="536"/>
                      </a:lnTo>
                      <a:lnTo>
                        <a:pt x="1498" y="536"/>
                      </a:lnTo>
                      <a:lnTo>
                        <a:pt x="1489" y="536"/>
                      </a:lnTo>
                      <a:lnTo>
                        <a:pt x="1479" y="536"/>
                      </a:lnTo>
                      <a:lnTo>
                        <a:pt x="1466" y="533"/>
                      </a:lnTo>
                      <a:lnTo>
                        <a:pt x="1460" y="533"/>
                      </a:lnTo>
                      <a:lnTo>
                        <a:pt x="1450" y="533"/>
                      </a:lnTo>
                      <a:lnTo>
                        <a:pt x="1441" y="533"/>
                      </a:lnTo>
                      <a:lnTo>
                        <a:pt x="1431" y="533"/>
                      </a:lnTo>
                      <a:lnTo>
                        <a:pt x="1422" y="533"/>
                      </a:lnTo>
                      <a:lnTo>
                        <a:pt x="1412" y="533"/>
                      </a:lnTo>
                      <a:lnTo>
                        <a:pt x="1403" y="530"/>
                      </a:lnTo>
                      <a:lnTo>
                        <a:pt x="1396" y="530"/>
                      </a:lnTo>
                      <a:lnTo>
                        <a:pt x="1387" y="530"/>
                      </a:lnTo>
                      <a:lnTo>
                        <a:pt x="1377" y="530"/>
                      </a:lnTo>
                      <a:lnTo>
                        <a:pt x="1368" y="530"/>
                      </a:lnTo>
                      <a:lnTo>
                        <a:pt x="1358" y="530"/>
                      </a:lnTo>
                      <a:lnTo>
                        <a:pt x="1348" y="530"/>
                      </a:lnTo>
                      <a:lnTo>
                        <a:pt x="1342" y="527"/>
                      </a:lnTo>
                      <a:lnTo>
                        <a:pt x="1332" y="527"/>
                      </a:lnTo>
                      <a:lnTo>
                        <a:pt x="1323" y="527"/>
                      </a:lnTo>
                      <a:lnTo>
                        <a:pt x="1313" y="527"/>
                      </a:lnTo>
                      <a:lnTo>
                        <a:pt x="1304" y="527"/>
                      </a:lnTo>
                      <a:lnTo>
                        <a:pt x="1294" y="527"/>
                      </a:lnTo>
                      <a:lnTo>
                        <a:pt x="1285" y="527"/>
                      </a:lnTo>
                      <a:lnTo>
                        <a:pt x="1278" y="523"/>
                      </a:lnTo>
                      <a:lnTo>
                        <a:pt x="1269" y="523"/>
                      </a:lnTo>
                      <a:lnTo>
                        <a:pt x="1259" y="523"/>
                      </a:lnTo>
                      <a:lnTo>
                        <a:pt x="1250" y="523"/>
                      </a:lnTo>
                      <a:lnTo>
                        <a:pt x="1240" y="523"/>
                      </a:lnTo>
                      <a:lnTo>
                        <a:pt x="1230" y="523"/>
                      </a:lnTo>
                      <a:lnTo>
                        <a:pt x="1221" y="520"/>
                      </a:lnTo>
                      <a:lnTo>
                        <a:pt x="1215" y="520"/>
                      </a:lnTo>
                      <a:lnTo>
                        <a:pt x="1205" y="520"/>
                      </a:lnTo>
                      <a:lnTo>
                        <a:pt x="1195" y="520"/>
                      </a:lnTo>
                      <a:lnTo>
                        <a:pt x="1186" y="520"/>
                      </a:lnTo>
                      <a:lnTo>
                        <a:pt x="1176" y="517"/>
                      </a:lnTo>
                      <a:lnTo>
                        <a:pt x="1167" y="517"/>
                      </a:lnTo>
                      <a:lnTo>
                        <a:pt x="1154" y="517"/>
                      </a:lnTo>
                      <a:lnTo>
                        <a:pt x="1141" y="514"/>
                      </a:lnTo>
                      <a:lnTo>
                        <a:pt x="1128" y="514"/>
                      </a:lnTo>
                      <a:lnTo>
                        <a:pt x="1119" y="514"/>
                      </a:lnTo>
                      <a:lnTo>
                        <a:pt x="1106" y="514"/>
                      </a:lnTo>
                      <a:lnTo>
                        <a:pt x="1093" y="511"/>
                      </a:lnTo>
                      <a:lnTo>
                        <a:pt x="1081" y="511"/>
                      </a:lnTo>
                      <a:lnTo>
                        <a:pt x="1068" y="507"/>
                      </a:lnTo>
                      <a:lnTo>
                        <a:pt x="1058" y="507"/>
                      </a:lnTo>
                      <a:lnTo>
                        <a:pt x="1046" y="507"/>
                      </a:lnTo>
                      <a:lnTo>
                        <a:pt x="1033" y="504"/>
                      </a:lnTo>
                      <a:lnTo>
                        <a:pt x="1020" y="504"/>
                      </a:lnTo>
                      <a:lnTo>
                        <a:pt x="1011" y="504"/>
                      </a:lnTo>
                      <a:lnTo>
                        <a:pt x="998" y="501"/>
                      </a:lnTo>
                      <a:lnTo>
                        <a:pt x="985" y="501"/>
                      </a:lnTo>
                      <a:lnTo>
                        <a:pt x="972" y="501"/>
                      </a:lnTo>
                      <a:lnTo>
                        <a:pt x="963" y="498"/>
                      </a:lnTo>
                      <a:lnTo>
                        <a:pt x="950" y="498"/>
                      </a:lnTo>
                      <a:lnTo>
                        <a:pt x="937" y="495"/>
                      </a:lnTo>
                      <a:lnTo>
                        <a:pt x="924" y="495"/>
                      </a:lnTo>
                      <a:lnTo>
                        <a:pt x="915" y="495"/>
                      </a:lnTo>
                      <a:lnTo>
                        <a:pt x="902" y="491"/>
                      </a:lnTo>
                      <a:lnTo>
                        <a:pt x="889" y="491"/>
                      </a:lnTo>
                      <a:lnTo>
                        <a:pt x="877" y="491"/>
                      </a:lnTo>
                      <a:lnTo>
                        <a:pt x="864" y="488"/>
                      </a:lnTo>
                      <a:lnTo>
                        <a:pt x="854" y="488"/>
                      </a:lnTo>
                      <a:lnTo>
                        <a:pt x="842" y="485"/>
                      </a:lnTo>
                      <a:lnTo>
                        <a:pt x="829" y="485"/>
                      </a:lnTo>
                      <a:lnTo>
                        <a:pt x="816" y="485"/>
                      </a:lnTo>
                      <a:lnTo>
                        <a:pt x="806" y="482"/>
                      </a:lnTo>
                      <a:lnTo>
                        <a:pt x="794" y="482"/>
                      </a:lnTo>
                      <a:lnTo>
                        <a:pt x="781" y="482"/>
                      </a:lnTo>
                      <a:lnTo>
                        <a:pt x="768" y="479"/>
                      </a:lnTo>
                      <a:lnTo>
                        <a:pt x="752" y="479"/>
                      </a:lnTo>
                      <a:lnTo>
                        <a:pt x="740" y="479"/>
                      </a:lnTo>
                      <a:lnTo>
                        <a:pt x="727" y="476"/>
                      </a:lnTo>
                      <a:lnTo>
                        <a:pt x="714" y="476"/>
                      </a:lnTo>
                      <a:lnTo>
                        <a:pt x="701" y="476"/>
                      </a:lnTo>
                      <a:lnTo>
                        <a:pt x="689" y="476"/>
                      </a:lnTo>
                      <a:lnTo>
                        <a:pt x="673" y="472"/>
                      </a:lnTo>
                      <a:lnTo>
                        <a:pt x="660" y="472"/>
                      </a:lnTo>
                      <a:lnTo>
                        <a:pt x="647" y="472"/>
                      </a:lnTo>
                      <a:lnTo>
                        <a:pt x="634" y="469"/>
                      </a:lnTo>
                      <a:lnTo>
                        <a:pt x="622" y="469"/>
                      </a:lnTo>
                      <a:lnTo>
                        <a:pt x="609" y="466"/>
                      </a:lnTo>
                      <a:lnTo>
                        <a:pt x="596" y="466"/>
                      </a:lnTo>
                      <a:lnTo>
                        <a:pt x="583" y="463"/>
                      </a:lnTo>
                      <a:lnTo>
                        <a:pt x="574" y="463"/>
                      </a:lnTo>
                      <a:lnTo>
                        <a:pt x="564" y="460"/>
                      </a:lnTo>
                      <a:lnTo>
                        <a:pt x="551" y="460"/>
                      </a:lnTo>
                      <a:lnTo>
                        <a:pt x="542" y="456"/>
                      </a:lnTo>
                      <a:lnTo>
                        <a:pt x="532" y="456"/>
                      </a:lnTo>
                      <a:lnTo>
                        <a:pt x="523" y="453"/>
                      </a:lnTo>
                      <a:lnTo>
                        <a:pt x="513" y="453"/>
                      </a:lnTo>
                      <a:lnTo>
                        <a:pt x="504" y="450"/>
                      </a:lnTo>
                      <a:lnTo>
                        <a:pt x="494" y="447"/>
                      </a:lnTo>
                      <a:lnTo>
                        <a:pt x="485" y="447"/>
                      </a:lnTo>
                      <a:lnTo>
                        <a:pt x="475" y="444"/>
                      </a:lnTo>
                      <a:lnTo>
                        <a:pt x="465" y="444"/>
                      </a:lnTo>
                      <a:lnTo>
                        <a:pt x="456" y="440"/>
                      </a:lnTo>
                      <a:lnTo>
                        <a:pt x="446" y="437"/>
                      </a:lnTo>
                      <a:lnTo>
                        <a:pt x="437" y="437"/>
                      </a:lnTo>
                      <a:lnTo>
                        <a:pt x="427" y="434"/>
                      </a:lnTo>
                      <a:lnTo>
                        <a:pt x="418" y="431"/>
                      </a:lnTo>
                      <a:lnTo>
                        <a:pt x="408" y="431"/>
                      </a:lnTo>
                      <a:lnTo>
                        <a:pt x="395" y="428"/>
                      </a:lnTo>
                      <a:lnTo>
                        <a:pt x="386" y="424"/>
                      </a:lnTo>
                      <a:lnTo>
                        <a:pt x="376" y="424"/>
                      </a:lnTo>
                      <a:lnTo>
                        <a:pt x="367" y="421"/>
                      </a:lnTo>
                      <a:lnTo>
                        <a:pt x="357" y="418"/>
                      </a:lnTo>
                      <a:lnTo>
                        <a:pt x="347" y="415"/>
                      </a:lnTo>
                      <a:lnTo>
                        <a:pt x="338" y="415"/>
                      </a:lnTo>
                      <a:lnTo>
                        <a:pt x="328" y="412"/>
                      </a:lnTo>
                      <a:lnTo>
                        <a:pt x="319" y="409"/>
                      </a:lnTo>
                      <a:lnTo>
                        <a:pt x="309" y="405"/>
                      </a:lnTo>
                      <a:lnTo>
                        <a:pt x="300" y="405"/>
                      </a:lnTo>
                      <a:lnTo>
                        <a:pt x="290" y="402"/>
                      </a:lnTo>
                      <a:lnTo>
                        <a:pt x="281" y="399"/>
                      </a:lnTo>
                      <a:lnTo>
                        <a:pt x="271" y="396"/>
                      </a:lnTo>
                      <a:lnTo>
                        <a:pt x="265" y="396"/>
                      </a:lnTo>
                      <a:lnTo>
                        <a:pt x="255" y="393"/>
                      </a:lnTo>
                      <a:lnTo>
                        <a:pt x="249" y="389"/>
                      </a:lnTo>
                      <a:lnTo>
                        <a:pt x="242" y="389"/>
                      </a:lnTo>
                      <a:lnTo>
                        <a:pt x="233" y="386"/>
                      </a:lnTo>
                      <a:lnTo>
                        <a:pt x="226" y="383"/>
                      </a:lnTo>
                      <a:lnTo>
                        <a:pt x="220" y="380"/>
                      </a:lnTo>
                      <a:lnTo>
                        <a:pt x="210" y="377"/>
                      </a:lnTo>
                      <a:lnTo>
                        <a:pt x="204" y="373"/>
                      </a:lnTo>
                      <a:lnTo>
                        <a:pt x="198" y="370"/>
                      </a:lnTo>
                      <a:lnTo>
                        <a:pt x="188" y="367"/>
                      </a:lnTo>
                      <a:lnTo>
                        <a:pt x="182" y="364"/>
                      </a:lnTo>
                      <a:lnTo>
                        <a:pt x="175" y="361"/>
                      </a:lnTo>
                      <a:lnTo>
                        <a:pt x="169" y="358"/>
                      </a:lnTo>
                      <a:lnTo>
                        <a:pt x="163" y="354"/>
                      </a:lnTo>
                      <a:lnTo>
                        <a:pt x="156" y="348"/>
                      </a:lnTo>
                      <a:lnTo>
                        <a:pt x="147" y="345"/>
                      </a:lnTo>
                      <a:lnTo>
                        <a:pt x="140" y="338"/>
                      </a:lnTo>
                      <a:lnTo>
                        <a:pt x="134" y="335"/>
                      </a:lnTo>
                      <a:lnTo>
                        <a:pt x="127" y="329"/>
                      </a:lnTo>
                      <a:lnTo>
                        <a:pt x="121" y="326"/>
                      </a:lnTo>
                      <a:lnTo>
                        <a:pt x="112" y="319"/>
                      </a:lnTo>
                      <a:lnTo>
                        <a:pt x="105" y="313"/>
                      </a:lnTo>
                      <a:lnTo>
                        <a:pt x="99" y="307"/>
                      </a:lnTo>
                      <a:lnTo>
                        <a:pt x="92" y="303"/>
                      </a:lnTo>
                      <a:lnTo>
                        <a:pt x="86" y="297"/>
                      </a:lnTo>
                      <a:lnTo>
                        <a:pt x="80" y="291"/>
                      </a:lnTo>
                      <a:lnTo>
                        <a:pt x="73" y="284"/>
                      </a:lnTo>
                      <a:lnTo>
                        <a:pt x="70" y="278"/>
                      </a:lnTo>
                      <a:lnTo>
                        <a:pt x="64" y="271"/>
                      </a:lnTo>
                      <a:lnTo>
                        <a:pt x="57" y="265"/>
                      </a:lnTo>
                      <a:lnTo>
                        <a:pt x="54" y="255"/>
                      </a:lnTo>
                      <a:lnTo>
                        <a:pt x="45" y="240"/>
                      </a:lnTo>
                      <a:lnTo>
                        <a:pt x="35" y="220"/>
                      </a:lnTo>
                      <a:lnTo>
                        <a:pt x="29" y="201"/>
                      </a:lnTo>
                      <a:lnTo>
                        <a:pt x="22" y="179"/>
                      </a:lnTo>
                      <a:lnTo>
                        <a:pt x="16" y="160"/>
                      </a:lnTo>
                      <a:lnTo>
                        <a:pt x="13" y="137"/>
                      </a:lnTo>
                      <a:lnTo>
                        <a:pt x="10" y="118"/>
                      </a:lnTo>
                      <a:lnTo>
                        <a:pt x="3" y="96"/>
                      </a:lnTo>
                      <a:lnTo>
                        <a:pt x="0" y="74"/>
                      </a:lnTo>
                      <a:lnTo>
                        <a:pt x="0" y="48"/>
                      </a:lnTo>
                      <a:lnTo>
                        <a:pt x="0" y="23"/>
                      </a:lnTo>
                      <a:lnTo>
                        <a:pt x="3" y="0"/>
                      </a:lnTo>
                      <a:lnTo>
                        <a:pt x="6" y="10"/>
                      </a:lnTo>
                      <a:lnTo>
                        <a:pt x="10" y="23"/>
                      </a:lnTo>
                      <a:lnTo>
                        <a:pt x="16" y="32"/>
                      </a:lnTo>
                      <a:lnTo>
                        <a:pt x="22" y="42"/>
                      </a:lnTo>
                      <a:lnTo>
                        <a:pt x="29" y="48"/>
                      </a:lnTo>
                      <a:lnTo>
                        <a:pt x="35" y="55"/>
                      </a:lnTo>
                      <a:lnTo>
                        <a:pt x="41" y="61"/>
                      </a:lnTo>
                      <a:lnTo>
                        <a:pt x="51" y="67"/>
                      </a:lnTo>
                      <a:lnTo>
                        <a:pt x="61" y="71"/>
                      </a:lnTo>
                      <a:lnTo>
                        <a:pt x="70" y="74"/>
                      </a:lnTo>
                      <a:lnTo>
                        <a:pt x="80" y="77"/>
                      </a:lnTo>
                      <a:lnTo>
                        <a:pt x="89" y="83"/>
                      </a:lnTo>
                      <a:lnTo>
                        <a:pt x="102" y="83"/>
                      </a:lnTo>
                      <a:lnTo>
                        <a:pt x="112" y="86"/>
                      </a:lnTo>
                      <a:lnTo>
                        <a:pt x="127" y="90"/>
                      </a:lnTo>
                      <a:lnTo>
                        <a:pt x="140" y="93"/>
                      </a:lnTo>
                      <a:lnTo>
                        <a:pt x="143" y="96"/>
                      </a:lnTo>
                      <a:lnTo>
                        <a:pt x="150" y="96"/>
                      </a:lnTo>
                      <a:lnTo>
                        <a:pt x="156" y="99"/>
                      </a:lnTo>
                      <a:lnTo>
                        <a:pt x="163" y="99"/>
                      </a:lnTo>
                      <a:lnTo>
                        <a:pt x="169" y="102"/>
                      </a:lnTo>
                      <a:lnTo>
                        <a:pt x="178" y="106"/>
                      </a:lnTo>
                      <a:lnTo>
                        <a:pt x="185" y="106"/>
                      </a:lnTo>
                      <a:lnTo>
                        <a:pt x="194" y="109"/>
                      </a:lnTo>
                      <a:lnTo>
                        <a:pt x="201" y="112"/>
                      </a:lnTo>
                      <a:lnTo>
                        <a:pt x="207" y="112"/>
                      </a:lnTo>
                      <a:lnTo>
                        <a:pt x="217" y="112"/>
                      </a:lnTo>
                      <a:lnTo>
                        <a:pt x="223" y="115"/>
                      </a:lnTo>
                      <a:lnTo>
                        <a:pt x="229" y="115"/>
                      </a:lnTo>
                      <a:lnTo>
                        <a:pt x="233" y="112"/>
                      </a:lnTo>
                      <a:lnTo>
                        <a:pt x="239" y="112"/>
                      </a:lnTo>
                      <a:lnTo>
                        <a:pt x="242" y="109"/>
                      </a:lnTo>
                      <a:lnTo>
                        <a:pt x="245" y="102"/>
                      </a:lnTo>
                      <a:lnTo>
                        <a:pt x="252" y="99"/>
                      </a:lnTo>
                      <a:lnTo>
                        <a:pt x="261" y="93"/>
                      </a:lnTo>
                      <a:lnTo>
                        <a:pt x="268" y="90"/>
                      </a:lnTo>
                      <a:lnTo>
                        <a:pt x="277" y="83"/>
                      </a:lnTo>
                      <a:lnTo>
                        <a:pt x="284" y="80"/>
                      </a:lnTo>
                      <a:lnTo>
                        <a:pt x="293" y="77"/>
                      </a:lnTo>
                      <a:lnTo>
                        <a:pt x="303" y="74"/>
                      </a:lnTo>
                      <a:lnTo>
                        <a:pt x="312" y="71"/>
                      </a:lnTo>
                      <a:lnTo>
                        <a:pt x="322" y="67"/>
                      </a:lnTo>
                      <a:lnTo>
                        <a:pt x="328" y="64"/>
                      </a:lnTo>
                      <a:lnTo>
                        <a:pt x="338" y="61"/>
                      </a:lnTo>
                      <a:lnTo>
                        <a:pt x="344" y="61"/>
                      </a:lnTo>
                      <a:lnTo>
                        <a:pt x="351" y="58"/>
                      </a:lnTo>
                      <a:lnTo>
                        <a:pt x="357" y="58"/>
                      </a:lnTo>
                      <a:lnTo>
                        <a:pt x="360" y="58"/>
                      </a:lnTo>
                      <a:lnTo>
                        <a:pt x="376" y="58"/>
                      </a:lnTo>
                      <a:lnTo>
                        <a:pt x="389" y="61"/>
                      </a:lnTo>
                      <a:lnTo>
                        <a:pt x="398" y="67"/>
                      </a:lnTo>
                      <a:lnTo>
                        <a:pt x="411" y="71"/>
                      </a:lnTo>
                      <a:lnTo>
                        <a:pt x="424" y="80"/>
                      </a:lnTo>
                      <a:lnTo>
                        <a:pt x="437" y="86"/>
                      </a:lnTo>
                      <a:lnTo>
                        <a:pt x="446" y="96"/>
                      </a:lnTo>
                      <a:lnTo>
                        <a:pt x="459" y="106"/>
                      </a:lnTo>
                      <a:lnTo>
                        <a:pt x="469" y="115"/>
                      </a:lnTo>
                      <a:lnTo>
                        <a:pt x="481" y="125"/>
                      </a:lnTo>
                      <a:lnTo>
                        <a:pt x="491" y="134"/>
                      </a:lnTo>
                      <a:lnTo>
                        <a:pt x="500" y="144"/>
                      </a:lnTo>
                      <a:lnTo>
                        <a:pt x="513" y="153"/>
                      </a:lnTo>
                      <a:lnTo>
                        <a:pt x="523" y="163"/>
                      </a:lnTo>
                      <a:lnTo>
                        <a:pt x="532" y="169"/>
                      </a:lnTo>
                      <a:lnTo>
                        <a:pt x="545" y="176"/>
                      </a:lnTo>
                      <a:lnTo>
                        <a:pt x="542" y="166"/>
                      </a:lnTo>
                      <a:lnTo>
                        <a:pt x="539" y="157"/>
                      </a:lnTo>
                      <a:lnTo>
                        <a:pt x="536" y="147"/>
                      </a:lnTo>
                      <a:lnTo>
                        <a:pt x="532" y="141"/>
                      </a:lnTo>
                      <a:lnTo>
                        <a:pt x="532" y="131"/>
                      </a:lnTo>
                      <a:lnTo>
                        <a:pt x="529" y="125"/>
                      </a:lnTo>
                      <a:lnTo>
                        <a:pt x="529" y="118"/>
                      </a:lnTo>
                      <a:lnTo>
                        <a:pt x="529" y="115"/>
                      </a:lnTo>
                      <a:lnTo>
                        <a:pt x="536" y="118"/>
                      </a:lnTo>
                      <a:lnTo>
                        <a:pt x="539" y="122"/>
                      </a:lnTo>
                      <a:lnTo>
                        <a:pt x="545" y="128"/>
                      </a:lnTo>
                      <a:lnTo>
                        <a:pt x="551" y="134"/>
                      </a:lnTo>
                      <a:lnTo>
                        <a:pt x="558" y="141"/>
                      </a:lnTo>
                      <a:lnTo>
                        <a:pt x="561" y="147"/>
                      </a:lnTo>
                      <a:lnTo>
                        <a:pt x="567" y="153"/>
                      </a:lnTo>
                      <a:lnTo>
                        <a:pt x="571" y="160"/>
                      </a:lnTo>
                      <a:lnTo>
                        <a:pt x="574" y="160"/>
                      </a:lnTo>
                      <a:lnTo>
                        <a:pt x="577" y="163"/>
                      </a:lnTo>
                      <a:lnTo>
                        <a:pt x="577" y="163"/>
                      </a:lnTo>
                      <a:lnTo>
                        <a:pt x="580" y="163"/>
                      </a:lnTo>
                      <a:lnTo>
                        <a:pt x="583" y="163"/>
                      </a:lnTo>
                      <a:lnTo>
                        <a:pt x="587" y="166"/>
                      </a:lnTo>
                      <a:lnTo>
                        <a:pt x="590" y="166"/>
                      </a:lnTo>
                      <a:lnTo>
                        <a:pt x="593" y="166"/>
                      </a:lnTo>
                      <a:lnTo>
                        <a:pt x="596" y="166"/>
                      </a:lnTo>
                      <a:lnTo>
                        <a:pt x="599" y="166"/>
                      </a:lnTo>
                      <a:lnTo>
                        <a:pt x="606" y="169"/>
                      </a:lnTo>
                      <a:lnTo>
                        <a:pt x="609" y="169"/>
                      </a:lnTo>
                      <a:lnTo>
                        <a:pt x="615" y="169"/>
                      </a:lnTo>
                      <a:lnTo>
                        <a:pt x="622" y="169"/>
                      </a:lnTo>
                      <a:lnTo>
                        <a:pt x="628" y="169"/>
                      </a:lnTo>
                      <a:lnTo>
                        <a:pt x="634" y="169"/>
                      </a:lnTo>
                      <a:lnTo>
                        <a:pt x="644" y="169"/>
                      </a:lnTo>
                      <a:lnTo>
                        <a:pt x="653" y="169"/>
                      </a:lnTo>
                      <a:lnTo>
                        <a:pt x="660" y="169"/>
                      </a:lnTo>
                      <a:lnTo>
                        <a:pt x="669" y="169"/>
                      </a:lnTo>
                      <a:lnTo>
                        <a:pt x="679" y="169"/>
                      </a:lnTo>
                      <a:lnTo>
                        <a:pt x="685" y="169"/>
                      </a:lnTo>
                      <a:lnTo>
                        <a:pt x="695" y="169"/>
                      </a:lnTo>
                      <a:lnTo>
                        <a:pt x="701" y="169"/>
                      </a:lnTo>
                      <a:lnTo>
                        <a:pt x="711" y="169"/>
                      </a:lnTo>
                      <a:lnTo>
                        <a:pt x="720" y="173"/>
                      </a:lnTo>
                      <a:lnTo>
                        <a:pt x="727" y="173"/>
                      </a:lnTo>
                      <a:lnTo>
                        <a:pt x="736" y="173"/>
                      </a:lnTo>
                      <a:lnTo>
                        <a:pt x="743" y="173"/>
                      </a:lnTo>
                      <a:lnTo>
                        <a:pt x="752" y="176"/>
                      </a:lnTo>
                      <a:lnTo>
                        <a:pt x="762" y="176"/>
                      </a:lnTo>
                      <a:lnTo>
                        <a:pt x="768" y="176"/>
                      </a:lnTo>
                      <a:lnTo>
                        <a:pt x="778" y="176"/>
                      </a:lnTo>
                      <a:lnTo>
                        <a:pt x="784" y="179"/>
                      </a:lnTo>
                      <a:lnTo>
                        <a:pt x="791" y="179"/>
                      </a:lnTo>
                      <a:lnTo>
                        <a:pt x="797" y="179"/>
                      </a:lnTo>
                      <a:lnTo>
                        <a:pt x="803" y="179"/>
                      </a:lnTo>
                      <a:lnTo>
                        <a:pt x="813" y="182"/>
                      </a:lnTo>
                      <a:lnTo>
                        <a:pt x="819" y="182"/>
                      </a:lnTo>
                      <a:lnTo>
                        <a:pt x="826" y="182"/>
                      </a:lnTo>
                      <a:lnTo>
                        <a:pt x="835" y="182"/>
                      </a:lnTo>
                      <a:lnTo>
                        <a:pt x="842" y="182"/>
                      </a:lnTo>
                      <a:lnTo>
                        <a:pt x="848" y="185"/>
                      </a:lnTo>
                      <a:lnTo>
                        <a:pt x="854" y="185"/>
                      </a:lnTo>
                      <a:lnTo>
                        <a:pt x="864" y="185"/>
                      </a:lnTo>
                      <a:lnTo>
                        <a:pt x="870" y="185"/>
                      </a:lnTo>
                      <a:lnTo>
                        <a:pt x="877" y="189"/>
                      </a:lnTo>
                      <a:lnTo>
                        <a:pt x="886" y="189"/>
                      </a:lnTo>
                      <a:lnTo>
                        <a:pt x="893" y="189"/>
                      </a:lnTo>
                      <a:lnTo>
                        <a:pt x="899" y="189"/>
                      </a:lnTo>
                      <a:lnTo>
                        <a:pt x="905" y="192"/>
                      </a:lnTo>
                      <a:lnTo>
                        <a:pt x="915" y="192"/>
                      </a:lnTo>
                      <a:lnTo>
                        <a:pt x="921" y="192"/>
                      </a:lnTo>
                      <a:lnTo>
                        <a:pt x="928" y="192"/>
                      </a:lnTo>
                      <a:lnTo>
                        <a:pt x="937" y="192"/>
                      </a:lnTo>
                      <a:lnTo>
                        <a:pt x="944" y="195"/>
                      </a:lnTo>
                      <a:lnTo>
                        <a:pt x="950" y="195"/>
                      </a:lnTo>
                      <a:lnTo>
                        <a:pt x="956" y="195"/>
                      </a:lnTo>
                      <a:lnTo>
                        <a:pt x="966" y="195"/>
                      </a:lnTo>
                      <a:lnTo>
                        <a:pt x="972" y="198"/>
                      </a:lnTo>
                      <a:lnTo>
                        <a:pt x="979" y="198"/>
                      </a:lnTo>
                      <a:lnTo>
                        <a:pt x="985" y="198"/>
                      </a:lnTo>
                      <a:lnTo>
                        <a:pt x="991" y="198"/>
                      </a:lnTo>
                      <a:lnTo>
                        <a:pt x="1001" y="198"/>
                      </a:lnTo>
                      <a:lnTo>
                        <a:pt x="1007" y="201"/>
                      </a:lnTo>
                      <a:lnTo>
                        <a:pt x="1017" y="201"/>
                      </a:lnTo>
                      <a:lnTo>
                        <a:pt x="1026" y="201"/>
                      </a:lnTo>
                      <a:lnTo>
                        <a:pt x="1033" y="204"/>
                      </a:lnTo>
                      <a:lnTo>
                        <a:pt x="1042" y="204"/>
                      </a:lnTo>
                      <a:lnTo>
                        <a:pt x="1052" y="204"/>
                      </a:lnTo>
                      <a:lnTo>
                        <a:pt x="1058" y="208"/>
                      </a:lnTo>
                      <a:lnTo>
                        <a:pt x="1068" y="208"/>
                      </a:lnTo>
                      <a:lnTo>
                        <a:pt x="1077" y="208"/>
                      </a:lnTo>
                      <a:lnTo>
                        <a:pt x="1087" y="208"/>
                      </a:lnTo>
                      <a:lnTo>
                        <a:pt x="1093" y="208"/>
                      </a:lnTo>
                      <a:lnTo>
                        <a:pt x="1103" y="211"/>
                      </a:lnTo>
                      <a:lnTo>
                        <a:pt x="1113" y="211"/>
                      </a:lnTo>
                      <a:lnTo>
                        <a:pt x="1122" y="211"/>
                      </a:lnTo>
                      <a:lnTo>
                        <a:pt x="1128" y="211"/>
                      </a:lnTo>
                      <a:lnTo>
                        <a:pt x="1138" y="214"/>
                      </a:lnTo>
                      <a:lnTo>
                        <a:pt x="1148" y="214"/>
                      </a:lnTo>
                      <a:lnTo>
                        <a:pt x="1157" y="214"/>
                      </a:lnTo>
                      <a:lnTo>
                        <a:pt x="1164" y="214"/>
                      </a:lnTo>
                      <a:lnTo>
                        <a:pt x="1173" y="214"/>
                      </a:lnTo>
                      <a:lnTo>
                        <a:pt x="1183" y="214"/>
                      </a:lnTo>
                      <a:lnTo>
                        <a:pt x="1192" y="217"/>
                      </a:lnTo>
                      <a:lnTo>
                        <a:pt x="1199" y="217"/>
                      </a:lnTo>
                      <a:lnTo>
                        <a:pt x="1208" y="217"/>
                      </a:lnTo>
                      <a:lnTo>
                        <a:pt x="1218" y="217"/>
                      </a:lnTo>
                      <a:lnTo>
                        <a:pt x="1227" y="217"/>
                      </a:lnTo>
                      <a:lnTo>
                        <a:pt x="1234" y="217"/>
                      </a:lnTo>
                      <a:lnTo>
                        <a:pt x="1243" y="220"/>
                      </a:lnTo>
                      <a:lnTo>
                        <a:pt x="1253" y="220"/>
                      </a:lnTo>
                      <a:lnTo>
                        <a:pt x="1259" y="220"/>
                      </a:lnTo>
                      <a:lnTo>
                        <a:pt x="1269" y="220"/>
                      </a:lnTo>
                      <a:lnTo>
                        <a:pt x="1278" y="220"/>
                      </a:lnTo>
                      <a:lnTo>
                        <a:pt x="1288" y="220"/>
                      </a:lnTo>
                      <a:lnTo>
                        <a:pt x="1297" y="220"/>
                      </a:lnTo>
                      <a:lnTo>
                        <a:pt x="1304" y="220"/>
                      </a:lnTo>
                      <a:lnTo>
                        <a:pt x="1313" y="224"/>
                      </a:lnTo>
                      <a:lnTo>
                        <a:pt x="1323" y="224"/>
                      </a:lnTo>
                      <a:lnTo>
                        <a:pt x="1332" y="224"/>
                      </a:lnTo>
                      <a:lnTo>
                        <a:pt x="1342" y="224"/>
                      </a:lnTo>
                      <a:lnTo>
                        <a:pt x="1352" y="224"/>
                      </a:lnTo>
                      <a:lnTo>
                        <a:pt x="1361" y="224"/>
                      </a:lnTo>
                      <a:lnTo>
                        <a:pt x="1368" y="224"/>
                      </a:lnTo>
                      <a:lnTo>
                        <a:pt x="1377" y="224"/>
                      </a:lnTo>
                      <a:lnTo>
                        <a:pt x="1387" y="224"/>
                      </a:lnTo>
                      <a:lnTo>
                        <a:pt x="1396" y="224"/>
                      </a:lnTo>
                      <a:lnTo>
                        <a:pt x="1406" y="224"/>
                      </a:lnTo>
                      <a:lnTo>
                        <a:pt x="1415" y="224"/>
                      </a:lnTo>
                      <a:lnTo>
                        <a:pt x="1422" y="224"/>
                      </a:lnTo>
                      <a:lnTo>
                        <a:pt x="1431" y="224"/>
                      </a:lnTo>
                      <a:lnTo>
                        <a:pt x="1441" y="220"/>
                      </a:lnTo>
                      <a:lnTo>
                        <a:pt x="1450" y="220"/>
                      </a:lnTo>
                      <a:lnTo>
                        <a:pt x="1460" y="220"/>
                      </a:lnTo>
                      <a:lnTo>
                        <a:pt x="1470" y="220"/>
                      </a:lnTo>
                      <a:lnTo>
                        <a:pt x="1476" y="220"/>
                      </a:lnTo>
                      <a:lnTo>
                        <a:pt x="1486" y="220"/>
                      </a:lnTo>
                      <a:lnTo>
                        <a:pt x="1495" y="220"/>
                      </a:lnTo>
                      <a:lnTo>
                        <a:pt x="1505" y="220"/>
                      </a:lnTo>
                      <a:lnTo>
                        <a:pt x="1514" y="217"/>
                      </a:lnTo>
                      <a:lnTo>
                        <a:pt x="1524" y="217"/>
                      </a:lnTo>
                      <a:lnTo>
                        <a:pt x="1533" y="217"/>
                      </a:lnTo>
                      <a:lnTo>
                        <a:pt x="1540" y="217"/>
                      </a:lnTo>
                      <a:lnTo>
                        <a:pt x="1549" y="214"/>
                      </a:lnTo>
                      <a:lnTo>
                        <a:pt x="1559" y="214"/>
                      </a:lnTo>
                      <a:lnTo>
                        <a:pt x="1568" y="214"/>
                      </a:lnTo>
                      <a:lnTo>
                        <a:pt x="1578" y="214"/>
                      </a:lnTo>
                      <a:lnTo>
                        <a:pt x="1584" y="211"/>
                      </a:lnTo>
                      <a:lnTo>
                        <a:pt x="1594" y="208"/>
                      </a:lnTo>
                      <a:lnTo>
                        <a:pt x="1600" y="201"/>
                      </a:lnTo>
                      <a:lnTo>
                        <a:pt x="1610" y="195"/>
                      </a:lnTo>
                      <a:lnTo>
                        <a:pt x="1619" y="192"/>
                      </a:lnTo>
                      <a:lnTo>
                        <a:pt x="1629" y="185"/>
                      </a:lnTo>
                      <a:lnTo>
                        <a:pt x="1639" y="179"/>
                      </a:lnTo>
                      <a:lnTo>
                        <a:pt x="1648" y="173"/>
                      </a:lnTo>
                      <a:lnTo>
                        <a:pt x="1658" y="166"/>
                      </a:lnTo>
                      <a:lnTo>
                        <a:pt x="1664" y="160"/>
                      </a:lnTo>
                      <a:lnTo>
                        <a:pt x="1674" y="153"/>
                      </a:lnTo>
                      <a:lnTo>
                        <a:pt x="1683" y="150"/>
                      </a:lnTo>
                      <a:lnTo>
                        <a:pt x="1693" y="144"/>
                      </a:lnTo>
                      <a:lnTo>
                        <a:pt x="1699" y="144"/>
                      </a:lnTo>
                      <a:lnTo>
                        <a:pt x="1705" y="141"/>
                      </a:lnTo>
                      <a:lnTo>
                        <a:pt x="1715" y="141"/>
                      </a:lnTo>
                      <a:lnTo>
                        <a:pt x="1721" y="137"/>
                      </a:lnTo>
                      <a:lnTo>
                        <a:pt x="1728" y="137"/>
                      </a:lnTo>
                      <a:lnTo>
                        <a:pt x="1734" y="137"/>
                      </a:lnTo>
                      <a:lnTo>
                        <a:pt x="1744" y="137"/>
                      </a:lnTo>
                      <a:lnTo>
                        <a:pt x="1750" y="137"/>
                      </a:lnTo>
                      <a:lnTo>
                        <a:pt x="1760" y="137"/>
                      </a:lnTo>
                      <a:lnTo>
                        <a:pt x="1766" y="137"/>
                      </a:lnTo>
                      <a:lnTo>
                        <a:pt x="1772" y="137"/>
                      </a:lnTo>
                      <a:lnTo>
                        <a:pt x="1782" y="137"/>
                      </a:lnTo>
                      <a:lnTo>
                        <a:pt x="1788" y="137"/>
                      </a:lnTo>
                      <a:lnTo>
                        <a:pt x="1795" y="137"/>
                      </a:lnTo>
                      <a:lnTo>
                        <a:pt x="1804" y="141"/>
                      </a:lnTo>
                      <a:lnTo>
                        <a:pt x="1811" y="141"/>
                      </a:lnTo>
                      <a:lnTo>
                        <a:pt x="1817" y="144"/>
                      </a:lnTo>
                      <a:lnTo>
                        <a:pt x="1823" y="144"/>
                      </a:lnTo>
                      <a:lnTo>
                        <a:pt x="1839" y="150"/>
                      </a:lnTo>
                      <a:lnTo>
                        <a:pt x="1852" y="157"/>
                      </a:lnTo>
                      <a:lnTo>
                        <a:pt x="1865" y="163"/>
                      </a:lnTo>
                      <a:lnTo>
                        <a:pt x="1881" y="169"/>
                      </a:lnTo>
                      <a:lnTo>
                        <a:pt x="1894" y="176"/>
                      </a:lnTo>
                      <a:lnTo>
                        <a:pt x="1910" y="182"/>
                      </a:lnTo>
                      <a:lnTo>
                        <a:pt x="1922" y="192"/>
                      </a:lnTo>
                      <a:lnTo>
                        <a:pt x="1938" y="198"/>
                      </a:lnTo>
                      <a:lnTo>
                        <a:pt x="1951" y="208"/>
                      </a:lnTo>
                      <a:lnTo>
                        <a:pt x="1964" y="214"/>
                      </a:lnTo>
                      <a:lnTo>
                        <a:pt x="1976" y="224"/>
                      </a:lnTo>
                      <a:lnTo>
                        <a:pt x="1989" y="233"/>
                      </a:lnTo>
                      <a:lnTo>
                        <a:pt x="2002" y="240"/>
                      </a:lnTo>
                      <a:lnTo>
                        <a:pt x="2012" y="249"/>
                      </a:lnTo>
                      <a:lnTo>
                        <a:pt x="2021" y="255"/>
                      </a:lnTo>
                      <a:lnTo>
                        <a:pt x="2027" y="265"/>
                      </a:lnTo>
                      <a:lnTo>
                        <a:pt x="2037" y="275"/>
                      </a:lnTo>
                      <a:lnTo>
                        <a:pt x="2047" y="284"/>
                      </a:lnTo>
                      <a:lnTo>
                        <a:pt x="2056" y="291"/>
                      </a:lnTo>
                      <a:lnTo>
                        <a:pt x="2066" y="297"/>
                      </a:lnTo>
                      <a:lnTo>
                        <a:pt x="2078" y="303"/>
                      </a:lnTo>
                      <a:lnTo>
                        <a:pt x="2088" y="307"/>
                      </a:lnTo>
                      <a:lnTo>
                        <a:pt x="2098" y="310"/>
                      </a:lnTo>
                      <a:lnTo>
                        <a:pt x="2110" y="313"/>
                      </a:lnTo>
                      <a:lnTo>
                        <a:pt x="2123" y="313"/>
                      </a:lnTo>
                      <a:lnTo>
                        <a:pt x="2133" y="316"/>
                      </a:lnTo>
                      <a:lnTo>
                        <a:pt x="2145" y="319"/>
                      </a:lnTo>
                      <a:lnTo>
                        <a:pt x="2158" y="319"/>
                      </a:lnTo>
                      <a:lnTo>
                        <a:pt x="2171" y="322"/>
                      </a:lnTo>
                      <a:lnTo>
                        <a:pt x="2184" y="322"/>
                      </a:lnTo>
                      <a:lnTo>
                        <a:pt x="2200" y="326"/>
                      </a:lnTo>
                      <a:lnTo>
                        <a:pt x="2212" y="329"/>
                      </a:lnTo>
                      <a:lnTo>
                        <a:pt x="2219" y="329"/>
                      </a:lnTo>
                      <a:lnTo>
                        <a:pt x="2228" y="329"/>
                      </a:lnTo>
                      <a:lnTo>
                        <a:pt x="2235" y="332"/>
                      </a:lnTo>
                      <a:lnTo>
                        <a:pt x="2241" y="332"/>
                      </a:lnTo>
                      <a:lnTo>
                        <a:pt x="2247" y="335"/>
                      </a:lnTo>
                      <a:lnTo>
                        <a:pt x="2257" y="335"/>
                      </a:lnTo>
                      <a:lnTo>
                        <a:pt x="2263" y="335"/>
                      </a:lnTo>
                      <a:lnTo>
                        <a:pt x="2270" y="338"/>
                      </a:lnTo>
                      <a:lnTo>
                        <a:pt x="2276" y="338"/>
                      </a:lnTo>
                      <a:lnTo>
                        <a:pt x="2286" y="338"/>
                      </a:lnTo>
                      <a:lnTo>
                        <a:pt x="2292" y="342"/>
                      </a:lnTo>
                      <a:lnTo>
                        <a:pt x="2298" y="342"/>
                      </a:lnTo>
                      <a:lnTo>
                        <a:pt x="2305" y="342"/>
                      </a:lnTo>
                      <a:lnTo>
                        <a:pt x="2314" y="342"/>
                      </a:lnTo>
                      <a:lnTo>
                        <a:pt x="2321" y="345"/>
                      </a:lnTo>
                      <a:lnTo>
                        <a:pt x="2327" y="345"/>
                      </a:lnTo>
                      <a:lnTo>
                        <a:pt x="2333" y="345"/>
                      </a:lnTo>
                      <a:lnTo>
                        <a:pt x="2343" y="345"/>
                      </a:lnTo>
                      <a:lnTo>
                        <a:pt x="2349" y="348"/>
                      </a:lnTo>
                      <a:lnTo>
                        <a:pt x="2356" y="348"/>
                      </a:lnTo>
                      <a:lnTo>
                        <a:pt x="2362" y="348"/>
                      </a:lnTo>
                      <a:lnTo>
                        <a:pt x="2372" y="348"/>
                      </a:lnTo>
                      <a:lnTo>
                        <a:pt x="2378" y="348"/>
                      </a:lnTo>
                      <a:lnTo>
                        <a:pt x="2384" y="351"/>
                      </a:lnTo>
                      <a:lnTo>
                        <a:pt x="2391" y="351"/>
                      </a:lnTo>
                      <a:lnTo>
                        <a:pt x="2397" y="351"/>
                      </a:lnTo>
                      <a:lnTo>
                        <a:pt x="2407" y="351"/>
                      </a:lnTo>
                      <a:lnTo>
                        <a:pt x="2413" y="354"/>
                      </a:lnTo>
                      <a:lnTo>
                        <a:pt x="2420" y="354"/>
                      </a:lnTo>
                      <a:lnTo>
                        <a:pt x="2426" y="354"/>
                      </a:lnTo>
                      <a:lnTo>
                        <a:pt x="2435" y="354"/>
                      </a:lnTo>
                      <a:lnTo>
                        <a:pt x="2442" y="358"/>
                      </a:lnTo>
                      <a:lnTo>
                        <a:pt x="2455" y="358"/>
                      </a:lnTo>
                      <a:lnTo>
                        <a:pt x="2467" y="358"/>
                      </a:lnTo>
                      <a:lnTo>
                        <a:pt x="2480" y="358"/>
                      </a:lnTo>
                      <a:lnTo>
                        <a:pt x="2493" y="354"/>
                      </a:lnTo>
                      <a:lnTo>
                        <a:pt x="2506" y="354"/>
                      </a:lnTo>
                      <a:lnTo>
                        <a:pt x="2518" y="351"/>
                      </a:lnTo>
                      <a:lnTo>
                        <a:pt x="2531" y="348"/>
                      </a:lnTo>
                      <a:lnTo>
                        <a:pt x="2544" y="345"/>
                      </a:lnTo>
                      <a:lnTo>
                        <a:pt x="2557" y="342"/>
                      </a:lnTo>
                      <a:lnTo>
                        <a:pt x="2569" y="338"/>
                      </a:lnTo>
                      <a:lnTo>
                        <a:pt x="2582" y="335"/>
                      </a:lnTo>
                      <a:lnTo>
                        <a:pt x="2595" y="332"/>
                      </a:lnTo>
                      <a:lnTo>
                        <a:pt x="2608" y="329"/>
                      </a:lnTo>
                      <a:lnTo>
                        <a:pt x="2620" y="326"/>
                      </a:lnTo>
                      <a:lnTo>
                        <a:pt x="2633" y="322"/>
                      </a:lnTo>
                      <a:lnTo>
                        <a:pt x="2646" y="319"/>
                      </a:lnTo>
                      <a:lnTo>
                        <a:pt x="2659" y="319"/>
                      </a:lnTo>
                      <a:lnTo>
                        <a:pt x="2671" y="316"/>
                      </a:lnTo>
                      <a:lnTo>
                        <a:pt x="2687" y="313"/>
                      </a:lnTo>
                      <a:lnTo>
                        <a:pt x="2700" y="310"/>
                      </a:lnTo>
                      <a:lnTo>
                        <a:pt x="2713" y="307"/>
                      </a:lnTo>
                      <a:lnTo>
                        <a:pt x="2729" y="300"/>
                      </a:lnTo>
                      <a:lnTo>
                        <a:pt x="2742" y="297"/>
                      </a:lnTo>
                      <a:lnTo>
                        <a:pt x="2754" y="294"/>
                      </a:lnTo>
                      <a:lnTo>
                        <a:pt x="2767" y="291"/>
                      </a:lnTo>
                      <a:lnTo>
                        <a:pt x="2780" y="284"/>
                      </a:lnTo>
                      <a:lnTo>
                        <a:pt x="2796" y="281"/>
                      </a:lnTo>
                      <a:lnTo>
                        <a:pt x="2808" y="278"/>
                      </a:lnTo>
                      <a:lnTo>
                        <a:pt x="2821" y="271"/>
                      </a:lnTo>
                      <a:lnTo>
                        <a:pt x="2834" y="268"/>
                      </a:lnTo>
                      <a:lnTo>
                        <a:pt x="2850" y="262"/>
                      </a:lnTo>
                      <a:lnTo>
                        <a:pt x="2863" y="259"/>
                      </a:lnTo>
                      <a:lnTo>
                        <a:pt x="2869" y="255"/>
                      </a:lnTo>
                      <a:lnTo>
                        <a:pt x="2875" y="252"/>
                      </a:lnTo>
                      <a:lnTo>
                        <a:pt x="2882" y="249"/>
                      </a:lnTo>
                      <a:lnTo>
                        <a:pt x="2891" y="246"/>
                      </a:lnTo>
                      <a:lnTo>
                        <a:pt x="2901" y="243"/>
                      </a:lnTo>
                      <a:lnTo>
                        <a:pt x="2910" y="236"/>
                      </a:lnTo>
                      <a:lnTo>
                        <a:pt x="2917" y="233"/>
                      </a:lnTo>
                      <a:lnTo>
                        <a:pt x="2926" y="230"/>
                      </a:lnTo>
                      <a:lnTo>
                        <a:pt x="2933" y="230"/>
                      </a:lnTo>
                      <a:lnTo>
                        <a:pt x="2942" y="227"/>
                      </a:lnTo>
                      <a:lnTo>
                        <a:pt x="2949" y="224"/>
                      </a:lnTo>
                      <a:lnTo>
                        <a:pt x="2955" y="224"/>
                      </a:lnTo>
                      <a:lnTo>
                        <a:pt x="2961" y="224"/>
                      </a:lnTo>
                      <a:lnTo>
                        <a:pt x="2965" y="227"/>
                      </a:lnTo>
                      <a:lnTo>
                        <a:pt x="2968" y="230"/>
                      </a:lnTo>
                      <a:lnTo>
                        <a:pt x="2968" y="233"/>
                      </a:lnTo>
                      <a:lnTo>
                        <a:pt x="2968" y="246"/>
                      </a:lnTo>
                      <a:lnTo>
                        <a:pt x="2965" y="259"/>
                      </a:lnTo>
                      <a:lnTo>
                        <a:pt x="2965" y="275"/>
                      </a:lnTo>
                      <a:lnTo>
                        <a:pt x="2961" y="287"/>
                      </a:lnTo>
                      <a:lnTo>
                        <a:pt x="2955" y="300"/>
                      </a:lnTo>
                      <a:lnTo>
                        <a:pt x="2952" y="313"/>
                      </a:lnTo>
                      <a:lnTo>
                        <a:pt x="2949" y="329"/>
                      </a:lnTo>
                      <a:lnTo>
                        <a:pt x="2946" y="342"/>
                      </a:lnTo>
                      <a:close/>
                    </a:path>
                  </a:pathLst>
                </a:custGeom>
                <a:solidFill>
                  <a:srgbClr val="ad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128640" y="3550320"/>
                  <a:ext cx="2032560" cy="109080"/>
                </a:xfrm>
                <a:custGeom>
                  <a:avLst/>
                  <a:gdLst/>
                  <a:ahLst/>
                  <a:rect l="l" t="t" r="r" b="b"/>
                  <a:pathLst>
                    <a:path w="2385" h="12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16" y="3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9" y="3"/>
                      </a:lnTo>
                      <a:lnTo>
                        <a:pt x="32" y="7"/>
                      </a:lnTo>
                      <a:lnTo>
                        <a:pt x="39" y="7"/>
                      </a:lnTo>
                      <a:lnTo>
                        <a:pt x="42" y="7"/>
                      </a:lnTo>
                      <a:lnTo>
                        <a:pt x="45" y="7"/>
                      </a:lnTo>
                      <a:lnTo>
                        <a:pt x="48" y="7"/>
                      </a:lnTo>
                      <a:lnTo>
                        <a:pt x="55" y="10"/>
                      </a:lnTo>
                      <a:lnTo>
                        <a:pt x="58" y="10"/>
                      </a:lnTo>
                      <a:lnTo>
                        <a:pt x="61" y="10"/>
                      </a:lnTo>
                      <a:lnTo>
                        <a:pt x="67" y="10"/>
                      </a:lnTo>
                      <a:lnTo>
                        <a:pt x="80" y="13"/>
                      </a:lnTo>
                      <a:lnTo>
                        <a:pt x="93" y="13"/>
                      </a:lnTo>
                      <a:lnTo>
                        <a:pt x="106" y="16"/>
                      </a:lnTo>
                      <a:lnTo>
                        <a:pt x="118" y="16"/>
                      </a:lnTo>
                      <a:lnTo>
                        <a:pt x="131" y="19"/>
                      </a:lnTo>
                      <a:lnTo>
                        <a:pt x="144" y="19"/>
                      </a:lnTo>
                      <a:lnTo>
                        <a:pt x="157" y="19"/>
                      </a:lnTo>
                      <a:lnTo>
                        <a:pt x="173" y="23"/>
                      </a:lnTo>
                      <a:lnTo>
                        <a:pt x="185" y="23"/>
                      </a:lnTo>
                      <a:lnTo>
                        <a:pt x="198" y="23"/>
                      </a:lnTo>
                      <a:lnTo>
                        <a:pt x="211" y="23"/>
                      </a:lnTo>
                      <a:lnTo>
                        <a:pt x="224" y="26"/>
                      </a:lnTo>
                      <a:lnTo>
                        <a:pt x="236" y="26"/>
                      </a:lnTo>
                      <a:lnTo>
                        <a:pt x="252" y="26"/>
                      </a:lnTo>
                      <a:lnTo>
                        <a:pt x="265" y="29"/>
                      </a:lnTo>
                      <a:lnTo>
                        <a:pt x="278" y="29"/>
                      </a:lnTo>
                      <a:lnTo>
                        <a:pt x="290" y="29"/>
                      </a:lnTo>
                      <a:lnTo>
                        <a:pt x="300" y="32"/>
                      </a:lnTo>
                      <a:lnTo>
                        <a:pt x="313" y="32"/>
                      </a:lnTo>
                      <a:lnTo>
                        <a:pt x="326" y="32"/>
                      </a:lnTo>
                      <a:lnTo>
                        <a:pt x="338" y="35"/>
                      </a:lnTo>
                      <a:lnTo>
                        <a:pt x="348" y="35"/>
                      </a:lnTo>
                      <a:lnTo>
                        <a:pt x="361" y="38"/>
                      </a:lnTo>
                      <a:lnTo>
                        <a:pt x="373" y="38"/>
                      </a:lnTo>
                      <a:lnTo>
                        <a:pt x="386" y="38"/>
                      </a:lnTo>
                      <a:lnTo>
                        <a:pt x="399" y="42"/>
                      </a:lnTo>
                      <a:lnTo>
                        <a:pt x="408" y="42"/>
                      </a:lnTo>
                      <a:lnTo>
                        <a:pt x="421" y="42"/>
                      </a:lnTo>
                      <a:lnTo>
                        <a:pt x="434" y="45"/>
                      </a:lnTo>
                      <a:lnTo>
                        <a:pt x="447" y="45"/>
                      </a:lnTo>
                      <a:lnTo>
                        <a:pt x="456" y="48"/>
                      </a:lnTo>
                      <a:lnTo>
                        <a:pt x="469" y="48"/>
                      </a:lnTo>
                      <a:lnTo>
                        <a:pt x="482" y="48"/>
                      </a:lnTo>
                      <a:lnTo>
                        <a:pt x="495" y="51"/>
                      </a:lnTo>
                      <a:lnTo>
                        <a:pt x="504" y="51"/>
                      </a:lnTo>
                      <a:lnTo>
                        <a:pt x="517" y="51"/>
                      </a:lnTo>
                      <a:lnTo>
                        <a:pt x="530" y="54"/>
                      </a:lnTo>
                      <a:lnTo>
                        <a:pt x="542" y="54"/>
                      </a:lnTo>
                      <a:lnTo>
                        <a:pt x="552" y="54"/>
                      </a:lnTo>
                      <a:lnTo>
                        <a:pt x="565" y="58"/>
                      </a:lnTo>
                      <a:lnTo>
                        <a:pt x="577" y="58"/>
                      </a:lnTo>
                      <a:lnTo>
                        <a:pt x="590" y="61"/>
                      </a:lnTo>
                      <a:lnTo>
                        <a:pt x="603" y="61"/>
                      </a:lnTo>
                      <a:lnTo>
                        <a:pt x="612" y="61"/>
                      </a:lnTo>
                      <a:lnTo>
                        <a:pt x="625" y="61"/>
                      </a:lnTo>
                      <a:lnTo>
                        <a:pt x="638" y="64"/>
                      </a:lnTo>
                      <a:lnTo>
                        <a:pt x="651" y="64"/>
                      </a:lnTo>
                      <a:lnTo>
                        <a:pt x="660" y="64"/>
                      </a:lnTo>
                      <a:lnTo>
                        <a:pt x="670" y="67"/>
                      </a:lnTo>
                      <a:lnTo>
                        <a:pt x="679" y="67"/>
                      </a:lnTo>
                      <a:lnTo>
                        <a:pt x="689" y="67"/>
                      </a:lnTo>
                      <a:lnTo>
                        <a:pt x="699" y="67"/>
                      </a:lnTo>
                      <a:lnTo>
                        <a:pt x="705" y="67"/>
                      </a:lnTo>
                      <a:lnTo>
                        <a:pt x="714" y="70"/>
                      </a:lnTo>
                      <a:lnTo>
                        <a:pt x="724" y="70"/>
                      </a:lnTo>
                      <a:lnTo>
                        <a:pt x="734" y="70"/>
                      </a:lnTo>
                      <a:lnTo>
                        <a:pt x="743" y="70"/>
                      </a:lnTo>
                      <a:lnTo>
                        <a:pt x="753" y="70"/>
                      </a:lnTo>
                      <a:lnTo>
                        <a:pt x="762" y="70"/>
                      </a:lnTo>
                      <a:lnTo>
                        <a:pt x="769" y="74"/>
                      </a:lnTo>
                      <a:lnTo>
                        <a:pt x="778" y="74"/>
                      </a:lnTo>
                      <a:lnTo>
                        <a:pt x="788" y="74"/>
                      </a:lnTo>
                      <a:lnTo>
                        <a:pt x="797" y="74"/>
                      </a:lnTo>
                      <a:lnTo>
                        <a:pt x="807" y="74"/>
                      </a:lnTo>
                      <a:lnTo>
                        <a:pt x="816" y="74"/>
                      </a:lnTo>
                      <a:lnTo>
                        <a:pt x="826" y="74"/>
                      </a:lnTo>
                      <a:lnTo>
                        <a:pt x="832" y="77"/>
                      </a:lnTo>
                      <a:lnTo>
                        <a:pt x="842" y="77"/>
                      </a:lnTo>
                      <a:lnTo>
                        <a:pt x="852" y="77"/>
                      </a:lnTo>
                      <a:lnTo>
                        <a:pt x="861" y="77"/>
                      </a:lnTo>
                      <a:lnTo>
                        <a:pt x="871" y="77"/>
                      </a:lnTo>
                      <a:lnTo>
                        <a:pt x="880" y="77"/>
                      </a:lnTo>
                      <a:lnTo>
                        <a:pt x="887" y="77"/>
                      </a:lnTo>
                      <a:lnTo>
                        <a:pt x="896" y="80"/>
                      </a:lnTo>
                      <a:lnTo>
                        <a:pt x="906" y="80"/>
                      </a:lnTo>
                      <a:lnTo>
                        <a:pt x="915" y="80"/>
                      </a:lnTo>
                      <a:lnTo>
                        <a:pt x="925" y="80"/>
                      </a:lnTo>
                      <a:lnTo>
                        <a:pt x="934" y="80"/>
                      </a:lnTo>
                      <a:lnTo>
                        <a:pt x="944" y="80"/>
                      </a:lnTo>
                      <a:lnTo>
                        <a:pt x="950" y="80"/>
                      </a:lnTo>
                      <a:lnTo>
                        <a:pt x="963" y="83"/>
                      </a:lnTo>
                      <a:lnTo>
                        <a:pt x="973" y="83"/>
                      </a:lnTo>
                      <a:lnTo>
                        <a:pt x="982" y="83"/>
                      </a:lnTo>
                      <a:lnTo>
                        <a:pt x="992" y="83"/>
                      </a:lnTo>
                      <a:lnTo>
                        <a:pt x="1001" y="83"/>
                      </a:lnTo>
                      <a:lnTo>
                        <a:pt x="1011" y="83"/>
                      </a:lnTo>
                      <a:lnTo>
                        <a:pt x="1021" y="86"/>
                      </a:lnTo>
                      <a:lnTo>
                        <a:pt x="1033" y="86"/>
                      </a:lnTo>
                      <a:lnTo>
                        <a:pt x="1043" y="86"/>
                      </a:lnTo>
                      <a:lnTo>
                        <a:pt x="1052" y="86"/>
                      </a:lnTo>
                      <a:lnTo>
                        <a:pt x="1062" y="86"/>
                      </a:lnTo>
                      <a:lnTo>
                        <a:pt x="1072" y="86"/>
                      </a:lnTo>
                      <a:lnTo>
                        <a:pt x="1081" y="89"/>
                      </a:lnTo>
                      <a:lnTo>
                        <a:pt x="1094" y="89"/>
                      </a:lnTo>
                      <a:lnTo>
                        <a:pt x="1103" y="89"/>
                      </a:lnTo>
                      <a:lnTo>
                        <a:pt x="1113" y="89"/>
                      </a:lnTo>
                      <a:lnTo>
                        <a:pt x="1123" y="89"/>
                      </a:lnTo>
                      <a:lnTo>
                        <a:pt x="1132" y="89"/>
                      </a:lnTo>
                      <a:lnTo>
                        <a:pt x="1142" y="89"/>
                      </a:lnTo>
                      <a:lnTo>
                        <a:pt x="1154" y="93"/>
                      </a:lnTo>
                      <a:lnTo>
                        <a:pt x="1164" y="93"/>
                      </a:lnTo>
                      <a:lnTo>
                        <a:pt x="1174" y="93"/>
                      </a:lnTo>
                      <a:lnTo>
                        <a:pt x="1183" y="93"/>
                      </a:lnTo>
                      <a:lnTo>
                        <a:pt x="1193" y="93"/>
                      </a:lnTo>
                      <a:lnTo>
                        <a:pt x="1202" y="96"/>
                      </a:lnTo>
                      <a:lnTo>
                        <a:pt x="1215" y="96"/>
                      </a:lnTo>
                      <a:lnTo>
                        <a:pt x="1225" y="96"/>
                      </a:lnTo>
                      <a:lnTo>
                        <a:pt x="1234" y="96"/>
                      </a:lnTo>
                      <a:lnTo>
                        <a:pt x="1244" y="96"/>
                      </a:lnTo>
                      <a:lnTo>
                        <a:pt x="1253" y="96"/>
                      </a:lnTo>
                      <a:lnTo>
                        <a:pt x="1263" y="99"/>
                      </a:lnTo>
                      <a:lnTo>
                        <a:pt x="1276" y="99"/>
                      </a:lnTo>
                      <a:lnTo>
                        <a:pt x="1282" y="99"/>
                      </a:lnTo>
                      <a:lnTo>
                        <a:pt x="1291" y="99"/>
                      </a:lnTo>
                      <a:lnTo>
                        <a:pt x="1298" y="99"/>
                      </a:lnTo>
                      <a:lnTo>
                        <a:pt x="1307" y="99"/>
                      </a:lnTo>
                      <a:lnTo>
                        <a:pt x="1317" y="99"/>
                      </a:lnTo>
                      <a:lnTo>
                        <a:pt x="1323" y="102"/>
                      </a:lnTo>
                      <a:lnTo>
                        <a:pt x="1333" y="102"/>
                      </a:lnTo>
                      <a:lnTo>
                        <a:pt x="1339" y="102"/>
                      </a:lnTo>
                      <a:lnTo>
                        <a:pt x="1349" y="102"/>
                      </a:lnTo>
                      <a:lnTo>
                        <a:pt x="1355" y="102"/>
                      </a:lnTo>
                      <a:lnTo>
                        <a:pt x="1365" y="102"/>
                      </a:lnTo>
                      <a:lnTo>
                        <a:pt x="1374" y="102"/>
                      </a:lnTo>
                      <a:lnTo>
                        <a:pt x="1381" y="105"/>
                      </a:lnTo>
                      <a:lnTo>
                        <a:pt x="1390" y="105"/>
                      </a:lnTo>
                      <a:lnTo>
                        <a:pt x="1397" y="105"/>
                      </a:lnTo>
                      <a:lnTo>
                        <a:pt x="1406" y="105"/>
                      </a:lnTo>
                      <a:lnTo>
                        <a:pt x="1416" y="105"/>
                      </a:lnTo>
                      <a:lnTo>
                        <a:pt x="1422" y="105"/>
                      </a:lnTo>
                      <a:lnTo>
                        <a:pt x="1432" y="109"/>
                      </a:lnTo>
                      <a:lnTo>
                        <a:pt x="1438" y="109"/>
                      </a:lnTo>
                      <a:lnTo>
                        <a:pt x="1448" y="109"/>
                      </a:lnTo>
                      <a:lnTo>
                        <a:pt x="1454" y="109"/>
                      </a:lnTo>
                      <a:lnTo>
                        <a:pt x="1464" y="109"/>
                      </a:lnTo>
                      <a:lnTo>
                        <a:pt x="1473" y="109"/>
                      </a:lnTo>
                      <a:lnTo>
                        <a:pt x="1480" y="109"/>
                      </a:lnTo>
                      <a:lnTo>
                        <a:pt x="1489" y="112"/>
                      </a:lnTo>
                      <a:lnTo>
                        <a:pt x="1496" y="112"/>
                      </a:lnTo>
                      <a:lnTo>
                        <a:pt x="1505" y="112"/>
                      </a:lnTo>
                      <a:lnTo>
                        <a:pt x="1515" y="112"/>
                      </a:lnTo>
                      <a:lnTo>
                        <a:pt x="1521" y="112"/>
                      </a:lnTo>
                      <a:lnTo>
                        <a:pt x="1531" y="112"/>
                      </a:lnTo>
                      <a:lnTo>
                        <a:pt x="1537" y="115"/>
                      </a:lnTo>
                      <a:lnTo>
                        <a:pt x="1547" y="115"/>
                      </a:lnTo>
                      <a:lnTo>
                        <a:pt x="1553" y="115"/>
                      </a:lnTo>
                      <a:lnTo>
                        <a:pt x="1562" y="115"/>
                      </a:lnTo>
                      <a:lnTo>
                        <a:pt x="1569" y="115"/>
                      </a:lnTo>
                      <a:lnTo>
                        <a:pt x="1578" y="115"/>
                      </a:lnTo>
                      <a:lnTo>
                        <a:pt x="1585" y="118"/>
                      </a:lnTo>
                      <a:lnTo>
                        <a:pt x="1591" y="118"/>
                      </a:lnTo>
                      <a:lnTo>
                        <a:pt x="1601" y="118"/>
                      </a:lnTo>
                      <a:lnTo>
                        <a:pt x="1607" y="118"/>
                      </a:lnTo>
                      <a:lnTo>
                        <a:pt x="1617" y="118"/>
                      </a:lnTo>
                      <a:lnTo>
                        <a:pt x="1623" y="121"/>
                      </a:lnTo>
                      <a:lnTo>
                        <a:pt x="1633" y="121"/>
                      </a:lnTo>
                      <a:lnTo>
                        <a:pt x="1639" y="121"/>
                      </a:lnTo>
                      <a:lnTo>
                        <a:pt x="1649" y="121"/>
                      </a:lnTo>
                      <a:lnTo>
                        <a:pt x="1655" y="121"/>
                      </a:lnTo>
                      <a:lnTo>
                        <a:pt x="1664" y="121"/>
                      </a:lnTo>
                      <a:lnTo>
                        <a:pt x="1674" y="121"/>
                      </a:lnTo>
                      <a:lnTo>
                        <a:pt x="1684" y="121"/>
                      </a:lnTo>
                      <a:lnTo>
                        <a:pt x="1696" y="121"/>
                      </a:lnTo>
                      <a:lnTo>
                        <a:pt x="1706" y="121"/>
                      </a:lnTo>
                      <a:lnTo>
                        <a:pt x="1715" y="121"/>
                      </a:lnTo>
                      <a:lnTo>
                        <a:pt x="1728" y="121"/>
                      </a:lnTo>
                      <a:lnTo>
                        <a:pt x="1738" y="121"/>
                      </a:lnTo>
                      <a:lnTo>
                        <a:pt x="1747" y="121"/>
                      </a:lnTo>
                      <a:lnTo>
                        <a:pt x="1760" y="121"/>
                      </a:lnTo>
                      <a:lnTo>
                        <a:pt x="1770" y="121"/>
                      </a:lnTo>
                      <a:lnTo>
                        <a:pt x="1779" y="121"/>
                      </a:lnTo>
                      <a:lnTo>
                        <a:pt x="1792" y="121"/>
                      </a:lnTo>
                      <a:lnTo>
                        <a:pt x="1802" y="121"/>
                      </a:lnTo>
                      <a:lnTo>
                        <a:pt x="1811" y="121"/>
                      </a:lnTo>
                      <a:lnTo>
                        <a:pt x="1824" y="121"/>
                      </a:lnTo>
                      <a:lnTo>
                        <a:pt x="1833" y="121"/>
                      </a:lnTo>
                      <a:lnTo>
                        <a:pt x="1843" y="121"/>
                      </a:lnTo>
                      <a:lnTo>
                        <a:pt x="1856" y="121"/>
                      </a:lnTo>
                      <a:lnTo>
                        <a:pt x="1865" y="121"/>
                      </a:lnTo>
                      <a:lnTo>
                        <a:pt x="1875" y="118"/>
                      </a:lnTo>
                      <a:lnTo>
                        <a:pt x="1888" y="118"/>
                      </a:lnTo>
                      <a:lnTo>
                        <a:pt x="1897" y="118"/>
                      </a:lnTo>
                      <a:lnTo>
                        <a:pt x="1907" y="118"/>
                      </a:lnTo>
                      <a:lnTo>
                        <a:pt x="1919" y="118"/>
                      </a:lnTo>
                      <a:lnTo>
                        <a:pt x="1929" y="118"/>
                      </a:lnTo>
                      <a:lnTo>
                        <a:pt x="1939" y="115"/>
                      </a:lnTo>
                      <a:lnTo>
                        <a:pt x="1951" y="115"/>
                      </a:lnTo>
                      <a:lnTo>
                        <a:pt x="1961" y="115"/>
                      </a:lnTo>
                      <a:lnTo>
                        <a:pt x="1971" y="115"/>
                      </a:lnTo>
                      <a:lnTo>
                        <a:pt x="1983" y="115"/>
                      </a:lnTo>
                      <a:lnTo>
                        <a:pt x="1993" y="112"/>
                      </a:lnTo>
                      <a:lnTo>
                        <a:pt x="2002" y="112"/>
                      </a:lnTo>
                      <a:lnTo>
                        <a:pt x="2009" y="112"/>
                      </a:lnTo>
                      <a:lnTo>
                        <a:pt x="2015" y="112"/>
                      </a:lnTo>
                      <a:lnTo>
                        <a:pt x="2022" y="109"/>
                      </a:lnTo>
                      <a:lnTo>
                        <a:pt x="2025" y="109"/>
                      </a:lnTo>
                      <a:lnTo>
                        <a:pt x="2031" y="109"/>
                      </a:lnTo>
                      <a:lnTo>
                        <a:pt x="2037" y="109"/>
                      </a:lnTo>
                      <a:lnTo>
                        <a:pt x="2044" y="105"/>
                      </a:lnTo>
                      <a:lnTo>
                        <a:pt x="2050" y="105"/>
                      </a:lnTo>
                      <a:lnTo>
                        <a:pt x="2053" y="105"/>
                      </a:lnTo>
                      <a:lnTo>
                        <a:pt x="2060" y="105"/>
                      </a:lnTo>
                      <a:lnTo>
                        <a:pt x="2066" y="102"/>
                      </a:lnTo>
                      <a:lnTo>
                        <a:pt x="2073" y="102"/>
                      </a:lnTo>
                      <a:lnTo>
                        <a:pt x="2076" y="99"/>
                      </a:lnTo>
                      <a:lnTo>
                        <a:pt x="2082" y="99"/>
                      </a:lnTo>
                      <a:lnTo>
                        <a:pt x="2088" y="99"/>
                      </a:lnTo>
                      <a:lnTo>
                        <a:pt x="2095" y="96"/>
                      </a:lnTo>
                      <a:lnTo>
                        <a:pt x="2101" y="93"/>
                      </a:lnTo>
                      <a:lnTo>
                        <a:pt x="2111" y="89"/>
                      </a:lnTo>
                      <a:lnTo>
                        <a:pt x="2117" y="89"/>
                      </a:lnTo>
                      <a:lnTo>
                        <a:pt x="2127" y="86"/>
                      </a:lnTo>
                      <a:lnTo>
                        <a:pt x="2133" y="83"/>
                      </a:lnTo>
                      <a:lnTo>
                        <a:pt x="2143" y="80"/>
                      </a:lnTo>
                      <a:lnTo>
                        <a:pt x="2149" y="80"/>
                      </a:lnTo>
                      <a:lnTo>
                        <a:pt x="2159" y="77"/>
                      </a:lnTo>
                      <a:lnTo>
                        <a:pt x="2165" y="74"/>
                      </a:lnTo>
                      <a:lnTo>
                        <a:pt x="2175" y="70"/>
                      </a:lnTo>
                      <a:lnTo>
                        <a:pt x="2181" y="70"/>
                      </a:lnTo>
                      <a:lnTo>
                        <a:pt x="2190" y="67"/>
                      </a:lnTo>
                      <a:lnTo>
                        <a:pt x="2197" y="64"/>
                      </a:lnTo>
                      <a:lnTo>
                        <a:pt x="2206" y="61"/>
                      </a:lnTo>
                      <a:lnTo>
                        <a:pt x="2213" y="58"/>
                      </a:lnTo>
                      <a:lnTo>
                        <a:pt x="2222" y="58"/>
                      </a:lnTo>
                      <a:lnTo>
                        <a:pt x="2229" y="54"/>
                      </a:lnTo>
                      <a:lnTo>
                        <a:pt x="2238" y="51"/>
                      </a:lnTo>
                      <a:lnTo>
                        <a:pt x="2245" y="48"/>
                      </a:lnTo>
                      <a:lnTo>
                        <a:pt x="2254" y="45"/>
                      </a:lnTo>
                      <a:lnTo>
                        <a:pt x="2261" y="45"/>
                      </a:lnTo>
                      <a:lnTo>
                        <a:pt x="2270" y="42"/>
                      </a:lnTo>
                      <a:lnTo>
                        <a:pt x="2277" y="38"/>
                      </a:lnTo>
                      <a:lnTo>
                        <a:pt x="2286" y="35"/>
                      </a:lnTo>
                      <a:lnTo>
                        <a:pt x="2292" y="32"/>
                      </a:lnTo>
                      <a:lnTo>
                        <a:pt x="2299" y="29"/>
                      </a:lnTo>
                      <a:lnTo>
                        <a:pt x="2308" y="26"/>
                      </a:lnTo>
                      <a:lnTo>
                        <a:pt x="2315" y="26"/>
                      </a:lnTo>
                      <a:lnTo>
                        <a:pt x="2324" y="23"/>
                      </a:lnTo>
                      <a:lnTo>
                        <a:pt x="2331" y="19"/>
                      </a:lnTo>
                      <a:lnTo>
                        <a:pt x="2340" y="16"/>
                      </a:lnTo>
                      <a:lnTo>
                        <a:pt x="2347" y="13"/>
                      </a:lnTo>
                      <a:lnTo>
                        <a:pt x="2353" y="13"/>
                      </a:lnTo>
                      <a:lnTo>
                        <a:pt x="2356" y="10"/>
                      </a:lnTo>
                      <a:lnTo>
                        <a:pt x="2363" y="7"/>
                      </a:lnTo>
                      <a:lnTo>
                        <a:pt x="2366" y="7"/>
                      </a:lnTo>
                      <a:lnTo>
                        <a:pt x="2372" y="3"/>
                      </a:lnTo>
                      <a:lnTo>
                        <a:pt x="2375" y="3"/>
                      </a:lnTo>
                      <a:lnTo>
                        <a:pt x="2382" y="0"/>
                      </a:lnTo>
                      <a:lnTo>
                        <a:pt x="238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b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090840" y="3542400"/>
                  <a:ext cx="2089080" cy="7920"/>
                </a:xfrm>
                <a:custGeom>
                  <a:avLst/>
                  <a:gdLst/>
                  <a:ahLst/>
                  <a:rect l="l" t="t" r="r" b="b"/>
                  <a:pathLst>
                    <a:path w="2451" h="9">
                      <a:moveTo>
                        <a:pt x="44" y="9"/>
                      </a:moveTo>
                      <a:lnTo>
                        <a:pt x="38" y="6"/>
                      </a:lnTo>
                      <a:lnTo>
                        <a:pt x="32" y="6"/>
                      </a:lnTo>
                      <a:lnTo>
                        <a:pt x="28" y="6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9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2451" y="0"/>
                      </a:lnTo>
                      <a:lnTo>
                        <a:pt x="2448" y="0"/>
                      </a:lnTo>
                      <a:lnTo>
                        <a:pt x="2445" y="3"/>
                      </a:lnTo>
                      <a:lnTo>
                        <a:pt x="2445" y="3"/>
                      </a:lnTo>
                      <a:lnTo>
                        <a:pt x="2442" y="3"/>
                      </a:lnTo>
                      <a:lnTo>
                        <a:pt x="2438" y="6"/>
                      </a:lnTo>
                      <a:lnTo>
                        <a:pt x="2435" y="6"/>
                      </a:lnTo>
                      <a:lnTo>
                        <a:pt x="2432" y="6"/>
                      </a:lnTo>
                      <a:lnTo>
                        <a:pt x="2429" y="9"/>
                      </a:lnTo>
                      <a:lnTo>
                        <a:pt x="44" y="9"/>
                      </a:lnTo>
                      <a:close/>
                    </a:path>
                  </a:pathLst>
                </a:custGeom>
                <a:solidFill>
                  <a:srgbClr val="70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055200" y="3533400"/>
                  <a:ext cx="2141280" cy="9000"/>
                </a:xfrm>
                <a:custGeom>
                  <a:avLst/>
                  <a:gdLst/>
                  <a:ahLst/>
                  <a:rect l="l" t="t" r="r" b="b"/>
                  <a:pathLst>
                    <a:path w="2512" h="10">
                      <a:moveTo>
                        <a:pt x="42" y="10"/>
                      </a:moveTo>
                      <a:lnTo>
                        <a:pt x="35" y="10"/>
                      </a:lnTo>
                      <a:lnTo>
                        <a:pt x="32" y="6"/>
                      </a:lnTo>
                      <a:lnTo>
                        <a:pt x="26" y="6"/>
                      </a:lnTo>
                      <a:lnTo>
                        <a:pt x="19" y="6"/>
                      </a:lnTo>
                      <a:lnTo>
                        <a:pt x="16" y="3"/>
                      </a:lnTo>
                      <a:lnTo>
                        <a:pt x="10" y="3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2512" y="0"/>
                      </a:lnTo>
                      <a:lnTo>
                        <a:pt x="2512" y="3"/>
                      </a:lnTo>
                      <a:lnTo>
                        <a:pt x="2509" y="3"/>
                      </a:lnTo>
                      <a:lnTo>
                        <a:pt x="2506" y="3"/>
                      </a:lnTo>
                      <a:lnTo>
                        <a:pt x="2503" y="6"/>
                      </a:lnTo>
                      <a:lnTo>
                        <a:pt x="2503" y="6"/>
                      </a:lnTo>
                      <a:lnTo>
                        <a:pt x="2500" y="6"/>
                      </a:lnTo>
                      <a:lnTo>
                        <a:pt x="2496" y="10"/>
                      </a:lnTo>
                      <a:lnTo>
                        <a:pt x="2493" y="10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70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22800" y="3528000"/>
                  <a:ext cx="2187000" cy="5040"/>
                </a:xfrm>
                <a:custGeom>
                  <a:avLst/>
                  <a:gdLst/>
                  <a:ahLst/>
                  <a:rect l="l" t="t" r="r" b="b"/>
                  <a:pathLst>
                    <a:path w="2566" h="6">
                      <a:moveTo>
                        <a:pt x="38" y="6"/>
                      </a:moveTo>
                      <a:lnTo>
                        <a:pt x="32" y="6"/>
                      </a:lnTo>
                      <a:lnTo>
                        <a:pt x="29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566" y="0"/>
                      </a:lnTo>
                      <a:lnTo>
                        <a:pt x="2566" y="0"/>
                      </a:lnTo>
                      <a:lnTo>
                        <a:pt x="2563" y="0"/>
                      </a:lnTo>
                      <a:lnTo>
                        <a:pt x="2563" y="3"/>
                      </a:lnTo>
                      <a:lnTo>
                        <a:pt x="2560" y="3"/>
                      </a:lnTo>
                      <a:lnTo>
                        <a:pt x="2557" y="3"/>
                      </a:lnTo>
                      <a:lnTo>
                        <a:pt x="2557" y="6"/>
                      </a:lnTo>
                      <a:lnTo>
                        <a:pt x="2554" y="6"/>
                      </a:lnTo>
                      <a:lnTo>
                        <a:pt x="2550" y="6"/>
                      </a:lnTo>
                      <a:lnTo>
                        <a:pt x="38" y="6"/>
                      </a:lnTo>
                      <a:close/>
                    </a:path>
                  </a:pathLst>
                </a:custGeom>
                <a:solidFill>
                  <a:srgbClr val="70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990400" y="3518640"/>
                  <a:ext cx="2233080" cy="9000"/>
                </a:xfrm>
                <a:custGeom>
                  <a:avLst/>
                  <a:gdLst/>
                  <a:ahLst/>
                  <a:rect l="l" t="t" r="r" b="b"/>
                  <a:pathLst>
                    <a:path w="2620" h="10">
                      <a:moveTo>
                        <a:pt x="38" y="10"/>
                      </a:moveTo>
                      <a:lnTo>
                        <a:pt x="32" y="6"/>
                      </a:lnTo>
                      <a:lnTo>
                        <a:pt x="29" y="6"/>
                      </a:lnTo>
                      <a:lnTo>
                        <a:pt x="22" y="6"/>
                      </a:lnTo>
                      <a:lnTo>
                        <a:pt x="19" y="3"/>
                      </a:lnTo>
                      <a:lnTo>
                        <a:pt x="13" y="3"/>
                      </a:lnTo>
                      <a:lnTo>
                        <a:pt x="9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620" y="0"/>
                      </a:lnTo>
                      <a:lnTo>
                        <a:pt x="2617" y="0"/>
                      </a:lnTo>
                      <a:lnTo>
                        <a:pt x="2617" y="3"/>
                      </a:lnTo>
                      <a:lnTo>
                        <a:pt x="2614" y="3"/>
                      </a:lnTo>
                      <a:lnTo>
                        <a:pt x="2614" y="3"/>
                      </a:lnTo>
                      <a:lnTo>
                        <a:pt x="2611" y="6"/>
                      </a:lnTo>
                      <a:lnTo>
                        <a:pt x="2607" y="6"/>
                      </a:lnTo>
                      <a:lnTo>
                        <a:pt x="2607" y="6"/>
                      </a:lnTo>
                      <a:lnTo>
                        <a:pt x="2604" y="10"/>
                      </a:lnTo>
                      <a:lnTo>
                        <a:pt x="38" y="10"/>
                      </a:lnTo>
                      <a:close/>
                    </a:path>
                  </a:pathLst>
                </a:custGeom>
                <a:solidFill>
                  <a:srgbClr val="7378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960520" y="3510720"/>
                  <a:ext cx="2271240" cy="7920"/>
                </a:xfrm>
                <a:custGeom>
                  <a:avLst/>
                  <a:gdLst/>
                  <a:ahLst/>
                  <a:rect l="l" t="t" r="r" b="b"/>
                  <a:pathLst>
                    <a:path w="2665" h="9">
                      <a:moveTo>
                        <a:pt x="35" y="9"/>
                      </a:moveTo>
                      <a:lnTo>
                        <a:pt x="32" y="9"/>
                      </a:lnTo>
                      <a:lnTo>
                        <a:pt x="25" y="6"/>
                      </a:lnTo>
                      <a:lnTo>
                        <a:pt x="22" y="6"/>
                      </a:ln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665" y="0"/>
                      </a:lnTo>
                      <a:lnTo>
                        <a:pt x="2665" y="3"/>
                      </a:lnTo>
                      <a:lnTo>
                        <a:pt x="2665" y="3"/>
                      </a:lnTo>
                      <a:lnTo>
                        <a:pt x="2662" y="3"/>
                      </a:lnTo>
                      <a:lnTo>
                        <a:pt x="2662" y="6"/>
                      </a:lnTo>
                      <a:lnTo>
                        <a:pt x="2658" y="6"/>
                      </a:lnTo>
                      <a:lnTo>
                        <a:pt x="2658" y="6"/>
                      </a:lnTo>
                      <a:lnTo>
                        <a:pt x="2658" y="9"/>
                      </a:lnTo>
                      <a:lnTo>
                        <a:pt x="2655" y="9"/>
                      </a:lnTo>
                      <a:lnTo>
                        <a:pt x="35" y="9"/>
                      </a:lnTo>
                      <a:close/>
                    </a:path>
                  </a:pathLst>
                </a:custGeom>
                <a:solidFill>
                  <a:srgbClr val="75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930640" y="3501720"/>
                  <a:ext cx="2303640" cy="9000"/>
                </a:xfrm>
                <a:custGeom>
                  <a:avLst/>
                  <a:gdLst/>
                  <a:ahLst/>
                  <a:rect l="l" t="t" r="r" b="b"/>
                  <a:pathLst>
                    <a:path w="2703" h="10">
                      <a:moveTo>
                        <a:pt x="35" y="10"/>
                      </a:moveTo>
                      <a:lnTo>
                        <a:pt x="28" y="10"/>
                      </a:lnTo>
                      <a:lnTo>
                        <a:pt x="25" y="6"/>
                      </a:lnTo>
                      <a:lnTo>
                        <a:pt x="22" y="6"/>
                      </a:lnTo>
                      <a:lnTo>
                        <a:pt x="16" y="6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703" y="0"/>
                      </a:lnTo>
                      <a:lnTo>
                        <a:pt x="2703" y="3"/>
                      </a:lnTo>
                      <a:lnTo>
                        <a:pt x="2703" y="6"/>
                      </a:lnTo>
                      <a:lnTo>
                        <a:pt x="2703" y="6"/>
                      </a:lnTo>
                      <a:lnTo>
                        <a:pt x="2700" y="10"/>
                      </a:lnTo>
                      <a:lnTo>
                        <a:pt x="35" y="10"/>
                      </a:lnTo>
                      <a:close/>
                    </a:path>
                  </a:pathLst>
                </a:custGeom>
                <a:solidFill>
                  <a:srgbClr val="75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903280" y="3496320"/>
                  <a:ext cx="2331000" cy="5400"/>
                </a:xfrm>
                <a:custGeom>
                  <a:avLst/>
                  <a:gdLst/>
                  <a:ahLst/>
                  <a:rect l="l" t="t" r="r" b="b"/>
                  <a:pathLst>
                    <a:path w="2735" h="6">
                      <a:moveTo>
                        <a:pt x="32" y="6"/>
                      </a:moveTo>
                      <a:lnTo>
                        <a:pt x="32" y="6"/>
                      </a:lnTo>
                      <a:lnTo>
                        <a:pt x="29" y="6"/>
                      </a:lnTo>
                      <a:lnTo>
                        <a:pt x="29" y="6"/>
                      </a:lnTo>
                      <a:lnTo>
                        <a:pt x="25" y="6"/>
                      </a:lnTo>
                      <a:lnTo>
                        <a:pt x="25" y="6"/>
                      </a:lnTo>
                      <a:lnTo>
                        <a:pt x="22" y="6"/>
                      </a:lnTo>
                      <a:lnTo>
                        <a:pt x="19" y="3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732" y="0"/>
                      </a:lnTo>
                      <a:lnTo>
                        <a:pt x="2732" y="0"/>
                      </a:lnTo>
                      <a:lnTo>
                        <a:pt x="2732" y="3"/>
                      </a:lnTo>
                      <a:lnTo>
                        <a:pt x="2735" y="6"/>
                      </a:lnTo>
                      <a:lnTo>
                        <a:pt x="2735" y="6"/>
                      </a:lnTo>
                      <a:lnTo>
                        <a:pt x="32" y="6"/>
                      </a:lnTo>
                      <a:close/>
                    </a:path>
                  </a:pathLst>
                </a:custGeom>
                <a:solidFill>
                  <a:srgbClr val="75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881320" y="3487320"/>
                  <a:ext cx="2350800" cy="9000"/>
                </a:xfrm>
                <a:custGeom>
                  <a:avLst/>
                  <a:gdLst/>
                  <a:ahLst/>
                  <a:rect l="l" t="t" r="r" b="b"/>
                  <a:pathLst>
                    <a:path w="2758" h="10">
                      <a:moveTo>
                        <a:pt x="26" y="10"/>
                      </a:moveTo>
                      <a:lnTo>
                        <a:pt x="23" y="6"/>
                      </a:lnTo>
                      <a:lnTo>
                        <a:pt x="19" y="6"/>
                      </a:lnTo>
                      <a:lnTo>
                        <a:pt x="16" y="6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751" y="0"/>
                      </a:lnTo>
                      <a:lnTo>
                        <a:pt x="2755" y="6"/>
                      </a:lnTo>
                      <a:lnTo>
                        <a:pt x="2755" y="6"/>
                      </a:lnTo>
                      <a:lnTo>
                        <a:pt x="2758" y="6"/>
                      </a:lnTo>
                      <a:lnTo>
                        <a:pt x="2758" y="6"/>
                      </a:lnTo>
                      <a:lnTo>
                        <a:pt x="2758" y="1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75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862600" y="3478320"/>
                  <a:ext cx="2363400" cy="9000"/>
                </a:xfrm>
                <a:custGeom>
                  <a:avLst/>
                  <a:gdLst/>
                  <a:ahLst/>
                  <a:rect l="l" t="t" r="r" b="b"/>
                  <a:pathLst>
                    <a:path w="2773" h="10">
                      <a:moveTo>
                        <a:pt x="22" y="10"/>
                      </a:moveTo>
                      <a:lnTo>
                        <a:pt x="19" y="10"/>
                      </a:lnTo>
                      <a:lnTo>
                        <a:pt x="16" y="7"/>
                      </a:lnTo>
                      <a:lnTo>
                        <a:pt x="13" y="7"/>
                      </a:lnTo>
                      <a:lnTo>
                        <a:pt x="10" y="7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2767" y="0"/>
                      </a:lnTo>
                      <a:lnTo>
                        <a:pt x="2773" y="10"/>
                      </a:lnTo>
                      <a:lnTo>
                        <a:pt x="22" y="10"/>
                      </a:lnTo>
                      <a:close/>
                    </a:path>
                  </a:pathLst>
                </a:custGeom>
                <a:solidFill>
                  <a:srgbClr val="7a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846400" y="3472920"/>
                  <a:ext cx="2374560" cy="5040"/>
                </a:xfrm>
                <a:custGeom>
                  <a:avLst/>
                  <a:gdLst/>
                  <a:ahLst/>
                  <a:rect l="l" t="t" r="r" b="b"/>
                  <a:pathLst>
                    <a:path w="2786" h="6">
                      <a:moveTo>
                        <a:pt x="19" y="6"/>
                      </a:moveTo>
                      <a:lnTo>
                        <a:pt x="16" y="6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780" y="0"/>
                      </a:lnTo>
                      <a:lnTo>
                        <a:pt x="2786" y="6"/>
                      </a:lnTo>
                      <a:lnTo>
                        <a:pt x="19" y="6"/>
                      </a:lnTo>
                      <a:close/>
                    </a:path>
                  </a:pathLst>
                </a:custGeom>
                <a:solidFill>
                  <a:srgbClr val="7d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32720" y="3464640"/>
                  <a:ext cx="2383200" cy="7920"/>
                </a:xfrm>
                <a:custGeom>
                  <a:avLst/>
                  <a:gdLst/>
                  <a:ahLst/>
                  <a:rect l="l" t="t" r="r" b="b"/>
                  <a:pathLst>
                    <a:path w="2796" h="9">
                      <a:moveTo>
                        <a:pt x="16" y="9"/>
                      </a:move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9" y="6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238" y="0"/>
                      </a:lnTo>
                      <a:lnTo>
                        <a:pt x="2241" y="0"/>
                      </a:lnTo>
                      <a:lnTo>
                        <a:pt x="2247" y="0"/>
                      </a:lnTo>
                      <a:lnTo>
                        <a:pt x="2251" y="0"/>
                      </a:lnTo>
                      <a:lnTo>
                        <a:pt x="2254" y="0"/>
                      </a:lnTo>
                      <a:lnTo>
                        <a:pt x="2260" y="3"/>
                      </a:lnTo>
                      <a:lnTo>
                        <a:pt x="2263" y="3"/>
                      </a:lnTo>
                      <a:lnTo>
                        <a:pt x="2270" y="3"/>
                      </a:lnTo>
                      <a:lnTo>
                        <a:pt x="2273" y="3"/>
                      </a:lnTo>
                      <a:lnTo>
                        <a:pt x="2276" y="3"/>
                      </a:lnTo>
                      <a:lnTo>
                        <a:pt x="2282" y="3"/>
                      </a:lnTo>
                      <a:lnTo>
                        <a:pt x="2286" y="3"/>
                      </a:lnTo>
                      <a:lnTo>
                        <a:pt x="2289" y="3"/>
                      </a:lnTo>
                      <a:lnTo>
                        <a:pt x="2295" y="3"/>
                      </a:lnTo>
                      <a:lnTo>
                        <a:pt x="2298" y="3"/>
                      </a:lnTo>
                      <a:lnTo>
                        <a:pt x="2305" y="3"/>
                      </a:lnTo>
                      <a:lnTo>
                        <a:pt x="2308" y="3"/>
                      </a:lnTo>
                      <a:lnTo>
                        <a:pt x="2311" y="3"/>
                      </a:lnTo>
                      <a:lnTo>
                        <a:pt x="2318" y="3"/>
                      </a:lnTo>
                      <a:lnTo>
                        <a:pt x="2321" y="3"/>
                      </a:lnTo>
                      <a:lnTo>
                        <a:pt x="2324" y="3"/>
                      </a:lnTo>
                      <a:lnTo>
                        <a:pt x="2327" y="3"/>
                      </a:lnTo>
                      <a:lnTo>
                        <a:pt x="2333" y="0"/>
                      </a:lnTo>
                      <a:lnTo>
                        <a:pt x="2337" y="0"/>
                      </a:lnTo>
                      <a:lnTo>
                        <a:pt x="2340" y="0"/>
                      </a:lnTo>
                      <a:lnTo>
                        <a:pt x="2789" y="0"/>
                      </a:lnTo>
                      <a:lnTo>
                        <a:pt x="2796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7d8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819040" y="3455640"/>
                  <a:ext cx="1920960" cy="9000"/>
                </a:xfrm>
                <a:custGeom>
                  <a:avLst/>
                  <a:gdLst/>
                  <a:ahLst/>
                  <a:rect l="l" t="t" r="r" b="b"/>
                  <a:pathLst>
                    <a:path w="2254" h="10">
                      <a:moveTo>
                        <a:pt x="16" y="10"/>
                      </a:moveTo>
                      <a:lnTo>
                        <a:pt x="13" y="10"/>
                      </a:lnTo>
                      <a:lnTo>
                        <a:pt x="13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158" y="0"/>
                      </a:lnTo>
                      <a:lnTo>
                        <a:pt x="2165" y="0"/>
                      </a:lnTo>
                      <a:lnTo>
                        <a:pt x="2171" y="0"/>
                      </a:lnTo>
                      <a:lnTo>
                        <a:pt x="2177" y="3"/>
                      </a:lnTo>
                      <a:lnTo>
                        <a:pt x="2184" y="3"/>
                      </a:lnTo>
                      <a:lnTo>
                        <a:pt x="2190" y="3"/>
                      </a:lnTo>
                      <a:lnTo>
                        <a:pt x="2196" y="3"/>
                      </a:lnTo>
                      <a:lnTo>
                        <a:pt x="2200" y="3"/>
                      </a:lnTo>
                      <a:lnTo>
                        <a:pt x="2206" y="3"/>
                      </a:lnTo>
                      <a:lnTo>
                        <a:pt x="2212" y="6"/>
                      </a:lnTo>
                      <a:lnTo>
                        <a:pt x="2219" y="6"/>
                      </a:lnTo>
                      <a:lnTo>
                        <a:pt x="2225" y="6"/>
                      </a:lnTo>
                      <a:lnTo>
                        <a:pt x="2231" y="6"/>
                      </a:lnTo>
                      <a:lnTo>
                        <a:pt x="2235" y="6"/>
                      </a:lnTo>
                      <a:lnTo>
                        <a:pt x="2241" y="10"/>
                      </a:lnTo>
                      <a:lnTo>
                        <a:pt x="2247" y="10"/>
                      </a:lnTo>
                      <a:lnTo>
                        <a:pt x="2254" y="10"/>
                      </a:lnTo>
                      <a:lnTo>
                        <a:pt x="16" y="10"/>
                      </a:lnTo>
                      <a:close/>
                    </a:path>
                  </a:pathLst>
                </a:custGeom>
                <a:solidFill>
                  <a:srgbClr val="7d8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827120" y="3455640"/>
                  <a:ext cx="382680" cy="9000"/>
                </a:xfrm>
                <a:custGeom>
                  <a:avLst/>
                  <a:gdLst/>
                  <a:ahLst/>
                  <a:rect l="l" t="t" r="r" b="b"/>
                  <a:pathLst>
                    <a:path w="449" h="10">
                      <a:moveTo>
                        <a:pt x="0" y="10"/>
                      </a:moveTo>
                      <a:lnTo>
                        <a:pt x="6" y="10"/>
                      </a:lnTo>
                      <a:lnTo>
                        <a:pt x="9" y="6"/>
                      </a:lnTo>
                      <a:lnTo>
                        <a:pt x="16" y="6"/>
                      </a:lnTo>
                      <a:lnTo>
                        <a:pt x="19" y="6"/>
                      </a:lnTo>
                      <a:lnTo>
                        <a:pt x="22" y="3"/>
                      </a:lnTo>
                      <a:lnTo>
                        <a:pt x="29" y="3"/>
                      </a:lnTo>
                      <a:lnTo>
                        <a:pt x="32" y="3"/>
                      </a:lnTo>
                      <a:lnTo>
                        <a:pt x="38" y="0"/>
                      </a:lnTo>
                      <a:lnTo>
                        <a:pt x="443" y="0"/>
                      </a:lnTo>
                      <a:lnTo>
                        <a:pt x="449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7d8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807880" y="3446640"/>
                  <a:ext cx="1850040" cy="9000"/>
                </a:xfrm>
                <a:custGeom>
                  <a:avLst/>
                  <a:gdLst/>
                  <a:ahLst/>
                  <a:rect l="l" t="t" r="r" b="b"/>
                  <a:pathLst>
                    <a:path w="2171" h="10">
                      <a:moveTo>
                        <a:pt x="13" y="10"/>
                      </a:moveTo>
                      <a:lnTo>
                        <a:pt x="13" y="10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2104" y="0"/>
                      </a:lnTo>
                      <a:lnTo>
                        <a:pt x="2111" y="4"/>
                      </a:lnTo>
                      <a:lnTo>
                        <a:pt x="2114" y="4"/>
                      </a:lnTo>
                      <a:lnTo>
                        <a:pt x="2117" y="4"/>
                      </a:lnTo>
                      <a:lnTo>
                        <a:pt x="2123" y="4"/>
                      </a:lnTo>
                      <a:lnTo>
                        <a:pt x="2127" y="4"/>
                      </a:lnTo>
                      <a:lnTo>
                        <a:pt x="2130" y="7"/>
                      </a:lnTo>
                      <a:lnTo>
                        <a:pt x="2136" y="7"/>
                      </a:lnTo>
                      <a:lnTo>
                        <a:pt x="2139" y="7"/>
                      </a:lnTo>
                      <a:lnTo>
                        <a:pt x="2142" y="7"/>
                      </a:lnTo>
                      <a:lnTo>
                        <a:pt x="2146" y="7"/>
                      </a:lnTo>
                      <a:lnTo>
                        <a:pt x="2152" y="7"/>
                      </a:lnTo>
                      <a:lnTo>
                        <a:pt x="2155" y="7"/>
                      </a:lnTo>
                      <a:lnTo>
                        <a:pt x="2158" y="10"/>
                      </a:lnTo>
                      <a:lnTo>
                        <a:pt x="2165" y="10"/>
                      </a:lnTo>
                      <a:lnTo>
                        <a:pt x="2168" y="10"/>
                      </a:lnTo>
                      <a:lnTo>
                        <a:pt x="2171" y="10"/>
                      </a:lnTo>
                      <a:lnTo>
                        <a:pt x="13" y="10"/>
                      </a:lnTo>
                      <a:close/>
                    </a:path>
                  </a:pathLst>
                </a:custGeom>
                <a:solidFill>
                  <a:srgbClr val="7f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859520" y="3446640"/>
                  <a:ext cx="344880" cy="9000"/>
                </a:xfrm>
                <a:custGeom>
                  <a:avLst/>
                  <a:gdLst/>
                  <a:ahLst/>
                  <a:rect l="l" t="t" r="r" b="b"/>
                  <a:pathLst>
                    <a:path w="405" h="10">
                      <a:moveTo>
                        <a:pt x="0" y="10"/>
                      </a:moveTo>
                      <a:lnTo>
                        <a:pt x="3" y="10"/>
                      </a:lnTo>
                      <a:lnTo>
                        <a:pt x="6" y="7"/>
                      </a:lnTo>
                      <a:lnTo>
                        <a:pt x="10" y="7"/>
                      </a:lnTo>
                      <a:lnTo>
                        <a:pt x="13" y="7"/>
                      </a:lnTo>
                      <a:lnTo>
                        <a:pt x="19" y="4"/>
                      </a:lnTo>
                      <a:lnTo>
                        <a:pt x="22" y="4"/>
                      </a:lnTo>
                      <a:lnTo>
                        <a:pt x="26" y="4"/>
                      </a:lnTo>
                      <a:lnTo>
                        <a:pt x="29" y="0"/>
                      </a:lnTo>
                      <a:lnTo>
                        <a:pt x="399" y="0"/>
                      </a:lnTo>
                      <a:lnTo>
                        <a:pt x="399" y="0"/>
                      </a:lnTo>
                      <a:lnTo>
                        <a:pt x="399" y="4"/>
                      </a:lnTo>
                      <a:lnTo>
                        <a:pt x="399" y="4"/>
                      </a:lnTo>
                      <a:lnTo>
                        <a:pt x="399" y="4"/>
                      </a:lnTo>
                      <a:lnTo>
                        <a:pt x="405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7f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796720" y="3441240"/>
                  <a:ext cx="1804320" cy="5400"/>
                </a:xfrm>
                <a:custGeom>
                  <a:avLst/>
                  <a:gdLst/>
                  <a:ahLst/>
                  <a:rect l="l" t="t" r="r" b="b"/>
                  <a:pathLst>
                    <a:path w="2117" h="6">
                      <a:moveTo>
                        <a:pt x="13" y="6"/>
                      </a:moveTo>
                      <a:lnTo>
                        <a:pt x="13" y="6"/>
                      </a:lnTo>
                      <a:lnTo>
                        <a:pt x="10" y="6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069" y="0"/>
                      </a:lnTo>
                      <a:lnTo>
                        <a:pt x="2069" y="0"/>
                      </a:lnTo>
                      <a:lnTo>
                        <a:pt x="2073" y="0"/>
                      </a:lnTo>
                      <a:lnTo>
                        <a:pt x="2076" y="0"/>
                      </a:lnTo>
                      <a:lnTo>
                        <a:pt x="2076" y="0"/>
                      </a:lnTo>
                      <a:lnTo>
                        <a:pt x="2079" y="0"/>
                      </a:lnTo>
                      <a:lnTo>
                        <a:pt x="2079" y="0"/>
                      </a:lnTo>
                      <a:lnTo>
                        <a:pt x="2082" y="0"/>
                      </a:lnTo>
                      <a:lnTo>
                        <a:pt x="2082" y="0"/>
                      </a:lnTo>
                      <a:lnTo>
                        <a:pt x="2089" y="3"/>
                      </a:lnTo>
                      <a:lnTo>
                        <a:pt x="2092" y="3"/>
                      </a:lnTo>
                      <a:lnTo>
                        <a:pt x="2098" y="3"/>
                      </a:lnTo>
                      <a:lnTo>
                        <a:pt x="2101" y="3"/>
                      </a:lnTo>
                      <a:lnTo>
                        <a:pt x="2104" y="6"/>
                      </a:lnTo>
                      <a:lnTo>
                        <a:pt x="2111" y="6"/>
                      </a:lnTo>
                      <a:lnTo>
                        <a:pt x="2114" y="6"/>
                      </a:lnTo>
                      <a:lnTo>
                        <a:pt x="2117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82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884360" y="3441240"/>
                  <a:ext cx="317520" cy="5400"/>
                </a:xfrm>
                <a:custGeom>
                  <a:avLst/>
                  <a:gdLst/>
                  <a:ahLst/>
                  <a:rect l="l" t="t" r="r" b="b"/>
                  <a:pathLst>
                    <a:path w="37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9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73" y="0"/>
                      </a:lnTo>
                      <a:lnTo>
                        <a:pt x="373" y="0"/>
                      </a:lnTo>
                      <a:lnTo>
                        <a:pt x="370" y="3"/>
                      </a:lnTo>
                      <a:lnTo>
                        <a:pt x="370" y="6"/>
                      </a:lnTo>
                      <a:lnTo>
                        <a:pt x="37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2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89160" y="3432240"/>
                  <a:ext cx="1770840" cy="9000"/>
                </a:xfrm>
                <a:custGeom>
                  <a:avLst/>
                  <a:gdLst/>
                  <a:ahLst/>
                  <a:rect l="l" t="t" r="r" b="b"/>
                  <a:pathLst>
                    <a:path w="2078" h="10">
                      <a:moveTo>
                        <a:pt x="9" y="10"/>
                      </a:move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005" y="0"/>
                      </a:lnTo>
                      <a:lnTo>
                        <a:pt x="2008" y="0"/>
                      </a:lnTo>
                      <a:lnTo>
                        <a:pt x="2015" y="0"/>
                      </a:lnTo>
                      <a:lnTo>
                        <a:pt x="2018" y="0"/>
                      </a:lnTo>
                      <a:lnTo>
                        <a:pt x="2021" y="4"/>
                      </a:lnTo>
                      <a:lnTo>
                        <a:pt x="2027" y="4"/>
                      </a:lnTo>
                      <a:lnTo>
                        <a:pt x="2031" y="4"/>
                      </a:lnTo>
                      <a:lnTo>
                        <a:pt x="2034" y="4"/>
                      </a:lnTo>
                      <a:lnTo>
                        <a:pt x="2040" y="4"/>
                      </a:lnTo>
                      <a:lnTo>
                        <a:pt x="2043" y="4"/>
                      </a:lnTo>
                      <a:lnTo>
                        <a:pt x="2050" y="7"/>
                      </a:lnTo>
                      <a:lnTo>
                        <a:pt x="2053" y="7"/>
                      </a:lnTo>
                      <a:lnTo>
                        <a:pt x="2059" y="7"/>
                      </a:lnTo>
                      <a:lnTo>
                        <a:pt x="2062" y="7"/>
                      </a:lnTo>
                      <a:lnTo>
                        <a:pt x="2069" y="7"/>
                      </a:lnTo>
                      <a:lnTo>
                        <a:pt x="2072" y="7"/>
                      </a:lnTo>
                      <a:lnTo>
                        <a:pt x="2078" y="10"/>
                      </a:lnTo>
                      <a:lnTo>
                        <a:pt x="9" y="10"/>
                      </a:lnTo>
                      <a:close/>
                    </a:path>
                  </a:pathLst>
                </a:custGeom>
                <a:solidFill>
                  <a:srgbClr val="82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908120" y="3432240"/>
                  <a:ext cx="293760" cy="9000"/>
                </a:xfrm>
                <a:custGeom>
                  <a:avLst/>
                  <a:gdLst/>
                  <a:ahLst/>
                  <a:rect l="l" t="t" r="r" b="b"/>
                  <a:pathLst>
                    <a:path w="345" h="10">
                      <a:moveTo>
                        <a:pt x="0" y="10"/>
                      </a:moveTo>
                      <a:lnTo>
                        <a:pt x="7" y="7"/>
                      </a:lnTo>
                      <a:lnTo>
                        <a:pt x="10" y="7"/>
                      </a:lnTo>
                      <a:lnTo>
                        <a:pt x="16" y="7"/>
                      </a:lnTo>
                      <a:lnTo>
                        <a:pt x="20" y="4"/>
                      </a:lnTo>
                      <a:lnTo>
                        <a:pt x="26" y="4"/>
                      </a:lnTo>
                      <a:lnTo>
                        <a:pt x="29" y="4"/>
                      </a:lnTo>
                      <a:lnTo>
                        <a:pt x="36" y="0"/>
                      </a:lnTo>
                      <a:lnTo>
                        <a:pt x="39" y="0"/>
                      </a:lnTo>
                      <a:lnTo>
                        <a:pt x="345" y="0"/>
                      </a:lnTo>
                      <a:lnTo>
                        <a:pt x="345" y="4"/>
                      </a:lnTo>
                      <a:lnTo>
                        <a:pt x="345" y="4"/>
                      </a:lnTo>
                      <a:lnTo>
                        <a:pt x="345" y="7"/>
                      </a:lnTo>
                      <a:lnTo>
                        <a:pt x="345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82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78000" y="3423960"/>
                  <a:ext cx="1720080" cy="7920"/>
                </a:xfrm>
                <a:custGeom>
                  <a:avLst/>
                  <a:gdLst/>
                  <a:ahLst/>
                  <a:rect l="l" t="t" r="r" b="b"/>
                  <a:pathLst>
                    <a:path w="2018" h="9">
                      <a:moveTo>
                        <a:pt x="13" y="9"/>
                      </a:moveTo>
                      <a:lnTo>
                        <a:pt x="10" y="9"/>
                      </a:lnTo>
                      <a:lnTo>
                        <a:pt x="10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980" y="0"/>
                      </a:lnTo>
                      <a:lnTo>
                        <a:pt x="1986" y="3"/>
                      </a:lnTo>
                      <a:lnTo>
                        <a:pt x="1989" y="3"/>
                      </a:lnTo>
                      <a:lnTo>
                        <a:pt x="1996" y="6"/>
                      </a:lnTo>
                      <a:lnTo>
                        <a:pt x="1999" y="6"/>
                      </a:lnTo>
                      <a:lnTo>
                        <a:pt x="2002" y="6"/>
                      </a:lnTo>
                      <a:lnTo>
                        <a:pt x="2009" y="9"/>
                      </a:lnTo>
                      <a:lnTo>
                        <a:pt x="2012" y="9"/>
                      </a:lnTo>
                      <a:lnTo>
                        <a:pt x="2018" y="9"/>
                      </a:lnTo>
                      <a:lnTo>
                        <a:pt x="13" y="9"/>
                      </a:lnTo>
                      <a:close/>
                    </a:path>
                  </a:pathLst>
                </a:custGeom>
                <a:solidFill>
                  <a:srgbClr val="82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941240" y="3423960"/>
                  <a:ext cx="263160" cy="7920"/>
                </a:xfrm>
                <a:custGeom>
                  <a:avLst/>
                  <a:gdLst/>
                  <a:ahLst/>
                  <a:rect l="l" t="t" r="r" b="b"/>
                  <a:pathLst>
                    <a:path w="309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3" y="9"/>
                      </a:lnTo>
                      <a:lnTo>
                        <a:pt x="6" y="9"/>
                      </a:lnTo>
                      <a:lnTo>
                        <a:pt x="12" y="6"/>
                      </a:lnTo>
                      <a:lnTo>
                        <a:pt x="19" y="6"/>
                      </a:lnTo>
                      <a:lnTo>
                        <a:pt x="25" y="6"/>
                      </a:lnTo>
                      <a:lnTo>
                        <a:pt x="28" y="3"/>
                      </a:lnTo>
                      <a:lnTo>
                        <a:pt x="35" y="3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309" y="0"/>
                      </a:lnTo>
                      <a:lnTo>
                        <a:pt x="309" y="3"/>
                      </a:lnTo>
                      <a:lnTo>
                        <a:pt x="309" y="6"/>
                      </a:lnTo>
                      <a:lnTo>
                        <a:pt x="309" y="6"/>
                      </a:lnTo>
                      <a:lnTo>
                        <a:pt x="306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82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70440" y="3418560"/>
                  <a:ext cx="1695240" cy="5040"/>
                </a:xfrm>
                <a:custGeom>
                  <a:avLst/>
                  <a:gdLst/>
                  <a:ahLst/>
                  <a:rect l="l" t="t" r="r" b="b"/>
                  <a:pathLst>
                    <a:path w="1989" h="6">
                      <a:moveTo>
                        <a:pt x="9" y="6"/>
                      </a:moveTo>
                      <a:lnTo>
                        <a:pt x="6" y="6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973" y="0"/>
                      </a:lnTo>
                      <a:lnTo>
                        <a:pt x="1976" y="0"/>
                      </a:lnTo>
                      <a:lnTo>
                        <a:pt x="1976" y="0"/>
                      </a:lnTo>
                      <a:lnTo>
                        <a:pt x="1979" y="3"/>
                      </a:lnTo>
                      <a:lnTo>
                        <a:pt x="1982" y="3"/>
                      </a:lnTo>
                      <a:lnTo>
                        <a:pt x="1982" y="3"/>
                      </a:lnTo>
                      <a:lnTo>
                        <a:pt x="1986" y="6"/>
                      </a:lnTo>
                      <a:lnTo>
                        <a:pt x="1989" y="6"/>
                      </a:lnTo>
                      <a:lnTo>
                        <a:pt x="1989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84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979040" y="3418560"/>
                  <a:ext cx="228240" cy="5040"/>
                </a:xfrm>
                <a:custGeom>
                  <a:avLst/>
                  <a:gdLst/>
                  <a:ahLst/>
                  <a:rect l="l" t="t" r="r" b="b"/>
                  <a:pathLst>
                    <a:path w="268" h="6">
                      <a:moveTo>
                        <a:pt x="0" y="6"/>
                      </a:moveTo>
                      <a:lnTo>
                        <a:pt x="7" y="6"/>
                      </a:lnTo>
                      <a:lnTo>
                        <a:pt x="10" y="6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23" y="3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5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68" y="3"/>
                      </a:lnTo>
                      <a:lnTo>
                        <a:pt x="265" y="6"/>
                      </a:lnTo>
                      <a:lnTo>
                        <a:pt x="265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4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761800" y="3409560"/>
                  <a:ext cx="1690200" cy="9000"/>
                </a:xfrm>
                <a:custGeom>
                  <a:avLst/>
                  <a:gdLst/>
                  <a:ahLst/>
                  <a:rect l="l" t="t" r="r" b="b"/>
                  <a:pathLst>
                    <a:path w="1983" h="10">
                      <a:moveTo>
                        <a:pt x="10" y="10"/>
                      </a:moveTo>
                      <a:lnTo>
                        <a:pt x="6" y="6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970" y="0"/>
                      </a:lnTo>
                      <a:lnTo>
                        <a:pt x="1970" y="0"/>
                      </a:lnTo>
                      <a:lnTo>
                        <a:pt x="1973" y="0"/>
                      </a:lnTo>
                      <a:lnTo>
                        <a:pt x="1973" y="3"/>
                      </a:lnTo>
                      <a:lnTo>
                        <a:pt x="1977" y="3"/>
                      </a:lnTo>
                      <a:lnTo>
                        <a:pt x="1977" y="6"/>
                      </a:lnTo>
                      <a:lnTo>
                        <a:pt x="1980" y="6"/>
                      </a:lnTo>
                      <a:lnTo>
                        <a:pt x="1980" y="6"/>
                      </a:lnTo>
                      <a:lnTo>
                        <a:pt x="1983" y="10"/>
                      </a:lnTo>
                      <a:lnTo>
                        <a:pt x="10" y="10"/>
                      </a:lnTo>
                      <a:close/>
                    </a:path>
                  </a:pathLst>
                </a:custGeom>
                <a:solidFill>
                  <a:srgbClr val="84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008560" y="3409560"/>
                  <a:ext cx="200880" cy="9000"/>
                </a:xfrm>
                <a:custGeom>
                  <a:avLst/>
                  <a:gdLst/>
                  <a:ahLst/>
                  <a:rect l="l" t="t" r="r" b="b"/>
                  <a:pathLst>
                    <a:path w="236" h="10">
                      <a:moveTo>
                        <a:pt x="0" y="10"/>
                      </a:move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13" y="6"/>
                      </a:lnTo>
                      <a:lnTo>
                        <a:pt x="16" y="3"/>
                      </a:lnTo>
                      <a:lnTo>
                        <a:pt x="20" y="3"/>
                      </a:lnTo>
                      <a:lnTo>
                        <a:pt x="26" y="0"/>
                      </a:lnTo>
                      <a:lnTo>
                        <a:pt x="29" y="0"/>
                      </a:lnTo>
                      <a:lnTo>
                        <a:pt x="32" y="0"/>
                      </a:lnTo>
                      <a:lnTo>
                        <a:pt x="236" y="0"/>
                      </a:lnTo>
                      <a:lnTo>
                        <a:pt x="233" y="0"/>
                      </a:lnTo>
                      <a:lnTo>
                        <a:pt x="233" y="3"/>
                      </a:lnTo>
                      <a:lnTo>
                        <a:pt x="233" y="6"/>
                      </a:lnTo>
                      <a:lnTo>
                        <a:pt x="233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84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753160" y="3400560"/>
                  <a:ext cx="1687680" cy="9000"/>
                </a:xfrm>
                <a:custGeom>
                  <a:avLst/>
                  <a:gdLst/>
                  <a:ahLst/>
                  <a:rect l="l" t="t" r="r" b="b"/>
                  <a:pathLst>
                    <a:path w="1980" h="10">
                      <a:moveTo>
                        <a:pt x="10" y="10"/>
                      </a:moveTo>
                      <a:lnTo>
                        <a:pt x="7" y="7"/>
                      </a:lnTo>
                      <a:lnTo>
                        <a:pt x="7" y="4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1971" y="0"/>
                      </a:lnTo>
                      <a:lnTo>
                        <a:pt x="1974" y="4"/>
                      </a:lnTo>
                      <a:lnTo>
                        <a:pt x="1974" y="4"/>
                      </a:lnTo>
                      <a:lnTo>
                        <a:pt x="1977" y="7"/>
                      </a:lnTo>
                      <a:lnTo>
                        <a:pt x="1980" y="10"/>
                      </a:lnTo>
                      <a:lnTo>
                        <a:pt x="10" y="10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036280" y="3400560"/>
                  <a:ext cx="173520" cy="9000"/>
                </a:xfrm>
                <a:custGeom>
                  <a:avLst/>
                  <a:gdLst/>
                  <a:ahLst/>
                  <a:rect l="l" t="t" r="r" b="b"/>
                  <a:pathLst>
                    <a:path w="204" h="10">
                      <a:moveTo>
                        <a:pt x="0" y="10"/>
                      </a:move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10" y="7"/>
                      </a:lnTo>
                      <a:lnTo>
                        <a:pt x="13" y="4"/>
                      </a:lnTo>
                      <a:lnTo>
                        <a:pt x="19" y="4"/>
                      </a:lnTo>
                      <a:lnTo>
                        <a:pt x="23" y="4"/>
                      </a:lnTo>
                      <a:lnTo>
                        <a:pt x="26" y="0"/>
                      </a:lnTo>
                      <a:lnTo>
                        <a:pt x="29" y="0"/>
                      </a:lnTo>
                      <a:lnTo>
                        <a:pt x="204" y="0"/>
                      </a:lnTo>
                      <a:lnTo>
                        <a:pt x="204" y="4"/>
                      </a:lnTo>
                      <a:lnTo>
                        <a:pt x="204" y="4"/>
                      </a:lnTo>
                      <a:lnTo>
                        <a:pt x="204" y="7"/>
                      </a:lnTo>
                      <a:lnTo>
                        <a:pt x="20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748480" y="3392280"/>
                  <a:ext cx="1684800" cy="7920"/>
                </a:xfrm>
                <a:custGeom>
                  <a:avLst/>
                  <a:gdLst/>
                  <a:ahLst/>
                  <a:rect l="l" t="t" r="r" b="b"/>
                  <a:pathLst>
                    <a:path w="1977" h="9">
                      <a:moveTo>
                        <a:pt x="6" y="9"/>
                      </a:move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1967" y="0"/>
                      </a:lnTo>
                      <a:lnTo>
                        <a:pt x="1970" y="3"/>
                      </a:lnTo>
                      <a:lnTo>
                        <a:pt x="1973" y="6"/>
                      </a:lnTo>
                      <a:lnTo>
                        <a:pt x="1973" y="6"/>
                      </a:lnTo>
                      <a:lnTo>
                        <a:pt x="1977" y="9"/>
                      </a:lnTo>
                      <a:lnTo>
                        <a:pt x="6" y="9"/>
                      </a:lnTo>
                      <a:close/>
                    </a:path>
                  </a:pathLst>
                </a:custGeom>
                <a:solidFill>
                  <a:srgbClr val="8a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060760" y="3392280"/>
                  <a:ext cx="151560" cy="7920"/>
                </a:xfrm>
                <a:custGeom>
                  <a:avLst/>
                  <a:gdLst/>
                  <a:ahLst/>
                  <a:rect l="l" t="t" r="r" b="b"/>
                  <a:pathLst>
                    <a:path w="178" h="9">
                      <a:moveTo>
                        <a:pt x="0" y="9"/>
                      </a:moveTo>
                      <a:lnTo>
                        <a:pt x="3" y="9"/>
                      </a:lnTo>
                      <a:lnTo>
                        <a:pt x="6" y="6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6" y="3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5" y="0"/>
                      </a:lnTo>
                      <a:lnTo>
                        <a:pt x="178" y="0"/>
                      </a:lnTo>
                      <a:lnTo>
                        <a:pt x="178" y="3"/>
                      </a:lnTo>
                      <a:lnTo>
                        <a:pt x="178" y="6"/>
                      </a:lnTo>
                      <a:lnTo>
                        <a:pt x="178" y="6"/>
                      </a:lnTo>
                      <a:lnTo>
                        <a:pt x="175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8a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743080" y="3386160"/>
                  <a:ext cx="1681560" cy="6120"/>
                </a:xfrm>
                <a:custGeom>
                  <a:avLst/>
                  <a:gdLst/>
                  <a:ahLst/>
                  <a:rect l="l" t="t" r="r" b="b"/>
                  <a:pathLst>
                    <a:path w="1973" h="7">
                      <a:moveTo>
                        <a:pt x="6" y="7"/>
                      </a:moveTo>
                      <a:lnTo>
                        <a:pt x="3" y="7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967" y="0"/>
                      </a:lnTo>
                      <a:lnTo>
                        <a:pt x="1970" y="0"/>
                      </a:lnTo>
                      <a:lnTo>
                        <a:pt x="1970" y="4"/>
                      </a:lnTo>
                      <a:lnTo>
                        <a:pt x="1973" y="7"/>
                      </a:lnTo>
                      <a:lnTo>
                        <a:pt x="1973" y="7"/>
                      </a:lnTo>
                      <a:lnTo>
                        <a:pt x="6" y="7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082000" y="3386160"/>
                  <a:ext cx="133560" cy="6120"/>
                </a:xfrm>
                <a:custGeom>
                  <a:avLst/>
                  <a:gdLst/>
                  <a:ahLst/>
                  <a:rect l="l" t="t" r="r" b="b"/>
                  <a:pathLst>
                    <a:path w="157" h="7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3" y="4"/>
                      </a:lnTo>
                      <a:lnTo>
                        <a:pt x="16" y="4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157" y="0"/>
                      </a:lnTo>
                      <a:lnTo>
                        <a:pt x="157" y="0"/>
                      </a:lnTo>
                      <a:lnTo>
                        <a:pt x="153" y="4"/>
                      </a:lnTo>
                      <a:lnTo>
                        <a:pt x="153" y="7"/>
                      </a:lnTo>
                      <a:lnTo>
                        <a:pt x="15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737320" y="3377880"/>
                  <a:ext cx="1682280" cy="7920"/>
                </a:xfrm>
                <a:custGeom>
                  <a:avLst/>
                  <a:gdLst/>
                  <a:ahLst/>
                  <a:rect l="l" t="t" r="r" b="b"/>
                  <a:pathLst>
                    <a:path w="1974" h="9">
                      <a:moveTo>
                        <a:pt x="7" y="9"/>
                      </a:move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1967" y="0"/>
                      </a:lnTo>
                      <a:lnTo>
                        <a:pt x="1970" y="3"/>
                      </a:lnTo>
                      <a:lnTo>
                        <a:pt x="1970" y="3"/>
                      </a:lnTo>
                      <a:lnTo>
                        <a:pt x="1974" y="6"/>
                      </a:lnTo>
                      <a:lnTo>
                        <a:pt x="1974" y="6"/>
                      </a:lnTo>
                      <a:lnTo>
                        <a:pt x="1974" y="6"/>
                      </a:lnTo>
                      <a:lnTo>
                        <a:pt x="1974" y="6"/>
                      </a:lnTo>
                      <a:lnTo>
                        <a:pt x="1974" y="9"/>
                      </a:lnTo>
                      <a:lnTo>
                        <a:pt x="1974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104320" y="3377880"/>
                  <a:ext cx="111600" cy="7920"/>
                </a:xfrm>
                <a:custGeom>
                  <a:avLst/>
                  <a:gdLst/>
                  <a:ahLst/>
                  <a:rect l="l" t="t" r="r" b="b"/>
                  <a:pathLst>
                    <a:path w="131" h="9">
                      <a:moveTo>
                        <a:pt x="0" y="9"/>
                      </a:move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131" y="0"/>
                      </a:lnTo>
                      <a:lnTo>
                        <a:pt x="131" y="3"/>
                      </a:lnTo>
                      <a:lnTo>
                        <a:pt x="131" y="3"/>
                      </a:lnTo>
                      <a:lnTo>
                        <a:pt x="131" y="6"/>
                      </a:lnTo>
                      <a:lnTo>
                        <a:pt x="131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731920" y="3368880"/>
                  <a:ext cx="1681560" cy="9000"/>
                </a:xfrm>
                <a:custGeom>
                  <a:avLst/>
                  <a:gdLst/>
                  <a:ahLst/>
                  <a:rect l="l" t="t" r="r" b="b"/>
                  <a:pathLst>
                    <a:path w="1973" h="10">
                      <a:moveTo>
                        <a:pt x="6" y="10"/>
                      </a:move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967" y="0"/>
                      </a:lnTo>
                      <a:lnTo>
                        <a:pt x="1967" y="3"/>
                      </a:lnTo>
                      <a:lnTo>
                        <a:pt x="1970" y="7"/>
                      </a:lnTo>
                      <a:lnTo>
                        <a:pt x="1973" y="7"/>
                      </a:lnTo>
                      <a:lnTo>
                        <a:pt x="1973" y="10"/>
                      </a:lnTo>
                      <a:lnTo>
                        <a:pt x="6" y="10"/>
                      </a:lnTo>
                      <a:close/>
                    </a:path>
                  </a:pathLst>
                </a:custGeom>
                <a:solidFill>
                  <a:srgbClr val="8c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123040" y="3368880"/>
                  <a:ext cx="95400" cy="9000"/>
                </a:xfrm>
                <a:custGeom>
                  <a:avLst/>
                  <a:gdLst/>
                  <a:ahLst/>
                  <a:rect l="l" t="t" r="r" b="b"/>
                  <a:pathLst>
                    <a:path w="112" h="10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112" y="0"/>
                      </a:lnTo>
                      <a:lnTo>
                        <a:pt x="112" y="3"/>
                      </a:lnTo>
                      <a:lnTo>
                        <a:pt x="112" y="7"/>
                      </a:lnTo>
                      <a:lnTo>
                        <a:pt x="109" y="7"/>
                      </a:lnTo>
                      <a:lnTo>
                        <a:pt x="109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8c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729400" y="3360960"/>
                  <a:ext cx="1679040" cy="7920"/>
                </a:xfrm>
                <a:custGeom>
                  <a:avLst/>
                  <a:gdLst/>
                  <a:ahLst/>
                  <a:rect l="l" t="t" r="r" b="b"/>
                  <a:pathLst>
                    <a:path w="1970" h="9">
                      <a:moveTo>
                        <a:pt x="3" y="9"/>
                      </a:moveTo>
                      <a:lnTo>
                        <a:pt x="3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957" y="0"/>
                      </a:lnTo>
                      <a:lnTo>
                        <a:pt x="1960" y="3"/>
                      </a:lnTo>
                      <a:lnTo>
                        <a:pt x="1964" y="6"/>
                      </a:lnTo>
                      <a:lnTo>
                        <a:pt x="1967" y="6"/>
                      </a:lnTo>
                      <a:lnTo>
                        <a:pt x="1970" y="9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8f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142480" y="3360960"/>
                  <a:ext cx="75600" cy="7920"/>
                </a:xfrm>
                <a:custGeom>
                  <a:avLst/>
                  <a:gdLst/>
                  <a:ahLst/>
                  <a:rect l="l" t="t" r="r" b="b"/>
                  <a:pathLst>
                    <a:path w="89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6" y="6"/>
                      </a:lnTo>
                      <a:lnTo>
                        <a:pt x="9" y="6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6" y="3"/>
                      </a:lnTo>
                      <a:lnTo>
                        <a:pt x="19" y="0"/>
                      </a:lnTo>
                      <a:lnTo>
                        <a:pt x="89" y="0"/>
                      </a:lnTo>
                      <a:lnTo>
                        <a:pt x="89" y="3"/>
                      </a:lnTo>
                      <a:lnTo>
                        <a:pt x="89" y="6"/>
                      </a:lnTo>
                      <a:lnTo>
                        <a:pt x="89" y="6"/>
                      </a:lnTo>
                      <a:lnTo>
                        <a:pt x="89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8f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726880" y="3354480"/>
                  <a:ext cx="1670400" cy="6120"/>
                </a:xfrm>
                <a:custGeom>
                  <a:avLst/>
                  <a:gdLst/>
                  <a:ahLst/>
                  <a:rect l="l" t="t" r="r" b="b"/>
                  <a:pathLst>
                    <a:path w="1960" h="7">
                      <a:moveTo>
                        <a:pt x="3" y="7"/>
                      </a:move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951" y="0"/>
                      </a:lnTo>
                      <a:lnTo>
                        <a:pt x="1954" y="0"/>
                      </a:lnTo>
                      <a:lnTo>
                        <a:pt x="1954" y="0"/>
                      </a:lnTo>
                      <a:lnTo>
                        <a:pt x="1954" y="4"/>
                      </a:lnTo>
                      <a:lnTo>
                        <a:pt x="1957" y="4"/>
                      </a:lnTo>
                      <a:lnTo>
                        <a:pt x="1957" y="4"/>
                      </a:lnTo>
                      <a:lnTo>
                        <a:pt x="1960" y="7"/>
                      </a:lnTo>
                      <a:lnTo>
                        <a:pt x="1960" y="7"/>
                      </a:lnTo>
                      <a:lnTo>
                        <a:pt x="1960" y="7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8c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158680" y="3354480"/>
                  <a:ext cx="59400" cy="6120"/>
                </a:xfrm>
                <a:custGeom>
                  <a:avLst/>
                  <a:gdLst/>
                  <a:ahLst/>
                  <a:rect l="l" t="t" r="r" b="b"/>
                  <a:pathLst>
                    <a:path w="70" h="7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6" y="4"/>
                      </a:lnTo>
                      <a:lnTo>
                        <a:pt x="9" y="4"/>
                      </a:lnTo>
                      <a:lnTo>
                        <a:pt x="12" y="4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70" y="0"/>
                      </a:lnTo>
                      <a:lnTo>
                        <a:pt x="70" y="0"/>
                      </a:lnTo>
                      <a:lnTo>
                        <a:pt x="70" y="4"/>
                      </a:lnTo>
                      <a:lnTo>
                        <a:pt x="70" y="7"/>
                      </a:lnTo>
                      <a:lnTo>
                        <a:pt x="7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c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721120" y="3346200"/>
                  <a:ext cx="1668600" cy="7920"/>
                </a:xfrm>
                <a:custGeom>
                  <a:avLst/>
                  <a:gdLst/>
                  <a:ahLst/>
                  <a:rect l="l" t="t" r="r" b="b"/>
                  <a:pathLst>
                    <a:path w="1958" h="9">
                      <a:moveTo>
                        <a:pt x="7" y="9"/>
                      </a:move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1177" y="0"/>
                      </a:lnTo>
                      <a:lnTo>
                        <a:pt x="1180" y="0"/>
                      </a:lnTo>
                      <a:lnTo>
                        <a:pt x="1183" y="0"/>
                      </a:lnTo>
                      <a:lnTo>
                        <a:pt x="1186" y="0"/>
                      </a:lnTo>
                      <a:lnTo>
                        <a:pt x="1189" y="0"/>
                      </a:lnTo>
                      <a:lnTo>
                        <a:pt x="1196" y="0"/>
                      </a:lnTo>
                      <a:lnTo>
                        <a:pt x="1199" y="0"/>
                      </a:lnTo>
                      <a:lnTo>
                        <a:pt x="1202" y="0"/>
                      </a:lnTo>
                      <a:lnTo>
                        <a:pt x="1205" y="3"/>
                      </a:lnTo>
                      <a:lnTo>
                        <a:pt x="1208" y="3"/>
                      </a:lnTo>
                      <a:lnTo>
                        <a:pt x="1212" y="3"/>
                      </a:lnTo>
                      <a:lnTo>
                        <a:pt x="1218" y="3"/>
                      </a:lnTo>
                      <a:lnTo>
                        <a:pt x="1221" y="3"/>
                      </a:lnTo>
                      <a:lnTo>
                        <a:pt x="1224" y="3"/>
                      </a:lnTo>
                      <a:lnTo>
                        <a:pt x="1228" y="3"/>
                      </a:lnTo>
                      <a:lnTo>
                        <a:pt x="1231" y="3"/>
                      </a:lnTo>
                      <a:lnTo>
                        <a:pt x="1234" y="3"/>
                      </a:lnTo>
                      <a:lnTo>
                        <a:pt x="1250" y="3"/>
                      </a:lnTo>
                      <a:lnTo>
                        <a:pt x="1263" y="3"/>
                      </a:lnTo>
                      <a:lnTo>
                        <a:pt x="1275" y="3"/>
                      </a:lnTo>
                      <a:lnTo>
                        <a:pt x="1288" y="3"/>
                      </a:lnTo>
                      <a:lnTo>
                        <a:pt x="1304" y="3"/>
                      </a:lnTo>
                      <a:lnTo>
                        <a:pt x="1317" y="3"/>
                      </a:lnTo>
                      <a:lnTo>
                        <a:pt x="1330" y="3"/>
                      </a:lnTo>
                      <a:lnTo>
                        <a:pt x="1342" y="3"/>
                      </a:lnTo>
                      <a:lnTo>
                        <a:pt x="1355" y="3"/>
                      </a:lnTo>
                      <a:lnTo>
                        <a:pt x="1368" y="3"/>
                      </a:lnTo>
                      <a:lnTo>
                        <a:pt x="1381" y="3"/>
                      </a:lnTo>
                      <a:lnTo>
                        <a:pt x="1393" y="3"/>
                      </a:lnTo>
                      <a:lnTo>
                        <a:pt x="1409" y="3"/>
                      </a:lnTo>
                      <a:lnTo>
                        <a:pt x="1422" y="3"/>
                      </a:lnTo>
                      <a:lnTo>
                        <a:pt x="1435" y="0"/>
                      </a:lnTo>
                      <a:lnTo>
                        <a:pt x="1448" y="0"/>
                      </a:lnTo>
                      <a:lnTo>
                        <a:pt x="1945" y="0"/>
                      </a:lnTo>
                      <a:lnTo>
                        <a:pt x="1948" y="0"/>
                      </a:lnTo>
                      <a:lnTo>
                        <a:pt x="1948" y="3"/>
                      </a:lnTo>
                      <a:lnTo>
                        <a:pt x="1951" y="3"/>
                      </a:lnTo>
                      <a:lnTo>
                        <a:pt x="1951" y="3"/>
                      </a:lnTo>
                      <a:lnTo>
                        <a:pt x="1954" y="6"/>
                      </a:lnTo>
                      <a:lnTo>
                        <a:pt x="1954" y="6"/>
                      </a:lnTo>
                      <a:lnTo>
                        <a:pt x="1958" y="6"/>
                      </a:lnTo>
                      <a:lnTo>
                        <a:pt x="1958" y="9"/>
                      </a:lnTo>
                      <a:lnTo>
                        <a:pt x="7" y="9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174880" y="3346200"/>
                  <a:ext cx="43200" cy="7920"/>
                </a:xfrm>
                <a:custGeom>
                  <a:avLst/>
                  <a:gdLst/>
                  <a:ahLst/>
                  <a:rect l="l" t="t" r="r" b="b"/>
                  <a:pathLst>
                    <a:path w="51" h="9">
                      <a:moveTo>
                        <a:pt x="0" y="9"/>
                      </a:move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5" y="0"/>
                      </a:lnTo>
                      <a:lnTo>
                        <a:pt x="29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51" y="9"/>
                      </a:lnTo>
                      <a:lnTo>
                        <a:pt x="51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718600" y="3337200"/>
                  <a:ext cx="1005480" cy="9000"/>
                </a:xfrm>
                <a:custGeom>
                  <a:avLst/>
                  <a:gdLst/>
                  <a:ahLst/>
                  <a:rect l="l" t="t" r="r" b="b"/>
                  <a:pathLst>
                    <a:path w="1180" h="10">
                      <a:moveTo>
                        <a:pt x="3" y="10"/>
                      </a:move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046" y="0"/>
                      </a:lnTo>
                      <a:lnTo>
                        <a:pt x="1055" y="0"/>
                      </a:lnTo>
                      <a:lnTo>
                        <a:pt x="1062" y="3"/>
                      </a:lnTo>
                      <a:lnTo>
                        <a:pt x="1071" y="3"/>
                      </a:lnTo>
                      <a:lnTo>
                        <a:pt x="1081" y="3"/>
                      </a:lnTo>
                      <a:lnTo>
                        <a:pt x="1087" y="3"/>
                      </a:lnTo>
                      <a:lnTo>
                        <a:pt x="1097" y="3"/>
                      </a:lnTo>
                      <a:lnTo>
                        <a:pt x="1103" y="7"/>
                      </a:lnTo>
                      <a:lnTo>
                        <a:pt x="1113" y="7"/>
                      </a:lnTo>
                      <a:lnTo>
                        <a:pt x="1119" y="7"/>
                      </a:lnTo>
                      <a:lnTo>
                        <a:pt x="1129" y="7"/>
                      </a:lnTo>
                      <a:lnTo>
                        <a:pt x="1138" y="7"/>
                      </a:lnTo>
                      <a:lnTo>
                        <a:pt x="1144" y="7"/>
                      </a:lnTo>
                      <a:lnTo>
                        <a:pt x="1154" y="10"/>
                      </a:lnTo>
                      <a:lnTo>
                        <a:pt x="1160" y="10"/>
                      </a:lnTo>
                      <a:lnTo>
                        <a:pt x="1170" y="10"/>
                      </a:lnTo>
                      <a:lnTo>
                        <a:pt x="1180" y="1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955200" y="3337200"/>
                  <a:ext cx="423360" cy="9000"/>
                </a:xfrm>
                <a:custGeom>
                  <a:avLst/>
                  <a:gdLst/>
                  <a:ahLst/>
                  <a:rect l="l" t="t" r="r" b="b"/>
                  <a:pathLst>
                    <a:path w="497" h="10">
                      <a:moveTo>
                        <a:pt x="0" y="10"/>
                      </a:moveTo>
                      <a:lnTo>
                        <a:pt x="6" y="10"/>
                      </a:lnTo>
                      <a:lnTo>
                        <a:pt x="9" y="10"/>
                      </a:lnTo>
                      <a:lnTo>
                        <a:pt x="15" y="10"/>
                      </a:lnTo>
                      <a:lnTo>
                        <a:pt x="19" y="10"/>
                      </a:lnTo>
                      <a:lnTo>
                        <a:pt x="25" y="7"/>
                      </a:lnTo>
                      <a:lnTo>
                        <a:pt x="28" y="7"/>
                      </a:lnTo>
                      <a:lnTo>
                        <a:pt x="35" y="7"/>
                      </a:lnTo>
                      <a:lnTo>
                        <a:pt x="38" y="7"/>
                      </a:lnTo>
                      <a:lnTo>
                        <a:pt x="44" y="7"/>
                      </a:lnTo>
                      <a:lnTo>
                        <a:pt x="47" y="7"/>
                      </a:lnTo>
                      <a:lnTo>
                        <a:pt x="54" y="7"/>
                      </a:lnTo>
                      <a:lnTo>
                        <a:pt x="57" y="3"/>
                      </a:lnTo>
                      <a:lnTo>
                        <a:pt x="63" y="3"/>
                      </a:lnTo>
                      <a:lnTo>
                        <a:pt x="66" y="3"/>
                      </a:lnTo>
                      <a:lnTo>
                        <a:pt x="73" y="3"/>
                      </a:lnTo>
                      <a:lnTo>
                        <a:pt x="76" y="3"/>
                      </a:lnTo>
                      <a:lnTo>
                        <a:pt x="79" y="3"/>
                      </a:lnTo>
                      <a:lnTo>
                        <a:pt x="79" y="3"/>
                      </a:lnTo>
                      <a:lnTo>
                        <a:pt x="82" y="3"/>
                      </a:lnTo>
                      <a:lnTo>
                        <a:pt x="82" y="3"/>
                      </a:lnTo>
                      <a:lnTo>
                        <a:pt x="82" y="3"/>
                      </a:lnTo>
                      <a:lnTo>
                        <a:pt x="86" y="3"/>
                      </a:lnTo>
                      <a:lnTo>
                        <a:pt x="86" y="0"/>
                      </a:lnTo>
                      <a:lnTo>
                        <a:pt x="89" y="0"/>
                      </a:lnTo>
                      <a:lnTo>
                        <a:pt x="484" y="0"/>
                      </a:lnTo>
                      <a:lnTo>
                        <a:pt x="487" y="3"/>
                      </a:lnTo>
                      <a:lnTo>
                        <a:pt x="487" y="3"/>
                      </a:lnTo>
                      <a:lnTo>
                        <a:pt x="490" y="3"/>
                      </a:lnTo>
                      <a:lnTo>
                        <a:pt x="490" y="7"/>
                      </a:lnTo>
                      <a:lnTo>
                        <a:pt x="494" y="7"/>
                      </a:lnTo>
                      <a:lnTo>
                        <a:pt x="494" y="7"/>
                      </a:lnTo>
                      <a:lnTo>
                        <a:pt x="497" y="10"/>
                      </a:lnTo>
                      <a:lnTo>
                        <a:pt x="49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199720" y="3343680"/>
                  <a:ext cx="16200" cy="252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9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715720" y="3331800"/>
                  <a:ext cx="893880" cy="5040"/>
                </a:xfrm>
                <a:custGeom>
                  <a:avLst/>
                  <a:gdLst/>
                  <a:ahLst/>
                  <a:rect l="l" t="t" r="r" b="b"/>
                  <a:pathLst>
                    <a:path w="1049" h="6">
                      <a:moveTo>
                        <a:pt x="3" y="6"/>
                      </a:move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69" y="0"/>
                      </a:lnTo>
                      <a:lnTo>
                        <a:pt x="972" y="0"/>
                      </a:lnTo>
                      <a:lnTo>
                        <a:pt x="979" y="0"/>
                      </a:lnTo>
                      <a:lnTo>
                        <a:pt x="985" y="0"/>
                      </a:lnTo>
                      <a:lnTo>
                        <a:pt x="988" y="0"/>
                      </a:lnTo>
                      <a:lnTo>
                        <a:pt x="994" y="3"/>
                      </a:lnTo>
                      <a:lnTo>
                        <a:pt x="998" y="3"/>
                      </a:lnTo>
                      <a:lnTo>
                        <a:pt x="1004" y="3"/>
                      </a:lnTo>
                      <a:lnTo>
                        <a:pt x="1007" y="3"/>
                      </a:lnTo>
                      <a:lnTo>
                        <a:pt x="1014" y="3"/>
                      </a:lnTo>
                      <a:lnTo>
                        <a:pt x="1020" y="3"/>
                      </a:lnTo>
                      <a:lnTo>
                        <a:pt x="1023" y="3"/>
                      </a:lnTo>
                      <a:lnTo>
                        <a:pt x="1030" y="6"/>
                      </a:lnTo>
                      <a:lnTo>
                        <a:pt x="1033" y="6"/>
                      </a:lnTo>
                      <a:lnTo>
                        <a:pt x="1039" y="6"/>
                      </a:lnTo>
                      <a:lnTo>
                        <a:pt x="1045" y="6"/>
                      </a:lnTo>
                      <a:lnTo>
                        <a:pt x="1049" y="6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94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031160" y="3331800"/>
                  <a:ext cx="336600" cy="5040"/>
                </a:xfrm>
                <a:custGeom>
                  <a:avLst/>
                  <a:gdLst/>
                  <a:ahLst/>
                  <a:rect l="l" t="t" r="r" b="b"/>
                  <a:pathLst>
                    <a:path w="395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382" y="0"/>
                      </a:lnTo>
                      <a:lnTo>
                        <a:pt x="386" y="0"/>
                      </a:lnTo>
                      <a:lnTo>
                        <a:pt x="386" y="0"/>
                      </a:lnTo>
                      <a:lnTo>
                        <a:pt x="389" y="3"/>
                      </a:lnTo>
                      <a:lnTo>
                        <a:pt x="389" y="3"/>
                      </a:lnTo>
                      <a:lnTo>
                        <a:pt x="392" y="3"/>
                      </a:lnTo>
                      <a:lnTo>
                        <a:pt x="392" y="6"/>
                      </a:lnTo>
                      <a:lnTo>
                        <a:pt x="395" y="6"/>
                      </a:lnTo>
                      <a:lnTo>
                        <a:pt x="395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4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13200" y="3322800"/>
                  <a:ext cx="828360" cy="9000"/>
                </a:xfrm>
                <a:custGeom>
                  <a:avLst/>
                  <a:gdLst/>
                  <a:ahLst/>
                  <a:rect l="l" t="t" r="r" b="b"/>
                  <a:pathLst>
                    <a:path w="972" h="10">
                      <a:moveTo>
                        <a:pt x="3" y="10"/>
                      </a:move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80" y="0"/>
                      </a:lnTo>
                      <a:lnTo>
                        <a:pt x="886" y="0"/>
                      </a:lnTo>
                      <a:lnTo>
                        <a:pt x="889" y="0"/>
                      </a:lnTo>
                      <a:lnTo>
                        <a:pt x="895" y="0"/>
                      </a:lnTo>
                      <a:lnTo>
                        <a:pt x="902" y="0"/>
                      </a:lnTo>
                      <a:lnTo>
                        <a:pt x="905" y="3"/>
                      </a:lnTo>
                      <a:lnTo>
                        <a:pt x="911" y="3"/>
                      </a:lnTo>
                      <a:lnTo>
                        <a:pt x="918" y="3"/>
                      </a:lnTo>
                      <a:lnTo>
                        <a:pt x="924" y="3"/>
                      </a:lnTo>
                      <a:lnTo>
                        <a:pt x="927" y="3"/>
                      </a:lnTo>
                      <a:lnTo>
                        <a:pt x="934" y="3"/>
                      </a:lnTo>
                      <a:lnTo>
                        <a:pt x="940" y="7"/>
                      </a:lnTo>
                      <a:lnTo>
                        <a:pt x="943" y="7"/>
                      </a:lnTo>
                      <a:lnTo>
                        <a:pt x="950" y="7"/>
                      </a:lnTo>
                      <a:lnTo>
                        <a:pt x="956" y="7"/>
                      </a:lnTo>
                      <a:lnTo>
                        <a:pt x="959" y="7"/>
                      </a:lnTo>
                      <a:lnTo>
                        <a:pt x="966" y="7"/>
                      </a:lnTo>
                      <a:lnTo>
                        <a:pt x="966" y="7"/>
                      </a:lnTo>
                      <a:lnTo>
                        <a:pt x="969" y="7"/>
                      </a:lnTo>
                      <a:lnTo>
                        <a:pt x="969" y="7"/>
                      </a:lnTo>
                      <a:lnTo>
                        <a:pt x="972" y="1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047360" y="3322800"/>
                  <a:ext cx="309240" cy="9000"/>
                </a:xfrm>
                <a:custGeom>
                  <a:avLst/>
                  <a:gdLst/>
                  <a:ahLst/>
                  <a:rect l="l" t="t" r="r" b="b"/>
                  <a:pathLst>
                    <a:path w="363" h="10">
                      <a:moveTo>
                        <a:pt x="0" y="10"/>
                      </a:move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347" y="0"/>
                      </a:lnTo>
                      <a:lnTo>
                        <a:pt x="351" y="0"/>
                      </a:lnTo>
                      <a:lnTo>
                        <a:pt x="354" y="0"/>
                      </a:lnTo>
                      <a:lnTo>
                        <a:pt x="354" y="3"/>
                      </a:lnTo>
                      <a:lnTo>
                        <a:pt x="357" y="3"/>
                      </a:lnTo>
                      <a:lnTo>
                        <a:pt x="357" y="7"/>
                      </a:lnTo>
                      <a:lnTo>
                        <a:pt x="360" y="7"/>
                      </a:lnTo>
                      <a:lnTo>
                        <a:pt x="360" y="7"/>
                      </a:lnTo>
                      <a:lnTo>
                        <a:pt x="363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709960" y="3314880"/>
                  <a:ext cx="753480" cy="7920"/>
                </a:xfrm>
                <a:custGeom>
                  <a:avLst/>
                  <a:gdLst/>
                  <a:ahLst/>
                  <a:rect l="l" t="t" r="r" b="b"/>
                  <a:pathLst>
                    <a:path w="884" h="9">
                      <a:moveTo>
                        <a:pt x="4" y="9"/>
                      </a:move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791" y="0"/>
                      </a:lnTo>
                      <a:lnTo>
                        <a:pt x="797" y="0"/>
                      </a:lnTo>
                      <a:lnTo>
                        <a:pt x="804" y="0"/>
                      </a:lnTo>
                      <a:lnTo>
                        <a:pt x="807" y="3"/>
                      </a:lnTo>
                      <a:lnTo>
                        <a:pt x="813" y="3"/>
                      </a:lnTo>
                      <a:lnTo>
                        <a:pt x="820" y="3"/>
                      </a:lnTo>
                      <a:lnTo>
                        <a:pt x="826" y="3"/>
                      </a:lnTo>
                      <a:lnTo>
                        <a:pt x="833" y="3"/>
                      </a:lnTo>
                      <a:lnTo>
                        <a:pt x="839" y="6"/>
                      </a:lnTo>
                      <a:lnTo>
                        <a:pt x="842" y="6"/>
                      </a:lnTo>
                      <a:lnTo>
                        <a:pt x="848" y="6"/>
                      </a:lnTo>
                      <a:lnTo>
                        <a:pt x="855" y="6"/>
                      </a:lnTo>
                      <a:lnTo>
                        <a:pt x="861" y="6"/>
                      </a:lnTo>
                      <a:lnTo>
                        <a:pt x="868" y="6"/>
                      </a:lnTo>
                      <a:lnTo>
                        <a:pt x="871" y="6"/>
                      </a:lnTo>
                      <a:lnTo>
                        <a:pt x="877" y="9"/>
                      </a:lnTo>
                      <a:lnTo>
                        <a:pt x="884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94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058520" y="3314880"/>
                  <a:ext cx="284400" cy="7920"/>
                </a:xfrm>
                <a:custGeom>
                  <a:avLst/>
                  <a:gdLst/>
                  <a:ahLst/>
                  <a:rect l="l" t="t" r="r" b="b"/>
                  <a:pathLst>
                    <a:path w="334" h="9">
                      <a:moveTo>
                        <a:pt x="0" y="9"/>
                      </a:move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322" y="0"/>
                      </a:lnTo>
                      <a:lnTo>
                        <a:pt x="322" y="0"/>
                      </a:lnTo>
                      <a:lnTo>
                        <a:pt x="325" y="3"/>
                      </a:lnTo>
                      <a:lnTo>
                        <a:pt x="328" y="3"/>
                      </a:lnTo>
                      <a:lnTo>
                        <a:pt x="328" y="3"/>
                      </a:lnTo>
                      <a:lnTo>
                        <a:pt x="331" y="6"/>
                      </a:lnTo>
                      <a:lnTo>
                        <a:pt x="331" y="6"/>
                      </a:lnTo>
                      <a:lnTo>
                        <a:pt x="334" y="6"/>
                      </a:lnTo>
                      <a:lnTo>
                        <a:pt x="334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4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707440" y="3305880"/>
                  <a:ext cx="676440" cy="9000"/>
                </a:xfrm>
                <a:custGeom>
                  <a:avLst/>
                  <a:gdLst/>
                  <a:ahLst/>
                  <a:rect l="l" t="t" r="r" b="b"/>
                  <a:pathLst>
                    <a:path w="794" h="10">
                      <a:moveTo>
                        <a:pt x="3" y="10"/>
                      </a:move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708" y="0"/>
                      </a:lnTo>
                      <a:lnTo>
                        <a:pt x="711" y="0"/>
                      </a:lnTo>
                      <a:lnTo>
                        <a:pt x="714" y="3"/>
                      </a:lnTo>
                      <a:lnTo>
                        <a:pt x="721" y="3"/>
                      </a:lnTo>
                      <a:lnTo>
                        <a:pt x="724" y="3"/>
                      </a:lnTo>
                      <a:lnTo>
                        <a:pt x="727" y="3"/>
                      </a:lnTo>
                      <a:lnTo>
                        <a:pt x="733" y="3"/>
                      </a:lnTo>
                      <a:lnTo>
                        <a:pt x="737" y="3"/>
                      </a:lnTo>
                      <a:lnTo>
                        <a:pt x="740" y="3"/>
                      </a:lnTo>
                      <a:lnTo>
                        <a:pt x="746" y="7"/>
                      </a:lnTo>
                      <a:lnTo>
                        <a:pt x="753" y="7"/>
                      </a:lnTo>
                      <a:lnTo>
                        <a:pt x="759" y="7"/>
                      </a:lnTo>
                      <a:lnTo>
                        <a:pt x="769" y="7"/>
                      </a:lnTo>
                      <a:lnTo>
                        <a:pt x="775" y="10"/>
                      </a:lnTo>
                      <a:lnTo>
                        <a:pt x="781" y="10"/>
                      </a:lnTo>
                      <a:lnTo>
                        <a:pt x="788" y="10"/>
                      </a:lnTo>
                      <a:lnTo>
                        <a:pt x="794" y="1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96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068600" y="3305880"/>
                  <a:ext cx="263880" cy="9000"/>
                </a:xfrm>
                <a:custGeom>
                  <a:avLst/>
                  <a:gdLst/>
                  <a:ahLst/>
                  <a:rect l="l" t="t" r="r" b="b"/>
                  <a:pathLst>
                    <a:path w="310" h="10">
                      <a:moveTo>
                        <a:pt x="0" y="10"/>
                      </a:move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291" y="0"/>
                      </a:lnTo>
                      <a:lnTo>
                        <a:pt x="294" y="3"/>
                      </a:lnTo>
                      <a:lnTo>
                        <a:pt x="297" y="3"/>
                      </a:lnTo>
                      <a:lnTo>
                        <a:pt x="297" y="3"/>
                      </a:lnTo>
                      <a:lnTo>
                        <a:pt x="300" y="7"/>
                      </a:lnTo>
                      <a:lnTo>
                        <a:pt x="303" y="7"/>
                      </a:lnTo>
                      <a:lnTo>
                        <a:pt x="303" y="7"/>
                      </a:lnTo>
                      <a:lnTo>
                        <a:pt x="306" y="10"/>
                      </a:lnTo>
                      <a:lnTo>
                        <a:pt x="31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96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707440" y="3300120"/>
                  <a:ext cx="603360" cy="5400"/>
                </a:xfrm>
                <a:custGeom>
                  <a:avLst/>
                  <a:gdLst/>
                  <a:ahLst/>
                  <a:rect l="l" t="t" r="r" b="b"/>
                  <a:pathLst>
                    <a:path w="708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514" y="0"/>
                      </a:lnTo>
                      <a:lnTo>
                        <a:pt x="517" y="0"/>
                      </a:lnTo>
                      <a:lnTo>
                        <a:pt x="517" y="0"/>
                      </a:lnTo>
                      <a:lnTo>
                        <a:pt x="520" y="3"/>
                      </a:lnTo>
                      <a:lnTo>
                        <a:pt x="520" y="3"/>
                      </a:lnTo>
                      <a:lnTo>
                        <a:pt x="523" y="3"/>
                      </a:lnTo>
                      <a:lnTo>
                        <a:pt x="523" y="3"/>
                      </a:lnTo>
                      <a:lnTo>
                        <a:pt x="526" y="6"/>
                      </a:lnTo>
                      <a:lnTo>
                        <a:pt x="526" y="6"/>
                      </a:lnTo>
                      <a:lnTo>
                        <a:pt x="526" y="3"/>
                      </a:lnTo>
                      <a:lnTo>
                        <a:pt x="526" y="3"/>
                      </a:lnTo>
                      <a:lnTo>
                        <a:pt x="526" y="0"/>
                      </a:lnTo>
                      <a:lnTo>
                        <a:pt x="523" y="0"/>
                      </a:lnTo>
                      <a:lnTo>
                        <a:pt x="561" y="0"/>
                      </a:lnTo>
                      <a:lnTo>
                        <a:pt x="565" y="0"/>
                      </a:lnTo>
                      <a:lnTo>
                        <a:pt x="571" y="0"/>
                      </a:lnTo>
                      <a:lnTo>
                        <a:pt x="574" y="3"/>
                      </a:lnTo>
                      <a:lnTo>
                        <a:pt x="580" y="3"/>
                      </a:lnTo>
                      <a:lnTo>
                        <a:pt x="587" y="3"/>
                      </a:lnTo>
                      <a:lnTo>
                        <a:pt x="593" y="3"/>
                      </a:lnTo>
                      <a:lnTo>
                        <a:pt x="600" y="3"/>
                      </a:lnTo>
                      <a:lnTo>
                        <a:pt x="609" y="3"/>
                      </a:lnTo>
                      <a:lnTo>
                        <a:pt x="616" y="3"/>
                      </a:lnTo>
                      <a:lnTo>
                        <a:pt x="622" y="3"/>
                      </a:lnTo>
                      <a:lnTo>
                        <a:pt x="628" y="3"/>
                      </a:lnTo>
                      <a:lnTo>
                        <a:pt x="635" y="3"/>
                      </a:lnTo>
                      <a:lnTo>
                        <a:pt x="641" y="3"/>
                      </a:lnTo>
                      <a:lnTo>
                        <a:pt x="647" y="3"/>
                      </a:lnTo>
                      <a:lnTo>
                        <a:pt x="654" y="3"/>
                      </a:lnTo>
                      <a:lnTo>
                        <a:pt x="660" y="6"/>
                      </a:lnTo>
                      <a:lnTo>
                        <a:pt x="667" y="6"/>
                      </a:lnTo>
                      <a:lnTo>
                        <a:pt x="670" y="6"/>
                      </a:lnTo>
                      <a:lnTo>
                        <a:pt x="676" y="6"/>
                      </a:lnTo>
                      <a:lnTo>
                        <a:pt x="682" y="6"/>
                      </a:lnTo>
                      <a:lnTo>
                        <a:pt x="689" y="6"/>
                      </a:lnTo>
                      <a:lnTo>
                        <a:pt x="695" y="6"/>
                      </a:lnTo>
                      <a:lnTo>
                        <a:pt x="702" y="6"/>
                      </a:lnTo>
                      <a:lnTo>
                        <a:pt x="708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9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79760" y="3300120"/>
                  <a:ext cx="236880" cy="5400"/>
                </a:xfrm>
                <a:custGeom>
                  <a:avLst/>
                  <a:gdLst/>
                  <a:ahLst/>
                  <a:rect l="l" t="t" r="r" b="b"/>
                  <a:pathLst>
                    <a:path w="278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262" y="0"/>
                      </a:lnTo>
                      <a:lnTo>
                        <a:pt x="262" y="0"/>
                      </a:lnTo>
                      <a:lnTo>
                        <a:pt x="265" y="0"/>
                      </a:lnTo>
                      <a:lnTo>
                        <a:pt x="268" y="3"/>
                      </a:lnTo>
                      <a:lnTo>
                        <a:pt x="268" y="3"/>
                      </a:lnTo>
                      <a:lnTo>
                        <a:pt x="271" y="3"/>
                      </a:lnTo>
                      <a:lnTo>
                        <a:pt x="274" y="6"/>
                      </a:lnTo>
                      <a:lnTo>
                        <a:pt x="278" y="6"/>
                      </a:lnTo>
                      <a:lnTo>
                        <a:pt x="278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9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704920" y="3291120"/>
                  <a:ext cx="440640" cy="9000"/>
                </a:xfrm>
                <a:custGeom>
                  <a:avLst/>
                  <a:gdLst/>
                  <a:ahLst/>
                  <a:rect l="l" t="t" r="r" b="b"/>
                  <a:pathLst>
                    <a:path w="517" h="10">
                      <a:moveTo>
                        <a:pt x="3" y="10"/>
                      </a:move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507" y="0"/>
                      </a:lnTo>
                      <a:lnTo>
                        <a:pt x="507" y="0"/>
                      </a:lnTo>
                      <a:lnTo>
                        <a:pt x="507" y="3"/>
                      </a:lnTo>
                      <a:lnTo>
                        <a:pt x="510" y="3"/>
                      </a:lnTo>
                      <a:lnTo>
                        <a:pt x="510" y="3"/>
                      </a:lnTo>
                      <a:lnTo>
                        <a:pt x="513" y="7"/>
                      </a:lnTo>
                      <a:lnTo>
                        <a:pt x="513" y="7"/>
                      </a:lnTo>
                      <a:lnTo>
                        <a:pt x="517" y="7"/>
                      </a:lnTo>
                      <a:lnTo>
                        <a:pt x="517" y="1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99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3120" y="3291120"/>
                  <a:ext cx="32400" cy="9000"/>
                </a:xfrm>
                <a:custGeom>
                  <a:avLst/>
                  <a:gdLst/>
                  <a:ahLst/>
                  <a:rect l="l" t="t" r="r" b="b"/>
                  <a:pathLst>
                    <a:path w="38" h="10">
                      <a:moveTo>
                        <a:pt x="0" y="10"/>
                      </a:move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9" y="3"/>
                      </a:lnTo>
                      <a:lnTo>
                        <a:pt x="32" y="3"/>
                      </a:lnTo>
                      <a:lnTo>
                        <a:pt x="32" y="3"/>
                      </a:lnTo>
                      <a:lnTo>
                        <a:pt x="35" y="7"/>
                      </a:lnTo>
                      <a:lnTo>
                        <a:pt x="35" y="7"/>
                      </a:lnTo>
                      <a:lnTo>
                        <a:pt x="38" y="7"/>
                      </a:lnTo>
                      <a:lnTo>
                        <a:pt x="3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99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090560" y="3291120"/>
                  <a:ext cx="212040" cy="9000"/>
                </a:xfrm>
                <a:custGeom>
                  <a:avLst/>
                  <a:gdLst/>
                  <a:ahLst/>
                  <a:rect l="l" t="t" r="r" b="b"/>
                  <a:pathLst>
                    <a:path w="249" h="10">
                      <a:moveTo>
                        <a:pt x="0" y="10"/>
                      </a:move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229" y="0"/>
                      </a:lnTo>
                      <a:lnTo>
                        <a:pt x="233" y="0"/>
                      </a:lnTo>
                      <a:lnTo>
                        <a:pt x="233" y="3"/>
                      </a:lnTo>
                      <a:lnTo>
                        <a:pt x="236" y="3"/>
                      </a:lnTo>
                      <a:lnTo>
                        <a:pt x="239" y="3"/>
                      </a:lnTo>
                      <a:lnTo>
                        <a:pt x="239" y="7"/>
                      </a:lnTo>
                      <a:lnTo>
                        <a:pt x="242" y="7"/>
                      </a:lnTo>
                      <a:lnTo>
                        <a:pt x="245" y="7"/>
                      </a:lnTo>
                      <a:lnTo>
                        <a:pt x="249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99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702400" y="3283200"/>
                  <a:ext cx="434520" cy="7920"/>
                </a:xfrm>
                <a:custGeom>
                  <a:avLst/>
                  <a:gdLst/>
                  <a:ahLst/>
                  <a:rect l="l" t="t" r="r" b="b"/>
                  <a:pathLst>
                    <a:path w="510" h="9">
                      <a:moveTo>
                        <a:pt x="3" y="9"/>
                      </a:move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97" y="0"/>
                      </a:lnTo>
                      <a:lnTo>
                        <a:pt x="500" y="3"/>
                      </a:lnTo>
                      <a:lnTo>
                        <a:pt x="500" y="3"/>
                      </a:lnTo>
                      <a:lnTo>
                        <a:pt x="504" y="3"/>
                      </a:lnTo>
                      <a:lnTo>
                        <a:pt x="504" y="6"/>
                      </a:lnTo>
                      <a:lnTo>
                        <a:pt x="504" y="6"/>
                      </a:lnTo>
                      <a:lnTo>
                        <a:pt x="507" y="6"/>
                      </a:lnTo>
                      <a:lnTo>
                        <a:pt x="507" y="9"/>
                      </a:lnTo>
                      <a:lnTo>
                        <a:pt x="510" y="9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9c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150600" y="3283200"/>
                  <a:ext cx="27000" cy="7920"/>
                </a:xfrm>
                <a:custGeom>
                  <a:avLst/>
                  <a:gdLst/>
                  <a:ahLst/>
                  <a:rect l="l" t="t" r="r" b="b"/>
                  <a:pathLst>
                    <a:path w="32" h="9">
                      <a:moveTo>
                        <a:pt x="3" y="9"/>
                      </a:move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5" y="3"/>
                      </a:lnTo>
                      <a:lnTo>
                        <a:pt x="29" y="6"/>
                      </a:lnTo>
                      <a:lnTo>
                        <a:pt x="29" y="6"/>
                      </a:lnTo>
                      <a:lnTo>
                        <a:pt x="32" y="9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9c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101720" y="3283200"/>
                  <a:ext cx="183960" cy="7920"/>
                </a:xfrm>
                <a:custGeom>
                  <a:avLst/>
                  <a:gdLst/>
                  <a:ahLst/>
                  <a:rect l="l" t="t" r="r" b="b"/>
                  <a:pathLst>
                    <a:path w="216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lnTo>
                        <a:pt x="194" y="0"/>
                      </a:lnTo>
                      <a:lnTo>
                        <a:pt x="197" y="3"/>
                      </a:lnTo>
                      <a:lnTo>
                        <a:pt x="200" y="3"/>
                      </a:lnTo>
                      <a:lnTo>
                        <a:pt x="204" y="3"/>
                      </a:lnTo>
                      <a:lnTo>
                        <a:pt x="207" y="6"/>
                      </a:lnTo>
                      <a:lnTo>
                        <a:pt x="207" y="6"/>
                      </a:lnTo>
                      <a:lnTo>
                        <a:pt x="210" y="6"/>
                      </a:lnTo>
                      <a:lnTo>
                        <a:pt x="213" y="9"/>
                      </a:lnTo>
                      <a:lnTo>
                        <a:pt x="216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c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702400" y="3273840"/>
                  <a:ext cx="423360" cy="9000"/>
                </a:xfrm>
                <a:custGeom>
                  <a:avLst/>
                  <a:gdLst/>
                  <a:ahLst/>
                  <a:rect l="l" t="t" r="r" b="b"/>
                  <a:pathLst>
                    <a:path w="497" h="10">
                      <a:moveTo>
                        <a:pt x="0" y="10"/>
                      </a:move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88" y="0"/>
                      </a:lnTo>
                      <a:lnTo>
                        <a:pt x="488" y="3"/>
                      </a:lnTo>
                      <a:lnTo>
                        <a:pt x="491" y="3"/>
                      </a:lnTo>
                      <a:lnTo>
                        <a:pt x="491" y="6"/>
                      </a:lnTo>
                      <a:lnTo>
                        <a:pt x="494" y="6"/>
                      </a:lnTo>
                      <a:lnTo>
                        <a:pt x="494" y="6"/>
                      </a:lnTo>
                      <a:lnTo>
                        <a:pt x="497" y="10"/>
                      </a:lnTo>
                      <a:lnTo>
                        <a:pt x="497" y="10"/>
                      </a:lnTo>
                      <a:lnTo>
                        <a:pt x="49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9b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48080" y="3273840"/>
                  <a:ext cx="21240" cy="9000"/>
                </a:xfrm>
                <a:custGeom>
                  <a:avLst/>
                  <a:gdLst/>
                  <a:ahLst/>
                  <a:rect l="l" t="t" r="r" b="b"/>
                  <a:pathLst>
                    <a:path w="25" h="10">
                      <a:moveTo>
                        <a:pt x="3" y="10"/>
                      </a:move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22" y="3"/>
                      </a:lnTo>
                      <a:lnTo>
                        <a:pt x="25" y="6"/>
                      </a:lnTo>
                      <a:lnTo>
                        <a:pt x="25" y="10"/>
                      </a:lnTo>
                      <a:lnTo>
                        <a:pt x="25" y="1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9b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112160" y="3273840"/>
                  <a:ext cx="155160" cy="9000"/>
                </a:xfrm>
                <a:custGeom>
                  <a:avLst/>
                  <a:gdLst/>
                  <a:ahLst/>
                  <a:rect l="l" t="t" r="r" b="b"/>
                  <a:pathLst>
                    <a:path w="182" h="10">
                      <a:moveTo>
                        <a:pt x="0" y="10"/>
                      </a:moveTo>
                      <a:lnTo>
                        <a:pt x="4" y="10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10" y="6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6" y="0"/>
                      </a:lnTo>
                      <a:lnTo>
                        <a:pt x="160" y="0"/>
                      </a:lnTo>
                      <a:lnTo>
                        <a:pt x="163" y="3"/>
                      </a:lnTo>
                      <a:lnTo>
                        <a:pt x="166" y="3"/>
                      </a:lnTo>
                      <a:lnTo>
                        <a:pt x="169" y="3"/>
                      </a:lnTo>
                      <a:lnTo>
                        <a:pt x="173" y="6"/>
                      </a:lnTo>
                      <a:lnTo>
                        <a:pt x="176" y="6"/>
                      </a:lnTo>
                      <a:lnTo>
                        <a:pt x="179" y="6"/>
                      </a:lnTo>
                      <a:lnTo>
                        <a:pt x="182" y="10"/>
                      </a:lnTo>
                      <a:lnTo>
                        <a:pt x="18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9b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699520" y="3268800"/>
                  <a:ext cx="418320" cy="5040"/>
                </a:xfrm>
                <a:custGeom>
                  <a:avLst/>
                  <a:gdLst/>
                  <a:ahLst/>
                  <a:rect l="l" t="t" r="r" b="b"/>
                  <a:pathLst>
                    <a:path w="491" h="6">
                      <a:moveTo>
                        <a:pt x="3" y="6"/>
                      </a:move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481" y="0"/>
                      </a:lnTo>
                      <a:lnTo>
                        <a:pt x="484" y="0"/>
                      </a:lnTo>
                      <a:lnTo>
                        <a:pt x="487" y="3"/>
                      </a:lnTo>
                      <a:lnTo>
                        <a:pt x="487" y="6"/>
                      </a:lnTo>
                      <a:lnTo>
                        <a:pt x="491" y="6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145560" y="3268800"/>
                  <a:ext cx="18720" cy="5040"/>
                </a:xfrm>
                <a:custGeom>
                  <a:avLst/>
                  <a:gdLst/>
                  <a:ahLst/>
                  <a:rect l="l" t="t" r="r" b="b"/>
                  <a:pathLst>
                    <a:path w="22" h="6">
                      <a:moveTo>
                        <a:pt x="3" y="6"/>
                      </a:move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22" y="3"/>
                      </a:ln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125840" y="3268800"/>
                  <a:ext cx="122400" cy="5040"/>
                </a:xfrm>
                <a:custGeom>
                  <a:avLst/>
                  <a:gdLst/>
                  <a:ahLst/>
                  <a:rect l="l" t="t" r="r" b="b"/>
                  <a:pathLst>
                    <a:path w="144" h="6">
                      <a:moveTo>
                        <a:pt x="0" y="6"/>
                      </a:move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112" y="0"/>
                      </a:lnTo>
                      <a:lnTo>
                        <a:pt x="115" y="0"/>
                      </a:lnTo>
                      <a:lnTo>
                        <a:pt x="121" y="0"/>
                      </a:lnTo>
                      <a:lnTo>
                        <a:pt x="125" y="0"/>
                      </a:lnTo>
                      <a:lnTo>
                        <a:pt x="128" y="3"/>
                      </a:lnTo>
                      <a:lnTo>
                        <a:pt x="131" y="3"/>
                      </a:lnTo>
                      <a:lnTo>
                        <a:pt x="134" y="3"/>
                      </a:lnTo>
                      <a:lnTo>
                        <a:pt x="137" y="6"/>
                      </a:lnTo>
                      <a:lnTo>
                        <a:pt x="141" y="6"/>
                      </a:lnTo>
                      <a:lnTo>
                        <a:pt x="141" y="6"/>
                      </a:lnTo>
                      <a:lnTo>
                        <a:pt x="141" y="6"/>
                      </a:lnTo>
                      <a:lnTo>
                        <a:pt x="144" y="6"/>
                      </a:lnTo>
                      <a:lnTo>
                        <a:pt x="144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697000" y="3259440"/>
                  <a:ext cx="412560" cy="9000"/>
                </a:xfrm>
                <a:custGeom>
                  <a:avLst/>
                  <a:gdLst/>
                  <a:ahLst/>
                  <a:rect l="l" t="t" r="r" b="b"/>
                  <a:pathLst>
                    <a:path w="484" h="10">
                      <a:moveTo>
                        <a:pt x="3" y="10"/>
                      </a:move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475" y="0"/>
                      </a:lnTo>
                      <a:lnTo>
                        <a:pt x="478" y="3"/>
                      </a:lnTo>
                      <a:lnTo>
                        <a:pt x="481" y="3"/>
                      </a:lnTo>
                      <a:lnTo>
                        <a:pt x="481" y="6"/>
                      </a:lnTo>
                      <a:lnTo>
                        <a:pt x="484" y="1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45560" y="3259440"/>
                  <a:ext cx="16200" cy="9000"/>
                </a:xfrm>
                <a:custGeom>
                  <a:avLst/>
                  <a:gdLst/>
                  <a:ahLst/>
                  <a:rect l="l" t="t" r="r" b="b"/>
                  <a:pathLst>
                    <a:path w="19" h="10">
                      <a:moveTo>
                        <a:pt x="0" y="10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5" y="6"/>
                      </a:lnTo>
                      <a:lnTo>
                        <a:pt x="19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152840" y="3264840"/>
                  <a:ext cx="68040" cy="3600"/>
                </a:xfrm>
                <a:custGeom>
                  <a:avLst/>
                  <a:gdLst/>
                  <a:ahLst/>
                  <a:rect l="l" t="t" r="r" b="b"/>
                  <a:pathLst>
                    <a:path w="80" h="4">
                      <a:moveTo>
                        <a:pt x="0" y="4"/>
                      </a:moveTo>
                      <a:lnTo>
                        <a:pt x="3" y="4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9" y="0"/>
                      </a:lnTo>
                      <a:lnTo>
                        <a:pt x="35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51" y="0"/>
                      </a:lnTo>
                      <a:lnTo>
                        <a:pt x="54" y="0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0" y="0"/>
                      </a:lnTo>
                      <a:lnTo>
                        <a:pt x="77" y="4"/>
                      </a:lnTo>
                      <a:lnTo>
                        <a:pt x="8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97000" y="3251520"/>
                  <a:ext cx="404640" cy="7920"/>
                </a:xfrm>
                <a:custGeom>
                  <a:avLst/>
                  <a:gdLst/>
                  <a:ahLst/>
                  <a:rect l="l" t="t" r="r" b="b"/>
                  <a:pathLst>
                    <a:path w="475" h="9">
                      <a:moveTo>
                        <a:pt x="0" y="9"/>
                      </a:move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94" y="0"/>
                      </a:lnTo>
                      <a:lnTo>
                        <a:pt x="197" y="0"/>
                      </a:lnTo>
                      <a:lnTo>
                        <a:pt x="200" y="0"/>
                      </a:lnTo>
                      <a:lnTo>
                        <a:pt x="204" y="0"/>
                      </a:lnTo>
                      <a:lnTo>
                        <a:pt x="204" y="3"/>
                      </a:lnTo>
                      <a:lnTo>
                        <a:pt x="207" y="3"/>
                      </a:lnTo>
                      <a:lnTo>
                        <a:pt x="210" y="0"/>
                      </a:lnTo>
                      <a:lnTo>
                        <a:pt x="213" y="0"/>
                      </a:lnTo>
                      <a:lnTo>
                        <a:pt x="213" y="0"/>
                      </a:lnTo>
                      <a:lnTo>
                        <a:pt x="465" y="0"/>
                      </a:lnTo>
                      <a:lnTo>
                        <a:pt x="468" y="3"/>
                      </a:lnTo>
                      <a:lnTo>
                        <a:pt x="471" y="6"/>
                      </a:lnTo>
                      <a:lnTo>
                        <a:pt x="471" y="6"/>
                      </a:lnTo>
                      <a:lnTo>
                        <a:pt x="475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a1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145560" y="3251520"/>
                  <a:ext cx="7200" cy="79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0" y="9"/>
                      </a:move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a1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688720" y="3141360"/>
                  <a:ext cx="24480" cy="55080"/>
                </a:xfrm>
                <a:custGeom>
                  <a:avLst/>
                  <a:gdLst/>
                  <a:ahLst/>
                  <a:rect l="l" t="t" r="r" b="b"/>
                  <a:pathLst>
                    <a:path w="29" h="61">
                      <a:moveTo>
                        <a:pt x="0" y="61"/>
                      </a:moveTo>
                      <a:lnTo>
                        <a:pt x="0" y="48"/>
                      </a:lnTo>
                      <a:lnTo>
                        <a:pt x="0" y="23"/>
                      </a:lnTo>
                      <a:lnTo>
                        <a:pt x="3" y="0"/>
                      </a:lnTo>
                      <a:lnTo>
                        <a:pt x="6" y="13"/>
                      </a:lnTo>
                      <a:lnTo>
                        <a:pt x="10" y="26"/>
                      </a:lnTo>
                      <a:lnTo>
                        <a:pt x="13" y="39"/>
                      </a:lnTo>
                      <a:lnTo>
                        <a:pt x="16" y="48"/>
                      </a:lnTo>
                      <a:lnTo>
                        <a:pt x="22" y="55"/>
                      </a:lnTo>
                      <a:lnTo>
                        <a:pt x="29" y="61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979240" y="3193560"/>
                  <a:ext cx="35640" cy="2520"/>
                </a:xfrm>
                <a:custGeom>
                  <a:avLst/>
                  <a:gdLst/>
                  <a:ahLst/>
                  <a:rect l="l" t="t" r="r" b="b"/>
                  <a:pathLst>
                    <a:path w="42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10" y="3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9" y="0"/>
                      </a:lnTo>
                      <a:lnTo>
                        <a:pt x="35" y="3"/>
                      </a:lnTo>
                      <a:lnTo>
                        <a:pt x="4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688720" y="3196440"/>
                  <a:ext cx="173880" cy="55080"/>
                </a:xfrm>
                <a:custGeom>
                  <a:avLst/>
                  <a:gdLst/>
                  <a:ahLst/>
                  <a:rect l="l" t="t" r="r" b="b"/>
                  <a:pathLst>
                    <a:path w="204" h="61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3" y="35"/>
                      </a:lnTo>
                      <a:lnTo>
                        <a:pt x="6" y="41"/>
                      </a:lnTo>
                      <a:lnTo>
                        <a:pt x="6" y="48"/>
                      </a:lnTo>
                      <a:lnTo>
                        <a:pt x="10" y="54"/>
                      </a:lnTo>
                      <a:lnTo>
                        <a:pt x="10" y="61"/>
                      </a:lnTo>
                      <a:lnTo>
                        <a:pt x="204" y="61"/>
                      </a:lnTo>
                      <a:lnTo>
                        <a:pt x="198" y="61"/>
                      </a:lnTo>
                      <a:lnTo>
                        <a:pt x="191" y="61"/>
                      </a:lnTo>
                      <a:lnTo>
                        <a:pt x="188" y="57"/>
                      </a:lnTo>
                      <a:lnTo>
                        <a:pt x="182" y="57"/>
                      </a:lnTo>
                      <a:lnTo>
                        <a:pt x="178" y="57"/>
                      </a:lnTo>
                      <a:lnTo>
                        <a:pt x="172" y="54"/>
                      </a:lnTo>
                      <a:lnTo>
                        <a:pt x="166" y="54"/>
                      </a:lnTo>
                      <a:lnTo>
                        <a:pt x="163" y="51"/>
                      </a:lnTo>
                      <a:lnTo>
                        <a:pt x="156" y="51"/>
                      </a:lnTo>
                      <a:lnTo>
                        <a:pt x="153" y="51"/>
                      </a:lnTo>
                      <a:lnTo>
                        <a:pt x="147" y="48"/>
                      </a:lnTo>
                      <a:lnTo>
                        <a:pt x="143" y="48"/>
                      </a:lnTo>
                      <a:lnTo>
                        <a:pt x="140" y="45"/>
                      </a:lnTo>
                      <a:lnTo>
                        <a:pt x="134" y="45"/>
                      </a:lnTo>
                      <a:lnTo>
                        <a:pt x="131" y="45"/>
                      </a:lnTo>
                      <a:lnTo>
                        <a:pt x="131" y="45"/>
                      </a:lnTo>
                      <a:lnTo>
                        <a:pt x="115" y="41"/>
                      </a:lnTo>
                      <a:lnTo>
                        <a:pt x="102" y="38"/>
                      </a:lnTo>
                      <a:lnTo>
                        <a:pt x="92" y="35"/>
                      </a:lnTo>
                      <a:lnTo>
                        <a:pt x="80" y="32"/>
                      </a:lnTo>
                      <a:lnTo>
                        <a:pt x="70" y="29"/>
                      </a:lnTo>
                      <a:lnTo>
                        <a:pt x="61" y="22"/>
                      </a:lnTo>
                      <a:lnTo>
                        <a:pt x="51" y="19"/>
                      </a:lnTo>
                      <a:lnTo>
                        <a:pt x="45" y="16"/>
                      </a:lnTo>
                      <a:lnTo>
                        <a:pt x="35" y="10"/>
                      </a:lnTo>
                      <a:lnTo>
                        <a:pt x="29" y="3"/>
                      </a:lnTo>
                      <a:lnTo>
                        <a:pt x="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878800" y="3196440"/>
                  <a:ext cx="214560" cy="55080"/>
                </a:xfrm>
                <a:custGeom>
                  <a:avLst/>
                  <a:gdLst/>
                  <a:ahLst/>
                  <a:rect l="l" t="t" r="r" b="b"/>
                  <a:pathLst>
                    <a:path w="252" h="61">
                      <a:moveTo>
                        <a:pt x="118" y="0"/>
                      </a:moveTo>
                      <a:lnTo>
                        <a:pt x="112" y="3"/>
                      </a:lnTo>
                      <a:lnTo>
                        <a:pt x="105" y="3"/>
                      </a:lnTo>
                      <a:lnTo>
                        <a:pt x="96" y="6"/>
                      </a:lnTo>
                      <a:lnTo>
                        <a:pt x="86" y="10"/>
                      </a:lnTo>
                      <a:lnTo>
                        <a:pt x="77" y="13"/>
                      </a:lnTo>
                      <a:lnTo>
                        <a:pt x="67" y="19"/>
                      </a:lnTo>
                      <a:lnTo>
                        <a:pt x="58" y="22"/>
                      </a:lnTo>
                      <a:lnTo>
                        <a:pt x="48" y="29"/>
                      </a:lnTo>
                      <a:lnTo>
                        <a:pt x="38" y="32"/>
                      </a:lnTo>
                      <a:lnTo>
                        <a:pt x="29" y="38"/>
                      </a:lnTo>
                      <a:lnTo>
                        <a:pt x="22" y="45"/>
                      </a:lnTo>
                      <a:lnTo>
                        <a:pt x="16" y="51"/>
                      </a:lnTo>
                      <a:lnTo>
                        <a:pt x="10" y="57"/>
                      </a:lnTo>
                      <a:lnTo>
                        <a:pt x="10" y="57"/>
                      </a:lnTo>
                      <a:lnTo>
                        <a:pt x="6" y="61"/>
                      </a:lnTo>
                      <a:lnTo>
                        <a:pt x="3" y="61"/>
                      </a:lnTo>
                      <a:lnTo>
                        <a:pt x="0" y="61"/>
                      </a:lnTo>
                      <a:lnTo>
                        <a:pt x="252" y="61"/>
                      </a:lnTo>
                      <a:lnTo>
                        <a:pt x="246" y="54"/>
                      </a:lnTo>
                      <a:lnTo>
                        <a:pt x="239" y="48"/>
                      </a:lnTo>
                      <a:lnTo>
                        <a:pt x="233" y="45"/>
                      </a:lnTo>
                      <a:lnTo>
                        <a:pt x="226" y="38"/>
                      </a:lnTo>
                      <a:lnTo>
                        <a:pt x="217" y="32"/>
                      </a:lnTo>
                      <a:lnTo>
                        <a:pt x="211" y="25"/>
                      </a:lnTo>
                      <a:lnTo>
                        <a:pt x="204" y="22"/>
                      </a:lnTo>
                      <a:lnTo>
                        <a:pt x="198" y="16"/>
                      </a:lnTo>
                      <a:lnTo>
                        <a:pt x="191" y="13"/>
                      </a:lnTo>
                      <a:lnTo>
                        <a:pt x="182" y="10"/>
                      </a:lnTo>
                      <a:lnTo>
                        <a:pt x="175" y="6"/>
                      </a:lnTo>
                      <a:lnTo>
                        <a:pt x="169" y="3"/>
                      </a:lnTo>
                      <a:lnTo>
                        <a:pt x="163" y="0"/>
                      </a:lnTo>
                      <a:lnTo>
                        <a:pt x="160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049880" y="3264840"/>
                  <a:ext cx="418320" cy="447120"/>
                </a:xfrm>
                <a:custGeom>
                  <a:avLst/>
                  <a:gdLst/>
                  <a:ahLst/>
                  <a:rect l="l" t="t" r="r" b="b"/>
                  <a:pathLst>
                    <a:path w="491" h="495">
                      <a:moveTo>
                        <a:pt x="491" y="431"/>
                      </a:moveTo>
                      <a:lnTo>
                        <a:pt x="491" y="431"/>
                      </a:lnTo>
                      <a:lnTo>
                        <a:pt x="488" y="431"/>
                      </a:lnTo>
                      <a:lnTo>
                        <a:pt x="485" y="428"/>
                      </a:lnTo>
                      <a:lnTo>
                        <a:pt x="481" y="428"/>
                      </a:lnTo>
                      <a:lnTo>
                        <a:pt x="478" y="428"/>
                      </a:lnTo>
                      <a:lnTo>
                        <a:pt x="475" y="425"/>
                      </a:lnTo>
                      <a:lnTo>
                        <a:pt x="475" y="425"/>
                      </a:lnTo>
                      <a:lnTo>
                        <a:pt x="472" y="421"/>
                      </a:lnTo>
                      <a:lnTo>
                        <a:pt x="469" y="415"/>
                      </a:lnTo>
                      <a:lnTo>
                        <a:pt x="469" y="405"/>
                      </a:lnTo>
                      <a:lnTo>
                        <a:pt x="472" y="399"/>
                      </a:lnTo>
                      <a:lnTo>
                        <a:pt x="472" y="390"/>
                      </a:lnTo>
                      <a:lnTo>
                        <a:pt x="472" y="367"/>
                      </a:lnTo>
                      <a:lnTo>
                        <a:pt x="472" y="342"/>
                      </a:lnTo>
                      <a:lnTo>
                        <a:pt x="472" y="316"/>
                      </a:lnTo>
                      <a:lnTo>
                        <a:pt x="469" y="294"/>
                      </a:lnTo>
                      <a:lnTo>
                        <a:pt x="469" y="268"/>
                      </a:lnTo>
                      <a:lnTo>
                        <a:pt x="462" y="246"/>
                      </a:lnTo>
                      <a:lnTo>
                        <a:pt x="459" y="221"/>
                      </a:lnTo>
                      <a:lnTo>
                        <a:pt x="453" y="198"/>
                      </a:lnTo>
                      <a:lnTo>
                        <a:pt x="446" y="176"/>
                      </a:lnTo>
                      <a:lnTo>
                        <a:pt x="440" y="157"/>
                      </a:lnTo>
                      <a:lnTo>
                        <a:pt x="430" y="134"/>
                      </a:lnTo>
                      <a:lnTo>
                        <a:pt x="421" y="115"/>
                      </a:lnTo>
                      <a:lnTo>
                        <a:pt x="408" y="96"/>
                      </a:lnTo>
                      <a:lnTo>
                        <a:pt x="395" y="80"/>
                      </a:lnTo>
                      <a:lnTo>
                        <a:pt x="379" y="64"/>
                      </a:lnTo>
                      <a:lnTo>
                        <a:pt x="364" y="52"/>
                      </a:lnTo>
                      <a:lnTo>
                        <a:pt x="357" y="45"/>
                      </a:lnTo>
                      <a:lnTo>
                        <a:pt x="348" y="39"/>
                      </a:lnTo>
                      <a:lnTo>
                        <a:pt x="341" y="36"/>
                      </a:lnTo>
                      <a:lnTo>
                        <a:pt x="332" y="29"/>
                      </a:lnTo>
                      <a:lnTo>
                        <a:pt x="322" y="26"/>
                      </a:lnTo>
                      <a:lnTo>
                        <a:pt x="316" y="23"/>
                      </a:lnTo>
                      <a:lnTo>
                        <a:pt x="306" y="20"/>
                      </a:lnTo>
                      <a:lnTo>
                        <a:pt x="293" y="16"/>
                      </a:lnTo>
                      <a:lnTo>
                        <a:pt x="284" y="13"/>
                      </a:lnTo>
                      <a:lnTo>
                        <a:pt x="274" y="10"/>
                      </a:lnTo>
                      <a:lnTo>
                        <a:pt x="265" y="10"/>
                      </a:lnTo>
                      <a:lnTo>
                        <a:pt x="252" y="7"/>
                      </a:lnTo>
                      <a:lnTo>
                        <a:pt x="239" y="7"/>
                      </a:lnTo>
                      <a:lnTo>
                        <a:pt x="226" y="4"/>
                      </a:lnTo>
                      <a:lnTo>
                        <a:pt x="214" y="4"/>
                      </a:lnTo>
                      <a:lnTo>
                        <a:pt x="201" y="4"/>
                      </a:lnTo>
                      <a:lnTo>
                        <a:pt x="185" y="0"/>
                      </a:lnTo>
                      <a:lnTo>
                        <a:pt x="166" y="4"/>
                      </a:lnTo>
                      <a:lnTo>
                        <a:pt x="147" y="4"/>
                      </a:lnTo>
                      <a:lnTo>
                        <a:pt x="131" y="7"/>
                      </a:lnTo>
                      <a:lnTo>
                        <a:pt x="112" y="10"/>
                      </a:lnTo>
                      <a:lnTo>
                        <a:pt x="96" y="16"/>
                      </a:lnTo>
                      <a:lnTo>
                        <a:pt x="80" y="23"/>
                      </a:lnTo>
                      <a:lnTo>
                        <a:pt x="67" y="32"/>
                      </a:lnTo>
                      <a:lnTo>
                        <a:pt x="51" y="45"/>
                      </a:lnTo>
                      <a:lnTo>
                        <a:pt x="38" y="58"/>
                      </a:lnTo>
                      <a:lnTo>
                        <a:pt x="29" y="74"/>
                      </a:lnTo>
                      <a:lnTo>
                        <a:pt x="19" y="93"/>
                      </a:lnTo>
                      <a:lnTo>
                        <a:pt x="10" y="112"/>
                      </a:lnTo>
                      <a:lnTo>
                        <a:pt x="6" y="138"/>
                      </a:lnTo>
                      <a:lnTo>
                        <a:pt x="3" y="163"/>
                      </a:lnTo>
                      <a:lnTo>
                        <a:pt x="0" y="195"/>
                      </a:lnTo>
                      <a:lnTo>
                        <a:pt x="0" y="221"/>
                      </a:lnTo>
                      <a:lnTo>
                        <a:pt x="3" y="246"/>
                      </a:lnTo>
                      <a:lnTo>
                        <a:pt x="6" y="272"/>
                      </a:lnTo>
                      <a:lnTo>
                        <a:pt x="10" y="297"/>
                      </a:lnTo>
                      <a:lnTo>
                        <a:pt x="13" y="323"/>
                      </a:lnTo>
                      <a:lnTo>
                        <a:pt x="16" y="345"/>
                      </a:lnTo>
                      <a:lnTo>
                        <a:pt x="22" y="370"/>
                      </a:lnTo>
                      <a:lnTo>
                        <a:pt x="29" y="393"/>
                      </a:lnTo>
                      <a:lnTo>
                        <a:pt x="29" y="396"/>
                      </a:lnTo>
                      <a:lnTo>
                        <a:pt x="32" y="399"/>
                      </a:lnTo>
                      <a:lnTo>
                        <a:pt x="32" y="399"/>
                      </a:lnTo>
                      <a:lnTo>
                        <a:pt x="35" y="399"/>
                      </a:lnTo>
                      <a:lnTo>
                        <a:pt x="35" y="402"/>
                      </a:lnTo>
                      <a:lnTo>
                        <a:pt x="38" y="402"/>
                      </a:lnTo>
                      <a:lnTo>
                        <a:pt x="42" y="402"/>
                      </a:lnTo>
                      <a:lnTo>
                        <a:pt x="45" y="405"/>
                      </a:lnTo>
                      <a:lnTo>
                        <a:pt x="48" y="405"/>
                      </a:lnTo>
                      <a:lnTo>
                        <a:pt x="54" y="405"/>
                      </a:lnTo>
                      <a:lnTo>
                        <a:pt x="61" y="405"/>
                      </a:lnTo>
                      <a:lnTo>
                        <a:pt x="70" y="405"/>
                      </a:lnTo>
                      <a:lnTo>
                        <a:pt x="77" y="409"/>
                      </a:lnTo>
                      <a:lnTo>
                        <a:pt x="83" y="409"/>
                      </a:lnTo>
                      <a:lnTo>
                        <a:pt x="89" y="409"/>
                      </a:lnTo>
                      <a:lnTo>
                        <a:pt x="93" y="409"/>
                      </a:lnTo>
                      <a:lnTo>
                        <a:pt x="99" y="415"/>
                      </a:lnTo>
                      <a:lnTo>
                        <a:pt x="105" y="421"/>
                      </a:lnTo>
                      <a:lnTo>
                        <a:pt x="112" y="431"/>
                      </a:lnTo>
                      <a:lnTo>
                        <a:pt x="118" y="437"/>
                      </a:lnTo>
                      <a:lnTo>
                        <a:pt x="124" y="444"/>
                      </a:lnTo>
                      <a:lnTo>
                        <a:pt x="131" y="450"/>
                      </a:lnTo>
                      <a:lnTo>
                        <a:pt x="137" y="453"/>
                      </a:lnTo>
                      <a:lnTo>
                        <a:pt x="144" y="460"/>
                      </a:lnTo>
                      <a:lnTo>
                        <a:pt x="153" y="466"/>
                      </a:lnTo>
                      <a:lnTo>
                        <a:pt x="159" y="472"/>
                      </a:lnTo>
                      <a:lnTo>
                        <a:pt x="169" y="476"/>
                      </a:lnTo>
                      <a:lnTo>
                        <a:pt x="175" y="479"/>
                      </a:lnTo>
                      <a:lnTo>
                        <a:pt x="185" y="485"/>
                      </a:lnTo>
                      <a:lnTo>
                        <a:pt x="195" y="488"/>
                      </a:lnTo>
                      <a:lnTo>
                        <a:pt x="204" y="488"/>
                      </a:lnTo>
                      <a:lnTo>
                        <a:pt x="214" y="492"/>
                      </a:lnTo>
                      <a:lnTo>
                        <a:pt x="223" y="492"/>
                      </a:lnTo>
                      <a:lnTo>
                        <a:pt x="230" y="495"/>
                      </a:lnTo>
                      <a:lnTo>
                        <a:pt x="239" y="495"/>
                      </a:lnTo>
                      <a:lnTo>
                        <a:pt x="249" y="495"/>
                      </a:lnTo>
                      <a:lnTo>
                        <a:pt x="255" y="495"/>
                      </a:lnTo>
                      <a:lnTo>
                        <a:pt x="265" y="495"/>
                      </a:lnTo>
                      <a:lnTo>
                        <a:pt x="274" y="495"/>
                      </a:lnTo>
                      <a:lnTo>
                        <a:pt x="281" y="495"/>
                      </a:lnTo>
                      <a:lnTo>
                        <a:pt x="290" y="495"/>
                      </a:lnTo>
                      <a:lnTo>
                        <a:pt x="300" y="495"/>
                      </a:lnTo>
                      <a:lnTo>
                        <a:pt x="306" y="495"/>
                      </a:lnTo>
                      <a:lnTo>
                        <a:pt x="316" y="495"/>
                      </a:lnTo>
                      <a:lnTo>
                        <a:pt x="325" y="492"/>
                      </a:lnTo>
                      <a:lnTo>
                        <a:pt x="332" y="492"/>
                      </a:lnTo>
                      <a:lnTo>
                        <a:pt x="341" y="492"/>
                      </a:lnTo>
                      <a:lnTo>
                        <a:pt x="351" y="488"/>
                      </a:lnTo>
                      <a:lnTo>
                        <a:pt x="357" y="488"/>
                      </a:lnTo>
                      <a:lnTo>
                        <a:pt x="367" y="485"/>
                      </a:lnTo>
                      <a:lnTo>
                        <a:pt x="373" y="482"/>
                      </a:lnTo>
                      <a:lnTo>
                        <a:pt x="383" y="479"/>
                      </a:lnTo>
                      <a:lnTo>
                        <a:pt x="389" y="476"/>
                      </a:lnTo>
                      <a:lnTo>
                        <a:pt x="399" y="476"/>
                      </a:lnTo>
                      <a:lnTo>
                        <a:pt x="405" y="472"/>
                      </a:lnTo>
                      <a:lnTo>
                        <a:pt x="415" y="469"/>
                      </a:lnTo>
                      <a:lnTo>
                        <a:pt x="421" y="463"/>
                      </a:lnTo>
                      <a:lnTo>
                        <a:pt x="427" y="460"/>
                      </a:lnTo>
                      <a:lnTo>
                        <a:pt x="434" y="457"/>
                      </a:lnTo>
                      <a:lnTo>
                        <a:pt x="440" y="450"/>
                      </a:lnTo>
                      <a:lnTo>
                        <a:pt x="450" y="447"/>
                      </a:lnTo>
                      <a:lnTo>
                        <a:pt x="456" y="441"/>
                      </a:lnTo>
                      <a:lnTo>
                        <a:pt x="459" y="437"/>
                      </a:lnTo>
                      <a:lnTo>
                        <a:pt x="466" y="431"/>
                      </a:lnTo>
                      <a:lnTo>
                        <a:pt x="469" y="431"/>
                      </a:lnTo>
                      <a:lnTo>
                        <a:pt x="472" y="431"/>
                      </a:lnTo>
                      <a:lnTo>
                        <a:pt x="475" y="431"/>
                      </a:lnTo>
                      <a:lnTo>
                        <a:pt x="478" y="431"/>
                      </a:lnTo>
                      <a:lnTo>
                        <a:pt x="481" y="431"/>
                      </a:lnTo>
                      <a:lnTo>
                        <a:pt x="485" y="431"/>
                      </a:lnTo>
                      <a:lnTo>
                        <a:pt x="488" y="431"/>
                      </a:lnTo>
                      <a:lnTo>
                        <a:pt x="491" y="4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139520" y="3354480"/>
                  <a:ext cx="228240" cy="77400"/>
                </a:xfrm>
                <a:custGeom>
                  <a:avLst/>
                  <a:gdLst/>
                  <a:ahLst/>
                  <a:rect l="l" t="t" r="r" b="b"/>
                  <a:pathLst>
                    <a:path w="268" h="86">
                      <a:moveTo>
                        <a:pt x="268" y="86"/>
                      </a:moveTo>
                      <a:lnTo>
                        <a:pt x="262" y="77"/>
                      </a:lnTo>
                      <a:lnTo>
                        <a:pt x="259" y="71"/>
                      </a:lnTo>
                      <a:lnTo>
                        <a:pt x="252" y="61"/>
                      </a:lnTo>
                      <a:lnTo>
                        <a:pt x="246" y="55"/>
                      </a:lnTo>
                      <a:lnTo>
                        <a:pt x="236" y="48"/>
                      </a:lnTo>
                      <a:lnTo>
                        <a:pt x="230" y="39"/>
                      </a:lnTo>
                      <a:lnTo>
                        <a:pt x="220" y="32"/>
                      </a:lnTo>
                      <a:lnTo>
                        <a:pt x="214" y="26"/>
                      </a:lnTo>
                      <a:lnTo>
                        <a:pt x="204" y="23"/>
                      </a:lnTo>
                      <a:lnTo>
                        <a:pt x="195" y="16"/>
                      </a:lnTo>
                      <a:lnTo>
                        <a:pt x="185" y="13"/>
                      </a:lnTo>
                      <a:lnTo>
                        <a:pt x="176" y="10"/>
                      </a:lnTo>
                      <a:lnTo>
                        <a:pt x="166" y="7"/>
                      </a:lnTo>
                      <a:lnTo>
                        <a:pt x="156" y="4"/>
                      </a:lnTo>
                      <a:lnTo>
                        <a:pt x="144" y="4"/>
                      </a:lnTo>
                      <a:lnTo>
                        <a:pt x="134" y="0"/>
                      </a:lnTo>
                      <a:lnTo>
                        <a:pt x="121" y="0"/>
                      </a:lnTo>
                      <a:lnTo>
                        <a:pt x="112" y="4"/>
                      </a:lnTo>
                      <a:lnTo>
                        <a:pt x="99" y="4"/>
                      </a:lnTo>
                      <a:lnTo>
                        <a:pt x="90" y="7"/>
                      </a:lnTo>
                      <a:lnTo>
                        <a:pt x="80" y="10"/>
                      </a:lnTo>
                      <a:lnTo>
                        <a:pt x="70" y="16"/>
                      </a:lnTo>
                      <a:lnTo>
                        <a:pt x="61" y="19"/>
                      </a:lnTo>
                      <a:lnTo>
                        <a:pt x="51" y="26"/>
                      </a:lnTo>
                      <a:lnTo>
                        <a:pt x="42" y="32"/>
                      </a:lnTo>
                      <a:lnTo>
                        <a:pt x="35" y="39"/>
                      </a:lnTo>
                      <a:lnTo>
                        <a:pt x="29" y="45"/>
                      </a:lnTo>
                      <a:lnTo>
                        <a:pt x="23" y="51"/>
                      </a:lnTo>
                      <a:lnTo>
                        <a:pt x="16" y="61"/>
                      </a:lnTo>
                      <a:lnTo>
                        <a:pt x="10" y="71"/>
                      </a:lnTo>
                      <a:lnTo>
                        <a:pt x="3" y="77"/>
                      </a:lnTo>
                      <a:lnTo>
                        <a:pt x="0" y="86"/>
                      </a:lnTo>
                      <a:lnTo>
                        <a:pt x="268" y="86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136640" y="3432240"/>
                  <a:ext cx="233640" cy="6120"/>
                </a:xfrm>
                <a:custGeom>
                  <a:avLst/>
                  <a:gdLst/>
                  <a:ahLst/>
                  <a:rect l="l" t="t" r="r" b="b"/>
                  <a:pathLst>
                    <a:path w="274" h="7">
                      <a:moveTo>
                        <a:pt x="271" y="0"/>
                      </a:moveTo>
                      <a:lnTo>
                        <a:pt x="271" y="4"/>
                      </a:lnTo>
                      <a:lnTo>
                        <a:pt x="274" y="4"/>
                      </a:lnTo>
                      <a:lnTo>
                        <a:pt x="274" y="4"/>
                      </a:lnTo>
                      <a:lnTo>
                        <a:pt x="274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271" y="0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136640" y="3438360"/>
                  <a:ext cx="236160" cy="2520"/>
                </a:xfrm>
                <a:custGeom>
                  <a:avLst/>
                  <a:gdLst/>
                  <a:ahLst/>
                  <a:rect l="l" t="t" r="r" b="b"/>
                  <a:pathLst>
                    <a:path w="277" h="3">
                      <a:moveTo>
                        <a:pt x="274" y="0"/>
                      </a:moveTo>
                      <a:lnTo>
                        <a:pt x="274" y="0"/>
                      </a:lnTo>
                      <a:lnTo>
                        <a:pt x="274" y="0"/>
                      </a:lnTo>
                      <a:lnTo>
                        <a:pt x="274" y="0"/>
                      </a:lnTo>
                      <a:lnTo>
                        <a:pt x="277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74" y="0"/>
                      </a:lnTo>
                      <a:close/>
                    </a:path>
                  </a:pathLst>
                </a:custGeom>
                <a:solidFill>
                  <a:srgbClr val="8c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34120" y="3441240"/>
                  <a:ext cx="238680" cy="2520"/>
                </a:xfrm>
                <a:custGeom>
                  <a:avLst/>
                  <a:gdLst/>
                  <a:ahLst/>
                  <a:rect l="l" t="t" r="r" b="b"/>
                  <a:pathLst>
                    <a:path w="280" h="3">
                      <a:moveTo>
                        <a:pt x="280" y="0"/>
                      </a:moveTo>
                      <a:lnTo>
                        <a:pt x="280" y="0"/>
                      </a:lnTo>
                      <a:lnTo>
                        <a:pt x="280" y="0"/>
                      </a:lnTo>
                      <a:lnTo>
                        <a:pt x="280" y="3"/>
                      </a:lnTo>
                      <a:lnTo>
                        <a:pt x="28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80" y="0"/>
                      </a:lnTo>
                      <a:close/>
                    </a:path>
                  </a:pathLst>
                </a:custGeom>
                <a:solidFill>
                  <a:srgbClr val="8c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134120" y="3443760"/>
                  <a:ext cx="241920" cy="2520"/>
                </a:xfrm>
                <a:custGeom>
                  <a:avLst/>
                  <a:gdLst/>
                  <a:ahLst/>
                  <a:rect l="l" t="t" r="r" b="b"/>
                  <a:pathLst>
                    <a:path w="284" h="3">
                      <a:moveTo>
                        <a:pt x="280" y="0"/>
                      </a:moveTo>
                      <a:lnTo>
                        <a:pt x="280" y="0"/>
                      </a:lnTo>
                      <a:lnTo>
                        <a:pt x="284" y="3"/>
                      </a:lnTo>
                      <a:lnTo>
                        <a:pt x="284" y="3"/>
                      </a:lnTo>
                      <a:lnTo>
                        <a:pt x="284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80" y="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31600" y="3446640"/>
                  <a:ext cx="246960" cy="6120"/>
                </a:xfrm>
                <a:custGeom>
                  <a:avLst/>
                  <a:gdLst/>
                  <a:ahLst/>
                  <a:rect l="l" t="t" r="r" b="b"/>
                  <a:pathLst>
                    <a:path w="290" h="7">
                      <a:moveTo>
                        <a:pt x="287" y="0"/>
                      </a:moveTo>
                      <a:lnTo>
                        <a:pt x="287" y="4"/>
                      </a:lnTo>
                      <a:lnTo>
                        <a:pt x="287" y="4"/>
                      </a:lnTo>
                      <a:lnTo>
                        <a:pt x="287" y="7"/>
                      </a:lnTo>
                      <a:lnTo>
                        <a:pt x="29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287" y="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31600" y="3453120"/>
                  <a:ext cx="246960" cy="2520"/>
                </a:xfrm>
                <a:custGeom>
                  <a:avLst/>
                  <a:gdLst/>
                  <a:ahLst/>
                  <a:rect l="l" t="t" r="r" b="b"/>
                  <a:pathLst>
                    <a:path w="290" h="3">
                      <a:moveTo>
                        <a:pt x="290" y="0"/>
                      </a:moveTo>
                      <a:lnTo>
                        <a:pt x="290" y="0"/>
                      </a:lnTo>
                      <a:lnTo>
                        <a:pt x="290" y="0"/>
                      </a:lnTo>
                      <a:lnTo>
                        <a:pt x="290" y="3"/>
                      </a:lnTo>
                      <a:lnTo>
                        <a:pt x="29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90" y="0"/>
                      </a:lnTo>
                      <a:close/>
                    </a:path>
                  </a:pathLst>
                </a:custGeom>
                <a:solidFill>
                  <a:srgbClr val="96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131600" y="3455640"/>
                  <a:ext cx="249480" cy="2520"/>
                </a:xfrm>
                <a:custGeom>
                  <a:avLst/>
                  <a:gdLst/>
                  <a:ahLst/>
                  <a:rect l="l" t="t" r="r" b="b"/>
                  <a:pathLst>
                    <a:path w="293" h="3">
                      <a:moveTo>
                        <a:pt x="290" y="0"/>
                      </a:moveTo>
                      <a:lnTo>
                        <a:pt x="290" y="0"/>
                      </a:lnTo>
                      <a:lnTo>
                        <a:pt x="290" y="3"/>
                      </a:lnTo>
                      <a:lnTo>
                        <a:pt x="293" y="3"/>
                      </a:lnTo>
                      <a:lnTo>
                        <a:pt x="29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90" y="0"/>
                      </a:lnTo>
                      <a:close/>
                    </a:path>
                  </a:pathLst>
                </a:custGeom>
                <a:solidFill>
                  <a:srgbClr val="99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129080" y="3458160"/>
                  <a:ext cx="252000" cy="6120"/>
                </a:xfrm>
                <a:custGeom>
                  <a:avLst/>
                  <a:gdLst/>
                  <a:ahLst/>
                  <a:rect l="l" t="t" r="r" b="b"/>
                  <a:pathLst>
                    <a:path w="296" h="7">
                      <a:moveTo>
                        <a:pt x="296" y="0"/>
                      </a:moveTo>
                      <a:lnTo>
                        <a:pt x="296" y="3"/>
                      </a:lnTo>
                      <a:lnTo>
                        <a:pt x="296" y="3"/>
                      </a:lnTo>
                      <a:lnTo>
                        <a:pt x="296" y="3"/>
                      </a:lnTo>
                      <a:lnTo>
                        <a:pt x="296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296" y="0"/>
                      </a:lnTo>
                      <a:close/>
                    </a:path>
                  </a:pathLst>
                </a:custGeom>
                <a:solidFill>
                  <a:srgbClr val="9b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129080" y="3464640"/>
                  <a:ext cx="254520" cy="2520"/>
                </a:xfrm>
                <a:custGeom>
                  <a:avLst/>
                  <a:gdLst/>
                  <a:ahLst/>
                  <a:rect l="l" t="t" r="r" b="b"/>
                  <a:pathLst>
                    <a:path w="299" h="3">
                      <a:moveTo>
                        <a:pt x="296" y="0"/>
                      </a:moveTo>
                      <a:lnTo>
                        <a:pt x="296" y="0"/>
                      </a:lnTo>
                      <a:lnTo>
                        <a:pt x="296" y="0"/>
                      </a:lnTo>
                      <a:lnTo>
                        <a:pt x="299" y="3"/>
                      </a:lnTo>
                      <a:lnTo>
                        <a:pt x="299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96" y="0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129080" y="3467160"/>
                  <a:ext cx="254520" cy="2520"/>
                </a:xfrm>
                <a:custGeom>
                  <a:avLst/>
                  <a:gdLst/>
                  <a:ahLst/>
                  <a:rect l="l" t="t" r="r" b="b"/>
                  <a:pathLst>
                    <a:path w="299" h="3">
                      <a:moveTo>
                        <a:pt x="299" y="0"/>
                      </a:moveTo>
                      <a:lnTo>
                        <a:pt x="299" y="0"/>
                      </a:lnTo>
                      <a:lnTo>
                        <a:pt x="299" y="3"/>
                      </a:lnTo>
                      <a:lnTo>
                        <a:pt x="299" y="3"/>
                      </a:lnTo>
                      <a:lnTo>
                        <a:pt x="299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99" y="0"/>
                      </a:lnTo>
                      <a:close/>
                    </a:path>
                  </a:pathLst>
                </a:custGeom>
                <a:solidFill>
                  <a:srgbClr val="a1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129080" y="3470040"/>
                  <a:ext cx="257040" cy="5400"/>
                </a:xfrm>
                <a:custGeom>
                  <a:avLst/>
                  <a:gdLst/>
                  <a:ahLst/>
                  <a:rect l="l" t="t" r="r" b="b"/>
                  <a:pathLst>
                    <a:path w="302" h="6">
                      <a:moveTo>
                        <a:pt x="299" y="0"/>
                      </a:moveTo>
                      <a:lnTo>
                        <a:pt x="299" y="3"/>
                      </a:lnTo>
                      <a:lnTo>
                        <a:pt x="299" y="3"/>
                      </a:lnTo>
                      <a:lnTo>
                        <a:pt x="299" y="3"/>
                      </a:lnTo>
                      <a:lnTo>
                        <a:pt x="302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99" y="0"/>
                      </a:lnTo>
                      <a:close/>
                    </a:path>
                  </a:pathLst>
                </a:custGeom>
                <a:solidFill>
                  <a:srgbClr val="a3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125840" y="3475440"/>
                  <a:ext cx="260640" cy="2520"/>
                </a:xfrm>
                <a:custGeom>
                  <a:avLst/>
                  <a:gdLst/>
                  <a:ahLst/>
                  <a:rect l="l" t="t" r="r" b="b"/>
                  <a:pathLst>
                    <a:path w="306" h="3">
                      <a:moveTo>
                        <a:pt x="306" y="0"/>
                      </a:moveTo>
                      <a:lnTo>
                        <a:pt x="306" y="0"/>
                      </a:lnTo>
                      <a:lnTo>
                        <a:pt x="306" y="0"/>
                      </a:lnTo>
                      <a:lnTo>
                        <a:pt x="306" y="3"/>
                      </a:lnTo>
                      <a:lnTo>
                        <a:pt x="306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06" y="0"/>
                      </a:lnTo>
                      <a:close/>
                    </a:path>
                  </a:pathLst>
                </a:custGeom>
                <a:solidFill>
                  <a:srgbClr val="a6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125840" y="3478320"/>
                  <a:ext cx="260640" cy="3600"/>
                </a:xfrm>
                <a:custGeom>
                  <a:avLst/>
                  <a:gdLst/>
                  <a:ahLst/>
                  <a:rect l="l" t="t" r="r" b="b"/>
                  <a:pathLst>
                    <a:path w="306" h="4">
                      <a:moveTo>
                        <a:pt x="306" y="0"/>
                      </a:moveTo>
                      <a:lnTo>
                        <a:pt x="306" y="0"/>
                      </a:lnTo>
                      <a:lnTo>
                        <a:pt x="306" y="4"/>
                      </a:lnTo>
                      <a:lnTo>
                        <a:pt x="306" y="4"/>
                      </a:lnTo>
                      <a:lnTo>
                        <a:pt x="306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06" y="0"/>
                      </a:lnTo>
                      <a:close/>
                    </a:path>
                  </a:pathLst>
                </a:custGeom>
                <a:solidFill>
                  <a:srgbClr val="a8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25840" y="3481920"/>
                  <a:ext cx="263880" cy="5040"/>
                </a:xfrm>
                <a:custGeom>
                  <a:avLst/>
                  <a:gdLst/>
                  <a:ahLst/>
                  <a:rect l="l" t="t" r="r" b="b"/>
                  <a:pathLst>
                    <a:path w="310" h="6">
                      <a:moveTo>
                        <a:pt x="306" y="0"/>
                      </a:moveTo>
                      <a:lnTo>
                        <a:pt x="306" y="3"/>
                      </a:lnTo>
                      <a:lnTo>
                        <a:pt x="306" y="3"/>
                      </a:lnTo>
                      <a:lnTo>
                        <a:pt x="306" y="3"/>
                      </a:lnTo>
                      <a:lnTo>
                        <a:pt x="31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06" y="0"/>
                      </a:lnTo>
                      <a:close/>
                    </a:path>
                  </a:pathLst>
                </a:custGeom>
                <a:solidFill>
                  <a:srgbClr val="ab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25840" y="3487320"/>
                  <a:ext cx="263880" cy="2520"/>
                </a:xfrm>
                <a:custGeom>
                  <a:avLst/>
                  <a:gdLst/>
                  <a:ahLst/>
                  <a:rect l="l" t="t" r="r" b="b"/>
                  <a:pathLst>
                    <a:path w="310" h="3">
                      <a:moveTo>
                        <a:pt x="310" y="0"/>
                      </a:move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10" y="3"/>
                      </a:lnTo>
                      <a:lnTo>
                        <a:pt x="31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10" y="0"/>
                      </a:lnTo>
                      <a:close/>
                    </a:path>
                  </a:pathLst>
                </a:custGeom>
                <a:solidFill>
                  <a:srgbClr val="b0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125840" y="3489840"/>
                  <a:ext cx="263880" cy="2520"/>
                </a:xfrm>
                <a:custGeom>
                  <a:avLst/>
                  <a:gdLst/>
                  <a:ahLst/>
                  <a:rect l="l" t="t" r="r" b="b"/>
                  <a:pathLst>
                    <a:path w="310" h="3">
                      <a:moveTo>
                        <a:pt x="310" y="0"/>
                      </a:moveTo>
                      <a:lnTo>
                        <a:pt x="310" y="0"/>
                      </a:lnTo>
                      <a:lnTo>
                        <a:pt x="310" y="3"/>
                      </a:lnTo>
                      <a:lnTo>
                        <a:pt x="310" y="3"/>
                      </a:lnTo>
                      <a:lnTo>
                        <a:pt x="31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10" y="0"/>
                      </a:lnTo>
                      <a:close/>
                    </a:path>
                  </a:pathLst>
                </a:custGeom>
                <a:solidFill>
                  <a:srgbClr val="b0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125840" y="3492720"/>
                  <a:ext cx="263880" cy="6120"/>
                </a:xfrm>
                <a:custGeom>
                  <a:avLst/>
                  <a:gdLst/>
                  <a:ahLst/>
                  <a:rect l="l" t="t" r="r" b="b"/>
                  <a:pathLst>
                    <a:path w="310" h="7">
                      <a:moveTo>
                        <a:pt x="310" y="0"/>
                      </a:moveTo>
                      <a:lnTo>
                        <a:pt x="310" y="4"/>
                      </a:lnTo>
                      <a:lnTo>
                        <a:pt x="310" y="4"/>
                      </a:lnTo>
                      <a:lnTo>
                        <a:pt x="310" y="4"/>
                      </a:lnTo>
                      <a:lnTo>
                        <a:pt x="310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310" y="0"/>
                      </a:lnTo>
                      <a:close/>
                    </a:path>
                  </a:pathLst>
                </a:custGeom>
                <a:solidFill>
                  <a:srgbClr val="b5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125840" y="3498840"/>
                  <a:ext cx="266400" cy="2520"/>
                </a:xfrm>
                <a:custGeom>
                  <a:avLst/>
                  <a:gdLst/>
                  <a:ahLst/>
                  <a:rect l="l" t="t" r="r" b="b"/>
                  <a:pathLst>
                    <a:path w="313" h="3">
                      <a:moveTo>
                        <a:pt x="310" y="0"/>
                      </a:move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10" y="3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10" y="0"/>
                      </a:lnTo>
                      <a:close/>
                    </a:path>
                  </a:pathLst>
                </a:custGeom>
                <a:solidFill>
                  <a:srgbClr val="b7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125840" y="3501720"/>
                  <a:ext cx="266400" cy="2520"/>
                </a:xfrm>
                <a:custGeom>
                  <a:avLst/>
                  <a:gdLst/>
                  <a:ahLst/>
                  <a:rect l="l" t="t" r="r" b="b"/>
                  <a:pathLst>
                    <a:path w="313" h="3">
                      <a:moveTo>
                        <a:pt x="313" y="0"/>
                      </a:move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313" y="3"/>
                      </a:lnTo>
                      <a:lnTo>
                        <a:pt x="31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13" y="0"/>
                      </a:lnTo>
                      <a:close/>
                    </a:path>
                  </a:pathLst>
                </a:custGeom>
                <a:solidFill>
                  <a:srgbClr val="b8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125840" y="3504240"/>
                  <a:ext cx="266400" cy="6120"/>
                </a:xfrm>
                <a:custGeom>
                  <a:avLst/>
                  <a:gdLst/>
                  <a:ahLst/>
                  <a:rect l="l" t="t" r="r" b="b"/>
                  <a:pathLst>
                    <a:path w="313" h="7">
                      <a:moveTo>
                        <a:pt x="313" y="0"/>
                      </a:moveTo>
                      <a:lnTo>
                        <a:pt x="313" y="3"/>
                      </a:lnTo>
                      <a:lnTo>
                        <a:pt x="313" y="3"/>
                      </a:lnTo>
                      <a:lnTo>
                        <a:pt x="313" y="3"/>
                      </a:lnTo>
                      <a:lnTo>
                        <a:pt x="313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13" y="0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25840" y="3510720"/>
                  <a:ext cx="266400" cy="2520"/>
                </a:xfrm>
                <a:custGeom>
                  <a:avLst/>
                  <a:gdLst/>
                  <a:ahLst/>
                  <a:rect l="l" t="t" r="r" b="b"/>
                  <a:pathLst>
                    <a:path w="313" h="3">
                      <a:moveTo>
                        <a:pt x="313" y="0"/>
                      </a:moveTo>
                      <a:lnTo>
                        <a:pt x="313" y="0"/>
                      </a:lnTo>
                      <a:lnTo>
                        <a:pt x="313" y="0"/>
                      </a:lnTo>
                      <a:lnTo>
                        <a:pt x="313" y="3"/>
                      </a:lnTo>
                      <a:lnTo>
                        <a:pt x="31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13" y="0"/>
                      </a:lnTo>
                      <a:close/>
                    </a:path>
                  </a:pathLst>
                </a:custGeom>
                <a:solidFill>
                  <a:srgbClr val="bd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129080" y="3513240"/>
                  <a:ext cx="263160" cy="2520"/>
                </a:xfrm>
                <a:custGeom>
                  <a:avLst/>
                  <a:gdLst/>
                  <a:ahLst/>
                  <a:rect l="l" t="t" r="r" b="b"/>
                  <a:pathLst>
                    <a:path w="309" h="3">
                      <a:moveTo>
                        <a:pt x="309" y="0"/>
                      </a:moveTo>
                      <a:lnTo>
                        <a:pt x="309" y="0"/>
                      </a:lnTo>
                      <a:lnTo>
                        <a:pt x="309" y="3"/>
                      </a:lnTo>
                      <a:lnTo>
                        <a:pt x="309" y="3"/>
                      </a:lnTo>
                      <a:lnTo>
                        <a:pt x="309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09" y="0"/>
                      </a:lnTo>
                      <a:close/>
                    </a:path>
                  </a:pathLst>
                </a:custGeom>
                <a:solidFill>
                  <a:srgbClr val="b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129080" y="3516120"/>
                  <a:ext cx="263160" cy="5400"/>
                </a:xfrm>
                <a:custGeom>
                  <a:avLst/>
                  <a:gdLst/>
                  <a:ahLst/>
                  <a:rect l="l" t="t" r="r" b="b"/>
                  <a:pathLst>
                    <a:path w="309" h="6">
                      <a:moveTo>
                        <a:pt x="309" y="0"/>
                      </a:moveTo>
                      <a:lnTo>
                        <a:pt x="309" y="0"/>
                      </a:lnTo>
                      <a:lnTo>
                        <a:pt x="309" y="0"/>
                      </a:lnTo>
                      <a:lnTo>
                        <a:pt x="309" y="3"/>
                      </a:lnTo>
                      <a:lnTo>
                        <a:pt x="309" y="3"/>
                      </a:lnTo>
                      <a:lnTo>
                        <a:pt x="309" y="3"/>
                      </a:lnTo>
                      <a:lnTo>
                        <a:pt x="309" y="3"/>
                      </a:lnTo>
                      <a:lnTo>
                        <a:pt x="309" y="3"/>
                      </a:lnTo>
                      <a:lnTo>
                        <a:pt x="309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09" y="0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29080" y="3521520"/>
                  <a:ext cx="263160" cy="2520"/>
                </a:xfrm>
                <a:custGeom>
                  <a:avLst/>
                  <a:gdLst/>
                  <a:ahLst/>
                  <a:rect l="l" t="t" r="r" b="b"/>
                  <a:pathLst>
                    <a:path w="309" h="3">
                      <a:moveTo>
                        <a:pt x="309" y="0"/>
                      </a:moveTo>
                      <a:lnTo>
                        <a:pt x="309" y="0"/>
                      </a:lnTo>
                      <a:lnTo>
                        <a:pt x="309" y="0"/>
                      </a:lnTo>
                      <a:lnTo>
                        <a:pt x="309" y="3"/>
                      </a:lnTo>
                      <a:lnTo>
                        <a:pt x="309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09" y="0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129080" y="3524400"/>
                  <a:ext cx="263160" cy="3600"/>
                </a:xfrm>
                <a:custGeom>
                  <a:avLst/>
                  <a:gdLst/>
                  <a:ahLst/>
                  <a:rect l="l" t="t" r="r" b="b"/>
                  <a:pathLst>
                    <a:path w="309" h="4">
                      <a:moveTo>
                        <a:pt x="309" y="0"/>
                      </a:moveTo>
                      <a:lnTo>
                        <a:pt x="309" y="0"/>
                      </a:lnTo>
                      <a:lnTo>
                        <a:pt x="309" y="4"/>
                      </a:lnTo>
                      <a:lnTo>
                        <a:pt x="309" y="4"/>
                      </a:lnTo>
                      <a:lnTo>
                        <a:pt x="309" y="4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09" y="0"/>
                      </a:lnTo>
                      <a:close/>
                    </a:path>
                  </a:pathLst>
                </a:custGeom>
                <a:solidFill>
                  <a:srgbClr val="c9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131600" y="3528000"/>
                  <a:ext cx="260640" cy="5040"/>
                </a:xfrm>
                <a:custGeom>
                  <a:avLst/>
                  <a:gdLst/>
                  <a:ahLst/>
                  <a:rect l="l" t="t" r="r" b="b"/>
                  <a:pathLst>
                    <a:path w="306" h="6">
                      <a:moveTo>
                        <a:pt x="306" y="0"/>
                      </a:moveTo>
                      <a:lnTo>
                        <a:pt x="306" y="3"/>
                      </a:lnTo>
                      <a:lnTo>
                        <a:pt x="306" y="3"/>
                      </a:lnTo>
                      <a:lnTo>
                        <a:pt x="306" y="3"/>
                      </a:lnTo>
                      <a:lnTo>
                        <a:pt x="306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06" y="0"/>
                      </a:lnTo>
                      <a:close/>
                    </a:path>
                  </a:pathLst>
                </a:custGeom>
                <a:solidFill>
                  <a:srgbClr val="cc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131600" y="3533400"/>
                  <a:ext cx="260640" cy="2520"/>
                </a:xfrm>
                <a:custGeom>
                  <a:avLst/>
                  <a:gdLst/>
                  <a:ahLst/>
                  <a:rect l="l" t="t" r="r" b="b"/>
                  <a:pathLst>
                    <a:path w="306" h="3">
                      <a:moveTo>
                        <a:pt x="306" y="0"/>
                      </a:moveTo>
                      <a:lnTo>
                        <a:pt x="306" y="0"/>
                      </a:lnTo>
                      <a:lnTo>
                        <a:pt x="306" y="0"/>
                      </a:lnTo>
                      <a:lnTo>
                        <a:pt x="306" y="3"/>
                      </a:lnTo>
                      <a:lnTo>
                        <a:pt x="306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06" y="0"/>
                      </a:lnTo>
                      <a:close/>
                    </a:path>
                  </a:pathLst>
                </a:custGeom>
                <a:solidFill>
                  <a:srgbClr val="ce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131600" y="3535920"/>
                  <a:ext cx="260640" cy="2520"/>
                </a:xfrm>
                <a:custGeom>
                  <a:avLst/>
                  <a:gdLst/>
                  <a:ahLst/>
                  <a:rect l="l" t="t" r="r" b="b"/>
                  <a:pathLst>
                    <a:path w="306" h="3">
                      <a:moveTo>
                        <a:pt x="306" y="0"/>
                      </a:moveTo>
                      <a:lnTo>
                        <a:pt x="306" y="0"/>
                      </a:lnTo>
                      <a:lnTo>
                        <a:pt x="306" y="3"/>
                      </a:lnTo>
                      <a:lnTo>
                        <a:pt x="306" y="3"/>
                      </a:lnTo>
                      <a:lnTo>
                        <a:pt x="306" y="3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06" y="0"/>
                      </a:lnTo>
                      <a:close/>
                    </a:path>
                  </a:pathLst>
                </a:custGeom>
                <a:solidFill>
                  <a:srgbClr val="d1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134120" y="3538440"/>
                  <a:ext cx="258120" cy="3600"/>
                </a:xfrm>
                <a:custGeom>
                  <a:avLst/>
                  <a:gdLst/>
                  <a:ahLst/>
                  <a:rect l="l" t="t" r="r" b="b"/>
                  <a:pathLst>
                    <a:path w="303" h="4">
                      <a:moveTo>
                        <a:pt x="303" y="0"/>
                      </a:moveTo>
                      <a:lnTo>
                        <a:pt x="300" y="4"/>
                      </a:lnTo>
                      <a:lnTo>
                        <a:pt x="300" y="4"/>
                      </a:lnTo>
                      <a:lnTo>
                        <a:pt x="300" y="4"/>
                      </a:lnTo>
                      <a:lnTo>
                        <a:pt x="30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303" y="0"/>
                      </a:lnTo>
                      <a:close/>
                    </a:path>
                  </a:pathLst>
                </a:custGeom>
                <a:solidFill>
                  <a:srgbClr val="d1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134120" y="3542400"/>
                  <a:ext cx="255600" cy="5400"/>
                </a:xfrm>
                <a:custGeom>
                  <a:avLst/>
                  <a:gdLst/>
                  <a:ahLst/>
                  <a:rect l="l" t="t" r="r" b="b"/>
                  <a:pathLst>
                    <a:path w="300" h="6">
                      <a:moveTo>
                        <a:pt x="300" y="0"/>
                      </a:moveTo>
                      <a:lnTo>
                        <a:pt x="300" y="3"/>
                      </a:lnTo>
                      <a:lnTo>
                        <a:pt x="300" y="3"/>
                      </a:lnTo>
                      <a:lnTo>
                        <a:pt x="300" y="6"/>
                      </a:lnTo>
                      <a:lnTo>
                        <a:pt x="30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d6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134120" y="3547800"/>
                  <a:ext cx="255600" cy="2520"/>
                </a:xfrm>
                <a:custGeom>
                  <a:avLst/>
                  <a:gdLst/>
                  <a:ahLst/>
                  <a:rect l="l" t="t" r="r" b="b"/>
                  <a:pathLst>
                    <a:path w="300" h="3">
                      <a:moveTo>
                        <a:pt x="300" y="0"/>
                      </a:moveTo>
                      <a:lnTo>
                        <a:pt x="300" y="0"/>
                      </a:lnTo>
                      <a:lnTo>
                        <a:pt x="300" y="3"/>
                      </a:lnTo>
                      <a:lnTo>
                        <a:pt x="300" y="3"/>
                      </a:lnTo>
                      <a:lnTo>
                        <a:pt x="30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d6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136640" y="3550320"/>
                  <a:ext cx="253080" cy="6120"/>
                </a:xfrm>
                <a:custGeom>
                  <a:avLst/>
                  <a:gdLst/>
                  <a:ahLst/>
                  <a:rect l="l" t="t" r="r" b="b"/>
                  <a:pathLst>
                    <a:path w="297" h="7">
                      <a:moveTo>
                        <a:pt x="297" y="0"/>
                      </a:moveTo>
                      <a:lnTo>
                        <a:pt x="297" y="0"/>
                      </a:lnTo>
                      <a:lnTo>
                        <a:pt x="297" y="3"/>
                      </a:lnTo>
                      <a:lnTo>
                        <a:pt x="297" y="3"/>
                      </a:lnTo>
                      <a:lnTo>
                        <a:pt x="293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db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136640" y="3556800"/>
                  <a:ext cx="249480" cy="2520"/>
                </a:xfrm>
                <a:custGeom>
                  <a:avLst/>
                  <a:gdLst/>
                  <a:ahLst/>
                  <a:rect l="l" t="t" r="r" b="b"/>
                  <a:pathLst>
                    <a:path w="293" h="3">
                      <a:moveTo>
                        <a:pt x="293" y="0"/>
                      </a:moveTo>
                      <a:lnTo>
                        <a:pt x="293" y="0"/>
                      </a:lnTo>
                      <a:lnTo>
                        <a:pt x="293" y="0"/>
                      </a:lnTo>
                      <a:lnTo>
                        <a:pt x="293" y="0"/>
                      </a:lnTo>
                      <a:lnTo>
                        <a:pt x="29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db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139520" y="3559320"/>
                  <a:ext cx="246960" cy="2520"/>
                </a:xfrm>
                <a:custGeom>
                  <a:avLst/>
                  <a:gdLst/>
                  <a:ahLst/>
                  <a:rect l="l" t="t" r="r" b="b"/>
                  <a:pathLst>
                    <a:path w="290" h="3">
                      <a:moveTo>
                        <a:pt x="290" y="0"/>
                      </a:moveTo>
                      <a:lnTo>
                        <a:pt x="290" y="0"/>
                      </a:lnTo>
                      <a:lnTo>
                        <a:pt x="290" y="0"/>
                      </a:lnTo>
                      <a:lnTo>
                        <a:pt x="290" y="3"/>
                      </a:lnTo>
                      <a:lnTo>
                        <a:pt x="29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90" y="0"/>
                      </a:lnTo>
                      <a:close/>
                    </a:path>
                  </a:pathLst>
                </a:custGeom>
                <a:solidFill>
                  <a:srgbClr val="e0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142040" y="3562200"/>
                  <a:ext cx="244440" cy="2520"/>
                </a:xfrm>
                <a:custGeom>
                  <a:avLst/>
                  <a:gdLst/>
                  <a:ahLst/>
                  <a:rect l="l" t="t" r="r" b="b"/>
                  <a:pathLst>
                    <a:path w="287" h="3">
                      <a:moveTo>
                        <a:pt x="287" y="0"/>
                      </a:moveTo>
                      <a:lnTo>
                        <a:pt x="287" y="0"/>
                      </a:lnTo>
                      <a:lnTo>
                        <a:pt x="287" y="3"/>
                      </a:lnTo>
                      <a:lnTo>
                        <a:pt x="284" y="3"/>
                      </a:lnTo>
                      <a:lnTo>
                        <a:pt x="284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87" y="0"/>
                      </a:lnTo>
                      <a:close/>
                    </a:path>
                  </a:pathLst>
                </a:custGeom>
                <a:solidFill>
                  <a:srgbClr val="e3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2040" y="3564720"/>
                  <a:ext cx="241920" cy="6120"/>
                </a:xfrm>
                <a:custGeom>
                  <a:avLst/>
                  <a:gdLst/>
                  <a:ahLst/>
                  <a:rect l="l" t="t" r="r" b="b"/>
                  <a:pathLst>
                    <a:path w="284" h="7">
                      <a:moveTo>
                        <a:pt x="284" y="0"/>
                      </a:moveTo>
                      <a:lnTo>
                        <a:pt x="284" y="3"/>
                      </a:lnTo>
                      <a:lnTo>
                        <a:pt x="284" y="3"/>
                      </a:lnTo>
                      <a:lnTo>
                        <a:pt x="284" y="7"/>
                      </a:lnTo>
                      <a:lnTo>
                        <a:pt x="28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e5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5280" y="3571200"/>
                  <a:ext cx="238680" cy="2520"/>
                </a:xfrm>
                <a:custGeom>
                  <a:avLst/>
                  <a:gdLst/>
                  <a:ahLst/>
                  <a:rect l="l" t="t" r="r" b="b"/>
                  <a:pathLst>
                    <a:path w="280" h="3">
                      <a:moveTo>
                        <a:pt x="280" y="0"/>
                      </a:moveTo>
                      <a:lnTo>
                        <a:pt x="280" y="0"/>
                      </a:lnTo>
                      <a:lnTo>
                        <a:pt x="280" y="0"/>
                      </a:lnTo>
                      <a:lnTo>
                        <a:pt x="277" y="3"/>
                      </a:lnTo>
                      <a:lnTo>
                        <a:pt x="277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80" y="0"/>
                      </a:lnTo>
                      <a:close/>
                    </a:path>
                  </a:pathLst>
                </a:custGeom>
                <a:solidFill>
                  <a:srgbClr val="e8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147800" y="3573720"/>
                  <a:ext cx="233280" cy="2520"/>
                </a:xfrm>
                <a:custGeom>
                  <a:avLst/>
                  <a:gdLst/>
                  <a:ahLst/>
                  <a:rect l="l" t="t" r="r" b="b"/>
                  <a:pathLst>
                    <a:path w="274" h="3">
                      <a:moveTo>
                        <a:pt x="274" y="0"/>
                      </a:moveTo>
                      <a:lnTo>
                        <a:pt x="274" y="3"/>
                      </a:lnTo>
                      <a:lnTo>
                        <a:pt x="274" y="3"/>
                      </a:lnTo>
                      <a:lnTo>
                        <a:pt x="274" y="3"/>
                      </a:lnTo>
                      <a:lnTo>
                        <a:pt x="274" y="3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74" y="0"/>
                      </a:lnTo>
                      <a:close/>
                    </a:path>
                  </a:pathLst>
                </a:custGeom>
                <a:solidFill>
                  <a:srgbClr val="ea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150320" y="3576600"/>
                  <a:ext cx="230760" cy="77400"/>
                </a:xfrm>
                <a:custGeom>
                  <a:avLst/>
                  <a:gdLst/>
                  <a:ahLst/>
                  <a:rect l="l" t="t" r="r" b="b"/>
                  <a:pathLst>
                    <a:path w="271" h="86">
                      <a:moveTo>
                        <a:pt x="271" y="0"/>
                      </a:moveTo>
                      <a:lnTo>
                        <a:pt x="265" y="9"/>
                      </a:lnTo>
                      <a:lnTo>
                        <a:pt x="261" y="19"/>
                      </a:lnTo>
                      <a:lnTo>
                        <a:pt x="255" y="29"/>
                      </a:lnTo>
                      <a:lnTo>
                        <a:pt x="249" y="35"/>
                      </a:lnTo>
                      <a:lnTo>
                        <a:pt x="242" y="45"/>
                      </a:lnTo>
                      <a:lnTo>
                        <a:pt x="236" y="51"/>
                      </a:lnTo>
                      <a:lnTo>
                        <a:pt x="230" y="57"/>
                      </a:lnTo>
                      <a:lnTo>
                        <a:pt x="220" y="64"/>
                      </a:lnTo>
                      <a:lnTo>
                        <a:pt x="210" y="70"/>
                      </a:lnTo>
                      <a:lnTo>
                        <a:pt x="204" y="73"/>
                      </a:lnTo>
                      <a:lnTo>
                        <a:pt x="195" y="76"/>
                      </a:lnTo>
                      <a:lnTo>
                        <a:pt x="185" y="80"/>
                      </a:lnTo>
                      <a:lnTo>
                        <a:pt x="175" y="83"/>
                      </a:lnTo>
                      <a:lnTo>
                        <a:pt x="163" y="86"/>
                      </a:lnTo>
                      <a:lnTo>
                        <a:pt x="153" y="86"/>
                      </a:lnTo>
                      <a:lnTo>
                        <a:pt x="140" y="86"/>
                      </a:lnTo>
                      <a:lnTo>
                        <a:pt x="131" y="86"/>
                      </a:lnTo>
                      <a:lnTo>
                        <a:pt x="121" y="83"/>
                      </a:lnTo>
                      <a:lnTo>
                        <a:pt x="112" y="80"/>
                      </a:lnTo>
                      <a:lnTo>
                        <a:pt x="102" y="80"/>
                      </a:lnTo>
                      <a:lnTo>
                        <a:pt x="89" y="76"/>
                      </a:lnTo>
                      <a:lnTo>
                        <a:pt x="80" y="70"/>
                      </a:lnTo>
                      <a:lnTo>
                        <a:pt x="70" y="67"/>
                      </a:lnTo>
                      <a:lnTo>
                        <a:pt x="61" y="60"/>
                      </a:lnTo>
                      <a:lnTo>
                        <a:pt x="51" y="57"/>
                      </a:lnTo>
                      <a:lnTo>
                        <a:pt x="45" y="51"/>
                      </a:lnTo>
                      <a:lnTo>
                        <a:pt x="35" y="45"/>
                      </a:lnTo>
                      <a:lnTo>
                        <a:pt x="26" y="35"/>
                      </a:lnTo>
                      <a:lnTo>
                        <a:pt x="19" y="29"/>
                      </a:lnTo>
                      <a:lnTo>
                        <a:pt x="13" y="19"/>
                      </a:lnTo>
                      <a:lnTo>
                        <a:pt x="6" y="9"/>
                      </a:lnTo>
                      <a:lnTo>
                        <a:pt x="0" y="0"/>
                      </a:lnTo>
                      <a:lnTo>
                        <a:pt x="271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253640" y="3363480"/>
                  <a:ext cx="13680" cy="2520"/>
                </a:xfrm>
                <a:custGeom>
                  <a:avLst/>
                  <a:gdLst/>
                  <a:ahLst/>
                  <a:rect l="l" t="t" r="r" b="b"/>
                  <a:pathLst>
                    <a:path w="16" h="3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267320" y="3363480"/>
                  <a:ext cx="13680" cy="504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16" y="3"/>
                      </a:moveTo>
                      <a:lnTo>
                        <a:pt x="16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281000" y="336600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294320" y="337176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7"/>
                      </a:moveTo>
                      <a:lnTo>
                        <a:pt x="16" y="7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305480" y="3377880"/>
                  <a:ext cx="13680" cy="79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9"/>
                      </a:moveTo>
                      <a:lnTo>
                        <a:pt x="16" y="9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9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319160" y="3386160"/>
                  <a:ext cx="1008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10"/>
                      </a:moveTo>
                      <a:lnTo>
                        <a:pt x="12" y="1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10"/>
                      </a:lnTo>
                      <a:lnTo>
                        <a:pt x="9" y="10"/>
                      </a:lnTo>
                      <a:lnTo>
                        <a:pt x="12" y="10"/>
                      </a:lnTo>
                      <a:lnTo>
                        <a:pt x="12" y="10"/>
                      </a:lnTo>
                      <a:lnTo>
                        <a:pt x="12" y="1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327080" y="3395160"/>
                  <a:ext cx="13320" cy="11880"/>
                </a:xfrm>
                <a:custGeom>
                  <a:avLst/>
                  <a:gdLst/>
                  <a:ahLst/>
                  <a:rect l="l" t="t" r="r" b="b"/>
                  <a:pathLst>
                    <a:path w="16" h="13">
                      <a:moveTo>
                        <a:pt x="16" y="10"/>
                      </a:moveTo>
                      <a:lnTo>
                        <a:pt x="16" y="1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6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337880" y="3404160"/>
                  <a:ext cx="10800" cy="144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13" y="12"/>
                      </a:moveTo>
                      <a:lnTo>
                        <a:pt x="13" y="12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10" y="16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13" y="12"/>
                      </a:lnTo>
                      <a:lnTo>
                        <a:pt x="13" y="12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346520" y="3414960"/>
                  <a:ext cx="10080" cy="118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2" y="13"/>
                      </a:move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9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354080" y="3426840"/>
                  <a:ext cx="10800" cy="1404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13" y="13"/>
                      </a:moveTo>
                      <a:lnTo>
                        <a:pt x="13" y="1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362720" y="3438360"/>
                  <a:ext cx="7560" cy="14400"/>
                </a:xfrm>
                <a:custGeom>
                  <a:avLst/>
                  <a:gdLst/>
                  <a:ahLst/>
                  <a:rect l="l" t="t" r="r" b="b"/>
                  <a:pathLst>
                    <a:path w="9" h="16">
                      <a:moveTo>
                        <a:pt x="9" y="16"/>
                      </a:moveTo>
                      <a:lnTo>
                        <a:pt x="9" y="16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9" y="16"/>
                      </a:lnTo>
                      <a:lnTo>
                        <a:pt x="9" y="16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367760" y="3453120"/>
                  <a:ext cx="8280" cy="1404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10" y="13"/>
                      </a:moveTo>
                      <a:lnTo>
                        <a:pt x="10" y="1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6" y="16"/>
                      </a:lnTo>
                      <a:lnTo>
                        <a:pt x="6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lnTo>
                        <a:pt x="10" y="1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372800" y="3464640"/>
                  <a:ext cx="8280" cy="13320"/>
                </a:xfrm>
                <a:custGeom>
                  <a:avLst/>
                  <a:gdLst/>
                  <a:ahLst/>
                  <a:rect l="l" t="t" r="r" b="b"/>
                  <a:pathLst>
                    <a:path w="10" h="15">
                      <a:moveTo>
                        <a:pt x="10" y="15"/>
                      </a:moveTo>
                      <a:lnTo>
                        <a:pt x="10" y="15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10" y="15"/>
                      </a:lnTo>
                      <a:lnTo>
                        <a:pt x="10" y="15"/>
                      </a:lnTo>
                      <a:lnTo>
                        <a:pt x="10" y="15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378920" y="3478320"/>
                  <a:ext cx="4680" cy="1440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6" y="13"/>
                      </a:moveTo>
                      <a:lnTo>
                        <a:pt x="6" y="1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3"/>
                      </a:lnTo>
                      <a:lnTo>
                        <a:pt x="6" y="13"/>
                      </a:lnTo>
                      <a:lnTo>
                        <a:pt x="6" y="1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381440" y="3489840"/>
                  <a:ext cx="2160" cy="1440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3" y="16"/>
                      </a:moveTo>
                      <a:lnTo>
                        <a:pt x="3" y="16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383960" y="3504240"/>
                  <a:ext cx="2160" cy="1404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3" y="16"/>
                      </a:moveTo>
                      <a:lnTo>
                        <a:pt x="3" y="1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383960" y="3518640"/>
                  <a:ext cx="2160" cy="1188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3" y="13"/>
                      </a:moveTo>
                      <a:lnTo>
                        <a:pt x="3" y="1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381440" y="3530520"/>
                  <a:ext cx="4680" cy="1152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3" y="13"/>
                      </a:moveTo>
                      <a:lnTo>
                        <a:pt x="3" y="13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378920" y="354240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3" y="12"/>
                      </a:moveTo>
                      <a:lnTo>
                        <a:pt x="3" y="1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376040" y="3553200"/>
                  <a:ext cx="5040" cy="1152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3" y="13"/>
                      </a:moveTo>
                      <a:lnTo>
                        <a:pt x="3" y="13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370280" y="3564720"/>
                  <a:ext cx="8280" cy="1188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3" y="13"/>
                      </a:moveTo>
                      <a:lnTo>
                        <a:pt x="3" y="13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365240" y="3576600"/>
                  <a:ext cx="7560" cy="11520"/>
                </a:xfrm>
                <a:custGeom>
                  <a:avLst/>
                  <a:gdLst/>
                  <a:ahLst/>
                  <a:rect l="l" t="t" r="r" b="b"/>
                  <a:pathLst>
                    <a:path w="9" h="13">
                      <a:moveTo>
                        <a:pt x="3" y="13"/>
                      </a:moveTo>
                      <a:lnTo>
                        <a:pt x="3" y="1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360200" y="3588480"/>
                  <a:ext cx="7200" cy="1080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3" y="12"/>
                      </a:moveTo>
                      <a:lnTo>
                        <a:pt x="3" y="12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354080" y="3596400"/>
                  <a:ext cx="8280" cy="1152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346520" y="3605400"/>
                  <a:ext cx="7560" cy="11520"/>
                </a:xfrm>
                <a:custGeom>
                  <a:avLst/>
                  <a:gdLst/>
                  <a:ahLst/>
                  <a:rect l="l" t="t" r="r" b="b"/>
                  <a:pathLst>
                    <a:path w="9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335360" y="3613680"/>
                  <a:ext cx="10800" cy="118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3" y="13"/>
                      </a:moveTo>
                      <a:lnTo>
                        <a:pt x="3" y="13"/>
                      </a:lnTo>
                      <a:lnTo>
                        <a:pt x="13" y="4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" y="13"/>
                      </a:lnTo>
                      <a:lnTo>
                        <a:pt x="3" y="13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327080" y="362268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316640" y="3628080"/>
                  <a:ext cx="1008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3" y="10"/>
                      </a:moveTo>
                      <a:lnTo>
                        <a:pt x="3" y="10"/>
                      </a:lnTo>
                      <a:lnTo>
                        <a:pt x="12" y="3"/>
                      </a:lnTo>
                      <a:lnTo>
                        <a:pt x="12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305480" y="3634560"/>
                  <a:ext cx="13680" cy="79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294320" y="363960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283520" y="3642480"/>
                  <a:ext cx="10800" cy="252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269840" y="3642480"/>
                  <a:ext cx="13680" cy="2520"/>
                </a:xfrm>
                <a:custGeom>
                  <a:avLst/>
                  <a:gdLst/>
                  <a:ahLst/>
                  <a:rect l="l" t="t" r="r" b="b"/>
                  <a:pathLst>
                    <a:path w="1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256160" y="3642480"/>
                  <a:ext cx="13320" cy="2520"/>
                </a:xfrm>
                <a:custGeom>
                  <a:avLst/>
                  <a:gdLst/>
                  <a:ahLst/>
                  <a:rect l="l" t="t" r="r" b="b"/>
                  <a:pathLst>
                    <a:path w="1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246080" y="3639600"/>
                  <a:ext cx="13320" cy="540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2" y="6"/>
                      </a:lnTo>
                      <a:lnTo>
                        <a:pt x="1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234560" y="3637080"/>
                  <a:ext cx="1116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221240" y="3634560"/>
                  <a:ext cx="13320" cy="504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6" y="6"/>
                      </a:lnTo>
                      <a:lnTo>
                        <a:pt x="1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210080" y="3628080"/>
                  <a:ext cx="13320" cy="612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3" y="7"/>
                      </a:lnTo>
                      <a:lnTo>
                        <a:pt x="16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198920" y="3619800"/>
                  <a:ext cx="13680" cy="79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188840" y="3613680"/>
                  <a:ext cx="1008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0"/>
                      </a:lnTo>
                      <a:lnTo>
                        <a:pt x="12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180200" y="360540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0" y="9"/>
                      </a:lnTo>
                      <a:lnTo>
                        <a:pt x="13" y="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169040" y="3593520"/>
                  <a:ext cx="10800" cy="118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13"/>
                      </a:lnTo>
                      <a:lnTo>
                        <a:pt x="13" y="1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161480" y="3584520"/>
                  <a:ext cx="10800" cy="118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3" y="1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152840" y="3573720"/>
                  <a:ext cx="10800" cy="108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0" y="12"/>
                      </a:lnTo>
                      <a:lnTo>
                        <a:pt x="13" y="1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147800" y="3559320"/>
                  <a:ext cx="7200" cy="14040"/>
                </a:xfrm>
                <a:custGeom>
                  <a:avLst/>
                  <a:gdLst/>
                  <a:ahLst/>
                  <a:rect l="l" t="t" r="r" b="b"/>
                  <a:pathLst>
                    <a:path w="9" h="1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6" y="16"/>
                      </a:lnTo>
                      <a:lnTo>
                        <a:pt x="9" y="1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142040" y="3547800"/>
                  <a:ext cx="8280" cy="1404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16"/>
                      </a:lnTo>
                      <a:lnTo>
                        <a:pt x="10" y="1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136640" y="3533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16"/>
                      </a:lnTo>
                      <a:lnTo>
                        <a:pt x="10" y="1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134120" y="3518640"/>
                  <a:ext cx="5040" cy="1440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131600" y="3504240"/>
                  <a:ext cx="4680" cy="1404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131600" y="3489840"/>
                  <a:ext cx="2160" cy="1440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131600" y="3475440"/>
                  <a:ext cx="4680" cy="1404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3" y="0"/>
                      </a:moveTo>
                      <a:lnTo>
                        <a:pt x="3" y="3"/>
                      </a:ln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134120" y="3464640"/>
                  <a:ext cx="2160" cy="13320"/>
                </a:xfrm>
                <a:custGeom>
                  <a:avLst/>
                  <a:gdLst/>
                  <a:ahLst/>
                  <a:rect l="l" t="t" r="r" b="b"/>
                  <a:pathLst>
                    <a:path w="3" h="1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12"/>
                      </a:lnTo>
                      <a:lnTo>
                        <a:pt x="3" y="1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136640" y="3453120"/>
                  <a:ext cx="5040" cy="1152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139520" y="3438360"/>
                  <a:ext cx="5760" cy="14400"/>
                </a:xfrm>
                <a:custGeom>
                  <a:avLst/>
                  <a:gdLst/>
                  <a:ahLst/>
                  <a:rect l="l" t="t" r="r" b="b"/>
                  <a:pathLst>
                    <a:path w="7" h="16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42040" y="3426840"/>
                  <a:ext cx="8280" cy="1404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13"/>
                      </a:lnTo>
                      <a:lnTo>
                        <a:pt x="4" y="16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47800" y="3418560"/>
                  <a:ext cx="7200" cy="1080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9" y="0"/>
                      </a:move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3" y="1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155360" y="3407040"/>
                  <a:ext cx="8280" cy="1152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10" y="0"/>
                      </a:moveTo>
                      <a:lnTo>
                        <a:pt x="10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164000" y="3398040"/>
                  <a:ext cx="8280" cy="900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0"/>
                      </a:move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172640" y="3389760"/>
                  <a:ext cx="10080" cy="792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9" y="0"/>
                      </a:move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180200" y="3380760"/>
                  <a:ext cx="11160" cy="9000"/>
                </a:xfrm>
                <a:custGeom>
                  <a:avLst/>
                  <a:gdLst/>
                  <a:ahLst/>
                  <a:rect l="l" t="t" r="r" b="b"/>
                  <a:pathLst>
                    <a:path w="13" h="10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191360" y="337500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202520" y="3368880"/>
                  <a:ext cx="10080" cy="61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212600" y="3366000"/>
                  <a:ext cx="13320" cy="540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226280" y="3363480"/>
                  <a:ext cx="13680" cy="504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239960" y="3363480"/>
                  <a:ext cx="13320" cy="2520"/>
                </a:xfrm>
                <a:custGeom>
                  <a:avLst/>
                  <a:gdLst/>
                  <a:ahLst/>
                  <a:rect l="l" t="t" r="r" b="b"/>
                  <a:pathLst>
                    <a:path w="16" h="3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139520" y="3371760"/>
                  <a:ext cx="239400" cy="267840"/>
                </a:xfrm>
                <a:custGeom>
                  <a:avLst/>
                  <a:gdLst/>
                  <a:ahLst/>
                  <a:rect l="l" t="t" r="r" b="b"/>
                  <a:pathLst>
                    <a:path w="281" h="297">
                      <a:moveTo>
                        <a:pt x="134" y="0"/>
                      </a:moveTo>
                      <a:lnTo>
                        <a:pt x="150" y="0"/>
                      </a:lnTo>
                      <a:lnTo>
                        <a:pt x="166" y="4"/>
                      </a:lnTo>
                      <a:lnTo>
                        <a:pt x="182" y="10"/>
                      </a:lnTo>
                      <a:lnTo>
                        <a:pt x="195" y="16"/>
                      </a:lnTo>
                      <a:lnTo>
                        <a:pt x="208" y="23"/>
                      </a:lnTo>
                      <a:lnTo>
                        <a:pt x="220" y="32"/>
                      </a:lnTo>
                      <a:lnTo>
                        <a:pt x="230" y="42"/>
                      </a:lnTo>
                      <a:lnTo>
                        <a:pt x="239" y="55"/>
                      </a:lnTo>
                      <a:lnTo>
                        <a:pt x="249" y="67"/>
                      </a:lnTo>
                      <a:lnTo>
                        <a:pt x="259" y="80"/>
                      </a:lnTo>
                      <a:lnTo>
                        <a:pt x="265" y="93"/>
                      </a:lnTo>
                      <a:lnTo>
                        <a:pt x="271" y="106"/>
                      </a:lnTo>
                      <a:lnTo>
                        <a:pt x="274" y="118"/>
                      </a:lnTo>
                      <a:lnTo>
                        <a:pt x="278" y="134"/>
                      </a:lnTo>
                      <a:lnTo>
                        <a:pt x="281" y="147"/>
                      </a:lnTo>
                      <a:lnTo>
                        <a:pt x="281" y="160"/>
                      </a:lnTo>
                      <a:lnTo>
                        <a:pt x="281" y="173"/>
                      </a:lnTo>
                      <a:lnTo>
                        <a:pt x="278" y="189"/>
                      </a:lnTo>
                      <a:lnTo>
                        <a:pt x="278" y="201"/>
                      </a:lnTo>
                      <a:lnTo>
                        <a:pt x="271" y="211"/>
                      </a:lnTo>
                      <a:lnTo>
                        <a:pt x="268" y="224"/>
                      </a:lnTo>
                      <a:lnTo>
                        <a:pt x="262" y="236"/>
                      </a:lnTo>
                      <a:lnTo>
                        <a:pt x="255" y="246"/>
                      </a:lnTo>
                      <a:lnTo>
                        <a:pt x="246" y="256"/>
                      </a:lnTo>
                      <a:lnTo>
                        <a:pt x="239" y="265"/>
                      </a:lnTo>
                      <a:lnTo>
                        <a:pt x="227" y="275"/>
                      </a:lnTo>
                      <a:lnTo>
                        <a:pt x="217" y="281"/>
                      </a:lnTo>
                      <a:lnTo>
                        <a:pt x="208" y="287"/>
                      </a:lnTo>
                      <a:lnTo>
                        <a:pt x="195" y="291"/>
                      </a:lnTo>
                      <a:lnTo>
                        <a:pt x="182" y="294"/>
                      </a:lnTo>
                      <a:lnTo>
                        <a:pt x="166" y="297"/>
                      </a:lnTo>
                      <a:lnTo>
                        <a:pt x="153" y="297"/>
                      </a:lnTo>
                      <a:lnTo>
                        <a:pt x="141" y="297"/>
                      </a:lnTo>
                      <a:lnTo>
                        <a:pt x="125" y="294"/>
                      </a:lnTo>
                      <a:lnTo>
                        <a:pt x="112" y="291"/>
                      </a:lnTo>
                      <a:lnTo>
                        <a:pt x="99" y="284"/>
                      </a:lnTo>
                      <a:lnTo>
                        <a:pt x="86" y="278"/>
                      </a:lnTo>
                      <a:lnTo>
                        <a:pt x="74" y="272"/>
                      </a:lnTo>
                      <a:lnTo>
                        <a:pt x="64" y="265"/>
                      </a:lnTo>
                      <a:lnTo>
                        <a:pt x="51" y="256"/>
                      </a:lnTo>
                      <a:lnTo>
                        <a:pt x="42" y="243"/>
                      </a:lnTo>
                      <a:lnTo>
                        <a:pt x="32" y="233"/>
                      </a:lnTo>
                      <a:lnTo>
                        <a:pt x="26" y="221"/>
                      </a:lnTo>
                      <a:lnTo>
                        <a:pt x="16" y="208"/>
                      </a:lnTo>
                      <a:lnTo>
                        <a:pt x="10" y="195"/>
                      </a:lnTo>
                      <a:lnTo>
                        <a:pt x="7" y="179"/>
                      </a:lnTo>
                      <a:lnTo>
                        <a:pt x="3" y="163"/>
                      </a:lnTo>
                      <a:lnTo>
                        <a:pt x="0" y="147"/>
                      </a:lnTo>
                      <a:lnTo>
                        <a:pt x="0" y="131"/>
                      </a:lnTo>
                      <a:lnTo>
                        <a:pt x="0" y="118"/>
                      </a:lnTo>
                      <a:lnTo>
                        <a:pt x="3" y="106"/>
                      </a:lnTo>
                      <a:lnTo>
                        <a:pt x="7" y="93"/>
                      </a:lnTo>
                      <a:lnTo>
                        <a:pt x="13" y="80"/>
                      </a:lnTo>
                      <a:lnTo>
                        <a:pt x="19" y="67"/>
                      </a:lnTo>
                      <a:lnTo>
                        <a:pt x="26" y="55"/>
                      </a:lnTo>
                      <a:lnTo>
                        <a:pt x="32" y="45"/>
                      </a:lnTo>
                      <a:lnTo>
                        <a:pt x="42" y="36"/>
                      </a:lnTo>
                      <a:lnTo>
                        <a:pt x="54" y="26"/>
                      </a:lnTo>
                      <a:lnTo>
                        <a:pt x="64" y="20"/>
                      </a:lnTo>
                      <a:lnTo>
                        <a:pt x="77" y="10"/>
                      </a:lnTo>
                      <a:lnTo>
                        <a:pt x="90" y="7"/>
                      </a:lnTo>
                      <a:lnTo>
                        <a:pt x="105" y="4"/>
                      </a:lnTo>
                      <a:lnTo>
                        <a:pt x="118" y="0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191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169040" y="3567600"/>
                  <a:ext cx="184680" cy="60120"/>
                </a:xfrm>
                <a:custGeom>
                  <a:avLst/>
                  <a:gdLst/>
                  <a:ahLst/>
                  <a:rect l="l" t="t" r="r" b="b"/>
                  <a:pathLst>
                    <a:path w="217" h="6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7"/>
                      </a:lnTo>
                      <a:lnTo>
                        <a:pt x="10" y="10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16" y="19"/>
                      </a:lnTo>
                      <a:lnTo>
                        <a:pt x="19" y="26"/>
                      </a:lnTo>
                      <a:lnTo>
                        <a:pt x="23" y="29"/>
                      </a:lnTo>
                      <a:lnTo>
                        <a:pt x="23" y="26"/>
                      </a:lnTo>
                      <a:lnTo>
                        <a:pt x="26" y="26"/>
                      </a:lnTo>
                      <a:lnTo>
                        <a:pt x="29" y="23"/>
                      </a:lnTo>
                      <a:lnTo>
                        <a:pt x="29" y="23"/>
                      </a:lnTo>
                      <a:lnTo>
                        <a:pt x="32" y="23"/>
                      </a:lnTo>
                      <a:lnTo>
                        <a:pt x="35" y="23"/>
                      </a:lnTo>
                      <a:lnTo>
                        <a:pt x="35" y="23"/>
                      </a:lnTo>
                      <a:lnTo>
                        <a:pt x="39" y="23"/>
                      </a:lnTo>
                      <a:lnTo>
                        <a:pt x="42" y="26"/>
                      </a:lnTo>
                      <a:lnTo>
                        <a:pt x="48" y="29"/>
                      </a:lnTo>
                      <a:lnTo>
                        <a:pt x="51" y="32"/>
                      </a:lnTo>
                      <a:lnTo>
                        <a:pt x="55" y="35"/>
                      </a:lnTo>
                      <a:lnTo>
                        <a:pt x="61" y="35"/>
                      </a:lnTo>
                      <a:lnTo>
                        <a:pt x="64" y="39"/>
                      </a:lnTo>
                      <a:lnTo>
                        <a:pt x="70" y="42"/>
                      </a:lnTo>
                      <a:lnTo>
                        <a:pt x="74" y="45"/>
                      </a:lnTo>
                      <a:lnTo>
                        <a:pt x="77" y="48"/>
                      </a:lnTo>
                      <a:lnTo>
                        <a:pt x="77" y="48"/>
                      </a:lnTo>
                      <a:lnTo>
                        <a:pt x="77" y="48"/>
                      </a:lnTo>
                      <a:lnTo>
                        <a:pt x="80" y="51"/>
                      </a:lnTo>
                      <a:lnTo>
                        <a:pt x="80" y="55"/>
                      </a:lnTo>
                      <a:lnTo>
                        <a:pt x="80" y="58"/>
                      </a:lnTo>
                      <a:lnTo>
                        <a:pt x="80" y="61"/>
                      </a:lnTo>
                      <a:lnTo>
                        <a:pt x="80" y="64"/>
                      </a:lnTo>
                      <a:lnTo>
                        <a:pt x="86" y="64"/>
                      </a:lnTo>
                      <a:lnTo>
                        <a:pt x="93" y="64"/>
                      </a:lnTo>
                      <a:lnTo>
                        <a:pt x="99" y="64"/>
                      </a:lnTo>
                      <a:lnTo>
                        <a:pt x="106" y="67"/>
                      </a:lnTo>
                      <a:lnTo>
                        <a:pt x="112" y="67"/>
                      </a:lnTo>
                      <a:lnTo>
                        <a:pt x="118" y="67"/>
                      </a:lnTo>
                      <a:lnTo>
                        <a:pt x="125" y="67"/>
                      </a:lnTo>
                      <a:lnTo>
                        <a:pt x="128" y="67"/>
                      </a:lnTo>
                      <a:lnTo>
                        <a:pt x="131" y="64"/>
                      </a:lnTo>
                      <a:lnTo>
                        <a:pt x="131" y="61"/>
                      </a:lnTo>
                      <a:lnTo>
                        <a:pt x="131" y="58"/>
                      </a:lnTo>
                      <a:lnTo>
                        <a:pt x="131" y="55"/>
                      </a:lnTo>
                      <a:lnTo>
                        <a:pt x="131" y="55"/>
                      </a:lnTo>
                      <a:lnTo>
                        <a:pt x="131" y="51"/>
                      </a:lnTo>
                      <a:lnTo>
                        <a:pt x="134" y="51"/>
                      </a:lnTo>
                      <a:lnTo>
                        <a:pt x="134" y="51"/>
                      </a:lnTo>
                      <a:lnTo>
                        <a:pt x="141" y="48"/>
                      </a:lnTo>
                      <a:lnTo>
                        <a:pt x="144" y="45"/>
                      </a:lnTo>
                      <a:lnTo>
                        <a:pt x="150" y="45"/>
                      </a:lnTo>
                      <a:lnTo>
                        <a:pt x="153" y="42"/>
                      </a:lnTo>
                      <a:lnTo>
                        <a:pt x="160" y="39"/>
                      </a:lnTo>
                      <a:lnTo>
                        <a:pt x="163" y="39"/>
                      </a:lnTo>
                      <a:lnTo>
                        <a:pt x="166" y="35"/>
                      </a:lnTo>
                      <a:lnTo>
                        <a:pt x="173" y="32"/>
                      </a:lnTo>
                      <a:lnTo>
                        <a:pt x="176" y="32"/>
                      </a:lnTo>
                      <a:lnTo>
                        <a:pt x="176" y="32"/>
                      </a:lnTo>
                      <a:lnTo>
                        <a:pt x="179" y="32"/>
                      </a:lnTo>
                      <a:lnTo>
                        <a:pt x="179" y="32"/>
                      </a:lnTo>
                      <a:lnTo>
                        <a:pt x="179" y="35"/>
                      </a:lnTo>
                      <a:lnTo>
                        <a:pt x="182" y="35"/>
                      </a:lnTo>
                      <a:lnTo>
                        <a:pt x="182" y="35"/>
                      </a:lnTo>
                      <a:lnTo>
                        <a:pt x="185" y="35"/>
                      </a:lnTo>
                      <a:lnTo>
                        <a:pt x="185" y="39"/>
                      </a:lnTo>
                      <a:lnTo>
                        <a:pt x="188" y="39"/>
                      </a:lnTo>
                      <a:lnTo>
                        <a:pt x="188" y="39"/>
                      </a:lnTo>
                      <a:lnTo>
                        <a:pt x="188" y="42"/>
                      </a:lnTo>
                      <a:lnTo>
                        <a:pt x="192" y="35"/>
                      </a:lnTo>
                      <a:lnTo>
                        <a:pt x="198" y="32"/>
                      </a:lnTo>
                      <a:lnTo>
                        <a:pt x="201" y="26"/>
                      </a:lnTo>
                      <a:lnTo>
                        <a:pt x="204" y="23"/>
                      </a:lnTo>
                      <a:lnTo>
                        <a:pt x="208" y="16"/>
                      </a:lnTo>
                      <a:lnTo>
                        <a:pt x="211" y="13"/>
                      </a:lnTo>
                      <a:lnTo>
                        <a:pt x="214" y="7"/>
                      </a:lnTo>
                      <a:lnTo>
                        <a:pt x="217" y="4"/>
                      </a:lnTo>
                      <a:lnTo>
                        <a:pt x="217" y="0"/>
                      </a:lnTo>
                      <a:lnTo>
                        <a:pt x="217" y="0"/>
                      </a:lnTo>
                      <a:lnTo>
                        <a:pt x="217" y="0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a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169040" y="3564720"/>
                  <a:ext cx="184680" cy="2520"/>
                </a:xfrm>
                <a:custGeom>
                  <a:avLst/>
                  <a:gdLst/>
                  <a:ahLst/>
                  <a:rect l="l" t="t" r="r" b="b"/>
                  <a:pathLst>
                    <a:path w="217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7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7d8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166520" y="3562200"/>
                  <a:ext cx="184680" cy="2520"/>
                </a:xfrm>
                <a:custGeom>
                  <a:avLst/>
                  <a:gdLst/>
                  <a:ahLst/>
                  <a:rect l="l" t="t" r="r" b="b"/>
                  <a:pathLst>
                    <a:path w="217" h="3">
                      <a:moveTo>
                        <a:pt x="3" y="3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7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7f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5819040" y="3196440"/>
                <a:ext cx="1545480" cy="411840"/>
                <a:chOff x="5819040" y="3196440"/>
                <a:chExt cx="1545480" cy="4118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7166520" y="3556800"/>
                  <a:ext cx="182160" cy="5040"/>
                </a:xfrm>
                <a:custGeom>
                  <a:avLst/>
                  <a:gdLst/>
                  <a:ahLst/>
                  <a:rect l="l" t="t" r="r" b="b"/>
                  <a:pathLst>
                    <a:path w="214" h="6">
                      <a:moveTo>
                        <a:pt x="0" y="6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3"/>
                      </a:lnTo>
                      <a:lnTo>
                        <a:pt x="214" y="3"/>
                      </a:lnTo>
                      <a:lnTo>
                        <a:pt x="214" y="3"/>
                      </a:lnTo>
                      <a:lnTo>
                        <a:pt x="214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82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163640" y="3553200"/>
                  <a:ext cx="184680" cy="3600"/>
                </a:xfrm>
                <a:custGeom>
                  <a:avLst/>
                  <a:gdLst/>
                  <a:ahLst/>
                  <a:rect l="l" t="t" r="r" b="b"/>
                  <a:pathLst>
                    <a:path w="217" h="4">
                      <a:moveTo>
                        <a:pt x="3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7" y="4"/>
                      </a:lnTo>
                      <a:lnTo>
                        <a:pt x="217" y="4"/>
                      </a:lnTo>
                      <a:lnTo>
                        <a:pt x="217" y="4"/>
                      </a:lnTo>
                      <a:lnTo>
                        <a:pt x="217" y="4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85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163640" y="3550320"/>
                  <a:ext cx="184680" cy="2520"/>
                </a:xfrm>
                <a:custGeom>
                  <a:avLst/>
                  <a:gdLst/>
                  <a:ahLst/>
                  <a:rect l="l" t="t" r="r" b="b"/>
                  <a:pathLst>
                    <a:path w="217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217" y="0"/>
                      </a:lnTo>
                      <a:lnTo>
                        <a:pt x="217" y="3"/>
                      </a:lnTo>
                      <a:lnTo>
                        <a:pt x="217" y="3"/>
                      </a:lnTo>
                      <a:lnTo>
                        <a:pt x="214" y="3"/>
                      </a:lnTo>
                      <a:lnTo>
                        <a:pt x="214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166520" y="3547800"/>
                  <a:ext cx="182160" cy="2520"/>
                </a:xfrm>
                <a:custGeom>
                  <a:avLst/>
                  <a:gdLst/>
                  <a:ahLst/>
                  <a:rect l="l" t="t" r="r" b="b"/>
                  <a:pathLst>
                    <a:path w="214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214" y="0"/>
                      </a:lnTo>
                      <a:lnTo>
                        <a:pt x="214" y="3"/>
                      </a:lnTo>
                      <a:lnTo>
                        <a:pt x="214" y="3"/>
                      </a:lnTo>
                      <a:lnTo>
                        <a:pt x="214" y="3"/>
                      </a:lnTo>
                      <a:lnTo>
                        <a:pt x="214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c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169040" y="3544920"/>
                  <a:ext cx="179640" cy="2520"/>
                </a:xfrm>
                <a:custGeom>
                  <a:avLst/>
                  <a:gdLst/>
                  <a:ahLst/>
                  <a:rect l="l" t="t" r="r" b="b"/>
                  <a:pathLst>
                    <a:path w="211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1" y="0"/>
                      </a:lnTo>
                      <a:lnTo>
                        <a:pt x="211" y="0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c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169040" y="3542400"/>
                  <a:ext cx="179640" cy="2520"/>
                </a:xfrm>
                <a:custGeom>
                  <a:avLst/>
                  <a:gdLst/>
                  <a:ahLst/>
                  <a:rect l="l" t="t" r="r" b="b"/>
                  <a:pathLst>
                    <a:path w="211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211" y="0"/>
                      </a:lnTo>
                      <a:lnTo>
                        <a:pt x="211" y="0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169040" y="3538440"/>
                  <a:ext cx="179640" cy="3600"/>
                </a:xfrm>
                <a:custGeom>
                  <a:avLst/>
                  <a:gdLst/>
                  <a:ahLst/>
                  <a:rect l="l" t="t" r="r" b="b"/>
                  <a:pathLst>
                    <a:path w="211" h="4">
                      <a:moveTo>
                        <a:pt x="4" y="4"/>
                      </a:move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1" y="0"/>
                      </a:lnTo>
                      <a:lnTo>
                        <a:pt x="211" y="0"/>
                      </a:lnTo>
                      <a:lnTo>
                        <a:pt x="211" y="4"/>
                      </a:lnTo>
                      <a:lnTo>
                        <a:pt x="211" y="4"/>
                      </a:lnTo>
                      <a:lnTo>
                        <a:pt x="211" y="4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169040" y="3535920"/>
                  <a:ext cx="179640" cy="2520"/>
                </a:xfrm>
                <a:custGeom>
                  <a:avLst/>
                  <a:gdLst/>
                  <a:ahLst/>
                  <a:rect l="l" t="t" r="r" b="b"/>
                  <a:pathLst>
                    <a:path w="211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1" y="0"/>
                      </a:lnTo>
                      <a:lnTo>
                        <a:pt x="211" y="0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99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69040" y="3533400"/>
                  <a:ext cx="182160" cy="2520"/>
                </a:xfrm>
                <a:custGeom>
                  <a:avLst/>
                  <a:gdLst/>
                  <a:ahLst/>
                  <a:rect l="l" t="t" r="r" b="b"/>
                  <a:pathLst>
                    <a:path w="214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3"/>
                      </a:lnTo>
                      <a:lnTo>
                        <a:pt x="214" y="3"/>
                      </a:lnTo>
                      <a:lnTo>
                        <a:pt x="21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9b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169040" y="3530520"/>
                  <a:ext cx="182160" cy="2520"/>
                </a:xfrm>
                <a:custGeom>
                  <a:avLst/>
                  <a:gdLst/>
                  <a:ahLst/>
                  <a:rect l="l" t="t" r="r" b="b"/>
                  <a:pathLst>
                    <a:path w="214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3"/>
                      </a:lnTo>
                      <a:lnTo>
                        <a:pt x="214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169040" y="3528000"/>
                  <a:ext cx="182160" cy="2520"/>
                </a:xfrm>
                <a:custGeom>
                  <a:avLst/>
                  <a:gdLst/>
                  <a:ahLst/>
                  <a:rect l="l" t="t" r="r" b="b"/>
                  <a:pathLst>
                    <a:path w="214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3"/>
                      </a:lnTo>
                      <a:lnTo>
                        <a:pt x="214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166520" y="3524400"/>
                  <a:ext cx="184680" cy="3600"/>
                </a:xfrm>
                <a:custGeom>
                  <a:avLst/>
                  <a:gdLst/>
                  <a:ahLst/>
                  <a:rect l="l" t="t" r="r" b="b"/>
                  <a:pathLst>
                    <a:path w="217" h="4">
                      <a:moveTo>
                        <a:pt x="3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0"/>
                      </a:lnTo>
                      <a:lnTo>
                        <a:pt x="217" y="0"/>
                      </a:lnTo>
                      <a:lnTo>
                        <a:pt x="217" y="4"/>
                      </a:lnTo>
                      <a:lnTo>
                        <a:pt x="217" y="4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a3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166520" y="3521520"/>
                  <a:ext cx="184680" cy="2520"/>
                </a:xfrm>
                <a:custGeom>
                  <a:avLst/>
                  <a:gdLst/>
                  <a:ahLst/>
                  <a:rect l="l" t="t" r="r" b="b"/>
                  <a:pathLst>
                    <a:path w="217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0"/>
                      </a:lnTo>
                      <a:lnTo>
                        <a:pt x="217" y="0"/>
                      </a:lnTo>
                      <a:lnTo>
                        <a:pt x="217" y="3"/>
                      </a:lnTo>
                      <a:lnTo>
                        <a:pt x="217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6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166520" y="3518640"/>
                  <a:ext cx="187200" cy="2520"/>
                </a:xfrm>
                <a:custGeom>
                  <a:avLst/>
                  <a:gdLst/>
                  <a:ahLst/>
                  <a:rect l="l" t="t" r="r" b="b"/>
                  <a:pathLst>
                    <a:path w="220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20" y="0"/>
                      </a:lnTo>
                      <a:lnTo>
                        <a:pt x="220" y="0"/>
                      </a:lnTo>
                      <a:lnTo>
                        <a:pt x="220" y="0"/>
                      </a:lnTo>
                      <a:lnTo>
                        <a:pt x="220" y="3"/>
                      </a:lnTo>
                      <a:lnTo>
                        <a:pt x="217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8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166520" y="3516120"/>
                  <a:ext cx="187200" cy="2520"/>
                </a:xfrm>
                <a:custGeom>
                  <a:avLst/>
                  <a:gdLst/>
                  <a:ahLst/>
                  <a:rect l="l" t="t" r="r" b="b"/>
                  <a:pathLst>
                    <a:path w="220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20" y="0"/>
                      </a:lnTo>
                      <a:lnTo>
                        <a:pt x="220" y="0"/>
                      </a:lnTo>
                      <a:lnTo>
                        <a:pt x="220" y="0"/>
                      </a:lnTo>
                      <a:lnTo>
                        <a:pt x="220" y="0"/>
                      </a:lnTo>
                      <a:lnTo>
                        <a:pt x="220" y="0"/>
                      </a:lnTo>
                      <a:lnTo>
                        <a:pt x="220" y="0"/>
                      </a:lnTo>
                      <a:lnTo>
                        <a:pt x="220" y="0"/>
                      </a:lnTo>
                      <a:lnTo>
                        <a:pt x="220" y="3"/>
                      </a:lnTo>
                      <a:lnTo>
                        <a:pt x="22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d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163640" y="3513240"/>
                  <a:ext cx="192600" cy="2520"/>
                </a:xfrm>
                <a:custGeom>
                  <a:avLst/>
                  <a:gdLst/>
                  <a:ahLst/>
                  <a:rect l="l" t="t" r="r" b="b"/>
                  <a:pathLst>
                    <a:path w="226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3" y="0"/>
                      </a:lnTo>
                      <a:lnTo>
                        <a:pt x="223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b0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163640" y="3510720"/>
                  <a:ext cx="198360" cy="2520"/>
                </a:xfrm>
                <a:custGeom>
                  <a:avLst/>
                  <a:gdLst/>
                  <a:ahLst/>
                  <a:rect l="l" t="t" r="r" b="b"/>
                  <a:pathLst>
                    <a:path w="23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0" y="0"/>
                      </a:lnTo>
                      <a:lnTo>
                        <a:pt x="230" y="0"/>
                      </a:lnTo>
                      <a:lnTo>
                        <a:pt x="226" y="0"/>
                      </a:lnTo>
                      <a:lnTo>
                        <a:pt x="226" y="3"/>
                      </a:lnTo>
                      <a:lnTo>
                        <a:pt x="226" y="3"/>
                      </a:lnTo>
                      <a:lnTo>
                        <a:pt x="226" y="3"/>
                      </a:lnTo>
                      <a:lnTo>
                        <a:pt x="22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2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163640" y="3507120"/>
                  <a:ext cx="200880" cy="3600"/>
                </a:xfrm>
                <a:custGeom>
                  <a:avLst/>
                  <a:gdLst/>
                  <a:ahLst/>
                  <a:rect l="l" t="t" r="r" b="b"/>
                  <a:pathLst>
                    <a:path w="236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236" y="4"/>
                      </a:lnTo>
                      <a:lnTo>
                        <a:pt x="236" y="4"/>
                      </a:lnTo>
                      <a:lnTo>
                        <a:pt x="236" y="4"/>
                      </a:lnTo>
                      <a:lnTo>
                        <a:pt x="233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b5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163640" y="3501720"/>
                  <a:ext cx="200880" cy="5040"/>
                </a:xfrm>
                <a:custGeom>
                  <a:avLst/>
                  <a:gdLst/>
                  <a:ahLst/>
                  <a:rect l="l" t="t" r="r" b="b"/>
                  <a:pathLst>
                    <a:path w="236" h="6">
                      <a:moveTo>
                        <a:pt x="0" y="6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36" y="0"/>
                      </a:lnTo>
                      <a:lnTo>
                        <a:pt x="236" y="3"/>
                      </a:lnTo>
                      <a:lnTo>
                        <a:pt x="236" y="3"/>
                      </a:lnTo>
                      <a:lnTo>
                        <a:pt x="236" y="3"/>
                      </a:lnTo>
                      <a:lnTo>
                        <a:pt x="236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b7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61120" y="3498840"/>
                  <a:ext cx="203400" cy="2520"/>
                </a:xfrm>
                <a:custGeom>
                  <a:avLst/>
                  <a:gdLst/>
                  <a:ahLst/>
                  <a:rect l="l" t="t" r="r" b="b"/>
                  <a:pathLst>
                    <a:path w="239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3"/>
                      </a:lnTo>
                      <a:lnTo>
                        <a:pt x="239" y="3"/>
                      </a:lnTo>
                      <a:lnTo>
                        <a:pt x="239" y="3"/>
                      </a:lnTo>
                      <a:lnTo>
                        <a:pt x="239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158600" y="3496320"/>
                  <a:ext cx="205920" cy="2520"/>
                </a:xfrm>
                <a:custGeom>
                  <a:avLst/>
                  <a:gdLst/>
                  <a:ahLst/>
                  <a:rect l="l" t="t" r="r" b="b"/>
                  <a:pathLst>
                    <a:path w="242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3"/>
                      </a:lnTo>
                      <a:lnTo>
                        <a:pt x="239" y="3"/>
                      </a:lnTo>
                      <a:lnTo>
                        <a:pt x="242" y="3"/>
                      </a:lnTo>
                      <a:lnTo>
                        <a:pt x="24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bd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149960" y="3492720"/>
                  <a:ext cx="212040" cy="3240"/>
                </a:xfrm>
                <a:custGeom>
                  <a:avLst/>
                  <a:gdLst/>
                  <a:ahLst/>
                  <a:rect l="l" t="t" r="r" b="b"/>
                  <a:pathLst>
                    <a:path w="249" h="4">
                      <a:moveTo>
                        <a:pt x="10" y="4"/>
                      </a:move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49" y="0"/>
                      </a:lnTo>
                      <a:lnTo>
                        <a:pt x="249" y="0"/>
                      </a:lnTo>
                      <a:lnTo>
                        <a:pt x="249" y="4"/>
                      </a:lnTo>
                      <a:lnTo>
                        <a:pt x="249" y="4"/>
                      </a:lnTo>
                      <a:lnTo>
                        <a:pt x="249" y="4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b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49960" y="3489840"/>
                  <a:ext cx="212040" cy="2520"/>
                </a:xfrm>
                <a:custGeom>
                  <a:avLst/>
                  <a:gdLst/>
                  <a:ahLst/>
                  <a:rect l="l" t="t" r="r" b="b"/>
                  <a:pathLst>
                    <a:path w="249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49" y="0"/>
                      </a:lnTo>
                      <a:lnTo>
                        <a:pt x="249" y="0"/>
                      </a:lnTo>
                      <a:lnTo>
                        <a:pt x="249" y="3"/>
                      </a:lnTo>
                      <a:lnTo>
                        <a:pt x="249" y="3"/>
                      </a:lnTo>
                      <a:lnTo>
                        <a:pt x="249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149960" y="3487320"/>
                  <a:ext cx="212040" cy="2520"/>
                </a:xfrm>
                <a:custGeom>
                  <a:avLst/>
                  <a:gdLst/>
                  <a:ahLst/>
                  <a:rect l="l" t="t" r="r" b="b"/>
                  <a:pathLst>
                    <a:path w="249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49" y="0"/>
                      </a:lnTo>
                      <a:lnTo>
                        <a:pt x="249" y="0"/>
                      </a:lnTo>
                      <a:lnTo>
                        <a:pt x="249" y="3"/>
                      </a:lnTo>
                      <a:lnTo>
                        <a:pt x="249" y="3"/>
                      </a:lnTo>
                      <a:lnTo>
                        <a:pt x="249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152480" y="3484440"/>
                  <a:ext cx="209520" cy="2520"/>
                </a:xfrm>
                <a:custGeom>
                  <a:avLst/>
                  <a:gdLst/>
                  <a:ahLst/>
                  <a:rect l="l" t="t" r="r" b="b"/>
                  <a:pathLst>
                    <a:path w="24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46" y="0"/>
                      </a:lnTo>
                      <a:lnTo>
                        <a:pt x="246" y="0"/>
                      </a:lnTo>
                      <a:lnTo>
                        <a:pt x="246" y="3"/>
                      </a:lnTo>
                      <a:lnTo>
                        <a:pt x="246" y="3"/>
                      </a:lnTo>
                      <a:lnTo>
                        <a:pt x="24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9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152480" y="3481920"/>
                  <a:ext cx="209520" cy="2520"/>
                </a:xfrm>
                <a:custGeom>
                  <a:avLst/>
                  <a:gdLst/>
                  <a:ahLst/>
                  <a:rect l="l" t="t" r="r" b="b"/>
                  <a:pathLst>
                    <a:path w="24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43" y="0"/>
                      </a:lnTo>
                      <a:lnTo>
                        <a:pt x="243" y="0"/>
                      </a:lnTo>
                      <a:lnTo>
                        <a:pt x="243" y="3"/>
                      </a:lnTo>
                      <a:lnTo>
                        <a:pt x="246" y="3"/>
                      </a:lnTo>
                      <a:lnTo>
                        <a:pt x="24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152480" y="3478320"/>
                  <a:ext cx="207000" cy="3600"/>
                </a:xfrm>
                <a:custGeom>
                  <a:avLst/>
                  <a:gdLst/>
                  <a:ahLst/>
                  <a:rect l="l" t="t" r="r" b="b"/>
                  <a:pathLst>
                    <a:path w="243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243" y="0"/>
                      </a:lnTo>
                      <a:lnTo>
                        <a:pt x="243" y="0"/>
                      </a:lnTo>
                      <a:lnTo>
                        <a:pt x="243" y="4"/>
                      </a:lnTo>
                      <a:lnTo>
                        <a:pt x="243" y="4"/>
                      </a:lnTo>
                      <a:lnTo>
                        <a:pt x="243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f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155000" y="3475440"/>
                  <a:ext cx="204480" cy="2520"/>
                </a:xfrm>
                <a:custGeom>
                  <a:avLst/>
                  <a:gdLst/>
                  <a:ahLst/>
                  <a:rect l="l" t="t" r="r" b="b"/>
                  <a:pathLst>
                    <a:path w="240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40" y="3"/>
                      </a:lnTo>
                      <a:lnTo>
                        <a:pt x="240" y="3"/>
                      </a:lnTo>
                      <a:lnTo>
                        <a:pt x="24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d1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155000" y="3472920"/>
                  <a:ext cx="204480" cy="2520"/>
                </a:xfrm>
                <a:custGeom>
                  <a:avLst/>
                  <a:gdLst/>
                  <a:ahLst/>
                  <a:rect l="l" t="t" r="r" b="b"/>
                  <a:pathLst>
                    <a:path w="240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40" y="3"/>
                      </a:lnTo>
                      <a:lnTo>
                        <a:pt x="24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d6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155000" y="3470040"/>
                  <a:ext cx="204480" cy="2520"/>
                </a:xfrm>
                <a:custGeom>
                  <a:avLst/>
                  <a:gdLst/>
                  <a:ahLst/>
                  <a:rect l="l" t="t" r="r" b="b"/>
                  <a:pathLst>
                    <a:path w="240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240" y="0"/>
                      </a:lnTo>
                      <a:lnTo>
                        <a:pt x="240" y="3"/>
                      </a:lnTo>
                      <a:lnTo>
                        <a:pt x="24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d6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155000" y="3467160"/>
                  <a:ext cx="200880" cy="2520"/>
                </a:xfrm>
                <a:custGeom>
                  <a:avLst/>
                  <a:gdLst/>
                  <a:ahLst/>
                  <a:rect l="l" t="t" r="r" b="b"/>
                  <a:pathLst>
                    <a:path w="23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236" y="3"/>
                      </a:lnTo>
                      <a:lnTo>
                        <a:pt x="23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db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155000" y="3464640"/>
                  <a:ext cx="200880" cy="2520"/>
                </a:xfrm>
                <a:custGeom>
                  <a:avLst/>
                  <a:gdLst/>
                  <a:ahLst/>
                  <a:rect l="l" t="t" r="r" b="b"/>
                  <a:pathLst>
                    <a:path w="236" h="3">
                      <a:moveTo>
                        <a:pt x="0" y="3"/>
                      </a:move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24" y="0"/>
                      </a:lnTo>
                      <a:lnTo>
                        <a:pt x="224" y="0"/>
                      </a:lnTo>
                      <a:lnTo>
                        <a:pt x="224" y="0"/>
                      </a:lnTo>
                      <a:lnTo>
                        <a:pt x="224" y="0"/>
                      </a:lnTo>
                      <a:lnTo>
                        <a:pt x="224" y="0"/>
                      </a:lnTo>
                      <a:lnTo>
                        <a:pt x="227" y="0"/>
                      </a:lnTo>
                      <a:lnTo>
                        <a:pt x="227" y="0"/>
                      </a:lnTo>
                      <a:lnTo>
                        <a:pt x="227" y="0"/>
                      </a:lnTo>
                      <a:lnTo>
                        <a:pt x="227" y="0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236" y="0"/>
                      </a:lnTo>
                      <a:lnTo>
                        <a:pt x="236" y="3"/>
                      </a:lnTo>
                      <a:lnTo>
                        <a:pt x="23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de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58600" y="3461040"/>
                  <a:ext cx="187200" cy="3600"/>
                </a:xfrm>
                <a:custGeom>
                  <a:avLst/>
                  <a:gdLst/>
                  <a:ahLst/>
                  <a:rect l="l" t="t" r="r" b="b"/>
                  <a:pathLst>
                    <a:path w="22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6" y="0"/>
                      </a:lnTo>
                      <a:lnTo>
                        <a:pt x="216" y="0"/>
                      </a:lnTo>
                      <a:lnTo>
                        <a:pt x="216" y="0"/>
                      </a:lnTo>
                      <a:lnTo>
                        <a:pt x="220" y="4"/>
                      </a:lnTo>
                      <a:lnTo>
                        <a:pt x="22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e3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348680" y="3461040"/>
                  <a:ext cx="7560" cy="3600"/>
                </a:xfrm>
                <a:custGeom>
                  <a:avLst/>
                  <a:gdLst/>
                  <a:ahLst/>
                  <a:rect l="l" t="t" r="r" b="b"/>
                  <a:pathLst>
                    <a:path w="9" h="4">
                      <a:moveTo>
                        <a:pt x="0" y="4"/>
                      </a:move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e3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158600" y="3458160"/>
                  <a:ext cx="183960" cy="2520"/>
                </a:xfrm>
                <a:custGeom>
                  <a:avLst/>
                  <a:gdLst/>
                  <a:ahLst/>
                  <a:rect l="l" t="t" r="r" b="b"/>
                  <a:pathLst>
                    <a:path w="216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0"/>
                      </a:lnTo>
                      <a:lnTo>
                        <a:pt x="213" y="0"/>
                      </a:lnTo>
                      <a:lnTo>
                        <a:pt x="213" y="0"/>
                      </a:lnTo>
                      <a:lnTo>
                        <a:pt x="213" y="0"/>
                      </a:lnTo>
                      <a:lnTo>
                        <a:pt x="216" y="3"/>
                      </a:lnTo>
                      <a:lnTo>
                        <a:pt x="216" y="3"/>
                      </a:lnTo>
                      <a:lnTo>
                        <a:pt x="216" y="3"/>
                      </a:lnTo>
                      <a:lnTo>
                        <a:pt x="21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5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158600" y="3455640"/>
                  <a:ext cx="181440" cy="2520"/>
                </a:xfrm>
                <a:custGeom>
                  <a:avLst/>
                  <a:gdLst/>
                  <a:ahLst/>
                  <a:rect l="l" t="t" r="r" b="b"/>
                  <a:pathLst>
                    <a:path w="21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210" y="0"/>
                      </a:lnTo>
                      <a:lnTo>
                        <a:pt x="210" y="0"/>
                      </a:lnTo>
                      <a:lnTo>
                        <a:pt x="210" y="0"/>
                      </a:lnTo>
                      <a:lnTo>
                        <a:pt x="210" y="0"/>
                      </a:lnTo>
                      <a:lnTo>
                        <a:pt x="213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8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161120" y="3453120"/>
                  <a:ext cx="176400" cy="2520"/>
                </a:xfrm>
                <a:custGeom>
                  <a:avLst/>
                  <a:gdLst/>
                  <a:ahLst/>
                  <a:rect l="l" t="t" r="r" b="b"/>
                  <a:pathLst>
                    <a:path w="207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204" y="0"/>
                      </a:lnTo>
                      <a:lnTo>
                        <a:pt x="204" y="0"/>
                      </a:lnTo>
                      <a:lnTo>
                        <a:pt x="207" y="0"/>
                      </a:lnTo>
                      <a:lnTo>
                        <a:pt x="207" y="0"/>
                      </a:lnTo>
                      <a:lnTo>
                        <a:pt x="207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a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172280" y="3389760"/>
                  <a:ext cx="162720" cy="63000"/>
                </a:xfrm>
                <a:custGeom>
                  <a:avLst/>
                  <a:gdLst/>
                  <a:ahLst/>
                  <a:rect l="l" t="t" r="r" b="b"/>
                  <a:pathLst>
                    <a:path w="191" h="70">
                      <a:moveTo>
                        <a:pt x="0" y="70"/>
                      </a:moveTo>
                      <a:lnTo>
                        <a:pt x="0" y="67"/>
                      </a:lnTo>
                      <a:lnTo>
                        <a:pt x="0" y="67"/>
                      </a:lnTo>
                      <a:lnTo>
                        <a:pt x="3" y="67"/>
                      </a:lnTo>
                      <a:lnTo>
                        <a:pt x="3" y="67"/>
                      </a:lnTo>
                      <a:lnTo>
                        <a:pt x="6" y="63"/>
                      </a:lnTo>
                      <a:lnTo>
                        <a:pt x="9" y="60"/>
                      </a:lnTo>
                      <a:lnTo>
                        <a:pt x="9" y="54"/>
                      </a:lnTo>
                      <a:lnTo>
                        <a:pt x="12" y="51"/>
                      </a:lnTo>
                      <a:lnTo>
                        <a:pt x="15" y="47"/>
                      </a:lnTo>
                      <a:lnTo>
                        <a:pt x="19" y="44"/>
                      </a:lnTo>
                      <a:lnTo>
                        <a:pt x="22" y="38"/>
                      </a:lnTo>
                      <a:lnTo>
                        <a:pt x="25" y="35"/>
                      </a:lnTo>
                      <a:lnTo>
                        <a:pt x="25" y="35"/>
                      </a:lnTo>
                      <a:lnTo>
                        <a:pt x="25" y="32"/>
                      </a:lnTo>
                      <a:lnTo>
                        <a:pt x="25" y="32"/>
                      </a:lnTo>
                      <a:lnTo>
                        <a:pt x="28" y="28"/>
                      </a:lnTo>
                      <a:lnTo>
                        <a:pt x="25" y="25"/>
                      </a:lnTo>
                      <a:lnTo>
                        <a:pt x="25" y="22"/>
                      </a:lnTo>
                      <a:lnTo>
                        <a:pt x="25" y="22"/>
                      </a:lnTo>
                      <a:lnTo>
                        <a:pt x="25" y="19"/>
                      </a:lnTo>
                      <a:lnTo>
                        <a:pt x="28" y="16"/>
                      </a:lnTo>
                      <a:lnTo>
                        <a:pt x="35" y="12"/>
                      </a:lnTo>
                      <a:lnTo>
                        <a:pt x="41" y="12"/>
                      </a:lnTo>
                      <a:lnTo>
                        <a:pt x="47" y="9"/>
                      </a:lnTo>
                      <a:lnTo>
                        <a:pt x="51" y="6"/>
                      </a:lnTo>
                      <a:lnTo>
                        <a:pt x="57" y="3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70" y="0"/>
                      </a:lnTo>
                      <a:lnTo>
                        <a:pt x="73" y="3"/>
                      </a:lnTo>
                      <a:lnTo>
                        <a:pt x="73" y="6"/>
                      </a:lnTo>
                      <a:lnTo>
                        <a:pt x="76" y="9"/>
                      </a:lnTo>
                      <a:lnTo>
                        <a:pt x="76" y="9"/>
                      </a:lnTo>
                      <a:lnTo>
                        <a:pt x="79" y="9"/>
                      </a:lnTo>
                      <a:lnTo>
                        <a:pt x="79" y="9"/>
                      </a:lnTo>
                      <a:lnTo>
                        <a:pt x="82" y="12"/>
                      </a:lnTo>
                      <a:lnTo>
                        <a:pt x="86" y="12"/>
                      </a:lnTo>
                      <a:lnTo>
                        <a:pt x="92" y="12"/>
                      </a:lnTo>
                      <a:lnTo>
                        <a:pt x="95" y="12"/>
                      </a:lnTo>
                      <a:lnTo>
                        <a:pt x="102" y="12"/>
                      </a:lnTo>
                      <a:lnTo>
                        <a:pt x="105" y="12"/>
                      </a:lnTo>
                      <a:lnTo>
                        <a:pt x="111" y="12"/>
                      </a:lnTo>
                      <a:lnTo>
                        <a:pt x="114" y="12"/>
                      </a:lnTo>
                      <a:lnTo>
                        <a:pt x="121" y="12"/>
                      </a:lnTo>
                      <a:lnTo>
                        <a:pt x="121" y="12"/>
                      </a:lnTo>
                      <a:lnTo>
                        <a:pt x="124" y="12"/>
                      </a:lnTo>
                      <a:lnTo>
                        <a:pt x="124" y="12"/>
                      </a:lnTo>
                      <a:lnTo>
                        <a:pt x="127" y="9"/>
                      </a:lnTo>
                      <a:lnTo>
                        <a:pt x="127" y="9"/>
                      </a:lnTo>
                      <a:lnTo>
                        <a:pt x="130" y="6"/>
                      </a:lnTo>
                      <a:lnTo>
                        <a:pt x="130" y="3"/>
                      </a:lnTo>
                      <a:lnTo>
                        <a:pt x="133" y="3"/>
                      </a:lnTo>
                      <a:lnTo>
                        <a:pt x="137" y="6"/>
                      </a:lnTo>
                      <a:lnTo>
                        <a:pt x="143" y="9"/>
                      </a:lnTo>
                      <a:lnTo>
                        <a:pt x="146" y="9"/>
                      </a:lnTo>
                      <a:lnTo>
                        <a:pt x="153" y="12"/>
                      </a:lnTo>
                      <a:lnTo>
                        <a:pt x="159" y="16"/>
                      </a:lnTo>
                      <a:lnTo>
                        <a:pt x="162" y="19"/>
                      </a:lnTo>
                      <a:lnTo>
                        <a:pt x="169" y="22"/>
                      </a:lnTo>
                      <a:lnTo>
                        <a:pt x="172" y="25"/>
                      </a:lnTo>
                      <a:lnTo>
                        <a:pt x="172" y="28"/>
                      </a:lnTo>
                      <a:lnTo>
                        <a:pt x="172" y="32"/>
                      </a:lnTo>
                      <a:lnTo>
                        <a:pt x="172" y="35"/>
                      </a:lnTo>
                      <a:lnTo>
                        <a:pt x="172" y="35"/>
                      </a:lnTo>
                      <a:lnTo>
                        <a:pt x="172" y="38"/>
                      </a:lnTo>
                      <a:lnTo>
                        <a:pt x="172" y="38"/>
                      </a:lnTo>
                      <a:lnTo>
                        <a:pt x="172" y="41"/>
                      </a:lnTo>
                      <a:lnTo>
                        <a:pt x="172" y="44"/>
                      </a:lnTo>
                      <a:lnTo>
                        <a:pt x="175" y="47"/>
                      </a:lnTo>
                      <a:lnTo>
                        <a:pt x="178" y="51"/>
                      </a:lnTo>
                      <a:lnTo>
                        <a:pt x="178" y="54"/>
                      </a:lnTo>
                      <a:lnTo>
                        <a:pt x="181" y="57"/>
                      </a:lnTo>
                      <a:lnTo>
                        <a:pt x="184" y="60"/>
                      </a:lnTo>
                      <a:lnTo>
                        <a:pt x="188" y="63"/>
                      </a:lnTo>
                      <a:lnTo>
                        <a:pt x="188" y="67"/>
                      </a:lnTo>
                      <a:lnTo>
                        <a:pt x="191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169040" y="3407040"/>
                  <a:ext cx="177120" cy="198720"/>
                </a:xfrm>
                <a:custGeom>
                  <a:avLst/>
                  <a:gdLst/>
                  <a:ahLst/>
                  <a:rect l="l" t="t" r="r" b="b"/>
                  <a:pathLst>
                    <a:path w="208" h="220">
                      <a:moveTo>
                        <a:pt x="99" y="0"/>
                      </a:moveTo>
                      <a:lnTo>
                        <a:pt x="112" y="0"/>
                      </a:lnTo>
                      <a:lnTo>
                        <a:pt x="125" y="3"/>
                      </a:lnTo>
                      <a:lnTo>
                        <a:pt x="134" y="6"/>
                      </a:lnTo>
                      <a:lnTo>
                        <a:pt x="144" y="13"/>
                      </a:lnTo>
                      <a:lnTo>
                        <a:pt x="153" y="19"/>
                      </a:lnTo>
                      <a:lnTo>
                        <a:pt x="163" y="25"/>
                      </a:lnTo>
                      <a:lnTo>
                        <a:pt x="173" y="32"/>
                      </a:lnTo>
                      <a:lnTo>
                        <a:pt x="179" y="41"/>
                      </a:lnTo>
                      <a:lnTo>
                        <a:pt x="185" y="48"/>
                      </a:lnTo>
                      <a:lnTo>
                        <a:pt x="192" y="57"/>
                      </a:lnTo>
                      <a:lnTo>
                        <a:pt x="198" y="67"/>
                      </a:lnTo>
                      <a:lnTo>
                        <a:pt x="201" y="79"/>
                      </a:lnTo>
                      <a:lnTo>
                        <a:pt x="204" y="89"/>
                      </a:lnTo>
                      <a:lnTo>
                        <a:pt x="208" y="99"/>
                      </a:lnTo>
                      <a:lnTo>
                        <a:pt x="208" y="108"/>
                      </a:lnTo>
                      <a:lnTo>
                        <a:pt x="208" y="118"/>
                      </a:lnTo>
                      <a:lnTo>
                        <a:pt x="208" y="127"/>
                      </a:lnTo>
                      <a:lnTo>
                        <a:pt x="208" y="137"/>
                      </a:lnTo>
                      <a:lnTo>
                        <a:pt x="204" y="146"/>
                      </a:lnTo>
                      <a:lnTo>
                        <a:pt x="201" y="156"/>
                      </a:lnTo>
                      <a:lnTo>
                        <a:pt x="198" y="166"/>
                      </a:lnTo>
                      <a:lnTo>
                        <a:pt x="195" y="175"/>
                      </a:lnTo>
                      <a:lnTo>
                        <a:pt x="188" y="182"/>
                      </a:lnTo>
                      <a:lnTo>
                        <a:pt x="182" y="188"/>
                      </a:lnTo>
                      <a:lnTo>
                        <a:pt x="176" y="197"/>
                      </a:lnTo>
                      <a:lnTo>
                        <a:pt x="169" y="204"/>
                      </a:lnTo>
                      <a:lnTo>
                        <a:pt x="163" y="207"/>
                      </a:lnTo>
                      <a:lnTo>
                        <a:pt x="153" y="213"/>
                      </a:lnTo>
                      <a:lnTo>
                        <a:pt x="144" y="217"/>
                      </a:lnTo>
                      <a:lnTo>
                        <a:pt x="134" y="217"/>
                      </a:lnTo>
                      <a:lnTo>
                        <a:pt x="125" y="220"/>
                      </a:lnTo>
                      <a:lnTo>
                        <a:pt x="115" y="220"/>
                      </a:lnTo>
                      <a:lnTo>
                        <a:pt x="102" y="220"/>
                      </a:lnTo>
                      <a:lnTo>
                        <a:pt x="93" y="217"/>
                      </a:lnTo>
                      <a:lnTo>
                        <a:pt x="83" y="213"/>
                      </a:lnTo>
                      <a:lnTo>
                        <a:pt x="74" y="210"/>
                      </a:lnTo>
                      <a:lnTo>
                        <a:pt x="64" y="207"/>
                      </a:lnTo>
                      <a:lnTo>
                        <a:pt x="58" y="201"/>
                      </a:lnTo>
                      <a:lnTo>
                        <a:pt x="48" y="194"/>
                      </a:lnTo>
                      <a:lnTo>
                        <a:pt x="39" y="188"/>
                      </a:lnTo>
                      <a:lnTo>
                        <a:pt x="32" y="182"/>
                      </a:lnTo>
                      <a:lnTo>
                        <a:pt x="26" y="172"/>
                      </a:lnTo>
                      <a:lnTo>
                        <a:pt x="19" y="162"/>
                      </a:lnTo>
                      <a:lnTo>
                        <a:pt x="13" y="153"/>
                      </a:lnTo>
                      <a:lnTo>
                        <a:pt x="10" y="143"/>
                      </a:lnTo>
                      <a:lnTo>
                        <a:pt x="7" y="134"/>
                      </a:lnTo>
                      <a:lnTo>
                        <a:pt x="4" y="121"/>
                      </a:lnTo>
                      <a:lnTo>
                        <a:pt x="4" y="108"/>
                      </a:lnTo>
                      <a:lnTo>
                        <a:pt x="0" y="99"/>
                      </a:lnTo>
                      <a:lnTo>
                        <a:pt x="4" y="89"/>
                      </a:lnTo>
                      <a:lnTo>
                        <a:pt x="4" y="79"/>
                      </a:lnTo>
                      <a:lnTo>
                        <a:pt x="7" y="70"/>
                      </a:lnTo>
                      <a:lnTo>
                        <a:pt x="10" y="60"/>
                      </a:lnTo>
                      <a:lnTo>
                        <a:pt x="16" y="51"/>
                      </a:lnTo>
                      <a:lnTo>
                        <a:pt x="19" y="41"/>
                      </a:lnTo>
                      <a:lnTo>
                        <a:pt x="26" y="35"/>
                      </a:lnTo>
                      <a:lnTo>
                        <a:pt x="32" y="25"/>
                      </a:lnTo>
                      <a:lnTo>
                        <a:pt x="42" y="19"/>
                      </a:lnTo>
                      <a:lnTo>
                        <a:pt x="48" y="13"/>
                      </a:lnTo>
                      <a:lnTo>
                        <a:pt x="58" y="9"/>
                      </a:lnTo>
                      <a:lnTo>
                        <a:pt x="67" y="6"/>
                      </a:lnTo>
                      <a:lnTo>
                        <a:pt x="77" y="3"/>
                      </a:lnTo>
                      <a:lnTo>
                        <a:pt x="90" y="0"/>
                      </a:lnTo>
                      <a:lnTo>
                        <a:pt x="99" y="0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212240" y="3446640"/>
                  <a:ext cx="86760" cy="31320"/>
                </a:xfrm>
                <a:custGeom>
                  <a:avLst/>
                  <a:gdLst/>
                  <a:ahLst/>
                  <a:rect l="l" t="t" r="r" b="b"/>
                  <a:pathLst>
                    <a:path w="102" h="35">
                      <a:moveTo>
                        <a:pt x="102" y="35"/>
                      </a:moveTo>
                      <a:lnTo>
                        <a:pt x="99" y="29"/>
                      </a:lnTo>
                      <a:lnTo>
                        <a:pt x="93" y="23"/>
                      </a:lnTo>
                      <a:lnTo>
                        <a:pt x="90" y="16"/>
                      </a:lnTo>
                      <a:lnTo>
                        <a:pt x="83" y="10"/>
                      </a:lnTo>
                      <a:lnTo>
                        <a:pt x="74" y="7"/>
                      </a:lnTo>
                      <a:lnTo>
                        <a:pt x="67" y="4"/>
                      </a:lnTo>
                      <a:lnTo>
                        <a:pt x="61" y="4"/>
                      </a:lnTo>
                      <a:lnTo>
                        <a:pt x="51" y="0"/>
                      </a:lnTo>
                      <a:lnTo>
                        <a:pt x="42" y="4"/>
                      </a:lnTo>
                      <a:lnTo>
                        <a:pt x="35" y="4"/>
                      </a:lnTo>
                      <a:lnTo>
                        <a:pt x="26" y="7"/>
                      </a:lnTo>
                      <a:lnTo>
                        <a:pt x="19" y="10"/>
                      </a:lnTo>
                      <a:lnTo>
                        <a:pt x="13" y="16"/>
                      </a:lnTo>
                      <a:lnTo>
                        <a:pt x="7" y="23"/>
                      </a:lnTo>
                      <a:lnTo>
                        <a:pt x="4" y="26"/>
                      </a:lnTo>
                      <a:lnTo>
                        <a:pt x="0" y="35"/>
                      </a:lnTo>
                      <a:lnTo>
                        <a:pt x="102" y="35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209720" y="3478320"/>
                  <a:ext cx="92520" cy="720"/>
                </a:xfrm>
                <a:custGeom>
                  <a:avLst/>
                  <a:gdLst/>
                  <a:ahLst/>
                  <a:rect l="l" t="t" r="r" b="b"/>
                  <a:pathLst>
                    <a:path w="109" h="0">
                      <a:moveTo>
                        <a:pt x="105" y="0"/>
                      </a:moveTo>
                      <a:lnTo>
                        <a:pt x="109" y="0"/>
                      </a:lnTo>
                      <a:lnTo>
                        <a:pt x="109" y="0"/>
                      </a:lnTo>
                      <a:lnTo>
                        <a:pt x="109" y="0"/>
                      </a:lnTo>
                      <a:lnTo>
                        <a:pt x="109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209720" y="3478320"/>
                  <a:ext cx="92520" cy="3600"/>
                </a:xfrm>
                <a:custGeom>
                  <a:avLst/>
                  <a:gdLst/>
                  <a:ahLst/>
                  <a:rect l="l" t="t" r="r" b="b"/>
                  <a:pathLst>
                    <a:path w="109" h="4">
                      <a:moveTo>
                        <a:pt x="109" y="0"/>
                      </a:moveTo>
                      <a:lnTo>
                        <a:pt x="109" y="0"/>
                      </a:lnTo>
                      <a:lnTo>
                        <a:pt x="109" y="0"/>
                      </a:lnTo>
                      <a:lnTo>
                        <a:pt x="109" y="4"/>
                      </a:lnTo>
                      <a:lnTo>
                        <a:pt x="109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rgbClr val="8f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209720" y="3481920"/>
                  <a:ext cx="92520" cy="720"/>
                </a:xfrm>
                <a:custGeom>
                  <a:avLst/>
                  <a:gdLst/>
                  <a:ahLst/>
                  <a:rect l="l" t="t" r="r" b="b"/>
                  <a:pathLst>
                    <a:path w="109" h="0">
                      <a:moveTo>
                        <a:pt x="109" y="0"/>
                      </a:moveTo>
                      <a:lnTo>
                        <a:pt x="109" y="0"/>
                      </a:lnTo>
                      <a:lnTo>
                        <a:pt x="109" y="0"/>
                      </a:lnTo>
                      <a:lnTo>
                        <a:pt x="109" y="0"/>
                      </a:lnTo>
                      <a:lnTo>
                        <a:pt x="10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209720" y="3481920"/>
                  <a:ext cx="95040" cy="2520"/>
                </a:xfrm>
                <a:custGeom>
                  <a:avLst/>
                  <a:gdLst/>
                  <a:ahLst/>
                  <a:rect l="l" t="t" r="r" b="b"/>
                  <a:pathLst>
                    <a:path w="112" h="3">
                      <a:moveTo>
                        <a:pt x="109" y="0"/>
                      </a:moveTo>
                      <a:lnTo>
                        <a:pt x="109" y="0"/>
                      </a:lnTo>
                      <a:lnTo>
                        <a:pt x="112" y="0"/>
                      </a:lnTo>
                      <a:lnTo>
                        <a:pt x="112" y="3"/>
                      </a:lnTo>
                      <a:lnTo>
                        <a:pt x="112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209720" y="3484440"/>
                  <a:ext cx="95040" cy="720"/>
                </a:xfrm>
                <a:custGeom>
                  <a:avLst/>
                  <a:gdLst/>
                  <a:ahLst/>
                  <a:rect l="l" t="t" r="r" b="b"/>
                  <a:pathLst>
                    <a:path w="112" h="0">
                      <a:moveTo>
                        <a:pt x="112" y="0"/>
                      </a:moveTo>
                      <a:lnTo>
                        <a:pt x="112" y="0"/>
                      </a:lnTo>
                      <a:lnTo>
                        <a:pt x="112" y="0"/>
                      </a:lnTo>
                      <a:lnTo>
                        <a:pt x="112" y="0"/>
                      </a:lnTo>
                      <a:lnTo>
                        <a:pt x="1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96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207200" y="3484440"/>
                  <a:ext cx="97920" cy="2520"/>
                </a:xfrm>
                <a:custGeom>
                  <a:avLst/>
                  <a:gdLst/>
                  <a:ahLst/>
                  <a:rect l="l" t="t" r="r" b="b"/>
                  <a:pathLst>
                    <a:path w="115" h="3">
                      <a:moveTo>
                        <a:pt x="115" y="0"/>
                      </a:moveTo>
                      <a:lnTo>
                        <a:pt x="115" y="0"/>
                      </a:lnTo>
                      <a:lnTo>
                        <a:pt x="115" y="0"/>
                      </a:lnTo>
                      <a:lnTo>
                        <a:pt x="115" y="3"/>
                      </a:lnTo>
                      <a:lnTo>
                        <a:pt x="115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99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207200" y="3487320"/>
                  <a:ext cx="97920" cy="720"/>
                </a:xfrm>
                <a:custGeom>
                  <a:avLst/>
                  <a:gdLst/>
                  <a:ahLst/>
                  <a:rect l="l" t="t" r="r" b="b"/>
                  <a:pathLst>
                    <a:path w="115" h="0">
                      <a:moveTo>
                        <a:pt x="115" y="0"/>
                      </a:moveTo>
                      <a:lnTo>
                        <a:pt x="115" y="0"/>
                      </a:lnTo>
                      <a:lnTo>
                        <a:pt x="115" y="0"/>
                      </a:lnTo>
                      <a:lnTo>
                        <a:pt x="115" y="0"/>
                      </a:lnTo>
                      <a:lnTo>
                        <a:pt x="1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9e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207200" y="3487320"/>
                  <a:ext cx="100440" cy="2520"/>
                </a:xfrm>
                <a:custGeom>
                  <a:avLst/>
                  <a:gdLst/>
                  <a:ahLst/>
                  <a:rect l="l" t="t" r="r" b="b"/>
                  <a:pathLst>
                    <a:path w="118" h="3">
                      <a:moveTo>
                        <a:pt x="115" y="0"/>
                      </a:moveTo>
                      <a:lnTo>
                        <a:pt x="115" y="0"/>
                      </a:lnTo>
                      <a:lnTo>
                        <a:pt x="115" y="3"/>
                      </a:lnTo>
                      <a:lnTo>
                        <a:pt x="115" y="3"/>
                      </a:lnTo>
                      <a:lnTo>
                        <a:pt x="118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a1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207200" y="3489840"/>
                  <a:ext cx="100440" cy="720"/>
                </a:xfrm>
                <a:custGeom>
                  <a:avLst/>
                  <a:gdLst/>
                  <a:ahLst/>
                  <a:rect l="l" t="t" r="r" b="b"/>
                  <a:pathLst>
                    <a:path w="118" h="0">
                      <a:moveTo>
                        <a:pt x="118" y="0"/>
                      </a:move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a3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207200" y="3489840"/>
                  <a:ext cx="100440" cy="2520"/>
                </a:xfrm>
                <a:custGeom>
                  <a:avLst/>
                  <a:gdLst/>
                  <a:ahLst/>
                  <a:rect l="l" t="t" r="r" b="b"/>
                  <a:pathLst>
                    <a:path w="118" h="3">
                      <a:moveTo>
                        <a:pt x="118" y="0"/>
                      </a:moveTo>
                      <a:lnTo>
                        <a:pt x="118" y="0"/>
                      </a:lnTo>
                      <a:lnTo>
                        <a:pt x="118" y="3"/>
                      </a:lnTo>
                      <a:lnTo>
                        <a:pt x="118" y="3"/>
                      </a:lnTo>
                      <a:lnTo>
                        <a:pt x="118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a3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207200" y="3492720"/>
                  <a:ext cx="100440" cy="720"/>
                </a:xfrm>
                <a:custGeom>
                  <a:avLst/>
                  <a:gdLst/>
                  <a:ahLst/>
                  <a:rect l="l" t="t" r="r" b="b"/>
                  <a:pathLst>
                    <a:path w="118" h="0">
                      <a:moveTo>
                        <a:pt x="118" y="0"/>
                      </a:move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ab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207200" y="3492720"/>
                  <a:ext cx="100440" cy="3240"/>
                </a:xfrm>
                <a:custGeom>
                  <a:avLst/>
                  <a:gdLst/>
                  <a:ahLst/>
                  <a:rect l="l" t="t" r="r" b="b"/>
                  <a:pathLst>
                    <a:path w="118" h="4">
                      <a:moveTo>
                        <a:pt x="118" y="0"/>
                      </a:moveTo>
                      <a:lnTo>
                        <a:pt x="118" y="0"/>
                      </a:lnTo>
                      <a:lnTo>
                        <a:pt x="118" y="4"/>
                      </a:lnTo>
                      <a:lnTo>
                        <a:pt x="118" y="4"/>
                      </a:lnTo>
                      <a:lnTo>
                        <a:pt x="118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ab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207200" y="3496320"/>
                  <a:ext cx="100440" cy="720"/>
                </a:xfrm>
                <a:custGeom>
                  <a:avLst/>
                  <a:gdLst/>
                  <a:ahLst/>
                  <a:rect l="l" t="t" r="r" b="b"/>
                  <a:pathLst>
                    <a:path w="118" h="0">
                      <a:moveTo>
                        <a:pt x="118" y="0"/>
                      </a:move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b0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207200" y="3496320"/>
                  <a:ext cx="102960" cy="2520"/>
                </a:xfrm>
                <a:custGeom>
                  <a:avLst/>
                  <a:gdLst/>
                  <a:ahLst/>
                  <a:rect l="l" t="t" r="r" b="b"/>
                  <a:pathLst>
                    <a:path w="121" h="3">
                      <a:moveTo>
                        <a:pt x="118" y="0"/>
                      </a:moveTo>
                      <a:lnTo>
                        <a:pt x="118" y="3"/>
                      </a:lnTo>
                      <a:lnTo>
                        <a:pt x="121" y="3"/>
                      </a:lnTo>
                      <a:lnTo>
                        <a:pt x="121" y="3"/>
                      </a:lnTo>
                      <a:lnTo>
                        <a:pt x="12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b5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207200" y="3498840"/>
                  <a:ext cx="102960" cy="2520"/>
                </a:xfrm>
                <a:custGeom>
                  <a:avLst/>
                  <a:gdLst/>
                  <a:ahLst/>
                  <a:rect l="l" t="t" r="r" b="b"/>
                  <a:pathLst>
                    <a:path w="121" h="3">
                      <a:moveTo>
                        <a:pt x="121" y="0"/>
                      </a:move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b8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207200" y="3501720"/>
                  <a:ext cx="102960" cy="720"/>
                </a:xfrm>
                <a:custGeom>
                  <a:avLst/>
                  <a:gdLst/>
                  <a:ahLst/>
                  <a:rect l="l" t="t" r="r" b="b"/>
                  <a:pathLst>
                    <a:path w="121" h="0">
                      <a:moveTo>
                        <a:pt x="121" y="0"/>
                      </a:move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ba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207200" y="3501720"/>
                  <a:ext cx="102960" cy="2520"/>
                </a:xfrm>
                <a:custGeom>
                  <a:avLst/>
                  <a:gdLst/>
                  <a:ahLst/>
                  <a:rect l="l" t="t" r="r" b="b"/>
                  <a:pathLst>
                    <a:path w="121" h="3">
                      <a:moveTo>
                        <a:pt x="121" y="0"/>
                      </a:move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bd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207200" y="3504240"/>
                  <a:ext cx="102960" cy="720"/>
                </a:xfrm>
                <a:custGeom>
                  <a:avLst/>
                  <a:gdLst/>
                  <a:ahLst/>
                  <a:rect l="l" t="t" r="r" b="b"/>
                  <a:pathLst>
                    <a:path w="121" h="0">
                      <a:moveTo>
                        <a:pt x="121" y="0"/>
                      </a:move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bd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207200" y="3504240"/>
                  <a:ext cx="102960" cy="2520"/>
                </a:xfrm>
                <a:custGeom>
                  <a:avLst/>
                  <a:gdLst/>
                  <a:ahLst/>
                  <a:rect l="l" t="t" r="r" b="b"/>
                  <a:pathLst>
                    <a:path w="121" h="3">
                      <a:moveTo>
                        <a:pt x="121" y="0"/>
                      </a:move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3"/>
                      </a:lnTo>
                      <a:lnTo>
                        <a:pt x="12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c2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207200" y="3507120"/>
                  <a:ext cx="102960" cy="720"/>
                </a:xfrm>
                <a:custGeom>
                  <a:avLst/>
                  <a:gdLst/>
                  <a:ahLst/>
                  <a:rect l="l" t="t" r="r" b="b"/>
                  <a:pathLst>
                    <a:path w="121" h="0">
                      <a:moveTo>
                        <a:pt x="121" y="0"/>
                      </a:move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c4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207200" y="3507120"/>
                  <a:ext cx="102960" cy="3600"/>
                </a:xfrm>
                <a:custGeom>
                  <a:avLst/>
                  <a:gdLst/>
                  <a:ahLst/>
                  <a:rect l="l" t="t" r="r" b="b"/>
                  <a:pathLst>
                    <a:path w="121" h="4">
                      <a:moveTo>
                        <a:pt x="121" y="0"/>
                      </a:move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c9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207200" y="3510720"/>
                  <a:ext cx="102960" cy="720"/>
                </a:xfrm>
                <a:custGeom>
                  <a:avLst/>
                  <a:gdLst/>
                  <a:ahLst/>
                  <a:rect l="l" t="t" r="r" b="b"/>
                  <a:pathLst>
                    <a:path w="121" h="0">
                      <a:moveTo>
                        <a:pt x="121" y="0"/>
                      </a:move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c9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207200" y="3510720"/>
                  <a:ext cx="102960" cy="2520"/>
                </a:xfrm>
                <a:custGeom>
                  <a:avLst/>
                  <a:gdLst/>
                  <a:ahLst/>
                  <a:rect l="l" t="t" r="r" b="b"/>
                  <a:pathLst>
                    <a:path w="121" h="3">
                      <a:moveTo>
                        <a:pt x="121" y="0"/>
                      </a:move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3"/>
                      </a:lnTo>
                      <a:lnTo>
                        <a:pt x="12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cf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207200" y="3513240"/>
                  <a:ext cx="102960" cy="720"/>
                </a:xfrm>
                <a:custGeom>
                  <a:avLst/>
                  <a:gdLst/>
                  <a:ahLst/>
                  <a:rect l="l" t="t" r="r" b="b"/>
                  <a:pathLst>
                    <a:path w="121" h="0">
                      <a:moveTo>
                        <a:pt x="121" y="0"/>
                      </a:move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d3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207200" y="3513240"/>
                  <a:ext cx="102960" cy="2520"/>
                </a:xfrm>
                <a:custGeom>
                  <a:avLst/>
                  <a:gdLst/>
                  <a:ahLst/>
                  <a:rect l="l" t="t" r="r" b="b"/>
                  <a:pathLst>
                    <a:path w="121" h="3">
                      <a:moveTo>
                        <a:pt x="121" y="0"/>
                      </a:move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3"/>
                      </a:lnTo>
                      <a:lnTo>
                        <a:pt x="12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d6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207200" y="3516120"/>
                  <a:ext cx="102960" cy="720"/>
                </a:xfrm>
                <a:custGeom>
                  <a:avLst/>
                  <a:gdLst/>
                  <a:ahLst/>
                  <a:rect l="l" t="t" r="r" b="b"/>
                  <a:pathLst>
                    <a:path w="121" h="0">
                      <a:moveTo>
                        <a:pt x="121" y="0"/>
                      </a:move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d6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207200" y="3516120"/>
                  <a:ext cx="102960" cy="2520"/>
                </a:xfrm>
                <a:custGeom>
                  <a:avLst/>
                  <a:gdLst/>
                  <a:ahLst/>
                  <a:rect l="l" t="t" r="r" b="b"/>
                  <a:pathLst>
                    <a:path w="121" h="3">
                      <a:moveTo>
                        <a:pt x="121" y="0"/>
                      </a:move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3"/>
                      </a:lnTo>
                      <a:lnTo>
                        <a:pt x="12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207200" y="3518640"/>
                  <a:ext cx="102960" cy="720"/>
                </a:xfrm>
                <a:custGeom>
                  <a:avLst/>
                  <a:gdLst/>
                  <a:ahLst/>
                  <a:rect l="l" t="t" r="r" b="b"/>
                  <a:pathLst>
                    <a:path w="121" h="0">
                      <a:moveTo>
                        <a:pt x="121" y="0"/>
                      </a:move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e0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209720" y="3518640"/>
                  <a:ext cx="100440" cy="2520"/>
                </a:xfrm>
                <a:custGeom>
                  <a:avLst/>
                  <a:gdLst/>
                  <a:ahLst/>
                  <a:rect l="l" t="t" r="r" b="b"/>
                  <a:pathLst>
                    <a:path w="118" h="3">
                      <a:moveTo>
                        <a:pt x="118" y="0"/>
                      </a:moveTo>
                      <a:lnTo>
                        <a:pt x="118" y="0"/>
                      </a:lnTo>
                      <a:lnTo>
                        <a:pt x="118" y="3"/>
                      </a:lnTo>
                      <a:lnTo>
                        <a:pt x="118" y="3"/>
                      </a:lnTo>
                      <a:lnTo>
                        <a:pt x="118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e0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209720" y="3521520"/>
                  <a:ext cx="100440" cy="720"/>
                </a:xfrm>
                <a:custGeom>
                  <a:avLst/>
                  <a:gdLst/>
                  <a:ahLst/>
                  <a:rect l="l" t="t" r="r" b="b"/>
                  <a:pathLst>
                    <a:path w="118" h="0">
                      <a:moveTo>
                        <a:pt x="118" y="0"/>
                      </a:move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e5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209720" y="3521520"/>
                  <a:ext cx="100440" cy="2520"/>
                </a:xfrm>
                <a:custGeom>
                  <a:avLst/>
                  <a:gdLst/>
                  <a:ahLst/>
                  <a:rect l="l" t="t" r="r" b="b"/>
                  <a:pathLst>
                    <a:path w="118" h="3">
                      <a:moveTo>
                        <a:pt x="118" y="0"/>
                      </a:moveTo>
                      <a:lnTo>
                        <a:pt x="118" y="0"/>
                      </a:lnTo>
                      <a:lnTo>
                        <a:pt x="118" y="3"/>
                      </a:lnTo>
                      <a:lnTo>
                        <a:pt x="118" y="3"/>
                      </a:lnTo>
                      <a:lnTo>
                        <a:pt x="118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e8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209720" y="3524400"/>
                  <a:ext cx="100440" cy="720"/>
                </a:xfrm>
                <a:custGeom>
                  <a:avLst/>
                  <a:gdLst/>
                  <a:ahLst/>
                  <a:rect l="l" t="t" r="r" b="b"/>
                  <a:pathLst>
                    <a:path w="118" h="0">
                      <a:moveTo>
                        <a:pt x="118" y="0"/>
                      </a:move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11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ea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209720" y="3524400"/>
                  <a:ext cx="97920" cy="3600"/>
                </a:xfrm>
                <a:custGeom>
                  <a:avLst/>
                  <a:gdLst/>
                  <a:ahLst/>
                  <a:rect l="l" t="t" r="r" b="b"/>
                  <a:pathLst>
                    <a:path w="115" h="4">
                      <a:moveTo>
                        <a:pt x="115" y="0"/>
                      </a:moveTo>
                      <a:lnTo>
                        <a:pt x="115" y="4"/>
                      </a:lnTo>
                      <a:lnTo>
                        <a:pt x="115" y="4"/>
                      </a:lnTo>
                      <a:lnTo>
                        <a:pt x="115" y="4"/>
                      </a:lnTo>
                      <a:lnTo>
                        <a:pt x="115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212240" y="3528000"/>
                  <a:ext cx="95400" cy="720"/>
                </a:xfrm>
                <a:custGeom>
                  <a:avLst/>
                  <a:gdLst/>
                  <a:ahLst/>
                  <a:rect l="l" t="t" r="r" b="b"/>
                  <a:pathLst>
                    <a:path w="112" h="0">
                      <a:moveTo>
                        <a:pt x="112" y="0"/>
                      </a:moveTo>
                      <a:lnTo>
                        <a:pt x="112" y="0"/>
                      </a:lnTo>
                      <a:lnTo>
                        <a:pt x="112" y="0"/>
                      </a:lnTo>
                      <a:lnTo>
                        <a:pt x="112" y="0"/>
                      </a:lnTo>
                      <a:lnTo>
                        <a:pt x="1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f2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212240" y="3528000"/>
                  <a:ext cx="95400" cy="2520"/>
                </a:xfrm>
                <a:custGeom>
                  <a:avLst/>
                  <a:gdLst/>
                  <a:ahLst/>
                  <a:rect l="l" t="t" r="r" b="b"/>
                  <a:pathLst>
                    <a:path w="112" h="3">
                      <a:moveTo>
                        <a:pt x="112" y="0"/>
                      </a:moveTo>
                      <a:lnTo>
                        <a:pt x="112" y="3"/>
                      </a:lnTo>
                      <a:lnTo>
                        <a:pt x="112" y="3"/>
                      </a:lnTo>
                      <a:lnTo>
                        <a:pt x="112" y="3"/>
                      </a:lnTo>
                      <a:lnTo>
                        <a:pt x="112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f2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212240" y="3530520"/>
                  <a:ext cx="95400" cy="2520"/>
                </a:xfrm>
                <a:custGeom>
                  <a:avLst/>
                  <a:gdLst/>
                  <a:ahLst/>
                  <a:rect l="l" t="t" r="r" b="b"/>
                  <a:pathLst>
                    <a:path w="112" h="3">
                      <a:moveTo>
                        <a:pt x="112" y="0"/>
                      </a:moveTo>
                      <a:lnTo>
                        <a:pt x="112" y="0"/>
                      </a:lnTo>
                      <a:lnTo>
                        <a:pt x="112" y="0"/>
                      </a:lnTo>
                      <a:lnTo>
                        <a:pt x="112" y="0"/>
                      </a:lnTo>
                      <a:lnTo>
                        <a:pt x="11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fa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212240" y="3533400"/>
                  <a:ext cx="95400" cy="720"/>
                </a:xfrm>
                <a:custGeom>
                  <a:avLst/>
                  <a:gdLst/>
                  <a:ahLst/>
                  <a:rect l="l" t="t" r="r" b="b"/>
                  <a:pathLst>
                    <a:path w="112" h="0">
                      <a:moveTo>
                        <a:pt x="112" y="0"/>
                      </a:moveTo>
                      <a:lnTo>
                        <a:pt x="112" y="0"/>
                      </a:lnTo>
                      <a:lnTo>
                        <a:pt x="112" y="0"/>
                      </a:lnTo>
                      <a:lnTo>
                        <a:pt x="112" y="0"/>
                      </a:lnTo>
                      <a:lnTo>
                        <a:pt x="11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fa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215480" y="3533400"/>
                  <a:ext cx="92160" cy="2520"/>
                </a:xfrm>
                <a:custGeom>
                  <a:avLst/>
                  <a:gdLst/>
                  <a:ahLst/>
                  <a:rect l="l" t="t" r="r" b="b"/>
                  <a:pathLst>
                    <a:path w="108" h="3">
                      <a:moveTo>
                        <a:pt x="108" y="0"/>
                      </a:moveTo>
                      <a:lnTo>
                        <a:pt x="105" y="0"/>
                      </a:lnTo>
                      <a:lnTo>
                        <a:pt x="105" y="0"/>
                      </a:lnTo>
                      <a:lnTo>
                        <a:pt x="105" y="3"/>
                      </a:lnTo>
                      <a:lnTo>
                        <a:pt x="105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215480" y="3535920"/>
                  <a:ext cx="89280" cy="28800"/>
                </a:xfrm>
                <a:custGeom>
                  <a:avLst/>
                  <a:gdLst/>
                  <a:ahLst/>
                  <a:rect l="l" t="t" r="r" b="b"/>
                  <a:pathLst>
                    <a:path w="105" h="32">
                      <a:moveTo>
                        <a:pt x="105" y="0"/>
                      </a:moveTo>
                      <a:lnTo>
                        <a:pt x="102" y="7"/>
                      </a:lnTo>
                      <a:lnTo>
                        <a:pt x="98" y="13"/>
                      </a:lnTo>
                      <a:lnTo>
                        <a:pt x="92" y="19"/>
                      </a:lnTo>
                      <a:lnTo>
                        <a:pt x="86" y="23"/>
                      </a:lnTo>
                      <a:lnTo>
                        <a:pt x="79" y="26"/>
                      </a:lnTo>
                      <a:lnTo>
                        <a:pt x="73" y="29"/>
                      </a:lnTo>
                      <a:lnTo>
                        <a:pt x="63" y="32"/>
                      </a:lnTo>
                      <a:lnTo>
                        <a:pt x="54" y="32"/>
                      </a:lnTo>
                      <a:lnTo>
                        <a:pt x="51" y="32"/>
                      </a:lnTo>
                      <a:lnTo>
                        <a:pt x="47" y="32"/>
                      </a:lnTo>
                      <a:lnTo>
                        <a:pt x="44" y="29"/>
                      </a:lnTo>
                      <a:lnTo>
                        <a:pt x="38" y="29"/>
                      </a:lnTo>
                      <a:lnTo>
                        <a:pt x="35" y="29"/>
                      </a:lnTo>
                      <a:lnTo>
                        <a:pt x="31" y="26"/>
                      </a:lnTo>
                      <a:lnTo>
                        <a:pt x="28" y="26"/>
                      </a:lnTo>
                      <a:lnTo>
                        <a:pt x="25" y="23"/>
                      </a:lnTo>
                      <a:lnTo>
                        <a:pt x="22" y="19"/>
                      </a:lnTo>
                      <a:lnTo>
                        <a:pt x="19" y="19"/>
                      </a:lnTo>
                      <a:lnTo>
                        <a:pt x="12" y="16"/>
                      </a:lnTo>
                      <a:lnTo>
                        <a:pt x="9" y="13"/>
                      </a:lnTo>
                      <a:lnTo>
                        <a:pt x="9" y="10"/>
                      </a:lnTo>
                      <a:lnTo>
                        <a:pt x="6" y="7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218360" y="3461040"/>
                  <a:ext cx="78120" cy="89280"/>
                </a:xfrm>
                <a:custGeom>
                  <a:avLst/>
                  <a:gdLst/>
                  <a:ahLst/>
                  <a:rect l="l" t="t" r="r" b="b"/>
                  <a:pathLst>
                    <a:path w="92" h="99">
                      <a:moveTo>
                        <a:pt x="48" y="99"/>
                      </a:moveTo>
                      <a:lnTo>
                        <a:pt x="38" y="99"/>
                      </a:lnTo>
                      <a:lnTo>
                        <a:pt x="28" y="93"/>
                      </a:lnTo>
                      <a:lnTo>
                        <a:pt x="19" y="90"/>
                      </a:lnTo>
                      <a:lnTo>
                        <a:pt x="12" y="80"/>
                      </a:lnTo>
                      <a:lnTo>
                        <a:pt x="6" y="74"/>
                      </a:lnTo>
                      <a:lnTo>
                        <a:pt x="3" y="64"/>
                      </a:lnTo>
                      <a:lnTo>
                        <a:pt x="0" y="55"/>
                      </a:lnTo>
                      <a:lnTo>
                        <a:pt x="0" y="45"/>
                      </a:lnTo>
                      <a:lnTo>
                        <a:pt x="0" y="35"/>
                      </a:lnTo>
                      <a:lnTo>
                        <a:pt x="0" y="29"/>
                      </a:lnTo>
                      <a:lnTo>
                        <a:pt x="6" y="19"/>
                      </a:lnTo>
                      <a:lnTo>
                        <a:pt x="9" y="13"/>
                      </a:lnTo>
                      <a:lnTo>
                        <a:pt x="16" y="7"/>
                      </a:lnTo>
                      <a:lnTo>
                        <a:pt x="22" y="4"/>
                      </a:lnTo>
                      <a:lnTo>
                        <a:pt x="32" y="0"/>
                      </a:lnTo>
                      <a:lnTo>
                        <a:pt x="41" y="0"/>
                      </a:lnTo>
                      <a:lnTo>
                        <a:pt x="51" y="4"/>
                      </a:lnTo>
                      <a:lnTo>
                        <a:pt x="60" y="4"/>
                      </a:lnTo>
                      <a:lnTo>
                        <a:pt x="67" y="10"/>
                      </a:lnTo>
                      <a:lnTo>
                        <a:pt x="76" y="13"/>
                      </a:lnTo>
                      <a:lnTo>
                        <a:pt x="83" y="23"/>
                      </a:lnTo>
                      <a:lnTo>
                        <a:pt x="86" y="29"/>
                      </a:lnTo>
                      <a:lnTo>
                        <a:pt x="89" y="39"/>
                      </a:lnTo>
                      <a:lnTo>
                        <a:pt x="92" y="51"/>
                      </a:lnTo>
                      <a:lnTo>
                        <a:pt x="92" y="61"/>
                      </a:lnTo>
                      <a:lnTo>
                        <a:pt x="89" y="67"/>
                      </a:lnTo>
                      <a:lnTo>
                        <a:pt x="86" y="77"/>
                      </a:lnTo>
                      <a:lnTo>
                        <a:pt x="79" y="83"/>
                      </a:lnTo>
                      <a:lnTo>
                        <a:pt x="73" y="90"/>
                      </a:lnTo>
                      <a:lnTo>
                        <a:pt x="67" y="96"/>
                      </a:lnTo>
                      <a:lnTo>
                        <a:pt x="57" y="99"/>
                      </a:lnTo>
                      <a:lnTo>
                        <a:pt x="48" y="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225920" y="3472920"/>
                  <a:ext cx="63000" cy="69120"/>
                </a:xfrm>
                <a:custGeom>
                  <a:avLst/>
                  <a:gdLst/>
                  <a:ahLst/>
                  <a:rect l="l" t="t" r="r" b="b"/>
                  <a:pathLst>
                    <a:path w="74" h="77">
                      <a:moveTo>
                        <a:pt x="39" y="77"/>
                      </a:moveTo>
                      <a:lnTo>
                        <a:pt x="29" y="73"/>
                      </a:lnTo>
                      <a:lnTo>
                        <a:pt x="23" y="70"/>
                      </a:lnTo>
                      <a:lnTo>
                        <a:pt x="16" y="67"/>
                      </a:lnTo>
                      <a:lnTo>
                        <a:pt x="10" y="61"/>
                      </a:lnTo>
                      <a:lnTo>
                        <a:pt x="7" y="54"/>
                      </a:lnTo>
                      <a:lnTo>
                        <a:pt x="3" y="48"/>
                      </a:lnTo>
                      <a:lnTo>
                        <a:pt x="0" y="42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3" y="19"/>
                      </a:lnTo>
                      <a:lnTo>
                        <a:pt x="3" y="16"/>
                      </a:lnTo>
                      <a:lnTo>
                        <a:pt x="10" y="10"/>
                      </a:lnTo>
                      <a:lnTo>
                        <a:pt x="13" y="3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9" y="0"/>
                      </a:lnTo>
                      <a:lnTo>
                        <a:pt x="48" y="3"/>
                      </a:lnTo>
                      <a:lnTo>
                        <a:pt x="54" y="6"/>
                      </a:lnTo>
                      <a:lnTo>
                        <a:pt x="58" y="10"/>
                      </a:lnTo>
                      <a:lnTo>
                        <a:pt x="64" y="16"/>
                      </a:lnTo>
                      <a:lnTo>
                        <a:pt x="67" y="22"/>
                      </a:lnTo>
                      <a:lnTo>
                        <a:pt x="70" y="29"/>
                      </a:lnTo>
                      <a:lnTo>
                        <a:pt x="74" y="38"/>
                      </a:lnTo>
                      <a:lnTo>
                        <a:pt x="74" y="45"/>
                      </a:lnTo>
                      <a:lnTo>
                        <a:pt x="70" y="51"/>
                      </a:lnTo>
                      <a:lnTo>
                        <a:pt x="67" y="57"/>
                      </a:lnTo>
                      <a:lnTo>
                        <a:pt x="64" y="64"/>
                      </a:lnTo>
                      <a:lnTo>
                        <a:pt x="58" y="67"/>
                      </a:lnTo>
                      <a:lnTo>
                        <a:pt x="51" y="73"/>
                      </a:lnTo>
                      <a:lnTo>
                        <a:pt x="45" y="73"/>
                      </a:lnTo>
                      <a:lnTo>
                        <a:pt x="39" y="77"/>
                      </a:lnTo>
                      <a:close/>
                    </a:path>
                  </a:pathLst>
                </a:custGeom>
                <a:solidFill>
                  <a:srgbClr val="e0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239600" y="3487320"/>
                  <a:ext cx="35640" cy="37080"/>
                </a:xfrm>
                <a:custGeom>
                  <a:avLst/>
                  <a:gdLst/>
                  <a:ahLst/>
                  <a:rect l="l" t="t" r="r" b="b"/>
                  <a:pathLst>
                    <a:path w="42" h="41">
                      <a:moveTo>
                        <a:pt x="23" y="41"/>
                      </a:moveTo>
                      <a:lnTo>
                        <a:pt x="16" y="41"/>
                      </a:lnTo>
                      <a:lnTo>
                        <a:pt x="13" y="41"/>
                      </a:lnTo>
                      <a:lnTo>
                        <a:pt x="10" y="38"/>
                      </a:lnTo>
                      <a:lnTo>
                        <a:pt x="7" y="35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10" y="3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9" y="3"/>
                      </a:lnTo>
                      <a:lnTo>
                        <a:pt x="32" y="6"/>
                      </a:lnTo>
                      <a:lnTo>
                        <a:pt x="35" y="10"/>
                      </a:lnTo>
                      <a:lnTo>
                        <a:pt x="38" y="13"/>
                      </a:lnTo>
                      <a:lnTo>
                        <a:pt x="42" y="16"/>
                      </a:lnTo>
                      <a:lnTo>
                        <a:pt x="42" y="19"/>
                      </a:lnTo>
                      <a:lnTo>
                        <a:pt x="42" y="26"/>
                      </a:lnTo>
                      <a:lnTo>
                        <a:pt x="38" y="29"/>
                      </a:lnTo>
                      <a:lnTo>
                        <a:pt x="38" y="32"/>
                      </a:lnTo>
                      <a:lnTo>
                        <a:pt x="35" y="35"/>
                      </a:lnTo>
                      <a:lnTo>
                        <a:pt x="32" y="38"/>
                      </a:lnTo>
                      <a:lnTo>
                        <a:pt x="29" y="41"/>
                      </a:lnTo>
                      <a:lnTo>
                        <a:pt x="26" y="41"/>
                      </a:lnTo>
                      <a:lnTo>
                        <a:pt x="23" y="41"/>
                      </a:lnTo>
                      <a:close/>
                    </a:path>
                  </a:pathLst>
                </a:custGeom>
                <a:solidFill>
                  <a:srgbClr val="e0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237080" y="3504240"/>
                  <a:ext cx="21960" cy="2340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6" y="7"/>
                      </a:lnTo>
                      <a:lnTo>
                        <a:pt x="6" y="10"/>
                      </a:lnTo>
                      <a:lnTo>
                        <a:pt x="10" y="13"/>
                      </a:lnTo>
                      <a:lnTo>
                        <a:pt x="13" y="16"/>
                      </a:lnTo>
                      <a:lnTo>
                        <a:pt x="16" y="19"/>
                      </a:lnTo>
                      <a:lnTo>
                        <a:pt x="19" y="19"/>
                      </a:lnTo>
                      <a:lnTo>
                        <a:pt x="26" y="22"/>
                      </a:lnTo>
                      <a:lnTo>
                        <a:pt x="26" y="26"/>
                      </a:lnTo>
                      <a:lnTo>
                        <a:pt x="19" y="26"/>
                      </a:lnTo>
                      <a:lnTo>
                        <a:pt x="16" y="22"/>
                      </a:lnTo>
                      <a:lnTo>
                        <a:pt x="10" y="19"/>
                      </a:lnTo>
                      <a:lnTo>
                        <a:pt x="6" y="16"/>
                      </a:lnTo>
                      <a:lnTo>
                        <a:pt x="6" y="13"/>
                      </a:lnTo>
                      <a:lnTo>
                        <a:pt x="3" y="10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237080" y="348444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22" y="3"/>
                      </a:move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6" y="6"/>
                      </a:lnTo>
                      <a:lnTo>
                        <a:pt x="13" y="6"/>
                      </a:lnTo>
                      <a:lnTo>
                        <a:pt x="10" y="9"/>
                      </a:lnTo>
                      <a:lnTo>
                        <a:pt x="6" y="13"/>
                      </a:lnTo>
                      <a:lnTo>
                        <a:pt x="6" y="16"/>
                      </a:lnTo>
                      <a:lnTo>
                        <a:pt x="6" y="19"/>
                      </a:lnTo>
                      <a:lnTo>
                        <a:pt x="6" y="22"/>
                      </a:lnTo>
                      <a:lnTo>
                        <a:pt x="0" y="22"/>
                      </a:lnTo>
                      <a:lnTo>
                        <a:pt x="3" y="19"/>
                      </a:lnTo>
                      <a:lnTo>
                        <a:pt x="3" y="13"/>
                      </a:lnTo>
                      <a:lnTo>
                        <a:pt x="6" y="9"/>
                      </a:lnTo>
                      <a:lnTo>
                        <a:pt x="6" y="6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255800" y="3484440"/>
                  <a:ext cx="19440" cy="1980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19" y="22"/>
                      </a:moveTo>
                      <a:lnTo>
                        <a:pt x="19" y="22"/>
                      </a:lnTo>
                      <a:lnTo>
                        <a:pt x="19" y="19"/>
                      </a:lnTo>
                      <a:lnTo>
                        <a:pt x="19" y="16"/>
                      </a:lnTo>
                      <a:lnTo>
                        <a:pt x="16" y="13"/>
                      </a:lnTo>
                      <a:lnTo>
                        <a:pt x="13" y="9"/>
                      </a:lnTo>
                      <a:lnTo>
                        <a:pt x="10" y="6"/>
                      </a:lnTo>
                      <a:lnTo>
                        <a:pt x="7" y="6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3" y="3"/>
                      </a:lnTo>
                      <a:lnTo>
                        <a:pt x="16" y="6"/>
                      </a:lnTo>
                      <a:lnTo>
                        <a:pt x="19" y="9"/>
                      </a:lnTo>
                      <a:lnTo>
                        <a:pt x="19" y="13"/>
                      </a:lnTo>
                      <a:lnTo>
                        <a:pt x="23" y="19"/>
                      </a:lnTo>
                      <a:lnTo>
                        <a:pt x="23" y="22"/>
                      </a:lnTo>
                      <a:lnTo>
                        <a:pt x="23" y="22"/>
                      </a:lnTo>
                      <a:lnTo>
                        <a:pt x="19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259040" y="3504240"/>
                  <a:ext cx="16200" cy="23400"/>
                </a:xfrm>
                <a:custGeom>
                  <a:avLst/>
                  <a:gdLst/>
                  <a:ahLst/>
                  <a:rect l="l" t="t" r="r" b="b"/>
                  <a:pathLst>
                    <a:path w="19" h="26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3" y="22"/>
                      </a:lnTo>
                      <a:lnTo>
                        <a:pt x="6" y="19"/>
                      </a:lnTo>
                      <a:lnTo>
                        <a:pt x="9" y="19"/>
                      </a:lnTo>
                      <a:lnTo>
                        <a:pt x="12" y="16"/>
                      </a:lnTo>
                      <a:lnTo>
                        <a:pt x="12" y="13"/>
                      </a:lnTo>
                      <a:lnTo>
                        <a:pt x="15" y="10"/>
                      </a:lnTo>
                      <a:lnTo>
                        <a:pt x="15" y="7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7"/>
                      </a:lnTo>
                      <a:lnTo>
                        <a:pt x="19" y="10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12" y="22"/>
                      </a:lnTo>
                      <a:lnTo>
                        <a:pt x="6" y="22"/>
                      </a:lnTo>
                      <a:lnTo>
                        <a:pt x="3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819040" y="3196440"/>
                  <a:ext cx="434520" cy="411840"/>
                </a:xfrm>
                <a:custGeom>
                  <a:avLst/>
                  <a:gdLst/>
                  <a:ahLst/>
                  <a:rect l="l" t="t" r="r" b="b"/>
                  <a:pathLst>
                    <a:path w="510" h="456">
                      <a:moveTo>
                        <a:pt x="510" y="411"/>
                      </a:moveTo>
                      <a:lnTo>
                        <a:pt x="507" y="411"/>
                      </a:lnTo>
                      <a:lnTo>
                        <a:pt x="507" y="411"/>
                      </a:lnTo>
                      <a:lnTo>
                        <a:pt x="504" y="411"/>
                      </a:lnTo>
                      <a:lnTo>
                        <a:pt x="497" y="411"/>
                      </a:lnTo>
                      <a:lnTo>
                        <a:pt x="494" y="408"/>
                      </a:lnTo>
                      <a:lnTo>
                        <a:pt x="488" y="408"/>
                      </a:lnTo>
                      <a:lnTo>
                        <a:pt x="481" y="408"/>
                      </a:lnTo>
                      <a:lnTo>
                        <a:pt x="475" y="408"/>
                      </a:lnTo>
                      <a:lnTo>
                        <a:pt x="469" y="405"/>
                      </a:lnTo>
                      <a:lnTo>
                        <a:pt x="462" y="405"/>
                      </a:lnTo>
                      <a:lnTo>
                        <a:pt x="456" y="405"/>
                      </a:lnTo>
                      <a:lnTo>
                        <a:pt x="453" y="402"/>
                      </a:lnTo>
                      <a:lnTo>
                        <a:pt x="446" y="402"/>
                      </a:lnTo>
                      <a:lnTo>
                        <a:pt x="443" y="399"/>
                      </a:lnTo>
                      <a:lnTo>
                        <a:pt x="440" y="399"/>
                      </a:lnTo>
                      <a:lnTo>
                        <a:pt x="440" y="399"/>
                      </a:lnTo>
                      <a:lnTo>
                        <a:pt x="437" y="392"/>
                      </a:lnTo>
                      <a:lnTo>
                        <a:pt x="437" y="386"/>
                      </a:lnTo>
                      <a:lnTo>
                        <a:pt x="437" y="379"/>
                      </a:lnTo>
                      <a:lnTo>
                        <a:pt x="440" y="370"/>
                      </a:lnTo>
                      <a:lnTo>
                        <a:pt x="440" y="363"/>
                      </a:lnTo>
                      <a:lnTo>
                        <a:pt x="443" y="357"/>
                      </a:lnTo>
                      <a:lnTo>
                        <a:pt x="446" y="351"/>
                      </a:lnTo>
                      <a:lnTo>
                        <a:pt x="446" y="344"/>
                      </a:lnTo>
                      <a:lnTo>
                        <a:pt x="446" y="322"/>
                      </a:lnTo>
                      <a:lnTo>
                        <a:pt x="446" y="297"/>
                      </a:lnTo>
                      <a:lnTo>
                        <a:pt x="446" y="271"/>
                      </a:lnTo>
                      <a:lnTo>
                        <a:pt x="443" y="246"/>
                      </a:lnTo>
                      <a:lnTo>
                        <a:pt x="440" y="217"/>
                      </a:lnTo>
                      <a:lnTo>
                        <a:pt x="434" y="191"/>
                      </a:lnTo>
                      <a:lnTo>
                        <a:pt x="424" y="163"/>
                      </a:lnTo>
                      <a:lnTo>
                        <a:pt x="414" y="137"/>
                      </a:lnTo>
                      <a:lnTo>
                        <a:pt x="405" y="115"/>
                      </a:lnTo>
                      <a:lnTo>
                        <a:pt x="389" y="89"/>
                      </a:lnTo>
                      <a:lnTo>
                        <a:pt x="373" y="67"/>
                      </a:lnTo>
                      <a:lnTo>
                        <a:pt x="357" y="48"/>
                      </a:lnTo>
                      <a:lnTo>
                        <a:pt x="335" y="32"/>
                      </a:lnTo>
                      <a:lnTo>
                        <a:pt x="309" y="19"/>
                      </a:lnTo>
                      <a:lnTo>
                        <a:pt x="284" y="10"/>
                      </a:lnTo>
                      <a:lnTo>
                        <a:pt x="255" y="0"/>
                      </a:lnTo>
                      <a:lnTo>
                        <a:pt x="239" y="0"/>
                      </a:lnTo>
                      <a:lnTo>
                        <a:pt x="223" y="0"/>
                      </a:lnTo>
                      <a:lnTo>
                        <a:pt x="207" y="3"/>
                      </a:lnTo>
                      <a:lnTo>
                        <a:pt x="191" y="6"/>
                      </a:lnTo>
                      <a:lnTo>
                        <a:pt x="179" y="10"/>
                      </a:lnTo>
                      <a:lnTo>
                        <a:pt x="163" y="16"/>
                      </a:lnTo>
                      <a:lnTo>
                        <a:pt x="147" y="25"/>
                      </a:lnTo>
                      <a:lnTo>
                        <a:pt x="134" y="35"/>
                      </a:lnTo>
                      <a:lnTo>
                        <a:pt x="121" y="45"/>
                      </a:lnTo>
                      <a:lnTo>
                        <a:pt x="112" y="57"/>
                      </a:lnTo>
                      <a:lnTo>
                        <a:pt x="102" y="70"/>
                      </a:lnTo>
                      <a:lnTo>
                        <a:pt x="92" y="86"/>
                      </a:lnTo>
                      <a:lnTo>
                        <a:pt x="89" y="102"/>
                      </a:lnTo>
                      <a:lnTo>
                        <a:pt x="83" y="121"/>
                      </a:lnTo>
                      <a:lnTo>
                        <a:pt x="83" y="140"/>
                      </a:lnTo>
                      <a:lnTo>
                        <a:pt x="83" y="163"/>
                      </a:lnTo>
                      <a:lnTo>
                        <a:pt x="83" y="179"/>
                      </a:lnTo>
                      <a:lnTo>
                        <a:pt x="86" y="194"/>
                      </a:lnTo>
                      <a:lnTo>
                        <a:pt x="86" y="207"/>
                      </a:lnTo>
                      <a:lnTo>
                        <a:pt x="89" y="223"/>
                      </a:lnTo>
                      <a:lnTo>
                        <a:pt x="89" y="236"/>
                      </a:lnTo>
                      <a:lnTo>
                        <a:pt x="92" y="252"/>
                      </a:lnTo>
                      <a:lnTo>
                        <a:pt x="92" y="268"/>
                      </a:lnTo>
                      <a:lnTo>
                        <a:pt x="96" y="281"/>
                      </a:lnTo>
                      <a:lnTo>
                        <a:pt x="96" y="287"/>
                      </a:lnTo>
                      <a:lnTo>
                        <a:pt x="92" y="293"/>
                      </a:lnTo>
                      <a:lnTo>
                        <a:pt x="92" y="300"/>
                      </a:lnTo>
                      <a:lnTo>
                        <a:pt x="89" y="306"/>
                      </a:lnTo>
                      <a:lnTo>
                        <a:pt x="86" y="306"/>
                      </a:lnTo>
                      <a:lnTo>
                        <a:pt x="83" y="306"/>
                      </a:lnTo>
                      <a:lnTo>
                        <a:pt x="83" y="309"/>
                      </a:lnTo>
                      <a:lnTo>
                        <a:pt x="80" y="309"/>
                      </a:lnTo>
                      <a:lnTo>
                        <a:pt x="76" y="309"/>
                      </a:lnTo>
                      <a:lnTo>
                        <a:pt x="73" y="306"/>
                      </a:lnTo>
                      <a:lnTo>
                        <a:pt x="73" y="306"/>
                      </a:lnTo>
                      <a:lnTo>
                        <a:pt x="70" y="306"/>
                      </a:lnTo>
                      <a:lnTo>
                        <a:pt x="64" y="306"/>
                      </a:lnTo>
                      <a:lnTo>
                        <a:pt x="61" y="303"/>
                      </a:lnTo>
                      <a:lnTo>
                        <a:pt x="57" y="303"/>
                      </a:lnTo>
                      <a:lnTo>
                        <a:pt x="51" y="303"/>
                      </a:lnTo>
                      <a:lnTo>
                        <a:pt x="48" y="300"/>
                      </a:lnTo>
                      <a:lnTo>
                        <a:pt x="45" y="300"/>
                      </a:lnTo>
                      <a:lnTo>
                        <a:pt x="38" y="300"/>
                      </a:lnTo>
                      <a:lnTo>
                        <a:pt x="35" y="297"/>
                      </a:lnTo>
                      <a:lnTo>
                        <a:pt x="29" y="297"/>
                      </a:lnTo>
                      <a:lnTo>
                        <a:pt x="25" y="293"/>
                      </a:lnTo>
                      <a:lnTo>
                        <a:pt x="22" y="293"/>
                      </a:lnTo>
                      <a:lnTo>
                        <a:pt x="16" y="290"/>
                      </a:lnTo>
                      <a:lnTo>
                        <a:pt x="13" y="290"/>
                      </a:lnTo>
                      <a:lnTo>
                        <a:pt x="6" y="287"/>
                      </a:lnTo>
                      <a:lnTo>
                        <a:pt x="3" y="287"/>
                      </a:lnTo>
                      <a:lnTo>
                        <a:pt x="0" y="284"/>
                      </a:lnTo>
                      <a:lnTo>
                        <a:pt x="3" y="287"/>
                      </a:lnTo>
                      <a:lnTo>
                        <a:pt x="6" y="290"/>
                      </a:lnTo>
                      <a:lnTo>
                        <a:pt x="13" y="293"/>
                      </a:lnTo>
                      <a:lnTo>
                        <a:pt x="16" y="297"/>
                      </a:lnTo>
                      <a:lnTo>
                        <a:pt x="19" y="300"/>
                      </a:lnTo>
                      <a:lnTo>
                        <a:pt x="25" y="303"/>
                      </a:lnTo>
                      <a:lnTo>
                        <a:pt x="29" y="306"/>
                      </a:lnTo>
                      <a:lnTo>
                        <a:pt x="32" y="309"/>
                      </a:lnTo>
                      <a:lnTo>
                        <a:pt x="38" y="309"/>
                      </a:lnTo>
                      <a:lnTo>
                        <a:pt x="48" y="312"/>
                      </a:lnTo>
                      <a:lnTo>
                        <a:pt x="54" y="316"/>
                      </a:lnTo>
                      <a:lnTo>
                        <a:pt x="61" y="319"/>
                      </a:lnTo>
                      <a:lnTo>
                        <a:pt x="67" y="322"/>
                      </a:lnTo>
                      <a:lnTo>
                        <a:pt x="73" y="322"/>
                      </a:lnTo>
                      <a:lnTo>
                        <a:pt x="80" y="325"/>
                      </a:lnTo>
                      <a:lnTo>
                        <a:pt x="86" y="328"/>
                      </a:lnTo>
                      <a:lnTo>
                        <a:pt x="89" y="328"/>
                      </a:lnTo>
                      <a:lnTo>
                        <a:pt x="96" y="332"/>
                      </a:lnTo>
                      <a:lnTo>
                        <a:pt x="99" y="335"/>
                      </a:lnTo>
                      <a:lnTo>
                        <a:pt x="105" y="335"/>
                      </a:lnTo>
                      <a:lnTo>
                        <a:pt x="112" y="335"/>
                      </a:lnTo>
                      <a:lnTo>
                        <a:pt x="115" y="338"/>
                      </a:lnTo>
                      <a:lnTo>
                        <a:pt x="121" y="338"/>
                      </a:lnTo>
                      <a:lnTo>
                        <a:pt x="124" y="341"/>
                      </a:lnTo>
                      <a:lnTo>
                        <a:pt x="131" y="351"/>
                      </a:lnTo>
                      <a:lnTo>
                        <a:pt x="134" y="360"/>
                      </a:lnTo>
                      <a:lnTo>
                        <a:pt x="140" y="370"/>
                      </a:lnTo>
                      <a:lnTo>
                        <a:pt x="147" y="383"/>
                      </a:lnTo>
                      <a:lnTo>
                        <a:pt x="156" y="392"/>
                      </a:lnTo>
                      <a:lnTo>
                        <a:pt x="163" y="402"/>
                      </a:lnTo>
                      <a:lnTo>
                        <a:pt x="172" y="415"/>
                      </a:lnTo>
                      <a:lnTo>
                        <a:pt x="185" y="421"/>
                      </a:lnTo>
                      <a:lnTo>
                        <a:pt x="194" y="430"/>
                      </a:lnTo>
                      <a:lnTo>
                        <a:pt x="207" y="440"/>
                      </a:lnTo>
                      <a:lnTo>
                        <a:pt x="223" y="446"/>
                      </a:lnTo>
                      <a:lnTo>
                        <a:pt x="239" y="450"/>
                      </a:lnTo>
                      <a:lnTo>
                        <a:pt x="255" y="453"/>
                      </a:lnTo>
                      <a:lnTo>
                        <a:pt x="274" y="456"/>
                      </a:lnTo>
                      <a:lnTo>
                        <a:pt x="293" y="456"/>
                      </a:lnTo>
                      <a:lnTo>
                        <a:pt x="316" y="453"/>
                      </a:lnTo>
                      <a:lnTo>
                        <a:pt x="456" y="434"/>
                      </a:lnTo>
                      <a:lnTo>
                        <a:pt x="459" y="434"/>
                      </a:lnTo>
                      <a:lnTo>
                        <a:pt x="462" y="434"/>
                      </a:lnTo>
                      <a:lnTo>
                        <a:pt x="465" y="430"/>
                      </a:lnTo>
                      <a:lnTo>
                        <a:pt x="469" y="430"/>
                      </a:lnTo>
                      <a:lnTo>
                        <a:pt x="472" y="430"/>
                      </a:lnTo>
                      <a:lnTo>
                        <a:pt x="475" y="427"/>
                      </a:lnTo>
                      <a:lnTo>
                        <a:pt x="478" y="427"/>
                      </a:lnTo>
                      <a:lnTo>
                        <a:pt x="481" y="424"/>
                      </a:lnTo>
                      <a:lnTo>
                        <a:pt x="485" y="424"/>
                      </a:lnTo>
                      <a:lnTo>
                        <a:pt x="488" y="421"/>
                      </a:lnTo>
                      <a:lnTo>
                        <a:pt x="491" y="421"/>
                      </a:lnTo>
                      <a:lnTo>
                        <a:pt x="497" y="418"/>
                      </a:lnTo>
                      <a:lnTo>
                        <a:pt x="500" y="418"/>
                      </a:lnTo>
                      <a:lnTo>
                        <a:pt x="504" y="415"/>
                      </a:lnTo>
                      <a:lnTo>
                        <a:pt x="507" y="415"/>
                      </a:lnTo>
                      <a:lnTo>
                        <a:pt x="510" y="4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958000" y="3264840"/>
                  <a:ext cx="165240" cy="78480"/>
                </a:xfrm>
                <a:custGeom>
                  <a:avLst/>
                  <a:gdLst/>
                  <a:ahLst/>
                  <a:rect l="l" t="t" r="r" b="b"/>
                  <a:pathLst>
                    <a:path w="194" h="87">
                      <a:moveTo>
                        <a:pt x="194" y="87"/>
                      </a:moveTo>
                      <a:lnTo>
                        <a:pt x="191" y="80"/>
                      </a:lnTo>
                      <a:lnTo>
                        <a:pt x="184" y="71"/>
                      </a:lnTo>
                      <a:lnTo>
                        <a:pt x="181" y="61"/>
                      </a:lnTo>
                      <a:lnTo>
                        <a:pt x="175" y="55"/>
                      </a:lnTo>
                      <a:lnTo>
                        <a:pt x="172" y="48"/>
                      </a:lnTo>
                      <a:lnTo>
                        <a:pt x="165" y="39"/>
                      </a:lnTo>
                      <a:lnTo>
                        <a:pt x="159" y="32"/>
                      </a:lnTo>
                      <a:lnTo>
                        <a:pt x="153" y="29"/>
                      </a:lnTo>
                      <a:lnTo>
                        <a:pt x="146" y="23"/>
                      </a:lnTo>
                      <a:lnTo>
                        <a:pt x="140" y="16"/>
                      </a:lnTo>
                      <a:lnTo>
                        <a:pt x="133" y="13"/>
                      </a:lnTo>
                      <a:lnTo>
                        <a:pt x="127" y="10"/>
                      </a:lnTo>
                      <a:lnTo>
                        <a:pt x="121" y="7"/>
                      </a:lnTo>
                      <a:lnTo>
                        <a:pt x="111" y="4"/>
                      </a:lnTo>
                      <a:lnTo>
                        <a:pt x="105" y="4"/>
                      </a:lnTo>
                      <a:lnTo>
                        <a:pt x="95" y="0"/>
                      </a:lnTo>
                      <a:lnTo>
                        <a:pt x="89" y="4"/>
                      </a:lnTo>
                      <a:lnTo>
                        <a:pt x="79" y="4"/>
                      </a:lnTo>
                      <a:lnTo>
                        <a:pt x="73" y="7"/>
                      </a:lnTo>
                      <a:lnTo>
                        <a:pt x="63" y="7"/>
                      </a:lnTo>
                      <a:lnTo>
                        <a:pt x="57" y="10"/>
                      </a:lnTo>
                      <a:lnTo>
                        <a:pt x="51" y="16"/>
                      </a:lnTo>
                      <a:lnTo>
                        <a:pt x="44" y="20"/>
                      </a:lnTo>
                      <a:lnTo>
                        <a:pt x="38" y="26"/>
                      </a:lnTo>
                      <a:lnTo>
                        <a:pt x="31" y="32"/>
                      </a:lnTo>
                      <a:lnTo>
                        <a:pt x="25" y="39"/>
                      </a:lnTo>
                      <a:lnTo>
                        <a:pt x="19" y="45"/>
                      </a:lnTo>
                      <a:lnTo>
                        <a:pt x="16" y="55"/>
                      </a:lnTo>
                      <a:lnTo>
                        <a:pt x="9" y="61"/>
                      </a:lnTo>
                      <a:lnTo>
                        <a:pt x="6" y="71"/>
                      </a:lnTo>
                      <a:lnTo>
                        <a:pt x="3" y="80"/>
                      </a:lnTo>
                      <a:lnTo>
                        <a:pt x="0" y="87"/>
                      </a:lnTo>
                      <a:lnTo>
                        <a:pt x="194" y="87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958000" y="3343680"/>
                  <a:ext cx="165240" cy="5040"/>
                </a:xfrm>
                <a:custGeom>
                  <a:avLst/>
                  <a:gdLst/>
                  <a:ahLst/>
                  <a:rect l="l" t="t" r="r" b="b"/>
                  <a:pathLst>
                    <a:path w="194" h="6">
                      <a:moveTo>
                        <a:pt x="194" y="0"/>
                      </a:moveTo>
                      <a:lnTo>
                        <a:pt x="194" y="3"/>
                      </a:lnTo>
                      <a:lnTo>
                        <a:pt x="194" y="3"/>
                      </a:lnTo>
                      <a:lnTo>
                        <a:pt x="194" y="3"/>
                      </a:lnTo>
                      <a:lnTo>
                        <a:pt x="194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94" y="0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954400" y="3348720"/>
                  <a:ext cx="171000" cy="2520"/>
                </a:xfrm>
                <a:custGeom>
                  <a:avLst/>
                  <a:gdLst/>
                  <a:ahLst/>
                  <a:rect l="l" t="t" r="r" b="b"/>
                  <a:pathLst>
                    <a:path w="201" h="3">
                      <a:moveTo>
                        <a:pt x="198" y="0"/>
                      </a:moveTo>
                      <a:lnTo>
                        <a:pt x="198" y="0"/>
                      </a:lnTo>
                      <a:lnTo>
                        <a:pt x="201" y="0"/>
                      </a:lnTo>
                      <a:lnTo>
                        <a:pt x="201" y="3"/>
                      </a:lnTo>
                      <a:lnTo>
                        <a:pt x="20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solidFill>
                  <a:srgbClr val="8c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954400" y="3351600"/>
                  <a:ext cx="171000" cy="2520"/>
                </a:xfrm>
                <a:custGeom>
                  <a:avLst/>
                  <a:gdLst/>
                  <a:ahLst/>
                  <a:rect l="l" t="t" r="r" b="b"/>
                  <a:pathLst>
                    <a:path w="201" h="3">
                      <a:moveTo>
                        <a:pt x="201" y="0"/>
                      </a:moveTo>
                      <a:lnTo>
                        <a:pt x="201" y="0"/>
                      </a:lnTo>
                      <a:lnTo>
                        <a:pt x="201" y="3"/>
                      </a:lnTo>
                      <a:lnTo>
                        <a:pt x="201" y="3"/>
                      </a:lnTo>
                      <a:lnTo>
                        <a:pt x="20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8c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951880" y="3354480"/>
                  <a:ext cx="176400" cy="6120"/>
                </a:xfrm>
                <a:custGeom>
                  <a:avLst/>
                  <a:gdLst/>
                  <a:ahLst/>
                  <a:rect l="l" t="t" r="r" b="b"/>
                  <a:pathLst>
                    <a:path w="207" h="7">
                      <a:moveTo>
                        <a:pt x="204" y="0"/>
                      </a:moveTo>
                      <a:lnTo>
                        <a:pt x="204" y="4"/>
                      </a:lnTo>
                      <a:lnTo>
                        <a:pt x="204" y="4"/>
                      </a:lnTo>
                      <a:lnTo>
                        <a:pt x="207" y="4"/>
                      </a:lnTo>
                      <a:lnTo>
                        <a:pt x="207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951880" y="3360600"/>
                  <a:ext cx="176400" cy="2520"/>
                </a:xfrm>
                <a:custGeom>
                  <a:avLst/>
                  <a:gdLst/>
                  <a:ahLst/>
                  <a:rect l="l" t="t" r="r" b="b"/>
                  <a:pathLst>
                    <a:path w="207" h="3">
                      <a:moveTo>
                        <a:pt x="207" y="0"/>
                      </a:moveTo>
                      <a:lnTo>
                        <a:pt x="207" y="0"/>
                      </a:lnTo>
                      <a:lnTo>
                        <a:pt x="207" y="0"/>
                      </a:lnTo>
                      <a:lnTo>
                        <a:pt x="207" y="3"/>
                      </a:lnTo>
                      <a:lnTo>
                        <a:pt x="207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07" y="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951880" y="3363480"/>
                  <a:ext cx="179640" cy="2520"/>
                </a:xfrm>
                <a:custGeom>
                  <a:avLst/>
                  <a:gdLst/>
                  <a:ahLst/>
                  <a:rect l="l" t="t" r="r" b="b"/>
                  <a:pathLst>
                    <a:path w="211" h="3">
                      <a:moveTo>
                        <a:pt x="207" y="0"/>
                      </a:moveTo>
                      <a:lnTo>
                        <a:pt x="207" y="0"/>
                      </a:lnTo>
                      <a:lnTo>
                        <a:pt x="207" y="3"/>
                      </a:lnTo>
                      <a:lnTo>
                        <a:pt x="207" y="3"/>
                      </a:lnTo>
                      <a:lnTo>
                        <a:pt x="21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07" y="0"/>
                      </a:lnTo>
                      <a:close/>
                    </a:path>
                  </a:pathLst>
                </a:custGeom>
                <a:solidFill>
                  <a:srgbClr val="96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951880" y="3366000"/>
                  <a:ext cx="179640" cy="5400"/>
                </a:xfrm>
                <a:custGeom>
                  <a:avLst/>
                  <a:gdLst/>
                  <a:ahLst/>
                  <a:rect l="l" t="t" r="r" b="b"/>
                  <a:pathLst>
                    <a:path w="211" h="6">
                      <a:moveTo>
                        <a:pt x="211" y="0"/>
                      </a:move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211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11" y="0"/>
                      </a:lnTo>
                      <a:close/>
                    </a:path>
                  </a:pathLst>
                </a:custGeom>
                <a:solidFill>
                  <a:srgbClr val="99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949360" y="3371760"/>
                  <a:ext cx="182160" cy="3240"/>
                </a:xfrm>
                <a:custGeom>
                  <a:avLst/>
                  <a:gdLst/>
                  <a:ahLst/>
                  <a:rect l="l" t="t" r="r" b="b"/>
                  <a:pathLst>
                    <a:path w="214" h="4">
                      <a:moveTo>
                        <a:pt x="214" y="0"/>
                      </a:moveTo>
                      <a:lnTo>
                        <a:pt x="214" y="0"/>
                      </a:lnTo>
                      <a:lnTo>
                        <a:pt x="214" y="0"/>
                      </a:lnTo>
                      <a:lnTo>
                        <a:pt x="214" y="4"/>
                      </a:lnTo>
                      <a:lnTo>
                        <a:pt x="214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214" y="0"/>
                      </a:lnTo>
                      <a:close/>
                    </a:path>
                  </a:pathLst>
                </a:custGeom>
                <a:solidFill>
                  <a:srgbClr val="9b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49360" y="3375000"/>
                  <a:ext cx="182160" cy="2520"/>
                </a:xfrm>
                <a:custGeom>
                  <a:avLst/>
                  <a:gdLst/>
                  <a:ahLst/>
                  <a:rect l="l" t="t" r="r" b="b"/>
                  <a:pathLst>
                    <a:path w="214" h="3">
                      <a:moveTo>
                        <a:pt x="214" y="0"/>
                      </a:moveTo>
                      <a:lnTo>
                        <a:pt x="214" y="0"/>
                      </a:lnTo>
                      <a:lnTo>
                        <a:pt x="214" y="3"/>
                      </a:lnTo>
                      <a:lnTo>
                        <a:pt x="214" y="3"/>
                      </a:lnTo>
                      <a:lnTo>
                        <a:pt x="214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4" y="0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949360" y="3377880"/>
                  <a:ext cx="184680" cy="5040"/>
                </a:xfrm>
                <a:custGeom>
                  <a:avLst/>
                  <a:gdLst/>
                  <a:ahLst/>
                  <a:rect l="l" t="t" r="r" b="b"/>
                  <a:pathLst>
                    <a:path w="217" h="6">
                      <a:moveTo>
                        <a:pt x="214" y="0"/>
                      </a:moveTo>
                      <a:lnTo>
                        <a:pt x="217" y="3"/>
                      </a:lnTo>
                      <a:lnTo>
                        <a:pt x="217" y="3"/>
                      </a:lnTo>
                      <a:lnTo>
                        <a:pt x="217" y="3"/>
                      </a:lnTo>
                      <a:lnTo>
                        <a:pt x="217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14" y="0"/>
                      </a:lnTo>
                      <a:close/>
                    </a:path>
                  </a:pathLst>
                </a:custGeom>
                <a:solidFill>
                  <a:srgbClr val="a1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949360" y="3383280"/>
                  <a:ext cx="184680" cy="2520"/>
                </a:xfrm>
                <a:custGeom>
                  <a:avLst/>
                  <a:gdLst/>
                  <a:ahLst/>
                  <a:rect l="l" t="t" r="r" b="b"/>
                  <a:pathLst>
                    <a:path w="217" h="3">
                      <a:moveTo>
                        <a:pt x="217" y="0"/>
                      </a:moveTo>
                      <a:lnTo>
                        <a:pt x="217" y="0"/>
                      </a:lnTo>
                      <a:lnTo>
                        <a:pt x="217" y="0"/>
                      </a:lnTo>
                      <a:lnTo>
                        <a:pt x="217" y="3"/>
                      </a:lnTo>
                      <a:lnTo>
                        <a:pt x="217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a3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949360" y="3385800"/>
                  <a:ext cx="184680" cy="3600"/>
                </a:xfrm>
                <a:custGeom>
                  <a:avLst/>
                  <a:gdLst/>
                  <a:ahLst/>
                  <a:rect l="l" t="t" r="r" b="b"/>
                  <a:pathLst>
                    <a:path w="217" h="4">
                      <a:moveTo>
                        <a:pt x="217" y="0"/>
                      </a:moveTo>
                      <a:lnTo>
                        <a:pt x="217" y="0"/>
                      </a:lnTo>
                      <a:lnTo>
                        <a:pt x="217" y="4"/>
                      </a:lnTo>
                      <a:lnTo>
                        <a:pt x="217" y="4"/>
                      </a:lnTo>
                      <a:lnTo>
                        <a:pt x="217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a6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946480" y="3389760"/>
                  <a:ext cx="190080" cy="5040"/>
                </a:xfrm>
                <a:custGeom>
                  <a:avLst/>
                  <a:gdLst/>
                  <a:ahLst/>
                  <a:rect l="l" t="t" r="r" b="b"/>
                  <a:pathLst>
                    <a:path w="223" h="6">
                      <a:moveTo>
                        <a:pt x="220" y="0"/>
                      </a:moveTo>
                      <a:lnTo>
                        <a:pt x="220" y="3"/>
                      </a:lnTo>
                      <a:lnTo>
                        <a:pt x="220" y="3"/>
                      </a:lnTo>
                      <a:lnTo>
                        <a:pt x="223" y="3"/>
                      </a:lnTo>
                      <a:lnTo>
                        <a:pt x="22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a8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946480" y="3395160"/>
                  <a:ext cx="190080" cy="2520"/>
                </a:xfrm>
                <a:custGeom>
                  <a:avLst/>
                  <a:gdLst/>
                  <a:ahLst/>
                  <a:rect l="l" t="t" r="r" b="b"/>
                  <a:pathLst>
                    <a:path w="223" h="3">
                      <a:moveTo>
                        <a:pt x="223" y="0"/>
                      </a:moveTo>
                      <a:lnTo>
                        <a:pt x="223" y="0"/>
                      </a:lnTo>
                      <a:lnTo>
                        <a:pt x="223" y="0"/>
                      </a:lnTo>
                      <a:lnTo>
                        <a:pt x="223" y="3"/>
                      </a:lnTo>
                      <a:lnTo>
                        <a:pt x="22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ab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946480" y="3397680"/>
                  <a:ext cx="190080" cy="2520"/>
                </a:xfrm>
                <a:custGeom>
                  <a:avLst/>
                  <a:gdLst/>
                  <a:ahLst/>
                  <a:rect l="l" t="t" r="r" b="b"/>
                  <a:pathLst>
                    <a:path w="223" h="3">
                      <a:moveTo>
                        <a:pt x="223" y="0"/>
                      </a:moveTo>
                      <a:lnTo>
                        <a:pt x="223" y="0"/>
                      </a:lnTo>
                      <a:lnTo>
                        <a:pt x="223" y="0"/>
                      </a:lnTo>
                      <a:lnTo>
                        <a:pt x="223" y="3"/>
                      </a:lnTo>
                      <a:lnTo>
                        <a:pt x="22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b0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946480" y="3400560"/>
                  <a:ext cx="190080" cy="3240"/>
                </a:xfrm>
                <a:custGeom>
                  <a:avLst/>
                  <a:gdLst/>
                  <a:ahLst/>
                  <a:rect l="l" t="t" r="r" b="b"/>
                  <a:pathLst>
                    <a:path w="223" h="4">
                      <a:moveTo>
                        <a:pt x="223" y="0"/>
                      </a:moveTo>
                      <a:lnTo>
                        <a:pt x="223" y="0"/>
                      </a:lnTo>
                      <a:lnTo>
                        <a:pt x="223" y="4"/>
                      </a:lnTo>
                      <a:lnTo>
                        <a:pt x="223" y="4"/>
                      </a:lnTo>
                      <a:lnTo>
                        <a:pt x="223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b0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946480" y="3404160"/>
                  <a:ext cx="190080" cy="5400"/>
                </a:xfrm>
                <a:custGeom>
                  <a:avLst/>
                  <a:gdLst/>
                  <a:ahLst/>
                  <a:rect l="l" t="t" r="r" b="b"/>
                  <a:pathLst>
                    <a:path w="223" h="6">
                      <a:moveTo>
                        <a:pt x="223" y="0"/>
                      </a:moveTo>
                      <a:lnTo>
                        <a:pt x="223" y="3"/>
                      </a:lnTo>
                      <a:lnTo>
                        <a:pt x="223" y="3"/>
                      </a:lnTo>
                      <a:lnTo>
                        <a:pt x="223" y="3"/>
                      </a:lnTo>
                      <a:lnTo>
                        <a:pt x="223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b5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946480" y="3409560"/>
                  <a:ext cx="190080" cy="2520"/>
                </a:xfrm>
                <a:custGeom>
                  <a:avLst/>
                  <a:gdLst/>
                  <a:ahLst/>
                  <a:rect l="l" t="t" r="r" b="b"/>
                  <a:pathLst>
                    <a:path w="223" h="3">
                      <a:moveTo>
                        <a:pt x="223" y="0"/>
                      </a:moveTo>
                      <a:lnTo>
                        <a:pt x="223" y="0"/>
                      </a:lnTo>
                      <a:lnTo>
                        <a:pt x="223" y="0"/>
                      </a:lnTo>
                      <a:lnTo>
                        <a:pt x="223" y="3"/>
                      </a:lnTo>
                      <a:lnTo>
                        <a:pt x="22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b7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946480" y="3412080"/>
                  <a:ext cx="190080" cy="2520"/>
                </a:xfrm>
                <a:custGeom>
                  <a:avLst/>
                  <a:gdLst/>
                  <a:ahLst/>
                  <a:rect l="l" t="t" r="r" b="b"/>
                  <a:pathLst>
                    <a:path w="223" h="3">
                      <a:moveTo>
                        <a:pt x="223" y="0"/>
                      </a:moveTo>
                      <a:lnTo>
                        <a:pt x="223" y="0"/>
                      </a:lnTo>
                      <a:lnTo>
                        <a:pt x="223" y="3"/>
                      </a:lnTo>
                      <a:lnTo>
                        <a:pt x="223" y="3"/>
                      </a:lnTo>
                      <a:lnTo>
                        <a:pt x="22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b8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946480" y="3414960"/>
                  <a:ext cx="190080" cy="6120"/>
                </a:xfrm>
                <a:custGeom>
                  <a:avLst/>
                  <a:gdLst/>
                  <a:ahLst/>
                  <a:rect l="l" t="t" r="r" b="b"/>
                  <a:pathLst>
                    <a:path w="223" h="7">
                      <a:moveTo>
                        <a:pt x="223" y="0"/>
                      </a:moveTo>
                      <a:lnTo>
                        <a:pt x="223" y="4"/>
                      </a:lnTo>
                      <a:lnTo>
                        <a:pt x="223" y="4"/>
                      </a:lnTo>
                      <a:lnTo>
                        <a:pt x="223" y="4"/>
                      </a:lnTo>
                      <a:lnTo>
                        <a:pt x="223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946480" y="3421080"/>
                  <a:ext cx="192600" cy="2520"/>
                </a:xfrm>
                <a:custGeom>
                  <a:avLst/>
                  <a:gdLst/>
                  <a:ahLst/>
                  <a:rect l="l" t="t" r="r" b="b"/>
                  <a:pathLst>
                    <a:path w="226" h="3">
                      <a:moveTo>
                        <a:pt x="223" y="0"/>
                      </a:moveTo>
                      <a:lnTo>
                        <a:pt x="226" y="0"/>
                      </a:lnTo>
                      <a:lnTo>
                        <a:pt x="226" y="0"/>
                      </a:lnTo>
                      <a:lnTo>
                        <a:pt x="226" y="3"/>
                      </a:lnTo>
                      <a:lnTo>
                        <a:pt x="226" y="3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bd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949360" y="3423960"/>
                  <a:ext cx="189720" cy="2520"/>
                </a:xfrm>
                <a:custGeom>
                  <a:avLst/>
                  <a:gdLst/>
                  <a:ahLst/>
                  <a:rect l="l" t="t" r="r" b="b"/>
                  <a:pathLst>
                    <a:path w="223" h="3">
                      <a:moveTo>
                        <a:pt x="223" y="0"/>
                      </a:moveTo>
                      <a:lnTo>
                        <a:pt x="223" y="0"/>
                      </a:lnTo>
                      <a:lnTo>
                        <a:pt x="223" y="3"/>
                      </a:lnTo>
                      <a:lnTo>
                        <a:pt x="223" y="3"/>
                      </a:lnTo>
                      <a:lnTo>
                        <a:pt x="22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b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949360" y="3426840"/>
                  <a:ext cx="189720" cy="5040"/>
                </a:xfrm>
                <a:custGeom>
                  <a:avLst/>
                  <a:gdLst/>
                  <a:ahLst/>
                  <a:rect l="l" t="t" r="r" b="b"/>
                  <a:pathLst>
                    <a:path w="223" h="6">
                      <a:moveTo>
                        <a:pt x="223" y="0"/>
                      </a:moveTo>
                      <a:lnTo>
                        <a:pt x="223" y="0"/>
                      </a:lnTo>
                      <a:lnTo>
                        <a:pt x="223" y="0"/>
                      </a:lnTo>
                      <a:lnTo>
                        <a:pt x="223" y="3"/>
                      </a:lnTo>
                      <a:lnTo>
                        <a:pt x="223" y="3"/>
                      </a:lnTo>
                      <a:lnTo>
                        <a:pt x="223" y="3"/>
                      </a:lnTo>
                      <a:lnTo>
                        <a:pt x="223" y="3"/>
                      </a:lnTo>
                      <a:lnTo>
                        <a:pt x="223" y="6"/>
                      </a:lnTo>
                      <a:lnTo>
                        <a:pt x="223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949360" y="3432240"/>
                  <a:ext cx="189720" cy="3600"/>
                </a:xfrm>
                <a:custGeom>
                  <a:avLst/>
                  <a:gdLst/>
                  <a:ahLst/>
                  <a:rect l="l" t="t" r="r" b="b"/>
                  <a:pathLst>
                    <a:path w="223" h="4">
                      <a:moveTo>
                        <a:pt x="223" y="0"/>
                      </a:moveTo>
                      <a:lnTo>
                        <a:pt x="223" y="0"/>
                      </a:lnTo>
                      <a:lnTo>
                        <a:pt x="223" y="0"/>
                      </a:lnTo>
                      <a:lnTo>
                        <a:pt x="223" y="4"/>
                      </a:lnTo>
                      <a:lnTo>
                        <a:pt x="223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949360" y="3435840"/>
                  <a:ext cx="189720" cy="2520"/>
                </a:xfrm>
                <a:custGeom>
                  <a:avLst/>
                  <a:gdLst/>
                  <a:ahLst/>
                  <a:rect l="l" t="t" r="r" b="b"/>
                  <a:pathLst>
                    <a:path w="223" h="3">
                      <a:moveTo>
                        <a:pt x="223" y="0"/>
                      </a:moveTo>
                      <a:lnTo>
                        <a:pt x="223" y="0"/>
                      </a:lnTo>
                      <a:lnTo>
                        <a:pt x="223" y="3"/>
                      </a:lnTo>
                      <a:lnTo>
                        <a:pt x="223" y="3"/>
                      </a:lnTo>
                      <a:lnTo>
                        <a:pt x="22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c9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949360" y="3438360"/>
                  <a:ext cx="187200" cy="5040"/>
                </a:xfrm>
                <a:custGeom>
                  <a:avLst/>
                  <a:gdLst/>
                  <a:ahLst/>
                  <a:rect l="l" t="t" r="r" b="b"/>
                  <a:pathLst>
                    <a:path w="220" h="6">
                      <a:moveTo>
                        <a:pt x="220" y="0"/>
                      </a:moveTo>
                      <a:lnTo>
                        <a:pt x="220" y="3"/>
                      </a:lnTo>
                      <a:lnTo>
                        <a:pt x="220" y="3"/>
                      </a:lnTo>
                      <a:lnTo>
                        <a:pt x="220" y="3"/>
                      </a:lnTo>
                      <a:lnTo>
                        <a:pt x="22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cc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949360" y="3443760"/>
                  <a:ext cx="187200" cy="2520"/>
                </a:xfrm>
                <a:custGeom>
                  <a:avLst/>
                  <a:gdLst/>
                  <a:ahLst/>
                  <a:rect l="l" t="t" r="r" b="b"/>
                  <a:pathLst>
                    <a:path w="220" h="3">
                      <a:moveTo>
                        <a:pt x="220" y="0"/>
                      </a:moveTo>
                      <a:lnTo>
                        <a:pt x="220" y="0"/>
                      </a:lnTo>
                      <a:lnTo>
                        <a:pt x="220" y="0"/>
                      </a:lnTo>
                      <a:lnTo>
                        <a:pt x="220" y="3"/>
                      </a:lnTo>
                      <a:lnTo>
                        <a:pt x="22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20" y="0"/>
                      </a:lnTo>
                      <a:close/>
                    </a:path>
                  </a:pathLst>
                </a:custGeom>
                <a:solidFill>
                  <a:srgbClr val="ce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951880" y="3446640"/>
                  <a:ext cx="184680" cy="3240"/>
                </a:xfrm>
                <a:custGeom>
                  <a:avLst/>
                  <a:gdLst/>
                  <a:ahLst/>
                  <a:rect l="l" t="t" r="r" b="b"/>
                  <a:pathLst>
                    <a:path w="217" h="4">
                      <a:moveTo>
                        <a:pt x="217" y="0"/>
                      </a:moveTo>
                      <a:lnTo>
                        <a:pt x="217" y="0"/>
                      </a:lnTo>
                      <a:lnTo>
                        <a:pt x="217" y="4"/>
                      </a:lnTo>
                      <a:lnTo>
                        <a:pt x="217" y="4"/>
                      </a:lnTo>
                      <a:lnTo>
                        <a:pt x="217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d1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951880" y="3450240"/>
                  <a:ext cx="184680" cy="5400"/>
                </a:xfrm>
                <a:custGeom>
                  <a:avLst/>
                  <a:gdLst/>
                  <a:ahLst/>
                  <a:rect l="l" t="t" r="r" b="b"/>
                  <a:pathLst>
                    <a:path w="217" h="6">
                      <a:moveTo>
                        <a:pt x="217" y="0"/>
                      </a:moveTo>
                      <a:lnTo>
                        <a:pt x="217" y="3"/>
                      </a:lnTo>
                      <a:lnTo>
                        <a:pt x="217" y="3"/>
                      </a:lnTo>
                      <a:lnTo>
                        <a:pt x="217" y="3"/>
                      </a:lnTo>
                      <a:lnTo>
                        <a:pt x="217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d1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51880" y="3455640"/>
                  <a:ext cx="184680" cy="2520"/>
                </a:xfrm>
                <a:custGeom>
                  <a:avLst/>
                  <a:gdLst/>
                  <a:ahLst/>
                  <a:rect l="l" t="t" r="r" b="b"/>
                  <a:pathLst>
                    <a:path w="217" h="3">
                      <a:moveTo>
                        <a:pt x="217" y="0"/>
                      </a:moveTo>
                      <a:lnTo>
                        <a:pt x="217" y="0"/>
                      </a:lnTo>
                      <a:lnTo>
                        <a:pt x="217" y="0"/>
                      </a:lnTo>
                      <a:lnTo>
                        <a:pt x="217" y="3"/>
                      </a:lnTo>
                      <a:lnTo>
                        <a:pt x="217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d6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951880" y="3458160"/>
                  <a:ext cx="184680" cy="2520"/>
                </a:xfrm>
                <a:custGeom>
                  <a:avLst/>
                  <a:gdLst/>
                  <a:ahLst/>
                  <a:rect l="l" t="t" r="r" b="b"/>
                  <a:pathLst>
                    <a:path w="217" h="3">
                      <a:moveTo>
                        <a:pt x="217" y="0"/>
                      </a:moveTo>
                      <a:lnTo>
                        <a:pt x="217" y="0"/>
                      </a:lnTo>
                      <a:lnTo>
                        <a:pt x="217" y="3"/>
                      </a:lnTo>
                      <a:lnTo>
                        <a:pt x="217" y="3"/>
                      </a:lnTo>
                      <a:lnTo>
                        <a:pt x="217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d6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954400" y="3461040"/>
                  <a:ext cx="182160" cy="6120"/>
                </a:xfrm>
                <a:custGeom>
                  <a:avLst/>
                  <a:gdLst/>
                  <a:ahLst/>
                  <a:rect l="l" t="t" r="r" b="b"/>
                  <a:pathLst>
                    <a:path w="214" h="7">
                      <a:moveTo>
                        <a:pt x="214" y="0"/>
                      </a:moveTo>
                      <a:lnTo>
                        <a:pt x="214" y="4"/>
                      </a:lnTo>
                      <a:lnTo>
                        <a:pt x="214" y="4"/>
                      </a:lnTo>
                      <a:lnTo>
                        <a:pt x="214" y="4"/>
                      </a:lnTo>
                      <a:lnTo>
                        <a:pt x="211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214" y="0"/>
                      </a:lnTo>
                      <a:close/>
                    </a:path>
                  </a:pathLst>
                </a:custGeom>
                <a:solidFill>
                  <a:srgbClr val="db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954400" y="3467160"/>
                  <a:ext cx="179640" cy="2520"/>
                </a:xfrm>
                <a:custGeom>
                  <a:avLst/>
                  <a:gdLst/>
                  <a:ahLst/>
                  <a:rect l="l" t="t" r="r" b="b"/>
                  <a:pathLst>
                    <a:path w="211" h="3">
                      <a:moveTo>
                        <a:pt x="211" y="0"/>
                      </a:moveTo>
                      <a:lnTo>
                        <a:pt x="211" y="0"/>
                      </a:lnTo>
                      <a:lnTo>
                        <a:pt x="211" y="0"/>
                      </a:lnTo>
                      <a:lnTo>
                        <a:pt x="211" y="3"/>
                      </a:lnTo>
                      <a:lnTo>
                        <a:pt x="211" y="3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11" y="0"/>
                      </a:lnTo>
                      <a:close/>
                    </a:path>
                  </a:pathLst>
                </a:custGeom>
                <a:solidFill>
                  <a:srgbClr val="db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958000" y="3470040"/>
                  <a:ext cx="176040" cy="2520"/>
                </a:xfrm>
                <a:custGeom>
                  <a:avLst/>
                  <a:gdLst/>
                  <a:ahLst/>
                  <a:rect l="l" t="t" r="r" b="b"/>
                  <a:pathLst>
                    <a:path w="207" h="3">
                      <a:moveTo>
                        <a:pt x="207" y="0"/>
                      </a:moveTo>
                      <a:lnTo>
                        <a:pt x="207" y="0"/>
                      </a:lnTo>
                      <a:lnTo>
                        <a:pt x="207" y="3"/>
                      </a:lnTo>
                      <a:lnTo>
                        <a:pt x="207" y="3"/>
                      </a:lnTo>
                      <a:lnTo>
                        <a:pt x="207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07" y="0"/>
                      </a:lnTo>
                      <a:close/>
                    </a:path>
                  </a:pathLst>
                </a:custGeom>
                <a:solidFill>
                  <a:srgbClr val="e0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958000" y="3472920"/>
                  <a:ext cx="176040" cy="2520"/>
                </a:xfrm>
                <a:custGeom>
                  <a:avLst/>
                  <a:gdLst/>
                  <a:ahLst/>
                  <a:rect l="l" t="t" r="r" b="b"/>
                  <a:pathLst>
                    <a:path w="207" h="3">
                      <a:moveTo>
                        <a:pt x="207" y="0"/>
                      </a:moveTo>
                      <a:lnTo>
                        <a:pt x="207" y="0"/>
                      </a:lnTo>
                      <a:lnTo>
                        <a:pt x="207" y="3"/>
                      </a:lnTo>
                      <a:lnTo>
                        <a:pt x="207" y="3"/>
                      </a:lnTo>
                      <a:lnTo>
                        <a:pt x="207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07" y="0"/>
                      </a:lnTo>
                      <a:close/>
                    </a:path>
                  </a:pathLst>
                </a:custGeom>
                <a:solidFill>
                  <a:srgbClr val="e3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958000" y="3475440"/>
                  <a:ext cx="176040" cy="6120"/>
                </a:xfrm>
                <a:custGeom>
                  <a:avLst/>
                  <a:gdLst/>
                  <a:ahLst/>
                  <a:rect l="l" t="t" r="r" b="b"/>
                  <a:pathLst>
                    <a:path w="207" h="7">
                      <a:moveTo>
                        <a:pt x="207" y="0"/>
                      </a:moveTo>
                      <a:lnTo>
                        <a:pt x="204" y="3"/>
                      </a:lnTo>
                      <a:lnTo>
                        <a:pt x="204" y="3"/>
                      </a:lnTo>
                      <a:lnTo>
                        <a:pt x="204" y="7"/>
                      </a:lnTo>
                      <a:lnTo>
                        <a:pt x="204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07" y="0"/>
                      </a:lnTo>
                      <a:close/>
                    </a:path>
                  </a:pathLst>
                </a:custGeom>
                <a:solidFill>
                  <a:srgbClr val="e5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960160" y="3481920"/>
                  <a:ext cx="171000" cy="2520"/>
                </a:xfrm>
                <a:custGeom>
                  <a:avLst/>
                  <a:gdLst/>
                  <a:ahLst/>
                  <a:rect l="l" t="t" r="r" b="b"/>
                  <a:pathLst>
                    <a:path w="201" h="3">
                      <a:moveTo>
                        <a:pt x="201" y="0"/>
                      </a:moveTo>
                      <a:lnTo>
                        <a:pt x="201" y="0"/>
                      </a:lnTo>
                      <a:lnTo>
                        <a:pt x="201" y="0"/>
                      </a:lnTo>
                      <a:lnTo>
                        <a:pt x="201" y="3"/>
                      </a:lnTo>
                      <a:lnTo>
                        <a:pt x="20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e8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960160" y="3484440"/>
                  <a:ext cx="171000" cy="2520"/>
                </a:xfrm>
                <a:custGeom>
                  <a:avLst/>
                  <a:gdLst/>
                  <a:ahLst/>
                  <a:rect l="l" t="t" r="r" b="b"/>
                  <a:pathLst>
                    <a:path w="201" h="3">
                      <a:moveTo>
                        <a:pt x="201" y="0"/>
                      </a:moveTo>
                      <a:lnTo>
                        <a:pt x="201" y="3"/>
                      </a:lnTo>
                      <a:lnTo>
                        <a:pt x="201" y="3"/>
                      </a:lnTo>
                      <a:lnTo>
                        <a:pt x="201" y="3"/>
                      </a:lnTo>
                      <a:lnTo>
                        <a:pt x="197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ea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962680" y="3487320"/>
                  <a:ext cx="165240" cy="77400"/>
                </a:xfrm>
                <a:custGeom>
                  <a:avLst/>
                  <a:gdLst/>
                  <a:ahLst/>
                  <a:rect l="l" t="t" r="r" b="b"/>
                  <a:pathLst>
                    <a:path w="194" h="86">
                      <a:moveTo>
                        <a:pt x="194" y="0"/>
                      </a:moveTo>
                      <a:lnTo>
                        <a:pt x="191" y="10"/>
                      </a:lnTo>
                      <a:lnTo>
                        <a:pt x="188" y="19"/>
                      </a:lnTo>
                      <a:lnTo>
                        <a:pt x="185" y="29"/>
                      </a:lnTo>
                      <a:lnTo>
                        <a:pt x="182" y="35"/>
                      </a:lnTo>
                      <a:lnTo>
                        <a:pt x="175" y="45"/>
                      </a:lnTo>
                      <a:lnTo>
                        <a:pt x="169" y="51"/>
                      </a:lnTo>
                      <a:lnTo>
                        <a:pt x="166" y="57"/>
                      </a:lnTo>
                      <a:lnTo>
                        <a:pt x="159" y="64"/>
                      </a:lnTo>
                      <a:lnTo>
                        <a:pt x="153" y="67"/>
                      </a:lnTo>
                      <a:lnTo>
                        <a:pt x="147" y="73"/>
                      </a:lnTo>
                      <a:lnTo>
                        <a:pt x="140" y="77"/>
                      </a:lnTo>
                      <a:lnTo>
                        <a:pt x="134" y="80"/>
                      </a:lnTo>
                      <a:lnTo>
                        <a:pt x="124" y="83"/>
                      </a:lnTo>
                      <a:lnTo>
                        <a:pt x="118" y="86"/>
                      </a:lnTo>
                      <a:lnTo>
                        <a:pt x="112" y="86"/>
                      </a:lnTo>
                      <a:lnTo>
                        <a:pt x="102" y="86"/>
                      </a:lnTo>
                      <a:lnTo>
                        <a:pt x="96" y="86"/>
                      </a:lnTo>
                      <a:lnTo>
                        <a:pt x="89" y="83"/>
                      </a:lnTo>
                      <a:lnTo>
                        <a:pt x="80" y="83"/>
                      </a:lnTo>
                      <a:lnTo>
                        <a:pt x="73" y="80"/>
                      </a:lnTo>
                      <a:lnTo>
                        <a:pt x="67" y="77"/>
                      </a:lnTo>
                      <a:lnTo>
                        <a:pt x="57" y="70"/>
                      </a:lnTo>
                      <a:lnTo>
                        <a:pt x="51" y="67"/>
                      </a:lnTo>
                      <a:lnTo>
                        <a:pt x="45" y="61"/>
                      </a:lnTo>
                      <a:lnTo>
                        <a:pt x="38" y="57"/>
                      </a:lnTo>
                      <a:lnTo>
                        <a:pt x="32" y="51"/>
                      </a:lnTo>
                      <a:lnTo>
                        <a:pt x="25" y="45"/>
                      </a:lnTo>
                      <a:lnTo>
                        <a:pt x="19" y="35"/>
                      </a:lnTo>
                      <a:lnTo>
                        <a:pt x="16" y="29"/>
                      </a:lnTo>
                      <a:lnTo>
                        <a:pt x="10" y="19"/>
                      </a:lnTo>
                      <a:lnTo>
                        <a:pt x="3" y="10"/>
                      </a:lnTo>
                      <a:lnTo>
                        <a:pt x="0" y="0"/>
                      </a:lnTo>
                      <a:lnTo>
                        <a:pt x="194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038640" y="3273840"/>
                  <a:ext cx="95040" cy="152640"/>
                </a:xfrm>
                <a:custGeom>
                  <a:avLst/>
                  <a:gdLst/>
                  <a:ahLst/>
                  <a:rect l="l" t="t" r="r" b="b"/>
                  <a:pathLst>
                    <a:path w="112" h="169">
                      <a:moveTo>
                        <a:pt x="109" y="169"/>
                      </a:moveTo>
                      <a:lnTo>
                        <a:pt x="109" y="169"/>
                      </a:lnTo>
                      <a:lnTo>
                        <a:pt x="109" y="156"/>
                      </a:lnTo>
                      <a:lnTo>
                        <a:pt x="109" y="140"/>
                      </a:lnTo>
                      <a:lnTo>
                        <a:pt x="105" y="128"/>
                      </a:lnTo>
                      <a:lnTo>
                        <a:pt x="102" y="112"/>
                      </a:lnTo>
                      <a:lnTo>
                        <a:pt x="96" y="99"/>
                      </a:lnTo>
                      <a:lnTo>
                        <a:pt x="93" y="83"/>
                      </a:lnTo>
                      <a:lnTo>
                        <a:pt x="86" y="70"/>
                      </a:lnTo>
                      <a:lnTo>
                        <a:pt x="80" y="57"/>
                      </a:lnTo>
                      <a:lnTo>
                        <a:pt x="74" y="48"/>
                      </a:lnTo>
                      <a:lnTo>
                        <a:pt x="64" y="35"/>
                      </a:lnTo>
                      <a:lnTo>
                        <a:pt x="54" y="26"/>
                      </a:lnTo>
                      <a:lnTo>
                        <a:pt x="45" y="19"/>
                      </a:lnTo>
                      <a:lnTo>
                        <a:pt x="35" y="13"/>
                      </a:lnTo>
                      <a:lnTo>
                        <a:pt x="26" y="6"/>
                      </a:lnTo>
                      <a:lnTo>
                        <a:pt x="1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26" y="3"/>
                      </a:lnTo>
                      <a:lnTo>
                        <a:pt x="35" y="10"/>
                      </a:lnTo>
                      <a:lnTo>
                        <a:pt x="48" y="16"/>
                      </a:lnTo>
                      <a:lnTo>
                        <a:pt x="58" y="26"/>
                      </a:lnTo>
                      <a:lnTo>
                        <a:pt x="64" y="35"/>
                      </a:lnTo>
                      <a:lnTo>
                        <a:pt x="74" y="45"/>
                      </a:lnTo>
                      <a:lnTo>
                        <a:pt x="80" y="57"/>
                      </a:lnTo>
                      <a:lnTo>
                        <a:pt x="89" y="70"/>
                      </a:lnTo>
                      <a:lnTo>
                        <a:pt x="93" y="83"/>
                      </a:lnTo>
                      <a:lnTo>
                        <a:pt x="99" y="96"/>
                      </a:lnTo>
                      <a:lnTo>
                        <a:pt x="102" y="112"/>
                      </a:lnTo>
                      <a:lnTo>
                        <a:pt x="109" y="124"/>
                      </a:lnTo>
                      <a:lnTo>
                        <a:pt x="109" y="140"/>
                      </a:lnTo>
                      <a:lnTo>
                        <a:pt x="112" y="156"/>
                      </a:lnTo>
                      <a:lnTo>
                        <a:pt x="112" y="169"/>
                      </a:lnTo>
                      <a:lnTo>
                        <a:pt x="112" y="169"/>
                      </a:lnTo>
                      <a:lnTo>
                        <a:pt x="109" y="169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049800" y="3426840"/>
                  <a:ext cx="84240" cy="132480"/>
                </a:xfrm>
                <a:custGeom>
                  <a:avLst/>
                  <a:gdLst/>
                  <a:ahLst/>
                  <a:rect l="l" t="t" r="r" b="b"/>
                  <a:pathLst>
                    <a:path w="99" h="147">
                      <a:moveTo>
                        <a:pt x="0" y="144"/>
                      </a:moveTo>
                      <a:lnTo>
                        <a:pt x="0" y="144"/>
                      </a:lnTo>
                      <a:lnTo>
                        <a:pt x="10" y="144"/>
                      </a:lnTo>
                      <a:lnTo>
                        <a:pt x="19" y="140"/>
                      </a:lnTo>
                      <a:lnTo>
                        <a:pt x="29" y="137"/>
                      </a:lnTo>
                      <a:lnTo>
                        <a:pt x="38" y="131"/>
                      </a:lnTo>
                      <a:lnTo>
                        <a:pt x="48" y="124"/>
                      </a:lnTo>
                      <a:lnTo>
                        <a:pt x="57" y="118"/>
                      </a:lnTo>
                      <a:lnTo>
                        <a:pt x="64" y="108"/>
                      </a:lnTo>
                      <a:lnTo>
                        <a:pt x="70" y="99"/>
                      </a:lnTo>
                      <a:lnTo>
                        <a:pt x="76" y="89"/>
                      </a:lnTo>
                      <a:lnTo>
                        <a:pt x="83" y="80"/>
                      </a:lnTo>
                      <a:lnTo>
                        <a:pt x="86" y="67"/>
                      </a:lnTo>
                      <a:lnTo>
                        <a:pt x="89" y="54"/>
                      </a:lnTo>
                      <a:lnTo>
                        <a:pt x="92" y="42"/>
                      </a:lnTo>
                      <a:lnTo>
                        <a:pt x="96" y="29"/>
                      </a:lnTo>
                      <a:lnTo>
                        <a:pt x="96" y="13"/>
                      </a:lnTo>
                      <a:lnTo>
                        <a:pt x="96" y="0"/>
                      </a:lnTo>
                      <a:lnTo>
                        <a:pt x="99" y="0"/>
                      </a:lnTo>
                      <a:lnTo>
                        <a:pt x="99" y="13"/>
                      </a:lnTo>
                      <a:lnTo>
                        <a:pt x="96" y="29"/>
                      </a:lnTo>
                      <a:lnTo>
                        <a:pt x="96" y="42"/>
                      </a:lnTo>
                      <a:lnTo>
                        <a:pt x="92" y="54"/>
                      </a:lnTo>
                      <a:lnTo>
                        <a:pt x="89" y="67"/>
                      </a:lnTo>
                      <a:lnTo>
                        <a:pt x="83" y="80"/>
                      </a:lnTo>
                      <a:lnTo>
                        <a:pt x="80" y="93"/>
                      </a:lnTo>
                      <a:lnTo>
                        <a:pt x="73" y="102"/>
                      </a:lnTo>
                      <a:lnTo>
                        <a:pt x="64" y="112"/>
                      </a:lnTo>
                      <a:lnTo>
                        <a:pt x="57" y="121"/>
                      </a:lnTo>
                      <a:lnTo>
                        <a:pt x="51" y="128"/>
                      </a:lnTo>
                      <a:lnTo>
                        <a:pt x="41" y="134"/>
                      </a:lnTo>
                      <a:lnTo>
                        <a:pt x="32" y="140"/>
                      </a:lnTo>
                      <a:lnTo>
                        <a:pt x="22" y="144"/>
                      </a:lnTo>
                      <a:lnTo>
                        <a:pt x="10" y="147"/>
                      </a:lnTo>
                      <a:lnTo>
                        <a:pt x="0" y="147"/>
                      </a:lnTo>
                      <a:lnTo>
                        <a:pt x="0" y="147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951880" y="3414960"/>
                  <a:ext cx="97920" cy="144360"/>
                </a:xfrm>
                <a:custGeom>
                  <a:avLst/>
                  <a:gdLst/>
                  <a:ahLst/>
                  <a:rect l="l" t="t" r="r" b="b"/>
                  <a:pathLst>
                    <a:path w="115" h="16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3" y="16"/>
                      </a:lnTo>
                      <a:lnTo>
                        <a:pt x="7" y="32"/>
                      </a:lnTo>
                      <a:lnTo>
                        <a:pt x="10" y="48"/>
                      </a:lnTo>
                      <a:lnTo>
                        <a:pt x="13" y="64"/>
                      </a:lnTo>
                      <a:lnTo>
                        <a:pt x="19" y="77"/>
                      </a:lnTo>
                      <a:lnTo>
                        <a:pt x="26" y="90"/>
                      </a:lnTo>
                      <a:lnTo>
                        <a:pt x="32" y="102"/>
                      </a:lnTo>
                      <a:lnTo>
                        <a:pt x="38" y="112"/>
                      </a:lnTo>
                      <a:lnTo>
                        <a:pt x="48" y="121"/>
                      </a:lnTo>
                      <a:lnTo>
                        <a:pt x="58" y="128"/>
                      </a:lnTo>
                      <a:lnTo>
                        <a:pt x="67" y="137"/>
                      </a:lnTo>
                      <a:lnTo>
                        <a:pt x="74" y="144"/>
                      </a:lnTo>
                      <a:lnTo>
                        <a:pt x="83" y="147"/>
                      </a:lnTo>
                      <a:lnTo>
                        <a:pt x="96" y="150"/>
                      </a:lnTo>
                      <a:lnTo>
                        <a:pt x="105" y="153"/>
                      </a:lnTo>
                      <a:lnTo>
                        <a:pt x="115" y="157"/>
                      </a:lnTo>
                      <a:lnTo>
                        <a:pt x="115" y="160"/>
                      </a:lnTo>
                      <a:lnTo>
                        <a:pt x="102" y="157"/>
                      </a:lnTo>
                      <a:lnTo>
                        <a:pt x="93" y="153"/>
                      </a:lnTo>
                      <a:lnTo>
                        <a:pt x="83" y="150"/>
                      </a:lnTo>
                      <a:lnTo>
                        <a:pt x="74" y="147"/>
                      </a:lnTo>
                      <a:lnTo>
                        <a:pt x="64" y="141"/>
                      </a:lnTo>
                      <a:lnTo>
                        <a:pt x="54" y="131"/>
                      </a:lnTo>
                      <a:lnTo>
                        <a:pt x="48" y="125"/>
                      </a:lnTo>
                      <a:lnTo>
                        <a:pt x="38" y="115"/>
                      </a:lnTo>
                      <a:lnTo>
                        <a:pt x="29" y="102"/>
                      </a:lnTo>
                      <a:lnTo>
                        <a:pt x="23" y="93"/>
                      </a:lnTo>
                      <a:lnTo>
                        <a:pt x="16" y="80"/>
                      </a:lnTo>
                      <a:lnTo>
                        <a:pt x="13" y="64"/>
                      </a:lnTo>
                      <a:lnTo>
                        <a:pt x="7" y="51"/>
                      </a:lnTo>
                      <a:lnTo>
                        <a:pt x="3" y="35"/>
                      </a:ln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51880" y="3273840"/>
                  <a:ext cx="86760" cy="140760"/>
                </a:xfrm>
                <a:custGeom>
                  <a:avLst/>
                  <a:gdLst/>
                  <a:ahLst/>
                  <a:rect l="l" t="t" r="r" b="b"/>
                  <a:pathLst>
                    <a:path w="102" h="156">
                      <a:moveTo>
                        <a:pt x="102" y="3"/>
                      </a:moveTo>
                      <a:lnTo>
                        <a:pt x="102" y="3"/>
                      </a:lnTo>
                      <a:lnTo>
                        <a:pt x="93" y="3"/>
                      </a:lnTo>
                      <a:lnTo>
                        <a:pt x="80" y="6"/>
                      </a:lnTo>
                      <a:lnTo>
                        <a:pt x="70" y="10"/>
                      </a:lnTo>
                      <a:lnTo>
                        <a:pt x="61" y="16"/>
                      </a:lnTo>
                      <a:lnTo>
                        <a:pt x="51" y="22"/>
                      </a:lnTo>
                      <a:lnTo>
                        <a:pt x="42" y="32"/>
                      </a:lnTo>
                      <a:lnTo>
                        <a:pt x="35" y="38"/>
                      </a:lnTo>
                      <a:lnTo>
                        <a:pt x="29" y="51"/>
                      </a:lnTo>
                      <a:lnTo>
                        <a:pt x="23" y="61"/>
                      </a:lnTo>
                      <a:lnTo>
                        <a:pt x="16" y="73"/>
                      </a:lnTo>
                      <a:lnTo>
                        <a:pt x="13" y="86"/>
                      </a:lnTo>
                      <a:lnTo>
                        <a:pt x="7" y="99"/>
                      </a:lnTo>
                      <a:lnTo>
                        <a:pt x="7" y="115"/>
                      </a:lnTo>
                      <a:lnTo>
                        <a:pt x="3" y="128"/>
                      </a:lnTo>
                      <a:lnTo>
                        <a:pt x="3" y="140"/>
                      </a:lnTo>
                      <a:lnTo>
                        <a:pt x="3" y="156"/>
                      </a:lnTo>
                      <a:lnTo>
                        <a:pt x="0" y="156"/>
                      </a:lnTo>
                      <a:lnTo>
                        <a:pt x="0" y="140"/>
                      </a:lnTo>
                      <a:lnTo>
                        <a:pt x="0" y="128"/>
                      </a:lnTo>
                      <a:lnTo>
                        <a:pt x="3" y="112"/>
                      </a:lnTo>
                      <a:lnTo>
                        <a:pt x="7" y="99"/>
                      </a:lnTo>
                      <a:lnTo>
                        <a:pt x="10" y="86"/>
                      </a:lnTo>
                      <a:lnTo>
                        <a:pt x="13" y="73"/>
                      </a:lnTo>
                      <a:lnTo>
                        <a:pt x="19" y="61"/>
                      </a:lnTo>
                      <a:lnTo>
                        <a:pt x="26" y="48"/>
                      </a:lnTo>
                      <a:lnTo>
                        <a:pt x="32" y="38"/>
                      </a:lnTo>
                      <a:lnTo>
                        <a:pt x="42" y="29"/>
                      </a:lnTo>
                      <a:lnTo>
                        <a:pt x="51" y="19"/>
                      </a:lnTo>
                      <a:lnTo>
                        <a:pt x="61" y="13"/>
                      </a:lnTo>
                      <a:lnTo>
                        <a:pt x="70" y="6"/>
                      </a:lnTo>
                      <a:lnTo>
                        <a:pt x="80" y="3"/>
                      </a:lnTo>
                      <a:lnTo>
                        <a:pt x="93" y="0"/>
                      </a:lnTo>
                      <a:lnTo>
                        <a:pt x="102" y="0"/>
                      </a:lnTo>
                      <a:lnTo>
                        <a:pt x="102" y="0"/>
                      </a:lnTo>
                      <a:lnTo>
                        <a:pt x="102" y="3"/>
                      </a:lnTo>
                      <a:close/>
                    </a:path>
                  </a:pathLst>
                </a:custGeom>
                <a:solidFill>
                  <a:srgbClr val="82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958000" y="3283200"/>
                  <a:ext cx="170280" cy="267120"/>
                </a:xfrm>
                <a:custGeom>
                  <a:avLst/>
                  <a:gdLst/>
                  <a:ahLst/>
                  <a:rect l="l" t="t" r="r" b="b"/>
                  <a:pathLst>
                    <a:path w="200" h="296">
                      <a:moveTo>
                        <a:pt x="95" y="0"/>
                      </a:moveTo>
                      <a:lnTo>
                        <a:pt x="108" y="0"/>
                      </a:lnTo>
                      <a:lnTo>
                        <a:pt x="118" y="3"/>
                      </a:lnTo>
                      <a:lnTo>
                        <a:pt x="130" y="9"/>
                      </a:lnTo>
                      <a:lnTo>
                        <a:pt x="140" y="16"/>
                      </a:lnTo>
                      <a:lnTo>
                        <a:pt x="149" y="22"/>
                      </a:lnTo>
                      <a:lnTo>
                        <a:pt x="156" y="32"/>
                      </a:lnTo>
                      <a:lnTo>
                        <a:pt x="165" y="41"/>
                      </a:lnTo>
                      <a:lnTo>
                        <a:pt x="172" y="54"/>
                      </a:lnTo>
                      <a:lnTo>
                        <a:pt x="178" y="63"/>
                      </a:lnTo>
                      <a:lnTo>
                        <a:pt x="184" y="76"/>
                      </a:lnTo>
                      <a:lnTo>
                        <a:pt x="188" y="92"/>
                      </a:lnTo>
                      <a:lnTo>
                        <a:pt x="194" y="105"/>
                      </a:lnTo>
                      <a:lnTo>
                        <a:pt x="197" y="118"/>
                      </a:lnTo>
                      <a:lnTo>
                        <a:pt x="197" y="134"/>
                      </a:lnTo>
                      <a:lnTo>
                        <a:pt x="200" y="146"/>
                      </a:lnTo>
                      <a:lnTo>
                        <a:pt x="200" y="159"/>
                      </a:lnTo>
                      <a:lnTo>
                        <a:pt x="200" y="172"/>
                      </a:lnTo>
                      <a:lnTo>
                        <a:pt x="200" y="185"/>
                      </a:lnTo>
                      <a:lnTo>
                        <a:pt x="197" y="197"/>
                      </a:lnTo>
                      <a:lnTo>
                        <a:pt x="194" y="210"/>
                      </a:lnTo>
                      <a:lnTo>
                        <a:pt x="191" y="223"/>
                      </a:lnTo>
                      <a:lnTo>
                        <a:pt x="188" y="236"/>
                      </a:lnTo>
                      <a:lnTo>
                        <a:pt x="181" y="245"/>
                      </a:lnTo>
                      <a:lnTo>
                        <a:pt x="175" y="255"/>
                      </a:lnTo>
                      <a:lnTo>
                        <a:pt x="169" y="264"/>
                      </a:lnTo>
                      <a:lnTo>
                        <a:pt x="162" y="274"/>
                      </a:lnTo>
                      <a:lnTo>
                        <a:pt x="153" y="280"/>
                      </a:lnTo>
                      <a:lnTo>
                        <a:pt x="146" y="287"/>
                      </a:lnTo>
                      <a:lnTo>
                        <a:pt x="137" y="290"/>
                      </a:lnTo>
                      <a:lnTo>
                        <a:pt x="127" y="293"/>
                      </a:lnTo>
                      <a:lnTo>
                        <a:pt x="118" y="296"/>
                      </a:lnTo>
                      <a:lnTo>
                        <a:pt x="108" y="296"/>
                      </a:lnTo>
                      <a:lnTo>
                        <a:pt x="98" y="296"/>
                      </a:lnTo>
                      <a:lnTo>
                        <a:pt x="89" y="293"/>
                      </a:lnTo>
                      <a:lnTo>
                        <a:pt x="79" y="290"/>
                      </a:lnTo>
                      <a:lnTo>
                        <a:pt x="70" y="283"/>
                      </a:lnTo>
                      <a:lnTo>
                        <a:pt x="60" y="280"/>
                      </a:lnTo>
                      <a:lnTo>
                        <a:pt x="51" y="271"/>
                      </a:lnTo>
                      <a:lnTo>
                        <a:pt x="44" y="264"/>
                      </a:lnTo>
                      <a:lnTo>
                        <a:pt x="35" y="255"/>
                      </a:lnTo>
                      <a:lnTo>
                        <a:pt x="28" y="245"/>
                      </a:lnTo>
                      <a:lnTo>
                        <a:pt x="22" y="232"/>
                      </a:lnTo>
                      <a:lnTo>
                        <a:pt x="16" y="220"/>
                      </a:lnTo>
                      <a:lnTo>
                        <a:pt x="9" y="207"/>
                      </a:lnTo>
                      <a:lnTo>
                        <a:pt x="6" y="194"/>
                      </a:lnTo>
                      <a:lnTo>
                        <a:pt x="3" y="178"/>
                      </a:lnTo>
                      <a:lnTo>
                        <a:pt x="0" y="162"/>
                      </a:lnTo>
                      <a:lnTo>
                        <a:pt x="0" y="146"/>
                      </a:lnTo>
                      <a:lnTo>
                        <a:pt x="0" y="134"/>
                      </a:lnTo>
                      <a:lnTo>
                        <a:pt x="0" y="118"/>
                      </a:lnTo>
                      <a:lnTo>
                        <a:pt x="3" y="105"/>
                      </a:lnTo>
                      <a:lnTo>
                        <a:pt x="3" y="92"/>
                      </a:lnTo>
                      <a:lnTo>
                        <a:pt x="6" y="79"/>
                      </a:lnTo>
                      <a:lnTo>
                        <a:pt x="12" y="67"/>
                      </a:lnTo>
                      <a:lnTo>
                        <a:pt x="16" y="57"/>
                      </a:lnTo>
                      <a:lnTo>
                        <a:pt x="22" y="44"/>
                      </a:lnTo>
                      <a:lnTo>
                        <a:pt x="28" y="35"/>
                      </a:lnTo>
                      <a:lnTo>
                        <a:pt x="38" y="25"/>
                      </a:lnTo>
                      <a:lnTo>
                        <a:pt x="44" y="19"/>
                      </a:lnTo>
                      <a:lnTo>
                        <a:pt x="54" y="12"/>
                      </a:lnTo>
                      <a:lnTo>
                        <a:pt x="63" y="6"/>
                      </a:lnTo>
                      <a:lnTo>
                        <a:pt x="73" y="3"/>
                      </a:lnTo>
                      <a:lnTo>
                        <a:pt x="86" y="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191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979240" y="3478320"/>
                  <a:ext cx="132840" cy="64080"/>
                </a:xfrm>
                <a:custGeom>
                  <a:avLst/>
                  <a:gdLst/>
                  <a:ahLst/>
                  <a:rect l="l" t="t" r="r" b="b"/>
                  <a:pathLst>
                    <a:path w="156" h="71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7"/>
                      </a:lnTo>
                      <a:lnTo>
                        <a:pt x="3" y="10"/>
                      </a:lnTo>
                      <a:lnTo>
                        <a:pt x="6" y="13"/>
                      </a:lnTo>
                      <a:lnTo>
                        <a:pt x="10" y="16"/>
                      </a:lnTo>
                      <a:lnTo>
                        <a:pt x="10" y="23"/>
                      </a:lnTo>
                      <a:lnTo>
                        <a:pt x="13" y="26"/>
                      </a:lnTo>
                      <a:lnTo>
                        <a:pt x="13" y="29"/>
                      </a:lnTo>
                      <a:lnTo>
                        <a:pt x="16" y="26"/>
                      </a:lnTo>
                      <a:lnTo>
                        <a:pt x="16" y="26"/>
                      </a:lnTo>
                      <a:lnTo>
                        <a:pt x="19" y="23"/>
                      </a:lnTo>
                      <a:lnTo>
                        <a:pt x="19" y="23"/>
                      </a:lnTo>
                      <a:lnTo>
                        <a:pt x="22" y="23"/>
                      </a:lnTo>
                      <a:lnTo>
                        <a:pt x="22" y="23"/>
                      </a:lnTo>
                      <a:lnTo>
                        <a:pt x="22" y="23"/>
                      </a:lnTo>
                      <a:lnTo>
                        <a:pt x="26" y="23"/>
                      </a:lnTo>
                      <a:lnTo>
                        <a:pt x="29" y="26"/>
                      </a:lnTo>
                      <a:lnTo>
                        <a:pt x="32" y="29"/>
                      </a:lnTo>
                      <a:lnTo>
                        <a:pt x="35" y="32"/>
                      </a:lnTo>
                      <a:lnTo>
                        <a:pt x="38" y="36"/>
                      </a:lnTo>
                      <a:lnTo>
                        <a:pt x="42" y="39"/>
                      </a:lnTo>
                      <a:lnTo>
                        <a:pt x="45" y="42"/>
                      </a:lnTo>
                      <a:lnTo>
                        <a:pt x="48" y="42"/>
                      </a:lnTo>
                      <a:lnTo>
                        <a:pt x="51" y="45"/>
                      </a:lnTo>
                      <a:lnTo>
                        <a:pt x="51" y="48"/>
                      </a:lnTo>
                      <a:lnTo>
                        <a:pt x="54" y="48"/>
                      </a:lnTo>
                      <a:lnTo>
                        <a:pt x="54" y="51"/>
                      </a:lnTo>
                      <a:lnTo>
                        <a:pt x="54" y="51"/>
                      </a:lnTo>
                      <a:lnTo>
                        <a:pt x="54" y="55"/>
                      </a:lnTo>
                      <a:lnTo>
                        <a:pt x="54" y="58"/>
                      </a:lnTo>
                      <a:lnTo>
                        <a:pt x="54" y="61"/>
                      </a:lnTo>
                      <a:lnTo>
                        <a:pt x="54" y="64"/>
                      </a:lnTo>
                      <a:lnTo>
                        <a:pt x="61" y="64"/>
                      </a:lnTo>
                      <a:lnTo>
                        <a:pt x="64" y="64"/>
                      </a:lnTo>
                      <a:lnTo>
                        <a:pt x="70" y="67"/>
                      </a:lnTo>
                      <a:lnTo>
                        <a:pt x="73" y="67"/>
                      </a:lnTo>
                      <a:lnTo>
                        <a:pt x="77" y="67"/>
                      </a:lnTo>
                      <a:lnTo>
                        <a:pt x="83" y="67"/>
                      </a:lnTo>
                      <a:lnTo>
                        <a:pt x="86" y="67"/>
                      </a:lnTo>
                      <a:lnTo>
                        <a:pt x="89" y="71"/>
                      </a:lnTo>
                      <a:lnTo>
                        <a:pt x="93" y="64"/>
                      </a:lnTo>
                      <a:lnTo>
                        <a:pt x="93" y="61"/>
                      </a:lnTo>
                      <a:lnTo>
                        <a:pt x="93" y="58"/>
                      </a:lnTo>
                      <a:lnTo>
                        <a:pt x="93" y="55"/>
                      </a:lnTo>
                      <a:lnTo>
                        <a:pt x="93" y="55"/>
                      </a:lnTo>
                      <a:lnTo>
                        <a:pt x="93" y="55"/>
                      </a:lnTo>
                      <a:lnTo>
                        <a:pt x="93" y="51"/>
                      </a:lnTo>
                      <a:lnTo>
                        <a:pt x="96" y="51"/>
                      </a:lnTo>
                      <a:lnTo>
                        <a:pt x="99" y="48"/>
                      </a:lnTo>
                      <a:lnTo>
                        <a:pt x="102" y="45"/>
                      </a:lnTo>
                      <a:lnTo>
                        <a:pt x="105" y="45"/>
                      </a:lnTo>
                      <a:lnTo>
                        <a:pt x="108" y="42"/>
                      </a:lnTo>
                      <a:lnTo>
                        <a:pt x="112" y="39"/>
                      </a:lnTo>
                      <a:lnTo>
                        <a:pt x="115" y="39"/>
                      </a:lnTo>
                      <a:lnTo>
                        <a:pt x="118" y="36"/>
                      </a:lnTo>
                      <a:lnTo>
                        <a:pt x="121" y="32"/>
                      </a:lnTo>
                      <a:lnTo>
                        <a:pt x="124" y="32"/>
                      </a:lnTo>
                      <a:lnTo>
                        <a:pt x="124" y="32"/>
                      </a:lnTo>
                      <a:lnTo>
                        <a:pt x="128" y="32"/>
                      </a:lnTo>
                      <a:lnTo>
                        <a:pt x="128" y="32"/>
                      </a:lnTo>
                      <a:lnTo>
                        <a:pt x="128" y="36"/>
                      </a:lnTo>
                      <a:lnTo>
                        <a:pt x="131" y="36"/>
                      </a:lnTo>
                      <a:lnTo>
                        <a:pt x="134" y="39"/>
                      </a:lnTo>
                      <a:lnTo>
                        <a:pt x="134" y="39"/>
                      </a:lnTo>
                      <a:lnTo>
                        <a:pt x="137" y="36"/>
                      </a:lnTo>
                      <a:lnTo>
                        <a:pt x="140" y="32"/>
                      </a:lnTo>
                      <a:lnTo>
                        <a:pt x="144" y="26"/>
                      </a:lnTo>
                      <a:lnTo>
                        <a:pt x="144" y="23"/>
                      </a:lnTo>
                      <a:lnTo>
                        <a:pt x="147" y="16"/>
                      </a:lnTo>
                      <a:lnTo>
                        <a:pt x="150" y="13"/>
                      </a:lnTo>
                      <a:lnTo>
                        <a:pt x="153" y="7"/>
                      </a:lnTo>
                      <a:lnTo>
                        <a:pt x="156" y="4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3" y="0"/>
                      </a:lnTo>
                      <a:lnTo>
                        <a:pt x="15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a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976720" y="3475440"/>
                  <a:ext cx="132840" cy="2520"/>
                </a:xfrm>
                <a:custGeom>
                  <a:avLst/>
                  <a:gdLst/>
                  <a:ahLst/>
                  <a:rect l="l" t="t" r="r" b="b"/>
                  <a:pathLst>
                    <a:path w="156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7d8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976720" y="3472920"/>
                  <a:ext cx="132840" cy="2520"/>
                </a:xfrm>
                <a:custGeom>
                  <a:avLst/>
                  <a:gdLst/>
                  <a:ahLst/>
                  <a:rect l="l" t="t" r="r" b="b"/>
                  <a:pathLst>
                    <a:path w="15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3" y="0"/>
                      </a:lnTo>
                      <a:lnTo>
                        <a:pt x="153" y="0"/>
                      </a:lnTo>
                      <a:lnTo>
                        <a:pt x="153" y="0"/>
                      </a:lnTo>
                      <a:lnTo>
                        <a:pt x="153" y="3"/>
                      </a:lnTo>
                      <a:lnTo>
                        <a:pt x="15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7f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973840" y="3470040"/>
                  <a:ext cx="132840" cy="2520"/>
                </a:xfrm>
                <a:custGeom>
                  <a:avLst/>
                  <a:gdLst/>
                  <a:ahLst/>
                  <a:rect l="l" t="t" r="r" b="b"/>
                  <a:pathLst>
                    <a:path w="156" h="3">
                      <a:moveTo>
                        <a:pt x="3" y="3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82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973840" y="3467160"/>
                  <a:ext cx="132840" cy="2520"/>
                </a:xfrm>
                <a:custGeom>
                  <a:avLst/>
                  <a:gdLst/>
                  <a:ahLst/>
                  <a:rect l="l" t="t" r="r" b="b"/>
                  <a:pathLst>
                    <a:path w="15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5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973840" y="3464640"/>
                  <a:ext cx="132840" cy="2520"/>
                </a:xfrm>
                <a:custGeom>
                  <a:avLst/>
                  <a:gdLst/>
                  <a:ahLst/>
                  <a:rect l="l" t="t" r="r" b="b"/>
                  <a:pathLst>
                    <a:path w="15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976720" y="3458160"/>
                  <a:ext cx="129960" cy="6120"/>
                </a:xfrm>
                <a:custGeom>
                  <a:avLst/>
                  <a:gdLst/>
                  <a:ahLst/>
                  <a:rect l="l" t="t" r="r" b="b"/>
                  <a:pathLst>
                    <a:path w="153" h="7">
                      <a:moveTo>
                        <a:pt x="0" y="7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153" y="0"/>
                      </a:lnTo>
                      <a:lnTo>
                        <a:pt x="153" y="3"/>
                      </a:lnTo>
                      <a:lnTo>
                        <a:pt x="153" y="3"/>
                      </a:lnTo>
                      <a:lnTo>
                        <a:pt x="153" y="3"/>
                      </a:lnTo>
                      <a:lnTo>
                        <a:pt x="15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8c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979240" y="3455640"/>
                  <a:ext cx="127440" cy="2520"/>
                </a:xfrm>
                <a:custGeom>
                  <a:avLst/>
                  <a:gdLst/>
                  <a:ahLst/>
                  <a:rect l="l" t="t" r="r" b="b"/>
                  <a:pathLst>
                    <a:path w="150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50" y="0"/>
                      </a:lnTo>
                      <a:lnTo>
                        <a:pt x="150" y="3"/>
                      </a:lnTo>
                      <a:lnTo>
                        <a:pt x="150" y="3"/>
                      </a:lnTo>
                      <a:lnTo>
                        <a:pt x="150" y="3"/>
                      </a:lnTo>
                      <a:lnTo>
                        <a:pt x="15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c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979240" y="3453120"/>
                  <a:ext cx="127440" cy="2520"/>
                </a:xfrm>
                <a:custGeom>
                  <a:avLst/>
                  <a:gdLst/>
                  <a:ahLst/>
                  <a:rect l="l" t="t" r="r" b="b"/>
                  <a:pathLst>
                    <a:path w="150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50" y="0"/>
                      </a:lnTo>
                      <a:lnTo>
                        <a:pt x="150" y="3"/>
                      </a:lnTo>
                      <a:lnTo>
                        <a:pt x="150" y="3"/>
                      </a:lnTo>
                      <a:lnTo>
                        <a:pt x="150" y="3"/>
                      </a:lnTo>
                      <a:lnTo>
                        <a:pt x="15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979240" y="3450240"/>
                  <a:ext cx="127440" cy="2520"/>
                </a:xfrm>
                <a:custGeom>
                  <a:avLst/>
                  <a:gdLst/>
                  <a:ahLst/>
                  <a:rect l="l" t="t" r="r" b="b"/>
                  <a:pathLst>
                    <a:path w="150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50" y="0"/>
                      </a:lnTo>
                      <a:lnTo>
                        <a:pt x="150" y="3"/>
                      </a:lnTo>
                      <a:lnTo>
                        <a:pt x="150" y="3"/>
                      </a:lnTo>
                      <a:lnTo>
                        <a:pt x="150" y="3"/>
                      </a:lnTo>
                      <a:lnTo>
                        <a:pt x="15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979240" y="3446640"/>
                  <a:ext cx="127440" cy="3240"/>
                </a:xfrm>
                <a:custGeom>
                  <a:avLst/>
                  <a:gdLst/>
                  <a:ahLst/>
                  <a:rect l="l" t="t" r="r" b="b"/>
                  <a:pathLst>
                    <a:path w="15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0" y="0"/>
                      </a:lnTo>
                      <a:lnTo>
                        <a:pt x="150" y="0"/>
                      </a:lnTo>
                      <a:lnTo>
                        <a:pt x="150" y="4"/>
                      </a:lnTo>
                      <a:lnTo>
                        <a:pt x="150" y="4"/>
                      </a:lnTo>
                      <a:lnTo>
                        <a:pt x="15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99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979240" y="3443760"/>
                  <a:ext cx="130320" cy="2520"/>
                </a:xfrm>
                <a:custGeom>
                  <a:avLst/>
                  <a:gdLst/>
                  <a:ahLst/>
                  <a:rect l="l" t="t" r="r" b="b"/>
                  <a:pathLst>
                    <a:path w="153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3" y="0"/>
                      </a:lnTo>
                      <a:lnTo>
                        <a:pt x="153" y="0"/>
                      </a:lnTo>
                      <a:lnTo>
                        <a:pt x="153" y="3"/>
                      </a:lnTo>
                      <a:lnTo>
                        <a:pt x="150" y="3"/>
                      </a:lnTo>
                      <a:lnTo>
                        <a:pt x="15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9b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976720" y="3441240"/>
                  <a:ext cx="132840" cy="2520"/>
                </a:xfrm>
                <a:custGeom>
                  <a:avLst/>
                  <a:gdLst/>
                  <a:ahLst/>
                  <a:rect l="l" t="t" r="r" b="b"/>
                  <a:pathLst>
                    <a:path w="156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976720" y="3438360"/>
                  <a:ext cx="132840" cy="2520"/>
                </a:xfrm>
                <a:custGeom>
                  <a:avLst/>
                  <a:gdLst/>
                  <a:ahLst/>
                  <a:rect l="l" t="t" r="r" b="b"/>
                  <a:pathLst>
                    <a:path w="15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976720" y="3435840"/>
                  <a:ext cx="132840" cy="2520"/>
                </a:xfrm>
                <a:custGeom>
                  <a:avLst/>
                  <a:gdLst/>
                  <a:ahLst/>
                  <a:rect l="l" t="t" r="r" b="b"/>
                  <a:pathLst>
                    <a:path w="15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3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976720" y="3432240"/>
                  <a:ext cx="132840" cy="3600"/>
                </a:xfrm>
                <a:custGeom>
                  <a:avLst/>
                  <a:gdLst/>
                  <a:ahLst/>
                  <a:rect l="l" t="t" r="r" b="b"/>
                  <a:pathLst>
                    <a:path w="156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4"/>
                      </a:lnTo>
                      <a:lnTo>
                        <a:pt x="156" y="4"/>
                      </a:lnTo>
                      <a:lnTo>
                        <a:pt x="156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a6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976720" y="3429360"/>
                  <a:ext cx="132840" cy="2520"/>
                </a:xfrm>
                <a:custGeom>
                  <a:avLst/>
                  <a:gdLst/>
                  <a:ahLst/>
                  <a:rect l="l" t="t" r="r" b="b"/>
                  <a:pathLst>
                    <a:path w="15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8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976720" y="3426840"/>
                  <a:ext cx="132840" cy="2520"/>
                </a:xfrm>
                <a:custGeom>
                  <a:avLst/>
                  <a:gdLst/>
                  <a:ahLst/>
                  <a:rect l="l" t="t" r="r" b="b"/>
                  <a:pathLst>
                    <a:path w="15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d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973840" y="3423960"/>
                  <a:ext cx="137880" cy="2520"/>
                </a:xfrm>
                <a:custGeom>
                  <a:avLst/>
                  <a:gdLst/>
                  <a:ahLst/>
                  <a:rect l="l" t="t" r="r" b="b"/>
                  <a:pathLst>
                    <a:path w="162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62" y="0"/>
                      </a:lnTo>
                      <a:lnTo>
                        <a:pt x="162" y="0"/>
                      </a:lnTo>
                      <a:lnTo>
                        <a:pt x="162" y="0"/>
                      </a:lnTo>
                      <a:lnTo>
                        <a:pt x="162" y="3"/>
                      </a:lnTo>
                      <a:lnTo>
                        <a:pt x="159" y="3"/>
                      </a:lnTo>
                      <a:lnTo>
                        <a:pt x="159" y="3"/>
                      </a:lnTo>
                      <a:lnTo>
                        <a:pt x="159" y="3"/>
                      </a:lnTo>
                      <a:lnTo>
                        <a:pt x="159" y="3"/>
                      </a:lnTo>
                      <a:lnTo>
                        <a:pt x="159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b0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973840" y="3421080"/>
                  <a:ext cx="140400" cy="2520"/>
                </a:xfrm>
                <a:custGeom>
                  <a:avLst/>
                  <a:gdLst/>
                  <a:ahLst/>
                  <a:rect l="l" t="t" r="r" b="b"/>
                  <a:pathLst>
                    <a:path w="165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2" y="0"/>
                      </a:lnTo>
                      <a:lnTo>
                        <a:pt x="162" y="0"/>
                      </a:lnTo>
                      <a:lnTo>
                        <a:pt x="162" y="3"/>
                      </a:lnTo>
                      <a:lnTo>
                        <a:pt x="162" y="3"/>
                      </a:lnTo>
                      <a:lnTo>
                        <a:pt x="16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2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973840" y="3418560"/>
                  <a:ext cx="146520" cy="2520"/>
                </a:xfrm>
                <a:custGeom>
                  <a:avLst/>
                  <a:gdLst/>
                  <a:ahLst/>
                  <a:rect l="l" t="t" r="r" b="b"/>
                  <a:pathLst>
                    <a:path w="172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69" y="0"/>
                      </a:lnTo>
                      <a:lnTo>
                        <a:pt x="169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69" y="0"/>
                      </a:lnTo>
                      <a:lnTo>
                        <a:pt x="169" y="0"/>
                      </a:lnTo>
                      <a:lnTo>
                        <a:pt x="169" y="3"/>
                      </a:lnTo>
                      <a:lnTo>
                        <a:pt x="165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5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973840" y="3414960"/>
                  <a:ext cx="144000" cy="3600"/>
                </a:xfrm>
                <a:custGeom>
                  <a:avLst/>
                  <a:gdLst/>
                  <a:ahLst/>
                  <a:rect l="l" t="t" r="r" b="b"/>
                  <a:pathLst>
                    <a:path w="169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69" y="0"/>
                      </a:lnTo>
                      <a:lnTo>
                        <a:pt x="169" y="0"/>
                      </a:lnTo>
                      <a:lnTo>
                        <a:pt x="169" y="0"/>
                      </a:lnTo>
                      <a:lnTo>
                        <a:pt x="169" y="4"/>
                      </a:lnTo>
                      <a:lnTo>
                        <a:pt x="169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b7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5971320" y="3412080"/>
                  <a:ext cx="146520" cy="2520"/>
                </a:xfrm>
                <a:custGeom>
                  <a:avLst/>
                  <a:gdLst/>
                  <a:ahLst/>
                  <a:rect l="l" t="t" r="r" b="b"/>
                  <a:pathLst>
                    <a:path w="172" h="3">
                      <a:moveTo>
                        <a:pt x="3" y="3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72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968080" y="3409560"/>
                  <a:ext cx="149760" cy="2520"/>
                </a:xfrm>
                <a:custGeom>
                  <a:avLst/>
                  <a:gdLst/>
                  <a:ahLst/>
                  <a:rect l="l" t="t" r="r" b="b"/>
                  <a:pathLst>
                    <a:path w="176" h="3">
                      <a:moveTo>
                        <a:pt x="4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176" y="0"/>
                      </a:lnTo>
                      <a:lnTo>
                        <a:pt x="176" y="0"/>
                      </a:lnTo>
                      <a:lnTo>
                        <a:pt x="176" y="0"/>
                      </a:lnTo>
                      <a:lnTo>
                        <a:pt x="176" y="0"/>
                      </a:lnTo>
                      <a:lnTo>
                        <a:pt x="176" y="3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bd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965200" y="3404160"/>
                  <a:ext cx="152640" cy="5400"/>
                </a:xfrm>
                <a:custGeom>
                  <a:avLst/>
                  <a:gdLst/>
                  <a:ahLst/>
                  <a:rect l="l" t="t" r="r" b="b"/>
                  <a:pathLst>
                    <a:path w="179" h="6">
                      <a:moveTo>
                        <a:pt x="3" y="6"/>
                      </a:move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79" y="0"/>
                      </a:lnTo>
                      <a:lnTo>
                        <a:pt x="179" y="3"/>
                      </a:lnTo>
                      <a:lnTo>
                        <a:pt x="179" y="3"/>
                      </a:lnTo>
                      <a:lnTo>
                        <a:pt x="179" y="3"/>
                      </a:lnTo>
                      <a:lnTo>
                        <a:pt x="179" y="6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b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965200" y="3400560"/>
                  <a:ext cx="152640" cy="3240"/>
                </a:xfrm>
                <a:custGeom>
                  <a:avLst/>
                  <a:gdLst/>
                  <a:ahLst/>
                  <a:rect l="l" t="t" r="r" b="b"/>
                  <a:pathLst>
                    <a:path w="179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79" y="0"/>
                      </a:lnTo>
                      <a:lnTo>
                        <a:pt x="179" y="4"/>
                      </a:lnTo>
                      <a:lnTo>
                        <a:pt x="179" y="4"/>
                      </a:lnTo>
                      <a:lnTo>
                        <a:pt x="179" y="4"/>
                      </a:lnTo>
                      <a:lnTo>
                        <a:pt x="179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965200" y="3397680"/>
                  <a:ext cx="152640" cy="2520"/>
                </a:xfrm>
                <a:custGeom>
                  <a:avLst/>
                  <a:gdLst/>
                  <a:ahLst/>
                  <a:rect l="l" t="t" r="r" b="b"/>
                  <a:pathLst>
                    <a:path w="179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79" y="0"/>
                      </a:lnTo>
                      <a:lnTo>
                        <a:pt x="179" y="3"/>
                      </a:lnTo>
                      <a:lnTo>
                        <a:pt x="179" y="3"/>
                      </a:lnTo>
                      <a:lnTo>
                        <a:pt x="179" y="3"/>
                      </a:lnTo>
                      <a:lnTo>
                        <a:pt x="179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65200" y="3395160"/>
                  <a:ext cx="152640" cy="2520"/>
                </a:xfrm>
                <a:custGeom>
                  <a:avLst/>
                  <a:gdLst/>
                  <a:ahLst/>
                  <a:rect l="l" t="t" r="r" b="b"/>
                  <a:pathLst>
                    <a:path w="179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75" y="0"/>
                      </a:lnTo>
                      <a:lnTo>
                        <a:pt x="179" y="3"/>
                      </a:lnTo>
                      <a:lnTo>
                        <a:pt x="179" y="3"/>
                      </a:lnTo>
                      <a:lnTo>
                        <a:pt x="179" y="3"/>
                      </a:lnTo>
                      <a:lnTo>
                        <a:pt x="179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9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965200" y="3392280"/>
                  <a:ext cx="149040" cy="2520"/>
                </a:xfrm>
                <a:custGeom>
                  <a:avLst/>
                  <a:gdLst/>
                  <a:ahLst/>
                  <a:rect l="l" t="t" r="r" b="b"/>
                  <a:pathLst>
                    <a:path w="175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175" y="0"/>
                      </a:lnTo>
                      <a:lnTo>
                        <a:pt x="175" y="3"/>
                      </a:lnTo>
                      <a:lnTo>
                        <a:pt x="175" y="3"/>
                      </a:lnTo>
                      <a:lnTo>
                        <a:pt x="175" y="3"/>
                      </a:lnTo>
                      <a:lnTo>
                        <a:pt x="175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968080" y="3389760"/>
                  <a:ext cx="146160" cy="2520"/>
                </a:xfrm>
                <a:custGeom>
                  <a:avLst/>
                  <a:gdLst/>
                  <a:ahLst/>
                  <a:rect l="l" t="t" r="r" b="b"/>
                  <a:pathLst>
                    <a:path w="172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72" y="3"/>
                      </a:lnTo>
                      <a:lnTo>
                        <a:pt x="172" y="3"/>
                      </a:lnTo>
                      <a:lnTo>
                        <a:pt x="17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f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968080" y="3385800"/>
                  <a:ext cx="146160" cy="3600"/>
                </a:xfrm>
                <a:custGeom>
                  <a:avLst/>
                  <a:gdLst/>
                  <a:ahLst/>
                  <a:rect l="l" t="t" r="r" b="b"/>
                  <a:pathLst>
                    <a:path w="172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72" y="4"/>
                      </a:lnTo>
                      <a:lnTo>
                        <a:pt x="172" y="4"/>
                      </a:lnTo>
                      <a:lnTo>
                        <a:pt x="172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d1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968080" y="3383280"/>
                  <a:ext cx="146160" cy="2520"/>
                </a:xfrm>
                <a:custGeom>
                  <a:avLst/>
                  <a:gdLst/>
                  <a:ahLst/>
                  <a:rect l="l" t="t" r="r" b="b"/>
                  <a:pathLst>
                    <a:path w="172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72" y="3"/>
                      </a:lnTo>
                      <a:lnTo>
                        <a:pt x="172" y="3"/>
                      </a:lnTo>
                      <a:lnTo>
                        <a:pt x="17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d6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968080" y="3380760"/>
                  <a:ext cx="146160" cy="2520"/>
                </a:xfrm>
                <a:custGeom>
                  <a:avLst/>
                  <a:gdLst/>
                  <a:ahLst/>
                  <a:rect l="l" t="t" r="r" b="b"/>
                  <a:pathLst>
                    <a:path w="172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72" y="3"/>
                      </a:lnTo>
                      <a:lnTo>
                        <a:pt x="172" y="3"/>
                      </a:lnTo>
                      <a:lnTo>
                        <a:pt x="17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d6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968080" y="3377880"/>
                  <a:ext cx="146160" cy="2520"/>
                </a:xfrm>
                <a:custGeom>
                  <a:avLst/>
                  <a:gdLst/>
                  <a:ahLst/>
                  <a:rect l="l" t="t" r="r" b="b"/>
                  <a:pathLst>
                    <a:path w="172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72" y="0"/>
                      </a:lnTo>
                      <a:lnTo>
                        <a:pt x="172" y="0"/>
                      </a:lnTo>
                      <a:lnTo>
                        <a:pt x="172" y="3"/>
                      </a:lnTo>
                      <a:lnTo>
                        <a:pt x="172" y="3"/>
                      </a:lnTo>
                      <a:lnTo>
                        <a:pt x="17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db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971320" y="3375000"/>
                  <a:ext cx="142920" cy="2520"/>
                </a:xfrm>
                <a:custGeom>
                  <a:avLst/>
                  <a:gdLst/>
                  <a:ahLst/>
                  <a:rect l="l" t="t" r="r" b="b"/>
                  <a:pathLst>
                    <a:path w="168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3"/>
                      </a:lnTo>
                      <a:lnTo>
                        <a:pt x="168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de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971320" y="3371760"/>
                  <a:ext cx="140400" cy="3240"/>
                </a:xfrm>
                <a:custGeom>
                  <a:avLst/>
                  <a:gdLst/>
                  <a:ahLst/>
                  <a:rect l="l" t="t" r="r" b="b"/>
                  <a:pathLst>
                    <a:path w="165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9" y="0"/>
                      </a:lnTo>
                      <a:lnTo>
                        <a:pt x="159" y="4"/>
                      </a:lnTo>
                      <a:lnTo>
                        <a:pt x="159" y="4"/>
                      </a:lnTo>
                      <a:lnTo>
                        <a:pt x="162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0"/>
                      </a:lnTo>
                      <a:lnTo>
                        <a:pt x="165" y="4"/>
                      </a:lnTo>
                      <a:lnTo>
                        <a:pt x="165" y="4"/>
                      </a:lnTo>
                      <a:lnTo>
                        <a:pt x="165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e3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971320" y="3368880"/>
                  <a:ext cx="132840" cy="2520"/>
                </a:xfrm>
                <a:custGeom>
                  <a:avLst/>
                  <a:gdLst/>
                  <a:ahLst/>
                  <a:rect l="l" t="t" r="r" b="b"/>
                  <a:pathLst>
                    <a:path w="15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53" y="0"/>
                      </a:lnTo>
                      <a:lnTo>
                        <a:pt x="153" y="0"/>
                      </a:lnTo>
                      <a:lnTo>
                        <a:pt x="153" y="0"/>
                      </a:lnTo>
                      <a:lnTo>
                        <a:pt x="153" y="0"/>
                      </a:lnTo>
                      <a:lnTo>
                        <a:pt x="153" y="3"/>
                      </a:lnTo>
                      <a:lnTo>
                        <a:pt x="153" y="3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156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5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71320" y="3366000"/>
                  <a:ext cx="130320" cy="2520"/>
                </a:xfrm>
                <a:custGeom>
                  <a:avLst/>
                  <a:gdLst/>
                  <a:ahLst/>
                  <a:rect l="l" t="t" r="r" b="b"/>
                  <a:pathLst>
                    <a:path w="153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49" y="0"/>
                      </a:lnTo>
                      <a:lnTo>
                        <a:pt x="153" y="0"/>
                      </a:lnTo>
                      <a:lnTo>
                        <a:pt x="153" y="0"/>
                      </a:lnTo>
                      <a:lnTo>
                        <a:pt x="153" y="3"/>
                      </a:lnTo>
                      <a:lnTo>
                        <a:pt x="153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8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971320" y="3363480"/>
                  <a:ext cx="126720" cy="2520"/>
                </a:xfrm>
                <a:custGeom>
                  <a:avLst/>
                  <a:gdLst/>
                  <a:ahLst/>
                  <a:rect l="l" t="t" r="r" b="b"/>
                  <a:pathLst>
                    <a:path w="149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49" y="0"/>
                      </a:lnTo>
                      <a:lnTo>
                        <a:pt x="149" y="0"/>
                      </a:lnTo>
                      <a:lnTo>
                        <a:pt x="149" y="0"/>
                      </a:lnTo>
                      <a:lnTo>
                        <a:pt x="149" y="0"/>
                      </a:lnTo>
                      <a:lnTo>
                        <a:pt x="149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a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981760" y="3300120"/>
                  <a:ext cx="116640" cy="63000"/>
                </a:xfrm>
                <a:custGeom>
                  <a:avLst/>
                  <a:gdLst/>
                  <a:ahLst/>
                  <a:rect l="l" t="t" r="r" b="b"/>
                  <a:pathLst>
                    <a:path w="137" h="70">
                      <a:moveTo>
                        <a:pt x="0" y="70"/>
                      </a:move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0" y="64"/>
                      </a:lnTo>
                      <a:lnTo>
                        <a:pt x="3" y="60"/>
                      </a:lnTo>
                      <a:lnTo>
                        <a:pt x="7" y="57"/>
                      </a:lnTo>
                      <a:lnTo>
                        <a:pt x="10" y="54"/>
                      </a:lnTo>
                      <a:lnTo>
                        <a:pt x="10" y="48"/>
                      </a:lnTo>
                      <a:lnTo>
                        <a:pt x="13" y="44"/>
                      </a:lnTo>
                      <a:lnTo>
                        <a:pt x="16" y="41"/>
                      </a:lnTo>
                      <a:lnTo>
                        <a:pt x="19" y="38"/>
                      </a:lnTo>
                      <a:lnTo>
                        <a:pt x="19" y="35"/>
                      </a:lnTo>
                      <a:lnTo>
                        <a:pt x="19" y="35"/>
                      </a:lnTo>
                      <a:lnTo>
                        <a:pt x="19" y="32"/>
                      </a:lnTo>
                      <a:lnTo>
                        <a:pt x="19" y="32"/>
                      </a:lnTo>
                      <a:lnTo>
                        <a:pt x="19" y="28"/>
                      </a:lnTo>
                      <a:lnTo>
                        <a:pt x="16" y="25"/>
                      </a:lnTo>
                      <a:lnTo>
                        <a:pt x="16" y="22"/>
                      </a:lnTo>
                      <a:lnTo>
                        <a:pt x="16" y="19"/>
                      </a:lnTo>
                      <a:lnTo>
                        <a:pt x="19" y="16"/>
                      </a:lnTo>
                      <a:lnTo>
                        <a:pt x="26" y="16"/>
                      </a:lnTo>
                      <a:lnTo>
                        <a:pt x="29" y="13"/>
                      </a:lnTo>
                      <a:lnTo>
                        <a:pt x="32" y="9"/>
                      </a:lnTo>
                      <a:lnTo>
                        <a:pt x="39" y="6"/>
                      </a:lnTo>
                      <a:lnTo>
                        <a:pt x="42" y="6"/>
                      </a:lnTo>
                      <a:lnTo>
                        <a:pt x="45" y="3"/>
                      </a:lnTo>
                      <a:lnTo>
                        <a:pt x="48" y="0"/>
                      </a:lnTo>
                      <a:lnTo>
                        <a:pt x="51" y="3"/>
                      </a:lnTo>
                      <a:lnTo>
                        <a:pt x="51" y="3"/>
                      </a:lnTo>
                      <a:lnTo>
                        <a:pt x="51" y="6"/>
                      </a:lnTo>
                      <a:lnTo>
                        <a:pt x="51" y="9"/>
                      </a:lnTo>
                      <a:lnTo>
                        <a:pt x="54" y="9"/>
                      </a:lnTo>
                      <a:lnTo>
                        <a:pt x="54" y="9"/>
                      </a:lnTo>
                      <a:lnTo>
                        <a:pt x="58" y="9"/>
                      </a:lnTo>
                      <a:lnTo>
                        <a:pt x="58" y="13"/>
                      </a:lnTo>
                      <a:lnTo>
                        <a:pt x="61" y="13"/>
                      </a:lnTo>
                      <a:lnTo>
                        <a:pt x="64" y="13"/>
                      </a:lnTo>
                      <a:lnTo>
                        <a:pt x="67" y="13"/>
                      </a:lnTo>
                      <a:lnTo>
                        <a:pt x="70" y="13"/>
                      </a:lnTo>
                      <a:lnTo>
                        <a:pt x="77" y="13"/>
                      </a:lnTo>
                      <a:lnTo>
                        <a:pt x="80" y="13"/>
                      </a:lnTo>
                      <a:lnTo>
                        <a:pt x="83" y="13"/>
                      </a:lnTo>
                      <a:lnTo>
                        <a:pt x="86" y="16"/>
                      </a:lnTo>
                      <a:lnTo>
                        <a:pt x="86" y="13"/>
                      </a:lnTo>
                      <a:lnTo>
                        <a:pt x="90" y="13"/>
                      </a:lnTo>
                      <a:lnTo>
                        <a:pt x="90" y="13"/>
                      </a:lnTo>
                      <a:lnTo>
                        <a:pt x="90" y="9"/>
                      </a:lnTo>
                      <a:lnTo>
                        <a:pt x="93" y="9"/>
                      </a:lnTo>
                      <a:lnTo>
                        <a:pt x="93" y="6"/>
                      </a:lnTo>
                      <a:lnTo>
                        <a:pt x="93" y="6"/>
                      </a:lnTo>
                      <a:lnTo>
                        <a:pt x="93" y="3"/>
                      </a:lnTo>
                      <a:lnTo>
                        <a:pt x="99" y="6"/>
                      </a:lnTo>
                      <a:lnTo>
                        <a:pt x="102" y="9"/>
                      </a:lnTo>
                      <a:lnTo>
                        <a:pt x="105" y="9"/>
                      </a:lnTo>
                      <a:lnTo>
                        <a:pt x="109" y="13"/>
                      </a:lnTo>
                      <a:lnTo>
                        <a:pt x="112" y="16"/>
                      </a:lnTo>
                      <a:lnTo>
                        <a:pt x="115" y="19"/>
                      </a:lnTo>
                      <a:lnTo>
                        <a:pt x="121" y="22"/>
                      </a:lnTo>
                      <a:lnTo>
                        <a:pt x="125" y="25"/>
                      </a:lnTo>
                      <a:lnTo>
                        <a:pt x="125" y="28"/>
                      </a:lnTo>
                      <a:lnTo>
                        <a:pt x="121" y="32"/>
                      </a:lnTo>
                      <a:lnTo>
                        <a:pt x="121" y="35"/>
                      </a:lnTo>
                      <a:lnTo>
                        <a:pt x="121" y="35"/>
                      </a:lnTo>
                      <a:lnTo>
                        <a:pt x="121" y="38"/>
                      </a:lnTo>
                      <a:lnTo>
                        <a:pt x="121" y="38"/>
                      </a:lnTo>
                      <a:lnTo>
                        <a:pt x="125" y="41"/>
                      </a:lnTo>
                      <a:lnTo>
                        <a:pt x="125" y="44"/>
                      </a:lnTo>
                      <a:lnTo>
                        <a:pt x="125" y="44"/>
                      </a:lnTo>
                      <a:lnTo>
                        <a:pt x="128" y="51"/>
                      </a:lnTo>
                      <a:lnTo>
                        <a:pt x="128" y="54"/>
                      </a:lnTo>
                      <a:lnTo>
                        <a:pt x="131" y="57"/>
                      </a:lnTo>
                      <a:lnTo>
                        <a:pt x="131" y="60"/>
                      </a:lnTo>
                      <a:lnTo>
                        <a:pt x="134" y="64"/>
                      </a:lnTo>
                      <a:lnTo>
                        <a:pt x="134" y="67"/>
                      </a:lnTo>
                      <a:lnTo>
                        <a:pt x="137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979240" y="3317400"/>
                  <a:ext cx="127440" cy="198720"/>
                </a:xfrm>
                <a:custGeom>
                  <a:avLst/>
                  <a:gdLst/>
                  <a:ahLst/>
                  <a:rect l="l" t="t" r="r" b="b"/>
                  <a:pathLst>
                    <a:path w="150" h="220">
                      <a:moveTo>
                        <a:pt x="70" y="0"/>
                      </a:moveTo>
                      <a:lnTo>
                        <a:pt x="80" y="3"/>
                      </a:lnTo>
                      <a:lnTo>
                        <a:pt x="89" y="3"/>
                      </a:lnTo>
                      <a:lnTo>
                        <a:pt x="96" y="6"/>
                      </a:lnTo>
                      <a:lnTo>
                        <a:pt x="102" y="13"/>
                      </a:lnTo>
                      <a:lnTo>
                        <a:pt x="112" y="19"/>
                      </a:lnTo>
                      <a:lnTo>
                        <a:pt x="118" y="25"/>
                      </a:lnTo>
                      <a:lnTo>
                        <a:pt x="121" y="32"/>
                      </a:lnTo>
                      <a:lnTo>
                        <a:pt x="128" y="41"/>
                      </a:lnTo>
                      <a:lnTo>
                        <a:pt x="134" y="48"/>
                      </a:lnTo>
                      <a:lnTo>
                        <a:pt x="137" y="57"/>
                      </a:lnTo>
                      <a:lnTo>
                        <a:pt x="140" y="67"/>
                      </a:lnTo>
                      <a:lnTo>
                        <a:pt x="144" y="80"/>
                      </a:lnTo>
                      <a:lnTo>
                        <a:pt x="147" y="89"/>
                      </a:lnTo>
                      <a:lnTo>
                        <a:pt x="147" y="99"/>
                      </a:lnTo>
                      <a:lnTo>
                        <a:pt x="150" y="108"/>
                      </a:lnTo>
                      <a:lnTo>
                        <a:pt x="150" y="118"/>
                      </a:lnTo>
                      <a:lnTo>
                        <a:pt x="150" y="127"/>
                      </a:lnTo>
                      <a:lnTo>
                        <a:pt x="147" y="137"/>
                      </a:lnTo>
                      <a:lnTo>
                        <a:pt x="147" y="147"/>
                      </a:lnTo>
                      <a:lnTo>
                        <a:pt x="144" y="156"/>
                      </a:lnTo>
                      <a:lnTo>
                        <a:pt x="140" y="166"/>
                      </a:lnTo>
                      <a:lnTo>
                        <a:pt x="137" y="175"/>
                      </a:lnTo>
                      <a:lnTo>
                        <a:pt x="134" y="182"/>
                      </a:lnTo>
                      <a:lnTo>
                        <a:pt x="131" y="191"/>
                      </a:lnTo>
                      <a:lnTo>
                        <a:pt x="124" y="198"/>
                      </a:lnTo>
                      <a:lnTo>
                        <a:pt x="121" y="204"/>
                      </a:lnTo>
                      <a:lnTo>
                        <a:pt x="115" y="207"/>
                      </a:lnTo>
                      <a:lnTo>
                        <a:pt x="108" y="214"/>
                      </a:lnTo>
                      <a:lnTo>
                        <a:pt x="102" y="217"/>
                      </a:lnTo>
                      <a:lnTo>
                        <a:pt x="96" y="220"/>
                      </a:lnTo>
                      <a:lnTo>
                        <a:pt x="86" y="220"/>
                      </a:lnTo>
                      <a:lnTo>
                        <a:pt x="80" y="220"/>
                      </a:lnTo>
                      <a:lnTo>
                        <a:pt x="73" y="220"/>
                      </a:lnTo>
                      <a:lnTo>
                        <a:pt x="67" y="217"/>
                      </a:lnTo>
                      <a:lnTo>
                        <a:pt x="57" y="214"/>
                      </a:lnTo>
                      <a:lnTo>
                        <a:pt x="51" y="210"/>
                      </a:lnTo>
                      <a:lnTo>
                        <a:pt x="45" y="207"/>
                      </a:lnTo>
                      <a:lnTo>
                        <a:pt x="38" y="201"/>
                      </a:lnTo>
                      <a:lnTo>
                        <a:pt x="32" y="194"/>
                      </a:lnTo>
                      <a:lnTo>
                        <a:pt x="26" y="188"/>
                      </a:lnTo>
                      <a:lnTo>
                        <a:pt x="22" y="182"/>
                      </a:lnTo>
                      <a:lnTo>
                        <a:pt x="16" y="172"/>
                      </a:lnTo>
                      <a:lnTo>
                        <a:pt x="13" y="166"/>
                      </a:lnTo>
                      <a:lnTo>
                        <a:pt x="10" y="153"/>
                      </a:lnTo>
                      <a:lnTo>
                        <a:pt x="3" y="143"/>
                      </a:lnTo>
                      <a:lnTo>
                        <a:pt x="3" y="134"/>
                      </a:lnTo>
                      <a:lnTo>
                        <a:pt x="0" y="121"/>
                      </a:lnTo>
                      <a:lnTo>
                        <a:pt x="0" y="108"/>
                      </a:lnTo>
                      <a:lnTo>
                        <a:pt x="0" y="99"/>
                      </a:lnTo>
                      <a:lnTo>
                        <a:pt x="0" y="89"/>
                      </a:lnTo>
                      <a:lnTo>
                        <a:pt x="3" y="80"/>
                      </a:lnTo>
                      <a:lnTo>
                        <a:pt x="3" y="70"/>
                      </a:lnTo>
                      <a:lnTo>
                        <a:pt x="6" y="60"/>
                      </a:lnTo>
                      <a:lnTo>
                        <a:pt x="10" y="51"/>
                      </a:lnTo>
                      <a:lnTo>
                        <a:pt x="13" y="41"/>
                      </a:lnTo>
                      <a:lnTo>
                        <a:pt x="19" y="35"/>
                      </a:lnTo>
                      <a:lnTo>
                        <a:pt x="22" y="25"/>
                      </a:lnTo>
                      <a:lnTo>
                        <a:pt x="29" y="19"/>
                      </a:lnTo>
                      <a:lnTo>
                        <a:pt x="35" y="16"/>
                      </a:lnTo>
                      <a:lnTo>
                        <a:pt x="42" y="9"/>
                      </a:lnTo>
                      <a:lnTo>
                        <a:pt x="48" y="6"/>
                      </a:lnTo>
                      <a:lnTo>
                        <a:pt x="54" y="3"/>
                      </a:lnTo>
                      <a:lnTo>
                        <a:pt x="64" y="0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08760" y="3358080"/>
                  <a:ext cx="65520" cy="31320"/>
                </a:xfrm>
                <a:custGeom>
                  <a:avLst/>
                  <a:gdLst/>
                  <a:ahLst/>
                  <a:rect l="l" t="t" r="r" b="b"/>
                  <a:pathLst>
                    <a:path w="77" h="35">
                      <a:moveTo>
                        <a:pt x="77" y="35"/>
                      </a:moveTo>
                      <a:lnTo>
                        <a:pt x="73" y="28"/>
                      </a:lnTo>
                      <a:lnTo>
                        <a:pt x="70" y="22"/>
                      </a:lnTo>
                      <a:lnTo>
                        <a:pt x="64" y="15"/>
                      </a:lnTo>
                      <a:lnTo>
                        <a:pt x="61" y="12"/>
                      </a:lnTo>
                      <a:lnTo>
                        <a:pt x="54" y="6"/>
                      </a:lnTo>
                      <a:lnTo>
                        <a:pt x="48" y="3"/>
                      </a:lnTo>
                      <a:lnTo>
                        <a:pt x="45" y="3"/>
                      </a:lnTo>
                      <a:lnTo>
                        <a:pt x="38" y="0"/>
                      </a:lnTo>
                      <a:lnTo>
                        <a:pt x="32" y="3"/>
                      </a:lnTo>
                      <a:lnTo>
                        <a:pt x="26" y="3"/>
                      </a:lnTo>
                      <a:lnTo>
                        <a:pt x="19" y="6"/>
                      </a:lnTo>
                      <a:lnTo>
                        <a:pt x="16" y="9"/>
                      </a:lnTo>
                      <a:lnTo>
                        <a:pt x="10" y="15"/>
                      </a:lnTo>
                      <a:lnTo>
                        <a:pt x="7" y="22"/>
                      </a:lnTo>
                      <a:lnTo>
                        <a:pt x="3" y="28"/>
                      </a:lnTo>
                      <a:lnTo>
                        <a:pt x="0" y="35"/>
                      </a:lnTo>
                      <a:lnTo>
                        <a:pt x="77" y="35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008760" y="3389760"/>
                  <a:ext cx="65520" cy="720"/>
                </a:xfrm>
                <a:custGeom>
                  <a:avLst/>
                  <a:gdLst/>
                  <a:ahLst/>
                  <a:rect l="l" t="t" r="r" b="b"/>
                  <a:pathLst>
                    <a:path w="77" h="0">
                      <a:moveTo>
                        <a:pt x="77" y="0"/>
                      </a:moveTo>
                      <a:lnTo>
                        <a:pt x="77" y="0"/>
                      </a:lnTo>
                      <a:lnTo>
                        <a:pt x="77" y="0"/>
                      </a:lnTo>
                      <a:lnTo>
                        <a:pt x="77" y="0"/>
                      </a:lnTo>
                      <a:lnTo>
                        <a:pt x="7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008760" y="3389760"/>
                  <a:ext cx="65520" cy="2520"/>
                </a:xfrm>
                <a:custGeom>
                  <a:avLst/>
                  <a:gdLst/>
                  <a:ahLst/>
                  <a:rect l="l" t="t" r="r" b="b"/>
                  <a:pathLst>
                    <a:path w="77" h="3">
                      <a:moveTo>
                        <a:pt x="77" y="0"/>
                      </a:moveTo>
                      <a:lnTo>
                        <a:pt x="77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77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8f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6006240" y="3392280"/>
                  <a:ext cx="68040" cy="720"/>
                </a:xfrm>
                <a:custGeom>
                  <a:avLst/>
                  <a:gdLst/>
                  <a:ahLst/>
                  <a:rect l="l" t="t" r="r" b="b"/>
                  <a:pathLst>
                    <a:path w="80" h="0">
                      <a:moveTo>
                        <a:pt x="80" y="0"/>
                      </a:moveTo>
                      <a:lnTo>
                        <a:pt x="80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006240" y="3392280"/>
                  <a:ext cx="68040" cy="2520"/>
                </a:xfrm>
                <a:custGeom>
                  <a:avLst/>
                  <a:gdLst/>
                  <a:ahLst/>
                  <a:rect l="l" t="t" r="r" b="b"/>
                  <a:pathLst>
                    <a:path w="80" h="3">
                      <a:moveTo>
                        <a:pt x="80" y="0"/>
                      </a:moveTo>
                      <a:lnTo>
                        <a:pt x="80" y="0"/>
                      </a:lnTo>
                      <a:lnTo>
                        <a:pt x="80" y="3"/>
                      </a:lnTo>
                      <a:lnTo>
                        <a:pt x="80" y="3"/>
                      </a:lnTo>
                      <a:lnTo>
                        <a:pt x="8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006240" y="3395160"/>
                  <a:ext cx="70560" cy="720"/>
                </a:xfrm>
                <a:custGeom>
                  <a:avLst/>
                  <a:gdLst/>
                  <a:ahLst/>
                  <a:rect l="l" t="t" r="r" b="b"/>
                  <a:pathLst>
                    <a:path w="83" h="0">
                      <a:moveTo>
                        <a:pt x="80" y="0"/>
                      </a:move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0"/>
                      </a:lnTo>
                      <a:lnTo>
                        <a:pt x="8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96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006240" y="3395160"/>
                  <a:ext cx="70560" cy="2520"/>
                </a:xfrm>
                <a:custGeom>
                  <a:avLst/>
                  <a:gdLst/>
                  <a:ahLst/>
                  <a:rect l="l" t="t" r="r" b="b"/>
                  <a:pathLst>
                    <a:path w="83" h="3">
                      <a:moveTo>
                        <a:pt x="83" y="0"/>
                      </a:moveTo>
                      <a:lnTo>
                        <a:pt x="83" y="3"/>
                      </a:lnTo>
                      <a:lnTo>
                        <a:pt x="83" y="3"/>
                      </a:lnTo>
                      <a:lnTo>
                        <a:pt x="83" y="3"/>
                      </a:lnTo>
                      <a:lnTo>
                        <a:pt x="8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99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006240" y="3397680"/>
                  <a:ext cx="70560" cy="720"/>
                </a:xfrm>
                <a:custGeom>
                  <a:avLst/>
                  <a:gdLst/>
                  <a:ahLst/>
                  <a:rect l="l" t="t" r="r" b="b"/>
                  <a:pathLst>
                    <a:path w="83" h="0">
                      <a:moveTo>
                        <a:pt x="83" y="0"/>
                      </a:moveTo>
                      <a:lnTo>
                        <a:pt x="83" y="0"/>
                      </a:lnTo>
                      <a:lnTo>
                        <a:pt x="83" y="0"/>
                      </a:lnTo>
                      <a:lnTo>
                        <a:pt x="83" y="0"/>
                      </a:lnTo>
                      <a:lnTo>
                        <a:pt x="8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9e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006240" y="3397680"/>
                  <a:ext cx="70560" cy="2520"/>
                </a:xfrm>
                <a:custGeom>
                  <a:avLst/>
                  <a:gdLst/>
                  <a:ahLst/>
                  <a:rect l="l" t="t" r="r" b="b"/>
                  <a:pathLst>
                    <a:path w="83" h="3">
                      <a:moveTo>
                        <a:pt x="83" y="0"/>
                      </a:moveTo>
                      <a:lnTo>
                        <a:pt x="83" y="3"/>
                      </a:lnTo>
                      <a:lnTo>
                        <a:pt x="83" y="3"/>
                      </a:lnTo>
                      <a:lnTo>
                        <a:pt x="83" y="3"/>
                      </a:lnTo>
                      <a:lnTo>
                        <a:pt x="8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a1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006240" y="3400560"/>
                  <a:ext cx="70560" cy="3240"/>
                </a:xfrm>
                <a:custGeom>
                  <a:avLst/>
                  <a:gdLst/>
                  <a:ahLst/>
                  <a:rect l="l" t="t" r="r" b="b"/>
                  <a:pathLst>
                    <a:path w="83" h="4">
                      <a:moveTo>
                        <a:pt x="83" y="0"/>
                      </a:moveTo>
                      <a:lnTo>
                        <a:pt x="83" y="0"/>
                      </a:lnTo>
                      <a:lnTo>
                        <a:pt x="83" y="0"/>
                      </a:lnTo>
                      <a:lnTo>
                        <a:pt x="83" y="0"/>
                      </a:lnTo>
                      <a:lnTo>
                        <a:pt x="83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a3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006240" y="3404160"/>
                  <a:ext cx="70560" cy="720"/>
                </a:xfrm>
                <a:custGeom>
                  <a:avLst/>
                  <a:gdLst/>
                  <a:ahLst/>
                  <a:rect l="l" t="t" r="r" b="b"/>
                  <a:pathLst>
                    <a:path w="83" h="0">
                      <a:moveTo>
                        <a:pt x="83" y="0"/>
                      </a:moveTo>
                      <a:lnTo>
                        <a:pt x="83" y="0"/>
                      </a:lnTo>
                      <a:lnTo>
                        <a:pt x="83" y="0"/>
                      </a:lnTo>
                      <a:lnTo>
                        <a:pt x="83" y="0"/>
                      </a:lnTo>
                      <a:lnTo>
                        <a:pt x="8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a3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006240" y="3404160"/>
                  <a:ext cx="70560" cy="720"/>
                </a:xfrm>
                <a:custGeom>
                  <a:avLst/>
                  <a:gdLst/>
                  <a:ahLst/>
                  <a:rect l="l" t="t" r="r" b="b"/>
                  <a:pathLst>
                    <a:path w="83" h="0">
                      <a:moveTo>
                        <a:pt x="83" y="0"/>
                      </a:moveTo>
                      <a:lnTo>
                        <a:pt x="83" y="0"/>
                      </a:lnTo>
                      <a:lnTo>
                        <a:pt x="83" y="0"/>
                      </a:lnTo>
                      <a:lnTo>
                        <a:pt x="83" y="0"/>
                      </a:lnTo>
                      <a:lnTo>
                        <a:pt x="8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ab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006240" y="3404160"/>
                  <a:ext cx="73080" cy="2520"/>
                </a:xfrm>
                <a:custGeom>
                  <a:avLst/>
                  <a:gdLst/>
                  <a:ahLst/>
                  <a:rect l="l" t="t" r="r" b="b"/>
                  <a:pathLst>
                    <a:path w="86" h="3">
                      <a:moveTo>
                        <a:pt x="83" y="0"/>
                      </a:moveTo>
                      <a:lnTo>
                        <a:pt x="83" y="3"/>
                      </a:lnTo>
                      <a:lnTo>
                        <a:pt x="86" y="3"/>
                      </a:lnTo>
                      <a:lnTo>
                        <a:pt x="86" y="3"/>
                      </a:lnTo>
                      <a:lnTo>
                        <a:pt x="86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ab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003720" y="3407040"/>
                  <a:ext cx="75600" cy="2520"/>
                </a:xfrm>
                <a:custGeom>
                  <a:avLst/>
                  <a:gdLst/>
                  <a:ahLst/>
                  <a:rect l="l" t="t" r="r" b="b"/>
                  <a:pathLst>
                    <a:path w="89" h="3">
                      <a:moveTo>
                        <a:pt x="89" y="0"/>
                      </a:move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3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0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003720" y="3409560"/>
                  <a:ext cx="75600" cy="720"/>
                </a:xfrm>
                <a:custGeom>
                  <a:avLst/>
                  <a:gdLst/>
                  <a:ahLst/>
                  <a:rect l="l" t="t" r="r" b="b"/>
                  <a:pathLst>
                    <a:path w="89" h="0">
                      <a:moveTo>
                        <a:pt x="89" y="0"/>
                      </a:move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5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003720" y="3409560"/>
                  <a:ext cx="75600" cy="2520"/>
                </a:xfrm>
                <a:custGeom>
                  <a:avLst/>
                  <a:gdLst/>
                  <a:ahLst/>
                  <a:rect l="l" t="t" r="r" b="b"/>
                  <a:pathLst>
                    <a:path w="89" h="3">
                      <a:moveTo>
                        <a:pt x="89" y="0"/>
                      </a:move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8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003720" y="3412080"/>
                  <a:ext cx="75600" cy="720"/>
                </a:xfrm>
                <a:custGeom>
                  <a:avLst/>
                  <a:gdLst/>
                  <a:ahLst/>
                  <a:rect l="l" t="t" r="r" b="b"/>
                  <a:pathLst>
                    <a:path w="89" h="0">
                      <a:moveTo>
                        <a:pt x="89" y="0"/>
                      </a:move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a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003720" y="3412080"/>
                  <a:ext cx="75600" cy="2520"/>
                </a:xfrm>
                <a:custGeom>
                  <a:avLst/>
                  <a:gdLst/>
                  <a:ahLst/>
                  <a:rect l="l" t="t" r="r" b="b"/>
                  <a:pathLst>
                    <a:path w="89" h="3">
                      <a:moveTo>
                        <a:pt x="89" y="0"/>
                      </a:move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3"/>
                      </a:lnTo>
                      <a:lnTo>
                        <a:pt x="89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d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003720" y="3414960"/>
                  <a:ext cx="75600" cy="720"/>
                </a:xfrm>
                <a:custGeom>
                  <a:avLst/>
                  <a:gdLst/>
                  <a:ahLst/>
                  <a:rect l="l" t="t" r="r" b="b"/>
                  <a:pathLst>
                    <a:path w="89" h="0">
                      <a:moveTo>
                        <a:pt x="89" y="0"/>
                      </a:move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bd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003720" y="3414960"/>
                  <a:ext cx="75600" cy="3600"/>
                </a:xfrm>
                <a:custGeom>
                  <a:avLst/>
                  <a:gdLst/>
                  <a:ahLst/>
                  <a:rect l="l" t="t" r="r" b="b"/>
                  <a:pathLst>
                    <a:path w="89" h="4">
                      <a:moveTo>
                        <a:pt x="89" y="0"/>
                      </a:moveTo>
                      <a:lnTo>
                        <a:pt x="89" y="0"/>
                      </a:lnTo>
                      <a:lnTo>
                        <a:pt x="89" y="4"/>
                      </a:lnTo>
                      <a:lnTo>
                        <a:pt x="89" y="4"/>
                      </a:lnTo>
                      <a:lnTo>
                        <a:pt x="89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c2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003720" y="3418560"/>
                  <a:ext cx="75600" cy="720"/>
                </a:xfrm>
                <a:custGeom>
                  <a:avLst/>
                  <a:gdLst/>
                  <a:ahLst/>
                  <a:rect l="l" t="t" r="r" b="b"/>
                  <a:pathLst>
                    <a:path w="89" h="0">
                      <a:moveTo>
                        <a:pt x="89" y="0"/>
                      </a:move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c4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003720" y="3418560"/>
                  <a:ext cx="75600" cy="2520"/>
                </a:xfrm>
                <a:custGeom>
                  <a:avLst/>
                  <a:gdLst/>
                  <a:ahLst/>
                  <a:rect l="l" t="t" r="r" b="b"/>
                  <a:pathLst>
                    <a:path w="89" h="3">
                      <a:moveTo>
                        <a:pt x="89" y="0"/>
                      </a:moveTo>
                      <a:lnTo>
                        <a:pt x="89" y="0"/>
                      </a:lnTo>
                      <a:lnTo>
                        <a:pt x="89" y="0"/>
                      </a:lnTo>
                      <a:lnTo>
                        <a:pt x="89" y="3"/>
                      </a:lnTo>
                      <a:lnTo>
                        <a:pt x="89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c9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006240" y="3421080"/>
                  <a:ext cx="73080" cy="720"/>
                </a:xfrm>
                <a:custGeom>
                  <a:avLst/>
                  <a:gdLst/>
                  <a:ahLst/>
                  <a:rect l="l" t="t" r="r" b="b"/>
                  <a:pathLst>
                    <a:path w="86" h="0">
                      <a:moveTo>
                        <a:pt x="86" y="0"/>
                      </a:move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c9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006240" y="3421080"/>
                  <a:ext cx="73080" cy="2520"/>
                </a:xfrm>
                <a:custGeom>
                  <a:avLst/>
                  <a:gdLst/>
                  <a:ahLst/>
                  <a:rect l="l" t="t" r="r" b="b"/>
                  <a:pathLst>
                    <a:path w="86" h="3">
                      <a:moveTo>
                        <a:pt x="86" y="0"/>
                      </a:move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86" y="3"/>
                      </a:lnTo>
                      <a:lnTo>
                        <a:pt x="86" y="3"/>
                      </a:lnTo>
                      <a:lnTo>
                        <a:pt x="86" y="3"/>
                      </a:lnTo>
                      <a:lnTo>
                        <a:pt x="86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cf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006240" y="3423960"/>
                  <a:ext cx="73080" cy="720"/>
                </a:xfrm>
                <a:custGeom>
                  <a:avLst/>
                  <a:gdLst/>
                  <a:ahLst/>
                  <a:rect l="l" t="t" r="r" b="b"/>
                  <a:pathLst>
                    <a:path w="86" h="0">
                      <a:moveTo>
                        <a:pt x="86" y="0"/>
                      </a:move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d3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006240" y="3423960"/>
                  <a:ext cx="73080" cy="2520"/>
                </a:xfrm>
                <a:custGeom>
                  <a:avLst/>
                  <a:gdLst/>
                  <a:ahLst/>
                  <a:rect l="l" t="t" r="r" b="b"/>
                  <a:pathLst>
                    <a:path w="86" h="3">
                      <a:moveTo>
                        <a:pt x="86" y="0"/>
                      </a:move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86" y="3"/>
                      </a:lnTo>
                      <a:lnTo>
                        <a:pt x="86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d6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006240" y="3426840"/>
                  <a:ext cx="73080" cy="720"/>
                </a:xfrm>
                <a:custGeom>
                  <a:avLst/>
                  <a:gdLst/>
                  <a:ahLst/>
                  <a:rect l="l" t="t" r="r" b="b"/>
                  <a:pathLst>
                    <a:path w="86" h="0">
                      <a:moveTo>
                        <a:pt x="86" y="0"/>
                      </a:move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d6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6006600" y="3124080"/>
                <a:ext cx="1056240" cy="440640"/>
                <a:chOff x="6006600" y="3124080"/>
                <a:chExt cx="1056240" cy="44064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6006600" y="3426480"/>
                  <a:ext cx="73080" cy="2520"/>
                </a:xfrm>
                <a:custGeom>
                  <a:avLst/>
                  <a:gdLst/>
                  <a:ahLst/>
                  <a:rect l="l" t="t" r="r" b="b"/>
                  <a:pathLst>
                    <a:path w="86" h="3">
                      <a:moveTo>
                        <a:pt x="86" y="0"/>
                      </a:moveTo>
                      <a:lnTo>
                        <a:pt x="86" y="0"/>
                      </a:lnTo>
                      <a:lnTo>
                        <a:pt x="86" y="3"/>
                      </a:lnTo>
                      <a:lnTo>
                        <a:pt x="86" y="3"/>
                      </a:lnTo>
                      <a:lnTo>
                        <a:pt x="86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006600" y="3429360"/>
                  <a:ext cx="73080" cy="2520"/>
                </a:xfrm>
                <a:custGeom>
                  <a:avLst/>
                  <a:gdLst/>
                  <a:ahLst/>
                  <a:rect l="l" t="t" r="r" b="b"/>
                  <a:pathLst>
                    <a:path w="86" h="3">
                      <a:moveTo>
                        <a:pt x="86" y="0"/>
                      </a:move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e0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006600" y="3429360"/>
                  <a:ext cx="73080" cy="2520"/>
                </a:xfrm>
                <a:custGeom>
                  <a:avLst/>
                  <a:gdLst/>
                  <a:ahLst/>
                  <a:rect l="l" t="t" r="r" b="b"/>
                  <a:pathLst>
                    <a:path w="86" h="3">
                      <a:moveTo>
                        <a:pt x="86" y="0"/>
                      </a:moveTo>
                      <a:lnTo>
                        <a:pt x="86" y="3"/>
                      </a:lnTo>
                      <a:lnTo>
                        <a:pt x="86" y="3"/>
                      </a:lnTo>
                      <a:lnTo>
                        <a:pt x="86" y="3"/>
                      </a:lnTo>
                      <a:lnTo>
                        <a:pt x="86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e0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006600" y="3431880"/>
                  <a:ext cx="73080" cy="720"/>
                </a:xfrm>
                <a:custGeom>
                  <a:avLst/>
                  <a:gdLst/>
                  <a:ahLst/>
                  <a:rect l="l" t="t" r="r" b="b"/>
                  <a:pathLst>
                    <a:path w="86" h="0">
                      <a:moveTo>
                        <a:pt x="86" y="0"/>
                      </a:move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e5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06600" y="3431880"/>
                  <a:ext cx="73080" cy="3600"/>
                </a:xfrm>
                <a:custGeom>
                  <a:avLst/>
                  <a:gdLst/>
                  <a:ahLst/>
                  <a:rect l="l" t="t" r="r" b="b"/>
                  <a:pathLst>
                    <a:path w="86" h="4">
                      <a:moveTo>
                        <a:pt x="86" y="0"/>
                      </a:moveTo>
                      <a:lnTo>
                        <a:pt x="86" y="0"/>
                      </a:lnTo>
                      <a:lnTo>
                        <a:pt x="86" y="4"/>
                      </a:lnTo>
                      <a:lnTo>
                        <a:pt x="86" y="4"/>
                      </a:lnTo>
                      <a:lnTo>
                        <a:pt x="86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e8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006600" y="3435480"/>
                  <a:ext cx="73080" cy="2520"/>
                </a:xfrm>
                <a:custGeom>
                  <a:avLst/>
                  <a:gdLst/>
                  <a:ahLst/>
                  <a:rect l="l" t="t" r="r" b="b"/>
                  <a:pathLst>
                    <a:path w="86" h="3">
                      <a:moveTo>
                        <a:pt x="86" y="0"/>
                      </a:move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86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ea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006600" y="3435480"/>
                  <a:ext cx="73080" cy="2520"/>
                </a:xfrm>
                <a:custGeom>
                  <a:avLst/>
                  <a:gdLst/>
                  <a:ahLst/>
                  <a:rect l="l" t="t" r="r" b="b"/>
                  <a:pathLst>
                    <a:path w="86" h="3">
                      <a:moveTo>
                        <a:pt x="86" y="0"/>
                      </a:moveTo>
                      <a:lnTo>
                        <a:pt x="86" y="3"/>
                      </a:lnTo>
                      <a:lnTo>
                        <a:pt x="86" y="3"/>
                      </a:lnTo>
                      <a:lnTo>
                        <a:pt x="86" y="3"/>
                      </a:lnTo>
                      <a:lnTo>
                        <a:pt x="8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008760" y="3438360"/>
                  <a:ext cx="70560" cy="2520"/>
                </a:xfrm>
                <a:custGeom>
                  <a:avLst/>
                  <a:gdLst/>
                  <a:ahLst/>
                  <a:rect l="l" t="t" r="r" b="b"/>
                  <a:pathLst>
                    <a:path w="83" h="3">
                      <a:moveTo>
                        <a:pt x="83" y="0"/>
                      </a:moveTo>
                      <a:lnTo>
                        <a:pt x="83" y="0"/>
                      </a:lnTo>
                      <a:lnTo>
                        <a:pt x="83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f2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008760" y="3438360"/>
                  <a:ext cx="68040" cy="2520"/>
                </a:xfrm>
                <a:custGeom>
                  <a:avLst/>
                  <a:gdLst/>
                  <a:ahLst/>
                  <a:rect l="l" t="t" r="r" b="b"/>
                  <a:pathLst>
                    <a:path w="80" h="3">
                      <a:moveTo>
                        <a:pt x="80" y="0"/>
                      </a:moveTo>
                      <a:lnTo>
                        <a:pt x="80" y="3"/>
                      </a:lnTo>
                      <a:lnTo>
                        <a:pt x="80" y="3"/>
                      </a:lnTo>
                      <a:lnTo>
                        <a:pt x="80" y="3"/>
                      </a:lnTo>
                      <a:lnTo>
                        <a:pt x="8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f2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008760" y="3440880"/>
                  <a:ext cx="68040" cy="2520"/>
                </a:xfrm>
                <a:custGeom>
                  <a:avLst/>
                  <a:gdLst/>
                  <a:ahLst/>
                  <a:rect l="l" t="t" r="r" b="b"/>
                  <a:pathLst>
                    <a:path w="80" h="3">
                      <a:moveTo>
                        <a:pt x="80" y="0"/>
                      </a:moveTo>
                      <a:lnTo>
                        <a:pt x="80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lnTo>
                        <a:pt x="8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fa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008760" y="3443760"/>
                  <a:ext cx="68040" cy="720"/>
                </a:xfrm>
                <a:custGeom>
                  <a:avLst/>
                  <a:gdLst/>
                  <a:ahLst/>
                  <a:rect l="l" t="t" r="r" b="b"/>
                  <a:pathLst>
                    <a:path w="80" h="0">
                      <a:moveTo>
                        <a:pt x="80" y="0"/>
                      </a:moveTo>
                      <a:lnTo>
                        <a:pt x="80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fa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008760" y="3443760"/>
                  <a:ext cx="68040" cy="2520"/>
                </a:xfrm>
                <a:custGeom>
                  <a:avLst/>
                  <a:gdLst/>
                  <a:ahLst/>
                  <a:rect l="l" t="t" r="r" b="b"/>
                  <a:pathLst>
                    <a:path w="80" h="3">
                      <a:moveTo>
                        <a:pt x="80" y="0"/>
                      </a:moveTo>
                      <a:lnTo>
                        <a:pt x="80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lnTo>
                        <a:pt x="8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011280" y="3446640"/>
                  <a:ext cx="65520" cy="28800"/>
                </a:xfrm>
                <a:custGeom>
                  <a:avLst/>
                  <a:gdLst/>
                  <a:ahLst/>
                  <a:rect l="l" t="t" r="r" b="b"/>
                  <a:pathLst>
                    <a:path w="77" h="32">
                      <a:moveTo>
                        <a:pt x="77" y="0"/>
                      </a:moveTo>
                      <a:lnTo>
                        <a:pt x="74" y="7"/>
                      </a:lnTo>
                      <a:lnTo>
                        <a:pt x="70" y="13"/>
                      </a:lnTo>
                      <a:lnTo>
                        <a:pt x="67" y="20"/>
                      </a:lnTo>
                      <a:lnTo>
                        <a:pt x="61" y="23"/>
                      </a:lnTo>
                      <a:lnTo>
                        <a:pt x="58" y="26"/>
                      </a:lnTo>
                      <a:lnTo>
                        <a:pt x="51" y="29"/>
                      </a:lnTo>
                      <a:lnTo>
                        <a:pt x="45" y="32"/>
                      </a:lnTo>
                      <a:lnTo>
                        <a:pt x="39" y="32"/>
                      </a:lnTo>
                      <a:lnTo>
                        <a:pt x="35" y="32"/>
                      </a:lnTo>
                      <a:lnTo>
                        <a:pt x="29" y="29"/>
                      </a:lnTo>
                      <a:lnTo>
                        <a:pt x="23" y="26"/>
                      </a:lnTo>
                      <a:lnTo>
                        <a:pt x="16" y="23"/>
                      </a:lnTo>
                      <a:lnTo>
                        <a:pt x="13" y="20"/>
                      </a:lnTo>
                      <a:lnTo>
                        <a:pt x="7" y="13"/>
                      </a:lnTo>
                      <a:lnTo>
                        <a:pt x="4" y="7"/>
                      </a:lnTo>
                      <a:lnTo>
                        <a:pt x="0" y="0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011280" y="3371400"/>
                  <a:ext cx="56880" cy="89280"/>
                </a:xfrm>
                <a:custGeom>
                  <a:avLst/>
                  <a:gdLst/>
                  <a:ahLst/>
                  <a:rect l="l" t="t" r="r" b="b"/>
                  <a:pathLst>
                    <a:path w="67" h="99">
                      <a:moveTo>
                        <a:pt x="35" y="99"/>
                      </a:moveTo>
                      <a:lnTo>
                        <a:pt x="29" y="99"/>
                      </a:lnTo>
                      <a:lnTo>
                        <a:pt x="23" y="96"/>
                      </a:lnTo>
                      <a:lnTo>
                        <a:pt x="16" y="90"/>
                      </a:lnTo>
                      <a:lnTo>
                        <a:pt x="10" y="83"/>
                      </a:lnTo>
                      <a:lnTo>
                        <a:pt x="7" y="74"/>
                      </a:lnTo>
                      <a:lnTo>
                        <a:pt x="4" y="64"/>
                      </a:lnTo>
                      <a:lnTo>
                        <a:pt x="4" y="55"/>
                      </a:lnTo>
                      <a:lnTo>
                        <a:pt x="0" y="48"/>
                      </a:lnTo>
                      <a:lnTo>
                        <a:pt x="4" y="39"/>
                      </a:lnTo>
                      <a:lnTo>
                        <a:pt x="4" y="29"/>
                      </a:lnTo>
                      <a:lnTo>
                        <a:pt x="7" y="23"/>
                      </a:lnTo>
                      <a:lnTo>
                        <a:pt x="10" y="13"/>
                      </a:lnTo>
                      <a:lnTo>
                        <a:pt x="13" y="10"/>
                      </a:lnTo>
                      <a:lnTo>
                        <a:pt x="19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9" y="4"/>
                      </a:lnTo>
                      <a:lnTo>
                        <a:pt x="45" y="4"/>
                      </a:lnTo>
                      <a:lnTo>
                        <a:pt x="51" y="10"/>
                      </a:lnTo>
                      <a:lnTo>
                        <a:pt x="58" y="16"/>
                      </a:lnTo>
                      <a:lnTo>
                        <a:pt x="61" y="23"/>
                      </a:lnTo>
                      <a:lnTo>
                        <a:pt x="64" y="29"/>
                      </a:lnTo>
                      <a:lnTo>
                        <a:pt x="67" y="39"/>
                      </a:lnTo>
                      <a:lnTo>
                        <a:pt x="67" y="52"/>
                      </a:lnTo>
                      <a:lnTo>
                        <a:pt x="67" y="61"/>
                      </a:lnTo>
                      <a:lnTo>
                        <a:pt x="67" y="67"/>
                      </a:lnTo>
                      <a:lnTo>
                        <a:pt x="64" y="77"/>
                      </a:lnTo>
                      <a:lnTo>
                        <a:pt x="61" y="83"/>
                      </a:lnTo>
                      <a:lnTo>
                        <a:pt x="55" y="90"/>
                      </a:lnTo>
                      <a:lnTo>
                        <a:pt x="51" y="96"/>
                      </a:lnTo>
                      <a:lnTo>
                        <a:pt x="45" y="99"/>
                      </a:lnTo>
                      <a:lnTo>
                        <a:pt x="35" y="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020280" y="3383280"/>
                  <a:ext cx="43200" cy="69480"/>
                </a:xfrm>
                <a:custGeom>
                  <a:avLst/>
                  <a:gdLst/>
                  <a:ahLst/>
                  <a:rect l="l" t="t" r="r" b="b"/>
                  <a:pathLst>
                    <a:path w="51" h="77">
                      <a:moveTo>
                        <a:pt x="25" y="77"/>
                      </a:moveTo>
                      <a:lnTo>
                        <a:pt x="19" y="74"/>
                      </a:lnTo>
                      <a:lnTo>
                        <a:pt x="16" y="70"/>
                      </a:lnTo>
                      <a:lnTo>
                        <a:pt x="9" y="67"/>
                      </a:lnTo>
                      <a:lnTo>
                        <a:pt x="6" y="61"/>
                      </a:lnTo>
                      <a:lnTo>
                        <a:pt x="3" y="54"/>
                      </a:lnTo>
                      <a:lnTo>
                        <a:pt x="0" y="48"/>
                      </a:lnTo>
                      <a:lnTo>
                        <a:pt x="0" y="42"/>
                      </a:lnTo>
                      <a:lnTo>
                        <a:pt x="0" y="35"/>
                      </a:ln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3" y="16"/>
                      </a:lnTo>
                      <a:lnTo>
                        <a:pt x="6" y="10"/>
                      </a:lnTo>
                      <a:lnTo>
                        <a:pt x="9" y="7"/>
                      </a:lnTo>
                      <a:lnTo>
                        <a:pt x="13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2" y="3"/>
                      </a:lnTo>
                      <a:lnTo>
                        <a:pt x="38" y="7"/>
                      </a:lnTo>
                      <a:lnTo>
                        <a:pt x="41" y="10"/>
                      </a:lnTo>
                      <a:lnTo>
                        <a:pt x="45" y="16"/>
                      </a:lnTo>
                      <a:lnTo>
                        <a:pt x="48" y="23"/>
                      </a:lnTo>
                      <a:lnTo>
                        <a:pt x="51" y="29"/>
                      </a:lnTo>
                      <a:lnTo>
                        <a:pt x="51" y="39"/>
                      </a:lnTo>
                      <a:lnTo>
                        <a:pt x="51" y="45"/>
                      </a:lnTo>
                      <a:lnTo>
                        <a:pt x="51" y="51"/>
                      </a:lnTo>
                      <a:lnTo>
                        <a:pt x="48" y="58"/>
                      </a:lnTo>
                      <a:lnTo>
                        <a:pt x="45" y="64"/>
                      </a:lnTo>
                      <a:lnTo>
                        <a:pt x="41" y="67"/>
                      </a:lnTo>
                      <a:lnTo>
                        <a:pt x="38" y="74"/>
                      </a:lnTo>
                      <a:lnTo>
                        <a:pt x="32" y="74"/>
                      </a:lnTo>
                      <a:lnTo>
                        <a:pt x="25" y="77"/>
                      </a:lnTo>
                      <a:close/>
                    </a:path>
                  </a:pathLst>
                </a:custGeom>
                <a:solidFill>
                  <a:srgbClr val="e0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027840" y="3397680"/>
                  <a:ext cx="27000" cy="37800"/>
                </a:xfrm>
                <a:custGeom>
                  <a:avLst/>
                  <a:gdLst/>
                  <a:ahLst/>
                  <a:rect l="l" t="t" r="r" b="b"/>
                  <a:pathLst>
                    <a:path w="32" h="42">
                      <a:moveTo>
                        <a:pt x="16" y="42"/>
                      </a:moveTo>
                      <a:lnTo>
                        <a:pt x="13" y="42"/>
                      </a:lnTo>
                      <a:lnTo>
                        <a:pt x="10" y="42"/>
                      </a:lnTo>
                      <a:lnTo>
                        <a:pt x="7" y="38"/>
                      </a:lnTo>
                      <a:lnTo>
                        <a:pt x="7" y="35"/>
                      </a:lnTo>
                      <a:lnTo>
                        <a:pt x="4" y="32"/>
                      </a:lnTo>
                      <a:lnTo>
                        <a:pt x="4" y="29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0" y="16"/>
                      </a:lnTo>
                      <a:lnTo>
                        <a:pt x="4" y="13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7" y="3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3" y="3"/>
                      </a:lnTo>
                      <a:lnTo>
                        <a:pt x="26" y="7"/>
                      </a:lnTo>
                      <a:lnTo>
                        <a:pt x="26" y="10"/>
                      </a:lnTo>
                      <a:lnTo>
                        <a:pt x="29" y="13"/>
                      </a:lnTo>
                      <a:lnTo>
                        <a:pt x="29" y="16"/>
                      </a:lnTo>
                      <a:lnTo>
                        <a:pt x="32" y="23"/>
                      </a:lnTo>
                      <a:lnTo>
                        <a:pt x="29" y="26"/>
                      </a:lnTo>
                      <a:lnTo>
                        <a:pt x="29" y="29"/>
                      </a:lnTo>
                      <a:lnTo>
                        <a:pt x="29" y="32"/>
                      </a:lnTo>
                      <a:lnTo>
                        <a:pt x="26" y="35"/>
                      </a:lnTo>
                      <a:lnTo>
                        <a:pt x="26" y="38"/>
                      </a:lnTo>
                      <a:lnTo>
                        <a:pt x="23" y="42"/>
                      </a:lnTo>
                      <a:lnTo>
                        <a:pt x="20" y="42"/>
                      </a:lnTo>
                      <a:lnTo>
                        <a:pt x="16" y="42"/>
                      </a:lnTo>
                      <a:close/>
                    </a:path>
                  </a:pathLst>
                </a:custGeom>
                <a:solidFill>
                  <a:srgbClr val="e0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027840" y="3414600"/>
                  <a:ext cx="13680" cy="23400"/>
                </a:xfrm>
                <a:custGeom>
                  <a:avLst/>
                  <a:gdLst/>
                  <a:ahLst/>
                  <a:rect l="l" t="t" r="r" b="b"/>
                  <a:pathLst>
                    <a:path w="16" h="2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4" y="7"/>
                      </a:lnTo>
                      <a:lnTo>
                        <a:pt x="4" y="10"/>
                      </a:lnTo>
                      <a:lnTo>
                        <a:pt x="7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3" y="23"/>
                      </a:lnTo>
                      <a:lnTo>
                        <a:pt x="16" y="23"/>
                      </a:lnTo>
                      <a:lnTo>
                        <a:pt x="16" y="26"/>
                      </a:lnTo>
                      <a:lnTo>
                        <a:pt x="13" y="26"/>
                      </a:lnTo>
                      <a:lnTo>
                        <a:pt x="10" y="23"/>
                      </a:lnTo>
                      <a:lnTo>
                        <a:pt x="7" y="19"/>
                      </a:lnTo>
                      <a:lnTo>
                        <a:pt x="4" y="16"/>
                      </a:lnTo>
                      <a:lnTo>
                        <a:pt x="4" y="13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027840" y="3394800"/>
                  <a:ext cx="11160" cy="1980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0" y="6"/>
                      </a:lnTo>
                      <a:lnTo>
                        <a:pt x="7" y="6"/>
                      </a:lnTo>
                      <a:lnTo>
                        <a:pt x="7" y="10"/>
                      </a:lnTo>
                      <a:lnTo>
                        <a:pt x="4" y="13"/>
                      </a:lnTo>
                      <a:lnTo>
                        <a:pt x="4" y="16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0" y="16"/>
                      </a:lnTo>
                      <a:lnTo>
                        <a:pt x="4" y="10"/>
                      </a:lnTo>
                      <a:lnTo>
                        <a:pt x="4" y="6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039000" y="3394800"/>
                  <a:ext cx="15840" cy="23400"/>
                </a:xfrm>
                <a:custGeom>
                  <a:avLst/>
                  <a:gdLst/>
                  <a:ahLst/>
                  <a:rect l="l" t="t" r="r" b="b"/>
                  <a:pathLst>
                    <a:path w="19" h="26">
                      <a:moveTo>
                        <a:pt x="16" y="26"/>
                      </a:moveTo>
                      <a:lnTo>
                        <a:pt x="16" y="26"/>
                      </a:lnTo>
                      <a:lnTo>
                        <a:pt x="16" y="19"/>
                      </a:lnTo>
                      <a:lnTo>
                        <a:pt x="16" y="16"/>
                      </a:lnTo>
                      <a:lnTo>
                        <a:pt x="13" y="13"/>
                      </a:lnTo>
                      <a:lnTo>
                        <a:pt x="13" y="10"/>
                      </a:lnTo>
                      <a:lnTo>
                        <a:pt x="10" y="6"/>
                      </a:lnTo>
                      <a:lnTo>
                        <a:pt x="7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3" y="6"/>
                      </a:lnTo>
                      <a:lnTo>
                        <a:pt x="16" y="10"/>
                      </a:lnTo>
                      <a:lnTo>
                        <a:pt x="16" y="16"/>
                      </a:lnTo>
                      <a:lnTo>
                        <a:pt x="19" y="19"/>
                      </a:lnTo>
                      <a:lnTo>
                        <a:pt x="19" y="26"/>
                      </a:lnTo>
                      <a:lnTo>
                        <a:pt x="19" y="26"/>
                      </a:lnTo>
                      <a:lnTo>
                        <a:pt x="16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041520" y="3418560"/>
                  <a:ext cx="13320" cy="19800"/>
                </a:xfrm>
                <a:custGeom>
                  <a:avLst/>
                  <a:gdLst/>
                  <a:ahLst/>
                  <a:rect l="l" t="t" r="r" b="b"/>
                  <a:pathLst>
                    <a:path w="16" h="22">
                      <a:moveTo>
                        <a:pt x="0" y="19"/>
                      </a:moveTo>
                      <a:lnTo>
                        <a:pt x="0" y="19"/>
                      </a:lnTo>
                      <a:lnTo>
                        <a:pt x="4" y="19"/>
                      </a:lnTo>
                      <a:lnTo>
                        <a:pt x="7" y="15"/>
                      </a:lnTo>
                      <a:lnTo>
                        <a:pt x="10" y="15"/>
                      </a:lnTo>
                      <a:lnTo>
                        <a:pt x="10" y="12"/>
                      </a:lnTo>
                      <a:lnTo>
                        <a:pt x="13" y="9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13" y="9"/>
                      </a:lnTo>
                      <a:lnTo>
                        <a:pt x="13" y="15"/>
                      </a:lnTo>
                      <a:lnTo>
                        <a:pt x="10" y="19"/>
                      </a:lnTo>
                      <a:lnTo>
                        <a:pt x="7" y="19"/>
                      </a:lnTo>
                      <a:lnTo>
                        <a:pt x="4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294240" y="3358080"/>
                  <a:ext cx="686880" cy="206640"/>
                </a:xfrm>
                <a:custGeom>
                  <a:avLst/>
                  <a:gdLst/>
                  <a:ahLst/>
                  <a:rect l="l" t="t" r="r" b="b"/>
                  <a:pathLst>
                    <a:path w="806" h="229">
                      <a:moveTo>
                        <a:pt x="673" y="130"/>
                      </a:moveTo>
                      <a:lnTo>
                        <a:pt x="663" y="127"/>
                      </a:lnTo>
                      <a:lnTo>
                        <a:pt x="657" y="124"/>
                      </a:lnTo>
                      <a:lnTo>
                        <a:pt x="644" y="121"/>
                      </a:lnTo>
                      <a:lnTo>
                        <a:pt x="634" y="118"/>
                      </a:lnTo>
                      <a:lnTo>
                        <a:pt x="621" y="114"/>
                      </a:lnTo>
                      <a:lnTo>
                        <a:pt x="609" y="108"/>
                      </a:lnTo>
                      <a:lnTo>
                        <a:pt x="593" y="105"/>
                      </a:lnTo>
                      <a:lnTo>
                        <a:pt x="577" y="98"/>
                      </a:lnTo>
                      <a:lnTo>
                        <a:pt x="561" y="95"/>
                      </a:lnTo>
                      <a:lnTo>
                        <a:pt x="542" y="89"/>
                      </a:lnTo>
                      <a:lnTo>
                        <a:pt x="526" y="86"/>
                      </a:lnTo>
                      <a:lnTo>
                        <a:pt x="507" y="79"/>
                      </a:lnTo>
                      <a:lnTo>
                        <a:pt x="488" y="73"/>
                      </a:lnTo>
                      <a:lnTo>
                        <a:pt x="465" y="70"/>
                      </a:lnTo>
                      <a:lnTo>
                        <a:pt x="446" y="63"/>
                      </a:lnTo>
                      <a:lnTo>
                        <a:pt x="424" y="57"/>
                      </a:lnTo>
                      <a:lnTo>
                        <a:pt x="405" y="54"/>
                      </a:lnTo>
                      <a:lnTo>
                        <a:pt x="382" y="47"/>
                      </a:lnTo>
                      <a:lnTo>
                        <a:pt x="360" y="44"/>
                      </a:lnTo>
                      <a:lnTo>
                        <a:pt x="338" y="38"/>
                      </a:lnTo>
                      <a:lnTo>
                        <a:pt x="319" y="35"/>
                      </a:lnTo>
                      <a:lnTo>
                        <a:pt x="296" y="28"/>
                      </a:lnTo>
                      <a:lnTo>
                        <a:pt x="274" y="25"/>
                      </a:lnTo>
                      <a:lnTo>
                        <a:pt x="252" y="22"/>
                      </a:lnTo>
                      <a:lnTo>
                        <a:pt x="233" y="15"/>
                      </a:lnTo>
                      <a:lnTo>
                        <a:pt x="210" y="12"/>
                      </a:lnTo>
                      <a:lnTo>
                        <a:pt x="188" y="9"/>
                      </a:lnTo>
                      <a:lnTo>
                        <a:pt x="169" y="6"/>
                      </a:lnTo>
                      <a:lnTo>
                        <a:pt x="150" y="6"/>
                      </a:lnTo>
                      <a:lnTo>
                        <a:pt x="131" y="3"/>
                      </a:lnTo>
                      <a:lnTo>
                        <a:pt x="115" y="0"/>
                      </a:lnTo>
                      <a:lnTo>
                        <a:pt x="95" y="0"/>
                      </a:lnTo>
                      <a:lnTo>
                        <a:pt x="89" y="0"/>
                      </a:lnTo>
                      <a:lnTo>
                        <a:pt x="83" y="0"/>
                      </a:lnTo>
                      <a:lnTo>
                        <a:pt x="73" y="0"/>
                      </a:lnTo>
                      <a:lnTo>
                        <a:pt x="67" y="0"/>
                      </a:lnTo>
                      <a:lnTo>
                        <a:pt x="57" y="3"/>
                      </a:lnTo>
                      <a:lnTo>
                        <a:pt x="51" y="3"/>
                      </a:lnTo>
                      <a:lnTo>
                        <a:pt x="41" y="6"/>
                      </a:lnTo>
                      <a:lnTo>
                        <a:pt x="35" y="9"/>
                      </a:lnTo>
                      <a:lnTo>
                        <a:pt x="29" y="12"/>
                      </a:lnTo>
                      <a:lnTo>
                        <a:pt x="22" y="15"/>
                      </a:lnTo>
                      <a:lnTo>
                        <a:pt x="16" y="19"/>
                      </a:lnTo>
                      <a:lnTo>
                        <a:pt x="9" y="22"/>
                      </a:lnTo>
                      <a:lnTo>
                        <a:pt x="6" y="28"/>
                      </a:lnTo>
                      <a:lnTo>
                        <a:pt x="3" y="31"/>
                      </a:lnTo>
                      <a:lnTo>
                        <a:pt x="0" y="38"/>
                      </a:lnTo>
                      <a:lnTo>
                        <a:pt x="0" y="44"/>
                      </a:lnTo>
                      <a:lnTo>
                        <a:pt x="0" y="51"/>
                      </a:lnTo>
                      <a:lnTo>
                        <a:pt x="3" y="57"/>
                      </a:lnTo>
                      <a:lnTo>
                        <a:pt x="6" y="63"/>
                      </a:lnTo>
                      <a:lnTo>
                        <a:pt x="13" y="70"/>
                      </a:lnTo>
                      <a:lnTo>
                        <a:pt x="16" y="76"/>
                      </a:lnTo>
                      <a:lnTo>
                        <a:pt x="22" y="82"/>
                      </a:lnTo>
                      <a:lnTo>
                        <a:pt x="29" y="89"/>
                      </a:lnTo>
                      <a:lnTo>
                        <a:pt x="35" y="92"/>
                      </a:lnTo>
                      <a:lnTo>
                        <a:pt x="44" y="95"/>
                      </a:lnTo>
                      <a:lnTo>
                        <a:pt x="51" y="102"/>
                      </a:lnTo>
                      <a:lnTo>
                        <a:pt x="60" y="105"/>
                      </a:lnTo>
                      <a:lnTo>
                        <a:pt x="70" y="108"/>
                      </a:lnTo>
                      <a:lnTo>
                        <a:pt x="76" y="111"/>
                      </a:lnTo>
                      <a:lnTo>
                        <a:pt x="86" y="114"/>
                      </a:lnTo>
                      <a:lnTo>
                        <a:pt x="92" y="118"/>
                      </a:lnTo>
                      <a:lnTo>
                        <a:pt x="102" y="121"/>
                      </a:lnTo>
                      <a:lnTo>
                        <a:pt x="111" y="124"/>
                      </a:lnTo>
                      <a:lnTo>
                        <a:pt x="124" y="127"/>
                      </a:lnTo>
                      <a:lnTo>
                        <a:pt x="137" y="130"/>
                      </a:lnTo>
                      <a:lnTo>
                        <a:pt x="150" y="133"/>
                      </a:lnTo>
                      <a:lnTo>
                        <a:pt x="162" y="137"/>
                      </a:lnTo>
                      <a:lnTo>
                        <a:pt x="178" y="140"/>
                      </a:lnTo>
                      <a:lnTo>
                        <a:pt x="194" y="143"/>
                      </a:lnTo>
                      <a:lnTo>
                        <a:pt x="210" y="149"/>
                      </a:lnTo>
                      <a:lnTo>
                        <a:pt x="223" y="153"/>
                      </a:lnTo>
                      <a:lnTo>
                        <a:pt x="239" y="156"/>
                      </a:lnTo>
                      <a:lnTo>
                        <a:pt x="255" y="159"/>
                      </a:lnTo>
                      <a:lnTo>
                        <a:pt x="268" y="162"/>
                      </a:lnTo>
                      <a:lnTo>
                        <a:pt x="280" y="165"/>
                      </a:lnTo>
                      <a:lnTo>
                        <a:pt x="293" y="165"/>
                      </a:lnTo>
                      <a:lnTo>
                        <a:pt x="306" y="169"/>
                      </a:lnTo>
                      <a:lnTo>
                        <a:pt x="315" y="172"/>
                      </a:lnTo>
                      <a:lnTo>
                        <a:pt x="341" y="175"/>
                      </a:lnTo>
                      <a:lnTo>
                        <a:pt x="366" y="181"/>
                      </a:lnTo>
                      <a:lnTo>
                        <a:pt x="392" y="184"/>
                      </a:lnTo>
                      <a:lnTo>
                        <a:pt x="414" y="188"/>
                      </a:lnTo>
                      <a:lnTo>
                        <a:pt x="437" y="194"/>
                      </a:lnTo>
                      <a:lnTo>
                        <a:pt x="456" y="197"/>
                      </a:lnTo>
                      <a:lnTo>
                        <a:pt x="475" y="200"/>
                      </a:lnTo>
                      <a:lnTo>
                        <a:pt x="494" y="204"/>
                      </a:lnTo>
                      <a:lnTo>
                        <a:pt x="510" y="207"/>
                      </a:lnTo>
                      <a:lnTo>
                        <a:pt x="529" y="207"/>
                      </a:lnTo>
                      <a:lnTo>
                        <a:pt x="545" y="210"/>
                      </a:lnTo>
                      <a:lnTo>
                        <a:pt x="561" y="213"/>
                      </a:lnTo>
                      <a:lnTo>
                        <a:pt x="574" y="216"/>
                      </a:lnTo>
                      <a:lnTo>
                        <a:pt x="586" y="216"/>
                      </a:lnTo>
                      <a:lnTo>
                        <a:pt x="602" y="220"/>
                      </a:lnTo>
                      <a:lnTo>
                        <a:pt x="612" y="220"/>
                      </a:lnTo>
                      <a:lnTo>
                        <a:pt x="625" y="223"/>
                      </a:lnTo>
                      <a:lnTo>
                        <a:pt x="637" y="223"/>
                      </a:lnTo>
                      <a:lnTo>
                        <a:pt x="647" y="223"/>
                      </a:lnTo>
                      <a:lnTo>
                        <a:pt x="657" y="226"/>
                      </a:lnTo>
                      <a:lnTo>
                        <a:pt x="666" y="226"/>
                      </a:lnTo>
                      <a:lnTo>
                        <a:pt x="676" y="226"/>
                      </a:lnTo>
                      <a:lnTo>
                        <a:pt x="685" y="226"/>
                      </a:lnTo>
                      <a:lnTo>
                        <a:pt x="692" y="229"/>
                      </a:lnTo>
                      <a:lnTo>
                        <a:pt x="701" y="229"/>
                      </a:lnTo>
                      <a:lnTo>
                        <a:pt x="708" y="229"/>
                      </a:lnTo>
                      <a:lnTo>
                        <a:pt x="717" y="229"/>
                      </a:lnTo>
                      <a:lnTo>
                        <a:pt x="724" y="229"/>
                      </a:lnTo>
                      <a:lnTo>
                        <a:pt x="730" y="229"/>
                      </a:lnTo>
                      <a:lnTo>
                        <a:pt x="736" y="229"/>
                      </a:lnTo>
                      <a:lnTo>
                        <a:pt x="743" y="229"/>
                      </a:lnTo>
                      <a:lnTo>
                        <a:pt x="749" y="229"/>
                      </a:lnTo>
                      <a:lnTo>
                        <a:pt x="762" y="229"/>
                      </a:lnTo>
                      <a:lnTo>
                        <a:pt x="775" y="229"/>
                      </a:lnTo>
                      <a:lnTo>
                        <a:pt x="781" y="229"/>
                      </a:lnTo>
                      <a:lnTo>
                        <a:pt x="790" y="229"/>
                      </a:lnTo>
                      <a:lnTo>
                        <a:pt x="797" y="226"/>
                      </a:lnTo>
                      <a:lnTo>
                        <a:pt x="800" y="226"/>
                      </a:lnTo>
                      <a:lnTo>
                        <a:pt x="803" y="223"/>
                      </a:lnTo>
                      <a:lnTo>
                        <a:pt x="806" y="220"/>
                      </a:lnTo>
                      <a:lnTo>
                        <a:pt x="806" y="216"/>
                      </a:lnTo>
                      <a:lnTo>
                        <a:pt x="806" y="213"/>
                      </a:lnTo>
                      <a:lnTo>
                        <a:pt x="803" y="210"/>
                      </a:lnTo>
                      <a:lnTo>
                        <a:pt x="803" y="207"/>
                      </a:lnTo>
                      <a:lnTo>
                        <a:pt x="800" y="204"/>
                      </a:lnTo>
                      <a:lnTo>
                        <a:pt x="794" y="197"/>
                      </a:lnTo>
                      <a:lnTo>
                        <a:pt x="790" y="194"/>
                      </a:lnTo>
                      <a:lnTo>
                        <a:pt x="784" y="191"/>
                      </a:lnTo>
                      <a:lnTo>
                        <a:pt x="778" y="188"/>
                      </a:lnTo>
                      <a:lnTo>
                        <a:pt x="771" y="181"/>
                      </a:lnTo>
                      <a:lnTo>
                        <a:pt x="765" y="178"/>
                      </a:lnTo>
                      <a:lnTo>
                        <a:pt x="755" y="175"/>
                      </a:lnTo>
                      <a:lnTo>
                        <a:pt x="749" y="169"/>
                      </a:lnTo>
                      <a:lnTo>
                        <a:pt x="743" y="165"/>
                      </a:lnTo>
                      <a:lnTo>
                        <a:pt x="733" y="159"/>
                      </a:lnTo>
                      <a:lnTo>
                        <a:pt x="727" y="156"/>
                      </a:lnTo>
                      <a:lnTo>
                        <a:pt x="717" y="153"/>
                      </a:lnTo>
                      <a:lnTo>
                        <a:pt x="711" y="149"/>
                      </a:lnTo>
                      <a:lnTo>
                        <a:pt x="704" y="146"/>
                      </a:lnTo>
                      <a:lnTo>
                        <a:pt x="695" y="143"/>
                      </a:lnTo>
                      <a:lnTo>
                        <a:pt x="688" y="140"/>
                      </a:lnTo>
                      <a:lnTo>
                        <a:pt x="682" y="137"/>
                      </a:lnTo>
                      <a:lnTo>
                        <a:pt x="676" y="133"/>
                      </a:lnTo>
                      <a:lnTo>
                        <a:pt x="673" y="130"/>
                      </a:lnTo>
                      <a:close/>
                    </a:path>
                  </a:pathLst>
                </a:custGeom>
                <a:solidFill>
                  <a:srgbClr val="6b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302160" y="3360600"/>
                  <a:ext cx="635760" cy="189360"/>
                </a:xfrm>
                <a:custGeom>
                  <a:avLst/>
                  <a:gdLst/>
                  <a:ahLst/>
                  <a:rect l="l" t="t" r="r" b="b"/>
                  <a:pathLst>
                    <a:path w="746" h="210">
                      <a:moveTo>
                        <a:pt x="644" y="124"/>
                      </a:moveTo>
                      <a:lnTo>
                        <a:pt x="638" y="121"/>
                      </a:lnTo>
                      <a:lnTo>
                        <a:pt x="635" y="121"/>
                      </a:lnTo>
                      <a:lnTo>
                        <a:pt x="632" y="118"/>
                      </a:lnTo>
                      <a:lnTo>
                        <a:pt x="625" y="118"/>
                      </a:lnTo>
                      <a:lnTo>
                        <a:pt x="622" y="115"/>
                      </a:lnTo>
                      <a:lnTo>
                        <a:pt x="616" y="115"/>
                      </a:lnTo>
                      <a:lnTo>
                        <a:pt x="609" y="111"/>
                      </a:lnTo>
                      <a:lnTo>
                        <a:pt x="603" y="108"/>
                      </a:lnTo>
                      <a:lnTo>
                        <a:pt x="597" y="108"/>
                      </a:lnTo>
                      <a:lnTo>
                        <a:pt x="590" y="105"/>
                      </a:lnTo>
                      <a:lnTo>
                        <a:pt x="584" y="102"/>
                      </a:lnTo>
                      <a:lnTo>
                        <a:pt x="577" y="102"/>
                      </a:lnTo>
                      <a:lnTo>
                        <a:pt x="568" y="99"/>
                      </a:lnTo>
                      <a:lnTo>
                        <a:pt x="561" y="95"/>
                      </a:lnTo>
                      <a:lnTo>
                        <a:pt x="555" y="92"/>
                      </a:lnTo>
                      <a:lnTo>
                        <a:pt x="546" y="92"/>
                      </a:lnTo>
                      <a:lnTo>
                        <a:pt x="536" y="89"/>
                      </a:lnTo>
                      <a:lnTo>
                        <a:pt x="530" y="86"/>
                      </a:lnTo>
                      <a:lnTo>
                        <a:pt x="520" y="83"/>
                      </a:lnTo>
                      <a:lnTo>
                        <a:pt x="510" y="83"/>
                      </a:lnTo>
                      <a:lnTo>
                        <a:pt x="501" y="79"/>
                      </a:lnTo>
                      <a:lnTo>
                        <a:pt x="491" y="76"/>
                      </a:lnTo>
                      <a:lnTo>
                        <a:pt x="482" y="73"/>
                      </a:lnTo>
                      <a:lnTo>
                        <a:pt x="472" y="70"/>
                      </a:lnTo>
                      <a:lnTo>
                        <a:pt x="463" y="70"/>
                      </a:lnTo>
                      <a:lnTo>
                        <a:pt x="453" y="67"/>
                      </a:lnTo>
                      <a:lnTo>
                        <a:pt x="444" y="64"/>
                      </a:lnTo>
                      <a:lnTo>
                        <a:pt x="431" y="60"/>
                      </a:lnTo>
                      <a:lnTo>
                        <a:pt x="421" y="57"/>
                      </a:lnTo>
                      <a:lnTo>
                        <a:pt x="412" y="54"/>
                      </a:lnTo>
                      <a:lnTo>
                        <a:pt x="399" y="54"/>
                      </a:lnTo>
                      <a:lnTo>
                        <a:pt x="389" y="51"/>
                      </a:lnTo>
                      <a:lnTo>
                        <a:pt x="380" y="48"/>
                      </a:lnTo>
                      <a:lnTo>
                        <a:pt x="367" y="44"/>
                      </a:lnTo>
                      <a:lnTo>
                        <a:pt x="357" y="41"/>
                      </a:lnTo>
                      <a:lnTo>
                        <a:pt x="348" y="41"/>
                      </a:lnTo>
                      <a:lnTo>
                        <a:pt x="338" y="38"/>
                      </a:lnTo>
                      <a:lnTo>
                        <a:pt x="329" y="35"/>
                      </a:lnTo>
                      <a:lnTo>
                        <a:pt x="316" y="35"/>
                      </a:lnTo>
                      <a:lnTo>
                        <a:pt x="306" y="32"/>
                      </a:lnTo>
                      <a:lnTo>
                        <a:pt x="297" y="28"/>
                      </a:lnTo>
                      <a:lnTo>
                        <a:pt x="287" y="28"/>
                      </a:lnTo>
                      <a:lnTo>
                        <a:pt x="278" y="25"/>
                      </a:lnTo>
                      <a:lnTo>
                        <a:pt x="265" y="22"/>
                      </a:lnTo>
                      <a:lnTo>
                        <a:pt x="255" y="22"/>
                      </a:lnTo>
                      <a:lnTo>
                        <a:pt x="246" y="19"/>
                      </a:lnTo>
                      <a:lnTo>
                        <a:pt x="236" y="19"/>
                      </a:lnTo>
                      <a:lnTo>
                        <a:pt x="224" y="16"/>
                      </a:lnTo>
                      <a:lnTo>
                        <a:pt x="214" y="16"/>
                      </a:lnTo>
                      <a:lnTo>
                        <a:pt x="204" y="12"/>
                      </a:lnTo>
                      <a:lnTo>
                        <a:pt x="195" y="12"/>
                      </a:lnTo>
                      <a:lnTo>
                        <a:pt x="185" y="9"/>
                      </a:lnTo>
                      <a:lnTo>
                        <a:pt x="176" y="9"/>
                      </a:lnTo>
                      <a:lnTo>
                        <a:pt x="166" y="6"/>
                      </a:lnTo>
                      <a:lnTo>
                        <a:pt x="157" y="6"/>
                      </a:lnTo>
                      <a:lnTo>
                        <a:pt x="147" y="6"/>
                      </a:lnTo>
                      <a:lnTo>
                        <a:pt x="138" y="3"/>
                      </a:lnTo>
                      <a:lnTo>
                        <a:pt x="128" y="3"/>
                      </a:lnTo>
                      <a:lnTo>
                        <a:pt x="118" y="3"/>
                      </a:lnTo>
                      <a:lnTo>
                        <a:pt x="112" y="3"/>
                      </a:lnTo>
                      <a:lnTo>
                        <a:pt x="102" y="0"/>
                      </a:lnTo>
                      <a:lnTo>
                        <a:pt x="93" y="0"/>
                      </a:lnTo>
                      <a:lnTo>
                        <a:pt x="86" y="0"/>
                      </a:lnTo>
                      <a:lnTo>
                        <a:pt x="77" y="0"/>
                      </a:lnTo>
                      <a:lnTo>
                        <a:pt x="71" y="0"/>
                      </a:lnTo>
                      <a:lnTo>
                        <a:pt x="64" y="0"/>
                      </a:lnTo>
                      <a:lnTo>
                        <a:pt x="58" y="3"/>
                      </a:lnTo>
                      <a:lnTo>
                        <a:pt x="51" y="3"/>
                      </a:lnTo>
                      <a:lnTo>
                        <a:pt x="45" y="6"/>
                      </a:lnTo>
                      <a:lnTo>
                        <a:pt x="39" y="6"/>
                      </a:lnTo>
                      <a:lnTo>
                        <a:pt x="32" y="9"/>
                      </a:lnTo>
                      <a:lnTo>
                        <a:pt x="26" y="12"/>
                      </a:lnTo>
                      <a:lnTo>
                        <a:pt x="20" y="16"/>
                      </a:lnTo>
                      <a:lnTo>
                        <a:pt x="16" y="19"/>
                      </a:lnTo>
                      <a:lnTo>
                        <a:pt x="10" y="22"/>
                      </a:lnTo>
                      <a:lnTo>
                        <a:pt x="7" y="28"/>
                      </a:lnTo>
                      <a:lnTo>
                        <a:pt x="4" y="32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8"/>
                      </a:lnTo>
                      <a:lnTo>
                        <a:pt x="4" y="54"/>
                      </a:lnTo>
                      <a:lnTo>
                        <a:pt x="4" y="60"/>
                      </a:lnTo>
                      <a:lnTo>
                        <a:pt x="10" y="67"/>
                      </a:lnTo>
                      <a:lnTo>
                        <a:pt x="13" y="73"/>
                      </a:lnTo>
                      <a:lnTo>
                        <a:pt x="20" y="79"/>
                      </a:lnTo>
                      <a:lnTo>
                        <a:pt x="26" y="83"/>
                      </a:lnTo>
                      <a:lnTo>
                        <a:pt x="32" y="89"/>
                      </a:lnTo>
                      <a:lnTo>
                        <a:pt x="42" y="92"/>
                      </a:lnTo>
                      <a:lnTo>
                        <a:pt x="48" y="99"/>
                      </a:lnTo>
                      <a:lnTo>
                        <a:pt x="58" y="102"/>
                      </a:lnTo>
                      <a:lnTo>
                        <a:pt x="67" y="105"/>
                      </a:lnTo>
                      <a:lnTo>
                        <a:pt x="74" y="108"/>
                      </a:lnTo>
                      <a:lnTo>
                        <a:pt x="83" y="111"/>
                      </a:lnTo>
                      <a:lnTo>
                        <a:pt x="93" y="115"/>
                      </a:lnTo>
                      <a:lnTo>
                        <a:pt x="99" y="118"/>
                      </a:lnTo>
                      <a:lnTo>
                        <a:pt x="109" y="121"/>
                      </a:lnTo>
                      <a:lnTo>
                        <a:pt x="118" y="121"/>
                      </a:lnTo>
                      <a:lnTo>
                        <a:pt x="128" y="124"/>
                      </a:lnTo>
                      <a:lnTo>
                        <a:pt x="138" y="127"/>
                      </a:lnTo>
                      <a:lnTo>
                        <a:pt x="150" y="130"/>
                      </a:lnTo>
                      <a:lnTo>
                        <a:pt x="163" y="134"/>
                      </a:lnTo>
                      <a:lnTo>
                        <a:pt x="176" y="137"/>
                      </a:lnTo>
                      <a:lnTo>
                        <a:pt x="189" y="140"/>
                      </a:lnTo>
                      <a:lnTo>
                        <a:pt x="201" y="143"/>
                      </a:lnTo>
                      <a:lnTo>
                        <a:pt x="214" y="146"/>
                      </a:lnTo>
                      <a:lnTo>
                        <a:pt x="227" y="150"/>
                      </a:lnTo>
                      <a:lnTo>
                        <a:pt x="240" y="153"/>
                      </a:lnTo>
                      <a:lnTo>
                        <a:pt x="252" y="156"/>
                      </a:lnTo>
                      <a:lnTo>
                        <a:pt x="265" y="156"/>
                      </a:lnTo>
                      <a:lnTo>
                        <a:pt x="275" y="159"/>
                      </a:lnTo>
                      <a:lnTo>
                        <a:pt x="287" y="162"/>
                      </a:lnTo>
                      <a:lnTo>
                        <a:pt x="297" y="162"/>
                      </a:lnTo>
                      <a:lnTo>
                        <a:pt x="319" y="166"/>
                      </a:lnTo>
                      <a:lnTo>
                        <a:pt x="342" y="172"/>
                      </a:lnTo>
                      <a:lnTo>
                        <a:pt x="364" y="175"/>
                      </a:lnTo>
                      <a:lnTo>
                        <a:pt x="383" y="178"/>
                      </a:lnTo>
                      <a:lnTo>
                        <a:pt x="402" y="181"/>
                      </a:lnTo>
                      <a:lnTo>
                        <a:pt x="421" y="185"/>
                      </a:lnTo>
                      <a:lnTo>
                        <a:pt x="440" y="188"/>
                      </a:lnTo>
                      <a:lnTo>
                        <a:pt x="456" y="191"/>
                      </a:lnTo>
                      <a:lnTo>
                        <a:pt x="472" y="191"/>
                      </a:lnTo>
                      <a:lnTo>
                        <a:pt x="488" y="194"/>
                      </a:lnTo>
                      <a:lnTo>
                        <a:pt x="501" y="197"/>
                      </a:lnTo>
                      <a:lnTo>
                        <a:pt x="514" y="197"/>
                      </a:lnTo>
                      <a:lnTo>
                        <a:pt x="530" y="201"/>
                      </a:lnTo>
                      <a:lnTo>
                        <a:pt x="539" y="201"/>
                      </a:lnTo>
                      <a:lnTo>
                        <a:pt x="552" y="204"/>
                      </a:lnTo>
                      <a:lnTo>
                        <a:pt x="565" y="204"/>
                      </a:lnTo>
                      <a:lnTo>
                        <a:pt x="574" y="204"/>
                      </a:lnTo>
                      <a:lnTo>
                        <a:pt x="584" y="207"/>
                      </a:lnTo>
                      <a:lnTo>
                        <a:pt x="593" y="207"/>
                      </a:lnTo>
                      <a:lnTo>
                        <a:pt x="603" y="207"/>
                      </a:lnTo>
                      <a:lnTo>
                        <a:pt x="612" y="210"/>
                      </a:lnTo>
                      <a:lnTo>
                        <a:pt x="622" y="210"/>
                      </a:lnTo>
                      <a:lnTo>
                        <a:pt x="628" y="210"/>
                      </a:lnTo>
                      <a:lnTo>
                        <a:pt x="638" y="210"/>
                      </a:lnTo>
                      <a:lnTo>
                        <a:pt x="644" y="210"/>
                      </a:lnTo>
                      <a:lnTo>
                        <a:pt x="651" y="210"/>
                      </a:lnTo>
                      <a:lnTo>
                        <a:pt x="657" y="210"/>
                      </a:lnTo>
                      <a:lnTo>
                        <a:pt x="667" y="210"/>
                      </a:lnTo>
                      <a:lnTo>
                        <a:pt x="673" y="210"/>
                      </a:lnTo>
                      <a:lnTo>
                        <a:pt x="679" y="210"/>
                      </a:lnTo>
                      <a:lnTo>
                        <a:pt x="686" y="210"/>
                      </a:lnTo>
                      <a:lnTo>
                        <a:pt x="692" y="210"/>
                      </a:lnTo>
                      <a:lnTo>
                        <a:pt x="711" y="210"/>
                      </a:lnTo>
                      <a:lnTo>
                        <a:pt x="727" y="210"/>
                      </a:lnTo>
                      <a:lnTo>
                        <a:pt x="740" y="207"/>
                      </a:lnTo>
                      <a:lnTo>
                        <a:pt x="746" y="201"/>
                      </a:lnTo>
                      <a:lnTo>
                        <a:pt x="746" y="197"/>
                      </a:lnTo>
                      <a:lnTo>
                        <a:pt x="743" y="191"/>
                      </a:lnTo>
                      <a:lnTo>
                        <a:pt x="740" y="181"/>
                      </a:lnTo>
                      <a:lnTo>
                        <a:pt x="730" y="175"/>
                      </a:lnTo>
                      <a:lnTo>
                        <a:pt x="721" y="169"/>
                      </a:lnTo>
                      <a:lnTo>
                        <a:pt x="708" y="159"/>
                      </a:lnTo>
                      <a:lnTo>
                        <a:pt x="695" y="153"/>
                      </a:lnTo>
                      <a:lnTo>
                        <a:pt x="686" y="146"/>
                      </a:lnTo>
                      <a:lnTo>
                        <a:pt x="673" y="140"/>
                      </a:lnTo>
                      <a:lnTo>
                        <a:pt x="660" y="134"/>
                      </a:lnTo>
                      <a:lnTo>
                        <a:pt x="651" y="127"/>
                      </a:lnTo>
                      <a:lnTo>
                        <a:pt x="644" y="124"/>
                      </a:lnTo>
                      <a:close/>
                    </a:path>
                  </a:pathLst>
                </a:custGeom>
                <a:solidFill>
                  <a:srgbClr val="66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310440" y="3363480"/>
                  <a:ext cx="583560" cy="172440"/>
                </a:xfrm>
                <a:custGeom>
                  <a:avLst/>
                  <a:gdLst/>
                  <a:ahLst/>
                  <a:rect l="l" t="t" r="r" b="b"/>
                  <a:pathLst>
                    <a:path w="685" h="191">
                      <a:moveTo>
                        <a:pt x="612" y="118"/>
                      </a:moveTo>
                      <a:lnTo>
                        <a:pt x="609" y="115"/>
                      </a:lnTo>
                      <a:lnTo>
                        <a:pt x="606" y="115"/>
                      </a:lnTo>
                      <a:lnTo>
                        <a:pt x="599" y="112"/>
                      </a:lnTo>
                      <a:lnTo>
                        <a:pt x="596" y="112"/>
                      </a:lnTo>
                      <a:lnTo>
                        <a:pt x="590" y="108"/>
                      </a:lnTo>
                      <a:lnTo>
                        <a:pt x="583" y="105"/>
                      </a:lnTo>
                      <a:lnTo>
                        <a:pt x="577" y="105"/>
                      </a:lnTo>
                      <a:lnTo>
                        <a:pt x="574" y="102"/>
                      </a:lnTo>
                      <a:lnTo>
                        <a:pt x="567" y="99"/>
                      </a:lnTo>
                      <a:lnTo>
                        <a:pt x="558" y="99"/>
                      </a:lnTo>
                      <a:lnTo>
                        <a:pt x="551" y="96"/>
                      </a:lnTo>
                      <a:lnTo>
                        <a:pt x="545" y="92"/>
                      </a:lnTo>
                      <a:lnTo>
                        <a:pt x="539" y="92"/>
                      </a:lnTo>
                      <a:lnTo>
                        <a:pt x="529" y="89"/>
                      </a:lnTo>
                      <a:lnTo>
                        <a:pt x="523" y="86"/>
                      </a:lnTo>
                      <a:lnTo>
                        <a:pt x="513" y="83"/>
                      </a:lnTo>
                      <a:lnTo>
                        <a:pt x="504" y="83"/>
                      </a:lnTo>
                      <a:lnTo>
                        <a:pt x="497" y="80"/>
                      </a:lnTo>
                      <a:lnTo>
                        <a:pt x="488" y="76"/>
                      </a:lnTo>
                      <a:lnTo>
                        <a:pt x="478" y="73"/>
                      </a:lnTo>
                      <a:lnTo>
                        <a:pt x="469" y="73"/>
                      </a:lnTo>
                      <a:lnTo>
                        <a:pt x="459" y="70"/>
                      </a:lnTo>
                      <a:lnTo>
                        <a:pt x="449" y="67"/>
                      </a:lnTo>
                      <a:lnTo>
                        <a:pt x="440" y="64"/>
                      </a:lnTo>
                      <a:lnTo>
                        <a:pt x="427" y="61"/>
                      </a:lnTo>
                      <a:lnTo>
                        <a:pt x="418" y="57"/>
                      </a:lnTo>
                      <a:lnTo>
                        <a:pt x="408" y="57"/>
                      </a:lnTo>
                      <a:lnTo>
                        <a:pt x="395" y="54"/>
                      </a:lnTo>
                      <a:lnTo>
                        <a:pt x="386" y="51"/>
                      </a:lnTo>
                      <a:lnTo>
                        <a:pt x="373" y="48"/>
                      </a:lnTo>
                      <a:lnTo>
                        <a:pt x="363" y="45"/>
                      </a:lnTo>
                      <a:lnTo>
                        <a:pt x="351" y="41"/>
                      </a:lnTo>
                      <a:lnTo>
                        <a:pt x="341" y="41"/>
                      </a:lnTo>
                      <a:lnTo>
                        <a:pt x="332" y="38"/>
                      </a:lnTo>
                      <a:lnTo>
                        <a:pt x="322" y="35"/>
                      </a:lnTo>
                      <a:lnTo>
                        <a:pt x="312" y="35"/>
                      </a:lnTo>
                      <a:lnTo>
                        <a:pt x="303" y="32"/>
                      </a:lnTo>
                      <a:lnTo>
                        <a:pt x="293" y="29"/>
                      </a:lnTo>
                      <a:lnTo>
                        <a:pt x="284" y="29"/>
                      </a:lnTo>
                      <a:lnTo>
                        <a:pt x="274" y="25"/>
                      </a:lnTo>
                      <a:lnTo>
                        <a:pt x="265" y="25"/>
                      </a:lnTo>
                      <a:lnTo>
                        <a:pt x="255" y="22"/>
                      </a:lnTo>
                      <a:lnTo>
                        <a:pt x="245" y="19"/>
                      </a:lnTo>
                      <a:lnTo>
                        <a:pt x="236" y="19"/>
                      </a:lnTo>
                      <a:lnTo>
                        <a:pt x="226" y="16"/>
                      </a:lnTo>
                      <a:lnTo>
                        <a:pt x="217" y="16"/>
                      </a:lnTo>
                      <a:lnTo>
                        <a:pt x="207" y="13"/>
                      </a:lnTo>
                      <a:lnTo>
                        <a:pt x="198" y="13"/>
                      </a:lnTo>
                      <a:lnTo>
                        <a:pt x="185" y="13"/>
                      </a:lnTo>
                      <a:lnTo>
                        <a:pt x="175" y="9"/>
                      </a:lnTo>
                      <a:lnTo>
                        <a:pt x="169" y="9"/>
                      </a:lnTo>
                      <a:lnTo>
                        <a:pt x="159" y="6"/>
                      </a:lnTo>
                      <a:lnTo>
                        <a:pt x="150" y="6"/>
                      </a:lnTo>
                      <a:lnTo>
                        <a:pt x="140" y="6"/>
                      </a:lnTo>
                      <a:lnTo>
                        <a:pt x="131" y="3"/>
                      </a:lnTo>
                      <a:lnTo>
                        <a:pt x="121" y="3"/>
                      </a:lnTo>
                      <a:lnTo>
                        <a:pt x="115" y="3"/>
                      </a:lnTo>
                      <a:lnTo>
                        <a:pt x="105" y="3"/>
                      </a:lnTo>
                      <a:lnTo>
                        <a:pt x="96" y="0"/>
                      </a:lnTo>
                      <a:lnTo>
                        <a:pt x="89" y="0"/>
                      </a:lnTo>
                      <a:lnTo>
                        <a:pt x="80" y="0"/>
                      </a:lnTo>
                      <a:lnTo>
                        <a:pt x="73" y="0"/>
                      </a:lnTo>
                      <a:lnTo>
                        <a:pt x="67" y="0"/>
                      </a:lnTo>
                      <a:lnTo>
                        <a:pt x="61" y="0"/>
                      </a:lnTo>
                      <a:lnTo>
                        <a:pt x="54" y="0"/>
                      </a:lnTo>
                      <a:lnTo>
                        <a:pt x="48" y="3"/>
                      </a:lnTo>
                      <a:lnTo>
                        <a:pt x="41" y="3"/>
                      </a:lnTo>
                      <a:lnTo>
                        <a:pt x="38" y="6"/>
                      </a:lnTo>
                      <a:lnTo>
                        <a:pt x="32" y="9"/>
                      </a:lnTo>
                      <a:lnTo>
                        <a:pt x="25" y="9"/>
                      </a:lnTo>
                      <a:lnTo>
                        <a:pt x="22" y="13"/>
                      </a:lnTo>
                      <a:lnTo>
                        <a:pt x="16" y="16"/>
                      </a:lnTo>
                      <a:lnTo>
                        <a:pt x="13" y="19"/>
                      </a:lnTo>
                      <a:lnTo>
                        <a:pt x="10" y="22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5"/>
                      </a:lnTo>
                      <a:lnTo>
                        <a:pt x="0" y="51"/>
                      </a:lnTo>
                      <a:lnTo>
                        <a:pt x="3" y="57"/>
                      </a:lnTo>
                      <a:lnTo>
                        <a:pt x="6" y="64"/>
                      </a:lnTo>
                      <a:lnTo>
                        <a:pt x="10" y="70"/>
                      </a:lnTo>
                      <a:lnTo>
                        <a:pt x="16" y="76"/>
                      </a:lnTo>
                      <a:lnTo>
                        <a:pt x="22" y="80"/>
                      </a:lnTo>
                      <a:lnTo>
                        <a:pt x="29" y="86"/>
                      </a:lnTo>
                      <a:lnTo>
                        <a:pt x="38" y="89"/>
                      </a:lnTo>
                      <a:lnTo>
                        <a:pt x="45" y="96"/>
                      </a:lnTo>
                      <a:lnTo>
                        <a:pt x="54" y="99"/>
                      </a:lnTo>
                      <a:lnTo>
                        <a:pt x="64" y="102"/>
                      </a:lnTo>
                      <a:lnTo>
                        <a:pt x="73" y="105"/>
                      </a:lnTo>
                      <a:lnTo>
                        <a:pt x="80" y="108"/>
                      </a:lnTo>
                      <a:lnTo>
                        <a:pt x="89" y="112"/>
                      </a:lnTo>
                      <a:lnTo>
                        <a:pt x="99" y="115"/>
                      </a:lnTo>
                      <a:lnTo>
                        <a:pt x="105" y="118"/>
                      </a:lnTo>
                      <a:lnTo>
                        <a:pt x="115" y="118"/>
                      </a:lnTo>
                      <a:lnTo>
                        <a:pt x="121" y="121"/>
                      </a:lnTo>
                      <a:lnTo>
                        <a:pt x="131" y="124"/>
                      </a:lnTo>
                      <a:lnTo>
                        <a:pt x="140" y="127"/>
                      </a:lnTo>
                      <a:lnTo>
                        <a:pt x="150" y="127"/>
                      </a:lnTo>
                      <a:lnTo>
                        <a:pt x="159" y="131"/>
                      </a:lnTo>
                      <a:lnTo>
                        <a:pt x="172" y="134"/>
                      </a:lnTo>
                      <a:lnTo>
                        <a:pt x="182" y="137"/>
                      </a:lnTo>
                      <a:lnTo>
                        <a:pt x="194" y="137"/>
                      </a:lnTo>
                      <a:lnTo>
                        <a:pt x="204" y="140"/>
                      </a:lnTo>
                      <a:lnTo>
                        <a:pt x="217" y="143"/>
                      </a:lnTo>
                      <a:lnTo>
                        <a:pt x="226" y="147"/>
                      </a:lnTo>
                      <a:lnTo>
                        <a:pt x="239" y="147"/>
                      </a:lnTo>
                      <a:lnTo>
                        <a:pt x="249" y="150"/>
                      </a:lnTo>
                      <a:lnTo>
                        <a:pt x="258" y="150"/>
                      </a:lnTo>
                      <a:lnTo>
                        <a:pt x="268" y="153"/>
                      </a:lnTo>
                      <a:lnTo>
                        <a:pt x="274" y="153"/>
                      </a:lnTo>
                      <a:lnTo>
                        <a:pt x="296" y="156"/>
                      </a:lnTo>
                      <a:lnTo>
                        <a:pt x="316" y="159"/>
                      </a:lnTo>
                      <a:lnTo>
                        <a:pt x="335" y="166"/>
                      </a:lnTo>
                      <a:lnTo>
                        <a:pt x="354" y="169"/>
                      </a:lnTo>
                      <a:lnTo>
                        <a:pt x="370" y="169"/>
                      </a:lnTo>
                      <a:lnTo>
                        <a:pt x="386" y="172"/>
                      </a:lnTo>
                      <a:lnTo>
                        <a:pt x="402" y="175"/>
                      </a:lnTo>
                      <a:lnTo>
                        <a:pt x="418" y="178"/>
                      </a:lnTo>
                      <a:lnTo>
                        <a:pt x="430" y="178"/>
                      </a:lnTo>
                      <a:lnTo>
                        <a:pt x="446" y="182"/>
                      </a:lnTo>
                      <a:lnTo>
                        <a:pt x="459" y="182"/>
                      </a:lnTo>
                      <a:lnTo>
                        <a:pt x="469" y="185"/>
                      </a:lnTo>
                      <a:lnTo>
                        <a:pt x="481" y="185"/>
                      </a:lnTo>
                      <a:lnTo>
                        <a:pt x="491" y="185"/>
                      </a:lnTo>
                      <a:lnTo>
                        <a:pt x="504" y="188"/>
                      </a:lnTo>
                      <a:lnTo>
                        <a:pt x="513" y="188"/>
                      </a:lnTo>
                      <a:lnTo>
                        <a:pt x="523" y="188"/>
                      </a:lnTo>
                      <a:lnTo>
                        <a:pt x="532" y="191"/>
                      </a:lnTo>
                      <a:lnTo>
                        <a:pt x="542" y="191"/>
                      </a:lnTo>
                      <a:lnTo>
                        <a:pt x="548" y="191"/>
                      </a:lnTo>
                      <a:lnTo>
                        <a:pt x="558" y="191"/>
                      </a:lnTo>
                      <a:lnTo>
                        <a:pt x="564" y="191"/>
                      </a:lnTo>
                      <a:lnTo>
                        <a:pt x="571" y="191"/>
                      </a:lnTo>
                      <a:lnTo>
                        <a:pt x="580" y="191"/>
                      </a:lnTo>
                      <a:lnTo>
                        <a:pt x="587" y="191"/>
                      </a:lnTo>
                      <a:lnTo>
                        <a:pt x="593" y="191"/>
                      </a:lnTo>
                      <a:lnTo>
                        <a:pt x="599" y="191"/>
                      </a:lnTo>
                      <a:lnTo>
                        <a:pt x="606" y="191"/>
                      </a:lnTo>
                      <a:lnTo>
                        <a:pt x="612" y="191"/>
                      </a:lnTo>
                      <a:lnTo>
                        <a:pt x="618" y="191"/>
                      </a:lnTo>
                      <a:lnTo>
                        <a:pt x="625" y="191"/>
                      </a:lnTo>
                      <a:lnTo>
                        <a:pt x="631" y="191"/>
                      </a:lnTo>
                      <a:lnTo>
                        <a:pt x="654" y="191"/>
                      </a:lnTo>
                      <a:lnTo>
                        <a:pt x="666" y="191"/>
                      </a:lnTo>
                      <a:lnTo>
                        <a:pt x="676" y="188"/>
                      </a:lnTo>
                      <a:lnTo>
                        <a:pt x="682" y="182"/>
                      </a:lnTo>
                      <a:lnTo>
                        <a:pt x="685" y="178"/>
                      </a:lnTo>
                      <a:lnTo>
                        <a:pt x="685" y="172"/>
                      </a:lnTo>
                      <a:lnTo>
                        <a:pt x="682" y="166"/>
                      </a:lnTo>
                      <a:lnTo>
                        <a:pt x="676" y="159"/>
                      </a:lnTo>
                      <a:lnTo>
                        <a:pt x="669" y="153"/>
                      </a:lnTo>
                      <a:lnTo>
                        <a:pt x="660" y="147"/>
                      </a:lnTo>
                      <a:lnTo>
                        <a:pt x="650" y="140"/>
                      </a:lnTo>
                      <a:lnTo>
                        <a:pt x="641" y="134"/>
                      </a:lnTo>
                      <a:lnTo>
                        <a:pt x="634" y="127"/>
                      </a:lnTo>
                      <a:lnTo>
                        <a:pt x="625" y="124"/>
                      </a:lnTo>
                      <a:lnTo>
                        <a:pt x="618" y="121"/>
                      </a:lnTo>
                      <a:lnTo>
                        <a:pt x="612" y="118"/>
                      </a:lnTo>
                      <a:close/>
                    </a:path>
                  </a:pathLst>
                </a:custGeom>
                <a:solidFill>
                  <a:srgbClr val="5e63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6315840" y="3366000"/>
                  <a:ext cx="538560" cy="155160"/>
                </a:xfrm>
                <a:custGeom>
                  <a:avLst/>
                  <a:gdLst/>
                  <a:ahLst/>
                  <a:rect l="l" t="t" r="r" b="b"/>
                  <a:pathLst>
                    <a:path w="632" h="172">
                      <a:moveTo>
                        <a:pt x="587" y="109"/>
                      </a:moveTo>
                      <a:lnTo>
                        <a:pt x="584" y="109"/>
                      </a:lnTo>
                      <a:lnTo>
                        <a:pt x="581" y="105"/>
                      </a:lnTo>
                      <a:lnTo>
                        <a:pt x="574" y="105"/>
                      </a:lnTo>
                      <a:lnTo>
                        <a:pt x="568" y="102"/>
                      </a:lnTo>
                      <a:lnTo>
                        <a:pt x="565" y="102"/>
                      </a:lnTo>
                      <a:lnTo>
                        <a:pt x="558" y="99"/>
                      </a:lnTo>
                      <a:lnTo>
                        <a:pt x="552" y="96"/>
                      </a:lnTo>
                      <a:lnTo>
                        <a:pt x="545" y="96"/>
                      </a:lnTo>
                      <a:lnTo>
                        <a:pt x="539" y="93"/>
                      </a:lnTo>
                      <a:lnTo>
                        <a:pt x="533" y="89"/>
                      </a:lnTo>
                      <a:lnTo>
                        <a:pt x="526" y="89"/>
                      </a:lnTo>
                      <a:lnTo>
                        <a:pt x="517" y="86"/>
                      </a:lnTo>
                      <a:lnTo>
                        <a:pt x="510" y="83"/>
                      </a:lnTo>
                      <a:lnTo>
                        <a:pt x="501" y="80"/>
                      </a:lnTo>
                      <a:lnTo>
                        <a:pt x="494" y="80"/>
                      </a:lnTo>
                      <a:lnTo>
                        <a:pt x="485" y="77"/>
                      </a:lnTo>
                      <a:lnTo>
                        <a:pt x="475" y="73"/>
                      </a:lnTo>
                      <a:lnTo>
                        <a:pt x="469" y="70"/>
                      </a:lnTo>
                      <a:lnTo>
                        <a:pt x="459" y="70"/>
                      </a:lnTo>
                      <a:lnTo>
                        <a:pt x="450" y="67"/>
                      </a:lnTo>
                      <a:lnTo>
                        <a:pt x="440" y="64"/>
                      </a:lnTo>
                      <a:lnTo>
                        <a:pt x="431" y="61"/>
                      </a:lnTo>
                      <a:lnTo>
                        <a:pt x="418" y="58"/>
                      </a:lnTo>
                      <a:lnTo>
                        <a:pt x="408" y="58"/>
                      </a:lnTo>
                      <a:lnTo>
                        <a:pt x="399" y="54"/>
                      </a:lnTo>
                      <a:lnTo>
                        <a:pt x="386" y="51"/>
                      </a:lnTo>
                      <a:lnTo>
                        <a:pt x="377" y="48"/>
                      </a:lnTo>
                      <a:lnTo>
                        <a:pt x="364" y="45"/>
                      </a:lnTo>
                      <a:lnTo>
                        <a:pt x="354" y="42"/>
                      </a:lnTo>
                      <a:lnTo>
                        <a:pt x="341" y="38"/>
                      </a:lnTo>
                      <a:lnTo>
                        <a:pt x="329" y="38"/>
                      </a:lnTo>
                      <a:lnTo>
                        <a:pt x="319" y="35"/>
                      </a:lnTo>
                      <a:lnTo>
                        <a:pt x="310" y="32"/>
                      </a:lnTo>
                      <a:lnTo>
                        <a:pt x="300" y="29"/>
                      </a:lnTo>
                      <a:lnTo>
                        <a:pt x="290" y="29"/>
                      </a:lnTo>
                      <a:lnTo>
                        <a:pt x="281" y="26"/>
                      </a:lnTo>
                      <a:lnTo>
                        <a:pt x="275" y="26"/>
                      </a:lnTo>
                      <a:lnTo>
                        <a:pt x="265" y="22"/>
                      </a:lnTo>
                      <a:lnTo>
                        <a:pt x="255" y="22"/>
                      </a:lnTo>
                      <a:lnTo>
                        <a:pt x="246" y="19"/>
                      </a:lnTo>
                      <a:lnTo>
                        <a:pt x="236" y="19"/>
                      </a:lnTo>
                      <a:lnTo>
                        <a:pt x="227" y="16"/>
                      </a:lnTo>
                      <a:lnTo>
                        <a:pt x="217" y="16"/>
                      </a:lnTo>
                      <a:lnTo>
                        <a:pt x="208" y="13"/>
                      </a:lnTo>
                      <a:lnTo>
                        <a:pt x="198" y="13"/>
                      </a:lnTo>
                      <a:lnTo>
                        <a:pt x="192" y="10"/>
                      </a:lnTo>
                      <a:lnTo>
                        <a:pt x="182" y="10"/>
                      </a:lnTo>
                      <a:lnTo>
                        <a:pt x="173" y="6"/>
                      </a:lnTo>
                      <a:lnTo>
                        <a:pt x="163" y="6"/>
                      </a:lnTo>
                      <a:lnTo>
                        <a:pt x="153" y="6"/>
                      </a:lnTo>
                      <a:lnTo>
                        <a:pt x="144" y="6"/>
                      </a:lnTo>
                      <a:lnTo>
                        <a:pt x="137" y="3"/>
                      </a:lnTo>
                      <a:lnTo>
                        <a:pt x="128" y="3"/>
                      </a:lnTo>
                      <a:lnTo>
                        <a:pt x="118" y="3"/>
                      </a:lnTo>
                      <a:lnTo>
                        <a:pt x="112" y="3"/>
                      </a:lnTo>
                      <a:lnTo>
                        <a:pt x="102" y="3"/>
                      </a:lnTo>
                      <a:lnTo>
                        <a:pt x="93" y="0"/>
                      </a:lnTo>
                      <a:lnTo>
                        <a:pt x="86" y="0"/>
                      </a:lnTo>
                      <a:lnTo>
                        <a:pt x="80" y="0"/>
                      </a:lnTo>
                      <a:lnTo>
                        <a:pt x="70" y="0"/>
                      </a:lnTo>
                      <a:lnTo>
                        <a:pt x="64" y="0"/>
                      </a:lnTo>
                      <a:lnTo>
                        <a:pt x="58" y="0"/>
                      </a:lnTo>
                      <a:lnTo>
                        <a:pt x="51" y="0"/>
                      </a:lnTo>
                      <a:lnTo>
                        <a:pt x="45" y="3"/>
                      </a:lnTo>
                      <a:lnTo>
                        <a:pt x="35" y="6"/>
                      </a:lnTo>
                      <a:lnTo>
                        <a:pt x="26" y="10"/>
                      </a:lnTo>
                      <a:lnTo>
                        <a:pt x="16" y="16"/>
                      </a:lnTo>
                      <a:lnTo>
                        <a:pt x="10" y="22"/>
                      </a:lnTo>
                      <a:lnTo>
                        <a:pt x="4" y="29"/>
                      </a:lnTo>
                      <a:lnTo>
                        <a:pt x="0" y="35"/>
                      </a:lnTo>
                      <a:lnTo>
                        <a:pt x="0" y="45"/>
                      </a:lnTo>
                      <a:lnTo>
                        <a:pt x="4" y="54"/>
                      </a:lnTo>
                      <a:lnTo>
                        <a:pt x="7" y="61"/>
                      </a:lnTo>
                      <a:lnTo>
                        <a:pt x="10" y="67"/>
                      </a:lnTo>
                      <a:lnTo>
                        <a:pt x="16" y="73"/>
                      </a:lnTo>
                      <a:lnTo>
                        <a:pt x="23" y="77"/>
                      </a:lnTo>
                      <a:lnTo>
                        <a:pt x="29" y="83"/>
                      </a:lnTo>
                      <a:lnTo>
                        <a:pt x="39" y="86"/>
                      </a:lnTo>
                      <a:lnTo>
                        <a:pt x="45" y="93"/>
                      </a:lnTo>
                      <a:lnTo>
                        <a:pt x="55" y="96"/>
                      </a:lnTo>
                      <a:lnTo>
                        <a:pt x="64" y="99"/>
                      </a:lnTo>
                      <a:lnTo>
                        <a:pt x="70" y="102"/>
                      </a:lnTo>
                      <a:lnTo>
                        <a:pt x="80" y="105"/>
                      </a:lnTo>
                      <a:lnTo>
                        <a:pt x="90" y="109"/>
                      </a:lnTo>
                      <a:lnTo>
                        <a:pt x="99" y="112"/>
                      </a:lnTo>
                      <a:lnTo>
                        <a:pt x="109" y="115"/>
                      </a:lnTo>
                      <a:lnTo>
                        <a:pt x="118" y="118"/>
                      </a:lnTo>
                      <a:lnTo>
                        <a:pt x="128" y="118"/>
                      </a:lnTo>
                      <a:lnTo>
                        <a:pt x="131" y="121"/>
                      </a:lnTo>
                      <a:lnTo>
                        <a:pt x="137" y="121"/>
                      </a:lnTo>
                      <a:lnTo>
                        <a:pt x="147" y="124"/>
                      </a:lnTo>
                      <a:lnTo>
                        <a:pt x="153" y="128"/>
                      </a:lnTo>
                      <a:lnTo>
                        <a:pt x="163" y="128"/>
                      </a:lnTo>
                      <a:lnTo>
                        <a:pt x="169" y="131"/>
                      </a:lnTo>
                      <a:lnTo>
                        <a:pt x="179" y="131"/>
                      </a:lnTo>
                      <a:lnTo>
                        <a:pt x="188" y="134"/>
                      </a:lnTo>
                      <a:lnTo>
                        <a:pt x="198" y="134"/>
                      </a:lnTo>
                      <a:lnTo>
                        <a:pt x="208" y="137"/>
                      </a:lnTo>
                      <a:lnTo>
                        <a:pt x="217" y="137"/>
                      </a:lnTo>
                      <a:lnTo>
                        <a:pt x="227" y="140"/>
                      </a:lnTo>
                      <a:lnTo>
                        <a:pt x="236" y="140"/>
                      </a:lnTo>
                      <a:lnTo>
                        <a:pt x="243" y="144"/>
                      </a:lnTo>
                      <a:lnTo>
                        <a:pt x="252" y="144"/>
                      </a:lnTo>
                      <a:lnTo>
                        <a:pt x="259" y="144"/>
                      </a:lnTo>
                      <a:lnTo>
                        <a:pt x="278" y="147"/>
                      </a:lnTo>
                      <a:lnTo>
                        <a:pt x="294" y="150"/>
                      </a:lnTo>
                      <a:lnTo>
                        <a:pt x="310" y="153"/>
                      </a:lnTo>
                      <a:lnTo>
                        <a:pt x="326" y="156"/>
                      </a:lnTo>
                      <a:lnTo>
                        <a:pt x="341" y="160"/>
                      </a:lnTo>
                      <a:lnTo>
                        <a:pt x="357" y="160"/>
                      </a:lnTo>
                      <a:lnTo>
                        <a:pt x="370" y="163"/>
                      </a:lnTo>
                      <a:lnTo>
                        <a:pt x="383" y="166"/>
                      </a:lnTo>
                      <a:lnTo>
                        <a:pt x="396" y="166"/>
                      </a:lnTo>
                      <a:lnTo>
                        <a:pt x="408" y="166"/>
                      </a:lnTo>
                      <a:lnTo>
                        <a:pt x="418" y="169"/>
                      </a:lnTo>
                      <a:lnTo>
                        <a:pt x="428" y="169"/>
                      </a:lnTo>
                      <a:lnTo>
                        <a:pt x="440" y="169"/>
                      </a:lnTo>
                      <a:lnTo>
                        <a:pt x="450" y="172"/>
                      </a:lnTo>
                      <a:lnTo>
                        <a:pt x="459" y="172"/>
                      </a:lnTo>
                      <a:lnTo>
                        <a:pt x="466" y="172"/>
                      </a:lnTo>
                      <a:lnTo>
                        <a:pt x="475" y="172"/>
                      </a:lnTo>
                      <a:lnTo>
                        <a:pt x="485" y="172"/>
                      </a:lnTo>
                      <a:lnTo>
                        <a:pt x="491" y="172"/>
                      </a:lnTo>
                      <a:lnTo>
                        <a:pt x="498" y="172"/>
                      </a:lnTo>
                      <a:lnTo>
                        <a:pt x="504" y="172"/>
                      </a:lnTo>
                      <a:lnTo>
                        <a:pt x="514" y="172"/>
                      </a:lnTo>
                      <a:lnTo>
                        <a:pt x="520" y="172"/>
                      </a:lnTo>
                      <a:lnTo>
                        <a:pt x="526" y="172"/>
                      </a:lnTo>
                      <a:lnTo>
                        <a:pt x="533" y="172"/>
                      </a:lnTo>
                      <a:lnTo>
                        <a:pt x="539" y="172"/>
                      </a:lnTo>
                      <a:lnTo>
                        <a:pt x="545" y="172"/>
                      </a:lnTo>
                      <a:lnTo>
                        <a:pt x="552" y="172"/>
                      </a:lnTo>
                      <a:lnTo>
                        <a:pt x="558" y="172"/>
                      </a:lnTo>
                      <a:lnTo>
                        <a:pt x="565" y="172"/>
                      </a:lnTo>
                      <a:lnTo>
                        <a:pt x="571" y="172"/>
                      </a:lnTo>
                      <a:lnTo>
                        <a:pt x="577" y="172"/>
                      </a:lnTo>
                      <a:lnTo>
                        <a:pt x="596" y="172"/>
                      </a:lnTo>
                      <a:lnTo>
                        <a:pt x="609" y="172"/>
                      </a:lnTo>
                      <a:lnTo>
                        <a:pt x="619" y="169"/>
                      </a:lnTo>
                      <a:lnTo>
                        <a:pt x="625" y="166"/>
                      </a:lnTo>
                      <a:lnTo>
                        <a:pt x="628" y="163"/>
                      </a:lnTo>
                      <a:lnTo>
                        <a:pt x="632" y="156"/>
                      </a:lnTo>
                      <a:lnTo>
                        <a:pt x="628" y="150"/>
                      </a:lnTo>
                      <a:lnTo>
                        <a:pt x="625" y="147"/>
                      </a:lnTo>
                      <a:lnTo>
                        <a:pt x="622" y="140"/>
                      </a:lnTo>
                      <a:lnTo>
                        <a:pt x="616" y="134"/>
                      </a:lnTo>
                      <a:lnTo>
                        <a:pt x="609" y="128"/>
                      </a:lnTo>
                      <a:lnTo>
                        <a:pt x="603" y="124"/>
                      </a:lnTo>
                      <a:lnTo>
                        <a:pt x="600" y="118"/>
                      </a:lnTo>
                      <a:lnTo>
                        <a:pt x="593" y="115"/>
                      </a:lnTo>
                      <a:lnTo>
                        <a:pt x="590" y="112"/>
                      </a:lnTo>
                      <a:lnTo>
                        <a:pt x="587" y="109"/>
                      </a:lnTo>
                      <a:close/>
                    </a:path>
                  </a:pathLst>
                </a:custGeom>
                <a:solidFill>
                  <a:srgbClr val="54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321960" y="3368520"/>
                  <a:ext cx="491400" cy="141840"/>
                </a:xfrm>
                <a:custGeom>
                  <a:avLst/>
                  <a:gdLst/>
                  <a:ahLst/>
                  <a:rect l="l" t="t" r="r" b="b"/>
                  <a:pathLst>
                    <a:path w="577" h="157">
                      <a:moveTo>
                        <a:pt x="561" y="102"/>
                      </a:moveTo>
                      <a:lnTo>
                        <a:pt x="558" y="99"/>
                      </a:lnTo>
                      <a:lnTo>
                        <a:pt x="551" y="99"/>
                      </a:lnTo>
                      <a:lnTo>
                        <a:pt x="548" y="96"/>
                      </a:lnTo>
                      <a:lnTo>
                        <a:pt x="542" y="96"/>
                      </a:lnTo>
                      <a:lnTo>
                        <a:pt x="535" y="93"/>
                      </a:lnTo>
                      <a:lnTo>
                        <a:pt x="529" y="93"/>
                      </a:lnTo>
                      <a:lnTo>
                        <a:pt x="523" y="90"/>
                      </a:lnTo>
                      <a:lnTo>
                        <a:pt x="516" y="86"/>
                      </a:lnTo>
                      <a:lnTo>
                        <a:pt x="510" y="86"/>
                      </a:lnTo>
                      <a:lnTo>
                        <a:pt x="503" y="83"/>
                      </a:lnTo>
                      <a:lnTo>
                        <a:pt x="497" y="80"/>
                      </a:lnTo>
                      <a:lnTo>
                        <a:pt x="487" y="77"/>
                      </a:lnTo>
                      <a:lnTo>
                        <a:pt x="481" y="77"/>
                      </a:lnTo>
                      <a:lnTo>
                        <a:pt x="472" y="74"/>
                      </a:lnTo>
                      <a:lnTo>
                        <a:pt x="465" y="70"/>
                      </a:lnTo>
                      <a:lnTo>
                        <a:pt x="456" y="70"/>
                      </a:lnTo>
                      <a:lnTo>
                        <a:pt x="446" y="67"/>
                      </a:lnTo>
                      <a:lnTo>
                        <a:pt x="440" y="64"/>
                      </a:lnTo>
                      <a:lnTo>
                        <a:pt x="430" y="61"/>
                      </a:lnTo>
                      <a:lnTo>
                        <a:pt x="421" y="58"/>
                      </a:lnTo>
                      <a:lnTo>
                        <a:pt x="411" y="58"/>
                      </a:lnTo>
                      <a:lnTo>
                        <a:pt x="398" y="55"/>
                      </a:lnTo>
                      <a:lnTo>
                        <a:pt x="389" y="51"/>
                      </a:lnTo>
                      <a:lnTo>
                        <a:pt x="379" y="48"/>
                      </a:lnTo>
                      <a:lnTo>
                        <a:pt x="366" y="45"/>
                      </a:lnTo>
                      <a:lnTo>
                        <a:pt x="357" y="42"/>
                      </a:lnTo>
                      <a:lnTo>
                        <a:pt x="344" y="42"/>
                      </a:lnTo>
                      <a:lnTo>
                        <a:pt x="331" y="39"/>
                      </a:lnTo>
                      <a:lnTo>
                        <a:pt x="322" y="35"/>
                      </a:lnTo>
                      <a:lnTo>
                        <a:pt x="309" y="32"/>
                      </a:lnTo>
                      <a:lnTo>
                        <a:pt x="296" y="29"/>
                      </a:lnTo>
                      <a:lnTo>
                        <a:pt x="283" y="26"/>
                      </a:lnTo>
                      <a:lnTo>
                        <a:pt x="274" y="26"/>
                      </a:lnTo>
                      <a:lnTo>
                        <a:pt x="268" y="23"/>
                      </a:lnTo>
                      <a:lnTo>
                        <a:pt x="258" y="23"/>
                      </a:lnTo>
                      <a:lnTo>
                        <a:pt x="252" y="19"/>
                      </a:lnTo>
                      <a:lnTo>
                        <a:pt x="242" y="19"/>
                      </a:lnTo>
                      <a:lnTo>
                        <a:pt x="232" y="16"/>
                      </a:lnTo>
                      <a:lnTo>
                        <a:pt x="226" y="16"/>
                      </a:lnTo>
                      <a:lnTo>
                        <a:pt x="217" y="13"/>
                      </a:lnTo>
                      <a:lnTo>
                        <a:pt x="207" y="13"/>
                      </a:lnTo>
                      <a:lnTo>
                        <a:pt x="201" y="10"/>
                      </a:lnTo>
                      <a:lnTo>
                        <a:pt x="191" y="10"/>
                      </a:lnTo>
                      <a:lnTo>
                        <a:pt x="181" y="10"/>
                      </a:lnTo>
                      <a:lnTo>
                        <a:pt x="172" y="7"/>
                      </a:lnTo>
                      <a:lnTo>
                        <a:pt x="162" y="7"/>
                      </a:lnTo>
                      <a:lnTo>
                        <a:pt x="156" y="7"/>
                      </a:lnTo>
                      <a:lnTo>
                        <a:pt x="146" y="3"/>
                      </a:lnTo>
                      <a:lnTo>
                        <a:pt x="137" y="3"/>
                      </a:lnTo>
                      <a:lnTo>
                        <a:pt x="130" y="3"/>
                      </a:lnTo>
                      <a:lnTo>
                        <a:pt x="121" y="3"/>
                      </a:lnTo>
                      <a:lnTo>
                        <a:pt x="111" y="0"/>
                      </a:lnTo>
                      <a:lnTo>
                        <a:pt x="105" y="0"/>
                      </a:lnTo>
                      <a:lnTo>
                        <a:pt x="99" y="0"/>
                      </a:lnTo>
                      <a:lnTo>
                        <a:pt x="89" y="0"/>
                      </a:lnTo>
                      <a:lnTo>
                        <a:pt x="83" y="0"/>
                      </a:lnTo>
                      <a:lnTo>
                        <a:pt x="73" y="0"/>
                      </a:lnTo>
                      <a:lnTo>
                        <a:pt x="67" y="0"/>
                      </a:lnTo>
                      <a:lnTo>
                        <a:pt x="60" y="0"/>
                      </a:lnTo>
                      <a:lnTo>
                        <a:pt x="54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35" y="3"/>
                      </a:lnTo>
                      <a:lnTo>
                        <a:pt x="28" y="3"/>
                      </a:lnTo>
                      <a:lnTo>
                        <a:pt x="22" y="7"/>
                      </a:lnTo>
                      <a:lnTo>
                        <a:pt x="16" y="13"/>
                      </a:lnTo>
                      <a:lnTo>
                        <a:pt x="9" y="19"/>
                      </a:lnTo>
                      <a:lnTo>
                        <a:pt x="3" y="26"/>
                      </a:lnTo>
                      <a:lnTo>
                        <a:pt x="0" y="32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3" y="58"/>
                      </a:lnTo>
                      <a:lnTo>
                        <a:pt x="9" y="64"/>
                      </a:lnTo>
                      <a:lnTo>
                        <a:pt x="16" y="70"/>
                      </a:lnTo>
                      <a:lnTo>
                        <a:pt x="19" y="77"/>
                      </a:lnTo>
                      <a:lnTo>
                        <a:pt x="28" y="80"/>
                      </a:lnTo>
                      <a:lnTo>
                        <a:pt x="35" y="86"/>
                      </a:lnTo>
                      <a:lnTo>
                        <a:pt x="44" y="90"/>
                      </a:lnTo>
                      <a:lnTo>
                        <a:pt x="51" y="93"/>
                      </a:lnTo>
                      <a:lnTo>
                        <a:pt x="60" y="96"/>
                      </a:lnTo>
                      <a:lnTo>
                        <a:pt x="70" y="99"/>
                      </a:lnTo>
                      <a:lnTo>
                        <a:pt x="79" y="102"/>
                      </a:lnTo>
                      <a:lnTo>
                        <a:pt x="89" y="106"/>
                      </a:lnTo>
                      <a:lnTo>
                        <a:pt x="99" y="109"/>
                      </a:lnTo>
                      <a:lnTo>
                        <a:pt x="108" y="112"/>
                      </a:lnTo>
                      <a:lnTo>
                        <a:pt x="118" y="115"/>
                      </a:lnTo>
                      <a:lnTo>
                        <a:pt x="127" y="115"/>
                      </a:lnTo>
                      <a:lnTo>
                        <a:pt x="137" y="118"/>
                      </a:lnTo>
                      <a:lnTo>
                        <a:pt x="140" y="121"/>
                      </a:lnTo>
                      <a:lnTo>
                        <a:pt x="143" y="121"/>
                      </a:lnTo>
                      <a:lnTo>
                        <a:pt x="150" y="121"/>
                      </a:lnTo>
                      <a:lnTo>
                        <a:pt x="156" y="125"/>
                      </a:lnTo>
                      <a:lnTo>
                        <a:pt x="162" y="125"/>
                      </a:lnTo>
                      <a:lnTo>
                        <a:pt x="169" y="128"/>
                      </a:lnTo>
                      <a:lnTo>
                        <a:pt x="178" y="128"/>
                      </a:lnTo>
                      <a:lnTo>
                        <a:pt x="185" y="128"/>
                      </a:lnTo>
                      <a:lnTo>
                        <a:pt x="191" y="131"/>
                      </a:lnTo>
                      <a:lnTo>
                        <a:pt x="201" y="131"/>
                      </a:lnTo>
                      <a:lnTo>
                        <a:pt x="207" y="131"/>
                      </a:lnTo>
                      <a:lnTo>
                        <a:pt x="213" y="134"/>
                      </a:lnTo>
                      <a:lnTo>
                        <a:pt x="223" y="134"/>
                      </a:lnTo>
                      <a:lnTo>
                        <a:pt x="229" y="134"/>
                      </a:lnTo>
                      <a:lnTo>
                        <a:pt x="236" y="137"/>
                      </a:lnTo>
                      <a:lnTo>
                        <a:pt x="239" y="137"/>
                      </a:lnTo>
                      <a:lnTo>
                        <a:pt x="255" y="141"/>
                      </a:lnTo>
                      <a:lnTo>
                        <a:pt x="271" y="141"/>
                      </a:lnTo>
                      <a:lnTo>
                        <a:pt x="287" y="144"/>
                      </a:lnTo>
                      <a:lnTo>
                        <a:pt x="299" y="147"/>
                      </a:lnTo>
                      <a:lnTo>
                        <a:pt x="312" y="147"/>
                      </a:lnTo>
                      <a:lnTo>
                        <a:pt x="325" y="150"/>
                      </a:lnTo>
                      <a:lnTo>
                        <a:pt x="338" y="150"/>
                      </a:lnTo>
                      <a:lnTo>
                        <a:pt x="347" y="150"/>
                      </a:lnTo>
                      <a:lnTo>
                        <a:pt x="360" y="153"/>
                      </a:lnTo>
                      <a:lnTo>
                        <a:pt x="370" y="153"/>
                      </a:lnTo>
                      <a:lnTo>
                        <a:pt x="379" y="153"/>
                      </a:lnTo>
                      <a:lnTo>
                        <a:pt x="389" y="153"/>
                      </a:lnTo>
                      <a:lnTo>
                        <a:pt x="395" y="157"/>
                      </a:lnTo>
                      <a:lnTo>
                        <a:pt x="405" y="157"/>
                      </a:lnTo>
                      <a:lnTo>
                        <a:pt x="411" y="157"/>
                      </a:lnTo>
                      <a:lnTo>
                        <a:pt x="421" y="157"/>
                      </a:lnTo>
                      <a:lnTo>
                        <a:pt x="427" y="157"/>
                      </a:lnTo>
                      <a:lnTo>
                        <a:pt x="433" y="157"/>
                      </a:lnTo>
                      <a:lnTo>
                        <a:pt x="440" y="157"/>
                      </a:lnTo>
                      <a:lnTo>
                        <a:pt x="446" y="157"/>
                      </a:lnTo>
                      <a:lnTo>
                        <a:pt x="452" y="157"/>
                      </a:lnTo>
                      <a:lnTo>
                        <a:pt x="459" y="157"/>
                      </a:lnTo>
                      <a:lnTo>
                        <a:pt x="465" y="157"/>
                      </a:lnTo>
                      <a:lnTo>
                        <a:pt x="472" y="153"/>
                      </a:lnTo>
                      <a:lnTo>
                        <a:pt x="478" y="153"/>
                      </a:lnTo>
                      <a:lnTo>
                        <a:pt x="484" y="153"/>
                      </a:lnTo>
                      <a:lnTo>
                        <a:pt x="491" y="153"/>
                      </a:lnTo>
                      <a:lnTo>
                        <a:pt x="494" y="153"/>
                      </a:lnTo>
                      <a:lnTo>
                        <a:pt x="500" y="153"/>
                      </a:lnTo>
                      <a:lnTo>
                        <a:pt x="507" y="153"/>
                      </a:lnTo>
                      <a:lnTo>
                        <a:pt x="513" y="153"/>
                      </a:lnTo>
                      <a:lnTo>
                        <a:pt x="519" y="153"/>
                      </a:lnTo>
                      <a:lnTo>
                        <a:pt x="535" y="153"/>
                      </a:lnTo>
                      <a:lnTo>
                        <a:pt x="551" y="153"/>
                      </a:lnTo>
                      <a:lnTo>
                        <a:pt x="561" y="150"/>
                      </a:lnTo>
                      <a:lnTo>
                        <a:pt x="567" y="147"/>
                      </a:lnTo>
                      <a:lnTo>
                        <a:pt x="574" y="144"/>
                      </a:lnTo>
                      <a:lnTo>
                        <a:pt x="574" y="141"/>
                      </a:lnTo>
                      <a:lnTo>
                        <a:pt x="577" y="134"/>
                      </a:lnTo>
                      <a:lnTo>
                        <a:pt x="574" y="131"/>
                      </a:lnTo>
                      <a:lnTo>
                        <a:pt x="574" y="125"/>
                      </a:lnTo>
                      <a:lnTo>
                        <a:pt x="570" y="121"/>
                      </a:lnTo>
                      <a:lnTo>
                        <a:pt x="567" y="118"/>
                      </a:lnTo>
                      <a:lnTo>
                        <a:pt x="564" y="112"/>
                      </a:lnTo>
                      <a:lnTo>
                        <a:pt x="561" y="109"/>
                      </a:lnTo>
                      <a:lnTo>
                        <a:pt x="561" y="106"/>
                      </a:lnTo>
                      <a:lnTo>
                        <a:pt x="561" y="102"/>
                      </a:lnTo>
                      <a:lnTo>
                        <a:pt x="561" y="102"/>
                      </a:lnTo>
                      <a:close/>
                    </a:path>
                  </a:pathLst>
                </a:custGeom>
                <a:solidFill>
                  <a:srgbClr val="4d52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324480" y="3368520"/>
                  <a:ext cx="459360" cy="129960"/>
                </a:xfrm>
                <a:custGeom>
                  <a:avLst/>
                  <a:gdLst/>
                  <a:ahLst/>
                  <a:rect l="l" t="t" r="r" b="b"/>
                  <a:pathLst>
                    <a:path w="539" h="144">
                      <a:moveTo>
                        <a:pt x="539" y="99"/>
                      </a:moveTo>
                      <a:lnTo>
                        <a:pt x="535" y="96"/>
                      </a:lnTo>
                      <a:lnTo>
                        <a:pt x="529" y="96"/>
                      </a:lnTo>
                      <a:lnTo>
                        <a:pt x="523" y="93"/>
                      </a:lnTo>
                      <a:lnTo>
                        <a:pt x="520" y="90"/>
                      </a:lnTo>
                      <a:lnTo>
                        <a:pt x="513" y="90"/>
                      </a:lnTo>
                      <a:lnTo>
                        <a:pt x="507" y="86"/>
                      </a:lnTo>
                      <a:lnTo>
                        <a:pt x="500" y="86"/>
                      </a:lnTo>
                      <a:lnTo>
                        <a:pt x="494" y="83"/>
                      </a:lnTo>
                      <a:lnTo>
                        <a:pt x="488" y="80"/>
                      </a:lnTo>
                      <a:lnTo>
                        <a:pt x="478" y="77"/>
                      </a:lnTo>
                      <a:lnTo>
                        <a:pt x="472" y="77"/>
                      </a:lnTo>
                      <a:lnTo>
                        <a:pt x="465" y="74"/>
                      </a:lnTo>
                      <a:lnTo>
                        <a:pt x="456" y="70"/>
                      </a:lnTo>
                      <a:lnTo>
                        <a:pt x="449" y="70"/>
                      </a:lnTo>
                      <a:lnTo>
                        <a:pt x="440" y="67"/>
                      </a:lnTo>
                      <a:lnTo>
                        <a:pt x="430" y="64"/>
                      </a:lnTo>
                      <a:lnTo>
                        <a:pt x="421" y="61"/>
                      </a:lnTo>
                      <a:lnTo>
                        <a:pt x="411" y="61"/>
                      </a:lnTo>
                      <a:lnTo>
                        <a:pt x="402" y="58"/>
                      </a:lnTo>
                      <a:lnTo>
                        <a:pt x="392" y="55"/>
                      </a:lnTo>
                      <a:lnTo>
                        <a:pt x="382" y="51"/>
                      </a:lnTo>
                      <a:lnTo>
                        <a:pt x="373" y="48"/>
                      </a:lnTo>
                      <a:lnTo>
                        <a:pt x="363" y="45"/>
                      </a:lnTo>
                      <a:lnTo>
                        <a:pt x="351" y="45"/>
                      </a:lnTo>
                      <a:lnTo>
                        <a:pt x="341" y="42"/>
                      </a:lnTo>
                      <a:lnTo>
                        <a:pt x="328" y="39"/>
                      </a:lnTo>
                      <a:lnTo>
                        <a:pt x="316" y="35"/>
                      </a:lnTo>
                      <a:lnTo>
                        <a:pt x="303" y="32"/>
                      </a:lnTo>
                      <a:lnTo>
                        <a:pt x="290" y="29"/>
                      </a:lnTo>
                      <a:lnTo>
                        <a:pt x="280" y="26"/>
                      </a:lnTo>
                      <a:lnTo>
                        <a:pt x="265" y="23"/>
                      </a:lnTo>
                      <a:lnTo>
                        <a:pt x="252" y="23"/>
                      </a:lnTo>
                      <a:lnTo>
                        <a:pt x="245" y="19"/>
                      </a:lnTo>
                      <a:lnTo>
                        <a:pt x="239" y="19"/>
                      </a:lnTo>
                      <a:lnTo>
                        <a:pt x="229" y="16"/>
                      </a:lnTo>
                      <a:lnTo>
                        <a:pt x="223" y="16"/>
                      </a:lnTo>
                      <a:lnTo>
                        <a:pt x="214" y="13"/>
                      </a:lnTo>
                      <a:lnTo>
                        <a:pt x="207" y="13"/>
                      </a:lnTo>
                      <a:lnTo>
                        <a:pt x="198" y="10"/>
                      </a:lnTo>
                      <a:lnTo>
                        <a:pt x="191" y="10"/>
                      </a:lnTo>
                      <a:lnTo>
                        <a:pt x="182" y="10"/>
                      </a:lnTo>
                      <a:lnTo>
                        <a:pt x="175" y="7"/>
                      </a:lnTo>
                      <a:lnTo>
                        <a:pt x="166" y="7"/>
                      </a:lnTo>
                      <a:lnTo>
                        <a:pt x="159" y="7"/>
                      </a:lnTo>
                      <a:lnTo>
                        <a:pt x="150" y="7"/>
                      </a:lnTo>
                      <a:lnTo>
                        <a:pt x="140" y="3"/>
                      </a:lnTo>
                      <a:lnTo>
                        <a:pt x="134" y="3"/>
                      </a:lnTo>
                      <a:lnTo>
                        <a:pt x="124" y="3"/>
                      </a:lnTo>
                      <a:lnTo>
                        <a:pt x="118" y="3"/>
                      </a:lnTo>
                      <a:lnTo>
                        <a:pt x="108" y="3"/>
                      </a:lnTo>
                      <a:lnTo>
                        <a:pt x="102" y="0"/>
                      </a:lnTo>
                      <a:lnTo>
                        <a:pt x="92" y="0"/>
                      </a:lnTo>
                      <a:lnTo>
                        <a:pt x="86" y="0"/>
                      </a:lnTo>
                      <a:lnTo>
                        <a:pt x="80" y="0"/>
                      </a:lnTo>
                      <a:lnTo>
                        <a:pt x="70" y="0"/>
                      </a:lnTo>
                      <a:lnTo>
                        <a:pt x="64" y="0"/>
                      </a:lnTo>
                      <a:lnTo>
                        <a:pt x="57" y="3"/>
                      </a:lnTo>
                      <a:lnTo>
                        <a:pt x="51" y="3"/>
                      </a:lnTo>
                      <a:lnTo>
                        <a:pt x="45" y="3"/>
                      </a:lnTo>
                      <a:lnTo>
                        <a:pt x="38" y="3"/>
                      </a:lnTo>
                      <a:lnTo>
                        <a:pt x="32" y="3"/>
                      </a:lnTo>
                      <a:lnTo>
                        <a:pt x="29" y="7"/>
                      </a:lnTo>
                      <a:lnTo>
                        <a:pt x="22" y="7"/>
                      </a:lnTo>
                      <a:lnTo>
                        <a:pt x="16" y="7"/>
                      </a:lnTo>
                      <a:lnTo>
                        <a:pt x="9" y="13"/>
                      </a:lnTo>
                      <a:lnTo>
                        <a:pt x="6" y="19"/>
                      </a:lnTo>
                      <a:lnTo>
                        <a:pt x="3" y="26"/>
                      </a:lnTo>
                      <a:lnTo>
                        <a:pt x="0" y="35"/>
                      </a:lnTo>
                      <a:lnTo>
                        <a:pt x="0" y="42"/>
                      </a:lnTo>
                      <a:lnTo>
                        <a:pt x="3" y="48"/>
                      </a:lnTo>
                      <a:lnTo>
                        <a:pt x="6" y="58"/>
                      </a:lnTo>
                      <a:lnTo>
                        <a:pt x="13" y="64"/>
                      </a:lnTo>
                      <a:lnTo>
                        <a:pt x="16" y="70"/>
                      </a:lnTo>
                      <a:lnTo>
                        <a:pt x="22" y="77"/>
                      </a:lnTo>
                      <a:lnTo>
                        <a:pt x="29" y="80"/>
                      </a:lnTo>
                      <a:lnTo>
                        <a:pt x="38" y="86"/>
                      </a:lnTo>
                      <a:lnTo>
                        <a:pt x="45" y="90"/>
                      </a:lnTo>
                      <a:lnTo>
                        <a:pt x="54" y="93"/>
                      </a:lnTo>
                      <a:lnTo>
                        <a:pt x="64" y="99"/>
                      </a:lnTo>
                      <a:lnTo>
                        <a:pt x="73" y="102"/>
                      </a:lnTo>
                      <a:lnTo>
                        <a:pt x="83" y="106"/>
                      </a:lnTo>
                      <a:lnTo>
                        <a:pt x="92" y="109"/>
                      </a:lnTo>
                      <a:lnTo>
                        <a:pt x="102" y="109"/>
                      </a:lnTo>
                      <a:lnTo>
                        <a:pt x="112" y="112"/>
                      </a:lnTo>
                      <a:lnTo>
                        <a:pt x="121" y="115"/>
                      </a:lnTo>
                      <a:lnTo>
                        <a:pt x="131" y="118"/>
                      </a:lnTo>
                      <a:lnTo>
                        <a:pt x="140" y="121"/>
                      </a:lnTo>
                      <a:lnTo>
                        <a:pt x="150" y="121"/>
                      </a:lnTo>
                      <a:lnTo>
                        <a:pt x="153" y="121"/>
                      </a:lnTo>
                      <a:lnTo>
                        <a:pt x="156" y="125"/>
                      </a:lnTo>
                      <a:lnTo>
                        <a:pt x="159" y="125"/>
                      </a:lnTo>
                      <a:lnTo>
                        <a:pt x="163" y="125"/>
                      </a:lnTo>
                      <a:lnTo>
                        <a:pt x="169" y="125"/>
                      </a:lnTo>
                      <a:lnTo>
                        <a:pt x="172" y="125"/>
                      </a:lnTo>
                      <a:lnTo>
                        <a:pt x="178" y="128"/>
                      </a:lnTo>
                      <a:lnTo>
                        <a:pt x="182" y="128"/>
                      </a:lnTo>
                      <a:lnTo>
                        <a:pt x="188" y="128"/>
                      </a:lnTo>
                      <a:lnTo>
                        <a:pt x="194" y="128"/>
                      </a:lnTo>
                      <a:lnTo>
                        <a:pt x="201" y="128"/>
                      </a:lnTo>
                      <a:lnTo>
                        <a:pt x="207" y="128"/>
                      </a:lnTo>
                      <a:lnTo>
                        <a:pt x="210" y="128"/>
                      </a:lnTo>
                      <a:lnTo>
                        <a:pt x="217" y="131"/>
                      </a:lnTo>
                      <a:lnTo>
                        <a:pt x="223" y="131"/>
                      </a:lnTo>
                      <a:lnTo>
                        <a:pt x="226" y="131"/>
                      </a:lnTo>
                      <a:lnTo>
                        <a:pt x="239" y="131"/>
                      </a:lnTo>
                      <a:lnTo>
                        <a:pt x="252" y="134"/>
                      </a:lnTo>
                      <a:lnTo>
                        <a:pt x="265" y="137"/>
                      </a:lnTo>
                      <a:lnTo>
                        <a:pt x="277" y="137"/>
                      </a:lnTo>
                      <a:lnTo>
                        <a:pt x="287" y="137"/>
                      </a:lnTo>
                      <a:lnTo>
                        <a:pt x="296" y="141"/>
                      </a:lnTo>
                      <a:lnTo>
                        <a:pt x="306" y="141"/>
                      </a:lnTo>
                      <a:lnTo>
                        <a:pt x="316" y="141"/>
                      </a:lnTo>
                      <a:lnTo>
                        <a:pt x="325" y="144"/>
                      </a:lnTo>
                      <a:lnTo>
                        <a:pt x="335" y="144"/>
                      </a:lnTo>
                      <a:lnTo>
                        <a:pt x="341" y="144"/>
                      </a:lnTo>
                      <a:lnTo>
                        <a:pt x="351" y="144"/>
                      </a:lnTo>
                      <a:lnTo>
                        <a:pt x="357" y="144"/>
                      </a:lnTo>
                      <a:lnTo>
                        <a:pt x="363" y="144"/>
                      </a:lnTo>
                      <a:lnTo>
                        <a:pt x="370" y="144"/>
                      </a:lnTo>
                      <a:lnTo>
                        <a:pt x="376" y="144"/>
                      </a:lnTo>
                      <a:lnTo>
                        <a:pt x="382" y="144"/>
                      </a:lnTo>
                      <a:lnTo>
                        <a:pt x="389" y="144"/>
                      </a:lnTo>
                      <a:lnTo>
                        <a:pt x="395" y="144"/>
                      </a:lnTo>
                      <a:lnTo>
                        <a:pt x="398" y="141"/>
                      </a:lnTo>
                      <a:lnTo>
                        <a:pt x="405" y="141"/>
                      </a:lnTo>
                      <a:lnTo>
                        <a:pt x="411" y="141"/>
                      </a:lnTo>
                      <a:lnTo>
                        <a:pt x="414" y="141"/>
                      </a:lnTo>
                      <a:lnTo>
                        <a:pt x="421" y="141"/>
                      </a:lnTo>
                      <a:lnTo>
                        <a:pt x="427" y="141"/>
                      </a:lnTo>
                      <a:lnTo>
                        <a:pt x="433" y="137"/>
                      </a:lnTo>
                      <a:lnTo>
                        <a:pt x="437" y="137"/>
                      </a:lnTo>
                      <a:lnTo>
                        <a:pt x="443" y="137"/>
                      </a:lnTo>
                      <a:lnTo>
                        <a:pt x="449" y="137"/>
                      </a:lnTo>
                      <a:lnTo>
                        <a:pt x="456" y="137"/>
                      </a:lnTo>
                      <a:lnTo>
                        <a:pt x="462" y="137"/>
                      </a:lnTo>
                      <a:lnTo>
                        <a:pt x="465" y="137"/>
                      </a:lnTo>
                      <a:lnTo>
                        <a:pt x="481" y="137"/>
                      </a:lnTo>
                      <a:lnTo>
                        <a:pt x="494" y="137"/>
                      </a:lnTo>
                      <a:lnTo>
                        <a:pt x="507" y="134"/>
                      </a:lnTo>
                      <a:lnTo>
                        <a:pt x="513" y="131"/>
                      </a:lnTo>
                      <a:lnTo>
                        <a:pt x="520" y="128"/>
                      </a:lnTo>
                      <a:lnTo>
                        <a:pt x="523" y="125"/>
                      </a:lnTo>
                      <a:lnTo>
                        <a:pt x="526" y="121"/>
                      </a:lnTo>
                      <a:lnTo>
                        <a:pt x="529" y="118"/>
                      </a:lnTo>
                      <a:lnTo>
                        <a:pt x="529" y="115"/>
                      </a:lnTo>
                      <a:lnTo>
                        <a:pt x="529" y="112"/>
                      </a:lnTo>
                      <a:lnTo>
                        <a:pt x="529" y="109"/>
                      </a:lnTo>
                      <a:lnTo>
                        <a:pt x="529" y="106"/>
                      </a:lnTo>
                      <a:lnTo>
                        <a:pt x="529" y="102"/>
                      </a:lnTo>
                      <a:lnTo>
                        <a:pt x="532" y="99"/>
                      </a:lnTo>
                      <a:lnTo>
                        <a:pt x="535" y="99"/>
                      </a:lnTo>
                      <a:lnTo>
                        <a:pt x="539" y="99"/>
                      </a:lnTo>
                      <a:close/>
                    </a:path>
                  </a:pathLst>
                </a:custGeom>
                <a:solidFill>
                  <a:srgbClr val="454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6324480" y="3371400"/>
                  <a:ext cx="442800" cy="115200"/>
                </a:xfrm>
                <a:custGeom>
                  <a:avLst/>
                  <a:gdLst/>
                  <a:ahLst/>
                  <a:rect l="l" t="t" r="r" b="b"/>
                  <a:pathLst>
                    <a:path w="520" h="128">
                      <a:moveTo>
                        <a:pt x="520" y="90"/>
                      </a:moveTo>
                      <a:lnTo>
                        <a:pt x="513" y="90"/>
                      </a:lnTo>
                      <a:lnTo>
                        <a:pt x="510" y="87"/>
                      </a:lnTo>
                      <a:lnTo>
                        <a:pt x="504" y="87"/>
                      </a:lnTo>
                      <a:lnTo>
                        <a:pt x="497" y="83"/>
                      </a:lnTo>
                      <a:lnTo>
                        <a:pt x="491" y="80"/>
                      </a:lnTo>
                      <a:lnTo>
                        <a:pt x="484" y="80"/>
                      </a:lnTo>
                      <a:lnTo>
                        <a:pt x="478" y="77"/>
                      </a:lnTo>
                      <a:lnTo>
                        <a:pt x="472" y="74"/>
                      </a:lnTo>
                      <a:lnTo>
                        <a:pt x="465" y="74"/>
                      </a:lnTo>
                      <a:lnTo>
                        <a:pt x="459" y="71"/>
                      </a:lnTo>
                      <a:lnTo>
                        <a:pt x="449" y="67"/>
                      </a:lnTo>
                      <a:lnTo>
                        <a:pt x="443" y="67"/>
                      </a:lnTo>
                      <a:lnTo>
                        <a:pt x="433" y="64"/>
                      </a:lnTo>
                      <a:lnTo>
                        <a:pt x="427" y="61"/>
                      </a:lnTo>
                      <a:lnTo>
                        <a:pt x="418" y="58"/>
                      </a:lnTo>
                      <a:lnTo>
                        <a:pt x="408" y="58"/>
                      </a:lnTo>
                      <a:lnTo>
                        <a:pt x="398" y="55"/>
                      </a:lnTo>
                      <a:lnTo>
                        <a:pt x="389" y="52"/>
                      </a:lnTo>
                      <a:lnTo>
                        <a:pt x="379" y="48"/>
                      </a:lnTo>
                      <a:lnTo>
                        <a:pt x="370" y="48"/>
                      </a:lnTo>
                      <a:lnTo>
                        <a:pt x="360" y="45"/>
                      </a:lnTo>
                      <a:lnTo>
                        <a:pt x="351" y="42"/>
                      </a:lnTo>
                      <a:lnTo>
                        <a:pt x="338" y="39"/>
                      </a:lnTo>
                      <a:lnTo>
                        <a:pt x="328" y="36"/>
                      </a:lnTo>
                      <a:lnTo>
                        <a:pt x="316" y="32"/>
                      </a:lnTo>
                      <a:lnTo>
                        <a:pt x="303" y="29"/>
                      </a:lnTo>
                      <a:lnTo>
                        <a:pt x="290" y="29"/>
                      </a:lnTo>
                      <a:lnTo>
                        <a:pt x="277" y="26"/>
                      </a:lnTo>
                      <a:lnTo>
                        <a:pt x="265" y="23"/>
                      </a:lnTo>
                      <a:lnTo>
                        <a:pt x="252" y="20"/>
                      </a:lnTo>
                      <a:lnTo>
                        <a:pt x="239" y="16"/>
                      </a:lnTo>
                      <a:lnTo>
                        <a:pt x="226" y="13"/>
                      </a:lnTo>
                      <a:lnTo>
                        <a:pt x="210" y="10"/>
                      </a:lnTo>
                      <a:lnTo>
                        <a:pt x="198" y="7"/>
                      </a:lnTo>
                      <a:lnTo>
                        <a:pt x="182" y="7"/>
                      </a:lnTo>
                      <a:lnTo>
                        <a:pt x="169" y="4"/>
                      </a:lnTo>
                      <a:lnTo>
                        <a:pt x="153" y="4"/>
                      </a:lnTo>
                      <a:lnTo>
                        <a:pt x="137" y="0"/>
                      </a:lnTo>
                      <a:lnTo>
                        <a:pt x="121" y="0"/>
                      </a:lnTo>
                      <a:lnTo>
                        <a:pt x="105" y="0"/>
                      </a:lnTo>
                      <a:lnTo>
                        <a:pt x="92" y="0"/>
                      </a:lnTo>
                      <a:lnTo>
                        <a:pt x="76" y="0"/>
                      </a:lnTo>
                      <a:lnTo>
                        <a:pt x="64" y="0"/>
                      </a:lnTo>
                      <a:lnTo>
                        <a:pt x="51" y="0"/>
                      </a:lnTo>
                      <a:lnTo>
                        <a:pt x="38" y="0"/>
                      </a:lnTo>
                      <a:lnTo>
                        <a:pt x="29" y="4"/>
                      </a:lnTo>
                      <a:lnTo>
                        <a:pt x="19" y="4"/>
                      </a:lnTo>
                      <a:lnTo>
                        <a:pt x="9" y="7"/>
                      </a:lnTo>
                      <a:lnTo>
                        <a:pt x="3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39"/>
                      </a:lnTo>
                      <a:lnTo>
                        <a:pt x="3" y="45"/>
                      </a:lnTo>
                      <a:lnTo>
                        <a:pt x="6" y="55"/>
                      </a:lnTo>
                      <a:lnTo>
                        <a:pt x="13" y="61"/>
                      </a:lnTo>
                      <a:lnTo>
                        <a:pt x="19" y="71"/>
                      </a:lnTo>
                      <a:lnTo>
                        <a:pt x="25" y="74"/>
                      </a:lnTo>
                      <a:lnTo>
                        <a:pt x="32" y="80"/>
                      </a:lnTo>
                      <a:lnTo>
                        <a:pt x="41" y="83"/>
                      </a:lnTo>
                      <a:lnTo>
                        <a:pt x="48" y="90"/>
                      </a:lnTo>
                      <a:lnTo>
                        <a:pt x="57" y="93"/>
                      </a:lnTo>
                      <a:lnTo>
                        <a:pt x="67" y="96"/>
                      </a:lnTo>
                      <a:lnTo>
                        <a:pt x="76" y="99"/>
                      </a:lnTo>
                      <a:lnTo>
                        <a:pt x="86" y="103"/>
                      </a:lnTo>
                      <a:lnTo>
                        <a:pt x="96" y="106"/>
                      </a:lnTo>
                      <a:lnTo>
                        <a:pt x="108" y="109"/>
                      </a:lnTo>
                      <a:lnTo>
                        <a:pt x="118" y="112"/>
                      </a:lnTo>
                      <a:lnTo>
                        <a:pt x="127" y="112"/>
                      </a:lnTo>
                      <a:lnTo>
                        <a:pt x="137" y="115"/>
                      </a:lnTo>
                      <a:lnTo>
                        <a:pt x="147" y="118"/>
                      </a:lnTo>
                      <a:lnTo>
                        <a:pt x="156" y="118"/>
                      </a:lnTo>
                      <a:lnTo>
                        <a:pt x="166" y="122"/>
                      </a:lnTo>
                      <a:lnTo>
                        <a:pt x="169" y="122"/>
                      </a:lnTo>
                      <a:lnTo>
                        <a:pt x="172" y="122"/>
                      </a:lnTo>
                      <a:lnTo>
                        <a:pt x="178" y="122"/>
                      </a:lnTo>
                      <a:lnTo>
                        <a:pt x="185" y="122"/>
                      </a:lnTo>
                      <a:lnTo>
                        <a:pt x="191" y="122"/>
                      </a:lnTo>
                      <a:lnTo>
                        <a:pt x="201" y="122"/>
                      </a:lnTo>
                      <a:lnTo>
                        <a:pt x="207" y="122"/>
                      </a:lnTo>
                      <a:lnTo>
                        <a:pt x="214" y="122"/>
                      </a:lnTo>
                      <a:lnTo>
                        <a:pt x="236" y="125"/>
                      </a:lnTo>
                      <a:lnTo>
                        <a:pt x="255" y="128"/>
                      </a:lnTo>
                      <a:lnTo>
                        <a:pt x="271" y="128"/>
                      </a:lnTo>
                      <a:lnTo>
                        <a:pt x="287" y="128"/>
                      </a:lnTo>
                      <a:lnTo>
                        <a:pt x="303" y="128"/>
                      </a:lnTo>
                      <a:lnTo>
                        <a:pt x="312" y="128"/>
                      </a:lnTo>
                      <a:lnTo>
                        <a:pt x="325" y="128"/>
                      </a:lnTo>
                      <a:lnTo>
                        <a:pt x="335" y="128"/>
                      </a:lnTo>
                      <a:lnTo>
                        <a:pt x="344" y="125"/>
                      </a:lnTo>
                      <a:lnTo>
                        <a:pt x="357" y="125"/>
                      </a:lnTo>
                      <a:lnTo>
                        <a:pt x="363" y="122"/>
                      </a:lnTo>
                      <a:lnTo>
                        <a:pt x="373" y="122"/>
                      </a:lnTo>
                      <a:lnTo>
                        <a:pt x="382" y="122"/>
                      </a:lnTo>
                      <a:lnTo>
                        <a:pt x="395" y="118"/>
                      </a:lnTo>
                      <a:lnTo>
                        <a:pt x="405" y="118"/>
                      </a:lnTo>
                      <a:lnTo>
                        <a:pt x="418" y="118"/>
                      </a:lnTo>
                      <a:lnTo>
                        <a:pt x="433" y="118"/>
                      </a:lnTo>
                      <a:lnTo>
                        <a:pt x="443" y="115"/>
                      </a:lnTo>
                      <a:lnTo>
                        <a:pt x="456" y="115"/>
                      </a:lnTo>
                      <a:lnTo>
                        <a:pt x="462" y="112"/>
                      </a:lnTo>
                      <a:lnTo>
                        <a:pt x="469" y="112"/>
                      </a:lnTo>
                      <a:lnTo>
                        <a:pt x="475" y="109"/>
                      </a:lnTo>
                      <a:lnTo>
                        <a:pt x="481" y="106"/>
                      </a:lnTo>
                      <a:lnTo>
                        <a:pt x="484" y="103"/>
                      </a:lnTo>
                      <a:lnTo>
                        <a:pt x="488" y="103"/>
                      </a:lnTo>
                      <a:lnTo>
                        <a:pt x="491" y="99"/>
                      </a:lnTo>
                      <a:lnTo>
                        <a:pt x="494" y="96"/>
                      </a:lnTo>
                      <a:lnTo>
                        <a:pt x="497" y="96"/>
                      </a:lnTo>
                      <a:lnTo>
                        <a:pt x="500" y="93"/>
                      </a:lnTo>
                      <a:lnTo>
                        <a:pt x="507" y="93"/>
                      </a:lnTo>
                      <a:lnTo>
                        <a:pt x="513" y="90"/>
                      </a:lnTo>
                      <a:lnTo>
                        <a:pt x="520" y="90"/>
                      </a:lnTo>
                      <a:close/>
                    </a:path>
                  </a:pathLst>
                </a:custGeom>
                <a:solidFill>
                  <a:srgbClr val="3d45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321960" y="3368520"/>
                  <a:ext cx="428400" cy="115560"/>
                </a:xfrm>
                <a:custGeom>
                  <a:avLst/>
                  <a:gdLst/>
                  <a:ahLst/>
                  <a:rect l="l" t="t" r="r" b="b"/>
                  <a:pathLst>
                    <a:path w="503" h="128">
                      <a:moveTo>
                        <a:pt x="503" y="90"/>
                      </a:moveTo>
                      <a:lnTo>
                        <a:pt x="497" y="90"/>
                      </a:lnTo>
                      <a:lnTo>
                        <a:pt x="494" y="86"/>
                      </a:lnTo>
                      <a:lnTo>
                        <a:pt x="487" y="83"/>
                      </a:lnTo>
                      <a:lnTo>
                        <a:pt x="481" y="83"/>
                      </a:lnTo>
                      <a:lnTo>
                        <a:pt x="475" y="80"/>
                      </a:lnTo>
                      <a:lnTo>
                        <a:pt x="468" y="77"/>
                      </a:lnTo>
                      <a:lnTo>
                        <a:pt x="462" y="77"/>
                      </a:lnTo>
                      <a:lnTo>
                        <a:pt x="456" y="74"/>
                      </a:lnTo>
                      <a:lnTo>
                        <a:pt x="446" y="70"/>
                      </a:lnTo>
                      <a:lnTo>
                        <a:pt x="440" y="70"/>
                      </a:lnTo>
                      <a:lnTo>
                        <a:pt x="433" y="67"/>
                      </a:lnTo>
                      <a:lnTo>
                        <a:pt x="424" y="64"/>
                      </a:lnTo>
                      <a:lnTo>
                        <a:pt x="414" y="61"/>
                      </a:lnTo>
                      <a:lnTo>
                        <a:pt x="408" y="61"/>
                      </a:lnTo>
                      <a:lnTo>
                        <a:pt x="398" y="58"/>
                      </a:lnTo>
                      <a:lnTo>
                        <a:pt x="389" y="55"/>
                      </a:lnTo>
                      <a:lnTo>
                        <a:pt x="379" y="55"/>
                      </a:lnTo>
                      <a:lnTo>
                        <a:pt x="370" y="51"/>
                      </a:lnTo>
                      <a:lnTo>
                        <a:pt x="360" y="48"/>
                      </a:lnTo>
                      <a:lnTo>
                        <a:pt x="350" y="45"/>
                      </a:lnTo>
                      <a:lnTo>
                        <a:pt x="341" y="42"/>
                      </a:lnTo>
                      <a:lnTo>
                        <a:pt x="328" y="39"/>
                      </a:lnTo>
                      <a:lnTo>
                        <a:pt x="319" y="39"/>
                      </a:lnTo>
                      <a:lnTo>
                        <a:pt x="306" y="35"/>
                      </a:lnTo>
                      <a:lnTo>
                        <a:pt x="293" y="32"/>
                      </a:lnTo>
                      <a:lnTo>
                        <a:pt x="280" y="29"/>
                      </a:lnTo>
                      <a:lnTo>
                        <a:pt x="271" y="26"/>
                      </a:lnTo>
                      <a:lnTo>
                        <a:pt x="258" y="23"/>
                      </a:lnTo>
                      <a:lnTo>
                        <a:pt x="242" y="23"/>
                      </a:lnTo>
                      <a:lnTo>
                        <a:pt x="229" y="19"/>
                      </a:lnTo>
                      <a:lnTo>
                        <a:pt x="217" y="16"/>
                      </a:lnTo>
                      <a:lnTo>
                        <a:pt x="201" y="13"/>
                      </a:lnTo>
                      <a:lnTo>
                        <a:pt x="188" y="10"/>
                      </a:lnTo>
                      <a:lnTo>
                        <a:pt x="175" y="7"/>
                      </a:lnTo>
                      <a:lnTo>
                        <a:pt x="162" y="7"/>
                      </a:lnTo>
                      <a:lnTo>
                        <a:pt x="150" y="3"/>
                      </a:lnTo>
                      <a:lnTo>
                        <a:pt x="134" y="3"/>
                      </a:lnTo>
                      <a:lnTo>
                        <a:pt x="121" y="3"/>
                      </a:lnTo>
                      <a:lnTo>
                        <a:pt x="105" y="0"/>
                      </a:lnTo>
                      <a:lnTo>
                        <a:pt x="92" y="0"/>
                      </a:lnTo>
                      <a:lnTo>
                        <a:pt x="76" y="0"/>
                      </a:lnTo>
                      <a:lnTo>
                        <a:pt x="63" y="3"/>
                      </a:lnTo>
                      <a:lnTo>
                        <a:pt x="51" y="3"/>
                      </a:lnTo>
                      <a:lnTo>
                        <a:pt x="38" y="3"/>
                      </a:lnTo>
                      <a:lnTo>
                        <a:pt x="28" y="7"/>
                      </a:lnTo>
                      <a:lnTo>
                        <a:pt x="19" y="10"/>
                      </a:lnTo>
                      <a:lnTo>
                        <a:pt x="9" y="13"/>
                      </a:lnTo>
                      <a:lnTo>
                        <a:pt x="3" y="16"/>
                      </a:lnTo>
                      <a:lnTo>
                        <a:pt x="0" y="23"/>
                      </a:lnTo>
                      <a:lnTo>
                        <a:pt x="0" y="32"/>
                      </a:lnTo>
                      <a:lnTo>
                        <a:pt x="0" y="42"/>
                      </a:lnTo>
                      <a:lnTo>
                        <a:pt x="3" y="48"/>
                      </a:lnTo>
                      <a:lnTo>
                        <a:pt x="9" y="58"/>
                      </a:lnTo>
                      <a:lnTo>
                        <a:pt x="16" y="64"/>
                      </a:lnTo>
                      <a:lnTo>
                        <a:pt x="25" y="70"/>
                      </a:lnTo>
                      <a:lnTo>
                        <a:pt x="32" y="80"/>
                      </a:lnTo>
                      <a:lnTo>
                        <a:pt x="38" y="83"/>
                      </a:lnTo>
                      <a:lnTo>
                        <a:pt x="48" y="90"/>
                      </a:lnTo>
                      <a:lnTo>
                        <a:pt x="54" y="93"/>
                      </a:lnTo>
                      <a:lnTo>
                        <a:pt x="63" y="96"/>
                      </a:lnTo>
                      <a:lnTo>
                        <a:pt x="73" y="99"/>
                      </a:lnTo>
                      <a:lnTo>
                        <a:pt x="83" y="102"/>
                      </a:lnTo>
                      <a:lnTo>
                        <a:pt x="92" y="106"/>
                      </a:lnTo>
                      <a:lnTo>
                        <a:pt x="105" y="109"/>
                      </a:lnTo>
                      <a:lnTo>
                        <a:pt x="115" y="112"/>
                      </a:lnTo>
                      <a:lnTo>
                        <a:pt x="124" y="115"/>
                      </a:lnTo>
                      <a:lnTo>
                        <a:pt x="137" y="118"/>
                      </a:lnTo>
                      <a:lnTo>
                        <a:pt x="146" y="118"/>
                      </a:lnTo>
                      <a:lnTo>
                        <a:pt x="156" y="121"/>
                      </a:lnTo>
                      <a:lnTo>
                        <a:pt x="166" y="125"/>
                      </a:lnTo>
                      <a:lnTo>
                        <a:pt x="178" y="125"/>
                      </a:lnTo>
                      <a:lnTo>
                        <a:pt x="185" y="128"/>
                      </a:lnTo>
                      <a:lnTo>
                        <a:pt x="185" y="128"/>
                      </a:lnTo>
                      <a:lnTo>
                        <a:pt x="185" y="125"/>
                      </a:lnTo>
                      <a:lnTo>
                        <a:pt x="188" y="125"/>
                      </a:lnTo>
                      <a:lnTo>
                        <a:pt x="191" y="125"/>
                      </a:lnTo>
                      <a:lnTo>
                        <a:pt x="194" y="121"/>
                      </a:lnTo>
                      <a:lnTo>
                        <a:pt x="197" y="121"/>
                      </a:lnTo>
                      <a:lnTo>
                        <a:pt x="204" y="118"/>
                      </a:lnTo>
                      <a:lnTo>
                        <a:pt x="207" y="118"/>
                      </a:lnTo>
                      <a:lnTo>
                        <a:pt x="223" y="121"/>
                      </a:lnTo>
                      <a:lnTo>
                        <a:pt x="239" y="121"/>
                      </a:lnTo>
                      <a:lnTo>
                        <a:pt x="252" y="121"/>
                      </a:lnTo>
                      <a:lnTo>
                        <a:pt x="261" y="121"/>
                      </a:lnTo>
                      <a:lnTo>
                        <a:pt x="274" y="121"/>
                      </a:lnTo>
                      <a:lnTo>
                        <a:pt x="283" y="121"/>
                      </a:lnTo>
                      <a:lnTo>
                        <a:pt x="290" y="118"/>
                      </a:lnTo>
                      <a:lnTo>
                        <a:pt x="299" y="118"/>
                      </a:lnTo>
                      <a:lnTo>
                        <a:pt x="306" y="115"/>
                      </a:lnTo>
                      <a:lnTo>
                        <a:pt x="315" y="112"/>
                      </a:lnTo>
                      <a:lnTo>
                        <a:pt x="322" y="112"/>
                      </a:lnTo>
                      <a:lnTo>
                        <a:pt x="331" y="109"/>
                      </a:lnTo>
                      <a:lnTo>
                        <a:pt x="338" y="109"/>
                      </a:lnTo>
                      <a:lnTo>
                        <a:pt x="347" y="106"/>
                      </a:lnTo>
                      <a:lnTo>
                        <a:pt x="360" y="106"/>
                      </a:lnTo>
                      <a:lnTo>
                        <a:pt x="373" y="106"/>
                      </a:lnTo>
                      <a:lnTo>
                        <a:pt x="385" y="106"/>
                      </a:lnTo>
                      <a:lnTo>
                        <a:pt x="395" y="102"/>
                      </a:lnTo>
                      <a:lnTo>
                        <a:pt x="405" y="102"/>
                      </a:lnTo>
                      <a:lnTo>
                        <a:pt x="414" y="102"/>
                      </a:lnTo>
                      <a:lnTo>
                        <a:pt x="424" y="99"/>
                      </a:lnTo>
                      <a:lnTo>
                        <a:pt x="430" y="99"/>
                      </a:lnTo>
                      <a:lnTo>
                        <a:pt x="436" y="96"/>
                      </a:lnTo>
                      <a:lnTo>
                        <a:pt x="443" y="96"/>
                      </a:lnTo>
                      <a:lnTo>
                        <a:pt x="449" y="93"/>
                      </a:lnTo>
                      <a:lnTo>
                        <a:pt x="456" y="93"/>
                      </a:lnTo>
                      <a:lnTo>
                        <a:pt x="462" y="90"/>
                      </a:lnTo>
                      <a:lnTo>
                        <a:pt x="468" y="90"/>
                      </a:lnTo>
                      <a:lnTo>
                        <a:pt x="475" y="90"/>
                      </a:lnTo>
                      <a:lnTo>
                        <a:pt x="484" y="90"/>
                      </a:lnTo>
                      <a:lnTo>
                        <a:pt x="494" y="90"/>
                      </a:lnTo>
                      <a:lnTo>
                        <a:pt x="503" y="90"/>
                      </a:lnTo>
                      <a:close/>
                    </a:path>
                  </a:pathLst>
                </a:custGeom>
                <a:solidFill>
                  <a:srgbClr val="333b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315840" y="3368520"/>
                  <a:ext cx="418320" cy="118080"/>
                </a:xfrm>
                <a:custGeom>
                  <a:avLst/>
                  <a:gdLst/>
                  <a:ahLst/>
                  <a:rect l="l" t="t" r="r" b="b"/>
                  <a:pathLst>
                    <a:path w="491" h="131">
                      <a:moveTo>
                        <a:pt x="491" y="86"/>
                      </a:moveTo>
                      <a:lnTo>
                        <a:pt x="485" y="83"/>
                      </a:lnTo>
                      <a:lnTo>
                        <a:pt x="479" y="83"/>
                      </a:lnTo>
                      <a:lnTo>
                        <a:pt x="472" y="80"/>
                      </a:lnTo>
                      <a:lnTo>
                        <a:pt x="466" y="77"/>
                      </a:lnTo>
                      <a:lnTo>
                        <a:pt x="459" y="77"/>
                      </a:lnTo>
                      <a:lnTo>
                        <a:pt x="453" y="74"/>
                      </a:lnTo>
                      <a:lnTo>
                        <a:pt x="447" y="70"/>
                      </a:lnTo>
                      <a:lnTo>
                        <a:pt x="440" y="70"/>
                      </a:lnTo>
                      <a:lnTo>
                        <a:pt x="434" y="67"/>
                      </a:lnTo>
                      <a:lnTo>
                        <a:pt x="424" y="64"/>
                      </a:lnTo>
                      <a:lnTo>
                        <a:pt x="418" y="61"/>
                      </a:lnTo>
                      <a:lnTo>
                        <a:pt x="408" y="61"/>
                      </a:lnTo>
                      <a:lnTo>
                        <a:pt x="402" y="58"/>
                      </a:lnTo>
                      <a:lnTo>
                        <a:pt x="392" y="55"/>
                      </a:lnTo>
                      <a:lnTo>
                        <a:pt x="383" y="55"/>
                      </a:lnTo>
                      <a:lnTo>
                        <a:pt x="373" y="51"/>
                      </a:lnTo>
                      <a:lnTo>
                        <a:pt x="364" y="48"/>
                      </a:lnTo>
                      <a:lnTo>
                        <a:pt x="354" y="45"/>
                      </a:lnTo>
                      <a:lnTo>
                        <a:pt x="345" y="42"/>
                      </a:lnTo>
                      <a:lnTo>
                        <a:pt x="335" y="42"/>
                      </a:lnTo>
                      <a:lnTo>
                        <a:pt x="322" y="39"/>
                      </a:lnTo>
                      <a:lnTo>
                        <a:pt x="313" y="35"/>
                      </a:lnTo>
                      <a:lnTo>
                        <a:pt x="300" y="32"/>
                      </a:lnTo>
                      <a:lnTo>
                        <a:pt x="290" y="29"/>
                      </a:lnTo>
                      <a:lnTo>
                        <a:pt x="278" y="29"/>
                      </a:lnTo>
                      <a:lnTo>
                        <a:pt x="265" y="26"/>
                      </a:lnTo>
                      <a:lnTo>
                        <a:pt x="252" y="23"/>
                      </a:lnTo>
                      <a:lnTo>
                        <a:pt x="239" y="19"/>
                      </a:lnTo>
                      <a:lnTo>
                        <a:pt x="224" y="16"/>
                      </a:lnTo>
                      <a:lnTo>
                        <a:pt x="211" y="13"/>
                      </a:lnTo>
                      <a:lnTo>
                        <a:pt x="195" y="10"/>
                      </a:lnTo>
                      <a:lnTo>
                        <a:pt x="182" y="7"/>
                      </a:lnTo>
                      <a:lnTo>
                        <a:pt x="169" y="7"/>
                      </a:lnTo>
                      <a:lnTo>
                        <a:pt x="157" y="3"/>
                      </a:lnTo>
                      <a:lnTo>
                        <a:pt x="147" y="3"/>
                      </a:lnTo>
                      <a:lnTo>
                        <a:pt x="134" y="0"/>
                      </a:lnTo>
                      <a:lnTo>
                        <a:pt x="118" y="0"/>
                      </a:lnTo>
                      <a:lnTo>
                        <a:pt x="106" y="0"/>
                      </a:lnTo>
                      <a:lnTo>
                        <a:pt x="93" y="0"/>
                      </a:lnTo>
                      <a:lnTo>
                        <a:pt x="80" y="0"/>
                      </a:lnTo>
                      <a:lnTo>
                        <a:pt x="67" y="0"/>
                      </a:lnTo>
                      <a:lnTo>
                        <a:pt x="55" y="3"/>
                      </a:lnTo>
                      <a:lnTo>
                        <a:pt x="42" y="3"/>
                      </a:lnTo>
                      <a:lnTo>
                        <a:pt x="32" y="7"/>
                      </a:lnTo>
                      <a:lnTo>
                        <a:pt x="23" y="10"/>
                      </a:lnTo>
                      <a:lnTo>
                        <a:pt x="13" y="13"/>
                      </a:lnTo>
                      <a:lnTo>
                        <a:pt x="7" y="16"/>
                      </a:lnTo>
                      <a:lnTo>
                        <a:pt x="0" y="19"/>
                      </a:lnTo>
                      <a:lnTo>
                        <a:pt x="0" y="26"/>
                      </a:lnTo>
                      <a:lnTo>
                        <a:pt x="0" y="29"/>
                      </a:lnTo>
                      <a:lnTo>
                        <a:pt x="0" y="35"/>
                      </a:lnTo>
                      <a:lnTo>
                        <a:pt x="0" y="39"/>
                      </a:lnTo>
                      <a:lnTo>
                        <a:pt x="4" y="45"/>
                      </a:lnTo>
                      <a:lnTo>
                        <a:pt x="4" y="48"/>
                      </a:lnTo>
                      <a:lnTo>
                        <a:pt x="7" y="51"/>
                      </a:lnTo>
                      <a:lnTo>
                        <a:pt x="10" y="58"/>
                      </a:lnTo>
                      <a:lnTo>
                        <a:pt x="13" y="61"/>
                      </a:lnTo>
                      <a:lnTo>
                        <a:pt x="19" y="64"/>
                      </a:lnTo>
                      <a:lnTo>
                        <a:pt x="23" y="67"/>
                      </a:lnTo>
                      <a:lnTo>
                        <a:pt x="29" y="74"/>
                      </a:lnTo>
                      <a:lnTo>
                        <a:pt x="32" y="77"/>
                      </a:lnTo>
                      <a:lnTo>
                        <a:pt x="39" y="80"/>
                      </a:lnTo>
                      <a:lnTo>
                        <a:pt x="42" y="83"/>
                      </a:lnTo>
                      <a:lnTo>
                        <a:pt x="48" y="86"/>
                      </a:lnTo>
                      <a:lnTo>
                        <a:pt x="55" y="90"/>
                      </a:lnTo>
                      <a:lnTo>
                        <a:pt x="64" y="96"/>
                      </a:lnTo>
                      <a:lnTo>
                        <a:pt x="74" y="99"/>
                      </a:lnTo>
                      <a:lnTo>
                        <a:pt x="83" y="102"/>
                      </a:lnTo>
                      <a:lnTo>
                        <a:pt x="93" y="106"/>
                      </a:lnTo>
                      <a:lnTo>
                        <a:pt x="102" y="109"/>
                      </a:lnTo>
                      <a:lnTo>
                        <a:pt x="115" y="112"/>
                      </a:lnTo>
                      <a:lnTo>
                        <a:pt x="125" y="115"/>
                      </a:lnTo>
                      <a:lnTo>
                        <a:pt x="137" y="115"/>
                      </a:lnTo>
                      <a:lnTo>
                        <a:pt x="147" y="118"/>
                      </a:lnTo>
                      <a:lnTo>
                        <a:pt x="160" y="121"/>
                      </a:lnTo>
                      <a:lnTo>
                        <a:pt x="169" y="121"/>
                      </a:lnTo>
                      <a:lnTo>
                        <a:pt x="179" y="125"/>
                      </a:lnTo>
                      <a:lnTo>
                        <a:pt x="192" y="128"/>
                      </a:lnTo>
                      <a:lnTo>
                        <a:pt x="201" y="128"/>
                      </a:lnTo>
                      <a:lnTo>
                        <a:pt x="211" y="131"/>
                      </a:lnTo>
                      <a:lnTo>
                        <a:pt x="204" y="128"/>
                      </a:lnTo>
                      <a:lnTo>
                        <a:pt x="201" y="128"/>
                      </a:lnTo>
                      <a:lnTo>
                        <a:pt x="198" y="125"/>
                      </a:lnTo>
                      <a:lnTo>
                        <a:pt x="198" y="121"/>
                      </a:lnTo>
                      <a:lnTo>
                        <a:pt x="198" y="118"/>
                      </a:lnTo>
                      <a:lnTo>
                        <a:pt x="201" y="115"/>
                      </a:lnTo>
                      <a:lnTo>
                        <a:pt x="201" y="115"/>
                      </a:lnTo>
                      <a:lnTo>
                        <a:pt x="201" y="112"/>
                      </a:lnTo>
                      <a:lnTo>
                        <a:pt x="214" y="115"/>
                      </a:lnTo>
                      <a:lnTo>
                        <a:pt x="224" y="115"/>
                      </a:lnTo>
                      <a:lnTo>
                        <a:pt x="233" y="115"/>
                      </a:lnTo>
                      <a:lnTo>
                        <a:pt x="239" y="112"/>
                      </a:lnTo>
                      <a:lnTo>
                        <a:pt x="249" y="112"/>
                      </a:lnTo>
                      <a:lnTo>
                        <a:pt x="252" y="109"/>
                      </a:lnTo>
                      <a:lnTo>
                        <a:pt x="259" y="106"/>
                      </a:lnTo>
                      <a:lnTo>
                        <a:pt x="265" y="106"/>
                      </a:lnTo>
                      <a:lnTo>
                        <a:pt x="271" y="102"/>
                      </a:lnTo>
                      <a:lnTo>
                        <a:pt x="278" y="99"/>
                      </a:lnTo>
                      <a:lnTo>
                        <a:pt x="284" y="96"/>
                      </a:lnTo>
                      <a:lnTo>
                        <a:pt x="290" y="93"/>
                      </a:lnTo>
                      <a:lnTo>
                        <a:pt x="297" y="93"/>
                      </a:lnTo>
                      <a:lnTo>
                        <a:pt x="306" y="90"/>
                      </a:lnTo>
                      <a:lnTo>
                        <a:pt x="316" y="90"/>
                      </a:lnTo>
                      <a:lnTo>
                        <a:pt x="329" y="90"/>
                      </a:lnTo>
                      <a:lnTo>
                        <a:pt x="341" y="90"/>
                      </a:lnTo>
                      <a:lnTo>
                        <a:pt x="351" y="86"/>
                      </a:lnTo>
                      <a:lnTo>
                        <a:pt x="361" y="86"/>
                      </a:lnTo>
                      <a:lnTo>
                        <a:pt x="370" y="86"/>
                      </a:lnTo>
                      <a:lnTo>
                        <a:pt x="380" y="86"/>
                      </a:lnTo>
                      <a:lnTo>
                        <a:pt x="389" y="83"/>
                      </a:lnTo>
                      <a:lnTo>
                        <a:pt x="396" y="83"/>
                      </a:lnTo>
                      <a:lnTo>
                        <a:pt x="405" y="83"/>
                      </a:lnTo>
                      <a:lnTo>
                        <a:pt x="415" y="83"/>
                      </a:lnTo>
                      <a:lnTo>
                        <a:pt x="424" y="83"/>
                      </a:lnTo>
                      <a:lnTo>
                        <a:pt x="434" y="83"/>
                      </a:lnTo>
                      <a:lnTo>
                        <a:pt x="443" y="83"/>
                      </a:lnTo>
                      <a:lnTo>
                        <a:pt x="453" y="83"/>
                      </a:lnTo>
                      <a:lnTo>
                        <a:pt x="466" y="83"/>
                      </a:lnTo>
                      <a:lnTo>
                        <a:pt x="479" y="83"/>
                      </a:lnTo>
                      <a:lnTo>
                        <a:pt x="491" y="86"/>
                      </a:lnTo>
                      <a:close/>
                    </a:path>
                  </a:pathLst>
                </a:custGeom>
                <a:solidFill>
                  <a:srgbClr val="2b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6308280" y="3366000"/>
                  <a:ext cx="409680" cy="123480"/>
                </a:xfrm>
                <a:custGeom>
                  <a:avLst/>
                  <a:gdLst/>
                  <a:ahLst/>
                  <a:rect l="l" t="t" r="r" b="b"/>
                  <a:pathLst>
                    <a:path w="481" h="137">
                      <a:moveTo>
                        <a:pt x="481" y="83"/>
                      </a:moveTo>
                      <a:lnTo>
                        <a:pt x="475" y="83"/>
                      </a:lnTo>
                      <a:lnTo>
                        <a:pt x="468" y="80"/>
                      </a:lnTo>
                      <a:lnTo>
                        <a:pt x="462" y="80"/>
                      </a:lnTo>
                      <a:lnTo>
                        <a:pt x="456" y="77"/>
                      </a:lnTo>
                      <a:lnTo>
                        <a:pt x="449" y="73"/>
                      </a:lnTo>
                      <a:lnTo>
                        <a:pt x="443" y="73"/>
                      </a:lnTo>
                      <a:lnTo>
                        <a:pt x="433" y="70"/>
                      </a:lnTo>
                      <a:lnTo>
                        <a:pt x="427" y="67"/>
                      </a:lnTo>
                      <a:lnTo>
                        <a:pt x="421" y="64"/>
                      </a:lnTo>
                      <a:lnTo>
                        <a:pt x="411" y="64"/>
                      </a:lnTo>
                      <a:lnTo>
                        <a:pt x="405" y="61"/>
                      </a:lnTo>
                      <a:lnTo>
                        <a:pt x="395" y="58"/>
                      </a:lnTo>
                      <a:lnTo>
                        <a:pt x="389" y="58"/>
                      </a:lnTo>
                      <a:lnTo>
                        <a:pt x="379" y="54"/>
                      </a:lnTo>
                      <a:lnTo>
                        <a:pt x="370" y="51"/>
                      </a:lnTo>
                      <a:lnTo>
                        <a:pt x="360" y="48"/>
                      </a:lnTo>
                      <a:lnTo>
                        <a:pt x="350" y="48"/>
                      </a:lnTo>
                      <a:lnTo>
                        <a:pt x="341" y="45"/>
                      </a:lnTo>
                      <a:lnTo>
                        <a:pt x="331" y="42"/>
                      </a:lnTo>
                      <a:lnTo>
                        <a:pt x="322" y="38"/>
                      </a:lnTo>
                      <a:lnTo>
                        <a:pt x="309" y="35"/>
                      </a:lnTo>
                      <a:lnTo>
                        <a:pt x="299" y="35"/>
                      </a:lnTo>
                      <a:lnTo>
                        <a:pt x="287" y="32"/>
                      </a:lnTo>
                      <a:lnTo>
                        <a:pt x="274" y="29"/>
                      </a:lnTo>
                      <a:lnTo>
                        <a:pt x="261" y="26"/>
                      </a:lnTo>
                      <a:lnTo>
                        <a:pt x="248" y="22"/>
                      </a:lnTo>
                      <a:lnTo>
                        <a:pt x="236" y="19"/>
                      </a:lnTo>
                      <a:lnTo>
                        <a:pt x="223" y="16"/>
                      </a:lnTo>
                      <a:lnTo>
                        <a:pt x="207" y="16"/>
                      </a:lnTo>
                      <a:lnTo>
                        <a:pt x="194" y="13"/>
                      </a:lnTo>
                      <a:lnTo>
                        <a:pt x="178" y="10"/>
                      </a:lnTo>
                      <a:lnTo>
                        <a:pt x="162" y="6"/>
                      </a:lnTo>
                      <a:lnTo>
                        <a:pt x="153" y="3"/>
                      </a:lnTo>
                      <a:lnTo>
                        <a:pt x="143" y="3"/>
                      </a:lnTo>
                      <a:lnTo>
                        <a:pt x="131" y="3"/>
                      </a:lnTo>
                      <a:lnTo>
                        <a:pt x="121" y="0"/>
                      </a:lnTo>
                      <a:lnTo>
                        <a:pt x="108" y="0"/>
                      </a:lnTo>
                      <a:lnTo>
                        <a:pt x="95" y="0"/>
                      </a:lnTo>
                      <a:lnTo>
                        <a:pt x="83" y="3"/>
                      </a:lnTo>
                      <a:lnTo>
                        <a:pt x="70" y="3"/>
                      </a:lnTo>
                      <a:lnTo>
                        <a:pt x="57" y="3"/>
                      </a:lnTo>
                      <a:lnTo>
                        <a:pt x="48" y="6"/>
                      </a:lnTo>
                      <a:lnTo>
                        <a:pt x="38" y="10"/>
                      </a:lnTo>
                      <a:lnTo>
                        <a:pt x="28" y="10"/>
                      </a:lnTo>
                      <a:lnTo>
                        <a:pt x="19" y="13"/>
                      </a:lnTo>
                      <a:lnTo>
                        <a:pt x="13" y="19"/>
                      </a:lnTo>
                      <a:lnTo>
                        <a:pt x="6" y="22"/>
                      </a:lnTo>
                      <a:lnTo>
                        <a:pt x="3" y="26"/>
                      </a:lnTo>
                      <a:lnTo>
                        <a:pt x="0" y="32"/>
                      </a:lnTo>
                      <a:lnTo>
                        <a:pt x="3" y="38"/>
                      </a:lnTo>
                      <a:lnTo>
                        <a:pt x="3" y="45"/>
                      </a:lnTo>
                      <a:lnTo>
                        <a:pt x="6" y="48"/>
                      </a:lnTo>
                      <a:lnTo>
                        <a:pt x="9" y="54"/>
                      </a:lnTo>
                      <a:lnTo>
                        <a:pt x="13" y="58"/>
                      </a:lnTo>
                      <a:lnTo>
                        <a:pt x="16" y="64"/>
                      </a:lnTo>
                      <a:lnTo>
                        <a:pt x="19" y="67"/>
                      </a:lnTo>
                      <a:lnTo>
                        <a:pt x="25" y="70"/>
                      </a:lnTo>
                      <a:lnTo>
                        <a:pt x="32" y="77"/>
                      </a:lnTo>
                      <a:lnTo>
                        <a:pt x="35" y="80"/>
                      </a:lnTo>
                      <a:lnTo>
                        <a:pt x="41" y="83"/>
                      </a:lnTo>
                      <a:lnTo>
                        <a:pt x="48" y="86"/>
                      </a:lnTo>
                      <a:lnTo>
                        <a:pt x="54" y="89"/>
                      </a:lnTo>
                      <a:lnTo>
                        <a:pt x="60" y="93"/>
                      </a:lnTo>
                      <a:lnTo>
                        <a:pt x="67" y="96"/>
                      </a:lnTo>
                      <a:lnTo>
                        <a:pt x="76" y="99"/>
                      </a:lnTo>
                      <a:lnTo>
                        <a:pt x="86" y="102"/>
                      </a:lnTo>
                      <a:lnTo>
                        <a:pt x="95" y="109"/>
                      </a:lnTo>
                      <a:lnTo>
                        <a:pt x="105" y="112"/>
                      </a:lnTo>
                      <a:lnTo>
                        <a:pt x="115" y="112"/>
                      </a:lnTo>
                      <a:lnTo>
                        <a:pt x="127" y="115"/>
                      </a:lnTo>
                      <a:lnTo>
                        <a:pt x="137" y="118"/>
                      </a:lnTo>
                      <a:lnTo>
                        <a:pt x="150" y="121"/>
                      </a:lnTo>
                      <a:lnTo>
                        <a:pt x="159" y="121"/>
                      </a:lnTo>
                      <a:lnTo>
                        <a:pt x="172" y="124"/>
                      </a:lnTo>
                      <a:lnTo>
                        <a:pt x="185" y="128"/>
                      </a:lnTo>
                      <a:lnTo>
                        <a:pt x="194" y="128"/>
                      </a:lnTo>
                      <a:lnTo>
                        <a:pt x="207" y="131"/>
                      </a:lnTo>
                      <a:lnTo>
                        <a:pt x="217" y="134"/>
                      </a:lnTo>
                      <a:lnTo>
                        <a:pt x="226" y="134"/>
                      </a:lnTo>
                      <a:lnTo>
                        <a:pt x="236" y="137"/>
                      </a:lnTo>
                      <a:lnTo>
                        <a:pt x="226" y="134"/>
                      </a:lnTo>
                      <a:lnTo>
                        <a:pt x="220" y="131"/>
                      </a:lnTo>
                      <a:lnTo>
                        <a:pt x="213" y="128"/>
                      </a:lnTo>
                      <a:lnTo>
                        <a:pt x="210" y="121"/>
                      </a:lnTo>
                      <a:lnTo>
                        <a:pt x="207" y="118"/>
                      </a:lnTo>
                      <a:lnTo>
                        <a:pt x="204" y="115"/>
                      </a:lnTo>
                      <a:lnTo>
                        <a:pt x="201" y="112"/>
                      </a:lnTo>
                      <a:lnTo>
                        <a:pt x="201" y="109"/>
                      </a:lnTo>
                      <a:lnTo>
                        <a:pt x="207" y="109"/>
                      </a:lnTo>
                      <a:lnTo>
                        <a:pt x="213" y="109"/>
                      </a:lnTo>
                      <a:lnTo>
                        <a:pt x="217" y="109"/>
                      </a:lnTo>
                      <a:lnTo>
                        <a:pt x="223" y="105"/>
                      </a:lnTo>
                      <a:lnTo>
                        <a:pt x="226" y="102"/>
                      </a:lnTo>
                      <a:lnTo>
                        <a:pt x="229" y="102"/>
                      </a:lnTo>
                      <a:lnTo>
                        <a:pt x="229" y="99"/>
                      </a:lnTo>
                      <a:lnTo>
                        <a:pt x="233" y="96"/>
                      </a:lnTo>
                      <a:lnTo>
                        <a:pt x="239" y="93"/>
                      </a:lnTo>
                      <a:lnTo>
                        <a:pt x="242" y="89"/>
                      </a:lnTo>
                      <a:lnTo>
                        <a:pt x="245" y="86"/>
                      </a:lnTo>
                      <a:lnTo>
                        <a:pt x="252" y="83"/>
                      </a:lnTo>
                      <a:lnTo>
                        <a:pt x="258" y="80"/>
                      </a:lnTo>
                      <a:lnTo>
                        <a:pt x="268" y="77"/>
                      </a:lnTo>
                      <a:lnTo>
                        <a:pt x="277" y="77"/>
                      </a:lnTo>
                      <a:lnTo>
                        <a:pt x="287" y="77"/>
                      </a:lnTo>
                      <a:lnTo>
                        <a:pt x="296" y="77"/>
                      </a:lnTo>
                      <a:lnTo>
                        <a:pt x="309" y="73"/>
                      </a:lnTo>
                      <a:lnTo>
                        <a:pt x="319" y="73"/>
                      </a:lnTo>
                      <a:lnTo>
                        <a:pt x="328" y="73"/>
                      </a:lnTo>
                      <a:lnTo>
                        <a:pt x="338" y="73"/>
                      </a:lnTo>
                      <a:lnTo>
                        <a:pt x="347" y="73"/>
                      </a:lnTo>
                      <a:lnTo>
                        <a:pt x="360" y="73"/>
                      </a:lnTo>
                      <a:lnTo>
                        <a:pt x="370" y="73"/>
                      </a:lnTo>
                      <a:lnTo>
                        <a:pt x="382" y="73"/>
                      </a:lnTo>
                      <a:lnTo>
                        <a:pt x="392" y="77"/>
                      </a:lnTo>
                      <a:lnTo>
                        <a:pt x="405" y="77"/>
                      </a:lnTo>
                      <a:lnTo>
                        <a:pt x="421" y="77"/>
                      </a:lnTo>
                      <a:lnTo>
                        <a:pt x="433" y="80"/>
                      </a:lnTo>
                      <a:lnTo>
                        <a:pt x="449" y="80"/>
                      </a:lnTo>
                      <a:lnTo>
                        <a:pt x="462" y="83"/>
                      </a:lnTo>
                      <a:lnTo>
                        <a:pt x="481" y="83"/>
                      </a:lnTo>
                      <a:close/>
                    </a:path>
                  </a:pathLst>
                </a:custGeom>
                <a:solidFill>
                  <a:srgbClr val="21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6302160" y="3363480"/>
                  <a:ext cx="399600" cy="129240"/>
                </a:xfrm>
                <a:custGeom>
                  <a:avLst/>
                  <a:gdLst/>
                  <a:ahLst/>
                  <a:rect l="l" t="t" r="r" b="b"/>
                  <a:pathLst>
                    <a:path w="469" h="143">
                      <a:moveTo>
                        <a:pt x="469" y="83"/>
                      </a:moveTo>
                      <a:lnTo>
                        <a:pt x="463" y="83"/>
                      </a:lnTo>
                      <a:lnTo>
                        <a:pt x="456" y="80"/>
                      </a:lnTo>
                      <a:lnTo>
                        <a:pt x="450" y="76"/>
                      </a:lnTo>
                      <a:lnTo>
                        <a:pt x="444" y="76"/>
                      </a:lnTo>
                      <a:lnTo>
                        <a:pt x="434" y="73"/>
                      </a:lnTo>
                      <a:lnTo>
                        <a:pt x="428" y="70"/>
                      </a:lnTo>
                      <a:lnTo>
                        <a:pt x="421" y="67"/>
                      </a:lnTo>
                      <a:lnTo>
                        <a:pt x="415" y="67"/>
                      </a:lnTo>
                      <a:lnTo>
                        <a:pt x="405" y="64"/>
                      </a:lnTo>
                      <a:lnTo>
                        <a:pt x="399" y="61"/>
                      </a:lnTo>
                      <a:lnTo>
                        <a:pt x="389" y="61"/>
                      </a:lnTo>
                      <a:lnTo>
                        <a:pt x="383" y="57"/>
                      </a:lnTo>
                      <a:lnTo>
                        <a:pt x="373" y="54"/>
                      </a:lnTo>
                      <a:lnTo>
                        <a:pt x="364" y="51"/>
                      </a:lnTo>
                      <a:lnTo>
                        <a:pt x="354" y="51"/>
                      </a:lnTo>
                      <a:lnTo>
                        <a:pt x="345" y="48"/>
                      </a:lnTo>
                      <a:lnTo>
                        <a:pt x="335" y="45"/>
                      </a:lnTo>
                      <a:lnTo>
                        <a:pt x="326" y="41"/>
                      </a:lnTo>
                      <a:lnTo>
                        <a:pt x="316" y="41"/>
                      </a:lnTo>
                      <a:lnTo>
                        <a:pt x="303" y="38"/>
                      </a:lnTo>
                      <a:lnTo>
                        <a:pt x="294" y="35"/>
                      </a:lnTo>
                      <a:lnTo>
                        <a:pt x="281" y="32"/>
                      </a:lnTo>
                      <a:lnTo>
                        <a:pt x="268" y="29"/>
                      </a:lnTo>
                      <a:lnTo>
                        <a:pt x="259" y="25"/>
                      </a:lnTo>
                      <a:lnTo>
                        <a:pt x="246" y="25"/>
                      </a:lnTo>
                      <a:lnTo>
                        <a:pt x="230" y="22"/>
                      </a:lnTo>
                      <a:lnTo>
                        <a:pt x="217" y="19"/>
                      </a:lnTo>
                      <a:lnTo>
                        <a:pt x="204" y="16"/>
                      </a:lnTo>
                      <a:lnTo>
                        <a:pt x="189" y="13"/>
                      </a:lnTo>
                      <a:lnTo>
                        <a:pt x="173" y="9"/>
                      </a:lnTo>
                      <a:lnTo>
                        <a:pt x="160" y="6"/>
                      </a:lnTo>
                      <a:lnTo>
                        <a:pt x="144" y="3"/>
                      </a:lnTo>
                      <a:lnTo>
                        <a:pt x="134" y="3"/>
                      </a:lnTo>
                      <a:lnTo>
                        <a:pt x="125" y="3"/>
                      </a:lnTo>
                      <a:lnTo>
                        <a:pt x="115" y="0"/>
                      </a:lnTo>
                      <a:lnTo>
                        <a:pt x="102" y="0"/>
                      </a:lnTo>
                      <a:lnTo>
                        <a:pt x="93" y="0"/>
                      </a:lnTo>
                      <a:lnTo>
                        <a:pt x="80" y="3"/>
                      </a:lnTo>
                      <a:lnTo>
                        <a:pt x="71" y="3"/>
                      </a:lnTo>
                      <a:lnTo>
                        <a:pt x="58" y="6"/>
                      </a:lnTo>
                      <a:lnTo>
                        <a:pt x="48" y="6"/>
                      </a:lnTo>
                      <a:lnTo>
                        <a:pt x="39" y="9"/>
                      </a:lnTo>
                      <a:lnTo>
                        <a:pt x="29" y="13"/>
                      </a:lnTo>
                      <a:lnTo>
                        <a:pt x="20" y="16"/>
                      </a:lnTo>
                      <a:lnTo>
                        <a:pt x="13" y="19"/>
                      </a:lnTo>
                      <a:lnTo>
                        <a:pt x="7" y="22"/>
                      </a:lnTo>
                      <a:lnTo>
                        <a:pt x="4" y="29"/>
                      </a:lnTo>
                      <a:lnTo>
                        <a:pt x="0" y="32"/>
                      </a:lnTo>
                      <a:lnTo>
                        <a:pt x="0" y="38"/>
                      </a:lnTo>
                      <a:lnTo>
                        <a:pt x="0" y="45"/>
                      </a:lnTo>
                      <a:lnTo>
                        <a:pt x="4" y="51"/>
                      </a:lnTo>
                      <a:lnTo>
                        <a:pt x="7" y="57"/>
                      </a:lnTo>
                      <a:lnTo>
                        <a:pt x="10" y="64"/>
                      </a:lnTo>
                      <a:lnTo>
                        <a:pt x="16" y="70"/>
                      </a:lnTo>
                      <a:lnTo>
                        <a:pt x="20" y="73"/>
                      </a:lnTo>
                      <a:lnTo>
                        <a:pt x="26" y="76"/>
                      </a:lnTo>
                      <a:lnTo>
                        <a:pt x="32" y="83"/>
                      </a:lnTo>
                      <a:lnTo>
                        <a:pt x="39" y="86"/>
                      </a:lnTo>
                      <a:lnTo>
                        <a:pt x="48" y="89"/>
                      </a:lnTo>
                      <a:lnTo>
                        <a:pt x="55" y="92"/>
                      </a:lnTo>
                      <a:lnTo>
                        <a:pt x="61" y="99"/>
                      </a:lnTo>
                      <a:lnTo>
                        <a:pt x="67" y="99"/>
                      </a:lnTo>
                      <a:lnTo>
                        <a:pt x="74" y="102"/>
                      </a:lnTo>
                      <a:lnTo>
                        <a:pt x="83" y="105"/>
                      </a:lnTo>
                      <a:lnTo>
                        <a:pt x="93" y="108"/>
                      </a:lnTo>
                      <a:lnTo>
                        <a:pt x="102" y="115"/>
                      </a:lnTo>
                      <a:lnTo>
                        <a:pt x="112" y="115"/>
                      </a:lnTo>
                      <a:lnTo>
                        <a:pt x="125" y="118"/>
                      </a:lnTo>
                      <a:lnTo>
                        <a:pt x="134" y="121"/>
                      </a:lnTo>
                      <a:lnTo>
                        <a:pt x="147" y="124"/>
                      </a:lnTo>
                      <a:lnTo>
                        <a:pt x="157" y="127"/>
                      </a:lnTo>
                      <a:lnTo>
                        <a:pt x="169" y="127"/>
                      </a:lnTo>
                      <a:lnTo>
                        <a:pt x="182" y="131"/>
                      </a:lnTo>
                      <a:lnTo>
                        <a:pt x="195" y="131"/>
                      </a:lnTo>
                      <a:lnTo>
                        <a:pt x="204" y="134"/>
                      </a:lnTo>
                      <a:lnTo>
                        <a:pt x="217" y="137"/>
                      </a:lnTo>
                      <a:lnTo>
                        <a:pt x="230" y="137"/>
                      </a:lnTo>
                      <a:lnTo>
                        <a:pt x="240" y="140"/>
                      </a:lnTo>
                      <a:lnTo>
                        <a:pt x="249" y="140"/>
                      </a:lnTo>
                      <a:lnTo>
                        <a:pt x="259" y="143"/>
                      </a:lnTo>
                      <a:lnTo>
                        <a:pt x="252" y="140"/>
                      </a:lnTo>
                      <a:lnTo>
                        <a:pt x="249" y="137"/>
                      </a:lnTo>
                      <a:lnTo>
                        <a:pt x="243" y="137"/>
                      </a:lnTo>
                      <a:lnTo>
                        <a:pt x="236" y="134"/>
                      </a:lnTo>
                      <a:lnTo>
                        <a:pt x="233" y="131"/>
                      </a:lnTo>
                      <a:lnTo>
                        <a:pt x="227" y="127"/>
                      </a:lnTo>
                      <a:lnTo>
                        <a:pt x="224" y="127"/>
                      </a:lnTo>
                      <a:lnTo>
                        <a:pt x="220" y="124"/>
                      </a:lnTo>
                      <a:lnTo>
                        <a:pt x="214" y="121"/>
                      </a:lnTo>
                      <a:lnTo>
                        <a:pt x="211" y="118"/>
                      </a:lnTo>
                      <a:lnTo>
                        <a:pt x="208" y="115"/>
                      </a:lnTo>
                      <a:lnTo>
                        <a:pt x="208" y="115"/>
                      </a:lnTo>
                      <a:lnTo>
                        <a:pt x="204" y="112"/>
                      </a:lnTo>
                      <a:lnTo>
                        <a:pt x="201" y="108"/>
                      </a:lnTo>
                      <a:lnTo>
                        <a:pt x="198" y="108"/>
                      </a:lnTo>
                      <a:lnTo>
                        <a:pt x="198" y="105"/>
                      </a:lnTo>
                      <a:lnTo>
                        <a:pt x="198" y="105"/>
                      </a:lnTo>
                      <a:lnTo>
                        <a:pt x="201" y="105"/>
                      </a:lnTo>
                      <a:lnTo>
                        <a:pt x="201" y="102"/>
                      </a:lnTo>
                      <a:lnTo>
                        <a:pt x="201" y="99"/>
                      </a:lnTo>
                      <a:lnTo>
                        <a:pt x="201" y="96"/>
                      </a:lnTo>
                      <a:lnTo>
                        <a:pt x="201" y="92"/>
                      </a:lnTo>
                      <a:lnTo>
                        <a:pt x="201" y="89"/>
                      </a:lnTo>
                      <a:lnTo>
                        <a:pt x="201" y="86"/>
                      </a:lnTo>
                      <a:lnTo>
                        <a:pt x="201" y="80"/>
                      </a:lnTo>
                      <a:lnTo>
                        <a:pt x="204" y="76"/>
                      </a:lnTo>
                      <a:lnTo>
                        <a:pt x="208" y="73"/>
                      </a:lnTo>
                      <a:lnTo>
                        <a:pt x="211" y="70"/>
                      </a:lnTo>
                      <a:lnTo>
                        <a:pt x="217" y="67"/>
                      </a:lnTo>
                      <a:lnTo>
                        <a:pt x="224" y="64"/>
                      </a:lnTo>
                      <a:lnTo>
                        <a:pt x="233" y="64"/>
                      </a:lnTo>
                      <a:lnTo>
                        <a:pt x="246" y="61"/>
                      </a:lnTo>
                      <a:lnTo>
                        <a:pt x="249" y="61"/>
                      </a:lnTo>
                      <a:lnTo>
                        <a:pt x="252" y="61"/>
                      </a:lnTo>
                      <a:lnTo>
                        <a:pt x="259" y="61"/>
                      </a:lnTo>
                      <a:lnTo>
                        <a:pt x="262" y="61"/>
                      </a:lnTo>
                      <a:lnTo>
                        <a:pt x="268" y="61"/>
                      </a:lnTo>
                      <a:lnTo>
                        <a:pt x="275" y="61"/>
                      </a:lnTo>
                      <a:lnTo>
                        <a:pt x="278" y="61"/>
                      </a:lnTo>
                      <a:lnTo>
                        <a:pt x="284" y="64"/>
                      </a:lnTo>
                      <a:lnTo>
                        <a:pt x="287" y="64"/>
                      </a:lnTo>
                      <a:lnTo>
                        <a:pt x="294" y="64"/>
                      </a:lnTo>
                      <a:lnTo>
                        <a:pt x="300" y="64"/>
                      </a:lnTo>
                      <a:lnTo>
                        <a:pt x="306" y="64"/>
                      </a:lnTo>
                      <a:lnTo>
                        <a:pt x="313" y="64"/>
                      </a:lnTo>
                      <a:lnTo>
                        <a:pt x="319" y="64"/>
                      </a:lnTo>
                      <a:lnTo>
                        <a:pt x="326" y="64"/>
                      </a:lnTo>
                      <a:lnTo>
                        <a:pt x="332" y="67"/>
                      </a:lnTo>
                      <a:lnTo>
                        <a:pt x="338" y="67"/>
                      </a:lnTo>
                      <a:lnTo>
                        <a:pt x="348" y="67"/>
                      </a:lnTo>
                      <a:lnTo>
                        <a:pt x="354" y="67"/>
                      </a:lnTo>
                      <a:lnTo>
                        <a:pt x="361" y="67"/>
                      </a:lnTo>
                      <a:lnTo>
                        <a:pt x="370" y="70"/>
                      </a:lnTo>
                      <a:lnTo>
                        <a:pt x="377" y="70"/>
                      </a:lnTo>
                      <a:lnTo>
                        <a:pt x="386" y="70"/>
                      </a:lnTo>
                      <a:lnTo>
                        <a:pt x="393" y="73"/>
                      </a:lnTo>
                      <a:lnTo>
                        <a:pt x="402" y="73"/>
                      </a:lnTo>
                      <a:lnTo>
                        <a:pt x="412" y="76"/>
                      </a:lnTo>
                      <a:lnTo>
                        <a:pt x="421" y="76"/>
                      </a:lnTo>
                      <a:lnTo>
                        <a:pt x="428" y="76"/>
                      </a:lnTo>
                      <a:lnTo>
                        <a:pt x="437" y="80"/>
                      </a:lnTo>
                      <a:lnTo>
                        <a:pt x="447" y="80"/>
                      </a:lnTo>
                      <a:lnTo>
                        <a:pt x="456" y="83"/>
                      </a:lnTo>
                      <a:lnTo>
                        <a:pt x="469" y="83"/>
                      </a:lnTo>
                      <a:close/>
                    </a:path>
                  </a:pathLst>
                </a:custGeom>
                <a:solidFill>
                  <a:srgbClr val="1921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6294240" y="3360600"/>
                  <a:ext cx="391320" cy="131760"/>
                </a:xfrm>
                <a:custGeom>
                  <a:avLst/>
                  <a:gdLst/>
                  <a:ahLst/>
                  <a:rect l="l" t="t" r="r" b="b"/>
                  <a:pathLst>
                    <a:path w="459" h="146">
                      <a:moveTo>
                        <a:pt x="459" y="83"/>
                      </a:moveTo>
                      <a:lnTo>
                        <a:pt x="453" y="79"/>
                      </a:lnTo>
                      <a:lnTo>
                        <a:pt x="443" y="79"/>
                      </a:lnTo>
                      <a:lnTo>
                        <a:pt x="437" y="76"/>
                      </a:lnTo>
                      <a:lnTo>
                        <a:pt x="430" y="73"/>
                      </a:lnTo>
                      <a:lnTo>
                        <a:pt x="424" y="70"/>
                      </a:lnTo>
                      <a:lnTo>
                        <a:pt x="417" y="70"/>
                      </a:lnTo>
                      <a:lnTo>
                        <a:pt x="408" y="67"/>
                      </a:lnTo>
                      <a:lnTo>
                        <a:pt x="402" y="64"/>
                      </a:lnTo>
                      <a:lnTo>
                        <a:pt x="395" y="64"/>
                      </a:lnTo>
                      <a:lnTo>
                        <a:pt x="386" y="60"/>
                      </a:lnTo>
                      <a:lnTo>
                        <a:pt x="376" y="57"/>
                      </a:lnTo>
                      <a:lnTo>
                        <a:pt x="370" y="57"/>
                      </a:lnTo>
                      <a:lnTo>
                        <a:pt x="360" y="54"/>
                      </a:lnTo>
                      <a:lnTo>
                        <a:pt x="351" y="51"/>
                      </a:lnTo>
                      <a:lnTo>
                        <a:pt x="341" y="48"/>
                      </a:lnTo>
                      <a:lnTo>
                        <a:pt x="331" y="48"/>
                      </a:lnTo>
                      <a:lnTo>
                        <a:pt x="322" y="44"/>
                      </a:lnTo>
                      <a:lnTo>
                        <a:pt x="312" y="41"/>
                      </a:lnTo>
                      <a:lnTo>
                        <a:pt x="303" y="38"/>
                      </a:lnTo>
                      <a:lnTo>
                        <a:pt x="290" y="35"/>
                      </a:lnTo>
                      <a:lnTo>
                        <a:pt x="280" y="32"/>
                      </a:lnTo>
                      <a:lnTo>
                        <a:pt x="268" y="32"/>
                      </a:lnTo>
                      <a:lnTo>
                        <a:pt x="255" y="28"/>
                      </a:lnTo>
                      <a:lnTo>
                        <a:pt x="242" y="25"/>
                      </a:lnTo>
                      <a:lnTo>
                        <a:pt x="229" y="22"/>
                      </a:lnTo>
                      <a:lnTo>
                        <a:pt x="217" y="19"/>
                      </a:lnTo>
                      <a:lnTo>
                        <a:pt x="201" y="16"/>
                      </a:lnTo>
                      <a:lnTo>
                        <a:pt x="188" y="12"/>
                      </a:lnTo>
                      <a:lnTo>
                        <a:pt x="172" y="12"/>
                      </a:lnTo>
                      <a:lnTo>
                        <a:pt x="156" y="9"/>
                      </a:lnTo>
                      <a:lnTo>
                        <a:pt x="140" y="6"/>
                      </a:lnTo>
                      <a:lnTo>
                        <a:pt x="124" y="3"/>
                      </a:lnTo>
                      <a:lnTo>
                        <a:pt x="118" y="0"/>
                      </a:lnTo>
                      <a:lnTo>
                        <a:pt x="108" y="0"/>
                      </a:lnTo>
                      <a:lnTo>
                        <a:pt x="102" y="0"/>
                      </a:lnTo>
                      <a:lnTo>
                        <a:pt x="89" y="0"/>
                      </a:lnTo>
                      <a:lnTo>
                        <a:pt x="80" y="3"/>
                      </a:lnTo>
                      <a:lnTo>
                        <a:pt x="70" y="3"/>
                      </a:lnTo>
                      <a:lnTo>
                        <a:pt x="60" y="6"/>
                      </a:lnTo>
                      <a:lnTo>
                        <a:pt x="51" y="6"/>
                      </a:lnTo>
                      <a:lnTo>
                        <a:pt x="41" y="9"/>
                      </a:lnTo>
                      <a:lnTo>
                        <a:pt x="32" y="12"/>
                      </a:lnTo>
                      <a:lnTo>
                        <a:pt x="22" y="16"/>
                      </a:lnTo>
                      <a:lnTo>
                        <a:pt x="16" y="19"/>
                      </a:lnTo>
                      <a:lnTo>
                        <a:pt x="9" y="25"/>
                      </a:lnTo>
                      <a:lnTo>
                        <a:pt x="3" y="28"/>
                      </a:lnTo>
                      <a:lnTo>
                        <a:pt x="0" y="35"/>
                      </a:lnTo>
                      <a:lnTo>
                        <a:pt x="0" y="41"/>
                      </a:lnTo>
                      <a:lnTo>
                        <a:pt x="0" y="48"/>
                      </a:lnTo>
                      <a:lnTo>
                        <a:pt x="3" y="54"/>
                      </a:lnTo>
                      <a:lnTo>
                        <a:pt x="6" y="60"/>
                      </a:lnTo>
                      <a:lnTo>
                        <a:pt x="13" y="67"/>
                      </a:lnTo>
                      <a:lnTo>
                        <a:pt x="16" y="73"/>
                      </a:lnTo>
                      <a:lnTo>
                        <a:pt x="22" y="79"/>
                      </a:lnTo>
                      <a:lnTo>
                        <a:pt x="29" y="86"/>
                      </a:lnTo>
                      <a:lnTo>
                        <a:pt x="35" y="89"/>
                      </a:lnTo>
                      <a:lnTo>
                        <a:pt x="44" y="92"/>
                      </a:lnTo>
                      <a:lnTo>
                        <a:pt x="51" y="99"/>
                      </a:lnTo>
                      <a:lnTo>
                        <a:pt x="60" y="102"/>
                      </a:lnTo>
                      <a:lnTo>
                        <a:pt x="70" y="105"/>
                      </a:lnTo>
                      <a:lnTo>
                        <a:pt x="76" y="108"/>
                      </a:lnTo>
                      <a:lnTo>
                        <a:pt x="86" y="111"/>
                      </a:lnTo>
                      <a:lnTo>
                        <a:pt x="92" y="115"/>
                      </a:lnTo>
                      <a:lnTo>
                        <a:pt x="102" y="118"/>
                      </a:lnTo>
                      <a:lnTo>
                        <a:pt x="111" y="121"/>
                      </a:lnTo>
                      <a:lnTo>
                        <a:pt x="121" y="124"/>
                      </a:lnTo>
                      <a:lnTo>
                        <a:pt x="134" y="124"/>
                      </a:lnTo>
                      <a:lnTo>
                        <a:pt x="147" y="127"/>
                      </a:lnTo>
                      <a:lnTo>
                        <a:pt x="156" y="130"/>
                      </a:lnTo>
                      <a:lnTo>
                        <a:pt x="169" y="130"/>
                      </a:lnTo>
                      <a:lnTo>
                        <a:pt x="182" y="134"/>
                      </a:lnTo>
                      <a:lnTo>
                        <a:pt x="194" y="137"/>
                      </a:lnTo>
                      <a:lnTo>
                        <a:pt x="207" y="137"/>
                      </a:lnTo>
                      <a:lnTo>
                        <a:pt x="217" y="140"/>
                      </a:lnTo>
                      <a:lnTo>
                        <a:pt x="229" y="140"/>
                      </a:lnTo>
                      <a:lnTo>
                        <a:pt x="242" y="140"/>
                      </a:lnTo>
                      <a:lnTo>
                        <a:pt x="255" y="143"/>
                      </a:lnTo>
                      <a:lnTo>
                        <a:pt x="264" y="143"/>
                      </a:lnTo>
                      <a:lnTo>
                        <a:pt x="274" y="146"/>
                      </a:lnTo>
                      <a:lnTo>
                        <a:pt x="287" y="146"/>
                      </a:lnTo>
                      <a:lnTo>
                        <a:pt x="277" y="146"/>
                      </a:lnTo>
                      <a:lnTo>
                        <a:pt x="271" y="143"/>
                      </a:lnTo>
                      <a:lnTo>
                        <a:pt x="261" y="140"/>
                      </a:lnTo>
                      <a:lnTo>
                        <a:pt x="255" y="137"/>
                      </a:lnTo>
                      <a:lnTo>
                        <a:pt x="249" y="134"/>
                      </a:lnTo>
                      <a:lnTo>
                        <a:pt x="242" y="130"/>
                      </a:lnTo>
                      <a:lnTo>
                        <a:pt x="236" y="127"/>
                      </a:lnTo>
                      <a:lnTo>
                        <a:pt x="229" y="124"/>
                      </a:lnTo>
                      <a:lnTo>
                        <a:pt x="226" y="121"/>
                      </a:lnTo>
                      <a:lnTo>
                        <a:pt x="220" y="118"/>
                      </a:lnTo>
                      <a:lnTo>
                        <a:pt x="213" y="115"/>
                      </a:lnTo>
                      <a:lnTo>
                        <a:pt x="210" y="115"/>
                      </a:lnTo>
                      <a:lnTo>
                        <a:pt x="207" y="111"/>
                      </a:lnTo>
                      <a:lnTo>
                        <a:pt x="201" y="108"/>
                      </a:lnTo>
                      <a:lnTo>
                        <a:pt x="198" y="105"/>
                      </a:lnTo>
                      <a:lnTo>
                        <a:pt x="194" y="105"/>
                      </a:lnTo>
                      <a:lnTo>
                        <a:pt x="191" y="102"/>
                      </a:lnTo>
                      <a:lnTo>
                        <a:pt x="188" y="99"/>
                      </a:lnTo>
                      <a:lnTo>
                        <a:pt x="185" y="95"/>
                      </a:lnTo>
                      <a:lnTo>
                        <a:pt x="182" y="92"/>
                      </a:lnTo>
                      <a:lnTo>
                        <a:pt x="178" y="89"/>
                      </a:lnTo>
                      <a:lnTo>
                        <a:pt x="175" y="86"/>
                      </a:lnTo>
                      <a:lnTo>
                        <a:pt x="172" y="79"/>
                      </a:lnTo>
                      <a:lnTo>
                        <a:pt x="169" y="76"/>
                      </a:lnTo>
                      <a:lnTo>
                        <a:pt x="169" y="70"/>
                      </a:lnTo>
                      <a:lnTo>
                        <a:pt x="169" y="67"/>
                      </a:lnTo>
                      <a:lnTo>
                        <a:pt x="172" y="64"/>
                      </a:lnTo>
                      <a:lnTo>
                        <a:pt x="172" y="57"/>
                      </a:lnTo>
                      <a:lnTo>
                        <a:pt x="178" y="54"/>
                      </a:lnTo>
                      <a:lnTo>
                        <a:pt x="185" y="51"/>
                      </a:lnTo>
                      <a:lnTo>
                        <a:pt x="194" y="51"/>
                      </a:lnTo>
                      <a:lnTo>
                        <a:pt x="204" y="48"/>
                      </a:lnTo>
                      <a:lnTo>
                        <a:pt x="207" y="48"/>
                      </a:lnTo>
                      <a:lnTo>
                        <a:pt x="210" y="48"/>
                      </a:lnTo>
                      <a:lnTo>
                        <a:pt x="217" y="48"/>
                      </a:lnTo>
                      <a:lnTo>
                        <a:pt x="220" y="48"/>
                      </a:lnTo>
                      <a:lnTo>
                        <a:pt x="226" y="48"/>
                      </a:lnTo>
                      <a:lnTo>
                        <a:pt x="229" y="48"/>
                      </a:lnTo>
                      <a:lnTo>
                        <a:pt x="236" y="51"/>
                      </a:lnTo>
                      <a:lnTo>
                        <a:pt x="242" y="51"/>
                      </a:lnTo>
                      <a:lnTo>
                        <a:pt x="249" y="51"/>
                      </a:lnTo>
                      <a:lnTo>
                        <a:pt x="255" y="51"/>
                      </a:lnTo>
                      <a:lnTo>
                        <a:pt x="261" y="51"/>
                      </a:lnTo>
                      <a:lnTo>
                        <a:pt x="268" y="54"/>
                      </a:lnTo>
                      <a:lnTo>
                        <a:pt x="274" y="54"/>
                      </a:lnTo>
                      <a:lnTo>
                        <a:pt x="284" y="54"/>
                      </a:lnTo>
                      <a:lnTo>
                        <a:pt x="290" y="54"/>
                      </a:lnTo>
                      <a:lnTo>
                        <a:pt x="296" y="57"/>
                      </a:lnTo>
                      <a:lnTo>
                        <a:pt x="306" y="57"/>
                      </a:lnTo>
                      <a:lnTo>
                        <a:pt x="315" y="60"/>
                      </a:lnTo>
                      <a:lnTo>
                        <a:pt x="322" y="60"/>
                      </a:lnTo>
                      <a:lnTo>
                        <a:pt x="331" y="60"/>
                      </a:lnTo>
                      <a:lnTo>
                        <a:pt x="341" y="64"/>
                      </a:lnTo>
                      <a:lnTo>
                        <a:pt x="351" y="64"/>
                      </a:lnTo>
                      <a:lnTo>
                        <a:pt x="360" y="67"/>
                      </a:lnTo>
                      <a:lnTo>
                        <a:pt x="370" y="67"/>
                      </a:lnTo>
                      <a:lnTo>
                        <a:pt x="382" y="70"/>
                      </a:lnTo>
                      <a:lnTo>
                        <a:pt x="392" y="70"/>
                      </a:lnTo>
                      <a:lnTo>
                        <a:pt x="402" y="73"/>
                      </a:lnTo>
                      <a:lnTo>
                        <a:pt x="414" y="73"/>
                      </a:lnTo>
                      <a:lnTo>
                        <a:pt x="424" y="76"/>
                      </a:lnTo>
                      <a:lnTo>
                        <a:pt x="433" y="79"/>
                      </a:lnTo>
                      <a:lnTo>
                        <a:pt x="446" y="79"/>
                      </a:lnTo>
                      <a:lnTo>
                        <a:pt x="459" y="83"/>
                      </a:lnTo>
                      <a:close/>
                    </a:path>
                  </a:pathLst>
                </a:custGeom>
                <a:solidFill>
                  <a:srgbClr val="111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294240" y="3392280"/>
                  <a:ext cx="535320" cy="158040"/>
                </a:xfrm>
                <a:custGeom>
                  <a:avLst/>
                  <a:gdLst/>
                  <a:ahLst/>
                  <a:rect l="l" t="t" r="r" b="b"/>
                  <a:pathLst>
                    <a:path w="628" h="175">
                      <a:moveTo>
                        <a:pt x="628" y="175"/>
                      </a:moveTo>
                      <a:lnTo>
                        <a:pt x="615" y="175"/>
                      </a:lnTo>
                      <a:lnTo>
                        <a:pt x="602" y="175"/>
                      </a:lnTo>
                      <a:lnTo>
                        <a:pt x="586" y="175"/>
                      </a:lnTo>
                      <a:lnTo>
                        <a:pt x="574" y="172"/>
                      </a:lnTo>
                      <a:lnTo>
                        <a:pt x="561" y="172"/>
                      </a:lnTo>
                      <a:lnTo>
                        <a:pt x="548" y="172"/>
                      </a:lnTo>
                      <a:lnTo>
                        <a:pt x="535" y="169"/>
                      </a:lnTo>
                      <a:lnTo>
                        <a:pt x="526" y="169"/>
                      </a:lnTo>
                      <a:lnTo>
                        <a:pt x="513" y="166"/>
                      </a:lnTo>
                      <a:lnTo>
                        <a:pt x="500" y="166"/>
                      </a:lnTo>
                      <a:lnTo>
                        <a:pt x="488" y="166"/>
                      </a:lnTo>
                      <a:lnTo>
                        <a:pt x="478" y="162"/>
                      </a:lnTo>
                      <a:lnTo>
                        <a:pt x="465" y="162"/>
                      </a:lnTo>
                      <a:lnTo>
                        <a:pt x="456" y="159"/>
                      </a:lnTo>
                      <a:lnTo>
                        <a:pt x="443" y="159"/>
                      </a:lnTo>
                      <a:lnTo>
                        <a:pt x="430" y="156"/>
                      </a:lnTo>
                      <a:lnTo>
                        <a:pt x="421" y="156"/>
                      </a:lnTo>
                      <a:lnTo>
                        <a:pt x="408" y="153"/>
                      </a:lnTo>
                      <a:lnTo>
                        <a:pt x="398" y="150"/>
                      </a:lnTo>
                      <a:lnTo>
                        <a:pt x="386" y="150"/>
                      </a:lnTo>
                      <a:lnTo>
                        <a:pt x="373" y="146"/>
                      </a:lnTo>
                      <a:lnTo>
                        <a:pt x="363" y="143"/>
                      </a:lnTo>
                      <a:lnTo>
                        <a:pt x="351" y="143"/>
                      </a:lnTo>
                      <a:lnTo>
                        <a:pt x="338" y="140"/>
                      </a:lnTo>
                      <a:lnTo>
                        <a:pt x="325" y="137"/>
                      </a:lnTo>
                      <a:lnTo>
                        <a:pt x="315" y="137"/>
                      </a:lnTo>
                      <a:lnTo>
                        <a:pt x="303" y="134"/>
                      </a:lnTo>
                      <a:lnTo>
                        <a:pt x="290" y="131"/>
                      </a:lnTo>
                      <a:lnTo>
                        <a:pt x="277" y="127"/>
                      </a:lnTo>
                      <a:lnTo>
                        <a:pt x="264" y="127"/>
                      </a:lnTo>
                      <a:lnTo>
                        <a:pt x="249" y="124"/>
                      </a:lnTo>
                      <a:lnTo>
                        <a:pt x="236" y="121"/>
                      </a:lnTo>
                      <a:lnTo>
                        <a:pt x="229" y="118"/>
                      </a:lnTo>
                      <a:lnTo>
                        <a:pt x="220" y="118"/>
                      </a:lnTo>
                      <a:lnTo>
                        <a:pt x="213" y="115"/>
                      </a:lnTo>
                      <a:lnTo>
                        <a:pt x="204" y="115"/>
                      </a:lnTo>
                      <a:lnTo>
                        <a:pt x="194" y="111"/>
                      </a:lnTo>
                      <a:lnTo>
                        <a:pt x="185" y="108"/>
                      </a:lnTo>
                      <a:lnTo>
                        <a:pt x="175" y="108"/>
                      </a:lnTo>
                      <a:lnTo>
                        <a:pt x="162" y="105"/>
                      </a:lnTo>
                      <a:lnTo>
                        <a:pt x="153" y="102"/>
                      </a:lnTo>
                      <a:lnTo>
                        <a:pt x="143" y="99"/>
                      </a:lnTo>
                      <a:lnTo>
                        <a:pt x="134" y="95"/>
                      </a:lnTo>
                      <a:lnTo>
                        <a:pt x="121" y="92"/>
                      </a:lnTo>
                      <a:lnTo>
                        <a:pt x="111" y="89"/>
                      </a:lnTo>
                      <a:lnTo>
                        <a:pt x="102" y="86"/>
                      </a:lnTo>
                      <a:lnTo>
                        <a:pt x="92" y="83"/>
                      </a:lnTo>
                      <a:lnTo>
                        <a:pt x="83" y="80"/>
                      </a:lnTo>
                      <a:lnTo>
                        <a:pt x="73" y="73"/>
                      </a:lnTo>
                      <a:lnTo>
                        <a:pt x="64" y="70"/>
                      </a:lnTo>
                      <a:lnTo>
                        <a:pt x="54" y="67"/>
                      </a:lnTo>
                      <a:lnTo>
                        <a:pt x="44" y="64"/>
                      </a:lnTo>
                      <a:lnTo>
                        <a:pt x="38" y="57"/>
                      </a:lnTo>
                      <a:lnTo>
                        <a:pt x="32" y="54"/>
                      </a:lnTo>
                      <a:lnTo>
                        <a:pt x="25" y="48"/>
                      </a:lnTo>
                      <a:lnTo>
                        <a:pt x="19" y="44"/>
                      </a:lnTo>
                      <a:lnTo>
                        <a:pt x="13" y="38"/>
                      </a:lnTo>
                      <a:lnTo>
                        <a:pt x="9" y="32"/>
                      </a:lnTo>
                      <a:lnTo>
                        <a:pt x="6" y="29"/>
                      </a:lnTo>
                      <a:lnTo>
                        <a:pt x="3" y="22"/>
                      </a:lnTo>
                      <a:lnTo>
                        <a:pt x="0" y="16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3" y="0"/>
                      </a:lnTo>
                      <a:lnTo>
                        <a:pt x="3" y="6"/>
                      </a:lnTo>
                      <a:lnTo>
                        <a:pt x="3" y="9"/>
                      </a:lnTo>
                      <a:lnTo>
                        <a:pt x="6" y="16"/>
                      </a:lnTo>
                      <a:lnTo>
                        <a:pt x="9" y="22"/>
                      </a:lnTo>
                      <a:lnTo>
                        <a:pt x="13" y="25"/>
                      </a:lnTo>
                      <a:lnTo>
                        <a:pt x="16" y="32"/>
                      </a:lnTo>
                      <a:lnTo>
                        <a:pt x="19" y="35"/>
                      </a:lnTo>
                      <a:lnTo>
                        <a:pt x="25" y="41"/>
                      </a:lnTo>
                      <a:lnTo>
                        <a:pt x="32" y="44"/>
                      </a:lnTo>
                      <a:lnTo>
                        <a:pt x="35" y="51"/>
                      </a:lnTo>
                      <a:lnTo>
                        <a:pt x="44" y="54"/>
                      </a:lnTo>
                      <a:lnTo>
                        <a:pt x="51" y="57"/>
                      </a:lnTo>
                      <a:lnTo>
                        <a:pt x="57" y="60"/>
                      </a:lnTo>
                      <a:lnTo>
                        <a:pt x="67" y="64"/>
                      </a:lnTo>
                      <a:lnTo>
                        <a:pt x="73" y="67"/>
                      </a:lnTo>
                      <a:lnTo>
                        <a:pt x="83" y="73"/>
                      </a:lnTo>
                      <a:lnTo>
                        <a:pt x="92" y="76"/>
                      </a:lnTo>
                      <a:lnTo>
                        <a:pt x="102" y="80"/>
                      </a:lnTo>
                      <a:lnTo>
                        <a:pt x="108" y="83"/>
                      </a:lnTo>
                      <a:lnTo>
                        <a:pt x="118" y="83"/>
                      </a:lnTo>
                      <a:lnTo>
                        <a:pt x="127" y="86"/>
                      </a:lnTo>
                      <a:lnTo>
                        <a:pt x="137" y="89"/>
                      </a:lnTo>
                      <a:lnTo>
                        <a:pt x="147" y="92"/>
                      </a:lnTo>
                      <a:lnTo>
                        <a:pt x="159" y="95"/>
                      </a:lnTo>
                      <a:lnTo>
                        <a:pt x="169" y="95"/>
                      </a:lnTo>
                      <a:lnTo>
                        <a:pt x="178" y="99"/>
                      </a:lnTo>
                      <a:lnTo>
                        <a:pt x="188" y="102"/>
                      </a:lnTo>
                      <a:lnTo>
                        <a:pt x="198" y="102"/>
                      </a:lnTo>
                      <a:lnTo>
                        <a:pt x="207" y="105"/>
                      </a:lnTo>
                      <a:lnTo>
                        <a:pt x="213" y="108"/>
                      </a:lnTo>
                      <a:lnTo>
                        <a:pt x="223" y="108"/>
                      </a:lnTo>
                      <a:lnTo>
                        <a:pt x="233" y="111"/>
                      </a:lnTo>
                      <a:lnTo>
                        <a:pt x="245" y="115"/>
                      </a:lnTo>
                      <a:lnTo>
                        <a:pt x="261" y="118"/>
                      </a:lnTo>
                      <a:lnTo>
                        <a:pt x="274" y="121"/>
                      </a:lnTo>
                      <a:lnTo>
                        <a:pt x="287" y="121"/>
                      </a:lnTo>
                      <a:lnTo>
                        <a:pt x="300" y="124"/>
                      </a:lnTo>
                      <a:lnTo>
                        <a:pt x="312" y="127"/>
                      </a:lnTo>
                      <a:lnTo>
                        <a:pt x="325" y="131"/>
                      </a:lnTo>
                      <a:lnTo>
                        <a:pt x="338" y="134"/>
                      </a:lnTo>
                      <a:lnTo>
                        <a:pt x="351" y="134"/>
                      </a:lnTo>
                      <a:lnTo>
                        <a:pt x="363" y="137"/>
                      </a:lnTo>
                      <a:lnTo>
                        <a:pt x="376" y="140"/>
                      </a:lnTo>
                      <a:lnTo>
                        <a:pt x="389" y="143"/>
                      </a:lnTo>
                      <a:lnTo>
                        <a:pt x="398" y="143"/>
                      </a:lnTo>
                      <a:lnTo>
                        <a:pt x="411" y="146"/>
                      </a:lnTo>
                      <a:lnTo>
                        <a:pt x="424" y="150"/>
                      </a:lnTo>
                      <a:lnTo>
                        <a:pt x="437" y="150"/>
                      </a:lnTo>
                      <a:lnTo>
                        <a:pt x="446" y="153"/>
                      </a:lnTo>
                      <a:lnTo>
                        <a:pt x="459" y="153"/>
                      </a:lnTo>
                      <a:lnTo>
                        <a:pt x="472" y="156"/>
                      </a:lnTo>
                      <a:lnTo>
                        <a:pt x="484" y="156"/>
                      </a:lnTo>
                      <a:lnTo>
                        <a:pt x="494" y="159"/>
                      </a:lnTo>
                      <a:lnTo>
                        <a:pt x="507" y="159"/>
                      </a:lnTo>
                      <a:lnTo>
                        <a:pt x="519" y="162"/>
                      </a:lnTo>
                      <a:lnTo>
                        <a:pt x="529" y="166"/>
                      </a:lnTo>
                      <a:lnTo>
                        <a:pt x="542" y="166"/>
                      </a:lnTo>
                      <a:lnTo>
                        <a:pt x="555" y="166"/>
                      </a:lnTo>
                      <a:lnTo>
                        <a:pt x="567" y="169"/>
                      </a:lnTo>
                      <a:lnTo>
                        <a:pt x="580" y="169"/>
                      </a:lnTo>
                      <a:lnTo>
                        <a:pt x="590" y="172"/>
                      </a:lnTo>
                      <a:lnTo>
                        <a:pt x="602" y="172"/>
                      </a:lnTo>
                      <a:lnTo>
                        <a:pt x="615" y="175"/>
                      </a:lnTo>
                      <a:lnTo>
                        <a:pt x="628" y="175"/>
                      </a:lnTo>
                      <a:close/>
                    </a:path>
                  </a:pathLst>
                </a:custGeom>
                <a:solidFill>
                  <a:srgbClr val="d1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058160" y="3176280"/>
                  <a:ext cx="4680" cy="54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054560" y="317916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049520" y="317916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044480" y="318204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041960" y="31820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038360" y="318456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7033320" y="3187080"/>
                  <a:ext cx="4680" cy="36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4"/>
                      </a:moveTo>
                      <a:lnTo>
                        <a:pt x="3" y="4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030800" y="319104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28280" y="319356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22160" y="319608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3" y="10"/>
                      </a:moveTo>
                      <a:lnTo>
                        <a:pt x="3" y="10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019640" y="320184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3" y="10"/>
                      </a:moveTo>
                      <a:lnTo>
                        <a:pt x="3" y="10"/>
                      </a:ln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017120" y="32108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3" y="6"/>
                      </a:moveTo>
                      <a:lnTo>
                        <a:pt x="3" y="6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017120" y="3216240"/>
                  <a:ext cx="2160" cy="61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014600" y="3222360"/>
                  <a:ext cx="2160" cy="54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6"/>
                      </a:moveTo>
                      <a:lnTo>
                        <a:pt x="3" y="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011360" y="322812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4" y="10"/>
                      </a:moveTo>
                      <a:lnTo>
                        <a:pt x="4" y="1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011360" y="3233160"/>
                  <a:ext cx="3240" cy="900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4" y="10"/>
                      </a:moveTo>
                      <a:lnTo>
                        <a:pt x="4" y="10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008840" y="3242160"/>
                  <a:ext cx="5760" cy="11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06320" y="3254040"/>
                  <a:ext cx="2160" cy="1440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7003440" y="3268440"/>
                  <a:ext cx="2520" cy="1440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3" y="16"/>
                      </a:moveTo>
                      <a:lnTo>
                        <a:pt x="3" y="1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000920" y="3279240"/>
                  <a:ext cx="5040" cy="1404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3" y="16"/>
                      </a:moveTo>
                      <a:lnTo>
                        <a:pt x="3" y="16"/>
                      </a:ln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998400" y="3293640"/>
                  <a:ext cx="4680" cy="1440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3" y="16"/>
                      </a:moveTo>
                      <a:lnTo>
                        <a:pt x="3" y="16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998400" y="3308400"/>
                  <a:ext cx="2160" cy="1152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3" y="13"/>
                      </a:moveTo>
                      <a:lnTo>
                        <a:pt x="3" y="1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998400" y="3319920"/>
                  <a:ext cx="2160" cy="1440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3" y="16"/>
                      </a:moveTo>
                      <a:lnTo>
                        <a:pt x="3" y="16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994800" y="3334320"/>
                  <a:ext cx="5760" cy="14040"/>
                </a:xfrm>
                <a:custGeom>
                  <a:avLst/>
                  <a:gdLst/>
                  <a:ahLst/>
                  <a:rect l="l" t="t" r="r" b="b"/>
                  <a:pathLst>
                    <a:path w="7" h="16">
                      <a:moveTo>
                        <a:pt x="4" y="16"/>
                      </a:moveTo>
                      <a:lnTo>
                        <a:pt x="4" y="16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4" y="1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994800" y="3348720"/>
                  <a:ext cx="3240" cy="40680"/>
                </a:xfrm>
                <a:custGeom>
                  <a:avLst/>
                  <a:gdLst/>
                  <a:ahLst/>
                  <a:rect l="l" t="t" r="r" b="b"/>
                  <a:pathLst>
                    <a:path w="4" h="45">
                      <a:moveTo>
                        <a:pt x="4" y="45"/>
                      </a:moveTo>
                      <a:lnTo>
                        <a:pt x="4" y="45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4" y="45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994800" y="3389400"/>
                  <a:ext cx="3240" cy="39600"/>
                </a:xfrm>
                <a:custGeom>
                  <a:avLst/>
                  <a:gdLst/>
                  <a:ahLst/>
                  <a:rect l="l" t="t" r="r" b="b"/>
                  <a:pathLst>
                    <a:path w="4" h="44">
                      <a:moveTo>
                        <a:pt x="4" y="44"/>
                      </a:moveTo>
                      <a:lnTo>
                        <a:pt x="4" y="44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4" y="44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994800" y="3429360"/>
                  <a:ext cx="5760" cy="40320"/>
                </a:xfrm>
                <a:custGeom>
                  <a:avLst/>
                  <a:gdLst/>
                  <a:ahLst/>
                  <a:rect l="l" t="t" r="r" b="b"/>
                  <a:pathLst>
                    <a:path w="7" h="45">
                      <a:moveTo>
                        <a:pt x="7" y="45"/>
                      </a:moveTo>
                      <a:lnTo>
                        <a:pt x="7" y="45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45"/>
                      </a:lnTo>
                      <a:lnTo>
                        <a:pt x="4" y="45"/>
                      </a:lnTo>
                      <a:lnTo>
                        <a:pt x="7" y="45"/>
                      </a:lnTo>
                      <a:lnTo>
                        <a:pt x="7" y="45"/>
                      </a:lnTo>
                      <a:lnTo>
                        <a:pt x="7" y="45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998400" y="3469680"/>
                  <a:ext cx="2160" cy="36720"/>
                </a:xfrm>
                <a:custGeom>
                  <a:avLst/>
                  <a:gdLst/>
                  <a:ahLst/>
                  <a:rect l="l" t="t" r="r" b="b"/>
                  <a:pathLst>
                    <a:path w="3" h="41">
                      <a:moveTo>
                        <a:pt x="3" y="41"/>
                      </a:moveTo>
                      <a:lnTo>
                        <a:pt x="3" y="4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3" y="41"/>
                      </a:lnTo>
                      <a:lnTo>
                        <a:pt x="3" y="41"/>
                      </a:lnTo>
                      <a:lnTo>
                        <a:pt x="3" y="41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998400" y="3506760"/>
                  <a:ext cx="2160" cy="36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994800" y="351072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4" y="6"/>
                      </a:moveTo>
                      <a:lnTo>
                        <a:pt x="4" y="6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994800" y="351324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6"/>
                      </a:move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992280" y="3518640"/>
                  <a:ext cx="5760" cy="54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3" y="6"/>
                      </a:moveTo>
                      <a:lnTo>
                        <a:pt x="3" y="6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6989760" y="35215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3" y="7"/>
                      </a:moveTo>
                      <a:lnTo>
                        <a:pt x="3" y="7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6987600" y="35240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3" y="7"/>
                      </a:moveTo>
                      <a:lnTo>
                        <a:pt x="3" y="7"/>
                      </a:ln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6984720" y="352800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978600" y="35330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6976080" y="353592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6971040" y="3535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3" y="7"/>
                      </a:moveTo>
                      <a:lnTo>
                        <a:pt x="3" y="7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6967800" y="353844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4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962760" y="354204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959880" y="3542040"/>
                  <a:ext cx="2520" cy="54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954840" y="354492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951600" y="354492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6946560" y="354492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6935400" y="354204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924240" y="353844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911640" y="353592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5" y="7"/>
                      </a:lnTo>
                      <a:lnTo>
                        <a:pt x="15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900480" y="3533040"/>
                  <a:ext cx="13320" cy="504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889320" y="3530520"/>
                  <a:ext cx="13680" cy="504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878160" y="3530520"/>
                  <a:ext cx="10800" cy="252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868080" y="35280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12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856920" y="352404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846120" y="352152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7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6834600" y="3518640"/>
                  <a:ext cx="1116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6823800" y="3518640"/>
                  <a:ext cx="10800" cy="252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813360" y="351612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12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802560" y="351324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788880" y="3510720"/>
                  <a:ext cx="13680" cy="504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6" y="6"/>
                      </a:lnTo>
                      <a:lnTo>
                        <a:pt x="1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6777720" y="3506760"/>
                  <a:ext cx="13320" cy="612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" y="7"/>
                      </a:lnTo>
                      <a:lnTo>
                        <a:pt x="16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767640" y="350676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15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4"/>
                      </a:lnTo>
                      <a:lnTo>
                        <a:pt x="15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756480" y="3504240"/>
                  <a:ext cx="13320" cy="2520"/>
                </a:xfrm>
                <a:custGeom>
                  <a:avLst/>
                  <a:gdLst/>
                  <a:ahLst/>
                  <a:rect l="l" t="t" r="r" b="b"/>
                  <a:pathLst>
                    <a:path w="1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745320" y="3501720"/>
                  <a:ext cx="13680" cy="504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734160" y="349884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6724080" y="3495960"/>
                  <a:ext cx="10080" cy="540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2" y="6"/>
                      </a:ln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6712920" y="3495960"/>
                  <a:ext cx="10800" cy="252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6701760" y="349272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13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690600" y="348984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7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680520" y="3486960"/>
                  <a:ext cx="10080" cy="540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2" y="6"/>
                      </a:ln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669360" y="348444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658200" y="348156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647400" y="347796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6633720" y="3475440"/>
                  <a:ext cx="13320" cy="612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6" y="7"/>
                      </a:lnTo>
                      <a:lnTo>
                        <a:pt x="16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6623640" y="3472560"/>
                  <a:ext cx="13320" cy="504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2" y="6"/>
                      </a:lnTo>
                      <a:lnTo>
                        <a:pt x="1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612480" y="3469680"/>
                  <a:ext cx="1116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601320" y="346716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590160" y="346464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585120" y="346068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6" y="7"/>
                      </a:lnTo>
                      <a:lnTo>
                        <a:pt x="6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580080" y="34581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6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573960" y="345816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568920" y="345564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563160" y="345276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557760" y="344988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552720" y="34466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546960" y="3440880"/>
                  <a:ext cx="5760" cy="54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541560" y="343836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6536520" y="3435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6530400" y="342936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7" y="7"/>
                      </a:lnTo>
                      <a:lnTo>
                        <a:pt x="10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527880" y="342648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522840" y="3423600"/>
                  <a:ext cx="7560" cy="540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9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519600" y="341856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516720" y="341208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7"/>
                      </a:lnTo>
                      <a:lnTo>
                        <a:pt x="7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514200" y="340956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511680" y="3403800"/>
                  <a:ext cx="4680" cy="54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509160" y="33976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6506640" y="339228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503400" y="338940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500880" y="3385800"/>
                  <a:ext cx="2160" cy="61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3" y="7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6495480" y="338328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6" y="7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6492960" y="338040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484680" y="33778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0" y="6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6482160" y="337140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476040" y="3358080"/>
                  <a:ext cx="5760" cy="13320"/>
                </a:xfrm>
                <a:custGeom>
                  <a:avLst/>
                  <a:gdLst/>
                  <a:ahLst/>
                  <a:rect l="l" t="t" r="r" b="b"/>
                  <a:pathLst>
                    <a:path w="7" h="15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471000" y="3339720"/>
                  <a:ext cx="8280" cy="2088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23"/>
                      </a:lnTo>
                      <a:lnTo>
                        <a:pt x="10" y="2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465960" y="3319920"/>
                  <a:ext cx="7560" cy="19800"/>
                </a:xfrm>
                <a:custGeom>
                  <a:avLst/>
                  <a:gdLst/>
                  <a:ahLst/>
                  <a:rect l="l" t="t" r="r" b="b"/>
                  <a:pathLst>
                    <a:path w="9" h="2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22"/>
                      </a:lnTo>
                      <a:lnTo>
                        <a:pt x="9" y="2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459840" y="3293640"/>
                  <a:ext cx="8280" cy="25920"/>
                </a:xfrm>
                <a:custGeom>
                  <a:avLst/>
                  <a:gdLst/>
                  <a:ahLst/>
                  <a:rect l="l" t="t" r="r" b="b"/>
                  <a:pathLst>
                    <a:path w="10" h="29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7" y="29"/>
                      </a:lnTo>
                      <a:lnTo>
                        <a:pt x="10" y="29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457320" y="3271320"/>
                  <a:ext cx="5760" cy="25920"/>
                </a:xfrm>
                <a:custGeom>
                  <a:avLst/>
                  <a:gdLst/>
                  <a:ahLst/>
                  <a:rect l="l" t="t" r="r" b="b"/>
                  <a:pathLst>
                    <a:path w="7" h="29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29"/>
                      </a:lnTo>
                      <a:lnTo>
                        <a:pt x="7" y="2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6454800" y="3251160"/>
                  <a:ext cx="4680" cy="22320"/>
                </a:xfrm>
                <a:custGeom>
                  <a:avLst/>
                  <a:gdLst/>
                  <a:ahLst/>
                  <a:rect l="l" t="t" r="r" b="b"/>
                  <a:pathLst>
                    <a:path w="6" h="2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25"/>
                      </a:lnTo>
                      <a:lnTo>
                        <a:pt x="6" y="2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451920" y="3237120"/>
                  <a:ext cx="5040" cy="1404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451920" y="3225240"/>
                  <a:ext cx="2520" cy="1188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3" y="1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451920" y="321624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451920" y="32050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3" y="1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451920" y="319608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451920" y="318708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6454800" y="3176280"/>
                  <a:ext cx="2160" cy="108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454800" y="3167280"/>
                  <a:ext cx="4680" cy="1152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10"/>
                      </a:lnTo>
                      <a:lnTo>
                        <a:pt x="3" y="13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457320" y="3158280"/>
                  <a:ext cx="8280" cy="1152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10"/>
                      </a:lnTo>
                      <a:lnTo>
                        <a:pt x="3" y="13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463440" y="3155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7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465960" y="315288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468480" y="314748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471000" y="314496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473520" y="314100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479280" y="313848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482160" y="313596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487200" y="313308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489720" y="313308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495480" y="313020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498000" y="312660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503400" y="3126600"/>
                  <a:ext cx="5760" cy="32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506640" y="312408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3" y="7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511680" y="312408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516720" y="312408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519600" y="312408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058160" y="31726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054560" y="317628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7049520" y="317628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047000" y="317916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7041960" y="3179160"/>
                  <a:ext cx="4680" cy="54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7038360" y="318204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7033320" y="318456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7030800" y="3187080"/>
                  <a:ext cx="5040" cy="36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3" y="4"/>
                      </a:moveTo>
                      <a:lnTo>
                        <a:pt x="3" y="4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7028280" y="319104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7022160" y="3196080"/>
                  <a:ext cx="5760" cy="54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3" y="6"/>
                      </a:moveTo>
                      <a:lnTo>
                        <a:pt x="3" y="6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019640" y="319896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3" y="10"/>
                      </a:moveTo>
                      <a:lnTo>
                        <a:pt x="3" y="10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017120" y="32050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3" y="9"/>
                      </a:moveTo>
                      <a:lnTo>
                        <a:pt x="3" y="9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017120" y="3213360"/>
                  <a:ext cx="2160" cy="50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014600" y="3218760"/>
                  <a:ext cx="2160" cy="61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7"/>
                      </a:moveTo>
                      <a:lnTo>
                        <a:pt x="3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7011360" y="322524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9"/>
                      </a:moveTo>
                      <a:lnTo>
                        <a:pt x="4" y="9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7011360" y="3230640"/>
                  <a:ext cx="3240" cy="900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4" y="10"/>
                      </a:moveTo>
                      <a:lnTo>
                        <a:pt x="4" y="10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7008840" y="3239640"/>
                  <a:ext cx="5760" cy="11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3" y="13"/>
                      </a:moveTo>
                      <a:lnTo>
                        <a:pt x="3" y="13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7006320" y="3251160"/>
                  <a:ext cx="4680" cy="13320"/>
                </a:xfrm>
                <a:custGeom>
                  <a:avLst/>
                  <a:gdLst/>
                  <a:ahLst/>
                  <a:rect l="l" t="t" r="r" b="b"/>
                  <a:pathLst>
                    <a:path w="6" h="15">
                      <a:moveTo>
                        <a:pt x="3" y="15"/>
                      </a:moveTo>
                      <a:lnTo>
                        <a:pt x="3" y="15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7003440" y="3264840"/>
                  <a:ext cx="5040" cy="1440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3" y="16"/>
                      </a:moveTo>
                      <a:lnTo>
                        <a:pt x="3" y="16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000920" y="3276720"/>
                  <a:ext cx="5040" cy="1404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3" y="16"/>
                      </a:moveTo>
                      <a:lnTo>
                        <a:pt x="3" y="16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7000920" y="3291120"/>
                  <a:ext cx="2160" cy="1440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998400" y="3305520"/>
                  <a:ext cx="2160" cy="1152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3" y="13"/>
                      </a:moveTo>
                      <a:lnTo>
                        <a:pt x="3" y="1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998400" y="3317400"/>
                  <a:ext cx="2160" cy="1440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3" y="16"/>
                      </a:moveTo>
                      <a:lnTo>
                        <a:pt x="3" y="16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94800" y="3331800"/>
                  <a:ext cx="5760" cy="14040"/>
                </a:xfrm>
                <a:custGeom>
                  <a:avLst/>
                  <a:gdLst/>
                  <a:ahLst/>
                  <a:rect l="l" t="t" r="r" b="b"/>
                  <a:pathLst>
                    <a:path w="7" h="16">
                      <a:moveTo>
                        <a:pt x="4" y="16"/>
                      </a:moveTo>
                      <a:lnTo>
                        <a:pt x="4" y="16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4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94800" y="3346200"/>
                  <a:ext cx="3240" cy="39600"/>
                </a:xfrm>
                <a:custGeom>
                  <a:avLst/>
                  <a:gdLst/>
                  <a:ahLst/>
                  <a:rect l="l" t="t" r="r" b="b"/>
                  <a:pathLst>
                    <a:path w="4" h="44">
                      <a:moveTo>
                        <a:pt x="4" y="44"/>
                      </a:moveTo>
                      <a:lnTo>
                        <a:pt x="4" y="44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0" y="44"/>
                      </a:lnTo>
                      <a:lnTo>
                        <a:pt x="4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94800" y="3385800"/>
                  <a:ext cx="3240" cy="40680"/>
                </a:xfrm>
                <a:custGeom>
                  <a:avLst/>
                  <a:gdLst/>
                  <a:ahLst/>
                  <a:rect l="l" t="t" r="r" b="b"/>
                  <a:pathLst>
                    <a:path w="4" h="45">
                      <a:moveTo>
                        <a:pt x="4" y="45"/>
                      </a:moveTo>
                      <a:lnTo>
                        <a:pt x="4" y="45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4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994800" y="3426480"/>
                  <a:ext cx="5760" cy="40320"/>
                </a:xfrm>
                <a:custGeom>
                  <a:avLst/>
                  <a:gdLst/>
                  <a:ahLst/>
                  <a:rect l="l" t="t" r="r" b="b"/>
                  <a:pathLst>
                    <a:path w="7" h="45">
                      <a:moveTo>
                        <a:pt x="7" y="45"/>
                      </a:moveTo>
                      <a:lnTo>
                        <a:pt x="7" y="45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45"/>
                      </a:lnTo>
                      <a:lnTo>
                        <a:pt x="4" y="45"/>
                      </a:lnTo>
                      <a:lnTo>
                        <a:pt x="7" y="45"/>
                      </a:lnTo>
                      <a:lnTo>
                        <a:pt x="7" y="45"/>
                      </a:lnTo>
                      <a:lnTo>
                        <a:pt x="7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998400" y="3467160"/>
                  <a:ext cx="2160" cy="36720"/>
                </a:xfrm>
                <a:custGeom>
                  <a:avLst/>
                  <a:gdLst/>
                  <a:ahLst/>
                  <a:rect l="l" t="t" r="r" b="b"/>
                  <a:pathLst>
                    <a:path w="3" h="41">
                      <a:moveTo>
                        <a:pt x="3" y="41"/>
                      </a:moveTo>
                      <a:lnTo>
                        <a:pt x="3" y="4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3" y="41"/>
                      </a:lnTo>
                      <a:lnTo>
                        <a:pt x="3" y="41"/>
                      </a:lnTo>
                      <a:lnTo>
                        <a:pt x="3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998400" y="35042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994800" y="350676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4" y="7"/>
                      </a:moveTo>
                      <a:lnTo>
                        <a:pt x="4" y="7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994800" y="351072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6"/>
                      </a:move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992280" y="3516120"/>
                  <a:ext cx="5760" cy="54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3" y="6"/>
                      </a:moveTo>
                      <a:lnTo>
                        <a:pt x="3" y="6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989760" y="3518640"/>
                  <a:ext cx="4680" cy="54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3" y="6"/>
                      </a:move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87600" y="35215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3" y="7"/>
                      </a:moveTo>
                      <a:lnTo>
                        <a:pt x="3" y="7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984720" y="35240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6329520" y="2911320"/>
                <a:ext cx="1371960" cy="631800"/>
                <a:chOff x="6329520" y="2911320"/>
                <a:chExt cx="1371960" cy="63180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6978960" y="352800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3" y="6"/>
                      </a:moveTo>
                      <a:lnTo>
                        <a:pt x="3" y="6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976440" y="353088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971400" y="353340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3" y="6"/>
                      </a:move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967800" y="353592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962760" y="3538800"/>
                  <a:ext cx="4680" cy="36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6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960240" y="3538800"/>
                  <a:ext cx="2520" cy="36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955200" y="3538800"/>
                  <a:ext cx="4680" cy="36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6" y="4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6951600" y="35424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946560" y="3538800"/>
                  <a:ext cx="4680" cy="36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935400" y="3538800"/>
                  <a:ext cx="10800" cy="3600"/>
                </a:xfrm>
                <a:custGeom>
                  <a:avLst/>
                  <a:gdLst/>
                  <a:ahLst/>
                  <a:rect l="l" t="t" r="r" b="b"/>
                  <a:pathLst>
                    <a:path w="1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3" y="4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924240" y="3535920"/>
                  <a:ext cx="11160" cy="252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911640" y="35334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900480" y="3530880"/>
                  <a:ext cx="13320" cy="504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6889320" y="3528000"/>
                  <a:ext cx="13680" cy="504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6878160" y="352440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868080" y="3524400"/>
                  <a:ext cx="10080" cy="3600"/>
                </a:xfrm>
                <a:custGeom>
                  <a:avLst/>
                  <a:gdLst/>
                  <a:ahLst/>
                  <a:rect l="l" t="t" r="r" b="b"/>
                  <a:pathLst>
                    <a:path w="12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856920" y="3521880"/>
                  <a:ext cx="10800" cy="252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6846120" y="351900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834960" y="3516120"/>
                  <a:ext cx="1116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823800" y="3516120"/>
                  <a:ext cx="10800" cy="252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6813720" y="35136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12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802560" y="351072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788880" y="3507120"/>
                  <a:ext cx="13680" cy="612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6" y="7"/>
                      </a:lnTo>
                      <a:lnTo>
                        <a:pt x="16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777720" y="3504600"/>
                  <a:ext cx="13320" cy="612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7"/>
                      </a:lnTo>
                      <a:lnTo>
                        <a:pt x="1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767640" y="3504600"/>
                  <a:ext cx="12600" cy="252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2" y="3"/>
                      </a:lnTo>
                      <a:lnTo>
                        <a:pt x="15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756480" y="3501720"/>
                  <a:ext cx="13320" cy="504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6745320" y="3498840"/>
                  <a:ext cx="13680" cy="540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734160" y="349632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724080" y="3492720"/>
                  <a:ext cx="10080" cy="61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2" y="7"/>
                      </a:lnTo>
                      <a:lnTo>
                        <a:pt x="12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6712920" y="3492720"/>
                  <a:ext cx="10800" cy="3240"/>
                </a:xfrm>
                <a:custGeom>
                  <a:avLst/>
                  <a:gdLst/>
                  <a:ahLst/>
                  <a:rect l="l" t="t" r="r" b="b"/>
                  <a:pathLst>
                    <a:path w="1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3" y="4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6701760" y="3489840"/>
                  <a:ext cx="11160" cy="252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690960" y="348732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6680520" y="3484800"/>
                  <a:ext cx="10080" cy="504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2" y="6"/>
                      </a:ln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6669720" y="348192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658200" y="347832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6647400" y="347580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7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6633720" y="3472920"/>
                  <a:ext cx="13320" cy="504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6" y="6"/>
                      </a:lnTo>
                      <a:lnTo>
                        <a:pt x="16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623640" y="3470040"/>
                  <a:ext cx="13320" cy="540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2" y="6"/>
                      </a:lnTo>
                      <a:lnTo>
                        <a:pt x="1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6612480" y="3467520"/>
                  <a:ext cx="1116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6601320" y="346464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6590160" y="346104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585120" y="34585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6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580080" y="34556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573960" y="34556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6568920" y="345312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563160" y="34502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57760" y="344664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7"/>
                      </a:lnTo>
                      <a:lnTo>
                        <a:pt x="6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552720" y="344376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6546960" y="343872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541560" y="343584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536520" y="3432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7"/>
                      </a:ln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530400" y="342684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7" y="6"/>
                      </a:lnTo>
                      <a:lnTo>
                        <a:pt x="10" y="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6528240" y="3423960"/>
                  <a:ext cx="4680" cy="54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6522840" y="341856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6" y="9"/>
                      </a:lnTo>
                      <a:lnTo>
                        <a:pt x="9" y="6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6519600" y="341496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7"/>
                      </a:lnTo>
                      <a:lnTo>
                        <a:pt x="7" y="7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6516720" y="340956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7" y="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6514200" y="340704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511680" y="34005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509160" y="3395160"/>
                  <a:ext cx="4680" cy="54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6506640" y="338976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6503400" y="33861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4" y="7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500880" y="3383640"/>
                  <a:ext cx="2160" cy="61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495480" y="338076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6492960" y="33782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484680" y="3375360"/>
                  <a:ext cx="8280" cy="540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0" y="6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482160" y="33688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476040" y="3354480"/>
                  <a:ext cx="5760" cy="14040"/>
                </a:xfrm>
                <a:custGeom>
                  <a:avLst/>
                  <a:gdLst/>
                  <a:ahLst/>
                  <a:rect l="l" t="t" r="r" b="b"/>
                  <a:pathLst>
                    <a:path w="7" h="16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7" y="16"/>
                      </a:lnTo>
                      <a:lnTo>
                        <a:pt x="7" y="16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471000" y="3337560"/>
                  <a:ext cx="8280" cy="2088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23"/>
                      </a:lnTo>
                      <a:lnTo>
                        <a:pt x="10" y="2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465960" y="3317400"/>
                  <a:ext cx="7560" cy="19800"/>
                </a:xfrm>
                <a:custGeom>
                  <a:avLst/>
                  <a:gdLst/>
                  <a:ahLst/>
                  <a:rect l="l" t="t" r="r" b="b"/>
                  <a:pathLst>
                    <a:path w="9" h="2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22"/>
                      </a:lnTo>
                      <a:lnTo>
                        <a:pt x="9" y="2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459840" y="3294000"/>
                  <a:ext cx="8280" cy="23400"/>
                </a:xfrm>
                <a:custGeom>
                  <a:avLst/>
                  <a:gdLst/>
                  <a:ahLst/>
                  <a:rect l="l" t="t" r="r" b="b"/>
                  <a:pathLst>
                    <a:path w="10" h="2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26"/>
                      </a:lnTo>
                      <a:lnTo>
                        <a:pt x="10" y="26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457320" y="3271320"/>
                  <a:ext cx="5760" cy="22320"/>
                </a:xfrm>
                <a:custGeom>
                  <a:avLst/>
                  <a:gdLst/>
                  <a:ahLst/>
                  <a:rect l="l" t="t" r="r" b="b"/>
                  <a:pathLst>
                    <a:path w="7" h="2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25"/>
                      </a:lnTo>
                      <a:lnTo>
                        <a:pt x="7" y="2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454800" y="3247920"/>
                  <a:ext cx="4680" cy="23040"/>
                </a:xfrm>
                <a:custGeom>
                  <a:avLst/>
                  <a:gdLst/>
                  <a:ahLst/>
                  <a:rect l="l" t="t" r="r" b="b"/>
                  <a:pathLst>
                    <a:path w="6" h="26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3" y="26"/>
                      </a:lnTo>
                      <a:lnTo>
                        <a:pt x="6" y="26"/>
                      </a:ln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454800" y="3233520"/>
                  <a:ext cx="2160" cy="18000"/>
                </a:xfrm>
                <a:custGeom>
                  <a:avLst/>
                  <a:gdLst/>
                  <a:ahLst/>
                  <a:rect l="l" t="t" r="r" b="b"/>
                  <a:pathLst>
                    <a:path w="3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0"/>
                      </a:lnTo>
                      <a:lnTo>
                        <a:pt x="3" y="2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451920" y="322272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451920" y="321372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51920" y="3201840"/>
                  <a:ext cx="2520" cy="1152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3" y="1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1920" y="3193920"/>
                  <a:ext cx="2520" cy="7920"/>
                </a:xfrm>
                <a:custGeom>
                  <a:avLst/>
                  <a:gdLst/>
                  <a:ahLst/>
                  <a:rect l="l" t="t" r="r" b="b"/>
                  <a:pathLst>
                    <a:path w="3" h="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51920" y="318492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454800" y="3173040"/>
                  <a:ext cx="2160" cy="1152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454800" y="3164760"/>
                  <a:ext cx="4680" cy="1152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9"/>
                      </a:lnTo>
                      <a:lnTo>
                        <a:pt x="3" y="13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459840" y="3155760"/>
                  <a:ext cx="5760" cy="1152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463440" y="31532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465960" y="3147840"/>
                  <a:ext cx="4680" cy="54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468480" y="314496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471000" y="314136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3" y="7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473520" y="313884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3" y="7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479280" y="313596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482160" y="31334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487200" y="3130560"/>
                  <a:ext cx="5760" cy="54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3" y="0"/>
                      </a:move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489720" y="313056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495480" y="312696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6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498000" y="312408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6503400" y="312408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506640" y="312156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511680" y="312156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516720" y="312156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519600" y="311868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3"/>
                      </a:move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329520" y="2980440"/>
                  <a:ext cx="804600" cy="198360"/>
                </a:xfrm>
                <a:custGeom>
                  <a:avLst/>
                  <a:gdLst/>
                  <a:ahLst/>
                  <a:rect l="l" t="t" r="r" b="b"/>
                  <a:pathLst>
                    <a:path w="944" h="220">
                      <a:moveTo>
                        <a:pt x="944" y="210"/>
                      </a:moveTo>
                      <a:lnTo>
                        <a:pt x="941" y="207"/>
                      </a:lnTo>
                      <a:lnTo>
                        <a:pt x="934" y="201"/>
                      </a:lnTo>
                      <a:lnTo>
                        <a:pt x="928" y="197"/>
                      </a:lnTo>
                      <a:lnTo>
                        <a:pt x="922" y="191"/>
                      </a:lnTo>
                      <a:lnTo>
                        <a:pt x="915" y="188"/>
                      </a:lnTo>
                      <a:lnTo>
                        <a:pt x="912" y="185"/>
                      </a:lnTo>
                      <a:lnTo>
                        <a:pt x="906" y="178"/>
                      </a:lnTo>
                      <a:lnTo>
                        <a:pt x="899" y="175"/>
                      </a:lnTo>
                      <a:lnTo>
                        <a:pt x="893" y="169"/>
                      </a:lnTo>
                      <a:lnTo>
                        <a:pt x="887" y="166"/>
                      </a:lnTo>
                      <a:lnTo>
                        <a:pt x="883" y="162"/>
                      </a:lnTo>
                      <a:lnTo>
                        <a:pt x="877" y="156"/>
                      </a:lnTo>
                      <a:lnTo>
                        <a:pt x="871" y="153"/>
                      </a:lnTo>
                      <a:lnTo>
                        <a:pt x="864" y="150"/>
                      </a:lnTo>
                      <a:lnTo>
                        <a:pt x="858" y="146"/>
                      </a:lnTo>
                      <a:lnTo>
                        <a:pt x="851" y="140"/>
                      </a:lnTo>
                      <a:lnTo>
                        <a:pt x="845" y="137"/>
                      </a:lnTo>
                      <a:lnTo>
                        <a:pt x="836" y="134"/>
                      </a:lnTo>
                      <a:lnTo>
                        <a:pt x="829" y="127"/>
                      </a:lnTo>
                      <a:lnTo>
                        <a:pt x="823" y="124"/>
                      </a:lnTo>
                      <a:lnTo>
                        <a:pt x="816" y="121"/>
                      </a:lnTo>
                      <a:lnTo>
                        <a:pt x="807" y="115"/>
                      </a:lnTo>
                      <a:lnTo>
                        <a:pt x="800" y="111"/>
                      </a:lnTo>
                      <a:lnTo>
                        <a:pt x="794" y="105"/>
                      </a:lnTo>
                      <a:lnTo>
                        <a:pt x="785" y="102"/>
                      </a:lnTo>
                      <a:lnTo>
                        <a:pt x="778" y="99"/>
                      </a:lnTo>
                      <a:lnTo>
                        <a:pt x="772" y="92"/>
                      </a:lnTo>
                      <a:lnTo>
                        <a:pt x="762" y="89"/>
                      </a:lnTo>
                      <a:lnTo>
                        <a:pt x="756" y="86"/>
                      </a:lnTo>
                      <a:lnTo>
                        <a:pt x="749" y="79"/>
                      </a:lnTo>
                      <a:lnTo>
                        <a:pt x="740" y="76"/>
                      </a:lnTo>
                      <a:lnTo>
                        <a:pt x="734" y="70"/>
                      </a:lnTo>
                      <a:lnTo>
                        <a:pt x="727" y="67"/>
                      </a:lnTo>
                      <a:lnTo>
                        <a:pt x="718" y="64"/>
                      </a:lnTo>
                      <a:lnTo>
                        <a:pt x="711" y="60"/>
                      </a:lnTo>
                      <a:lnTo>
                        <a:pt x="705" y="54"/>
                      </a:lnTo>
                      <a:lnTo>
                        <a:pt x="695" y="51"/>
                      </a:lnTo>
                      <a:lnTo>
                        <a:pt x="689" y="48"/>
                      </a:lnTo>
                      <a:lnTo>
                        <a:pt x="679" y="44"/>
                      </a:lnTo>
                      <a:lnTo>
                        <a:pt x="673" y="38"/>
                      </a:lnTo>
                      <a:lnTo>
                        <a:pt x="663" y="35"/>
                      </a:lnTo>
                      <a:lnTo>
                        <a:pt x="657" y="32"/>
                      </a:lnTo>
                      <a:lnTo>
                        <a:pt x="647" y="28"/>
                      </a:lnTo>
                      <a:lnTo>
                        <a:pt x="641" y="25"/>
                      </a:lnTo>
                      <a:lnTo>
                        <a:pt x="632" y="22"/>
                      </a:lnTo>
                      <a:lnTo>
                        <a:pt x="622" y="19"/>
                      </a:lnTo>
                      <a:lnTo>
                        <a:pt x="612" y="16"/>
                      </a:lnTo>
                      <a:lnTo>
                        <a:pt x="606" y="16"/>
                      </a:lnTo>
                      <a:lnTo>
                        <a:pt x="596" y="13"/>
                      </a:lnTo>
                      <a:lnTo>
                        <a:pt x="587" y="9"/>
                      </a:lnTo>
                      <a:lnTo>
                        <a:pt x="577" y="9"/>
                      </a:lnTo>
                      <a:lnTo>
                        <a:pt x="568" y="6"/>
                      </a:lnTo>
                      <a:lnTo>
                        <a:pt x="558" y="6"/>
                      </a:lnTo>
                      <a:lnTo>
                        <a:pt x="549" y="3"/>
                      </a:lnTo>
                      <a:lnTo>
                        <a:pt x="539" y="3"/>
                      </a:lnTo>
                      <a:lnTo>
                        <a:pt x="529" y="3"/>
                      </a:lnTo>
                      <a:lnTo>
                        <a:pt x="520" y="0"/>
                      </a:lnTo>
                      <a:lnTo>
                        <a:pt x="507" y="0"/>
                      </a:lnTo>
                      <a:lnTo>
                        <a:pt x="498" y="0"/>
                      </a:lnTo>
                      <a:lnTo>
                        <a:pt x="488" y="0"/>
                      </a:lnTo>
                      <a:lnTo>
                        <a:pt x="478" y="0"/>
                      </a:lnTo>
                      <a:lnTo>
                        <a:pt x="469" y="0"/>
                      </a:lnTo>
                      <a:lnTo>
                        <a:pt x="459" y="0"/>
                      </a:lnTo>
                      <a:lnTo>
                        <a:pt x="453" y="0"/>
                      </a:lnTo>
                      <a:lnTo>
                        <a:pt x="440" y="0"/>
                      </a:lnTo>
                      <a:lnTo>
                        <a:pt x="431" y="0"/>
                      </a:lnTo>
                      <a:lnTo>
                        <a:pt x="421" y="0"/>
                      </a:lnTo>
                      <a:lnTo>
                        <a:pt x="412" y="0"/>
                      </a:lnTo>
                      <a:lnTo>
                        <a:pt x="402" y="0"/>
                      </a:lnTo>
                      <a:lnTo>
                        <a:pt x="396" y="0"/>
                      </a:lnTo>
                      <a:lnTo>
                        <a:pt x="386" y="0"/>
                      </a:lnTo>
                      <a:lnTo>
                        <a:pt x="376" y="3"/>
                      </a:lnTo>
                      <a:lnTo>
                        <a:pt x="367" y="3"/>
                      </a:lnTo>
                      <a:lnTo>
                        <a:pt x="357" y="3"/>
                      </a:lnTo>
                      <a:lnTo>
                        <a:pt x="348" y="3"/>
                      </a:lnTo>
                      <a:lnTo>
                        <a:pt x="338" y="3"/>
                      </a:lnTo>
                      <a:lnTo>
                        <a:pt x="329" y="3"/>
                      </a:lnTo>
                      <a:lnTo>
                        <a:pt x="322" y="6"/>
                      </a:lnTo>
                      <a:lnTo>
                        <a:pt x="313" y="6"/>
                      </a:lnTo>
                      <a:lnTo>
                        <a:pt x="303" y="6"/>
                      </a:lnTo>
                      <a:lnTo>
                        <a:pt x="294" y="6"/>
                      </a:lnTo>
                      <a:lnTo>
                        <a:pt x="284" y="9"/>
                      </a:lnTo>
                      <a:lnTo>
                        <a:pt x="274" y="9"/>
                      </a:lnTo>
                      <a:lnTo>
                        <a:pt x="265" y="9"/>
                      </a:lnTo>
                      <a:lnTo>
                        <a:pt x="259" y="9"/>
                      </a:lnTo>
                      <a:lnTo>
                        <a:pt x="249" y="13"/>
                      </a:lnTo>
                      <a:lnTo>
                        <a:pt x="239" y="13"/>
                      </a:lnTo>
                      <a:lnTo>
                        <a:pt x="230" y="13"/>
                      </a:lnTo>
                      <a:lnTo>
                        <a:pt x="220" y="16"/>
                      </a:lnTo>
                      <a:lnTo>
                        <a:pt x="211" y="16"/>
                      </a:lnTo>
                      <a:lnTo>
                        <a:pt x="201" y="16"/>
                      </a:lnTo>
                      <a:lnTo>
                        <a:pt x="192" y="19"/>
                      </a:lnTo>
                      <a:lnTo>
                        <a:pt x="182" y="19"/>
                      </a:lnTo>
                      <a:lnTo>
                        <a:pt x="172" y="19"/>
                      </a:lnTo>
                      <a:lnTo>
                        <a:pt x="163" y="22"/>
                      </a:lnTo>
                      <a:lnTo>
                        <a:pt x="153" y="22"/>
                      </a:lnTo>
                      <a:lnTo>
                        <a:pt x="147" y="25"/>
                      </a:lnTo>
                      <a:lnTo>
                        <a:pt x="137" y="25"/>
                      </a:lnTo>
                      <a:lnTo>
                        <a:pt x="128" y="28"/>
                      </a:lnTo>
                      <a:lnTo>
                        <a:pt x="118" y="28"/>
                      </a:lnTo>
                      <a:lnTo>
                        <a:pt x="109" y="32"/>
                      </a:lnTo>
                      <a:lnTo>
                        <a:pt x="102" y="32"/>
                      </a:lnTo>
                      <a:lnTo>
                        <a:pt x="93" y="35"/>
                      </a:lnTo>
                      <a:lnTo>
                        <a:pt x="83" y="38"/>
                      </a:lnTo>
                      <a:lnTo>
                        <a:pt x="74" y="41"/>
                      </a:lnTo>
                      <a:lnTo>
                        <a:pt x="67" y="44"/>
                      </a:lnTo>
                      <a:lnTo>
                        <a:pt x="58" y="48"/>
                      </a:lnTo>
                      <a:lnTo>
                        <a:pt x="48" y="51"/>
                      </a:lnTo>
                      <a:lnTo>
                        <a:pt x="42" y="54"/>
                      </a:lnTo>
                      <a:lnTo>
                        <a:pt x="32" y="57"/>
                      </a:lnTo>
                      <a:lnTo>
                        <a:pt x="26" y="60"/>
                      </a:lnTo>
                      <a:lnTo>
                        <a:pt x="16" y="64"/>
                      </a:lnTo>
                      <a:lnTo>
                        <a:pt x="13" y="67"/>
                      </a:lnTo>
                      <a:lnTo>
                        <a:pt x="10" y="70"/>
                      </a:lnTo>
                      <a:lnTo>
                        <a:pt x="7" y="73"/>
                      </a:lnTo>
                      <a:lnTo>
                        <a:pt x="3" y="76"/>
                      </a:lnTo>
                      <a:lnTo>
                        <a:pt x="3" y="83"/>
                      </a:lnTo>
                      <a:lnTo>
                        <a:pt x="0" y="86"/>
                      </a:lnTo>
                      <a:lnTo>
                        <a:pt x="3" y="89"/>
                      </a:lnTo>
                      <a:lnTo>
                        <a:pt x="7" y="92"/>
                      </a:lnTo>
                      <a:lnTo>
                        <a:pt x="10" y="99"/>
                      </a:lnTo>
                      <a:lnTo>
                        <a:pt x="16" y="102"/>
                      </a:lnTo>
                      <a:lnTo>
                        <a:pt x="19" y="105"/>
                      </a:lnTo>
                      <a:lnTo>
                        <a:pt x="26" y="108"/>
                      </a:lnTo>
                      <a:lnTo>
                        <a:pt x="32" y="111"/>
                      </a:lnTo>
                      <a:lnTo>
                        <a:pt x="39" y="115"/>
                      </a:lnTo>
                      <a:lnTo>
                        <a:pt x="42" y="118"/>
                      </a:lnTo>
                      <a:lnTo>
                        <a:pt x="48" y="121"/>
                      </a:lnTo>
                      <a:lnTo>
                        <a:pt x="54" y="124"/>
                      </a:lnTo>
                      <a:lnTo>
                        <a:pt x="61" y="124"/>
                      </a:lnTo>
                      <a:lnTo>
                        <a:pt x="67" y="127"/>
                      </a:lnTo>
                      <a:lnTo>
                        <a:pt x="74" y="131"/>
                      </a:lnTo>
                      <a:lnTo>
                        <a:pt x="80" y="131"/>
                      </a:lnTo>
                      <a:lnTo>
                        <a:pt x="86" y="134"/>
                      </a:lnTo>
                      <a:lnTo>
                        <a:pt x="93" y="134"/>
                      </a:lnTo>
                      <a:lnTo>
                        <a:pt x="99" y="137"/>
                      </a:lnTo>
                      <a:lnTo>
                        <a:pt x="109" y="140"/>
                      </a:lnTo>
                      <a:lnTo>
                        <a:pt x="118" y="140"/>
                      </a:lnTo>
                      <a:lnTo>
                        <a:pt x="128" y="143"/>
                      </a:lnTo>
                      <a:lnTo>
                        <a:pt x="141" y="146"/>
                      </a:lnTo>
                      <a:lnTo>
                        <a:pt x="150" y="150"/>
                      </a:lnTo>
                      <a:lnTo>
                        <a:pt x="160" y="150"/>
                      </a:lnTo>
                      <a:lnTo>
                        <a:pt x="169" y="153"/>
                      </a:lnTo>
                      <a:lnTo>
                        <a:pt x="179" y="156"/>
                      </a:lnTo>
                      <a:lnTo>
                        <a:pt x="192" y="156"/>
                      </a:lnTo>
                      <a:lnTo>
                        <a:pt x="201" y="159"/>
                      </a:lnTo>
                      <a:lnTo>
                        <a:pt x="211" y="162"/>
                      </a:lnTo>
                      <a:lnTo>
                        <a:pt x="220" y="162"/>
                      </a:lnTo>
                      <a:lnTo>
                        <a:pt x="233" y="166"/>
                      </a:lnTo>
                      <a:lnTo>
                        <a:pt x="243" y="166"/>
                      </a:lnTo>
                      <a:lnTo>
                        <a:pt x="252" y="169"/>
                      </a:lnTo>
                      <a:lnTo>
                        <a:pt x="262" y="169"/>
                      </a:lnTo>
                      <a:lnTo>
                        <a:pt x="271" y="172"/>
                      </a:lnTo>
                      <a:lnTo>
                        <a:pt x="281" y="172"/>
                      </a:lnTo>
                      <a:lnTo>
                        <a:pt x="290" y="175"/>
                      </a:lnTo>
                      <a:lnTo>
                        <a:pt x="300" y="175"/>
                      </a:lnTo>
                      <a:lnTo>
                        <a:pt x="310" y="178"/>
                      </a:lnTo>
                      <a:lnTo>
                        <a:pt x="319" y="178"/>
                      </a:lnTo>
                      <a:lnTo>
                        <a:pt x="329" y="178"/>
                      </a:lnTo>
                      <a:lnTo>
                        <a:pt x="341" y="182"/>
                      </a:lnTo>
                      <a:lnTo>
                        <a:pt x="351" y="182"/>
                      </a:lnTo>
                      <a:lnTo>
                        <a:pt x="361" y="185"/>
                      </a:lnTo>
                      <a:lnTo>
                        <a:pt x="370" y="185"/>
                      </a:lnTo>
                      <a:lnTo>
                        <a:pt x="380" y="188"/>
                      </a:lnTo>
                      <a:lnTo>
                        <a:pt x="389" y="188"/>
                      </a:lnTo>
                      <a:lnTo>
                        <a:pt x="399" y="191"/>
                      </a:lnTo>
                      <a:lnTo>
                        <a:pt x="408" y="191"/>
                      </a:lnTo>
                      <a:lnTo>
                        <a:pt x="418" y="191"/>
                      </a:lnTo>
                      <a:lnTo>
                        <a:pt x="427" y="194"/>
                      </a:lnTo>
                      <a:lnTo>
                        <a:pt x="437" y="194"/>
                      </a:lnTo>
                      <a:lnTo>
                        <a:pt x="447" y="197"/>
                      </a:lnTo>
                      <a:lnTo>
                        <a:pt x="456" y="197"/>
                      </a:lnTo>
                      <a:lnTo>
                        <a:pt x="466" y="197"/>
                      </a:lnTo>
                      <a:lnTo>
                        <a:pt x="475" y="201"/>
                      </a:lnTo>
                      <a:lnTo>
                        <a:pt x="485" y="201"/>
                      </a:lnTo>
                      <a:lnTo>
                        <a:pt x="494" y="201"/>
                      </a:lnTo>
                      <a:lnTo>
                        <a:pt x="504" y="204"/>
                      </a:lnTo>
                      <a:lnTo>
                        <a:pt x="514" y="204"/>
                      </a:lnTo>
                      <a:lnTo>
                        <a:pt x="523" y="204"/>
                      </a:lnTo>
                      <a:lnTo>
                        <a:pt x="533" y="207"/>
                      </a:lnTo>
                      <a:lnTo>
                        <a:pt x="542" y="207"/>
                      </a:lnTo>
                      <a:lnTo>
                        <a:pt x="552" y="207"/>
                      </a:lnTo>
                      <a:lnTo>
                        <a:pt x="561" y="210"/>
                      </a:lnTo>
                      <a:lnTo>
                        <a:pt x="571" y="210"/>
                      </a:lnTo>
                      <a:lnTo>
                        <a:pt x="580" y="210"/>
                      </a:lnTo>
                      <a:lnTo>
                        <a:pt x="587" y="210"/>
                      </a:lnTo>
                      <a:lnTo>
                        <a:pt x="593" y="210"/>
                      </a:lnTo>
                      <a:lnTo>
                        <a:pt x="600" y="213"/>
                      </a:lnTo>
                      <a:lnTo>
                        <a:pt x="606" y="213"/>
                      </a:lnTo>
                      <a:lnTo>
                        <a:pt x="616" y="213"/>
                      </a:lnTo>
                      <a:lnTo>
                        <a:pt x="622" y="213"/>
                      </a:lnTo>
                      <a:lnTo>
                        <a:pt x="628" y="213"/>
                      </a:lnTo>
                      <a:lnTo>
                        <a:pt x="635" y="213"/>
                      </a:lnTo>
                      <a:lnTo>
                        <a:pt x="644" y="213"/>
                      </a:lnTo>
                      <a:lnTo>
                        <a:pt x="651" y="217"/>
                      </a:lnTo>
                      <a:lnTo>
                        <a:pt x="657" y="217"/>
                      </a:lnTo>
                      <a:lnTo>
                        <a:pt x="663" y="217"/>
                      </a:lnTo>
                      <a:lnTo>
                        <a:pt x="670" y="217"/>
                      </a:lnTo>
                      <a:lnTo>
                        <a:pt x="679" y="217"/>
                      </a:lnTo>
                      <a:lnTo>
                        <a:pt x="686" y="217"/>
                      </a:lnTo>
                      <a:lnTo>
                        <a:pt x="692" y="217"/>
                      </a:lnTo>
                      <a:lnTo>
                        <a:pt x="698" y="217"/>
                      </a:lnTo>
                      <a:lnTo>
                        <a:pt x="708" y="217"/>
                      </a:lnTo>
                      <a:lnTo>
                        <a:pt x="714" y="217"/>
                      </a:lnTo>
                      <a:lnTo>
                        <a:pt x="721" y="217"/>
                      </a:lnTo>
                      <a:lnTo>
                        <a:pt x="727" y="217"/>
                      </a:lnTo>
                      <a:lnTo>
                        <a:pt x="734" y="217"/>
                      </a:lnTo>
                      <a:lnTo>
                        <a:pt x="743" y="217"/>
                      </a:lnTo>
                      <a:lnTo>
                        <a:pt x="749" y="217"/>
                      </a:lnTo>
                      <a:lnTo>
                        <a:pt x="756" y="220"/>
                      </a:lnTo>
                      <a:lnTo>
                        <a:pt x="762" y="220"/>
                      </a:lnTo>
                      <a:lnTo>
                        <a:pt x="772" y="220"/>
                      </a:lnTo>
                      <a:lnTo>
                        <a:pt x="778" y="220"/>
                      </a:lnTo>
                      <a:lnTo>
                        <a:pt x="785" y="220"/>
                      </a:lnTo>
                      <a:lnTo>
                        <a:pt x="791" y="220"/>
                      </a:lnTo>
                      <a:lnTo>
                        <a:pt x="797" y="220"/>
                      </a:lnTo>
                      <a:lnTo>
                        <a:pt x="807" y="220"/>
                      </a:lnTo>
                      <a:lnTo>
                        <a:pt x="816" y="220"/>
                      </a:lnTo>
                      <a:lnTo>
                        <a:pt x="826" y="220"/>
                      </a:lnTo>
                      <a:lnTo>
                        <a:pt x="836" y="217"/>
                      </a:lnTo>
                      <a:lnTo>
                        <a:pt x="845" y="217"/>
                      </a:lnTo>
                      <a:lnTo>
                        <a:pt x="855" y="217"/>
                      </a:lnTo>
                      <a:lnTo>
                        <a:pt x="864" y="217"/>
                      </a:lnTo>
                      <a:lnTo>
                        <a:pt x="871" y="217"/>
                      </a:lnTo>
                      <a:lnTo>
                        <a:pt x="880" y="217"/>
                      </a:lnTo>
                      <a:lnTo>
                        <a:pt x="890" y="213"/>
                      </a:lnTo>
                      <a:lnTo>
                        <a:pt x="899" y="213"/>
                      </a:lnTo>
                      <a:lnTo>
                        <a:pt x="909" y="213"/>
                      </a:lnTo>
                      <a:lnTo>
                        <a:pt x="918" y="213"/>
                      </a:lnTo>
                      <a:lnTo>
                        <a:pt x="928" y="210"/>
                      </a:lnTo>
                      <a:lnTo>
                        <a:pt x="938" y="210"/>
                      </a:lnTo>
                      <a:lnTo>
                        <a:pt x="944" y="2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375240" y="2911320"/>
                  <a:ext cx="1326240" cy="265320"/>
                </a:xfrm>
                <a:custGeom>
                  <a:avLst/>
                  <a:gdLst/>
                  <a:ahLst/>
                  <a:rect l="l" t="t" r="r" b="b"/>
                  <a:pathLst>
                    <a:path w="1556" h="294">
                      <a:moveTo>
                        <a:pt x="1556" y="220"/>
                      </a:moveTo>
                      <a:lnTo>
                        <a:pt x="1553" y="217"/>
                      </a:lnTo>
                      <a:lnTo>
                        <a:pt x="1550" y="214"/>
                      </a:lnTo>
                      <a:lnTo>
                        <a:pt x="1543" y="211"/>
                      </a:lnTo>
                      <a:lnTo>
                        <a:pt x="1534" y="208"/>
                      </a:lnTo>
                      <a:lnTo>
                        <a:pt x="1524" y="204"/>
                      </a:lnTo>
                      <a:lnTo>
                        <a:pt x="1515" y="204"/>
                      </a:lnTo>
                      <a:lnTo>
                        <a:pt x="1505" y="204"/>
                      </a:lnTo>
                      <a:lnTo>
                        <a:pt x="1492" y="201"/>
                      </a:lnTo>
                      <a:lnTo>
                        <a:pt x="1480" y="201"/>
                      </a:lnTo>
                      <a:lnTo>
                        <a:pt x="1467" y="201"/>
                      </a:lnTo>
                      <a:lnTo>
                        <a:pt x="1454" y="201"/>
                      </a:lnTo>
                      <a:lnTo>
                        <a:pt x="1441" y="198"/>
                      </a:lnTo>
                      <a:lnTo>
                        <a:pt x="1429" y="198"/>
                      </a:lnTo>
                      <a:lnTo>
                        <a:pt x="1416" y="198"/>
                      </a:lnTo>
                      <a:lnTo>
                        <a:pt x="1403" y="195"/>
                      </a:lnTo>
                      <a:lnTo>
                        <a:pt x="1390" y="195"/>
                      </a:lnTo>
                      <a:lnTo>
                        <a:pt x="1384" y="192"/>
                      </a:lnTo>
                      <a:lnTo>
                        <a:pt x="1378" y="188"/>
                      </a:lnTo>
                      <a:lnTo>
                        <a:pt x="1371" y="185"/>
                      </a:lnTo>
                      <a:lnTo>
                        <a:pt x="1365" y="182"/>
                      </a:lnTo>
                      <a:lnTo>
                        <a:pt x="1359" y="179"/>
                      </a:lnTo>
                      <a:lnTo>
                        <a:pt x="1352" y="176"/>
                      </a:lnTo>
                      <a:lnTo>
                        <a:pt x="1343" y="172"/>
                      </a:lnTo>
                      <a:lnTo>
                        <a:pt x="1336" y="169"/>
                      </a:lnTo>
                      <a:lnTo>
                        <a:pt x="1330" y="166"/>
                      </a:lnTo>
                      <a:lnTo>
                        <a:pt x="1323" y="163"/>
                      </a:lnTo>
                      <a:lnTo>
                        <a:pt x="1317" y="160"/>
                      </a:lnTo>
                      <a:lnTo>
                        <a:pt x="1311" y="156"/>
                      </a:lnTo>
                      <a:lnTo>
                        <a:pt x="1301" y="153"/>
                      </a:lnTo>
                      <a:lnTo>
                        <a:pt x="1295" y="153"/>
                      </a:lnTo>
                      <a:lnTo>
                        <a:pt x="1288" y="150"/>
                      </a:lnTo>
                      <a:lnTo>
                        <a:pt x="1282" y="147"/>
                      </a:lnTo>
                      <a:lnTo>
                        <a:pt x="1276" y="144"/>
                      </a:lnTo>
                      <a:lnTo>
                        <a:pt x="1266" y="141"/>
                      </a:lnTo>
                      <a:lnTo>
                        <a:pt x="1260" y="137"/>
                      </a:lnTo>
                      <a:lnTo>
                        <a:pt x="1253" y="137"/>
                      </a:lnTo>
                      <a:lnTo>
                        <a:pt x="1247" y="134"/>
                      </a:lnTo>
                      <a:lnTo>
                        <a:pt x="1237" y="131"/>
                      </a:lnTo>
                      <a:lnTo>
                        <a:pt x="1231" y="128"/>
                      </a:lnTo>
                      <a:lnTo>
                        <a:pt x="1225" y="125"/>
                      </a:lnTo>
                      <a:lnTo>
                        <a:pt x="1218" y="121"/>
                      </a:lnTo>
                      <a:lnTo>
                        <a:pt x="1212" y="118"/>
                      </a:lnTo>
                      <a:lnTo>
                        <a:pt x="1206" y="115"/>
                      </a:lnTo>
                      <a:lnTo>
                        <a:pt x="1196" y="115"/>
                      </a:lnTo>
                      <a:lnTo>
                        <a:pt x="1190" y="112"/>
                      </a:lnTo>
                      <a:lnTo>
                        <a:pt x="1183" y="109"/>
                      </a:lnTo>
                      <a:lnTo>
                        <a:pt x="1177" y="105"/>
                      </a:lnTo>
                      <a:lnTo>
                        <a:pt x="1170" y="102"/>
                      </a:lnTo>
                      <a:lnTo>
                        <a:pt x="1161" y="99"/>
                      </a:lnTo>
                      <a:lnTo>
                        <a:pt x="1155" y="96"/>
                      </a:lnTo>
                      <a:lnTo>
                        <a:pt x="1148" y="93"/>
                      </a:lnTo>
                      <a:lnTo>
                        <a:pt x="1142" y="90"/>
                      </a:lnTo>
                      <a:lnTo>
                        <a:pt x="1135" y="90"/>
                      </a:lnTo>
                      <a:lnTo>
                        <a:pt x="1126" y="86"/>
                      </a:lnTo>
                      <a:lnTo>
                        <a:pt x="1119" y="83"/>
                      </a:lnTo>
                      <a:lnTo>
                        <a:pt x="1113" y="80"/>
                      </a:lnTo>
                      <a:lnTo>
                        <a:pt x="1107" y="77"/>
                      </a:lnTo>
                      <a:lnTo>
                        <a:pt x="1097" y="74"/>
                      </a:lnTo>
                      <a:lnTo>
                        <a:pt x="1091" y="70"/>
                      </a:lnTo>
                      <a:lnTo>
                        <a:pt x="1084" y="70"/>
                      </a:lnTo>
                      <a:lnTo>
                        <a:pt x="1078" y="67"/>
                      </a:lnTo>
                      <a:lnTo>
                        <a:pt x="1068" y="64"/>
                      </a:lnTo>
                      <a:lnTo>
                        <a:pt x="1062" y="61"/>
                      </a:lnTo>
                      <a:lnTo>
                        <a:pt x="1056" y="58"/>
                      </a:lnTo>
                      <a:lnTo>
                        <a:pt x="1046" y="58"/>
                      </a:lnTo>
                      <a:lnTo>
                        <a:pt x="1040" y="54"/>
                      </a:lnTo>
                      <a:lnTo>
                        <a:pt x="1033" y="51"/>
                      </a:lnTo>
                      <a:lnTo>
                        <a:pt x="1027" y="48"/>
                      </a:lnTo>
                      <a:lnTo>
                        <a:pt x="1017" y="48"/>
                      </a:lnTo>
                      <a:lnTo>
                        <a:pt x="1011" y="45"/>
                      </a:lnTo>
                      <a:lnTo>
                        <a:pt x="1001" y="42"/>
                      </a:lnTo>
                      <a:lnTo>
                        <a:pt x="995" y="38"/>
                      </a:lnTo>
                      <a:lnTo>
                        <a:pt x="989" y="38"/>
                      </a:lnTo>
                      <a:lnTo>
                        <a:pt x="979" y="35"/>
                      </a:lnTo>
                      <a:lnTo>
                        <a:pt x="973" y="32"/>
                      </a:lnTo>
                      <a:lnTo>
                        <a:pt x="963" y="32"/>
                      </a:lnTo>
                      <a:lnTo>
                        <a:pt x="957" y="29"/>
                      </a:lnTo>
                      <a:lnTo>
                        <a:pt x="950" y="26"/>
                      </a:lnTo>
                      <a:lnTo>
                        <a:pt x="941" y="26"/>
                      </a:lnTo>
                      <a:lnTo>
                        <a:pt x="935" y="23"/>
                      </a:lnTo>
                      <a:lnTo>
                        <a:pt x="925" y="23"/>
                      </a:lnTo>
                      <a:lnTo>
                        <a:pt x="919" y="19"/>
                      </a:lnTo>
                      <a:lnTo>
                        <a:pt x="912" y="19"/>
                      </a:lnTo>
                      <a:lnTo>
                        <a:pt x="906" y="16"/>
                      </a:lnTo>
                      <a:lnTo>
                        <a:pt x="896" y="16"/>
                      </a:lnTo>
                      <a:lnTo>
                        <a:pt x="890" y="13"/>
                      </a:lnTo>
                      <a:lnTo>
                        <a:pt x="880" y="13"/>
                      </a:lnTo>
                      <a:lnTo>
                        <a:pt x="874" y="13"/>
                      </a:lnTo>
                      <a:lnTo>
                        <a:pt x="868" y="10"/>
                      </a:lnTo>
                      <a:lnTo>
                        <a:pt x="858" y="10"/>
                      </a:lnTo>
                      <a:lnTo>
                        <a:pt x="852" y="7"/>
                      </a:lnTo>
                      <a:lnTo>
                        <a:pt x="845" y="7"/>
                      </a:lnTo>
                      <a:lnTo>
                        <a:pt x="836" y="7"/>
                      </a:lnTo>
                      <a:lnTo>
                        <a:pt x="829" y="7"/>
                      </a:lnTo>
                      <a:lnTo>
                        <a:pt x="823" y="3"/>
                      </a:lnTo>
                      <a:lnTo>
                        <a:pt x="813" y="3"/>
                      </a:lnTo>
                      <a:lnTo>
                        <a:pt x="801" y="3"/>
                      </a:lnTo>
                      <a:lnTo>
                        <a:pt x="788" y="3"/>
                      </a:lnTo>
                      <a:lnTo>
                        <a:pt x="775" y="3"/>
                      </a:lnTo>
                      <a:lnTo>
                        <a:pt x="762" y="0"/>
                      </a:lnTo>
                      <a:lnTo>
                        <a:pt x="750" y="0"/>
                      </a:lnTo>
                      <a:lnTo>
                        <a:pt x="737" y="0"/>
                      </a:lnTo>
                      <a:lnTo>
                        <a:pt x="724" y="0"/>
                      </a:lnTo>
                      <a:lnTo>
                        <a:pt x="711" y="0"/>
                      </a:lnTo>
                      <a:lnTo>
                        <a:pt x="699" y="0"/>
                      </a:lnTo>
                      <a:lnTo>
                        <a:pt x="686" y="0"/>
                      </a:lnTo>
                      <a:lnTo>
                        <a:pt x="673" y="0"/>
                      </a:lnTo>
                      <a:lnTo>
                        <a:pt x="660" y="0"/>
                      </a:lnTo>
                      <a:lnTo>
                        <a:pt x="648" y="0"/>
                      </a:lnTo>
                      <a:lnTo>
                        <a:pt x="635" y="0"/>
                      </a:lnTo>
                      <a:lnTo>
                        <a:pt x="622" y="0"/>
                      </a:lnTo>
                      <a:lnTo>
                        <a:pt x="609" y="0"/>
                      </a:lnTo>
                      <a:lnTo>
                        <a:pt x="600" y="3"/>
                      </a:lnTo>
                      <a:lnTo>
                        <a:pt x="590" y="3"/>
                      </a:lnTo>
                      <a:lnTo>
                        <a:pt x="581" y="3"/>
                      </a:lnTo>
                      <a:lnTo>
                        <a:pt x="571" y="3"/>
                      </a:lnTo>
                      <a:lnTo>
                        <a:pt x="562" y="3"/>
                      </a:lnTo>
                      <a:lnTo>
                        <a:pt x="552" y="7"/>
                      </a:lnTo>
                      <a:lnTo>
                        <a:pt x="539" y="7"/>
                      </a:lnTo>
                      <a:lnTo>
                        <a:pt x="530" y="7"/>
                      </a:lnTo>
                      <a:lnTo>
                        <a:pt x="520" y="7"/>
                      </a:lnTo>
                      <a:lnTo>
                        <a:pt x="511" y="10"/>
                      </a:lnTo>
                      <a:lnTo>
                        <a:pt x="501" y="10"/>
                      </a:lnTo>
                      <a:lnTo>
                        <a:pt x="491" y="10"/>
                      </a:lnTo>
                      <a:lnTo>
                        <a:pt x="482" y="13"/>
                      </a:lnTo>
                      <a:lnTo>
                        <a:pt x="472" y="13"/>
                      </a:lnTo>
                      <a:lnTo>
                        <a:pt x="463" y="13"/>
                      </a:lnTo>
                      <a:lnTo>
                        <a:pt x="453" y="16"/>
                      </a:lnTo>
                      <a:lnTo>
                        <a:pt x="444" y="16"/>
                      </a:lnTo>
                      <a:lnTo>
                        <a:pt x="434" y="16"/>
                      </a:lnTo>
                      <a:lnTo>
                        <a:pt x="421" y="19"/>
                      </a:lnTo>
                      <a:lnTo>
                        <a:pt x="412" y="19"/>
                      </a:lnTo>
                      <a:lnTo>
                        <a:pt x="402" y="19"/>
                      </a:lnTo>
                      <a:lnTo>
                        <a:pt x="393" y="23"/>
                      </a:lnTo>
                      <a:lnTo>
                        <a:pt x="383" y="23"/>
                      </a:lnTo>
                      <a:lnTo>
                        <a:pt x="373" y="26"/>
                      </a:lnTo>
                      <a:lnTo>
                        <a:pt x="364" y="26"/>
                      </a:lnTo>
                      <a:lnTo>
                        <a:pt x="354" y="26"/>
                      </a:lnTo>
                      <a:lnTo>
                        <a:pt x="345" y="29"/>
                      </a:lnTo>
                      <a:lnTo>
                        <a:pt x="335" y="29"/>
                      </a:lnTo>
                      <a:lnTo>
                        <a:pt x="326" y="32"/>
                      </a:lnTo>
                      <a:lnTo>
                        <a:pt x="316" y="32"/>
                      </a:lnTo>
                      <a:lnTo>
                        <a:pt x="307" y="32"/>
                      </a:lnTo>
                      <a:lnTo>
                        <a:pt x="297" y="35"/>
                      </a:lnTo>
                      <a:lnTo>
                        <a:pt x="287" y="35"/>
                      </a:lnTo>
                      <a:lnTo>
                        <a:pt x="278" y="38"/>
                      </a:lnTo>
                      <a:lnTo>
                        <a:pt x="268" y="38"/>
                      </a:lnTo>
                      <a:lnTo>
                        <a:pt x="259" y="42"/>
                      </a:lnTo>
                      <a:lnTo>
                        <a:pt x="249" y="42"/>
                      </a:lnTo>
                      <a:lnTo>
                        <a:pt x="240" y="42"/>
                      </a:lnTo>
                      <a:lnTo>
                        <a:pt x="230" y="45"/>
                      </a:lnTo>
                      <a:lnTo>
                        <a:pt x="220" y="45"/>
                      </a:lnTo>
                      <a:lnTo>
                        <a:pt x="214" y="48"/>
                      </a:lnTo>
                      <a:lnTo>
                        <a:pt x="205" y="48"/>
                      </a:lnTo>
                      <a:lnTo>
                        <a:pt x="195" y="51"/>
                      </a:lnTo>
                      <a:lnTo>
                        <a:pt x="185" y="51"/>
                      </a:lnTo>
                      <a:lnTo>
                        <a:pt x="176" y="54"/>
                      </a:lnTo>
                      <a:lnTo>
                        <a:pt x="166" y="54"/>
                      </a:lnTo>
                      <a:lnTo>
                        <a:pt x="157" y="58"/>
                      </a:lnTo>
                      <a:lnTo>
                        <a:pt x="147" y="61"/>
                      </a:lnTo>
                      <a:lnTo>
                        <a:pt x="138" y="61"/>
                      </a:lnTo>
                      <a:lnTo>
                        <a:pt x="131" y="64"/>
                      </a:lnTo>
                      <a:lnTo>
                        <a:pt x="122" y="64"/>
                      </a:lnTo>
                      <a:lnTo>
                        <a:pt x="112" y="67"/>
                      </a:lnTo>
                      <a:lnTo>
                        <a:pt x="103" y="67"/>
                      </a:lnTo>
                      <a:lnTo>
                        <a:pt x="93" y="70"/>
                      </a:lnTo>
                      <a:lnTo>
                        <a:pt x="83" y="70"/>
                      </a:lnTo>
                      <a:lnTo>
                        <a:pt x="74" y="74"/>
                      </a:lnTo>
                      <a:lnTo>
                        <a:pt x="64" y="77"/>
                      </a:lnTo>
                      <a:lnTo>
                        <a:pt x="55" y="77"/>
                      </a:lnTo>
                      <a:lnTo>
                        <a:pt x="48" y="80"/>
                      </a:lnTo>
                      <a:lnTo>
                        <a:pt x="39" y="80"/>
                      </a:lnTo>
                      <a:lnTo>
                        <a:pt x="29" y="83"/>
                      </a:lnTo>
                      <a:lnTo>
                        <a:pt x="20" y="86"/>
                      </a:lnTo>
                      <a:lnTo>
                        <a:pt x="10" y="86"/>
                      </a:lnTo>
                      <a:lnTo>
                        <a:pt x="0" y="90"/>
                      </a:lnTo>
                      <a:lnTo>
                        <a:pt x="7" y="86"/>
                      </a:lnTo>
                      <a:lnTo>
                        <a:pt x="13" y="86"/>
                      </a:lnTo>
                      <a:lnTo>
                        <a:pt x="20" y="86"/>
                      </a:lnTo>
                      <a:lnTo>
                        <a:pt x="29" y="86"/>
                      </a:lnTo>
                      <a:lnTo>
                        <a:pt x="36" y="83"/>
                      </a:lnTo>
                      <a:lnTo>
                        <a:pt x="42" y="83"/>
                      </a:lnTo>
                      <a:lnTo>
                        <a:pt x="48" y="83"/>
                      </a:lnTo>
                      <a:lnTo>
                        <a:pt x="55" y="83"/>
                      </a:lnTo>
                      <a:lnTo>
                        <a:pt x="64" y="80"/>
                      </a:lnTo>
                      <a:lnTo>
                        <a:pt x="71" y="80"/>
                      </a:lnTo>
                      <a:lnTo>
                        <a:pt x="77" y="80"/>
                      </a:lnTo>
                      <a:lnTo>
                        <a:pt x="83" y="80"/>
                      </a:lnTo>
                      <a:lnTo>
                        <a:pt x="90" y="77"/>
                      </a:lnTo>
                      <a:lnTo>
                        <a:pt x="96" y="77"/>
                      </a:lnTo>
                      <a:lnTo>
                        <a:pt x="106" y="77"/>
                      </a:lnTo>
                      <a:lnTo>
                        <a:pt x="112" y="77"/>
                      </a:lnTo>
                      <a:lnTo>
                        <a:pt x="118" y="77"/>
                      </a:lnTo>
                      <a:lnTo>
                        <a:pt x="125" y="74"/>
                      </a:lnTo>
                      <a:lnTo>
                        <a:pt x="131" y="74"/>
                      </a:lnTo>
                      <a:lnTo>
                        <a:pt x="138" y="74"/>
                      </a:lnTo>
                      <a:lnTo>
                        <a:pt x="144" y="74"/>
                      </a:lnTo>
                      <a:lnTo>
                        <a:pt x="154" y="74"/>
                      </a:lnTo>
                      <a:lnTo>
                        <a:pt x="160" y="70"/>
                      </a:lnTo>
                      <a:lnTo>
                        <a:pt x="166" y="70"/>
                      </a:lnTo>
                      <a:lnTo>
                        <a:pt x="173" y="70"/>
                      </a:lnTo>
                      <a:lnTo>
                        <a:pt x="179" y="70"/>
                      </a:lnTo>
                      <a:lnTo>
                        <a:pt x="189" y="70"/>
                      </a:lnTo>
                      <a:lnTo>
                        <a:pt x="195" y="70"/>
                      </a:lnTo>
                      <a:lnTo>
                        <a:pt x="201" y="67"/>
                      </a:lnTo>
                      <a:lnTo>
                        <a:pt x="208" y="67"/>
                      </a:lnTo>
                      <a:lnTo>
                        <a:pt x="214" y="67"/>
                      </a:lnTo>
                      <a:lnTo>
                        <a:pt x="220" y="67"/>
                      </a:lnTo>
                      <a:lnTo>
                        <a:pt x="233" y="67"/>
                      </a:lnTo>
                      <a:lnTo>
                        <a:pt x="246" y="64"/>
                      </a:lnTo>
                      <a:lnTo>
                        <a:pt x="259" y="64"/>
                      </a:lnTo>
                      <a:lnTo>
                        <a:pt x="271" y="64"/>
                      </a:lnTo>
                      <a:lnTo>
                        <a:pt x="284" y="64"/>
                      </a:lnTo>
                      <a:lnTo>
                        <a:pt x="297" y="61"/>
                      </a:lnTo>
                      <a:lnTo>
                        <a:pt x="313" y="61"/>
                      </a:lnTo>
                      <a:lnTo>
                        <a:pt x="326" y="61"/>
                      </a:lnTo>
                      <a:lnTo>
                        <a:pt x="338" y="61"/>
                      </a:lnTo>
                      <a:lnTo>
                        <a:pt x="351" y="61"/>
                      </a:lnTo>
                      <a:lnTo>
                        <a:pt x="364" y="61"/>
                      </a:lnTo>
                      <a:lnTo>
                        <a:pt x="377" y="61"/>
                      </a:lnTo>
                      <a:lnTo>
                        <a:pt x="389" y="61"/>
                      </a:lnTo>
                      <a:lnTo>
                        <a:pt x="402" y="61"/>
                      </a:lnTo>
                      <a:lnTo>
                        <a:pt x="415" y="61"/>
                      </a:lnTo>
                      <a:lnTo>
                        <a:pt x="428" y="61"/>
                      </a:lnTo>
                      <a:lnTo>
                        <a:pt x="437" y="61"/>
                      </a:lnTo>
                      <a:lnTo>
                        <a:pt x="444" y="61"/>
                      </a:lnTo>
                      <a:lnTo>
                        <a:pt x="453" y="61"/>
                      </a:lnTo>
                      <a:lnTo>
                        <a:pt x="463" y="61"/>
                      </a:lnTo>
                      <a:lnTo>
                        <a:pt x="472" y="64"/>
                      </a:lnTo>
                      <a:lnTo>
                        <a:pt x="482" y="64"/>
                      </a:lnTo>
                      <a:lnTo>
                        <a:pt x="491" y="64"/>
                      </a:lnTo>
                      <a:lnTo>
                        <a:pt x="498" y="67"/>
                      </a:lnTo>
                      <a:lnTo>
                        <a:pt x="507" y="67"/>
                      </a:lnTo>
                      <a:lnTo>
                        <a:pt x="517" y="70"/>
                      </a:lnTo>
                      <a:lnTo>
                        <a:pt x="526" y="70"/>
                      </a:lnTo>
                      <a:lnTo>
                        <a:pt x="533" y="70"/>
                      </a:lnTo>
                      <a:lnTo>
                        <a:pt x="542" y="74"/>
                      </a:lnTo>
                      <a:lnTo>
                        <a:pt x="552" y="77"/>
                      </a:lnTo>
                      <a:lnTo>
                        <a:pt x="562" y="77"/>
                      </a:lnTo>
                      <a:lnTo>
                        <a:pt x="568" y="80"/>
                      </a:lnTo>
                      <a:lnTo>
                        <a:pt x="581" y="83"/>
                      </a:lnTo>
                      <a:lnTo>
                        <a:pt x="590" y="86"/>
                      </a:lnTo>
                      <a:lnTo>
                        <a:pt x="600" y="90"/>
                      </a:lnTo>
                      <a:lnTo>
                        <a:pt x="609" y="93"/>
                      </a:lnTo>
                      <a:lnTo>
                        <a:pt x="622" y="96"/>
                      </a:lnTo>
                      <a:lnTo>
                        <a:pt x="632" y="99"/>
                      </a:lnTo>
                      <a:lnTo>
                        <a:pt x="641" y="105"/>
                      </a:lnTo>
                      <a:lnTo>
                        <a:pt x="654" y="109"/>
                      </a:lnTo>
                      <a:lnTo>
                        <a:pt x="664" y="112"/>
                      </a:lnTo>
                      <a:lnTo>
                        <a:pt x="673" y="118"/>
                      </a:lnTo>
                      <a:lnTo>
                        <a:pt x="683" y="121"/>
                      </a:lnTo>
                      <a:lnTo>
                        <a:pt x="692" y="128"/>
                      </a:lnTo>
                      <a:lnTo>
                        <a:pt x="702" y="131"/>
                      </a:lnTo>
                      <a:lnTo>
                        <a:pt x="715" y="137"/>
                      </a:lnTo>
                      <a:lnTo>
                        <a:pt x="724" y="141"/>
                      </a:lnTo>
                      <a:lnTo>
                        <a:pt x="734" y="147"/>
                      </a:lnTo>
                      <a:lnTo>
                        <a:pt x="743" y="153"/>
                      </a:lnTo>
                      <a:lnTo>
                        <a:pt x="756" y="160"/>
                      </a:lnTo>
                      <a:lnTo>
                        <a:pt x="766" y="166"/>
                      </a:lnTo>
                      <a:lnTo>
                        <a:pt x="778" y="172"/>
                      </a:lnTo>
                      <a:lnTo>
                        <a:pt x="788" y="179"/>
                      </a:lnTo>
                      <a:lnTo>
                        <a:pt x="797" y="188"/>
                      </a:lnTo>
                      <a:lnTo>
                        <a:pt x="810" y="195"/>
                      </a:lnTo>
                      <a:lnTo>
                        <a:pt x="820" y="201"/>
                      </a:lnTo>
                      <a:lnTo>
                        <a:pt x="829" y="208"/>
                      </a:lnTo>
                      <a:lnTo>
                        <a:pt x="842" y="217"/>
                      </a:lnTo>
                      <a:lnTo>
                        <a:pt x="852" y="223"/>
                      </a:lnTo>
                      <a:lnTo>
                        <a:pt x="861" y="230"/>
                      </a:lnTo>
                      <a:lnTo>
                        <a:pt x="874" y="239"/>
                      </a:lnTo>
                      <a:lnTo>
                        <a:pt x="884" y="246"/>
                      </a:lnTo>
                      <a:lnTo>
                        <a:pt x="893" y="252"/>
                      </a:lnTo>
                      <a:lnTo>
                        <a:pt x="903" y="262"/>
                      </a:lnTo>
                      <a:lnTo>
                        <a:pt x="909" y="265"/>
                      </a:lnTo>
                      <a:lnTo>
                        <a:pt x="912" y="268"/>
                      </a:lnTo>
                      <a:lnTo>
                        <a:pt x="915" y="271"/>
                      </a:lnTo>
                      <a:lnTo>
                        <a:pt x="922" y="274"/>
                      </a:lnTo>
                      <a:lnTo>
                        <a:pt x="925" y="278"/>
                      </a:lnTo>
                      <a:lnTo>
                        <a:pt x="928" y="281"/>
                      </a:lnTo>
                      <a:lnTo>
                        <a:pt x="931" y="284"/>
                      </a:lnTo>
                      <a:lnTo>
                        <a:pt x="935" y="287"/>
                      </a:lnTo>
                      <a:lnTo>
                        <a:pt x="944" y="287"/>
                      </a:lnTo>
                      <a:lnTo>
                        <a:pt x="950" y="287"/>
                      </a:lnTo>
                      <a:lnTo>
                        <a:pt x="957" y="287"/>
                      </a:lnTo>
                      <a:lnTo>
                        <a:pt x="966" y="287"/>
                      </a:lnTo>
                      <a:lnTo>
                        <a:pt x="973" y="287"/>
                      </a:lnTo>
                      <a:lnTo>
                        <a:pt x="982" y="287"/>
                      </a:lnTo>
                      <a:lnTo>
                        <a:pt x="989" y="287"/>
                      </a:lnTo>
                      <a:lnTo>
                        <a:pt x="995" y="287"/>
                      </a:lnTo>
                      <a:lnTo>
                        <a:pt x="1005" y="287"/>
                      </a:lnTo>
                      <a:lnTo>
                        <a:pt x="1011" y="287"/>
                      </a:lnTo>
                      <a:lnTo>
                        <a:pt x="1017" y="287"/>
                      </a:lnTo>
                      <a:lnTo>
                        <a:pt x="1027" y="287"/>
                      </a:lnTo>
                      <a:lnTo>
                        <a:pt x="1033" y="287"/>
                      </a:lnTo>
                      <a:lnTo>
                        <a:pt x="1040" y="287"/>
                      </a:lnTo>
                      <a:lnTo>
                        <a:pt x="1049" y="287"/>
                      </a:lnTo>
                      <a:lnTo>
                        <a:pt x="1056" y="287"/>
                      </a:lnTo>
                      <a:lnTo>
                        <a:pt x="1062" y="287"/>
                      </a:lnTo>
                      <a:lnTo>
                        <a:pt x="1072" y="287"/>
                      </a:lnTo>
                      <a:lnTo>
                        <a:pt x="1078" y="287"/>
                      </a:lnTo>
                      <a:lnTo>
                        <a:pt x="1088" y="287"/>
                      </a:lnTo>
                      <a:lnTo>
                        <a:pt x="1094" y="287"/>
                      </a:lnTo>
                      <a:lnTo>
                        <a:pt x="1100" y="287"/>
                      </a:lnTo>
                      <a:lnTo>
                        <a:pt x="1110" y="287"/>
                      </a:lnTo>
                      <a:lnTo>
                        <a:pt x="1116" y="287"/>
                      </a:lnTo>
                      <a:lnTo>
                        <a:pt x="1126" y="287"/>
                      </a:lnTo>
                      <a:lnTo>
                        <a:pt x="1132" y="290"/>
                      </a:lnTo>
                      <a:lnTo>
                        <a:pt x="1139" y="290"/>
                      </a:lnTo>
                      <a:lnTo>
                        <a:pt x="1148" y="290"/>
                      </a:lnTo>
                      <a:lnTo>
                        <a:pt x="1155" y="290"/>
                      </a:lnTo>
                      <a:lnTo>
                        <a:pt x="1164" y="290"/>
                      </a:lnTo>
                      <a:lnTo>
                        <a:pt x="1170" y="294"/>
                      </a:lnTo>
                      <a:lnTo>
                        <a:pt x="1177" y="294"/>
                      </a:lnTo>
                      <a:lnTo>
                        <a:pt x="1186" y="294"/>
                      </a:lnTo>
                      <a:lnTo>
                        <a:pt x="1196" y="290"/>
                      </a:lnTo>
                      <a:lnTo>
                        <a:pt x="1209" y="290"/>
                      </a:lnTo>
                      <a:lnTo>
                        <a:pt x="1215" y="290"/>
                      </a:lnTo>
                      <a:lnTo>
                        <a:pt x="1225" y="290"/>
                      </a:lnTo>
                      <a:lnTo>
                        <a:pt x="1234" y="290"/>
                      </a:lnTo>
                      <a:lnTo>
                        <a:pt x="1244" y="287"/>
                      </a:lnTo>
                      <a:lnTo>
                        <a:pt x="1253" y="287"/>
                      </a:lnTo>
                      <a:lnTo>
                        <a:pt x="1263" y="287"/>
                      </a:lnTo>
                      <a:lnTo>
                        <a:pt x="1272" y="287"/>
                      </a:lnTo>
                      <a:lnTo>
                        <a:pt x="1282" y="287"/>
                      </a:lnTo>
                      <a:lnTo>
                        <a:pt x="1292" y="287"/>
                      </a:lnTo>
                      <a:lnTo>
                        <a:pt x="1301" y="284"/>
                      </a:lnTo>
                      <a:lnTo>
                        <a:pt x="1311" y="284"/>
                      </a:lnTo>
                      <a:lnTo>
                        <a:pt x="1320" y="284"/>
                      </a:lnTo>
                      <a:lnTo>
                        <a:pt x="1330" y="281"/>
                      </a:lnTo>
                      <a:lnTo>
                        <a:pt x="1327" y="284"/>
                      </a:lnTo>
                      <a:lnTo>
                        <a:pt x="1327" y="284"/>
                      </a:lnTo>
                      <a:lnTo>
                        <a:pt x="1330" y="284"/>
                      </a:lnTo>
                      <a:lnTo>
                        <a:pt x="1333" y="284"/>
                      </a:lnTo>
                      <a:lnTo>
                        <a:pt x="1336" y="284"/>
                      </a:lnTo>
                      <a:lnTo>
                        <a:pt x="1339" y="281"/>
                      </a:lnTo>
                      <a:lnTo>
                        <a:pt x="1346" y="281"/>
                      </a:lnTo>
                      <a:lnTo>
                        <a:pt x="1355" y="281"/>
                      </a:lnTo>
                      <a:lnTo>
                        <a:pt x="1362" y="281"/>
                      </a:lnTo>
                      <a:lnTo>
                        <a:pt x="1371" y="281"/>
                      </a:lnTo>
                      <a:lnTo>
                        <a:pt x="1381" y="278"/>
                      </a:lnTo>
                      <a:lnTo>
                        <a:pt x="1394" y="278"/>
                      </a:lnTo>
                      <a:lnTo>
                        <a:pt x="1403" y="278"/>
                      </a:lnTo>
                      <a:lnTo>
                        <a:pt x="1416" y="274"/>
                      </a:lnTo>
                      <a:lnTo>
                        <a:pt x="1425" y="274"/>
                      </a:lnTo>
                      <a:lnTo>
                        <a:pt x="1438" y="271"/>
                      </a:lnTo>
                      <a:lnTo>
                        <a:pt x="1451" y="271"/>
                      </a:lnTo>
                      <a:lnTo>
                        <a:pt x="1461" y="268"/>
                      </a:lnTo>
                      <a:lnTo>
                        <a:pt x="1473" y="265"/>
                      </a:lnTo>
                      <a:lnTo>
                        <a:pt x="1483" y="262"/>
                      </a:lnTo>
                      <a:lnTo>
                        <a:pt x="1496" y="262"/>
                      </a:lnTo>
                      <a:lnTo>
                        <a:pt x="1505" y="259"/>
                      </a:lnTo>
                      <a:lnTo>
                        <a:pt x="1515" y="255"/>
                      </a:lnTo>
                      <a:lnTo>
                        <a:pt x="1524" y="252"/>
                      </a:lnTo>
                      <a:lnTo>
                        <a:pt x="1531" y="249"/>
                      </a:lnTo>
                      <a:lnTo>
                        <a:pt x="1540" y="246"/>
                      </a:lnTo>
                      <a:lnTo>
                        <a:pt x="1547" y="243"/>
                      </a:lnTo>
                      <a:lnTo>
                        <a:pt x="1550" y="236"/>
                      </a:lnTo>
                      <a:lnTo>
                        <a:pt x="1553" y="233"/>
                      </a:lnTo>
                      <a:lnTo>
                        <a:pt x="1556" y="230"/>
                      </a:lnTo>
                      <a:lnTo>
                        <a:pt x="1556" y="223"/>
                      </a:lnTo>
                      <a:lnTo>
                        <a:pt x="1556" y="2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99720" y="3015000"/>
                  <a:ext cx="154800" cy="65880"/>
                </a:xfrm>
                <a:custGeom>
                  <a:avLst/>
                  <a:gdLst/>
                  <a:ahLst/>
                  <a:rect l="l" t="t" r="r" b="b"/>
                  <a:pathLst>
                    <a:path w="182" h="73">
                      <a:moveTo>
                        <a:pt x="182" y="70"/>
                      </a:moveTo>
                      <a:lnTo>
                        <a:pt x="173" y="67"/>
                      </a:lnTo>
                      <a:lnTo>
                        <a:pt x="163" y="61"/>
                      </a:lnTo>
                      <a:lnTo>
                        <a:pt x="153" y="57"/>
                      </a:lnTo>
                      <a:lnTo>
                        <a:pt x="141" y="54"/>
                      </a:lnTo>
                      <a:lnTo>
                        <a:pt x="128" y="48"/>
                      </a:lnTo>
                      <a:lnTo>
                        <a:pt x="115" y="45"/>
                      </a:lnTo>
                      <a:lnTo>
                        <a:pt x="102" y="38"/>
                      </a:lnTo>
                      <a:lnTo>
                        <a:pt x="93" y="35"/>
                      </a:lnTo>
                      <a:lnTo>
                        <a:pt x="80" y="32"/>
                      </a:lnTo>
                      <a:lnTo>
                        <a:pt x="67" y="26"/>
                      </a:lnTo>
                      <a:lnTo>
                        <a:pt x="55" y="22"/>
                      </a:lnTo>
                      <a:lnTo>
                        <a:pt x="42" y="16"/>
                      </a:lnTo>
                      <a:lnTo>
                        <a:pt x="32" y="13"/>
                      </a:lnTo>
                      <a:lnTo>
                        <a:pt x="20" y="10"/>
                      </a:ln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7" y="10"/>
                      </a:lnTo>
                      <a:lnTo>
                        <a:pt x="13" y="19"/>
                      </a:lnTo>
                      <a:lnTo>
                        <a:pt x="20" y="26"/>
                      </a:lnTo>
                      <a:lnTo>
                        <a:pt x="26" y="35"/>
                      </a:lnTo>
                      <a:lnTo>
                        <a:pt x="32" y="45"/>
                      </a:lnTo>
                      <a:lnTo>
                        <a:pt x="39" y="54"/>
                      </a:lnTo>
                      <a:lnTo>
                        <a:pt x="45" y="64"/>
                      </a:lnTo>
                      <a:lnTo>
                        <a:pt x="51" y="73"/>
                      </a:lnTo>
                      <a:lnTo>
                        <a:pt x="58" y="73"/>
                      </a:lnTo>
                      <a:lnTo>
                        <a:pt x="67" y="73"/>
                      </a:lnTo>
                      <a:lnTo>
                        <a:pt x="74" y="73"/>
                      </a:lnTo>
                      <a:lnTo>
                        <a:pt x="83" y="73"/>
                      </a:lnTo>
                      <a:lnTo>
                        <a:pt x="90" y="70"/>
                      </a:lnTo>
                      <a:lnTo>
                        <a:pt x="99" y="70"/>
                      </a:lnTo>
                      <a:lnTo>
                        <a:pt x="109" y="70"/>
                      </a:lnTo>
                      <a:lnTo>
                        <a:pt x="118" y="70"/>
                      </a:lnTo>
                      <a:lnTo>
                        <a:pt x="128" y="70"/>
                      </a:lnTo>
                      <a:lnTo>
                        <a:pt x="137" y="70"/>
                      </a:lnTo>
                      <a:lnTo>
                        <a:pt x="144" y="70"/>
                      </a:lnTo>
                      <a:lnTo>
                        <a:pt x="153" y="70"/>
                      </a:lnTo>
                      <a:lnTo>
                        <a:pt x="163" y="70"/>
                      </a:lnTo>
                      <a:lnTo>
                        <a:pt x="169" y="70"/>
                      </a:lnTo>
                      <a:lnTo>
                        <a:pt x="176" y="70"/>
                      </a:lnTo>
                      <a:lnTo>
                        <a:pt x="182" y="70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973920" y="2980440"/>
                  <a:ext cx="369000" cy="164160"/>
                </a:xfrm>
                <a:custGeom>
                  <a:avLst/>
                  <a:gdLst/>
                  <a:ahLst/>
                  <a:rect l="l" t="t" r="r" b="b"/>
                  <a:pathLst>
                    <a:path w="433" h="182">
                      <a:moveTo>
                        <a:pt x="433" y="153"/>
                      </a:moveTo>
                      <a:lnTo>
                        <a:pt x="335" y="111"/>
                      </a:lnTo>
                      <a:lnTo>
                        <a:pt x="398" y="111"/>
                      </a:lnTo>
                      <a:lnTo>
                        <a:pt x="341" y="32"/>
                      </a:lnTo>
                      <a:lnTo>
                        <a:pt x="233" y="0"/>
                      </a:lnTo>
                      <a:lnTo>
                        <a:pt x="226" y="38"/>
                      </a:lnTo>
                      <a:lnTo>
                        <a:pt x="134" y="48"/>
                      </a:lnTo>
                      <a:lnTo>
                        <a:pt x="137" y="6"/>
                      </a:lnTo>
                      <a:lnTo>
                        <a:pt x="0" y="28"/>
                      </a:lnTo>
                      <a:lnTo>
                        <a:pt x="245" y="182"/>
                      </a:lnTo>
                      <a:lnTo>
                        <a:pt x="433" y="153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911640" y="2971440"/>
                  <a:ext cx="396360" cy="181440"/>
                </a:xfrm>
                <a:custGeom>
                  <a:avLst/>
                  <a:gdLst/>
                  <a:ahLst/>
                  <a:rect l="l" t="t" r="r" b="b"/>
                  <a:pathLst>
                    <a:path w="465" h="201">
                      <a:moveTo>
                        <a:pt x="0" y="13"/>
                      </a:moveTo>
                      <a:lnTo>
                        <a:pt x="6" y="16"/>
                      </a:lnTo>
                      <a:lnTo>
                        <a:pt x="15" y="19"/>
                      </a:lnTo>
                      <a:lnTo>
                        <a:pt x="22" y="23"/>
                      </a:lnTo>
                      <a:lnTo>
                        <a:pt x="28" y="26"/>
                      </a:lnTo>
                      <a:lnTo>
                        <a:pt x="38" y="29"/>
                      </a:lnTo>
                      <a:lnTo>
                        <a:pt x="44" y="32"/>
                      </a:lnTo>
                      <a:lnTo>
                        <a:pt x="51" y="35"/>
                      </a:lnTo>
                      <a:lnTo>
                        <a:pt x="57" y="38"/>
                      </a:lnTo>
                      <a:lnTo>
                        <a:pt x="66" y="42"/>
                      </a:lnTo>
                      <a:lnTo>
                        <a:pt x="73" y="45"/>
                      </a:lnTo>
                      <a:lnTo>
                        <a:pt x="79" y="48"/>
                      </a:lnTo>
                      <a:lnTo>
                        <a:pt x="89" y="51"/>
                      </a:lnTo>
                      <a:lnTo>
                        <a:pt x="95" y="58"/>
                      </a:lnTo>
                      <a:lnTo>
                        <a:pt x="102" y="61"/>
                      </a:lnTo>
                      <a:lnTo>
                        <a:pt x="108" y="64"/>
                      </a:lnTo>
                      <a:lnTo>
                        <a:pt x="114" y="67"/>
                      </a:lnTo>
                      <a:lnTo>
                        <a:pt x="121" y="70"/>
                      </a:lnTo>
                      <a:lnTo>
                        <a:pt x="130" y="74"/>
                      </a:lnTo>
                      <a:lnTo>
                        <a:pt x="137" y="77"/>
                      </a:lnTo>
                      <a:lnTo>
                        <a:pt x="143" y="83"/>
                      </a:lnTo>
                      <a:lnTo>
                        <a:pt x="149" y="86"/>
                      </a:lnTo>
                      <a:lnTo>
                        <a:pt x="156" y="89"/>
                      </a:lnTo>
                      <a:lnTo>
                        <a:pt x="162" y="96"/>
                      </a:lnTo>
                      <a:lnTo>
                        <a:pt x="168" y="99"/>
                      </a:lnTo>
                      <a:lnTo>
                        <a:pt x="175" y="102"/>
                      </a:lnTo>
                      <a:lnTo>
                        <a:pt x="181" y="105"/>
                      </a:lnTo>
                      <a:lnTo>
                        <a:pt x="188" y="112"/>
                      </a:lnTo>
                      <a:lnTo>
                        <a:pt x="194" y="115"/>
                      </a:lnTo>
                      <a:lnTo>
                        <a:pt x="200" y="118"/>
                      </a:lnTo>
                      <a:lnTo>
                        <a:pt x="207" y="125"/>
                      </a:lnTo>
                      <a:lnTo>
                        <a:pt x="213" y="128"/>
                      </a:lnTo>
                      <a:lnTo>
                        <a:pt x="219" y="131"/>
                      </a:lnTo>
                      <a:lnTo>
                        <a:pt x="226" y="137"/>
                      </a:lnTo>
                      <a:lnTo>
                        <a:pt x="232" y="141"/>
                      </a:lnTo>
                      <a:lnTo>
                        <a:pt x="242" y="144"/>
                      </a:lnTo>
                      <a:lnTo>
                        <a:pt x="248" y="150"/>
                      </a:lnTo>
                      <a:lnTo>
                        <a:pt x="255" y="153"/>
                      </a:lnTo>
                      <a:lnTo>
                        <a:pt x="261" y="156"/>
                      </a:lnTo>
                      <a:lnTo>
                        <a:pt x="267" y="163"/>
                      </a:lnTo>
                      <a:lnTo>
                        <a:pt x="274" y="166"/>
                      </a:lnTo>
                      <a:lnTo>
                        <a:pt x="280" y="169"/>
                      </a:lnTo>
                      <a:lnTo>
                        <a:pt x="290" y="176"/>
                      </a:lnTo>
                      <a:lnTo>
                        <a:pt x="296" y="179"/>
                      </a:lnTo>
                      <a:lnTo>
                        <a:pt x="302" y="182"/>
                      </a:lnTo>
                      <a:lnTo>
                        <a:pt x="309" y="188"/>
                      </a:lnTo>
                      <a:lnTo>
                        <a:pt x="315" y="192"/>
                      </a:lnTo>
                      <a:lnTo>
                        <a:pt x="325" y="195"/>
                      </a:lnTo>
                      <a:lnTo>
                        <a:pt x="331" y="201"/>
                      </a:lnTo>
                      <a:lnTo>
                        <a:pt x="337" y="201"/>
                      </a:lnTo>
                      <a:lnTo>
                        <a:pt x="347" y="201"/>
                      </a:lnTo>
                      <a:lnTo>
                        <a:pt x="357" y="201"/>
                      </a:lnTo>
                      <a:lnTo>
                        <a:pt x="363" y="198"/>
                      </a:lnTo>
                      <a:lnTo>
                        <a:pt x="372" y="198"/>
                      </a:lnTo>
                      <a:lnTo>
                        <a:pt x="382" y="198"/>
                      </a:lnTo>
                      <a:lnTo>
                        <a:pt x="388" y="198"/>
                      </a:lnTo>
                      <a:lnTo>
                        <a:pt x="398" y="198"/>
                      </a:lnTo>
                      <a:lnTo>
                        <a:pt x="404" y="198"/>
                      </a:lnTo>
                      <a:lnTo>
                        <a:pt x="414" y="198"/>
                      </a:lnTo>
                      <a:lnTo>
                        <a:pt x="423" y="198"/>
                      </a:lnTo>
                      <a:lnTo>
                        <a:pt x="433" y="198"/>
                      </a:lnTo>
                      <a:lnTo>
                        <a:pt x="439" y="198"/>
                      </a:lnTo>
                      <a:lnTo>
                        <a:pt x="449" y="195"/>
                      </a:lnTo>
                      <a:lnTo>
                        <a:pt x="455" y="195"/>
                      </a:lnTo>
                      <a:lnTo>
                        <a:pt x="465" y="195"/>
                      </a:lnTo>
                      <a:lnTo>
                        <a:pt x="455" y="188"/>
                      </a:lnTo>
                      <a:lnTo>
                        <a:pt x="443" y="185"/>
                      </a:lnTo>
                      <a:lnTo>
                        <a:pt x="433" y="179"/>
                      </a:lnTo>
                      <a:lnTo>
                        <a:pt x="420" y="172"/>
                      </a:lnTo>
                      <a:lnTo>
                        <a:pt x="411" y="166"/>
                      </a:lnTo>
                      <a:lnTo>
                        <a:pt x="398" y="160"/>
                      </a:lnTo>
                      <a:lnTo>
                        <a:pt x="388" y="153"/>
                      </a:lnTo>
                      <a:lnTo>
                        <a:pt x="376" y="147"/>
                      </a:lnTo>
                      <a:lnTo>
                        <a:pt x="366" y="144"/>
                      </a:lnTo>
                      <a:lnTo>
                        <a:pt x="353" y="137"/>
                      </a:lnTo>
                      <a:lnTo>
                        <a:pt x="344" y="131"/>
                      </a:lnTo>
                      <a:lnTo>
                        <a:pt x="331" y="125"/>
                      </a:lnTo>
                      <a:lnTo>
                        <a:pt x="318" y="118"/>
                      </a:lnTo>
                      <a:lnTo>
                        <a:pt x="309" y="112"/>
                      </a:lnTo>
                      <a:lnTo>
                        <a:pt x="296" y="109"/>
                      </a:lnTo>
                      <a:lnTo>
                        <a:pt x="286" y="102"/>
                      </a:lnTo>
                      <a:lnTo>
                        <a:pt x="277" y="96"/>
                      </a:lnTo>
                      <a:lnTo>
                        <a:pt x="270" y="93"/>
                      </a:lnTo>
                      <a:lnTo>
                        <a:pt x="261" y="89"/>
                      </a:lnTo>
                      <a:lnTo>
                        <a:pt x="255" y="83"/>
                      </a:lnTo>
                      <a:lnTo>
                        <a:pt x="245" y="80"/>
                      </a:lnTo>
                      <a:lnTo>
                        <a:pt x="239" y="77"/>
                      </a:lnTo>
                      <a:lnTo>
                        <a:pt x="229" y="70"/>
                      </a:lnTo>
                      <a:lnTo>
                        <a:pt x="223" y="67"/>
                      </a:lnTo>
                      <a:lnTo>
                        <a:pt x="213" y="64"/>
                      </a:lnTo>
                      <a:lnTo>
                        <a:pt x="207" y="58"/>
                      </a:lnTo>
                      <a:lnTo>
                        <a:pt x="197" y="54"/>
                      </a:lnTo>
                      <a:lnTo>
                        <a:pt x="191" y="51"/>
                      </a:lnTo>
                      <a:lnTo>
                        <a:pt x="181" y="45"/>
                      </a:lnTo>
                      <a:lnTo>
                        <a:pt x="172" y="42"/>
                      </a:lnTo>
                      <a:lnTo>
                        <a:pt x="165" y="38"/>
                      </a:lnTo>
                      <a:lnTo>
                        <a:pt x="156" y="35"/>
                      </a:lnTo>
                      <a:lnTo>
                        <a:pt x="149" y="32"/>
                      </a:lnTo>
                      <a:lnTo>
                        <a:pt x="143" y="29"/>
                      </a:lnTo>
                      <a:lnTo>
                        <a:pt x="137" y="29"/>
                      </a:lnTo>
                      <a:lnTo>
                        <a:pt x="130" y="26"/>
                      </a:lnTo>
                      <a:lnTo>
                        <a:pt x="121" y="23"/>
                      </a:lnTo>
                      <a:lnTo>
                        <a:pt x="114" y="19"/>
                      </a:lnTo>
                      <a:lnTo>
                        <a:pt x="108" y="19"/>
                      </a:lnTo>
                      <a:lnTo>
                        <a:pt x="102" y="16"/>
                      </a:lnTo>
                      <a:lnTo>
                        <a:pt x="95" y="13"/>
                      </a:lnTo>
                      <a:lnTo>
                        <a:pt x="86" y="13"/>
                      </a:lnTo>
                      <a:lnTo>
                        <a:pt x="79" y="10"/>
                      </a:lnTo>
                      <a:lnTo>
                        <a:pt x="73" y="7"/>
                      </a:lnTo>
                      <a:lnTo>
                        <a:pt x="66" y="7"/>
                      </a:lnTo>
                      <a:lnTo>
                        <a:pt x="57" y="3"/>
                      </a:lnTo>
                      <a:lnTo>
                        <a:pt x="51" y="3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2" y="7"/>
                      </a:lnTo>
                      <a:lnTo>
                        <a:pt x="15" y="7"/>
                      </a:lnTo>
                      <a:lnTo>
                        <a:pt x="12" y="10"/>
                      </a:lnTo>
                      <a:lnTo>
                        <a:pt x="6" y="1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e0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177680" y="3141360"/>
                  <a:ext cx="32400" cy="3600"/>
                </a:xfrm>
                <a:custGeom>
                  <a:avLst/>
                  <a:gdLst/>
                  <a:ahLst/>
                  <a:rect l="l" t="t" r="r" b="b"/>
                  <a:pathLst>
                    <a:path w="38" h="4">
                      <a:moveTo>
                        <a:pt x="0" y="0"/>
                      </a:moveTo>
                      <a:lnTo>
                        <a:pt x="6" y="4"/>
                      </a:lnTo>
                      <a:lnTo>
                        <a:pt x="3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172280" y="3138840"/>
                  <a:ext cx="64800" cy="2520"/>
                </a:xfrm>
                <a:custGeom>
                  <a:avLst/>
                  <a:gdLst/>
                  <a:ahLst/>
                  <a:rect l="l" t="t" r="r" b="b"/>
                  <a:pathLst>
                    <a:path w="76" h="3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4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166520" y="3133440"/>
                  <a:ext cx="100440" cy="5040"/>
                </a:xfrm>
                <a:custGeom>
                  <a:avLst/>
                  <a:gdLst/>
                  <a:ahLst/>
                  <a:rect l="l" t="t" r="r" b="b"/>
                  <a:pathLst>
                    <a:path w="118" h="6">
                      <a:moveTo>
                        <a:pt x="7" y="6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83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bd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7158960" y="3130560"/>
                  <a:ext cx="116640" cy="2520"/>
                </a:xfrm>
                <a:custGeom>
                  <a:avLst/>
                  <a:gdLst/>
                  <a:ahLst/>
                  <a:rect l="l" t="t" r="r" b="b"/>
                  <a:pathLst>
                    <a:path w="137" h="3">
                      <a:moveTo>
                        <a:pt x="9" y="3"/>
                      </a:moveTo>
                      <a:lnTo>
                        <a:pt x="0" y="0"/>
                      </a:lnTo>
                      <a:lnTo>
                        <a:pt x="133" y="0"/>
                      </a:lnTo>
                      <a:lnTo>
                        <a:pt x="137" y="3"/>
                      </a:lnTo>
                      <a:lnTo>
                        <a:pt x="127" y="3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b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152840" y="3126960"/>
                  <a:ext cx="119160" cy="3240"/>
                </a:xfrm>
                <a:custGeom>
                  <a:avLst/>
                  <a:gdLst/>
                  <a:ahLst/>
                  <a:rect l="l" t="t" r="r" b="b"/>
                  <a:pathLst>
                    <a:path w="140" h="4">
                      <a:moveTo>
                        <a:pt x="7" y="4"/>
                      </a:moveTo>
                      <a:lnTo>
                        <a:pt x="0" y="0"/>
                      </a:lnTo>
                      <a:lnTo>
                        <a:pt x="131" y="0"/>
                      </a:lnTo>
                      <a:lnTo>
                        <a:pt x="140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b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7147800" y="3121560"/>
                  <a:ext cx="116640" cy="5400"/>
                </a:xfrm>
                <a:custGeom>
                  <a:avLst/>
                  <a:gdLst/>
                  <a:ahLst/>
                  <a:rect l="l" t="t" r="r" b="b"/>
                  <a:pathLst>
                    <a:path w="137" h="6">
                      <a:moveTo>
                        <a:pt x="6" y="6"/>
                      </a:moveTo>
                      <a:lnTo>
                        <a:pt x="0" y="0"/>
                      </a:lnTo>
                      <a:lnTo>
                        <a:pt x="131" y="0"/>
                      </a:lnTo>
                      <a:lnTo>
                        <a:pt x="137" y="6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7141680" y="3118680"/>
                  <a:ext cx="117360" cy="2520"/>
                </a:xfrm>
                <a:custGeom>
                  <a:avLst/>
                  <a:gdLst/>
                  <a:ahLst/>
                  <a:rect l="l" t="t" r="r" b="b"/>
                  <a:pathLst>
                    <a:path w="138" h="3">
                      <a:moveTo>
                        <a:pt x="7" y="3"/>
                      </a:moveTo>
                      <a:lnTo>
                        <a:pt x="0" y="0"/>
                      </a:lnTo>
                      <a:lnTo>
                        <a:pt x="128" y="0"/>
                      </a:lnTo>
                      <a:lnTo>
                        <a:pt x="138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c7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136640" y="3116160"/>
                  <a:ext cx="114120" cy="2520"/>
                </a:xfrm>
                <a:custGeom>
                  <a:avLst/>
                  <a:gdLst/>
                  <a:ahLst/>
                  <a:rect l="l" t="t" r="r" b="b"/>
                  <a:pathLst>
                    <a:path w="134" h="3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128" y="0"/>
                      </a:lnTo>
                      <a:lnTo>
                        <a:pt x="13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7129080" y="3109680"/>
                  <a:ext cx="116640" cy="6120"/>
                </a:xfrm>
                <a:custGeom>
                  <a:avLst/>
                  <a:gdLst/>
                  <a:ahLst/>
                  <a:rect l="l" t="t" r="r" b="b"/>
                  <a:pathLst>
                    <a:path w="137" h="7">
                      <a:moveTo>
                        <a:pt x="9" y="7"/>
                      </a:moveTo>
                      <a:lnTo>
                        <a:pt x="0" y="0"/>
                      </a:lnTo>
                      <a:lnTo>
                        <a:pt x="127" y="0"/>
                      </a:lnTo>
                      <a:lnTo>
                        <a:pt x="137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c7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7122960" y="3107160"/>
                  <a:ext cx="114120" cy="2520"/>
                </a:xfrm>
                <a:custGeom>
                  <a:avLst/>
                  <a:gdLst/>
                  <a:ahLst/>
                  <a:rect l="l" t="t" r="r" b="b"/>
                  <a:pathLst>
                    <a:path w="134" h="3">
                      <a:moveTo>
                        <a:pt x="7" y="3"/>
                      </a:moveTo>
                      <a:lnTo>
                        <a:pt x="0" y="0"/>
                      </a:lnTo>
                      <a:lnTo>
                        <a:pt x="128" y="0"/>
                      </a:lnTo>
                      <a:lnTo>
                        <a:pt x="134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cc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7117920" y="3104280"/>
                  <a:ext cx="114120" cy="2520"/>
                </a:xfrm>
                <a:custGeom>
                  <a:avLst/>
                  <a:gdLst/>
                  <a:ahLst/>
                  <a:rect l="l" t="t" r="r" b="b"/>
                  <a:pathLst>
                    <a:path w="134" h="3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124" y="0"/>
                      </a:lnTo>
                      <a:lnTo>
                        <a:pt x="13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cc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7111800" y="3098880"/>
                  <a:ext cx="111600" cy="5040"/>
                </a:xfrm>
                <a:custGeom>
                  <a:avLst/>
                  <a:gdLst/>
                  <a:ahLst/>
                  <a:rect l="l" t="t" r="r" b="b"/>
                  <a:pathLst>
                    <a:path w="131" h="6">
                      <a:moveTo>
                        <a:pt x="7" y="6"/>
                      </a:moveTo>
                      <a:lnTo>
                        <a:pt x="0" y="0"/>
                      </a:lnTo>
                      <a:lnTo>
                        <a:pt x="125" y="0"/>
                      </a:lnTo>
                      <a:lnTo>
                        <a:pt x="131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cf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7104240" y="3095280"/>
                  <a:ext cx="114120" cy="3600"/>
                </a:xfrm>
                <a:custGeom>
                  <a:avLst/>
                  <a:gdLst/>
                  <a:ahLst/>
                  <a:rect l="l" t="t" r="r" b="b"/>
                  <a:pathLst>
                    <a:path w="134" h="4">
                      <a:moveTo>
                        <a:pt x="9" y="4"/>
                      </a:moveTo>
                      <a:lnTo>
                        <a:pt x="0" y="0"/>
                      </a:lnTo>
                      <a:lnTo>
                        <a:pt x="124" y="0"/>
                      </a:lnTo>
                      <a:lnTo>
                        <a:pt x="134" y="4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d1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7098480" y="3092760"/>
                  <a:ext cx="111600" cy="2520"/>
                </a:xfrm>
                <a:custGeom>
                  <a:avLst/>
                  <a:gdLst/>
                  <a:ahLst/>
                  <a:rect l="l" t="t" r="r" b="b"/>
                  <a:pathLst>
                    <a:path w="131" h="3">
                      <a:moveTo>
                        <a:pt x="7" y="3"/>
                      </a:moveTo>
                      <a:lnTo>
                        <a:pt x="0" y="0"/>
                      </a:lnTo>
                      <a:lnTo>
                        <a:pt x="125" y="0"/>
                      </a:lnTo>
                      <a:lnTo>
                        <a:pt x="131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d4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093080" y="3087360"/>
                  <a:ext cx="111600" cy="5040"/>
                </a:xfrm>
                <a:custGeom>
                  <a:avLst/>
                  <a:gdLst/>
                  <a:ahLst/>
                  <a:rect l="l" t="t" r="r" b="b"/>
                  <a:pathLst>
                    <a:path w="131" h="6">
                      <a:moveTo>
                        <a:pt x="6" y="6"/>
                      </a:moveTo>
                      <a:lnTo>
                        <a:pt x="0" y="0"/>
                      </a:lnTo>
                      <a:lnTo>
                        <a:pt x="121" y="0"/>
                      </a:lnTo>
                      <a:lnTo>
                        <a:pt x="131" y="6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d4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088040" y="3084480"/>
                  <a:ext cx="108000" cy="2520"/>
                </a:xfrm>
                <a:custGeom>
                  <a:avLst/>
                  <a:gdLst/>
                  <a:ahLst/>
                  <a:rect l="l" t="t" r="r" b="b"/>
                  <a:pathLst>
                    <a:path w="127" h="3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121" y="0"/>
                      </a:lnTo>
                      <a:lnTo>
                        <a:pt x="127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d4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7081920" y="3080880"/>
                  <a:ext cx="109080" cy="3240"/>
                </a:xfrm>
                <a:custGeom>
                  <a:avLst/>
                  <a:gdLst/>
                  <a:ahLst/>
                  <a:rect l="l" t="t" r="r" b="b"/>
                  <a:pathLst>
                    <a:path w="128" h="4">
                      <a:moveTo>
                        <a:pt x="7" y="4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28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d9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7074360" y="3075480"/>
                  <a:ext cx="108000" cy="5400"/>
                </a:xfrm>
                <a:custGeom>
                  <a:avLst/>
                  <a:gdLst/>
                  <a:ahLst/>
                  <a:rect l="l" t="t" r="r" b="b"/>
                  <a:pathLst>
                    <a:path w="127" h="6">
                      <a:moveTo>
                        <a:pt x="9" y="6"/>
                      </a:moveTo>
                      <a:lnTo>
                        <a:pt x="0" y="0"/>
                      </a:lnTo>
                      <a:lnTo>
                        <a:pt x="121" y="0"/>
                      </a:lnTo>
                      <a:lnTo>
                        <a:pt x="127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d9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068600" y="3072600"/>
                  <a:ext cx="108720" cy="2520"/>
                </a:xfrm>
                <a:custGeom>
                  <a:avLst/>
                  <a:gdLst/>
                  <a:ahLst/>
                  <a:rect l="l" t="t" r="r" b="b"/>
                  <a:pathLst>
                    <a:path w="128" h="3">
                      <a:moveTo>
                        <a:pt x="7" y="3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28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d9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063200" y="3070080"/>
                  <a:ext cx="105480" cy="2520"/>
                </a:xfrm>
                <a:custGeom>
                  <a:avLst/>
                  <a:gdLst/>
                  <a:ahLst/>
                  <a:rect l="l" t="t" r="r" b="b"/>
                  <a:pathLst>
                    <a:path w="124" h="3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2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de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058160" y="3063600"/>
                  <a:ext cx="105480" cy="6120"/>
                </a:xfrm>
                <a:custGeom>
                  <a:avLst/>
                  <a:gdLst/>
                  <a:ahLst/>
                  <a:rect l="l" t="t" r="r" b="b"/>
                  <a:pathLst>
                    <a:path w="124" h="7">
                      <a:moveTo>
                        <a:pt x="6" y="7"/>
                      </a:moveTo>
                      <a:lnTo>
                        <a:pt x="0" y="0"/>
                      </a:lnTo>
                      <a:lnTo>
                        <a:pt x="114" y="0"/>
                      </a:lnTo>
                      <a:lnTo>
                        <a:pt x="124" y="7"/>
                      </a:lnTo>
                      <a:lnTo>
                        <a:pt x="6" y="7"/>
                      </a:lnTo>
                      <a:close/>
                    </a:path>
                  </a:pathLst>
                </a:custGeom>
                <a:solidFill>
                  <a:srgbClr val="de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7049520" y="3061080"/>
                  <a:ext cx="105480" cy="2520"/>
                </a:xfrm>
                <a:custGeom>
                  <a:avLst/>
                  <a:gdLst/>
                  <a:ahLst/>
                  <a:rect l="l" t="t" r="r" b="b"/>
                  <a:pathLst>
                    <a:path w="124" h="3">
                      <a:moveTo>
                        <a:pt x="10" y="3"/>
                      </a:moveTo>
                      <a:lnTo>
                        <a:pt x="0" y="0"/>
                      </a:lnTo>
                      <a:lnTo>
                        <a:pt x="118" y="0"/>
                      </a:lnTo>
                      <a:lnTo>
                        <a:pt x="124" y="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de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044480" y="3058560"/>
                  <a:ext cx="105480" cy="2520"/>
                </a:xfrm>
                <a:custGeom>
                  <a:avLst/>
                  <a:gdLst/>
                  <a:ahLst/>
                  <a:rect l="l" t="t" r="r" b="b"/>
                  <a:pathLst>
                    <a:path w="124" h="3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114" y="0"/>
                      </a:lnTo>
                      <a:lnTo>
                        <a:pt x="12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e3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7038720" y="3052080"/>
                  <a:ext cx="102960" cy="6120"/>
                </a:xfrm>
                <a:custGeom>
                  <a:avLst/>
                  <a:gdLst/>
                  <a:ahLst/>
                  <a:rect l="l" t="t" r="r" b="b"/>
                  <a:pathLst>
                    <a:path w="121" h="7">
                      <a:moveTo>
                        <a:pt x="7" y="7"/>
                      </a:moveTo>
                      <a:lnTo>
                        <a:pt x="0" y="0"/>
                      </a:lnTo>
                      <a:lnTo>
                        <a:pt x="115" y="0"/>
                      </a:lnTo>
                      <a:lnTo>
                        <a:pt x="121" y="7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e5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7033680" y="3049200"/>
                  <a:ext cx="102960" cy="2520"/>
                </a:xfrm>
                <a:custGeom>
                  <a:avLst/>
                  <a:gdLst/>
                  <a:ahLst/>
                  <a:rect l="l" t="t" r="r" b="b"/>
                  <a:pathLst>
                    <a:path w="121" h="3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21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e8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028280" y="3046680"/>
                  <a:ext cx="100440" cy="2520"/>
                </a:xfrm>
                <a:custGeom>
                  <a:avLst/>
                  <a:gdLst/>
                  <a:ahLst/>
                  <a:rect l="l" t="t" r="r" b="b"/>
                  <a:pathLst>
                    <a:path w="118" h="3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111" y="0"/>
                      </a:lnTo>
                      <a:lnTo>
                        <a:pt x="118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e8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7020000" y="3041280"/>
                  <a:ext cx="102960" cy="5040"/>
                </a:xfrm>
                <a:custGeom>
                  <a:avLst/>
                  <a:gdLst/>
                  <a:ahLst/>
                  <a:rect l="l" t="t" r="r" b="b"/>
                  <a:pathLst>
                    <a:path w="121" h="6">
                      <a:moveTo>
                        <a:pt x="10" y="6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21" y="6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ea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7014960" y="3038400"/>
                  <a:ext cx="100440" cy="2520"/>
                </a:xfrm>
                <a:custGeom>
                  <a:avLst/>
                  <a:gdLst/>
                  <a:ahLst/>
                  <a:rect l="l" t="t" r="r" b="b"/>
                  <a:pathLst>
                    <a:path w="118" h="3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111" y="0"/>
                      </a:lnTo>
                      <a:lnTo>
                        <a:pt x="118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eb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7008840" y="3034800"/>
                  <a:ext cx="100440" cy="3240"/>
                </a:xfrm>
                <a:custGeom>
                  <a:avLst/>
                  <a:gdLst/>
                  <a:ahLst/>
                  <a:rect l="l" t="t" r="r" b="b"/>
                  <a:pathLst>
                    <a:path w="118" h="4">
                      <a:moveTo>
                        <a:pt x="7" y="4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18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ed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7003440" y="3029400"/>
                  <a:ext cx="100440" cy="5400"/>
                </a:xfrm>
                <a:custGeom>
                  <a:avLst/>
                  <a:gdLst/>
                  <a:ahLst/>
                  <a:rect l="l" t="t" r="r" b="b"/>
                  <a:pathLst>
                    <a:path w="118" h="6">
                      <a:moveTo>
                        <a:pt x="6" y="6"/>
                      </a:moveTo>
                      <a:lnTo>
                        <a:pt x="0" y="0"/>
                      </a:lnTo>
                      <a:lnTo>
                        <a:pt x="108" y="0"/>
                      </a:lnTo>
                      <a:lnTo>
                        <a:pt x="118" y="6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ef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995160" y="3026520"/>
                  <a:ext cx="100440" cy="2520"/>
                </a:xfrm>
                <a:custGeom>
                  <a:avLst/>
                  <a:gdLst/>
                  <a:ahLst/>
                  <a:rect l="l" t="t" r="r" b="b"/>
                  <a:pathLst>
                    <a:path w="118" h="3">
                      <a:moveTo>
                        <a:pt x="10" y="3"/>
                      </a:moveTo>
                      <a:lnTo>
                        <a:pt x="0" y="0"/>
                      </a:lnTo>
                      <a:lnTo>
                        <a:pt x="112" y="0"/>
                      </a:lnTo>
                      <a:lnTo>
                        <a:pt x="118" y="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f2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990120" y="3024000"/>
                  <a:ext cx="100440" cy="2520"/>
                </a:xfrm>
                <a:custGeom>
                  <a:avLst/>
                  <a:gdLst/>
                  <a:ahLst/>
                  <a:rect l="l" t="t" r="r" b="b"/>
                  <a:pathLst>
                    <a:path w="118" h="3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108" y="0"/>
                      </a:lnTo>
                      <a:lnTo>
                        <a:pt x="118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f5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6984720" y="3017520"/>
                  <a:ext cx="97200" cy="6120"/>
                </a:xfrm>
                <a:custGeom>
                  <a:avLst/>
                  <a:gdLst/>
                  <a:ahLst/>
                  <a:rect l="l" t="t" r="r" b="b"/>
                  <a:pathLst>
                    <a:path w="114" h="7">
                      <a:moveTo>
                        <a:pt x="6" y="7"/>
                      </a:moveTo>
                      <a:lnTo>
                        <a:pt x="0" y="0"/>
                      </a:lnTo>
                      <a:lnTo>
                        <a:pt x="108" y="0"/>
                      </a:lnTo>
                      <a:lnTo>
                        <a:pt x="114" y="7"/>
                      </a:lnTo>
                      <a:lnTo>
                        <a:pt x="6" y="7"/>
                      </a:lnTo>
                      <a:close/>
                    </a:path>
                  </a:pathLst>
                </a:custGeom>
                <a:solidFill>
                  <a:srgbClr val="f2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6978960" y="3015000"/>
                  <a:ext cx="97920" cy="2520"/>
                </a:xfrm>
                <a:custGeom>
                  <a:avLst/>
                  <a:gdLst/>
                  <a:ahLst/>
                  <a:rect l="l" t="t" r="r" b="b"/>
                  <a:pathLst>
                    <a:path w="115" h="3">
                      <a:moveTo>
                        <a:pt x="7" y="3"/>
                      </a:moveTo>
                      <a:lnTo>
                        <a:pt x="0" y="0"/>
                      </a:lnTo>
                      <a:lnTo>
                        <a:pt x="105" y="0"/>
                      </a:lnTo>
                      <a:lnTo>
                        <a:pt x="115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f7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973920" y="3012480"/>
                  <a:ext cx="94680" cy="2520"/>
                </a:xfrm>
                <a:custGeom>
                  <a:avLst/>
                  <a:gdLst/>
                  <a:ahLst/>
                  <a:rect l="l" t="t" r="r" b="b"/>
                  <a:pathLst>
                    <a:path w="111" h="3">
                      <a:moveTo>
                        <a:pt x="6" y="3"/>
                      </a:moveTo>
                      <a:lnTo>
                        <a:pt x="0" y="0"/>
                      </a:lnTo>
                      <a:lnTo>
                        <a:pt x="105" y="0"/>
                      </a:lnTo>
                      <a:lnTo>
                        <a:pt x="111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fa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965280" y="3009600"/>
                  <a:ext cx="97920" cy="2520"/>
                </a:xfrm>
                <a:custGeom>
                  <a:avLst/>
                  <a:gdLst/>
                  <a:ahLst/>
                  <a:rect l="l" t="t" r="r" b="b"/>
                  <a:pathLst>
                    <a:path w="115" h="3">
                      <a:moveTo>
                        <a:pt x="10" y="3"/>
                      </a:moveTo>
                      <a:lnTo>
                        <a:pt x="0" y="0"/>
                      </a:lnTo>
                      <a:lnTo>
                        <a:pt x="105" y="0"/>
                      </a:lnTo>
                      <a:lnTo>
                        <a:pt x="115" y="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f7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960240" y="3003480"/>
                  <a:ext cx="94680" cy="6120"/>
                </a:xfrm>
                <a:custGeom>
                  <a:avLst/>
                  <a:gdLst/>
                  <a:ahLst/>
                  <a:rect l="l" t="t" r="r" b="b"/>
                  <a:pathLst>
                    <a:path w="111" h="7">
                      <a:moveTo>
                        <a:pt x="6" y="7"/>
                      </a:moveTo>
                      <a:lnTo>
                        <a:pt x="0" y="0"/>
                      </a:lnTo>
                      <a:lnTo>
                        <a:pt x="105" y="0"/>
                      </a:lnTo>
                      <a:lnTo>
                        <a:pt x="111" y="7"/>
                      </a:lnTo>
                      <a:lnTo>
                        <a:pt x="6" y="7"/>
                      </a:lnTo>
                      <a:close/>
                    </a:path>
                  </a:pathLst>
                </a:custGeom>
                <a:solidFill>
                  <a:srgbClr val="f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960240" y="3000600"/>
                  <a:ext cx="89280" cy="2520"/>
                </a:xfrm>
                <a:custGeom>
                  <a:avLst/>
                  <a:gdLst/>
                  <a:ahLst/>
                  <a:rect l="l" t="t" r="r" b="b"/>
                  <a:pathLst>
                    <a:path w="105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25" y="0"/>
                      </a:lnTo>
                      <a:lnTo>
                        <a:pt x="96" y="0"/>
                      </a:lnTo>
                      <a:lnTo>
                        <a:pt x="105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981480" y="2995200"/>
                  <a:ext cx="60480" cy="5040"/>
                </a:xfrm>
                <a:custGeom>
                  <a:avLst/>
                  <a:gdLst/>
                  <a:ahLst/>
                  <a:rect l="l" t="t" r="r" b="b"/>
                  <a:pathLst>
                    <a:path w="71" h="6">
                      <a:moveTo>
                        <a:pt x="0" y="6"/>
                      </a:moveTo>
                      <a:lnTo>
                        <a:pt x="29" y="0"/>
                      </a:lnTo>
                      <a:lnTo>
                        <a:pt x="64" y="0"/>
                      </a:lnTo>
                      <a:lnTo>
                        <a:pt x="7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7006320" y="2992320"/>
                  <a:ext cx="29520" cy="2520"/>
                </a:xfrm>
                <a:custGeom>
                  <a:avLst/>
                  <a:gdLst/>
                  <a:ahLst/>
                  <a:rect l="l" t="t" r="r" b="b"/>
                  <a:pathLst>
                    <a:path w="35" h="3">
                      <a:moveTo>
                        <a:pt x="0" y="3"/>
                      </a:moveTo>
                      <a:lnTo>
                        <a:pt x="26" y="0"/>
                      </a:lnTo>
                      <a:lnTo>
                        <a:pt x="35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642360" y="3000600"/>
                  <a:ext cx="127440" cy="2520"/>
                </a:xfrm>
                <a:custGeom>
                  <a:avLst/>
                  <a:gdLst/>
                  <a:ahLst/>
                  <a:rect l="l" t="t" r="r" b="b"/>
                  <a:pathLst>
                    <a:path w="150" h="3">
                      <a:moveTo>
                        <a:pt x="150" y="3"/>
                      </a:moveTo>
                      <a:lnTo>
                        <a:pt x="140" y="0"/>
                      </a:lnTo>
                      <a:lnTo>
                        <a:pt x="131" y="0"/>
                      </a:lnTo>
                      <a:lnTo>
                        <a:pt x="121" y="0"/>
                      </a:lnTo>
                      <a:lnTo>
                        <a:pt x="115" y="0"/>
                      </a:lnTo>
                      <a:lnTo>
                        <a:pt x="105" y="0"/>
                      </a:lnTo>
                      <a:lnTo>
                        <a:pt x="96" y="0"/>
                      </a:lnTo>
                      <a:lnTo>
                        <a:pt x="86" y="0"/>
                      </a:lnTo>
                      <a:lnTo>
                        <a:pt x="76" y="0"/>
                      </a:lnTo>
                      <a:lnTo>
                        <a:pt x="67" y="0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41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0" y="3"/>
                      </a:lnTo>
                      <a:lnTo>
                        <a:pt x="150" y="3"/>
                      </a:lnTo>
                      <a:close/>
                    </a:path>
                  </a:pathLst>
                </a:custGeom>
                <a:solidFill>
                  <a:srgbClr val="4a4f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623640" y="3003480"/>
                  <a:ext cx="176040" cy="2520"/>
                </a:xfrm>
                <a:custGeom>
                  <a:avLst/>
                  <a:gdLst/>
                  <a:ahLst/>
                  <a:rect l="l" t="t" r="r" b="b"/>
                  <a:pathLst>
                    <a:path w="207" h="3">
                      <a:moveTo>
                        <a:pt x="172" y="0"/>
                      </a:moveTo>
                      <a:lnTo>
                        <a:pt x="175" y="0"/>
                      </a:lnTo>
                      <a:lnTo>
                        <a:pt x="181" y="0"/>
                      </a:lnTo>
                      <a:lnTo>
                        <a:pt x="184" y="0"/>
                      </a:lnTo>
                      <a:lnTo>
                        <a:pt x="191" y="0"/>
                      </a:lnTo>
                      <a:lnTo>
                        <a:pt x="194" y="3"/>
                      </a:lnTo>
                      <a:lnTo>
                        <a:pt x="197" y="3"/>
                      </a:lnTo>
                      <a:lnTo>
                        <a:pt x="204" y="3"/>
                      </a:lnTo>
                      <a:lnTo>
                        <a:pt x="207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72" y="0"/>
                      </a:lnTo>
                      <a:close/>
                    </a:path>
                  </a:pathLst>
                </a:custGeom>
                <a:solidFill>
                  <a:srgbClr val="4f57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6620040" y="3006000"/>
                  <a:ext cx="200880" cy="6120"/>
                </a:xfrm>
                <a:custGeom>
                  <a:avLst/>
                  <a:gdLst/>
                  <a:ahLst/>
                  <a:rect l="l" t="t" r="r" b="b"/>
                  <a:pathLst>
                    <a:path w="236" h="7">
                      <a:moveTo>
                        <a:pt x="211" y="0"/>
                      </a:moveTo>
                      <a:lnTo>
                        <a:pt x="214" y="0"/>
                      </a:lnTo>
                      <a:lnTo>
                        <a:pt x="217" y="4"/>
                      </a:lnTo>
                      <a:lnTo>
                        <a:pt x="220" y="4"/>
                      </a:lnTo>
                      <a:lnTo>
                        <a:pt x="224" y="4"/>
                      </a:lnTo>
                      <a:lnTo>
                        <a:pt x="227" y="4"/>
                      </a:lnTo>
                      <a:lnTo>
                        <a:pt x="230" y="4"/>
                      </a:lnTo>
                      <a:lnTo>
                        <a:pt x="233" y="4"/>
                      </a:lnTo>
                      <a:lnTo>
                        <a:pt x="236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211" y="0"/>
                      </a:lnTo>
                      <a:close/>
                    </a:path>
                  </a:pathLst>
                </a:custGeom>
                <a:solidFill>
                  <a:srgbClr val="4f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615000" y="3012480"/>
                  <a:ext cx="225720" cy="2520"/>
                </a:xfrm>
                <a:custGeom>
                  <a:avLst/>
                  <a:gdLst/>
                  <a:ahLst/>
                  <a:rect l="l" t="t" r="r" b="b"/>
                  <a:pathLst>
                    <a:path w="265" h="3">
                      <a:moveTo>
                        <a:pt x="242" y="0"/>
                      </a:moveTo>
                      <a:lnTo>
                        <a:pt x="245" y="0"/>
                      </a:lnTo>
                      <a:lnTo>
                        <a:pt x="249" y="0"/>
                      </a:lnTo>
                      <a:lnTo>
                        <a:pt x="252" y="0"/>
                      </a:lnTo>
                      <a:lnTo>
                        <a:pt x="255" y="0"/>
                      </a:lnTo>
                      <a:lnTo>
                        <a:pt x="258" y="3"/>
                      </a:lnTo>
                      <a:lnTo>
                        <a:pt x="261" y="3"/>
                      </a:lnTo>
                      <a:lnTo>
                        <a:pt x="265" y="3"/>
                      </a:lnTo>
                      <a:lnTo>
                        <a:pt x="265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242" y="0"/>
                      </a:lnTo>
                      <a:close/>
                    </a:path>
                  </a:pathLst>
                </a:custGeom>
                <a:solidFill>
                  <a:srgbClr val="575c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500880" y="3012480"/>
                  <a:ext cx="35640" cy="2520"/>
                </a:xfrm>
                <a:custGeom>
                  <a:avLst/>
                  <a:gdLst/>
                  <a:ahLst/>
                  <a:rect l="l" t="t" r="r" b="b"/>
                  <a:pathLst>
                    <a:path w="42" h="3">
                      <a:moveTo>
                        <a:pt x="38" y="3"/>
                      </a:moveTo>
                      <a:lnTo>
                        <a:pt x="42" y="3"/>
                      </a:lnTo>
                      <a:lnTo>
                        <a:pt x="42" y="3"/>
                      </a:lnTo>
                      <a:lnTo>
                        <a:pt x="42" y="0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2" y="0"/>
                      </a:lnTo>
                      <a:lnTo>
                        <a:pt x="26" y="3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38" y="3"/>
                      </a:lnTo>
                      <a:close/>
                    </a:path>
                  </a:pathLst>
                </a:custGeom>
                <a:solidFill>
                  <a:srgbClr val="575c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612480" y="3015000"/>
                  <a:ext cx="244440" cy="5040"/>
                </a:xfrm>
                <a:custGeom>
                  <a:avLst/>
                  <a:gdLst/>
                  <a:ahLst/>
                  <a:rect l="l" t="t" r="r" b="b"/>
                  <a:pathLst>
                    <a:path w="287" h="6">
                      <a:moveTo>
                        <a:pt x="268" y="0"/>
                      </a:moveTo>
                      <a:lnTo>
                        <a:pt x="271" y="0"/>
                      </a:lnTo>
                      <a:lnTo>
                        <a:pt x="274" y="3"/>
                      </a:lnTo>
                      <a:lnTo>
                        <a:pt x="274" y="3"/>
                      </a:lnTo>
                      <a:lnTo>
                        <a:pt x="277" y="3"/>
                      </a:lnTo>
                      <a:lnTo>
                        <a:pt x="280" y="3"/>
                      </a:lnTo>
                      <a:lnTo>
                        <a:pt x="284" y="3"/>
                      </a:lnTo>
                      <a:lnTo>
                        <a:pt x="284" y="3"/>
                      </a:lnTo>
                      <a:lnTo>
                        <a:pt x="287" y="6"/>
                      </a:lnTo>
                      <a:lnTo>
                        <a:pt x="287" y="6"/>
                      </a:lnTo>
                      <a:lnTo>
                        <a:pt x="287" y="6"/>
                      </a:lnTo>
                      <a:lnTo>
                        <a:pt x="287" y="6"/>
                      </a:lnTo>
                      <a:lnTo>
                        <a:pt x="287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268" y="0"/>
                      </a:lnTo>
                      <a:close/>
                    </a:path>
                  </a:pathLst>
                </a:custGeom>
                <a:solidFill>
                  <a:srgbClr val="596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471000" y="3015000"/>
                  <a:ext cx="61920" cy="5040"/>
                </a:xfrm>
                <a:custGeom>
                  <a:avLst/>
                  <a:gdLst/>
                  <a:ahLst/>
                  <a:rect l="l" t="t" r="r" b="b"/>
                  <a:pathLst>
                    <a:path w="73" h="6">
                      <a:moveTo>
                        <a:pt x="73" y="0"/>
                      </a:moveTo>
                      <a:lnTo>
                        <a:pt x="73" y="3"/>
                      </a:lnTo>
                      <a:lnTo>
                        <a:pt x="70" y="3"/>
                      </a:lnTo>
                      <a:lnTo>
                        <a:pt x="70" y="3"/>
                      </a:lnTo>
                      <a:lnTo>
                        <a:pt x="70" y="6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6" y="3"/>
                      </a:lnTo>
                      <a:lnTo>
                        <a:pt x="32" y="0"/>
                      </a:lnTo>
                      <a:lnTo>
                        <a:pt x="35" y="0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5961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6609960" y="3020400"/>
                  <a:ext cx="246960" cy="3600"/>
                </a:xfrm>
                <a:custGeom>
                  <a:avLst/>
                  <a:gdLst/>
                  <a:ahLst/>
                  <a:rect l="l" t="t" r="r" b="b"/>
                  <a:pathLst>
                    <a:path w="290" h="4">
                      <a:moveTo>
                        <a:pt x="290" y="0"/>
                      </a:moveTo>
                      <a:lnTo>
                        <a:pt x="290" y="0"/>
                      </a:lnTo>
                      <a:lnTo>
                        <a:pt x="290" y="4"/>
                      </a:lnTo>
                      <a:lnTo>
                        <a:pt x="290" y="4"/>
                      </a:lnTo>
                      <a:lnTo>
                        <a:pt x="29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90" y="0"/>
                      </a:lnTo>
                      <a:close/>
                    </a:path>
                  </a:pathLst>
                </a:custGeom>
                <a:solidFill>
                  <a:srgbClr val="5e63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6449400" y="3020400"/>
                  <a:ext cx="80640" cy="3600"/>
                </a:xfrm>
                <a:custGeom>
                  <a:avLst/>
                  <a:gdLst/>
                  <a:ahLst/>
                  <a:rect l="l" t="t" r="r" b="b"/>
                  <a:pathLst>
                    <a:path w="95" h="4">
                      <a:moveTo>
                        <a:pt x="95" y="0"/>
                      </a:moveTo>
                      <a:lnTo>
                        <a:pt x="92" y="0"/>
                      </a:lnTo>
                      <a:lnTo>
                        <a:pt x="92" y="4"/>
                      </a:lnTo>
                      <a:lnTo>
                        <a:pt x="92" y="4"/>
                      </a:lnTo>
                      <a:lnTo>
                        <a:pt x="89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9" y="4"/>
                      </a:lnTo>
                      <a:lnTo>
                        <a:pt x="12" y="4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5e63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6603840" y="3024000"/>
                  <a:ext cx="253080" cy="5040"/>
                </a:xfrm>
                <a:custGeom>
                  <a:avLst/>
                  <a:gdLst/>
                  <a:ahLst/>
                  <a:rect l="l" t="t" r="r" b="b"/>
                  <a:pathLst>
                    <a:path w="297" h="6">
                      <a:moveTo>
                        <a:pt x="297" y="0"/>
                      </a:moveTo>
                      <a:lnTo>
                        <a:pt x="297" y="3"/>
                      </a:lnTo>
                      <a:lnTo>
                        <a:pt x="297" y="3"/>
                      </a:lnTo>
                      <a:lnTo>
                        <a:pt x="297" y="3"/>
                      </a:lnTo>
                      <a:lnTo>
                        <a:pt x="297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63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429960" y="3024000"/>
                  <a:ext cx="95400" cy="5040"/>
                </a:xfrm>
                <a:custGeom>
                  <a:avLst/>
                  <a:gdLst/>
                  <a:ahLst/>
                  <a:rect l="l" t="t" r="r" b="b"/>
                  <a:pathLst>
                    <a:path w="112" h="6">
                      <a:moveTo>
                        <a:pt x="112" y="0"/>
                      </a:moveTo>
                      <a:lnTo>
                        <a:pt x="112" y="3"/>
                      </a:lnTo>
                      <a:lnTo>
                        <a:pt x="109" y="3"/>
                      </a:lnTo>
                      <a:lnTo>
                        <a:pt x="109" y="3"/>
                      </a:lnTo>
                      <a:lnTo>
                        <a:pt x="105" y="6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63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601320" y="3029400"/>
                  <a:ext cx="255600" cy="2520"/>
                </a:xfrm>
                <a:custGeom>
                  <a:avLst/>
                  <a:gdLst/>
                  <a:ahLst/>
                  <a:rect l="l" t="t" r="r" b="b"/>
                  <a:pathLst>
                    <a:path w="300" h="3">
                      <a:moveTo>
                        <a:pt x="300" y="0"/>
                      </a:moveTo>
                      <a:lnTo>
                        <a:pt x="300" y="0"/>
                      </a:lnTo>
                      <a:lnTo>
                        <a:pt x="300" y="0"/>
                      </a:lnTo>
                      <a:lnTo>
                        <a:pt x="300" y="3"/>
                      </a:lnTo>
                      <a:lnTo>
                        <a:pt x="30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66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413760" y="3029400"/>
                  <a:ext cx="105480" cy="2520"/>
                </a:xfrm>
                <a:custGeom>
                  <a:avLst/>
                  <a:gdLst/>
                  <a:ahLst/>
                  <a:rect l="l" t="t" r="r" b="b"/>
                  <a:pathLst>
                    <a:path w="124" h="3">
                      <a:moveTo>
                        <a:pt x="124" y="0"/>
                      </a:moveTo>
                      <a:lnTo>
                        <a:pt x="124" y="0"/>
                      </a:lnTo>
                      <a:lnTo>
                        <a:pt x="124" y="0"/>
                      </a:lnTo>
                      <a:lnTo>
                        <a:pt x="121" y="3"/>
                      </a:lnTo>
                      <a:lnTo>
                        <a:pt x="121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3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66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884280" y="3029400"/>
                  <a:ext cx="7560" cy="252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666b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884280" y="3032280"/>
                  <a:ext cx="18720" cy="6120"/>
                </a:xfrm>
                <a:custGeom>
                  <a:avLst/>
                  <a:gdLst/>
                  <a:ahLst/>
                  <a:rect l="l" t="t" r="r" b="b"/>
                  <a:pathLst>
                    <a:path w="22" h="7">
                      <a:moveTo>
                        <a:pt x="9" y="0"/>
                      </a:move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9" y="3"/>
                      </a:lnTo>
                      <a:lnTo>
                        <a:pt x="19" y="3"/>
                      </a:lnTo>
                      <a:lnTo>
                        <a:pt x="19" y="7"/>
                      </a:lnTo>
                      <a:lnTo>
                        <a:pt x="22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6b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598800" y="3032280"/>
                  <a:ext cx="258120" cy="6120"/>
                </a:xfrm>
                <a:custGeom>
                  <a:avLst/>
                  <a:gdLst/>
                  <a:ahLst/>
                  <a:rect l="l" t="t" r="r" b="b"/>
                  <a:pathLst>
                    <a:path w="303" h="7">
                      <a:moveTo>
                        <a:pt x="303" y="0"/>
                      </a:moveTo>
                      <a:lnTo>
                        <a:pt x="303" y="3"/>
                      </a:lnTo>
                      <a:lnTo>
                        <a:pt x="303" y="3"/>
                      </a:lnTo>
                      <a:lnTo>
                        <a:pt x="303" y="3"/>
                      </a:lnTo>
                      <a:lnTo>
                        <a:pt x="303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03" y="0"/>
                      </a:lnTo>
                      <a:close/>
                    </a:path>
                  </a:pathLst>
                </a:custGeom>
                <a:solidFill>
                  <a:srgbClr val="6b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400080" y="3032280"/>
                  <a:ext cx="116640" cy="6120"/>
                </a:xfrm>
                <a:custGeom>
                  <a:avLst/>
                  <a:gdLst/>
                  <a:ahLst/>
                  <a:rect l="l" t="t" r="r" b="b"/>
                  <a:pathLst>
                    <a:path w="137" h="7">
                      <a:moveTo>
                        <a:pt x="137" y="0"/>
                      </a:moveTo>
                      <a:lnTo>
                        <a:pt x="134" y="3"/>
                      </a:lnTo>
                      <a:lnTo>
                        <a:pt x="134" y="3"/>
                      </a:lnTo>
                      <a:lnTo>
                        <a:pt x="134" y="3"/>
                      </a:lnTo>
                      <a:lnTo>
                        <a:pt x="131" y="7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6" y="0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6b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884280" y="3038400"/>
                  <a:ext cx="27000" cy="2520"/>
                </a:xfrm>
                <a:custGeom>
                  <a:avLst/>
                  <a:gdLst/>
                  <a:ahLst/>
                  <a:rect l="l" t="t" r="r" b="b"/>
                  <a:pathLst>
                    <a:path w="32" h="3">
                      <a:moveTo>
                        <a:pt x="22" y="0"/>
                      </a:move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32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6b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593760" y="3038400"/>
                  <a:ext cx="263160" cy="2520"/>
                </a:xfrm>
                <a:custGeom>
                  <a:avLst/>
                  <a:gdLst/>
                  <a:ahLst/>
                  <a:rect l="l" t="t" r="r" b="b"/>
                  <a:pathLst>
                    <a:path w="309" h="3">
                      <a:moveTo>
                        <a:pt x="309" y="0"/>
                      </a:moveTo>
                      <a:lnTo>
                        <a:pt x="309" y="0"/>
                      </a:lnTo>
                      <a:lnTo>
                        <a:pt x="309" y="3"/>
                      </a:lnTo>
                      <a:lnTo>
                        <a:pt x="309" y="3"/>
                      </a:lnTo>
                      <a:lnTo>
                        <a:pt x="309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309" y="0"/>
                      </a:lnTo>
                      <a:close/>
                    </a:path>
                  </a:pathLst>
                </a:custGeom>
                <a:solidFill>
                  <a:srgbClr val="6b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386400" y="3038400"/>
                  <a:ext cx="124920" cy="2520"/>
                </a:xfrm>
                <a:custGeom>
                  <a:avLst/>
                  <a:gdLst/>
                  <a:ahLst/>
                  <a:rect l="l" t="t" r="r" b="b"/>
                  <a:pathLst>
                    <a:path w="147" h="3">
                      <a:moveTo>
                        <a:pt x="147" y="0"/>
                      </a:moveTo>
                      <a:lnTo>
                        <a:pt x="147" y="0"/>
                      </a:lnTo>
                      <a:lnTo>
                        <a:pt x="147" y="3"/>
                      </a:lnTo>
                      <a:lnTo>
                        <a:pt x="144" y="3"/>
                      </a:lnTo>
                      <a:lnTo>
                        <a:pt x="144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6b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884280" y="3041280"/>
                  <a:ext cx="34920" cy="5040"/>
                </a:xfrm>
                <a:custGeom>
                  <a:avLst/>
                  <a:gdLst/>
                  <a:ahLst/>
                  <a:rect l="l" t="t" r="r" b="b"/>
                  <a:pathLst>
                    <a:path w="41" h="6">
                      <a:moveTo>
                        <a:pt x="32" y="0"/>
                      </a:moveTo>
                      <a:lnTo>
                        <a:pt x="32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5" y="3"/>
                      </a:lnTo>
                      <a:lnTo>
                        <a:pt x="38" y="3"/>
                      </a:lnTo>
                      <a:lnTo>
                        <a:pt x="38" y="3"/>
                      </a:lnTo>
                      <a:lnTo>
                        <a:pt x="41" y="6"/>
                      </a:lnTo>
                      <a:lnTo>
                        <a:pt x="41" y="6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7378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590160" y="3041280"/>
                  <a:ext cx="266760" cy="5040"/>
                </a:xfrm>
                <a:custGeom>
                  <a:avLst/>
                  <a:gdLst/>
                  <a:ahLst/>
                  <a:rect l="l" t="t" r="r" b="b"/>
                  <a:pathLst>
                    <a:path w="313" h="6">
                      <a:moveTo>
                        <a:pt x="313" y="0"/>
                      </a:moveTo>
                      <a:lnTo>
                        <a:pt x="313" y="3"/>
                      </a:lnTo>
                      <a:lnTo>
                        <a:pt x="313" y="3"/>
                      </a:lnTo>
                      <a:lnTo>
                        <a:pt x="313" y="3"/>
                      </a:lnTo>
                      <a:lnTo>
                        <a:pt x="313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313" y="0"/>
                      </a:lnTo>
                      <a:close/>
                    </a:path>
                  </a:pathLst>
                </a:custGeom>
                <a:solidFill>
                  <a:srgbClr val="7378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375240" y="3041280"/>
                  <a:ext cx="133920" cy="5040"/>
                </a:xfrm>
                <a:custGeom>
                  <a:avLst/>
                  <a:gdLst/>
                  <a:ahLst/>
                  <a:rect l="l" t="t" r="r" b="b"/>
                  <a:pathLst>
                    <a:path w="157" h="6">
                      <a:moveTo>
                        <a:pt x="157" y="0"/>
                      </a:moveTo>
                      <a:lnTo>
                        <a:pt x="154" y="3"/>
                      </a:lnTo>
                      <a:lnTo>
                        <a:pt x="154" y="3"/>
                      </a:lnTo>
                      <a:lnTo>
                        <a:pt x="150" y="3"/>
                      </a:lnTo>
                      <a:lnTo>
                        <a:pt x="150" y="6"/>
                      </a:lnTo>
                      <a:lnTo>
                        <a:pt x="0" y="6"/>
                      </a:ln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7378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886800" y="3046680"/>
                  <a:ext cx="40680" cy="2520"/>
                </a:xfrm>
                <a:custGeom>
                  <a:avLst/>
                  <a:gdLst/>
                  <a:ahLst/>
                  <a:rect l="l" t="t" r="r" b="b"/>
                  <a:pathLst>
                    <a:path w="48" h="3">
                      <a:moveTo>
                        <a:pt x="38" y="0"/>
                      </a:moveTo>
                      <a:lnTo>
                        <a:pt x="38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4" y="3"/>
                      </a:lnTo>
                      <a:lnTo>
                        <a:pt x="44" y="3"/>
                      </a:lnTo>
                      <a:lnTo>
                        <a:pt x="48" y="3"/>
                      </a:lnTo>
                      <a:lnTo>
                        <a:pt x="48" y="3"/>
                      </a:lnTo>
                      <a:lnTo>
                        <a:pt x="48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75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587640" y="3046680"/>
                  <a:ext cx="269280" cy="2520"/>
                </a:xfrm>
                <a:custGeom>
                  <a:avLst/>
                  <a:gdLst/>
                  <a:ahLst/>
                  <a:rect l="l" t="t" r="r" b="b"/>
                  <a:pathLst>
                    <a:path w="316" h="3">
                      <a:moveTo>
                        <a:pt x="316" y="0"/>
                      </a:moveTo>
                      <a:lnTo>
                        <a:pt x="316" y="0"/>
                      </a:lnTo>
                      <a:lnTo>
                        <a:pt x="316" y="3"/>
                      </a:lnTo>
                      <a:lnTo>
                        <a:pt x="316" y="3"/>
                      </a:lnTo>
                      <a:lnTo>
                        <a:pt x="316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16" y="0"/>
                      </a:lnTo>
                      <a:close/>
                    </a:path>
                  </a:pathLst>
                </a:custGeom>
                <a:solidFill>
                  <a:srgbClr val="75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365160" y="3046680"/>
                  <a:ext cx="137880" cy="2520"/>
                </a:xfrm>
                <a:custGeom>
                  <a:avLst/>
                  <a:gdLst/>
                  <a:ahLst/>
                  <a:rect l="l" t="t" r="r" b="b"/>
                  <a:pathLst>
                    <a:path w="162" h="3">
                      <a:moveTo>
                        <a:pt x="162" y="0"/>
                      </a:moveTo>
                      <a:lnTo>
                        <a:pt x="162" y="0"/>
                      </a:lnTo>
                      <a:lnTo>
                        <a:pt x="159" y="3"/>
                      </a:lnTo>
                      <a:lnTo>
                        <a:pt x="159" y="3"/>
                      </a:lnTo>
                      <a:lnTo>
                        <a:pt x="156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62" y="0"/>
                      </a:lnTo>
                      <a:close/>
                    </a:path>
                  </a:pathLst>
                </a:custGeom>
                <a:solidFill>
                  <a:srgbClr val="75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886800" y="3049200"/>
                  <a:ext cx="48600" cy="6120"/>
                </a:xfrm>
                <a:custGeom>
                  <a:avLst/>
                  <a:gdLst/>
                  <a:ahLst/>
                  <a:rect l="l" t="t" r="r" b="b"/>
                  <a:pathLst>
                    <a:path w="57" h="7">
                      <a:moveTo>
                        <a:pt x="48" y="0"/>
                      </a:moveTo>
                      <a:lnTo>
                        <a:pt x="51" y="3"/>
                      </a:lnTo>
                      <a:lnTo>
                        <a:pt x="54" y="3"/>
                      </a:lnTo>
                      <a:lnTo>
                        <a:pt x="54" y="3"/>
                      </a:lnTo>
                      <a:lnTo>
                        <a:pt x="57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7a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582600" y="3049200"/>
                  <a:ext cx="276840" cy="6120"/>
                </a:xfrm>
                <a:custGeom>
                  <a:avLst/>
                  <a:gdLst/>
                  <a:ahLst/>
                  <a:rect l="l" t="t" r="r" b="b"/>
                  <a:pathLst>
                    <a:path w="325" h="7">
                      <a:moveTo>
                        <a:pt x="322" y="0"/>
                      </a:moveTo>
                      <a:lnTo>
                        <a:pt x="322" y="3"/>
                      </a:lnTo>
                      <a:lnTo>
                        <a:pt x="322" y="3"/>
                      </a:lnTo>
                      <a:lnTo>
                        <a:pt x="322" y="3"/>
                      </a:lnTo>
                      <a:lnTo>
                        <a:pt x="325" y="7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0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7a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359400" y="3049200"/>
                  <a:ext cx="138600" cy="6120"/>
                </a:xfrm>
                <a:custGeom>
                  <a:avLst/>
                  <a:gdLst/>
                  <a:ahLst/>
                  <a:rect l="l" t="t" r="r" b="b"/>
                  <a:pathLst>
                    <a:path w="163" h="7">
                      <a:moveTo>
                        <a:pt x="163" y="0"/>
                      </a:moveTo>
                      <a:lnTo>
                        <a:pt x="163" y="3"/>
                      </a:lnTo>
                      <a:lnTo>
                        <a:pt x="163" y="3"/>
                      </a:lnTo>
                      <a:lnTo>
                        <a:pt x="160" y="7"/>
                      </a:lnTo>
                      <a:lnTo>
                        <a:pt x="160" y="7"/>
                      </a:ln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0"/>
                      </a:lnTo>
                      <a:lnTo>
                        <a:pt x="163" y="0"/>
                      </a:lnTo>
                      <a:close/>
                    </a:path>
                  </a:pathLst>
                </a:custGeom>
                <a:solidFill>
                  <a:srgbClr val="7a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886800" y="3055680"/>
                  <a:ext cx="56880" cy="2520"/>
                </a:xfrm>
                <a:custGeom>
                  <a:avLst/>
                  <a:gdLst/>
                  <a:ahLst/>
                  <a:rect l="l" t="t" r="r" b="b"/>
                  <a:pathLst>
                    <a:path w="67" h="3">
                      <a:moveTo>
                        <a:pt x="57" y="0"/>
                      </a:moveTo>
                      <a:lnTo>
                        <a:pt x="60" y="0"/>
                      </a:lnTo>
                      <a:lnTo>
                        <a:pt x="64" y="3"/>
                      </a:lnTo>
                      <a:lnTo>
                        <a:pt x="64" y="3"/>
                      </a:lnTo>
                      <a:lnTo>
                        <a:pt x="67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7d8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80080" y="3055680"/>
                  <a:ext cx="279360" cy="2520"/>
                </a:xfrm>
                <a:custGeom>
                  <a:avLst/>
                  <a:gdLst/>
                  <a:ahLst/>
                  <a:rect l="l" t="t" r="r" b="b"/>
                  <a:pathLst>
                    <a:path w="328" h="3">
                      <a:moveTo>
                        <a:pt x="328" y="0"/>
                      </a:moveTo>
                      <a:lnTo>
                        <a:pt x="328" y="0"/>
                      </a:lnTo>
                      <a:lnTo>
                        <a:pt x="328" y="3"/>
                      </a:lnTo>
                      <a:lnTo>
                        <a:pt x="328" y="3"/>
                      </a:lnTo>
                      <a:lnTo>
                        <a:pt x="328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28" y="0"/>
                      </a:lnTo>
                      <a:close/>
                    </a:path>
                  </a:pathLst>
                </a:custGeom>
                <a:solidFill>
                  <a:srgbClr val="7d8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359400" y="3055680"/>
                  <a:ext cx="136080" cy="2520"/>
                </a:xfrm>
                <a:custGeom>
                  <a:avLst/>
                  <a:gdLst/>
                  <a:ahLst/>
                  <a:rect l="l" t="t" r="r" b="b"/>
                  <a:pathLst>
                    <a:path w="160" h="3">
                      <a:moveTo>
                        <a:pt x="160" y="0"/>
                      </a:moveTo>
                      <a:lnTo>
                        <a:pt x="157" y="0"/>
                      </a:lnTo>
                      <a:lnTo>
                        <a:pt x="157" y="3"/>
                      </a:lnTo>
                      <a:lnTo>
                        <a:pt x="157" y="3"/>
                      </a:lnTo>
                      <a:lnTo>
                        <a:pt x="15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60" y="0"/>
                      </a:lnTo>
                      <a:close/>
                    </a:path>
                  </a:pathLst>
                </a:custGeom>
                <a:solidFill>
                  <a:srgbClr val="7d8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886800" y="3058560"/>
                  <a:ext cx="64440" cy="5040"/>
                </a:xfrm>
                <a:custGeom>
                  <a:avLst/>
                  <a:gdLst/>
                  <a:ahLst/>
                  <a:rect l="l" t="t" r="r" b="b"/>
                  <a:pathLst>
                    <a:path w="76" h="6">
                      <a:moveTo>
                        <a:pt x="67" y="0"/>
                      </a:moveTo>
                      <a:lnTo>
                        <a:pt x="70" y="3"/>
                      </a:lnTo>
                      <a:lnTo>
                        <a:pt x="70" y="3"/>
                      </a:lnTo>
                      <a:lnTo>
                        <a:pt x="73" y="3"/>
                      </a:lnTo>
                      <a:lnTo>
                        <a:pt x="76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82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6576480" y="3058560"/>
                  <a:ext cx="282960" cy="5040"/>
                </a:xfrm>
                <a:custGeom>
                  <a:avLst/>
                  <a:gdLst/>
                  <a:ahLst/>
                  <a:rect l="l" t="t" r="r" b="b"/>
                  <a:pathLst>
                    <a:path w="332" h="6">
                      <a:moveTo>
                        <a:pt x="332" y="0"/>
                      </a:moveTo>
                      <a:lnTo>
                        <a:pt x="332" y="3"/>
                      </a:lnTo>
                      <a:lnTo>
                        <a:pt x="332" y="3"/>
                      </a:lnTo>
                      <a:lnTo>
                        <a:pt x="332" y="3"/>
                      </a:lnTo>
                      <a:lnTo>
                        <a:pt x="332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332" y="0"/>
                      </a:lnTo>
                      <a:close/>
                    </a:path>
                  </a:pathLst>
                </a:custGeom>
                <a:solidFill>
                  <a:srgbClr val="82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6359400" y="3058560"/>
                  <a:ext cx="129960" cy="5040"/>
                </a:xfrm>
                <a:custGeom>
                  <a:avLst/>
                  <a:gdLst/>
                  <a:ahLst/>
                  <a:rect l="l" t="t" r="r" b="b"/>
                  <a:pathLst>
                    <a:path w="153" h="6">
                      <a:moveTo>
                        <a:pt x="153" y="0"/>
                      </a:moveTo>
                      <a:lnTo>
                        <a:pt x="153" y="3"/>
                      </a:lnTo>
                      <a:lnTo>
                        <a:pt x="150" y="3"/>
                      </a:lnTo>
                      <a:lnTo>
                        <a:pt x="150" y="3"/>
                      </a:lnTo>
                      <a:lnTo>
                        <a:pt x="150" y="6"/>
                      </a:ln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82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886800" y="3063600"/>
                  <a:ext cx="73080" cy="2520"/>
                </a:xfrm>
                <a:custGeom>
                  <a:avLst/>
                  <a:gdLst/>
                  <a:ahLst/>
                  <a:rect l="l" t="t" r="r" b="b"/>
                  <a:pathLst>
                    <a:path w="86" h="3">
                      <a:moveTo>
                        <a:pt x="76" y="0"/>
                      </a:moveTo>
                      <a:lnTo>
                        <a:pt x="76" y="0"/>
                      </a:lnTo>
                      <a:lnTo>
                        <a:pt x="80" y="3"/>
                      </a:lnTo>
                      <a:lnTo>
                        <a:pt x="83" y="3"/>
                      </a:lnTo>
                      <a:lnTo>
                        <a:pt x="86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85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6571440" y="3063600"/>
                  <a:ext cx="288000" cy="2520"/>
                </a:xfrm>
                <a:custGeom>
                  <a:avLst/>
                  <a:gdLst/>
                  <a:ahLst/>
                  <a:rect l="l" t="t" r="r" b="b"/>
                  <a:pathLst>
                    <a:path w="338" h="3">
                      <a:moveTo>
                        <a:pt x="338" y="0"/>
                      </a:moveTo>
                      <a:lnTo>
                        <a:pt x="338" y="0"/>
                      </a:lnTo>
                      <a:lnTo>
                        <a:pt x="338" y="3"/>
                      </a:lnTo>
                      <a:lnTo>
                        <a:pt x="338" y="3"/>
                      </a:lnTo>
                      <a:lnTo>
                        <a:pt x="338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338" y="0"/>
                      </a:lnTo>
                      <a:close/>
                    </a:path>
                  </a:pathLst>
                </a:custGeom>
                <a:solidFill>
                  <a:srgbClr val="85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6362640" y="3063600"/>
                  <a:ext cx="124200" cy="2520"/>
                </a:xfrm>
                <a:custGeom>
                  <a:avLst/>
                  <a:gdLst/>
                  <a:ahLst/>
                  <a:rect l="l" t="t" r="r" b="b"/>
                  <a:pathLst>
                    <a:path w="146" h="3">
                      <a:moveTo>
                        <a:pt x="146" y="0"/>
                      </a:moveTo>
                      <a:lnTo>
                        <a:pt x="143" y="0"/>
                      </a:lnTo>
                      <a:lnTo>
                        <a:pt x="143" y="3"/>
                      </a:lnTo>
                      <a:lnTo>
                        <a:pt x="140" y="3"/>
                      </a:lnTo>
                      <a:lnTo>
                        <a:pt x="140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46" y="0"/>
                      </a:lnTo>
                      <a:close/>
                    </a:path>
                  </a:pathLst>
                </a:custGeom>
                <a:solidFill>
                  <a:srgbClr val="85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6886800" y="3066480"/>
                  <a:ext cx="78480" cy="6120"/>
                </a:xfrm>
                <a:custGeom>
                  <a:avLst/>
                  <a:gdLst/>
                  <a:ahLst/>
                  <a:rect l="l" t="t" r="r" b="b"/>
                  <a:pathLst>
                    <a:path w="92" h="7">
                      <a:moveTo>
                        <a:pt x="86" y="0"/>
                      </a:moveTo>
                      <a:lnTo>
                        <a:pt x="86" y="4"/>
                      </a:lnTo>
                      <a:lnTo>
                        <a:pt x="89" y="4"/>
                      </a:lnTo>
                      <a:lnTo>
                        <a:pt x="92" y="4"/>
                      </a:lnTo>
                      <a:lnTo>
                        <a:pt x="92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6568920" y="3066480"/>
                  <a:ext cx="290520" cy="6120"/>
                </a:xfrm>
                <a:custGeom>
                  <a:avLst/>
                  <a:gdLst/>
                  <a:ahLst/>
                  <a:rect l="l" t="t" r="r" b="b"/>
                  <a:pathLst>
                    <a:path w="341" h="7">
                      <a:moveTo>
                        <a:pt x="341" y="0"/>
                      </a:moveTo>
                      <a:lnTo>
                        <a:pt x="341" y="4"/>
                      </a:lnTo>
                      <a:lnTo>
                        <a:pt x="341" y="4"/>
                      </a:lnTo>
                      <a:lnTo>
                        <a:pt x="341" y="4"/>
                      </a:lnTo>
                      <a:lnTo>
                        <a:pt x="341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341" y="0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367680" y="3066480"/>
                  <a:ext cx="114120" cy="6120"/>
                </a:xfrm>
                <a:custGeom>
                  <a:avLst/>
                  <a:gdLst/>
                  <a:ahLst/>
                  <a:rect l="l" t="t" r="r" b="b"/>
                  <a:pathLst>
                    <a:path w="134" h="7">
                      <a:moveTo>
                        <a:pt x="134" y="0"/>
                      </a:moveTo>
                      <a:lnTo>
                        <a:pt x="131" y="4"/>
                      </a:lnTo>
                      <a:lnTo>
                        <a:pt x="131" y="4"/>
                      </a:lnTo>
                      <a:lnTo>
                        <a:pt x="131" y="4"/>
                      </a:lnTo>
                      <a:lnTo>
                        <a:pt x="127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6" y="4"/>
                      </a:lnTo>
                      <a:lnTo>
                        <a:pt x="3" y="4"/>
                      </a:lnTo>
                      <a:lnTo>
                        <a:pt x="0" y="0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886800" y="3072600"/>
                  <a:ext cx="86760" cy="2520"/>
                </a:xfrm>
                <a:custGeom>
                  <a:avLst/>
                  <a:gdLst/>
                  <a:ahLst/>
                  <a:rect l="l" t="t" r="r" b="b"/>
                  <a:pathLst>
                    <a:path w="102" h="3">
                      <a:moveTo>
                        <a:pt x="92" y="0"/>
                      </a:moveTo>
                      <a:lnTo>
                        <a:pt x="95" y="0"/>
                      </a:lnTo>
                      <a:lnTo>
                        <a:pt x="99" y="3"/>
                      </a:lnTo>
                      <a:lnTo>
                        <a:pt x="99" y="3"/>
                      </a:lnTo>
                      <a:lnTo>
                        <a:pt x="102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8c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566400" y="3072600"/>
                  <a:ext cx="293040" cy="2520"/>
                </a:xfrm>
                <a:custGeom>
                  <a:avLst/>
                  <a:gdLst/>
                  <a:ahLst/>
                  <a:rect l="l" t="t" r="r" b="b"/>
                  <a:pathLst>
                    <a:path w="344" h="3">
                      <a:moveTo>
                        <a:pt x="344" y="0"/>
                      </a:moveTo>
                      <a:lnTo>
                        <a:pt x="344" y="0"/>
                      </a:lnTo>
                      <a:lnTo>
                        <a:pt x="344" y="3"/>
                      </a:lnTo>
                      <a:lnTo>
                        <a:pt x="344" y="3"/>
                      </a:lnTo>
                      <a:lnTo>
                        <a:pt x="344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44" y="0"/>
                      </a:lnTo>
                      <a:close/>
                    </a:path>
                  </a:pathLst>
                </a:custGeom>
                <a:solidFill>
                  <a:srgbClr val="8c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375240" y="3072600"/>
                  <a:ext cx="100440" cy="2520"/>
                </a:xfrm>
                <a:custGeom>
                  <a:avLst/>
                  <a:gdLst/>
                  <a:ahLst/>
                  <a:rect l="l" t="t" r="r" b="b"/>
                  <a:pathLst>
                    <a:path w="118" h="3">
                      <a:moveTo>
                        <a:pt x="118" y="0"/>
                      </a:moveTo>
                      <a:lnTo>
                        <a:pt x="118" y="0"/>
                      </a:lnTo>
                      <a:lnTo>
                        <a:pt x="115" y="3"/>
                      </a:lnTo>
                      <a:lnTo>
                        <a:pt x="115" y="3"/>
                      </a:lnTo>
                      <a:lnTo>
                        <a:pt x="115" y="3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8c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886800" y="3075480"/>
                  <a:ext cx="91800" cy="5400"/>
                </a:xfrm>
                <a:custGeom>
                  <a:avLst/>
                  <a:gdLst/>
                  <a:ahLst/>
                  <a:rect l="l" t="t" r="r" b="b"/>
                  <a:pathLst>
                    <a:path w="108" h="6">
                      <a:moveTo>
                        <a:pt x="102" y="0"/>
                      </a:moveTo>
                      <a:lnTo>
                        <a:pt x="102" y="3"/>
                      </a:lnTo>
                      <a:lnTo>
                        <a:pt x="105" y="3"/>
                      </a:lnTo>
                      <a:lnTo>
                        <a:pt x="108" y="6"/>
                      </a:lnTo>
                      <a:lnTo>
                        <a:pt x="108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560280" y="3075480"/>
                  <a:ext cx="299160" cy="5400"/>
                </a:xfrm>
                <a:custGeom>
                  <a:avLst/>
                  <a:gdLst/>
                  <a:ahLst/>
                  <a:rect l="l" t="t" r="r" b="b"/>
                  <a:pathLst>
                    <a:path w="351" h="6">
                      <a:moveTo>
                        <a:pt x="351" y="0"/>
                      </a:moveTo>
                      <a:lnTo>
                        <a:pt x="351" y="3"/>
                      </a:lnTo>
                      <a:lnTo>
                        <a:pt x="351" y="3"/>
                      </a:lnTo>
                      <a:lnTo>
                        <a:pt x="351" y="6"/>
                      </a:lnTo>
                      <a:lnTo>
                        <a:pt x="351" y="6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351" y="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386400" y="3075480"/>
                  <a:ext cx="86760" cy="5400"/>
                </a:xfrm>
                <a:custGeom>
                  <a:avLst/>
                  <a:gdLst/>
                  <a:ahLst/>
                  <a:rect l="l" t="t" r="r" b="b"/>
                  <a:pathLst>
                    <a:path w="102" h="6">
                      <a:moveTo>
                        <a:pt x="102" y="0"/>
                      </a:moveTo>
                      <a:lnTo>
                        <a:pt x="99" y="3"/>
                      </a:lnTo>
                      <a:lnTo>
                        <a:pt x="99" y="3"/>
                      </a:lnTo>
                      <a:lnTo>
                        <a:pt x="96" y="6"/>
                      </a:lnTo>
                      <a:lnTo>
                        <a:pt x="96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0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886800" y="3080880"/>
                  <a:ext cx="100440" cy="3240"/>
                </a:xfrm>
                <a:custGeom>
                  <a:avLst/>
                  <a:gdLst/>
                  <a:ahLst/>
                  <a:rect l="l" t="t" r="r" b="b"/>
                  <a:pathLst>
                    <a:path w="118" h="4">
                      <a:moveTo>
                        <a:pt x="108" y="0"/>
                      </a:moveTo>
                      <a:lnTo>
                        <a:pt x="111" y="0"/>
                      </a:lnTo>
                      <a:lnTo>
                        <a:pt x="115" y="4"/>
                      </a:lnTo>
                      <a:lnTo>
                        <a:pt x="115" y="4"/>
                      </a:lnTo>
                      <a:lnTo>
                        <a:pt x="118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96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57760" y="3080880"/>
                  <a:ext cx="301680" cy="3240"/>
                </a:xfrm>
                <a:custGeom>
                  <a:avLst/>
                  <a:gdLst/>
                  <a:ahLst/>
                  <a:rect l="l" t="t" r="r" b="b"/>
                  <a:pathLst>
                    <a:path w="354" h="4">
                      <a:moveTo>
                        <a:pt x="354" y="0"/>
                      </a:moveTo>
                      <a:lnTo>
                        <a:pt x="354" y="0"/>
                      </a:lnTo>
                      <a:lnTo>
                        <a:pt x="354" y="4"/>
                      </a:lnTo>
                      <a:lnTo>
                        <a:pt x="354" y="4"/>
                      </a:lnTo>
                      <a:lnTo>
                        <a:pt x="354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54" y="0"/>
                      </a:lnTo>
                      <a:close/>
                    </a:path>
                  </a:pathLst>
                </a:custGeom>
                <a:solidFill>
                  <a:srgbClr val="96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397560" y="3080880"/>
                  <a:ext cx="70560" cy="3240"/>
                </a:xfrm>
                <a:custGeom>
                  <a:avLst/>
                  <a:gdLst/>
                  <a:ahLst/>
                  <a:rect l="l" t="t" r="r" b="b"/>
                  <a:pathLst>
                    <a:path w="83" h="4">
                      <a:moveTo>
                        <a:pt x="83" y="0"/>
                      </a:moveTo>
                      <a:lnTo>
                        <a:pt x="83" y="0"/>
                      </a:lnTo>
                      <a:lnTo>
                        <a:pt x="80" y="4"/>
                      </a:lnTo>
                      <a:lnTo>
                        <a:pt x="80" y="4"/>
                      </a:lnTo>
                      <a:lnTo>
                        <a:pt x="77" y="4"/>
                      </a:lnTo>
                      <a:lnTo>
                        <a:pt x="16" y="4"/>
                      </a:lnTo>
                      <a:lnTo>
                        <a:pt x="13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96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886800" y="3084480"/>
                  <a:ext cx="105480" cy="5400"/>
                </a:xfrm>
                <a:custGeom>
                  <a:avLst/>
                  <a:gdLst/>
                  <a:ahLst/>
                  <a:rect l="l" t="t" r="r" b="b"/>
                  <a:pathLst>
                    <a:path w="124" h="6">
                      <a:moveTo>
                        <a:pt x="118" y="0"/>
                      </a:moveTo>
                      <a:lnTo>
                        <a:pt x="118" y="3"/>
                      </a:lnTo>
                      <a:lnTo>
                        <a:pt x="121" y="3"/>
                      </a:lnTo>
                      <a:lnTo>
                        <a:pt x="124" y="6"/>
                      </a:lnTo>
                      <a:lnTo>
                        <a:pt x="124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99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555240" y="3084480"/>
                  <a:ext cx="304200" cy="5400"/>
                </a:xfrm>
                <a:custGeom>
                  <a:avLst/>
                  <a:gdLst/>
                  <a:ahLst/>
                  <a:rect l="l" t="t" r="r" b="b"/>
                  <a:pathLst>
                    <a:path w="357" h="6">
                      <a:moveTo>
                        <a:pt x="357" y="0"/>
                      </a:moveTo>
                      <a:lnTo>
                        <a:pt x="357" y="3"/>
                      </a:lnTo>
                      <a:lnTo>
                        <a:pt x="357" y="3"/>
                      </a:lnTo>
                      <a:lnTo>
                        <a:pt x="357" y="6"/>
                      </a:lnTo>
                      <a:lnTo>
                        <a:pt x="357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57" y="0"/>
                      </a:lnTo>
                      <a:close/>
                    </a:path>
                  </a:pathLst>
                </a:custGeom>
                <a:solidFill>
                  <a:srgbClr val="99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411240" y="3084480"/>
                  <a:ext cx="51840" cy="5400"/>
                </a:xfrm>
                <a:custGeom>
                  <a:avLst/>
                  <a:gdLst/>
                  <a:ahLst/>
                  <a:rect l="l" t="t" r="r" b="b"/>
                  <a:pathLst>
                    <a:path w="61" h="6">
                      <a:moveTo>
                        <a:pt x="61" y="0"/>
                      </a:moveTo>
                      <a:lnTo>
                        <a:pt x="61" y="3"/>
                      </a:lnTo>
                      <a:lnTo>
                        <a:pt x="61" y="3"/>
                      </a:lnTo>
                      <a:lnTo>
                        <a:pt x="57" y="6"/>
                      </a:lnTo>
                      <a:lnTo>
                        <a:pt x="57" y="6"/>
                      </a:lnTo>
                      <a:lnTo>
                        <a:pt x="16" y="6"/>
                      </a:lnTo>
                      <a:lnTo>
                        <a:pt x="13" y="6"/>
                      </a:lnTo>
                      <a:lnTo>
                        <a:pt x="10" y="6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99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886800" y="3089880"/>
                  <a:ext cx="111600" cy="2520"/>
                </a:xfrm>
                <a:custGeom>
                  <a:avLst/>
                  <a:gdLst/>
                  <a:ahLst/>
                  <a:rect l="l" t="t" r="r" b="b"/>
                  <a:pathLst>
                    <a:path w="131" h="3">
                      <a:moveTo>
                        <a:pt x="124" y="0"/>
                      </a:moveTo>
                      <a:lnTo>
                        <a:pt x="127" y="0"/>
                      </a:lnTo>
                      <a:lnTo>
                        <a:pt x="127" y="3"/>
                      </a:lnTo>
                      <a:lnTo>
                        <a:pt x="131" y="3"/>
                      </a:lnTo>
                      <a:lnTo>
                        <a:pt x="13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550200" y="3089880"/>
                  <a:ext cx="309240" cy="2520"/>
                </a:xfrm>
                <a:custGeom>
                  <a:avLst/>
                  <a:gdLst/>
                  <a:ahLst/>
                  <a:rect l="l" t="t" r="r" b="b"/>
                  <a:pathLst>
                    <a:path w="363" h="3">
                      <a:moveTo>
                        <a:pt x="363" y="0"/>
                      </a:moveTo>
                      <a:lnTo>
                        <a:pt x="363" y="0"/>
                      </a:lnTo>
                      <a:lnTo>
                        <a:pt x="363" y="3"/>
                      </a:lnTo>
                      <a:lnTo>
                        <a:pt x="363" y="3"/>
                      </a:lnTo>
                      <a:lnTo>
                        <a:pt x="363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363" y="0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424920" y="3089880"/>
                  <a:ext cx="34920" cy="2520"/>
                </a:xfrm>
                <a:custGeom>
                  <a:avLst/>
                  <a:gdLst/>
                  <a:ahLst/>
                  <a:rect l="l" t="t" r="r" b="b"/>
                  <a:pathLst>
                    <a:path w="41" h="3">
                      <a:moveTo>
                        <a:pt x="41" y="0"/>
                      </a:moveTo>
                      <a:lnTo>
                        <a:pt x="38" y="0"/>
                      </a:lnTo>
                      <a:lnTo>
                        <a:pt x="38" y="3"/>
                      </a:lnTo>
                      <a:lnTo>
                        <a:pt x="38" y="3"/>
                      </a:lnTo>
                      <a:lnTo>
                        <a:pt x="35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3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886800" y="3092760"/>
                  <a:ext cx="119160" cy="6120"/>
                </a:xfrm>
                <a:custGeom>
                  <a:avLst/>
                  <a:gdLst/>
                  <a:ahLst/>
                  <a:rect l="l" t="t" r="r" b="b"/>
                  <a:pathLst>
                    <a:path w="140" h="7">
                      <a:moveTo>
                        <a:pt x="131" y="0"/>
                      </a:moveTo>
                      <a:lnTo>
                        <a:pt x="134" y="3"/>
                      </a:lnTo>
                      <a:lnTo>
                        <a:pt x="134" y="3"/>
                      </a:lnTo>
                      <a:lnTo>
                        <a:pt x="137" y="7"/>
                      </a:lnTo>
                      <a:lnTo>
                        <a:pt x="14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a1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546960" y="3092760"/>
                  <a:ext cx="312480" cy="6120"/>
                </a:xfrm>
                <a:custGeom>
                  <a:avLst/>
                  <a:gdLst/>
                  <a:ahLst/>
                  <a:rect l="l" t="t" r="r" b="b"/>
                  <a:pathLst>
                    <a:path w="367" h="7">
                      <a:moveTo>
                        <a:pt x="367" y="0"/>
                      </a:moveTo>
                      <a:lnTo>
                        <a:pt x="367" y="3"/>
                      </a:lnTo>
                      <a:lnTo>
                        <a:pt x="367" y="3"/>
                      </a:lnTo>
                      <a:lnTo>
                        <a:pt x="367" y="7"/>
                      </a:lnTo>
                      <a:lnTo>
                        <a:pt x="367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367" y="0"/>
                      </a:lnTo>
                      <a:close/>
                    </a:path>
                  </a:pathLst>
                </a:custGeom>
                <a:solidFill>
                  <a:srgbClr val="a1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6438600" y="3092760"/>
                <a:ext cx="1790640" cy="570240"/>
                <a:chOff x="6438600" y="3092760"/>
                <a:chExt cx="1790640" cy="57024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6438600" y="3092760"/>
                  <a:ext cx="16200" cy="6120"/>
                </a:xfrm>
                <a:custGeom>
                  <a:avLst/>
                  <a:gdLst/>
                  <a:ahLst/>
                  <a:rect l="l" t="t" r="r" b="b"/>
                  <a:pathLst>
                    <a:path w="19" h="7">
                      <a:moveTo>
                        <a:pt x="19" y="0"/>
                      </a:moveTo>
                      <a:lnTo>
                        <a:pt x="19" y="3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7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a1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886800" y="3098880"/>
                  <a:ext cx="121680" cy="5040"/>
                </a:xfrm>
                <a:custGeom>
                  <a:avLst/>
                  <a:gdLst/>
                  <a:ahLst/>
                  <a:rect l="l" t="t" r="r" b="b"/>
                  <a:pathLst>
                    <a:path w="143" h="6">
                      <a:moveTo>
                        <a:pt x="140" y="0"/>
                      </a:moveTo>
                      <a:lnTo>
                        <a:pt x="140" y="0"/>
                      </a:lnTo>
                      <a:lnTo>
                        <a:pt x="143" y="3"/>
                      </a:lnTo>
                      <a:lnTo>
                        <a:pt x="143" y="3"/>
                      </a:lnTo>
                      <a:lnTo>
                        <a:pt x="143" y="3"/>
                      </a:lnTo>
                      <a:lnTo>
                        <a:pt x="143" y="3"/>
                      </a:lnTo>
                      <a:lnTo>
                        <a:pt x="143" y="3"/>
                      </a:lnTo>
                      <a:lnTo>
                        <a:pt x="143" y="3"/>
                      </a:lnTo>
                      <a:lnTo>
                        <a:pt x="143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a3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6541560" y="3098880"/>
                  <a:ext cx="317880" cy="5040"/>
                </a:xfrm>
                <a:custGeom>
                  <a:avLst/>
                  <a:gdLst/>
                  <a:ahLst/>
                  <a:rect l="l" t="t" r="r" b="b"/>
                  <a:pathLst>
                    <a:path w="373" h="6">
                      <a:moveTo>
                        <a:pt x="373" y="0"/>
                      </a:moveTo>
                      <a:lnTo>
                        <a:pt x="373" y="0"/>
                      </a:lnTo>
                      <a:lnTo>
                        <a:pt x="373" y="3"/>
                      </a:lnTo>
                      <a:lnTo>
                        <a:pt x="373" y="3"/>
                      </a:lnTo>
                      <a:lnTo>
                        <a:pt x="373" y="6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a3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6886800" y="3104280"/>
                  <a:ext cx="121680" cy="2520"/>
                </a:xfrm>
                <a:custGeom>
                  <a:avLst/>
                  <a:gdLst/>
                  <a:ahLst/>
                  <a:rect l="l" t="t" r="r" b="b"/>
                  <a:pathLst>
                    <a:path w="143" h="3">
                      <a:moveTo>
                        <a:pt x="143" y="0"/>
                      </a:moveTo>
                      <a:lnTo>
                        <a:pt x="143" y="0"/>
                      </a:lnTo>
                      <a:lnTo>
                        <a:pt x="143" y="0"/>
                      </a:lnTo>
                      <a:lnTo>
                        <a:pt x="143" y="3"/>
                      </a:lnTo>
                      <a:lnTo>
                        <a:pt x="14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43" y="0"/>
                      </a:lnTo>
                      <a:close/>
                    </a:path>
                  </a:pathLst>
                </a:custGeom>
                <a:solidFill>
                  <a:srgbClr val="a8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6539040" y="3104280"/>
                  <a:ext cx="320400" cy="2520"/>
                </a:xfrm>
                <a:custGeom>
                  <a:avLst/>
                  <a:gdLst/>
                  <a:ahLst/>
                  <a:rect l="l" t="t" r="r" b="b"/>
                  <a:pathLst>
                    <a:path w="376" h="3">
                      <a:moveTo>
                        <a:pt x="376" y="0"/>
                      </a:moveTo>
                      <a:lnTo>
                        <a:pt x="376" y="0"/>
                      </a:lnTo>
                      <a:lnTo>
                        <a:pt x="376" y="0"/>
                      </a:lnTo>
                      <a:lnTo>
                        <a:pt x="376" y="3"/>
                      </a:lnTo>
                      <a:lnTo>
                        <a:pt x="376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solidFill>
                  <a:srgbClr val="a8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6886800" y="3107160"/>
                  <a:ext cx="121680" cy="5040"/>
                </a:xfrm>
                <a:custGeom>
                  <a:avLst/>
                  <a:gdLst/>
                  <a:ahLst/>
                  <a:rect l="l" t="t" r="r" b="b"/>
                  <a:pathLst>
                    <a:path w="143" h="6">
                      <a:moveTo>
                        <a:pt x="143" y="0"/>
                      </a:moveTo>
                      <a:lnTo>
                        <a:pt x="143" y="0"/>
                      </a:lnTo>
                      <a:lnTo>
                        <a:pt x="143" y="3"/>
                      </a:lnTo>
                      <a:lnTo>
                        <a:pt x="143" y="3"/>
                      </a:lnTo>
                      <a:lnTo>
                        <a:pt x="143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43" y="0"/>
                      </a:lnTo>
                      <a:close/>
                    </a:path>
                  </a:pathLst>
                </a:custGeom>
                <a:solidFill>
                  <a:srgbClr val="ad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6536520" y="3107160"/>
                  <a:ext cx="322920" cy="5040"/>
                </a:xfrm>
                <a:custGeom>
                  <a:avLst/>
                  <a:gdLst/>
                  <a:ahLst/>
                  <a:rect l="l" t="t" r="r" b="b"/>
                  <a:pathLst>
                    <a:path w="379" h="6">
                      <a:moveTo>
                        <a:pt x="379" y="0"/>
                      </a:moveTo>
                      <a:lnTo>
                        <a:pt x="379" y="0"/>
                      </a:lnTo>
                      <a:lnTo>
                        <a:pt x="379" y="3"/>
                      </a:lnTo>
                      <a:lnTo>
                        <a:pt x="379" y="3"/>
                      </a:lnTo>
                      <a:lnTo>
                        <a:pt x="379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79" y="0"/>
                      </a:lnTo>
                      <a:close/>
                    </a:path>
                  </a:pathLst>
                </a:custGeom>
                <a:solidFill>
                  <a:srgbClr val="ad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886800" y="3112560"/>
                  <a:ext cx="121680" cy="3600"/>
                </a:xfrm>
                <a:custGeom>
                  <a:avLst/>
                  <a:gdLst/>
                  <a:ahLst/>
                  <a:rect l="l" t="t" r="r" b="b"/>
                  <a:pathLst>
                    <a:path w="143" h="4">
                      <a:moveTo>
                        <a:pt x="143" y="0"/>
                      </a:moveTo>
                      <a:lnTo>
                        <a:pt x="143" y="0"/>
                      </a:lnTo>
                      <a:lnTo>
                        <a:pt x="143" y="0"/>
                      </a:lnTo>
                      <a:lnTo>
                        <a:pt x="143" y="4"/>
                      </a:lnTo>
                      <a:lnTo>
                        <a:pt x="143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43" y="0"/>
                      </a:lnTo>
                      <a:close/>
                    </a:path>
                  </a:pathLst>
                </a:custGeom>
                <a:solidFill>
                  <a:srgbClr val="b0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6530400" y="3112560"/>
                  <a:ext cx="328680" cy="3600"/>
                </a:xfrm>
                <a:custGeom>
                  <a:avLst/>
                  <a:gdLst/>
                  <a:ahLst/>
                  <a:rect l="l" t="t" r="r" b="b"/>
                  <a:pathLst>
                    <a:path w="386" h="4">
                      <a:moveTo>
                        <a:pt x="386" y="0"/>
                      </a:moveTo>
                      <a:lnTo>
                        <a:pt x="386" y="0"/>
                      </a:lnTo>
                      <a:lnTo>
                        <a:pt x="386" y="0"/>
                      </a:lnTo>
                      <a:lnTo>
                        <a:pt x="386" y="4"/>
                      </a:lnTo>
                      <a:lnTo>
                        <a:pt x="386" y="4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386" y="0"/>
                      </a:lnTo>
                      <a:close/>
                    </a:path>
                  </a:pathLst>
                </a:custGeom>
                <a:solidFill>
                  <a:srgbClr val="b0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6886800" y="3116160"/>
                  <a:ext cx="121680" cy="5040"/>
                </a:xfrm>
                <a:custGeom>
                  <a:avLst/>
                  <a:gdLst/>
                  <a:ahLst/>
                  <a:rect l="l" t="t" r="r" b="b"/>
                  <a:pathLst>
                    <a:path w="143" h="6">
                      <a:moveTo>
                        <a:pt x="143" y="0"/>
                      </a:moveTo>
                      <a:lnTo>
                        <a:pt x="140" y="0"/>
                      </a:lnTo>
                      <a:lnTo>
                        <a:pt x="140" y="3"/>
                      </a:lnTo>
                      <a:lnTo>
                        <a:pt x="140" y="3"/>
                      </a:lnTo>
                      <a:lnTo>
                        <a:pt x="14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43" y="0"/>
                      </a:lnTo>
                      <a:close/>
                    </a:path>
                  </a:pathLst>
                </a:custGeom>
                <a:solidFill>
                  <a:srgbClr val="b5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530400" y="3116160"/>
                  <a:ext cx="328680" cy="5040"/>
                </a:xfrm>
                <a:custGeom>
                  <a:avLst/>
                  <a:gdLst/>
                  <a:ahLst/>
                  <a:rect l="l" t="t" r="r" b="b"/>
                  <a:pathLst>
                    <a:path w="386" h="6">
                      <a:moveTo>
                        <a:pt x="386" y="0"/>
                      </a:moveTo>
                      <a:lnTo>
                        <a:pt x="386" y="3"/>
                      </a:lnTo>
                      <a:lnTo>
                        <a:pt x="386" y="3"/>
                      </a:lnTo>
                      <a:lnTo>
                        <a:pt x="386" y="3"/>
                      </a:lnTo>
                      <a:lnTo>
                        <a:pt x="386" y="6"/>
                      </a:lnTo>
                      <a:lnTo>
                        <a:pt x="10" y="6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86" y="0"/>
                      </a:lnTo>
                      <a:close/>
                    </a:path>
                  </a:pathLst>
                </a:custGeom>
                <a:solidFill>
                  <a:srgbClr val="b5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6886800" y="3121560"/>
                  <a:ext cx="119160" cy="2520"/>
                </a:xfrm>
                <a:custGeom>
                  <a:avLst/>
                  <a:gdLst/>
                  <a:ahLst/>
                  <a:rect l="l" t="t" r="r" b="b"/>
                  <a:pathLst>
                    <a:path w="140" h="3">
                      <a:moveTo>
                        <a:pt x="140" y="0"/>
                      </a:moveTo>
                      <a:lnTo>
                        <a:pt x="140" y="0"/>
                      </a:lnTo>
                      <a:lnTo>
                        <a:pt x="140" y="0"/>
                      </a:lnTo>
                      <a:lnTo>
                        <a:pt x="140" y="3"/>
                      </a:lnTo>
                      <a:lnTo>
                        <a:pt x="14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b8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6539040" y="3121560"/>
                  <a:ext cx="322920" cy="2520"/>
                </a:xfrm>
                <a:custGeom>
                  <a:avLst/>
                  <a:gdLst/>
                  <a:ahLst/>
                  <a:rect l="l" t="t" r="r" b="b"/>
                  <a:pathLst>
                    <a:path w="379" h="3">
                      <a:moveTo>
                        <a:pt x="376" y="0"/>
                      </a:moveTo>
                      <a:lnTo>
                        <a:pt x="376" y="0"/>
                      </a:lnTo>
                      <a:lnTo>
                        <a:pt x="379" y="0"/>
                      </a:lnTo>
                      <a:lnTo>
                        <a:pt x="379" y="3"/>
                      </a:lnTo>
                      <a:lnTo>
                        <a:pt x="379" y="3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solidFill>
                  <a:srgbClr val="b8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886800" y="3124080"/>
                  <a:ext cx="119160" cy="6120"/>
                </a:xfrm>
                <a:custGeom>
                  <a:avLst/>
                  <a:gdLst/>
                  <a:ahLst/>
                  <a:rect l="l" t="t" r="r" b="b"/>
                  <a:pathLst>
                    <a:path w="140" h="7">
                      <a:moveTo>
                        <a:pt x="140" y="0"/>
                      </a:moveTo>
                      <a:lnTo>
                        <a:pt x="140" y="0"/>
                      </a:lnTo>
                      <a:lnTo>
                        <a:pt x="140" y="3"/>
                      </a:lnTo>
                      <a:lnTo>
                        <a:pt x="140" y="3"/>
                      </a:lnTo>
                      <a:lnTo>
                        <a:pt x="140" y="7"/>
                      </a:ln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6560280" y="3124080"/>
                  <a:ext cx="301680" cy="6120"/>
                </a:xfrm>
                <a:custGeom>
                  <a:avLst/>
                  <a:gdLst/>
                  <a:ahLst/>
                  <a:rect l="l" t="t" r="r" b="b"/>
                  <a:pathLst>
                    <a:path w="354" h="7">
                      <a:moveTo>
                        <a:pt x="354" y="0"/>
                      </a:moveTo>
                      <a:lnTo>
                        <a:pt x="354" y="3"/>
                      </a:lnTo>
                      <a:lnTo>
                        <a:pt x="354" y="3"/>
                      </a:lnTo>
                      <a:lnTo>
                        <a:pt x="354" y="3"/>
                      </a:lnTo>
                      <a:lnTo>
                        <a:pt x="354" y="7"/>
                      </a:lnTo>
                      <a:lnTo>
                        <a:pt x="29" y="7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16" y="3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54" y="0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6889320" y="3130560"/>
                  <a:ext cx="116640" cy="2520"/>
                </a:xfrm>
                <a:custGeom>
                  <a:avLst/>
                  <a:gdLst/>
                  <a:ahLst/>
                  <a:rect l="l" t="t" r="r" b="b"/>
                  <a:pathLst>
                    <a:path w="137" h="3">
                      <a:moveTo>
                        <a:pt x="137" y="0"/>
                      </a:moveTo>
                      <a:lnTo>
                        <a:pt x="137" y="0"/>
                      </a:lnTo>
                      <a:lnTo>
                        <a:pt x="137" y="0"/>
                      </a:lnTo>
                      <a:lnTo>
                        <a:pt x="137" y="3"/>
                      </a:lnTo>
                      <a:lnTo>
                        <a:pt x="137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b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584760" y="3130560"/>
                  <a:ext cx="276840" cy="2520"/>
                </a:xfrm>
                <a:custGeom>
                  <a:avLst/>
                  <a:gdLst/>
                  <a:ahLst/>
                  <a:rect l="l" t="t" r="r" b="b"/>
                  <a:pathLst>
                    <a:path w="325" h="3">
                      <a:moveTo>
                        <a:pt x="325" y="0"/>
                      </a:moveTo>
                      <a:lnTo>
                        <a:pt x="325" y="0"/>
                      </a:lnTo>
                      <a:lnTo>
                        <a:pt x="325" y="0"/>
                      </a:lnTo>
                      <a:lnTo>
                        <a:pt x="325" y="3"/>
                      </a:lnTo>
                      <a:lnTo>
                        <a:pt x="325" y="3"/>
                      </a:lnTo>
                      <a:lnTo>
                        <a:pt x="29" y="3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25" y="0"/>
                      </a:lnTo>
                      <a:close/>
                    </a:path>
                  </a:pathLst>
                </a:custGeom>
                <a:solidFill>
                  <a:srgbClr val="b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889320" y="3133440"/>
                  <a:ext cx="116640" cy="5040"/>
                </a:xfrm>
                <a:custGeom>
                  <a:avLst/>
                  <a:gdLst/>
                  <a:ahLst/>
                  <a:rect l="l" t="t" r="r" b="b"/>
                  <a:pathLst>
                    <a:path w="137" h="6">
                      <a:moveTo>
                        <a:pt x="137" y="0"/>
                      </a:moveTo>
                      <a:lnTo>
                        <a:pt x="137" y="3"/>
                      </a:lnTo>
                      <a:lnTo>
                        <a:pt x="137" y="3"/>
                      </a:lnTo>
                      <a:lnTo>
                        <a:pt x="134" y="3"/>
                      </a:lnTo>
                      <a:lnTo>
                        <a:pt x="134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609600" y="3133440"/>
                  <a:ext cx="252000" cy="5040"/>
                </a:xfrm>
                <a:custGeom>
                  <a:avLst/>
                  <a:gdLst/>
                  <a:ahLst/>
                  <a:rect l="l" t="t" r="r" b="b"/>
                  <a:pathLst>
                    <a:path w="296" h="6">
                      <a:moveTo>
                        <a:pt x="296" y="0"/>
                      </a:moveTo>
                      <a:lnTo>
                        <a:pt x="296" y="3"/>
                      </a:lnTo>
                      <a:lnTo>
                        <a:pt x="296" y="3"/>
                      </a:lnTo>
                      <a:lnTo>
                        <a:pt x="296" y="3"/>
                      </a:lnTo>
                      <a:lnTo>
                        <a:pt x="296" y="6"/>
                      </a:lnTo>
                      <a:lnTo>
                        <a:pt x="28" y="6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2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96" y="0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889320" y="3138480"/>
                  <a:ext cx="114120" cy="2520"/>
                </a:xfrm>
                <a:custGeom>
                  <a:avLst/>
                  <a:gdLst/>
                  <a:ahLst/>
                  <a:rect l="l" t="t" r="r" b="b"/>
                  <a:pathLst>
                    <a:path w="134" h="3">
                      <a:moveTo>
                        <a:pt x="134" y="0"/>
                      </a:moveTo>
                      <a:lnTo>
                        <a:pt x="134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  <a:lnTo>
                        <a:pt x="134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c9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633720" y="3138480"/>
                  <a:ext cx="228240" cy="2520"/>
                </a:xfrm>
                <a:custGeom>
                  <a:avLst/>
                  <a:gdLst/>
                  <a:ahLst/>
                  <a:rect l="l" t="t" r="r" b="b"/>
                  <a:pathLst>
                    <a:path w="268" h="3">
                      <a:moveTo>
                        <a:pt x="268" y="0"/>
                      </a:move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68" y="3"/>
                      </a:lnTo>
                      <a:lnTo>
                        <a:pt x="268" y="3"/>
                      </a:lnTo>
                      <a:lnTo>
                        <a:pt x="32" y="3"/>
                      </a:lnTo>
                      <a:lnTo>
                        <a:pt x="29" y="3"/>
                      </a:lnTo>
                      <a:lnTo>
                        <a:pt x="26" y="3"/>
                      </a:lnTo>
                      <a:lnTo>
                        <a:pt x="19" y="3"/>
                      </a:lnTo>
                      <a:lnTo>
                        <a:pt x="16" y="0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268" y="0"/>
                      </a:lnTo>
                      <a:close/>
                    </a:path>
                  </a:pathLst>
                </a:custGeom>
                <a:solidFill>
                  <a:srgbClr val="c9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889320" y="3141360"/>
                  <a:ext cx="114120" cy="6120"/>
                </a:xfrm>
                <a:custGeom>
                  <a:avLst/>
                  <a:gdLst/>
                  <a:ahLst/>
                  <a:rect l="l" t="t" r="r" b="b"/>
                  <a:pathLst>
                    <a:path w="134" h="7">
                      <a:moveTo>
                        <a:pt x="134" y="0"/>
                      </a:moveTo>
                      <a:lnTo>
                        <a:pt x="134" y="4"/>
                      </a:lnTo>
                      <a:lnTo>
                        <a:pt x="134" y="4"/>
                      </a:lnTo>
                      <a:lnTo>
                        <a:pt x="134" y="4"/>
                      </a:lnTo>
                      <a:lnTo>
                        <a:pt x="134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cc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6660720" y="3141360"/>
                  <a:ext cx="200880" cy="6120"/>
                </a:xfrm>
                <a:custGeom>
                  <a:avLst/>
                  <a:gdLst/>
                  <a:ahLst/>
                  <a:rect l="l" t="t" r="r" b="b"/>
                  <a:pathLst>
                    <a:path w="236" h="7">
                      <a:moveTo>
                        <a:pt x="236" y="0"/>
                      </a:moveTo>
                      <a:lnTo>
                        <a:pt x="236" y="4"/>
                      </a:lnTo>
                      <a:lnTo>
                        <a:pt x="236" y="4"/>
                      </a:lnTo>
                      <a:lnTo>
                        <a:pt x="236" y="4"/>
                      </a:lnTo>
                      <a:lnTo>
                        <a:pt x="236" y="7"/>
                      </a:lnTo>
                      <a:lnTo>
                        <a:pt x="35" y="7"/>
                      </a:lnTo>
                      <a:lnTo>
                        <a:pt x="32" y="4"/>
                      </a:lnTo>
                      <a:lnTo>
                        <a:pt x="26" y="4"/>
                      </a:lnTo>
                      <a:lnTo>
                        <a:pt x="23" y="4"/>
                      </a:lnTo>
                      <a:lnTo>
                        <a:pt x="19" y="4"/>
                      </a:lnTo>
                      <a:lnTo>
                        <a:pt x="13" y="4"/>
                      </a:ln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236" y="0"/>
                      </a:lnTo>
                      <a:close/>
                    </a:path>
                  </a:pathLst>
                </a:custGeom>
                <a:solidFill>
                  <a:srgbClr val="cc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889320" y="3147840"/>
                  <a:ext cx="114120" cy="2520"/>
                </a:xfrm>
                <a:custGeom>
                  <a:avLst/>
                  <a:gdLst/>
                  <a:ahLst/>
                  <a:rect l="l" t="t" r="r" b="b"/>
                  <a:pathLst>
                    <a:path w="134" h="3">
                      <a:moveTo>
                        <a:pt x="134" y="0"/>
                      </a:moveTo>
                      <a:lnTo>
                        <a:pt x="134" y="0"/>
                      </a:lnTo>
                      <a:lnTo>
                        <a:pt x="134" y="0"/>
                      </a:lnTo>
                      <a:lnTo>
                        <a:pt x="134" y="3"/>
                      </a:lnTo>
                      <a:lnTo>
                        <a:pt x="134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d1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6690600" y="3147840"/>
                  <a:ext cx="171000" cy="2520"/>
                </a:xfrm>
                <a:custGeom>
                  <a:avLst/>
                  <a:gdLst/>
                  <a:ahLst/>
                  <a:rect l="l" t="t" r="r" b="b"/>
                  <a:pathLst>
                    <a:path w="201" h="3">
                      <a:moveTo>
                        <a:pt x="201" y="0"/>
                      </a:moveTo>
                      <a:lnTo>
                        <a:pt x="201" y="0"/>
                      </a:lnTo>
                      <a:lnTo>
                        <a:pt x="201" y="0"/>
                      </a:lnTo>
                      <a:lnTo>
                        <a:pt x="201" y="3"/>
                      </a:lnTo>
                      <a:lnTo>
                        <a:pt x="201" y="3"/>
                      </a:lnTo>
                      <a:lnTo>
                        <a:pt x="39" y="3"/>
                      </a:lnTo>
                      <a:lnTo>
                        <a:pt x="35" y="3"/>
                      </a:lnTo>
                      <a:lnTo>
                        <a:pt x="29" y="3"/>
                      </a:lnTo>
                      <a:lnTo>
                        <a:pt x="26" y="3"/>
                      </a:lnTo>
                      <a:lnTo>
                        <a:pt x="19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d1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889320" y="3150360"/>
                  <a:ext cx="114120" cy="5400"/>
                </a:xfrm>
                <a:custGeom>
                  <a:avLst/>
                  <a:gdLst/>
                  <a:ahLst/>
                  <a:rect l="l" t="t" r="r" b="b"/>
                  <a:pathLst>
                    <a:path w="134" h="6">
                      <a:moveTo>
                        <a:pt x="134" y="0"/>
                      </a:moveTo>
                      <a:lnTo>
                        <a:pt x="134" y="3"/>
                      </a:lnTo>
                      <a:lnTo>
                        <a:pt x="134" y="3"/>
                      </a:lnTo>
                      <a:lnTo>
                        <a:pt x="131" y="3"/>
                      </a:lnTo>
                      <a:lnTo>
                        <a:pt x="131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d4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6724080" y="3150360"/>
                  <a:ext cx="137880" cy="5400"/>
                </a:xfrm>
                <a:custGeom>
                  <a:avLst/>
                  <a:gdLst/>
                  <a:ahLst/>
                  <a:rect l="l" t="t" r="r" b="b"/>
                  <a:pathLst>
                    <a:path w="162" h="6">
                      <a:moveTo>
                        <a:pt x="162" y="0"/>
                      </a:moveTo>
                      <a:lnTo>
                        <a:pt x="162" y="3"/>
                      </a:lnTo>
                      <a:lnTo>
                        <a:pt x="162" y="3"/>
                      </a:lnTo>
                      <a:lnTo>
                        <a:pt x="162" y="3"/>
                      </a:lnTo>
                      <a:lnTo>
                        <a:pt x="162" y="6"/>
                      </a:lnTo>
                      <a:lnTo>
                        <a:pt x="47" y="6"/>
                      </a:lnTo>
                      <a:lnTo>
                        <a:pt x="41" y="3"/>
                      </a:lnTo>
                      <a:lnTo>
                        <a:pt x="35" y="3"/>
                      </a:lnTo>
                      <a:lnTo>
                        <a:pt x="28" y="3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2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162" y="0"/>
                      </a:lnTo>
                      <a:close/>
                    </a:path>
                  </a:pathLst>
                </a:custGeom>
                <a:solidFill>
                  <a:srgbClr val="d4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889320" y="3155760"/>
                  <a:ext cx="111600" cy="2520"/>
                </a:xfrm>
                <a:custGeom>
                  <a:avLst/>
                  <a:gdLst/>
                  <a:ahLst/>
                  <a:rect l="l" t="t" r="r" b="b"/>
                  <a:pathLst>
                    <a:path w="131" h="3">
                      <a:moveTo>
                        <a:pt x="131" y="0"/>
                      </a:moveTo>
                      <a:lnTo>
                        <a:pt x="131" y="0"/>
                      </a:lnTo>
                      <a:lnTo>
                        <a:pt x="131" y="0"/>
                      </a:lnTo>
                      <a:lnTo>
                        <a:pt x="131" y="3"/>
                      </a:lnTo>
                      <a:lnTo>
                        <a:pt x="13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d6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764040" y="3155760"/>
                  <a:ext cx="97920" cy="2520"/>
                </a:xfrm>
                <a:custGeom>
                  <a:avLst/>
                  <a:gdLst/>
                  <a:ahLst/>
                  <a:rect l="l" t="t" r="r" b="b"/>
                  <a:pathLst>
                    <a:path w="115" h="3">
                      <a:moveTo>
                        <a:pt x="115" y="0"/>
                      </a:moveTo>
                      <a:lnTo>
                        <a:pt x="115" y="0"/>
                      </a:lnTo>
                      <a:lnTo>
                        <a:pt x="115" y="0"/>
                      </a:lnTo>
                      <a:lnTo>
                        <a:pt x="115" y="3"/>
                      </a:lnTo>
                      <a:lnTo>
                        <a:pt x="115" y="3"/>
                      </a:lnTo>
                      <a:lnTo>
                        <a:pt x="61" y="3"/>
                      </a:lnTo>
                      <a:lnTo>
                        <a:pt x="58" y="3"/>
                      </a:lnTo>
                      <a:lnTo>
                        <a:pt x="51" y="3"/>
                      </a:lnTo>
                      <a:lnTo>
                        <a:pt x="48" y="3"/>
                      </a:lnTo>
                      <a:lnTo>
                        <a:pt x="45" y="3"/>
                      </a:lnTo>
                      <a:lnTo>
                        <a:pt x="42" y="3"/>
                      </a:lnTo>
                      <a:lnTo>
                        <a:pt x="39" y="3"/>
                      </a:lnTo>
                      <a:lnTo>
                        <a:pt x="32" y="3"/>
                      </a:lnTo>
                      <a:lnTo>
                        <a:pt x="29" y="3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d6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889320" y="3158640"/>
                  <a:ext cx="111600" cy="6120"/>
                </a:xfrm>
                <a:custGeom>
                  <a:avLst/>
                  <a:gdLst/>
                  <a:ahLst/>
                  <a:rect l="l" t="t" r="r" b="b"/>
                  <a:pathLst>
                    <a:path w="131" h="7">
                      <a:moveTo>
                        <a:pt x="131" y="0"/>
                      </a:moveTo>
                      <a:lnTo>
                        <a:pt x="131" y="4"/>
                      </a:lnTo>
                      <a:lnTo>
                        <a:pt x="131" y="4"/>
                      </a:lnTo>
                      <a:lnTo>
                        <a:pt x="131" y="4"/>
                      </a:lnTo>
                      <a:lnTo>
                        <a:pt x="131" y="7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db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6815880" y="3158640"/>
                  <a:ext cx="45720" cy="3600"/>
                </a:xfrm>
                <a:custGeom>
                  <a:avLst/>
                  <a:gdLst/>
                  <a:ahLst/>
                  <a:rect l="l" t="t" r="r" b="b"/>
                  <a:pathLst>
                    <a:path w="54" h="4">
                      <a:moveTo>
                        <a:pt x="54" y="0"/>
                      </a:moveTo>
                      <a:lnTo>
                        <a:pt x="54" y="0"/>
                      </a:lnTo>
                      <a:lnTo>
                        <a:pt x="54" y="4"/>
                      </a:lnTo>
                      <a:lnTo>
                        <a:pt x="54" y="4"/>
                      </a:lnTo>
                      <a:lnTo>
                        <a:pt x="54" y="4"/>
                      </a:lnTo>
                      <a:lnTo>
                        <a:pt x="51" y="4"/>
                      </a:lnTo>
                      <a:lnTo>
                        <a:pt x="48" y="4"/>
                      </a:lnTo>
                      <a:lnTo>
                        <a:pt x="45" y="4"/>
                      </a:lnTo>
                      <a:lnTo>
                        <a:pt x="41" y="4"/>
                      </a:lnTo>
                      <a:lnTo>
                        <a:pt x="38" y="4"/>
                      </a:lnTo>
                      <a:lnTo>
                        <a:pt x="35" y="4"/>
                      </a:lnTo>
                      <a:lnTo>
                        <a:pt x="32" y="4"/>
                      </a:lnTo>
                      <a:lnTo>
                        <a:pt x="29" y="4"/>
                      </a:lnTo>
                      <a:lnTo>
                        <a:pt x="22" y="4"/>
                      </a:lnTo>
                      <a:lnTo>
                        <a:pt x="19" y="4"/>
                      </a:lnTo>
                      <a:lnTo>
                        <a:pt x="16" y="4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db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889320" y="3164760"/>
                  <a:ext cx="111600" cy="2520"/>
                </a:xfrm>
                <a:custGeom>
                  <a:avLst/>
                  <a:gdLst/>
                  <a:ahLst/>
                  <a:rect l="l" t="t" r="r" b="b"/>
                  <a:pathLst>
                    <a:path w="131" h="3">
                      <a:moveTo>
                        <a:pt x="131" y="0"/>
                      </a:moveTo>
                      <a:lnTo>
                        <a:pt x="131" y="0"/>
                      </a:lnTo>
                      <a:lnTo>
                        <a:pt x="131" y="0"/>
                      </a:lnTo>
                      <a:lnTo>
                        <a:pt x="131" y="0"/>
                      </a:lnTo>
                      <a:lnTo>
                        <a:pt x="131" y="3"/>
                      </a:lnTo>
                      <a:lnTo>
                        <a:pt x="121" y="3"/>
                      </a:lnTo>
                      <a:lnTo>
                        <a:pt x="115" y="3"/>
                      </a:lnTo>
                      <a:lnTo>
                        <a:pt x="105" y="3"/>
                      </a:lnTo>
                      <a:lnTo>
                        <a:pt x="99" y="3"/>
                      </a:lnTo>
                      <a:lnTo>
                        <a:pt x="89" y="3"/>
                      </a:lnTo>
                      <a:lnTo>
                        <a:pt x="83" y="3"/>
                      </a:lnTo>
                      <a:lnTo>
                        <a:pt x="73" y="3"/>
                      </a:lnTo>
                      <a:lnTo>
                        <a:pt x="64" y="3"/>
                      </a:lnTo>
                      <a:lnTo>
                        <a:pt x="57" y="3"/>
                      </a:lnTo>
                      <a:lnTo>
                        <a:pt x="48" y="3"/>
                      </a:lnTo>
                      <a:lnTo>
                        <a:pt x="41" y="3"/>
                      </a:lnTo>
                      <a:lnTo>
                        <a:pt x="32" y="3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e0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785720" y="3453120"/>
                  <a:ext cx="135360" cy="51120"/>
                </a:xfrm>
                <a:custGeom>
                  <a:avLst/>
                  <a:gdLst/>
                  <a:ahLst/>
                  <a:rect l="l" t="t" r="r" b="b"/>
                  <a:pathLst>
                    <a:path w="159" h="57">
                      <a:moveTo>
                        <a:pt x="86" y="3"/>
                      </a:moveTo>
                      <a:lnTo>
                        <a:pt x="80" y="6"/>
                      </a:lnTo>
                      <a:lnTo>
                        <a:pt x="70" y="9"/>
                      </a:lnTo>
                      <a:lnTo>
                        <a:pt x="64" y="9"/>
                      </a:lnTo>
                      <a:lnTo>
                        <a:pt x="54" y="13"/>
                      </a:lnTo>
                      <a:lnTo>
                        <a:pt x="48" y="13"/>
                      </a:lnTo>
                      <a:lnTo>
                        <a:pt x="41" y="16"/>
                      </a:lnTo>
                      <a:lnTo>
                        <a:pt x="35" y="19"/>
                      </a:lnTo>
                      <a:lnTo>
                        <a:pt x="29" y="19"/>
                      </a:lnTo>
                      <a:lnTo>
                        <a:pt x="22" y="22"/>
                      </a:lnTo>
                      <a:lnTo>
                        <a:pt x="16" y="22"/>
                      </a:lnTo>
                      <a:lnTo>
                        <a:pt x="13" y="25"/>
                      </a:lnTo>
                      <a:lnTo>
                        <a:pt x="10" y="28"/>
                      </a:lnTo>
                      <a:lnTo>
                        <a:pt x="6" y="32"/>
                      </a:lnTo>
                      <a:lnTo>
                        <a:pt x="3" y="32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0" y="44"/>
                      </a:lnTo>
                      <a:lnTo>
                        <a:pt x="3" y="44"/>
                      </a:lnTo>
                      <a:lnTo>
                        <a:pt x="6" y="48"/>
                      </a:lnTo>
                      <a:lnTo>
                        <a:pt x="10" y="51"/>
                      </a:lnTo>
                      <a:lnTo>
                        <a:pt x="13" y="51"/>
                      </a:lnTo>
                      <a:lnTo>
                        <a:pt x="19" y="54"/>
                      </a:lnTo>
                      <a:lnTo>
                        <a:pt x="22" y="54"/>
                      </a:lnTo>
                      <a:lnTo>
                        <a:pt x="29" y="54"/>
                      </a:lnTo>
                      <a:lnTo>
                        <a:pt x="35" y="54"/>
                      </a:lnTo>
                      <a:lnTo>
                        <a:pt x="45" y="57"/>
                      </a:lnTo>
                      <a:lnTo>
                        <a:pt x="51" y="57"/>
                      </a:lnTo>
                      <a:lnTo>
                        <a:pt x="61" y="57"/>
                      </a:lnTo>
                      <a:lnTo>
                        <a:pt x="67" y="57"/>
                      </a:lnTo>
                      <a:lnTo>
                        <a:pt x="77" y="57"/>
                      </a:lnTo>
                      <a:lnTo>
                        <a:pt x="83" y="57"/>
                      </a:lnTo>
                      <a:lnTo>
                        <a:pt x="92" y="57"/>
                      </a:lnTo>
                      <a:lnTo>
                        <a:pt x="99" y="57"/>
                      </a:lnTo>
                      <a:lnTo>
                        <a:pt x="108" y="57"/>
                      </a:lnTo>
                      <a:lnTo>
                        <a:pt x="115" y="54"/>
                      </a:lnTo>
                      <a:lnTo>
                        <a:pt x="121" y="54"/>
                      </a:lnTo>
                      <a:lnTo>
                        <a:pt x="128" y="51"/>
                      </a:lnTo>
                      <a:lnTo>
                        <a:pt x="134" y="51"/>
                      </a:lnTo>
                      <a:lnTo>
                        <a:pt x="140" y="48"/>
                      </a:lnTo>
                      <a:lnTo>
                        <a:pt x="143" y="44"/>
                      </a:lnTo>
                      <a:lnTo>
                        <a:pt x="147" y="41"/>
                      </a:lnTo>
                      <a:lnTo>
                        <a:pt x="153" y="38"/>
                      </a:lnTo>
                      <a:lnTo>
                        <a:pt x="153" y="35"/>
                      </a:lnTo>
                      <a:lnTo>
                        <a:pt x="156" y="32"/>
                      </a:lnTo>
                      <a:lnTo>
                        <a:pt x="159" y="28"/>
                      </a:lnTo>
                      <a:lnTo>
                        <a:pt x="159" y="25"/>
                      </a:lnTo>
                      <a:lnTo>
                        <a:pt x="159" y="22"/>
                      </a:lnTo>
                      <a:lnTo>
                        <a:pt x="159" y="19"/>
                      </a:lnTo>
                      <a:lnTo>
                        <a:pt x="159" y="16"/>
                      </a:lnTo>
                      <a:lnTo>
                        <a:pt x="156" y="13"/>
                      </a:lnTo>
                      <a:lnTo>
                        <a:pt x="156" y="9"/>
                      </a:lnTo>
                      <a:lnTo>
                        <a:pt x="153" y="6"/>
                      </a:lnTo>
                      <a:lnTo>
                        <a:pt x="150" y="3"/>
                      </a:lnTo>
                      <a:lnTo>
                        <a:pt x="147" y="3"/>
                      </a:lnTo>
                      <a:lnTo>
                        <a:pt x="140" y="0"/>
                      </a:lnTo>
                      <a:lnTo>
                        <a:pt x="137" y="0"/>
                      </a:lnTo>
                      <a:lnTo>
                        <a:pt x="131" y="0"/>
                      </a:lnTo>
                      <a:lnTo>
                        <a:pt x="124" y="0"/>
                      </a:lnTo>
                      <a:lnTo>
                        <a:pt x="118" y="0"/>
                      </a:lnTo>
                      <a:lnTo>
                        <a:pt x="112" y="0"/>
                      </a:lnTo>
                      <a:lnTo>
                        <a:pt x="102" y="0"/>
                      </a:lnTo>
                      <a:lnTo>
                        <a:pt x="96" y="3"/>
                      </a:lnTo>
                      <a:lnTo>
                        <a:pt x="86" y="3"/>
                      </a:lnTo>
                      <a:close/>
                    </a:path>
                  </a:pathLst>
                </a:custGeom>
                <a:solidFill>
                  <a:srgbClr val="1119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7785720" y="3470040"/>
                  <a:ext cx="135360" cy="34200"/>
                </a:xfrm>
                <a:custGeom>
                  <a:avLst/>
                  <a:gdLst/>
                  <a:ahLst/>
                  <a:rect l="l" t="t" r="r" b="b"/>
                  <a:pathLst>
                    <a:path w="159" h="38">
                      <a:moveTo>
                        <a:pt x="112" y="25"/>
                      </a:moveTo>
                      <a:lnTo>
                        <a:pt x="105" y="29"/>
                      </a:lnTo>
                      <a:lnTo>
                        <a:pt x="96" y="29"/>
                      </a:lnTo>
                      <a:lnTo>
                        <a:pt x="89" y="32"/>
                      </a:lnTo>
                      <a:lnTo>
                        <a:pt x="80" y="32"/>
                      </a:lnTo>
                      <a:lnTo>
                        <a:pt x="73" y="32"/>
                      </a:lnTo>
                      <a:lnTo>
                        <a:pt x="67" y="32"/>
                      </a:lnTo>
                      <a:lnTo>
                        <a:pt x="61" y="32"/>
                      </a:lnTo>
                      <a:lnTo>
                        <a:pt x="54" y="32"/>
                      </a:lnTo>
                      <a:lnTo>
                        <a:pt x="45" y="32"/>
                      </a:lnTo>
                      <a:lnTo>
                        <a:pt x="38" y="29"/>
                      </a:lnTo>
                      <a:lnTo>
                        <a:pt x="32" y="29"/>
                      </a:lnTo>
                      <a:lnTo>
                        <a:pt x="26" y="25"/>
                      </a:lnTo>
                      <a:lnTo>
                        <a:pt x="19" y="25"/>
                      </a:lnTo>
                      <a:lnTo>
                        <a:pt x="13" y="22"/>
                      </a:lnTo>
                      <a:lnTo>
                        <a:pt x="6" y="22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0" y="25"/>
                      </a:lnTo>
                      <a:lnTo>
                        <a:pt x="3" y="25"/>
                      </a:lnTo>
                      <a:lnTo>
                        <a:pt x="6" y="29"/>
                      </a:lnTo>
                      <a:lnTo>
                        <a:pt x="10" y="32"/>
                      </a:lnTo>
                      <a:lnTo>
                        <a:pt x="13" y="32"/>
                      </a:lnTo>
                      <a:lnTo>
                        <a:pt x="19" y="35"/>
                      </a:lnTo>
                      <a:lnTo>
                        <a:pt x="22" y="35"/>
                      </a:lnTo>
                      <a:lnTo>
                        <a:pt x="29" y="35"/>
                      </a:lnTo>
                      <a:lnTo>
                        <a:pt x="35" y="35"/>
                      </a:lnTo>
                      <a:lnTo>
                        <a:pt x="45" y="38"/>
                      </a:lnTo>
                      <a:lnTo>
                        <a:pt x="51" y="38"/>
                      </a:lnTo>
                      <a:lnTo>
                        <a:pt x="61" y="38"/>
                      </a:lnTo>
                      <a:lnTo>
                        <a:pt x="67" y="38"/>
                      </a:lnTo>
                      <a:lnTo>
                        <a:pt x="77" y="38"/>
                      </a:lnTo>
                      <a:lnTo>
                        <a:pt x="83" y="38"/>
                      </a:lnTo>
                      <a:lnTo>
                        <a:pt x="92" y="38"/>
                      </a:lnTo>
                      <a:lnTo>
                        <a:pt x="99" y="38"/>
                      </a:lnTo>
                      <a:lnTo>
                        <a:pt x="108" y="38"/>
                      </a:lnTo>
                      <a:lnTo>
                        <a:pt x="115" y="35"/>
                      </a:lnTo>
                      <a:lnTo>
                        <a:pt x="121" y="35"/>
                      </a:lnTo>
                      <a:lnTo>
                        <a:pt x="128" y="32"/>
                      </a:lnTo>
                      <a:lnTo>
                        <a:pt x="134" y="32"/>
                      </a:lnTo>
                      <a:lnTo>
                        <a:pt x="140" y="29"/>
                      </a:lnTo>
                      <a:lnTo>
                        <a:pt x="143" y="25"/>
                      </a:lnTo>
                      <a:lnTo>
                        <a:pt x="147" y="22"/>
                      </a:lnTo>
                      <a:lnTo>
                        <a:pt x="153" y="19"/>
                      </a:lnTo>
                      <a:lnTo>
                        <a:pt x="153" y="16"/>
                      </a:lnTo>
                      <a:lnTo>
                        <a:pt x="156" y="13"/>
                      </a:lnTo>
                      <a:lnTo>
                        <a:pt x="159" y="9"/>
                      </a:lnTo>
                      <a:lnTo>
                        <a:pt x="159" y="6"/>
                      </a:lnTo>
                      <a:lnTo>
                        <a:pt x="159" y="3"/>
                      </a:lnTo>
                      <a:lnTo>
                        <a:pt x="150" y="0"/>
                      </a:lnTo>
                      <a:lnTo>
                        <a:pt x="140" y="0"/>
                      </a:lnTo>
                      <a:lnTo>
                        <a:pt x="131" y="0"/>
                      </a:lnTo>
                      <a:lnTo>
                        <a:pt x="128" y="0"/>
                      </a:lnTo>
                      <a:lnTo>
                        <a:pt x="121" y="3"/>
                      </a:lnTo>
                      <a:lnTo>
                        <a:pt x="121" y="3"/>
                      </a:lnTo>
                      <a:lnTo>
                        <a:pt x="118" y="6"/>
                      </a:lnTo>
                      <a:lnTo>
                        <a:pt x="118" y="6"/>
                      </a:lnTo>
                      <a:lnTo>
                        <a:pt x="118" y="9"/>
                      </a:lnTo>
                      <a:lnTo>
                        <a:pt x="118" y="13"/>
                      </a:lnTo>
                      <a:lnTo>
                        <a:pt x="118" y="16"/>
                      </a:lnTo>
                      <a:lnTo>
                        <a:pt x="118" y="16"/>
                      </a:lnTo>
                      <a:lnTo>
                        <a:pt x="118" y="19"/>
                      </a:lnTo>
                      <a:lnTo>
                        <a:pt x="118" y="22"/>
                      </a:lnTo>
                      <a:lnTo>
                        <a:pt x="115" y="25"/>
                      </a:lnTo>
                      <a:lnTo>
                        <a:pt x="112" y="25"/>
                      </a:lnTo>
                      <a:close/>
                    </a:path>
                  </a:pathLst>
                </a:custGeom>
                <a:solidFill>
                  <a:srgbClr val="d1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799400" y="3467520"/>
                  <a:ext cx="78120" cy="25200"/>
                </a:xfrm>
                <a:custGeom>
                  <a:avLst/>
                  <a:gdLst/>
                  <a:ahLst/>
                  <a:rect l="l" t="t" r="r" b="b"/>
                  <a:pathLst>
                    <a:path w="92" h="28">
                      <a:moveTo>
                        <a:pt x="57" y="0"/>
                      </a:moveTo>
                      <a:lnTo>
                        <a:pt x="54" y="0"/>
                      </a:lnTo>
                      <a:lnTo>
                        <a:pt x="48" y="3"/>
                      </a:lnTo>
                      <a:lnTo>
                        <a:pt x="45" y="3"/>
                      </a:lnTo>
                      <a:lnTo>
                        <a:pt x="38" y="3"/>
                      </a:lnTo>
                      <a:lnTo>
                        <a:pt x="35" y="3"/>
                      </a:lnTo>
                      <a:lnTo>
                        <a:pt x="29" y="6"/>
                      </a:lnTo>
                      <a:lnTo>
                        <a:pt x="25" y="6"/>
                      </a:lnTo>
                      <a:lnTo>
                        <a:pt x="19" y="6"/>
                      </a:lnTo>
                      <a:lnTo>
                        <a:pt x="16" y="9"/>
                      </a:lnTo>
                      <a:lnTo>
                        <a:pt x="13" y="9"/>
                      </a:lnTo>
                      <a:lnTo>
                        <a:pt x="10" y="9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0" y="19"/>
                      </a:lnTo>
                      <a:lnTo>
                        <a:pt x="3" y="19"/>
                      </a:lnTo>
                      <a:lnTo>
                        <a:pt x="3" y="22"/>
                      </a:lnTo>
                      <a:lnTo>
                        <a:pt x="10" y="25"/>
                      </a:lnTo>
                      <a:lnTo>
                        <a:pt x="13" y="25"/>
                      </a:lnTo>
                      <a:lnTo>
                        <a:pt x="22" y="25"/>
                      </a:lnTo>
                      <a:lnTo>
                        <a:pt x="29" y="25"/>
                      </a:lnTo>
                      <a:lnTo>
                        <a:pt x="38" y="25"/>
                      </a:lnTo>
                      <a:lnTo>
                        <a:pt x="45" y="25"/>
                      </a:lnTo>
                      <a:lnTo>
                        <a:pt x="54" y="28"/>
                      </a:lnTo>
                      <a:lnTo>
                        <a:pt x="64" y="25"/>
                      </a:lnTo>
                      <a:lnTo>
                        <a:pt x="70" y="25"/>
                      </a:lnTo>
                      <a:lnTo>
                        <a:pt x="76" y="25"/>
                      </a:lnTo>
                      <a:lnTo>
                        <a:pt x="83" y="22"/>
                      </a:lnTo>
                      <a:lnTo>
                        <a:pt x="86" y="22"/>
                      </a:lnTo>
                      <a:lnTo>
                        <a:pt x="89" y="16"/>
                      </a:lnTo>
                      <a:lnTo>
                        <a:pt x="92" y="12"/>
                      </a:lnTo>
                      <a:lnTo>
                        <a:pt x="92" y="9"/>
                      </a:lnTo>
                      <a:lnTo>
                        <a:pt x="92" y="6"/>
                      </a:lnTo>
                      <a:lnTo>
                        <a:pt x="89" y="3"/>
                      </a:lnTo>
                      <a:lnTo>
                        <a:pt x="86" y="0"/>
                      </a:lnTo>
                      <a:lnTo>
                        <a:pt x="80" y="0"/>
                      </a:lnTo>
                      <a:lnTo>
                        <a:pt x="76" y="0"/>
                      </a:lnTo>
                      <a:lnTo>
                        <a:pt x="67" y="0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2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810560" y="3475440"/>
                  <a:ext cx="56880" cy="14040"/>
                </a:xfrm>
                <a:custGeom>
                  <a:avLst/>
                  <a:gdLst/>
                  <a:ahLst/>
                  <a:rect l="l" t="t" r="r" b="b"/>
                  <a:pathLst>
                    <a:path w="67" h="16">
                      <a:moveTo>
                        <a:pt x="3" y="7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6" y="13"/>
                      </a:lnTo>
                      <a:lnTo>
                        <a:pt x="12" y="13"/>
                      </a:lnTo>
                      <a:lnTo>
                        <a:pt x="19" y="16"/>
                      </a:lnTo>
                      <a:lnTo>
                        <a:pt x="25" y="16"/>
                      </a:lnTo>
                      <a:lnTo>
                        <a:pt x="32" y="16"/>
                      </a:lnTo>
                      <a:lnTo>
                        <a:pt x="41" y="16"/>
                      </a:lnTo>
                      <a:lnTo>
                        <a:pt x="44" y="16"/>
                      </a:lnTo>
                      <a:lnTo>
                        <a:pt x="51" y="16"/>
                      </a:lnTo>
                      <a:lnTo>
                        <a:pt x="57" y="16"/>
                      </a:lnTo>
                      <a:lnTo>
                        <a:pt x="60" y="13"/>
                      </a:lnTo>
                      <a:lnTo>
                        <a:pt x="63" y="13"/>
                      </a:lnTo>
                      <a:lnTo>
                        <a:pt x="67" y="10"/>
                      </a:lnTo>
                      <a:lnTo>
                        <a:pt x="67" y="7"/>
                      </a:lnTo>
                      <a:lnTo>
                        <a:pt x="67" y="3"/>
                      </a:lnTo>
                      <a:lnTo>
                        <a:pt x="67" y="3"/>
                      </a:lnTo>
                      <a:lnTo>
                        <a:pt x="63" y="0"/>
                      </a:lnTo>
                      <a:lnTo>
                        <a:pt x="60" y="0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48" y="0"/>
                      </a:ln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2" y="3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6" y="7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ff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7932600" y="3351960"/>
                  <a:ext cx="274320" cy="144360"/>
                </a:xfrm>
                <a:custGeom>
                  <a:avLst/>
                  <a:gdLst/>
                  <a:ahLst/>
                  <a:rect l="l" t="t" r="r" b="b"/>
                  <a:pathLst>
                    <a:path w="322" h="160">
                      <a:moveTo>
                        <a:pt x="204" y="131"/>
                      </a:moveTo>
                      <a:lnTo>
                        <a:pt x="220" y="125"/>
                      </a:lnTo>
                      <a:lnTo>
                        <a:pt x="233" y="118"/>
                      </a:lnTo>
                      <a:lnTo>
                        <a:pt x="246" y="112"/>
                      </a:lnTo>
                      <a:lnTo>
                        <a:pt x="258" y="105"/>
                      </a:lnTo>
                      <a:lnTo>
                        <a:pt x="271" y="99"/>
                      </a:lnTo>
                      <a:lnTo>
                        <a:pt x="281" y="89"/>
                      </a:lnTo>
                      <a:lnTo>
                        <a:pt x="287" y="83"/>
                      </a:lnTo>
                      <a:lnTo>
                        <a:pt x="293" y="77"/>
                      </a:lnTo>
                      <a:lnTo>
                        <a:pt x="300" y="70"/>
                      </a:lnTo>
                      <a:lnTo>
                        <a:pt x="306" y="64"/>
                      </a:lnTo>
                      <a:lnTo>
                        <a:pt x="313" y="58"/>
                      </a:lnTo>
                      <a:lnTo>
                        <a:pt x="316" y="48"/>
                      </a:lnTo>
                      <a:lnTo>
                        <a:pt x="319" y="42"/>
                      </a:lnTo>
                      <a:lnTo>
                        <a:pt x="319" y="35"/>
                      </a:lnTo>
                      <a:lnTo>
                        <a:pt x="322" y="29"/>
                      </a:lnTo>
                      <a:lnTo>
                        <a:pt x="322" y="22"/>
                      </a:lnTo>
                      <a:lnTo>
                        <a:pt x="322" y="13"/>
                      </a:lnTo>
                      <a:lnTo>
                        <a:pt x="319" y="7"/>
                      </a:lnTo>
                      <a:lnTo>
                        <a:pt x="316" y="3"/>
                      </a:lnTo>
                      <a:lnTo>
                        <a:pt x="313" y="0"/>
                      </a:lnTo>
                      <a:lnTo>
                        <a:pt x="306" y="0"/>
                      </a:lnTo>
                      <a:lnTo>
                        <a:pt x="300" y="0"/>
                      </a:lnTo>
                      <a:lnTo>
                        <a:pt x="293" y="0"/>
                      </a:lnTo>
                      <a:lnTo>
                        <a:pt x="284" y="3"/>
                      </a:lnTo>
                      <a:lnTo>
                        <a:pt x="274" y="7"/>
                      </a:lnTo>
                      <a:lnTo>
                        <a:pt x="265" y="13"/>
                      </a:lnTo>
                      <a:lnTo>
                        <a:pt x="252" y="16"/>
                      </a:lnTo>
                      <a:lnTo>
                        <a:pt x="242" y="22"/>
                      </a:lnTo>
                      <a:lnTo>
                        <a:pt x="226" y="29"/>
                      </a:lnTo>
                      <a:lnTo>
                        <a:pt x="214" y="35"/>
                      </a:lnTo>
                      <a:lnTo>
                        <a:pt x="198" y="42"/>
                      </a:lnTo>
                      <a:lnTo>
                        <a:pt x="182" y="48"/>
                      </a:lnTo>
                      <a:lnTo>
                        <a:pt x="166" y="51"/>
                      </a:lnTo>
                      <a:lnTo>
                        <a:pt x="147" y="58"/>
                      </a:lnTo>
                      <a:lnTo>
                        <a:pt x="131" y="61"/>
                      </a:lnTo>
                      <a:lnTo>
                        <a:pt x="115" y="64"/>
                      </a:lnTo>
                      <a:lnTo>
                        <a:pt x="99" y="70"/>
                      </a:lnTo>
                      <a:lnTo>
                        <a:pt x="86" y="74"/>
                      </a:lnTo>
                      <a:lnTo>
                        <a:pt x="70" y="77"/>
                      </a:lnTo>
                      <a:lnTo>
                        <a:pt x="58" y="80"/>
                      </a:lnTo>
                      <a:lnTo>
                        <a:pt x="45" y="86"/>
                      </a:lnTo>
                      <a:lnTo>
                        <a:pt x="35" y="89"/>
                      </a:lnTo>
                      <a:lnTo>
                        <a:pt x="26" y="96"/>
                      </a:lnTo>
                      <a:lnTo>
                        <a:pt x="16" y="99"/>
                      </a:lnTo>
                      <a:lnTo>
                        <a:pt x="10" y="105"/>
                      </a:lnTo>
                      <a:lnTo>
                        <a:pt x="3" y="115"/>
                      </a:lnTo>
                      <a:lnTo>
                        <a:pt x="0" y="125"/>
                      </a:lnTo>
                      <a:lnTo>
                        <a:pt x="0" y="134"/>
                      </a:lnTo>
                      <a:lnTo>
                        <a:pt x="0" y="140"/>
                      </a:lnTo>
                      <a:lnTo>
                        <a:pt x="3" y="147"/>
                      </a:lnTo>
                      <a:lnTo>
                        <a:pt x="10" y="150"/>
                      </a:lnTo>
                      <a:lnTo>
                        <a:pt x="19" y="156"/>
                      </a:lnTo>
                      <a:lnTo>
                        <a:pt x="29" y="156"/>
                      </a:lnTo>
                      <a:lnTo>
                        <a:pt x="42" y="160"/>
                      </a:lnTo>
                      <a:lnTo>
                        <a:pt x="54" y="160"/>
                      </a:lnTo>
                      <a:lnTo>
                        <a:pt x="67" y="160"/>
                      </a:lnTo>
                      <a:lnTo>
                        <a:pt x="83" y="160"/>
                      </a:lnTo>
                      <a:lnTo>
                        <a:pt x="99" y="156"/>
                      </a:lnTo>
                      <a:lnTo>
                        <a:pt x="115" y="153"/>
                      </a:lnTo>
                      <a:lnTo>
                        <a:pt x="134" y="150"/>
                      </a:lnTo>
                      <a:lnTo>
                        <a:pt x="150" y="147"/>
                      </a:lnTo>
                      <a:lnTo>
                        <a:pt x="169" y="140"/>
                      </a:lnTo>
                      <a:lnTo>
                        <a:pt x="185" y="134"/>
                      </a:lnTo>
                      <a:lnTo>
                        <a:pt x="204" y="131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932600" y="3349080"/>
                  <a:ext cx="274320" cy="140760"/>
                </a:xfrm>
                <a:custGeom>
                  <a:avLst/>
                  <a:gdLst/>
                  <a:ahLst/>
                  <a:rect l="l" t="t" r="r" b="b"/>
                  <a:pathLst>
                    <a:path w="322" h="156">
                      <a:moveTo>
                        <a:pt x="201" y="128"/>
                      </a:moveTo>
                      <a:lnTo>
                        <a:pt x="217" y="121"/>
                      </a:lnTo>
                      <a:lnTo>
                        <a:pt x="233" y="115"/>
                      </a:lnTo>
                      <a:lnTo>
                        <a:pt x="246" y="105"/>
                      </a:lnTo>
                      <a:lnTo>
                        <a:pt x="258" y="99"/>
                      </a:lnTo>
                      <a:lnTo>
                        <a:pt x="268" y="92"/>
                      </a:lnTo>
                      <a:lnTo>
                        <a:pt x="277" y="86"/>
                      </a:lnTo>
                      <a:lnTo>
                        <a:pt x="287" y="77"/>
                      </a:lnTo>
                      <a:lnTo>
                        <a:pt x="293" y="70"/>
                      </a:lnTo>
                      <a:lnTo>
                        <a:pt x="300" y="64"/>
                      </a:lnTo>
                      <a:lnTo>
                        <a:pt x="306" y="57"/>
                      </a:lnTo>
                      <a:lnTo>
                        <a:pt x="309" y="51"/>
                      </a:lnTo>
                      <a:lnTo>
                        <a:pt x="316" y="45"/>
                      </a:lnTo>
                      <a:lnTo>
                        <a:pt x="316" y="38"/>
                      </a:lnTo>
                      <a:lnTo>
                        <a:pt x="319" y="32"/>
                      </a:lnTo>
                      <a:lnTo>
                        <a:pt x="322" y="25"/>
                      </a:lnTo>
                      <a:lnTo>
                        <a:pt x="322" y="22"/>
                      </a:lnTo>
                      <a:lnTo>
                        <a:pt x="322" y="16"/>
                      </a:lnTo>
                      <a:lnTo>
                        <a:pt x="319" y="6"/>
                      </a:lnTo>
                      <a:lnTo>
                        <a:pt x="319" y="3"/>
                      </a:lnTo>
                      <a:lnTo>
                        <a:pt x="313" y="0"/>
                      </a:lnTo>
                      <a:lnTo>
                        <a:pt x="309" y="0"/>
                      </a:lnTo>
                      <a:lnTo>
                        <a:pt x="303" y="0"/>
                      </a:lnTo>
                      <a:lnTo>
                        <a:pt x="293" y="3"/>
                      </a:lnTo>
                      <a:lnTo>
                        <a:pt x="284" y="6"/>
                      </a:lnTo>
                      <a:lnTo>
                        <a:pt x="274" y="10"/>
                      </a:lnTo>
                      <a:lnTo>
                        <a:pt x="265" y="13"/>
                      </a:lnTo>
                      <a:lnTo>
                        <a:pt x="252" y="19"/>
                      </a:lnTo>
                      <a:lnTo>
                        <a:pt x="239" y="25"/>
                      </a:lnTo>
                      <a:lnTo>
                        <a:pt x="226" y="29"/>
                      </a:lnTo>
                      <a:lnTo>
                        <a:pt x="211" y="35"/>
                      </a:lnTo>
                      <a:lnTo>
                        <a:pt x="195" y="41"/>
                      </a:lnTo>
                      <a:lnTo>
                        <a:pt x="179" y="48"/>
                      </a:lnTo>
                      <a:lnTo>
                        <a:pt x="163" y="51"/>
                      </a:lnTo>
                      <a:lnTo>
                        <a:pt x="147" y="57"/>
                      </a:lnTo>
                      <a:lnTo>
                        <a:pt x="131" y="61"/>
                      </a:lnTo>
                      <a:lnTo>
                        <a:pt x="115" y="67"/>
                      </a:lnTo>
                      <a:lnTo>
                        <a:pt x="99" y="70"/>
                      </a:lnTo>
                      <a:lnTo>
                        <a:pt x="83" y="73"/>
                      </a:lnTo>
                      <a:lnTo>
                        <a:pt x="70" y="77"/>
                      </a:lnTo>
                      <a:lnTo>
                        <a:pt x="58" y="80"/>
                      </a:lnTo>
                      <a:lnTo>
                        <a:pt x="45" y="86"/>
                      </a:lnTo>
                      <a:lnTo>
                        <a:pt x="35" y="89"/>
                      </a:lnTo>
                      <a:lnTo>
                        <a:pt x="26" y="96"/>
                      </a:lnTo>
                      <a:lnTo>
                        <a:pt x="16" y="99"/>
                      </a:lnTo>
                      <a:lnTo>
                        <a:pt x="10" y="105"/>
                      </a:lnTo>
                      <a:lnTo>
                        <a:pt x="7" y="112"/>
                      </a:lnTo>
                      <a:lnTo>
                        <a:pt x="3" y="121"/>
                      </a:lnTo>
                      <a:lnTo>
                        <a:pt x="0" y="128"/>
                      </a:lnTo>
                      <a:lnTo>
                        <a:pt x="3" y="137"/>
                      </a:lnTo>
                      <a:lnTo>
                        <a:pt x="7" y="143"/>
                      </a:lnTo>
                      <a:lnTo>
                        <a:pt x="13" y="147"/>
                      </a:lnTo>
                      <a:lnTo>
                        <a:pt x="19" y="153"/>
                      </a:lnTo>
                      <a:lnTo>
                        <a:pt x="29" y="153"/>
                      </a:lnTo>
                      <a:lnTo>
                        <a:pt x="42" y="156"/>
                      </a:lnTo>
                      <a:lnTo>
                        <a:pt x="54" y="156"/>
                      </a:lnTo>
                      <a:lnTo>
                        <a:pt x="67" y="156"/>
                      </a:lnTo>
                      <a:lnTo>
                        <a:pt x="83" y="156"/>
                      </a:lnTo>
                      <a:lnTo>
                        <a:pt x="99" y="153"/>
                      </a:lnTo>
                      <a:lnTo>
                        <a:pt x="115" y="150"/>
                      </a:lnTo>
                      <a:lnTo>
                        <a:pt x="134" y="147"/>
                      </a:lnTo>
                      <a:lnTo>
                        <a:pt x="150" y="143"/>
                      </a:lnTo>
                      <a:lnTo>
                        <a:pt x="169" y="137"/>
                      </a:lnTo>
                      <a:lnTo>
                        <a:pt x="185" y="131"/>
                      </a:lnTo>
                      <a:lnTo>
                        <a:pt x="201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449480" y="3639960"/>
                  <a:ext cx="18720" cy="14400"/>
                </a:xfrm>
                <a:custGeom>
                  <a:avLst/>
                  <a:gdLst/>
                  <a:ahLst/>
                  <a:rect l="l" t="t" r="r" b="b"/>
                  <a:pathLst>
                    <a:path w="22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9" y="13"/>
                      </a:lnTo>
                      <a:lnTo>
                        <a:pt x="12" y="16"/>
                      </a:lnTo>
                      <a:lnTo>
                        <a:pt x="12" y="16"/>
                      </a:lnTo>
                      <a:lnTo>
                        <a:pt x="16" y="16"/>
                      </a:lnTo>
                      <a:lnTo>
                        <a:pt x="16" y="16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22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0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449480" y="3628080"/>
                  <a:ext cx="34560" cy="28800"/>
                </a:xfrm>
                <a:custGeom>
                  <a:avLst/>
                  <a:gdLst/>
                  <a:ahLst/>
                  <a:rect l="l" t="t" r="r" b="b"/>
                  <a:pathLst>
                    <a:path w="41" h="32">
                      <a:moveTo>
                        <a:pt x="0" y="13"/>
                      </a:move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1" y="32"/>
                      </a:lnTo>
                      <a:lnTo>
                        <a:pt x="38" y="32"/>
                      </a:lnTo>
                      <a:lnTo>
                        <a:pt x="35" y="32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28" y="32"/>
                      </a:lnTo>
                      <a:lnTo>
                        <a:pt x="25" y="29"/>
                      </a:lnTo>
                      <a:lnTo>
                        <a:pt x="22" y="29"/>
                      </a:lnTo>
                      <a:lnTo>
                        <a:pt x="22" y="2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7378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449480" y="3617280"/>
                  <a:ext cx="50760" cy="39600"/>
                </a:xfrm>
                <a:custGeom>
                  <a:avLst/>
                  <a:gdLst/>
                  <a:ahLst/>
                  <a:rect l="l" t="t" r="r" b="b"/>
                  <a:pathLst>
                    <a:path w="60" h="44">
                      <a:moveTo>
                        <a:pt x="0" y="12"/>
                      </a:move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60" y="44"/>
                      </a:lnTo>
                      <a:lnTo>
                        <a:pt x="57" y="44"/>
                      </a:lnTo>
                      <a:lnTo>
                        <a:pt x="54" y="44"/>
                      </a:lnTo>
                      <a:lnTo>
                        <a:pt x="51" y="44"/>
                      </a:lnTo>
                      <a:lnTo>
                        <a:pt x="51" y="44"/>
                      </a:lnTo>
                      <a:lnTo>
                        <a:pt x="48" y="44"/>
                      </a:lnTo>
                      <a:lnTo>
                        <a:pt x="44" y="44"/>
                      </a:lnTo>
                      <a:lnTo>
                        <a:pt x="41" y="44"/>
                      </a:lnTo>
                      <a:lnTo>
                        <a:pt x="41" y="44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75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449480" y="3605760"/>
                  <a:ext cx="66960" cy="54000"/>
                </a:xfrm>
                <a:custGeom>
                  <a:avLst/>
                  <a:gdLst/>
                  <a:ahLst/>
                  <a:rect l="l" t="t" r="r" b="b"/>
                  <a:pathLst>
                    <a:path w="79" h="60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79" y="60"/>
                      </a:lnTo>
                      <a:lnTo>
                        <a:pt x="76" y="60"/>
                      </a:lnTo>
                      <a:lnTo>
                        <a:pt x="73" y="60"/>
                      </a:lnTo>
                      <a:lnTo>
                        <a:pt x="70" y="60"/>
                      </a:lnTo>
                      <a:lnTo>
                        <a:pt x="70" y="60"/>
                      </a:lnTo>
                      <a:lnTo>
                        <a:pt x="67" y="60"/>
                      </a:lnTo>
                      <a:lnTo>
                        <a:pt x="63" y="57"/>
                      </a:lnTo>
                      <a:lnTo>
                        <a:pt x="60" y="57"/>
                      </a:lnTo>
                      <a:lnTo>
                        <a:pt x="60" y="57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75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449480" y="3593880"/>
                  <a:ext cx="80640" cy="65880"/>
                </a:xfrm>
                <a:custGeom>
                  <a:avLst/>
                  <a:gdLst/>
                  <a:ahLst/>
                  <a:rect l="l" t="t" r="r" b="b"/>
                  <a:pathLst>
                    <a:path w="95" h="73">
                      <a:moveTo>
                        <a:pt x="0" y="13"/>
                      </a:move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95" y="73"/>
                      </a:lnTo>
                      <a:lnTo>
                        <a:pt x="95" y="73"/>
                      </a:lnTo>
                      <a:lnTo>
                        <a:pt x="92" y="73"/>
                      </a:lnTo>
                      <a:lnTo>
                        <a:pt x="89" y="73"/>
                      </a:lnTo>
                      <a:lnTo>
                        <a:pt x="89" y="73"/>
                      </a:lnTo>
                      <a:lnTo>
                        <a:pt x="86" y="73"/>
                      </a:lnTo>
                      <a:lnTo>
                        <a:pt x="83" y="73"/>
                      </a:lnTo>
                      <a:lnTo>
                        <a:pt x="79" y="73"/>
                      </a:lnTo>
                      <a:lnTo>
                        <a:pt x="79" y="7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7d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7452000" y="3582000"/>
                  <a:ext cx="94320" cy="77400"/>
                </a:xfrm>
                <a:custGeom>
                  <a:avLst/>
                  <a:gdLst/>
                  <a:ahLst/>
                  <a:rect l="l" t="t" r="r" b="b"/>
                  <a:pathLst>
                    <a:path w="111" h="86">
                      <a:moveTo>
                        <a:pt x="0" y="13"/>
                      </a:move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111" y="86"/>
                      </a:lnTo>
                      <a:lnTo>
                        <a:pt x="108" y="86"/>
                      </a:lnTo>
                      <a:lnTo>
                        <a:pt x="108" y="86"/>
                      </a:lnTo>
                      <a:lnTo>
                        <a:pt x="105" y="86"/>
                      </a:lnTo>
                      <a:lnTo>
                        <a:pt x="102" y="86"/>
                      </a:lnTo>
                      <a:lnTo>
                        <a:pt x="102" y="86"/>
                      </a:lnTo>
                      <a:lnTo>
                        <a:pt x="99" y="86"/>
                      </a:lnTo>
                      <a:lnTo>
                        <a:pt x="96" y="86"/>
                      </a:lnTo>
                      <a:lnTo>
                        <a:pt x="92" y="86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7d8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7452000" y="3567600"/>
                  <a:ext cx="111600" cy="91800"/>
                </a:xfrm>
                <a:custGeom>
                  <a:avLst/>
                  <a:gdLst/>
                  <a:ahLst/>
                  <a:rect l="l" t="t" r="r" b="b"/>
                  <a:pathLst>
                    <a:path w="131" h="102">
                      <a:moveTo>
                        <a:pt x="0" y="16"/>
                      </a:move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31" y="102"/>
                      </a:lnTo>
                      <a:lnTo>
                        <a:pt x="127" y="102"/>
                      </a:lnTo>
                      <a:lnTo>
                        <a:pt x="127" y="102"/>
                      </a:lnTo>
                      <a:lnTo>
                        <a:pt x="124" y="102"/>
                      </a:lnTo>
                      <a:lnTo>
                        <a:pt x="121" y="102"/>
                      </a:lnTo>
                      <a:lnTo>
                        <a:pt x="118" y="102"/>
                      </a:lnTo>
                      <a:lnTo>
                        <a:pt x="118" y="102"/>
                      </a:lnTo>
                      <a:lnTo>
                        <a:pt x="115" y="102"/>
                      </a:lnTo>
                      <a:lnTo>
                        <a:pt x="111" y="102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82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52000" y="3567600"/>
                  <a:ext cx="127440" cy="95400"/>
                </a:xfrm>
                <a:custGeom>
                  <a:avLst/>
                  <a:gdLst/>
                  <a:ahLst/>
                  <a:rect l="l" t="t" r="r" b="b"/>
                  <a:pathLst>
                    <a:path w="150" h="10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3" y="4"/>
                      </a:lnTo>
                      <a:lnTo>
                        <a:pt x="16" y="4"/>
                      </a:lnTo>
                      <a:lnTo>
                        <a:pt x="19" y="4"/>
                      </a:lnTo>
                      <a:lnTo>
                        <a:pt x="150" y="106"/>
                      </a:lnTo>
                      <a:lnTo>
                        <a:pt x="147" y="106"/>
                      </a:lnTo>
                      <a:lnTo>
                        <a:pt x="143" y="102"/>
                      </a:lnTo>
                      <a:lnTo>
                        <a:pt x="143" y="102"/>
                      </a:lnTo>
                      <a:lnTo>
                        <a:pt x="140" y="102"/>
                      </a:lnTo>
                      <a:lnTo>
                        <a:pt x="137" y="102"/>
                      </a:lnTo>
                      <a:lnTo>
                        <a:pt x="134" y="102"/>
                      </a:lnTo>
                      <a:lnTo>
                        <a:pt x="134" y="102"/>
                      </a:lnTo>
                      <a:lnTo>
                        <a:pt x="131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2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7468200" y="3571200"/>
                  <a:ext cx="124920" cy="91800"/>
                </a:xfrm>
                <a:custGeom>
                  <a:avLst/>
                  <a:gdLst/>
                  <a:ahLst/>
                  <a:rect l="l" t="t" r="r" b="b"/>
                  <a:pathLst>
                    <a:path w="147" h="10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6" y="3"/>
                      </a:lnTo>
                      <a:lnTo>
                        <a:pt x="19" y="3"/>
                      </a:lnTo>
                      <a:lnTo>
                        <a:pt x="147" y="102"/>
                      </a:lnTo>
                      <a:lnTo>
                        <a:pt x="143" y="102"/>
                      </a:lnTo>
                      <a:lnTo>
                        <a:pt x="143" y="102"/>
                      </a:lnTo>
                      <a:lnTo>
                        <a:pt x="140" y="102"/>
                      </a:lnTo>
                      <a:lnTo>
                        <a:pt x="137" y="102"/>
                      </a:lnTo>
                      <a:lnTo>
                        <a:pt x="137" y="102"/>
                      </a:lnTo>
                      <a:lnTo>
                        <a:pt x="134" y="102"/>
                      </a:lnTo>
                      <a:lnTo>
                        <a:pt x="131" y="102"/>
                      </a:lnTo>
                      <a:lnTo>
                        <a:pt x="131" y="10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4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484040" y="3573720"/>
                  <a:ext cx="125280" cy="89280"/>
                </a:xfrm>
                <a:custGeom>
                  <a:avLst/>
                  <a:gdLst/>
                  <a:ahLst/>
                  <a:rect l="l" t="t" r="r" b="b"/>
                  <a:pathLst>
                    <a:path w="147" h="99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147" y="99"/>
                      </a:lnTo>
                      <a:lnTo>
                        <a:pt x="144" y="99"/>
                      </a:lnTo>
                      <a:lnTo>
                        <a:pt x="140" y="99"/>
                      </a:lnTo>
                      <a:lnTo>
                        <a:pt x="140" y="99"/>
                      </a:lnTo>
                      <a:lnTo>
                        <a:pt x="137" y="99"/>
                      </a:lnTo>
                      <a:lnTo>
                        <a:pt x="134" y="99"/>
                      </a:lnTo>
                      <a:lnTo>
                        <a:pt x="134" y="99"/>
                      </a:lnTo>
                      <a:lnTo>
                        <a:pt x="131" y="99"/>
                      </a:lnTo>
                      <a:lnTo>
                        <a:pt x="128" y="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a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7502760" y="3573720"/>
                  <a:ext cx="119880" cy="89280"/>
                </a:xfrm>
                <a:custGeom>
                  <a:avLst/>
                  <a:gdLst/>
                  <a:ahLst/>
                  <a:rect l="l" t="t" r="r" b="b"/>
                  <a:pathLst>
                    <a:path w="141" h="9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41" y="99"/>
                      </a:lnTo>
                      <a:lnTo>
                        <a:pt x="138" y="99"/>
                      </a:lnTo>
                      <a:lnTo>
                        <a:pt x="138" y="99"/>
                      </a:lnTo>
                      <a:lnTo>
                        <a:pt x="134" y="99"/>
                      </a:lnTo>
                      <a:lnTo>
                        <a:pt x="131" y="99"/>
                      </a:lnTo>
                      <a:lnTo>
                        <a:pt x="131" y="99"/>
                      </a:lnTo>
                      <a:lnTo>
                        <a:pt x="128" y="99"/>
                      </a:lnTo>
                      <a:lnTo>
                        <a:pt x="125" y="99"/>
                      </a:lnTo>
                      <a:lnTo>
                        <a:pt x="125" y="9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516440" y="3576600"/>
                  <a:ext cx="122400" cy="86400"/>
                </a:xfrm>
                <a:custGeom>
                  <a:avLst/>
                  <a:gdLst/>
                  <a:ahLst/>
                  <a:rect l="l" t="t" r="r" b="b"/>
                  <a:pathLst>
                    <a:path w="144" h="96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144" y="96"/>
                      </a:lnTo>
                      <a:lnTo>
                        <a:pt x="141" y="96"/>
                      </a:lnTo>
                      <a:lnTo>
                        <a:pt x="137" y="96"/>
                      </a:lnTo>
                      <a:lnTo>
                        <a:pt x="137" y="96"/>
                      </a:lnTo>
                      <a:lnTo>
                        <a:pt x="134" y="96"/>
                      </a:lnTo>
                      <a:lnTo>
                        <a:pt x="131" y="96"/>
                      </a:lnTo>
                      <a:lnTo>
                        <a:pt x="128" y="96"/>
                      </a:lnTo>
                      <a:lnTo>
                        <a:pt x="128" y="96"/>
                      </a:lnTo>
                      <a:lnTo>
                        <a:pt x="125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533720" y="3576600"/>
                  <a:ext cx="119160" cy="86400"/>
                </a:xfrm>
                <a:custGeom>
                  <a:avLst/>
                  <a:gdLst/>
                  <a:ahLst/>
                  <a:rect l="l" t="t" r="r" b="b"/>
                  <a:pathLst>
                    <a:path w="140" h="9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40" y="96"/>
                      </a:lnTo>
                      <a:lnTo>
                        <a:pt x="137" y="96"/>
                      </a:lnTo>
                      <a:lnTo>
                        <a:pt x="137" y="96"/>
                      </a:lnTo>
                      <a:lnTo>
                        <a:pt x="133" y="96"/>
                      </a:lnTo>
                      <a:lnTo>
                        <a:pt x="130" y="96"/>
                      </a:lnTo>
                      <a:lnTo>
                        <a:pt x="130" y="96"/>
                      </a:lnTo>
                      <a:lnTo>
                        <a:pt x="127" y="96"/>
                      </a:lnTo>
                      <a:lnTo>
                        <a:pt x="124" y="96"/>
                      </a:lnTo>
                      <a:lnTo>
                        <a:pt x="1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549920" y="3576600"/>
                  <a:ext cx="116640" cy="86400"/>
                </a:xfrm>
                <a:custGeom>
                  <a:avLst/>
                  <a:gdLst/>
                  <a:ahLst/>
                  <a:rect l="l" t="t" r="r" b="b"/>
                  <a:pathLst>
                    <a:path w="137" h="9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137" y="96"/>
                      </a:lnTo>
                      <a:lnTo>
                        <a:pt x="137" y="96"/>
                      </a:lnTo>
                      <a:lnTo>
                        <a:pt x="134" y="96"/>
                      </a:lnTo>
                      <a:lnTo>
                        <a:pt x="130" y="96"/>
                      </a:lnTo>
                      <a:lnTo>
                        <a:pt x="130" y="96"/>
                      </a:lnTo>
                      <a:lnTo>
                        <a:pt x="127" y="96"/>
                      </a:lnTo>
                      <a:lnTo>
                        <a:pt x="127" y="96"/>
                      </a:lnTo>
                      <a:lnTo>
                        <a:pt x="124" y="96"/>
                      </a:lnTo>
                      <a:lnTo>
                        <a:pt x="121" y="96"/>
                      </a:lnTo>
                      <a:lnTo>
                        <a:pt x="121" y="96"/>
                      </a:lnTo>
                      <a:lnTo>
                        <a:pt x="121" y="96"/>
                      </a:lnTo>
                      <a:lnTo>
                        <a:pt x="121" y="96"/>
                      </a:lnTo>
                      <a:lnTo>
                        <a:pt x="121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566120" y="3576600"/>
                  <a:ext cx="116640" cy="86400"/>
                </a:xfrm>
                <a:custGeom>
                  <a:avLst/>
                  <a:gdLst/>
                  <a:ahLst/>
                  <a:rect l="l" t="t" r="r" b="b"/>
                  <a:pathLst>
                    <a:path w="137" h="9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37" y="92"/>
                      </a:lnTo>
                      <a:lnTo>
                        <a:pt x="134" y="92"/>
                      </a:lnTo>
                      <a:lnTo>
                        <a:pt x="130" y="92"/>
                      </a:lnTo>
                      <a:lnTo>
                        <a:pt x="130" y="92"/>
                      </a:lnTo>
                      <a:lnTo>
                        <a:pt x="127" y="92"/>
                      </a:lnTo>
                      <a:lnTo>
                        <a:pt x="124" y="92"/>
                      </a:lnTo>
                      <a:lnTo>
                        <a:pt x="124" y="92"/>
                      </a:lnTo>
                      <a:lnTo>
                        <a:pt x="121" y="96"/>
                      </a:lnTo>
                      <a:lnTo>
                        <a:pt x="118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579440" y="3579480"/>
                  <a:ext cx="116640" cy="79920"/>
                </a:xfrm>
                <a:custGeom>
                  <a:avLst/>
                  <a:gdLst/>
                  <a:ahLst/>
                  <a:rect l="l" t="t" r="r" b="b"/>
                  <a:pathLst>
                    <a:path w="137" h="89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37" y="89"/>
                      </a:lnTo>
                      <a:lnTo>
                        <a:pt x="134" y="89"/>
                      </a:lnTo>
                      <a:lnTo>
                        <a:pt x="130" y="89"/>
                      </a:lnTo>
                      <a:lnTo>
                        <a:pt x="130" y="89"/>
                      </a:lnTo>
                      <a:lnTo>
                        <a:pt x="127" y="89"/>
                      </a:lnTo>
                      <a:lnTo>
                        <a:pt x="127" y="89"/>
                      </a:lnTo>
                      <a:lnTo>
                        <a:pt x="124" y="89"/>
                      </a:lnTo>
                      <a:lnTo>
                        <a:pt x="121" y="89"/>
                      </a:lnTo>
                      <a:lnTo>
                        <a:pt x="121" y="8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596000" y="3579480"/>
                  <a:ext cx="114120" cy="79920"/>
                </a:xfrm>
                <a:custGeom>
                  <a:avLst/>
                  <a:gdLst/>
                  <a:ahLst/>
                  <a:rect l="l" t="t" r="r" b="b"/>
                  <a:pathLst>
                    <a:path w="134" h="89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134" y="89"/>
                      </a:lnTo>
                      <a:lnTo>
                        <a:pt x="131" y="89"/>
                      </a:lnTo>
                      <a:lnTo>
                        <a:pt x="131" y="89"/>
                      </a:lnTo>
                      <a:lnTo>
                        <a:pt x="127" y="89"/>
                      </a:lnTo>
                      <a:lnTo>
                        <a:pt x="124" y="89"/>
                      </a:lnTo>
                      <a:lnTo>
                        <a:pt x="124" y="89"/>
                      </a:lnTo>
                      <a:lnTo>
                        <a:pt x="121" y="89"/>
                      </a:lnTo>
                      <a:lnTo>
                        <a:pt x="118" y="89"/>
                      </a:lnTo>
                      <a:lnTo>
                        <a:pt x="118" y="8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c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612200" y="3579480"/>
                  <a:ext cx="111600" cy="79920"/>
                </a:xfrm>
                <a:custGeom>
                  <a:avLst/>
                  <a:gdLst/>
                  <a:ahLst/>
                  <a:rect l="l" t="t" r="r" b="b"/>
                  <a:pathLst>
                    <a:path w="131" h="89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131" y="89"/>
                      </a:lnTo>
                      <a:lnTo>
                        <a:pt x="131" y="89"/>
                      </a:lnTo>
                      <a:lnTo>
                        <a:pt x="127" y="89"/>
                      </a:lnTo>
                      <a:lnTo>
                        <a:pt x="124" y="89"/>
                      </a:lnTo>
                      <a:lnTo>
                        <a:pt x="124" y="89"/>
                      </a:lnTo>
                      <a:lnTo>
                        <a:pt x="121" y="89"/>
                      </a:lnTo>
                      <a:lnTo>
                        <a:pt x="118" y="89"/>
                      </a:lnTo>
                      <a:lnTo>
                        <a:pt x="118" y="89"/>
                      </a:lnTo>
                      <a:lnTo>
                        <a:pt x="115" y="8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628400" y="3579480"/>
                  <a:ext cx="108720" cy="79920"/>
                </a:xfrm>
                <a:custGeom>
                  <a:avLst/>
                  <a:gdLst/>
                  <a:ahLst/>
                  <a:rect l="l" t="t" r="r" b="b"/>
                  <a:pathLst>
                    <a:path w="128" h="8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28" y="89"/>
                      </a:lnTo>
                      <a:lnTo>
                        <a:pt x="128" y="89"/>
                      </a:lnTo>
                      <a:lnTo>
                        <a:pt x="124" y="89"/>
                      </a:lnTo>
                      <a:lnTo>
                        <a:pt x="121" y="89"/>
                      </a:lnTo>
                      <a:lnTo>
                        <a:pt x="121" y="89"/>
                      </a:lnTo>
                      <a:lnTo>
                        <a:pt x="118" y="89"/>
                      </a:lnTo>
                      <a:lnTo>
                        <a:pt x="118" y="89"/>
                      </a:lnTo>
                      <a:lnTo>
                        <a:pt x="115" y="89"/>
                      </a:lnTo>
                      <a:lnTo>
                        <a:pt x="112" y="8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1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641720" y="3579480"/>
                  <a:ext cx="109080" cy="79920"/>
                </a:xfrm>
                <a:custGeom>
                  <a:avLst/>
                  <a:gdLst/>
                  <a:ahLst/>
                  <a:rect l="l" t="t" r="r" b="b"/>
                  <a:pathLst>
                    <a:path w="128" h="89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128" y="86"/>
                      </a:lnTo>
                      <a:lnTo>
                        <a:pt x="128" y="86"/>
                      </a:lnTo>
                      <a:lnTo>
                        <a:pt x="124" y="86"/>
                      </a:lnTo>
                      <a:lnTo>
                        <a:pt x="124" y="86"/>
                      </a:lnTo>
                      <a:lnTo>
                        <a:pt x="121" y="86"/>
                      </a:lnTo>
                      <a:lnTo>
                        <a:pt x="118" y="89"/>
                      </a:lnTo>
                      <a:lnTo>
                        <a:pt x="118" y="89"/>
                      </a:lnTo>
                      <a:lnTo>
                        <a:pt x="115" y="89"/>
                      </a:lnTo>
                      <a:lnTo>
                        <a:pt x="112" y="8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3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657920" y="3579480"/>
                  <a:ext cx="105480" cy="77400"/>
                </a:xfrm>
                <a:custGeom>
                  <a:avLst/>
                  <a:gdLst/>
                  <a:ahLst/>
                  <a:rect l="l" t="t" r="r" b="b"/>
                  <a:pathLst>
                    <a:path w="124" h="8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24" y="86"/>
                      </a:lnTo>
                      <a:lnTo>
                        <a:pt x="124" y="86"/>
                      </a:lnTo>
                      <a:lnTo>
                        <a:pt x="121" y="86"/>
                      </a:lnTo>
                      <a:lnTo>
                        <a:pt x="121" y="86"/>
                      </a:lnTo>
                      <a:lnTo>
                        <a:pt x="118" y="86"/>
                      </a:lnTo>
                      <a:lnTo>
                        <a:pt x="115" y="86"/>
                      </a:lnTo>
                      <a:lnTo>
                        <a:pt x="115" y="86"/>
                      </a:lnTo>
                      <a:lnTo>
                        <a:pt x="112" y="86"/>
                      </a:lnTo>
                      <a:lnTo>
                        <a:pt x="109" y="8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6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7671960" y="3579480"/>
                  <a:ext cx="108720" cy="77400"/>
                </a:xfrm>
                <a:custGeom>
                  <a:avLst/>
                  <a:gdLst/>
                  <a:ahLst/>
                  <a:rect l="l" t="t" r="r" b="b"/>
                  <a:pathLst>
                    <a:path w="128" h="8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128" y="86"/>
                      </a:lnTo>
                      <a:lnTo>
                        <a:pt x="124" y="86"/>
                      </a:lnTo>
                      <a:lnTo>
                        <a:pt x="121" y="86"/>
                      </a:lnTo>
                      <a:lnTo>
                        <a:pt x="121" y="86"/>
                      </a:lnTo>
                      <a:lnTo>
                        <a:pt x="118" y="86"/>
                      </a:lnTo>
                      <a:lnTo>
                        <a:pt x="115" y="86"/>
                      </a:lnTo>
                      <a:lnTo>
                        <a:pt x="115" y="86"/>
                      </a:lnTo>
                      <a:lnTo>
                        <a:pt x="112" y="86"/>
                      </a:lnTo>
                      <a:lnTo>
                        <a:pt x="108" y="8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8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687800" y="3579480"/>
                  <a:ext cx="102960" cy="77400"/>
                </a:xfrm>
                <a:custGeom>
                  <a:avLst/>
                  <a:gdLst/>
                  <a:ahLst/>
                  <a:rect l="l" t="t" r="r" b="b"/>
                  <a:pathLst>
                    <a:path w="121" h="8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21" y="83"/>
                      </a:lnTo>
                      <a:lnTo>
                        <a:pt x="121" y="83"/>
                      </a:lnTo>
                      <a:lnTo>
                        <a:pt x="118" y="83"/>
                      </a:lnTo>
                      <a:lnTo>
                        <a:pt x="118" y="83"/>
                      </a:lnTo>
                      <a:lnTo>
                        <a:pt x="115" y="83"/>
                      </a:lnTo>
                      <a:lnTo>
                        <a:pt x="112" y="83"/>
                      </a:lnTo>
                      <a:lnTo>
                        <a:pt x="112" y="83"/>
                      </a:lnTo>
                      <a:lnTo>
                        <a:pt x="109" y="86"/>
                      </a:lnTo>
                      <a:lnTo>
                        <a:pt x="109" y="8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8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701480" y="3579480"/>
                  <a:ext cx="102960" cy="74880"/>
                </a:xfrm>
                <a:custGeom>
                  <a:avLst/>
                  <a:gdLst/>
                  <a:ahLst/>
                  <a:rect l="l" t="t" r="r" b="b"/>
                  <a:pathLst>
                    <a:path w="121" h="83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21" y="83"/>
                      </a:lnTo>
                      <a:lnTo>
                        <a:pt x="121" y="83"/>
                      </a:lnTo>
                      <a:lnTo>
                        <a:pt x="118" y="83"/>
                      </a:lnTo>
                      <a:lnTo>
                        <a:pt x="118" y="83"/>
                      </a:lnTo>
                      <a:lnTo>
                        <a:pt x="115" y="83"/>
                      </a:lnTo>
                      <a:lnTo>
                        <a:pt x="112" y="83"/>
                      </a:lnTo>
                      <a:lnTo>
                        <a:pt x="112" y="83"/>
                      </a:lnTo>
                      <a:lnTo>
                        <a:pt x="109" y="83"/>
                      </a:lnTo>
                      <a:lnTo>
                        <a:pt x="105" y="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d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715160" y="3579480"/>
                  <a:ext cx="102960" cy="74880"/>
                </a:xfrm>
                <a:custGeom>
                  <a:avLst/>
                  <a:gdLst/>
                  <a:ahLst/>
                  <a:rect l="l" t="t" r="r" b="b"/>
                  <a:pathLst>
                    <a:path w="121" h="83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121" y="83"/>
                      </a:lnTo>
                      <a:lnTo>
                        <a:pt x="121" y="83"/>
                      </a:lnTo>
                      <a:lnTo>
                        <a:pt x="118" y="83"/>
                      </a:lnTo>
                      <a:lnTo>
                        <a:pt x="115" y="83"/>
                      </a:lnTo>
                      <a:lnTo>
                        <a:pt x="115" y="83"/>
                      </a:lnTo>
                      <a:lnTo>
                        <a:pt x="112" y="83"/>
                      </a:lnTo>
                      <a:lnTo>
                        <a:pt x="112" y="83"/>
                      </a:lnTo>
                      <a:lnTo>
                        <a:pt x="109" y="83"/>
                      </a:lnTo>
                      <a:lnTo>
                        <a:pt x="105" y="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0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731360" y="3579480"/>
                  <a:ext cx="100440" cy="74880"/>
                </a:xfrm>
                <a:custGeom>
                  <a:avLst/>
                  <a:gdLst/>
                  <a:ahLst/>
                  <a:rect l="l" t="t" r="r" b="b"/>
                  <a:pathLst>
                    <a:path w="118" h="8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18" y="80"/>
                      </a:lnTo>
                      <a:lnTo>
                        <a:pt x="118" y="80"/>
                      </a:lnTo>
                      <a:lnTo>
                        <a:pt x="115" y="80"/>
                      </a:lnTo>
                      <a:lnTo>
                        <a:pt x="112" y="80"/>
                      </a:lnTo>
                      <a:lnTo>
                        <a:pt x="112" y="80"/>
                      </a:lnTo>
                      <a:lnTo>
                        <a:pt x="109" y="80"/>
                      </a:lnTo>
                      <a:lnTo>
                        <a:pt x="105" y="80"/>
                      </a:lnTo>
                      <a:lnTo>
                        <a:pt x="105" y="80"/>
                      </a:lnTo>
                      <a:lnTo>
                        <a:pt x="102" y="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7745040" y="3576600"/>
                  <a:ext cx="100440" cy="74880"/>
                </a:xfrm>
                <a:custGeom>
                  <a:avLst/>
                  <a:gdLst/>
                  <a:ahLst/>
                  <a:rect l="l" t="t" r="r" b="b"/>
                  <a:pathLst>
                    <a:path w="118" h="8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18" y="83"/>
                      </a:lnTo>
                      <a:lnTo>
                        <a:pt x="118" y="83"/>
                      </a:lnTo>
                      <a:lnTo>
                        <a:pt x="115" y="83"/>
                      </a:lnTo>
                      <a:lnTo>
                        <a:pt x="112" y="83"/>
                      </a:lnTo>
                      <a:lnTo>
                        <a:pt x="112" y="83"/>
                      </a:lnTo>
                      <a:lnTo>
                        <a:pt x="109" y="83"/>
                      </a:lnTo>
                      <a:lnTo>
                        <a:pt x="105" y="83"/>
                      </a:lnTo>
                      <a:lnTo>
                        <a:pt x="105" y="83"/>
                      </a:lnTo>
                      <a:lnTo>
                        <a:pt x="102" y="8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5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758720" y="3576600"/>
                  <a:ext cx="100440" cy="74880"/>
                </a:xfrm>
                <a:custGeom>
                  <a:avLst/>
                  <a:gdLst/>
                  <a:ahLst/>
                  <a:rect l="l" t="t" r="r" b="b"/>
                  <a:pathLst>
                    <a:path w="118" h="8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18" y="80"/>
                      </a:lnTo>
                      <a:lnTo>
                        <a:pt x="118" y="80"/>
                      </a:lnTo>
                      <a:lnTo>
                        <a:pt x="115" y="80"/>
                      </a:lnTo>
                      <a:lnTo>
                        <a:pt x="115" y="80"/>
                      </a:lnTo>
                      <a:lnTo>
                        <a:pt x="112" y="80"/>
                      </a:lnTo>
                      <a:lnTo>
                        <a:pt x="112" y="80"/>
                      </a:lnTo>
                      <a:lnTo>
                        <a:pt x="112" y="80"/>
                      </a:lnTo>
                      <a:lnTo>
                        <a:pt x="109" y="80"/>
                      </a:lnTo>
                      <a:lnTo>
                        <a:pt x="109" y="80"/>
                      </a:lnTo>
                      <a:lnTo>
                        <a:pt x="105" y="83"/>
                      </a:lnTo>
                      <a:lnTo>
                        <a:pt x="105" y="83"/>
                      </a:lnTo>
                      <a:lnTo>
                        <a:pt x="105" y="83"/>
                      </a:lnTo>
                      <a:lnTo>
                        <a:pt x="102" y="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7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772400" y="3576600"/>
                  <a:ext cx="100440" cy="72000"/>
                </a:xfrm>
                <a:custGeom>
                  <a:avLst/>
                  <a:gdLst/>
                  <a:ahLst/>
                  <a:rect l="l" t="t" r="r" b="b"/>
                  <a:pathLst>
                    <a:path w="118" h="8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18" y="80"/>
                      </a:lnTo>
                      <a:lnTo>
                        <a:pt x="115" y="80"/>
                      </a:lnTo>
                      <a:lnTo>
                        <a:pt x="115" y="80"/>
                      </a:lnTo>
                      <a:lnTo>
                        <a:pt x="112" y="80"/>
                      </a:lnTo>
                      <a:lnTo>
                        <a:pt x="108" y="80"/>
                      </a:lnTo>
                      <a:lnTo>
                        <a:pt x="108" y="80"/>
                      </a:lnTo>
                      <a:lnTo>
                        <a:pt x="105" y="80"/>
                      </a:lnTo>
                      <a:lnTo>
                        <a:pt x="105" y="80"/>
                      </a:lnTo>
                      <a:lnTo>
                        <a:pt x="102" y="8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7783200" y="3573720"/>
                  <a:ext cx="100440" cy="74880"/>
                </a:xfrm>
                <a:custGeom>
                  <a:avLst/>
                  <a:gdLst/>
                  <a:ahLst/>
                  <a:rect l="l" t="t" r="r" b="b"/>
                  <a:pathLst>
                    <a:path w="118" h="8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18" y="79"/>
                      </a:lnTo>
                      <a:lnTo>
                        <a:pt x="118" y="79"/>
                      </a:lnTo>
                      <a:lnTo>
                        <a:pt x="115" y="79"/>
                      </a:lnTo>
                      <a:lnTo>
                        <a:pt x="111" y="79"/>
                      </a:lnTo>
                      <a:lnTo>
                        <a:pt x="111" y="79"/>
                      </a:lnTo>
                      <a:lnTo>
                        <a:pt x="108" y="79"/>
                      </a:lnTo>
                      <a:lnTo>
                        <a:pt x="108" y="79"/>
                      </a:lnTo>
                      <a:lnTo>
                        <a:pt x="105" y="79"/>
                      </a:lnTo>
                      <a:lnTo>
                        <a:pt x="105" y="8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796880" y="3571200"/>
                  <a:ext cx="97920" cy="73800"/>
                </a:xfrm>
                <a:custGeom>
                  <a:avLst/>
                  <a:gdLst/>
                  <a:ahLst/>
                  <a:rect l="l" t="t" r="r" b="b"/>
                  <a:pathLst>
                    <a:path w="115" h="82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15" y="79"/>
                      </a:lnTo>
                      <a:lnTo>
                        <a:pt x="115" y="79"/>
                      </a:lnTo>
                      <a:lnTo>
                        <a:pt x="111" y="79"/>
                      </a:lnTo>
                      <a:lnTo>
                        <a:pt x="111" y="79"/>
                      </a:lnTo>
                      <a:lnTo>
                        <a:pt x="108" y="79"/>
                      </a:lnTo>
                      <a:lnTo>
                        <a:pt x="108" y="79"/>
                      </a:lnTo>
                      <a:lnTo>
                        <a:pt x="105" y="82"/>
                      </a:lnTo>
                      <a:lnTo>
                        <a:pt x="105" y="82"/>
                      </a:lnTo>
                      <a:lnTo>
                        <a:pt x="102" y="8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b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810560" y="3571200"/>
                  <a:ext cx="94680" cy="71280"/>
                </a:xfrm>
                <a:custGeom>
                  <a:avLst/>
                  <a:gdLst/>
                  <a:ahLst/>
                  <a:rect l="l" t="t" r="r" b="b"/>
                  <a:pathLst>
                    <a:path w="111" h="79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11" y="73"/>
                      </a:lnTo>
                      <a:lnTo>
                        <a:pt x="111" y="76"/>
                      </a:lnTo>
                      <a:lnTo>
                        <a:pt x="108" y="76"/>
                      </a:lnTo>
                      <a:lnTo>
                        <a:pt x="108" y="76"/>
                      </a:lnTo>
                      <a:lnTo>
                        <a:pt x="105" y="76"/>
                      </a:lnTo>
                      <a:lnTo>
                        <a:pt x="105" y="76"/>
                      </a:lnTo>
                      <a:lnTo>
                        <a:pt x="102" y="76"/>
                      </a:lnTo>
                      <a:lnTo>
                        <a:pt x="102" y="79"/>
                      </a:lnTo>
                      <a:lnTo>
                        <a:pt x="99" y="7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824240" y="3567600"/>
                  <a:ext cx="89280" cy="69120"/>
                </a:xfrm>
                <a:custGeom>
                  <a:avLst/>
                  <a:gdLst/>
                  <a:ahLst/>
                  <a:rect l="l" t="t" r="r" b="b"/>
                  <a:pathLst>
                    <a:path w="105" h="7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02" y="70"/>
                      </a:lnTo>
                      <a:lnTo>
                        <a:pt x="105" y="70"/>
                      </a:lnTo>
                      <a:lnTo>
                        <a:pt x="105" y="74"/>
                      </a:lnTo>
                      <a:lnTo>
                        <a:pt x="105" y="74"/>
                      </a:lnTo>
                      <a:lnTo>
                        <a:pt x="102" y="77"/>
                      </a:lnTo>
                      <a:lnTo>
                        <a:pt x="102" y="77"/>
                      </a:lnTo>
                      <a:lnTo>
                        <a:pt x="98" y="77"/>
                      </a:lnTo>
                      <a:lnTo>
                        <a:pt x="98" y="77"/>
                      </a:lnTo>
                      <a:lnTo>
                        <a:pt x="95" y="77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834680" y="3564720"/>
                  <a:ext cx="76680" cy="65880"/>
                </a:xfrm>
                <a:custGeom>
                  <a:avLst/>
                  <a:gdLst/>
                  <a:ahLst/>
                  <a:rect l="l" t="t" r="r" b="b"/>
                  <a:pathLst>
                    <a:path w="90" h="73">
                      <a:moveTo>
                        <a:pt x="0" y="3"/>
                      </a:move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6" y="0"/>
                      </a:lnTo>
                      <a:lnTo>
                        <a:pt x="83" y="51"/>
                      </a:lnTo>
                      <a:lnTo>
                        <a:pt x="83" y="54"/>
                      </a:lnTo>
                      <a:lnTo>
                        <a:pt x="83" y="58"/>
                      </a:lnTo>
                      <a:lnTo>
                        <a:pt x="86" y="61"/>
                      </a:lnTo>
                      <a:lnTo>
                        <a:pt x="86" y="64"/>
                      </a:lnTo>
                      <a:lnTo>
                        <a:pt x="86" y="67"/>
                      </a:lnTo>
                      <a:lnTo>
                        <a:pt x="90" y="70"/>
                      </a:lnTo>
                      <a:lnTo>
                        <a:pt x="90" y="70"/>
                      </a:lnTo>
                      <a:lnTo>
                        <a:pt x="90" y="7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848000" y="3564720"/>
                  <a:ext cx="56880" cy="45720"/>
                </a:xfrm>
                <a:custGeom>
                  <a:avLst/>
                  <a:gdLst/>
                  <a:ahLst/>
                  <a:rect l="l" t="t" r="r" b="b"/>
                  <a:pathLst>
                    <a:path w="67" h="5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55" y="32"/>
                      </a:lnTo>
                      <a:lnTo>
                        <a:pt x="55" y="35"/>
                      </a:lnTo>
                      <a:lnTo>
                        <a:pt x="58" y="35"/>
                      </a:lnTo>
                      <a:lnTo>
                        <a:pt x="58" y="38"/>
                      </a:lnTo>
                      <a:lnTo>
                        <a:pt x="61" y="42"/>
                      </a:lnTo>
                      <a:lnTo>
                        <a:pt x="61" y="45"/>
                      </a:lnTo>
                      <a:lnTo>
                        <a:pt x="64" y="48"/>
                      </a:lnTo>
                      <a:lnTo>
                        <a:pt x="64" y="51"/>
                      </a:lnTo>
                      <a:lnTo>
                        <a:pt x="67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9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861680" y="3562200"/>
                  <a:ext cx="33120" cy="31320"/>
                </a:xfrm>
                <a:custGeom>
                  <a:avLst/>
                  <a:gdLst/>
                  <a:ahLst/>
                  <a:rect l="l" t="t" r="r" b="b"/>
                  <a:pathLst>
                    <a:path w="39" h="35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35" y="19"/>
                      </a:lnTo>
                      <a:lnTo>
                        <a:pt x="35" y="22"/>
                      </a:lnTo>
                      <a:lnTo>
                        <a:pt x="35" y="25"/>
                      </a:lnTo>
                      <a:lnTo>
                        <a:pt x="39" y="29"/>
                      </a:lnTo>
                      <a:lnTo>
                        <a:pt x="39" y="32"/>
                      </a:lnTo>
                      <a:lnTo>
                        <a:pt x="39" y="32"/>
                      </a:lnTo>
                      <a:lnTo>
                        <a:pt x="39" y="32"/>
                      </a:lnTo>
                      <a:lnTo>
                        <a:pt x="39" y="32"/>
                      </a:lnTo>
                      <a:lnTo>
                        <a:pt x="39" y="3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c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872840" y="3562200"/>
                  <a:ext cx="18720" cy="16920"/>
                </a:xfrm>
                <a:custGeom>
                  <a:avLst/>
                  <a:gdLst/>
                  <a:ahLst/>
                  <a:rect l="l" t="t" r="r" b="b"/>
                  <a:pathLst>
                    <a:path w="22" h="19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9" y="3"/>
                      </a:lnTo>
                      <a:lnTo>
                        <a:pt x="22" y="6"/>
                      </a:lnTo>
                      <a:lnTo>
                        <a:pt x="22" y="10"/>
                      </a:lnTo>
                      <a:lnTo>
                        <a:pt x="22" y="13"/>
                      </a:lnTo>
                      <a:lnTo>
                        <a:pt x="22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886520" y="356220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1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7889040" y="3458160"/>
                  <a:ext cx="339840" cy="178560"/>
                </a:xfrm>
                <a:custGeom>
                  <a:avLst/>
                  <a:gdLst/>
                  <a:ahLst/>
                  <a:rect l="l" t="t" r="r" b="b"/>
                  <a:pathLst>
                    <a:path w="399" h="198">
                      <a:moveTo>
                        <a:pt x="399" y="64"/>
                      </a:moveTo>
                      <a:lnTo>
                        <a:pt x="395" y="54"/>
                      </a:lnTo>
                      <a:lnTo>
                        <a:pt x="389" y="48"/>
                      </a:lnTo>
                      <a:lnTo>
                        <a:pt x="383" y="38"/>
                      </a:lnTo>
                      <a:lnTo>
                        <a:pt x="376" y="29"/>
                      </a:lnTo>
                      <a:lnTo>
                        <a:pt x="370" y="22"/>
                      </a:lnTo>
                      <a:lnTo>
                        <a:pt x="364" y="13"/>
                      </a:lnTo>
                      <a:lnTo>
                        <a:pt x="360" y="7"/>
                      </a:lnTo>
                      <a:lnTo>
                        <a:pt x="354" y="0"/>
                      </a:lnTo>
                      <a:lnTo>
                        <a:pt x="344" y="3"/>
                      </a:lnTo>
                      <a:lnTo>
                        <a:pt x="332" y="7"/>
                      </a:lnTo>
                      <a:lnTo>
                        <a:pt x="322" y="13"/>
                      </a:lnTo>
                      <a:lnTo>
                        <a:pt x="313" y="16"/>
                      </a:lnTo>
                      <a:lnTo>
                        <a:pt x="300" y="22"/>
                      </a:lnTo>
                      <a:lnTo>
                        <a:pt x="290" y="26"/>
                      </a:lnTo>
                      <a:lnTo>
                        <a:pt x="281" y="29"/>
                      </a:lnTo>
                      <a:lnTo>
                        <a:pt x="268" y="35"/>
                      </a:lnTo>
                      <a:lnTo>
                        <a:pt x="258" y="38"/>
                      </a:lnTo>
                      <a:lnTo>
                        <a:pt x="249" y="42"/>
                      </a:lnTo>
                      <a:lnTo>
                        <a:pt x="236" y="48"/>
                      </a:lnTo>
                      <a:lnTo>
                        <a:pt x="226" y="51"/>
                      </a:lnTo>
                      <a:lnTo>
                        <a:pt x="214" y="54"/>
                      </a:lnTo>
                      <a:lnTo>
                        <a:pt x="204" y="61"/>
                      </a:lnTo>
                      <a:lnTo>
                        <a:pt x="191" y="64"/>
                      </a:lnTo>
                      <a:lnTo>
                        <a:pt x="182" y="67"/>
                      </a:lnTo>
                      <a:lnTo>
                        <a:pt x="169" y="73"/>
                      </a:lnTo>
                      <a:lnTo>
                        <a:pt x="160" y="77"/>
                      </a:lnTo>
                      <a:lnTo>
                        <a:pt x="147" y="80"/>
                      </a:lnTo>
                      <a:lnTo>
                        <a:pt x="137" y="83"/>
                      </a:lnTo>
                      <a:lnTo>
                        <a:pt x="124" y="86"/>
                      </a:lnTo>
                      <a:lnTo>
                        <a:pt x="115" y="89"/>
                      </a:lnTo>
                      <a:lnTo>
                        <a:pt x="102" y="93"/>
                      </a:lnTo>
                      <a:lnTo>
                        <a:pt x="93" y="96"/>
                      </a:lnTo>
                      <a:lnTo>
                        <a:pt x="80" y="99"/>
                      </a:lnTo>
                      <a:lnTo>
                        <a:pt x="67" y="102"/>
                      </a:lnTo>
                      <a:lnTo>
                        <a:pt x="58" y="105"/>
                      </a:lnTo>
                      <a:lnTo>
                        <a:pt x="45" y="109"/>
                      </a:lnTo>
                      <a:lnTo>
                        <a:pt x="35" y="112"/>
                      </a:lnTo>
                      <a:lnTo>
                        <a:pt x="22" y="115"/>
                      </a:lnTo>
                      <a:lnTo>
                        <a:pt x="10" y="115"/>
                      </a:lnTo>
                      <a:lnTo>
                        <a:pt x="0" y="118"/>
                      </a:lnTo>
                      <a:lnTo>
                        <a:pt x="0" y="128"/>
                      </a:lnTo>
                      <a:lnTo>
                        <a:pt x="0" y="140"/>
                      </a:lnTo>
                      <a:lnTo>
                        <a:pt x="3" y="150"/>
                      </a:lnTo>
                      <a:lnTo>
                        <a:pt x="10" y="160"/>
                      </a:lnTo>
                      <a:lnTo>
                        <a:pt x="13" y="169"/>
                      </a:lnTo>
                      <a:lnTo>
                        <a:pt x="19" y="179"/>
                      </a:lnTo>
                      <a:lnTo>
                        <a:pt x="22" y="188"/>
                      </a:lnTo>
                      <a:lnTo>
                        <a:pt x="26" y="198"/>
                      </a:lnTo>
                      <a:lnTo>
                        <a:pt x="38" y="195"/>
                      </a:lnTo>
                      <a:lnTo>
                        <a:pt x="48" y="191"/>
                      </a:lnTo>
                      <a:lnTo>
                        <a:pt x="61" y="188"/>
                      </a:lnTo>
                      <a:lnTo>
                        <a:pt x="73" y="185"/>
                      </a:lnTo>
                      <a:lnTo>
                        <a:pt x="86" y="182"/>
                      </a:lnTo>
                      <a:lnTo>
                        <a:pt x="96" y="179"/>
                      </a:lnTo>
                      <a:lnTo>
                        <a:pt x="109" y="176"/>
                      </a:lnTo>
                      <a:lnTo>
                        <a:pt x="121" y="172"/>
                      </a:lnTo>
                      <a:lnTo>
                        <a:pt x="134" y="169"/>
                      </a:lnTo>
                      <a:lnTo>
                        <a:pt x="144" y="166"/>
                      </a:lnTo>
                      <a:lnTo>
                        <a:pt x="156" y="163"/>
                      </a:lnTo>
                      <a:lnTo>
                        <a:pt x="169" y="156"/>
                      </a:lnTo>
                      <a:lnTo>
                        <a:pt x="182" y="153"/>
                      </a:lnTo>
                      <a:lnTo>
                        <a:pt x="191" y="150"/>
                      </a:lnTo>
                      <a:lnTo>
                        <a:pt x="204" y="147"/>
                      </a:lnTo>
                      <a:lnTo>
                        <a:pt x="217" y="144"/>
                      </a:lnTo>
                      <a:lnTo>
                        <a:pt x="230" y="137"/>
                      </a:lnTo>
                      <a:lnTo>
                        <a:pt x="239" y="134"/>
                      </a:lnTo>
                      <a:lnTo>
                        <a:pt x="252" y="131"/>
                      </a:lnTo>
                      <a:lnTo>
                        <a:pt x="265" y="125"/>
                      </a:lnTo>
                      <a:lnTo>
                        <a:pt x="274" y="121"/>
                      </a:lnTo>
                      <a:lnTo>
                        <a:pt x="287" y="115"/>
                      </a:lnTo>
                      <a:lnTo>
                        <a:pt x="300" y="112"/>
                      </a:lnTo>
                      <a:lnTo>
                        <a:pt x="309" y="109"/>
                      </a:lnTo>
                      <a:lnTo>
                        <a:pt x="322" y="102"/>
                      </a:lnTo>
                      <a:lnTo>
                        <a:pt x="332" y="96"/>
                      </a:lnTo>
                      <a:lnTo>
                        <a:pt x="344" y="93"/>
                      </a:lnTo>
                      <a:lnTo>
                        <a:pt x="354" y="86"/>
                      </a:lnTo>
                      <a:lnTo>
                        <a:pt x="367" y="80"/>
                      </a:lnTo>
                      <a:lnTo>
                        <a:pt x="376" y="77"/>
                      </a:lnTo>
                      <a:lnTo>
                        <a:pt x="389" y="70"/>
                      </a:lnTo>
                      <a:lnTo>
                        <a:pt x="399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897680" y="3498840"/>
                  <a:ext cx="331560" cy="137880"/>
                </a:xfrm>
                <a:custGeom>
                  <a:avLst/>
                  <a:gdLst/>
                  <a:ahLst/>
                  <a:rect l="l" t="t" r="r" b="b"/>
                  <a:pathLst>
                    <a:path w="389" h="153">
                      <a:moveTo>
                        <a:pt x="389" y="19"/>
                      </a:moveTo>
                      <a:lnTo>
                        <a:pt x="385" y="16"/>
                      </a:lnTo>
                      <a:lnTo>
                        <a:pt x="382" y="9"/>
                      </a:lnTo>
                      <a:lnTo>
                        <a:pt x="379" y="6"/>
                      </a:lnTo>
                      <a:lnTo>
                        <a:pt x="373" y="6"/>
                      </a:lnTo>
                      <a:lnTo>
                        <a:pt x="369" y="3"/>
                      </a:lnTo>
                      <a:lnTo>
                        <a:pt x="363" y="0"/>
                      </a:lnTo>
                      <a:lnTo>
                        <a:pt x="354" y="0"/>
                      </a:lnTo>
                      <a:lnTo>
                        <a:pt x="347" y="0"/>
                      </a:lnTo>
                      <a:lnTo>
                        <a:pt x="338" y="3"/>
                      </a:lnTo>
                      <a:lnTo>
                        <a:pt x="328" y="6"/>
                      </a:lnTo>
                      <a:lnTo>
                        <a:pt x="318" y="13"/>
                      </a:lnTo>
                      <a:lnTo>
                        <a:pt x="306" y="16"/>
                      </a:lnTo>
                      <a:lnTo>
                        <a:pt x="296" y="19"/>
                      </a:lnTo>
                      <a:lnTo>
                        <a:pt x="287" y="25"/>
                      </a:lnTo>
                      <a:lnTo>
                        <a:pt x="274" y="28"/>
                      </a:lnTo>
                      <a:lnTo>
                        <a:pt x="264" y="32"/>
                      </a:lnTo>
                      <a:lnTo>
                        <a:pt x="255" y="38"/>
                      </a:lnTo>
                      <a:lnTo>
                        <a:pt x="242" y="41"/>
                      </a:lnTo>
                      <a:lnTo>
                        <a:pt x="232" y="44"/>
                      </a:lnTo>
                      <a:lnTo>
                        <a:pt x="223" y="51"/>
                      </a:lnTo>
                      <a:lnTo>
                        <a:pt x="210" y="54"/>
                      </a:lnTo>
                      <a:lnTo>
                        <a:pt x="201" y="57"/>
                      </a:lnTo>
                      <a:lnTo>
                        <a:pt x="191" y="64"/>
                      </a:lnTo>
                      <a:lnTo>
                        <a:pt x="178" y="67"/>
                      </a:lnTo>
                      <a:lnTo>
                        <a:pt x="169" y="70"/>
                      </a:lnTo>
                      <a:lnTo>
                        <a:pt x="159" y="73"/>
                      </a:lnTo>
                      <a:lnTo>
                        <a:pt x="146" y="76"/>
                      </a:lnTo>
                      <a:lnTo>
                        <a:pt x="137" y="80"/>
                      </a:lnTo>
                      <a:lnTo>
                        <a:pt x="124" y="86"/>
                      </a:lnTo>
                      <a:lnTo>
                        <a:pt x="114" y="89"/>
                      </a:lnTo>
                      <a:lnTo>
                        <a:pt x="102" y="92"/>
                      </a:lnTo>
                      <a:lnTo>
                        <a:pt x="92" y="95"/>
                      </a:lnTo>
                      <a:lnTo>
                        <a:pt x="79" y="99"/>
                      </a:lnTo>
                      <a:lnTo>
                        <a:pt x="70" y="102"/>
                      </a:lnTo>
                      <a:lnTo>
                        <a:pt x="57" y="102"/>
                      </a:lnTo>
                      <a:lnTo>
                        <a:pt x="48" y="105"/>
                      </a:lnTo>
                      <a:lnTo>
                        <a:pt x="35" y="108"/>
                      </a:lnTo>
                      <a:lnTo>
                        <a:pt x="25" y="111"/>
                      </a:lnTo>
                      <a:lnTo>
                        <a:pt x="12" y="111"/>
                      </a:lnTo>
                      <a:lnTo>
                        <a:pt x="0" y="115"/>
                      </a:lnTo>
                      <a:lnTo>
                        <a:pt x="3" y="118"/>
                      </a:lnTo>
                      <a:lnTo>
                        <a:pt x="6" y="121"/>
                      </a:lnTo>
                      <a:lnTo>
                        <a:pt x="6" y="124"/>
                      </a:lnTo>
                      <a:lnTo>
                        <a:pt x="9" y="131"/>
                      </a:lnTo>
                      <a:lnTo>
                        <a:pt x="12" y="137"/>
                      </a:lnTo>
                      <a:lnTo>
                        <a:pt x="12" y="140"/>
                      </a:lnTo>
                      <a:lnTo>
                        <a:pt x="12" y="146"/>
                      </a:lnTo>
                      <a:lnTo>
                        <a:pt x="12" y="153"/>
                      </a:lnTo>
                      <a:lnTo>
                        <a:pt x="25" y="150"/>
                      </a:lnTo>
                      <a:lnTo>
                        <a:pt x="38" y="146"/>
                      </a:lnTo>
                      <a:lnTo>
                        <a:pt x="48" y="143"/>
                      </a:lnTo>
                      <a:lnTo>
                        <a:pt x="60" y="140"/>
                      </a:lnTo>
                      <a:lnTo>
                        <a:pt x="73" y="137"/>
                      </a:lnTo>
                      <a:lnTo>
                        <a:pt x="86" y="134"/>
                      </a:lnTo>
                      <a:lnTo>
                        <a:pt x="95" y="131"/>
                      </a:lnTo>
                      <a:lnTo>
                        <a:pt x="108" y="127"/>
                      </a:lnTo>
                      <a:lnTo>
                        <a:pt x="121" y="124"/>
                      </a:lnTo>
                      <a:lnTo>
                        <a:pt x="134" y="121"/>
                      </a:lnTo>
                      <a:lnTo>
                        <a:pt x="146" y="118"/>
                      </a:lnTo>
                      <a:lnTo>
                        <a:pt x="156" y="111"/>
                      </a:lnTo>
                      <a:lnTo>
                        <a:pt x="169" y="108"/>
                      </a:lnTo>
                      <a:lnTo>
                        <a:pt x="181" y="105"/>
                      </a:lnTo>
                      <a:lnTo>
                        <a:pt x="194" y="102"/>
                      </a:lnTo>
                      <a:lnTo>
                        <a:pt x="204" y="99"/>
                      </a:lnTo>
                      <a:lnTo>
                        <a:pt x="216" y="92"/>
                      </a:lnTo>
                      <a:lnTo>
                        <a:pt x="229" y="89"/>
                      </a:lnTo>
                      <a:lnTo>
                        <a:pt x="242" y="86"/>
                      </a:lnTo>
                      <a:lnTo>
                        <a:pt x="252" y="80"/>
                      </a:lnTo>
                      <a:lnTo>
                        <a:pt x="264" y="76"/>
                      </a:lnTo>
                      <a:lnTo>
                        <a:pt x="277" y="70"/>
                      </a:lnTo>
                      <a:lnTo>
                        <a:pt x="287" y="67"/>
                      </a:lnTo>
                      <a:lnTo>
                        <a:pt x="299" y="64"/>
                      </a:lnTo>
                      <a:lnTo>
                        <a:pt x="312" y="57"/>
                      </a:lnTo>
                      <a:lnTo>
                        <a:pt x="322" y="51"/>
                      </a:lnTo>
                      <a:lnTo>
                        <a:pt x="334" y="48"/>
                      </a:lnTo>
                      <a:lnTo>
                        <a:pt x="344" y="41"/>
                      </a:lnTo>
                      <a:lnTo>
                        <a:pt x="357" y="35"/>
                      </a:lnTo>
                      <a:lnTo>
                        <a:pt x="366" y="32"/>
                      </a:lnTo>
                      <a:lnTo>
                        <a:pt x="379" y="25"/>
                      </a:lnTo>
                      <a:lnTo>
                        <a:pt x="389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7900200" y="3498840"/>
                  <a:ext cx="329040" cy="137880"/>
                </a:xfrm>
                <a:custGeom>
                  <a:avLst/>
                  <a:gdLst/>
                  <a:ahLst/>
                  <a:rect l="l" t="t" r="r" b="b"/>
                  <a:pathLst>
                    <a:path w="386" h="153">
                      <a:moveTo>
                        <a:pt x="386" y="19"/>
                      </a:moveTo>
                      <a:lnTo>
                        <a:pt x="386" y="16"/>
                      </a:lnTo>
                      <a:lnTo>
                        <a:pt x="382" y="9"/>
                      </a:lnTo>
                      <a:lnTo>
                        <a:pt x="376" y="9"/>
                      </a:lnTo>
                      <a:lnTo>
                        <a:pt x="373" y="6"/>
                      </a:lnTo>
                      <a:lnTo>
                        <a:pt x="366" y="3"/>
                      </a:lnTo>
                      <a:lnTo>
                        <a:pt x="363" y="3"/>
                      </a:lnTo>
                      <a:lnTo>
                        <a:pt x="357" y="0"/>
                      </a:lnTo>
                      <a:lnTo>
                        <a:pt x="351" y="0"/>
                      </a:lnTo>
                      <a:lnTo>
                        <a:pt x="341" y="3"/>
                      </a:lnTo>
                      <a:lnTo>
                        <a:pt x="331" y="9"/>
                      </a:lnTo>
                      <a:lnTo>
                        <a:pt x="319" y="13"/>
                      </a:lnTo>
                      <a:lnTo>
                        <a:pt x="309" y="16"/>
                      </a:lnTo>
                      <a:lnTo>
                        <a:pt x="300" y="22"/>
                      </a:lnTo>
                      <a:lnTo>
                        <a:pt x="287" y="25"/>
                      </a:lnTo>
                      <a:lnTo>
                        <a:pt x="277" y="32"/>
                      </a:lnTo>
                      <a:lnTo>
                        <a:pt x="268" y="35"/>
                      </a:lnTo>
                      <a:lnTo>
                        <a:pt x="255" y="38"/>
                      </a:lnTo>
                      <a:lnTo>
                        <a:pt x="245" y="44"/>
                      </a:lnTo>
                      <a:lnTo>
                        <a:pt x="236" y="48"/>
                      </a:lnTo>
                      <a:lnTo>
                        <a:pt x="223" y="51"/>
                      </a:lnTo>
                      <a:lnTo>
                        <a:pt x="213" y="57"/>
                      </a:lnTo>
                      <a:lnTo>
                        <a:pt x="204" y="60"/>
                      </a:lnTo>
                      <a:lnTo>
                        <a:pt x="191" y="64"/>
                      </a:lnTo>
                      <a:lnTo>
                        <a:pt x="182" y="67"/>
                      </a:lnTo>
                      <a:lnTo>
                        <a:pt x="169" y="73"/>
                      </a:lnTo>
                      <a:lnTo>
                        <a:pt x="159" y="76"/>
                      </a:lnTo>
                      <a:lnTo>
                        <a:pt x="150" y="80"/>
                      </a:lnTo>
                      <a:lnTo>
                        <a:pt x="137" y="83"/>
                      </a:lnTo>
                      <a:lnTo>
                        <a:pt x="127" y="86"/>
                      </a:lnTo>
                      <a:lnTo>
                        <a:pt x="115" y="89"/>
                      </a:lnTo>
                      <a:lnTo>
                        <a:pt x="105" y="92"/>
                      </a:lnTo>
                      <a:lnTo>
                        <a:pt x="92" y="95"/>
                      </a:lnTo>
                      <a:lnTo>
                        <a:pt x="83" y="99"/>
                      </a:lnTo>
                      <a:lnTo>
                        <a:pt x="70" y="102"/>
                      </a:lnTo>
                      <a:lnTo>
                        <a:pt x="60" y="105"/>
                      </a:lnTo>
                      <a:lnTo>
                        <a:pt x="48" y="108"/>
                      </a:lnTo>
                      <a:lnTo>
                        <a:pt x="35" y="111"/>
                      </a:lnTo>
                      <a:lnTo>
                        <a:pt x="25" y="115"/>
                      </a:lnTo>
                      <a:lnTo>
                        <a:pt x="13" y="118"/>
                      </a:lnTo>
                      <a:lnTo>
                        <a:pt x="0" y="118"/>
                      </a:lnTo>
                      <a:lnTo>
                        <a:pt x="3" y="121"/>
                      </a:lnTo>
                      <a:lnTo>
                        <a:pt x="3" y="124"/>
                      </a:lnTo>
                      <a:lnTo>
                        <a:pt x="6" y="127"/>
                      </a:lnTo>
                      <a:lnTo>
                        <a:pt x="9" y="134"/>
                      </a:lnTo>
                      <a:lnTo>
                        <a:pt x="9" y="137"/>
                      </a:lnTo>
                      <a:lnTo>
                        <a:pt x="9" y="143"/>
                      </a:lnTo>
                      <a:lnTo>
                        <a:pt x="13" y="150"/>
                      </a:lnTo>
                      <a:lnTo>
                        <a:pt x="13" y="153"/>
                      </a:lnTo>
                      <a:lnTo>
                        <a:pt x="22" y="150"/>
                      </a:lnTo>
                      <a:lnTo>
                        <a:pt x="35" y="146"/>
                      </a:lnTo>
                      <a:lnTo>
                        <a:pt x="48" y="143"/>
                      </a:lnTo>
                      <a:lnTo>
                        <a:pt x="57" y="140"/>
                      </a:lnTo>
                      <a:lnTo>
                        <a:pt x="70" y="137"/>
                      </a:lnTo>
                      <a:lnTo>
                        <a:pt x="83" y="134"/>
                      </a:lnTo>
                      <a:lnTo>
                        <a:pt x="96" y="131"/>
                      </a:lnTo>
                      <a:lnTo>
                        <a:pt x="105" y="127"/>
                      </a:lnTo>
                      <a:lnTo>
                        <a:pt x="118" y="124"/>
                      </a:lnTo>
                      <a:lnTo>
                        <a:pt x="131" y="121"/>
                      </a:lnTo>
                      <a:lnTo>
                        <a:pt x="143" y="118"/>
                      </a:lnTo>
                      <a:lnTo>
                        <a:pt x="156" y="111"/>
                      </a:lnTo>
                      <a:lnTo>
                        <a:pt x="166" y="108"/>
                      </a:lnTo>
                      <a:lnTo>
                        <a:pt x="178" y="105"/>
                      </a:lnTo>
                      <a:lnTo>
                        <a:pt x="191" y="102"/>
                      </a:lnTo>
                      <a:lnTo>
                        <a:pt x="204" y="99"/>
                      </a:lnTo>
                      <a:lnTo>
                        <a:pt x="213" y="92"/>
                      </a:lnTo>
                      <a:lnTo>
                        <a:pt x="226" y="89"/>
                      </a:lnTo>
                      <a:lnTo>
                        <a:pt x="239" y="86"/>
                      </a:lnTo>
                      <a:lnTo>
                        <a:pt x="252" y="80"/>
                      </a:lnTo>
                      <a:lnTo>
                        <a:pt x="261" y="76"/>
                      </a:lnTo>
                      <a:lnTo>
                        <a:pt x="274" y="70"/>
                      </a:lnTo>
                      <a:lnTo>
                        <a:pt x="287" y="67"/>
                      </a:lnTo>
                      <a:lnTo>
                        <a:pt x="296" y="60"/>
                      </a:lnTo>
                      <a:lnTo>
                        <a:pt x="309" y="57"/>
                      </a:lnTo>
                      <a:lnTo>
                        <a:pt x="322" y="51"/>
                      </a:lnTo>
                      <a:lnTo>
                        <a:pt x="331" y="48"/>
                      </a:lnTo>
                      <a:lnTo>
                        <a:pt x="344" y="41"/>
                      </a:lnTo>
                      <a:lnTo>
                        <a:pt x="354" y="35"/>
                      </a:lnTo>
                      <a:lnTo>
                        <a:pt x="366" y="32"/>
                      </a:lnTo>
                      <a:lnTo>
                        <a:pt x="376" y="25"/>
                      </a:lnTo>
                      <a:lnTo>
                        <a:pt x="386" y="19"/>
                      </a:lnTo>
                      <a:close/>
                    </a:path>
                  </a:pathLst>
                </a:custGeom>
                <a:solidFill>
                  <a:srgbClr val="2629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902720" y="3498840"/>
                  <a:ext cx="326160" cy="137880"/>
                </a:xfrm>
                <a:custGeom>
                  <a:avLst/>
                  <a:gdLst/>
                  <a:ahLst/>
                  <a:rect l="l" t="t" r="r" b="b"/>
                  <a:pathLst>
                    <a:path w="383" h="153">
                      <a:moveTo>
                        <a:pt x="383" y="19"/>
                      </a:moveTo>
                      <a:lnTo>
                        <a:pt x="383" y="16"/>
                      </a:lnTo>
                      <a:lnTo>
                        <a:pt x="379" y="13"/>
                      </a:lnTo>
                      <a:lnTo>
                        <a:pt x="376" y="9"/>
                      </a:lnTo>
                      <a:lnTo>
                        <a:pt x="373" y="6"/>
                      </a:lnTo>
                      <a:lnTo>
                        <a:pt x="367" y="6"/>
                      </a:lnTo>
                      <a:lnTo>
                        <a:pt x="363" y="3"/>
                      </a:lnTo>
                      <a:lnTo>
                        <a:pt x="357" y="0"/>
                      </a:lnTo>
                      <a:lnTo>
                        <a:pt x="351" y="0"/>
                      </a:lnTo>
                      <a:lnTo>
                        <a:pt x="341" y="3"/>
                      </a:lnTo>
                      <a:lnTo>
                        <a:pt x="332" y="9"/>
                      </a:lnTo>
                      <a:lnTo>
                        <a:pt x="322" y="13"/>
                      </a:lnTo>
                      <a:lnTo>
                        <a:pt x="312" y="19"/>
                      </a:lnTo>
                      <a:lnTo>
                        <a:pt x="300" y="22"/>
                      </a:lnTo>
                      <a:lnTo>
                        <a:pt x="290" y="28"/>
                      </a:lnTo>
                      <a:lnTo>
                        <a:pt x="281" y="32"/>
                      </a:lnTo>
                      <a:lnTo>
                        <a:pt x="268" y="35"/>
                      </a:lnTo>
                      <a:lnTo>
                        <a:pt x="258" y="41"/>
                      </a:lnTo>
                      <a:lnTo>
                        <a:pt x="249" y="44"/>
                      </a:lnTo>
                      <a:lnTo>
                        <a:pt x="236" y="48"/>
                      </a:lnTo>
                      <a:lnTo>
                        <a:pt x="226" y="54"/>
                      </a:lnTo>
                      <a:lnTo>
                        <a:pt x="217" y="57"/>
                      </a:lnTo>
                      <a:lnTo>
                        <a:pt x="204" y="60"/>
                      </a:lnTo>
                      <a:lnTo>
                        <a:pt x="195" y="67"/>
                      </a:lnTo>
                      <a:lnTo>
                        <a:pt x="182" y="70"/>
                      </a:lnTo>
                      <a:lnTo>
                        <a:pt x="172" y="73"/>
                      </a:lnTo>
                      <a:lnTo>
                        <a:pt x="159" y="76"/>
                      </a:lnTo>
                      <a:lnTo>
                        <a:pt x="150" y="83"/>
                      </a:lnTo>
                      <a:lnTo>
                        <a:pt x="137" y="86"/>
                      </a:lnTo>
                      <a:lnTo>
                        <a:pt x="128" y="89"/>
                      </a:lnTo>
                      <a:lnTo>
                        <a:pt x="115" y="92"/>
                      </a:lnTo>
                      <a:lnTo>
                        <a:pt x="105" y="95"/>
                      </a:lnTo>
                      <a:lnTo>
                        <a:pt x="93" y="99"/>
                      </a:lnTo>
                      <a:lnTo>
                        <a:pt x="83" y="102"/>
                      </a:lnTo>
                      <a:lnTo>
                        <a:pt x="70" y="105"/>
                      </a:lnTo>
                      <a:lnTo>
                        <a:pt x="57" y="108"/>
                      </a:lnTo>
                      <a:lnTo>
                        <a:pt x="48" y="111"/>
                      </a:lnTo>
                      <a:lnTo>
                        <a:pt x="35" y="115"/>
                      </a:lnTo>
                      <a:lnTo>
                        <a:pt x="22" y="118"/>
                      </a:lnTo>
                      <a:lnTo>
                        <a:pt x="13" y="121"/>
                      </a:lnTo>
                      <a:lnTo>
                        <a:pt x="0" y="124"/>
                      </a:lnTo>
                      <a:lnTo>
                        <a:pt x="3" y="127"/>
                      </a:lnTo>
                      <a:lnTo>
                        <a:pt x="6" y="137"/>
                      </a:lnTo>
                      <a:lnTo>
                        <a:pt x="6" y="143"/>
                      </a:lnTo>
                      <a:lnTo>
                        <a:pt x="10" y="153"/>
                      </a:lnTo>
                      <a:lnTo>
                        <a:pt x="19" y="150"/>
                      </a:lnTo>
                      <a:lnTo>
                        <a:pt x="32" y="146"/>
                      </a:lnTo>
                      <a:lnTo>
                        <a:pt x="45" y="143"/>
                      </a:lnTo>
                      <a:lnTo>
                        <a:pt x="54" y="140"/>
                      </a:lnTo>
                      <a:lnTo>
                        <a:pt x="67" y="137"/>
                      </a:lnTo>
                      <a:lnTo>
                        <a:pt x="80" y="134"/>
                      </a:lnTo>
                      <a:lnTo>
                        <a:pt x="93" y="131"/>
                      </a:lnTo>
                      <a:lnTo>
                        <a:pt x="102" y="127"/>
                      </a:lnTo>
                      <a:lnTo>
                        <a:pt x="115" y="124"/>
                      </a:lnTo>
                      <a:lnTo>
                        <a:pt x="128" y="121"/>
                      </a:lnTo>
                      <a:lnTo>
                        <a:pt x="140" y="118"/>
                      </a:lnTo>
                      <a:lnTo>
                        <a:pt x="153" y="111"/>
                      </a:lnTo>
                      <a:lnTo>
                        <a:pt x="163" y="108"/>
                      </a:lnTo>
                      <a:lnTo>
                        <a:pt x="175" y="105"/>
                      </a:lnTo>
                      <a:lnTo>
                        <a:pt x="188" y="102"/>
                      </a:lnTo>
                      <a:lnTo>
                        <a:pt x="201" y="99"/>
                      </a:lnTo>
                      <a:lnTo>
                        <a:pt x="210" y="92"/>
                      </a:lnTo>
                      <a:lnTo>
                        <a:pt x="223" y="89"/>
                      </a:lnTo>
                      <a:lnTo>
                        <a:pt x="236" y="86"/>
                      </a:lnTo>
                      <a:lnTo>
                        <a:pt x="249" y="80"/>
                      </a:lnTo>
                      <a:lnTo>
                        <a:pt x="258" y="76"/>
                      </a:lnTo>
                      <a:lnTo>
                        <a:pt x="271" y="70"/>
                      </a:lnTo>
                      <a:lnTo>
                        <a:pt x="284" y="67"/>
                      </a:lnTo>
                      <a:lnTo>
                        <a:pt x="293" y="60"/>
                      </a:lnTo>
                      <a:lnTo>
                        <a:pt x="306" y="57"/>
                      </a:lnTo>
                      <a:lnTo>
                        <a:pt x="319" y="51"/>
                      </a:lnTo>
                      <a:lnTo>
                        <a:pt x="328" y="48"/>
                      </a:lnTo>
                      <a:lnTo>
                        <a:pt x="341" y="41"/>
                      </a:lnTo>
                      <a:lnTo>
                        <a:pt x="351" y="35"/>
                      </a:lnTo>
                      <a:lnTo>
                        <a:pt x="363" y="32"/>
                      </a:lnTo>
                      <a:lnTo>
                        <a:pt x="373" y="25"/>
                      </a:lnTo>
                      <a:lnTo>
                        <a:pt x="383" y="19"/>
                      </a:lnTo>
                      <a:close/>
                    </a:path>
                  </a:pathLst>
                </a:custGeom>
                <a:solidFill>
                  <a:srgbClr val="4f52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7905240" y="3501720"/>
                  <a:ext cx="323640" cy="135360"/>
                </a:xfrm>
                <a:custGeom>
                  <a:avLst/>
                  <a:gdLst/>
                  <a:ahLst/>
                  <a:rect l="l" t="t" r="r" b="b"/>
                  <a:pathLst>
                    <a:path w="380" h="150">
                      <a:moveTo>
                        <a:pt x="380" y="16"/>
                      </a:moveTo>
                      <a:lnTo>
                        <a:pt x="380" y="13"/>
                      </a:lnTo>
                      <a:lnTo>
                        <a:pt x="376" y="10"/>
                      </a:lnTo>
                      <a:lnTo>
                        <a:pt x="373" y="6"/>
                      </a:lnTo>
                      <a:lnTo>
                        <a:pt x="370" y="3"/>
                      </a:lnTo>
                      <a:lnTo>
                        <a:pt x="367" y="3"/>
                      </a:lnTo>
                      <a:lnTo>
                        <a:pt x="364" y="0"/>
                      </a:lnTo>
                      <a:lnTo>
                        <a:pt x="357" y="0"/>
                      </a:lnTo>
                      <a:lnTo>
                        <a:pt x="354" y="0"/>
                      </a:lnTo>
                      <a:lnTo>
                        <a:pt x="345" y="3"/>
                      </a:lnTo>
                      <a:lnTo>
                        <a:pt x="332" y="6"/>
                      </a:lnTo>
                      <a:lnTo>
                        <a:pt x="322" y="13"/>
                      </a:lnTo>
                      <a:lnTo>
                        <a:pt x="313" y="16"/>
                      </a:lnTo>
                      <a:lnTo>
                        <a:pt x="303" y="22"/>
                      </a:lnTo>
                      <a:lnTo>
                        <a:pt x="290" y="25"/>
                      </a:lnTo>
                      <a:lnTo>
                        <a:pt x="281" y="32"/>
                      </a:lnTo>
                      <a:lnTo>
                        <a:pt x="271" y="35"/>
                      </a:lnTo>
                      <a:lnTo>
                        <a:pt x="258" y="38"/>
                      </a:lnTo>
                      <a:lnTo>
                        <a:pt x="249" y="45"/>
                      </a:lnTo>
                      <a:lnTo>
                        <a:pt x="239" y="48"/>
                      </a:lnTo>
                      <a:lnTo>
                        <a:pt x="227" y="51"/>
                      </a:lnTo>
                      <a:lnTo>
                        <a:pt x="217" y="57"/>
                      </a:lnTo>
                      <a:lnTo>
                        <a:pt x="204" y="61"/>
                      </a:lnTo>
                      <a:lnTo>
                        <a:pt x="195" y="64"/>
                      </a:lnTo>
                      <a:lnTo>
                        <a:pt x="185" y="70"/>
                      </a:lnTo>
                      <a:lnTo>
                        <a:pt x="172" y="73"/>
                      </a:lnTo>
                      <a:lnTo>
                        <a:pt x="163" y="77"/>
                      </a:lnTo>
                      <a:lnTo>
                        <a:pt x="150" y="80"/>
                      </a:lnTo>
                      <a:lnTo>
                        <a:pt x="137" y="83"/>
                      </a:lnTo>
                      <a:lnTo>
                        <a:pt x="128" y="89"/>
                      </a:lnTo>
                      <a:lnTo>
                        <a:pt x="115" y="92"/>
                      </a:lnTo>
                      <a:lnTo>
                        <a:pt x="105" y="96"/>
                      </a:lnTo>
                      <a:lnTo>
                        <a:pt x="93" y="99"/>
                      </a:lnTo>
                      <a:lnTo>
                        <a:pt x="83" y="102"/>
                      </a:lnTo>
                      <a:lnTo>
                        <a:pt x="70" y="105"/>
                      </a:lnTo>
                      <a:lnTo>
                        <a:pt x="58" y="108"/>
                      </a:lnTo>
                      <a:lnTo>
                        <a:pt x="48" y="112"/>
                      </a:lnTo>
                      <a:lnTo>
                        <a:pt x="35" y="115"/>
                      </a:lnTo>
                      <a:lnTo>
                        <a:pt x="23" y="118"/>
                      </a:lnTo>
                      <a:lnTo>
                        <a:pt x="10" y="121"/>
                      </a:lnTo>
                      <a:lnTo>
                        <a:pt x="0" y="124"/>
                      </a:lnTo>
                      <a:lnTo>
                        <a:pt x="0" y="131"/>
                      </a:lnTo>
                      <a:lnTo>
                        <a:pt x="3" y="137"/>
                      </a:lnTo>
                      <a:lnTo>
                        <a:pt x="3" y="143"/>
                      </a:lnTo>
                      <a:lnTo>
                        <a:pt x="7" y="150"/>
                      </a:lnTo>
                      <a:lnTo>
                        <a:pt x="16" y="147"/>
                      </a:lnTo>
                      <a:lnTo>
                        <a:pt x="29" y="143"/>
                      </a:lnTo>
                      <a:lnTo>
                        <a:pt x="42" y="140"/>
                      </a:lnTo>
                      <a:lnTo>
                        <a:pt x="51" y="137"/>
                      </a:lnTo>
                      <a:lnTo>
                        <a:pt x="64" y="134"/>
                      </a:lnTo>
                      <a:lnTo>
                        <a:pt x="77" y="131"/>
                      </a:lnTo>
                      <a:lnTo>
                        <a:pt x="90" y="128"/>
                      </a:lnTo>
                      <a:lnTo>
                        <a:pt x="99" y="124"/>
                      </a:lnTo>
                      <a:lnTo>
                        <a:pt x="112" y="121"/>
                      </a:lnTo>
                      <a:lnTo>
                        <a:pt x="125" y="118"/>
                      </a:lnTo>
                      <a:lnTo>
                        <a:pt x="137" y="115"/>
                      </a:lnTo>
                      <a:lnTo>
                        <a:pt x="150" y="108"/>
                      </a:lnTo>
                      <a:lnTo>
                        <a:pt x="160" y="105"/>
                      </a:lnTo>
                      <a:lnTo>
                        <a:pt x="172" y="102"/>
                      </a:lnTo>
                      <a:lnTo>
                        <a:pt x="185" y="99"/>
                      </a:lnTo>
                      <a:lnTo>
                        <a:pt x="198" y="96"/>
                      </a:lnTo>
                      <a:lnTo>
                        <a:pt x="207" y="89"/>
                      </a:lnTo>
                      <a:lnTo>
                        <a:pt x="220" y="86"/>
                      </a:lnTo>
                      <a:lnTo>
                        <a:pt x="233" y="83"/>
                      </a:lnTo>
                      <a:lnTo>
                        <a:pt x="246" y="77"/>
                      </a:lnTo>
                      <a:lnTo>
                        <a:pt x="255" y="73"/>
                      </a:lnTo>
                      <a:lnTo>
                        <a:pt x="268" y="67"/>
                      </a:lnTo>
                      <a:lnTo>
                        <a:pt x="281" y="64"/>
                      </a:lnTo>
                      <a:lnTo>
                        <a:pt x="290" y="57"/>
                      </a:lnTo>
                      <a:lnTo>
                        <a:pt x="303" y="54"/>
                      </a:lnTo>
                      <a:lnTo>
                        <a:pt x="316" y="48"/>
                      </a:lnTo>
                      <a:lnTo>
                        <a:pt x="325" y="45"/>
                      </a:lnTo>
                      <a:lnTo>
                        <a:pt x="338" y="38"/>
                      </a:lnTo>
                      <a:lnTo>
                        <a:pt x="348" y="32"/>
                      </a:lnTo>
                      <a:lnTo>
                        <a:pt x="360" y="29"/>
                      </a:lnTo>
                      <a:lnTo>
                        <a:pt x="370" y="22"/>
                      </a:lnTo>
                      <a:lnTo>
                        <a:pt x="380" y="16"/>
                      </a:lnTo>
                      <a:close/>
                    </a:path>
                  </a:pathLst>
                </a:custGeom>
                <a:solidFill>
                  <a:srgbClr val="78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7905240" y="3501720"/>
                  <a:ext cx="323640" cy="135360"/>
                </a:xfrm>
                <a:custGeom>
                  <a:avLst/>
                  <a:gdLst/>
                  <a:ahLst/>
                  <a:rect l="l" t="t" r="r" b="b"/>
                  <a:pathLst>
                    <a:path w="380" h="150">
                      <a:moveTo>
                        <a:pt x="380" y="16"/>
                      </a:moveTo>
                      <a:lnTo>
                        <a:pt x="380" y="13"/>
                      </a:lnTo>
                      <a:lnTo>
                        <a:pt x="376" y="10"/>
                      </a:lnTo>
                      <a:lnTo>
                        <a:pt x="376" y="6"/>
                      </a:lnTo>
                      <a:lnTo>
                        <a:pt x="373" y="6"/>
                      </a:lnTo>
                      <a:lnTo>
                        <a:pt x="370" y="3"/>
                      </a:lnTo>
                      <a:lnTo>
                        <a:pt x="367" y="3"/>
                      </a:lnTo>
                      <a:lnTo>
                        <a:pt x="360" y="0"/>
                      </a:lnTo>
                      <a:lnTo>
                        <a:pt x="357" y="0"/>
                      </a:lnTo>
                      <a:lnTo>
                        <a:pt x="348" y="3"/>
                      </a:lnTo>
                      <a:lnTo>
                        <a:pt x="338" y="10"/>
                      </a:lnTo>
                      <a:lnTo>
                        <a:pt x="329" y="13"/>
                      </a:lnTo>
                      <a:lnTo>
                        <a:pt x="316" y="19"/>
                      </a:lnTo>
                      <a:lnTo>
                        <a:pt x="306" y="22"/>
                      </a:lnTo>
                      <a:lnTo>
                        <a:pt x="297" y="29"/>
                      </a:lnTo>
                      <a:lnTo>
                        <a:pt x="287" y="32"/>
                      </a:lnTo>
                      <a:lnTo>
                        <a:pt x="274" y="38"/>
                      </a:lnTo>
                      <a:lnTo>
                        <a:pt x="265" y="41"/>
                      </a:lnTo>
                      <a:lnTo>
                        <a:pt x="255" y="45"/>
                      </a:lnTo>
                      <a:lnTo>
                        <a:pt x="243" y="51"/>
                      </a:lnTo>
                      <a:lnTo>
                        <a:pt x="233" y="54"/>
                      </a:lnTo>
                      <a:lnTo>
                        <a:pt x="220" y="57"/>
                      </a:lnTo>
                      <a:lnTo>
                        <a:pt x="211" y="64"/>
                      </a:lnTo>
                      <a:lnTo>
                        <a:pt x="198" y="67"/>
                      </a:lnTo>
                      <a:lnTo>
                        <a:pt x="188" y="70"/>
                      </a:lnTo>
                      <a:lnTo>
                        <a:pt x="176" y="77"/>
                      </a:lnTo>
                      <a:lnTo>
                        <a:pt x="166" y="80"/>
                      </a:lnTo>
                      <a:lnTo>
                        <a:pt x="153" y="83"/>
                      </a:lnTo>
                      <a:lnTo>
                        <a:pt x="144" y="86"/>
                      </a:lnTo>
                      <a:lnTo>
                        <a:pt x="131" y="89"/>
                      </a:lnTo>
                      <a:lnTo>
                        <a:pt x="121" y="96"/>
                      </a:lnTo>
                      <a:lnTo>
                        <a:pt x="109" y="99"/>
                      </a:lnTo>
                      <a:lnTo>
                        <a:pt x="96" y="102"/>
                      </a:lnTo>
                      <a:lnTo>
                        <a:pt x="86" y="105"/>
                      </a:lnTo>
                      <a:lnTo>
                        <a:pt x="74" y="108"/>
                      </a:lnTo>
                      <a:lnTo>
                        <a:pt x="61" y="112"/>
                      </a:lnTo>
                      <a:lnTo>
                        <a:pt x="48" y="115"/>
                      </a:lnTo>
                      <a:lnTo>
                        <a:pt x="39" y="118"/>
                      </a:lnTo>
                      <a:lnTo>
                        <a:pt x="26" y="121"/>
                      </a:lnTo>
                      <a:lnTo>
                        <a:pt x="13" y="124"/>
                      </a:lnTo>
                      <a:lnTo>
                        <a:pt x="0" y="128"/>
                      </a:lnTo>
                      <a:lnTo>
                        <a:pt x="3" y="134"/>
                      </a:lnTo>
                      <a:lnTo>
                        <a:pt x="3" y="137"/>
                      </a:lnTo>
                      <a:lnTo>
                        <a:pt x="3" y="143"/>
                      </a:lnTo>
                      <a:lnTo>
                        <a:pt x="7" y="150"/>
                      </a:lnTo>
                      <a:lnTo>
                        <a:pt x="16" y="147"/>
                      </a:lnTo>
                      <a:lnTo>
                        <a:pt x="29" y="143"/>
                      </a:lnTo>
                      <a:lnTo>
                        <a:pt x="42" y="140"/>
                      </a:lnTo>
                      <a:lnTo>
                        <a:pt x="51" y="137"/>
                      </a:lnTo>
                      <a:lnTo>
                        <a:pt x="64" y="134"/>
                      </a:lnTo>
                      <a:lnTo>
                        <a:pt x="77" y="131"/>
                      </a:lnTo>
                      <a:lnTo>
                        <a:pt x="90" y="128"/>
                      </a:lnTo>
                      <a:lnTo>
                        <a:pt x="99" y="124"/>
                      </a:lnTo>
                      <a:lnTo>
                        <a:pt x="112" y="121"/>
                      </a:lnTo>
                      <a:lnTo>
                        <a:pt x="125" y="118"/>
                      </a:lnTo>
                      <a:lnTo>
                        <a:pt x="137" y="115"/>
                      </a:lnTo>
                      <a:lnTo>
                        <a:pt x="150" y="108"/>
                      </a:lnTo>
                      <a:lnTo>
                        <a:pt x="160" y="105"/>
                      </a:lnTo>
                      <a:lnTo>
                        <a:pt x="172" y="102"/>
                      </a:lnTo>
                      <a:lnTo>
                        <a:pt x="185" y="99"/>
                      </a:lnTo>
                      <a:lnTo>
                        <a:pt x="198" y="96"/>
                      </a:lnTo>
                      <a:lnTo>
                        <a:pt x="207" y="89"/>
                      </a:lnTo>
                      <a:lnTo>
                        <a:pt x="220" y="86"/>
                      </a:lnTo>
                      <a:lnTo>
                        <a:pt x="233" y="83"/>
                      </a:lnTo>
                      <a:lnTo>
                        <a:pt x="246" y="77"/>
                      </a:lnTo>
                      <a:lnTo>
                        <a:pt x="255" y="73"/>
                      </a:lnTo>
                      <a:lnTo>
                        <a:pt x="268" y="67"/>
                      </a:lnTo>
                      <a:lnTo>
                        <a:pt x="281" y="64"/>
                      </a:lnTo>
                      <a:lnTo>
                        <a:pt x="290" y="57"/>
                      </a:lnTo>
                      <a:lnTo>
                        <a:pt x="303" y="54"/>
                      </a:lnTo>
                      <a:lnTo>
                        <a:pt x="316" y="48"/>
                      </a:lnTo>
                      <a:lnTo>
                        <a:pt x="325" y="45"/>
                      </a:lnTo>
                      <a:lnTo>
                        <a:pt x="338" y="38"/>
                      </a:lnTo>
                      <a:lnTo>
                        <a:pt x="348" y="32"/>
                      </a:lnTo>
                      <a:lnTo>
                        <a:pt x="360" y="29"/>
                      </a:lnTo>
                      <a:lnTo>
                        <a:pt x="370" y="22"/>
                      </a:lnTo>
                      <a:lnTo>
                        <a:pt x="380" y="16"/>
                      </a:lnTo>
                      <a:close/>
                    </a:path>
                  </a:pathLst>
                </a:custGeom>
                <a:solidFill>
                  <a:srgbClr val="a1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907760" y="3501720"/>
                  <a:ext cx="321120" cy="135360"/>
                </a:xfrm>
                <a:custGeom>
                  <a:avLst/>
                  <a:gdLst/>
                  <a:ahLst/>
                  <a:rect l="l" t="t" r="r" b="b"/>
                  <a:pathLst>
                    <a:path w="377" h="150">
                      <a:moveTo>
                        <a:pt x="377" y="16"/>
                      </a:moveTo>
                      <a:lnTo>
                        <a:pt x="377" y="13"/>
                      </a:lnTo>
                      <a:lnTo>
                        <a:pt x="373" y="10"/>
                      </a:lnTo>
                      <a:lnTo>
                        <a:pt x="373" y="10"/>
                      </a:lnTo>
                      <a:lnTo>
                        <a:pt x="370" y="6"/>
                      </a:lnTo>
                      <a:lnTo>
                        <a:pt x="367" y="6"/>
                      </a:lnTo>
                      <a:lnTo>
                        <a:pt x="364" y="3"/>
                      </a:lnTo>
                      <a:lnTo>
                        <a:pt x="361" y="3"/>
                      </a:lnTo>
                      <a:lnTo>
                        <a:pt x="357" y="0"/>
                      </a:lnTo>
                      <a:lnTo>
                        <a:pt x="348" y="6"/>
                      </a:lnTo>
                      <a:lnTo>
                        <a:pt x="338" y="13"/>
                      </a:lnTo>
                      <a:lnTo>
                        <a:pt x="329" y="16"/>
                      </a:lnTo>
                      <a:lnTo>
                        <a:pt x="319" y="22"/>
                      </a:lnTo>
                      <a:lnTo>
                        <a:pt x="306" y="25"/>
                      </a:lnTo>
                      <a:lnTo>
                        <a:pt x="297" y="29"/>
                      </a:lnTo>
                      <a:lnTo>
                        <a:pt x="287" y="35"/>
                      </a:lnTo>
                      <a:lnTo>
                        <a:pt x="278" y="38"/>
                      </a:lnTo>
                      <a:lnTo>
                        <a:pt x="265" y="45"/>
                      </a:lnTo>
                      <a:lnTo>
                        <a:pt x="255" y="48"/>
                      </a:lnTo>
                      <a:lnTo>
                        <a:pt x="243" y="54"/>
                      </a:lnTo>
                      <a:lnTo>
                        <a:pt x="233" y="57"/>
                      </a:lnTo>
                      <a:lnTo>
                        <a:pt x="220" y="61"/>
                      </a:lnTo>
                      <a:lnTo>
                        <a:pt x="211" y="64"/>
                      </a:lnTo>
                      <a:lnTo>
                        <a:pt x="201" y="70"/>
                      </a:lnTo>
                      <a:lnTo>
                        <a:pt x="189" y="73"/>
                      </a:lnTo>
                      <a:lnTo>
                        <a:pt x="176" y="77"/>
                      </a:lnTo>
                      <a:lnTo>
                        <a:pt x="166" y="83"/>
                      </a:lnTo>
                      <a:lnTo>
                        <a:pt x="153" y="86"/>
                      </a:lnTo>
                      <a:lnTo>
                        <a:pt x="144" y="89"/>
                      </a:lnTo>
                      <a:lnTo>
                        <a:pt x="131" y="92"/>
                      </a:lnTo>
                      <a:lnTo>
                        <a:pt x="118" y="96"/>
                      </a:lnTo>
                      <a:lnTo>
                        <a:pt x="109" y="102"/>
                      </a:lnTo>
                      <a:lnTo>
                        <a:pt x="96" y="105"/>
                      </a:lnTo>
                      <a:lnTo>
                        <a:pt x="83" y="108"/>
                      </a:lnTo>
                      <a:lnTo>
                        <a:pt x="74" y="112"/>
                      </a:lnTo>
                      <a:lnTo>
                        <a:pt x="61" y="115"/>
                      </a:lnTo>
                      <a:lnTo>
                        <a:pt x="48" y="118"/>
                      </a:lnTo>
                      <a:lnTo>
                        <a:pt x="36" y="121"/>
                      </a:lnTo>
                      <a:lnTo>
                        <a:pt x="23" y="128"/>
                      </a:lnTo>
                      <a:lnTo>
                        <a:pt x="13" y="131"/>
                      </a:lnTo>
                      <a:lnTo>
                        <a:pt x="0" y="134"/>
                      </a:lnTo>
                      <a:lnTo>
                        <a:pt x="0" y="137"/>
                      </a:lnTo>
                      <a:lnTo>
                        <a:pt x="0" y="143"/>
                      </a:lnTo>
                      <a:lnTo>
                        <a:pt x="0" y="147"/>
                      </a:lnTo>
                      <a:lnTo>
                        <a:pt x="0" y="150"/>
                      </a:lnTo>
                      <a:lnTo>
                        <a:pt x="13" y="147"/>
                      </a:lnTo>
                      <a:lnTo>
                        <a:pt x="26" y="143"/>
                      </a:lnTo>
                      <a:lnTo>
                        <a:pt x="36" y="140"/>
                      </a:lnTo>
                      <a:lnTo>
                        <a:pt x="48" y="137"/>
                      </a:lnTo>
                      <a:lnTo>
                        <a:pt x="61" y="134"/>
                      </a:lnTo>
                      <a:lnTo>
                        <a:pt x="74" y="131"/>
                      </a:lnTo>
                      <a:lnTo>
                        <a:pt x="83" y="128"/>
                      </a:lnTo>
                      <a:lnTo>
                        <a:pt x="96" y="124"/>
                      </a:lnTo>
                      <a:lnTo>
                        <a:pt x="109" y="121"/>
                      </a:lnTo>
                      <a:lnTo>
                        <a:pt x="122" y="118"/>
                      </a:lnTo>
                      <a:lnTo>
                        <a:pt x="134" y="115"/>
                      </a:lnTo>
                      <a:lnTo>
                        <a:pt x="144" y="108"/>
                      </a:lnTo>
                      <a:lnTo>
                        <a:pt x="157" y="105"/>
                      </a:lnTo>
                      <a:lnTo>
                        <a:pt x="169" y="102"/>
                      </a:lnTo>
                      <a:lnTo>
                        <a:pt x="182" y="99"/>
                      </a:lnTo>
                      <a:lnTo>
                        <a:pt x="192" y="96"/>
                      </a:lnTo>
                      <a:lnTo>
                        <a:pt x="204" y="89"/>
                      </a:lnTo>
                      <a:lnTo>
                        <a:pt x="217" y="86"/>
                      </a:lnTo>
                      <a:lnTo>
                        <a:pt x="230" y="83"/>
                      </a:lnTo>
                      <a:lnTo>
                        <a:pt x="240" y="77"/>
                      </a:lnTo>
                      <a:lnTo>
                        <a:pt x="252" y="73"/>
                      </a:lnTo>
                      <a:lnTo>
                        <a:pt x="265" y="67"/>
                      </a:lnTo>
                      <a:lnTo>
                        <a:pt x="275" y="64"/>
                      </a:lnTo>
                      <a:lnTo>
                        <a:pt x="287" y="61"/>
                      </a:lnTo>
                      <a:lnTo>
                        <a:pt x="300" y="54"/>
                      </a:lnTo>
                      <a:lnTo>
                        <a:pt x="310" y="48"/>
                      </a:lnTo>
                      <a:lnTo>
                        <a:pt x="322" y="45"/>
                      </a:lnTo>
                      <a:lnTo>
                        <a:pt x="332" y="38"/>
                      </a:lnTo>
                      <a:lnTo>
                        <a:pt x="345" y="32"/>
                      </a:lnTo>
                      <a:lnTo>
                        <a:pt x="354" y="29"/>
                      </a:lnTo>
                      <a:lnTo>
                        <a:pt x="367" y="22"/>
                      </a:lnTo>
                      <a:lnTo>
                        <a:pt x="377" y="16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889040" y="3450240"/>
                  <a:ext cx="309960" cy="120960"/>
                </a:xfrm>
                <a:custGeom>
                  <a:avLst/>
                  <a:gdLst/>
                  <a:ahLst/>
                  <a:rect l="l" t="t" r="r" b="b"/>
                  <a:pathLst>
                    <a:path w="364" h="134">
                      <a:moveTo>
                        <a:pt x="0" y="124"/>
                      </a:moveTo>
                      <a:lnTo>
                        <a:pt x="7" y="121"/>
                      </a:lnTo>
                      <a:lnTo>
                        <a:pt x="19" y="121"/>
                      </a:lnTo>
                      <a:lnTo>
                        <a:pt x="29" y="118"/>
                      </a:lnTo>
                      <a:lnTo>
                        <a:pt x="38" y="114"/>
                      </a:lnTo>
                      <a:lnTo>
                        <a:pt x="51" y="111"/>
                      </a:lnTo>
                      <a:lnTo>
                        <a:pt x="61" y="111"/>
                      </a:lnTo>
                      <a:lnTo>
                        <a:pt x="73" y="108"/>
                      </a:lnTo>
                      <a:lnTo>
                        <a:pt x="86" y="105"/>
                      </a:lnTo>
                      <a:lnTo>
                        <a:pt x="99" y="102"/>
                      </a:lnTo>
                      <a:lnTo>
                        <a:pt x="112" y="95"/>
                      </a:lnTo>
                      <a:lnTo>
                        <a:pt x="124" y="92"/>
                      </a:lnTo>
                      <a:lnTo>
                        <a:pt x="137" y="89"/>
                      </a:lnTo>
                      <a:lnTo>
                        <a:pt x="153" y="86"/>
                      </a:lnTo>
                      <a:lnTo>
                        <a:pt x="166" y="79"/>
                      </a:lnTo>
                      <a:lnTo>
                        <a:pt x="179" y="76"/>
                      </a:lnTo>
                      <a:lnTo>
                        <a:pt x="191" y="73"/>
                      </a:lnTo>
                      <a:lnTo>
                        <a:pt x="204" y="67"/>
                      </a:lnTo>
                      <a:lnTo>
                        <a:pt x="220" y="63"/>
                      </a:lnTo>
                      <a:lnTo>
                        <a:pt x="233" y="57"/>
                      </a:lnTo>
                      <a:lnTo>
                        <a:pt x="246" y="54"/>
                      </a:lnTo>
                      <a:lnTo>
                        <a:pt x="255" y="51"/>
                      </a:lnTo>
                      <a:lnTo>
                        <a:pt x="268" y="44"/>
                      </a:lnTo>
                      <a:lnTo>
                        <a:pt x="281" y="41"/>
                      </a:lnTo>
                      <a:lnTo>
                        <a:pt x="293" y="35"/>
                      </a:lnTo>
                      <a:lnTo>
                        <a:pt x="303" y="31"/>
                      </a:lnTo>
                      <a:lnTo>
                        <a:pt x="313" y="25"/>
                      </a:lnTo>
                      <a:lnTo>
                        <a:pt x="322" y="22"/>
                      </a:lnTo>
                      <a:lnTo>
                        <a:pt x="332" y="16"/>
                      </a:lnTo>
                      <a:lnTo>
                        <a:pt x="341" y="12"/>
                      </a:lnTo>
                      <a:lnTo>
                        <a:pt x="351" y="6"/>
                      </a:lnTo>
                      <a:lnTo>
                        <a:pt x="357" y="3"/>
                      </a:lnTo>
                      <a:lnTo>
                        <a:pt x="364" y="0"/>
                      </a:lnTo>
                      <a:lnTo>
                        <a:pt x="360" y="3"/>
                      </a:lnTo>
                      <a:lnTo>
                        <a:pt x="354" y="6"/>
                      </a:lnTo>
                      <a:lnTo>
                        <a:pt x="348" y="9"/>
                      </a:lnTo>
                      <a:lnTo>
                        <a:pt x="341" y="16"/>
                      </a:lnTo>
                      <a:lnTo>
                        <a:pt x="332" y="22"/>
                      </a:lnTo>
                      <a:lnTo>
                        <a:pt x="325" y="25"/>
                      </a:lnTo>
                      <a:lnTo>
                        <a:pt x="319" y="28"/>
                      </a:lnTo>
                      <a:lnTo>
                        <a:pt x="316" y="31"/>
                      </a:lnTo>
                      <a:lnTo>
                        <a:pt x="313" y="35"/>
                      </a:lnTo>
                      <a:lnTo>
                        <a:pt x="309" y="35"/>
                      </a:lnTo>
                      <a:lnTo>
                        <a:pt x="303" y="38"/>
                      </a:lnTo>
                      <a:lnTo>
                        <a:pt x="297" y="41"/>
                      </a:lnTo>
                      <a:lnTo>
                        <a:pt x="290" y="44"/>
                      </a:lnTo>
                      <a:lnTo>
                        <a:pt x="284" y="47"/>
                      </a:lnTo>
                      <a:lnTo>
                        <a:pt x="277" y="51"/>
                      </a:lnTo>
                      <a:lnTo>
                        <a:pt x="268" y="54"/>
                      </a:lnTo>
                      <a:lnTo>
                        <a:pt x="262" y="57"/>
                      </a:lnTo>
                      <a:lnTo>
                        <a:pt x="252" y="60"/>
                      </a:lnTo>
                      <a:lnTo>
                        <a:pt x="242" y="63"/>
                      </a:lnTo>
                      <a:lnTo>
                        <a:pt x="233" y="67"/>
                      </a:lnTo>
                      <a:lnTo>
                        <a:pt x="220" y="70"/>
                      </a:lnTo>
                      <a:lnTo>
                        <a:pt x="211" y="73"/>
                      </a:lnTo>
                      <a:lnTo>
                        <a:pt x="201" y="76"/>
                      </a:lnTo>
                      <a:lnTo>
                        <a:pt x="188" y="79"/>
                      </a:lnTo>
                      <a:lnTo>
                        <a:pt x="179" y="86"/>
                      </a:lnTo>
                      <a:lnTo>
                        <a:pt x="166" y="89"/>
                      </a:lnTo>
                      <a:lnTo>
                        <a:pt x="153" y="92"/>
                      </a:lnTo>
                      <a:lnTo>
                        <a:pt x="140" y="95"/>
                      </a:lnTo>
                      <a:lnTo>
                        <a:pt x="131" y="98"/>
                      </a:lnTo>
                      <a:lnTo>
                        <a:pt x="118" y="102"/>
                      </a:lnTo>
                      <a:lnTo>
                        <a:pt x="105" y="105"/>
                      </a:lnTo>
                      <a:lnTo>
                        <a:pt x="93" y="108"/>
                      </a:lnTo>
                      <a:lnTo>
                        <a:pt x="80" y="111"/>
                      </a:lnTo>
                      <a:lnTo>
                        <a:pt x="70" y="114"/>
                      </a:lnTo>
                      <a:lnTo>
                        <a:pt x="58" y="118"/>
                      </a:lnTo>
                      <a:lnTo>
                        <a:pt x="45" y="121"/>
                      </a:lnTo>
                      <a:lnTo>
                        <a:pt x="35" y="124"/>
                      </a:lnTo>
                      <a:lnTo>
                        <a:pt x="22" y="127"/>
                      </a:lnTo>
                      <a:lnTo>
                        <a:pt x="10" y="130"/>
                      </a:lnTo>
                      <a:lnTo>
                        <a:pt x="0" y="13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d1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362360" y="3184560"/>
                  <a:ext cx="830880" cy="239040"/>
                </a:xfrm>
                <a:custGeom>
                  <a:avLst/>
                  <a:gdLst/>
                  <a:ahLst/>
                  <a:rect l="l" t="t" r="r" b="b"/>
                  <a:pathLst>
                    <a:path w="975" h="265">
                      <a:moveTo>
                        <a:pt x="975" y="163"/>
                      </a:moveTo>
                      <a:lnTo>
                        <a:pt x="975" y="166"/>
                      </a:lnTo>
                      <a:lnTo>
                        <a:pt x="972" y="169"/>
                      </a:lnTo>
                      <a:lnTo>
                        <a:pt x="969" y="172"/>
                      </a:lnTo>
                      <a:lnTo>
                        <a:pt x="966" y="172"/>
                      </a:lnTo>
                      <a:lnTo>
                        <a:pt x="962" y="176"/>
                      </a:lnTo>
                      <a:lnTo>
                        <a:pt x="959" y="179"/>
                      </a:lnTo>
                      <a:lnTo>
                        <a:pt x="956" y="179"/>
                      </a:lnTo>
                      <a:lnTo>
                        <a:pt x="953" y="182"/>
                      </a:lnTo>
                      <a:lnTo>
                        <a:pt x="950" y="182"/>
                      </a:lnTo>
                      <a:lnTo>
                        <a:pt x="943" y="185"/>
                      </a:lnTo>
                      <a:lnTo>
                        <a:pt x="940" y="185"/>
                      </a:lnTo>
                      <a:lnTo>
                        <a:pt x="937" y="188"/>
                      </a:lnTo>
                      <a:lnTo>
                        <a:pt x="931" y="188"/>
                      </a:lnTo>
                      <a:lnTo>
                        <a:pt x="927" y="188"/>
                      </a:lnTo>
                      <a:lnTo>
                        <a:pt x="924" y="192"/>
                      </a:lnTo>
                      <a:lnTo>
                        <a:pt x="921" y="192"/>
                      </a:lnTo>
                      <a:lnTo>
                        <a:pt x="911" y="195"/>
                      </a:lnTo>
                      <a:lnTo>
                        <a:pt x="902" y="198"/>
                      </a:lnTo>
                      <a:lnTo>
                        <a:pt x="889" y="201"/>
                      </a:lnTo>
                      <a:lnTo>
                        <a:pt x="880" y="207"/>
                      </a:lnTo>
                      <a:lnTo>
                        <a:pt x="870" y="211"/>
                      </a:lnTo>
                      <a:lnTo>
                        <a:pt x="860" y="214"/>
                      </a:lnTo>
                      <a:lnTo>
                        <a:pt x="851" y="217"/>
                      </a:lnTo>
                      <a:lnTo>
                        <a:pt x="841" y="220"/>
                      </a:lnTo>
                      <a:lnTo>
                        <a:pt x="829" y="223"/>
                      </a:lnTo>
                      <a:lnTo>
                        <a:pt x="819" y="230"/>
                      </a:lnTo>
                      <a:lnTo>
                        <a:pt x="809" y="233"/>
                      </a:lnTo>
                      <a:lnTo>
                        <a:pt x="800" y="236"/>
                      </a:lnTo>
                      <a:lnTo>
                        <a:pt x="790" y="239"/>
                      </a:lnTo>
                      <a:lnTo>
                        <a:pt x="778" y="243"/>
                      </a:lnTo>
                      <a:lnTo>
                        <a:pt x="768" y="246"/>
                      </a:lnTo>
                      <a:lnTo>
                        <a:pt x="758" y="246"/>
                      </a:lnTo>
                      <a:lnTo>
                        <a:pt x="749" y="249"/>
                      </a:lnTo>
                      <a:lnTo>
                        <a:pt x="742" y="252"/>
                      </a:lnTo>
                      <a:lnTo>
                        <a:pt x="733" y="252"/>
                      </a:lnTo>
                      <a:lnTo>
                        <a:pt x="727" y="255"/>
                      </a:lnTo>
                      <a:lnTo>
                        <a:pt x="720" y="255"/>
                      </a:lnTo>
                      <a:lnTo>
                        <a:pt x="711" y="259"/>
                      </a:lnTo>
                      <a:lnTo>
                        <a:pt x="704" y="259"/>
                      </a:lnTo>
                      <a:lnTo>
                        <a:pt x="695" y="259"/>
                      </a:lnTo>
                      <a:lnTo>
                        <a:pt x="688" y="259"/>
                      </a:lnTo>
                      <a:lnTo>
                        <a:pt x="679" y="262"/>
                      </a:lnTo>
                      <a:lnTo>
                        <a:pt x="672" y="262"/>
                      </a:lnTo>
                      <a:lnTo>
                        <a:pt x="663" y="262"/>
                      </a:lnTo>
                      <a:lnTo>
                        <a:pt x="656" y="262"/>
                      </a:lnTo>
                      <a:lnTo>
                        <a:pt x="647" y="262"/>
                      </a:lnTo>
                      <a:lnTo>
                        <a:pt x="640" y="265"/>
                      </a:lnTo>
                      <a:lnTo>
                        <a:pt x="631" y="265"/>
                      </a:lnTo>
                      <a:lnTo>
                        <a:pt x="625" y="265"/>
                      </a:lnTo>
                      <a:lnTo>
                        <a:pt x="618" y="262"/>
                      </a:lnTo>
                      <a:lnTo>
                        <a:pt x="612" y="262"/>
                      </a:lnTo>
                      <a:lnTo>
                        <a:pt x="605" y="262"/>
                      </a:lnTo>
                      <a:lnTo>
                        <a:pt x="599" y="262"/>
                      </a:lnTo>
                      <a:lnTo>
                        <a:pt x="593" y="262"/>
                      </a:lnTo>
                      <a:lnTo>
                        <a:pt x="586" y="259"/>
                      </a:lnTo>
                      <a:lnTo>
                        <a:pt x="580" y="259"/>
                      </a:lnTo>
                      <a:lnTo>
                        <a:pt x="570" y="259"/>
                      </a:lnTo>
                      <a:lnTo>
                        <a:pt x="564" y="255"/>
                      </a:lnTo>
                      <a:lnTo>
                        <a:pt x="558" y="255"/>
                      </a:lnTo>
                      <a:lnTo>
                        <a:pt x="551" y="252"/>
                      </a:lnTo>
                      <a:lnTo>
                        <a:pt x="545" y="252"/>
                      </a:lnTo>
                      <a:lnTo>
                        <a:pt x="538" y="249"/>
                      </a:lnTo>
                      <a:lnTo>
                        <a:pt x="532" y="249"/>
                      </a:lnTo>
                      <a:lnTo>
                        <a:pt x="526" y="246"/>
                      </a:lnTo>
                      <a:lnTo>
                        <a:pt x="516" y="243"/>
                      </a:lnTo>
                      <a:lnTo>
                        <a:pt x="503" y="236"/>
                      </a:lnTo>
                      <a:lnTo>
                        <a:pt x="491" y="233"/>
                      </a:lnTo>
                      <a:lnTo>
                        <a:pt x="481" y="227"/>
                      </a:lnTo>
                      <a:lnTo>
                        <a:pt x="468" y="223"/>
                      </a:lnTo>
                      <a:lnTo>
                        <a:pt x="459" y="217"/>
                      </a:lnTo>
                      <a:lnTo>
                        <a:pt x="446" y="211"/>
                      </a:lnTo>
                      <a:lnTo>
                        <a:pt x="436" y="207"/>
                      </a:lnTo>
                      <a:lnTo>
                        <a:pt x="427" y="201"/>
                      </a:lnTo>
                      <a:lnTo>
                        <a:pt x="414" y="195"/>
                      </a:lnTo>
                      <a:lnTo>
                        <a:pt x="405" y="188"/>
                      </a:lnTo>
                      <a:lnTo>
                        <a:pt x="392" y="185"/>
                      </a:lnTo>
                      <a:lnTo>
                        <a:pt x="382" y="179"/>
                      </a:lnTo>
                      <a:lnTo>
                        <a:pt x="369" y="172"/>
                      </a:lnTo>
                      <a:lnTo>
                        <a:pt x="360" y="166"/>
                      </a:lnTo>
                      <a:lnTo>
                        <a:pt x="350" y="163"/>
                      </a:lnTo>
                      <a:lnTo>
                        <a:pt x="338" y="156"/>
                      </a:lnTo>
                      <a:lnTo>
                        <a:pt x="325" y="150"/>
                      </a:lnTo>
                      <a:lnTo>
                        <a:pt x="312" y="144"/>
                      </a:lnTo>
                      <a:lnTo>
                        <a:pt x="303" y="137"/>
                      </a:lnTo>
                      <a:lnTo>
                        <a:pt x="290" y="131"/>
                      </a:lnTo>
                      <a:lnTo>
                        <a:pt x="280" y="125"/>
                      </a:lnTo>
                      <a:lnTo>
                        <a:pt x="267" y="118"/>
                      </a:lnTo>
                      <a:lnTo>
                        <a:pt x="255" y="112"/>
                      </a:lnTo>
                      <a:lnTo>
                        <a:pt x="245" y="105"/>
                      </a:lnTo>
                      <a:lnTo>
                        <a:pt x="232" y="99"/>
                      </a:lnTo>
                      <a:lnTo>
                        <a:pt x="220" y="93"/>
                      </a:lnTo>
                      <a:lnTo>
                        <a:pt x="207" y="86"/>
                      </a:lnTo>
                      <a:lnTo>
                        <a:pt x="197" y="80"/>
                      </a:lnTo>
                      <a:lnTo>
                        <a:pt x="185" y="74"/>
                      </a:lnTo>
                      <a:lnTo>
                        <a:pt x="172" y="67"/>
                      </a:lnTo>
                      <a:lnTo>
                        <a:pt x="159" y="61"/>
                      </a:lnTo>
                      <a:lnTo>
                        <a:pt x="150" y="58"/>
                      </a:lnTo>
                      <a:lnTo>
                        <a:pt x="140" y="54"/>
                      </a:lnTo>
                      <a:lnTo>
                        <a:pt x="130" y="51"/>
                      </a:lnTo>
                      <a:lnTo>
                        <a:pt x="121" y="48"/>
                      </a:lnTo>
                      <a:lnTo>
                        <a:pt x="111" y="48"/>
                      </a:lnTo>
                      <a:lnTo>
                        <a:pt x="102" y="45"/>
                      </a:lnTo>
                      <a:lnTo>
                        <a:pt x="89" y="42"/>
                      </a:lnTo>
                      <a:lnTo>
                        <a:pt x="79" y="38"/>
                      </a:lnTo>
                      <a:lnTo>
                        <a:pt x="70" y="38"/>
                      </a:lnTo>
                      <a:lnTo>
                        <a:pt x="60" y="35"/>
                      </a:lnTo>
                      <a:lnTo>
                        <a:pt x="51" y="32"/>
                      </a:lnTo>
                      <a:lnTo>
                        <a:pt x="41" y="29"/>
                      </a:lnTo>
                      <a:lnTo>
                        <a:pt x="32" y="26"/>
                      </a:lnTo>
                      <a:lnTo>
                        <a:pt x="22" y="19"/>
                      </a:lnTo>
                      <a:lnTo>
                        <a:pt x="12" y="16"/>
                      </a:lnTo>
                      <a:lnTo>
                        <a:pt x="6" y="10"/>
                      </a:lnTo>
                      <a:lnTo>
                        <a:pt x="3" y="7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9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8" y="3"/>
                      </a:lnTo>
                      <a:lnTo>
                        <a:pt x="38" y="3"/>
                      </a:lnTo>
                      <a:lnTo>
                        <a:pt x="48" y="3"/>
                      </a:lnTo>
                      <a:lnTo>
                        <a:pt x="54" y="3"/>
                      </a:lnTo>
                      <a:lnTo>
                        <a:pt x="63" y="7"/>
                      </a:lnTo>
                      <a:lnTo>
                        <a:pt x="73" y="7"/>
                      </a:lnTo>
                      <a:lnTo>
                        <a:pt x="79" y="7"/>
                      </a:lnTo>
                      <a:lnTo>
                        <a:pt x="86" y="10"/>
                      </a:lnTo>
                      <a:lnTo>
                        <a:pt x="92" y="10"/>
                      </a:lnTo>
                      <a:lnTo>
                        <a:pt x="102" y="10"/>
                      </a:lnTo>
                      <a:lnTo>
                        <a:pt x="108" y="13"/>
                      </a:lnTo>
                      <a:lnTo>
                        <a:pt x="118" y="13"/>
                      </a:lnTo>
                      <a:lnTo>
                        <a:pt x="124" y="16"/>
                      </a:lnTo>
                      <a:lnTo>
                        <a:pt x="134" y="16"/>
                      </a:lnTo>
                      <a:lnTo>
                        <a:pt x="140" y="19"/>
                      </a:lnTo>
                      <a:lnTo>
                        <a:pt x="150" y="19"/>
                      </a:lnTo>
                      <a:lnTo>
                        <a:pt x="156" y="23"/>
                      </a:lnTo>
                      <a:lnTo>
                        <a:pt x="165" y="26"/>
                      </a:lnTo>
                      <a:lnTo>
                        <a:pt x="172" y="26"/>
                      </a:lnTo>
                      <a:lnTo>
                        <a:pt x="181" y="29"/>
                      </a:lnTo>
                      <a:lnTo>
                        <a:pt x="188" y="32"/>
                      </a:lnTo>
                      <a:lnTo>
                        <a:pt x="197" y="32"/>
                      </a:lnTo>
                      <a:lnTo>
                        <a:pt x="204" y="35"/>
                      </a:lnTo>
                      <a:lnTo>
                        <a:pt x="213" y="38"/>
                      </a:lnTo>
                      <a:lnTo>
                        <a:pt x="220" y="38"/>
                      </a:lnTo>
                      <a:lnTo>
                        <a:pt x="232" y="45"/>
                      </a:lnTo>
                      <a:lnTo>
                        <a:pt x="245" y="48"/>
                      </a:lnTo>
                      <a:lnTo>
                        <a:pt x="258" y="51"/>
                      </a:lnTo>
                      <a:lnTo>
                        <a:pt x="271" y="54"/>
                      </a:lnTo>
                      <a:lnTo>
                        <a:pt x="280" y="61"/>
                      </a:lnTo>
                      <a:lnTo>
                        <a:pt x="293" y="64"/>
                      </a:lnTo>
                      <a:lnTo>
                        <a:pt x="306" y="67"/>
                      </a:lnTo>
                      <a:lnTo>
                        <a:pt x="318" y="74"/>
                      </a:lnTo>
                      <a:lnTo>
                        <a:pt x="328" y="77"/>
                      </a:lnTo>
                      <a:lnTo>
                        <a:pt x="341" y="80"/>
                      </a:lnTo>
                      <a:lnTo>
                        <a:pt x="354" y="86"/>
                      </a:lnTo>
                      <a:lnTo>
                        <a:pt x="366" y="89"/>
                      </a:lnTo>
                      <a:lnTo>
                        <a:pt x="379" y="93"/>
                      </a:lnTo>
                      <a:lnTo>
                        <a:pt x="389" y="96"/>
                      </a:lnTo>
                      <a:lnTo>
                        <a:pt x="401" y="102"/>
                      </a:lnTo>
                      <a:lnTo>
                        <a:pt x="414" y="105"/>
                      </a:lnTo>
                      <a:lnTo>
                        <a:pt x="424" y="109"/>
                      </a:lnTo>
                      <a:lnTo>
                        <a:pt x="436" y="112"/>
                      </a:lnTo>
                      <a:lnTo>
                        <a:pt x="446" y="115"/>
                      </a:lnTo>
                      <a:lnTo>
                        <a:pt x="459" y="118"/>
                      </a:lnTo>
                      <a:lnTo>
                        <a:pt x="468" y="121"/>
                      </a:lnTo>
                      <a:lnTo>
                        <a:pt x="478" y="125"/>
                      </a:lnTo>
                      <a:lnTo>
                        <a:pt x="491" y="128"/>
                      </a:lnTo>
                      <a:lnTo>
                        <a:pt x="500" y="131"/>
                      </a:lnTo>
                      <a:lnTo>
                        <a:pt x="513" y="134"/>
                      </a:lnTo>
                      <a:lnTo>
                        <a:pt x="523" y="137"/>
                      </a:lnTo>
                      <a:lnTo>
                        <a:pt x="535" y="141"/>
                      </a:lnTo>
                      <a:lnTo>
                        <a:pt x="545" y="144"/>
                      </a:lnTo>
                      <a:lnTo>
                        <a:pt x="558" y="144"/>
                      </a:lnTo>
                      <a:lnTo>
                        <a:pt x="567" y="147"/>
                      </a:lnTo>
                      <a:lnTo>
                        <a:pt x="580" y="147"/>
                      </a:lnTo>
                      <a:lnTo>
                        <a:pt x="589" y="150"/>
                      </a:lnTo>
                      <a:lnTo>
                        <a:pt x="602" y="150"/>
                      </a:lnTo>
                      <a:lnTo>
                        <a:pt x="612" y="150"/>
                      </a:lnTo>
                      <a:lnTo>
                        <a:pt x="621" y="153"/>
                      </a:lnTo>
                      <a:lnTo>
                        <a:pt x="634" y="153"/>
                      </a:lnTo>
                      <a:lnTo>
                        <a:pt x="644" y="153"/>
                      </a:lnTo>
                      <a:lnTo>
                        <a:pt x="653" y="153"/>
                      </a:lnTo>
                      <a:lnTo>
                        <a:pt x="666" y="153"/>
                      </a:lnTo>
                      <a:lnTo>
                        <a:pt x="676" y="150"/>
                      </a:lnTo>
                      <a:lnTo>
                        <a:pt x="685" y="150"/>
                      </a:lnTo>
                      <a:lnTo>
                        <a:pt x="698" y="150"/>
                      </a:lnTo>
                      <a:lnTo>
                        <a:pt x="707" y="150"/>
                      </a:lnTo>
                      <a:lnTo>
                        <a:pt x="720" y="150"/>
                      </a:lnTo>
                      <a:lnTo>
                        <a:pt x="730" y="150"/>
                      </a:lnTo>
                      <a:lnTo>
                        <a:pt x="739" y="150"/>
                      </a:lnTo>
                      <a:lnTo>
                        <a:pt x="752" y="150"/>
                      </a:lnTo>
                      <a:lnTo>
                        <a:pt x="762" y="150"/>
                      </a:lnTo>
                      <a:lnTo>
                        <a:pt x="771" y="150"/>
                      </a:lnTo>
                      <a:lnTo>
                        <a:pt x="784" y="150"/>
                      </a:lnTo>
                      <a:lnTo>
                        <a:pt x="793" y="150"/>
                      </a:lnTo>
                      <a:lnTo>
                        <a:pt x="806" y="150"/>
                      </a:lnTo>
                      <a:lnTo>
                        <a:pt x="816" y="150"/>
                      </a:lnTo>
                      <a:lnTo>
                        <a:pt x="825" y="150"/>
                      </a:lnTo>
                      <a:lnTo>
                        <a:pt x="838" y="150"/>
                      </a:lnTo>
                      <a:lnTo>
                        <a:pt x="848" y="150"/>
                      </a:lnTo>
                      <a:lnTo>
                        <a:pt x="857" y="150"/>
                      </a:lnTo>
                      <a:lnTo>
                        <a:pt x="870" y="153"/>
                      </a:lnTo>
                      <a:lnTo>
                        <a:pt x="880" y="153"/>
                      </a:lnTo>
                      <a:lnTo>
                        <a:pt x="889" y="153"/>
                      </a:lnTo>
                      <a:lnTo>
                        <a:pt x="902" y="153"/>
                      </a:lnTo>
                      <a:lnTo>
                        <a:pt x="911" y="156"/>
                      </a:lnTo>
                      <a:lnTo>
                        <a:pt x="924" y="156"/>
                      </a:lnTo>
                      <a:lnTo>
                        <a:pt x="934" y="156"/>
                      </a:lnTo>
                      <a:lnTo>
                        <a:pt x="940" y="156"/>
                      </a:lnTo>
                      <a:lnTo>
                        <a:pt x="946" y="156"/>
                      </a:lnTo>
                      <a:lnTo>
                        <a:pt x="956" y="156"/>
                      </a:lnTo>
                      <a:lnTo>
                        <a:pt x="962" y="156"/>
                      </a:lnTo>
                      <a:lnTo>
                        <a:pt x="969" y="156"/>
                      </a:lnTo>
                      <a:lnTo>
                        <a:pt x="972" y="156"/>
                      </a:lnTo>
                      <a:lnTo>
                        <a:pt x="975" y="160"/>
                      </a:lnTo>
                      <a:lnTo>
                        <a:pt x="975" y="163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381080" y="3191040"/>
                  <a:ext cx="812160" cy="223560"/>
                </a:xfrm>
                <a:custGeom>
                  <a:avLst/>
                  <a:gdLst/>
                  <a:ahLst/>
                  <a:rect l="l" t="t" r="r" b="b"/>
                  <a:pathLst>
                    <a:path w="953" h="248">
                      <a:moveTo>
                        <a:pt x="950" y="156"/>
                      </a:moveTo>
                      <a:lnTo>
                        <a:pt x="947" y="162"/>
                      </a:lnTo>
                      <a:lnTo>
                        <a:pt x="944" y="169"/>
                      </a:lnTo>
                      <a:lnTo>
                        <a:pt x="937" y="172"/>
                      </a:lnTo>
                      <a:lnTo>
                        <a:pt x="931" y="175"/>
                      </a:lnTo>
                      <a:lnTo>
                        <a:pt x="921" y="175"/>
                      </a:lnTo>
                      <a:lnTo>
                        <a:pt x="915" y="178"/>
                      </a:lnTo>
                      <a:lnTo>
                        <a:pt x="905" y="181"/>
                      </a:lnTo>
                      <a:lnTo>
                        <a:pt x="899" y="181"/>
                      </a:lnTo>
                      <a:lnTo>
                        <a:pt x="889" y="185"/>
                      </a:lnTo>
                      <a:lnTo>
                        <a:pt x="880" y="188"/>
                      </a:lnTo>
                      <a:lnTo>
                        <a:pt x="870" y="194"/>
                      </a:lnTo>
                      <a:lnTo>
                        <a:pt x="858" y="197"/>
                      </a:lnTo>
                      <a:lnTo>
                        <a:pt x="848" y="200"/>
                      </a:lnTo>
                      <a:lnTo>
                        <a:pt x="838" y="204"/>
                      </a:lnTo>
                      <a:lnTo>
                        <a:pt x="829" y="207"/>
                      </a:lnTo>
                      <a:lnTo>
                        <a:pt x="819" y="210"/>
                      </a:lnTo>
                      <a:lnTo>
                        <a:pt x="810" y="213"/>
                      </a:lnTo>
                      <a:lnTo>
                        <a:pt x="797" y="220"/>
                      </a:lnTo>
                      <a:lnTo>
                        <a:pt x="787" y="223"/>
                      </a:lnTo>
                      <a:lnTo>
                        <a:pt x="778" y="226"/>
                      </a:lnTo>
                      <a:lnTo>
                        <a:pt x="768" y="229"/>
                      </a:lnTo>
                      <a:lnTo>
                        <a:pt x="756" y="232"/>
                      </a:lnTo>
                      <a:lnTo>
                        <a:pt x="746" y="236"/>
                      </a:lnTo>
                      <a:lnTo>
                        <a:pt x="736" y="236"/>
                      </a:lnTo>
                      <a:lnTo>
                        <a:pt x="727" y="239"/>
                      </a:lnTo>
                      <a:lnTo>
                        <a:pt x="720" y="242"/>
                      </a:lnTo>
                      <a:lnTo>
                        <a:pt x="714" y="242"/>
                      </a:lnTo>
                      <a:lnTo>
                        <a:pt x="705" y="242"/>
                      </a:lnTo>
                      <a:lnTo>
                        <a:pt x="698" y="245"/>
                      </a:lnTo>
                      <a:lnTo>
                        <a:pt x="689" y="245"/>
                      </a:lnTo>
                      <a:lnTo>
                        <a:pt x="679" y="248"/>
                      </a:lnTo>
                      <a:lnTo>
                        <a:pt x="673" y="248"/>
                      </a:lnTo>
                      <a:lnTo>
                        <a:pt x="663" y="248"/>
                      </a:lnTo>
                      <a:lnTo>
                        <a:pt x="657" y="248"/>
                      </a:lnTo>
                      <a:lnTo>
                        <a:pt x="647" y="248"/>
                      </a:lnTo>
                      <a:lnTo>
                        <a:pt x="641" y="248"/>
                      </a:lnTo>
                      <a:lnTo>
                        <a:pt x="631" y="248"/>
                      </a:lnTo>
                      <a:lnTo>
                        <a:pt x="625" y="248"/>
                      </a:lnTo>
                      <a:lnTo>
                        <a:pt x="615" y="248"/>
                      </a:lnTo>
                      <a:lnTo>
                        <a:pt x="609" y="248"/>
                      </a:lnTo>
                      <a:lnTo>
                        <a:pt x="603" y="248"/>
                      </a:lnTo>
                      <a:lnTo>
                        <a:pt x="596" y="245"/>
                      </a:lnTo>
                      <a:lnTo>
                        <a:pt x="590" y="245"/>
                      </a:lnTo>
                      <a:lnTo>
                        <a:pt x="580" y="245"/>
                      </a:lnTo>
                      <a:lnTo>
                        <a:pt x="574" y="242"/>
                      </a:lnTo>
                      <a:lnTo>
                        <a:pt x="567" y="242"/>
                      </a:lnTo>
                      <a:lnTo>
                        <a:pt x="561" y="242"/>
                      </a:lnTo>
                      <a:lnTo>
                        <a:pt x="555" y="239"/>
                      </a:lnTo>
                      <a:lnTo>
                        <a:pt x="548" y="239"/>
                      </a:lnTo>
                      <a:lnTo>
                        <a:pt x="542" y="236"/>
                      </a:lnTo>
                      <a:lnTo>
                        <a:pt x="536" y="236"/>
                      </a:lnTo>
                      <a:lnTo>
                        <a:pt x="529" y="232"/>
                      </a:lnTo>
                      <a:lnTo>
                        <a:pt x="523" y="229"/>
                      </a:lnTo>
                      <a:lnTo>
                        <a:pt x="516" y="229"/>
                      </a:lnTo>
                      <a:lnTo>
                        <a:pt x="510" y="226"/>
                      </a:lnTo>
                      <a:lnTo>
                        <a:pt x="504" y="223"/>
                      </a:lnTo>
                      <a:lnTo>
                        <a:pt x="491" y="220"/>
                      </a:lnTo>
                      <a:lnTo>
                        <a:pt x="481" y="216"/>
                      </a:lnTo>
                      <a:lnTo>
                        <a:pt x="469" y="210"/>
                      </a:lnTo>
                      <a:lnTo>
                        <a:pt x="459" y="207"/>
                      </a:lnTo>
                      <a:lnTo>
                        <a:pt x="446" y="200"/>
                      </a:lnTo>
                      <a:lnTo>
                        <a:pt x="437" y="197"/>
                      </a:lnTo>
                      <a:lnTo>
                        <a:pt x="424" y="191"/>
                      </a:lnTo>
                      <a:lnTo>
                        <a:pt x="414" y="188"/>
                      </a:lnTo>
                      <a:lnTo>
                        <a:pt x="402" y="181"/>
                      </a:lnTo>
                      <a:lnTo>
                        <a:pt x="392" y="175"/>
                      </a:lnTo>
                      <a:lnTo>
                        <a:pt x="383" y="172"/>
                      </a:lnTo>
                      <a:lnTo>
                        <a:pt x="370" y="165"/>
                      </a:lnTo>
                      <a:lnTo>
                        <a:pt x="360" y="159"/>
                      </a:lnTo>
                      <a:lnTo>
                        <a:pt x="347" y="156"/>
                      </a:lnTo>
                      <a:lnTo>
                        <a:pt x="338" y="149"/>
                      </a:lnTo>
                      <a:lnTo>
                        <a:pt x="328" y="143"/>
                      </a:lnTo>
                      <a:lnTo>
                        <a:pt x="316" y="140"/>
                      </a:lnTo>
                      <a:lnTo>
                        <a:pt x="303" y="134"/>
                      </a:lnTo>
                      <a:lnTo>
                        <a:pt x="290" y="127"/>
                      </a:lnTo>
                      <a:lnTo>
                        <a:pt x="281" y="121"/>
                      </a:lnTo>
                      <a:lnTo>
                        <a:pt x="268" y="114"/>
                      </a:lnTo>
                      <a:lnTo>
                        <a:pt x="255" y="111"/>
                      </a:lnTo>
                      <a:lnTo>
                        <a:pt x="245" y="105"/>
                      </a:lnTo>
                      <a:lnTo>
                        <a:pt x="233" y="98"/>
                      </a:lnTo>
                      <a:lnTo>
                        <a:pt x="223" y="92"/>
                      </a:lnTo>
                      <a:lnTo>
                        <a:pt x="210" y="86"/>
                      </a:lnTo>
                      <a:lnTo>
                        <a:pt x="198" y="79"/>
                      </a:lnTo>
                      <a:lnTo>
                        <a:pt x="188" y="73"/>
                      </a:lnTo>
                      <a:lnTo>
                        <a:pt x="175" y="70"/>
                      </a:lnTo>
                      <a:lnTo>
                        <a:pt x="163" y="63"/>
                      </a:lnTo>
                      <a:lnTo>
                        <a:pt x="150" y="57"/>
                      </a:lnTo>
                      <a:lnTo>
                        <a:pt x="137" y="54"/>
                      </a:lnTo>
                      <a:lnTo>
                        <a:pt x="128" y="51"/>
                      </a:lnTo>
                      <a:lnTo>
                        <a:pt x="121" y="47"/>
                      </a:lnTo>
                      <a:lnTo>
                        <a:pt x="112" y="44"/>
                      </a:lnTo>
                      <a:lnTo>
                        <a:pt x="102" y="41"/>
                      </a:lnTo>
                      <a:lnTo>
                        <a:pt x="92" y="38"/>
                      </a:lnTo>
                      <a:lnTo>
                        <a:pt x="83" y="35"/>
                      </a:lnTo>
                      <a:lnTo>
                        <a:pt x="73" y="35"/>
                      </a:lnTo>
                      <a:lnTo>
                        <a:pt x="64" y="31"/>
                      </a:lnTo>
                      <a:lnTo>
                        <a:pt x="57" y="28"/>
                      </a:lnTo>
                      <a:lnTo>
                        <a:pt x="48" y="28"/>
                      </a:lnTo>
                      <a:lnTo>
                        <a:pt x="41" y="25"/>
                      </a:lnTo>
                      <a:lnTo>
                        <a:pt x="32" y="22"/>
                      </a:lnTo>
                      <a:lnTo>
                        <a:pt x="26" y="19"/>
                      </a:lnTo>
                      <a:lnTo>
                        <a:pt x="16" y="16"/>
                      </a:lnTo>
                      <a:lnTo>
                        <a:pt x="10" y="12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9" y="0"/>
                      </a:lnTo>
                      <a:lnTo>
                        <a:pt x="35" y="0"/>
                      </a:lnTo>
                      <a:lnTo>
                        <a:pt x="45" y="3"/>
                      </a:lnTo>
                      <a:lnTo>
                        <a:pt x="51" y="3"/>
                      </a:lnTo>
                      <a:lnTo>
                        <a:pt x="57" y="3"/>
                      </a:lnTo>
                      <a:lnTo>
                        <a:pt x="64" y="6"/>
                      </a:lnTo>
                      <a:lnTo>
                        <a:pt x="70" y="6"/>
                      </a:lnTo>
                      <a:lnTo>
                        <a:pt x="77" y="6"/>
                      </a:lnTo>
                      <a:lnTo>
                        <a:pt x="86" y="9"/>
                      </a:lnTo>
                      <a:lnTo>
                        <a:pt x="92" y="9"/>
                      </a:lnTo>
                      <a:lnTo>
                        <a:pt x="102" y="12"/>
                      </a:lnTo>
                      <a:lnTo>
                        <a:pt x="108" y="12"/>
                      </a:lnTo>
                      <a:lnTo>
                        <a:pt x="118" y="16"/>
                      </a:lnTo>
                      <a:lnTo>
                        <a:pt x="124" y="16"/>
                      </a:lnTo>
                      <a:lnTo>
                        <a:pt x="131" y="19"/>
                      </a:lnTo>
                      <a:lnTo>
                        <a:pt x="140" y="19"/>
                      </a:lnTo>
                      <a:lnTo>
                        <a:pt x="147" y="22"/>
                      </a:lnTo>
                      <a:lnTo>
                        <a:pt x="153" y="22"/>
                      </a:lnTo>
                      <a:lnTo>
                        <a:pt x="159" y="25"/>
                      </a:lnTo>
                      <a:lnTo>
                        <a:pt x="169" y="28"/>
                      </a:lnTo>
                      <a:lnTo>
                        <a:pt x="175" y="28"/>
                      </a:lnTo>
                      <a:lnTo>
                        <a:pt x="185" y="31"/>
                      </a:lnTo>
                      <a:lnTo>
                        <a:pt x="191" y="35"/>
                      </a:lnTo>
                      <a:lnTo>
                        <a:pt x="198" y="35"/>
                      </a:lnTo>
                      <a:lnTo>
                        <a:pt x="210" y="41"/>
                      </a:lnTo>
                      <a:lnTo>
                        <a:pt x="223" y="44"/>
                      </a:lnTo>
                      <a:lnTo>
                        <a:pt x="236" y="47"/>
                      </a:lnTo>
                      <a:lnTo>
                        <a:pt x="249" y="51"/>
                      </a:lnTo>
                      <a:lnTo>
                        <a:pt x="261" y="57"/>
                      </a:lnTo>
                      <a:lnTo>
                        <a:pt x="271" y="60"/>
                      </a:lnTo>
                      <a:lnTo>
                        <a:pt x="284" y="67"/>
                      </a:lnTo>
                      <a:lnTo>
                        <a:pt x="296" y="70"/>
                      </a:lnTo>
                      <a:lnTo>
                        <a:pt x="309" y="73"/>
                      </a:lnTo>
                      <a:lnTo>
                        <a:pt x="322" y="79"/>
                      </a:lnTo>
                      <a:lnTo>
                        <a:pt x="335" y="82"/>
                      </a:lnTo>
                      <a:lnTo>
                        <a:pt x="347" y="86"/>
                      </a:lnTo>
                      <a:lnTo>
                        <a:pt x="357" y="92"/>
                      </a:lnTo>
                      <a:lnTo>
                        <a:pt x="370" y="95"/>
                      </a:lnTo>
                      <a:lnTo>
                        <a:pt x="383" y="98"/>
                      </a:lnTo>
                      <a:lnTo>
                        <a:pt x="395" y="102"/>
                      </a:lnTo>
                      <a:lnTo>
                        <a:pt x="405" y="105"/>
                      </a:lnTo>
                      <a:lnTo>
                        <a:pt x="418" y="108"/>
                      </a:lnTo>
                      <a:lnTo>
                        <a:pt x="427" y="111"/>
                      </a:lnTo>
                      <a:lnTo>
                        <a:pt x="437" y="114"/>
                      </a:lnTo>
                      <a:lnTo>
                        <a:pt x="449" y="118"/>
                      </a:lnTo>
                      <a:lnTo>
                        <a:pt x="459" y="121"/>
                      </a:lnTo>
                      <a:lnTo>
                        <a:pt x="472" y="124"/>
                      </a:lnTo>
                      <a:lnTo>
                        <a:pt x="481" y="127"/>
                      </a:lnTo>
                      <a:lnTo>
                        <a:pt x="491" y="130"/>
                      </a:lnTo>
                      <a:lnTo>
                        <a:pt x="504" y="134"/>
                      </a:lnTo>
                      <a:lnTo>
                        <a:pt x="513" y="137"/>
                      </a:lnTo>
                      <a:lnTo>
                        <a:pt x="526" y="140"/>
                      </a:lnTo>
                      <a:lnTo>
                        <a:pt x="536" y="140"/>
                      </a:lnTo>
                      <a:lnTo>
                        <a:pt x="548" y="143"/>
                      </a:lnTo>
                      <a:lnTo>
                        <a:pt x="558" y="146"/>
                      </a:lnTo>
                      <a:lnTo>
                        <a:pt x="571" y="146"/>
                      </a:lnTo>
                      <a:lnTo>
                        <a:pt x="580" y="146"/>
                      </a:lnTo>
                      <a:lnTo>
                        <a:pt x="590" y="149"/>
                      </a:lnTo>
                      <a:lnTo>
                        <a:pt x="603" y="149"/>
                      </a:lnTo>
                      <a:lnTo>
                        <a:pt x="612" y="149"/>
                      </a:lnTo>
                      <a:lnTo>
                        <a:pt x="625" y="149"/>
                      </a:lnTo>
                      <a:lnTo>
                        <a:pt x="634" y="149"/>
                      </a:lnTo>
                      <a:lnTo>
                        <a:pt x="644" y="149"/>
                      </a:lnTo>
                      <a:lnTo>
                        <a:pt x="657" y="146"/>
                      </a:lnTo>
                      <a:lnTo>
                        <a:pt x="666" y="146"/>
                      </a:lnTo>
                      <a:lnTo>
                        <a:pt x="676" y="146"/>
                      </a:lnTo>
                      <a:lnTo>
                        <a:pt x="689" y="146"/>
                      </a:lnTo>
                      <a:lnTo>
                        <a:pt x="698" y="146"/>
                      </a:lnTo>
                      <a:lnTo>
                        <a:pt x="711" y="143"/>
                      </a:lnTo>
                      <a:lnTo>
                        <a:pt x="720" y="143"/>
                      </a:lnTo>
                      <a:lnTo>
                        <a:pt x="730" y="143"/>
                      </a:lnTo>
                      <a:lnTo>
                        <a:pt x="743" y="143"/>
                      </a:lnTo>
                      <a:lnTo>
                        <a:pt x="752" y="143"/>
                      </a:lnTo>
                      <a:lnTo>
                        <a:pt x="762" y="143"/>
                      </a:lnTo>
                      <a:lnTo>
                        <a:pt x="775" y="143"/>
                      </a:lnTo>
                      <a:lnTo>
                        <a:pt x="784" y="143"/>
                      </a:lnTo>
                      <a:lnTo>
                        <a:pt x="794" y="143"/>
                      </a:lnTo>
                      <a:lnTo>
                        <a:pt x="807" y="143"/>
                      </a:lnTo>
                      <a:lnTo>
                        <a:pt x="816" y="146"/>
                      </a:lnTo>
                      <a:lnTo>
                        <a:pt x="826" y="146"/>
                      </a:lnTo>
                      <a:lnTo>
                        <a:pt x="838" y="146"/>
                      </a:lnTo>
                      <a:lnTo>
                        <a:pt x="848" y="146"/>
                      </a:lnTo>
                      <a:lnTo>
                        <a:pt x="858" y="146"/>
                      </a:lnTo>
                      <a:lnTo>
                        <a:pt x="867" y="149"/>
                      </a:lnTo>
                      <a:lnTo>
                        <a:pt x="880" y="149"/>
                      </a:lnTo>
                      <a:lnTo>
                        <a:pt x="889" y="149"/>
                      </a:lnTo>
                      <a:lnTo>
                        <a:pt x="902" y="149"/>
                      </a:lnTo>
                      <a:lnTo>
                        <a:pt x="912" y="153"/>
                      </a:lnTo>
                      <a:lnTo>
                        <a:pt x="918" y="153"/>
                      </a:lnTo>
                      <a:lnTo>
                        <a:pt x="924" y="149"/>
                      </a:lnTo>
                      <a:lnTo>
                        <a:pt x="931" y="149"/>
                      </a:lnTo>
                      <a:lnTo>
                        <a:pt x="940" y="149"/>
                      </a:lnTo>
                      <a:lnTo>
                        <a:pt x="944" y="149"/>
                      </a:lnTo>
                      <a:lnTo>
                        <a:pt x="950" y="149"/>
                      </a:lnTo>
                      <a:lnTo>
                        <a:pt x="953" y="153"/>
                      </a:lnTo>
                      <a:lnTo>
                        <a:pt x="950" y="156"/>
                      </a:lnTo>
                      <a:close/>
                    </a:path>
                  </a:pathLst>
                </a:custGeom>
                <a:solidFill>
                  <a:srgbClr val="f0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397280" y="3193920"/>
                  <a:ext cx="793440" cy="215640"/>
                </a:xfrm>
                <a:custGeom>
                  <a:avLst/>
                  <a:gdLst/>
                  <a:ahLst/>
                  <a:rect l="l" t="t" r="r" b="b"/>
                  <a:pathLst>
                    <a:path w="931" h="239">
                      <a:moveTo>
                        <a:pt x="931" y="156"/>
                      </a:moveTo>
                      <a:lnTo>
                        <a:pt x="928" y="159"/>
                      </a:lnTo>
                      <a:lnTo>
                        <a:pt x="921" y="166"/>
                      </a:lnTo>
                      <a:lnTo>
                        <a:pt x="915" y="169"/>
                      </a:lnTo>
                      <a:lnTo>
                        <a:pt x="909" y="172"/>
                      </a:lnTo>
                      <a:lnTo>
                        <a:pt x="902" y="172"/>
                      </a:lnTo>
                      <a:lnTo>
                        <a:pt x="896" y="175"/>
                      </a:lnTo>
                      <a:lnTo>
                        <a:pt x="886" y="175"/>
                      </a:lnTo>
                      <a:lnTo>
                        <a:pt x="880" y="178"/>
                      </a:lnTo>
                      <a:lnTo>
                        <a:pt x="870" y="182"/>
                      </a:lnTo>
                      <a:lnTo>
                        <a:pt x="861" y="185"/>
                      </a:lnTo>
                      <a:lnTo>
                        <a:pt x="851" y="188"/>
                      </a:lnTo>
                      <a:lnTo>
                        <a:pt x="839" y="191"/>
                      </a:lnTo>
                      <a:lnTo>
                        <a:pt x="829" y="194"/>
                      </a:lnTo>
                      <a:lnTo>
                        <a:pt x="819" y="201"/>
                      </a:lnTo>
                      <a:lnTo>
                        <a:pt x="810" y="204"/>
                      </a:lnTo>
                      <a:lnTo>
                        <a:pt x="800" y="207"/>
                      </a:lnTo>
                      <a:lnTo>
                        <a:pt x="791" y="210"/>
                      </a:lnTo>
                      <a:lnTo>
                        <a:pt x="778" y="213"/>
                      </a:lnTo>
                      <a:lnTo>
                        <a:pt x="768" y="217"/>
                      </a:lnTo>
                      <a:lnTo>
                        <a:pt x="759" y="220"/>
                      </a:lnTo>
                      <a:lnTo>
                        <a:pt x="749" y="223"/>
                      </a:lnTo>
                      <a:lnTo>
                        <a:pt x="737" y="226"/>
                      </a:lnTo>
                      <a:lnTo>
                        <a:pt x="727" y="229"/>
                      </a:lnTo>
                      <a:lnTo>
                        <a:pt x="717" y="233"/>
                      </a:lnTo>
                      <a:lnTo>
                        <a:pt x="708" y="233"/>
                      </a:lnTo>
                      <a:lnTo>
                        <a:pt x="701" y="236"/>
                      </a:lnTo>
                      <a:lnTo>
                        <a:pt x="695" y="236"/>
                      </a:lnTo>
                      <a:lnTo>
                        <a:pt x="686" y="236"/>
                      </a:lnTo>
                      <a:lnTo>
                        <a:pt x="679" y="239"/>
                      </a:lnTo>
                      <a:lnTo>
                        <a:pt x="670" y="239"/>
                      </a:lnTo>
                      <a:lnTo>
                        <a:pt x="660" y="239"/>
                      </a:lnTo>
                      <a:lnTo>
                        <a:pt x="654" y="239"/>
                      </a:lnTo>
                      <a:lnTo>
                        <a:pt x="644" y="239"/>
                      </a:lnTo>
                      <a:lnTo>
                        <a:pt x="635" y="239"/>
                      </a:lnTo>
                      <a:lnTo>
                        <a:pt x="628" y="239"/>
                      </a:lnTo>
                      <a:lnTo>
                        <a:pt x="619" y="239"/>
                      </a:lnTo>
                      <a:lnTo>
                        <a:pt x="612" y="239"/>
                      </a:lnTo>
                      <a:lnTo>
                        <a:pt x="603" y="239"/>
                      </a:lnTo>
                      <a:lnTo>
                        <a:pt x="596" y="236"/>
                      </a:lnTo>
                      <a:lnTo>
                        <a:pt x="587" y="236"/>
                      </a:lnTo>
                      <a:lnTo>
                        <a:pt x="580" y="236"/>
                      </a:lnTo>
                      <a:lnTo>
                        <a:pt x="574" y="233"/>
                      </a:lnTo>
                      <a:lnTo>
                        <a:pt x="568" y="233"/>
                      </a:lnTo>
                      <a:lnTo>
                        <a:pt x="561" y="229"/>
                      </a:lnTo>
                      <a:lnTo>
                        <a:pt x="555" y="229"/>
                      </a:lnTo>
                      <a:lnTo>
                        <a:pt x="548" y="226"/>
                      </a:lnTo>
                      <a:lnTo>
                        <a:pt x="542" y="223"/>
                      </a:lnTo>
                      <a:lnTo>
                        <a:pt x="536" y="223"/>
                      </a:lnTo>
                      <a:lnTo>
                        <a:pt x="529" y="220"/>
                      </a:lnTo>
                      <a:lnTo>
                        <a:pt x="523" y="220"/>
                      </a:lnTo>
                      <a:lnTo>
                        <a:pt x="517" y="217"/>
                      </a:lnTo>
                      <a:lnTo>
                        <a:pt x="510" y="213"/>
                      </a:lnTo>
                      <a:lnTo>
                        <a:pt x="504" y="213"/>
                      </a:lnTo>
                      <a:lnTo>
                        <a:pt x="497" y="210"/>
                      </a:lnTo>
                      <a:lnTo>
                        <a:pt x="491" y="207"/>
                      </a:lnTo>
                      <a:lnTo>
                        <a:pt x="485" y="207"/>
                      </a:lnTo>
                      <a:lnTo>
                        <a:pt x="472" y="201"/>
                      </a:lnTo>
                      <a:lnTo>
                        <a:pt x="459" y="197"/>
                      </a:lnTo>
                      <a:lnTo>
                        <a:pt x="450" y="194"/>
                      </a:lnTo>
                      <a:lnTo>
                        <a:pt x="437" y="188"/>
                      </a:lnTo>
                      <a:lnTo>
                        <a:pt x="427" y="185"/>
                      </a:lnTo>
                      <a:lnTo>
                        <a:pt x="415" y="182"/>
                      </a:lnTo>
                      <a:lnTo>
                        <a:pt x="405" y="175"/>
                      </a:lnTo>
                      <a:lnTo>
                        <a:pt x="395" y="172"/>
                      </a:lnTo>
                      <a:lnTo>
                        <a:pt x="383" y="166"/>
                      </a:lnTo>
                      <a:lnTo>
                        <a:pt x="373" y="162"/>
                      </a:lnTo>
                      <a:lnTo>
                        <a:pt x="360" y="156"/>
                      </a:lnTo>
                      <a:lnTo>
                        <a:pt x="351" y="153"/>
                      </a:lnTo>
                      <a:lnTo>
                        <a:pt x="338" y="146"/>
                      </a:lnTo>
                      <a:lnTo>
                        <a:pt x="328" y="143"/>
                      </a:lnTo>
                      <a:lnTo>
                        <a:pt x="316" y="137"/>
                      </a:lnTo>
                      <a:lnTo>
                        <a:pt x="306" y="134"/>
                      </a:lnTo>
                      <a:lnTo>
                        <a:pt x="293" y="127"/>
                      </a:lnTo>
                      <a:lnTo>
                        <a:pt x="284" y="121"/>
                      </a:lnTo>
                      <a:lnTo>
                        <a:pt x="271" y="118"/>
                      </a:lnTo>
                      <a:lnTo>
                        <a:pt x="258" y="111"/>
                      </a:lnTo>
                      <a:lnTo>
                        <a:pt x="249" y="105"/>
                      </a:lnTo>
                      <a:lnTo>
                        <a:pt x="236" y="99"/>
                      </a:lnTo>
                      <a:lnTo>
                        <a:pt x="226" y="95"/>
                      </a:lnTo>
                      <a:lnTo>
                        <a:pt x="214" y="89"/>
                      </a:lnTo>
                      <a:lnTo>
                        <a:pt x="204" y="83"/>
                      </a:lnTo>
                      <a:lnTo>
                        <a:pt x="191" y="79"/>
                      </a:lnTo>
                      <a:lnTo>
                        <a:pt x="182" y="73"/>
                      </a:lnTo>
                      <a:lnTo>
                        <a:pt x="169" y="67"/>
                      </a:lnTo>
                      <a:lnTo>
                        <a:pt x="156" y="64"/>
                      </a:lnTo>
                      <a:lnTo>
                        <a:pt x="144" y="57"/>
                      </a:lnTo>
                      <a:lnTo>
                        <a:pt x="131" y="54"/>
                      </a:lnTo>
                      <a:lnTo>
                        <a:pt x="118" y="48"/>
                      </a:lnTo>
                      <a:lnTo>
                        <a:pt x="109" y="44"/>
                      </a:lnTo>
                      <a:lnTo>
                        <a:pt x="102" y="41"/>
                      </a:lnTo>
                      <a:lnTo>
                        <a:pt x="93" y="38"/>
                      </a:lnTo>
                      <a:lnTo>
                        <a:pt x="83" y="35"/>
                      </a:lnTo>
                      <a:lnTo>
                        <a:pt x="77" y="35"/>
                      </a:lnTo>
                      <a:lnTo>
                        <a:pt x="67" y="32"/>
                      </a:lnTo>
                      <a:lnTo>
                        <a:pt x="61" y="28"/>
                      </a:lnTo>
                      <a:lnTo>
                        <a:pt x="51" y="28"/>
                      </a:lnTo>
                      <a:lnTo>
                        <a:pt x="45" y="25"/>
                      </a:lnTo>
                      <a:lnTo>
                        <a:pt x="38" y="22"/>
                      </a:lnTo>
                      <a:lnTo>
                        <a:pt x="32" y="22"/>
                      </a:lnTo>
                      <a:lnTo>
                        <a:pt x="26" y="19"/>
                      </a:lnTo>
                      <a:lnTo>
                        <a:pt x="19" y="16"/>
                      </a:lnTo>
                      <a:lnTo>
                        <a:pt x="16" y="13"/>
                      </a:lnTo>
                      <a:lnTo>
                        <a:pt x="10" y="9"/>
                      </a:lnTo>
                      <a:lnTo>
                        <a:pt x="7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22" y="3"/>
                      </a:lnTo>
                      <a:lnTo>
                        <a:pt x="29" y="3"/>
                      </a:lnTo>
                      <a:lnTo>
                        <a:pt x="35" y="3"/>
                      </a:lnTo>
                      <a:lnTo>
                        <a:pt x="42" y="3"/>
                      </a:lnTo>
                      <a:lnTo>
                        <a:pt x="48" y="3"/>
                      </a:lnTo>
                      <a:lnTo>
                        <a:pt x="54" y="6"/>
                      </a:lnTo>
                      <a:lnTo>
                        <a:pt x="61" y="6"/>
                      </a:lnTo>
                      <a:lnTo>
                        <a:pt x="64" y="6"/>
                      </a:lnTo>
                      <a:lnTo>
                        <a:pt x="73" y="9"/>
                      </a:lnTo>
                      <a:lnTo>
                        <a:pt x="80" y="9"/>
                      </a:lnTo>
                      <a:lnTo>
                        <a:pt x="89" y="13"/>
                      </a:lnTo>
                      <a:lnTo>
                        <a:pt x="96" y="13"/>
                      </a:lnTo>
                      <a:lnTo>
                        <a:pt x="102" y="16"/>
                      </a:lnTo>
                      <a:lnTo>
                        <a:pt x="109" y="16"/>
                      </a:lnTo>
                      <a:lnTo>
                        <a:pt x="118" y="19"/>
                      </a:lnTo>
                      <a:lnTo>
                        <a:pt x="124" y="22"/>
                      </a:lnTo>
                      <a:lnTo>
                        <a:pt x="131" y="22"/>
                      </a:lnTo>
                      <a:lnTo>
                        <a:pt x="137" y="25"/>
                      </a:lnTo>
                      <a:lnTo>
                        <a:pt x="144" y="25"/>
                      </a:lnTo>
                      <a:lnTo>
                        <a:pt x="150" y="28"/>
                      </a:lnTo>
                      <a:lnTo>
                        <a:pt x="156" y="32"/>
                      </a:lnTo>
                      <a:lnTo>
                        <a:pt x="166" y="32"/>
                      </a:lnTo>
                      <a:lnTo>
                        <a:pt x="172" y="35"/>
                      </a:lnTo>
                      <a:lnTo>
                        <a:pt x="179" y="35"/>
                      </a:lnTo>
                      <a:lnTo>
                        <a:pt x="191" y="41"/>
                      </a:lnTo>
                      <a:lnTo>
                        <a:pt x="204" y="44"/>
                      </a:lnTo>
                      <a:lnTo>
                        <a:pt x="217" y="48"/>
                      </a:lnTo>
                      <a:lnTo>
                        <a:pt x="230" y="54"/>
                      </a:lnTo>
                      <a:lnTo>
                        <a:pt x="242" y="57"/>
                      </a:lnTo>
                      <a:lnTo>
                        <a:pt x="255" y="60"/>
                      </a:lnTo>
                      <a:lnTo>
                        <a:pt x="268" y="67"/>
                      </a:lnTo>
                      <a:lnTo>
                        <a:pt x="277" y="70"/>
                      </a:lnTo>
                      <a:lnTo>
                        <a:pt x="290" y="76"/>
                      </a:lnTo>
                      <a:lnTo>
                        <a:pt x="303" y="79"/>
                      </a:lnTo>
                      <a:lnTo>
                        <a:pt x="316" y="86"/>
                      </a:lnTo>
                      <a:lnTo>
                        <a:pt x="328" y="89"/>
                      </a:lnTo>
                      <a:lnTo>
                        <a:pt x="341" y="92"/>
                      </a:lnTo>
                      <a:lnTo>
                        <a:pt x="354" y="99"/>
                      </a:lnTo>
                      <a:lnTo>
                        <a:pt x="367" y="102"/>
                      </a:lnTo>
                      <a:lnTo>
                        <a:pt x="376" y="105"/>
                      </a:lnTo>
                      <a:lnTo>
                        <a:pt x="389" y="108"/>
                      </a:lnTo>
                      <a:lnTo>
                        <a:pt x="399" y="111"/>
                      </a:lnTo>
                      <a:lnTo>
                        <a:pt x="411" y="115"/>
                      </a:lnTo>
                      <a:lnTo>
                        <a:pt x="421" y="118"/>
                      </a:lnTo>
                      <a:lnTo>
                        <a:pt x="430" y="121"/>
                      </a:lnTo>
                      <a:lnTo>
                        <a:pt x="443" y="124"/>
                      </a:lnTo>
                      <a:lnTo>
                        <a:pt x="453" y="127"/>
                      </a:lnTo>
                      <a:lnTo>
                        <a:pt x="462" y="131"/>
                      </a:lnTo>
                      <a:lnTo>
                        <a:pt x="475" y="134"/>
                      </a:lnTo>
                      <a:lnTo>
                        <a:pt x="485" y="137"/>
                      </a:lnTo>
                      <a:lnTo>
                        <a:pt x="497" y="137"/>
                      </a:lnTo>
                      <a:lnTo>
                        <a:pt x="507" y="140"/>
                      </a:lnTo>
                      <a:lnTo>
                        <a:pt x="520" y="143"/>
                      </a:lnTo>
                      <a:lnTo>
                        <a:pt x="529" y="143"/>
                      </a:lnTo>
                      <a:lnTo>
                        <a:pt x="542" y="146"/>
                      </a:lnTo>
                      <a:lnTo>
                        <a:pt x="552" y="150"/>
                      </a:lnTo>
                      <a:lnTo>
                        <a:pt x="564" y="150"/>
                      </a:lnTo>
                      <a:lnTo>
                        <a:pt x="574" y="150"/>
                      </a:lnTo>
                      <a:lnTo>
                        <a:pt x="584" y="150"/>
                      </a:lnTo>
                      <a:lnTo>
                        <a:pt x="596" y="150"/>
                      </a:lnTo>
                      <a:lnTo>
                        <a:pt x="606" y="150"/>
                      </a:lnTo>
                      <a:lnTo>
                        <a:pt x="615" y="150"/>
                      </a:lnTo>
                      <a:lnTo>
                        <a:pt x="628" y="150"/>
                      </a:lnTo>
                      <a:lnTo>
                        <a:pt x="638" y="150"/>
                      </a:lnTo>
                      <a:lnTo>
                        <a:pt x="647" y="150"/>
                      </a:lnTo>
                      <a:lnTo>
                        <a:pt x="660" y="146"/>
                      </a:lnTo>
                      <a:lnTo>
                        <a:pt x="670" y="146"/>
                      </a:lnTo>
                      <a:lnTo>
                        <a:pt x="679" y="146"/>
                      </a:lnTo>
                      <a:lnTo>
                        <a:pt x="692" y="146"/>
                      </a:lnTo>
                      <a:lnTo>
                        <a:pt x="701" y="143"/>
                      </a:lnTo>
                      <a:lnTo>
                        <a:pt x="714" y="143"/>
                      </a:lnTo>
                      <a:lnTo>
                        <a:pt x="724" y="143"/>
                      </a:lnTo>
                      <a:lnTo>
                        <a:pt x="733" y="143"/>
                      </a:lnTo>
                      <a:lnTo>
                        <a:pt x="746" y="143"/>
                      </a:lnTo>
                      <a:lnTo>
                        <a:pt x="756" y="143"/>
                      </a:lnTo>
                      <a:lnTo>
                        <a:pt x="765" y="143"/>
                      </a:lnTo>
                      <a:lnTo>
                        <a:pt x="778" y="143"/>
                      </a:lnTo>
                      <a:lnTo>
                        <a:pt x="788" y="143"/>
                      </a:lnTo>
                      <a:lnTo>
                        <a:pt x="797" y="143"/>
                      </a:lnTo>
                      <a:lnTo>
                        <a:pt x="807" y="143"/>
                      </a:lnTo>
                      <a:lnTo>
                        <a:pt x="819" y="143"/>
                      </a:lnTo>
                      <a:lnTo>
                        <a:pt x="829" y="146"/>
                      </a:lnTo>
                      <a:lnTo>
                        <a:pt x="839" y="146"/>
                      </a:lnTo>
                      <a:lnTo>
                        <a:pt x="851" y="146"/>
                      </a:lnTo>
                      <a:lnTo>
                        <a:pt x="861" y="146"/>
                      </a:lnTo>
                      <a:lnTo>
                        <a:pt x="870" y="146"/>
                      </a:lnTo>
                      <a:lnTo>
                        <a:pt x="883" y="150"/>
                      </a:lnTo>
                      <a:lnTo>
                        <a:pt x="893" y="150"/>
                      </a:lnTo>
                      <a:lnTo>
                        <a:pt x="899" y="150"/>
                      </a:lnTo>
                      <a:lnTo>
                        <a:pt x="905" y="150"/>
                      </a:lnTo>
                      <a:lnTo>
                        <a:pt x="912" y="146"/>
                      </a:lnTo>
                      <a:lnTo>
                        <a:pt x="918" y="146"/>
                      </a:lnTo>
                      <a:lnTo>
                        <a:pt x="925" y="146"/>
                      </a:lnTo>
                      <a:lnTo>
                        <a:pt x="928" y="146"/>
                      </a:lnTo>
                      <a:lnTo>
                        <a:pt x="931" y="150"/>
                      </a:lnTo>
                      <a:lnTo>
                        <a:pt x="931" y="156"/>
                      </a:lnTo>
                      <a:close/>
                    </a:path>
                  </a:pathLst>
                </a:custGeom>
                <a:solidFill>
                  <a:srgbClr val="f5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413480" y="3198960"/>
                  <a:ext cx="774720" cy="207720"/>
                </a:xfrm>
                <a:custGeom>
                  <a:avLst/>
                  <a:gdLst/>
                  <a:ahLst/>
                  <a:rect l="l" t="t" r="r" b="b"/>
                  <a:pathLst>
                    <a:path w="909" h="230">
                      <a:moveTo>
                        <a:pt x="909" y="150"/>
                      </a:moveTo>
                      <a:lnTo>
                        <a:pt x="906" y="156"/>
                      </a:lnTo>
                      <a:lnTo>
                        <a:pt x="902" y="160"/>
                      </a:lnTo>
                      <a:lnTo>
                        <a:pt x="896" y="163"/>
                      </a:lnTo>
                      <a:lnTo>
                        <a:pt x="890" y="163"/>
                      </a:lnTo>
                      <a:lnTo>
                        <a:pt x="883" y="166"/>
                      </a:lnTo>
                      <a:lnTo>
                        <a:pt x="874" y="166"/>
                      </a:lnTo>
                      <a:lnTo>
                        <a:pt x="867" y="169"/>
                      </a:lnTo>
                      <a:lnTo>
                        <a:pt x="861" y="169"/>
                      </a:lnTo>
                      <a:lnTo>
                        <a:pt x="851" y="172"/>
                      </a:lnTo>
                      <a:lnTo>
                        <a:pt x="842" y="179"/>
                      </a:lnTo>
                      <a:lnTo>
                        <a:pt x="832" y="182"/>
                      </a:lnTo>
                      <a:lnTo>
                        <a:pt x="820" y="185"/>
                      </a:lnTo>
                      <a:lnTo>
                        <a:pt x="810" y="188"/>
                      </a:lnTo>
                      <a:lnTo>
                        <a:pt x="800" y="191"/>
                      </a:lnTo>
                      <a:lnTo>
                        <a:pt x="791" y="195"/>
                      </a:lnTo>
                      <a:lnTo>
                        <a:pt x="781" y="198"/>
                      </a:lnTo>
                      <a:lnTo>
                        <a:pt x="772" y="201"/>
                      </a:lnTo>
                      <a:lnTo>
                        <a:pt x="762" y="204"/>
                      </a:lnTo>
                      <a:lnTo>
                        <a:pt x="749" y="207"/>
                      </a:lnTo>
                      <a:lnTo>
                        <a:pt x="740" y="211"/>
                      </a:lnTo>
                      <a:lnTo>
                        <a:pt x="730" y="214"/>
                      </a:lnTo>
                      <a:lnTo>
                        <a:pt x="721" y="217"/>
                      </a:lnTo>
                      <a:lnTo>
                        <a:pt x="711" y="220"/>
                      </a:lnTo>
                      <a:lnTo>
                        <a:pt x="698" y="223"/>
                      </a:lnTo>
                      <a:lnTo>
                        <a:pt x="692" y="223"/>
                      </a:lnTo>
                      <a:lnTo>
                        <a:pt x="682" y="227"/>
                      </a:lnTo>
                      <a:lnTo>
                        <a:pt x="676" y="227"/>
                      </a:lnTo>
                      <a:lnTo>
                        <a:pt x="667" y="230"/>
                      </a:lnTo>
                      <a:lnTo>
                        <a:pt x="660" y="230"/>
                      </a:lnTo>
                      <a:lnTo>
                        <a:pt x="651" y="230"/>
                      </a:lnTo>
                      <a:lnTo>
                        <a:pt x="641" y="230"/>
                      </a:lnTo>
                      <a:lnTo>
                        <a:pt x="635" y="230"/>
                      </a:lnTo>
                      <a:lnTo>
                        <a:pt x="625" y="230"/>
                      </a:lnTo>
                      <a:lnTo>
                        <a:pt x="616" y="230"/>
                      </a:lnTo>
                      <a:lnTo>
                        <a:pt x="606" y="230"/>
                      </a:lnTo>
                      <a:lnTo>
                        <a:pt x="600" y="227"/>
                      </a:lnTo>
                      <a:lnTo>
                        <a:pt x="590" y="227"/>
                      </a:lnTo>
                      <a:lnTo>
                        <a:pt x="584" y="227"/>
                      </a:lnTo>
                      <a:lnTo>
                        <a:pt x="574" y="223"/>
                      </a:lnTo>
                      <a:lnTo>
                        <a:pt x="568" y="220"/>
                      </a:lnTo>
                      <a:lnTo>
                        <a:pt x="561" y="220"/>
                      </a:lnTo>
                      <a:lnTo>
                        <a:pt x="555" y="217"/>
                      </a:lnTo>
                      <a:lnTo>
                        <a:pt x="545" y="214"/>
                      </a:lnTo>
                      <a:lnTo>
                        <a:pt x="539" y="214"/>
                      </a:lnTo>
                      <a:lnTo>
                        <a:pt x="533" y="211"/>
                      </a:lnTo>
                      <a:lnTo>
                        <a:pt x="526" y="207"/>
                      </a:lnTo>
                      <a:lnTo>
                        <a:pt x="520" y="207"/>
                      </a:lnTo>
                      <a:lnTo>
                        <a:pt x="514" y="204"/>
                      </a:lnTo>
                      <a:lnTo>
                        <a:pt x="507" y="201"/>
                      </a:lnTo>
                      <a:lnTo>
                        <a:pt x="501" y="198"/>
                      </a:lnTo>
                      <a:lnTo>
                        <a:pt x="494" y="198"/>
                      </a:lnTo>
                      <a:lnTo>
                        <a:pt x="488" y="195"/>
                      </a:lnTo>
                      <a:lnTo>
                        <a:pt x="482" y="191"/>
                      </a:lnTo>
                      <a:lnTo>
                        <a:pt x="475" y="188"/>
                      </a:lnTo>
                      <a:lnTo>
                        <a:pt x="469" y="188"/>
                      </a:lnTo>
                      <a:lnTo>
                        <a:pt x="463" y="185"/>
                      </a:lnTo>
                      <a:lnTo>
                        <a:pt x="450" y="182"/>
                      </a:lnTo>
                      <a:lnTo>
                        <a:pt x="440" y="179"/>
                      </a:lnTo>
                      <a:lnTo>
                        <a:pt x="427" y="172"/>
                      </a:lnTo>
                      <a:lnTo>
                        <a:pt x="418" y="169"/>
                      </a:lnTo>
                      <a:lnTo>
                        <a:pt x="408" y="166"/>
                      </a:lnTo>
                      <a:lnTo>
                        <a:pt x="396" y="163"/>
                      </a:lnTo>
                      <a:lnTo>
                        <a:pt x="386" y="156"/>
                      </a:lnTo>
                      <a:lnTo>
                        <a:pt x="373" y="153"/>
                      </a:lnTo>
                      <a:lnTo>
                        <a:pt x="364" y="150"/>
                      </a:lnTo>
                      <a:lnTo>
                        <a:pt x="354" y="144"/>
                      </a:lnTo>
                      <a:lnTo>
                        <a:pt x="341" y="140"/>
                      </a:lnTo>
                      <a:lnTo>
                        <a:pt x="332" y="137"/>
                      </a:lnTo>
                      <a:lnTo>
                        <a:pt x="319" y="131"/>
                      </a:lnTo>
                      <a:lnTo>
                        <a:pt x="309" y="128"/>
                      </a:lnTo>
                      <a:lnTo>
                        <a:pt x="297" y="121"/>
                      </a:lnTo>
                      <a:lnTo>
                        <a:pt x="287" y="118"/>
                      </a:lnTo>
                      <a:lnTo>
                        <a:pt x="274" y="112"/>
                      </a:lnTo>
                      <a:lnTo>
                        <a:pt x="262" y="109"/>
                      </a:lnTo>
                      <a:lnTo>
                        <a:pt x="252" y="102"/>
                      </a:lnTo>
                      <a:lnTo>
                        <a:pt x="239" y="96"/>
                      </a:lnTo>
                      <a:lnTo>
                        <a:pt x="230" y="93"/>
                      </a:lnTo>
                      <a:lnTo>
                        <a:pt x="217" y="86"/>
                      </a:lnTo>
                      <a:lnTo>
                        <a:pt x="207" y="83"/>
                      </a:lnTo>
                      <a:lnTo>
                        <a:pt x="195" y="77"/>
                      </a:lnTo>
                      <a:lnTo>
                        <a:pt x="185" y="73"/>
                      </a:lnTo>
                      <a:lnTo>
                        <a:pt x="172" y="67"/>
                      </a:lnTo>
                      <a:lnTo>
                        <a:pt x="163" y="64"/>
                      </a:lnTo>
                      <a:lnTo>
                        <a:pt x="150" y="58"/>
                      </a:lnTo>
                      <a:lnTo>
                        <a:pt x="137" y="54"/>
                      </a:lnTo>
                      <a:lnTo>
                        <a:pt x="128" y="48"/>
                      </a:lnTo>
                      <a:lnTo>
                        <a:pt x="115" y="45"/>
                      </a:lnTo>
                      <a:lnTo>
                        <a:pt x="99" y="42"/>
                      </a:lnTo>
                      <a:lnTo>
                        <a:pt x="93" y="35"/>
                      </a:lnTo>
                      <a:lnTo>
                        <a:pt x="83" y="35"/>
                      </a:lnTo>
                      <a:lnTo>
                        <a:pt x="74" y="32"/>
                      </a:lnTo>
                      <a:lnTo>
                        <a:pt x="67" y="29"/>
                      </a:lnTo>
                      <a:lnTo>
                        <a:pt x="58" y="26"/>
                      </a:lnTo>
                      <a:lnTo>
                        <a:pt x="51" y="26"/>
                      </a:lnTo>
                      <a:lnTo>
                        <a:pt x="45" y="22"/>
                      </a:lnTo>
                      <a:lnTo>
                        <a:pt x="39" y="19"/>
                      </a:lnTo>
                      <a:lnTo>
                        <a:pt x="35" y="19"/>
                      </a:lnTo>
                      <a:lnTo>
                        <a:pt x="29" y="16"/>
                      </a:lnTo>
                      <a:lnTo>
                        <a:pt x="26" y="16"/>
                      </a:lnTo>
                      <a:lnTo>
                        <a:pt x="19" y="13"/>
                      </a:lnTo>
                      <a:lnTo>
                        <a:pt x="16" y="13"/>
                      </a:lnTo>
                      <a:lnTo>
                        <a:pt x="13" y="10"/>
                      </a:lnTo>
                      <a:lnTo>
                        <a:pt x="10" y="7"/>
                      </a:lnTo>
                      <a:lnTo>
                        <a:pt x="7" y="7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5" y="3"/>
                      </a:lnTo>
                      <a:lnTo>
                        <a:pt x="42" y="3"/>
                      </a:lnTo>
                      <a:lnTo>
                        <a:pt x="48" y="3"/>
                      </a:lnTo>
                      <a:lnTo>
                        <a:pt x="51" y="7"/>
                      </a:lnTo>
                      <a:lnTo>
                        <a:pt x="61" y="7"/>
                      </a:lnTo>
                      <a:lnTo>
                        <a:pt x="67" y="10"/>
                      </a:lnTo>
                      <a:lnTo>
                        <a:pt x="77" y="10"/>
                      </a:lnTo>
                      <a:lnTo>
                        <a:pt x="83" y="13"/>
                      </a:lnTo>
                      <a:lnTo>
                        <a:pt x="90" y="13"/>
                      </a:lnTo>
                      <a:lnTo>
                        <a:pt x="96" y="16"/>
                      </a:lnTo>
                      <a:lnTo>
                        <a:pt x="102" y="16"/>
                      </a:lnTo>
                      <a:lnTo>
                        <a:pt x="109" y="19"/>
                      </a:lnTo>
                      <a:lnTo>
                        <a:pt x="115" y="19"/>
                      </a:lnTo>
                      <a:lnTo>
                        <a:pt x="121" y="22"/>
                      </a:lnTo>
                      <a:lnTo>
                        <a:pt x="128" y="22"/>
                      </a:lnTo>
                      <a:lnTo>
                        <a:pt x="134" y="26"/>
                      </a:lnTo>
                      <a:lnTo>
                        <a:pt x="141" y="29"/>
                      </a:lnTo>
                      <a:lnTo>
                        <a:pt x="147" y="29"/>
                      </a:lnTo>
                      <a:lnTo>
                        <a:pt x="153" y="32"/>
                      </a:lnTo>
                      <a:lnTo>
                        <a:pt x="160" y="35"/>
                      </a:lnTo>
                      <a:lnTo>
                        <a:pt x="172" y="38"/>
                      </a:lnTo>
                      <a:lnTo>
                        <a:pt x="185" y="42"/>
                      </a:lnTo>
                      <a:lnTo>
                        <a:pt x="198" y="45"/>
                      </a:lnTo>
                      <a:lnTo>
                        <a:pt x="211" y="51"/>
                      </a:lnTo>
                      <a:lnTo>
                        <a:pt x="223" y="54"/>
                      </a:lnTo>
                      <a:lnTo>
                        <a:pt x="236" y="61"/>
                      </a:lnTo>
                      <a:lnTo>
                        <a:pt x="249" y="64"/>
                      </a:lnTo>
                      <a:lnTo>
                        <a:pt x="262" y="70"/>
                      </a:lnTo>
                      <a:lnTo>
                        <a:pt x="274" y="73"/>
                      </a:lnTo>
                      <a:lnTo>
                        <a:pt x="287" y="80"/>
                      </a:lnTo>
                      <a:lnTo>
                        <a:pt x="300" y="83"/>
                      </a:lnTo>
                      <a:lnTo>
                        <a:pt x="313" y="89"/>
                      </a:lnTo>
                      <a:lnTo>
                        <a:pt x="325" y="93"/>
                      </a:lnTo>
                      <a:lnTo>
                        <a:pt x="335" y="96"/>
                      </a:lnTo>
                      <a:lnTo>
                        <a:pt x="348" y="102"/>
                      </a:lnTo>
                      <a:lnTo>
                        <a:pt x="360" y="105"/>
                      </a:lnTo>
                      <a:lnTo>
                        <a:pt x="373" y="109"/>
                      </a:lnTo>
                      <a:lnTo>
                        <a:pt x="383" y="112"/>
                      </a:lnTo>
                      <a:lnTo>
                        <a:pt x="392" y="115"/>
                      </a:lnTo>
                      <a:lnTo>
                        <a:pt x="405" y="118"/>
                      </a:lnTo>
                      <a:lnTo>
                        <a:pt x="415" y="121"/>
                      </a:lnTo>
                      <a:lnTo>
                        <a:pt x="424" y="125"/>
                      </a:lnTo>
                      <a:lnTo>
                        <a:pt x="437" y="125"/>
                      </a:lnTo>
                      <a:lnTo>
                        <a:pt x="447" y="128"/>
                      </a:lnTo>
                      <a:lnTo>
                        <a:pt x="456" y="131"/>
                      </a:lnTo>
                      <a:lnTo>
                        <a:pt x="469" y="134"/>
                      </a:lnTo>
                      <a:lnTo>
                        <a:pt x="478" y="137"/>
                      </a:lnTo>
                      <a:lnTo>
                        <a:pt x="491" y="137"/>
                      </a:lnTo>
                      <a:lnTo>
                        <a:pt x="501" y="140"/>
                      </a:lnTo>
                      <a:lnTo>
                        <a:pt x="514" y="140"/>
                      </a:lnTo>
                      <a:lnTo>
                        <a:pt x="523" y="144"/>
                      </a:lnTo>
                      <a:lnTo>
                        <a:pt x="536" y="144"/>
                      </a:lnTo>
                      <a:lnTo>
                        <a:pt x="545" y="147"/>
                      </a:lnTo>
                      <a:lnTo>
                        <a:pt x="555" y="147"/>
                      </a:lnTo>
                      <a:lnTo>
                        <a:pt x="565" y="147"/>
                      </a:lnTo>
                      <a:lnTo>
                        <a:pt x="577" y="147"/>
                      </a:lnTo>
                      <a:lnTo>
                        <a:pt x="587" y="147"/>
                      </a:lnTo>
                      <a:lnTo>
                        <a:pt x="600" y="147"/>
                      </a:lnTo>
                      <a:lnTo>
                        <a:pt x="609" y="147"/>
                      </a:lnTo>
                      <a:lnTo>
                        <a:pt x="619" y="147"/>
                      </a:lnTo>
                      <a:lnTo>
                        <a:pt x="631" y="147"/>
                      </a:lnTo>
                      <a:lnTo>
                        <a:pt x="641" y="144"/>
                      </a:lnTo>
                      <a:lnTo>
                        <a:pt x="654" y="144"/>
                      </a:lnTo>
                      <a:lnTo>
                        <a:pt x="663" y="144"/>
                      </a:lnTo>
                      <a:lnTo>
                        <a:pt x="673" y="144"/>
                      </a:lnTo>
                      <a:lnTo>
                        <a:pt x="686" y="140"/>
                      </a:lnTo>
                      <a:lnTo>
                        <a:pt x="695" y="140"/>
                      </a:lnTo>
                      <a:lnTo>
                        <a:pt x="705" y="140"/>
                      </a:lnTo>
                      <a:lnTo>
                        <a:pt x="718" y="140"/>
                      </a:lnTo>
                      <a:lnTo>
                        <a:pt x="727" y="137"/>
                      </a:lnTo>
                      <a:lnTo>
                        <a:pt x="737" y="137"/>
                      </a:lnTo>
                      <a:lnTo>
                        <a:pt x="749" y="137"/>
                      </a:lnTo>
                      <a:lnTo>
                        <a:pt x="759" y="137"/>
                      </a:lnTo>
                      <a:lnTo>
                        <a:pt x="769" y="137"/>
                      </a:lnTo>
                      <a:lnTo>
                        <a:pt x="778" y="140"/>
                      </a:lnTo>
                      <a:lnTo>
                        <a:pt x="791" y="140"/>
                      </a:lnTo>
                      <a:lnTo>
                        <a:pt x="800" y="140"/>
                      </a:lnTo>
                      <a:lnTo>
                        <a:pt x="810" y="140"/>
                      </a:lnTo>
                      <a:lnTo>
                        <a:pt x="820" y="140"/>
                      </a:lnTo>
                      <a:lnTo>
                        <a:pt x="832" y="144"/>
                      </a:lnTo>
                      <a:lnTo>
                        <a:pt x="842" y="144"/>
                      </a:lnTo>
                      <a:lnTo>
                        <a:pt x="851" y="144"/>
                      </a:lnTo>
                      <a:lnTo>
                        <a:pt x="864" y="144"/>
                      </a:lnTo>
                      <a:lnTo>
                        <a:pt x="874" y="144"/>
                      </a:lnTo>
                      <a:lnTo>
                        <a:pt x="880" y="144"/>
                      </a:lnTo>
                      <a:lnTo>
                        <a:pt x="886" y="144"/>
                      </a:lnTo>
                      <a:lnTo>
                        <a:pt x="893" y="144"/>
                      </a:lnTo>
                      <a:lnTo>
                        <a:pt x="899" y="144"/>
                      </a:lnTo>
                      <a:lnTo>
                        <a:pt x="902" y="144"/>
                      </a:lnTo>
                      <a:lnTo>
                        <a:pt x="909" y="144"/>
                      </a:lnTo>
                      <a:lnTo>
                        <a:pt x="909" y="147"/>
                      </a:lnTo>
                      <a:lnTo>
                        <a:pt x="909" y="150"/>
                      </a:lnTo>
                      <a:close/>
                    </a:path>
                  </a:pathLst>
                </a:custGeom>
                <a:solidFill>
                  <a:srgbClr val="f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7429680" y="3201840"/>
                  <a:ext cx="756000" cy="201960"/>
                </a:xfrm>
                <a:custGeom>
                  <a:avLst/>
                  <a:gdLst/>
                  <a:ahLst/>
                  <a:rect l="l" t="t" r="r" b="b"/>
                  <a:pathLst>
                    <a:path w="887" h="224">
                      <a:moveTo>
                        <a:pt x="887" y="147"/>
                      </a:moveTo>
                      <a:lnTo>
                        <a:pt x="883" y="153"/>
                      </a:lnTo>
                      <a:lnTo>
                        <a:pt x="880" y="157"/>
                      </a:lnTo>
                      <a:lnTo>
                        <a:pt x="874" y="160"/>
                      </a:lnTo>
                      <a:lnTo>
                        <a:pt x="867" y="163"/>
                      </a:lnTo>
                      <a:lnTo>
                        <a:pt x="861" y="163"/>
                      </a:lnTo>
                      <a:lnTo>
                        <a:pt x="855" y="163"/>
                      </a:lnTo>
                      <a:lnTo>
                        <a:pt x="848" y="163"/>
                      </a:lnTo>
                      <a:lnTo>
                        <a:pt x="842" y="166"/>
                      </a:lnTo>
                      <a:lnTo>
                        <a:pt x="832" y="169"/>
                      </a:lnTo>
                      <a:lnTo>
                        <a:pt x="823" y="173"/>
                      </a:lnTo>
                      <a:lnTo>
                        <a:pt x="810" y="176"/>
                      </a:lnTo>
                      <a:lnTo>
                        <a:pt x="801" y="179"/>
                      </a:lnTo>
                      <a:lnTo>
                        <a:pt x="791" y="182"/>
                      </a:lnTo>
                      <a:lnTo>
                        <a:pt x="781" y="185"/>
                      </a:lnTo>
                      <a:lnTo>
                        <a:pt x="772" y="188"/>
                      </a:lnTo>
                      <a:lnTo>
                        <a:pt x="762" y="192"/>
                      </a:lnTo>
                      <a:lnTo>
                        <a:pt x="753" y="195"/>
                      </a:lnTo>
                      <a:lnTo>
                        <a:pt x="743" y="198"/>
                      </a:lnTo>
                      <a:lnTo>
                        <a:pt x="734" y="201"/>
                      </a:lnTo>
                      <a:lnTo>
                        <a:pt x="721" y="204"/>
                      </a:lnTo>
                      <a:lnTo>
                        <a:pt x="711" y="208"/>
                      </a:lnTo>
                      <a:lnTo>
                        <a:pt x="702" y="211"/>
                      </a:lnTo>
                      <a:lnTo>
                        <a:pt x="692" y="214"/>
                      </a:lnTo>
                      <a:lnTo>
                        <a:pt x="679" y="217"/>
                      </a:lnTo>
                      <a:lnTo>
                        <a:pt x="673" y="217"/>
                      </a:lnTo>
                      <a:lnTo>
                        <a:pt x="663" y="220"/>
                      </a:lnTo>
                      <a:lnTo>
                        <a:pt x="657" y="220"/>
                      </a:lnTo>
                      <a:lnTo>
                        <a:pt x="648" y="224"/>
                      </a:lnTo>
                      <a:lnTo>
                        <a:pt x="638" y="224"/>
                      </a:lnTo>
                      <a:lnTo>
                        <a:pt x="632" y="224"/>
                      </a:lnTo>
                      <a:lnTo>
                        <a:pt x="622" y="224"/>
                      </a:lnTo>
                      <a:lnTo>
                        <a:pt x="612" y="224"/>
                      </a:lnTo>
                      <a:lnTo>
                        <a:pt x="603" y="224"/>
                      </a:lnTo>
                      <a:lnTo>
                        <a:pt x="597" y="220"/>
                      </a:lnTo>
                      <a:lnTo>
                        <a:pt x="587" y="220"/>
                      </a:lnTo>
                      <a:lnTo>
                        <a:pt x="577" y="220"/>
                      </a:lnTo>
                      <a:lnTo>
                        <a:pt x="571" y="217"/>
                      </a:lnTo>
                      <a:lnTo>
                        <a:pt x="561" y="214"/>
                      </a:lnTo>
                      <a:lnTo>
                        <a:pt x="555" y="211"/>
                      </a:lnTo>
                      <a:lnTo>
                        <a:pt x="546" y="211"/>
                      </a:lnTo>
                      <a:lnTo>
                        <a:pt x="539" y="208"/>
                      </a:lnTo>
                      <a:lnTo>
                        <a:pt x="533" y="204"/>
                      </a:lnTo>
                      <a:lnTo>
                        <a:pt x="526" y="201"/>
                      </a:lnTo>
                      <a:lnTo>
                        <a:pt x="520" y="198"/>
                      </a:lnTo>
                      <a:lnTo>
                        <a:pt x="514" y="195"/>
                      </a:lnTo>
                      <a:lnTo>
                        <a:pt x="507" y="192"/>
                      </a:lnTo>
                      <a:lnTo>
                        <a:pt x="501" y="192"/>
                      </a:lnTo>
                      <a:lnTo>
                        <a:pt x="495" y="188"/>
                      </a:lnTo>
                      <a:lnTo>
                        <a:pt x="488" y="185"/>
                      </a:lnTo>
                      <a:lnTo>
                        <a:pt x="482" y="182"/>
                      </a:lnTo>
                      <a:lnTo>
                        <a:pt x="475" y="179"/>
                      </a:lnTo>
                      <a:lnTo>
                        <a:pt x="469" y="179"/>
                      </a:lnTo>
                      <a:lnTo>
                        <a:pt x="463" y="176"/>
                      </a:lnTo>
                      <a:lnTo>
                        <a:pt x="456" y="173"/>
                      </a:lnTo>
                      <a:lnTo>
                        <a:pt x="450" y="169"/>
                      </a:lnTo>
                      <a:lnTo>
                        <a:pt x="444" y="169"/>
                      </a:lnTo>
                      <a:lnTo>
                        <a:pt x="431" y="163"/>
                      </a:lnTo>
                      <a:lnTo>
                        <a:pt x="421" y="160"/>
                      </a:lnTo>
                      <a:lnTo>
                        <a:pt x="408" y="157"/>
                      </a:lnTo>
                      <a:lnTo>
                        <a:pt x="399" y="153"/>
                      </a:lnTo>
                      <a:lnTo>
                        <a:pt x="386" y="147"/>
                      </a:lnTo>
                      <a:lnTo>
                        <a:pt x="377" y="144"/>
                      </a:lnTo>
                      <a:lnTo>
                        <a:pt x="364" y="141"/>
                      </a:lnTo>
                      <a:lnTo>
                        <a:pt x="354" y="137"/>
                      </a:lnTo>
                      <a:lnTo>
                        <a:pt x="345" y="134"/>
                      </a:lnTo>
                      <a:lnTo>
                        <a:pt x="332" y="131"/>
                      </a:lnTo>
                      <a:lnTo>
                        <a:pt x="322" y="128"/>
                      </a:lnTo>
                      <a:lnTo>
                        <a:pt x="313" y="122"/>
                      </a:lnTo>
                      <a:lnTo>
                        <a:pt x="300" y="118"/>
                      </a:lnTo>
                      <a:lnTo>
                        <a:pt x="290" y="115"/>
                      </a:lnTo>
                      <a:lnTo>
                        <a:pt x="278" y="109"/>
                      </a:lnTo>
                      <a:lnTo>
                        <a:pt x="268" y="106"/>
                      </a:lnTo>
                      <a:lnTo>
                        <a:pt x="255" y="99"/>
                      </a:lnTo>
                      <a:lnTo>
                        <a:pt x="243" y="96"/>
                      </a:lnTo>
                      <a:lnTo>
                        <a:pt x="233" y="90"/>
                      </a:lnTo>
                      <a:lnTo>
                        <a:pt x="220" y="86"/>
                      </a:lnTo>
                      <a:lnTo>
                        <a:pt x="211" y="80"/>
                      </a:lnTo>
                      <a:lnTo>
                        <a:pt x="198" y="77"/>
                      </a:lnTo>
                      <a:lnTo>
                        <a:pt x="188" y="74"/>
                      </a:lnTo>
                      <a:lnTo>
                        <a:pt x="176" y="67"/>
                      </a:lnTo>
                      <a:lnTo>
                        <a:pt x="166" y="64"/>
                      </a:lnTo>
                      <a:lnTo>
                        <a:pt x="157" y="61"/>
                      </a:lnTo>
                      <a:lnTo>
                        <a:pt x="144" y="55"/>
                      </a:lnTo>
                      <a:lnTo>
                        <a:pt x="131" y="51"/>
                      </a:lnTo>
                      <a:lnTo>
                        <a:pt x="122" y="48"/>
                      </a:lnTo>
                      <a:lnTo>
                        <a:pt x="109" y="45"/>
                      </a:lnTo>
                      <a:lnTo>
                        <a:pt x="96" y="39"/>
                      </a:lnTo>
                      <a:lnTo>
                        <a:pt x="80" y="35"/>
                      </a:lnTo>
                      <a:lnTo>
                        <a:pt x="71" y="32"/>
                      </a:lnTo>
                      <a:lnTo>
                        <a:pt x="64" y="29"/>
                      </a:lnTo>
                      <a:lnTo>
                        <a:pt x="55" y="26"/>
                      </a:lnTo>
                      <a:lnTo>
                        <a:pt x="48" y="23"/>
                      </a:lnTo>
                      <a:lnTo>
                        <a:pt x="42" y="23"/>
                      </a:lnTo>
                      <a:lnTo>
                        <a:pt x="35" y="19"/>
                      </a:lnTo>
                      <a:lnTo>
                        <a:pt x="29" y="16"/>
                      </a:lnTo>
                      <a:lnTo>
                        <a:pt x="26" y="16"/>
                      </a:lnTo>
                      <a:lnTo>
                        <a:pt x="23" y="13"/>
                      </a:lnTo>
                      <a:lnTo>
                        <a:pt x="20" y="13"/>
                      </a:lnTo>
                      <a:lnTo>
                        <a:pt x="16" y="13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lnTo>
                        <a:pt x="4" y="4"/>
                      </a:ln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20" y="4"/>
                      </a:lnTo>
                      <a:lnTo>
                        <a:pt x="29" y="4"/>
                      </a:lnTo>
                      <a:lnTo>
                        <a:pt x="39" y="7"/>
                      </a:lnTo>
                      <a:lnTo>
                        <a:pt x="48" y="10"/>
                      </a:lnTo>
                      <a:lnTo>
                        <a:pt x="55" y="10"/>
                      </a:lnTo>
                      <a:lnTo>
                        <a:pt x="64" y="13"/>
                      </a:lnTo>
                      <a:lnTo>
                        <a:pt x="71" y="13"/>
                      </a:lnTo>
                      <a:lnTo>
                        <a:pt x="74" y="16"/>
                      </a:lnTo>
                      <a:lnTo>
                        <a:pt x="80" y="16"/>
                      </a:lnTo>
                      <a:lnTo>
                        <a:pt x="86" y="19"/>
                      </a:lnTo>
                      <a:lnTo>
                        <a:pt x="93" y="19"/>
                      </a:lnTo>
                      <a:lnTo>
                        <a:pt x="96" y="23"/>
                      </a:lnTo>
                      <a:lnTo>
                        <a:pt x="102" y="23"/>
                      </a:lnTo>
                      <a:lnTo>
                        <a:pt x="109" y="26"/>
                      </a:lnTo>
                      <a:lnTo>
                        <a:pt x="115" y="26"/>
                      </a:lnTo>
                      <a:lnTo>
                        <a:pt x="122" y="29"/>
                      </a:lnTo>
                      <a:lnTo>
                        <a:pt x="128" y="29"/>
                      </a:lnTo>
                      <a:lnTo>
                        <a:pt x="134" y="32"/>
                      </a:lnTo>
                      <a:lnTo>
                        <a:pt x="141" y="35"/>
                      </a:lnTo>
                      <a:lnTo>
                        <a:pt x="153" y="39"/>
                      </a:lnTo>
                      <a:lnTo>
                        <a:pt x="166" y="42"/>
                      </a:lnTo>
                      <a:lnTo>
                        <a:pt x="179" y="48"/>
                      </a:lnTo>
                      <a:lnTo>
                        <a:pt x="192" y="51"/>
                      </a:lnTo>
                      <a:lnTo>
                        <a:pt x="204" y="55"/>
                      </a:lnTo>
                      <a:lnTo>
                        <a:pt x="217" y="61"/>
                      </a:lnTo>
                      <a:lnTo>
                        <a:pt x="230" y="67"/>
                      </a:lnTo>
                      <a:lnTo>
                        <a:pt x="243" y="70"/>
                      </a:lnTo>
                      <a:lnTo>
                        <a:pt x="255" y="77"/>
                      </a:lnTo>
                      <a:lnTo>
                        <a:pt x="268" y="80"/>
                      </a:lnTo>
                      <a:lnTo>
                        <a:pt x="281" y="86"/>
                      </a:lnTo>
                      <a:lnTo>
                        <a:pt x="294" y="90"/>
                      </a:lnTo>
                      <a:lnTo>
                        <a:pt x="306" y="96"/>
                      </a:lnTo>
                      <a:lnTo>
                        <a:pt x="319" y="99"/>
                      </a:lnTo>
                      <a:lnTo>
                        <a:pt x="332" y="102"/>
                      </a:lnTo>
                      <a:lnTo>
                        <a:pt x="345" y="109"/>
                      </a:lnTo>
                      <a:lnTo>
                        <a:pt x="354" y="112"/>
                      </a:lnTo>
                      <a:lnTo>
                        <a:pt x="364" y="115"/>
                      </a:lnTo>
                      <a:lnTo>
                        <a:pt x="377" y="115"/>
                      </a:lnTo>
                      <a:lnTo>
                        <a:pt x="386" y="118"/>
                      </a:lnTo>
                      <a:lnTo>
                        <a:pt x="399" y="122"/>
                      </a:lnTo>
                      <a:lnTo>
                        <a:pt x="408" y="125"/>
                      </a:lnTo>
                      <a:lnTo>
                        <a:pt x="418" y="128"/>
                      </a:lnTo>
                      <a:lnTo>
                        <a:pt x="431" y="131"/>
                      </a:lnTo>
                      <a:lnTo>
                        <a:pt x="440" y="134"/>
                      </a:lnTo>
                      <a:lnTo>
                        <a:pt x="450" y="134"/>
                      </a:lnTo>
                      <a:lnTo>
                        <a:pt x="463" y="137"/>
                      </a:lnTo>
                      <a:lnTo>
                        <a:pt x="472" y="141"/>
                      </a:lnTo>
                      <a:lnTo>
                        <a:pt x="485" y="141"/>
                      </a:lnTo>
                      <a:lnTo>
                        <a:pt x="495" y="144"/>
                      </a:lnTo>
                      <a:lnTo>
                        <a:pt x="504" y="147"/>
                      </a:lnTo>
                      <a:lnTo>
                        <a:pt x="517" y="147"/>
                      </a:lnTo>
                      <a:lnTo>
                        <a:pt x="526" y="147"/>
                      </a:lnTo>
                      <a:lnTo>
                        <a:pt x="539" y="147"/>
                      </a:lnTo>
                      <a:lnTo>
                        <a:pt x="549" y="150"/>
                      </a:lnTo>
                      <a:lnTo>
                        <a:pt x="558" y="150"/>
                      </a:lnTo>
                      <a:lnTo>
                        <a:pt x="571" y="150"/>
                      </a:lnTo>
                      <a:lnTo>
                        <a:pt x="581" y="150"/>
                      </a:lnTo>
                      <a:lnTo>
                        <a:pt x="590" y="147"/>
                      </a:lnTo>
                      <a:lnTo>
                        <a:pt x="603" y="147"/>
                      </a:lnTo>
                      <a:lnTo>
                        <a:pt x="612" y="147"/>
                      </a:lnTo>
                      <a:lnTo>
                        <a:pt x="622" y="147"/>
                      </a:lnTo>
                      <a:lnTo>
                        <a:pt x="635" y="144"/>
                      </a:lnTo>
                      <a:lnTo>
                        <a:pt x="644" y="144"/>
                      </a:lnTo>
                      <a:lnTo>
                        <a:pt x="657" y="144"/>
                      </a:lnTo>
                      <a:lnTo>
                        <a:pt x="667" y="141"/>
                      </a:lnTo>
                      <a:lnTo>
                        <a:pt x="676" y="141"/>
                      </a:lnTo>
                      <a:lnTo>
                        <a:pt x="689" y="141"/>
                      </a:lnTo>
                      <a:lnTo>
                        <a:pt x="699" y="137"/>
                      </a:lnTo>
                      <a:lnTo>
                        <a:pt x="708" y="137"/>
                      </a:lnTo>
                      <a:lnTo>
                        <a:pt x="721" y="137"/>
                      </a:lnTo>
                      <a:lnTo>
                        <a:pt x="730" y="137"/>
                      </a:lnTo>
                      <a:lnTo>
                        <a:pt x="740" y="137"/>
                      </a:lnTo>
                      <a:lnTo>
                        <a:pt x="750" y="137"/>
                      </a:lnTo>
                      <a:lnTo>
                        <a:pt x="759" y="137"/>
                      </a:lnTo>
                      <a:lnTo>
                        <a:pt x="772" y="137"/>
                      </a:lnTo>
                      <a:lnTo>
                        <a:pt x="781" y="137"/>
                      </a:lnTo>
                      <a:lnTo>
                        <a:pt x="791" y="141"/>
                      </a:lnTo>
                      <a:lnTo>
                        <a:pt x="801" y="141"/>
                      </a:lnTo>
                      <a:lnTo>
                        <a:pt x="810" y="141"/>
                      </a:lnTo>
                      <a:lnTo>
                        <a:pt x="823" y="141"/>
                      </a:lnTo>
                      <a:lnTo>
                        <a:pt x="832" y="141"/>
                      </a:lnTo>
                      <a:lnTo>
                        <a:pt x="842" y="144"/>
                      </a:lnTo>
                      <a:lnTo>
                        <a:pt x="855" y="144"/>
                      </a:lnTo>
                      <a:lnTo>
                        <a:pt x="861" y="144"/>
                      </a:lnTo>
                      <a:lnTo>
                        <a:pt x="867" y="141"/>
                      </a:lnTo>
                      <a:lnTo>
                        <a:pt x="874" y="141"/>
                      </a:lnTo>
                      <a:lnTo>
                        <a:pt x="877" y="141"/>
                      </a:lnTo>
                      <a:lnTo>
                        <a:pt x="883" y="141"/>
                      </a:lnTo>
                      <a:lnTo>
                        <a:pt x="887" y="141"/>
                      </a:lnTo>
                      <a:lnTo>
                        <a:pt x="887" y="144"/>
                      </a:lnTo>
                      <a:lnTo>
                        <a:pt x="887" y="1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7674120" y="3107160"/>
                  <a:ext cx="317880" cy="94680"/>
                </a:xfrm>
                <a:custGeom>
                  <a:avLst/>
                  <a:gdLst/>
                  <a:ahLst/>
                  <a:rect l="l" t="t" r="r" b="b"/>
                  <a:pathLst>
                    <a:path w="373" h="105">
                      <a:moveTo>
                        <a:pt x="373" y="105"/>
                      </a:moveTo>
                      <a:lnTo>
                        <a:pt x="367" y="102"/>
                      </a:lnTo>
                      <a:lnTo>
                        <a:pt x="357" y="99"/>
                      </a:lnTo>
                      <a:lnTo>
                        <a:pt x="351" y="96"/>
                      </a:lnTo>
                      <a:lnTo>
                        <a:pt x="345" y="93"/>
                      </a:lnTo>
                      <a:lnTo>
                        <a:pt x="338" y="93"/>
                      </a:lnTo>
                      <a:lnTo>
                        <a:pt x="332" y="89"/>
                      </a:lnTo>
                      <a:lnTo>
                        <a:pt x="322" y="86"/>
                      </a:lnTo>
                      <a:lnTo>
                        <a:pt x="316" y="83"/>
                      </a:lnTo>
                      <a:lnTo>
                        <a:pt x="310" y="83"/>
                      </a:lnTo>
                      <a:lnTo>
                        <a:pt x="303" y="80"/>
                      </a:lnTo>
                      <a:lnTo>
                        <a:pt x="297" y="77"/>
                      </a:lnTo>
                      <a:lnTo>
                        <a:pt x="290" y="73"/>
                      </a:lnTo>
                      <a:lnTo>
                        <a:pt x="281" y="70"/>
                      </a:lnTo>
                      <a:lnTo>
                        <a:pt x="274" y="70"/>
                      </a:lnTo>
                      <a:lnTo>
                        <a:pt x="268" y="67"/>
                      </a:lnTo>
                      <a:lnTo>
                        <a:pt x="262" y="64"/>
                      </a:lnTo>
                      <a:lnTo>
                        <a:pt x="249" y="61"/>
                      </a:lnTo>
                      <a:lnTo>
                        <a:pt x="236" y="57"/>
                      </a:lnTo>
                      <a:lnTo>
                        <a:pt x="223" y="51"/>
                      </a:lnTo>
                      <a:lnTo>
                        <a:pt x="211" y="48"/>
                      </a:lnTo>
                      <a:lnTo>
                        <a:pt x="198" y="45"/>
                      </a:lnTo>
                      <a:lnTo>
                        <a:pt x="185" y="42"/>
                      </a:lnTo>
                      <a:lnTo>
                        <a:pt x="172" y="38"/>
                      </a:lnTo>
                      <a:lnTo>
                        <a:pt x="160" y="35"/>
                      </a:lnTo>
                      <a:lnTo>
                        <a:pt x="150" y="32"/>
                      </a:lnTo>
                      <a:lnTo>
                        <a:pt x="137" y="29"/>
                      </a:lnTo>
                      <a:lnTo>
                        <a:pt x="125" y="26"/>
                      </a:lnTo>
                      <a:lnTo>
                        <a:pt x="112" y="22"/>
                      </a:lnTo>
                      <a:lnTo>
                        <a:pt x="99" y="19"/>
                      </a:lnTo>
                      <a:lnTo>
                        <a:pt x="86" y="16"/>
                      </a:lnTo>
                      <a:lnTo>
                        <a:pt x="74" y="13"/>
                      </a:lnTo>
                      <a:lnTo>
                        <a:pt x="61" y="10"/>
                      </a:lnTo>
                      <a:lnTo>
                        <a:pt x="58" y="6"/>
                      </a:lnTo>
                      <a:lnTo>
                        <a:pt x="51" y="6"/>
                      </a:lnTo>
                      <a:lnTo>
                        <a:pt x="48" y="6"/>
                      </a:lnTo>
                      <a:lnTo>
                        <a:pt x="45" y="3"/>
                      </a:lnTo>
                      <a:lnTo>
                        <a:pt x="42" y="3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29" y="0"/>
                      </a:lnTo>
                      <a:lnTo>
                        <a:pt x="35" y="6"/>
                      </a:lnTo>
                      <a:lnTo>
                        <a:pt x="39" y="10"/>
                      </a:lnTo>
                      <a:lnTo>
                        <a:pt x="42" y="16"/>
                      </a:lnTo>
                      <a:lnTo>
                        <a:pt x="39" y="22"/>
                      </a:lnTo>
                      <a:lnTo>
                        <a:pt x="32" y="29"/>
                      </a:lnTo>
                      <a:lnTo>
                        <a:pt x="26" y="32"/>
                      </a:lnTo>
                      <a:lnTo>
                        <a:pt x="13" y="38"/>
                      </a:lnTo>
                      <a:lnTo>
                        <a:pt x="0" y="42"/>
                      </a:lnTo>
                      <a:lnTo>
                        <a:pt x="373" y="105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7671960" y="3144960"/>
                  <a:ext cx="331200" cy="60120"/>
                </a:xfrm>
                <a:custGeom>
                  <a:avLst/>
                  <a:gdLst/>
                  <a:ahLst/>
                  <a:rect l="l" t="t" r="r" b="b"/>
                  <a:pathLst>
                    <a:path w="389" h="67">
                      <a:moveTo>
                        <a:pt x="376" y="63"/>
                      </a:moveTo>
                      <a:lnTo>
                        <a:pt x="376" y="63"/>
                      </a:lnTo>
                      <a:lnTo>
                        <a:pt x="379" y="63"/>
                      </a:lnTo>
                      <a:lnTo>
                        <a:pt x="379" y="63"/>
                      </a:lnTo>
                      <a:lnTo>
                        <a:pt x="383" y="63"/>
                      </a:lnTo>
                      <a:lnTo>
                        <a:pt x="386" y="63"/>
                      </a:lnTo>
                      <a:lnTo>
                        <a:pt x="386" y="67"/>
                      </a:lnTo>
                      <a:lnTo>
                        <a:pt x="389" y="67"/>
                      </a:lnTo>
                      <a:lnTo>
                        <a:pt x="389" y="6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76" y="63"/>
                      </a:lnTo>
                      <a:close/>
                    </a:path>
                  </a:pathLst>
                </a:custGeom>
                <a:solidFill>
                  <a:srgbClr val="96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7664040" y="3144960"/>
                  <a:ext cx="352800" cy="65880"/>
                </a:xfrm>
                <a:custGeom>
                  <a:avLst/>
                  <a:gdLst/>
                  <a:ahLst/>
                  <a:rect l="l" t="t" r="r" b="b"/>
                  <a:pathLst>
                    <a:path w="414" h="73">
                      <a:moveTo>
                        <a:pt x="398" y="67"/>
                      </a:moveTo>
                      <a:lnTo>
                        <a:pt x="401" y="67"/>
                      </a:lnTo>
                      <a:lnTo>
                        <a:pt x="401" y="70"/>
                      </a:lnTo>
                      <a:lnTo>
                        <a:pt x="404" y="70"/>
                      </a:lnTo>
                      <a:lnTo>
                        <a:pt x="408" y="70"/>
                      </a:lnTo>
                      <a:lnTo>
                        <a:pt x="408" y="70"/>
                      </a:lnTo>
                      <a:lnTo>
                        <a:pt x="411" y="73"/>
                      </a:lnTo>
                      <a:lnTo>
                        <a:pt x="411" y="73"/>
                      </a:lnTo>
                      <a:lnTo>
                        <a:pt x="414" y="7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9" y="0"/>
                      </a:lnTo>
                      <a:lnTo>
                        <a:pt x="398" y="67"/>
                      </a:lnTo>
                      <a:close/>
                    </a:path>
                  </a:pathLst>
                </a:custGeom>
                <a:solidFill>
                  <a:srgbClr val="99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7657920" y="3147840"/>
                  <a:ext cx="369720" cy="68400"/>
                </a:xfrm>
                <a:custGeom>
                  <a:avLst/>
                  <a:gdLst/>
                  <a:ahLst/>
                  <a:rect l="l" t="t" r="r" b="b"/>
                  <a:pathLst>
                    <a:path w="434" h="76">
                      <a:moveTo>
                        <a:pt x="421" y="70"/>
                      </a:moveTo>
                      <a:lnTo>
                        <a:pt x="421" y="70"/>
                      </a:lnTo>
                      <a:lnTo>
                        <a:pt x="424" y="70"/>
                      </a:lnTo>
                      <a:lnTo>
                        <a:pt x="427" y="73"/>
                      </a:lnTo>
                      <a:lnTo>
                        <a:pt x="427" y="73"/>
                      </a:lnTo>
                      <a:lnTo>
                        <a:pt x="431" y="73"/>
                      </a:lnTo>
                      <a:lnTo>
                        <a:pt x="431" y="73"/>
                      </a:lnTo>
                      <a:lnTo>
                        <a:pt x="434" y="73"/>
                      </a:lnTo>
                      <a:lnTo>
                        <a:pt x="434" y="76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421" y="70"/>
                      </a:lnTo>
                      <a:close/>
                    </a:path>
                  </a:pathLst>
                </a:custGeom>
                <a:solidFill>
                  <a:srgbClr val="9ba3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652880" y="3150360"/>
                  <a:ext cx="385200" cy="68400"/>
                </a:xfrm>
                <a:custGeom>
                  <a:avLst/>
                  <a:gdLst/>
                  <a:ahLst/>
                  <a:rect l="l" t="t" r="r" b="b"/>
                  <a:pathLst>
                    <a:path w="452" h="76">
                      <a:moveTo>
                        <a:pt x="440" y="73"/>
                      </a:moveTo>
                      <a:lnTo>
                        <a:pt x="443" y="73"/>
                      </a:lnTo>
                      <a:lnTo>
                        <a:pt x="443" y="73"/>
                      </a:lnTo>
                      <a:lnTo>
                        <a:pt x="446" y="73"/>
                      </a:lnTo>
                      <a:lnTo>
                        <a:pt x="446" y="73"/>
                      </a:lnTo>
                      <a:lnTo>
                        <a:pt x="449" y="76"/>
                      </a:lnTo>
                      <a:lnTo>
                        <a:pt x="449" y="76"/>
                      </a:lnTo>
                      <a:lnTo>
                        <a:pt x="452" y="76"/>
                      </a:lnTo>
                      <a:lnTo>
                        <a:pt x="452" y="7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440" y="73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7644240" y="3150360"/>
                  <a:ext cx="407160" cy="74880"/>
                </a:xfrm>
                <a:custGeom>
                  <a:avLst/>
                  <a:gdLst/>
                  <a:ahLst/>
                  <a:rect l="l" t="t" r="r" b="b"/>
                  <a:pathLst>
                    <a:path w="478" h="83">
                      <a:moveTo>
                        <a:pt x="462" y="76"/>
                      </a:moveTo>
                      <a:lnTo>
                        <a:pt x="466" y="76"/>
                      </a:lnTo>
                      <a:lnTo>
                        <a:pt x="469" y="80"/>
                      </a:lnTo>
                      <a:lnTo>
                        <a:pt x="469" y="80"/>
                      </a:lnTo>
                      <a:lnTo>
                        <a:pt x="472" y="80"/>
                      </a:lnTo>
                      <a:lnTo>
                        <a:pt x="472" y="80"/>
                      </a:lnTo>
                      <a:lnTo>
                        <a:pt x="475" y="80"/>
                      </a:lnTo>
                      <a:lnTo>
                        <a:pt x="475" y="83"/>
                      </a:lnTo>
                      <a:lnTo>
                        <a:pt x="478" y="8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462" y="76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7639200" y="3153240"/>
                  <a:ext cx="420840" cy="74880"/>
                </a:xfrm>
                <a:custGeom>
                  <a:avLst/>
                  <a:gdLst/>
                  <a:ahLst/>
                  <a:rect l="l" t="t" r="r" b="b"/>
                  <a:pathLst>
                    <a:path w="494" h="83">
                      <a:moveTo>
                        <a:pt x="484" y="80"/>
                      </a:moveTo>
                      <a:lnTo>
                        <a:pt x="484" y="80"/>
                      </a:lnTo>
                      <a:lnTo>
                        <a:pt x="488" y="80"/>
                      </a:lnTo>
                      <a:lnTo>
                        <a:pt x="488" y="80"/>
                      </a:lnTo>
                      <a:lnTo>
                        <a:pt x="491" y="83"/>
                      </a:lnTo>
                      <a:lnTo>
                        <a:pt x="491" y="83"/>
                      </a:lnTo>
                      <a:lnTo>
                        <a:pt x="491" y="83"/>
                      </a:lnTo>
                      <a:lnTo>
                        <a:pt x="494" y="83"/>
                      </a:lnTo>
                      <a:lnTo>
                        <a:pt x="494" y="8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484" y="80"/>
                      </a:lnTo>
                      <a:close/>
                    </a:path>
                  </a:pathLst>
                </a:custGeom>
                <a:solidFill>
                  <a:srgbClr val="a1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7630920" y="3153240"/>
                  <a:ext cx="440640" cy="79920"/>
                </a:xfrm>
                <a:custGeom>
                  <a:avLst/>
                  <a:gdLst/>
                  <a:ahLst/>
                  <a:rect l="l" t="t" r="r" b="b"/>
                  <a:pathLst>
                    <a:path w="517" h="89">
                      <a:moveTo>
                        <a:pt x="504" y="83"/>
                      </a:moveTo>
                      <a:lnTo>
                        <a:pt x="507" y="86"/>
                      </a:lnTo>
                      <a:lnTo>
                        <a:pt x="507" y="86"/>
                      </a:lnTo>
                      <a:lnTo>
                        <a:pt x="510" y="86"/>
                      </a:lnTo>
                      <a:lnTo>
                        <a:pt x="510" y="86"/>
                      </a:lnTo>
                      <a:lnTo>
                        <a:pt x="514" y="86"/>
                      </a:lnTo>
                      <a:lnTo>
                        <a:pt x="514" y="89"/>
                      </a:lnTo>
                      <a:lnTo>
                        <a:pt x="517" y="89"/>
                      </a:lnTo>
                      <a:lnTo>
                        <a:pt x="517" y="89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504" y="83"/>
                      </a:lnTo>
                      <a:close/>
                    </a:path>
                  </a:pathLst>
                </a:custGeom>
                <a:solidFill>
                  <a:srgbClr val="a3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7623000" y="3155760"/>
                  <a:ext cx="458640" cy="83880"/>
                </a:xfrm>
                <a:custGeom>
                  <a:avLst/>
                  <a:gdLst/>
                  <a:ahLst/>
                  <a:rect l="l" t="t" r="r" b="b"/>
                  <a:pathLst>
                    <a:path w="538" h="93">
                      <a:moveTo>
                        <a:pt x="526" y="86"/>
                      </a:moveTo>
                      <a:lnTo>
                        <a:pt x="529" y="86"/>
                      </a:lnTo>
                      <a:lnTo>
                        <a:pt x="529" y="86"/>
                      </a:lnTo>
                      <a:lnTo>
                        <a:pt x="532" y="90"/>
                      </a:lnTo>
                      <a:lnTo>
                        <a:pt x="532" y="90"/>
                      </a:lnTo>
                      <a:lnTo>
                        <a:pt x="535" y="90"/>
                      </a:lnTo>
                      <a:lnTo>
                        <a:pt x="535" y="90"/>
                      </a:lnTo>
                      <a:lnTo>
                        <a:pt x="538" y="90"/>
                      </a:lnTo>
                      <a:lnTo>
                        <a:pt x="538" y="9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526" y="86"/>
                      </a:lnTo>
                      <a:close/>
                    </a:path>
                  </a:pathLst>
                </a:custGeom>
                <a:solidFill>
                  <a:srgbClr val="a6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614720" y="3155760"/>
                  <a:ext cx="478080" cy="86400"/>
                </a:xfrm>
                <a:custGeom>
                  <a:avLst/>
                  <a:gdLst/>
                  <a:ahLst/>
                  <a:rect l="l" t="t" r="r" b="b"/>
                  <a:pathLst>
                    <a:path w="561" h="96">
                      <a:moveTo>
                        <a:pt x="548" y="93"/>
                      </a:moveTo>
                      <a:lnTo>
                        <a:pt x="552" y="93"/>
                      </a:lnTo>
                      <a:lnTo>
                        <a:pt x="552" y="93"/>
                      </a:lnTo>
                      <a:lnTo>
                        <a:pt x="555" y="93"/>
                      </a:lnTo>
                      <a:lnTo>
                        <a:pt x="555" y="93"/>
                      </a:lnTo>
                      <a:lnTo>
                        <a:pt x="558" y="96"/>
                      </a:lnTo>
                      <a:lnTo>
                        <a:pt x="558" y="96"/>
                      </a:lnTo>
                      <a:lnTo>
                        <a:pt x="561" y="96"/>
                      </a:lnTo>
                      <a:lnTo>
                        <a:pt x="561" y="96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548" y="93"/>
                      </a:lnTo>
                      <a:close/>
                    </a:path>
                  </a:pathLst>
                </a:custGeom>
                <a:solidFill>
                  <a:srgbClr val="a8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606800" y="3158640"/>
                  <a:ext cx="496800" cy="89280"/>
                </a:xfrm>
                <a:custGeom>
                  <a:avLst/>
                  <a:gdLst/>
                  <a:ahLst/>
                  <a:rect l="l" t="t" r="r" b="b"/>
                  <a:pathLst>
                    <a:path w="583" h="99">
                      <a:moveTo>
                        <a:pt x="570" y="93"/>
                      </a:moveTo>
                      <a:lnTo>
                        <a:pt x="573" y="96"/>
                      </a:lnTo>
                      <a:lnTo>
                        <a:pt x="573" y="96"/>
                      </a:lnTo>
                      <a:lnTo>
                        <a:pt x="573" y="96"/>
                      </a:lnTo>
                      <a:lnTo>
                        <a:pt x="577" y="96"/>
                      </a:lnTo>
                      <a:lnTo>
                        <a:pt x="577" y="96"/>
                      </a:lnTo>
                      <a:lnTo>
                        <a:pt x="580" y="96"/>
                      </a:lnTo>
                      <a:lnTo>
                        <a:pt x="580" y="99"/>
                      </a:lnTo>
                      <a:lnTo>
                        <a:pt x="583" y="99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70" y="93"/>
                      </a:lnTo>
                      <a:close/>
                    </a:path>
                  </a:pathLst>
                </a:custGeom>
                <a:solidFill>
                  <a:srgbClr val="a8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598160" y="3158640"/>
                  <a:ext cx="513720" cy="92880"/>
                </a:xfrm>
                <a:custGeom>
                  <a:avLst/>
                  <a:gdLst/>
                  <a:ahLst/>
                  <a:rect l="l" t="t" r="r" b="b"/>
                  <a:pathLst>
                    <a:path w="603" h="103">
                      <a:moveTo>
                        <a:pt x="593" y="99"/>
                      </a:moveTo>
                      <a:lnTo>
                        <a:pt x="593" y="99"/>
                      </a:lnTo>
                      <a:lnTo>
                        <a:pt x="596" y="99"/>
                      </a:lnTo>
                      <a:lnTo>
                        <a:pt x="596" y="99"/>
                      </a:lnTo>
                      <a:lnTo>
                        <a:pt x="596" y="103"/>
                      </a:lnTo>
                      <a:lnTo>
                        <a:pt x="599" y="103"/>
                      </a:lnTo>
                      <a:lnTo>
                        <a:pt x="599" y="103"/>
                      </a:lnTo>
                      <a:lnTo>
                        <a:pt x="603" y="103"/>
                      </a:lnTo>
                      <a:lnTo>
                        <a:pt x="603" y="103"/>
                      </a:ln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593" y="99"/>
                      </a:lnTo>
                      <a:close/>
                    </a:path>
                  </a:pathLst>
                </a:custGeom>
                <a:solidFill>
                  <a:srgbClr val="ad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589880" y="3162240"/>
                  <a:ext cx="529920" cy="94680"/>
                </a:xfrm>
                <a:custGeom>
                  <a:avLst/>
                  <a:gdLst/>
                  <a:ahLst/>
                  <a:rect l="l" t="t" r="r" b="b"/>
                  <a:pathLst>
                    <a:path w="622" h="105">
                      <a:moveTo>
                        <a:pt x="613" y="99"/>
                      </a:moveTo>
                      <a:lnTo>
                        <a:pt x="613" y="99"/>
                      </a:lnTo>
                      <a:lnTo>
                        <a:pt x="613" y="99"/>
                      </a:lnTo>
                      <a:lnTo>
                        <a:pt x="613" y="99"/>
                      </a:lnTo>
                      <a:lnTo>
                        <a:pt x="613" y="99"/>
                      </a:lnTo>
                      <a:lnTo>
                        <a:pt x="616" y="102"/>
                      </a:lnTo>
                      <a:lnTo>
                        <a:pt x="619" y="102"/>
                      </a:lnTo>
                      <a:lnTo>
                        <a:pt x="622" y="102"/>
                      </a:lnTo>
                      <a:lnTo>
                        <a:pt x="622" y="105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613" y="99"/>
                      </a:lnTo>
                      <a:close/>
                    </a:path>
                  </a:pathLst>
                </a:custGeom>
                <a:solidFill>
                  <a:srgbClr val="b0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582320" y="3162240"/>
                  <a:ext cx="548640" cy="97200"/>
                </a:xfrm>
                <a:custGeom>
                  <a:avLst/>
                  <a:gdLst/>
                  <a:ahLst/>
                  <a:rect l="l" t="t" r="r" b="b"/>
                  <a:pathLst>
                    <a:path w="644" h="108">
                      <a:moveTo>
                        <a:pt x="631" y="105"/>
                      </a:moveTo>
                      <a:lnTo>
                        <a:pt x="634" y="105"/>
                      </a:lnTo>
                      <a:lnTo>
                        <a:pt x="634" y="105"/>
                      </a:lnTo>
                      <a:lnTo>
                        <a:pt x="637" y="105"/>
                      </a:lnTo>
                      <a:lnTo>
                        <a:pt x="637" y="108"/>
                      </a:lnTo>
                      <a:lnTo>
                        <a:pt x="637" y="108"/>
                      </a:lnTo>
                      <a:lnTo>
                        <a:pt x="641" y="108"/>
                      </a:lnTo>
                      <a:lnTo>
                        <a:pt x="641" y="108"/>
                      </a:lnTo>
                      <a:lnTo>
                        <a:pt x="644" y="108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631" y="105"/>
                      </a:lnTo>
                      <a:close/>
                    </a:path>
                  </a:pathLst>
                </a:custGeom>
                <a:solidFill>
                  <a:srgbClr val="b2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573680" y="3162240"/>
                  <a:ext cx="564840" cy="102600"/>
                </a:xfrm>
                <a:custGeom>
                  <a:avLst/>
                  <a:gdLst/>
                  <a:ahLst/>
                  <a:rect l="l" t="t" r="r" b="b"/>
                  <a:pathLst>
                    <a:path w="663" h="114">
                      <a:moveTo>
                        <a:pt x="654" y="108"/>
                      </a:moveTo>
                      <a:lnTo>
                        <a:pt x="654" y="111"/>
                      </a:lnTo>
                      <a:lnTo>
                        <a:pt x="657" y="111"/>
                      </a:lnTo>
                      <a:lnTo>
                        <a:pt x="660" y="114"/>
                      </a:lnTo>
                      <a:lnTo>
                        <a:pt x="663" y="11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654" y="108"/>
                      </a:lnTo>
                      <a:close/>
                    </a:path>
                  </a:pathLst>
                </a:custGeom>
                <a:solidFill>
                  <a:srgbClr val="b5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7563600" y="3164760"/>
                  <a:ext cx="581040" cy="103680"/>
                </a:xfrm>
                <a:custGeom>
                  <a:avLst/>
                  <a:gdLst/>
                  <a:ahLst/>
                  <a:rect l="l" t="t" r="r" b="b"/>
                  <a:pathLst>
                    <a:path w="682" h="115">
                      <a:moveTo>
                        <a:pt x="675" y="111"/>
                      </a:moveTo>
                      <a:lnTo>
                        <a:pt x="675" y="111"/>
                      </a:lnTo>
                      <a:lnTo>
                        <a:pt x="679" y="115"/>
                      </a:lnTo>
                      <a:lnTo>
                        <a:pt x="682" y="115"/>
                      </a:lnTo>
                      <a:lnTo>
                        <a:pt x="682" y="11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675" y="111"/>
                      </a:lnTo>
                      <a:close/>
                    </a:path>
                  </a:pathLst>
                </a:custGeom>
                <a:solidFill>
                  <a:srgbClr val="b7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554960" y="3164760"/>
                  <a:ext cx="597600" cy="109080"/>
                </a:xfrm>
                <a:custGeom>
                  <a:avLst/>
                  <a:gdLst/>
                  <a:ahLst/>
                  <a:rect l="l" t="t" r="r" b="b"/>
                  <a:pathLst>
                    <a:path w="701" h="121">
                      <a:moveTo>
                        <a:pt x="692" y="115"/>
                      </a:moveTo>
                      <a:lnTo>
                        <a:pt x="695" y="118"/>
                      </a:lnTo>
                      <a:lnTo>
                        <a:pt x="698" y="118"/>
                      </a:lnTo>
                      <a:lnTo>
                        <a:pt x="698" y="118"/>
                      </a:lnTo>
                      <a:lnTo>
                        <a:pt x="701" y="12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692" y="115"/>
                      </a:lnTo>
                      <a:close/>
                    </a:path>
                  </a:pathLst>
                </a:custGeom>
                <a:solidFill>
                  <a:srgbClr val="b8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543800" y="3167640"/>
                  <a:ext cx="614520" cy="109080"/>
                </a:xfrm>
                <a:custGeom>
                  <a:avLst/>
                  <a:gdLst/>
                  <a:ahLst/>
                  <a:rect l="l" t="t" r="r" b="b"/>
                  <a:pathLst>
                    <a:path w="721" h="121">
                      <a:moveTo>
                        <a:pt x="714" y="118"/>
                      </a:moveTo>
                      <a:lnTo>
                        <a:pt x="714" y="118"/>
                      </a:lnTo>
                      <a:lnTo>
                        <a:pt x="718" y="118"/>
                      </a:lnTo>
                      <a:lnTo>
                        <a:pt x="718" y="121"/>
                      </a:lnTo>
                      <a:lnTo>
                        <a:pt x="721" y="121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714" y="118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7536240" y="3167640"/>
                  <a:ext cx="627120" cy="111960"/>
                </a:xfrm>
                <a:custGeom>
                  <a:avLst/>
                  <a:gdLst/>
                  <a:ahLst/>
                  <a:rect l="l" t="t" r="r" b="b"/>
                  <a:pathLst>
                    <a:path w="736" h="124">
                      <a:moveTo>
                        <a:pt x="730" y="121"/>
                      </a:moveTo>
                      <a:lnTo>
                        <a:pt x="730" y="121"/>
                      </a:lnTo>
                      <a:lnTo>
                        <a:pt x="733" y="124"/>
                      </a:lnTo>
                      <a:lnTo>
                        <a:pt x="733" y="124"/>
                      </a:lnTo>
                      <a:lnTo>
                        <a:pt x="736" y="12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730" y="121"/>
                      </a:lnTo>
                      <a:close/>
                    </a:path>
                  </a:pathLst>
                </a:custGeom>
                <a:solidFill>
                  <a:srgbClr val="bd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525080" y="3167640"/>
                  <a:ext cx="643320" cy="118080"/>
                </a:xfrm>
                <a:custGeom>
                  <a:avLst/>
                  <a:gdLst/>
                  <a:ahLst/>
                  <a:rect l="l" t="t" r="r" b="b"/>
                  <a:pathLst>
                    <a:path w="755" h="131">
                      <a:moveTo>
                        <a:pt x="749" y="124"/>
                      </a:moveTo>
                      <a:lnTo>
                        <a:pt x="749" y="128"/>
                      </a:lnTo>
                      <a:lnTo>
                        <a:pt x="752" y="128"/>
                      </a:lnTo>
                      <a:lnTo>
                        <a:pt x="752" y="128"/>
                      </a:lnTo>
                      <a:lnTo>
                        <a:pt x="755" y="131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749" y="124"/>
                      </a:lnTo>
                      <a:close/>
                    </a:path>
                  </a:pathLst>
                </a:custGeom>
                <a:solidFill>
                  <a:srgbClr val="b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516440" y="3167640"/>
                  <a:ext cx="655200" cy="120960"/>
                </a:xfrm>
                <a:custGeom>
                  <a:avLst/>
                  <a:gdLst/>
                  <a:ahLst/>
                  <a:rect l="l" t="t" r="r" b="b"/>
                  <a:pathLst>
                    <a:path w="769" h="134">
                      <a:moveTo>
                        <a:pt x="765" y="131"/>
                      </a:moveTo>
                      <a:lnTo>
                        <a:pt x="765" y="131"/>
                      </a:lnTo>
                      <a:lnTo>
                        <a:pt x="765" y="131"/>
                      </a:lnTo>
                      <a:lnTo>
                        <a:pt x="769" y="131"/>
                      </a:lnTo>
                      <a:lnTo>
                        <a:pt x="769" y="13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765" y="131"/>
                      </a:lnTo>
                      <a:close/>
                    </a:path>
                  </a:pathLst>
                </a:custGeom>
                <a:solidFill>
                  <a:srgbClr val="b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7506360" y="3170160"/>
                  <a:ext cx="670680" cy="120960"/>
                </a:xfrm>
                <a:custGeom>
                  <a:avLst/>
                  <a:gdLst/>
                  <a:ahLst/>
                  <a:rect l="l" t="t" r="r" b="b"/>
                  <a:pathLst>
                    <a:path w="787" h="134">
                      <a:moveTo>
                        <a:pt x="781" y="131"/>
                      </a:moveTo>
                      <a:lnTo>
                        <a:pt x="784" y="131"/>
                      </a:lnTo>
                      <a:lnTo>
                        <a:pt x="784" y="131"/>
                      </a:lnTo>
                      <a:lnTo>
                        <a:pt x="784" y="134"/>
                      </a:lnTo>
                      <a:lnTo>
                        <a:pt x="784" y="134"/>
                      </a:lnTo>
                      <a:lnTo>
                        <a:pt x="784" y="134"/>
                      </a:lnTo>
                      <a:lnTo>
                        <a:pt x="787" y="134"/>
                      </a:lnTo>
                      <a:lnTo>
                        <a:pt x="787" y="134"/>
                      </a:lnTo>
                      <a:lnTo>
                        <a:pt x="787" y="13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781" y="131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495200" y="3170160"/>
                  <a:ext cx="681840" cy="123480"/>
                </a:xfrm>
                <a:custGeom>
                  <a:avLst/>
                  <a:gdLst/>
                  <a:ahLst/>
                  <a:rect l="l" t="t" r="r" b="b"/>
                  <a:pathLst>
                    <a:path w="800" h="137">
                      <a:moveTo>
                        <a:pt x="800" y="134"/>
                      </a:moveTo>
                      <a:lnTo>
                        <a:pt x="800" y="134"/>
                      </a:lnTo>
                      <a:lnTo>
                        <a:pt x="800" y="134"/>
                      </a:lnTo>
                      <a:lnTo>
                        <a:pt x="800" y="137"/>
                      </a:lnTo>
                      <a:lnTo>
                        <a:pt x="800" y="13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800" y="134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484040" y="3170160"/>
                  <a:ext cx="693000" cy="127080"/>
                </a:xfrm>
                <a:custGeom>
                  <a:avLst/>
                  <a:gdLst/>
                  <a:ahLst/>
                  <a:rect l="l" t="t" r="r" b="b"/>
                  <a:pathLst>
                    <a:path w="813" h="141">
                      <a:moveTo>
                        <a:pt x="813" y="137"/>
                      </a:moveTo>
                      <a:lnTo>
                        <a:pt x="813" y="137"/>
                      </a:lnTo>
                      <a:lnTo>
                        <a:pt x="813" y="137"/>
                      </a:lnTo>
                      <a:lnTo>
                        <a:pt x="813" y="141"/>
                      </a:lnTo>
                      <a:lnTo>
                        <a:pt x="813" y="141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813" y="137"/>
                      </a:lnTo>
                      <a:close/>
                    </a:path>
                  </a:pathLst>
                </a:custGeom>
                <a:solidFill>
                  <a:srgbClr val="c9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473240" y="3173040"/>
                  <a:ext cx="703800" cy="127080"/>
                </a:xfrm>
                <a:custGeom>
                  <a:avLst/>
                  <a:gdLst/>
                  <a:ahLst/>
                  <a:rect l="l" t="t" r="r" b="b"/>
                  <a:pathLst>
                    <a:path w="826" h="141">
                      <a:moveTo>
                        <a:pt x="826" y="138"/>
                      </a:moveTo>
                      <a:lnTo>
                        <a:pt x="826" y="138"/>
                      </a:lnTo>
                      <a:lnTo>
                        <a:pt x="826" y="138"/>
                      </a:lnTo>
                      <a:lnTo>
                        <a:pt x="826" y="141"/>
                      </a:lnTo>
                      <a:lnTo>
                        <a:pt x="826" y="14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826" y="138"/>
                      </a:lnTo>
                      <a:close/>
                    </a:path>
                  </a:pathLst>
                </a:custGeom>
                <a:solidFill>
                  <a:srgbClr val="cc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7462800" y="3173040"/>
                  <a:ext cx="714240" cy="129960"/>
                </a:xfrm>
                <a:custGeom>
                  <a:avLst/>
                  <a:gdLst/>
                  <a:ahLst/>
                  <a:rect l="l" t="t" r="r" b="b"/>
                  <a:pathLst>
                    <a:path w="838" h="144">
                      <a:moveTo>
                        <a:pt x="838" y="141"/>
                      </a:moveTo>
                      <a:lnTo>
                        <a:pt x="838" y="141"/>
                      </a:lnTo>
                      <a:lnTo>
                        <a:pt x="838" y="141"/>
                      </a:lnTo>
                      <a:lnTo>
                        <a:pt x="835" y="141"/>
                      </a:lnTo>
                      <a:lnTo>
                        <a:pt x="835" y="14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838" y="141"/>
                      </a:lnTo>
                      <a:close/>
                    </a:path>
                  </a:pathLst>
                </a:custGeom>
                <a:solidFill>
                  <a:srgbClr val="ce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452000" y="3173040"/>
                  <a:ext cx="722520" cy="132480"/>
                </a:xfrm>
                <a:custGeom>
                  <a:avLst/>
                  <a:gdLst/>
                  <a:ahLst/>
                  <a:rect l="l" t="t" r="r" b="b"/>
                  <a:pathLst>
                    <a:path w="848" h="147">
                      <a:moveTo>
                        <a:pt x="848" y="144"/>
                      </a:moveTo>
                      <a:lnTo>
                        <a:pt x="848" y="144"/>
                      </a:lnTo>
                      <a:lnTo>
                        <a:pt x="848" y="144"/>
                      </a:lnTo>
                      <a:lnTo>
                        <a:pt x="848" y="144"/>
                      </a:lnTo>
                      <a:lnTo>
                        <a:pt x="848" y="147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848" y="144"/>
                      </a:lnTo>
                      <a:close/>
                    </a:path>
                  </a:pathLst>
                </a:custGeom>
                <a:solidFill>
                  <a:srgbClr val="cf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437960" y="3176640"/>
                  <a:ext cx="736200" cy="128880"/>
                </a:xfrm>
                <a:custGeom>
                  <a:avLst/>
                  <a:gdLst/>
                  <a:ahLst/>
                  <a:rect l="l" t="t" r="r" b="b"/>
                  <a:pathLst>
                    <a:path w="864" h="143">
                      <a:moveTo>
                        <a:pt x="864" y="143"/>
                      </a:moveTo>
                      <a:lnTo>
                        <a:pt x="861" y="143"/>
                      </a:lnTo>
                      <a:lnTo>
                        <a:pt x="861" y="143"/>
                      </a:lnTo>
                      <a:lnTo>
                        <a:pt x="861" y="143"/>
                      </a:lnTo>
                      <a:lnTo>
                        <a:pt x="861" y="143"/>
                      </a:lnTo>
                      <a:lnTo>
                        <a:pt x="861" y="143"/>
                      </a:lnTo>
                      <a:lnTo>
                        <a:pt x="857" y="143"/>
                      </a:lnTo>
                      <a:lnTo>
                        <a:pt x="857" y="143"/>
                      </a:lnTo>
                      <a:lnTo>
                        <a:pt x="854" y="14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864" y="143"/>
                      </a:lnTo>
                      <a:close/>
                    </a:path>
                  </a:pathLst>
                </a:custGeom>
                <a:solidFill>
                  <a:srgbClr val="d1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427160" y="3176640"/>
                  <a:ext cx="738720" cy="128880"/>
                </a:xfrm>
                <a:custGeom>
                  <a:avLst/>
                  <a:gdLst/>
                  <a:ahLst/>
                  <a:rect l="l" t="t" r="r" b="b"/>
                  <a:pathLst>
                    <a:path w="867" h="143">
                      <a:moveTo>
                        <a:pt x="867" y="143"/>
                      </a:moveTo>
                      <a:lnTo>
                        <a:pt x="867" y="143"/>
                      </a:lnTo>
                      <a:lnTo>
                        <a:pt x="864" y="143"/>
                      </a:lnTo>
                      <a:lnTo>
                        <a:pt x="861" y="143"/>
                      </a:lnTo>
                      <a:lnTo>
                        <a:pt x="861" y="14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867" y="143"/>
                      </a:lnTo>
                      <a:close/>
                    </a:path>
                  </a:pathLst>
                </a:custGeom>
                <a:solidFill>
                  <a:srgbClr val="d1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416000" y="3176640"/>
                  <a:ext cx="744840" cy="131760"/>
                </a:xfrm>
                <a:custGeom>
                  <a:avLst/>
                  <a:gdLst/>
                  <a:ahLst/>
                  <a:rect l="l" t="t" r="r" b="b"/>
                  <a:pathLst>
                    <a:path w="874" h="146">
                      <a:moveTo>
                        <a:pt x="874" y="143"/>
                      </a:moveTo>
                      <a:lnTo>
                        <a:pt x="871" y="146"/>
                      </a:lnTo>
                      <a:lnTo>
                        <a:pt x="868" y="146"/>
                      </a:lnTo>
                      <a:lnTo>
                        <a:pt x="864" y="146"/>
                      </a:lnTo>
                      <a:lnTo>
                        <a:pt x="864" y="14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874" y="143"/>
                      </a:lnTo>
                      <a:close/>
                    </a:path>
                  </a:pathLst>
                </a:custGeom>
                <a:solidFill>
                  <a:srgbClr val="d6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7403400" y="3176640"/>
                  <a:ext cx="749160" cy="131760"/>
                </a:xfrm>
                <a:custGeom>
                  <a:avLst/>
                  <a:gdLst/>
                  <a:ahLst/>
                  <a:rect l="l" t="t" r="r" b="b"/>
                  <a:pathLst>
                    <a:path w="879" h="146">
                      <a:moveTo>
                        <a:pt x="879" y="146"/>
                      </a:moveTo>
                      <a:lnTo>
                        <a:pt x="876" y="146"/>
                      </a:lnTo>
                      <a:lnTo>
                        <a:pt x="873" y="146"/>
                      </a:lnTo>
                      <a:lnTo>
                        <a:pt x="870" y="146"/>
                      </a:lnTo>
                      <a:lnTo>
                        <a:pt x="870" y="146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5" y="0"/>
                      </a:lnTo>
                      <a:lnTo>
                        <a:pt x="879" y="146"/>
                      </a:lnTo>
                      <a:close/>
                    </a:path>
                  </a:pathLst>
                </a:custGeom>
                <a:solidFill>
                  <a:srgbClr val="d6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7389720" y="3176640"/>
                  <a:ext cx="754920" cy="135360"/>
                </a:xfrm>
                <a:custGeom>
                  <a:avLst/>
                  <a:gdLst/>
                  <a:ahLst/>
                  <a:rect l="l" t="t" r="r" b="b"/>
                  <a:pathLst>
                    <a:path w="886" h="150">
                      <a:moveTo>
                        <a:pt x="886" y="146"/>
                      </a:moveTo>
                      <a:lnTo>
                        <a:pt x="883" y="146"/>
                      </a:lnTo>
                      <a:lnTo>
                        <a:pt x="883" y="150"/>
                      </a:lnTo>
                      <a:lnTo>
                        <a:pt x="879" y="150"/>
                      </a:lnTo>
                      <a:lnTo>
                        <a:pt x="879" y="150"/>
                      </a:lnTo>
                      <a:lnTo>
                        <a:pt x="879" y="150"/>
                      </a:lnTo>
                      <a:lnTo>
                        <a:pt x="876" y="150"/>
                      </a:lnTo>
                      <a:lnTo>
                        <a:pt x="876" y="150"/>
                      </a:lnTo>
                      <a:lnTo>
                        <a:pt x="873" y="15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886" y="146"/>
                      </a:lnTo>
                      <a:close/>
                    </a:path>
                  </a:pathLst>
                </a:custGeom>
                <a:solidFill>
                  <a:srgbClr val="db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378560" y="3176640"/>
                  <a:ext cx="754920" cy="135360"/>
                </a:xfrm>
                <a:custGeom>
                  <a:avLst/>
                  <a:gdLst/>
                  <a:ahLst/>
                  <a:rect l="l" t="t" r="r" b="b"/>
                  <a:pathLst>
                    <a:path w="886" h="150">
                      <a:moveTo>
                        <a:pt x="886" y="150"/>
                      </a:moveTo>
                      <a:lnTo>
                        <a:pt x="886" y="150"/>
                      </a:lnTo>
                      <a:lnTo>
                        <a:pt x="883" y="150"/>
                      </a:lnTo>
                      <a:lnTo>
                        <a:pt x="883" y="150"/>
                      </a:lnTo>
                      <a:lnTo>
                        <a:pt x="883" y="150"/>
                      </a:lnTo>
                      <a:lnTo>
                        <a:pt x="880" y="150"/>
                      </a:lnTo>
                      <a:lnTo>
                        <a:pt x="880" y="150"/>
                      </a:lnTo>
                      <a:lnTo>
                        <a:pt x="876" y="150"/>
                      </a:lnTo>
                      <a:lnTo>
                        <a:pt x="876" y="150"/>
                      </a:lnTo>
                      <a:lnTo>
                        <a:pt x="32" y="6"/>
                      </a:lnTo>
                      <a:lnTo>
                        <a:pt x="25" y="6"/>
                      </a:lnTo>
                      <a:lnTo>
                        <a:pt x="22" y="6"/>
                      </a:lnTo>
                      <a:lnTo>
                        <a:pt x="19" y="6"/>
                      </a:lnTo>
                      <a:lnTo>
                        <a:pt x="16" y="3"/>
                      </a:lnTo>
                      <a:lnTo>
                        <a:pt x="13" y="3"/>
                      </a:lnTo>
                      <a:lnTo>
                        <a:pt x="9" y="3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886" y="150"/>
                      </a:lnTo>
                      <a:close/>
                    </a:path>
                  </a:pathLst>
                </a:custGeom>
                <a:solidFill>
                  <a:srgbClr val="db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7405920" y="3182040"/>
                  <a:ext cx="719280" cy="132480"/>
                </a:xfrm>
                <a:custGeom>
                  <a:avLst/>
                  <a:gdLst/>
                  <a:ahLst/>
                  <a:rect l="l" t="t" r="r" b="b"/>
                  <a:pathLst>
                    <a:path w="844" h="147">
                      <a:moveTo>
                        <a:pt x="844" y="144"/>
                      </a:moveTo>
                      <a:lnTo>
                        <a:pt x="841" y="144"/>
                      </a:lnTo>
                      <a:lnTo>
                        <a:pt x="841" y="144"/>
                      </a:lnTo>
                      <a:lnTo>
                        <a:pt x="838" y="147"/>
                      </a:lnTo>
                      <a:lnTo>
                        <a:pt x="835" y="147"/>
                      </a:lnTo>
                      <a:lnTo>
                        <a:pt x="41" y="10"/>
                      </a:lnTo>
                      <a:lnTo>
                        <a:pt x="35" y="10"/>
                      </a:lnTo>
                      <a:lnTo>
                        <a:pt x="32" y="10"/>
                      </a:lnTo>
                      <a:lnTo>
                        <a:pt x="25" y="6"/>
                      </a:lnTo>
                      <a:lnTo>
                        <a:pt x="19" y="6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844" y="144"/>
                      </a:lnTo>
                      <a:close/>
                    </a:path>
                  </a:pathLst>
                </a:custGeom>
                <a:solidFill>
                  <a:srgbClr val="e0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7440840" y="3191040"/>
                  <a:ext cx="676440" cy="123480"/>
                </a:xfrm>
                <a:custGeom>
                  <a:avLst/>
                  <a:gdLst/>
                  <a:ahLst/>
                  <a:rect l="l" t="t" r="r" b="b"/>
                  <a:pathLst>
                    <a:path w="794" h="137">
                      <a:moveTo>
                        <a:pt x="794" y="137"/>
                      </a:moveTo>
                      <a:lnTo>
                        <a:pt x="794" y="137"/>
                      </a:lnTo>
                      <a:lnTo>
                        <a:pt x="791" y="137"/>
                      </a:lnTo>
                      <a:lnTo>
                        <a:pt x="791" y="137"/>
                      </a:lnTo>
                      <a:lnTo>
                        <a:pt x="788" y="137"/>
                      </a:lnTo>
                      <a:lnTo>
                        <a:pt x="788" y="137"/>
                      </a:lnTo>
                      <a:lnTo>
                        <a:pt x="784" y="137"/>
                      </a:lnTo>
                      <a:lnTo>
                        <a:pt x="784" y="137"/>
                      </a:lnTo>
                      <a:lnTo>
                        <a:pt x="781" y="137"/>
                      </a:lnTo>
                      <a:lnTo>
                        <a:pt x="35" y="9"/>
                      </a:lnTo>
                      <a:lnTo>
                        <a:pt x="32" y="9"/>
                      </a:lnTo>
                      <a:lnTo>
                        <a:pt x="26" y="6"/>
                      </a:lnTo>
                      <a:lnTo>
                        <a:pt x="22" y="6"/>
                      </a:lnTo>
                      <a:lnTo>
                        <a:pt x="16" y="6"/>
                      </a:lnTo>
                      <a:lnTo>
                        <a:pt x="13" y="6"/>
                      </a:lnTo>
                      <a:lnTo>
                        <a:pt x="10" y="3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794" y="137"/>
                      </a:lnTo>
                      <a:close/>
                    </a:path>
                  </a:pathLst>
                </a:custGeom>
                <a:solidFill>
                  <a:srgbClr val="e3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470720" y="3198960"/>
                  <a:ext cx="635760" cy="115560"/>
                </a:xfrm>
                <a:custGeom>
                  <a:avLst/>
                  <a:gdLst/>
                  <a:ahLst/>
                  <a:rect l="l" t="t" r="r" b="b"/>
                  <a:pathLst>
                    <a:path w="746" h="128">
                      <a:moveTo>
                        <a:pt x="746" y="128"/>
                      </a:moveTo>
                      <a:lnTo>
                        <a:pt x="746" y="128"/>
                      </a:lnTo>
                      <a:lnTo>
                        <a:pt x="743" y="128"/>
                      </a:lnTo>
                      <a:lnTo>
                        <a:pt x="743" y="128"/>
                      </a:lnTo>
                      <a:lnTo>
                        <a:pt x="740" y="128"/>
                      </a:lnTo>
                      <a:lnTo>
                        <a:pt x="740" y="128"/>
                      </a:lnTo>
                      <a:lnTo>
                        <a:pt x="737" y="128"/>
                      </a:lnTo>
                      <a:lnTo>
                        <a:pt x="737" y="128"/>
                      </a:lnTo>
                      <a:lnTo>
                        <a:pt x="733" y="128"/>
                      </a:lnTo>
                      <a:lnTo>
                        <a:pt x="29" y="10"/>
                      </a:lnTo>
                      <a:lnTo>
                        <a:pt x="26" y="7"/>
                      </a:lnTo>
                      <a:lnTo>
                        <a:pt x="19" y="7"/>
                      </a:lnTo>
                      <a:lnTo>
                        <a:pt x="16" y="7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746" y="128"/>
                      </a:lnTo>
                      <a:close/>
                    </a:path>
                  </a:pathLst>
                </a:custGeom>
                <a:solidFill>
                  <a:srgbClr val="e3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7495200" y="3208320"/>
                  <a:ext cx="599760" cy="106200"/>
                </a:xfrm>
                <a:custGeom>
                  <a:avLst/>
                  <a:gdLst/>
                  <a:ahLst/>
                  <a:rect l="l" t="t" r="r" b="b"/>
                  <a:pathLst>
                    <a:path w="704" h="118">
                      <a:moveTo>
                        <a:pt x="704" y="118"/>
                      </a:moveTo>
                      <a:lnTo>
                        <a:pt x="704" y="118"/>
                      </a:lnTo>
                      <a:lnTo>
                        <a:pt x="701" y="118"/>
                      </a:lnTo>
                      <a:lnTo>
                        <a:pt x="701" y="118"/>
                      </a:lnTo>
                      <a:lnTo>
                        <a:pt x="698" y="118"/>
                      </a:lnTo>
                      <a:lnTo>
                        <a:pt x="698" y="118"/>
                      </a:lnTo>
                      <a:lnTo>
                        <a:pt x="695" y="118"/>
                      </a:lnTo>
                      <a:lnTo>
                        <a:pt x="695" y="118"/>
                      </a:lnTo>
                      <a:lnTo>
                        <a:pt x="692" y="118"/>
                      </a:lnTo>
                      <a:lnTo>
                        <a:pt x="22" y="6"/>
                      </a:lnTo>
                      <a:lnTo>
                        <a:pt x="19" y="6"/>
                      </a:lnTo>
                      <a:lnTo>
                        <a:pt x="16" y="3"/>
                      </a:lnTo>
                      <a:lnTo>
                        <a:pt x="13" y="3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704" y="118"/>
                      </a:lnTo>
                      <a:close/>
                    </a:path>
                  </a:pathLst>
                </a:custGeom>
                <a:solidFill>
                  <a:srgbClr val="e8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7513920" y="3213720"/>
                  <a:ext cx="570960" cy="103680"/>
                </a:xfrm>
                <a:custGeom>
                  <a:avLst/>
                  <a:gdLst/>
                  <a:ahLst/>
                  <a:rect l="l" t="t" r="r" b="b"/>
                  <a:pathLst>
                    <a:path w="670" h="115">
                      <a:moveTo>
                        <a:pt x="670" y="112"/>
                      </a:moveTo>
                      <a:lnTo>
                        <a:pt x="666" y="112"/>
                      </a:lnTo>
                      <a:lnTo>
                        <a:pt x="666" y="115"/>
                      </a:lnTo>
                      <a:lnTo>
                        <a:pt x="663" y="115"/>
                      </a:lnTo>
                      <a:lnTo>
                        <a:pt x="663" y="115"/>
                      </a:lnTo>
                      <a:lnTo>
                        <a:pt x="660" y="115"/>
                      </a:lnTo>
                      <a:lnTo>
                        <a:pt x="660" y="115"/>
                      </a:lnTo>
                      <a:lnTo>
                        <a:pt x="657" y="115"/>
                      </a:lnTo>
                      <a:lnTo>
                        <a:pt x="654" y="115"/>
                      </a:lnTo>
                      <a:lnTo>
                        <a:pt x="23" y="6"/>
                      </a:lnTo>
                      <a:lnTo>
                        <a:pt x="19" y="6"/>
                      </a:lnTo>
                      <a:lnTo>
                        <a:pt x="16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670" y="112"/>
                      </a:lnTo>
                      <a:close/>
                    </a:path>
                  </a:pathLst>
                </a:custGeom>
                <a:solidFill>
                  <a:srgbClr val="e8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7533720" y="3218760"/>
                  <a:ext cx="537840" cy="98280"/>
                </a:xfrm>
                <a:custGeom>
                  <a:avLst/>
                  <a:gdLst/>
                  <a:ahLst/>
                  <a:rect l="l" t="t" r="r" b="b"/>
                  <a:pathLst>
                    <a:path w="631" h="109">
                      <a:moveTo>
                        <a:pt x="631" y="109"/>
                      </a:moveTo>
                      <a:lnTo>
                        <a:pt x="631" y="109"/>
                      </a:lnTo>
                      <a:lnTo>
                        <a:pt x="628" y="109"/>
                      </a:lnTo>
                      <a:lnTo>
                        <a:pt x="624" y="109"/>
                      </a:lnTo>
                      <a:lnTo>
                        <a:pt x="621" y="109"/>
                      </a:lnTo>
                      <a:lnTo>
                        <a:pt x="621" y="109"/>
                      </a:lnTo>
                      <a:lnTo>
                        <a:pt x="618" y="109"/>
                      </a:lnTo>
                      <a:lnTo>
                        <a:pt x="615" y="109"/>
                      </a:lnTo>
                      <a:lnTo>
                        <a:pt x="612" y="109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15" y="7"/>
                      </a:lnTo>
                      <a:lnTo>
                        <a:pt x="12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631" y="109"/>
                      </a:lnTo>
                      <a:close/>
                    </a:path>
                  </a:pathLst>
                </a:custGeom>
                <a:solidFill>
                  <a:srgbClr val="ea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7549920" y="3225240"/>
                  <a:ext cx="505440" cy="91800"/>
                </a:xfrm>
                <a:custGeom>
                  <a:avLst/>
                  <a:gdLst/>
                  <a:ahLst/>
                  <a:rect l="l" t="t" r="r" b="b"/>
                  <a:pathLst>
                    <a:path w="593" h="102">
                      <a:moveTo>
                        <a:pt x="593" y="102"/>
                      </a:moveTo>
                      <a:lnTo>
                        <a:pt x="589" y="102"/>
                      </a:lnTo>
                      <a:lnTo>
                        <a:pt x="586" y="102"/>
                      </a:lnTo>
                      <a:lnTo>
                        <a:pt x="583" y="102"/>
                      </a:lnTo>
                      <a:lnTo>
                        <a:pt x="580" y="102"/>
                      </a:lnTo>
                      <a:lnTo>
                        <a:pt x="573" y="99"/>
                      </a:lnTo>
                      <a:lnTo>
                        <a:pt x="570" y="99"/>
                      </a:lnTo>
                      <a:lnTo>
                        <a:pt x="567" y="99"/>
                      </a:lnTo>
                      <a:lnTo>
                        <a:pt x="564" y="99"/>
                      </a:lnTo>
                      <a:lnTo>
                        <a:pt x="548" y="99"/>
                      </a:lnTo>
                      <a:lnTo>
                        <a:pt x="535" y="99"/>
                      </a:lnTo>
                      <a:lnTo>
                        <a:pt x="522" y="99"/>
                      </a:lnTo>
                      <a:lnTo>
                        <a:pt x="510" y="99"/>
                      </a:lnTo>
                      <a:lnTo>
                        <a:pt x="497" y="99"/>
                      </a:lnTo>
                      <a:lnTo>
                        <a:pt x="487" y="99"/>
                      </a:lnTo>
                      <a:lnTo>
                        <a:pt x="475" y="102"/>
                      </a:lnTo>
                      <a:lnTo>
                        <a:pt x="462" y="102"/>
                      </a:lnTo>
                      <a:lnTo>
                        <a:pt x="449" y="102"/>
                      </a:lnTo>
                      <a:lnTo>
                        <a:pt x="436" y="102"/>
                      </a:lnTo>
                      <a:lnTo>
                        <a:pt x="424" y="102"/>
                      </a:lnTo>
                      <a:lnTo>
                        <a:pt x="411" y="102"/>
                      </a:lnTo>
                      <a:lnTo>
                        <a:pt x="398" y="102"/>
                      </a:lnTo>
                      <a:lnTo>
                        <a:pt x="385" y="102"/>
                      </a:lnTo>
                      <a:lnTo>
                        <a:pt x="373" y="102"/>
                      </a:lnTo>
                      <a:lnTo>
                        <a:pt x="360" y="99"/>
                      </a:lnTo>
                      <a:lnTo>
                        <a:pt x="347" y="99"/>
                      </a:lnTo>
                      <a:lnTo>
                        <a:pt x="334" y="96"/>
                      </a:lnTo>
                      <a:lnTo>
                        <a:pt x="322" y="92"/>
                      </a:lnTo>
                      <a:lnTo>
                        <a:pt x="309" y="92"/>
                      </a:lnTo>
                      <a:lnTo>
                        <a:pt x="296" y="89"/>
                      </a:lnTo>
                      <a:lnTo>
                        <a:pt x="283" y="89"/>
                      </a:lnTo>
                      <a:lnTo>
                        <a:pt x="271" y="86"/>
                      </a:lnTo>
                      <a:lnTo>
                        <a:pt x="255" y="86"/>
                      </a:lnTo>
                      <a:lnTo>
                        <a:pt x="242" y="83"/>
                      </a:lnTo>
                      <a:lnTo>
                        <a:pt x="229" y="80"/>
                      </a:lnTo>
                      <a:lnTo>
                        <a:pt x="216" y="80"/>
                      </a:lnTo>
                      <a:lnTo>
                        <a:pt x="204" y="76"/>
                      </a:lnTo>
                      <a:lnTo>
                        <a:pt x="191" y="73"/>
                      </a:lnTo>
                      <a:lnTo>
                        <a:pt x="181" y="67"/>
                      </a:lnTo>
                      <a:lnTo>
                        <a:pt x="169" y="64"/>
                      </a:lnTo>
                      <a:lnTo>
                        <a:pt x="156" y="57"/>
                      </a:lnTo>
                      <a:lnTo>
                        <a:pt x="149" y="54"/>
                      </a:lnTo>
                      <a:lnTo>
                        <a:pt x="140" y="51"/>
                      </a:lnTo>
                      <a:lnTo>
                        <a:pt x="134" y="48"/>
                      </a:lnTo>
                      <a:lnTo>
                        <a:pt x="124" y="44"/>
                      </a:lnTo>
                      <a:lnTo>
                        <a:pt x="114" y="41"/>
                      </a:lnTo>
                      <a:lnTo>
                        <a:pt x="105" y="38"/>
                      </a:lnTo>
                      <a:lnTo>
                        <a:pt x="95" y="35"/>
                      </a:lnTo>
                      <a:lnTo>
                        <a:pt x="86" y="29"/>
                      </a:lnTo>
                      <a:lnTo>
                        <a:pt x="76" y="25"/>
                      </a:lnTo>
                      <a:lnTo>
                        <a:pt x="67" y="22"/>
                      </a:lnTo>
                      <a:lnTo>
                        <a:pt x="54" y="19"/>
                      </a:lnTo>
                      <a:lnTo>
                        <a:pt x="44" y="16"/>
                      </a:lnTo>
                      <a:lnTo>
                        <a:pt x="35" y="13"/>
                      </a:lnTo>
                      <a:lnTo>
                        <a:pt x="22" y="6"/>
                      </a:ln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593" y="102"/>
                      </a:lnTo>
                      <a:close/>
                    </a:path>
                  </a:pathLst>
                </a:custGeom>
                <a:solidFill>
                  <a:srgbClr val="ed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842960" y="33688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7837920" y="337176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6" y="4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7832160" y="337536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7824240" y="3375360"/>
                  <a:ext cx="7560" cy="252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7818120" y="337536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7810560" y="3378240"/>
                  <a:ext cx="7560" cy="720"/>
                </a:xfrm>
                <a:custGeom>
                  <a:avLst/>
                  <a:gdLst/>
                  <a:ahLst/>
                  <a:rect l="l" t="t" r="r" b="b"/>
                  <a:pathLst>
                    <a:path w="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7799400" y="3375360"/>
                  <a:ext cx="10800" cy="252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7791120" y="3375360"/>
                  <a:ext cx="8280" cy="252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7783200" y="3375360"/>
                  <a:ext cx="7560" cy="252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7772400" y="337176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761240" y="3371760"/>
                  <a:ext cx="10800" cy="3240"/>
                </a:xfrm>
                <a:custGeom>
                  <a:avLst/>
                  <a:gdLst/>
                  <a:ahLst/>
                  <a:rect l="l" t="t" r="r" b="b"/>
                  <a:pathLst>
                    <a:path w="13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" y="4"/>
                      </a:ln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7753680" y="3368880"/>
                  <a:ext cx="10080" cy="61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9" y="7"/>
                      </a:ln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742520" y="336636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731360" y="336348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720200" y="336096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710120" y="3358080"/>
                  <a:ext cx="10080" cy="504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2" y="6"/>
                      </a:ln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7698960" y="335448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690680" y="335196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0" y="7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680240" y="3349080"/>
                  <a:ext cx="10080" cy="540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2" y="6"/>
                      </a:ln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669080" y="334368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9"/>
                      </a:lnTo>
                      <a:lnTo>
                        <a:pt x="13" y="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660440" y="334008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0" y="7"/>
                      </a:lnTo>
                      <a:lnTo>
                        <a:pt x="13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7650360" y="3337200"/>
                  <a:ext cx="10080" cy="61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2" y="7"/>
                      </a:lnTo>
                      <a:lnTo>
                        <a:pt x="12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7641720" y="333216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0" y="9"/>
                      </a:lnTo>
                      <a:lnTo>
                        <a:pt x="13" y="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633440" y="332928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0" y="6"/>
                      </a:lnTo>
                      <a:lnTo>
                        <a:pt x="13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7625520" y="332280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9" y="7"/>
                      </a:lnTo>
                      <a:lnTo>
                        <a:pt x="13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7620480" y="3320280"/>
                  <a:ext cx="7560" cy="540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9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7612200" y="33148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7606800" y="3308400"/>
                  <a:ext cx="7560" cy="900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6" y="10"/>
                      </a:lnTo>
                      <a:lnTo>
                        <a:pt x="9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603560" y="330588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7"/>
                      </a:lnTo>
                      <a:lnTo>
                        <a:pt x="7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7598160" y="330012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7596000" y="329760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7593480" y="32911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7593480" y="328860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7589880" y="328608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7589880" y="328320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7593480" y="3279600"/>
                  <a:ext cx="2160" cy="36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593480" y="32767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7596000" y="327420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7596000" y="327132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7598160" y="326880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7601040" y="326484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7606800" y="3264840"/>
                  <a:ext cx="2520" cy="36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7609680" y="326232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7614720" y="32623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7620480" y="3259800"/>
                  <a:ext cx="2160" cy="50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7623000" y="325980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7628400" y="3259800"/>
                  <a:ext cx="8280" cy="252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0" y="0"/>
                      </a:move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7636680" y="325980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7641720" y="3259800"/>
                  <a:ext cx="8280" cy="252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0" y="0"/>
                      </a:move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650360" y="3259800"/>
                  <a:ext cx="7560" cy="504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7657920" y="3262320"/>
                  <a:ext cx="10800" cy="252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7666560" y="3262320"/>
                  <a:ext cx="10080" cy="61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12" y="3"/>
                      </a:moveTo>
                      <a:lnTo>
                        <a:pt x="12" y="3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7676640" y="326484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4"/>
                      </a:moveTo>
                      <a:lnTo>
                        <a:pt x="13" y="4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685280" y="326880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696440" y="3271320"/>
                  <a:ext cx="1116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704000" y="327420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715160" y="327672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7726320" y="3279600"/>
                  <a:ext cx="7200" cy="612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9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733880" y="328608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7745040" y="328860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7753680" y="3291120"/>
                  <a:ext cx="1008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7"/>
                      </a:moveTo>
                      <a:lnTo>
                        <a:pt x="12" y="7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12" y="10"/>
                      </a:lnTo>
                      <a:lnTo>
                        <a:pt x="12" y="10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7763760" y="329760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7772400" y="33001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6"/>
                      </a:moveTo>
                      <a:lnTo>
                        <a:pt x="13" y="6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7780680" y="3305880"/>
                  <a:ext cx="1008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7"/>
                      </a:moveTo>
                      <a:lnTo>
                        <a:pt x="12" y="7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12" y="10"/>
                      </a:lnTo>
                      <a:lnTo>
                        <a:pt x="12" y="10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7791120" y="331200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3"/>
                      </a:move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7799400" y="331488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6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7808040" y="3320280"/>
                  <a:ext cx="7560" cy="540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7813440" y="3325680"/>
                  <a:ext cx="7200" cy="612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9" y="4"/>
                      </a:moveTo>
                      <a:lnTo>
                        <a:pt x="9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7820640" y="3329280"/>
                  <a:ext cx="8280" cy="540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6"/>
                      </a:moveTo>
                      <a:lnTo>
                        <a:pt x="10" y="6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7826760" y="3334680"/>
                  <a:ext cx="7560" cy="504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7832160" y="333720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10" y="7"/>
                      </a:moveTo>
                      <a:lnTo>
                        <a:pt x="10" y="7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4" name=""/>
              <p:cNvGrpSpPr/>
              <p:nvPr/>
            </p:nvGrpSpPr>
            <p:grpSpPr>
              <a:xfrm>
                <a:off x="6194160" y="3107160"/>
                <a:ext cx="1980360" cy="527040"/>
                <a:chOff x="6194160" y="3107160"/>
                <a:chExt cx="1980360" cy="52704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7838280" y="334368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3"/>
                      </a:move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7843320" y="3346200"/>
                  <a:ext cx="4680" cy="54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6"/>
                      </a:moveTo>
                      <a:lnTo>
                        <a:pt x="6" y="6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7845840" y="335196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848360" y="335448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4"/>
                      </a:move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4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7851960" y="3358080"/>
                  <a:ext cx="2160" cy="50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6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7851960" y="336348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7851960" y="3363480"/>
                  <a:ext cx="2160" cy="50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6"/>
                      </a:move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7851960" y="3366000"/>
                  <a:ext cx="2160" cy="54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848360" y="336888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7845840" y="336888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3" y="7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7840800" y="33717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6" y="4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7835040" y="337176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827120" y="3375000"/>
                  <a:ext cx="7560" cy="252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7821000" y="337500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7813440" y="3375000"/>
                  <a:ext cx="7200" cy="252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7805160" y="3375000"/>
                  <a:ext cx="8280" cy="252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7794720" y="3375000"/>
                  <a:ext cx="10080" cy="2520"/>
                </a:xfrm>
                <a:custGeom>
                  <a:avLst/>
                  <a:gdLst/>
                  <a:ahLst/>
                  <a:rect l="l" t="t" r="r" b="b"/>
                  <a:pathLst>
                    <a:path w="12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7786080" y="3371760"/>
                  <a:ext cx="8640" cy="612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0" y="7"/>
                      </a:lnTo>
                      <a:lnTo>
                        <a:pt x="1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775280" y="3371760"/>
                  <a:ext cx="10800" cy="3240"/>
                </a:xfrm>
                <a:custGeom>
                  <a:avLst/>
                  <a:gdLst/>
                  <a:ahLst/>
                  <a:rect l="l" t="t" r="r" b="b"/>
                  <a:pathLst>
                    <a:path w="13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3" y="4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7764120" y="336888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7"/>
                      </a:lnTo>
                      <a:lnTo>
                        <a:pt x="13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7756560" y="3368880"/>
                  <a:ext cx="10800" cy="252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3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7745400" y="3366000"/>
                  <a:ext cx="10800" cy="252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7734240" y="336348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7724160" y="3360960"/>
                  <a:ext cx="9720" cy="504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2" y="6"/>
                      </a:ln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7713000" y="335808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7704360" y="335448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0" y="7"/>
                      </a:lnTo>
                      <a:lnTo>
                        <a:pt x="13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7694280" y="3351960"/>
                  <a:ext cx="10080" cy="61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7"/>
                      </a:ln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7683120" y="334620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7671960" y="334368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7664400" y="3340080"/>
                  <a:ext cx="10080" cy="61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7"/>
                      </a:lnTo>
                      <a:lnTo>
                        <a:pt x="12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7653240" y="333468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7644600" y="333180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0" y="6"/>
                      </a:lnTo>
                      <a:lnTo>
                        <a:pt x="1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7637040" y="3325680"/>
                  <a:ext cx="1008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9" y="10"/>
                      </a:lnTo>
                      <a:lnTo>
                        <a:pt x="12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7628760" y="332280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0" y="7"/>
                      </a:lnTo>
                      <a:lnTo>
                        <a:pt x="1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7623360" y="3317400"/>
                  <a:ext cx="7560" cy="540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6" y="6"/>
                      </a:lnTo>
                      <a:lnTo>
                        <a:pt x="9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614720" y="33148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10" y="6"/>
                      </a:lnTo>
                      <a:lnTo>
                        <a:pt x="1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7610040" y="3308400"/>
                  <a:ext cx="7200" cy="6120"/>
                </a:xfrm>
                <a:custGeom>
                  <a:avLst/>
                  <a:gdLst/>
                  <a:ahLst/>
                  <a:rect l="l" t="t" r="r" b="b"/>
                  <a:pathLst>
                    <a:path w="9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6" y="7"/>
                      </a:lnTo>
                      <a:lnTo>
                        <a:pt x="9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7607160" y="3303000"/>
                  <a:ext cx="5040" cy="900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10"/>
                      </a:lnTo>
                      <a:lnTo>
                        <a:pt x="6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7601400" y="3300120"/>
                  <a:ext cx="5760" cy="54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7598520" y="329400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7596000" y="3291120"/>
                  <a:ext cx="504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7596000" y="3285720"/>
                  <a:ext cx="2160" cy="50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7596000" y="3283200"/>
                  <a:ext cx="2160" cy="50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7596000" y="3279600"/>
                  <a:ext cx="2160" cy="36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7596000" y="32767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7596000" y="3273840"/>
                  <a:ext cx="2160" cy="54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7598520" y="3271320"/>
                  <a:ext cx="2520" cy="54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7598520" y="3268800"/>
                  <a:ext cx="5040" cy="50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7601400" y="3264840"/>
                  <a:ext cx="5760" cy="61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3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7603920" y="3264840"/>
                  <a:ext cx="5760" cy="36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4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610040" y="32623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612200" y="326232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617240" y="32594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7623360" y="325944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7628760" y="325944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7633800" y="32594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7639560" y="325944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7644600" y="3259440"/>
                  <a:ext cx="8640" cy="252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0" y="0"/>
                      </a:move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7653240" y="3259440"/>
                  <a:ext cx="7200" cy="252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9" y="0"/>
                      </a:move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7660800" y="325944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7671960" y="3262320"/>
                  <a:ext cx="8280" cy="252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0" y="3"/>
                      </a:moveTo>
                      <a:lnTo>
                        <a:pt x="1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7680600" y="3264840"/>
                  <a:ext cx="10080" cy="3600"/>
                </a:xfrm>
                <a:custGeom>
                  <a:avLst/>
                  <a:gdLst/>
                  <a:ahLst/>
                  <a:rect l="l" t="t" r="r" b="b"/>
                  <a:pathLst>
                    <a:path w="12" h="4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7688160" y="326484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4"/>
                      </a:moveTo>
                      <a:lnTo>
                        <a:pt x="13" y="4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7699320" y="326880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7710480" y="3271320"/>
                  <a:ext cx="7560" cy="540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9" y="6"/>
                      </a:moveTo>
                      <a:lnTo>
                        <a:pt x="9" y="6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9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7718040" y="327672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7729200" y="327960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4"/>
                      </a:moveTo>
                      <a:lnTo>
                        <a:pt x="13" y="4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7737480" y="3283200"/>
                  <a:ext cx="10080" cy="504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12" y="6"/>
                      </a:moveTo>
                      <a:lnTo>
                        <a:pt x="12" y="6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7747920" y="328860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7756560" y="329112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7"/>
                      </a:moveTo>
                      <a:lnTo>
                        <a:pt x="13" y="7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767360" y="3297600"/>
                  <a:ext cx="10080" cy="540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12" y="3"/>
                      </a:moveTo>
                      <a:lnTo>
                        <a:pt x="1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" y="6"/>
                      </a:lnTo>
                      <a:lnTo>
                        <a:pt x="9" y="6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7775280" y="330012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13" y="6"/>
                      </a:moveTo>
                      <a:lnTo>
                        <a:pt x="13" y="6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783560" y="330588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3"/>
                      </a:moveTo>
                      <a:lnTo>
                        <a:pt x="1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7794720" y="3308400"/>
                  <a:ext cx="7200" cy="900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7"/>
                      </a:move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7802280" y="33148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6"/>
                      </a:moveTo>
                      <a:lnTo>
                        <a:pt x="10" y="6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7810920" y="3319920"/>
                  <a:ext cx="7560" cy="540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7815960" y="332280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10" y="7"/>
                      </a:moveTo>
                      <a:lnTo>
                        <a:pt x="10" y="7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7824600" y="3328920"/>
                  <a:ext cx="7560" cy="540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9" y="3"/>
                      </a:moveTo>
                      <a:lnTo>
                        <a:pt x="9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7829640" y="333180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6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6" y="9"/>
                      </a:lnTo>
                      <a:lnTo>
                        <a:pt x="6" y="9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7835040" y="3337200"/>
                  <a:ext cx="8280" cy="612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10" y="3"/>
                      </a:moveTo>
                      <a:lnTo>
                        <a:pt x="10" y="3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7840800" y="334008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6" y="7"/>
                      </a:move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6" y="7"/>
                      </a:lnTo>
                      <a:lnTo>
                        <a:pt x="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7845840" y="3346200"/>
                  <a:ext cx="5760" cy="54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3"/>
                      </a:moveTo>
                      <a:lnTo>
                        <a:pt x="7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7848360" y="3349080"/>
                  <a:ext cx="5760" cy="54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6"/>
                      </a:moveTo>
                      <a:lnTo>
                        <a:pt x="7" y="6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7851960" y="3354480"/>
                  <a:ext cx="4680" cy="36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4"/>
                      </a:move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7854480" y="335808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7854480" y="336096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7854480" y="336348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7854480" y="336600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7851960" y="336888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6194160" y="3544920"/>
                  <a:ext cx="18720" cy="16920"/>
                </a:xfrm>
                <a:custGeom>
                  <a:avLst/>
                  <a:gdLst/>
                  <a:ahLst/>
                  <a:rect l="l" t="t" r="r" b="b"/>
                  <a:pathLst>
                    <a:path w="22" h="19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6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6" y="19"/>
                      </a:lnTo>
                      <a:lnTo>
                        <a:pt x="19" y="19"/>
                      </a:lnTo>
                      <a:lnTo>
                        <a:pt x="22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5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6194160" y="3524400"/>
                  <a:ext cx="48240" cy="40320"/>
                </a:xfrm>
                <a:custGeom>
                  <a:avLst/>
                  <a:gdLst/>
                  <a:ahLst/>
                  <a:rect l="l" t="t" r="r" b="b"/>
                  <a:pathLst>
                    <a:path w="57" h="45">
                      <a:moveTo>
                        <a:pt x="0" y="23"/>
                      </a:moveTo>
                      <a:lnTo>
                        <a:pt x="0" y="20"/>
                      </a:lnTo>
                      <a:lnTo>
                        <a:pt x="0" y="13"/>
                      </a:lnTo>
                      <a:lnTo>
                        <a:pt x="3" y="7"/>
                      </a:lnTo>
                      <a:lnTo>
                        <a:pt x="3" y="0"/>
                      </a:lnTo>
                      <a:lnTo>
                        <a:pt x="57" y="45"/>
                      </a:lnTo>
                      <a:lnTo>
                        <a:pt x="51" y="42"/>
                      </a:lnTo>
                      <a:lnTo>
                        <a:pt x="48" y="42"/>
                      </a:lnTo>
                      <a:lnTo>
                        <a:pt x="41" y="42"/>
                      </a:lnTo>
                      <a:lnTo>
                        <a:pt x="38" y="42"/>
                      </a:lnTo>
                      <a:lnTo>
                        <a:pt x="35" y="42"/>
                      </a:lnTo>
                      <a:lnTo>
                        <a:pt x="29" y="42"/>
                      </a:lnTo>
                      <a:lnTo>
                        <a:pt x="25" y="42"/>
                      </a:lnTo>
                      <a:lnTo>
                        <a:pt x="22" y="42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757d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196320" y="3504600"/>
                  <a:ext cx="75960" cy="60120"/>
                </a:xfrm>
                <a:custGeom>
                  <a:avLst/>
                  <a:gdLst/>
                  <a:ahLst/>
                  <a:rect l="l" t="t" r="r" b="b"/>
                  <a:pathLst>
                    <a:path w="89" h="67">
                      <a:moveTo>
                        <a:pt x="0" y="22"/>
                      </a:move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7"/>
                      </a:lnTo>
                      <a:lnTo>
                        <a:pt x="3" y="0"/>
                      </a:lnTo>
                      <a:lnTo>
                        <a:pt x="89" y="67"/>
                      </a:lnTo>
                      <a:lnTo>
                        <a:pt x="86" y="67"/>
                      </a:lnTo>
                      <a:lnTo>
                        <a:pt x="80" y="67"/>
                      </a:lnTo>
                      <a:lnTo>
                        <a:pt x="77" y="67"/>
                      </a:lnTo>
                      <a:lnTo>
                        <a:pt x="70" y="67"/>
                      </a:lnTo>
                      <a:lnTo>
                        <a:pt x="67" y="67"/>
                      </a:lnTo>
                      <a:lnTo>
                        <a:pt x="64" y="67"/>
                      </a:lnTo>
                      <a:lnTo>
                        <a:pt x="57" y="67"/>
                      </a:lnTo>
                      <a:lnTo>
                        <a:pt x="54" y="67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7d82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199200" y="3489840"/>
                  <a:ext cx="102960" cy="77760"/>
                </a:xfrm>
                <a:custGeom>
                  <a:avLst/>
                  <a:gdLst/>
                  <a:ahLst/>
                  <a:rect l="l" t="t" r="r" b="b"/>
                  <a:pathLst>
                    <a:path w="121" h="86">
                      <a:moveTo>
                        <a:pt x="0" y="16"/>
                      </a:moveTo>
                      <a:lnTo>
                        <a:pt x="0" y="13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21" y="86"/>
                      </a:lnTo>
                      <a:lnTo>
                        <a:pt x="118" y="86"/>
                      </a:lnTo>
                      <a:lnTo>
                        <a:pt x="112" y="86"/>
                      </a:lnTo>
                      <a:lnTo>
                        <a:pt x="109" y="86"/>
                      </a:lnTo>
                      <a:lnTo>
                        <a:pt x="105" y="86"/>
                      </a:lnTo>
                      <a:lnTo>
                        <a:pt x="99" y="86"/>
                      </a:lnTo>
                      <a:lnTo>
                        <a:pt x="96" y="86"/>
                      </a:lnTo>
                      <a:lnTo>
                        <a:pt x="90" y="86"/>
                      </a:lnTo>
                      <a:lnTo>
                        <a:pt x="86" y="8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7d85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207840" y="3489840"/>
                  <a:ext cx="127440" cy="81000"/>
                </a:xfrm>
                <a:custGeom>
                  <a:avLst/>
                  <a:gdLst/>
                  <a:ahLst/>
                  <a:rect l="l" t="t" r="r" b="b"/>
                  <a:pathLst>
                    <a:path w="150" h="9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16" y="3"/>
                      </a:lnTo>
                      <a:lnTo>
                        <a:pt x="19" y="3"/>
                      </a:lnTo>
                      <a:lnTo>
                        <a:pt x="25" y="3"/>
                      </a:lnTo>
                      <a:lnTo>
                        <a:pt x="32" y="3"/>
                      </a:lnTo>
                      <a:lnTo>
                        <a:pt x="38" y="3"/>
                      </a:lnTo>
                      <a:lnTo>
                        <a:pt x="150" y="90"/>
                      </a:lnTo>
                      <a:lnTo>
                        <a:pt x="143" y="90"/>
                      </a:lnTo>
                      <a:lnTo>
                        <a:pt x="140" y="90"/>
                      </a:lnTo>
                      <a:lnTo>
                        <a:pt x="134" y="90"/>
                      </a:lnTo>
                      <a:lnTo>
                        <a:pt x="131" y="90"/>
                      </a:lnTo>
                      <a:lnTo>
                        <a:pt x="124" y="90"/>
                      </a:lnTo>
                      <a:lnTo>
                        <a:pt x="121" y="90"/>
                      </a:lnTo>
                      <a:lnTo>
                        <a:pt x="118" y="90"/>
                      </a:lnTo>
                      <a:lnTo>
                        <a:pt x="111" y="8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2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239880" y="3492720"/>
                  <a:ext cx="124920" cy="81000"/>
                </a:xfrm>
                <a:custGeom>
                  <a:avLst/>
                  <a:gdLst/>
                  <a:ahLst/>
                  <a:rect l="l" t="t" r="r" b="b"/>
                  <a:pathLst>
                    <a:path w="147" h="9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6" y="4"/>
                      </a:lnTo>
                      <a:lnTo>
                        <a:pt x="22" y="4"/>
                      </a:lnTo>
                      <a:lnTo>
                        <a:pt x="26" y="4"/>
                      </a:lnTo>
                      <a:lnTo>
                        <a:pt x="32" y="4"/>
                      </a:lnTo>
                      <a:lnTo>
                        <a:pt x="38" y="7"/>
                      </a:lnTo>
                      <a:lnTo>
                        <a:pt x="147" y="90"/>
                      </a:lnTo>
                      <a:lnTo>
                        <a:pt x="140" y="90"/>
                      </a:lnTo>
                      <a:lnTo>
                        <a:pt x="137" y="90"/>
                      </a:lnTo>
                      <a:lnTo>
                        <a:pt x="134" y="90"/>
                      </a:lnTo>
                      <a:lnTo>
                        <a:pt x="128" y="90"/>
                      </a:lnTo>
                      <a:lnTo>
                        <a:pt x="124" y="90"/>
                      </a:lnTo>
                      <a:lnTo>
                        <a:pt x="118" y="87"/>
                      </a:lnTo>
                      <a:lnTo>
                        <a:pt x="115" y="87"/>
                      </a:lnTo>
                      <a:lnTo>
                        <a:pt x="112" y="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28a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272280" y="3498840"/>
                  <a:ext cx="122400" cy="77760"/>
                </a:xfrm>
                <a:custGeom>
                  <a:avLst/>
                  <a:gdLst/>
                  <a:ahLst/>
                  <a:rect l="l" t="t" r="r" b="b"/>
                  <a:pathLst>
                    <a:path w="144" h="86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23" y="0"/>
                      </a:lnTo>
                      <a:lnTo>
                        <a:pt x="26" y="3"/>
                      </a:lnTo>
                      <a:lnTo>
                        <a:pt x="32" y="3"/>
                      </a:lnTo>
                      <a:lnTo>
                        <a:pt x="35" y="3"/>
                      </a:lnTo>
                      <a:lnTo>
                        <a:pt x="144" y="86"/>
                      </a:lnTo>
                      <a:lnTo>
                        <a:pt x="141" y="86"/>
                      </a:lnTo>
                      <a:lnTo>
                        <a:pt x="134" y="86"/>
                      </a:lnTo>
                      <a:lnTo>
                        <a:pt x="131" y="86"/>
                      </a:lnTo>
                      <a:lnTo>
                        <a:pt x="128" y="86"/>
                      </a:lnTo>
                      <a:lnTo>
                        <a:pt x="121" y="86"/>
                      </a:lnTo>
                      <a:lnTo>
                        <a:pt x="118" y="83"/>
                      </a:lnTo>
                      <a:lnTo>
                        <a:pt x="112" y="83"/>
                      </a:lnTo>
                      <a:lnTo>
                        <a:pt x="109" y="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48c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302160" y="3501720"/>
                  <a:ext cx="122400" cy="77400"/>
                </a:xfrm>
                <a:custGeom>
                  <a:avLst/>
                  <a:gdLst/>
                  <a:ahLst/>
                  <a:rect l="l" t="t" r="r" b="b"/>
                  <a:pathLst>
                    <a:path w="144" h="86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9" y="3"/>
                      </a:lnTo>
                      <a:lnTo>
                        <a:pt x="32" y="3"/>
                      </a:lnTo>
                      <a:lnTo>
                        <a:pt x="39" y="3"/>
                      </a:lnTo>
                      <a:lnTo>
                        <a:pt x="144" y="86"/>
                      </a:lnTo>
                      <a:lnTo>
                        <a:pt x="141" y="86"/>
                      </a:lnTo>
                      <a:lnTo>
                        <a:pt x="134" y="86"/>
                      </a:lnTo>
                      <a:lnTo>
                        <a:pt x="131" y="86"/>
                      </a:lnTo>
                      <a:lnTo>
                        <a:pt x="128" y="86"/>
                      </a:lnTo>
                      <a:lnTo>
                        <a:pt x="122" y="83"/>
                      </a:lnTo>
                      <a:lnTo>
                        <a:pt x="118" y="83"/>
                      </a:lnTo>
                      <a:lnTo>
                        <a:pt x="112" y="83"/>
                      </a:lnTo>
                      <a:lnTo>
                        <a:pt x="109" y="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a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335640" y="3504600"/>
                  <a:ext cx="121680" cy="77400"/>
                </a:xfrm>
                <a:custGeom>
                  <a:avLst/>
                  <a:gdLst/>
                  <a:ahLst/>
                  <a:rect l="l" t="t" r="r" b="b"/>
                  <a:pathLst>
                    <a:path w="143" h="8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8" y="3"/>
                      </a:lnTo>
                      <a:lnTo>
                        <a:pt x="32" y="3"/>
                      </a:lnTo>
                      <a:lnTo>
                        <a:pt x="38" y="7"/>
                      </a:lnTo>
                      <a:lnTo>
                        <a:pt x="143" y="86"/>
                      </a:lnTo>
                      <a:lnTo>
                        <a:pt x="137" y="86"/>
                      </a:lnTo>
                      <a:lnTo>
                        <a:pt x="134" y="86"/>
                      </a:lnTo>
                      <a:lnTo>
                        <a:pt x="127" y="86"/>
                      </a:lnTo>
                      <a:lnTo>
                        <a:pt x="124" y="83"/>
                      </a:lnTo>
                      <a:lnTo>
                        <a:pt x="118" y="83"/>
                      </a:lnTo>
                      <a:lnTo>
                        <a:pt x="114" y="83"/>
                      </a:lnTo>
                      <a:lnTo>
                        <a:pt x="111" y="83"/>
                      </a:lnTo>
                      <a:lnTo>
                        <a:pt x="105" y="8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78f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6368040" y="3510720"/>
                  <a:ext cx="119160" cy="73800"/>
                </a:xfrm>
                <a:custGeom>
                  <a:avLst/>
                  <a:gdLst/>
                  <a:ahLst/>
                  <a:rect l="l" t="t" r="r" b="b"/>
                  <a:pathLst>
                    <a:path w="140" h="82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9" y="3"/>
                      </a:lnTo>
                      <a:lnTo>
                        <a:pt x="32" y="3"/>
                      </a:lnTo>
                      <a:lnTo>
                        <a:pt x="38" y="3"/>
                      </a:lnTo>
                      <a:lnTo>
                        <a:pt x="140" y="82"/>
                      </a:lnTo>
                      <a:lnTo>
                        <a:pt x="137" y="82"/>
                      </a:lnTo>
                      <a:lnTo>
                        <a:pt x="131" y="82"/>
                      </a:lnTo>
                      <a:lnTo>
                        <a:pt x="127" y="82"/>
                      </a:lnTo>
                      <a:lnTo>
                        <a:pt x="121" y="79"/>
                      </a:lnTo>
                      <a:lnTo>
                        <a:pt x="118" y="79"/>
                      </a:lnTo>
                      <a:lnTo>
                        <a:pt x="112" y="79"/>
                      </a:lnTo>
                      <a:lnTo>
                        <a:pt x="108" y="79"/>
                      </a:lnTo>
                      <a:lnTo>
                        <a:pt x="105" y="7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94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6400080" y="3513600"/>
                  <a:ext cx="116640" cy="74880"/>
                </a:xfrm>
                <a:custGeom>
                  <a:avLst/>
                  <a:gdLst/>
                  <a:ahLst/>
                  <a:rect l="l" t="t" r="r" b="b"/>
                  <a:pathLst>
                    <a:path w="137" h="83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16" y="3"/>
                      </a:lnTo>
                      <a:lnTo>
                        <a:pt x="23" y="3"/>
                      </a:lnTo>
                      <a:lnTo>
                        <a:pt x="26" y="3"/>
                      </a:lnTo>
                      <a:lnTo>
                        <a:pt x="32" y="3"/>
                      </a:lnTo>
                      <a:lnTo>
                        <a:pt x="35" y="3"/>
                      </a:lnTo>
                      <a:lnTo>
                        <a:pt x="137" y="83"/>
                      </a:lnTo>
                      <a:lnTo>
                        <a:pt x="134" y="83"/>
                      </a:lnTo>
                      <a:lnTo>
                        <a:pt x="128" y="83"/>
                      </a:lnTo>
                      <a:lnTo>
                        <a:pt x="125" y="83"/>
                      </a:lnTo>
                      <a:lnTo>
                        <a:pt x="118" y="79"/>
                      </a:lnTo>
                      <a:lnTo>
                        <a:pt x="115" y="79"/>
                      </a:lnTo>
                      <a:lnTo>
                        <a:pt x="112" y="79"/>
                      </a:lnTo>
                      <a:lnTo>
                        <a:pt x="105" y="79"/>
                      </a:lnTo>
                      <a:lnTo>
                        <a:pt x="102" y="7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6430320" y="3516120"/>
                  <a:ext cx="116640" cy="74880"/>
                </a:xfrm>
                <a:custGeom>
                  <a:avLst/>
                  <a:gdLst/>
                  <a:ahLst/>
                  <a:rect l="l" t="t" r="r" b="b"/>
                  <a:pathLst>
                    <a:path w="137" h="8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23" y="3"/>
                      </a:lnTo>
                      <a:lnTo>
                        <a:pt x="29" y="3"/>
                      </a:lnTo>
                      <a:lnTo>
                        <a:pt x="32" y="3"/>
                      </a:lnTo>
                      <a:lnTo>
                        <a:pt x="39" y="3"/>
                      </a:lnTo>
                      <a:lnTo>
                        <a:pt x="137" y="83"/>
                      </a:lnTo>
                      <a:lnTo>
                        <a:pt x="134" y="83"/>
                      </a:lnTo>
                      <a:lnTo>
                        <a:pt x="128" y="83"/>
                      </a:lnTo>
                      <a:lnTo>
                        <a:pt x="125" y="80"/>
                      </a:lnTo>
                      <a:lnTo>
                        <a:pt x="121" y="80"/>
                      </a:lnTo>
                      <a:lnTo>
                        <a:pt x="115" y="80"/>
                      </a:lnTo>
                      <a:lnTo>
                        <a:pt x="112" y="80"/>
                      </a:lnTo>
                      <a:lnTo>
                        <a:pt x="105" y="80"/>
                      </a:lnTo>
                      <a:lnTo>
                        <a:pt x="102" y="8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6463440" y="3518640"/>
                  <a:ext cx="113040" cy="74880"/>
                </a:xfrm>
                <a:custGeom>
                  <a:avLst/>
                  <a:gdLst/>
                  <a:ahLst/>
                  <a:rect l="l" t="t" r="r" b="b"/>
                  <a:pathLst>
                    <a:path w="133" h="83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8" y="3"/>
                      </a:lnTo>
                      <a:lnTo>
                        <a:pt x="31" y="3"/>
                      </a:lnTo>
                      <a:lnTo>
                        <a:pt x="38" y="6"/>
                      </a:lnTo>
                      <a:lnTo>
                        <a:pt x="133" y="83"/>
                      </a:lnTo>
                      <a:lnTo>
                        <a:pt x="130" y="83"/>
                      </a:lnTo>
                      <a:lnTo>
                        <a:pt x="127" y="80"/>
                      </a:lnTo>
                      <a:lnTo>
                        <a:pt x="121" y="80"/>
                      </a:lnTo>
                      <a:lnTo>
                        <a:pt x="117" y="80"/>
                      </a:lnTo>
                      <a:lnTo>
                        <a:pt x="111" y="80"/>
                      </a:lnTo>
                      <a:lnTo>
                        <a:pt x="108" y="80"/>
                      </a:lnTo>
                      <a:lnTo>
                        <a:pt x="105" y="80"/>
                      </a:lnTo>
                      <a:lnTo>
                        <a:pt x="98" y="8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4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495840" y="3524400"/>
                  <a:ext cx="114120" cy="72000"/>
                </a:xfrm>
                <a:custGeom>
                  <a:avLst/>
                  <a:gdLst/>
                  <a:ahLst/>
                  <a:rect l="l" t="t" r="r" b="b"/>
                  <a:pathLst>
                    <a:path w="134" h="8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5" y="4"/>
                      </a:lnTo>
                      <a:lnTo>
                        <a:pt x="32" y="4"/>
                      </a:lnTo>
                      <a:lnTo>
                        <a:pt x="35" y="4"/>
                      </a:lnTo>
                      <a:lnTo>
                        <a:pt x="134" y="80"/>
                      </a:lnTo>
                      <a:lnTo>
                        <a:pt x="127" y="80"/>
                      </a:lnTo>
                      <a:lnTo>
                        <a:pt x="124" y="77"/>
                      </a:lnTo>
                      <a:lnTo>
                        <a:pt x="118" y="77"/>
                      </a:lnTo>
                      <a:lnTo>
                        <a:pt x="115" y="77"/>
                      </a:lnTo>
                      <a:lnTo>
                        <a:pt x="111" y="77"/>
                      </a:lnTo>
                      <a:lnTo>
                        <a:pt x="105" y="77"/>
                      </a:lnTo>
                      <a:lnTo>
                        <a:pt x="102" y="77"/>
                      </a:lnTo>
                      <a:lnTo>
                        <a:pt x="95" y="7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6525720" y="3528000"/>
                  <a:ext cx="113760" cy="71280"/>
                </a:xfrm>
                <a:custGeom>
                  <a:avLst/>
                  <a:gdLst/>
                  <a:ahLst/>
                  <a:rect l="l" t="t" r="r" b="b"/>
                  <a:pathLst>
                    <a:path w="134" h="7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6" y="0"/>
                      </a:lnTo>
                      <a:lnTo>
                        <a:pt x="19" y="3"/>
                      </a:lnTo>
                      <a:lnTo>
                        <a:pt x="25" y="3"/>
                      </a:lnTo>
                      <a:lnTo>
                        <a:pt x="29" y="3"/>
                      </a:lnTo>
                      <a:lnTo>
                        <a:pt x="35" y="3"/>
                      </a:lnTo>
                      <a:lnTo>
                        <a:pt x="38" y="3"/>
                      </a:lnTo>
                      <a:lnTo>
                        <a:pt x="134" y="79"/>
                      </a:lnTo>
                      <a:lnTo>
                        <a:pt x="127" y="76"/>
                      </a:lnTo>
                      <a:lnTo>
                        <a:pt x="124" y="76"/>
                      </a:lnTo>
                      <a:lnTo>
                        <a:pt x="121" y="76"/>
                      </a:lnTo>
                      <a:lnTo>
                        <a:pt x="115" y="76"/>
                      </a:lnTo>
                      <a:lnTo>
                        <a:pt x="111" y="76"/>
                      </a:lnTo>
                      <a:lnTo>
                        <a:pt x="105" y="76"/>
                      </a:lnTo>
                      <a:lnTo>
                        <a:pt x="102" y="76"/>
                      </a:lnTo>
                      <a:lnTo>
                        <a:pt x="99" y="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c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558120" y="3530520"/>
                  <a:ext cx="111600" cy="68400"/>
                </a:xfrm>
                <a:custGeom>
                  <a:avLst/>
                  <a:gdLst/>
                  <a:ahLst/>
                  <a:rect l="l" t="t" r="r" b="b"/>
                  <a:pathLst>
                    <a:path w="131" h="7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10" y="3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9" y="3"/>
                      </a:lnTo>
                      <a:lnTo>
                        <a:pt x="32" y="3"/>
                      </a:lnTo>
                      <a:lnTo>
                        <a:pt x="38" y="6"/>
                      </a:lnTo>
                      <a:lnTo>
                        <a:pt x="131" y="76"/>
                      </a:lnTo>
                      <a:lnTo>
                        <a:pt x="128" y="76"/>
                      </a:lnTo>
                      <a:lnTo>
                        <a:pt x="121" y="76"/>
                      </a:lnTo>
                      <a:lnTo>
                        <a:pt x="118" y="76"/>
                      </a:lnTo>
                      <a:lnTo>
                        <a:pt x="115" y="76"/>
                      </a:lnTo>
                      <a:lnTo>
                        <a:pt x="108" y="76"/>
                      </a:lnTo>
                      <a:lnTo>
                        <a:pt x="105" y="76"/>
                      </a:lnTo>
                      <a:lnTo>
                        <a:pt x="99" y="76"/>
                      </a:lnTo>
                      <a:lnTo>
                        <a:pt x="96" y="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590520" y="3535920"/>
                  <a:ext cx="108720" cy="66960"/>
                </a:xfrm>
                <a:custGeom>
                  <a:avLst/>
                  <a:gdLst/>
                  <a:ahLst/>
                  <a:rect l="l" t="t" r="r" b="b"/>
                  <a:pathLst>
                    <a:path w="128" h="7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9" y="3"/>
                      </a:lnTo>
                      <a:lnTo>
                        <a:pt x="32" y="3"/>
                      </a:lnTo>
                      <a:lnTo>
                        <a:pt x="35" y="3"/>
                      </a:lnTo>
                      <a:lnTo>
                        <a:pt x="128" y="74"/>
                      </a:lnTo>
                      <a:lnTo>
                        <a:pt x="125" y="74"/>
                      </a:lnTo>
                      <a:lnTo>
                        <a:pt x="121" y="74"/>
                      </a:lnTo>
                      <a:lnTo>
                        <a:pt x="115" y="74"/>
                      </a:lnTo>
                      <a:lnTo>
                        <a:pt x="112" y="74"/>
                      </a:lnTo>
                      <a:lnTo>
                        <a:pt x="106" y="74"/>
                      </a:lnTo>
                      <a:lnTo>
                        <a:pt x="102" y="74"/>
                      </a:lnTo>
                      <a:lnTo>
                        <a:pt x="99" y="74"/>
                      </a:lnTo>
                      <a:lnTo>
                        <a:pt x="93" y="7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1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6620040" y="3538800"/>
                  <a:ext cx="111600" cy="66960"/>
                </a:xfrm>
                <a:custGeom>
                  <a:avLst/>
                  <a:gdLst/>
                  <a:ahLst/>
                  <a:rect l="l" t="t" r="r" b="b"/>
                  <a:pathLst>
                    <a:path w="131" h="7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20" y="4"/>
                      </a:lnTo>
                      <a:lnTo>
                        <a:pt x="26" y="4"/>
                      </a:lnTo>
                      <a:lnTo>
                        <a:pt x="29" y="4"/>
                      </a:lnTo>
                      <a:lnTo>
                        <a:pt x="35" y="4"/>
                      </a:lnTo>
                      <a:lnTo>
                        <a:pt x="39" y="4"/>
                      </a:lnTo>
                      <a:lnTo>
                        <a:pt x="131" y="74"/>
                      </a:lnTo>
                      <a:lnTo>
                        <a:pt x="125" y="74"/>
                      </a:lnTo>
                      <a:lnTo>
                        <a:pt x="122" y="74"/>
                      </a:lnTo>
                      <a:lnTo>
                        <a:pt x="115" y="74"/>
                      </a:lnTo>
                      <a:lnTo>
                        <a:pt x="112" y="74"/>
                      </a:lnTo>
                      <a:lnTo>
                        <a:pt x="109" y="74"/>
                      </a:lnTo>
                      <a:lnTo>
                        <a:pt x="102" y="74"/>
                      </a:lnTo>
                      <a:lnTo>
                        <a:pt x="99" y="74"/>
                      </a:lnTo>
                      <a:lnTo>
                        <a:pt x="93" y="7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3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6653520" y="3542400"/>
                  <a:ext cx="108000" cy="65880"/>
                </a:xfrm>
                <a:custGeom>
                  <a:avLst/>
                  <a:gdLst/>
                  <a:ahLst/>
                  <a:rect l="l" t="t" r="r" b="b"/>
                  <a:pathLst>
                    <a:path w="127" h="7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6" y="3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8" y="3"/>
                      </a:lnTo>
                      <a:lnTo>
                        <a:pt x="32" y="3"/>
                      </a:lnTo>
                      <a:lnTo>
                        <a:pt x="38" y="3"/>
                      </a:lnTo>
                      <a:lnTo>
                        <a:pt x="127" y="73"/>
                      </a:lnTo>
                      <a:lnTo>
                        <a:pt x="124" y="73"/>
                      </a:lnTo>
                      <a:lnTo>
                        <a:pt x="118" y="73"/>
                      </a:lnTo>
                      <a:lnTo>
                        <a:pt x="114" y="73"/>
                      </a:lnTo>
                      <a:lnTo>
                        <a:pt x="108" y="73"/>
                      </a:lnTo>
                      <a:lnTo>
                        <a:pt x="105" y="73"/>
                      </a:lnTo>
                      <a:lnTo>
                        <a:pt x="98" y="70"/>
                      </a:lnTo>
                      <a:lnTo>
                        <a:pt x="95" y="70"/>
                      </a:lnTo>
                      <a:lnTo>
                        <a:pt x="92" y="7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6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6685920" y="3544920"/>
                  <a:ext cx="105480" cy="65880"/>
                </a:xfrm>
                <a:custGeom>
                  <a:avLst/>
                  <a:gdLst/>
                  <a:ahLst/>
                  <a:rect l="l" t="t" r="r" b="b"/>
                  <a:pathLst>
                    <a:path w="124" h="73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9" y="3"/>
                      </a:lnTo>
                      <a:lnTo>
                        <a:pt x="32" y="6"/>
                      </a:lnTo>
                      <a:lnTo>
                        <a:pt x="35" y="6"/>
                      </a:lnTo>
                      <a:lnTo>
                        <a:pt x="124" y="73"/>
                      </a:lnTo>
                      <a:lnTo>
                        <a:pt x="121" y="73"/>
                      </a:lnTo>
                      <a:lnTo>
                        <a:pt x="115" y="73"/>
                      </a:lnTo>
                      <a:lnTo>
                        <a:pt x="111" y="73"/>
                      </a:lnTo>
                      <a:lnTo>
                        <a:pt x="108" y="73"/>
                      </a:lnTo>
                      <a:lnTo>
                        <a:pt x="102" y="73"/>
                      </a:lnTo>
                      <a:lnTo>
                        <a:pt x="99" y="70"/>
                      </a:lnTo>
                      <a:lnTo>
                        <a:pt x="92" y="70"/>
                      </a:lnTo>
                      <a:lnTo>
                        <a:pt x="89" y="7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8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6715800" y="3550680"/>
                  <a:ext cx="105480" cy="63000"/>
                </a:xfrm>
                <a:custGeom>
                  <a:avLst/>
                  <a:gdLst/>
                  <a:ahLst/>
                  <a:rect l="l" t="t" r="r" b="b"/>
                  <a:pathLst>
                    <a:path w="124" h="7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5" y="3"/>
                      </a:lnTo>
                      <a:lnTo>
                        <a:pt x="29" y="3"/>
                      </a:lnTo>
                      <a:lnTo>
                        <a:pt x="35" y="3"/>
                      </a:lnTo>
                      <a:lnTo>
                        <a:pt x="38" y="3"/>
                      </a:lnTo>
                      <a:lnTo>
                        <a:pt x="124" y="70"/>
                      </a:lnTo>
                      <a:lnTo>
                        <a:pt x="121" y="70"/>
                      </a:lnTo>
                      <a:lnTo>
                        <a:pt x="118" y="70"/>
                      </a:lnTo>
                      <a:lnTo>
                        <a:pt x="112" y="70"/>
                      </a:lnTo>
                      <a:lnTo>
                        <a:pt x="108" y="67"/>
                      </a:lnTo>
                      <a:lnTo>
                        <a:pt x="102" y="67"/>
                      </a:lnTo>
                      <a:lnTo>
                        <a:pt x="99" y="67"/>
                      </a:lnTo>
                      <a:lnTo>
                        <a:pt x="92" y="67"/>
                      </a:lnTo>
                      <a:lnTo>
                        <a:pt x="89" y="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8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6747840" y="3553200"/>
                  <a:ext cx="102960" cy="64080"/>
                </a:xfrm>
                <a:custGeom>
                  <a:avLst/>
                  <a:gdLst/>
                  <a:ahLst/>
                  <a:rect l="l" t="t" r="r" b="b"/>
                  <a:pathLst>
                    <a:path w="121" h="71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6" y="4"/>
                      </a:lnTo>
                      <a:lnTo>
                        <a:pt x="19" y="4"/>
                      </a:lnTo>
                      <a:lnTo>
                        <a:pt x="26" y="4"/>
                      </a:lnTo>
                      <a:lnTo>
                        <a:pt x="29" y="4"/>
                      </a:lnTo>
                      <a:lnTo>
                        <a:pt x="35" y="4"/>
                      </a:lnTo>
                      <a:lnTo>
                        <a:pt x="38" y="4"/>
                      </a:lnTo>
                      <a:lnTo>
                        <a:pt x="121" y="71"/>
                      </a:lnTo>
                      <a:lnTo>
                        <a:pt x="118" y="71"/>
                      </a:lnTo>
                      <a:lnTo>
                        <a:pt x="115" y="71"/>
                      </a:lnTo>
                      <a:lnTo>
                        <a:pt x="109" y="71"/>
                      </a:lnTo>
                      <a:lnTo>
                        <a:pt x="105" y="67"/>
                      </a:lnTo>
                      <a:lnTo>
                        <a:pt x="99" y="67"/>
                      </a:lnTo>
                      <a:lnTo>
                        <a:pt x="96" y="67"/>
                      </a:lnTo>
                      <a:lnTo>
                        <a:pt x="93" y="67"/>
                      </a:lnTo>
                      <a:lnTo>
                        <a:pt x="86" y="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d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780600" y="3556800"/>
                  <a:ext cx="103680" cy="63000"/>
                </a:xfrm>
                <a:custGeom>
                  <a:avLst/>
                  <a:gdLst/>
                  <a:ahLst/>
                  <a:rect l="l" t="t" r="r" b="b"/>
                  <a:pathLst>
                    <a:path w="122" h="7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0" y="3"/>
                      </a:lnTo>
                      <a:lnTo>
                        <a:pt x="16" y="3"/>
                      </a:lnTo>
                      <a:lnTo>
                        <a:pt x="23" y="3"/>
                      </a:lnTo>
                      <a:lnTo>
                        <a:pt x="26" y="3"/>
                      </a:lnTo>
                      <a:lnTo>
                        <a:pt x="29" y="3"/>
                      </a:lnTo>
                      <a:lnTo>
                        <a:pt x="36" y="6"/>
                      </a:lnTo>
                      <a:lnTo>
                        <a:pt x="39" y="6"/>
                      </a:lnTo>
                      <a:lnTo>
                        <a:pt x="122" y="70"/>
                      </a:lnTo>
                      <a:lnTo>
                        <a:pt x="115" y="70"/>
                      </a:lnTo>
                      <a:lnTo>
                        <a:pt x="112" y="70"/>
                      </a:lnTo>
                      <a:lnTo>
                        <a:pt x="106" y="67"/>
                      </a:lnTo>
                      <a:lnTo>
                        <a:pt x="103" y="67"/>
                      </a:lnTo>
                      <a:lnTo>
                        <a:pt x="99" y="67"/>
                      </a:lnTo>
                      <a:lnTo>
                        <a:pt x="93" y="67"/>
                      </a:lnTo>
                      <a:lnTo>
                        <a:pt x="90" y="67"/>
                      </a:lnTo>
                      <a:lnTo>
                        <a:pt x="83" y="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0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6813720" y="3562200"/>
                  <a:ext cx="97920" cy="60480"/>
                </a:xfrm>
                <a:custGeom>
                  <a:avLst/>
                  <a:gdLst/>
                  <a:ahLst/>
                  <a:rect l="l" t="t" r="r" b="b"/>
                  <a:pathLst>
                    <a:path w="115" h="67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32" y="3"/>
                      </a:lnTo>
                      <a:lnTo>
                        <a:pt x="35" y="3"/>
                      </a:lnTo>
                      <a:lnTo>
                        <a:pt x="115" y="67"/>
                      </a:lnTo>
                      <a:lnTo>
                        <a:pt x="111" y="64"/>
                      </a:lnTo>
                      <a:lnTo>
                        <a:pt x="108" y="64"/>
                      </a:lnTo>
                      <a:lnTo>
                        <a:pt x="102" y="64"/>
                      </a:lnTo>
                      <a:lnTo>
                        <a:pt x="99" y="64"/>
                      </a:lnTo>
                      <a:lnTo>
                        <a:pt x="95" y="64"/>
                      </a:lnTo>
                      <a:lnTo>
                        <a:pt x="89" y="64"/>
                      </a:lnTo>
                      <a:lnTo>
                        <a:pt x="86" y="64"/>
                      </a:lnTo>
                      <a:lnTo>
                        <a:pt x="83" y="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2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6843600" y="3564720"/>
                  <a:ext cx="100440" cy="57960"/>
                </a:xfrm>
                <a:custGeom>
                  <a:avLst/>
                  <a:gdLst/>
                  <a:ahLst/>
                  <a:rect l="l" t="t" r="r" b="b"/>
                  <a:pathLst>
                    <a:path w="118" h="6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32" y="0"/>
                      </a:lnTo>
                      <a:lnTo>
                        <a:pt x="35" y="3"/>
                      </a:lnTo>
                      <a:lnTo>
                        <a:pt x="118" y="64"/>
                      </a:lnTo>
                      <a:lnTo>
                        <a:pt x="111" y="64"/>
                      </a:lnTo>
                      <a:lnTo>
                        <a:pt x="108" y="64"/>
                      </a:lnTo>
                      <a:lnTo>
                        <a:pt x="102" y="64"/>
                      </a:lnTo>
                      <a:lnTo>
                        <a:pt x="99" y="64"/>
                      </a:lnTo>
                      <a:lnTo>
                        <a:pt x="95" y="64"/>
                      </a:lnTo>
                      <a:lnTo>
                        <a:pt x="89" y="64"/>
                      </a:lnTo>
                      <a:lnTo>
                        <a:pt x="86" y="64"/>
                      </a:lnTo>
                      <a:lnTo>
                        <a:pt x="80" y="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5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6873480" y="3567600"/>
                  <a:ext cx="100440" cy="57600"/>
                </a:xfrm>
                <a:custGeom>
                  <a:avLst/>
                  <a:gdLst/>
                  <a:ahLst/>
                  <a:rect l="l" t="t" r="r" b="b"/>
                  <a:pathLst>
                    <a:path w="118" h="6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9" y="0"/>
                      </a:lnTo>
                      <a:lnTo>
                        <a:pt x="35" y="0"/>
                      </a:lnTo>
                      <a:lnTo>
                        <a:pt x="118" y="64"/>
                      </a:lnTo>
                      <a:lnTo>
                        <a:pt x="111" y="64"/>
                      </a:lnTo>
                      <a:lnTo>
                        <a:pt x="108" y="64"/>
                      </a:lnTo>
                      <a:lnTo>
                        <a:pt x="105" y="64"/>
                      </a:lnTo>
                      <a:lnTo>
                        <a:pt x="99" y="64"/>
                      </a:lnTo>
                      <a:lnTo>
                        <a:pt x="96" y="64"/>
                      </a:lnTo>
                      <a:lnTo>
                        <a:pt x="89" y="64"/>
                      </a:lnTo>
                      <a:lnTo>
                        <a:pt x="86" y="61"/>
                      </a:lnTo>
                      <a:lnTo>
                        <a:pt x="83" y="6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7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903000" y="3567600"/>
                  <a:ext cx="100440" cy="60120"/>
                </a:xfrm>
                <a:custGeom>
                  <a:avLst/>
                  <a:gdLst/>
                  <a:ahLst/>
                  <a:rect l="l" t="t" r="r" b="b"/>
                  <a:pathLst>
                    <a:path w="118" h="67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9" y="4"/>
                      </a:lnTo>
                      <a:lnTo>
                        <a:pt x="25" y="4"/>
                      </a:lnTo>
                      <a:lnTo>
                        <a:pt x="29" y="4"/>
                      </a:lnTo>
                      <a:lnTo>
                        <a:pt x="35" y="4"/>
                      </a:lnTo>
                      <a:lnTo>
                        <a:pt x="118" y="67"/>
                      </a:lnTo>
                      <a:lnTo>
                        <a:pt x="112" y="67"/>
                      </a:lnTo>
                      <a:lnTo>
                        <a:pt x="108" y="67"/>
                      </a:lnTo>
                      <a:lnTo>
                        <a:pt x="105" y="67"/>
                      </a:lnTo>
                      <a:lnTo>
                        <a:pt x="99" y="64"/>
                      </a:lnTo>
                      <a:lnTo>
                        <a:pt x="96" y="64"/>
                      </a:lnTo>
                      <a:lnTo>
                        <a:pt x="92" y="64"/>
                      </a:lnTo>
                      <a:lnTo>
                        <a:pt x="86" y="64"/>
                      </a:lnTo>
                      <a:lnTo>
                        <a:pt x="83" y="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932880" y="3571200"/>
                  <a:ext cx="100440" cy="59400"/>
                </a:xfrm>
                <a:custGeom>
                  <a:avLst/>
                  <a:gdLst/>
                  <a:ahLst/>
                  <a:rect l="l" t="t" r="r" b="b"/>
                  <a:pathLst>
                    <a:path w="118" h="6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9" y="0"/>
                      </a:lnTo>
                      <a:lnTo>
                        <a:pt x="32" y="0"/>
                      </a:lnTo>
                      <a:lnTo>
                        <a:pt x="118" y="66"/>
                      </a:lnTo>
                      <a:lnTo>
                        <a:pt x="112" y="63"/>
                      </a:lnTo>
                      <a:lnTo>
                        <a:pt x="108" y="63"/>
                      </a:lnTo>
                      <a:lnTo>
                        <a:pt x="105" y="63"/>
                      </a:lnTo>
                      <a:lnTo>
                        <a:pt x="99" y="63"/>
                      </a:lnTo>
                      <a:lnTo>
                        <a:pt x="96" y="63"/>
                      </a:lnTo>
                      <a:lnTo>
                        <a:pt x="92" y="63"/>
                      </a:lnTo>
                      <a:lnTo>
                        <a:pt x="86" y="63"/>
                      </a:lnTo>
                      <a:lnTo>
                        <a:pt x="83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6960240" y="3571200"/>
                  <a:ext cx="100440" cy="59400"/>
                </a:xfrm>
                <a:custGeom>
                  <a:avLst/>
                  <a:gdLst/>
                  <a:ahLst/>
                  <a:rect l="l" t="t" r="r" b="b"/>
                  <a:pathLst>
                    <a:path w="118" h="6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9" y="0"/>
                      </a:lnTo>
                      <a:lnTo>
                        <a:pt x="35" y="0"/>
                      </a:lnTo>
                      <a:lnTo>
                        <a:pt x="118" y="66"/>
                      </a:lnTo>
                      <a:lnTo>
                        <a:pt x="115" y="66"/>
                      </a:lnTo>
                      <a:lnTo>
                        <a:pt x="111" y="66"/>
                      </a:lnTo>
                      <a:lnTo>
                        <a:pt x="108" y="66"/>
                      </a:lnTo>
                      <a:lnTo>
                        <a:pt x="102" y="66"/>
                      </a:lnTo>
                      <a:lnTo>
                        <a:pt x="99" y="66"/>
                      </a:lnTo>
                      <a:lnTo>
                        <a:pt x="92" y="66"/>
                      </a:lnTo>
                      <a:lnTo>
                        <a:pt x="89" y="66"/>
                      </a:lnTo>
                      <a:lnTo>
                        <a:pt x="86" y="6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6990120" y="3571200"/>
                  <a:ext cx="100440" cy="63000"/>
                </a:xfrm>
                <a:custGeom>
                  <a:avLst/>
                  <a:gdLst/>
                  <a:ahLst/>
                  <a:rect l="l" t="t" r="r" b="b"/>
                  <a:pathLst>
                    <a:path w="118" h="7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3"/>
                      </a:lnTo>
                      <a:lnTo>
                        <a:pt x="13" y="3"/>
                      </a:lnTo>
                      <a:lnTo>
                        <a:pt x="16" y="3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9" y="3"/>
                      </a:lnTo>
                      <a:lnTo>
                        <a:pt x="32" y="3"/>
                      </a:lnTo>
                      <a:lnTo>
                        <a:pt x="118" y="70"/>
                      </a:lnTo>
                      <a:lnTo>
                        <a:pt x="115" y="70"/>
                      </a:lnTo>
                      <a:lnTo>
                        <a:pt x="112" y="66"/>
                      </a:lnTo>
                      <a:lnTo>
                        <a:pt x="108" y="66"/>
                      </a:lnTo>
                      <a:lnTo>
                        <a:pt x="102" y="66"/>
                      </a:lnTo>
                      <a:lnTo>
                        <a:pt x="99" y="66"/>
                      </a:lnTo>
                      <a:lnTo>
                        <a:pt x="92" y="66"/>
                      </a:lnTo>
                      <a:lnTo>
                        <a:pt x="89" y="66"/>
                      </a:lnTo>
                      <a:lnTo>
                        <a:pt x="83" y="6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7017480" y="3573720"/>
                  <a:ext cx="89280" cy="60480"/>
                </a:xfrm>
                <a:custGeom>
                  <a:avLst/>
                  <a:gdLst/>
                  <a:ahLst/>
                  <a:rect l="l" t="t" r="r" b="b"/>
                  <a:pathLst>
                    <a:path w="105" h="67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9" y="0"/>
                      </a:lnTo>
                      <a:lnTo>
                        <a:pt x="32" y="0"/>
                      </a:lnTo>
                      <a:lnTo>
                        <a:pt x="57" y="19"/>
                      </a:lnTo>
                      <a:lnTo>
                        <a:pt x="60" y="22"/>
                      </a:lnTo>
                      <a:lnTo>
                        <a:pt x="60" y="28"/>
                      </a:lnTo>
                      <a:lnTo>
                        <a:pt x="64" y="32"/>
                      </a:lnTo>
                      <a:lnTo>
                        <a:pt x="64" y="35"/>
                      </a:lnTo>
                      <a:lnTo>
                        <a:pt x="67" y="38"/>
                      </a:lnTo>
                      <a:lnTo>
                        <a:pt x="67" y="44"/>
                      </a:lnTo>
                      <a:lnTo>
                        <a:pt x="70" y="48"/>
                      </a:lnTo>
                      <a:lnTo>
                        <a:pt x="73" y="51"/>
                      </a:lnTo>
                      <a:lnTo>
                        <a:pt x="76" y="54"/>
                      </a:lnTo>
                      <a:lnTo>
                        <a:pt x="76" y="57"/>
                      </a:lnTo>
                      <a:lnTo>
                        <a:pt x="83" y="60"/>
                      </a:lnTo>
                      <a:lnTo>
                        <a:pt x="86" y="60"/>
                      </a:lnTo>
                      <a:lnTo>
                        <a:pt x="89" y="63"/>
                      </a:lnTo>
                      <a:lnTo>
                        <a:pt x="92" y="63"/>
                      </a:lnTo>
                      <a:lnTo>
                        <a:pt x="99" y="63"/>
                      </a:lnTo>
                      <a:lnTo>
                        <a:pt x="105" y="67"/>
                      </a:lnTo>
                      <a:lnTo>
                        <a:pt x="102" y="67"/>
                      </a:lnTo>
                      <a:lnTo>
                        <a:pt x="99" y="67"/>
                      </a:lnTo>
                      <a:lnTo>
                        <a:pt x="99" y="67"/>
                      </a:lnTo>
                      <a:lnTo>
                        <a:pt x="95" y="67"/>
                      </a:lnTo>
                      <a:lnTo>
                        <a:pt x="92" y="67"/>
                      </a:lnTo>
                      <a:lnTo>
                        <a:pt x="92" y="67"/>
                      </a:lnTo>
                      <a:lnTo>
                        <a:pt x="89" y="67"/>
                      </a:lnTo>
                      <a:lnTo>
                        <a:pt x="86" y="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7044840" y="3573720"/>
                  <a:ext cx="21240" cy="16920"/>
                </a:xfrm>
                <a:custGeom>
                  <a:avLst/>
                  <a:gdLst/>
                  <a:ahLst/>
                  <a:rect l="l" t="t" r="r" b="b"/>
                  <a:pathLst>
                    <a:path w="25" h="19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2" y="6"/>
                      </a:lnTo>
                      <a:lnTo>
                        <a:pt x="25" y="9"/>
                      </a:lnTo>
                      <a:lnTo>
                        <a:pt x="25" y="16"/>
                      </a:lnTo>
                      <a:lnTo>
                        <a:pt x="25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6194160" y="3498840"/>
                  <a:ext cx="603360" cy="114480"/>
                </a:xfrm>
                <a:custGeom>
                  <a:avLst/>
                  <a:gdLst/>
                  <a:ahLst/>
                  <a:rect l="l" t="t" r="r" b="b"/>
                  <a:pathLst>
                    <a:path w="708" h="127">
                      <a:moveTo>
                        <a:pt x="701" y="108"/>
                      </a:move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13" y="9"/>
                      </a:lnTo>
                      <a:lnTo>
                        <a:pt x="9" y="9"/>
                      </a:lnTo>
                      <a:lnTo>
                        <a:pt x="9" y="13"/>
                      </a:lnTo>
                      <a:lnTo>
                        <a:pt x="0" y="54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60"/>
                      </a:lnTo>
                      <a:lnTo>
                        <a:pt x="3" y="64"/>
                      </a:lnTo>
                      <a:lnTo>
                        <a:pt x="6" y="67"/>
                      </a:lnTo>
                      <a:lnTo>
                        <a:pt x="9" y="67"/>
                      </a:lnTo>
                      <a:lnTo>
                        <a:pt x="13" y="70"/>
                      </a:lnTo>
                      <a:lnTo>
                        <a:pt x="16" y="70"/>
                      </a:lnTo>
                      <a:lnTo>
                        <a:pt x="701" y="127"/>
                      </a:lnTo>
                      <a:lnTo>
                        <a:pt x="704" y="124"/>
                      </a:lnTo>
                      <a:lnTo>
                        <a:pt x="708" y="118"/>
                      </a:lnTo>
                      <a:lnTo>
                        <a:pt x="704" y="111"/>
                      </a:lnTo>
                      <a:lnTo>
                        <a:pt x="701" y="108"/>
                      </a:lnTo>
                      <a:close/>
                    </a:path>
                  </a:pathLst>
                </a:custGeom>
                <a:solidFill>
                  <a:srgbClr val="9e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6196320" y="3501720"/>
                  <a:ext cx="583920" cy="109080"/>
                </a:xfrm>
                <a:custGeom>
                  <a:avLst/>
                  <a:gdLst/>
                  <a:ahLst/>
                  <a:rect l="l" t="t" r="r" b="b"/>
                  <a:pathLst>
                    <a:path w="685" h="121">
                      <a:moveTo>
                        <a:pt x="682" y="102"/>
                      </a:moveTo>
                      <a:lnTo>
                        <a:pt x="663" y="99"/>
                      </a:lnTo>
                      <a:lnTo>
                        <a:pt x="644" y="96"/>
                      </a:lnTo>
                      <a:lnTo>
                        <a:pt x="628" y="92"/>
                      </a:lnTo>
                      <a:lnTo>
                        <a:pt x="612" y="92"/>
                      </a:lnTo>
                      <a:lnTo>
                        <a:pt x="596" y="89"/>
                      </a:lnTo>
                      <a:lnTo>
                        <a:pt x="583" y="86"/>
                      </a:lnTo>
                      <a:lnTo>
                        <a:pt x="571" y="86"/>
                      </a:lnTo>
                      <a:lnTo>
                        <a:pt x="558" y="83"/>
                      </a:lnTo>
                      <a:lnTo>
                        <a:pt x="548" y="83"/>
                      </a:lnTo>
                      <a:lnTo>
                        <a:pt x="536" y="80"/>
                      </a:lnTo>
                      <a:lnTo>
                        <a:pt x="523" y="77"/>
                      </a:lnTo>
                      <a:lnTo>
                        <a:pt x="513" y="77"/>
                      </a:lnTo>
                      <a:lnTo>
                        <a:pt x="501" y="73"/>
                      </a:lnTo>
                      <a:lnTo>
                        <a:pt x="488" y="73"/>
                      </a:lnTo>
                      <a:lnTo>
                        <a:pt x="475" y="70"/>
                      </a:lnTo>
                      <a:lnTo>
                        <a:pt x="462" y="67"/>
                      </a:lnTo>
                      <a:lnTo>
                        <a:pt x="450" y="67"/>
                      </a:lnTo>
                      <a:lnTo>
                        <a:pt x="434" y="64"/>
                      </a:lnTo>
                      <a:lnTo>
                        <a:pt x="418" y="61"/>
                      </a:lnTo>
                      <a:lnTo>
                        <a:pt x="399" y="57"/>
                      </a:lnTo>
                      <a:lnTo>
                        <a:pt x="383" y="54"/>
                      </a:lnTo>
                      <a:lnTo>
                        <a:pt x="360" y="51"/>
                      </a:lnTo>
                      <a:lnTo>
                        <a:pt x="338" y="48"/>
                      </a:lnTo>
                      <a:lnTo>
                        <a:pt x="313" y="45"/>
                      </a:lnTo>
                      <a:lnTo>
                        <a:pt x="287" y="41"/>
                      </a:lnTo>
                      <a:lnTo>
                        <a:pt x="258" y="35"/>
                      </a:lnTo>
                      <a:lnTo>
                        <a:pt x="226" y="32"/>
                      </a:lnTo>
                      <a:lnTo>
                        <a:pt x="191" y="25"/>
                      </a:lnTo>
                      <a:lnTo>
                        <a:pt x="156" y="19"/>
                      </a:lnTo>
                      <a:lnTo>
                        <a:pt x="115" y="16"/>
                      </a:lnTo>
                      <a:lnTo>
                        <a:pt x="73" y="6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2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3" y="6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6" y="19"/>
                      </a:lnTo>
                      <a:lnTo>
                        <a:pt x="6" y="25"/>
                      </a:lnTo>
                      <a:lnTo>
                        <a:pt x="3" y="32"/>
                      </a:lnTo>
                      <a:lnTo>
                        <a:pt x="0" y="48"/>
                      </a:lnTo>
                      <a:lnTo>
                        <a:pt x="0" y="51"/>
                      </a:lnTo>
                      <a:lnTo>
                        <a:pt x="3" y="51"/>
                      </a:lnTo>
                      <a:lnTo>
                        <a:pt x="3" y="54"/>
                      </a:lnTo>
                      <a:lnTo>
                        <a:pt x="6" y="57"/>
                      </a:lnTo>
                      <a:lnTo>
                        <a:pt x="6" y="57"/>
                      </a:lnTo>
                      <a:lnTo>
                        <a:pt x="10" y="61"/>
                      </a:lnTo>
                      <a:lnTo>
                        <a:pt x="13" y="61"/>
                      </a:lnTo>
                      <a:lnTo>
                        <a:pt x="16" y="61"/>
                      </a:lnTo>
                      <a:lnTo>
                        <a:pt x="35" y="64"/>
                      </a:lnTo>
                      <a:lnTo>
                        <a:pt x="54" y="64"/>
                      </a:lnTo>
                      <a:lnTo>
                        <a:pt x="70" y="67"/>
                      </a:lnTo>
                      <a:lnTo>
                        <a:pt x="86" y="67"/>
                      </a:lnTo>
                      <a:lnTo>
                        <a:pt x="102" y="70"/>
                      </a:lnTo>
                      <a:lnTo>
                        <a:pt x="115" y="70"/>
                      </a:lnTo>
                      <a:lnTo>
                        <a:pt x="128" y="70"/>
                      </a:lnTo>
                      <a:lnTo>
                        <a:pt x="140" y="73"/>
                      </a:lnTo>
                      <a:lnTo>
                        <a:pt x="153" y="73"/>
                      </a:lnTo>
                      <a:lnTo>
                        <a:pt x="163" y="73"/>
                      </a:lnTo>
                      <a:lnTo>
                        <a:pt x="175" y="77"/>
                      </a:lnTo>
                      <a:lnTo>
                        <a:pt x="188" y="77"/>
                      </a:lnTo>
                      <a:lnTo>
                        <a:pt x="198" y="77"/>
                      </a:lnTo>
                      <a:lnTo>
                        <a:pt x="210" y="80"/>
                      </a:lnTo>
                      <a:lnTo>
                        <a:pt x="223" y="80"/>
                      </a:lnTo>
                      <a:lnTo>
                        <a:pt x="236" y="80"/>
                      </a:lnTo>
                      <a:lnTo>
                        <a:pt x="252" y="83"/>
                      </a:lnTo>
                      <a:lnTo>
                        <a:pt x="268" y="83"/>
                      </a:lnTo>
                      <a:lnTo>
                        <a:pt x="284" y="86"/>
                      </a:lnTo>
                      <a:lnTo>
                        <a:pt x="300" y="86"/>
                      </a:lnTo>
                      <a:lnTo>
                        <a:pt x="322" y="89"/>
                      </a:lnTo>
                      <a:lnTo>
                        <a:pt x="341" y="89"/>
                      </a:lnTo>
                      <a:lnTo>
                        <a:pt x="364" y="92"/>
                      </a:lnTo>
                      <a:lnTo>
                        <a:pt x="389" y="96"/>
                      </a:lnTo>
                      <a:lnTo>
                        <a:pt x="418" y="99"/>
                      </a:lnTo>
                      <a:lnTo>
                        <a:pt x="446" y="99"/>
                      </a:lnTo>
                      <a:lnTo>
                        <a:pt x="478" y="102"/>
                      </a:lnTo>
                      <a:lnTo>
                        <a:pt x="513" y="105"/>
                      </a:lnTo>
                      <a:lnTo>
                        <a:pt x="548" y="108"/>
                      </a:lnTo>
                      <a:lnTo>
                        <a:pt x="590" y="115"/>
                      </a:lnTo>
                      <a:lnTo>
                        <a:pt x="634" y="118"/>
                      </a:lnTo>
                      <a:lnTo>
                        <a:pt x="679" y="121"/>
                      </a:lnTo>
                      <a:lnTo>
                        <a:pt x="682" y="118"/>
                      </a:lnTo>
                      <a:lnTo>
                        <a:pt x="685" y="112"/>
                      </a:lnTo>
                      <a:lnTo>
                        <a:pt x="685" y="105"/>
                      </a:lnTo>
                      <a:lnTo>
                        <a:pt x="682" y="102"/>
                      </a:lnTo>
                      <a:close/>
                    </a:path>
                  </a:pathLst>
                </a:custGeom>
                <a:solidFill>
                  <a:srgbClr val="ad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201720" y="3504600"/>
                  <a:ext cx="562320" cy="103680"/>
                </a:xfrm>
                <a:custGeom>
                  <a:avLst/>
                  <a:gdLst/>
                  <a:ahLst/>
                  <a:rect l="l" t="t" r="r" b="b"/>
                  <a:pathLst>
                    <a:path w="660" h="115">
                      <a:moveTo>
                        <a:pt x="657" y="99"/>
                      </a:moveTo>
                      <a:lnTo>
                        <a:pt x="638" y="96"/>
                      </a:lnTo>
                      <a:lnTo>
                        <a:pt x="622" y="93"/>
                      </a:lnTo>
                      <a:lnTo>
                        <a:pt x="603" y="89"/>
                      </a:lnTo>
                      <a:lnTo>
                        <a:pt x="590" y="89"/>
                      </a:lnTo>
                      <a:lnTo>
                        <a:pt x="574" y="86"/>
                      </a:lnTo>
                      <a:lnTo>
                        <a:pt x="562" y="83"/>
                      </a:lnTo>
                      <a:lnTo>
                        <a:pt x="549" y="83"/>
                      </a:lnTo>
                      <a:lnTo>
                        <a:pt x="539" y="80"/>
                      </a:lnTo>
                      <a:lnTo>
                        <a:pt x="526" y="80"/>
                      </a:lnTo>
                      <a:lnTo>
                        <a:pt x="517" y="77"/>
                      </a:lnTo>
                      <a:lnTo>
                        <a:pt x="504" y="74"/>
                      </a:lnTo>
                      <a:lnTo>
                        <a:pt x="495" y="74"/>
                      </a:lnTo>
                      <a:lnTo>
                        <a:pt x="482" y="70"/>
                      </a:lnTo>
                      <a:lnTo>
                        <a:pt x="469" y="70"/>
                      </a:lnTo>
                      <a:lnTo>
                        <a:pt x="460" y="67"/>
                      </a:lnTo>
                      <a:lnTo>
                        <a:pt x="447" y="67"/>
                      </a:lnTo>
                      <a:lnTo>
                        <a:pt x="431" y="64"/>
                      </a:lnTo>
                      <a:lnTo>
                        <a:pt x="418" y="61"/>
                      </a:lnTo>
                      <a:lnTo>
                        <a:pt x="402" y="58"/>
                      </a:lnTo>
                      <a:lnTo>
                        <a:pt x="383" y="58"/>
                      </a:lnTo>
                      <a:lnTo>
                        <a:pt x="367" y="54"/>
                      </a:lnTo>
                      <a:lnTo>
                        <a:pt x="345" y="51"/>
                      </a:lnTo>
                      <a:lnTo>
                        <a:pt x="322" y="48"/>
                      </a:lnTo>
                      <a:lnTo>
                        <a:pt x="300" y="45"/>
                      </a:lnTo>
                      <a:lnTo>
                        <a:pt x="275" y="38"/>
                      </a:lnTo>
                      <a:lnTo>
                        <a:pt x="246" y="35"/>
                      </a:lnTo>
                      <a:lnTo>
                        <a:pt x="214" y="32"/>
                      </a:lnTo>
                      <a:lnTo>
                        <a:pt x="182" y="26"/>
                      </a:lnTo>
                      <a:lnTo>
                        <a:pt x="147" y="19"/>
                      </a:lnTo>
                      <a:lnTo>
                        <a:pt x="109" y="16"/>
                      </a:lnTo>
                      <a:lnTo>
                        <a:pt x="67" y="10"/>
                      </a:lnTo>
                      <a:lnTo>
                        <a:pt x="20" y="0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3" y="3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7" y="10"/>
                      </a:lnTo>
                      <a:lnTo>
                        <a:pt x="7" y="13"/>
                      </a:lnTo>
                      <a:lnTo>
                        <a:pt x="7" y="13"/>
                      </a:lnTo>
                      <a:lnTo>
                        <a:pt x="4" y="19"/>
                      </a:lnTo>
                      <a:lnTo>
                        <a:pt x="4" y="22"/>
                      </a:lnTo>
                      <a:lnTo>
                        <a:pt x="4" y="29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8"/>
                      </a:lnTo>
                      <a:lnTo>
                        <a:pt x="4" y="51"/>
                      </a:lnTo>
                      <a:lnTo>
                        <a:pt x="7" y="51"/>
                      </a:lnTo>
                      <a:lnTo>
                        <a:pt x="7" y="51"/>
                      </a:lnTo>
                      <a:lnTo>
                        <a:pt x="10" y="54"/>
                      </a:lnTo>
                      <a:lnTo>
                        <a:pt x="13" y="54"/>
                      </a:lnTo>
                      <a:lnTo>
                        <a:pt x="32" y="54"/>
                      </a:lnTo>
                      <a:lnTo>
                        <a:pt x="48" y="58"/>
                      </a:lnTo>
                      <a:lnTo>
                        <a:pt x="67" y="58"/>
                      </a:lnTo>
                      <a:lnTo>
                        <a:pt x="80" y="61"/>
                      </a:lnTo>
                      <a:lnTo>
                        <a:pt x="96" y="61"/>
                      </a:lnTo>
                      <a:lnTo>
                        <a:pt x="109" y="64"/>
                      </a:lnTo>
                      <a:lnTo>
                        <a:pt x="122" y="64"/>
                      </a:lnTo>
                      <a:lnTo>
                        <a:pt x="134" y="64"/>
                      </a:lnTo>
                      <a:lnTo>
                        <a:pt x="144" y="67"/>
                      </a:lnTo>
                      <a:lnTo>
                        <a:pt x="157" y="67"/>
                      </a:lnTo>
                      <a:lnTo>
                        <a:pt x="169" y="67"/>
                      </a:lnTo>
                      <a:lnTo>
                        <a:pt x="179" y="70"/>
                      </a:lnTo>
                      <a:lnTo>
                        <a:pt x="192" y="70"/>
                      </a:lnTo>
                      <a:lnTo>
                        <a:pt x="201" y="70"/>
                      </a:lnTo>
                      <a:lnTo>
                        <a:pt x="214" y="74"/>
                      </a:lnTo>
                      <a:lnTo>
                        <a:pt x="227" y="74"/>
                      </a:lnTo>
                      <a:lnTo>
                        <a:pt x="243" y="74"/>
                      </a:lnTo>
                      <a:lnTo>
                        <a:pt x="256" y="77"/>
                      </a:lnTo>
                      <a:lnTo>
                        <a:pt x="271" y="77"/>
                      </a:lnTo>
                      <a:lnTo>
                        <a:pt x="291" y="80"/>
                      </a:lnTo>
                      <a:lnTo>
                        <a:pt x="310" y="80"/>
                      </a:lnTo>
                      <a:lnTo>
                        <a:pt x="329" y="83"/>
                      </a:lnTo>
                      <a:lnTo>
                        <a:pt x="351" y="86"/>
                      </a:lnTo>
                      <a:lnTo>
                        <a:pt x="377" y="86"/>
                      </a:lnTo>
                      <a:lnTo>
                        <a:pt x="402" y="89"/>
                      </a:lnTo>
                      <a:lnTo>
                        <a:pt x="431" y="93"/>
                      </a:lnTo>
                      <a:lnTo>
                        <a:pt x="463" y="96"/>
                      </a:lnTo>
                      <a:lnTo>
                        <a:pt x="495" y="99"/>
                      </a:lnTo>
                      <a:lnTo>
                        <a:pt x="530" y="102"/>
                      </a:lnTo>
                      <a:lnTo>
                        <a:pt x="571" y="105"/>
                      </a:lnTo>
                      <a:lnTo>
                        <a:pt x="613" y="109"/>
                      </a:lnTo>
                      <a:lnTo>
                        <a:pt x="657" y="115"/>
                      </a:lnTo>
                      <a:lnTo>
                        <a:pt x="660" y="112"/>
                      </a:lnTo>
                      <a:lnTo>
                        <a:pt x="660" y="105"/>
                      </a:lnTo>
                      <a:lnTo>
                        <a:pt x="660" y="102"/>
                      </a:lnTo>
                      <a:lnTo>
                        <a:pt x="657" y="99"/>
                      </a:lnTo>
                      <a:close/>
                    </a:path>
                  </a:pathLst>
                </a:custGeom>
                <a:solidFill>
                  <a:srgbClr val="ba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207840" y="3510720"/>
                  <a:ext cx="542880" cy="92160"/>
                </a:xfrm>
                <a:custGeom>
                  <a:avLst/>
                  <a:gdLst/>
                  <a:ahLst/>
                  <a:rect l="l" t="t" r="r" b="b"/>
                  <a:pathLst>
                    <a:path w="637" h="102">
                      <a:moveTo>
                        <a:pt x="634" y="92"/>
                      </a:moveTo>
                      <a:lnTo>
                        <a:pt x="615" y="89"/>
                      </a:lnTo>
                      <a:lnTo>
                        <a:pt x="599" y="86"/>
                      </a:lnTo>
                      <a:lnTo>
                        <a:pt x="583" y="82"/>
                      </a:lnTo>
                      <a:lnTo>
                        <a:pt x="567" y="82"/>
                      </a:lnTo>
                      <a:lnTo>
                        <a:pt x="555" y="79"/>
                      </a:lnTo>
                      <a:lnTo>
                        <a:pt x="542" y="76"/>
                      </a:lnTo>
                      <a:lnTo>
                        <a:pt x="529" y="76"/>
                      </a:lnTo>
                      <a:lnTo>
                        <a:pt x="516" y="73"/>
                      </a:lnTo>
                      <a:lnTo>
                        <a:pt x="507" y="73"/>
                      </a:lnTo>
                      <a:lnTo>
                        <a:pt x="497" y="70"/>
                      </a:lnTo>
                      <a:lnTo>
                        <a:pt x="484" y="70"/>
                      </a:lnTo>
                      <a:lnTo>
                        <a:pt x="475" y="67"/>
                      </a:lnTo>
                      <a:lnTo>
                        <a:pt x="462" y="67"/>
                      </a:lnTo>
                      <a:lnTo>
                        <a:pt x="453" y="63"/>
                      </a:lnTo>
                      <a:lnTo>
                        <a:pt x="440" y="60"/>
                      </a:lnTo>
                      <a:lnTo>
                        <a:pt x="427" y="60"/>
                      </a:lnTo>
                      <a:lnTo>
                        <a:pt x="414" y="57"/>
                      </a:lnTo>
                      <a:lnTo>
                        <a:pt x="398" y="57"/>
                      </a:lnTo>
                      <a:lnTo>
                        <a:pt x="386" y="54"/>
                      </a:lnTo>
                      <a:lnTo>
                        <a:pt x="366" y="51"/>
                      </a:lnTo>
                      <a:lnTo>
                        <a:pt x="351" y="47"/>
                      </a:lnTo>
                      <a:lnTo>
                        <a:pt x="328" y="44"/>
                      </a:lnTo>
                      <a:lnTo>
                        <a:pt x="309" y="44"/>
                      </a:lnTo>
                      <a:lnTo>
                        <a:pt x="284" y="38"/>
                      </a:lnTo>
                      <a:lnTo>
                        <a:pt x="261" y="35"/>
                      </a:lnTo>
                      <a:lnTo>
                        <a:pt x="233" y="31"/>
                      </a:lnTo>
                      <a:lnTo>
                        <a:pt x="204" y="28"/>
                      </a:lnTo>
                      <a:lnTo>
                        <a:pt x="172" y="22"/>
                      </a:lnTo>
                      <a:lnTo>
                        <a:pt x="137" y="19"/>
                      </a:lnTo>
                      <a:lnTo>
                        <a:pt x="99" y="12"/>
                      </a:lnTo>
                      <a:lnTo>
                        <a:pt x="57" y="6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0" y="22"/>
                      </a:lnTo>
                      <a:lnTo>
                        <a:pt x="0" y="31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8"/>
                      </a:lnTo>
                      <a:lnTo>
                        <a:pt x="3" y="38"/>
                      </a:lnTo>
                      <a:lnTo>
                        <a:pt x="3" y="41"/>
                      </a:lnTo>
                      <a:lnTo>
                        <a:pt x="6" y="41"/>
                      </a:lnTo>
                      <a:lnTo>
                        <a:pt x="6" y="44"/>
                      </a:lnTo>
                      <a:lnTo>
                        <a:pt x="9" y="44"/>
                      </a:lnTo>
                      <a:lnTo>
                        <a:pt x="29" y="44"/>
                      </a:lnTo>
                      <a:lnTo>
                        <a:pt x="44" y="47"/>
                      </a:lnTo>
                      <a:lnTo>
                        <a:pt x="60" y="47"/>
                      </a:lnTo>
                      <a:lnTo>
                        <a:pt x="76" y="51"/>
                      </a:lnTo>
                      <a:lnTo>
                        <a:pt x="89" y="51"/>
                      </a:lnTo>
                      <a:lnTo>
                        <a:pt x="102" y="51"/>
                      </a:lnTo>
                      <a:lnTo>
                        <a:pt x="115" y="54"/>
                      </a:lnTo>
                      <a:lnTo>
                        <a:pt x="127" y="54"/>
                      </a:lnTo>
                      <a:lnTo>
                        <a:pt x="137" y="54"/>
                      </a:lnTo>
                      <a:lnTo>
                        <a:pt x="150" y="57"/>
                      </a:lnTo>
                      <a:lnTo>
                        <a:pt x="159" y="57"/>
                      </a:lnTo>
                      <a:lnTo>
                        <a:pt x="169" y="57"/>
                      </a:lnTo>
                      <a:lnTo>
                        <a:pt x="182" y="60"/>
                      </a:lnTo>
                      <a:lnTo>
                        <a:pt x="191" y="60"/>
                      </a:lnTo>
                      <a:lnTo>
                        <a:pt x="204" y="60"/>
                      </a:lnTo>
                      <a:lnTo>
                        <a:pt x="217" y="63"/>
                      </a:lnTo>
                      <a:lnTo>
                        <a:pt x="229" y="63"/>
                      </a:lnTo>
                      <a:lnTo>
                        <a:pt x="245" y="63"/>
                      </a:lnTo>
                      <a:lnTo>
                        <a:pt x="261" y="67"/>
                      </a:lnTo>
                      <a:lnTo>
                        <a:pt x="277" y="67"/>
                      </a:lnTo>
                      <a:lnTo>
                        <a:pt x="296" y="70"/>
                      </a:lnTo>
                      <a:lnTo>
                        <a:pt x="315" y="73"/>
                      </a:lnTo>
                      <a:lnTo>
                        <a:pt x="338" y="73"/>
                      </a:lnTo>
                      <a:lnTo>
                        <a:pt x="360" y="76"/>
                      </a:lnTo>
                      <a:lnTo>
                        <a:pt x="386" y="79"/>
                      </a:lnTo>
                      <a:lnTo>
                        <a:pt x="414" y="82"/>
                      </a:lnTo>
                      <a:lnTo>
                        <a:pt x="443" y="82"/>
                      </a:lnTo>
                      <a:lnTo>
                        <a:pt x="475" y="89"/>
                      </a:lnTo>
                      <a:lnTo>
                        <a:pt x="510" y="92"/>
                      </a:lnTo>
                      <a:lnTo>
                        <a:pt x="548" y="95"/>
                      </a:lnTo>
                      <a:lnTo>
                        <a:pt x="590" y="98"/>
                      </a:lnTo>
                      <a:lnTo>
                        <a:pt x="634" y="102"/>
                      </a:lnTo>
                      <a:lnTo>
                        <a:pt x="634" y="102"/>
                      </a:lnTo>
                      <a:lnTo>
                        <a:pt x="637" y="95"/>
                      </a:lnTo>
                      <a:lnTo>
                        <a:pt x="637" y="92"/>
                      </a:lnTo>
                      <a:lnTo>
                        <a:pt x="634" y="92"/>
                      </a:lnTo>
                      <a:close/>
                    </a:path>
                  </a:pathLst>
                </a:custGeom>
                <a:solidFill>
                  <a:srgbClr val="c4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6210360" y="3516120"/>
                  <a:ext cx="524160" cy="83160"/>
                </a:xfrm>
                <a:custGeom>
                  <a:avLst/>
                  <a:gdLst/>
                  <a:ahLst/>
                  <a:rect l="l" t="t" r="r" b="b"/>
                  <a:pathLst>
                    <a:path w="615" h="92">
                      <a:moveTo>
                        <a:pt x="615" y="83"/>
                      </a:move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3" y="3"/>
                      </a:lnTo>
                      <a:lnTo>
                        <a:pt x="0" y="6"/>
                      </a:lnTo>
                      <a:lnTo>
                        <a:pt x="0" y="25"/>
                      </a:lnTo>
                      <a:lnTo>
                        <a:pt x="3" y="29"/>
                      </a:lnTo>
                      <a:lnTo>
                        <a:pt x="3" y="29"/>
                      </a:lnTo>
                      <a:lnTo>
                        <a:pt x="6" y="32"/>
                      </a:lnTo>
                      <a:lnTo>
                        <a:pt x="10" y="32"/>
                      </a:lnTo>
                      <a:lnTo>
                        <a:pt x="612" y="92"/>
                      </a:lnTo>
                      <a:lnTo>
                        <a:pt x="615" y="92"/>
                      </a:lnTo>
                      <a:lnTo>
                        <a:pt x="615" y="89"/>
                      </a:lnTo>
                      <a:lnTo>
                        <a:pt x="615" y="86"/>
                      </a:lnTo>
                      <a:lnTo>
                        <a:pt x="615" y="83"/>
                      </a:lnTo>
                      <a:close/>
                    </a:path>
                  </a:pathLst>
                </a:custGeom>
                <a:solidFill>
                  <a:srgbClr val="d1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7587720" y="3107160"/>
                  <a:ext cx="187200" cy="65880"/>
                </a:xfrm>
                <a:custGeom>
                  <a:avLst/>
                  <a:gdLst/>
                  <a:ahLst/>
                  <a:rect l="l" t="t" r="r" b="b"/>
                  <a:pathLst>
                    <a:path w="220" h="73">
                      <a:moveTo>
                        <a:pt x="134" y="0"/>
                      </a:moveTo>
                      <a:lnTo>
                        <a:pt x="137" y="3"/>
                      </a:lnTo>
                      <a:lnTo>
                        <a:pt x="144" y="10"/>
                      </a:lnTo>
                      <a:lnTo>
                        <a:pt x="147" y="13"/>
                      </a:lnTo>
                      <a:lnTo>
                        <a:pt x="153" y="16"/>
                      </a:lnTo>
                      <a:lnTo>
                        <a:pt x="160" y="22"/>
                      </a:lnTo>
                      <a:lnTo>
                        <a:pt x="163" y="26"/>
                      </a:lnTo>
                      <a:lnTo>
                        <a:pt x="169" y="29"/>
                      </a:lnTo>
                      <a:lnTo>
                        <a:pt x="172" y="32"/>
                      </a:lnTo>
                      <a:lnTo>
                        <a:pt x="176" y="35"/>
                      </a:lnTo>
                      <a:lnTo>
                        <a:pt x="176" y="38"/>
                      </a:lnTo>
                      <a:lnTo>
                        <a:pt x="172" y="45"/>
                      </a:lnTo>
                      <a:lnTo>
                        <a:pt x="169" y="45"/>
                      </a:lnTo>
                      <a:lnTo>
                        <a:pt x="166" y="48"/>
                      </a:lnTo>
                      <a:lnTo>
                        <a:pt x="160" y="51"/>
                      </a:lnTo>
                      <a:lnTo>
                        <a:pt x="150" y="54"/>
                      </a:lnTo>
                      <a:lnTo>
                        <a:pt x="144" y="57"/>
                      </a:lnTo>
                      <a:lnTo>
                        <a:pt x="134" y="57"/>
                      </a:lnTo>
                      <a:lnTo>
                        <a:pt x="125" y="61"/>
                      </a:lnTo>
                      <a:lnTo>
                        <a:pt x="115" y="61"/>
                      </a:lnTo>
                      <a:lnTo>
                        <a:pt x="105" y="64"/>
                      </a:lnTo>
                      <a:lnTo>
                        <a:pt x="93" y="67"/>
                      </a:lnTo>
                      <a:lnTo>
                        <a:pt x="80" y="67"/>
                      </a:lnTo>
                      <a:lnTo>
                        <a:pt x="67" y="67"/>
                      </a:lnTo>
                      <a:lnTo>
                        <a:pt x="54" y="70"/>
                      </a:lnTo>
                      <a:lnTo>
                        <a:pt x="42" y="70"/>
                      </a:lnTo>
                      <a:lnTo>
                        <a:pt x="29" y="73"/>
                      </a:lnTo>
                      <a:lnTo>
                        <a:pt x="13" y="73"/>
                      </a:lnTo>
                      <a:lnTo>
                        <a:pt x="0" y="73"/>
                      </a:lnTo>
                      <a:lnTo>
                        <a:pt x="13" y="73"/>
                      </a:lnTo>
                      <a:lnTo>
                        <a:pt x="29" y="73"/>
                      </a:lnTo>
                      <a:lnTo>
                        <a:pt x="42" y="73"/>
                      </a:lnTo>
                      <a:lnTo>
                        <a:pt x="58" y="70"/>
                      </a:lnTo>
                      <a:lnTo>
                        <a:pt x="70" y="70"/>
                      </a:lnTo>
                      <a:lnTo>
                        <a:pt x="83" y="70"/>
                      </a:lnTo>
                      <a:lnTo>
                        <a:pt x="99" y="67"/>
                      </a:lnTo>
                      <a:lnTo>
                        <a:pt x="112" y="67"/>
                      </a:lnTo>
                      <a:lnTo>
                        <a:pt x="125" y="64"/>
                      </a:lnTo>
                      <a:lnTo>
                        <a:pt x="137" y="61"/>
                      </a:lnTo>
                      <a:lnTo>
                        <a:pt x="150" y="61"/>
                      </a:lnTo>
                      <a:lnTo>
                        <a:pt x="163" y="57"/>
                      </a:lnTo>
                      <a:lnTo>
                        <a:pt x="176" y="54"/>
                      </a:lnTo>
                      <a:lnTo>
                        <a:pt x="185" y="48"/>
                      </a:lnTo>
                      <a:lnTo>
                        <a:pt x="198" y="45"/>
                      </a:lnTo>
                      <a:lnTo>
                        <a:pt x="211" y="42"/>
                      </a:lnTo>
                      <a:lnTo>
                        <a:pt x="214" y="38"/>
                      </a:lnTo>
                      <a:lnTo>
                        <a:pt x="214" y="38"/>
                      </a:lnTo>
                      <a:lnTo>
                        <a:pt x="217" y="35"/>
                      </a:lnTo>
                      <a:lnTo>
                        <a:pt x="217" y="32"/>
                      </a:lnTo>
                      <a:lnTo>
                        <a:pt x="220" y="29"/>
                      </a:lnTo>
                      <a:lnTo>
                        <a:pt x="220" y="26"/>
                      </a:lnTo>
                      <a:lnTo>
                        <a:pt x="217" y="22"/>
                      </a:lnTo>
                      <a:lnTo>
                        <a:pt x="217" y="22"/>
                      </a:lnTo>
                      <a:lnTo>
                        <a:pt x="211" y="19"/>
                      </a:lnTo>
                      <a:lnTo>
                        <a:pt x="204" y="19"/>
                      </a:lnTo>
                      <a:lnTo>
                        <a:pt x="201" y="16"/>
                      </a:lnTo>
                      <a:lnTo>
                        <a:pt x="195" y="16"/>
                      </a:lnTo>
                      <a:lnTo>
                        <a:pt x="192" y="13"/>
                      </a:lnTo>
                      <a:lnTo>
                        <a:pt x="185" y="13"/>
                      </a:lnTo>
                      <a:lnTo>
                        <a:pt x="179" y="13"/>
                      </a:lnTo>
                      <a:lnTo>
                        <a:pt x="176" y="10"/>
                      </a:lnTo>
                      <a:lnTo>
                        <a:pt x="169" y="10"/>
                      </a:lnTo>
                      <a:lnTo>
                        <a:pt x="166" y="6"/>
                      </a:lnTo>
                      <a:lnTo>
                        <a:pt x="160" y="6"/>
                      </a:lnTo>
                      <a:lnTo>
                        <a:pt x="153" y="6"/>
                      </a:lnTo>
                      <a:lnTo>
                        <a:pt x="150" y="3"/>
                      </a:lnTo>
                      <a:lnTo>
                        <a:pt x="144" y="3"/>
                      </a:lnTo>
                      <a:lnTo>
                        <a:pt x="137" y="0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7653240" y="3124080"/>
                  <a:ext cx="187200" cy="66960"/>
                </a:xfrm>
                <a:custGeom>
                  <a:avLst/>
                  <a:gdLst/>
                  <a:ahLst/>
                  <a:rect l="l" t="t" r="r" b="b"/>
                  <a:pathLst>
                    <a:path w="220" h="74">
                      <a:moveTo>
                        <a:pt x="137" y="0"/>
                      </a:moveTo>
                      <a:lnTo>
                        <a:pt x="140" y="3"/>
                      </a:lnTo>
                      <a:lnTo>
                        <a:pt x="146" y="10"/>
                      </a:lnTo>
                      <a:lnTo>
                        <a:pt x="150" y="13"/>
                      </a:lnTo>
                      <a:lnTo>
                        <a:pt x="156" y="16"/>
                      </a:lnTo>
                      <a:lnTo>
                        <a:pt x="162" y="23"/>
                      </a:lnTo>
                      <a:lnTo>
                        <a:pt x="166" y="26"/>
                      </a:lnTo>
                      <a:lnTo>
                        <a:pt x="172" y="29"/>
                      </a:lnTo>
                      <a:lnTo>
                        <a:pt x="175" y="32"/>
                      </a:lnTo>
                      <a:lnTo>
                        <a:pt x="178" y="35"/>
                      </a:lnTo>
                      <a:lnTo>
                        <a:pt x="175" y="38"/>
                      </a:lnTo>
                      <a:lnTo>
                        <a:pt x="175" y="45"/>
                      </a:lnTo>
                      <a:lnTo>
                        <a:pt x="172" y="45"/>
                      </a:lnTo>
                      <a:lnTo>
                        <a:pt x="166" y="48"/>
                      </a:lnTo>
                      <a:lnTo>
                        <a:pt x="159" y="51"/>
                      </a:lnTo>
                      <a:lnTo>
                        <a:pt x="153" y="54"/>
                      </a:lnTo>
                      <a:lnTo>
                        <a:pt x="146" y="54"/>
                      </a:lnTo>
                      <a:lnTo>
                        <a:pt x="137" y="58"/>
                      </a:lnTo>
                      <a:lnTo>
                        <a:pt x="127" y="61"/>
                      </a:lnTo>
                      <a:lnTo>
                        <a:pt x="118" y="61"/>
                      </a:lnTo>
                      <a:lnTo>
                        <a:pt x="105" y="64"/>
                      </a:lnTo>
                      <a:lnTo>
                        <a:pt x="95" y="64"/>
                      </a:lnTo>
                      <a:lnTo>
                        <a:pt x="83" y="67"/>
                      </a:lnTo>
                      <a:lnTo>
                        <a:pt x="70" y="67"/>
                      </a:lnTo>
                      <a:lnTo>
                        <a:pt x="57" y="70"/>
                      </a:lnTo>
                      <a:lnTo>
                        <a:pt x="44" y="70"/>
                      </a:lnTo>
                      <a:lnTo>
                        <a:pt x="28" y="70"/>
                      </a:lnTo>
                      <a:lnTo>
                        <a:pt x="16" y="74"/>
                      </a:lnTo>
                      <a:lnTo>
                        <a:pt x="0" y="74"/>
                      </a:lnTo>
                      <a:lnTo>
                        <a:pt x="16" y="74"/>
                      </a:lnTo>
                      <a:lnTo>
                        <a:pt x="32" y="74"/>
                      </a:lnTo>
                      <a:lnTo>
                        <a:pt x="44" y="74"/>
                      </a:lnTo>
                      <a:lnTo>
                        <a:pt x="60" y="70"/>
                      </a:lnTo>
                      <a:lnTo>
                        <a:pt x="73" y="70"/>
                      </a:lnTo>
                      <a:lnTo>
                        <a:pt x="86" y="70"/>
                      </a:lnTo>
                      <a:lnTo>
                        <a:pt x="99" y="67"/>
                      </a:lnTo>
                      <a:lnTo>
                        <a:pt x="111" y="67"/>
                      </a:lnTo>
                      <a:lnTo>
                        <a:pt x="127" y="64"/>
                      </a:lnTo>
                      <a:lnTo>
                        <a:pt x="140" y="61"/>
                      </a:lnTo>
                      <a:lnTo>
                        <a:pt x="153" y="58"/>
                      </a:lnTo>
                      <a:lnTo>
                        <a:pt x="166" y="58"/>
                      </a:lnTo>
                      <a:lnTo>
                        <a:pt x="175" y="51"/>
                      </a:lnTo>
                      <a:lnTo>
                        <a:pt x="188" y="48"/>
                      </a:lnTo>
                      <a:lnTo>
                        <a:pt x="201" y="45"/>
                      </a:lnTo>
                      <a:lnTo>
                        <a:pt x="213" y="42"/>
                      </a:lnTo>
                      <a:lnTo>
                        <a:pt x="217" y="38"/>
                      </a:lnTo>
                      <a:lnTo>
                        <a:pt x="217" y="35"/>
                      </a:lnTo>
                      <a:lnTo>
                        <a:pt x="220" y="35"/>
                      </a:lnTo>
                      <a:lnTo>
                        <a:pt x="220" y="32"/>
                      </a:lnTo>
                      <a:lnTo>
                        <a:pt x="220" y="29"/>
                      </a:lnTo>
                      <a:lnTo>
                        <a:pt x="220" y="26"/>
                      </a:lnTo>
                      <a:lnTo>
                        <a:pt x="220" y="23"/>
                      </a:lnTo>
                      <a:lnTo>
                        <a:pt x="217" y="23"/>
                      </a:lnTo>
                      <a:lnTo>
                        <a:pt x="213" y="19"/>
                      </a:lnTo>
                      <a:lnTo>
                        <a:pt x="207" y="19"/>
                      </a:lnTo>
                      <a:lnTo>
                        <a:pt x="204" y="16"/>
                      </a:lnTo>
                      <a:lnTo>
                        <a:pt x="197" y="16"/>
                      </a:lnTo>
                      <a:lnTo>
                        <a:pt x="191" y="13"/>
                      </a:lnTo>
                      <a:lnTo>
                        <a:pt x="188" y="13"/>
                      </a:lnTo>
                      <a:lnTo>
                        <a:pt x="182" y="10"/>
                      </a:lnTo>
                      <a:lnTo>
                        <a:pt x="178" y="10"/>
                      </a:lnTo>
                      <a:lnTo>
                        <a:pt x="172" y="10"/>
                      </a:lnTo>
                      <a:lnTo>
                        <a:pt x="169" y="7"/>
                      </a:lnTo>
                      <a:lnTo>
                        <a:pt x="162" y="7"/>
                      </a:lnTo>
                      <a:lnTo>
                        <a:pt x="156" y="3"/>
                      </a:lnTo>
                      <a:lnTo>
                        <a:pt x="153" y="3"/>
                      </a:lnTo>
                      <a:lnTo>
                        <a:pt x="146" y="3"/>
                      </a:lnTo>
                      <a:lnTo>
                        <a:pt x="140" y="0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7854480" y="336600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7857000" y="336888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7859520" y="336888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7862040" y="3371760"/>
                  <a:ext cx="2160" cy="32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7864560" y="337176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4"/>
                      </a:move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7868160" y="337500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7870680" y="3375000"/>
                  <a:ext cx="2160" cy="54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7873200" y="337788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7878240" y="337788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881480" y="337788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7884360" y="337788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886880" y="337788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7889400" y="337788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7891920" y="338076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7895520" y="338076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7898040" y="338076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7903080" y="338076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7905600" y="338076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7908120" y="337788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7911720" y="337788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7914240" y="337788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7916760" y="337788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919280" y="3375000"/>
                  <a:ext cx="2520" cy="54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7921800" y="337500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7925040" y="3368880"/>
                  <a:ext cx="10080" cy="900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7935480" y="336348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0" y="0"/>
                      </a:moveTo>
                      <a:lnTo>
                        <a:pt x="10" y="0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7943760" y="3358080"/>
                  <a:ext cx="13680" cy="79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6"/>
                      </a:lnTo>
                      <a:lnTo>
                        <a:pt x="3" y="9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7954920" y="3351960"/>
                  <a:ext cx="13320" cy="900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7965360" y="3349080"/>
                  <a:ext cx="13320" cy="540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3"/>
                      </a:lnTo>
                      <a:lnTo>
                        <a:pt x="4" y="6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7976520" y="3343680"/>
                  <a:ext cx="13320" cy="79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0" y="6"/>
                      </a:lnTo>
                      <a:lnTo>
                        <a:pt x="3" y="9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7989840" y="3340080"/>
                  <a:ext cx="1116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8001000" y="3337200"/>
                  <a:ext cx="10800" cy="61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8012160" y="3331800"/>
                  <a:ext cx="10080" cy="504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8022240" y="332892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8033400" y="3325680"/>
                  <a:ext cx="13680" cy="612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8044560" y="3322800"/>
                  <a:ext cx="13320" cy="612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0" y="3"/>
                      </a:lnTo>
                      <a:lnTo>
                        <a:pt x="3" y="7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8058240" y="331740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8069400" y="3314880"/>
                  <a:ext cx="9720" cy="504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8079480" y="3312000"/>
                  <a:ext cx="13680" cy="504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8090640" y="3308400"/>
                  <a:ext cx="13320" cy="612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0" y="4"/>
                      </a:lnTo>
                      <a:lnTo>
                        <a:pt x="3" y="7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8103960" y="3305880"/>
                  <a:ext cx="2520" cy="612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106840" y="330588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8109360" y="330588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8115480" y="330588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8118000" y="330300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8120520" y="330300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8125560" y="330300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8128800" y="330300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8134200" y="330300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8136720" y="330300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8142480" y="330300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8145000" y="330012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8147520" y="330012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8152920" y="330012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8156160" y="3300120"/>
                  <a:ext cx="504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8161200" y="329760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8163720" y="329760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8163720" y="329760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8166240" y="3294000"/>
                  <a:ext cx="2160" cy="36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8168760" y="3294000"/>
                  <a:ext cx="3240" cy="36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8168760" y="32911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8172360" y="32911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8172360" y="328860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8172360" y="32857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8168760" y="328320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6"/>
                      </a:ln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8168760" y="327960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8163720" y="327672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8161200" y="327384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8158680" y="327132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8152920" y="326880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8150040" y="3264840"/>
                  <a:ext cx="5760" cy="36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7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8145000" y="326232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5" name=""/>
              <p:cNvSpPr/>
              <p:nvPr/>
            </p:nvSpPr>
            <p:spPr>
              <a:xfrm>
                <a:off x="8145000" y="3259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3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8147520" y="3259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8147520" y="325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145000" y="32544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3" y="0"/>
                    </a:moveTo>
                    <a:lnTo>
                      <a:pt x="0" y="0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8145000" y="32623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8142480" y="32623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139240" y="32623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0" y="3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8136720" y="32623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8134200" y="325980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3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8131320" y="3259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8128800" y="3259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8120520" y="3257280"/>
                <a:ext cx="8280" cy="504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3"/>
                    </a:moveTo>
                    <a:lnTo>
                      <a:pt x="0" y="3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8112600" y="325440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0"/>
                    </a:moveTo>
                    <a:lnTo>
                      <a:pt x="0" y="0"/>
                    </a:lnTo>
                    <a:lnTo>
                      <a:pt x="9" y="6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104320" y="324828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4"/>
                    </a:moveTo>
                    <a:lnTo>
                      <a:pt x="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099280" y="324540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3"/>
                    </a:moveTo>
                    <a:lnTo>
                      <a:pt x="0" y="3"/>
                    </a:lnTo>
                    <a:lnTo>
                      <a:pt x="6" y="7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8090640" y="324252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3"/>
                    </a:moveTo>
                    <a:lnTo>
                      <a:pt x="0" y="3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8082000" y="3240000"/>
                <a:ext cx="8280" cy="504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3"/>
                    </a:moveTo>
                    <a:lnTo>
                      <a:pt x="0" y="3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074440" y="3233520"/>
                <a:ext cx="10800" cy="900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4"/>
                    </a:moveTo>
                    <a:lnTo>
                      <a:pt x="0" y="4"/>
                    </a:lnTo>
                    <a:lnTo>
                      <a:pt x="9" y="10"/>
                    </a:lnTo>
                    <a:lnTo>
                      <a:pt x="13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069400" y="323100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3"/>
                    </a:moveTo>
                    <a:lnTo>
                      <a:pt x="0" y="3"/>
                    </a:lnTo>
                    <a:lnTo>
                      <a:pt x="6" y="7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8060760" y="3228120"/>
                <a:ext cx="8640" cy="504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3"/>
                    </a:moveTo>
                    <a:lnTo>
                      <a:pt x="0" y="3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8052120" y="32227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3"/>
                    </a:moveTo>
                    <a:lnTo>
                      <a:pt x="0" y="3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8044560" y="321912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4"/>
                    </a:moveTo>
                    <a:lnTo>
                      <a:pt x="0" y="4"/>
                    </a:lnTo>
                    <a:lnTo>
                      <a:pt x="9" y="7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8038800" y="321624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3"/>
                    </a:moveTo>
                    <a:lnTo>
                      <a:pt x="0" y="3"/>
                    </a:lnTo>
                    <a:lnTo>
                      <a:pt x="7" y="7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8030880" y="321120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3"/>
                    </a:moveTo>
                    <a:lnTo>
                      <a:pt x="0" y="3"/>
                    </a:lnTo>
                    <a:lnTo>
                      <a:pt x="9" y="9"/>
                    </a:lnTo>
                    <a:lnTo>
                      <a:pt x="9" y="6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8022240" y="3208320"/>
                <a:ext cx="10800" cy="504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3"/>
                    </a:moveTo>
                    <a:lnTo>
                      <a:pt x="0" y="3"/>
                    </a:lnTo>
                    <a:lnTo>
                      <a:pt x="10" y="6"/>
                    </a:lnTo>
                    <a:lnTo>
                      <a:pt x="13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8017200" y="3205440"/>
                <a:ext cx="8280" cy="54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008560" y="3199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3"/>
                    </a:moveTo>
                    <a:lnTo>
                      <a:pt x="0" y="3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8006040" y="319644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3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001000" y="31939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0" y="3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995240" y="319104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3"/>
                    </a:moveTo>
                    <a:lnTo>
                      <a:pt x="0" y="3"/>
                    </a:lnTo>
                    <a:lnTo>
                      <a:pt x="7" y="6"/>
                    </a:lnTo>
                    <a:lnTo>
                      <a:pt x="7" y="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992720" y="31874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4"/>
                    </a:moveTo>
                    <a:lnTo>
                      <a:pt x="0" y="4"/>
                    </a:lnTo>
                    <a:lnTo>
                      <a:pt x="3" y="7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987320" y="318492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3"/>
                    </a:moveTo>
                    <a:lnTo>
                      <a:pt x="0" y="3"/>
                    </a:lnTo>
                    <a:lnTo>
                      <a:pt x="6" y="7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984800" y="3182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979040" y="317664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3"/>
                    </a:moveTo>
                    <a:lnTo>
                      <a:pt x="0" y="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976520" y="31730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3" y="7"/>
                    </a:lnTo>
                    <a:lnTo>
                      <a:pt x="7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976520" y="31701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976520" y="31701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976520" y="31676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979040" y="31676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979040" y="31676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982280" y="3165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984800" y="3165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987320" y="3165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989840" y="316512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995240" y="31651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995240" y="316512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7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998480" y="3167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001000" y="3167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435800" y="3407040"/>
                <a:ext cx="301680" cy="46080"/>
              </a:xfrm>
              <a:custGeom>
                <a:avLst/>
                <a:gdLst/>
                <a:ahLst/>
                <a:rect l="l" t="t" r="r" b="b"/>
                <a:pathLst>
                  <a:path w="354" h="51">
                    <a:moveTo>
                      <a:pt x="172" y="16"/>
                    </a:moveTo>
                    <a:lnTo>
                      <a:pt x="156" y="13"/>
                    </a:lnTo>
                    <a:lnTo>
                      <a:pt x="140" y="13"/>
                    </a:lnTo>
                    <a:lnTo>
                      <a:pt x="124" y="9"/>
                    </a:lnTo>
                    <a:lnTo>
                      <a:pt x="108" y="6"/>
                    </a:lnTo>
                    <a:lnTo>
                      <a:pt x="92" y="6"/>
                    </a:lnTo>
                    <a:lnTo>
                      <a:pt x="79" y="3"/>
                    </a:lnTo>
                    <a:lnTo>
                      <a:pt x="67" y="3"/>
                    </a:lnTo>
                    <a:lnTo>
                      <a:pt x="54" y="0"/>
                    </a:lnTo>
                    <a:lnTo>
                      <a:pt x="41" y="0"/>
                    </a:lnTo>
                    <a:lnTo>
                      <a:pt x="32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13" y="16"/>
                    </a:lnTo>
                    <a:lnTo>
                      <a:pt x="19" y="19"/>
                    </a:lnTo>
                    <a:lnTo>
                      <a:pt x="28" y="22"/>
                    </a:lnTo>
                    <a:lnTo>
                      <a:pt x="38" y="22"/>
                    </a:lnTo>
                    <a:lnTo>
                      <a:pt x="51" y="25"/>
                    </a:lnTo>
                    <a:lnTo>
                      <a:pt x="60" y="28"/>
                    </a:lnTo>
                    <a:lnTo>
                      <a:pt x="76" y="28"/>
                    </a:lnTo>
                    <a:lnTo>
                      <a:pt x="89" y="32"/>
                    </a:lnTo>
                    <a:lnTo>
                      <a:pt x="105" y="32"/>
                    </a:lnTo>
                    <a:lnTo>
                      <a:pt x="121" y="35"/>
                    </a:lnTo>
                    <a:lnTo>
                      <a:pt x="137" y="35"/>
                    </a:lnTo>
                    <a:lnTo>
                      <a:pt x="153" y="38"/>
                    </a:lnTo>
                    <a:lnTo>
                      <a:pt x="169" y="38"/>
                    </a:lnTo>
                    <a:lnTo>
                      <a:pt x="188" y="41"/>
                    </a:lnTo>
                    <a:lnTo>
                      <a:pt x="204" y="44"/>
                    </a:lnTo>
                    <a:lnTo>
                      <a:pt x="223" y="44"/>
                    </a:lnTo>
                    <a:lnTo>
                      <a:pt x="239" y="48"/>
                    </a:lnTo>
                    <a:lnTo>
                      <a:pt x="255" y="48"/>
                    </a:lnTo>
                    <a:lnTo>
                      <a:pt x="268" y="51"/>
                    </a:lnTo>
                    <a:lnTo>
                      <a:pt x="283" y="51"/>
                    </a:lnTo>
                    <a:lnTo>
                      <a:pt x="296" y="51"/>
                    </a:lnTo>
                    <a:lnTo>
                      <a:pt x="309" y="51"/>
                    </a:lnTo>
                    <a:lnTo>
                      <a:pt x="319" y="51"/>
                    </a:lnTo>
                    <a:lnTo>
                      <a:pt x="328" y="51"/>
                    </a:lnTo>
                    <a:lnTo>
                      <a:pt x="338" y="51"/>
                    </a:lnTo>
                    <a:lnTo>
                      <a:pt x="344" y="51"/>
                    </a:lnTo>
                    <a:lnTo>
                      <a:pt x="347" y="51"/>
                    </a:lnTo>
                    <a:lnTo>
                      <a:pt x="350" y="48"/>
                    </a:lnTo>
                    <a:lnTo>
                      <a:pt x="354" y="44"/>
                    </a:lnTo>
                    <a:lnTo>
                      <a:pt x="350" y="44"/>
                    </a:lnTo>
                    <a:lnTo>
                      <a:pt x="347" y="41"/>
                    </a:lnTo>
                    <a:lnTo>
                      <a:pt x="344" y="38"/>
                    </a:lnTo>
                    <a:lnTo>
                      <a:pt x="338" y="38"/>
                    </a:lnTo>
                    <a:lnTo>
                      <a:pt x="328" y="35"/>
                    </a:lnTo>
                    <a:lnTo>
                      <a:pt x="319" y="35"/>
                    </a:lnTo>
                    <a:lnTo>
                      <a:pt x="309" y="32"/>
                    </a:lnTo>
                    <a:lnTo>
                      <a:pt x="296" y="28"/>
                    </a:lnTo>
                    <a:lnTo>
                      <a:pt x="283" y="28"/>
                    </a:lnTo>
                    <a:lnTo>
                      <a:pt x="271" y="25"/>
                    </a:lnTo>
                    <a:lnTo>
                      <a:pt x="255" y="25"/>
                    </a:lnTo>
                    <a:lnTo>
                      <a:pt x="239" y="22"/>
                    </a:lnTo>
                    <a:lnTo>
                      <a:pt x="223" y="22"/>
                    </a:lnTo>
                    <a:lnTo>
                      <a:pt x="207" y="19"/>
                    </a:lnTo>
                    <a:lnTo>
                      <a:pt x="191" y="19"/>
                    </a:lnTo>
                    <a:lnTo>
                      <a:pt x="172" y="16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443720" y="3409560"/>
                <a:ext cx="285480" cy="36720"/>
              </a:xfrm>
              <a:custGeom>
                <a:avLst/>
                <a:gdLst/>
                <a:ahLst/>
                <a:rect l="l" t="t" r="r" b="b"/>
                <a:pathLst>
                  <a:path w="335" h="41">
                    <a:moveTo>
                      <a:pt x="163" y="13"/>
                    </a:moveTo>
                    <a:lnTo>
                      <a:pt x="147" y="13"/>
                    </a:lnTo>
                    <a:lnTo>
                      <a:pt x="134" y="10"/>
                    </a:lnTo>
                    <a:lnTo>
                      <a:pt x="118" y="10"/>
                    </a:lnTo>
                    <a:lnTo>
                      <a:pt x="102" y="6"/>
                    </a:lnTo>
                    <a:lnTo>
                      <a:pt x="90" y="6"/>
                    </a:lnTo>
                    <a:lnTo>
                      <a:pt x="77" y="3"/>
                    </a:lnTo>
                    <a:lnTo>
                      <a:pt x="64" y="3"/>
                    </a:lnTo>
                    <a:lnTo>
                      <a:pt x="51" y="3"/>
                    </a:lnTo>
                    <a:lnTo>
                      <a:pt x="42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13" y="3"/>
                    </a:lnTo>
                    <a:lnTo>
                      <a:pt x="19" y="6"/>
                    </a:lnTo>
                    <a:lnTo>
                      <a:pt x="29" y="6"/>
                    </a:lnTo>
                    <a:lnTo>
                      <a:pt x="39" y="10"/>
                    </a:lnTo>
                    <a:lnTo>
                      <a:pt x="48" y="10"/>
                    </a:lnTo>
                    <a:lnTo>
                      <a:pt x="61" y="10"/>
                    </a:lnTo>
                    <a:lnTo>
                      <a:pt x="74" y="13"/>
                    </a:lnTo>
                    <a:lnTo>
                      <a:pt x="86" y="13"/>
                    </a:lnTo>
                    <a:lnTo>
                      <a:pt x="102" y="16"/>
                    </a:lnTo>
                    <a:lnTo>
                      <a:pt x="115" y="16"/>
                    </a:lnTo>
                    <a:lnTo>
                      <a:pt x="131" y="19"/>
                    </a:lnTo>
                    <a:lnTo>
                      <a:pt x="147" y="19"/>
                    </a:lnTo>
                    <a:lnTo>
                      <a:pt x="166" y="22"/>
                    </a:lnTo>
                    <a:lnTo>
                      <a:pt x="182" y="25"/>
                    </a:lnTo>
                    <a:lnTo>
                      <a:pt x="198" y="25"/>
                    </a:lnTo>
                    <a:lnTo>
                      <a:pt x="214" y="29"/>
                    </a:lnTo>
                    <a:lnTo>
                      <a:pt x="227" y="29"/>
                    </a:lnTo>
                    <a:lnTo>
                      <a:pt x="243" y="32"/>
                    </a:lnTo>
                    <a:lnTo>
                      <a:pt x="255" y="32"/>
                    </a:lnTo>
                    <a:lnTo>
                      <a:pt x="271" y="35"/>
                    </a:lnTo>
                    <a:lnTo>
                      <a:pt x="281" y="35"/>
                    </a:lnTo>
                    <a:lnTo>
                      <a:pt x="294" y="38"/>
                    </a:lnTo>
                    <a:lnTo>
                      <a:pt x="303" y="38"/>
                    </a:lnTo>
                    <a:lnTo>
                      <a:pt x="313" y="38"/>
                    </a:lnTo>
                    <a:lnTo>
                      <a:pt x="319" y="38"/>
                    </a:lnTo>
                    <a:lnTo>
                      <a:pt x="325" y="41"/>
                    </a:lnTo>
                    <a:lnTo>
                      <a:pt x="332" y="41"/>
                    </a:lnTo>
                    <a:lnTo>
                      <a:pt x="335" y="38"/>
                    </a:lnTo>
                    <a:lnTo>
                      <a:pt x="335" y="38"/>
                    </a:lnTo>
                    <a:lnTo>
                      <a:pt x="335" y="38"/>
                    </a:lnTo>
                    <a:lnTo>
                      <a:pt x="332" y="38"/>
                    </a:lnTo>
                    <a:lnTo>
                      <a:pt x="325" y="35"/>
                    </a:lnTo>
                    <a:lnTo>
                      <a:pt x="319" y="35"/>
                    </a:lnTo>
                    <a:lnTo>
                      <a:pt x="313" y="32"/>
                    </a:lnTo>
                    <a:lnTo>
                      <a:pt x="303" y="32"/>
                    </a:lnTo>
                    <a:lnTo>
                      <a:pt x="294" y="32"/>
                    </a:lnTo>
                    <a:lnTo>
                      <a:pt x="281" y="29"/>
                    </a:lnTo>
                    <a:lnTo>
                      <a:pt x="268" y="25"/>
                    </a:lnTo>
                    <a:lnTo>
                      <a:pt x="255" y="25"/>
                    </a:lnTo>
                    <a:lnTo>
                      <a:pt x="239" y="22"/>
                    </a:lnTo>
                    <a:lnTo>
                      <a:pt x="227" y="22"/>
                    </a:lnTo>
                    <a:lnTo>
                      <a:pt x="211" y="19"/>
                    </a:lnTo>
                    <a:lnTo>
                      <a:pt x="195" y="19"/>
                    </a:lnTo>
                    <a:lnTo>
                      <a:pt x="179" y="16"/>
                    </a:lnTo>
                    <a:lnTo>
                      <a:pt x="163" y="13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408720" y="3208320"/>
                <a:ext cx="46080" cy="2880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6" y="16"/>
                    </a:lnTo>
                    <a:lnTo>
                      <a:pt x="9" y="19"/>
                    </a:lnTo>
                    <a:lnTo>
                      <a:pt x="13" y="22"/>
                    </a:lnTo>
                    <a:lnTo>
                      <a:pt x="16" y="22"/>
                    </a:lnTo>
                    <a:lnTo>
                      <a:pt x="19" y="25"/>
                    </a:lnTo>
                    <a:lnTo>
                      <a:pt x="25" y="28"/>
                    </a:lnTo>
                    <a:lnTo>
                      <a:pt x="28" y="28"/>
                    </a:lnTo>
                    <a:lnTo>
                      <a:pt x="35" y="32"/>
                    </a:lnTo>
                    <a:lnTo>
                      <a:pt x="38" y="32"/>
                    </a:lnTo>
                    <a:lnTo>
                      <a:pt x="44" y="32"/>
                    </a:lnTo>
                    <a:lnTo>
                      <a:pt x="48" y="32"/>
                    </a:lnTo>
                    <a:lnTo>
                      <a:pt x="54" y="32"/>
                    </a:lnTo>
                    <a:lnTo>
                      <a:pt x="54" y="28"/>
                    </a:lnTo>
                    <a:lnTo>
                      <a:pt x="51" y="25"/>
                    </a:lnTo>
                    <a:lnTo>
                      <a:pt x="51" y="22"/>
                    </a:lnTo>
                    <a:lnTo>
                      <a:pt x="48" y="19"/>
                    </a:lnTo>
                    <a:lnTo>
                      <a:pt x="44" y="16"/>
                    </a:lnTo>
                    <a:lnTo>
                      <a:pt x="38" y="12"/>
                    </a:lnTo>
                    <a:lnTo>
                      <a:pt x="35" y="12"/>
                    </a:lnTo>
                    <a:lnTo>
                      <a:pt x="25" y="12"/>
                    </a:lnTo>
                    <a:lnTo>
                      <a:pt x="19" y="9"/>
                    </a:lnTo>
                    <a:lnTo>
                      <a:pt x="13" y="9"/>
                    </a:lnTo>
                    <a:lnTo>
                      <a:pt x="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889960" y="3038400"/>
                <a:ext cx="1154880" cy="143640"/>
              </a:xfrm>
              <a:custGeom>
                <a:avLst/>
                <a:gdLst/>
                <a:ahLst/>
                <a:rect l="l" t="t" r="r" b="b"/>
                <a:pathLst>
                  <a:path w="1355" h="159">
                    <a:moveTo>
                      <a:pt x="335" y="0"/>
                    </a:moveTo>
                    <a:lnTo>
                      <a:pt x="328" y="0"/>
                    </a:lnTo>
                    <a:lnTo>
                      <a:pt x="322" y="3"/>
                    </a:lnTo>
                    <a:lnTo>
                      <a:pt x="315" y="3"/>
                    </a:lnTo>
                    <a:lnTo>
                      <a:pt x="309" y="6"/>
                    </a:lnTo>
                    <a:lnTo>
                      <a:pt x="303" y="6"/>
                    </a:lnTo>
                    <a:lnTo>
                      <a:pt x="296" y="6"/>
                    </a:lnTo>
                    <a:lnTo>
                      <a:pt x="290" y="9"/>
                    </a:lnTo>
                    <a:lnTo>
                      <a:pt x="284" y="9"/>
                    </a:lnTo>
                    <a:lnTo>
                      <a:pt x="274" y="12"/>
                    </a:lnTo>
                    <a:lnTo>
                      <a:pt x="268" y="12"/>
                    </a:lnTo>
                    <a:lnTo>
                      <a:pt x="261" y="12"/>
                    </a:lnTo>
                    <a:lnTo>
                      <a:pt x="255" y="15"/>
                    </a:lnTo>
                    <a:lnTo>
                      <a:pt x="249" y="15"/>
                    </a:lnTo>
                    <a:lnTo>
                      <a:pt x="242" y="19"/>
                    </a:lnTo>
                    <a:lnTo>
                      <a:pt x="236" y="19"/>
                    </a:lnTo>
                    <a:lnTo>
                      <a:pt x="226" y="22"/>
                    </a:lnTo>
                    <a:lnTo>
                      <a:pt x="223" y="22"/>
                    </a:lnTo>
                    <a:lnTo>
                      <a:pt x="217" y="22"/>
                    </a:lnTo>
                    <a:lnTo>
                      <a:pt x="213" y="22"/>
                    </a:lnTo>
                    <a:lnTo>
                      <a:pt x="207" y="22"/>
                    </a:lnTo>
                    <a:lnTo>
                      <a:pt x="204" y="22"/>
                    </a:lnTo>
                    <a:lnTo>
                      <a:pt x="198" y="25"/>
                    </a:lnTo>
                    <a:lnTo>
                      <a:pt x="194" y="25"/>
                    </a:lnTo>
                    <a:lnTo>
                      <a:pt x="188" y="25"/>
                    </a:lnTo>
                    <a:lnTo>
                      <a:pt x="185" y="25"/>
                    </a:lnTo>
                    <a:lnTo>
                      <a:pt x="178" y="25"/>
                    </a:lnTo>
                    <a:lnTo>
                      <a:pt x="175" y="25"/>
                    </a:lnTo>
                    <a:lnTo>
                      <a:pt x="169" y="28"/>
                    </a:lnTo>
                    <a:lnTo>
                      <a:pt x="166" y="28"/>
                    </a:lnTo>
                    <a:lnTo>
                      <a:pt x="159" y="28"/>
                    </a:lnTo>
                    <a:lnTo>
                      <a:pt x="156" y="28"/>
                    </a:lnTo>
                    <a:lnTo>
                      <a:pt x="150" y="28"/>
                    </a:lnTo>
                    <a:lnTo>
                      <a:pt x="140" y="28"/>
                    </a:lnTo>
                    <a:lnTo>
                      <a:pt x="131" y="31"/>
                    </a:lnTo>
                    <a:lnTo>
                      <a:pt x="121" y="31"/>
                    </a:lnTo>
                    <a:lnTo>
                      <a:pt x="111" y="35"/>
                    </a:lnTo>
                    <a:lnTo>
                      <a:pt x="102" y="35"/>
                    </a:lnTo>
                    <a:lnTo>
                      <a:pt x="92" y="35"/>
                    </a:lnTo>
                    <a:lnTo>
                      <a:pt x="83" y="38"/>
                    </a:lnTo>
                    <a:lnTo>
                      <a:pt x="73" y="38"/>
                    </a:lnTo>
                    <a:lnTo>
                      <a:pt x="64" y="41"/>
                    </a:lnTo>
                    <a:lnTo>
                      <a:pt x="54" y="41"/>
                    </a:lnTo>
                    <a:lnTo>
                      <a:pt x="45" y="41"/>
                    </a:lnTo>
                    <a:lnTo>
                      <a:pt x="35" y="44"/>
                    </a:lnTo>
                    <a:lnTo>
                      <a:pt x="29" y="44"/>
                    </a:lnTo>
                    <a:lnTo>
                      <a:pt x="19" y="47"/>
                    </a:lnTo>
                    <a:lnTo>
                      <a:pt x="9" y="47"/>
                    </a:lnTo>
                    <a:lnTo>
                      <a:pt x="0" y="47"/>
                    </a:lnTo>
                    <a:lnTo>
                      <a:pt x="6" y="47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32" y="47"/>
                    </a:lnTo>
                    <a:lnTo>
                      <a:pt x="41" y="47"/>
                    </a:lnTo>
                    <a:lnTo>
                      <a:pt x="48" y="47"/>
                    </a:lnTo>
                    <a:lnTo>
                      <a:pt x="57" y="47"/>
                    </a:lnTo>
                    <a:lnTo>
                      <a:pt x="67" y="47"/>
                    </a:lnTo>
                    <a:lnTo>
                      <a:pt x="73" y="47"/>
                    </a:lnTo>
                    <a:lnTo>
                      <a:pt x="83" y="47"/>
                    </a:lnTo>
                    <a:lnTo>
                      <a:pt x="89" y="44"/>
                    </a:lnTo>
                    <a:lnTo>
                      <a:pt x="99" y="44"/>
                    </a:lnTo>
                    <a:lnTo>
                      <a:pt x="108" y="44"/>
                    </a:lnTo>
                    <a:lnTo>
                      <a:pt x="115" y="44"/>
                    </a:lnTo>
                    <a:lnTo>
                      <a:pt x="124" y="44"/>
                    </a:lnTo>
                    <a:lnTo>
                      <a:pt x="134" y="44"/>
                    </a:lnTo>
                    <a:lnTo>
                      <a:pt x="140" y="44"/>
                    </a:lnTo>
                    <a:lnTo>
                      <a:pt x="147" y="44"/>
                    </a:lnTo>
                    <a:lnTo>
                      <a:pt x="153" y="44"/>
                    </a:lnTo>
                    <a:lnTo>
                      <a:pt x="159" y="44"/>
                    </a:lnTo>
                    <a:lnTo>
                      <a:pt x="166" y="44"/>
                    </a:lnTo>
                    <a:lnTo>
                      <a:pt x="175" y="44"/>
                    </a:lnTo>
                    <a:lnTo>
                      <a:pt x="182" y="44"/>
                    </a:lnTo>
                    <a:lnTo>
                      <a:pt x="188" y="44"/>
                    </a:lnTo>
                    <a:lnTo>
                      <a:pt x="194" y="44"/>
                    </a:lnTo>
                    <a:lnTo>
                      <a:pt x="201" y="44"/>
                    </a:lnTo>
                    <a:lnTo>
                      <a:pt x="207" y="44"/>
                    </a:lnTo>
                    <a:lnTo>
                      <a:pt x="217" y="44"/>
                    </a:lnTo>
                    <a:lnTo>
                      <a:pt x="223" y="47"/>
                    </a:lnTo>
                    <a:lnTo>
                      <a:pt x="229" y="47"/>
                    </a:lnTo>
                    <a:lnTo>
                      <a:pt x="236" y="47"/>
                    </a:lnTo>
                    <a:lnTo>
                      <a:pt x="242" y="47"/>
                    </a:lnTo>
                    <a:lnTo>
                      <a:pt x="249" y="47"/>
                    </a:lnTo>
                    <a:lnTo>
                      <a:pt x="255" y="47"/>
                    </a:lnTo>
                    <a:lnTo>
                      <a:pt x="264" y="47"/>
                    </a:lnTo>
                    <a:lnTo>
                      <a:pt x="271" y="47"/>
                    </a:lnTo>
                    <a:lnTo>
                      <a:pt x="277" y="47"/>
                    </a:lnTo>
                    <a:lnTo>
                      <a:pt x="284" y="47"/>
                    </a:lnTo>
                    <a:lnTo>
                      <a:pt x="290" y="47"/>
                    </a:lnTo>
                    <a:lnTo>
                      <a:pt x="300" y="47"/>
                    </a:lnTo>
                    <a:lnTo>
                      <a:pt x="306" y="47"/>
                    </a:lnTo>
                    <a:lnTo>
                      <a:pt x="312" y="47"/>
                    </a:lnTo>
                    <a:lnTo>
                      <a:pt x="319" y="47"/>
                    </a:lnTo>
                    <a:lnTo>
                      <a:pt x="325" y="47"/>
                    </a:lnTo>
                    <a:lnTo>
                      <a:pt x="331" y="51"/>
                    </a:lnTo>
                    <a:lnTo>
                      <a:pt x="338" y="51"/>
                    </a:lnTo>
                    <a:lnTo>
                      <a:pt x="347" y="51"/>
                    </a:lnTo>
                    <a:lnTo>
                      <a:pt x="354" y="51"/>
                    </a:lnTo>
                    <a:lnTo>
                      <a:pt x="366" y="51"/>
                    </a:lnTo>
                    <a:lnTo>
                      <a:pt x="379" y="54"/>
                    </a:lnTo>
                    <a:lnTo>
                      <a:pt x="392" y="54"/>
                    </a:lnTo>
                    <a:lnTo>
                      <a:pt x="405" y="57"/>
                    </a:lnTo>
                    <a:lnTo>
                      <a:pt x="417" y="57"/>
                    </a:lnTo>
                    <a:lnTo>
                      <a:pt x="430" y="60"/>
                    </a:lnTo>
                    <a:lnTo>
                      <a:pt x="443" y="60"/>
                    </a:lnTo>
                    <a:lnTo>
                      <a:pt x="456" y="63"/>
                    </a:lnTo>
                    <a:lnTo>
                      <a:pt x="472" y="63"/>
                    </a:lnTo>
                    <a:lnTo>
                      <a:pt x="484" y="67"/>
                    </a:lnTo>
                    <a:lnTo>
                      <a:pt x="497" y="70"/>
                    </a:lnTo>
                    <a:lnTo>
                      <a:pt x="510" y="70"/>
                    </a:lnTo>
                    <a:lnTo>
                      <a:pt x="523" y="73"/>
                    </a:lnTo>
                    <a:lnTo>
                      <a:pt x="535" y="76"/>
                    </a:lnTo>
                    <a:lnTo>
                      <a:pt x="548" y="76"/>
                    </a:lnTo>
                    <a:lnTo>
                      <a:pt x="561" y="79"/>
                    </a:lnTo>
                    <a:lnTo>
                      <a:pt x="570" y="82"/>
                    </a:lnTo>
                    <a:lnTo>
                      <a:pt x="577" y="82"/>
                    </a:lnTo>
                    <a:lnTo>
                      <a:pt x="586" y="82"/>
                    </a:lnTo>
                    <a:lnTo>
                      <a:pt x="596" y="86"/>
                    </a:lnTo>
                    <a:lnTo>
                      <a:pt x="602" y="86"/>
                    </a:lnTo>
                    <a:lnTo>
                      <a:pt x="612" y="89"/>
                    </a:lnTo>
                    <a:lnTo>
                      <a:pt x="622" y="89"/>
                    </a:lnTo>
                    <a:lnTo>
                      <a:pt x="628" y="92"/>
                    </a:lnTo>
                    <a:lnTo>
                      <a:pt x="637" y="92"/>
                    </a:lnTo>
                    <a:lnTo>
                      <a:pt x="647" y="95"/>
                    </a:lnTo>
                    <a:lnTo>
                      <a:pt x="653" y="98"/>
                    </a:lnTo>
                    <a:lnTo>
                      <a:pt x="663" y="98"/>
                    </a:lnTo>
                    <a:lnTo>
                      <a:pt x="673" y="102"/>
                    </a:lnTo>
                    <a:lnTo>
                      <a:pt x="679" y="102"/>
                    </a:lnTo>
                    <a:lnTo>
                      <a:pt x="688" y="105"/>
                    </a:lnTo>
                    <a:lnTo>
                      <a:pt x="698" y="105"/>
                    </a:lnTo>
                    <a:lnTo>
                      <a:pt x="704" y="108"/>
                    </a:lnTo>
                    <a:lnTo>
                      <a:pt x="714" y="108"/>
                    </a:lnTo>
                    <a:lnTo>
                      <a:pt x="724" y="111"/>
                    </a:lnTo>
                    <a:lnTo>
                      <a:pt x="730" y="114"/>
                    </a:lnTo>
                    <a:lnTo>
                      <a:pt x="739" y="114"/>
                    </a:lnTo>
                    <a:lnTo>
                      <a:pt x="749" y="118"/>
                    </a:lnTo>
                    <a:lnTo>
                      <a:pt x="755" y="118"/>
                    </a:lnTo>
                    <a:lnTo>
                      <a:pt x="765" y="121"/>
                    </a:lnTo>
                    <a:lnTo>
                      <a:pt x="775" y="121"/>
                    </a:lnTo>
                    <a:lnTo>
                      <a:pt x="781" y="124"/>
                    </a:lnTo>
                    <a:lnTo>
                      <a:pt x="790" y="124"/>
                    </a:lnTo>
                    <a:lnTo>
                      <a:pt x="800" y="127"/>
                    </a:lnTo>
                    <a:lnTo>
                      <a:pt x="806" y="127"/>
                    </a:lnTo>
                    <a:lnTo>
                      <a:pt x="816" y="130"/>
                    </a:lnTo>
                    <a:lnTo>
                      <a:pt x="826" y="130"/>
                    </a:lnTo>
                    <a:lnTo>
                      <a:pt x="832" y="130"/>
                    </a:lnTo>
                    <a:lnTo>
                      <a:pt x="841" y="133"/>
                    </a:lnTo>
                    <a:lnTo>
                      <a:pt x="848" y="133"/>
                    </a:lnTo>
                    <a:lnTo>
                      <a:pt x="854" y="137"/>
                    </a:lnTo>
                    <a:lnTo>
                      <a:pt x="864" y="137"/>
                    </a:lnTo>
                    <a:lnTo>
                      <a:pt x="870" y="137"/>
                    </a:lnTo>
                    <a:lnTo>
                      <a:pt x="880" y="140"/>
                    </a:lnTo>
                    <a:lnTo>
                      <a:pt x="886" y="140"/>
                    </a:lnTo>
                    <a:lnTo>
                      <a:pt x="896" y="140"/>
                    </a:lnTo>
                    <a:lnTo>
                      <a:pt x="902" y="143"/>
                    </a:lnTo>
                    <a:lnTo>
                      <a:pt x="908" y="143"/>
                    </a:lnTo>
                    <a:lnTo>
                      <a:pt x="918" y="143"/>
                    </a:lnTo>
                    <a:lnTo>
                      <a:pt x="924" y="143"/>
                    </a:lnTo>
                    <a:lnTo>
                      <a:pt x="934" y="146"/>
                    </a:lnTo>
                    <a:lnTo>
                      <a:pt x="940" y="146"/>
                    </a:lnTo>
                    <a:lnTo>
                      <a:pt x="950" y="146"/>
                    </a:lnTo>
                    <a:lnTo>
                      <a:pt x="956" y="146"/>
                    </a:lnTo>
                    <a:lnTo>
                      <a:pt x="966" y="149"/>
                    </a:lnTo>
                    <a:lnTo>
                      <a:pt x="975" y="149"/>
                    </a:lnTo>
                    <a:lnTo>
                      <a:pt x="985" y="149"/>
                    </a:lnTo>
                    <a:lnTo>
                      <a:pt x="994" y="153"/>
                    </a:lnTo>
                    <a:lnTo>
                      <a:pt x="1004" y="153"/>
                    </a:lnTo>
                    <a:lnTo>
                      <a:pt x="1014" y="153"/>
                    </a:lnTo>
                    <a:lnTo>
                      <a:pt x="1023" y="156"/>
                    </a:lnTo>
                    <a:lnTo>
                      <a:pt x="1033" y="156"/>
                    </a:lnTo>
                    <a:lnTo>
                      <a:pt x="1042" y="156"/>
                    </a:lnTo>
                    <a:lnTo>
                      <a:pt x="1052" y="156"/>
                    </a:lnTo>
                    <a:lnTo>
                      <a:pt x="1061" y="159"/>
                    </a:lnTo>
                    <a:lnTo>
                      <a:pt x="1071" y="159"/>
                    </a:lnTo>
                    <a:lnTo>
                      <a:pt x="1081" y="159"/>
                    </a:lnTo>
                    <a:lnTo>
                      <a:pt x="1090" y="159"/>
                    </a:lnTo>
                    <a:lnTo>
                      <a:pt x="1100" y="159"/>
                    </a:lnTo>
                    <a:lnTo>
                      <a:pt x="1109" y="159"/>
                    </a:lnTo>
                    <a:lnTo>
                      <a:pt x="1339" y="159"/>
                    </a:lnTo>
                    <a:lnTo>
                      <a:pt x="1345" y="159"/>
                    </a:lnTo>
                    <a:lnTo>
                      <a:pt x="1352" y="159"/>
                    </a:lnTo>
                    <a:lnTo>
                      <a:pt x="1355" y="159"/>
                    </a:lnTo>
                    <a:lnTo>
                      <a:pt x="1355" y="159"/>
                    </a:lnTo>
                    <a:lnTo>
                      <a:pt x="1355" y="159"/>
                    </a:lnTo>
                    <a:lnTo>
                      <a:pt x="1355" y="159"/>
                    </a:lnTo>
                    <a:lnTo>
                      <a:pt x="1352" y="159"/>
                    </a:lnTo>
                    <a:lnTo>
                      <a:pt x="1345" y="159"/>
                    </a:lnTo>
                    <a:lnTo>
                      <a:pt x="1342" y="159"/>
                    </a:lnTo>
                    <a:lnTo>
                      <a:pt x="1336" y="159"/>
                    </a:lnTo>
                    <a:lnTo>
                      <a:pt x="1329" y="159"/>
                    </a:lnTo>
                    <a:lnTo>
                      <a:pt x="1320" y="159"/>
                    </a:lnTo>
                    <a:lnTo>
                      <a:pt x="1313" y="159"/>
                    </a:lnTo>
                    <a:lnTo>
                      <a:pt x="1304" y="159"/>
                    </a:lnTo>
                    <a:lnTo>
                      <a:pt x="1294" y="159"/>
                    </a:lnTo>
                    <a:lnTo>
                      <a:pt x="1281" y="159"/>
                    </a:lnTo>
                    <a:lnTo>
                      <a:pt x="1272" y="159"/>
                    </a:lnTo>
                    <a:lnTo>
                      <a:pt x="1259" y="159"/>
                    </a:lnTo>
                    <a:lnTo>
                      <a:pt x="1250" y="159"/>
                    </a:lnTo>
                    <a:lnTo>
                      <a:pt x="1237" y="159"/>
                    </a:lnTo>
                    <a:lnTo>
                      <a:pt x="1224" y="159"/>
                    </a:lnTo>
                    <a:lnTo>
                      <a:pt x="1211" y="159"/>
                    </a:lnTo>
                    <a:lnTo>
                      <a:pt x="1202" y="159"/>
                    </a:lnTo>
                    <a:lnTo>
                      <a:pt x="1189" y="156"/>
                    </a:lnTo>
                    <a:lnTo>
                      <a:pt x="1176" y="156"/>
                    </a:lnTo>
                    <a:lnTo>
                      <a:pt x="1167" y="156"/>
                    </a:lnTo>
                    <a:lnTo>
                      <a:pt x="1157" y="156"/>
                    </a:lnTo>
                    <a:lnTo>
                      <a:pt x="1144" y="156"/>
                    </a:lnTo>
                    <a:lnTo>
                      <a:pt x="1135" y="156"/>
                    </a:lnTo>
                    <a:lnTo>
                      <a:pt x="1128" y="156"/>
                    </a:lnTo>
                    <a:lnTo>
                      <a:pt x="1119" y="156"/>
                    </a:lnTo>
                    <a:lnTo>
                      <a:pt x="1109" y="156"/>
                    </a:lnTo>
                    <a:lnTo>
                      <a:pt x="1100" y="156"/>
                    </a:lnTo>
                    <a:lnTo>
                      <a:pt x="1090" y="156"/>
                    </a:lnTo>
                    <a:lnTo>
                      <a:pt x="1077" y="156"/>
                    </a:lnTo>
                    <a:lnTo>
                      <a:pt x="1068" y="153"/>
                    </a:lnTo>
                    <a:lnTo>
                      <a:pt x="1058" y="153"/>
                    </a:lnTo>
                    <a:lnTo>
                      <a:pt x="1045" y="153"/>
                    </a:lnTo>
                    <a:lnTo>
                      <a:pt x="1036" y="153"/>
                    </a:lnTo>
                    <a:lnTo>
                      <a:pt x="1023" y="149"/>
                    </a:lnTo>
                    <a:lnTo>
                      <a:pt x="1014" y="149"/>
                    </a:lnTo>
                    <a:lnTo>
                      <a:pt x="1004" y="149"/>
                    </a:lnTo>
                    <a:lnTo>
                      <a:pt x="991" y="146"/>
                    </a:lnTo>
                    <a:lnTo>
                      <a:pt x="982" y="146"/>
                    </a:lnTo>
                    <a:lnTo>
                      <a:pt x="969" y="146"/>
                    </a:lnTo>
                    <a:lnTo>
                      <a:pt x="959" y="143"/>
                    </a:lnTo>
                    <a:lnTo>
                      <a:pt x="950" y="143"/>
                    </a:lnTo>
                    <a:lnTo>
                      <a:pt x="937" y="143"/>
                    </a:lnTo>
                    <a:lnTo>
                      <a:pt x="928" y="140"/>
                    </a:lnTo>
                    <a:lnTo>
                      <a:pt x="918" y="140"/>
                    </a:lnTo>
                    <a:lnTo>
                      <a:pt x="908" y="137"/>
                    </a:lnTo>
                    <a:lnTo>
                      <a:pt x="899" y="137"/>
                    </a:lnTo>
                    <a:lnTo>
                      <a:pt x="889" y="137"/>
                    </a:lnTo>
                    <a:lnTo>
                      <a:pt x="880" y="133"/>
                    </a:lnTo>
                    <a:lnTo>
                      <a:pt x="870" y="133"/>
                    </a:lnTo>
                    <a:lnTo>
                      <a:pt x="861" y="130"/>
                    </a:lnTo>
                    <a:lnTo>
                      <a:pt x="851" y="127"/>
                    </a:lnTo>
                    <a:lnTo>
                      <a:pt x="841" y="127"/>
                    </a:lnTo>
                    <a:lnTo>
                      <a:pt x="832" y="127"/>
                    </a:lnTo>
                    <a:lnTo>
                      <a:pt x="822" y="124"/>
                    </a:lnTo>
                    <a:lnTo>
                      <a:pt x="813" y="121"/>
                    </a:lnTo>
                    <a:lnTo>
                      <a:pt x="803" y="121"/>
                    </a:lnTo>
                    <a:lnTo>
                      <a:pt x="794" y="121"/>
                    </a:lnTo>
                    <a:lnTo>
                      <a:pt x="784" y="118"/>
                    </a:lnTo>
                    <a:lnTo>
                      <a:pt x="775" y="114"/>
                    </a:lnTo>
                    <a:lnTo>
                      <a:pt x="765" y="114"/>
                    </a:lnTo>
                    <a:lnTo>
                      <a:pt x="755" y="111"/>
                    </a:lnTo>
                    <a:lnTo>
                      <a:pt x="746" y="111"/>
                    </a:lnTo>
                    <a:lnTo>
                      <a:pt x="736" y="108"/>
                    </a:lnTo>
                    <a:lnTo>
                      <a:pt x="727" y="105"/>
                    </a:lnTo>
                    <a:lnTo>
                      <a:pt x="714" y="105"/>
                    </a:lnTo>
                    <a:lnTo>
                      <a:pt x="704" y="102"/>
                    </a:lnTo>
                    <a:lnTo>
                      <a:pt x="695" y="98"/>
                    </a:lnTo>
                    <a:lnTo>
                      <a:pt x="685" y="98"/>
                    </a:lnTo>
                    <a:lnTo>
                      <a:pt x="676" y="95"/>
                    </a:lnTo>
                    <a:lnTo>
                      <a:pt x="666" y="92"/>
                    </a:lnTo>
                    <a:lnTo>
                      <a:pt x="657" y="92"/>
                    </a:lnTo>
                    <a:lnTo>
                      <a:pt x="647" y="89"/>
                    </a:lnTo>
                    <a:lnTo>
                      <a:pt x="637" y="86"/>
                    </a:lnTo>
                    <a:lnTo>
                      <a:pt x="628" y="86"/>
                    </a:lnTo>
                    <a:lnTo>
                      <a:pt x="618" y="82"/>
                    </a:lnTo>
                    <a:lnTo>
                      <a:pt x="612" y="82"/>
                    </a:lnTo>
                    <a:lnTo>
                      <a:pt x="602" y="79"/>
                    </a:lnTo>
                    <a:lnTo>
                      <a:pt x="596" y="79"/>
                    </a:lnTo>
                    <a:lnTo>
                      <a:pt x="586" y="76"/>
                    </a:lnTo>
                    <a:lnTo>
                      <a:pt x="580" y="76"/>
                    </a:lnTo>
                    <a:lnTo>
                      <a:pt x="570" y="73"/>
                    </a:lnTo>
                    <a:lnTo>
                      <a:pt x="564" y="73"/>
                    </a:lnTo>
                    <a:lnTo>
                      <a:pt x="555" y="70"/>
                    </a:lnTo>
                    <a:lnTo>
                      <a:pt x="548" y="67"/>
                    </a:lnTo>
                    <a:lnTo>
                      <a:pt x="539" y="67"/>
                    </a:lnTo>
                    <a:lnTo>
                      <a:pt x="532" y="67"/>
                    </a:lnTo>
                    <a:lnTo>
                      <a:pt x="523" y="63"/>
                    </a:lnTo>
                    <a:lnTo>
                      <a:pt x="516" y="63"/>
                    </a:lnTo>
                    <a:lnTo>
                      <a:pt x="507" y="60"/>
                    </a:lnTo>
                    <a:lnTo>
                      <a:pt x="500" y="60"/>
                    </a:lnTo>
                    <a:lnTo>
                      <a:pt x="494" y="57"/>
                    </a:lnTo>
                    <a:lnTo>
                      <a:pt x="488" y="57"/>
                    </a:lnTo>
                    <a:lnTo>
                      <a:pt x="478" y="57"/>
                    </a:lnTo>
                    <a:lnTo>
                      <a:pt x="472" y="54"/>
                    </a:lnTo>
                    <a:lnTo>
                      <a:pt x="465" y="54"/>
                    </a:lnTo>
                    <a:lnTo>
                      <a:pt x="459" y="54"/>
                    </a:lnTo>
                    <a:lnTo>
                      <a:pt x="453" y="51"/>
                    </a:lnTo>
                    <a:lnTo>
                      <a:pt x="446" y="51"/>
                    </a:lnTo>
                    <a:lnTo>
                      <a:pt x="437" y="51"/>
                    </a:lnTo>
                    <a:lnTo>
                      <a:pt x="430" y="47"/>
                    </a:lnTo>
                    <a:lnTo>
                      <a:pt x="424" y="47"/>
                    </a:lnTo>
                    <a:lnTo>
                      <a:pt x="417" y="47"/>
                    </a:lnTo>
                    <a:lnTo>
                      <a:pt x="411" y="44"/>
                    </a:lnTo>
                    <a:lnTo>
                      <a:pt x="405" y="44"/>
                    </a:lnTo>
                    <a:lnTo>
                      <a:pt x="398" y="44"/>
                    </a:lnTo>
                    <a:lnTo>
                      <a:pt x="389" y="44"/>
                    </a:lnTo>
                    <a:lnTo>
                      <a:pt x="386" y="44"/>
                    </a:lnTo>
                    <a:lnTo>
                      <a:pt x="382" y="41"/>
                    </a:lnTo>
                    <a:lnTo>
                      <a:pt x="379" y="41"/>
                    </a:lnTo>
                    <a:lnTo>
                      <a:pt x="373" y="41"/>
                    </a:lnTo>
                    <a:lnTo>
                      <a:pt x="370" y="41"/>
                    </a:lnTo>
                    <a:lnTo>
                      <a:pt x="366" y="41"/>
                    </a:lnTo>
                    <a:lnTo>
                      <a:pt x="360" y="41"/>
                    </a:lnTo>
                    <a:lnTo>
                      <a:pt x="357" y="41"/>
                    </a:lnTo>
                    <a:lnTo>
                      <a:pt x="354" y="41"/>
                    </a:lnTo>
                    <a:lnTo>
                      <a:pt x="351" y="41"/>
                    </a:lnTo>
                    <a:lnTo>
                      <a:pt x="344" y="41"/>
                    </a:lnTo>
                    <a:lnTo>
                      <a:pt x="341" y="38"/>
                    </a:lnTo>
                    <a:lnTo>
                      <a:pt x="338" y="38"/>
                    </a:lnTo>
                    <a:lnTo>
                      <a:pt x="331" y="38"/>
                    </a:lnTo>
                    <a:lnTo>
                      <a:pt x="328" y="38"/>
                    </a:lnTo>
                    <a:lnTo>
                      <a:pt x="325" y="38"/>
                    </a:lnTo>
                    <a:lnTo>
                      <a:pt x="319" y="38"/>
                    </a:lnTo>
                    <a:lnTo>
                      <a:pt x="312" y="38"/>
                    </a:lnTo>
                    <a:lnTo>
                      <a:pt x="306" y="38"/>
                    </a:lnTo>
                    <a:lnTo>
                      <a:pt x="303" y="38"/>
                    </a:lnTo>
                    <a:lnTo>
                      <a:pt x="296" y="38"/>
                    </a:lnTo>
                    <a:lnTo>
                      <a:pt x="290" y="35"/>
                    </a:lnTo>
                    <a:lnTo>
                      <a:pt x="284" y="35"/>
                    </a:lnTo>
                    <a:lnTo>
                      <a:pt x="277" y="35"/>
                    </a:lnTo>
                    <a:lnTo>
                      <a:pt x="271" y="35"/>
                    </a:lnTo>
                    <a:lnTo>
                      <a:pt x="268" y="35"/>
                    </a:lnTo>
                    <a:lnTo>
                      <a:pt x="261" y="35"/>
                    </a:lnTo>
                    <a:lnTo>
                      <a:pt x="255" y="35"/>
                    </a:lnTo>
                    <a:lnTo>
                      <a:pt x="249" y="35"/>
                    </a:lnTo>
                    <a:lnTo>
                      <a:pt x="242" y="35"/>
                    </a:lnTo>
                    <a:lnTo>
                      <a:pt x="236" y="31"/>
                    </a:lnTo>
                    <a:lnTo>
                      <a:pt x="233" y="31"/>
                    </a:lnTo>
                    <a:lnTo>
                      <a:pt x="226" y="31"/>
                    </a:lnTo>
                    <a:lnTo>
                      <a:pt x="223" y="31"/>
                    </a:lnTo>
                    <a:lnTo>
                      <a:pt x="220" y="31"/>
                    </a:lnTo>
                    <a:lnTo>
                      <a:pt x="217" y="31"/>
                    </a:lnTo>
                    <a:lnTo>
                      <a:pt x="210" y="31"/>
                    </a:lnTo>
                    <a:lnTo>
                      <a:pt x="207" y="31"/>
                    </a:lnTo>
                    <a:lnTo>
                      <a:pt x="204" y="31"/>
                    </a:lnTo>
                    <a:lnTo>
                      <a:pt x="198" y="31"/>
                    </a:lnTo>
                    <a:lnTo>
                      <a:pt x="201" y="31"/>
                    </a:lnTo>
                    <a:lnTo>
                      <a:pt x="204" y="31"/>
                    </a:lnTo>
                    <a:lnTo>
                      <a:pt x="207" y="28"/>
                    </a:lnTo>
                    <a:lnTo>
                      <a:pt x="210" y="28"/>
                    </a:lnTo>
                    <a:lnTo>
                      <a:pt x="213" y="28"/>
                    </a:lnTo>
                    <a:lnTo>
                      <a:pt x="217" y="28"/>
                    </a:lnTo>
                    <a:lnTo>
                      <a:pt x="220" y="28"/>
                    </a:lnTo>
                    <a:lnTo>
                      <a:pt x="220" y="28"/>
                    </a:lnTo>
                    <a:lnTo>
                      <a:pt x="226" y="25"/>
                    </a:lnTo>
                    <a:lnTo>
                      <a:pt x="229" y="25"/>
                    </a:lnTo>
                    <a:lnTo>
                      <a:pt x="233" y="25"/>
                    </a:lnTo>
                    <a:lnTo>
                      <a:pt x="236" y="22"/>
                    </a:lnTo>
                    <a:lnTo>
                      <a:pt x="239" y="22"/>
                    </a:lnTo>
                    <a:lnTo>
                      <a:pt x="242" y="22"/>
                    </a:lnTo>
                    <a:lnTo>
                      <a:pt x="245" y="22"/>
                    </a:lnTo>
                    <a:lnTo>
                      <a:pt x="252" y="19"/>
                    </a:lnTo>
                    <a:lnTo>
                      <a:pt x="255" y="19"/>
                    </a:lnTo>
                    <a:lnTo>
                      <a:pt x="258" y="19"/>
                    </a:lnTo>
                    <a:lnTo>
                      <a:pt x="261" y="19"/>
                    </a:lnTo>
                    <a:lnTo>
                      <a:pt x="264" y="15"/>
                    </a:lnTo>
                    <a:lnTo>
                      <a:pt x="268" y="15"/>
                    </a:lnTo>
                    <a:lnTo>
                      <a:pt x="271" y="15"/>
                    </a:lnTo>
                    <a:lnTo>
                      <a:pt x="277" y="12"/>
                    </a:lnTo>
                    <a:lnTo>
                      <a:pt x="280" y="12"/>
                    </a:lnTo>
                    <a:lnTo>
                      <a:pt x="284" y="12"/>
                    </a:lnTo>
                    <a:lnTo>
                      <a:pt x="287" y="12"/>
                    </a:lnTo>
                    <a:lnTo>
                      <a:pt x="290" y="9"/>
                    </a:lnTo>
                    <a:lnTo>
                      <a:pt x="293" y="9"/>
                    </a:lnTo>
                    <a:lnTo>
                      <a:pt x="296" y="9"/>
                    </a:lnTo>
                    <a:lnTo>
                      <a:pt x="300" y="9"/>
                    </a:lnTo>
                    <a:lnTo>
                      <a:pt x="303" y="6"/>
                    </a:lnTo>
                    <a:lnTo>
                      <a:pt x="309" y="6"/>
                    </a:lnTo>
                    <a:lnTo>
                      <a:pt x="312" y="6"/>
                    </a:lnTo>
                    <a:lnTo>
                      <a:pt x="315" y="3"/>
                    </a:lnTo>
                    <a:lnTo>
                      <a:pt x="319" y="3"/>
                    </a:lnTo>
                    <a:lnTo>
                      <a:pt x="322" y="3"/>
                    </a:lnTo>
                    <a:lnTo>
                      <a:pt x="325" y="3"/>
                    </a:lnTo>
                    <a:lnTo>
                      <a:pt x="328" y="0"/>
                    </a:lnTo>
                    <a:lnTo>
                      <a:pt x="331" y="0"/>
                    </a:lnTo>
                    <a:lnTo>
                      <a:pt x="335" y="0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161760" y="3271320"/>
                <a:ext cx="828360" cy="100080"/>
              </a:xfrm>
              <a:custGeom>
                <a:avLst/>
                <a:gdLst/>
                <a:ahLst/>
                <a:rect l="l" t="t" r="r" b="b"/>
                <a:pathLst>
                  <a:path w="972" h="111">
                    <a:moveTo>
                      <a:pt x="959" y="111"/>
                    </a:moveTo>
                    <a:lnTo>
                      <a:pt x="943" y="111"/>
                    </a:lnTo>
                    <a:lnTo>
                      <a:pt x="927" y="108"/>
                    </a:lnTo>
                    <a:lnTo>
                      <a:pt x="911" y="108"/>
                    </a:lnTo>
                    <a:lnTo>
                      <a:pt x="895" y="105"/>
                    </a:lnTo>
                    <a:lnTo>
                      <a:pt x="880" y="105"/>
                    </a:lnTo>
                    <a:lnTo>
                      <a:pt x="864" y="102"/>
                    </a:lnTo>
                    <a:lnTo>
                      <a:pt x="848" y="102"/>
                    </a:lnTo>
                    <a:lnTo>
                      <a:pt x="832" y="102"/>
                    </a:lnTo>
                    <a:lnTo>
                      <a:pt x="819" y="99"/>
                    </a:lnTo>
                    <a:lnTo>
                      <a:pt x="803" y="99"/>
                    </a:lnTo>
                    <a:lnTo>
                      <a:pt x="787" y="96"/>
                    </a:lnTo>
                    <a:lnTo>
                      <a:pt x="771" y="96"/>
                    </a:lnTo>
                    <a:lnTo>
                      <a:pt x="755" y="92"/>
                    </a:lnTo>
                    <a:lnTo>
                      <a:pt x="739" y="92"/>
                    </a:lnTo>
                    <a:lnTo>
                      <a:pt x="723" y="89"/>
                    </a:lnTo>
                    <a:lnTo>
                      <a:pt x="707" y="89"/>
                    </a:lnTo>
                    <a:lnTo>
                      <a:pt x="695" y="86"/>
                    </a:lnTo>
                    <a:lnTo>
                      <a:pt x="679" y="86"/>
                    </a:lnTo>
                    <a:lnTo>
                      <a:pt x="663" y="83"/>
                    </a:lnTo>
                    <a:lnTo>
                      <a:pt x="647" y="83"/>
                    </a:lnTo>
                    <a:lnTo>
                      <a:pt x="631" y="80"/>
                    </a:lnTo>
                    <a:lnTo>
                      <a:pt x="615" y="80"/>
                    </a:lnTo>
                    <a:lnTo>
                      <a:pt x="599" y="76"/>
                    </a:lnTo>
                    <a:lnTo>
                      <a:pt x="583" y="76"/>
                    </a:lnTo>
                    <a:lnTo>
                      <a:pt x="567" y="73"/>
                    </a:lnTo>
                    <a:lnTo>
                      <a:pt x="551" y="73"/>
                    </a:lnTo>
                    <a:lnTo>
                      <a:pt x="538" y="70"/>
                    </a:lnTo>
                    <a:lnTo>
                      <a:pt x="522" y="70"/>
                    </a:lnTo>
                    <a:lnTo>
                      <a:pt x="507" y="67"/>
                    </a:lnTo>
                    <a:lnTo>
                      <a:pt x="491" y="67"/>
                    </a:lnTo>
                    <a:lnTo>
                      <a:pt x="475" y="64"/>
                    </a:lnTo>
                    <a:lnTo>
                      <a:pt x="459" y="64"/>
                    </a:lnTo>
                    <a:lnTo>
                      <a:pt x="446" y="64"/>
                    </a:lnTo>
                    <a:lnTo>
                      <a:pt x="430" y="60"/>
                    </a:lnTo>
                    <a:lnTo>
                      <a:pt x="417" y="60"/>
                    </a:lnTo>
                    <a:lnTo>
                      <a:pt x="405" y="57"/>
                    </a:lnTo>
                    <a:lnTo>
                      <a:pt x="389" y="57"/>
                    </a:lnTo>
                    <a:lnTo>
                      <a:pt x="376" y="54"/>
                    </a:lnTo>
                    <a:lnTo>
                      <a:pt x="360" y="54"/>
                    </a:lnTo>
                    <a:lnTo>
                      <a:pt x="347" y="51"/>
                    </a:lnTo>
                    <a:lnTo>
                      <a:pt x="334" y="51"/>
                    </a:lnTo>
                    <a:lnTo>
                      <a:pt x="318" y="51"/>
                    </a:lnTo>
                    <a:lnTo>
                      <a:pt x="306" y="48"/>
                    </a:lnTo>
                    <a:lnTo>
                      <a:pt x="293" y="48"/>
                    </a:lnTo>
                    <a:lnTo>
                      <a:pt x="277" y="45"/>
                    </a:lnTo>
                    <a:lnTo>
                      <a:pt x="264" y="45"/>
                    </a:lnTo>
                    <a:lnTo>
                      <a:pt x="248" y="45"/>
                    </a:lnTo>
                    <a:lnTo>
                      <a:pt x="236" y="41"/>
                    </a:lnTo>
                    <a:lnTo>
                      <a:pt x="223" y="41"/>
                    </a:lnTo>
                    <a:lnTo>
                      <a:pt x="207" y="38"/>
                    </a:lnTo>
                    <a:lnTo>
                      <a:pt x="194" y="38"/>
                    </a:lnTo>
                    <a:lnTo>
                      <a:pt x="178" y="38"/>
                    </a:lnTo>
                    <a:lnTo>
                      <a:pt x="165" y="35"/>
                    </a:lnTo>
                    <a:lnTo>
                      <a:pt x="153" y="35"/>
                    </a:lnTo>
                    <a:lnTo>
                      <a:pt x="137" y="32"/>
                    </a:lnTo>
                    <a:lnTo>
                      <a:pt x="124" y="32"/>
                    </a:lnTo>
                    <a:lnTo>
                      <a:pt x="108" y="32"/>
                    </a:lnTo>
                    <a:lnTo>
                      <a:pt x="95" y="29"/>
                    </a:lnTo>
                    <a:lnTo>
                      <a:pt x="83" y="29"/>
                    </a:lnTo>
                    <a:lnTo>
                      <a:pt x="67" y="25"/>
                    </a:lnTo>
                    <a:lnTo>
                      <a:pt x="54" y="25"/>
                    </a:lnTo>
                    <a:lnTo>
                      <a:pt x="38" y="25"/>
                    </a:lnTo>
                    <a:lnTo>
                      <a:pt x="25" y="22"/>
                    </a:lnTo>
                    <a:lnTo>
                      <a:pt x="12" y="22"/>
                    </a:lnTo>
                    <a:lnTo>
                      <a:pt x="6" y="19"/>
                    </a:lnTo>
                    <a:lnTo>
                      <a:pt x="3" y="1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22" y="3"/>
                    </a:lnTo>
                    <a:lnTo>
                      <a:pt x="41" y="3"/>
                    </a:lnTo>
                    <a:lnTo>
                      <a:pt x="57" y="6"/>
                    </a:lnTo>
                    <a:lnTo>
                      <a:pt x="73" y="6"/>
                    </a:lnTo>
                    <a:lnTo>
                      <a:pt x="92" y="9"/>
                    </a:lnTo>
                    <a:lnTo>
                      <a:pt x="108" y="9"/>
                    </a:lnTo>
                    <a:lnTo>
                      <a:pt x="124" y="9"/>
                    </a:lnTo>
                    <a:lnTo>
                      <a:pt x="143" y="13"/>
                    </a:lnTo>
                    <a:lnTo>
                      <a:pt x="159" y="13"/>
                    </a:lnTo>
                    <a:lnTo>
                      <a:pt x="175" y="16"/>
                    </a:lnTo>
                    <a:lnTo>
                      <a:pt x="191" y="16"/>
                    </a:lnTo>
                    <a:lnTo>
                      <a:pt x="210" y="19"/>
                    </a:lnTo>
                    <a:lnTo>
                      <a:pt x="226" y="19"/>
                    </a:lnTo>
                    <a:lnTo>
                      <a:pt x="242" y="22"/>
                    </a:lnTo>
                    <a:lnTo>
                      <a:pt x="261" y="22"/>
                    </a:lnTo>
                    <a:lnTo>
                      <a:pt x="277" y="25"/>
                    </a:lnTo>
                    <a:lnTo>
                      <a:pt x="293" y="25"/>
                    </a:lnTo>
                    <a:lnTo>
                      <a:pt x="309" y="29"/>
                    </a:lnTo>
                    <a:lnTo>
                      <a:pt x="328" y="29"/>
                    </a:lnTo>
                    <a:lnTo>
                      <a:pt x="344" y="32"/>
                    </a:lnTo>
                    <a:lnTo>
                      <a:pt x="360" y="32"/>
                    </a:lnTo>
                    <a:lnTo>
                      <a:pt x="379" y="35"/>
                    </a:lnTo>
                    <a:lnTo>
                      <a:pt x="395" y="35"/>
                    </a:lnTo>
                    <a:lnTo>
                      <a:pt x="411" y="38"/>
                    </a:lnTo>
                    <a:lnTo>
                      <a:pt x="427" y="38"/>
                    </a:lnTo>
                    <a:lnTo>
                      <a:pt x="446" y="41"/>
                    </a:lnTo>
                    <a:lnTo>
                      <a:pt x="462" y="41"/>
                    </a:lnTo>
                    <a:lnTo>
                      <a:pt x="478" y="45"/>
                    </a:lnTo>
                    <a:lnTo>
                      <a:pt x="497" y="45"/>
                    </a:lnTo>
                    <a:lnTo>
                      <a:pt x="513" y="48"/>
                    </a:lnTo>
                    <a:lnTo>
                      <a:pt x="529" y="48"/>
                    </a:lnTo>
                    <a:lnTo>
                      <a:pt x="545" y="51"/>
                    </a:lnTo>
                    <a:lnTo>
                      <a:pt x="558" y="51"/>
                    </a:lnTo>
                    <a:lnTo>
                      <a:pt x="570" y="54"/>
                    </a:lnTo>
                    <a:lnTo>
                      <a:pt x="583" y="54"/>
                    </a:lnTo>
                    <a:lnTo>
                      <a:pt x="599" y="54"/>
                    </a:lnTo>
                    <a:lnTo>
                      <a:pt x="612" y="57"/>
                    </a:lnTo>
                    <a:lnTo>
                      <a:pt x="624" y="57"/>
                    </a:lnTo>
                    <a:lnTo>
                      <a:pt x="637" y="60"/>
                    </a:lnTo>
                    <a:lnTo>
                      <a:pt x="650" y="60"/>
                    </a:lnTo>
                    <a:lnTo>
                      <a:pt x="663" y="60"/>
                    </a:lnTo>
                    <a:lnTo>
                      <a:pt x="675" y="64"/>
                    </a:lnTo>
                    <a:lnTo>
                      <a:pt x="688" y="64"/>
                    </a:lnTo>
                    <a:lnTo>
                      <a:pt x="701" y="67"/>
                    </a:lnTo>
                    <a:lnTo>
                      <a:pt x="714" y="67"/>
                    </a:lnTo>
                    <a:lnTo>
                      <a:pt x="726" y="67"/>
                    </a:lnTo>
                    <a:lnTo>
                      <a:pt x="739" y="70"/>
                    </a:lnTo>
                    <a:lnTo>
                      <a:pt x="752" y="70"/>
                    </a:lnTo>
                    <a:lnTo>
                      <a:pt x="765" y="73"/>
                    </a:lnTo>
                    <a:lnTo>
                      <a:pt x="781" y="73"/>
                    </a:lnTo>
                    <a:lnTo>
                      <a:pt x="793" y="76"/>
                    </a:lnTo>
                    <a:lnTo>
                      <a:pt x="806" y="76"/>
                    </a:lnTo>
                    <a:lnTo>
                      <a:pt x="819" y="76"/>
                    </a:lnTo>
                    <a:lnTo>
                      <a:pt x="832" y="80"/>
                    </a:lnTo>
                    <a:lnTo>
                      <a:pt x="844" y="80"/>
                    </a:lnTo>
                    <a:lnTo>
                      <a:pt x="857" y="80"/>
                    </a:lnTo>
                    <a:lnTo>
                      <a:pt x="870" y="83"/>
                    </a:lnTo>
                    <a:lnTo>
                      <a:pt x="883" y="83"/>
                    </a:lnTo>
                    <a:lnTo>
                      <a:pt x="895" y="86"/>
                    </a:lnTo>
                    <a:lnTo>
                      <a:pt x="908" y="86"/>
                    </a:lnTo>
                    <a:lnTo>
                      <a:pt x="921" y="86"/>
                    </a:lnTo>
                    <a:lnTo>
                      <a:pt x="934" y="89"/>
                    </a:lnTo>
                    <a:lnTo>
                      <a:pt x="946" y="89"/>
                    </a:lnTo>
                    <a:lnTo>
                      <a:pt x="959" y="92"/>
                    </a:lnTo>
                    <a:lnTo>
                      <a:pt x="966" y="92"/>
                    </a:lnTo>
                    <a:lnTo>
                      <a:pt x="969" y="96"/>
                    </a:lnTo>
                    <a:lnTo>
                      <a:pt x="972" y="99"/>
                    </a:lnTo>
                    <a:lnTo>
                      <a:pt x="972" y="105"/>
                    </a:lnTo>
                    <a:lnTo>
                      <a:pt x="972" y="108"/>
                    </a:lnTo>
                    <a:lnTo>
                      <a:pt x="969" y="111"/>
                    </a:lnTo>
                    <a:lnTo>
                      <a:pt x="962" y="111"/>
                    </a:lnTo>
                    <a:lnTo>
                      <a:pt x="959" y="111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166800" y="3274200"/>
                <a:ext cx="817920" cy="86760"/>
              </a:xfrm>
              <a:custGeom>
                <a:avLst/>
                <a:gdLst/>
                <a:ahLst/>
                <a:rect l="l" t="t" r="r" b="b"/>
                <a:pathLst>
                  <a:path w="960" h="96">
                    <a:moveTo>
                      <a:pt x="947" y="96"/>
                    </a:moveTo>
                    <a:lnTo>
                      <a:pt x="931" y="96"/>
                    </a:lnTo>
                    <a:lnTo>
                      <a:pt x="918" y="93"/>
                    </a:lnTo>
                    <a:lnTo>
                      <a:pt x="902" y="93"/>
                    </a:lnTo>
                    <a:lnTo>
                      <a:pt x="886" y="89"/>
                    </a:lnTo>
                    <a:lnTo>
                      <a:pt x="874" y="89"/>
                    </a:lnTo>
                    <a:lnTo>
                      <a:pt x="858" y="86"/>
                    </a:lnTo>
                    <a:lnTo>
                      <a:pt x="842" y="86"/>
                    </a:lnTo>
                    <a:lnTo>
                      <a:pt x="826" y="83"/>
                    </a:lnTo>
                    <a:lnTo>
                      <a:pt x="813" y="83"/>
                    </a:lnTo>
                    <a:lnTo>
                      <a:pt x="797" y="83"/>
                    </a:lnTo>
                    <a:lnTo>
                      <a:pt x="781" y="80"/>
                    </a:lnTo>
                    <a:lnTo>
                      <a:pt x="765" y="80"/>
                    </a:lnTo>
                    <a:lnTo>
                      <a:pt x="749" y="77"/>
                    </a:lnTo>
                    <a:lnTo>
                      <a:pt x="733" y="77"/>
                    </a:lnTo>
                    <a:lnTo>
                      <a:pt x="717" y="73"/>
                    </a:lnTo>
                    <a:lnTo>
                      <a:pt x="701" y="73"/>
                    </a:lnTo>
                    <a:lnTo>
                      <a:pt x="685" y="70"/>
                    </a:lnTo>
                    <a:lnTo>
                      <a:pt x="669" y="70"/>
                    </a:lnTo>
                    <a:lnTo>
                      <a:pt x="654" y="67"/>
                    </a:lnTo>
                    <a:lnTo>
                      <a:pt x="638" y="67"/>
                    </a:lnTo>
                    <a:lnTo>
                      <a:pt x="625" y="64"/>
                    </a:lnTo>
                    <a:lnTo>
                      <a:pt x="609" y="64"/>
                    </a:lnTo>
                    <a:lnTo>
                      <a:pt x="593" y="61"/>
                    </a:lnTo>
                    <a:lnTo>
                      <a:pt x="577" y="61"/>
                    </a:lnTo>
                    <a:lnTo>
                      <a:pt x="561" y="57"/>
                    </a:lnTo>
                    <a:lnTo>
                      <a:pt x="545" y="57"/>
                    </a:lnTo>
                    <a:lnTo>
                      <a:pt x="532" y="54"/>
                    </a:lnTo>
                    <a:lnTo>
                      <a:pt x="516" y="54"/>
                    </a:lnTo>
                    <a:lnTo>
                      <a:pt x="501" y="51"/>
                    </a:lnTo>
                    <a:lnTo>
                      <a:pt x="488" y="51"/>
                    </a:lnTo>
                    <a:lnTo>
                      <a:pt x="472" y="51"/>
                    </a:lnTo>
                    <a:lnTo>
                      <a:pt x="459" y="48"/>
                    </a:lnTo>
                    <a:lnTo>
                      <a:pt x="446" y="48"/>
                    </a:lnTo>
                    <a:lnTo>
                      <a:pt x="434" y="45"/>
                    </a:lnTo>
                    <a:lnTo>
                      <a:pt x="418" y="45"/>
                    </a:lnTo>
                    <a:lnTo>
                      <a:pt x="405" y="45"/>
                    </a:lnTo>
                    <a:lnTo>
                      <a:pt x="392" y="42"/>
                    </a:lnTo>
                    <a:lnTo>
                      <a:pt x="376" y="42"/>
                    </a:lnTo>
                    <a:lnTo>
                      <a:pt x="363" y="38"/>
                    </a:lnTo>
                    <a:lnTo>
                      <a:pt x="351" y="38"/>
                    </a:lnTo>
                    <a:lnTo>
                      <a:pt x="335" y="35"/>
                    </a:lnTo>
                    <a:lnTo>
                      <a:pt x="322" y="35"/>
                    </a:lnTo>
                    <a:lnTo>
                      <a:pt x="306" y="35"/>
                    </a:lnTo>
                    <a:lnTo>
                      <a:pt x="293" y="32"/>
                    </a:lnTo>
                    <a:lnTo>
                      <a:pt x="277" y="32"/>
                    </a:lnTo>
                    <a:lnTo>
                      <a:pt x="265" y="29"/>
                    </a:lnTo>
                    <a:lnTo>
                      <a:pt x="249" y="29"/>
                    </a:lnTo>
                    <a:lnTo>
                      <a:pt x="236" y="29"/>
                    </a:lnTo>
                    <a:lnTo>
                      <a:pt x="220" y="26"/>
                    </a:lnTo>
                    <a:lnTo>
                      <a:pt x="204" y="26"/>
                    </a:lnTo>
                    <a:lnTo>
                      <a:pt x="191" y="26"/>
                    </a:lnTo>
                    <a:lnTo>
                      <a:pt x="175" y="22"/>
                    </a:lnTo>
                    <a:lnTo>
                      <a:pt x="163" y="22"/>
                    </a:lnTo>
                    <a:lnTo>
                      <a:pt x="147" y="19"/>
                    </a:lnTo>
                    <a:lnTo>
                      <a:pt x="134" y="19"/>
                    </a:lnTo>
                    <a:lnTo>
                      <a:pt x="118" y="19"/>
                    </a:lnTo>
                    <a:lnTo>
                      <a:pt x="105" y="16"/>
                    </a:lnTo>
                    <a:lnTo>
                      <a:pt x="89" y="16"/>
                    </a:lnTo>
                    <a:lnTo>
                      <a:pt x="77" y="13"/>
                    </a:lnTo>
                    <a:lnTo>
                      <a:pt x="64" y="13"/>
                    </a:lnTo>
                    <a:lnTo>
                      <a:pt x="48" y="13"/>
                    </a:lnTo>
                    <a:lnTo>
                      <a:pt x="35" y="10"/>
                    </a:lnTo>
                    <a:lnTo>
                      <a:pt x="22" y="10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22" y="0"/>
                    </a:lnTo>
                    <a:lnTo>
                      <a:pt x="38" y="3"/>
                    </a:lnTo>
                    <a:lnTo>
                      <a:pt x="54" y="3"/>
                    </a:lnTo>
                    <a:lnTo>
                      <a:pt x="70" y="6"/>
                    </a:lnTo>
                    <a:lnTo>
                      <a:pt x="86" y="6"/>
                    </a:lnTo>
                    <a:lnTo>
                      <a:pt x="105" y="10"/>
                    </a:lnTo>
                    <a:lnTo>
                      <a:pt x="121" y="10"/>
                    </a:lnTo>
                    <a:lnTo>
                      <a:pt x="137" y="10"/>
                    </a:lnTo>
                    <a:lnTo>
                      <a:pt x="153" y="13"/>
                    </a:lnTo>
                    <a:lnTo>
                      <a:pt x="169" y="13"/>
                    </a:lnTo>
                    <a:lnTo>
                      <a:pt x="188" y="16"/>
                    </a:lnTo>
                    <a:lnTo>
                      <a:pt x="204" y="16"/>
                    </a:lnTo>
                    <a:lnTo>
                      <a:pt x="220" y="19"/>
                    </a:lnTo>
                    <a:lnTo>
                      <a:pt x="239" y="19"/>
                    </a:lnTo>
                    <a:lnTo>
                      <a:pt x="255" y="22"/>
                    </a:lnTo>
                    <a:lnTo>
                      <a:pt x="271" y="22"/>
                    </a:lnTo>
                    <a:lnTo>
                      <a:pt x="290" y="26"/>
                    </a:lnTo>
                    <a:lnTo>
                      <a:pt x="306" y="26"/>
                    </a:lnTo>
                    <a:lnTo>
                      <a:pt x="322" y="26"/>
                    </a:lnTo>
                    <a:lnTo>
                      <a:pt x="338" y="29"/>
                    </a:lnTo>
                    <a:lnTo>
                      <a:pt x="357" y="29"/>
                    </a:lnTo>
                    <a:lnTo>
                      <a:pt x="373" y="32"/>
                    </a:lnTo>
                    <a:lnTo>
                      <a:pt x="389" y="32"/>
                    </a:lnTo>
                    <a:lnTo>
                      <a:pt x="405" y="35"/>
                    </a:lnTo>
                    <a:lnTo>
                      <a:pt x="424" y="35"/>
                    </a:lnTo>
                    <a:lnTo>
                      <a:pt x="440" y="38"/>
                    </a:lnTo>
                    <a:lnTo>
                      <a:pt x="456" y="38"/>
                    </a:lnTo>
                    <a:lnTo>
                      <a:pt x="472" y="42"/>
                    </a:lnTo>
                    <a:lnTo>
                      <a:pt x="488" y="42"/>
                    </a:lnTo>
                    <a:lnTo>
                      <a:pt x="504" y="45"/>
                    </a:lnTo>
                    <a:lnTo>
                      <a:pt x="520" y="45"/>
                    </a:lnTo>
                    <a:lnTo>
                      <a:pt x="536" y="48"/>
                    </a:lnTo>
                    <a:lnTo>
                      <a:pt x="545" y="48"/>
                    </a:lnTo>
                    <a:lnTo>
                      <a:pt x="558" y="48"/>
                    </a:lnTo>
                    <a:lnTo>
                      <a:pt x="571" y="51"/>
                    </a:lnTo>
                    <a:lnTo>
                      <a:pt x="583" y="51"/>
                    </a:lnTo>
                    <a:lnTo>
                      <a:pt x="596" y="54"/>
                    </a:lnTo>
                    <a:lnTo>
                      <a:pt x="609" y="54"/>
                    </a:lnTo>
                    <a:lnTo>
                      <a:pt x="622" y="54"/>
                    </a:lnTo>
                    <a:lnTo>
                      <a:pt x="634" y="57"/>
                    </a:lnTo>
                    <a:lnTo>
                      <a:pt x="647" y="57"/>
                    </a:lnTo>
                    <a:lnTo>
                      <a:pt x="663" y="61"/>
                    </a:lnTo>
                    <a:lnTo>
                      <a:pt x="676" y="61"/>
                    </a:lnTo>
                    <a:lnTo>
                      <a:pt x="689" y="64"/>
                    </a:lnTo>
                    <a:lnTo>
                      <a:pt x="701" y="64"/>
                    </a:lnTo>
                    <a:lnTo>
                      <a:pt x="717" y="67"/>
                    </a:lnTo>
                    <a:lnTo>
                      <a:pt x="730" y="67"/>
                    </a:lnTo>
                    <a:lnTo>
                      <a:pt x="743" y="67"/>
                    </a:lnTo>
                    <a:lnTo>
                      <a:pt x="756" y="70"/>
                    </a:lnTo>
                    <a:lnTo>
                      <a:pt x="771" y="70"/>
                    </a:lnTo>
                    <a:lnTo>
                      <a:pt x="784" y="73"/>
                    </a:lnTo>
                    <a:lnTo>
                      <a:pt x="797" y="73"/>
                    </a:lnTo>
                    <a:lnTo>
                      <a:pt x="810" y="77"/>
                    </a:lnTo>
                    <a:lnTo>
                      <a:pt x="826" y="77"/>
                    </a:lnTo>
                    <a:lnTo>
                      <a:pt x="838" y="77"/>
                    </a:lnTo>
                    <a:lnTo>
                      <a:pt x="851" y="80"/>
                    </a:lnTo>
                    <a:lnTo>
                      <a:pt x="864" y="80"/>
                    </a:lnTo>
                    <a:lnTo>
                      <a:pt x="877" y="83"/>
                    </a:lnTo>
                    <a:lnTo>
                      <a:pt x="889" y="83"/>
                    </a:lnTo>
                    <a:lnTo>
                      <a:pt x="902" y="86"/>
                    </a:lnTo>
                    <a:lnTo>
                      <a:pt x="915" y="86"/>
                    </a:lnTo>
                    <a:lnTo>
                      <a:pt x="928" y="86"/>
                    </a:lnTo>
                    <a:lnTo>
                      <a:pt x="940" y="89"/>
                    </a:lnTo>
                    <a:lnTo>
                      <a:pt x="950" y="89"/>
                    </a:lnTo>
                    <a:lnTo>
                      <a:pt x="956" y="89"/>
                    </a:lnTo>
                    <a:lnTo>
                      <a:pt x="960" y="93"/>
                    </a:lnTo>
                    <a:lnTo>
                      <a:pt x="960" y="93"/>
                    </a:lnTo>
                    <a:lnTo>
                      <a:pt x="960" y="96"/>
                    </a:lnTo>
                    <a:lnTo>
                      <a:pt x="960" y="96"/>
                    </a:lnTo>
                    <a:lnTo>
                      <a:pt x="956" y="96"/>
                    </a:lnTo>
                    <a:lnTo>
                      <a:pt x="950" y="96"/>
                    </a:lnTo>
                    <a:lnTo>
                      <a:pt x="947" y="96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408720" y="318204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54" h="57">
                    <a:moveTo>
                      <a:pt x="0" y="29"/>
                    </a:moveTo>
                    <a:lnTo>
                      <a:pt x="0" y="26"/>
                    </a:lnTo>
                    <a:lnTo>
                      <a:pt x="0" y="22"/>
                    </a:lnTo>
                    <a:lnTo>
                      <a:pt x="3" y="19"/>
                    </a:lnTo>
                    <a:lnTo>
                      <a:pt x="3" y="16"/>
                    </a:lnTo>
                    <a:lnTo>
                      <a:pt x="6" y="13"/>
                    </a:lnTo>
                    <a:lnTo>
                      <a:pt x="9" y="13"/>
                    </a:lnTo>
                    <a:lnTo>
                      <a:pt x="13" y="10"/>
                    </a:lnTo>
                    <a:lnTo>
                      <a:pt x="19" y="6"/>
                    </a:lnTo>
                    <a:lnTo>
                      <a:pt x="22" y="6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51" y="0"/>
                    </a:lnTo>
                    <a:lnTo>
                      <a:pt x="54" y="0"/>
                    </a:lnTo>
                    <a:lnTo>
                      <a:pt x="54" y="13"/>
                    </a:lnTo>
                    <a:lnTo>
                      <a:pt x="54" y="29"/>
                    </a:lnTo>
                    <a:lnTo>
                      <a:pt x="54" y="45"/>
                    </a:lnTo>
                    <a:lnTo>
                      <a:pt x="54" y="57"/>
                    </a:lnTo>
                    <a:lnTo>
                      <a:pt x="51" y="54"/>
                    </a:lnTo>
                    <a:lnTo>
                      <a:pt x="51" y="51"/>
                    </a:lnTo>
                    <a:lnTo>
                      <a:pt x="48" y="45"/>
                    </a:lnTo>
                    <a:lnTo>
                      <a:pt x="48" y="41"/>
                    </a:lnTo>
                    <a:lnTo>
                      <a:pt x="44" y="35"/>
                    </a:lnTo>
                    <a:lnTo>
                      <a:pt x="41" y="32"/>
                    </a:lnTo>
                    <a:lnTo>
                      <a:pt x="38" y="26"/>
                    </a:lnTo>
                    <a:lnTo>
                      <a:pt x="35" y="26"/>
                    </a:lnTo>
                    <a:lnTo>
                      <a:pt x="28" y="26"/>
                    </a:lnTo>
                    <a:lnTo>
                      <a:pt x="25" y="26"/>
                    </a:lnTo>
                    <a:lnTo>
                      <a:pt x="22" y="26"/>
                    </a:lnTo>
                    <a:lnTo>
                      <a:pt x="19" y="26"/>
                    </a:lnTo>
                    <a:lnTo>
                      <a:pt x="16" y="26"/>
                    </a:lnTo>
                    <a:lnTo>
                      <a:pt x="9" y="26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43640" y="3179160"/>
                <a:ext cx="5760" cy="54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436080" y="317916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0" y="6"/>
                    </a:lnTo>
                    <a:lnTo>
                      <a:pt x="9" y="6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27440" y="3182040"/>
                <a:ext cx="8280" cy="504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6"/>
                    </a:moveTo>
                    <a:lnTo>
                      <a:pt x="3" y="6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422400" y="318492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3" y="7"/>
                    </a:moveTo>
                    <a:lnTo>
                      <a:pt x="3" y="7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416640" y="318744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7"/>
                    </a:moveTo>
                    <a:lnTo>
                      <a:pt x="0" y="7"/>
                    </a:lnTo>
                    <a:lnTo>
                      <a:pt x="10" y="4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411600" y="31910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3" y="9"/>
                    </a:moveTo>
                    <a:lnTo>
                      <a:pt x="3" y="9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408720" y="31964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6"/>
                    </a:move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406200" y="320220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7"/>
                    </a:moveTo>
                    <a:lnTo>
                      <a:pt x="3" y="7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406200" y="32083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408720" y="32137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411600" y="3216240"/>
                <a:ext cx="4680" cy="90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7"/>
                    </a:moveTo>
                    <a:lnTo>
                      <a:pt x="6" y="7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414120" y="32227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6"/>
                    </a:moveTo>
                    <a:lnTo>
                      <a:pt x="10" y="6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422400" y="322812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3"/>
                    </a:moveTo>
                    <a:lnTo>
                      <a:pt x="9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427440" y="323100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0" y="3"/>
                    </a:moveTo>
                    <a:lnTo>
                      <a:pt x="10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36080" y="323352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6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441120" y="3237120"/>
                <a:ext cx="8280" cy="25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6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46160" y="3237120"/>
                <a:ext cx="8640" cy="252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452280" y="323352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457320" y="32310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59840" y="3228120"/>
                <a:ext cx="8280" cy="90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7" y="3"/>
                    </a:moveTo>
                    <a:lnTo>
                      <a:pt x="7" y="0"/>
                    </a:lnTo>
                    <a:lnTo>
                      <a:pt x="0" y="3"/>
                    </a:lnTo>
                    <a:lnTo>
                      <a:pt x="4" y="1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465960" y="3225240"/>
                <a:ext cx="4680" cy="54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468480" y="32227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68480" y="32162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0"/>
                    </a:moveTo>
                    <a:lnTo>
                      <a:pt x="3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471000" y="321120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471000" y="3205440"/>
                <a:ext cx="2520" cy="54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471000" y="3199320"/>
                <a:ext cx="2520" cy="612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468480" y="31939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465960" y="31910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463440" y="318492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3"/>
                    </a:moveTo>
                    <a:lnTo>
                      <a:pt x="0" y="3"/>
                    </a:lnTo>
                    <a:lnTo>
                      <a:pt x="3" y="7"/>
                    </a:lnTo>
                    <a:lnTo>
                      <a:pt x="6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457320" y="3182040"/>
                <a:ext cx="8280" cy="504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3" y="3"/>
                    </a:moveTo>
                    <a:lnTo>
                      <a:pt x="0" y="3"/>
                    </a:lnTo>
                    <a:lnTo>
                      <a:pt x="7" y="6"/>
                    </a:lnTo>
                    <a:lnTo>
                      <a:pt x="10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455160" y="3179160"/>
                <a:ext cx="4680" cy="54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449760" y="31791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3"/>
                    </a:moveTo>
                    <a:lnTo>
                      <a:pt x="0" y="3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482160" y="3208320"/>
                <a:ext cx="21240" cy="248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13" y="0"/>
                    </a:move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6" y="28"/>
                    </a:lnTo>
                    <a:lnTo>
                      <a:pt x="19" y="25"/>
                    </a:lnTo>
                    <a:lnTo>
                      <a:pt x="19" y="25"/>
                    </a:lnTo>
                    <a:lnTo>
                      <a:pt x="22" y="22"/>
                    </a:lnTo>
                    <a:lnTo>
                      <a:pt x="22" y="19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2" y="9"/>
                    </a:lnTo>
                    <a:lnTo>
                      <a:pt x="22" y="6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917040" y="331236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5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6" y="31"/>
                    </a:lnTo>
                    <a:lnTo>
                      <a:pt x="35" y="35"/>
                    </a:lnTo>
                    <a:lnTo>
                      <a:pt x="38" y="35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1" y="6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917040" y="3312360"/>
                <a:ext cx="32040" cy="3132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6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6" y="31"/>
                    </a:lnTo>
                    <a:lnTo>
                      <a:pt x="35" y="35"/>
                    </a:lnTo>
                    <a:lnTo>
                      <a:pt x="38" y="35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0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484680" y="321372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6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0"/>
                    </a:lnTo>
                    <a:lnTo>
                      <a:pt x="13" y="6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919560" y="331488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32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29" y="28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2" y="25"/>
                    </a:lnTo>
                    <a:lnTo>
                      <a:pt x="35" y="6"/>
                    </a:lnTo>
                    <a:lnTo>
                      <a:pt x="35" y="3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924600" y="3317400"/>
                <a:ext cx="19440" cy="1980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20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0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881040" y="3196440"/>
                <a:ext cx="122400" cy="83160"/>
              </a:xfrm>
              <a:custGeom>
                <a:avLst/>
                <a:gdLst/>
                <a:ahLst/>
                <a:rect l="l" t="t" r="r" b="b"/>
                <a:pathLst>
                  <a:path w="144" h="92">
                    <a:moveTo>
                      <a:pt x="58" y="6"/>
                    </a:moveTo>
                    <a:lnTo>
                      <a:pt x="51" y="10"/>
                    </a:lnTo>
                    <a:lnTo>
                      <a:pt x="45" y="13"/>
                    </a:lnTo>
                    <a:lnTo>
                      <a:pt x="39" y="16"/>
                    </a:lnTo>
                    <a:lnTo>
                      <a:pt x="32" y="19"/>
                    </a:lnTo>
                    <a:lnTo>
                      <a:pt x="26" y="22"/>
                    </a:lnTo>
                    <a:lnTo>
                      <a:pt x="23" y="29"/>
                    </a:lnTo>
                    <a:lnTo>
                      <a:pt x="16" y="32"/>
                    </a:lnTo>
                    <a:lnTo>
                      <a:pt x="13" y="35"/>
                    </a:lnTo>
                    <a:lnTo>
                      <a:pt x="10" y="41"/>
                    </a:lnTo>
                    <a:lnTo>
                      <a:pt x="7" y="45"/>
                    </a:lnTo>
                    <a:lnTo>
                      <a:pt x="4" y="48"/>
                    </a:lnTo>
                    <a:lnTo>
                      <a:pt x="4" y="54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4" y="73"/>
                    </a:lnTo>
                    <a:lnTo>
                      <a:pt x="7" y="76"/>
                    </a:lnTo>
                    <a:lnTo>
                      <a:pt x="10" y="80"/>
                    </a:lnTo>
                    <a:lnTo>
                      <a:pt x="13" y="83"/>
                    </a:lnTo>
                    <a:lnTo>
                      <a:pt x="16" y="86"/>
                    </a:lnTo>
                    <a:lnTo>
                      <a:pt x="20" y="86"/>
                    </a:lnTo>
                    <a:lnTo>
                      <a:pt x="26" y="89"/>
                    </a:lnTo>
                    <a:lnTo>
                      <a:pt x="32" y="89"/>
                    </a:lnTo>
                    <a:lnTo>
                      <a:pt x="39" y="92"/>
                    </a:lnTo>
                    <a:lnTo>
                      <a:pt x="45" y="92"/>
                    </a:lnTo>
                    <a:lnTo>
                      <a:pt x="51" y="92"/>
                    </a:lnTo>
                    <a:lnTo>
                      <a:pt x="58" y="89"/>
                    </a:lnTo>
                    <a:lnTo>
                      <a:pt x="64" y="89"/>
                    </a:lnTo>
                    <a:lnTo>
                      <a:pt x="71" y="89"/>
                    </a:lnTo>
                    <a:lnTo>
                      <a:pt x="77" y="86"/>
                    </a:lnTo>
                    <a:lnTo>
                      <a:pt x="87" y="83"/>
                    </a:lnTo>
                    <a:lnTo>
                      <a:pt x="93" y="83"/>
                    </a:lnTo>
                    <a:lnTo>
                      <a:pt x="99" y="80"/>
                    </a:lnTo>
                    <a:lnTo>
                      <a:pt x="106" y="76"/>
                    </a:lnTo>
                    <a:lnTo>
                      <a:pt x="112" y="70"/>
                    </a:lnTo>
                    <a:lnTo>
                      <a:pt x="118" y="67"/>
                    </a:lnTo>
                    <a:lnTo>
                      <a:pt x="122" y="64"/>
                    </a:lnTo>
                    <a:lnTo>
                      <a:pt x="128" y="61"/>
                    </a:lnTo>
                    <a:lnTo>
                      <a:pt x="131" y="54"/>
                    </a:lnTo>
                    <a:lnTo>
                      <a:pt x="134" y="51"/>
                    </a:lnTo>
                    <a:lnTo>
                      <a:pt x="138" y="48"/>
                    </a:lnTo>
                    <a:lnTo>
                      <a:pt x="141" y="41"/>
                    </a:lnTo>
                    <a:lnTo>
                      <a:pt x="141" y="38"/>
                    </a:lnTo>
                    <a:lnTo>
                      <a:pt x="144" y="32"/>
                    </a:lnTo>
                    <a:lnTo>
                      <a:pt x="144" y="29"/>
                    </a:lnTo>
                    <a:lnTo>
                      <a:pt x="144" y="25"/>
                    </a:lnTo>
                    <a:lnTo>
                      <a:pt x="141" y="22"/>
                    </a:lnTo>
                    <a:lnTo>
                      <a:pt x="141" y="16"/>
                    </a:lnTo>
                    <a:lnTo>
                      <a:pt x="138" y="13"/>
                    </a:lnTo>
                    <a:lnTo>
                      <a:pt x="134" y="10"/>
                    </a:lnTo>
                    <a:lnTo>
                      <a:pt x="131" y="6"/>
                    </a:lnTo>
                    <a:lnTo>
                      <a:pt x="128" y="6"/>
                    </a:lnTo>
                    <a:lnTo>
                      <a:pt x="122" y="3"/>
                    </a:lnTo>
                    <a:lnTo>
                      <a:pt x="118" y="3"/>
                    </a:lnTo>
                    <a:lnTo>
                      <a:pt x="112" y="0"/>
                    </a:lnTo>
                    <a:lnTo>
                      <a:pt x="106" y="0"/>
                    </a:lnTo>
                    <a:lnTo>
                      <a:pt x="99" y="0"/>
                    </a:lnTo>
                    <a:lnTo>
                      <a:pt x="93" y="0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4" y="3"/>
                    </a:lnTo>
                    <a:lnTo>
                      <a:pt x="64" y="3"/>
                    </a:lnTo>
                    <a:lnTo>
                      <a:pt x="58" y="6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894720" y="3196440"/>
                <a:ext cx="106200" cy="74880"/>
              </a:xfrm>
              <a:custGeom>
                <a:avLst/>
                <a:gdLst/>
                <a:ahLst/>
                <a:rect l="l" t="t" r="r" b="b"/>
                <a:pathLst>
                  <a:path w="125" h="83">
                    <a:moveTo>
                      <a:pt x="51" y="6"/>
                    </a:moveTo>
                    <a:lnTo>
                      <a:pt x="45" y="10"/>
                    </a:lnTo>
                    <a:lnTo>
                      <a:pt x="39" y="13"/>
                    </a:lnTo>
                    <a:lnTo>
                      <a:pt x="32" y="16"/>
                    </a:lnTo>
                    <a:lnTo>
                      <a:pt x="26" y="19"/>
                    </a:lnTo>
                    <a:lnTo>
                      <a:pt x="23" y="22"/>
                    </a:lnTo>
                    <a:lnTo>
                      <a:pt x="16" y="25"/>
                    </a:lnTo>
                    <a:lnTo>
                      <a:pt x="13" y="29"/>
                    </a:lnTo>
                    <a:lnTo>
                      <a:pt x="10" y="32"/>
                    </a:lnTo>
                    <a:lnTo>
                      <a:pt x="7" y="38"/>
                    </a:lnTo>
                    <a:lnTo>
                      <a:pt x="4" y="41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61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4" y="70"/>
                    </a:lnTo>
                    <a:lnTo>
                      <a:pt x="7" y="73"/>
                    </a:lnTo>
                    <a:lnTo>
                      <a:pt x="10" y="76"/>
                    </a:lnTo>
                    <a:lnTo>
                      <a:pt x="13" y="76"/>
                    </a:lnTo>
                    <a:lnTo>
                      <a:pt x="16" y="80"/>
                    </a:lnTo>
                    <a:lnTo>
                      <a:pt x="23" y="80"/>
                    </a:lnTo>
                    <a:lnTo>
                      <a:pt x="26" y="83"/>
                    </a:lnTo>
                    <a:lnTo>
                      <a:pt x="32" y="83"/>
                    </a:lnTo>
                    <a:lnTo>
                      <a:pt x="39" y="83"/>
                    </a:lnTo>
                    <a:lnTo>
                      <a:pt x="45" y="83"/>
                    </a:lnTo>
                    <a:lnTo>
                      <a:pt x="48" y="83"/>
                    </a:lnTo>
                    <a:lnTo>
                      <a:pt x="55" y="80"/>
                    </a:lnTo>
                    <a:lnTo>
                      <a:pt x="61" y="80"/>
                    </a:lnTo>
                    <a:lnTo>
                      <a:pt x="67" y="76"/>
                    </a:lnTo>
                    <a:lnTo>
                      <a:pt x="74" y="76"/>
                    </a:lnTo>
                    <a:lnTo>
                      <a:pt x="80" y="73"/>
                    </a:lnTo>
                    <a:lnTo>
                      <a:pt x="86" y="70"/>
                    </a:lnTo>
                    <a:lnTo>
                      <a:pt x="93" y="67"/>
                    </a:lnTo>
                    <a:lnTo>
                      <a:pt x="96" y="64"/>
                    </a:lnTo>
                    <a:lnTo>
                      <a:pt x="102" y="61"/>
                    </a:lnTo>
                    <a:lnTo>
                      <a:pt x="106" y="57"/>
                    </a:lnTo>
                    <a:lnTo>
                      <a:pt x="112" y="54"/>
                    </a:lnTo>
                    <a:lnTo>
                      <a:pt x="115" y="51"/>
                    </a:lnTo>
                    <a:lnTo>
                      <a:pt x="118" y="48"/>
                    </a:lnTo>
                    <a:lnTo>
                      <a:pt x="122" y="41"/>
                    </a:lnTo>
                    <a:lnTo>
                      <a:pt x="122" y="38"/>
                    </a:lnTo>
                    <a:lnTo>
                      <a:pt x="125" y="35"/>
                    </a:lnTo>
                    <a:lnTo>
                      <a:pt x="125" y="32"/>
                    </a:lnTo>
                    <a:lnTo>
                      <a:pt x="125" y="25"/>
                    </a:lnTo>
                    <a:lnTo>
                      <a:pt x="125" y="22"/>
                    </a:lnTo>
                    <a:lnTo>
                      <a:pt x="125" y="19"/>
                    </a:lnTo>
                    <a:lnTo>
                      <a:pt x="122" y="16"/>
                    </a:lnTo>
                    <a:lnTo>
                      <a:pt x="122" y="13"/>
                    </a:lnTo>
                    <a:lnTo>
                      <a:pt x="118" y="10"/>
                    </a:lnTo>
                    <a:lnTo>
                      <a:pt x="115" y="6"/>
                    </a:lnTo>
                    <a:lnTo>
                      <a:pt x="112" y="6"/>
                    </a:lnTo>
                    <a:lnTo>
                      <a:pt x="106" y="3"/>
                    </a:lnTo>
                    <a:lnTo>
                      <a:pt x="102" y="3"/>
                    </a:lnTo>
                    <a:lnTo>
                      <a:pt x="96" y="3"/>
                    </a:lnTo>
                    <a:lnTo>
                      <a:pt x="93" y="0"/>
                    </a:lnTo>
                    <a:lnTo>
                      <a:pt x="86" y="0"/>
                    </a:lnTo>
                    <a:lnTo>
                      <a:pt x="80" y="0"/>
                    </a:lnTo>
                    <a:lnTo>
                      <a:pt x="74" y="3"/>
                    </a:lnTo>
                    <a:lnTo>
                      <a:pt x="71" y="3"/>
                    </a:lnTo>
                    <a:lnTo>
                      <a:pt x="64" y="3"/>
                    </a:lnTo>
                    <a:lnTo>
                      <a:pt x="58" y="6"/>
                    </a:lnTo>
                    <a:lnTo>
                      <a:pt x="51" y="6"/>
                    </a:lnTo>
                    <a:close/>
                  </a:path>
                </a:pathLst>
              </a:custGeom>
              <a:solidFill>
                <a:srgbClr val="db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905880" y="3199320"/>
                <a:ext cx="92880" cy="63000"/>
              </a:xfrm>
              <a:custGeom>
                <a:avLst/>
                <a:gdLst/>
                <a:ahLst/>
                <a:rect l="l" t="t" r="r" b="b"/>
                <a:pathLst>
                  <a:path w="109" h="70">
                    <a:moveTo>
                      <a:pt x="45" y="7"/>
                    </a:moveTo>
                    <a:lnTo>
                      <a:pt x="32" y="10"/>
                    </a:lnTo>
                    <a:lnTo>
                      <a:pt x="22" y="16"/>
                    </a:lnTo>
                    <a:lnTo>
                      <a:pt x="16" y="22"/>
                    </a:lnTo>
                    <a:lnTo>
                      <a:pt x="10" y="29"/>
                    </a:lnTo>
                    <a:lnTo>
                      <a:pt x="3" y="35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3" y="61"/>
                    </a:lnTo>
                    <a:lnTo>
                      <a:pt x="7" y="64"/>
                    </a:lnTo>
                    <a:lnTo>
                      <a:pt x="10" y="64"/>
                    </a:lnTo>
                    <a:lnTo>
                      <a:pt x="13" y="67"/>
                    </a:lnTo>
                    <a:lnTo>
                      <a:pt x="16" y="67"/>
                    </a:lnTo>
                    <a:lnTo>
                      <a:pt x="19" y="70"/>
                    </a:lnTo>
                    <a:lnTo>
                      <a:pt x="22" y="70"/>
                    </a:lnTo>
                    <a:lnTo>
                      <a:pt x="29" y="70"/>
                    </a:lnTo>
                    <a:lnTo>
                      <a:pt x="32" y="70"/>
                    </a:lnTo>
                    <a:lnTo>
                      <a:pt x="38" y="70"/>
                    </a:lnTo>
                    <a:lnTo>
                      <a:pt x="45" y="70"/>
                    </a:lnTo>
                    <a:lnTo>
                      <a:pt x="48" y="70"/>
                    </a:lnTo>
                    <a:lnTo>
                      <a:pt x="54" y="67"/>
                    </a:lnTo>
                    <a:lnTo>
                      <a:pt x="61" y="67"/>
                    </a:lnTo>
                    <a:lnTo>
                      <a:pt x="67" y="64"/>
                    </a:lnTo>
                    <a:lnTo>
                      <a:pt x="77" y="61"/>
                    </a:lnTo>
                    <a:lnTo>
                      <a:pt x="86" y="54"/>
                    </a:lnTo>
                    <a:lnTo>
                      <a:pt x="93" y="48"/>
                    </a:lnTo>
                    <a:lnTo>
                      <a:pt x="99" y="42"/>
                    </a:lnTo>
                    <a:lnTo>
                      <a:pt x="105" y="35"/>
                    </a:lnTo>
                    <a:lnTo>
                      <a:pt x="109" y="29"/>
                    </a:lnTo>
                    <a:lnTo>
                      <a:pt x="109" y="22"/>
                    </a:lnTo>
                    <a:lnTo>
                      <a:pt x="109" y="16"/>
                    </a:lnTo>
                    <a:lnTo>
                      <a:pt x="109" y="13"/>
                    </a:lnTo>
                    <a:lnTo>
                      <a:pt x="105" y="10"/>
                    </a:lnTo>
                    <a:lnTo>
                      <a:pt x="102" y="7"/>
                    </a:lnTo>
                    <a:lnTo>
                      <a:pt x="99" y="7"/>
                    </a:lnTo>
                    <a:lnTo>
                      <a:pt x="96" y="3"/>
                    </a:lnTo>
                    <a:lnTo>
                      <a:pt x="93" y="3"/>
                    </a:lnTo>
                    <a:lnTo>
                      <a:pt x="89" y="0"/>
                    </a:lnTo>
                    <a:lnTo>
                      <a:pt x="86" y="0"/>
                    </a:lnTo>
                    <a:lnTo>
                      <a:pt x="80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4" y="3"/>
                    </a:lnTo>
                    <a:lnTo>
                      <a:pt x="51" y="3"/>
                    </a:lnTo>
                    <a:lnTo>
                      <a:pt x="45" y="7"/>
                    </a:lnTo>
                    <a:close/>
                  </a:path>
                </a:pathLst>
              </a:custGeom>
              <a:solidFill>
                <a:srgbClr val="cc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917040" y="3199320"/>
                <a:ext cx="81720" cy="57960"/>
              </a:xfrm>
              <a:custGeom>
                <a:avLst/>
                <a:gdLst/>
                <a:ahLst/>
                <a:rect l="l" t="t" r="r" b="b"/>
                <a:pathLst>
                  <a:path w="96" h="64">
                    <a:moveTo>
                      <a:pt x="38" y="7"/>
                    </a:moveTo>
                    <a:lnTo>
                      <a:pt x="29" y="10"/>
                    </a:lnTo>
                    <a:lnTo>
                      <a:pt x="19" y="16"/>
                    </a:lnTo>
                    <a:lnTo>
                      <a:pt x="13" y="19"/>
                    </a:lnTo>
                    <a:lnTo>
                      <a:pt x="6" y="26"/>
                    </a:lnTo>
                    <a:lnTo>
                      <a:pt x="3" y="32"/>
                    </a:lnTo>
                    <a:lnTo>
                      <a:pt x="0" y="38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3" y="51"/>
                    </a:lnTo>
                    <a:lnTo>
                      <a:pt x="3" y="54"/>
                    </a:lnTo>
                    <a:lnTo>
                      <a:pt x="6" y="54"/>
                    </a:lnTo>
                    <a:lnTo>
                      <a:pt x="6" y="58"/>
                    </a:lnTo>
                    <a:lnTo>
                      <a:pt x="9" y="58"/>
                    </a:lnTo>
                    <a:lnTo>
                      <a:pt x="13" y="61"/>
                    </a:lnTo>
                    <a:lnTo>
                      <a:pt x="16" y="61"/>
                    </a:lnTo>
                    <a:lnTo>
                      <a:pt x="19" y="61"/>
                    </a:lnTo>
                    <a:lnTo>
                      <a:pt x="25" y="64"/>
                    </a:lnTo>
                    <a:lnTo>
                      <a:pt x="29" y="64"/>
                    </a:lnTo>
                    <a:lnTo>
                      <a:pt x="32" y="64"/>
                    </a:lnTo>
                    <a:lnTo>
                      <a:pt x="38" y="64"/>
                    </a:lnTo>
                    <a:lnTo>
                      <a:pt x="41" y="61"/>
                    </a:lnTo>
                    <a:lnTo>
                      <a:pt x="48" y="61"/>
                    </a:lnTo>
                    <a:lnTo>
                      <a:pt x="51" y="61"/>
                    </a:lnTo>
                    <a:lnTo>
                      <a:pt x="57" y="58"/>
                    </a:lnTo>
                    <a:lnTo>
                      <a:pt x="67" y="54"/>
                    </a:lnTo>
                    <a:lnTo>
                      <a:pt x="73" y="51"/>
                    </a:lnTo>
                    <a:lnTo>
                      <a:pt x="80" y="45"/>
                    </a:lnTo>
                    <a:lnTo>
                      <a:pt x="86" y="38"/>
                    </a:lnTo>
                    <a:lnTo>
                      <a:pt x="89" y="32"/>
                    </a:lnTo>
                    <a:lnTo>
                      <a:pt x="92" y="26"/>
                    </a:lnTo>
                    <a:lnTo>
                      <a:pt x="96" y="22"/>
                    </a:lnTo>
                    <a:lnTo>
                      <a:pt x="92" y="16"/>
                    </a:lnTo>
                    <a:lnTo>
                      <a:pt x="92" y="13"/>
                    </a:lnTo>
                    <a:lnTo>
                      <a:pt x="92" y="10"/>
                    </a:lnTo>
                    <a:lnTo>
                      <a:pt x="89" y="10"/>
                    </a:lnTo>
                    <a:lnTo>
                      <a:pt x="86" y="7"/>
                    </a:lnTo>
                    <a:lnTo>
                      <a:pt x="83" y="3"/>
                    </a:lnTo>
                    <a:lnTo>
                      <a:pt x="80" y="3"/>
                    </a:lnTo>
                    <a:lnTo>
                      <a:pt x="76" y="3"/>
                    </a:lnTo>
                    <a:lnTo>
                      <a:pt x="73" y="3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7" y="3"/>
                    </a:lnTo>
                    <a:lnTo>
                      <a:pt x="51" y="3"/>
                    </a:lnTo>
                    <a:lnTo>
                      <a:pt x="48" y="3"/>
                    </a:lnTo>
                    <a:lnTo>
                      <a:pt x="41" y="3"/>
                    </a:lnTo>
                    <a:lnTo>
                      <a:pt x="38" y="7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927840" y="3202200"/>
                <a:ext cx="66960" cy="46080"/>
              </a:xfrm>
              <a:custGeom>
                <a:avLst/>
                <a:gdLst/>
                <a:ahLst/>
                <a:rect l="l" t="t" r="r" b="b"/>
                <a:pathLst>
                  <a:path w="79" h="51">
                    <a:moveTo>
                      <a:pt x="32" y="4"/>
                    </a:moveTo>
                    <a:lnTo>
                      <a:pt x="25" y="7"/>
                    </a:lnTo>
                    <a:lnTo>
                      <a:pt x="19" y="13"/>
                    </a:lnTo>
                    <a:lnTo>
                      <a:pt x="12" y="16"/>
                    </a:lnTo>
                    <a:lnTo>
                      <a:pt x="6" y="19"/>
                    </a:lnTo>
                    <a:lnTo>
                      <a:pt x="3" y="26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3" y="45"/>
                    </a:lnTo>
                    <a:lnTo>
                      <a:pt x="6" y="48"/>
                    </a:lnTo>
                    <a:lnTo>
                      <a:pt x="12" y="48"/>
                    </a:lnTo>
                    <a:lnTo>
                      <a:pt x="19" y="51"/>
                    </a:lnTo>
                    <a:lnTo>
                      <a:pt x="25" y="51"/>
                    </a:lnTo>
                    <a:lnTo>
                      <a:pt x="32" y="51"/>
                    </a:lnTo>
                    <a:lnTo>
                      <a:pt x="38" y="51"/>
                    </a:lnTo>
                    <a:lnTo>
                      <a:pt x="47" y="48"/>
                    </a:lnTo>
                    <a:lnTo>
                      <a:pt x="54" y="45"/>
                    </a:lnTo>
                    <a:lnTo>
                      <a:pt x="60" y="42"/>
                    </a:lnTo>
                    <a:lnTo>
                      <a:pt x="67" y="35"/>
                    </a:lnTo>
                    <a:lnTo>
                      <a:pt x="73" y="32"/>
                    </a:lnTo>
                    <a:lnTo>
                      <a:pt x="76" y="26"/>
                    </a:lnTo>
                    <a:lnTo>
                      <a:pt x="79" y="23"/>
                    </a:lnTo>
                    <a:lnTo>
                      <a:pt x="79" y="16"/>
                    </a:lnTo>
                    <a:lnTo>
                      <a:pt x="79" y="10"/>
                    </a:lnTo>
                    <a:lnTo>
                      <a:pt x="76" y="7"/>
                    </a:lnTo>
                    <a:lnTo>
                      <a:pt x="73" y="4"/>
                    </a:lnTo>
                    <a:lnTo>
                      <a:pt x="67" y="4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938280" y="3202200"/>
                <a:ext cx="54360" cy="37800"/>
              </a:xfrm>
              <a:custGeom>
                <a:avLst/>
                <a:gdLst/>
                <a:ahLst/>
                <a:rect l="l" t="t" r="r" b="b"/>
                <a:pathLst>
                  <a:path w="64" h="42">
                    <a:moveTo>
                      <a:pt x="26" y="4"/>
                    </a:moveTo>
                    <a:lnTo>
                      <a:pt x="20" y="7"/>
                    </a:lnTo>
                    <a:lnTo>
                      <a:pt x="16" y="10"/>
                    </a:lnTo>
                    <a:lnTo>
                      <a:pt x="10" y="13"/>
                    </a:lnTo>
                    <a:lnTo>
                      <a:pt x="7" y="19"/>
                    </a:lnTo>
                    <a:lnTo>
                      <a:pt x="4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4" y="39"/>
                    </a:lnTo>
                    <a:lnTo>
                      <a:pt x="7" y="39"/>
                    </a:lnTo>
                    <a:lnTo>
                      <a:pt x="10" y="42"/>
                    </a:lnTo>
                    <a:lnTo>
                      <a:pt x="16" y="42"/>
                    </a:lnTo>
                    <a:lnTo>
                      <a:pt x="20" y="42"/>
                    </a:lnTo>
                    <a:lnTo>
                      <a:pt x="26" y="42"/>
                    </a:lnTo>
                    <a:lnTo>
                      <a:pt x="32" y="42"/>
                    </a:lnTo>
                    <a:lnTo>
                      <a:pt x="39" y="39"/>
                    </a:lnTo>
                    <a:lnTo>
                      <a:pt x="45" y="39"/>
                    </a:lnTo>
                    <a:lnTo>
                      <a:pt x="51" y="35"/>
                    </a:lnTo>
                    <a:lnTo>
                      <a:pt x="55" y="32"/>
                    </a:lnTo>
                    <a:lnTo>
                      <a:pt x="58" y="26"/>
                    </a:lnTo>
                    <a:lnTo>
                      <a:pt x="61" y="23"/>
                    </a:lnTo>
                    <a:lnTo>
                      <a:pt x="64" y="19"/>
                    </a:lnTo>
                    <a:lnTo>
                      <a:pt x="64" y="16"/>
                    </a:lnTo>
                    <a:lnTo>
                      <a:pt x="64" y="10"/>
                    </a:lnTo>
                    <a:lnTo>
                      <a:pt x="61" y="7"/>
                    </a:lnTo>
                    <a:lnTo>
                      <a:pt x="58" y="4"/>
                    </a:lnTo>
                    <a:lnTo>
                      <a:pt x="55" y="4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2" y="4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99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949080" y="3205440"/>
                <a:ext cx="40680" cy="2772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19" y="3"/>
                    </a:moveTo>
                    <a:lnTo>
                      <a:pt x="16" y="6"/>
                    </a:lnTo>
                    <a:lnTo>
                      <a:pt x="10" y="6"/>
                    </a:lnTo>
                    <a:lnTo>
                      <a:pt x="7" y="9"/>
                    </a:lnTo>
                    <a:lnTo>
                      <a:pt x="3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28"/>
                    </a:lnTo>
                    <a:lnTo>
                      <a:pt x="7" y="31"/>
                    </a:lnTo>
                    <a:lnTo>
                      <a:pt x="10" y="31"/>
                    </a:lnTo>
                    <a:lnTo>
                      <a:pt x="13" y="31"/>
                    </a:lnTo>
                    <a:lnTo>
                      <a:pt x="19" y="31"/>
                    </a:lnTo>
                    <a:lnTo>
                      <a:pt x="22" y="31"/>
                    </a:lnTo>
                    <a:lnTo>
                      <a:pt x="29" y="28"/>
                    </a:lnTo>
                    <a:lnTo>
                      <a:pt x="32" y="28"/>
                    </a:lnTo>
                    <a:lnTo>
                      <a:pt x="38" y="25"/>
                    </a:lnTo>
                    <a:lnTo>
                      <a:pt x="42" y="22"/>
                    </a:lnTo>
                    <a:lnTo>
                      <a:pt x="45" y="19"/>
                    </a:lnTo>
                    <a:lnTo>
                      <a:pt x="48" y="15"/>
                    </a:lnTo>
                    <a:lnTo>
                      <a:pt x="48" y="12"/>
                    </a:lnTo>
                    <a:lnTo>
                      <a:pt x="48" y="9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5" y="3"/>
                    </a:lnTo>
                    <a:lnTo>
                      <a:pt x="42" y="3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6" y="3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834960" y="3130560"/>
                <a:ext cx="157680" cy="100080"/>
              </a:xfrm>
              <a:custGeom>
                <a:avLst/>
                <a:gdLst/>
                <a:ahLst/>
                <a:rect l="l" t="t" r="r" b="b"/>
                <a:pathLst>
                  <a:path w="185" h="111">
                    <a:moveTo>
                      <a:pt x="182" y="76"/>
                    </a:moveTo>
                    <a:lnTo>
                      <a:pt x="185" y="79"/>
                    </a:lnTo>
                    <a:lnTo>
                      <a:pt x="185" y="83"/>
                    </a:lnTo>
                    <a:lnTo>
                      <a:pt x="182" y="86"/>
                    </a:lnTo>
                    <a:lnTo>
                      <a:pt x="182" y="89"/>
                    </a:lnTo>
                    <a:lnTo>
                      <a:pt x="179" y="95"/>
                    </a:lnTo>
                    <a:lnTo>
                      <a:pt x="176" y="98"/>
                    </a:lnTo>
                    <a:lnTo>
                      <a:pt x="172" y="102"/>
                    </a:lnTo>
                    <a:lnTo>
                      <a:pt x="169" y="105"/>
                    </a:lnTo>
                    <a:lnTo>
                      <a:pt x="163" y="108"/>
                    </a:lnTo>
                    <a:lnTo>
                      <a:pt x="160" y="108"/>
                    </a:lnTo>
                    <a:lnTo>
                      <a:pt x="153" y="111"/>
                    </a:lnTo>
                    <a:lnTo>
                      <a:pt x="150" y="111"/>
                    </a:lnTo>
                    <a:lnTo>
                      <a:pt x="147" y="111"/>
                    </a:lnTo>
                    <a:lnTo>
                      <a:pt x="144" y="111"/>
                    </a:lnTo>
                    <a:lnTo>
                      <a:pt x="141" y="108"/>
                    </a:lnTo>
                    <a:lnTo>
                      <a:pt x="137" y="105"/>
                    </a:lnTo>
                    <a:lnTo>
                      <a:pt x="128" y="86"/>
                    </a:lnTo>
                    <a:lnTo>
                      <a:pt x="125" y="83"/>
                    </a:lnTo>
                    <a:lnTo>
                      <a:pt x="121" y="79"/>
                    </a:lnTo>
                    <a:lnTo>
                      <a:pt x="118" y="79"/>
                    </a:lnTo>
                    <a:lnTo>
                      <a:pt x="118" y="79"/>
                    </a:lnTo>
                    <a:lnTo>
                      <a:pt x="112" y="79"/>
                    </a:lnTo>
                    <a:lnTo>
                      <a:pt x="105" y="79"/>
                    </a:lnTo>
                    <a:lnTo>
                      <a:pt x="102" y="79"/>
                    </a:lnTo>
                    <a:lnTo>
                      <a:pt x="96" y="79"/>
                    </a:lnTo>
                    <a:lnTo>
                      <a:pt x="90" y="79"/>
                    </a:lnTo>
                    <a:lnTo>
                      <a:pt x="86" y="79"/>
                    </a:lnTo>
                    <a:lnTo>
                      <a:pt x="80" y="79"/>
                    </a:lnTo>
                    <a:lnTo>
                      <a:pt x="74" y="79"/>
                    </a:lnTo>
                    <a:lnTo>
                      <a:pt x="70" y="79"/>
                    </a:lnTo>
                    <a:lnTo>
                      <a:pt x="64" y="79"/>
                    </a:lnTo>
                    <a:lnTo>
                      <a:pt x="58" y="79"/>
                    </a:lnTo>
                    <a:lnTo>
                      <a:pt x="54" y="79"/>
                    </a:lnTo>
                    <a:lnTo>
                      <a:pt x="48" y="79"/>
                    </a:lnTo>
                    <a:lnTo>
                      <a:pt x="42" y="79"/>
                    </a:lnTo>
                    <a:lnTo>
                      <a:pt x="39" y="76"/>
                    </a:lnTo>
                    <a:lnTo>
                      <a:pt x="32" y="76"/>
                    </a:lnTo>
                    <a:lnTo>
                      <a:pt x="29" y="76"/>
                    </a:lnTo>
                    <a:lnTo>
                      <a:pt x="29" y="76"/>
                    </a:lnTo>
                    <a:lnTo>
                      <a:pt x="26" y="76"/>
                    </a:lnTo>
                    <a:lnTo>
                      <a:pt x="23" y="76"/>
                    </a:lnTo>
                    <a:lnTo>
                      <a:pt x="19" y="76"/>
                    </a:lnTo>
                    <a:lnTo>
                      <a:pt x="19" y="73"/>
                    </a:lnTo>
                    <a:lnTo>
                      <a:pt x="16" y="73"/>
                    </a:lnTo>
                    <a:lnTo>
                      <a:pt x="13" y="73"/>
                    </a:lnTo>
                    <a:lnTo>
                      <a:pt x="13" y="70"/>
                    </a:lnTo>
                    <a:lnTo>
                      <a:pt x="10" y="67"/>
                    </a:lnTo>
                    <a:lnTo>
                      <a:pt x="7" y="67"/>
                    </a:lnTo>
                    <a:lnTo>
                      <a:pt x="7" y="63"/>
                    </a:lnTo>
                    <a:lnTo>
                      <a:pt x="3" y="63"/>
                    </a:lnTo>
                    <a:lnTo>
                      <a:pt x="3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47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0" y="22"/>
                    </a:lnTo>
                    <a:lnTo>
                      <a:pt x="3" y="22"/>
                    </a:lnTo>
                    <a:lnTo>
                      <a:pt x="3" y="19"/>
                    </a:lnTo>
                    <a:lnTo>
                      <a:pt x="7" y="16"/>
                    </a:lnTo>
                    <a:lnTo>
                      <a:pt x="10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6" y="12"/>
                    </a:lnTo>
                    <a:lnTo>
                      <a:pt x="19" y="12"/>
                    </a:lnTo>
                    <a:lnTo>
                      <a:pt x="23" y="9"/>
                    </a:lnTo>
                    <a:lnTo>
                      <a:pt x="26" y="9"/>
                    </a:lnTo>
                    <a:lnTo>
                      <a:pt x="29" y="6"/>
                    </a:lnTo>
                    <a:lnTo>
                      <a:pt x="32" y="6"/>
                    </a:lnTo>
                    <a:lnTo>
                      <a:pt x="35" y="6"/>
                    </a:lnTo>
                    <a:lnTo>
                      <a:pt x="39" y="6"/>
                    </a:lnTo>
                    <a:lnTo>
                      <a:pt x="42" y="6"/>
                    </a:lnTo>
                    <a:lnTo>
                      <a:pt x="45" y="6"/>
                    </a:lnTo>
                    <a:lnTo>
                      <a:pt x="51" y="3"/>
                    </a:lnTo>
                    <a:lnTo>
                      <a:pt x="54" y="3"/>
                    </a:lnTo>
                    <a:lnTo>
                      <a:pt x="58" y="3"/>
                    </a:lnTo>
                    <a:lnTo>
                      <a:pt x="64" y="3"/>
                    </a:lnTo>
                    <a:lnTo>
                      <a:pt x="67" y="3"/>
                    </a:lnTo>
                    <a:lnTo>
                      <a:pt x="70" y="3"/>
                    </a:lnTo>
                    <a:lnTo>
                      <a:pt x="77" y="3"/>
                    </a:lnTo>
                    <a:lnTo>
                      <a:pt x="80" y="3"/>
                    </a:lnTo>
                    <a:lnTo>
                      <a:pt x="86" y="3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2" y="0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5" y="0"/>
                    </a:lnTo>
                    <a:lnTo>
                      <a:pt x="131" y="0"/>
                    </a:lnTo>
                    <a:lnTo>
                      <a:pt x="134" y="0"/>
                    </a:lnTo>
                    <a:lnTo>
                      <a:pt x="141" y="0"/>
                    </a:lnTo>
                    <a:lnTo>
                      <a:pt x="144" y="0"/>
                    </a:lnTo>
                    <a:lnTo>
                      <a:pt x="150" y="3"/>
                    </a:lnTo>
                    <a:lnTo>
                      <a:pt x="153" y="3"/>
                    </a:lnTo>
                    <a:lnTo>
                      <a:pt x="153" y="3"/>
                    </a:lnTo>
                    <a:lnTo>
                      <a:pt x="156" y="6"/>
                    </a:lnTo>
                    <a:lnTo>
                      <a:pt x="160" y="6"/>
                    </a:lnTo>
                    <a:lnTo>
                      <a:pt x="160" y="6"/>
                    </a:lnTo>
                    <a:lnTo>
                      <a:pt x="160" y="9"/>
                    </a:lnTo>
                    <a:lnTo>
                      <a:pt x="163" y="12"/>
                    </a:lnTo>
                    <a:lnTo>
                      <a:pt x="163" y="12"/>
                    </a:lnTo>
                    <a:lnTo>
                      <a:pt x="163" y="16"/>
                    </a:lnTo>
                    <a:lnTo>
                      <a:pt x="166" y="25"/>
                    </a:lnTo>
                    <a:lnTo>
                      <a:pt x="163" y="35"/>
                    </a:lnTo>
                    <a:lnTo>
                      <a:pt x="163" y="44"/>
                    </a:lnTo>
                    <a:lnTo>
                      <a:pt x="163" y="57"/>
                    </a:lnTo>
                    <a:lnTo>
                      <a:pt x="182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859800" y="3130560"/>
                <a:ext cx="121680" cy="83160"/>
              </a:xfrm>
              <a:custGeom>
                <a:avLst/>
                <a:gdLst/>
                <a:ahLst/>
                <a:rect l="l" t="t" r="r" b="b"/>
                <a:pathLst>
                  <a:path w="143" h="92">
                    <a:moveTo>
                      <a:pt x="140" y="63"/>
                    </a:moveTo>
                    <a:lnTo>
                      <a:pt x="143" y="70"/>
                    </a:lnTo>
                    <a:lnTo>
                      <a:pt x="140" y="76"/>
                    </a:lnTo>
                    <a:lnTo>
                      <a:pt x="137" y="79"/>
                    </a:lnTo>
                    <a:lnTo>
                      <a:pt x="131" y="86"/>
                    </a:lnTo>
                    <a:lnTo>
                      <a:pt x="121" y="89"/>
                    </a:lnTo>
                    <a:lnTo>
                      <a:pt x="115" y="92"/>
                    </a:lnTo>
                    <a:lnTo>
                      <a:pt x="108" y="92"/>
                    </a:lnTo>
                    <a:lnTo>
                      <a:pt x="105" y="89"/>
                    </a:lnTo>
                    <a:lnTo>
                      <a:pt x="102" y="79"/>
                    </a:lnTo>
                    <a:lnTo>
                      <a:pt x="102" y="76"/>
                    </a:lnTo>
                    <a:lnTo>
                      <a:pt x="102" y="76"/>
                    </a:lnTo>
                    <a:lnTo>
                      <a:pt x="99" y="76"/>
                    </a:lnTo>
                    <a:lnTo>
                      <a:pt x="99" y="73"/>
                    </a:lnTo>
                    <a:lnTo>
                      <a:pt x="96" y="73"/>
                    </a:lnTo>
                    <a:lnTo>
                      <a:pt x="96" y="73"/>
                    </a:lnTo>
                    <a:lnTo>
                      <a:pt x="92" y="73"/>
                    </a:lnTo>
                    <a:lnTo>
                      <a:pt x="92" y="73"/>
                    </a:lnTo>
                    <a:lnTo>
                      <a:pt x="86" y="73"/>
                    </a:lnTo>
                    <a:lnTo>
                      <a:pt x="83" y="73"/>
                    </a:lnTo>
                    <a:lnTo>
                      <a:pt x="76" y="73"/>
                    </a:lnTo>
                    <a:lnTo>
                      <a:pt x="73" y="73"/>
                    </a:lnTo>
                    <a:lnTo>
                      <a:pt x="70" y="73"/>
                    </a:lnTo>
                    <a:lnTo>
                      <a:pt x="67" y="73"/>
                    </a:lnTo>
                    <a:lnTo>
                      <a:pt x="61" y="73"/>
                    </a:lnTo>
                    <a:lnTo>
                      <a:pt x="57" y="73"/>
                    </a:lnTo>
                    <a:lnTo>
                      <a:pt x="54" y="73"/>
                    </a:lnTo>
                    <a:lnTo>
                      <a:pt x="51" y="73"/>
                    </a:lnTo>
                    <a:lnTo>
                      <a:pt x="48" y="73"/>
                    </a:lnTo>
                    <a:lnTo>
                      <a:pt x="41" y="73"/>
                    </a:lnTo>
                    <a:lnTo>
                      <a:pt x="38" y="73"/>
                    </a:lnTo>
                    <a:lnTo>
                      <a:pt x="35" y="73"/>
                    </a:lnTo>
                    <a:lnTo>
                      <a:pt x="29" y="73"/>
                    </a:lnTo>
                    <a:lnTo>
                      <a:pt x="25" y="73"/>
                    </a:lnTo>
                    <a:lnTo>
                      <a:pt x="22" y="73"/>
                    </a:lnTo>
                    <a:lnTo>
                      <a:pt x="19" y="70"/>
                    </a:lnTo>
                    <a:lnTo>
                      <a:pt x="16" y="70"/>
                    </a:lnTo>
                    <a:lnTo>
                      <a:pt x="13" y="70"/>
                    </a:lnTo>
                    <a:lnTo>
                      <a:pt x="10" y="67"/>
                    </a:lnTo>
                    <a:lnTo>
                      <a:pt x="6" y="67"/>
                    </a:lnTo>
                    <a:lnTo>
                      <a:pt x="6" y="63"/>
                    </a:lnTo>
                    <a:lnTo>
                      <a:pt x="3" y="60"/>
                    </a:lnTo>
                    <a:lnTo>
                      <a:pt x="3" y="57"/>
                    </a:lnTo>
                    <a:lnTo>
                      <a:pt x="0" y="54"/>
                    </a:lnTo>
                    <a:lnTo>
                      <a:pt x="0" y="47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25" y="6"/>
                    </a:lnTo>
                    <a:lnTo>
                      <a:pt x="32" y="3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8" y="3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64" y="3"/>
                    </a:lnTo>
                    <a:lnTo>
                      <a:pt x="70" y="0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96" y="0"/>
                    </a:lnTo>
                    <a:lnTo>
                      <a:pt x="99" y="0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8" y="0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5" y="0"/>
                    </a:lnTo>
                    <a:lnTo>
                      <a:pt x="118" y="3"/>
                    </a:lnTo>
                    <a:lnTo>
                      <a:pt x="121" y="3"/>
                    </a:lnTo>
                    <a:lnTo>
                      <a:pt x="124" y="3"/>
                    </a:lnTo>
                    <a:lnTo>
                      <a:pt x="124" y="6"/>
                    </a:lnTo>
                    <a:lnTo>
                      <a:pt x="127" y="6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31" y="12"/>
                    </a:lnTo>
                    <a:lnTo>
                      <a:pt x="131" y="12"/>
                    </a:lnTo>
                    <a:lnTo>
                      <a:pt x="131" y="25"/>
                    </a:lnTo>
                    <a:lnTo>
                      <a:pt x="131" y="35"/>
                    </a:lnTo>
                    <a:lnTo>
                      <a:pt x="131" y="44"/>
                    </a:lnTo>
                    <a:lnTo>
                      <a:pt x="131" y="54"/>
                    </a:lnTo>
                    <a:lnTo>
                      <a:pt x="140" y="63"/>
                    </a:lnTo>
                    <a:close/>
                  </a:path>
                </a:pathLst>
              </a:custGeom>
              <a:solidFill>
                <a:srgbClr val="e0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859800" y="3141360"/>
                <a:ext cx="108000" cy="69480"/>
              </a:xfrm>
              <a:custGeom>
                <a:avLst/>
                <a:gdLst/>
                <a:ahLst/>
                <a:rect l="l" t="t" r="r" b="b"/>
                <a:pathLst>
                  <a:path w="127" h="77">
                    <a:moveTo>
                      <a:pt x="127" y="74"/>
                    </a:moveTo>
                    <a:lnTo>
                      <a:pt x="124" y="77"/>
                    </a:lnTo>
                    <a:lnTo>
                      <a:pt x="121" y="77"/>
                    </a:lnTo>
                    <a:lnTo>
                      <a:pt x="118" y="77"/>
                    </a:lnTo>
                    <a:lnTo>
                      <a:pt x="115" y="77"/>
                    </a:lnTo>
                    <a:lnTo>
                      <a:pt x="112" y="77"/>
                    </a:lnTo>
                    <a:lnTo>
                      <a:pt x="108" y="77"/>
                    </a:lnTo>
                    <a:lnTo>
                      <a:pt x="108" y="77"/>
                    </a:lnTo>
                    <a:lnTo>
                      <a:pt x="105" y="77"/>
                    </a:lnTo>
                    <a:lnTo>
                      <a:pt x="102" y="67"/>
                    </a:lnTo>
                    <a:lnTo>
                      <a:pt x="102" y="64"/>
                    </a:lnTo>
                    <a:lnTo>
                      <a:pt x="102" y="64"/>
                    </a:lnTo>
                    <a:lnTo>
                      <a:pt x="99" y="64"/>
                    </a:lnTo>
                    <a:lnTo>
                      <a:pt x="99" y="61"/>
                    </a:lnTo>
                    <a:lnTo>
                      <a:pt x="96" y="61"/>
                    </a:lnTo>
                    <a:lnTo>
                      <a:pt x="96" y="61"/>
                    </a:lnTo>
                    <a:lnTo>
                      <a:pt x="92" y="61"/>
                    </a:lnTo>
                    <a:lnTo>
                      <a:pt x="92" y="61"/>
                    </a:lnTo>
                    <a:lnTo>
                      <a:pt x="86" y="61"/>
                    </a:lnTo>
                    <a:lnTo>
                      <a:pt x="83" y="61"/>
                    </a:lnTo>
                    <a:lnTo>
                      <a:pt x="76" y="61"/>
                    </a:lnTo>
                    <a:lnTo>
                      <a:pt x="73" y="61"/>
                    </a:lnTo>
                    <a:lnTo>
                      <a:pt x="70" y="61"/>
                    </a:lnTo>
                    <a:lnTo>
                      <a:pt x="67" y="61"/>
                    </a:lnTo>
                    <a:lnTo>
                      <a:pt x="61" y="61"/>
                    </a:lnTo>
                    <a:lnTo>
                      <a:pt x="57" y="61"/>
                    </a:lnTo>
                    <a:lnTo>
                      <a:pt x="54" y="61"/>
                    </a:lnTo>
                    <a:lnTo>
                      <a:pt x="51" y="61"/>
                    </a:lnTo>
                    <a:lnTo>
                      <a:pt x="48" y="61"/>
                    </a:lnTo>
                    <a:lnTo>
                      <a:pt x="41" y="61"/>
                    </a:lnTo>
                    <a:lnTo>
                      <a:pt x="38" y="61"/>
                    </a:lnTo>
                    <a:lnTo>
                      <a:pt x="35" y="61"/>
                    </a:lnTo>
                    <a:lnTo>
                      <a:pt x="29" y="61"/>
                    </a:lnTo>
                    <a:lnTo>
                      <a:pt x="25" y="61"/>
                    </a:lnTo>
                    <a:lnTo>
                      <a:pt x="22" y="61"/>
                    </a:lnTo>
                    <a:lnTo>
                      <a:pt x="19" y="58"/>
                    </a:lnTo>
                    <a:lnTo>
                      <a:pt x="16" y="58"/>
                    </a:lnTo>
                    <a:lnTo>
                      <a:pt x="13" y="58"/>
                    </a:lnTo>
                    <a:lnTo>
                      <a:pt x="10" y="55"/>
                    </a:lnTo>
                    <a:lnTo>
                      <a:pt x="6" y="55"/>
                    </a:lnTo>
                    <a:lnTo>
                      <a:pt x="6" y="51"/>
                    </a:lnTo>
                    <a:lnTo>
                      <a:pt x="3" y="48"/>
                    </a:lnTo>
                    <a:lnTo>
                      <a:pt x="3" y="45"/>
                    </a:lnTo>
                    <a:lnTo>
                      <a:pt x="0" y="42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10" y="7"/>
                    </a:lnTo>
                    <a:lnTo>
                      <a:pt x="13" y="13"/>
                    </a:lnTo>
                    <a:lnTo>
                      <a:pt x="16" y="16"/>
                    </a:lnTo>
                    <a:lnTo>
                      <a:pt x="19" y="19"/>
                    </a:lnTo>
                    <a:lnTo>
                      <a:pt x="22" y="23"/>
                    </a:lnTo>
                    <a:lnTo>
                      <a:pt x="25" y="23"/>
                    </a:lnTo>
                    <a:lnTo>
                      <a:pt x="32" y="26"/>
                    </a:lnTo>
                    <a:lnTo>
                      <a:pt x="35" y="29"/>
                    </a:lnTo>
                    <a:lnTo>
                      <a:pt x="41" y="29"/>
                    </a:lnTo>
                    <a:lnTo>
                      <a:pt x="48" y="32"/>
                    </a:lnTo>
                    <a:lnTo>
                      <a:pt x="54" y="32"/>
                    </a:lnTo>
                    <a:lnTo>
                      <a:pt x="61" y="35"/>
                    </a:lnTo>
                    <a:lnTo>
                      <a:pt x="70" y="35"/>
                    </a:lnTo>
                    <a:lnTo>
                      <a:pt x="73" y="35"/>
                    </a:lnTo>
                    <a:lnTo>
                      <a:pt x="80" y="39"/>
                    </a:lnTo>
                    <a:lnTo>
                      <a:pt x="83" y="35"/>
                    </a:lnTo>
                    <a:lnTo>
                      <a:pt x="89" y="35"/>
                    </a:lnTo>
                    <a:lnTo>
                      <a:pt x="92" y="35"/>
                    </a:lnTo>
                    <a:lnTo>
                      <a:pt x="99" y="35"/>
                    </a:lnTo>
                    <a:lnTo>
                      <a:pt x="102" y="35"/>
                    </a:lnTo>
                    <a:lnTo>
                      <a:pt x="108" y="35"/>
                    </a:lnTo>
                    <a:lnTo>
                      <a:pt x="108" y="35"/>
                    </a:lnTo>
                    <a:lnTo>
                      <a:pt x="112" y="35"/>
                    </a:lnTo>
                    <a:lnTo>
                      <a:pt x="115" y="35"/>
                    </a:lnTo>
                    <a:lnTo>
                      <a:pt x="118" y="32"/>
                    </a:lnTo>
                    <a:lnTo>
                      <a:pt x="121" y="32"/>
                    </a:lnTo>
                    <a:lnTo>
                      <a:pt x="124" y="32"/>
                    </a:lnTo>
                    <a:lnTo>
                      <a:pt x="124" y="32"/>
                    </a:lnTo>
                    <a:lnTo>
                      <a:pt x="124" y="35"/>
                    </a:lnTo>
                    <a:lnTo>
                      <a:pt x="121" y="39"/>
                    </a:lnTo>
                    <a:lnTo>
                      <a:pt x="115" y="42"/>
                    </a:lnTo>
                    <a:lnTo>
                      <a:pt x="115" y="42"/>
                    </a:lnTo>
                    <a:lnTo>
                      <a:pt x="112" y="45"/>
                    </a:lnTo>
                    <a:lnTo>
                      <a:pt x="112" y="45"/>
                    </a:lnTo>
                    <a:lnTo>
                      <a:pt x="112" y="48"/>
                    </a:lnTo>
                    <a:lnTo>
                      <a:pt x="112" y="51"/>
                    </a:lnTo>
                    <a:lnTo>
                      <a:pt x="112" y="58"/>
                    </a:lnTo>
                    <a:lnTo>
                      <a:pt x="127" y="74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607000" y="3603240"/>
                <a:ext cx="836640" cy="146160"/>
              </a:xfrm>
              <a:custGeom>
                <a:avLst/>
                <a:gdLst/>
                <a:ahLst/>
                <a:rect l="l" t="t" r="r" b="b"/>
                <a:pathLst>
                  <a:path w="982" h="162">
                    <a:moveTo>
                      <a:pt x="816" y="19"/>
                    </a:moveTo>
                    <a:lnTo>
                      <a:pt x="794" y="19"/>
                    </a:lnTo>
                    <a:lnTo>
                      <a:pt x="772" y="19"/>
                    </a:lnTo>
                    <a:lnTo>
                      <a:pt x="746" y="19"/>
                    </a:lnTo>
                    <a:lnTo>
                      <a:pt x="721" y="19"/>
                    </a:lnTo>
                    <a:lnTo>
                      <a:pt x="692" y="19"/>
                    </a:lnTo>
                    <a:lnTo>
                      <a:pt x="663" y="22"/>
                    </a:lnTo>
                    <a:lnTo>
                      <a:pt x="632" y="22"/>
                    </a:lnTo>
                    <a:lnTo>
                      <a:pt x="600" y="22"/>
                    </a:lnTo>
                    <a:lnTo>
                      <a:pt x="568" y="25"/>
                    </a:lnTo>
                    <a:lnTo>
                      <a:pt x="536" y="25"/>
                    </a:lnTo>
                    <a:lnTo>
                      <a:pt x="501" y="25"/>
                    </a:lnTo>
                    <a:lnTo>
                      <a:pt x="466" y="28"/>
                    </a:lnTo>
                    <a:lnTo>
                      <a:pt x="431" y="31"/>
                    </a:lnTo>
                    <a:lnTo>
                      <a:pt x="399" y="31"/>
                    </a:lnTo>
                    <a:lnTo>
                      <a:pt x="364" y="35"/>
                    </a:lnTo>
                    <a:lnTo>
                      <a:pt x="329" y="35"/>
                    </a:lnTo>
                    <a:lnTo>
                      <a:pt x="297" y="38"/>
                    </a:lnTo>
                    <a:lnTo>
                      <a:pt x="265" y="41"/>
                    </a:lnTo>
                    <a:lnTo>
                      <a:pt x="233" y="44"/>
                    </a:lnTo>
                    <a:lnTo>
                      <a:pt x="204" y="47"/>
                    </a:lnTo>
                    <a:lnTo>
                      <a:pt x="176" y="51"/>
                    </a:lnTo>
                    <a:lnTo>
                      <a:pt x="147" y="54"/>
                    </a:lnTo>
                    <a:lnTo>
                      <a:pt x="121" y="57"/>
                    </a:lnTo>
                    <a:lnTo>
                      <a:pt x="99" y="60"/>
                    </a:lnTo>
                    <a:lnTo>
                      <a:pt x="77" y="63"/>
                    </a:lnTo>
                    <a:lnTo>
                      <a:pt x="58" y="67"/>
                    </a:lnTo>
                    <a:lnTo>
                      <a:pt x="39" y="70"/>
                    </a:lnTo>
                    <a:lnTo>
                      <a:pt x="26" y="73"/>
                    </a:lnTo>
                    <a:lnTo>
                      <a:pt x="13" y="79"/>
                    </a:lnTo>
                    <a:lnTo>
                      <a:pt x="7" y="83"/>
                    </a:lnTo>
                    <a:lnTo>
                      <a:pt x="0" y="86"/>
                    </a:lnTo>
                    <a:lnTo>
                      <a:pt x="0" y="92"/>
                    </a:lnTo>
                    <a:lnTo>
                      <a:pt x="0" y="95"/>
                    </a:lnTo>
                    <a:lnTo>
                      <a:pt x="0" y="102"/>
                    </a:lnTo>
                    <a:lnTo>
                      <a:pt x="0" y="108"/>
                    </a:lnTo>
                    <a:lnTo>
                      <a:pt x="4" y="111"/>
                    </a:lnTo>
                    <a:lnTo>
                      <a:pt x="4" y="118"/>
                    </a:lnTo>
                    <a:lnTo>
                      <a:pt x="7" y="121"/>
                    </a:lnTo>
                    <a:lnTo>
                      <a:pt x="10" y="124"/>
                    </a:lnTo>
                    <a:lnTo>
                      <a:pt x="16" y="130"/>
                    </a:lnTo>
                    <a:lnTo>
                      <a:pt x="19" y="134"/>
                    </a:lnTo>
                    <a:lnTo>
                      <a:pt x="26" y="140"/>
                    </a:lnTo>
                    <a:lnTo>
                      <a:pt x="32" y="143"/>
                    </a:lnTo>
                    <a:lnTo>
                      <a:pt x="39" y="146"/>
                    </a:lnTo>
                    <a:lnTo>
                      <a:pt x="48" y="149"/>
                    </a:lnTo>
                    <a:lnTo>
                      <a:pt x="58" y="153"/>
                    </a:lnTo>
                    <a:lnTo>
                      <a:pt x="70" y="156"/>
                    </a:lnTo>
                    <a:lnTo>
                      <a:pt x="80" y="159"/>
                    </a:lnTo>
                    <a:lnTo>
                      <a:pt x="93" y="159"/>
                    </a:lnTo>
                    <a:lnTo>
                      <a:pt x="109" y="162"/>
                    </a:lnTo>
                    <a:lnTo>
                      <a:pt x="125" y="162"/>
                    </a:lnTo>
                    <a:lnTo>
                      <a:pt x="141" y="162"/>
                    </a:lnTo>
                    <a:lnTo>
                      <a:pt x="160" y="162"/>
                    </a:lnTo>
                    <a:lnTo>
                      <a:pt x="182" y="162"/>
                    </a:lnTo>
                    <a:lnTo>
                      <a:pt x="201" y="162"/>
                    </a:lnTo>
                    <a:lnTo>
                      <a:pt x="227" y="162"/>
                    </a:lnTo>
                    <a:lnTo>
                      <a:pt x="252" y="159"/>
                    </a:lnTo>
                    <a:lnTo>
                      <a:pt x="278" y="156"/>
                    </a:lnTo>
                    <a:lnTo>
                      <a:pt x="306" y="153"/>
                    </a:lnTo>
                    <a:lnTo>
                      <a:pt x="335" y="146"/>
                    </a:lnTo>
                    <a:lnTo>
                      <a:pt x="367" y="143"/>
                    </a:lnTo>
                    <a:lnTo>
                      <a:pt x="402" y="137"/>
                    </a:lnTo>
                    <a:lnTo>
                      <a:pt x="437" y="130"/>
                    </a:lnTo>
                    <a:lnTo>
                      <a:pt x="475" y="124"/>
                    </a:lnTo>
                    <a:lnTo>
                      <a:pt x="514" y="114"/>
                    </a:lnTo>
                    <a:lnTo>
                      <a:pt x="552" y="108"/>
                    </a:lnTo>
                    <a:lnTo>
                      <a:pt x="584" y="102"/>
                    </a:lnTo>
                    <a:lnTo>
                      <a:pt x="619" y="95"/>
                    </a:lnTo>
                    <a:lnTo>
                      <a:pt x="647" y="92"/>
                    </a:lnTo>
                    <a:lnTo>
                      <a:pt x="676" y="86"/>
                    </a:lnTo>
                    <a:lnTo>
                      <a:pt x="705" y="83"/>
                    </a:lnTo>
                    <a:lnTo>
                      <a:pt x="730" y="79"/>
                    </a:lnTo>
                    <a:lnTo>
                      <a:pt x="756" y="76"/>
                    </a:lnTo>
                    <a:lnTo>
                      <a:pt x="778" y="73"/>
                    </a:lnTo>
                    <a:lnTo>
                      <a:pt x="797" y="70"/>
                    </a:lnTo>
                    <a:lnTo>
                      <a:pt x="820" y="67"/>
                    </a:lnTo>
                    <a:lnTo>
                      <a:pt x="836" y="67"/>
                    </a:lnTo>
                    <a:lnTo>
                      <a:pt x="855" y="63"/>
                    </a:lnTo>
                    <a:lnTo>
                      <a:pt x="867" y="63"/>
                    </a:lnTo>
                    <a:lnTo>
                      <a:pt x="883" y="60"/>
                    </a:lnTo>
                    <a:lnTo>
                      <a:pt x="896" y="60"/>
                    </a:lnTo>
                    <a:lnTo>
                      <a:pt x="909" y="60"/>
                    </a:lnTo>
                    <a:lnTo>
                      <a:pt x="918" y="57"/>
                    </a:lnTo>
                    <a:lnTo>
                      <a:pt x="928" y="57"/>
                    </a:lnTo>
                    <a:lnTo>
                      <a:pt x="938" y="54"/>
                    </a:lnTo>
                    <a:lnTo>
                      <a:pt x="944" y="54"/>
                    </a:lnTo>
                    <a:lnTo>
                      <a:pt x="950" y="51"/>
                    </a:lnTo>
                    <a:lnTo>
                      <a:pt x="957" y="51"/>
                    </a:lnTo>
                    <a:lnTo>
                      <a:pt x="963" y="47"/>
                    </a:lnTo>
                    <a:lnTo>
                      <a:pt x="966" y="47"/>
                    </a:lnTo>
                    <a:lnTo>
                      <a:pt x="969" y="44"/>
                    </a:lnTo>
                    <a:lnTo>
                      <a:pt x="973" y="41"/>
                    </a:lnTo>
                    <a:lnTo>
                      <a:pt x="976" y="38"/>
                    </a:lnTo>
                    <a:lnTo>
                      <a:pt x="976" y="35"/>
                    </a:lnTo>
                    <a:lnTo>
                      <a:pt x="976" y="31"/>
                    </a:lnTo>
                    <a:lnTo>
                      <a:pt x="976" y="25"/>
                    </a:lnTo>
                    <a:lnTo>
                      <a:pt x="976" y="19"/>
                    </a:lnTo>
                    <a:lnTo>
                      <a:pt x="979" y="9"/>
                    </a:lnTo>
                    <a:lnTo>
                      <a:pt x="979" y="6"/>
                    </a:lnTo>
                    <a:lnTo>
                      <a:pt x="979" y="3"/>
                    </a:lnTo>
                    <a:lnTo>
                      <a:pt x="982" y="3"/>
                    </a:lnTo>
                    <a:lnTo>
                      <a:pt x="979" y="0"/>
                    </a:lnTo>
                    <a:lnTo>
                      <a:pt x="979" y="3"/>
                    </a:lnTo>
                    <a:lnTo>
                      <a:pt x="973" y="3"/>
                    </a:lnTo>
                    <a:lnTo>
                      <a:pt x="966" y="6"/>
                    </a:lnTo>
                    <a:lnTo>
                      <a:pt x="957" y="6"/>
                    </a:lnTo>
                    <a:lnTo>
                      <a:pt x="944" y="9"/>
                    </a:lnTo>
                    <a:lnTo>
                      <a:pt x="928" y="12"/>
                    </a:lnTo>
                    <a:lnTo>
                      <a:pt x="906" y="16"/>
                    </a:lnTo>
                    <a:lnTo>
                      <a:pt x="880" y="16"/>
                    </a:lnTo>
                    <a:lnTo>
                      <a:pt x="851" y="19"/>
                    </a:lnTo>
                    <a:lnTo>
                      <a:pt x="81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006600" y="3046680"/>
                <a:ext cx="68040" cy="432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64" y="3"/>
                    </a:moveTo>
                    <a:lnTo>
                      <a:pt x="22" y="6"/>
                    </a:lnTo>
                    <a:lnTo>
                      <a:pt x="22" y="6"/>
                    </a:lnTo>
                    <a:lnTo>
                      <a:pt x="19" y="6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6" y="3"/>
                    </a:lnTo>
                    <a:lnTo>
                      <a:pt x="6" y="6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3" y="35"/>
                    </a:lnTo>
                    <a:lnTo>
                      <a:pt x="3" y="38"/>
                    </a:lnTo>
                    <a:lnTo>
                      <a:pt x="6" y="42"/>
                    </a:lnTo>
                    <a:lnTo>
                      <a:pt x="10" y="45"/>
                    </a:lnTo>
                    <a:lnTo>
                      <a:pt x="13" y="45"/>
                    </a:lnTo>
                    <a:lnTo>
                      <a:pt x="16" y="48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9" y="42"/>
                    </a:lnTo>
                    <a:lnTo>
                      <a:pt x="29" y="38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70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6" y="22"/>
                    </a:lnTo>
                    <a:lnTo>
                      <a:pt x="80" y="19"/>
                    </a:lnTo>
                    <a:lnTo>
                      <a:pt x="80" y="16"/>
                    </a:lnTo>
                    <a:lnTo>
                      <a:pt x="80" y="10"/>
                    </a:lnTo>
                    <a:lnTo>
                      <a:pt x="80" y="6"/>
                    </a:lnTo>
                    <a:lnTo>
                      <a:pt x="76" y="6"/>
                    </a:lnTo>
                    <a:lnTo>
                      <a:pt x="76" y="3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068880" y="3049200"/>
                <a:ext cx="2160" cy="1188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022800" y="3055680"/>
                <a:ext cx="4680" cy="1692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0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6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6" y="9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031440" y="3055680"/>
                <a:ext cx="34920" cy="1080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1" y="3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903280" y="3024000"/>
                <a:ext cx="121680" cy="77400"/>
              </a:xfrm>
              <a:custGeom>
                <a:avLst/>
                <a:gdLst/>
                <a:ahLst/>
                <a:rect l="l" t="t" r="r" b="b"/>
                <a:pathLst>
                  <a:path w="143" h="86">
                    <a:moveTo>
                      <a:pt x="19" y="0"/>
                    </a:moveTo>
                    <a:lnTo>
                      <a:pt x="25" y="0"/>
                    </a:lnTo>
                    <a:lnTo>
                      <a:pt x="29" y="3"/>
                    </a:lnTo>
                    <a:lnTo>
                      <a:pt x="32" y="3"/>
                    </a:lnTo>
                    <a:lnTo>
                      <a:pt x="35" y="3"/>
                    </a:lnTo>
                    <a:lnTo>
                      <a:pt x="41" y="6"/>
                    </a:lnTo>
                    <a:lnTo>
                      <a:pt x="44" y="6"/>
                    </a:lnTo>
                    <a:lnTo>
                      <a:pt x="48" y="6"/>
                    </a:lnTo>
                    <a:lnTo>
                      <a:pt x="51" y="9"/>
                    </a:lnTo>
                    <a:lnTo>
                      <a:pt x="54" y="9"/>
                    </a:lnTo>
                    <a:lnTo>
                      <a:pt x="57" y="12"/>
                    </a:lnTo>
                    <a:lnTo>
                      <a:pt x="64" y="12"/>
                    </a:lnTo>
                    <a:lnTo>
                      <a:pt x="67" y="16"/>
                    </a:lnTo>
                    <a:lnTo>
                      <a:pt x="70" y="16"/>
                    </a:lnTo>
                    <a:lnTo>
                      <a:pt x="73" y="19"/>
                    </a:lnTo>
                    <a:lnTo>
                      <a:pt x="80" y="22"/>
                    </a:lnTo>
                    <a:lnTo>
                      <a:pt x="83" y="22"/>
                    </a:lnTo>
                    <a:lnTo>
                      <a:pt x="86" y="22"/>
                    </a:lnTo>
                    <a:lnTo>
                      <a:pt x="89" y="22"/>
                    </a:lnTo>
                    <a:lnTo>
                      <a:pt x="92" y="22"/>
                    </a:lnTo>
                    <a:lnTo>
                      <a:pt x="95" y="22"/>
                    </a:lnTo>
                    <a:lnTo>
                      <a:pt x="99" y="22"/>
                    </a:lnTo>
                    <a:lnTo>
                      <a:pt x="102" y="22"/>
                    </a:lnTo>
                    <a:lnTo>
                      <a:pt x="105" y="19"/>
                    </a:lnTo>
                    <a:lnTo>
                      <a:pt x="105" y="22"/>
                    </a:lnTo>
                    <a:lnTo>
                      <a:pt x="111" y="22"/>
                    </a:lnTo>
                    <a:lnTo>
                      <a:pt x="118" y="25"/>
                    </a:lnTo>
                    <a:lnTo>
                      <a:pt x="121" y="28"/>
                    </a:lnTo>
                    <a:lnTo>
                      <a:pt x="124" y="31"/>
                    </a:lnTo>
                    <a:lnTo>
                      <a:pt x="131" y="35"/>
                    </a:lnTo>
                    <a:lnTo>
                      <a:pt x="134" y="38"/>
                    </a:lnTo>
                    <a:lnTo>
                      <a:pt x="137" y="41"/>
                    </a:lnTo>
                    <a:lnTo>
                      <a:pt x="140" y="44"/>
                    </a:lnTo>
                    <a:lnTo>
                      <a:pt x="143" y="44"/>
                    </a:lnTo>
                    <a:lnTo>
                      <a:pt x="143" y="47"/>
                    </a:lnTo>
                    <a:lnTo>
                      <a:pt x="143" y="51"/>
                    </a:lnTo>
                    <a:lnTo>
                      <a:pt x="140" y="57"/>
                    </a:lnTo>
                    <a:lnTo>
                      <a:pt x="140" y="57"/>
                    </a:lnTo>
                    <a:lnTo>
                      <a:pt x="143" y="60"/>
                    </a:lnTo>
                    <a:lnTo>
                      <a:pt x="143" y="60"/>
                    </a:lnTo>
                    <a:lnTo>
                      <a:pt x="143" y="63"/>
                    </a:lnTo>
                    <a:lnTo>
                      <a:pt x="140" y="63"/>
                    </a:lnTo>
                    <a:lnTo>
                      <a:pt x="140" y="67"/>
                    </a:lnTo>
                    <a:lnTo>
                      <a:pt x="140" y="70"/>
                    </a:lnTo>
                    <a:lnTo>
                      <a:pt x="137" y="73"/>
                    </a:lnTo>
                    <a:lnTo>
                      <a:pt x="137" y="76"/>
                    </a:lnTo>
                    <a:lnTo>
                      <a:pt x="134" y="76"/>
                    </a:lnTo>
                    <a:lnTo>
                      <a:pt x="134" y="79"/>
                    </a:lnTo>
                    <a:lnTo>
                      <a:pt x="131" y="83"/>
                    </a:lnTo>
                    <a:lnTo>
                      <a:pt x="127" y="83"/>
                    </a:lnTo>
                    <a:lnTo>
                      <a:pt x="124" y="83"/>
                    </a:lnTo>
                    <a:lnTo>
                      <a:pt x="121" y="86"/>
                    </a:lnTo>
                    <a:lnTo>
                      <a:pt x="115" y="86"/>
                    </a:lnTo>
                    <a:lnTo>
                      <a:pt x="111" y="86"/>
                    </a:lnTo>
                    <a:lnTo>
                      <a:pt x="105" y="86"/>
                    </a:lnTo>
                    <a:lnTo>
                      <a:pt x="99" y="86"/>
                    </a:lnTo>
                    <a:lnTo>
                      <a:pt x="92" y="86"/>
                    </a:lnTo>
                    <a:lnTo>
                      <a:pt x="92" y="86"/>
                    </a:lnTo>
                    <a:lnTo>
                      <a:pt x="89" y="86"/>
                    </a:lnTo>
                    <a:lnTo>
                      <a:pt x="86" y="86"/>
                    </a:lnTo>
                    <a:lnTo>
                      <a:pt x="86" y="86"/>
                    </a:lnTo>
                    <a:lnTo>
                      <a:pt x="83" y="86"/>
                    </a:lnTo>
                    <a:lnTo>
                      <a:pt x="80" y="86"/>
                    </a:lnTo>
                    <a:lnTo>
                      <a:pt x="80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3" y="79"/>
                    </a:lnTo>
                    <a:lnTo>
                      <a:pt x="73" y="76"/>
                    </a:lnTo>
                    <a:lnTo>
                      <a:pt x="70" y="73"/>
                    </a:lnTo>
                    <a:lnTo>
                      <a:pt x="67" y="70"/>
                    </a:lnTo>
                    <a:lnTo>
                      <a:pt x="67" y="67"/>
                    </a:lnTo>
                    <a:lnTo>
                      <a:pt x="64" y="63"/>
                    </a:lnTo>
                    <a:lnTo>
                      <a:pt x="60" y="63"/>
                    </a:lnTo>
                    <a:lnTo>
                      <a:pt x="57" y="60"/>
                    </a:lnTo>
                    <a:lnTo>
                      <a:pt x="54" y="60"/>
                    </a:lnTo>
                    <a:lnTo>
                      <a:pt x="48" y="57"/>
                    </a:lnTo>
                    <a:lnTo>
                      <a:pt x="44" y="57"/>
                    </a:lnTo>
                    <a:lnTo>
                      <a:pt x="41" y="54"/>
                    </a:lnTo>
                    <a:lnTo>
                      <a:pt x="38" y="54"/>
                    </a:lnTo>
                    <a:lnTo>
                      <a:pt x="35" y="51"/>
                    </a:lnTo>
                    <a:lnTo>
                      <a:pt x="29" y="51"/>
                    </a:lnTo>
                    <a:lnTo>
                      <a:pt x="25" y="47"/>
                    </a:lnTo>
                    <a:lnTo>
                      <a:pt x="22" y="47"/>
                    </a:lnTo>
                    <a:lnTo>
                      <a:pt x="19" y="44"/>
                    </a:lnTo>
                    <a:lnTo>
                      <a:pt x="16" y="44"/>
                    </a:lnTo>
                    <a:lnTo>
                      <a:pt x="9" y="41"/>
                    </a:lnTo>
                    <a:lnTo>
                      <a:pt x="6" y="41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3" y="25"/>
                    </a:lnTo>
                    <a:lnTo>
                      <a:pt x="6" y="22"/>
                    </a:lnTo>
                    <a:lnTo>
                      <a:pt x="6" y="19"/>
                    </a:lnTo>
                    <a:lnTo>
                      <a:pt x="9" y="16"/>
                    </a:lnTo>
                    <a:lnTo>
                      <a:pt x="9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9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981760" y="3080880"/>
                <a:ext cx="43200" cy="2052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51" y="0"/>
                    </a:moveTo>
                    <a:lnTo>
                      <a:pt x="48" y="0"/>
                    </a:lnTo>
                    <a:lnTo>
                      <a:pt x="48" y="4"/>
                    </a:lnTo>
                    <a:lnTo>
                      <a:pt x="48" y="7"/>
                    </a:lnTo>
                    <a:lnTo>
                      <a:pt x="45" y="10"/>
                    </a:lnTo>
                    <a:lnTo>
                      <a:pt x="45" y="13"/>
                    </a:lnTo>
                    <a:lnTo>
                      <a:pt x="42" y="13"/>
                    </a:lnTo>
                    <a:lnTo>
                      <a:pt x="42" y="16"/>
                    </a:lnTo>
                    <a:lnTo>
                      <a:pt x="39" y="20"/>
                    </a:lnTo>
                    <a:lnTo>
                      <a:pt x="35" y="20"/>
                    </a:lnTo>
                    <a:lnTo>
                      <a:pt x="32" y="20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19" y="23"/>
                    </a:lnTo>
                    <a:lnTo>
                      <a:pt x="13" y="2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3" y="20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3" y="10"/>
                    </a:lnTo>
                    <a:lnTo>
                      <a:pt x="16" y="10"/>
                    </a:lnTo>
                    <a:lnTo>
                      <a:pt x="19" y="7"/>
                    </a:lnTo>
                    <a:lnTo>
                      <a:pt x="23" y="7"/>
                    </a:lnTo>
                    <a:lnTo>
                      <a:pt x="26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d9b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979240" y="3043800"/>
                <a:ext cx="45720" cy="3132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16" y="0"/>
                    </a:moveTo>
                    <a:lnTo>
                      <a:pt x="22" y="0"/>
                    </a:lnTo>
                    <a:lnTo>
                      <a:pt x="29" y="3"/>
                    </a:lnTo>
                    <a:lnTo>
                      <a:pt x="32" y="6"/>
                    </a:lnTo>
                    <a:lnTo>
                      <a:pt x="35" y="9"/>
                    </a:lnTo>
                    <a:lnTo>
                      <a:pt x="42" y="13"/>
                    </a:lnTo>
                    <a:lnTo>
                      <a:pt x="45" y="16"/>
                    </a:lnTo>
                    <a:lnTo>
                      <a:pt x="48" y="19"/>
                    </a:lnTo>
                    <a:lnTo>
                      <a:pt x="51" y="22"/>
                    </a:lnTo>
                    <a:lnTo>
                      <a:pt x="54" y="22"/>
                    </a:lnTo>
                    <a:lnTo>
                      <a:pt x="54" y="25"/>
                    </a:lnTo>
                    <a:lnTo>
                      <a:pt x="54" y="29"/>
                    </a:lnTo>
                    <a:lnTo>
                      <a:pt x="51" y="35"/>
                    </a:lnTo>
                    <a:lnTo>
                      <a:pt x="48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38" y="25"/>
                    </a:lnTo>
                    <a:lnTo>
                      <a:pt x="35" y="25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26" y="25"/>
                    </a:lnTo>
                    <a:lnTo>
                      <a:pt x="22" y="25"/>
                    </a:lnTo>
                    <a:lnTo>
                      <a:pt x="19" y="29"/>
                    </a:lnTo>
                    <a:lnTo>
                      <a:pt x="16" y="32"/>
                    </a:lnTo>
                    <a:lnTo>
                      <a:pt x="13" y="32"/>
                    </a:lnTo>
                    <a:lnTo>
                      <a:pt x="10" y="35"/>
                    </a:lnTo>
                    <a:lnTo>
                      <a:pt x="6" y="35"/>
                    </a:lnTo>
                    <a:lnTo>
                      <a:pt x="3" y="35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10" y="19"/>
                    </a:lnTo>
                    <a:lnTo>
                      <a:pt x="13" y="19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9" y="16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2" y="9"/>
                    </a:lnTo>
                    <a:lnTo>
                      <a:pt x="29" y="9"/>
                    </a:lnTo>
                    <a:lnTo>
                      <a:pt x="29" y="6"/>
                    </a:lnTo>
                    <a:lnTo>
                      <a:pt x="26" y="3"/>
                    </a:lnTo>
                    <a:lnTo>
                      <a:pt x="22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d9b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903280" y="3041280"/>
                <a:ext cx="78120" cy="601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92" y="67"/>
                    </a:moveTo>
                    <a:lnTo>
                      <a:pt x="92" y="67"/>
                    </a:lnTo>
                    <a:lnTo>
                      <a:pt x="89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3" y="67"/>
                    </a:lnTo>
                    <a:lnTo>
                      <a:pt x="80" y="67"/>
                    </a:lnTo>
                    <a:lnTo>
                      <a:pt x="80" y="64"/>
                    </a:lnTo>
                    <a:lnTo>
                      <a:pt x="76" y="64"/>
                    </a:lnTo>
                    <a:lnTo>
                      <a:pt x="76" y="64"/>
                    </a:lnTo>
                    <a:lnTo>
                      <a:pt x="73" y="60"/>
                    </a:lnTo>
                    <a:lnTo>
                      <a:pt x="73" y="57"/>
                    </a:lnTo>
                    <a:lnTo>
                      <a:pt x="70" y="54"/>
                    </a:lnTo>
                    <a:lnTo>
                      <a:pt x="67" y="51"/>
                    </a:lnTo>
                    <a:lnTo>
                      <a:pt x="67" y="48"/>
                    </a:lnTo>
                    <a:lnTo>
                      <a:pt x="64" y="44"/>
                    </a:lnTo>
                    <a:lnTo>
                      <a:pt x="60" y="44"/>
                    </a:lnTo>
                    <a:lnTo>
                      <a:pt x="57" y="41"/>
                    </a:lnTo>
                    <a:lnTo>
                      <a:pt x="54" y="41"/>
                    </a:lnTo>
                    <a:lnTo>
                      <a:pt x="48" y="38"/>
                    </a:lnTo>
                    <a:lnTo>
                      <a:pt x="44" y="38"/>
                    </a:lnTo>
                    <a:lnTo>
                      <a:pt x="41" y="35"/>
                    </a:lnTo>
                    <a:lnTo>
                      <a:pt x="38" y="35"/>
                    </a:lnTo>
                    <a:lnTo>
                      <a:pt x="35" y="32"/>
                    </a:lnTo>
                    <a:lnTo>
                      <a:pt x="29" y="32"/>
                    </a:lnTo>
                    <a:lnTo>
                      <a:pt x="25" y="28"/>
                    </a:lnTo>
                    <a:lnTo>
                      <a:pt x="22" y="28"/>
                    </a:lnTo>
                    <a:lnTo>
                      <a:pt x="19" y="25"/>
                    </a:lnTo>
                    <a:lnTo>
                      <a:pt x="16" y="25"/>
                    </a:lnTo>
                    <a:lnTo>
                      <a:pt x="9" y="22"/>
                    </a:lnTo>
                    <a:lnTo>
                      <a:pt x="6" y="22"/>
                    </a:lnTo>
                    <a:lnTo>
                      <a:pt x="3" y="19"/>
                    </a:lnTo>
                    <a:lnTo>
                      <a:pt x="0" y="19"/>
                    </a:lnTo>
                    <a:lnTo>
                      <a:pt x="0" y="12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3" y="3"/>
                    </a:lnTo>
                    <a:lnTo>
                      <a:pt x="16" y="3"/>
                    </a:lnTo>
                    <a:lnTo>
                      <a:pt x="19" y="3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5" y="9"/>
                    </a:lnTo>
                    <a:lnTo>
                      <a:pt x="29" y="9"/>
                    </a:lnTo>
                    <a:lnTo>
                      <a:pt x="35" y="12"/>
                    </a:lnTo>
                    <a:lnTo>
                      <a:pt x="38" y="12"/>
                    </a:lnTo>
                    <a:lnTo>
                      <a:pt x="41" y="16"/>
                    </a:lnTo>
                    <a:lnTo>
                      <a:pt x="44" y="19"/>
                    </a:lnTo>
                    <a:lnTo>
                      <a:pt x="48" y="19"/>
                    </a:lnTo>
                    <a:lnTo>
                      <a:pt x="51" y="22"/>
                    </a:lnTo>
                    <a:lnTo>
                      <a:pt x="54" y="22"/>
                    </a:lnTo>
                    <a:lnTo>
                      <a:pt x="57" y="25"/>
                    </a:lnTo>
                    <a:lnTo>
                      <a:pt x="60" y="25"/>
                    </a:lnTo>
                    <a:lnTo>
                      <a:pt x="60" y="28"/>
                    </a:lnTo>
                    <a:lnTo>
                      <a:pt x="64" y="28"/>
                    </a:lnTo>
                    <a:lnTo>
                      <a:pt x="67" y="28"/>
                    </a:lnTo>
                    <a:lnTo>
                      <a:pt x="67" y="32"/>
                    </a:lnTo>
                    <a:lnTo>
                      <a:pt x="70" y="32"/>
                    </a:lnTo>
                    <a:lnTo>
                      <a:pt x="70" y="35"/>
                    </a:lnTo>
                    <a:lnTo>
                      <a:pt x="70" y="38"/>
                    </a:lnTo>
                    <a:lnTo>
                      <a:pt x="73" y="41"/>
                    </a:lnTo>
                    <a:lnTo>
                      <a:pt x="73" y="44"/>
                    </a:lnTo>
                    <a:lnTo>
                      <a:pt x="76" y="51"/>
                    </a:lnTo>
                    <a:lnTo>
                      <a:pt x="80" y="54"/>
                    </a:lnTo>
                    <a:lnTo>
                      <a:pt x="83" y="57"/>
                    </a:lnTo>
                    <a:lnTo>
                      <a:pt x="86" y="60"/>
                    </a:lnTo>
                    <a:lnTo>
                      <a:pt x="89" y="64"/>
                    </a:lnTo>
                    <a:lnTo>
                      <a:pt x="92" y="67"/>
                    </a:lnTo>
                    <a:close/>
                  </a:path>
                </a:pathLst>
              </a:custGeom>
              <a:solidFill>
                <a:srgbClr val="d9b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7" name=""/>
            <p:cNvSpPr/>
            <p:nvPr/>
          </p:nvSpPr>
          <p:spPr>
            <a:xfrm>
              <a:off x="4572000" y="2987280"/>
              <a:ext cx="4226760" cy="947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istance driven by an executive to get to wor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4114800" y="3962520"/>
            <a:ext cx="5029200" cy="1092240"/>
            <a:chOff x="4114800" y="3962520"/>
            <a:chExt cx="5029200" cy="1092240"/>
          </a:xfrm>
        </p:grpSpPr>
        <p:pic>
          <p:nvPicPr>
            <p:cNvPr id="1459" name="" descr=""/>
            <p:cNvPicPr/>
            <p:nvPr/>
          </p:nvPicPr>
          <p:blipFill>
            <a:blip r:embed="rId4"/>
            <a:stretch/>
          </p:blipFill>
          <p:spPr>
            <a:xfrm>
              <a:off x="4114800" y="3962520"/>
              <a:ext cx="152388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0" name=""/>
            <p:cNvSpPr/>
            <p:nvPr/>
          </p:nvSpPr>
          <p:spPr>
            <a:xfrm>
              <a:off x="5486400" y="4038840"/>
              <a:ext cx="3657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length of time of a particular phone ca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4419720" y="5105520"/>
            <a:ext cx="4589280" cy="1419120"/>
            <a:chOff x="4419720" y="5105520"/>
            <a:chExt cx="4589280" cy="1419120"/>
          </a:xfrm>
        </p:grpSpPr>
        <p:pic>
          <p:nvPicPr>
            <p:cNvPr id="1462" name="" descr=""/>
            <p:cNvPicPr/>
            <p:nvPr/>
          </p:nvPicPr>
          <p:blipFill>
            <a:blip r:embed="rId5"/>
            <a:stretch/>
          </p:blipFill>
          <p:spPr>
            <a:xfrm>
              <a:off x="4419720" y="5181480"/>
              <a:ext cx="1752480" cy="13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3" name=""/>
            <p:cNvSpPr/>
            <p:nvPr/>
          </p:nvSpPr>
          <p:spPr>
            <a:xfrm>
              <a:off x="6248520" y="5105520"/>
              <a:ext cx="2760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length of time of an afternoon nap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1676520" y="380880"/>
            <a:ext cx="5867280" cy="1706760"/>
          </a:xfrm>
          <a:prstGeom prst="rect">
            <a:avLst/>
          </a:prstGeom>
          <a:gradFill rotWithShape="0">
            <a:gsLst>
              <a:gs pos="0">
                <a:srgbClr val="ff0066">
                  <a:alpha val="50196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tinguishing featu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of a       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istrib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25280" y="2514600"/>
            <a:ext cx="8588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um of the probabiliti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the various outcomes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is 1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robability of a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particula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outcome                        </a:t>
            </a: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is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between 0 and 1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99ff"/>
                </a:solidFill>
                <a:latin typeface="Times New Roman"/>
              </a:rPr>
              <a:t>outcom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mutually exclu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600200" y="5943600"/>
            <a:ext cx="5637240" cy="527040"/>
          </a:xfrm>
          <a:custGeom>
            <a:avLst/>
            <a:gdLst/>
            <a:ahLst/>
            <a:rect l="l" t="t" r="r" b="b"/>
            <a:pathLst>
              <a:path w="4750" h="855">
                <a:moveTo>
                  <a:pt x="4750" y="411"/>
                </a:moveTo>
                <a:lnTo>
                  <a:pt x="4750" y="411"/>
                </a:lnTo>
                <a:lnTo>
                  <a:pt x="4746" y="411"/>
                </a:lnTo>
                <a:lnTo>
                  <a:pt x="4746" y="406"/>
                </a:lnTo>
                <a:lnTo>
                  <a:pt x="4741" y="406"/>
                </a:lnTo>
                <a:lnTo>
                  <a:pt x="4741" y="406"/>
                </a:lnTo>
                <a:lnTo>
                  <a:pt x="4736" y="402"/>
                </a:lnTo>
                <a:lnTo>
                  <a:pt x="4736" y="402"/>
                </a:lnTo>
                <a:lnTo>
                  <a:pt x="4736" y="397"/>
                </a:lnTo>
                <a:lnTo>
                  <a:pt x="4680" y="364"/>
                </a:lnTo>
                <a:lnTo>
                  <a:pt x="4666" y="346"/>
                </a:lnTo>
                <a:lnTo>
                  <a:pt x="4614" y="332"/>
                </a:lnTo>
                <a:lnTo>
                  <a:pt x="4563" y="322"/>
                </a:lnTo>
                <a:lnTo>
                  <a:pt x="4511" y="308"/>
                </a:lnTo>
                <a:lnTo>
                  <a:pt x="4460" y="299"/>
                </a:lnTo>
                <a:lnTo>
                  <a:pt x="4408" y="289"/>
                </a:lnTo>
                <a:lnTo>
                  <a:pt x="4357" y="280"/>
                </a:lnTo>
                <a:lnTo>
                  <a:pt x="4305" y="271"/>
                </a:lnTo>
                <a:lnTo>
                  <a:pt x="4254" y="261"/>
                </a:lnTo>
                <a:lnTo>
                  <a:pt x="4197" y="257"/>
                </a:lnTo>
                <a:lnTo>
                  <a:pt x="4141" y="247"/>
                </a:lnTo>
                <a:lnTo>
                  <a:pt x="4085" y="243"/>
                </a:lnTo>
                <a:lnTo>
                  <a:pt x="4029" y="238"/>
                </a:lnTo>
                <a:lnTo>
                  <a:pt x="3973" y="233"/>
                </a:lnTo>
                <a:lnTo>
                  <a:pt x="3916" y="229"/>
                </a:lnTo>
                <a:lnTo>
                  <a:pt x="3860" y="224"/>
                </a:lnTo>
                <a:lnTo>
                  <a:pt x="3804" y="219"/>
                </a:lnTo>
                <a:lnTo>
                  <a:pt x="3743" y="219"/>
                </a:lnTo>
                <a:lnTo>
                  <a:pt x="3682" y="219"/>
                </a:lnTo>
                <a:lnTo>
                  <a:pt x="3617" y="219"/>
                </a:lnTo>
                <a:lnTo>
                  <a:pt x="3556" y="219"/>
                </a:lnTo>
                <a:lnTo>
                  <a:pt x="3495" y="219"/>
                </a:lnTo>
                <a:lnTo>
                  <a:pt x="3434" y="219"/>
                </a:lnTo>
                <a:lnTo>
                  <a:pt x="3373" y="224"/>
                </a:lnTo>
                <a:lnTo>
                  <a:pt x="3312" y="224"/>
                </a:lnTo>
                <a:lnTo>
                  <a:pt x="3298" y="229"/>
                </a:lnTo>
                <a:lnTo>
                  <a:pt x="3284" y="229"/>
                </a:lnTo>
                <a:lnTo>
                  <a:pt x="3275" y="229"/>
                </a:lnTo>
                <a:lnTo>
                  <a:pt x="3260" y="229"/>
                </a:lnTo>
                <a:lnTo>
                  <a:pt x="3246" y="229"/>
                </a:lnTo>
                <a:lnTo>
                  <a:pt x="3237" y="229"/>
                </a:lnTo>
                <a:lnTo>
                  <a:pt x="3223" y="229"/>
                </a:lnTo>
                <a:lnTo>
                  <a:pt x="3214" y="229"/>
                </a:lnTo>
                <a:lnTo>
                  <a:pt x="3167" y="238"/>
                </a:lnTo>
                <a:lnTo>
                  <a:pt x="3125" y="243"/>
                </a:lnTo>
                <a:lnTo>
                  <a:pt x="3082" y="252"/>
                </a:lnTo>
                <a:lnTo>
                  <a:pt x="3040" y="257"/>
                </a:lnTo>
                <a:lnTo>
                  <a:pt x="2998" y="266"/>
                </a:lnTo>
                <a:lnTo>
                  <a:pt x="2956" y="271"/>
                </a:lnTo>
                <a:lnTo>
                  <a:pt x="2914" y="275"/>
                </a:lnTo>
                <a:lnTo>
                  <a:pt x="2872" y="285"/>
                </a:lnTo>
                <a:lnTo>
                  <a:pt x="2848" y="285"/>
                </a:lnTo>
                <a:lnTo>
                  <a:pt x="2820" y="289"/>
                </a:lnTo>
                <a:lnTo>
                  <a:pt x="2797" y="294"/>
                </a:lnTo>
                <a:lnTo>
                  <a:pt x="2773" y="294"/>
                </a:lnTo>
                <a:lnTo>
                  <a:pt x="2745" y="299"/>
                </a:lnTo>
                <a:lnTo>
                  <a:pt x="2722" y="303"/>
                </a:lnTo>
                <a:lnTo>
                  <a:pt x="2698" y="303"/>
                </a:lnTo>
                <a:lnTo>
                  <a:pt x="2675" y="303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4"/>
                </a:lnTo>
                <a:lnTo>
                  <a:pt x="2670" y="294"/>
                </a:lnTo>
                <a:lnTo>
                  <a:pt x="2675" y="294"/>
                </a:lnTo>
                <a:lnTo>
                  <a:pt x="2675" y="289"/>
                </a:lnTo>
                <a:lnTo>
                  <a:pt x="2675" y="289"/>
                </a:lnTo>
                <a:lnTo>
                  <a:pt x="2680" y="280"/>
                </a:lnTo>
                <a:lnTo>
                  <a:pt x="2689" y="275"/>
                </a:lnTo>
                <a:lnTo>
                  <a:pt x="2698" y="271"/>
                </a:lnTo>
                <a:lnTo>
                  <a:pt x="2708" y="266"/>
                </a:lnTo>
                <a:lnTo>
                  <a:pt x="2717" y="266"/>
                </a:lnTo>
                <a:lnTo>
                  <a:pt x="2731" y="261"/>
                </a:lnTo>
                <a:lnTo>
                  <a:pt x="2740" y="257"/>
                </a:lnTo>
                <a:lnTo>
                  <a:pt x="2750" y="252"/>
                </a:lnTo>
                <a:lnTo>
                  <a:pt x="2792" y="243"/>
                </a:lnTo>
                <a:lnTo>
                  <a:pt x="2829" y="233"/>
                </a:lnTo>
                <a:lnTo>
                  <a:pt x="2872" y="219"/>
                </a:lnTo>
                <a:lnTo>
                  <a:pt x="2909" y="210"/>
                </a:lnTo>
                <a:lnTo>
                  <a:pt x="2947" y="196"/>
                </a:lnTo>
                <a:lnTo>
                  <a:pt x="2989" y="182"/>
                </a:lnTo>
                <a:lnTo>
                  <a:pt x="3026" y="168"/>
                </a:lnTo>
                <a:lnTo>
                  <a:pt x="3059" y="149"/>
                </a:lnTo>
                <a:lnTo>
                  <a:pt x="3078" y="135"/>
                </a:lnTo>
                <a:lnTo>
                  <a:pt x="3087" y="121"/>
                </a:lnTo>
                <a:lnTo>
                  <a:pt x="3101" y="107"/>
                </a:lnTo>
                <a:lnTo>
                  <a:pt x="3111" y="93"/>
                </a:lnTo>
                <a:lnTo>
                  <a:pt x="3120" y="74"/>
                </a:lnTo>
                <a:lnTo>
                  <a:pt x="3125" y="56"/>
                </a:lnTo>
                <a:lnTo>
                  <a:pt x="3134" y="42"/>
                </a:lnTo>
                <a:lnTo>
                  <a:pt x="3139" y="23"/>
                </a:lnTo>
                <a:lnTo>
                  <a:pt x="3139" y="23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4" y="14"/>
                </a:lnTo>
                <a:lnTo>
                  <a:pt x="3134" y="14"/>
                </a:lnTo>
                <a:lnTo>
                  <a:pt x="3134" y="9"/>
                </a:lnTo>
                <a:lnTo>
                  <a:pt x="3134" y="9"/>
                </a:lnTo>
                <a:lnTo>
                  <a:pt x="3129" y="9"/>
                </a:lnTo>
                <a:lnTo>
                  <a:pt x="3125" y="9"/>
                </a:lnTo>
                <a:lnTo>
                  <a:pt x="3120" y="4"/>
                </a:lnTo>
                <a:lnTo>
                  <a:pt x="3111" y="4"/>
                </a:lnTo>
                <a:lnTo>
                  <a:pt x="3106" y="4"/>
                </a:lnTo>
                <a:lnTo>
                  <a:pt x="3101" y="4"/>
                </a:lnTo>
                <a:lnTo>
                  <a:pt x="3096" y="4"/>
                </a:lnTo>
                <a:lnTo>
                  <a:pt x="3087" y="4"/>
                </a:lnTo>
                <a:lnTo>
                  <a:pt x="3050" y="4"/>
                </a:lnTo>
                <a:lnTo>
                  <a:pt x="3017" y="0"/>
                </a:lnTo>
                <a:lnTo>
                  <a:pt x="2979" y="0"/>
                </a:lnTo>
                <a:lnTo>
                  <a:pt x="2942" y="0"/>
                </a:lnTo>
                <a:lnTo>
                  <a:pt x="2904" y="0"/>
                </a:lnTo>
                <a:lnTo>
                  <a:pt x="2872" y="0"/>
                </a:lnTo>
                <a:lnTo>
                  <a:pt x="2834" y="0"/>
                </a:lnTo>
                <a:lnTo>
                  <a:pt x="2801" y="0"/>
                </a:lnTo>
                <a:lnTo>
                  <a:pt x="2787" y="0"/>
                </a:lnTo>
                <a:lnTo>
                  <a:pt x="2773" y="4"/>
                </a:lnTo>
                <a:lnTo>
                  <a:pt x="2759" y="4"/>
                </a:lnTo>
                <a:lnTo>
                  <a:pt x="2745" y="4"/>
                </a:lnTo>
                <a:lnTo>
                  <a:pt x="2736" y="4"/>
                </a:lnTo>
                <a:lnTo>
                  <a:pt x="2722" y="4"/>
                </a:lnTo>
                <a:lnTo>
                  <a:pt x="2708" y="9"/>
                </a:lnTo>
                <a:lnTo>
                  <a:pt x="2694" y="9"/>
                </a:lnTo>
                <a:lnTo>
                  <a:pt x="2698" y="9"/>
                </a:lnTo>
                <a:lnTo>
                  <a:pt x="2698" y="9"/>
                </a:lnTo>
                <a:lnTo>
                  <a:pt x="2703" y="9"/>
                </a:lnTo>
                <a:lnTo>
                  <a:pt x="2703" y="9"/>
                </a:lnTo>
                <a:lnTo>
                  <a:pt x="2708" y="9"/>
                </a:lnTo>
                <a:lnTo>
                  <a:pt x="2708" y="9"/>
                </a:lnTo>
                <a:lnTo>
                  <a:pt x="2712" y="14"/>
                </a:lnTo>
                <a:lnTo>
                  <a:pt x="2712" y="14"/>
                </a:lnTo>
                <a:lnTo>
                  <a:pt x="2131" y="70"/>
                </a:lnTo>
                <a:lnTo>
                  <a:pt x="2089" y="79"/>
                </a:lnTo>
                <a:lnTo>
                  <a:pt x="2047" y="88"/>
                </a:lnTo>
                <a:lnTo>
                  <a:pt x="2010" y="98"/>
                </a:lnTo>
                <a:lnTo>
                  <a:pt x="1967" y="102"/>
                </a:lnTo>
                <a:lnTo>
                  <a:pt x="1930" y="112"/>
                </a:lnTo>
                <a:lnTo>
                  <a:pt x="1888" y="121"/>
                </a:lnTo>
                <a:lnTo>
                  <a:pt x="1850" y="131"/>
                </a:lnTo>
                <a:lnTo>
                  <a:pt x="1808" y="140"/>
                </a:lnTo>
                <a:lnTo>
                  <a:pt x="1752" y="154"/>
                </a:lnTo>
                <a:lnTo>
                  <a:pt x="1691" y="168"/>
                </a:lnTo>
                <a:lnTo>
                  <a:pt x="1635" y="182"/>
                </a:lnTo>
                <a:lnTo>
                  <a:pt x="1579" y="191"/>
                </a:lnTo>
                <a:lnTo>
                  <a:pt x="1522" y="205"/>
                </a:lnTo>
                <a:lnTo>
                  <a:pt x="1466" y="215"/>
                </a:lnTo>
                <a:lnTo>
                  <a:pt x="1410" y="229"/>
                </a:lnTo>
                <a:lnTo>
                  <a:pt x="1354" y="238"/>
                </a:lnTo>
                <a:lnTo>
                  <a:pt x="1335" y="243"/>
                </a:lnTo>
                <a:lnTo>
                  <a:pt x="1321" y="247"/>
                </a:lnTo>
                <a:lnTo>
                  <a:pt x="1302" y="252"/>
                </a:lnTo>
                <a:lnTo>
                  <a:pt x="1288" y="252"/>
                </a:lnTo>
                <a:lnTo>
                  <a:pt x="1274" y="257"/>
                </a:lnTo>
                <a:lnTo>
                  <a:pt x="1255" y="261"/>
                </a:lnTo>
                <a:lnTo>
                  <a:pt x="1241" y="266"/>
                </a:lnTo>
                <a:lnTo>
                  <a:pt x="1227" y="271"/>
                </a:lnTo>
                <a:lnTo>
                  <a:pt x="1208" y="275"/>
                </a:lnTo>
                <a:lnTo>
                  <a:pt x="1190" y="280"/>
                </a:lnTo>
                <a:lnTo>
                  <a:pt x="1171" y="285"/>
                </a:lnTo>
                <a:lnTo>
                  <a:pt x="1157" y="294"/>
                </a:lnTo>
                <a:lnTo>
                  <a:pt x="1138" y="299"/>
                </a:lnTo>
                <a:lnTo>
                  <a:pt x="1124" y="303"/>
                </a:lnTo>
                <a:lnTo>
                  <a:pt x="1105" y="308"/>
                </a:lnTo>
                <a:lnTo>
                  <a:pt x="1091" y="313"/>
                </a:lnTo>
                <a:lnTo>
                  <a:pt x="1082" y="313"/>
                </a:lnTo>
                <a:lnTo>
                  <a:pt x="1073" y="317"/>
                </a:lnTo>
                <a:lnTo>
                  <a:pt x="1063" y="317"/>
                </a:lnTo>
                <a:lnTo>
                  <a:pt x="1054" y="322"/>
                </a:lnTo>
                <a:lnTo>
                  <a:pt x="1044" y="327"/>
                </a:lnTo>
                <a:lnTo>
                  <a:pt x="1035" y="327"/>
                </a:lnTo>
                <a:lnTo>
                  <a:pt x="1026" y="332"/>
                </a:lnTo>
                <a:lnTo>
                  <a:pt x="1016" y="332"/>
                </a:lnTo>
                <a:lnTo>
                  <a:pt x="1002" y="336"/>
                </a:lnTo>
                <a:lnTo>
                  <a:pt x="988" y="341"/>
                </a:lnTo>
                <a:lnTo>
                  <a:pt x="974" y="346"/>
                </a:lnTo>
                <a:lnTo>
                  <a:pt x="955" y="350"/>
                </a:lnTo>
                <a:lnTo>
                  <a:pt x="941" y="350"/>
                </a:lnTo>
                <a:lnTo>
                  <a:pt x="927" y="355"/>
                </a:lnTo>
                <a:lnTo>
                  <a:pt x="913" y="360"/>
                </a:lnTo>
                <a:lnTo>
                  <a:pt x="899" y="369"/>
                </a:lnTo>
                <a:lnTo>
                  <a:pt x="871" y="374"/>
                </a:lnTo>
                <a:lnTo>
                  <a:pt x="843" y="383"/>
                </a:lnTo>
                <a:lnTo>
                  <a:pt x="810" y="392"/>
                </a:lnTo>
                <a:lnTo>
                  <a:pt x="782" y="397"/>
                </a:lnTo>
                <a:lnTo>
                  <a:pt x="754" y="406"/>
                </a:lnTo>
                <a:lnTo>
                  <a:pt x="726" y="416"/>
                </a:lnTo>
                <a:lnTo>
                  <a:pt x="698" y="430"/>
                </a:lnTo>
                <a:lnTo>
                  <a:pt x="670" y="439"/>
                </a:lnTo>
                <a:lnTo>
                  <a:pt x="660" y="444"/>
                </a:lnTo>
                <a:lnTo>
                  <a:pt x="646" y="444"/>
                </a:lnTo>
                <a:lnTo>
                  <a:pt x="632" y="448"/>
                </a:lnTo>
                <a:lnTo>
                  <a:pt x="623" y="453"/>
                </a:lnTo>
                <a:lnTo>
                  <a:pt x="609" y="458"/>
                </a:lnTo>
                <a:lnTo>
                  <a:pt x="599" y="462"/>
                </a:lnTo>
                <a:lnTo>
                  <a:pt x="585" y="467"/>
                </a:lnTo>
                <a:lnTo>
                  <a:pt x="576" y="476"/>
                </a:lnTo>
                <a:lnTo>
                  <a:pt x="567" y="472"/>
                </a:lnTo>
                <a:lnTo>
                  <a:pt x="562" y="472"/>
                </a:lnTo>
                <a:lnTo>
                  <a:pt x="557" y="476"/>
                </a:lnTo>
                <a:lnTo>
                  <a:pt x="548" y="476"/>
                </a:lnTo>
                <a:lnTo>
                  <a:pt x="543" y="481"/>
                </a:lnTo>
                <a:lnTo>
                  <a:pt x="539" y="481"/>
                </a:lnTo>
                <a:lnTo>
                  <a:pt x="534" y="486"/>
                </a:lnTo>
                <a:lnTo>
                  <a:pt x="529" y="486"/>
                </a:lnTo>
                <a:lnTo>
                  <a:pt x="510" y="490"/>
                </a:lnTo>
                <a:lnTo>
                  <a:pt x="510" y="490"/>
                </a:lnTo>
                <a:lnTo>
                  <a:pt x="510" y="490"/>
                </a:lnTo>
                <a:lnTo>
                  <a:pt x="506" y="490"/>
                </a:lnTo>
                <a:lnTo>
                  <a:pt x="506" y="490"/>
                </a:lnTo>
                <a:lnTo>
                  <a:pt x="506" y="495"/>
                </a:lnTo>
                <a:lnTo>
                  <a:pt x="506" y="495"/>
                </a:lnTo>
                <a:lnTo>
                  <a:pt x="506" y="495"/>
                </a:lnTo>
                <a:lnTo>
                  <a:pt x="501" y="495"/>
                </a:lnTo>
                <a:lnTo>
                  <a:pt x="440" y="514"/>
                </a:lnTo>
                <a:lnTo>
                  <a:pt x="421" y="514"/>
                </a:lnTo>
                <a:lnTo>
                  <a:pt x="412" y="518"/>
                </a:lnTo>
                <a:lnTo>
                  <a:pt x="407" y="523"/>
                </a:lnTo>
                <a:lnTo>
                  <a:pt x="398" y="523"/>
                </a:lnTo>
                <a:lnTo>
                  <a:pt x="389" y="528"/>
                </a:lnTo>
                <a:lnTo>
                  <a:pt x="379" y="528"/>
                </a:lnTo>
                <a:lnTo>
                  <a:pt x="375" y="528"/>
                </a:lnTo>
                <a:lnTo>
                  <a:pt x="365" y="532"/>
                </a:lnTo>
                <a:lnTo>
                  <a:pt x="356" y="532"/>
                </a:lnTo>
                <a:lnTo>
                  <a:pt x="351" y="532"/>
                </a:lnTo>
                <a:lnTo>
                  <a:pt x="351" y="532"/>
                </a:lnTo>
                <a:lnTo>
                  <a:pt x="351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28" y="537"/>
                </a:lnTo>
                <a:lnTo>
                  <a:pt x="314" y="537"/>
                </a:lnTo>
                <a:lnTo>
                  <a:pt x="295" y="542"/>
                </a:lnTo>
                <a:lnTo>
                  <a:pt x="276" y="542"/>
                </a:lnTo>
                <a:lnTo>
                  <a:pt x="262" y="546"/>
                </a:lnTo>
                <a:lnTo>
                  <a:pt x="243" y="546"/>
                </a:lnTo>
                <a:lnTo>
                  <a:pt x="225" y="551"/>
                </a:lnTo>
                <a:lnTo>
                  <a:pt x="211" y="556"/>
                </a:lnTo>
                <a:lnTo>
                  <a:pt x="206" y="551"/>
                </a:lnTo>
                <a:lnTo>
                  <a:pt x="201" y="551"/>
                </a:lnTo>
                <a:lnTo>
                  <a:pt x="197" y="551"/>
                </a:lnTo>
                <a:lnTo>
                  <a:pt x="192" y="546"/>
                </a:lnTo>
                <a:lnTo>
                  <a:pt x="192" y="546"/>
                </a:lnTo>
                <a:lnTo>
                  <a:pt x="187" y="542"/>
                </a:lnTo>
                <a:lnTo>
                  <a:pt x="187" y="537"/>
                </a:lnTo>
                <a:lnTo>
                  <a:pt x="182" y="537"/>
                </a:lnTo>
                <a:lnTo>
                  <a:pt x="159" y="528"/>
                </a:lnTo>
                <a:lnTo>
                  <a:pt x="145" y="514"/>
                </a:lnTo>
                <a:lnTo>
                  <a:pt x="145" y="514"/>
                </a:lnTo>
                <a:lnTo>
                  <a:pt x="145" y="509"/>
                </a:lnTo>
                <a:lnTo>
                  <a:pt x="140" y="509"/>
                </a:lnTo>
                <a:lnTo>
                  <a:pt x="140" y="509"/>
                </a:lnTo>
                <a:lnTo>
                  <a:pt x="136" y="509"/>
                </a:lnTo>
                <a:lnTo>
                  <a:pt x="136" y="509"/>
                </a:lnTo>
                <a:lnTo>
                  <a:pt x="131" y="509"/>
                </a:lnTo>
                <a:lnTo>
                  <a:pt x="126" y="509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2" y="504"/>
                </a:lnTo>
                <a:lnTo>
                  <a:pt x="122" y="500"/>
                </a:lnTo>
                <a:lnTo>
                  <a:pt x="122" y="500"/>
                </a:lnTo>
                <a:lnTo>
                  <a:pt x="122" y="500"/>
                </a:lnTo>
                <a:lnTo>
                  <a:pt x="117" y="495"/>
                </a:lnTo>
                <a:lnTo>
                  <a:pt x="117" y="495"/>
                </a:lnTo>
                <a:lnTo>
                  <a:pt x="112" y="490"/>
                </a:lnTo>
                <a:lnTo>
                  <a:pt x="112" y="490"/>
                </a:lnTo>
                <a:lnTo>
                  <a:pt x="107" y="490"/>
                </a:lnTo>
                <a:lnTo>
                  <a:pt x="103" y="490"/>
                </a:lnTo>
                <a:lnTo>
                  <a:pt x="98" y="490"/>
                </a:lnTo>
                <a:lnTo>
                  <a:pt x="93" y="490"/>
                </a:lnTo>
                <a:lnTo>
                  <a:pt x="56" y="532"/>
                </a:lnTo>
                <a:lnTo>
                  <a:pt x="56" y="532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1" y="546"/>
                </a:lnTo>
                <a:lnTo>
                  <a:pt x="47" y="551"/>
                </a:lnTo>
                <a:lnTo>
                  <a:pt x="42" y="556"/>
                </a:lnTo>
                <a:lnTo>
                  <a:pt x="37" y="561"/>
                </a:lnTo>
                <a:lnTo>
                  <a:pt x="28" y="565"/>
                </a:lnTo>
                <a:lnTo>
                  <a:pt x="23" y="570"/>
                </a:lnTo>
                <a:lnTo>
                  <a:pt x="14" y="575"/>
                </a:lnTo>
                <a:lnTo>
                  <a:pt x="9" y="579"/>
                </a:lnTo>
                <a:lnTo>
                  <a:pt x="0" y="617"/>
                </a:lnTo>
                <a:lnTo>
                  <a:pt x="9" y="626"/>
                </a:lnTo>
                <a:lnTo>
                  <a:pt x="0" y="640"/>
                </a:lnTo>
                <a:lnTo>
                  <a:pt x="0" y="640"/>
                </a:lnTo>
                <a:lnTo>
                  <a:pt x="0" y="645"/>
                </a:lnTo>
                <a:lnTo>
                  <a:pt x="0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14" y="673"/>
                </a:lnTo>
                <a:lnTo>
                  <a:pt x="4" y="687"/>
                </a:lnTo>
                <a:lnTo>
                  <a:pt x="9" y="691"/>
                </a:lnTo>
                <a:lnTo>
                  <a:pt x="9" y="691"/>
                </a:lnTo>
                <a:lnTo>
                  <a:pt x="14" y="691"/>
                </a:lnTo>
                <a:lnTo>
                  <a:pt x="14" y="691"/>
                </a:lnTo>
                <a:lnTo>
                  <a:pt x="18" y="696"/>
                </a:lnTo>
                <a:lnTo>
                  <a:pt x="18" y="696"/>
                </a:lnTo>
                <a:lnTo>
                  <a:pt x="23" y="701"/>
                </a:lnTo>
                <a:lnTo>
                  <a:pt x="23" y="701"/>
                </a:lnTo>
                <a:lnTo>
                  <a:pt x="23" y="747"/>
                </a:lnTo>
                <a:lnTo>
                  <a:pt x="33" y="752"/>
                </a:lnTo>
                <a:lnTo>
                  <a:pt x="42" y="757"/>
                </a:lnTo>
                <a:lnTo>
                  <a:pt x="51" y="761"/>
                </a:lnTo>
                <a:lnTo>
                  <a:pt x="65" y="766"/>
                </a:lnTo>
                <a:lnTo>
                  <a:pt x="75" y="771"/>
                </a:lnTo>
                <a:lnTo>
                  <a:pt x="84" y="776"/>
                </a:lnTo>
                <a:lnTo>
                  <a:pt x="89" y="785"/>
                </a:lnTo>
                <a:lnTo>
                  <a:pt x="98" y="794"/>
                </a:lnTo>
                <a:lnTo>
                  <a:pt x="98" y="794"/>
                </a:lnTo>
                <a:lnTo>
                  <a:pt x="98" y="794"/>
                </a:lnTo>
                <a:lnTo>
                  <a:pt x="98" y="799"/>
                </a:lnTo>
                <a:lnTo>
                  <a:pt x="98" y="799"/>
                </a:lnTo>
                <a:lnTo>
                  <a:pt x="98" y="804"/>
                </a:lnTo>
                <a:lnTo>
                  <a:pt x="98" y="804"/>
                </a:lnTo>
                <a:lnTo>
                  <a:pt x="98" y="804"/>
                </a:lnTo>
                <a:lnTo>
                  <a:pt x="103" y="808"/>
                </a:lnTo>
                <a:lnTo>
                  <a:pt x="178" y="836"/>
                </a:lnTo>
                <a:lnTo>
                  <a:pt x="178" y="836"/>
                </a:lnTo>
                <a:lnTo>
                  <a:pt x="178" y="836"/>
                </a:lnTo>
                <a:lnTo>
                  <a:pt x="178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7" y="832"/>
                </a:lnTo>
                <a:lnTo>
                  <a:pt x="197" y="836"/>
                </a:lnTo>
                <a:lnTo>
                  <a:pt x="206" y="841"/>
                </a:lnTo>
                <a:lnTo>
                  <a:pt x="215" y="841"/>
                </a:lnTo>
                <a:lnTo>
                  <a:pt x="229" y="841"/>
                </a:lnTo>
                <a:lnTo>
                  <a:pt x="239" y="836"/>
                </a:lnTo>
                <a:lnTo>
                  <a:pt x="253" y="841"/>
                </a:lnTo>
                <a:lnTo>
                  <a:pt x="262" y="841"/>
                </a:lnTo>
                <a:lnTo>
                  <a:pt x="271" y="846"/>
                </a:lnTo>
                <a:lnTo>
                  <a:pt x="295" y="846"/>
                </a:lnTo>
                <a:lnTo>
                  <a:pt x="295" y="846"/>
                </a:lnTo>
                <a:lnTo>
                  <a:pt x="300" y="846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4" y="850"/>
                </a:lnTo>
                <a:lnTo>
                  <a:pt x="304" y="850"/>
                </a:lnTo>
                <a:lnTo>
                  <a:pt x="309" y="850"/>
                </a:lnTo>
                <a:lnTo>
                  <a:pt x="309" y="850"/>
                </a:lnTo>
                <a:lnTo>
                  <a:pt x="314" y="850"/>
                </a:lnTo>
                <a:lnTo>
                  <a:pt x="314" y="850"/>
                </a:lnTo>
                <a:lnTo>
                  <a:pt x="318" y="850"/>
                </a:lnTo>
                <a:lnTo>
                  <a:pt x="318" y="855"/>
                </a:lnTo>
                <a:lnTo>
                  <a:pt x="323" y="855"/>
                </a:lnTo>
                <a:lnTo>
                  <a:pt x="323" y="855"/>
                </a:lnTo>
                <a:lnTo>
                  <a:pt x="398" y="832"/>
                </a:lnTo>
                <a:lnTo>
                  <a:pt x="398" y="832"/>
                </a:lnTo>
                <a:lnTo>
                  <a:pt x="398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7" y="832"/>
                </a:lnTo>
                <a:lnTo>
                  <a:pt x="407" y="832"/>
                </a:lnTo>
                <a:lnTo>
                  <a:pt x="412" y="832"/>
                </a:lnTo>
                <a:lnTo>
                  <a:pt x="417" y="827"/>
                </a:lnTo>
                <a:lnTo>
                  <a:pt x="421" y="827"/>
                </a:lnTo>
                <a:lnTo>
                  <a:pt x="426" y="827"/>
                </a:lnTo>
                <a:lnTo>
                  <a:pt x="431" y="822"/>
                </a:lnTo>
                <a:lnTo>
                  <a:pt x="435" y="822"/>
                </a:lnTo>
                <a:lnTo>
                  <a:pt x="440" y="822"/>
                </a:lnTo>
                <a:lnTo>
                  <a:pt x="445" y="818"/>
                </a:lnTo>
                <a:lnTo>
                  <a:pt x="454" y="813"/>
                </a:lnTo>
                <a:lnTo>
                  <a:pt x="459" y="813"/>
                </a:lnTo>
                <a:lnTo>
                  <a:pt x="468" y="808"/>
                </a:lnTo>
                <a:lnTo>
                  <a:pt x="473" y="804"/>
                </a:lnTo>
                <a:lnTo>
                  <a:pt x="478" y="799"/>
                </a:lnTo>
                <a:lnTo>
                  <a:pt x="487" y="799"/>
                </a:lnTo>
                <a:lnTo>
                  <a:pt x="492" y="799"/>
                </a:lnTo>
                <a:lnTo>
                  <a:pt x="501" y="794"/>
                </a:lnTo>
                <a:lnTo>
                  <a:pt x="506" y="794"/>
                </a:lnTo>
                <a:lnTo>
                  <a:pt x="515" y="790"/>
                </a:lnTo>
                <a:lnTo>
                  <a:pt x="520" y="790"/>
                </a:lnTo>
                <a:lnTo>
                  <a:pt x="529" y="785"/>
                </a:lnTo>
                <a:lnTo>
                  <a:pt x="534" y="785"/>
                </a:lnTo>
                <a:lnTo>
                  <a:pt x="543" y="785"/>
                </a:lnTo>
                <a:lnTo>
                  <a:pt x="548" y="785"/>
                </a:lnTo>
                <a:lnTo>
                  <a:pt x="557" y="785"/>
                </a:lnTo>
                <a:lnTo>
                  <a:pt x="553" y="785"/>
                </a:lnTo>
                <a:lnTo>
                  <a:pt x="553" y="785"/>
                </a:lnTo>
                <a:lnTo>
                  <a:pt x="553" y="780"/>
                </a:lnTo>
                <a:lnTo>
                  <a:pt x="553" y="780"/>
                </a:lnTo>
                <a:lnTo>
                  <a:pt x="553" y="780"/>
                </a:lnTo>
                <a:lnTo>
                  <a:pt x="553" y="776"/>
                </a:lnTo>
                <a:lnTo>
                  <a:pt x="553" y="776"/>
                </a:lnTo>
                <a:lnTo>
                  <a:pt x="553" y="776"/>
                </a:lnTo>
                <a:lnTo>
                  <a:pt x="590" y="757"/>
                </a:lnTo>
                <a:lnTo>
                  <a:pt x="721" y="701"/>
                </a:lnTo>
                <a:lnTo>
                  <a:pt x="735" y="691"/>
                </a:lnTo>
                <a:lnTo>
                  <a:pt x="754" y="691"/>
                </a:lnTo>
                <a:lnTo>
                  <a:pt x="759" y="687"/>
                </a:lnTo>
                <a:lnTo>
                  <a:pt x="759" y="687"/>
                </a:lnTo>
                <a:lnTo>
                  <a:pt x="759" y="687"/>
                </a:lnTo>
                <a:lnTo>
                  <a:pt x="763" y="682"/>
                </a:lnTo>
                <a:lnTo>
                  <a:pt x="763" y="682"/>
                </a:lnTo>
                <a:lnTo>
                  <a:pt x="763" y="682"/>
                </a:lnTo>
                <a:lnTo>
                  <a:pt x="768" y="677"/>
                </a:lnTo>
                <a:lnTo>
                  <a:pt x="768" y="677"/>
                </a:lnTo>
                <a:lnTo>
                  <a:pt x="787" y="668"/>
                </a:lnTo>
                <a:lnTo>
                  <a:pt x="801" y="659"/>
                </a:lnTo>
                <a:lnTo>
                  <a:pt x="834" y="645"/>
                </a:lnTo>
                <a:lnTo>
                  <a:pt x="899" y="603"/>
                </a:lnTo>
                <a:lnTo>
                  <a:pt x="927" y="589"/>
                </a:lnTo>
                <a:lnTo>
                  <a:pt x="941" y="575"/>
                </a:lnTo>
                <a:lnTo>
                  <a:pt x="955" y="565"/>
                </a:lnTo>
                <a:lnTo>
                  <a:pt x="974" y="551"/>
                </a:lnTo>
                <a:lnTo>
                  <a:pt x="993" y="542"/>
                </a:lnTo>
                <a:lnTo>
                  <a:pt x="1012" y="532"/>
                </a:lnTo>
                <a:lnTo>
                  <a:pt x="1030" y="523"/>
                </a:lnTo>
                <a:lnTo>
                  <a:pt x="1049" y="514"/>
                </a:lnTo>
                <a:lnTo>
                  <a:pt x="1073" y="504"/>
                </a:lnTo>
                <a:lnTo>
                  <a:pt x="1096" y="495"/>
                </a:lnTo>
                <a:lnTo>
                  <a:pt x="1115" y="486"/>
                </a:lnTo>
                <a:lnTo>
                  <a:pt x="1138" y="476"/>
                </a:lnTo>
                <a:lnTo>
                  <a:pt x="1162" y="462"/>
                </a:lnTo>
                <a:lnTo>
                  <a:pt x="1185" y="453"/>
                </a:lnTo>
                <a:lnTo>
                  <a:pt x="1208" y="444"/>
                </a:lnTo>
                <a:lnTo>
                  <a:pt x="1232" y="434"/>
                </a:lnTo>
                <a:lnTo>
                  <a:pt x="1255" y="425"/>
                </a:lnTo>
                <a:lnTo>
                  <a:pt x="1255" y="425"/>
                </a:lnTo>
                <a:lnTo>
                  <a:pt x="1255" y="425"/>
                </a:lnTo>
                <a:lnTo>
                  <a:pt x="1260" y="425"/>
                </a:lnTo>
                <a:lnTo>
                  <a:pt x="1260" y="420"/>
                </a:lnTo>
                <a:lnTo>
                  <a:pt x="1260" y="420"/>
                </a:lnTo>
                <a:lnTo>
                  <a:pt x="1260" y="420"/>
                </a:lnTo>
                <a:lnTo>
                  <a:pt x="1279" y="416"/>
                </a:lnTo>
                <a:lnTo>
                  <a:pt x="1293" y="411"/>
                </a:lnTo>
                <a:lnTo>
                  <a:pt x="1307" y="402"/>
                </a:lnTo>
                <a:lnTo>
                  <a:pt x="1321" y="397"/>
                </a:lnTo>
                <a:lnTo>
                  <a:pt x="1340" y="392"/>
                </a:lnTo>
                <a:lnTo>
                  <a:pt x="1354" y="388"/>
                </a:lnTo>
                <a:lnTo>
                  <a:pt x="1368" y="383"/>
                </a:lnTo>
                <a:lnTo>
                  <a:pt x="1382" y="378"/>
                </a:lnTo>
                <a:lnTo>
                  <a:pt x="1415" y="360"/>
                </a:lnTo>
                <a:lnTo>
                  <a:pt x="1452" y="346"/>
                </a:lnTo>
                <a:lnTo>
                  <a:pt x="1485" y="332"/>
                </a:lnTo>
                <a:lnTo>
                  <a:pt x="1522" y="317"/>
                </a:lnTo>
                <a:lnTo>
                  <a:pt x="1555" y="308"/>
                </a:lnTo>
                <a:lnTo>
                  <a:pt x="1593" y="294"/>
                </a:lnTo>
                <a:lnTo>
                  <a:pt x="1625" y="285"/>
                </a:lnTo>
                <a:lnTo>
                  <a:pt x="1663" y="271"/>
                </a:lnTo>
                <a:lnTo>
                  <a:pt x="1677" y="266"/>
                </a:lnTo>
                <a:lnTo>
                  <a:pt x="1691" y="261"/>
                </a:lnTo>
                <a:lnTo>
                  <a:pt x="1710" y="257"/>
                </a:lnTo>
                <a:lnTo>
                  <a:pt x="1724" y="252"/>
                </a:lnTo>
                <a:lnTo>
                  <a:pt x="1743" y="247"/>
                </a:lnTo>
                <a:lnTo>
                  <a:pt x="1757" y="243"/>
                </a:lnTo>
                <a:lnTo>
                  <a:pt x="1775" y="238"/>
                </a:lnTo>
                <a:lnTo>
                  <a:pt x="1794" y="233"/>
                </a:lnTo>
                <a:lnTo>
                  <a:pt x="1832" y="219"/>
                </a:lnTo>
                <a:lnTo>
                  <a:pt x="1869" y="210"/>
                </a:lnTo>
                <a:lnTo>
                  <a:pt x="1907" y="201"/>
                </a:lnTo>
                <a:lnTo>
                  <a:pt x="1944" y="191"/>
                </a:lnTo>
                <a:lnTo>
                  <a:pt x="1981" y="177"/>
                </a:lnTo>
                <a:lnTo>
                  <a:pt x="2019" y="168"/>
                </a:lnTo>
                <a:lnTo>
                  <a:pt x="2056" y="159"/>
                </a:lnTo>
                <a:lnTo>
                  <a:pt x="2089" y="149"/>
                </a:lnTo>
                <a:lnTo>
                  <a:pt x="2103" y="149"/>
                </a:lnTo>
                <a:lnTo>
                  <a:pt x="2113" y="145"/>
                </a:lnTo>
                <a:lnTo>
                  <a:pt x="2122" y="145"/>
                </a:lnTo>
                <a:lnTo>
                  <a:pt x="2136" y="140"/>
                </a:lnTo>
                <a:lnTo>
                  <a:pt x="2145" y="135"/>
                </a:lnTo>
                <a:lnTo>
                  <a:pt x="2159" y="135"/>
                </a:lnTo>
                <a:lnTo>
                  <a:pt x="2169" y="131"/>
                </a:lnTo>
                <a:lnTo>
                  <a:pt x="2178" y="131"/>
                </a:lnTo>
                <a:lnTo>
                  <a:pt x="2234" y="121"/>
                </a:lnTo>
                <a:lnTo>
                  <a:pt x="2291" y="112"/>
                </a:lnTo>
                <a:lnTo>
                  <a:pt x="2347" y="102"/>
                </a:lnTo>
                <a:lnTo>
                  <a:pt x="2403" y="93"/>
                </a:lnTo>
                <a:lnTo>
                  <a:pt x="2459" y="88"/>
                </a:lnTo>
                <a:lnTo>
                  <a:pt x="2516" y="84"/>
                </a:lnTo>
                <a:lnTo>
                  <a:pt x="2572" y="79"/>
                </a:lnTo>
                <a:lnTo>
                  <a:pt x="2633" y="74"/>
                </a:lnTo>
                <a:lnTo>
                  <a:pt x="2656" y="74"/>
                </a:lnTo>
                <a:lnTo>
                  <a:pt x="2684" y="74"/>
                </a:lnTo>
                <a:lnTo>
                  <a:pt x="2712" y="74"/>
                </a:lnTo>
                <a:lnTo>
                  <a:pt x="2736" y="79"/>
                </a:lnTo>
                <a:lnTo>
                  <a:pt x="2764" y="79"/>
                </a:lnTo>
                <a:lnTo>
                  <a:pt x="2787" y="79"/>
                </a:lnTo>
                <a:lnTo>
                  <a:pt x="2815" y="84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93"/>
                </a:lnTo>
                <a:lnTo>
                  <a:pt x="2834" y="98"/>
                </a:lnTo>
                <a:lnTo>
                  <a:pt x="2820" y="102"/>
                </a:lnTo>
                <a:lnTo>
                  <a:pt x="2806" y="107"/>
                </a:lnTo>
                <a:lnTo>
                  <a:pt x="2792" y="112"/>
                </a:lnTo>
                <a:lnTo>
                  <a:pt x="2778" y="112"/>
                </a:lnTo>
                <a:lnTo>
                  <a:pt x="2764" y="117"/>
                </a:lnTo>
                <a:lnTo>
                  <a:pt x="2750" y="121"/>
                </a:lnTo>
                <a:lnTo>
                  <a:pt x="2736" y="126"/>
                </a:lnTo>
                <a:lnTo>
                  <a:pt x="2680" y="140"/>
                </a:lnTo>
                <a:lnTo>
                  <a:pt x="2623" y="154"/>
                </a:lnTo>
                <a:lnTo>
                  <a:pt x="2567" y="168"/>
                </a:lnTo>
                <a:lnTo>
                  <a:pt x="2516" y="182"/>
                </a:lnTo>
                <a:lnTo>
                  <a:pt x="2459" y="196"/>
                </a:lnTo>
                <a:lnTo>
                  <a:pt x="2403" y="210"/>
                </a:lnTo>
                <a:lnTo>
                  <a:pt x="2352" y="224"/>
                </a:lnTo>
                <a:lnTo>
                  <a:pt x="2295" y="243"/>
                </a:lnTo>
                <a:lnTo>
                  <a:pt x="2244" y="257"/>
                </a:lnTo>
                <a:lnTo>
                  <a:pt x="2192" y="271"/>
                </a:lnTo>
                <a:lnTo>
                  <a:pt x="2141" y="289"/>
                </a:lnTo>
                <a:lnTo>
                  <a:pt x="2094" y="308"/>
                </a:lnTo>
                <a:lnTo>
                  <a:pt x="2042" y="327"/>
                </a:lnTo>
                <a:lnTo>
                  <a:pt x="1996" y="346"/>
                </a:lnTo>
                <a:lnTo>
                  <a:pt x="1944" y="369"/>
                </a:lnTo>
                <a:lnTo>
                  <a:pt x="1897" y="388"/>
                </a:lnTo>
                <a:lnTo>
                  <a:pt x="1869" y="397"/>
                </a:lnTo>
                <a:lnTo>
                  <a:pt x="1846" y="411"/>
                </a:lnTo>
                <a:lnTo>
                  <a:pt x="1822" y="425"/>
                </a:lnTo>
                <a:lnTo>
                  <a:pt x="1799" y="444"/>
                </a:lnTo>
                <a:lnTo>
                  <a:pt x="1780" y="462"/>
                </a:lnTo>
                <a:lnTo>
                  <a:pt x="1761" y="476"/>
                </a:lnTo>
                <a:lnTo>
                  <a:pt x="1743" y="495"/>
                </a:lnTo>
                <a:lnTo>
                  <a:pt x="1724" y="509"/>
                </a:lnTo>
                <a:lnTo>
                  <a:pt x="1710" y="532"/>
                </a:lnTo>
                <a:lnTo>
                  <a:pt x="1710" y="542"/>
                </a:lnTo>
                <a:lnTo>
                  <a:pt x="1714" y="546"/>
                </a:lnTo>
                <a:lnTo>
                  <a:pt x="1714" y="556"/>
                </a:lnTo>
                <a:lnTo>
                  <a:pt x="1719" y="561"/>
                </a:lnTo>
                <a:lnTo>
                  <a:pt x="1724" y="570"/>
                </a:lnTo>
                <a:lnTo>
                  <a:pt x="1728" y="575"/>
                </a:lnTo>
                <a:lnTo>
                  <a:pt x="1738" y="579"/>
                </a:lnTo>
                <a:lnTo>
                  <a:pt x="1743" y="584"/>
                </a:lnTo>
                <a:lnTo>
                  <a:pt x="1771" y="593"/>
                </a:lnTo>
                <a:lnTo>
                  <a:pt x="1803" y="593"/>
                </a:lnTo>
                <a:lnTo>
                  <a:pt x="1836" y="593"/>
                </a:lnTo>
                <a:lnTo>
                  <a:pt x="1864" y="584"/>
                </a:lnTo>
                <a:lnTo>
                  <a:pt x="1897" y="575"/>
                </a:lnTo>
                <a:lnTo>
                  <a:pt x="1930" y="561"/>
                </a:lnTo>
                <a:lnTo>
                  <a:pt x="1958" y="551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6" y="537"/>
                </a:lnTo>
                <a:lnTo>
                  <a:pt x="1996" y="537"/>
                </a:lnTo>
                <a:lnTo>
                  <a:pt x="1996" y="542"/>
                </a:lnTo>
                <a:lnTo>
                  <a:pt x="2000" y="542"/>
                </a:lnTo>
                <a:lnTo>
                  <a:pt x="2000" y="537"/>
                </a:lnTo>
                <a:lnTo>
                  <a:pt x="2005" y="537"/>
                </a:lnTo>
                <a:lnTo>
                  <a:pt x="2014" y="532"/>
                </a:lnTo>
                <a:lnTo>
                  <a:pt x="2019" y="532"/>
                </a:lnTo>
                <a:lnTo>
                  <a:pt x="2028" y="528"/>
                </a:lnTo>
                <a:lnTo>
                  <a:pt x="2033" y="523"/>
                </a:lnTo>
                <a:lnTo>
                  <a:pt x="2042" y="523"/>
                </a:lnTo>
                <a:lnTo>
                  <a:pt x="2052" y="518"/>
                </a:lnTo>
                <a:lnTo>
                  <a:pt x="2056" y="518"/>
                </a:lnTo>
                <a:lnTo>
                  <a:pt x="2080" y="509"/>
                </a:lnTo>
                <a:lnTo>
                  <a:pt x="2099" y="504"/>
                </a:lnTo>
                <a:lnTo>
                  <a:pt x="2122" y="495"/>
                </a:lnTo>
                <a:lnTo>
                  <a:pt x="2141" y="490"/>
                </a:lnTo>
                <a:lnTo>
                  <a:pt x="2159" y="481"/>
                </a:lnTo>
                <a:lnTo>
                  <a:pt x="2178" y="476"/>
                </a:lnTo>
                <a:lnTo>
                  <a:pt x="2202" y="467"/>
                </a:lnTo>
                <a:lnTo>
                  <a:pt x="2220" y="462"/>
                </a:lnTo>
                <a:lnTo>
                  <a:pt x="2230" y="462"/>
                </a:lnTo>
                <a:lnTo>
                  <a:pt x="2234" y="458"/>
                </a:lnTo>
                <a:lnTo>
                  <a:pt x="2239" y="458"/>
                </a:lnTo>
                <a:lnTo>
                  <a:pt x="2244" y="453"/>
                </a:lnTo>
                <a:lnTo>
                  <a:pt x="2249" y="453"/>
                </a:lnTo>
                <a:lnTo>
                  <a:pt x="2253" y="453"/>
                </a:lnTo>
                <a:lnTo>
                  <a:pt x="2258" y="448"/>
                </a:lnTo>
                <a:lnTo>
                  <a:pt x="2263" y="444"/>
                </a:lnTo>
                <a:lnTo>
                  <a:pt x="2277" y="444"/>
                </a:lnTo>
                <a:lnTo>
                  <a:pt x="2286" y="444"/>
                </a:lnTo>
                <a:lnTo>
                  <a:pt x="2295" y="439"/>
                </a:lnTo>
                <a:lnTo>
                  <a:pt x="2305" y="434"/>
                </a:lnTo>
                <a:lnTo>
                  <a:pt x="2319" y="430"/>
                </a:lnTo>
                <a:lnTo>
                  <a:pt x="2328" y="430"/>
                </a:lnTo>
                <a:lnTo>
                  <a:pt x="2338" y="425"/>
                </a:lnTo>
                <a:lnTo>
                  <a:pt x="2352" y="425"/>
                </a:lnTo>
                <a:lnTo>
                  <a:pt x="2356" y="420"/>
                </a:lnTo>
                <a:lnTo>
                  <a:pt x="2361" y="420"/>
                </a:lnTo>
                <a:lnTo>
                  <a:pt x="2366" y="416"/>
                </a:lnTo>
                <a:lnTo>
                  <a:pt x="2370" y="416"/>
                </a:lnTo>
                <a:lnTo>
                  <a:pt x="2375" y="416"/>
                </a:lnTo>
                <a:lnTo>
                  <a:pt x="2380" y="411"/>
                </a:lnTo>
                <a:lnTo>
                  <a:pt x="2389" y="411"/>
                </a:lnTo>
                <a:lnTo>
                  <a:pt x="2394" y="411"/>
                </a:lnTo>
                <a:lnTo>
                  <a:pt x="2398" y="416"/>
                </a:lnTo>
                <a:lnTo>
                  <a:pt x="2408" y="420"/>
                </a:lnTo>
                <a:lnTo>
                  <a:pt x="2412" y="425"/>
                </a:lnTo>
                <a:lnTo>
                  <a:pt x="2422" y="434"/>
                </a:lnTo>
                <a:lnTo>
                  <a:pt x="2427" y="439"/>
                </a:lnTo>
                <a:lnTo>
                  <a:pt x="2436" y="448"/>
                </a:lnTo>
                <a:lnTo>
                  <a:pt x="2445" y="448"/>
                </a:lnTo>
                <a:lnTo>
                  <a:pt x="2455" y="453"/>
                </a:lnTo>
                <a:lnTo>
                  <a:pt x="2473" y="453"/>
                </a:lnTo>
                <a:lnTo>
                  <a:pt x="2487" y="448"/>
                </a:lnTo>
                <a:lnTo>
                  <a:pt x="2501" y="448"/>
                </a:lnTo>
                <a:lnTo>
                  <a:pt x="2516" y="444"/>
                </a:lnTo>
                <a:lnTo>
                  <a:pt x="2534" y="439"/>
                </a:lnTo>
                <a:lnTo>
                  <a:pt x="2548" y="434"/>
                </a:lnTo>
                <a:lnTo>
                  <a:pt x="2562" y="430"/>
                </a:lnTo>
                <a:lnTo>
                  <a:pt x="2576" y="430"/>
                </a:lnTo>
                <a:lnTo>
                  <a:pt x="2600" y="430"/>
                </a:lnTo>
                <a:lnTo>
                  <a:pt x="2623" y="425"/>
                </a:lnTo>
                <a:lnTo>
                  <a:pt x="2647" y="425"/>
                </a:lnTo>
                <a:lnTo>
                  <a:pt x="2670" y="425"/>
                </a:lnTo>
                <a:lnTo>
                  <a:pt x="2694" y="420"/>
                </a:lnTo>
                <a:lnTo>
                  <a:pt x="2717" y="420"/>
                </a:lnTo>
                <a:lnTo>
                  <a:pt x="2736" y="420"/>
                </a:lnTo>
                <a:lnTo>
                  <a:pt x="2759" y="420"/>
                </a:lnTo>
                <a:lnTo>
                  <a:pt x="2820" y="420"/>
                </a:lnTo>
                <a:lnTo>
                  <a:pt x="2881" y="416"/>
                </a:lnTo>
                <a:lnTo>
                  <a:pt x="2942" y="416"/>
                </a:lnTo>
                <a:lnTo>
                  <a:pt x="3003" y="411"/>
                </a:lnTo>
                <a:lnTo>
                  <a:pt x="3064" y="411"/>
                </a:lnTo>
                <a:lnTo>
                  <a:pt x="3125" y="411"/>
                </a:lnTo>
                <a:lnTo>
                  <a:pt x="3190" y="416"/>
                </a:lnTo>
                <a:lnTo>
                  <a:pt x="3251" y="420"/>
                </a:lnTo>
                <a:lnTo>
                  <a:pt x="3312" y="420"/>
                </a:lnTo>
                <a:lnTo>
                  <a:pt x="3373" y="425"/>
                </a:lnTo>
                <a:lnTo>
                  <a:pt x="3434" y="430"/>
                </a:lnTo>
                <a:lnTo>
                  <a:pt x="3495" y="430"/>
                </a:lnTo>
                <a:lnTo>
                  <a:pt x="3556" y="430"/>
                </a:lnTo>
                <a:lnTo>
                  <a:pt x="3617" y="430"/>
                </a:lnTo>
                <a:lnTo>
                  <a:pt x="3673" y="430"/>
                </a:lnTo>
                <a:lnTo>
                  <a:pt x="3734" y="420"/>
                </a:lnTo>
                <a:lnTo>
                  <a:pt x="3757" y="416"/>
                </a:lnTo>
                <a:lnTo>
                  <a:pt x="3780" y="411"/>
                </a:lnTo>
                <a:lnTo>
                  <a:pt x="3799" y="411"/>
                </a:lnTo>
                <a:lnTo>
                  <a:pt x="3823" y="406"/>
                </a:lnTo>
                <a:lnTo>
                  <a:pt x="3846" y="406"/>
                </a:lnTo>
                <a:lnTo>
                  <a:pt x="3865" y="406"/>
                </a:lnTo>
                <a:lnTo>
                  <a:pt x="3888" y="402"/>
                </a:lnTo>
                <a:lnTo>
                  <a:pt x="3907" y="397"/>
                </a:lnTo>
                <a:lnTo>
                  <a:pt x="3912" y="397"/>
                </a:lnTo>
                <a:lnTo>
                  <a:pt x="3916" y="397"/>
                </a:lnTo>
                <a:lnTo>
                  <a:pt x="3921" y="397"/>
                </a:lnTo>
                <a:lnTo>
                  <a:pt x="3926" y="397"/>
                </a:lnTo>
                <a:lnTo>
                  <a:pt x="3930" y="397"/>
                </a:lnTo>
                <a:lnTo>
                  <a:pt x="3935" y="397"/>
                </a:lnTo>
                <a:lnTo>
                  <a:pt x="3935" y="397"/>
                </a:lnTo>
                <a:lnTo>
                  <a:pt x="3940" y="392"/>
                </a:lnTo>
                <a:lnTo>
                  <a:pt x="4268" y="392"/>
                </a:lnTo>
                <a:lnTo>
                  <a:pt x="4315" y="397"/>
                </a:lnTo>
                <a:lnTo>
                  <a:pt x="4361" y="402"/>
                </a:lnTo>
                <a:lnTo>
                  <a:pt x="4413" y="402"/>
                </a:lnTo>
                <a:lnTo>
                  <a:pt x="4460" y="402"/>
                </a:lnTo>
                <a:lnTo>
                  <a:pt x="4511" y="406"/>
                </a:lnTo>
                <a:lnTo>
                  <a:pt x="4558" y="406"/>
                </a:lnTo>
                <a:lnTo>
                  <a:pt x="4605" y="411"/>
                </a:lnTo>
                <a:lnTo>
                  <a:pt x="4657" y="420"/>
                </a:lnTo>
                <a:lnTo>
                  <a:pt x="4666" y="425"/>
                </a:lnTo>
                <a:lnTo>
                  <a:pt x="4680" y="430"/>
                </a:lnTo>
                <a:lnTo>
                  <a:pt x="4694" y="434"/>
                </a:lnTo>
                <a:lnTo>
                  <a:pt x="4703" y="434"/>
                </a:lnTo>
                <a:lnTo>
                  <a:pt x="4717" y="434"/>
                </a:lnTo>
                <a:lnTo>
                  <a:pt x="4727" y="430"/>
                </a:lnTo>
                <a:lnTo>
                  <a:pt x="4741" y="425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1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/>
          <p:nvPr/>
        </p:nvSpPr>
        <p:spPr>
          <a:xfrm>
            <a:off x="380880" y="1238400"/>
            <a:ext cx="8382240" cy="109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  <a:effectLst>
            <a:outerShdw dist="206639" dir="82482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ider a random experiment in which           a coin is tossed three ti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3352680" y="152280"/>
            <a:ext cx="2486160" cy="871560"/>
            <a:chOff x="3352680" y="152280"/>
            <a:chExt cx="2486160" cy="871560"/>
          </a:xfrm>
        </p:grpSpPr>
        <p:sp>
          <p:nvSpPr>
            <p:cNvPr id="1469" name=""/>
            <p:cNvSpPr txBox="1"/>
            <p:nvPr/>
          </p:nvSpPr>
          <p:spPr>
            <a:xfrm>
              <a:off x="3352680" y="15228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470" name=""/>
            <p:cNvSpPr txBox="1"/>
            <p:nvPr/>
          </p:nvSpPr>
          <p:spPr>
            <a:xfrm>
              <a:off x="3990960" y="361800"/>
              <a:ext cx="18478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1447920" y="2590920"/>
            <a:ext cx="6018480" cy="976320"/>
            <a:chOff x="1447920" y="2590920"/>
            <a:chExt cx="6018480" cy="976320"/>
          </a:xfrm>
        </p:grpSpPr>
        <p:grpSp>
          <p:nvGrpSpPr>
            <p:cNvPr id="1472" name=""/>
            <p:cNvGrpSpPr/>
            <p:nvPr/>
          </p:nvGrpSpPr>
          <p:grpSpPr>
            <a:xfrm>
              <a:off x="6471720" y="2590920"/>
              <a:ext cx="994680" cy="976320"/>
              <a:chOff x="6471720" y="2590920"/>
              <a:chExt cx="994680" cy="976320"/>
            </a:xfrm>
          </p:grpSpPr>
          <p:sp>
            <p:nvSpPr>
              <p:cNvPr id="1473" name=""/>
              <p:cNvSpPr/>
              <p:nvPr/>
            </p:nvSpPr>
            <p:spPr>
              <a:xfrm>
                <a:off x="6509160" y="2590920"/>
                <a:ext cx="91368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471720" y="2916360"/>
                <a:ext cx="99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Hea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5" name=""/>
            <p:cNvSpPr/>
            <p:nvPr/>
          </p:nvSpPr>
          <p:spPr>
            <a:xfrm>
              <a:off x="1447920" y="2743200"/>
              <a:ext cx="494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44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be the number o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967320" y="4648320"/>
            <a:ext cx="7185960" cy="976320"/>
            <a:chOff x="967320" y="4648320"/>
            <a:chExt cx="7185960" cy="976320"/>
          </a:xfrm>
        </p:grpSpPr>
        <p:grpSp>
          <p:nvGrpSpPr>
            <p:cNvPr id="1477" name=""/>
            <p:cNvGrpSpPr/>
            <p:nvPr/>
          </p:nvGrpSpPr>
          <p:grpSpPr>
            <a:xfrm>
              <a:off x="7238880" y="4648320"/>
              <a:ext cx="914400" cy="976320"/>
              <a:chOff x="7238880" y="4648320"/>
              <a:chExt cx="914400" cy="976320"/>
            </a:xfrm>
          </p:grpSpPr>
          <p:sp>
            <p:nvSpPr>
              <p:cNvPr id="1478" name=""/>
              <p:cNvSpPr/>
              <p:nvPr/>
            </p:nvSpPr>
            <p:spPr>
              <a:xfrm>
                <a:off x="7238880" y="4648320"/>
                <a:ext cx="91440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287480" y="4973760"/>
                <a:ext cx="82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cc"/>
                    </a:solidFill>
                    <a:latin typeface="Times New Roman"/>
                  </a:rPr>
                  <a:t>Tai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0" name=""/>
            <p:cNvSpPr/>
            <p:nvPr/>
          </p:nvSpPr>
          <p:spPr>
            <a:xfrm>
              <a:off x="967320" y="4800600"/>
              <a:ext cx="608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3600" spc="-1" strike="noStrike">
                  <a:solidFill>
                    <a:srgbClr val="ff33cc"/>
                  </a:solidFill>
                  <a:latin typeface="Times New Roman"/>
                </a:rPr>
                <a:t>T represent</a:t>
              </a: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outcome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o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816120" y="3581280"/>
            <a:ext cx="7564320" cy="976320"/>
            <a:chOff x="816120" y="3581280"/>
            <a:chExt cx="7564320" cy="976320"/>
          </a:xfrm>
        </p:grpSpPr>
        <p:sp>
          <p:nvSpPr>
            <p:cNvPr id="1482" name=""/>
            <p:cNvSpPr/>
            <p:nvPr/>
          </p:nvSpPr>
          <p:spPr>
            <a:xfrm>
              <a:off x="816120" y="3795480"/>
              <a:ext cx="67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Let </a:t>
              </a: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represent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the </a:t>
              </a:r>
              <a:r>
                <a:rPr b="1" lang="en-US" sz="3600" spc="-1" strike="noStrike">
                  <a:solidFill>
                    <a:srgbClr val="3333cc"/>
                  </a:solidFill>
                  <a:latin typeface="Times New Roman"/>
                </a:rPr>
                <a:t>outcome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of 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3" name=""/>
            <p:cNvGrpSpPr/>
            <p:nvPr/>
          </p:nvGrpSpPr>
          <p:grpSpPr>
            <a:xfrm>
              <a:off x="7428600" y="3581280"/>
              <a:ext cx="951840" cy="976320"/>
              <a:chOff x="7428600" y="3581280"/>
              <a:chExt cx="951840" cy="976320"/>
            </a:xfrm>
          </p:grpSpPr>
          <p:sp>
            <p:nvSpPr>
              <p:cNvPr id="1484" name=""/>
              <p:cNvSpPr/>
              <p:nvPr/>
            </p:nvSpPr>
            <p:spPr>
              <a:xfrm>
                <a:off x="7445880" y="3581280"/>
                <a:ext cx="91368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428600" y="3906720"/>
                <a:ext cx="95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Hea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6" name=""/>
          <p:cNvSpPr/>
          <p:nvPr/>
        </p:nvSpPr>
        <p:spPr>
          <a:xfrm>
            <a:off x="729360" y="5791320"/>
            <a:ext cx="7684920" cy="64260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50000">
                <a:srgbClr val="00ffff"/>
              </a:gs>
              <a:gs pos="100000">
                <a:srgbClr val="ff33cc"/>
              </a:gs>
            </a:gsLst>
            <a:lin ang="5400000"/>
          </a:gra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termine the probability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1600200" y="152280"/>
            <a:ext cx="5943600" cy="642600"/>
          </a:xfrm>
          <a:prstGeom prst="rect">
            <a:avLst/>
          </a:prstGeom>
          <a:solidFill>
            <a:srgbClr val="fcf3b2"/>
          </a:soli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isting the possi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8" name=""/>
          <p:cNvGrpSpPr/>
          <p:nvPr/>
        </p:nvGrpSpPr>
        <p:grpSpPr>
          <a:xfrm>
            <a:off x="985320" y="1143000"/>
            <a:ext cx="3210840" cy="976320"/>
            <a:chOff x="985320" y="1143000"/>
            <a:chExt cx="3210840" cy="976320"/>
          </a:xfrm>
        </p:grpSpPr>
        <p:grpSp>
          <p:nvGrpSpPr>
            <p:cNvPr id="1489" name=""/>
            <p:cNvGrpSpPr/>
            <p:nvPr/>
          </p:nvGrpSpPr>
          <p:grpSpPr>
            <a:xfrm>
              <a:off x="985320" y="1143000"/>
              <a:ext cx="994680" cy="976320"/>
              <a:chOff x="985320" y="1143000"/>
              <a:chExt cx="994680" cy="976320"/>
            </a:xfrm>
          </p:grpSpPr>
          <p:sp>
            <p:nvSpPr>
              <p:cNvPr id="1490" name=""/>
              <p:cNvSpPr/>
              <p:nvPr/>
            </p:nvSpPr>
            <p:spPr>
              <a:xfrm>
                <a:off x="1022760" y="1143000"/>
                <a:ext cx="91368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985320" y="1468440"/>
                <a:ext cx="99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Hea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2" name=""/>
            <p:cNvGrpSpPr/>
            <p:nvPr/>
          </p:nvGrpSpPr>
          <p:grpSpPr>
            <a:xfrm>
              <a:off x="2128320" y="1143000"/>
              <a:ext cx="994680" cy="976320"/>
              <a:chOff x="2128320" y="1143000"/>
              <a:chExt cx="994680" cy="976320"/>
            </a:xfrm>
          </p:grpSpPr>
          <p:sp>
            <p:nvSpPr>
              <p:cNvPr id="1493" name=""/>
              <p:cNvSpPr/>
              <p:nvPr/>
            </p:nvSpPr>
            <p:spPr>
              <a:xfrm>
                <a:off x="2165760" y="1143000"/>
                <a:ext cx="91368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2128320" y="1468440"/>
                <a:ext cx="99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Hea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5" name=""/>
            <p:cNvGrpSpPr/>
            <p:nvPr/>
          </p:nvGrpSpPr>
          <p:grpSpPr>
            <a:xfrm>
              <a:off x="3201480" y="1143000"/>
              <a:ext cx="994680" cy="976320"/>
              <a:chOff x="3201480" y="1143000"/>
              <a:chExt cx="994680" cy="976320"/>
            </a:xfrm>
          </p:grpSpPr>
          <p:sp>
            <p:nvSpPr>
              <p:cNvPr id="1496" name=""/>
              <p:cNvSpPr/>
              <p:nvPr/>
            </p:nvSpPr>
            <p:spPr>
              <a:xfrm>
                <a:off x="3238920" y="1143000"/>
                <a:ext cx="91368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201480" y="1468440"/>
                <a:ext cx="99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Hea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8" name=""/>
          <p:cNvGrpSpPr/>
          <p:nvPr/>
        </p:nvGrpSpPr>
        <p:grpSpPr>
          <a:xfrm>
            <a:off x="4947840" y="1143000"/>
            <a:ext cx="3205440" cy="990720"/>
            <a:chOff x="4947840" y="1143000"/>
            <a:chExt cx="3205440" cy="990720"/>
          </a:xfrm>
        </p:grpSpPr>
        <p:grpSp>
          <p:nvGrpSpPr>
            <p:cNvPr id="1499" name=""/>
            <p:cNvGrpSpPr/>
            <p:nvPr/>
          </p:nvGrpSpPr>
          <p:grpSpPr>
            <a:xfrm>
              <a:off x="7238880" y="1143000"/>
              <a:ext cx="914400" cy="976320"/>
              <a:chOff x="7238880" y="1143000"/>
              <a:chExt cx="914400" cy="976320"/>
            </a:xfrm>
          </p:grpSpPr>
          <p:sp>
            <p:nvSpPr>
              <p:cNvPr id="1500" name=""/>
              <p:cNvSpPr/>
              <p:nvPr/>
            </p:nvSpPr>
            <p:spPr>
              <a:xfrm>
                <a:off x="7238880" y="1143000"/>
                <a:ext cx="91440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287480" y="1468440"/>
                <a:ext cx="82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cc"/>
                    </a:solidFill>
                    <a:latin typeface="Times New Roman"/>
                  </a:rPr>
                  <a:t>Tai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4947840" y="1143000"/>
              <a:ext cx="994680" cy="976320"/>
              <a:chOff x="4947840" y="1143000"/>
              <a:chExt cx="994680" cy="976320"/>
            </a:xfrm>
          </p:grpSpPr>
          <p:sp>
            <p:nvSpPr>
              <p:cNvPr id="1503" name=""/>
              <p:cNvSpPr/>
              <p:nvPr/>
            </p:nvSpPr>
            <p:spPr>
              <a:xfrm>
                <a:off x="4985280" y="1143000"/>
                <a:ext cx="91368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947840" y="1468440"/>
                <a:ext cx="99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Hea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6090840" y="1157400"/>
              <a:ext cx="994680" cy="976320"/>
              <a:chOff x="6090840" y="1157400"/>
              <a:chExt cx="994680" cy="976320"/>
            </a:xfrm>
          </p:grpSpPr>
          <p:sp>
            <p:nvSpPr>
              <p:cNvPr id="1506" name=""/>
              <p:cNvSpPr/>
              <p:nvPr/>
            </p:nvSpPr>
            <p:spPr>
              <a:xfrm>
                <a:off x="6128280" y="1157400"/>
                <a:ext cx="91368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090840" y="1482840"/>
                <a:ext cx="99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Hea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8" name=""/>
          <p:cNvGrpSpPr/>
          <p:nvPr/>
        </p:nvGrpSpPr>
        <p:grpSpPr>
          <a:xfrm>
            <a:off x="915480" y="2209680"/>
            <a:ext cx="3280680" cy="990720"/>
            <a:chOff x="915480" y="2209680"/>
            <a:chExt cx="3280680" cy="990720"/>
          </a:xfrm>
        </p:grpSpPr>
        <p:grpSp>
          <p:nvGrpSpPr>
            <p:cNvPr id="1509" name=""/>
            <p:cNvGrpSpPr/>
            <p:nvPr/>
          </p:nvGrpSpPr>
          <p:grpSpPr>
            <a:xfrm>
              <a:off x="2133720" y="2209680"/>
              <a:ext cx="914400" cy="976320"/>
              <a:chOff x="2133720" y="2209680"/>
              <a:chExt cx="914400" cy="976320"/>
            </a:xfrm>
          </p:grpSpPr>
          <p:sp>
            <p:nvSpPr>
              <p:cNvPr id="1510" name=""/>
              <p:cNvSpPr/>
              <p:nvPr/>
            </p:nvSpPr>
            <p:spPr>
              <a:xfrm>
                <a:off x="2133720" y="2209680"/>
                <a:ext cx="91440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182320" y="2535120"/>
                <a:ext cx="82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cc"/>
                    </a:solidFill>
                    <a:latin typeface="Times New Roman"/>
                  </a:rPr>
                  <a:t>Tai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915480" y="2224080"/>
              <a:ext cx="994680" cy="976320"/>
              <a:chOff x="915480" y="2224080"/>
              <a:chExt cx="994680" cy="976320"/>
            </a:xfrm>
          </p:grpSpPr>
          <p:sp>
            <p:nvSpPr>
              <p:cNvPr id="1513" name=""/>
              <p:cNvSpPr/>
              <p:nvPr/>
            </p:nvSpPr>
            <p:spPr>
              <a:xfrm>
                <a:off x="952920" y="2224080"/>
                <a:ext cx="91368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915480" y="2549520"/>
                <a:ext cx="99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Hea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3201480" y="2209680"/>
              <a:ext cx="994680" cy="976320"/>
              <a:chOff x="3201480" y="2209680"/>
              <a:chExt cx="994680" cy="976320"/>
            </a:xfrm>
          </p:grpSpPr>
          <p:sp>
            <p:nvSpPr>
              <p:cNvPr id="1516" name=""/>
              <p:cNvSpPr/>
              <p:nvPr/>
            </p:nvSpPr>
            <p:spPr>
              <a:xfrm>
                <a:off x="3238920" y="2209680"/>
                <a:ext cx="91368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201480" y="2535120"/>
                <a:ext cx="99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Hea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8" name=""/>
          <p:cNvGrpSpPr/>
          <p:nvPr/>
        </p:nvGrpSpPr>
        <p:grpSpPr>
          <a:xfrm>
            <a:off x="4952880" y="2209680"/>
            <a:ext cx="3275640" cy="990720"/>
            <a:chOff x="4952880" y="2209680"/>
            <a:chExt cx="3275640" cy="990720"/>
          </a:xfrm>
        </p:grpSpPr>
        <p:grpSp>
          <p:nvGrpSpPr>
            <p:cNvPr id="1519" name=""/>
            <p:cNvGrpSpPr/>
            <p:nvPr/>
          </p:nvGrpSpPr>
          <p:grpSpPr>
            <a:xfrm>
              <a:off x="4952880" y="2209680"/>
              <a:ext cx="914400" cy="976320"/>
              <a:chOff x="4952880" y="2209680"/>
              <a:chExt cx="914400" cy="976320"/>
            </a:xfrm>
          </p:grpSpPr>
          <p:sp>
            <p:nvSpPr>
              <p:cNvPr id="1520" name=""/>
              <p:cNvSpPr/>
              <p:nvPr/>
            </p:nvSpPr>
            <p:spPr>
              <a:xfrm>
                <a:off x="4952880" y="2209680"/>
                <a:ext cx="91440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001480" y="2535120"/>
                <a:ext cx="82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cc"/>
                    </a:solidFill>
                    <a:latin typeface="Times New Roman"/>
                  </a:rPr>
                  <a:t>Tai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6090840" y="2224080"/>
              <a:ext cx="994680" cy="976320"/>
              <a:chOff x="6090840" y="2224080"/>
              <a:chExt cx="994680" cy="976320"/>
            </a:xfrm>
          </p:grpSpPr>
          <p:sp>
            <p:nvSpPr>
              <p:cNvPr id="1523" name=""/>
              <p:cNvSpPr/>
              <p:nvPr/>
            </p:nvSpPr>
            <p:spPr>
              <a:xfrm>
                <a:off x="6128280" y="2224080"/>
                <a:ext cx="91368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090840" y="2549520"/>
                <a:ext cx="99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Hea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7233840" y="2209680"/>
              <a:ext cx="994680" cy="976320"/>
              <a:chOff x="7233840" y="2209680"/>
              <a:chExt cx="994680" cy="976320"/>
            </a:xfrm>
          </p:grpSpPr>
          <p:sp>
            <p:nvSpPr>
              <p:cNvPr id="1526" name=""/>
              <p:cNvSpPr/>
              <p:nvPr/>
            </p:nvSpPr>
            <p:spPr>
              <a:xfrm>
                <a:off x="7271280" y="2209680"/>
                <a:ext cx="91368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233840" y="2535120"/>
                <a:ext cx="99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Hea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8" name=""/>
          <p:cNvGrpSpPr/>
          <p:nvPr/>
        </p:nvGrpSpPr>
        <p:grpSpPr>
          <a:xfrm>
            <a:off x="915480" y="3290760"/>
            <a:ext cx="3275640" cy="976320"/>
            <a:chOff x="915480" y="3290760"/>
            <a:chExt cx="3275640" cy="976320"/>
          </a:xfrm>
        </p:grpSpPr>
        <p:grpSp>
          <p:nvGrpSpPr>
            <p:cNvPr id="1529" name=""/>
            <p:cNvGrpSpPr/>
            <p:nvPr/>
          </p:nvGrpSpPr>
          <p:grpSpPr>
            <a:xfrm>
              <a:off x="3276720" y="3290760"/>
              <a:ext cx="914400" cy="976320"/>
              <a:chOff x="3276720" y="3290760"/>
              <a:chExt cx="914400" cy="976320"/>
            </a:xfrm>
          </p:grpSpPr>
          <p:sp>
            <p:nvSpPr>
              <p:cNvPr id="1530" name=""/>
              <p:cNvSpPr/>
              <p:nvPr/>
            </p:nvSpPr>
            <p:spPr>
              <a:xfrm>
                <a:off x="3276720" y="3290760"/>
                <a:ext cx="91440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325320" y="3616200"/>
                <a:ext cx="82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cc"/>
                    </a:solidFill>
                    <a:latin typeface="Times New Roman"/>
                  </a:rPr>
                  <a:t>Tai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915480" y="3290760"/>
              <a:ext cx="994680" cy="976320"/>
              <a:chOff x="915480" y="3290760"/>
              <a:chExt cx="994680" cy="976320"/>
            </a:xfrm>
          </p:grpSpPr>
          <p:sp>
            <p:nvSpPr>
              <p:cNvPr id="1533" name=""/>
              <p:cNvSpPr/>
              <p:nvPr/>
            </p:nvSpPr>
            <p:spPr>
              <a:xfrm>
                <a:off x="952920" y="3290760"/>
                <a:ext cx="91368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915480" y="3616200"/>
                <a:ext cx="99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Hea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2133720" y="3290760"/>
              <a:ext cx="914400" cy="976320"/>
              <a:chOff x="2133720" y="3290760"/>
              <a:chExt cx="914400" cy="976320"/>
            </a:xfrm>
          </p:grpSpPr>
          <p:sp>
            <p:nvSpPr>
              <p:cNvPr id="1536" name=""/>
              <p:cNvSpPr/>
              <p:nvPr/>
            </p:nvSpPr>
            <p:spPr>
              <a:xfrm>
                <a:off x="2133720" y="3290760"/>
                <a:ext cx="91440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182320" y="3616200"/>
                <a:ext cx="82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cc"/>
                    </a:solidFill>
                    <a:latin typeface="Times New Roman"/>
                  </a:rPr>
                  <a:t>Tai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8" name=""/>
          <p:cNvGrpSpPr/>
          <p:nvPr/>
        </p:nvGrpSpPr>
        <p:grpSpPr>
          <a:xfrm>
            <a:off x="4952880" y="3290760"/>
            <a:ext cx="3276720" cy="976320"/>
            <a:chOff x="4952880" y="3290760"/>
            <a:chExt cx="3276720" cy="976320"/>
          </a:xfrm>
        </p:grpSpPr>
        <p:grpSp>
          <p:nvGrpSpPr>
            <p:cNvPr id="1539" name=""/>
            <p:cNvGrpSpPr/>
            <p:nvPr/>
          </p:nvGrpSpPr>
          <p:grpSpPr>
            <a:xfrm>
              <a:off x="7315200" y="3290760"/>
              <a:ext cx="914400" cy="976320"/>
              <a:chOff x="7315200" y="3290760"/>
              <a:chExt cx="914400" cy="976320"/>
            </a:xfrm>
          </p:grpSpPr>
          <p:sp>
            <p:nvSpPr>
              <p:cNvPr id="1540" name=""/>
              <p:cNvSpPr/>
              <p:nvPr/>
            </p:nvSpPr>
            <p:spPr>
              <a:xfrm>
                <a:off x="7315200" y="3290760"/>
                <a:ext cx="91440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363800" y="3616200"/>
                <a:ext cx="82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cc"/>
                    </a:solidFill>
                    <a:latin typeface="Times New Roman"/>
                  </a:rPr>
                  <a:t>Tai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2" name=""/>
            <p:cNvGrpSpPr/>
            <p:nvPr/>
          </p:nvGrpSpPr>
          <p:grpSpPr>
            <a:xfrm>
              <a:off x="6090840" y="3290760"/>
              <a:ext cx="994680" cy="976320"/>
              <a:chOff x="6090840" y="3290760"/>
              <a:chExt cx="994680" cy="976320"/>
            </a:xfrm>
          </p:grpSpPr>
          <p:sp>
            <p:nvSpPr>
              <p:cNvPr id="1543" name=""/>
              <p:cNvSpPr/>
              <p:nvPr/>
            </p:nvSpPr>
            <p:spPr>
              <a:xfrm>
                <a:off x="6128280" y="3290760"/>
                <a:ext cx="91368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090840" y="3616200"/>
                <a:ext cx="99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Hea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4952880" y="3290760"/>
              <a:ext cx="914400" cy="976320"/>
              <a:chOff x="4952880" y="3290760"/>
              <a:chExt cx="914400" cy="976320"/>
            </a:xfrm>
          </p:grpSpPr>
          <p:sp>
            <p:nvSpPr>
              <p:cNvPr id="1546" name=""/>
              <p:cNvSpPr/>
              <p:nvPr/>
            </p:nvSpPr>
            <p:spPr>
              <a:xfrm>
                <a:off x="4952880" y="3290760"/>
                <a:ext cx="91440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001480" y="3616200"/>
                <a:ext cx="82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cc"/>
                    </a:solidFill>
                    <a:latin typeface="Times New Roman"/>
                  </a:rPr>
                  <a:t>Tai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8" name=""/>
          <p:cNvGrpSpPr/>
          <p:nvPr/>
        </p:nvGrpSpPr>
        <p:grpSpPr>
          <a:xfrm>
            <a:off x="5029200" y="4343400"/>
            <a:ext cx="3200400" cy="990720"/>
            <a:chOff x="5029200" y="4343400"/>
            <a:chExt cx="3200400" cy="990720"/>
          </a:xfrm>
        </p:grpSpPr>
        <p:grpSp>
          <p:nvGrpSpPr>
            <p:cNvPr id="1549" name=""/>
            <p:cNvGrpSpPr/>
            <p:nvPr/>
          </p:nvGrpSpPr>
          <p:grpSpPr>
            <a:xfrm>
              <a:off x="6172200" y="4343400"/>
              <a:ext cx="914400" cy="976320"/>
              <a:chOff x="6172200" y="4343400"/>
              <a:chExt cx="914400" cy="976320"/>
            </a:xfrm>
          </p:grpSpPr>
          <p:sp>
            <p:nvSpPr>
              <p:cNvPr id="1550" name=""/>
              <p:cNvSpPr/>
              <p:nvPr/>
            </p:nvSpPr>
            <p:spPr>
              <a:xfrm>
                <a:off x="6172200" y="4343400"/>
                <a:ext cx="91440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220800" y="4668840"/>
                <a:ext cx="82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cc"/>
                    </a:solidFill>
                    <a:latin typeface="Times New Roman"/>
                  </a:rPr>
                  <a:t>Tai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2" name=""/>
            <p:cNvGrpSpPr/>
            <p:nvPr/>
          </p:nvGrpSpPr>
          <p:grpSpPr>
            <a:xfrm>
              <a:off x="5029200" y="4343400"/>
              <a:ext cx="914400" cy="976320"/>
              <a:chOff x="5029200" y="4343400"/>
              <a:chExt cx="914400" cy="976320"/>
            </a:xfrm>
          </p:grpSpPr>
          <p:sp>
            <p:nvSpPr>
              <p:cNvPr id="1553" name=""/>
              <p:cNvSpPr/>
              <p:nvPr/>
            </p:nvSpPr>
            <p:spPr>
              <a:xfrm>
                <a:off x="5029200" y="4343400"/>
                <a:ext cx="91440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77800" y="4668840"/>
                <a:ext cx="82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cc"/>
                    </a:solidFill>
                    <a:latin typeface="Times New Roman"/>
                  </a:rPr>
                  <a:t>Tai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7315200" y="4357800"/>
              <a:ext cx="914400" cy="976320"/>
              <a:chOff x="7315200" y="4357800"/>
              <a:chExt cx="914400" cy="976320"/>
            </a:xfrm>
          </p:grpSpPr>
          <p:sp>
            <p:nvSpPr>
              <p:cNvPr id="1556" name=""/>
              <p:cNvSpPr/>
              <p:nvPr/>
            </p:nvSpPr>
            <p:spPr>
              <a:xfrm>
                <a:off x="7315200" y="4357800"/>
                <a:ext cx="91440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363800" y="4683240"/>
                <a:ext cx="82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cc"/>
                    </a:solidFill>
                    <a:latin typeface="Times New Roman"/>
                  </a:rPr>
                  <a:t>Tai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8" name=""/>
          <p:cNvSpPr/>
          <p:nvPr/>
        </p:nvSpPr>
        <p:spPr>
          <a:xfrm>
            <a:off x="533520" y="5410080"/>
            <a:ext cx="807696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ossible values of </a:t>
            </a: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x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umber of heads) are 0,1,2,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914400" y="4329000"/>
            <a:ext cx="3275280" cy="990720"/>
            <a:chOff x="914400" y="4329000"/>
            <a:chExt cx="3275280" cy="990720"/>
          </a:xfrm>
        </p:grpSpPr>
        <p:grpSp>
          <p:nvGrpSpPr>
            <p:cNvPr id="1560" name=""/>
            <p:cNvGrpSpPr/>
            <p:nvPr/>
          </p:nvGrpSpPr>
          <p:grpSpPr>
            <a:xfrm>
              <a:off x="2133720" y="4329000"/>
              <a:ext cx="914400" cy="976320"/>
              <a:chOff x="2133720" y="4329000"/>
              <a:chExt cx="914400" cy="976320"/>
            </a:xfrm>
          </p:grpSpPr>
          <p:sp>
            <p:nvSpPr>
              <p:cNvPr id="1561" name=""/>
              <p:cNvSpPr/>
              <p:nvPr/>
            </p:nvSpPr>
            <p:spPr>
              <a:xfrm>
                <a:off x="2133720" y="4329000"/>
                <a:ext cx="91440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182320" y="4654440"/>
                <a:ext cx="82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cc"/>
                    </a:solidFill>
                    <a:latin typeface="Times New Roman"/>
                  </a:rPr>
                  <a:t>Tai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3" name=""/>
            <p:cNvGrpSpPr/>
            <p:nvPr/>
          </p:nvGrpSpPr>
          <p:grpSpPr>
            <a:xfrm>
              <a:off x="3195000" y="4343400"/>
              <a:ext cx="994680" cy="976320"/>
              <a:chOff x="3195000" y="4343400"/>
              <a:chExt cx="994680" cy="976320"/>
            </a:xfrm>
          </p:grpSpPr>
          <p:sp>
            <p:nvSpPr>
              <p:cNvPr id="1564" name=""/>
              <p:cNvSpPr/>
              <p:nvPr/>
            </p:nvSpPr>
            <p:spPr>
              <a:xfrm>
                <a:off x="3232440" y="4343400"/>
                <a:ext cx="91404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195000" y="4668840"/>
                <a:ext cx="99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Hea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914400" y="4343400"/>
              <a:ext cx="914400" cy="976320"/>
              <a:chOff x="914400" y="4343400"/>
              <a:chExt cx="914400" cy="976320"/>
            </a:xfrm>
          </p:grpSpPr>
          <p:sp>
            <p:nvSpPr>
              <p:cNvPr id="1567" name=""/>
              <p:cNvSpPr/>
              <p:nvPr/>
            </p:nvSpPr>
            <p:spPr>
              <a:xfrm>
                <a:off x="914400" y="4343400"/>
                <a:ext cx="914400" cy="976320"/>
              </a:xfrm>
              <a:custGeom>
                <a:avLst/>
                <a:gdLst/>
                <a:ahLst/>
                <a:rect l="l" t="t" r="r" b="b"/>
                <a:pathLst>
                  <a:path w="802" h="828">
                    <a:moveTo>
                      <a:pt x="400" y="0"/>
                    </a:moveTo>
                    <a:lnTo>
                      <a:pt x="400" y="0"/>
                    </a:lnTo>
                    <a:lnTo>
                      <a:pt x="421" y="1"/>
                    </a:lnTo>
                    <a:lnTo>
                      <a:pt x="461" y="5"/>
                    </a:lnTo>
                    <a:lnTo>
                      <a:pt x="501" y="13"/>
                    </a:lnTo>
                    <a:lnTo>
                      <a:pt x="537" y="25"/>
                    </a:lnTo>
                    <a:lnTo>
                      <a:pt x="574" y="42"/>
                    </a:lnTo>
                    <a:lnTo>
                      <a:pt x="608" y="61"/>
                    </a:lnTo>
                    <a:lnTo>
                      <a:pt x="641" y="82"/>
                    </a:lnTo>
                    <a:lnTo>
                      <a:pt x="669" y="108"/>
                    </a:lnTo>
                    <a:lnTo>
                      <a:pt x="698" y="137"/>
                    </a:lnTo>
                    <a:lnTo>
                      <a:pt x="722" y="166"/>
                    </a:lnTo>
                    <a:lnTo>
                      <a:pt x="744" y="199"/>
                    </a:lnTo>
                    <a:lnTo>
                      <a:pt x="762" y="234"/>
                    </a:lnTo>
                    <a:lnTo>
                      <a:pt x="778" y="272"/>
                    </a:lnTo>
                    <a:lnTo>
                      <a:pt x="789" y="310"/>
                    </a:lnTo>
                    <a:lnTo>
                      <a:pt x="797" y="351"/>
                    </a:lnTo>
                    <a:lnTo>
                      <a:pt x="802" y="413"/>
                    </a:lnTo>
                    <a:lnTo>
                      <a:pt x="802" y="413"/>
                    </a:lnTo>
                    <a:lnTo>
                      <a:pt x="801" y="435"/>
                    </a:lnTo>
                    <a:lnTo>
                      <a:pt x="797" y="477"/>
                    </a:lnTo>
                    <a:lnTo>
                      <a:pt x="789" y="516"/>
                    </a:lnTo>
                    <a:lnTo>
                      <a:pt x="778" y="556"/>
                    </a:lnTo>
                    <a:lnTo>
                      <a:pt x="762" y="592"/>
                    </a:lnTo>
                    <a:lnTo>
                      <a:pt x="744" y="628"/>
                    </a:lnTo>
                    <a:lnTo>
                      <a:pt x="722" y="662"/>
                    </a:lnTo>
                    <a:lnTo>
                      <a:pt x="698" y="691"/>
                    </a:lnTo>
                    <a:lnTo>
                      <a:pt x="669" y="720"/>
                    </a:lnTo>
                    <a:lnTo>
                      <a:pt x="641" y="746"/>
                    </a:lnTo>
                    <a:lnTo>
                      <a:pt x="608" y="767"/>
                    </a:lnTo>
                    <a:lnTo>
                      <a:pt x="574" y="786"/>
                    </a:lnTo>
                    <a:lnTo>
                      <a:pt x="537" y="803"/>
                    </a:lnTo>
                    <a:lnTo>
                      <a:pt x="501" y="815"/>
                    </a:lnTo>
                    <a:lnTo>
                      <a:pt x="461" y="823"/>
                    </a:lnTo>
                    <a:lnTo>
                      <a:pt x="400" y="828"/>
                    </a:lnTo>
                    <a:lnTo>
                      <a:pt x="400" y="828"/>
                    </a:lnTo>
                    <a:lnTo>
                      <a:pt x="380" y="827"/>
                    </a:lnTo>
                    <a:lnTo>
                      <a:pt x="341" y="823"/>
                    </a:lnTo>
                    <a:lnTo>
                      <a:pt x="301" y="815"/>
                    </a:lnTo>
                    <a:lnTo>
                      <a:pt x="263" y="803"/>
                    </a:lnTo>
                    <a:lnTo>
                      <a:pt x="226" y="786"/>
                    </a:lnTo>
                    <a:lnTo>
                      <a:pt x="193" y="767"/>
                    </a:lnTo>
                    <a:lnTo>
                      <a:pt x="161" y="746"/>
                    </a:lnTo>
                    <a:lnTo>
                      <a:pt x="131" y="720"/>
                    </a:lnTo>
                    <a:lnTo>
                      <a:pt x="104" y="691"/>
                    </a:lnTo>
                    <a:lnTo>
                      <a:pt x="80" y="662"/>
                    </a:lnTo>
                    <a:lnTo>
                      <a:pt x="58" y="628"/>
                    </a:lnTo>
                    <a:lnTo>
                      <a:pt x="39" y="592"/>
                    </a:lnTo>
                    <a:lnTo>
                      <a:pt x="24" y="556"/>
                    </a:lnTo>
                    <a:lnTo>
                      <a:pt x="12" y="516"/>
                    </a:lnTo>
                    <a:lnTo>
                      <a:pt x="4" y="477"/>
                    </a:lnTo>
                    <a:lnTo>
                      <a:pt x="0" y="413"/>
                    </a:lnTo>
                    <a:lnTo>
                      <a:pt x="0" y="413"/>
                    </a:lnTo>
                    <a:lnTo>
                      <a:pt x="0" y="393"/>
                    </a:lnTo>
                    <a:lnTo>
                      <a:pt x="4" y="351"/>
                    </a:lnTo>
                    <a:lnTo>
                      <a:pt x="12" y="310"/>
                    </a:lnTo>
                    <a:lnTo>
                      <a:pt x="24" y="272"/>
                    </a:lnTo>
                    <a:lnTo>
                      <a:pt x="39" y="234"/>
                    </a:lnTo>
                    <a:lnTo>
                      <a:pt x="58" y="199"/>
                    </a:lnTo>
                    <a:lnTo>
                      <a:pt x="80" y="166"/>
                    </a:lnTo>
                    <a:lnTo>
                      <a:pt x="104" y="137"/>
                    </a:lnTo>
                    <a:lnTo>
                      <a:pt x="131" y="108"/>
                    </a:lnTo>
                    <a:lnTo>
                      <a:pt x="161" y="82"/>
                    </a:lnTo>
                    <a:lnTo>
                      <a:pt x="193" y="61"/>
                    </a:lnTo>
                    <a:lnTo>
                      <a:pt x="226" y="42"/>
                    </a:lnTo>
                    <a:lnTo>
                      <a:pt x="263" y="25"/>
                    </a:lnTo>
                    <a:lnTo>
                      <a:pt x="301" y="13"/>
                    </a:lnTo>
                    <a:lnTo>
                      <a:pt x="341" y="5"/>
                    </a:lnTo>
                    <a:lnTo>
                      <a:pt x="4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9a9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solidFill>
                  <a:srgbClr val="808080"/>
                </a:solidFill>
              </a:ln>
              <a:effectLst>
                <a:outerShdw dist="38160" dir="108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963000" y="4668840"/>
                <a:ext cx="82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cc"/>
                    </a:solidFill>
                    <a:latin typeface="Times New Roman"/>
                  </a:rPr>
                  <a:t>Tai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/>
          <p:nvPr/>
        </p:nvSpPr>
        <p:spPr>
          <a:xfrm>
            <a:off x="380880" y="1238400"/>
            <a:ext cx="2971800" cy="5330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  <a:effectLst>
            <a:outerShdw dist="206639" dir="82482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 a random experiment in which a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oin is tossed three times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rmine the probability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3352680" y="152280"/>
            <a:ext cx="2486160" cy="871560"/>
            <a:chOff x="3352680" y="152280"/>
            <a:chExt cx="2486160" cy="871560"/>
          </a:xfrm>
        </p:grpSpPr>
        <p:sp>
          <p:nvSpPr>
            <p:cNvPr id="1571" name=""/>
            <p:cNvSpPr txBox="1"/>
            <p:nvPr/>
          </p:nvSpPr>
          <p:spPr>
            <a:xfrm>
              <a:off x="3352680" y="15228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572" name=""/>
            <p:cNvSpPr txBox="1"/>
            <p:nvPr/>
          </p:nvSpPr>
          <p:spPr>
            <a:xfrm>
              <a:off x="3990960" y="361800"/>
              <a:ext cx="18478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573" name=""/>
          <p:cNvSpPr/>
          <p:nvPr/>
        </p:nvSpPr>
        <p:spPr>
          <a:xfrm>
            <a:off x="3733920" y="1143000"/>
            <a:ext cx="4724280" cy="520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ffcc"/>
              </a:gs>
              <a:gs pos="100000">
                <a:srgbClr val="ff6600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abilit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3733920" y="2133720"/>
            <a:ext cx="685800" cy="4343040"/>
            <a:chOff x="3733920" y="2133720"/>
            <a:chExt cx="685800" cy="4343040"/>
          </a:xfrm>
        </p:grpSpPr>
        <p:grpSp>
          <p:nvGrpSpPr>
            <p:cNvPr id="1575" name=""/>
            <p:cNvGrpSpPr/>
            <p:nvPr/>
          </p:nvGrpSpPr>
          <p:grpSpPr>
            <a:xfrm>
              <a:off x="3733920" y="2133720"/>
              <a:ext cx="685800" cy="4343040"/>
              <a:chOff x="3733920" y="2133720"/>
              <a:chExt cx="685800" cy="4343040"/>
            </a:xfrm>
          </p:grpSpPr>
          <p:sp>
            <p:nvSpPr>
              <p:cNvPr id="1576" name=""/>
              <p:cNvSpPr/>
              <p:nvPr/>
            </p:nvSpPr>
            <p:spPr>
              <a:xfrm>
                <a:off x="3733920" y="2133720"/>
                <a:ext cx="685800" cy="4343040"/>
              </a:xfrm>
              <a:prstGeom prst="rect">
                <a:avLst/>
              </a:prstGeom>
              <a:solidFill>
                <a:srgbClr val="fcf3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733920" y="221364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x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8" name=""/>
            <p:cNvSpPr/>
            <p:nvPr/>
          </p:nvSpPr>
          <p:spPr>
            <a:xfrm>
              <a:off x="3733920" y="2971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4648320" y="2133720"/>
            <a:ext cx="1981080" cy="4343400"/>
            <a:chOff x="4648320" y="2133720"/>
            <a:chExt cx="1981080" cy="4343400"/>
          </a:xfrm>
        </p:grpSpPr>
        <p:grpSp>
          <p:nvGrpSpPr>
            <p:cNvPr id="1580" name=""/>
            <p:cNvGrpSpPr/>
            <p:nvPr/>
          </p:nvGrpSpPr>
          <p:grpSpPr>
            <a:xfrm>
              <a:off x="4648320" y="2133720"/>
              <a:ext cx="1981080" cy="4343400"/>
              <a:chOff x="4648320" y="2133720"/>
              <a:chExt cx="1981080" cy="4343400"/>
            </a:xfrm>
          </p:grpSpPr>
          <p:sp>
            <p:nvSpPr>
              <p:cNvPr id="1581" name=""/>
              <p:cNvSpPr/>
              <p:nvPr/>
            </p:nvSpPr>
            <p:spPr>
              <a:xfrm>
                <a:off x="4648320" y="2133720"/>
                <a:ext cx="1981080" cy="4343400"/>
              </a:xfrm>
              <a:prstGeom prst="rect">
                <a:avLst/>
              </a:prstGeom>
              <a:solidFill>
                <a:srgbClr val="fcf3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648320" y="2133720"/>
                <a:ext cx="19051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# of Outcom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3" name=""/>
            <p:cNvSpPr/>
            <p:nvPr/>
          </p:nvSpPr>
          <p:spPr>
            <a:xfrm>
              <a:off x="4648320" y="29718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6858000" y="2133720"/>
            <a:ext cx="1676520" cy="4343400"/>
            <a:chOff x="6858000" y="2133720"/>
            <a:chExt cx="1676520" cy="4343400"/>
          </a:xfrm>
        </p:grpSpPr>
        <p:grpSp>
          <p:nvGrpSpPr>
            <p:cNvPr id="1585" name=""/>
            <p:cNvGrpSpPr/>
            <p:nvPr/>
          </p:nvGrpSpPr>
          <p:grpSpPr>
            <a:xfrm>
              <a:off x="6858000" y="2133720"/>
              <a:ext cx="1676520" cy="4343400"/>
              <a:chOff x="6858000" y="2133720"/>
              <a:chExt cx="1676520" cy="4343400"/>
            </a:xfrm>
          </p:grpSpPr>
          <p:sp>
            <p:nvSpPr>
              <p:cNvPr id="1586" name=""/>
              <p:cNvSpPr/>
              <p:nvPr/>
            </p:nvSpPr>
            <p:spPr>
              <a:xfrm>
                <a:off x="6858000" y="2133720"/>
                <a:ext cx="1676520" cy="4343400"/>
              </a:xfrm>
              <a:prstGeom prst="rect">
                <a:avLst/>
              </a:prstGeom>
              <a:solidFill>
                <a:srgbClr val="fcf3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934320" y="2286000"/>
                <a:ext cx="1447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P(</a:t>
                </a: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x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8" name=""/>
            <p:cNvSpPr/>
            <p:nvPr/>
          </p:nvSpPr>
          <p:spPr>
            <a:xfrm>
              <a:off x="6858000" y="29718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9" name=""/>
          <p:cNvSpPr/>
          <p:nvPr/>
        </p:nvSpPr>
        <p:spPr>
          <a:xfrm>
            <a:off x="3809880" y="2971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809880" y="3581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809880" y="42530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809880" y="4967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648320" y="29718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648320" y="35812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648320" y="4267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64832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029200" y="5715000"/>
            <a:ext cx="1143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648320" y="5653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934320" y="2971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934320" y="3581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934320" y="4267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934320" y="49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162920" y="5715000"/>
            <a:ext cx="1143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934320" y="5653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/8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733920" y="4114800"/>
            <a:ext cx="4876560" cy="838080"/>
          </a:xfrm>
          <a:prstGeom prst="roundRect">
            <a:avLst>
              <a:gd name="adj" fmla="val 16667"/>
            </a:avLst>
          </a:prstGeom>
          <a:solidFill>
            <a:srgbClr val="ffcc00">
              <a:alpha val="50000"/>
            </a:srgbClr>
          </a:solidFill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80880" y="4724280"/>
            <a:ext cx="2819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at is the probability of  tossing 2 heads in 3 fli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876920" y="54864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934320" y="54864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7:48:11Z</dcterms:created>
  <dc:creator>Colleen Quinn &amp; Ron Thornbury</dc:creator>
  <dc:description/>
  <dc:language>en-US</dc:language>
  <cp:lastModifiedBy>jeff_skinner</cp:lastModifiedBy>
  <dcterms:modified xsi:type="dcterms:W3CDTF">2003-04-28T14:07:15Z</dcterms:modified>
  <cp:revision>170</cp:revision>
  <dc:subject/>
  <dc:title>PowerPoint Presentation</dc:title>
</cp:coreProperties>
</file>