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29.jpeg" ContentType="image/jpeg"/>
  <Override PartName="/ppt/media/image10.jpeg" ContentType="image/jpeg"/>
  <Override PartName="/ppt/media/image11.wmf" ContentType="image/x-wmf"/>
  <Override PartName="/ppt/media/image26.png" ContentType="image/png"/>
  <Override PartName="/ppt/media/image17.jpeg" ContentType="image/jpeg"/>
  <Override PartName="/ppt/media/image12.png" ContentType="image/png"/>
  <Override PartName="/ppt/media/image31.jpeg" ContentType="image/jpeg"/>
  <Override PartName="/ppt/media/image32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5.png" ContentType="image/png"/>
  <Override PartName="/ppt/media/image35.png" ContentType="image/png"/>
  <Override PartName="/ppt/media/image34.wmf" ContentType="image/x-wmf"/>
  <Override PartName="/ppt/media/image28.png" ContentType="image/png"/>
  <Override PartName="/ppt/media/image7.jpeg" ContentType="image/jpeg"/>
  <Override PartName="/ppt/media/image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CD5F-D0A6-422D-8F8E-46379EBD4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84CD-0074-41C4-AB4B-276D8C5A0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B32A-83B9-4AF9-B61D-D9E9DD4B2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8A35-E285-4D9E-B627-78D7CBC62A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8D5E-CDC9-4D1B-87B5-56D955F515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6B93-EF84-47C9-80CA-E0CADA79C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1222-C91F-4122-81D9-41E34105D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28F8A-CBF4-4DFC-9E07-BB4736104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3168-05E2-46D8-A808-F844EAAA5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B59F-44B6-4CE6-9454-75F9AA731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CCED-9315-4E6D-9B54-5F9555E7F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AC0F-46EA-4E52-9D18-1B7368996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396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- </a:t>
            </a:r>
            <a:fld id="{76945FAD-35ED-464D-A6B0-60B2582A876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28600" y="152280"/>
            <a:ext cx="914400" cy="712800"/>
            <a:chOff x="228600" y="152280"/>
            <a:chExt cx="914400" cy="71280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3" name=""/>
            <p:cNvSpPr txBox="1"/>
            <p:nvPr/>
          </p:nvSpPr>
          <p:spPr>
            <a:xfrm>
              <a:off x="457200" y="25560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7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-380880" y="6648480"/>
            <a:ext cx="457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21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1.wmf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jpe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jpe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jpeg"/><Relationship Id="rId3" Type="http://schemas.openxmlformats.org/officeDocument/2006/relationships/image" Target="../media/image28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22.wmf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4.wmf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ind%20Cover%20Huge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57280" y="5424480"/>
            <a:ext cx="43912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7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447920"/>
            <a:ext cx="7556400" cy="4486320"/>
          </a:xfrm>
          <a:custGeom>
            <a:avLst/>
            <a:gdLst/>
            <a:ahLst/>
            <a:rect l="l" t="t" r="r" b="b"/>
            <a:pathLst>
              <a:path w="4760" h="2826">
                <a:moveTo>
                  <a:pt x="0" y="2806"/>
                </a:moveTo>
                <a:cubicBezTo>
                  <a:pt x="412" y="2694"/>
                  <a:pt x="808" y="2590"/>
                  <a:pt x="1152" y="2182"/>
                </a:cubicBezTo>
                <a:cubicBezTo>
                  <a:pt x="1496" y="1774"/>
                  <a:pt x="1796" y="673"/>
                  <a:pt x="2067" y="361"/>
                </a:cubicBezTo>
                <a:cubicBezTo>
                  <a:pt x="2338" y="49"/>
                  <a:pt x="2507" y="0"/>
                  <a:pt x="2777" y="308"/>
                </a:cubicBezTo>
                <a:cubicBezTo>
                  <a:pt x="3047" y="616"/>
                  <a:pt x="3358" y="1790"/>
                  <a:pt x="3688" y="2210"/>
                </a:cubicBezTo>
                <a:cubicBezTo>
                  <a:pt x="4018" y="2630"/>
                  <a:pt x="4537" y="2698"/>
                  <a:pt x="4760" y="2826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7320" y="1905120"/>
            <a:ext cx="78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2514600"/>
            <a:ext cx="44193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cc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Arial Black"/>
              </a:rPr>
              <a:t>Norma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733920"/>
            <a:ext cx="28195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BABILITY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F96C-CA9A-40F8-86EE-F8F820C1D355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95480" y="2514600"/>
            <a:ext cx="6953040" cy="35683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4fef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bability fun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an have any shape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as long as it is non-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(the curve is above the x-axis, and the total area under the curve is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760" y="1606680"/>
            <a:ext cx="789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ll probability func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re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not norm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743200" y="304920"/>
            <a:ext cx="3610080" cy="1447560"/>
            <a:chOff x="2743200" y="304920"/>
            <a:chExt cx="3610080" cy="1447560"/>
          </a:xfrm>
        </p:grpSpPr>
        <p:sp>
          <p:nvSpPr>
            <p:cNvPr id="341" name=""/>
            <p:cNvSpPr txBox="1"/>
            <p:nvPr/>
          </p:nvSpPr>
          <p:spPr>
            <a:xfrm>
              <a:off x="3581280" y="457200"/>
              <a:ext cx="277200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36147" dir="13500000" blurRad="0" rotWithShape="0">
                      <a:srgbClr val="000000"/>
                    </a:outerShdw>
                  </a:effectLst>
                  <a:latin typeface="Arial Black"/>
                </a:rPr>
                <a:t>Reminder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6147" dir="135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2743200" y="304920"/>
              <a:ext cx="990720" cy="14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1069920" y="5943600"/>
            <a:ext cx="7007400" cy="60948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AD8D-386A-4CC1-9D5A-5A5B664CC45A}" type="slidenum">
              <a:t>10</a:t>
            </a:fld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429240" y="1787400"/>
            <a:ext cx="2600640" cy="3933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efefe"/>
              </a:gs>
              <a:gs pos="100000">
                <a:srgbClr val="ffcccc"/>
              </a:gs>
            </a:gsLst>
            <a:lin ang="8100000"/>
          </a:gra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rithmetic 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edi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mo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of the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istribution           are equal                         and located at the peak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4280" y="1874880"/>
            <a:ext cx="2273400" cy="136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2298" dir="103755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ormal curve is                 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bell-sha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20880" y="819000"/>
            <a:ext cx="8165880" cy="642600"/>
          </a:xfrm>
          <a:prstGeom prst="rect">
            <a:avLst/>
          </a:prstGeom>
          <a:solidFill>
            <a:srgbClr val="f8f9d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Normal     Probability   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124080" y="399960"/>
            <a:ext cx="2857680" cy="16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878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Times New Roman"/>
              </a:rPr>
              <a:t>Characteristic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cc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2330280" y="1496520"/>
            <a:ext cx="3787560" cy="3262320"/>
            <a:chOff x="2330280" y="1496520"/>
            <a:chExt cx="3787560" cy="3262320"/>
          </a:xfrm>
        </p:grpSpPr>
        <p:sp>
          <p:nvSpPr>
            <p:cNvPr id="349" name=""/>
            <p:cNvSpPr/>
            <p:nvPr/>
          </p:nvSpPr>
          <p:spPr>
            <a:xfrm flipV="1">
              <a:off x="2330280" y="4738680"/>
              <a:ext cx="69120" cy="20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399400" y="4699440"/>
              <a:ext cx="70920" cy="38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470680" y="4679640"/>
              <a:ext cx="52560" cy="20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23240" y="4640760"/>
              <a:ext cx="70920" cy="385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594520" y="4581720"/>
              <a:ext cx="52560" cy="58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47440" y="4523040"/>
              <a:ext cx="68760" cy="586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716200" y="4463640"/>
              <a:ext cx="54360" cy="58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770920" y="4384800"/>
              <a:ext cx="69120" cy="79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840040" y="4307400"/>
              <a:ext cx="70920" cy="76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911320" y="4208040"/>
              <a:ext cx="52560" cy="993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63880" y="4090320"/>
              <a:ext cx="70920" cy="11772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035160" y="3971880"/>
              <a:ext cx="52560" cy="117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88080" y="3834000"/>
              <a:ext cx="68760" cy="1382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156840" y="3677760"/>
              <a:ext cx="52560" cy="1562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209760" y="3520440"/>
              <a:ext cx="70920" cy="15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280680" y="3362400"/>
              <a:ext cx="70920" cy="158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351960" y="3186000"/>
              <a:ext cx="52560" cy="176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04520" y="2990520"/>
              <a:ext cx="70920" cy="1951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475800" y="2813760"/>
              <a:ext cx="52560" cy="176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28720" y="2637000"/>
              <a:ext cx="68760" cy="17676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597480" y="2459520"/>
              <a:ext cx="52560" cy="176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650400" y="2283480"/>
              <a:ext cx="70920" cy="176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721320" y="2125080"/>
              <a:ext cx="70920" cy="158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792600" y="1967760"/>
              <a:ext cx="52560" cy="15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45160" y="1829880"/>
              <a:ext cx="70920" cy="13824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16440" y="1712520"/>
              <a:ext cx="52560" cy="1173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69360" y="1632960"/>
              <a:ext cx="69120" cy="79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38480" y="1555560"/>
              <a:ext cx="52200" cy="774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091040" y="1515240"/>
              <a:ext cx="70920" cy="40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161960" y="1496520"/>
              <a:ext cx="70920" cy="183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33240" y="1496880"/>
              <a:ext cx="52560" cy="183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86160" y="1515240"/>
              <a:ext cx="70920" cy="403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57080" y="1555560"/>
              <a:ext cx="52560" cy="774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0000" y="1632960"/>
              <a:ext cx="69120" cy="79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79120" y="1712520"/>
              <a:ext cx="52560" cy="1173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2040" y="1829880"/>
              <a:ext cx="70920" cy="13824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03320" y="1968120"/>
              <a:ext cx="52200" cy="15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5520" y="2125080"/>
              <a:ext cx="70920" cy="158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26800" y="2283480"/>
              <a:ext cx="70920" cy="176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97720" y="2459880"/>
              <a:ext cx="52560" cy="176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50640" y="2637000"/>
              <a:ext cx="69120" cy="17676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19760" y="2813760"/>
              <a:ext cx="52560" cy="176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72680" y="2990520"/>
              <a:ext cx="70920" cy="1951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43960" y="3186000"/>
              <a:ext cx="52560" cy="176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96520" y="3362400"/>
              <a:ext cx="70920" cy="158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67800" y="3520800"/>
              <a:ext cx="70920" cy="15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38720" y="3677760"/>
              <a:ext cx="52200" cy="1562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91280" y="3834000"/>
              <a:ext cx="69120" cy="1382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60400" y="3972240"/>
              <a:ext cx="52560" cy="117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13320" y="4090320"/>
              <a:ext cx="70920" cy="11772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84600" y="4208040"/>
              <a:ext cx="52560" cy="993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37160" y="4307760"/>
              <a:ext cx="70920" cy="76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08440" y="4384800"/>
              <a:ext cx="68760" cy="79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77200" y="4464000"/>
              <a:ext cx="54720" cy="58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32280" y="4523040"/>
              <a:ext cx="68760" cy="586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01040" y="4582080"/>
              <a:ext cx="52560" cy="58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53960" y="4640760"/>
              <a:ext cx="70920" cy="385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25240" y="4679640"/>
              <a:ext cx="52560" cy="20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77800" y="4699800"/>
              <a:ext cx="70920" cy="38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49080" y="4738680"/>
              <a:ext cx="68760" cy="20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89080" y="3170160"/>
            <a:ext cx="2224080" cy="222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has a single peak at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xact centre of the distribu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371680" y="1514520"/>
            <a:ext cx="3857760" cy="3301560"/>
            <a:chOff x="2371680" y="1514520"/>
            <a:chExt cx="3857760" cy="3301560"/>
          </a:xfrm>
        </p:grpSpPr>
        <p:sp>
          <p:nvSpPr>
            <p:cNvPr id="411" name=""/>
            <p:cNvSpPr/>
            <p:nvPr/>
          </p:nvSpPr>
          <p:spPr>
            <a:xfrm>
              <a:off x="2371680" y="4816080"/>
              <a:ext cx="3857760" cy="0"/>
            </a:xfrm>
            <a:prstGeom prst="line">
              <a:avLst/>
            </a:prstGeom>
            <a:ln cap="rnd" w="7632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67080" y="1514520"/>
              <a:ext cx="0" cy="3301560"/>
            </a:xfrm>
            <a:prstGeom prst="line">
              <a:avLst/>
            </a:prstGeom>
            <a:ln cap="rnd" w="7632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973080" y="5398920"/>
            <a:ext cx="721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alf the ar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under the curve i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bove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alf 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elow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733840" y="1571760"/>
            <a:ext cx="1447200" cy="3200040"/>
            <a:chOff x="2733840" y="1571760"/>
            <a:chExt cx="1447200" cy="3200040"/>
          </a:xfrm>
        </p:grpSpPr>
        <p:sp>
          <p:nvSpPr>
            <p:cNvPr id="415" name=""/>
            <p:cNvSpPr/>
            <p:nvPr/>
          </p:nvSpPr>
          <p:spPr>
            <a:xfrm>
              <a:off x="4181040" y="1571760"/>
              <a:ext cx="0" cy="32000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65120" y="1744560"/>
              <a:ext cx="0" cy="3006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38040" y="1945440"/>
              <a:ext cx="0" cy="28054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21760" y="2192760"/>
              <a:ext cx="0" cy="25585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05480" y="2439720"/>
              <a:ext cx="0" cy="2311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89560" y="2780640"/>
              <a:ext cx="0" cy="1970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73280" y="3089520"/>
              <a:ext cx="0" cy="16614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67440" y="3506760"/>
              <a:ext cx="0" cy="12596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61960" y="3707640"/>
              <a:ext cx="0" cy="10432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6120" y="3908880"/>
              <a:ext cx="0" cy="8424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0640" y="4189680"/>
              <a:ext cx="0" cy="5612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44800" y="4347000"/>
              <a:ext cx="0" cy="4042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8960" y="4504320"/>
              <a:ext cx="0" cy="246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33840" y="4614480"/>
              <a:ext cx="0" cy="1364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400280" y="1676520"/>
            <a:ext cx="1305000" cy="3114360"/>
            <a:chOff x="4400280" y="1676520"/>
            <a:chExt cx="1305000" cy="3114360"/>
          </a:xfrm>
        </p:grpSpPr>
        <p:sp>
          <p:nvSpPr>
            <p:cNvPr id="430" name=""/>
            <p:cNvSpPr/>
            <p:nvPr/>
          </p:nvSpPr>
          <p:spPr>
            <a:xfrm>
              <a:off x="4400280" y="1676520"/>
              <a:ext cx="0" cy="3114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05040" y="1844640"/>
              <a:ext cx="0" cy="29260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19520" y="2040120"/>
              <a:ext cx="0" cy="2730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2280960"/>
              <a:ext cx="0" cy="2490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29040" y="2521440"/>
              <a:ext cx="0" cy="2249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33800" y="2853000"/>
              <a:ext cx="0" cy="1917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38560" y="3153600"/>
              <a:ext cx="0" cy="1617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33960" y="3559680"/>
              <a:ext cx="0" cy="12258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29000" y="3755160"/>
              <a:ext cx="0" cy="1015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24400" y="3951000"/>
              <a:ext cx="0" cy="8197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19440" y="4224600"/>
              <a:ext cx="0" cy="5461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14840" y="4377600"/>
              <a:ext cx="0" cy="393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10240" y="4530240"/>
              <a:ext cx="0" cy="2404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05280" y="4637880"/>
              <a:ext cx="0" cy="132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85800" y="6296040"/>
            <a:ext cx="7772040" cy="304920"/>
            <a:chOff x="685800" y="6296040"/>
            <a:chExt cx="7772040" cy="304920"/>
          </a:xfrm>
        </p:grpSpPr>
        <p:sp>
          <p:nvSpPr>
            <p:cNvPr id="445" name=""/>
            <p:cNvSpPr/>
            <p:nvPr/>
          </p:nvSpPr>
          <p:spPr>
            <a:xfrm flipV="1">
              <a:off x="685800" y="6368400"/>
              <a:ext cx="7772040" cy="144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6" name="ball16" descr=""/>
            <p:cNvPicPr/>
            <p:nvPr/>
          </p:nvPicPr>
          <p:blipFill>
            <a:blip r:embed="rId4"/>
            <a:stretch/>
          </p:blipFill>
          <p:spPr>
            <a:xfrm>
              <a:off x="4442040" y="6296040"/>
              <a:ext cx="5641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ABA2E-3410-4E82-AB64-F222A1280CA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920880" y="399960"/>
            <a:ext cx="8165880" cy="1685880"/>
            <a:chOff x="920880" y="399960"/>
            <a:chExt cx="8165880" cy="1685880"/>
          </a:xfrm>
        </p:grpSpPr>
        <p:sp>
          <p:nvSpPr>
            <p:cNvPr id="448" name=""/>
            <p:cNvSpPr/>
            <p:nvPr/>
          </p:nvSpPr>
          <p:spPr>
            <a:xfrm>
              <a:off x="920880" y="819000"/>
              <a:ext cx="8165880" cy="642600"/>
            </a:xfrm>
            <a:prstGeom prst="rect">
              <a:avLst/>
            </a:prstGeom>
            <a:solidFill>
              <a:srgbClr val="f8f9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Normal     Probability    Distribu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3152520" y="399960"/>
              <a:ext cx="2857320" cy="1685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88788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100000">
                        <a:srgbClr val="ccccff"/>
                      </a:gs>
                    </a:gsLst>
                    <a:lin ang="5400000"/>
                  </a:gradFill>
                  <a:latin typeface="Times New Roman"/>
                </a:rPr>
                <a:t>Characteristic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171440" y="2236680"/>
            <a:ext cx="2301840" cy="3436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ormal probability distribution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ymmetric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it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81360" y="1914480"/>
            <a:ext cx="3876840" cy="1800360"/>
          </a:xfrm>
          <a:prstGeom prst="rect">
            <a:avLst/>
          </a:prstGeom>
          <a:solidFill>
            <a:srgbClr val="f8f9db"/>
          </a:soli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ormal probability distribution is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asymptot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93840" y="2154240"/>
            <a:ext cx="3844440" cy="3604680"/>
            <a:chOff x="393840" y="2154240"/>
            <a:chExt cx="3844440" cy="3604680"/>
          </a:xfrm>
        </p:grpSpPr>
        <p:sp>
          <p:nvSpPr>
            <p:cNvPr id="453" name=""/>
            <p:cNvSpPr/>
            <p:nvPr/>
          </p:nvSpPr>
          <p:spPr>
            <a:xfrm flipV="1">
              <a:off x="393840" y="5736600"/>
              <a:ext cx="70200" cy="22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64040" y="5693760"/>
              <a:ext cx="72000" cy="42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36040" y="5671440"/>
              <a:ext cx="53640" cy="22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9680" y="5628600"/>
              <a:ext cx="72000" cy="424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62040" y="5563080"/>
              <a:ext cx="53640" cy="65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15680" y="5498280"/>
              <a:ext cx="69840" cy="651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85520" y="5432760"/>
              <a:ext cx="55080" cy="65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840960" y="5344920"/>
              <a:ext cx="70200" cy="87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911520" y="5260320"/>
              <a:ext cx="72000" cy="84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983520" y="5149800"/>
              <a:ext cx="53640" cy="109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37160" y="5019840"/>
              <a:ext cx="72000" cy="13032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1109160" y="4889520"/>
              <a:ext cx="53640" cy="130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62800" y="4736880"/>
              <a:ext cx="69840" cy="1526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1233000" y="4563720"/>
              <a:ext cx="53640" cy="1724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286640" y="4390560"/>
              <a:ext cx="72000" cy="173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358640" y="4215600"/>
              <a:ext cx="72000" cy="174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430640" y="4020480"/>
              <a:ext cx="53640" cy="19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84280" y="3804840"/>
              <a:ext cx="72000" cy="215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1556640" y="3609360"/>
              <a:ext cx="53640" cy="19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10280" y="3414240"/>
              <a:ext cx="69840" cy="19548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680120" y="3218040"/>
              <a:ext cx="53640" cy="195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1733760" y="3022920"/>
              <a:ext cx="72000" cy="19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1805760" y="2848320"/>
              <a:ext cx="72000" cy="174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1878120" y="2674800"/>
              <a:ext cx="53640" cy="173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31760" y="2522160"/>
              <a:ext cx="72000" cy="15264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03760" y="2392560"/>
              <a:ext cx="53640" cy="1296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57400" y="2304720"/>
              <a:ext cx="70200" cy="874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27960" y="2219400"/>
              <a:ext cx="52920" cy="853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2180880" y="2174400"/>
              <a:ext cx="72000" cy="446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253240" y="2154240"/>
              <a:ext cx="72000" cy="20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25240" y="2154240"/>
              <a:ext cx="53640" cy="20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78880" y="2174400"/>
              <a:ext cx="72000" cy="446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50880" y="2219400"/>
              <a:ext cx="53640" cy="8532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04520" y="2304720"/>
              <a:ext cx="70200" cy="874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75080" y="2392560"/>
              <a:ext cx="53640" cy="1296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28720" y="2522160"/>
              <a:ext cx="72000" cy="15264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00720" y="2675160"/>
              <a:ext cx="52920" cy="173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54000" y="2848320"/>
              <a:ext cx="72000" cy="174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826000" y="3023280"/>
              <a:ext cx="72000" cy="19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98360" y="3218400"/>
              <a:ext cx="53640" cy="195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52000" y="3414240"/>
              <a:ext cx="70200" cy="19548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22200" y="3609720"/>
              <a:ext cx="53640" cy="19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75840" y="3804840"/>
              <a:ext cx="72000" cy="2156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48200" y="4020840"/>
              <a:ext cx="53640" cy="19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1840" y="4215600"/>
              <a:ext cx="72000" cy="174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73840" y="4390920"/>
              <a:ext cx="72000" cy="173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45840" y="4564080"/>
              <a:ext cx="52920" cy="1724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99120" y="4736880"/>
              <a:ext cx="70200" cy="1526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69680" y="4889520"/>
              <a:ext cx="53640" cy="130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23320" y="5019840"/>
              <a:ext cx="72000" cy="13032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95320" y="5150160"/>
              <a:ext cx="53640" cy="109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48960" y="5260320"/>
              <a:ext cx="72000" cy="84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20960" y="5345280"/>
              <a:ext cx="69840" cy="87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91160" y="5433120"/>
              <a:ext cx="55440" cy="65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46960" y="5498280"/>
              <a:ext cx="69840" cy="651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16800" y="5563440"/>
              <a:ext cx="53640" cy="65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70440" y="5628600"/>
              <a:ext cx="72000" cy="424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42800" y="5671440"/>
              <a:ext cx="53640" cy="22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96440" y="5693760"/>
              <a:ext cx="72000" cy="42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68440" y="5736600"/>
              <a:ext cx="69840" cy="22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581360" y="3637080"/>
            <a:ext cx="4010040" cy="2531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8100000"/>
          </a:gradFill>
          <a:ln w="0">
            <a:noFill/>
          </a:ln>
          <a:effectLst>
            <a:outerShdw dist="224707" dir="79597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curve gets closer and closer to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axis                                  but never actually touches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C4B7-6967-41EE-83CF-D8640BCAF39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314360" y="5535720"/>
            <a:ext cx="6572520" cy="579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e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med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mo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920880" y="399960"/>
            <a:ext cx="7994520" cy="1685880"/>
            <a:chOff x="920880" y="399960"/>
            <a:chExt cx="7994520" cy="1685880"/>
          </a:xfrm>
        </p:grpSpPr>
        <p:sp>
          <p:nvSpPr>
            <p:cNvPr id="516" name=""/>
            <p:cNvSpPr/>
            <p:nvPr/>
          </p:nvSpPr>
          <p:spPr>
            <a:xfrm>
              <a:off x="920880" y="819000"/>
              <a:ext cx="7994520" cy="642600"/>
            </a:xfrm>
            <a:prstGeom prst="rect">
              <a:avLst/>
            </a:prstGeom>
            <a:solidFill>
              <a:srgbClr val="f8f9d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Normal     Probability    Distribu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3105720" y="399960"/>
              <a:ext cx="2797560" cy="1685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88788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100000">
                        <a:srgbClr val="ccccff"/>
                      </a:gs>
                    </a:gsLst>
                    <a:lin ang="5400000"/>
                  </a:gradFill>
                  <a:latin typeface="Times New Roman"/>
                </a:rPr>
                <a:t>Characteristic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419640" y="1577880"/>
            <a:ext cx="232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687760" y="2249280"/>
            <a:ext cx="3787200" cy="2519280"/>
            <a:chOff x="2687760" y="2249280"/>
            <a:chExt cx="3787200" cy="2519280"/>
          </a:xfrm>
        </p:grpSpPr>
        <p:sp>
          <p:nvSpPr>
            <p:cNvPr id="520" name=""/>
            <p:cNvSpPr/>
            <p:nvPr/>
          </p:nvSpPr>
          <p:spPr>
            <a:xfrm flipV="1">
              <a:off x="2687760" y="4752720"/>
              <a:ext cx="69120" cy="15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756880" y="4722840"/>
              <a:ext cx="70920" cy="298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2828160" y="4707000"/>
              <a:ext cx="52560" cy="15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80720" y="4677480"/>
              <a:ext cx="70920" cy="298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2952000" y="4632120"/>
              <a:ext cx="52560" cy="453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04560" y="4586400"/>
              <a:ext cx="68760" cy="453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3073680" y="4541040"/>
              <a:ext cx="54360" cy="453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3128040" y="4479840"/>
              <a:ext cx="69120" cy="61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3197520" y="4420080"/>
              <a:ext cx="70920" cy="59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268440" y="4343040"/>
              <a:ext cx="52560" cy="76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21360" y="4252320"/>
              <a:ext cx="70920" cy="91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3392640" y="4160880"/>
              <a:ext cx="52560" cy="91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45200" y="4054320"/>
              <a:ext cx="68760" cy="1065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3514320" y="3933360"/>
              <a:ext cx="52560" cy="120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567240" y="3812760"/>
              <a:ext cx="70920" cy="120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3638160" y="3690360"/>
              <a:ext cx="70920" cy="122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709080" y="3553920"/>
              <a:ext cx="52560" cy="136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62000" y="3403080"/>
              <a:ext cx="70920" cy="150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832920" y="3266640"/>
              <a:ext cx="52560" cy="136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85840" y="3130200"/>
              <a:ext cx="68760" cy="13644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3954960" y="2993040"/>
              <a:ext cx="52560" cy="1364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4007880" y="2856960"/>
              <a:ext cx="70920" cy="136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078800" y="2734560"/>
              <a:ext cx="70920" cy="122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149720" y="2613600"/>
              <a:ext cx="52560" cy="120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02640" y="2506680"/>
              <a:ext cx="70920" cy="1065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73560" y="2415960"/>
              <a:ext cx="52560" cy="9072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26480" y="2354760"/>
              <a:ext cx="69120" cy="61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95960" y="2295000"/>
              <a:ext cx="52200" cy="59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4448520" y="2263320"/>
              <a:ext cx="70920" cy="31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519440" y="2249280"/>
              <a:ext cx="7092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0360" y="2249640"/>
              <a:ext cx="5256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43280" y="2263680"/>
              <a:ext cx="70920" cy="313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14200" y="2295000"/>
              <a:ext cx="52560" cy="59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67120" y="2354760"/>
              <a:ext cx="69120" cy="61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36600" y="2415960"/>
              <a:ext cx="52560" cy="9072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89520" y="2506680"/>
              <a:ext cx="70920" cy="1065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60440" y="2613600"/>
              <a:ext cx="52200" cy="120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13000" y="2734560"/>
              <a:ext cx="70920" cy="122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83920" y="2856960"/>
              <a:ext cx="70920" cy="136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54840" y="2993400"/>
              <a:ext cx="52560" cy="1364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07760" y="3130200"/>
              <a:ext cx="69120" cy="13644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77240" y="3266640"/>
              <a:ext cx="52560" cy="136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30160" y="3403080"/>
              <a:ext cx="70920" cy="150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01080" y="3553920"/>
              <a:ext cx="52560" cy="136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54000" y="3690360"/>
              <a:ext cx="70920" cy="122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24920" y="3812760"/>
              <a:ext cx="70920" cy="120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95840" y="3933720"/>
              <a:ext cx="52200" cy="120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48400" y="4054320"/>
              <a:ext cx="69120" cy="1065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17880" y="4161240"/>
              <a:ext cx="52560" cy="91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70440" y="4252320"/>
              <a:ext cx="70920" cy="91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41720" y="4343400"/>
              <a:ext cx="52560" cy="76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94640" y="4420440"/>
              <a:ext cx="70920" cy="59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5560" y="4479840"/>
              <a:ext cx="68760" cy="61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34320" y="4541040"/>
              <a:ext cx="54720" cy="453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89400" y="4586400"/>
              <a:ext cx="68760" cy="453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158520" y="4632120"/>
              <a:ext cx="52560" cy="453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11080" y="4677480"/>
              <a:ext cx="70920" cy="298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82360" y="4707360"/>
              <a:ext cx="52560" cy="15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34920" y="4723200"/>
              <a:ext cx="70920" cy="298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06200" y="4753080"/>
              <a:ext cx="68760" cy="15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936720" y="2365200"/>
            <a:ext cx="2309760" cy="1373760"/>
          </a:xfrm>
          <a:prstGeom prst="rect">
            <a:avLst/>
          </a:prstGeom>
          <a:solidFill>
            <a:srgbClr val="f8f9db"/>
          </a:solidFill>
          <a:ln w="9360">
            <a:solidFill>
              <a:srgbClr val="000000"/>
            </a:solidFill>
            <a:miter/>
          </a:ln>
          <a:effectLst>
            <a:outerShdw dist="125751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rmal curve is symmet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647640" y="4873680"/>
            <a:ext cx="7942320" cy="579960"/>
            <a:chOff x="647640" y="4873680"/>
            <a:chExt cx="7942320" cy="579960"/>
          </a:xfrm>
        </p:grpSpPr>
        <p:sp>
          <p:nvSpPr>
            <p:cNvPr id="582" name=""/>
            <p:cNvSpPr/>
            <p:nvPr/>
          </p:nvSpPr>
          <p:spPr>
            <a:xfrm>
              <a:off x="647640" y="4873680"/>
              <a:ext cx="7942320" cy="57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Theoretically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curve extends to infin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496280" y="5086080"/>
              <a:ext cx="495000" cy="180360"/>
              <a:chOff x="7496280" y="5086080"/>
              <a:chExt cx="495000" cy="180360"/>
            </a:xfrm>
          </p:grpSpPr>
          <p:sp>
            <p:nvSpPr>
              <p:cNvPr id="584" name=""/>
              <p:cNvSpPr/>
              <p:nvPr/>
            </p:nvSpPr>
            <p:spPr>
              <a:xfrm>
                <a:off x="7496280" y="5086080"/>
                <a:ext cx="241920" cy="17604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749720" y="5090760"/>
                <a:ext cx="241560" cy="17568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6500880" y="4240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09880" y="4721400"/>
            <a:ext cx="371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591080" y="2276640"/>
            <a:ext cx="4680" cy="2567880"/>
            <a:chOff x="4591080" y="2276640"/>
            <a:chExt cx="4680" cy="2567880"/>
          </a:xfrm>
        </p:grpSpPr>
        <p:sp>
          <p:nvSpPr>
            <p:cNvPr id="589" name=""/>
            <p:cNvSpPr/>
            <p:nvPr/>
          </p:nvSpPr>
          <p:spPr>
            <a:xfrm>
              <a:off x="4595760" y="2276640"/>
              <a:ext cx="0" cy="8600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91080" y="3120840"/>
              <a:ext cx="0" cy="8600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91080" y="3984480"/>
              <a:ext cx="0" cy="8600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85800" y="6124680"/>
            <a:ext cx="7772040" cy="304560"/>
            <a:chOff x="685800" y="6124680"/>
            <a:chExt cx="7772040" cy="304560"/>
          </a:xfrm>
        </p:grpSpPr>
        <p:sp>
          <p:nvSpPr>
            <p:cNvPr id="593" name=""/>
            <p:cNvSpPr/>
            <p:nvPr/>
          </p:nvSpPr>
          <p:spPr>
            <a:xfrm flipV="1">
              <a:off x="685800" y="6196320"/>
              <a:ext cx="7772040" cy="144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4" name="ball16" descr=""/>
            <p:cNvPicPr/>
            <p:nvPr/>
          </p:nvPicPr>
          <p:blipFill>
            <a:blip r:embed="rId2"/>
            <a:stretch/>
          </p:blipFill>
          <p:spPr>
            <a:xfrm>
              <a:off x="4442040" y="6124680"/>
              <a:ext cx="56412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E158-AF80-4ACC-811A-0488DC0A5F2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127960" y="1197000"/>
            <a:ext cx="48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66cc"/>
                </a:solidFill>
                <a:latin typeface="Times New Roman"/>
              </a:rPr>
              <a:t>part of a</a:t>
            </a:r>
            <a:r>
              <a:rPr b="1" lang="en-GB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“family”</a:t>
            </a:r>
            <a:r>
              <a:rPr b="1" lang="en-GB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66cc"/>
                </a:solidFill>
                <a:latin typeface="Times New Roman"/>
              </a:rPr>
              <a:t>of cu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16280" y="2306160"/>
            <a:ext cx="65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oe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ation valu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fect the shape of f(x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80880" y="1847880"/>
            <a:ext cx="1704600" cy="623880"/>
            <a:chOff x="380880" y="1847880"/>
            <a:chExt cx="1704600" cy="623880"/>
          </a:xfrm>
        </p:grpSpPr>
        <p:sp>
          <p:nvSpPr>
            <p:cNvPr id="598" name=""/>
            <p:cNvSpPr txBox="1"/>
            <p:nvPr/>
          </p:nvSpPr>
          <p:spPr>
            <a:xfrm>
              <a:off x="380880" y="1847880"/>
              <a:ext cx="414720" cy="6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818280" y="1997640"/>
              <a:ext cx="1267200" cy="34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578760" y="3063960"/>
            <a:ext cx="2604600" cy="1219680"/>
            <a:chOff x="3578760" y="3063960"/>
            <a:chExt cx="2604600" cy="1219680"/>
          </a:xfrm>
        </p:grpSpPr>
        <p:sp>
          <p:nvSpPr>
            <p:cNvPr id="601" name=""/>
            <p:cNvSpPr/>
            <p:nvPr/>
          </p:nvSpPr>
          <p:spPr>
            <a:xfrm>
              <a:off x="4025880" y="3184560"/>
              <a:ext cx="215748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</a:t>
              </a:r>
              <a:r>
                <a:rPr b="1" i="1" lang="en-US" sz="33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</a:t>
              </a:r>
              <a:r>
                <a:rPr b="1" i="1" lang="en-US" sz="33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</a:t>
              </a:r>
              <a:r>
                <a:rPr b="1" i="1" lang="en-US" sz="33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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78760" y="3063960"/>
              <a:ext cx="5022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1828800" y="621036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029040" y="4240080"/>
            <a:ext cx="3389040" cy="1931760"/>
            <a:chOff x="3029040" y="4240080"/>
            <a:chExt cx="3389040" cy="1931760"/>
          </a:xfrm>
        </p:grpSpPr>
        <p:sp>
          <p:nvSpPr>
            <p:cNvPr id="605" name=""/>
            <p:cNvSpPr/>
            <p:nvPr/>
          </p:nvSpPr>
          <p:spPr>
            <a:xfrm>
              <a:off x="3029040" y="4240080"/>
              <a:ext cx="1752480" cy="1929240"/>
            </a:xfrm>
            <a:custGeom>
              <a:avLst/>
              <a:gdLst/>
              <a:ahLst/>
              <a:rect l="l" t="t" r="r" b="b"/>
              <a:pathLst>
                <a:path w="1104" h="832">
                  <a:moveTo>
                    <a:pt x="0" y="832"/>
                  </a:moveTo>
                  <a:cubicBezTo>
                    <a:pt x="124" y="808"/>
                    <a:pt x="248" y="784"/>
                    <a:pt x="336" y="736"/>
                  </a:cubicBezTo>
                  <a:cubicBezTo>
                    <a:pt x="424" y="688"/>
                    <a:pt x="472" y="608"/>
                    <a:pt x="528" y="544"/>
                  </a:cubicBezTo>
                  <a:cubicBezTo>
                    <a:pt x="584" y="480"/>
                    <a:pt x="616" y="424"/>
                    <a:pt x="672" y="352"/>
                  </a:cubicBezTo>
                  <a:cubicBezTo>
                    <a:pt x="728" y="280"/>
                    <a:pt x="808" y="168"/>
                    <a:pt x="864" y="112"/>
                  </a:cubicBezTo>
                  <a:cubicBezTo>
                    <a:pt x="920" y="56"/>
                    <a:pt x="968" y="32"/>
                    <a:pt x="1008" y="16"/>
                  </a:cubicBezTo>
                  <a:cubicBezTo>
                    <a:pt x="1048" y="0"/>
                    <a:pt x="1076" y="8"/>
                    <a:pt x="1104" y="16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4664880" y="4242600"/>
              <a:ext cx="1752840" cy="1929240"/>
            </a:xfrm>
            <a:custGeom>
              <a:avLst/>
              <a:gdLst/>
              <a:ahLst/>
              <a:rect l="l" t="t" r="r" b="b"/>
              <a:pathLst>
                <a:path w="1104" h="832">
                  <a:moveTo>
                    <a:pt x="0" y="832"/>
                  </a:moveTo>
                  <a:cubicBezTo>
                    <a:pt x="124" y="808"/>
                    <a:pt x="248" y="784"/>
                    <a:pt x="336" y="736"/>
                  </a:cubicBezTo>
                  <a:cubicBezTo>
                    <a:pt x="424" y="688"/>
                    <a:pt x="472" y="608"/>
                    <a:pt x="528" y="544"/>
                  </a:cubicBezTo>
                  <a:cubicBezTo>
                    <a:pt x="584" y="480"/>
                    <a:pt x="616" y="424"/>
                    <a:pt x="672" y="352"/>
                  </a:cubicBezTo>
                  <a:cubicBezTo>
                    <a:pt x="728" y="280"/>
                    <a:pt x="808" y="168"/>
                    <a:pt x="864" y="112"/>
                  </a:cubicBezTo>
                  <a:cubicBezTo>
                    <a:pt x="920" y="56"/>
                    <a:pt x="968" y="32"/>
                    <a:pt x="1008" y="16"/>
                  </a:cubicBezTo>
                  <a:cubicBezTo>
                    <a:pt x="1048" y="0"/>
                    <a:pt x="1076" y="8"/>
                    <a:pt x="1104" y="16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568600" y="4572000"/>
            <a:ext cx="4270320" cy="1596600"/>
            <a:chOff x="2568600" y="4572000"/>
            <a:chExt cx="4270320" cy="1596600"/>
          </a:xfrm>
        </p:grpSpPr>
        <p:sp>
          <p:nvSpPr>
            <p:cNvPr id="608" name=""/>
            <p:cNvSpPr/>
            <p:nvPr/>
          </p:nvSpPr>
          <p:spPr>
            <a:xfrm>
              <a:off x="2568600" y="4572000"/>
              <a:ext cx="2171880" cy="1596600"/>
            </a:xfrm>
            <a:custGeom>
              <a:avLst/>
              <a:gdLst/>
              <a:ahLst/>
              <a:rect l="l" t="t" r="r" b="b"/>
              <a:pathLst>
                <a:path w="1104" h="432">
                  <a:moveTo>
                    <a:pt x="0" y="432"/>
                  </a:moveTo>
                  <a:cubicBezTo>
                    <a:pt x="96" y="408"/>
                    <a:pt x="192" y="384"/>
                    <a:pt x="288" y="336"/>
                  </a:cubicBezTo>
                  <a:cubicBezTo>
                    <a:pt x="384" y="288"/>
                    <a:pt x="488" y="192"/>
                    <a:pt x="576" y="144"/>
                  </a:cubicBezTo>
                  <a:cubicBezTo>
                    <a:pt x="664" y="96"/>
                    <a:pt x="728" y="72"/>
                    <a:pt x="816" y="48"/>
                  </a:cubicBezTo>
                  <a:cubicBezTo>
                    <a:pt x="904" y="24"/>
                    <a:pt x="1004" y="12"/>
                    <a:pt x="1104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667400" y="4572000"/>
              <a:ext cx="2171520" cy="1596600"/>
            </a:xfrm>
            <a:custGeom>
              <a:avLst/>
              <a:gdLst/>
              <a:ahLst/>
              <a:rect l="l" t="t" r="r" b="b"/>
              <a:pathLst>
                <a:path w="1104" h="432">
                  <a:moveTo>
                    <a:pt x="0" y="432"/>
                  </a:moveTo>
                  <a:cubicBezTo>
                    <a:pt x="96" y="408"/>
                    <a:pt x="192" y="384"/>
                    <a:pt x="288" y="336"/>
                  </a:cubicBezTo>
                  <a:cubicBezTo>
                    <a:pt x="384" y="288"/>
                    <a:pt x="488" y="192"/>
                    <a:pt x="576" y="144"/>
                  </a:cubicBezTo>
                  <a:cubicBezTo>
                    <a:pt x="664" y="96"/>
                    <a:pt x="728" y="72"/>
                    <a:pt x="816" y="48"/>
                  </a:cubicBezTo>
                  <a:cubicBezTo>
                    <a:pt x="904" y="24"/>
                    <a:pt x="1004" y="12"/>
                    <a:pt x="1104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1981080" y="5486400"/>
            <a:ext cx="5409360" cy="685440"/>
            <a:chOff x="1981080" y="5486400"/>
            <a:chExt cx="5409360" cy="685440"/>
          </a:xfrm>
        </p:grpSpPr>
        <p:sp>
          <p:nvSpPr>
            <p:cNvPr id="611" name=""/>
            <p:cNvSpPr/>
            <p:nvPr/>
          </p:nvSpPr>
          <p:spPr>
            <a:xfrm>
              <a:off x="1981080" y="5486400"/>
              <a:ext cx="2894040" cy="685440"/>
            </a:xfrm>
            <a:custGeom>
              <a:avLst/>
              <a:gdLst/>
              <a:ahLst/>
              <a:rect l="l" t="t" r="r" b="b"/>
              <a:pathLst>
                <a:path w="1104" h="248">
                  <a:moveTo>
                    <a:pt x="0" y="248"/>
                  </a:moveTo>
                  <a:cubicBezTo>
                    <a:pt x="116" y="216"/>
                    <a:pt x="232" y="184"/>
                    <a:pt x="336" y="152"/>
                  </a:cubicBezTo>
                  <a:cubicBezTo>
                    <a:pt x="440" y="120"/>
                    <a:pt x="528" y="80"/>
                    <a:pt x="624" y="56"/>
                  </a:cubicBezTo>
                  <a:cubicBezTo>
                    <a:pt x="720" y="32"/>
                    <a:pt x="832" y="16"/>
                    <a:pt x="912" y="8"/>
                  </a:cubicBezTo>
                  <a:cubicBezTo>
                    <a:pt x="992" y="0"/>
                    <a:pt x="1048" y="4"/>
                    <a:pt x="1104" y="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496760" y="5486400"/>
              <a:ext cx="2893320" cy="685440"/>
            </a:xfrm>
            <a:custGeom>
              <a:avLst/>
              <a:gdLst/>
              <a:ahLst/>
              <a:rect l="l" t="t" r="r" b="b"/>
              <a:pathLst>
                <a:path w="1104" h="248">
                  <a:moveTo>
                    <a:pt x="0" y="248"/>
                  </a:moveTo>
                  <a:cubicBezTo>
                    <a:pt x="116" y="216"/>
                    <a:pt x="232" y="184"/>
                    <a:pt x="336" y="152"/>
                  </a:cubicBezTo>
                  <a:cubicBezTo>
                    <a:pt x="440" y="120"/>
                    <a:pt x="528" y="80"/>
                    <a:pt x="624" y="56"/>
                  </a:cubicBezTo>
                  <a:cubicBezTo>
                    <a:pt x="720" y="32"/>
                    <a:pt x="832" y="16"/>
                    <a:pt x="912" y="8"/>
                  </a:cubicBezTo>
                  <a:cubicBezTo>
                    <a:pt x="992" y="0"/>
                    <a:pt x="1048" y="4"/>
                    <a:pt x="1104" y="8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070960" y="3940920"/>
            <a:ext cx="121680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1" lang="en-US" sz="3600" spc="-1" strike="noStrike">
                <a:solidFill>
                  <a:srgbClr val="0033cc"/>
                </a:solidFill>
                <a:latin typeface="Arial Narrow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75480" y="4607640"/>
            <a:ext cx="988560" cy="64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Arial Narrow"/>
              </a:rPr>
              <a:t>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42200" y="5258520"/>
            <a:ext cx="988560" cy="6426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Symbol"/>
                <a:ea typeface="Symbol"/>
              </a:rPr>
              <a:t></a:t>
            </a:r>
            <a:r>
              <a:rPr b="0" lang="en-US" sz="36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Arial Narrow"/>
              </a:rPr>
              <a:t>=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724280" y="3962520"/>
            <a:ext cx="0" cy="23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418400" y="349200"/>
            <a:ext cx="6503760" cy="64260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50000">
                <a:srgbClr val="fefefe"/>
              </a:gs>
              <a:gs pos="100000">
                <a:srgbClr val="ffffd9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29ED-640D-43F5-B0B8-214BD1D9D96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380880" y="1847880"/>
            <a:ext cx="1704600" cy="623880"/>
            <a:chOff x="380880" y="1847880"/>
            <a:chExt cx="1704600" cy="623880"/>
          </a:xfrm>
        </p:grpSpPr>
        <p:sp>
          <p:nvSpPr>
            <p:cNvPr id="619" name=""/>
            <p:cNvSpPr txBox="1"/>
            <p:nvPr/>
          </p:nvSpPr>
          <p:spPr>
            <a:xfrm>
              <a:off x="380880" y="1847880"/>
              <a:ext cx="414720" cy="6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818280" y="1997640"/>
              <a:ext cx="1267200" cy="34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916280" y="2306160"/>
            <a:ext cx="65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does the following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xpected valu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fect the location of f(x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15880" y="3182760"/>
            <a:ext cx="332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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1" lang="en-US" sz="3600" spc="-1" strike="noStrike">
                <a:solidFill>
                  <a:srgbClr val="ff00ff"/>
                </a:solidFill>
                <a:latin typeface="Symbol"/>
                <a:ea typeface="Symbol"/>
              </a:rPr>
              <a:t>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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09600" y="5942160"/>
            <a:ext cx="702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2057400" y="3908520"/>
            <a:ext cx="4665240" cy="1999800"/>
            <a:chOff x="2057400" y="3908520"/>
            <a:chExt cx="4665240" cy="1999800"/>
          </a:xfrm>
        </p:grpSpPr>
        <p:grpSp>
          <p:nvGrpSpPr>
            <p:cNvPr id="625" name=""/>
            <p:cNvGrpSpPr/>
            <p:nvPr/>
          </p:nvGrpSpPr>
          <p:grpSpPr>
            <a:xfrm>
              <a:off x="2057400" y="3995640"/>
              <a:ext cx="4665240" cy="1912680"/>
              <a:chOff x="2057400" y="3995640"/>
              <a:chExt cx="4665240" cy="1912680"/>
            </a:xfrm>
          </p:grpSpPr>
          <p:sp>
            <p:nvSpPr>
              <p:cNvPr id="626" name=""/>
              <p:cNvSpPr/>
              <p:nvPr/>
            </p:nvSpPr>
            <p:spPr>
              <a:xfrm>
                <a:off x="2057400" y="3995640"/>
                <a:ext cx="2412000" cy="1910160"/>
              </a:xfrm>
              <a:custGeom>
                <a:avLst/>
                <a:gdLst/>
                <a:ahLst/>
                <a:rect l="l" t="t" r="r" b="b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4309920" y="3998160"/>
                <a:ext cx="2412720" cy="1910160"/>
              </a:xfrm>
              <a:custGeom>
                <a:avLst/>
                <a:gdLst/>
                <a:ahLst/>
                <a:rect l="l" t="t" r="r" b="b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2096640" y="3908520"/>
              <a:ext cx="1721520" cy="64260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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420640" y="3981600"/>
            <a:ext cx="5064120" cy="1912320"/>
            <a:chOff x="2420640" y="3981600"/>
            <a:chExt cx="5064120" cy="1912320"/>
          </a:xfrm>
        </p:grpSpPr>
        <p:grpSp>
          <p:nvGrpSpPr>
            <p:cNvPr id="630" name=""/>
            <p:cNvGrpSpPr/>
            <p:nvPr/>
          </p:nvGrpSpPr>
          <p:grpSpPr>
            <a:xfrm>
              <a:off x="2819520" y="3981600"/>
              <a:ext cx="4665240" cy="1912320"/>
              <a:chOff x="2819520" y="3981600"/>
              <a:chExt cx="4665240" cy="1912320"/>
            </a:xfrm>
          </p:grpSpPr>
          <p:sp>
            <p:nvSpPr>
              <p:cNvPr id="631" name=""/>
              <p:cNvSpPr/>
              <p:nvPr/>
            </p:nvSpPr>
            <p:spPr>
              <a:xfrm>
                <a:off x="2819520" y="3981600"/>
                <a:ext cx="2412000" cy="1909800"/>
              </a:xfrm>
              <a:custGeom>
                <a:avLst/>
                <a:gdLst/>
                <a:ahLst/>
                <a:rect l="l" t="t" r="r" b="b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072040" y="3984120"/>
                <a:ext cx="2412720" cy="1909800"/>
              </a:xfrm>
              <a:custGeom>
                <a:avLst/>
                <a:gdLst/>
                <a:ahLst/>
                <a:rect l="l" t="t" r="r" b="b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2420640" y="4873680"/>
              <a:ext cx="1721520" cy="64260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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468600" y="3959280"/>
            <a:ext cx="5207400" cy="1983600"/>
            <a:chOff x="3468600" y="3959280"/>
            <a:chExt cx="5207400" cy="1983600"/>
          </a:xfrm>
        </p:grpSpPr>
        <p:grpSp>
          <p:nvGrpSpPr>
            <p:cNvPr id="635" name=""/>
            <p:cNvGrpSpPr/>
            <p:nvPr/>
          </p:nvGrpSpPr>
          <p:grpSpPr>
            <a:xfrm>
              <a:off x="3468600" y="3959280"/>
              <a:ext cx="4665240" cy="1983600"/>
              <a:chOff x="3468600" y="3959280"/>
              <a:chExt cx="4665240" cy="1983600"/>
            </a:xfrm>
          </p:grpSpPr>
          <p:sp>
            <p:nvSpPr>
              <p:cNvPr id="636" name=""/>
              <p:cNvSpPr/>
              <p:nvPr/>
            </p:nvSpPr>
            <p:spPr>
              <a:xfrm>
                <a:off x="3468600" y="3959280"/>
                <a:ext cx="2412000" cy="1981080"/>
              </a:xfrm>
              <a:custGeom>
                <a:avLst/>
                <a:gdLst/>
                <a:ahLst/>
                <a:rect l="l" t="t" r="r" b="b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721120" y="3961800"/>
                <a:ext cx="2412720" cy="1981080"/>
              </a:xfrm>
              <a:custGeom>
                <a:avLst/>
                <a:gdLst/>
                <a:ahLst/>
                <a:rect l="l" t="t" r="r" b="b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6954480" y="4873680"/>
              <a:ext cx="1721520" cy="642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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341360" y="343080"/>
            <a:ext cx="6823080" cy="1435320"/>
            <a:chOff x="1341360" y="343080"/>
            <a:chExt cx="6823080" cy="1435320"/>
          </a:xfrm>
        </p:grpSpPr>
        <p:grpSp>
          <p:nvGrpSpPr>
            <p:cNvPr id="640" name=""/>
            <p:cNvGrpSpPr/>
            <p:nvPr/>
          </p:nvGrpSpPr>
          <p:grpSpPr>
            <a:xfrm>
              <a:off x="1341360" y="343080"/>
              <a:ext cx="6823080" cy="799920"/>
              <a:chOff x="1341360" y="343080"/>
              <a:chExt cx="6823080" cy="799920"/>
            </a:xfrm>
          </p:grpSpPr>
          <p:sp>
            <p:nvSpPr>
              <p:cNvPr id="641" name=""/>
              <p:cNvSpPr/>
              <p:nvPr/>
            </p:nvSpPr>
            <p:spPr>
              <a:xfrm>
                <a:off x="1400040" y="343080"/>
                <a:ext cx="6686640" cy="799920"/>
              </a:xfrm>
              <a:prstGeom prst="rect">
                <a:avLst/>
              </a:prstGeom>
              <a:gradFill rotWithShape="0">
                <a:gsLst>
                  <a:gs pos="0">
                    <a:srgbClr val="750075"/>
                  </a:gs>
                  <a:gs pos="50000">
                    <a:srgbClr val="ff00ff"/>
                  </a:gs>
                  <a:gs pos="100000">
                    <a:srgbClr val="7500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341360" y="447840"/>
                <a:ext cx="68230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2127240" y="1197000"/>
              <a:ext cx="492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ff"/>
                  </a:solidFill>
                  <a:latin typeface="Times New Roman"/>
                </a:rPr>
                <a:t>part of a 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“family”</a:t>
              </a:r>
              <a:r>
                <a:rPr b="1" lang="en-GB" sz="3200" spc="-1" strike="noStrike">
                  <a:solidFill>
                    <a:srgbClr val="ff00ff"/>
                  </a:solidFill>
                  <a:latin typeface="Times New Roman"/>
                </a:rPr>
                <a:t> of curv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50440" y="380880"/>
              <a:ext cx="6503760" cy="642600"/>
            </a:xfrm>
            <a:prstGeom prst="rect">
              <a:avLst/>
            </a:prstGeom>
            <a:gradFill rotWithShape="0">
              <a:gsLst>
                <a:gs pos="0">
                  <a:srgbClr val="ffffd9"/>
                </a:gs>
                <a:gs pos="50000">
                  <a:srgbClr val="fefefe"/>
                </a:gs>
                <a:gs pos="100000">
                  <a:srgbClr val="ffffd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Normal Probability Distribu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D4BE-A721-4F2E-B4EF-922292291910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490040" y="47520"/>
            <a:ext cx="650376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tandar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3000" y="1569960"/>
            <a:ext cx="7395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normal distrib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 of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tandard deviation of 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66760" y="2610000"/>
            <a:ext cx="53150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so called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37960" y="3537000"/>
            <a:ext cx="8704440" cy="1284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-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ance between a selected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designated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m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vided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ation, </a:t>
            </a:r>
            <a:r>
              <a:rPr b="1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475880" y="5518080"/>
            <a:ext cx="2329560" cy="1188360"/>
            <a:chOff x="4475880" y="5518080"/>
            <a:chExt cx="2329560" cy="1188360"/>
          </a:xfrm>
        </p:grpSpPr>
        <p:sp>
          <p:nvSpPr>
            <p:cNvPr id="650" name=""/>
            <p:cNvSpPr/>
            <p:nvPr/>
          </p:nvSpPr>
          <p:spPr>
            <a:xfrm>
              <a:off x="5405400" y="6140520"/>
              <a:ext cx="1400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4475880" y="5518080"/>
              <a:ext cx="2315520" cy="1188360"/>
              <a:chOff x="4475880" y="5518080"/>
              <a:chExt cx="2315520" cy="1188360"/>
            </a:xfrm>
          </p:grpSpPr>
          <p:sp>
            <p:nvSpPr>
              <p:cNvPr id="652" name=""/>
              <p:cNvSpPr/>
              <p:nvPr/>
            </p:nvSpPr>
            <p:spPr>
              <a:xfrm>
                <a:off x="5883480" y="6035760"/>
                <a:ext cx="3376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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936040" y="5518080"/>
                <a:ext cx="8553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</a:t>
                </a:r>
                <a:r>
                  <a:rPr b="1" i="1" lang="en-US" sz="44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µ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903200" y="5792760"/>
                <a:ext cx="363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493960" y="5624640"/>
                <a:ext cx="457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3600" spc="-1" strike="noStrike">
                    <a:solidFill>
                      <a:srgbClr val="008000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475880" y="5599080"/>
                <a:ext cx="23832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z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7" name=""/>
          <p:cNvSpPr/>
          <p:nvPr/>
        </p:nvSpPr>
        <p:spPr>
          <a:xfrm>
            <a:off x="2292120" y="5756400"/>
            <a:ext cx="17978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5100" dir="8701132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8600" y="5106960"/>
            <a:ext cx="8704440" cy="456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-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, therefore,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cation on the standard normal cur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5718-DA9A-4B23-9BF0-CEFBA30D14C9}" type="slidenum">
              <a:t>16</a:t>
            </a:fld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1447920" y="2057400"/>
            <a:ext cx="6229080" cy="3048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972160" y="2437920"/>
            <a:ext cx="3199680" cy="2590920"/>
            <a:chOff x="2972160" y="2437920"/>
            <a:chExt cx="3199680" cy="2590920"/>
          </a:xfrm>
        </p:grpSpPr>
        <p:grpSp>
          <p:nvGrpSpPr>
            <p:cNvPr id="661" name=""/>
            <p:cNvGrpSpPr/>
            <p:nvPr/>
          </p:nvGrpSpPr>
          <p:grpSpPr>
            <a:xfrm>
              <a:off x="2972160" y="2437920"/>
              <a:ext cx="1675800" cy="2590920"/>
              <a:chOff x="2972160" y="2437920"/>
              <a:chExt cx="1675800" cy="2590920"/>
            </a:xfrm>
          </p:grpSpPr>
          <p:sp>
            <p:nvSpPr>
              <p:cNvPr id="662" name=""/>
              <p:cNvSpPr/>
              <p:nvPr/>
            </p:nvSpPr>
            <p:spPr>
              <a:xfrm flipH="1" flipV="1">
                <a:off x="4579920" y="2437920"/>
                <a:ext cx="68040" cy="14760"/>
              </a:xfrm>
              <a:prstGeom prst="line">
                <a:avLst/>
              </a:prstGeom>
              <a:ln w="46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521960" y="2438280"/>
                <a:ext cx="0" cy="259056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440600" y="2527560"/>
                <a:ext cx="0" cy="250128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58880" y="2616480"/>
                <a:ext cx="0" cy="24120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277160" y="2706120"/>
                <a:ext cx="0" cy="232272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95800" y="2884680"/>
                <a:ext cx="0" cy="214416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114080" y="3063600"/>
                <a:ext cx="0" cy="196524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032360" y="3242160"/>
                <a:ext cx="0" cy="178668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951000" y="3420720"/>
                <a:ext cx="0" cy="160812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869280" y="3599640"/>
                <a:ext cx="0" cy="14292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787560" y="3778200"/>
                <a:ext cx="0" cy="125064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706200" y="3956760"/>
                <a:ext cx="0" cy="107208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624480" y="4135680"/>
                <a:ext cx="0" cy="89316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42760" y="4314240"/>
                <a:ext cx="0" cy="7146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461760" y="4403880"/>
                <a:ext cx="0" cy="62496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379680" y="4492800"/>
                <a:ext cx="0" cy="53604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297960" y="4582440"/>
                <a:ext cx="0" cy="4464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216960" y="4671720"/>
                <a:ext cx="0" cy="35676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135240" y="4761000"/>
                <a:ext cx="0" cy="26784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053520" y="4850280"/>
                <a:ext cx="0" cy="1782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972160" y="4850280"/>
                <a:ext cx="0" cy="1782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603680" y="2438280"/>
                <a:ext cx="0" cy="259056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495680" y="2437920"/>
              <a:ext cx="1676160" cy="2590920"/>
              <a:chOff x="4495680" y="2437920"/>
              <a:chExt cx="1676160" cy="2590920"/>
            </a:xfrm>
          </p:grpSpPr>
          <p:sp>
            <p:nvSpPr>
              <p:cNvPr id="685" name=""/>
              <p:cNvSpPr/>
              <p:nvPr/>
            </p:nvSpPr>
            <p:spPr>
              <a:xfrm flipV="1">
                <a:off x="4495680" y="2437920"/>
                <a:ext cx="68040" cy="14760"/>
              </a:xfrm>
              <a:prstGeom prst="line">
                <a:avLst/>
              </a:prstGeom>
              <a:ln w="46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621680" y="2438280"/>
                <a:ext cx="0" cy="259056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703040" y="2527560"/>
                <a:ext cx="0" cy="250128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84760" y="2616480"/>
                <a:ext cx="0" cy="24120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866480" y="2706120"/>
                <a:ext cx="0" cy="232272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947840" y="2884680"/>
                <a:ext cx="0" cy="214416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029560" y="3063600"/>
                <a:ext cx="0" cy="196524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111280" y="3242160"/>
                <a:ext cx="0" cy="178668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192640" y="3420720"/>
                <a:ext cx="0" cy="160812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74360" y="3599640"/>
                <a:ext cx="0" cy="14292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356080" y="3778200"/>
                <a:ext cx="0" cy="125064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437440" y="3956760"/>
                <a:ext cx="0" cy="107208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19160" y="4135680"/>
                <a:ext cx="0" cy="89316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00880" y="4314240"/>
                <a:ext cx="0" cy="7146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82240" y="4403880"/>
                <a:ext cx="0" cy="62496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763960" y="4492800"/>
                <a:ext cx="0" cy="53604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45680" y="4582440"/>
                <a:ext cx="0" cy="4464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927040" y="4671720"/>
                <a:ext cx="0" cy="35676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008760" y="4761000"/>
                <a:ext cx="0" cy="26784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090480" y="4850280"/>
                <a:ext cx="0" cy="1782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71840" y="4850280"/>
                <a:ext cx="0" cy="17820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539960" y="2438280"/>
                <a:ext cx="0" cy="259056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"/>
          <p:cNvSpPr/>
          <p:nvPr/>
        </p:nvSpPr>
        <p:spPr>
          <a:xfrm>
            <a:off x="1523880" y="1766880"/>
            <a:ext cx="625176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nde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 cur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0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7800" y="257040"/>
            <a:ext cx="650376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tandar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" y="5165640"/>
            <a:ext cx="8229600" cy="13089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nce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locat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t the peak of the cur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33cc"/>
                </a:solidFill>
                <a:latin typeface="Times New Roman"/>
              </a:rPr>
              <a:t>half the ar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 the curve 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33cc"/>
                </a:solidFill>
                <a:latin typeface="Times New Roman"/>
              </a:rPr>
              <a:t>above 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982880" y="2437920"/>
            <a:ext cx="2665080" cy="2590920"/>
            <a:chOff x="1982880" y="2437920"/>
            <a:chExt cx="2665080" cy="2590920"/>
          </a:xfrm>
        </p:grpSpPr>
        <p:grpSp>
          <p:nvGrpSpPr>
            <p:cNvPr id="711" name=""/>
            <p:cNvGrpSpPr/>
            <p:nvPr/>
          </p:nvGrpSpPr>
          <p:grpSpPr>
            <a:xfrm>
              <a:off x="2971800" y="2437920"/>
              <a:ext cx="1676160" cy="2590920"/>
              <a:chOff x="2971800" y="2437920"/>
              <a:chExt cx="1676160" cy="2590920"/>
            </a:xfrm>
          </p:grpSpPr>
          <p:sp>
            <p:nvSpPr>
              <p:cNvPr id="712" name=""/>
              <p:cNvSpPr/>
              <p:nvPr/>
            </p:nvSpPr>
            <p:spPr>
              <a:xfrm flipH="1" flipV="1">
                <a:off x="4579920" y="2437920"/>
                <a:ext cx="68040" cy="14760"/>
              </a:xfrm>
              <a:prstGeom prst="line">
                <a:avLst/>
              </a:prstGeom>
              <a:ln w="46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521960" y="2438280"/>
                <a:ext cx="0" cy="259056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440600" y="2527560"/>
                <a:ext cx="0" cy="250128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358880" y="2616480"/>
                <a:ext cx="0" cy="24120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277160" y="2706120"/>
                <a:ext cx="0" cy="23227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195800" y="2884680"/>
                <a:ext cx="0" cy="2144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114080" y="3063600"/>
                <a:ext cx="0" cy="19652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032360" y="3242160"/>
                <a:ext cx="0" cy="17866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51000" y="3420720"/>
                <a:ext cx="0" cy="1608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69280" y="3599640"/>
                <a:ext cx="0" cy="14292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87560" y="3778200"/>
                <a:ext cx="0" cy="12506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706200" y="3956760"/>
                <a:ext cx="0" cy="107208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624480" y="4135680"/>
                <a:ext cx="0" cy="8931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542760" y="4314240"/>
                <a:ext cx="0" cy="7146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461400" y="4403880"/>
                <a:ext cx="0" cy="6249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379680" y="4492800"/>
                <a:ext cx="0" cy="5360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297960" y="4582440"/>
                <a:ext cx="0" cy="4464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216600" y="4671720"/>
                <a:ext cx="0" cy="35676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134880" y="4761000"/>
                <a:ext cx="0" cy="26784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053160" y="4850280"/>
                <a:ext cx="0" cy="1782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971800" y="4850280"/>
                <a:ext cx="0" cy="17820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603680" y="2438280"/>
                <a:ext cx="0" cy="259056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1982880" y="4145040"/>
              <a:ext cx="2349360" cy="581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cbecf9"/>
                  </a:solidFill>
                  <a:latin typeface="Arial"/>
                </a:rPr>
                <a:t>Area = +0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4572000" y="2437920"/>
            <a:ext cx="2611080" cy="2590920"/>
            <a:chOff x="4572000" y="2437920"/>
            <a:chExt cx="2611080" cy="2590920"/>
          </a:xfrm>
        </p:grpSpPr>
        <p:grpSp>
          <p:nvGrpSpPr>
            <p:cNvPr id="736" name=""/>
            <p:cNvGrpSpPr/>
            <p:nvPr/>
          </p:nvGrpSpPr>
          <p:grpSpPr>
            <a:xfrm>
              <a:off x="4572000" y="2437920"/>
              <a:ext cx="1627200" cy="2590920"/>
              <a:chOff x="4572000" y="2437920"/>
              <a:chExt cx="1627200" cy="2590920"/>
            </a:xfrm>
          </p:grpSpPr>
          <p:sp>
            <p:nvSpPr>
              <p:cNvPr id="737" name=""/>
              <p:cNvSpPr/>
              <p:nvPr/>
            </p:nvSpPr>
            <p:spPr>
              <a:xfrm flipV="1">
                <a:off x="4572000" y="2437920"/>
                <a:ext cx="66240" cy="14760"/>
              </a:xfrm>
              <a:prstGeom prst="line">
                <a:avLst/>
              </a:prstGeom>
              <a:ln w="46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694400" y="2438280"/>
                <a:ext cx="0" cy="25905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773240" y="2527560"/>
                <a:ext cx="0" cy="25012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852440" y="2616480"/>
                <a:ext cx="0" cy="241200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932000" y="2706120"/>
                <a:ext cx="0" cy="232272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010840" y="2884680"/>
                <a:ext cx="0" cy="214416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090400" y="3063600"/>
                <a:ext cx="0" cy="196524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169600" y="3242160"/>
                <a:ext cx="0" cy="178668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48440" y="3420720"/>
                <a:ext cx="0" cy="160812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328000" y="3599640"/>
                <a:ext cx="0" cy="142920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407200" y="3778200"/>
                <a:ext cx="0" cy="125064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86400" y="3956760"/>
                <a:ext cx="0" cy="107208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65600" y="4135680"/>
                <a:ext cx="0" cy="89316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645160" y="4314240"/>
                <a:ext cx="0" cy="71460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24000" y="4403880"/>
                <a:ext cx="0" cy="62496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03200" y="4492800"/>
                <a:ext cx="0" cy="53604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82760" y="4582440"/>
                <a:ext cx="0" cy="44640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961600" y="4671720"/>
                <a:ext cx="0" cy="35676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041160" y="4761000"/>
                <a:ext cx="0" cy="26784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120360" y="4850280"/>
                <a:ext cx="0" cy="17820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199200" y="4850280"/>
                <a:ext cx="0" cy="178200"/>
              </a:xfrm>
              <a:prstGeom prst="line">
                <a:avLst/>
              </a:prstGeom>
              <a:ln w="572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614840" y="2438280"/>
                <a:ext cx="0" cy="25905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4721040" y="4145040"/>
              <a:ext cx="2462040" cy="581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cbecf9"/>
                  </a:solidFill>
                  <a:latin typeface="Arial"/>
                </a:rPr>
                <a:t>Area = + 0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286000" y="2438280"/>
            <a:ext cx="4495680" cy="2590920"/>
            <a:chOff x="2286000" y="2438280"/>
            <a:chExt cx="4495680" cy="2590920"/>
          </a:xfrm>
        </p:grpSpPr>
        <p:sp>
          <p:nvSpPr>
            <p:cNvPr id="761" name=""/>
            <p:cNvSpPr/>
            <p:nvPr/>
          </p:nvSpPr>
          <p:spPr>
            <a:xfrm>
              <a:off x="4572000" y="2438280"/>
              <a:ext cx="0" cy="259092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6000" y="5029200"/>
              <a:ext cx="44956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4421160" y="5943600"/>
            <a:ext cx="34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half is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below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666880" y="2438280"/>
            <a:ext cx="3809880" cy="2590560"/>
            <a:chOff x="2666880" y="2438280"/>
            <a:chExt cx="3809880" cy="2590560"/>
          </a:xfrm>
        </p:grpSpPr>
        <p:sp>
          <p:nvSpPr>
            <p:cNvPr id="765" name=""/>
            <p:cNvSpPr/>
            <p:nvPr/>
          </p:nvSpPr>
          <p:spPr>
            <a:xfrm flipV="1">
              <a:off x="2666880" y="5013000"/>
              <a:ext cx="69480" cy="158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2736360" y="4981680"/>
              <a:ext cx="71280" cy="306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2808000" y="4966200"/>
              <a:ext cx="52920" cy="158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61280" y="4935240"/>
              <a:ext cx="71280" cy="306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932560" y="4888440"/>
              <a:ext cx="52920" cy="468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85840" y="4841640"/>
              <a:ext cx="69120" cy="46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3054960" y="4794840"/>
              <a:ext cx="54720" cy="468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3110040" y="4731840"/>
              <a:ext cx="69480" cy="62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3179880" y="4670280"/>
              <a:ext cx="71280" cy="608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3251160" y="4591080"/>
              <a:ext cx="52920" cy="788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04440" y="4497840"/>
              <a:ext cx="71280" cy="93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375720" y="4404240"/>
              <a:ext cx="52920" cy="936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29000" y="4294440"/>
              <a:ext cx="69120" cy="1098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3498480" y="4170240"/>
              <a:ext cx="52920" cy="1238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3551400" y="4045320"/>
              <a:ext cx="71280" cy="1242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623040" y="3919680"/>
              <a:ext cx="71280" cy="125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694320" y="3779280"/>
              <a:ext cx="52920" cy="1400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47600" y="3624480"/>
              <a:ext cx="71280" cy="15516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3819240" y="3484080"/>
              <a:ext cx="52920" cy="1400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72160" y="3343680"/>
              <a:ext cx="69120" cy="140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941640" y="3203280"/>
              <a:ext cx="52920" cy="1404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3994920" y="3062520"/>
              <a:ext cx="71280" cy="1400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4066200" y="2936520"/>
              <a:ext cx="71280" cy="125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4137840" y="2812320"/>
              <a:ext cx="52920" cy="1242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190760" y="2702880"/>
              <a:ext cx="71280" cy="1098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62400" y="2609280"/>
              <a:ext cx="52920" cy="93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15320" y="2546280"/>
              <a:ext cx="69480" cy="626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385160" y="2485080"/>
              <a:ext cx="52560" cy="612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4438080" y="2452320"/>
              <a:ext cx="71280" cy="320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4509360" y="2438280"/>
              <a:ext cx="71280" cy="144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81000" y="2438280"/>
              <a:ext cx="52920" cy="144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34280" y="2452680"/>
              <a:ext cx="71280" cy="320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705560" y="2485080"/>
              <a:ext cx="52920" cy="612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758840" y="2546280"/>
              <a:ext cx="69480" cy="626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28680" y="2609280"/>
              <a:ext cx="52920" cy="93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881600" y="2702880"/>
              <a:ext cx="71280" cy="1098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53240" y="2812680"/>
              <a:ext cx="52560" cy="1242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05800" y="2936880"/>
              <a:ext cx="71280" cy="125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77440" y="3062880"/>
              <a:ext cx="71280" cy="1400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48720" y="3203280"/>
              <a:ext cx="52920" cy="1404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02000" y="3343680"/>
              <a:ext cx="69480" cy="140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71840" y="3484440"/>
              <a:ext cx="52920" cy="1400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24760" y="3624480"/>
              <a:ext cx="71280" cy="15516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96400" y="3779640"/>
              <a:ext cx="52920" cy="1400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49680" y="3920040"/>
              <a:ext cx="71280" cy="125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20960" y="4045680"/>
              <a:ext cx="71280" cy="1242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92600" y="4170240"/>
              <a:ext cx="52560" cy="1238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45160" y="4294440"/>
              <a:ext cx="69480" cy="1098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15000" y="4404240"/>
              <a:ext cx="52920" cy="936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68280" y="4497840"/>
              <a:ext cx="71280" cy="93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39560" y="4591440"/>
              <a:ext cx="52920" cy="788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92840" y="4670640"/>
              <a:ext cx="71280" cy="608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64120" y="4731840"/>
              <a:ext cx="69120" cy="626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33600" y="4794840"/>
              <a:ext cx="55080" cy="468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89040" y="4841640"/>
              <a:ext cx="69120" cy="46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58160" y="4888440"/>
              <a:ext cx="52920" cy="468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11440" y="4935240"/>
              <a:ext cx="71280" cy="306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82720" y="4966200"/>
              <a:ext cx="52920" cy="158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36000" y="4982040"/>
              <a:ext cx="71280" cy="3060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407640" y="5013000"/>
              <a:ext cx="69120" cy="1584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9C07-AD5A-4638-BA61-85CC437C048D}" type="slidenum">
              <a:t>17</a:t>
            </a:fld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200160" y="1753920"/>
            <a:ext cx="3273120" cy="4761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cc"/>
              </a:gs>
              <a:gs pos="100000">
                <a:srgbClr val="ff9999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i-monthly starting salaries of recent MBA graduates                 follows the normal distribution with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 of $3,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tandard deviation of $3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What is the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-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alary of $3,3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724280" y="28195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162480" y="2879640"/>
            <a:ext cx="842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$30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626880" y="2355840"/>
            <a:ext cx="1157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$3,00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66480" y="2355840"/>
            <a:ext cx="1157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$</a:t>
            </a:r>
            <a:r>
              <a:rPr b="1" lang="en-US" sz="3300" spc="-1" strike="noStrike">
                <a:solidFill>
                  <a:srgbClr val="010000"/>
                </a:solidFill>
                <a:latin typeface="Times New Roman"/>
              </a:rPr>
              <a:t>3,30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217560" y="2313000"/>
            <a:ext cx="139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23240" y="2548080"/>
            <a:ext cx="334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4114800"/>
            <a:ext cx="4862520" cy="234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z-v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1 indicates that the value of $3,300 is                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ne standard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v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en-US" sz="2800" spc="-1" strike="noStrike" u="sng">
                <a:solidFill>
                  <a:srgbClr val="ff3101"/>
                </a:solidFill>
                <a:uFillTx/>
                <a:latin typeface="Times New Roman"/>
              </a:rPr>
              <a:t>above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 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3,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09520" y="1219320"/>
            <a:ext cx="1704600" cy="623880"/>
            <a:chOff x="209520" y="1219320"/>
            <a:chExt cx="1704600" cy="623880"/>
          </a:xfrm>
        </p:grpSpPr>
        <p:sp>
          <p:nvSpPr>
            <p:cNvPr id="835" name=""/>
            <p:cNvSpPr txBox="1"/>
            <p:nvPr/>
          </p:nvSpPr>
          <p:spPr>
            <a:xfrm>
              <a:off x="209520" y="1219320"/>
              <a:ext cx="414720" cy="6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646920" y="1369080"/>
              <a:ext cx="1267200" cy="34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837" name=""/>
          <p:cNvSpPr/>
          <p:nvPr/>
        </p:nvSpPr>
        <p:spPr>
          <a:xfrm>
            <a:off x="1490040" y="47520"/>
            <a:ext cx="650376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tandar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25720" y="3368520"/>
            <a:ext cx="17625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 1.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6480000" y="6172200"/>
            <a:ext cx="2435400" cy="520560"/>
            <a:chOff x="6480000" y="6172200"/>
            <a:chExt cx="2435400" cy="520560"/>
          </a:xfrm>
        </p:grpSpPr>
        <p:sp>
          <p:nvSpPr>
            <p:cNvPr id="840" name=""/>
            <p:cNvSpPr/>
            <p:nvPr/>
          </p:nvSpPr>
          <p:spPr>
            <a:xfrm>
              <a:off x="7020000" y="6477120"/>
              <a:ext cx="1895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80000" y="6172200"/>
              <a:ext cx="1946880" cy="52056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efefe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  <a:effectLst>
              <a:outerShdw dist="137587" dir="877859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how cur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3771360" y="2300400"/>
            <a:ext cx="41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3825360" y="1219320"/>
            <a:ext cx="4327920" cy="1188000"/>
            <a:chOff x="3825360" y="1219320"/>
            <a:chExt cx="4327920" cy="1188000"/>
          </a:xfrm>
        </p:grpSpPr>
        <p:sp>
          <p:nvSpPr>
            <p:cNvPr id="844" name=""/>
            <p:cNvSpPr/>
            <p:nvPr/>
          </p:nvSpPr>
          <p:spPr>
            <a:xfrm>
              <a:off x="3825360" y="1449360"/>
              <a:ext cx="1797840" cy="58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5100" dir="8701132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5823720" y="1219320"/>
              <a:ext cx="2329560" cy="1188000"/>
              <a:chOff x="5823720" y="1219320"/>
              <a:chExt cx="2329560" cy="1188000"/>
            </a:xfrm>
          </p:grpSpPr>
          <p:sp>
            <p:nvSpPr>
              <p:cNvPr id="846" name=""/>
              <p:cNvSpPr/>
              <p:nvPr/>
            </p:nvSpPr>
            <p:spPr>
              <a:xfrm>
                <a:off x="6753240" y="1841400"/>
                <a:ext cx="140004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5823720" y="1219320"/>
                <a:ext cx="2315520" cy="1188000"/>
                <a:chOff x="5823720" y="1219320"/>
                <a:chExt cx="2315520" cy="11880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7231320" y="1736640"/>
                  <a:ext cx="3376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33cc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283880" y="1219320"/>
                  <a:ext cx="855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</a:t>
                  </a:r>
                  <a:r>
                    <a:rPr b="1" i="1" lang="en-US" sz="44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µ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6251040" y="1493640"/>
                  <a:ext cx="36360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841800" y="1325520"/>
                  <a:ext cx="4579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1" i="1" lang="en-US" sz="3600" spc="-1" strike="noStrike">
                      <a:solidFill>
                        <a:srgbClr val="008000"/>
                      </a:solidFill>
                      <a:latin typeface="Times New Roman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823720" y="1299960"/>
                  <a:ext cx="2383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ff3300"/>
                      </a:solidFill>
                      <a:latin typeface="Times New Roman"/>
                    </a:rPr>
                    <a:t>z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D8DF-AAF3-47C6-B8C7-C29A7B57170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"/>
          <p:cNvGrpSpPr/>
          <p:nvPr/>
        </p:nvGrpSpPr>
        <p:grpSpPr>
          <a:xfrm>
            <a:off x="2676600" y="1819440"/>
            <a:ext cx="3857400" cy="3301560"/>
            <a:chOff x="2676600" y="1819440"/>
            <a:chExt cx="3857400" cy="3301560"/>
          </a:xfrm>
        </p:grpSpPr>
        <p:sp>
          <p:nvSpPr>
            <p:cNvPr id="854" name=""/>
            <p:cNvSpPr/>
            <p:nvPr/>
          </p:nvSpPr>
          <p:spPr>
            <a:xfrm>
              <a:off x="2676600" y="5121000"/>
              <a:ext cx="3857400" cy="0"/>
            </a:xfrm>
            <a:prstGeom prst="line">
              <a:avLst/>
            </a:prstGeom>
            <a:ln cap="rnd" w="7632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71640" y="1819440"/>
              <a:ext cx="0" cy="3301560"/>
            </a:xfrm>
            <a:prstGeom prst="line">
              <a:avLst/>
            </a:prstGeom>
            <a:ln cap="rnd" w="7632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268360" y="3135240"/>
            <a:ext cx="4665240" cy="1912680"/>
            <a:chOff x="2268360" y="3135240"/>
            <a:chExt cx="4665240" cy="1912680"/>
          </a:xfrm>
        </p:grpSpPr>
        <p:sp>
          <p:nvSpPr>
            <p:cNvPr id="857" name=""/>
            <p:cNvSpPr/>
            <p:nvPr/>
          </p:nvSpPr>
          <p:spPr>
            <a:xfrm>
              <a:off x="2268360" y="3135240"/>
              <a:ext cx="2412360" cy="1910160"/>
            </a:xfrm>
            <a:custGeom>
              <a:avLst/>
              <a:gdLst/>
              <a:ahLst/>
              <a:rect l="l" t="t" r="r" b="b"/>
              <a:pathLst>
                <a:path w="1104" h="832">
                  <a:moveTo>
                    <a:pt x="0" y="832"/>
                  </a:moveTo>
                  <a:cubicBezTo>
                    <a:pt x="124" y="808"/>
                    <a:pt x="248" y="784"/>
                    <a:pt x="336" y="736"/>
                  </a:cubicBezTo>
                  <a:cubicBezTo>
                    <a:pt x="424" y="688"/>
                    <a:pt x="472" y="608"/>
                    <a:pt x="528" y="544"/>
                  </a:cubicBezTo>
                  <a:cubicBezTo>
                    <a:pt x="584" y="480"/>
                    <a:pt x="616" y="424"/>
                    <a:pt x="672" y="352"/>
                  </a:cubicBezTo>
                  <a:cubicBezTo>
                    <a:pt x="728" y="280"/>
                    <a:pt x="808" y="168"/>
                    <a:pt x="864" y="112"/>
                  </a:cubicBezTo>
                  <a:cubicBezTo>
                    <a:pt x="920" y="56"/>
                    <a:pt x="968" y="32"/>
                    <a:pt x="1008" y="16"/>
                  </a:cubicBezTo>
                  <a:cubicBezTo>
                    <a:pt x="1048" y="0"/>
                    <a:pt x="1076" y="8"/>
                    <a:pt x="1104" y="16"/>
                  </a:cubicBezTo>
                </a:path>
              </a:pathLst>
            </a:custGeom>
            <a:noFill/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520880" y="3137760"/>
              <a:ext cx="2412720" cy="1910160"/>
            </a:xfrm>
            <a:custGeom>
              <a:avLst/>
              <a:gdLst/>
              <a:ahLst/>
              <a:rect l="l" t="t" r="r" b="b"/>
              <a:pathLst>
                <a:path w="1104" h="832">
                  <a:moveTo>
                    <a:pt x="0" y="832"/>
                  </a:moveTo>
                  <a:cubicBezTo>
                    <a:pt x="124" y="808"/>
                    <a:pt x="248" y="784"/>
                    <a:pt x="336" y="736"/>
                  </a:cubicBezTo>
                  <a:cubicBezTo>
                    <a:pt x="424" y="688"/>
                    <a:pt x="472" y="608"/>
                    <a:pt x="528" y="544"/>
                  </a:cubicBezTo>
                  <a:cubicBezTo>
                    <a:pt x="584" y="480"/>
                    <a:pt x="616" y="424"/>
                    <a:pt x="672" y="352"/>
                  </a:cubicBezTo>
                  <a:cubicBezTo>
                    <a:pt x="728" y="280"/>
                    <a:pt x="808" y="168"/>
                    <a:pt x="864" y="112"/>
                  </a:cubicBezTo>
                  <a:cubicBezTo>
                    <a:pt x="920" y="56"/>
                    <a:pt x="968" y="32"/>
                    <a:pt x="1008" y="16"/>
                  </a:cubicBezTo>
                  <a:cubicBezTo>
                    <a:pt x="1048" y="0"/>
                    <a:pt x="1076" y="8"/>
                    <a:pt x="1104" y="16"/>
                  </a:cubicBezTo>
                </a:path>
              </a:pathLst>
            </a:custGeom>
            <a:noFill/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3950280" y="5719680"/>
            <a:ext cx="122472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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029200" y="2895480"/>
            <a:ext cx="0" cy="2210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283720" y="3124080"/>
            <a:ext cx="149148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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38480" y="5186520"/>
            <a:ext cx="11430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029200" y="2590920"/>
            <a:ext cx="114300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$3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133720" y="457200"/>
            <a:ext cx="4862520" cy="234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z-v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1 indicates that the value of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$3,3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               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ne standard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v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en-US" sz="2800" spc="-1" strike="noStrike" u="sng">
                <a:solidFill>
                  <a:srgbClr val="ff3101"/>
                </a:solidFill>
                <a:uFillTx/>
                <a:latin typeface="Times New Roman"/>
              </a:rPr>
              <a:t>above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 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3,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0D20-47DB-46DD-8A70-15A509DA3A19}" type="slidenum">
              <a:t>19</a:t>
            </a:fld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23720" y="14479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80880" y="2133720"/>
            <a:ext cx="685800" cy="685800"/>
            <a:chOff x="380880" y="2133720"/>
            <a:chExt cx="685800" cy="685800"/>
          </a:xfrm>
        </p:grpSpPr>
        <p:pic>
          <p:nvPicPr>
            <p:cNvPr id="51" name="" descr=""/>
            <p:cNvPicPr/>
            <p:nvPr/>
          </p:nvPicPr>
          <p:blipFill>
            <a:blip r:embed="rId1"/>
            <a:srcRect l="0" t="7684" r="4868" b="13458"/>
            <a:stretch/>
          </p:blipFill>
          <p:spPr>
            <a:xfrm>
              <a:off x="380880" y="217980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56840" y="21337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238400" y="2171880"/>
            <a:ext cx="70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Explain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how probabilities are assign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uous random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52440" y="3295800"/>
            <a:ext cx="685800" cy="685800"/>
            <a:chOff x="352440" y="3295800"/>
            <a:chExt cx="685800" cy="685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rcRect l="0" t="7684" r="4868" b="13458"/>
            <a:stretch/>
          </p:blipFill>
          <p:spPr>
            <a:xfrm>
              <a:off x="352440" y="33418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28400" y="3295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181160" y="3352680"/>
            <a:ext cx="76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Expla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haracteristics of a normal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distribu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43080" y="4495680"/>
            <a:ext cx="685800" cy="685800"/>
            <a:chOff x="343080" y="4495680"/>
            <a:chExt cx="685800" cy="685800"/>
          </a:xfrm>
        </p:grpSpPr>
        <p:pic>
          <p:nvPicPr>
            <p:cNvPr id="59" name="" descr=""/>
            <p:cNvPicPr/>
            <p:nvPr/>
          </p:nvPicPr>
          <p:blipFill>
            <a:blip r:embed="rId3"/>
            <a:srcRect l="0" t="7684" r="4868" b="13458"/>
            <a:stretch/>
          </p:blipFill>
          <p:spPr>
            <a:xfrm>
              <a:off x="343080" y="454176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19040" y="44956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162080" y="446724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Def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calcu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z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rresponding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observation on a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353360" y="5695920"/>
            <a:ext cx="1257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671920" y="366840"/>
            <a:ext cx="3904920" cy="8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96762" dir="9406405" blurRad="0" rotWithShape="0">
                    <a:srgbClr val="00000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96762" dir="9406405" blurRad="0" rotWithShape="0">
                  <a:srgbClr val="00000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4831-166F-488B-909C-B5916A47ED96}" type="slidenum">
              <a:t>2</a:t>
            </a:fld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490040" y="47520"/>
            <a:ext cx="650376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tandar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00160" y="1754280"/>
            <a:ext cx="3273120" cy="4761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fffcc"/>
              </a:gs>
              <a:gs pos="100000">
                <a:srgbClr val="ff9999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i-monthly starting salaries of recent MBA graduates follows the normal distribution with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 of $3,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tandard deviation of $3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572000" y="274320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0200" y="2736720"/>
            <a:ext cx="842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$30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474600" y="2212920"/>
            <a:ext cx="1157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$3,00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714200" y="2212920"/>
            <a:ext cx="1157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$2,55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065280" y="2133720"/>
            <a:ext cx="139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70600" y="2405160"/>
            <a:ext cx="334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05320" y="3889440"/>
            <a:ext cx="5486400" cy="234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z-v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–1.50 indicates that the value of $2,550 is                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ne and a half (1.5)                  standard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vi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en-US" sz="2800" spc="-1" strike="noStrike" u="sng">
                <a:solidFill>
                  <a:srgbClr val="ff3101"/>
                </a:solidFill>
                <a:uFillTx/>
                <a:latin typeface="Times New Roman"/>
              </a:rPr>
              <a:t>below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 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3,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209520" y="1219320"/>
            <a:ext cx="1704600" cy="623880"/>
            <a:chOff x="209520" y="1219320"/>
            <a:chExt cx="1704600" cy="623880"/>
          </a:xfrm>
        </p:grpSpPr>
        <p:sp>
          <p:nvSpPr>
            <p:cNvPr id="875" name=""/>
            <p:cNvSpPr txBox="1"/>
            <p:nvPr/>
          </p:nvSpPr>
          <p:spPr>
            <a:xfrm>
              <a:off x="209520" y="1219320"/>
              <a:ext cx="414720" cy="6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646920" y="1369080"/>
              <a:ext cx="1267200" cy="34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4725720" y="3225960"/>
            <a:ext cx="204156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 -1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28600" y="5199120"/>
            <a:ext cx="3200400" cy="12452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-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alary of $2,5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60520" y="6172200"/>
            <a:ext cx="2283120" cy="520560"/>
            <a:chOff x="6860520" y="6172200"/>
            <a:chExt cx="2283120" cy="520560"/>
          </a:xfrm>
        </p:grpSpPr>
        <p:sp>
          <p:nvSpPr>
            <p:cNvPr id="880" name=""/>
            <p:cNvSpPr/>
            <p:nvPr/>
          </p:nvSpPr>
          <p:spPr>
            <a:xfrm>
              <a:off x="7366680" y="6324840"/>
              <a:ext cx="1776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0520" y="6172200"/>
              <a:ext cx="1946880" cy="52056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efefe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  <a:effectLst>
              <a:outerShdw dist="137587" dir="877859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how cur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3801240" y="2239920"/>
            <a:ext cx="238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825360" y="1219320"/>
            <a:ext cx="4327920" cy="1188000"/>
            <a:chOff x="3825360" y="1219320"/>
            <a:chExt cx="4327920" cy="1188000"/>
          </a:xfrm>
        </p:grpSpPr>
        <p:sp>
          <p:nvSpPr>
            <p:cNvPr id="884" name=""/>
            <p:cNvSpPr/>
            <p:nvPr/>
          </p:nvSpPr>
          <p:spPr>
            <a:xfrm>
              <a:off x="3825360" y="1449360"/>
              <a:ext cx="1797840" cy="58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5100" dir="8701132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5823720" y="1219320"/>
              <a:ext cx="2329560" cy="1188000"/>
              <a:chOff x="5823720" y="1219320"/>
              <a:chExt cx="2329560" cy="1188000"/>
            </a:xfrm>
          </p:grpSpPr>
          <p:sp>
            <p:nvSpPr>
              <p:cNvPr id="886" name=""/>
              <p:cNvSpPr/>
              <p:nvPr/>
            </p:nvSpPr>
            <p:spPr>
              <a:xfrm>
                <a:off x="6753240" y="1841400"/>
                <a:ext cx="140004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5823720" y="1219320"/>
                <a:ext cx="2315520" cy="1188000"/>
                <a:chOff x="5823720" y="1219320"/>
                <a:chExt cx="2315520" cy="1188000"/>
              </a:xfrm>
            </p:grpSpPr>
            <p:sp>
              <p:nvSpPr>
                <p:cNvPr id="888" name=""/>
                <p:cNvSpPr/>
                <p:nvPr/>
              </p:nvSpPr>
              <p:spPr>
                <a:xfrm>
                  <a:off x="7231320" y="1736640"/>
                  <a:ext cx="3376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400" spc="-1" strike="noStrike">
                      <a:solidFill>
                        <a:srgbClr val="0033cc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283880" y="1219320"/>
                  <a:ext cx="8553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</a:t>
                  </a:r>
                  <a:r>
                    <a:rPr b="1" i="1" lang="en-US" sz="44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µ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251040" y="1493640"/>
                  <a:ext cx="36360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841800" y="1325520"/>
                  <a:ext cx="4579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1" i="1" lang="en-US" sz="3600" spc="-1" strike="noStrike">
                      <a:solidFill>
                        <a:srgbClr val="008000"/>
                      </a:solidFill>
                      <a:latin typeface="Times New Roman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823720" y="1299960"/>
                  <a:ext cx="23832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ff3300"/>
                      </a:solidFill>
                      <a:latin typeface="Times New Roman"/>
                    </a:rPr>
                    <a:t>z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C044-CE9A-4E82-A883-3B52AB7C1BC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2286000" y="1747800"/>
            <a:ext cx="4647960" cy="3509640"/>
            <a:chOff x="2286000" y="1747800"/>
            <a:chExt cx="4647960" cy="3509640"/>
          </a:xfrm>
        </p:grpSpPr>
        <p:sp>
          <p:nvSpPr>
            <p:cNvPr id="894" name=""/>
            <p:cNvSpPr/>
            <p:nvPr/>
          </p:nvSpPr>
          <p:spPr>
            <a:xfrm>
              <a:off x="2286000" y="5257440"/>
              <a:ext cx="4647960" cy="0"/>
            </a:xfrm>
            <a:prstGeom prst="line">
              <a:avLst/>
            </a:prstGeom>
            <a:ln cap="rnd" w="7632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69480" y="1747800"/>
              <a:ext cx="0" cy="3509640"/>
            </a:xfrm>
            <a:prstGeom prst="line">
              <a:avLst/>
            </a:prstGeom>
            <a:ln cap="rnd" w="76320">
              <a:solidFill>
                <a:srgbClr val="ddddd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2268360" y="3368520"/>
            <a:ext cx="4665240" cy="1912680"/>
            <a:chOff x="2268360" y="3368520"/>
            <a:chExt cx="4665240" cy="1912680"/>
          </a:xfrm>
        </p:grpSpPr>
        <p:sp>
          <p:nvSpPr>
            <p:cNvPr id="897" name=""/>
            <p:cNvSpPr/>
            <p:nvPr/>
          </p:nvSpPr>
          <p:spPr>
            <a:xfrm>
              <a:off x="2268360" y="3368520"/>
              <a:ext cx="2412360" cy="1910160"/>
            </a:xfrm>
            <a:custGeom>
              <a:avLst/>
              <a:gdLst/>
              <a:ahLst/>
              <a:rect l="l" t="t" r="r" b="b"/>
              <a:pathLst>
                <a:path w="1104" h="832">
                  <a:moveTo>
                    <a:pt x="0" y="832"/>
                  </a:moveTo>
                  <a:cubicBezTo>
                    <a:pt x="124" y="808"/>
                    <a:pt x="248" y="784"/>
                    <a:pt x="336" y="736"/>
                  </a:cubicBezTo>
                  <a:cubicBezTo>
                    <a:pt x="424" y="688"/>
                    <a:pt x="472" y="608"/>
                    <a:pt x="528" y="544"/>
                  </a:cubicBezTo>
                  <a:cubicBezTo>
                    <a:pt x="584" y="480"/>
                    <a:pt x="616" y="424"/>
                    <a:pt x="672" y="352"/>
                  </a:cubicBezTo>
                  <a:cubicBezTo>
                    <a:pt x="728" y="280"/>
                    <a:pt x="808" y="168"/>
                    <a:pt x="864" y="112"/>
                  </a:cubicBezTo>
                  <a:cubicBezTo>
                    <a:pt x="920" y="56"/>
                    <a:pt x="968" y="32"/>
                    <a:pt x="1008" y="16"/>
                  </a:cubicBezTo>
                  <a:cubicBezTo>
                    <a:pt x="1048" y="0"/>
                    <a:pt x="1076" y="8"/>
                    <a:pt x="1104" y="16"/>
                  </a:cubicBezTo>
                </a:path>
              </a:pathLst>
            </a:custGeom>
            <a:noFill/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520880" y="3371040"/>
              <a:ext cx="2412720" cy="1910160"/>
            </a:xfrm>
            <a:custGeom>
              <a:avLst/>
              <a:gdLst/>
              <a:ahLst/>
              <a:rect l="l" t="t" r="r" b="b"/>
              <a:pathLst>
                <a:path w="1104" h="832">
                  <a:moveTo>
                    <a:pt x="0" y="832"/>
                  </a:moveTo>
                  <a:cubicBezTo>
                    <a:pt x="124" y="808"/>
                    <a:pt x="248" y="784"/>
                    <a:pt x="336" y="736"/>
                  </a:cubicBezTo>
                  <a:cubicBezTo>
                    <a:pt x="424" y="688"/>
                    <a:pt x="472" y="608"/>
                    <a:pt x="528" y="544"/>
                  </a:cubicBezTo>
                  <a:cubicBezTo>
                    <a:pt x="584" y="480"/>
                    <a:pt x="616" y="424"/>
                    <a:pt x="672" y="352"/>
                  </a:cubicBezTo>
                  <a:cubicBezTo>
                    <a:pt x="728" y="280"/>
                    <a:pt x="808" y="168"/>
                    <a:pt x="864" y="112"/>
                  </a:cubicBezTo>
                  <a:cubicBezTo>
                    <a:pt x="920" y="56"/>
                    <a:pt x="968" y="32"/>
                    <a:pt x="1008" y="16"/>
                  </a:cubicBezTo>
                  <a:cubicBezTo>
                    <a:pt x="1048" y="0"/>
                    <a:pt x="1076" y="8"/>
                    <a:pt x="1104" y="16"/>
                  </a:cubicBezTo>
                </a:path>
              </a:pathLst>
            </a:custGeom>
            <a:noFill/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3950280" y="6024600"/>
            <a:ext cx="122472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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09880" y="3129120"/>
            <a:ext cx="0" cy="22096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15640" y="3662280"/>
            <a:ext cx="178704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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76240" y="1390680"/>
            <a:ext cx="7391520" cy="149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z-v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–1.50 indicates that the value of $2,550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ne and a half standar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below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 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3,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962520" y="5491080"/>
            <a:ext cx="11430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$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90920" y="3129120"/>
            <a:ext cx="114300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$25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90040" y="47520"/>
            <a:ext cx="650376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tandar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DA59-F3C0-486F-B6C4-0F750A6E1EB2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1670040" y="1295280"/>
            <a:ext cx="6364440" cy="5220000"/>
          </a:xfrm>
          <a:custGeom>
            <a:avLst/>
            <a:gdLst/>
            <a:ahLst/>
            <a:rect l="l" t="t" r="r" b="b"/>
            <a:pathLst>
              <a:path w="3588" h="3588">
                <a:moveTo>
                  <a:pt x="2218" y="3250"/>
                </a:moveTo>
                <a:lnTo>
                  <a:pt x="2208" y="3255"/>
                </a:lnTo>
                <a:lnTo>
                  <a:pt x="2203" y="3260"/>
                </a:lnTo>
                <a:lnTo>
                  <a:pt x="2192" y="3265"/>
                </a:lnTo>
                <a:lnTo>
                  <a:pt x="2182" y="3270"/>
                </a:lnTo>
                <a:lnTo>
                  <a:pt x="2172" y="3276"/>
                </a:lnTo>
                <a:lnTo>
                  <a:pt x="2161" y="3286"/>
                </a:lnTo>
                <a:lnTo>
                  <a:pt x="2151" y="3291"/>
                </a:lnTo>
                <a:lnTo>
                  <a:pt x="2140" y="3302"/>
                </a:lnTo>
                <a:lnTo>
                  <a:pt x="2130" y="3312"/>
                </a:lnTo>
                <a:lnTo>
                  <a:pt x="2119" y="3322"/>
                </a:lnTo>
                <a:lnTo>
                  <a:pt x="2104" y="3333"/>
                </a:lnTo>
                <a:lnTo>
                  <a:pt x="2093" y="3343"/>
                </a:lnTo>
                <a:lnTo>
                  <a:pt x="2078" y="3354"/>
                </a:lnTo>
                <a:lnTo>
                  <a:pt x="2057" y="3364"/>
                </a:lnTo>
                <a:lnTo>
                  <a:pt x="2041" y="3380"/>
                </a:lnTo>
                <a:lnTo>
                  <a:pt x="2021" y="3390"/>
                </a:lnTo>
                <a:lnTo>
                  <a:pt x="2000" y="3401"/>
                </a:lnTo>
                <a:lnTo>
                  <a:pt x="1979" y="3411"/>
                </a:lnTo>
                <a:lnTo>
                  <a:pt x="1953" y="3427"/>
                </a:lnTo>
                <a:lnTo>
                  <a:pt x="1927" y="3437"/>
                </a:lnTo>
                <a:lnTo>
                  <a:pt x="1901" y="3447"/>
                </a:lnTo>
                <a:lnTo>
                  <a:pt x="1875" y="3463"/>
                </a:lnTo>
                <a:lnTo>
                  <a:pt x="1838" y="3473"/>
                </a:lnTo>
                <a:lnTo>
                  <a:pt x="1807" y="3484"/>
                </a:lnTo>
                <a:lnTo>
                  <a:pt x="1771" y="3494"/>
                </a:lnTo>
                <a:lnTo>
                  <a:pt x="1729" y="3505"/>
                </a:lnTo>
                <a:lnTo>
                  <a:pt x="1687" y="3510"/>
                </a:lnTo>
                <a:lnTo>
                  <a:pt x="1640" y="3520"/>
                </a:lnTo>
                <a:lnTo>
                  <a:pt x="1594" y="3531"/>
                </a:lnTo>
                <a:lnTo>
                  <a:pt x="1547" y="3536"/>
                </a:lnTo>
                <a:lnTo>
                  <a:pt x="1489" y="3546"/>
                </a:lnTo>
                <a:lnTo>
                  <a:pt x="1432" y="3552"/>
                </a:lnTo>
                <a:lnTo>
                  <a:pt x="1401" y="3552"/>
                </a:lnTo>
                <a:lnTo>
                  <a:pt x="1375" y="3552"/>
                </a:lnTo>
                <a:lnTo>
                  <a:pt x="1349" y="3552"/>
                </a:lnTo>
                <a:lnTo>
                  <a:pt x="1333" y="3552"/>
                </a:lnTo>
                <a:lnTo>
                  <a:pt x="1323" y="3546"/>
                </a:lnTo>
                <a:lnTo>
                  <a:pt x="1312" y="3541"/>
                </a:lnTo>
                <a:lnTo>
                  <a:pt x="1312" y="3536"/>
                </a:lnTo>
                <a:lnTo>
                  <a:pt x="1312" y="3531"/>
                </a:lnTo>
                <a:lnTo>
                  <a:pt x="1318" y="3520"/>
                </a:lnTo>
                <a:lnTo>
                  <a:pt x="1323" y="3510"/>
                </a:lnTo>
                <a:lnTo>
                  <a:pt x="1333" y="3499"/>
                </a:lnTo>
                <a:lnTo>
                  <a:pt x="1349" y="3489"/>
                </a:lnTo>
                <a:lnTo>
                  <a:pt x="1364" y="3479"/>
                </a:lnTo>
                <a:lnTo>
                  <a:pt x="1380" y="3468"/>
                </a:lnTo>
                <a:lnTo>
                  <a:pt x="1396" y="3458"/>
                </a:lnTo>
                <a:lnTo>
                  <a:pt x="1416" y="3442"/>
                </a:lnTo>
                <a:lnTo>
                  <a:pt x="1437" y="3432"/>
                </a:lnTo>
                <a:lnTo>
                  <a:pt x="1458" y="3421"/>
                </a:lnTo>
                <a:lnTo>
                  <a:pt x="1479" y="3406"/>
                </a:lnTo>
                <a:lnTo>
                  <a:pt x="1500" y="3395"/>
                </a:lnTo>
                <a:lnTo>
                  <a:pt x="1521" y="3385"/>
                </a:lnTo>
                <a:lnTo>
                  <a:pt x="1541" y="3374"/>
                </a:lnTo>
                <a:lnTo>
                  <a:pt x="1562" y="3359"/>
                </a:lnTo>
                <a:lnTo>
                  <a:pt x="1578" y="3348"/>
                </a:lnTo>
                <a:lnTo>
                  <a:pt x="1594" y="3343"/>
                </a:lnTo>
                <a:lnTo>
                  <a:pt x="1604" y="3333"/>
                </a:lnTo>
                <a:lnTo>
                  <a:pt x="1620" y="3322"/>
                </a:lnTo>
                <a:lnTo>
                  <a:pt x="1625" y="3317"/>
                </a:lnTo>
                <a:lnTo>
                  <a:pt x="1630" y="3312"/>
                </a:lnTo>
                <a:lnTo>
                  <a:pt x="1630" y="3307"/>
                </a:lnTo>
                <a:lnTo>
                  <a:pt x="1630" y="3302"/>
                </a:lnTo>
                <a:lnTo>
                  <a:pt x="1620" y="3302"/>
                </a:lnTo>
                <a:lnTo>
                  <a:pt x="1614" y="3302"/>
                </a:lnTo>
                <a:lnTo>
                  <a:pt x="1604" y="3302"/>
                </a:lnTo>
                <a:lnTo>
                  <a:pt x="1594" y="3302"/>
                </a:lnTo>
                <a:lnTo>
                  <a:pt x="1583" y="3307"/>
                </a:lnTo>
                <a:lnTo>
                  <a:pt x="1573" y="3307"/>
                </a:lnTo>
                <a:lnTo>
                  <a:pt x="1557" y="3312"/>
                </a:lnTo>
                <a:lnTo>
                  <a:pt x="1547" y="3317"/>
                </a:lnTo>
                <a:lnTo>
                  <a:pt x="1536" y="3322"/>
                </a:lnTo>
                <a:lnTo>
                  <a:pt x="1521" y="3328"/>
                </a:lnTo>
                <a:lnTo>
                  <a:pt x="1505" y="3328"/>
                </a:lnTo>
                <a:lnTo>
                  <a:pt x="1489" y="3333"/>
                </a:lnTo>
                <a:lnTo>
                  <a:pt x="1474" y="3338"/>
                </a:lnTo>
                <a:lnTo>
                  <a:pt x="1453" y="3343"/>
                </a:lnTo>
                <a:lnTo>
                  <a:pt x="1437" y="3348"/>
                </a:lnTo>
                <a:lnTo>
                  <a:pt x="1416" y="3354"/>
                </a:lnTo>
                <a:lnTo>
                  <a:pt x="1396" y="3359"/>
                </a:lnTo>
                <a:lnTo>
                  <a:pt x="1370" y="3359"/>
                </a:lnTo>
                <a:lnTo>
                  <a:pt x="1344" y="3364"/>
                </a:lnTo>
                <a:lnTo>
                  <a:pt x="1318" y="3364"/>
                </a:lnTo>
                <a:lnTo>
                  <a:pt x="1291" y="3369"/>
                </a:lnTo>
                <a:lnTo>
                  <a:pt x="1260" y="3369"/>
                </a:lnTo>
                <a:lnTo>
                  <a:pt x="1229" y="3364"/>
                </a:lnTo>
                <a:lnTo>
                  <a:pt x="1193" y="3364"/>
                </a:lnTo>
                <a:lnTo>
                  <a:pt x="1161" y="3359"/>
                </a:lnTo>
                <a:lnTo>
                  <a:pt x="1120" y="3359"/>
                </a:lnTo>
                <a:lnTo>
                  <a:pt x="1083" y="3348"/>
                </a:lnTo>
                <a:lnTo>
                  <a:pt x="1042" y="3343"/>
                </a:lnTo>
                <a:lnTo>
                  <a:pt x="995" y="3333"/>
                </a:lnTo>
                <a:lnTo>
                  <a:pt x="948" y="3322"/>
                </a:lnTo>
                <a:lnTo>
                  <a:pt x="901" y="3312"/>
                </a:lnTo>
                <a:lnTo>
                  <a:pt x="849" y="3296"/>
                </a:lnTo>
                <a:lnTo>
                  <a:pt x="792" y="3281"/>
                </a:lnTo>
                <a:lnTo>
                  <a:pt x="760" y="3270"/>
                </a:lnTo>
                <a:lnTo>
                  <a:pt x="734" y="3260"/>
                </a:lnTo>
                <a:lnTo>
                  <a:pt x="713" y="3250"/>
                </a:lnTo>
                <a:lnTo>
                  <a:pt x="698" y="3239"/>
                </a:lnTo>
                <a:lnTo>
                  <a:pt x="693" y="3234"/>
                </a:lnTo>
                <a:lnTo>
                  <a:pt x="687" y="3223"/>
                </a:lnTo>
                <a:lnTo>
                  <a:pt x="682" y="3218"/>
                </a:lnTo>
                <a:lnTo>
                  <a:pt x="687" y="3213"/>
                </a:lnTo>
                <a:lnTo>
                  <a:pt x="698" y="3208"/>
                </a:lnTo>
                <a:lnTo>
                  <a:pt x="708" y="3203"/>
                </a:lnTo>
                <a:lnTo>
                  <a:pt x="719" y="3197"/>
                </a:lnTo>
                <a:lnTo>
                  <a:pt x="734" y="3192"/>
                </a:lnTo>
                <a:lnTo>
                  <a:pt x="755" y="3187"/>
                </a:lnTo>
                <a:lnTo>
                  <a:pt x="776" y="3182"/>
                </a:lnTo>
                <a:lnTo>
                  <a:pt x="797" y="3177"/>
                </a:lnTo>
                <a:lnTo>
                  <a:pt x="818" y="3177"/>
                </a:lnTo>
                <a:lnTo>
                  <a:pt x="844" y="3171"/>
                </a:lnTo>
                <a:lnTo>
                  <a:pt x="870" y="3166"/>
                </a:lnTo>
                <a:lnTo>
                  <a:pt x="890" y="3166"/>
                </a:lnTo>
                <a:lnTo>
                  <a:pt x="917" y="3161"/>
                </a:lnTo>
                <a:lnTo>
                  <a:pt x="943" y="3161"/>
                </a:lnTo>
                <a:lnTo>
                  <a:pt x="963" y="3156"/>
                </a:lnTo>
                <a:lnTo>
                  <a:pt x="984" y="3156"/>
                </a:lnTo>
                <a:lnTo>
                  <a:pt x="1005" y="3151"/>
                </a:lnTo>
                <a:lnTo>
                  <a:pt x="1026" y="3151"/>
                </a:lnTo>
                <a:lnTo>
                  <a:pt x="1042" y="3145"/>
                </a:lnTo>
                <a:lnTo>
                  <a:pt x="1052" y="3140"/>
                </a:lnTo>
                <a:lnTo>
                  <a:pt x="1062" y="3140"/>
                </a:lnTo>
                <a:lnTo>
                  <a:pt x="1068" y="3135"/>
                </a:lnTo>
                <a:lnTo>
                  <a:pt x="1073" y="3130"/>
                </a:lnTo>
                <a:lnTo>
                  <a:pt x="1073" y="3130"/>
                </a:lnTo>
                <a:lnTo>
                  <a:pt x="1068" y="3125"/>
                </a:lnTo>
                <a:lnTo>
                  <a:pt x="1057" y="3119"/>
                </a:lnTo>
                <a:lnTo>
                  <a:pt x="1047" y="3119"/>
                </a:lnTo>
                <a:lnTo>
                  <a:pt x="1042" y="3114"/>
                </a:lnTo>
                <a:lnTo>
                  <a:pt x="1031" y="3114"/>
                </a:lnTo>
                <a:lnTo>
                  <a:pt x="1015" y="3114"/>
                </a:lnTo>
                <a:lnTo>
                  <a:pt x="1005" y="3109"/>
                </a:lnTo>
                <a:lnTo>
                  <a:pt x="995" y="3109"/>
                </a:lnTo>
                <a:lnTo>
                  <a:pt x="979" y="3109"/>
                </a:lnTo>
                <a:lnTo>
                  <a:pt x="963" y="3109"/>
                </a:lnTo>
                <a:lnTo>
                  <a:pt x="948" y="3109"/>
                </a:lnTo>
                <a:lnTo>
                  <a:pt x="932" y="3104"/>
                </a:lnTo>
                <a:lnTo>
                  <a:pt x="917" y="3104"/>
                </a:lnTo>
                <a:lnTo>
                  <a:pt x="896" y="3104"/>
                </a:lnTo>
                <a:lnTo>
                  <a:pt x="880" y="3098"/>
                </a:lnTo>
                <a:lnTo>
                  <a:pt x="859" y="3098"/>
                </a:lnTo>
                <a:lnTo>
                  <a:pt x="833" y="3093"/>
                </a:lnTo>
                <a:lnTo>
                  <a:pt x="812" y="3088"/>
                </a:lnTo>
                <a:lnTo>
                  <a:pt x="786" y="3078"/>
                </a:lnTo>
                <a:lnTo>
                  <a:pt x="760" y="3072"/>
                </a:lnTo>
                <a:lnTo>
                  <a:pt x="734" y="3062"/>
                </a:lnTo>
                <a:lnTo>
                  <a:pt x="708" y="3052"/>
                </a:lnTo>
                <a:lnTo>
                  <a:pt x="682" y="3036"/>
                </a:lnTo>
                <a:lnTo>
                  <a:pt x="651" y="3026"/>
                </a:lnTo>
                <a:lnTo>
                  <a:pt x="620" y="3010"/>
                </a:lnTo>
                <a:lnTo>
                  <a:pt x="583" y="2989"/>
                </a:lnTo>
                <a:lnTo>
                  <a:pt x="547" y="2968"/>
                </a:lnTo>
                <a:lnTo>
                  <a:pt x="510" y="2947"/>
                </a:lnTo>
                <a:lnTo>
                  <a:pt x="474" y="2921"/>
                </a:lnTo>
                <a:lnTo>
                  <a:pt x="437" y="2895"/>
                </a:lnTo>
                <a:lnTo>
                  <a:pt x="396" y="2864"/>
                </a:lnTo>
                <a:lnTo>
                  <a:pt x="354" y="2833"/>
                </a:lnTo>
                <a:lnTo>
                  <a:pt x="307" y="2796"/>
                </a:lnTo>
                <a:lnTo>
                  <a:pt x="286" y="2776"/>
                </a:lnTo>
                <a:lnTo>
                  <a:pt x="266" y="2755"/>
                </a:lnTo>
                <a:lnTo>
                  <a:pt x="250" y="2739"/>
                </a:lnTo>
                <a:lnTo>
                  <a:pt x="240" y="2724"/>
                </a:lnTo>
                <a:lnTo>
                  <a:pt x="234" y="2713"/>
                </a:lnTo>
                <a:lnTo>
                  <a:pt x="229" y="2703"/>
                </a:lnTo>
                <a:lnTo>
                  <a:pt x="234" y="2698"/>
                </a:lnTo>
                <a:lnTo>
                  <a:pt x="240" y="2692"/>
                </a:lnTo>
                <a:lnTo>
                  <a:pt x="245" y="2692"/>
                </a:lnTo>
                <a:lnTo>
                  <a:pt x="260" y="2687"/>
                </a:lnTo>
                <a:lnTo>
                  <a:pt x="271" y="2687"/>
                </a:lnTo>
                <a:lnTo>
                  <a:pt x="292" y="2692"/>
                </a:lnTo>
                <a:lnTo>
                  <a:pt x="307" y="2692"/>
                </a:lnTo>
                <a:lnTo>
                  <a:pt x="328" y="2698"/>
                </a:lnTo>
                <a:lnTo>
                  <a:pt x="349" y="2703"/>
                </a:lnTo>
                <a:lnTo>
                  <a:pt x="375" y="2708"/>
                </a:lnTo>
                <a:lnTo>
                  <a:pt x="396" y="2713"/>
                </a:lnTo>
                <a:lnTo>
                  <a:pt x="422" y="2718"/>
                </a:lnTo>
                <a:lnTo>
                  <a:pt x="443" y="2729"/>
                </a:lnTo>
                <a:lnTo>
                  <a:pt x="469" y="2734"/>
                </a:lnTo>
                <a:lnTo>
                  <a:pt x="490" y="2739"/>
                </a:lnTo>
                <a:lnTo>
                  <a:pt x="510" y="2744"/>
                </a:lnTo>
                <a:lnTo>
                  <a:pt x="531" y="2750"/>
                </a:lnTo>
                <a:lnTo>
                  <a:pt x="552" y="2755"/>
                </a:lnTo>
                <a:lnTo>
                  <a:pt x="573" y="2760"/>
                </a:lnTo>
                <a:lnTo>
                  <a:pt x="588" y="2765"/>
                </a:lnTo>
                <a:lnTo>
                  <a:pt x="599" y="2765"/>
                </a:lnTo>
                <a:lnTo>
                  <a:pt x="609" y="2765"/>
                </a:lnTo>
                <a:lnTo>
                  <a:pt x="620" y="2765"/>
                </a:lnTo>
                <a:lnTo>
                  <a:pt x="620" y="2765"/>
                </a:lnTo>
                <a:lnTo>
                  <a:pt x="620" y="2760"/>
                </a:lnTo>
                <a:lnTo>
                  <a:pt x="620" y="2755"/>
                </a:lnTo>
                <a:lnTo>
                  <a:pt x="614" y="2744"/>
                </a:lnTo>
                <a:lnTo>
                  <a:pt x="604" y="2739"/>
                </a:lnTo>
                <a:lnTo>
                  <a:pt x="599" y="2734"/>
                </a:lnTo>
                <a:lnTo>
                  <a:pt x="588" y="2729"/>
                </a:lnTo>
                <a:lnTo>
                  <a:pt x="578" y="2724"/>
                </a:lnTo>
                <a:lnTo>
                  <a:pt x="568" y="2718"/>
                </a:lnTo>
                <a:lnTo>
                  <a:pt x="557" y="2713"/>
                </a:lnTo>
                <a:lnTo>
                  <a:pt x="542" y="2703"/>
                </a:lnTo>
                <a:lnTo>
                  <a:pt x="526" y="2698"/>
                </a:lnTo>
                <a:lnTo>
                  <a:pt x="516" y="2692"/>
                </a:lnTo>
                <a:lnTo>
                  <a:pt x="500" y="2687"/>
                </a:lnTo>
                <a:lnTo>
                  <a:pt x="484" y="2677"/>
                </a:lnTo>
                <a:lnTo>
                  <a:pt x="469" y="2666"/>
                </a:lnTo>
                <a:lnTo>
                  <a:pt x="448" y="2656"/>
                </a:lnTo>
                <a:lnTo>
                  <a:pt x="432" y="2645"/>
                </a:lnTo>
                <a:lnTo>
                  <a:pt x="411" y="2635"/>
                </a:lnTo>
                <a:lnTo>
                  <a:pt x="396" y="2619"/>
                </a:lnTo>
                <a:lnTo>
                  <a:pt x="375" y="2604"/>
                </a:lnTo>
                <a:lnTo>
                  <a:pt x="354" y="2588"/>
                </a:lnTo>
                <a:lnTo>
                  <a:pt x="333" y="2567"/>
                </a:lnTo>
                <a:lnTo>
                  <a:pt x="307" y="2546"/>
                </a:lnTo>
                <a:lnTo>
                  <a:pt x="286" y="2526"/>
                </a:lnTo>
                <a:lnTo>
                  <a:pt x="266" y="2500"/>
                </a:lnTo>
                <a:lnTo>
                  <a:pt x="240" y="2474"/>
                </a:lnTo>
                <a:lnTo>
                  <a:pt x="219" y="2442"/>
                </a:lnTo>
                <a:lnTo>
                  <a:pt x="193" y="2411"/>
                </a:lnTo>
                <a:lnTo>
                  <a:pt x="167" y="2375"/>
                </a:lnTo>
                <a:lnTo>
                  <a:pt x="141" y="2338"/>
                </a:lnTo>
                <a:lnTo>
                  <a:pt x="120" y="2297"/>
                </a:lnTo>
                <a:lnTo>
                  <a:pt x="94" y="2250"/>
                </a:lnTo>
                <a:lnTo>
                  <a:pt x="68" y="2203"/>
                </a:lnTo>
                <a:lnTo>
                  <a:pt x="36" y="2156"/>
                </a:lnTo>
                <a:lnTo>
                  <a:pt x="26" y="2125"/>
                </a:lnTo>
                <a:lnTo>
                  <a:pt x="16" y="2099"/>
                </a:lnTo>
                <a:lnTo>
                  <a:pt x="5" y="2078"/>
                </a:lnTo>
                <a:lnTo>
                  <a:pt x="0" y="2062"/>
                </a:lnTo>
                <a:lnTo>
                  <a:pt x="0" y="2047"/>
                </a:lnTo>
                <a:lnTo>
                  <a:pt x="0" y="2041"/>
                </a:lnTo>
                <a:lnTo>
                  <a:pt x="5" y="2036"/>
                </a:lnTo>
                <a:lnTo>
                  <a:pt x="16" y="2031"/>
                </a:lnTo>
                <a:lnTo>
                  <a:pt x="21" y="2031"/>
                </a:lnTo>
                <a:lnTo>
                  <a:pt x="36" y="2036"/>
                </a:lnTo>
                <a:lnTo>
                  <a:pt x="47" y="2041"/>
                </a:lnTo>
                <a:lnTo>
                  <a:pt x="62" y="2047"/>
                </a:lnTo>
                <a:lnTo>
                  <a:pt x="78" y="2057"/>
                </a:lnTo>
                <a:lnTo>
                  <a:pt x="94" y="2067"/>
                </a:lnTo>
                <a:lnTo>
                  <a:pt x="115" y="2083"/>
                </a:lnTo>
                <a:lnTo>
                  <a:pt x="130" y="2093"/>
                </a:lnTo>
                <a:lnTo>
                  <a:pt x="151" y="2109"/>
                </a:lnTo>
                <a:lnTo>
                  <a:pt x="172" y="2119"/>
                </a:lnTo>
                <a:lnTo>
                  <a:pt x="187" y="2135"/>
                </a:lnTo>
                <a:lnTo>
                  <a:pt x="208" y="2151"/>
                </a:lnTo>
                <a:lnTo>
                  <a:pt x="229" y="2166"/>
                </a:lnTo>
                <a:lnTo>
                  <a:pt x="245" y="2177"/>
                </a:lnTo>
                <a:lnTo>
                  <a:pt x="260" y="2192"/>
                </a:lnTo>
                <a:lnTo>
                  <a:pt x="276" y="2203"/>
                </a:lnTo>
                <a:lnTo>
                  <a:pt x="292" y="2213"/>
                </a:lnTo>
                <a:lnTo>
                  <a:pt x="307" y="2218"/>
                </a:lnTo>
                <a:lnTo>
                  <a:pt x="318" y="2229"/>
                </a:lnTo>
                <a:lnTo>
                  <a:pt x="323" y="2229"/>
                </a:lnTo>
                <a:lnTo>
                  <a:pt x="333" y="2234"/>
                </a:lnTo>
                <a:lnTo>
                  <a:pt x="338" y="2229"/>
                </a:lnTo>
                <a:lnTo>
                  <a:pt x="338" y="2229"/>
                </a:lnTo>
                <a:lnTo>
                  <a:pt x="338" y="2218"/>
                </a:lnTo>
                <a:lnTo>
                  <a:pt x="328" y="2198"/>
                </a:lnTo>
                <a:lnTo>
                  <a:pt x="318" y="2182"/>
                </a:lnTo>
                <a:lnTo>
                  <a:pt x="302" y="2161"/>
                </a:lnTo>
                <a:lnTo>
                  <a:pt x="286" y="2140"/>
                </a:lnTo>
                <a:lnTo>
                  <a:pt x="266" y="2119"/>
                </a:lnTo>
                <a:lnTo>
                  <a:pt x="245" y="2088"/>
                </a:lnTo>
                <a:lnTo>
                  <a:pt x="224" y="2057"/>
                </a:lnTo>
                <a:lnTo>
                  <a:pt x="198" y="2021"/>
                </a:lnTo>
                <a:lnTo>
                  <a:pt x="177" y="1979"/>
                </a:lnTo>
                <a:lnTo>
                  <a:pt x="151" y="1927"/>
                </a:lnTo>
                <a:lnTo>
                  <a:pt x="130" y="1870"/>
                </a:lnTo>
                <a:lnTo>
                  <a:pt x="109" y="1802"/>
                </a:lnTo>
                <a:lnTo>
                  <a:pt x="89" y="1729"/>
                </a:lnTo>
                <a:lnTo>
                  <a:pt x="68" y="1640"/>
                </a:lnTo>
                <a:lnTo>
                  <a:pt x="52" y="1541"/>
                </a:lnTo>
                <a:lnTo>
                  <a:pt x="36" y="1432"/>
                </a:lnTo>
                <a:lnTo>
                  <a:pt x="36" y="1375"/>
                </a:lnTo>
                <a:lnTo>
                  <a:pt x="36" y="1333"/>
                </a:lnTo>
                <a:lnTo>
                  <a:pt x="47" y="1312"/>
                </a:lnTo>
                <a:lnTo>
                  <a:pt x="57" y="1312"/>
                </a:lnTo>
                <a:lnTo>
                  <a:pt x="78" y="1323"/>
                </a:lnTo>
                <a:lnTo>
                  <a:pt x="99" y="1344"/>
                </a:lnTo>
                <a:lnTo>
                  <a:pt x="120" y="1380"/>
                </a:lnTo>
                <a:lnTo>
                  <a:pt x="146" y="1416"/>
                </a:lnTo>
                <a:lnTo>
                  <a:pt x="167" y="1458"/>
                </a:lnTo>
                <a:lnTo>
                  <a:pt x="193" y="1500"/>
                </a:lnTo>
                <a:lnTo>
                  <a:pt x="219" y="1541"/>
                </a:lnTo>
                <a:lnTo>
                  <a:pt x="240" y="1578"/>
                </a:lnTo>
                <a:lnTo>
                  <a:pt x="255" y="1604"/>
                </a:lnTo>
                <a:lnTo>
                  <a:pt x="271" y="1625"/>
                </a:lnTo>
                <a:lnTo>
                  <a:pt x="281" y="1630"/>
                </a:lnTo>
                <a:lnTo>
                  <a:pt x="286" y="1620"/>
                </a:lnTo>
                <a:lnTo>
                  <a:pt x="286" y="1604"/>
                </a:lnTo>
                <a:lnTo>
                  <a:pt x="281" y="1583"/>
                </a:lnTo>
                <a:lnTo>
                  <a:pt x="276" y="1557"/>
                </a:lnTo>
                <a:lnTo>
                  <a:pt x="271" y="1531"/>
                </a:lnTo>
                <a:lnTo>
                  <a:pt x="260" y="1505"/>
                </a:lnTo>
                <a:lnTo>
                  <a:pt x="250" y="1474"/>
                </a:lnTo>
                <a:lnTo>
                  <a:pt x="240" y="1432"/>
                </a:lnTo>
                <a:lnTo>
                  <a:pt x="234" y="1390"/>
                </a:lnTo>
                <a:lnTo>
                  <a:pt x="224" y="1344"/>
                </a:lnTo>
                <a:lnTo>
                  <a:pt x="224" y="1286"/>
                </a:lnTo>
                <a:lnTo>
                  <a:pt x="224" y="1229"/>
                </a:lnTo>
                <a:lnTo>
                  <a:pt x="229" y="1156"/>
                </a:lnTo>
                <a:lnTo>
                  <a:pt x="240" y="1078"/>
                </a:lnTo>
                <a:lnTo>
                  <a:pt x="255" y="995"/>
                </a:lnTo>
                <a:lnTo>
                  <a:pt x="276" y="901"/>
                </a:lnTo>
                <a:lnTo>
                  <a:pt x="307" y="792"/>
                </a:lnTo>
                <a:lnTo>
                  <a:pt x="328" y="734"/>
                </a:lnTo>
                <a:lnTo>
                  <a:pt x="349" y="698"/>
                </a:lnTo>
                <a:lnTo>
                  <a:pt x="365" y="682"/>
                </a:lnTo>
                <a:lnTo>
                  <a:pt x="375" y="687"/>
                </a:lnTo>
                <a:lnTo>
                  <a:pt x="391" y="703"/>
                </a:lnTo>
                <a:lnTo>
                  <a:pt x="396" y="734"/>
                </a:lnTo>
                <a:lnTo>
                  <a:pt x="406" y="771"/>
                </a:lnTo>
                <a:lnTo>
                  <a:pt x="411" y="818"/>
                </a:lnTo>
                <a:lnTo>
                  <a:pt x="422" y="864"/>
                </a:lnTo>
                <a:lnTo>
                  <a:pt x="427" y="917"/>
                </a:lnTo>
                <a:lnTo>
                  <a:pt x="432" y="963"/>
                </a:lnTo>
                <a:lnTo>
                  <a:pt x="437" y="1005"/>
                </a:lnTo>
                <a:lnTo>
                  <a:pt x="443" y="1042"/>
                </a:lnTo>
                <a:lnTo>
                  <a:pt x="448" y="1062"/>
                </a:lnTo>
                <a:lnTo>
                  <a:pt x="458" y="1073"/>
                </a:lnTo>
                <a:lnTo>
                  <a:pt x="463" y="1068"/>
                </a:lnTo>
                <a:lnTo>
                  <a:pt x="469" y="1047"/>
                </a:lnTo>
                <a:lnTo>
                  <a:pt x="474" y="1026"/>
                </a:lnTo>
                <a:lnTo>
                  <a:pt x="479" y="1005"/>
                </a:lnTo>
                <a:lnTo>
                  <a:pt x="479" y="979"/>
                </a:lnTo>
                <a:lnTo>
                  <a:pt x="479" y="948"/>
                </a:lnTo>
                <a:lnTo>
                  <a:pt x="484" y="917"/>
                </a:lnTo>
                <a:lnTo>
                  <a:pt x="490" y="875"/>
                </a:lnTo>
                <a:lnTo>
                  <a:pt x="495" y="833"/>
                </a:lnTo>
                <a:lnTo>
                  <a:pt x="510" y="786"/>
                </a:lnTo>
                <a:lnTo>
                  <a:pt x="526" y="734"/>
                </a:lnTo>
                <a:lnTo>
                  <a:pt x="552" y="677"/>
                </a:lnTo>
                <a:lnTo>
                  <a:pt x="583" y="614"/>
                </a:lnTo>
                <a:lnTo>
                  <a:pt x="620" y="547"/>
                </a:lnTo>
                <a:lnTo>
                  <a:pt x="667" y="474"/>
                </a:lnTo>
                <a:lnTo>
                  <a:pt x="724" y="396"/>
                </a:lnTo>
                <a:lnTo>
                  <a:pt x="792" y="307"/>
                </a:lnTo>
                <a:lnTo>
                  <a:pt x="833" y="260"/>
                </a:lnTo>
                <a:lnTo>
                  <a:pt x="864" y="234"/>
                </a:lnTo>
                <a:lnTo>
                  <a:pt x="885" y="229"/>
                </a:lnTo>
                <a:lnTo>
                  <a:pt x="896" y="234"/>
                </a:lnTo>
                <a:lnTo>
                  <a:pt x="901" y="255"/>
                </a:lnTo>
                <a:lnTo>
                  <a:pt x="901" y="286"/>
                </a:lnTo>
                <a:lnTo>
                  <a:pt x="890" y="328"/>
                </a:lnTo>
                <a:lnTo>
                  <a:pt x="880" y="370"/>
                </a:lnTo>
                <a:lnTo>
                  <a:pt x="870" y="417"/>
                </a:lnTo>
                <a:lnTo>
                  <a:pt x="859" y="469"/>
                </a:lnTo>
                <a:lnTo>
                  <a:pt x="844" y="510"/>
                </a:lnTo>
                <a:lnTo>
                  <a:pt x="833" y="552"/>
                </a:lnTo>
                <a:lnTo>
                  <a:pt x="828" y="583"/>
                </a:lnTo>
                <a:lnTo>
                  <a:pt x="823" y="609"/>
                </a:lnTo>
                <a:lnTo>
                  <a:pt x="828" y="620"/>
                </a:lnTo>
                <a:lnTo>
                  <a:pt x="838" y="620"/>
                </a:lnTo>
                <a:lnTo>
                  <a:pt x="844" y="609"/>
                </a:lnTo>
                <a:lnTo>
                  <a:pt x="849" y="604"/>
                </a:lnTo>
                <a:lnTo>
                  <a:pt x="854" y="594"/>
                </a:lnTo>
                <a:lnTo>
                  <a:pt x="859" y="588"/>
                </a:lnTo>
                <a:lnTo>
                  <a:pt x="864" y="578"/>
                </a:lnTo>
                <a:lnTo>
                  <a:pt x="870" y="568"/>
                </a:lnTo>
                <a:lnTo>
                  <a:pt x="875" y="552"/>
                </a:lnTo>
                <a:lnTo>
                  <a:pt x="885" y="542"/>
                </a:lnTo>
                <a:lnTo>
                  <a:pt x="890" y="526"/>
                </a:lnTo>
                <a:lnTo>
                  <a:pt x="896" y="516"/>
                </a:lnTo>
                <a:lnTo>
                  <a:pt x="906" y="500"/>
                </a:lnTo>
                <a:lnTo>
                  <a:pt x="911" y="484"/>
                </a:lnTo>
                <a:lnTo>
                  <a:pt x="922" y="463"/>
                </a:lnTo>
                <a:lnTo>
                  <a:pt x="932" y="448"/>
                </a:lnTo>
                <a:lnTo>
                  <a:pt x="943" y="432"/>
                </a:lnTo>
                <a:lnTo>
                  <a:pt x="953" y="411"/>
                </a:lnTo>
                <a:lnTo>
                  <a:pt x="969" y="391"/>
                </a:lnTo>
                <a:lnTo>
                  <a:pt x="984" y="370"/>
                </a:lnTo>
                <a:lnTo>
                  <a:pt x="1000" y="349"/>
                </a:lnTo>
                <a:lnTo>
                  <a:pt x="1021" y="328"/>
                </a:lnTo>
                <a:lnTo>
                  <a:pt x="1042" y="307"/>
                </a:lnTo>
                <a:lnTo>
                  <a:pt x="1062" y="286"/>
                </a:lnTo>
                <a:lnTo>
                  <a:pt x="1088" y="266"/>
                </a:lnTo>
                <a:lnTo>
                  <a:pt x="1120" y="240"/>
                </a:lnTo>
                <a:lnTo>
                  <a:pt x="1146" y="219"/>
                </a:lnTo>
                <a:lnTo>
                  <a:pt x="1177" y="193"/>
                </a:lnTo>
                <a:lnTo>
                  <a:pt x="1213" y="167"/>
                </a:lnTo>
                <a:lnTo>
                  <a:pt x="1255" y="141"/>
                </a:lnTo>
                <a:lnTo>
                  <a:pt x="1291" y="115"/>
                </a:lnTo>
                <a:lnTo>
                  <a:pt x="1338" y="89"/>
                </a:lnTo>
                <a:lnTo>
                  <a:pt x="1385" y="62"/>
                </a:lnTo>
                <a:lnTo>
                  <a:pt x="1432" y="36"/>
                </a:lnTo>
                <a:lnTo>
                  <a:pt x="1463" y="21"/>
                </a:lnTo>
                <a:lnTo>
                  <a:pt x="1489" y="10"/>
                </a:lnTo>
                <a:lnTo>
                  <a:pt x="1510" y="5"/>
                </a:lnTo>
                <a:lnTo>
                  <a:pt x="1526" y="0"/>
                </a:lnTo>
                <a:lnTo>
                  <a:pt x="1541" y="0"/>
                </a:lnTo>
                <a:lnTo>
                  <a:pt x="1552" y="0"/>
                </a:lnTo>
                <a:lnTo>
                  <a:pt x="1557" y="5"/>
                </a:lnTo>
                <a:lnTo>
                  <a:pt x="1557" y="16"/>
                </a:lnTo>
                <a:lnTo>
                  <a:pt x="1557" y="21"/>
                </a:lnTo>
                <a:lnTo>
                  <a:pt x="1552" y="31"/>
                </a:lnTo>
                <a:lnTo>
                  <a:pt x="1547" y="47"/>
                </a:lnTo>
                <a:lnTo>
                  <a:pt x="1541" y="62"/>
                </a:lnTo>
                <a:lnTo>
                  <a:pt x="1531" y="78"/>
                </a:lnTo>
                <a:lnTo>
                  <a:pt x="1521" y="94"/>
                </a:lnTo>
                <a:lnTo>
                  <a:pt x="1510" y="115"/>
                </a:lnTo>
                <a:lnTo>
                  <a:pt x="1495" y="130"/>
                </a:lnTo>
                <a:lnTo>
                  <a:pt x="1479" y="151"/>
                </a:lnTo>
                <a:lnTo>
                  <a:pt x="1469" y="172"/>
                </a:lnTo>
                <a:lnTo>
                  <a:pt x="1453" y="187"/>
                </a:lnTo>
                <a:lnTo>
                  <a:pt x="1437" y="208"/>
                </a:lnTo>
                <a:lnTo>
                  <a:pt x="1422" y="224"/>
                </a:lnTo>
                <a:lnTo>
                  <a:pt x="1411" y="245"/>
                </a:lnTo>
                <a:lnTo>
                  <a:pt x="1396" y="260"/>
                </a:lnTo>
                <a:lnTo>
                  <a:pt x="1385" y="276"/>
                </a:lnTo>
                <a:lnTo>
                  <a:pt x="1375" y="292"/>
                </a:lnTo>
                <a:lnTo>
                  <a:pt x="1370" y="302"/>
                </a:lnTo>
                <a:lnTo>
                  <a:pt x="1359" y="318"/>
                </a:lnTo>
                <a:lnTo>
                  <a:pt x="1359" y="323"/>
                </a:lnTo>
                <a:lnTo>
                  <a:pt x="1354" y="333"/>
                </a:lnTo>
                <a:lnTo>
                  <a:pt x="1359" y="333"/>
                </a:lnTo>
                <a:lnTo>
                  <a:pt x="1359" y="338"/>
                </a:lnTo>
                <a:lnTo>
                  <a:pt x="1370" y="338"/>
                </a:lnTo>
                <a:lnTo>
                  <a:pt x="1380" y="333"/>
                </a:lnTo>
                <a:lnTo>
                  <a:pt x="1385" y="328"/>
                </a:lnTo>
                <a:lnTo>
                  <a:pt x="1396" y="323"/>
                </a:lnTo>
                <a:lnTo>
                  <a:pt x="1406" y="318"/>
                </a:lnTo>
                <a:lnTo>
                  <a:pt x="1416" y="312"/>
                </a:lnTo>
                <a:lnTo>
                  <a:pt x="1427" y="302"/>
                </a:lnTo>
                <a:lnTo>
                  <a:pt x="1437" y="297"/>
                </a:lnTo>
                <a:lnTo>
                  <a:pt x="1448" y="286"/>
                </a:lnTo>
                <a:lnTo>
                  <a:pt x="1458" y="276"/>
                </a:lnTo>
                <a:lnTo>
                  <a:pt x="1469" y="266"/>
                </a:lnTo>
                <a:lnTo>
                  <a:pt x="1484" y="255"/>
                </a:lnTo>
                <a:lnTo>
                  <a:pt x="1500" y="245"/>
                </a:lnTo>
                <a:lnTo>
                  <a:pt x="1510" y="234"/>
                </a:lnTo>
                <a:lnTo>
                  <a:pt x="1531" y="224"/>
                </a:lnTo>
                <a:lnTo>
                  <a:pt x="1547" y="208"/>
                </a:lnTo>
                <a:lnTo>
                  <a:pt x="1567" y="198"/>
                </a:lnTo>
                <a:lnTo>
                  <a:pt x="1588" y="187"/>
                </a:lnTo>
                <a:lnTo>
                  <a:pt x="1609" y="172"/>
                </a:lnTo>
                <a:lnTo>
                  <a:pt x="1635" y="161"/>
                </a:lnTo>
                <a:lnTo>
                  <a:pt x="1661" y="151"/>
                </a:lnTo>
                <a:lnTo>
                  <a:pt x="1687" y="141"/>
                </a:lnTo>
                <a:lnTo>
                  <a:pt x="1718" y="125"/>
                </a:lnTo>
                <a:lnTo>
                  <a:pt x="1750" y="115"/>
                </a:lnTo>
                <a:lnTo>
                  <a:pt x="1786" y="104"/>
                </a:lnTo>
                <a:lnTo>
                  <a:pt x="1823" y="94"/>
                </a:lnTo>
                <a:lnTo>
                  <a:pt x="1859" y="83"/>
                </a:lnTo>
                <a:lnTo>
                  <a:pt x="1901" y="73"/>
                </a:lnTo>
                <a:lnTo>
                  <a:pt x="1948" y="68"/>
                </a:lnTo>
                <a:lnTo>
                  <a:pt x="1994" y="57"/>
                </a:lnTo>
                <a:lnTo>
                  <a:pt x="2047" y="52"/>
                </a:lnTo>
                <a:lnTo>
                  <a:pt x="2099" y="42"/>
                </a:lnTo>
                <a:lnTo>
                  <a:pt x="2156" y="36"/>
                </a:lnTo>
                <a:lnTo>
                  <a:pt x="2187" y="36"/>
                </a:lnTo>
                <a:lnTo>
                  <a:pt x="2213" y="36"/>
                </a:lnTo>
                <a:lnTo>
                  <a:pt x="2239" y="36"/>
                </a:lnTo>
                <a:lnTo>
                  <a:pt x="2255" y="36"/>
                </a:lnTo>
                <a:lnTo>
                  <a:pt x="2265" y="42"/>
                </a:lnTo>
                <a:lnTo>
                  <a:pt x="2276" y="47"/>
                </a:lnTo>
                <a:lnTo>
                  <a:pt x="2276" y="52"/>
                </a:lnTo>
                <a:lnTo>
                  <a:pt x="2276" y="62"/>
                </a:lnTo>
                <a:lnTo>
                  <a:pt x="2270" y="68"/>
                </a:lnTo>
                <a:lnTo>
                  <a:pt x="2265" y="78"/>
                </a:lnTo>
                <a:lnTo>
                  <a:pt x="2255" y="89"/>
                </a:lnTo>
                <a:lnTo>
                  <a:pt x="2239" y="99"/>
                </a:lnTo>
                <a:lnTo>
                  <a:pt x="2224" y="109"/>
                </a:lnTo>
                <a:lnTo>
                  <a:pt x="2208" y="120"/>
                </a:lnTo>
                <a:lnTo>
                  <a:pt x="2192" y="130"/>
                </a:lnTo>
                <a:lnTo>
                  <a:pt x="2172" y="146"/>
                </a:lnTo>
                <a:lnTo>
                  <a:pt x="2151" y="156"/>
                </a:lnTo>
                <a:lnTo>
                  <a:pt x="2130" y="172"/>
                </a:lnTo>
                <a:lnTo>
                  <a:pt x="2109" y="182"/>
                </a:lnTo>
                <a:lnTo>
                  <a:pt x="2088" y="193"/>
                </a:lnTo>
                <a:lnTo>
                  <a:pt x="2067" y="203"/>
                </a:lnTo>
                <a:lnTo>
                  <a:pt x="2047" y="219"/>
                </a:lnTo>
                <a:lnTo>
                  <a:pt x="2026" y="229"/>
                </a:lnTo>
                <a:lnTo>
                  <a:pt x="2010" y="240"/>
                </a:lnTo>
                <a:lnTo>
                  <a:pt x="1994" y="250"/>
                </a:lnTo>
                <a:lnTo>
                  <a:pt x="1984" y="255"/>
                </a:lnTo>
                <a:lnTo>
                  <a:pt x="1974" y="266"/>
                </a:lnTo>
                <a:lnTo>
                  <a:pt x="1963" y="271"/>
                </a:lnTo>
                <a:lnTo>
                  <a:pt x="1958" y="276"/>
                </a:lnTo>
                <a:lnTo>
                  <a:pt x="1958" y="281"/>
                </a:lnTo>
                <a:lnTo>
                  <a:pt x="1958" y="286"/>
                </a:lnTo>
                <a:lnTo>
                  <a:pt x="1968" y="286"/>
                </a:lnTo>
                <a:lnTo>
                  <a:pt x="1979" y="286"/>
                </a:lnTo>
                <a:lnTo>
                  <a:pt x="1984" y="286"/>
                </a:lnTo>
                <a:lnTo>
                  <a:pt x="1994" y="286"/>
                </a:lnTo>
                <a:lnTo>
                  <a:pt x="2005" y="281"/>
                </a:lnTo>
                <a:lnTo>
                  <a:pt x="2015" y="281"/>
                </a:lnTo>
                <a:lnTo>
                  <a:pt x="2031" y="276"/>
                </a:lnTo>
                <a:lnTo>
                  <a:pt x="2041" y="271"/>
                </a:lnTo>
                <a:lnTo>
                  <a:pt x="2052" y="266"/>
                </a:lnTo>
                <a:lnTo>
                  <a:pt x="2067" y="266"/>
                </a:lnTo>
                <a:lnTo>
                  <a:pt x="2083" y="260"/>
                </a:lnTo>
                <a:lnTo>
                  <a:pt x="2099" y="255"/>
                </a:lnTo>
                <a:lnTo>
                  <a:pt x="2114" y="250"/>
                </a:lnTo>
                <a:lnTo>
                  <a:pt x="2135" y="245"/>
                </a:lnTo>
                <a:lnTo>
                  <a:pt x="2151" y="240"/>
                </a:lnTo>
                <a:lnTo>
                  <a:pt x="2172" y="234"/>
                </a:lnTo>
                <a:lnTo>
                  <a:pt x="2198" y="229"/>
                </a:lnTo>
                <a:lnTo>
                  <a:pt x="2218" y="229"/>
                </a:lnTo>
                <a:lnTo>
                  <a:pt x="2244" y="224"/>
                </a:lnTo>
                <a:lnTo>
                  <a:pt x="2270" y="224"/>
                </a:lnTo>
                <a:lnTo>
                  <a:pt x="2297" y="224"/>
                </a:lnTo>
                <a:lnTo>
                  <a:pt x="2328" y="219"/>
                </a:lnTo>
                <a:lnTo>
                  <a:pt x="2359" y="224"/>
                </a:lnTo>
                <a:lnTo>
                  <a:pt x="2395" y="224"/>
                </a:lnTo>
                <a:lnTo>
                  <a:pt x="2432" y="229"/>
                </a:lnTo>
                <a:lnTo>
                  <a:pt x="2468" y="229"/>
                </a:lnTo>
                <a:lnTo>
                  <a:pt x="2510" y="240"/>
                </a:lnTo>
                <a:lnTo>
                  <a:pt x="2552" y="245"/>
                </a:lnTo>
                <a:lnTo>
                  <a:pt x="2593" y="255"/>
                </a:lnTo>
                <a:lnTo>
                  <a:pt x="2640" y="266"/>
                </a:lnTo>
                <a:lnTo>
                  <a:pt x="2687" y="276"/>
                </a:lnTo>
                <a:lnTo>
                  <a:pt x="2739" y="292"/>
                </a:lnTo>
                <a:lnTo>
                  <a:pt x="2796" y="307"/>
                </a:lnTo>
                <a:lnTo>
                  <a:pt x="2828" y="318"/>
                </a:lnTo>
                <a:lnTo>
                  <a:pt x="2854" y="328"/>
                </a:lnTo>
                <a:lnTo>
                  <a:pt x="2875" y="338"/>
                </a:lnTo>
                <a:lnTo>
                  <a:pt x="2890" y="349"/>
                </a:lnTo>
                <a:lnTo>
                  <a:pt x="2901" y="354"/>
                </a:lnTo>
                <a:lnTo>
                  <a:pt x="2906" y="365"/>
                </a:lnTo>
                <a:lnTo>
                  <a:pt x="2906" y="370"/>
                </a:lnTo>
                <a:lnTo>
                  <a:pt x="2901" y="375"/>
                </a:lnTo>
                <a:lnTo>
                  <a:pt x="2895" y="380"/>
                </a:lnTo>
                <a:lnTo>
                  <a:pt x="2885" y="391"/>
                </a:lnTo>
                <a:lnTo>
                  <a:pt x="2869" y="396"/>
                </a:lnTo>
                <a:lnTo>
                  <a:pt x="2854" y="396"/>
                </a:lnTo>
                <a:lnTo>
                  <a:pt x="2833" y="401"/>
                </a:lnTo>
                <a:lnTo>
                  <a:pt x="2812" y="406"/>
                </a:lnTo>
                <a:lnTo>
                  <a:pt x="2791" y="411"/>
                </a:lnTo>
                <a:lnTo>
                  <a:pt x="2770" y="411"/>
                </a:lnTo>
                <a:lnTo>
                  <a:pt x="2744" y="417"/>
                </a:lnTo>
                <a:lnTo>
                  <a:pt x="2718" y="422"/>
                </a:lnTo>
                <a:lnTo>
                  <a:pt x="2698" y="422"/>
                </a:lnTo>
                <a:lnTo>
                  <a:pt x="2671" y="427"/>
                </a:lnTo>
                <a:lnTo>
                  <a:pt x="2645" y="427"/>
                </a:lnTo>
                <a:lnTo>
                  <a:pt x="2625" y="432"/>
                </a:lnTo>
                <a:lnTo>
                  <a:pt x="2604" y="432"/>
                </a:lnTo>
                <a:lnTo>
                  <a:pt x="2583" y="437"/>
                </a:lnTo>
                <a:lnTo>
                  <a:pt x="2562" y="437"/>
                </a:lnTo>
                <a:lnTo>
                  <a:pt x="2546" y="443"/>
                </a:lnTo>
                <a:lnTo>
                  <a:pt x="2536" y="443"/>
                </a:lnTo>
                <a:lnTo>
                  <a:pt x="2526" y="448"/>
                </a:lnTo>
                <a:lnTo>
                  <a:pt x="2520" y="453"/>
                </a:lnTo>
                <a:lnTo>
                  <a:pt x="2515" y="453"/>
                </a:lnTo>
                <a:lnTo>
                  <a:pt x="2515" y="458"/>
                </a:lnTo>
                <a:lnTo>
                  <a:pt x="2520" y="463"/>
                </a:lnTo>
                <a:lnTo>
                  <a:pt x="2531" y="469"/>
                </a:lnTo>
                <a:lnTo>
                  <a:pt x="2541" y="469"/>
                </a:lnTo>
                <a:lnTo>
                  <a:pt x="2552" y="474"/>
                </a:lnTo>
                <a:lnTo>
                  <a:pt x="2557" y="474"/>
                </a:lnTo>
                <a:lnTo>
                  <a:pt x="2573" y="474"/>
                </a:lnTo>
                <a:lnTo>
                  <a:pt x="2583" y="474"/>
                </a:lnTo>
                <a:lnTo>
                  <a:pt x="2593" y="479"/>
                </a:lnTo>
                <a:lnTo>
                  <a:pt x="2609" y="479"/>
                </a:lnTo>
                <a:lnTo>
                  <a:pt x="2625" y="479"/>
                </a:lnTo>
                <a:lnTo>
                  <a:pt x="2640" y="479"/>
                </a:lnTo>
                <a:lnTo>
                  <a:pt x="2656" y="479"/>
                </a:lnTo>
                <a:lnTo>
                  <a:pt x="2671" y="484"/>
                </a:lnTo>
                <a:lnTo>
                  <a:pt x="2692" y="484"/>
                </a:lnTo>
                <a:lnTo>
                  <a:pt x="2713" y="490"/>
                </a:lnTo>
                <a:lnTo>
                  <a:pt x="2734" y="490"/>
                </a:lnTo>
                <a:lnTo>
                  <a:pt x="2755" y="495"/>
                </a:lnTo>
                <a:lnTo>
                  <a:pt x="2776" y="505"/>
                </a:lnTo>
                <a:lnTo>
                  <a:pt x="2802" y="510"/>
                </a:lnTo>
                <a:lnTo>
                  <a:pt x="2828" y="516"/>
                </a:lnTo>
                <a:lnTo>
                  <a:pt x="2854" y="526"/>
                </a:lnTo>
                <a:lnTo>
                  <a:pt x="2880" y="536"/>
                </a:lnTo>
                <a:lnTo>
                  <a:pt x="2911" y="552"/>
                </a:lnTo>
                <a:lnTo>
                  <a:pt x="2942" y="562"/>
                </a:lnTo>
                <a:lnTo>
                  <a:pt x="2974" y="583"/>
                </a:lnTo>
                <a:lnTo>
                  <a:pt x="3005" y="599"/>
                </a:lnTo>
                <a:lnTo>
                  <a:pt x="3041" y="620"/>
                </a:lnTo>
                <a:lnTo>
                  <a:pt x="3078" y="641"/>
                </a:lnTo>
                <a:lnTo>
                  <a:pt x="3114" y="667"/>
                </a:lnTo>
                <a:lnTo>
                  <a:pt x="3151" y="693"/>
                </a:lnTo>
                <a:lnTo>
                  <a:pt x="3192" y="724"/>
                </a:lnTo>
                <a:lnTo>
                  <a:pt x="3234" y="755"/>
                </a:lnTo>
                <a:lnTo>
                  <a:pt x="3281" y="792"/>
                </a:lnTo>
                <a:lnTo>
                  <a:pt x="3307" y="812"/>
                </a:lnTo>
                <a:lnTo>
                  <a:pt x="3328" y="833"/>
                </a:lnTo>
                <a:lnTo>
                  <a:pt x="3343" y="849"/>
                </a:lnTo>
                <a:lnTo>
                  <a:pt x="3354" y="864"/>
                </a:lnTo>
                <a:lnTo>
                  <a:pt x="3359" y="875"/>
                </a:lnTo>
                <a:lnTo>
                  <a:pt x="3359" y="885"/>
                </a:lnTo>
                <a:lnTo>
                  <a:pt x="3359" y="890"/>
                </a:lnTo>
                <a:lnTo>
                  <a:pt x="3354" y="896"/>
                </a:lnTo>
                <a:lnTo>
                  <a:pt x="3343" y="901"/>
                </a:lnTo>
                <a:lnTo>
                  <a:pt x="3333" y="901"/>
                </a:lnTo>
                <a:lnTo>
                  <a:pt x="3317" y="901"/>
                </a:lnTo>
                <a:lnTo>
                  <a:pt x="3302" y="896"/>
                </a:lnTo>
                <a:lnTo>
                  <a:pt x="3281" y="896"/>
                </a:lnTo>
                <a:lnTo>
                  <a:pt x="3260" y="890"/>
                </a:lnTo>
                <a:lnTo>
                  <a:pt x="3239" y="885"/>
                </a:lnTo>
                <a:lnTo>
                  <a:pt x="3218" y="880"/>
                </a:lnTo>
                <a:lnTo>
                  <a:pt x="3192" y="875"/>
                </a:lnTo>
                <a:lnTo>
                  <a:pt x="3171" y="870"/>
                </a:lnTo>
                <a:lnTo>
                  <a:pt x="3145" y="864"/>
                </a:lnTo>
                <a:lnTo>
                  <a:pt x="3125" y="854"/>
                </a:lnTo>
                <a:lnTo>
                  <a:pt x="3098" y="849"/>
                </a:lnTo>
                <a:lnTo>
                  <a:pt x="3078" y="844"/>
                </a:lnTo>
                <a:lnTo>
                  <a:pt x="3057" y="838"/>
                </a:lnTo>
                <a:lnTo>
                  <a:pt x="3036" y="833"/>
                </a:lnTo>
                <a:lnTo>
                  <a:pt x="3020" y="828"/>
                </a:lnTo>
                <a:lnTo>
                  <a:pt x="3005" y="823"/>
                </a:lnTo>
                <a:lnTo>
                  <a:pt x="2989" y="823"/>
                </a:lnTo>
                <a:lnTo>
                  <a:pt x="2979" y="823"/>
                </a:lnTo>
                <a:lnTo>
                  <a:pt x="2974" y="823"/>
                </a:lnTo>
                <a:lnTo>
                  <a:pt x="2968" y="823"/>
                </a:lnTo>
                <a:lnTo>
                  <a:pt x="2968" y="828"/>
                </a:lnTo>
                <a:lnTo>
                  <a:pt x="2968" y="833"/>
                </a:lnTo>
                <a:lnTo>
                  <a:pt x="2979" y="844"/>
                </a:lnTo>
                <a:lnTo>
                  <a:pt x="2984" y="849"/>
                </a:lnTo>
                <a:lnTo>
                  <a:pt x="2994" y="854"/>
                </a:lnTo>
                <a:lnTo>
                  <a:pt x="3000" y="859"/>
                </a:lnTo>
                <a:lnTo>
                  <a:pt x="3010" y="864"/>
                </a:lnTo>
                <a:lnTo>
                  <a:pt x="3020" y="870"/>
                </a:lnTo>
                <a:lnTo>
                  <a:pt x="3036" y="875"/>
                </a:lnTo>
                <a:lnTo>
                  <a:pt x="3046" y="880"/>
                </a:lnTo>
                <a:lnTo>
                  <a:pt x="3062" y="890"/>
                </a:lnTo>
                <a:lnTo>
                  <a:pt x="3072" y="896"/>
                </a:lnTo>
                <a:lnTo>
                  <a:pt x="3088" y="901"/>
                </a:lnTo>
                <a:lnTo>
                  <a:pt x="3104" y="911"/>
                </a:lnTo>
                <a:lnTo>
                  <a:pt x="3125" y="922"/>
                </a:lnTo>
                <a:lnTo>
                  <a:pt x="3140" y="932"/>
                </a:lnTo>
                <a:lnTo>
                  <a:pt x="3156" y="943"/>
                </a:lnTo>
                <a:lnTo>
                  <a:pt x="3177" y="953"/>
                </a:lnTo>
                <a:lnTo>
                  <a:pt x="3197" y="969"/>
                </a:lnTo>
                <a:lnTo>
                  <a:pt x="3218" y="984"/>
                </a:lnTo>
                <a:lnTo>
                  <a:pt x="3239" y="1000"/>
                </a:lnTo>
                <a:lnTo>
                  <a:pt x="3255" y="1021"/>
                </a:lnTo>
                <a:lnTo>
                  <a:pt x="3281" y="1042"/>
                </a:lnTo>
                <a:lnTo>
                  <a:pt x="3302" y="1062"/>
                </a:lnTo>
                <a:lnTo>
                  <a:pt x="3322" y="1088"/>
                </a:lnTo>
                <a:lnTo>
                  <a:pt x="3348" y="1114"/>
                </a:lnTo>
                <a:lnTo>
                  <a:pt x="3369" y="1146"/>
                </a:lnTo>
                <a:lnTo>
                  <a:pt x="3395" y="1177"/>
                </a:lnTo>
                <a:lnTo>
                  <a:pt x="3421" y="1213"/>
                </a:lnTo>
                <a:lnTo>
                  <a:pt x="3447" y="1250"/>
                </a:lnTo>
                <a:lnTo>
                  <a:pt x="3473" y="1291"/>
                </a:lnTo>
                <a:lnTo>
                  <a:pt x="3499" y="1338"/>
                </a:lnTo>
                <a:lnTo>
                  <a:pt x="3526" y="1385"/>
                </a:lnTo>
                <a:lnTo>
                  <a:pt x="3552" y="1432"/>
                </a:lnTo>
                <a:lnTo>
                  <a:pt x="3567" y="1463"/>
                </a:lnTo>
                <a:lnTo>
                  <a:pt x="3578" y="1489"/>
                </a:lnTo>
                <a:lnTo>
                  <a:pt x="3583" y="1510"/>
                </a:lnTo>
                <a:lnTo>
                  <a:pt x="3588" y="1526"/>
                </a:lnTo>
                <a:lnTo>
                  <a:pt x="3588" y="1541"/>
                </a:lnTo>
                <a:lnTo>
                  <a:pt x="3588" y="1547"/>
                </a:lnTo>
                <a:lnTo>
                  <a:pt x="3583" y="1552"/>
                </a:lnTo>
                <a:lnTo>
                  <a:pt x="3572" y="1557"/>
                </a:lnTo>
                <a:lnTo>
                  <a:pt x="3567" y="1557"/>
                </a:lnTo>
                <a:lnTo>
                  <a:pt x="3557" y="1552"/>
                </a:lnTo>
                <a:lnTo>
                  <a:pt x="3541" y="1547"/>
                </a:lnTo>
                <a:lnTo>
                  <a:pt x="3526" y="1541"/>
                </a:lnTo>
                <a:lnTo>
                  <a:pt x="3510" y="1531"/>
                </a:lnTo>
                <a:lnTo>
                  <a:pt x="3494" y="1521"/>
                </a:lnTo>
                <a:lnTo>
                  <a:pt x="3473" y="1505"/>
                </a:lnTo>
                <a:lnTo>
                  <a:pt x="3458" y="1495"/>
                </a:lnTo>
                <a:lnTo>
                  <a:pt x="3437" y="1479"/>
                </a:lnTo>
                <a:lnTo>
                  <a:pt x="3416" y="1463"/>
                </a:lnTo>
                <a:lnTo>
                  <a:pt x="3401" y="1453"/>
                </a:lnTo>
                <a:lnTo>
                  <a:pt x="3380" y="1437"/>
                </a:lnTo>
                <a:lnTo>
                  <a:pt x="3364" y="1422"/>
                </a:lnTo>
                <a:lnTo>
                  <a:pt x="3343" y="1411"/>
                </a:lnTo>
                <a:lnTo>
                  <a:pt x="3328" y="1396"/>
                </a:lnTo>
                <a:lnTo>
                  <a:pt x="3312" y="1385"/>
                </a:lnTo>
                <a:lnTo>
                  <a:pt x="3296" y="1375"/>
                </a:lnTo>
                <a:lnTo>
                  <a:pt x="3286" y="1364"/>
                </a:lnTo>
                <a:lnTo>
                  <a:pt x="3270" y="1359"/>
                </a:lnTo>
                <a:lnTo>
                  <a:pt x="3265" y="1354"/>
                </a:lnTo>
                <a:lnTo>
                  <a:pt x="3255" y="1354"/>
                </a:lnTo>
                <a:lnTo>
                  <a:pt x="3255" y="1354"/>
                </a:lnTo>
                <a:lnTo>
                  <a:pt x="3250" y="1359"/>
                </a:lnTo>
                <a:lnTo>
                  <a:pt x="3250" y="1370"/>
                </a:lnTo>
                <a:lnTo>
                  <a:pt x="3260" y="1385"/>
                </a:lnTo>
                <a:lnTo>
                  <a:pt x="3270" y="1406"/>
                </a:lnTo>
                <a:lnTo>
                  <a:pt x="3286" y="1427"/>
                </a:lnTo>
                <a:lnTo>
                  <a:pt x="3302" y="1448"/>
                </a:lnTo>
                <a:lnTo>
                  <a:pt x="3322" y="1469"/>
                </a:lnTo>
                <a:lnTo>
                  <a:pt x="3343" y="1500"/>
                </a:lnTo>
                <a:lnTo>
                  <a:pt x="3364" y="1531"/>
                </a:lnTo>
                <a:lnTo>
                  <a:pt x="3390" y="1567"/>
                </a:lnTo>
                <a:lnTo>
                  <a:pt x="3416" y="1609"/>
                </a:lnTo>
                <a:lnTo>
                  <a:pt x="3437" y="1661"/>
                </a:lnTo>
                <a:lnTo>
                  <a:pt x="3463" y="1718"/>
                </a:lnTo>
                <a:lnTo>
                  <a:pt x="3484" y="1786"/>
                </a:lnTo>
                <a:lnTo>
                  <a:pt x="3505" y="1859"/>
                </a:lnTo>
                <a:lnTo>
                  <a:pt x="3520" y="1948"/>
                </a:lnTo>
                <a:lnTo>
                  <a:pt x="3536" y="2047"/>
                </a:lnTo>
                <a:lnTo>
                  <a:pt x="3552" y="2156"/>
                </a:lnTo>
                <a:lnTo>
                  <a:pt x="3552" y="2213"/>
                </a:lnTo>
                <a:lnTo>
                  <a:pt x="3552" y="2255"/>
                </a:lnTo>
                <a:lnTo>
                  <a:pt x="3541" y="2276"/>
                </a:lnTo>
                <a:lnTo>
                  <a:pt x="3526" y="2276"/>
                </a:lnTo>
                <a:lnTo>
                  <a:pt x="3510" y="2265"/>
                </a:lnTo>
                <a:lnTo>
                  <a:pt x="3489" y="2239"/>
                </a:lnTo>
                <a:lnTo>
                  <a:pt x="3468" y="2208"/>
                </a:lnTo>
                <a:lnTo>
                  <a:pt x="3442" y="2172"/>
                </a:lnTo>
                <a:lnTo>
                  <a:pt x="3421" y="2130"/>
                </a:lnTo>
                <a:lnTo>
                  <a:pt x="3395" y="2088"/>
                </a:lnTo>
                <a:lnTo>
                  <a:pt x="3369" y="2047"/>
                </a:lnTo>
                <a:lnTo>
                  <a:pt x="3348" y="2010"/>
                </a:lnTo>
                <a:lnTo>
                  <a:pt x="3333" y="1984"/>
                </a:lnTo>
                <a:lnTo>
                  <a:pt x="3317" y="1963"/>
                </a:lnTo>
                <a:lnTo>
                  <a:pt x="3307" y="1958"/>
                </a:lnTo>
                <a:lnTo>
                  <a:pt x="3302" y="1968"/>
                </a:lnTo>
                <a:lnTo>
                  <a:pt x="3302" y="1984"/>
                </a:lnTo>
                <a:lnTo>
                  <a:pt x="3307" y="2005"/>
                </a:lnTo>
                <a:lnTo>
                  <a:pt x="3312" y="2031"/>
                </a:lnTo>
                <a:lnTo>
                  <a:pt x="3322" y="2057"/>
                </a:lnTo>
                <a:lnTo>
                  <a:pt x="3328" y="2083"/>
                </a:lnTo>
                <a:lnTo>
                  <a:pt x="3338" y="2114"/>
                </a:lnTo>
                <a:lnTo>
                  <a:pt x="3348" y="2151"/>
                </a:lnTo>
                <a:lnTo>
                  <a:pt x="3359" y="2198"/>
                </a:lnTo>
                <a:lnTo>
                  <a:pt x="3364" y="2244"/>
                </a:lnTo>
                <a:lnTo>
                  <a:pt x="3364" y="2297"/>
                </a:lnTo>
                <a:lnTo>
                  <a:pt x="3364" y="2359"/>
                </a:lnTo>
                <a:lnTo>
                  <a:pt x="3359" y="2432"/>
                </a:lnTo>
                <a:lnTo>
                  <a:pt x="3348" y="2510"/>
                </a:lnTo>
                <a:lnTo>
                  <a:pt x="3333" y="2593"/>
                </a:lnTo>
                <a:lnTo>
                  <a:pt x="3312" y="2687"/>
                </a:lnTo>
                <a:lnTo>
                  <a:pt x="3281" y="2796"/>
                </a:lnTo>
                <a:lnTo>
                  <a:pt x="3260" y="2854"/>
                </a:lnTo>
                <a:lnTo>
                  <a:pt x="3239" y="2890"/>
                </a:lnTo>
                <a:lnTo>
                  <a:pt x="3223" y="2906"/>
                </a:lnTo>
                <a:lnTo>
                  <a:pt x="3213" y="2901"/>
                </a:lnTo>
                <a:lnTo>
                  <a:pt x="3203" y="2885"/>
                </a:lnTo>
                <a:lnTo>
                  <a:pt x="3192" y="2854"/>
                </a:lnTo>
                <a:lnTo>
                  <a:pt x="3182" y="2812"/>
                </a:lnTo>
                <a:lnTo>
                  <a:pt x="3177" y="2770"/>
                </a:lnTo>
                <a:lnTo>
                  <a:pt x="3166" y="2718"/>
                </a:lnTo>
                <a:lnTo>
                  <a:pt x="3161" y="2671"/>
                </a:lnTo>
                <a:lnTo>
                  <a:pt x="3156" y="2625"/>
                </a:lnTo>
                <a:lnTo>
                  <a:pt x="3151" y="2583"/>
                </a:lnTo>
                <a:lnTo>
                  <a:pt x="3145" y="2546"/>
                </a:lnTo>
                <a:lnTo>
                  <a:pt x="3140" y="2526"/>
                </a:lnTo>
                <a:lnTo>
                  <a:pt x="3135" y="2515"/>
                </a:lnTo>
                <a:lnTo>
                  <a:pt x="3125" y="2520"/>
                </a:lnTo>
                <a:lnTo>
                  <a:pt x="3119" y="2541"/>
                </a:lnTo>
                <a:lnTo>
                  <a:pt x="3114" y="2557"/>
                </a:lnTo>
                <a:lnTo>
                  <a:pt x="3109" y="2583"/>
                </a:lnTo>
                <a:lnTo>
                  <a:pt x="3109" y="2609"/>
                </a:lnTo>
                <a:lnTo>
                  <a:pt x="3109" y="2640"/>
                </a:lnTo>
                <a:lnTo>
                  <a:pt x="3104" y="2671"/>
                </a:lnTo>
                <a:lnTo>
                  <a:pt x="3098" y="2713"/>
                </a:lnTo>
                <a:lnTo>
                  <a:pt x="3093" y="2755"/>
                </a:lnTo>
                <a:lnTo>
                  <a:pt x="3078" y="2802"/>
                </a:lnTo>
                <a:lnTo>
                  <a:pt x="3062" y="2854"/>
                </a:lnTo>
                <a:lnTo>
                  <a:pt x="3036" y="2911"/>
                </a:lnTo>
                <a:lnTo>
                  <a:pt x="3005" y="2974"/>
                </a:lnTo>
                <a:lnTo>
                  <a:pt x="2968" y="3041"/>
                </a:lnTo>
                <a:lnTo>
                  <a:pt x="2921" y="3114"/>
                </a:lnTo>
                <a:lnTo>
                  <a:pt x="2864" y="3192"/>
                </a:lnTo>
                <a:lnTo>
                  <a:pt x="2796" y="3281"/>
                </a:lnTo>
                <a:lnTo>
                  <a:pt x="2755" y="3328"/>
                </a:lnTo>
                <a:lnTo>
                  <a:pt x="2724" y="3354"/>
                </a:lnTo>
                <a:lnTo>
                  <a:pt x="2703" y="3359"/>
                </a:lnTo>
                <a:lnTo>
                  <a:pt x="2692" y="3354"/>
                </a:lnTo>
                <a:lnTo>
                  <a:pt x="2687" y="3333"/>
                </a:lnTo>
                <a:lnTo>
                  <a:pt x="2692" y="3302"/>
                </a:lnTo>
                <a:lnTo>
                  <a:pt x="2698" y="3260"/>
                </a:lnTo>
                <a:lnTo>
                  <a:pt x="2708" y="3218"/>
                </a:lnTo>
                <a:lnTo>
                  <a:pt x="2718" y="3171"/>
                </a:lnTo>
                <a:lnTo>
                  <a:pt x="2734" y="3125"/>
                </a:lnTo>
                <a:lnTo>
                  <a:pt x="2744" y="3078"/>
                </a:lnTo>
                <a:lnTo>
                  <a:pt x="2755" y="3036"/>
                </a:lnTo>
                <a:lnTo>
                  <a:pt x="2765" y="3005"/>
                </a:lnTo>
                <a:lnTo>
                  <a:pt x="2765" y="2979"/>
                </a:lnTo>
                <a:lnTo>
                  <a:pt x="2760" y="2968"/>
                </a:lnTo>
                <a:lnTo>
                  <a:pt x="2755" y="2974"/>
                </a:lnTo>
                <a:lnTo>
                  <a:pt x="2744" y="2979"/>
                </a:lnTo>
                <a:lnTo>
                  <a:pt x="2739" y="2984"/>
                </a:lnTo>
                <a:lnTo>
                  <a:pt x="2734" y="2994"/>
                </a:lnTo>
                <a:lnTo>
                  <a:pt x="2729" y="3000"/>
                </a:lnTo>
                <a:lnTo>
                  <a:pt x="2724" y="3010"/>
                </a:lnTo>
                <a:lnTo>
                  <a:pt x="2718" y="3020"/>
                </a:lnTo>
                <a:lnTo>
                  <a:pt x="2713" y="3036"/>
                </a:lnTo>
                <a:lnTo>
                  <a:pt x="2708" y="3046"/>
                </a:lnTo>
                <a:lnTo>
                  <a:pt x="2698" y="3062"/>
                </a:lnTo>
                <a:lnTo>
                  <a:pt x="2692" y="3072"/>
                </a:lnTo>
                <a:lnTo>
                  <a:pt x="2687" y="3088"/>
                </a:lnTo>
                <a:lnTo>
                  <a:pt x="2677" y="3104"/>
                </a:lnTo>
                <a:lnTo>
                  <a:pt x="2666" y="3125"/>
                </a:lnTo>
                <a:lnTo>
                  <a:pt x="2656" y="3140"/>
                </a:lnTo>
                <a:lnTo>
                  <a:pt x="2645" y="3156"/>
                </a:lnTo>
                <a:lnTo>
                  <a:pt x="2635" y="3177"/>
                </a:lnTo>
                <a:lnTo>
                  <a:pt x="2619" y="3197"/>
                </a:lnTo>
                <a:lnTo>
                  <a:pt x="2604" y="3218"/>
                </a:lnTo>
                <a:lnTo>
                  <a:pt x="2588" y="3239"/>
                </a:lnTo>
                <a:lnTo>
                  <a:pt x="2567" y="3255"/>
                </a:lnTo>
                <a:lnTo>
                  <a:pt x="2546" y="3281"/>
                </a:lnTo>
                <a:lnTo>
                  <a:pt x="2526" y="3302"/>
                </a:lnTo>
                <a:lnTo>
                  <a:pt x="2500" y="3322"/>
                </a:lnTo>
                <a:lnTo>
                  <a:pt x="2474" y="3348"/>
                </a:lnTo>
                <a:lnTo>
                  <a:pt x="2442" y="3369"/>
                </a:lnTo>
                <a:lnTo>
                  <a:pt x="2411" y="3395"/>
                </a:lnTo>
                <a:lnTo>
                  <a:pt x="2375" y="3421"/>
                </a:lnTo>
                <a:lnTo>
                  <a:pt x="2338" y="3447"/>
                </a:lnTo>
                <a:lnTo>
                  <a:pt x="2297" y="3473"/>
                </a:lnTo>
                <a:lnTo>
                  <a:pt x="2250" y="3499"/>
                </a:lnTo>
                <a:lnTo>
                  <a:pt x="2203" y="3526"/>
                </a:lnTo>
                <a:lnTo>
                  <a:pt x="2156" y="3552"/>
                </a:lnTo>
                <a:lnTo>
                  <a:pt x="2125" y="3567"/>
                </a:lnTo>
                <a:lnTo>
                  <a:pt x="2099" y="3578"/>
                </a:lnTo>
                <a:lnTo>
                  <a:pt x="2078" y="3583"/>
                </a:lnTo>
                <a:lnTo>
                  <a:pt x="2062" y="3588"/>
                </a:lnTo>
                <a:lnTo>
                  <a:pt x="2047" y="3588"/>
                </a:lnTo>
                <a:lnTo>
                  <a:pt x="2041" y="3588"/>
                </a:lnTo>
                <a:lnTo>
                  <a:pt x="2031" y="3583"/>
                </a:lnTo>
                <a:lnTo>
                  <a:pt x="2031" y="3572"/>
                </a:lnTo>
                <a:lnTo>
                  <a:pt x="2031" y="3567"/>
                </a:lnTo>
                <a:lnTo>
                  <a:pt x="2036" y="3557"/>
                </a:lnTo>
                <a:lnTo>
                  <a:pt x="2041" y="3541"/>
                </a:lnTo>
                <a:lnTo>
                  <a:pt x="2047" y="3526"/>
                </a:lnTo>
                <a:lnTo>
                  <a:pt x="2057" y="3510"/>
                </a:lnTo>
                <a:lnTo>
                  <a:pt x="2067" y="3494"/>
                </a:lnTo>
                <a:lnTo>
                  <a:pt x="2078" y="3473"/>
                </a:lnTo>
                <a:lnTo>
                  <a:pt x="2093" y="3458"/>
                </a:lnTo>
                <a:lnTo>
                  <a:pt x="2109" y="3437"/>
                </a:lnTo>
                <a:lnTo>
                  <a:pt x="2119" y="3416"/>
                </a:lnTo>
                <a:lnTo>
                  <a:pt x="2135" y="3401"/>
                </a:lnTo>
                <a:lnTo>
                  <a:pt x="2151" y="3380"/>
                </a:lnTo>
                <a:lnTo>
                  <a:pt x="2166" y="3359"/>
                </a:lnTo>
                <a:lnTo>
                  <a:pt x="2177" y="3343"/>
                </a:lnTo>
                <a:lnTo>
                  <a:pt x="2192" y="3328"/>
                </a:lnTo>
                <a:lnTo>
                  <a:pt x="2203" y="3312"/>
                </a:lnTo>
                <a:lnTo>
                  <a:pt x="2213" y="3296"/>
                </a:lnTo>
                <a:lnTo>
                  <a:pt x="2224" y="3281"/>
                </a:lnTo>
                <a:lnTo>
                  <a:pt x="2229" y="3270"/>
                </a:lnTo>
                <a:lnTo>
                  <a:pt x="2229" y="3260"/>
                </a:lnTo>
                <a:lnTo>
                  <a:pt x="2234" y="3255"/>
                </a:lnTo>
                <a:lnTo>
                  <a:pt x="2234" y="3250"/>
                </a:lnTo>
                <a:lnTo>
                  <a:pt x="2229" y="3250"/>
                </a:lnTo>
                <a:lnTo>
                  <a:pt x="2218" y="325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490040" y="47520"/>
            <a:ext cx="650376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tandar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3800" y="1371600"/>
            <a:ext cx="820116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85000"/>
              </a:lnSpc>
              <a:spcBef>
                <a:spcPts val="2500"/>
              </a:spcBef>
              <a:buClr>
                <a:srgbClr val="ff3300"/>
              </a:buClr>
              <a:buSzPct val="15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…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re is an infinite # of normal distributions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ut only </a:t>
            </a: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57200">
              <a:lnSpc>
                <a:spcPct val="85000"/>
              </a:lnSpc>
              <a:spcBef>
                <a:spcPts val="2251"/>
              </a:spcBef>
              <a:buClr>
                <a:srgbClr val="ff3300"/>
              </a:buClr>
              <a:buSzPct val="15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…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ach distribution is determined b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GB" sz="36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1" lang="en-GB" sz="3600" spc="-1" strike="noStrike">
                <a:solidFill>
                  <a:srgbClr val="0033cc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57200" algn="ctr">
              <a:lnSpc>
                <a:spcPct val="85000"/>
              </a:lnSpc>
              <a:spcBef>
                <a:spcPts val="1749"/>
              </a:spcBef>
              <a:buClr>
                <a:srgbClr val="ff3300"/>
              </a:buClr>
              <a:buSzPct val="15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ork with </a:t>
            </a:r>
            <a:r>
              <a:rPr b="1" i="1" lang="en-GB" sz="2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GB" sz="2800" spc="-1" strike="noStrike">
                <a:solidFill>
                  <a:srgbClr val="0033cc"/>
                </a:solidFill>
                <a:latin typeface="Symbol"/>
                <a:ea typeface="Symbol"/>
              </a:rPr>
              <a:t>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calculate norma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babilities, by figuring out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 many standard deviations is </a:t>
            </a:r>
            <a:r>
              <a:rPr b="1" i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1" i="1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way from the mean?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3160" indent="-457200" algn="ctr">
              <a:lnSpc>
                <a:spcPct val="85000"/>
              </a:lnSpc>
              <a:spcBef>
                <a:spcPts val="1749"/>
              </a:spcBef>
              <a:buClr>
                <a:srgbClr val="ff3300"/>
              </a:buClr>
              <a:buSzPct val="155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GB" sz="36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comes the metre stick for meas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85800" y="6172200"/>
            <a:ext cx="7772040" cy="304920"/>
            <a:chOff x="685800" y="6172200"/>
            <a:chExt cx="7772040" cy="304920"/>
          </a:xfrm>
        </p:grpSpPr>
        <p:sp>
          <p:nvSpPr>
            <p:cNvPr id="910" name=""/>
            <p:cNvSpPr/>
            <p:nvPr/>
          </p:nvSpPr>
          <p:spPr>
            <a:xfrm flipV="1">
              <a:off x="685800" y="6244560"/>
              <a:ext cx="7772040" cy="144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1" name="ball16" descr=""/>
            <p:cNvPicPr/>
            <p:nvPr/>
          </p:nvPicPr>
          <p:blipFill>
            <a:blip r:embed="rId2"/>
            <a:stretch/>
          </p:blipFill>
          <p:spPr>
            <a:xfrm>
              <a:off x="4442040" y="6172200"/>
              <a:ext cx="5641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B3AA-3A5A-4517-9332-A0763DC297C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3289320" y="3675240"/>
            <a:ext cx="2476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89320" y="3608280"/>
            <a:ext cx="1440" cy="11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289320" y="3675240"/>
            <a:ext cx="2476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89320" y="3608280"/>
            <a:ext cx="1440" cy="11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54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575080" y="1319760"/>
            <a:ext cx="4945680" cy="4047840"/>
            <a:chOff x="2575080" y="1319760"/>
            <a:chExt cx="4945680" cy="4047840"/>
          </a:xfrm>
        </p:grpSpPr>
        <p:sp>
          <p:nvSpPr>
            <p:cNvPr id="918" name=""/>
            <p:cNvSpPr/>
            <p:nvPr/>
          </p:nvSpPr>
          <p:spPr>
            <a:xfrm rot="19513200">
              <a:off x="2480760" y="2669760"/>
              <a:ext cx="5133960" cy="12780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3229200" y="51379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3268800" y="51109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3316320" y="50778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3354480" y="50508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3340800" y="4947840"/>
              <a:ext cx="12384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3441960" y="499248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flipV="1">
              <a:off x="3480120" y="49633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3519720" y="49363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3565800" y="49046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3552120" y="4801680"/>
              <a:ext cx="12384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3645000" y="485064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3683160" y="48222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3730680" y="479088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3768840" y="476388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3756960" y="4660560"/>
              <a:ext cx="12348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3856320" y="47030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3894120" y="467604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3934080" y="46490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3981600" y="461628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967920" y="4513320"/>
              <a:ext cx="1238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4059360" y="456228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4105440" y="45298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flipV="1">
              <a:off x="4145040" y="450360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 flipV="1">
              <a:off x="4184640" y="447444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flipV="1">
              <a:off x="4171320" y="4371480"/>
              <a:ext cx="12348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flipV="1">
              <a:off x="2613240" y="416520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 flipV="1">
              <a:off x="2674800" y="4121280"/>
              <a:ext cx="21744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2746440" y="407304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flipV="1">
              <a:off x="2807640" y="4029840"/>
              <a:ext cx="269280" cy="39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flipV="1">
              <a:off x="2870280" y="398592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2941200" y="393732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3003840" y="389376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flipV="1">
              <a:off x="3073680" y="3844080"/>
              <a:ext cx="394560" cy="57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3607200" y="3475800"/>
              <a:ext cx="394560" cy="57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3137040" y="380160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3206520" y="375300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3270600" y="3709800"/>
              <a:ext cx="102600" cy="15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>
              <a:off x="3332160" y="3665880"/>
              <a:ext cx="280440" cy="4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 flipV="1">
              <a:off x="3410280" y="361116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3473280" y="3567240"/>
              <a:ext cx="21744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 flipV="1">
              <a:off x="3535560" y="3524040"/>
              <a:ext cx="102960" cy="15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 flipV="1">
              <a:off x="4286520" y="44046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4324680" y="43776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flipV="1">
              <a:off x="4372200" y="434484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flipV="1">
              <a:off x="4411800" y="431784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 flipV="1">
              <a:off x="4398120" y="4214880"/>
              <a:ext cx="1238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flipV="1">
              <a:off x="4489560" y="426384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flipV="1">
              <a:off x="4535640" y="42300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flipV="1">
              <a:off x="4575240" y="42030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4614840" y="41760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flipV="1">
              <a:off x="4609440" y="4068360"/>
              <a:ext cx="12348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flipV="1">
              <a:off x="4700880" y="41173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4740480" y="408924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4786560" y="40568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flipV="1">
              <a:off x="4826160" y="402984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4812480" y="3927600"/>
              <a:ext cx="1238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flipV="1">
              <a:off x="4911840" y="39697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 flipV="1">
              <a:off x="4951440" y="39427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4989600" y="39157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flipV="1">
              <a:off x="5029200" y="38887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5023800" y="3780000"/>
              <a:ext cx="12348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>
              <a:off x="5115240" y="38282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 flipV="1">
              <a:off x="5154840" y="38012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>
              <a:off x="5200920" y="376956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flipV="1">
              <a:off x="5240520" y="37411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flipV="1">
              <a:off x="5226840" y="3638160"/>
              <a:ext cx="12384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 flipV="1">
              <a:off x="3668760" y="343188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 flipV="1">
              <a:off x="3730320" y="338796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 flipV="1">
              <a:off x="3794400" y="334440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3865320" y="3296160"/>
              <a:ext cx="268920" cy="39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3927600" y="3252600"/>
              <a:ext cx="102960" cy="15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3997080" y="320364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4061160" y="316044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flipV="1">
              <a:off x="4131000" y="3110760"/>
              <a:ext cx="394560" cy="57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flipV="1">
              <a:off x="4663080" y="2742840"/>
              <a:ext cx="394200" cy="57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 flipV="1">
              <a:off x="4192920" y="306828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 flipV="1">
              <a:off x="4255920" y="3024360"/>
              <a:ext cx="21744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 flipV="1">
              <a:off x="4326120" y="297612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 flipV="1">
              <a:off x="4388040" y="2932560"/>
              <a:ext cx="280440" cy="4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 flipV="1">
              <a:off x="4459320" y="288252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 flipV="1">
              <a:off x="4528800" y="283392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4592880" y="279036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5342040" y="36712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flipV="1">
              <a:off x="5381640" y="36442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5427720" y="36108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 flipV="1">
              <a:off x="5467680" y="35838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flipV="1">
              <a:off x="5454000" y="3481560"/>
              <a:ext cx="12348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5545440" y="35298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5592960" y="349668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flipV="1">
              <a:off x="5631120" y="346968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 flipV="1">
              <a:off x="5670720" y="34426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flipV="1">
              <a:off x="5664960" y="3335400"/>
              <a:ext cx="1238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 flipV="1">
              <a:off x="5756400" y="338436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 flipV="1">
              <a:off x="5796000" y="33552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5842080" y="33235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flipV="1">
              <a:off x="5881680" y="32965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flipV="1">
              <a:off x="5868360" y="3193560"/>
              <a:ext cx="12348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flipV="1">
              <a:off x="5967720" y="323676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flipV="1">
              <a:off x="6007320" y="320976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6046920" y="318276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 flipV="1">
              <a:off x="6085080" y="315576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6071400" y="3052440"/>
              <a:ext cx="12384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 flipV="1">
              <a:off x="6170760" y="30949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 flipV="1">
              <a:off x="6210360" y="30679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 flipV="1">
              <a:off x="6250320" y="30409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 flipV="1">
              <a:off x="6296040" y="300816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6282720" y="2905200"/>
              <a:ext cx="12348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flipV="1">
              <a:off x="4724640" y="2698560"/>
              <a:ext cx="102600" cy="15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4787640" y="2654640"/>
              <a:ext cx="218160" cy="31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4849920" y="261108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4920840" y="2563200"/>
              <a:ext cx="269280" cy="39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4983480" y="251892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5052600" y="247032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5116680" y="242676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5178960" y="2383920"/>
              <a:ext cx="394200" cy="57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5249880" y="233496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 flipV="1">
              <a:off x="5311440" y="229104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5381640" y="224280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 flipV="1">
              <a:off x="5445360" y="2199240"/>
              <a:ext cx="280440" cy="40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 flipV="1">
              <a:off x="5515200" y="214920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 flipV="1">
              <a:off x="5584680" y="2100600"/>
              <a:ext cx="217800" cy="31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5648400" y="205704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6397920" y="293832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 flipV="1">
              <a:off x="6437520" y="291132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flipV="1">
              <a:off x="6477120" y="288432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 flipV="1">
              <a:off x="6523200" y="28504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 flipV="1">
              <a:off x="6509520" y="2747520"/>
              <a:ext cx="12384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flipV="1">
              <a:off x="6602400" y="27964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 flipV="1">
              <a:off x="6648480" y="27630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flipV="1">
              <a:off x="6688440" y="27360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6726240" y="270972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6720840" y="2602080"/>
              <a:ext cx="12348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 flipV="1">
              <a:off x="6813720" y="26488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6851880" y="262188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891480" y="25948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 flipV="1">
              <a:off x="6937560" y="25632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6925680" y="2460240"/>
              <a:ext cx="12348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 flipV="1">
              <a:off x="7016760" y="25092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flipV="1">
              <a:off x="7054920" y="248112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7102800" y="24487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 flipV="1">
              <a:off x="7142400" y="24217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 flipV="1">
              <a:off x="7128720" y="2319480"/>
              <a:ext cx="1238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 flipV="1">
              <a:off x="7228080" y="23616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 flipV="1">
              <a:off x="7266240" y="23346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>
              <a:off x="7305840" y="23076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7345440" y="22806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 flipV="1">
              <a:off x="7340040" y="2171880"/>
              <a:ext cx="12348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 flipV="1">
              <a:off x="5774040" y="196956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 flipV="1">
              <a:off x="5843160" y="192096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 flipV="1">
              <a:off x="5907240" y="187776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 flipV="1">
              <a:off x="5976000" y="1829160"/>
              <a:ext cx="269640" cy="39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flipV="1">
              <a:off x="6039000" y="178560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102000" y="174168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 flipV="1">
              <a:off x="6172560" y="169344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 flipV="1">
              <a:off x="6234480" y="1650240"/>
              <a:ext cx="394560" cy="57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 flipV="1">
              <a:off x="5726520" y="2002680"/>
              <a:ext cx="394560" cy="57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305760" y="160128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367320" y="1557360"/>
              <a:ext cx="21744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flipV="1">
              <a:off x="6438960" y="150948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flipV="1">
              <a:off x="6500880" y="1465920"/>
              <a:ext cx="280800" cy="40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flipV="1">
              <a:off x="6570720" y="141552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 flipV="1">
              <a:off x="6634080" y="1373400"/>
              <a:ext cx="21744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 flipV="1">
              <a:off x="6704280" y="132372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9513200">
              <a:off x="6922800" y="1649160"/>
              <a:ext cx="75960" cy="12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42"/>
                  </a:moveTo>
                  <a:lnTo>
                    <a:pt x="30" y="42"/>
                  </a:lnTo>
                  <a:lnTo>
                    <a:pt x="30" y="24"/>
                  </a:lnTo>
                  <a:lnTo>
                    <a:pt x="18" y="42"/>
                  </a:lnTo>
                  <a:lnTo>
                    <a:pt x="0" y="42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42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9513200">
              <a:off x="6995880" y="1749240"/>
              <a:ext cx="104760" cy="1634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lnTo>
                    <a:pt x="24" y="0"/>
                  </a:lnTo>
                  <a:lnTo>
                    <a:pt x="12" y="18"/>
                  </a:lnTo>
                  <a:lnTo>
                    <a:pt x="36" y="18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54" y="18"/>
                  </a:lnTo>
                  <a:lnTo>
                    <a:pt x="66" y="18"/>
                  </a:lnTo>
                  <a:lnTo>
                    <a:pt x="66" y="36"/>
                  </a:lnTo>
                  <a:lnTo>
                    <a:pt x="54" y="36"/>
                  </a:lnTo>
                  <a:lnTo>
                    <a:pt x="54" y="54"/>
                  </a:lnTo>
                  <a:lnTo>
                    <a:pt x="36" y="54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9513200">
              <a:off x="5897520" y="2346120"/>
              <a:ext cx="114480" cy="30924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72"/>
                  </a:move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72" y="60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54" y="102"/>
                  </a:lnTo>
                  <a:lnTo>
                    <a:pt x="48" y="102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9513200">
              <a:off x="4849560" y="3074760"/>
              <a:ext cx="114120" cy="30960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102"/>
                  </a:moveTo>
                  <a:lnTo>
                    <a:pt x="0" y="102"/>
                  </a:lnTo>
                  <a:lnTo>
                    <a:pt x="0" y="102"/>
                  </a:lnTo>
                  <a:lnTo>
                    <a:pt x="0" y="90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42" y="72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24" y="84"/>
                  </a:lnTo>
                  <a:lnTo>
                    <a:pt x="72" y="84"/>
                  </a:lnTo>
                  <a:lnTo>
                    <a:pt x="72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9513200">
              <a:off x="3817800" y="3827160"/>
              <a:ext cx="66960" cy="291960"/>
            </a:xfrm>
            <a:custGeom>
              <a:avLst/>
              <a:gdLst/>
              <a:ahLst/>
              <a:rect l="l" t="t" r="r" b="b"/>
              <a:pathLst>
                <a:path w="42" h="96">
                  <a:moveTo>
                    <a:pt x="24" y="96"/>
                  </a:moveTo>
                  <a:lnTo>
                    <a:pt x="24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96"/>
                  </a:lnTo>
                  <a:lnTo>
                    <a:pt x="24" y="9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19513200">
              <a:off x="7192440" y="2042640"/>
              <a:ext cx="57240" cy="9216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30"/>
                  </a:moveTo>
                  <a:lnTo>
                    <a:pt x="30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19513200">
              <a:off x="7245360" y="2117520"/>
              <a:ext cx="57240" cy="9036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9513200">
              <a:off x="7181640" y="2085480"/>
              <a:ext cx="37800" cy="14616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2" y="48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48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9513200">
              <a:off x="6807240" y="2306160"/>
              <a:ext cx="57240" cy="55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6" y="18"/>
                  </a:move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19513200">
              <a:off x="6859440" y="2346480"/>
              <a:ext cx="57240" cy="1267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19513200">
              <a:off x="6397560" y="2611080"/>
              <a:ext cx="57240" cy="3636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36" y="12"/>
                  </a:move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9513200">
              <a:off x="6429240" y="263808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9513200">
              <a:off x="6463800" y="270000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19513200">
              <a:off x="5996160" y="2905200"/>
              <a:ext cx="56880" cy="16344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12" y="54"/>
                  </a:moveTo>
                  <a:lnTo>
                    <a:pt x="12" y="54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19513200">
              <a:off x="5574960" y="3195720"/>
              <a:ext cx="47520" cy="1094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36"/>
                  </a:moveTo>
                  <a:lnTo>
                    <a:pt x="24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19513200">
              <a:off x="5621040" y="3288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9513200">
              <a:off x="5151600" y="3490920"/>
              <a:ext cx="56880" cy="16344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36"/>
                  </a:move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6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12" y="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19513200">
              <a:off x="4719600" y="3784680"/>
              <a:ext cx="47520" cy="730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19513200">
              <a:off x="4757760" y="3846240"/>
              <a:ext cx="57240" cy="9036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6" y="0"/>
                  </a:moveTo>
                  <a:lnTo>
                    <a:pt x="18" y="0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24" y="18"/>
                  </a:lnTo>
                  <a:lnTo>
                    <a:pt x="0" y="18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19513200">
              <a:off x="4321080" y="4067280"/>
              <a:ext cx="57240" cy="16344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36"/>
                  </a:move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19513200">
              <a:off x="3890880" y="4365720"/>
              <a:ext cx="57240" cy="16344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54"/>
                  </a:moveTo>
                  <a:lnTo>
                    <a:pt x="0" y="5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36" y="42"/>
                  </a:lnTo>
                  <a:lnTo>
                    <a:pt x="36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9513200">
              <a:off x="3478320" y="4659480"/>
              <a:ext cx="38160" cy="16344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12" y="54"/>
                  </a:moveTo>
                  <a:lnTo>
                    <a:pt x="12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19513200">
              <a:off x="3828960" y="4965480"/>
              <a:ext cx="9720" cy="438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 txBox="1"/>
          <p:nvPr/>
        </p:nvSpPr>
        <p:spPr>
          <a:xfrm>
            <a:off x="1600200" y="1981080"/>
            <a:ext cx="60199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2300" dir="9963564" blurRad="0" rotWithShape="0">
                    <a:srgbClr val="33ccff"/>
                  </a:outerShdw>
                </a:effectLst>
                <a:latin typeface="Times New Roman"/>
              </a:rPr>
              <a:t>Understanding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2300" dir="9963564" blurRad="0" rotWithShape="0">
                  <a:srgbClr val="33cc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2300" dir="9963564" blurRad="0" rotWithShape="0">
                    <a:srgbClr val="33ccff"/>
                  </a:outerShdw>
                </a:effectLst>
                <a:latin typeface="Times New Roman"/>
              </a:rPr>
              <a:t>Standard Deviation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2300" dir="9963564" blurRad="0" rotWithShape="0">
                  <a:srgbClr val="33cc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2300" dir="9963564" blurRad="0" rotWithShape="0">
                    <a:srgbClr val="33ccff"/>
                  </a:outerShdw>
                </a:effectLst>
                <a:latin typeface="Times New Roman"/>
              </a:rPr>
              <a:t>and z-score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2300" dir="9963564" blurRad="0" rotWithShape="0">
                  <a:srgbClr val="33cc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2FF8-5D63-440C-9195-95D5CA74285A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Ruler_B" descr=""/>
          <p:cNvPicPr/>
          <p:nvPr/>
        </p:nvPicPr>
        <p:blipFill>
          <a:blip r:embed="rId1"/>
          <a:srcRect l="0" t="5956" r="0" b="0"/>
          <a:stretch/>
        </p:blipFill>
        <p:spPr>
          <a:xfrm>
            <a:off x="4038480" y="4572000"/>
            <a:ext cx="533520" cy="1778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 flipV="1">
            <a:off x="4038480" y="2666880"/>
            <a:ext cx="0" cy="18288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1409760" y="1782360"/>
            <a:ext cx="6819840" cy="3355560"/>
            <a:chOff x="1409760" y="1782360"/>
            <a:chExt cx="6819840" cy="3355560"/>
          </a:xfrm>
        </p:grpSpPr>
        <p:sp>
          <p:nvSpPr>
            <p:cNvPr id="1109" name=""/>
            <p:cNvSpPr/>
            <p:nvPr/>
          </p:nvSpPr>
          <p:spPr>
            <a:xfrm>
              <a:off x="1600200" y="4525560"/>
              <a:ext cx="6095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4525560"/>
              <a:ext cx="0" cy="228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819520" y="4525560"/>
              <a:ext cx="0" cy="228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38480" y="4525560"/>
              <a:ext cx="0" cy="228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57800" y="4525560"/>
              <a:ext cx="0" cy="228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77120" y="4525560"/>
              <a:ext cx="0" cy="228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96080" y="4525560"/>
              <a:ext cx="0" cy="228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09760" y="4678200"/>
              <a:ext cx="68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20            40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60           80           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72000" y="1782720"/>
              <a:ext cx="0" cy="27428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2895480" y="4507920"/>
              <a:ext cx="61920" cy="16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2957400" y="4476240"/>
              <a:ext cx="61920" cy="31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3019320" y="4458960"/>
              <a:ext cx="47880" cy="172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67200" y="4427280"/>
              <a:ext cx="61920" cy="313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3129120" y="4376520"/>
              <a:ext cx="47520" cy="50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176640" y="4327200"/>
              <a:ext cx="60120" cy="48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3236760" y="4277880"/>
              <a:ext cx="49320" cy="48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286080" y="4211280"/>
              <a:ext cx="60480" cy="662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3346560" y="4146120"/>
              <a:ext cx="63360" cy="64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409920" y="4062240"/>
              <a:ext cx="46080" cy="83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456000" y="3963600"/>
              <a:ext cx="63360" cy="982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519360" y="3863160"/>
              <a:ext cx="46080" cy="99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565440" y="3747960"/>
              <a:ext cx="61920" cy="1152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627360" y="3615840"/>
              <a:ext cx="46080" cy="131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3673440" y="3484080"/>
              <a:ext cx="63360" cy="131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736800" y="3350880"/>
              <a:ext cx="63720" cy="133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3800520" y="3202920"/>
              <a:ext cx="46080" cy="1472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46600" y="3038040"/>
              <a:ext cx="63360" cy="1648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3909960" y="2890080"/>
              <a:ext cx="46080" cy="1472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56040" y="2741400"/>
              <a:ext cx="61920" cy="14868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4017960" y="2592000"/>
              <a:ext cx="46080" cy="149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4064040" y="2444040"/>
              <a:ext cx="63360" cy="1472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4127400" y="2310840"/>
              <a:ext cx="61920" cy="1328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189320" y="2179080"/>
              <a:ext cx="47880" cy="131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237200" y="2063520"/>
              <a:ext cx="61920" cy="1155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299120" y="1963440"/>
              <a:ext cx="47520" cy="9972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46640" y="1896840"/>
              <a:ext cx="60120" cy="662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406760" y="1831680"/>
              <a:ext cx="47880" cy="648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4454640" y="1798200"/>
              <a:ext cx="61920" cy="331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516560" y="1782360"/>
              <a:ext cx="63360" cy="15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79920" y="1782720"/>
              <a:ext cx="47520" cy="15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27440" y="1798200"/>
              <a:ext cx="61920" cy="33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89360" y="1831680"/>
              <a:ext cx="47880" cy="648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37240" y="1896840"/>
              <a:ext cx="60120" cy="6624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97360" y="1963440"/>
              <a:ext cx="47520" cy="9972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44880" y="2063520"/>
              <a:ext cx="61920" cy="1155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906800" y="2179440"/>
              <a:ext cx="47880" cy="131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954680" y="2311200"/>
              <a:ext cx="61920" cy="1328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016600" y="2444400"/>
              <a:ext cx="63360" cy="1472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079960" y="2592000"/>
              <a:ext cx="46080" cy="149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126040" y="2741400"/>
              <a:ext cx="61920" cy="14868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87960" y="2890440"/>
              <a:ext cx="46080" cy="1472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34040" y="3038040"/>
              <a:ext cx="63360" cy="16488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97400" y="3203280"/>
              <a:ext cx="46080" cy="1472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343480" y="3350880"/>
              <a:ext cx="63720" cy="133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407200" y="3484440"/>
              <a:ext cx="63360" cy="131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70560" y="3616200"/>
              <a:ext cx="46080" cy="131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16640" y="3747960"/>
              <a:ext cx="61920" cy="1152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78560" y="3863520"/>
              <a:ext cx="46080" cy="99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624640" y="3963600"/>
              <a:ext cx="63360" cy="982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88000" y="4062240"/>
              <a:ext cx="46080" cy="83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34080" y="4146120"/>
              <a:ext cx="63360" cy="64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797440" y="4211280"/>
              <a:ext cx="60480" cy="662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57920" y="4277880"/>
              <a:ext cx="49320" cy="48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07240" y="4327200"/>
              <a:ext cx="60120" cy="48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967360" y="4376520"/>
              <a:ext cx="47520" cy="50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4880" y="4427280"/>
              <a:ext cx="61920" cy="313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76800" y="4458960"/>
              <a:ext cx="47880" cy="172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124680" y="4476600"/>
              <a:ext cx="61920" cy="31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186600" y="4508280"/>
              <a:ext cx="61920" cy="16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72000" y="4525560"/>
              <a:ext cx="0" cy="228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4364280" y="483084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685800" y="1143000"/>
            <a:ext cx="7695720" cy="762120"/>
            <a:chOff x="685800" y="1143000"/>
            <a:chExt cx="7695720" cy="762120"/>
          </a:xfrm>
        </p:grpSpPr>
        <p:grpSp>
          <p:nvGrpSpPr>
            <p:cNvPr id="1181" name=""/>
            <p:cNvGrpSpPr/>
            <p:nvPr/>
          </p:nvGrpSpPr>
          <p:grpSpPr>
            <a:xfrm>
              <a:off x="685800" y="1143000"/>
              <a:ext cx="1704240" cy="762120"/>
              <a:chOff x="685800" y="1143000"/>
              <a:chExt cx="1704240" cy="762120"/>
            </a:xfrm>
          </p:grpSpPr>
          <p:sp>
            <p:nvSpPr>
              <p:cNvPr id="1182" name=""/>
              <p:cNvSpPr txBox="1"/>
              <p:nvPr/>
            </p:nvSpPr>
            <p:spPr>
              <a:xfrm>
                <a:off x="685800" y="1143000"/>
                <a:ext cx="414360" cy="762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effectLst>
                      <a:outerShdw dist="102298" dir="10375500" blurRad="0" rotWithShape="0">
                        <a:srgbClr val="868686"/>
                      </a:outerShdw>
                    </a:effectLst>
                    <a:latin typeface="Comic Sans MS"/>
                  </a:rPr>
                  <a:t>Q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  <a:ea typeface="Comic Sans MS"/>
                </a:endParaRPr>
              </a:p>
            </p:txBody>
          </p:sp>
          <p:sp>
            <p:nvSpPr>
              <p:cNvPr id="1183" name=""/>
              <p:cNvSpPr txBox="1"/>
              <p:nvPr/>
            </p:nvSpPr>
            <p:spPr>
              <a:xfrm>
                <a:off x="1123200" y="1325880"/>
                <a:ext cx="1266840" cy="416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000000"/>
                      </a:outerShdw>
                    </a:effectLst>
                    <a:latin typeface="Arial Black"/>
                  </a:rPr>
                  <a:t>uestion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 flipH="1" flipV="1">
              <a:off x="2514240" y="1294920"/>
              <a:ext cx="58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ow many </a:t>
              </a:r>
              <a:r>
                <a:rPr b="1" lang="en-GB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is 40 away from </a:t>
              </a:r>
              <a:r>
                <a:rPr b="1" lang="en-GB" sz="32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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457200" y="2239920"/>
            <a:ext cx="3048120" cy="12009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50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500880" y="37339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009880" y="4214880"/>
            <a:ext cx="37152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51920" y="5187960"/>
            <a:ext cx="42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is 1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ts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(-10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ay from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52280" y="5592600"/>
            <a:ext cx="891540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91658" dir="33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1 standard deviation (</a:t>
            </a: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8 unit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10 unit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ust be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 1.25 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550280" y="6172200"/>
            <a:ext cx="1212840" cy="5814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91658" dir="87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Using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106240" y="5189400"/>
            <a:ext cx="3643200" cy="459720"/>
          </a:xfrm>
          <a:prstGeom prst="rect">
            <a:avLst/>
          </a:prstGeom>
          <a:gradFill rotWithShape="0">
            <a:gsLst>
              <a:gs pos="0">
                <a:srgbClr val="fefefc"/>
              </a:gs>
              <a:gs pos="50000">
                <a:srgbClr val="ffffcc"/>
              </a:gs>
              <a:gs pos="100000">
                <a:srgbClr val="fefef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is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–1.2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way from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4"/>
          <a:stretch/>
        </p:blipFill>
        <p:spPr>
          <a:xfrm>
            <a:off x="4648320" y="5240160"/>
            <a:ext cx="423720" cy="352440"/>
          </a:xfrm>
          <a:prstGeom prst="rect">
            <a:avLst/>
          </a:prstGeom>
          <a:ln w="0">
            <a:noFill/>
          </a:ln>
        </p:spPr>
      </p:pic>
      <p:grpSp>
        <p:nvGrpSpPr>
          <p:cNvPr id="1193" name=""/>
          <p:cNvGrpSpPr/>
          <p:nvPr/>
        </p:nvGrpSpPr>
        <p:grpSpPr>
          <a:xfrm>
            <a:off x="2895480" y="152280"/>
            <a:ext cx="3276360" cy="1067040"/>
            <a:chOff x="2895480" y="152280"/>
            <a:chExt cx="3276360" cy="1067040"/>
          </a:xfrm>
        </p:grpSpPr>
        <p:sp>
          <p:nvSpPr>
            <p:cNvPr id="1194" name=""/>
            <p:cNvSpPr/>
            <p:nvPr/>
          </p:nvSpPr>
          <p:spPr>
            <a:xfrm>
              <a:off x="3958920" y="389160"/>
              <a:ext cx="1149120" cy="592920"/>
            </a:xfrm>
            <a:prstGeom prst="bevel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 txBox="1"/>
            <p:nvPr/>
          </p:nvSpPr>
          <p:spPr>
            <a:xfrm>
              <a:off x="2895480" y="152280"/>
              <a:ext cx="327636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effectLst>
                    <a:outerShdw dist="52300" dir="9963564" blurRad="0" rotWithShape="0">
                      <a:srgbClr val="33ccff"/>
                    </a:outerShdw>
                  </a:effectLst>
                  <a:latin typeface="Times New Roman"/>
                </a:rPr>
                <a:t>Understanding </a:t>
              </a:r>
              <a:endPara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2300" dir="9963564" blurRad="0" rotWithShape="0">
                    <a:srgbClr val="33ccff"/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effectLst>
                    <a:outerShdw dist="52300" dir="9963564" blurRad="0" rotWithShape="0">
                      <a:srgbClr val="33ccff"/>
                    </a:outerShdw>
                  </a:effectLst>
                  <a:latin typeface="Times New Roman"/>
                </a:rPr>
                <a:t>Standard Deviations</a:t>
              </a:r>
              <a:endPara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2300" dir="9963564" blurRad="0" rotWithShape="0">
                    <a:srgbClr val="33ccff"/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effectLst>
                    <a:outerShdw dist="52300" dir="9963564" blurRad="0" rotWithShape="0">
                      <a:srgbClr val="33ccff"/>
                    </a:outerShdw>
                  </a:effectLst>
                  <a:latin typeface="Times New Roman"/>
                </a:rPr>
                <a:t>and z-scores</a:t>
              </a:r>
              <a:endPara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2300" dir="9963564" blurRad="0" rotWithShape="0">
                    <a:srgbClr val="33cc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63B2-E580-4D76-9FD4-B0294E0F1C33}" type="slidenum">
              <a:t>24</a:t>
            </a:fld>
          </a:p>
        </p:txBody>
      </p:sp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1490040" y="47520"/>
            <a:ext cx="650376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tandar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894400" y="1371600"/>
            <a:ext cx="3323160" cy="5814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37960" y="2481120"/>
            <a:ext cx="8704440" cy="14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-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tanc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between a selected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designated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vided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ation, 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457200" y="1828800"/>
            <a:ext cx="16002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Recall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3276720" y="3962520"/>
            <a:ext cx="4876200" cy="583560"/>
            <a:chOff x="3276720" y="3962520"/>
            <a:chExt cx="4876200" cy="583560"/>
          </a:xfrm>
        </p:grpSpPr>
        <p:sp>
          <p:nvSpPr>
            <p:cNvPr id="1201" name=""/>
            <p:cNvSpPr/>
            <p:nvPr/>
          </p:nvSpPr>
          <p:spPr>
            <a:xfrm>
              <a:off x="4876560" y="3962520"/>
              <a:ext cx="3276360" cy="520560"/>
            </a:xfrm>
            <a:prstGeom prst="rect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istanc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from the </a:t>
              </a:r>
              <a:r>
                <a:rPr b="1" lang="en-GB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276720" y="3986640"/>
              <a:ext cx="1599840" cy="559440"/>
            </a:xfrm>
            <a:prstGeom prst="rect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3276720" y="4495680"/>
            <a:ext cx="4876560" cy="642600"/>
            <a:chOff x="3276720" y="4495680"/>
            <a:chExt cx="4876560" cy="642600"/>
          </a:xfrm>
        </p:grpSpPr>
        <p:sp>
          <p:nvSpPr>
            <p:cNvPr id="1204" name=""/>
            <p:cNvSpPr/>
            <p:nvPr/>
          </p:nvSpPr>
          <p:spPr>
            <a:xfrm>
              <a:off x="4851360" y="4495680"/>
              <a:ext cx="330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ivide by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 ge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76720" y="4572000"/>
              <a:ext cx="1574640" cy="53352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76920" y="4572000"/>
              <a:ext cx="3276360" cy="53352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228240" y="3875040"/>
            <a:ext cx="4513320" cy="1231200"/>
            <a:chOff x="228240" y="3875040"/>
            <a:chExt cx="4513320" cy="1231200"/>
          </a:xfrm>
        </p:grpSpPr>
        <p:sp>
          <p:nvSpPr>
            <p:cNvPr id="1208" name=""/>
            <p:cNvSpPr/>
            <p:nvPr/>
          </p:nvSpPr>
          <p:spPr>
            <a:xfrm>
              <a:off x="3341520" y="4540320"/>
              <a:ext cx="14000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19600" y="4435560"/>
              <a:ext cx="3376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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352760" y="3875040"/>
              <a:ext cx="293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996720" y="39891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839320" y="419256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30080" y="402408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8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12000" y="3998880"/>
              <a:ext cx="23832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28240" y="4155840"/>
              <a:ext cx="1797840" cy="581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55100" dir="8701132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3403080" y="5257800"/>
            <a:ext cx="12265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4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2417400" y="5257800"/>
            <a:ext cx="837000" cy="825120"/>
            <a:chOff x="2417400" y="5257800"/>
            <a:chExt cx="837000" cy="825120"/>
          </a:xfrm>
        </p:grpSpPr>
        <p:sp>
          <p:nvSpPr>
            <p:cNvPr id="1218" name=""/>
            <p:cNvSpPr/>
            <p:nvPr/>
          </p:nvSpPr>
          <p:spPr>
            <a:xfrm>
              <a:off x="2417400" y="5257800"/>
              <a:ext cx="570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3300"/>
                  </a:solidFill>
                  <a:latin typeface="Times New Roman"/>
                </a:rPr>
                <a:t>z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97200" y="54100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4647960" y="5257800"/>
            <a:ext cx="1428120" cy="975240"/>
            <a:chOff x="4647960" y="5257800"/>
            <a:chExt cx="1428120" cy="975240"/>
          </a:xfrm>
        </p:grpSpPr>
        <p:sp>
          <p:nvSpPr>
            <p:cNvPr id="1221" name=""/>
            <p:cNvSpPr/>
            <p:nvPr/>
          </p:nvSpPr>
          <p:spPr>
            <a:xfrm>
              <a:off x="4647960" y="5378400"/>
              <a:ext cx="54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360400" y="5257800"/>
              <a:ext cx="71568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–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6324480" y="5378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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7924680" y="5883120"/>
            <a:ext cx="898200" cy="745920"/>
            <a:chOff x="7924680" y="5883120"/>
            <a:chExt cx="898200" cy="745920"/>
          </a:xfrm>
        </p:grpSpPr>
        <p:sp>
          <p:nvSpPr>
            <p:cNvPr id="1225" name=""/>
            <p:cNvSpPr/>
            <p:nvPr/>
          </p:nvSpPr>
          <p:spPr>
            <a:xfrm>
              <a:off x="7924680" y="5910480"/>
              <a:ext cx="839160" cy="71856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5"/>
                  </a:lnTo>
                  <a:lnTo>
                    <a:pt x="192" y="397"/>
                  </a:lnTo>
                  <a:lnTo>
                    <a:pt x="79" y="660"/>
                  </a:lnTo>
                  <a:lnTo>
                    <a:pt x="344" y="499"/>
                  </a:lnTo>
                  <a:lnTo>
                    <a:pt x="567" y="677"/>
                  </a:lnTo>
                  <a:lnTo>
                    <a:pt x="520" y="419"/>
                  </a:lnTo>
                  <a:lnTo>
                    <a:pt x="724" y="254"/>
                  </a:lnTo>
                  <a:lnTo>
                    <a:pt x="449" y="245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983720" y="5883120"/>
              <a:ext cx="839160" cy="71892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6"/>
                  </a:lnTo>
                  <a:lnTo>
                    <a:pt x="193" y="399"/>
                  </a:lnTo>
                  <a:lnTo>
                    <a:pt x="78" y="660"/>
                  </a:lnTo>
                  <a:lnTo>
                    <a:pt x="344" y="499"/>
                  </a:lnTo>
                  <a:lnTo>
                    <a:pt x="566" y="677"/>
                  </a:lnTo>
                  <a:lnTo>
                    <a:pt x="519" y="419"/>
                  </a:lnTo>
                  <a:lnTo>
                    <a:pt x="724" y="254"/>
                  </a:lnTo>
                  <a:lnTo>
                    <a:pt x="448" y="246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fff14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 txBox="1"/>
            <p:nvPr/>
          </p:nvSpPr>
          <p:spPr>
            <a:xfrm rot="19894800">
              <a:off x="8158680" y="6108840"/>
              <a:ext cx="500760" cy="25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496" dir="9225519" blurRad="0" rotWithShape="0">
                      <a:srgbClr val="b2b2b2">
                        <a:alpha val="50000"/>
                      </a:srgbClr>
                    </a:outerShdw>
                  </a:effectLst>
                  <a:latin typeface="Arial Black"/>
                </a:rPr>
                <a:t>Not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496" dir="9225519" blurRad="0" rotWithShape="0">
                    <a:srgbClr val="b2b2b2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BBE6-0C12-43B1-BC87-118E89504B85}" type="slidenum">
              <a:t>25</a:t>
            </a:fld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1490040" y="0"/>
            <a:ext cx="6503760" cy="1905120"/>
            <a:chOff x="1490040" y="0"/>
            <a:chExt cx="6503760" cy="1905120"/>
          </a:xfrm>
        </p:grpSpPr>
        <p:sp>
          <p:nvSpPr>
            <p:cNvPr id="1229" name=""/>
            <p:cNvSpPr/>
            <p:nvPr/>
          </p:nvSpPr>
          <p:spPr>
            <a:xfrm>
              <a:off x="1490040" y="0"/>
              <a:ext cx="6503760" cy="1191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5400000"/>
            </a:gradFill>
            <a:ln w="0">
              <a:noFill/>
            </a:ln>
            <a:effectLst>
              <a:outerShdw dist="137587" dir="74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he</a:t>
              </a: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 Standard 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rmal Probability Distribu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894400" y="1323720"/>
              <a:ext cx="3323160" cy="5814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 Distribu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380880" y="1523880"/>
            <a:ext cx="1371240" cy="1218960"/>
            <a:chOff x="380880" y="1523880"/>
            <a:chExt cx="1371240" cy="1218960"/>
          </a:xfrm>
        </p:grpSpPr>
        <p:sp>
          <p:nvSpPr>
            <p:cNvPr id="1232" name=""/>
            <p:cNvSpPr/>
            <p:nvPr/>
          </p:nvSpPr>
          <p:spPr>
            <a:xfrm>
              <a:off x="380880" y="1568880"/>
              <a:ext cx="1281240" cy="117396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5"/>
                  </a:lnTo>
                  <a:lnTo>
                    <a:pt x="192" y="397"/>
                  </a:lnTo>
                  <a:lnTo>
                    <a:pt x="79" y="660"/>
                  </a:lnTo>
                  <a:lnTo>
                    <a:pt x="344" y="499"/>
                  </a:lnTo>
                  <a:lnTo>
                    <a:pt x="567" y="677"/>
                  </a:lnTo>
                  <a:lnTo>
                    <a:pt x="520" y="419"/>
                  </a:lnTo>
                  <a:lnTo>
                    <a:pt x="724" y="254"/>
                  </a:lnTo>
                  <a:lnTo>
                    <a:pt x="449" y="245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70880" y="1523880"/>
              <a:ext cx="1281240" cy="117432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6"/>
                  </a:lnTo>
                  <a:lnTo>
                    <a:pt x="193" y="399"/>
                  </a:lnTo>
                  <a:lnTo>
                    <a:pt x="78" y="660"/>
                  </a:lnTo>
                  <a:lnTo>
                    <a:pt x="344" y="499"/>
                  </a:lnTo>
                  <a:lnTo>
                    <a:pt x="566" y="677"/>
                  </a:lnTo>
                  <a:lnTo>
                    <a:pt x="519" y="419"/>
                  </a:lnTo>
                  <a:lnTo>
                    <a:pt x="724" y="254"/>
                  </a:lnTo>
                  <a:lnTo>
                    <a:pt x="448" y="246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fff14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 txBox="1"/>
            <p:nvPr/>
          </p:nvSpPr>
          <p:spPr>
            <a:xfrm rot="19894800">
              <a:off x="738000" y="1893240"/>
              <a:ext cx="76428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496" dir="9225519" blurRad="0" rotWithShape="0">
                      <a:srgbClr val="b2b2b2">
                        <a:alpha val="50000"/>
                      </a:srgbClr>
                    </a:outerShdw>
                  </a:effectLst>
                  <a:latin typeface="Arial Black"/>
                </a:rPr>
                <a:t>Not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496" dir="9225519" blurRad="0" rotWithShape="0">
                    <a:srgbClr val="b2b2b2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4648320" y="1981080"/>
            <a:ext cx="3047760" cy="2743200"/>
            <a:chOff x="4648320" y="1981080"/>
            <a:chExt cx="3047760" cy="2743200"/>
          </a:xfrm>
        </p:grpSpPr>
        <p:grpSp>
          <p:nvGrpSpPr>
            <p:cNvPr id="1236" name=""/>
            <p:cNvGrpSpPr/>
            <p:nvPr/>
          </p:nvGrpSpPr>
          <p:grpSpPr>
            <a:xfrm>
              <a:off x="4648320" y="1981080"/>
              <a:ext cx="3047760" cy="2743200"/>
              <a:chOff x="4648320" y="1981080"/>
              <a:chExt cx="3047760" cy="2743200"/>
            </a:xfrm>
          </p:grpSpPr>
          <p:sp>
            <p:nvSpPr>
              <p:cNvPr id="1237" name=""/>
              <p:cNvSpPr/>
              <p:nvPr/>
            </p:nvSpPr>
            <p:spPr>
              <a:xfrm>
                <a:off x="4648320" y="1981080"/>
                <a:ext cx="3047760" cy="27432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352840" y="1981080"/>
                <a:ext cx="1656000" cy="764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50000">
                    <a:srgbClr val="fefefe"/>
                  </a:gs>
                  <a:gs pos="100000">
                    <a:srgbClr val="ff3300"/>
                  </a:gs>
                </a:gsLst>
                <a:lin ang="8100000"/>
              </a:gradFill>
              <a:ln w="0">
                <a:noFill/>
              </a:ln>
              <a:effectLst>
                <a:outerShdw dist="117181" dir="2961631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z-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valu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>
              <a:off x="4943880" y="3200400"/>
              <a:ext cx="260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igh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of mea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1676520" y="1981080"/>
            <a:ext cx="2971800" cy="2743200"/>
            <a:chOff x="1676520" y="1981080"/>
            <a:chExt cx="2971800" cy="2743200"/>
          </a:xfrm>
        </p:grpSpPr>
        <p:grpSp>
          <p:nvGrpSpPr>
            <p:cNvPr id="1241" name=""/>
            <p:cNvGrpSpPr/>
            <p:nvPr/>
          </p:nvGrpSpPr>
          <p:grpSpPr>
            <a:xfrm>
              <a:off x="1676520" y="1981080"/>
              <a:ext cx="2971800" cy="2743200"/>
              <a:chOff x="1676520" y="1981080"/>
              <a:chExt cx="2971800" cy="2743200"/>
            </a:xfrm>
          </p:grpSpPr>
          <p:sp>
            <p:nvSpPr>
              <p:cNvPr id="1242" name=""/>
              <p:cNvSpPr/>
              <p:nvPr/>
            </p:nvSpPr>
            <p:spPr>
              <a:xfrm>
                <a:off x="1676520" y="1981080"/>
                <a:ext cx="2971800" cy="27432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437920" y="1981080"/>
                <a:ext cx="1523160" cy="764280"/>
              </a:xfrm>
              <a:prstGeom prst="rect">
                <a:avLst/>
              </a:prstGeom>
              <a:gradFill rotWithShape="0">
                <a:gsLst>
                  <a:gs pos="0">
                    <a:srgbClr val="ff3300"/>
                  </a:gs>
                  <a:gs pos="50000">
                    <a:srgbClr val="fefefe"/>
                  </a:gs>
                  <a:gs pos="100000">
                    <a:srgbClr val="ff3300"/>
                  </a:gs>
                </a:gsLst>
                <a:lin ang="13500000"/>
              </a:gradFill>
              <a:ln w="0">
                <a:noFill/>
              </a:ln>
              <a:effectLst>
                <a:outerShdw dist="125751" dir="81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i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 z-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valu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1895760" y="3200400"/>
              <a:ext cx="235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eft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f mea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1486080" y="1981080"/>
            <a:ext cx="6819840" cy="3355560"/>
            <a:chOff x="1486080" y="1981080"/>
            <a:chExt cx="6819840" cy="3355560"/>
          </a:xfrm>
        </p:grpSpPr>
        <p:sp>
          <p:nvSpPr>
            <p:cNvPr id="1246" name=""/>
            <p:cNvSpPr/>
            <p:nvPr/>
          </p:nvSpPr>
          <p:spPr>
            <a:xfrm>
              <a:off x="1676520" y="4724280"/>
              <a:ext cx="6095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676520" y="47242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895840" y="47242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114800" y="47242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334120" y="47242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53440" y="47242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772400" y="47242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486080" y="4876920"/>
              <a:ext cx="68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20            40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60           80           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48320" y="1981080"/>
              <a:ext cx="0" cy="2743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2971800" y="4707000"/>
              <a:ext cx="61920" cy="172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3033720" y="4675320"/>
              <a:ext cx="61920" cy="31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3095640" y="4657320"/>
              <a:ext cx="47880" cy="176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143520" y="4626000"/>
              <a:ext cx="61920" cy="31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3205440" y="4574880"/>
              <a:ext cx="4752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252960" y="4525920"/>
              <a:ext cx="60120" cy="493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3313080" y="4476240"/>
              <a:ext cx="49320" cy="49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3362400" y="4409640"/>
              <a:ext cx="6048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3422880" y="4344480"/>
              <a:ext cx="63360" cy="65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486240" y="4260600"/>
              <a:ext cx="46080" cy="838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532320" y="4162320"/>
              <a:ext cx="63360" cy="9864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595680" y="4062240"/>
              <a:ext cx="46080" cy="100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641760" y="3946680"/>
              <a:ext cx="61920" cy="1155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3703680" y="3814920"/>
              <a:ext cx="46080" cy="131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3749760" y="3683160"/>
              <a:ext cx="63360" cy="131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3813120" y="3549240"/>
              <a:ext cx="63720" cy="133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876840" y="3402000"/>
              <a:ext cx="46080" cy="147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922920" y="3236760"/>
              <a:ext cx="63360" cy="1652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3986280" y="3089160"/>
              <a:ext cx="46080" cy="147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032360" y="2940120"/>
              <a:ext cx="61920" cy="14904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4094280" y="2790360"/>
              <a:ext cx="46080" cy="149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4140360" y="2643120"/>
              <a:ext cx="63360" cy="147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4203720" y="2509920"/>
              <a:ext cx="61920" cy="133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4265640" y="2378160"/>
              <a:ext cx="47880" cy="131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313520" y="2262240"/>
              <a:ext cx="61920" cy="1159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375440" y="2162160"/>
              <a:ext cx="47520" cy="1000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422960" y="209556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83080" y="2030400"/>
              <a:ext cx="47880" cy="651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V="1">
              <a:off x="4530960" y="1996560"/>
              <a:ext cx="61920" cy="33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4592880" y="1981080"/>
              <a:ext cx="63360" cy="158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56240" y="1981080"/>
              <a:ext cx="47520" cy="158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703760" y="1996920"/>
              <a:ext cx="61920" cy="334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65680" y="2030400"/>
              <a:ext cx="47880" cy="651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813560" y="2095560"/>
              <a:ext cx="60120" cy="666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3680" y="2162160"/>
              <a:ext cx="47520" cy="1000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21200" y="2262240"/>
              <a:ext cx="61920" cy="1159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83120" y="2378160"/>
              <a:ext cx="47880" cy="131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031000" y="2509920"/>
              <a:ext cx="61920" cy="133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092920" y="2643120"/>
              <a:ext cx="63360" cy="147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156280" y="2790720"/>
              <a:ext cx="46080" cy="149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202360" y="2940120"/>
              <a:ext cx="61920" cy="14904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64280" y="3089160"/>
              <a:ext cx="46080" cy="147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310360" y="3236760"/>
              <a:ext cx="63360" cy="1652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373720" y="3402000"/>
              <a:ext cx="46080" cy="147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419800" y="3549600"/>
              <a:ext cx="63720" cy="133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483520" y="3683160"/>
              <a:ext cx="63360" cy="131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546880" y="3814920"/>
              <a:ext cx="46080" cy="131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92960" y="3946680"/>
              <a:ext cx="61920" cy="1155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654880" y="4062240"/>
              <a:ext cx="46080" cy="100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00960" y="4162320"/>
              <a:ext cx="63360" cy="9864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64320" y="4260960"/>
              <a:ext cx="46080" cy="838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10400" y="4344840"/>
              <a:ext cx="63360" cy="65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873760" y="4410000"/>
              <a:ext cx="6048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934240" y="4476600"/>
              <a:ext cx="49320" cy="49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983560" y="4525920"/>
              <a:ext cx="60120" cy="493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043680" y="4575240"/>
              <a:ext cx="4752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091200" y="4626000"/>
              <a:ext cx="61920" cy="31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153120" y="4657680"/>
              <a:ext cx="47880" cy="176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201000" y="4675320"/>
              <a:ext cx="61920" cy="31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62920" y="4707000"/>
              <a:ext cx="61920" cy="172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648320" y="4724280"/>
              <a:ext cx="0" cy="228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4648320" y="1981080"/>
            <a:ext cx="0" cy="27432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380880" y="4648320"/>
            <a:ext cx="16002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Recall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14280" y="5638680"/>
            <a:ext cx="8601120" cy="102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of a standard normal distribution i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iation 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7620120" y="6172200"/>
            <a:ext cx="1247400" cy="533520"/>
            <a:chOff x="7620120" y="6172200"/>
            <a:chExt cx="1247400" cy="533520"/>
          </a:xfrm>
        </p:grpSpPr>
        <p:sp>
          <p:nvSpPr>
            <p:cNvPr id="1320" name=""/>
            <p:cNvSpPr txBox="1"/>
            <p:nvPr/>
          </p:nvSpPr>
          <p:spPr>
            <a:xfrm>
              <a:off x="7620120" y="6172200"/>
              <a:ext cx="303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21" name=""/>
            <p:cNvSpPr txBox="1"/>
            <p:nvPr/>
          </p:nvSpPr>
          <p:spPr>
            <a:xfrm>
              <a:off x="7940160" y="6300360"/>
              <a:ext cx="927360" cy="29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322" name=""/>
          <p:cNvSpPr/>
          <p:nvPr/>
        </p:nvSpPr>
        <p:spPr>
          <a:xfrm>
            <a:off x="4495680" y="51814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286000" y="5195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429000" y="5486400"/>
            <a:ext cx="91440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5A79-8342-4156-9386-FD601DCC611C}" type="slidenum">
              <a:t>26</a:t>
            </a:fld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4648320" y="2133720"/>
            <a:ext cx="685800" cy="2209680"/>
          </a:xfrm>
          <a:custGeom>
            <a:avLst/>
            <a:gdLst/>
            <a:ahLst/>
            <a:rect l="l" t="t" r="r" b="b"/>
            <a:pathLst>
              <a:path w="453" h="1381">
                <a:moveTo>
                  <a:pt x="4" y="1348"/>
                </a:moveTo>
                <a:cubicBezTo>
                  <a:pt x="41" y="1360"/>
                  <a:pt x="10" y="1272"/>
                  <a:pt x="10" y="1240"/>
                </a:cubicBezTo>
                <a:cubicBezTo>
                  <a:pt x="8" y="832"/>
                  <a:pt x="10" y="424"/>
                  <a:pt x="10" y="16"/>
                </a:cubicBezTo>
                <a:cubicBezTo>
                  <a:pt x="8" y="22"/>
                  <a:pt x="0" y="30"/>
                  <a:pt x="4" y="34"/>
                </a:cubicBezTo>
                <a:cubicBezTo>
                  <a:pt x="12" y="42"/>
                  <a:pt x="40" y="0"/>
                  <a:pt x="40" y="46"/>
                </a:cubicBezTo>
                <a:cubicBezTo>
                  <a:pt x="38" y="36"/>
                  <a:pt x="34" y="26"/>
                  <a:pt x="34" y="16"/>
                </a:cubicBezTo>
                <a:cubicBezTo>
                  <a:pt x="34" y="10"/>
                  <a:pt x="34" y="33"/>
                  <a:pt x="40" y="34"/>
                </a:cubicBezTo>
                <a:cubicBezTo>
                  <a:pt x="53" y="36"/>
                  <a:pt x="76" y="22"/>
                  <a:pt x="76" y="22"/>
                </a:cubicBezTo>
                <a:cubicBezTo>
                  <a:pt x="77" y="22"/>
                  <a:pt x="118" y="29"/>
                  <a:pt x="124" y="34"/>
                </a:cubicBezTo>
                <a:cubicBezTo>
                  <a:pt x="163" y="65"/>
                  <a:pt x="109" y="43"/>
                  <a:pt x="154" y="58"/>
                </a:cubicBezTo>
                <a:cubicBezTo>
                  <a:pt x="163" y="84"/>
                  <a:pt x="174" y="109"/>
                  <a:pt x="196" y="124"/>
                </a:cubicBezTo>
                <a:cubicBezTo>
                  <a:pt x="204" y="136"/>
                  <a:pt x="217" y="146"/>
                  <a:pt x="220" y="160"/>
                </a:cubicBezTo>
                <a:cubicBezTo>
                  <a:pt x="221" y="166"/>
                  <a:pt x="228" y="195"/>
                  <a:pt x="232" y="202"/>
                </a:cubicBezTo>
                <a:cubicBezTo>
                  <a:pt x="247" y="230"/>
                  <a:pt x="282" y="261"/>
                  <a:pt x="292" y="292"/>
                </a:cubicBezTo>
                <a:cubicBezTo>
                  <a:pt x="296" y="304"/>
                  <a:pt x="297" y="317"/>
                  <a:pt x="304" y="328"/>
                </a:cubicBezTo>
                <a:cubicBezTo>
                  <a:pt x="308" y="334"/>
                  <a:pt x="313" y="339"/>
                  <a:pt x="316" y="346"/>
                </a:cubicBezTo>
                <a:cubicBezTo>
                  <a:pt x="331" y="381"/>
                  <a:pt x="323" y="393"/>
                  <a:pt x="352" y="412"/>
                </a:cubicBezTo>
                <a:cubicBezTo>
                  <a:pt x="360" y="435"/>
                  <a:pt x="359" y="462"/>
                  <a:pt x="370" y="484"/>
                </a:cubicBezTo>
                <a:cubicBezTo>
                  <a:pt x="381" y="505"/>
                  <a:pt x="402" y="516"/>
                  <a:pt x="418" y="532"/>
                </a:cubicBezTo>
                <a:cubicBezTo>
                  <a:pt x="432" y="575"/>
                  <a:pt x="441" y="561"/>
                  <a:pt x="412" y="580"/>
                </a:cubicBezTo>
                <a:cubicBezTo>
                  <a:pt x="411" y="580"/>
                  <a:pt x="376" y="562"/>
                  <a:pt x="388" y="550"/>
                </a:cubicBezTo>
                <a:cubicBezTo>
                  <a:pt x="393" y="545"/>
                  <a:pt x="423" y="568"/>
                  <a:pt x="424" y="568"/>
                </a:cubicBezTo>
                <a:cubicBezTo>
                  <a:pt x="422" y="576"/>
                  <a:pt x="417" y="584"/>
                  <a:pt x="418" y="592"/>
                </a:cubicBezTo>
                <a:cubicBezTo>
                  <a:pt x="419" y="605"/>
                  <a:pt x="430" y="628"/>
                  <a:pt x="430" y="628"/>
                </a:cubicBezTo>
                <a:cubicBezTo>
                  <a:pt x="414" y="652"/>
                  <a:pt x="407" y="657"/>
                  <a:pt x="424" y="682"/>
                </a:cubicBezTo>
                <a:cubicBezTo>
                  <a:pt x="437" y="749"/>
                  <a:pt x="453" y="753"/>
                  <a:pt x="418" y="730"/>
                </a:cubicBezTo>
                <a:cubicBezTo>
                  <a:pt x="407" y="764"/>
                  <a:pt x="417" y="798"/>
                  <a:pt x="424" y="832"/>
                </a:cubicBezTo>
                <a:cubicBezTo>
                  <a:pt x="426" y="892"/>
                  <a:pt x="421" y="979"/>
                  <a:pt x="442" y="1042"/>
                </a:cubicBezTo>
                <a:cubicBezTo>
                  <a:pt x="440" y="1052"/>
                  <a:pt x="439" y="1062"/>
                  <a:pt x="436" y="1072"/>
                </a:cubicBezTo>
                <a:cubicBezTo>
                  <a:pt x="433" y="1084"/>
                  <a:pt x="424" y="1108"/>
                  <a:pt x="424" y="1108"/>
                </a:cubicBezTo>
                <a:cubicBezTo>
                  <a:pt x="451" y="1188"/>
                  <a:pt x="434" y="1131"/>
                  <a:pt x="424" y="1324"/>
                </a:cubicBezTo>
                <a:cubicBezTo>
                  <a:pt x="423" y="1334"/>
                  <a:pt x="425" y="1347"/>
                  <a:pt x="418" y="1354"/>
                </a:cubicBezTo>
                <a:cubicBezTo>
                  <a:pt x="409" y="1363"/>
                  <a:pt x="382" y="1366"/>
                  <a:pt x="382" y="1366"/>
                </a:cubicBezTo>
                <a:cubicBezTo>
                  <a:pt x="355" y="1357"/>
                  <a:pt x="321" y="1373"/>
                  <a:pt x="292" y="1378"/>
                </a:cubicBezTo>
                <a:cubicBezTo>
                  <a:pt x="280" y="1376"/>
                  <a:pt x="268" y="1375"/>
                  <a:pt x="256" y="1372"/>
                </a:cubicBezTo>
                <a:cubicBezTo>
                  <a:pt x="250" y="1371"/>
                  <a:pt x="244" y="1365"/>
                  <a:pt x="238" y="1366"/>
                </a:cubicBezTo>
                <a:cubicBezTo>
                  <a:pt x="225" y="1367"/>
                  <a:pt x="202" y="1378"/>
                  <a:pt x="202" y="1378"/>
                </a:cubicBezTo>
                <a:cubicBezTo>
                  <a:pt x="166" y="1369"/>
                  <a:pt x="148" y="1366"/>
                  <a:pt x="112" y="1378"/>
                </a:cubicBezTo>
                <a:cubicBezTo>
                  <a:pt x="95" y="1376"/>
                  <a:pt x="24" y="1381"/>
                  <a:pt x="40" y="1348"/>
                </a:cubicBez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90040" y="47520"/>
            <a:ext cx="650376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tandar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457200" y="1295280"/>
            <a:ext cx="1704600" cy="762120"/>
            <a:chOff x="457200" y="1295280"/>
            <a:chExt cx="1704600" cy="762120"/>
          </a:xfrm>
        </p:grpSpPr>
        <p:sp>
          <p:nvSpPr>
            <p:cNvPr id="1328" name=""/>
            <p:cNvSpPr txBox="1"/>
            <p:nvPr/>
          </p:nvSpPr>
          <p:spPr>
            <a:xfrm>
              <a:off x="457200" y="1295280"/>
              <a:ext cx="4147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29" name=""/>
            <p:cNvSpPr txBox="1"/>
            <p:nvPr/>
          </p:nvSpPr>
          <p:spPr>
            <a:xfrm>
              <a:off x="894600" y="1478160"/>
              <a:ext cx="1267200" cy="41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330" name=""/>
          <p:cNvSpPr/>
          <p:nvPr/>
        </p:nvSpPr>
        <p:spPr>
          <a:xfrm>
            <a:off x="2433600" y="1447920"/>
            <a:ext cx="44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50 &lt; 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&lt; 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1486080" y="2133720"/>
            <a:ext cx="6819840" cy="2787120"/>
            <a:chOff x="1486080" y="2133720"/>
            <a:chExt cx="6819840" cy="2787120"/>
          </a:xfrm>
        </p:grpSpPr>
        <p:sp>
          <p:nvSpPr>
            <p:cNvPr id="1332" name=""/>
            <p:cNvSpPr/>
            <p:nvPr/>
          </p:nvSpPr>
          <p:spPr>
            <a:xfrm>
              <a:off x="1676520" y="4338720"/>
              <a:ext cx="6095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676520" y="433872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895480" y="433872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14800" y="433872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34120" y="433872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53080" y="433872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772400" y="433872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486080" y="4461120"/>
              <a:ext cx="68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20            40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60           80           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48320" y="2133720"/>
              <a:ext cx="0" cy="2205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971800" y="4324320"/>
              <a:ext cx="6192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3033720" y="4298760"/>
              <a:ext cx="61920" cy="25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095640" y="4284720"/>
              <a:ext cx="4752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43160" y="425952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3205080" y="4219920"/>
              <a:ext cx="47880" cy="39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252960" y="4179960"/>
              <a:ext cx="6012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3313080" y="4140360"/>
              <a:ext cx="49320" cy="39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3362400" y="4086360"/>
              <a:ext cx="60120" cy="54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3422520" y="4033800"/>
              <a:ext cx="6372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3486240" y="3965760"/>
              <a:ext cx="46080" cy="68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532320" y="388800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3595680" y="3806640"/>
              <a:ext cx="46080" cy="81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641760" y="3713400"/>
              <a:ext cx="61920" cy="936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3703680" y="3608280"/>
              <a:ext cx="4608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749760" y="3502080"/>
              <a:ext cx="63360" cy="106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V="1">
              <a:off x="3813120" y="3394440"/>
              <a:ext cx="63720" cy="108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876840" y="3276360"/>
              <a:ext cx="45720" cy="117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922560" y="3143520"/>
              <a:ext cx="63720" cy="13320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3986280" y="3024000"/>
              <a:ext cx="46080" cy="119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32360" y="2905200"/>
              <a:ext cx="61920" cy="11916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4094280" y="2784240"/>
              <a:ext cx="46080" cy="120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4140360" y="2665800"/>
              <a:ext cx="63360" cy="118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4203720" y="2559240"/>
              <a:ext cx="61920" cy="106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4265640" y="2452680"/>
              <a:ext cx="47520" cy="106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313160" y="2359440"/>
              <a:ext cx="61920" cy="936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375080" y="2279880"/>
              <a:ext cx="47520" cy="795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422600" y="222588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483080" y="2173680"/>
              <a:ext cx="47520" cy="522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4530600" y="2146320"/>
              <a:ext cx="61920" cy="27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4592520" y="2133720"/>
              <a:ext cx="6372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56240" y="2133720"/>
              <a:ext cx="4752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03760" y="2146680"/>
              <a:ext cx="61920" cy="270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765680" y="2173680"/>
              <a:ext cx="47520" cy="522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813200" y="222588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873680" y="2279880"/>
              <a:ext cx="47520" cy="795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921200" y="2359440"/>
              <a:ext cx="61920" cy="936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983120" y="2453040"/>
              <a:ext cx="47520" cy="106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30640" y="2559240"/>
              <a:ext cx="61920" cy="106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92560" y="2665800"/>
              <a:ext cx="63720" cy="118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156280" y="2784600"/>
              <a:ext cx="46080" cy="120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202360" y="2905200"/>
              <a:ext cx="61920" cy="11916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264280" y="3024360"/>
              <a:ext cx="46080" cy="119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310360" y="3143520"/>
              <a:ext cx="63360" cy="13320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373720" y="3276720"/>
              <a:ext cx="46080" cy="117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19800" y="3394440"/>
              <a:ext cx="63360" cy="108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83160" y="3502440"/>
              <a:ext cx="63720" cy="106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46880" y="3608640"/>
              <a:ext cx="4572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92600" y="3713400"/>
              <a:ext cx="61920" cy="936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654520" y="3807000"/>
              <a:ext cx="46080" cy="81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700600" y="3888000"/>
              <a:ext cx="63720" cy="7776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64320" y="3965760"/>
              <a:ext cx="46080" cy="68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10400" y="4034160"/>
              <a:ext cx="6336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873760" y="4086360"/>
              <a:ext cx="60480" cy="54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34240" y="4140360"/>
              <a:ext cx="48960" cy="39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983200" y="4179960"/>
              <a:ext cx="6048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043680" y="4219920"/>
              <a:ext cx="47520" cy="39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091200" y="425952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53120" y="4285080"/>
              <a:ext cx="4752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00640" y="4299120"/>
              <a:ext cx="61920" cy="25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62560" y="4324680"/>
              <a:ext cx="6192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648320" y="433872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457200" y="2209680"/>
            <a:ext cx="2362320" cy="1062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50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648320" y="2209680"/>
            <a:ext cx="0" cy="221004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34120" y="3200400"/>
            <a:ext cx="0" cy="11430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562720" y="2133720"/>
            <a:ext cx="3276360" cy="1008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ferring each value into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4956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02920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666880" y="5257800"/>
            <a:ext cx="3886200" cy="592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60-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/8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1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445400" y="59436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50 &lt; 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&lt; 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035240" y="5715000"/>
            <a:ext cx="30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= 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0 &lt; 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&lt; 1.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7315200" y="6126120"/>
            <a:ext cx="1752480" cy="581400"/>
            <a:chOff x="7315200" y="6126120"/>
            <a:chExt cx="1752480" cy="581400"/>
          </a:xfrm>
        </p:grpSpPr>
        <p:sp>
          <p:nvSpPr>
            <p:cNvPr id="1412" name=""/>
            <p:cNvSpPr/>
            <p:nvPr/>
          </p:nvSpPr>
          <p:spPr>
            <a:xfrm>
              <a:off x="7315200" y="6431040"/>
              <a:ext cx="175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550280" y="6126120"/>
              <a:ext cx="1212840" cy="581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91658" dir="878234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z-</a:t>
              </a: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6476400" y="3276720"/>
            <a:ext cx="2329560" cy="1188000"/>
            <a:chOff x="6476400" y="3276720"/>
            <a:chExt cx="2329560" cy="1188000"/>
          </a:xfrm>
        </p:grpSpPr>
        <p:sp>
          <p:nvSpPr>
            <p:cNvPr id="1415" name=""/>
            <p:cNvSpPr/>
            <p:nvPr/>
          </p:nvSpPr>
          <p:spPr>
            <a:xfrm>
              <a:off x="7405920" y="3898800"/>
              <a:ext cx="14000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6476400" y="3276720"/>
              <a:ext cx="2315520" cy="1188000"/>
              <a:chOff x="6476400" y="3276720"/>
              <a:chExt cx="2315520" cy="1188000"/>
            </a:xfrm>
          </p:grpSpPr>
          <p:sp>
            <p:nvSpPr>
              <p:cNvPr id="1417" name=""/>
              <p:cNvSpPr/>
              <p:nvPr/>
            </p:nvSpPr>
            <p:spPr>
              <a:xfrm>
                <a:off x="7884000" y="3794040"/>
                <a:ext cx="3376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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936560" y="3276720"/>
                <a:ext cx="8553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</a:t>
                </a:r>
                <a:r>
                  <a:rPr b="1" i="1" lang="en-US" sz="44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µ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903720" y="3551040"/>
                <a:ext cx="363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494480" y="3382920"/>
                <a:ext cx="457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3600" spc="-1" strike="noStrike">
                    <a:solidFill>
                      <a:srgbClr val="008000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476400" y="3357360"/>
                <a:ext cx="23832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z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949A-BDED-4C76-A34A-1B6EE8CFDB77}" type="slidenum">
              <a:t>27</a:t>
            </a:fld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/>
          <p:nvPr/>
        </p:nvSpPr>
        <p:spPr>
          <a:xfrm>
            <a:off x="2446920" y="380880"/>
            <a:ext cx="424980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Distribution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04920" y="1641600"/>
          <a:ext cx="86868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4160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5" name=""/>
          <p:cNvSpPr/>
          <p:nvPr/>
        </p:nvSpPr>
        <p:spPr>
          <a:xfrm>
            <a:off x="304920" y="990720"/>
            <a:ext cx="8610480" cy="642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d the ar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ore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ore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304920" y="1641600"/>
            <a:ext cx="6030000" cy="4800600"/>
            <a:chOff x="304920" y="1641600"/>
            <a:chExt cx="6030000" cy="4800600"/>
          </a:xfrm>
        </p:grpSpPr>
        <p:graphicFrame>
          <p:nvGraphicFramePr>
            <p:cNvPr id="1427" name=""/>
            <p:cNvGraphicFramePr/>
            <p:nvPr/>
          </p:nvGraphicFramePr>
          <p:xfrm>
            <a:off x="304920" y="1641600"/>
            <a:ext cx="914400" cy="48006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4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641600"/>
                      <a:ext cx="914400" cy="4800600"/>
                    </a:xfrm>
                    <a:prstGeom prst="rect">
                      <a:avLst/>
                    </a:prstGeom>
                    <a:ln w="9360">
                      <a:solidFill>
                        <a:srgbClr val="ff505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29" name=""/>
            <p:cNvSpPr/>
            <p:nvPr/>
          </p:nvSpPr>
          <p:spPr>
            <a:xfrm>
              <a:off x="1219680" y="3851280"/>
              <a:ext cx="5115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vides the </a:t>
              </a: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z-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core</a:t>
              </a: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 to 1 decima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p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304920" y="1641600"/>
            <a:ext cx="8534160" cy="1145520"/>
            <a:chOff x="304920" y="1641600"/>
            <a:chExt cx="8534160" cy="1145520"/>
          </a:xfrm>
        </p:grpSpPr>
        <p:graphicFrame>
          <p:nvGraphicFramePr>
            <p:cNvPr id="1431" name=""/>
            <p:cNvGraphicFramePr/>
            <p:nvPr/>
          </p:nvGraphicFramePr>
          <p:xfrm>
            <a:off x="304920" y="1641600"/>
            <a:ext cx="8534160" cy="3808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4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1641600"/>
                      <a:ext cx="8534160" cy="38088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33" name=""/>
            <p:cNvSpPr/>
            <p:nvPr/>
          </p:nvSpPr>
          <p:spPr>
            <a:xfrm>
              <a:off x="1220760" y="2327400"/>
              <a:ext cx="4554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vides the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econd decima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p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380880" y="5680080"/>
            <a:ext cx="838440" cy="38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1.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019920" y="1641600"/>
            <a:ext cx="838080" cy="38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0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219320" y="5908680"/>
            <a:ext cx="487656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553080" y="2022480"/>
            <a:ext cx="0" cy="3809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095880" y="5756400"/>
            <a:ext cx="1067040" cy="38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0.39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580520" y="6324480"/>
            <a:ext cx="1028160" cy="459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efefe"/>
              </a:gs>
              <a:gs pos="100000">
                <a:srgbClr val="ff5050"/>
              </a:gs>
            </a:gsLst>
            <a:lin ang="5400000"/>
          </a:gradFill>
          <a:ln w="0">
            <a:noFill/>
          </a:ln>
          <a:effectLst>
            <a:outerShdw dist="64600" dir="101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DA65-A84B-40BD-869E-E7A4FFD1FC64}" type="slidenum">
              <a:t>28</a:t>
            </a:fld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0" name=""/>
          <p:cNvGrpSpPr/>
          <p:nvPr/>
        </p:nvGrpSpPr>
        <p:grpSpPr>
          <a:xfrm>
            <a:off x="1490040" y="47520"/>
            <a:ext cx="6503760" cy="1905480"/>
            <a:chOff x="1490040" y="47520"/>
            <a:chExt cx="6503760" cy="1905480"/>
          </a:xfrm>
        </p:grpSpPr>
        <p:sp>
          <p:nvSpPr>
            <p:cNvPr id="1441" name=""/>
            <p:cNvSpPr/>
            <p:nvPr/>
          </p:nvSpPr>
          <p:spPr>
            <a:xfrm>
              <a:off x="1490040" y="47520"/>
              <a:ext cx="6503760" cy="1191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5400000"/>
            </a:gradFill>
            <a:ln w="0">
              <a:noFill/>
            </a:ln>
            <a:effectLst>
              <a:outerShdw dist="137587" dir="74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he</a:t>
              </a: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 Standard 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rmal Probability Distribu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894400" y="1371600"/>
              <a:ext cx="3323160" cy="5814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 Distribu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44197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0292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572000" y="2438280"/>
            <a:ext cx="685800" cy="2210040"/>
          </a:xfrm>
          <a:custGeom>
            <a:avLst/>
            <a:gdLst/>
            <a:ahLst/>
            <a:rect l="l" t="t" r="r" b="b"/>
            <a:pathLst>
              <a:path w="453" h="1381">
                <a:moveTo>
                  <a:pt x="4" y="1348"/>
                </a:moveTo>
                <a:cubicBezTo>
                  <a:pt x="41" y="1360"/>
                  <a:pt x="10" y="1272"/>
                  <a:pt x="10" y="1240"/>
                </a:cubicBezTo>
                <a:cubicBezTo>
                  <a:pt x="8" y="832"/>
                  <a:pt x="10" y="424"/>
                  <a:pt x="10" y="16"/>
                </a:cubicBezTo>
                <a:cubicBezTo>
                  <a:pt x="8" y="22"/>
                  <a:pt x="0" y="30"/>
                  <a:pt x="4" y="34"/>
                </a:cubicBezTo>
                <a:cubicBezTo>
                  <a:pt x="12" y="42"/>
                  <a:pt x="40" y="0"/>
                  <a:pt x="40" y="46"/>
                </a:cubicBezTo>
                <a:cubicBezTo>
                  <a:pt x="38" y="36"/>
                  <a:pt x="34" y="26"/>
                  <a:pt x="34" y="16"/>
                </a:cubicBezTo>
                <a:cubicBezTo>
                  <a:pt x="34" y="10"/>
                  <a:pt x="34" y="33"/>
                  <a:pt x="40" y="34"/>
                </a:cubicBezTo>
                <a:cubicBezTo>
                  <a:pt x="53" y="36"/>
                  <a:pt x="76" y="22"/>
                  <a:pt x="76" y="22"/>
                </a:cubicBezTo>
                <a:cubicBezTo>
                  <a:pt x="77" y="22"/>
                  <a:pt x="118" y="29"/>
                  <a:pt x="124" y="34"/>
                </a:cubicBezTo>
                <a:cubicBezTo>
                  <a:pt x="163" y="65"/>
                  <a:pt x="109" y="43"/>
                  <a:pt x="154" y="58"/>
                </a:cubicBezTo>
                <a:cubicBezTo>
                  <a:pt x="163" y="84"/>
                  <a:pt x="174" y="109"/>
                  <a:pt x="196" y="124"/>
                </a:cubicBezTo>
                <a:cubicBezTo>
                  <a:pt x="204" y="136"/>
                  <a:pt x="217" y="146"/>
                  <a:pt x="220" y="160"/>
                </a:cubicBezTo>
                <a:cubicBezTo>
                  <a:pt x="221" y="166"/>
                  <a:pt x="228" y="195"/>
                  <a:pt x="232" y="202"/>
                </a:cubicBezTo>
                <a:cubicBezTo>
                  <a:pt x="247" y="230"/>
                  <a:pt x="282" y="261"/>
                  <a:pt x="292" y="292"/>
                </a:cubicBezTo>
                <a:cubicBezTo>
                  <a:pt x="296" y="304"/>
                  <a:pt x="297" y="317"/>
                  <a:pt x="304" y="328"/>
                </a:cubicBezTo>
                <a:cubicBezTo>
                  <a:pt x="308" y="334"/>
                  <a:pt x="313" y="339"/>
                  <a:pt x="316" y="346"/>
                </a:cubicBezTo>
                <a:cubicBezTo>
                  <a:pt x="331" y="381"/>
                  <a:pt x="323" y="393"/>
                  <a:pt x="352" y="412"/>
                </a:cubicBezTo>
                <a:cubicBezTo>
                  <a:pt x="360" y="435"/>
                  <a:pt x="359" y="462"/>
                  <a:pt x="370" y="484"/>
                </a:cubicBezTo>
                <a:cubicBezTo>
                  <a:pt x="381" y="505"/>
                  <a:pt x="402" y="516"/>
                  <a:pt x="418" y="532"/>
                </a:cubicBezTo>
                <a:cubicBezTo>
                  <a:pt x="432" y="575"/>
                  <a:pt x="441" y="561"/>
                  <a:pt x="412" y="580"/>
                </a:cubicBezTo>
                <a:cubicBezTo>
                  <a:pt x="411" y="580"/>
                  <a:pt x="376" y="562"/>
                  <a:pt x="388" y="550"/>
                </a:cubicBezTo>
                <a:cubicBezTo>
                  <a:pt x="393" y="545"/>
                  <a:pt x="423" y="568"/>
                  <a:pt x="424" y="568"/>
                </a:cubicBezTo>
                <a:cubicBezTo>
                  <a:pt x="422" y="576"/>
                  <a:pt x="417" y="584"/>
                  <a:pt x="418" y="592"/>
                </a:cubicBezTo>
                <a:cubicBezTo>
                  <a:pt x="419" y="605"/>
                  <a:pt x="430" y="628"/>
                  <a:pt x="430" y="628"/>
                </a:cubicBezTo>
                <a:cubicBezTo>
                  <a:pt x="414" y="652"/>
                  <a:pt x="407" y="657"/>
                  <a:pt x="424" y="682"/>
                </a:cubicBezTo>
                <a:cubicBezTo>
                  <a:pt x="437" y="749"/>
                  <a:pt x="453" y="753"/>
                  <a:pt x="418" y="730"/>
                </a:cubicBezTo>
                <a:cubicBezTo>
                  <a:pt x="407" y="764"/>
                  <a:pt x="417" y="798"/>
                  <a:pt x="424" y="832"/>
                </a:cubicBezTo>
                <a:cubicBezTo>
                  <a:pt x="426" y="892"/>
                  <a:pt x="421" y="979"/>
                  <a:pt x="442" y="1042"/>
                </a:cubicBezTo>
                <a:cubicBezTo>
                  <a:pt x="440" y="1052"/>
                  <a:pt x="439" y="1062"/>
                  <a:pt x="436" y="1072"/>
                </a:cubicBezTo>
                <a:cubicBezTo>
                  <a:pt x="433" y="1084"/>
                  <a:pt x="424" y="1108"/>
                  <a:pt x="424" y="1108"/>
                </a:cubicBezTo>
                <a:cubicBezTo>
                  <a:pt x="451" y="1188"/>
                  <a:pt x="434" y="1131"/>
                  <a:pt x="424" y="1324"/>
                </a:cubicBezTo>
                <a:cubicBezTo>
                  <a:pt x="423" y="1334"/>
                  <a:pt x="425" y="1347"/>
                  <a:pt x="418" y="1354"/>
                </a:cubicBezTo>
                <a:cubicBezTo>
                  <a:pt x="409" y="1363"/>
                  <a:pt x="382" y="1366"/>
                  <a:pt x="382" y="1366"/>
                </a:cubicBezTo>
                <a:cubicBezTo>
                  <a:pt x="355" y="1357"/>
                  <a:pt x="321" y="1373"/>
                  <a:pt x="292" y="1378"/>
                </a:cubicBezTo>
                <a:cubicBezTo>
                  <a:pt x="280" y="1376"/>
                  <a:pt x="268" y="1375"/>
                  <a:pt x="256" y="1372"/>
                </a:cubicBezTo>
                <a:cubicBezTo>
                  <a:pt x="250" y="1371"/>
                  <a:pt x="244" y="1365"/>
                  <a:pt x="238" y="1366"/>
                </a:cubicBezTo>
                <a:cubicBezTo>
                  <a:pt x="225" y="1367"/>
                  <a:pt x="202" y="1378"/>
                  <a:pt x="202" y="1378"/>
                </a:cubicBezTo>
                <a:cubicBezTo>
                  <a:pt x="166" y="1369"/>
                  <a:pt x="148" y="1366"/>
                  <a:pt x="112" y="1378"/>
                </a:cubicBezTo>
                <a:cubicBezTo>
                  <a:pt x="95" y="1376"/>
                  <a:pt x="24" y="1381"/>
                  <a:pt x="40" y="1348"/>
                </a:cubicBez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1447920" y="2438280"/>
            <a:ext cx="6819840" cy="2787120"/>
            <a:chOff x="1447920" y="2438280"/>
            <a:chExt cx="6819840" cy="2787120"/>
          </a:xfrm>
        </p:grpSpPr>
        <p:sp>
          <p:nvSpPr>
            <p:cNvPr id="1447" name=""/>
            <p:cNvSpPr/>
            <p:nvPr/>
          </p:nvSpPr>
          <p:spPr>
            <a:xfrm>
              <a:off x="1638360" y="4643280"/>
              <a:ext cx="6095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638360" y="464328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857320" y="464328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76640" y="464328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295960" y="464328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514920" y="464328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734240" y="464328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447920" y="4765680"/>
              <a:ext cx="68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20            40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60           80           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10160" y="2438280"/>
              <a:ext cx="0" cy="2205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2933640" y="4628880"/>
              <a:ext cx="6192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2995560" y="4603320"/>
              <a:ext cx="61920" cy="25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3057480" y="4589280"/>
              <a:ext cx="4752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105000" y="456408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3166920" y="4524480"/>
              <a:ext cx="47880" cy="39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14800" y="4484520"/>
              <a:ext cx="6012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3274920" y="4444920"/>
              <a:ext cx="49320" cy="39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3324240" y="4390920"/>
              <a:ext cx="60120" cy="54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3384360" y="4338360"/>
              <a:ext cx="6372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3448080" y="4270320"/>
              <a:ext cx="46080" cy="68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494160" y="4192560"/>
              <a:ext cx="63360" cy="7776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3557520" y="4111200"/>
              <a:ext cx="46080" cy="81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603600" y="4017960"/>
              <a:ext cx="61920" cy="936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3665520" y="3912840"/>
              <a:ext cx="4608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3711600" y="3806640"/>
              <a:ext cx="63360" cy="106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3774960" y="3699000"/>
              <a:ext cx="63720" cy="108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3838680" y="3580920"/>
              <a:ext cx="45720" cy="117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884400" y="3448080"/>
              <a:ext cx="63720" cy="13320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3948120" y="3328560"/>
              <a:ext cx="46080" cy="119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994200" y="3209760"/>
              <a:ext cx="61920" cy="11916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4056120" y="3088800"/>
              <a:ext cx="46080" cy="120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4102200" y="2970360"/>
              <a:ext cx="63360" cy="118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4165560" y="2863800"/>
              <a:ext cx="61920" cy="106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4227480" y="2757240"/>
              <a:ext cx="47520" cy="106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275000" y="2664000"/>
              <a:ext cx="61920" cy="936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336920" y="2584440"/>
              <a:ext cx="47520" cy="795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384440" y="253044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444920" y="2478240"/>
              <a:ext cx="47520" cy="522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492440" y="2450880"/>
              <a:ext cx="61920" cy="27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4554360" y="2438280"/>
              <a:ext cx="6372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618080" y="2438280"/>
              <a:ext cx="4752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665600" y="2451240"/>
              <a:ext cx="61920" cy="270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727520" y="2478240"/>
              <a:ext cx="47520" cy="522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75040" y="253044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35520" y="2584440"/>
              <a:ext cx="47520" cy="795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83040" y="2664000"/>
              <a:ext cx="61920" cy="936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944960" y="2757600"/>
              <a:ext cx="47520" cy="106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92480" y="2863800"/>
              <a:ext cx="61920" cy="106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054400" y="2970360"/>
              <a:ext cx="63720" cy="118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118120" y="3089160"/>
              <a:ext cx="46080" cy="120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164200" y="3209760"/>
              <a:ext cx="61920" cy="11916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26120" y="3328920"/>
              <a:ext cx="46080" cy="119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72200" y="3448080"/>
              <a:ext cx="63360" cy="13320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335560" y="3581280"/>
              <a:ext cx="46080" cy="117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381640" y="3699000"/>
              <a:ext cx="63360" cy="108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45000" y="3807000"/>
              <a:ext cx="63720" cy="106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08720" y="3913200"/>
              <a:ext cx="4572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54440" y="4017960"/>
              <a:ext cx="61920" cy="936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616360" y="4111560"/>
              <a:ext cx="46080" cy="81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662440" y="4192560"/>
              <a:ext cx="63720" cy="7776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726160" y="4270320"/>
              <a:ext cx="46080" cy="68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772240" y="4338720"/>
              <a:ext cx="6336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835600" y="4390920"/>
              <a:ext cx="60480" cy="540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896080" y="4444920"/>
              <a:ext cx="48960" cy="39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945040" y="4484520"/>
              <a:ext cx="6048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005520" y="4524480"/>
              <a:ext cx="47520" cy="39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053040" y="456408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114960" y="4589640"/>
              <a:ext cx="4752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162480" y="4603680"/>
              <a:ext cx="61920" cy="25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224400" y="4629240"/>
              <a:ext cx="6192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610160" y="4643280"/>
              <a:ext cx="0" cy="184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7" name=""/>
          <p:cNvSpPr/>
          <p:nvPr/>
        </p:nvSpPr>
        <p:spPr>
          <a:xfrm>
            <a:off x="5257800" y="3429000"/>
            <a:ext cx="0" cy="121932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572000" y="2514600"/>
            <a:ext cx="0" cy="213372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28600" y="190512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40000"/>
                </a:solidFill>
                <a:latin typeface="Times New Roman"/>
              </a:rPr>
              <a:t>…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.394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the area between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 the mean and a positi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score </a:t>
            </a:r>
            <a:r>
              <a:rPr b="1" lang="en-GB" sz="2400" spc="-1" strike="noStrike">
                <a:solidFill>
                  <a:srgbClr val="ff5050"/>
                </a:solidFill>
                <a:latin typeface="Times New Roman"/>
              </a:rPr>
              <a:t>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4694400" y="2362320"/>
            <a:ext cx="1235880" cy="1523520"/>
            <a:chOff x="4694400" y="2362320"/>
            <a:chExt cx="1235880" cy="1523520"/>
          </a:xfrm>
        </p:grpSpPr>
        <p:grpSp>
          <p:nvGrpSpPr>
            <p:cNvPr id="1521" name=""/>
            <p:cNvGrpSpPr/>
            <p:nvPr/>
          </p:nvGrpSpPr>
          <p:grpSpPr>
            <a:xfrm>
              <a:off x="4952880" y="2362320"/>
              <a:ext cx="977400" cy="1523520"/>
              <a:chOff x="4952880" y="2362320"/>
              <a:chExt cx="977400" cy="1523520"/>
            </a:xfrm>
          </p:grpSpPr>
          <p:sp>
            <p:nvSpPr>
              <p:cNvPr id="1522" name=""/>
              <p:cNvSpPr/>
              <p:nvPr/>
            </p:nvSpPr>
            <p:spPr>
              <a:xfrm flipH="1" rot="10800000">
                <a:off x="5010120" y="2362320"/>
                <a:ext cx="920160" cy="1430640"/>
              </a:xfrm>
              <a:custGeom>
                <a:avLst/>
                <a:gdLst/>
                <a:ahLst/>
                <a:rect l="l" t="t" r="r" b="b"/>
                <a:pathLst>
                  <a:path w="399" h="569">
                    <a:moveTo>
                      <a:pt x="107" y="145"/>
                    </a:moveTo>
                    <a:lnTo>
                      <a:pt x="220" y="145"/>
                    </a:lnTo>
                    <a:lnTo>
                      <a:pt x="226" y="145"/>
                    </a:lnTo>
                    <a:lnTo>
                      <a:pt x="233" y="145"/>
                    </a:lnTo>
                    <a:lnTo>
                      <a:pt x="238" y="146"/>
                    </a:lnTo>
                    <a:lnTo>
                      <a:pt x="244" y="147"/>
                    </a:lnTo>
                    <a:lnTo>
                      <a:pt x="249" y="149"/>
                    </a:lnTo>
                    <a:lnTo>
                      <a:pt x="254" y="150"/>
                    </a:lnTo>
                    <a:lnTo>
                      <a:pt x="260" y="151"/>
                    </a:lnTo>
                    <a:lnTo>
                      <a:pt x="265" y="154"/>
                    </a:lnTo>
                    <a:lnTo>
                      <a:pt x="269" y="155"/>
                    </a:lnTo>
                    <a:lnTo>
                      <a:pt x="275" y="158"/>
                    </a:lnTo>
                    <a:lnTo>
                      <a:pt x="279" y="161"/>
                    </a:lnTo>
                    <a:lnTo>
                      <a:pt x="284" y="164"/>
                    </a:lnTo>
                    <a:lnTo>
                      <a:pt x="289" y="168"/>
                    </a:lnTo>
                    <a:lnTo>
                      <a:pt x="293" y="170"/>
                    </a:lnTo>
                    <a:lnTo>
                      <a:pt x="297" y="175"/>
                    </a:lnTo>
                    <a:lnTo>
                      <a:pt x="301" y="179"/>
                    </a:lnTo>
                    <a:lnTo>
                      <a:pt x="305" y="183"/>
                    </a:lnTo>
                    <a:lnTo>
                      <a:pt x="309" y="187"/>
                    </a:lnTo>
                    <a:lnTo>
                      <a:pt x="312" y="191"/>
                    </a:lnTo>
                    <a:lnTo>
                      <a:pt x="316" y="195"/>
                    </a:lnTo>
                    <a:lnTo>
                      <a:pt x="319" y="200"/>
                    </a:lnTo>
                    <a:lnTo>
                      <a:pt x="321" y="205"/>
                    </a:lnTo>
                    <a:lnTo>
                      <a:pt x="324" y="210"/>
                    </a:lnTo>
                    <a:lnTo>
                      <a:pt x="325" y="214"/>
                    </a:lnTo>
                    <a:lnTo>
                      <a:pt x="328" y="220"/>
                    </a:lnTo>
                    <a:lnTo>
                      <a:pt x="329" y="225"/>
                    </a:lnTo>
                    <a:lnTo>
                      <a:pt x="332" y="231"/>
                    </a:lnTo>
                    <a:lnTo>
                      <a:pt x="332" y="236"/>
                    </a:lnTo>
                    <a:lnTo>
                      <a:pt x="334" y="241"/>
                    </a:lnTo>
                    <a:lnTo>
                      <a:pt x="335" y="248"/>
                    </a:lnTo>
                    <a:lnTo>
                      <a:pt x="335" y="254"/>
                    </a:lnTo>
                    <a:lnTo>
                      <a:pt x="335" y="259"/>
                    </a:lnTo>
                    <a:lnTo>
                      <a:pt x="335" y="569"/>
                    </a:lnTo>
                    <a:lnTo>
                      <a:pt x="399" y="569"/>
                    </a:lnTo>
                    <a:lnTo>
                      <a:pt x="399" y="214"/>
                    </a:lnTo>
                    <a:lnTo>
                      <a:pt x="399" y="207"/>
                    </a:lnTo>
                    <a:lnTo>
                      <a:pt x="399" y="200"/>
                    </a:lnTo>
                    <a:lnTo>
                      <a:pt x="398" y="194"/>
                    </a:lnTo>
                    <a:lnTo>
                      <a:pt x="396" y="187"/>
                    </a:lnTo>
                    <a:lnTo>
                      <a:pt x="395" y="180"/>
                    </a:lnTo>
                    <a:lnTo>
                      <a:pt x="392" y="175"/>
                    </a:lnTo>
                    <a:lnTo>
                      <a:pt x="391" y="168"/>
                    </a:lnTo>
                    <a:lnTo>
                      <a:pt x="388" y="161"/>
                    </a:lnTo>
                    <a:lnTo>
                      <a:pt x="385" y="155"/>
                    </a:lnTo>
                    <a:lnTo>
                      <a:pt x="383" y="150"/>
                    </a:lnTo>
                    <a:lnTo>
                      <a:pt x="379" y="145"/>
                    </a:lnTo>
                    <a:lnTo>
                      <a:pt x="376" y="139"/>
                    </a:lnTo>
                    <a:lnTo>
                      <a:pt x="372" y="134"/>
                    </a:lnTo>
                    <a:lnTo>
                      <a:pt x="368" y="128"/>
                    </a:lnTo>
                    <a:lnTo>
                      <a:pt x="364" y="123"/>
                    </a:lnTo>
                    <a:lnTo>
                      <a:pt x="359" y="119"/>
                    </a:lnTo>
                    <a:lnTo>
                      <a:pt x="354" y="115"/>
                    </a:lnTo>
                    <a:lnTo>
                      <a:pt x="349" y="109"/>
                    </a:lnTo>
                    <a:lnTo>
                      <a:pt x="344" y="105"/>
                    </a:lnTo>
                    <a:lnTo>
                      <a:pt x="339" y="102"/>
                    </a:lnTo>
                    <a:lnTo>
                      <a:pt x="334" y="98"/>
                    </a:lnTo>
                    <a:lnTo>
                      <a:pt x="328" y="95"/>
                    </a:lnTo>
                    <a:lnTo>
                      <a:pt x="321" y="91"/>
                    </a:lnTo>
                    <a:lnTo>
                      <a:pt x="316" y="89"/>
                    </a:lnTo>
                    <a:lnTo>
                      <a:pt x="310" y="87"/>
                    </a:lnTo>
                    <a:lnTo>
                      <a:pt x="304" y="84"/>
                    </a:lnTo>
                    <a:lnTo>
                      <a:pt x="297" y="83"/>
                    </a:lnTo>
                    <a:lnTo>
                      <a:pt x="290" y="82"/>
                    </a:lnTo>
                    <a:lnTo>
                      <a:pt x="284" y="80"/>
                    </a:lnTo>
                    <a:lnTo>
                      <a:pt x="278" y="79"/>
                    </a:lnTo>
                    <a:lnTo>
                      <a:pt x="271" y="79"/>
                    </a:lnTo>
                    <a:lnTo>
                      <a:pt x="264" y="79"/>
                    </a:lnTo>
                    <a:lnTo>
                      <a:pt x="107" y="79"/>
                    </a:lnTo>
                    <a:lnTo>
                      <a:pt x="107" y="0"/>
                    </a:lnTo>
                    <a:lnTo>
                      <a:pt x="0" y="112"/>
                    </a:lnTo>
                    <a:lnTo>
                      <a:pt x="107" y="222"/>
                    </a:lnTo>
                    <a:lnTo>
                      <a:pt x="107" y="145"/>
                    </a:lnTo>
                    <a:close/>
                  </a:path>
                </a:pathLst>
              </a:custGeom>
              <a:solidFill>
                <a:srgbClr val="cbc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rot="10800000">
                <a:off x="4952880" y="2455920"/>
                <a:ext cx="920160" cy="1429920"/>
              </a:xfrm>
              <a:custGeom>
                <a:avLst/>
                <a:gdLst/>
                <a:ahLst/>
                <a:rect l="l" t="t" r="r" b="b"/>
                <a:pathLst>
                  <a:path w="399" h="569">
                    <a:moveTo>
                      <a:pt x="108" y="145"/>
                    </a:moveTo>
                    <a:lnTo>
                      <a:pt x="221" y="145"/>
                    </a:lnTo>
                    <a:lnTo>
                      <a:pt x="226" y="145"/>
                    </a:lnTo>
                    <a:lnTo>
                      <a:pt x="232" y="145"/>
                    </a:lnTo>
                    <a:lnTo>
                      <a:pt x="239" y="146"/>
                    </a:lnTo>
                    <a:lnTo>
                      <a:pt x="244" y="147"/>
                    </a:lnTo>
                    <a:lnTo>
                      <a:pt x="249" y="147"/>
                    </a:lnTo>
                    <a:lnTo>
                      <a:pt x="255" y="150"/>
                    </a:lnTo>
                    <a:lnTo>
                      <a:pt x="260" y="152"/>
                    </a:lnTo>
                    <a:lnTo>
                      <a:pt x="264" y="153"/>
                    </a:lnTo>
                    <a:lnTo>
                      <a:pt x="270" y="156"/>
                    </a:lnTo>
                    <a:lnTo>
                      <a:pt x="275" y="158"/>
                    </a:lnTo>
                    <a:lnTo>
                      <a:pt x="279" y="161"/>
                    </a:lnTo>
                    <a:lnTo>
                      <a:pt x="285" y="164"/>
                    </a:lnTo>
                    <a:lnTo>
                      <a:pt x="289" y="168"/>
                    </a:lnTo>
                    <a:lnTo>
                      <a:pt x="293" y="171"/>
                    </a:lnTo>
                    <a:lnTo>
                      <a:pt x="297" y="175"/>
                    </a:lnTo>
                    <a:lnTo>
                      <a:pt x="301" y="179"/>
                    </a:lnTo>
                    <a:lnTo>
                      <a:pt x="305" y="182"/>
                    </a:lnTo>
                    <a:lnTo>
                      <a:pt x="309" y="186"/>
                    </a:lnTo>
                    <a:lnTo>
                      <a:pt x="312" y="191"/>
                    </a:lnTo>
                    <a:lnTo>
                      <a:pt x="316" y="195"/>
                    </a:lnTo>
                    <a:lnTo>
                      <a:pt x="319" y="199"/>
                    </a:lnTo>
                    <a:lnTo>
                      <a:pt x="322" y="205"/>
                    </a:lnTo>
                    <a:lnTo>
                      <a:pt x="324" y="210"/>
                    </a:lnTo>
                    <a:lnTo>
                      <a:pt x="326" y="214"/>
                    </a:lnTo>
                    <a:lnTo>
                      <a:pt x="329" y="220"/>
                    </a:lnTo>
                    <a:lnTo>
                      <a:pt x="330" y="225"/>
                    </a:lnTo>
                    <a:lnTo>
                      <a:pt x="331" y="231"/>
                    </a:lnTo>
                    <a:lnTo>
                      <a:pt x="333" y="236"/>
                    </a:lnTo>
                    <a:lnTo>
                      <a:pt x="334" y="242"/>
                    </a:lnTo>
                    <a:lnTo>
                      <a:pt x="335" y="247"/>
                    </a:lnTo>
                    <a:lnTo>
                      <a:pt x="335" y="254"/>
                    </a:lnTo>
                    <a:lnTo>
                      <a:pt x="335" y="259"/>
                    </a:lnTo>
                    <a:lnTo>
                      <a:pt x="335" y="569"/>
                    </a:lnTo>
                    <a:lnTo>
                      <a:pt x="399" y="569"/>
                    </a:lnTo>
                    <a:lnTo>
                      <a:pt x="399" y="214"/>
                    </a:lnTo>
                    <a:lnTo>
                      <a:pt x="399" y="207"/>
                    </a:lnTo>
                    <a:lnTo>
                      <a:pt x="398" y="201"/>
                    </a:lnTo>
                    <a:lnTo>
                      <a:pt x="398" y="194"/>
                    </a:lnTo>
                    <a:lnTo>
                      <a:pt x="397" y="187"/>
                    </a:lnTo>
                    <a:lnTo>
                      <a:pt x="395" y="180"/>
                    </a:lnTo>
                    <a:lnTo>
                      <a:pt x="393" y="173"/>
                    </a:lnTo>
                    <a:lnTo>
                      <a:pt x="391" y="168"/>
                    </a:lnTo>
                    <a:lnTo>
                      <a:pt x="389" y="161"/>
                    </a:lnTo>
                    <a:lnTo>
                      <a:pt x="386" y="156"/>
                    </a:lnTo>
                    <a:lnTo>
                      <a:pt x="383" y="150"/>
                    </a:lnTo>
                    <a:lnTo>
                      <a:pt x="379" y="143"/>
                    </a:lnTo>
                    <a:lnTo>
                      <a:pt x="376" y="138"/>
                    </a:lnTo>
                    <a:lnTo>
                      <a:pt x="372" y="134"/>
                    </a:lnTo>
                    <a:lnTo>
                      <a:pt x="368" y="128"/>
                    </a:lnTo>
                    <a:lnTo>
                      <a:pt x="364" y="123"/>
                    </a:lnTo>
                    <a:lnTo>
                      <a:pt x="360" y="119"/>
                    </a:lnTo>
                    <a:lnTo>
                      <a:pt x="354" y="113"/>
                    </a:lnTo>
                    <a:lnTo>
                      <a:pt x="349" y="109"/>
                    </a:lnTo>
                    <a:lnTo>
                      <a:pt x="345" y="105"/>
                    </a:lnTo>
                    <a:lnTo>
                      <a:pt x="339" y="101"/>
                    </a:lnTo>
                    <a:lnTo>
                      <a:pt x="334" y="98"/>
                    </a:lnTo>
                    <a:lnTo>
                      <a:pt x="329" y="94"/>
                    </a:lnTo>
                    <a:lnTo>
                      <a:pt x="322" y="91"/>
                    </a:lnTo>
                    <a:lnTo>
                      <a:pt x="316" y="89"/>
                    </a:lnTo>
                    <a:lnTo>
                      <a:pt x="309" y="86"/>
                    </a:lnTo>
                    <a:lnTo>
                      <a:pt x="304" y="85"/>
                    </a:lnTo>
                    <a:lnTo>
                      <a:pt x="297" y="83"/>
                    </a:lnTo>
                    <a:lnTo>
                      <a:pt x="290" y="81"/>
                    </a:lnTo>
                    <a:lnTo>
                      <a:pt x="284" y="81"/>
                    </a:lnTo>
                    <a:lnTo>
                      <a:pt x="278" y="79"/>
                    </a:lnTo>
                    <a:lnTo>
                      <a:pt x="270" y="79"/>
                    </a:lnTo>
                    <a:lnTo>
                      <a:pt x="263" y="78"/>
                    </a:lnTo>
                    <a:lnTo>
                      <a:pt x="108" y="78"/>
                    </a:lnTo>
                    <a:lnTo>
                      <a:pt x="108" y="0"/>
                    </a:lnTo>
                    <a:lnTo>
                      <a:pt x="0" y="112"/>
                    </a:lnTo>
                    <a:lnTo>
                      <a:pt x="108" y="222"/>
                    </a:lnTo>
                    <a:lnTo>
                      <a:pt x="108" y="145"/>
                    </a:lnTo>
                    <a:close/>
                  </a:path>
                </a:pathLst>
              </a:custGeom>
              <a:solidFill>
                <a:srgbClr val="495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4" name=""/>
            <p:cNvSpPr/>
            <p:nvPr/>
          </p:nvSpPr>
          <p:spPr>
            <a:xfrm>
              <a:off x="4694400" y="2895480"/>
              <a:ext cx="101880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0.39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5" name=""/>
          <p:cNvSpPr/>
          <p:nvPr/>
        </p:nvSpPr>
        <p:spPr>
          <a:xfrm>
            <a:off x="1143000" y="5562720"/>
            <a:ext cx="655308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6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39.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7620120" y="6192720"/>
            <a:ext cx="1371600" cy="581400"/>
            <a:chOff x="7620120" y="6192720"/>
            <a:chExt cx="1371600" cy="581400"/>
          </a:xfrm>
        </p:grpSpPr>
        <p:sp>
          <p:nvSpPr>
            <p:cNvPr id="1527" name=""/>
            <p:cNvSpPr/>
            <p:nvPr/>
          </p:nvSpPr>
          <p:spPr>
            <a:xfrm>
              <a:off x="7620120" y="6192720"/>
              <a:ext cx="1371600" cy="581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e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"/>
            <a:stretch/>
          </p:blipFill>
          <p:spPr>
            <a:xfrm>
              <a:off x="8458200" y="6269040"/>
              <a:ext cx="533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7779A-DB95-4B07-AEFE-792AAD9635B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68560" y="3832200"/>
            <a:ext cx="7753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ormal probability distribution to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inomial probability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85800" y="5353200"/>
            <a:ext cx="7772040" cy="304560"/>
            <a:chOff x="685800" y="5353200"/>
            <a:chExt cx="7772040" cy="304560"/>
          </a:xfrm>
        </p:grpSpPr>
        <p:sp>
          <p:nvSpPr>
            <p:cNvPr id="66" name=""/>
            <p:cNvSpPr/>
            <p:nvPr/>
          </p:nvSpPr>
          <p:spPr>
            <a:xfrm flipV="1">
              <a:off x="685800" y="5424480"/>
              <a:ext cx="7772040" cy="144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ball16" descr=""/>
            <p:cNvPicPr/>
            <p:nvPr/>
          </p:nvPicPr>
          <p:blipFill>
            <a:blip r:embed="rId2"/>
            <a:stretch/>
          </p:blipFill>
          <p:spPr>
            <a:xfrm>
              <a:off x="4442040" y="5353200"/>
              <a:ext cx="56412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380880" y="3733920"/>
            <a:ext cx="685800" cy="685800"/>
            <a:chOff x="380880" y="3733920"/>
            <a:chExt cx="685800" cy="685800"/>
          </a:xfrm>
        </p:grpSpPr>
        <p:pic>
          <p:nvPicPr>
            <p:cNvPr id="69" name="" descr=""/>
            <p:cNvPicPr/>
            <p:nvPr/>
          </p:nvPicPr>
          <p:blipFill>
            <a:blip r:embed="rId3"/>
            <a:srcRect l="0" t="7684" r="4868" b="13458"/>
            <a:stretch/>
          </p:blipFill>
          <p:spPr>
            <a:xfrm>
              <a:off x="380880" y="378000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56840" y="3733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28880" y="2114640"/>
            <a:ext cx="8115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robability a random observation is       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in a given inter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on a normal distrib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standard normal distrib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0880" y="2076480"/>
            <a:ext cx="685800" cy="685800"/>
            <a:chOff x="380880" y="2076480"/>
            <a:chExt cx="685800" cy="685800"/>
          </a:xfrm>
        </p:grpSpPr>
        <p:pic>
          <p:nvPicPr>
            <p:cNvPr id="73" name="" descr=""/>
            <p:cNvPicPr/>
            <p:nvPr/>
          </p:nvPicPr>
          <p:blipFill>
            <a:blip r:embed="rId4"/>
            <a:srcRect l="0" t="7684" r="4868" b="13458"/>
            <a:stretch/>
          </p:blipFill>
          <p:spPr>
            <a:xfrm>
              <a:off x="380880" y="212256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56840" y="20764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>
            <a:off x="2814480" y="366840"/>
            <a:ext cx="32194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63504" dir="8583908" blurRad="0" rotWithShape="0">
                    <a:srgbClr val="00000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63504" dir="8583908" blurRad="0" rotWithShape="0">
                  <a:srgbClr val="00000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DA9B-9B64-4939-A487-2D908A3CBE76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7468560" y="6019920"/>
            <a:ext cx="137556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490040" y="47520"/>
            <a:ext cx="650376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tandar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457200" y="1371600"/>
            <a:ext cx="1704600" cy="762120"/>
            <a:chOff x="457200" y="1371600"/>
            <a:chExt cx="1704600" cy="762120"/>
          </a:xfrm>
        </p:grpSpPr>
        <p:sp>
          <p:nvSpPr>
            <p:cNvPr id="1532" name=""/>
            <p:cNvSpPr txBox="1"/>
            <p:nvPr/>
          </p:nvSpPr>
          <p:spPr>
            <a:xfrm>
              <a:off x="457200" y="1371600"/>
              <a:ext cx="4147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33" name=""/>
            <p:cNvSpPr txBox="1"/>
            <p:nvPr/>
          </p:nvSpPr>
          <p:spPr>
            <a:xfrm>
              <a:off x="894600" y="1554480"/>
              <a:ext cx="1267200" cy="41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534" name=""/>
          <p:cNvSpPr/>
          <p:nvPr/>
        </p:nvSpPr>
        <p:spPr>
          <a:xfrm>
            <a:off x="2425680" y="1523880"/>
            <a:ext cx="44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40 &lt; 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&lt; 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57200" y="2133720"/>
            <a:ext cx="2362320" cy="1062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0033cc"/>
                </a:solidFill>
                <a:latin typeface="Times New Roman"/>
              </a:rPr>
              <a:t>50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257800" y="3276720"/>
            <a:ext cx="0" cy="121896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34340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724280" y="5029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6576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-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57200" y="5486400"/>
            <a:ext cx="3505320" cy="531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40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/8  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-1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724280" y="5486400"/>
            <a:ext cx="3657600" cy="531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60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/8   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1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562720" y="2057400"/>
            <a:ext cx="3276360" cy="1008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ferring each value into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572000" y="2133720"/>
            <a:ext cx="685800" cy="2361960"/>
          </a:xfrm>
          <a:custGeom>
            <a:avLst/>
            <a:gdLst/>
            <a:ahLst/>
            <a:rect l="l" t="t" r="r" b="b"/>
            <a:pathLst>
              <a:path w="453" h="1381">
                <a:moveTo>
                  <a:pt x="4" y="1348"/>
                </a:moveTo>
                <a:cubicBezTo>
                  <a:pt x="41" y="1360"/>
                  <a:pt x="10" y="1272"/>
                  <a:pt x="10" y="1240"/>
                </a:cubicBezTo>
                <a:cubicBezTo>
                  <a:pt x="8" y="832"/>
                  <a:pt x="10" y="424"/>
                  <a:pt x="10" y="16"/>
                </a:cubicBezTo>
                <a:cubicBezTo>
                  <a:pt x="8" y="22"/>
                  <a:pt x="0" y="30"/>
                  <a:pt x="4" y="34"/>
                </a:cubicBezTo>
                <a:cubicBezTo>
                  <a:pt x="12" y="42"/>
                  <a:pt x="40" y="0"/>
                  <a:pt x="40" y="46"/>
                </a:cubicBezTo>
                <a:cubicBezTo>
                  <a:pt x="38" y="36"/>
                  <a:pt x="34" y="26"/>
                  <a:pt x="34" y="16"/>
                </a:cubicBezTo>
                <a:cubicBezTo>
                  <a:pt x="34" y="10"/>
                  <a:pt x="34" y="33"/>
                  <a:pt x="40" y="34"/>
                </a:cubicBezTo>
                <a:cubicBezTo>
                  <a:pt x="53" y="36"/>
                  <a:pt x="76" y="22"/>
                  <a:pt x="76" y="22"/>
                </a:cubicBezTo>
                <a:cubicBezTo>
                  <a:pt x="77" y="22"/>
                  <a:pt x="118" y="29"/>
                  <a:pt x="124" y="34"/>
                </a:cubicBezTo>
                <a:cubicBezTo>
                  <a:pt x="163" y="65"/>
                  <a:pt x="109" y="43"/>
                  <a:pt x="154" y="58"/>
                </a:cubicBezTo>
                <a:cubicBezTo>
                  <a:pt x="163" y="84"/>
                  <a:pt x="174" y="109"/>
                  <a:pt x="196" y="124"/>
                </a:cubicBezTo>
                <a:cubicBezTo>
                  <a:pt x="204" y="136"/>
                  <a:pt x="217" y="146"/>
                  <a:pt x="220" y="160"/>
                </a:cubicBezTo>
                <a:cubicBezTo>
                  <a:pt x="221" y="166"/>
                  <a:pt x="228" y="195"/>
                  <a:pt x="232" y="202"/>
                </a:cubicBezTo>
                <a:cubicBezTo>
                  <a:pt x="247" y="230"/>
                  <a:pt x="282" y="261"/>
                  <a:pt x="292" y="292"/>
                </a:cubicBezTo>
                <a:cubicBezTo>
                  <a:pt x="296" y="304"/>
                  <a:pt x="297" y="317"/>
                  <a:pt x="304" y="328"/>
                </a:cubicBezTo>
                <a:cubicBezTo>
                  <a:pt x="308" y="334"/>
                  <a:pt x="313" y="339"/>
                  <a:pt x="316" y="346"/>
                </a:cubicBezTo>
                <a:cubicBezTo>
                  <a:pt x="331" y="381"/>
                  <a:pt x="323" y="393"/>
                  <a:pt x="352" y="412"/>
                </a:cubicBezTo>
                <a:cubicBezTo>
                  <a:pt x="360" y="435"/>
                  <a:pt x="359" y="462"/>
                  <a:pt x="370" y="484"/>
                </a:cubicBezTo>
                <a:cubicBezTo>
                  <a:pt x="381" y="505"/>
                  <a:pt x="402" y="516"/>
                  <a:pt x="418" y="532"/>
                </a:cubicBezTo>
                <a:cubicBezTo>
                  <a:pt x="432" y="575"/>
                  <a:pt x="441" y="561"/>
                  <a:pt x="412" y="580"/>
                </a:cubicBezTo>
                <a:cubicBezTo>
                  <a:pt x="411" y="580"/>
                  <a:pt x="376" y="562"/>
                  <a:pt x="388" y="550"/>
                </a:cubicBezTo>
                <a:cubicBezTo>
                  <a:pt x="393" y="545"/>
                  <a:pt x="423" y="568"/>
                  <a:pt x="424" y="568"/>
                </a:cubicBezTo>
                <a:cubicBezTo>
                  <a:pt x="422" y="576"/>
                  <a:pt x="417" y="584"/>
                  <a:pt x="418" y="592"/>
                </a:cubicBezTo>
                <a:cubicBezTo>
                  <a:pt x="419" y="605"/>
                  <a:pt x="430" y="628"/>
                  <a:pt x="430" y="628"/>
                </a:cubicBezTo>
                <a:cubicBezTo>
                  <a:pt x="414" y="652"/>
                  <a:pt x="407" y="657"/>
                  <a:pt x="424" y="682"/>
                </a:cubicBezTo>
                <a:cubicBezTo>
                  <a:pt x="437" y="749"/>
                  <a:pt x="453" y="753"/>
                  <a:pt x="418" y="730"/>
                </a:cubicBezTo>
                <a:cubicBezTo>
                  <a:pt x="407" y="764"/>
                  <a:pt x="417" y="798"/>
                  <a:pt x="424" y="832"/>
                </a:cubicBezTo>
                <a:cubicBezTo>
                  <a:pt x="426" y="892"/>
                  <a:pt x="421" y="979"/>
                  <a:pt x="442" y="1042"/>
                </a:cubicBezTo>
                <a:cubicBezTo>
                  <a:pt x="440" y="1052"/>
                  <a:pt x="439" y="1062"/>
                  <a:pt x="436" y="1072"/>
                </a:cubicBezTo>
                <a:cubicBezTo>
                  <a:pt x="433" y="1084"/>
                  <a:pt x="424" y="1108"/>
                  <a:pt x="424" y="1108"/>
                </a:cubicBezTo>
                <a:cubicBezTo>
                  <a:pt x="451" y="1188"/>
                  <a:pt x="434" y="1131"/>
                  <a:pt x="424" y="1324"/>
                </a:cubicBezTo>
                <a:cubicBezTo>
                  <a:pt x="423" y="1334"/>
                  <a:pt x="425" y="1347"/>
                  <a:pt x="418" y="1354"/>
                </a:cubicBezTo>
                <a:cubicBezTo>
                  <a:pt x="409" y="1363"/>
                  <a:pt x="382" y="1366"/>
                  <a:pt x="382" y="1366"/>
                </a:cubicBezTo>
                <a:cubicBezTo>
                  <a:pt x="355" y="1357"/>
                  <a:pt x="321" y="1373"/>
                  <a:pt x="292" y="1378"/>
                </a:cubicBezTo>
                <a:cubicBezTo>
                  <a:pt x="280" y="1376"/>
                  <a:pt x="268" y="1375"/>
                  <a:pt x="256" y="1372"/>
                </a:cubicBezTo>
                <a:cubicBezTo>
                  <a:pt x="250" y="1371"/>
                  <a:pt x="244" y="1365"/>
                  <a:pt x="238" y="1366"/>
                </a:cubicBezTo>
                <a:cubicBezTo>
                  <a:pt x="225" y="1367"/>
                  <a:pt x="202" y="1378"/>
                  <a:pt x="202" y="1378"/>
                </a:cubicBezTo>
                <a:cubicBezTo>
                  <a:pt x="166" y="1369"/>
                  <a:pt x="148" y="1366"/>
                  <a:pt x="112" y="1378"/>
                </a:cubicBezTo>
                <a:cubicBezTo>
                  <a:pt x="95" y="1376"/>
                  <a:pt x="24" y="1381"/>
                  <a:pt x="40" y="1348"/>
                </a:cubicBez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3885480" y="2133720"/>
            <a:ext cx="762120" cy="2361960"/>
          </a:xfrm>
          <a:custGeom>
            <a:avLst/>
            <a:gdLst/>
            <a:ahLst/>
            <a:rect l="l" t="t" r="r" b="b"/>
            <a:pathLst>
              <a:path w="453" h="1381">
                <a:moveTo>
                  <a:pt x="4" y="1348"/>
                </a:moveTo>
                <a:cubicBezTo>
                  <a:pt x="41" y="1360"/>
                  <a:pt x="10" y="1272"/>
                  <a:pt x="10" y="1240"/>
                </a:cubicBezTo>
                <a:cubicBezTo>
                  <a:pt x="8" y="832"/>
                  <a:pt x="10" y="424"/>
                  <a:pt x="10" y="16"/>
                </a:cubicBezTo>
                <a:cubicBezTo>
                  <a:pt x="8" y="22"/>
                  <a:pt x="0" y="30"/>
                  <a:pt x="4" y="34"/>
                </a:cubicBezTo>
                <a:cubicBezTo>
                  <a:pt x="12" y="42"/>
                  <a:pt x="40" y="0"/>
                  <a:pt x="40" y="46"/>
                </a:cubicBezTo>
                <a:cubicBezTo>
                  <a:pt x="38" y="36"/>
                  <a:pt x="34" y="26"/>
                  <a:pt x="34" y="16"/>
                </a:cubicBezTo>
                <a:cubicBezTo>
                  <a:pt x="34" y="10"/>
                  <a:pt x="34" y="33"/>
                  <a:pt x="40" y="34"/>
                </a:cubicBezTo>
                <a:cubicBezTo>
                  <a:pt x="53" y="36"/>
                  <a:pt x="76" y="22"/>
                  <a:pt x="76" y="22"/>
                </a:cubicBezTo>
                <a:cubicBezTo>
                  <a:pt x="77" y="22"/>
                  <a:pt x="118" y="29"/>
                  <a:pt x="124" y="34"/>
                </a:cubicBezTo>
                <a:cubicBezTo>
                  <a:pt x="163" y="65"/>
                  <a:pt x="109" y="43"/>
                  <a:pt x="154" y="58"/>
                </a:cubicBezTo>
                <a:cubicBezTo>
                  <a:pt x="163" y="84"/>
                  <a:pt x="174" y="109"/>
                  <a:pt x="196" y="124"/>
                </a:cubicBezTo>
                <a:cubicBezTo>
                  <a:pt x="204" y="136"/>
                  <a:pt x="217" y="146"/>
                  <a:pt x="220" y="160"/>
                </a:cubicBezTo>
                <a:cubicBezTo>
                  <a:pt x="221" y="166"/>
                  <a:pt x="228" y="195"/>
                  <a:pt x="232" y="202"/>
                </a:cubicBezTo>
                <a:cubicBezTo>
                  <a:pt x="247" y="230"/>
                  <a:pt x="282" y="261"/>
                  <a:pt x="292" y="292"/>
                </a:cubicBezTo>
                <a:cubicBezTo>
                  <a:pt x="296" y="304"/>
                  <a:pt x="297" y="317"/>
                  <a:pt x="304" y="328"/>
                </a:cubicBezTo>
                <a:cubicBezTo>
                  <a:pt x="308" y="334"/>
                  <a:pt x="313" y="339"/>
                  <a:pt x="316" y="346"/>
                </a:cubicBezTo>
                <a:cubicBezTo>
                  <a:pt x="331" y="381"/>
                  <a:pt x="323" y="393"/>
                  <a:pt x="352" y="412"/>
                </a:cubicBezTo>
                <a:cubicBezTo>
                  <a:pt x="360" y="435"/>
                  <a:pt x="359" y="462"/>
                  <a:pt x="370" y="484"/>
                </a:cubicBezTo>
                <a:cubicBezTo>
                  <a:pt x="381" y="505"/>
                  <a:pt x="402" y="516"/>
                  <a:pt x="418" y="532"/>
                </a:cubicBezTo>
                <a:cubicBezTo>
                  <a:pt x="432" y="575"/>
                  <a:pt x="441" y="561"/>
                  <a:pt x="412" y="580"/>
                </a:cubicBezTo>
                <a:cubicBezTo>
                  <a:pt x="411" y="580"/>
                  <a:pt x="376" y="562"/>
                  <a:pt x="388" y="550"/>
                </a:cubicBezTo>
                <a:cubicBezTo>
                  <a:pt x="393" y="545"/>
                  <a:pt x="423" y="568"/>
                  <a:pt x="424" y="568"/>
                </a:cubicBezTo>
                <a:cubicBezTo>
                  <a:pt x="422" y="576"/>
                  <a:pt x="417" y="584"/>
                  <a:pt x="418" y="592"/>
                </a:cubicBezTo>
                <a:cubicBezTo>
                  <a:pt x="419" y="605"/>
                  <a:pt x="430" y="628"/>
                  <a:pt x="430" y="628"/>
                </a:cubicBezTo>
                <a:cubicBezTo>
                  <a:pt x="414" y="652"/>
                  <a:pt x="407" y="657"/>
                  <a:pt x="424" y="682"/>
                </a:cubicBezTo>
                <a:cubicBezTo>
                  <a:pt x="437" y="749"/>
                  <a:pt x="453" y="753"/>
                  <a:pt x="418" y="730"/>
                </a:cubicBezTo>
                <a:cubicBezTo>
                  <a:pt x="407" y="764"/>
                  <a:pt x="417" y="798"/>
                  <a:pt x="424" y="832"/>
                </a:cubicBezTo>
                <a:cubicBezTo>
                  <a:pt x="426" y="892"/>
                  <a:pt x="421" y="979"/>
                  <a:pt x="442" y="1042"/>
                </a:cubicBezTo>
                <a:cubicBezTo>
                  <a:pt x="440" y="1052"/>
                  <a:pt x="439" y="1062"/>
                  <a:pt x="436" y="1072"/>
                </a:cubicBezTo>
                <a:cubicBezTo>
                  <a:pt x="433" y="1084"/>
                  <a:pt x="424" y="1108"/>
                  <a:pt x="424" y="1108"/>
                </a:cubicBezTo>
                <a:cubicBezTo>
                  <a:pt x="451" y="1188"/>
                  <a:pt x="434" y="1131"/>
                  <a:pt x="424" y="1324"/>
                </a:cubicBezTo>
                <a:cubicBezTo>
                  <a:pt x="423" y="1334"/>
                  <a:pt x="425" y="1347"/>
                  <a:pt x="418" y="1354"/>
                </a:cubicBezTo>
                <a:cubicBezTo>
                  <a:pt x="409" y="1363"/>
                  <a:pt x="382" y="1366"/>
                  <a:pt x="382" y="1366"/>
                </a:cubicBezTo>
                <a:cubicBezTo>
                  <a:pt x="355" y="1357"/>
                  <a:pt x="321" y="1373"/>
                  <a:pt x="292" y="1378"/>
                </a:cubicBezTo>
                <a:cubicBezTo>
                  <a:pt x="280" y="1376"/>
                  <a:pt x="268" y="1375"/>
                  <a:pt x="256" y="1372"/>
                </a:cubicBezTo>
                <a:cubicBezTo>
                  <a:pt x="250" y="1371"/>
                  <a:pt x="244" y="1365"/>
                  <a:pt x="238" y="1366"/>
                </a:cubicBezTo>
                <a:cubicBezTo>
                  <a:pt x="225" y="1367"/>
                  <a:pt x="202" y="1378"/>
                  <a:pt x="202" y="1378"/>
                </a:cubicBezTo>
                <a:cubicBezTo>
                  <a:pt x="166" y="1369"/>
                  <a:pt x="148" y="1366"/>
                  <a:pt x="112" y="1378"/>
                </a:cubicBezTo>
                <a:cubicBezTo>
                  <a:pt x="95" y="1376"/>
                  <a:pt x="24" y="1381"/>
                  <a:pt x="40" y="1348"/>
                </a:cubicBez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1371600" y="2133720"/>
            <a:ext cx="6933960" cy="2961720"/>
            <a:chOff x="1371600" y="2133720"/>
            <a:chExt cx="6933960" cy="2961720"/>
          </a:xfrm>
        </p:grpSpPr>
        <p:sp>
          <p:nvSpPr>
            <p:cNvPr id="1547" name=""/>
            <p:cNvSpPr/>
            <p:nvPr/>
          </p:nvSpPr>
          <p:spPr>
            <a:xfrm>
              <a:off x="1565640" y="4504320"/>
              <a:ext cx="61977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565640" y="4504320"/>
              <a:ext cx="0" cy="196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804760" y="4504320"/>
              <a:ext cx="0" cy="196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879000" y="4504320"/>
              <a:ext cx="0" cy="196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284080" y="4504320"/>
              <a:ext cx="0" cy="196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522840" y="4504320"/>
              <a:ext cx="0" cy="196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763760" y="4504320"/>
              <a:ext cx="0" cy="196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371600" y="4635720"/>
              <a:ext cx="69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20          40 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60           80           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587120" y="2133720"/>
              <a:ext cx="0" cy="2370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2883240" y="4488840"/>
              <a:ext cx="61560" cy="151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2945160" y="4460760"/>
              <a:ext cx="63360" cy="27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3008520" y="4447080"/>
              <a:ext cx="47160" cy="13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056040" y="4419000"/>
              <a:ext cx="63360" cy="277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3119760" y="4374000"/>
              <a:ext cx="48600" cy="442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168720" y="4332600"/>
              <a:ext cx="60480" cy="414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3229200" y="4290480"/>
              <a:ext cx="50040" cy="41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3279600" y="4231800"/>
              <a:ext cx="60120" cy="58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3340080" y="4176000"/>
              <a:ext cx="65160" cy="554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3405600" y="4103280"/>
              <a:ext cx="47160" cy="723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452760" y="4018320"/>
              <a:ext cx="63360" cy="8496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3516480" y="3931560"/>
              <a:ext cx="47160" cy="86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564000" y="3831120"/>
              <a:ext cx="61560" cy="1000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3625560" y="3717720"/>
              <a:ext cx="4716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3673080" y="3603600"/>
              <a:ext cx="64800" cy="1141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3738240" y="3489120"/>
              <a:ext cx="6336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3801960" y="3360600"/>
              <a:ext cx="47160" cy="12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849480" y="3218400"/>
              <a:ext cx="63360" cy="141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3912840" y="3091680"/>
              <a:ext cx="47160" cy="126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960360" y="2961720"/>
              <a:ext cx="63360" cy="129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4024080" y="2833200"/>
              <a:ext cx="45720" cy="12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4069800" y="2706120"/>
              <a:ext cx="64800" cy="126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V="1">
              <a:off x="4134960" y="2590200"/>
              <a:ext cx="6192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V="1">
              <a:off x="4197240" y="2476800"/>
              <a:ext cx="4860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246200" y="2376720"/>
              <a:ext cx="63360" cy="1000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309920" y="2289960"/>
              <a:ext cx="47160" cy="864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357080" y="2232720"/>
              <a:ext cx="61560" cy="56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419000" y="2175120"/>
              <a:ext cx="48960" cy="57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4468320" y="2147040"/>
              <a:ext cx="61560" cy="27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4529880" y="2133720"/>
              <a:ext cx="65160" cy="13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95400" y="2133720"/>
              <a:ext cx="46800" cy="13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42560" y="2147400"/>
              <a:ext cx="63360" cy="277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706280" y="2175120"/>
              <a:ext cx="48960" cy="5724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755600" y="2232720"/>
              <a:ext cx="60120" cy="56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815720" y="2289960"/>
              <a:ext cx="48600" cy="864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864680" y="2376720"/>
              <a:ext cx="61920" cy="1000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926960" y="2477160"/>
              <a:ext cx="4860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975560" y="2590200"/>
              <a:ext cx="6336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039280" y="2706120"/>
              <a:ext cx="63360" cy="126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03000" y="2833200"/>
              <a:ext cx="47160" cy="12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150520" y="2961720"/>
              <a:ext cx="61560" cy="129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212080" y="3091680"/>
              <a:ext cx="47160" cy="126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259600" y="3218400"/>
              <a:ext cx="65160" cy="141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325120" y="3360600"/>
              <a:ext cx="45360" cy="12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370840" y="3489120"/>
              <a:ext cx="6516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436360" y="3603960"/>
              <a:ext cx="63360" cy="1141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499720" y="3718080"/>
              <a:ext cx="4680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546880" y="3831120"/>
              <a:ext cx="63360" cy="1000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610600" y="3931560"/>
              <a:ext cx="45720" cy="86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656320" y="4018320"/>
              <a:ext cx="64800" cy="8496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721480" y="4103640"/>
              <a:ext cx="47160" cy="723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769000" y="4176000"/>
              <a:ext cx="63360" cy="554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832720" y="4231800"/>
              <a:ext cx="61920" cy="58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895000" y="4290480"/>
              <a:ext cx="48600" cy="41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943600" y="4332600"/>
              <a:ext cx="61920" cy="414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005880" y="4374360"/>
              <a:ext cx="48600" cy="442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054840" y="4419000"/>
              <a:ext cx="61560" cy="277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116400" y="4447080"/>
              <a:ext cx="48960" cy="13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165720" y="4461120"/>
              <a:ext cx="61560" cy="27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227640" y="4488840"/>
              <a:ext cx="63360" cy="151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587120" y="4504320"/>
              <a:ext cx="0" cy="196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6476400" y="3276720"/>
            <a:ext cx="2329560" cy="1188000"/>
            <a:chOff x="6476400" y="3276720"/>
            <a:chExt cx="2329560" cy="1188000"/>
          </a:xfrm>
        </p:grpSpPr>
        <p:sp>
          <p:nvSpPr>
            <p:cNvPr id="1618" name=""/>
            <p:cNvSpPr/>
            <p:nvPr/>
          </p:nvSpPr>
          <p:spPr>
            <a:xfrm>
              <a:off x="7405920" y="3898800"/>
              <a:ext cx="14000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6476400" y="3276720"/>
              <a:ext cx="2315520" cy="1188000"/>
              <a:chOff x="6476400" y="3276720"/>
              <a:chExt cx="2315520" cy="1188000"/>
            </a:xfrm>
          </p:grpSpPr>
          <p:sp>
            <p:nvSpPr>
              <p:cNvPr id="1620" name=""/>
              <p:cNvSpPr/>
              <p:nvPr/>
            </p:nvSpPr>
            <p:spPr>
              <a:xfrm>
                <a:off x="7884000" y="3794040"/>
                <a:ext cx="33768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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936560" y="3276720"/>
                <a:ext cx="855360" cy="67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</a:t>
                </a:r>
                <a:r>
                  <a:rPr b="1" i="1" lang="en-US" sz="44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µ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903720" y="3551040"/>
                <a:ext cx="363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494480" y="3382920"/>
                <a:ext cx="457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3600" spc="-1" strike="noStrike">
                    <a:solidFill>
                      <a:srgbClr val="008000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476400" y="3357360"/>
                <a:ext cx="23832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z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FD5F-20D6-4C8F-91A0-C76CDDE23F76}" type="slidenum">
              <a:t>30</a:t>
            </a:fld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"/>
          <p:cNvSpPr/>
          <p:nvPr/>
        </p:nvSpPr>
        <p:spPr>
          <a:xfrm>
            <a:off x="1490040" y="47520"/>
            <a:ext cx="650376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tandar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62120" y="5638680"/>
            <a:ext cx="7696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for a Total area of: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0.3944 + 0.3944 or 0.788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85800" y="2895480"/>
            <a:ext cx="1828800" cy="1189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1.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etermined earl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1371600" y="2527200"/>
            <a:ext cx="6933960" cy="2547720"/>
            <a:chOff x="1371600" y="2527200"/>
            <a:chExt cx="6933960" cy="2547720"/>
          </a:xfrm>
        </p:grpSpPr>
        <p:sp>
          <p:nvSpPr>
            <p:cNvPr id="1629" name=""/>
            <p:cNvSpPr/>
            <p:nvPr/>
          </p:nvSpPr>
          <p:spPr>
            <a:xfrm>
              <a:off x="3886200" y="3481560"/>
              <a:ext cx="0" cy="1015920"/>
            </a:xfrm>
            <a:prstGeom prst="line">
              <a:avLst/>
            </a:prstGeom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257800" y="3481560"/>
              <a:ext cx="0" cy="1015920"/>
            </a:xfrm>
            <a:prstGeom prst="line">
              <a:avLst/>
            </a:prstGeom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572000" y="2527200"/>
              <a:ext cx="685800" cy="1970280"/>
            </a:xfrm>
            <a:custGeom>
              <a:avLst/>
              <a:gdLst/>
              <a:ahLst/>
              <a:rect l="l" t="t" r="r" b="b"/>
              <a:pathLst>
                <a:path w="453" h="1381">
                  <a:moveTo>
                    <a:pt x="4" y="1348"/>
                  </a:moveTo>
                  <a:cubicBezTo>
                    <a:pt x="41" y="1360"/>
                    <a:pt x="10" y="1272"/>
                    <a:pt x="10" y="1240"/>
                  </a:cubicBezTo>
                  <a:cubicBezTo>
                    <a:pt x="8" y="832"/>
                    <a:pt x="10" y="424"/>
                    <a:pt x="10" y="16"/>
                  </a:cubicBezTo>
                  <a:cubicBezTo>
                    <a:pt x="8" y="22"/>
                    <a:pt x="0" y="30"/>
                    <a:pt x="4" y="34"/>
                  </a:cubicBezTo>
                  <a:cubicBezTo>
                    <a:pt x="12" y="42"/>
                    <a:pt x="40" y="0"/>
                    <a:pt x="40" y="46"/>
                  </a:cubicBezTo>
                  <a:cubicBezTo>
                    <a:pt x="38" y="36"/>
                    <a:pt x="34" y="26"/>
                    <a:pt x="34" y="16"/>
                  </a:cubicBezTo>
                  <a:cubicBezTo>
                    <a:pt x="34" y="10"/>
                    <a:pt x="34" y="33"/>
                    <a:pt x="40" y="34"/>
                  </a:cubicBezTo>
                  <a:cubicBezTo>
                    <a:pt x="53" y="36"/>
                    <a:pt x="76" y="22"/>
                    <a:pt x="76" y="22"/>
                  </a:cubicBezTo>
                  <a:cubicBezTo>
                    <a:pt x="77" y="22"/>
                    <a:pt x="118" y="29"/>
                    <a:pt x="124" y="34"/>
                  </a:cubicBezTo>
                  <a:cubicBezTo>
                    <a:pt x="163" y="65"/>
                    <a:pt x="109" y="43"/>
                    <a:pt x="154" y="58"/>
                  </a:cubicBezTo>
                  <a:cubicBezTo>
                    <a:pt x="163" y="84"/>
                    <a:pt x="174" y="109"/>
                    <a:pt x="196" y="124"/>
                  </a:cubicBezTo>
                  <a:cubicBezTo>
                    <a:pt x="204" y="136"/>
                    <a:pt x="217" y="146"/>
                    <a:pt x="220" y="160"/>
                  </a:cubicBezTo>
                  <a:cubicBezTo>
                    <a:pt x="221" y="166"/>
                    <a:pt x="228" y="195"/>
                    <a:pt x="232" y="202"/>
                  </a:cubicBezTo>
                  <a:cubicBezTo>
                    <a:pt x="247" y="230"/>
                    <a:pt x="282" y="261"/>
                    <a:pt x="292" y="292"/>
                  </a:cubicBezTo>
                  <a:cubicBezTo>
                    <a:pt x="296" y="304"/>
                    <a:pt x="297" y="317"/>
                    <a:pt x="304" y="328"/>
                  </a:cubicBezTo>
                  <a:cubicBezTo>
                    <a:pt x="308" y="334"/>
                    <a:pt x="313" y="339"/>
                    <a:pt x="316" y="346"/>
                  </a:cubicBezTo>
                  <a:cubicBezTo>
                    <a:pt x="331" y="381"/>
                    <a:pt x="323" y="393"/>
                    <a:pt x="352" y="412"/>
                  </a:cubicBezTo>
                  <a:cubicBezTo>
                    <a:pt x="360" y="435"/>
                    <a:pt x="359" y="462"/>
                    <a:pt x="370" y="484"/>
                  </a:cubicBezTo>
                  <a:cubicBezTo>
                    <a:pt x="381" y="505"/>
                    <a:pt x="402" y="516"/>
                    <a:pt x="418" y="532"/>
                  </a:cubicBezTo>
                  <a:cubicBezTo>
                    <a:pt x="432" y="575"/>
                    <a:pt x="441" y="561"/>
                    <a:pt x="412" y="580"/>
                  </a:cubicBezTo>
                  <a:cubicBezTo>
                    <a:pt x="411" y="580"/>
                    <a:pt x="376" y="562"/>
                    <a:pt x="388" y="550"/>
                  </a:cubicBezTo>
                  <a:cubicBezTo>
                    <a:pt x="393" y="545"/>
                    <a:pt x="423" y="568"/>
                    <a:pt x="424" y="568"/>
                  </a:cubicBezTo>
                  <a:cubicBezTo>
                    <a:pt x="422" y="576"/>
                    <a:pt x="417" y="584"/>
                    <a:pt x="418" y="592"/>
                  </a:cubicBezTo>
                  <a:cubicBezTo>
                    <a:pt x="419" y="605"/>
                    <a:pt x="430" y="628"/>
                    <a:pt x="430" y="628"/>
                  </a:cubicBezTo>
                  <a:cubicBezTo>
                    <a:pt x="414" y="652"/>
                    <a:pt x="407" y="657"/>
                    <a:pt x="424" y="682"/>
                  </a:cubicBezTo>
                  <a:cubicBezTo>
                    <a:pt x="437" y="749"/>
                    <a:pt x="453" y="753"/>
                    <a:pt x="418" y="730"/>
                  </a:cubicBezTo>
                  <a:cubicBezTo>
                    <a:pt x="407" y="764"/>
                    <a:pt x="417" y="798"/>
                    <a:pt x="424" y="832"/>
                  </a:cubicBezTo>
                  <a:cubicBezTo>
                    <a:pt x="426" y="892"/>
                    <a:pt x="421" y="979"/>
                    <a:pt x="442" y="1042"/>
                  </a:cubicBezTo>
                  <a:cubicBezTo>
                    <a:pt x="440" y="1052"/>
                    <a:pt x="439" y="1062"/>
                    <a:pt x="436" y="1072"/>
                  </a:cubicBezTo>
                  <a:cubicBezTo>
                    <a:pt x="433" y="1084"/>
                    <a:pt x="424" y="1108"/>
                    <a:pt x="424" y="1108"/>
                  </a:cubicBezTo>
                  <a:cubicBezTo>
                    <a:pt x="451" y="1188"/>
                    <a:pt x="434" y="1131"/>
                    <a:pt x="424" y="1324"/>
                  </a:cubicBezTo>
                  <a:cubicBezTo>
                    <a:pt x="423" y="1334"/>
                    <a:pt x="425" y="1347"/>
                    <a:pt x="418" y="1354"/>
                  </a:cubicBezTo>
                  <a:cubicBezTo>
                    <a:pt x="409" y="1363"/>
                    <a:pt x="382" y="1366"/>
                    <a:pt x="382" y="1366"/>
                  </a:cubicBezTo>
                  <a:cubicBezTo>
                    <a:pt x="355" y="1357"/>
                    <a:pt x="321" y="1373"/>
                    <a:pt x="292" y="1378"/>
                  </a:cubicBezTo>
                  <a:cubicBezTo>
                    <a:pt x="280" y="1376"/>
                    <a:pt x="268" y="1375"/>
                    <a:pt x="256" y="1372"/>
                  </a:cubicBezTo>
                  <a:cubicBezTo>
                    <a:pt x="250" y="1371"/>
                    <a:pt x="244" y="1365"/>
                    <a:pt x="238" y="1366"/>
                  </a:cubicBezTo>
                  <a:cubicBezTo>
                    <a:pt x="225" y="1367"/>
                    <a:pt x="202" y="1378"/>
                    <a:pt x="202" y="1378"/>
                  </a:cubicBezTo>
                  <a:cubicBezTo>
                    <a:pt x="166" y="1369"/>
                    <a:pt x="148" y="1366"/>
                    <a:pt x="112" y="1378"/>
                  </a:cubicBezTo>
                  <a:cubicBezTo>
                    <a:pt x="95" y="1376"/>
                    <a:pt x="24" y="1381"/>
                    <a:pt x="40" y="1348"/>
                  </a:cubicBezTo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3885480" y="2527200"/>
              <a:ext cx="762120" cy="1970280"/>
            </a:xfrm>
            <a:custGeom>
              <a:avLst/>
              <a:gdLst/>
              <a:ahLst/>
              <a:rect l="l" t="t" r="r" b="b"/>
              <a:pathLst>
                <a:path w="453" h="1381">
                  <a:moveTo>
                    <a:pt x="4" y="1348"/>
                  </a:moveTo>
                  <a:cubicBezTo>
                    <a:pt x="41" y="1360"/>
                    <a:pt x="10" y="1272"/>
                    <a:pt x="10" y="1240"/>
                  </a:cubicBezTo>
                  <a:cubicBezTo>
                    <a:pt x="8" y="832"/>
                    <a:pt x="10" y="424"/>
                    <a:pt x="10" y="16"/>
                  </a:cubicBezTo>
                  <a:cubicBezTo>
                    <a:pt x="8" y="22"/>
                    <a:pt x="0" y="30"/>
                    <a:pt x="4" y="34"/>
                  </a:cubicBezTo>
                  <a:cubicBezTo>
                    <a:pt x="12" y="42"/>
                    <a:pt x="40" y="0"/>
                    <a:pt x="40" y="46"/>
                  </a:cubicBezTo>
                  <a:cubicBezTo>
                    <a:pt x="38" y="36"/>
                    <a:pt x="34" y="26"/>
                    <a:pt x="34" y="16"/>
                  </a:cubicBezTo>
                  <a:cubicBezTo>
                    <a:pt x="34" y="10"/>
                    <a:pt x="34" y="33"/>
                    <a:pt x="40" y="34"/>
                  </a:cubicBezTo>
                  <a:cubicBezTo>
                    <a:pt x="53" y="36"/>
                    <a:pt x="76" y="22"/>
                    <a:pt x="76" y="22"/>
                  </a:cubicBezTo>
                  <a:cubicBezTo>
                    <a:pt x="77" y="22"/>
                    <a:pt x="118" y="29"/>
                    <a:pt x="124" y="34"/>
                  </a:cubicBezTo>
                  <a:cubicBezTo>
                    <a:pt x="163" y="65"/>
                    <a:pt x="109" y="43"/>
                    <a:pt x="154" y="58"/>
                  </a:cubicBezTo>
                  <a:cubicBezTo>
                    <a:pt x="163" y="84"/>
                    <a:pt x="174" y="109"/>
                    <a:pt x="196" y="124"/>
                  </a:cubicBezTo>
                  <a:cubicBezTo>
                    <a:pt x="204" y="136"/>
                    <a:pt x="217" y="146"/>
                    <a:pt x="220" y="160"/>
                  </a:cubicBezTo>
                  <a:cubicBezTo>
                    <a:pt x="221" y="166"/>
                    <a:pt x="228" y="195"/>
                    <a:pt x="232" y="202"/>
                  </a:cubicBezTo>
                  <a:cubicBezTo>
                    <a:pt x="247" y="230"/>
                    <a:pt x="282" y="261"/>
                    <a:pt x="292" y="292"/>
                  </a:cubicBezTo>
                  <a:cubicBezTo>
                    <a:pt x="296" y="304"/>
                    <a:pt x="297" y="317"/>
                    <a:pt x="304" y="328"/>
                  </a:cubicBezTo>
                  <a:cubicBezTo>
                    <a:pt x="308" y="334"/>
                    <a:pt x="313" y="339"/>
                    <a:pt x="316" y="346"/>
                  </a:cubicBezTo>
                  <a:cubicBezTo>
                    <a:pt x="331" y="381"/>
                    <a:pt x="323" y="393"/>
                    <a:pt x="352" y="412"/>
                  </a:cubicBezTo>
                  <a:cubicBezTo>
                    <a:pt x="360" y="435"/>
                    <a:pt x="359" y="462"/>
                    <a:pt x="370" y="484"/>
                  </a:cubicBezTo>
                  <a:cubicBezTo>
                    <a:pt x="381" y="505"/>
                    <a:pt x="402" y="516"/>
                    <a:pt x="418" y="532"/>
                  </a:cubicBezTo>
                  <a:cubicBezTo>
                    <a:pt x="432" y="575"/>
                    <a:pt x="441" y="561"/>
                    <a:pt x="412" y="580"/>
                  </a:cubicBezTo>
                  <a:cubicBezTo>
                    <a:pt x="411" y="580"/>
                    <a:pt x="376" y="562"/>
                    <a:pt x="388" y="550"/>
                  </a:cubicBezTo>
                  <a:cubicBezTo>
                    <a:pt x="393" y="545"/>
                    <a:pt x="423" y="568"/>
                    <a:pt x="424" y="568"/>
                  </a:cubicBezTo>
                  <a:cubicBezTo>
                    <a:pt x="422" y="576"/>
                    <a:pt x="417" y="584"/>
                    <a:pt x="418" y="592"/>
                  </a:cubicBezTo>
                  <a:cubicBezTo>
                    <a:pt x="419" y="605"/>
                    <a:pt x="430" y="628"/>
                    <a:pt x="430" y="628"/>
                  </a:cubicBezTo>
                  <a:cubicBezTo>
                    <a:pt x="414" y="652"/>
                    <a:pt x="407" y="657"/>
                    <a:pt x="424" y="682"/>
                  </a:cubicBezTo>
                  <a:cubicBezTo>
                    <a:pt x="437" y="749"/>
                    <a:pt x="453" y="753"/>
                    <a:pt x="418" y="730"/>
                  </a:cubicBezTo>
                  <a:cubicBezTo>
                    <a:pt x="407" y="764"/>
                    <a:pt x="417" y="798"/>
                    <a:pt x="424" y="832"/>
                  </a:cubicBezTo>
                  <a:cubicBezTo>
                    <a:pt x="426" y="892"/>
                    <a:pt x="421" y="979"/>
                    <a:pt x="442" y="1042"/>
                  </a:cubicBezTo>
                  <a:cubicBezTo>
                    <a:pt x="440" y="1052"/>
                    <a:pt x="439" y="1062"/>
                    <a:pt x="436" y="1072"/>
                  </a:cubicBezTo>
                  <a:cubicBezTo>
                    <a:pt x="433" y="1084"/>
                    <a:pt x="424" y="1108"/>
                    <a:pt x="424" y="1108"/>
                  </a:cubicBezTo>
                  <a:cubicBezTo>
                    <a:pt x="451" y="1188"/>
                    <a:pt x="434" y="1131"/>
                    <a:pt x="424" y="1324"/>
                  </a:cubicBezTo>
                  <a:cubicBezTo>
                    <a:pt x="423" y="1334"/>
                    <a:pt x="425" y="1347"/>
                    <a:pt x="418" y="1354"/>
                  </a:cubicBezTo>
                  <a:cubicBezTo>
                    <a:pt x="409" y="1363"/>
                    <a:pt x="382" y="1366"/>
                    <a:pt x="382" y="1366"/>
                  </a:cubicBezTo>
                  <a:cubicBezTo>
                    <a:pt x="355" y="1357"/>
                    <a:pt x="321" y="1373"/>
                    <a:pt x="292" y="1378"/>
                  </a:cubicBezTo>
                  <a:cubicBezTo>
                    <a:pt x="280" y="1376"/>
                    <a:pt x="268" y="1375"/>
                    <a:pt x="256" y="1372"/>
                  </a:cubicBezTo>
                  <a:cubicBezTo>
                    <a:pt x="250" y="1371"/>
                    <a:pt x="244" y="1365"/>
                    <a:pt x="238" y="1366"/>
                  </a:cubicBezTo>
                  <a:cubicBezTo>
                    <a:pt x="225" y="1367"/>
                    <a:pt x="202" y="1378"/>
                    <a:pt x="202" y="1378"/>
                  </a:cubicBezTo>
                  <a:cubicBezTo>
                    <a:pt x="166" y="1369"/>
                    <a:pt x="148" y="1366"/>
                    <a:pt x="112" y="1378"/>
                  </a:cubicBezTo>
                  <a:cubicBezTo>
                    <a:pt x="95" y="1376"/>
                    <a:pt x="24" y="1381"/>
                    <a:pt x="40" y="1348"/>
                  </a:cubicBezTo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3" name=""/>
            <p:cNvGrpSpPr/>
            <p:nvPr/>
          </p:nvGrpSpPr>
          <p:grpSpPr>
            <a:xfrm>
              <a:off x="1371600" y="2527200"/>
              <a:ext cx="6933960" cy="2547720"/>
              <a:chOff x="1371600" y="2527200"/>
              <a:chExt cx="6933960" cy="2547720"/>
            </a:xfrm>
          </p:grpSpPr>
          <p:sp>
            <p:nvSpPr>
              <p:cNvPr id="1634" name=""/>
              <p:cNvSpPr/>
              <p:nvPr/>
            </p:nvSpPr>
            <p:spPr>
              <a:xfrm>
                <a:off x="1565640" y="4504320"/>
                <a:ext cx="61977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565640" y="4504320"/>
                <a:ext cx="0" cy="1638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804760" y="4504320"/>
                <a:ext cx="0" cy="1638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879000" y="4504320"/>
                <a:ext cx="0" cy="1638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284080" y="4504320"/>
                <a:ext cx="0" cy="1638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522840" y="4504320"/>
                <a:ext cx="0" cy="1638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763760" y="4504320"/>
                <a:ext cx="0" cy="1638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371600" y="461520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             20          40     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5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60           80            1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587120" y="2527200"/>
                <a:ext cx="0" cy="19771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flipV="1">
                <a:off x="2883240" y="4491000"/>
                <a:ext cx="61560" cy="126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flipV="1">
                <a:off x="2945160" y="4468320"/>
                <a:ext cx="63360" cy="230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V="1">
                <a:off x="3008520" y="4456440"/>
                <a:ext cx="47160" cy="1152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056040" y="4433040"/>
                <a:ext cx="63360" cy="2340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19"/>
                    </a:moveTo>
                    <a:lnTo>
                      <a:pt x="19" y="10"/>
                    </a:lnTo>
                    <a:lnTo>
                      <a:pt x="3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3119760" y="4395600"/>
                <a:ext cx="48600" cy="3708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168720" y="4361040"/>
                <a:ext cx="60480" cy="3456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19" y="10"/>
                    </a:lnTo>
                    <a:lnTo>
                      <a:pt x="38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V="1">
                <a:off x="3229200" y="4325400"/>
                <a:ext cx="50040" cy="3492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V="1">
                <a:off x="3279600" y="4276800"/>
                <a:ext cx="60120" cy="486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3340080" y="4230000"/>
                <a:ext cx="65160" cy="464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3405600" y="4169880"/>
                <a:ext cx="47160" cy="6048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452760" y="4098960"/>
                <a:ext cx="63360" cy="7092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5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3516480" y="4026600"/>
                <a:ext cx="47160" cy="720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564000" y="3942720"/>
                <a:ext cx="61560" cy="835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68"/>
                    </a:moveTo>
                    <a:lnTo>
                      <a:pt x="19" y="39"/>
                    </a:lnTo>
                    <a:lnTo>
                      <a:pt x="38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3625560" y="3848400"/>
                <a:ext cx="47160" cy="939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3673080" y="3753000"/>
                <a:ext cx="64800" cy="954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3738240" y="3657240"/>
                <a:ext cx="63360" cy="954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3801960" y="3549960"/>
                <a:ext cx="47160" cy="10692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849480" y="3431880"/>
                <a:ext cx="63360" cy="1184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96"/>
                    </a:moveTo>
                    <a:lnTo>
                      <a:pt x="19" y="48"/>
                    </a:lnTo>
                    <a:lnTo>
                      <a:pt x="3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3912840" y="3326040"/>
                <a:ext cx="47160" cy="1058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960360" y="3217680"/>
                <a:ext cx="63360" cy="1080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87"/>
                    </a:moveTo>
                    <a:lnTo>
                      <a:pt x="19" y="38"/>
                    </a:lnTo>
                    <a:lnTo>
                      <a:pt x="38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V="1">
                <a:off x="4024080" y="3110040"/>
                <a:ext cx="45720" cy="10692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4069800" y="3004560"/>
                <a:ext cx="64800" cy="1058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4134960" y="2907360"/>
                <a:ext cx="61920" cy="968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4197240" y="2813040"/>
                <a:ext cx="48600" cy="939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246200" y="2729880"/>
                <a:ext cx="63360" cy="835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6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309920" y="2657520"/>
                <a:ext cx="47160" cy="7200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58"/>
                    </a:moveTo>
                    <a:lnTo>
                      <a:pt x="9" y="29"/>
                    </a:lnTo>
                    <a:lnTo>
                      <a:pt x="2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357080" y="2610000"/>
                <a:ext cx="61560" cy="475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39"/>
                    </a:moveTo>
                    <a:lnTo>
                      <a:pt x="19" y="20"/>
                    </a:lnTo>
                    <a:lnTo>
                      <a:pt x="38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419000" y="2561760"/>
                <a:ext cx="48960" cy="4788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10" y="19"/>
                    </a:lnTo>
                    <a:lnTo>
                      <a:pt x="2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4468320" y="2538720"/>
                <a:ext cx="61560" cy="230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4529880" y="2527200"/>
                <a:ext cx="65160" cy="1152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595400" y="2527200"/>
                <a:ext cx="46800" cy="1152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642560" y="2538720"/>
                <a:ext cx="63360" cy="2304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0"/>
                    </a:moveTo>
                    <a:lnTo>
                      <a:pt x="19" y="10"/>
                    </a:lnTo>
                    <a:lnTo>
                      <a:pt x="39" y="2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706280" y="2561760"/>
                <a:ext cx="48960" cy="4788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0"/>
                    </a:moveTo>
                    <a:lnTo>
                      <a:pt x="9" y="19"/>
                    </a:lnTo>
                    <a:lnTo>
                      <a:pt x="29" y="38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755600" y="2610000"/>
                <a:ext cx="60120" cy="475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0"/>
                    </a:moveTo>
                    <a:lnTo>
                      <a:pt x="19" y="20"/>
                    </a:lnTo>
                    <a:lnTo>
                      <a:pt x="38" y="39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815720" y="2657520"/>
                <a:ext cx="48600" cy="7200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0"/>
                    </a:moveTo>
                    <a:lnTo>
                      <a:pt x="10" y="29"/>
                    </a:lnTo>
                    <a:lnTo>
                      <a:pt x="29" y="58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864680" y="2729880"/>
                <a:ext cx="61920" cy="835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0"/>
                    </a:moveTo>
                    <a:lnTo>
                      <a:pt x="20" y="29"/>
                    </a:lnTo>
                    <a:lnTo>
                      <a:pt x="39" y="68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926960" y="2813400"/>
                <a:ext cx="48600" cy="939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975560" y="2907720"/>
                <a:ext cx="63360" cy="968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039280" y="3004560"/>
                <a:ext cx="63360" cy="1058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103000" y="3110400"/>
                <a:ext cx="47160" cy="10692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150520" y="3217680"/>
                <a:ext cx="61560" cy="1080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0"/>
                    </a:moveTo>
                    <a:lnTo>
                      <a:pt x="19" y="38"/>
                    </a:lnTo>
                    <a:lnTo>
                      <a:pt x="38" y="87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212080" y="3326040"/>
                <a:ext cx="47160" cy="1058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259600" y="3431880"/>
                <a:ext cx="65160" cy="1184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0"/>
                    </a:moveTo>
                    <a:lnTo>
                      <a:pt x="20" y="48"/>
                    </a:lnTo>
                    <a:lnTo>
                      <a:pt x="39" y="96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325120" y="3550320"/>
                <a:ext cx="45360" cy="10692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370840" y="3657600"/>
                <a:ext cx="65160" cy="954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436360" y="3753360"/>
                <a:ext cx="63360" cy="954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499720" y="3848760"/>
                <a:ext cx="46800" cy="939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546880" y="3942720"/>
                <a:ext cx="63360" cy="835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0"/>
                    </a:moveTo>
                    <a:lnTo>
                      <a:pt x="19" y="39"/>
                    </a:lnTo>
                    <a:lnTo>
                      <a:pt x="38" y="68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610600" y="4026600"/>
                <a:ext cx="45720" cy="720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656320" y="4098960"/>
                <a:ext cx="64800" cy="7092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0"/>
                    </a:moveTo>
                    <a:lnTo>
                      <a:pt x="20" y="29"/>
                    </a:lnTo>
                    <a:lnTo>
                      <a:pt x="39" y="58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721480" y="4169880"/>
                <a:ext cx="47160" cy="6048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769000" y="4230360"/>
                <a:ext cx="63360" cy="464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832720" y="4277160"/>
                <a:ext cx="61920" cy="486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895000" y="4325760"/>
                <a:ext cx="48600" cy="3492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943600" y="4361040"/>
                <a:ext cx="61920" cy="3456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0"/>
                    </a:moveTo>
                    <a:lnTo>
                      <a:pt x="19" y="10"/>
                    </a:lnTo>
                    <a:lnTo>
                      <a:pt x="38" y="29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6005880" y="4395960"/>
                <a:ext cx="48600" cy="3708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054840" y="4433040"/>
                <a:ext cx="61560" cy="2340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20" y="10"/>
                    </a:lnTo>
                    <a:lnTo>
                      <a:pt x="39" y="19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116400" y="4456440"/>
                <a:ext cx="48960" cy="1152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165720" y="4468320"/>
                <a:ext cx="61560" cy="230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227640" y="4491360"/>
                <a:ext cx="63360" cy="126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587120" y="4504320"/>
                <a:ext cx="0" cy="1638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04" name=""/>
          <p:cNvSpPr/>
          <p:nvPr/>
        </p:nvSpPr>
        <p:spPr>
          <a:xfrm>
            <a:off x="434340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724280" y="5029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6576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-1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3156480" y="2363040"/>
            <a:ext cx="1261440" cy="1903680"/>
            <a:chOff x="3156480" y="2363040"/>
            <a:chExt cx="1261440" cy="1903680"/>
          </a:xfrm>
        </p:grpSpPr>
        <p:grpSp>
          <p:nvGrpSpPr>
            <p:cNvPr id="1708" name=""/>
            <p:cNvGrpSpPr/>
            <p:nvPr/>
          </p:nvGrpSpPr>
          <p:grpSpPr>
            <a:xfrm>
              <a:off x="3156480" y="2363040"/>
              <a:ext cx="977400" cy="1903680"/>
              <a:chOff x="3156480" y="2363040"/>
              <a:chExt cx="977400" cy="1903680"/>
            </a:xfrm>
          </p:grpSpPr>
          <p:sp>
            <p:nvSpPr>
              <p:cNvPr id="1709" name=""/>
              <p:cNvSpPr/>
              <p:nvPr/>
            </p:nvSpPr>
            <p:spPr>
              <a:xfrm rot="10800000">
                <a:off x="3156480" y="2363040"/>
                <a:ext cx="920160" cy="1787760"/>
              </a:xfrm>
              <a:custGeom>
                <a:avLst/>
                <a:gdLst/>
                <a:ahLst/>
                <a:rect l="l" t="t" r="r" b="b"/>
                <a:pathLst>
                  <a:path w="399" h="569">
                    <a:moveTo>
                      <a:pt x="107" y="145"/>
                    </a:moveTo>
                    <a:lnTo>
                      <a:pt x="220" y="145"/>
                    </a:lnTo>
                    <a:lnTo>
                      <a:pt x="226" y="145"/>
                    </a:lnTo>
                    <a:lnTo>
                      <a:pt x="233" y="145"/>
                    </a:lnTo>
                    <a:lnTo>
                      <a:pt x="238" y="146"/>
                    </a:lnTo>
                    <a:lnTo>
                      <a:pt x="244" y="147"/>
                    </a:lnTo>
                    <a:lnTo>
                      <a:pt x="249" y="149"/>
                    </a:lnTo>
                    <a:lnTo>
                      <a:pt x="254" y="150"/>
                    </a:lnTo>
                    <a:lnTo>
                      <a:pt x="260" y="151"/>
                    </a:lnTo>
                    <a:lnTo>
                      <a:pt x="265" y="154"/>
                    </a:lnTo>
                    <a:lnTo>
                      <a:pt x="269" y="155"/>
                    </a:lnTo>
                    <a:lnTo>
                      <a:pt x="275" y="158"/>
                    </a:lnTo>
                    <a:lnTo>
                      <a:pt x="279" y="161"/>
                    </a:lnTo>
                    <a:lnTo>
                      <a:pt x="284" y="164"/>
                    </a:lnTo>
                    <a:lnTo>
                      <a:pt x="289" y="168"/>
                    </a:lnTo>
                    <a:lnTo>
                      <a:pt x="293" y="170"/>
                    </a:lnTo>
                    <a:lnTo>
                      <a:pt x="297" y="175"/>
                    </a:lnTo>
                    <a:lnTo>
                      <a:pt x="301" y="179"/>
                    </a:lnTo>
                    <a:lnTo>
                      <a:pt x="305" y="183"/>
                    </a:lnTo>
                    <a:lnTo>
                      <a:pt x="309" y="187"/>
                    </a:lnTo>
                    <a:lnTo>
                      <a:pt x="312" y="191"/>
                    </a:lnTo>
                    <a:lnTo>
                      <a:pt x="316" y="195"/>
                    </a:lnTo>
                    <a:lnTo>
                      <a:pt x="319" y="200"/>
                    </a:lnTo>
                    <a:lnTo>
                      <a:pt x="321" y="205"/>
                    </a:lnTo>
                    <a:lnTo>
                      <a:pt x="324" y="210"/>
                    </a:lnTo>
                    <a:lnTo>
                      <a:pt x="325" y="214"/>
                    </a:lnTo>
                    <a:lnTo>
                      <a:pt x="328" y="220"/>
                    </a:lnTo>
                    <a:lnTo>
                      <a:pt x="329" y="225"/>
                    </a:lnTo>
                    <a:lnTo>
                      <a:pt x="332" y="231"/>
                    </a:lnTo>
                    <a:lnTo>
                      <a:pt x="332" y="236"/>
                    </a:lnTo>
                    <a:lnTo>
                      <a:pt x="334" y="241"/>
                    </a:lnTo>
                    <a:lnTo>
                      <a:pt x="335" y="248"/>
                    </a:lnTo>
                    <a:lnTo>
                      <a:pt x="335" y="254"/>
                    </a:lnTo>
                    <a:lnTo>
                      <a:pt x="335" y="259"/>
                    </a:lnTo>
                    <a:lnTo>
                      <a:pt x="335" y="569"/>
                    </a:lnTo>
                    <a:lnTo>
                      <a:pt x="399" y="569"/>
                    </a:lnTo>
                    <a:lnTo>
                      <a:pt x="399" y="214"/>
                    </a:lnTo>
                    <a:lnTo>
                      <a:pt x="399" y="207"/>
                    </a:lnTo>
                    <a:lnTo>
                      <a:pt x="399" y="200"/>
                    </a:lnTo>
                    <a:lnTo>
                      <a:pt x="398" y="194"/>
                    </a:lnTo>
                    <a:lnTo>
                      <a:pt x="396" y="187"/>
                    </a:lnTo>
                    <a:lnTo>
                      <a:pt x="395" y="180"/>
                    </a:lnTo>
                    <a:lnTo>
                      <a:pt x="392" y="175"/>
                    </a:lnTo>
                    <a:lnTo>
                      <a:pt x="391" y="168"/>
                    </a:lnTo>
                    <a:lnTo>
                      <a:pt x="388" y="161"/>
                    </a:lnTo>
                    <a:lnTo>
                      <a:pt x="385" y="155"/>
                    </a:lnTo>
                    <a:lnTo>
                      <a:pt x="383" y="150"/>
                    </a:lnTo>
                    <a:lnTo>
                      <a:pt x="379" y="145"/>
                    </a:lnTo>
                    <a:lnTo>
                      <a:pt x="376" y="139"/>
                    </a:lnTo>
                    <a:lnTo>
                      <a:pt x="372" y="134"/>
                    </a:lnTo>
                    <a:lnTo>
                      <a:pt x="368" y="128"/>
                    </a:lnTo>
                    <a:lnTo>
                      <a:pt x="364" y="123"/>
                    </a:lnTo>
                    <a:lnTo>
                      <a:pt x="359" y="119"/>
                    </a:lnTo>
                    <a:lnTo>
                      <a:pt x="354" y="115"/>
                    </a:lnTo>
                    <a:lnTo>
                      <a:pt x="349" y="109"/>
                    </a:lnTo>
                    <a:lnTo>
                      <a:pt x="344" y="105"/>
                    </a:lnTo>
                    <a:lnTo>
                      <a:pt x="339" y="102"/>
                    </a:lnTo>
                    <a:lnTo>
                      <a:pt x="334" y="98"/>
                    </a:lnTo>
                    <a:lnTo>
                      <a:pt x="328" y="95"/>
                    </a:lnTo>
                    <a:lnTo>
                      <a:pt x="321" y="91"/>
                    </a:lnTo>
                    <a:lnTo>
                      <a:pt x="316" y="89"/>
                    </a:lnTo>
                    <a:lnTo>
                      <a:pt x="310" y="87"/>
                    </a:lnTo>
                    <a:lnTo>
                      <a:pt x="304" y="84"/>
                    </a:lnTo>
                    <a:lnTo>
                      <a:pt x="297" y="83"/>
                    </a:lnTo>
                    <a:lnTo>
                      <a:pt x="290" y="82"/>
                    </a:lnTo>
                    <a:lnTo>
                      <a:pt x="284" y="80"/>
                    </a:lnTo>
                    <a:lnTo>
                      <a:pt x="278" y="79"/>
                    </a:lnTo>
                    <a:lnTo>
                      <a:pt x="271" y="79"/>
                    </a:lnTo>
                    <a:lnTo>
                      <a:pt x="264" y="79"/>
                    </a:lnTo>
                    <a:lnTo>
                      <a:pt x="107" y="79"/>
                    </a:lnTo>
                    <a:lnTo>
                      <a:pt x="107" y="0"/>
                    </a:lnTo>
                    <a:lnTo>
                      <a:pt x="0" y="112"/>
                    </a:lnTo>
                    <a:lnTo>
                      <a:pt x="107" y="222"/>
                    </a:lnTo>
                    <a:lnTo>
                      <a:pt x="107" y="145"/>
                    </a:lnTo>
                    <a:close/>
                  </a:path>
                </a:pathLst>
              </a:custGeom>
              <a:solidFill>
                <a:srgbClr val="cbc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10800000">
                <a:off x="3213720" y="2479680"/>
                <a:ext cx="920160" cy="1787040"/>
              </a:xfrm>
              <a:custGeom>
                <a:avLst/>
                <a:gdLst/>
                <a:ahLst/>
                <a:rect l="l" t="t" r="r" b="b"/>
                <a:pathLst>
                  <a:path w="399" h="569">
                    <a:moveTo>
                      <a:pt x="108" y="145"/>
                    </a:moveTo>
                    <a:lnTo>
                      <a:pt x="221" y="145"/>
                    </a:lnTo>
                    <a:lnTo>
                      <a:pt x="226" y="145"/>
                    </a:lnTo>
                    <a:lnTo>
                      <a:pt x="232" y="145"/>
                    </a:lnTo>
                    <a:lnTo>
                      <a:pt x="239" y="146"/>
                    </a:lnTo>
                    <a:lnTo>
                      <a:pt x="244" y="147"/>
                    </a:lnTo>
                    <a:lnTo>
                      <a:pt x="249" y="147"/>
                    </a:lnTo>
                    <a:lnTo>
                      <a:pt x="255" y="150"/>
                    </a:lnTo>
                    <a:lnTo>
                      <a:pt x="260" y="152"/>
                    </a:lnTo>
                    <a:lnTo>
                      <a:pt x="264" y="153"/>
                    </a:lnTo>
                    <a:lnTo>
                      <a:pt x="270" y="156"/>
                    </a:lnTo>
                    <a:lnTo>
                      <a:pt x="275" y="158"/>
                    </a:lnTo>
                    <a:lnTo>
                      <a:pt x="279" y="161"/>
                    </a:lnTo>
                    <a:lnTo>
                      <a:pt x="285" y="164"/>
                    </a:lnTo>
                    <a:lnTo>
                      <a:pt x="289" y="168"/>
                    </a:lnTo>
                    <a:lnTo>
                      <a:pt x="293" y="171"/>
                    </a:lnTo>
                    <a:lnTo>
                      <a:pt x="297" y="175"/>
                    </a:lnTo>
                    <a:lnTo>
                      <a:pt x="301" y="179"/>
                    </a:lnTo>
                    <a:lnTo>
                      <a:pt x="305" y="182"/>
                    </a:lnTo>
                    <a:lnTo>
                      <a:pt x="309" y="186"/>
                    </a:lnTo>
                    <a:lnTo>
                      <a:pt x="312" y="191"/>
                    </a:lnTo>
                    <a:lnTo>
                      <a:pt x="316" y="195"/>
                    </a:lnTo>
                    <a:lnTo>
                      <a:pt x="319" y="199"/>
                    </a:lnTo>
                    <a:lnTo>
                      <a:pt x="322" y="205"/>
                    </a:lnTo>
                    <a:lnTo>
                      <a:pt x="324" y="210"/>
                    </a:lnTo>
                    <a:lnTo>
                      <a:pt x="326" y="214"/>
                    </a:lnTo>
                    <a:lnTo>
                      <a:pt x="329" y="220"/>
                    </a:lnTo>
                    <a:lnTo>
                      <a:pt x="330" y="225"/>
                    </a:lnTo>
                    <a:lnTo>
                      <a:pt x="331" y="231"/>
                    </a:lnTo>
                    <a:lnTo>
                      <a:pt x="333" y="236"/>
                    </a:lnTo>
                    <a:lnTo>
                      <a:pt x="334" y="242"/>
                    </a:lnTo>
                    <a:lnTo>
                      <a:pt x="335" y="247"/>
                    </a:lnTo>
                    <a:lnTo>
                      <a:pt x="335" y="254"/>
                    </a:lnTo>
                    <a:lnTo>
                      <a:pt x="335" y="259"/>
                    </a:lnTo>
                    <a:lnTo>
                      <a:pt x="335" y="569"/>
                    </a:lnTo>
                    <a:lnTo>
                      <a:pt x="399" y="569"/>
                    </a:lnTo>
                    <a:lnTo>
                      <a:pt x="399" y="214"/>
                    </a:lnTo>
                    <a:lnTo>
                      <a:pt x="399" y="207"/>
                    </a:lnTo>
                    <a:lnTo>
                      <a:pt x="398" y="201"/>
                    </a:lnTo>
                    <a:lnTo>
                      <a:pt x="398" y="194"/>
                    </a:lnTo>
                    <a:lnTo>
                      <a:pt x="397" y="187"/>
                    </a:lnTo>
                    <a:lnTo>
                      <a:pt x="395" y="180"/>
                    </a:lnTo>
                    <a:lnTo>
                      <a:pt x="393" y="173"/>
                    </a:lnTo>
                    <a:lnTo>
                      <a:pt x="391" y="168"/>
                    </a:lnTo>
                    <a:lnTo>
                      <a:pt x="389" y="161"/>
                    </a:lnTo>
                    <a:lnTo>
                      <a:pt x="386" y="156"/>
                    </a:lnTo>
                    <a:lnTo>
                      <a:pt x="383" y="150"/>
                    </a:lnTo>
                    <a:lnTo>
                      <a:pt x="379" y="143"/>
                    </a:lnTo>
                    <a:lnTo>
                      <a:pt x="376" y="138"/>
                    </a:lnTo>
                    <a:lnTo>
                      <a:pt x="372" y="134"/>
                    </a:lnTo>
                    <a:lnTo>
                      <a:pt x="368" y="128"/>
                    </a:lnTo>
                    <a:lnTo>
                      <a:pt x="364" y="123"/>
                    </a:lnTo>
                    <a:lnTo>
                      <a:pt x="360" y="119"/>
                    </a:lnTo>
                    <a:lnTo>
                      <a:pt x="354" y="113"/>
                    </a:lnTo>
                    <a:lnTo>
                      <a:pt x="349" y="109"/>
                    </a:lnTo>
                    <a:lnTo>
                      <a:pt x="345" y="105"/>
                    </a:lnTo>
                    <a:lnTo>
                      <a:pt x="339" y="101"/>
                    </a:lnTo>
                    <a:lnTo>
                      <a:pt x="334" y="98"/>
                    </a:lnTo>
                    <a:lnTo>
                      <a:pt x="329" y="94"/>
                    </a:lnTo>
                    <a:lnTo>
                      <a:pt x="322" y="91"/>
                    </a:lnTo>
                    <a:lnTo>
                      <a:pt x="316" y="89"/>
                    </a:lnTo>
                    <a:lnTo>
                      <a:pt x="309" y="86"/>
                    </a:lnTo>
                    <a:lnTo>
                      <a:pt x="304" y="85"/>
                    </a:lnTo>
                    <a:lnTo>
                      <a:pt x="297" y="83"/>
                    </a:lnTo>
                    <a:lnTo>
                      <a:pt x="290" y="81"/>
                    </a:lnTo>
                    <a:lnTo>
                      <a:pt x="284" y="81"/>
                    </a:lnTo>
                    <a:lnTo>
                      <a:pt x="278" y="79"/>
                    </a:lnTo>
                    <a:lnTo>
                      <a:pt x="270" y="79"/>
                    </a:lnTo>
                    <a:lnTo>
                      <a:pt x="263" y="78"/>
                    </a:lnTo>
                    <a:lnTo>
                      <a:pt x="108" y="78"/>
                    </a:lnTo>
                    <a:lnTo>
                      <a:pt x="108" y="0"/>
                    </a:lnTo>
                    <a:lnTo>
                      <a:pt x="0" y="112"/>
                    </a:lnTo>
                    <a:lnTo>
                      <a:pt x="108" y="222"/>
                    </a:lnTo>
                    <a:lnTo>
                      <a:pt x="108" y="145"/>
                    </a:lnTo>
                    <a:close/>
                  </a:path>
                </a:pathLst>
              </a:custGeom>
              <a:solidFill>
                <a:srgbClr val="495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1" name=""/>
            <p:cNvSpPr/>
            <p:nvPr/>
          </p:nvSpPr>
          <p:spPr>
            <a:xfrm>
              <a:off x="3399120" y="3029040"/>
              <a:ext cx="101880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0.39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2" name=""/>
          <p:cNvSpPr/>
          <p:nvPr/>
        </p:nvSpPr>
        <p:spPr>
          <a:xfrm>
            <a:off x="838080" y="1371600"/>
            <a:ext cx="7467840" cy="1282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37587" dir="877859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both sides are symmetrical, 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left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side                                                       (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the area between 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the mean and a negati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score </a:t>
            </a:r>
            <a:r>
              <a:rPr b="1" lang="en-GB" sz="2400" spc="-1" strike="noStrike">
                <a:solidFill>
                  <a:srgbClr val="ff5050"/>
                </a:solidFill>
                <a:latin typeface="Times New Roman"/>
              </a:rPr>
              <a:t>-1.25</a:t>
            </a:r>
            <a:r>
              <a:rPr b="1" lang="en-GB" sz="2400" spc="-1" strike="noStrike">
                <a:solidFill>
                  <a:srgbClr val="040000"/>
                </a:solidFill>
                <a:latin typeface="Times New Roman"/>
              </a:rPr>
              <a:t>)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must have the same area…………..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0.39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FF7D-E774-44AC-A891-76D9345950CA}" type="slidenum">
              <a:t>31</a:t>
            </a:fld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3" name=""/>
          <p:cNvGrpSpPr/>
          <p:nvPr/>
        </p:nvGrpSpPr>
        <p:grpSpPr>
          <a:xfrm>
            <a:off x="1490040" y="47520"/>
            <a:ext cx="6503760" cy="1905480"/>
            <a:chOff x="1490040" y="47520"/>
            <a:chExt cx="6503760" cy="1905480"/>
          </a:xfrm>
        </p:grpSpPr>
        <p:sp>
          <p:nvSpPr>
            <p:cNvPr id="1714" name=""/>
            <p:cNvSpPr/>
            <p:nvPr/>
          </p:nvSpPr>
          <p:spPr>
            <a:xfrm>
              <a:off x="1490040" y="47520"/>
              <a:ext cx="6503760" cy="1191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5400000"/>
            </a:gradFill>
            <a:ln w="0">
              <a:noFill/>
            </a:ln>
            <a:effectLst>
              <a:outerShdw dist="137587" dir="74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he</a:t>
              </a:r>
              <a:r>
                <a:rPr b="1" i="1" lang="en-US" sz="3600" spc="-1" strike="noStrike">
                  <a:solidFill>
                    <a:srgbClr val="ffffff"/>
                  </a:solidFill>
                  <a:latin typeface="Times New Roman"/>
                </a:rPr>
                <a:t> Standard 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rmal Probability Distribu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94400" y="1371600"/>
              <a:ext cx="3323160" cy="5814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 Distribu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457200" y="1752480"/>
            <a:ext cx="1704600" cy="762120"/>
            <a:chOff x="457200" y="1752480"/>
            <a:chExt cx="1704600" cy="762120"/>
          </a:xfrm>
        </p:grpSpPr>
        <p:sp>
          <p:nvSpPr>
            <p:cNvPr id="1717" name=""/>
            <p:cNvSpPr txBox="1"/>
            <p:nvPr/>
          </p:nvSpPr>
          <p:spPr>
            <a:xfrm>
              <a:off x="457200" y="1752480"/>
              <a:ext cx="4147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18" name=""/>
            <p:cNvSpPr txBox="1"/>
            <p:nvPr/>
          </p:nvSpPr>
          <p:spPr>
            <a:xfrm>
              <a:off x="894600" y="1935360"/>
              <a:ext cx="1267200" cy="41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2433600" y="1905120"/>
            <a:ext cx="44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40 &lt; 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&lt; 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1486080" y="2538000"/>
            <a:ext cx="6819840" cy="3026880"/>
            <a:chOff x="1486080" y="2538000"/>
            <a:chExt cx="6819840" cy="3026880"/>
          </a:xfrm>
        </p:grpSpPr>
        <p:sp>
          <p:nvSpPr>
            <p:cNvPr id="1721" name=""/>
            <p:cNvSpPr/>
            <p:nvPr/>
          </p:nvSpPr>
          <p:spPr>
            <a:xfrm>
              <a:off x="1676520" y="4969800"/>
              <a:ext cx="60958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676520" y="4969800"/>
              <a:ext cx="0" cy="202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895840" y="4969800"/>
              <a:ext cx="0" cy="202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114800" y="4969800"/>
              <a:ext cx="0" cy="202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334120" y="4969800"/>
              <a:ext cx="0" cy="202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53440" y="4969800"/>
              <a:ext cx="0" cy="202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772400" y="4969800"/>
              <a:ext cx="0" cy="202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86080" y="5105160"/>
              <a:ext cx="68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20            40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60           80           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648320" y="2538360"/>
              <a:ext cx="0" cy="2431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2971800" y="4954680"/>
              <a:ext cx="61920" cy="151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3033720" y="4926600"/>
              <a:ext cx="61920" cy="28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V="1">
              <a:off x="3095640" y="4910400"/>
              <a:ext cx="47880" cy="15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143520" y="4882680"/>
              <a:ext cx="61920" cy="280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205440" y="4837680"/>
              <a:ext cx="47520" cy="446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252960" y="4794120"/>
              <a:ext cx="60120" cy="43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3313080" y="4750200"/>
              <a:ext cx="49320" cy="43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3362400" y="4691160"/>
              <a:ext cx="60480" cy="58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3422880" y="4633560"/>
              <a:ext cx="63360" cy="57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>
              <a:off x="3486240" y="4559400"/>
              <a:ext cx="46080" cy="74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532320" y="4471920"/>
              <a:ext cx="63360" cy="8712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3595680" y="4383000"/>
              <a:ext cx="46080" cy="88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641760" y="4280760"/>
              <a:ext cx="61920" cy="1022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3703680" y="4163760"/>
              <a:ext cx="46080" cy="1166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V="1">
              <a:off x="3749760" y="4047120"/>
              <a:ext cx="63360" cy="1166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3813120" y="3928680"/>
              <a:ext cx="63720" cy="118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3876840" y="3797280"/>
              <a:ext cx="46080" cy="130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922920" y="3651480"/>
              <a:ext cx="63360" cy="14616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3986280" y="3520080"/>
              <a:ext cx="46080" cy="130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32360" y="3388320"/>
              <a:ext cx="61920" cy="1321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4094280" y="3255480"/>
              <a:ext cx="46080" cy="1321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4140360" y="3124800"/>
              <a:ext cx="63360" cy="130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4203720" y="3006720"/>
              <a:ext cx="61920" cy="117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4265640" y="2890080"/>
              <a:ext cx="47880" cy="1166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13520" y="2787480"/>
              <a:ext cx="61920" cy="1026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375440" y="2698560"/>
              <a:ext cx="47520" cy="885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22960" y="263952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483080" y="2581920"/>
              <a:ext cx="47880" cy="57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4530960" y="2552400"/>
              <a:ext cx="61920" cy="29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>
              <a:off x="4592880" y="2538000"/>
              <a:ext cx="6336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656240" y="2538360"/>
              <a:ext cx="47520" cy="140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703760" y="2552400"/>
              <a:ext cx="61920" cy="295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765680" y="2581920"/>
              <a:ext cx="47880" cy="57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813560" y="263952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873680" y="2698560"/>
              <a:ext cx="47520" cy="885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921200" y="2787480"/>
              <a:ext cx="61920" cy="1026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983120" y="2890080"/>
              <a:ext cx="47880" cy="1166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031000" y="3007080"/>
              <a:ext cx="61920" cy="1177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092920" y="3125160"/>
              <a:ext cx="63360" cy="130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156280" y="3255840"/>
              <a:ext cx="46080" cy="1321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02360" y="3388320"/>
              <a:ext cx="61920" cy="1321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64280" y="3520440"/>
              <a:ext cx="46080" cy="130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310360" y="3651480"/>
              <a:ext cx="63360" cy="14616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373720" y="3797640"/>
              <a:ext cx="46080" cy="130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419800" y="3928680"/>
              <a:ext cx="63720" cy="118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483520" y="4047120"/>
              <a:ext cx="63360" cy="1166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546880" y="4163760"/>
              <a:ext cx="46080" cy="1166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592960" y="4280760"/>
              <a:ext cx="61920" cy="1022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654880" y="4383000"/>
              <a:ext cx="46080" cy="88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00960" y="4471920"/>
              <a:ext cx="63360" cy="8712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64320" y="4559400"/>
              <a:ext cx="46080" cy="74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10400" y="4633560"/>
              <a:ext cx="63360" cy="57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73760" y="4691520"/>
              <a:ext cx="60480" cy="58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934240" y="4750560"/>
              <a:ext cx="49320" cy="43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983560" y="4794120"/>
              <a:ext cx="60120" cy="435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043680" y="4837680"/>
              <a:ext cx="47520" cy="4464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091200" y="4882680"/>
              <a:ext cx="61920" cy="280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153120" y="4910760"/>
              <a:ext cx="47880" cy="15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201000" y="4926600"/>
              <a:ext cx="61920" cy="280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262920" y="4954680"/>
              <a:ext cx="61920" cy="151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648320" y="4969800"/>
              <a:ext cx="0" cy="202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457200" y="2949480"/>
            <a:ext cx="3048120" cy="12009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cc"/>
                </a:solidFill>
                <a:latin typeface="Symbol"/>
                <a:ea typeface="Symbol"/>
              </a:rPr>
              <a:t>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3200" spc="-1" strike="noStrike">
                <a:solidFill>
                  <a:srgbClr val="0033cc"/>
                </a:solidFill>
                <a:latin typeface="Times New Roman"/>
              </a:rPr>
              <a:t>50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2141640" y="5649840"/>
            <a:ext cx="2743200" cy="371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40 &lt; 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&lt; 60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380880" y="5257800"/>
            <a:ext cx="1357200" cy="1218960"/>
            <a:chOff x="380880" y="5257800"/>
            <a:chExt cx="1357200" cy="1218960"/>
          </a:xfrm>
        </p:grpSpPr>
        <p:sp>
          <p:nvSpPr>
            <p:cNvPr id="1794" name=""/>
            <p:cNvSpPr/>
            <p:nvPr/>
          </p:nvSpPr>
          <p:spPr>
            <a:xfrm>
              <a:off x="380880" y="5302800"/>
              <a:ext cx="1267920" cy="117396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5"/>
                  </a:lnTo>
                  <a:lnTo>
                    <a:pt x="192" y="397"/>
                  </a:lnTo>
                  <a:lnTo>
                    <a:pt x="79" y="660"/>
                  </a:lnTo>
                  <a:lnTo>
                    <a:pt x="344" y="499"/>
                  </a:lnTo>
                  <a:lnTo>
                    <a:pt x="567" y="677"/>
                  </a:lnTo>
                  <a:lnTo>
                    <a:pt x="520" y="419"/>
                  </a:lnTo>
                  <a:lnTo>
                    <a:pt x="724" y="254"/>
                  </a:lnTo>
                  <a:lnTo>
                    <a:pt x="449" y="245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70160" y="5257800"/>
              <a:ext cx="1267920" cy="117432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6"/>
                  </a:lnTo>
                  <a:lnTo>
                    <a:pt x="193" y="399"/>
                  </a:lnTo>
                  <a:lnTo>
                    <a:pt x="78" y="660"/>
                  </a:lnTo>
                  <a:lnTo>
                    <a:pt x="344" y="499"/>
                  </a:lnTo>
                  <a:lnTo>
                    <a:pt x="566" y="677"/>
                  </a:lnTo>
                  <a:lnTo>
                    <a:pt x="519" y="419"/>
                  </a:lnTo>
                  <a:lnTo>
                    <a:pt x="724" y="254"/>
                  </a:lnTo>
                  <a:lnTo>
                    <a:pt x="448" y="246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fff14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 txBox="1"/>
            <p:nvPr/>
          </p:nvSpPr>
          <p:spPr>
            <a:xfrm rot="19894800">
              <a:off x="734400" y="5626800"/>
              <a:ext cx="756360" cy="41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t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4801320" y="5649840"/>
            <a:ext cx="2521440" cy="371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4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6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2288520" y="6183360"/>
            <a:ext cx="4627440" cy="371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= 40 or 60) is </a:t>
            </a:r>
            <a:r>
              <a:rPr b="1" i="1" lang="en-GB" sz="2800" spc="-1" strike="noStrike">
                <a:solidFill>
                  <a:srgbClr val="ff5050"/>
                </a:solidFill>
                <a:latin typeface="Times New Roman"/>
              </a:rPr>
              <a:t>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3527-5DBA-456B-8CB3-8142CE02FC76}" type="slidenum">
              <a:t>32</a:t>
            </a:fld>
          </a:p>
        </p:txBody>
      </p:sp>
    </p:spTree>
  </p:cSld>
  <p:transition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9" name=""/>
          <p:cNvGrpSpPr/>
          <p:nvPr/>
        </p:nvGrpSpPr>
        <p:grpSpPr>
          <a:xfrm>
            <a:off x="1066680" y="1371600"/>
            <a:ext cx="7162920" cy="4419720"/>
            <a:chOff x="1066680" y="1371600"/>
            <a:chExt cx="7162920" cy="4419720"/>
          </a:xfrm>
        </p:grpSpPr>
        <p:sp>
          <p:nvSpPr>
            <p:cNvPr id="1800" name=""/>
            <p:cNvSpPr/>
            <p:nvPr/>
          </p:nvSpPr>
          <p:spPr>
            <a:xfrm>
              <a:off x="1066680" y="2438280"/>
              <a:ext cx="7162920" cy="3124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1143000" y="1371600"/>
              <a:ext cx="7086600" cy="4419720"/>
              <a:chOff x="1143000" y="1371600"/>
              <a:chExt cx="7086600" cy="4419720"/>
            </a:xfrm>
          </p:grpSpPr>
          <p:pic>
            <p:nvPicPr>
              <p:cNvPr id="1802" name="Z%20TABLE_B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743200"/>
                <a:ext cx="7010280" cy="304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3" name=""/>
              <p:cNvSpPr/>
              <p:nvPr/>
            </p:nvSpPr>
            <p:spPr>
              <a:xfrm>
                <a:off x="1143000" y="1371600"/>
                <a:ext cx="7086600" cy="1312920"/>
              </a:xfrm>
              <a:prstGeom prst="rect">
                <a:avLst/>
              </a:prstGeom>
              <a:gradFill rotWithShape="0">
                <a:gsLst>
                  <a:gs pos="0">
                    <a:srgbClr val="33ccff"/>
                  </a:gs>
                  <a:gs pos="50000">
                    <a:srgbClr val="fefefe"/>
                  </a:gs>
                  <a:gs pos="100000">
                    <a:srgbClr val="33ccff"/>
                  </a:gs>
                </a:gsLst>
                <a:lin ang="8100000"/>
              </a:gradFill>
              <a:ln w="0">
                <a:noFill/>
              </a:ln>
              <a:effectLst>
                <a:outerShdw dist="153009" dir="13293983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Using the Normal Distribution Tabl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4" name=""/>
            <p:cNvSpPr/>
            <p:nvPr/>
          </p:nvSpPr>
          <p:spPr>
            <a:xfrm>
              <a:off x="1821240" y="3505320"/>
              <a:ext cx="5592240" cy="764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  <a:effectLst>
              <a:outerShdw dist="137587" dir="74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Practise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ff3300"/>
                  </a:solidFill>
                  <a:latin typeface="Times New Roman"/>
                </a:rPr>
                <a:t>Finding Area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D593-E69E-4B55-96E6-33FE7132AF8B}" type="slidenum">
              <a:t>33</a:t>
            </a:fld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5" name=""/>
          <p:cNvGrpSpPr/>
          <p:nvPr/>
        </p:nvGrpSpPr>
        <p:grpSpPr>
          <a:xfrm>
            <a:off x="6553080" y="2666520"/>
            <a:ext cx="498600" cy="2057760"/>
            <a:chOff x="6553080" y="2666520"/>
            <a:chExt cx="498600" cy="2057760"/>
          </a:xfrm>
        </p:grpSpPr>
        <p:sp>
          <p:nvSpPr>
            <p:cNvPr id="1806" name=""/>
            <p:cNvSpPr/>
            <p:nvPr/>
          </p:nvSpPr>
          <p:spPr>
            <a:xfrm flipV="1">
              <a:off x="6553080" y="2666520"/>
              <a:ext cx="63720" cy="11160"/>
            </a:xfrm>
            <a:prstGeom prst="line">
              <a:avLst/>
            </a:prstGeom>
            <a:ln w="46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670800" y="2666880"/>
              <a:ext cx="0" cy="20574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746760" y="2738520"/>
              <a:ext cx="0" cy="19857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823080" y="2808360"/>
              <a:ext cx="0" cy="19159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899400" y="2879640"/>
              <a:ext cx="0" cy="18446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975360" y="3021120"/>
              <a:ext cx="0" cy="17031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051680" y="3164040"/>
              <a:ext cx="0" cy="1560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94480" y="2666880"/>
              <a:ext cx="0" cy="20574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4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752480" y="3962520"/>
            <a:ext cx="327672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ok up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0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752480" y="2712960"/>
            <a:ext cx="2590920" cy="947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cate</a:t>
            </a:r>
            <a:r>
              <a:rPr b="1" i="1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a on the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4800600" y="2590560"/>
            <a:ext cx="3505320" cy="2593440"/>
            <a:chOff x="4800600" y="2590560"/>
            <a:chExt cx="3505320" cy="2593440"/>
          </a:xfrm>
        </p:grpSpPr>
        <p:grpSp>
          <p:nvGrpSpPr>
            <p:cNvPr id="1818" name=""/>
            <p:cNvGrpSpPr/>
            <p:nvPr/>
          </p:nvGrpSpPr>
          <p:grpSpPr>
            <a:xfrm>
              <a:off x="4800600" y="2590560"/>
              <a:ext cx="3505320" cy="2156040"/>
              <a:chOff x="4800600" y="2590560"/>
              <a:chExt cx="3505320" cy="2156040"/>
            </a:xfrm>
          </p:grpSpPr>
          <p:sp>
            <p:nvSpPr>
              <p:cNvPr id="1819" name=""/>
              <p:cNvSpPr/>
              <p:nvPr/>
            </p:nvSpPr>
            <p:spPr>
              <a:xfrm>
                <a:off x="4800600" y="4724280"/>
                <a:ext cx="35053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567480" y="2590920"/>
                <a:ext cx="0" cy="215568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862520" y="4731840"/>
                <a:ext cx="63360" cy="140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925880" y="4708080"/>
                <a:ext cx="63720" cy="234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989600" y="4693680"/>
                <a:ext cx="48960" cy="140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038560" y="4668840"/>
                <a:ext cx="61920" cy="2484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19"/>
                    </a:moveTo>
                    <a:lnTo>
                      <a:pt x="19" y="10"/>
                    </a:lnTo>
                    <a:lnTo>
                      <a:pt x="3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5100480" y="4630320"/>
                <a:ext cx="47880" cy="378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148360" y="4591080"/>
                <a:ext cx="61920" cy="3924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19" y="10"/>
                    </a:lnTo>
                    <a:lnTo>
                      <a:pt x="38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5210280" y="4552560"/>
                <a:ext cx="50760" cy="378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5261040" y="4500000"/>
                <a:ext cx="61920" cy="522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V="1">
                <a:off x="5322960" y="4448160"/>
                <a:ext cx="63360" cy="518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5386320" y="4381560"/>
                <a:ext cx="46080" cy="662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432400" y="4306680"/>
                <a:ext cx="65160" cy="7452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5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5497560" y="4227120"/>
                <a:ext cx="47520" cy="788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545080" y="4135320"/>
                <a:ext cx="63720" cy="9180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68"/>
                    </a:moveTo>
                    <a:lnTo>
                      <a:pt x="19" y="39"/>
                    </a:lnTo>
                    <a:lnTo>
                      <a:pt x="38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5608800" y="4032000"/>
                <a:ext cx="45720" cy="1029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V="1">
                <a:off x="5654520" y="3928680"/>
                <a:ext cx="63720" cy="1026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5718240" y="3822120"/>
                <a:ext cx="65160" cy="1062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5783400" y="3708360"/>
                <a:ext cx="47520" cy="1137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830920" y="3578040"/>
                <a:ext cx="65160" cy="12996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96"/>
                    </a:moveTo>
                    <a:lnTo>
                      <a:pt x="19" y="48"/>
                    </a:lnTo>
                    <a:lnTo>
                      <a:pt x="3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5896080" y="3461760"/>
                <a:ext cx="46080" cy="1155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5942160" y="3344760"/>
                <a:ext cx="61920" cy="1170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87"/>
                    </a:moveTo>
                    <a:lnTo>
                      <a:pt x="19" y="38"/>
                    </a:lnTo>
                    <a:lnTo>
                      <a:pt x="38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V="1">
                <a:off x="6004080" y="3227040"/>
                <a:ext cx="47520" cy="1170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V="1">
                <a:off x="6051600" y="3111120"/>
                <a:ext cx="65160" cy="1155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6116760" y="3006720"/>
                <a:ext cx="63360" cy="1044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V="1">
                <a:off x="6180120" y="2903400"/>
                <a:ext cx="47520" cy="1029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227640" y="281124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6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289560" y="2733480"/>
                <a:ext cx="49320" cy="7740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58"/>
                    </a:moveTo>
                    <a:lnTo>
                      <a:pt x="9" y="29"/>
                    </a:lnTo>
                    <a:lnTo>
                      <a:pt x="2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338880" y="2681280"/>
                <a:ext cx="61920" cy="518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39"/>
                    </a:moveTo>
                    <a:lnTo>
                      <a:pt x="19" y="20"/>
                    </a:lnTo>
                    <a:lnTo>
                      <a:pt x="38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400800" y="26287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10" y="19"/>
                    </a:lnTo>
                    <a:lnTo>
                      <a:pt x="29" y="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6448320" y="2603160"/>
                <a:ext cx="63720" cy="248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6512040" y="2590560"/>
                <a:ext cx="63360" cy="126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575400" y="2590920"/>
                <a:ext cx="49320" cy="126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624720" y="2603520"/>
                <a:ext cx="63360" cy="2484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0"/>
                    </a:moveTo>
                    <a:lnTo>
                      <a:pt x="19" y="10"/>
                    </a:lnTo>
                    <a:lnTo>
                      <a:pt x="39" y="20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688080" y="2628720"/>
                <a:ext cx="47520" cy="522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0"/>
                    </a:moveTo>
                    <a:lnTo>
                      <a:pt x="9" y="19"/>
                    </a:lnTo>
                    <a:lnTo>
                      <a:pt x="29" y="38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735600" y="2681280"/>
                <a:ext cx="61920" cy="518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0"/>
                    </a:moveTo>
                    <a:lnTo>
                      <a:pt x="19" y="20"/>
                    </a:lnTo>
                    <a:lnTo>
                      <a:pt x="38" y="39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797520" y="2733480"/>
                <a:ext cx="47880" cy="7740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0"/>
                    </a:moveTo>
                    <a:lnTo>
                      <a:pt x="10" y="29"/>
                    </a:lnTo>
                    <a:lnTo>
                      <a:pt x="29" y="58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845400" y="2811240"/>
                <a:ext cx="63360" cy="9180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0"/>
                    </a:moveTo>
                    <a:lnTo>
                      <a:pt x="20" y="29"/>
                    </a:lnTo>
                    <a:lnTo>
                      <a:pt x="39" y="68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908760" y="2903400"/>
                <a:ext cx="47520" cy="1029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956280" y="3006720"/>
                <a:ext cx="63720" cy="1044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020000" y="3111480"/>
                <a:ext cx="65160" cy="1155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085160" y="3227400"/>
                <a:ext cx="45720" cy="1170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130880" y="3344760"/>
                <a:ext cx="63720" cy="1170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0"/>
                    </a:moveTo>
                    <a:lnTo>
                      <a:pt x="19" y="38"/>
                    </a:lnTo>
                    <a:lnTo>
                      <a:pt x="38" y="87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194600" y="3462120"/>
                <a:ext cx="46080" cy="1155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240680" y="3578040"/>
                <a:ext cx="65160" cy="12996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0"/>
                    </a:moveTo>
                    <a:lnTo>
                      <a:pt x="20" y="48"/>
                    </a:lnTo>
                    <a:lnTo>
                      <a:pt x="39" y="96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305840" y="3708360"/>
                <a:ext cx="47520" cy="1137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353360" y="3822480"/>
                <a:ext cx="63360" cy="1062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416720" y="3929040"/>
                <a:ext cx="65160" cy="1026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481880" y="4032000"/>
                <a:ext cx="46080" cy="10296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527960" y="4135320"/>
                <a:ext cx="63360" cy="9180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0"/>
                    </a:moveTo>
                    <a:lnTo>
                      <a:pt x="19" y="39"/>
                    </a:lnTo>
                    <a:lnTo>
                      <a:pt x="38" y="68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591320" y="4227480"/>
                <a:ext cx="47880" cy="788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639200" y="4306680"/>
                <a:ext cx="63360" cy="7452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0"/>
                    </a:moveTo>
                    <a:lnTo>
                      <a:pt x="20" y="29"/>
                    </a:lnTo>
                    <a:lnTo>
                      <a:pt x="39" y="58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702560" y="4381560"/>
                <a:ext cx="46080" cy="662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748640" y="4448160"/>
                <a:ext cx="65160" cy="518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813800" y="4500360"/>
                <a:ext cx="61920" cy="522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875720" y="4552920"/>
                <a:ext cx="50760" cy="378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926480" y="4591080"/>
                <a:ext cx="60120" cy="3924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0"/>
                    </a:moveTo>
                    <a:lnTo>
                      <a:pt x="19" y="10"/>
                    </a:lnTo>
                    <a:lnTo>
                      <a:pt x="38" y="29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986600" y="4630680"/>
                <a:ext cx="47880" cy="378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8034480" y="4668840"/>
                <a:ext cx="63360" cy="2484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20" y="10"/>
                    </a:lnTo>
                    <a:lnTo>
                      <a:pt x="39" y="19"/>
                    </a:lnTo>
                  </a:path>
                </a:pathLst>
              </a:custGeom>
              <a:noFill/>
              <a:ln w="4608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8097840" y="4694040"/>
                <a:ext cx="49320" cy="140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8147160" y="4708440"/>
                <a:ext cx="63360" cy="2340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8210520" y="4732200"/>
                <a:ext cx="61920" cy="14040"/>
              </a:xfrm>
              <a:prstGeom prst="line">
                <a:avLst/>
              </a:prstGeom>
              <a:ln w="46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1" name=""/>
            <p:cNvSpPr/>
            <p:nvPr/>
          </p:nvSpPr>
          <p:spPr>
            <a:xfrm>
              <a:off x="6400800" y="4724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6629400" y="4800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3" name=""/>
          <p:cNvGrpSpPr/>
          <p:nvPr/>
        </p:nvGrpSpPr>
        <p:grpSpPr>
          <a:xfrm>
            <a:off x="914400" y="2789280"/>
            <a:ext cx="685800" cy="811080"/>
            <a:chOff x="914400" y="2789280"/>
            <a:chExt cx="685800" cy="811080"/>
          </a:xfrm>
        </p:grpSpPr>
        <p:pic>
          <p:nvPicPr>
            <p:cNvPr id="1884" name="" descr=""/>
            <p:cNvPicPr/>
            <p:nvPr/>
          </p:nvPicPr>
          <p:blipFill>
            <a:blip r:embed="rId1"/>
            <a:stretch/>
          </p:blipFill>
          <p:spPr>
            <a:xfrm>
              <a:off x="914400" y="278928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5" name=""/>
            <p:cNvSpPr/>
            <p:nvPr/>
          </p:nvSpPr>
          <p:spPr>
            <a:xfrm>
              <a:off x="968760" y="2865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6" name=""/>
          <p:cNvSpPr/>
          <p:nvPr/>
        </p:nvSpPr>
        <p:spPr>
          <a:xfrm>
            <a:off x="1447920" y="5181480"/>
            <a:ext cx="601956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 sure to always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sketch the cur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insert the         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given valu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shade the required are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533520" y="4876920"/>
            <a:ext cx="1066680" cy="990360"/>
            <a:chOff x="533520" y="4876920"/>
            <a:chExt cx="1066680" cy="990360"/>
          </a:xfrm>
        </p:grpSpPr>
        <p:sp>
          <p:nvSpPr>
            <p:cNvPr id="1888" name=""/>
            <p:cNvSpPr/>
            <p:nvPr/>
          </p:nvSpPr>
          <p:spPr>
            <a:xfrm>
              <a:off x="533520" y="4913640"/>
              <a:ext cx="996480" cy="95364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5"/>
                  </a:lnTo>
                  <a:lnTo>
                    <a:pt x="192" y="397"/>
                  </a:lnTo>
                  <a:lnTo>
                    <a:pt x="79" y="660"/>
                  </a:lnTo>
                  <a:lnTo>
                    <a:pt x="344" y="499"/>
                  </a:lnTo>
                  <a:lnTo>
                    <a:pt x="567" y="677"/>
                  </a:lnTo>
                  <a:lnTo>
                    <a:pt x="520" y="419"/>
                  </a:lnTo>
                  <a:lnTo>
                    <a:pt x="724" y="254"/>
                  </a:lnTo>
                  <a:lnTo>
                    <a:pt x="449" y="245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03720" y="4876920"/>
              <a:ext cx="996480" cy="95364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6"/>
                  </a:lnTo>
                  <a:lnTo>
                    <a:pt x="193" y="399"/>
                  </a:lnTo>
                  <a:lnTo>
                    <a:pt x="78" y="660"/>
                  </a:lnTo>
                  <a:lnTo>
                    <a:pt x="344" y="499"/>
                  </a:lnTo>
                  <a:lnTo>
                    <a:pt x="566" y="677"/>
                  </a:lnTo>
                  <a:lnTo>
                    <a:pt x="519" y="419"/>
                  </a:lnTo>
                  <a:lnTo>
                    <a:pt x="724" y="254"/>
                  </a:lnTo>
                  <a:lnTo>
                    <a:pt x="448" y="246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fff14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 txBox="1"/>
            <p:nvPr/>
          </p:nvSpPr>
          <p:spPr>
            <a:xfrm rot="19894800">
              <a:off x="811080" y="5176800"/>
              <a:ext cx="594360" cy="33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496" dir="9225519" blurRad="0" rotWithShape="0">
                      <a:srgbClr val="b2b2b2">
                        <a:alpha val="50000"/>
                      </a:srgbClr>
                    </a:outerShdw>
                  </a:effectLst>
                  <a:latin typeface="Arial Black"/>
                </a:rPr>
                <a:t>Not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496" dir="9225519" blurRad="0" rotWithShape="0">
                    <a:srgbClr val="b2b2b2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7315200" y="6172200"/>
            <a:ext cx="1752480" cy="581400"/>
            <a:chOff x="7315200" y="6172200"/>
            <a:chExt cx="1752480" cy="581400"/>
          </a:xfrm>
        </p:grpSpPr>
        <p:sp>
          <p:nvSpPr>
            <p:cNvPr id="1892" name=""/>
            <p:cNvSpPr/>
            <p:nvPr/>
          </p:nvSpPr>
          <p:spPr>
            <a:xfrm>
              <a:off x="7315200" y="6477120"/>
              <a:ext cx="175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550280" y="6172200"/>
              <a:ext cx="1212840" cy="581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91658" dir="878234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z-</a:t>
              </a: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1828800" y="990720"/>
            <a:ext cx="5486400" cy="1295280"/>
            <a:chOff x="1828800" y="990720"/>
            <a:chExt cx="5486400" cy="1295280"/>
          </a:xfrm>
        </p:grpSpPr>
        <p:grpSp>
          <p:nvGrpSpPr>
            <p:cNvPr id="1895" name=""/>
            <p:cNvGrpSpPr/>
            <p:nvPr/>
          </p:nvGrpSpPr>
          <p:grpSpPr>
            <a:xfrm>
              <a:off x="1828800" y="990720"/>
              <a:ext cx="4880880" cy="611280"/>
              <a:chOff x="1828800" y="990720"/>
              <a:chExt cx="4880880" cy="611280"/>
            </a:xfrm>
          </p:grpSpPr>
          <p:sp>
            <p:nvSpPr>
              <p:cNvPr id="1896" name=""/>
              <p:cNvSpPr txBox="1"/>
              <p:nvPr/>
            </p:nvSpPr>
            <p:spPr>
              <a:xfrm>
                <a:off x="1828800" y="990720"/>
                <a:ext cx="11430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Comic Sans MS"/>
                  </a:rPr>
                  <a:t>Find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043800" y="1020600"/>
                <a:ext cx="366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the area between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8" name=""/>
            <p:cNvSpPr/>
            <p:nvPr/>
          </p:nvSpPr>
          <p:spPr>
            <a:xfrm>
              <a:off x="2743200" y="1600200"/>
              <a:ext cx="434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0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1.00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905120" y="2286000"/>
              <a:ext cx="54100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914400" y="3780000"/>
            <a:ext cx="685800" cy="811080"/>
            <a:chOff x="914400" y="3780000"/>
            <a:chExt cx="685800" cy="811080"/>
          </a:xfrm>
        </p:grpSpPr>
        <p:pic>
          <p:nvPicPr>
            <p:cNvPr id="1901" name="" descr=""/>
            <p:cNvPicPr/>
            <p:nvPr/>
          </p:nvPicPr>
          <p:blipFill>
            <a:blip r:embed="rId3"/>
            <a:stretch/>
          </p:blipFill>
          <p:spPr>
            <a:xfrm>
              <a:off x="914400" y="37800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2" name=""/>
            <p:cNvSpPr/>
            <p:nvPr/>
          </p:nvSpPr>
          <p:spPr>
            <a:xfrm>
              <a:off x="968760" y="3855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7086600" y="3276720"/>
            <a:ext cx="0" cy="144756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9D38-1805-4821-AE5A-9963A4F3727F}" type="slidenum">
              <a:t>34</a:t>
            </a:fld>
          </a:p>
        </p:txBody>
      </p:sp>
    </p:spTree>
  </p:cSld>
  <p:transition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"/>
          <p:cNvSpPr/>
          <p:nvPr/>
        </p:nvSpPr>
        <p:spPr>
          <a:xfrm>
            <a:off x="2446920" y="318960"/>
            <a:ext cx="424980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Distribution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5" name=""/>
          <p:cNvGraphicFramePr/>
          <p:nvPr/>
        </p:nvGraphicFramePr>
        <p:xfrm>
          <a:off x="304920" y="1828800"/>
          <a:ext cx="86868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7" name=""/>
          <p:cNvSpPr/>
          <p:nvPr/>
        </p:nvSpPr>
        <p:spPr>
          <a:xfrm>
            <a:off x="304920" y="1177920"/>
            <a:ext cx="8610480" cy="6426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nd the ar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or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ore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304920" y="1828800"/>
            <a:ext cx="6030000" cy="4800600"/>
            <a:chOff x="304920" y="1828800"/>
            <a:chExt cx="6030000" cy="4800600"/>
          </a:xfrm>
        </p:grpSpPr>
        <p:graphicFrame>
          <p:nvGraphicFramePr>
            <p:cNvPr id="1909" name=""/>
            <p:cNvGraphicFramePr/>
            <p:nvPr/>
          </p:nvGraphicFramePr>
          <p:xfrm>
            <a:off x="304920" y="1828800"/>
            <a:ext cx="914400" cy="48006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828800"/>
                      <a:ext cx="914400" cy="4800600"/>
                    </a:xfrm>
                    <a:prstGeom prst="rect">
                      <a:avLst/>
                    </a:prstGeom>
                    <a:ln w="9360">
                      <a:solidFill>
                        <a:srgbClr val="ff505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11" name=""/>
            <p:cNvSpPr/>
            <p:nvPr/>
          </p:nvSpPr>
          <p:spPr>
            <a:xfrm>
              <a:off x="1219680" y="4038480"/>
              <a:ext cx="5115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vides the </a:t>
              </a: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z-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core</a:t>
              </a: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 to 1 decima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p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04920" y="1828800"/>
            <a:ext cx="8534160" cy="1145520"/>
            <a:chOff x="304920" y="1828800"/>
            <a:chExt cx="8534160" cy="1145520"/>
          </a:xfrm>
        </p:grpSpPr>
        <p:graphicFrame>
          <p:nvGraphicFramePr>
            <p:cNvPr id="1913" name=""/>
            <p:cNvGraphicFramePr/>
            <p:nvPr/>
          </p:nvGraphicFramePr>
          <p:xfrm>
            <a:off x="304920" y="1828800"/>
            <a:ext cx="8534160" cy="3808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1828800"/>
                      <a:ext cx="8534160" cy="38088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15" name=""/>
            <p:cNvSpPr/>
            <p:nvPr/>
          </p:nvSpPr>
          <p:spPr>
            <a:xfrm>
              <a:off x="1220760" y="2514600"/>
              <a:ext cx="45547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vides the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second decima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p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6" name=""/>
          <p:cNvSpPr/>
          <p:nvPr/>
        </p:nvSpPr>
        <p:spPr>
          <a:xfrm>
            <a:off x="228600" y="5257800"/>
            <a:ext cx="83808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295280" y="1828800"/>
            <a:ext cx="838440" cy="38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066680" y="5486400"/>
            <a:ext cx="228600" cy="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752480" y="2971800"/>
            <a:ext cx="0" cy="23623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295280" y="5334120"/>
            <a:ext cx="10670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0.34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438280" y="4724280"/>
            <a:ext cx="65534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1185" dir="77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betwee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.0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2438280" y="5257800"/>
            <a:ext cx="66294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73964" dir="72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.0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34.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7517-1838-4546-A636-BEC1ED0F8484}" type="slidenum">
              <a:t>35</a:t>
            </a:fld>
          </a:p>
        </p:txBody>
      </p:sp>
    </p:spTree>
  </p:cSld>
  <p:transition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3" name=""/>
          <p:cNvGrpSpPr/>
          <p:nvPr/>
        </p:nvGrpSpPr>
        <p:grpSpPr>
          <a:xfrm>
            <a:off x="7315200" y="2514240"/>
            <a:ext cx="422280" cy="2057760"/>
            <a:chOff x="7315200" y="2514240"/>
            <a:chExt cx="422280" cy="2057760"/>
          </a:xfrm>
        </p:grpSpPr>
        <p:sp>
          <p:nvSpPr>
            <p:cNvPr id="1924" name=""/>
            <p:cNvSpPr/>
            <p:nvPr/>
          </p:nvSpPr>
          <p:spPr>
            <a:xfrm flipV="1">
              <a:off x="7315200" y="2514240"/>
              <a:ext cx="63360" cy="11160"/>
            </a:xfrm>
            <a:prstGeom prst="line">
              <a:avLst/>
            </a:prstGeom>
            <a:ln w="46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432560" y="2514600"/>
              <a:ext cx="0" cy="20574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08880" y="2585880"/>
              <a:ext cx="0" cy="1986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585200" y="2655720"/>
              <a:ext cx="0" cy="1916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661160" y="2727360"/>
              <a:ext cx="0" cy="18446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737480" y="2868480"/>
              <a:ext cx="0" cy="17035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356600" y="2514600"/>
              <a:ext cx="0" cy="20574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1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3915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295280" y="5029200"/>
            <a:ext cx="65534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betwee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.64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4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295280" y="5638680"/>
            <a:ext cx="66294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.64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44.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752480" y="4038480"/>
            <a:ext cx="327672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ok up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6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752480" y="2637000"/>
            <a:ext cx="2590920" cy="947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cate</a:t>
            </a:r>
            <a:r>
              <a:rPr b="1" i="1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a on the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914400" y="2789280"/>
            <a:ext cx="685800" cy="811080"/>
            <a:chOff x="914400" y="2789280"/>
            <a:chExt cx="685800" cy="811080"/>
          </a:xfrm>
        </p:grpSpPr>
        <p:pic>
          <p:nvPicPr>
            <p:cNvPr id="1938" name="" descr=""/>
            <p:cNvPicPr/>
            <p:nvPr/>
          </p:nvPicPr>
          <p:blipFill>
            <a:blip r:embed="rId1"/>
            <a:stretch/>
          </p:blipFill>
          <p:spPr>
            <a:xfrm>
              <a:off x="914400" y="278928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9" name=""/>
            <p:cNvSpPr/>
            <p:nvPr/>
          </p:nvSpPr>
          <p:spPr>
            <a:xfrm>
              <a:off x="968760" y="2865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914400" y="3780000"/>
            <a:ext cx="685800" cy="811080"/>
            <a:chOff x="914400" y="3780000"/>
            <a:chExt cx="685800" cy="811080"/>
          </a:xfrm>
        </p:grpSpPr>
        <p:pic>
          <p:nvPicPr>
            <p:cNvPr id="1941" name="" descr=""/>
            <p:cNvPicPr/>
            <p:nvPr/>
          </p:nvPicPr>
          <p:blipFill>
            <a:blip r:embed="rId2"/>
            <a:stretch/>
          </p:blipFill>
          <p:spPr>
            <a:xfrm>
              <a:off x="914400" y="37800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2" name=""/>
            <p:cNvSpPr/>
            <p:nvPr/>
          </p:nvSpPr>
          <p:spPr>
            <a:xfrm>
              <a:off x="968760" y="3855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1828800" y="990720"/>
            <a:ext cx="5486400" cy="1295280"/>
            <a:chOff x="1828800" y="990720"/>
            <a:chExt cx="5486400" cy="1295280"/>
          </a:xfrm>
        </p:grpSpPr>
        <p:grpSp>
          <p:nvGrpSpPr>
            <p:cNvPr id="1944" name=""/>
            <p:cNvGrpSpPr/>
            <p:nvPr/>
          </p:nvGrpSpPr>
          <p:grpSpPr>
            <a:xfrm>
              <a:off x="1828800" y="990720"/>
              <a:ext cx="4880880" cy="611280"/>
              <a:chOff x="1828800" y="990720"/>
              <a:chExt cx="4880880" cy="611280"/>
            </a:xfrm>
          </p:grpSpPr>
          <p:sp>
            <p:nvSpPr>
              <p:cNvPr id="1945" name=""/>
              <p:cNvSpPr txBox="1"/>
              <p:nvPr/>
            </p:nvSpPr>
            <p:spPr>
              <a:xfrm>
                <a:off x="1828800" y="990720"/>
                <a:ext cx="11430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Comic Sans MS"/>
                  </a:rPr>
                  <a:t>Find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043800" y="1020600"/>
                <a:ext cx="366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the area between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7" name=""/>
            <p:cNvSpPr/>
            <p:nvPr/>
          </p:nvSpPr>
          <p:spPr>
            <a:xfrm>
              <a:off x="2743200" y="1600200"/>
              <a:ext cx="434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0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1.6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905120" y="2286000"/>
              <a:ext cx="54100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562720" y="2438280"/>
            <a:ext cx="3504960" cy="2133720"/>
            <a:chOff x="5562720" y="2438280"/>
            <a:chExt cx="3504960" cy="2133720"/>
          </a:xfrm>
        </p:grpSpPr>
        <p:sp>
          <p:nvSpPr>
            <p:cNvPr id="1950" name=""/>
            <p:cNvSpPr/>
            <p:nvPr/>
          </p:nvSpPr>
          <p:spPr>
            <a:xfrm>
              <a:off x="5562720" y="4572000"/>
              <a:ext cx="35049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329240" y="2438280"/>
              <a:ext cx="0" cy="2133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5624280" y="4557600"/>
              <a:ext cx="630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5687640" y="4533840"/>
              <a:ext cx="6336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5751360" y="4519440"/>
              <a:ext cx="486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800320" y="4495680"/>
              <a:ext cx="6156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5862240" y="4457520"/>
              <a:ext cx="4752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910120" y="4417920"/>
              <a:ext cx="6156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5972040" y="4379760"/>
              <a:ext cx="5040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6022800" y="4328640"/>
              <a:ext cx="6156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6084720" y="4276440"/>
              <a:ext cx="6300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6148080" y="4209840"/>
              <a:ext cx="4572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194160" y="4137120"/>
              <a:ext cx="6480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6259320" y="4057200"/>
              <a:ext cx="4716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306840" y="3967200"/>
              <a:ext cx="6336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6370560" y="3865680"/>
              <a:ext cx="453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V="1">
              <a:off x="6416280" y="3762000"/>
              <a:ext cx="6336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6480000" y="3657240"/>
              <a:ext cx="648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6545160" y="3544560"/>
              <a:ext cx="4716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592680" y="3416400"/>
              <a:ext cx="6480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6657840" y="3300480"/>
              <a:ext cx="4572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703920" y="3184560"/>
              <a:ext cx="6156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6765840" y="3068640"/>
              <a:ext cx="4716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6813360" y="2954160"/>
              <a:ext cx="6480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V="1">
              <a:off x="6878520" y="2849040"/>
              <a:ext cx="630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6941880" y="2747880"/>
              <a:ext cx="471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989400" y="2657520"/>
              <a:ext cx="6156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051320" y="2579760"/>
              <a:ext cx="4896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100640" y="2527200"/>
              <a:ext cx="6156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162560" y="2476440"/>
              <a:ext cx="4716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7210080" y="2451240"/>
              <a:ext cx="63360" cy="25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7273800" y="2438280"/>
              <a:ext cx="6300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337160" y="2438280"/>
              <a:ext cx="4896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386480" y="2451240"/>
              <a:ext cx="63000" cy="252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449840" y="2476440"/>
              <a:ext cx="4716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497360" y="2527200"/>
              <a:ext cx="6156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559280" y="2579760"/>
              <a:ext cx="4752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607160" y="2657520"/>
              <a:ext cx="6300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670520" y="2747880"/>
              <a:ext cx="471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718040" y="2849400"/>
              <a:ext cx="6336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781760" y="2954160"/>
              <a:ext cx="6480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846920" y="3068640"/>
              <a:ext cx="4536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892640" y="3184560"/>
              <a:ext cx="6336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956360" y="3300480"/>
              <a:ext cx="4572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8002440" y="3416400"/>
              <a:ext cx="6480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067600" y="3544920"/>
              <a:ext cx="4716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8115120" y="3657600"/>
              <a:ext cx="630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178480" y="3762360"/>
              <a:ext cx="6480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243640" y="3865680"/>
              <a:ext cx="4572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289720" y="3967200"/>
              <a:ext cx="6300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353080" y="4057560"/>
              <a:ext cx="4752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400960" y="4137120"/>
              <a:ext cx="6300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464320" y="4210200"/>
              <a:ext cx="4572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510400" y="4276800"/>
              <a:ext cx="6480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575560" y="4329000"/>
              <a:ext cx="6156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637480" y="4379760"/>
              <a:ext cx="5040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688240" y="4417920"/>
              <a:ext cx="5976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748360" y="4457880"/>
              <a:ext cx="4752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8796240" y="4495680"/>
              <a:ext cx="6300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859600" y="4519440"/>
              <a:ext cx="4896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908920" y="4533840"/>
              <a:ext cx="6300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8972280" y="4557600"/>
              <a:ext cx="6156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"/>
          <p:cNvSpPr/>
          <p:nvPr/>
        </p:nvSpPr>
        <p:spPr>
          <a:xfrm>
            <a:off x="71629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7772400" y="2971800"/>
            <a:ext cx="0" cy="16002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7CBA-0B9B-47A2-ACCA-DC1A85C746F8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4" name=""/>
          <p:cNvGrpSpPr/>
          <p:nvPr/>
        </p:nvGrpSpPr>
        <p:grpSpPr>
          <a:xfrm>
            <a:off x="7315200" y="2514240"/>
            <a:ext cx="422280" cy="2057760"/>
            <a:chOff x="7315200" y="2514240"/>
            <a:chExt cx="422280" cy="2057760"/>
          </a:xfrm>
        </p:grpSpPr>
        <p:sp>
          <p:nvSpPr>
            <p:cNvPr id="2015" name=""/>
            <p:cNvSpPr/>
            <p:nvPr/>
          </p:nvSpPr>
          <p:spPr>
            <a:xfrm flipV="1">
              <a:off x="7315200" y="2514240"/>
              <a:ext cx="63360" cy="11160"/>
            </a:xfrm>
            <a:prstGeom prst="line">
              <a:avLst/>
            </a:prstGeom>
            <a:ln w="46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432560" y="2514600"/>
              <a:ext cx="0" cy="20574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508880" y="2585880"/>
              <a:ext cx="0" cy="19861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585200" y="2655720"/>
              <a:ext cx="0" cy="1916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661160" y="2727360"/>
              <a:ext cx="0" cy="18446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737480" y="2868480"/>
              <a:ext cx="0" cy="17035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356600" y="2514600"/>
              <a:ext cx="0" cy="20574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2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3915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295280" y="5029200"/>
            <a:ext cx="65534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betwee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.47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18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1295280" y="5638680"/>
            <a:ext cx="66294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.47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18.0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752480" y="4038480"/>
            <a:ext cx="327672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ok up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4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752480" y="2666880"/>
            <a:ext cx="2590920" cy="947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cate</a:t>
            </a:r>
            <a:r>
              <a:rPr b="1" i="1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a on the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8" name=""/>
          <p:cNvGrpSpPr/>
          <p:nvPr/>
        </p:nvGrpSpPr>
        <p:grpSpPr>
          <a:xfrm>
            <a:off x="914400" y="2789280"/>
            <a:ext cx="685800" cy="811080"/>
            <a:chOff x="914400" y="2789280"/>
            <a:chExt cx="685800" cy="811080"/>
          </a:xfrm>
        </p:grpSpPr>
        <p:pic>
          <p:nvPicPr>
            <p:cNvPr id="2029" name="" descr=""/>
            <p:cNvPicPr/>
            <p:nvPr/>
          </p:nvPicPr>
          <p:blipFill>
            <a:blip r:embed="rId1"/>
            <a:stretch/>
          </p:blipFill>
          <p:spPr>
            <a:xfrm>
              <a:off x="914400" y="278928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0" name=""/>
            <p:cNvSpPr/>
            <p:nvPr/>
          </p:nvSpPr>
          <p:spPr>
            <a:xfrm>
              <a:off x="968760" y="28652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1" name=""/>
          <p:cNvGrpSpPr/>
          <p:nvPr/>
        </p:nvGrpSpPr>
        <p:grpSpPr>
          <a:xfrm>
            <a:off x="914400" y="3780000"/>
            <a:ext cx="685800" cy="811080"/>
            <a:chOff x="914400" y="3780000"/>
            <a:chExt cx="685800" cy="811080"/>
          </a:xfrm>
        </p:grpSpPr>
        <p:pic>
          <p:nvPicPr>
            <p:cNvPr id="2032" name="" descr=""/>
            <p:cNvPicPr/>
            <p:nvPr/>
          </p:nvPicPr>
          <p:blipFill>
            <a:blip r:embed="rId2"/>
            <a:stretch/>
          </p:blipFill>
          <p:spPr>
            <a:xfrm>
              <a:off x="914400" y="37800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968760" y="3855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1828800" y="990720"/>
            <a:ext cx="5486400" cy="1295280"/>
            <a:chOff x="1828800" y="990720"/>
            <a:chExt cx="5486400" cy="1295280"/>
          </a:xfrm>
        </p:grpSpPr>
        <p:grpSp>
          <p:nvGrpSpPr>
            <p:cNvPr id="2035" name=""/>
            <p:cNvGrpSpPr/>
            <p:nvPr/>
          </p:nvGrpSpPr>
          <p:grpSpPr>
            <a:xfrm>
              <a:off x="1828800" y="990720"/>
              <a:ext cx="4880880" cy="611280"/>
              <a:chOff x="1828800" y="990720"/>
              <a:chExt cx="4880880" cy="611280"/>
            </a:xfrm>
          </p:grpSpPr>
          <p:sp>
            <p:nvSpPr>
              <p:cNvPr id="2036" name=""/>
              <p:cNvSpPr txBox="1"/>
              <p:nvPr/>
            </p:nvSpPr>
            <p:spPr>
              <a:xfrm>
                <a:off x="1828800" y="990720"/>
                <a:ext cx="11430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Comic Sans MS"/>
                  </a:rPr>
                  <a:t>Find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3043800" y="1020600"/>
                <a:ext cx="366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the area between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8" name=""/>
            <p:cNvSpPr/>
            <p:nvPr/>
          </p:nvSpPr>
          <p:spPr>
            <a:xfrm>
              <a:off x="2743200" y="1600200"/>
              <a:ext cx="434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0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0.4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905120" y="2286000"/>
              <a:ext cx="54100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5562720" y="2438280"/>
            <a:ext cx="3504960" cy="2133720"/>
            <a:chOff x="5562720" y="2438280"/>
            <a:chExt cx="3504960" cy="2133720"/>
          </a:xfrm>
        </p:grpSpPr>
        <p:sp>
          <p:nvSpPr>
            <p:cNvPr id="2041" name=""/>
            <p:cNvSpPr/>
            <p:nvPr/>
          </p:nvSpPr>
          <p:spPr>
            <a:xfrm>
              <a:off x="5562720" y="4572000"/>
              <a:ext cx="35049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29240" y="2438280"/>
              <a:ext cx="0" cy="2133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5624280" y="4557600"/>
              <a:ext cx="630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5687640" y="4533840"/>
              <a:ext cx="6336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751360" y="4519440"/>
              <a:ext cx="486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800320" y="4495680"/>
              <a:ext cx="6156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5862240" y="4457520"/>
              <a:ext cx="4752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910120" y="4417920"/>
              <a:ext cx="6156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5972040" y="4379760"/>
              <a:ext cx="5040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022800" y="4328640"/>
              <a:ext cx="6156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V="1">
              <a:off x="6084720" y="4276440"/>
              <a:ext cx="6300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V="1">
              <a:off x="6148080" y="4209840"/>
              <a:ext cx="4572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194160" y="4137120"/>
              <a:ext cx="6480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6259320" y="4057200"/>
              <a:ext cx="4716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306840" y="3967200"/>
              <a:ext cx="6336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6370560" y="3865680"/>
              <a:ext cx="453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6416280" y="3762000"/>
              <a:ext cx="6336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6480000" y="3657240"/>
              <a:ext cx="648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6545160" y="3544560"/>
              <a:ext cx="4716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592680" y="3416400"/>
              <a:ext cx="6480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V="1">
              <a:off x="6657840" y="3300480"/>
              <a:ext cx="4572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703920" y="3184560"/>
              <a:ext cx="6156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V="1">
              <a:off x="6765840" y="3068640"/>
              <a:ext cx="4716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6813360" y="2954160"/>
              <a:ext cx="6480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6878520" y="2849040"/>
              <a:ext cx="630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6941880" y="2747880"/>
              <a:ext cx="471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989400" y="2657520"/>
              <a:ext cx="6156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051320" y="2579760"/>
              <a:ext cx="4896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100640" y="2527200"/>
              <a:ext cx="6156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162560" y="2476440"/>
              <a:ext cx="4716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7210080" y="2451240"/>
              <a:ext cx="63360" cy="25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V="1">
              <a:off x="7273800" y="2438280"/>
              <a:ext cx="6300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337160" y="2438280"/>
              <a:ext cx="4896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386480" y="2451240"/>
              <a:ext cx="63000" cy="252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449840" y="2476440"/>
              <a:ext cx="4716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97360" y="2527200"/>
              <a:ext cx="6156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559280" y="2579760"/>
              <a:ext cx="4752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607160" y="2657520"/>
              <a:ext cx="6300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670520" y="2747880"/>
              <a:ext cx="471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718040" y="2849400"/>
              <a:ext cx="6336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781760" y="2954160"/>
              <a:ext cx="6480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846920" y="3068640"/>
              <a:ext cx="4536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892640" y="3184560"/>
              <a:ext cx="6336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956360" y="3300480"/>
              <a:ext cx="4572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002440" y="3416400"/>
              <a:ext cx="6480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067600" y="3544920"/>
              <a:ext cx="4716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115120" y="3657600"/>
              <a:ext cx="630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8178480" y="3762360"/>
              <a:ext cx="6480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243640" y="3865680"/>
              <a:ext cx="4572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289720" y="3967200"/>
              <a:ext cx="6300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353080" y="4057560"/>
              <a:ext cx="4752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8400960" y="4137120"/>
              <a:ext cx="6300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464320" y="4210200"/>
              <a:ext cx="4572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8510400" y="4276800"/>
              <a:ext cx="6480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8575560" y="4329000"/>
              <a:ext cx="6156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8637480" y="4379760"/>
              <a:ext cx="5040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688240" y="4417920"/>
              <a:ext cx="5976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748360" y="4457880"/>
              <a:ext cx="4752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8796240" y="4495680"/>
              <a:ext cx="6300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859600" y="4519440"/>
              <a:ext cx="4896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908920" y="4533840"/>
              <a:ext cx="6300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8972280" y="4557600"/>
              <a:ext cx="6156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3" name=""/>
          <p:cNvSpPr/>
          <p:nvPr/>
        </p:nvSpPr>
        <p:spPr>
          <a:xfrm>
            <a:off x="71629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772400" y="2971800"/>
            <a:ext cx="0" cy="16002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CC49-B8D7-4501-B6D3-E7C10095A284}" type="slidenum">
              <a:t>37</a:t>
            </a:fld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5" name=""/>
          <p:cNvGrpSpPr/>
          <p:nvPr/>
        </p:nvGrpSpPr>
        <p:grpSpPr>
          <a:xfrm>
            <a:off x="6781680" y="2438280"/>
            <a:ext cx="533520" cy="2133720"/>
            <a:chOff x="6781680" y="2438280"/>
            <a:chExt cx="533520" cy="2133720"/>
          </a:xfrm>
        </p:grpSpPr>
        <p:sp>
          <p:nvSpPr>
            <p:cNvPr id="2106" name=""/>
            <p:cNvSpPr/>
            <p:nvPr/>
          </p:nvSpPr>
          <p:spPr>
            <a:xfrm>
              <a:off x="6858000" y="2971800"/>
              <a:ext cx="0" cy="1600200"/>
            </a:xfrm>
            <a:prstGeom prst="line">
              <a:avLst/>
            </a:prstGeom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81680" y="3124080"/>
              <a:ext cx="0" cy="1447920"/>
            </a:xfrm>
            <a:prstGeom prst="line">
              <a:avLst/>
            </a:prstGeom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238880" y="2438280"/>
              <a:ext cx="0" cy="213372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162920" y="2517840"/>
              <a:ext cx="0" cy="205416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086600" y="2590920"/>
              <a:ext cx="0" cy="198108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010280" y="2743200"/>
              <a:ext cx="0" cy="182880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934320" y="2895480"/>
              <a:ext cx="0" cy="1658880"/>
            </a:xfrm>
            <a:prstGeom prst="line">
              <a:avLst/>
            </a:prstGeom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315200" y="2438280"/>
              <a:ext cx="0" cy="2133720"/>
            </a:xfrm>
            <a:prstGeom prst="line">
              <a:avLst/>
            </a:prstGeom>
            <a:ln w="7632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4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4008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1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752480" y="3505320"/>
            <a:ext cx="327672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ok up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6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752480" y="2286000"/>
            <a:ext cx="2590920" cy="947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cate</a:t>
            </a:r>
            <a:r>
              <a:rPr b="1" i="1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a on the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8" name=""/>
          <p:cNvGrpSpPr/>
          <p:nvPr/>
        </p:nvGrpSpPr>
        <p:grpSpPr>
          <a:xfrm>
            <a:off x="914400" y="2286000"/>
            <a:ext cx="685800" cy="811080"/>
            <a:chOff x="914400" y="2286000"/>
            <a:chExt cx="685800" cy="811080"/>
          </a:xfrm>
        </p:grpSpPr>
        <p:pic>
          <p:nvPicPr>
            <p:cNvPr id="2119" name="" descr=""/>
            <p:cNvPicPr/>
            <p:nvPr/>
          </p:nvPicPr>
          <p:blipFill>
            <a:blip r:embed="rId1"/>
            <a:stretch/>
          </p:blipFill>
          <p:spPr>
            <a:xfrm>
              <a:off x="914400" y="22860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0" name=""/>
            <p:cNvSpPr/>
            <p:nvPr/>
          </p:nvSpPr>
          <p:spPr>
            <a:xfrm>
              <a:off x="968760" y="2361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914400" y="3276720"/>
            <a:ext cx="685800" cy="811080"/>
            <a:chOff x="914400" y="3276720"/>
            <a:chExt cx="685800" cy="811080"/>
          </a:xfrm>
        </p:grpSpPr>
        <p:pic>
          <p:nvPicPr>
            <p:cNvPr id="2122" name="" descr=""/>
            <p:cNvPicPr/>
            <p:nvPr/>
          </p:nvPicPr>
          <p:blipFill>
            <a:blip r:embed="rId2"/>
            <a:stretch/>
          </p:blipFill>
          <p:spPr>
            <a:xfrm>
              <a:off x="914400" y="327672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3" name=""/>
            <p:cNvSpPr/>
            <p:nvPr/>
          </p:nvSpPr>
          <p:spPr>
            <a:xfrm>
              <a:off x="96876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1828800" y="990720"/>
            <a:ext cx="5486400" cy="1295280"/>
            <a:chOff x="1828800" y="990720"/>
            <a:chExt cx="5486400" cy="1295280"/>
          </a:xfrm>
        </p:grpSpPr>
        <p:grpSp>
          <p:nvGrpSpPr>
            <p:cNvPr id="2125" name=""/>
            <p:cNvGrpSpPr/>
            <p:nvPr/>
          </p:nvGrpSpPr>
          <p:grpSpPr>
            <a:xfrm>
              <a:off x="1828800" y="990720"/>
              <a:ext cx="4880880" cy="611280"/>
              <a:chOff x="1828800" y="990720"/>
              <a:chExt cx="4880880" cy="611280"/>
            </a:xfrm>
          </p:grpSpPr>
          <p:sp>
            <p:nvSpPr>
              <p:cNvPr id="2126" name=""/>
              <p:cNvSpPr txBox="1"/>
              <p:nvPr/>
            </p:nvSpPr>
            <p:spPr>
              <a:xfrm>
                <a:off x="1828800" y="990720"/>
                <a:ext cx="11430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Comic Sans MS"/>
                  </a:rPr>
                  <a:t>Find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043800" y="1020600"/>
                <a:ext cx="366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the area between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8" name=""/>
            <p:cNvSpPr/>
            <p:nvPr/>
          </p:nvSpPr>
          <p:spPr>
            <a:xfrm>
              <a:off x="2743200" y="1600200"/>
              <a:ext cx="434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0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-1.6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905120" y="2286000"/>
              <a:ext cx="54100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5562720" y="2438280"/>
            <a:ext cx="3504960" cy="2133720"/>
            <a:chOff x="5562720" y="2438280"/>
            <a:chExt cx="3504960" cy="2133720"/>
          </a:xfrm>
        </p:grpSpPr>
        <p:sp>
          <p:nvSpPr>
            <p:cNvPr id="2131" name=""/>
            <p:cNvSpPr/>
            <p:nvPr/>
          </p:nvSpPr>
          <p:spPr>
            <a:xfrm>
              <a:off x="5562720" y="4572000"/>
              <a:ext cx="35049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329240" y="2438280"/>
              <a:ext cx="0" cy="2133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V="1">
              <a:off x="5624280" y="4557600"/>
              <a:ext cx="630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5687640" y="4533840"/>
              <a:ext cx="6336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5751360" y="4519440"/>
              <a:ext cx="486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800320" y="4495680"/>
              <a:ext cx="6156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5862240" y="4457520"/>
              <a:ext cx="4752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910120" y="4417920"/>
              <a:ext cx="6156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5972040" y="4379760"/>
              <a:ext cx="5040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V="1">
              <a:off x="6022800" y="4328640"/>
              <a:ext cx="6156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6084720" y="4276440"/>
              <a:ext cx="6300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6148080" y="4209840"/>
              <a:ext cx="4572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194160" y="4137120"/>
              <a:ext cx="6480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V="1">
              <a:off x="6259320" y="4057200"/>
              <a:ext cx="4716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306840" y="3967200"/>
              <a:ext cx="6336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V="1">
              <a:off x="6370560" y="3865680"/>
              <a:ext cx="453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V="1">
              <a:off x="6416280" y="3762000"/>
              <a:ext cx="6336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6480000" y="3657240"/>
              <a:ext cx="648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V="1">
              <a:off x="6545160" y="3544560"/>
              <a:ext cx="4716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592680" y="3416400"/>
              <a:ext cx="6480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6657840" y="3300480"/>
              <a:ext cx="4572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703920" y="3184560"/>
              <a:ext cx="6156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6765840" y="3068640"/>
              <a:ext cx="4716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6813360" y="2954160"/>
              <a:ext cx="6480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6878520" y="2849040"/>
              <a:ext cx="630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6941880" y="2747880"/>
              <a:ext cx="471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989400" y="2657520"/>
              <a:ext cx="6156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51320" y="2579760"/>
              <a:ext cx="4896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100640" y="2527200"/>
              <a:ext cx="6156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162560" y="2476440"/>
              <a:ext cx="4716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7210080" y="2451240"/>
              <a:ext cx="63360" cy="25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7273800" y="2438280"/>
              <a:ext cx="6300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337160" y="2438280"/>
              <a:ext cx="4896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386480" y="2451240"/>
              <a:ext cx="63000" cy="252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449840" y="2476440"/>
              <a:ext cx="4716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497360" y="2527200"/>
              <a:ext cx="6156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559280" y="2579760"/>
              <a:ext cx="4752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607160" y="2657520"/>
              <a:ext cx="6300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670520" y="2747880"/>
              <a:ext cx="4716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718040" y="2849400"/>
              <a:ext cx="6336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781760" y="2954160"/>
              <a:ext cx="6480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846920" y="3068640"/>
              <a:ext cx="4536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892640" y="3184560"/>
              <a:ext cx="6336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956360" y="3300480"/>
              <a:ext cx="4572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002440" y="3416400"/>
              <a:ext cx="6480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067600" y="3544920"/>
              <a:ext cx="4716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115120" y="3657600"/>
              <a:ext cx="630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178480" y="3762360"/>
              <a:ext cx="6480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243640" y="3865680"/>
              <a:ext cx="4572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289720" y="3967200"/>
              <a:ext cx="6300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353080" y="4057560"/>
              <a:ext cx="4752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400960" y="4137120"/>
              <a:ext cx="6300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464320" y="4210200"/>
              <a:ext cx="4572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510400" y="4276800"/>
              <a:ext cx="6480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575560" y="4329000"/>
              <a:ext cx="6156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637480" y="4379760"/>
              <a:ext cx="5040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688240" y="4417920"/>
              <a:ext cx="5976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748360" y="4457880"/>
              <a:ext cx="4752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796240" y="4495680"/>
              <a:ext cx="6300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859600" y="4519440"/>
              <a:ext cx="4896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908920" y="4533840"/>
              <a:ext cx="6300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8972280" y="4557600"/>
              <a:ext cx="6156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3" name=""/>
          <p:cNvSpPr/>
          <p:nvPr/>
        </p:nvSpPr>
        <p:spPr>
          <a:xfrm>
            <a:off x="71629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09480" y="4648320"/>
            <a:ext cx="56390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betwee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4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4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09480" y="5181480"/>
            <a:ext cx="69343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4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44.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85800" y="5791320"/>
            <a:ext cx="7772400" cy="88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cause of symmetry, this area                                                  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e same as betwe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ositive 1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76320" y="5638680"/>
            <a:ext cx="1066680" cy="990720"/>
            <a:chOff x="76320" y="5638680"/>
            <a:chExt cx="1066680" cy="990720"/>
          </a:xfrm>
        </p:grpSpPr>
        <p:sp>
          <p:nvSpPr>
            <p:cNvPr id="2198" name=""/>
            <p:cNvSpPr/>
            <p:nvPr/>
          </p:nvSpPr>
          <p:spPr>
            <a:xfrm>
              <a:off x="76320" y="5675400"/>
              <a:ext cx="996480" cy="95400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5"/>
                  </a:lnTo>
                  <a:lnTo>
                    <a:pt x="192" y="397"/>
                  </a:lnTo>
                  <a:lnTo>
                    <a:pt x="79" y="660"/>
                  </a:lnTo>
                  <a:lnTo>
                    <a:pt x="344" y="499"/>
                  </a:lnTo>
                  <a:lnTo>
                    <a:pt x="567" y="677"/>
                  </a:lnTo>
                  <a:lnTo>
                    <a:pt x="520" y="419"/>
                  </a:lnTo>
                  <a:lnTo>
                    <a:pt x="724" y="254"/>
                  </a:lnTo>
                  <a:lnTo>
                    <a:pt x="449" y="245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46520" y="5638680"/>
              <a:ext cx="996480" cy="95400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6"/>
                  </a:lnTo>
                  <a:lnTo>
                    <a:pt x="193" y="399"/>
                  </a:lnTo>
                  <a:lnTo>
                    <a:pt x="78" y="660"/>
                  </a:lnTo>
                  <a:lnTo>
                    <a:pt x="344" y="499"/>
                  </a:lnTo>
                  <a:lnTo>
                    <a:pt x="566" y="677"/>
                  </a:lnTo>
                  <a:lnTo>
                    <a:pt x="519" y="419"/>
                  </a:lnTo>
                  <a:lnTo>
                    <a:pt x="724" y="254"/>
                  </a:lnTo>
                  <a:lnTo>
                    <a:pt x="448" y="246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fff14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 txBox="1"/>
            <p:nvPr/>
          </p:nvSpPr>
          <p:spPr>
            <a:xfrm rot="19894800">
              <a:off x="353880" y="5938560"/>
              <a:ext cx="594360" cy="33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496" dir="9225519" blurRad="0" rotWithShape="0">
                      <a:srgbClr val="b2b2b2">
                        <a:alpha val="50000"/>
                      </a:srgbClr>
                    </a:outerShdw>
                  </a:effectLst>
                  <a:latin typeface="Arial Black"/>
                </a:rPr>
                <a:t>Not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496" dir="9225519" blurRad="0" rotWithShape="0">
                    <a:srgbClr val="b2b2b2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201" name=""/>
          <p:cNvSpPr/>
          <p:nvPr/>
        </p:nvSpPr>
        <p:spPr>
          <a:xfrm>
            <a:off x="6705720" y="3352680"/>
            <a:ext cx="0" cy="121932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4332-8B59-4C2C-AA5B-C295FC9DA67D}" type="slidenum">
              <a:t>38</a:t>
            </a:fld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2" name=""/>
          <p:cNvGrpSpPr/>
          <p:nvPr/>
        </p:nvGrpSpPr>
        <p:grpSpPr>
          <a:xfrm>
            <a:off x="6629040" y="2438280"/>
            <a:ext cx="685800" cy="2141640"/>
            <a:chOff x="6629040" y="2438280"/>
            <a:chExt cx="685800" cy="2141640"/>
          </a:xfrm>
        </p:grpSpPr>
        <p:sp>
          <p:nvSpPr>
            <p:cNvPr id="2203" name=""/>
            <p:cNvSpPr/>
            <p:nvPr/>
          </p:nvSpPr>
          <p:spPr>
            <a:xfrm flipH="1" flipV="1">
              <a:off x="7251480" y="2438280"/>
              <a:ext cx="63360" cy="12960"/>
            </a:xfrm>
            <a:prstGeom prst="line">
              <a:avLst/>
            </a:prstGeom>
            <a:ln w="4608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7197480" y="2438280"/>
              <a:ext cx="0" cy="2133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121160" y="2511360"/>
              <a:ext cx="0" cy="20606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086240" y="2590920"/>
              <a:ext cx="0" cy="19810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009920" y="2666880"/>
              <a:ext cx="0" cy="191304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933960" y="2814480"/>
              <a:ext cx="0" cy="176544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857640" y="2960640"/>
              <a:ext cx="0" cy="16192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781320" y="3108240"/>
              <a:ext cx="0" cy="14716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705360" y="3284640"/>
              <a:ext cx="0" cy="128736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629040" y="3478320"/>
              <a:ext cx="0" cy="10936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273440" y="2438280"/>
              <a:ext cx="0" cy="2133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2485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2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914400" y="2389320"/>
            <a:ext cx="3429000" cy="947160"/>
            <a:chOff x="914400" y="2389320"/>
            <a:chExt cx="3429000" cy="947160"/>
          </a:xfrm>
        </p:grpSpPr>
        <p:sp>
          <p:nvSpPr>
            <p:cNvPr id="2217" name=""/>
            <p:cNvSpPr/>
            <p:nvPr/>
          </p:nvSpPr>
          <p:spPr>
            <a:xfrm>
              <a:off x="1752480" y="238932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8" name=""/>
            <p:cNvGrpSpPr/>
            <p:nvPr/>
          </p:nvGrpSpPr>
          <p:grpSpPr>
            <a:xfrm>
              <a:off x="914400" y="2465280"/>
              <a:ext cx="685800" cy="811440"/>
              <a:chOff x="914400" y="2465280"/>
              <a:chExt cx="685800" cy="811440"/>
            </a:xfrm>
          </p:grpSpPr>
          <p:pic>
            <p:nvPicPr>
              <p:cNvPr id="22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14400" y="2465280"/>
                <a:ext cx="685800" cy="81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0" name=""/>
              <p:cNvSpPr/>
              <p:nvPr/>
            </p:nvSpPr>
            <p:spPr>
              <a:xfrm>
                <a:off x="968760" y="2541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1" name=""/>
          <p:cNvGrpSpPr/>
          <p:nvPr/>
        </p:nvGrpSpPr>
        <p:grpSpPr>
          <a:xfrm>
            <a:off x="914400" y="3456000"/>
            <a:ext cx="4114800" cy="811080"/>
            <a:chOff x="914400" y="3456000"/>
            <a:chExt cx="4114800" cy="811080"/>
          </a:xfrm>
        </p:grpSpPr>
        <p:sp>
          <p:nvSpPr>
            <p:cNvPr id="2222" name=""/>
            <p:cNvSpPr/>
            <p:nvPr/>
          </p:nvSpPr>
          <p:spPr>
            <a:xfrm>
              <a:off x="1752480" y="3684600"/>
              <a:ext cx="327672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2.2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3" name=""/>
            <p:cNvGrpSpPr/>
            <p:nvPr/>
          </p:nvGrpSpPr>
          <p:grpSpPr>
            <a:xfrm>
              <a:off x="914400" y="3456000"/>
              <a:ext cx="685800" cy="811080"/>
              <a:chOff x="914400" y="3456000"/>
              <a:chExt cx="685800" cy="811080"/>
            </a:xfrm>
          </p:grpSpPr>
          <p:pic>
            <p:nvPicPr>
              <p:cNvPr id="22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14400" y="34560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5" name=""/>
              <p:cNvSpPr/>
              <p:nvPr/>
            </p:nvSpPr>
            <p:spPr>
              <a:xfrm>
                <a:off x="968760" y="3531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6" name=""/>
          <p:cNvGrpSpPr/>
          <p:nvPr/>
        </p:nvGrpSpPr>
        <p:grpSpPr>
          <a:xfrm>
            <a:off x="1828800" y="990720"/>
            <a:ext cx="5486400" cy="1295280"/>
            <a:chOff x="1828800" y="990720"/>
            <a:chExt cx="5486400" cy="1295280"/>
          </a:xfrm>
        </p:grpSpPr>
        <p:grpSp>
          <p:nvGrpSpPr>
            <p:cNvPr id="2227" name=""/>
            <p:cNvGrpSpPr/>
            <p:nvPr/>
          </p:nvGrpSpPr>
          <p:grpSpPr>
            <a:xfrm>
              <a:off x="1828800" y="990720"/>
              <a:ext cx="4880880" cy="611280"/>
              <a:chOff x="1828800" y="990720"/>
              <a:chExt cx="4880880" cy="611280"/>
            </a:xfrm>
          </p:grpSpPr>
          <p:sp>
            <p:nvSpPr>
              <p:cNvPr id="2228" name=""/>
              <p:cNvSpPr txBox="1"/>
              <p:nvPr/>
            </p:nvSpPr>
            <p:spPr>
              <a:xfrm>
                <a:off x="1828800" y="990720"/>
                <a:ext cx="11430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Comic Sans MS"/>
                  </a:rPr>
                  <a:t>Find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043800" y="1020600"/>
                <a:ext cx="366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the area between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0" name=""/>
            <p:cNvSpPr/>
            <p:nvPr/>
          </p:nvSpPr>
          <p:spPr>
            <a:xfrm>
              <a:off x="2743200" y="1600200"/>
              <a:ext cx="434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0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-2.2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905120" y="2286000"/>
              <a:ext cx="54100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5486400" y="2438280"/>
            <a:ext cx="3580920" cy="2133720"/>
            <a:chOff x="5486400" y="2438280"/>
            <a:chExt cx="3580920" cy="2133720"/>
          </a:xfrm>
        </p:grpSpPr>
        <p:sp>
          <p:nvSpPr>
            <p:cNvPr id="2233" name=""/>
            <p:cNvSpPr/>
            <p:nvPr/>
          </p:nvSpPr>
          <p:spPr>
            <a:xfrm>
              <a:off x="5486400" y="4572000"/>
              <a:ext cx="358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291440" y="2438280"/>
              <a:ext cx="0" cy="2133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5549400" y="4557600"/>
              <a:ext cx="6444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5614200" y="4533840"/>
              <a:ext cx="6480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5679360" y="4519440"/>
              <a:ext cx="4968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729400" y="4495680"/>
              <a:ext cx="6300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5792760" y="4457520"/>
              <a:ext cx="4860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41360" y="4417920"/>
              <a:ext cx="6300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5904720" y="4379760"/>
              <a:ext cx="5184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5956560" y="4328640"/>
              <a:ext cx="6300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019920" y="4276440"/>
              <a:ext cx="6444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6084720" y="4209840"/>
              <a:ext cx="4680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131880" y="4137120"/>
              <a:ext cx="6624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6198120" y="4057200"/>
              <a:ext cx="4824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246720" y="3967200"/>
              <a:ext cx="6480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6311880" y="3865680"/>
              <a:ext cx="464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6358680" y="3762000"/>
              <a:ext cx="6480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423840" y="3657240"/>
              <a:ext cx="662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490440" y="3544560"/>
              <a:ext cx="4824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539040" y="3416400"/>
              <a:ext cx="6624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6605280" y="3300480"/>
              <a:ext cx="4680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652440" y="3184560"/>
              <a:ext cx="6300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6715800" y="3068640"/>
              <a:ext cx="4824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6764400" y="2954160"/>
              <a:ext cx="6624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6831000" y="2849040"/>
              <a:ext cx="644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6895800" y="2747880"/>
              <a:ext cx="482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944040" y="2657520"/>
              <a:ext cx="6300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007400" y="2579760"/>
              <a:ext cx="5004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057800" y="2527200"/>
              <a:ext cx="6300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121160" y="2476440"/>
              <a:ext cx="4824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7169760" y="2451240"/>
              <a:ext cx="64800" cy="25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7234920" y="2438280"/>
              <a:ext cx="6444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299360" y="2438280"/>
              <a:ext cx="5004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349760" y="2451240"/>
              <a:ext cx="64440" cy="252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414560" y="2476440"/>
              <a:ext cx="4824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3160" y="2527200"/>
              <a:ext cx="6300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526520" y="2579760"/>
              <a:ext cx="4860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575480" y="2657520"/>
              <a:ext cx="6444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639920" y="2747880"/>
              <a:ext cx="482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688520" y="2849400"/>
              <a:ext cx="648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753680" y="2954160"/>
              <a:ext cx="6624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820280" y="3068640"/>
              <a:ext cx="4644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867080" y="3184560"/>
              <a:ext cx="6480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932240" y="3300480"/>
              <a:ext cx="4680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979040" y="3416400"/>
              <a:ext cx="6624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045640" y="3544920"/>
              <a:ext cx="4824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8094240" y="3657600"/>
              <a:ext cx="644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8159040" y="3762360"/>
              <a:ext cx="6624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8225640" y="3865680"/>
              <a:ext cx="4680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8272800" y="3967200"/>
              <a:ext cx="6444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8337240" y="4057560"/>
              <a:ext cx="4860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8386200" y="4137120"/>
              <a:ext cx="6444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8451000" y="4210200"/>
              <a:ext cx="4680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498160" y="4276800"/>
              <a:ext cx="6624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564760" y="4329000"/>
              <a:ext cx="6300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8628120" y="4379760"/>
              <a:ext cx="5184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8679960" y="4417920"/>
              <a:ext cx="6120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8741160" y="4457880"/>
              <a:ext cx="4860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8790120" y="4495680"/>
              <a:ext cx="6444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8854920" y="4519440"/>
              <a:ext cx="5004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8905320" y="4533840"/>
              <a:ext cx="6444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8970120" y="4557600"/>
              <a:ext cx="630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"/>
          <p:cNvSpPr/>
          <p:nvPr/>
        </p:nvSpPr>
        <p:spPr>
          <a:xfrm>
            <a:off x="71629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553080" y="36576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609480" y="4952880"/>
            <a:ext cx="56390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betwee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22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8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609480" y="5562720"/>
            <a:ext cx="69343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22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48.6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8035920" y="36576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4674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1638-0FA5-4913-BA79-CB7151B909E7}" type="slidenum">
              <a:t>39</a:t>
            </a:fld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428840" y="961920"/>
            <a:ext cx="6257880" cy="4181040"/>
            <a:chOff x="1428840" y="961920"/>
            <a:chExt cx="6257880" cy="4181040"/>
          </a:xfrm>
        </p:grpSpPr>
        <p:sp>
          <p:nvSpPr>
            <p:cNvPr id="77" name=""/>
            <p:cNvSpPr/>
            <p:nvPr/>
          </p:nvSpPr>
          <p:spPr>
            <a:xfrm flipV="1">
              <a:off x="1428840" y="970200"/>
              <a:ext cx="6257880" cy="3286440"/>
            </a:xfrm>
            <a:custGeom>
              <a:avLst/>
              <a:gdLst>
                <a:gd name="textAreaLeft" fmla="*/ 1375920 w 6257880"/>
                <a:gd name="textAreaRight" fmla="*/ 4881960 w 6257880"/>
                <a:gd name="textAreaTop" fmla="*/ 722520 h 3286440"/>
                <a:gd name="textAreaBottom" fmla="*/ 2563920 h 328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795320" y="961920"/>
              <a:ext cx="5572440" cy="4181040"/>
              <a:chOff x="1795320" y="961920"/>
              <a:chExt cx="5572440" cy="418104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1795320" y="961560"/>
                <a:ext cx="5572440" cy="3152880"/>
              </a:xfrm>
              <a:custGeom>
                <a:avLst/>
                <a:gdLst>
                  <a:gd name="textAreaLeft" fmla="*/ 1225440 w 5572440"/>
                  <a:gd name="textAreaRight" fmla="*/ 4347000 w 5572440"/>
                  <a:gd name="textAreaTop" fmla="*/ 693360 h 3152880"/>
                  <a:gd name="textAreaBottom" fmla="*/ 2459520 h 315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61200" y="1209600"/>
                <a:ext cx="5440320" cy="39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he set of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</a:t>
                </a:r>
                <a:r>
                  <a:rPr b="1" lang="en-US" sz="4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ll the value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</a:t>
                </a: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in any interval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is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uncountable or infinite!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676440" y="4371840"/>
            <a:ext cx="7734240" cy="11912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4f5bd"/>
              </a:gs>
              <a:gs pos="100000">
                <a:srgbClr val="ff3300"/>
              </a:gs>
            </a:gsLst>
            <a:lin ang="5400000"/>
          </a:gradFill>
          <a:ln w="0">
            <a:noFill/>
          </a:ln>
          <a:effectLst>
            <a:outerShdw dist="155100" dir="749886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we will now study the class of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ntinuous probability distribu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631200" y="5943600"/>
            <a:ext cx="2141280" cy="581400"/>
            <a:chOff x="6631200" y="5943600"/>
            <a:chExt cx="2141280" cy="581400"/>
          </a:xfrm>
        </p:grpSpPr>
        <p:sp>
          <p:nvSpPr>
            <p:cNvPr id="83" name=""/>
            <p:cNvSpPr/>
            <p:nvPr/>
          </p:nvSpPr>
          <p:spPr>
            <a:xfrm>
              <a:off x="6924600" y="6229440"/>
              <a:ext cx="1847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31200" y="5943600"/>
              <a:ext cx="1674360" cy="58140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efefe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  <a:effectLst>
              <a:outerShdw dist="137587" dir="877859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Recall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314360" y="425520"/>
            <a:ext cx="66772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Continuous Random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4F8C-4361-4A44-8126-6EF9A17285CA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"/>
          <p:cNvSpPr/>
          <p:nvPr/>
        </p:nvSpPr>
        <p:spPr>
          <a:xfrm>
            <a:off x="1481040" y="1523880"/>
            <a:ext cx="7400880" cy="974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z-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val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ocation on the                    standard normal curv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447920" y="2895480"/>
            <a:ext cx="7467480" cy="1678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43570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fore, a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-val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lso called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-sc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                       can hav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sitiv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val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828800" y="41148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371600" y="4479840"/>
            <a:ext cx="7467480" cy="186156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efefe"/>
              </a:gs>
              <a:gs pos="100000">
                <a:srgbClr val="33ccff"/>
              </a:gs>
            </a:gsLst>
            <a:lin ang="8100000"/>
          </a:gradFill>
          <a:ln w="0">
            <a:noFill/>
          </a:ln>
          <a:effectLst>
            <a:outerShdw dist="143570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owever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s and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babiliti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are always positive valu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6" name="" descr=""/>
          <p:cNvPicPr/>
          <p:nvPr/>
        </p:nvPicPr>
        <p:blipFill>
          <a:blip r:embed="rId3"/>
          <a:stretch/>
        </p:blipFill>
        <p:spPr>
          <a:xfrm>
            <a:off x="76320" y="2286000"/>
            <a:ext cx="1600200" cy="24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5E54-3ADB-4E7E-9FF4-FB0E0FC29727}" type="slidenum">
              <a:t>40</a:t>
            </a:fld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7" name=""/>
          <p:cNvGrpSpPr/>
          <p:nvPr/>
        </p:nvGrpSpPr>
        <p:grpSpPr>
          <a:xfrm>
            <a:off x="6629040" y="2438280"/>
            <a:ext cx="685800" cy="2141640"/>
            <a:chOff x="6629040" y="2438280"/>
            <a:chExt cx="685800" cy="2141640"/>
          </a:xfrm>
        </p:grpSpPr>
        <p:sp>
          <p:nvSpPr>
            <p:cNvPr id="2308" name=""/>
            <p:cNvSpPr/>
            <p:nvPr/>
          </p:nvSpPr>
          <p:spPr>
            <a:xfrm flipH="1" flipV="1">
              <a:off x="7251480" y="2438280"/>
              <a:ext cx="63360" cy="12960"/>
            </a:xfrm>
            <a:prstGeom prst="line">
              <a:avLst/>
            </a:prstGeom>
            <a:ln w="4608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7197480" y="2438280"/>
              <a:ext cx="0" cy="2133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7121160" y="2511360"/>
              <a:ext cx="0" cy="20606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7086240" y="2590920"/>
              <a:ext cx="0" cy="19810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7009920" y="2666880"/>
              <a:ext cx="0" cy="191304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933960" y="2814480"/>
              <a:ext cx="0" cy="176544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57640" y="2960640"/>
              <a:ext cx="0" cy="16192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781320" y="3108240"/>
              <a:ext cx="0" cy="14716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705360" y="3284640"/>
              <a:ext cx="0" cy="128736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629040" y="3478320"/>
              <a:ext cx="0" cy="10936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273440" y="2438280"/>
              <a:ext cx="0" cy="2133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9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2485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2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752480" y="3913200"/>
            <a:ext cx="327672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ok up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2.9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1752480" y="2693880"/>
            <a:ext cx="2590920" cy="947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cate</a:t>
            </a:r>
            <a:r>
              <a:rPr b="1" i="1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a on the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3" name=""/>
          <p:cNvGrpSpPr/>
          <p:nvPr/>
        </p:nvGrpSpPr>
        <p:grpSpPr>
          <a:xfrm>
            <a:off x="914400" y="2693880"/>
            <a:ext cx="685800" cy="811440"/>
            <a:chOff x="914400" y="2693880"/>
            <a:chExt cx="685800" cy="811440"/>
          </a:xfrm>
        </p:grpSpPr>
        <p:pic>
          <p:nvPicPr>
            <p:cNvPr id="2324" name="" descr=""/>
            <p:cNvPicPr/>
            <p:nvPr/>
          </p:nvPicPr>
          <p:blipFill>
            <a:blip r:embed="rId1"/>
            <a:stretch/>
          </p:blipFill>
          <p:spPr>
            <a:xfrm>
              <a:off x="914400" y="2693880"/>
              <a:ext cx="6858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5" name=""/>
            <p:cNvSpPr/>
            <p:nvPr/>
          </p:nvSpPr>
          <p:spPr>
            <a:xfrm>
              <a:off x="968760" y="277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6" name=""/>
          <p:cNvGrpSpPr/>
          <p:nvPr/>
        </p:nvGrpSpPr>
        <p:grpSpPr>
          <a:xfrm>
            <a:off x="914400" y="3684600"/>
            <a:ext cx="685800" cy="811080"/>
            <a:chOff x="914400" y="3684600"/>
            <a:chExt cx="685800" cy="811080"/>
          </a:xfrm>
        </p:grpSpPr>
        <p:pic>
          <p:nvPicPr>
            <p:cNvPr id="2327" name="" descr=""/>
            <p:cNvPicPr/>
            <p:nvPr/>
          </p:nvPicPr>
          <p:blipFill>
            <a:blip r:embed="rId2"/>
            <a:stretch/>
          </p:blipFill>
          <p:spPr>
            <a:xfrm>
              <a:off x="914400" y="36846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8" name=""/>
            <p:cNvSpPr/>
            <p:nvPr/>
          </p:nvSpPr>
          <p:spPr>
            <a:xfrm>
              <a:off x="968760" y="3760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1828800" y="990720"/>
            <a:ext cx="5486400" cy="1295280"/>
            <a:chOff x="1828800" y="990720"/>
            <a:chExt cx="5486400" cy="1295280"/>
          </a:xfrm>
        </p:grpSpPr>
        <p:grpSp>
          <p:nvGrpSpPr>
            <p:cNvPr id="2330" name=""/>
            <p:cNvGrpSpPr/>
            <p:nvPr/>
          </p:nvGrpSpPr>
          <p:grpSpPr>
            <a:xfrm>
              <a:off x="1828800" y="990720"/>
              <a:ext cx="4880880" cy="611280"/>
              <a:chOff x="1828800" y="990720"/>
              <a:chExt cx="4880880" cy="611280"/>
            </a:xfrm>
          </p:grpSpPr>
          <p:sp>
            <p:nvSpPr>
              <p:cNvPr id="2331" name=""/>
              <p:cNvSpPr txBox="1"/>
              <p:nvPr/>
            </p:nvSpPr>
            <p:spPr>
              <a:xfrm>
                <a:off x="1828800" y="990720"/>
                <a:ext cx="11430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Comic Sans MS"/>
                  </a:rPr>
                  <a:t>Find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043800" y="1020600"/>
                <a:ext cx="366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the area between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3" name=""/>
            <p:cNvSpPr/>
            <p:nvPr/>
          </p:nvSpPr>
          <p:spPr>
            <a:xfrm>
              <a:off x="2743200" y="1600200"/>
              <a:ext cx="434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0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-2.9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05120" y="2286000"/>
              <a:ext cx="54100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5486400" y="2438280"/>
            <a:ext cx="3580920" cy="2133720"/>
            <a:chOff x="5486400" y="2438280"/>
            <a:chExt cx="3580920" cy="2133720"/>
          </a:xfrm>
        </p:grpSpPr>
        <p:sp>
          <p:nvSpPr>
            <p:cNvPr id="2336" name=""/>
            <p:cNvSpPr/>
            <p:nvPr/>
          </p:nvSpPr>
          <p:spPr>
            <a:xfrm>
              <a:off x="5486400" y="4572000"/>
              <a:ext cx="358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291440" y="2438280"/>
              <a:ext cx="0" cy="2133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5549400" y="4557600"/>
              <a:ext cx="6444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V="1">
              <a:off x="5614200" y="4533840"/>
              <a:ext cx="6480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5679360" y="4519440"/>
              <a:ext cx="4968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729400" y="4495680"/>
              <a:ext cx="6300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792760" y="4457520"/>
              <a:ext cx="4860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841360" y="4417920"/>
              <a:ext cx="6300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5904720" y="4379760"/>
              <a:ext cx="5184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V="1">
              <a:off x="5956560" y="4328640"/>
              <a:ext cx="6300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V="1">
              <a:off x="6019920" y="4276440"/>
              <a:ext cx="6444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6084720" y="4209840"/>
              <a:ext cx="4680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131880" y="4137120"/>
              <a:ext cx="6624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V="1">
              <a:off x="6198120" y="4057200"/>
              <a:ext cx="4824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246720" y="3967200"/>
              <a:ext cx="6480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6311880" y="3865680"/>
              <a:ext cx="464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V="1">
              <a:off x="6358680" y="3762000"/>
              <a:ext cx="6480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6423840" y="3657240"/>
              <a:ext cx="662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490440" y="3544560"/>
              <a:ext cx="4824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539040" y="3416400"/>
              <a:ext cx="6624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V="1">
              <a:off x="6605280" y="3300480"/>
              <a:ext cx="4680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652440" y="3184560"/>
              <a:ext cx="6300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6715800" y="3068640"/>
              <a:ext cx="4824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V="1">
              <a:off x="6764400" y="2954160"/>
              <a:ext cx="6624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6831000" y="2849040"/>
              <a:ext cx="644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6895800" y="2747880"/>
              <a:ext cx="482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944040" y="2657520"/>
              <a:ext cx="6300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007400" y="2579760"/>
              <a:ext cx="5004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057800" y="2527200"/>
              <a:ext cx="6300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121160" y="2476440"/>
              <a:ext cx="4824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V="1">
              <a:off x="7169760" y="2451240"/>
              <a:ext cx="64800" cy="25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7234920" y="2438280"/>
              <a:ext cx="6444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299360" y="2438280"/>
              <a:ext cx="5004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349760" y="2451240"/>
              <a:ext cx="64440" cy="252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414560" y="2476440"/>
              <a:ext cx="4824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463160" y="2527200"/>
              <a:ext cx="6300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526520" y="2579760"/>
              <a:ext cx="4860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575480" y="2657520"/>
              <a:ext cx="6444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639920" y="2747880"/>
              <a:ext cx="482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688520" y="2849400"/>
              <a:ext cx="648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753680" y="2954160"/>
              <a:ext cx="6624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820280" y="3068640"/>
              <a:ext cx="4644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867080" y="3184560"/>
              <a:ext cx="6480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932240" y="3300480"/>
              <a:ext cx="4680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979040" y="3416400"/>
              <a:ext cx="6624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045640" y="3544920"/>
              <a:ext cx="4824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094240" y="3657600"/>
              <a:ext cx="644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159040" y="3762360"/>
              <a:ext cx="6624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225640" y="3865680"/>
              <a:ext cx="4680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272800" y="3967200"/>
              <a:ext cx="6444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8337240" y="4057560"/>
              <a:ext cx="4860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8386200" y="4137120"/>
              <a:ext cx="6444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451000" y="4210200"/>
              <a:ext cx="4680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8498160" y="4276800"/>
              <a:ext cx="6624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564760" y="4329000"/>
              <a:ext cx="6300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628120" y="4379760"/>
              <a:ext cx="5184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679960" y="4417920"/>
              <a:ext cx="6120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741160" y="4457880"/>
              <a:ext cx="4860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790120" y="4495680"/>
              <a:ext cx="6444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854920" y="4519440"/>
              <a:ext cx="5004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905320" y="4533840"/>
              <a:ext cx="6444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970120" y="4557600"/>
              <a:ext cx="630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8" name=""/>
          <p:cNvSpPr/>
          <p:nvPr/>
        </p:nvSpPr>
        <p:spPr>
          <a:xfrm>
            <a:off x="71629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553080" y="36576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09480" y="4876920"/>
            <a:ext cx="56390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betwee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96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9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09480" y="5410080"/>
            <a:ext cx="69343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96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9.8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8035920" y="36576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74674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C4FA-156C-4E10-9AC8-91B0FA5E3239}" type="slidenum">
              <a:t>41</a:t>
            </a:fld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4" name=""/>
          <p:cNvGrpSpPr/>
          <p:nvPr/>
        </p:nvGrpSpPr>
        <p:grpSpPr>
          <a:xfrm>
            <a:off x="6781680" y="2438280"/>
            <a:ext cx="533520" cy="2141640"/>
            <a:chOff x="6781680" y="2438280"/>
            <a:chExt cx="533520" cy="2141640"/>
          </a:xfrm>
        </p:grpSpPr>
        <p:sp>
          <p:nvSpPr>
            <p:cNvPr id="2405" name=""/>
            <p:cNvSpPr/>
            <p:nvPr/>
          </p:nvSpPr>
          <p:spPr>
            <a:xfrm flipH="1" flipV="1">
              <a:off x="7251840" y="2438280"/>
              <a:ext cx="63360" cy="12960"/>
            </a:xfrm>
            <a:prstGeom prst="line">
              <a:avLst/>
            </a:prstGeom>
            <a:ln w="4608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197840" y="2438280"/>
              <a:ext cx="0" cy="2133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121520" y="2511360"/>
              <a:ext cx="0" cy="20606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086600" y="2590920"/>
              <a:ext cx="0" cy="19810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010280" y="2666880"/>
              <a:ext cx="0" cy="191304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934320" y="2814480"/>
              <a:ext cx="0" cy="176544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858000" y="2960640"/>
              <a:ext cx="0" cy="16192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781680" y="3108240"/>
              <a:ext cx="0" cy="1471680"/>
            </a:xfrm>
            <a:prstGeom prst="line">
              <a:avLst/>
            </a:prstGeom>
            <a:ln w="5724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273800" y="2438280"/>
              <a:ext cx="0" cy="2133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4" name=""/>
          <p:cNvGrpSpPr/>
          <p:nvPr/>
        </p:nvGrpSpPr>
        <p:grpSpPr>
          <a:xfrm>
            <a:off x="7315200" y="2438280"/>
            <a:ext cx="533520" cy="2133720"/>
            <a:chOff x="7315200" y="2438280"/>
            <a:chExt cx="533520" cy="2133720"/>
          </a:xfrm>
        </p:grpSpPr>
        <p:sp>
          <p:nvSpPr>
            <p:cNvPr id="2415" name=""/>
            <p:cNvSpPr/>
            <p:nvPr/>
          </p:nvSpPr>
          <p:spPr>
            <a:xfrm flipV="1">
              <a:off x="7315200" y="2438280"/>
              <a:ext cx="63360" cy="12960"/>
            </a:xfrm>
            <a:prstGeom prst="line">
              <a:avLst/>
            </a:prstGeom>
            <a:ln w="46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391520" y="2514600"/>
              <a:ext cx="0" cy="20574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7480" y="2590920"/>
              <a:ext cx="0" cy="19810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543800" y="2658960"/>
              <a:ext cx="0" cy="1913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620120" y="2735280"/>
              <a:ext cx="0" cy="18367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696080" y="2882880"/>
              <a:ext cx="0" cy="168912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772400" y="3029040"/>
              <a:ext cx="0" cy="1542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848720" y="3176640"/>
              <a:ext cx="0" cy="13953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356600" y="2438280"/>
              <a:ext cx="0" cy="21337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4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4008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1.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752480" y="3913200"/>
            <a:ext cx="381024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ok up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1.65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752480" y="2664000"/>
            <a:ext cx="2590920" cy="947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cate</a:t>
            </a:r>
            <a:r>
              <a:rPr b="1" i="1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a on the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914400" y="2693880"/>
            <a:ext cx="685800" cy="811440"/>
            <a:chOff x="914400" y="2693880"/>
            <a:chExt cx="685800" cy="811440"/>
          </a:xfrm>
        </p:grpSpPr>
        <p:pic>
          <p:nvPicPr>
            <p:cNvPr id="2429" name="" descr=""/>
            <p:cNvPicPr/>
            <p:nvPr/>
          </p:nvPicPr>
          <p:blipFill>
            <a:blip r:embed="rId1"/>
            <a:stretch/>
          </p:blipFill>
          <p:spPr>
            <a:xfrm>
              <a:off x="914400" y="2693880"/>
              <a:ext cx="6858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0" name=""/>
            <p:cNvSpPr/>
            <p:nvPr/>
          </p:nvSpPr>
          <p:spPr>
            <a:xfrm>
              <a:off x="968760" y="277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1" name=""/>
          <p:cNvGrpSpPr/>
          <p:nvPr/>
        </p:nvGrpSpPr>
        <p:grpSpPr>
          <a:xfrm>
            <a:off x="914400" y="3684600"/>
            <a:ext cx="685800" cy="811080"/>
            <a:chOff x="914400" y="3684600"/>
            <a:chExt cx="685800" cy="811080"/>
          </a:xfrm>
        </p:grpSpPr>
        <p:pic>
          <p:nvPicPr>
            <p:cNvPr id="2432" name="" descr=""/>
            <p:cNvPicPr/>
            <p:nvPr/>
          </p:nvPicPr>
          <p:blipFill>
            <a:blip r:embed="rId2"/>
            <a:stretch/>
          </p:blipFill>
          <p:spPr>
            <a:xfrm>
              <a:off x="914400" y="36846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3" name=""/>
            <p:cNvSpPr/>
            <p:nvPr/>
          </p:nvSpPr>
          <p:spPr>
            <a:xfrm>
              <a:off x="968760" y="3760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1828800" y="990720"/>
            <a:ext cx="5486400" cy="1295280"/>
            <a:chOff x="1828800" y="990720"/>
            <a:chExt cx="5486400" cy="1295280"/>
          </a:xfrm>
        </p:grpSpPr>
        <p:grpSp>
          <p:nvGrpSpPr>
            <p:cNvPr id="2435" name=""/>
            <p:cNvGrpSpPr/>
            <p:nvPr/>
          </p:nvGrpSpPr>
          <p:grpSpPr>
            <a:xfrm>
              <a:off x="1828800" y="990720"/>
              <a:ext cx="4880880" cy="611280"/>
              <a:chOff x="1828800" y="990720"/>
              <a:chExt cx="4880880" cy="611280"/>
            </a:xfrm>
          </p:grpSpPr>
          <p:sp>
            <p:nvSpPr>
              <p:cNvPr id="2436" name=""/>
              <p:cNvSpPr txBox="1"/>
              <p:nvPr/>
            </p:nvSpPr>
            <p:spPr>
              <a:xfrm>
                <a:off x="1828800" y="990720"/>
                <a:ext cx="114300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Comic Sans MS"/>
                  </a:rPr>
                  <a:t>Find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3043800" y="1020600"/>
                <a:ext cx="366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</a:rPr>
                  <a:t>the area between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2743200" y="1600200"/>
              <a:ext cx="434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-1.65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 1.6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905120" y="2286000"/>
              <a:ext cx="54100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0" name=""/>
          <p:cNvSpPr/>
          <p:nvPr/>
        </p:nvSpPr>
        <p:spPr>
          <a:xfrm>
            <a:off x="71629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6705720" y="3276720"/>
            <a:ext cx="0" cy="12952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152280" y="4876920"/>
            <a:ext cx="601992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5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5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600200" y="6095880"/>
            <a:ext cx="609588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required Total Area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90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7924680" y="3276720"/>
            <a:ext cx="0" cy="13716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73915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52280" y="5486400"/>
            <a:ext cx="601992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  0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.65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5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7" name=""/>
          <p:cNvGrpSpPr/>
          <p:nvPr/>
        </p:nvGrpSpPr>
        <p:grpSpPr>
          <a:xfrm>
            <a:off x="5486400" y="2438280"/>
            <a:ext cx="3580920" cy="2133720"/>
            <a:chOff x="5486400" y="2438280"/>
            <a:chExt cx="3580920" cy="2133720"/>
          </a:xfrm>
        </p:grpSpPr>
        <p:sp>
          <p:nvSpPr>
            <p:cNvPr id="2448" name=""/>
            <p:cNvSpPr/>
            <p:nvPr/>
          </p:nvSpPr>
          <p:spPr>
            <a:xfrm>
              <a:off x="5486400" y="4572000"/>
              <a:ext cx="358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291440" y="2438280"/>
              <a:ext cx="0" cy="2133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5549400" y="4557600"/>
              <a:ext cx="6444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V="1">
              <a:off x="5614200" y="4533840"/>
              <a:ext cx="6480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679360" y="4519440"/>
              <a:ext cx="4968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729400" y="4495680"/>
              <a:ext cx="6300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5792760" y="4457520"/>
              <a:ext cx="4860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841360" y="4417920"/>
              <a:ext cx="6300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V="1">
              <a:off x="5904720" y="4379760"/>
              <a:ext cx="5184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5956560" y="4328640"/>
              <a:ext cx="6300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V="1">
              <a:off x="6019920" y="4276440"/>
              <a:ext cx="6444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V="1">
              <a:off x="6084720" y="4209840"/>
              <a:ext cx="4680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131880" y="4137120"/>
              <a:ext cx="6624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6198120" y="4057200"/>
              <a:ext cx="4824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246720" y="3967200"/>
              <a:ext cx="6480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V="1">
              <a:off x="6311880" y="3865680"/>
              <a:ext cx="464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V="1">
              <a:off x="6358680" y="3762000"/>
              <a:ext cx="6480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6423840" y="3657240"/>
              <a:ext cx="662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V="1">
              <a:off x="6490440" y="3544560"/>
              <a:ext cx="4824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539040" y="3416400"/>
              <a:ext cx="6624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6605280" y="3300480"/>
              <a:ext cx="4680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652440" y="3184560"/>
              <a:ext cx="6300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715800" y="3068640"/>
              <a:ext cx="4824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6764400" y="2954160"/>
              <a:ext cx="6624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6831000" y="2849040"/>
              <a:ext cx="644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6895800" y="2747880"/>
              <a:ext cx="482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44040" y="2657520"/>
              <a:ext cx="6300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007400" y="2579760"/>
              <a:ext cx="5004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057800" y="2527200"/>
              <a:ext cx="6300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121160" y="2476440"/>
              <a:ext cx="4824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V="1">
              <a:off x="7169760" y="2451240"/>
              <a:ext cx="64800" cy="25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V="1">
              <a:off x="7234920" y="2438280"/>
              <a:ext cx="6444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299360" y="2438280"/>
              <a:ext cx="50040" cy="129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349760" y="2451240"/>
              <a:ext cx="64440" cy="2520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414560" y="2476440"/>
              <a:ext cx="48240" cy="507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63160" y="2527200"/>
              <a:ext cx="63000" cy="525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526520" y="2579760"/>
              <a:ext cx="48600" cy="77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575480" y="2657520"/>
              <a:ext cx="64440" cy="9036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39920" y="2747880"/>
              <a:ext cx="4824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688520" y="2849400"/>
              <a:ext cx="6480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753680" y="2954160"/>
              <a:ext cx="66240" cy="1144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20280" y="3068640"/>
              <a:ext cx="4644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67080" y="3184560"/>
              <a:ext cx="64800" cy="1159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932240" y="3300480"/>
              <a:ext cx="46800" cy="1159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7979040" y="3416400"/>
              <a:ext cx="66240" cy="12852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45640" y="3544920"/>
              <a:ext cx="48240" cy="11268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094240" y="3657600"/>
              <a:ext cx="64440" cy="104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159040" y="3762360"/>
              <a:ext cx="66240" cy="1033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25640" y="3865680"/>
              <a:ext cx="46800" cy="10152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72800" y="3967200"/>
              <a:ext cx="64440" cy="9036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37240" y="4057560"/>
              <a:ext cx="48600" cy="795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86200" y="4137120"/>
              <a:ext cx="64440" cy="730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451000" y="4210200"/>
              <a:ext cx="46800" cy="666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498160" y="4276800"/>
              <a:ext cx="66240" cy="522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564760" y="4329000"/>
              <a:ext cx="63000" cy="50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628120" y="4379760"/>
              <a:ext cx="51840" cy="381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679960" y="4417920"/>
              <a:ext cx="61200" cy="3996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741160" y="4457880"/>
              <a:ext cx="48600" cy="378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8790120" y="4495680"/>
              <a:ext cx="6444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8854920" y="4519440"/>
              <a:ext cx="5004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8905320" y="4533840"/>
              <a:ext cx="64440" cy="2376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8970120" y="4557600"/>
              <a:ext cx="63000" cy="14400"/>
            </a:xfrm>
            <a:prstGeom prst="line">
              <a:avLst/>
            </a:prstGeom>
            <a:ln w="46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0" name=""/>
          <p:cNvGrpSpPr/>
          <p:nvPr/>
        </p:nvGrpSpPr>
        <p:grpSpPr>
          <a:xfrm>
            <a:off x="6019920" y="4952880"/>
            <a:ext cx="2223360" cy="914400"/>
            <a:chOff x="6019920" y="4952880"/>
            <a:chExt cx="2223360" cy="914400"/>
          </a:xfrm>
        </p:grpSpPr>
        <p:sp>
          <p:nvSpPr>
            <p:cNvPr id="2511" name=""/>
            <p:cNvSpPr/>
            <p:nvPr/>
          </p:nvSpPr>
          <p:spPr>
            <a:xfrm>
              <a:off x="6019920" y="4952880"/>
              <a:ext cx="380880" cy="9144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393600" y="5146560"/>
              <a:ext cx="184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Add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toge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9897-679C-44D0-8F4C-47622E1E2840}" type="slidenum">
              <a:t>42</a:t>
            </a:fld>
          </a:p>
        </p:txBody>
      </p:sp>
    </p:spTree>
  </p:cSld>
  <p:transition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3" name=""/>
          <p:cNvGrpSpPr/>
          <p:nvPr/>
        </p:nvGrpSpPr>
        <p:grpSpPr>
          <a:xfrm>
            <a:off x="6781680" y="2133720"/>
            <a:ext cx="433440" cy="2209680"/>
            <a:chOff x="6781680" y="2133720"/>
            <a:chExt cx="433440" cy="2209680"/>
          </a:xfrm>
        </p:grpSpPr>
        <p:sp>
          <p:nvSpPr>
            <p:cNvPr id="2514" name=""/>
            <p:cNvSpPr/>
            <p:nvPr/>
          </p:nvSpPr>
          <p:spPr>
            <a:xfrm>
              <a:off x="6853320" y="2133720"/>
              <a:ext cx="0" cy="22096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26400" y="2209680"/>
              <a:ext cx="0" cy="21337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99120" y="2286000"/>
              <a:ext cx="0" cy="20574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7070760" y="2362320"/>
              <a:ext cx="0" cy="19810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43840" y="2514600"/>
              <a:ext cx="0" cy="18288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215120" y="2666880"/>
              <a:ext cx="0" cy="16765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781680" y="2133720"/>
              <a:ext cx="0" cy="22096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1" name=""/>
          <p:cNvGrpSpPr/>
          <p:nvPr/>
        </p:nvGrpSpPr>
        <p:grpSpPr>
          <a:xfrm>
            <a:off x="5981760" y="2209680"/>
            <a:ext cx="723960" cy="2133720"/>
            <a:chOff x="5981760" y="2209680"/>
            <a:chExt cx="723960" cy="2133720"/>
          </a:xfrm>
        </p:grpSpPr>
        <p:sp>
          <p:nvSpPr>
            <p:cNvPr id="2522" name=""/>
            <p:cNvSpPr/>
            <p:nvPr/>
          </p:nvSpPr>
          <p:spPr>
            <a:xfrm>
              <a:off x="6634080" y="2209680"/>
              <a:ext cx="0" cy="2133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561000" y="2282760"/>
              <a:ext cx="0" cy="20606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488280" y="2357280"/>
              <a:ext cx="0" cy="1986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416640" y="2430360"/>
              <a:ext cx="0" cy="19130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343560" y="2576520"/>
              <a:ext cx="0" cy="17668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272280" y="2724120"/>
              <a:ext cx="0" cy="16192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199200" y="2871720"/>
              <a:ext cx="0" cy="14716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126120" y="3019320"/>
              <a:ext cx="0" cy="1324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053040" y="3166920"/>
              <a:ext cx="0" cy="1176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981760" y="3313080"/>
              <a:ext cx="0" cy="10303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705720" y="2209680"/>
              <a:ext cx="0" cy="2133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3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4" name=""/>
          <p:cNvGrpSpPr/>
          <p:nvPr/>
        </p:nvGrpSpPr>
        <p:grpSpPr>
          <a:xfrm>
            <a:off x="380880" y="2389320"/>
            <a:ext cx="3429000" cy="963360"/>
            <a:chOff x="380880" y="2389320"/>
            <a:chExt cx="3429000" cy="963360"/>
          </a:xfrm>
        </p:grpSpPr>
        <p:sp>
          <p:nvSpPr>
            <p:cNvPr id="2535" name=""/>
            <p:cNvSpPr/>
            <p:nvPr/>
          </p:nvSpPr>
          <p:spPr>
            <a:xfrm>
              <a:off x="1219320" y="2389320"/>
              <a:ext cx="259056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380880" y="2541600"/>
              <a:ext cx="685800" cy="811080"/>
              <a:chOff x="380880" y="2541600"/>
              <a:chExt cx="685800" cy="811080"/>
            </a:xfrm>
          </p:grpSpPr>
          <p:pic>
            <p:nvPicPr>
              <p:cNvPr id="25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5416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8" name=""/>
              <p:cNvSpPr/>
              <p:nvPr/>
            </p:nvSpPr>
            <p:spPr>
              <a:xfrm>
                <a:off x="435240" y="26175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9" name=""/>
          <p:cNvGrpSpPr/>
          <p:nvPr/>
        </p:nvGrpSpPr>
        <p:grpSpPr>
          <a:xfrm>
            <a:off x="380880" y="3456000"/>
            <a:ext cx="3505320" cy="887400"/>
            <a:chOff x="380880" y="3456000"/>
            <a:chExt cx="3505320" cy="887400"/>
          </a:xfrm>
        </p:grpSpPr>
        <p:sp>
          <p:nvSpPr>
            <p:cNvPr id="2540" name=""/>
            <p:cNvSpPr/>
            <p:nvPr/>
          </p:nvSpPr>
          <p:spPr>
            <a:xfrm>
              <a:off x="1219320" y="3456000"/>
              <a:ext cx="2666880" cy="8254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 2.00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then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1.00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1" name=""/>
            <p:cNvGrpSpPr/>
            <p:nvPr/>
          </p:nvGrpSpPr>
          <p:grpSpPr>
            <a:xfrm>
              <a:off x="380880" y="3532320"/>
              <a:ext cx="685800" cy="811080"/>
              <a:chOff x="380880" y="3532320"/>
              <a:chExt cx="685800" cy="811080"/>
            </a:xfrm>
          </p:grpSpPr>
          <p:pic>
            <p:nvPicPr>
              <p:cNvPr id="25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5323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3" name=""/>
              <p:cNvSpPr/>
              <p:nvPr/>
            </p:nvSpPr>
            <p:spPr>
              <a:xfrm>
                <a:off x="435240" y="36082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4" name=""/>
          <p:cNvGrpSpPr/>
          <p:nvPr/>
        </p:nvGrpSpPr>
        <p:grpSpPr>
          <a:xfrm>
            <a:off x="1828800" y="990720"/>
            <a:ext cx="4880880" cy="611280"/>
            <a:chOff x="1828800" y="990720"/>
            <a:chExt cx="4880880" cy="611280"/>
          </a:xfrm>
        </p:grpSpPr>
        <p:sp>
          <p:nvSpPr>
            <p:cNvPr id="2545" name=""/>
            <p:cNvSpPr txBox="1"/>
            <p:nvPr/>
          </p:nvSpPr>
          <p:spPr>
            <a:xfrm>
              <a:off x="1828800" y="990720"/>
              <a:ext cx="1143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Comic Sans MS"/>
                </a:rPr>
                <a:t>Find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043800" y="1020600"/>
              <a:ext cx="36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the area betwee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7" name=""/>
          <p:cNvSpPr/>
          <p:nvPr/>
        </p:nvSpPr>
        <p:spPr>
          <a:xfrm>
            <a:off x="2743200" y="144792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-2.00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1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905120" y="2057400"/>
            <a:ext cx="5410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04920" y="4800600"/>
            <a:ext cx="601956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00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600200" y="5943600"/>
            <a:ext cx="609588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required Total Area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81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04920" y="5410080"/>
            <a:ext cx="601956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  0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.0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2" name=""/>
          <p:cNvGrpSpPr/>
          <p:nvPr/>
        </p:nvGrpSpPr>
        <p:grpSpPr>
          <a:xfrm>
            <a:off x="6172200" y="4876920"/>
            <a:ext cx="2207520" cy="914400"/>
            <a:chOff x="6172200" y="4876920"/>
            <a:chExt cx="2207520" cy="914400"/>
          </a:xfrm>
        </p:grpSpPr>
        <p:sp>
          <p:nvSpPr>
            <p:cNvPr id="2553" name=""/>
            <p:cNvSpPr/>
            <p:nvPr/>
          </p:nvSpPr>
          <p:spPr>
            <a:xfrm>
              <a:off x="6172200" y="4876920"/>
              <a:ext cx="365040" cy="914400"/>
            </a:xfrm>
            <a:custGeom>
              <a:avLst/>
              <a:gdLst>
                <a:gd name="textAreaLeft" fmla="*/ 0 w 365040"/>
                <a:gd name="textAreaRight" fmla="*/ 131760 w 3650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530040" y="5070600"/>
              <a:ext cx="184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Add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toge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5638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2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6294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943600" y="342900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9343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7238880" y="2743200"/>
            <a:ext cx="0" cy="16002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4952880" y="2133360"/>
            <a:ext cx="3581280" cy="2209680"/>
            <a:chOff x="4952880" y="2133360"/>
            <a:chExt cx="3581280" cy="2209680"/>
          </a:xfrm>
        </p:grpSpPr>
        <p:sp>
          <p:nvSpPr>
            <p:cNvPr id="2561" name=""/>
            <p:cNvSpPr/>
            <p:nvPr/>
          </p:nvSpPr>
          <p:spPr>
            <a:xfrm>
              <a:off x="4952880" y="4343040"/>
              <a:ext cx="3581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757920" y="2133720"/>
              <a:ext cx="0" cy="220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V="1">
              <a:off x="5015880" y="4327920"/>
              <a:ext cx="6444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5080680" y="4303800"/>
              <a:ext cx="64800" cy="244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V="1">
              <a:off x="5145840" y="4288320"/>
              <a:ext cx="4968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195880" y="4264200"/>
              <a:ext cx="63000" cy="244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5259240" y="4224960"/>
              <a:ext cx="48600" cy="38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308200" y="4183560"/>
              <a:ext cx="63000" cy="4104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5371200" y="4143600"/>
              <a:ext cx="51840" cy="39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5423040" y="4091400"/>
              <a:ext cx="63000" cy="52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5486400" y="4037400"/>
              <a:ext cx="64440" cy="540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V="1">
              <a:off x="5551200" y="3968280"/>
              <a:ext cx="46800" cy="68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598360" y="3892680"/>
              <a:ext cx="66240" cy="75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V="1">
              <a:off x="5664960" y="3810600"/>
              <a:ext cx="48240" cy="82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713560" y="3717000"/>
              <a:ext cx="64800" cy="932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5778360" y="3611880"/>
              <a:ext cx="4644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5825160" y="3504240"/>
              <a:ext cx="64800" cy="1069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5890320" y="3395880"/>
              <a:ext cx="6624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5956920" y="3279600"/>
              <a:ext cx="48240" cy="1166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05520" y="3146400"/>
              <a:ext cx="66240" cy="132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6072120" y="3026160"/>
              <a:ext cx="4680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6119280" y="2906280"/>
              <a:ext cx="63000" cy="11988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6182280" y="2786040"/>
              <a:ext cx="4824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6230880" y="2667600"/>
              <a:ext cx="66240" cy="1184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6297480" y="2558880"/>
              <a:ext cx="6444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362280" y="2454120"/>
              <a:ext cx="4824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410880" y="2360520"/>
              <a:ext cx="63000" cy="9324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474240" y="2279880"/>
              <a:ext cx="50040" cy="802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6524640" y="2225520"/>
              <a:ext cx="63000" cy="543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6587640" y="2172960"/>
              <a:ext cx="48240" cy="525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6636240" y="2147040"/>
              <a:ext cx="64800" cy="259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6701400" y="2133360"/>
              <a:ext cx="64440" cy="13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766200" y="2133720"/>
              <a:ext cx="50040" cy="13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816600" y="2147040"/>
              <a:ext cx="64440" cy="259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881400" y="2172960"/>
              <a:ext cx="48240" cy="525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930000" y="2225520"/>
              <a:ext cx="63000" cy="543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993000" y="2279880"/>
              <a:ext cx="48600" cy="802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041960" y="2360520"/>
              <a:ext cx="64440" cy="9324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106760" y="2454120"/>
              <a:ext cx="4824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155360" y="2559240"/>
              <a:ext cx="6480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220520" y="2667960"/>
              <a:ext cx="66240" cy="1184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287120" y="2786400"/>
              <a:ext cx="4644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333560" y="2906280"/>
              <a:ext cx="64800" cy="11988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398720" y="3026520"/>
              <a:ext cx="4680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445880" y="3146400"/>
              <a:ext cx="66240" cy="132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512480" y="3279600"/>
              <a:ext cx="48240" cy="1166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561080" y="3396240"/>
              <a:ext cx="6444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625880" y="3504600"/>
              <a:ext cx="66240" cy="1069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692480" y="3611880"/>
              <a:ext cx="4680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739280" y="3717000"/>
              <a:ext cx="64440" cy="932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804080" y="3810600"/>
              <a:ext cx="48600" cy="82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853040" y="3892680"/>
              <a:ext cx="64440" cy="75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917840" y="3968640"/>
              <a:ext cx="46800" cy="68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965000" y="4037400"/>
              <a:ext cx="66240" cy="540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8031600" y="4091400"/>
              <a:ext cx="63000" cy="52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8094600" y="4143960"/>
              <a:ext cx="51840" cy="39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8146800" y="4183560"/>
              <a:ext cx="61200" cy="4104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208000" y="4224960"/>
              <a:ext cx="48600" cy="38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256960" y="4264200"/>
              <a:ext cx="64440" cy="244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321760" y="4288680"/>
              <a:ext cx="5004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372160" y="4303800"/>
              <a:ext cx="64440" cy="244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436960" y="4328280"/>
              <a:ext cx="6300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1DE9-85D8-4475-A147-AD71A1A741B3}" type="slidenum">
              <a:t>43</a:t>
            </a:fld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3" name=""/>
          <p:cNvGrpSpPr/>
          <p:nvPr/>
        </p:nvGrpSpPr>
        <p:grpSpPr>
          <a:xfrm>
            <a:off x="7238880" y="2209680"/>
            <a:ext cx="456840" cy="2133720"/>
            <a:chOff x="7238880" y="2209680"/>
            <a:chExt cx="456840" cy="2133720"/>
          </a:xfrm>
        </p:grpSpPr>
        <p:sp>
          <p:nvSpPr>
            <p:cNvPr id="2624" name=""/>
            <p:cNvSpPr/>
            <p:nvPr/>
          </p:nvSpPr>
          <p:spPr>
            <a:xfrm>
              <a:off x="7314120" y="2209680"/>
              <a:ext cx="0" cy="21337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391520" y="2282760"/>
              <a:ext cx="0" cy="20602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468200" y="2356560"/>
              <a:ext cx="0" cy="19864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543440" y="2430360"/>
              <a:ext cx="0" cy="19126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20840" y="2577240"/>
              <a:ext cx="0" cy="17658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695720" y="2724480"/>
              <a:ext cx="0" cy="16185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238880" y="2209680"/>
              <a:ext cx="0" cy="21337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1" name=""/>
          <p:cNvGrpSpPr/>
          <p:nvPr/>
        </p:nvGrpSpPr>
        <p:grpSpPr>
          <a:xfrm>
            <a:off x="228600" y="2179800"/>
            <a:ext cx="3429000" cy="947160"/>
            <a:chOff x="228600" y="2179800"/>
            <a:chExt cx="3429000" cy="947160"/>
          </a:xfrm>
        </p:grpSpPr>
        <p:sp>
          <p:nvSpPr>
            <p:cNvPr id="2632" name=""/>
            <p:cNvSpPr/>
            <p:nvPr/>
          </p:nvSpPr>
          <p:spPr>
            <a:xfrm>
              <a:off x="1066680" y="217980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3" name=""/>
            <p:cNvGrpSpPr/>
            <p:nvPr/>
          </p:nvGrpSpPr>
          <p:grpSpPr>
            <a:xfrm>
              <a:off x="228600" y="2286000"/>
              <a:ext cx="685800" cy="811080"/>
              <a:chOff x="228600" y="2286000"/>
              <a:chExt cx="685800" cy="811080"/>
            </a:xfrm>
          </p:grpSpPr>
          <p:pic>
            <p:nvPicPr>
              <p:cNvPr id="26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2860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5" name=""/>
              <p:cNvSpPr/>
              <p:nvPr/>
            </p:nvSpPr>
            <p:spPr>
              <a:xfrm>
                <a:off x="282960" y="23619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6" name=""/>
          <p:cNvGrpSpPr/>
          <p:nvPr/>
        </p:nvGrpSpPr>
        <p:grpSpPr>
          <a:xfrm>
            <a:off x="228600" y="3276720"/>
            <a:ext cx="5410080" cy="811080"/>
            <a:chOff x="228600" y="3276720"/>
            <a:chExt cx="5410080" cy="811080"/>
          </a:xfrm>
        </p:grpSpPr>
        <p:sp>
          <p:nvSpPr>
            <p:cNvPr id="2637" name=""/>
            <p:cNvSpPr/>
            <p:nvPr/>
          </p:nvSpPr>
          <p:spPr>
            <a:xfrm>
              <a:off x="1066680" y="3505320"/>
              <a:ext cx="457200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– 0.44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then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1.96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8" name=""/>
            <p:cNvGrpSpPr/>
            <p:nvPr/>
          </p:nvGrpSpPr>
          <p:grpSpPr>
            <a:xfrm>
              <a:off x="228600" y="3276720"/>
              <a:ext cx="685800" cy="811080"/>
              <a:chOff x="228600" y="3276720"/>
              <a:chExt cx="685800" cy="811080"/>
            </a:xfrm>
          </p:grpSpPr>
          <p:pic>
            <p:nvPicPr>
              <p:cNvPr id="26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2767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0" name=""/>
              <p:cNvSpPr/>
              <p:nvPr/>
            </p:nvSpPr>
            <p:spPr>
              <a:xfrm>
                <a:off x="282960" y="3352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1" name=""/>
          <p:cNvGrpSpPr/>
          <p:nvPr/>
        </p:nvGrpSpPr>
        <p:grpSpPr>
          <a:xfrm>
            <a:off x="1752480" y="990720"/>
            <a:ext cx="4880880" cy="611280"/>
            <a:chOff x="1752480" y="990720"/>
            <a:chExt cx="4880880" cy="611280"/>
          </a:xfrm>
        </p:grpSpPr>
        <p:sp>
          <p:nvSpPr>
            <p:cNvPr id="2642" name=""/>
            <p:cNvSpPr txBox="1"/>
            <p:nvPr/>
          </p:nvSpPr>
          <p:spPr>
            <a:xfrm>
              <a:off x="1752480" y="990720"/>
              <a:ext cx="11430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Comic Sans MS"/>
                </a:rPr>
                <a:t>Find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967480" y="1020600"/>
              <a:ext cx="36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the area betwee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4" name=""/>
          <p:cNvSpPr/>
          <p:nvPr/>
        </p:nvSpPr>
        <p:spPr>
          <a:xfrm>
            <a:off x="2666880" y="1477800"/>
            <a:ext cx="434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-0.4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1.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1828800" y="2057400"/>
            <a:ext cx="5410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04920" y="4800600"/>
            <a:ext cx="601956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44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1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523880" y="6019920"/>
            <a:ext cx="60962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required Total Area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6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04920" y="5410080"/>
            <a:ext cx="601956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  0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.96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9" name=""/>
          <p:cNvGrpSpPr/>
          <p:nvPr/>
        </p:nvGrpSpPr>
        <p:grpSpPr>
          <a:xfrm>
            <a:off x="6172200" y="4876920"/>
            <a:ext cx="2223360" cy="914400"/>
            <a:chOff x="6172200" y="4876920"/>
            <a:chExt cx="2223360" cy="914400"/>
          </a:xfrm>
        </p:grpSpPr>
        <p:sp>
          <p:nvSpPr>
            <p:cNvPr id="2650" name=""/>
            <p:cNvSpPr/>
            <p:nvPr/>
          </p:nvSpPr>
          <p:spPr>
            <a:xfrm>
              <a:off x="6172200" y="4876920"/>
              <a:ext cx="380880" cy="9144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545880" y="5070600"/>
              <a:ext cx="184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Add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toge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2" name=""/>
          <p:cNvSpPr/>
          <p:nvPr/>
        </p:nvSpPr>
        <p:spPr>
          <a:xfrm>
            <a:off x="63244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70866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723888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6" name=""/>
          <p:cNvGrpSpPr/>
          <p:nvPr/>
        </p:nvGrpSpPr>
        <p:grpSpPr>
          <a:xfrm>
            <a:off x="6945480" y="2209680"/>
            <a:ext cx="217440" cy="2133720"/>
            <a:chOff x="6945480" y="2209680"/>
            <a:chExt cx="217440" cy="2133720"/>
          </a:xfrm>
        </p:grpSpPr>
        <p:sp>
          <p:nvSpPr>
            <p:cNvPr id="2657" name=""/>
            <p:cNvSpPr/>
            <p:nvPr/>
          </p:nvSpPr>
          <p:spPr>
            <a:xfrm>
              <a:off x="7091280" y="2209680"/>
              <a:ext cx="0" cy="2133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018200" y="2282760"/>
              <a:ext cx="0" cy="20606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945480" y="2357280"/>
              <a:ext cx="0" cy="19861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162920" y="2209680"/>
              <a:ext cx="0" cy="21337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1" name=""/>
          <p:cNvSpPr/>
          <p:nvPr/>
        </p:nvSpPr>
        <p:spPr>
          <a:xfrm>
            <a:off x="6934320" y="2438280"/>
            <a:ext cx="0" cy="190512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7772400" y="2819520"/>
            <a:ext cx="0" cy="15238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3" name=""/>
          <p:cNvGrpSpPr/>
          <p:nvPr/>
        </p:nvGrpSpPr>
        <p:grpSpPr>
          <a:xfrm>
            <a:off x="5410080" y="2133360"/>
            <a:ext cx="3581280" cy="2209680"/>
            <a:chOff x="5410080" y="2133360"/>
            <a:chExt cx="3581280" cy="2209680"/>
          </a:xfrm>
        </p:grpSpPr>
        <p:sp>
          <p:nvSpPr>
            <p:cNvPr id="2664" name=""/>
            <p:cNvSpPr/>
            <p:nvPr/>
          </p:nvSpPr>
          <p:spPr>
            <a:xfrm>
              <a:off x="5410080" y="4343040"/>
              <a:ext cx="3581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215120" y="2133720"/>
              <a:ext cx="0" cy="220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5473080" y="4327920"/>
              <a:ext cx="6444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flipV="1">
              <a:off x="5537880" y="4303800"/>
              <a:ext cx="64800" cy="244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V="1">
              <a:off x="5603040" y="4288320"/>
              <a:ext cx="4968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653080" y="4264200"/>
              <a:ext cx="63000" cy="244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V="1">
              <a:off x="5716440" y="4224960"/>
              <a:ext cx="48600" cy="38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765400" y="4183560"/>
              <a:ext cx="63000" cy="4104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828400" y="4143600"/>
              <a:ext cx="51840" cy="39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5880240" y="4091400"/>
              <a:ext cx="63000" cy="52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V="1">
              <a:off x="5943600" y="4037400"/>
              <a:ext cx="64440" cy="540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6008400" y="3968280"/>
              <a:ext cx="46800" cy="68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055560" y="3892680"/>
              <a:ext cx="66240" cy="75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6122160" y="3810600"/>
              <a:ext cx="48240" cy="82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170760" y="3717000"/>
              <a:ext cx="64800" cy="932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6235560" y="3611880"/>
              <a:ext cx="4644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V="1">
              <a:off x="6282360" y="3504240"/>
              <a:ext cx="64800" cy="1069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V="1">
              <a:off x="6347520" y="3395880"/>
              <a:ext cx="6624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flipV="1">
              <a:off x="6414120" y="3279600"/>
              <a:ext cx="48240" cy="1166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462720" y="3146400"/>
              <a:ext cx="66240" cy="132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6529320" y="3026160"/>
              <a:ext cx="4680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576480" y="2906280"/>
              <a:ext cx="63000" cy="11988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6639480" y="2786040"/>
              <a:ext cx="4824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6688080" y="2667600"/>
              <a:ext cx="66240" cy="1184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V="1">
              <a:off x="6754680" y="2558880"/>
              <a:ext cx="6444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6819480" y="2454120"/>
              <a:ext cx="4824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868080" y="2360520"/>
              <a:ext cx="63000" cy="9324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931440" y="2279880"/>
              <a:ext cx="50040" cy="802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981840" y="2225520"/>
              <a:ext cx="63000" cy="543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044840" y="2172960"/>
              <a:ext cx="48240" cy="525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V="1">
              <a:off x="7093440" y="2147040"/>
              <a:ext cx="64800" cy="259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7158600" y="2133360"/>
              <a:ext cx="64440" cy="13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223400" y="2133720"/>
              <a:ext cx="50040" cy="13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73800" y="2147040"/>
              <a:ext cx="64440" cy="259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338600" y="2172960"/>
              <a:ext cx="48240" cy="525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387200" y="2225520"/>
              <a:ext cx="63000" cy="5436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450200" y="2279880"/>
              <a:ext cx="48600" cy="802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499160" y="2360520"/>
              <a:ext cx="64440" cy="9324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563960" y="2454120"/>
              <a:ext cx="4824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612560" y="2559240"/>
              <a:ext cx="6480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677720" y="2667960"/>
              <a:ext cx="66240" cy="1184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744320" y="2786400"/>
              <a:ext cx="4644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790760" y="2906280"/>
              <a:ext cx="64800" cy="11988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855920" y="3026520"/>
              <a:ext cx="46800" cy="119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903080" y="3146400"/>
              <a:ext cx="66240" cy="132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969680" y="3279600"/>
              <a:ext cx="48240" cy="1166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8018280" y="3396240"/>
              <a:ext cx="6444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8083080" y="3504600"/>
              <a:ext cx="66240" cy="1069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8149680" y="3611880"/>
              <a:ext cx="46800" cy="105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8196480" y="3717000"/>
              <a:ext cx="64440" cy="9324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8261280" y="3810600"/>
              <a:ext cx="48600" cy="82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8310240" y="3892680"/>
              <a:ext cx="64440" cy="75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8375040" y="3968640"/>
              <a:ext cx="46800" cy="68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8422200" y="4037400"/>
              <a:ext cx="66240" cy="540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8488800" y="4091400"/>
              <a:ext cx="63000" cy="52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8551800" y="4143960"/>
              <a:ext cx="51840" cy="39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8604000" y="4183560"/>
              <a:ext cx="61200" cy="4104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8665200" y="4224960"/>
              <a:ext cx="48600" cy="388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8714160" y="4264200"/>
              <a:ext cx="64440" cy="244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8778960" y="4288680"/>
              <a:ext cx="5004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8829360" y="4303800"/>
              <a:ext cx="64440" cy="244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8894160" y="4328280"/>
              <a:ext cx="63000" cy="147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C78C-7DF3-4A96-9154-4C19DE1E1BDB}" type="slidenum">
              <a:t>44</a:t>
            </a:fld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"/>
          <p:cNvSpPr/>
          <p:nvPr/>
        </p:nvSpPr>
        <p:spPr>
          <a:xfrm>
            <a:off x="1297800" y="257040"/>
            <a:ext cx="650376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tandar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7" name=""/>
          <p:cNvGrpSpPr/>
          <p:nvPr/>
        </p:nvGrpSpPr>
        <p:grpSpPr>
          <a:xfrm>
            <a:off x="457200" y="1766880"/>
            <a:ext cx="8229600" cy="4707720"/>
            <a:chOff x="457200" y="1766880"/>
            <a:chExt cx="8229600" cy="4707720"/>
          </a:xfrm>
        </p:grpSpPr>
        <p:sp>
          <p:nvSpPr>
            <p:cNvPr id="2728" name=""/>
            <p:cNvSpPr/>
            <p:nvPr/>
          </p:nvSpPr>
          <p:spPr>
            <a:xfrm>
              <a:off x="1447920" y="2057400"/>
              <a:ext cx="6229080" cy="30481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9" name=""/>
            <p:cNvGrpSpPr/>
            <p:nvPr/>
          </p:nvGrpSpPr>
          <p:grpSpPr>
            <a:xfrm>
              <a:off x="2972160" y="2437920"/>
              <a:ext cx="3199680" cy="2590920"/>
              <a:chOff x="2972160" y="2437920"/>
              <a:chExt cx="3199680" cy="2590920"/>
            </a:xfrm>
          </p:grpSpPr>
          <p:grpSp>
            <p:nvGrpSpPr>
              <p:cNvPr id="2730" name=""/>
              <p:cNvGrpSpPr/>
              <p:nvPr/>
            </p:nvGrpSpPr>
            <p:grpSpPr>
              <a:xfrm>
                <a:off x="2972160" y="2437920"/>
                <a:ext cx="1675800" cy="2590920"/>
                <a:chOff x="2972160" y="2437920"/>
                <a:chExt cx="1675800" cy="2590920"/>
              </a:xfrm>
            </p:grpSpPr>
            <p:sp>
              <p:nvSpPr>
                <p:cNvPr id="2731" name=""/>
                <p:cNvSpPr/>
                <p:nvPr/>
              </p:nvSpPr>
              <p:spPr>
                <a:xfrm flipH="1" flipV="1">
                  <a:off x="4579920" y="2437920"/>
                  <a:ext cx="68040" cy="14760"/>
                </a:xfrm>
                <a:prstGeom prst="line">
                  <a:avLst/>
                </a:prstGeom>
                <a:ln w="4608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4521960" y="2438280"/>
                  <a:ext cx="0" cy="2590560"/>
                </a:xfrm>
                <a:prstGeom prst="line">
                  <a:avLst/>
                </a:prstGeom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4440600" y="2527560"/>
                  <a:ext cx="0" cy="2501280"/>
                </a:xfrm>
                <a:prstGeom prst="line">
                  <a:avLst/>
                </a:prstGeom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4358880" y="2616480"/>
                  <a:ext cx="0" cy="24120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4277160" y="2706120"/>
                  <a:ext cx="0" cy="232272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4195800" y="2884680"/>
                  <a:ext cx="0" cy="214416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4114080" y="3063600"/>
                  <a:ext cx="0" cy="196524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4032360" y="3242160"/>
                  <a:ext cx="0" cy="178668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3951000" y="3420720"/>
                  <a:ext cx="0" cy="160812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3869280" y="3599640"/>
                  <a:ext cx="0" cy="14292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3787560" y="3778200"/>
                  <a:ext cx="0" cy="125064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3706200" y="3956760"/>
                  <a:ext cx="0" cy="107208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3624480" y="4135680"/>
                  <a:ext cx="0" cy="89316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3542760" y="4314240"/>
                  <a:ext cx="0" cy="7146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3461760" y="4403880"/>
                  <a:ext cx="0" cy="62496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3379680" y="4492800"/>
                  <a:ext cx="0" cy="53604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3297960" y="4582440"/>
                  <a:ext cx="0" cy="4464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3216960" y="4671720"/>
                  <a:ext cx="0" cy="35676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3135240" y="4761000"/>
                  <a:ext cx="0" cy="26784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3053520" y="4850280"/>
                  <a:ext cx="0" cy="1782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2972160" y="4850280"/>
                  <a:ext cx="0" cy="1782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4603680" y="2438280"/>
                  <a:ext cx="0" cy="2590560"/>
                </a:xfrm>
                <a:prstGeom prst="line">
                  <a:avLst/>
                </a:prstGeom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3" name=""/>
              <p:cNvGrpSpPr/>
              <p:nvPr/>
            </p:nvGrpSpPr>
            <p:grpSpPr>
              <a:xfrm>
                <a:off x="4495680" y="2437920"/>
                <a:ext cx="1676160" cy="2590920"/>
                <a:chOff x="4495680" y="2437920"/>
                <a:chExt cx="1676160" cy="2590920"/>
              </a:xfrm>
            </p:grpSpPr>
            <p:sp>
              <p:nvSpPr>
                <p:cNvPr id="2754" name=""/>
                <p:cNvSpPr/>
                <p:nvPr/>
              </p:nvSpPr>
              <p:spPr>
                <a:xfrm flipV="1">
                  <a:off x="4495680" y="2437920"/>
                  <a:ext cx="68040" cy="14760"/>
                </a:xfrm>
                <a:prstGeom prst="line">
                  <a:avLst/>
                </a:prstGeom>
                <a:ln w="4608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4621680" y="2438280"/>
                  <a:ext cx="0" cy="2590560"/>
                </a:xfrm>
                <a:prstGeom prst="line">
                  <a:avLst/>
                </a:prstGeom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4703040" y="2527560"/>
                  <a:ext cx="0" cy="2501280"/>
                </a:xfrm>
                <a:prstGeom prst="line">
                  <a:avLst/>
                </a:prstGeom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4784760" y="2616480"/>
                  <a:ext cx="0" cy="24120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4866480" y="2706120"/>
                  <a:ext cx="0" cy="232272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4947840" y="2884680"/>
                  <a:ext cx="0" cy="214416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5029560" y="3063600"/>
                  <a:ext cx="0" cy="196524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5111280" y="3242160"/>
                  <a:ext cx="0" cy="178668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5192640" y="3420720"/>
                  <a:ext cx="0" cy="160812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5274360" y="3599640"/>
                  <a:ext cx="0" cy="14292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5356080" y="3778200"/>
                  <a:ext cx="0" cy="125064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5437440" y="3956760"/>
                  <a:ext cx="0" cy="107208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5519160" y="4135680"/>
                  <a:ext cx="0" cy="89316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5600880" y="4314240"/>
                  <a:ext cx="0" cy="7146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5682240" y="4403880"/>
                  <a:ext cx="0" cy="62496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5763960" y="4492800"/>
                  <a:ext cx="0" cy="53604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5845680" y="4582440"/>
                  <a:ext cx="0" cy="4464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5927040" y="4671720"/>
                  <a:ext cx="0" cy="35676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6008760" y="4761000"/>
                  <a:ext cx="0" cy="26784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6090480" y="4850280"/>
                  <a:ext cx="0" cy="1782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6171840" y="4850280"/>
                  <a:ext cx="0" cy="178200"/>
                </a:xfrm>
                <a:prstGeom prst="line">
                  <a:avLst/>
                </a:prstGeom>
                <a:ln w="572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4539960" y="2438280"/>
                  <a:ext cx="0" cy="2590560"/>
                </a:xfrm>
                <a:prstGeom prst="line">
                  <a:avLst/>
                </a:prstGeom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76" name=""/>
            <p:cNvSpPr/>
            <p:nvPr/>
          </p:nvSpPr>
          <p:spPr>
            <a:xfrm>
              <a:off x="1523880" y="1766880"/>
              <a:ext cx="6251760" cy="520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ffcc"/>
                </a:gs>
                <a:gs pos="100000">
                  <a:srgbClr val="fefefe"/>
                </a:gs>
              </a:gsLst>
              <a:lin ang="8100000"/>
            </a:gradFill>
            <a:ln w="0">
              <a:noFill/>
            </a:ln>
            <a:effectLst>
              <a:outerShdw dist="153009" dir="789398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tal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ea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the curv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00%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or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57200" y="5165640"/>
              <a:ext cx="8229600" cy="1308960"/>
            </a:xfrm>
            <a:prstGeom prst="rect">
              <a:avLst/>
            </a:prstGeom>
            <a:gradFill rotWithShape="0">
              <a:gsLst>
                <a:gs pos="0">
                  <a:srgbClr val="323232"/>
                </a:gs>
                <a:gs pos="50000">
                  <a:srgbClr val="000000"/>
                </a:gs>
                <a:gs pos="100000">
                  <a:srgbClr val="323232"/>
                </a:gs>
              </a:gsLst>
              <a:lin ang="8100000"/>
            </a:gradFill>
            <a:ln w="0">
              <a:noFill/>
            </a:ln>
            <a:effectLst>
              <a:outerShdw dist="125751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since the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mea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is located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at the peak of the curve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ccff"/>
                  </a:solidFill>
                  <a:latin typeface="Times New Roman"/>
                </a:rPr>
                <a:t>half the are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under the curve i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2800" spc="-1" strike="noStrike">
                  <a:solidFill>
                    <a:srgbClr val="ffccff"/>
                  </a:solidFill>
                  <a:latin typeface="Times New Roman"/>
                </a:rPr>
                <a:t>above th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mean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8" name=""/>
            <p:cNvGrpSpPr/>
            <p:nvPr/>
          </p:nvGrpSpPr>
          <p:grpSpPr>
            <a:xfrm>
              <a:off x="1982520" y="2437920"/>
              <a:ext cx="2665440" cy="2590920"/>
              <a:chOff x="1982520" y="2437920"/>
              <a:chExt cx="2665440" cy="2590920"/>
            </a:xfrm>
          </p:grpSpPr>
          <p:grpSp>
            <p:nvGrpSpPr>
              <p:cNvPr id="2779" name=""/>
              <p:cNvGrpSpPr/>
              <p:nvPr/>
            </p:nvGrpSpPr>
            <p:grpSpPr>
              <a:xfrm>
                <a:off x="2971800" y="2437920"/>
                <a:ext cx="1676160" cy="2590920"/>
                <a:chOff x="2971800" y="2437920"/>
                <a:chExt cx="1676160" cy="2590920"/>
              </a:xfrm>
            </p:grpSpPr>
            <p:sp>
              <p:nvSpPr>
                <p:cNvPr id="2780" name=""/>
                <p:cNvSpPr/>
                <p:nvPr/>
              </p:nvSpPr>
              <p:spPr>
                <a:xfrm flipH="1" flipV="1">
                  <a:off x="4579920" y="2437920"/>
                  <a:ext cx="68040" cy="14760"/>
                </a:xfrm>
                <a:prstGeom prst="line">
                  <a:avLst/>
                </a:prstGeom>
                <a:ln w="46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4521960" y="2438280"/>
                  <a:ext cx="0" cy="259056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4440600" y="2527560"/>
                  <a:ext cx="0" cy="250128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4358880" y="2616480"/>
                  <a:ext cx="0" cy="24120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4277160" y="2706120"/>
                  <a:ext cx="0" cy="23227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4195800" y="2884680"/>
                  <a:ext cx="0" cy="2144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4114080" y="3063600"/>
                  <a:ext cx="0" cy="19652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4032360" y="3242160"/>
                  <a:ext cx="0" cy="17866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3951000" y="3420720"/>
                  <a:ext cx="0" cy="160812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3869280" y="3599640"/>
                  <a:ext cx="0" cy="14292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3787560" y="3778200"/>
                  <a:ext cx="0" cy="12506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3706200" y="3956760"/>
                  <a:ext cx="0" cy="107208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3624480" y="4135680"/>
                  <a:ext cx="0" cy="8931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3542760" y="4314240"/>
                  <a:ext cx="0" cy="7146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3461400" y="4403880"/>
                  <a:ext cx="0" cy="6249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3379680" y="4492800"/>
                  <a:ext cx="0" cy="5360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3297960" y="4582440"/>
                  <a:ext cx="0" cy="4464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3216600" y="4671720"/>
                  <a:ext cx="0" cy="35676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3134880" y="4761000"/>
                  <a:ext cx="0" cy="26784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3053160" y="4850280"/>
                  <a:ext cx="0" cy="1782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2971800" y="4850280"/>
                  <a:ext cx="0" cy="17820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4603680" y="2438280"/>
                  <a:ext cx="0" cy="259056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2" name=""/>
              <p:cNvSpPr/>
              <p:nvPr/>
            </p:nvSpPr>
            <p:spPr>
              <a:xfrm>
                <a:off x="1982520" y="4145040"/>
                <a:ext cx="2111760" cy="5814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cbecf9"/>
                    </a:solidFill>
                    <a:latin typeface="Arial"/>
                  </a:rPr>
                  <a:t>Area = 0.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3" name=""/>
            <p:cNvGrpSpPr/>
            <p:nvPr/>
          </p:nvGrpSpPr>
          <p:grpSpPr>
            <a:xfrm>
              <a:off x="4572000" y="2437920"/>
              <a:ext cx="2260800" cy="2590920"/>
              <a:chOff x="4572000" y="2437920"/>
              <a:chExt cx="2260800" cy="2590920"/>
            </a:xfrm>
          </p:grpSpPr>
          <p:grpSp>
            <p:nvGrpSpPr>
              <p:cNvPr id="2804" name=""/>
              <p:cNvGrpSpPr/>
              <p:nvPr/>
            </p:nvGrpSpPr>
            <p:grpSpPr>
              <a:xfrm>
                <a:off x="4572000" y="2437920"/>
                <a:ext cx="1627920" cy="2590920"/>
                <a:chOff x="4572000" y="2437920"/>
                <a:chExt cx="1627920" cy="2590920"/>
              </a:xfrm>
            </p:grpSpPr>
            <p:sp>
              <p:nvSpPr>
                <p:cNvPr id="2805" name=""/>
                <p:cNvSpPr/>
                <p:nvPr/>
              </p:nvSpPr>
              <p:spPr>
                <a:xfrm flipV="1">
                  <a:off x="4572000" y="2437920"/>
                  <a:ext cx="66240" cy="14760"/>
                </a:xfrm>
                <a:prstGeom prst="line">
                  <a:avLst/>
                </a:prstGeom>
                <a:ln w="4608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4694400" y="2438280"/>
                  <a:ext cx="0" cy="2590560"/>
                </a:xfrm>
                <a:prstGeom prst="line">
                  <a:avLst/>
                </a:prstGeom>
                <a:ln w="7632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4773240" y="2527560"/>
                  <a:ext cx="0" cy="2501280"/>
                </a:xfrm>
                <a:prstGeom prst="line">
                  <a:avLst/>
                </a:prstGeom>
                <a:ln w="7632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4852800" y="2616480"/>
                  <a:ext cx="0" cy="241200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4932000" y="2706120"/>
                  <a:ext cx="0" cy="232272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5011200" y="2884680"/>
                  <a:ext cx="0" cy="214416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5090400" y="3063600"/>
                  <a:ext cx="0" cy="196524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5169960" y="3242160"/>
                  <a:ext cx="0" cy="178668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5248800" y="3420720"/>
                  <a:ext cx="0" cy="160812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5328360" y="3599640"/>
                  <a:ext cx="0" cy="142920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5407560" y="3778200"/>
                  <a:ext cx="0" cy="125064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5486760" y="3956760"/>
                  <a:ext cx="0" cy="107208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5565960" y="4135680"/>
                  <a:ext cx="0" cy="89316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5645520" y="4314240"/>
                  <a:ext cx="0" cy="71460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5724360" y="4403880"/>
                  <a:ext cx="0" cy="62496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5803920" y="4492800"/>
                  <a:ext cx="0" cy="53604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5883120" y="4582440"/>
                  <a:ext cx="0" cy="44640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5962320" y="4671720"/>
                  <a:ext cx="0" cy="35676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6041520" y="4761000"/>
                  <a:ext cx="0" cy="26784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6121080" y="4850280"/>
                  <a:ext cx="0" cy="17820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6199920" y="4850280"/>
                  <a:ext cx="0" cy="178200"/>
                </a:xfrm>
                <a:prstGeom prst="line">
                  <a:avLst/>
                </a:prstGeom>
                <a:ln w="5724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4614840" y="2438280"/>
                  <a:ext cx="0" cy="2590560"/>
                </a:xfrm>
                <a:prstGeom prst="line">
                  <a:avLst/>
                </a:prstGeom>
                <a:ln w="7632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7" name=""/>
              <p:cNvSpPr/>
              <p:nvPr/>
            </p:nvSpPr>
            <p:spPr>
              <a:xfrm>
                <a:off x="4721040" y="4145040"/>
                <a:ext cx="2111760" cy="5814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cbecf9"/>
                    </a:solidFill>
                    <a:latin typeface="Arial"/>
                  </a:rPr>
                  <a:t>Area = 0.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8" name=""/>
            <p:cNvGrpSpPr/>
            <p:nvPr/>
          </p:nvGrpSpPr>
          <p:grpSpPr>
            <a:xfrm>
              <a:off x="2286000" y="2438280"/>
              <a:ext cx="4495680" cy="2590920"/>
              <a:chOff x="2286000" y="2438280"/>
              <a:chExt cx="4495680" cy="2590920"/>
            </a:xfrm>
          </p:grpSpPr>
          <p:sp>
            <p:nvSpPr>
              <p:cNvPr id="2829" name=""/>
              <p:cNvSpPr/>
              <p:nvPr/>
            </p:nvSpPr>
            <p:spPr>
              <a:xfrm>
                <a:off x="4572000" y="2438280"/>
                <a:ext cx="0" cy="259092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2286000" y="5029200"/>
                <a:ext cx="4495680" cy="0"/>
              </a:xfrm>
              <a:prstGeom prst="line">
                <a:avLst/>
              </a:prstGeom>
              <a:ln w="57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1" name=""/>
            <p:cNvSpPr/>
            <p:nvPr/>
          </p:nvSpPr>
          <p:spPr>
            <a:xfrm>
              <a:off x="4421160" y="5943600"/>
              <a:ext cx="34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ff00"/>
                  </a:solidFill>
                  <a:latin typeface="Times New Roman"/>
                </a:rPr>
                <a:t>half is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ff00"/>
                  </a:solidFill>
                  <a:latin typeface="Times New Roman"/>
                </a:rPr>
                <a:t>below the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me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2" name=""/>
            <p:cNvGrpSpPr/>
            <p:nvPr/>
          </p:nvGrpSpPr>
          <p:grpSpPr>
            <a:xfrm>
              <a:off x="2666880" y="2438280"/>
              <a:ext cx="3809880" cy="2590560"/>
              <a:chOff x="2666880" y="2438280"/>
              <a:chExt cx="3809880" cy="2590560"/>
            </a:xfrm>
          </p:grpSpPr>
          <p:sp>
            <p:nvSpPr>
              <p:cNvPr id="2833" name=""/>
              <p:cNvSpPr/>
              <p:nvPr/>
            </p:nvSpPr>
            <p:spPr>
              <a:xfrm flipV="1">
                <a:off x="2666880" y="5013000"/>
                <a:ext cx="69480" cy="158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V="1">
                <a:off x="2736360" y="4981680"/>
                <a:ext cx="71280" cy="306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V="1">
                <a:off x="2808000" y="4966200"/>
                <a:ext cx="52920" cy="158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2861280" y="4935240"/>
                <a:ext cx="71280" cy="3060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19"/>
                    </a:moveTo>
                    <a:lnTo>
                      <a:pt x="19" y="10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V="1">
                <a:off x="2932560" y="4888440"/>
                <a:ext cx="52920" cy="468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2985840" y="4841640"/>
                <a:ext cx="69120" cy="4680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19" y="1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V="1">
                <a:off x="3054960" y="4794840"/>
                <a:ext cx="54720" cy="468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3110040" y="4731840"/>
                <a:ext cx="69480" cy="62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V="1">
                <a:off x="3179880" y="4670280"/>
                <a:ext cx="71280" cy="608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V="1">
                <a:off x="3251160" y="4591080"/>
                <a:ext cx="52920" cy="788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304440" y="4497840"/>
                <a:ext cx="71280" cy="936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5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V="1">
                <a:off x="3375720" y="4404240"/>
                <a:ext cx="52920" cy="936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429000" y="4294440"/>
                <a:ext cx="69120" cy="10980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68"/>
                    </a:moveTo>
                    <a:lnTo>
                      <a:pt x="19" y="39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V="1">
                <a:off x="3498480" y="4170240"/>
                <a:ext cx="52920" cy="1238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 flipV="1">
                <a:off x="3551400" y="4045320"/>
                <a:ext cx="71280" cy="1242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V="1">
                <a:off x="3623040" y="3919680"/>
                <a:ext cx="71280" cy="125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V="1">
                <a:off x="3694320" y="3779280"/>
                <a:ext cx="52920" cy="140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747600" y="3624480"/>
                <a:ext cx="71280" cy="15516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96"/>
                    </a:moveTo>
                    <a:lnTo>
                      <a:pt x="19" y="48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V="1">
                <a:off x="3819240" y="3484080"/>
                <a:ext cx="52920" cy="140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872160" y="3343680"/>
                <a:ext cx="69120" cy="1404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87"/>
                    </a:moveTo>
                    <a:lnTo>
                      <a:pt x="19" y="38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V="1">
                <a:off x="3941640" y="3203280"/>
                <a:ext cx="52920" cy="1404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3994920" y="3062520"/>
                <a:ext cx="71280" cy="140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V="1">
                <a:off x="4066200" y="2936520"/>
                <a:ext cx="71280" cy="125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V="1">
                <a:off x="4137840" y="2812320"/>
                <a:ext cx="52920" cy="1242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190760" y="2702880"/>
                <a:ext cx="71280" cy="10980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6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262400" y="2609280"/>
                <a:ext cx="52920" cy="9324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58"/>
                    </a:moveTo>
                    <a:lnTo>
                      <a:pt x="9" y="2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315320" y="2546280"/>
                <a:ext cx="69480" cy="626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39"/>
                    </a:moveTo>
                    <a:lnTo>
                      <a:pt x="19" y="2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4385160" y="2485080"/>
                <a:ext cx="52560" cy="612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10" y="1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4438080" y="2452320"/>
                <a:ext cx="71280" cy="32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4509360" y="2438280"/>
                <a:ext cx="71280" cy="144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4581000" y="2438280"/>
                <a:ext cx="52920" cy="144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634280" y="2452680"/>
                <a:ext cx="71280" cy="3204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0"/>
                    </a:moveTo>
                    <a:lnTo>
                      <a:pt x="19" y="10"/>
                    </a:lnTo>
                    <a:lnTo>
                      <a:pt x="39" y="20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4705560" y="2485080"/>
                <a:ext cx="52920" cy="612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0"/>
                    </a:moveTo>
                    <a:lnTo>
                      <a:pt x="9" y="19"/>
                    </a:lnTo>
                    <a:lnTo>
                      <a:pt x="29" y="38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758840" y="2546280"/>
                <a:ext cx="69480" cy="6264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0"/>
                    </a:moveTo>
                    <a:lnTo>
                      <a:pt x="19" y="20"/>
                    </a:lnTo>
                    <a:lnTo>
                      <a:pt x="38" y="39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4828680" y="2609280"/>
                <a:ext cx="52920" cy="9324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0"/>
                    </a:moveTo>
                    <a:lnTo>
                      <a:pt x="10" y="29"/>
                    </a:lnTo>
                    <a:lnTo>
                      <a:pt x="29" y="58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881600" y="2702880"/>
                <a:ext cx="71280" cy="10980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0"/>
                    </a:moveTo>
                    <a:lnTo>
                      <a:pt x="20" y="29"/>
                    </a:lnTo>
                    <a:lnTo>
                      <a:pt x="39" y="68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953240" y="2812680"/>
                <a:ext cx="52560" cy="1242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005800" y="2936880"/>
                <a:ext cx="71280" cy="125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077440" y="3062880"/>
                <a:ext cx="71280" cy="140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148720" y="3203280"/>
                <a:ext cx="52920" cy="1404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202000" y="3343680"/>
                <a:ext cx="69480" cy="1404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0"/>
                    </a:moveTo>
                    <a:lnTo>
                      <a:pt x="19" y="38"/>
                    </a:lnTo>
                    <a:lnTo>
                      <a:pt x="38" y="87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271840" y="3484440"/>
                <a:ext cx="52920" cy="140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324760" y="3624480"/>
                <a:ext cx="71280" cy="15516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0"/>
                    </a:moveTo>
                    <a:lnTo>
                      <a:pt x="20" y="48"/>
                    </a:lnTo>
                    <a:lnTo>
                      <a:pt x="39" y="96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5396400" y="3779640"/>
                <a:ext cx="52920" cy="1400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5449680" y="3920040"/>
                <a:ext cx="71280" cy="125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5520960" y="4045680"/>
                <a:ext cx="71280" cy="1242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5592600" y="4170240"/>
                <a:ext cx="52560" cy="1238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5645160" y="4294440"/>
                <a:ext cx="69480" cy="10980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0"/>
                    </a:moveTo>
                    <a:lnTo>
                      <a:pt x="19" y="39"/>
                    </a:lnTo>
                    <a:lnTo>
                      <a:pt x="38" y="68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5715000" y="4404240"/>
                <a:ext cx="52920" cy="936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5768280" y="4497840"/>
                <a:ext cx="71280" cy="936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0"/>
                    </a:moveTo>
                    <a:lnTo>
                      <a:pt x="20" y="29"/>
                    </a:lnTo>
                    <a:lnTo>
                      <a:pt x="39" y="58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5839560" y="4591440"/>
                <a:ext cx="52920" cy="788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5892840" y="4670640"/>
                <a:ext cx="71280" cy="608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5964120" y="4731840"/>
                <a:ext cx="69120" cy="626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033600" y="4794840"/>
                <a:ext cx="55080" cy="468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089040" y="4841640"/>
                <a:ext cx="69120" cy="4680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0"/>
                    </a:moveTo>
                    <a:lnTo>
                      <a:pt x="19" y="10"/>
                    </a:lnTo>
                    <a:lnTo>
                      <a:pt x="38" y="29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158160" y="4888440"/>
                <a:ext cx="52920" cy="468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211440" y="4935240"/>
                <a:ext cx="71280" cy="3060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20" y="10"/>
                    </a:lnTo>
                    <a:lnTo>
                      <a:pt x="39" y="19"/>
                    </a:lnTo>
                  </a:path>
                </a:pathLst>
              </a:custGeom>
              <a:noFill/>
              <a:ln w="7632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282720" y="4966200"/>
                <a:ext cx="52920" cy="158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336000" y="4982040"/>
                <a:ext cx="71280" cy="306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407640" y="5013000"/>
                <a:ext cx="69120" cy="1584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93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1457280" cy="23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938D-B888-49AB-898E-7093F8AA234F}" type="slidenum">
              <a:t>45</a:t>
            </a:fld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4" name=""/>
          <p:cNvGrpSpPr/>
          <p:nvPr/>
        </p:nvGrpSpPr>
        <p:grpSpPr>
          <a:xfrm>
            <a:off x="6705720" y="1904760"/>
            <a:ext cx="633240" cy="2133720"/>
            <a:chOff x="6705720" y="1904760"/>
            <a:chExt cx="633240" cy="2133720"/>
          </a:xfrm>
        </p:grpSpPr>
        <p:grpSp>
          <p:nvGrpSpPr>
            <p:cNvPr id="2895" name=""/>
            <p:cNvGrpSpPr/>
            <p:nvPr/>
          </p:nvGrpSpPr>
          <p:grpSpPr>
            <a:xfrm>
              <a:off x="6705720" y="1904760"/>
              <a:ext cx="633240" cy="2133720"/>
              <a:chOff x="6705720" y="1904760"/>
              <a:chExt cx="633240" cy="2133720"/>
            </a:xfrm>
          </p:grpSpPr>
          <p:sp>
            <p:nvSpPr>
              <p:cNvPr id="2896" name=""/>
              <p:cNvSpPr/>
              <p:nvPr/>
            </p:nvSpPr>
            <p:spPr>
              <a:xfrm flipV="1">
                <a:off x="6705720" y="1904760"/>
                <a:ext cx="61920" cy="111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819840" y="1905120"/>
                <a:ext cx="0" cy="21333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894360" y="1978200"/>
                <a:ext cx="0" cy="20602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969240" y="2052720"/>
                <a:ext cx="0" cy="19857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043760" y="2125800"/>
                <a:ext cx="0" cy="19126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16840" y="2271600"/>
                <a:ext cx="0" cy="17668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89920" y="2419200"/>
                <a:ext cx="0" cy="16192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264440" y="2567160"/>
                <a:ext cx="0" cy="147132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338960" y="2714760"/>
                <a:ext cx="0" cy="132372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6745320" y="1905120"/>
                <a:ext cx="0" cy="21333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6" name=""/>
            <p:cNvSpPr/>
            <p:nvPr/>
          </p:nvSpPr>
          <p:spPr>
            <a:xfrm>
              <a:off x="6781680" y="2819520"/>
              <a:ext cx="533520" cy="655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7" name=""/>
          <p:cNvGrpSpPr/>
          <p:nvPr/>
        </p:nvGrpSpPr>
        <p:grpSpPr>
          <a:xfrm>
            <a:off x="228600" y="1828800"/>
            <a:ext cx="3429000" cy="963720"/>
            <a:chOff x="228600" y="1828800"/>
            <a:chExt cx="3429000" cy="963720"/>
          </a:xfrm>
        </p:grpSpPr>
        <p:sp>
          <p:nvSpPr>
            <p:cNvPr id="2908" name=""/>
            <p:cNvSpPr/>
            <p:nvPr/>
          </p:nvSpPr>
          <p:spPr>
            <a:xfrm>
              <a:off x="1066680" y="182880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9" name=""/>
            <p:cNvGrpSpPr/>
            <p:nvPr/>
          </p:nvGrpSpPr>
          <p:grpSpPr>
            <a:xfrm>
              <a:off x="228600" y="1981080"/>
              <a:ext cx="685800" cy="811440"/>
              <a:chOff x="228600" y="1981080"/>
              <a:chExt cx="685800" cy="811440"/>
            </a:xfrm>
          </p:grpSpPr>
          <p:pic>
            <p:nvPicPr>
              <p:cNvPr id="29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981080"/>
                <a:ext cx="685800" cy="81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1" name=""/>
              <p:cNvSpPr/>
              <p:nvPr/>
            </p:nvSpPr>
            <p:spPr>
              <a:xfrm>
                <a:off x="282960" y="20574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2" name=""/>
          <p:cNvGrpSpPr/>
          <p:nvPr/>
        </p:nvGrpSpPr>
        <p:grpSpPr>
          <a:xfrm>
            <a:off x="228600" y="2971800"/>
            <a:ext cx="3962520" cy="811080"/>
            <a:chOff x="228600" y="2971800"/>
            <a:chExt cx="3962520" cy="811080"/>
          </a:xfrm>
        </p:grpSpPr>
        <p:sp>
          <p:nvSpPr>
            <p:cNvPr id="2913" name=""/>
            <p:cNvSpPr/>
            <p:nvPr/>
          </p:nvSpPr>
          <p:spPr>
            <a:xfrm>
              <a:off x="1066680" y="3124080"/>
              <a:ext cx="31244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.00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4" name=""/>
            <p:cNvGrpSpPr/>
            <p:nvPr/>
          </p:nvGrpSpPr>
          <p:grpSpPr>
            <a:xfrm>
              <a:off x="228600" y="2971800"/>
              <a:ext cx="685800" cy="811080"/>
              <a:chOff x="228600" y="2971800"/>
              <a:chExt cx="685800" cy="811080"/>
            </a:xfrm>
          </p:grpSpPr>
          <p:pic>
            <p:nvPicPr>
              <p:cNvPr id="29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29718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6" name=""/>
              <p:cNvSpPr/>
              <p:nvPr/>
            </p:nvSpPr>
            <p:spPr>
              <a:xfrm>
                <a:off x="282960" y="3047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7" name=""/>
          <p:cNvSpPr txBox="1"/>
          <p:nvPr/>
        </p:nvSpPr>
        <p:spPr>
          <a:xfrm>
            <a:off x="1143000" y="99072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2918" name=""/>
          <p:cNvSpPr/>
          <p:nvPr/>
        </p:nvSpPr>
        <p:spPr>
          <a:xfrm>
            <a:off x="2364480" y="1020600"/>
            <a:ext cx="601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area to th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2.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1866960" y="1752480"/>
            <a:ext cx="5410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295280" y="5334120"/>
            <a:ext cx="659160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to the left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.5 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4772 +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1295280" y="5943600"/>
            <a:ext cx="65534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required Total Area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9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6553080" y="40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7086600" y="4052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4" name=""/>
          <p:cNvGrpSpPr/>
          <p:nvPr/>
        </p:nvGrpSpPr>
        <p:grpSpPr>
          <a:xfrm>
            <a:off x="4344840" y="1904760"/>
            <a:ext cx="2393640" cy="2133720"/>
            <a:chOff x="4344840" y="1904760"/>
            <a:chExt cx="2393640" cy="2133720"/>
          </a:xfrm>
        </p:grpSpPr>
        <p:grpSp>
          <p:nvGrpSpPr>
            <p:cNvPr id="2925" name=""/>
            <p:cNvGrpSpPr/>
            <p:nvPr/>
          </p:nvGrpSpPr>
          <p:grpSpPr>
            <a:xfrm>
              <a:off x="5175000" y="1904760"/>
              <a:ext cx="1563480" cy="2133720"/>
              <a:chOff x="5175000" y="1904760"/>
              <a:chExt cx="1563480" cy="2133720"/>
            </a:xfrm>
          </p:grpSpPr>
          <p:sp>
            <p:nvSpPr>
              <p:cNvPr id="2926" name=""/>
              <p:cNvSpPr/>
              <p:nvPr/>
            </p:nvSpPr>
            <p:spPr>
              <a:xfrm flipH="1" flipV="1">
                <a:off x="6675120" y="1904760"/>
                <a:ext cx="63360" cy="11880"/>
              </a:xfrm>
              <a:prstGeom prst="line">
                <a:avLst/>
              </a:prstGeom>
              <a:ln w="46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621120" y="1905120"/>
                <a:ext cx="0" cy="213336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545160" y="1978560"/>
                <a:ext cx="0" cy="205956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6468840" y="2052000"/>
                <a:ext cx="0" cy="19861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6392880" y="2125800"/>
                <a:ext cx="0" cy="19123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316920" y="2272680"/>
                <a:ext cx="0" cy="1765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240600" y="2419920"/>
                <a:ext cx="0" cy="16182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6164280" y="2567160"/>
                <a:ext cx="0" cy="147096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6088680" y="2714040"/>
                <a:ext cx="0" cy="13240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6012360" y="2861280"/>
                <a:ext cx="0" cy="11768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936040" y="3008520"/>
                <a:ext cx="0" cy="10296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860080" y="3155400"/>
                <a:ext cx="0" cy="8827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784120" y="3303000"/>
                <a:ext cx="0" cy="7351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707800" y="3449880"/>
                <a:ext cx="0" cy="5882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631840" y="3523680"/>
                <a:ext cx="0" cy="514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555520" y="3596760"/>
                <a:ext cx="0" cy="44136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479560" y="3670560"/>
                <a:ext cx="0" cy="36756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403600" y="3744360"/>
                <a:ext cx="0" cy="29376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327280" y="3817440"/>
                <a:ext cx="0" cy="2206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250960" y="3891240"/>
                <a:ext cx="0" cy="1468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175000" y="3891240"/>
                <a:ext cx="0" cy="1468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697440" y="1905120"/>
                <a:ext cx="0" cy="213336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8" name=""/>
            <p:cNvSpPr/>
            <p:nvPr/>
          </p:nvSpPr>
          <p:spPr>
            <a:xfrm>
              <a:off x="4344840" y="3154320"/>
              <a:ext cx="21117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ccff"/>
                  </a:solidFill>
                  <a:latin typeface="Arial"/>
                </a:rPr>
                <a:t>A</a:t>
              </a: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rea = 0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9" name=""/>
          <p:cNvGrpSpPr/>
          <p:nvPr/>
        </p:nvGrpSpPr>
        <p:grpSpPr>
          <a:xfrm>
            <a:off x="4876920" y="1904760"/>
            <a:ext cx="3657240" cy="2133720"/>
            <a:chOff x="4876920" y="1904760"/>
            <a:chExt cx="3657240" cy="2133720"/>
          </a:xfrm>
        </p:grpSpPr>
        <p:sp>
          <p:nvSpPr>
            <p:cNvPr id="2950" name=""/>
            <p:cNvSpPr/>
            <p:nvPr/>
          </p:nvSpPr>
          <p:spPr>
            <a:xfrm>
              <a:off x="4876920" y="403848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720480" y="1905120"/>
              <a:ext cx="0" cy="2133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4941360" y="4023720"/>
              <a:ext cx="65880" cy="14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V="1">
              <a:off x="5007600" y="3999960"/>
              <a:ext cx="66240" cy="23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V="1">
              <a:off x="5073840" y="3985560"/>
              <a:ext cx="50760" cy="14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5124960" y="3962160"/>
              <a:ext cx="64440" cy="234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5189760" y="3924360"/>
              <a:ext cx="49680" cy="374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5239440" y="3884400"/>
              <a:ext cx="64440" cy="396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5304240" y="3845880"/>
              <a:ext cx="52920" cy="3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V="1">
              <a:off x="5357160" y="3795480"/>
              <a:ext cx="64440" cy="50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V="1">
              <a:off x="5421960" y="3743280"/>
              <a:ext cx="65880" cy="518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5487840" y="3676680"/>
              <a:ext cx="47880" cy="66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536080" y="3603600"/>
              <a:ext cx="67680" cy="7272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V="1">
              <a:off x="5604120" y="3524040"/>
              <a:ext cx="49320" cy="792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653440" y="3433680"/>
              <a:ext cx="66240" cy="900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5720040" y="3331800"/>
              <a:ext cx="47520" cy="101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V="1">
              <a:off x="5767920" y="3228840"/>
              <a:ext cx="66240" cy="1029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V="1">
              <a:off x="5834160" y="3124080"/>
              <a:ext cx="67680" cy="104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V="1">
              <a:off x="5902200" y="3011400"/>
              <a:ext cx="49320" cy="112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951880" y="2882880"/>
              <a:ext cx="67680" cy="12816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V="1">
              <a:off x="6019920" y="2766600"/>
              <a:ext cx="47880" cy="115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067800" y="2651040"/>
              <a:ext cx="64440" cy="11556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V="1">
              <a:off x="6132600" y="2534760"/>
              <a:ext cx="49320" cy="115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V="1">
              <a:off x="6181920" y="2420280"/>
              <a:ext cx="67680" cy="11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V="1">
              <a:off x="6249960" y="2315880"/>
              <a:ext cx="65880" cy="104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V="1">
              <a:off x="6316200" y="2214000"/>
              <a:ext cx="49320" cy="101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365880" y="2124000"/>
              <a:ext cx="64440" cy="900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430320" y="2046240"/>
              <a:ext cx="51120" cy="774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481800" y="1993680"/>
              <a:ext cx="64440" cy="52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546600" y="1942920"/>
              <a:ext cx="49320" cy="504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6595920" y="1917360"/>
              <a:ext cx="66240" cy="248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V="1">
              <a:off x="6662520" y="1904760"/>
              <a:ext cx="65880" cy="12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728760" y="1905120"/>
              <a:ext cx="51120" cy="12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780240" y="1917720"/>
              <a:ext cx="65880" cy="248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846120" y="1942920"/>
              <a:ext cx="49320" cy="504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895800" y="1993680"/>
              <a:ext cx="64440" cy="52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960240" y="2046240"/>
              <a:ext cx="49680" cy="774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010280" y="2124000"/>
              <a:ext cx="65880" cy="900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076520" y="2214360"/>
              <a:ext cx="49320" cy="101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126200" y="2315880"/>
              <a:ext cx="66240" cy="104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192440" y="2420640"/>
              <a:ext cx="67680" cy="11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260480" y="2535120"/>
              <a:ext cx="47520" cy="115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308360" y="2651040"/>
              <a:ext cx="66240" cy="11556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374600" y="2766960"/>
              <a:ext cx="47880" cy="115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422840" y="2882880"/>
              <a:ext cx="67680" cy="12816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490880" y="3011400"/>
              <a:ext cx="49320" cy="112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540560" y="3124080"/>
              <a:ext cx="65880" cy="104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606440" y="3228840"/>
              <a:ext cx="67680" cy="1029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674480" y="3332160"/>
              <a:ext cx="47880" cy="101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722720" y="3433680"/>
              <a:ext cx="65880" cy="900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788600" y="3524040"/>
              <a:ext cx="49680" cy="792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838640" y="3603600"/>
              <a:ext cx="65880" cy="7272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904880" y="3676680"/>
              <a:ext cx="47880" cy="66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952760" y="3743280"/>
              <a:ext cx="67680" cy="518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8020800" y="3795480"/>
              <a:ext cx="64440" cy="50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8085600" y="3846240"/>
              <a:ext cx="52920" cy="3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138520" y="3884400"/>
              <a:ext cx="62640" cy="396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8201160" y="3924360"/>
              <a:ext cx="49680" cy="374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251200" y="3962160"/>
              <a:ext cx="65880" cy="234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317080" y="3985920"/>
              <a:ext cx="51120" cy="14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368560" y="4000320"/>
              <a:ext cx="65880" cy="23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434800" y="4024080"/>
              <a:ext cx="64440" cy="14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2" name=""/>
          <p:cNvSpPr/>
          <p:nvPr/>
        </p:nvSpPr>
        <p:spPr>
          <a:xfrm>
            <a:off x="7391520" y="2895480"/>
            <a:ext cx="0" cy="11430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1295280" y="4724280"/>
            <a:ext cx="655344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0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2.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 flipH="1">
            <a:off x="5410080" y="37339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5" name=""/>
          <p:cNvGrpSpPr/>
          <p:nvPr/>
        </p:nvGrpSpPr>
        <p:grpSpPr>
          <a:xfrm>
            <a:off x="228600" y="3913200"/>
            <a:ext cx="3276720" cy="811080"/>
            <a:chOff x="228600" y="3913200"/>
            <a:chExt cx="3276720" cy="811080"/>
          </a:xfrm>
        </p:grpSpPr>
        <p:grpSp>
          <p:nvGrpSpPr>
            <p:cNvPr id="3016" name=""/>
            <p:cNvGrpSpPr/>
            <p:nvPr/>
          </p:nvGrpSpPr>
          <p:grpSpPr>
            <a:xfrm>
              <a:off x="228600" y="3913200"/>
              <a:ext cx="685800" cy="811080"/>
              <a:chOff x="228600" y="3913200"/>
              <a:chExt cx="685800" cy="811080"/>
            </a:xfrm>
          </p:grpSpPr>
          <p:pic>
            <p:nvPicPr>
              <p:cNvPr id="301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39132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8" name=""/>
              <p:cNvSpPr/>
              <p:nvPr/>
            </p:nvSpPr>
            <p:spPr>
              <a:xfrm>
                <a:off x="282960" y="3989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9" name=""/>
            <p:cNvSpPr/>
            <p:nvPr/>
          </p:nvSpPr>
          <p:spPr>
            <a:xfrm>
              <a:off x="1066680" y="4038480"/>
              <a:ext cx="24386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djust a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0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184B9-42C6-4F95-9019-90FF2D7C9BF8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1" name=""/>
          <p:cNvGrpSpPr/>
          <p:nvPr/>
        </p:nvGrpSpPr>
        <p:grpSpPr>
          <a:xfrm>
            <a:off x="6705720" y="1904760"/>
            <a:ext cx="533160" cy="2133720"/>
            <a:chOff x="6705720" y="1904760"/>
            <a:chExt cx="533160" cy="2133720"/>
          </a:xfrm>
        </p:grpSpPr>
        <p:grpSp>
          <p:nvGrpSpPr>
            <p:cNvPr id="3022" name=""/>
            <p:cNvGrpSpPr/>
            <p:nvPr/>
          </p:nvGrpSpPr>
          <p:grpSpPr>
            <a:xfrm>
              <a:off x="6705720" y="1904760"/>
              <a:ext cx="484200" cy="2133720"/>
              <a:chOff x="6705720" y="1904760"/>
              <a:chExt cx="484200" cy="2133720"/>
            </a:xfrm>
          </p:grpSpPr>
          <p:sp>
            <p:nvSpPr>
              <p:cNvPr id="3023" name=""/>
              <p:cNvSpPr/>
              <p:nvPr/>
            </p:nvSpPr>
            <p:spPr>
              <a:xfrm flipV="1">
                <a:off x="6705720" y="1904760"/>
                <a:ext cx="61920" cy="111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819840" y="1905120"/>
                <a:ext cx="0" cy="21333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94360" y="1978200"/>
                <a:ext cx="0" cy="20602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969240" y="2052720"/>
                <a:ext cx="0" cy="19857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043760" y="2125800"/>
                <a:ext cx="0" cy="19126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116840" y="2271600"/>
                <a:ext cx="0" cy="17668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189920" y="2419200"/>
                <a:ext cx="0" cy="16192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6745320" y="1905120"/>
                <a:ext cx="0" cy="21333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1" name=""/>
            <p:cNvSpPr/>
            <p:nvPr/>
          </p:nvSpPr>
          <p:spPr>
            <a:xfrm>
              <a:off x="6705720" y="2819520"/>
              <a:ext cx="533160" cy="655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228600" y="1905120"/>
            <a:ext cx="3429000" cy="947160"/>
            <a:chOff x="228600" y="1905120"/>
            <a:chExt cx="3429000" cy="947160"/>
          </a:xfrm>
        </p:grpSpPr>
        <p:sp>
          <p:nvSpPr>
            <p:cNvPr id="3033" name=""/>
            <p:cNvSpPr/>
            <p:nvPr/>
          </p:nvSpPr>
          <p:spPr>
            <a:xfrm>
              <a:off x="1066680" y="190512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4" name=""/>
            <p:cNvGrpSpPr/>
            <p:nvPr/>
          </p:nvGrpSpPr>
          <p:grpSpPr>
            <a:xfrm>
              <a:off x="228600" y="2011320"/>
              <a:ext cx="685800" cy="811080"/>
              <a:chOff x="228600" y="2011320"/>
              <a:chExt cx="685800" cy="811080"/>
            </a:xfrm>
          </p:grpSpPr>
          <p:pic>
            <p:nvPicPr>
              <p:cNvPr id="303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0113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6" name=""/>
              <p:cNvSpPr/>
              <p:nvPr/>
            </p:nvSpPr>
            <p:spPr>
              <a:xfrm>
                <a:off x="282960" y="20872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7" name=""/>
          <p:cNvGrpSpPr/>
          <p:nvPr/>
        </p:nvGrpSpPr>
        <p:grpSpPr>
          <a:xfrm>
            <a:off x="228600" y="3002040"/>
            <a:ext cx="3962520" cy="811080"/>
            <a:chOff x="228600" y="3002040"/>
            <a:chExt cx="3962520" cy="811080"/>
          </a:xfrm>
        </p:grpSpPr>
        <p:sp>
          <p:nvSpPr>
            <p:cNvPr id="3038" name=""/>
            <p:cNvSpPr/>
            <p:nvPr/>
          </p:nvSpPr>
          <p:spPr>
            <a:xfrm>
              <a:off x="1066680" y="3230640"/>
              <a:ext cx="31244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.96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9" name=""/>
            <p:cNvGrpSpPr/>
            <p:nvPr/>
          </p:nvGrpSpPr>
          <p:grpSpPr>
            <a:xfrm>
              <a:off x="228600" y="3002040"/>
              <a:ext cx="685800" cy="811080"/>
              <a:chOff x="228600" y="3002040"/>
              <a:chExt cx="685800" cy="811080"/>
            </a:xfrm>
          </p:grpSpPr>
          <p:pic>
            <p:nvPicPr>
              <p:cNvPr id="30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00204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1" name=""/>
              <p:cNvSpPr/>
              <p:nvPr/>
            </p:nvSpPr>
            <p:spPr>
              <a:xfrm>
                <a:off x="282960" y="3078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2" name=""/>
          <p:cNvSpPr txBox="1"/>
          <p:nvPr/>
        </p:nvSpPr>
        <p:spPr>
          <a:xfrm>
            <a:off x="1143000" y="99072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043" name=""/>
          <p:cNvSpPr/>
          <p:nvPr/>
        </p:nvSpPr>
        <p:spPr>
          <a:xfrm>
            <a:off x="2364480" y="1020600"/>
            <a:ext cx="601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area to th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1.9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>
            <a:off x="1866960" y="1676520"/>
            <a:ext cx="5410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1523880" y="5334120"/>
            <a:ext cx="621036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to the left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.5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4750 +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1523880" y="5943600"/>
            <a:ext cx="62485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required Total Area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9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68580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1523880" y="4800600"/>
            <a:ext cx="624852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0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.96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9" name=""/>
          <p:cNvGrpSpPr/>
          <p:nvPr/>
        </p:nvGrpSpPr>
        <p:grpSpPr>
          <a:xfrm>
            <a:off x="228600" y="3943440"/>
            <a:ext cx="3276720" cy="811080"/>
            <a:chOff x="228600" y="3943440"/>
            <a:chExt cx="3276720" cy="811080"/>
          </a:xfrm>
        </p:grpSpPr>
        <p:grpSp>
          <p:nvGrpSpPr>
            <p:cNvPr id="3050" name=""/>
            <p:cNvGrpSpPr/>
            <p:nvPr/>
          </p:nvGrpSpPr>
          <p:grpSpPr>
            <a:xfrm>
              <a:off x="228600" y="3943440"/>
              <a:ext cx="685800" cy="811080"/>
              <a:chOff x="228600" y="3943440"/>
              <a:chExt cx="685800" cy="811080"/>
            </a:xfrm>
          </p:grpSpPr>
          <p:pic>
            <p:nvPicPr>
              <p:cNvPr id="30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394344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2" name=""/>
              <p:cNvSpPr/>
              <p:nvPr/>
            </p:nvSpPr>
            <p:spPr>
              <a:xfrm>
                <a:off x="282960" y="40194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3" name=""/>
            <p:cNvSpPr/>
            <p:nvPr/>
          </p:nvSpPr>
          <p:spPr>
            <a:xfrm>
              <a:off x="1066680" y="4145040"/>
              <a:ext cx="24386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djust a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65530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6" name=""/>
          <p:cNvGrpSpPr/>
          <p:nvPr/>
        </p:nvGrpSpPr>
        <p:grpSpPr>
          <a:xfrm>
            <a:off x="4497120" y="1981080"/>
            <a:ext cx="2165400" cy="2057400"/>
            <a:chOff x="4497120" y="1981080"/>
            <a:chExt cx="2165400" cy="2057400"/>
          </a:xfrm>
        </p:grpSpPr>
        <p:grpSp>
          <p:nvGrpSpPr>
            <p:cNvPr id="3057" name=""/>
            <p:cNvGrpSpPr/>
            <p:nvPr/>
          </p:nvGrpSpPr>
          <p:grpSpPr>
            <a:xfrm>
              <a:off x="5248080" y="1981080"/>
              <a:ext cx="1414440" cy="2057400"/>
              <a:chOff x="5248080" y="1981080"/>
              <a:chExt cx="1414440" cy="2057400"/>
            </a:xfrm>
          </p:grpSpPr>
          <p:sp>
            <p:nvSpPr>
              <p:cNvPr id="3058" name=""/>
              <p:cNvSpPr/>
              <p:nvPr/>
            </p:nvSpPr>
            <p:spPr>
              <a:xfrm flipH="1" flipV="1">
                <a:off x="6605280" y="1981080"/>
                <a:ext cx="57240" cy="11520"/>
              </a:xfrm>
              <a:prstGeom prst="line">
                <a:avLst/>
              </a:prstGeom>
              <a:ln w="46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556320" y="1981080"/>
                <a:ext cx="0" cy="205740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487560" y="2052000"/>
                <a:ext cx="0" cy="198612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418800" y="2122560"/>
                <a:ext cx="0" cy="191556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349680" y="2193840"/>
                <a:ext cx="0" cy="18442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281280" y="2335680"/>
                <a:ext cx="0" cy="1702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212160" y="2477520"/>
                <a:ext cx="0" cy="15606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143040" y="2619360"/>
                <a:ext cx="0" cy="141876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074640" y="2761200"/>
                <a:ext cx="0" cy="12769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005520" y="2903400"/>
                <a:ext cx="0" cy="11347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936760" y="3045240"/>
                <a:ext cx="0" cy="9928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868000" y="3187080"/>
                <a:ext cx="0" cy="8510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798880" y="3328920"/>
                <a:ext cx="0" cy="7092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730120" y="3470760"/>
                <a:ext cx="0" cy="56736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61360" y="3542040"/>
                <a:ext cx="0" cy="4960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592240" y="3612600"/>
                <a:ext cx="0" cy="4255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523480" y="3683520"/>
                <a:ext cx="0" cy="3546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454720" y="3754800"/>
                <a:ext cx="0" cy="2833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385960" y="3825360"/>
                <a:ext cx="0" cy="21276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316840" y="3896640"/>
                <a:ext cx="0" cy="1414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248080" y="3896640"/>
                <a:ext cx="0" cy="1414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625440" y="1981080"/>
                <a:ext cx="0" cy="205740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0" name=""/>
            <p:cNvSpPr/>
            <p:nvPr/>
          </p:nvSpPr>
          <p:spPr>
            <a:xfrm>
              <a:off x="4497120" y="3186000"/>
              <a:ext cx="21117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66ccff"/>
                  </a:solidFill>
                  <a:latin typeface="Arial"/>
                </a:rPr>
                <a:t>A</a:t>
              </a: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rea = 0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1" name=""/>
          <p:cNvGrpSpPr/>
          <p:nvPr/>
        </p:nvGrpSpPr>
        <p:grpSpPr>
          <a:xfrm>
            <a:off x="4876920" y="1904760"/>
            <a:ext cx="3657240" cy="2133720"/>
            <a:chOff x="4876920" y="1904760"/>
            <a:chExt cx="3657240" cy="2133720"/>
          </a:xfrm>
        </p:grpSpPr>
        <p:sp>
          <p:nvSpPr>
            <p:cNvPr id="3082" name=""/>
            <p:cNvSpPr/>
            <p:nvPr/>
          </p:nvSpPr>
          <p:spPr>
            <a:xfrm>
              <a:off x="4876920" y="403848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720480" y="1905120"/>
              <a:ext cx="0" cy="2133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4941360" y="4023720"/>
              <a:ext cx="65880" cy="14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5007600" y="3999960"/>
              <a:ext cx="66240" cy="23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5073840" y="3985560"/>
              <a:ext cx="50760" cy="14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124960" y="3962160"/>
              <a:ext cx="64440" cy="234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5189760" y="3924360"/>
              <a:ext cx="49680" cy="374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239440" y="3884400"/>
              <a:ext cx="64440" cy="396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V="1">
              <a:off x="5304240" y="3845880"/>
              <a:ext cx="52920" cy="3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5357160" y="3795480"/>
              <a:ext cx="64440" cy="50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V="1">
              <a:off x="5421960" y="3743280"/>
              <a:ext cx="65880" cy="518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5487840" y="3676680"/>
              <a:ext cx="47880" cy="66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536080" y="3603600"/>
              <a:ext cx="67680" cy="7272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V="1">
              <a:off x="5604120" y="3524040"/>
              <a:ext cx="49320" cy="792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653440" y="3433680"/>
              <a:ext cx="66240" cy="900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V="1">
              <a:off x="5720040" y="3331800"/>
              <a:ext cx="47520" cy="101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V="1">
              <a:off x="5767920" y="3228840"/>
              <a:ext cx="66240" cy="1029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V="1">
              <a:off x="5834160" y="3124080"/>
              <a:ext cx="67680" cy="104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V="1">
              <a:off x="5902200" y="3011400"/>
              <a:ext cx="49320" cy="112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5951880" y="2882880"/>
              <a:ext cx="67680" cy="12816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6019920" y="2766600"/>
              <a:ext cx="47880" cy="115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067800" y="2651040"/>
              <a:ext cx="64440" cy="11556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V="1">
              <a:off x="6132600" y="2534760"/>
              <a:ext cx="49320" cy="115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6181920" y="2420280"/>
              <a:ext cx="67680" cy="11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6249960" y="2315880"/>
              <a:ext cx="65880" cy="104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V="1">
              <a:off x="6316200" y="2214000"/>
              <a:ext cx="49320" cy="101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365880" y="2124000"/>
              <a:ext cx="64440" cy="900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430320" y="2046240"/>
              <a:ext cx="51120" cy="774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481800" y="1993680"/>
              <a:ext cx="64440" cy="52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546600" y="1942920"/>
              <a:ext cx="49320" cy="504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6595920" y="1917360"/>
              <a:ext cx="66240" cy="248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V="1">
              <a:off x="6662520" y="1904760"/>
              <a:ext cx="65880" cy="12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728760" y="1905120"/>
              <a:ext cx="51120" cy="12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780240" y="1917720"/>
              <a:ext cx="65880" cy="248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846120" y="1942920"/>
              <a:ext cx="49320" cy="504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895800" y="1993680"/>
              <a:ext cx="64440" cy="52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960240" y="2046240"/>
              <a:ext cx="49680" cy="7740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7010280" y="2124000"/>
              <a:ext cx="65880" cy="9000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7076520" y="2214360"/>
              <a:ext cx="49320" cy="101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7126200" y="2315880"/>
              <a:ext cx="66240" cy="104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7192440" y="2420640"/>
              <a:ext cx="67680" cy="11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7260480" y="2535120"/>
              <a:ext cx="47520" cy="115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7308360" y="2651040"/>
              <a:ext cx="66240" cy="11556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7374600" y="2766960"/>
              <a:ext cx="47880" cy="115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422840" y="2882880"/>
              <a:ext cx="67680" cy="12816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7490880" y="3011400"/>
              <a:ext cx="49320" cy="112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540560" y="3124080"/>
              <a:ext cx="65880" cy="104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606440" y="3228840"/>
              <a:ext cx="67680" cy="1029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674480" y="3332160"/>
              <a:ext cx="47880" cy="101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722720" y="3433680"/>
              <a:ext cx="65880" cy="9000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7788600" y="3524040"/>
              <a:ext cx="49680" cy="792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7838640" y="3603600"/>
              <a:ext cx="65880" cy="7272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904880" y="3676680"/>
              <a:ext cx="47880" cy="66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7952760" y="3743280"/>
              <a:ext cx="67680" cy="518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020800" y="3795480"/>
              <a:ext cx="64440" cy="50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085600" y="3846240"/>
              <a:ext cx="52920" cy="3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138520" y="3884400"/>
              <a:ext cx="62640" cy="396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201160" y="3924360"/>
              <a:ext cx="49680" cy="374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251200" y="3962160"/>
              <a:ext cx="65880" cy="234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317080" y="3985920"/>
              <a:ext cx="51120" cy="14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368560" y="4000320"/>
              <a:ext cx="65880" cy="234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434800" y="4024080"/>
              <a:ext cx="64440" cy="14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4" name=""/>
          <p:cNvSpPr/>
          <p:nvPr/>
        </p:nvSpPr>
        <p:spPr>
          <a:xfrm>
            <a:off x="7238880" y="2514600"/>
            <a:ext cx="0" cy="15238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flipH="1">
            <a:off x="5562360" y="37339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59EE-9716-4F1C-96FA-8CA16E3EE60E}" type="slidenum">
              <a:t>47</a:t>
            </a:fld>
          </a:p>
        </p:txBody>
      </p:sp>
    </p:spTree>
  </p:cSld>
  <p:transition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6" name=""/>
          <p:cNvGrpSpPr/>
          <p:nvPr/>
        </p:nvGrpSpPr>
        <p:grpSpPr>
          <a:xfrm>
            <a:off x="4624200" y="2057040"/>
            <a:ext cx="2156040" cy="1981440"/>
            <a:chOff x="4624200" y="2057040"/>
            <a:chExt cx="2156040" cy="1981440"/>
          </a:xfrm>
        </p:grpSpPr>
        <p:grpSp>
          <p:nvGrpSpPr>
            <p:cNvPr id="3147" name=""/>
            <p:cNvGrpSpPr/>
            <p:nvPr/>
          </p:nvGrpSpPr>
          <p:grpSpPr>
            <a:xfrm>
              <a:off x="5187600" y="2057040"/>
              <a:ext cx="1562040" cy="1981440"/>
              <a:chOff x="5187600" y="2057040"/>
              <a:chExt cx="1562040" cy="1981440"/>
            </a:xfrm>
          </p:grpSpPr>
          <p:sp>
            <p:nvSpPr>
              <p:cNvPr id="3148" name=""/>
              <p:cNvSpPr/>
              <p:nvPr/>
            </p:nvSpPr>
            <p:spPr>
              <a:xfrm flipH="1" flipV="1">
                <a:off x="6686280" y="2057040"/>
                <a:ext cx="63360" cy="11160"/>
              </a:xfrm>
              <a:prstGeom prst="line">
                <a:avLst/>
              </a:prstGeom>
              <a:ln w="46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632280" y="2057400"/>
                <a:ext cx="0" cy="198108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556680" y="2125800"/>
                <a:ext cx="0" cy="191268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480360" y="2193840"/>
                <a:ext cx="0" cy="18442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404040" y="2262240"/>
                <a:ext cx="0" cy="17758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328440" y="2398680"/>
                <a:ext cx="0" cy="1639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252120" y="2535480"/>
                <a:ext cx="0" cy="15026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176160" y="2671920"/>
                <a:ext cx="0" cy="13662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100200" y="2808720"/>
                <a:ext cx="0" cy="12294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024240" y="2945520"/>
                <a:ext cx="0" cy="10926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5947920" y="3081960"/>
                <a:ext cx="0" cy="95616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5872320" y="3218400"/>
                <a:ext cx="0" cy="8197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5796000" y="3355200"/>
                <a:ext cx="0" cy="6829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5719680" y="3492000"/>
                <a:ext cx="0" cy="5461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5644080" y="3560400"/>
                <a:ext cx="0" cy="4777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567760" y="3628440"/>
                <a:ext cx="0" cy="4096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491800" y="3696840"/>
                <a:ext cx="0" cy="3412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415840" y="3765240"/>
                <a:ext cx="0" cy="2728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39880" y="3833280"/>
                <a:ext cx="0" cy="2048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263560" y="3901680"/>
                <a:ext cx="0" cy="136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187600" y="3901680"/>
                <a:ext cx="0" cy="136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708600" y="2057400"/>
                <a:ext cx="0" cy="198108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0" name=""/>
            <p:cNvSpPr/>
            <p:nvPr/>
          </p:nvSpPr>
          <p:spPr>
            <a:xfrm>
              <a:off x="4624200" y="2590920"/>
              <a:ext cx="215604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66ccff"/>
                  </a:solidFill>
                  <a:latin typeface="Arial"/>
                </a:rPr>
                <a:t>A</a:t>
              </a: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rea 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5264280" y="2819520"/>
            <a:ext cx="831600" cy="1218960"/>
            <a:chOff x="5264280" y="2819520"/>
            <a:chExt cx="831600" cy="1218960"/>
          </a:xfrm>
        </p:grpSpPr>
        <p:sp>
          <p:nvSpPr>
            <p:cNvPr id="3172" name=""/>
            <p:cNvSpPr/>
            <p:nvPr/>
          </p:nvSpPr>
          <p:spPr>
            <a:xfrm>
              <a:off x="6019920" y="2895480"/>
              <a:ext cx="0" cy="114300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943600" y="3083040"/>
              <a:ext cx="0" cy="95544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867280" y="3219480"/>
              <a:ext cx="0" cy="81900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840280" y="3276720"/>
              <a:ext cx="0" cy="75888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791320" y="3352680"/>
              <a:ext cx="0" cy="68580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715000" y="3503520"/>
              <a:ext cx="0" cy="53208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638680" y="3579840"/>
              <a:ext cx="0" cy="45576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562720" y="3656160"/>
              <a:ext cx="0" cy="37944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486400" y="3732120"/>
              <a:ext cx="0" cy="30348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410080" y="3808440"/>
              <a:ext cx="0" cy="22716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337000" y="3882960"/>
              <a:ext cx="0" cy="15264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264280" y="3886200"/>
              <a:ext cx="0" cy="15228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095880" y="2819520"/>
              <a:ext cx="0" cy="1218960"/>
            </a:xfrm>
            <a:prstGeom prst="line">
              <a:avLst/>
            </a:prstGeom>
            <a:ln w="7632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5" name=""/>
          <p:cNvSpPr/>
          <p:nvPr/>
        </p:nvSpPr>
        <p:spPr>
          <a:xfrm>
            <a:off x="6172200" y="2666880"/>
            <a:ext cx="0" cy="137160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6" name=""/>
          <p:cNvGrpSpPr/>
          <p:nvPr/>
        </p:nvGrpSpPr>
        <p:grpSpPr>
          <a:xfrm>
            <a:off x="228600" y="1828800"/>
            <a:ext cx="3429000" cy="947160"/>
            <a:chOff x="228600" y="1828800"/>
            <a:chExt cx="3429000" cy="947160"/>
          </a:xfrm>
        </p:grpSpPr>
        <p:sp>
          <p:nvSpPr>
            <p:cNvPr id="3187" name=""/>
            <p:cNvSpPr/>
            <p:nvPr/>
          </p:nvSpPr>
          <p:spPr>
            <a:xfrm>
              <a:off x="1066680" y="182880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8" name=""/>
            <p:cNvGrpSpPr/>
            <p:nvPr/>
          </p:nvGrpSpPr>
          <p:grpSpPr>
            <a:xfrm>
              <a:off x="228600" y="1935000"/>
              <a:ext cx="685800" cy="811440"/>
              <a:chOff x="228600" y="1935000"/>
              <a:chExt cx="685800" cy="811440"/>
            </a:xfrm>
          </p:grpSpPr>
          <p:pic>
            <p:nvPicPr>
              <p:cNvPr id="3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935000"/>
                <a:ext cx="685800" cy="81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0" name=""/>
              <p:cNvSpPr/>
              <p:nvPr/>
            </p:nvSpPr>
            <p:spPr>
              <a:xfrm>
                <a:off x="282960" y="20113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1" name=""/>
          <p:cNvGrpSpPr/>
          <p:nvPr/>
        </p:nvGrpSpPr>
        <p:grpSpPr>
          <a:xfrm>
            <a:off x="228600" y="2925720"/>
            <a:ext cx="3962520" cy="811080"/>
            <a:chOff x="228600" y="2925720"/>
            <a:chExt cx="3962520" cy="811080"/>
          </a:xfrm>
        </p:grpSpPr>
        <p:sp>
          <p:nvSpPr>
            <p:cNvPr id="3192" name=""/>
            <p:cNvSpPr/>
            <p:nvPr/>
          </p:nvSpPr>
          <p:spPr>
            <a:xfrm>
              <a:off x="1066680" y="3078000"/>
              <a:ext cx="31244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.64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3" name=""/>
            <p:cNvGrpSpPr/>
            <p:nvPr/>
          </p:nvGrpSpPr>
          <p:grpSpPr>
            <a:xfrm>
              <a:off x="228600" y="2925720"/>
              <a:ext cx="685800" cy="811080"/>
              <a:chOff x="228600" y="2925720"/>
              <a:chExt cx="685800" cy="811080"/>
            </a:xfrm>
          </p:grpSpPr>
          <p:pic>
            <p:nvPicPr>
              <p:cNvPr id="319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29257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95" name=""/>
              <p:cNvSpPr/>
              <p:nvPr/>
            </p:nvSpPr>
            <p:spPr>
              <a:xfrm>
                <a:off x="282960" y="3001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96" name=""/>
          <p:cNvSpPr txBox="1"/>
          <p:nvPr/>
        </p:nvSpPr>
        <p:spPr>
          <a:xfrm>
            <a:off x="1143000" y="99072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197" name=""/>
          <p:cNvSpPr/>
          <p:nvPr/>
        </p:nvSpPr>
        <p:spPr>
          <a:xfrm>
            <a:off x="2364480" y="1020600"/>
            <a:ext cx="604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area to th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-1.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1866960" y="1676520"/>
            <a:ext cx="5410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1523880" y="5334120"/>
            <a:ext cx="647712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to the left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0.5 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44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1523880" y="5943600"/>
            <a:ext cx="64771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required Total Area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05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65530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486400" y="411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1.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3" name=""/>
          <p:cNvGrpSpPr/>
          <p:nvPr/>
        </p:nvGrpSpPr>
        <p:grpSpPr>
          <a:xfrm>
            <a:off x="228600" y="3867120"/>
            <a:ext cx="3276720" cy="811080"/>
            <a:chOff x="228600" y="3867120"/>
            <a:chExt cx="3276720" cy="811080"/>
          </a:xfrm>
        </p:grpSpPr>
        <p:grpSp>
          <p:nvGrpSpPr>
            <p:cNvPr id="3204" name=""/>
            <p:cNvGrpSpPr/>
            <p:nvPr/>
          </p:nvGrpSpPr>
          <p:grpSpPr>
            <a:xfrm>
              <a:off x="228600" y="3867120"/>
              <a:ext cx="685800" cy="811080"/>
              <a:chOff x="228600" y="3867120"/>
              <a:chExt cx="685800" cy="811080"/>
            </a:xfrm>
          </p:grpSpPr>
          <p:pic>
            <p:nvPicPr>
              <p:cNvPr id="32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38671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6" name=""/>
              <p:cNvSpPr/>
              <p:nvPr/>
            </p:nvSpPr>
            <p:spPr>
              <a:xfrm>
                <a:off x="282960" y="3943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7" name=""/>
            <p:cNvSpPr/>
            <p:nvPr/>
          </p:nvSpPr>
          <p:spPr>
            <a:xfrm>
              <a:off x="1066680" y="4038480"/>
              <a:ext cx="24386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djust a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8" name=""/>
          <p:cNvSpPr/>
          <p:nvPr/>
        </p:nvSpPr>
        <p:spPr>
          <a:xfrm>
            <a:off x="1523880" y="4724280"/>
            <a:ext cx="647712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–1.64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4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0" name=""/>
          <p:cNvGrpSpPr/>
          <p:nvPr/>
        </p:nvGrpSpPr>
        <p:grpSpPr>
          <a:xfrm>
            <a:off x="4876920" y="1981080"/>
            <a:ext cx="3657240" cy="2057400"/>
            <a:chOff x="4876920" y="1981080"/>
            <a:chExt cx="3657240" cy="2057400"/>
          </a:xfrm>
        </p:grpSpPr>
        <p:sp>
          <p:nvSpPr>
            <p:cNvPr id="3211" name=""/>
            <p:cNvSpPr/>
            <p:nvPr/>
          </p:nvSpPr>
          <p:spPr>
            <a:xfrm>
              <a:off x="4876920" y="403848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720480" y="198108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V="1">
              <a:off x="4941360" y="402444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V="1">
              <a:off x="5007600" y="400104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 flipV="1">
              <a:off x="5073840" y="398772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5124960" y="396468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V="1">
              <a:off x="5189760" y="392796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239440" y="388980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 flipV="1">
              <a:off x="5304240" y="385308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V="1">
              <a:off x="5357160" y="380376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 flipV="1">
              <a:off x="5421960" y="375336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 flipV="1">
              <a:off x="5487840" y="368928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536080" y="361908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V="1">
              <a:off x="5604120" y="354204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5653440" y="345528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V="1">
              <a:off x="5720040" y="335700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 flipV="1">
              <a:off x="5767920" y="325764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V="1">
              <a:off x="5834160" y="315648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flipV="1">
              <a:off x="5902200" y="304776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951880" y="292392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V="1">
              <a:off x="6019920" y="281232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067800" y="270036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 flipV="1">
              <a:off x="6132600" y="258876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 flipV="1">
              <a:off x="6181920" y="247824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V="1">
              <a:off x="6249960" y="237744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V="1">
              <a:off x="6316200" y="227916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6365880" y="219240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6430320" y="211716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6481800" y="206676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6546600" y="201780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6595920" y="199296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flipV="1">
              <a:off x="6662520" y="198108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6728760" y="198108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6780240" y="199332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6846120" y="201780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6895800" y="206676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6960240" y="211716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010280" y="219240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076520" y="227952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7126200" y="237744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7192440" y="247824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260480" y="258876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308360" y="270036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374600" y="281232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422840" y="292392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490880" y="304812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540560" y="315648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606440" y="325764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674480" y="335736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722720" y="345528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788600" y="354240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838640" y="361908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904880" y="368928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952760" y="375372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020800" y="380412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085600" y="385308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138520" y="388980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201160" y="392832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251200" y="396468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317080" y="398772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368560" y="400140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434800" y="402444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3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 flipH="1">
            <a:off x="5257800" y="39625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5BAA-6BAF-470C-B0D7-908C46016F7E}" type="slidenum">
              <a:t>48</a:t>
            </a:fld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5" name=""/>
          <p:cNvGrpSpPr/>
          <p:nvPr/>
        </p:nvGrpSpPr>
        <p:grpSpPr>
          <a:xfrm>
            <a:off x="4649400" y="2057040"/>
            <a:ext cx="2111760" cy="1981440"/>
            <a:chOff x="4649400" y="2057040"/>
            <a:chExt cx="2111760" cy="1981440"/>
          </a:xfrm>
        </p:grpSpPr>
        <p:grpSp>
          <p:nvGrpSpPr>
            <p:cNvPr id="3276" name=""/>
            <p:cNvGrpSpPr/>
            <p:nvPr/>
          </p:nvGrpSpPr>
          <p:grpSpPr>
            <a:xfrm>
              <a:off x="5189040" y="2057040"/>
              <a:ext cx="1497240" cy="1981440"/>
              <a:chOff x="5189040" y="2057040"/>
              <a:chExt cx="1497240" cy="1981440"/>
            </a:xfrm>
          </p:grpSpPr>
          <p:sp>
            <p:nvSpPr>
              <p:cNvPr id="3277" name=""/>
              <p:cNvSpPr/>
              <p:nvPr/>
            </p:nvSpPr>
            <p:spPr>
              <a:xfrm flipH="1" flipV="1">
                <a:off x="6625440" y="2057040"/>
                <a:ext cx="60840" cy="11160"/>
              </a:xfrm>
              <a:prstGeom prst="line">
                <a:avLst/>
              </a:prstGeom>
              <a:ln w="46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6573960" y="2057400"/>
                <a:ext cx="0" cy="198108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6501240" y="2125800"/>
                <a:ext cx="0" cy="191268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6428160" y="2193840"/>
                <a:ext cx="0" cy="18442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355080" y="2262240"/>
                <a:ext cx="0" cy="17758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6282360" y="2398680"/>
                <a:ext cx="0" cy="1639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6209640" y="2535480"/>
                <a:ext cx="0" cy="15026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6136560" y="2671920"/>
                <a:ext cx="0" cy="13662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063840" y="2808720"/>
                <a:ext cx="0" cy="12294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990760" y="2945520"/>
                <a:ext cx="0" cy="10926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917680" y="3081960"/>
                <a:ext cx="0" cy="95616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5845320" y="3218400"/>
                <a:ext cx="0" cy="8197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772240" y="3355200"/>
                <a:ext cx="0" cy="6829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699160" y="3492000"/>
                <a:ext cx="0" cy="5461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626440" y="3560400"/>
                <a:ext cx="0" cy="4777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553360" y="3628440"/>
                <a:ext cx="0" cy="4096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480640" y="3696840"/>
                <a:ext cx="0" cy="3412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407920" y="3765240"/>
                <a:ext cx="0" cy="2728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334840" y="3833280"/>
                <a:ext cx="0" cy="2048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261760" y="3901680"/>
                <a:ext cx="0" cy="136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189040" y="3901680"/>
                <a:ext cx="0" cy="136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646680" y="2057400"/>
                <a:ext cx="0" cy="198108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9" name=""/>
            <p:cNvSpPr/>
            <p:nvPr/>
          </p:nvSpPr>
          <p:spPr>
            <a:xfrm>
              <a:off x="4649400" y="2590920"/>
              <a:ext cx="211176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66ccff"/>
                  </a:solidFill>
                  <a:latin typeface="Arial"/>
                </a:rPr>
                <a:t>A</a:t>
              </a: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rea = 0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0" name=""/>
          <p:cNvGrpSpPr/>
          <p:nvPr/>
        </p:nvGrpSpPr>
        <p:grpSpPr>
          <a:xfrm>
            <a:off x="228600" y="1981080"/>
            <a:ext cx="3429000" cy="947160"/>
            <a:chOff x="228600" y="1981080"/>
            <a:chExt cx="3429000" cy="947160"/>
          </a:xfrm>
        </p:grpSpPr>
        <p:sp>
          <p:nvSpPr>
            <p:cNvPr id="3301" name=""/>
            <p:cNvSpPr/>
            <p:nvPr/>
          </p:nvSpPr>
          <p:spPr>
            <a:xfrm>
              <a:off x="1066680" y="198108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2" name=""/>
            <p:cNvGrpSpPr/>
            <p:nvPr/>
          </p:nvGrpSpPr>
          <p:grpSpPr>
            <a:xfrm>
              <a:off x="228600" y="2057400"/>
              <a:ext cx="685800" cy="811080"/>
              <a:chOff x="228600" y="2057400"/>
              <a:chExt cx="685800" cy="811080"/>
            </a:xfrm>
          </p:grpSpPr>
          <p:pic>
            <p:nvPicPr>
              <p:cNvPr id="33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0574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4" name=""/>
              <p:cNvSpPr/>
              <p:nvPr/>
            </p:nvSpPr>
            <p:spPr>
              <a:xfrm>
                <a:off x="282960" y="2133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5" name=""/>
          <p:cNvGrpSpPr/>
          <p:nvPr/>
        </p:nvGrpSpPr>
        <p:grpSpPr>
          <a:xfrm>
            <a:off x="228600" y="3124080"/>
            <a:ext cx="4114800" cy="811440"/>
            <a:chOff x="228600" y="3124080"/>
            <a:chExt cx="4114800" cy="811440"/>
          </a:xfrm>
        </p:grpSpPr>
        <p:sp>
          <p:nvSpPr>
            <p:cNvPr id="3306" name=""/>
            <p:cNvSpPr/>
            <p:nvPr/>
          </p:nvSpPr>
          <p:spPr>
            <a:xfrm>
              <a:off x="1066680" y="3352680"/>
              <a:ext cx="327672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.95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7" name=""/>
            <p:cNvGrpSpPr/>
            <p:nvPr/>
          </p:nvGrpSpPr>
          <p:grpSpPr>
            <a:xfrm>
              <a:off x="228600" y="3124080"/>
              <a:ext cx="685800" cy="811440"/>
              <a:chOff x="228600" y="3124080"/>
              <a:chExt cx="685800" cy="811440"/>
            </a:xfrm>
          </p:grpSpPr>
          <p:pic>
            <p:nvPicPr>
              <p:cNvPr id="33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124080"/>
                <a:ext cx="685800" cy="81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9" name=""/>
              <p:cNvSpPr/>
              <p:nvPr/>
            </p:nvSpPr>
            <p:spPr>
              <a:xfrm>
                <a:off x="282960" y="32004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10" name=""/>
          <p:cNvSpPr/>
          <p:nvPr/>
        </p:nvSpPr>
        <p:spPr>
          <a:xfrm>
            <a:off x="65530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57913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0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1523880" y="5486400"/>
            <a:ext cx="651528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to the left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0.5 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32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1523880" y="6095880"/>
            <a:ext cx="64771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required Total Area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17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4" name=""/>
          <p:cNvGrpSpPr/>
          <p:nvPr/>
        </p:nvGrpSpPr>
        <p:grpSpPr>
          <a:xfrm>
            <a:off x="228600" y="4038480"/>
            <a:ext cx="3276720" cy="811440"/>
            <a:chOff x="228600" y="4038480"/>
            <a:chExt cx="3276720" cy="811440"/>
          </a:xfrm>
        </p:grpSpPr>
        <p:pic>
          <p:nvPicPr>
            <p:cNvPr id="3315" name="" descr=""/>
            <p:cNvPicPr/>
            <p:nvPr/>
          </p:nvPicPr>
          <p:blipFill>
            <a:blip r:embed="rId3"/>
            <a:stretch/>
          </p:blipFill>
          <p:spPr>
            <a:xfrm>
              <a:off x="228600" y="4038480"/>
              <a:ext cx="6858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6" name=""/>
            <p:cNvSpPr/>
            <p:nvPr/>
          </p:nvSpPr>
          <p:spPr>
            <a:xfrm>
              <a:off x="282960" y="4114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1066680" y="4240080"/>
              <a:ext cx="24386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djust a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8" name=""/>
          <p:cNvSpPr/>
          <p:nvPr/>
        </p:nvSpPr>
        <p:spPr>
          <a:xfrm>
            <a:off x="1523880" y="4876920"/>
            <a:ext cx="647712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–0.95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32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 txBox="1"/>
          <p:nvPr/>
        </p:nvSpPr>
        <p:spPr>
          <a:xfrm>
            <a:off x="1295280" y="11430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321" name=""/>
          <p:cNvSpPr/>
          <p:nvPr/>
        </p:nvSpPr>
        <p:spPr>
          <a:xfrm>
            <a:off x="2517120" y="1173240"/>
            <a:ext cx="604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area to th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-0.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2019240" y="1828800"/>
            <a:ext cx="5410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6400800" y="2362320"/>
            <a:ext cx="0" cy="167616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4" name=""/>
          <p:cNvGrpSpPr/>
          <p:nvPr/>
        </p:nvGrpSpPr>
        <p:grpSpPr>
          <a:xfrm>
            <a:off x="6172200" y="2057040"/>
            <a:ext cx="533520" cy="1989360"/>
            <a:chOff x="6172200" y="2057040"/>
            <a:chExt cx="533520" cy="1989360"/>
          </a:xfrm>
        </p:grpSpPr>
        <p:grpSp>
          <p:nvGrpSpPr>
            <p:cNvPr id="3325" name=""/>
            <p:cNvGrpSpPr/>
            <p:nvPr/>
          </p:nvGrpSpPr>
          <p:grpSpPr>
            <a:xfrm>
              <a:off x="6426360" y="2057040"/>
              <a:ext cx="265680" cy="1989360"/>
              <a:chOff x="6426360" y="2057040"/>
              <a:chExt cx="265680" cy="1989360"/>
            </a:xfrm>
          </p:grpSpPr>
          <p:sp>
            <p:nvSpPr>
              <p:cNvPr id="3326" name=""/>
              <p:cNvSpPr/>
              <p:nvPr/>
            </p:nvSpPr>
            <p:spPr>
              <a:xfrm flipH="1" flipV="1">
                <a:off x="6625440" y="2057040"/>
                <a:ext cx="66600" cy="11160"/>
              </a:xfrm>
              <a:prstGeom prst="line">
                <a:avLst/>
              </a:prstGeom>
              <a:ln w="4608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568200" y="2057400"/>
                <a:ext cx="0" cy="19810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486840" y="2125800"/>
                <a:ext cx="0" cy="19126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648120" y="2057400"/>
                <a:ext cx="0" cy="19810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426360" y="2133720"/>
                <a:ext cx="0" cy="19126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1" name=""/>
            <p:cNvSpPr/>
            <p:nvPr/>
          </p:nvSpPr>
          <p:spPr>
            <a:xfrm>
              <a:off x="6172200" y="3124080"/>
              <a:ext cx="533520" cy="53352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2" name=""/>
          <p:cNvSpPr/>
          <p:nvPr/>
        </p:nvSpPr>
        <p:spPr>
          <a:xfrm flipH="1">
            <a:off x="5029200" y="373392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3" name=""/>
          <p:cNvGrpSpPr/>
          <p:nvPr/>
        </p:nvGrpSpPr>
        <p:grpSpPr>
          <a:xfrm>
            <a:off x="4876920" y="1981080"/>
            <a:ext cx="3657240" cy="2057400"/>
            <a:chOff x="4876920" y="1981080"/>
            <a:chExt cx="3657240" cy="2057400"/>
          </a:xfrm>
        </p:grpSpPr>
        <p:sp>
          <p:nvSpPr>
            <p:cNvPr id="3334" name=""/>
            <p:cNvSpPr/>
            <p:nvPr/>
          </p:nvSpPr>
          <p:spPr>
            <a:xfrm>
              <a:off x="4876920" y="403848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6720480" y="198108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V="1">
              <a:off x="4941360" y="402444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5007600" y="400104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 flipV="1">
              <a:off x="5073840" y="398772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124960" y="396468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 flipV="1">
              <a:off x="5189760" y="392796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239440" y="388980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 flipV="1">
              <a:off x="5304240" y="385308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V="1">
              <a:off x="5357160" y="380376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V="1">
              <a:off x="5421960" y="375336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V="1">
              <a:off x="5487840" y="368928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536080" y="361908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 flipV="1">
              <a:off x="5604120" y="354204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5653440" y="345528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flipV="1">
              <a:off x="5720040" y="335700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V="1">
              <a:off x="5767920" y="325764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V="1">
              <a:off x="5834160" y="315648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V="1">
              <a:off x="5902200" y="304776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951880" y="292392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V="1">
              <a:off x="6019920" y="281232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6067800" y="270036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V="1">
              <a:off x="6132600" y="258876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6181920" y="247824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V="1">
              <a:off x="6249960" y="237744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V="1">
              <a:off x="6316200" y="227916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365880" y="219240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430320" y="211716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6481800" y="206676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546600" y="201780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6595920" y="199296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V="1">
              <a:off x="6662520" y="198108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728760" y="198108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780240" y="199332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846120" y="201780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895800" y="206676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6960240" y="211716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010280" y="219240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076520" y="227952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126200" y="237744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192440" y="247824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260480" y="258876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308360" y="270036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374600" y="281232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422840" y="292392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490880" y="304812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540560" y="315648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606440" y="325764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674480" y="335736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722720" y="345528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788600" y="354240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838640" y="361908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904880" y="368928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952760" y="375372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8020800" y="380412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085600" y="385308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8138520" y="388980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8201160" y="392832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8251200" y="396468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8317080" y="398772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8368560" y="400140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8434800" y="402444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1AFD-7168-47CE-9831-7A7418A23BF2}" type="slidenum">
              <a:t>49</a:t>
            </a:fld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960" y="3381480"/>
            <a:ext cx="29484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7008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3448080"/>
            <a:ext cx="5029200" cy="140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n assum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ny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specified ran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5000" y="4495680"/>
            <a:ext cx="53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-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a t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ight of a pork c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ight of stud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a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240" y="1143000"/>
            <a:ext cx="3429000" cy="1906920"/>
            <a:chOff x="228240" y="1143000"/>
            <a:chExt cx="3429000" cy="1906920"/>
          </a:xfrm>
        </p:grpSpPr>
        <p:grpSp>
          <p:nvGrpSpPr>
            <p:cNvPr id="90" name=""/>
            <p:cNvGrpSpPr/>
            <p:nvPr/>
          </p:nvGrpSpPr>
          <p:grpSpPr>
            <a:xfrm>
              <a:off x="228240" y="1143000"/>
              <a:ext cx="3429000" cy="1904760"/>
              <a:chOff x="228240" y="1143000"/>
              <a:chExt cx="3429000" cy="1904760"/>
            </a:xfrm>
          </p:grpSpPr>
          <p:sp>
            <p:nvSpPr>
              <p:cNvPr id="91" name=""/>
              <p:cNvSpPr/>
              <p:nvPr/>
            </p:nvSpPr>
            <p:spPr>
              <a:xfrm flipH="1">
                <a:off x="227880" y="1422360"/>
                <a:ext cx="3429000" cy="1625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735120" y="1143000"/>
                <a:ext cx="2919240" cy="703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Quantitativ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1092600" y="1981080"/>
              <a:ext cx="248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umeri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622320" y="1171440"/>
            <a:ext cx="518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be classified as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re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809880" y="2638440"/>
            <a:ext cx="5028840" cy="152280"/>
            <a:chOff x="3809880" y="2638440"/>
            <a:chExt cx="5028840" cy="152280"/>
          </a:xfrm>
        </p:grpSpPr>
        <p:sp>
          <p:nvSpPr>
            <p:cNvPr id="96" name=""/>
            <p:cNvSpPr/>
            <p:nvPr/>
          </p:nvSpPr>
          <p:spPr>
            <a:xfrm flipV="1">
              <a:off x="3809880" y="2673360"/>
              <a:ext cx="5028840" cy="72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ball16" descr=""/>
            <p:cNvPicPr/>
            <p:nvPr/>
          </p:nvPicPr>
          <p:blipFill>
            <a:blip r:embed="rId3"/>
            <a:stretch/>
          </p:blipFill>
          <p:spPr>
            <a:xfrm>
              <a:off x="6240240" y="2638440"/>
              <a:ext cx="36504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5030280" y="2895480"/>
            <a:ext cx="24897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7008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24160" y="152280"/>
            <a:ext cx="4495680" cy="838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181480" y="6019920"/>
            <a:ext cx="3591000" cy="520560"/>
            <a:chOff x="5181480" y="6019920"/>
            <a:chExt cx="3591000" cy="520560"/>
          </a:xfrm>
        </p:grpSpPr>
        <p:sp>
          <p:nvSpPr>
            <p:cNvPr id="101" name=""/>
            <p:cNvSpPr/>
            <p:nvPr/>
          </p:nvSpPr>
          <p:spPr>
            <a:xfrm>
              <a:off x="5514840" y="6305400"/>
              <a:ext cx="325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1480" y="6019920"/>
              <a:ext cx="3048120" cy="52056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efefe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  <a:effectLst>
              <a:outerShdw dist="137587" dir="877859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lso Recall that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8254-2F81-4B45-95D4-2D28FE71D1BD}" type="slidenum">
              <a:t>5</a:t>
            </a:fld>
          </a:p>
        </p:txBody>
      </p:sp>
    </p:spTree>
  </p:cSld>
  <p:transition>
    <p:checke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6" name=""/>
          <p:cNvGrpSpPr/>
          <p:nvPr/>
        </p:nvGrpSpPr>
        <p:grpSpPr>
          <a:xfrm>
            <a:off x="6554160" y="2057040"/>
            <a:ext cx="2224440" cy="1981440"/>
            <a:chOff x="6554160" y="2057040"/>
            <a:chExt cx="2224440" cy="1981440"/>
          </a:xfrm>
        </p:grpSpPr>
        <p:grpSp>
          <p:nvGrpSpPr>
            <p:cNvPr id="3397" name=""/>
            <p:cNvGrpSpPr/>
            <p:nvPr/>
          </p:nvGrpSpPr>
          <p:grpSpPr>
            <a:xfrm>
              <a:off x="6741720" y="2057040"/>
              <a:ext cx="1496880" cy="1981440"/>
              <a:chOff x="6741720" y="2057040"/>
              <a:chExt cx="1496880" cy="1981440"/>
            </a:xfrm>
          </p:grpSpPr>
          <p:sp>
            <p:nvSpPr>
              <p:cNvPr id="3398" name=""/>
              <p:cNvSpPr/>
              <p:nvPr/>
            </p:nvSpPr>
            <p:spPr>
              <a:xfrm flipV="1">
                <a:off x="6741720" y="2057040"/>
                <a:ext cx="60840" cy="11160"/>
              </a:xfrm>
              <a:prstGeom prst="line">
                <a:avLst/>
              </a:prstGeom>
              <a:ln w="46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854040" y="2057400"/>
                <a:ext cx="0" cy="198108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926760" y="2125800"/>
                <a:ext cx="0" cy="191268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999840" y="2193840"/>
                <a:ext cx="0" cy="18442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072560" y="2262240"/>
                <a:ext cx="0" cy="17758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145280" y="2398680"/>
                <a:ext cx="0" cy="1639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218360" y="2535480"/>
                <a:ext cx="0" cy="15026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291440" y="2671920"/>
                <a:ext cx="0" cy="13662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364160" y="2808720"/>
                <a:ext cx="0" cy="12294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436880" y="2945520"/>
                <a:ext cx="0" cy="109260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509960" y="3081960"/>
                <a:ext cx="0" cy="95616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582680" y="3218400"/>
                <a:ext cx="0" cy="8197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655760" y="3355200"/>
                <a:ext cx="0" cy="6829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728480" y="3492000"/>
                <a:ext cx="0" cy="5461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801200" y="3560400"/>
                <a:ext cx="0" cy="47772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874280" y="3628440"/>
                <a:ext cx="0" cy="4096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947360" y="3696840"/>
                <a:ext cx="0" cy="3412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8019720" y="3765240"/>
                <a:ext cx="0" cy="27288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8092800" y="3833280"/>
                <a:ext cx="0" cy="2048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8165880" y="3901680"/>
                <a:ext cx="0" cy="136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8238600" y="3901680"/>
                <a:ext cx="0" cy="136440"/>
              </a:xfrm>
              <a:prstGeom prst="line">
                <a:avLst/>
              </a:prstGeom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780960" y="2057400"/>
                <a:ext cx="0" cy="1981080"/>
              </a:xfrm>
              <a:prstGeom prst="line">
                <a:avLst/>
              </a:prstGeom>
              <a:ln w="7632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0" name=""/>
            <p:cNvSpPr/>
            <p:nvPr/>
          </p:nvSpPr>
          <p:spPr>
            <a:xfrm flipH="1">
              <a:off x="6553800" y="2590560"/>
              <a:ext cx="22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Area = 0.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1" name=""/>
          <p:cNvGrpSpPr/>
          <p:nvPr/>
        </p:nvGrpSpPr>
        <p:grpSpPr>
          <a:xfrm>
            <a:off x="228600" y="1981080"/>
            <a:ext cx="3429000" cy="947160"/>
            <a:chOff x="228600" y="1981080"/>
            <a:chExt cx="3429000" cy="947160"/>
          </a:xfrm>
        </p:grpSpPr>
        <p:sp>
          <p:nvSpPr>
            <p:cNvPr id="3422" name=""/>
            <p:cNvSpPr/>
            <p:nvPr/>
          </p:nvSpPr>
          <p:spPr>
            <a:xfrm>
              <a:off x="1066680" y="198108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3" name=""/>
            <p:cNvGrpSpPr/>
            <p:nvPr/>
          </p:nvGrpSpPr>
          <p:grpSpPr>
            <a:xfrm>
              <a:off x="228600" y="2057400"/>
              <a:ext cx="685800" cy="811080"/>
              <a:chOff x="228600" y="2057400"/>
              <a:chExt cx="685800" cy="811080"/>
            </a:xfrm>
          </p:grpSpPr>
          <p:pic>
            <p:nvPicPr>
              <p:cNvPr id="34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0574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5" name=""/>
              <p:cNvSpPr/>
              <p:nvPr/>
            </p:nvSpPr>
            <p:spPr>
              <a:xfrm>
                <a:off x="282960" y="2133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6" name=""/>
          <p:cNvGrpSpPr/>
          <p:nvPr/>
        </p:nvGrpSpPr>
        <p:grpSpPr>
          <a:xfrm>
            <a:off x="228600" y="3124080"/>
            <a:ext cx="4114800" cy="811440"/>
            <a:chOff x="228600" y="3124080"/>
            <a:chExt cx="4114800" cy="811440"/>
          </a:xfrm>
        </p:grpSpPr>
        <p:sp>
          <p:nvSpPr>
            <p:cNvPr id="3427" name=""/>
            <p:cNvSpPr/>
            <p:nvPr/>
          </p:nvSpPr>
          <p:spPr>
            <a:xfrm>
              <a:off x="1066680" y="3352680"/>
              <a:ext cx="327672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.95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8" name=""/>
            <p:cNvGrpSpPr/>
            <p:nvPr/>
          </p:nvGrpSpPr>
          <p:grpSpPr>
            <a:xfrm>
              <a:off x="228600" y="3124080"/>
              <a:ext cx="685800" cy="811440"/>
              <a:chOff x="228600" y="3124080"/>
              <a:chExt cx="685800" cy="811440"/>
            </a:xfrm>
          </p:grpSpPr>
          <p:pic>
            <p:nvPicPr>
              <p:cNvPr id="342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124080"/>
                <a:ext cx="685800" cy="81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0" name=""/>
              <p:cNvSpPr/>
              <p:nvPr/>
            </p:nvSpPr>
            <p:spPr>
              <a:xfrm>
                <a:off x="282960" y="32004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1" name=""/>
          <p:cNvSpPr/>
          <p:nvPr/>
        </p:nvSpPr>
        <p:spPr>
          <a:xfrm>
            <a:off x="6553080" y="4038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791320" y="4267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0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371600" y="5486400"/>
            <a:ext cx="662940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to the left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0.5 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32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371600" y="6095880"/>
            <a:ext cx="66294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required Total Area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82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5" name=""/>
          <p:cNvGrpSpPr/>
          <p:nvPr/>
        </p:nvGrpSpPr>
        <p:grpSpPr>
          <a:xfrm>
            <a:off x="228600" y="4038480"/>
            <a:ext cx="3276720" cy="811440"/>
            <a:chOff x="228600" y="4038480"/>
            <a:chExt cx="3276720" cy="811440"/>
          </a:xfrm>
        </p:grpSpPr>
        <p:pic>
          <p:nvPicPr>
            <p:cNvPr id="3436" name="" descr=""/>
            <p:cNvPicPr/>
            <p:nvPr/>
          </p:nvPicPr>
          <p:blipFill>
            <a:blip r:embed="rId3"/>
            <a:stretch/>
          </p:blipFill>
          <p:spPr>
            <a:xfrm>
              <a:off x="228600" y="4038480"/>
              <a:ext cx="6858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7" name=""/>
            <p:cNvSpPr/>
            <p:nvPr/>
          </p:nvSpPr>
          <p:spPr>
            <a:xfrm>
              <a:off x="282960" y="4114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066680" y="4240080"/>
              <a:ext cx="24386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djust a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9" name=""/>
          <p:cNvSpPr/>
          <p:nvPr/>
        </p:nvSpPr>
        <p:spPr>
          <a:xfrm>
            <a:off x="1371600" y="4876920"/>
            <a:ext cx="662940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–0.95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32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0" name=""/>
          <p:cNvGrpSpPr/>
          <p:nvPr/>
        </p:nvGrpSpPr>
        <p:grpSpPr>
          <a:xfrm>
            <a:off x="6248520" y="2057040"/>
            <a:ext cx="457200" cy="1989360"/>
            <a:chOff x="6248520" y="2057040"/>
            <a:chExt cx="457200" cy="1989360"/>
          </a:xfrm>
        </p:grpSpPr>
        <p:grpSp>
          <p:nvGrpSpPr>
            <p:cNvPr id="3441" name=""/>
            <p:cNvGrpSpPr/>
            <p:nvPr/>
          </p:nvGrpSpPr>
          <p:grpSpPr>
            <a:xfrm>
              <a:off x="6466320" y="2057040"/>
              <a:ext cx="227880" cy="1989360"/>
              <a:chOff x="6466320" y="2057040"/>
              <a:chExt cx="227880" cy="1989360"/>
            </a:xfrm>
          </p:grpSpPr>
          <p:sp>
            <p:nvSpPr>
              <p:cNvPr id="3442" name=""/>
              <p:cNvSpPr/>
              <p:nvPr/>
            </p:nvSpPr>
            <p:spPr>
              <a:xfrm flipH="1" flipV="1">
                <a:off x="6637320" y="2057040"/>
                <a:ext cx="56880" cy="11160"/>
              </a:xfrm>
              <a:prstGeom prst="line">
                <a:avLst/>
              </a:prstGeom>
              <a:ln w="4608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588000" y="2057400"/>
                <a:ext cx="0" cy="19810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518160" y="2125800"/>
                <a:ext cx="0" cy="19126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656400" y="2057400"/>
                <a:ext cx="0" cy="19810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466320" y="2133720"/>
                <a:ext cx="0" cy="1912680"/>
              </a:xfrm>
              <a:prstGeom prst="line">
                <a:avLst/>
              </a:prstGeom>
              <a:ln w="76320">
                <a:solidFill>
                  <a:srgbClr val="ff00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7" name=""/>
            <p:cNvSpPr/>
            <p:nvPr/>
          </p:nvSpPr>
          <p:spPr>
            <a:xfrm>
              <a:off x="6248520" y="3124080"/>
              <a:ext cx="457200" cy="53352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ff00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4876920" y="1981080"/>
            <a:ext cx="3657240" cy="2057400"/>
            <a:chOff x="4876920" y="1981080"/>
            <a:chExt cx="3657240" cy="2057400"/>
          </a:xfrm>
        </p:grpSpPr>
        <p:sp>
          <p:nvSpPr>
            <p:cNvPr id="3449" name=""/>
            <p:cNvSpPr/>
            <p:nvPr/>
          </p:nvSpPr>
          <p:spPr>
            <a:xfrm>
              <a:off x="4876920" y="403848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6720480" y="198108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V="1">
              <a:off x="4941360" y="402444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 flipV="1">
              <a:off x="5007600" y="400104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 flipV="1">
              <a:off x="5073840" y="398772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5124960" y="396468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V="1">
              <a:off x="5189760" y="392796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5239440" y="388980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5304240" y="385308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V="1">
              <a:off x="5357160" y="380376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V="1">
              <a:off x="5421960" y="375336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V="1">
              <a:off x="5487840" y="368928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536080" y="361908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5604120" y="354204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5653440" y="345528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flipV="1">
              <a:off x="5720040" y="335700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V="1">
              <a:off x="5767920" y="325764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V="1">
              <a:off x="5834160" y="315648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V="1">
              <a:off x="5902200" y="304776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5951880" y="292392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6019920" y="281232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067800" y="270036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V="1">
              <a:off x="6132600" y="258876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V="1">
              <a:off x="6181920" y="247824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6249960" y="237744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6316200" y="227916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6365880" y="219240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6430320" y="211716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6481800" y="206676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546600" y="201780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V="1">
              <a:off x="6595920" y="199296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V="1">
              <a:off x="6662520" y="198108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728760" y="198108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780240" y="199332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6846120" y="201780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895800" y="206676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960240" y="211716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010280" y="219240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076520" y="227952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126200" y="237744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7192440" y="247824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7260480" y="258876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308360" y="270036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374600" y="281232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422840" y="292392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490880" y="304812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540560" y="315648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606440" y="325764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674480" y="335736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722720" y="345528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788600" y="354240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838640" y="361908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904880" y="368928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952760" y="375372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8020800" y="380412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085600" y="385308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138520" y="388980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8201160" y="392832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8251200" y="396468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317080" y="398772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8368560" y="400140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8434800" y="402444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1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6400800" y="373392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 txBox="1"/>
          <p:nvPr/>
        </p:nvSpPr>
        <p:spPr>
          <a:xfrm>
            <a:off x="1295280" y="11430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514" name=""/>
          <p:cNvSpPr/>
          <p:nvPr/>
        </p:nvSpPr>
        <p:spPr>
          <a:xfrm>
            <a:off x="2517480" y="1173240"/>
            <a:ext cx="6294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area to th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-0.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2019240" y="1828800"/>
            <a:ext cx="5410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400800" y="2286000"/>
            <a:ext cx="0" cy="17524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60F5-933E-4AD9-8FBC-3C316114249F}" type="slidenum">
              <a:t>50</a:t>
            </a:fld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7" name=""/>
          <p:cNvGrpSpPr/>
          <p:nvPr/>
        </p:nvGrpSpPr>
        <p:grpSpPr>
          <a:xfrm>
            <a:off x="6705720" y="1981080"/>
            <a:ext cx="1523880" cy="2057400"/>
            <a:chOff x="6705720" y="1981080"/>
            <a:chExt cx="1523880" cy="2057400"/>
          </a:xfrm>
        </p:grpSpPr>
        <p:sp>
          <p:nvSpPr>
            <p:cNvPr id="3518" name=""/>
            <p:cNvSpPr/>
            <p:nvPr/>
          </p:nvSpPr>
          <p:spPr>
            <a:xfrm flipV="1">
              <a:off x="6705720" y="1981080"/>
              <a:ext cx="62280" cy="108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820200" y="1981080"/>
              <a:ext cx="0" cy="20574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894360" y="2051640"/>
              <a:ext cx="0" cy="19868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968880" y="2123280"/>
              <a:ext cx="0" cy="19148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043040" y="2193840"/>
              <a:ext cx="0" cy="184428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117560" y="2335320"/>
              <a:ext cx="0" cy="170316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190280" y="2477520"/>
              <a:ext cx="0" cy="15606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264440" y="2618640"/>
              <a:ext cx="0" cy="141948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338960" y="2761200"/>
              <a:ext cx="0" cy="12769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413120" y="2903760"/>
              <a:ext cx="0" cy="113436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487640" y="3044880"/>
              <a:ext cx="0" cy="9932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561800" y="3187440"/>
              <a:ext cx="0" cy="85068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636320" y="3328560"/>
              <a:ext cx="0" cy="70956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710480" y="3471120"/>
              <a:ext cx="0" cy="5670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784640" y="3541680"/>
              <a:ext cx="0" cy="4964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859160" y="3612240"/>
              <a:ext cx="0" cy="42588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932240" y="3684240"/>
              <a:ext cx="0" cy="35424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8006760" y="3754800"/>
              <a:ext cx="0" cy="2833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8080920" y="3825360"/>
              <a:ext cx="0" cy="21276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8155440" y="3895920"/>
              <a:ext cx="0" cy="1422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8229600" y="3895920"/>
              <a:ext cx="0" cy="1422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6745680" y="1981080"/>
              <a:ext cx="0" cy="20574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0" name=""/>
          <p:cNvGrpSpPr/>
          <p:nvPr/>
        </p:nvGrpSpPr>
        <p:grpSpPr>
          <a:xfrm>
            <a:off x="228600" y="1981080"/>
            <a:ext cx="3429000" cy="947160"/>
            <a:chOff x="228600" y="1981080"/>
            <a:chExt cx="3429000" cy="947160"/>
          </a:xfrm>
        </p:grpSpPr>
        <p:sp>
          <p:nvSpPr>
            <p:cNvPr id="3541" name=""/>
            <p:cNvSpPr/>
            <p:nvPr/>
          </p:nvSpPr>
          <p:spPr>
            <a:xfrm>
              <a:off x="1066680" y="198108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2" name=""/>
            <p:cNvGrpSpPr/>
            <p:nvPr/>
          </p:nvGrpSpPr>
          <p:grpSpPr>
            <a:xfrm>
              <a:off x="228600" y="2057400"/>
              <a:ext cx="685800" cy="811080"/>
              <a:chOff x="228600" y="2057400"/>
              <a:chExt cx="685800" cy="811080"/>
            </a:xfrm>
          </p:grpSpPr>
          <p:pic>
            <p:nvPicPr>
              <p:cNvPr id="35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0574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4" name=""/>
              <p:cNvSpPr/>
              <p:nvPr/>
            </p:nvSpPr>
            <p:spPr>
              <a:xfrm>
                <a:off x="282960" y="2133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45" name=""/>
          <p:cNvGrpSpPr/>
          <p:nvPr/>
        </p:nvGrpSpPr>
        <p:grpSpPr>
          <a:xfrm>
            <a:off x="228600" y="3124080"/>
            <a:ext cx="4114800" cy="811440"/>
            <a:chOff x="228600" y="3124080"/>
            <a:chExt cx="4114800" cy="811440"/>
          </a:xfrm>
        </p:grpSpPr>
        <p:sp>
          <p:nvSpPr>
            <p:cNvPr id="3546" name=""/>
            <p:cNvSpPr/>
            <p:nvPr/>
          </p:nvSpPr>
          <p:spPr>
            <a:xfrm>
              <a:off x="1066680" y="3352680"/>
              <a:ext cx="327672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.00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228600" y="3124080"/>
              <a:ext cx="685800" cy="811440"/>
              <a:chOff x="228600" y="3124080"/>
              <a:chExt cx="685800" cy="811440"/>
            </a:xfrm>
          </p:grpSpPr>
          <p:pic>
            <p:nvPicPr>
              <p:cNvPr id="35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124080"/>
                <a:ext cx="685800" cy="81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9" name=""/>
              <p:cNvSpPr/>
              <p:nvPr/>
            </p:nvSpPr>
            <p:spPr>
              <a:xfrm>
                <a:off x="282960" y="32004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0" name=""/>
          <p:cNvSpPr/>
          <p:nvPr/>
        </p:nvSpPr>
        <p:spPr>
          <a:xfrm>
            <a:off x="6629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67816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371600" y="5486400"/>
            <a:ext cx="662940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to the left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0.5 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371600" y="6095880"/>
            <a:ext cx="662940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required Total Area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15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66294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5" name=""/>
          <p:cNvGrpSpPr/>
          <p:nvPr/>
        </p:nvGrpSpPr>
        <p:grpSpPr>
          <a:xfrm>
            <a:off x="228600" y="4038480"/>
            <a:ext cx="3276720" cy="811440"/>
            <a:chOff x="228600" y="4038480"/>
            <a:chExt cx="3276720" cy="811440"/>
          </a:xfrm>
        </p:grpSpPr>
        <p:pic>
          <p:nvPicPr>
            <p:cNvPr id="3556" name="" descr=""/>
            <p:cNvPicPr/>
            <p:nvPr/>
          </p:nvPicPr>
          <p:blipFill>
            <a:blip r:embed="rId3"/>
            <a:stretch/>
          </p:blipFill>
          <p:spPr>
            <a:xfrm>
              <a:off x="228600" y="4038480"/>
              <a:ext cx="6858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7" name=""/>
            <p:cNvSpPr/>
            <p:nvPr/>
          </p:nvSpPr>
          <p:spPr>
            <a:xfrm>
              <a:off x="282960" y="4114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1066680" y="4240080"/>
              <a:ext cx="24386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djust a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9" name=""/>
          <p:cNvSpPr/>
          <p:nvPr/>
        </p:nvSpPr>
        <p:spPr>
          <a:xfrm>
            <a:off x="1371600" y="4876920"/>
            <a:ext cx="662940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0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.00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 txBox="1"/>
          <p:nvPr/>
        </p:nvSpPr>
        <p:spPr>
          <a:xfrm>
            <a:off x="1295280" y="11430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Fi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562" name=""/>
          <p:cNvSpPr/>
          <p:nvPr/>
        </p:nvSpPr>
        <p:spPr>
          <a:xfrm>
            <a:off x="2517840" y="1173240"/>
            <a:ext cx="615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area to th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1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2019240" y="1828800"/>
            <a:ext cx="5410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7086600" y="2286000"/>
            <a:ext cx="0" cy="17524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7086600" y="37339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6" name=""/>
          <p:cNvGrpSpPr/>
          <p:nvPr/>
        </p:nvGrpSpPr>
        <p:grpSpPr>
          <a:xfrm>
            <a:off x="6705720" y="1980720"/>
            <a:ext cx="338040" cy="2057760"/>
            <a:chOff x="6705720" y="1980720"/>
            <a:chExt cx="338040" cy="2057760"/>
          </a:xfrm>
        </p:grpSpPr>
        <p:sp>
          <p:nvSpPr>
            <p:cNvPr id="3567" name=""/>
            <p:cNvSpPr/>
            <p:nvPr/>
          </p:nvSpPr>
          <p:spPr>
            <a:xfrm flipV="1">
              <a:off x="6705720" y="1980720"/>
              <a:ext cx="61920" cy="1116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819840" y="1981080"/>
              <a:ext cx="0" cy="205740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6894360" y="2050920"/>
              <a:ext cx="0" cy="198756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969240" y="2124000"/>
              <a:ext cx="0" cy="191448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043760" y="2193840"/>
              <a:ext cx="0" cy="184464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745320" y="1981080"/>
              <a:ext cx="0" cy="205740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3" name=""/>
          <p:cNvGrpSpPr/>
          <p:nvPr/>
        </p:nvGrpSpPr>
        <p:grpSpPr>
          <a:xfrm>
            <a:off x="4876920" y="1981080"/>
            <a:ext cx="3657240" cy="2057400"/>
            <a:chOff x="4876920" y="1981080"/>
            <a:chExt cx="3657240" cy="2057400"/>
          </a:xfrm>
        </p:grpSpPr>
        <p:sp>
          <p:nvSpPr>
            <p:cNvPr id="3574" name=""/>
            <p:cNvSpPr/>
            <p:nvPr/>
          </p:nvSpPr>
          <p:spPr>
            <a:xfrm>
              <a:off x="4876920" y="403848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720480" y="198108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4941360" y="402444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V="1">
              <a:off x="5007600" y="400104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 flipV="1">
              <a:off x="5073840" y="398772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124960" y="396468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 flipV="1">
              <a:off x="5189760" y="392796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239440" y="388980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 flipV="1">
              <a:off x="5304240" y="385308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V="1">
              <a:off x="5357160" y="380376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V="1">
              <a:off x="5421960" y="375336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V="1">
              <a:off x="5487840" y="368928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5536080" y="361908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flipV="1">
              <a:off x="5604120" y="354204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653440" y="345528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V="1">
              <a:off x="5720040" y="335700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 flipV="1">
              <a:off x="5767920" y="325764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V="1">
              <a:off x="5834160" y="315648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V="1">
              <a:off x="5902200" y="304776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951880" y="292392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 flipV="1">
              <a:off x="6019920" y="281232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067800" y="270036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V="1">
              <a:off x="6132600" y="258876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flipV="1">
              <a:off x="6181920" y="247824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 flipV="1">
              <a:off x="6249960" y="237744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 flipV="1">
              <a:off x="6316200" y="227916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6365880" y="219240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430320" y="211716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481800" y="206676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546600" y="201780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 flipV="1">
              <a:off x="6595920" y="199296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 flipV="1">
              <a:off x="6662520" y="198108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728760" y="198108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80240" y="199332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846120" y="201780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895800" y="206676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960240" y="211716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010280" y="219240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076520" y="227952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7126200" y="237744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192440" y="247824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260480" y="258876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7308360" y="270036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374600" y="281232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422840" y="292392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7490880" y="304812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7540560" y="315648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606440" y="325764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674480" y="335736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7722720" y="345528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788600" y="354240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838640" y="361908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904880" y="368928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952760" y="375372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8020800" y="380412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8085600" y="385308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8138520" y="388980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8201160" y="392832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8251200" y="396468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8317080" y="398772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8368560" y="400140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8434800" y="402444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6" name=""/>
          <p:cNvSpPr/>
          <p:nvPr/>
        </p:nvSpPr>
        <p:spPr>
          <a:xfrm flipH="1">
            <a:off x="6725520" y="2590920"/>
            <a:ext cx="21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rea = 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6705720" y="3429000"/>
            <a:ext cx="380880" cy="3808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00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6707160" y="2590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cc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32E2-1222-4CB7-9958-3107E2F612A7}" type="slidenum">
              <a:t>51</a:t>
            </a:fld>
          </a:p>
        </p:txBody>
      </p:sp>
    </p:spTree>
  </p:cSld>
  <p:transition>
    <p:pull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9" name=""/>
          <p:cNvGrpSpPr/>
          <p:nvPr/>
        </p:nvGrpSpPr>
        <p:grpSpPr>
          <a:xfrm>
            <a:off x="228600" y="1981080"/>
            <a:ext cx="3429000" cy="947160"/>
            <a:chOff x="228600" y="1981080"/>
            <a:chExt cx="3429000" cy="947160"/>
          </a:xfrm>
        </p:grpSpPr>
        <p:sp>
          <p:nvSpPr>
            <p:cNvPr id="3640" name=""/>
            <p:cNvSpPr/>
            <p:nvPr/>
          </p:nvSpPr>
          <p:spPr>
            <a:xfrm>
              <a:off x="1066680" y="198108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1" name=""/>
            <p:cNvGrpSpPr/>
            <p:nvPr/>
          </p:nvGrpSpPr>
          <p:grpSpPr>
            <a:xfrm>
              <a:off x="228600" y="2087640"/>
              <a:ext cx="685800" cy="811080"/>
              <a:chOff x="228600" y="2087640"/>
              <a:chExt cx="685800" cy="811080"/>
            </a:xfrm>
          </p:grpSpPr>
          <p:pic>
            <p:nvPicPr>
              <p:cNvPr id="36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08764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3" name=""/>
              <p:cNvSpPr/>
              <p:nvPr/>
            </p:nvSpPr>
            <p:spPr>
              <a:xfrm>
                <a:off x="282960" y="2163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44" name=""/>
          <p:cNvGrpSpPr/>
          <p:nvPr/>
        </p:nvGrpSpPr>
        <p:grpSpPr>
          <a:xfrm>
            <a:off x="152280" y="990720"/>
            <a:ext cx="5066640" cy="611280"/>
            <a:chOff x="152280" y="990720"/>
            <a:chExt cx="5066640" cy="611280"/>
          </a:xfrm>
        </p:grpSpPr>
        <p:sp>
          <p:nvSpPr>
            <p:cNvPr id="3645" name=""/>
            <p:cNvSpPr txBox="1"/>
            <p:nvPr/>
          </p:nvSpPr>
          <p:spPr>
            <a:xfrm>
              <a:off x="152280" y="990720"/>
              <a:ext cx="1317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Comic Sans MS"/>
                </a:rPr>
                <a:t>Find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1553040" y="1020600"/>
              <a:ext cx="36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the area betwee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7" name=""/>
          <p:cNvSpPr/>
          <p:nvPr/>
        </p:nvSpPr>
        <p:spPr>
          <a:xfrm>
            <a:off x="849240" y="1676520"/>
            <a:ext cx="71517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8" name=""/>
          <p:cNvGrpSpPr/>
          <p:nvPr/>
        </p:nvGrpSpPr>
        <p:grpSpPr>
          <a:xfrm>
            <a:off x="228600" y="3048120"/>
            <a:ext cx="5181480" cy="811080"/>
            <a:chOff x="228600" y="3048120"/>
            <a:chExt cx="5181480" cy="811080"/>
          </a:xfrm>
        </p:grpSpPr>
        <p:grpSp>
          <p:nvGrpSpPr>
            <p:cNvPr id="3649" name=""/>
            <p:cNvGrpSpPr/>
            <p:nvPr/>
          </p:nvGrpSpPr>
          <p:grpSpPr>
            <a:xfrm>
              <a:off x="228600" y="3048120"/>
              <a:ext cx="685800" cy="811080"/>
              <a:chOff x="228600" y="3048120"/>
              <a:chExt cx="685800" cy="811080"/>
            </a:xfrm>
          </p:grpSpPr>
          <p:pic>
            <p:nvPicPr>
              <p:cNvPr id="36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0481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1" name=""/>
              <p:cNvSpPr/>
              <p:nvPr/>
            </p:nvSpPr>
            <p:spPr>
              <a:xfrm>
                <a:off x="282960" y="3124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2" name=""/>
            <p:cNvSpPr/>
            <p:nvPr/>
          </p:nvSpPr>
          <p:spPr>
            <a:xfrm>
              <a:off x="1066680" y="3246480"/>
              <a:ext cx="434340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.96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then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2.58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3" name=""/>
          <p:cNvSpPr/>
          <p:nvPr/>
        </p:nvSpPr>
        <p:spPr>
          <a:xfrm>
            <a:off x="1498680" y="4800600"/>
            <a:ext cx="601956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0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.96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1447920" y="6019920"/>
            <a:ext cx="609588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64600" dir="60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required Total Area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0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1498680" y="5410080"/>
            <a:ext cx="609588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 0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2.58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9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6" name=""/>
          <p:cNvGrpSpPr/>
          <p:nvPr/>
        </p:nvGrpSpPr>
        <p:grpSpPr>
          <a:xfrm>
            <a:off x="7435800" y="4876920"/>
            <a:ext cx="1478520" cy="914400"/>
            <a:chOff x="7435800" y="4876920"/>
            <a:chExt cx="1478520" cy="914400"/>
          </a:xfrm>
        </p:grpSpPr>
        <p:sp>
          <p:nvSpPr>
            <p:cNvPr id="3657" name=""/>
            <p:cNvSpPr/>
            <p:nvPr/>
          </p:nvSpPr>
          <p:spPr>
            <a:xfrm>
              <a:off x="7435800" y="4876920"/>
              <a:ext cx="381240" cy="91440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7665120" y="50706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Sub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228600" y="3962520"/>
            <a:ext cx="3276720" cy="811080"/>
            <a:chOff x="228600" y="3962520"/>
            <a:chExt cx="3276720" cy="811080"/>
          </a:xfrm>
        </p:grpSpPr>
        <p:grpSp>
          <p:nvGrpSpPr>
            <p:cNvPr id="3660" name=""/>
            <p:cNvGrpSpPr/>
            <p:nvPr/>
          </p:nvGrpSpPr>
          <p:grpSpPr>
            <a:xfrm>
              <a:off x="228600" y="3962520"/>
              <a:ext cx="685800" cy="811080"/>
              <a:chOff x="228600" y="3962520"/>
              <a:chExt cx="685800" cy="811080"/>
            </a:xfrm>
          </p:grpSpPr>
          <p:pic>
            <p:nvPicPr>
              <p:cNvPr id="36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39625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62" name=""/>
              <p:cNvSpPr/>
              <p:nvPr/>
            </p:nvSpPr>
            <p:spPr>
              <a:xfrm>
                <a:off x="282960" y="4038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3" name=""/>
            <p:cNvSpPr/>
            <p:nvPr/>
          </p:nvSpPr>
          <p:spPr>
            <a:xfrm>
              <a:off x="1066680" y="4144680"/>
              <a:ext cx="24386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djust a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4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73915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76201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7162920" y="3924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7162920" y="3924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9" name=""/>
          <p:cNvGrpSpPr/>
          <p:nvPr/>
        </p:nvGrpSpPr>
        <p:grpSpPr>
          <a:xfrm>
            <a:off x="7238880" y="1866960"/>
            <a:ext cx="990720" cy="2057400"/>
            <a:chOff x="7238880" y="1866960"/>
            <a:chExt cx="990720" cy="2057400"/>
          </a:xfrm>
        </p:grpSpPr>
        <p:grpSp>
          <p:nvGrpSpPr>
            <p:cNvPr id="3670" name=""/>
            <p:cNvGrpSpPr/>
            <p:nvPr/>
          </p:nvGrpSpPr>
          <p:grpSpPr>
            <a:xfrm>
              <a:off x="7238880" y="1866960"/>
              <a:ext cx="930240" cy="2057400"/>
              <a:chOff x="7238880" y="1866960"/>
              <a:chExt cx="930240" cy="2057400"/>
            </a:xfrm>
          </p:grpSpPr>
          <p:sp>
            <p:nvSpPr>
              <p:cNvPr id="3671" name=""/>
              <p:cNvSpPr/>
              <p:nvPr/>
            </p:nvSpPr>
            <p:spPr>
              <a:xfrm flipV="1">
                <a:off x="7238880" y="1866960"/>
                <a:ext cx="61920" cy="1080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353000" y="1866960"/>
                <a:ext cx="0" cy="205740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427520" y="1936800"/>
                <a:ext cx="0" cy="198756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502400" y="2009520"/>
                <a:ext cx="0" cy="191484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7576920" y="2079360"/>
                <a:ext cx="0" cy="184500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7650000" y="2220840"/>
                <a:ext cx="0" cy="170352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723080" y="2363760"/>
                <a:ext cx="0" cy="156060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7797600" y="2504880"/>
                <a:ext cx="0" cy="141948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7872120" y="2647800"/>
                <a:ext cx="0" cy="127656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7946640" y="2789280"/>
                <a:ext cx="0" cy="113508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8021520" y="2930400"/>
                <a:ext cx="0" cy="99396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8094600" y="3073320"/>
                <a:ext cx="0" cy="85104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8169120" y="3214440"/>
                <a:ext cx="0" cy="70992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7278480" y="1866960"/>
                <a:ext cx="0" cy="205740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5" name=""/>
            <p:cNvSpPr/>
            <p:nvPr/>
          </p:nvSpPr>
          <p:spPr>
            <a:xfrm>
              <a:off x="7848720" y="3352680"/>
              <a:ext cx="380880" cy="38124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6" name=""/>
          <p:cNvSpPr/>
          <p:nvPr/>
        </p:nvSpPr>
        <p:spPr>
          <a:xfrm>
            <a:off x="7848720" y="2666880"/>
            <a:ext cx="0" cy="129564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8229600" y="3429000"/>
            <a:ext cx="0" cy="6094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8" name=""/>
          <p:cNvGrpSpPr/>
          <p:nvPr/>
        </p:nvGrpSpPr>
        <p:grpSpPr>
          <a:xfrm>
            <a:off x="7238880" y="1866960"/>
            <a:ext cx="558720" cy="2057400"/>
            <a:chOff x="7238880" y="1866960"/>
            <a:chExt cx="558720" cy="2057400"/>
          </a:xfrm>
        </p:grpSpPr>
        <p:grpSp>
          <p:nvGrpSpPr>
            <p:cNvPr id="3689" name=""/>
            <p:cNvGrpSpPr/>
            <p:nvPr/>
          </p:nvGrpSpPr>
          <p:grpSpPr>
            <a:xfrm>
              <a:off x="7238880" y="1866960"/>
              <a:ext cx="558720" cy="2057400"/>
              <a:chOff x="7238880" y="1866960"/>
              <a:chExt cx="558720" cy="2057400"/>
            </a:xfrm>
          </p:grpSpPr>
          <p:sp>
            <p:nvSpPr>
              <p:cNvPr id="3690" name=""/>
              <p:cNvSpPr/>
              <p:nvPr/>
            </p:nvSpPr>
            <p:spPr>
              <a:xfrm flipV="1">
                <a:off x="7238880" y="1866960"/>
                <a:ext cx="61920" cy="1080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7353000" y="1866960"/>
                <a:ext cx="0" cy="205740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7427520" y="1936800"/>
                <a:ext cx="0" cy="198756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502400" y="2009520"/>
                <a:ext cx="0" cy="191484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7576920" y="2079360"/>
                <a:ext cx="0" cy="184500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7650000" y="2220840"/>
                <a:ext cx="0" cy="170352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7723080" y="2363760"/>
                <a:ext cx="0" cy="156060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797600" y="2504880"/>
                <a:ext cx="0" cy="141948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278480" y="1866960"/>
                <a:ext cx="0" cy="2057400"/>
              </a:xfrm>
              <a:prstGeom prst="line">
                <a:avLst/>
              </a:prstGeom>
              <a:ln w="7632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7266240" y="23619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0" name=""/>
          <p:cNvGrpSpPr/>
          <p:nvPr/>
        </p:nvGrpSpPr>
        <p:grpSpPr>
          <a:xfrm>
            <a:off x="5410080" y="1866960"/>
            <a:ext cx="3657240" cy="2057400"/>
            <a:chOff x="5410080" y="1866960"/>
            <a:chExt cx="3657240" cy="2057400"/>
          </a:xfrm>
        </p:grpSpPr>
        <p:sp>
          <p:nvSpPr>
            <p:cNvPr id="3701" name=""/>
            <p:cNvSpPr/>
            <p:nvPr/>
          </p:nvSpPr>
          <p:spPr>
            <a:xfrm>
              <a:off x="5410080" y="392436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7253640" y="186696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5474520" y="391032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flipV="1">
              <a:off x="5540760" y="388692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 flipV="1">
              <a:off x="5607000" y="387360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658120" y="385056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 flipV="1">
              <a:off x="5722920" y="381384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772600" y="377568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 flipV="1">
              <a:off x="5837400" y="373896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V="1">
              <a:off x="5890320" y="368964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V="1">
              <a:off x="5955120" y="363924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 flipV="1">
              <a:off x="6021000" y="357516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069240" y="350496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V="1">
              <a:off x="6137280" y="342792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186600" y="334116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 flipV="1">
              <a:off x="6253200" y="324288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 flipV="1">
              <a:off x="6301080" y="314352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 flipV="1">
              <a:off x="6367320" y="304236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435360" y="293364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485040" y="280980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 flipV="1">
              <a:off x="6553080" y="269820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6600960" y="258624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 flipV="1">
              <a:off x="6665760" y="247464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V="1">
              <a:off x="6715080" y="236412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V="1">
              <a:off x="6783120" y="226332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6849360" y="216504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6899040" y="207828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6963480" y="200304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014960" y="195264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7079760" y="190368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 flipV="1">
              <a:off x="7129080" y="187884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7195680" y="186696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7261920" y="186696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7313400" y="187920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379280" y="190368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428960" y="195264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7493400" y="200304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7543440" y="207828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7609680" y="216540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659360" y="226332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725600" y="236412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7793640" y="247464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7841520" y="258624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907760" y="269820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7956000" y="280980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8024040" y="293400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8073720" y="304236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8139600" y="314352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8207640" y="324324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8255880" y="334116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8321760" y="342828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8371800" y="350496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8438040" y="357516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8485920" y="363960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8553960" y="369000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8618760" y="373896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8671680" y="377568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8734320" y="381420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8784360" y="385056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8850240" y="387360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8901720" y="388728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8967960" y="391032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3" name=""/>
          <p:cNvSpPr/>
          <p:nvPr/>
        </p:nvSpPr>
        <p:spPr>
          <a:xfrm>
            <a:off x="5080320" y="1020600"/>
            <a:ext cx="401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1.96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2.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4" name=""/>
          <p:cNvGrpSpPr/>
          <p:nvPr/>
        </p:nvGrpSpPr>
        <p:grpSpPr>
          <a:xfrm>
            <a:off x="8000640" y="2362320"/>
            <a:ext cx="1020960" cy="914400"/>
            <a:chOff x="8000640" y="2362320"/>
            <a:chExt cx="1020960" cy="914400"/>
          </a:xfrm>
        </p:grpSpPr>
        <p:sp>
          <p:nvSpPr>
            <p:cNvPr id="3765" name=""/>
            <p:cNvSpPr/>
            <p:nvPr/>
          </p:nvSpPr>
          <p:spPr>
            <a:xfrm flipH="1">
              <a:off x="8000640" y="2590920"/>
              <a:ext cx="685800" cy="6858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8231400" y="2362320"/>
              <a:ext cx="79020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81185" dir="84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Fi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7" name=""/>
          <p:cNvSpPr/>
          <p:nvPr/>
        </p:nvSpPr>
        <p:spPr>
          <a:xfrm>
            <a:off x="7848720" y="388620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54AB-5929-45EB-990C-C30814BD2F22}" type="slidenum">
              <a:t>52</a:t>
            </a:fld>
          </a:p>
        </p:txBody>
      </p:sp>
    </p:spTree>
  </p:cSld>
  <p:transition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"/>
          <p:cNvSpPr/>
          <p:nvPr/>
        </p:nvSpPr>
        <p:spPr>
          <a:xfrm>
            <a:off x="5112000" y="1020600"/>
            <a:ext cx="401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0.55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1.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9" name=""/>
          <p:cNvGrpSpPr/>
          <p:nvPr/>
        </p:nvGrpSpPr>
        <p:grpSpPr>
          <a:xfrm>
            <a:off x="228600" y="1981080"/>
            <a:ext cx="3429000" cy="947160"/>
            <a:chOff x="228600" y="1981080"/>
            <a:chExt cx="3429000" cy="947160"/>
          </a:xfrm>
        </p:grpSpPr>
        <p:sp>
          <p:nvSpPr>
            <p:cNvPr id="3770" name=""/>
            <p:cNvSpPr/>
            <p:nvPr/>
          </p:nvSpPr>
          <p:spPr>
            <a:xfrm>
              <a:off x="1066680" y="198108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1" name=""/>
            <p:cNvGrpSpPr/>
            <p:nvPr/>
          </p:nvGrpSpPr>
          <p:grpSpPr>
            <a:xfrm>
              <a:off x="228600" y="2087640"/>
              <a:ext cx="685800" cy="811080"/>
              <a:chOff x="228600" y="2087640"/>
              <a:chExt cx="685800" cy="811080"/>
            </a:xfrm>
          </p:grpSpPr>
          <p:pic>
            <p:nvPicPr>
              <p:cNvPr id="37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08764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3" name=""/>
              <p:cNvSpPr/>
              <p:nvPr/>
            </p:nvSpPr>
            <p:spPr>
              <a:xfrm>
                <a:off x="282960" y="2163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4" name=""/>
          <p:cNvGrpSpPr/>
          <p:nvPr/>
        </p:nvGrpSpPr>
        <p:grpSpPr>
          <a:xfrm>
            <a:off x="152280" y="990720"/>
            <a:ext cx="5066640" cy="611280"/>
            <a:chOff x="152280" y="990720"/>
            <a:chExt cx="5066640" cy="611280"/>
          </a:xfrm>
        </p:grpSpPr>
        <p:sp>
          <p:nvSpPr>
            <p:cNvPr id="3775" name=""/>
            <p:cNvSpPr txBox="1"/>
            <p:nvPr/>
          </p:nvSpPr>
          <p:spPr>
            <a:xfrm>
              <a:off x="152280" y="990720"/>
              <a:ext cx="1317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Comic Sans MS"/>
                </a:rPr>
                <a:t>Find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1553040" y="1020600"/>
              <a:ext cx="366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the area betwee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7" name=""/>
          <p:cNvSpPr/>
          <p:nvPr/>
        </p:nvSpPr>
        <p:spPr>
          <a:xfrm>
            <a:off x="849240" y="1676520"/>
            <a:ext cx="71517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8" name=""/>
          <p:cNvGrpSpPr/>
          <p:nvPr/>
        </p:nvGrpSpPr>
        <p:grpSpPr>
          <a:xfrm>
            <a:off x="228600" y="3048120"/>
            <a:ext cx="5181480" cy="811080"/>
            <a:chOff x="228600" y="3048120"/>
            <a:chExt cx="5181480" cy="811080"/>
          </a:xfrm>
        </p:grpSpPr>
        <p:grpSp>
          <p:nvGrpSpPr>
            <p:cNvPr id="3779" name=""/>
            <p:cNvGrpSpPr/>
            <p:nvPr/>
          </p:nvGrpSpPr>
          <p:grpSpPr>
            <a:xfrm>
              <a:off x="228600" y="3048120"/>
              <a:ext cx="685800" cy="811080"/>
              <a:chOff x="228600" y="3048120"/>
              <a:chExt cx="685800" cy="811080"/>
            </a:xfrm>
          </p:grpSpPr>
          <p:pic>
            <p:nvPicPr>
              <p:cNvPr id="37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30481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1" name=""/>
              <p:cNvSpPr/>
              <p:nvPr/>
            </p:nvSpPr>
            <p:spPr>
              <a:xfrm>
                <a:off x="282960" y="31240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2" name=""/>
            <p:cNvSpPr/>
            <p:nvPr/>
          </p:nvSpPr>
          <p:spPr>
            <a:xfrm>
              <a:off x="1066680" y="3246480"/>
              <a:ext cx="434340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.55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then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1.96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3" name=""/>
          <p:cNvGrpSpPr/>
          <p:nvPr/>
        </p:nvGrpSpPr>
        <p:grpSpPr>
          <a:xfrm>
            <a:off x="228600" y="3962520"/>
            <a:ext cx="3276720" cy="811080"/>
            <a:chOff x="228600" y="3962520"/>
            <a:chExt cx="3276720" cy="811080"/>
          </a:xfrm>
        </p:grpSpPr>
        <p:grpSp>
          <p:nvGrpSpPr>
            <p:cNvPr id="3784" name=""/>
            <p:cNvGrpSpPr/>
            <p:nvPr/>
          </p:nvGrpSpPr>
          <p:grpSpPr>
            <a:xfrm>
              <a:off x="228600" y="3962520"/>
              <a:ext cx="685800" cy="811080"/>
              <a:chOff x="228600" y="3962520"/>
              <a:chExt cx="685800" cy="811080"/>
            </a:xfrm>
          </p:grpSpPr>
          <p:pic>
            <p:nvPicPr>
              <p:cNvPr id="37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39625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6" name=""/>
              <p:cNvSpPr/>
              <p:nvPr/>
            </p:nvSpPr>
            <p:spPr>
              <a:xfrm>
                <a:off x="282960" y="4038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7" name=""/>
            <p:cNvSpPr/>
            <p:nvPr/>
          </p:nvSpPr>
          <p:spPr>
            <a:xfrm>
              <a:off x="1066680" y="4144680"/>
              <a:ext cx="24386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djust as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8" name=""/>
          <p:cNvSpPr/>
          <p:nvPr/>
        </p:nvSpPr>
        <p:spPr>
          <a:xfrm>
            <a:off x="1632960" y="380880"/>
            <a:ext cx="61304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se using the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Distribution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754380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72388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7086600" y="3924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2" name=""/>
          <p:cNvGrpSpPr/>
          <p:nvPr/>
        </p:nvGrpSpPr>
        <p:grpSpPr>
          <a:xfrm>
            <a:off x="7238880" y="1905120"/>
            <a:ext cx="626760" cy="2057400"/>
            <a:chOff x="7238880" y="1905120"/>
            <a:chExt cx="626760" cy="2057400"/>
          </a:xfrm>
        </p:grpSpPr>
        <p:grpSp>
          <p:nvGrpSpPr>
            <p:cNvPr id="3793" name=""/>
            <p:cNvGrpSpPr/>
            <p:nvPr/>
          </p:nvGrpSpPr>
          <p:grpSpPr>
            <a:xfrm>
              <a:off x="7238880" y="1905120"/>
              <a:ext cx="558720" cy="2057400"/>
              <a:chOff x="7238880" y="1905120"/>
              <a:chExt cx="558720" cy="2057400"/>
            </a:xfrm>
          </p:grpSpPr>
          <p:sp>
            <p:nvSpPr>
              <p:cNvPr id="3794" name=""/>
              <p:cNvSpPr/>
              <p:nvPr/>
            </p:nvSpPr>
            <p:spPr>
              <a:xfrm flipV="1">
                <a:off x="7238880" y="1905120"/>
                <a:ext cx="61920" cy="1080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7353000" y="1905120"/>
                <a:ext cx="0" cy="205740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7427520" y="1974960"/>
                <a:ext cx="0" cy="198756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7502400" y="2047680"/>
                <a:ext cx="0" cy="191484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7576920" y="2117520"/>
                <a:ext cx="0" cy="184500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650000" y="2259000"/>
                <a:ext cx="0" cy="170352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723080" y="2401920"/>
                <a:ext cx="0" cy="156060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797600" y="2543040"/>
                <a:ext cx="0" cy="141948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278480" y="1905120"/>
                <a:ext cx="0" cy="2057400"/>
              </a:xfrm>
              <a:prstGeom prst="line">
                <a:avLst/>
              </a:prstGeom>
              <a:ln w="7632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3" name=""/>
            <p:cNvSpPr/>
            <p:nvPr/>
          </p:nvSpPr>
          <p:spPr>
            <a:xfrm>
              <a:off x="7444080" y="341964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4" name=""/>
          <p:cNvSpPr/>
          <p:nvPr/>
        </p:nvSpPr>
        <p:spPr>
          <a:xfrm>
            <a:off x="1523880" y="4800600"/>
            <a:ext cx="601992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0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.55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20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1523880" y="6019920"/>
            <a:ext cx="60962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required Total Area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26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1523880" y="5410080"/>
            <a:ext cx="6096240" cy="510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etween  0&lt;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1.96 is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4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7" name=""/>
          <p:cNvGrpSpPr/>
          <p:nvPr/>
        </p:nvGrpSpPr>
        <p:grpSpPr>
          <a:xfrm>
            <a:off x="7391520" y="4876920"/>
            <a:ext cx="1478520" cy="914400"/>
            <a:chOff x="7391520" y="4876920"/>
            <a:chExt cx="1478520" cy="914400"/>
          </a:xfrm>
        </p:grpSpPr>
        <p:sp>
          <p:nvSpPr>
            <p:cNvPr id="3808" name=""/>
            <p:cNvSpPr/>
            <p:nvPr/>
          </p:nvSpPr>
          <p:spPr>
            <a:xfrm>
              <a:off x="7391520" y="4876920"/>
              <a:ext cx="380880" cy="9144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620840" y="50706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Subt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0" name=""/>
          <p:cNvGrpSpPr/>
          <p:nvPr/>
        </p:nvGrpSpPr>
        <p:grpSpPr>
          <a:xfrm>
            <a:off x="7162920" y="1904760"/>
            <a:ext cx="457200" cy="2057760"/>
            <a:chOff x="7162920" y="1904760"/>
            <a:chExt cx="457200" cy="2057760"/>
          </a:xfrm>
        </p:grpSpPr>
        <p:grpSp>
          <p:nvGrpSpPr>
            <p:cNvPr id="3811" name=""/>
            <p:cNvGrpSpPr/>
            <p:nvPr/>
          </p:nvGrpSpPr>
          <p:grpSpPr>
            <a:xfrm>
              <a:off x="7238880" y="1904760"/>
              <a:ext cx="263520" cy="2057760"/>
              <a:chOff x="7238880" y="1904760"/>
              <a:chExt cx="263520" cy="2057760"/>
            </a:xfrm>
          </p:grpSpPr>
          <p:sp>
            <p:nvSpPr>
              <p:cNvPr id="3812" name=""/>
              <p:cNvSpPr/>
              <p:nvPr/>
            </p:nvSpPr>
            <p:spPr>
              <a:xfrm flipV="1">
                <a:off x="7238880" y="1904760"/>
                <a:ext cx="61920" cy="1116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7353360" y="1905120"/>
                <a:ext cx="0" cy="20574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7427880" y="1974960"/>
                <a:ext cx="0" cy="198756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7502400" y="2048040"/>
                <a:ext cx="0" cy="19144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278840" y="1905120"/>
                <a:ext cx="0" cy="20574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7" name=""/>
            <p:cNvSpPr/>
            <p:nvPr/>
          </p:nvSpPr>
          <p:spPr>
            <a:xfrm>
              <a:off x="7162920" y="2724120"/>
              <a:ext cx="45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5410080" y="1866960"/>
            <a:ext cx="3657240" cy="2057400"/>
            <a:chOff x="5410080" y="1866960"/>
            <a:chExt cx="3657240" cy="2057400"/>
          </a:xfrm>
        </p:grpSpPr>
        <p:sp>
          <p:nvSpPr>
            <p:cNvPr id="3819" name=""/>
            <p:cNvSpPr/>
            <p:nvPr/>
          </p:nvSpPr>
          <p:spPr>
            <a:xfrm>
              <a:off x="5410080" y="392436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7253640" y="186696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V="1">
              <a:off x="5474520" y="391032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 flipV="1">
              <a:off x="5540760" y="388692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V="1">
              <a:off x="5607000" y="387360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658120" y="385056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V="1">
              <a:off x="5722920" y="381384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772600" y="377568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V="1">
              <a:off x="5837400" y="373896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 flipV="1">
              <a:off x="5890320" y="368964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 flipV="1">
              <a:off x="5955120" y="363924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 flipV="1">
              <a:off x="6021000" y="357516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6069240" y="350496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 flipV="1">
              <a:off x="6137280" y="342792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6186600" y="334116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 flipV="1">
              <a:off x="6253200" y="324288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 flipV="1">
              <a:off x="6301080" y="314352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V="1">
              <a:off x="6367320" y="304236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6435360" y="293364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6485040" y="280980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V="1">
              <a:off x="6553080" y="269820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6600960" y="258624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V="1">
              <a:off x="6665760" y="247464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6715080" y="236412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 flipV="1">
              <a:off x="6783120" y="226332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 flipV="1">
              <a:off x="6849360" y="216504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899040" y="207828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963480" y="200304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014960" y="195264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7079760" y="190368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V="1">
              <a:off x="7129080" y="187884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 flipV="1">
              <a:off x="7195680" y="186696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7261920" y="186696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7313400" y="187920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379280" y="190368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7428960" y="195264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7493400" y="200304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543440" y="207828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7609680" y="216540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7659360" y="226332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725600" y="236412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793640" y="247464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841520" y="258624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907760" y="269820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956000" y="280980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8024040" y="293400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073720" y="304236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8139600" y="314352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207640" y="324324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8255880" y="334116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321760" y="342828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8371800" y="350496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8438040" y="357516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8485920" y="363960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8553960" y="369000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8618760" y="373896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8671680" y="377568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8734320" y="381420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8784360" y="385056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8850240" y="387360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8901720" y="388728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8967960" y="391032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1" name=""/>
          <p:cNvSpPr/>
          <p:nvPr/>
        </p:nvSpPr>
        <p:spPr>
          <a:xfrm>
            <a:off x="7848720" y="2590920"/>
            <a:ext cx="0" cy="1295280"/>
          </a:xfrm>
          <a:prstGeom prst="line">
            <a:avLst/>
          </a:prstGeom>
          <a:ln w="7632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BFBA-5214-4B01-BAD9-8B3C64C4978A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/>
          </p:nvPr>
        </p:nvSpPr>
        <p:spPr>
          <a:xfrm>
            <a:off x="380520" y="1760040"/>
            <a:ext cx="8588520" cy="4705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bcc7f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8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area under the normal curv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thin one 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/- </a:t>
            </a:r>
            <a:r>
              <a:rPr b="1" lang="en-GB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12ea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95 per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thin two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ndar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i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me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/-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SzPct val="12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actically 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thin thre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ndar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i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me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/- </a:t>
            </a:r>
            <a:r>
              <a:rPr b="1" lang="en-GB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1" lang="en-GB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7087680" y="6172200"/>
            <a:ext cx="1451880" cy="45972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  <a:effectLst>
            <a:outerShdw dist="193524" dir="940640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6" name=""/>
          <p:cNvGrpSpPr/>
          <p:nvPr/>
        </p:nvGrpSpPr>
        <p:grpSpPr>
          <a:xfrm>
            <a:off x="2038320" y="152280"/>
            <a:ext cx="5219640" cy="1371240"/>
            <a:chOff x="2038320" y="152280"/>
            <a:chExt cx="5219640" cy="1371240"/>
          </a:xfrm>
        </p:grpSpPr>
        <p:pic>
          <p:nvPicPr>
            <p:cNvPr id="3887" name="bannr10" descr=""/>
            <p:cNvPicPr/>
            <p:nvPr/>
          </p:nvPicPr>
          <p:blipFill>
            <a:blip r:embed="rId1"/>
            <a:stretch/>
          </p:blipFill>
          <p:spPr>
            <a:xfrm>
              <a:off x="2038320" y="152280"/>
              <a:ext cx="5219640" cy="137124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3888" name=""/>
            <p:cNvSpPr/>
            <p:nvPr/>
          </p:nvSpPr>
          <p:spPr>
            <a:xfrm>
              <a:off x="2165400" y="152280"/>
              <a:ext cx="494676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Areas </a:t>
              </a:r>
              <a:r>
                <a:rPr b="1" i="1" lang="en-US" sz="3200" spc="-1" strike="noStrike">
                  <a:solidFill>
                    <a:srgbClr val="ffff00"/>
                  </a:solidFill>
                  <a:latin typeface="Times New Roman"/>
                </a:rPr>
                <a:t>under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the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Normal Cur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9" name=""/>
          <p:cNvGrpSpPr/>
          <p:nvPr/>
        </p:nvGrpSpPr>
        <p:grpSpPr>
          <a:xfrm>
            <a:off x="4988160" y="1752480"/>
            <a:ext cx="384840" cy="4025880"/>
            <a:chOff x="4988160" y="1752480"/>
            <a:chExt cx="384840" cy="4025880"/>
          </a:xfrm>
        </p:grpSpPr>
        <p:sp>
          <p:nvSpPr>
            <p:cNvPr id="3890" name=""/>
            <p:cNvSpPr/>
            <p:nvPr/>
          </p:nvSpPr>
          <p:spPr>
            <a:xfrm>
              <a:off x="4988160" y="5257800"/>
              <a:ext cx="38484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5181480" y="1752480"/>
              <a:ext cx="0" cy="35816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2" name=""/>
          <p:cNvGrpSpPr/>
          <p:nvPr/>
        </p:nvGrpSpPr>
        <p:grpSpPr>
          <a:xfrm>
            <a:off x="2038320" y="152280"/>
            <a:ext cx="5219640" cy="1218960"/>
            <a:chOff x="2038320" y="152280"/>
            <a:chExt cx="5219640" cy="1218960"/>
          </a:xfrm>
        </p:grpSpPr>
        <p:pic>
          <p:nvPicPr>
            <p:cNvPr id="3893" name="bannr10" descr=""/>
            <p:cNvPicPr/>
            <p:nvPr/>
          </p:nvPicPr>
          <p:blipFill>
            <a:blip r:embed="rId1"/>
            <a:stretch/>
          </p:blipFill>
          <p:spPr>
            <a:xfrm>
              <a:off x="2038320" y="152280"/>
              <a:ext cx="5219640" cy="121896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3894" name=""/>
            <p:cNvSpPr/>
            <p:nvPr/>
          </p:nvSpPr>
          <p:spPr>
            <a:xfrm>
              <a:off x="2165400" y="152280"/>
              <a:ext cx="4946760" cy="10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Areas </a:t>
              </a:r>
              <a:r>
                <a:rPr b="1" i="1" lang="en-US" sz="3200" spc="-1" strike="noStrike">
                  <a:solidFill>
                    <a:srgbClr val="ffff00"/>
                  </a:solidFill>
                  <a:latin typeface="Times New Roman"/>
                </a:rPr>
                <a:t>under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the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Normal Cur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5" name=""/>
          <p:cNvSpPr/>
          <p:nvPr/>
        </p:nvSpPr>
        <p:spPr>
          <a:xfrm>
            <a:off x="5089680" y="554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2743200" y="53341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1143000" y="2057400"/>
            <a:ext cx="2819520" cy="519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twe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1752480" y="3357720"/>
            <a:ext cx="14479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95.4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1752480" y="3967200"/>
            <a:ext cx="14875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99.7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0" name=""/>
          <p:cNvGrpSpPr/>
          <p:nvPr/>
        </p:nvGrpSpPr>
        <p:grpSpPr>
          <a:xfrm>
            <a:off x="4724280" y="2514600"/>
            <a:ext cx="914400" cy="2819520"/>
            <a:chOff x="4724280" y="2514600"/>
            <a:chExt cx="914400" cy="2819520"/>
          </a:xfrm>
        </p:grpSpPr>
        <p:sp>
          <p:nvSpPr>
            <p:cNvPr id="3901" name=""/>
            <p:cNvSpPr/>
            <p:nvPr/>
          </p:nvSpPr>
          <p:spPr>
            <a:xfrm>
              <a:off x="4724280" y="2514600"/>
              <a:ext cx="0" cy="2819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638680" y="2514600"/>
              <a:ext cx="0" cy="2819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3" name=""/>
          <p:cNvGrpSpPr/>
          <p:nvPr/>
        </p:nvGrpSpPr>
        <p:grpSpPr>
          <a:xfrm>
            <a:off x="4267080" y="3962520"/>
            <a:ext cx="1828800" cy="1361880"/>
            <a:chOff x="4267080" y="3962520"/>
            <a:chExt cx="1828800" cy="1361880"/>
          </a:xfrm>
        </p:grpSpPr>
        <p:sp>
          <p:nvSpPr>
            <p:cNvPr id="3904" name=""/>
            <p:cNvSpPr/>
            <p:nvPr/>
          </p:nvSpPr>
          <p:spPr>
            <a:xfrm>
              <a:off x="4267080" y="4038480"/>
              <a:ext cx="0" cy="12859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6095880" y="3962520"/>
              <a:ext cx="0" cy="13618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6" name=""/>
          <p:cNvGrpSpPr/>
          <p:nvPr/>
        </p:nvGrpSpPr>
        <p:grpSpPr>
          <a:xfrm>
            <a:off x="3809880" y="4927680"/>
            <a:ext cx="2743200" cy="406440"/>
            <a:chOff x="3809880" y="4927680"/>
            <a:chExt cx="2743200" cy="406440"/>
          </a:xfrm>
        </p:grpSpPr>
        <p:sp>
          <p:nvSpPr>
            <p:cNvPr id="3907" name=""/>
            <p:cNvSpPr/>
            <p:nvPr/>
          </p:nvSpPr>
          <p:spPr>
            <a:xfrm>
              <a:off x="6553080" y="4927680"/>
              <a:ext cx="0" cy="4064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3809880" y="5029200"/>
              <a:ext cx="0" cy="3049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9" name=""/>
          <p:cNvGrpSpPr/>
          <p:nvPr/>
        </p:nvGrpSpPr>
        <p:grpSpPr>
          <a:xfrm>
            <a:off x="4191120" y="5410080"/>
            <a:ext cx="1980720" cy="459720"/>
            <a:chOff x="4191120" y="5410080"/>
            <a:chExt cx="1980720" cy="459720"/>
          </a:xfrm>
        </p:grpSpPr>
        <p:sp>
          <p:nvSpPr>
            <p:cNvPr id="3910" name=""/>
            <p:cNvSpPr/>
            <p:nvPr/>
          </p:nvSpPr>
          <p:spPr>
            <a:xfrm>
              <a:off x="4191120" y="54100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- </a:t>
              </a:r>
              <a:r>
                <a:rPr b="1" i="1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257800" y="54100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- </a:t>
              </a:r>
              <a:r>
                <a:rPr b="1" i="1" lang="en-GB" sz="1800" spc="-1" strike="noStrike">
                  <a:solidFill>
                    <a:srgbClr val="ff3300"/>
                  </a:solidFill>
                  <a:latin typeface="Times New Roman"/>
                </a:rPr>
                <a:t>1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2" name=""/>
          <p:cNvGrpSpPr/>
          <p:nvPr/>
        </p:nvGrpSpPr>
        <p:grpSpPr>
          <a:xfrm>
            <a:off x="4038480" y="5715000"/>
            <a:ext cx="2209680" cy="459720"/>
            <a:chOff x="4038480" y="5715000"/>
            <a:chExt cx="2209680" cy="459720"/>
          </a:xfrm>
        </p:grpSpPr>
        <p:sp>
          <p:nvSpPr>
            <p:cNvPr id="3913" name=""/>
            <p:cNvSpPr/>
            <p:nvPr/>
          </p:nvSpPr>
          <p:spPr>
            <a:xfrm>
              <a:off x="403848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- </a:t>
              </a:r>
              <a:r>
                <a:rPr b="1" i="1" lang="en-GB" sz="1800" spc="-1" strike="noStrike">
                  <a:solidFill>
                    <a:srgbClr val="ff33cc"/>
                  </a:solidFill>
                  <a:latin typeface="Times New Roman"/>
                </a:rPr>
                <a:t>2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5333760" y="5715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- </a:t>
              </a:r>
              <a:r>
                <a:rPr b="1" i="1" lang="en-GB" sz="1800" spc="-1" strike="noStrike">
                  <a:solidFill>
                    <a:srgbClr val="ff33cc"/>
                  </a:solidFill>
                  <a:latin typeface="Times New Roman"/>
                </a:rPr>
                <a:t>2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5" name=""/>
          <p:cNvGrpSpPr/>
          <p:nvPr/>
        </p:nvGrpSpPr>
        <p:grpSpPr>
          <a:xfrm>
            <a:off x="3733920" y="6019920"/>
            <a:ext cx="2818800" cy="459720"/>
            <a:chOff x="3733920" y="6019920"/>
            <a:chExt cx="2818800" cy="459720"/>
          </a:xfrm>
        </p:grpSpPr>
        <p:sp>
          <p:nvSpPr>
            <p:cNvPr id="3916" name=""/>
            <p:cNvSpPr/>
            <p:nvPr/>
          </p:nvSpPr>
          <p:spPr>
            <a:xfrm>
              <a:off x="3733920" y="601992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- </a:t>
              </a:r>
              <a:r>
                <a:rPr b="1" i="1" lang="en-GB" sz="1800" spc="-1" strike="noStrike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5638680" y="601992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- </a:t>
              </a:r>
              <a:r>
                <a:rPr b="1" i="1" lang="en-GB" sz="1800" spc="-1" strike="noStrike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en-GB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8" name=""/>
          <p:cNvSpPr/>
          <p:nvPr/>
        </p:nvSpPr>
        <p:spPr>
          <a:xfrm>
            <a:off x="1981080" y="1752480"/>
            <a:ext cx="6400800" cy="3581640"/>
          </a:xfrm>
          <a:custGeom>
            <a:avLst/>
            <a:gdLst/>
            <a:ahLst/>
            <a:rect l="l" t="t" r="r" b="b"/>
            <a:pathLst>
              <a:path w="3148" h="2356">
                <a:moveTo>
                  <a:pt x="0" y="2355"/>
                </a:moveTo>
                <a:lnTo>
                  <a:pt x="0" y="2355"/>
                </a:lnTo>
                <a:lnTo>
                  <a:pt x="7" y="2355"/>
                </a:lnTo>
                <a:lnTo>
                  <a:pt x="19" y="2355"/>
                </a:lnTo>
                <a:lnTo>
                  <a:pt x="30" y="2355"/>
                </a:lnTo>
                <a:lnTo>
                  <a:pt x="42" y="2355"/>
                </a:lnTo>
                <a:lnTo>
                  <a:pt x="53" y="2355"/>
                </a:lnTo>
                <a:lnTo>
                  <a:pt x="65" y="2355"/>
                </a:lnTo>
                <a:lnTo>
                  <a:pt x="72" y="2355"/>
                </a:lnTo>
                <a:lnTo>
                  <a:pt x="84" y="2355"/>
                </a:lnTo>
                <a:lnTo>
                  <a:pt x="95" y="2355"/>
                </a:lnTo>
                <a:lnTo>
                  <a:pt x="107" y="2355"/>
                </a:lnTo>
                <a:lnTo>
                  <a:pt x="118" y="2355"/>
                </a:lnTo>
                <a:lnTo>
                  <a:pt x="130" y="2355"/>
                </a:lnTo>
                <a:lnTo>
                  <a:pt x="141" y="2355"/>
                </a:lnTo>
                <a:lnTo>
                  <a:pt x="149" y="2355"/>
                </a:lnTo>
                <a:lnTo>
                  <a:pt x="160" y="2355"/>
                </a:lnTo>
                <a:lnTo>
                  <a:pt x="172" y="2355"/>
                </a:lnTo>
                <a:lnTo>
                  <a:pt x="183" y="2355"/>
                </a:lnTo>
                <a:lnTo>
                  <a:pt x="195" y="2355"/>
                </a:lnTo>
                <a:lnTo>
                  <a:pt x="206" y="2355"/>
                </a:lnTo>
                <a:lnTo>
                  <a:pt x="214" y="2355"/>
                </a:lnTo>
                <a:lnTo>
                  <a:pt x="225" y="2355"/>
                </a:lnTo>
                <a:lnTo>
                  <a:pt x="237" y="2355"/>
                </a:lnTo>
                <a:lnTo>
                  <a:pt x="248" y="2355"/>
                </a:lnTo>
                <a:lnTo>
                  <a:pt x="260" y="2355"/>
                </a:lnTo>
                <a:lnTo>
                  <a:pt x="271" y="2355"/>
                </a:lnTo>
                <a:lnTo>
                  <a:pt x="279" y="2355"/>
                </a:lnTo>
                <a:lnTo>
                  <a:pt x="290" y="2355"/>
                </a:lnTo>
                <a:lnTo>
                  <a:pt x="302" y="2355"/>
                </a:lnTo>
                <a:lnTo>
                  <a:pt x="313" y="2355"/>
                </a:lnTo>
                <a:lnTo>
                  <a:pt x="325" y="2355"/>
                </a:lnTo>
                <a:lnTo>
                  <a:pt x="336" y="2355"/>
                </a:lnTo>
                <a:lnTo>
                  <a:pt x="344" y="2355"/>
                </a:lnTo>
                <a:lnTo>
                  <a:pt x="355" y="2355"/>
                </a:lnTo>
                <a:lnTo>
                  <a:pt x="367" y="2355"/>
                </a:lnTo>
                <a:lnTo>
                  <a:pt x="378" y="2355"/>
                </a:lnTo>
                <a:lnTo>
                  <a:pt x="390" y="2355"/>
                </a:lnTo>
                <a:lnTo>
                  <a:pt x="401" y="2355"/>
                </a:lnTo>
                <a:lnTo>
                  <a:pt x="409" y="2355"/>
                </a:lnTo>
                <a:lnTo>
                  <a:pt x="420" y="2355"/>
                </a:lnTo>
                <a:lnTo>
                  <a:pt x="432" y="2355"/>
                </a:lnTo>
                <a:lnTo>
                  <a:pt x="443" y="2355"/>
                </a:lnTo>
                <a:lnTo>
                  <a:pt x="455" y="2355"/>
                </a:lnTo>
                <a:lnTo>
                  <a:pt x="466" y="2355"/>
                </a:lnTo>
                <a:lnTo>
                  <a:pt x="474" y="2355"/>
                </a:lnTo>
                <a:lnTo>
                  <a:pt x="485" y="2355"/>
                </a:lnTo>
                <a:lnTo>
                  <a:pt x="497" y="2355"/>
                </a:lnTo>
                <a:lnTo>
                  <a:pt x="508" y="2355"/>
                </a:lnTo>
                <a:lnTo>
                  <a:pt x="520" y="2355"/>
                </a:lnTo>
                <a:lnTo>
                  <a:pt x="531" y="2355"/>
                </a:lnTo>
                <a:lnTo>
                  <a:pt x="542" y="2346"/>
                </a:lnTo>
                <a:lnTo>
                  <a:pt x="550" y="2346"/>
                </a:lnTo>
                <a:lnTo>
                  <a:pt x="562" y="2346"/>
                </a:lnTo>
                <a:lnTo>
                  <a:pt x="573" y="2346"/>
                </a:lnTo>
                <a:lnTo>
                  <a:pt x="585" y="2346"/>
                </a:lnTo>
                <a:lnTo>
                  <a:pt x="596" y="2346"/>
                </a:lnTo>
                <a:lnTo>
                  <a:pt x="607" y="2346"/>
                </a:lnTo>
                <a:lnTo>
                  <a:pt x="607" y="2334"/>
                </a:lnTo>
                <a:lnTo>
                  <a:pt x="615" y="2334"/>
                </a:lnTo>
                <a:lnTo>
                  <a:pt x="627" y="2334"/>
                </a:lnTo>
                <a:lnTo>
                  <a:pt x="638" y="2334"/>
                </a:lnTo>
                <a:lnTo>
                  <a:pt x="650" y="2334"/>
                </a:lnTo>
                <a:lnTo>
                  <a:pt x="661" y="2322"/>
                </a:lnTo>
                <a:lnTo>
                  <a:pt x="672" y="2322"/>
                </a:lnTo>
                <a:lnTo>
                  <a:pt x="680" y="2322"/>
                </a:lnTo>
                <a:lnTo>
                  <a:pt x="692" y="2310"/>
                </a:lnTo>
                <a:lnTo>
                  <a:pt x="703" y="2310"/>
                </a:lnTo>
                <a:lnTo>
                  <a:pt x="715" y="2310"/>
                </a:lnTo>
                <a:lnTo>
                  <a:pt x="715" y="2297"/>
                </a:lnTo>
                <a:lnTo>
                  <a:pt x="726" y="2297"/>
                </a:lnTo>
                <a:lnTo>
                  <a:pt x="737" y="2297"/>
                </a:lnTo>
                <a:lnTo>
                  <a:pt x="737" y="2285"/>
                </a:lnTo>
                <a:lnTo>
                  <a:pt x="745" y="2285"/>
                </a:lnTo>
                <a:lnTo>
                  <a:pt x="757" y="2277"/>
                </a:lnTo>
                <a:lnTo>
                  <a:pt x="768" y="2277"/>
                </a:lnTo>
                <a:lnTo>
                  <a:pt x="768" y="2265"/>
                </a:lnTo>
                <a:lnTo>
                  <a:pt x="780" y="2265"/>
                </a:lnTo>
                <a:lnTo>
                  <a:pt x="791" y="2252"/>
                </a:lnTo>
                <a:lnTo>
                  <a:pt x="803" y="2240"/>
                </a:lnTo>
                <a:lnTo>
                  <a:pt x="810" y="2240"/>
                </a:lnTo>
                <a:lnTo>
                  <a:pt x="810" y="2228"/>
                </a:lnTo>
                <a:lnTo>
                  <a:pt x="822" y="2228"/>
                </a:lnTo>
                <a:lnTo>
                  <a:pt x="822" y="2215"/>
                </a:lnTo>
                <a:lnTo>
                  <a:pt x="833" y="2215"/>
                </a:lnTo>
                <a:lnTo>
                  <a:pt x="833" y="2207"/>
                </a:lnTo>
                <a:lnTo>
                  <a:pt x="845" y="2207"/>
                </a:lnTo>
                <a:lnTo>
                  <a:pt x="845" y="2195"/>
                </a:lnTo>
                <a:lnTo>
                  <a:pt x="856" y="2195"/>
                </a:lnTo>
                <a:lnTo>
                  <a:pt x="856" y="2183"/>
                </a:lnTo>
                <a:lnTo>
                  <a:pt x="868" y="2183"/>
                </a:lnTo>
                <a:lnTo>
                  <a:pt x="868" y="2171"/>
                </a:lnTo>
                <a:lnTo>
                  <a:pt x="868" y="2158"/>
                </a:lnTo>
                <a:lnTo>
                  <a:pt x="879" y="2158"/>
                </a:lnTo>
                <a:lnTo>
                  <a:pt x="879" y="2146"/>
                </a:lnTo>
                <a:lnTo>
                  <a:pt x="887" y="2146"/>
                </a:lnTo>
                <a:lnTo>
                  <a:pt x="887" y="2134"/>
                </a:lnTo>
                <a:lnTo>
                  <a:pt x="898" y="2126"/>
                </a:lnTo>
                <a:lnTo>
                  <a:pt x="898" y="2113"/>
                </a:lnTo>
                <a:lnTo>
                  <a:pt x="910" y="2113"/>
                </a:lnTo>
                <a:lnTo>
                  <a:pt x="910" y="2101"/>
                </a:lnTo>
                <a:lnTo>
                  <a:pt x="910" y="2089"/>
                </a:lnTo>
                <a:lnTo>
                  <a:pt x="921" y="2089"/>
                </a:lnTo>
                <a:lnTo>
                  <a:pt x="921" y="2076"/>
                </a:lnTo>
                <a:lnTo>
                  <a:pt x="933" y="2064"/>
                </a:lnTo>
                <a:lnTo>
                  <a:pt x="933" y="2056"/>
                </a:lnTo>
                <a:lnTo>
                  <a:pt x="944" y="2044"/>
                </a:lnTo>
                <a:lnTo>
                  <a:pt x="944" y="2032"/>
                </a:lnTo>
                <a:lnTo>
                  <a:pt x="952" y="2032"/>
                </a:lnTo>
                <a:lnTo>
                  <a:pt x="952" y="2019"/>
                </a:lnTo>
                <a:lnTo>
                  <a:pt x="963" y="2007"/>
                </a:lnTo>
                <a:lnTo>
                  <a:pt x="963" y="1995"/>
                </a:lnTo>
                <a:lnTo>
                  <a:pt x="963" y="1987"/>
                </a:lnTo>
                <a:lnTo>
                  <a:pt x="975" y="1974"/>
                </a:lnTo>
                <a:lnTo>
                  <a:pt x="975" y="1962"/>
                </a:lnTo>
                <a:lnTo>
                  <a:pt x="986" y="1962"/>
                </a:lnTo>
                <a:lnTo>
                  <a:pt x="986" y="1950"/>
                </a:lnTo>
                <a:lnTo>
                  <a:pt x="986" y="1937"/>
                </a:lnTo>
                <a:lnTo>
                  <a:pt x="998" y="1925"/>
                </a:lnTo>
                <a:lnTo>
                  <a:pt x="998" y="1913"/>
                </a:lnTo>
                <a:lnTo>
                  <a:pt x="998" y="1905"/>
                </a:lnTo>
                <a:lnTo>
                  <a:pt x="1009" y="1905"/>
                </a:lnTo>
                <a:lnTo>
                  <a:pt x="1009" y="1892"/>
                </a:lnTo>
                <a:lnTo>
                  <a:pt x="1009" y="1880"/>
                </a:lnTo>
                <a:lnTo>
                  <a:pt x="1017" y="1868"/>
                </a:lnTo>
                <a:lnTo>
                  <a:pt x="1017" y="1856"/>
                </a:lnTo>
                <a:lnTo>
                  <a:pt x="1017" y="1843"/>
                </a:lnTo>
                <a:lnTo>
                  <a:pt x="1028" y="1843"/>
                </a:lnTo>
                <a:lnTo>
                  <a:pt x="1028" y="1835"/>
                </a:lnTo>
                <a:lnTo>
                  <a:pt x="1028" y="1823"/>
                </a:lnTo>
                <a:lnTo>
                  <a:pt x="1028" y="1811"/>
                </a:lnTo>
                <a:lnTo>
                  <a:pt x="1040" y="1798"/>
                </a:lnTo>
                <a:lnTo>
                  <a:pt x="1040" y="1786"/>
                </a:lnTo>
                <a:lnTo>
                  <a:pt x="1051" y="1774"/>
                </a:lnTo>
                <a:lnTo>
                  <a:pt x="1051" y="1766"/>
                </a:lnTo>
                <a:lnTo>
                  <a:pt x="1051" y="1753"/>
                </a:lnTo>
                <a:lnTo>
                  <a:pt x="1063" y="1741"/>
                </a:lnTo>
                <a:lnTo>
                  <a:pt x="1063" y="1729"/>
                </a:lnTo>
                <a:lnTo>
                  <a:pt x="1063" y="1717"/>
                </a:lnTo>
                <a:lnTo>
                  <a:pt x="1074" y="1704"/>
                </a:lnTo>
                <a:lnTo>
                  <a:pt x="1074" y="1692"/>
                </a:lnTo>
                <a:lnTo>
                  <a:pt x="1074" y="1684"/>
                </a:lnTo>
                <a:lnTo>
                  <a:pt x="1082" y="1672"/>
                </a:lnTo>
                <a:lnTo>
                  <a:pt x="1082" y="1659"/>
                </a:lnTo>
                <a:lnTo>
                  <a:pt x="1082" y="1647"/>
                </a:lnTo>
                <a:lnTo>
                  <a:pt x="1082" y="1635"/>
                </a:lnTo>
                <a:lnTo>
                  <a:pt x="1093" y="1623"/>
                </a:lnTo>
                <a:lnTo>
                  <a:pt x="1093" y="1614"/>
                </a:lnTo>
                <a:lnTo>
                  <a:pt x="1093" y="1602"/>
                </a:lnTo>
                <a:lnTo>
                  <a:pt x="1105" y="1590"/>
                </a:lnTo>
                <a:lnTo>
                  <a:pt x="1105" y="1578"/>
                </a:lnTo>
                <a:lnTo>
                  <a:pt x="1105" y="1565"/>
                </a:lnTo>
                <a:lnTo>
                  <a:pt x="1105" y="1553"/>
                </a:lnTo>
                <a:lnTo>
                  <a:pt x="1116" y="1545"/>
                </a:lnTo>
                <a:lnTo>
                  <a:pt x="1116" y="1533"/>
                </a:lnTo>
                <a:lnTo>
                  <a:pt x="1116" y="1520"/>
                </a:lnTo>
                <a:lnTo>
                  <a:pt x="1128" y="1508"/>
                </a:lnTo>
                <a:lnTo>
                  <a:pt x="1128" y="1496"/>
                </a:lnTo>
                <a:lnTo>
                  <a:pt x="1128" y="1484"/>
                </a:lnTo>
                <a:lnTo>
                  <a:pt x="1128" y="1471"/>
                </a:lnTo>
                <a:lnTo>
                  <a:pt x="1139" y="1463"/>
                </a:lnTo>
                <a:lnTo>
                  <a:pt x="1139" y="1451"/>
                </a:lnTo>
                <a:lnTo>
                  <a:pt x="1139" y="1439"/>
                </a:lnTo>
                <a:lnTo>
                  <a:pt x="1147" y="1426"/>
                </a:lnTo>
                <a:lnTo>
                  <a:pt x="1147" y="1402"/>
                </a:lnTo>
                <a:lnTo>
                  <a:pt x="1147" y="1394"/>
                </a:lnTo>
                <a:lnTo>
                  <a:pt x="1147" y="1381"/>
                </a:lnTo>
                <a:lnTo>
                  <a:pt x="1158" y="1369"/>
                </a:lnTo>
                <a:lnTo>
                  <a:pt x="1158" y="1357"/>
                </a:lnTo>
                <a:lnTo>
                  <a:pt x="1158" y="1345"/>
                </a:lnTo>
                <a:lnTo>
                  <a:pt x="1170" y="1332"/>
                </a:lnTo>
                <a:lnTo>
                  <a:pt x="1170" y="1324"/>
                </a:lnTo>
                <a:lnTo>
                  <a:pt x="1170" y="1300"/>
                </a:lnTo>
                <a:lnTo>
                  <a:pt x="1181" y="1287"/>
                </a:lnTo>
                <a:lnTo>
                  <a:pt x="1181" y="1275"/>
                </a:lnTo>
                <a:lnTo>
                  <a:pt x="1181" y="1263"/>
                </a:lnTo>
                <a:lnTo>
                  <a:pt x="1181" y="1251"/>
                </a:lnTo>
                <a:lnTo>
                  <a:pt x="1193" y="1242"/>
                </a:lnTo>
                <a:lnTo>
                  <a:pt x="1193" y="1218"/>
                </a:lnTo>
                <a:lnTo>
                  <a:pt x="1193" y="1206"/>
                </a:lnTo>
                <a:lnTo>
                  <a:pt x="1204" y="1193"/>
                </a:lnTo>
                <a:lnTo>
                  <a:pt x="1204" y="1181"/>
                </a:lnTo>
                <a:lnTo>
                  <a:pt x="1204" y="1173"/>
                </a:lnTo>
                <a:lnTo>
                  <a:pt x="1204" y="1148"/>
                </a:lnTo>
                <a:lnTo>
                  <a:pt x="1212" y="1136"/>
                </a:lnTo>
                <a:lnTo>
                  <a:pt x="1212" y="1124"/>
                </a:lnTo>
                <a:lnTo>
                  <a:pt x="1212" y="1112"/>
                </a:lnTo>
                <a:lnTo>
                  <a:pt x="1223" y="1103"/>
                </a:lnTo>
                <a:lnTo>
                  <a:pt x="1223" y="1079"/>
                </a:lnTo>
                <a:lnTo>
                  <a:pt x="1223" y="1067"/>
                </a:lnTo>
                <a:lnTo>
                  <a:pt x="1223" y="1054"/>
                </a:lnTo>
                <a:lnTo>
                  <a:pt x="1235" y="1042"/>
                </a:lnTo>
                <a:lnTo>
                  <a:pt x="1235" y="1022"/>
                </a:lnTo>
                <a:lnTo>
                  <a:pt x="1235" y="1009"/>
                </a:lnTo>
                <a:lnTo>
                  <a:pt x="1246" y="997"/>
                </a:lnTo>
                <a:lnTo>
                  <a:pt x="1246" y="985"/>
                </a:lnTo>
                <a:lnTo>
                  <a:pt x="1246" y="960"/>
                </a:lnTo>
                <a:lnTo>
                  <a:pt x="1246" y="952"/>
                </a:lnTo>
                <a:lnTo>
                  <a:pt x="1258" y="940"/>
                </a:lnTo>
                <a:lnTo>
                  <a:pt x="1258" y="928"/>
                </a:lnTo>
                <a:lnTo>
                  <a:pt x="1258" y="915"/>
                </a:lnTo>
                <a:lnTo>
                  <a:pt x="1269" y="891"/>
                </a:lnTo>
                <a:lnTo>
                  <a:pt x="1269" y="883"/>
                </a:lnTo>
                <a:lnTo>
                  <a:pt x="1269" y="870"/>
                </a:lnTo>
                <a:lnTo>
                  <a:pt x="1269" y="858"/>
                </a:lnTo>
                <a:lnTo>
                  <a:pt x="1280" y="834"/>
                </a:lnTo>
                <a:lnTo>
                  <a:pt x="1280" y="821"/>
                </a:lnTo>
                <a:lnTo>
                  <a:pt x="1280" y="809"/>
                </a:lnTo>
                <a:lnTo>
                  <a:pt x="1288" y="801"/>
                </a:lnTo>
                <a:lnTo>
                  <a:pt x="1288" y="776"/>
                </a:lnTo>
                <a:lnTo>
                  <a:pt x="1288" y="764"/>
                </a:lnTo>
                <a:lnTo>
                  <a:pt x="1300" y="752"/>
                </a:lnTo>
                <a:lnTo>
                  <a:pt x="1300" y="740"/>
                </a:lnTo>
                <a:lnTo>
                  <a:pt x="1300" y="731"/>
                </a:lnTo>
                <a:lnTo>
                  <a:pt x="1300" y="707"/>
                </a:lnTo>
                <a:lnTo>
                  <a:pt x="1311" y="695"/>
                </a:lnTo>
                <a:lnTo>
                  <a:pt x="1311" y="682"/>
                </a:lnTo>
                <a:lnTo>
                  <a:pt x="1311" y="670"/>
                </a:lnTo>
                <a:lnTo>
                  <a:pt x="1323" y="662"/>
                </a:lnTo>
                <a:lnTo>
                  <a:pt x="1323" y="637"/>
                </a:lnTo>
                <a:lnTo>
                  <a:pt x="1323" y="625"/>
                </a:lnTo>
                <a:lnTo>
                  <a:pt x="1323" y="613"/>
                </a:lnTo>
                <a:lnTo>
                  <a:pt x="1334" y="601"/>
                </a:lnTo>
                <a:lnTo>
                  <a:pt x="1334" y="588"/>
                </a:lnTo>
                <a:lnTo>
                  <a:pt x="1334" y="580"/>
                </a:lnTo>
                <a:lnTo>
                  <a:pt x="1345" y="556"/>
                </a:lnTo>
                <a:lnTo>
                  <a:pt x="1345" y="543"/>
                </a:lnTo>
                <a:lnTo>
                  <a:pt x="1345" y="531"/>
                </a:lnTo>
                <a:lnTo>
                  <a:pt x="1345" y="519"/>
                </a:lnTo>
                <a:lnTo>
                  <a:pt x="1353" y="511"/>
                </a:lnTo>
                <a:lnTo>
                  <a:pt x="1353" y="498"/>
                </a:lnTo>
                <a:lnTo>
                  <a:pt x="1353" y="486"/>
                </a:lnTo>
                <a:lnTo>
                  <a:pt x="1365" y="474"/>
                </a:lnTo>
                <a:lnTo>
                  <a:pt x="1365" y="449"/>
                </a:lnTo>
                <a:lnTo>
                  <a:pt x="1365" y="441"/>
                </a:lnTo>
                <a:lnTo>
                  <a:pt x="1365" y="429"/>
                </a:lnTo>
                <a:lnTo>
                  <a:pt x="1376" y="417"/>
                </a:lnTo>
                <a:lnTo>
                  <a:pt x="1376" y="404"/>
                </a:lnTo>
                <a:lnTo>
                  <a:pt x="1376" y="392"/>
                </a:lnTo>
                <a:lnTo>
                  <a:pt x="1388" y="380"/>
                </a:lnTo>
                <a:lnTo>
                  <a:pt x="1388" y="367"/>
                </a:lnTo>
                <a:lnTo>
                  <a:pt x="1388" y="359"/>
                </a:lnTo>
                <a:lnTo>
                  <a:pt x="1388" y="347"/>
                </a:lnTo>
                <a:lnTo>
                  <a:pt x="1399" y="335"/>
                </a:lnTo>
                <a:lnTo>
                  <a:pt x="1399" y="322"/>
                </a:lnTo>
                <a:lnTo>
                  <a:pt x="1399" y="310"/>
                </a:lnTo>
                <a:lnTo>
                  <a:pt x="1410" y="298"/>
                </a:lnTo>
                <a:lnTo>
                  <a:pt x="1410" y="290"/>
                </a:lnTo>
                <a:lnTo>
                  <a:pt x="1410" y="278"/>
                </a:lnTo>
                <a:lnTo>
                  <a:pt x="1418" y="278"/>
                </a:lnTo>
                <a:lnTo>
                  <a:pt x="1418" y="265"/>
                </a:lnTo>
                <a:lnTo>
                  <a:pt x="1418" y="253"/>
                </a:lnTo>
                <a:lnTo>
                  <a:pt x="1418" y="241"/>
                </a:lnTo>
                <a:lnTo>
                  <a:pt x="1430" y="228"/>
                </a:lnTo>
                <a:lnTo>
                  <a:pt x="1430" y="220"/>
                </a:lnTo>
                <a:lnTo>
                  <a:pt x="1430" y="208"/>
                </a:lnTo>
                <a:lnTo>
                  <a:pt x="1441" y="208"/>
                </a:lnTo>
                <a:lnTo>
                  <a:pt x="1441" y="196"/>
                </a:lnTo>
                <a:lnTo>
                  <a:pt x="1441" y="183"/>
                </a:lnTo>
                <a:lnTo>
                  <a:pt x="1441" y="171"/>
                </a:lnTo>
                <a:lnTo>
                  <a:pt x="1453" y="171"/>
                </a:lnTo>
                <a:lnTo>
                  <a:pt x="1453" y="159"/>
                </a:lnTo>
                <a:lnTo>
                  <a:pt x="1453" y="147"/>
                </a:lnTo>
                <a:lnTo>
                  <a:pt x="1464" y="139"/>
                </a:lnTo>
                <a:lnTo>
                  <a:pt x="1464" y="126"/>
                </a:lnTo>
                <a:lnTo>
                  <a:pt x="1464" y="114"/>
                </a:lnTo>
                <a:lnTo>
                  <a:pt x="1475" y="114"/>
                </a:lnTo>
                <a:lnTo>
                  <a:pt x="1475" y="102"/>
                </a:lnTo>
                <a:lnTo>
                  <a:pt x="1483" y="89"/>
                </a:lnTo>
                <a:lnTo>
                  <a:pt x="1483" y="77"/>
                </a:lnTo>
                <a:lnTo>
                  <a:pt x="1483" y="69"/>
                </a:lnTo>
                <a:lnTo>
                  <a:pt x="1495" y="69"/>
                </a:lnTo>
                <a:lnTo>
                  <a:pt x="1495" y="57"/>
                </a:lnTo>
                <a:lnTo>
                  <a:pt x="1506" y="44"/>
                </a:lnTo>
                <a:lnTo>
                  <a:pt x="1506" y="32"/>
                </a:lnTo>
                <a:lnTo>
                  <a:pt x="1518" y="32"/>
                </a:lnTo>
                <a:lnTo>
                  <a:pt x="1518" y="20"/>
                </a:lnTo>
                <a:lnTo>
                  <a:pt x="1529" y="20"/>
                </a:lnTo>
                <a:lnTo>
                  <a:pt x="1529" y="8"/>
                </a:lnTo>
                <a:lnTo>
                  <a:pt x="1540" y="8"/>
                </a:lnTo>
                <a:lnTo>
                  <a:pt x="1540" y="0"/>
                </a:lnTo>
                <a:lnTo>
                  <a:pt x="1548" y="0"/>
                </a:lnTo>
                <a:lnTo>
                  <a:pt x="1560" y="0"/>
                </a:lnTo>
                <a:lnTo>
                  <a:pt x="1571" y="0"/>
                </a:lnTo>
                <a:lnTo>
                  <a:pt x="1583" y="0"/>
                </a:lnTo>
                <a:lnTo>
                  <a:pt x="1594" y="0"/>
                </a:lnTo>
                <a:lnTo>
                  <a:pt x="1606" y="0"/>
                </a:lnTo>
                <a:lnTo>
                  <a:pt x="1606" y="8"/>
                </a:lnTo>
                <a:lnTo>
                  <a:pt x="1617" y="8"/>
                </a:lnTo>
                <a:lnTo>
                  <a:pt x="1617" y="20"/>
                </a:lnTo>
                <a:lnTo>
                  <a:pt x="1625" y="20"/>
                </a:lnTo>
                <a:lnTo>
                  <a:pt x="1625" y="32"/>
                </a:lnTo>
                <a:lnTo>
                  <a:pt x="1636" y="32"/>
                </a:lnTo>
                <a:lnTo>
                  <a:pt x="1636" y="44"/>
                </a:lnTo>
                <a:lnTo>
                  <a:pt x="1648" y="57"/>
                </a:lnTo>
                <a:lnTo>
                  <a:pt x="1648" y="69"/>
                </a:lnTo>
                <a:lnTo>
                  <a:pt x="1659" y="69"/>
                </a:lnTo>
                <a:lnTo>
                  <a:pt x="1659" y="77"/>
                </a:lnTo>
                <a:lnTo>
                  <a:pt x="1659" y="89"/>
                </a:lnTo>
                <a:lnTo>
                  <a:pt x="1671" y="102"/>
                </a:lnTo>
                <a:lnTo>
                  <a:pt x="1671" y="114"/>
                </a:lnTo>
                <a:lnTo>
                  <a:pt x="1682" y="114"/>
                </a:lnTo>
                <a:lnTo>
                  <a:pt x="1682" y="126"/>
                </a:lnTo>
                <a:lnTo>
                  <a:pt x="1682" y="139"/>
                </a:lnTo>
                <a:lnTo>
                  <a:pt x="1690" y="147"/>
                </a:lnTo>
                <a:lnTo>
                  <a:pt x="1690" y="159"/>
                </a:lnTo>
                <a:lnTo>
                  <a:pt x="1690" y="171"/>
                </a:lnTo>
                <a:lnTo>
                  <a:pt x="1701" y="171"/>
                </a:lnTo>
                <a:lnTo>
                  <a:pt x="1701" y="183"/>
                </a:lnTo>
                <a:lnTo>
                  <a:pt x="1701" y="196"/>
                </a:lnTo>
                <a:lnTo>
                  <a:pt x="1701" y="208"/>
                </a:lnTo>
                <a:lnTo>
                  <a:pt x="1713" y="208"/>
                </a:lnTo>
                <a:lnTo>
                  <a:pt x="1713" y="220"/>
                </a:lnTo>
                <a:lnTo>
                  <a:pt x="1713" y="228"/>
                </a:lnTo>
                <a:lnTo>
                  <a:pt x="1724" y="241"/>
                </a:lnTo>
                <a:lnTo>
                  <a:pt x="1724" y="253"/>
                </a:lnTo>
                <a:lnTo>
                  <a:pt x="1724" y="265"/>
                </a:lnTo>
                <a:lnTo>
                  <a:pt x="1724" y="278"/>
                </a:lnTo>
                <a:lnTo>
                  <a:pt x="1736" y="278"/>
                </a:lnTo>
                <a:lnTo>
                  <a:pt x="1736" y="290"/>
                </a:lnTo>
                <a:lnTo>
                  <a:pt x="1736" y="298"/>
                </a:lnTo>
                <a:lnTo>
                  <a:pt x="1747" y="310"/>
                </a:lnTo>
                <a:lnTo>
                  <a:pt x="1747" y="322"/>
                </a:lnTo>
                <a:lnTo>
                  <a:pt x="1747" y="335"/>
                </a:lnTo>
                <a:lnTo>
                  <a:pt x="1755" y="347"/>
                </a:lnTo>
                <a:lnTo>
                  <a:pt x="1755" y="359"/>
                </a:lnTo>
                <a:lnTo>
                  <a:pt x="1755" y="367"/>
                </a:lnTo>
                <a:lnTo>
                  <a:pt x="1755" y="380"/>
                </a:lnTo>
                <a:lnTo>
                  <a:pt x="1766" y="392"/>
                </a:lnTo>
                <a:lnTo>
                  <a:pt x="1766" y="404"/>
                </a:lnTo>
                <a:lnTo>
                  <a:pt x="1766" y="417"/>
                </a:lnTo>
                <a:lnTo>
                  <a:pt x="1778" y="429"/>
                </a:lnTo>
                <a:lnTo>
                  <a:pt x="1778" y="441"/>
                </a:lnTo>
                <a:lnTo>
                  <a:pt x="1778" y="449"/>
                </a:lnTo>
                <a:lnTo>
                  <a:pt x="1778" y="474"/>
                </a:lnTo>
                <a:lnTo>
                  <a:pt x="1789" y="486"/>
                </a:lnTo>
                <a:lnTo>
                  <a:pt x="1789" y="498"/>
                </a:lnTo>
                <a:lnTo>
                  <a:pt x="1789" y="511"/>
                </a:lnTo>
                <a:lnTo>
                  <a:pt x="1801" y="519"/>
                </a:lnTo>
                <a:lnTo>
                  <a:pt x="1801" y="531"/>
                </a:lnTo>
                <a:lnTo>
                  <a:pt x="1801" y="543"/>
                </a:lnTo>
                <a:lnTo>
                  <a:pt x="1801" y="556"/>
                </a:lnTo>
                <a:lnTo>
                  <a:pt x="1812" y="580"/>
                </a:lnTo>
                <a:lnTo>
                  <a:pt x="1812" y="588"/>
                </a:lnTo>
                <a:lnTo>
                  <a:pt x="1812" y="601"/>
                </a:lnTo>
                <a:lnTo>
                  <a:pt x="1820" y="613"/>
                </a:lnTo>
                <a:lnTo>
                  <a:pt x="1820" y="625"/>
                </a:lnTo>
                <a:lnTo>
                  <a:pt x="1820" y="637"/>
                </a:lnTo>
                <a:lnTo>
                  <a:pt x="1820" y="662"/>
                </a:lnTo>
                <a:lnTo>
                  <a:pt x="1831" y="670"/>
                </a:lnTo>
                <a:lnTo>
                  <a:pt x="1831" y="682"/>
                </a:lnTo>
                <a:lnTo>
                  <a:pt x="1831" y="695"/>
                </a:lnTo>
                <a:lnTo>
                  <a:pt x="1843" y="707"/>
                </a:lnTo>
                <a:lnTo>
                  <a:pt x="1843" y="731"/>
                </a:lnTo>
                <a:lnTo>
                  <a:pt x="1843" y="740"/>
                </a:lnTo>
                <a:lnTo>
                  <a:pt x="1843" y="752"/>
                </a:lnTo>
                <a:lnTo>
                  <a:pt x="1854" y="764"/>
                </a:lnTo>
                <a:lnTo>
                  <a:pt x="1854" y="776"/>
                </a:lnTo>
                <a:lnTo>
                  <a:pt x="1854" y="801"/>
                </a:lnTo>
                <a:lnTo>
                  <a:pt x="1866" y="809"/>
                </a:lnTo>
                <a:lnTo>
                  <a:pt x="1866" y="821"/>
                </a:lnTo>
                <a:lnTo>
                  <a:pt x="1866" y="834"/>
                </a:lnTo>
                <a:lnTo>
                  <a:pt x="1877" y="858"/>
                </a:lnTo>
                <a:lnTo>
                  <a:pt x="1877" y="870"/>
                </a:lnTo>
                <a:lnTo>
                  <a:pt x="1877" y="883"/>
                </a:lnTo>
                <a:lnTo>
                  <a:pt x="1877" y="891"/>
                </a:lnTo>
                <a:lnTo>
                  <a:pt x="1885" y="915"/>
                </a:lnTo>
                <a:lnTo>
                  <a:pt x="1885" y="928"/>
                </a:lnTo>
                <a:lnTo>
                  <a:pt x="1885" y="940"/>
                </a:lnTo>
                <a:lnTo>
                  <a:pt x="1896" y="952"/>
                </a:lnTo>
                <a:lnTo>
                  <a:pt x="1896" y="960"/>
                </a:lnTo>
                <a:lnTo>
                  <a:pt x="1896" y="985"/>
                </a:lnTo>
                <a:lnTo>
                  <a:pt x="1896" y="997"/>
                </a:lnTo>
                <a:lnTo>
                  <a:pt x="1908" y="1009"/>
                </a:lnTo>
                <a:lnTo>
                  <a:pt x="1908" y="1022"/>
                </a:lnTo>
                <a:lnTo>
                  <a:pt x="1908" y="1042"/>
                </a:lnTo>
                <a:lnTo>
                  <a:pt x="1919" y="1054"/>
                </a:lnTo>
                <a:lnTo>
                  <a:pt x="1919" y="1067"/>
                </a:lnTo>
                <a:lnTo>
                  <a:pt x="1919" y="1079"/>
                </a:lnTo>
                <a:lnTo>
                  <a:pt x="1919" y="1103"/>
                </a:lnTo>
                <a:lnTo>
                  <a:pt x="1931" y="1112"/>
                </a:lnTo>
                <a:lnTo>
                  <a:pt x="1931" y="1124"/>
                </a:lnTo>
                <a:lnTo>
                  <a:pt x="1931" y="1136"/>
                </a:lnTo>
                <a:lnTo>
                  <a:pt x="1942" y="1148"/>
                </a:lnTo>
                <a:lnTo>
                  <a:pt x="1942" y="1173"/>
                </a:lnTo>
                <a:lnTo>
                  <a:pt x="1942" y="1181"/>
                </a:lnTo>
                <a:lnTo>
                  <a:pt x="1942" y="1193"/>
                </a:lnTo>
                <a:lnTo>
                  <a:pt x="1953" y="1206"/>
                </a:lnTo>
                <a:lnTo>
                  <a:pt x="1953" y="1218"/>
                </a:lnTo>
                <a:lnTo>
                  <a:pt x="1953" y="1242"/>
                </a:lnTo>
                <a:lnTo>
                  <a:pt x="1961" y="1251"/>
                </a:lnTo>
                <a:lnTo>
                  <a:pt x="1961" y="1263"/>
                </a:lnTo>
                <a:lnTo>
                  <a:pt x="1961" y="1275"/>
                </a:lnTo>
                <a:lnTo>
                  <a:pt x="1961" y="1287"/>
                </a:lnTo>
                <a:lnTo>
                  <a:pt x="1973" y="1300"/>
                </a:lnTo>
                <a:lnTo>
                  <a:pt x="1973" y="1324"/>
                </a:lnTo>
                <a:lnTo>
                  <a:pt x="1973" y="1332"/>
                </a:lnTo>
                <a:lnTo>
                  <a:pt x="1984" y="1345"/>
                </a:lnTo>
                <a:lnTo>
                  <a:pt x="1984" y="1357"/>
                </a:lnTo>
                <a:lnTo>
                  <a:pt x="1984" y="1369"/>
                </a:lnTo>
                <a:lnTo>
                  <a:pt x="1996" y="1381"/>
                </a:lnTo>
                <a:lnTo>
                  <a:pt x="1996" y="1394"/>
                </a:lnTo>
                <a:lnTo>
                  <a:pt x="1996" y="1402"/>
                </a:lnTo>
                <a:lnTo>
                  <a:pt x="1996" y="1426"/>
                </a:lnTo>
                <a:lnTo>
                  <a:pt x="2007" y="1439"/>
                </a:lnTo>
                <a:lnTo>
                  <a:pt x="2007" y="1451"/>
                </a:lnTo>
                <a:lnTo>
                  <a:pt x="2007" y="1463"/>
                </a:lnTo>
                <a:lnTo>
                  <a:pt x="2018" y="1471"/>
                </a:lnTo>
                <a:lnTo>
                  <a:pt x="2018" y="1484"/>
                </a:lnTo>
                <a:lnTo>
                  <a:pt x="2018" y="1496"/>
                </a:lnTo>
                <a:lnTo>
                  <a:pt x="2018" y="1508"/>
                </a:lnTo>
                <a:lnTo>
                  <a:pt x="2026" y="1520"/>
                </a:lnTo>
                <a:lnTo>
                  <a:pt x="2026" y="1533"/>
                </a:lnTo>
                <a:lnTo>
                  <a:pt x="2026" y="1545"/>
                </a:lnTo>
                <a:lnTo>
                  <a:pt x="2038" y="1553"/>
                </a:lnTo>
                <a:lnTo>
                  <a:pt x="2038" y="1565"/>
                </a:lnTo>
                <a:lnTo>
                  <a:pt x="2038" y="1578"/>
                </a:lnTo>
                <a:lnTo>
                  <a:pt x="2038" y="1590"/>
                </a:lnTo>
                <a:lnTo>
                  <a:pt x="2049" y="1602"/>
                </a:lnTo>
                <a:lnTo>
                  <a:pt x="2049" y="1614"/>
                </a:lnTo>
                <a:lnTo>
                  <a:pt x="2049" y="1623"/>
                </a:lnTo>
                <a:lnTo>
                  <a:pt x="2061" y="1635"/>
                </a:lnTo>
                <a:lnTo>
                  <a:pt x="2061" y="1647"/>
                </a:lnTo>
                <a:lnTo>
                  <a:pt x="2061" y="1659"/>
                </a:lnTo>
                <a:lnTo>
                  <a:pt x="2061" y="1672"/>
                </a:lnTo>
                <a:lnTo>
                  <a:pt x="2072" y="1684"/>
                </a:lnTo>
                <a:lnTo>
                  <a:pt x="2072" y="1692"/>
                </a:lnTo>
                <a:lnTo>
                  <a:pt x="2072" y="1704"/>
                </a:lnTo>
                <a:lnTo>
                  <a:pt x="2083" y="1717"/>
                </a:lnTo>
                <a:lnTo>
                  <a:pt x="2083" y="1729"/>
                </a:lnTo>
                <a:lnTo>
                  <a:pt x="2083" y="1741"/>
                </a:lnTo>
                <a:lnTo>
                  <a:pt x="2091" y="1753"/>
                </a:lnTo>
                <a:lnTo>
                  <a:pt x="2091" y="1766"/>
                </a:lnTo>
                <a:lnTo>
                  <a:pt x="2091" y="1774"/>
                </a:lnTo>
                <a:lnTo>
                  <a:pt x="2103" y="1786"/>
                </a:lnTo>
                <a:lnTo>
                  <a:pt x="2103" y="1798"/>
                </a:lnTo>
                <a:lnTo>
                  <a:pt x="2114" y="1811"/>
                </a:lnTo>
                <a:lnTo>
                  <a:pt x="2114" y="1823"/>
                </a:lnTo>
                <a:lnTo>
                  <a:pt x="2114" y="1835"/>
                </a:lnTo>
                <a:lnTo>
                  <a:pt x="2114" y="1843"/>
                </a:lnTo>
                <a:lnTo>
                  <a:pt x="2126" y="1843"/>
                </a:lnTo>
                <a:lnTo>
                  <a:pt x="2126" y="1856"/>
                </a:lnTo>
                <a:lnTo>
                  <a:pt x="2126" y="1868"/>
                </a:lnTo>
                <a:lnTo>
                  <a:pt x="2137" y="1880"/>
                </a:lnTo>
                <a:lnTo>
                  <a:pt x="2137" y="1892"/>
                </a:lnTo>
                <a:lnTo>
                  <a:pt x="2137" y="1905"/>
                </a:lnTo>
                <a:lnTo>
                  <a:pt x="2148" y="1905"/>
                </a:lnTo>
                <a:lnTo>
                  <a:pt x="2148" y="1913"/>
                </a:lnTo>
                <a:lnTo>
                  <a:pt x="2148" y="1925"/>
                </a:lnTo>
                <a:lnTo>
                  <a:pt x="2156" y="1937"/>
                </a:lnTo>
                <a:lnTo>
                  <a:pt x="2156" y="1950"/>
                </a:lnTo>
                <a:lnTo>
                  <a:pt x="2156" y="1962"/>
                </a:lnTo>
                <a:lnTo>
                  <a:pt x="2168" y="1962"/>
                </a:lnTo>
                <a:lnTo>
                  <a:pt x="2168" y="1974"/>
                </a:lnTo>
                <a:lnTo>
                  <a:pt x="2179" y="1987"/>
                </a:lnTo>
                <a:lnTo>
                  <a:pt x="2179" y="1995"/>
                </a:lnTo>
                <a:lnTo>
                  <a:pt x="2179" y="2007"/>
                </a:lnTo>
                <a:lnTo>
                  <a:pt x="2191" y="2019"/>
                </a:lnTo>
                <a:lnTo>
                  <a:pt x="2191" y="2032"/>
                </a:lnTo>
                <a:lnTo>
                  <a:pt x="2202" y="2032"/>
                </a:lnTo>
                <a:lnTo>
                  <a:pt x="2202" y="2044"/>
                </a:lnTo>
                <a:lnTo>
                  <a:pt x="2213" y="2056"/>
                </a:lnTo>
                <a:lnTo>
                  <a:pt x="2213" y="2064"/>
                </a:lnTo>
                <a:lnTo>
                  <a:pt x="2221" y="2076"/>
                </a:lnTo>
                <a:lnTo>
                  <a:pt x="2221" y="2089"/>
                </a:lnTo>
                <a:lnTo>
                  <a:pt x="2233" y="2089"/>
                </a:lnTo>
                <a:lnTo>
                  <a:pt x="2233" y="2101"/>
                </a:lnTo>
                <a:lnTo>
                  <a:pt x="2233" y="2113"/>
                </a:lnTo>
                <a:lnTo>
                  <a:pt x="2244" y="2113"/>
                </a:lnTo>
                <a:lnTo>
                  <a:pt x="2244" y="2126"/>
                </a:lnTo>
                <a:lnTo>
                  <a:pt x="2256" y="2134"/>
                </a:lnTo>
                <a:lnTo>
                  <a:pt x="2256" y="2146"/>
                </a:lnTo>
                <a:lnTo>
                  <a:pt x="2267" y="2146"/>
                </a:lnTo>
                <a:lnTo>
                  <a:pt x="2267" y="2158"/>
                </a:lnTo>
                <a:lnTo>
                  <a:pt x="2278" y="2158"/>
                </a:lnTo>
                <a:lnTo>
                  <a:pt x="2278" y="2171"/>
                </a:lnTo>
                <a:lnTo>
                  <a:pt x="2278" y="2183"/>
                </a:lnTo>
                <a:lnTo>
                  <a:pt x="2286" y="2183"/>
                </a:lnTo>
                <a:lnTo>
                  <a:pt x="2286" y="2195"/>
                </a:lnTo>
                <a:lnTo>
                  <a:pt x="2298" y="2195"/>
                </a:lnTo>
                <a:lnTo>
                  <a:pt x="2298" y="2207"/>
                </a:lnTo>
                <a:lnTo>
                  <a:pt x="2309" y="2207"/>
                </a:lnTo>
                <a:lnTo>
                  <a:pt x="2309" y="2215"/>
                </a:lnTo>
                <a:lnTo>
                  <a:pt x="2321" y="2215"/>
                </a:lnTo>
                <a:lnTo>
                  <a:pt x="2321" y="2228"/>
                </a:lnTo>
                <a:lnTo>
                  <a:pt x="2332" y="2228"/>
                </a:lnTo>
                <a:lnTo>
                  <a:pt x="2332" y="2240"/>
                </a:lnTo>
                <a:lnTo>
                  <a:pt x="2343" y="2240"/>
                </a:lnTo>
                <a:lnTo>
                  <a:pt x="2355" y="2252"/>
                </a:lnTo>
                <a:lnTo>
                  <a:pt x="2363" y="2265"/>
                </a:lnTo>
                <a:lnTo>
                  <a:pt x="2374" y="2265"/>
                </a:lnTo>
                <a:lnTo>
                  <a:pt x="2374" y="2277"/>
                </a:lnTo>
                <a:lnTo>
                  <a:pt x="2386" y="2277"/>
                </a:lnTo>
                <a:lnTo>
                  <a:pt x="2397" y="2285"/>
                </a:lnTo>
                <a:lnTo>
                  <a:pt x="2409" y="2285"/>
                </a:lnTo>
                <a:lnTo>
                  <a:pt x="2409" y="2297"/>
                </a:lnTo>
                <a:lnTo>
                  <a:pt x="2420" y="2297"/>
                </a:lnTo>
                <a:lnTo>
                  <a:pt x="2428" y="2297"/>
                </a:lnTo>
                <a:lnTo>
                  <a:pt x="2428" y="2310"/>
                </a:lnTo>
                <a:lnTo>
                  <a:pt x="2439" y="2310"/>
                </a:lnTo>
                <a:lnTo>
                  <a:pt x="2451" y="2310"/>
                </a:lnTo>
                <a:lnTo>
                  <a:pt x="2462" y="2322"/>
                </a:lnTo>
                <a:lnTo>
                  <a:pt x="2474" y="2322"/>
                </a:lnTo>
                <a:lnTo>
                  <a:pt x="2485" y="2322"/>
                </a:lnTo>
                <a:lnTo>
                  <a:pt x="2493" y="2334"/>
                </a:lnTo>
                <a:lnTo>
                  <a:pt x="2504" y="2334"/>
                </a:lnTo>
                <a:lnTo>
                  <a:pt x="2516" y="2334"/>
                </a:lnTo>
                <a:lnTo>
                  <a:pt x="2527" y="2334"/>
                </a:lnTo>
                <a:lnTo>
                  <a:pt x="2539" y="2334"/>
                </a:lnTo>
                <a:lnTo>
                  <a:pt x="2539" y="2346"/>
                </a:lnTo>
                <a:lnTo>
                  <a:pt x="2550" y="2346"/>
                </a:lnTo>
                <a:lnTo>
                  <a:pt x="2558" y="2346"/>
                </a:lnTo>
                <a:lnTo>
                  <a:pt x="2569" y="2346"/>
                </a:lnTo>
                <a:lnTo>
                  <a:pt x="2581" y="2346"/>
                </a:lnTo>
                <a:lnTo>
                  <a:pt x="2592" y="2346"/>
                </a:lnTo>
                <a:lnTo>
                  <a:pt x="2604" y="2346"/>
                </a:lnTo>
                <a:lnTo>
                  <a:pt x="2615" y="2355"/>
                </a:lnTo>
                <a:lnTo>
                  <a:pt x="2623" y="2355"/>
                </a:lnTo>
                <a:lnTo>
                  <a:pt x="2634" y="2355"/>
                </a:lnTo>
                <a:lnTo>
                  <a:pt x="2646" y="2355"/>
                </a:lnTo>
                <a:lnTo>
                  <a:pt x="2657" y="2355"/>
                </a:lnTo>
                <a:lnTo>
                  <a:pt x="2669" y="2355"/>
                </a:lnTo>
                <a:lnTo>
                  <a:pt x="2680" y="2355"/>
                </a:lnTo>
                <a:lnTo>
                  <a:pt x="2691" y="2355"/>
                </a:lnTo>
                <a:lnTo>
                  <a:pt x="2699" y="2355"/>
                </a:lnTo>
                <a:lnTo>
                  <a:pt x="2711" y="2355"/>
                </a:lnTo>
                <a:lnTo>
                  <a:pt x="2722" y="2355"/>
                </a:lnTo>
                <a:lnTo>
                  <a:pt x="2734" y="2355"/>
                </a:lnTo>
                <a:lnTo>
                  <a:pt x="2745" y="2355"/>
                </a:lnTo>
                <a:lnTo>
                  <a:pt x="2756" y="2355"/>
                </a:lnTo>
                <a:lnTo>
                  <a:pt x="2764" y="2355"/>
                </a:lnTo>
                <a:lnTo>
                  <a:pt x="2776" y="2355"/>
                </a:lnTo>
                <a:lnTo>
                  <a:pt x="2787" y="2355"/>
                </a:lnTo>
                <a:lnTo>
                  <a:pt x="2799" y="2355"/>
                </a:lnTo>
                <a:lnTo>
                  <a:pt x="2810" y="2355"/>
                </a:lnTo>
                <a:lnTo>
                  <a:pt x="2821" y="2355"/>
                </a:lnTo>
                <a:lnTo>
                  <a:pt x="2829" y="2355"/>
                </a:lnTo>
                <a:lnTo>
                  <a:pt x="2841" y="2355"/>
                </a:lnTo>
                <a:lnTo>
                  <a:pt x="2852" y="2355"/>
                </a:lnTo>
                <a:lnTo>
                  <a:pt x="2864" y="2355"/>
                </a:lnTo>
                <a:lnTo>
                  <a:pt x="2875" y="2355"/>
                </a:lnTo>
                <a:lnTo>
                  <a:pt x="2886" y="2355"/>
                </a:lnTo>
                <a:lnTo>
                  <a:pt x="2894" y="2355"/>
                </a:lnTo>
                <a:lnTo>
                  <a:pt x="2906" y="2355"/>
                </a:lnTo>
                <a:lnTo>
                  <a:pt x="2917" y="2355"/>
                </a:lnTo>
                <a:lnTo>
                  <a:pt x="2929" y="2355"/>
                </a:lnTo>
                <a:lnTo>
                  <a:pt x="2940" y="2355"/>
                </a:lnTo>
                <a:lnTo>
                  <a:pt x="2951" y="2355"/>
                </a:lnTo>
                <a:lnTo>
                  <a:pt x="2959" y="2355"/>
                </a:lnTo>
                <a:lnTo>
                  <a:pt x="2971" y="2355"/>
                </a:lnTo>
                <a:lnTo>
                  <a:pt x="2982" y="2355"/>
                </a:lnTo>
                <a:lnTo>
                  <a:pt x="2994" y="2355"/>
                </a:lnTo>
                <a:lnTo>
                  <a:pt x="3005" y="2355"/>
                </a:lnTo>
                <a:lnTo>
                  <a:pt x="3016" y="2355"/>
                </a:lnTo>
                <a:lnTo>
                  <a:pt x="3028" y="2355"/>
                </a:lnTo>
                <a:lnTo>
                  <a:pt x="3036" y="2355"/>
                </a:lnTo>
                <a:lnTo>
                  <a:pt x="3047" y="2355"/>
                </a:lnTo>
                <a:lnTo>
                  <a:pt x="3059" y="2355"/>
                </a:lnTo>
                <a:lnTo>
                  <a:pt x="3070" y="2355"/>
                </a:lnTo>
                <a:lnTo>
                  <a:pt x="3081" y="2355"/>
                </a:lnTo>
                <a:lnTo>
                  <a:pt x="3093" y="2355"/>
                </a:lnTo>
                <a:lnTo>
                  <a:pt x="3101" y="2355"/>
                </a:lnTo>
                <a:lnTo>
                  <a:pt x="3112" y="2355"/>
                </a:lnTo>
                <a:lnTo>
                  <a:pt x="3124" y="2355"/>
                </a:lnTo>
                <a:lnTo>
                  <a:pt x="3135" y="2355"/>
                </a:lnTo>
                <a:lnTo>
                  <a:pt x="3147" y="2355"/>
                </a:lnTo>
              </a:path>
            </a:pathLst>
          </a:custGeom>
          <a:noFill/>
          <a:ln cap="rnd"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1600200" y="2743200"/>
            <a:ext cx="1824120" cy="519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8.2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A00B-BC1C-40A0-8702-70DA2E2AE910}" type="slidenum">
              <a:t>55</a:t>
            </a:fld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"/>
          <p:cNvSpPr/>
          <p:nvPr/>
        </p:nvSpPr>
        <p:spPr>
          <a:xfrm>
            <a:off x="457200" y="1752480"/>
            <a:ext cx="8172360" cy="2043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aily water usage per person in Newmarket, Ontario is normally distributed with a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an of 80 litr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                                                  a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tandard deviation of 10 litr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12931920" y="3365640"/>
            <a:ext cx="25200" cy="4680"/>
          </a:xfrm>
          <a:custGeom>
            <a:avLst/>
            <a:gdLst/>
            <a:ahLst/>
            <a:rect l="l" t="t" r="r" b="b"/>
            <a:pathLst>
              <a:path w="16" h="3">
                <a:moveTo>
                  <a:pt x="0" y="3"/>
                </a:moveTo>
                <a:lnTo>
                  <a:pt x="16" y="0"/>
                </a:lnTo>
                <a:lnTo>
                  <a:pt x="8" y="0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b573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12895200" y="337500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2"/>
                </a:moveTo>
                <a:lnTo>
                  <a:pt x="16" y="0"/>
                </a:lnTo>
                <a:lnTo>
                  <a:pt x="8" y="0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994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12884040" y="3378240"/>
            <a:ext cx="1800" cy="1440"/>
          </a:xfrm>
          <a:prstGeom prst="rect">
            <a:avLst/>
          </a:prstGeom>
          <a:solidFill>
            <a:srgbClr val="852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5" name=""/>
          <p:cNvGrpSpPr/>
          <p:nvPr/>
        </p:nvGrpSpPr>
        <p:grpSpPr>
          <a:xfrm>
            <a:off x="2038320" y="152280"/>
            <a:ext cx="5219640" cy="1371240"/>
            <a:chOff x="2038320" y="152280"/>
            <a:chExt cx="5219640" cy="1371240"/>
          </a:xfrm>
        </p:grpSpPr>
        <p:pic>
          <p:nvPicPr>
            <p:cNvPr id="3926" name="bannr10" descr=""/>
            <p:cNvPicPr/>
            <p:nvPr/>
          </p:nvPicPr>
          <p:blipFill>
            <a:blip r:embed="rId2"/>
            <a:stretch/>
          </p:blipFill>
          <p:spPr>
            <a:xfrm>
              <a:off x="2038320" y="152280"/>
              <a:ext cx="5219640" cy="137124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3927" name=""/>
            <p:cNvSpPr/>
            <p:nvPr/>
          </p:nvSpPr>
          <p:spPr>
            <a:xfrm>
              <a:off x="2165400" y="152280"/>
              <a:ext cx="494676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Areas </a:t>
              </a:r>
              <a:r>
                <a:rPr b="1" i="1" lang="en-US" sz="3200" spc="-1" strike="noStrike">
                  <a:solidFill>
                    <a:srgbClr val="ffff00"/>
                  </a:solidFill>
                  <a:latin typeface="Times New Roman"/>
                </a:rPr>
                <a:t>under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the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Normal Cur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8" name=""/>
          <p:cNvGrpSpPr/>
          <p:nvPr/>
        </p:nvGrpSpPr>
        <p:grpSpPr>
          <a:xfrm>
            <a:off x="456840" y="5258880"/>
            <a:ext cx="8229240" cy="1217880"/>
            <a:chOff x="456840" y="5258880"/>
            <a:chExt cx="8229240" cy="1217880"/>
          </a:xfrm>
        </p:grpSpPr>
        <p:sp>
          <p:nvSpPr>
            <p:cNvPr id="3929" name="PlaceHolder 1"/>
            <p:cNvSpPr>
              <a:spLocks noGrp="1"/>
            </p:cNvSpPr>
            <p:nvPr>
              <p:ph/>
            </p:nvPr>
          </p:nvSpPr>
          <p:spPr>
            <a:xfrm>
              <a:off x="456840" y="5258880"/>
              <a:ext cx="8229240" cy="1217880"/>
            </a:xfrm>
            <a:prstGeom prst="rect">
              <a:avLst/>
            </a:prstGeom>
            <a:blipFill rotWithShape="0">
              <a:blip r:embed="rId3"/>
              <a:tile tx="0" ty="0" sx="100000" sy="100000" algn="ctr"/>
            </a:blipFill>
            <a:ln w="0">
              <a:noFill/>
            </a:ln>
            <a:effectLst>
              <a:outerShdw dist="143570" dir="8100000" blurRad="0" rotWithShape="0">
                <a:srgbClr val="000000"/>
              </a:outerShdw>
            </a:effectLst>
          </p:spPr>
          <p:txBody>
            <a:bodyPr lIns="92160" rIns="92160" tIns="46080" bIns="46080" anchor="t">
              <a:normAutofit/>
            </a:bodyPr>
            <a:p>
              <a:pPr marL="343080" indent="0" algn="ctr">
                <a:spcBef>
                  <a:spcPts val="9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About 68% of the daily water usage             will lie between 70 and 90 litr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0" name="" descr=""/>
            <p:cNvPicPr/>
            <p:nvPr/>
          </p:nvPicPr>
          <p:blipFill>
            <a:blip r:embed="rId4"/>
            <a:stretch/>
          </p:blipFill>
          <p:spPr>
            <a:xfrm>
              <a:off x="532800" y="5362560"/>
              <a:ext cx="423360" cy="35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1" name=""/>
          <p:cNvSpPr/>
          <p:nvPr/>
        </p:nvSpPr>
        <p:spPr>
          <a:xfrm>
            <a:off x="457200" y="4038480"/>
            <a:ext cx="8153280" cy="1068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2298" dir="103755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out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68 percen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of those living in Newmarket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will use how many litres of water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2" name=""/>
          <p:cNvGrpSpPr/>
          <p:nvPr/>
        </p:nvGrpSpPr>
        <p:grpSpPr>
          <a:xfrm>
            <a:off x="7238880" y="3033720"/>
            <a:ext cx="673200" cy="1981080"/>
            <a:chOff x="7238880" y="3033720"/>
            <a:chExt cx="673200" cy="1981080"/>
          </a:xfrm>
        </p:grpSpPr>
        <p:sp>
          <p:nvSpPr>
            <p:cNvPr id="3933" name=""/>
            <p:cNvSpPr/>
            <p:nvPr/>
          </p:nvSpPr>
          <p:spPr>
            <a:xfrm flipV="1">
              <a:off x="7238880" y="3033720"/>
              <a:ext cx="58680" cy="10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348680" y="3033720"/>
              <a:ext cx="0" cy="1981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418520" y="3101760"/>
              <a:ext cx="0" cy="19126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7488360" y="3170160"/>
              <a:ext cx="0" cy="18442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7559640" y="3238200"/>
              <a:ext cx="0" cy="1776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7629480" y="3374640"/>
              <a:ext cx="0" cy="163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7699320" y="3511440"/>
              <a:ext cx="0" cy="15030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7770960" y="3647880"/>
              <a:ext cx="0" cy="13665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7840800" y="3784320"/>
              <a:ext cx="0" cy="1230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7912080" y="3922560"/>
              <a:ext cx="0" cy="10918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7277040" y="3033720"/>
              <a:ext cx="0" cy="1981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4" name=""/>
          <p:cNvGrpSpPr/>
          <p:nvPr/>
        </p:nvGrpSpPr>
        <p:grpSpPr>
          <a:xfrm>
            <a:off x="1295280" y="228600"/>
            <a:ext cx="5730480" cy="1755000"/>
            <a:chOff x="1295280" y="228600"/>
            <a:chExt cx="5730480" cy="1755000"/>
          </a:xfrm>
        </p:grpSpPr>
        <p:pic>
          <p:nvPicPr>
            <p:cNvPr id="3945" name="" descr=""/>
            <p:cNvPicPr/>
            <p:nvPr/>
          </p:nvPicPr>
          <p:blipFill>
            <a:blip r:embed="rId1"/>
            <a:srcRect l="10606" t="28555" r="-19227" b="26774"/>
            <a:stretch/>
          </p:blipFill>
          <p:spPr>
            <a:xfrm>
              <a:off x="1295280" y="228600"/>
              <a:ext cx="2210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6" name=""/>
            <p:cNvSpPr txBox="1"/>
            <p:nvPr/>
          </p:nvSpPr>
          <p:spPr>
            <a:xfrm>
              <a:off x="2209680" y="990720"/>
              <a:ext cx="900360" cy="79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ff3300"/>
                    </a:outerShdw>
                  </a:effectLst>
                  <a:latin typeface="Times New Roman"/>
                </a:rPr>
                <a:t>P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818800" y="1219320"/>
              <a:ext cx="4206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robability that…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8" name=""/>
          <p:cNvSpPr/>
          <p:nvPr/>
        </p:nvSpPr>
        <p:spPr>
          <a:xfrm>
            <a:off x="647640" y="1806480"/>
            <a:ext cx="8001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person from Newmarket, selected at random,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will use between 80 and 88 litres per day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 flipV="1">
            <a:off x="609480" y="2589840"/>
            <a:ext cx="7925040" cy="75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0" name=""/>
          <p:cNvGrpSpPr/>
          <p:nvPr/>
        </p:nvGrpSpPr>
        <p:grpSpPr>
          <a:xfrm>
            <a:off x="2096280" y="4753080"/>
            <a:ext cx="1409040" cy="657720"/>
            <a:chOff x="2096280" y="4753080"/>
            <a:chExt cx="1409040" cy="657720"/>
          </a:xfrm>
        </p:grpSpPr>
        <p:sp>
          <p:nvSpPr>
            <p:cNvPr id="3951" name=""/>
            <p:cNvSpPr/>
            <p:nvPr/>
          </p:nvSpPr>
          <p:spPr>
            <a:xfrm>
              <a:off x="2438280" y="5105160"/>
              <a:ext cx="106704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819160" y="50446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945880" y="4755960"/>
              <a:ext cx="483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514240" y="47530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096280" y="492264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6" name=""/>
          <p:cNvGrpSpPr/>
          <p:nvPr/>
        </p:nvGrpSpPr>
        <p:grpSpPr>
          <a:xfrm>
            <a:off x="3620160" y="4925880"/>
            <a:ext cx="876240" cy="408960"/>
            <a:chOff x="3620160" y="4925880"/>
            <a:chExt cx="876240" cy="408960"/>
          </a:xfrm>
        </p:grpSpPr>
        <p:sp>
          <p:nvSpPr>
            <p:cNvPr id="3957" name=""/>
            <p:cNvSpPr/>
            <p:nvPr/>
          </p:nvSpPr>
          <p:spPr>
            <a:xfrm>
              <a:off x="3962160" y="4968720"/>
              <a:ext cx="53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620160" y="49258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9" name=""/>
          <p:cNvGrpSpPr/>
          <p:nvPr/>
        </p:nvGrpSpPr>
        <p:grpSpPr>
          <a:xfrm>
            <a:off x="387360" y="5349960"/>
            <a:ext cx="1509480" cy="654840"/>
            <a:chOff x="387360" y="5349960"/>
            <a:chExt cx="1509480" cy="654840"/>
          </a:xfrm>
        </p:grpSpPr>
        <p:grpSp>
          <p:nvGrpSpPr>
            <p:cNvPr id="3960" name=""/>
            <p:cNvGrpSpPr/>
            <p:nvPr/>
          </p:nvGrpSpPr>
          <p:grpSpPr>
            <a:xfrm>
              <a:off x="830160" y="5349960"/>
              <a:ext cx="1066680" cy="654840"/>
              <a:chOff x="830160" y="5349960"/>
              <a:chExt cx="1066680" cy="654840"/>
            </a:xfrm>
          </p:grpSpPr>
          <p:sp>
            <p:nvSpPr>
              <p:cNvPr id="3961" name=""/>
              <p:cNvSpPr/>
              <p:nvPr/>
            </p:nvSpPr>
            <p:spPr>
              <a:xfrm>
                <a:off x="1135080" y="5715000"/>
                <a:ext cx="761760" cy="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1363320" y="5638680"/>
                <a:ext cx="18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1583640" y="5349960"/>
                <a:ext cx="294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1472400" y="534996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830160" y="5562720"/>
                <a:ext cx="152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1210680" y="534996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7" name=""/>
            <p:cNvSpPr/>
            <p:nvPr/>
          </p:nvSpPr>
          <p:spPr>
            <a:xfrm>
              <a:off x="387360" y="5410440"/>
              <a:ext cx="2476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8" name=""/>
          <p:cNvGrpSpPr/>
          <p:nvPr/>
        </p:nvGrpSpPr>
        <p:grpSpPr>
          <a:xfrm>
            <a:off x="2088360" y="5362560"/>
            <a:ext cx="1409040" cy="658080"/>
            <a:chOff x="2088360" y="5362560"/>
            <a:chExt cx="1409040" cy="658080"/>
          </a:xfrm>
        </p:grpSpPr>
        <p:sp>
          <p:nvSpPr>
            <p:cNvPr id="3969" name=""/>
            <p:cNvSpPr/>
            <p:nvPr/>
          </p:nvSpPr>
          <p:spPr>
            <a:xfrm>
              <a:off x="2430360" y="5715000"/>
              <a:ext cx="106704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811240" y="5654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937960" y="5365800"/>
              <a:ext cx="483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506320" y="536256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088360" y="55324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4" name=""/>
          <p:cNvGrpSpPr/>
          <p:nvPr/>
        </p:nvGrpSpPr>
        <p:grpSpPr>
          <a:xfrm>
            <a:off x="3620160" y="5535720"/>
            <a:ext cx="876240" cy="408960"/>
            <a:chOff x="3620160" y="5535720"/>
            <a:chExt cx="876240" cy="408960"/>
          </a:xfrm>
        </p:grpSpPr>
        <p:sp>
          <p:nvSpPr>
            <p:cNvPr id="3975" name=""/>
            <p:cNvSpPr/>
            <p:nvPr/>
          </p:nvSpPr>
          <p:spPr>
            <a:xfrm>
              <a:off x="3962160" y="5578560"/>
              <a:ext cx="53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3620160" y="55357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7" name=""/>
          <p:cNvGrpSpPr/>
          <p:nvPr/>
        </p:nvGrpSpPr>
        <p:grpSpPr>
          <a:xfrm>
            <a:off x="228600" y="2971800"/>
            <a:ext cx="5334120" cy="811080"/>
            <a:chOff x="228600" y="2971800"/>
            <a:chExt cx="5334120" cy="811080"/>
          </a:xfrm>
        </p:grpSpPr>
        <p:sp>
          <p:nvSpPr>
            <p:cNvPr id="3978" name=""/>
            <p:cNvSpPr/>
            <p:nvPr/>
          </p:nvSpPr>
          <p:spPr>
            <a:xfrm>
              <a:off x="1066680" y="3067200"/>
              <a:ext cx="4496040" cy="581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9" name=""/>
            <p:cNvGrpSpPr/>
            <p:nvPr/>
          </p:nvGrpSpPr>
          <p:grpSpPr>
            <a:xfrm>
              <a:off x="228600" y="2971800"/>
              <a:ext cx="685800" cy="811080"/>
              <a:chOff x="228600" y="2971800"/>
              <a:chExt cx="685800" cy="811080"/>
            </a:xfrm>
          </p:grpSpPr>
          <p:pic>
            <p:nvPicPr>
              <p:cNvPr id="39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9718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1" name=""/>
              <p:cNvSpPr/>
              <p:nvPr/>
            </p:nvSpPr>
            <p:spPr>
              <a:xfrm>
                <a:off x="282960" y="3047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2" name=""/>
          <p:cNvGrpSpPr/>
          <p:nvPr/>
        </p:nvGrpSpPr>
        <p:grpSpPr>
          <a:xfrm>
            <a:off x="228600" y="3886200"/>
            <a:ext cx="5181480" cy="811080"/>
            <a:chOff x="228600" y="3886200"/>
            <a:chExt cx="5181480" cy="811080"/>
          </a:xfrm>
        </p:grpSpPr>
        <p:grpSp>
          <p:nvGrpSpPr>
            <p:cNvPr id="3983" name=""/>
            <p:cNvGrpSpPr/>
            <p:nvPr/>
          </p:nvGrpSpPr>
          <p:grpSpPr>
            <a:xfrm>
              <a:off x="228600" y="3886200"/>
              <a:ext cx="685800" cy="811080"/>
              <a:chOff x="228600" y="3886200"/>
              <a:chExt cx="685800" cy="811080"/>
            </a:xfrm>
          </p:grpSpPr>
          <p:pic>
            <p:nvPicPr>
              <p:cNvPr id="398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" y="38862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5" name=""/>
              <p:cNvSpPr/>
              <p:nvPr/>
            </p:nvSpPr>
            <p:spPr>
              <a:xfrm>
                <a:off x="282960" y="3962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6" name=""/>
            <p:cNvSpPr/>
            <p:nvPr/>
          </p:nvSpPr>
          <p:spPr>
            <a:xfrm>
              <a:off x="1066680" y="3962160"/>
              <a:ext cx="434340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culate the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Z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c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7" name=""/>
          <p:cNvSpPr/>
          <p:nvPr/>
        </p:nvSpPr>
        <p:spPr>
          <a:xfrm>
            <a:off x="76960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7924680" y="3962520"/>
            <a:ext cx="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9" name=""/>
          <p:cNvGrpSpPr/>
          <p:nvPr/>
        </p:nvGrpSpPr>
        <p:grpSpPr>
          <a:xfrm>
            <a:off x="5410080" y="2986200"/>
            <a:ext cx="3581280" cy="2057400"/>
            <a:chOff x="5410080" y="2986200"/>
            <a:chExt cx="3581280" cy="2057400"/>
          </a:xfrm>
        </p:grpSpPr>
        <p:sp>
          <p:nvSpPr>
            <p:cNvPr id="3990" name=""/>
            <p:cNvSpPr/>
            <p:nvPr/>
          </p:nvSpPr>
          <p:spPr>
            <a:xfrm>
              <a:off x="5410080" y="5043600"/>
              <a:ext cx="3581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7215120" y="298620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 flipV="1">
              <a:off x="5473080" y="502956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 flipV="1">
              <a:off x="5537880" y="5006160"/>
              <a:ext cx="6480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 flipV="1">
              <a:off x="5603040" y="4992840"/>
              <a:ext cx="496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653080" y="4969800"/>
              <a:ext cx="6300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V="1">
              <a:off x="5716440" y="4933080"/>
              <a:ext cx="4860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5765400" y="4894920"/>
              <a:ext cx="6300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V="1">
              <a:off x="5828400" y="4858200"/>
              <a:ext cx="5184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 flipV="1">
              <a:off x="5880240" y="4808880"/>
              <a:ext cx="6300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V="1">
              <a:off x="5943600" y="4758480"/>
              <a:ext cx="6444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flipV="1">
              <a:off x="6008400" y="4694400"/>
              <a:ext cx="4680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6055560" y="4624200"/>
              <a:ext cx="6624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flipV="1">
              <a:off x="6122160" y="4547160"/>
              <a:ext cx="4824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6170760" y="4460400"/>
              <a:ext cx="6480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flipV="1">
              <a:off x="6235560" y="4362120"/>
              <a:ext cx="4644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V="1">
              <a:off x="6282360" y="4262760"/>
              <a:ext cx="6480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flipV="1">
              <a:off x="6347520" y="416160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V="1">
              <a:off x="6414120" y="4052880"/>
              <a:ext cx="4824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6462720" y="3929040"/>
              <a:ext cx="6624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V="1">
              <a:off x="6529320" y="3817440"/>
              <a:ext cx="4680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6576480" y="3705480"/>
              <a:ext cx="6300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 flipV="1">
              <a:off x="6639480" y="3593880"/>
              <a:ext cx="4824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 flipV="1">
              <a:off x="6688080" y="3483360"/>
              <a:ext cx="6624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 flipV="1">
              <a:off x="6754680" y="3382560"/>
              <a:ext cx="644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V="1">
              <a:off x="6819480" y="3284280"/>
              <a:ext cx="4824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6868080" y="3197520"/>
              <a:ext cx="6300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931440" y="3122280"/>
              <a:ext cx="5004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6981840" y="3071880"/>
              <a:ext cx="6300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7044840" y="3022920"/>
              <a:ext cx="4824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 flipV="1">
              <a:off x="7093440" y="2998080"/>
              <a:ext cx="6480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flipV="1">
              <a:off x="7158600" y="2986200"/>
              <a:ext cx="6444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7223400" y="2986200"/>
              <a:ext cx="5004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7273800" y="2998440"/>
              <a:ext cx="6444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7338600" y="3022920"/>
              <a:ext cx="4824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7387200" y="3071880"/>
              <a:ext cx="6300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7450200" y="3122280"/>
              <a:ext cx="4860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7499160" y="319752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563960" y="3284640"/>
              <a:ext cx="4824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7612560" y="3382560"/>
              <a:ext cx="6480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7677720" y="3483360"/>
              <a:ext cx="6624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744320" y="3593880"/>
              <a:ext cx="4644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7790760" y="3705480"/>
              <a:ext cx="6480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7855920" y="3817440"/>
              <a:ext cx="4680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7903080" y="3929040"/>
              <a:ext cx="6624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969680" y="4053240"/>
              <a:ext cx="4824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8018280" y="4161600"/>
              <a:ext cx="644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8083080" y="426276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8149680" y="4362480"/>
              <a:ext cx="4680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8196480" y="4460400"/>
              <a:ext cx="644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8261280" y="4547520"/>
              <a:ext cx="4860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8310240" y="4624200"/>
              <a:ext cx="6444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8375040" y="4694400"/>
              <a:ext cx="4680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8422200" y="4758840"/>
              <a:ext cx="6624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8488800" y="4809240"/>
              <a:ext cx="6300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8551800" y="4858200"/>
              <a:ext cx="5184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8604000" y="4894920"/>
              <a:ext cx="6120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8665200" y="4933440"/>
              <a:ext cx="4860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8714160" y="496980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8778960" y="4992840"/>
              <a:ext cx="500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8829360" y="5006520"/>
              <a:ext cx="644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8894160" y="5029560"/>
              <a:ext cx="6300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2" name=""/>
          <p:cNvGrpSpPr/>
          <p:nvPr/>
        </p:nvGrpSpPr>
        <p:grpSpPr>
          <a:xfrm>
            <a:off x="6859440" y="3048120"/>
            <a:ext cx="485640" cy="2440800"/>
            <a:chOff x="6859440" y="3048120"/>
            <a:chExt cx="485640" cy="2440800"/>
          </a:xfrm>
        </p:grpSpPr>
        <p:sp>
          <p:nvSpPr>
            <p:cNvPr id="4053" name=""/>
            <p:cNvSpPr/>
            <p:nvPr/>
          </p:nvSpPr>
          <p:spPr>
            <a:xfrm>
              <a:off x="6859440" y="5029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7162560" y="3048120"/>
              <a:ext cx="0" cy="1981080"/>
            </a:xfrm>
            <a:prstGeom prst="line">
              <a:avLst/>
            </a:prstGeom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5" name=""/>
          <p:cNvGrpSpPr/>
          <p:nvPr/>
        </p:nvGrpSpPr>
        <p:grpSpPr>
          <a:xfrm>
            <a:off x="6248520" y="6019920"/>
            <a:ext cx="2438280" cy="685800"/>
            <a:chOff x="6248520" y="6019920"/>
            <a:chExt cx="2438280" cy="685800"/>
          </a:xfrm>
        </p:grpSpPr>
        <p:sp>
          <p:nvSpPr>
            <p:cNvPr id="4056" name=""/>
            <p:cNvSpPr/>
            <p:nvPr/>
          </p:nvSpPr>
          <p:spPr>
            <a:xfrm>
              <a:off x="6248520" y="6414480"/>
              <a:ext cx="2438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57" name=""/>
            <p:cNvGraphicFramePr/>
            <p:nvPr/>
          </p:nvGraphicFramePr>
          <p:xfrm>
            <a:off x="6678720" y="6019920"/>
            <a:ext cx="1577520" cy="68580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0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78720" y="6019920"/>
                      <a:ext cx="15775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59" name=""/>
            <p:cNvSpPr txBox="1"/>
            <p:nvPr/>
          </p:nvSpPr>
          <p:spPr>
            <a:xfrm>
              <a:off x="6822000" y="6188760"/>
              <a:ext cx="1259280" cy="35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b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060" name=""/>
          <p:cNvSpPr/>
          <p:nvPr/>
        </p:nvSpPr>
        <p:spPr>
          <a:xfrm>
            <a:off x="7391520" y="40384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1" name=""/>
          <p:cNvGrpSpPr/>
          <p:nvPr/>
        </p:nvGrpSpPr>
        <p:grpSpPr>
          <a:xfrm>
            <a:off x="5334120" y="5423040"/>
            <a:ext cx="3047400" cy="520560"/>
            <a:chOff x="5334120" y="5423040"/>
            <a:chExt cx="3047400" cy="520560"/>
          </a:xfrm>
        </p:grpSpPr>
        <p:sp>
          <p:nvSpPr>
            <p:cNvPr id="4062" name=""/>
            <p:cNvSpPr/>
            <p:nvPr/>
          </p:nvSpPr>
          <p:spPr>
            <a:xfrm>
              <a:off x="5334120" y="5423040"/>
              <a:ext cx="30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Z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cale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.0    0.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486840" y="5715000"/>
              <a:ext cx="411840" cy="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4" name=""/>
          <p:cNvGrpSpPr/>
          <p:nvPr/>
        </p:nvGrpSpPr>
        <p:grpSpPr>
          <a:xfrm>
            <a:off x="387360" y="4832280"/>
            <a:ext cx="1509480" cy="654840"/>
            <a:chOff x="387360" y="4832280"/>
            <a:chExt cx="1509480" cy="654840"/>
          </a:xfrm>
        </p:grpSpPr>
        <p:grpSp>
          <p:nvGrpSpPr>
            <p:cNvPr id="4065" name=""/>
            <p:cNvGrpSpPr/>
            <p:nvPr/>
          </p:nvGrpSpPr>
          <p:grpSpPr>
            <a:xfrm>
              <a:off x="830160" y="4832280"/>
              <a:ext cx="1066680" cy="654840"/>
              <a:chOff x="830160" y="4832280"/>
              <a:chExt cx="1066680" cy="654840"/>
            </a:xfrm>
          </p:grpSpPr>
          <p:sp>
            <p:nvSpPr>
              <p:cNvPr id="4066" name=""/>
              <p:cNvSpPr/>
              <p:nvPr/>
            </p:nvSpPr>
            <p:spPr>
              <a:xfrm>
                <a:off x="1135080" y="5197320"/>
                <a:ext cx="761760" cy="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1363320" y="5121000"/>
                <a:ext cx="18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1583640" y="4832280"/>
                <a:ext cx="294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1472400" y="48322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830160" y="5045040"/>
                <a:ext cx="152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1210680" y="48322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2" name=""/>
            <p:cNvSpPr/>
            <p:nvPr/>
          </p:nvSpPr>
          <p:spPr>
            <a:xfrm>
              <a:off x="387360" y="4892760"/>
              <a:ext cx="2476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E267-2B85-4D38-B007-7EA79EBEB703}" type="slidenum">
              <a:t>57</a:t>
            </a:fld>
          </a:p>
        </p:txBody>
      </p:sp>
    </p:spTree>
  </p:cSld>
  <p:transition>
    <p:strips dir="r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3" name=""/>
          <p:cNvGrpSpPr/>
          <p:nvPr/>
        </p:nvGrpSpPr>
        <p:grpSpPr>
          <a:xfrm>
            <a:off x="609480" y="228600"/>
            <a:ext cx="8039160" cy="2439360"/>
            <a:chOff x="609480" y="228600"/>
            <a:chExt cx="8039160" cy="2439360"/>
          </a:xfrm>
        </p:grpSpPr>
        <p:grpSp>
          <p:nvGrpSpPr>
            <p:cNvPr id="4074" name=""/>
            <p:cNvGrpSpPr/>
            <p:nvPr/>
          </p:nvGrpSpPr>
          <p:grpSpPr>
            <a:xfrm>
              <a:off x="1295280" y="228600"/>
              <a:ext cx="5730480" cy="1755000"/>
              <a:chOff x="1295280" y="228600"/>
              <a:chExt cx="5730480" cy="1755000"/>
            </a:xfrm>
          </p:grpSpPr>
          <p:pic>
            <p:nvPicPr>
              <p:cNvPr id="4075" name="" descr=""/>
              <p:cNvPicPr/>
              <p:nvPr/>
            </p:nvPicPr>
            <p:blipFill>
              <a:blip r:embed="rId1"/>
              <a:srcRect l="10606" t="28555" r="-19227" b="26774"/>
              <a:stretch/>
            </p:blipFill>
            <p:spPr>
              <a:xfrm>
                <a:off x="1295280" y="228600"/>
                <a:ext cx="221004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6" name=""/>
              <p:cNvSpPr txBox="1"/>
              <p:nvPr/>
            </p:nvSpPr>
            <p:spPr>
              <a:xfrm>
                <a:off x="2209680" y="990720"/>
                <a:ext cx="900360" cy="795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53753" dir="2700000" blurRad="0" rotWithShape="0">
                        <a:srgbClr val="ff3300"/>
                      </a:outerShdw>
                    </a:effectLst>
                    <a:latin typeface="Times New Roman"/>
                  </a:rPr>
                  <a:t>P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ff33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2818800" y="1219320"/>
                <a:ext cx="4206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robability that…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8" name=""/>
            <p:cNvSpPr/>
            <p:nvPr/>
          </p:nvSpPr>
          <p:spPr>
            <a:xfrm>
              <a:off x="647640" y="1806480"/>
              <a:ext cx="800100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person from Newmarket, selected at random,         </a:t>
              </a: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will use between 80 and 88 litres per day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s…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V="1">
              <a:off x="609480" y="2589840"/>
              <a:ext cx="7925040" cy="759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0" name=""/>
          <p:cNvSpPr/>
          <p:nvPr/>
        </p:nvSpPr>
        <p:spPr>
          <a:xfrm>
            <a:off x="228600" y="4648320"/>
            <a:ext cx="8686800" cy="1678680"/>
          </a:xfrm>
          <a:prstGeom prst="rect">
            <a:avLst/>
          </a:prstGeom>
          <a:solidFill>
            <a:srgbClr val="f8f9db"/>
          </a:soli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rea under a normal curve between 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-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7912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7912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                       a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2881</a:t>
            </a:r>
            <a:r>
              <a:rPr b="1" lang="en-US" sz="2400" spc="-1" strike="noStrike">
                <a:solidFill>
                  <a:srgbClr val="050000"/>
                </a:solidFill>
                <a:latin typeface="Times New Roman"/>
              </a:rPr>
              <a:t>, therefore, we conclude tha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8.81%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50000"/>
                </a:solidFill>
                <a:latin typeface="Times New Roman"/>
              </a:rPr>
              <a:t>of the residents will use betwee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80 to 88 litres per day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1" name=""/>
          <p:cNvGrpSpPr/>
          <p:nvPr/>
        </p:nvGrpSpPr>
        <p:grpSpPr>
          <a:xfrm>
            <a:off x="457200" y="3200400"/>
            <a:ext cx="4038480" cy="811080"/>
            <a:chOff x="457200" y="3200400"/>
            <a:chExt cx="4038480" cy="811080"/>
          </a:xfrm>
        </p:grpSpPr>
        <p:grpSp>
          <p:nvGrpSpPr>
            <p:cNvPr id="4082" name=""/>
            <p:cNvGrpSpPr/>
            <p:nvPr/>
          </p:nvGrpSpPr>
          <p:grpSpPr>
            <a:xfrm>
              <a:off x="457200" y="3200400"/>
              <a:ext cx="705960" cy="811080"/>
              <a:chOff x="457200" y="3200400"/>
              <a:chExt cx="705960" cy="811080"/>
            </a:xfrm>
          </p:grpSpPr>
          <p:pic>
            <p:nvPicPr>
              <p:cNvPr id="40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200400"/>
                <a:ext cx="70596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4" name=""/>
              <p:cNvSpPr/>
              <p:nvPr/>
            </p:nvSpPr>
            <p:spPr>
              <a:xfrm>
                <a:off x="512640" y="32763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5" name=""/>
            <p:cNvSpPr/>
            <p:nvPr/>
          </p:nvSpPr>
          <p:spPr>
            <a:xfrm>
              <a:off x="1320840" y="3398760"/>
              <a:ext cx="317484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.80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6" name=""/>
          <p:cNvSpPr/>
          <p:nvPr/>
        </p:nvSpPr>
        <p:spPr>
          <a:xfrm>
            <a:off x="6019920" y="3276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.28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2CF0-BB01-4F03-9E3E-D50809669E7C}" type="slidenum">
              <a:t>58</a:t>
            </a:fld>
          </a:p>
        </p:txBody>
      </p:sp>
    </p:spTree>
  </p:cSld>
  <p:transition>
    <p:pull dir="r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7" name=""/>
          <p:cNvGrpSpPr/>
          <p:nvPr/>
        </p:nvGrpSpPr>
        <p:grpSpPr>
          <a:xfrm>
            <a:off x="6629400" y="2971800"/>
            <a:ext cx="608760" cy="2057040"/>
            <a:chOff x="6629400" y="2971800"/>
            <a:chExt cx="608760" cy="2057040"/>
          </a:xfrm>
        </p:grpSpPr>
        <p:sp>
          <p:nvSpPr>
            <p:cNvPr id="4088" name=""/>
            <p:cNvSpPr/>
            <p:nvPr/>
          </p:nvSpPr>
          <p:spPr>
            <a:xfrm flipH="1" flipV="1">
              <a:off x="7178760" y="2971800"/>
              <a:ext cx="59400" cy="1152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7127640" y="2971800"/>
              <a:ext cx="0" cy="20570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056720" y="3042360"/>
              <a:ext cx="0" cy="198648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986160" y="3113280"/>
              <a:ext cx="0" cy="191556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913800" y="3184200"/>
              <a:ext cx="0" cy="1844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843240" y="3326040"/>
              <a:ext cx="0" cy="170280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772320" y="3467880"/>
              <a:ext cx="0" cy="156096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6699960" y="3609360"/>
              <a:ext cx="0" cy="141948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6629400" y="3751200"/>
              <a:ext cx="0" cy="1277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7200000" y="2971800"/>
              <a:ext cx="0" cy="20570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8" name=""/>
          <p:cNvGrpSpPr/>
          <p:nvPr/>
        </p:nvGrpSpPr>
        <p:grpSpPr>
          <a:xfrm>
            <a:off x="1295280" y="228600"/>
            <a:ext cx="5730480" cy="1755000"/>
            <a:chOff x="1295280" y="228600"/>
            <a:chExt cx="5730480" cy="1755000"/>
          </a:xfrm>
        </p:grpSpPr>
        <p:pic>
          <p:nvPicPr>
            <p:cNvPr id="4099" name="" descr=""/>
            <p:cNvPicPr/>
            <p:nvPr/>
          </p:nvPicPr>
          <p:blipFill>
            <a:blip r:embed="rId1"/>
            <a:srcRect l="10606" t="28555" r="-19227" b="26774"/>
            <a:stretch/>
          </p:blipFill>
          <p:spPr>
            <a:xfrm>
              <a:off x="1295280" y="228600"/>
              <a:ext cx="2210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0" name=""/>
            <p:cNvSpPr txBox="1"/>
            <p:nvPr/>
          </p:nvSpPr>
          <p:spPr>
            <a:xfrm>
              <a:off x="2209680" y="990720"/>
              <a:ext cx="900360" cy="79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ff3300"/>
                    </a:outerShdw>
                  </a:effectLst>
                  <a:latin typeface="Times New Roman"/>
                </a:rPr>
                <a:t>P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818800" y="1219320"/>
              <a:ext cx="4206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robability that…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2" name=""/>
          <p:cNvSpPr/>
          <p:nvPr/>
        </p:nvSpPr>
        <p:spPr>
          <a:xfrm>
            <a:off x="647640" y="1806480"/>
            <a:ext cx="8001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person from Newmarket, selected at random,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will use between 76 and 92 litres per day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 flipV="1">
            <a:off x="609480" y="2589840"/>
            <a:ext cx="7925040" cy="75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4" name=""/>
          <p:cNvGrpSpPr/>
          <p:nvPr/>
        </p:nvGrpSpPr>
        <p:grpSpPr>
          <a:xfrm>
            <a:off x="2019960" y="4889520"/>
            <a:ext cx="1409040" cy="658080"/>
            <a:chOff x="2019960" y="4889520"/>
            <a:chExt cx="1409040" cy="658080"/>
          </a:xfrm>
        </p:grpSpPr>
        <p:sp>
          <p:nvSpPr>
            <p:cNvPr id="4105" name=""/>
            <p:cNvSpPr/>
            <p:nvPr/>
          </p:nvSpPr>
          <p:spPr>
            <a:xfrm>
              <a:off x="2361960" y="5241960"/>
              <a:ext cx="106704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742840" y="518148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869560" y="4892760"/>
              <a:ext cx="483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437920" y="4889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7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019960" y="505944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0" name=""/>
          <p:cNvGrpSpPr/>
          <p:nvPr/>
        </p:nvGrpSpPr>
        <p:grpSpPr>
          <a:xfrm>
            <a:off x="3543840" y="5062680"/>
            <a:ext cx="876240" cy="408960"/>
            <a:chOff x="3543840" y="5062680"/>
            <a:chExt cx="876240" cy="408960"/>
          </a:xfrm>
        </p:grpSpPr>
        <p:sp>
          <p:nvSpPr>
            <p:cNvPr id="4111" name=""/>
            <p:cNvSpPr/>
            <p:nvPr/>
          </p:nvSpPr>
          <p:spPr>
            <a:xfrm>
              <a:off x="3885840" y="5105520"/>
              <a:ext cx="53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543840" y="50626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3" name=""/>
          <p:cNvGrpSpPr/>
          <p:nvPr/>
        </p:nvGrpSpPr>
        <p:grpSpPr>
          <a:xfrm>
            <a:off x="2012040" y="5499000"/>
            <a:ext cx="1409040" cy="658080"/>
            <a:chOff x="2012040" y="5499000"/>
            <a:chExt cx="1409040" cy="658080"/>
          </a:xfrm>
        </p:grpSpPr>
        <p:sp>
          <p:nvSpPr>
            <p:cNvPr id="4114" name=""/>
            <p:cNvSpPr/>
            <p:nvPr/>
          </p:nvSpPr>
          <p:spPr>
            <a:xfrm>
              <a:off x="2354040" y="5851440"/>
              <a:ext cx="106704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2734920" y="579096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2861640" y="5502240"/>
              <a:ext cx="483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430000" y="549900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012040" y="56689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9" name=""/>
          <p:cNvGrpSpPr/>
          <p:nvPr/>
        </p:nvGrpSpPr>
        <p:grpSpPr>
          <a:xfrm>
            <a:off x="3543840" y="5672160"/>
            <a:ext cx="876240" cy="408960"/>
            <a:chOff x="3543840" y="5672160"/>
            <a:chExt cx="876240" cy="408960"/>
          </a:xfrm>
        </p:grpSpPr>
        <p:sp>
          <p:nvSpPr>
            <p:cNvPr id="4120" name=""/>
            <p:cNvSpPr/>
            <p:nvPr/>
          </p:nvSpPr>
          <p:spPr>
            <a:xfrm>
              <a:off x="3885840" y="5715000"/>
              <a:ext cx="53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3543840" y="56721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228600" y="2846520"/>
            <a:ext cx="5334120" cy="811080"/>
            <a:chOff x="228600" y="2846520"/>
            <a:chExt cx="5334120" cy="811080"/>
          </a:xfrm>
        </p:grpSpPr>
        <p:sp>
          <p:nvSpPr>
            <p:cNvPr id="4123" name=""/>
            <p:cNvSpPr/>
            <p:nvPr/>
          </p:nvSpPr>
          <p:spPr>
            <a:xfrm>
              <a:off x="1066680" y="2941920"/>
              <a:ext cx="4496040" cy="581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4" name=""/>
            <p:cNvGrpSpPr/>
            <p:nvPr/>
          </p:nvGrpSpPr>
          <p:grpSpPr>
            <a:xfrm>
              <a:off x="228600" y="2846520"/>
              <a:ext cx="685800" cy="811080"/>
              <a:chOff x="228600" y="2846520"/>
              <a:chExt cx="685800" cy="811080"/>
            </a:xfrm>
          </p:grpSpPr>
          <p:pic>
            <p:nvPicPr>
              <p:cNvPr id="41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8465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6" name=""/>
              <p:cNvSpPr/>
              <p:nvPr/>
            </p:nvSpPr>
            <p:spPr>
              <a:xfrm>
                <a:off x="282960" y="2922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27" name=""/>
          <p:cNvGrpSpPr/>
          <p:nvPr/>
        </p:nvGrpSpPr>
        <p:grpSpPr>
          <a:xfrm>
            <a:off x="228600" y="3836880"/>
            <a:ext cx="5181480" cy="811440"/>
            <a:chOff x="228600" y="3836880"/>
            <a:chExt cx="5181480" cy="811440"/>
          </a:xfrm>
        </p:grpSpPr>
        <p:grpSp>
          <p:nvGrpSpPr>
            <p:cNvPr id="4128" name=""/>
            <p:cNvGrpSpPr/>
            <p:nvPr/>
          </p:nvGrpSpPr>
          <p:grpSpPr>
            <a:xfrm>
              <a:off x="228600" y="3836880"/>
              <a:ext cx="685800" cy="811440"/>
              <a:chOff x="228600" y="3836880"/>
              <a:chExt cx="685800" cy="811440"/>
            </a:xfrm>
          </p:grpSpPr>
          <p:pic>
            <p:nvPicPr>
              <p:cNvPr id="41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" y="3836880"/>
                <a:ext cx="685800" cy="81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0" name=""/>
              <p:cNvSpPr/>
              <p:nvPr/>
            </p:nvSpPr>
            <p:spPr>
              <a:xfrm>
                <a:off x="282960" y="39132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1" name=""/>
            <p:cNvSpPr/>
            <p:nvPr/>
          </p:nvSpPr>
          <p:spPr>
            <a:xfrm>
              <a:off x="1066680" y="3913200"/>
              <a:ext cx="434340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culate the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Z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c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2" name=""/>
          <p:cNvGrpSpPr/>
          <p:nvPr/>
        </p:nvGrpSpPr>
        <p:grpSpPr>
          <a:xfrm>
            <a:off x="7238880" y="3033360"/>
            <a:ext cx="673200" cy="1981440"/>
            <a:chOff x="7238880" y="3033360"/>
            <a:chExt cx="673200" cy="1981440"/>
          </a:xfrm>
        </p:grpSpPr>
        <p:sp>
          <p:nvSpPr>
            <p:cNvPr id="4133" name=""/>
            <p:cNvSpPr/>
            <p:nvPr/>
          </p:nvSpPr>
          <p:spPr>
            <a:xfrm flipV="1">
              <a:off x="7238880" y="3033360"/>
              <a:ext cx="58680" cy="11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348680" y="3033720"/>
              <a:ext cx="0" cy="1981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18520" y="3102120"/>
              <a:ext cx="0" cy="19126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488360" y="3170160"/>
              <a:ext cx="0" cy="18446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559640" y="3238560"/>
              <a:ext cx="0" cy="1776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29480" y="3375000"/>
              <a:ext cx="0" cy="163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699320" y="3511440"/>
              <a:ext cx="0" cy="1503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7770960" y="3648240"/>
              <a:ext cx="0" cy="13665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7840800" y="3784680"/>
              <a:ext cx="0" cy="1230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7912080" y="3922560"/>
              <a:ext cx="0" cy="1092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7277040" y="3033720"/>
              <a:ext cx="0" cy="1981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4" name=""/>
          <p:cNvSpPr/>
          <p:nvPr/>
        </p:nvSpPr>
        <p:spPr>
          <a:xfrm>
            <a:off x="76960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5" name=""/>
          <p:cNvGrpSpPr/>
          <p:nvPr/>
        </p:nvGrpSpPr>
        <p:grpSpPr>
          <a:xfrm>
            <a:off x="5410080" y="2986200"/>
            <a:ext cx="3581280" cy="2425320"/>
            <a:chOff x="5410080" y="2986200"/>
            <a:chExt cx="3581280" cy="2425320"/>
          </a:xfrm>
        </p:grpSpPr>
        <p:sp>
          <p:nvSpPr>
            <p:cNvPr id="4146" name=""/>
            <p:cNvSpPr/>
            <p:nvPr/>
          </p:nvSpPr>
          <p:spPr>
            <a:xfrm>
              <a:off x="6978600" y="4890960"/>
              <a:ext cx="38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7" name=""/>
            <p:cNvGrpSpPr/>
            <p:nvPr/>
          </p:nvGrpSpPr>
          <p:grpSpPr>
            <a:xfrm>
              <a:off x="5410080" y="2986200"/>
              <a:ext cx="3581280" cy="2057400"/>
              <a:chOff x="5410080" y="2986200"/>
              <a:chExt cx="3581280" cy="2057400"/>
            </a:xfrm>
          </p:grpSpPr>
          <p:sp>
            <p:nvSpPr>
              <p:cNvPr id="4148" name=""/>
              <p:cNvSpPr/>
              <p:nvPr/>
            </p:nvSpPr>
            <p:spPr>
              <a:xfrm>
                <a:off x="5410080" y="5043600"/>
                <a:ext cx="358128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7215120" y="2986200"/>
                <a:ext cx="0" cy="205740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 flipV="1">
                <a:off x="5473080" y="5029560"/>
                <a:ext cx="6444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V="1">
                <a:off x="5537880" y="5006160"/>
                <a:ext cx="64800" cy="22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V="1">
                <a:off x="5603040" y="4992840"/>
                <a:ext cx="4968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5653080" y="4969800"/>
                <a:ext cx="63000" cy="22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19"/>
                    </a:moveTo>
                    <a:lnTo>
                      <a:pt x="19" y="10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 flipV="1">
                <a:off x="5716440" y="4933080"/>
                <a:ext cx="48600" cy="36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5765400" y="4894920"/>
                <a:ext cx="63000" cy="3852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19" y="1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V="1">
                <a:off x="5828400" y="4858200"/>
                <a:ext cx="51840" cy="367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 flipV="1">
                <a:off x="5880240" y="4808880"/>
                <a:ext cx="63000" cy="48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 flipV="1">
                <a:off x="5943600" y="4758480"/>
                <a:ext cx="64440" cy="500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 flipV="1">
                <a:off x="6008400" y="4694400"/>
                <a:ext cx="46800" cy="640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6055560" y="4624200"/>
                <a:ext cx="66240" cy="702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5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 flipV="1">
                <a:off x="6122160" y="4547160"/>
                <a:ext cx="48240" cy="76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6170760" y="4460400"/>
                <a:ext cx="64800" cy="871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68"/>
                    </a:moveTo>
                    <a:lnTo>
                      <a:pt x="19" y="39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V="1">
                <a:off x="6235560" y="4362120"/>
                <a:ext cx="464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 flipV="1">
                <a:off x="6282360" y="4262760"/>
                <a:ext cx="64800" cy="99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V="1">
                <a:off x="6347520" y="4161600"/>
                <a:ext cx="662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V="1">
                <a:off x="6414120" y="4052880"/>
                <a:ext cx="48240" cy="108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6462720" y="392904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96"/>
                    </a:moveTo>
                    <a:lnTo>
                      <a:pt x="19" y="48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 flipV="1">
                <a:off x="6529320" y="3817440"/>
                <a:ext cx="4680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6576480" y="3705480"/>
                <a:ext cx="63000" cy="1116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87"/>
                    </a:moveTo>
                    <a:lnTo>
                      <a:pt x="19" y="38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 flipV="1">
                <a:off x="6639480" y="3593880"/>
                <a:ext cx="4824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 flipV="1">
                <a:off x="6688080" y="3483360"/>
                <a:ext cx="66240" cy="110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V="1">
                <a:off x="6754680" y="3382560"/>
                <a:ext cx="644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 flipV="1">
                <a:off x="6819480" y="3284280"/>
                <a:ext cx="482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6868080" y="3197520"/>
                <a:ext cx="63000" cy="871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6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6931440" y="312228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58"/>
                    </a:moveTo>
                    <a:lnTo>
                      <a:pt x="9" y="2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6981840" y="3071880"/>
                <a:ext cx="63000" cy="5040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39"/>
                    </a:moveTo>
                    <a:lnTo>
                      <a:pt x="19" y="2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7044840" y="3022920"/>
                <a:ext cx="4824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10" y="1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V="1">
                <a:off x="7093440" y="2998080"/>
                <a:ext cx="64800" cy="241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 flipV="1">
                <a:off x="7158600" y="2986200"/>
                <a:ext cx="64440" cy="122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7223400" y="2986200"/>
                <a:ext cx="50040" cy="122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7273800" y="2998440"/>
                <a:ext cx="64440" cy="241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0"/>
                    </a:moveTo>
                    <a:lnTo>
                      <a:pt x="19" y="10"/>
                    </a:lnTo>
                    <a:lnTo>
                      <a:pt x="39" y="2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7338600" y="3022920"/>
                <a:ext cx="4824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0"/>
                    </a:moveTo>
                    <a:lnTo>
                      <a:pt x="9" y="19"/>
                    </a:lnTo>
                    <a:lnTo>
                      <a:pt x="29" y="3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7387200" y="3071880"/>
                <a:ext cx="63000" cy="5040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0"/>
                    </a:moveTo>
                    <a:lnTo>
                      <a:pt x="19" y="20"/>
                    </a:lnTo>
                    <a:lnTo>
                      <a:pt x="38" y="3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7450200" y="3122280"/>
                <a:ext cx="48600" cy="7488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0"/>
                    </a:moveTo>
                    <a:lnTo>
                      <a:pt x="10" y="29"/>
                    </a:lnTo>
                    <a:lnTo>
                      <a:pt x="29" y="5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7499160" y="3197520"/>
                <a:ext cx="64440" cy="871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0"/>
                    </a:moveTo>
                    <a:lnTo>
                      <a:pt x="20" y="29"/>
                    </a:lnTo>
                    <a:lnTo>
                      <a:pt x="39" y="6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7563960" y="3284640"/>
                <a:ext cx="482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7612560" y="3382560"/>
                <a:ext cx="6480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7677720" y="3483360"/>
                <a:ext cx="66240" cy="110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7744320" y="3593880"/>
                <a:ext cx="4644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7790760" y="370548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0"/>
                    </a:moveTo>
                    <a:lnTo>
                      <a:pt x="19" y="38"/>
                    </a:lnTo>
                    <a:lnTo>
                      <a:pt x="38" y="87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7855920" y="3817440"/>
                <a:ext cx="4680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903080" y="392904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0"/>
                    </a:moveTo>
                    <a:lnTo>
                      <a:pt x="20" y="48"/>
                    </a:lnTo>
                    <a:lnTo>
                      <a:pt x="39" y="96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7969680" y="4053240"/>
                <a:ext cx="48240" cy="108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8018280" y="4161600"/>
                <a:ext cx="644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8083080" y="4262760"/>
                <a:ext cx="66240" cy="99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8149680" y="4362480"/>
                <a:ext cx="4680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8196480" y="4460400"/>
                <a:ext cx="64440" cy="871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0"/>
                    </a:moveTo>
                    <a:lnTo>
                      <a:pt x="19" y="39"/>
                    </a:lnTo>
                    <a:lnTo>
                      <a:pt x="38" y="6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8261280" y="4547520"/>
                <a:ext cx="48600" cy="76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8310240" y="4624200"/>
                <a:ext cx="64440" cy="702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0"/>
                    </a:moveTo>
                    <a:lnTo>
                      <a:pt x="20" y="29"/>
                    </a:lnTo>
                    <a:lnTo>
                      <a:pt x="39" y="5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8375040" y="4694400"/>
                <a:ext cx="46800" cy="640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8422200" y="4758840"/>
                <a:ext cx="66240" cy="500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8488800" y="4809240"/>
                <a:ext cx="63000" cy="48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8551800" y="4858200"/>
                <a:ext cx="51840" cy="367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8604000" y="4894920"/>
                <a:ext cx="61200" cy="3852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0"/>
                    </a:moveTo>
                    <a:lnTo>
                      <a:pt x="19" y="10"/>
                    </a:lnTo>
                    <a:lnTo>
                      <a:pt x="38" y="2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8665200" y="4933440"/>
                <a:ext cx="48600" cy="36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8714160" y="4969800"/>
                <a:ext cx="64440" cy="22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20" y="10"/>
                    </a:lnTo>
                    <a:lnTo>
                      <a:pt x="39" y="1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8778960" y="4992840"/>
                <a:ext cx="5004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8829360" y="5006520"/>
                <a:ext cx="64440" cy="22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8894160" y="5029560"/>
                <a:ext cx="6300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0" name=""/>
          <p:cNvSpPr/>
          <p:nvPr/>
        </p:nvSpPr>
        <p:spPr>
          <a:xfrm>
            <a:off x="640080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7924680" y="39625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6629400" y="3733920"/>
            <a:ext cx="0" cy="1295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3" name=""/>
          <p:cNvGrpSpPr/>
          <p:nvPr/>
        </p:nvGrpSpPr>
        <p:grpSpPr>
          <a:xfrm>
            <a:off x="6248520" y="5943600"/>
            <a:ext cx="2438280" cy="685800"/>
            <a:chOff x="6248520" y="5943600"/>
            <a:chExt cx="2438280" cy="685800"/>
          </a:xfrm>
        </p:grpSpPr>
        <p:sp>
          <p:nvSpPr>
            <p:cNvPr id="4214" name=""/>
            <p:cNvSpPr/>
            <p:nvPr/>
          </p:nvSpPr>
          <p:spPr>
            <a:xfrm>
              <a:off x="6248520" y="6338160"/>
              <a:ext cx="2438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15" name=""/>
            <p:cNvGraphicFramePr/>
            <p:nvPr/>
          </p:nvGraphicFramePr>
          <p:xfrm>
            <a:off x="6678720" y="5943600"/>
            <a:ext cx="1577520" cy="68580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42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78720" y="5943600"/>
                      <a:ext cx="15775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17" name=""/>
            <p:cNvSpPr txBox="1"/>
            <p:nvPr/>
          </p:nvSpPr>
          <p:spPr>
            <a:xfrm>
              <a:off x="6822000" y="6112440"/>
              <a:ext cx="1259280" cy="35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b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18" name=""/>
          <p:cNvSpPr/>
          <p:nvPr/>
        </p:nvSpPr>
        <p:spPr>
          <a:xfrm>
            <a:off x="6629400" y="403848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7391520" y="419112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0" name=""/>
          <p:cNvGrpSpPr/>
          <p:nvPr/>
        </p:nvGrpSpPr>
        <p:grpSpPr>
          <a:xfrm>
            <a:off x="4876920" y="5334120"/>
            <a:ext cx="3413160" cy="520560"/>
            <a:chOff x="4876920" y="5334120"/>
            <a:chExt cx="3413160" cy="520560"/>
          </a:xfrm>
        </p:grpSpPr>
        <p:sp>
          <p:nvSpPr>
            <p:cNvPr id="4221" name=""/>
            <p:cNvSpPr/>
            <p:nvPr/>
          </p:nvSpPr>
          <p:spPr>
            <a:xfrm>
              <a:off x="4876920" y="5334120"/>
              <a:ext cx="341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Z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cale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.4          1.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943600" y="5638680"/>
              <a:ext cx="531720" cy="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3" name=""/>
          <p:cNvGrpSpPr/>
          <p:nvPr/>
        </p:nvGrpSpPr>
        <p:grpSpPr>
          <a:xfrm>
            <a:off x="387360" y="4908600"/>
            <a:ext cx="1509480" cy="654840"/>
            <a:chOff x="387360" y="4908600"/>
            <a:chExt cx="1509480" cy="654840"/>
          </a:xfrm>
        </p:grpSpPr>
        <p:grpSp>
          <p:nvGrpSpPr>
            <p:cNvPr id="4224" name=""/>
            <p:cNvGrpSpPr/>
            <p:nvPr/>
          </p:nvGrpSpPr>
          <p:grpSpPr>
            <a:xfrm>
              <a:off x="830160" y="4908600"/>
              <a:ext cx="1066680" cy="654840"/>
              <a:chOff x="830160" y="4908600"/>
              <a:chExt cx="1066680" cy="654840"/>
            </a:xfrm>
          </p:grpSpPr>
          <p:sp>
            <p:nvSpPr>
              <p:cNvPr id="4225" name=""/>
              <p:cNvSpPr/>
              <p:nvPr/>
            </p:nvSpPr>
            <p:spPr>
              <a:xfrm>
                <a:off x="1135080" y="5273640"/>
                <a:ext cx="761760" cy="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1363320" y="5197320"/>
                <a:ext cx="18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1583640" y="4908600"/>
                <a:ext cx="294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1472400" y="490860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830160" y="5121360"/>
                <a:ext cx="152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1210680" y="490860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1" name=""/>
            <p:cNvSpPr/>
            <p:nvPr/>
          </p:nvSpPr>
          <p:spPr>
            <a:xfrm>
              <a:off x="387360" y="4969080"/>
              <a:ext cx="2476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2" name=""/>
          <p:cNvGrpSpPr/>
          <p:nvPr/>
        </p:nvGrpSpPr>
        <p:grpSpPr>
          <a:xfrm>
            <a:off x="387360" y="5486400"/>
            <a:ext cx="1509480" cy="654840"/>
            <a:chOff x="387360" y="5486400"/>
            <a:chExt cx="1509480" cy="654840"/>
          </a:xfrm>
        </p:grpSpPr>
        <p:grpSp>
          <p:nvGrpSpPr>
            <p:cNvPr id="4233" name=""/>
            <p:cNvGrpSpPr/>
            <p:nvPr/>
          </p:nvGrpSpPr>
          <p:grpSpPr>
            <a:xfrm>
              <a:off x="830160" y="5486400"/>
              <a:ext cx="1066680" cy="654840"/>
              <a:chOff x="830160" y="5486400"/>
              <a:chExt cx="1066680" cy="654840"/>
            </a:xfrm>
          </p:grpSpPr>
          <p:sp>
            <p:nvSpPr>
              <p:cNvPr id="4234" name=""/>
              <p:cNvSpPr/>
              <p:nvPr/>
            </p:nvSpPr>
            <p:spPr>
              <a:xfrm>
                <a:off x="1135080" y="5851440"/>
                <a:ext cx="761760" cy="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1363320" y="5775120"/>
                <a:ext cx="18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1583640" y="5486400"/>
                <a:ext cx="294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1472400" y="548640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830160" y="5699160"/>
                <a:ext cx="152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1210680" y="548640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0" name=""/>
            <p:cNvSpPr/>
            <p:nvPr/>
          </p:nvSpPr>
          <p:spPr>
            <a:xfrm>
              <a:off x="387360" y="5546880"/>
              <a:ext cx="2476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0140-A130-42CE-A237-4C56A4969E40}" type="slidenum">
              <a:t>59</a:t>
            </a:fld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4360" y="114480"/>
            <a:ext cx="667728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Continuous Random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28880" y="1089000"/>
            <a:ext cx="7029360" cy="1068840"/>
          </a:xfrm>
          <a:prstGeom prst="rect">
            <a:avLst/>
          </a:prstGeom>
          <a:gradFill rotWithShape="0">
            <a:gsLst>
              <a:gs pos="0">
                <a:srgbClr val="ef73bd"/>
              </a:gs>
              <a:gs pos="50000">
                <a:srgbClr val="fefefe"/>
              </a:gs>
              <a:gs pos="100000">
                <a:srgbClr val="ef73bd"/>
              </a:gs>
            </a:gsLst>
            <a:lin ang="8100000"/>
          </a:gra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Total su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probabilities                            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hould always b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640" y="2273400"/>
            <a:ext cx="8191800" cy="3201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becf9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0033cc"/>
            </a:solidFill>
            <a:miter/>
          </a:ln>
          <a:effectLst>
            <a:outerShdw dist="119669" dir="73181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dealing with a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                                                  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Continuous Random Variable</a:t>
            </a:r>
            <a:r>
              <a:rPr b="0" i="1" lang="en-US" sz="4000" spc="-1" strike="noStrike">
                <a:solidFill>
                  <a:srgbClr val="808080"/>
                </a:solidFill>
                <a:latin typeface="Times New Roman"/>
              </a:rPr>
              <a:t>                 </a:t>
            </a:r>
            <a:r>
              <a:rPr b="1" i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we assume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e probabil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 the variable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                             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ill take on any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articular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 val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is 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6200" y="5133960"/>
            <a:ext cx="8410680" cy="106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ste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                    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Probabilities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sign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ntervals of valu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5800" y="6353280"/>
            <a:ext cx="7772040" cy="304560"/>
            <a:chOff x="685800" y="6353280"/>
            <a:chExt cx="7772040" cy="304560"/>
          </a:xfrm>
        </p:grpSpPr>
        <p:sp>
          <p:nvSpPr>
            <p:cNvPr id="108" name=""/>
            <p:cNvSpPr/>
            <p:nvPr/>
          </p:nvSpPr>
          <p:spPr>
            <a:xfrm flipV="1">
              <a:off x="685800" y="6424920"/>
              <a:ext cx="7772040" cy="144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ball16" descr=""/>
            <p:cNvPicPr/>
            <p:nvPr/>
          </p:nvPicPr>
          <p:blipFill>
            <a:blip r:embed="rId4"/>
            <a:stretch/>
          </p:blipFill>
          <p:spPr>
            <a:xfrm>
              <a:off x="4442040" y="6353280"/>
              <a:ext cx="56412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C42C-D22B-4448-9BE0-6A298075B5BA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1" name=""/>
          <p:cNvGrpSpPr/>
          <p:nvPr/>
        </p:nvGrpSpPr>
        <p:grpSpPr>
          <a:xfrm>
            <a:off x="1295280" y="228600"/>
            <a:ext cx="5730480" cy="1755000"/>
            <a:chOff x="1295280" y="228600"/>
            <a:chExt cx="5730480" cy="1755000"/>
          </a:xfrm>
        </p:grpSpPr>
        <p:pic>
          <p:nvPicPr>
            <p:cNvPr id="4242" name="" descr=""/>
            <p:cNvPicPr/>
            <p:nvPr/>
          </p:nvPicPr>
          <p:blipFill>
            <a:blip r:embed="rId1"/>
            <a:srcRect l="10606" t="28555" r="-19227" b="26774"/>
            <a:stretch/>
          </p:blipFill>
          <p:spPr>
            <a:xfrm>
              <a:off x="1295280" y="228600"/>
              <a:ext cx="22100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3" name=""/>
            <p:cNvSpPr txBox="1"/>
            <p:nvPr/>
          </p:nvSpPr>
          <p:spPr>
            <a:xfrm>
              <a:off x="2209680" y="990720"/>
              <a:ext cx="900360" cy="79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ff3300"/>
                    </a:outerShdw>
                  </a:effectLst>
                  <a:latin typeface="Times New Roman"/>
                </a:rPr>
                <a:t>P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2818800" y="1219320"/>
              <a:ext cx="4206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robability that…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5" name=""/>
          <p:cNvSpPr/>
          <p:nvPr/>
        </p:nvSpPr>
        <p:spPr>
          <a:xfrm>
            <a:off x="647640" y="1806480"/>
            <a:ext cx="8001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person from Newmarket, selected at random,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will use between 76 and 92 litres per day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 flipV="1">
            <a:off x="609480" y="2589840"/>
            <a:ext cx="7925040" cy="75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228600" y="4876920"/>
            <a:ext cx="8686800" cy="1190520"/>
          </a:xfrm>
          <a:prstGeom prst="rect">
            <a:avLst/>
          </a:prstGeom>
          <a:solidFill>
            <a:srgbClr val="f8f9db"/>
          </a:soli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rea under a normal curve between 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z-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76</a:t>
            </a:r>
            <a:r>
              <a:rPr b="1" lang="en-US" sz="2400" spc="-1" strike="noStrike">
                <a:solidFill>
                  <a:srgbClr val="7912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                       a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5403</a:t>
            </a:r>
            <a:r>
              <a:rPr b="1" lang="en-US" sz="2400" spc="-1" strike="noStrike">
                <a:solidFill>
                  <a:srgbClr val="05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50000"/>
                </a:solidFill>
                <a:latin typeface="Times New Roman"/>
              </a:rPr>
              <a:t>therefore, we conclude tha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4.03%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50000"/>
                </a:solidFill>
                <a:latin typeface="Times New Roman"/>
              </a:rPr>
              <a:t>of the residents will use betwee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76 to 92 litres per day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8" name=""/>
          <p:cNvGrpSpPr/>
          <p:nvPr/>
        </p:nvGrpSpPr>
        <p:grpSpPr>
          <a:xfrm>
            <a:off x="228600" y="2819520"/>
            <a:ext cx="5181480" cy="811080"/>
            <a:chOff x="228600" y="2819520"/>
            <a:chExt cx="5181480" cy="811080"/>
          </a:xfrm>
        </p:grpSpPr>
        <p:grpSp>
          <p:nvGrpSpPr>
            <p:cNvPr id="4249" name=""/>
            <p:cNvGrpSpPr/>
            <p:nvPr/>
          </p:nvGrpSpPr>
          <p:grpSpPr>
            <a:xfrm>
              <a:off x="228600" y="2819520"/>
              <a:ext cx="685800" cy="811080"/>
              <a:chOff x="228600" y="2819520"/>
              <a:chExt cx="685800" cy="811080"/>
            </a:xfrm>
          </p:grpSpPr>
          <p:pic>
            <p:nvPicPr>
              <p:cNvPr id="42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8195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1" name=""/>
              <p:cNvSpPr/>
              <p:nvPr/>
            </p:nvSpPr>
            <p:spPr>
              <a:xfrm>
                <a:off x="282960" y="2895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1066680" y="3017880"/>
              <a:ext cx="434340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.40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then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1.20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3" name=""/>
          <p:cNvSpPr/>
          <p:nvPr/>
        </p:nvSpPr>
        <p:spPr>
          <a:xfrm>
            <a:off x="1905120" y="420516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1905120" y="3657600"/>
            <a:ext cx="68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2438280" y="3733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15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"/>
          <p:cNvSpPr/>
          <p:nvPr/>
        </p:nvSpPr>
        <p:spPr>
          <a:xfrm>
            <a:off x="2438280" y="4343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38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"/>
          <p:cNvSpPr/>
          <p:nvPr/>
        </p:nvSpPr>
        <p:spPr>
          <a:xfrm>
            <a:off x="5867280" y="387036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.54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8" name=""/>
          <p:cNvGrpSpPr/>
          <p:nvPr/>
        </p:nvGrpSpPr>
        <p:grpSpPr>
          <a:xfrm>
            <a:off x="3643200" y="3809880"/>
            <a:ext cx="2223360" cy="914400"/>
            <a:chOff x="3643200" y="3809880"/>
            <a:chExt cx="2223360" cy="914400"/>
          </a:xfrm>
        </p:grpSpPr>
        <p:sp>
          <p:nvSpPr>
            <p:cNvPr id="4259" name=""/>
            <p:cNvSpPr/>
            <p:nvPr/>
          </p:nvSpPr>
          <p:spPr>
            <a:xfrm>
              <a:off x="3643200" y="3809880"/>
              <a:ext cx="380880" cy="9144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4016880" y="4003560"/>
              <a:ext cx="184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Add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toge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1" name=""/>
          <p:cNvGrpSpPr/>
          <p:nvPr/>
        </p:nvGrpSpPr>
        <p:grpSpPr>
          <a:xfrm>
            <a:off x="7620120" y="6192720"/>
            <a:ext cx="1371600" cy="581400"/>
            <a:chOff x="7620120" y="6192720"/>
            <a:chExt cx="1371600" cy="581400"/>
          </a:xfrm>
        </p:grpSpPr>
        <p:sp>
          <p:nvSpPr>
            <p:cNvPr id="4262" name=""/>
            <p:cNvSpPr/>
            <p:nvPr/>
          </p:nvSpPr>
          <p:spPr>
            <a:xfrm>
              <a:off x="7620120" y="6192720"/>
              <a:ext cx="1371600" cy="581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e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63" name="" descr=""/>
            <p:cNvPicPr/>
            <p:nvPr/>
          </p:nvPicPr>
          <p:blipFill>
            <a:blip r:embed="rId4"/>
            <a:stretch/>
          </p:blipFill>
          <p:spPr>
            <a:xfrm>
              <a:off x="8458200" y="6269040"/>
              <a:ext cx="533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3C9AC-B5D2-4E21-8414-CAF99A26DAA2}" type="slidenum">
              <a:t>60</a:t>
            </a:fld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4" name=""/>
          <p:cNvGrpSpPr/>
          <p:nvPr/>
        </p:nvGrpSpPr>
        <p:grpSpPr>
          <a:xfrm>
            <a:off x="3733920" y="138240"/>
            <a:ext cx="1704600" cy="623880"/>
            <a:chOff x="3733920" y="138240"/>
            <a:chExt cx="1704600" cy="623880"/>
          </a:xfrm>
        </p:grpSpPr>
        <p:sp>
          <p:nvSpPr>
            <p:cNvPr id="4265" name=""/>
            <p:cNvSpPr txBox="1"/>
            <p:nvPr/>
          </p:nvSpPr>
          <p:spPr>
            <a:xfrm>
              <a:off x="3733920" y="138240"/>
              <a:ext cx="414720" cy="623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266" name=""/>
            <p:cNvSpPr txBox="1"/>
            <p:nvPr/>
          </p:nvSpPr>
          <p:spPr>
            <a:xfrm>
              <a:off x="4171320" y="288000"/>
              <a:ext cx="1267200" cy="34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67" name=""/>
          <p:cNvSpPr/>
          <p:nvPr/>
        </p:nvSpPr>
        <p:spPr>
          <a:xfrm>
            <a:off x="228600" y="990720"/>
            <a:ext cx="3657600" cy="304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sor Mann has determined that the scores  in his statistics course are approximately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rmally distribu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with a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n of 7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         a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standard deviation of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3886200" y="2743200"/>
            <a:ext cx="5219640" cy="1434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 the score that separates                                   an </a:t>
            </a: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 txBox="1"/>
          <p:nvPr/>
        </p:nvSpPr>
        <p:spPr>
          <a:xfrm>
            <a:off x="4838760" y="914400"/>
            <a:ext cx="346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/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/>
                  </a:outerShdw>
                </a:effectLst>
                <a:latin typeface="Times New Roman"/>
              </a:rPr>
              <a:t>Sol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ff33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228600" y="4194000"/>
            <a:ext cx="3809880" cy="2654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announces to the class that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the top 15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perc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of the scores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will earn an 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lowest sco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 student can earn                         and still receive an 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1" name=""/>
          <p:cNvGrpSpPr/>
          <p:nvPr/>
        </p:nvGrpSpPr>
        <p:grpSpPr>
          <a:xfrm>
            <a:off x="4648320" y="3962520"/>
            <a:ext cx="3580920" cy="2425320"/>
            <a:chOff x="4648320" y="3962520"/>
            <a:chExt cx="3580920" cy="2425320"/>
          </a:xfrm>
        </p:grpSpPr>
        <p:sp>
          <p:nvSpPr>
            <p:cNvPr id="4272" name=""/>
            <p:cNvSpPr/>
            <p:nvPr/>
          </p:nvSpPr>
          <p:spPr>
            <a:xfrm>
              <a:off x="6216840" y="5867280"/>
              <a:ext cx="38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3" name=""/>
            <p:cNvGrpSpPr/>
            <p:nvPr/>
          </p:nvGrpSpPr>
          <p:grpSpPr>
            <a:xfrm>
              <a:off x="4648320" y="3962520"/>
              <a:ext cx="3580920" cy="2057400"/>
              <a:chOff x="4648320" y="3962520"/>
              <a:chExt cx="3580920" cy="2057400"/>
            </a:xfrm>
          </p:grpSpPr>
          <p:sp>
            <p:nvSpPr>
              <p:cNvPr id="4274" name=""/>
              <p:cNvSpPr/>
              <p:nvPr/>
            </p:nvSpPr>
            <p:spPr>
              <a:xfrm>
                <a:off x="4648320" y="6019920"/>
                <a:ext cx="358092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6453360" y="3962520"/>
                <a:ext cx="0" cy="205740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flipV="1">
                <a:off x="4711320" y="6005880"/>
                <a:ext cx="6444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V="1">
                <a:off x="4776120" y="5982480"/>
                <a:ext cx="64800" cy="22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 flipV="1">
                <a:off x="4841280" y="5969160"/>
                <a:ext cx="4968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891320" y="5946120"/>
                <a:ext cx="63000" cy="22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19"/>
                    </a:moveTo>
                    <a:lnTo>
                      <a:pt x="19" y="10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 flipV="1">
                <a:off x="4954680" y="5909400"/>
                <a:ext cx="48600" cy="36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5003280" y="5871240"/>
                <a:ext cx="63000" cy="3852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19" y="1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 flipV="1">
                <a:off x="5066640" y="5834520"/>
                <a:ext cx="51840" cy="367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 flipV="1">
                <a:off x="5118480" y="5785200"/>
                <a:ext cx="63000" cy="48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 flipV="1">
                <a:off x="5181840" y="5734800"/>
                <a:ext cx="64440" cy="500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V="1">
                <a:off x="5246640" y="5670720"/>
                <a:ext cx="46800" cy="640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5293800" y="5600520"/>
                <a:ext cx="66240" cy="702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5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 flipV="1">
                <a:off x="5360040" y="5523480"/>
                <a:ext cx="48240" cy="76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408640" y="5436720"/>
                <a:ext cx="64800" cy="871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68"/>
                    </a:moveTo>
                    <a:lnTo>
                      <a:pt x="19" y="39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flipV="1">
                <a:off x="5473800" y="5338440"/>
                <a:ext cx="464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 flipV="1">
                <a:off x="5520600" y="5239080"/>
                <a:ext cx="64800" cy="99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 flipV="1">
                <a:off x="5585760" y="5137920"/>
                <a:ext cx="662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 flipV="1">
                <a:off x="5652360" y="5029200"/>
                <a:ext cx="48240" cy="108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5700960" y="490536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96"/>
                    </a:moveTo>
                    <a:lnTo>
                      <a:pt x="19" y="48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 flipV="1">
                <a:off x="5767200" y="4793760"/>
                <a:ext cx="4680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5814360" y="4681800"/>
                <a:ext cx="63000" cy="1116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87"/>
                    </a:moveTo>
                    <a:lnTo>
                      <a:pt x="19" y="38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 flipV="1">
                <a:off x="5877720" y="4570200"/>
                <a:ext cx="4824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 flipV="1">
                <a:off x="5926320" y="4459680"/>
                <a:ext cx="66240" cy="110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 flipV="1">
                <a:off x="5992920" y="4358880"/>
                <a:ext cx="644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V="1">
                <a:off x="6057720" y="4260600"/>
                <a:ext cx="482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6105960" y="4173840"/>
                <a:ext cx="63000" cy="871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6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6169320" y="409860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58"/>
                    </a:moveTo>
                    <a:lnTo>
                      <a:pt x="9" y="2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6219720" y="4048200"/>
                <a:ext cx="63000" cy="5040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39"/>
                    </a:moveTo>
                    <a:lnTo>
                      <a:pt x="19" y="2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6283080" y="3999240"/>
                <a:ext cx="4824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10" y="1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 flipV="1">
                <a:off x="6331680" y="3974400"/>
                <a:ext cx="64800" cy="241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V="1">
                <a:off x="6396840" y="3962520"/>
                <a:ext cx="64440" cy="122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6461280" y="3962520"/>
                <a:ext cx="50040" cy="122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6511680" y="3974760"/>
                <a:ext cx="64440" cy="241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0"/>
                    </a:moveTo>
                    <a:lnTo>
                      <a:pt x="19" y="10"/>
                    </a:lnTo>
                    <a:lnTo>
                      <a:pt x="39" y="2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6576480" y="3999240"/>
                <a:ext cx="4824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0"/>
                    </a:moveTo>
                    <a:lnTo>
                      <a:pt x="9" y="19"/>
                    </a:lnTo>
                    <a:lnTo>
                      <a:pt x="29" y="3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6625080" y="4048200"/>
                <a:ext cx="63000" cy="5040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0"/>
                    </a:moveTo>
                    <a:lnTo>
                      <a:pt x="19" y="20"/>
                    </a:lnTo>
                    <a:lnTo>
                      <a:pt x="38" y="3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6688440" y="4098600"/>
                <a:ext cx="48600" cy="7488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0"/>
                    </a:moveTo>
                    <a:lnTo>
                      <a:pt x="10" y="29"/>
                    </a:lnTo>
                    <a:lnTo>
                      <a:pt x="29" y="5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6737400" y="4173840"/>
                <a:ext cx="64440" cy="871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0"/>
                    </a:moveTo>
                    <a:lnTo>
                      <a:pt x="20" y="29"/>
                    </a:lnTo>
                    <a:lnTo>
                      <a:pt x="39" y="6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801840" y="4260960"/>
                <a:ext cx="482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6850440" y="4358880"/>
                <a:ext cx="6480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6915600" y="4459680"/>
                <a:ext cx="66240" cy="110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6982200" y="4570200"/>
                <a:ext cx="4644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7029000" y="468180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0"/>
                    </a:moveTo>
                    <a:lnTo>
                      <a:pt x="19" y="38"/>
                    </a:lnTo>
                    <a:lnTo>
                      <a:pt x="38" y="87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7094160" y="4793760"/>
                <a:ext cx="4680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7140960" y="490536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0"/>
                    </a:moveTo>
                    <a:lnTo>
                      <a:pt x="20" y="48"/>
                    </a:lnTo>
                    <a:lnTo>
                      <a:pt x="39" y="96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7207560" y="5029560"/>
                <a:ext cx="48240" cy="108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7256160" y="5137920"/>
                <a:ext cx="644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7320960" y="5239080"/>
                <a:ext cx="66240" cy="99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387560" y="5338800"/>
                <a:ext cx="4680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434720" y="5436720"/>
                <a:ext cx="64440" cy="871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0"/>
                    </a:moveTo>
                    <a:lnTo>
                      <a:pt x="19" y="39"/>
                    </a:lnTo>
                    <a:lnTo>
                      <a:pt x="38" y="6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499160" y="5523840"/>
                <a:ext cx="48600" cy="76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7548120" y="5600520"/>
                <a:ext cx="64440" cy="702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0"/>
                    </a:moveTo>
                    <a:lnTo>
                      <a:pt x="20" y="29"/>
                    </a:lnTo>
                    <a:lnTo>
                      <a:pt x="39" y="5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612920" y="5670720"/>
                <a:ext cx="46800" cy="640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7660080" y="5735160"/>
                <a:ext cx="66240" cy="500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7726680" y="5785560"/>
                <a:ext cx="63000" cy="48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7790040" y="5834520"/>
                <a:ext cx="51840" cy="367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841880" y="5871240"/>
                <a:ext cx="61200" cy="3852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0"/>
                    </a:moveTo>
                    <a:lnTo>
                      <a:pt x="19" y="10"/>
                    </a:lnTo>
                    <a:lnTo>
                      <a:pt x="38" y="2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7903080" y="5909760"/>
                <a:ext cx="48600" cy="36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7952040" y="5946120"/>
                <a:ext cx="64440" cy="22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20" y="10"/>
                    </a:lnTo>
                    <a:lnTo>
                      <a:pt x="39" y="1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8016840" y="5969160"/>
                <a:ext cx="5004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8067240" y="5982840"/>
                <a:ext cx="64440" cy="22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8132040" y="6005880"/>
                <a:ext cx="6300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6" name=""/>
          <p:cNvSpPr/>
          <p:nvPr/>
        </p:nvSpPr>
        <p:spPr>
          <a:xfrm>
            <a:off x="7162920" y="4938840"/>
            <a:ext cx="0" cy="10666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6248520" y="63086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6934320" y="5943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7164360" y="5438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5794560" y="5091120"/>
            <a:ext cx="14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 flipH="1">
            <a:off x="4724280" y="5624640"/>
            <a:ext cx="2438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4805280" y="1600200"/>
            <a:ext cx="41101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ketch given information</a:t>
            </a:r>
            <a:r>
              <a:rPr b="1" i="1" lang="en-US" sz="2400" spc="-1" strike="noStrike">
                <a:solidFill>
                  <a:srgbClr val="6699ff"/>
                </a:solidFill>
                <a:latin typeface="Times New Roman"/>
              </a:rPr>
              <a:t>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n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the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3" name=""/>
          <p:cNvGrpSpPr/>
          <p:nvPr/>
        </p:nvGrpSpPr>
        <p:grpSpPr>
          <a:xfrm>
            <a:off x="3944880" y="1600200"/>
            <a:ext cx="627120" cy="811080"/>
            <a:chOff x="3944880" y="1600200"/>
            <a:chExt cx="627120" cy="811080"/>
          </a:xfrm>
        </p:grpSpPr>
        <p:pic>
          <p:nvPicPr>
            <p:cNvPr id="4344" name="" descr=""/>
            <p:cNvPicPr/>
            <p:nvPr/>
          </p:nvPicPr>
          <p:blipFill>
            <a:blip r:embed="rId6"/>
            <a:stretch/>
          </p:blipFill>
          <p:spPr>
            <a:xfrm>
              <a:off x="3944880" y="1600200"/>
              <a:ext cx="6271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5" name=""/>
            <p:cNvSpPr/>
            <p:nvPr/>
          </p:nvSpPr>
          <p:spPr>
            <a:xfrm>
              <a:off x="3996000" y="16761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912E-711F-4779-8F01-63E5A9B5F094}" type="slidenum">
              <a:t>61</a:t>
            </a:fld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"/>
          <p:cNvSpPr/>
          <p:nvPr/>
        </p:nvSpPr>
        <p:spPr>
          <a:xfrm>
            <a:off x="457200" y="1143000"/>
            <a:ext cx="3352680" cy="27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90512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gin, let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 the score that separates                                   an 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a 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457200" y="3733920"/>
            <a:ext cx="3352680" cy="3506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</a:rPr>
              <a:t>15 percent of the stud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core more                  than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35 perc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ust score between the 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n of 7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 txBox="1"/>
          <p:nvPr/>
        </p:nvSpPr>
        <p:spPr>
          <a:xfrm>
            <a:off x="380880" y="990720"/>
            <a:ext cx="346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/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/>
                  </a:outerShdw>
                </a:effectLst>
                <a:latin typeface="Times New Roman"/>
              </a:rPr>
              <a:t>Sol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ff33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349" name=""/>
          <p:cNvGrpSpPr/>
          <p:nvPr/>
        </p:nvGrpSpPr>
        <p:grpSpPr>
          <a:xfrm>
            <a:off x="6629400" y="1949040"/>
            <a:ext cx="673200" cy="1981440"/>
            <a:chOff x="6629400" y="1949040"/>
            <a:chExt cx="673200" cy="1981440"/>
          </a:xfrm>
        </p:grpSpPr>
        <p:sp>
          <p:nvSpPr>
            <p:cNvPr id="4350" name=""/>
            <p:cNvSpPr/>
            <p:nvPr/>
          </p:nvSpPr>
          <p:spPr>
            <a:xfrm flipV="1">
              <a:off x="6629400" y="1949040"/>
              <a:ext cx="58680" cy="11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6739200" y="1949400"/>
              <a:ext cx="0" cy="1981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6809040" y="2017800"/>
              <a:ext cx="0" cy="19126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6878880" y="2085840"/>
              <a:ext cx="0" cy="18446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6950160" y="2154240"/>
              <a:ext cx="0" cy="1776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7020000" y="2290680"/>
              <a:ext cx="0" cy="163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7089840" y="2427120"/>
              <a:ext cx="0" cy="1503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7161480" y="2563920"/>
              <a:ext cx="0" cy="13665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231320" y="2700360"/>
              <a:ext cx="0" cy="1230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7302600" y="2838240"/>
              <a:ext cx="0" cy="1092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667560" y="1949400"/>
              <a:ext cx="0" cy="1981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1" name=""/>
          <p:cNvGrpSpPr/>
          <p:nvPr/>
        </p:nvGrpSpPr>
        <p:grpSpPr>
          <a:xfrm>
            <a:off x="4800600" y="1901880"/>
            <a:ext cx="3580920" cy="2425320"/>
            <a:chOff x="4800600" y="1901880"/>
            <a:chExt cx="3580920" cy="2425320"/>
          </a:xfrm>
        </p:grpSpPr>
        <p:sp>
          <p:nvSpPr>
            <p:cNvPr id="4362" name=""/>
            <p:cNvSpPr/>
            <p:nvPr/>
          </p:nvSpPr>
          <p:spPr>
            <a:xfrm>
              <a:off x="6369120" y="3806640"/>
              <a:ext cx="38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3" name=""/>
            <p:cNvGrpSpPr/>
            <p:nvPr/>
          </p:nvGrpSpPr>
          <p:grpSpPr>
            <a:xfrm>
              <a:off x="4800600" y="1901880"/>
              <a:ext cx="3580920" cy="2057400"/>
              <a:chOff x="4800600" y="1901880"/>
              <a:chExt cx="3580920" cy="2057400"/>
            </a:xfrm>
          </p:grpSpPr>
          <p:sp>
            <p:nvSpPr>
              <p:cNvPr id="4364" name=""/>
              <p:cNvSpPr/>
              <p:nvPr/>
            </p:nvSpPr>
            <p:spPr>
              <a:xfrm>
                <a:off x="4800600" y="3959280"/>
                <a:ext cx="358092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6605640" y="1901880"/>
                <a:ext cx="0" cy="205740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 flipV="1">
                <a:off x="4863600" y="3945240"/>
                <a:ext cx="6444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 flipV="1">
                <a:off x="4928400" y="3921840"/>
                <a:ext cx="64800" cy="22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 flipV="1">
                <a:off x="4993560" y="3908520"/>
                <a:ext cx="4968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5043600" y="3885480"/>
                <a:ext cx="63000" cy="22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19"/>
                    </a:moveTo>
                    <a:lnTo>
                      <a:pt x="19" y="10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 flipV="1">
                <a:off x="5106960" y="3848760"/>
                <a:ext cx="48600" cy="36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5155560" y="3810600"/>
                <a:ext cx="63000" cy="3852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19" y="1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 flipV="1">
                <a:off x="5218920" y="3773880"/>
                <a:ext cx="51840" cy="367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 flipV="1">
                <a:off x="5270760" y="3724560"/>
                <a:ext cx="63000" cy="48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 flipV="1">
                <a:off x="5334120" y="3674160"/>
                <a:ext cx="64440" cy="500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 flipV="1">
                <a:off x="5398920" y="3610080"/>
                <a:ext cx="46800" cy="640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5446080" y="3539880"/>
                <a:ext cx="66240" cy="702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5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 flipV="1">
                <a:off x="5512320" y="3462840"/>
                <a:ext cx="48240" cy="76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5560920" y="3376080"/>
                <a:ext cx="64800" cy="871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68"/>
                    </a:moveTo>
                    <a:lnTo>
                      <a:pt x="19" y="39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 flipV="1">
                <a:off x="5626080" y="3277800"/>
                <a:ext cx="464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 flipV="1">
                <a:off x="5672880" y="3178440"/>
                <a:ext cx="64800" cy="99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 flipV="1">
                <a:off x="5738040" y="3077280"/>
                <a:ext cx="662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 flipV="1">
                <a:off x="5804640" y="2968560"/>
                <a:ext cx="48240" cy="108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5853240" y="284472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96"/>
                    </a:moveTo>
                    <a:lnTo>
                      <a:pt x="19" y="48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 flipV="1">
                <a:off x="5919480" y="2733120"/>
                <a:ext cx="4680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5966640" y="2621160"/>
                <a:ext cx="63000" cy="1116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87"/>
                    </a:moveTo>
                    <a:lnTo>
                      <a:pt x="19" y="38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 flipV="1">
                <a:off x="6030000" y="2509560"/>
                <a:ext cx="4824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 flipV="1">
                <a:off x="6078600" y="2399040"/>
                <a:ext cx="66240" cy="110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 flipV="1">
                <a:off x="6145200" y="2298240"/>
                <a:ext cx="644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 flipV="1">
                <a:off x="6210000" y="2199960"/>
                <a:ext cx="482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6258240" y="2113200"/>
                <a:ext cx="63000" cy="871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6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6321600" y="203796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58"/>
                    </a:moveTo>
                    <a:lnTo>
                      <a:pt x="9" y="2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6372000" y="1987560"/>
                <a:ext cx="63000" cy="5040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39"/>
                    </a:moveTo>
                    <a:lnTo>
                      <a:pt x="19" y="2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6435360" y="1938600"/>
                <a:ext cx="4824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10" y="1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V="1">
                <a:off x="6483960" y="1913760"/>
                <a:ext cx="64800" cy="241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 flipV="1">
                <a:off x="6549120" y="1901880"/>
                <a:ext cx="64440" cy="122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613560" y="1901880"/>
                <a:ext cx="50040" cy="122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663960" y="1914120"/>
                <a:ext cx="64440" cy="241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0"/>
                    </a:moveTo>
                    <a:lnTo>
                      <a:pt x="19" y="10"/>
                    </a:lnTo>
                    <a:lnTo>
                      <a:pt x="39" y="2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728760" y="1938600"/>
                <a:ext cx="4824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0"/>
                    </a:moveTo>
                    <a:lnTo>
                      <a:pt x="9" y="19"/>
                    </a:lnTo>
                    <a:lnTo>
                      <a:pt x="29" y="3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6777360" y="1987560"/>
                <a:ext cx="63000" cy="5040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0"/>
                    </a:moveTo>
                    <a:lnTo>
                      <a:pt x="19" y="20"/>
                    </a:lnTo>
                    <a:lnTo>
                      <a:pt x="38" y="3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6840720" y="2037960"/>
                <a:ext cx="48600" cy="7488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0"/>
                    </a:moveTo>
                    <a:lnTo>
                      <a:pt x="10" y="29"/>
                    </a:lnTo>
                    <a:lnTo>
                      <a:pt x="29" y="5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889680" y="2113200"/>
                <a:ext cx="64440" cy="871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0"/>
                    </a:moveTo>
                    <a:lnTo>
                      <a:pt x="20" y="29"/>
                    </a:lnTo>
                    <a:lnTo>
                      <a:pt x="39" y="6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6954120" y="2200320"/>
                <a:ext cx="482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7002720" y="2298240"/>
                <a:ext cx="6480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7067880" y="2399040"/>
                <a:ext cx="66240" cy="110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7134480" y="2509560"/>
                <a:ext cx="4644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7181280" y="262116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0"/>
                    </a:moveTo>
                    <a:lnTo>
                      <a:pt x="19" y="38"/>
                    </a:lnTo>
                    <a:lnTo>
                      <a:pt x="38" y="87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7246440" y="2733120"/>
                <a:ext cx="4680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293240" y="284472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0"/>
                    </a:moveTo>
                    <a:lnTo>
                      <a:pt x="20" y="48"/>
                    </a:lnTo>
                    <a:lnTo>
                      <a:pt x="39" y="96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7359840" y="2968920"/>
                <a:ext cx="48240" cy="108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7408440" y="3077280"/>
                <a:ext cx="644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7473240" y="3178440"/>
                <a:ext cx="66240" cy="99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539840" y="3278160"/>
                <a:ext cx="4680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7587000" y="3376080"/>
                <a:ext cx="64440" cy="871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0"/>
                    </a:moveTo>
                    <a:lnTo>
                      <a:pt x="19" y="39"/>
                    </a:lnTo>
                    <a:lnTo>
                      <a:pt x="38" y="6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651440" y="3463200"/>
                <a:ext cx="48600" cy="76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7700400" y="3539880"/>
                <a:ext cx="64440" cy="702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0"/>
                    </a:moveTo>
                    <a:lnTo>
                      <a:pt x="20" y="29"/>
                    </a:lnTo>
                    <a:lnTo>
                      <a:pt x="39" y="5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765200" y="3610080"/>
                <a:ext cx="46800" cy="640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7812360" y="3674520"/>
                <a:ext cx="66240" cy="500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7878960" y="3724920"/>
                <a:ext cx="63000" cy="48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7942320" y="3773880"/>
                <a:ext cx="51840" cy="367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994160" y="3810600"/>
                <a:ext cx="61200" cy="3852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0"/>
                    </a:moveTo>
                    <a:lnTo>
                      <a:pt x="19" y="10"/>
                    </a:lnTo>
                    <a:lnTo>
                      <a:pt x="38" y="2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8055360" y="3849120"/>
                <a:ext cx="48600" cy="36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8104320" y="3885480"/>
                <a:ext cx="64440" cy="22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20" y="10"/>
                    </a:lnTo>
                    <a:lnTo>
                      <a:pt x="39" y="1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8169120" y="3908520"/>
                <a:ext cx="5004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8219520" y="3922200"/>
                <a:ext cx="64440" cy="22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8284320" y="3945240"/>
                <a:ext cx="6300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26" name=""/>
          <p:cNvSpPr/>
          <p:nvPr/>
        </p:nvSpPr>
        <p:spPr>
          <a:xfrm>
            <a:off x="7315200" y="289260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>
            <a:off x="6324480" y="28162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6400800" y="43257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7086600" y="3944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>
            <a:off x="7393680" y="3425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>
            <a:off x="7315200" y="38862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>
            <a:off x="7620120" y="29685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>
            <a:off x="3962520" y="4417920"/>
            <a:ext cx="5029200" cy="1432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, use the table “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backwar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 to find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z-sco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corresponding to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4" name=""/>
          <p:cNvGrpSpPr/>
          <p:nvPr/>
        </p:nvGrpSpPr>
        <p:grpSpPr>
          <a:xfrm>
            <a:off x="6248520" y="5943600"/>
            <a:ext cx="2438280" cy="685800"/>
            <a:chOff x="6248520" y="5943600"/>
            <a:chExt cx="2438280" cy="685800"/>
          </a:xfrm>
        </p:grpSpPr>
        <p:sp>
          <p:nvSpPr>
            <p:cNvPr id="4435" name=""/>
            <p:cNvSpPr/>
            <p:nvPr/>
          </p:nvSpPr>
          <p:spPr>
            <a:xfrm>
              <a:off x="6248520" y="6338160"/>
              <a:ext cx="2438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36" name=""/>
            <p:cNvGraphicFramePr/>
            <p:nvPr/>
          </p:nvGraphicFramePr>
          <p:xfrm>
            <a:off x="6678720" y="5943600"/>
            <a:ext cx="1577520" cy="68580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44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78720" y="5943600"/>
                      <a:ext cx="15775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38" name=""/>
            <p:cNvSpPr txBox="1"/>
            <p:nvPr/>
          </p:nvSpPr>
          <p:spPr>
            <a:xfrm>
              <a:off x="6822000" y="6112440"/>
              <a:ext cx="1259280" cy="35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ab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4439" name=""/>
          <p:cNvGrpSpPr/>
          <p:nvPr/>
        </p:nvGrpSpPr>
        <p:grpSpPr>
          <a:xfrm>
            <a:off x="4114800" y="928800"/>
            <a:ext cx="3962520" cy="1191240"/>
            <a:chOff x="4114800" y="928800"/>
            <a:chExt cx="3962520" cy="1191240"/>
          </a:xfrm>
        </p:grpSpPr>
        <p:grpSp>
          <p:nvGrpSpPr>
            <p:cNvPr id="4440" name=""/>
            <p:cNvGrpSpPr/>
            <p:nvPr/>
          </p:nvGrpSpPr>
          <p:grpSpPr>
            <a:xfrm>
              <a:off x="4114800" y="1016280"/>
              <a:ext cx="685800" cy="811080"/>
              <a:chOff x="4114800" y="1016280"/>
              <a:chExt cx="685800" cy="811080"/>
            </a:xfrm>
          </p:grpSpPr>
          <p:pic>
            <p:nvPicPr>
              <p:cNvPr id="444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114800" y="101628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2" name=""/>
              <p:cNvSpPr/>
              <p:nvPr/>
            </p:nvSpPr>
            <p:spPr>
              <a:xfrm>
                <a:off x="4169160" y="10922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3" name=""/>
            <p:cNvSpPr/>
            <p:nvPr/>
          </p:nvSpPr>
          <p:spPr>
            <a:xfrm>
              <a:off x="5029200" y="928800"/>
              <a:ext cx="3048120" cy="1191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etermine the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Z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core              from the given </a:t>
              </a:r>
              <a:r>
                <a:rPr b="1" i="1" lang="en-US" sz="2400" spc="-1" strike="noStrike">
                  <a:solidFill>
                    <a:srgbClr val="ff66cc"/>
                  </a:solidFill>
                  <a:latin typeface="Times New Roman"/>
                </a:rPr>
                <a:t>are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D704-A572-49B4-BFB5-CF2CC18AEA20}" type="slidenum">
              <a:t>62</a:t>
            </a:fld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"/>
          <p:cNvSpPr/>
          <p:nvPr/>
        </p:nvSpPr>
        <p:spPr>
          <a:xfrm>
            <a:off x="2446920" y="318960"/>
            <a:ext cx="424980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Norma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Distribution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5" name=""/>
          <p:cNvGraphicFramePr/>
          <p:nvPr/>
        </p:nvGraphicFramePr>
        <p:xfrm>
          <a:off x="304920" y="1828800"/>
          <a:ext cx="86868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7" name=""/>
          <p:cNvSpPr/>
          <p:nvPr/>
        </p:nvSpPr>
        <p:spPr>
          <a:xfrm>
            <a:off x="1220760" y="1133640"/>
            <a:ext cx="6842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 in the centre of the table for the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r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0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228600" y="5257800"/>
            <a:ext cx="83808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5105520" y="5257800"/>
            <a:ext cx="1066680" cy="38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0.35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 flipH="1">
            <a:off x="1752480" y="5486400"/>
            <a:ext cx="3276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5562720" y="2286000"/>
            <a:ext cx="0" cy="2819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5181480" y="1828800"/>
            <a:ext cx="83844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0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3" name=""/>
          <p:cNvGrpSpPr/>
          <p:nvPr/>
        </p:nvGrpSpPr>
        <p:grpSpPr>
          <a:xfrm>
            <a:off x="6095880" y="6110280"/>
            <a:ext cx="2743200" cy="520560"/>
            <a:chOff x="6095880" y="6110280"/>
            <a:chExt cx="2743200" cy="520560"/>
          </a:xfrm>
        </p:grpSpPr>
        <p:sp>
          <p:nvSpPr>
            <p:cNvPr id="4454" name=""/>
            <p:cNvSpPr/>
            <p:nvPr/>
          </p:nvSpPr>
          <p:spPr>
            <a:xfrm>
              <a:off x="6095880" y="6415200"/>
              <a:ext cx="27432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6402240" y="6110280"/>
              <a:ext cx="2043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68321" dir="671817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ubstit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72DC-95EC-4EBF-8594-EA09253472DE}" type="slidenum">
              <a:t>63</a:t>
            </a:fld>
          </a:p>
        </p:txBody>
      </p:sp>
    </p:spTree>
  </p:cSld>
  <p:transition>
    <p:pull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6" name=""/>
          <p:cNvGrpSpPr/>
          <p:nvPr/>
        </p:nvGrpSpPr>
        <p:grpSpPr>
          <a:xfrm>
            <a:off x="6629400" y="1342800"/>
            <a:ext cx="673200" cy="1981440"/>
            <a:chOff x="6629400" y="1342800"/>
            <a:chExt cx="673200" cy="1981440"/>
          </a:xfrm>
        </p:grpSpPr>
        <p:sp>
          <p:nvSpPr>
            <p:cNvPr id="4457" name=""/>
            <p:cNvSpPr/>
            <p:nvPr/>
          </p:nvSpPr>
          <p:spPr>
            <a:xfrm flipV="1">
              <a:off x="6629400" y="1342800"/>
              <a:ext cx="58680" cy="111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6739200" y="1343160"/>
              <a:ext cx="0" cy="1981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6809040" y="1411560"/>
              <a:ext cx="0" cy="19126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6878880" y="1479600"/>
              <a:ext cx="0" cy="18446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6950160" y="1548000"/>
              <a:ext cx="0" cy="1776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7020000" y="1684440"/>
              <a:ext cx="0" cy="163980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7089840" y="1820880"/>
              <a:ext cx="0" cy="15033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7161480" y="1957680"/>
              <a:ext cx="0" cy="136656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7231320" y="2094120"/>
              <a:ext cx="0" cy="123012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7302600" y="2232000"/>
              <a:ext cx="0" cy="109224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667560" y="1343160"/>
              <a:ext cx="0" cy="1981080"/>
            </a:xfrm>
            <a:prstGeom prst="line">
              <a:avLst/>
            </a:prstGeom>
            <a:ln w="7632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8" name=""/>
          <p:cNvGrpSpPr/>
          <p:nvPr/>
        </p:nvGrpSpPr>
        <p:grpSpPr>
          <a:xfrm>
            <a:off x="4800600" y="1295280"/>
            <a:ext cx="3580920" cy="2425320"/>
            <a:chOff x="4800600" y="1295280"/>
            <a:chExt cx="3580920" cy="2425320"/>
          </a:xfrm>
        </p:grpSpPr>
        <p:sp>
          <p:nvSpPr>
            <p:cNvPr id="4469" name=""/>
            <p:cNvSpPr/>
            <p:nvPr/>
          </p:nvSpPr>
          <p:spPr>
            <a:xfrm>
              <a:off x="6369120" y="3200040"/>
              <a:ext cx="38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0" name=""/>
            <p:cNvGrpSpPr/>
            <p:nvPr/>
          </p:nvGrpSpPr>
          <p:grpSpPr>
            <a:xfrm>
              <a:off x="4800600" y="1295280"/>
              <a:ext cx="3580920" cy="2057400"/>
              <a:chOff x="4800600" y="1295280"/>
              <a:chExt cx="3580920" cy="2057400"/>
            </a:xfrm>
          </p:grpSpPr>
          <p:sp>
            <p:nvSpPr>
              <p:cNvPr id="4471" name=""/>
              <p:cNvSpPr/>
              <p:nvPr/>
            </p:nvSpPr>
            <p:spPr>
              <a:xfrm>
                <a:off x="4800600" y="3352680"/>
                <a:ext cx="358092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605640" y="1295280"/>
                <a:ext cx="0" cy="205740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V="1">
                <a:off x="4863600" y="3338640"/>
                <a:ext cx="6444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V="1">
                <a:off x="4928400" y="3315240"/>
                <a:ext cx="64800" cy="22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V="1">
                <a:off x="4993560" y="3301920"/>
                <a:ext cx="4968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5043600" y="3278880"/>
                <a:ext cx="63000" cy="22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19"/>
                    </a:moveTo>
                    <a:lnTo>
                      <a:pt x="19" y="10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V="1">
                <a:off x="5106960" y="3242160"/>
                <a:ext cx="48600" cy="36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5155560" y="3204000"/>
                <a:ext cx="63000" cy="3852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19" y="1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 flipV="1">
                <a:off x="5218920" y="3167280"/>
                <a:ext cx="51840" cy="367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 flipV="1">
                <a:off x="5270760" y="3117960"/>
                <a:ext cx="63000" cy="48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 flipV="1">
                <a:off x="5334120" y="3067560"/>
                <a:ext cx="64440" cy="500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 flipV="1">
                <a:off x="5398920" y="3003480"/>
                <a:ext cx="46800" cy="640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5446080" y="2933280"/>
                <a:ext cx="66240" cy="702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5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 flipV="1">
                <a:off x="5512320" y="2856240"/>
                <a:ext cx="48240" cy="76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5560920" y="2769480"/>
                <a:ext cx="64800" cy="871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68"/>
                    </a:moveTo>
                    <a:lnTo>
                      <a:pt x="19" y="39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 flipV="1">
                <a:off x="5626080" y="2671200"/>
                <a:ext cx="464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 flipV="1">
                <a:off x="5672880" y="2571840"/>
                <a:ext cx="64800" cy="99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 flipV="1">
                <a:off x="5738040" y="2470680"/>
                <a:ext cx="662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 flipV="1">
                <a:off x="5804640" y="2361960"/>
                <a:ext cx="48240" cy="108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5853240" y="223812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96"/>
                    </a:moveTo>
                    <a:lnTo>
                      <a:pt x="19" y="48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 flipV="1">
                <a:off x="5919480" y="2126520"/>
                <a:ext cx="4680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966640" y="2014560"/>
                <a:ext cx="63000" cy="1116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87"/>
                    </a:moveTo>
                    <a:lnTo>
                      <a:pt x="19" y="38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V="1">
                <a:off x="6030000" y="1902960"/>
                <a:ext cx="4824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V="1">
                <a:off x="6078600" y="1792440"/>
                <a:ext cx="66240" cy="110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 flipV="1">
                <a:off x="6145200" y="1691640"/>
                <a:ext cx="644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V="1">
                <a:off x="6210000" y="1593360"/>
                <a:ext cx="482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6258240" y="1506600"/>
                <a:ext cx="63000" cy="871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6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6321600" y="143136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58"/>
                    </a:moveTo>
                    <a:lnTo>
                      <a:pt x="9" y="2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6372000" y="1380960"/>
                <a:ext cx="63000" cy="5040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39"/>
                    </a:moveTo>
                    <a:lnTo>
                      <a:pt x="19" y="2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6435360" y="1332000"/>
                <a:ext cx="4824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10" y="1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V="1">
                <a:off x="6483960" y="1307160"/>
                <a:ext cx="64800" cy="241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 flipV="1">
                <a:off x="6549120" y="1295280"/>
                <a:ext cx="64440" cy="122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6613560" y="1295280"/>
                <a:ext cx="50040" cy="122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6663960" y="1307520"/>
                <a:ext cx="64440" cy="241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0"/>
                    </a:moveTo>
                    <a:lnTo>
                      <a:pt x="19" y="10"/>
                    </a:lnTo>
                    <a:lnTo>
                      <a:pt x="39" y="2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6728760" y="1332000"/>
                <a:ext cx="4824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0"/>
                    </a:moveTo>
                    <a:lnTo>
                      <a:pt x="9" y="19"/>
                    </a:lnTo>
                    <a:lnTo>
                      <a:pt x="29" y="3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6777360" y="1380960"/>
                <a:ext cx="63000" cy="5040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0"/>
                    </a:moveTo>
                    <a:lnTo>
                      <a:pt x="19" y="20"/>
                    </a:lnTo>
                    <a:lnTo>
                      <a:pt x="38" y="3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6840720" y="1431360"/>
                <a:ext cx="48600" cy="7488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0"/>
                    </a:moveTo>
                    <a:lnTo>
                      <a:pt x="10" y="29"/>
                    </a:lnTo>
                    <a:lnTo>
                      <a:pt x="29" y="5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6889680" y="1506600"/>
                <a:ext cx="64440" cy="871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0"/>
                    </a:moveTo>
                    <a:lnTo>
                      <a:pt x="20" y="29"/>
                    </a:lnTo>
                    <a:lnTo>
                      <a:pt x="39" y="6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6954120" y="1593720"/>
                <a:ext cx="482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002720" y="1691640"/>
                <a:ext cx="6480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067880" y="1792440"/>
                <a:ext cx="66240" cy="110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134480" y="1902960"/>
                <a:ext cx="4644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181280" y="201456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0"/>
                    </a:moveTo>
                    <a:lnTo>
                      <a:pt x="19" y="38"/>
                    </a:lnTo>
                    <a:lnTo>
                      <a:pt x="38" y="87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246440" y="2126520"/>
                <a:ext cx="4680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7293240" y="223812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0"/>
                    </a:moveTo>
                    <a:lnTo>
                      <a:pt x="20" y="48"/>
                    </a:lnTo>
                    <a:lnTo>
                      <a:pt x="39" y="96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7359840" y="2362320"/>
                <a:ext cx="48240" cy="108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7408440" y="2470680"/>
                <a:ext cx="644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7473240" y="2571840"/>
                <a:ext cx="66240" cy="99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7539840" y="2671560"/>
                <a:ext cx="4680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7587000" y="2769480"/>
                <a:ext cx="64440" cy="871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0"/>
                    </a:moveTo>
                    <a:lnTo>
                      <a:pt x="19" y="39"/>
                    </a:lnTo>
                    <a:lnTo>
                      <a:pt x="38" y="6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7651440" y="2856600"/>
                <a:ext cx="48600" cy="76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700400" y="2933280"/>
                <a:ext cx="64440" cy="702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0"/>
                    </a:moveTo>
                    <a:lnTo>
                      <a:pt x="20" y="29"/>
                    </a:lnTo>
                    <a:lnTo>
                      <a:pt x="39" y="5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765200" y="3003480"/>
                <a:ext cx="46800" cy="640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812360" y="3067920"/>
                <a:ext cx="66240" cy="500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878960" y="3118320"/>
                <a:ext cx="63000" cy="48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942320" y="3167280"/>
                <a:ext cx="51840" cy="367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7994160" y="3204000"/>
                <a:ext cx="61200" cy="3852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0"/>
                    </a:moveTo>
                    <a:lnTo>
                      <a:pt x="19" y="10"/>
                    </a:lnTo>
                    <a:lnTo>
                      <a:pt x="38" y="2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8055360" y="3242520"/>
                <a:ext cx="48600" cy="36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8104320" y="3278880"/>
                <a:ext cx="64440" cy="22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20" y="10"/>
                    </a:lnTo>
                    <a:lnTo>
                      <a:pt x="39" y="1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8169120" y="3301920"/>
                <a:ext cx="5004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8219520" y="3315600"/>
                <a:ext cx="64440" cy="22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8284320" y="3338640"/>
                <a:ext cx="6300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3" name=""/>
          <p:cNvSpPr/>
          <p:nvPr/>
        </p:nvSpPr>
        <p:spPr>
          <a:xfrm>
            <a:off x="7315200" y="228600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6324480" y="22096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632448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7086600" y="333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7317360" y="2743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7315200" y="32004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7772400" y="2362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304920" y="1295280"/>
            <a:ext cx="3809880" cy="37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ean of 7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standard deviation of 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announces to the class that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the top 15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perc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of the scores </a:t>
            </a: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will earn an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lowest sco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 student can earn                         and still receive an 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1" name=""/>
          <p:cNvGrpSpPr/>
          <p:nvPr/>
        </p:nvGrpSpPr>
        <p:grpSpPr>
          <a:xfrm>
            <a:off x="4724280" y="3886200"/>
            <a:ext cx="3413160" cy="520560"/>
            <a:chOff x="4724280" y="3886200"/>
            <a:chExt cx="3413160" cy="520560"/>
          </a:xfrm>
        </p:grpSpPr>
        <p:sp>
          <p:nvSpPr>
            <p:cNvPr id="4542" name=""/>
            <p:cNvSpPr/>
            <p:nvPr/>
          </p:nvSpPr>
          <p:spPr>
            <a:xfrm>
              <a:off x="4724280" y="3886200"/>
              <a:ext cx="341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Z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scale 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       1.0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5790960" y="4190760"/>
              <a:ext cx="531720" cy="0"/>
            </a:xfrm>
            <a:prstGeom prst="line">
              <a:avLst/>
            </a:prstGeom>
            <a:ln w="7632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4" name=""/>
          <p:cNvGrpSpPr/>
          <p:nvPr/>
        </p:nvGrpSpPr>
        <p:grpSpPr>
          <a:xfrm>
            <a:off x="5334120" y="5192640"/>
            <a:ext cx="1066680" cy="718920"/>
            <a:chOff x="5334120" y="5192640"/>
            <a:chExt cx="1066680" cy="718920"/>
          </a:xfrm>
        </p:grpSpPr>
        <p:sp>
          <p:nvSpPr>
            <p:cNvPr id="4545" name=""/>
            <p:cNvSpPr/>
            <p:nvPr/>
          </p:nvSpPr>
          <p:spPr>
            <a:xfrm>
              <a:off x="5334120" y="5545080"/>
              <a:ext cx="106668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5714640" y="54846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5714640" y="5195520"/>
              <a:ext cx="564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- 7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5410080" y="5192640"/>
              <a:ext cx="236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9" name=""/>
          <p:cNvSpPr/>
          <p:nvPr/>
        </p:nvSpPr>
        <p:spPr>
          <a:xfrm>
            <a:off x="4419000" y="5308560"/>
            <a:ext cx="62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4941720" y="528336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1" name=""/>
          <p:cNvSpPr/>
          <p:nvPr/>
        </p:nvSpPr>
        <p:spPr>
          <a:xfrm>
            <a:off x="4406400" y="5821200"/>
            <a:ext cx="34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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</a:t>
            </a:r>
            <a:r>
              <a:rPr b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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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>
            <a:off x="7620120" y="5827680"/>
            <a:ext cx="1143000" cy="947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lang="en-US" sz="2800" spc="-1" strike="noStrike">
                <a:solidFill>
                  <a:srgbClr val="009900"/>
                </a:solidFill>
                <a:latin typeface="Symbol"/>
                <a:ea typeface="Symbol"/>
              </a:rPr>
              <a:t>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304920" y="5029200"/>
            <a:ext cx="380988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udent needs a score of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77.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receive a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 txBox="1"/>
          <p:nvPr/>
        </p:nvSpPr>
        <p:spPr>
          <a:xfrm>
            <a:off x="380880" y="990720"/>
            <a:ext cx="3467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/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3300"/>
                  </a:outerShdw>
                </a:effectLst>
                <a:latin typeface="Times New Roman"/>
              </a:rPr>
              <a:t>Sol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ff33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555" name=""/>
          <p:cNvGrpSpPr/>
          <p:nvPr/>
        </p:nvGrpSpPr>
        <p:grpSpPr>
          <a:xfrm>
            <a:off x="3962520" y="457200"/>
            <a:ext cx="5181480" cy="811080"/>
            <a:chOff x="3962520" y="457200"/>
            <a:chExt cx="5181480" cy="811080"/>
          </a:xfrm>
        </p:grpSpPr>
        <p:grpSp>
          <p:nvGrpSpPr>
            <p:cNvPr id="4556" name=""/>
            <p:cNvGrpSpPr/>
            <p:nvPr/>
          </p:nvGrpSpPr>
          <p:grpSpPr>
            <a:xfrm>
              <a:off x="3962520" y="457200"/>
              <a:ext cx="685800" cy="811080"/>
              <a:chOff x="3962520" y="457200"/>
              <a:chExt cx="685800" cy="811080"/>
            </a:xfrm>
          </p:grpSpPr>
          <p:pic>
            <p:nvPicPr>
              <p:cNvPr id="45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2520" y="4572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8" name=""/>
              <p:cNvSpPr/>
              <p:nvPr/>
            </p:nvSpPr>
            <p:spPr>
              <a:xfrm>
                <a:off x="4016880" y="533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9" name=""/>
            <p:cNvSpPr/>
            <p:nvPr/>
          </p:nvSpPr>
          <p:spPr>
            <a:xfrm>
              <a:off x="4800600" y="655560"/>
              <a:ext cx="434340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Substitute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values into eq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0" name=""/>
          <p:cNvGrpSpPr/>
          <p:nvPr/>
        </p:nvGrpSpPr>
        <p:grpSpPr>
          <a:xfrm>
            <a:off x="4662360" y="4527720"/>
            <a:ext cx="1509480" cy="654480"/>
            <a:chOff x="4662360" y="4527720"/>
            <a:chExt cx="1509480" cy="654480"/>
          </a:xfrm>
        </p:grpSpPr>
        <p:grpSp>
          <p:nvGrpSpPr>
            <p:cNvPr id="4561" name=""/>
            <p:cNvGrpSpPr/>
            <p:nvPr/>
          </p:nvGrpSpPr>
          <p:grpSpPr>
            <a:xfrm>
              <a:off x="5105160" y="4527720"/>
              <a:ext cx="1066680" cy="654480"/>
              <a:chOff x="5105160" y="4527720"/>
              <a:chExt cx="1066680" cy="654480"/>
            </a:xfrm>
          </p:grpSpPr>
          <p:sp>
            <p:nvSpPr>
              <p:cNvPr id="4562" name=""/>
              <p:cNvSpPr/>
              <p:nvPr/>
            </p:nvSpPr>
            <p:spPr>
              <a:xfrm>
                <a:off x="5410080" y="4892400"/>
                <a:ext cx="761760" cy="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5638320" y="4816080"/>
                <a:ext cx="18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5858640" y="4527720"/>
                <a:ext cx="294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5747400" y="45277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5105160" y="4740120"/>
                <a:ext cx="152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5485680" y="452772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8" name=""/>
            <p:cNvSpPr/>
            <p:nvPr/>
          </p:nvSpPr>
          <p:spPr>
            <a:xfrm>
              <a:off x="4662360" y="4587840"/>
              <a:ext cx="2476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174E-2E41-41B9-8017-982531D81D8B}" type="slidenum">
              <a:t>64</a:t>
            </a:fld>
          </a:p>
        </p:txBody>
      </p:sp>
    </p:spTree>
  </p:cSld>
  <p:transition>
    <p:strips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9" name=""/>
          <p:cNvGrpSpPr/>
          <p:nvPr/>
        </p:nvGrpSpPr>
        <p:grpSpPr>
          <a:xfrm>
            <a:off x="2133720" y="914400"/>
            <a:ext cx="4800600" cy="5028840"/>
            <a:chOff x="2133720" y="914400"/>
            <a:chExt cx="4800600" cy="5028840"/>
          </a:xfrm>
        </p:grpSpPr>
        <p:sp>
          <p:nvSpPr>
            <p:cNvPr id="4570" name=""/>
            <p:cNvSpPr/>
            <p:nvPr/>
          </p:nvSpPr>
          <p:spPr>
            <a:xfrm>
              <a:off x="2318040" y="914400"/>
              <a:ext cx="4431240" cy="5028840"/>
            </a:xfrm>
            <a:custGeom>
              <a:avLst/>
              <a:gdLst/>
              <a:ahLst/>
              <a:rect l="l" t="t" r="r" b="b"/>
              <a:pathLst>
                <a:path w="1968" h="2976">
                  <a:moveTo>
                    <a:pt x="0" y="2976"/>
                  </a:moveTo>
                  <a:cubicBezTo>
                    <a:pt x="340" y="1488"/>
                    <a:pt x="680" y="0"/>
                    <a:pt x="1008" y="0"/>
                  </a:cubicBezTo>
                  <a:cubicBezTo>
                    <a:pt x="1336" y="0"/>
                    <a:pt x="1808" y="2480"/>
                    <a:pt x="1968" y="2976"/>
                  </a:cubicBezTo>
                </a:path>
              </a:pathLst>
            </a:custGeom>
            <a:noFill/>
            <a:ln w="57240">
              <a:solidFill>
                <a:srgbClr val="ffffcc"/>
              </a:solidFill>
              <a:round/>
            </a:ln>
            <a:effectLst>
              <a:outerShdw dist="153753" dir="2700000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133720" y="5943240"/>
              <a:ext cx="48006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2" name=""/>
          <p:cNvSpPr/>
          <p:nvPr/>
        </p:nvSpPr>
        <p:spPr>
          <a:xfrm>
            <a:off x="685800" y="2133720"/>
            <a:ext cx="7848720" cy="2654280"/>
          </a:xfrm>
          <a:prstGeom prst="rect">
            <a:avLst/>
          </a:prstGeom>
          <a:noFill/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Using                                                          the  Normal Curve                               to Approximate                                                             the Binomial Distribu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0F58-F918-4E79-A565-153DD896C67A}" type="slidenum">
              <a:t>65</a:t>
            </a:fld>
          </a:p>
        </p:txBody>
      </p:sp>
    </p:spTree>
  </p:cSld>
  <p:transition>
    <p:split dir="out" orient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1676520" y="241200"/>
            <a:ext cx="5790960" cy="9018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 Normal Approximation                    to the Binom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 rot="121200">
            <a:off x="304920" y="1440000"/>
            <a:ext cx="8567640" cy="381132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normal</a:t>
            </a: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(a </a:t>
            </a:r>
            <a:r>
              <a:rPr b="1" i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continuou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ields a good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pproxim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                                 th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inomial</a:t>
            </a:r>
            <a:r>
              <a:rPr b="1" lang="en-US" sz="36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tion                                 (a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discret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istribution)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large valu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17440" y="5257800"/>
            <a:ext cx="87490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1-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oth greater than 5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8" name=""/>
          <p:cNvGrpSpPr/>
          <p:nvPr/>
        </p:nvGrpSpPr>
        <p:grpSpPr>
          <a:xfrm>
            <a:off x="685800" y="6172200"/>
            <a:ext cx="7772040" cy="304920"/>
            <a:chOff x="685800" y="6172200"/>
            <a:chExt cx="7772040" cy="304920"/>
          </a:xfrm>
        </p:grpSpPr>
        <p:sp>
          <p:nvSpPr>
            <p:cNvPr id="4579" name=""/>
            <p:cNvSpPr/>
            <p:nvPr/>
          </p:nvSpPr>
          <p:spPr>
            <a:xfrm flipV="1">
              <a:off x="685800" y="6244560"/>
              <a:ext cx="7772040" cy="144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80" name="ball16" descr=""/>
            <p:cNvPicPr/>
            <p:nvPr/>
          </p:nvPicPr>
          <p:blipFill>
            <a:blip r:embed="rId3"/>
            <a:stretch/>
          </p:blipFill>
          <p:spPr>
            <a:xfrm>
              <a:off x="4442040" y="6172200"/>
              <a:ext cx="56412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"/>
          <p:cNvSpPr/>
          <p:nvPr/>
        </p:nvSpPr>
        <p:spPr>
          <a:xfrm>
            <a:off x="990720" y="1523880"/>
            <a:ext cx="8076960" cy="4724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 txBox="1"/>
          <p:nvPr/>
        </p:nvSpPr>
        <p:spPr>
          <a:xfrm rot="5400000">
            <a:off x="-1676520" y="358128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1371600" y="388620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obability of succes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ys the sam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for each tri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2666880" y="4952880"/>
            <a:ext cx="556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rials are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independ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1776240" y="5595840"/>
            <a:ext cx="6654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ested in th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umber of suc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7" name="" descr=""/>
          <p:cNvPicPr/>
          <p:nvPr/>
        </p:nvPicPr>
        <p:blipFill>
          <a:blip r:embed="rId1"/>
          <a:stretch/>
        </p:blipFill>
        <p:spPr>
          <a:xfrm>
            <a:off x="1295280" y="1698480"/>
            <a:ext cx="452520" cy="435240"/>
          </a:xfrm>
          <a:prstGeom prst="rect">
            <a:avLst/>
          </a:prstGeom>
          <a:ln w="0">
            <a:noFill/>
          </a:ln>
        </p:spPr>
      </p:pic>
      <p:pic>
        <p:nvPicPr>
          <p:cNvPr id="4588" name="" descr=""/>
          <p:cNvPicPr/>
          <p:nvPr/>
        </p:nvPicPr>
        <p:blipFill>
          <a:blip r:embed="rId2"/>
          <a:stretch/>
        </p:blipFill>
        <p:spPr>
          <a:xfrm>
            <a:off x="1297080" y="2438280"/>
            <a:ext cx="452520" cy="435240"/>
          </a:xfrm>
          <a:prstGeom prst="rect">
            <a:avLst/>
          </a:prstGeom>
          <a:ln w="0">
            <a:noFill/>
          </a:ln>
        </p:spPr>
      </p:pic>
      <p:pic>
        <p:nvPicPr>
          <p:cNvPr id="4589" name="" descr=""/>
          <p:cNvPicPr/>
          <p:nvPr/>
        </p:nvPicPr>
        <p:blipFill>
          <a:blip r:embed="rId3"/>
          <a:stretch/>
        </p:blipFill>
        <p:spPr>
          <a:xfrm>
            <a:off x="2519280" y="3886200"/>
            <a:ext cx="452520" cy="434880"/>
          </a:xfrm>
          <a:prstGeom prst="rect">
            <a:avLst/>
          </a:prstGeom>
          <a:ln w="0">
            <a:noFill/>
          </a:ln>
        </p:spPr>
      </p:pic>
      <p:pic>
        <p:nvPicPr>
          <p:cNvPr id="4590" name="" descr=""/>
          <p:cNvPicPr/>
          <p:nvPr/>
        </p:nvPicPr>
        <p:blipFill>
          <a:blip r:embed="rId4"/>
          <a:stretch/>
        </p:blipFill>
        <p:spPr>
          <a:xfrm>
            <a:off x="2519280" y="4952880"/>
            <a:ext cx="452520" cy="435240"/>
          </a:xfrm>
          <a:prstGeom prst="rect">
            <a:avLst/>
          </a:prstGeom>
          <a:ln w="0">
            <a:noFill/>
          </a:ln>
        </p:spPr>
      </p:pic>
      <p:pic>
        <p:nvPicPr>
          <p:cNvPr id="4591" name="" descr=""/>
          <p:cNvPicPr/>
          <p:nvPr/>
        </p:nvPicPr>
        <p:blipFill>
          <a:blip r:embed="rId5"/>
          <a:stretch/>
        </p:blipFill>
        <p:spPr>
          <a:xfrm>
            <a:off x="1297080" y="5638680"/>
            <a:ext cx="452520" cy="435240"/>
          </a:xfrm>
          <a:prstGeom prst="rect">
            <a:avLst/>
          </a:prstGeom>
          <a:ln w="0">
            <a:noFill/>
          </a:ln>
        </p:spPr>
      </p:pic>
      <p:sp>
        <p:nvSpPr>
          <p:cNvPr id="4592" name=""/>
          <p:cNvSpPr/>
          <p:nvPr/>
        </p:nvSpPr>
        <p:spPr>
          <a:xfrm>
            <a:off x="1820160" y="1628640"/>
            <a:ext cx="72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xperiment consists o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n Bernoulli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1828800" y="2362320"/>
            <a:ext cx="70866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utcomes are classified into                         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ne of two mutually exclusive categori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ucces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4" name="NAVYBLUE" descr=""/>
          <p:cNvPicPr/>
          <p:nvPr/>
        </p:nvPicPr>
        <p:blipFill>
          <a:blip r:embed="rId6"/>
          <a:stretch/>
        </p:blipFill>
        <p:spPr>
          <a:xfrm>
            <a:off x="1143000" y="6019920"/>
            <a:ext cx="7391520" cy="742680"/>
          </a:xfrm>
          <a:prstGeom prst="rect">
            <a:avLst/>
          </a:prstGeom>
          <a:ln w="0">
            <a:noFill/>
          </a:ln>
        </p:spPr>
      </p:pic>
      <p:sp>
        <p:nvSpPr>
          <p:cNvPr id="4595" name=""/>
          <p:cNvSpPr/>
          <p:nvPr/>
        </p:nvSpPr>
        <p:spPr>
          <a:xfrm>
            <a:off x="1676520" y="241200"/>
            <a:ext cx="5790960" cy="9018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inomial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D3636-0B23-4B9E-98CB-B7A813621978}" type="slidenum">
              <a:t>67</a:t>
            </a:fld>
          </a:p>
        </p:txBody>
      </p:sp>
    </p:spTree>
  </p:cSld>
  <p:transition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"/>
          <p:cNvSpPr/>
          <p:nvPr/>
        </p:nvSpPr>
        <p:spPr>
          <a:xfrm>
            <a:off x="0" y="763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7" name=""/>
          <p:cNvSpPr/>
          <p:nvPr/>
        </p:nvSpPr>
        <p:spPr>
          <a:xfrm>
            <a:off x="8969400" y="152388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8" name=""/>
          <p:cNvGrpSpPr/>
          <p:nvPr/>
        </p:nvGrpSpPr>
        <p:grpSpPr>
          <a:xfrm>
            <a:off x="1523880" y="0"/>
            <a:ext cx="6363000" cy="1635120"/>
            <a:chOff x="1523880" y="0"/>
            <a:chExt cx="6363000" cy="1635120"/>
          </a:xfrm>
        </p:grpSpPr>
        <p:sp>
          <p:nvSpPr>
            <p:cNvPr id="4599" name=""/>
            <p:cNvSpPr/>
            <p:nvPr/>
          </p:nvSpPr>
          <p:spPr>
            <a:xfrm>
              <a:off x="1523880" y="152280"/>
              <a:ext cx="6363000" cy="14828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  <a:effectLst>
              <a:outerShdw dist="144956" dir="8529747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ea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n 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 Varia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f a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B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mial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P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obability 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stribu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0" name=""/>
            <p:cNvGrpSpPr/>
            <p:nvPr/>
          </p:nvGrpSpPr>
          <p:grpSpPr>
            <a:xfrm>
              <a:off x="6581880" y="46080"/>
              <a:ext cx="585000" cy="640440"/>
              <a:chOff x="6581880" y="46080"/>
              <a:chExt cx="585000" cy="640440"/>
            </a:xfrm>
          </p:grpSpPr>
          <p:sp>
            <p:nvSpPr>
              <p:cNvPr id="4601" name=""/>
              <p:cNvSpPr/>
              <p:nvPr/>
            </p:nvSpPr>
            <p:spPr>
              <a:xfrm>
                <a:off x="6897600" y="68040"/>
                <a:ext cx="26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6581880" y="46080"/>
                <a:ext cx="3222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3" name=""/>
            <p:cNvSpPr/>
            <p:nvPr/>
          </p:nvSpPr>
          <p:spPr>
            <a:xfrm>
              <a:off x="3736080" y="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4" name=""/>
          <p:cNvGrpSpPr/>
          <p:nvPr/>
        </p:nvGrpSpPr>
        <p:grpSpPr>
          <a:xfrm>
            <a:off x="2895120" y="2971800"/>
            <a:ext cx="5386680" cy="2171160"/>
            <a:chOff x="2895120" y="2971800"/>
            <a:chExt cx="5386680" cy="2171160"/>
          </a:xfrm>
        </p:grpSpPr>
        <p:grpSp>
          <p:nvGrpSpPr>
            <p:cNvPr id="4605" name=""/>
            <p:cNvGrpSpPr/>
            <p:nvPr/>
          </p:nvGrpSpPr>
          <p:grpSpPr>
            <a:xfrm>
              <a:off x="2895120" y="2971800"/>
              <a:ext cx="4039560" cy="915120"/>
              <a:chOff x="2895120" y="2971800"/>
              <a:chExt cx="4039560" cy="915120"/>
            </a:xfrm>
          </p:grpSpPr>
          <p:grpSp>
            <p:nvGrpSpPr>
              <p:cNvPr id="4606" name=""/>
              <p:cNvGrpSpPr/>
              <p:nvPr/>
            </p:nvGrpSpPr>
            <p:grpSpPr>
              <a:xfrm>
                <a:off x="5664600" y="3049560"/>
                <a:ext cx="1270080" cy="837360"/>
                <a:chOff x="5664600" y="3049560"/>
                <a:chExt cx="1270080" cy="837360"/>
              </a:xfrm>
            </p:grpSpPr>
            <p:sp>
              <p:nvSpPr>
                <p:cNvPr id="4607" name=""/>
                <p:cNvSpPr/>
                <p:nvPr/>
              </p:nvSpPr>
              <p:spPr>
                <a:xfrm>
                  <a:off x="6247800" y="3049560"/>
                  <a:ext cx="68688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0" i="1" lang="en-US" sz="5400" spc="-1" strike="noStrike">
                      <a:solidFill>
                        <a:srgbClr val="ff3300"/>
                      </a:solidFill>
                      <a:latin typeface="Times New Roman"/>
                    </a:rPr>
                    <a:t>p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>
                  <a:off x="5664600" y="3063600"/>
                  <a:ext cx="54648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9" name=""/>
              <p:cNvGrpSpPr/>
              <p:nvPr/>
            </p:nvGrpSpPr>
            <p:grpSpPr>
              <a:xfrm>
                <a:off x="2895120" y="2971800"/>
                <a:ext cx="2608560" cy="823320"/>
                <a:chOff x="2895120" y="2971800"/>
                <a:chExt cx="2608560" cy="823320"/>
              </a:xfrm>
            </p:grpSpPr>
            <p:sp>
              <p:nvSpPr>
                <p:cNvPr id="4610" name=""/>
                <p:cNvSpPr/>
                <p:nvPr/>
              </p:nvSpPr>
              <p:spPr>
                <a:xfrm>
                  <a:off x="5108400" y="2971800"/>
                  <a:ext cx="39528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5400" spc="-1" strike="noStrike">
                      <a:solidFill>
                        <a:srgbClr val="3333cc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1" name=""/>
                <p:cNvSpPr/>
                <p:nvPr/>
              </p:nvSpPr>
              <p:spPr>
                <a:xfrm>
                  <a:off x="2895120" y="3200400"/>
                  <a:ext cx="1797840" cy="5814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27008" dir="761609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Formula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2" name=""/>
            <p:cNvGrpSpPr/>
            <p:nvPr/>
          </p:nvGrpSpPr>
          <p:grpSpPr>
            <a:xfrm>
              <a:off x="2971440" y="4191120"/>
              <a:ext cx="5310360" cy="951840"/>
              <a:chOff x="2971440" y="4191120"/>
              <a:chExt cx="5310360" cy="951840"/>
            </a:xfrm>
          </p:grpSpPr>
          <p:grpSp>
            <p:nvGrpSpPr>
              <p:cNvPr id="4613" name=""/>
              <p:cNvGrpSpPr/>
              <p:nvPr/>
            </p:nvGrpSpPr>
            <p:grpSpPr>
              <a:xfrm>
                <a:off x="5369040" y="4191120"/>
                <a:ext cx="2912760" cy="951840"/>
                <a:chOff x="5369040" y="4191120"/>
                <a:chExt cx="2912760" cy="951840"/>
              </a:xfrm>
            </p:grpSpPr>
            <p:sp>
              <p:nvSpPr>
                <p:cNvPr id="4614" name=""/>
                <p:cNvSpPr/>
                <p:nvPr/>
              </p:nvSpPr>
              <p:spPr>
                <a:xfrm>
                  <a:off x="8061480" y="4313160"/>
                  <a:ext cx="220320" cy="7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2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5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5" name=""/>
                <p:cNvSpPr/>
                <p:nvPr/>
              </p:nvSpPr>
              <p:spPr>
                <a:xfrm>
                  <a:off x="6889320" y="4313160"/>
                  <a:ext cx="331560" cy="7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5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>
                  <a:off x="6743880" y="4313160"/>
                  <a:ext cx="220320" cy="7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2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endParaRPr b="0" lang="en-US" sz="5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>
                  <a:off x="7738560" y="4191120"/>
                  <a:ext cx="331560" cy="7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5200" spc="-1" strike="noStrike">
                      <a:solidFill>
                        <a:srgbClr val="ff3300"/>
                      </a:solidFill>
                      <a:latin typeface="Times New Roman"/>
                    </a:rPr>
                    <a:t>p</a:t>
                  </a:r>
                  <a:endParaRPr b="0" lang="en-US" sz="5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8" name=""/>
                <p:cNvSpPr/>
                <p:nvPr/>
              </p:nvSpPr>
              <p:spPr>
                <a:xfrm>
                  <a:off x="6106320" y="4267080"/>
                  <a:ext cx="662400" cy="7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52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0" i="1" lang="en-US" sz="5200" spc="-1" strike="noStrike">
                      <a:solidFill>
                        <a:srgbClr val="ff3300"/>
                      </a:solidFill>
                      <a:latin typeface="Times New Roman"/>
                    </a:rPr>
                    <a:t>p</a:t>
                  </a:r>
                  <a:endParaRPr b="0" lang="en-US" sz="5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9" name=""/>
                <p:cNvSpPr/>
                <p:nvPr/>
              </p:nvSpPr>
              <p:spPr>
                <a:xfrm>
                  <a:off x="7363800" y="4238640"/>
                  <a:ext cx="220320" cy="7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5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>
                  <a:off x="5369040" y="4319640"/>
                  <a:ext cx="54648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1" name=""/>
              <p:cNvGrpSpPr/>
              <p:nvPr/>
            </p:nvGrpSpPr>
            <p:grpSpPr>
              <a:xfrm>
                <a:off x="2971440" y="4319280"/>
                <a:ext cx="2491200" cy="792360"/>
                <a:chOff x="2971440" y="4319280"/>
                <a:chExt cx="2491200" cy="792360"/>
              </a:xfrm>
            </p:grpSpPr>
            <p:grpSp>
              <p:nvGrpSpPr>
                <p:cNvPr id="4622" name=""/>
                <p:cNvGrpSpPr/>
                <p:nvPr/>
              </p:nvGrpSpPr>
              <p:grpSpPr>
                <a:xfrm>
                  <a:off x="4876560" y="4319280"/>
                  <a:ext cx="586080" cy="792360"/>
                  <a:chOff x="4876560" y="4319280"/>
                  <a:chExt cx="586080" cy="792360"/>
                </a:xfrm>
              </p:grpSpPr>
              <p:sp>
                <p:nvSpPr>
                  <p:cNvPr id="4623" name=""/>
                  <p:cNvSpPr/>
                  <p:nvPr/>
                </p:nvSpPr>
                <p:spPr>
                  <a:xfrm>
                    <a:off x="5271480" y="4339800"/>
                    <a:ext cx="1911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3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4" name=""/>
                  <p:cNvSpPr/>
                  <p:nvPr/>
                </p:nvSpPr>
                <p:spPr>
                  <a:xfrm>
                    <a:off x="4876560" y="4319280"/>
                    <a:ext cx="398520" cy="79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5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</a:t>
                    </a:r>
                    <a:endParaRPr b="0" lang="en-US" sz="5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25" name=""/>
                <p:cNvSpPr/>
                <p:nvPr/>
              </p:nvSpPr>
              <p:spPr>
                <a:xfrm>
                  <a:off x="2971440" y="4419360"/>
                  <a:ext cx="1797840" cy="58140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27008" dir="7616091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Formula 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26" name=""/>
          <p:cNvGrpSpPr/>
          <p:nvPr/>
        </p:nvGrpSpPr>
        <p:grpSpPr>
          <a:xfrm>
            <a:off x="152280" y="3200400"/>
            <a:ext cx="1981440" cy="2516760"/>
            <a:chOff x="152280" y="3200400"/>
            <a:chExt cx="1981440" cy="2516760"/>
          </a:xfrm>
        </p:grpSpPr>
        <p:pic>
          <p:nvPicPr>
            <p:cNvPr id="4627" name="" descr=""/>
            <p:cNvPicPr/>
            <p:nvPr/>
          </p:nvPicPr>
          <p:blipFill>
            <a:blip r:embed="rId3"/>
            <a:stretch/>
          </p:blipFill>
          <p:spPr>
            <a:xfrm>
              <a:off x="689040" y="3200400"/>
              <a:ext cx="987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8" name=""/>
            <p:cNvSpPr/>
            <p:nvPr/>
          </p:nvSpPr>
          <p:spPr>
            <a:xfrm>
              <a:off x="152280" y="4648320"/>
              <a:ext cx="1981440" cy="106884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fefefe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  <a:effectLst>
              <a:outerShdw dist="117181" dir="83616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rom Chapter 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9" name=""/>
          <p:cNvGrpSpPr/>
          <p:nvPr/>
        </p:nvGrpSpPr>
        <p:grpSpPr>
          <a:xfrm>
            <a:off x="457200" y="1676520"/>
            <a:ext cx="8000640" cy="1800360"/>
            <a:chOff x="457200" y="1676520"/>
            <a:chExt cx="8000640" cy="1800360"/>
          </a:xfrm>
        </p:grpSpPr>
        <p:sp>
          <p:nvSpPr>
            <p:cNvPr id="4630" name=""/>
            <p:cNvSpPr/>
            <p:nvPr/>
          </p:nvSpPr>
          <p:spPr>
            <a:xfrm>
              <a:off x="601200" y="1676520"/>
              <a:ext cx="7856640" cy="180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81185" dir="84780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.6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of students do their homework at night,                                              find the probability that at least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5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students                         in a class of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8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did their homework last nigh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 txBox="1"/>
            <p:nvPr/>
          </p:nvSpPr>
          <p:spPr>
            <a:xfrm>
              <a:off x="457200" y="1890720"/>
              <a:ext cx="595800" cy="928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4632" name=""/>
          <p:cNvSpPr/>
          <p:nvPr/>
        </p:nvSpPr>
        <p:spPr>
          <a:xfrm>
            <a:off x="3316680" y="3657600"/>
            <a:ext cx="45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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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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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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2837520" y="5006880"/>
            <a:ext cx="454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4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4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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</a:t>
            </a:r>
            <a:r>
              <a:rPr b="1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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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>
            <a:off x="6781680" y="5149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19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5" name=""/>
          <p:cNvGrpSpPr/>
          <p:nvPr/>
        </p:nvGrpSpPr>
        <p:grpSpPr>
          <a:xfrm>
            <a:off x="4038480" y="5791320"/>
            <a:ext cx="4952880" cy="838080"/>
            <a:chOff x="4038480" y="5791320"/>
            <a:chExt cx="4952880" cy="838080"/>
          </a:xfrm>
        </p:grpSpPr>
        <p:sp>
          <p:nvSpPr>
            <p:cNvPr id="4636" name=""/>
            <p:cNvSpPr/>
            <p:nvPr/>
          </p:nvSpPr>
          <p:spPr>
            <a:xfrm>
              <a:off x="4876560" y="5791320"/>
              <a:ext cx="4114800" cy="825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Sketch given information onto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    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7" name=""/>
            <p:cNvGrpSpPr/>
            <p:nvPr/>
          </p:nvGrpSpPr>
          <p:grpSpPr>
            <a:xfrm>
              <a:off x="4038480" y="5867280"/>
              <a:ext cx="685800" cy="762120"/>
              <a:chOff x="4038480" y="5867280"/>
              <a:chExt cx="685800" cy="762120"/>
            </a:xfrm>
          </p:grpSpPr>
          <p:pic>
            <p:nvPicPr>
              <p:cNvPr id="463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38480" y="5867280"/>
                <a:ext cx="685800" cy="76212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4639" name=""/>
              <p:cNvSpPr/>
              <p:nvPr/>
            </p:nvSpPr>
            <p:spPr>
              <a:xfrm>
                <a:off x="4092840" y="5938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13F7-6606-48F1-B00E-13A410D972F5}" type="slidenum">
              <a:t>68</a:t>
            </a:fld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"/>
          <p:cNvSpPr/>
          <p:nvPr/>
        </p:nvSpPr>
        <p:spPr>
          <a:xfrm>
            <a:off x="7543800" y="42069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1" name=""/>
          <p:cNvGrpSpPr/>
          <p:nvPr/>
        </p:nvGrpSpPr>
        <p:grpSpPr>
          <a:xfrm>
            <a:off x="228600" y="1600200"/>
            <a:ext cx="3429000" cy="947160"/>
            <a:chOff x="228600" y="1600200"/>
            <a:chExt cx="3429000" cy="947160"/>
          </a:xfrm>
        </p:grpSpPr>
        <p:sp>
          <p:nvSpPr>
            <p:cNvPr id="4642" name=""/>
            <p:cNvSpPr/>
            <p:nvPr/>
          </p:nvSpPr>
          <p:spPr>
            <a:xfrm>
              <a:off x="1066680" y="160020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5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3" name=""/>
            <p:cNvGrpSpPr/>
            <p:nvPr/>
          </p:nvGrpSpPr>
          <p:grpSpPr>
            <a:xfrm>
              <a:off x="228600" y="1706760"/>
              <a:ext cx="685800" cy="811080"/>
              <a:chOff x="228600" y="1706760"/>
              <a:chExt cx="685800" cy="811080"/>
            </a:xfrm>
          </p:grpSpPr>
          <p:pic>
            <p:nvPicPr>
              <p:cNvPr id="46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0676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5" name=""/>
              <p:cNvSpPr/>
              <p:nvPr/>
            </p:nvSpPr>
            <p:spPr>
              <a:xfrm>
                <a:off x="282960" y="17827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6" name=""/>
          <p:cNvSpPr/>
          <p:nvPr/>
        </p:nvSpPr>
        <p:spPr>
          <a:xfrm>
            <a:off x="7010280" y="419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>
            <a:off x="533520" y="4724280"/>
            <a:ext cx="807696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we want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at l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east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we start 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9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the normal cur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8" name=""/>
          <p:cNvGrpSpPr/>
          <p:nvPr/>
        </p:nvGrpSpPr>
        <p:grpSpPr>
          <a:xfrm>
            <a:off x="7543800" y="2394000"/>
            <a:ext cx="380880" cy="1835280"/>
            <a:chOff x="7543800" y="2394000"/>
            <a:chExt cx="380880" cy="1835280"/>
          </a:xfrm>
        </p:grpSpPr>
        <p:grpSp>
          <p:nvGrpSpPr>
            <p:cNvPr id="4649" name=""/>
            <p:cNvGrpSpPr/>
            <p:nvPr/>
          </p:nvGrpSpPr>
          <p:grpSpPr>
            <a:xfrm>
              <a:off x="7543800" y="2394000"/>
              <a:ext cx="228600" cy="1796760"/>
              <a:chOff x="7543800" y="2394000"/>
              <a:chExt cx="228600" cy="1796760"/>
            </a:xfrm>
          </p:grpSpPr>
          <p:sp>
            <p:nvSpPr>
              <p:cNvPr id="4650" name=""/>
              <p:cNvSpPr/>
              <p:nvPr/>
            </p:nvSpPr>
            <p:spPr>
              <a:xfrm flipV="1">
                <a:off x="7543800" y="2394000"/>
                <a:ext cx="61920" cy="936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620120" y="2431800"/>
                <a:ext cx="0" cy="175896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696080" y="2570040"/>
                <a:ext cx="0" cy="162072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772400" y="2711160"/>
                <a:ext cx="0" cy="14796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4" name=""/>
            <p:cNvSpPr/>
            <p:nvPr/>
          </p:nvSpPr>
          <p:spPr>
            <a:xfrm>
              <a:off x="7583400" y="2394000"/>
              <a:ext cx="0" cy="18352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7543800" y="2833560"/>
              <a:ext cx="3808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00ffff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6" name=""/>
          <p:cNvSpPr/>
          <p:nvPr/>
        </p:nvSpPr>
        <p:spPr>
          <a:xfrm>
            <a:off x="7848720" y="2895480"/>
            <a:ext cx="0" cy="129564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>
            <a:off x="2590920" y="2743200"/>
            <a:ext cx="2666880" cy="1922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udents is represented by the narrow strip,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ot a single li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>
            <a:off x="1066680" y="5348160"/>
            <a:ext cx="7010640" cy="1130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adjustment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ontinuity correction f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9" name=""/>
          <p:cNvGrpSpPr/>
          <p:nvPr/>
        </p:nvGrpSpPr>
        <p:grpSpPr>
          <a:xfrm>
            <a:off x="1308240" y="533520"/>
            <a:ext cx="7454880" cy="1221120"/>
            <a:chOff x="1308240" y="533520"/>
            <a:chExt cx="7454880" cy="1221120"/>
          </a:xfrm>
        </p:grpSpPr>
        <p:sp>
          <p:nvSpPr>
            <p:cNvPr id="4660" name=""/>
            <p:cNvSpPr/>
            <p:nvPr/>
          </p:nvSpPr>
          <p:spPr>
            <a:xfrm>
              <a:off x="2068560" y="1371240"/>
              <a:ext cx="61610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2057400" y="563400"/>
              <a:ext cx="670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nd the probability that 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at </a:t>
              </a:r>
              <a:r>
                <a:rPr b="1" i="1" lang="en-US" sz="2400" spc="-1" strike="noStrike" u="sng">
                  <a:solidFill>
                    <a:srgbClr val="ff6600"/>
                  </a:solidFill>
                  <a:uFillTx/>
                  <a:latin typeface="Times New Roman"/>
                </a:rPr>
                <a:t>least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 5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students                 in a class of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80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d their homework last n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 txBox="1"/>
            <p:nvPr/>
          </p:nvSpPr>
          <p:spPr>
            <a:xfrm>
              <a:off x="1308240" y="533520"/>
              <a:ext cx="749160" cy="92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grpSp>
        <p:nvGrpSpPr>
          <p:cNvPr id="4663" name=""/>
          <p:cNvGrpSpPr/>
          <p:nvPr/>
        </p:nvGrpSpPr>
        <p:grpSpPr>
          <a:xfrm>
            <a:off x="5410080" y="2133720"/>
            <a:ext cx="3657240" cy="2057400"/>
            <a:chOff x="5410080" y="2133720"/>
            <a:chExt cx="3657240" cy="2057400"/>
          </a:xfrm>
        </p:grpSpPr>
        <p:sp>
          <p:nvSpPr>
            <p:cNvPr id="4664" name=""/>
            <p:cNvSpPr/>
            <p:nvPr/>
          </p:nvSpPr>
          <p:spPr>
            <a:xfrm>
              <a:off x="5410080" y="419112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7253640" y="213372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 flipV="1">
              <a:off x="5474520" y="417708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 flipV="1">
              <a:off x="5540760" y="415368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 flipV="1">
              <a:off x="5607000" y="414036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5658120" y="411732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 flipV="1">
              <a:off x="5722920" y="408060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5772600" y="404244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 flipV="1">
              <a:off x="5837400" y="400572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 flipV="1">
              <a:off x="5890320" y="395640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 flipV="1">
              <a:off x="5955120" y="390600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 flipV="1">
              <a:off x="6021000" y="384192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6069240" y="377172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 flipV="1">
              <a:off x="6137280" y="369468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6186600" y="360792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 flipV="1">
              <a:off x="6253200" y="350964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 flipV="1">
              <a:off x="6301080" y="341028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 flipV="1">
              <a:off x="6367320" y="330912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 flipV="1">
              <a:off x="6435360" y="320040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6485040" y="307656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 flipV="1">
              <a:off x="6553080" y="296496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6600960" y="285300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V="1">
              <a:off x="6665760" y="274140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V="1">
              <a:off x="6715080" y="263088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 flipV="1">
              <a:off x="6783120" y="253008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 flipV="1">
              <a:off x="6849360" y="243180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6899040" y="234504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6963480" y="226980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014960" y="221940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079760" y="217044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 flipV="1">
              <a:off x="7129080" y="214560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 flipV="1">
              <a:off x="7195680" y="213372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7261920" y="213372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313400" y="214596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7379280" y="217044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428960" y="221940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493400" y="226980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543440" y="234504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609680" y="243216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659360" y="253008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725600" y="263088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793640" y="274140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841520" y="285300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907760" y="296496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956000" y="307656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8024040" y="320076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8073720" y="330912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8139600" y="341028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8207640" y="351000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8255880" y="360792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8321760" y="369504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8371800" y="377172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8438040" y="384192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8485920" y="390636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8553960" y="395676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8618760" y="400572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8671680" y="404244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8734320" y="408096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8784360" y="411732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8850240" y="414036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8901720" y="415404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8967960" y="417708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6" name=""/>
          <p:cNvSpPr/>
          <p:nvPr/>
        </p:nvSpPr>
        <p:spPr>
          <a:xfrm>
            <a:off x="7543800" y="38098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474A-5891-4607-BF40-326CA6F76EF7}" type="slidenum">
              <a:t>69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666800" y="85680"/>
            <a:ext cx="5829480" cy="1314360"/>
            <a:chOff x="1666800" y="85680"/>
            <a:chExt cx="5829480" cy="1314360"/>
          </a:xfrm>
        </p:grpSpPr>
        <p:sp>
          <p:nvSpPr>
            <p:cNvPr id="111" name=""/>
            <p:cNvSpPr/>
            <p:nvPr/>
          </p:nvSpPr>
          <p:spPr>
            <a:xfrm>
              <a:off x="1666800" y="85680"/>
              <a:ext cx="5829480" cy="1314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52480" y="142920"/>
              <a:ext cx="568656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64600" dir="607483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200" spc="-1" strike="noStrike">
                  <a:solidFill>
                    <a:srgbClr val="ff3300"/>
                  </a:solidFill>
                  <a:latin typeface="Times New Roman"/>
                </a:rPr>
                <a:t>Continuous Probability Distributions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752480" y="2766960"/>
            <a:ext cx="5486400" cy="28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38200" y="1968480"/>
            <a:ext cx="6229440" cy="36432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53080" y="2647800"/>
            <a:ext cx="1047600" cy="2946600"/>
          </a:xfrm>
          <a:custGeom>
            <a:avLst/>
            <a:gdLst/>
            <a:ahLst/>
            <a:rect l="l" t="t" r="r" b="b"/>
            <a:pathLst>
              <a:path w="480" h="1488">
                <a:moveTo>
                  <a:pt x="0" y="0"/>
                </a:moveTo>
                <a:lnTo>
                  <a:pt x="0" y="1488"/>
                </a:lnTo>
                <a:lnTo>
                  <a:pt x="480" y="1488"/>
                </a:lnTo>
                <a:lnTo>
                  <a:pt x="480" y="1104"/>
                </a:lnTo>
                <a:lnTo>
                  <a:pt x="432" y="1056"/>
                </a:lnTo>
                <a:lnTo>
                  <a:pt x="388" y="932"/>
                </a:lnTo>
                <a:lnTo>
                  <a:pt x="340" y="844"/>
                </a:lnTo>
                <a:lnTo>
                  <a:pt x="308" y="764"/>
                </a:lnTo>
                <a:lnTo>
                  <a:pt x="268" y="652"/>
                </a:lnTo>
                <a:lnTo>
                  <a:pt x="236" y="552"/>
                </a:lnTo>
                <a:lnTo>
                  <a:pt x="208" y="468"/>
                </a:lnTo>
                <a:lnTo>
                  <a:pt x="156" y="356"/>
                </a:lnTo>
                <a:lnTo>
                  <a:pt x="116" y="256"/>
                </a:lnTo>
                <a:lnTo>
                  <a:pt x="84" y="180"/>
                </a:lnTo>
                <a:lnTo>
                  <a:pt x="40" y="68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530440" y="2516040"/>
            <a:ext cx="4101840" cy="3090600"/>
            <a:chOff x="2530440" y="2516040"/>
            <a:chExt cx="4101840" cy="3090600"/>
          </a:xfrm>
        </p:grpSpPr>
        <p:sp>
          <p:nvSpPr>
            <p:cNvPr id="117" name=""/>
            <p:cNvSpPr/>
            <p:nvPr/>
          </p:nvSpPr>
          <p:spPr>
            <a:xfrm flipV="1">
              <a:off x="2530440" y="5587200"/>
              <a:ext cx="74880" cy="1908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605320" y="5550480"/>
              <a:ext cx="76680" cy="3636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682360" y="5531400"/>
              <a:ext cx="57240" cy="1908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39600" y="5495040"/>
              <a:ext cx="7668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816640" y="5438520"/>
              <a:ext cx="57240" cy="5580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880" y="5383080"/>
              <a:ext cx="7452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948400" y="5326920"/>
              <a:ext cx="58680" cy="5580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007440" y="5252040"/>
              <a:ext cx="74880" cy="7488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082680" y="5179320"/>
              <a:ext cx="76680" cy="727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159360" y="5085000"/>
              <a:ext cx="57240" cy="943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16600" y="4973040"/>
              <a:ext cx="7668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293640" y="4861440"/>
              <a:ext cx="57240" cy="11160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0880" y="4730400"/>
              <a:ext cx="7452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425760" y="4582080"/>
              <a:ext cx="57240" cy="14796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483000" y="4433760"/>
              <a:ext cx="76680" cy="1483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59680" y="4283280"/>
              <a:ext cx="76680" cy="1501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636720" y="4116240"/>
              <a:ext cx="57240" cy="16704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93960" y="3931200"/>
              <a:ext cx="7668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771000" y="3763800"/>
              <a:ext cx="57240" cy="16704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28240" y="3596400"/>
              <a:ext cx="7452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902760" y="3428280"/>
              <a:ext cx="57240" cy="16740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960000" y="3261240"/>
              <a:ext cx="76680" cy="16704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037040" y="3110760"/>
              <a:ext cx="76680" cy="1501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114080" y="2962440"/>
              <a:ext cx="57240" cy="1483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71320" y="2831760"/>
              <a:ext cx="7668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48000" y="2720160"/>
              <a:ext cx="572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05240" y="2645280"/>
              <a:ext cx="7488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80480" y="2571840"/>
              <a:ext cx="5652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37360" y="2533320"/>
              <a:ext cx="76680" cy="3816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14400" y="2516040"/>
              <a:ext cx="76680" cy="1728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91080" y="2516040"/>
              <a:ext cx="57240" cy="1728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8320" y="2533320"/>
              <a:ext cx="76680" cy="3816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25360" y="2571840"/>
              <a:ext cx="57240" cy="7308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82600" y="2645280"/>
              <a:ext cx="74880" cy="7488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57840" y="2720160"/>
              <a:ext cx="57240" cy="11124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15080" y="2831760"/>
              <a:ext cx="76680" cy="13068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1760" y="2962440"/>
              <a:ext cx="56520" cy="1483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48640" y="3111120"/>
              <a:ext cx="76680" cy="1501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25680" y="3261240"/>
              <a:ext cx="76680" cy="16704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02360" y="3428640"/>
              <a:ext cx="57240" cy="16740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59960" y="3596400"/>
              <a:ext cx="74880" cy="1674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34840" y="3763800"/>
              <a:ext cx="57240" cy="16704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2080" y="3931200"/>
              <a:ext cx="76680" cy="1850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69120" y="4116240"/>
              <a:ext cx="57240" cy="16704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26360" y="4283640"/>
              <a:ext cx="76680" cy="1501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03400" y="4433760"/>
              <a:ext cx="76680" cy="1483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0080" y="4582440"/>
              <a:ext cx="56520" cy="14796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6960" y="4730400"/>
              <a:ext cx="74880" cy="13068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12200" y="4861440"/>
              <a:ext cx="57240" cy="11160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9440" y="4973040"/>
              <a:ext cx="76680" cy="1116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6480" y="5085000"/>
              <a:ext cx="57240" cy="943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03720" y="5179320"/>
              <a:ext cx="76680" cy="7272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0400" y="5252040"/>
              <a:ext cx="74520" cy="7488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5280" y="5327280"/>
              <a:ext cx="59400" cy="5580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14680" y="5383080"/>
              <a:ext cx="74520" cy="5580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89200" y="5438880"/>
              <a:ext cx="57240" cy="5580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6440" y="5495040"/>
              <a:ext cx="76680" cy="363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46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23480" y="5531760"/>
              <a:ext cx="57240" cy="1908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80720" y="5550840"/>
              <a:ext cx="76680" cy="3636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7760" y="5587560"/>
              <a:ext cx="74520" cy="19080"/>
            </a:xfrm>
            <a:prstGeom prst="line">
              <a:avLst/>
            </a:prstGeom>
            <a:ln w="46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80840" y="2460600"/>
            <a:ext cx="23781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becf9"/>
                </a:solidFill>
                <a:latin typeface="Arial"/>
              </a:rPr>
              <a:t>P(a&lt;X&lt;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09760" y="1919160"/>
            <a:ext cx="0" cy="3791160"/>
          </a:xfrm>
          <a:prstGeom prst="line">
            <a:avLst/>
          </a:prstGeom>
          <a:ln cap="sq"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02920" y="1835280"/>
            <a:ext cx="97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becf9"/>
                </a:solidFill>
                <a:latin typeface="Arial"/>
              </a:rPr>
              <a:t>f(x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82400" y="5222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95760" y="5415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21400" y="539892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29360" y="3171960"/>
            <a:ext cx="1428480" cy="1218960"/>
          </a:xfrm>
          <a:prstGeom prst="line">
            <a:avLst/>
          </a:prstGeom>
          <a:ln cap="sq" w="57240">
            <a:solidFill>
              <a:srgbClr val="cbec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16200" y="1584360"/>
            <a:ext cx="383364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37587" dir="742140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nge of Valu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16CD-D3D6-4E84-B6EF-436EA6D83D5D}" type="slidenum">
              <a:t>7</a:t>
            </a:fld>
          </a:p>
        </p:txBody>
      </p:sp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"/>
          <p:cNvSpPr/>
          <p:nvPr/>
        </p:nvSpPr>
        <p:spPr>
          <a:xfrm>
            <a:off x="2068560" y="1600200"/>
            <a:ext cx="61610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8" name=""/>
          <p:cNvSpPr/>
          <p:nvPr/>
        </p:nvSpPr>
        <p:spPr>
          <a:xfrm>
            <a:off x="2057400" y="792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probability that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at  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most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tudents                 in a class of 80 did their homework last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9" name=""/>
          <p:cNvSpPr txBox="1"/>
          <p:nvPr/>
        </p:nvSpPr>
        <p:spPr>
          <a:xfrm>
            <a:off x="1308240" y="762120"/>
            <a:ext cx="74916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</a:rPr>
              <a:t>Q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2298" dir="10375500" blurRad="0" rotWithShape="0">
                  <a:srgbClr val="868686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4730" name=""/>
          <p:cNvGrpSpPr/>
          <p:nvPr/>
        </p:nvGrpSpPr>
        <p:grpSpPr>
          <a:xfrm>
            <a:off x="228600" y="1828800"/>
            <a:ext cx="3429000" cy="947160"/>
            <a:chOff x="228600" y="1828800"/>
            <a:chExt cx="3429000" cy="947160"/>
          </a:xfrm>
        </p:grpSpPr>
        <p:sp>
          <p:nvSpPr>
            <p:cNvPr id="4731" name=""/>
            <p:cNvSpPr/>
            <p:nvPr/>
          </p:nvSpPr>
          <p:spPr>
            <a:xfrm>
              <a:off x="1066680" y="1828800"/>
              <a:ext cx="2590920" cy="947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5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2" name=""/>
            <p:cNvGrpSpPr/>
            <p:nvPr/>
          </p:nvGrpSpPr>
          <p:grpSpPr>
            <a:xfrm>
              <a:off x="228600" y="1935360"/>
              <a:ext cx="685800" cy="811080"/>
              <a:chOff x="228600" y="1935360"/>
              <a:chExt cx="685800" cy="811080"/>
            </a:xfrm>
          </p:grpSpPr>
          <p:pic>
            <p:nvPicPr>
              <p:cNvPr id="47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193536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4" name=""/>
              <p:cNvSpPr/>
              <p:nvPr/>
            </p:nvSpPr>
            <p:spPr>
              <a:xfrm>
                <a:off x="282960" y="20113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35" name=""/>
          <p:cNvSpPr/>
          <p:nvPr/>
        </p:nvSpPr>
        <p:spPr>
          <a:xfrm>
            <a:off x="457200" y="2819520"/>
            <a:ext cx="502920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we want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at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 most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we want to include all of 50, so we us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the normal cur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6" name=""/>
          <p:cNvSpPr/>
          <p:nvPr/>
        </p:nvSpPr>
        <p:spPr>
          <a:xfrm>
            <a:off x="7620120" y="39020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7" name=""/>
          <p:cNvSpPr/>
          <p:nvPr/>
        </p:nvSpPr>
        <p:spPr>
          <a:xfrm>
            <a:off x="70102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8" name=""/>
          <p:cNvGrpSpPr/>
          <p:nvPr/>
        </p:nvGrpSpPr>
        <p:grpSpPr>
          <a:xfrm>
            <a:off x="7543800" y="2089080"/>
            <a:ext cx="380880" cy="1835280"/>
            <a:chOff x="7543800" y="2089080"/>
            <a:chExt cx="380880" cy="1835280"/>
          </a:xfrm>
        </p:grpSpPr>
        <p:grpSp>
          <p:nvGrpSpPr>
            <p:cNvPr id="4739" name=""/>
            <p:cNvGrpSpPr/>
            <p:nvPr/>
          </p:nvGrpSpPr>
          <p:grpSpPr>
            <a:xfrm>
              <a:off x="7543800" y="2089080"/>
              <a:ext cx="228600" cy="1796760"/>
              <a:chOff x="7543800" y="2089080"/>
              <a:chExt cx="228600" cy="1796760"/>
            </a:xfrm>
          </p:grpSpPr>
          <p:sp>
            <p:nvSpPr>
              <p:cNvPr id="4740" name=""/>
              <p:cNvSpPr/>
              <p:nvPr/>
            </p:nvSpPr>
            <p:spPr>
              <a:xfrm flipV="1">
                <a:off x="7543800" y="2089080"/>
                <a:ext cx="61920" cy="936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7620120" y="2126880"/>
                <a:ext cx="0" cy="175896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7696080" y="2265120"/>
                <a:ext cx="0" cy="162072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7772400" y="2406240"/>
                <a:ext cx="0" cy="14796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4" name=""/>
            <p:cNvSpPr/>
            <p:nvPr/>
          </p:nvSpPr>
          <p:spPr>
            <a:xfrm>
              <a:off x="7583400" y="2089080"/>
              <a:ext cx="0" cy="18352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543800" y="2528640"/>
              <a:ext cx="3808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00ffff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6" name=""/>
          <p:cNvSpPr/>
          <p:nvPr/>
        </p:nvSpPr>
        <p:spPr>
          <a:xfrm>
            <a:off x="7848720" y="2590920"/>
            <a:ext cx="0" cy="12952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7" name=""/>
          <p:cNvGrpSpPr/>
          <p:nvPr/>
        </p:nvGrpSpPr>
        <p:grpSpPr>
          <a:xfrm>
            <a:off x="5410080" y="1828800"/>
            <a:ext cx="3657240" cy="2057400"/>
            <a:chOff x="5410080" y="1828800"/>
            <a:chExt cx="3657240" cy="2057400"/>
          </a:xfrm>
        </p:grpSpPr>
        <p:sp>
          <p:nvSpPr>
            <p:cNvPr id="4748" name=""/>
            <p:cNvSpPr/>
            <p:nvPr/>
          </p:nvSpPr>
          <p:spPr>
            <a:xfrm>
              <a:off x="5410080" y="388620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7253640" y="182880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 flipV="1">
              <a:off x="5474520" y="387216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 flipV="1">
              <a:off x="5540760" y="384876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 flipV="1">
              <a:off x="5607000" y="383544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5658120" y="381240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 flipV="1">
              <a:off x="5722920" y="377568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5772600" y="373752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 flipV="1">
              <a:off x="5837400" y="370080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 flipV="1">
              <a:off x="5890320" y="365148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 flipV="1">
              <a:off x="5955120" y="360108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 flipV="1">
              <a:off x="6021000" y="353700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6069240" y="346680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 flipV="1">
              <a:off x="6137280" y="338976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6186600" y="330300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 flipV="1">
              <a:off x="6253200" y="320472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 flipV="1">
              <a:off x="6301080" y="310536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 flipV="1">
              <a:off x="6367320" y="300420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 flipV="1">
              <a:off x="6435360" y="289548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6485040" y="277164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 flipV="1">
              <a:off x="6553080" y="266004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6600960" y="254808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 flipV="1">
              <a:off x="6665760" y="243648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 flipV="1">
              <a:off x="6715080" y="232596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 flipV="1">
              <a:off x="6783120" y="222516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 flipV="1">
              <a:off x="6849360" y="212688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6899040" y="204012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6963480" y="196488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7014960" y="191448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7079760" y="186552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 flipV="1">
              <a:off x="7129080" y="184068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 flipV="1">
              <a:off x="7195680" y="182880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7261920" y="182880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7313400" y="184104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7379280" y="186552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7428960" y="191448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7493400" y="196488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7543440" y="204012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7609680" y="212724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7659360" y="222516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7725600" y="232596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7793640" y="243648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7841520" y="254808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7907760" y="266004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7956000" y="277164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8024040" y="289584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8073720" y="300420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8139600" y="310536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8207640" y="320508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8255880" y="330300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8321760" y="339012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8371800" y="346680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8438040" y="353700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8485920" y="360144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8553960" y="365184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8618760" y="370080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8671680" y="373752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8734320" y="377604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8784360" y="381240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8850240" y="383544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8901720" y="384912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8967960" y="387216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0" name=""/>
          <p:cNvSpPr/>
          <p:nvPr/>
        </p:nvSpPr>
        <p:spPr>
          <a:xfrm flipH="1">
            <a:off x="6019920" y="3505320"/>
            <a:ext cx="1752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1" name=""/>
          <p:cNvSpPr/>
          <p:nvPr/>
        </p:nvSpPr>
        <p:spPr>
          <a:xfrm>
            <a:off x="7391520" y="64166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2" name=""/>
          <p:cNvSpPr/>
          <p:nvPr/>
        </p:nvSpPr>
        <p:spPr>
          <a:xfrm>
            <a:off x="70102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3" name=""/>
          <p:cNvGrpSpPr/>
          <p:nvPr/>
        </p:nvGrpSpPr>
        <p:grpSpPr>
          <a:xfrm>
            <a:off x="7543800" y="4603680"/>
            <a:ext cx="380880" cy="1835280"/>
            <a:chOff x="7543800" y="4603680"/>
            <a:chExt cx="380880" cy="1835280"/>
          </a:xfrm>
        </p:grpSpPr>
        <p:grpSp>
          <p:nvGrpSpPr>
            <p:cNvPr id="4814" name=""/>
            <p:cNvGrpSpPr/>
            <p:nvPr/>
          </p:nvGrpSpPr>
          <p:grpSpPr>
            <a:xfrm>
              <a:off x="7543800" y="4603680"/>
              <a:ext cx="228600" cy="1796760"/>
              <a:chOff x="7543800" y="4603680"/>
              <a:chExt cx="228600" cy="1796760"/>
            </a:xfrm>
          </p:grpSpPr>
          <p:sp>
            <p:nvSpPr>
              <p:cNvPr id="4815" name=""/>
              <p:cNvSpPr/>
              <p:nvPr/>
            </p:nvSpPr>
            <p:spPr>
              <a:xfrm flipV="1">
                <a:off x="7543800" y="4603680"/>
                <a:ext cx="61920" cy="936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7620120" y="4641480"/>
                <a:ext cx="0" cy="175896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7696080" y="4779720"/>
                <a:ext cx="0" cy="162072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7772400" y="4920840"/>
                <a:ext cx="0" cy="14796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9" name=""/>
            <p:cNvSpPr/>
            <p:nvPr/>
          </p:nvSpPr>
          <p:spPr>
            <a:xfrm>
              <a:off x="7583400" y="4603680"/>
              <a:ext cx="0" cy="18352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7543800" y="5043240"/>
              <a:ext cx="3808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00ffff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1" name=""/>
          <p:cNvSpPr/>
          <p:nvPr/>
        </p:nvSpPr>
        <p:spPr>
          <a:xfrm>
            <a:off x="7848720" y="5105520"/>
            <a:ext cx="0" cy="12952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2" name=""/>
          <p:cNvGrpSpPr/>
          <p:nvPr/>
        </p:nvGrpSpPr>
        <p:grpSpPr>
          <a:xfrm>
            <a:off x="5410080" y="4343400"/>
            <a:ext cx="3657240" cy="2057400"/>
            <a:chOff x="5410080" y="4343400"/>
            <a:chExt cx="3657240" cy="2057400"/>
          </a:xfrm>
        </p:grpSpPr>
        <p:sp>
          <p:nvSpPr>
            <p:cNvPr id="4823" name=""/>
            <p:cNvSpPr/>
            <p:nvPr/>
          </p:nvSpPr>
          <p:spPr>
            <a:xfrm>
              <a:off x="5410080" y="6400800"/>
              <a:ext cx="3657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7253640" y="4343400"/>
              <a:ext cx="0" cy="20574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 flipV="1">
              <a:off x="5474520" y="6386760"/>
              <a:ext cx="6588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 flipV="1">
              <a:off x="5540760" y="6363360"/>
              <a:ext cx="6624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 flipV="1">
              <a:off x="5607000" y="6350040"/>
              <a:ext cx="5076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5658120" y="6327000"/>
              <a:ext cx="6444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9"/>
                  </a:moveTo>
                  <a:lnTo>
                    <a:pt x="19" y="10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 flipV="1">
              <a:off x="5722920" y="629028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772600" y="6252120"/>
              <a:ext cx="644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29"/>
                  </a:moveTo>
                  <a:lnTo>
                    <a:pt x="19" y="1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 flipV="1">
              <a:off x="5837400" y="621540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 flipV="1">
              <a:off x="5890320" y="616608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 flipV="1">
              <a:off x="5955120" y="6115680"/>
              <a:ext cx="658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 flipV="1">
              <a:off x="6021000" y="605160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069240" y="5981400"/>
              <a:ext cx="676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5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 flipV="1">
              <a:off x="6137280" y="5904360"/>
              <a:ext cx="4932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6186600" y="5817600"/>
              <a:ext cx="6624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68"/>
                  </a:moveTo>
                  <a:lnTo>
                    <a:pt x="19" y="39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 flipV="1">
              <a:off x="6253200" y="5719320"/>
              <a:ext cx="475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 flipV="1">
              <a:off x="6301080" y="5619960"/>
              <a:ext cx="6624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 flipV="1">
              <a:off x="6367320" y="5518800"/>
              <a:ext cx="676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 flipV="1">
              <a:off x="6435360" y="541008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6485040" y="528624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19" y="48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 flipV="1">
              <a:off x="6553080" y="517464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6600960" y="5062680"/>
              <a:ext cx="644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87"/>
                  </a:moveTo>
                  <a:lnTo>
                    <a:pt x="19" y="38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flipV="1">
              <a:off x="6665760" y="4951080"/>
              <a:ext cx="493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flipV="1">
              <a:off x="6715080" y="484056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 flipV="1">
              <a:off x="6783120" y="473976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 flipV="1">
              <a:off x="6849360" y="464148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6899040" y="4554720"/>
              <a:ext cx="6444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68"/>
                  </a:moveTo>
                  <a:lnTo>
                    <a:pt x="19" y="29"/>
                  </a:lnTo>
                  <a:lnTo>
                    <a:pt x="3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6963480" y="4479480"/>
              <a:ext cx="5112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58"/>
                  </a:moveTo>
                  <a:lnTo>
                    <a:pt x="9" y="2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7014960" y="442908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39"/>
                  </a:moveTo>
                  <a:lnTo>
                    <a:pt x="19" y="20"/>
                  </a:lnTo>
                  <a:lnTo>
                    <a:pt x="38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7079760" y="438012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38"/>
                  </a:moveTo>
                  <a:lnTo>
                    <a:pt x="10" y="19"/>
                  </a:lnTo>
                  <a:lnTo>
                    <a:pt x="29" y="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 flipV="1">
              <a:off x="7129080" y="4355280"/>
              <a:ext cx="66240" cy="241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 flipV="1">
              <a:off x="7195680" y="4343400"/>
              <a:ext cx="6588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7261920" y="4343400"/>
              <a:ext cx="51120" cy="122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7313400" y="4355640"/>
              <a:ext cx="65880" cy="2412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0" y="0"/>
                  </a:moveTo>
                  <a:lnTo>
                    <a:pt x="19" y="10"/>
                  </a:lnTo>
                  <a:lnTo>
                    <a:pt x="39" y="20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7379280" y="4380120"/>
              <a:ext cx="49320" cy="4860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0" y="0"/>
                  </a:moveTo>
                  <a:lnTo>
                    <a:pt x="9" y="19"/>
                  </a:lnTo>
                  <a:lnTo>
                    <a:pt x="29" y="3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7428960" y="4429080"/>
              <a:ext cx="64440" cy="504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0" y="0"/>
                  </a:moveTo>
                  <a:lnTo>
                    <a:pt x="19" y="20"/>
                  </a:lnTo>
                  <a:lnTo>
                    <a:pt x="38" y="3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7493400" y="4479480"/>
              <a:ext cx="49680" cy="7488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0" y="0"/>
                  </a:moveTo>
                  <a:lnTo>
                    <a:pt x="10" y="29"/>
                  </a:lnTo>
                  <a:lnTo>
                    <a:pt x="2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7543440" y="4554720"/>
              <a:ext cx="65880" cy="87120"/>
            </a:xfrm>
            <a:custGeom>
              <a:avLst/>
              <a:gdLst/>
              <a:ahLst/>
              <a:rect l="l" t="t" r="r" b="b"/>
              <a:pathLst>
                <a:path w="39" h="68">
                  <a:moveTo>
                    <a:pt x="0" y="0"/>
                  </a:moveTo>
                  <a:lnTo>
                    <a:pt x="20" y="29"/>
                  </a:lnTo>
                  <a:lnTo>
                    <a:pt x="39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7609680" y="4641840"/>
              <a:ext cx="4932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7659360" y="4739760"/>
              <a:ext cx="6624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7725600" y="4840560"/>
              <a:ext cx="67680" cy="1101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7793640" y="4951080"/>
              <a:ext cx="4752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7841520" y="5062680"/>
              <a:ext cx="66240" cy="11160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0" y="0"/>
                  </a:moveTo>
                  <a:lnTo>
                    <a:pt x="19" y="38"/>
                  </a:lnTo>
                  <a:lnTo>
                    <a:pt x="38" y="87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7907760" y="5174640"/>
              <a:ext cx="47880" cy="111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7956000" y="5286240"/>
              <a:ext cx="67680" cy="12384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0"/>
                  </a:moveTo>
                  <a:lnTo>
                    <a:pt x="20" y="48"/>
                  </a:lnTo>
                  <a:lnTo>
                    <a:pt x="39" y="96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8024040" y="5410440"/>
              <a:ext cx="49320" cy="108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8073720" y="5518800"/>
              <a:ext cx="65880" cy="100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8139600" y="5619960"/>
              <a:ext cx="67680" cy="99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8207640" y="5719680"/>
              <a:ext cx="47880" cy="975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8255880" y="5817600"/>
              <a:ext cx="65880" cy="871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0" y="0"/>
                  </a:moveTo>
                  <a:lnTo>
                    <a:pt x="19" y="39"/>
                  </a:lnTo>
                  <a:lnTo>
                    <a:pt x="38" y="6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8321760" y="5904720"/>
              <a:ext cx="49680" cy="76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8371800" y="5981400"/>
              <a:ext cx="65880" cy="7020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0" y="0"/>
                  </a:moveTo>
                  <a:lnTo>
                    <a:pt x="20" y="29"/>
                  </a:lnTo>
                  <a:lnTo>
                    <a:pt x="39" y="58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8438040" y="6051600"/>
              <a:ext cx="47880" cy="64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8485920" y="6116040"/>
              <a:ext cx="67680" cy="5004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8553960" y="6166440"/>
              <a:ext cx="64440" cy="486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8618760" y="6215400"/>
              <a:ext cx="52920" cy="367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8671680" y="6252120"/>
              <a:ext cx="62640" cy="3852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0"/>
                  </a:moveTo>
                  <a:lnTo>
                    <a:pt x="19" y="10"/>
                  </a:lnTo>
                  <a:lnTo>
                    <a:pt x="38" y="2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8734320" y="6290640"/>
              <a:ext cx="49680" cy="3636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8784360" y="6327000"/>
              <a:ext cx="65880" cy="226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20" y="10"/>
                  </a:lnTo>
                  <a:lnTo>
                    <a:pt x="39" y="19"/>
                  </a:lnTo>
                </a:path>
              </a:pathLst>
            </a:custGeom>
            <a:noFill/>
            <a:ln w="7632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8850240" y="6350040"/>
              <a:ext cx="5112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8901720" y="6363720"/>
              <a:ext cx="65880" cy="22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8967960" y="6386760"/>
              <a:ext cx="64440" cy="136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5" name=""/>
          <p:cNvSpPr/>
          <p:nvPr/>
        </p:nvSpPr>
        <p:spPr>
          <a:xfrm flipH="1">
            <a:off x="6019560" y="601992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6" name=""/>
          <p:cNvSpPr/>
          <p:nvPr/>
        </p:nvSpPr>
        <p:spPr>
          <a:xfrm>
            <a:off x="533520" y="4800600"/>
            <a:ext cx="457200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 if we want 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less than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 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we do not want to include all of 50, so we us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9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on the normal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7" name=""/>
          <p:cNvSpPr txBox="1"/>
          <p:nvPr/>
        </p:nvSpPr>
        <p:spPr>
          <a:xfrm>
            <a:off x="5334120" y="4343400"/>
            <a:ext cx="1209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EW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88" name=""/>
          <p:cNvSpPr/>
          <p:nvPr/>
        </p:nvSpPr>
        <p:spPr>
          <a:xfrm>
            <a:off x="1219320" y="120600"/>
            <a:ext cx="6858000" cy="64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e…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ntinuity correction fa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67B8-2C99-41EE-BF30-E9D6C715D0B9}" type="slidenum">
              <a:t>70</a:t>
            </a:fld>
          </a:p>
        </p:txBody>
      </p:sp>
    </p:spTree>
  </p:cSld>
  <p:transition>
    <p:split dir="in" orient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0" name=""/>
          <p:cNvGrpSpPr/>
          <p:nvPr/>
        </p:nvGrpSpPr>
        <p:grpSpPr>
          <a:xfrm>
            <a:off x="685800" y="1752480"/>
            <a:ext cx="7772040" cy="4248000"/>
            <a:chOff x="685800" y="1752480"/>
            <a:chExt cx="7772040" cy="4248000"/>
          </a:xfrm>
        </p:grpSpPr>
        <p:sp>
          <p:nvSpPr>
            <p:cNvPr id="4891" name=""/>
            <p:cNvSpPr/>
            <p:nvPr/>
          </p:nvSpPr>
          <p:spPr>
            <a:xfrm flipH="1" rot="16200000">
              <a:off x="2447280" y="-9360"/>
              <a:ext cx="4248000" cy="77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 flipH="1" rot="16200000">
              <a:off x="2461680" y="20880"/>
              <a:ext cx="4219920" cy="7711200"/>
            </a:xfrm>
            <a:custGeom>
              <a:avLst/>
              <a:gdLst/>
              <a:ahLst/>
              <a:rect l="l" t="t" r="r" b="b"/>
              <a:pathLst>
                <a:path w="2658" h="3560">
                  <a:moveTo>
                    <a:pt x="869" y="3551"/>
                  </a:moveTo>
                  <a:lnTo>
                    <a:pt x="921" y="3508"/>
                  </a:lnTo>
                  <a:lnTo>
                    <a:pt x="968" y="3462"/>
                  </a:lnTo>
                  <a:lnTo>
                    <a:pt x="1019" y="3419"/>
                  </a:lnTo>
                  <a:lnTo>
                    <a:pt x="1071" y="3373"/>
                  </a:lnTo>
                  <a:lnTo>
                    <a:pt x="1118" y="3326"/>
                  </a:lnTo>
                  <a:lnTo>
                    <a:pt x="1169" y="3284"/>
                  </a:lnTo>
                  <a:lnTo>
                    <a:pt x="1226" y="3246"/>
                  </a:lnTo>
                  <a:lnTo>
                    <a:pt x="1277" y="3213"/>
                  </a:lnTo>
                  <a:lnTo>
                    <a:pt x="1282" y="3218"/>
                  </a:lnTo>
                  <a:lnTo>
                    <a:pt x="1287" y="3218"/>
                  </a:lnTo>
                  <a:lnTo>
                    <a:pt x="1287" y="3218"/>
                  </a:lnTo>
                  <a:lnTo>
                    <a:pt x="1287" y="3223"/>
                  </a:lnTo>
                  <a:lnTo>
                    <a:pt x="1291" y="3223"/>
                  </a:lnTo>
                  <a:lnTo>
                    <a:pt x="1291" y="3223"/>
                  </a:lnTo>
                  <a:lnTo>
                    <a:pt x="1296" y="3227"/>
                  </a:lnTo>
                  <a:lnTo>
                    <a:pt x="1301" y="3227"/>
                  </a:lnTo>
                  <a:lnTo>
                    <a:pt x="1404" y="3152"/>
                  </a:lnTo>
                  <a:lnTo>
                    <a:pt x="1503" y="3077"/>
                  </a:lnTo>
                  <a:lnTo>
                    <a:pt x="1606" y="3007"/>
                  </a:lnTo>
                  <a:lnTo>
                    <a:pt x="1705" y="2932"/>
                  </a:lnTo>
                  <a:lnTo>
                    <a:pt x="1798" y="2862"/>
                  </a:lnTo>
                  <a:lnTo>
                    <a:pt x="1897" y="2792"/>
                  </a:lnTo>
                  <a:lnTo>
                    <a:pt x="1996" y="2721"/>
                  </a:lnTo>
                  <a:lnTo>
                    <a:pt x="2099" y="2651"/>
                  </a:lnTo>
                  <a:lnTo>
                    <a:pt x="2151" y="2604"/>
                  </a:lnTo>
                  <a:lnTo>
                    <a:pt x="2212" y="2567"/>
                  </a:lnTo>
                  <a:lnTo>
                    <a:pt x="2273" y="2529"/>
                  </a:lnTo>
                  <a:lnTo>
                    <a:pt x="2334" y="2492"/>
                  </a:lnTo>
                  <a:lnTo>
                    <a:pt x="2390" y="2450"/>
                  </a:lnTo>
                  <a:lnTo>
                    <a:pt x="2446" y="2403"/>
                  </a:lnTo>
                  <a:lnTo>
                    <a:pt x="2489" y="2347"/>
                  </a:lnTo>
                  <a:lnTo>
                    <a:pt x="2526" y="2281"/>
                  </a:lnTo>
                  <a:lnTo>
                    <a:pt x="2526" y="2253"/>
                  </a:lnTo>
                  <a:lnTo>
                    <a:pt x="2526" y="2230"/>
                  </a:lnTo>
                  <a:lnTo>
                    <a:pt x="2526" y="2202"/>
                  </a:lnTo>
                  <a:lnTo>
                    <a:pt x="2521" y="2178"/>
                  </a:lnTo>
                  <a:lnTo>
                    <a:pt x="2517" y="2155"/>
                  </a:lnTo>
                  <a:lnTo>
                    <a:pt x="2512" y="2131"/>
                  </a:lnTo>
                  <a:lnTo>
                    <a:pt x="2503" y="2113"/>
                  </a:lnTo>
                  <a:lnTo>
                    <a:pt x="2489" y="2094"/>
                  </a:lnTo>
                  <a:lnTo>
                    <a:pt x="2460" y="2084"/>
                  </a:lnTo>
                  <a:lnTo>
                    <a:pt x="2428" y="2080"/>
                  </a:lnTo>
                  <a:lnTo>
                    <a:pt x="2395" y="2084"/>
                  </a:lnTo>
                  <a:lnTo>
                    <a:pt x="2357" y="2094"/>
                  </a:lnTo>
                  <a:lnTo>
                    <a:pt x="2324" y="2103"/>
                  </a:lnTo>
                  <a:lnTo>
                    <a:pt x="2287" y="2117"/>
                  </a:lnTo>
                  <a:lnTo>
                    <a:pt x="2254" y="2131"/>
                  </a:lnTo>
                  <a:lnTo>
                    <a:pt x="2216" y="2141"/>
                  </a:lnTo>
                  <a:lnTo>
                    <a:pt x="2202" y="2122"/>
                  </a:lnTo>
                  <a:lnTo>
                    <a:pt x="2188" y="2108"/>
                  </a:lnTo>
                  <a:lnTo>
                    <a:pt x="2169" y="2094"/>
                  </a:lnTo>
                  <a:lnTo>
                    <a:pt x="2151" y="2084"/>
                  </a:lnTo>
                  <a:lnTo>
                    <a:pt x="2127" y="2080"/>
                  </a:lnTo>
                  <a:lnTo>
                    <a:pt x="2104" y="2075"/>
                  </a:lnTo>
                  <a:lnTo>
                    <a:pt x="2075" y="2075"/>
                  </a:lnTo>
                  <a:lnTo>
                    <a:pt x="2052" y="2075"/>
                  </a:lnTo>
                  <a:lnTo>
                    <a:pt x="1935" y="2103"/>
                  </a:lnTo>
                  <a:lnTo>
                    <a:pt x="1822" y="2131"/>
                  </a:lnTo>
                  <a:lnTo>
                    <a:pt x="1705" y="2169"/>
                  </a:lnTo>
                  <a:lnTo>
                    <a:pt x="1592" y="2206"/>
                  </a:lnTo>
                  <a:lnTo>
                    <a:pt x="1479" y="2248"/>
                  </a:lnTo>
                  <a:lnTo>
                    <a:pt x="1371" y="2286"/>
                  </a:lnTo>
                  <a:lnTo>
                    <a:pt x="1268" y="2328"/>
                  </a:lnTo>
                  <a:lnTo>
                    <a:pt x="1165" y="2370"/>
                  </a:lnTo>
                  <a:lnTo>
                    <a:pt x="1259" y="2291"/>
                  </a:lnTo>
                  <a:lnTo>
                    <a:pt x="1357" y="2216"/>
                  </a:lnTo>
                  <a:lnTo>
                    <a:pt x="1456" y="2141"/>
                  </a:lnTo>
                  <a:lnTo>
                    <a:pt x="1559" y="2070"/>
                  </a:lnTo>
                  <a:lnTo>
                    <a:pt x="1662" y="2005"/>
                  </a:lnTo>
                  <a:lnTo>
                    <a:pt x="1770" y="1939"/>
                  </a:lnTo>
                  <a:lnTo>
                    <a:pt x="1874" y="1869"/>
                  </a:lnTo>
                  <a:lnTo>
                    <a:pt x="1977" y="1803"/>
                  </a:lnTo>
                  <a:lnTo>
                    <a:pt x="2061" y="1733"/>
                  </a:lnTo>
                  <a:lnTo>
                    <a:pt x="2160" y="1677"/>
                  </a:lnTo>
                  <a:lnTo>
                    <a:pt x="2263" y="1621"/>
                  </a:lnTo>
                  <a:lnTo>
                    <a:pt x="2367" y="1565"/>
                  </a:lnTo>
                  <a:lnTo>
                    <a:pt x="2465" y="1504"/>
                  </a:lnTo>
                  <a:lnTo>
                    <a:pt x="2550" y="1433"/>
                  </a:lnTo>
                  <a:lnTo>
                    <a:pt x="2615" y="1349"/>
                  </a:lnTo>
                  <a:lnTo>
                    <a:pt x="2658" y="1241"/>
                  </a:lnTo>
                  <a:lnTo>
                    <a:pt x="2653" y="1232"/>
                  </a:lnTo>
                  <a:lnTo>
                    <a:pt x="2653" y="1227"/>
                  </a:lnTo>
                  <a:lnTo>
                    <a:pt x="2648" y="1218"/>
                  </a:lnTo>
                  <a:lnTo>
                    <a:pt x="2648" y="1213"/>
                  </a:lnTo>
                  <a:lnTo>
                    <a:pt x="2644" y="1209"/>
                  </a:lnTo>
                  <a:lnTo>
                    <a:pt x="2644" y="1204"/>
                  </a:lnTo>
                  <a:lnTo>
                    <a:pt x="2639" y="1204"/>
                  </a:lnTo>
                  <a:lnTo>
                    <a:pt x="2639" y="1199"/>
                  </a:lnTo>
                  <a:lnTo>
                    <a:pt x="2498" y="1209"/>
                  </a:lnTo>
                  <a:lnTo>
                    <a:pt x="2362" y="1237"/>
                  </a:lnTo>
                  <a:lnTo>
                    <a:pt x="2230" y="1279"/>
                  </a:lnTo>
                  <a:lnTo>
                    <a:pt x="2104" y="1330"/>
                  </a:lnTo>
                  <a:lnTo>
                    <a:pt x="1977" y="1391"/>
                  </a:lnTo>
                  <a:lnTo>
                    <a:pt x="1855" y="1452"/>
                  </a:lnTo>
                  <a:lnTo>
                    <a:pt x="1733" y="1508"/>
                  </a:lnTo>
                  <a:lnTo>
                    <a:pt x="1615" y="1565"/>
                  </a:lnTo>
                  <a:lnTo>
                    <a:pt x="1554" y="1597"/>
                  </a:lnTo>
                  <a:lnTo>
                    <a:pt x="1498" y="1625"/>
                  </a:lnTo>
                  <a:lnTo>
                    <a:pt x="1437" y="1658"/>
                  </a:lnTo>
                  <a:lnTo>
                    <a:pt x="1381" y="1691"/>
                  </a:lnTo>
                  <a:lnTo>
                    <a:pt x="1324" y="1719"/>
                  </a:lnTo>
                  <a:lnTo>
                    <a:pt x="1268" y="1752"/>
                  </a:lnTo>
                  <a:lnTo>
                    <a:pt x="1212" y="1785"/>
                  </a:lnTo>
                  <a:lnTo>
                    <a:pt x="1155" y="1817"/>
                  </a:lnTo>
                  <a:lnTo>
                    <a:pt x="1151" y="1813"/>
                  </a:lnTo>
                  <a:lnTo>
                    <a:pt x="1151" y="1813"/>
                  </a:lnTo>
                  <a:lnTo>
                    <a:pt x="1146" y="1813"/>
                  </a:lnTo>
                  <a:lnTo>
                    <a:pt x="1141" y="1808"/>
                  </a:lnTo>
                  <a:lnTo>
                    <a:pt x="1141" y="1808"/>
                  </a:lnTo>
                  <a:lnTo>
                    <a:pt x="1137" y="1803"/>
                  </a:lnTo>
                  <a:lnTo>
                    <a:pt x="1137" y="1803"/>
                  </a:lnTo>
                  <a:lnTo>
                    <a:pt x="1132" y="1799"/>
                  </a:lnTo>
                  <a:lnTo>
                    <a:pt x="1198" y="1719"/>
                  </a:lnTo>
                  <a:lnTo>
                    <a:pt x="1273" y="1654"/>
                  </a:lnTo>
                  <a:lnTo>
                    <a:pt x="1352" y="1593"/>
                  </a:lnTo>
                  <a:lnTo>
                    <a:pt x="1432" y="1541"/>
                  </a:lnTo>
                  <a:lnTo>
                    <a:pt x="1521" y="1494"/>
                  </a:lnTo>
                  <a:lnTo>
                    <a:pt x="1611" y="1447"/>
                  </a:lnTo>
                  <a:lnTo>
                    <a:pt x="1700" y="1401"/>
                  </a:lnTo>
                  <a:lnTo>
                    <a:pt x="1789" y="1354"/>
                  </a:lnTo>
                  <a:lnTo>
                    <a:pt x="1888" y="1298"/>
                  </a:lnTo>
                  <a:lnTo>
                    <a:pt x="1996" y="1246"/>
                  </a:lnTo>
                  <a:lnTo>
                    <a:pt x="2104" y="1199"/>
                  </a:lnTo>
                  <a:lnTo>
                    <a:pt x="2207" y="1152"/>
                  </a:lnTo>
                  <a:lnTo>
                    <a:pt x="2301" y="1096"/>
                  </a:lnTo>
                  <a:lnTo>
                    <a:pt x="2385" y="1026"/>
                  </a:lnTo>
                  <a:lnTo>
                    <a:pt x="2451" y="937"/>
                  </a:lnTo>
                  <a:lnTo>
                    <a:pt x="2493" y="824"/>
                  </a:lnTo>
                  <a:lnTo>
                    <a:pt x="2498" y="806"/>
                  </a:lnTo>
                  <a:lnTo>
                    <a:pt x="2503" y="787"/>
                  </a:lnTo>
                  <a:lnTo>
                    <a:pt x="2503" y="764"/>
                  </a:lnTo>
                  <a:lnTo>
                    <a:pt x="2503" y="745"/>
                  </a:lnTo>
                  <a:lnTo>
                    <a:pt x="2498" y="731"/>
                  </a:lnTo>
                  <a:lnTo>
                    <a:pt x="2493" y="712"/>
                  </a:lnTo>
                  <a:lnTo>
                    <a:pt x="2484" y="698"/>
                  </a:lnTo>
                  <a:lnTo>
                    <a:pt x="2479" y="684"/>
                  </a:lnTo>
                  <a:lnTo>
                    <a:pt x="2432" y="675"/>
                  </a:lnTo>
                  <a:lnTo>
                    <a:pt x="2381" y="675"/>
                  </a:lnTo>
                  <a:lnTo>
                    <a:pt x="2329" y="679"/>
                  </a:lnTo>
                  <a:lnTo>
                    <a:pt x="2277" y="698"/>
                  </a:lnTo>
                  <a:lnTo>
                    <a:pt x="2226" y="717"/>
                  </a:lnTo>
                  <a:lnTo>
                    <a:pt x="2179" y="735"/>
                  </a:lnTo>
                  <a:lnTo>
                    <a:pt x="2127" y="754"/>
                  </a:lnTo>
                  <a:lnTo>
                    <a:pt x="2080" y="773"/>
                  </a:lnTo>
                  <a:lnTo>
                    <a:pt x="1958" y="824"/>
                  </a:lnTo>
                  <a:lnTo>
                    <a:pt x="1841" y="881"/>
                  </a:lnTo>
                  <a:lnTo>
                    <a:pt x="1723" y="937"/>
                  </a:lnTo>
                  <a:lnTo>
                    <a:pt x="1611" y="993"/>
                  </a:lnTo>
                  <a:lnTo>
                    <a:pt x="1493" y="1049"/>
                  </a:lnTo>
                  <a:lnTo>
                    <a:pt x="1381" y="1105"/>
                  </a:lnTo>
                  <a:lnTo>
                    <a:pt x="1268" y="1157"/>
                  </a:lnTo>
                  <a:lnTo>
                    <a:pt x="1155" y="1213"/>
                  </a:lnTo>
                  <a:lnTo>
                    <a:pt x="526" y="1560"/>
                  </a:lnTo>
                  <a:lnTo>
                    <a:pt x="522" y="1560"/>
                  </a:lnTo>
                  <a:lnTo>
                    <a:pt x="522" y="1560"/>
                  </a:lnTo>
                  <a:lnTo>
                    <a:pt x="517" y="1560"/>
                  </a:lnTo>
                  <a:lnTo>
                    <a:pt x="517" y="1560"/>
                  </a:lnTo>
                  <a:lnTo>
                    <a:pt x="517" y="1560"/>
                  </a:lnTo>
                  <a:lnTo>
                    <a:pt x="512" y="1560"/>
                  </a:lnTo>
                  <a:lnTo>
                    <a:pt x="512" y="1560"/>
                  </a:lnTo>
                  <a:lnTo>
                    <a:pt x="507" y="1560"/>
                  </a:lnTo>
                  <a:lnTo>
                    <a:pt x="597" y="1466"/>
                  </a:lnTo>
                  <a:lnTo>
                    <a:pt x="686" y="1377"/>
                  </a:lnTo>
                  <a:lnTo>
                    <a:pt x="780" y="1298"/>
                  </a:lnTo>
                  <a:lnTo>
                    <a:pt x="878" y="1218"/>
                  </a:lnTo>
                  <a:lnTo>
                    <a:pt x="972" y="1143"/>
                  </a:lnTo>
                  <a:lnTo>
                    <a:pt x="1071" y="1068"/>
                  </a:lnTo>
                  <a:lnTo>
                    <a:pt x="1165" y="1002"/>
                  </a:lnTo>
                  <a:lnTo>
                    <a:pt x="1259" y="932"/>
                  </a:lnTo>
                  <a:lnTo>
                    <a:pt x="1367" y="867"/>
                  </a:lnTo>
                  <a:lnTo>
                    <a:pt x="1475" y="796"/>
                  </a:lnTo>
                  <a:lnTo>
                    <a:pt x="1583" y="731"/>
                  </a:lnTo>
                  <a:lnTo>
                    <a:pt x="1690" y="665"/>
                  </a:lnTo>
                  <a:lnTo>
                    <a:pt x="1798" y="604"/>
                  </a:lnTo>
                  <a:lnTo>
                    <a:pt x="1911" y="543"/>
                  </a:lnTo>
                  <a:lnTo>
                    <a:pt x="2019" y="483"/>
                  </a:lnTo>
                  <a:lnTo>
                    <a:pt x="2136" y="422"/>
                  </a:lnTo>
                  <a:lnTo>
                    <a:pt x="2169" y="403"/>
                  </a:lnTo>
                  <a:lnTo>
                    <a:pt x="2202" y="389"/>
                  </a:lnTo>
                  <a:lnTo>
                    <a:pt x="2240" y="379"/>
                  </a:lnTo>
                  <a:lnTo>
                    <a:pt x="2277" y="370"/>
                  </a:lnTo>
                  <a:lnTo>
                    <a:pt x="2310" y="361"/>
                  </a:lnTo>
                  <a:lnTo>
                    <a:pt x="2348" y="351"/>
                  </a:lnTo>
                  <a:lnTo>
                    <a:pt x="2381" y="337"/>
                  </a:lnTo>
                  <a:lnTo>
                    <a:pt x="2413" y="323"/>
                  </a:lnTo>
                  <a:lnTo>
                    <a:pt x="2428" y="295"/>
                  </a:lnTo>
                  <a:lnTo>
                    <a:pt x="2432" y="258"/>
                  </a:lnTo>
                  <a:lnTo>
                    <a:pt x="2428" y="225"/>
                  </a:lnTo>
                  <a:lnTo>
                    <a:pt x="2423" y="192"/>
                  </a:lnTo>
                  <a:lnTo>
                    <a:pt x="2413" y="155"/>
                  </a:lnTo>
                  <a:lnTo>
                    <a:pt x="2404" y="122"/>
                  </a:lnTo>
                  <a:lnTo>
                    <a:pt x="2390" y="89"/>
                  </a:lnTo>
                  <a:lnTo>
                    <a:pt x="2381" y="56"/>
                  </a:lnTo>
                  <a:lnTo>
                    <a:pt x="2371" y="42"/>
                  </a:lnTo>
                  <a:lnTo>
                    <a:pt x="2357" y="33"/>
                  </a:lnTo>
                  <a:lnTo>
                    <a:pt x="2348" y="19"/>
                  </a:lnTo>
                  <a:lnTo>
                    <a:pt x="2334" y="14"/>
                  </a:lnTo>
                  <a:lnTo>
                    <a:pt x="2320" y="5"/>
                  </a:lnTo>
                  <a:lnTo>
                    <a:pt x="2310" y="0"/>
                  </a:lnTo>
                  <a:lnTo>
                    <a:pt x="2296" y="0"/>
                  </a:lnTo>
                  <a:lnTo>
                    <a:pt x="2282" y="5"/>
                  </a:lnTo>
                  <a:lnTo>
                    <a:pt x="2151" y="52"/>
                  </a:lnTo>
                  <a:lnTo>
                    <a:pt x="2029" y="103"/>
                  </a:lnTo>
                  <a:lnTo>
                    <a:pt x="1911" y="159"/>
                  </a:lnTo>
                  <a:lnTo>
                    <a:pt x="1798" y="220"/>
                  </a:lnTo>
                  <a:lnTo>
                    <a:pt x="1686" y="281"/>
                  </a:lnTo>
                  <a:lnTo>
                    <a:pt x="1583" y="347"/>
                  </a:lnTo>
                  <a:lnTo>
                    <a:pt x="1475" y="417"/>
                  </a:lnTo>
                  <a:lnTo>
                    <a:pt x="1371" y="487"/>
                  </a:lnTo>
                  <a:lnTo>
                    <a:pt x="1273" y="553"/>
                  </a:lnTo>
                  <a:lnTo>
                    <a:pt x="1169" y="628"/>
                  </a:lnTo>
                  <a:lnTo>
                    <a:pt x="1071" y="703"/>
                  </a:lnTo>
                  <a:lnTo>
                    <a:pt x="977" y="782"/>
                  </a:lnTo>
                  <a:lnTo>
                    <a:pt x="878" y="862"/>
                  </a:lnTo>
                  <a:lnTo>
                    <a:pt x="784" y="946"/>
                  </a:lnTo>
                  <a:lnTo>
                    <a:pt x="691" y="1031"/>
                  </a:lnTo>
                  <a:lnTo>
                    <a:pt x="597" y="1115"/>
                  </a:lnTo>
                  <a:lnTo>
                    <a:pt x="507" y="1209"/>
                  </a:lnTo>
                  <a:lnTo>
                    <a:pt x="414" y="1298"/>
                  </a:lnTo>
                  <a:lnTo>
                    <a:pt x="324" y="1387"/>
                  </a:lnTo>
                  <a:lnTo>
                    <a:pt x="245" y="1476"/>
                  </a:lnTo>
                  <a:lnTo>
                    <a:pt x="165" y="1565"/>
                  </a:lnTo>
                  <a:lnTo>
                    <a:pt x="99" y="1658"/>
                  </a:lnTo>
                  <a:lnTo>
                    <a:pt x="43" y="1752"/>
                  </a:lnTo>
                  <a:lnTo>
                    <a:pt x="0" y="1860"/>
                  </a:lnTo>
                  <a:lnTo>
                    <a:pt x="19" y="1888"/>
                  </a:lnTo>
                  <a:lnTo>
                    <a:pt x="38" y="1916"/>
                  </a:lnTo>
                  <a:lnTo>
                    <a:pt x="57" y="1944"/>
                  </a:lnTo>
                  <a:lnTo>
                    <a:pt x="76" y="1967"/>
                  </a:lnTo>
                  <a:lnTo>
                    <a:pt x="99" y="1995"/>
                  </a:lnTo>
                  <a:lnTo>
                    <a:pt x="127" y="2014"/>
                  </a:lnTo>
                  <a:lnTo>
                    <a:pt x="155" y="2033"/>
                  </a:lnTo>
                  <a:lnTo>
                    <a:pt x="188" y="2047"/>
                  </a:lnTo>
                  <a:lnTo>
                    <a:pt x="296" y="1981"/>
                  </a:lnTo>
                  <a:lnTo>
                    <a:pt x="404" y="1911"/>
                  </a:lnTo>
                  <a:lnTo>
                    <a:pt x="503" y="1832"/>
                  </a:lnTo>
                  <a:lnTo>
                    <a:pt x="601" y="1752"/>
                  </a:lnTo>
                  <a:lnTo>
                    <a:pt x="695" y="1672"/>
                  </a:lnTo>
                  <a:lnTo>
                    <a:pt x="794" y="1597"/>
                  </a:lnTo>
                  <a:lnTo>
                    <a:pt x="888" y="1527"/>
                  </a:lnTo>
                  <a:lnTo>
                    <a:pt x="991" y="1466"/>
                  </a:lnTo>
                  <a:lnTo>
                    <a:pt x="1099" y="1396"/>
                  </a:lnTo>
                  <a:lnTo>
                    <a:pt x="1207" y="1335"/>
                  </a:lnTo>
                  <a:lnTo>
                    <a:pt x="1320" y="1269"/>
                  </a:lnTo>
                  <a:lnTo>
                    <a:pt x="1432" y="1209"/>
                  </a:lnTo>
                  <a:lnTo>
                    <a:pt x="1550" y="1152"/>
                  </a:lnTo>
                  <a:lnTo>
                    <a:pt x="1667" y="1096"/>
                  </a:lnTo>
                  <a:lnTo>
                    <a:pt x="1784" y="1040"/>
                  </a:lnTo>
                  <a:lnTo>
                    <a:pt x="1902" y="984"/>
                  </a:lnTo>
                  <a:lnTo>
                    <a:pt x="1930" y="970"/>
                  </a:lnTo>
                  <a:lnTo>
                    <a:pt x="1953" y="956"/>
                  </a:lnTo>
                  <a:lnTo>
                    <a:pt x="1986" y="946"/>
                  </a:lnTo>
                  <a:lnTo>
                    <a:pt x="2014" y="932"/>
                  </a:lnTo>
                  <a:lnTo>
                    <a:pt x="2043" y="923"/>
                  </a:lnTo>
                  <a:lnTo>
                    <a:pt x="2071" y="913"/>
                  </a:lnTo>
                  <a:lnTo>
                    <a:pt x="2099" y="904"/>
                  </a:lnTo>
                  <a:lnTo>
                    <a:pt x="2127" y="895"/>
                  </a:lnTo>
                  <a:lnTo>
                    <a:pt x="2127" y="895"/>
                  </a:lnTo>
                  <a:lnTo>
                    <a:pt x="2127" y="899"/>
                  </a:lnTo>
                  <a:lnTo>
                    <a:pt x="2127" y="899"/>
                  </a:lnTo>
                  <a:lnTo>
                    <a:pt x="2132" y="899"/>
                  </a:lnTo>
                  <a:lnTo>
                    <a:pt x="2132" y="899"/>
                  </a:lnTo>
                  <a:lnTo>
                    <a:pt x="2132" y="899"/>
                  </a:lnTo>
                  <a:lnTo>
                    <a:pt x="2127" y="904"/>
                  </a:lnTo>
                  <a:lnTo>
                    <a:pt x="2127" y="909"/>
                  </a:lnTo>
                  <a:lnTo>
                    <a:pt x="2024" y="974"/>
                  </a:lnTo>
                  <a:lnTo>
                    <a:pt x="1925" y="1045"/>
                  </a:lnTo>
                  <a:lnTo>
                    <a:pt x="1822" y="1115"/>
                  </a:lnTo>
                  <a:lnTo>
                    <a:pt x="1723" y="1185"/>
                  </a:lnTo>
                  <a:lnTo>
                    <a:pt x="1625" y="1260"/>
                  </a:lnTo>
                  <a:lnTo>
                    <a:pt x="1526" y="1335"/>
                  </a:lnTo>
                  <a:lnTo>
                    <a:pt x="1423" y="1410"/>
                  </a:lnTo>
                  <a:lnTo>
                    <a:pt x="1324" y="1490"/>
                  </a:lnTo>
                  <a:lnTo>
                    <a:pt x="1235" y="1560"/>
                  </a:lnTo>
                  <a:lnTo>
                    <a:pt x="1137" y="1635"/>
                  </a:lnTo>
                  <a:lnTo>
                    <a:pt x="1043" y="1714"/>
                  </a:lnTo>
                  <a:lnTo>
                    <a:pt x="949" y="1799"/>
                  </a:lnTo>
                  <a:lnTo>
                    <a:pt x="855" y="1883"/>
                  </a:lnTo>
                  <a:lnTo>
                    <a:pt x="766" y="1972"/>
                  </a:lnTo>
                  <a:lnTo>
                    <a:pt x="681" y="2066"/>
                  </a:lnTo>
                  <a:lnTo>
                    <a:pt x="601" y="2159"/>
                  </a:lnTo>
                  <a:lnTo>
                    <a:pt x="597" y="2169"/>
                  </a:lnTo>
                  <a:lnTo>
                    <a:pt x="587" y="2178"/>
                  </a:lnTo>
                  <a:lnTo>
                    <a:pt x="583" y="2183"/>
                  </a:lnTo>
                  <a:lnTo>
                    <a:pt x="578" y="2192"/>
                  </a:lnTo>
                  <a:lnTo>
                    <a:pt x="573" y="2197"/>
                  </a:lnTo>
                  <a:lnTo>
                    <a:pt x="568" y="2206"/>
                  </a:lnTo>
                  <a:lnTo>
                    <a:pt x="564" y="2216"/>
                  </a:lnTo>
                  <a:lnTo>
                    <a:pt x="564" y="2225"/>
                  </a:lnTo>
                  <a:lnTo>
                    <a:pt x="653" y="2337"/>
                  </a:lnTo>
                  <a:lnTo>
                    <a:pt x="658" y="2337"/>
                  </a:lnTo>
                  <a:lnTo>
                    <a:pt x="662" y="2337"/>
                  </a:lnTo>
                  <a:lnTo>
                    <a:pt x="662" y="2333"/>
                  </a:lnTo>
                  <a:lnTo>
                    <a:pt x="667" y="2333"/>
                  </a:lnTo>
                  <a:lnTo>
                    <a:pt x="672" y="2333"/>
                  </a:lnTo>
                  <a:lnTo>
                    <a:pt x="672" y="2333"/>
                  </a:lnTo>
                  <a:lnTo>
                    <a:pt x="676" y="2328"/>
                  </a:lnTo>
                  <a:lnTo>
                    <a:pt x="681" y="2328"/>
                  </a:lnTo>
                  <a:lnTo>
                    <a:pt x="784" y="2248"/>
                  </a:lnTo>
                  <a:lnTo>
                    <a:pt x="888" y="2173"/>
                  </a:lnTo>
                  <a:lnTo>
                    <a:pt x="991" y="2094"/>
                  </a:lnTo>
                  <a:lnTo>
                    <a:pt x="1094" y="2024"/>
                  </a:lnTo>
                  <a:lnTo>
                    <a:pt x="1198" y="1949"/>
                  </a:lnTo>
                  <a:lnTo>
                    <a:pt x="1301" y="1883"/>
                  </a:lnTo>
                  <a:lnTo>
                    <a:pt x="1404" y="1822"/>
                  </a:lnTo>
                  <a:lnTo>
                    <a:pt x="1512" y="1761"/>
                  </a:lnTo>
                  <a:lnTo>
                    <a:pt x="1583" y="1724"/>
                  </a:lnTo>
                  <a:lnTo>
                    <a:pt x="1658" y="1686"/>
                  </a:lnTo>
                  <a:lnTo>
                    <a:pt x="1733" y="1649"/>
                  </a:lnTo>
                  <a:lnTo>
                    <a:pt x="1808" y="1611"/>
                  </a:lnTo>
                  <a:lnTo>
                    <a:pt x="1883" y="1574"/>
                  </a:lnTo>
                  <a:lnTo>
                    <a:pt x="1958" y="1541"/>
                  </a:lnTo>
                  <a:lnTo>
                    <a:pt x="2038" y="1508"/>
                  </a:lnTo>
                  <a:lnTo>
                    <a:pt x="2118" y="1476"/>
                  </a:lnTo>
                  <a:lnTo>
                    <a:pt x="2118" y="1476"/>
                  </a:lnTo>
                  <a:lnTo>
                    <a:pt x="2118" y="1476"/>
                  </a:lnTo>
                  <a:lnTo>
                    <a:pt x="2118" y="1476"/>
                  </a:lnTo>
                  <a:lnTo>
                    <a:pt x="2122" y="1476"/>
                  </a:lnTo>
                  <a:lnTo>
                    <a:pt x="2122" y="1476"/>
                  </a:lnTo>
                  <a:lnTo>
                    <a:pt x="2127" y="1480"/>
                  </a:lnTo>
                  <a:lnTo>
                    <a:pt x="2127" y="1480"/>
                  </a:lnTo>
                  <a:lnTo>
                    <a:pt x="2127" y="1485"/>
                  </a:lnTo>
                  <a:lnTo>
                    <a:pt x="2071" y="1522"/>
                  </a:lnTo>
                  <a:lnTo>
                    <a:pt x="2019" y="1555"/>
                  </a:lnTo>
                  <a:lnTo>
                    <a:pt x="1963" y="1588"/>
                  </a:lnTo>
                  <a:lnTo>
                    <a:pt x="1906" y="1625"/>
                  </a:lnTo>
                  <a:lnTo>
                    <a:pt x="1850" y="1658"/>
                  </a:lnTo>
                  <a:lnTo>
                    <a:pt x="1798" y="1696"/>
                  </a:lnTo>
                  <a:lnTo>
                    <a:pt x="1742" y="1733"/>
                  </a:lnTo>
                  <a:lnTo>
                    <a:pt x="1690" y="1775"/>
                  </a:lnTo>
                  <a:lnTo>
                    <a:pt x="1587" y="1846"/>
                  </a:lnTo>
                  <a:lnTo>
                    <a:pt x="1489" y="1916"/>
                  </a:lnTo>
                  <a:lnTo>
                    <a:pt x="1385" y="1986"/>
                  </a:lnTo>
                  <a:lnTo>
                    <a:pt x="1287" y="2061"/>
                  </a:lnTo>
                  <a:lnTo>
                    <a:pt x="1193" y="2136"/>
                  </a:lnTo>
                  <a:lnTo>
                    <a:pt x="1094" y="2216"/>
                  </a:lnTo>
                  <a:lnTo>
                    <a:pt x="996" y="2295"/>
                  </a:lnTo>
                  <a:lnTo>
                    <a:pt x="897" y="2380"/>
                  </a:lnTo>
                  <a:lnTo>
                    <a:pt x="874" y="2398"/>
                  </a:lnTo>
                  <a:lnTo>
                    <a:pt x="850" y="2422"/>
                  </a:lnTo>
                  <a:lnTo>
                    <a:pt x="831" y="2440"/>
                  </a:lnTo>
                  <a:lnTo>
                    <a:pt x="808" y="2459"/>
                  </a:lnTo>
                  <a:lnTo>
                    <a:pt x="789" y="2483"/>
                  </a:lnTo>
                  <a:lnTo>
                    <a:pt x="775" y="2501"/>
                  </a:lnTo>
                  <a:lnTo>
                    <a:pt x="761" y="2525"/>
                  </a:lnTo>
                  <a:lnTo>
                    <a:pt x="747" y="2548"/>
                  </a:lnTo>
                  <a:lnTo>
                    <a:pt x="756" y="2572"/>
                  </a:lnTo>
                  <a:lnTo>
                    <a:pt x="766" y="2590"/>
                  </a:lnTo>
                  <a:lnTo>
                    <a:pt x="775" y="2614"/>
                  </a:lnTo>
                  <a:lnTo>
                    <a:pt x="784" y="2633"/>
                  </a:lnTo>
                  <a:lnTo>
                    <a:pt x="798" y="2651"/>
                  </a:lnTo>
                  <a:lnTo>
                    <a:pt x="813" y="2670"/>
                  </a:lnTo>
                  <a:lnTo>
                    <a:pt x="831" y="2689"/>
                  </a:lnTo>
                  <a:lnTo>
                    <a:pt x="850" y="2703"/>
                  </a:lnTo>
                  <a:lnTo>
                    <a:pt x="888" y="2703"/>
                  </a:lnTo>
                  <a:lnTo>
                    <a:pt x="921" y="2698"/>
                  </a:lnTo>
                  <a:lnTo>
                    <a:pt x="949" y="2689"/>
                  </a:lnTo>
                  <a:lnTo>
                    <a:pt x="977" y="2675"/>
                  </a:lnTo>
                  <a:lnTo>
                    <a:pt x="1005" y="2661"/>
                  </a:lnTo>
                  <a:lnTo>
                    <a:pt x="1033" y="2647"/>
                  </a:lnTo>
                  <a:lnTo>
                    <a:pt x="1061" y="2633"/>
                  </a:lnTo>
                  <a:lnTo>
                    <a:pt x="1090" y="2618"/>
                  </a:lnTo>
                  <a:lnTo>
                    <a:pt x="1193" y="2572"/>
                  </a:lnTo>
                  <a:lnTo>
                    <a:pt x="1296" y="2525"/>
                  </a:lnTo>
                  <a:lnTo>
                    <a:pt x="1404" y="2478"/>
                  </a:lnTo>
                  <a:lnTo>
                    <a:pt x="1512" y="2431"/>
                  </a:lnTo>
                  <a:lnTo>
                    <a:pt x="1620" y="2389"/>
                  </a:lnTo>
                  <a:lnTo>
                    <a:pt x="1733" y="2351"/>
                  </a:lnTo>
                  <a:lnTo>
                    <a:pt x="1845" y="2323"/>
                  </a:lnTo>
                  <a:lnTo>
                    <a:pt x="1958" y="2309"/>
                  </a:lnTo>
                  <a:lnTo>
                    <a:pt x="1949" y="2445"/>
                  </a:lnTo>
                  <a:lnTo>
                    <a:pt x="1104" y="3213"/>
                  </a:lnTo>
                  <a:lnTo>
                    <a:pt x="1104" y="3218"/>
                  </a:lnTo>
                  <a:lnTo>
                    <a:pt x="1104" y="3223"/>
                  </a:lnTo>
                  <a:lnTo>
                    <a:pt x="1104" y="3227"/>
                  </a:lnTo>
                  <a:lnTo>
                    <a:pt x="1104" y="3227"/>
                  </a:lnTo>
                  <a:lnTo>
                    <a:pt x="1104" y="3232"/>
                  </a:lnTo>
                  <a:lnTo>
                    <a:pt x="1104" y="3237"/>
                  </a:lnTo>
                  <a:lnTo>
                    <a:pt x="1104" y="3241"/>
                  </a:lnTo>
                  <a:lnTo>
                    <a:pt x="1099" y="3246"/>
                  </a:lnTo>
                  <a:lnTo>
                    <a:pt x="1066" y="3284"/>
                  </a:lnTo>
                  <a:lnTo>
                    <a:pt x="1033" y="3316"/>
                  </a:lnTo>
                  <a:lnTo>
                    <a:pt x="1000" y="3354"/>
                  </a:lnTo>
                  <a:lnTo>
                    <a:pt x="968" y="3391"/>
                  </a:lnTo>
                  <a:lnTo>
                    <a:pt x="939" y="3429"/>
                  </a:lnTo>
                  <a:lnTo>
                    <a:pt x="911" y="3466"/>
                  </a:lnTo>
                  <a:lnTo>
                    <a:pt x="883" y="3508"/>
                  </a:lnTo>
                  <a:lnTo>
                    <a:pt x="860" y="3551"/>
                  </a:lnTo>
                  <a:lnTo>
                    <a:pt x="864" y="3551"/>
                  </a:lnTo>
                  <a:lnTo>
                    <a:pt x="864" y="3551"/>
                  </a:lnTo>
                  <a:lnTo>
                    <a:pt x="864" y="3555"/>
                  </a:lnTo>
                  <a:lnTo>
                    <a:pt x="864" y="3560"/>
                  </a:lnTo>
                  <a:lnTo>
                    <a:pt x="864" y="3560"/>
                  </a:lnTo>
                  <a:lnTo>
                    <a:pt x="864" y="3560"/>
                  </a:lnTo>
                  <a:lnTo>
                    <a:pt x="864" y="3555"/>
                  </a:lnTo>
                  <a:lnTo>
                    <a:pt x="869" y="3551"/>
                  </a:lnTo>
                  <a:close/>
                </a:path>
              </a:pathLst>
            </a:custGeom>
            <a:solidFill>
              <a:srgbClr val="ffe8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3" name="PlaceHolder 1"/>
          <p:cNvSpPr>
            <a:spLocks noGrp="1"/>
          </p:cNvSpPr>
          <p:nvPr>
            <p:ph/>
          </p:nvPr>
        </p:nvSpPr>
        <p:spPr>
          <a:xfrm>
            <a:off x="372960" y="1828800"/>
            <a:ext cx="839808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value 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.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subtract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add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                 depending on the problem,                                                          to a selected value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1" i="1" lang="en-US" sz="3200" spc="-1" strike="noStrike">
                <a:solidFill>
                  <a:srgbClr val="0099cc"/>
                </a:solidFill>
                <a:latin typeface="Times New Roman"/>
              </a:rPr>
              <a:t>binomial probability 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(a </a:t>
            </a:r>
            <a:r>
              <a:rPr b="1" i="1" lang="en-US" sz="3200" spc="-1" strike="noStrike">
                <a:solidFill>
                  <a:srgbClr val="0099cc"/>
                </a:solidFill>
                <a:latin typeface="Times New Roman"/>
              </a:rPr>
              <a:t>discre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obability distribution)                              is being approximated by a                                   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ontinuous probability 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(the </a:t>
            </a: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norm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4" name=""/>
          <p:cNvSpPr/>
          <p:nvPr/>
        </p:nvSpPr>
        <p:spPr>
          <a:xfrm>
            <a:off x="7087680" y="6172200"/>
            <a:ext cx="1451880" cy="45972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  <a:effectLst>
            <a:outerShdw dist="193524" dir="940640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5" name=""/>
          <p:cNvGrpSpPr/>
          <p:nvPr/>
        </p:nvGrpSpPr>
        <p:grpSpPr>
          <a:xfrm>
            <a:off x="1371600" y="152280"/>
            <a:ext cx="7181640" cy="1066680"/>
            <a:chOff x="1371600" y="152280"/>
            <a:chExt cx="7181640" cy="1066680"/>
          </a:xfrm>
        </p:grpSpPr>
        <p:pic>
          <p:nvPicPr>
            <p:cNvPr id="4896" name="bannr10" descr=""/>
            <p:cNvPicPr/>
            <p:nvPr/>
          </p:nvPicPr>
          <p:blipFill>
            <a:blip r:embed="rId1"/>
            <a:stretch/>
          </p:blipFill>
          <p:spPr>
            <a:xfrm>
              <a:off x="1371600" y="152280"/>
              <a:ext cx="7181640" cy="106668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4897" name=""/>
            <p:cNvSpPr/>
            <p:nvPr/>
          </p:nvSpPr>
          <p:spPr>
            <a:xfrm>
              <a:off x="1546560" y="152280"/>
              <a:ext cx="6806160" cy="901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Continuity Correction Facto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8" name=""/>
          <p:cNvSpPr/>
          <p:nvPr/>
        </p:nvSpPr>
        <p:spPr>
          <a:xfrm>
            <a:off x="0" y="2905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9" name=""/>
          <p:cNvSpPr/>
          <p:nvPr/>
        </p:nvSpPr>
        <p:spPr>
          <a:xfrm>
            <a:off x="1143000" y="3414600"/>
            <a:ext cx="69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inomial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0" name=""/>
          <p:cNvSpPr/>
          <p:nvPr/>
        </p:nvSpPr>
        <p:spPr>
          <a:xfrm>
            <a:off x="299880" y="1204920"/>
            <a:ext cx="8463240" cy="2012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8100000"/>
          </a:gradFill>
          <a:ln w="0">
            <a:noFill/>
          </a:ln>
          <a:effectLst>
            <a:outerShdw dist="144956" dir="767025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recent study by a marketing research firm showed that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5% of Canadian househol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wned a  video camera.  For a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ample of 200 hom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how many          of the homes would you expect to have video camera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1" name=""/>
          <p:cNvSpPr/>
          <p:nvPr/>
        </p:nvSpPr>
        <p:spPr>
          <a:xfrm>
            <a:off x="556200" y="4024440"/>
            <a:ext cx="392652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ari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2" name=""/>
          <p:cNvSpPr/>
          <p:nvPr/>
        </p:nvSpPr>
        <p:spPr>
          <a:xfrm>
            <a:off x="439200" y="5319720"/>
            <a:ext cx="559080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ndard devi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3" name=""/>
          <p:cNvGrpSpPr/>
          <p:nvPr/>
        </p:nvGrpSpPr>
        <p:grpSpPr>
          <a:xfrm>
            <a:off x="2320200" y="6048360"/>
            <a:ext cx="2175120" cy="504720"/>
            <a:chOff x="2320200" y="6048360"/>
            <a:chExt cx="2175120" cy="504720"/>
          </a:xfrm>
        </p:grpSpPr>
        <p:sp>
          <p:nvSpPr>
            <p:cNvPr id="4904" name=""/>
            <p:cNvSpPr/>
            <p:nvPr/>
          </p:nvSpPr>
          <p:spPr>
            <a:xfrm flipV="1">
              <a:off x="3255840" y="6381360"/>
              <a:ext cx="64800" cy="3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3321000" y="6391440"/>
              <a:ext cx="94680" cy="16164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 flipV="1">
              <a:off x="3427200" y="6073560"/>
              <a:ext cx="124920" cy="4791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3552480" y="6073920"/>
              <a:ext cx="94284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4043880" y="610560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3968280" y="610236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3583440" y="610236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2791440" y="604836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2320200" y="6048360"/>
              <a:ext cx="215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3" name=""/>
          <p:cNvGrpSpPr/>
          <p:nvPr/>
        </p:nvGrpSpPr>
        <p:grpSpPr>
          <a:xfrm>
            <a:off x="4625280" y="6005520"/>
            <a:ext cx="1527840" cy="480960"/>
            <a:chOff x="4625280" y="6005520"/>
            <a:chExt cx="1527840" cy="480960"/>
          </a:xfrm>
        </p:grpSpPr>
        <p:sp>
          <p:nvSpPr>
            <p:cNvPr id="4914" name=""/>
            <p:cNvSpPr/>
            <p:nvPr/>
          </p:nvSpPr>
          <p:spPr>
            <a:xfrm>
              <a:off x="5439240" y="6059520"/>
              <a:ext cx="71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49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5311800" y="6059520"/>
              <a:ext cx="8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5054040" y="60595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625280" y="600552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8" name=""/>
          <p:cNvGrpSpPr/>
          <p:nvPr/>
        </p:nvGrpSpPr>
        <p:grpSpPr>
          <a:xfrm>
            <a:off x="3719520" y="442800"/>
            <a:ext cx="1704600" cy="762120"/>
            <a:chOff x="3719520" y="442800"/>
            <a:chExt cx="1704600" cy="762120"/>
          </a:xfrm>
        </p:grpSpPr>
        <p:sp>
          <p:nvSpPr>
            <p:cNvPr id="4919" name=""/>
            <p:cNvSpPr txBox="1"/>
            <p:nvPr/>
          </p:nvSpPr>
          <p:spPr>
            <a:xfrm>
              <a:off x="3719520" y="442800"/>
              <a:ext cx="4147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20" name=""/>
            <p:cNvSpPr txBox="1"/>
            <p:nvPr/>
          </p:nvSpPr>
          <p:spPr>
            <a:xfrm>
              <a:off x="4156920" y="625680"/>
              <a:ext cx="1267200" cy="41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921" name=""/>
          <p:cNvSpPr/>
          <p:nvPr/>
        </p:nvSpPr>
        <p:spPr>
          <a:xfrm>
            <a:off x="2221200" y="4756320"/>
            <a:ext cx="480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2822040" y="4735440"/>
            <a:ext cx="18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 n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 –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>
            <a:off x="4498200" y="473544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30)(1 -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.1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>
            <a:off x="6653520" y="472428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5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2513880" y="2882880"/>
            <a:ext cx="27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2895120" y="299736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>
            <a:off x="3938400" y="301608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.1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8" name=""/>
          <p:cNvGrpSpPr/>
          <p:nvPr/>
        </p:nvGrpSpPr>
        <p:grpSpPr>
          <a:xfrm>
            <a:off x="7010280" y="1418760"/>
            <a:ext cx="673200" cy="1981440"/>
            <a:chOff x="7010280" y="1418760"/>
            <a:chExt cx="673200" cy="1981440"/>
          </a:xfrm>
        </p:grpSpPr>
        <p:grpSp>
          <p:nvGrpSpPr>
            <p:cNvPr id="4929" name=""/>
            <p:cNvGrpSpPr/>
            <p:nvPr/>
          </p:nvGrpSpPr>
          <p:grpSpPr>
            <a:xfrm>
              <a:off x="7010280" y="1418760"/>
              <a:ext cx="673200" cy="1981440"/>
              <a:chOff x="7010280" y="1418760"/>
              <a:chExt cx="673200" cy="1981440"/>
            </a:xfrm>
          </p:grpSpPr>
          <p:sp>
            <p:nvSpPr>
              <p:cNvPr id="4930" name=""/>
              <p:cNvSpPr/>
              <p:nvPr/>
            </p:nvSpPr>
            <p:spPr>
              <a:xfrm flipV="1">
                <a:off x="7010280" y="1418760"/>
                <a:ext cx="58680" cy="111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7120080" y="1419120"/>
                <a:ext cx="0" cy="19810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7189920" y="1487520"/>
                <a:ext cx="0" cy="19126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7259760" y="1555560"/>
                <a:ext cx="0" cy="184464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331040" y="1623960"/>
                <a:ext cx="0" cy="177624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400880" y="1760400"/>
                <a:ext cx="0" cy="163980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7470720" y="1896840"/>
                <a:ext cx="0" cy="15033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7542360" y="2033640"/>
                <a:ext cx="0" cy="136656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7612200" y="2170080"/>
                <a:ext cx="0" cy="123012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683480" y="2307960"/>
                <a:ext cx="0" cy="109224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7048440" y="1419120"/>
                <a:ext cx="0" cy="1981080"/>
              </a:xfrm>
              <a:prstGeom prst="line">
                <a:avLst/>
              </a:prstGeom>
              <a:ln w="7632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1" name=""/>
            <p:cNvSpPr/>
            <p:nvPr/>
          </p:nvSpPr>
          <p:spPr>
            <a:xfrm>
              <a:off x="7086600" y="1981080"/>
              <a:ext cx="45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2" name=""/>
          <p:cNvSpPr/>
          <p:nvPr/>
        </p:nvSpPr>
        <p:spPr>
          <a:xfrm>
            <a:off x="1447920" y="152280"/>
            <a:ext cx="6553080" cy="1373760"/>
          </a:xfrm>
          <a:prstGeom prst="rect">
            <a:avLst/>
          </a:prstGeom>
          <a:gradFill rotWithShape="0">
            <a:gsLst>
              <a:gs pos="0">
                <a:srgbClr val="fefef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at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less than 4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homes in the sample have video cameras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5257800" y="3841920"/>
            <a:ext cx="35053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less than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oes no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lude all of 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– so use 3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kelihood that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less than 4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200 homes have a video camera is about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9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5" name=""/>
          <p:cNvGrpSpPr/>
          <p:nvPr/>
        </p:nvGrpSpPr>
        <p:grpSpPr>
          <a:xfrm>
            <a:off x="5181480" y="1371600"/>
            <a:ext cx="3581280" cy="2517120"/>
            <a:chOff x="5181480" y="1371600"/>
            <a:chExt cx="3581280" cy="2517120"/>
          </a:xfrm>
        </p:grpSpPr>
        <p:sp>
          <p:nvSpPr>
            <p:cNvPr id="4946" name=""/>
            <p:cNvSpPr/>
            <p:nvPr/>
          </p:nvSpPr>
          <p:spPr>
            <a:xfrm>
              <a:off x="6750000" y="342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3333cc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7" name=""/>
            <p:cNvGrpSpPr/>
            <p:nvPr/>
          </p:nvGrpSpPr>
          <p:grpSpPr>
            <a:xfrm>
              <a:off x="5181480" y="1371600"/>
              <a:ext cx="3581280" cy="2057400"/>
              <a:chOff x="5181480" y="1371600"/>
              <a:chExt cx="3581280" cy="2057400"/>
            </a:xfrm>
          </p:grpSpPr>
          <p:sp>
            <p:nvSpPr>
              <p:cNvPr id="4948" name=""/>
              <p:cNvSpPr/>
              <p:nvPr/>
            </p:nvSpPr>
            <p:spPr>
              <a:xfrm>
                <a:off x="5181480" y="3429000"/>
                <a:ext cx="3581280" cy="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6986520" y="1371600"/>
                <a:ext cx="0" cy="2057400"/>
              </a:xfrm>
              <a:prstGeom prst="line">
                <a:avLst/>
              </a:prstGeom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flipV="1">
                <a:off x="5244480" y="3414960"/>
                <a:ext cx="6444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flipV="1">
                <a:off x="5309280" y="3391560"/>
                <a:ext cx="64800" cy="22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V="1">
                <a:off x="5374440" y="3378240"/>
                <a:ext cx="4968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424480" y="3355200"/>
                <a:ext cx="63000" cy="22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19"/>
                    </a:moveTo>
                    <a:lnTo>
                      <a:pt x="19" y="10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 flipV="1">
                <a:off x="5487840" y="3318480"/>
                <a:ext cx="48600" cy="36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5536800" y="3280320"/>
                <a:ext cx="63000" cy="3852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19" y="1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 flipV="1">
                <a:off x="5599800" y="3243600"/>
                <a:ext cx="51840" cy="367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 flipV="1">
                <a:off x="5651640" y="3194280"/>
                <a:ext cx="63000" cy="48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 flipV="1">
                <a:off x="5715000" y="3143880"/>
                <a:ext cx="64440" cy="500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 flipV="1">
                <a:off x="5779800" y="3079800"/>
                <a:ext cx="46800" cy="640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5826960" y="3009600"/>
                <a:ext cx="66240" cy="702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5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 flipV="1">
                <a:off x="5893560" y="2932560"/>
                <a:ext cx="48240" cy="76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5942160" y="2845800"/>
                <a:ext cx="64800" cy="871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68"/>
                    </a:moveTo>
                    <a:lnTo>
                      <a:pt x="19" y="39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 flipV="1">
                <a:off x="6006960" y="2747520"/>
                <a:ext cx="464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V="1">
                <a:off x="6053760" y="2648160"/>
                <a:ext cx="64800" cy="99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 flipV="1">
                <a:off x="6118920" y="2547000"/>
                <a:ext cx="662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 flipV="1">
                <a:off x="6185520" y="2438280"/>
                <a:ext cx="48240" cy="108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6234120" y="231444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96"/>
                    </a:moveTo>
                    <a:lnTo>
                      <a:pt x="19" y="48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 flipV="1">
                <a:off x="6300720" y="2202840"/>
                <a:ext cx="4680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6347880" y="2090880"/>
                <a:ext cx="63000" cy="1116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87"/>
                    </a:moveTo>
                    <a:lnTo>
                      <a:pt x="19" y="38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 flipV="1">
                <a:off x="6410880" y="1979280"/>
                <a:ext cx="4824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 flipV="1">
                <a:off x="6459480" y="1868760"/>
                <a:ext cx="66240" cy="110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 flipV="1">
                <a:off x="6526080" y="1767960"/>
                <a:ext cx="644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 flipV="1">
                <a:off x="6590880" y="1669680"/>
                <a:ext cx="482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6639480" y="1582920"/>
                <a:ext cx="63000" cy="871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68"/>
                    </a:moveTo>
                    <a:lnTo>
                      <a:pt x="19" y="29"/>
                    </a:lnTo>
                    <a:lnTo>
                      <a:pt x="3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6702840" y="1507680"/>
                <a:ext cx="50040" cy="7488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58"/>
                    </a:moveTo>
                    <a:lnTo>
                      <a:pt x="9" y="2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6753240" y="1457280"/>
                <a:ext cx="63000" cy="5040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39"/>
                    </a:moveTo>
                    <a:lnTo>
                      <a:pt x="19" y="20"/>
                    </a:lnTo>
                    <a:lnTo>
                      <a:pt x="38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6816240" y="1408320"/>
                <a:ext cx="4824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38"/>
                    </a:moveTo>
                    <a:lnTo>
                      <a:pt x="10" y="19"/>
                    </a:lnTo>
                    <a:lnTo>
                      <a:pt x="29" y="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 flipV="1">
                <a:off x="6864840" y="1383480"/>
                <a:ext cx="64800" cy="241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 flipV="1">
                <a:off x="6930000" y="1371600"/>
                <a:ext cx="64440" cy="122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6994800" y="1371600"/>
                <a:ext cx="50040" cy="122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7045200" y="1383840"/>
                <a:ext cx="64440" cy="2412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0" y="0"/>
                    </a:moveTo>
                    <a:lnTo>
                      <a:pt x="19" y="10"/>
                    </a:lnTo>
                    <a:lnTo>
                      <a:pt x="39" y="20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7110000" y="1408320"/>
                <a:ext cx="48240" cy="4860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0" y="0"/>
                    </a:moveTo>
                    <a:lnTo>
                      <a:pt x="9" y="19"/>
                    </a:lnTo>
                    <a:lnTo>
                      <a:pt x="29" y="3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7158600" y="1457280"/>
                <a:ext cx="63000" cy="5040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0" y="0"/>
                    </a:moveTo>
                    <a:lnTo>
                      <a:pt x="19" y="20"/>
                    </a:lnTo>
                    <a:lnTo>
                      <a:pt x="38" y="3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7221600" y="1507680"/>
                <a:ext cx="48600" cy="74880"/>
              </a:xfrm>
              <a:custGeom>
                <a:avLst/>
                <a:gdLst/>
                <a:ahLst/>
                <a:rect l="l" t="t" r="r" b="b"/>
                <a:pathLst>
                  <a:path w="29" h="58">
                    <a:moveTo>
                      <a:pt x="0" y="0"/>
                    </a:moveTo>
                    <a:lnTo>
                      <a:pt x="10" y="29"/>
                    </a:lnTo>
                    <a:lnTo>
                      <a:pt x="29" y="5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7270560" y="1582920"/>
                <a:ext cx="64440" cy="87120"/>
              </a:xfrm>
              <a:custGeom>
                <a:avLst/>
                <a:gdLst/>
                <a:ahLst/>
                <a:rect l="l" t="t" r="r" b="b"/>
                <a:pathLst>
                  <a:path w="39" h="68">
                    <a:moveTo>
                      <a:pt x="0" y="0"/>
                    </a:moveTo>
                    <a:lnTo>
                      <a:pt x="20" y="29"/>
                    </a:lnTo>
                    <a:lnTo>
                      <a:pt x="39" y="6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7335360" y="1670040"/>
                <a:ext cx="4824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7383960" y="1767960"/>
                <a:ext cx="6480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7449120" y="1868760"/>
                <a:ext cx="66240" cy="1101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7515720" y="1979280"/>
                <a:ext cx="4644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7562160" y="2090880"/>
                <a:ext cx="64800" cy="111600"/>
              </a:xfrm>
              <a:custGeom>
                <a:avLst/>
                <a:gdLst/>
                <a:ahLst/>
                <a:rect l="l" t="t" r="r" b="b"/>
                <a:pathLst>
                  <a:path w="38" h="87">
                    <a:moveTo>
                      <a:pt x="0" y="0"/>
                    </a:moveTo>
                    <a:lnTo>
                      <a:pt x="19" y="38"/>
                    </a:lnTo>
                    <a:lnTo>
                      <a:pt x="38" y="87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7627320" y="2202840"/>
                <a:ext cx="46800" cy="111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7674480" y="2314440"/>
                <a:ext cx="66240" cy="123840"/>
              </a:xfrm>
              <a:custGeom>
                <a:avLst/>
                <a:gdLst/>
                <a:ahLst/>
                <a:rect l="l" t="t" r="r" b="b"/>
                <a:pathLst>
                  <a:path w="39" h="96">
                    <a:moveTo>
                      <a:pt x="0" y="0"/>
                    </a:moveTo>
                    <a:lnTo>
                      <a:pt x="20" y="48"/>
                    </a:lnTo>
                    <a:lnTo>
                      <a:pt x="39" y="96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7741080" y="2438640"/>
                <a:ext cx="48240" cy="108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7789680" y="2547000"/>
                <a:ext cx="64440" cy="1008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7854480" y="2648160"/>
                <a:ext cx="66240" cy="99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7921080" y="2747880"/>
                <a:ext cx="46800" cy="975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7967880" y="2845800"/>
                <a:ext cx="64440" cy="87120"/>
              </a:xfrm>
              <a:custGeom>
                <a:avLst/>
                <a:gdLst/>
                <a:ahLst/>
                <a:rect l="l" t="t" r="r" b="b"/>
                <a:pathLst>
                  <a:path w="38" h="68">
                    <a:moveTo>
                      <a:pt x="0" y="0"/>
                    </a:moveTo>
                    <a:lnTo>
                      <a:pt x="19" y="39"/>
                    </a:lnTo>
                    <a:lnTo>
                      <a:pt x="38" y="6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8032680" y="2932920"/>
                <a:ext cx="48600" cy="76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8081640" y="3009600"/>
                <a:ext cx="64440" cy="702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0" y="0"/>
                    </a:moveTo>
                    <a:lnTo>
                      <a:pt x="20" y="29"/>
                    </a:lnTo>
                    <a:lnTo>
                      <a:pt x="39" y="58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8146440" y="3079800"/>
                <a:ext cx="46800" cy="640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8193600" y="3144240"/>
                <a:ext cx="66240" cy="5004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8260200" y="3194640"/>
                <a:ext cx="63000" cy="4860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8323200" y="3243600"/>
                <a:ext cx="51840" cy="3672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8375400" y="3280320"/>
                <a:ext cx="61200" cy="3852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0"/>
                    </a:moveTo>
                    <a:lnTo>
                      <a:pt x="19" y="10"/>
                    </a:lnTo>
                    <a:lnTo>
                      <a:pt x="38" y="2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8436600" y="3318840"/>
                <a:ext cx="48600" cy="3636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8485560" y="3355200"/>
                <a:ext cx="64440" cy="226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20" y="10"/>
                    </a:lnTo>
                    <a:lnTo>
                      <a:pt x="39" y="19"/>
                    </a:lnTo>
                  </a:path>
                </a:pathLst>
              </a:custGeom>
              <a:noFill/>
              <a:ln w="7632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8550360" y="3378240"/>
                <a:ext cx="5004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8600760" y="3391920"/>
                <a:ext cx="64440" cy="22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8665560" y="3414960"/>
                <a:ext cx="63000" cy="1368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0" name=""/>
          <p:cNvSpPr/>
          <p:nvPr/>
        </p:nvSpPr>
        <p:spPr>
          <a:xfrm>
            <a:off x="7696080" y="23623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1" name=""/>
          <p:cNvSpPr/>
          <p:nvPr/>
        </p:nvSpPr>
        <p:spPr>
          <a:xfrm>
            <a:off x="7315200" y="343044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39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2" name=""/>
          <p:cNvSpPr/>
          <p:nvPr/>
        </p:nvSpPr>
        <p:spPr>
          <a:xfrm flipH="1">
            <a:off x="5790960" y="3124080"/>
            <a:ext cx="1904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3" name=""/>
          <p:cNvGrpSpPr/>
          <p:nvPr/>
        </p:nvGrpSpPr>
        <p:grpSpPr>
          <a:xfrm>
            <a:off x="228600" y="1474920"/>
            <a:ext cx="5334120" cy="811080"/>
            <a:chOff x="228600" y="1474920"/>
            <a:chExt cx="5334120" cy="811080"/>
          </a:xfrm>
        </p:grpSpPr>
        <p:sp>
          <p:nvSpPr>
            <p:cNvPr id="5014" name=""/>
            <p:cNvSpPr/>
            <p:nvPr/>
          </p:nvSpPr>
          <p:spPr>
            <a:xfrm>
              <a:off x="1066680" y="1570320"/>
              <a:ext cx="4496040" cy="581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cate</a:t>
              </a:r>
              <a:r>
                <a:rPr b="1" i="1" lang="en-US" sz="2400" spc="-1" strike="noStrike">
                  <a:solidFill>
                    <a:srgbClr val="6699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ea on the normal cu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5" name=""/>
            <p:cNvGrpSpPr/>
            <p:nvPr/>
          </p:nvGrpSpPr>
          <p:grpSpPr>
            <a:xfrm>
              <a:off x="228600" y="1474920"/>
              <a:ext cx="685800" cy="811080"/>
              <a:chOff x="228600" y="1474920"/>
              <a:chExt cx="685800" cy="811080"/>
            </a:xfrm>
          </p:grpSpPr>
          <p:pic>
            <p:nvPicPr>
              <p:cNvPr id="50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4749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7" name=""/>
              <p:cNvSpPr/>
              <p:nvPr/>
            </p:nvSpPr>
            <p:spPr>
              <a:xfrm>
                <a:off x="282960" y="1550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18" name=""/>
          <p:cNvGrpSpPr/>
          <p:nvPr/>
        </p:nvGrpSpPr>
        <p:grpSpPr>
          <a:xfrm>
            <a:off x="228600" y="2389320"/>
            <a:ext cx="5181480" cy="811080"/>
            <a:chOff x="228600" y="2389320"/>
            <a:chExt cx="5181480" cy="811080"/>
          </a:xfrm>
        </p:grpSpPr>
        <p:grpSp>
          <p:nvGrpSpPr>
            <p:cNvPr id="5019" name=""/>
            <p:cNvGrpSpPr/>
            <p:nvPr/>
          </p:nvGrpSpPr>
          <p:grpSpPr>
            <a:xfrm>
              <a:off x="228600" y="2389320"/>
              <a:ext cx="685800" cy="811080"/>
              <a:chOff x="228600" y="2389320"/>
              <a:chExt cx="685800" cy="811080"/>
            </a:xfrm>
          </p:grpSpPr>
          <p:pic>
            <p:nvPicPr>
              <p:cNvPr id="50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238932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1" name=""/>
              <p:cNvSpPr/>
              <p:nvPr/>
            </p:nvSpPr>
            <p:spPr>
              <a:xfrm>
                <a:off x="282960" y="24652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2" name=""/>
            <p:cNvSpPr/>
            <p:nvPr/>
          </p:nvSpPr>
          <p:spPr>
            <a:xfrm>
              <a:off x="1066680" y="2465280"/>
              <a:ext cx="434340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alculate the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Z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c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3" name=""/>
          <p:cNvGrpSpPr/>
          <p:nvPr/>
        </p:nvGrpSpPr>
        <p:grpSpPr>
          <a:xfrm>
            <a:off x="228600" y="4114800"/>
            <a:ext cx="3886200" cy="811080"/>
            <a:chOff x="228600" y="4114800"/>
            <a:chExt cx="3886200" cy="811080"/>
          </a:xfrm>
        </p:grpSpPr>
        <p:grpSp>
          <p:nvGrpSpPr>
            <p:cNvPr id="5024" name=""/>
            <p:cNvGrpSpPr/>
            <p:nvPr/>
          </p:nvGrpSpPr>
          <p:grpSpPr>
            <a:xfrm>
              <a:off x="228600" y="4114800"/>
              <a:ext cx="685800" cy="811080"/>
              <a:chOff x="228600" y="4114800"/>
              <a:chExt cx="685800" cy="811080"/>
            </a:xfrm>
          </p:grpSpPr>
          <p:pic>
            <p:nvPicPr>
              <p:cNvPr id="50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4114800"/>
                <a:ext cx="68580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6" name=""/>
              <p:cNvSpPr/>
              <p:nvPr/>
            </p:nvSpPr>
            <p:spPr>
              <a:xfrm>
                <a:off x="282960" y="41907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7" name=""/>
            <p:cNvSpPr/>
            <p:nvPr/>
          </p:nvSpPr>
          <p:spPr>
            <a:xfrm>
              <a:off x="1066680" y="4313160"/>
              <a:ext cx="3048120" cy="459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ook up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.88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8" name=""/>
          <p:cNvGrpSpPr/>
          <p:nvPr/>
        </p:nvGrpSpPr>
        <p:grpSpPr>
          <a:xfrm>
            <a:off x="380880" y="4876920"/>
            <a:ext cx="1676520" cy="648720"/>
            <a:chOff x="380880" y="4876920"/>
            <a:chExt cx="1676520" cy="648720"/>
          </a:xfrm>
        </p:grpSpPr>
        <p:sp>
          <p:nvSpPr>
            <p:cNvPr id="5029" name=""/>
            <p:cNvSpPr/>
            <p:nvPr/>
          </p:nvSpPr>
          <p:spPr>
            <a:xfrm>
              <a:off x="914400" y="5029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.46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380880" y="4876920"/>
              <a:ext cx="685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1" name=""/>
          <p:cNvSpPr/>
          <p:nvPr/>
        </p:nvSpPr>
        <p:spPr>
          <a:xfrm>
            <a:off x="2895480" y="4861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.96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2" name=""/>
          <p:cNvGrpSpPr/>
          <p:nvPr/>
        </p:nvGrpSpPr>
        <p:grpSpPr>
          <a:xfrm>
            <a:off x="2019960" y="3352680"/>
            <a:ext cx="1790640" cy="823320"/>
            <a:chOff x="2019960" y="3352680"/>
            <a:chExt cx="1790640" cy="823320"/>
          </a:xfrm>
        </p:grpSpPr>
        <p:sp>
          <p:nvSpPr>
            <p:cNvPr id="5033" name=""/>
            <p:cNvSpPr/>
            <p:nvPr/>
          </p:nvSpPr>
          <p:spPr>
            <a:xfrm>
              <a:off x="2430360" y="3705120"/>
              <a:ext cx="130356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2742840" y="3809880"/>
              <a:ext cx="838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.04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3174480" y="3355920"/>
              <a:ext cx="636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- 30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2522160" y="3352680"/>
              <a:ext cx="53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Times New Roman"/>
                </a:rPr>
                <a:t>39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2019960" y="352260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8" name=""/>
          <p:cNvGrpSpPr/>
          <p:nvPr/>
        </p:nvGrpSpPr>
        <p:grpSpPr>
          <a:xfrm>
            <a:off x="3848760" y="3505320"/>
            <a:ext cx="876240" cy="366120"/>
            <a:chOff x="3848760" y="3505320"/>
            <a:chExt cx="876240" cy="366120"/>
          </a:xfrm>
        </p:grpSpPr>
        <p:sp>
          <p:nvSpPr>
            <p:cNvPr id="5039" name=""/>
            <p:cNvSpPr/>
            <p:nvPr/>
          </p:nvSpPr>
          <p:spPr>
            <a:xfrm>
              <a:off x="4190760" y="3505320"/>
              <a:ext cx="53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3848760" y="35053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1" name=""/>
          <p:cNvSpPr/>
          <p:nvPr/>
        </p:nvSpPr>
        <p:spPr>
          <a:xfrm>
            <a:off x="1905840" y="50292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.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2" name=""/>
          <p:cNvGrpSpPr/>
          <p:nvPr/>
        </p:nvGrpSpPr>
        <p:grpSpPr>
          <a:xfrm>
            <a:off x="387360" y="3352680"/>
            <a:ext cx="1509480" cy="654840"/>
            <a:chOff x="387360" y="3352680"/>
            <a:chExt cx="1509480" cy="654840"/>
          </a:xfrm>
        </p:grpSpPr>
        <p:grpSp>
          <p:nvGrpSpPr>
            <p:cNvPr id="5043" name=""/>
            <p:cNvGrpSpPr/>
            <p:nvPr/>
          </p:nvGrpSpPr>
          <p:grpSpPr>
            <a:xfrm>
              <a:off x="830160" y="3352680"/>
              <a:ext cx="1066680" cy="654840"/>
              <a:chOff x="830160" y="3352680"/>
              <a:chExt cx="1066680" cy="654840"/>
            </a:xfrm>
          </p:grpSpPr>
          <p:sp>
            <p:nvSpPr>
              <p:cNvPr id="5044" name=""/>
              <p:cNvSpPr/>
              <p:nvPr/>
            </p:nvSpPr>
            <p:spPr>
              <a:xfrm>
                <a:off x="1135080" y="3717720"/>
                <a:ext cx="761760" cy="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1363320" y="3641400"/>
                <a:ext cx="18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1583640" y="3352680"/>
                <a:ext cx="294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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1472400" y="33526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830160" y="3565440"/>
                <a:ext cx="1522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1210680" y="3352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0" name=""/>
            <p:cNvSpPr/>
            <p:nvPr/>
          </p:nvSpPr>
          <p:spPr>
            <a:xfrm>
              <a:off x="387360" y="3413160"/>
              <a:ext cx="2476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z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2CE8-C392-4268-8F47-74A7519DAAD0}" type="slidenum">
              <a:t>73</a:t>
            </a:fld>
          </a:p>
        </p:txBody>
      </p:sp>
    </p:spTree>
  </p:cSld>
  <p:transition>
    <p:zoom dir="ou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2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5053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5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6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5057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58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9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0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5061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63" name="OLC%20logo" descr=""/>
          <p:cNvPicPr/>
          <p:nvPr/>
        </p:nvPicPr>
        <p:blipFill>
          <a:blip r:embed="rId7"/>
          <a:stretch/>
        </p:blipFill>
        <p:spPr>
          <a:xfrm>
            <a:off x="60948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5064" name="e-stat%20logo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5D22-7A35-4FDB-9A16-C70615F78AA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5" name=""/>
          <p:cNvGrpSpPr/>
          <p:nvPr/>
        </p:nvGrpSpPr>
        <p:grpSpPr>
          <a:xfrm>
            <a:off x="3657600" y="1371600"/>
            <a:ext cx="1828800" cy="4419720"/>
            <a:chOff x="3657600" y="1371600"/>
            <a:chExt cx="1828800" cy="4419720"/>
          </a:xfrm>
        </p:grpSpPr>
        <p:sp>
          <p:nvSpPr>
            <p:cNvPr id="5066" name=""/>
            <p:cNvSpPr/>
            <p:nvPr/>
          </p:nvSpPr>
          <p:spPr>
            <a:xfrm>
              <a:off x="3657600" y="1371600"/>
              <a:ext cx="1828800" cy="1752840"/>
            </a:xfrm>
            <a:prstGeom prst="pentagon">
              <a:avLst/>
            </a:prstGeom>
            <a:gradFill rotWithShape="0">
              <a:gsLst>
                <a:gs pos="0">
                  <a:srgbClr val="ff66cc"/>
                </a:gs>
                <a:gs pos="50000">
                  <a:srgbClr val="fefefe"/>
                </a:gs>
                <a:gs pos="100000">
                  <a:srgbClr val="ff66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 flipV="1">
              <a:off x="3657600" y="3962520"/>
              <a:ext cx="1828800" cy="1828800"/>
            </a:xfrm>
            <a:prstGeom prst="pentagon">
              <a:avLst/>
            </a:prstGeom>
            <a:gradFill rotWithShape="0">
              <a:gsLst>
                <a:gs pos="0">
                  <a:srgbClr val="ff66cc"/>
                </a:gs>
                <a:gs pos="50000">
                  <a:srgbClr val="fefefe"/>
                </a:gs>
                <a:gs pos="100000">
                  <a:srgbClr val="ff66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8" name=""/>
          <p:cNvSpPr/>
          <p:nvPr/>
        </p:nvSpPr>
        <p:spPr>
          <a:xfrm>
            <a:off x="1710720" y="3078000"/>
            <a:ext cx="5723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completes Chapter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4C57-1C56-4666-A163-0A2D7AE6D2F8}" type="slidenum">
              <a:t>75</a:t>
            </a:fld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76200" y="2133720"/>
            <a:ext cx="7105680" cy="3385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becf9"/>
              </a:gs>
              <a:gs pos="100000">
                <a:srgbClr val="fefefe"/>
              </a:gs>
            </a:gsLst>
            <a:lin ang="8100000"/>
          </a:gradFill>
          <a:ln w="57240">
            <a:solidFill>
              <a:srgbClr val="ffcccc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at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ghts of adult Canadian male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interval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0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interval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00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interval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0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robability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09720" y="228600"/>
            <a:ext cx="5600880" cy="1409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242757" dir="822619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lative Frequency Histogra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obability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224760" y="5818320"/>
            <a:ext cx="2628000" cy="812520"/>
            <a:chOff x="6224760" y="5818320"/>
            <a:chExt cx="2628000" cy="81252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6924600" y="5818320"/>
              <a:ext cx="892080" cy="8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224760" y="6110280"/>
              <a:ext cx="262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ee  </a:t>
              </a: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Histo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ra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4BB3-01FB-41A9-A70F-966B772A656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418320" y="434880"/>
            <a:ext cx="3663000" cy="3229920"/>
            <a:chOff x="418320" y="434880"/>
            <a:chExt cx="3663000" cy="3229920"/>
          </a:xfrm>
        </p:grpSpPr>
        <p:grpSp>
          <p:nvGrpSpPr>
            <p:cNvPr id="191" name=""/>
            <p:cNvGrpSpPr/>
            <p:nvPr/>
          </p:nvGrpSpPr>
          <p:grpSpPr>
            <a:xfrm>
              <a:off x="418320" y="814320"/>
              <a:ext cx="3663000" cy="2850480"/>
              <a:chOff x="418320" y="814320"/>
              <a:chExt cx="3663000" cy="285048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418320" y="814320"/>
                <a:ext cx="3663000" cy="2850480"/>
                <a:chOff x="418320" y="814320"/>
                <a:chExt cx="3663000" cy="28504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095480" y="857160"/>
                  <a:ext cx="2985840" cy="2476440"/>
                </a:xfrm>
                <a:prstGeom prst="rect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8320" y="814320"/>
                  <a:ext cx="715680" cy="256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8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7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6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5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4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3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2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1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0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092240" y="3357720"/>
                  <a:ext cx="2943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55       165       175      185       195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393920" y="1025640"/>
                <a:ext cx="1444680" cy="2235240"/>
                <a:chOff x="1393920" y="1025640"/>
                <a:chExt cx="1444680" cy="22352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393920" y="2666880"/>
                  <a:ext cx="139680" cy="5940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538280" y="2955960"/>
                  <a:ext cx="139680" cy="3049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682640" y="2955960"/>
                  <a:ext cx="139680" cy="3049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824120" y="2666880"/>
                  <a:ext cx="139680" cy="5940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968480" y="2397240"/>
                  <a:ext cx="139680" cy="863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114640" y="1857240"/>
                  <a:ext cx="139680" cy="1403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259000" y="1292400"/>
                  <a:ext cx="139680" cy="19684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403360" y="1857240"/>
                  <a:ext cx="139680" cy="1403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554200" y="1025640"/>
                  <a:ext cx="139680" cy="2235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698920" y="2108160"/>
                  <a:ext cx="139680" cy="11430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844720" y="2108160"/>
                <a:ext cx="870120" cy="1143000"/>
                <a:chOff x="2844720" y="2108160"/>
                <a:chExt cx="870120" cy="1143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844720" y="2108160"/>
                  <a:ext cx="139680" cy="11430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989440" y="2397240"/>
                  <a:ext cx="139680" cy="8539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133800" y="2666880"/>
                  <a:ext cx="139680" cy="584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284640" y="2666880"/>
                  <a:ext cx="139680" cy="5842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575160" y="2955960"/>
                  <a:ext cx="139680" cy="2952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378080" y="3251160"/>
                <a:ext cx="2323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1528920" y="2943360"/>
                <a:ext cx="1838160" cy="311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Chart 7-1(A)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218240" y="434880"/>
              <a:ext cx="27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) n  =  5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942800" y="434880"/>
            <a:ext cx="4172760" cy="3202920"/>
            <a:chOff x="4942800" y="434880"/>
            <a:chExt cx="4172760" cy="3202920"/>
          </a:xfrm>
        </p:grpSpPr>
        <p:grpSp>
          <p:nvGrpSpPr>
            <p:cNvPr id="217" name=""/>
            <p:cNvGrpSpPr/>
            <p:nvPr/>
          </p:nvGrpSpPr>
          <p:grpSpPr>
            <a:xfrm>
              <a:off x="4942800" y="849240"/>
              <a:ext cx="4172760" cy="2788560"/>
              <a:chOff x="4942800" y="849240"/>
              <a:chExt cx="4172760" cy="278856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4942800" y="849240"/>
                <a:ext cx="4172760" cy="2788560"/>
                <a:chOff x="4942800" y="849240"/>
                <a:chExt cx="4172760" cy="27885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549760" y="849240"/>
                  <a:ext cx="3276720" cy="2533680"/>
                </a:xfrm>
                <a:prstGeom prst="rect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53200" y="3330720"/>
                  <a:ext cx="3762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50            160             170            180          19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42800" y="852480"/>
                  <a:ext cx="715680" cy="256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8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7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6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5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4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3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2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1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0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5711760" y="1089000"/>
                  <a:ext cx="3071880" cy="2244600"/>
                  <a:chOff x="5711760" y="1089000"/>
                  <a:chExt cx="3071880" cy="22446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5724360" y="3114720"/>
                    <a:ext cx="92160" cy="2127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5965920" y="3260880"/>
                    <a:ext cx="123840" cy="66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6083280" y="2981160"/>
                    <a:ext cx="109440" cy="346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180120" y="2978280"/>
                    <a:ext cx="108000" cy="3492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284880" y="3044880"/>
                    <a:ext cx="92160" cy="282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6381720" y="2787480"/>
                    <a:ext cx="92160" cy="5400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470640" y="2476440"/>
                    <a:ext cx="92160" cy="8510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564240" y="2320920"/>
                    <a:ext cx="92160" cy="10065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661080" y="2556000"/>
                    <a:ext cx="108000" cy="7617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6742080" y="2517840"/>
                    <a:ext cx="93600" cy="8096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6831000" y="2082960"/>
                    <a:ext cx="84240" cy="12348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6919920" y="1571760"/>
                    <a:ext cx="92160" cy="17460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13520" y="2171880"/>
                    <a:ext cx="92160" cy="11458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113600" y="1089000"/>
                    <a:ext cx="68400" cy="2238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711760" y="3327480"/>
                    <a:ext cx="3071880" cy="6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184880" y="1793880"/>
                    <a:ext cx="84240" cy="1533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254720" y="1546200"/>
                    <a:ext cx="61920" cy="17812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319880" y="1330200"/>
                    <a:ext cx="84240" cy="19972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397640" y="1330200"/>
                    <a:ext cx="77760" cy="19972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470720" y="1638360"/>
                    <a:ext cx="84240" cy="16891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556400" y="1685880"/>
                    <a:ext cx="85680" cy="1641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620120" y="1638360"/>
                    <a:ext cx="83880" cy="16891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705800" y="2320920"/>
                    <a:ext cx="93600" cy="10065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800840" y="2139840"/>
                    <a:ext cx="84240" cy="11876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888320" y="2416320"/>
                    <a:ext cx="77760" cy="9111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969320" y="2768760"/>
                    <a:ext cx="68040" cy="5587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8031240" y="3044880"/>
                    <a:ext cx="74520" cy="282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8102520" y="2997360"/>
                    <a:ext cx="73080" cy="3301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8180280" y="3260880"/>
                    <a:ext cx="81000" cy="66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8261280" y="3051000"/>
                    <a:ext cx="69840" cy="276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8323200" y="3051000"/>
                    <a:ext cx="71640" cy="27648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547120" y="3260880"/>
                    <a:ext cx="81000" cy="66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8618400" y="3260880"/>
                    <a:ext cx="79560" cy="66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8694720" y="3260880"/>
                    <a:ext cx="79560" cy="66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7" name=""/>
              <p:cNvSpPr txBox="1"/>
              <p:nvPr/>
            </p:nvSpPr>
            <p:spPr>
              <a:xfrm>
                <a:off x="6348240" y="3019320"/>
                <a:ext cx="1838520" cy="311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Chart 7-1(B)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283080" y="434880"/>
              <a:ext cx="203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B)  n  = 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86640" y="3502080"/>
            <a:ext cx="4023000" cy="3181680"/>
            <a:chOff x="386640" y="3502080"/>
            <a:chExt cx="4023000" cy="3181680"/>
          </a:xfrm>
        </p:grpSpPr>
        <p:grpSp>
          <p:nvGrpSpPr>
            <p:cNvPr id="260" name=""/>
            <p:cNvGrpSpPr/>
            <p:nvPr/>
          </p:nvGrpSpPr>
          <p:grpSpPr>
            <a:xfrm>
              <a:off x="386640" y="3833640"/>
              <a:ext cx="4023000" cy="2850120"/>
              <a:chOff x="386640" y="3833640"/>
              <a:chExt cx="4023000" cy="285012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386640" y="3833640"/>
                <a:ext cx="4023000" cy="2850120"/>
                <a:chOff x="386640" y="3833640"/>
                <a:chExt cx="4023000" cy="28501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063440" y="3876480"/>
                  <a:ext cx="2985840" cy="2476440"/>
                </a:xfrm>
                <a:prstGeom prst="rect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150920" y="3919320"/>
                  <a:ext cx="2915640" cy="2428920"/>
                </a:xfrm>
                <a:custGeom>
                  <a:avLst/>
                  <a:gdLst/>
                  <a:ahLst/>
                  <a:rect l="l" t="t" r="r" b="b"/>
                  <a:pathLst>
                    <a:path w="1602" h="1510">
                      <a:moveTo>
                        <a:pt x="0" y="1486"/>
                      </a:moveTo>
                      <a:cubicBezTo>
                        <a:pt x="36" y="1462"/>
                        <a:pt x="84" y="1455"/>
                        <a:pt x="126" y="1444"/>
                      </a:cubicBezTo>
                      <a:cubicBezTo>
                        <a:pt x="168" y="1451"/>
                        <a:pt x="219" y="1466"/>
                        <a:pt x="246" y="1426"/>
                      </a:cubicBezTo>
                      <a:cubicBezTo>
                        <a:pt x="248" y="1416"/>
                        <a:pt x="244" y="1402"/>
                        <a:pt x="252" y="1396"/>
                      </a:cubicBezTo>
                      <a:cubicBezTo>
                        <a:pt x="266" y="1385"/>
                        <a:pt x="275" y="1424"/>
                        <a:pt x="276" y="1426"/>
                      </a:cubicBezTo>
                      <a:cubicBezTo>
                        <a:pt x="342" y="1404"/>
                        <a:pt x="269" y="1347"/>
                        <a:pt x="336" y="1330"/>
                      </a:cubicBezTo>
                      <a:cubicBezTo>
                        <a:pt x="340" y="1324"/>
                        <a:pt x="347" y="1319"/>
                        <a:pt x="348" y="1312"/>
                      </a:cubicBezTo>
                      <a:cubicBezTo>
                        <a:pt x="352" y="1288"/>
                        <a:pt x="321" y="1273"/>
                        <a:pt x="366" y="1258"/>
                      </a:cubicBezTo>
                      <a:cubicBezTo>
                        <a:pt x="393" y="1178"/>
                        <a:pt x="377" y="1235"/>
                        <a:pt x="384" y="1084"/>
                      </a:cubicBezTo>
                      <a:cubicBezTo>
                        <a:pt x="391" y="1095"/>
                        <a:pt x="400" y="1120"/>
                        <a:pt x="420" y="1096"/>
                      </a:cubicBezTo>
                      <a:cubicBezTo>
                        <a:pt x="428" y="1086"/>
                        <a:pt x="432" y="1060"/>
                        <a:pt x="432" y="1060"/>
                      </a:cubicBezTo>
                      <a:cubicBezTo>
                        <a:pt x="434" y="1034"/>
                        <a:pt x="431" y="1007"/>
                        <a:pt x="438" y="982"/>
                      </a:cubicBezTo>
                      <a:cubicBezTo>
                        <a:pt x="440" y="976"/>
                        <a:pt x="453" y="982"/>
                        <a:pt x="456" y="976"/>
                      </a:cubicBezTo>
                      <a:cubicBezTo>
                        <a:pt x="475" y="932"/>
                        <a:pt x="448" y="923"/>
                        <a:pt x="486" y="898"/>
                      </a:cubicBezTo>
                      <a:cubicBezTo>
                        <a:pt x="491" y="854"/>
                        <a:pt x="487" y="809"/>
                        <a:pt x="498" y="766"/>
                      </a:cubicBezTo>
                      <a:cubicBezTo>
                        <a:pt x="501" y="752"/>
                        <a:pt x="522" y="716"/>
                        <a:pt x="522" y="730"/>
                      </a:cubicBezTo>
                      <a:cubicBezTo>
                        <a:pt x="522" y="742"/>
                        <a:pt x="522" y="754"/>
                        <a:pt x="522" y="766"/>
                      </a:cubicBezTo>
                      <a:cubicBezTo>
                        <a:pt x="522" y="767"/>
                        <a:pt x="532" y="807"/>
                        <a:pt x="546" y="796"/>
                      </a:cubicBezTo>
                      <a:cubicBezTo>
                        <a:pt x="556" y="788"/>
                        <a:pt x="558" y="760"/>
                        <a:pt x="558" y="760"/>
                      </a:cubicBezTo>
                      <a:cubicBezTo>
                        <a:pt x="564" y="710"/>
                        <a:pt x="568" y="622"/>
                        <a:pt x="576" y="580"/>
                      </a:cubicBezTo>
                      <a:cubicBezTo>
                        <a:pt x="580" y="556"/>
                        <a:pt x="613" y="549"/>
                        <a:pt x="630" y="538"/>
                      </a:cubicBezTo>
                      <a:cubicBezTo>
                        <a:pt x="664" y="437"/>
                        <a:pt x="666" y="326"/>
                        <a:pt x="666" y="220"/>
                      </a:cubicBezTo>
                      <a:cubicBezTo>
                        <a:pt x="711" y="190"/>
                        <a:pt x="702" y="159"/>
                        <a:pt x="702" y="100"/>
                      </a:cubicBezTo>
                      <a:cubicBezTo>
                        <a:pt x="742" y="113"/>
                        <a:pt x="724" y="147"/>
                        <a:pt x="714" y="178"/>
                      </a:cubicBezTo>
                      <a:cubicBezTo>
                        <a:pt x="711" y="232"/>
                        <a:pt x="689" y="338"/>
                        <a:pt x="708" y="394"/>
                      </a:cubicBezTo>
                      <a:cubicBezTo>
                        <a:pt x="710" y="400"/>
                        <a:pt x="720" y="398"/>
                        <a:pt x="726" y="400"/>
                      </a:cubicBezTo>
                      <a:cubicBezTo>
                        <a:pt x="744" y="373"/>
                        <a:pt x="750" y="347"/>
                        <a:pt x="756" y="316"/>
                      </a:cubicBezTo>
                      <a:cubicBezTo>
                        <a:pt x="758" y="294"/>
                        <a:pt x="755" y="271"/>
                        <a:pt x="762" y="250"/>
                      </a:cubicBezTo>
                      <a:cubicBezTo>
                        <a:pt x="764" y="244"/>
                        <a:pt x="776" y="249"/>
                        <a:pt x="780" y="244"/>
                      </a:cubicBezTo>
                      <a:cubicBezTo>
                        <a:pt x="819" y="186"/>
                        <a:pt x="755" y="234"/>
                        <a:pt x="804" y="202"/>
                      </a:cubicBezTo>
                      <a:cubicBezTo>
                        <a:pt x="822" y="147"/>
                        <a:pt x="794" y="234"/>
                        <a:pt x="816" y="154"/>
                      </a:cubicBezTo>
                      <a:cubicBezTo>
                        <a:pt x="819" y="142"/>
                        <a:pt x="828" y="118"/>
                        <a:pt x="828" y="118"/>
                      </a:cubicBezTo>
                      <a:cubicBezTo>
                        <a:pt x="830" y="90"/>
                        <a:pt x="831" y="62"/>
                        <a:pt x="834" y="34"/>
                      </a:cubicBezTo>
                      <a:cubicBezTo>
                        <a:pt x="835" y="24"/>
                        <a:pt x="832" y="10"/>
                        <a:pt x="840" y="4"/>
                      </a:cubicBezTo>
                      <a:cubicBezTo>
                        <a:pt x="846" y="0"/>
                        <a:pt x="848" y="16"/>
                        <a:pt x="852" y="22"/>
                      </a:cubicBezTo>
                      <a:cubicBezTo>
                        <a:pt x="855" y="79"/>
                        <a:pt x="863" y="198"/>
                        <a:pt x="882" y="256"/>
                      </a:cubicBezTo>
                      <a:cubicBezTo>
                        <a:pt x="914" y="245"/>
                        <a:pt x="908" y="215"/>
                        <a:pt x="912" y="184"/>
                      </a:cubicBezTo>
                      <a:cubicBezTo>
                        <a:pt x="924" y="188"/>
                        <a:pt x="946" y="184"/>
                        <a:pt x="948" y="196"/>
                      </a:cubicBezTo>
                      <a:cubicBezTo>
                        <a:pt x="956" y="238"/>
                        <a:pt x="965" y="279"/>
                        <a:pt x="972" y="322"/>
                      </a:cubicBezTo>
                      <a:cubicBezTo>
                        <a:pt x="974" y="334"/>
                        <a:pt x="978" y="358"/>
                        <a:pt x="978" y="358"/>
                      </a:cubicBezTo>
                      <a:cubicBezTo>
                        <a:pt x="974" y="421"/>
                        <a:pt x="969" y="472"/>
                        <a:pt x="960" y="532"/>
                      </a:cubicBezTo>
                      <a:cubicBezTo>
                        <a:pt x="974" y="573"/>
                        <a:pt x="958" y="539"/>
                        <a:pt x="972" y="532"/>
                      </a:cubicBezTo>
                      <a:cubicBezTo>
                        <a:pt x="978" y="529"/>
                        <a:pt x="984" y="536"/>
                        <a:pt x="990" y="538"/>
                      </a:cubicBezTo>
                      <a:cubicBezTo>
                        <a:pt x="1013" y="561"/>
                        <a:pt x="1017" y="575"/>
                        <a:pt x="1038" y="544"/>
                      </a:cubicBezTo>
                      <a:cubicBezTo>
                        <a:pt x="1040" y="536"/>
                        <a:pt x="1037" y="524"/>
                        <a:pt x="1044" y="520"/>
                      </a:cubicBezTo>
                      <a:cubicBezTo>
                        <a:pt x="1050" y="517"/>
                        <a:pt x="1049" y="532"/>
                        <a:pt x="1050" y="538"/>
                      </a:cubicBezTo>
                      <a:cubicBezTo>
                        <a:pt x="1053" y="572"/>
                        <a:pt x="1054" y="606"/>
                        <a:pt x="1056" y="640"/>
                      </a:cubicBezTo>
                      <a:cubicBezTo>
                        <a:pt x="1060" y="690"/>
                        <a:pt x="1057" y="747"/>
                        <a:pt x="1086" y="790"/>
                      </a:cubicBezTo>
                      <a:cubicBezTo>
                        <a:pt x="1084" y="808"/>
                        <a:pt x="1084" y="826"/>
                        <a:pt x="1080" y="844"/>
                      </a:cubicBezTo>
                      <a:cubicBezTo>
                        <a:pt x="1078" y="856"/>
                        <a:pt x="1072" y="868"/>
                        <a:pt x="1068" y="880"/>
                      </a:cubicBezTo>
                      <a:cubicBezTo>
                        <a:pt x="1066" y="886"/>
                        <a:pt x="1062" y="898"/>
                        <a:pt x="1062" y="898"/>
                      </a:cubicBezTo>
                      <a:cubicBezTo>
                        <a:pt x="1095" y="909"/>
                        <a:pt x="1098" y="893"/>
                        <a:pt x="1104" y="862"/>
                      </a:cubicBezTo>
                      <a:cubicBezTo>
                        <a:pt x="1106" y="868"/>
                        <a:pt x="1107" y="874"/>
                        <a:pt x="1110" y="880"/>
                      </a:cubicBezTo>
                      <a:cubicBezTo>
                        <a:pt x="1113" y="886"/>
                        <a:pt x="1120" y="891"/>
                        <a:pt x="1122" y="898"/>
                      </a:cubicBezTo>
                      <a:cubicBezTo>
                        <a:pt x="1128" y="913"/>
                        <a:pt x="1134" y="946"/>
                        <a:pt x="1134" y="946"/>
                      </a:cubicBezTo>
                      <a:cubicBezTo>
                        <a:pt x="1132" y="970"/>
                        <a:pt x="1125" y="994"/>
                        <a:pt x="1128" y="1018"/>
                      </a:cubicBezTo>
                      <a:cubicBezTo>
                        <a:pt x="1129" y="1026"/>
                        <a:pt x="1142" y="1029"/>
                        <a:pt x="1146" y="1036"/>
                      </a:cubicBezTo>
                      <a:cubicBezTo>
                        <a:pt x="1152" y="1047"/>
                        <a:pt x="1154" y="1060"/>
                        <a:pt x="1158" y="1072"/>
                      </a:cubicBezTo>
                      <a:cubicBezTo>
                        <a:pt x="1160" y="1078"/>
                        <a:pt x="1164" y="1090"/>
                        <a:pt x="1164" y="1090"/>
                      </a:cubicBezTo>
                      <a:cubicBezTo>
                        <a:pt x="1179" y="1080"/>
                        <a:pt x="1187" y="1069"/>
                        <a:pt x="1206" y="1084"/>
                      </a:cubicBezTo>
                      <a:cubicBezTo>
                        <a:pt x="1220" y="1096"/>
                        <a:pt x="1214" y="1120"/>
                        <a:pt x="1218" y="1138"/>
                      </a:cubicBezTo>
                      <a:cubicBezTo>
                        <a:pt x="1222" y="1155"/>
                        <a:pt x="1242" y="1202"/>
                        <a:pt x="1260" y="1210"/>
                      </a:cubicBezTo>
                      <a:cubicBezTo>
                        <a:pt x="1273" y="1216"/>
                        <a:pt x="1288" y="1214"/>
                        <a:pt x="1302" y="1216"/>
                      </a:cubicBezTo>
                      <a:cubicBezTo>
                        <a:pt x="1329" y="1256"/>
                        <a:pt x="1307" y="1212"/>
                        <a:pt x="1302" y="1252"/>
                      </a:cubicBezTo>
                      <a:cubicBezTo>
                        <a:pt x="1301" y="1260"/>
                        <a:pt x="1316" y="1324"/>
                        <a:pt x="1320" y="1330"/>
                      </a:cubicBezTo>
                      <a:cubicBezTo>
                        <a:pt x="1325" y="1337"/>
                        <a:pt x="1337" y="1337"/>
                        <a:pt x="1344" y="1342"/>
                      </a:cubicBezTo>
                      <a:cubicBezTo>
                        <a:pt x="1351" y="1347"/>
                        <a:pt x="1355" y="1355"/>
                        <a:pt x="1362" y="1360"/>
                      </a:cubicBezTo>
                      <a:cubicBezTo>
                        <a:pt x="1368" y="1365"/>
                        <a:pt x="1374" y="1368"/>
                        <a:pt x="1380" y="1372"/>
                      </a:cubicBezTo>
                      <a:cubicBezTo>
                        <a:pt x="1381" y="1372"/>
                        <a:pt x="1411" y="1349"/>
                        <a:pt x="1416" y="1354"/>
                      </a:cubicBezTo>
                      <a:cubicBezTo>
                        <a:pt x="1425" y="1363"/>
                        <a:pt x="1424" y="1378"/>
                        <a:pt x="1428" y="1390"/>
                      </a:cubicBezTo>
                      <a:cubicBezTo>
                        <a:pt x="1430" y="1397"/>
                        <a:pt x="1437" y="1401"/>
                        <a:pt x="1440" y="1408"/>
                      </a:cubicBezTo>
                      <a:cubicBezTo>
                        <a:pt x="1440" y="1408"/>
                        <a:pt x="1455" y="1453"/>
                        <a:pt x="1458" y="1462"/>
                      </a:cubicBezTo>
                      <a:cubicBezTo>
                        <a:pt x="1462" y="1475"/>
                        <a:pt x="1486" y="1466"/>
                        <a:pt x="1500" y="1468"/>
                      </a:cubicBezTo>
                      <a:cubicBezTo>
                        <a:pt x="1530" y="1458"/>
                        <a:pt x="1512" y="1460"/>
                        <a:pt x="1554" y="1474"/>
                      </a:cubicBezTo>
                      <a:cubicBezTo>
                        <a:pt x="1560" y="1476"/>
                        <a:pt x="1572" y="1480"/>
                        <a:pt x="1572" y="1480"/>
                      </a:cubicBezTo>
                      <a:cubicBezTo>
                        <a:pt x="1592" y="1510"/>
                        <a:pt x="1584" y="1492"/>
                        <a:pt x="1602" y="1474"/>
                      </a:cubicBezTo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86640" y="3833640"/>
                  <a:ext cx="715680" cy="256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8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7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6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5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4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3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2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1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0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933480" y="6376680"/>
                  <a:ext cx="3476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45     155       165       175      185       19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 txBox="1"/>
              <p:nvPr/>
            </p:nvSpPr>
            <p:spPr>
              <a:xfrm>
                <a:off x="1677960" y="5991120"/>
                <a:ext cx="1837800" cy="311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Chart 7-1(C)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227240" y="3502080"/>
              <a:ext cx="314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C) n  =  5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901400" y="3511440"/>
            <a:ext cx="4242600" cy="3139560"/>
            <a:chOff x="4901400" y="3511440"/>
            <a:chExt cx="4242600" cy="3139560"/>
          </a:xfrm>
        </p:grpSpPr>
        <p:grpSp>
          <p:nvGrpSpPr>
            <p:cNvPr id="269" name=""/>
            <p:cNvGrpSpPr/>
            <p:nvPr/>
          </p:nvGrpSpPr>
          <p:grpSpPr>
            <a:xfrm>
              <a:off x="4901400" y="3610080"/>
              <a:ext cx="4185360" cy="3040920"/>
              <a:chOff x="4901400" y="3610080"/>
              <a:chExt cx="4185360" cy="304092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4901400" y="3610080"/>
                <a:ext cx="4185360" cy="3040920"/>
                <a:chOff x="4901400" y="3610080"/>
                <a:chExt cx="4185360" cy="30409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521320" y="3862440"/>
                  <a:ext cx="3276720" cy="2533680"/>
                </a:xfrm>
                <a:prstGeom prst="rect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6070680" y="4082760"/>
                  <a:ext cx="2263320" cy="2262600"/>
                  <a:chOff x="6070680" y="4082760"/>
                  <a:chExt cx="2263320" cy="226260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flipV="1">
                    <a:off x="6070680" y="6330960"/>
                    <a:ext cx="41400" cy="1404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V="1">
                    <a:off x="6112080" y="6304320"/>
                    <a:ext cx="42120" cy="2664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6154560" y="6289920"/>
                    <a:ext cx="31320" cy="1404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185880" y="6263280"/>
                    <a:ext cx="421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0" y="19"/>
                        </a:moveTo>
                        <a:lnTo>
                          <a:pt x="19" y="10"/>
                        </a:lnTo>
                        <a:lnTo>
                          <a:pt x="39" y="0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V="1">
                    <a:off x="6228360" y="6222240"/>
                    <a:ext cx="31320" cy="4068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260040" y="6181560"/>
                    <a:ext cx="410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0" y="29"/>
                        </a:moveTo>
                        <a:lnTo>
                          <a:pt x="19" y="10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V="1">
                    <a:off x="6301440" y="6140160"/>
                    <a:ext cx="32400" cy="4068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V="1">
                    <a:off x="6333840" y="6085800"/>
                    <a:ext cx="41400" cy="5472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V="1">
                    <a:off x="6375240" y="6032160"/>
                    <a:ext cx="42120" cy="5328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V="1">
                    <a:off x="6417720" y="5963040"/>
                    <a:ext cx="31320" cy="6876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449400" y="5881320"/>
                    <a:ext cx="4212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0" y="58"/>
                        </a:moveTo>
                        <a:lnTo>
                          <a:pt x="19" y="29"/>
                        </a:lnTo>
                        <a:lnTo>
                          <a:pt x="39" y="0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V="1">
                    <a:off x="6491880" y="5799240"/>
                    <a:ext cx="31320" cy="8172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523560" y="5703840"/>
                    <a:ext cx="410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8">
                        <a:moveTo>
                          <a:pt x="0" y="68"/>
                        </a:moveTo>
                        <a:lnTo>
                          <a:pt x="19" y="39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V="1">
                    <a:off x="6564600" y="5595480"/>
                    <a:ext cx="31320" cy="1080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V="1">
                    <a:off x="6596280" y="5486400"/>
                    <a:ext cx="42120" cy="10836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V="1">
                    <a:off x="6638760" y="5376240"/>
                    <a:ext cx="42120" cy="1098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V="1">
                    <a:off x="6681240" y="5254200"/>
                    <a:ext cx="31320" cy="1224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712560" y="5118840"/>
                    <a:ext cx="4212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6">
                        <a:moveTo>
                          <a:pt x="0" y="96"/>
                        </a:moveTo>
                        <a:lnTo>
                          <a:pt x="19" y="48"/>
                        </a:lnTo>
                        <a:lnTo>
                          <a:pt x="39" y="0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V="1">
                    <a:off x="6755040" y="4996440"/>
                    <a:ext cx="31320" cy="1224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786720" y="4873680"/>
                    <a:ext cx="4104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87">
                        <a:moveTo>
                          <a:pt x="0" y="87"/>
                        </a:moveTo>
                        <a:lnTo>
                          <a:pt x="19" y="38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V="1">
                    <a:off x="6828120" y="4750920"/>
                    <a:ext cx="31320" cy="1224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V="1">
                    <a:off x="6859440" y="4628520"/>
                    <a:ext cx="42120" cy="1224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V="1">
                    <a:off x="6901920" y="4518360"/>
                    <a:ext cx="42120" cy="1098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V="1">
                    <a:off x="6944400" y="4409640"/>
                    <a:ext cx="31320" cy="10836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976080" y="4313880"/>
                    <a:ext cx="421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0" y="68"/>
                        </a:moveTo>
                        <a:lnTo>
                          <a:pt x="19" y="29"/>
                        </a:lnTo>
                        <a:lnTo>
                          <a:pt x="39" y="0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018560" y="4232520"/>
                    <a:ext cx="3132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0" y="58"/>
                        </a:moveTo>
                        <a:lnTo>
                          <a:pt x="9" y="29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7050240" y="4177440"/>
                    <a:ext cx="4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0" y="39"/>
                        </a:moveTo>
                        <a:lnTo>
                          <a:pt x="19" y="20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7091640" y="4123800"/>
                    <a:ext cx="313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8">
                        <a:moveTo>
                          <a:pt x="0" y="38"/>
                        </a:moveTo>
                        <a:lnTo>
                          <a:pt x="10" y="19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V="1">
                    <a:off x="7122960" y="4095720"/>
                    <a:ext cx="42120" cy="2808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7165440" y="4082760"/>
                    <a:ext cx="42120" cy="126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7207920" y="4083120"/>
                    <a:ext cx="31320" cy="126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7239240" y="4095720"/>
                    <a:ext cx="421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20">
                        <a:moveTo>
                          <a:pt x="0" y="0"/>
                        </a:moveTo>
                        <a:lnTo>
                          <a:pt x="19" y="10"/>
                        </a:lnTo>
                        <a:lnTo>
                          <a:pt x="39" y="20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7281720" y="4123800"/>
                    <a:ext cx="313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8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29" y="38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7313400" y="4177440"/>
                    <a:ext cx="4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9">
                        <a:moveTo>
                          <a:pt x="0" y="0"/>
                        </a:moveTo>
                        <a:lnTo>
                          <a:pt x="19" y="20"/>
                        </a:lnTo>
                        <a:lnTo>
                          <a:pt x="38" y="39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7354800" y="4232520"/>
                    <a:ext cx="31320" cy="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8">
                        <a:moveTo>
                          <a:pt x="0" y="0"/>
                        </a:moveTo>
                        <a:lnTo>
                          <a:pt x="10" y="29"/>
                        </a:lnTo>
                        <a:lnTo>
                          <a:pt x="29" y="58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386480" y="4313880"/>
                    <a:ext cx="421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0" y="0"/>
                        </a:moveTo>
                        <a:lnTo>
                          <a:pt x="20" y="29"/>
                        </a:lnTo>
                        <a:lnTo>
                          <a:pt x="39" y="68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428960" y="4410000"/>
                    <a:ext cx="31320" cy="10836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460280" y="4518720"/>
                    <a:ext cx="42120" cy="1098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2760" y="4628520"/>
                    <a:ext cx="42120" cy="1224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545240" y="4750920"/>
                    <a:ext cx="31320" cy="1224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7576920" y="4873680"/>
                    <a:ext cx="4140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87">
                        <a:moveTo>
                          <a:pt x="0" y="0"/>
                        </a:moveTo>
                        <a:lnTo>
                          <a:pt x="19" y="38"/>
                        </a:lnTo>
                        <a:lnTo>
                          <a:pt x="38" y="87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618320" y="4996440"/>
                    <a:ext cx="31320" cy="1224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7650000" y="5118840"/>
                    <a:ext cx="42120" cy="13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96">
                        <a:moveTo>
                          <a:pt x="0" y="0"/>
                        </a:moveTo>
                        <a:lnTo>
                          <a:pt x="20" y="48"/>
                        </a:lnTo>
                        <a:lnTo>
                          <a:pt x="39" y="96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692480" y="5254200"/>
                    <a:ext cx="31320" cy="1224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7723800" y="5376600"/>
                    <a:ext cx="42120" cy="1098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7766280" y="5486760"/>
                    <a:ext cx="42120" cy="10836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808760" y="5595480"/>
                    <a:ext cx="31320" cy="10800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7840080" y="5703840"/>
                    <a:ext cx="414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8">
                        <a:moveTo>
                          <a:pt x="0" y="0"/>
                        </a:moveTo>
                        <a:lnTo>
                          <a:pt x="19" y="39"/>
                        </a:lnTo>
                        <a:lnTo>
                          <a:pt x="38" y="68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7881480" y="5799600"/>
                    <a:ext cx="31320" cy="8172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913160" y="5881320"/>
                    <a:ext cx="4212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8">
                        <a:moveTo>
                          <a:pt x="0" y="0"/>
                        </a:moveTo>
                        <a:lnTo>
                          <a:pt x="20" y="29"/>
                        </a:lnTo>
                        <a:lnTo>
                          <a:pt x="39" y="58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955640" y="5963400"/>
                    <a:ext cx="31320" cy="6876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7987320" y="6032160"/>
                    <a:ext cx="42120" cy="5328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8029800" y="6085800"/>
                    <a:ext cx="41040" cy="5472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8070840" y="6140520"/>
                    <a:ext cx="32760" cy="4068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03600" y="6181560"/>
                    <a:ext cx="410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9">
                        <a:moveTo>
                          <a:pt x="0" y="0"/>
                        </a:moveTo>
                        <a:lnTo>
                          <a:pt x="19" y="10"/>
                        </a:lnTo>
                        <a:lnTo>
                          <a:pt x="38" y="29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45000" y="6222600"/>
                    <a:ext cx="31320" cy="4068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8176680" y="6263280"/>
                    <a:ext cx="421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9">
                        <a:moveTo>
                          <a:pt x="0" y="0"/>
                        </a:moveTo>
                        <a:lnTo>
                          <a:pt x="20" y="10"/>
                        </a:lnTo>
                        <a:lnTo>
                          <a:pt x="39" y="19"/>
                        </a:lnTo>
                      </a:path>
                    </a:pathLst>
                  </a:custGeom>
                  <a:noFill/>
                  <a:ln w="46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219160" y="6290280"/>
                    <a:ext cx="31320" cy="1404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250480" y="6304320"/>
                    <a:ext cx="42120" cy="2664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8292960" y="6331320"/>
                    <a:ext cx="41040" cy="14040"/>
                  </a:xfrm>
                  <a:prstGeom prst="line">
                    <a:avLst/>
                  </a:prstGeom>
                  <a:ln w="46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3" name=""/>
                <p:cNvSpPr/>
                <p:nvPr/>
              </p:nvSpPr>
              <p:spPr>
                <a:xfrm>
                  <a:off x="4901400" y="3610080"/>
                  <a:ext cx="715680" cy="29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7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6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5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4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3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2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1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0.00 -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324400" y="6343920"/>
                  <a:ext cx="3762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40       150       160      170      180      190     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 txBox="1"/>
              <p:nvPr/>
            </p:nvSpPr>
            <p:spPr>
              <a:xfrm>
                <a:off x="6316560" y="6024600"/>
                <a:ext cx="1838520" cy="311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Chart 7-1(D)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576760" y="3511440"/>
              <a:ext cx="35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bability Fun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 txBox="1"/>
          <p:nvPr/>
        </p:nvSpPr>
        <p:spPr>
          <a:xfrm rot="5400000">
            <a:off x="1778040" y="3274200"/>
            <a:ext cx="5676840" cy="671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Histograms</a:t>
            </a:r>
            <a:endParaRPr b="1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1ABB-9A45-488C-AD8B-93237180DE3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4T16:26:01Z</dcterms:created>
  <dc:creator>Colleen Quinn &amp; Ron Thornbury</dc:creator>
  <dc:description/>
  <dc:language>en-US</dc:language>
  <cp:lastModifiedBy>jeff_skinner</cp:lastModifiedBy>
  <dcterms:modified xsi:type="dcterms:W3CDTF">2003-04-28T14:07:27Z</dcterms:modified>
  <cp:revision>200</cp:revision>
  <dc:subject/>
  <dc:title>PowerPoint Presentation</dc:title>
</cp:coreProperties>
</file>