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919-5C30-4E5A-B9F0-63A67E79A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6E16-3DBE-40A5-A988-0D04F376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72B3-115B-48A8-8C93-B51E8FB6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E3C-CA12-4682-BE37-354946B9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148-0DE3-4B5B-BAC6-93B2D8F9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35840" y="0"/>
            <a:ext cx="95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61920" y="6578640"/>
            <a:ext cx="48211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19800" y="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28600" y="237960"/>
            <a:ext cx="914400" cy="712800"/>
            <a:chOff x="228600" y="237960"/>
            <a:chExt cx="914400" cy="7128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228600" y="23796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000000"/>
              </a:outerShdw>
            </a:effectLst>
          </p:spPr>
        </p:pic>
        <p:sp>
          <p:nvSpPr>
            <p:cNvPr id="6" name=""/>
            <p:cNvSpPr txBox="1"/>
            <p:nvPr/>
          </p:nvSpPr>
          <p:spPr>
            <a:xfrm>
              <a:off x="485640" y="34128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9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 - </a:t>
            </a:r>
            <a:fld id="{E383DD7A-5BEC-4173-8F77-77722096388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5720">
              <a:spcBef>
                <a:spcPts val="550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2536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18880">
              <a:spcBef>
                <a:spcPts val="451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880" indent="-230040">
              <a:spcBef>
                <a:spcPts val="45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8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8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ind%20Cover%20Huge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9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18960" y="2639880"/>
            <a:ext cx="8547120" cy="131292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434"/>
                </a:solidFill>
                <a:latin typeface="Impact"/>
              </a:rPr>
              <a:t>Estimation and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971720" y="152280"/>
            <a:ext cx="518148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pre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66760" y="1547640"/>
            <a:ext cx="4323600" cy="3652560"/>
            <a:chOff x="2066760" y="1547640"/>
            <a:chExt cx="4323600" cy="3652560"/>
          </a:xfrm>
        </p:grpSpPr>
        <p:sp>
          <p:nvSpPr>
            <p:cNvPr id="197" name=""/>
            <p:cNvSpPr/>
            <p:nvPr/>
          </p:nvSpPr>
          <p:spPr>
            <a:xfrm>
              <a:off x="5089320" y="2383200"/>
              <a:ext cx="984960" cy="281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9080" y="3559680"/>
              <a:ext cx="282600" cy="30456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90" y="18"/>
                  </a:moveTo>
                  <a:lnTo>
                    <a:pt x="72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54" y="36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84" y="60"/>
                  </a:lnTo>
                  <a:lnTo>
                    <a:pt x="144" y="84"/>
                  </a:lnTo>
                  <a:lnTo>
                    <a:pt x="150" y="150"/>
                  </a:lnTo>
                  <a:lnTo>
                    <a:pt x="36" y="60"/>
                  </a:lnTo>
                  <a:lnTo>
                    <a:pt x="12" y="36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78" y="12"/>
                  </a:lnTo>
                  <a:lnTo>
                    <a:pt x="96" y="12"/>
                  </a:lnTo>
                  <a:lnTo>
                    <a:pt x="114" y="24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89080" y="3450240"/>
              <a:ext cx="305280" cy="280080"/>
            </a:xfrm>
            <a:custGeom>
              <a:avLst/>
              <a:gdLst/>
              <a:ahLst/>
              <a:rect l="l" t="t" r="r" b="b"/>
              <a:pathLst>
                <a:path w="162" h="138">
                  <a:moveTo>
                    <a:pt x="144" y="138"/>
                  </a:moveTo>
                  <a:lnTo>
                    <a:pt x="84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54" y="90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90" y="72"/>
                  </a:lnTo>
                  <a:lnTo>
                    <a:pt x="114" y="78"/>
                  </a:lnTo>
                  <a:lnTo>
                    <a:pt x="96" y="66"/>
                  </a:lnTo>
                  <a:lnTo>
                    <a:pt x="78" y="66"/>
                  </a:lnTo>
                  <a:lnTo>
                    <a:pt x="60" y="60"/>
                  </a:lnTo>
                  <a:lnTo>
                    <a:pt x="42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132" y="30"/>
                  </a:lnTo>
                  <a:lnTo>
                    <a:pt x="162" y="54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8"/>
                  </a:lnTo>
                  <a:lnTo>
                    <a:pt x="138" y="78"/>
                  </a:lnTo>
                  <a:lnTo>
                    <a:pt x="144" y="13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89080" y="3157560"/>
              <a:ext cx="361800" cy="37764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168" y="138"/>
                  </a:moveTo>
                  <a:lnTo>
                    <a:pt x="174" y="138"/>
                  </a:lnTo>
                  <a:lnTo>
                    <a:pt x="186" y="138"/>
                  </a:lnTo>
                  <a:lnTo>
                    <a:pt x="192" y="13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36" y="24"/>
                  </a:lnTo>
                  <a:lnTo>
                    <a:pt x="24" y="48"/>
                  </a:lnTo>
                  <a:lnTo>
                    <a:pt x="18" y="72"/>
                  </a:lnTo>
                  <a:lnTo>
                    <a:pt x="12" y="96"/>
                  </a:lnTo>
                  <a:lnTo>
                    <a:pt x="6" y="126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24" y="174"/>
                  </a:lnTo>
                  <a:lnTo>
                    <a:pt x="24" y="174"/>
                  </a:lnTo>
                  <a:lnTo>
                    <a:pt x="24" y="162"/>
                  </a:lnTo>
                  <a:lnTo>
                    <a:pt x="24" y="150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42" y="144"/>
                  </a:lnTo>
                  <a:lnTo>
                    <a:pt x="132" y="174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168" y="13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7120" y="3279240"/>
              <a:ext cx="305280" cy="280440"/>
            </a:xfrm>
            <a:custGeom>
              <a:avLst/>
              <a:gdLst/>
              <a:ahLst/>
              <a:rect l="l" t="t" r="r" b="b"/>
              <a:pathLst>
                <a:path w="162" h="138">
                  <a:moveTo>
                    <a:pt x="96" y="114"/>
                  </a:moveTo>
                  <a:lnTo>
                    <a:pt x="12" y="60"/>
                  </a:lnTo>
                  <a:lnTo>
                    <a:pt x="6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50" y="90"/>
                  </a:lnTo>
                  <a:lnTo>
                    <a:pt x="156" y="96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20"/>
                  </a:lnTo>
                  <a:lnTo>
                    <a:pt x="156" y="126"/>
                  </a:lnTo>
                  <a:lnTo>
                    <a:pt x="156" y="132"/>
                  </a:lnTo>
                  <a:lnTo>
                    <a:pt x="150" y="138"/>
                  </a:lnTo>
                  <a:lnTo>
                    <a:pt x="144" y="138"/>
                  </a:lnTo>
                  <a:lnTo>
                    <a:pt x="132" y="138"/>
                  </a:lnTo>
                  <a:lnTo>
                    <a:pt x="126" y="138"/>
                  </a:lnTo>
                  <a:lnTo>
                    <a:pt x="96" y="11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9440" y="3108600"/>
              <a:ext cx="294120" cy="3290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84" y="30"/>
                  </a:moveTo>
                  <a:lnTo>
                    <a:pt x="156" y="144"/>
                  </a:lnTo>
                  <a:lnTo>
                    <a:pt x="156" y="150"/>
                  </a:lnTo>
                  <a:lnTo>
                    <a:pt x="144" y="16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79440" y="2950200"/>
              <a:ext cx="124920" cy="18288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18" y="84"/>
                  </a:moveTo>
                  <a:lnTo>
                    <a:pt x="24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66" y="60"/>
                  </a:lnTo>
                  <a:lnTo>
                    <a:pt x="60" y="66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18" y="4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90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13640" y="2950200"/>
              <a:ext cx="90360" cy="14580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6" y="18"/>
                  </a:moveTo>
                  <a:lnTo>
                    <a:pt x="48" y="36"/>
                  </a:lnTo>
                  <a:lnTo>
                    <a:pt x="48" y="60"/>
                  </a:lnTo>
                  <a:lnTo>
                    <a:pt x="42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9080" y="3535560"/>
              <a:ext cx="1440" cy="24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236320" y="3011040"/>
              <a:ext cx="3348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66760" y="1596240"/>
              <a:ext cx="611280" cy="3451320"/>
            </a:xfrm>
            <a:custGeom>
              <a:avLst/>
              <a:gdLst/>
              <a:ahLst/>
              <a:rect l="l" t="t" r="r" b="b"/>
              <a:pathLst>
                <a:path w="324" h="1698">
                  <a:moveTo>
                    <a:pt x="234" y="1698"/>
                  </a:moveTo>
                  <a:lnTo>
                    <a:pt x="312" y="1698"/>
                  </a:lnTo>
                  <a:lnTo>
                    <a:pt x="324" y="1356"/>
                  </a:lnTo>
                  <a:lnTo>
                    <a:pt x="300" y="1050"/>
                  </a:lnTo>
                  <a:lnTo>
                    <a:pt x="258" y="900"/>
                  </a:lnTo>
                  <a:lnTo>
                    <a:pt x="294" y="948"/>
                  </a:lnTo>
                  <a:lnTo>
                    <a:pt x="246" y="0"/>
                  </a:lnTo>
                  <a:lnTo>
                    <a:pt x="114" y="66"/>
                  </a:lnTo>
                  <a:lnTo>
                    <a:pt x="36" y="120"/>
                  </a:lnTo>
                  <a:lnTo>
                    <a:pt x="0" y="144"/>
                  </a:lnTo>
                  <a:lnTo>
                    <a:pt x="12" y="150"/>
                  </a:lnTo>
                  <a:lnTo>
                    <a:pt x="30" y="168"/>
                  </a:lnTo>
                  <a:lnTo>
                    <a:pt x="42" y="186"/>
                  </a:lnTo>
                  <a:lnTo>
                    <a:pt x="54" y="204"/>
                  </a:lnTo>
                  <a:lnTo>
                    <a:pt x="66" y="228"/>
                  </a:lnTo>
                  <a:lnTo>
                    <a:pt x="78" y="252"/>
                  </a:lnTo>
                  <a:lnTo>
                    <a:pt x="84" y="276"/>
                  </a:lnTo>
                  <a:lnTo>
                    <a:pt x="84" y="300"/>
                  </a:lnTo>
                  <a:lnTo>
                    <a:pt x="114" y="684"/>
                  </a:lnTo>
                  <a:lnTo>
                    <a:pt x="126" y="702"/>
                  </a:lnTo>
                  <a:lnTo>
                    <a:pt x="126" y="726"/>
                  </a:lnTo>
                  <a:lnTo>
                    <a:pt x="126" y="744"/>
                  </a:lnTo>
                  <a:lnTo>
                    <a:pt x="144" y="774"/>
                  </a:lnTo>
                  <a:lnTo>
                    <a:pt x="216" y="888"/>
                  </a:lnTo>
                  <a:lnTo>
                    <a:pt x="228" y="906"/>
                  </a:lnTo>
                  <a:lnTo>
                    <a:pt x="198" y="1470"/>
                  </a:lnTo>
                  <a:lnTo>
                    <a:pt x="234" y="169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11760" y="1730520"/>
              <a:ext cx="169560" cy="109440"/>
            </a:xfrm>
            <a:custGeom>
              <a:avLst/>
              <a:gdLst/>
              <a:ahLst/>
              <a:rect l="l" t="t" r="r" b="b"/>
              <a:pathLst>
                <a:path w="90" h="54">
                  <a:moveTo>
                    <a:pt x="12" y="54"/>
                  </a:moveTo>
                  <a:lnTo>
                    <a:pt x="90" y="0"/>
                  </a:lnTo>
                  <a:lnTo>
                    <a:pt x="0" y="30"/>
                  </a:lnTo>
                  <a:lnTo>
                    <a:pt x="12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360760" y="3182040"/>
              <a:ext cx="1029600" cy="1865160"/>
              <a:chOff x="5360760" y="3182040"/>
              <a:chExt cx="1029600" cy="1865160"/>
            </a:xfrm>
          </p:grpSpPr>
          <p:sp>
            <p:nvSpPr>
              <p:cNvPr id="210" name=""/>
              <p:cNvSpPr/>
              <p:nvPr/>
            </p:nvSpPr>
            <p:spPr>
              <a:xfrm>
                <a:off x="5360760" y="3206160"/>
                <a:ext cx="701640" cy="340920"/>
              </a:xfrm>
              <a:custGeom>
                <a:avLst/>
                <a:gdLst/>
                <a:ahLst/>
                <a:rect l="l" t="t" r="r" b="b"/>
                <a:pathLst>
                  <a:path w="372" h="168">
                    <a:moveTo>
                      <a:pt x="186" y="6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40" y="12"/>
                    </a:lnTo>
                    <a:lnTo>
                      <a:pt x="252" y="24"/>
                    </a:lnTo>
                    <a:lnTo>
                      <a:pt x="276" y="42"/>
                    </a:lnTo>
                    <a:lnTo>
                      <a:pt x="294" y="54"/>
                    </a:lnTo>
                    <a:lnTo>
                      <a:pt x="312" y="72"/>
                    </a:lnTo>
                    <a:lnTo>
                      <a:pt x="324" y="90"/>
                    </a:lnTo>
                    <a:lnTo>
                      <a:pt x="336" y="102"/>
                    </a:lnTo>
                    <a:lnTo>
                      <a:pt x="342" y="114"/>
                    </a:lnTo>
                    <a:lnTo>
                      <a:pt x="354" y="132"/>
                    </a:lnTo>
                    <a:lnTo>
                      <a:pt x="360" y="150"/>
                    </a:lnTo>
                    <a:lnTo>
                      <a:pt x="372" y="168"/>
                    </a:lnTo>
                    <a:lnTo>
                      <a:pt x="348" y="150"/>
                    </a:lnTo>
                    <a:lnTo>
                      <a:pt x="330" y="138"/>
                    </a:lnTo>
                    <a:lnTo>
                      <a:pt x="306" y="126"/>
                    </a:lnTo>
                    <a:lnTo>
                      <a:pt x="288" y="120"/>
                    </a:lnTo>
                    <a:lnTo>
                      <a:pt x="258" y="114"/>
                    </a:lnTo>
                    <a:lnTo>
                      <a:pt x="252" y="102"/>
                    </a:lnTo>
                    <a:lnTo>
                      <a:pt x="240" y="84"/>
                    </a:lnTo>
                    <a:lnTo>
                      <a:pt x="228" y="78"/>
                    </a:lnTo>
                    <a:lnTo>
                      <a:pt x="210" y="66"/>
                    </a:lnTo>
                    <a:lnTo>
                      <a:pt x="150" y="66"/>
                    </a:lnTo>
                    <a:lnTo>
                      <a:pt x="126" y="60"/>
                    </a:lnTo>
                    <a:lnTo>
                      <a:pt x="102" y="54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4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84" y="12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5240" y="3182040"/>
                <a:ext cx="418680" cy="1255680"/>
              </a:xfrm>
              <a:custGeom>
                <a:avLst/>
                <a:gdLst/>
                <a:ahLst/>
                <a:rect l="l" t="t" r="r" b="b"/>
                <a:pathLst>
                  <a:path w="222" h="618">
                    <a:moveTo>
                      <a:pt x="84" y="0"/>
                    </a:moveTo>
                    <a:lnTo>
                      <a:pt x="90" y="12"/>
                    </a:lnTo>
                    <a:lnTo>
                      <a:pt x="96" y="36"/>
                    </a:lnTo>
                    <a:lnTo>
                      <a:pt x="96" y="54"/>
                    </a:lnTo>
                    <a:lnTo>
                      <a:pt x="96" y="78"/>
                    </a:lnTo>
                    <a:lnTo>
                      <a:pt x="108" y="84"/>
                    </a:lnTo>
                    <a:lnTo>
                      <a:pt x="120" y="102"/>
                    </a:lnTo>
                    <a:lnTo>
                      <a:pt x="132" y="114"/>
                    </a:lnTo>
                    <a:lnTo>
                      <a:pt x="138" y="126"/>
                    </a:lnTo>
                    <a:lnTo>
                      <a:pt x="150" y="144"/>
                    </a:lnTo>
                    <a:lnTo>
                      <a:pt x="156" y="162"/>
                    </a:lnTo>
                    <a:lnTo>
                      <a:pt x="168" y="180"/>
                    </a:lnTo>
                    <a:lnTo>
                      <a:pt x="144" y="162"/>
                    </a:lnTo>
                    <a:lnTo>
                      <a:pt x="126" y="150"/>
                    </a:lnTo>
                    <a:lnTo>
                      <a:pt x="102" y="138"/>
                    </a:lnTo>
                    <a:lnTo>
                      <a:pt x="84" y="132"/>
                    </a:lnTo>
                    <a:lnTo>
                      <a:pt x="54" y="126"/>
                    </a:lnTo>
                    <a:lnTo>
                      <a:pt x="36" y="120"/>
                    </a:lnTo>
                    <a:lnTo>
                      <a:pt x="12" y="114"/>
                    </a:lnTo>
                    <a:lnTo>
                      <a:pt x="0" y="114"/>
                    </a:lnTo>
                    <a:lnTo>
                      <a:pt x="24" y="144"/>
                    </a:lnTo>
                    <a:lnTo>
                      <a:pt x="36" y="138"/>
                    </a:lnTo>
                    <a:lnTo>
                      <a:pt x="84" y="156"/>
                    </a:lnTo>
                    <a:lnTo>
                      <a:pt x="96" y="162"/>
                    </a:lnTo>
                    <a:lnTo>
                      <a:pt x="114" y="174"/>
                    </a:lnTo>
                    <a:lnTo>
                      <a:pt x="132" y="186"/>
                    </a:lnTo>
                    <a:lnTo>
                      <a:pt x="144" y="198"/>
                    </a:lnTo>
                    <a:lnTo>
                      <a:pt x="156" y="210"/>
                    </a:lnTo>
                    <a:lnTo>
                      <a:pt x="168" y="222"/>
                    </a:lnTo>
                    <a:lnTo>
                      <a:pt x="174" y="240"/>
                    </a:lnTo>
                    <a:lnTo>
                      <a:pt x="180" y="258"/>
                    </a:lnTo>
                    <a:lnTo>
                      <a:pt x="186" y="276"/>
                    </a:lnTo>
                    <a:lnTo>
                      <a:pt x="192" y="294"/>
                    </a:lnTo>
                    <a:lnTo>
                      <a:pt x="192" y="330"/>
                    </a:lnTo>
                    <a:lnTo>
                      <a:pt x="186" y="354"/>
                    </a:lnTo>
                    <a:lnTo>
                      <a:pt x="180" y="372"/>
                    </a:lnTo>
                    <a:lnTo>
                      <a:pt x="180" y="390"/>
                    </a:lnTo>
                    <a:lnTo>
                      <a:pt x="186" y="420"/>
                    </a:lnTo>
                    <a:lnTo>
                      <a:pt x="180" y="450"/>
                    </a:lnTo>
                    <a:lnTo>
                      <a:pt x="180" y="480"/>
                    </a:lnTo>
                    <a:lnTo>
                      <a:pt x="174" y="504"/>
                    </a:lnTo>
                    <a:lnTo>
                      <a:pt x="168" y="534"/>
                    </a:lnTo>
                    <a:lnTo>
                      <a:pt x="156" y="564"/>
                    </a:lnTo>
                    <a:lnTo>
                      <a:pt x="144" y="588"/>
                    </a:lnTo>
                    <a:lnTo>
                      <a:pt x="132" y="618"/>
                    </a:lnTo>
                    <a:lnTo>
                      <a:pt x="150" y="606"/>
                    </a:lnTo>
                    <a:lnTo>
                      <a:pt x="162" y="588"/>
                    </a:lnTo>
                    <a:lnTo>
                      <a:pt x="168" y="576"/>
                    </a:lnTo>
                    <a:lnTo>
                      <a:pt x="174" y="552"/>
                    </a:lnTo>
                    <a:lnTo>
                      <a:pt x="180" y="528"/>
                    </a:lnTo>
                    <a:lnTo>
                      <a:pt x="186" y="504"/>
                    </a:lnTo>
                    <a:lnTo>
                      <a:pt x="192" y="480"/>
                    </a:lnTo>
                    <a:lnTo>
                      <a:pt x="192" y="474"/>
                    </a:lnTo>
                    <a:lnTo>
                      <a:pt x="192" y="450"/>
                    </a:lnTo>
                    <a:lnTo>
                      <a:pt x="222" y="228"/>
                    </a:lnTo>
                    <a:lnTo>
                      <a:pt x="204" y="198"/>
                    </a:lnTo>
                    <a:lnTo>
                      <a:pt x="192" y="168"/>
                    </a:lnTo>
                    <a:lnTo>
                      <a:pt x="132" y="102"/>
                    </a:lnTo>
                    <a:lnTo>
                      <a:pt x="126" y="78"/>
                    </a:lnTo>
                    <a:lnTo>
                      <a:pt x="114" y="60"/>
                    </a:lnTo>
                    <a:lnTo>
                      <a:pt x="108" y="36"/>
                    </a:lnTo>
                    <a:lnTo>
                      <a:pt x="96" y="1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05400" y="3413160"/>
                <a:ext cx="702360" cy="1073160"/>
              </a:xfrm>
              <a:custGeom>
                <a:avLst/>
                <a:gdLst/>
                <a:ahLst/>
                <a:rect l="l" t="t" r="r" b="b"/>
                <a:pathLst>
                  <a:path w="372" h="528">
                    <a:moveTo>
                      <a:pt x="168" y="276"/>
                    </a:moveTo>
                    <a:lnTo>
                      <a:pt x="174" y="270"/>
                    </a:lnTo>
                    <a:lnTo>
                      <a:pt x="180" y="264"/>
                    </a:lnTo>
                    <a:lnTo>
                      <a:pt x="186" y="252"/>
                    </a:lnTo>
                    <a:lnTo>
                      <a:pt x="192" y="246"/>
                    </a:lnTo>
                    <a:lnTo>
                      <a:pt x="204" y="252"/>
                    </a:lnTo>
                    <a:lnTo>
                      <a:pt x="204" y="294"/>
                    </a:lnTo>
                    <a:lnTo>
                      <a:pt x="216" y="270"/>
                    </a:lnTo>
                    <a:lnTo>
                      <a:pt x="240" y="288"/>
                    </a:lnTo>
                    <a:lnTo>
                      <a:pt x="222" y="240"/>
                    </a:lnTo>
                    <a:lnTo>
                      <a:pt x="276" y="228"/>
                    </a:lnTo>
                    <a:lnTo>
                      <a:pt x="252" y="228"/>
                    </a:lnTo>
                    <a:lnTo>
                      <a:pt x="234" y="222"/>
                    </a:lnTo>
                    <a:lnTo>
                      <a:pt x="210" y="216"/>
                    </a:lnTo>
                    <a:lnTo>
                      <a:pt x="192" y="204"/>
                    </a:lnTo>
                    <a:lnTo>
                      <a:pt x="174" y="198"/>
                    </a:lnTo>
                    <a:lnTo>
                      <a:pt x="156" y="180"/>
                    </a:lnTo>
                    <a:lnTo>
                      <a:pt x="150" y="180"/>
                    </a:lnTo>
                    <a:lnTo>
                      <a:pt x="150" y="174"/>
                    </a:lnTo>
                    <a:lnTo>
                      <a:pt x="144" y="168"/>
                    </a:lnTo>
                    <a:lnTo>
                      <a:pt x="144" y="144"/>
                    </a:lnTo>
                    <a:lnTo>
                      <a:pt x="150" y="138"/>
                    </a:lnTo>
                    <a:lnTo>
                      <a:pt x="150" y="132"/>
                    </a:lnTo>
                    <a:lnTo>
                      <a:pt x="162" y="132"/>
                    </a:lnTo>
                    <a:lnTo>
                      <a:pt x="252" y="120"/>
                    </a:lnTo>
                    <a:lnTo>
                      <a:pt x="186" y="96"/>
                    </a:lnTo>
                    <a:lnTo>
                      <a:pt x="90" y="132"/>
                    </a:lnTo>
                    <a:lnTo>
                      <a:pt x="84" y="144"/>
                    </a:lnTo>
                    <a:lnTo>
                      <a:pt x="72" y="156"/>
                    </a:lnTo>
                    <a:lnTo>
                      <a:pt x="60" y="168"/>
                    </a:lnTo>
                    <a:lnTo>
                      <a:pt x="48" y="174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18" y="186"/>
                    </a:lnTo>
                    <a:lnTo>
                      <a:pt x="12" y="18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42" y="132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48" y="60"/>
                    </a:lnTo>
                    <a:lnTo>
                      <a:pt x="138" y="24"/>
                    </a:lnTo>
                    <a:lnTo>
                      <a:pt x="180" y="0"/>
                    </a:lnTo>
                    <a:lnTo>
                      <a:pt x="204" y="30"/>
                    </a:lnTo>
                    <a:lnTo>
                      <a:pt x="216" y="24"/>
                    </a:lnTo>
                    <a:lnTo>
                      <a:pt x="264" y="42"/>
                    </a:lnTo>
                    <a:lnTo>
                      <a:pt x="276" y="48"/>
                    </a:lnTo>
                    <a:lnTo>
                      <a:pt x="294" y="60"/>
                    </a:lnTo>
                    <a:lnTo>
                      <a:pt x="312" y="72"/>
                    </a:lnTo>
                    <a:lnTo>
                      <a:pt x="324" y="84"/>
                    </a:lnTo>
                    <a:lnTo>
                      <a:pt x="336" y="96"/>
                    </a:lnTo>
                    <a:lnTo>
                      <a:pt x="348" y="108"/>
                    </a:lnTo>
                    <a:lnTo>
                      <a:pt x="354" y="126"/>
                    </a:lnTo>
                    <a:lnTo>
                      <a:pt x="360" y="144"/>
                    </a:lnTo>
                    <a:lnTo>
                      <a:pt x="366" y="162"/>
                    </a:lnTo>
                    <a:lnTo>
                      <a:pt x="372" y="180"/>
                    </a:lnTo>
                    <a:lnTo>
                      <a:pt x="372" y="216"/>
                    </a:lnTo>
                    <a:lnTo>
                      <a:pt x="366" y="240"/>
                    </a:lnTo>
                    <a:lnTo>
                      <a:pt x="360" y="258"/>
                    </a:lnTo>
                    <a:lnTo>
                      <a:pt x="360" y="276"/>
                    </a:lnTo>
                    <a:lnTo>
                      <a:pt x="366" y="306"/>
                    </a:lnTo>
                    <a:lnTo>
                      <a:pt x="360" y="336"/>
                    </a:lnTo>
                    <a:lnTo>
                      <a:pt x="360" y="366"/>
                    </a:lnTo>
                    <a:lnTo>
                      <a:pt x="354" y="390"/>
                    </a:lnTo>
                    <a:lnTo>
                      <a:pt x="348" y="420"/>
                    </a:lnTo>
                    <a:lnTo>
                      <a:pt x="336" y="450"/>
                    </a:lnTo>
                    <a:lnTo>
                      <a:pt x="324" y="474"/>
                    </a:lnTo>
                    <a:lnTo>
                      <a:pt x="312" y="504"/>
                    </a:lnTo>
                    <a:lnTo>
                      <a:pt x="294" y="510"/>
                    </a:lnTo>
                    <a:lnTo>
                      <a:pt x="270" y="522"/>
                    </a:lnTo>
                    <a:lnTo>
                      <a:pt x="252" y="522"/>
                    </a:lnTo>
                    <a:lnTo>
                      <a:pt x="228" y="528"/>
                    </a:lnTo>
                    <a:lnTo>
                      <a:pt x="186" y="528"/>
                    </a:lnTo>
                    <a:lnTo>
                      <a:pt x="168" y="522"/>
                    </a:lnTo>
                    <a:lnTo>
                      <a:pt x="168" y="276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22560" y="4096080"/>
                <a:ext cx="667800" cy="951120"/>
              </a:xfrm>
              <a:custGeom>
                <a:avLst/>
                <a:gdLst/>
                <a:ahLst/>
                <a:rect l="l" t="t" r="r" b="b"/>
                <a:pathLst>
                  <a:path w="354" h="468">
                    <a:moveTo>
                      <a:pt x="0" y="264"/>
                    </a:moveTo>
                    <a:lnTo>
                      <a:pt x="12" y="288"/>
                    </a:lnTo>
                    <a:lnTo>
                      <a:pt x="18" y="312"/>
                    </a:lnTo>
                    <a:lnTo>
                      <a:pt x="24" y="318"/>
                    </a:lnTo>
                    <a:lnTo>
                      <a:pt x="36" y="336"/>
                    </a:lnTo>
                    <a:lnTo>
                      <a:pt x="48" y="348"/>
                    </a:lnTo>
                    <a:lnTo>
                      <a:pt x="54" y="360"/>
                    </a:lnTo>
                    <a:lnTo>
                      <a:pt x="84" y="396"/>
                    </a:lnTo>
                    <a:lnTo>
                      <a:pt x="102" y="420"/>
                    </a:lnTo>
                    <a:lnTo>
                      <a:pt x="126" y="444"/>
                    </a:lnTo>
                    <a:lnTo>
                      <a:pt x="150" y="462"/>
                    </a:lnTo>
                    <a:lnTo>
                      <a:pt x="162" y="468"/>
                    </a:lnTo>
                    <a:lnTo>
                      <a:pt x="354" y="468"/>
                    </a:lnTo>
                    <a:lnTo>
                      <a:pt x="354" y="180"/>
                    </a:lnTo>
                    <a:lnTo>
                      <a:pt x="318" y="138"/>
                    </a:lnTo>
                    <a:lnTo>
                      <a:pt x="318" y="144"/>
                    </a:lnTo>
                    <a:lnTo>
                      <a:pt x="324" y="162"/>
                    </a:lnTo>
                    <a:lnTo>
                      <a:pt x="330" y="180"/>
                    </a:lnTo>
                    <a:lnTo>
                      <a:pt x="324" y="204"/>
                    </a:lnTo>
                    <a:lnTo>
                      <a:pt x="324" y="222"/>
                    </a:lnTo>
                    <a:lnTo>
                      <a:pt x="318" y="240"/>
                    </a:lnTo>
                    <a:lnTo>
                      <a:pt x="318" y="258"/>
                    </a:lnTo>
                    <a:lnTo>
                      <a:pt x="318" y="240"/>
                    </a:lnTo>
                    <a:lnTo>
                      <a:pt x="312" y="216"/>
                    </a:lnTo>
                    <a:lnTo>
                      <a:pt x="312" y="192"/>
                    </a:lnTo>
                    <a:lnTo>
                      <a:pt x="306" y="174"/>
                    </a:lnTo>
                    <a:lnTo>
                      <a:pt x="300" y="162"/>
                    </a:lnTo>
                    <a:lnTo>
                      <a:pt x="294" y="156"/>
                    </a:lnTo>
                    <a:lnTo>
                      <a:pt x="294" y="150"/>
                    </a:lnTo>
                    <a:lnTo>
                      <a:pt x="288" y="144"/>
                    </a:lnTo>
                    <a:lnTo>
                      <a:pt x="282" y="144"/>
                    </a:lnTo>
                    <a:lnTo>
                      <a:pt x="276" y="138"/>
                    </a:lnTo>
                    <a:lnTo>
                      <a:pt x="270" y="144"/>
                    </a:lnTo>
                    <a:lnTo>
                      <a:pt x="264" y="144"/>
                    </a:lnTo>
                    <a:lnTo>
                      <a:pt x="258" y="150"/>
                    </a:lnTo>
                    <a:lnTo>
                      <a:pt x="252" y="162"/>
                    </a:lnTo>
                    <a:lnTo>
                      <a:pt x="246" y="174"/>
                    </a:lnTo>
                    <a:lnTo>
                      <a:pt x="246" y="192"/>
                    </a:lnTo>
                    <a:lnTo>
                      <a:pt x="240" y="186"/>
                    </a:lnTo>
                    <a:lnTo>
                      <a:pt x="234" y="180"/>
                    </a:lnTo>
                    <a:lnTo>
                      <a:pt x="222" y="180"/>
                    </a:lnTo>
                    <a:lnTo>
                      <a:pt x="222" y="186"/>
                    </a:lnTo>
                    <a:lnTo>
                      <a:pt x="210" y="186"/>
                    </a:lnTo>
                    <a:lnTo>
                      <a:pt x="198" y="198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86" y="228"/>
                    </a:lnTo>
                    <a:lnTo>
                      <a:pt x="186" y="240"/>
                    </a:lnTo>
                    <a:lnTo>
                      <a:pt x="180" y="228"/>
                    </a:lnTo>
                    <a:lnTo>
                      <a:pt x="174" y="222"/>
                    </a:lnTo>
                    <a:lnTo>
                      <a:pt x="174" y="210"/>
                    </a:lnTo>
                    <a:lnTo>
                      <a:pt x="174" y="186"/>
                    </a:lnTo>
                    <a:lnTo>
                      <a:pt x="180" y="174"/>
                    </a:lnTo>
                    <a:lnTo>
                      <a:pt x="186" y="162"/>
                    </a:lnTo>
                    <a:lnTo>
                      <a:pt x="192" y="144"/>
                    </a:lnTo>
                    <a:lnTo>
                      <a:pt x="198" y="126"/>
                    </a:lnTo>
                    <a:lnTo>
                      <a:pt x="204" y="114"/>
                    </a:lnTo>
                    <a:lnTo>
                      <a:pt x="210" y="96"/>
                    </a:lnTo>
                    <a:lnTo>
                      <a:pt x="210" y="84"/>
                    </a:lnTo>
                    <a:lnTo>
                      <a:pt x="216" y="66"/>
                    </a:lnTo>
                    <a:lnTo>
                      <a:pt x="216" y="54"/>
                    </a:lnTo>
                    <a:lnTo>
                      <a:pt x="210" y="36"/>
                    </a:lnTo>
                    <a:lnTo>
                      <a:pt x="204" y="24"/>
                    </a:lnTo>
                    <a:lnTo>
                      <a:pt x="204" y="0"/>
                    </a:lnTo>
                    <a:lnTo>
                      <a:pt x="204" y="24"/>
                    </a:lnTo>
                    <a:lnTo>
                      <a:pt x="204" y="30"/>
                    </a:lnTo>
                    <a:lnTo>
                      <a:pt x="198" y="54"/>
                    </a:lnTo>
                    <a:lnTo>
                      <a:pt x="192" y="78"/>
                    </a:lnTo>
                    <a:lnTo>
                      <a:pt x="186" y="102"/>
                    </a:lnTo>
                    <a:lnTo>
                      <a:pt x="180" y="126"/>
                    </a:lnTo>
                    <a:lnTo>
                      <a:pt x="174" y="138"/>
                    </a:lnTo>
                    <a:lnTo>
                      <a:pt x="162" y="156"/>
                    </a:lnTo>
                    <a:lnTo>
                      <a:pt x="144" y="168"/>
                    </a:lnTo>
                    <a:lnTo>
                      <a:pt x="126" y="174"/>
                    </a:lnTo>
                    <a:lnTo>
                      <a:pt x="102" y="186"/>
                    </a:lnTo>
                    <a:lnTo>
                      <a:pt x="84" y="186"/>
                    </a:lnTo>
                    <a:lnTo>
                      <a:pt x="60" y="192"/>
                    </a:lnTo>
                    <a:lnTo>
                      <a:pt x="18" y="192"/>
                    </a:lnTo>
                    <a:lnTo>
                      <a:pt x="0" y="186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50880" y="4096080"/>
                <a:ext cx="294120" cy="524160"/>
              </a:xfrm>
              <a:custGeom>
                <a:avLst/>
                <a:gdLst/>
                <a:ahLst/>
                <a:rect l="l" t="t" r="r" b="b"/>
                <a:pathLst>
                  <a:path w="156" h="258">
                    <a:moveTo>
                      <a:pt x="144" y="138"/>
                    </a:moveTo>
                    <a:lnTo>
                      <a:pt x="144" y="144"/>
                    </a:lnTo>
                    <a:lnTo>
                      <a:pt x="150" y="162"/>
                    </a:lnTo>
                    <a:lnTo>
                      <a:pt x="156" y="180"/>
                    </a:lnTo>
                    <a:lnTo>
                      <a:pt x="150" y="204"/>
                    </a:lnTo>
                    <a:lnTo>
                      <a:pt x="150" y="222"/>
                    </a:lnTo>
                    <a:lnTo>
                      <a:pt x="144" y="240"/>
                    </a:lnTo>
                    <a:lnTo>
                      <a:pt x="144" y="258"/>
                    </a:lnTo>
                    <a:lnTo>
                      <a:pt x="144" y="240"/>
                    </a:lnTo>
                    <a:lnTo>
                      <a:pt x="138" y="216"/>
                    </a:lnTo>
                    <a:lnTo>
                      <a:pt x="138" y="192"/>
                    </a:lnTo>
                    <a:lnTo>
                      <a:pt x="132" y="174"/>
                    </a:lnTo>
                    <a:lnTo>
                      <a:pt x="126" y="162"/>
                    </a:lnTo>
                    <a:lnTo>
                      <a:pt x="120" y="156"/>
                    </a:lnTo>
                    <a:lnTo>
                      <a:pt x="120" y="150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38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50"/>
                    </a:lnTo>
                    <a:lnTo>
                      <a:pt x="78" y="162"/>
                    </a:lnTo>
                    <a:lnTo>
                      <a:pt x="72" y="174"/>
                    </a:lnTo>
                    <a:lnTo>
                      <a:pt x="72" y="192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36" y="186"/>
                    </a:lnTo>
                    <a:lnTo>
                      <a:pt x="24" y="198"/>
                    </a:lnTo>
                    <a:lnTo>
                      <a:pt x="18" y="204"/>
                    </a:lnTo>
                    <a:lnTo>
                      <a:pt x="18" y="216"/>
                    </a:lnTo>
                    <a:lnTo>
                      <a:pt x="12" y="228"/>
                    </a:lnTo>
                    <a:lnTo>
                      <a:pt x="12" y="240"/>
                    </a:lnTo>
                    <a:lnTo>
                      <a:pt x="6" y="228"/>
                    </a:lnTo>
                    <a:lnTo>
                      <a:pt x="0" y="222"/>
                    </a:lnTo>
                    <a:lnTo>
                      <a:pt x="0" y="210"/>
                    </a:lnTo>
                    <a:lnTo>
                      <a:pt x="0" y="186"/>
                    </a:lnTo>
                    <a:lnTo>
                      <a:pt x="6" y="174"/>
                    </a:lnTo>
                    <a:lnTo>
                      <a:pt x="12" y="162"/>
                    </a:lnTo>
                    <a:lnTo>
                      <a:pt x="18" y="144"/>
                    </a:lnTo>
                    <a:lnTo>
                      <a:pt x="24" y="126"/>
                    </a:lnTo>
                    <a:lnTo>
                      <a:pt x="30" y="114"/>
                    </a:lnTo>
                    <a:lnTo>
                      <a:pt x="36" y="96"/>
                    </a:ln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144" y="13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41600" y="4547160"/>
                <a:ext cx="45360" cy="10944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24" y="30"/>
                    </a:moveTo>
                    <a:lnTo>
                      <a:pt x="24" y="1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47120" y="4803480"/>
                <a:ext cx="237960" cy="10944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0" y="0"/>
                    </a:move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17040" y="4376880"/>
                <a:ext cx="248760" cy="48744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132" y="240"/>
                    </a:moveTo>
                    <a:lnTo>
                      <a:pt x="114" y="228"/>
                    </a:lnTo>
                    <a:lnTo>
                      <a:pt x="96" y="216"/>
                    </a:lnTo>
                    <a:lnTo>
                      <a:pt x="78" y="198"/>
                    </a:lnTo>
                    <a:lnTo>
                      <a:pt x="60" y="180"/>
                    </a:lnTo>
                    <a:lnTo>
                      <a:pt x="48" y="162"/>
                    </a:lnTo>
                    <a:lnTo>
                      <a:pt x="30" y="144"/>
                    </a:lnTo>
                    <a:lnTo>
                      <a:pt x="18" y="120"/>
                    </a:lnTo>
                    <a:lnTo>
                      <a:pt x="6" y="102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281680" y="3108600"/>
              <a:ext cx="56160" cy="608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6" y="6"/>
                  </a:moveTo>
                  <a:lnTo>
                    <a:pt x="0" y="12"/>
                  </a:lnTo>
                  <a:lnTo>
                    <a:pt x="30" y="30"/>
                  </a:lnTo>
                  <a:lnTo>
                    <a:pt x="12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326680" y="3535200"/>
              <a:ext cx="11520" cy="4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72040" y="3474360"/>
              <a:ext cx="342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49360" y="3401280"/>
              <a:ext cx="146880" cy="1182600"/>
            </a:xfrm>
            <a:custGeom>
              <a:avLst/>
              <a:gdLst/>
              <a:ahLst/>
              <a:rect l="l" t="t" r="r" b="b"/>
              <a:pathLst>
                <a:path w="78" h="582">
                  <a:moveTo>
                    <a:pt x="0" y="102"/>
                  </a:moveTo>
                  <a:lnTo>
                    <a:pt x="12" y="102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60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8" y="18"/>
                  </a:lnTo>
                  <a:lnTo>
                    <a:pt x="48" y="582"/>
                  </a:lnTo>
                  <a:lnTo>
                    <a:pt x="12" y="228"/>
                  </a:lnTo>
                  <a:lnTo>
                    <a:pt x="6" y="1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800" y="1547640"/>
              <a:ext cx="3520440" cy="3499920"/>
            </a:xfrm>
            <a:custGeom>
              <a:avLst/>
              <a:gdLst/>
              <a:ahLst/>
              <a:rect l="l" t="t" r="r" b="b"/>
              <a:pathLst>
                <a:path w="1866" h="1722">
                  <a:moveTo>
                    <a:pt x="1866" y="6"/>
                  </a:moveTo>
                  <a:lnTo>
                    <a:pt x="1866" y="660"/>
                  </a:lnTo>
                  <a:lnTo>
                    <a:pt x="1854" y="744"/>
                  </a:lnTo>
                  <a:lnTo>
                    <a:pt x="1836" y="822"/>
                  </a:lnTo>
                  <a:lnTo>
                    <a:pt x="1830" y="822"/>
                  </a:lnTo>
                  <a:lnTo>
                    <a:pt x="1818" y="816"/>
                  </a:lnTo>
                  <a:lnTo>
                    <a:pt x="1812" y="816"/>
                  </a:lnTo>
                  <a:lnTo>
                    <a:pt x="1794" y="822"/>
                  </a:lnTo>
                  <a:lnTo>
                    <a:pt x="1806" y="708"/>
                  </a:lnTo>
                  <a:lnTo>
                    <a:pt x="1776" y="696"/>
                  </a:lnTo>
                  <a:lnTo>
                    <a:pt x="1752" y="696"/>
                  </a:lnTo>
                  <a:lnTo>
                    <a:pt x="1728" y="690"/>
                  </a:lnTo>
                  <a:lnTo>
                    <a:pt x="1704" y="684"/>
                  </a:lnTo>
                  <a:lnTo>
                    <a:pt x="1656" y="684"/>
                  </a:lnTo>
                  <a:lnTo>
                    <a:pt x="1632" y="690"/>
                  </a:lnTo>
                  <a:lnTo>
                    <a:pt x="1608" y="696"/>
                  </a:lnTo>
                  <a:lnTo>
                    <a:pt x="1590" y="702"/>
                  </a:lnTo>
                  <a:lnTo>
                    <a:pt x="1578" y="726"/>
                  </a:lnTo>
                  <a:lnTo>
                    <a:pt x="1566" y="750"/>
                  </a:lnTo>
                  <a:lnTo>
                    <a:pt x="1560" y="774"/>
                  </a:lnTo>
                  <a:lnTo>
                    <a:pt x="1554" y="804"/>
                  </a:lnTo>
                  <a:lnTo>
                    <a:pt x="1548" y="828"/>
                  </a:lnTo>
                  <a:lnTo>
                    <a:pt x="1542" y="852"/>
                  </a:lnTo>
                  <a:lnTo>
                    <a:pt x="1542" y="906"/>
                  </a:lnTo>
                  <a:lnTo>
                    <a:pt x="1548" y="930"/>
                  </a:lnTo>
                  <a:lnTo>
                    <a:pt x="1554" y="924"/>
                  </a:lnTo>
                  <a:lnTo>
                    <a:pt x="1566" y="918"/>
                  </a:lnTo>
                  <a:lnTo>
                    <a:pt x="1584" y="906"/>
                  </a:lnTo>
                  <a:lnTo>
                    <a:pt x="1602" y="900"/>
                  </a:lnTo>
                  <a:lnTo>
                    <a:pt x="1620" y="894"/>
                  </a:lnTo>
                  <a:lnTo>
                    <a:pt x="1626" y="900"/>
                  </a:lnTo>
                  <a:lnTo>
                    <a:pt x="1632" y="900"/>
                  </a:lnTo>
                  <a:lnTo>
                    <a:pt x="1644" y="906"/>
                  </a:lnTo>
                  <a:lnTo>
                    <a:pt x="1662" y="906"/>
                  </a:lnTo>
                  <a:lnTo>
                    <a:pt x="1686" y="906"/>
                  </a:lnTo>
                  <a:lnTo>
                    <a:pt x="1704" y="906"/>
                  </a:lnTo>
                  <a:lnTo>
                    <a:pt x="1722" y="900"/>
                  </a:lnTo>
                  <a:lnTo>
                    <a:pt x="1746" y="906"/>
                  </a:lnTo>
                  <a:lnTo>
                    <a:pt x="1764" y="906"/>
                  </a:lnTo>
                  <a:lnTo>
                    <a:pt x="1782" y="906"/>
                  </a:lnTo>
                  <a:lnTo>
                    <a:pt x="1794" y="906"/>
                  </a:lnTo>
                  <a:lnTo>
                    <a:pt x="1800" y="912"/>
                  </a:lnTo>
                  <a:lnTo>
                    <a:pt x="1806" y="918"/>
                  </a:lnTo>
                  <a:lnTo>
                    <a:pt x="1818" y="918"/>
                  </a:lnTo>
                  <a:lnTo>
                    <a:pt x="1812" y="918"/>
                  </a:lnTo>
                  <a:lnTo>
                    <a:pt x="1770" y="942"/>
                  </a:lnTo>
                  <a:lnTo>
                    <a:pt x="1746" y="936"/>
                  </a:lnTo>
                  <a:lnTo>
                    <a:pt x="1728" y="936"/>
                  </a:lnTo>
                  <a:lnTo>
                    <a:pt x="1710" y="942"/>
                  </a:lnTo>
                  <a:lnTo>
                    <a:pt x="1692" y="942"/>
                  </a:lnTo>
                  <a:lnTo>
                    <a:pt x="1674" y="954"/>
                  </a:lnTo>
                  <a:lnTo>
                    <a:pt x="1656" y="960"/>
                  </a:lnTo>
                  <a:lnTo>
                    <a:pt x="1638" y="972"/>
                  </a:lnTo>
                  <a:lnTo>
                    <a:pt x="1620" y="984"/>
                  </a:lnTo>
                  <a:lnTo>
                    <a:pt x="1608" y="996"/>
                  </a:lnTo>
                  <a:lnTo>
                    <a:pt x="1596" y="1014"/>
                  </a:lnTo>
                  <a:lnTo>
                    <a:pt x="1584" y="1026"/>
                  </a:lnTo>
                  <a:lnTo>
                    <a:pt x="1578" y="1038"/>
                  </a:lnTo>
                  <a:lnTo>
                    <a:pt x="1572" y="1050"/>
                  </a:lnTo>
                  <a:lnTo>
                    <a:pt x="1566" y="1068"/>
                  </a:lnTo>
                  <a:lnTo>
                    <a:pt x="1554" y="1080"/>
                  </a:lnTo>
                  <a:lnTo>
                    <a:pt x="1542" y="1092"/>
                  </a:lnTo>
                  <a:lnTo>
                    <a:pt x="1530" y="1104"/>
                  </a:lnTo>
                  <a:lnTo>
                    <a:pt x="1518" y="1110"/>
                  </a:lnTo>
                  <a:lnTo>
                    <a:pt x="1500" y="1122"/>
                  </a:lnTo>
                  <a:lnTo>
                    <a:pt x="1482" y="1122"/>
                  </a:lnTo>
                  <a:lnTo>
                    <a:pt x="1476" y="1128"/>
                  </a:lnTo>
                  <a:lnTo>
                    <a:pt x="1458" y="1128"/>
                  </a:lnTo>
                  <a:lnTo>
                    <a:pt x="1446" y="1122"/>
                  </a:lnTo>
                  <a:lnTo>
                    <a:pt x="1422" y="1122"/>
                  </a:lnTo>
                  <a:lnTo>
                    <a:pt x="1374" y="1122"/>
                  </a:lnTo>
                  <a:lnTo>
                    <a:pt x="1350" y="1122"/>
                  </a:lnTo>
                  <a:lnTo>
                    <a:pt x="1338" y="1122"/>
                  </a:lnTo>
                  <a:lnTo>
                    <a:pt x="1356" y="1134"/>
                  </a:lnTo>
                  <a:lnTo>
                    <a:pt x="1380" y="1146"/>
                  </a:lnTo>
                  <a:lnTo>
                    <a:pt x="1398" y="1158"/>
                  </a:lnTo>
                  <a:lnTo>
                    <a:pt x="1416" y="1170"/>
                  </a:lnTo>
                  <a:lnTo>
                    <a:pt x="1434" y="1188"/>
                  </a:lnTo>
                  <a:lnTo>
                    <a:pt x="1446" y="1206"/>
                  </a:lnTo>
                  <a:lnTo>
                    <a:pt x="1458" y="1224"/>
                  </a:lnTo>
                  <a:lnTo>
                    <a:pt x="1470" y="1236"/>
                  </a:lnTo>
                  <a:lnTo>
                    <a:pt x="1476" y="1254"/>
                  </a:lnTo>
                  <a:lnTo>
                    <a:pt x="1476" y="1266"/>
                  </a:lnTo>
                  <a:lnTo>
                    <a:pt x="1482" y="1284"/>
                  </a:lnTo>
                  <a:lnTo>
                    <a:pt x="1482" y="1302"/>
                  </a:lnTo>
                  <a:lnTo>
                    <a:pt x="1482" y="1314"/>
                  </a:lnTo>
                  <a:lnTo>
                    <a:pt x="1512" y="1278"/>
                  </a:lnTo>
                  <a:lnTo>
                    <a:pt x="1650" y="1116"/>
                  </a:lnTo>
                  <a:lnTo>
                    <a:pt x="1662" y="1116"/>
                  </a:lnTo>
                  <a:lnTo>
                    <a:pt x="1668" y="1116"/>
                  </a:lnTo>
                  <a:lnTo>
                    <a:pt x="1674" y="1116"/>
                  </a:lnTo>
                  <a:lnTo>
                    <a:pt x="1692" y="1110"/>
                  </a:lnTo>
                  <a:lnTo>
                    <a:pt x="1704" y="1098"/>
                  </a:lnTo>
                  <a:lnTo>
                    <a:pt x="1716" y="1092"/>
                  </a:lnTo>
                  <a:lnTo>
                    <a:pt x="1722" y="1080"/>
                  </a:lnTo>
                  <a:lnTo>
                    <a:pt x="1734" y="1068"/>
                  </a:lnTo>
                  <a:lnTo>
                    <a:pt x="1734" y="1062"/>
                  </a:lnTo>
                  <a:lnTo>
                    <a:pt x="1794" y="1050"/>
                  </a:lnTo>
                  <a:lnTo>
                    <a:pt x="1782" y="1050"/>
                  </a:lnTo>
                  <a:lnTo>
                    <a:pt x="1782" y="1056"/>
                  </a:lnTo>
                  <a:lnTo>
                    <a:pt x="1776" y="1062"/>
                  </a:lnTo>
                  <a:lnTo>
                    <a:pt x="1776" y="1074"/>
                  </a:lnTo>
                  <a:lnTo>
                    <a:pt x="1746" y="1188"/>
                  </a:lnTo>
                  <a:lnTo>
                    <a:pt x="1758" y="1200"/>
                  </a:lnTo>
                  <a:lnTo>
                    <a:pt x="1776" y="1200"/>
                  </a:lnTo>
                  <a:lnTo>
                    <a:pt x="1782" y="1200"/>
                  </a:lnTo>
                  <a:lnTo>
                    <a:pt x="1794" y="1194"/>
                  </a:lnTo>
                  <a:lnTo>
                    <a:pt x="1800" y="1194"/>
                  </a:lnTo>
                  <a:lnTo>
                    <a:pt x="1800" y="1722"/>
                  </a:lnTo>
                  <a:lnTo>
                    <a:pt x="66" y="1722"/>
                  </a:lnTo>
                  <a:lnTo>
                    <a:pt x="78" y="1380"/>
                  </a:lnTo>
                  <a:lnTo>
                    <a:pt x="54" y="1074"/>
                  </a:lnTo>
                  <a:lnTo>
                    <a:pt x="12" y="924"/>
                  </a:lnTo>
                  <a:lnTo>
                    <a:pt x="48" y="972"/>
                  </a:lnTo>
                  <a:lnTo>
                    <a:pt x="0" y="24"/>
                  </a:lnTo>
                  <a:lnTo>
                    <a:pt x="138" y="12"/>
                  </a:lnTo>
                  <a:lnTo>
                    <a:pt x="282" y="12"/>
                  </a:lnTo>
                  <a:lnTo>
                    <a:pt x="426" y="12"/>
                  </a:lnTo>
                  <a:lnTo>
                    <a:pt x="570" y="24"/>
                  </a:lnTo>
                  <a:lnTo>
                    <a:pt x="630" y="18"/>
                  </a:lnTo>
                  <a:lnTo>
                    <a:pt x="792" y="12"/>
                  </a:lnTo>
                  <a:lnTo>
                    <a:pt x="948" y="12"/>
                  </a:lnTo>
                  <a:lnTo>
                    <a:pt x="1104" y="18"/>
                  </a:lnTo>
                  <a:lnTo>
                    <a:pt x="1260" y="30"/>
                  </a:lnTo>
                  <a:lnTo>
                    <a:pt x="1326" y="24"/>
                  </a:lnTo>
                  <a:lnTo>
                    <a:pt x="1506" y="12"/>
                  </a:lnTo>
                  <a:lnTo>
                    <a:pt x="1686" y="0"/>
                  </a:lnTo>
                  <a:lnTo>
                    <a:pt x="1866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95080" y="3059640"/>
              <a:ext cx="135360" cy="28044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0" y="78"/>
                  </a:moveTo>
                  <a:lnTo>
                    <a:pt x="12" y="84"/>
                  </a:lnTo>
                  <a:lnTo>
                    <a:pt x="24" y="96"/>
                  </a:lnTo>
                  <a:lnTo>
                    <a:pt x="48" y="114"/>
                  </a:lnTo>
                  <a:lnTo>
                    <a:pt x="66" y="126"/>
                  </a:lnTo>
                  <a:lnTo>
                    <a:pt x="72" y="138"/>
                  </a:lnTo>
                  <a:lnTo>
                    <a:pt x="72" y="114"/>
                  </a:lnTo>
                  <a:lnTo>
                    <a:pt x="72" y="96"/>
                  </a:lnTo>
                  <a:lnTo>
                    <a:pt x="66" y="72"/>
                  </a:lnTo>
                  <a:lnTo>
                    <a:pt x="60" y="60"/>
                  </a:lnTo>
                  <a:lnTo>
                    <a:pt x="54" y="60"/>
                  </a:lnTo>
                  <a:lnTo>
                    <a:pt x="48" y="36"/>
                  </a:lnTo>
                  <a:lnTo>
                    <a:pt x="36" y="24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64880" y="3315960"/>
              <a:ext cx="486360" cy="121680"/>
            </a:xfrm>
            <a:custGeom>
              <a:avLst/>
              <a:gdLst/>
              <a:ahLst/>
              <a:rect l="l" t="t" r="r" b="b"/>
              <a:pathLst>
                <a:path w="258" h="60">
                  <a:moveTo>
                    <a:pt x="258" y="60"/>
                  </a:moveTo>
                  <a:lnTo>
                    <a:pt x="252" y="48"/>
                  </a:lnTo>
                  <a:lnTo>
                    <a:pt x="240" y="30"/>
                  </a:lnTo>
                  <a:lnTo>
                    <a:pt x="228" y="24"/>
                  </a:lnTo>
                  <a:lnTo>
                    <a:pt x="210" y="12"/>
                  </a:lnTo>
                  <a:lnTo>
                    <a:pt x="150" y="12"/>
                  </a:lnTo>
                  <a:lnTo>
                    <a:pt x="126" y="6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6"/>
                  </a:lnTo>
                  <a:lnTo>
                    <a:pt x="54" y="36"/>
                  </a:lnTo>
                  <a:lnTo>
                    <a:pt x="78" y="36"/>
                  </a:lnTo>
                  <a:lnTo>
                    <a:pt x="96" y="36"/>
                  </a:lnTo>
                  <a:lnTo>
                    <a:pt x="114" y="30"/>
                  </a:lnTo>
                  <a:lnTo>
                    <a:pt x="138" y="36"/>
                  </a:lnTo>
                  <a:lnTo>
                    <a:pt x="156" y="36"/>
                  </a:lnTo>
                  <a:lnTo>
                    <a:pt x="174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40" y="54"/>
                  </a:lnTo>
                  <a:lnTo>
                    <a:pt x="25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76040" y="3559680"/>
              <a:ext cx="135360" cy="21924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60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42"/>
                  </a:lnTo>
                  <a:lnTo>
                    <a:pt x="72" y="48"/>
                  </a:lnTo>
                  <a:lnTo>
                    <a:pt x="60" y="60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2" y="60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09880" y="3608640"/>
              <a:ext cx="475560" cy="206640"/>
            </a:xfrm>
            <a:custGeom>
              <a:avLst/>
              <a:gdLst/>
              <a:ahLst/>
              <a:rect l="l" t="t" r="r" b="b"/>
              <a:pathLst>
                <a:path w="252" h="102">
                  <a:moveTo>
                    <a:pt x="0" y="96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72" y="60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186" y="0"/>
                  </a:lnTo>
                  <a:lnTo>
                    <a:pt x="252" y="24"/>
                  </a:lnTo>
                  <a:lnTo>
                    <a:pt x="162" y="36"/>
                  </a:lnTo>
                  <a:lnTo>
                    <a:pt x="102" y="48"/>
                  </a:lnTo>
                  <a:lnTo>
                    <a:pt x="102" y="54"/>
                  </a:lnTo>
                  <a:lnTo>
                    <a:pt x="90" y="66"/>
                  </a:lnTo>
                  <a:lnTo>
                    <a:pt x="84" y="78"/>
                  </a:lnTo>
                  <a:lnTo>
                    <a:pt x="72" y="84"/>
                  </a:lnTo>
                  <a:lnTo>
                    <a:pt x="60" y="96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25160" y="3730320"/>
              <a:ext cx="146880" cy="25596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30" y="0"/>
                  </a:moveTo>
                  <a:lnTo>
                    <a:pt x="30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60" y="42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66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96"/>
                  </a:lnTo>
                  <a:lnTo>
                    <a:pt x="54" y="102"/>
                  </a:lnTo>
                  <a:lnTo>
                    <a:pt x="48" y="114"/>
                  </a:lnTo>
                  <a:lnTo>
                    <a:pt x="36" y="126"/>
                  </a:lnTo>
                  <a:lnTo>
                    <a:pt x="30" y="126"/>
                  </a:lnTo>
                  <a:lnTo>
                    <a:pt x="12" y="126"/>
                  </a:lnTo>
                  <a:lnTo>
                    <a:pt x="0" y="1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93200" y="3828240"/>
              <a:ext cx="237240" cy="18288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12" y="72"/>
                  </a:moveTo>
                  <a:lnTo>
                    <a:pt x="0" y="78"/>
                  </a:lnTo>
                  <a:lnTo>
                    <a:pt x="12" y="66"/>
                  </a:ln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60" y="12"/>
                  </a:lnTo>
                  <a:lnTo>
                    <a:pt x="84" y="18"/>
                  </a:lnTo>
                  <a:lnTo>
                    <a:pt x="102" y="24"/>
                  </a:lnTo>
                  <a:lnTo>
                    <a:pt x="126" y="24"/>
                  </a:lnTo>
                  <a:lnTo>
                    <a:pt x="72" y="36"/>
                  </a:lnTo>
                  <a:lnTo>
                    <a:pt x="90" y="84"/>
                  </a:lnTo>
                  <a:lnTo>
                    <a:pt x="66" y="66"/>
                  </a:lnTo>
                  <a:lnTo>
                    <a:pt x="54" y="90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8920" y="4828320"/>
              <a:ext cx="203760" cy="21924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72" y="108"/>
                  </a:moveTo>
                  <a:lnTo>
                    <a:pt x="66" y="102"/>
                  </a:lnTo>
                  <a:lnTo>
                    <a:pt x="48" y="84"/>
                  </a:lnTo>
                  <a:lnTo>
                    <a:pt x="30" y="60"/>
                  </a:lnTo>
                  <a:lnTo>
                    <a:pt x="18" y="42"/>
                  </a:lnTo>
                  <a:lnTo>
                    <a:pt x="6" y="18"/>
                  </a:lnTo>
                  <a:lnTo>
                    <a:pt x="0" y="0"/>
                  </a:lnTo>
                  <a:lnTo>
                    <a:pt x="30" y="36"/>
                  </a:lnTo>
                  <a:lnTo>
                    <a:pt x="48" y="60"/>
                  </a:lnTo>
                  <a:lnTo>
                    <a:pt x="72" y="84"/>
                  </a:lnTo>
                  <a:lnTo>
                    <a:pt x="96" y="102"/>
                  </a:lnTo>
                  <a:lnTo>
                    <a:pt x="108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17760" y="4803840"/>
              <a:ext cx="146880" cy="24372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30" y="120"/>
                  </a:moveTo>
                  <a:lnTo>
                    <a:pt x="24" y="114"/>
                  </a:lnTo>
                  <a:lnTo>
                    <a:pt x="18" y="84"/>
                  </a:lnTo>
                  <a:lnTo>
                    <a:pt x="6" y="60"/>
                  </a:lnTo>
                  <a:lnTo>
                    <a:pt x="0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30"/>
                  </a:lnTo>
                  <a:lnTo>
                    <a:pt x="24" y="54"/>
                  </a:lnTo>
                  <a:lnTo>
                    <a:pt x="36" y="72"/>
                  </a:lnTo>
                  <a:lnTo>
                    <a:pt x="54" y="96"/>
                  </a:lnTo>
                  <a:lnTo>
                    <a:pt x="72" y="114"/>
                  </a:lnTo>
                  <a:lnTo>
                    <a:pt x="78" y="120"/>
                  </a:lnTo>
                  <a:lnTo>
                    <a:pt x="3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61240" y="4730760"/>
              <a:ext cx="112680" cy="316800"/>
            </a:xfrm>
            <a:custGeom>
              <a:avLst/>
              <a:gdLst/>
              <a:ahLst/>
              <a:rect l="l" t="t" r="r" b="b"/>
              <a:pathLst>
                <a:path w="60" h="156">
                  <a:moveTo>
                    <a:pt x="60" y="156"/>
                  </a:moveTo>
                  <a:lnTo>
                    <a:pt x="54" y="150"/>
                  </a:lnTo>
                  <a:lnTo>
                    <a:pt x="48" y="120"/>
                  </a:lnTo>
                  <a:lnTo>
                    <a:pt x="36" y="96"/>
                  </a:lnTo>
                  <a:lnTo>
                    <a:pt x="30" y="7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18" y="24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42"/>
                  </a:lnTo>
                  <a:lnTo>
                    <a:pt x="6" y="66"/>
                  </a:lnTo>
                  <a:lnTo>
                    <a:pt x="6" y="90"/>
                  </a:lnTo>
                  <a:lnTo>
                    <a:pt x="12" y="108"/>
                  </a:lnTo>
                  <a:lnTo>
                    <a:pt x="24" y="132"/>
                  </a:lnTo>
                  <a:lnTo>
                    <a:pt x="30" y="156"/>
                  </a:lnTo>
                  <a:lnTo>
                    <a:pt x="36" y="156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66520" y="2084040"/>
              <a:ext cx="3271680" cy="61200"/>
            </a:xfrm>
            <a:custGeom>
              <a:avLst/>
              <a:gdLst/>
              <a:ahLst/>
              <a:rect l="l" t="t" r="r" b="b"/>
              <a:pathLst>
                <a:path w="1734" h="30">
                  <a:moveTo>
                    <a:pt x="0" y="6"/>
                  </a:moveTo>
                  <a:lnTo>
                    <a:pt x="558" y="0"/>
                  </a:lnTo>
                  <a:lnTo>
                    <a:pt x="618" y="0"/>
                  </a:lnTo>
                  <a:lnTo>
                    <a:pt x="672" y="6"/>
                  </a:lnTo>
                  <a:lnTo>
                    <a:pt x="732" y="12"/>
                  </a:lnTo>
                  <a:lnTo>
                    <a:pt x="792" y="24"/>
                  </a:lnTo>
                  <a:lnTo>
                    <a:pt x="852" y="24"/>
                  </a:lnTo>
                  <a:lnTo>
                    <a:pt x="906" y="30"/>
                  </a:lnTo>
                  <a:lnTo>
                    <a:pt x="966" y="24"/>
                  </a:lnTo>
                  <a:lnTo>
                    <a:pt x="1026" y="24"/>
                  </a:lnTo>
                  <a:lnTo>
                    <a:pt x="1086" y="12"/>
                  </a:lnTo>
                  <a:lnTo>
                    <a:pt x="1098" y="12"/>
                  </a:lnTo>
                  <a:lnTo>
                    <a:pt x="1140" y="6"/>
                  </a:lnTo>
                  <a:lnTo>
                    <a:pt x="1182" y="0"/>
                  </a:lnTo>
                  <a:lnTo>
                    <a:pt x="1230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8" y="6"/>
                  </a:lnTo>
                  <a:lnTo>
                    <a:pt x="1506" y="12"/>
                  </a:lnTo>
                  <a:lnTo>
                    <a:pt x="1734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66520" y="2169720"/>
              <a:ext cx="3271680" cy="60840"/>
            </a:xfrm>
            <a:custGeom>
              <a:avLst/>
              <a:gdLst/>
              <a:ahLst/>
              <a:rect l="l" t="t" r="r" b="b"/>
              <a:pathLst>
                <a:path w="1734" h="30">
                  <a:moveTo>
                    <a:pt x="0" y="6"/>
                  </a:moveTo>
                  <a:lnTo>
                    <a:pt x="558" y="0"/>
                  </a:lnTo>
                  <a:lnTo>
                    <a:pt x="618" y="6"/>
                  </a:lnTo>
                  <a:lnTo>
                    <a:pt x="672" y="6"/>
                  </a:lnTo>
                  <a:lnTo>
                    <a:pt x="732" y="12"/>
                  </a:lnTo>
                  <a:lnTo>
                    <a:pt x="792" y="24"/>
                  </a:lnTo>
                  <a:lnTo>
                    <a:pt x="852" y="30"/>
                  </a:lnTo>
                  <a:lnTo>
                    <a:pt x="906" y="30"/>
                  </a:lnTo>
                  <a:lnTo>
                    <a:pt x="966" y="30"/>
                  </a:lnTo>
                  <a:lnTo>
                    <a:pt x="1026" y="18"/>
                  </a:lnTo>
                  <a:lnTo>
                    <a:pt x="1086" y="12"/>
                  </a:lnTo>
                  <a:lnTo>
                    <a:pt x="1098" y="12"/>
                  </a:lnTo>
                  <a:lnTo>
                    <a:pt x="1140" y="6"/>
                  </a:lnTo>
                  <a:lnTo>
                    <a:pt x="1182" y="6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6" y="0"/>
                  </a:lnTo>
                  <a:lnTo>
                    <a:pt x="1368" y="0"/>
                  </a:lnTo>
                  <a:lnTo>
                    <a:pt x="1416" y="6"/>
                  </a:lnTo>
                  <a:lnTo>
                    <a:pt x="1458" y="6"/>
                  </a:lnTo>
                  <a:lnTo>
                    <a:pt x="1506" y="12"/>
                  </a:lnTo>
                  <a:lnTo>
                    <a:pt x="1734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78040" y="2328120"/>
              <a:ext cx="3260160" cy="60840"/>
            </a:xfrm>
            <a:custGeom>
              <a:avLst/>
              <a:gdLst/>
              <a:ahLst/>
              <a:rect l="l" t="t" r="r" b="b"/>
              <a:pathLst>
                <a:path w="1728" h="30">
                  <a:moveTo>
                    <a:pt x="0" y="12"/>
                  </a:moveTo>
                  <a:lnTo>
                    <a:pt x="264" y="6"/>
                  </a:lnTo>
                  <a:lnTo>
                    <a:pt x="564" y="0"/>
                  </a:lnTo>
                  <a:lnTo>
                    <a:pt x="612" y="6"/>
                  </a:lnTo>
                  <a:lnTo>
                    <a:pt x="666" y="6"/>
                  </a:lnTo>
                  <a:lnTo>
                    <a:pt x="726" y="12"/>
                  </a:lnTo>
                  <a:lnTo>
                    <a:pt x="786" y="24"/>
                  </a:lnTo>
                  <a:lnTo>
                    <a:pt x="846" y="30"/>
                  </a:lnTo>
                  <a:lnTo>
                    <a:pt x="864" y="30"/>
                  </a:lnTo>
                  <a:lnTo>
                    <a:pt x="900" y="30"/>
                  </a:lnTo>
                  <a:lnTo>
                    <a:pt x="960" y="24"/>
                  </a:lnTo>
                  <a:lnTo>
                    <a:pt x="1020" y="24"/>
                  </a:lnTo>
                  <a:lnTo>
                    <a:pt x="1086" y="12"/>
                  </a:lnTo>
                  <a:lnTo>
                    <a:pt x="1140" y="12"/>
                  </a:lnTo>
                  <a:lnTo>
                    <a:pt x="1176" y="6"/>
                  </a:lnTo>
                  <a:lnTo>
                    <a:pt x="1224" y="0"/>
                  </a:lnTo>
                  <a:lnTo>
                    <a:pt x="1272" y="0"/>
                  </a:lnTo>
                  <a:lnTo>
                    <a:pt x="1314" y="0"/>
                  </a:lnTo>
                  <a:lnTo>
                    <a:pt x="1362" y="0"/>
                  </a:lnTo>
                  <a:lnTo>
                    <a:pt x="1404" y="6"/>
                  </a:lnTo>
                  <a:lnTo>
                    <a:pt x="1428" y="6"/>
                  </a:lnTo>
                  <a:lnTo>
                    <a:pt x="1452" y="12"/>
                  </a:lnTo>
                  <a:lnTo>
                    <a:pt x="1500" y="12"/>
                  </a:lnTo>
                  <a:lnTo>
                    <a:pt x="1728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78040" y="2352240"/>
              <a:ext cx="90000" cy="2695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75920" y="2340360"/>
              <a:ext cx="1440" cy="270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42200" y="2328120"/>
              <a:ext cx="1440" cy="271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08120" y="2388960"/>
              <a:ext cx="1440" cy="2658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9040" y="2352240"/>
              <a:ext cx="45000" cy="2695320"/>
            </a:xfrm>
            <a:custGeom>
              <a:avLst/>
              <a:gdLst/>
              <a:ahLst/>
              <a:rect l="l" t="t" r="r" b="b"/>
              <a:pathLst>
                <a:path w="24" h="1326">
                  <a:moveTo>
                    <a:pt x="0" y="0"/>
                  </a:moveTo>
                  <a:lnTo>
                    <a:pt x="6" y="384"/>
                  </a:lnTo>
                  <a:lnTo>
                    <a:pt x="12" y="582"/>
                  </a:lnTo>
                  <a:lnTo>
                    <a:pt x="24" y="774"/>
                  </a:lnTo>
                  <a:lnTo>
                    <a:pt x="12" y="912"/>
                  </a:lnTo>
                  <a:lnTo>
                    <a:pt x="6" y="1050"/>
                  </a:lnTo>
                  <a:lnTo>
                    <a:pt x="0" y="132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60760" y="2340360"/>
              <a:ext cx="78840" cy="2707200"/>
            </a:xfrm>
            <a:custGeom>
              <a:avLst/>
              <a:gdLst/>
              <a:ahLst/>
              <a:rect l="l" t="t" r="r" b="b"/>
              <a:pathLst>
                <a:path w="42" h="1332">
                  <a:moveTo>
                    <a:pt x="6" y="0"/>
                  </a:moveTo>
                  <a:lnTo>
                    <a:pt x="6" y="474"/>
                  </a:lnTo>
                  <a:lnTo>
                    <a:pt x="12" y="528"/>
                  </a:lnTo>
                  <a:lnTo>
                    <a:pt x="18" y="582"/>
                  </a:lnTo>
                  <a:lnTo>
                    <a:pt x="30" y="636"/>
                  </a:lnTo>
                  <a:lnTo>
                    <a:pt x="42" y="690"/>
                  </a:lnTo>
                  <a:lnTo>
                    <a:pt x="42" y="702"/>
                  </a:lnTo>
                  <a:lnTo>
                    <a:pt x="12" y="888"/>
                  </a:lnTo>
                  <a:lnTo>
                    <a:pt x="0" y="948"/>
                  </a:lnTo>
                  <a:lnTo>
                    <a:pt x="6" y="990"/>
                  </a:lnTo>
                  <a:lnTo>
                    <a:pt x="12" y="1032"/>
                  </a:lnTo>
                  <a:lnTo>
                    <a:pt x="18" y="1074"/>
                  </a:lnTo>
                  <a:lnTo>
                    <a:pt x="18" y="1116"/>
                  </a:lnTo>
                  <a:lnTo>
                    <a:pt x="24" y="1158"/>
                  </a:lnTo>
                  <a:lnTo>
                    <a:pt x="24" y="1200"/>
                  </a:lnTo>
                  <a:lnTo>
                    <a:pt x="18" y="1248"/>
                  </a:lnTo>
                  <a:lnTo>
                    <a:pt x="18" y="1290"/>
                  </a:lnTo>
                  <a:lnTo>
                    <a:pt x="12" y="133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38560" y="2376720"/>
              <a:ext cx="1440" cy="609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02480" y="3986640"/>
              <a:ext cx="45000" cy="1060920"/>
            </a:xfrm>
            <a:custGeom>
              <a:avLst/>
              <a:gdLst/>
              <a:ahLst/>
              <a:rect l="l" t="t" r="r" b="b"/>
              <a:pathLst>
                <a:path w="24" h="522">
                  <a:moveTo>
                    <a:pt x="6" y="522"/>
                  </a:moveTo>
                  <a:lnTo>
                    <a:pt x="0" y="342"/>
                  </a:lnTo>
                  <a:lnTo>
                    <a:pt x="0" y="252"/>
                  </a:lnTo>
                  <a:lnTo>
                    <a:pt x="0" y="204"/>
                  </a:lnTo>
                  <a:lnTo>
                    <a:pt x="0" y="150"/>
                  </a:lnTo>
                  <a:lnTo>
                    <a:pt x="12" y="102"/>
                  </a:lnTo>
                  <a:lnTo>
                    <a:pt x="12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93200" y="1553400"/>
              <a:ext cx="17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Glo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654200" y="2295360"/>
            <a:ext cx="4863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that you read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92680" y="3067200"/>
            <a:ext cx="4479840" cy="2226960"/>
          </a:xfrm>
          <a:prstGeom prst="rect">
            <a:avLst/>
          </a:prstGeom>
          <a:gradFill rotWithShape="0">
            <a:gsLst>
              <a:gs pos="0">
                <a:srgbClr val="f7f5a1"/>
              </a:gs>
              <a:gs pos="50000">
                <a:srgbClr val="fefefe"/>
              </a:gs>
              <a:gs pos="100000">
                <a:srgbClr val="f7f5a1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verage selling price of a family home in              York Region is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200 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/-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$15000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95% conf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72160" y="5753160"/>
            <a:ext cx="4060800" cy="642600"/>
          </a:xfrm>
          <a:prstGeom prst="rect">
            <a:avLst/>
          </a:prstGeom>
          <a:gradFill rotWithShape="0">
            <a:gsLst>
              <a:gs pos="0">
                <a:srgbClr val="2e7373"/>
              </a:gs>
              <a:gs pos="50000">
                <a:srgbClr val="66ffff"/>
              </a:gs>
              <a:gs pos="100000">
                <a:srgbClr val="2e7373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s means…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941480" y="152280"/>
            <a:ext cx="518148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pre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86360" y="1428840"/>
            <a:ext cx="49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statistical terms, this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02040" y="1938240"/>
            <a:ext cx="51562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we ar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95%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sure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terval estim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btai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tains the value of the populatio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385776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fidence limit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185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6360" y="4857840"/>
            <a:ext cx="48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pe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dence limit is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215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0" y="1611360"/>
            <a:ext cx="4114440" cy="4395600"/>
            <a:chOff x="0" y="1611360"/>
            <a:chExt cx="4114440" cy="4395600"/>
          </a:xfrm>
        </p:grpSpPr>
        <p:sp>
          <p:nvSpPr>
            <p:cNvPr id="253" name=""/>
            <p:cNvSpPr/>
            <p:nvPr/>
          </p:nvSpPr>
          <p:spPr>
            <a:xfrm>
              <a:off x="3770280" y="5559480"/>
              <a:ext cx="193680" cy="2635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72" y="108"/>
                  </a:moveTo>
                  <a:lnTo>
                    <a:pt x="66" y="102"/>
                  </a:lnTo>
                  <a:lnTo>
                    <a:pt x="48" y="84"/>
                  </a:lnTo>
                  <a:lnTo>
                    <a:pt x="30" y="60"/>
                  </a:lnTo>
                  <a:lnTo>
                    <a:pt x="18" y="42"/>
                  </a:lnTo>
                  <a:lnTo>
                    <a:pt x="6" y="18"/>
                  </a:lnTo>
                  <a:lnTo>
                    <a:pt x="0" y="0"/>
                  </a:lnTo>
                  <a:lnTo>
                    <a:pt x="30" y="36"/>
                  </a:lnTo>
                  <a:lnTo>
                    <a:pt x="48" y="60"/>
                  </a:lnTo>
                  <a:lnTo>
                    <a:pt x="72" y="84"/>
                  </a:lnTo>
                  <a:lnTo>
                    <a:pt x="96" y="102"/>
                  </a:lnTo>
                  <a:lnTo>
                    <a:pt x="108" y="108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0" y="1611360"/>
              <a:ext cx="3898800" cy="4395600"/>
              <a:chOff x="0" y="1611360"/>
              <a:chExt cx="3898800" cy="4395600"/>
            </a:xfrm>
          </p:grpSpPr>
          <p:sp>
            <p:nvSpPr>
              <p:cNvPr id="255" name=""/>
              <p:cNvSpPr/>
              <p:nvPr/>
            </p:nvSpPr>
            <p:spPr>
              <a:xfrm>
                <a:off x="2876400" y="2616120"/>
                <a:ext cx="936720" cy="339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320" y="4032360"/>
                <a:ext cx="268200" cy="368280"/>
              </a:xfrm>
              <a:custGeom>
                <a:avLst/>
                <a:gdLst/>
                <a:ahLst/>
                <a:rect l="l" t="t" r="r" b="b"/>
                <a:pathLst>
                  <a:path w="150" h="150">
                    <a:moveTo>
                      <a:pt x="90" y="18"/>
                    </a:moveTo>
                    <a:lnTo>
                      <a:pt x="72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84" y="60"/>
                    </a:lnTo>
                    <a:lnTo>
                      <a:pt x="144" y="84"/>
                    </a:lnTo>
                    <a:lnTo>
                      <a:pt x="150" y="150"/>
                    </a:lnTo>
                    <a:lnTo>
                      <a:pt x="36" y="60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60" y="6"/>
                    </a:lnTo>
                    <a:lnTo>
                      <a:pt x="78" y="12"/>
                    </a:lnTo>
                    <a:lnTo>
                      <a:pt x="96" y="12"/>
                    </a:lnTo>
                    <a:lnTo>
                      <a:pt x="114" y="24"/>
                    </a:lnTo>
                    <a:lnTo>
                      <a:pt x="90" y="18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320" y="3900600"/>
                <a:ext cx="290520" cy="338040"/>
              </a:xfrm>
              <a:custGeom>
                <a:avLst/>
                <a:gdLst/>
                <a:ahLst/>
                <a:rect l="l" t="t" r="r" b="b"/>
                <a:pathLst>
                  <a:path w="162" h="138">
                    <a:moveTo>
                      <a:pt x="144" y="138"/>
                    </a:moveTo>
                    <a:lnTo>
                      <a:pt x="84" y="114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54" y="90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72" y="72"/>
                    </a:lnTo>
                    <a:lnTo>
                      <a:pt x="90" y="72"/>
                    </a:lnTo>
                    <a:lnTo>
                      <a:pt x="114" y="78"/>
                    </a:lnTo>
                    <a:lnTo>
                      <a:pt x="96" y="66"/>
                    </a:lnTo>
                    <a:lnTo>
                      <a:pt x="78" y="66"/>
                    </a:lnTo>
                    <a:lnTo>
                      <a:pt x="60" y="60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132" y="30"/>
                    </a:lnTo>
                    <a:lnTo>
                      <a:pt x="162" y="54"/>
                    </a:lnTo>
                    <a:lnTo>
                      <a:pt x="162" y="66"/>
                    </a:lnTo>
                    <a:lnTo>
                      <a:pt x="162" y="66"/>
                    </a:lnTo>
                    <a:lnTo>
                      <a:pt x="156" y="72"/>
                    </a:lnTo>
                    <a:lnTo>
                      <a:pt x="150" y="78"/>
                    </a:lnTo>
                    <a:lnTo>
                      <a:pt x="138" y="78"/>
                    </a:lnTo>
                    <a:lnTo>
                      <a:pt x="144" y="138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320" y="3548160"/>
                <a:ext cx="344520" cy="455400"/>
              </a:xfrm>
              <a:custGeom>
                <a:avLst/>
                <a:gdLst/>
                <a:ahLst/>
                <a:rect l="l" t="t" r="r" b="b"/>
                <a:pathLst>
                  <a:path w="192" h="186">
                    <a:moveTo>
                      <a:pt x="168" y="138"/>
                    </a:moveTo>
                    <a:lnTo>
                      <a:pt x="174" y="138"/>
                    </a:lnTo>
                    <a:lnTo>
                      <a:pt x="186" y="138"/>
                    </a:lnTo>
                    <a:lnTo>
                      <a:pt x="192" y="13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36" y="24"/>
                    </a:lnTo>
                    <a:lnTo>
                      <a:pt x="24" y="48"/>
                    </a:lnTo>
                    <a:lnTo>
                      <a:pt x="18" y="72"/>
                    </a:lnTo>
                    <a:lnTo>
                      <a:pt x="12" y="96"/>
                    </a:lnTo>
                    <a:lnTo>
                      <a:pt x="6" y="126"/>
                    </a:lnTo>
                    <a:lnTo>
                      <a:pt x="0" y="150"/>
                    </a:lnTo>
                    <a:lnTo>
                      <a:pt x="0" y="186"/>
                    </a:lnTo>
                    <a:lnTo>
                      <a:pt x="24" y="174"/>
                    </a:lnTo>
                    <a:lnTo>
                      <a:pt x="24" y="174"/>
                    </a:lnTo>
                    <a:lnTo>
                      <a:pt x="24" y="162"/>
                    </a:lnTo>
                    <a:lnTo>
                      <a:pt x="24" y="150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132" y="174"/>
                    </a:lnTo>
                    <a:lnTo>
                      <a:pt x="48" y="120"/>
                    </a:lnTo>
                    <a:lnTo>
                      <a:pt x="42" y="114"/>
                    </a:lnTo>
                    <a:lnTo>
                      <a:pt x="36" y="108"/>
                    </a:lnTo>
                    <a:lnTo>
                      <a:pt x="36" y="102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168" y="138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680" y="3695760"/>
                <a:ext cx="290520" cy="336600"/>
              </a:xfrm>
              <a:custGeom>
                <a:avLst/>
                <a:gdLst/>
                <a:ahLst/>
                <a:rect l="l" t="t" r="r" b="b"/>
                <a:pathLst>
                  <a:path w="162" h="138">
                    <a:moveTo>
                      <a:pt x="96" y="114"/>
                    </a:moveTo>
                    <a:lnTo>
                      <a:pt x="12" y="60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132" y="78"/>
                    </a:lnTo>
                    <a:lnTo>
                      <a:pt x="132" y="78"/>
                    </a:lnTo>
                    <a:lnTo>
                      <a:pt x="150" y="90"/>
                    </a:lnTo>
                    <a:lnTo>
                      <a:pt x="156" y="96"/>
                    </a:lnTo>
                    <a:lnTo>
                      <a:pt x="156" y="102"/>
                    </a:lnTo>
                    <a:lnTo>
                      <a:pt x="162" y="108"/>
                    </a:lnTo>
                    <a:lnTo>
                      <a:pt x="162" y="120"/>
                    </a:lnTo>
                    <a:lnTo>
                      <a:pt x="156" y="126"/>
                    </a:lnTo>
                    <a:lnTo>
                      <a:pt x="156" y="132"/>
                    </a:lnTo>
                    <a:lnTo>
                      <a:pt x="150" y="138"/>
                    </a:lnTo>
                    <a:lnTo>
                      <a:pt x="144" y="138"/>
                    </a:lnTo>
                    <a:lnTo>
                      <a:pt x="132" y="138"/>
                    </a:lnTo>
                    <a:lnTo>
                      <a:pt x="126" y="138"/>
                    </a:lnTo>
                    <a:lnTo>
                      <a:pt x="96" y="114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000" y="3489480"/>
                <a:ext cx="279360" cy="39672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84" y="30"/>
                    </a:moveTo>
                    <a:lnTo>
                      <a:pt x="156" y="144"/>
                    </a:lnTo>
                    <a:lnTo>
                      <a:pt x="156" y="150"/>
                    </a:lnTo>
                    <a:lnTo>
                      <a:pt x="144" y="16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08000" y="3298680"/>
                <a:ext cx="117360" cy="220680"/>
              </a:xfrm>
              <a:custGeom>
                <a:avLst/>
                <a:gdLst/>
                <a:ahLst/>
                <a:rect l="l" t="t" r="r" b="b"/>
                <a:pathLst>
                  <a:path w="66" h="90">
                    <a:moveTo>
                      <a:pt x="18" y="84"/>
                    </a:moveTo>
                    <a:lnTo>
                      <a:pt x="24" y="78"/>
                    </a:lnTo>
                    <a:lnTo>
                      <a:pt x="42" y="78"/>
                    </a:lnTo>
                    <a:lnTo>
                      <a:pt x="48" y="84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6" y="78"/>
                    </a:lnTo>
                    <a:lnTo>
                      <a:pt x="66" y="60"/>
                    </a:lnTo>
                    <a:lnTo>
                      <a:pt x="60" y="66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2" y="90"/>
                    </a:lnTo>
                    <a:lnTo>
                      <a:pt x="18" y="84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39680" y="3298680"/>
                <a:ext cx="85680" cy="17640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36" y="18"/>
                    </a:moveTo>
                    <a:lnTo>
                      <a:pt x="48" y="36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320" y="400356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62000" y="3371760"/>
                <a:ext cx="3168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1670040"/>
                <a:ext cx="581040" cy="4152960"/>
              </a:xfrm>
              <a:custGeom>
                <a:avLst/>
                <a:gdLst/>
                <a:ahLst/>
                <a:rect l="l" t="t" r="r" b="b"/>
                <a:pathLst>
                  <a:path w="324" h="1698">
                    <a:moveTo>
                      <a:pt x="234" y="1698"/>
                    </a:moveTo>
                    <a:lnTo>
                      <a:pt x="312" y="1698"/>
                    </a:lnTo>
                    <a:lnTo>
                      <a:pt x="324" y="1356"/>
                    </a:lnTo>
                    <a:lnTo>
                      <a:pt x="300" y="1050"/>
                    </a:lnTo>
                    <a:lnTo>
                      <a:pt x="258" y="900"/>
                    </a:lnTo>
                    <a:lnTo>
                      <a:pt x="294" y="948"/>
                    </a:lnTo>
                    <a:lnTo>
                      <a:pt x="246" y="0"/>
                    </a:lnTo>
                    <a:lnTo>
                      <a:pt x="114" y="66"/>
                    </a:lnTo>
                    <a:lnTo>
                      <a:pt x="36" y="120"/>
                    </a:lnTo>
                    <a:lnTo>
                      <a:pt x="0" y="144"/>
                    </a:lnTo>
                    <a:lnTo>
                      <a:pt x="12" y="150"/>
                    </a:lnTo>
                    <a:lnTo>
                      <a:pt x="30" y="168"/>
                    </a:lnTo>
                    <a:lnTo>
                      <a:pt x="42" y="186"/>
                    </a:lnTo>
                    <a:lnTo>
                      <a:pt x="54" y="204"/>
                    </a:lnTo>
                    <a:lnTo>
                      <a:pt x="66" y="228"/>
                    </a:lnTo>
                    <a:lnTo>
                      <a:pt x="78" y="252"/>
                    </a:lnTo>
                    <a:lnTo>
                      <a:pt x="84" y="276"/>
                    </a:lnTo>
                    <a:lnTo>
                      <a:pt x="84" y="300"/>
                    </a:lnTo>
                    <a:lnTo>
                      <a:pt x="114" y="684"/>
                    </a:lnTo>
                    <a:lnTo>
                      <a:pt x="126" y="702"/>
                    </a:lnTo>
                    <a:lnTo>
                      <a:pt x="126" y="726"/>
                    </a:lnTo>
                    <a:lnTo>
                      <a:pt x="126" y="744"/>
                    </a:lnTo>
                    <a:lnTo>
                      <a:pt x="144" y="774"/>
                    </a:lnTo>
                    <a:lnTo>
                      <a:pt x="216" y="888"/>
                    </a:lnTo>
                    <a:lnTo>
                      <a:pt x="228" y="906"/>
                    </a:lnTo>
                    <a:lnTo>
                      <a:pt x="198" y="1470"/>
                    </a:lnTo>
                    <a:lnTo>
                      <a:pt x="234" y="1698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840" y="1832040"/>
                <a:ext cx="162000" cy="13176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12" y="54"/>
                    </a:moveTo>
                    <a:lnTo>
                      <a:pt x="90" y="0"/>
                    </a:lnTo>
                    <a:lnTo>
                      <a:pt x="0" y="30"/>
                    </a:lnTo>
                    <a:lnTo>
                      <a:pt x="12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4840" y="3489480"/>
                <a:ext cx="54000" cy="74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6" y="6"/>
                    </a:moveTo>
                    <a:lnTo>
                      <a:pt x="0" y="12"/>
                    </a:lnTo>
                    <a:lnTo>
                      <a:pt x="30" y="30"/>
                    </a:lnTo>
                    <a:lnTo>
                      <a:pt x="12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47680" y="4003200"/>
                <a:ext cx="11160" cy="5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90520" y="3930480"/>
                <a:ext cx="33480" cy="44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70000" y="3841920"/>
                <a:ext cx="139680" cy="1423800"/>
              </a:xfrm>
              <a:custGeom>
                <a:avLst/>
                <a:gdLst/>
                <a:ahLst/>
                <a:rect l="l" t="t" r="r" b="b"/>
                <a:pathLst>
                  <a:path w="78" h="582">
                    <a:moveTo>
                      <a:pt x="0" y="102"/>
                    </a:moveTo>
                    <a:lnTo>
                      <a:pt x="12" y="102"/>
                    </a:lnTo>
                    <a:lnTo>
                      <a:pt x="18" y="96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24" y="78"/>
                    </a:lnTo>
                    <a:lnTo>
                      <a:pt x="30" y="78"/>
                    </a:lnTo>
                    <a:lnTo>
                      <a:pt x="42" y="78"/>
                    </a:lnTo>
                    <a:lnTo>
                      <a:pt x="48" y="78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60" y="48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8" y="18"/>
                    </a:lnTo>
                    <a:lnTo>
                      <a:pt x="48" y="582"/>
                    </a:lnTo>
                    <a:lnTo>
                      <a:pt x="12" y="228"/>
                    </a:lnTo>
                    <a:lnTo>
                      <a:pt x="6" y="16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1360" y="1611360"/>
                <a:ext cx="3349440" cy="4211640"/>
              </a:xfrm>
              <a:custGeom>
                <a:avLst/>
                <a:gdLst/>
                <a:ahLst/>
                <a:rect l="l" t="t" r="r" b="b"/>
                <a:pathLst>
                  <a:path w="1866" h="1722">
                    <a:moveTo>
                      <a:pt x="1866" y="6"/>
                    </a:moveTo>
                    <a:lnTo>
                      <a:pt x="1866" y="660"/>
                    </a:lnTo>
                    <a:lnTo>
                      <a:pt x="1854" y="744"/>
                    </a:lnTo>
                    <a:lnTo>
                      <a:pt x="1836" y="822"/>
                    </a:lnTo>
                    <a:lnTo>
                      <a:pt x="1830" y="822"/>
                    </a:lnTo>
                    <a:lnTo>
                      <a:pt x="1818" y="816"/>
                    </a:lnTo>
                    <a:lnTo>
                      <a:pt x="1812" y="816"/>
                    </a:lnTo>
                    <a:lnTo>
                      <a:pt x="1794" y="822"/>
                    </a:lnTo>
                    <a:lnTo>
                      <a:pt x="1806" y="708"/>
                    </a:lnTo>
                    <a:lnTo>
                      <a:pt x="1776" y="696"/>
                    </a:lnTo>
                    <a:lnTo>
                      <a:pt x="1752" y="696"/>
                    </a:lnTo>
                    <a:lnTo>
                      <a:pt x="1728" y="690"/>
                    </a:lnTo>
                    <a:lnTo>
                      <a:pt x="1704" y="684"/>
                    </a:lnTo>
                    <a:lnTo>
                      <a:pt x="1656" y="684"/>
                    </a:lnTo>
                    <a:lnTo>
                      <a:pt x="1632" y="690"/>
                    </a:lnTo>
                    <a:lnTo>
                      <a:pt x="1608" y="696"/>
                    </a:lnTo>
                    <a:lnTo>
                      <a:pt x="1590" y="702"/>
                    </a:lnTo>
                    <a:lnTo>
                      <a:pt x="1578" y="726"/>
                    </a:lnTo>
                    <a:lnTo>
                      <a:pt x="1566" y="750"/>
                    </a:lnTo>
                    <a:lnTo>
                      <a:pt x="1560" y="774"/>
                    </a:lnTo>
                    <a:lnTo>
                      <a:pt x="1554" y="804"/>
                    </a:lnTo>
                    <a:lnTo>
                      <a:pt x="1548" y="828"/>
                    </a:lnTo>
                    <a:lnTo>
                      <a:pt x="1542" y="852"/>
                    </a:lnTo>
                    <a:lnTo>
                      <a:pt x="1542" y="906"/>
                    </a:lnTo>
                    <a:lnTo>
                      <a:pt x="1548" y="930"/>
                    </a:lnTo>
                    <a:lnTo>
                      <a:pt x="1554" y="924"/>
                    </a:lnTo>
                    <a:lnTo>
                      <a:pt x="1566" y="918"/>
                    </a:lnTo>
                    <a:lnTo>
                      <a:pt x="1584" y="906"/>
                    </a:lnTo>
                    <a:lnTo>
                      <a:pt x="1602" y="900"/>
                    </a:lnTo>
                    <a:lnTo>
                      <a:pt x="1620" y="894"/>
                    </a:lnTo>
                    <a:lnTo>
                      <a:pt x="1626" y="900"/>
                    </a:lnTo>
                    <a:lnTo>
                      <a:pt x="1632" y="900"/>
                    </a:lnTo>
                    <a:lnTo>
                      <a:pt x="1644" y="906"/>
                    </a:lnTo>
                    <a:lnTo>
                      <a:pt x="1662" y="906"/>
                    </a:lnTo>
                    <a:lnTo>
                      <a:pt x="1686" y="906"/>
                    </a:lnTo>
                    <a:lnTo>
                      <a:pt x="1704" y="906"/>
                    </a:lnTo>
                    <a:lnTo>
                      <a:pt x="1722" y="900"/>
                    </a:lnTo>
                    <a:lnTo>
                      <a:pt x="1746" y="906"/>
                    </a:lnTo>
                    <a:lnTo>
                      <a:pt x="1764" y="906"/>
                    </a:lnTo>
                    <a:lnTo>
                      <a:pt x="1782" y="906"/>
                    </a:lnTo>
                    <a:lnTo>
                      <a:pt x="1794" y="906"/>
                    </a:lnTo>
                    <a:lnTo>
                      <a:pt x="1800" y="912"/>
                    </a:lnTo>
                    <a:lnTo>
                      <a:pt x="1806" y="918"/>
                    </a:lnTo>
                    <a:lnTo>
                      <a:pt x="1818" y="918"/>
                    </a:lnTo>
                    <a:lnTo>
                      <a:pt x="1812" y="918"/>
                    </a:lnTo>
                    <a:lnTo>
                      <a:pt x="1770" y="942"/>
                    </a:lnTo>
                    <a:lnTo>
                      <a:pt x="1746" y="936"/>
                    </a:lnTo>
                    <a:lnTo>
                      <a:pt x="1728" y="936"/>
                    </a:lnTo>
                    <a:lnTo>
                      <a:pt x="1710" y="942"/>
                    </a:lnTo>
                    <a:lnTo>
                      <a:pt x="1692" y="942"/>
                    </a:lnTo>
                    <a:lnTo>
                      <a:pt x="1674" y="954"/>
                    </a:lnTo>
                    <a:lnTo>
                      <a:pt x="1656" y="960"/>
                    </a:lnTo>
                    <a:lnTo>
                      <a:pt x="1638" y="972"/>
                    </a:lnTo>
                    <a:lnTo>
                      <a:pt x="1620" y="984"/>
                    </a:lnTo>
                    <a:lnTo>
                      <a:pt x="1608" y="996"/>
                    </a:lnTo>
                    <a:lnTo>
                      <a:pt x="1596" y="1014"/>
                    </a:lnTo>
                    <a:lnTo>
                      <a:pt x="1584" y="1026"/>
                    </a:lnTo>
                    <a:lnTo>
                      <a:pt x="1578" y="1038"/>
                    </a:lnTo>
                    <a:lnTo>
                      <a:pt x="1572" y="1050"/>
                    </a:lnTo>
                    <a:lnTo>
                      <a:pt x="1566" y="1068"/>
                    </a:lnTo>
                    <a:lnTo>
                      <a:pt x="1554" y="1080"/>
                    </a:lnTo>
                    <a:lnTo>
                      <a:pt x="1542" y="1092"/>
                    </a:lnTo>
                    <a:lnTo>
                      <a:pt x="1530" y="1104"/>
                    </a:lnTo>
                    <a:lnTo>
                      <a:pt x="1518" y="1110"/>
                    </a:lnTo>
                    <a:lnTo>
                      <a:pt x="1500" y="1122"/>
                    </a:lnTo>
                    <a:lnTo>
                      <a:pt x="1482" y="1122"/>
                    </a:lnTo>
                    <a:lnTo>
                      <a:pt x="1476" y="1128"/>
                    </a:lnTo>
                    <a:lnTo>
                      <a:pt x="1458" y="1128"/>
                    </a:lnTo>
                    <a:lnTo>
                      <a:pt x="1446" y="1122"/>
                    </a:lnTo>
                    <a:lnTo>
                      <a:pt x="1422" y="1122"/>
                    </a:lnTo>
                    <a:lnTo>
                      <a:pt x="1374" y="1122"/>
                    </a:lnTo>
                    <a:lnTo>
                      <a:pt x="1350" y="1122"/>
                    </a:lnTo>
                    <a:lnTo>
                      <a:pt x="1338" y="1122"/>
                    </a:lnTo>
                    <a:lnTo>
                      <a:pt x="1356" y="1134"/>
                    </a:lnTo>
                    <a:lnTo>
                      <a:pt x="1380" y="1146"/>
                    </a:lnTo>
                    <a:lnTo>
                      <a:pt x="1398" y="1158"/>
                    </a:lnTo>
                    <a:lnTo>
                      <a:pt x="1416" y="1170"/>
                    </a:lnTo>
                    <a:lnTo>
                      <a:pt x="1434" y="1188"/>
                    </a:lnTo>
                    <a:lnTo>
                      <a:pt x="1446" y="1206"/>
                    </a:lnTo>
                    <a:lnTo>
                      <a:pt x="1458" y="1224"/>
                    </a:lnTo>
                    <a:lnTo>
                      <a:pt x="1470" y="1236"/>
                    </a:lnTo>
                    <a:lnTo>
                      <a:pt x="1476" y="1254"/>
                    </a:lnTo>
                    <a:lnTo>
                      <a:pt x="1476" y="1266"/>
                    </a:lnTo>
                    <a:lnTo>
                      <a:pt x="1482" y="1284"/>
                    </a:lnTo>
                    <a:lnTo>
                      <a:pt x="1482" y="1302"/>
                    </a:lnTo>
                    <a:lnTo>
                      <a:pt x="1482" y="1314"/>
                    </a:lnTo>
                    <a:lnTo>
                      <a:pt x="1512" y="1278"/>
                    </a:lnTo>
                    <a:lnTo>
                      <a:pt x="1650" y="1116"/>
                    </a:lnTo>
                    <a:lnTo>
                      <a:pt x="1662" y="1116"/>
                    </a:lnTo>
                    <a:lnTo>
                      <a:pt x="1668" y="1116"/>
                    </a:lnTo>
                    <a:lnTo>
                      <a:pt x="1674" y="1116"/>
                    </a:lnTo>
                    <a:lnTo>
                      <a:pt x="1692" y="1110"/>
                    </a:lnTo>
                    <a:lnTo>
                      <a:pt x="1704" y="1098"/>
                    </a:lnTo>
                    <a:lnTo>
                      <a:pt x="1716" y="1092"/>
                    </a:lnTo>
                    <a:lnTo>
                      <a:pt x="1722" y="1080"/>
                    </a:lnTo>
                    <a:lnTo>
                      <a:pt x="1734" y="1068"/>
                    </a:lnTo>
                    <a:lnTo>
                      <a:pt x="1734" y="1062"/>
                    </a:lnTo>
                    <a:lnTo>
                      <a:pt x="1794" y="1050"/>
                    </a:lnTo>
                    <a:lnTo>
                      <a:pt x="1782" y="1050"/>
                    </a:lnTo>
                    <a:lnTo>
                      <a:pt x="1782" y="1056"/>
                    </a:lnTo>
                    <a:lnTo>
                      <a:pt x="1776" y="1062"/>
                    </a:lnTo>
                    <a:lnTo>
                      <a:pt x="1776" y="1074"/>
                    </a:lnTo>
                    <a:lnTo>
                      <a:pt x="1746" y="1188"/>
                    </a:lnTo>
                    <a:lnTo>
                      <a:pt x="1758" y="1200"/>
                    </a:lnTo>
                    <a:lnTo>
                      <a:pt x="1776" y="1200"/>
                    </a:lnTo>
                    <a:lnTo>
                      <a:pt x="1782" y="1200"/>
                    </a:lnTo>
                    <a:lnTo>
                      <a:pt x="1794" y="1194"/>
                    </a:lnTo>
                    <a:lnTo>
                      <a:pt x="1800" y="1194"/>
                    </a:lnTo>
                    <a:lnTo>
                      <a:pt x="1800" y="1722"/>
                    </a:lnTo>
                    <a:lnTo>
                      <a:pt x="66" y="1722"/>
                    </a:lnTo>
                    <a:lnTo>
                      <a:pt x="78" y="1380"/>
                    </a:lnTo>
                    <a:lnTo>
                      <a:pt x="54" y="1074"/>
                    </a:lnTo>
                    <a:lnTo>
                      <a:pt x="12" y="924"/>
                    </a:lnTo>
                    <a:lnTo>
                      <a:pt x="48" y="972"/>
                    </a:lnTo>
                    <a:lnTo>
                      <a:pt x="0" y="24"/>
                    </a:lnTo>
                    <a:lnTo>
                      <a:pt x="138" y="12"/>
                    </a:lnTo>
                    <a:lnTo>
                      <a:pt x="282" y="12"/>
                    </a:lnTo>
                    <a:lnTo>
                      <a:pt x="426" y="12"/>
                    </a:lnTo>
                    <a:lnTo>
                      <a:pt x="570" y="24"/>
                    </a:lnTo>
                    <a:lnTo>
                      <a:pt x="630" y="18"/>
                    </a:lnTo>
                    <a:lnTo>
                      <a:pt x="792" y="12"/>
                    </a:lnTo>
                    <a:lnTo>
                      <a:pt x="948" y="12"/>
                    </a:lnTo>
                    <a:lnTo>
                      <a:pt x="1104" y="18"/>
                    </a:lnTo>
                    <a:lnTo>
                      <a:pt x="1260" y="30"/>
                    </a:lnTo>
                    <a:lnTo>
                      <a:pt x="1326" y="24"/>
                    </a:lnTo>
                    <a:lnTo>
                      <a:pt x="1506" y="12"/>
                    </a:lnTo>
                    <a:lnTo>
                      <a:pt x="1686" y="0"/>
                    </a:lnTo>
                    <a:lnTo>
                      <a:pt x="1866" y="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38600" y="3430440"/>
                <a:ext cx="128520" cy="338400"/>
              </a:xfrm>
              <a:custGeom>
                <a:avLst/>
                <a:gdLst/>
                <a:ahLst/>
                <a:rect l="l" t="t" r="r" b="b"/>
                <a:pathLst>
                  <a:path w="72" h="138">
                    <a:moveTo>
                      <a:pt x="0" y="78"/>
                    </a:moveTo>
                    <a:lnTo>
                      <a:pt x="12" y="84"/>
                    </a:lnTo>
                    <a:lnTo>
                      <a:pt x="24" y="96"/>
                    </a:lnTo>
                    <a:lnTo>
                      <a:pt x="48" y="114"/>
                    </a:lnTo>
                    <a:lnTo>
                      <a:pt x="66" y="126"/>
                    </a:lnTo>
                    <a:lnTo>
                      <a:pt x="72" y="138"/>
                    </a:lnTo>
                    <a:lnTo>
                      <a:pt x="72" y="114"/>
                    </a:lnTo>
                    <a:lnTo>
                      <a:pt x="72" y="96"/>
                    </a:lnTo>
                    <a:lnTo>
                      <a:pt x="66" y="72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36"/>
                    </a:lnTo>
                    <a:lnTo>
                      <a:pt x="36" y="24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28920" y="3740040"/>
                <a:ext cx="461880" cy="146160"/>
              </a:xfrm>
              <a:custGeom>
                <a:avLst/>
                <a:gdLst/>
                <a:ahLst/>
                <a:rect l="l" t="t" r="r" b="b"/>
                <a:pathLst>
                  <a:path w="258" h="60">
                    <a:moveTo>
                      <a:pt x="258" y="60"/>
                    </a:moveTo>
                    <a:lnTo>
                      <a:pt x="252" y="48"/>
                    </a:lnTo>
                    <a:lnTo>
                      <a:pt x="240" y="30"/>
                    </a:lnTo>
                    <a:lnTo>
                      <a:pt x="228" y="24"/>
                    </a:lnTo>
                    <a:lnTo>
                      <a:pt x="210" y="12"/>
                    </a:lnTo>
                    <a:lnTo>
                      <a:pt x="150" y="12"/>
                    </a:lnTo>
                    <a:lnTo>
                      <a:pt x="126" y="6"/>
                    </a:lnTo>
                    <a:lnTo>
                      <a:pt x="102" y="0"/>
                    </a:lnTo>
                    <a:lnTo>
                      <a:pt x="84" y="12"/>
                    </a:lnTo>
                    <a:lnTo>
                      <a:pt x="66" y="12"/>
                    </a:lnTo>
                    <a:lnTo>
                      <a:pt x="5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54" y="36"/>
                    </a:lnTo>
                    <a:lnTo>
                      <a:pt x="78" y="36"/>
                    </a:lnTo>
                    <a:lnTo>
                      <a:pt x="96" y="36"/>
                    </a:lnTo>
                    <a:lnTo>
                      <a:pt x="114" y="30"/>
                    </a:lnTo>
                    <a:lnTo>
                      <a:pt x="138" y="36"/>
                    </a:lnTo>
                    <a:lnTo>
                      <a:pt x="156" y="36"/>
                    </a:lnTo>
                    <a:lnTo>
                      <a:pt x="174" y="36"/>
                    </a:lnTo>
                    <a:lnTo>
                      <a:pt x="186" y="36"/>
                    </a:lnTo>
                    <a:lnTo>
                      <a:pt x="192" y="42"/>
                    </a:lnTo>
                    <a:lnTo>
                      <a:pt x="198" y="48"/>
                    </a:lnTo>
                    <a:lnTo>
                      <a:pt x="210" y="48"/>
                    </a:lnTo>
                    <a:lnTo>
                      <a:pt x="216" y="48"/>
                    </a:lnTo>
                    <a:lnTo>
                      <a:pt x="240" y="54"/>
                    </a:lnTo>
                    <a:lnTo>
                      <a:pt x="258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38640" y="4032360"/>
                <a:ext cx="129960" cy="264960"/>
              </a:xfrm>
              <a:custGeom>
                <a:avLst/>
                <a:gdLst/>
                <a:ahLst/>
                <a:rect l="l" t="t" r="r" b="b"/>
                <a:pathLst>
                  <a:path w="72" h="108">
                    <a:moveTo>
                      <a:pt x="60" y="0"/>
                    </a:moveTo>
                    <a:lnTo>
                      <a:pt x="66" y="6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0" y="60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6" y="66"/>
                    </a:lnTo>
                    <a:lnTo>
                      <a:pt x="12" y="6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71760" y="4091040"/>
                <a:ext cx="452520" cy="250920"/>
              </a:xfrm>
              <a:custGeom>
                <a:avLst/>
                <a:gdLst/>
                <a:ahLst/>
                <a:rect l="l" t="t" r="r" b="b"/>
                <a:pathLst>
                  <a:path w="252" h="102">
                    <a:moveTo>
                      <a:pt x="0" y="96"/>
                    </a:moveTo>
                    <a:lnTo>
                      <a:pt x="0" y="84"/>
                    </a:lnTo>
                    <a:lnTo>
                      <a:pt x="0" y="84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8" y="78"/>
                    </a:lnTo>
                    <a:lnTo>
                      <a:pt x="60" y="72"/>
                    </a:lnTo>
                    <a:lnTo>
                      <a:pt x="72" y="60"/>
                    </a:lnTo>
                    <a:lnTo>
                      <a:pt x="84" y="48"/>
                    </a:lnTo>
                    <a:lnTo>
                      <a:pt x="90" y="36"/>
                    </a:lnTo>
                    <a:lnTo>
                      <a:pt x="186" y="0"/>
                    </a:lnTo>
                    <a:lnTo>
                      <a:pt x="252" y="24"/>
                    </a:lnTo>
                    <a:lnTo>
                      <a:pt x="162" y="36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0" y="66"/>
                    </a:lnTo>
                    <a:lnTo>
                      <a:pt x="84" y="78"/>
                    </a:lnTo>
                    <a:lnTo>
                      <a:pt x="72" y="84"/>
                    </a:lnTo>
                    <a:lnTo>
                      <a:pt x="60" y="96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76600" y="4238640"/>
                <a:ext cx="139680" cy="307800"/>
              </a:xfrm>
              <a:custGeom>
                <a:avLst/>
                <a:gdLst/>
                <a:ahLst/>
                <a:rect l="l" t="t" r="r" b="b"/>
                <a:pathLst>
                  <a:path w="78" h="126">
                    <a:moveTo>
                      <a:pt x="30" y="0"/>
                    </a:move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60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96"/>
                    </a:lnTo>
                    <a:lnTo>
                      <a:pt x="54" y="102"/>
                    </a:lnTo>
                    <a:lnTo>
                      <a:pt x="48" y="114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12" y="126"/>
                    </a:lnTo>
                    <a:lnTo>
                      <a:pt x="0" y="1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39960" y="4356000"/>
                <a:ext cx="227160" cy="22068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12" y="72"/>
                    </a:moveTo>
                    <a:lnTo>
                      <a:pt x="0" y="78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60" y="12"/>
                    </a:lnTo>
                    <a:lnTo>
                      <a:pt x="84" y="18"/>
                    </a:lnTo>
                    <a:lnTo>
                      <a:pt x="102" y="24"/>
                    </a:lnTo>
                    <a:lnTo>
                      <a:pt x="126" y="24"/>
                    </a:lnTo>
                    <a:lnTo>
                      <a:pt x="72" y="36"/>
                    </a:lnTo>
                    <a:lnTo>
                      <a:pt x="90" y="84"/>
                    </a:lnTo>
                    <a:lnTo>
                      <a:pt x="66" y="66"/>
                    </a:lnTo>
                    <a:lnTo>
                      <a:pt x="54" y="90"/>
                    </a:lnTo>
                    <a:lnTo>
                      <a:pt x="54" y="48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18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59120" y="5530680"/>
                <a:ext cx="139680" cy="292320"/>
              </a:xfrm>
              <a:custGeom>
                <a:avLst/>
                <a:gdLst/>
                <a:ahLst/>
                <a:rect l="l" t="t" r="r" b="b"/>
                <a:pathLst>
                  <a:path w="78" h="120">
                    <a:moveTo>
                      <a:pt x="30" y="120"/>
                    </a:moveTo>
                    <a:lnTo>
                      <a:pt x="24" y="114"/>
                    </a:lnTo>
                    <a:lnTo>
                      <a:pt x="18" y="84"/>
                    </a:lnTo>
                    <a:lnTo>
                      <a:pt x="6" y="60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12"/>
                    </a:lnTo>
                    <a:lnTo>
                      <a:pt x="12" y="30"/>
                    </a:lnTo>
                    <a:lnTo>
                      <a:pt x="24" y="54"/>
                    </a:lnTo>
                    <a:lnTo>
                      <a:pt x="36" y="72"/>
                    </a:lnTo>
                    <a:lnTo>
                      <a:pt x="54" y="96"/>
                    </a:lnTo>
                    <a:lnTo>
                      <a:pt x="72" y="114"/>
                    </a:lnTo>
                    <a:lnTo>
                      <a:pt x="78" y="120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05120" y="5442120"/>
                <a:ext cx="108000" cy="3808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60" y="156"/>
                    </a:moveTo>
                    <a:lnTo>
                      <a:pt x="54" y="150"/>
                    </a:lnTo>
                    <a:lnTo>
                      <a:pt x="48" y="120"/>
                    </a:lnTo>
                    <a:lnTo>
                      <a:pt x="36" y="96"/>
                    </a:lnTo>
                    <a:lnTo>
                      <a:pt x="30" y="7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24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42"/>
                    </a:lnTo>
                    <a:lnTo>
                      <a:pt x="6" y="66"/>
                    </a:lnTo>
                    <a:lnTo>
                      <a:pt x="6" y="90"/>
                    </a:lnTo>
                    <a:lnTo>
                      <a:pt x="12" y="108"/>
                    </a:lnTo>
                    <a:lnTo>
                      <a:pt x="24" y="132"/>
                    </a:lnTo>
                    <a:lnTo>
                      <a:pt x="30" y="156"/>
                    </a:lnTo>
                    <a:lnTo>
                      <a:pt x="36" y="156"/>
                    </a:lnTo>
                    <a:lnTo>
                      <a:pt x="60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71680" y="2257560"/>
                <a:ext cx="3112920" cy="72720"/>
              </a:xfrm>
              <a:custGeom>
                <a:avLst/>
                <a:gdLst/>
                <a:ahLst/>
                <a:rect l="l" t="t" r="r" b="b"/>
                <a:pathLst>
                  <a:path w="1734" h="30">
                    <a:moveTo>
                      <a:pt x="0" y="6"/>
                    </a:moveTo>
                    <a:lnTo>
                      <a:pt x="558" y="0"/>
                    </a:lnTo>
                    <a:lnTo>
                      <a:pt x="618" y="0"/>
                    </a:lnTo>
                    <a:lnTo>
                      <a:pt x="672" y="6"/>
                    </a:lnTo>
                    <a:lnTo>
                      <a:pt x="732" y="12"/>
                    </a:lnTo>
                    <a:lnTo>
                      <a:pt x="792" y="24"/>
                    </a:lnTo>
                    <a:lnTo>
                      <a:pt x="852" y="24"/>
                    </a:lnTo>
                    <a:lnTo>
                      <a:pt x="906" y="30"/>
                    </a:lnTo>
                    <a:lnTo>
                      <a:pt x="966" y="24"/>
                    </a:lnTo>
                    <a:lnTo>
                      <a:pt x="1026" y="24"/>
                    </a:lnTo>
                    <a:lnTo>
                      <a:pt x="1086" y="12"/>
                    </a:lnTo>
                    <a:lnTo>
                      <a:pt x="1098" y="12"/>
                    </a:lnTo>
                    <a:lnTo>
                      <a:pt x="1140" y="6"/>
                    </a:lnTo>
                    <a:lnTo>
                      <a:pt x="1182" y="0"/>
                    </a:lnTo>
                    <a:lnTo>
                      <a:pt x="1230" y="0"/>
                    </a:lnTo>
                    <a:lnTo>
                      <a:pt x="1368" y="0"/>
                    </a:lnTo>
                    <a:lnTo>
                      <a:pt x="1416" y="0"/>
                    </a:lnTo>
                    <a:lnTo>
                      <a:pt x="1458" y="6"/>
                    </a:lnTo>
                    <a:lnTo>
                      <a:pt x="1506" y="12"/>
                    </a:lnTo>
                    <a:lnTo>
                      <a:pt x="1734" y="2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1680" y="2360520"/>
                <a:ext cx="3112920" cy="73080"/>
              </a:xfrm>
              <a:custGeom>
                <a:avLst/>
                <a:gdLst/>
                <a:ahLst/>
                <a:rect l="l" t="t" r="r" b="b"/>
                <a:pathLst>
                  <a:path w="1734" h="30">
                    <a:moveTo>
                      <a:pt x="0" y="6"/>
                    </a:moveTo>
                    <a:lnTo>
                      <a:pt x="558" y="0"/>
                    </a:lnTo>
                    <a:lnTo>
                      <a:pt x="618" y="6"/>
                    </a:lnTo>
                    <a:lnTo>
                      <a:pt x="672" y="6"/>
                    </a:lnTo>
                    <a:lnTo>
                      <a:pt x="732" y="12"/>
                    </a:lnTo>
                    <a:lnTo>
                      <a:pt x="792" y="24"/>
                    </a:lnTo>
                    <a:lnTo>
                      <a:pt x="852" y="30"/>
                    </a:lnTo>
                    <a:lnTo>
                      <a:pt x="906" y="30"/>
                    </a:lnTo>
                    <a:lnTo>
                      <a:pt x="966" y="30"/>
                    </a:lnTo>
                    <a:lnTo>
                      <a:pt x="1026" y="18"/>
                    </a:lnTo>
                    <a:lnTo>
                      <a:pt x="1086" y="12"/>
                    </a:lnTo>
                    <a:lnTo>
                      <a:pt x="1098" y="12"/>
                    </a:lnTo>
                    <a:lnTo>
                      <a:pt x="1140" y="6"/>
                    </a:lnTo>
                    <a:lnTo>
                      <a:pt x="1182" y="6"/>
                    </a:lnTo>
                    <a:lnTo>
                      <a:pt x="1230" y="0"/>
                    </a:lnTo>
                    <a:lnTo>
                      <a:pt x="1278" y="0"/>
                    </a:lnTo>
                    <a:lnTo>
                      <a:pt x="1326" y="0"/>
                    </a:lnTo>
                    <a:lnTo>
                      <a:pt x="1368" y="0"/>
                    </a:lnTo>
                    <a:lnTo>
                      <a:pt x="1416" y="6"/>
                    </a:lnTo>
                    <a:lnTo>
                      <a:pt x="1458" y="6"/>
                    </a:lnTo>
                    <a:lnTo>
                      <a:pt x="1506" y="12"/>
                    </a:lnTo>
                    <a:lnTo>
                      <a:pt x="1734" y="2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1040" y="2550960"/>
                <a:ext cx="3103560" cy="73080"/>
              </a:xfrm>
              <a:custGeom>
                <a:avLst/>
                <a:gdLst/>
                <a:ahLst/>
                <a:rect l="l" t="t" r="r" b="b"/>
                <a:pathLst>
                  <a:path w="1728" h="30">
                    <a:moveTo>
                      <a:pt x="0" y="12"/>
                    </a:moveTo>
                    <a:lnTo>
                      <a:pt x="264" y="6"/>
                    </a:lnTo>
                    <a:lnTo>
                      <a:pt x="564" y="0"/>
                    </a:lnTo>
                    <a:lnTo>
                      <a:pt x="612" y="6"/>
                    </a:lnTo>
                    <a:lnTo>
                      <a:pt x="666" y="6"/>
                    </a:lnTo>
                    <a:lnTo>
                      <a:pt x="726" y="12"/>
                    </a:lnTo>
                    <a:lnTo>
                      <a:pt x="786" y="24"/>
                    </a:lnTo>
                    <a:lnTo>
                      <a:pt x="846" y="30"/>
                    </a:lnTo>
                    <a:lnTo>
                      <a:pt x="864" y="30"/>
                    </a:lnTo>
                    <a:lnTo>
                      <a:pt x="900" y="30"/>
                    </a:lnTo>
                    <a:lnTo>
                      <a:pt x="960" y="24"/>
                    </a:lnTo>
                    <a:lnTo>
                      <a:pt x="1020" y="24"/>
                    </a:lnTo>
                    <a:lnTo>
                      <a:pt x="1086" y="12"/>
                    </a:lnTo>
                    <a:lnTo>
                      <a:pt x="1140" y="12"/>
                    </a:lnTo>
                    <a:lnTo>
                      <a:pt x="1176" y="6"/>
                    </a:lnTo>
                    <a:lnTo>
                      <a:pt x="1224" y="0"/>
                    </a:lnTo>
                    <a:lnTo>
                      <a:pt x="1272" y="0"/>
                    </a:lnTo>
                    <a:lnTo>
                      <a:pt x="1314" y="0"/>
                    </a:lnTo>
                    <a:lnTo>
                      <a:pt x="1362" y="0"/>
                    </a:lnTo>
                    <a:lnTo>
                      <a:pt x="1404" y="6"/>
                    </a:lnTo>
                    <a:lnTo>
                      <a:pt x="1428" y="6"/>
                    </a:lnTo>
                    <a:lnTo>
                      <a:pt x="1452" y="12"/>
                    </a:lnTo>
                    <a:lnTo>
                      <a:pt x="1500" y="12"/>
                    </a:lnTo>
                    <a:lnTo>
                      <a:pt x="1728" y="24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1040" y="2579760"/>
                <a:ext cx="87120" cy="324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55520" y="2565360"/>
                <a:ext cx="180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93720" y="2550960"/>
                <a:ext cx="1800" cy="3272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1920" y="2624040"/>
                <a:ext cx="3240" cy="3198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29080" y="2579760"/>
                <a:ext cx="42840" cy="3243240"/>
              </a:xfrm>
              <a:custGeom>
                <a:avLst/>
                <a:gdLst/>
                <a:ahLst/>
                <a:rect l="l" t="t" r="r" b="b"/>
                <a:pathLst>
                  <a:path w="24" h="1326">
                    <a:moveTo>
                      <a:pt x="0" y="0"/>
                    </a:moveTo>
                    <a:lnTo>
                      <a:pt x="6" y="384"/>
                    </a:lnTo>
                    <a:lnTo>
                      <a:pt x="12" y="582"/>
                    </a:lnTo>
                    <a:lnTo>
                      <a:pt x="24" y="774"/>
                    </a:lnTo>
                    <a:lnTo>
                      <a:pt x="12" y="912"/>
                    </a:lnTo>
                    <a:lnTo>
                      <a:pt x="6" y="1050"/>
                    </a:lnTo>
                    <a:lnTo>
                      <a:pt x="0" y="1326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35240" y="2565360"/>
                <a:ext cx="74520" cy="3257640"/>
              </a:xfrm>
              <a:custGeom>
                <a:avLst/>
                <a:gdLst/>
                <a:ahLst/>
                <a:rect l="l" t="t" r="r" b="b"/>
                <a:pathLst>
                  <a:path w="42" h="1332">
                    <a:moveTo>
                      <a:pt x="6" y="0"/>
                    </a:moveTo>
                    <a:lnTo>
                      <a:pt x="6" y="474"/>
                    </a:lnTo>
                    <a:lnTo>
                      <a:pt x="12" y="528"/>
                    </a:lnTo>
                    <a:lnTo>
                      <a:pt x="18" y="582"/>
                    </a:lnTo>
                    <a:lnTo>
                      <a:pt x="30" y="636"/>
                    </a:lnTo>
                    <a:lnTo>
                      <a:pt x="42" y="690"/>
                    </a:lnTo>
                    <a:lnTo>
                      <a:pt x="42" y="702"/>
                    </a:lnTo>
                    <a:lnTo>
                      <a:pt x="12" y="888"/>
                    </a:lnTo>
                    <a:lnTo>
                      <a:pt x="0" y="948"/>
                    </a:lnTo>
                    <a:lnTo>
                      <a:pt x="6" y="990"/>
                    </a:lnTo>
                    <a:lnTo>
                      <a:pt x="12" y="1032"/>
                    </a:lnTo>
                    <a:lnTo>
                      <a:pt x="18" y="1074"/>
                    </a:lnTo>
                    <a:lnTo>
                      <a:pt x="18" y="1116"/>
                    </a:lnTo>
                    <a:lnTo>
                      <a:pt x="24" y="1158"/>
                    </a:lnTo>
                    <a:lnTo>
                      <a:pt x="24" y="1200"/>
                    </a:lnTo>
                    <a:lnTo>
                      <a:pt x="18" y="1248"/>
                    </a:lnTo>
                    <a:lnTo>
                      <a:pt x="18" y="1290"/>
                    </a:lnTo>
                    <a:lnTo>
                      <a:pt x="12" y="1332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84600" y="2610000"/>
                <a:ext cx="1440" cy="73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54280" y="4546440"/>
                <a:ext cx="42840" cy="1276560"/>
              </a:xfrm>
              <a:custGeom>
                <a:avLst/>
                <a:gdLst/>
                <a:ahLst/>
                <a:rect l="l" t="t" r="r" b="b"/>
                <a:pathLst>
                  <a:path w="24" h="522">
                    <a:moveTo>
                      <a:pt x="6" y="522"/>
                    </a:moveTo>
                    <a:lnTo>
                      <a:pt x="0" y="342"/>
                    </a:lnTo>
                    <a:lnTo>
                      <a:pt x="0" y="252"/>
                    </a:lnTo>
                    <a:lnTo>
                      <a:pt x="0" y="204"/>
                    </a:lnTo>
                    <a:lnTo>
                      <a:pt x="0" y="150"/>
                    </a:lnTo>
                    <a:lnTo>
                      <a:pt x="12" y="102"/>
                    </a:lnTo>
                    <a:lnTo>
                      <a:pt x="12" y="4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29240" y="1619280"/>
                <a:ext cx="176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he Glob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7640" y="2467080"/>
                <a:ext cx="2822760" cy="3080160"/>
              </a:xfrm>
              <a:prstGeom prst="rect">
                <a:avLst/>
              </a:prstGeom>
              <a:gradFill rotWithShape="0">
                <a:gsLst>
                  <a:gs pos="0">
                    <a:srgbClr val="f7f5a1"/>
                  </a:gs>
                  <a:gs pos="50000">
                    <a:srgbClr val="fefefe"/>
                  </a:gs>
                  <a:gs pos="100000">
                    <a:srgbClr val="f7f5a1"/>
                  </a:gs>
                </a:gsLst>
                <a:lin ang="5400000"/>
              </a:gradFill>
              <a:ln w="0">
                <a:noFill/>
              </a:ln>
              <a:effectLst>
                <a:outerShdw dist="153009" dir="8306017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“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he average selling price of a family home in York Region is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$200 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+/-            </a:t>
                </a:r>
                <a:r>
                  <a:rPr b="1" lang="en-US" sz="2800" spc="-1" strike="noStrike">
                    <a:solidFill>
                      <a:srgbClr val="0033cc"/>
                    </a:solidFill>
                    <a:latin typeface="Times New Roman"/>
                  </a:rPr>
                  <a:t>$15 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at  </a:t>
                </a:r>
                <a:r>
                  <a:rPr b="1" lang="en-US" sz="2800" spc="-1" strike="noStrike">
                    <a:solidFill>
                      <a:srgbClr val="009900"/>
                    </a:solidFill>
                    <a:latin typeface="Times New Roman"/>
                  </a:rPr>
                  <a:t>95% confidence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135240" y="3578400"/>
              <a:ext cx="979200" cy="2243880"/>
              <a:chOff x="3135240" y="3578400"/>
              <a:chExt cx="979200" cy="2243880"/>
            </a:xfrm>
          </p:grpSpPr>
          <p:sp>
            <p:nvSpPr>
              <p:cNvPr id="294" name=""/>
              <p:cNvSpPr/>
              <p:nvPr/>
            </p:nvSpPr>
            <p:spPr>
              <a:xfrm>
                <a:off x="3135240" y="3607560"/>
                <a:ext cx="667080" cy="410040"/>
              </a:xfrm>
              <a:custGeom>
                <a:avLst/>
                <a:gdLst/>
                <a:ahLst/>
                <a:rect l="l" t="t" r="r" b="b"/>
                <a:pathLst>
                  <a:path w="372" h="168">
                    <a:moveTo>
                      <a:pt x="186" y="6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40" y="12"/>
                    </a:lnTo>
                    <a:lnTo>
                      <a:pt x="252" y="24"/>
                    </a:lnTo>
                    <a:lnTo>
                      <a:pt x="276" y="42"/>
                    </a:lnTo>
                    <a:lnTo>
                      <a:pt x="294" y="54"/>
                    </a:lnTo>
                    <a:lnTo>
                      <a:pt x="312" y="72"/>
                    </a:lnTo>
                    <a:lnTo>
                      <a:pt x="324" y="90"/>
                    </a:lnTo>
                    <a:lnTo>
                      <a:pt x="336" y="102"/>
                    </a:lnTo>
                    <a:lnTo>
                      <a:pt x="342" y="114"/>
                    </a:lnTo>
                    <a:lnTo>
                      <a:pt x="354" y="132"/>
                    </a:lnTo>
                    <a:lnTo>
                      <a:pt x="360" y="150"/>
                    </a:lnTo>
                    <a:lnTo>
                      <a:pt x="372" y="168"/>
                    </a:lnTo>
                    <a:lnTo>
                      <a:pt x="348" y="150"/>
                    </a:lnTo>
                    <a:lnTo>
                      <a:pt x="330" y="138"/>
                    </a:lnTo>
                    <a:lnTo>
                      <a:pt x="306" y="126"/>
                    </a:lnTo>
                    <a:lnTo>
                      <a:pt x="288" y="120"/>
                    </a:lnTo>
                    <a:lnTo>
                      <a:pt x="258" y="114"/>
                    </a:lnTo>
                    <a:lnTo>
                      <a:pt x="252" y="102"/>
                    </a:lnTo>
                    <a:lnTo>
                      <a:pt x="240" y="84"/>
                    </a:lnTo>
                    <a:lnTo>
                      <a:pt x="228" y="78"/>
                    </a:lnTo>
                    <a:lnTo>
                      <a:pt x="210" y="66"/>
                    </a:lnTo>
                    <a:lnTo>
                      <a:pt x="150" y="66"/>
                    </a:lnTo>
                    <a:lnTo>
                      <a:pt x="126" y="60"/>
                    </a:lnTo>
                    <a:lnTo>
                      <a:pt x="102" y="54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54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84" y="12"/>
                    </a:lnTo>
                    <a:lnTo>
                      <a:pt x="186" y="6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501000" y="3578400"/>
                <a:ext cx="398160" cy="1510560"/>
              </a:xfrm>
              <a:custGeom>
                <a:avLst/>
                <a:gdLst/>
                <a:ahLst/>
                <a:rect l="l" t="t" r="r" b="b"/>
                <a:pathLst>
                  <a:path w="222" h="618">
                    <a:moveTo>
                      <a:pt x="84" y="0"/>
                    </a:moveTo>
                    <a:lnTo>
                      <a:pt x="90" y="12"/>
                    </a:lnTo>
                    <a:lnTo>
                      <a:pt x="96" y="36"/>
                    </a:lnTo>
                    <a:lnTo>
                      <a:pt x="96" y="54"/>
                    </a:lnTo>
                    <a:lnTo>
                      <a:pt x="96" y="78"/>
                    </a:lnTo>
                    <a:lnTo>
                      <a:pt x="108" y="84"/>
                    </a:lnTo>
                    <a:lnTo>
                      <a:pt x="120" y="102"/>
                    </a:lnTo>
                    <a:lnTo>
                      <a:pt x="132" y="114"/>
                    </a:lnTo>
                    <a:lnTo>
                      <a:pt x="138" y="126"/>
                    </a:lnTo>
                    <a:lnTo>
                      <a:pt x="150" y="144"/>
                    </a:lnTo>
                    <a:lnTo>
                      <a:pt x="156" y="162"/>
                    </a:lnTo>
                    <a:lnTo>
                      <a:pt x="168" y="180"/>
                    </a:lnTo>
                    <a:lnTo>
                      <a:pt x="144" y="162"/>
                    </a:lnTo>
                    <a:lnTo>
                      <a:pt x="126" y="150"/>
                    </a:lnTo>
                    <a:lnTo>
                      <a:pt x="102" y="138"/>
                    </a:lnTo>
                    <a:lnTo>
                      <a:pt x="84" y="132"/>
                    </a:lnTo>
                    <a:lnTo>
                      <a:pt x="54" y="126"/>
                    </a:lnTo>
                    <a:lnTo>
                      <a:pt x="36" y="120"/>
                    </a:lnTo>
                    <a:lnTo>
                      <a:pt x="12" y="114"/>
                    </a:lnTo>
                    <a:lnTo>
                      <a:pt x="0" y="114"/>
                    </a:lnTo>
                    <a:lnTo>
                      <a:pt x="24" y="144"/>
                    </a:lnTo>
                    <a:lnTo>
                      <a:pt x="36" y="138"/>
                    </a:lnTo>
                    <a:lnTo>
                      <a:pt x="84" y="156"/>
                    </a:lnTo>
                    <a:lnTo>
                      <a:pt x="96" y="162"/>
                    </a:lnTo>
                    <a:lnTo>
                      <a:pt x="114" y="174"/>
                    </a:lnTo>
                    <a:lnTo>
                      <a:pt x="132" y="186"/>
                    </a:lnTo>
                    <a:lnTo>
                      <a:pt x="144" y="198"/>
                    </a:lnTo>
                    <a:lnTo>
                      <a:pt x="156" y="210"/>
                    </a:lnTo>
                    <a:lnTo>
                      <a:pt x="168" y="222"/>
                    </a:lnTo>
                    <a:lnTo>
                      <a:pt x="174" y="240"/>
                    </a:lnTo>
                    <a:lnTo>
                      <a:pt x="180" y="258"/>
                    </a:lnTo>
                    <a:lnTo>
                      <a:pt x="186" y="276"/>
                    </a:lnTo>
                    <a:lnTo>
                      <a:pt x="192" y="294"/>
                    </a:lnTo>
                    <a:lnTo>
                      <a:pt x="192" y="330"/>
                    </a:lnTo>
                    <a:lnTo>
                      <a:pt x="186" y="354"/>
                    </a:lnTo>
                    <a:lnTo>
                      <a:pt x="180" y="372"/>
                    </a:lnTo>
                    <a:lnTo>
                      <a:pt x="180" y="390"/>
                    </a:lnTo>
                    <a:lnTo>
                      <a:pt x="186" y="420"/>
                    </a:lnTo>
                    <a:lnTo>
                      <a:pt x="180" y="450"/>
                    </a:lnTo>
                    <a:lnTo>
                      <a:pt x="180" y="480"/>
                    </a:lnTo>
                    <a:lnTo>
                      <a:pt x="174" y="504"/>
                    </a:lnTo>
                    <a:lnTo>
                      <a:pt x="168" y="534"/>
                    </a:lnTo>
                    <a:lnTo>
                      <a:pt x="156" y="564"/>
                    </a:lnTo>
                    <a:lnTo>
                      <a:pt x="144" y="588"/>
                    </a:lnTo>
                    <a:lnTo>
                      <a:pt x="132" y="618"/>
                    </a:lnTo>
                    <a:lnTo>
                      <a:pt x="150" y="606"/>
                    </a:lnTo>
                    <a:lnTo>
                      <a:pt x="162" y="588"/>
                    </a:lnTo>
                    <a:lnTo>
                      <a:pt x="168" y="576"/>
                    </a:lnTo>
                    <a:lnTo>
                      <a:pt x="174" y="552"/>
                    </a:lnTo>
                    <a:lnTo>
                      <a:pt x="180" y="528"/>
                    </a:lnTo>
                    <a:lnTo>
                      <a:pt x="186" y="504"/>
                    </a:lnTo>
                    <a:lnTo>
                      <a:pt x="192" y="480"/>
                    </a:lnTo>
                    <a:lnTo>
                      <a:pt x="192" y="474"/>
                    </a:lnTo>
                    <a:lnTo>
                      <a:pt x="192" y="450"/>
                    </a:lnTo>
                    <a:lnTo>
                      <a:pt x="222" y="228"/>
                    </a:lnTo>
                    <a:lnTo>
                      <a:pt x="204" y="198"/>
                    </a:lnTo>
                    <a:lnTo>
                      <a:pt x="192" y="168"/>
                    </a:lnTo>
                    <a:lnTo>
                      <a:pt x="132" y="102"/>
                    </a:lnTo>
                    <a:lnTo>
                      <a:pt x="126" y="78"/>
                    </a:lnTo>
                    <a:lnTo>
                      <a:pt x="114" y="60"/>
                    </a:lnTo>
                    <a:lnTo>
                      <a:pt x="108" y="36"/>
                    </a:lnTo>
                    <a:lnTo>
                      <a:pt x="96" y="1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177720" y="3856680"/>
                <a:ext cx="667440" cy="1290960"/>
              </a:xfrm>
              <a:custGeom>
                <a:avLst/>
                <a:gdLst/>
                <a:ahLst/>
                <a:rect l="l" t="t" r="r" b="b"/>
                <a:pathLst>
                  <a:path w="372" h="528">
                    <a:moveTo>
                      <a:pt x="168" y="276"/>
                    </a:moveTo>
                    <a:lnTo>
                      <a:pt x="174" y="270"/>
                    </a:lnTo>
                    <a:lnTo>
                      <a:pt x="180" y="264"/>
                    </a:lnTo>
                    <a:lnTo>
                      <a:pt x="186" y="252"/>
                    </a:lnTo>
                    <a:lnTo>
                      <a:pt x="192" y="246"/>
                    </a:lnTo>
                    <a:lnTo>
                      <a:pt x="204" y="252"/>
                    </a:lnTo>
                    <a:lnTo>
                      <a:pt x="204" y="294"/>
                    </a:lnTo>
                    <a:lnTo>
                      <a:pt x="216" y="270"/>
                    </a:lnTo>
                    <a:lnTo>
                      <a:pt x="240" y="288"/>
                    </a:lnTo>
                    <a:lnTo>
                      <a:pt x="222" y="240"/>
                    </a:lnTo>
                    <a:lnTo>
                      <a:pt x="276" y="228"/>
                    </a:lnTo>
                    <a:lnTo>
                      <a:pt x="252" y="228"/>
                    </a:lnTo>
                    <a:lnTo>
                      <a:pt x="234" y="222"/>
                    </a:lnTo>
                    <a:lnTo>
                      <a:pt x="210" y="216"/>
                    </a:lnTo>
                    <a:lnTo>
                      <a:pt x="192" y="204"/>
                    </a:lnTo>
                    <a:lnTo>
                      <a:pt x="174" y="198"/>
                    </a:lnTo>
                    <a:lnTo>
                      <a:pt x="156" y="180"/>
                    </a:lnTo>
                    <a:lnTo>
                      <a:pt x="150" y="180"/>
                    </a:lnTo>
                    <a:lnTo>
                      <a:pt x="150" y="174"/>
                    </a:lnTo>
                    <a:lnTo>
                      <a:pt x="144" y="168"/>
                    </a:lnTo>
                    <a:lnTo>
                      <a:pt x="144" y="144"/>
                    </a:lnTo>
                    <a:lnTo>
                      <a:pt x="150" y="138"/>
                    </a:lnTo>
                    <a:lnTo>
                      <a:pt x="150" y="132"/>
                    </a:lnTo>
                    <a:lnTo>
                      <a:pt x="162" y="132"/>
                    </a:lnTo>
                    <a:lnTo>
                      <a:pt x="252" y="120"/>
                    </a:lnTo>
                    <a:lnTo>
                      <a:pt x="186" y="96"/>
                    </a:lnTo>
                    <a:lnTo>
                      <a:pt x="90" y="132"/>
                    </a:lnTo>
                    <a:lnTo>
                      <a:pt x="84" y="144"/>
                    </a:lnTo>
                    <a:lnTo>
                      <a:pt x="72" y="156"/>
                    </a:lnTo>
                    <a:lnTo>
                      <a:pt x="60" y="168"/>
                    </a:lnTo>
                    <a:lnTo>
                      <a:pt x="48" y="174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18" y="186"/>
                    </a:lnTo>
                    <a:lnTo>
                      <a:pt x="12" y="18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42" y="132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48" y="60"/>
                    </a:lnTo>
                    <a:lnTo>
                      <a:pt x="138" y="24"/>
                    </a:lnTo>
                    <a:lnTo>
                      <a:pt x="180" y="0"/>
                    </a:lnTo>
                    <a:lnTo>
                      <a:pt x="204" y="30"/>
                    </a:lnTo>
                    <a:lnTo>
                      <a:pt x="216" y="24"/>
                    </a:lnTo>
                    <a:lnTo>
                      <a:pt x="264" y="42"/>
                    </a:lnTo>
                    <a:lnTo>
                      <a:pt x="276" y="48"/>
                    </a:lnTo>
                    <a:lnTo>
                      <a:pt x="294" y="60"/>
                    </a:lnTo>
                    <a:lnTo>
                      <a:pt x="312" y="72"/>
                    </a:lnTo>
                    <a:lnTo>
                      <a:pt x="324" y="84"/>
                    </a:lnTo>
                    <a:lnTo>
                      <a:pt x="336" y="96"/>
                    </a:lnTo>
                    <a:lnTo>
                      <a:pt x="348" y="108"/>
                    </a:lnTo>
                    <a:lnTo>
                      <a:pt x="354" y="126"/>
                    </a:lnTo>
                    <a:lnTo>
                      <a:pt x="360" y="144"/>
                    </a:lnTo>
                    <a:lnTo>
                      <a:pt x="366" y="162"/>
                    </a:lnTo>
                    <a:lnTo>
                      <a:pt x="372" y="180"/>
                    </a:lnTo>
                    <a:lnTo>
                      <a:pt x="372" y="216"/>
                    </a:lnTo>
                    <a:lnTo>
                      <a:pt x="366" y="240"/>
                    </a:lnTo>
                    <a:lnTo>
                      <a:pt x="360" y="258"/>
                    </a:lnTo>
                    <a:lnTo>
                      <a:pt x="360" y="276"/>
                    </a:lnTo>
                    <a:lnTo>
                      <a:pt x="366" y="306"/>
                    </a:lnTo>
                    <a:lnTo>
                      <a:pt x="360" y="336"/>
                    </a:lnTo>
                    <a:lnTo>
                      <a:pt x="360" y="366"/>
                    </a:lnTo>
                    <a:lnTo>
                      <a:pt x="354" y="390"/>
                    </a:lnTo>
                    <a:lnTo>
                      <a:pt x="348" y="420"/>
                    </a:lnTo>
                    <a:lnTo>
                      <a:pt x="336" y="450"/>
                    </a:lnTo>
                    <a:lnTo>
                      <a:pt x="324" y="474"/>
                    </a:lnTo>
                    <a:lnTo>
                      <a:pt x="312" y="504"/>
                    </a:lnTo>
                    <a:lnTo>
                      <a:pt x="294" y="510"/>
                    </a:lnTo>
                    <a:lnTo>
                      <a:pt x="270" y="522"/>
                    </a:lnTo>
                    <a:lnTo>
                      <a:pt x="252" y="522"/>
                    </a:lnTo>
                    <a:lnTo>
                      <a:pt x="228" y="528"/>
                    </a:lnTo>
                    <a:lnTo>
                      <a:pt x="186" y="528"/>
                    </a:lnTo>
                    <a:lnTo>
                      <a:pt x="168" y="522"/>
                    </a:lnTo>
                    <a:lnTo>
                      <a:pt x="168" y="276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9400" y="4678200"/>
                <a:ext cx="635040" cy="1144080"/>
              </a:xfrm>
              <a:custGeom>
                <a:avLst/>
                <a:gdLst/>
                <a:ahLst/>
                <a:rect l="l" t="t" r="r" b="b"/>
                <a:pathLst>
                  <a:path w="354" h="468">
                    <a:moveTo>
                      <a:pt x="0" y="264"/>
                    </a:moveTo>
                    <a:lnTo>
                      <a:pt x="12" y="288"/>
                    </a:lnTo>
                    <a:lnTo>
                      <a:pt x="18" y="312"/>
                    </a:lnTo>
                    <a:lnTo>
                      <a:pt x="24" y="318"/>
                    </a:lnTo>
                    <a:lnTo>
                      <a:pt x="36" y="336"/>
                    </a:lnTo>
                    <a:lnTo>
                      <a:pt x="48" y="348"/>
                    </a:lnTo>
                    <a:lnTo>
                      <a:pt x="54" y="360"/>
                    </a:lnTo>
                    <a:lnTo>
                      <a:pt x="84" y="396"/>
                    </a:lnTo>
                    <a:lnTo>
                      <a:pt x="102" y="420"/>
                    </a:lnTo>
                    <a:lnTo>
                      <a:pt x="126" y="444"/>
                    </a:lnTo>
                    <a:lnTo>
                      <a:pt x="150" y="462"/>
                    </a:lnTo>
                    <a:lnTo>
                      <a:pt x="162" y="468"/>
                    </a:lnTo>
                    <a:lnTo>
                      <a:pt x="354" y="468"/>
                    </a:lnTo>
                    <a:lnTo>
                      <a:pt x="354" y="180"/>
                    </a:lnTo>
                    <a:lnTo>
                      <a:pt x="318" y="138"/>
                    </a:lnTo>
                    <a:lnTo>
                      <a:pt x="318" y="144"/>
                    </a:lnTo>
                    <a:lnTo>
                      <a:pt x="324" y="162"/>
                    </a:lnTo>
                    <a:lnTo>
                      <a:pt x="330" y="180"/>
                    </a:lnTo>
                    <a:lnTo>
                      <a:pt x="324" y="204"/>
                    </a:lnTo>
                    <a:lnTo>
                      <a:pt x="324" y="222"/>
                    </a:lnTo>
                    <a:lnTo>
                      <a:pt x="318" y="240"/>
                    </a:lnTo>
                    <a:lnTo>
                      <a:pt x="318" y="258"/>
                    </a:lnTo>
                    <a:lnTo>
                      <a:pt x="318" y="240"/>
                    </a:lnTo>
                    <a:lnTo>
                      <a:pt x="312" y="216"/>
                    </a:lnTo>
                    <a:lnTo>
                      <a:pt x="312" y="192"/>
                    </a:lnTo>
                    <a:lnTo>
                      <a:pt x="306" y="174"/>
                    </a:lnTo>
                    <a:lnTo>
                      <a:pt x="300" y="162"/>
                    </a:lnTo>
                    <a:lnTo>
                      <a:pt x="294" y="156"/>
                    </a:lnTo>
                    <a:lnTo>
                      <a:pt x="294" y="150"/>
                    </a:lnTo>
                    <a:lnTo>
                      <a:pt x="288" y="144"/>
                    </a:lnTo>
                    <a:lnTo>
                      <a:pt x="282" y="144"/>
                    </a:lnTo>
                    <a:lnTo>
                      <a:pt x="276" y="138"/>
                    </a:lnTo>
                    <a:lnTo>
                      <a:pt x="270" y="144"/>
                    </a:lnTo>
                    <a:lnTo>
                      <a:pt x="264" y="144"/>
                    </a:lnTo>
                    <a:lnTo>
                      <a:pt x="258" y="150"/>
                    </a:lnTo>
                    <a:lnTo>
                      <a:pt x="252" y="162"/>
                    </a:lnTo>
                    <a:lnTo>
                      <a:pt x="246" y="174"/>
                    </a:lnTo>
                    <a:lnTo>
                      <a:pt x="246" y="192"/>
                    </a:lnTo>
                    <a:lnTo>
                      <a:pt x="240" y="186"/>
                    </a:lnTo>
                    <a:lnTo>
                      <a:pt x="234" y="180"/>
                    </a:lnTo>
                    <a:lnTo>
                      <a:pt x="222" y="180"/>
                    </a:lnTo>
                    <a:lnTo>
                      <a:pt x="222" y="186"/>
                    </a:lnTo>
                    <a:lnTo>
                      <a:pt x="210" y="186"/>
                    </a:lnTo>
                    <a:lnTo>
                      <a:pt x="198" y="198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86" y="228"/>
                    </a:lnTo>
                    <a:lnTo>
                      <a:pt x="186" y="240"/>
                    </a:lnTo>
                    <a:lnTo>
                      <a:pt x="180" y="228"/>
                    </a:lnTo>
                    <a:lnTo>
                      <a:pt x="174" y="222"/>
                    </a:lnTo>
                    <a:lnTo>
                      <a:pt x="174" y="210"/>
                    </a:lnTo>
                    <a:lnTo>
                      <a:pt x="174" y="186"/>
                    </a:lnTo>
                    <a:lnTo>
                      <a:pt x="180" y="174"/>
                    </a:lnTo>
                    <a:lnTo>
                      <a:pt x="186" y="162"/>
                    </a:lnTo>
                    <a:lnTo>
                      <a:pt x="192" y="144"/>
                    </a:lnTo>
                    <a:lnTo>
                      <a:pt x="198" y="126"/>
                    </a:lnTo>
                    <a:lnTo>
                      <a:pt x="204" y="114"/>
                    </a:lnTo>
                    <a:lnTo>
                      <a:pt x="210" y="96"/>
                    </a:lnTo>
                    <a:lnTo>
                      <a:pt x="210" y="84"/>
                    </a:lnTo>
                    <a:lnTo>
                      <a:pt x="216" y="66"/>
                    </a:lnTo>
                    <a:lnTo>
                      <a:pt x="216" y="54"/>
                    </a:lnTo>
                    <a:lnTo>
                      <a:pt x="210" y="36"/>
                    </a:lnTo>
                    <a:lnTo>
                      <a:pt x="204" y="24"/>
                    </a:lnTo>
                    <a:lnTo>
                      <a:pt x="204" y="0"/>
                    </a:lnTo>
                    <a:lnTo>
                      <a:pt x="204" y="24"/>
                    </a:lnTo>
                    <a:lnTo>
                      <a:pt x="204" y="30"/>
                    </a:lnTo>
                    <a:lnTo>
                      <a:pt x="198" y="54"/>
                    </a:lnTo>
                    <a:lnTo>
                      <a:pt x="192" y="78"/>
                    </a:lnTo>
                    <a:lnTo>
                      <a:pt x="186" y="102"/>
                    </a:lnTo>
                    <a:lnTo>
                      <a:pt x="180" y="126"/>
                    </a:lnTo>
                    <a:lnTo>
                      <a:pt x="174" y="138"/>
                    </a:lnTo>
                    <a:lnTo>
                      <a:pt x="162" y="156"/>
                    </a:lnTo>
                    <a:lnTo>
                      <a:pt x="144" y="168"/>
                    </a:lnTo>
                    <a:lnTo>
                      <a:pt x="126" y="174"/>
                    </a:lnTo>
                    <a:lnTo>
                      <a:pt x="102" y="186"/>
                    </a:lnTo>
                    <a:lnTo>
                      <a:pt x="84" y="186"/>
                    </a:lnTo>
                    <a:lnTo>
                      <a:pt x="60" y="192"/>
                    </a:lnTo>
                    <a:lnTo>
                      <a:pt x="18" y="192"/>
                    </a:lnTo>
                    <a:lnTo>
                      <a:pt x="0" y="186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791520" y="4678200"/>
                <a:ext cx="279720" cy="630720"/>
              </a:xfrm>
              <a:custGeom>
                <a:avLst/>
                <a:gdLst/>
                <a:ahLst/>
                <a:rect l="l" t="t" r="r" b="b"/>
                <a:pathLst>
                  <a:path w="156" h="258">
                    <a:moveTo>
                      <a:pt x="144" y="138"/>
                    </a:moveTo>
                    <a:lnTo>
                      <a:pt x="144" y="144"/>
                    </a:lnTo>
                    <a:lnTo>
                      <a:pt x="150" y="162"/>
                    </a:lnTo>
                    <a:lnTo>
                      <a:pt x="156" y="180"/>
                    </a:lnTo>
                    <a:lnTo>
                      <a:pt x="150" y="204"/>
                    </a:lnTo>
                    <a:lnTo>
                      <a:pt x="150" y="222"/>
                    </a:lnTo>
                    <a:lnTo>
                      <a:pt x="144" y="240"/>
                    </a:lnTo>
                    <a:lnTo>
                      <a:pt x="144" y="258"/>
                    </a:lnTo>
                    <a:lnTo>
                      <a:pt x="144" y="240"/>
                    </a:lnTo>
                    <a:lnTo>
                      <a:pt x="138" y="216"/>
                    </a:lnTo>
                    <a:lnTo>
                      <a:pt x="138" y="192"/>
                    </a:lnTo>
                    <a:lnTo>
                      <a:pt x="132" y="174"/>
                    </a:lnTo>
                    <a:lnTo>
                      <a:pt x="126" y="162"/>
                    </a:lnTo>
                    <a:lnTo>
                      <a:pt x="120" y="156"/>
                    </a:lnTo>
                    <a:lnTo>
                      <a:pt x="120" y="150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38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50"/>
                    </a:lnTo>
                    <a:lnTo>
                      <a:pt x="78" y="162"/>
                    </a:lnTo>
                    <a:lnTo>
                      <a:pt x="72" y="174"/>
                    </a:lnTo>
                    <a:lnTo>
                      <a:pt x="72" y="192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36" y="186"/>
                    </a:lnTo>
                    <a:lnTo>
                      <a:pt x="24" y="198"/>
                    </a:lnTo>
                    <a:lnTo>
                      <a:pt x="18" y="204"/>
                    </a:lnTo>
                    <a:lnTo>
                      <a:pt x="18" y="216"/>
                    </a:lnTo>
                    <a:lnTo>
                      <a:pt x="12" y="228"/>
                    </a:lnTo>
                    <a:lnTo>
                      <a:pt x="12" y="240"/>
                    </a:lnTo>
                    <a:lnTo>
                      <a:pt x="6" y="228"/>
                    </a:lnTo>
                    <a:lnTo>
                      <a:pt x="0" y="222"/>
                    </a:lnTo>
                    <a:lnTo>
                      <a:pt x="0" y="210"/>
                    </a:lnTo>
                    <a:lnTo>
                      <a:pt x="0" y="186"/>
                    </a:lnTo>
                    <a:lnTo>
                      <a:pt x="6" y="174"/>
                    </a:lnTo>
                    <a:lnTo>
                      <a:pt x="12" y="162"/>
                    </a:lnTo>
                    <a:lnTo>
                      <a:pt x="18" y="144"/>
                    </a:lnTo>
                    <a:lnTo>
                      <a:pt x="24" y="126"/>
                    </a:lnTo>
                    <a:lnTo>
                      <a:pt x="30" y="114"/>
                    </a:lnTo>
                    <a:lnTo>
                      <a:pt x="36" y="96"/>
                    </a:lnTo>
                    <a:lnTo>
                      <a:pt x="36" y="84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144" y="13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77560" y="5221080"/>
                <a:ext cx="42840" cy="13176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24" y="30"/>
                    </a:moveTo>
                    <a:lnTo>
                      <a:pt x="24" y="1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97840" y="5529240"/>
                <a:ext cx="226080" cy="13176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0" y="0"/>
                    </a:move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759480" y="5015880"/>
                <a:ext cx="236520" cy="58644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132" y="240"/>
                    </a:moveTo>
                    <a:lnTo>
                      <a:pt x="114" y="228"/>
                    </a:lnTo>
                    <a:lnTo>
                      <a:pt x="96" y="216"/>
                    </a:lnTo>
                    <a:lnTo>
                      <a:pt x="78" y="198"/>
                    </a:lnTo>
                    <a:lnTo>
                      <a:pt x="60" y="180"/>
                    </a:lnTo>
                    <a:lnTo>
                      <a:pt x="48" y="162"/>
                    </a:lnTo>
                    <a:lnTo>
                      <a:pt x="30" y="144"/>
                    </a:lnTo>
                    <a:lnTo>
                      <a:pt x="18" y="120"/>
                    </a:lnTo>
                    <a:lnTo>
                      <a:pt x="6" y="102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7552440" y="6119640"/>
            <a:ext cx="1357200" cy="581400"/>
          </a:xfrm>
          <a:prstGeom prst="rect">
            <a:avLst/>
          </a:prstGeom>
          <a:gradFill rotWithShape="0">
            <a:gsLst>
              <a:gs pos="0">
                <a:srgbClr val="378a8a"/>
              </a:gs>
              <a:gs pos="50000">
                <a:srgbClr val="66ffff"/>
              </a:gs>
              <a:gs pos="100000">
                <a:srgbClr val="378a8a"/>
              </a:gs>
            </a:gsLst>
            <a:lin ang="54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4208400"/>
            <a:ext cx="35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200 000 - $15 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0" y="52848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$200 000 + $15 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7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7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941480" y="152280"/>
            <a:ext cx="518148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pre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70280" y="5559480"/>
            <a:ext cx="193680" cy="263520"/>
          </a:xfrm>
          <a:custGeom>
            <a:avLst/>
            <a:gdLst/>
            <a:ahLst/>
            <a:rect l="l" t="t" r="r" b="b"/>
            <a:pathLst>
              <a:path w="108" h="108">
                <a:moveTo>
                  <a:pt x="72" y="108"/>
                </a:moveTo>
                <a:lnTo>
                  <a:pt x="66" y="102"/>
                </a:lnTo>
                <a:lnTo>
                  <a:pt x="48" y="84"/>
                </a:lnTo>
                <a:lnTo>
                  <a:pt x="30" y="60"/>
                </a:lnTo>
                <a:lnTo>
                  <a:pt x="18" y="42"/>
                </a:lnTo>
                <a:lnTo>
                  <a:pt x="6" y="18"/>
                </a:lnTo>
                <a:lnTo>
                  <a:pt x="0" y="0"/>
                </a:lnTo>
                <a:lnTo>
                  <a:pt x="30" y="36"/>
                </a:lnTo>
                <a:lnTo>
                  <a:pt x="48" y="60"/>
                </a:lnTo>
                <a:lnTo>
                  <a:pt x="72" y="84"/>
                </a:lnTo>
                <a:lnTo>
                  <a:pt x="96" y="102"/>
                </a:lnTo>
                <a:lnTo>
                  <a:pt x="108" y="108"/>
                </a:lnTo>
                <a:lnTo>
                  <a:pt x="72" y="10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0" y="1611360"/>
            <a:ext cx="3898800" cy="4395600"/>
            <a:chOff x="0" y="1611360"/>
            <a:chExt cx="3898800" cy="4395600"/>
          </a:xfrm>
        </p:grpSpPr>
        <p:sp>
          <p:nvSpPr>
            <p:cNvPr id="308" name=""/>
            <p:cNvSpPr/>
            <p:nvPr/>
          </p:nvSpPr>
          <p:spPr>
            <a:xfrm>
              <a:off x="2876400" y="2616120"/>
              <a:ext cx="936720" cy="339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320" y="4032360"/>
              <a:ext cx="268200" cy="36828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90" y="18"/>
                  </a:moveTo>
                  <a:lnTo>
                    <a:pt x="72" y="18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54" y="36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84" y="60"/>
                  </a:lnTo>
                  <a:lnTo>
                    <a:pt x="144" y="84"/>
                  </a:lnTo>
                  <a:lnTo>
                    <a:pt x="150" y="150"/>
                  </a:lnTo>
                  <a:lnTo>
                    <a:pt x="36" y="60"/>
                  </a:lnTo>
                  <a:lnTo>
                    <a:pt x="12" y="36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78" y="12"/>
                  </a:lnTo>
                  <a:lnTo>
                    <a:pt x="96" y="12"/>
                  </a:lnTo>
                  <a:lnTo>
                    <a:pt x="114" y="24"/>
                  </a:lnTo>
                  <a:lnTo>
                    <a:pt x="90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320" y="3900600"/>
              <a:ext cx="290520" cy="338040"/>
            </a:xfrm>
            <a:custGeom>
              <a:avLst/>
              <a:gdLst/>
              <a:ahLst/>
              <a:rect l="l" t="t" r="r" b="b"/>
              <a:pathLst>
                <a:path w="162" h="138">
                  <a:moveTo>
                    <a:pt x="144" y="138"/>
                  </a:moveTo>
                  <a:lnTo>
                    <a:pt x="84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54" y="90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72" y="72"/>
                  </a:lnTo>
                  <a:lnTo>
                    <a:pt x="90" y="72"/>
                  </a:lnTo>
                  <a:lnTo>
                    <a:pt x="114" y="78"/>
                  </a:lnTo>
                  <a:lnTo>
                    <a:pt x="96" y="66"/>
                  </a:lnTo>
                  <a:lnTo>
                    <a:pt x="78" y="66"/>
                  </a:lnTo>
                  <a:lnTo>
                    <a:pt x="60" y="60"/>
                  </a:lnTo>
                  <a:lnTo>
                    <a:pt x="42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132" y="30"/>
                  </a:lnTo>
                  <a:lnTo>
                    <a:pt x="162" y="54"/>
                  </a:lnTo>
                  <a:lnTo>
                    <a:pt x="162" y="66"/>
                  </a:lnTo>
                  <a:lnTo>
                    <a:pt x="162" y="66"/>
                  </a:lnTo>
                  <a:lnTo>
                    <a:pt x="156" y="72"/>
                  </a:lnTo>
                  <a:lnTo>
                    <a:pt x="150" y="78"/>
                  </a:lnTo>
                  <a:lnTo>
                    <a:pt x="138" y="78"/>
                  </a:lnTo>
                  <a:lnTo>
                    <a:pt x="144" y="13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320" y="3548160"/>
              <a:ext cx="344520" cy="455400"/>
            </a:xfrm>
            <a:custGeom>
              <a:avLst/>
              <a:gdLst/>
              <a:ahLst/>
              <a:rect l="l" t="t" r="r" b="b"/>
              <a:pathLst>
                <a:path w="192" h="186">
                  <a:moveTo>
                    <a:pt x="168" y="138"/>
                  </a:moveTo>
                  <a:lnTo>
                    <a:pt x="174" y="138"/>
                  </a:lnTo>
                  <a:lnTo>
                    <a:pt x="186" y="138"/>
                  </a:lnTo>
                  <a:lnTo>
                    <a:pt x="192" y="13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36" y="24"/>
                  </a:lnTo>
                  <a:lnTo>
                    <a:pt x="24" y="48"/>
                  </a:lnTo>
                  <a:lnTo>
                    <a:pt x="18" y="72"/>
                  </a:lnTo>
                  <a:lnTo>
                    <a:pt x="12" y="96"/>
                  </a:lnTo>
                  <a:lnTo>
                    <a:pt x="6" y="126"/>
                  </a:lnTo>
                  <a:lnTo>
                    <a:pt x="0" y="150"/>
                  </a:lnTo>
                  <a:lnTo>
                    <a:pt x="0" y="186"/>
                  </a:lnTo>
                  <a:lnTo>
                    <a:pt x="24" y="174"/>
                  </a:lnTo>
                  <a:lnTo>
                    <a:pt x="24" y="174"/>
                  </a:lnTo>
                  <a:lnTo>
                    <a:pt x="24" y="162"/>
                  </a:lnTo>
                  <a:lnTo>
                    <a:pt x="24" y="150"/>
                  </a:lnTo>
                  <a:lnTo>
                    <a:pt x="30" y="150"/>
                  </a:lnTo>
                  <a:lnTo>
                    <a:pt x="36" y="144"/>
                  </a:lnTo>
                  <a:lnTo>
                    <a:pt x="42" y="144"/>
                  </a:lnTo>
                  <a:lnTo>
                    <a:pt x="132" y="174"/>
                  </a:lnTo>
                  <a:lnTo>
                    <a:pt x="48" y="120"/>
                  </a:lnTo>
                  <a:lnTo>
                    <a:pt x="42" y="114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36" y="78"/>
                  </a:lnTo>
                  <a:lnTo>
                    <a:pt x="36" y="78"/>
                  </a:lnTo>
                  <a:lnTo>
                    <a:pt x="48" y="66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168" y="13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680" y="3695760"/>
              <a:ext cx="290520" cy="336600"/>
            </a:xfrm>
            <a:custGeom>
              <a:avLst/>
              <a:gdLst/>
              <a:ahLst/>
              <a:rect l="l" t="t" r="r" b="b"/>
              <a:pathLst>
                <a:path w="162" h="138">
                  <a:moveTo>
                    <a:pt x="96" y="114"/>
                  </a:moveTo>
                  <a:lnTo>
                    <a:pt x="12" y="60"/>
                  </a:lnTo>
                  <a:lnTo>
                    <a:pt x="6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132" y="78"/>
                  </a:lnTo>
                  <a:lnTo>
                    <a:pt x="132" y="78"/>
                  </a:lnTo>
                  <a:lnTo>
                    <a:pt x="150" y="90"/>
                  </a:lnTo>
                  <a:lnTo>
                    <a:pt x="156" y="96"/>
                  </a:lnTo>
                  <a:lnTo>
                    <a:pt x="156" y="102"/>
                  </a:lnTo>
                  <a:lnTo>
                    <a:pt x="162" y="108"/>
                  </a:lnTo>
                  <a:lnTo>
                    <a:pt x="162" y="120"/>
                  </a:lnTo>
                  <a:lnTo>
                    <a:pt x="156" y="126"/>
                  </a:lnTo>
                  <a:lnTo>
                    <a:pt x="156" y="132"/>
                  </a:lnTo>
                  <a:lnTo>
                    <a:pt x="150" y="138"/>
                  </a:lnTo>
                  <a:lnTo>
                    <a:pt x="144" y="138"/>
                  </a:lnTo>
                  <a:lnTo>
                    <a:pt x="132" y="138"/>
                  </a:lnTo>
                  <a:lnTo>
                    <a:pt x="126" y="138"/>
                  </a:lnTo>
                  <a:lnTo>
                    <a:pt x="96" y="11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8000" y="3489480"/>
              <a:ext cx="279360" cy="39672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84" y="30"/>
                  </a:moveTo>
                  <a:lnTo>
                    <a:pt x="156" y="144"/>
                  </a:lnTo>
                  <a:lnTo>
                    <a:pt x="156" y="150"/>
                  </a:lnTo>
                  <a:lnTo>
                    <a:pt x="144" y="16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84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8000" y="3298680"/>
              <a:ext cx="117360" cy="220680"/>
            </a:xfrm>
            <a:custGeom>
              <a:avLst/>
              <a:gdLst/>
              <a:ahLst/>
              <a:rect l="l" t="t" r="r" b="b"/>
              <a:pathLst>
                <a:path w="66" h="90">
                  <a:moveTo>
                    <a:pt x="18" y="84"/>
                  </a:moveTo>
                  <a:lnTo>
                    <a:pt x="24" y="78"/>
                  </a:lnTo>
                  <a:lnTo>
                    <a:pt x="42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66" y="60"/>
                  </a:lnTo>
                  <a:lnTo>
                    <a:pt x="60" y="66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36" y="66"/>
                  </a:lnTo>
                  <a:lnTo>
                    <a:pt x="18" y="4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2" y="90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9680" y="3298680"/>
              <a:ext cx="85680" cy="176400"/>
            </a:xfrm>
            <a:custGeom>
              <a:avLst/>
              <a:gdLst/>
              <a:ahLst/>
              <a:rect l="l" t="t" r="r" b="b"/>
              <a:pathLst>
                <a:path w="48" h="72">
                  <a:moveTo>
                    <a:pt x="36" y="18"/>
                  </a:moveTo>
                  <a:lnTo>
                    <a:pt x="48" y="36"/>
                  </a:lnTo>
                  <a:lnTo>
                    <a:pt x="48" y="60"/>
                  </a:lnTo>
                  <a:lnTo>
                    <a:pt x="42" y="66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320" y="400356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62000" y="3371760"/>
              <a:ext cx="3168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1670040"/>
              <a:ext cx="581040" cy="4152960"/>
            </a:xfrm>
            <a:custGeom>
              <a:avLst/>
              <a:gdLst/>
              <a:ahLst/>
              <a:rect l="l" t="t" r="r" b="b"/>
              <a:pathLst>
                <a:path w="324" h="1698">
                  <a:moveTo>
                    <a:pt x="234" y="1698"/>
                  </a:moveTo>
                  <a:lnTo>
                    <a:pt x="312" y="1698"/>
                  </a:lnTo>
                  <a:lnTo>
                    <a:pt x="324" y="1356"/>
                  </a:lnTo>
                  <a:lnTo>
                    <a:pt x="300" y="1050"/>
                  </a:lnTo>
                  <a:lnTo>
                    <a:pt x="258" y="900"/>
                  </a:lnTo>
                  <a:lnTo>
                    <a:pt x="294" y="948"/>
                  </a:lnTo>
                  <a:lnTo>
                    <a:pt x="246" y="0"/>
                  </a:lnTo>
                  <a:lnTo>
                    <a:pt x="114" y="66"/>
                  </a:lnTo>
                  <a:lnTo>
                    <a:pt x="36" y="120"/>
                  </a:lnTo>
                  <a:lnTo>
                    <a:pt x="0" y="144"/>
                  </a:lnTo>
                  <a:lnTo>
                    <a:pt x="12" y="150"/>
                  </a:lnTo>
                  <a:lnTo>
                    <a:pt x="30" y="168"/>
                  </a:lnTo>
                  <a:lnTo>
                    <a:pt x="42" y="186"/>
                  </a:lnTo>
                  <a:lnTo>
                    <a:pt x="54" y="204"/>
                  </a:lnTo>
                  <a:lnTo>
                    <a:pt x="66" y="228"/>
                  </a:lnTo>
                  <a:lnTo>
                    <a:pt x="78" y="252"/>
                  </a:lnTo>
                  <a:lnTo>
                    <a:pt x="84" y="276"/>
                  </a:lnTo>
                  <a:lnTo>
                    <a:pt x="84" y="300"/>
                  </a:lnTo>
                  <a:lnTo>
                    <a:pt x="114" y="684"/>
                  </a:lnTo>
                  <a:lnTo>
                    <a:pt x="126" y="702"/>
                  </a:lnTo>
                  <a:lnTo>
                    <a:pt x="126" y="726"/>
                  </a:lnTo>
                  <a:lnTo>
                    <a:pt x="126" y="744"/>
                  </a:lnTo>
                  <a:lnTo>
                    <a:pt x="144" y="774"/>
                  </a:lnTo>
                  <a:lnTo>
                    <a:pt x="216" y="888"/>
                  </a:lnTo>
                  <a:lnTo>
                    <a:pt x="228" y="906"/>
                  </a:lnTo>
                  <a:lnTo>
                    <a:pt x="198" y="1470"/>
                  </a:lnTo>
                  <a:lnTo>
                    <a:pt x="234" y="1698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40" y="1832040"/>
              <a:ext cx="162000" cy="131760"/>
            </a:xfrm>
            <a:custGeom>
              <a:avLst/>
              <a:gdLst/>
              <a:ahLst/>
              <a:rect l="l" t="t" r="r" b="b"/>
              <a:pathLst>
                <a:path w="90" h="54">
                  <a:moveTo>
                    <a:pt x="12" y="54"/>
                  </a:moveTo>
                  <a:lnTo>
                    <a:pt x="90" y="0"/>
                  </a:lnTo>
                  <a:lnTo>
                    <a:pt x="0" y="30"/>
                  </a:lnTo>
                  <a:lnTo>
                    <a:pt x="12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840" y="3489480"/>
              <a:ext cx="54000" cy="74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6" y="6"/>
                  </a:moveTo>
                  <a:lnTo>
                    <a:pt x="0" y="12"/>
                  </a:lnTo>
                  <a:lnTo>
                    <a:pt x="30" y="30"/>
                  </a:lnTo>
                  <a:lnTo>
                    <a:pt x="12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47680" y="4003200"/>
              <a:ext cx="1116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90520" y="3930480"/>
              <a:ext cx="3348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0000" y="3841920"/>
              <a:ext cx="139680" cy="1423800"/>
            </a:xfrm>
            <a:custGeom>
              <a:avLst/>
              <a:gdLst/>
              <a:ahLst/>
              <a:rect l="l" t="t" r="r" b="b"/>
              <a:pathLst>
                <a:path w="78" h="582">
                  <a:moveTo>
                    <a:pt x="0" y="102"/>
                  </a:moveTo>
                  <a:lnTo>
                    <a:pt x="12" y="102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8" y="78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0"/>
                  </a:lnTo>
                  <a:lnTo>
                    <a:pt x="60" y="48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48" y="30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8" y="18"/>
                  </a:lnTo>
                  <a:lnTo>
                    <a:pt x="48" y="582"/>
                  </a:lnTo>
                  <a:lnTo>
                    <a:pt x="12" y="228"/>
                  </a:lnTo>
                  <a:lnTo>
                    <a:pt x="6" y="16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360" y="1611360"/>
              <a:ext cx="3349440" cy="4211640"/>
            </a:xfrm>
            <a:custGeom>
              <a:avLst/>
              <a:gdLst/>
              <a:ahLst/>
              <a:rect l="l" t="t" r="r" b="b"/>
              <a:pathLst>
                <a:path w="1866" h="1722">
                  <a:moveTo>
                    <a:pt x="1866" y="6"/>
                  </a:moveTo>
                  <a:lnTo>
                    <a:pt x="1866" y="660"/>
                  </a:lnTo>
                  <a:lnTo>
                    <a:pt x="1854" y="744"/>
                  </a:lnTo>
                  <a:lnTo>
                    <a:pt x="1836" y="822"/>
                  </a:lnTo>
                  <a:lnTo>
                    <a:pt x="1830" y="822"/>
                  </a:lnTo>
                  <a:lnTo>
                    <a:pt x="1818" y="816"/>
                  </a:lnTo>
                  <a:lnTo>
                    <a:pt x="1812" y="816"/>
                  </a:lnTo>
                  <a:lnTo>
                    <a:pt x="1794" y="822"/>
                  </a:lnTo>
                  <a:lnTo>
                    <a:pt x="1806" y="708"/>
                  </a:lnTo>
                  <a:lnTo>
                    <a:pt x="1776" y="696"/>
                  </a:lnTo>
                  <a:lnTo>
                    <a:pt x="1752" y="696"/>
                  </a:lnTo>
                  <a:lnTo>
                    <a:pt x="1728" y="690"/>
                  </a:lnTo>
                  <a:lnTo>
                    <a:pt x="1704" y="684"/>
                  </a:lnTo>
                  <a:lnTo>
                    <a:pt x="1656" y="684"/>
                  </a:lnTo>
                  <a:lnTo>
                    <a:pt x="1632" y="690"/>
                  </a:lnTo>
                  <a:lnTo>
                    <a:pt x="1608" y="696"/>
                  </a:lnTo>
                  <a:lnTo>
                    <a:pt x="1590" y="702"/>
                  </a:lnTo>
                  <a:lnTo>
                    <a:pt x="1578" y="726"/>
                  </a:lnTo>
                  <a:lnTo>
                    <a:pt x="1566" y="750"/>
                  </a:lnTo>
                  <a:lnTo>
                    <a:pt x="1560" y="774"/>
                  </a:lnTo>
                  <a:lnTo>
                    <a:pt x="1554" y="804"/>
                  </a:lnTo>
                  <a:lnTo>
                    <a:pt x="1548" y="828"/>
                  </a:lnTo>
                  <a:lnTo>
                    <a:pt x="1542" y="852"/>
                  </a:lnTo>
                  <a:lnTo>
                    <a:pt x="1542" y="906"/>
                  </a:lnTo>
                  <a:lnTo>
                    <a:pt x="1548" y="930"/>
                  </a:lnTo>
                  <a:lnTo>
                    <a:pt x="1554" y="924"/>
                  </a:lnTo>
                  <a:lnTo>
                    <a:pt x="1566" y="918"/>
                  </a:lnTo>
                  <a:lnTo>
                    <a:pt x="1584" y="906"/>
                  </a:lnTo>
                  <a:lnTo>
                    <a:pt x="1602" y="900"/>
                  </a:lnTo>
                  <a:lnTo>
                    <a:pt x="1620" y="894"/>
                  </a:lnTo>
                  <a:lnTo>
                    <a:pt x="1626" y="900"/>
                  </a:lnTo>
                  <a:lnTo>
                    <a:pt x="1632" y="900"/>
                  </a:lnTo>
                  <a:lnTo>
                    <a:pt x="1644" y="906"/>
                  </a:lnTo>
                  <a:lnTo>
                    <a:pt x="1662" y="906"/>
                  </a:lnTo>
                  <a:lnTo>
                    <a:pt x="1686" y="906"/>
                  </a:lnTo>
                  <a:lnTo>
                    <a:pt x="1704" y="906"/>
                  </a:lnTo>
                  <a:lnTo>
                    <a:pt x="1722" y="900"/>
                  </a:lnTo>
                  <a:lnTo>
                    <a:pt x="1746" y="906"/>
                  </a:lnTo>
                  <a:lnTo>
                    <a:pt x="1764" y="906"/>
                  </a:lnTo>
                  <a:lnTo>
                    <a:pt x="1782" y="906"/>
                  </a:lnTo>
                  <a:lnTo>
                    <a:pt x="1794" y="906"/>
                  </a:lnTo>
                  <a:lnTo>
                    <a:pt x="1800" y="912"/>
                  </a:lnTo>
                  <a:lnTo>
                    <a:pt x="1806" y="918"/>
                  </a:lnTo>
                  <a:lnTo>
                    <a:pt x="1818" y="918"/>
                  </a:lnTo>
                  <a:lnTo>
                    <a:pt x="1812" y="918"/>
                  </a:lnTo>
                  <a:lnTo>
                    <a:pt x="1770" y="942"/>
                  </a:lnTo>
                  <a:lnTo>
                    <a:pt x="1746" y="936"/>
                  </a:lnTo>
                  <a:lnTo>
                    <a:pt x="1728" y="936"/>
                  </a:lnTo>
                  <a:lnTo>
                    <a:pt x="1710" y="942"/>
                  </a:lnTo>
                  <a:lnTo>
                    <a:pt x="1692" y="942"/>
                  </a:lnTo>
                  <a:lnTo>
                    <a:pt x="1674" y="954"/>
                  </a:lnTo>
                  <a:lnTo>
                    <a:pt x="1656" y="960"/>
                  </a:lnTo>
                  <a:lnTo>
                    <a:pt x="1638" y="972"/>
                  </a:lnTo>
                  <a:lnTo>
                    <a:pt x="1620" y="984"/>
                  </a:lnTo>
                  <a:lnTo>
                    <a:pt x="1608" y="996"/>
                  </a:lnTo>
                  <a:lnTo>
                    <a:pt x="1596" y="1014"/>
                  </a:lnTo>
                  <a:lnTo>
                    <a:pt x="1584" y="1026"/>
                  </a:lnTo>
                  <a:lnTo>
                    <a:pt x="1578" y="1038"/>
                  </a:lnTo>
                  <a:lnTo>
                    <a:pt x="1572" y="1050"/>
                  </a:lnTo>
                  <a:lnTo>
                    <a:pt x="1566" y="1068"/>
                  </a:lnTo>
                  <a:lnTo>
                    <a:pt x="1554" y="1080"/>
                  </a:lnTo>
                  <a:lnTo>
                    <a:pt x="1542" y="1092"/>
                  </a:lnTo>
                  <a:lnTo>
                    <a:pt x="1530" y="1104"/>
                  </a:lnTo>
                  <a:lnTo>
                    <a:pt x="1518" y="1110"/>
                  </a:lnTo>
                  <a:lnTo>
                    <a:pt x="1500" y="1122"/>
                  </a:lnTo>
                  <a:lnTo>
                    <a:pt x="1482" y="1122"/>
                  </a:lnTo>
                  <a:lnTo>
                    <a:pt x="1476" y="1128"/>
                  </a:lnTo>
                  <a:lnTo>
                    <a:pt x="1458" y="1128"/>
                  </a:lnTo>
                  <a:lnTo>
                    <a:pt x="1446" y="1122"/>
                  </a:lnTo>
                  <a:lnTo>
                    <a:pt x="1422" y="1122"/>
                  </a:lnTo>
                  <a:lnTo>
                    <a:pt x="1374" y="1122"/>
                  </a:lnTo>
                  <a:lnTo>
                    <a:pt x="1350" y="1122"/>
                  </a:lnTo>
                  <a:lnTo>
                    <a:pt x="1338" y="1122"/>
                  </a:lnTo>
                  <a:lnTo>
                    <a:pt x="1356" y="1134"/>
                  </a:lnTo>
                  <a:lnTo>
                    <a:pt x="1380" y="1146"/>
                  </a:lnTo>
                  <a:lnTo>
                    <a:pt x="1398" y="1158"/>
                  </a:lnTo>
                  <a:lnTo>
                    <a:pt x="1416" y="1170"/>
                  </a:lnTo>
                  <a:lnTo>
                    <a:pt x="1434" y="1188"/>
                  </a:lnTo>
                  <a:lnTo>
                    <a:pt x="1446" y="1206"/>
                  </a:lnTo>
                  <a:lnTo>
                    <a:pt x="1458" y="1224"/>
                  </a:lnTo>
                  <a:lnTo>
                    <a:pt x="1470" y="1236"/>
                  </a:lnTo>
                  <a:lnTo>
                    <a:pt x="1476" y="1254"/>
                  </a:lnTo>
                  <a:lnTo>
                    <a:pt x="1476" y="1266"/>
                  </a:lnTo>
                  <a:lnTo>
                    <a:pt x="1482" y="1284"/>
                  </a:lnTo>
                  <a:lnTo>
                    <a:pt x="1482" y="1302"/>
                  </a:lnTo>
                  <a:lnTo>
                    <a:pt x="1482" y="1314"/>
                  </a:lnTo>
                  <a:lnTo>
                    <a:pt x="1512" y="1278"/>
                  </a:lnTo>
                  <a:lnTo>
                    <a:pt x="1650" y="1116"/>
                  </a:lnTo>
                  <a:lnTo>
                    <a:pt x="1662" y="1116"/>
                  </a:lnTo>
                  <a:lnTo>
                    <a:pt x="1668" y="1116"/>
                  </a:lnTo>
                  <a:lnTo>
                    <a:pt x="1674" y="1116"/>
                  </a:lnTo>
                  <a:lnTo>
                    <a:pt x="1692" y="1110"/>
                  </a:lnTo>
                  <a:lnTo>
                    <a:pt x="1704" y="1098"/>
                  </a:lnTo>
                  <a:lnTo>
                    <a:pt x="1716" y="1092"/>
                  </a:lnTo>
                  <a:lnTo>
                    <a:pt x="1722" y="1080"/>
                  </a:lnTo>
                  <a:lnTo>
                    <a:pt x="1734" y="1068"/>
                  </a:lnTo>
                  <a:lnTo>
                    <a:pt x="1734" y="1062"/>
                  </a:lnTo>
                  <a:lnTo>
                    <a:pt x="1794" y="1050"/>
                  </a:lnTo>
                  <a:lnTo>
                    <a:pt x="1782" y="1050"/>
                  </a:lnTo>
                  <a:lnTo>
                    <a:pt x="1782" y="1056"/>
                  </a:lnTo>
                  <a:lnTo>
                    <a:pt x="1776" y="1062"/>
                  </a:lnTo>
                  <a:lnTo>
                    <a:pt x="1776" y="1074"/>
                  </a:lnTo>
                  <a:lnTo>
                    <a:pt x="1746" y="1188"/>
                  </a:lnTo>
                  <a:lnTo>
                    <a:pt x="1758" y="1200"/>
                  </a:lnTo>
                  <a:lnTo>
                    <a:pt x="1776" y="1200"/>
                  </a:lnTo>
                  <a:lnTo>
                    <a:pt x="1782" y="1200"/>
                  </a:lnTo>
                  <a:lnTo>
                    <a:pt x="1794" y="1194"/>
                  </a:lnTo>
                  <a:lnTo>
                    <a:pt x="1800" y="1194"/>
                  </a:lnTo>
                  <a:lnTo>
                    <a:pt x="1800" y="1722"/>
                  </a:lnTo>
                  <a:lnTo>
                    <a:pt x="66" y="1722"/>
                  </a:lnTo>
                  <a:lnTo>
                    <a:pt x="78" y="1380"/>
                  </a:lnTo>
                  <a:lnTo>
                    <a:pt x="54" y="1074"/>
                  </a:lnTo>
                  <a:lnTo>
                    <a:pt x="12" y="924"/>
                  </a:lnTo>
                  <a:lnTo>
                    <a:pt x="48" y="972"/>
                  </a:lnTo>
                  <a:lnTo>
                    <a:pt x="0" y="24"/>
                  </a:lnTo>
                  <a:lnTo>
                    <a:pt x="138" y="12"/>
                  </a:lnTo>
                  <a:lnTo>
                    <a:pt x="282" y="12"/>
                  </a:lnTo>
                  <a:lnTo>
                    <a:pt x="426" y="12"/>
                  </a:lnTo>
                  <a:lnTo>
                    <a:pt x="570" y="24"/>
                  </a:lnTo>
                  <a:lnTo>
                    <a:pt x="630" y="18"/>
                  </a:lnTo>
                  <a:lnTo>
                    <a:pt x="792" y="12"/>
                  </a:lnTo>
                  <a:lnTo>
                    <a:pt x="948" y="12"/>
                  </a:lnTo>
                  <a:lnTo>
                    <a:pt x="1104" y="18"/>
                  </a:lnTo>
                  <a:lnTo>
                    <a:pt x="1260" y="30"/>
                  </a:lnTo>
                  <a:lnTo>
                    <a:pt x="1326" y="24"/>
                  </a:lnTo>
                  <a:lnTo>
                    <a:pt x="1506" y="12"/>
                  </a:lnTo>
                  <a:lnTo>
                    <a:pt x="1686" y="0"/>
                  </a:lnTo>
                  <a:lnTo>
                    <a:pt x="1866" y="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8600" y="3430440"/>
              <a:ext cx="128520" cy="33840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0" y="78"/>
                  </a:moveTo>
                  <a:lnTo>
                    <a:pt x="12" y="84"/>
                  </a:lnTo>
                  <a:lnTo>
                    <a:pt x="24" y="96"/>
                  </a:lnTo>
                  <a:lnTo>
                    <a:pt x="48" y="114"/>
                  </a:lnTo>
                  <a:lnTo>
                    <a:pt x="66" y="126"/>
                  </a:lnTo>
                  <a:lnTo>
                    <a:pt x="72" y="138"/>
                  </a:lnTo>
                  <a:lnTo>
                    <a:pt x="72" y="114"/>
                  </a:lnTo>
                  <a:lnTo>
                    <a:pt x="72" y="96"/>
                  </a:lnTo>
                  <a:lnTo>
                    <a:pt x="66" y="72"/>
                  </a:lnTo>
                  <a:lnTo>
                    <a:pt x="60" y="60"/>
                  </a:lnTo>
                  <a:lnTo>
                    <a:pt x="54" y="60"/>
                  </a:lnTo>
                  <a:lnTo>
                    <a:pt x="48" y="36"/>
                  </a:lnTo>
                  <a:lnTo>
                    <a:pt x="36" y="24"/>
                  </a:lnTo>
                  <a:lnTo>
                    <a:pt x="24" y="6"/>
                  </a:lnTo>
                  <a:lnTo>
                    <a:pt x="18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28920" y="3740040"/>
              <a:ext cx="461880" cy="146160"/>
            </a:xfrm>
            <a:custGeom>
              <a:avLst/>
              <a:gdLst/>
              <a:ahLst/>
              <a:rect l="l" t="t" r="r" b="b"/>
              <a:pathLst>
                <a:path w="258" h="60">
                  <a:moveTo>
                    <a:pt x="258" y="60"/>
                  </a:moveTo>
                  <a:lnTo>
                    <a:pt x="252" y="48"/>
                  </a:lnTo>
                  <a:lnTo>
                    <a:pt x="240" y="30"/>
                  </a:lnTo>
                  <a:lnTo>
                    <a:pt x="228" y="24"/>
                  </a:lnTo>
                  <a:lnTo>
                    <a:pt x="210" y="12"/>
                  </a:lnTo>
                  <a:lnTo>
                    <a:pt x="150" y="12"/>
                  </a:lnTo>
                  <a:lnTo>
                    <a:pt x="126" y="6"/>
                  </a:lnTo>
                  <a:lnTo>
                    <a:pt x="102" y="0"/>
                  </a:lnTo>
                  <a:lnTo>
                    <a:pt x="84" y="12"/>
                  </a:lnTo>
                  <a:lnTo>
                    <a:pt x="66" y="12"/>
                  </a:lnTo>
                  <a:lnTo>
                    <a:pt x="54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6"/>
                  </a:lnTo>
                  <a:lnTo>
                    <a:pt x="54" y="36"/>
                  </a:lnTo>
                  <a:lnTo>
                    <a:pt x="78" y="36"/>
                  </a:lnTo>
                  <a:lnTo>
                    <a:pt x="96" y="36"/>
                  </a:lnTo>
                  <a:lnTo>
                    <a:pt x="114" y="30"/>
                  </a:lnTo>
                  <a:lnTo>
                    <a:pt x="138" y="36"/>
                  </a:lnTo>
                  <a:lnTo>
                    <a:pt x="156" y="36"/>
                  </a:lnTo>
                  <a:lnTo>
                    <a:pt x="174" y="36"/>
                  </a:lnTo>
                  <a:lnTo>
                    <a:pt x="186" y="36"/>
                  </a:lnTo>
                  <a:lnTo>
                    <a:pt x="192" y="42"/>
                  </a:lnTo>
                  <a:lnTo>
                    <a:pt x="198" y="48"/>
                  </a:lnTo>
                  <a:lnTo>
                    <a:pt x="210" y="48"/>
                  </a:lnTo>
                  <a:lnTo>
                    <a:pt x="216" y="48"/>
                  </a:lnTo>
                  <a:lnTo>
                    <a:pt x="240" y="54"/>
                  </a:lnTo>
                  <a:lnTo>
                    <a:pt x="25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38640" y="4032360"/>
              <a:ext cx="129960" cy="2649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60" y="0"/>
                  </a:moveTo>
                  <a:lnTo>
                    <a:pt x="66" y="6"/>
                  </a:lnTo>
                  <a:lnTo>
                    <a:pt x="72" y="12"/>
                  </a:lnTo>
                  <a:lnTo>
                    <a:pt x="72" y="24"/>
                  </a:lnTo>
                  <a:lnTo>
                    <a:pt x="72" y="42"/>
                  </a:lnTo>
                  <a:lnTo>
                    <a:pt x="72" y="48"/>
                  </a:lnTo>
                  <a:lnTo>
                    <a:pt x="60" y="60"/>
                  </a:lnTo>
                  <a:lnTo>
                    <a:pt x="18" y="108"/>
                  </a:lnTo>
                  <a:lnTo>
                    <a:pt x="12" y="102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12" y="60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54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71760" y="4091040"/>
              <a:ext cx="452520" cy="250920"/>
            </a:xfrm>
            <a:custGeom>
              <a:avLst/>
              <a:gdLst/>
              <a:ahLst/>
              <a:rect l="l" t="t" r="r" b="b"/>
              <a:pathLst>
                <a:path w="252" h="102">
                  <a:moveTo>
                    <a:pt x="0" y="96"/>
                  </a:moveTo>
                  <a:lnTo>
                    <a:pt x="0" y="84"/>
                  </a:lnTo>
                  <a:lnTo>
                    <a:pt x="0" y="84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8" y="78"/>
                  </a:lnTo>
                  <a:lnTo>
                    <a:pt x="60" y="72"/>
                  </a:lnTo>
                  <a:lnTo>
                    <a:pt x="72" y="60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186" y="0"/>
                  </a:lnTo>
                  <a:lnTo>
                    <a:pt x="252" y="24"/>
                  </a:lnTo>
                  <a:lnTo>
                    <a:pt x="162" y="36"/>
                  </a:lnTo>
                  <a:lnTo>
                    <a:pt x="102" y="48"/>
                  </a:lnTo>
                  <a:lnTo>
                    <a:pt x="102" y="54"/>
                  </a:lnTo>
                  <a:lnTo>
                    <a:pt x="90" y="66"/>
                  </a:lnTo>
                  <a:lnTo>
                    <a:pt x="84" y="78"/>
                  </a:lnTo>
                  <a:lnTo>
                    <a:pt x="72" y="84"/>
                  </a:lnTo>
                  <a:lnTo>
                    <a:pt x="60" y="96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76600" y="4238640"/>
              <a:ext cx="139680" cy="30780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30" y="0"/>
                  </a:moveTo>
                  <a:lnTo>
                    <a:pt x="30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60" y="42"/>
                  </a:lnTo>
                  <a:lnTo>
                    <a:pt x="78" y="48"/>
                  </a:lnTo>
                  <a:lnTo>
                    <a:pt x="78" y="54"/>
                  </a:lnTo>
                  <a:lnTo>
                    <a:pt x="72" y="54"/>
                  </a:lnTo>
                  <a:lnTo>
                    <a:pt x="66" y="60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0" y="96"/>
                  </a:lnTo>
                  <a:lnTo>
                    <a:pt x="54" y="102"/>
                  </a:lnTo>
                  <a:lnTo>
                    <a:pt x="48" y="114"/>
                  </a:lnTo>
                  <a:lnTo>
                    <a:pt x="36" y="126"/>
                  </a:lnTo>
                  <a:lnTo>
                    <a:pt x="30" y="126"/>
                  </a:lnTo>
                  <a:lnTo>
                    <a:pt x="12" y="126"/>
                  </a:lnTo>
                  <a:lnTo>
                    <a:pt x="0" y="114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9960" y="4356000"/>
              <a:ext cx="227160" cy="220680"/>
            </a:xfrm>
            <a:custGeom>
              <a:avLst/>
              <a:gdLst/>
              <a:ahLst/>
              <a:rect l="l" t="t" r="r" b="b"/>
              <a:pathLst>
                <a:path w="126" h="90">
                  <a:moveTo>
                    <a:pt x="12" y="72"/>
                  </a:moveTo>
                  <a:lnTo>
                    <a:pt x="0" y="78"/>
                  </a:lnTo>
                  <a:lnTo>
                    <a:pt x="12" y="66"/>
                  </a:lnTo>
                  <a:lnTo>
                    <a:pt x="18" y="54"/>
                  </a:lnTo>
                  <a:lnTo>
                    <a:pt x="24" y="48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60" y="12"/>
                  </a:lnTo>
                  <a:lnTo>
                    <a:pt x="84" y="18"/>
                  </a:lnTo>
                  <a:lnTo>
                    <a:pt x="102" y="24"/>
                  </a:lnTo>
                  <a:lnTo>
                    <a:pt x="126" y="24"/>
                  </a:lnTo>
                  <a:lnTo>
                    <a:pt x="72" y="36"/>
                  </a:lnTo>
                  <a:lnTo>
                    <a:pt x="90" y="84"/>
                  </a:lnTo>
                  <a:lnTo>
                    <a:pt x="66" y="66"/>
                  </a:lnTo>
                  <a:lnTo>
                    <a:pt x="54" y="90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48"/>
                  </a:lnTo>
                  <a:lnTo>
                    <a:pt x="30" y="60"/>
                  </a:lnTo>
                  <a:lnTo>
                    <a:pt x="24" y="66"/>
                  </a:lnTo>
                  <a:lnTo>
                    <a:pt x="18" y="72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59120" y="5530680"/>
              <a:ext cx="139680" cy="29232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30" y="120"/>
                  </a:moveTo>
                  <a:lnTo>
                    <a:pt x="24" y="114"/>
                  </a:lnTo>
                  <a:lnTo>
                    <a:pt x="18" y="84"/>
                  </a:lnTo>
                  <a:lnTo>
                    <a:pt x="6" y="60"/>
                  </a:lnTo>
                  <a:lnTo>
                    <a:pt x="0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12"/>
                  </a:lnTo>
                  <a:lnTo>
                    <a:pt x="12" y="30"/>
                  </a:lnTo>
                  <a:lnTo>
                    <a:pt x="24" y="54"/>
                  </a:lnTo>
                  <a:lnTo>
                    <a:pt x="36" y="72"/>
                  </a:lnTo>
                  <a:lnTo>
                    <a:pt x="54" y="96"/>
                  </a:lnTo>
                  <a:lnTo>
                    <a:pt x="72" y="114"/>
                  </a:lnTo>
                  <a:lnTo>
                    <a:pt x="78" y="120"/>
                  </a:lnTo>
                  <a:lnTo>
                    <a:pt x="3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5120" y="5442120"/>
              <a:ext cx="108000" cy="380880"/>
            </a:xfrm>
            <a:custGeom>
              <a:avLst/>
              <a:gdLst/>
              <a:ahLst/>
              <a:rect l="l" t="t" r="r" b="b"/>
              <a:pathLst>
                <a:path w="60" h="156">
                  <a:moveTo>
                    <a:pt x="60" y="156"/>
                  </a:moveTo>
                  <a:lnTo>
                    <a:pt x="54" y="150"/>
                  </a:lnTo>
                  <a:lnTo>
                    <a:pt x="48" y="120"/>
                  </a:lnTo>
                  <a:lnTo>
                    <a:pt x="36" y="96"/>
                  </a:lnTo>
                  <a:lnTo>
                    <a:pt x="30" y="7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18" y="24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42"/>
                  </a:lnTo>
                  <a:lnTo>
                    <a:pt x="6" y="66"/>
                  </a:lnTo>
                  <a:lnTo>
                    <a:pt x="6" y="90"/>
                  </a:lnTo>
                  <a:lnTo>
                    <a:pt x="12" y="108"/>
                  </a:lnTo>
                  <a:lnTo>
                    <a:pt x="24" y="132"/>
                  </a:lnTo>
                  <a:lnTo>
                    <a:pt x="30" y="156"/>
                  </a:lnTo>
                  <a:lnTo>
                    <a:pt x="36" y="156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1680" y="2257560"/>
              <a:ext cx="3112920" cy="72720"/>
            </a:xfrm>
            <a:custGeom>
              <a:avLst/>
              <a:gdLst/>
              <a:ahLst/>
              <a:rect l="l" t="t" r="r" b="b"/>
              <a:pathLst>
                <a:path w="1734" h="30">
                  <a:moveTo>
                    <a:pt x="0" y="6"/>
                  </a:moveTo>
                  <a:lnTo>
                    <a:pt x="558" y="0"/>
                  </a:lnTo>
                  <a:lnTo>
                    <a:pt x="618" y="0"/>
                  </a:lnTo>
                  <a:lnTo>
                    <a:pt x="672" y="6"/>
                  </a:lnTo>
                  <a:lnTo>
                    <a:pt x="732" y="12"/>
                  </a:lnTo>
                  <a:lnTo>
                    <a:pt x="792" y="24"/>
                  </a:lnTo>
                  <a:lnTo>
                    <a:pt x="852" y="24"/>
                  </a:lnTo>
                  <a:lnTo>
                    <a:pt x="906" y="30"/>
                  </a:lnTo>
                  <a:lnTo>
                    <a:pt x="966" y="24"/>
                  </a:lnTo>
                  <a:lnTo>
                    <a:pt x="1026" y="24"/>
                  </a:lnTo>
                  <a:lnTo>
                    <a:pt x="1086" y="12"/>
                  </a:lnTo>
                  <a:lnTo>
                    <a:pt x="1098" y="12"/>
                  </a:lnTo>
                  <a:lnTo>
                    <a:pt x="1140" y="6"/>
                  </a:lnTo>
                  <a:lnTo>
                    <a:pt x="1182" y="0"/>
                  </a:lnTo>
                  <a:lnTo>
                    <a:pt x="1230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8" y="6"/>
                  </a:lnTo>
                  <a:lnTo>
                    <a:pt x="1506" y="12"/>
                  </a:lnTo>
                  <a:lnTo>
                    <a:pt x="1734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1680" y="2360520"/>
              <a:ext cx="3112920" cy="73080"/>
            </a:xfrm>
            <a:custGeom>
              <a:avLst/>
              <a:gdLst/>
              <a:ahLst/>
              <a:rect l="l" t="t" r="r" b="b"/>
              <a:pathLst>
                <a:path w="1734" h="30">
                  <a:moveTo>
                    <a:pt x="0" y="6"/>
                  </a:moveTo>
                  <a:lnTo>
                    <a:pt x="558" y="0"/>
                  </a:lnTo>
                  <a:lnTo>
                    <a:pt x="618" y="6"/>
                  </a:lnTo>
                  <a:lnTo>
                    <a:pt x="672" y="6"/>
                  </a:lnTo>
                  <a:lnTo>
                    <a:pt x="732" y="12"/>
                  </a:lnTo>
                  <a:lnTo>
                    <a:pt x="792" y="24"/>
                  </a:lnTo>
                  <a:lnTo>
                    <a:pt x="852" y="30"/>
                  </a:lnTo>
                  <a:lnTo>
                    <a:pt x="906" y="30"/>
                  </a:lnTo>
                  <a:lnTo>
                    <a:pt x="966" y="30"/>
                  </a:lnTo>
                  <a:lnTo>
                    <a:pt x="1026" y="18"/>
                  </a:lnTo>
                  <a:lnTo>
                    <a:pt x="1086" y="12"/>
                  </a:lnTo>
                  <a:lnTo>
                    <a:pt x="1098" y="12"/>
                  </a:lnTo>
                  <a:lnTo>
                    <a:pt x="1140" y="6"/>
                  </a:lnTo>
                  <a:lnTo>
                    <a:pt x="1182" y="6"/>
                  </a:lnTo>
                  <a:lnTo>
                    <a:pt x="1230" y="0"/>
                  </a:lnTo>
                  <a:lnTo>
                    <a:pt x="1278" y="0"/>
                  </a:lnTo>
                  <a:lnTo>
                    <a:pt x="1326" y="0"/>
                  </a:lnTo>
                  <a:lnTo>
                    <a:pt x="1368" y="0"/>
                  </a:lnTo>
                  <a:lnTo>
                    <a:pt x="1416" y="6"/>
                  </a:lnTo>
                  <a:lnTo>
                    <a:pt x="1458" y="6"/>
                  </a:lnTo>
                  <a:lnTo>
                    <a:pt x="1506" y="12"/>
                  </a:lnTo>
                  <a:lnTo>
                    <a:pt x="1734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1040" y="2550960"/>
              <a:ext cx="3103560" cy="73080"/>
            </a:xfrm>
            <a:custGeom>
              <a:avLst/>
              <a:gdLst/>
              <a:ahLst/>
              <a:rect l="l" t="t" r="r" b="b"/>
              <a:pathLst>
                <a:path w="1728" h="30">
                  <a:moveTo>
                    <a:pt x="0" y="12"/>
                  </a:moveTo>
                  <a:lnTo>
                    <a:pt x="264" y="6"/>
                  </a:lnTo>
                  <a:lnTo>
                    <a:pt x="564" y="0"/>
                  </a:lnTo>
                  <a:lnTo>
                    <a:pt x="612" y="6"/>
                  </a:lnTo>
                  <a:lnTo>
                    <a:pt x="666" y="6"/>
                  </a:lnTo>
                  <a:lnTo>
                    <a:pt x="726" y="12"/>
                  </a:lnTo>
                  <a:lnTo>
                    <a:pt x="786" y="24"/>
                  </a:lnTo>
                  <a:lnTo>
                    <a:pt x="846" y="30"/>
                  </a:lnTo>
                  <a:lnTo>
                    <a:pt x="864" y="30"/>
                  </a:lnTo>
                  <a:lnTo>
                    <a:pt x="900" y="30"/>
                  </a:lnTo>
                  <a:lnTo>
                    <a:pt x="960" y="24"/>
                  </a:lnTo>
                  <a:lnTo>
                    <a:pt x="1020" y="24"/>
                  </a:lnTo>
                  <a:lnTo>
                    <a:pt x="1086" y="12"/>
                  </a:lnTo>
                  <a:lnTo>
                    <a:pt x="1140" y="12"/>
                  </a:lnTo>
                  <a:lnTo>
                    <a:pt x="1176" y="6"/>
                  </a:lnTo>
                  <a:lnTo>
                    <a:pt x="1224" y="0"/>
                  </a:lnTo>
                  <a:lnTo>
                    <a:pt x="1272" y="0"/>
                  </a:lnTo>
                  <a:lnTo>
                    <a:pt x="1314" y="0"/>
                  </a:lnTo>
                  <a:lnTo>
                    <a:pt x="1362" y="0"/>
                  </a:lnTo>
                  <a:lnTo>
                    <a:pt x="1404" y="6"/>
                  </a:lnTo>
                  <a:lnTo>
                    <a:pt x="1428" y="6"/>
                  </a:lnTo>
                  <a:lnTo>
                    <a:pt x="1452" y="12"/>
                  </a:lnTo>
                  <a:lnTo>
                    <a:pt x="1500" y="12"/>
                  </a:lnTo>
                  <a:lnTo>
                    <a:pt x="1728" y="2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1040" y="2579760"/>
              <a:ext cx="87120" cy="324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55520" y="2565360"/>
              <a:ext cx="1800" cy="325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93720" y="2550960"/>
              <a:ext cx="1800" cy="327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1920" y="2624040"/>
              <a:ext cx="3240" cy="319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629080" y="2579760"/>
              <a:ext cx="42840" cy="3243240"/>
            </a:xfrm>
            <a:custGeom>
              <a:avLst/>
              <a:gdLst/>
              <a:ahLst/>
              <a:rect l="l" t="t" r="r" b="b"/>
              <a:pathLst>
                <a:path w="24" h="1326">
                  <a:moveTo>
                    <a:pt x="0" y="0"/>
                  </a:moveTo>
                  <a:lnTo>
                    <a:pt x="6" y="384"/>
                  </a:lnTo>
                  <a:lnTo>
                    <a:pt x="12" y="582"/>
                  </a:lnTo>
                  <a:lnTo>
                    <a:pt x="24" y="774"/>
                  </a:lnTo>
                  <a:lnTo>
                    <a:pt x="12" y="912"/>
                  </a:lnTo>
                  <a:lnTo>
                    <a:pt x="6" y="1050"/>
                  </a:lnTo>
                  <a:lnTo>
                    <a:pt x="0" y="1326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5240" y="2565360"/>
              <a:ext cx="74520" cy="3257640"/>
            </a:xfrm>
            <a:custGeom>
              <a:avLst/>
              <a:gdLst/>
              <a:ahLst/>
              <a:rect l="l" t="t" r="r" b="b"/>
              <a:pathLst>
                <a:path w="42" h="1332">
                  <a:moveTo>
                    <a:pt x="6" y="0"/>
                  </a:moveTo>
                  <a:lnTo>
                    <a:pt x="6" y="474"/>
                  </a:lnTo>
                  <a:lnTo>
                    <a:pt x="12" y="528"/>
                  </a:lnTo>
                  <a:lnTo>
                    <a:pt x="18" y="582"/>
                  </a:lnTo>
                  <a:lnTo>
                    <a:pt x="30" y="636"/>
                  </a:lnTo>
                  <a:lnTo>
                    <a:pt x="42" y="690"/>
                  </a:lnTo>
                  <a:lnTo>
                    <a:pt x="42" y="702"/>
                  </a:lnTo>
                  <a:lnTo>
                    <a:pt x="12" y="888"/>
                  </a:lnTo>
                  <a:lnTo>
                    <a:pt x="0" y="948"/>
                  </a:lnTo>
                  <a:lnTo>
                    <a:pt x="6" y="990"/>
                  </a:lnTo>
                  <a:lnTo>
                    <a:pt x="12" y="1032"/>
                  </a:lnTo>
                  <a:lnTo>
                    <a:pt x="18" y="1074"/>
                  </a:lnTo>
                  <a:lnTo>
                    <a:pt x="18" y="1116"/>
                  </a:lnTo>
                  <a:lnTo>
                    <a:pt x="24" y="1158"/>
                  </a:lnTo>
                  <a:lnTo>
                    <a:pt x="24" y="1200"/>
                  </a:lnTo>
                  <a:lnTo>
                    <a:pt x="18" y="1248"/>
                  </a:lnTo>
                  <a:lnTo>
                    <a:pt x="18" y="1290"/>
                  </a:lnTo>
                  <a:lnTo>
                    <a:pt x="12" y="133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84600" y="2610000"/>
              <a:ext cx="1440" cy="73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54280" y="4546440"/>
              <a:ext cx="42840" cy="1276560"/>
            </a:xfrm>
            <a:custGeom>
              <a:avLst/>
              <a:gdLst/>
              <a:ahLst/>
              <a:rect l="l" t="t" r="r" b="b"/>
              <a:pathLst>
                <a:path w="24" h="522">
                  <a:moveTo>
                    <a:pt x="6" y="522"/>
                  </a:moveTo>
                  <a:lnTo>
                    <a:pt x="0" y="342"/>
                  </a:lnTo>
                  <a:lnTo>
                    <a:pt x="0" y="252"/>
                  </a:lnTo>
                  <a:lnTo>
                    <a:pt x="0" y="204"/>
                  </a:lnTo>
                  <a:lnTo>
                    <a:pt x="0" y="150"/>
                  </a:lnTo>
                  <a:lnTo>
                    <a:pt x="12" y="102"/>
                  </a:lnTo>
                  <a:lnTo>
                    <a:pt x="12" y="48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29240" y="1619280"/>
              <a:ext cx="17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Glob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135240" y="3578400"/>
            <a:ext cx="979200" cy="2243880"/>
            <a:chOff x="3135240" y="3578400"/>
            <a:chExt cx="979200" cy="2243880"/>
          </a:xfrm>
        </p:grpSpPr>
        <p:sp>
          <p:nvSpPr>
            <p:cNvPr id="346" name=""/>
            <p:cNvSpPr/>
            <p:nvPr/>
          </p:nvSpPr>
          <p:spPr>
            <a:xfrm>
              <a:off x="3135240" y="3607560"/>
              <a:ext cx="667080" cy="410040"/>
            </a:xfrm>
            <a:custGeom>
              <a:avLst/>
              <a:gdLst/>
              <a:ahLst/>
              <a:rect l="l" t="t" r="r" b="b"/>
              <a:pathLst>
                <a:path w="372" h="168">
                  <a:moveTo>
                    <a:pt x="186" y="6"/>
                  </a:moveTo>
                  <a:lnTo>
                    <a:pt x="204" y="0"/>
                  </a:lnTo>
                  <a:lnTo>
                    <a:pt x="210" y="0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40" y="12"/>
                  </a:lnTo>
                  <a:lnTo>
                    <a:pt x="252" y="24"/>
                  </a:lnTo>
                  <a:lnTo>
                    <a:pt x="276" y="42"/>
                  </a:lnTo>
                  <a:lnTo>
                    <a:pt x="294" y="54"/>
                  </a:lnTo>
                  <a:lnTo>
                    <a:pt x="312" y="72"/>
                  </a:lnTo>
                  <a:lnTo>
                    <a:pt x="324" y="90"/>
                  </a:lnTo>
                  <a:lnTo>
                    <a:pt x="336" y="102"/>
                  </a:lnTo>
                  <a:lnTo>
                    <a:pt x="342" y="114"/>
                  </a:lnTo>
                  <a:lnTo>
                    <a:pt x="354" y="132"/>
                  </a:lnTo>
                  <a:lnTo>
                    <a:pt x="360" y="150"/>
                  </a:lnTo>
                  <a:lnTo>
                    <a:pt x="372" y="168"/>
                  </a:lnTo>
                  <a:lnTo>
                    <a:pt x="348" y="150"/>
                  </a:lnTo>
                  <a:lnTo>
                    <a:pt x="330" y="138"/>
                  </a:lnTo>
                  <a:lnTo>
                    <a:pt x="306" y="126"/>
                  </a:lnTo>
                  <a:lnTo>
                    <a:pt x="288" y="120"/>
                  </a:lnTo>
                  <a:lnTo>
                    <a:pt x="258" y="114"/>
                  </a:lnTo>
                  <a:lnTo>
                    <a:pt x="252" y="102"/>
                  </a:lnTo>
                  <a:lnTo>
                    <a:pt x="240" y="84"/>
                  </a:lnTo>
                  <a:lnTo>
                    <a:pt x="228" y="78"/>
                  </a:lnTo>
                  <a:lnTo>
                    <a:pt x="210" y="66"/>
                  </a:lnTo>
                  <a:lnTo>
                    <a:pt x="150" y="66"/>
                  </a:lnTo>
                  <a:lnTo>
                    <a:pt x="126" y="60"/>
                  </a:lnTo>
                  <a:lnTo>
                    <a:pt x="102" y="54"/>
                  </a:lnTo>
                  <a:lnTo>
                    <a:pt x="84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18" y="72"/>
                  </a:lnTo>
                  <a:lnTo>
                    <a:pt x="12" y="66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84" y="12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01000" y="3578400"/>
              <a:ext cx="398160" cy="1510560"/>
            </a:xfrm>
            <a:custGeom>
              <a:avLst/>
              <a:gdLst/>
              <a:ahLst/>
              <a:rect l="l" t="t" r="r" b="b"/>
              <a:pathLst>
                <a:path w="222" h="618">
                  <a:moveTo>
                    <a:pt x="84" y="0"/>
                  </a:moveTo>
                  <a:lnTo>
                    <a:pt x="90" y="12"/>
                  </a:lnTo>
                  <a:lnTo>
                    <a:pt x="96" y="36"/>
                  </a:lnTo>
                  <a:lnTo>
                    <a:pt x="96" y="54"/>
                  </a:lnTo>
                  <a:lnTo>
                    <a:pt x="96" y="78"/>
                  </a:lnTo>
                  <a:lnTo>
                    <a:pt x="108" y="84"/>
                  </a:lnTo>
                  <a:lnTo>
                    <a:pt x="120" y="102"/>
                  </a:lnTo>
                  <a:lnTo>
                    <a:pt x="132" y="114"/>
                  </a:lnTo>
                  <a:lnTo>
                    <a:pt x="138" y="126"/>
                  </a:lnTo>
                  <a:lnTo>
                    <a:pt x="150" y="144"/>
                  </a:lnTo>
                  <a:lnTo>
                    <a:pt x="156" y="162"/>
                  </a:lnTo>
                  <a:lnTo>
                    <a:pt x="168" y="180"/>
                  </a:lnTo>
                  <a:lnTo>
                    <a:pt x="144" y="162"/>
                  </a:lnTo>
                  <a:lnTo>
                    <a:pt x="126" y="150"/>
                  </a:lnTo>
                  <a:lnTo>
                    <a:pt x="102" y="138"/>
                  </a:lnTo>
                  <a:lnTo>
                    <a:pt x="84" y="132"/>
                  </a:lnTo>
                  <a:lnTo>
                    <a:pt x="54" y="126"/>
                  </a:lnTo>
                  <a:lnTo>
                    <a:pt x="36" y="120"/>
                  </a:lnTo>
                  <a:lnTo>
                    <a:pt x="12" y="114"/>
                  </a:lnTo>
                  <a:lnTo>
                    <a:pt x="0" y="114"/>
                  </a:lnTo>
                  <a:lnTo>
                    <a:pt x="24" y="144"/>
                  </a:lnTo>
                  <a:lnTo>
                    <a:pt x="36" y="138"/>
                  </a:lnTo>
                  <a:lnTo>
                    <a:pt x="84" y="156"/>
                  </a:lnTo>
                  <a:lnTo>
                    <a:pt x="96" y="162"/>
                  </a:lnTo>
                  <a:lnTo>
                    <a:pt x="114" y="174"/>
                  </a:lnTo>
                  <a:lnTo>
                    <a:pt x="132" y="186"/>
                  </a:lnTo>
                  <a:lnTo>
                    <a:pt x="144" y="198"/>
                  </a:lnTo>
                  <a:lnTo>
                    <a:pt x="156" y="210"/>
                  </a:lnTo>
                  <a:lnTo>
                    <a:pt x="168" y="222"/>
                  </a:lnTo>
                  <a:lnTo>
                    <a:pt x="174" y="240"/>
                  </a:lnTo>
                  <a:lnTo>
                    <a:pt x="180" y="258"/>
                  </a:lnTo>
                  <a:lnTo>
                    <a:pt x="186" y="276"/>
                  </a:lnTo>
                  <a:lnTo>
                    <a:pt x="192" y="294"/>
                  </a:lnTo>
                  <a:lnTo>
                    <a:pt x="192" y="330"/>
                  </a:lnTo>
                  <a:lnTo>
                    <a:pt x="186" y="354"/>
                  </a:lnTo>
                  <a:lnTo>
                    <a:pt x="180" y="372"/>
                  </a:lnTo>
                  <a:lnTo>
                    <a:pt x="180" y="390"/>
                  </a:lnTo>
                  <a:lnTo>
                    <a:pt x="186" y="420"/>
                  </a:lnTo>
                  <a:lnTo>
                    <a:pt x="180" y="450"/>
                  </a:lnTo>
                  <a:lnTo>
                    <a:pt x="180" y="480"/>
                  </a:lnTo>
                  <a:lnTo>
                    <a:pt x="174" y="504"/>
                  </a:lnTo>
                  <a:lnTo>
                    <a:pt x="168" y="534"/>
                  </a:lnTo>
                  <a:lnTo>
                    <a:pt x="156" y="564"/>
                  </a:lnTo>
                  <a:lnTo>
                    <a:pt x="144" y="588"/>
                  </a:lnTo>
                  <a:lnTo>
                    <a:pt x="132" y="618"/>
                  </a:lnTo>
                  <a:lnTo>
                    <a:pt x="150" y="606"/>
                  </a:lnTo>
                  <a:lnTo>
                    <a:pt x="162" y="588"/>
                  </a:lnTo>
                  <a:lnTo>
                    <a:pt x="168" y="576"/>
                  </a:lnTo>
                  <a:lnTo>
                    <a:pt x="174" y="552"/>
                  </a:lnTo>
                  <a:lnTo>
                    <a:pt x="180" y="528"/>
                  </a:lnTo>
                  <a:lnTo>
                    <a:pt x="186" y="504"/>
                  </a:lnTo>
                  <a:lnTo>
                    <a:pt x="192" y="480"/>
                  </a:lnTo>
                  <a:lnTo>
                    <a:pt x="192" y="474"/>
                  </a:lnTo>
                  <a:lnTo>
                    <a:pt x="192" y="450"/>
                  </a:lnTo>
                  <a:lnTo>
                    <a:pt x="222" y="228"/>
                  </a:lnTo>
                  <a:lnTo>
                    <a:pt x="204" y="198"/>
                  </a:lnTo>
                  <a:lnTo>
                    <a:pt x="192" y="168"/>
                  </a:lnTo>
                  <a:lnTo>
                    <a:pt x="132" y="102"/>
                  </a:lnTo>
                  <a:lnTo>
                    <a:pt x="126" y="78"/>
                  </a:lnTo>
                  <a:lnTo>
                    <a:pt x="114" y="60"/>
                  </a:lnTo>
                  <a:lnTo>
                    <a:pt x="108" y="36"/>
                  </a:lnTo>
                  <a:lnTo>
                    <a:pt x="96" y="1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77720" y="3856680"/>
              <a:ext cx="667440" cy="1290960"/>
            </a:xfrm>
            <a:custGeom>
              <a:avLst/>
              <a:gdLst/>
              <a:ahLst/>
              <a:rect l="l" t="t" r="r" b="b"/>
              <a:pathLst>
                <a:path w="372" h="528">
                  <a:moveTo>
                    <a:pt x="168" y="276"/>
                  </a:moveTo>
                  <a:lnTo>
                    <a:pt x="174" y="270"/>
                  </a:lnTo>
                  <a:lnTo>
                    <a:pt x="180" y="264"/>
                  </a:lnTo>
                  <a:lnTo>
                    <a:pt x="186" y="252"/>
                  </a:lnTo>
                  <a:lnTo>
                    <a:pt x="192" y="246"/>
                  </a:lnTo>
                  <a:lnTo>
                    <a:pt x="204" y="252"/>
                  </a:lnTo>
                  <a:lnTo>
                    <a:pt x="204" y="294"/>
                  </a:lnTo>
                  <a:lnTo>
                    <a:pt x="216" y="270"/>
                  </a:lnTo>
                  <a:lnTo>
                    <a:pt x="240" y="288"/>
                  </a:lnTo>
                  <a:lnTo>
                    <a:pt x="222" y="240"/>
                  </a:lnTo>
                  <a:lnTo>
                    <a:pt x="276" y="228"/>
                  </a:lnTo>
                  <a:lnTo>
                    <a:pt x="252" y="228"/>
                  </a:lnTo>
                  <a:lnTo>
                    <a:pt x="234" y="222"/>
                  </a:lnTo>
                  <a:lnTo>
                    <a:pt x="210" y="216"/>
                  </a:lnTo>
                  <a:lnTo>
                    <a:pt x="192" y="204"/>
                  </a:lnTo>
                  <a:lnTo>
                    <a:pt x="174" y="198"/>
                  </a:lnTo>
                  <a:lnTo>
                    <a:pt x="156" y="180"/>
                  </a:lnTo>
                  <a:lnTo>
                    <a:pt x="150" y="180"/>
                  </a:lnTo>
                  <a:lnTo>
                    <a:pt x="150" y="174"/>
                  </a:lnTo>
                  <a:lnTo>
                    <a:pt x="144" y="168"/>
                  </a:lnTo>
                  <a:lnTo>
                    <a:pt x="144" y="144"/>
                  </a:lnTo>
                  <a:lnTo>
                    <a:pt x="150" y="138"/>
                  </a:lnTo>
                  <a:lnTo>
                    <a:pt x="150" y="132"/>
                  </a:lnTo>
                  <a:lnTo>
                    <a:pt x="162" y="132"/>
                  </a:lnTo>
                  <a:lnTo>
                    <a:pt x="252" y="120"/>
                  </a:lnTo>
                  <a:lnTo>
                    <a:pt x="186" y="96"/>
                  </a:lnTo>
                  <a:lnTo>
                    <a:pt x="90" y="132"/>
                  </a:lnTo>
                  <a:lnTo>
                    <a:pt x="84" y="144"/>
                  </a:lnTo>
                  <a:lnTo>
                    <a:pt x="72" y="156"/>
                  </a:lnTo>
                  <a:lnTo>
                    <a:pt x="60" y="168"/>
                  </a:lnTo>
                  <a:lnTo>
                    <a:pt x="48" y="174"/>
                  </a:lnTo>
                  <a:lnTo>
                    <a:pt x="36" y="180"/>
                  </a:lnTo>
                  <a:lnTo>
                    <a:pt x="30" y="180"/>
                  </a:lnTo>
                  <a:lnTo>
                    <a:pt x="18" y="186"/>
                  </a:lnTo>
                  <a:lnTo>
                    <a:pt x="12" y="186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42" y="132"/>
                  </a:lnTo>
                  <a:lnTo>
                    <a:pt x="54" y="120"/>
                  </a:lnTo>
                  <a:lnTo>
                    <a:pt x="54" y="114"/>
                  </a:lnTo>
                  <a:lnTo>
                    <a:pt x="54" y="96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42" y="72"/>
                  </a:lnTo>
                  <a:lnTo>
                    <a:pt x="48" y="60"/>
                  </a:lnTo>
                  <a:lnTo>
                    <a:pt x="138" y="24"/>
                  </a:lnTo>
                  <a:lnTo>
                    <a:pt x="180" y="0"/>
                  </a:lnTo>
                  <a:lnTo>
                    <a:pt x="204" y="30"/>
                  </a:lnTo>
                  <a:lnTo>
                    <a:pt x="216" y="24"/>
                  </a:lnTo>
                  <a:lnTo>
                    <a:pt x="264" y="42"/>
                  </a:lnTo>
                  <a:lnTo>
                    <a:pt x="276" y="48"/>
                  </a:lnTo>
                  <a:lnTo>
                    <a:pt x="294" y="60"/>
                  </a:lnTo>
                  <a:lnTo>
                    <a:pt x="312" y="72"/>
                  </a:lnTo>
                  <a:lnTo>
                    <a:pt x="324" y="84"/>
                  </a:lnTo>
                  <a:lnTo>
                    <a:pt x="336" y="96"/>
                  </a:lnTo>
                  <a:lnTo>
                    <a:pt x="348" y="108"/>
                  </a:lnTo>
                  <a:lnTo>
                    <a:pt x="354" y="126"/>
                  </a:lnTo>
                  <a:lnTo>
                    <a:pt x="360" y="144"/>
                  </a:lnTo>
                  <a:lnTo>
                    <a:pt x="366" y="162"/>
                  </a:lnTo>
                  <a:lnTo>
                    <a:pt x="372" y="180"/>
                  </a:lnTo>
                  <a:lnTo>
                    <a:pt x="372" y="216"/>
                  </a:lnTo>
                  <a:lnTo>
                    <a:pt x="366" y="240"/>
                  </a:lnTo>
                  <a:lnTo>
                    <a:pt x="360" y="258"/>
                  </a:lnTo>
                  <a:lnTo>
                    <a:pt x="360" y="276"/>
                  </a:lnTo>
                  <a:lnTo>
                    <a:pt x="366" y="306"/>
                  </a:lnTo>
                  <a:lnTo>
                    <a:pt x="360" y="336"/>
                  </a:lnTo>
                  <a:lnTo>
                    <a:pt x="360" y="366"/>
                  </a:lnTo>
                  <a:lnTo>
                    <a:pt x="354" y="390"/>
                  </a:lnTo>
                  <a:lnTo>
                    <a:pt x="348" y="420"/>
                  </a:lnTo>
                  <a:lnTo>
                    <a:pt x="336" y="450"/>
                  </a:lnTo>
                  <a:lnTo>
                    <a:pt x="324" y="474"/>
                  </a:lnTo>
                  <a:lnTo>
                    <a:pt x="312" y="504"/>
                  </a:lnTo>
                  <a:lnTo>
                    <a:pt x="294" y="510"/>
                  </a:lnTo>
                  <a:lnTo>
                    <a:pt x="270" y="522"/>
                  </a:lnTo>
                  <a:lnTo>
                    <a:pt x="252" y="522"/>
                  </a:lnTo>
                  <a:lnTo>
                    <a:pt x="228" y="528"/>
                  </a:lnTo>
                  <a:lnTo>
                    <a:pt x="186" y="528"/>
                  </a:lnTo>
                  <a:lnTo>
                    <a:pt x="168" y="522"/>
                  </a:lnTo>
                  <a:lnTo>
                    <a:pt x="168" y="27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79400" y="4678200"/>
              <a:ext cx="635040" cy="1144080"/>
            </a:xfrm>
            <a:custGeom>
              <a:avLst/>
              <a:gdLst/>
              <a:ahLst/>
              <a:rect l="l" t="t" r="r" b="b"/>
              <a:pathLst>
                <a:path w="354" h="468">
                  <a:moveTo>
                    <a:pt x="0" y="264"/>
                  </a:moveTo>
                  <a:lnTo>
                    <a:pt x="12" y="288"/>
                  </a:lnTo>
                  <a:lnTo>
                    <a:pt x="18" y="312"/>
                  </a:lnTo>
                  <a:lnTo>
                    <a:pt x="24" y="318"/>
                  </a:lnTo>
                  <a:lnTo>
                    <a:pt x="36" y="336"/>
                  </a:lnTo>
                  <a:lnTo>
                    <a:pt x="48" y="348"/>
                  </a:lnTo>
                  <a:lnTo>
                    <a:pt x="54" y="360"/>
                  </a:lnTo>
                  <a:lnTo>
                    <a:pt x="84" y="396"/>
                  </a:lnTo>
                  <a:lnTo>
                    <a:pt x="102" y="420"/>
                  </a:lnTo>
                  <a:lnTo>
                    <a:pt x="126" y="444"/>
                  </a:lnTo>
                  <a:lnTo>
                    <a:pt x="150" y="462"/>
                  </a:lnTo>
                  <a:lnTo>
                    <a:pt x="162" y="468"/>
                  </a:lnTo>
                  <a:lnTo>
                    <a:pt x="354" y="468"/>
                  </a:lnTo>
                  <a:lnTo>
                    <a:pt x="354" y="180"/>
                  </a:lnTo>
                  <a:lnTo>
                    <a:pt x="318" y="138"/>
                  </a:lnTo>
                  <a:lnTo>
                    <a:pt x="318" y="144"/>
                  </a:lnTo>
                  <a:lnTo>
                    <a:pt x="324" y="162"/>
                  </a:lnTo>
                  <a:lnTo>
                    <a:pt x="330" y="180"/>
                  </a:lnTo>
                  <a:lnTo>
                    <a:pt x="324" y="204"/>
                  </a:lnTo>
                  <a:lnTo>
                    <a:pt x="324" y="222"/>
                  </a:lnTo>
                  <a:lnTo>
                    <a:pt x="318" y="240"/>
                  </a:lnTo>
                  <a:lnTo>
                    <a:pt x="318" y="258"/>
                  </a:lnTo>
                  <a:lnTo>
                    <a:pt x="318" y="240"/>
                  </a:lnTo>
                  <a:lnTo>
                    <a:pt x="312" y="216"/>
                  </a:lnTo>
                  <a:lnTo>
                    <a:pt x="312" y="192"/>
                  </a:lnTo>
                  <a:lnTo>
                    <a:pt x="306" y="174"/>
                  </a:lnTo>
                  <a:lnTo>
                    <a:pt x="300" y="162"/>
                  </a:lnTo>
                  <a:lnTo>
                    <a:pt x="294" y="156"/>
                  </a:lnTo>
                  <a:lnTo>
                    <a:pt x="294" y="150"/>
                  </a:lnTo>
                  <a:lnTo>
                    <a:pt x="288" y="144"/>
                  </a:lnTo>
                  <a:lnTo>
                    <a:pt x="282" y="144"/>
                  </a:lnTo>
                  <a:lnTo>
                    <a:pt x="276" y="138"/>
                  </a:lnTo>
                  <a:lnTo>
                    <a:pt x="270" y="144"/>
                  </a:lnTo>
                  <a:lnTo>
                    <a:pt x="264" y="144"/>
                  </a:lnTo>
                  <a:lnTo>
                    <a:pt x="258" y="150"/>
                  </a:lnTo>
                  <a:lnTo>
                    <a:pt x="252" y="162"/>
                  </a:lnTo>
                  <a:lnTo>
                    <a:pt x="246" y="174"/>
                  </a:lnTo>
                  <a:lnTo>
                    <a:pt x="246" y="192"/>
                  </a:lnTo>
                  <a:lnTo>
                    <a:pt x="240" y="186"/>
                  </a:lnTo>
                  <a:lnTo>
                    <a:pt x="234" y="180"/>
                  </a:lnTo>
                  <a:lnTo>
                    <a:pt x="222" y="180"/>
                  </a:lnTo>
                  <a:lnTo>
                    <a:pt x="222" y="186"/>
                  </a:lnTo>
                  <a:lnTo>
                    <a:pt x="210" y="186"/>
                  </a:lnTo>
                  <a:lnTo>
                    <a:pt x="198" y="198"/>
                  </a:lnTo>
                  <a:lnTo>
                    <a:pt x="192" y="204"/>
                  </a:lnTo>
                  <a:lnTo>
                    <a:pt x="192" y="216"/>
                  </a:lnTo>
                  <a:lnTo>
                    <a:pt x="186" y="228"/>
                  </a:lnTo>
                  <a:lnTo>
                    <a:pt x="186" y="240"/>
                  </a:lnTo>
                  <a:lnTo>
                    <a:pt x="180" y="228"/>
                  </a:lnTo>
                  <a:lnTo>
                    <a:pt x="174" y="222"/>
                  </a:lnTo>
                  <a:lnTo>
                    <a:pt x="174" y="210"/>
                  </a:lnTo>
                  <a:lnTo>
                    <a:pt x="174" y="186"/>
                  </a:lnTo>
                  <a:lnTo>
                    <a:pt x="180" y="174"/>
                  </a:lnTo>
                  <a:lnTo>
                    <a:pt x="186" y="162"/>
                  </a:lnTo>
                  <a:lnTo>
                    <a:pt x="192" y="144"/>
                  </a:lnTo>
                  <a:lnTo>
                    <a:pt x="198" y="126"/>
                  </a:lnTo>
                  <a:lnTo>
                    <a:pt x="204" y="114"/>
                  </a:lnTo>
                  <a:lnTo>
                    <a:pt x="210" y="96"/>
                  </a:lnTo>
                  <a:lnTo>
                    <a:pt x="210" y="84"/>
                  </a:lnTo>
                  <a:lnTo>
                    <a:pt x="216" y="66"/>
                  </a:lnTo>
                  <a:lnTo>
                    <a:pt x="216" y="54"/>
                  </a:lnTo>
                  <a:lnTo>
                    <a:pt x="210" y="36"/>
                  </a:lnTo>
                  <a:lnTo>
                    <a:pt x="204" y="24"/>
                  </a:lnTo>
                  <a:lnTo>
                    <a:pt x="204" y="0"/>
                  </a:lnTo>
                  <a:lnTo>
                    <a:pt x="204" y="24"/>
                  </a:lnTo>
                  <a:lnTo>
                    <a:pt x="204" y="30"/>
                  </a:lnTo>
                  <a:lnTo>
                    <a:pt x="198" y="54"/>
                  </a:lnTo>
                  <a:lnTo>
                    <a:pt x="192" y="78"/>
                  </a:lnTo>
                  <a:lnTo>
                    <a:pt x="186" y="102"/>
                  </a:lnTo>
                  <a:lnTo>
                    <a:pt x="180" y="126"/>
                  </a:lnTo>
                  <a:lnTo>
                    <a:pt x="174" y="138"/>
                  </a:lnTo>
                  <a:lnTo>
                    <a:pt x="162" y="156"/>
                  </a:lnTo>
                  <a:lnTo>
                    <a:pt x="144" y="168"/>
                  </a:lnTo>
                  <a:lnTo>
                    <a:pt x="126" y="174"/>
                  </a:lnTo>
                  <a:lnTo>
                    <a:pt x="102" y="186"/>
                  </a:lnTo>
                  <a:lnTo>
                    <a:pt x="84" y="186"/>
                  </a:lnTo>
                  <a:lnTo>
                    <a:pt x="60" y="192"/>
                  </a:lnTo>
                  <a:lnTo>
                    <a:pt x="18" y="192"/>
                  </a:lnTo>
                  <a:lnTo>
                    <a:pt x="0" y="186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91520" y="4678200"/>
              <a:ext cx="279720" cy="630720"/>
            </a:xfrm>
            <a:custGeom>
              <a:avLst/>
              <a:gdLst/>
              <a:ahLst/>
              <a:rect l="l" t="t" r="r" b="b"/>
              <a:pathLst>
                <a:path w="156" h="258">
                  <a:moveTo>
                    <a:pt x="144" y="138"/>
                  </a:moveTo>
                  <a:lnTo>
                    <a:pt x="144" y="144"/>
                  </a:lnTo>
                  <a:lnTo>
                    <a:pt x="150" y="162"/>
                  </a:lnTo>
                  <a:lnTo>
                    <a:pt x="156" y="180"/>
                  </a:lnTo>
                  <a:lnTo>
                    <a:pt x="150" y="204"/>
                  </a:lnTo>
                  <a:lnTo>
                    <a:pt x="150" y="222"/>
                  </a:lnTo>
                  <a:lnTo>
                    <a:pt x="144" y="240"/>
                  </a:lnTo>
                  <a:lnTo>
                    <a:pt x="144" y="258"/>
                  </a:lnTo>
                  <a:lnTo>
                    <a:pt x="144" y="240"/>
                  </a:lnTo>
                  <a:lnTo>
                    <a:pt x="138" y="216"/>
                  </a:lnTo>
                  <a:lnTo>
                    <a:pt x="138" y="192"/>
                  </a:lnTo>
                  <a:lnTo>
                    <a:pt x="132" y="174"/>
                  </a:lnTo>
                  <a:lnTo>
                    <a:pt x="126" y="162"/>
                  </a:lnTo>
                  <a:lnTo>
                    <a:pt x="120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8" y="144"/>
                  </a:lnTo>
                  <a:lnTo>
                    <a:pt x="102" y="138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50"/>
                  </a:lnTo>
                  <a:lnTo>
                    <a:pt x="78" y="162"/>
                  </a:lnTo>
                  <a:lnTo>
                    <a:pt x="72" y="174"/>
                  </a:lnTo>
                  <a:lnTo>
                    <a:pt x="72" y="192"/>
                  </a:lnTo>
                  <a:lnTo>
                    <a:pt x="66" y="186"/>
                  </a:lnTo>
                  <a:lnTo>
                    <a:pt x="60" y="180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36" y="186"/>
                  </a:lnTo>
                  <a:lnTo>
                    <a:pt x="24" y="198"/>
                  </a:lnTo>
                  <a:lnTo>
                    <a:pt x="18" y="204"/>
                  </a:lnTo>
                  <a:lnTo>
                    <a:pt x="18" y="216"/>
                  </a:lnTo>
                  <a:lnTo>
                    <a:pt x="12" y="228"/>
                  </a:lnTo>
                  <a:lnTo>
                    <a:pt x="12" y="240"/>
                  </a:lnTo>
                  <a:lnTo>
                    <a:pt x="6" y="228"/>
                  </a:lnTo>
                  <a:lnTo>
                    <a:pt x="0" y="222"/>
                  </a:lnTo>
                  <a:lnTo>
                    <a:pt x="0" y="210"/>
                  </a:lnTo>
                  <a:lnTo>
                    <a:pt x="0" y="186"/>
                  </a:lnTo>
                  <a:lnTo>
                    <a:pt x="6" y="174"/>
                  </a:lnTo>
                  <a:lnTo>
                    <a:pt x="12" y="162"/>
                  </a:lnTo>
                  <a:lnTo>
                    <a:pt x="18" y="144"/>
                  </a:lnTo>
                  <a:lnTo>
                    <a:pt x="24" y="126"/>
                  </a:lnTo>
                  <a:lnTo>
                    <a:pt x="30" y="114"/>
                  </a:lnTo>
                  <a:lnTo>
                    <a:pt x="36" y="96"/>
                  </a:lnTo>
                  <a:lnTo>
                    <a:pt x="36" y="84"/>
                  </a:lnTo>
                  <a:lnTo>
                    <a:pt x="42" y="66"/>
                  </a:lnTo>
                  <a:lnTo>
                    <a:pt x="42" y="54"/>
                  </a:lnTo>
                  <a:lnTo>
                    <a:pt x="36" y="36"/>
                  </a:lnTo>
                  <a:lnTo>
                    <a:pt x="30" y="24"/>
                  </a:lnTo>
                  <a:lnTo>
                    <a:pt x="30" y="0"/>
                  </a:lnTo>
                  <a:lnTo>
                    <a:pt x="144" y="138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7560" y="5221080"/>
              <a:ext cx="42840" cy="13176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30"/>
                  </a:moveTo>
                  <a:lnTo>
                    <a:pt x="24" y="1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24" y="42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97840" y="5529240"/>
              <a:ext cx="226080" cy="131760"/>
            </a:xfrm>
            <a:custGeom>
              <a:avLst/>
              <a:gdLst/>
              <a:ahLst/>
              <a:rect l="l" t="t" r="r" b="b"/>
              <a:pathLst>
                <a:path w="126" h="54">
                  <a:moveTo>
                    <a:pt x="0" y="0"/>
                  </a:move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59480" y="5015880"/>
              <a:ext cx="236520" cy="586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32" y="240"/>
                  </a:moveTo>
                  <a:lnTo>
                    <a:pt x="114" y="228"/>
                  </a:lnTo>
                  <a:lnTo>
                    <a:pt x="96" y="216"/>
                  </a:lnTo>
                  <a:lnTo>
                    <a:pt x="78" y="198"/>
                  </a:lnTo>
                  <a:lnTo>
                    <a:pt x="60" y="180"/>
                  </a:lnTo>
                  <a:lnTo>
                    <a:pt x="48" y="162"/>
                  </a:lnTo>
                  <a:lnTo>
                    <a:pt x="30" y="144"/>
                  </a:lnTo>
                  <a:lnTo>
                    <a:pt x="18" y="120"/>
                  </a:lnTo>
                  <a:lnTo>
                    <a:pt x="6" y="102"/>
                  </a:lnTo>
                  <a:lnTo>
                    <a:pt x="0" y="90"/>
                  </a:lnTo>
                  <a:lnTo>
                    <a:pt x="0" y="7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6" y="24"/>
                  </a:lnTo>
                  <a:lnTo>
                    <a:pt x="12" y="12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843120" y="2771640"/>
            <a:ext cx="2385720" cy="2653560"/>
          </a:xfrm>
          <a:prstGeom prst="rect">
            <a:avLst/>
          </a:prstGeom>
          <a:gradFill rotWithShape="0">
            <a:gsLst>
              <a:gs pos="0">
                <a:srgbClr val="f7f5a1"/>
              </a:gs>
              <a:gs pos="50000">
                <a:srgbClr val="fefefe"/>
              </a:gs>
              <a:gs pos="100000">
                <a:srgbClr val="f7f5a1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a8"/>
                </a:solidFill>
                <a:latin typeface="Times New Roman"/>
              </a:rPr>
              <a:t>“…</a:t>
            </a:r>
            <a:r>
              <a:rPr b="1" lang="en-US" sz="2800" spc="-1" strike="noStrike">
                <a:solidFill>
                  <a:srgbClr val="a800a8"/>
                </a:solidFill>
                <a:latin typeface="Times New Roman"/>
              </a:rPr>
              <a:t>the mean time </a:t>
            </a:r>
            <a:r>
              <a:rPr b="1" lang="en-US" sz="2800" spc="-1" strike="noStrike">
                <a:solidFill>
                  <a:srgbClr val="030000"/>
                </a:solidFill>
                <a:latin typeface="Times New Roman"/>
              </a:rPr>
              <a:t>to sell a family home in York Region</a:t>
            </a:r>
            <a:r>
              <a:rPr b="1" lang="en-US" sz="2800" spc="-1" strike="noStrike">
                <a:solidFill>
                  <a:srgbClr val="a800a8"/>
                </a:solidFill>
                <a:latin typeface="Times New Roman"/>
              </a:rPr>
              <a:t>            is 40 da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05360" y="1521000"/>
            <a:ext cx="501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newspaper also reports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2440080"/>
            <a:ext cx="4021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select 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andom sample of 36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ld during the past year,     and determine a                        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90% confidence interval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estimate                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30000"/>
                </a:solidFill>
                <a:latin typeface="Times New Roman"/>
              </a:rPr>
              <a:t>for the popul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an to be (31-39)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7320" y="5908680"/>
            <a:ext cx="8940600" cy="550800"/>
          </a:xfrm>
          <a:prstGeom prst="rect">
            <a:avLst/>
          </a:prstGeom>
          <a:gradFill rotWithShape="0">
            <a:gsLst>
              <a:gs pos="0">
                <a:srgbClr val="ddfefe"/>
              </a:gs>
              <a:gs pos="50000">
                <a:srgbClr val="66ffff"/>
              </a:gs>
              <a:gs pos="100000">
                <a:srgbClr val="ddfefe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Do your sample results support the paper’s claim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75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175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969920" y="152280"/>
            <a:ext cx="518184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pre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7040" y="1486080"/>
            <a:ext cx="3192480" cy="606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201022" dir="7482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select 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andom sample          of 36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omes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ld during                     the past year,                             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er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                        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90% confidence interval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estimate                                               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30000"/>
                </a:solidFill>
                <a:latin typeface="Times New Roman"/>
              </a:rPr>
              <a:t>for the popul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an to be                       (31-39)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56000" y="4875120"/>
            <a:ext cx="56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10% ch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0%-90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the interval estimate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oes not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ain the value                    of the population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1324080"/>
            <a:ext cx="37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w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fidence limit    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1 da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9280" y="2124000"/>
            <a:ext cx="367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pe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dence limit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9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54560" y="3006720"/>
            <a:ext cx="5689440" cy="1739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30844" dir="71377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 evidenc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not support the stateme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e by the newspape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e., the population mean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s not 40 days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using a 90% interval est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75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 flipH="1">
            <a:off x="3843000" y="4129200"/>
            <a:ext cx="19080" cy="100944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38440" y="52149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95760" y="3052800"/>
            <a:ext cx="3504960" cy="2133720"/>
            <a:chOff x="2795760" y="3052800"/>
            <a:chExt cx="3504960" cy="2133720"/>
          </a:xfrm>
        </p:grpSpPr>
        <p:sp>
          <p:nvSpPr>
            <p:cNvPr id="367" name=""/>
            <p:cNvSpPr/>
            <p:nvPr/>
          </p:nvSpPr>
          <p:spPr>
            <a:xfrm>
              <a:off x="2795760" y="5186520"/>
              <a:ext cx="35049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2280" y="305280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857320" y="517212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920680" y="5148360"/>
              <a:ext cx="6336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984400" y="5133960"/>
              <a:ext cx="486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33360" y="5110200"/>
              <a:ext cx="615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095280" y="507204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43160" y="5032440"/>
              <a:ext cx="615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205080" y="499428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255840" y="494316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17760" y="4890960"/>
              <a:ext cx="630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381120" y="482436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27200" y="4751640"/>
              <a:ext cx="648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492360" y="4671720"/>
              <a:ext cx="4716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39880" y="4581720"/>
              <a:ext cx="633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603600" y="4480200"/>
              <a:ext cx="453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3649320" y="4376520"/>
              <a:ext cx="6336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3713040" y="427176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3778200" y="415908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25720" y="403092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3890880" y="391500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6960" y="3799080"/>
              <a:ext cx="615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98880" y="3683160"/>
              <a:ext cx="471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046400" y="356868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111560" y="346356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174920" y="336240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222440" y="3272040"/>
              <a:ext cx="6156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84360" y="3194280"/>
              <a:ext cx="4896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33680" y="314172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5600" y="309096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443120" y="3065760"/>
              <a:ext cx="6336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506840" y="3052800"/>
              <a:ext cx="6300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0200" y="3052800"/>
              <a:ext cx="4896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19520" y="3065760"/>
              <a:ext cx="6300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82880" y="309096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30400" y="314172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92320" y="3194280"/>
              <a:ext cx="4752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40200" y="327204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03560" y="336240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1080" y="3463920"/>
              <a:ext cx="6336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4800" y="356868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79960" y="3683160"/>
              <a:ext cx="453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25680" y="3799080"/>
              <a:ext cx="633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89400" y="391500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35480" y="403092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300640" y="415944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48160" y="427212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1520" y="437688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76680" y="4480200"/>
              <a:ext cx="4572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22760" y="4581720"/>
              <a:ext cx="630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86120" y="4672080"/>
              <a:ext cx="4752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4000" y="4751640"/>
              <a:ext cx="630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97360" y="482472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43440" y="4891320"/>
              <a:ext cx="648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08600" y="494352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70520" y="499428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21280" y="5032440"/>
              <a:ext cx="597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81400" y="507240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9280" y="511020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2640" y="5133960"/>
              <a:ext cx="489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41960" y="5148360"/>
              <a:ext cx="630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05320" y="5172120"/>
              <a:ext cx="615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5243400" y="4167360"/>
            <a:ext cx="0" cy="9810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0" y="5205240"/>
            <a:ext cx="5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145200" y="3319560"/>
            <a:ext cx="2652840" cy="6426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efe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0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138480" y="4405320"/>
            <a:ext cx="581040" cy="657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29000" y="393876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624640" y="392904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338800" y="4390920"/>
            <a:ext cx="628560" cy="671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05480" y="4138560"/>
            <a:ext cx="590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881160" y="4138560"/>
            <a:ext cx="7808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19400" y="4300560"/>
            <a:ext cx="1047960" cy="520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2760" y="2362320"/>
            <a:ext cx="799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% chance of falling outside this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69920" y="152280"/>
            <a:ext cx="5181840" cy="1143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efefe"/>
              </a:gs>
              <a:gs pos="100000">
                <a:srgbClr val="66ffff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pre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638360"/>
            <a:ext cx="5052960" cy="520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%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3280" y="3278160"/>
            <a:ext cx="24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r,  focus on tail area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5400" y="5629320"/>
            <a:ext cx="7238880" cy="1130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ffefe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probability of a value falling  </a:t>
            </a: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outside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nfidence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3219480" y="480960"/>
            <a:ext cx="2704320" cy="819000"/>
            <a:chOff x="3219480" y="480960"/>
            <a:chExt cx="2704320" cy="819000"/>
          </a:xfrm>
        </p:grpSpPr>
        <p:sp>
          <p:nvSpPr>
            <p:cNvPr id="445" name=""/>
            <p:cNvSpPr/>
            <p:nvPr/>
          </p:nvSpPr>
          <p:spPr>
            <a:xfrm>
              <a:off x="3219480" y="585720"/>
              <a:ext cx="2672280" cy="71424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19480" y="480960"/>
              <a:ext cx="2672280" cy="81900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4440" y="759600"/>
              <a:ext cx="2529360" cy="34560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3656160" y="585720"/>
              <a:ext cx="15372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Try it!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74760" y="1873080"/>
            <a:ext cx="501012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cc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appropriate value of 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22280" y="2709720"/>
                <a:ext cx="34765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f>
                      <m:num>
                        <m:r>
                          <m:t xml:space="preserve">z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≤</m:t>
                    </m:r>
                    <m:r>
                      <m:t xml:space="preserve">μ</m:t>
                    </m:r>
                    <m:r>
                      <m:t xml:space="preserve">≤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f>
                      <m:num>
                        <m:r>
                          <m:t xml:space="preserve">z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"/>
          <p:cNvGrpSpPr/>
          <p:nvPr/>
        </p:nvGrpSpPr>
        <p:grpSpPr>
          <a:xfrm>
            <a:off x="6781680" y="2438280"/>
            <a:ext cx="533520" cy="2141640"/>
            <a:chOff x="6781680" y="2438280"/>
            <a:chExt cx="533520" cy="2141640"/>
          </a:xfrm>
        </p:grpSpPr>
        <p:sp>
          <p:nvSpPr>
            <p:cNvPr id="452" name=""/>
            <p:cNvSpPr/>
            <p:nvPr/>
          </p:nvSpPr>
          <p:spPr>
            <a:xfrm flipH="1" flipV="1">
              <a:off x="7251840" y="2438280"/>
              <a:ext cx="63360" cy="12960"/>
            </a:xfrm>
            <a:prstGeom prst="line">
              <a:avLst/>
            </a:prstGeom>
            <a:ln w="46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9784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1520" y="2511360"/>
              <a:ext cx="0" cy="20606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590920"/>
              <a:ext cx="0" cy="1981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2666880"/>
              <a:ext cx="0" cy="19130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34320" y="2814480"/>
              <a:ext cx="0" cy="17654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0" y="2960640"/>
              <a:ext cx="0" cy="16192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08240"/>
              <a:ext cx="0" cy="1471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7380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7315200" y="2414520"/>
            <a:ext cx="533520" cy="2133720"/>
            <a:chOff x="7315200" y="2414520"/>
            <a:chExt cx="533520" cy="2133720"/>
          </a:xfrm>
        </p:grpSpPr>
        <p:sp>
          <p:nvSpPr>
            <p:cNvPr id="462" name=""/>
            <p:cNvSpPr/>
            <p:nvPr/>
          </p:nvSpPr>
          <p:spPr>
            <a:xfrm flipV="1">
              <a:off x="7315200" y="2414520"/>
              <a:ext cx="63360" cy="12960"/>
            </a:xfrm>
            <a:prstGeom prst="line">
              <a:avLst/>
            </a:prstGeom>
            <a:ln w="4608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91520" y="2490840"/>
              <a:ext cx="0" cy="205740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467480" y="2567160"/>
              <a:ext cx="0" cy="198108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43800" y="2635200"/>
              <a:ext cx="0" cy="1913040"/>
            </a:xfrm>
            <a:prstGeom prst="line">
              <a:avLst/>
            </a:prstGeom>
            <a:ln w="5724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20120" y="2711520"/>
              <a:ext cx="0" cy="1836720"/>
            </a:xfrm>
            <a:prstGeom prst="line">
              <a:avLst/>
            </a:prstGeom>
            <a:ln w="5724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6080" y="2859120"/>
              <a:ext cx="0" cy="1689120"/>
            </a:xfrm>
            <a:prstGeom prst="line">
              <a:avLst/>
            </a:prstGeom>
            <a:ln w="5724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772400" y="3005280"/>
              <a:ext cx="0" cy="1542960"/>
            </a:xfrm>
            <a:prstGeom prst="line">
              <a:avLst/>
            </a:prstGeom>
            <a:ln w="5724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848720" y="3152880"/>
              <a:ext cx="0" cy="1395360"/>
            </a:xfrm>
            <a:prstGeom prst="line">
              <a:avLst/>
            </a:prstGeom>
            <a:ln w="5724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56600" y="2414520"/>
              <a:ext cx="0" cy="213372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3276720"/>
            <a:ext cx="0" cy="129528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24680" y="3276720"/>
            <a:ext cx="0" cy="131292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391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486400" y="2438280"/>
            <a:ext cx="3580920" cy="2133720"/>
            <a:chOff x="5486400" y="2438280"/>
            <a:chExt cx="3580920" cy="2133720"/>
          </a:xfrm>
        </p:grpSpPr>
        <p:sp>
          <p:nvSpPr>
            <p:cNvPr id="476" name=""/>
            <p:cNvSpPr/>
            <p:nvPr/>
          </p:nvSpPr>
          <p:spPr>
            <a:xfrm>
              <a:off x="5486400" y="4572000"/>
              <a:ext cx="358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914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5549400" y="4557600"/>
              <a:ext cx="644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5614200" y="4533840"/>
              <a:ext cx="648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679360" y="4519440"/>
              <a:ext cx="4968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2940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792760" y="445752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41360" y="4417920"/>
              <a:ext cx="630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9047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956560" y="432864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019920" y="4276440"/>
              <a:ext cx="644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084720" y="420984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31880" y="4137120"/>
              <a:ext cx="662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6198120" y="4057200"/>
              <a:ext cx="4824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46720" y="3967200"/>
              <a:ext cx="648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6311880" y="3865680"/>
              <a:ext cx="464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358680" y="376200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6423840" y="3657240"/>
              <a:ext cx="662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6490440" y="354456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53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660528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52440" y="3184560"/>
              <a:ext cx="630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715800" y="3068640"/>
              <a:ext cx="482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676440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831000" y="284904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89580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4404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07400" y="2579760"/>
              <a:ext cx="5004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5780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211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169760" y="2451240"/>
              <a:ext cx="6480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234920" y="2438280"/>
              <a:ext cx="644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99360" y="2438280"/>
              <a:ext cx="500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349760" y="2451240"/>
              <a:ext cx="6444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145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46316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26520" y="2579760"/>
              <a:ext cx="4860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75480" y="2657520"/>
              <a:ext cx="6444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3992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8520" y="284940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5368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0280" y="3068640"/>
              <a:ext cx="464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67080" y="3184560"/>
              <a:ext cx="648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3224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7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045640" y="354492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094240" y="365760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59040" y="3762360"/>
              <a:ext cx="6624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25640" y="3865680"/>
              <a:ext cx="4680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272800" y="3967200"/>
              <a:ext cx="6444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37240" y="4057560"/>
              <a:ext cx="4860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386200" y="4137120"/>
              <a:ext cx="644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1000" y="421020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98160" y="4276800"/>
              <a:ext cx="662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64760" y="432900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281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679960" y="4417920"/>
              <a:ext cx="612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741160" y="445788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790120" y="4495680"/>
              <a:ext cx="6444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54920" y="4519440"/>
              <a:ext cx="500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905320" y="4533840"/>
              <a:ext cx="6444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97012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80880" y="3971880"/>
            <a:ext cx="3429000" cy="947160"/>
            <a:chOff x="380880" y="3971880"/>
            <a:chExt cx="3429000" cy="947160"/>
          </a:xfrm>
        </p:grpSpPr>
        <p:sp>
          <p:nvSpPr>
            <p:cNvPr id="539" name=""/>
            <p:cNvSpPr/>
            <p:nvPr/>
          </p:nvSpPr>
          <p:spPr>
            <a:xfrm>
              <a:off x="1218960" y="39718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80880" y="4078440"/>
              <a:ext cx="685800" cy="811080"/>
              <a:chOff x="380880" y="4078440"/>
              <a:chExt cx="685800" cy="811080"/>
            </a:xfrm>
          </p:grpSpPr>
          <p:pic>
            <p:nvPicPr>
              <p:cNvPr id="5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407844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435240" y="4154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724800" y="3981600"/>
            <a:ext cx="1123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07200" y="1471680"/>
            <a:ext cx="37368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92% 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80880" y="4983120"/>
            <a:ext cx="4496040" cy="1191240"/>
            <a:chOff x="380880" y="4983120"/>
            <a:chExt cx="4496040" cy="1191240"/>
          </a:xfrm>
        </p:grpSpPr>
        <p:grpSp>
          <p:nvGrpSpPr>
            <p:cNvPr id="546" name=""/>
            <p:cNvGrpSpPr/>
            <p:nvPr/>
          </p:nvGrpSpPr>
          <p:grpSpPr>
            <a:xfrm>
              <a:off x="380880" y="4994280"/>
              <a:ext cx="673200" cy="811080"/>
              <a:chOff x="380880" y="4994280"/>
              <a:chExt cx="673200" cy="811080"/>
            </a:xfrm>
          </p:grpSpPr>
          <p:pic>
            <p:nvPicPr>
              <p:cNvPr id="5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4994280"/>
                <a:ext cx="6732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>
                <a:off x="434520" y="5070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1203480" y="4983120"/>
              <a:ext cx="3673440" cy="119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a=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46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 to get the corresponding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c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210280" y="5124600"/>
            <a:ext cx="3886200" cy="825480"/>
          </a:xfrm>
          <a:prstGeom prst="rect">
            <a:avLst/>
          </a:prstGeom>
          <a:solidFill>
            <a:srgbClr val="ffeac5"/>
          </a:solidFill>
          <a:ln w="9360">
            <a:solidFill>
              <a:srgbClr val="6a78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 in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ent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table for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re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0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4240" y="6058080"/>
            <a:ext cx="2226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+/-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24480" y="4648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3314880"/>
            <a:ext cx="971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936880"/>
                <a:ext cx="984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Bar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 rot="5400000">
            <a:off x="2614320" y="5415120"/>
            <a:ext cx="942840" cy="742680"/>
          </a:xfrm>
          <a:prstGeom prst="triangle">
            <a:avLst>
              <a:gd name="adj" fmla="val 50685"/>
            </a:avLst>
          </a:prstGeom>
          <a:gradFill rotWithShape="0">
            <a:gsLst>
              <a:gs pos="0">
                <a:srgbClr val="cc3399"/>
              </a:gs>
              <a:gs pos="50000">
                <a:srgbClr val="ffffcc"/>
              </a:gs>
              <a:gs pos="100000">
                <a:srgbClr val="cc3399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2548080" y="4071960"/>
            <a:ext cx="961920" cy="743040"/>
          </a:xfrm>
          <a:prstGeom prst="triangle">
            <a:avLst>
              <a:gd name="adj" fmla="val 50685"/>
            </a:avLst>
          </a:prstGeom>
          <a:gradFill rotWithShape="0">
            <a:gsLst>
              <a:gs pos="0">
                <a:srgbClr val="cc3399"/>
              </a:gs>
              <a:gs pos="50000">
                <a:srgbClr val="ffffcc"/>
              </a:gs>
              <a:gs pos="100000">
                <a:srgbClr val="cc3399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19000" y="3142440"/>
            <a:ext cx="1143000" cy="838440"/>
          </a:xfrm>
          <a:prstGeom prst="triangle">
            <a:avLst>
              <a:gd name="adj" fmla="val 50472"/>
            </a:avLst>
          </a:prstGeom>
          <a:gradFill rotWithShape="0">
            <a:gsLst>
              <a:gs pos="0">
                <a:srgbClr val="cc3399"/>
              </a:gs>
              <a:gs pos="50000">
                <a:srgbClr val="ffffcc"/>
              </a:gs>
              <a:gs pos="100000">
                <a:srgbClr val="cc3399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924200" y="152280"/>
            <a:ext cx="5467320" cy="1504800"/>
            <a:chOff x="1924200" y="152280"/>
            <a:chExt cx="5467320" cy="1504800"/>
          </a:xfrm>
        </p:grpSpPr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1924200" y="152280"/>
              <a:ext cx="5467320" cy="15048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560" name=""/>
            <p:cNvSpPr/>
            <p:nvPr/>
          </p:nvSpPr>
          <p:spPr>
            <a:xfrm>
              <a:off x="2057400" y="152280"/>
              <a:ext cx="5181480" cy="12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Constructing Confidence Interval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413160" y="3962520"/>
                <a:ext cx="23162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"/>
          <p:cNvSpPr/>
          <p:nvPr/>
        </p:nvSpPr>
        <p:spPr>
          <a:xfrm>
            <a:off x="285840" y="3962520"/>
            <a:ext cx="2495520" cy="947160"/>
          </a:xfrm>
          <a:prstGeom prst="rect">
            <a:avLst/>
          </a:prstGeom>
          <a:solidFill>
            <a:srgbClr val="f7f5a1"/>
          </a:solidFill>
          <a:ln w="9360">
            <a:solidFill>
              <a:srgbClr val="510c9c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 C.I. for the m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5840" y="2054160"/>
            <a:ext cx="2495520" cy="1373760"/>
          </a:xfrm>
          <a:prstGeom prst="rect">
            <a:avLst/>
          </a:prstGeom>
          <a:solidFill>
            <a:srgbClr val="f7f5a1"/>
          </a:solidFill>
          <a:ln w="9360">
            <a:solidFill>
              <a:srgbClr val="510c9c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n Confidence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000" y="5276880"/>
            <a:ext cx="2495520" cy="947160"/>
          </a:xfrm>
          <a:prstGeom prst="rect">
            <a:avLst/>
          </a:prstGeom>
          <a:solidFill>
            <a:srgbClr val="f7f5a1"/>
          </a:solidFill>
          <a:ln w="9360">
            <a:solidFill>
              <a:srgbClr val="510c9c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9% C.I. for the m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433680" y="5324400"/>
                <a:ext cx="2222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6400800" y="2762280"/>
            <a:ext cx="2495520" cy="2653560"/>
          </a:xfrm>
          <a:prstGeom prst="rect">
            <a:avLst/>
          </a:prstGeom>
          <a:gradFill rotWithShape="0">
            <a:gsLst>
              <a:gs pos="0">
                <a:srgbClr val="d8ecea"/>
              </a:gs>
              <a:gs pos="100000">
                <a:srgbClr val="b6c7c5"/>
              </a:gs>
            </a:gsLst>
            <a:lin ang="5400000"/>
          </a:gradFill>
          <a:ln w="9360">
            <a:solidFill>
              <a:srgbClr val="510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95% of the constructed intervals will contain the parameter being estimat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53120" y="2610000"/>
            <a:ext cx="2876760" cy="3506760"/>
          </a:xfrm>
          <a:prstGeom prst="rect">
            <a:avLst/>
          </a:prstGeom>
          <a:gradFill rotWithShape="0">
            <a:gsLst>
              <a:gs pos="0">
                <a:srgbClr val="d8ecea"/>
              </a:gs>
              <a:gs pos="50000">
                <a:srgbClr val="fefefe"/>
              </a:gs>
              <a:gs pos="100000">
                <a:srgbClr val="d8ecea"/>
              </a:gs>
            </a:gsLst>
            <a:lin ang="8100000"/>
          </a:gradFill>
          <a:ln w="9360">
            <a:solidFill>
              <a:srgbClr val="510c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95% of the sample mea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a speci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lie within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.96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tandard devi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hypothesiz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pulatio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37040" y="1947960"/>
            <a:ext cx="2832120" cy="1423800"/>
            <a:chOff x="3137040" y="1947960"/>
            <a:chExt cx="2832120" cy="1423800"/>
          </a:xfrm>
        </p:grpSpPr>
        <p:sp>
          <p:nvSpPr>
            <p:cNvPr id="569" name=""/>
            <p:cNvSpPr/>
            <p:nvPr/>
          </p:nvSpPr>
          <p:spPr>
            <a:xfrm>
              <a:off x="3143160" y="2019240"/>
              <a:ext cx="2819520" cy="135252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feac5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3137040" y="1947960"/>
              <a:ext cx="2832120" cy="1318680"/>
              <a:chOff x="3137040" y="1947960"/>
              <a:chExt cx="2832120" cy="1318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137040" y="2063880"/>
                <a:ext cx="2832120" cy="1202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34955" dir="78728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402720" y="1947960"/>
                <a:ext cx="2354760" cy="1260000"/>
                <a:chOff x="3402720" y="1947960"/>
                <a:chExt cx="2354760" cy="126000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4290120" y="2207160"/>
                  <a:ext cx="247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50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776040" y="2311920"/>
                  <a:ext cx="424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V="1">
                  <a:off x="3402720" y="2443320"/>
                  <a:ext cx="3067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4961880" y="1947960"/>
                  <a:ext cx="795600" cy="1243440"/>
                  <a:chOff x="4961880" y="1947960"/>
                  <a:chExt cx="795600" cy="12434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5063040" y="2631960"/>
                    <a:ext cx="6944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961880" y="2731680"/>
                    <a:ext cx="584640" cy="370080"/>
                    <a:chOff x="4961880" y="2731680"/>
                    <a:chExt cx="584640" cy="37008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flipV="1">
                      <a:off x="4961880" y="2972880"/>
                      <a:ext cx="60840" cy="25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022720" y="2981160"/>
                      <a:ext cx="84960" cy="12060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flipV="1">
                      <a:off x="5119920" y="2731680"/>
                      <a:ext cx="120240" cy="3700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240160" y="2731680"/>
                      <a:ext cx="30636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3" name=""/>
                  <p:cNvSpPr/>
                  <p:nvPr/>
                </p:nvSpPr>
                <p:spPr>
                  <a:xfrm>
                    <a:off x="5250960" y="2688480"/>
                    <a:ext cx="23400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3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216040" y="1947960"/>
                    <a:ext cx="4032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5" name=""/>
                <p:cNvSpPr/>
                <p:nvPr/>
              </p:nvSpPr>
              <p:spPr>
                <a:xfrm>
                  <a:off x="4396680" y="2590200"/>
                  <a:ext cx="643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Bar dir="ver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924200" y="152280"/>
            <a:ext cx="5467320" cy="838440"/>
            <a:chOff x="1924200" y="152280"/>
            <a:chExt cx="5467320" cy="83844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924200" y="152280"/>
              <a:ext cx="5467320" cy="8384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588" name=""/>
            <p:cNvSpPr/>
            <p:nvPr/>
          </p:nvSpPr>
          <p:spPr>
            <a:xfrm>
              <a:off x="2057400" y="152280"/>
              <a:ext cx="51814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nterval Estim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2600" y="3924360"/>
            <a:ext cx="3352680" cy="2533680"/>
            <a:chOff x="552600" y="3924360"/>
            <a:chExt cx="3352680" cy="2533680"/>
          </a:xfrm>
        </p:grpSpPr>
        <p:grpSp>
          <p:nvGrpSpPr>
            <p:cNvPr id="590" name=""/>
            <p:cNvGrpSpPr/>
            <p:nvPr/>
          </p:nvGrpSpPr>
          <p:grpSpPr>
            <a:xfrm>
              <a:off x="552600" y="3924360"/>
              <a:ext cx="3352680" cy="2533680"/>
              <a:chOff x="552600" y="3924360"/>
              <a:chExt cx="3352680" cy="2533680"/>
            </a:xfrm>
          </p:grpSpPr>
          <p:sp>
            <p:nvSpPr>
              <p:cNvPr id="591" name=""/>
              <p:cNvSpPr/>
              <p:nvPr/>
            </p:nvSpPr>
            <p:spPr>
              <a:xfrm>
                <a:off x="552600" y="3924360"/>
                <a:ext cx="3352680" cy="2533680"/>
              </a:xfrm>
              <a:prstGeom prst="rect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efefe"/>
                  </a:gs>
                  <a:gs pos="100000">
                    <a:srgbClr val="33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19669" dir="731813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240" y="4400640"/>
                <a:ext cx="312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Use the</a:t>
                </a:r>
                <a:r>
                  <a:rPr b="1" lang="en-US" sz="3200" spc="-1" strike="noStrike" u="sng">
                    <a:solidFill>
                      <a:srgbClr val="ff3300"/>
                    </a:solidFill>
                    <a:uFillTx/>
                    <a:latin typeface="Times New Roman"/>
                  </a:rPr>
                  <a:t> z</a:t>
                </a: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table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41520" y="4919760"/>
              <a:ext cx="3117600" cy="1299600"/>
              <a:chOff x="641520" y="4919760"/>
              <a:chExt cx="3117600" cy="1299600"/>
            </a:xfrm>
          </p:grpSpPr>
          <p:sp>
            <p:nvSpPr>
              <p:cNvPr id="594" name=""/>
              <p:cNvSpPr/>
              <p:nvPr/>
            </p:nvSpPr>
            <p:spPr>
              <a:xfrm>
                <a:off x="641520" y="5033880"/>
                <a:ext cx="3117600" cy="118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34955" dir="78728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" name=""/>
              <p:cNvGrpSpPr/>
              <p:nvPr/>
            </p:nvGrpSpPr>
            <p:grpSpPr>
              <a:xfrm>
                <a:off x="934200" y="4919760"/>
                <a:ext cx="2592000" cy="1240920"/>
                <a:chOff x="934200" y="4919760"/>
                <a:chExt cx="2592000" cy="12409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1922040" y="5176800"/>
                  <a:ext cx="247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5000" spc="-1" strike="noStrike">
                      <a:solidFill>
                        <a:srgbClr val="ff3300"/>
                      </a:solidFill>
                      <a:latin typeface="Times New Roman"/>
                    </a:rPr>
                    <a:t>z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365840" y="5278320"/>
                  <a:ext cx="424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934200" y="5396040"/>
                  <a:ext cx="33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2650320" y="4919760"/>
                  <a:ext cx="875880" cy="1234440"/>
                  <a:chOff x="2650320" y="4919760"/>
                  <a:chExt cx="875880" cy="12344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2761920" y="5594040"/>
                    <a:ext cx="764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2650320" y="5692320"/>
                    <a:ext cx="643680" cy="365040"/>
                    <a:chOff x="2650320" y="5692320"/>
                    <a:chExt cx="643680" cy="3650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flipV="1">
                      <a:off x="2650320" y="5929920"/>
                      <a:ext cx="66960" cy="2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2717280" y="5938200"/>
                      <a:ext cx="93600" cy="1191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V="1">
                      <a:off x="2824200" y="5692320"/>
                      <a:ext cx="132480" cy="3650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2956680" y="5692320"/>
                      <a:ext cx="33732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6" name=""/>
                  <p:cNvSpPr/>
                  <p:nvPr/>
                </p:nvSpPr>
                <p:spPr>
                  <a:xfrm>
                    <a:off x="2980440" y="5651280"/>
                    <a:ext cx="23400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3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2950920" y="4919760"/>
                    <a:ext cx="4032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2057760" y="5553000"/>
                  <a:ext cx="643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9" name=""/>
          <p:cNvGrpSpPr/>
          <p:nvPr/>
        </p:nvGrpSpPr>
        <p:grpSpPr>
          <a:xfrm>
            <a:off x="1886040" y="2599920"/>
            <a:ext cx="1600200" cy="1505160"/>
            <a:chOff x="1886040" y="2599920"/>
            <a:chExt cx="1600200" cy="1505160"/>
          </a:xfrm>
        </p:grpSpPr>
        <p:sp>
          <p:nvSpPr>
            <p:cNvPr id="610" name=""/>
            <p:cNvSpPr/>
            <p:nvPr/>
          </p:nvSpPr>
          <p:spPr>
            <a:xfrm flipV="1">
              <a:off x="1981800" y="2723040"/>
              <a:ext cx="1440720" cy="1334160"/>
            </a:xfrm>
            <a:custGeom>
              <a:avLst/>
              <a:gdLst/>
              <a:ahLst/>
              <a:rect l="l" t="t" r="r" b="b"/>
              <a:pathLst>
                <a:path w="2166" h="1500">
                  <a:moveTo>
                    <a:pt x="72" y="0"/>
                  </a:moveTo>
                  <a:lnTo>
                    <a:pt x="894" y="366"/>
                  </a:lnTo>
                  <a:lnTo>
                    <a:pt x="708" y="486"/>
                  </a:lnTo>
                  <a:lnTo>
                    <a:pt x="756" y="558"/>
                  </a:lnTo>
                  <a:lnTo>
                    <a:pt x="804" y="618"/>
                  </a:lnTo>
                  <a:lnTo>
                    <a:pt x="858" y="690"/>
                  </a:lnTo>
                  <a:lnTo>
                    <a:pt x="924" y="756"/>
                  </a:lnTo>
                  <a:lnTo>
                    <a:pt x="984" y="828"/>
                  </a:lnTo>
                  <a:lnTo>
                    <a:pt x="1056" y="894"/>
                  </a:lnTo>
                  <a:lnTo>
                    <a:pt x="1128" y="960"/>
                  </a:lnTo>
                  <a:lnTo>
                    <a:pt x="1206" y="1026"/>
                  </a:lnTo>
                  <a:lnTo>
                    <a:pt x="1290" y="1098"/>
                  </a:lnTo>
                  <a:lnTo>
                    <a:pt x="1368" y="1152"/>
                  </a:lnTo>
                  <a:lnTo>
                    <a:pt x="1446" y="1206"/>
                  </a:lnTo>
                  <a:lnTo>
                    <a:pt x="1530" y="1254"/>
                  </a:lnTo>
                  <a:lnTo>
                    <a:pt x="1614" y="1302"/>
                  </a:lnTo>
                  <a:lnTo>
                    <a:pt x="1698" y="1344"/>
                  </a:lnTo>
                  <a:lnTo>
                    <a:pt x="1794" y="1386"/>
                  </a:lnTo>
                  <a:lnTo>
                    <a:pt x="1866" y="1416"/>
                  </a:lnTo>
                  <a:lnTo>
                    <a:pt x="1962" y="1446"/>
                  </a:lnTo>
                  <a:lnTo>
                    <a:pt x="2034" y="1464"/>
                  </a:lnTo>
                  <a:lnTo>
                    <a:pt x="2094" y="1476"/>
                  </a:lnTo>
                  <a:lnTo>
                    <a:pt x="2166" y="1488"/>
                  </a:lnTo>
                  <a:lnTo>
                    <a:pt x="2106" y="1494"/>
                  </a:lnTo>
                  <a:lnTo>
                    <a:pt x="2040" y="1500"/>
                  </a:lnTo>
                  <a:lnTo>
                    <a:pt x="1962" y="1500"/>
                  </a:lnTo>
                  <a:lnTo>
                    <a:pt x="1878" y="1494"/>
                  </a:lnTo>
                  <a:lnTo>
                    <a:pt x="1782" y="1488"/>
                  </a:lnTo>
                  <a:lnTo>
                    <a:pt x="1692" y="1476"/>
                  </a:lnTo>
                  <a:lnTo>
                    <a:pt x="1602" y="1470"/>
                  </a:lnTo>
                  <a:lnTo>
                    <a:pt x="1518" y="1458"/>
                  </a:lnTo>
                  <a:lnTo>
                    <a:pt x="1428" y="1446"/>
                  </a:lnTo>
                  <a:lnTo>
                    <a:pt x="1344" y="1428"/>
                  </a:lnTo>
                  <a:lnTo>
                    <a:pt x="1242" y="1416"/>
                  </a:lnTo>
                  <a:lnTo>
                    <a:pt x="1182" y="1398"/>
                  </a:lnTo>
                  <a:lnTo>
                    <a:pt x="1086" y="1380"/>
                  </a:lnTo>
                  <a:lnTo>
                    <a:pt x="996" y="1356"/>
                  </a:lnTo>
                  <a:lnTo>
                    <a:pt x="912" y="1332"/>
                  </a:lnTo>
                  <a:lnTo>
                    <a:pt x="822" y="1302"/>
                  </a:lnTo>
                  <a:lnTo>
                    <a:pt x="750" y="1272"/>
                  </a:lnTo>
                  <a:lnTo>
                    <a:pt x="672" y="1242"/>
                  </a:lnTo>
                  <a:lnTo>
                    <a:pt x="600" y="1200"/>
                  </a:lnTo>
                  <a:lnTo>
                    <a:pt x="528" y="1158"/>
                  </a:lnTo>
                  <a:lnTo>
                    <a:pt x="444" y="1104"/>
                  </a:lnTo>
                  <a:lnTo>
                    <a:pt x="366" y="1032"/>
                  </a:lnTo>
                  <a:lnTo>
                    <a:pt x="300" y="966"/>
                  </a:lnTo>
                  <a:lnTo>
                    <a:pt x="234" y="882"/>
                  </a:lnTo>
                  <a:lnTo>
                    <a:pt x="180" y="804"/>
                  </a:lnTo>
                  <a:lnTo>
                    <a:pt x="0" y="91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886040" y="2599560"/>
              <a:ext cx="1600200" cy="1505160"/>
            </a:xfrm>
            <a:custGeom>
              <a:avLst/>
              <a:gdLst/>
              <a:ahLst/>
              <a:rect l="l" t="t" r="r" b="b"/>
              <a:pathLst>
                <a:path w="2406" h="1692">
                  <a:moveTo>
                    <a:pt x="216" y="54"/>
                  </a:moveTo>
                  <a:lnTo>
                    <a:pt x="1038" y="420"/>
                  </a:lnTo>
                  <a:lnTo>
                    <a:pt x="852" y="540"/>
                  </a:lnTo>
                  <a:lnTo>
                    <a:pt x="900" y="612"/>
                  </a:lnTo>
                  <a:lnTo>
                    <a:pt x="948" y="672"/>
                  </a:lnTo>
                  <a:lnTo>
                    <a:pt x="1002" y="744"/>
                  </a:lnTo>
                  <a:lnTo>
                    <a:pt x="1068" y="810"/>
                  </a:lnTo>
                  <a:lnTo>
                    <a:pt x="1128" y="882"/>
                  </a:lnTo>
                  <a:lnTo>
                    <a:pt x="1200" y="948"/>
                  </a:lnTo>
                  <a:lnTo>
                    <a:pt x="1272" y="1014"/>
                  </a:lnTo>
                  <a:lnTo>
                    <a:pt x="1350" y="1080"/>
                  </a:lnTo>
                  <a:lnTo>
                    <a:pt x="1434" y="1152"/>
                  </a:lnTo>
                  <a:lnTo>
                    <a:pt x="1512" y="1206"/>
                  </a:lnTo>
                  <a:lnTo>
                    <a:pt x="1590" y="1260"/>
                  </a:lnTo>
                  <a:lnTo>
                    <a:pt x="1674" y="1308"/>
                  </a:lnTo>
                  <a:lnTo>
                    <a:pt x="1758" y="1356"/>
                  </a:lnTo>
                  <a:lnTo>
                    <a:pt x="1842" y="1398"/>
                  </a:lnTo>
                  <a:lnTo>
                    <a:pt x="1938" y="1440"/>
                  </a:lnTo>
                  <a:lnTo>
                    <a:pt x="2010" y="1470"/>
                  </a:lnTo>
                  <a:lnTo>
                    <a:pt x="2106" y="1500"/>
                  </a:lnTo>
                  <a:lnTo>
                    <a:pt x="2178" y="1518"/>
                  </a:lnTo>
                  <a:lnTo>
                    <a:pt x="2238" y="1530"/>
                  </a:lnTo>
                  <a:lnTo>
                    <a:pt x="2310" y="1542"/>
                  </a:lnTo>
                  <a:lnTo>
                    <a:pt x="2250" y="1548"/>
                  </a:lnTo>
                  <a:lnTo>
                    <a:pt x="2184" y="1554"/>
                  </a:lnTo>
                  <a:lnTo>
                    <a:pt x="2106" y="1554"/>
                  </a:lnTo>
                  <a:lnTo>
                    <a:pt x="2022" y="1548"/>
                  </a:lnTo>
                  <a:lnTo>
                    <a:pt x="1926" y="1542"/>
                  </a:lnTo>
                  <a:lnTo>
                    <a:pt x="1836" y="1530"/>
                  </a:lnTo>
                  <a:lnTo>
                    <a:pt x="1746" y="1524"/>
                  </a:lnTo>
                  <a:lnTo>
                    <a:pt x="1662" y="1512"/>
                  </a:lnTo>
                  <a:lnTo>
                    <a:pt x="1572" y="1500"/>
                  </a:lnTo>
                  <a:lnTo>
                    <a:pt x="1488" y="1482"/>
                  </a:lnTo>
                  <a:lnTo>
                    <a:pt x="1386" y="1470"/>
                  </a:lnTo>
                  <a:lnTo>
                    <a:pt x="1326" y="1452"/>
                  </a:lnTo>
                  <a:lnTo>
                    <a:pt x="1230" y="1434"/>
                  </a:lnTo>
                  <a:lnTo>
                    <a:pt x="1140" y="1410"/>
                  </a:lnTo>
                  <a:lnTo>
                    <a:pt x="1056" y="1386"/>
                  </a:lnTo>
                  <a:lnTo>
                    <a:pt x="966" y="1356"/>
                  </a:lnTo>
                  <a:lnTo>
                    <a:pt x="894" y="1326"/>
                  </a:lnTo>
                  <a:lnTo>
                    <a:pt x="816" y="1296"/>
                  </a:lnTo>
                  <a:lnTo>
                    <a:pt x="744" y="1254"/>
                  </a:lnTo>
                  <a:lnTo>
                    <a:pt x="672" y="1212"/>
                  </a:lnTo>
                  <a:lnTo>
                    <a:pt x="588" y="1158"/>
                  </a:lnTo>
                  <a:lnTo>
                    <a:pt x="510" y="1086"/>
                  </a:lnTo>
                  <a:lnTo>
                    <a:pt x="444" y="1020"/>
                  </a:lnTo>
                  <a:lnTo>
                    <a:pt x="378" y="936"/>
                  </a:lnTo>
                  <a:lnTo>
                    <a:pt x="324" y="858"/>
                  </a:lnTo>
                  <a:lnTo>
                    <a:pt x="144" y="966"/>
                  </a:lnTo>
                  <a:lnTo>
                    <a:pt x="216" y="54"/>
                  </a:lnTo>
                  <a:lnTo>
                    <a:pt x="192" y="0"/>
                  </a:lnTo>
                  <a:lnTo>
                    <a:pt x="102" y="282"/>
                  </a:lnTo>
                  <a:lnTo>
                    <a:pt x="0" y="1260"/>
                  </a:lnTo>
                  <a:lnTo>
                    <a:pt x="186" y="1164"/>
                  </a:lnTo>
                  <a:lnTo>
                    <a:pt x="252" y="1224"/>
                  </a:lnTo>
                  <a:lnTo>
                    <a:pt x="318" y="1284"/>
                  </a:lnTo>
                  <a:lnTo>
                    <a:pt x="396" y="1350"/>
                  </a:lnTo>
                  <a:lnTo>
                    <a:pt x="492" y="1416"/>
                  </a:lnTo>
                  <a:lnTo>
                    <a:pt x="576" y="1464"/>
                  </a:lnTo>
                  <a:lnTo>
                    <a:pt x="672" y="1506"/>
                  </a:lnTo>
                  <a:lnTo>
                    <a:pt x="786" y="1548"/>
                  </a:lnTo>
                  <a:lnTo>
                    <a:pt x="888" y="1578"/>
                  </a:lnTo>
                  <a:lnTo>
                    <a:pt x="990" y="1602"/>
                  </a:lnTo>
                  <a:lnTo>
                    <a:pt x="1104" y="1620"/>
                  </a:lnTo>
                  <a:lnTo>
                    <a:pt x="1218" y="1644"/>
                  </a:lnTo>
                  <a:lnTo>
                    <a:pt x="1344" y="1656"/>
                  </a:lnTo>
                  <a:lnTo>
                    <a:pt x="1476" y="1668"/>
                  </a:lnTo>
                  <a:lnTo>
                    <a:pt x="1614" y="1680"/>
                  </a:lnTo>
                  <a:lnTo>
                    <a:pt x="1746" y="1692"/>
                  </a:lnTo>
                  <a:lnTo>
                    <a:pt x="1878" y="1692"/>
                  </a:lnTo>
                  <a:lnTo>
                    <a:pt x="2082" y="1692"/>
                  </a:lnTo>
                  <a:lnTo>
                    <a:pt x="2406" y="1524"/>
                  </a:lnTo>
                  <a:lnTo>
                    <a:pt x="2298" y="1506"/>
                  </a:lnTo>
                  <a:lnTo>
                    <a:pt x="2178" y="1482"/>
                  </a:lnTo>
                  <a:lnTo>
                    <a:pt x="2070" y="1452"/>
                  </a:lnTo>
                  <a:lnTo>
                    <a:pt x="1962" y="1416"/>
                  </a:lnTo>
                  <a:lnTo>
                    <a:pt x="1848" y="1362"/>
                  </a:lnTo>
                  <a:lnTo>
                    <a:pt x="1752" y="1314"/>
                  </a:lnTo>
                  <a:lnTo>
                    <a:pt x="1644" y="1248"/>
                  </a:lnTo>
                  <a:lnTo>
                    <a:pt x="1542" y="1188"/>
                  </a:lnTo>
                  <a:lnTo>
                    <a:pt x="1446" y="1116"/>
                  </a:lnTo>
                  <a:lnTo>
                    <a:pt x="1350" y="1038"/>
                  </a:lnTo>
                  <a:lnTo>
                    <a:pt x="1278" y="972"/>
                  </a:lnTo>
                  <a:lnTo>
                    <a:pt x="1128" y="828"/>
                  </a:lnTo>
                  <a:lnTo>
                    <a:pt x="1062" y="756"/>
                  </a:lnTo>
                  <a:lnTo>
                    <a:pt x="1002" y="684"/>
                  </a:lnTo>
                  <a:lnTo>
                    <a:pt x="954" y="612"/>
                  </a:lnTo>
                  <a:lnTo>
                    <a:pt x="1092" y="408"/>
                  </a:lnTo>
                  <a:lnTo>
                    <a:pt x="192" y="0"/>
                  </a:lnTo>
                  <a:lnTo>
                    <a:pt x="216" y="54"/>
                  </a:lnTo>
                  <a:lnTo>
                    <a:pt x="21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657680" y="3924360"/>
            <a:ext cx="3809880" cy="2592360"/>
            <a:chOff x="4657680" y="3924360"/>
            <a:chExt cx="3809880" cy="2592360"/>
          </a:xfrm>
        </p:grpSpPr>
        <p:sp>
          <p:nvSpPr>
            <p:cNvPr id="613" name=""/>
            <p:cNvSpPr/>
            <p:nvPr/>
          </p:nvSpPr>
          <p:spPr>
            <a:xfrm>
              <a:off x="4657680" y="3924360"/>
              <a:ext cx="3809880" cy="25923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efefe"/>
                </a:gs>
                <a:gs pos="100000">
                  <a:srgbClr val="ff3300"/>
                </a:gs>
              </a:gsLst>
              <a:lin ang="8100000"/>
            </a:gra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se the </a:t>
              </a:r>
              <a:r>
                <a:rPr b="1" lang="en-US" sz="3600" spc="-1" strike="noStrike" u="sng">
                  <a:solidFill>
                    <a:srgbClr val="669900"/>
                  </a:solidFill>
                  <a:uFillTx/>
                  <a:latin typeface="Times New Roman"/>
                </a:rPr>
                <a:t>t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table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4756320" y="5072040"/>
              <a:ext cx="3193920" cy="1300320"/>
              <a:chOff x="4756320" y="5072040"/>
              <a:chExt cx="3193920" cy="1300320"/>
            </a:xfrm>
          </p:grpSpPr>
          <p:sp>
            <p:nvSpPr>
              <p:cNvPr id="615" name=""/>
              <p:cNvSpPr/>
              <p:nvPr/>
            </p:nvSpPr>
            <p:spPr>
              <a:xfrm>
                <a:off x="4756320" y="5186520"/>
                <a:ext cx="3193920" cy="1185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34955" dir="787288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5056200" y="5072040"/>
                <a:ext cx="2655720" cy="1241280"/>
                <a:chOff x="5056200" y="5072040"/>
                <a:chExt cx="2655720" cy="12412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6104160" y="5329440"/>
                  <a:ext cx="177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5000" spc="-1" strike="noStrike">
                      <a:solidFill>
                        <a:srgbClr val="ff3300"/>
                      </a:solidFill>
                      <a:latin typeface="Times New Roman"/>
                    </a:rPr>
                    <a:t>t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502240" y="5430960"/>
                  <a:ext cx="424440" cy="6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4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5056200" y="5548680"/>
                  <a:ext cx="3474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0" name=""/>
                <p:cNvGrpSpPr/>
                <p:nvPr/>
              </p:nvGrpSpPr>
              <p:grpSpPr>
                <a:xfrm>
                  <a:off x="6814800" y="5072040"/>
                  <a:ext cx="897120" cy="1234800"/>
                  <a:chOff x="6814800" y="5072040"/>
                  <a:chExt cx="897120" cy="123480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>
                    <a:off x="6928920" y="5746680"/>
                    <a:ext cx="7830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6814800" y="5844960"/>
                    <a:ext cx="659160" cy="365040"/>
                    <a:chOff x="6814800" y="5844960"/>
                    <a:chExt cx="659160" cy="3650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flipV="1">
                      <a:off x="6814800" y="6082560"/>
                      <a:ext cx="68400" cy="255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6883200" y="6090840"/>
                      <a:ext cx="95760" cy="1191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V="1">
                      <a:off x="6992640" y="5844960"/>
                      <a:ext cx="135360" cy="3650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128360" y="5844960"/>
                      <a:ext cx="3456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7153200" y="5803920"/>
                    <a:ext cx="23400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3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7124760" y="5072040"/>
                    <a:ext cx="4032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6213240" y="5705640"/>
                  <a:ext cx="643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0" name=""/>
          <p:cNvGrpSpPr/>
          <p:nvPr/>
        </p:nvGrpSpPr>
        <p:grpSpPr>
          <a:xfrm>
            <a:off x="5810400" y="2562120"/>
            <a:ext cx="1676160" cy="1581120"/>
            <a:chOff x="5810400" y="2562120"/>
            <a:chExt cx="1676160" cy="1581120"/>
          </a:xfrm>
        </p:grpSpPr>
        <p:sp>
          <p:nvSpPr>
            <p:cNvPr id="631" name=""/>
            <p:cNvSpPr/>
            <p:nvPr/>
          </p:nvSpPr>
          <p:spPr>
            <a:xfrm rot="10800000">
              <a:off x="5875920" y="2689560"/>
              <a:ext cx="1508040" cy="1401480"/>
            </a:xfrm>
            <a:custGeom>
              <a:avLst/>
              <a:gdLst/>
              <a:ahLst/>
              <a:rect l="l" t="t" r="r" b="b"/>
              <a:pathLst>
                <a:path w="2166" h="1500">
                  <a:moveTo>
                    <a:pt x="72" y="0"/>
                  </a:moveTo>
                  <a:lnTo>
                    <a:pt x="894" y="366"/>
                  </a:lnTo>
                  <a:lnTo>
                    <a:pt x="708" y="486"/>
                  </a:lnTo>
                  <a:lnTo>
                    <a:pt x="756" y="558"/>
                  </a:lnTo>
                  <a:lnTo>
                    <a:pt x="804" y="618"/>
                  </a:lnTo>
                  <a:lnTo>
                    <a:pt x="858" y="690"/>
                  </a:lnTo>
                  <a:lnTo>
                    <a:pt x="924" y="756"/>
                  </a:lnTo>
                  <a:lnTo>
                    <a:pt x="984" y="828"/>
                  </a:lnTo>
                  <a:lnTo>
                    <a:pt x="1056" y="894"/>
                  </a:lnTo>
                  <a:lnTo>
                    <a:pt x="1128" y="960"/>
                  </a:lnTo>
                  <a:lnTo>
                    <a:pt x="1206" y="1026"/>
                  </a:lnTo>
                  <a:lnTo>
                    <a:pt x="1290" y="1098"/>
                  </a:lnTo>
                  <a:lnTo>
                    <a:pt x="1368" y="1152"/>
                  </a:lnTo>
                  <a:lnTo>
                    <a:pt x="1446" y="1206"/>
                  </a:lnTo>
                  <a:lnTo>
                    <a:pt x="1530" y="1254"/>
                  </a:lnTo>
                  <a:lnTo>
                    <a:pt x="1614" y="1302"/>
                  </a:lnTo>
                  <a:lnTo>
                    <a:pt x="1698" y="1344"/>
                  </a:lnTo>
                  <a:lnTo>
                    <a:pt x="1794" y="1386"/>
                  </a:lnTo>
                  <a:lnTo>
                    <a:pt x="1866" y="1416"/>
                  </a:lnTo>
                  <a:lnTo>
                    <a:pt x="1962" y="1446"/>
                  </a:lnTo>
                  <a:lnTo>
                    <a:pt x="2034" y="1464"/>
                  </a:lnTo>
                  <a:lnTo>
                    <a:pt x="2094" y="1476"/>
                  </a:lnTo>
                  <a:lnTo>
                    <a:pt x="2166" y="1488"/>
                  </a:lnTo>
                  <a:lnTo>
                    <a:pt x="2106" y="1494"/>
                  </a:lnTo>
                  <a:lnTo>
                    <a:pt x="2040" y="1500"/>
                  </a:lnTo>
                  <a:lnTo>
                    <a:pt x="1962" y="1500"/>
                  </a:lnTo>
                  <a:lnTo>
                    <a:pt x="1878" y="1494"/>
                  </a:lnTo>
                  <a:lnTo>
                    <a:pt x="1782" y="1488"/>
                  </a:lnTo>
                  <a:lnTo>
                    <a:pt x="1692" y="1476"/>
                  </a:lnTo>
                  <a:lnTo>
                    <a:pt x="1602" y="1470"/>
                  </a:lnTo>
                  <a:lnTo>
                    <a:pt x="1518" y="1458"/>
                  </a:lnTo>
                  <a:lnTo>
                    <a:pt x="1428" y="1446"/>
                  </a:lnTo>
                  <a:lnTo>
                    <a:pt x="1344" y="1428"/>
                  </a:lnTo>
                  <a:lnTo>
                    <a:pt x="1242" y="1416"/>
                  </a:lnTo>
                  <a:lnTo>
                    <a:pt x="1182" y="1398"/>
                  </a:lnTo>
                  <a:lnTo>
                    <a:pt x="1086" y="1380"/>
                  </a:lnTo>
                  <a:lnTo>
                    <a:pt x="996" y="1356"/>
                  </a:lnTo>
                  <a:lnTo>
                    <a:pt x="912" y="1332"/>
                  </a:lnTo>
                  <a:lnTo>
                    <a:pt x="822" y="1302"/>
                  </a:lnTo>
                  <a:lnTo>
                    <a:pt x="750" y="1272"/>
                  </a:lnTo>
                  <a:lnTo>
                    <a:pt x="672" y="1242"/>
                  </a:lnTo>
                  <a:lnTo>
                    <a:pt x="600" y="1200"/>
                  </a:lnTo>
                  <a:lnTo>
                    <a:pt x="528" y="1158"/>
                  </a:lnTo>
                  <a:lnTo>
                    <a:pt x="444" y="1104"/>
                  </a:lnTo>
                  <a:lnTo>
                    <a:pt x="366" y="1032"/>
                  </a:lnTo>
                  <a:lnTo>
                    <a:pt x="300" y="966"/>
                  </a:lnTo>
                  <a:lnTo>
                    <a:pt x="234" y="882"/>
                  </a:lnTo>
                  <a:lnTo>
                    <a:pt x="180" y="804"/>
                  </a:lnTo>
                  <a:lnTo>
                    <a:pt x="0" y="91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0800000">
              <a:off x="5810400" y="2562120"/>
              <a:ext cx="1676160" cy="1581120"/>
            </a:xfrm>
            <a:custGeom>
              <a:avLst/>
              <a:gdLst/>
              <a:ahLst/>
              <a:rect l="l" t="t" r="r" b="b"/>
              <a:pathLst>
                <a:path w="2406" h="1692">
                  <a:moveTo>
                    <a:pt x="216" y="54"/>
                  </a:moveTo>
                  <a:lnTo>
                    <a:pt x="1038" y="420"/>
                  </a:lnTo>
                  <a:lnTo>
                    <a:pt x="852" y="540"/>
                  </a:lnTo>
                  <a:lnTo>
                    <a:pt x="900" y="612"/>
                  </a:lnTo>
                  <a:lnTo>
                    <a:pt x="948" y="672"/>
                  </a:lnTo>
                  <a:lnTo>
                    <a:pt x="1002" y="744"/>
                  </a:lnTo>
                  <a:lnTo>
                    <a:pt x="1068" y="810"/>
                  </a:lnTo>
                  <a:lnTo>
                    <a:pt x="1128" y="882"/>
                  </a:lnTo>
                  <a:lnTo>
                    <a:pt x="1200" y="948"/>
                  </a:lnTo>
                  <a:lnTo>
                    <a:pt x="1272" y="1014"/>
                  </a:lnTo>
                  <a:lnTo>
                    <a:pt x="1350" y="1080"/>
                  </a:lnTo>
                  <a:lnTo>
                    <a:pt x="1434" y="1152"/>
                  </a:lnTo>
                  <a:lnTo>
                    <a:pt x="1512" y="1206"/>
                  </a:lnTo>
                  <a:lnTo>
                    <a:pt x="1590" y="1260"/>
                  </a:lnTo>
                  <a:lnTo>
                    <a:pt x="1674" y="1308"/>
                  </a:lnTo>
                  <a:lnTo>
                    <a:pt x="1758" y="1356"/>
                  </a:lnTo>
                  <a:lnTo>
                    <a:pt x="1842" y="1398"/>
                  </a:lnTo>
                  <a:lnTo>
                    <a:pt x="1938" y="1440"/>
                  </a:lnTo>
                  <a:lnTo>
                    <a:pt x="2010" y="1470"/>
                  </a:lnTo>
                  <a:lnTo>
                    <a:pt x="2106" y="1500"/>
                  </a:lnTo>
                  <a:lnTo>
                    <a:pt x="2178" y="1518"/>
                  </a:lnTo>
                  <a:lnTo>
                    <a:pt x="2238" y="1530"/>
                  </a:lnTo>
                  <a:lnTo>
                    <a:pt x="2310" y="1542"/>
                  </a:lnTo>
                  <a:lnTo>
                    <a:pt x="2250" y="1548"/>
                  </a:lnTo>
                  <a:lnTo>
                    <a:pt x="2184" y="1554"/>
                  </a:lnTo>
                  <a:lnTo>
                    <a:pt x="2106" y="1554"/>
                  </a:lnTo>
                  <a:lnTo>
                    <a:pt x="2022" y="1548"/>
                  </a:lnTo>
                  <a:lnTo>
                    <a:pt x="1926" y="1542"/>
                  </a:lnTo>
                  <a:lnTo>
                    <a:pt x="1836" y="1530"/>
                  </a:lnTo>
                  <a:lnTo>
                    <a:pt x="1746" y="1524"/>
                  </a:lnTo>
                  <a:lnTo>
                    <a:pt x="1662" y="1512"/>
                  </a:lnTo>
                  <a:lnTo>
                    <a:pt x="1572" y="1500"/>
                  </a:lnTo>
                  <a:lnTo>
                    <a:pt x="1488" y="1482"/>
                  </a:lnTo>
                  <a:lnTo>
                    <a:pt x="1386" y="1470"/>
                  </a:lnTo>
                  <a:lnTo>
                    <a:pt x="1326" y="1452"/>
                  </a:lnTo>
                  <a:lnTo>
                    <a:pt x="1230" y="1434"/>
                  </a:lnTo>
                  <a:lnTo>
                    <a:pt x="1140" y="1410"/>
                  </a:lnTo>
                  <a:lnTo>
                    <a:pt x="1056" y="1386"/>
                  </a:lnTo>
                  <a:lnTo>
                    <a:pt x="966" y="1356"/>
                  </a:lnTo>
                  <a:lnTo>
                    <a:pt x="894" y="1326"/>
                  </a:lnTo>
                  <a:lnTo>
                    <a:pt x="816" y="1296"/>
                  </a:lnTo>
                  <a:lnTo>
                    <a:pt x="744" y="1254"/>
                  </a:lnTo>
                  <a:lnTo>
                    <a:pt x="672" y="1212"/>
                  </a:lnTo>
                  <a:lnTo>
                    <a:pt x="588" y="1158"/>
                  </a:lnTo>
                  <a:lnTo>
                    <a:pt x="510" y="1086"/>
                  </a:lnTo>
                  <a:lnTo>
                    <a:pt x="444" y="1020"/>
                  </a:lnTo>
                  <a:lnTo>
                    <a:pt x="378" y="936"/>
                  </a:lnTo>
                  <a:lnTo>
                    <a:pt x="324" y="858"/>
                  </a:lnTo>
                  <a:lnTo>
                    <a:pt x="144" y="966"/>
                  </a:lnTo>
                  <a:lnTo>
                    <a:pt x="216" y="54"/>
                  </a:lnTo>
                  <a:lnTo>
                    <a:pt x="192" y="0"/>
                  </a:lnTo>
                  <a:lnTo>
                    <a:pt x="102" y="282"/>
                  </a:lnTo>
                  <a:lnTo>
                    <a:pt x="0" y="1260"/>
                  </a:lnTo>
                  <a:lnTo>
                    <a:pt x="186" y="1164"/>
                  </a:lnTo>
                  <a:lnTo>
                    <a:pt x="252" y="1224"/>
                  </a:lnTo>
                  <a:lnTo>
                    <a:pt x="318" y="1284"/>
                  </a:lnTo>
                  <a:lnTo>
                    <a:pt x="396" y="1350"/>
                  </a:lnTo>
                  <a:lnTo>
                    <a:pt x="492" y="1416"/>
                  </a:lnTo>
                  <a:lnTo>
                    <a:pt x="576" y="1464"/>
                  </a:lnTo>
                  <a:lnTo>
                    <a:pt x="672" y="1506"/>
                  </a:lnTo>
                  <a:lnTo>
                    <a:pt x="786" y="1548"/>
                  </a:lnTo>
                  <a:lnTo>
                    <a:pt x="888" y="1578"/>
                  </a:lnTo>
                  <a:lnTo>
                    <a:pt x="990" y="1602"/>
                  </a:lnTo>
                  <a:lnTo>
                    <a:pt x="1104" y="1620"/>
                  </a:lnTo>
                  <a:lnTo>
                    <a:pt x="1218" y="1644"/>
                  </a:lnTo>
                  <a:lnTo>
                    <a:pt x="1344" y="1656"/>
                  </a:lnTo>
                  <a:lnTo>
                    <a:pt x="1476" y="1668"/>
                  </a:lnTo>
                  <a:lnTo>
                    <a:pt x="1614" y="1680"/>
                  </a:lnTo>
                  <a:lnTo>
                    <a:pt x="1746" y="1692"/>
                  </a:lnTo>
                  <a:lnTo>
                    <a:pt x="1878" y="1692"/>
                  </a:lnTo>
                  <a:lnTo>
                    <a:pt x="2082" y="1692"/>
                  </a:lnTo>
                  <a:lnTo>
                    <a:pt x="2406" y="1524"/>
                  </a:lnTo>
                  <a:lnTo>
                    <a:pt x="2298" y="1506"/>
                  </a:lnTo>
                  <a:lnTo>
                    <a:pt x="2178" y="1482"/>
                  </a:lnTo>
                  <a:lnTo>
                    <a:pt x="2070" y="1452"/>
                  </a:lnTo>
                  <a:lnTo>
                    <a:pt x="1962" y="1416"/>
                  </a:lnTo>
                  <a:lnTo>
                    <a:pt x="1848" y="1362"/>
                  </a:lnTo>
                  <a:lnTo>
                    <a:pt x="1752" y="1314"/>
                  </a:lnTo>
                  <a:lnTo>
                    <a:pt x="1644" y="1248"/>
                  </a:lnTo>
                  <a:lnTo>
                    <a:pt x="1542" y="1188"/>
                  </a:lnTo>
                  <a:lnTo>
                    <a:pt x="1446" y="1116"/>
                  </a:lnTo>
                  <a:lnTo>
                    <a:pt x="1350" y="1038"/>
                  </a:lnTo>
                  <a:lnTo>
                    <a:pt x="1278" y="972"/>
                  </a:lnTo>
                  <a:lnTo>
                    <a:pt x="1128" y="828"/>
                  </a:lnTo>
                  <a:lnTo>
                    <a:pt x="1062" y="756"/>
                  </a:lnTo>
                  <a:lnTo>
                    <a:pt x="1002" y="684"/>
                  </a:lnTo>
                  <a:lnTo>
                    <a:pt x="954" y="612"/>
                  </a:lnTo>
                  <a:lnTo>
                    <a:pt x="1092" y="408"/>
                  </a:lnTo>
                  <a:lnTo>
                    <a:pt x="192" y="0"/>
                  </a:lnTo>
                  <a:lnTo>
                    <a:pt x="216" y="54"/>
                  </a:lnTo>
                  <a:lnTo>
                    <a:pt x="21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33520" y="1219320"/>
            <a:ext cx="3962160" cy="15562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the population standard deviation is 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known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n &gt;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6920" y="1219320"/>
            <a:ext cx="3848040" cy="1556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the population standard deviation is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unknow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&lt;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935840" y="4892760"/>
            <a:ext cx="1150920" cy="1191240"/>
          </a:xfrm>
          <a:prstGeom prst="rect">
            <a:avLst/>
          </a:prstGeom>
          <a:solidFill>
            <a:srgbClr val="ffeac5">
              <a:alpha val="90000"/>
            </a:srgbClr>
          </a:solidFill>
          <a:ln w="0">
            <a:noFill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re on this later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7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75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6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504800" y="5495760"/>
            <a:ext cx="61344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best 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a800a8"/>
                </a:solidFill>
                <a:latin typeface="Times New Roman"/>
              </a:rPr>
              <a:t>24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21559800">
            <a:off x="1206000" y="565200"/>
            <a:ext cx="6845400" cy="42148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300480" y="247680"/>
            <a:ext cx="2485440" cy="871560"/>
            <a:chOff x="3300480" y="247680"/>
            <a:chExt cx="2485440" cy="871560"/>
          </a:xfrm>
        </p:grpSpPr>
        <p:sp>
          <p:nvSpPr>
            <p:cNvPr id="639" name=""/>
            <p:cNvSpPr txBox="1"/>
            <p:nvPr/>
          </p:nvSpPr>
          <p:spPr>
            <a:xfrm>
              <a:off x="3300480" y="24768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3938400" y="45720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942840" y="1190520"/>
            <a:ext cx="7258320" cy="15562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an of the Business School wants to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mean number of hours wor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 week by students.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3605040" y="4743360"/>
            <a:ext cx="1819440" cy="871560"/>
            <a:chOff x="3605040" y="4743360"/>
            <a:chExt cx="1819440" cy="871560"/>
          </a:xfrm>
        </p:grpSpPr>
        <p:sp>
          <p:nvSpPr>
            <p:cNvPr id="643" name=""/>
            <p:cNvSpPr txBox="1"/>
            <p:nvPr/>
          </p:nvSpPr>
          <p:spPr>
            <a:xfrm>
              <a:off x="3605040" y="47433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4243320" y="4953240"/>
              <a:ext cx="11811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nswer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460440" y="2670120"/>
            <a:ext cx="805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7912ea"/>
                </a:solidFill>
                <a:latin typeface="Times New Roman"/>
              </a:rPr>
              <a:t>sample of 49 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showed a </a:t>
            </a:r>
            <a:r>
              <a:rPr b="1" lang="en-US" sz="3200" spc="-1" strike="noStrike">
                <a:solidFill>
                  <a:srgbClr val="a000a0"/>
                </a:solidFill>
                <a:latin typeface="Times New Roman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3200" spc="-1" strike="noStrike">
                <a:solidFill>
                  <a:srgbClr val="a000a0"/>
                </a:solidFill>
                <a:latin typeface="Times New Roman"/>
              </a:rPr>
              <a:t>24 h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with 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4 h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population m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68760" y="58993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oint 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3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 rot="21559800">
            <a:off x="1149480" y="545760"/>
            <a:ext cx="6845040" cy="177624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81280" y="285840"/>
            <a:ext cx="6267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95 percent confid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int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e population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52520" y="304920"/>
            <a:ext cx="6048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</a:rPr>
              <a:t>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2298" dir="103755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71520" y="2209680"/>
            <a:ext cx="2104560" cy="671760"/>
            <a:chOff x="371520" y="2209680"/>
            <a:chExt cx="2104560" cy="671760"/>
          </a:xfrm>
        </p:grpSpPr>
        <p:sp>
          <p:nvSpPr>
            <p:cNvPr id="651" name=""/>
            <p:cNvSpPr txBox="1"/>
            <p:nvPr/>
          </p:nvSpPr>
          <p:spPr>
            <a:xfrm>
              <a:off x="371520" y="2209680"/>
              <a:ext cx="699480" cy="67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1109880" y="2370960"/>
              <a:ext cx="1366200" cy="38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1812960" y="3362400"/>
            <a:ext cx="3016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9170" dir="908089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5%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rot="5400000">
            <a:off x="4888080" y="3398760"/>
            <a:ext cx="504720" cy="527040"/>
          </a:xfrm>
          <a:prstGeom prst="triangle">
            <a:avLst>
              <a:gd name="adj" fmla="val 50685"/>
            </a:avLst>
          </a:prstGeom>
          <a:gradFill rotWithShape="0">
            <a:gsLst>
              <a:gs pos="0">
                <a:srgbClr val="cc3399"/>
              </a:gs>
              <a:gs pos="50000">
                <a:srgbClr val="ffffcc"/>
              </a:gs>
              <a:gs pos="100000">
                <a:srgbClr val="cc3399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07000" y="3295800"/>
            <a:ext cx="2235240" cy="520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+/- 1.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85640" y="4237200"/>
            <a:ext cx="1746360" cy="94716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itute val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164320" y="4363920"/>
            <a:ext cx="8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000a0"/>
                </a:solidFill>
                <a:latin typeface="Times New Roman"/>
              </a:rPr>
              <a:t>24</a:t>
            </a:r>
            <a:r>
              <a:rPr b="1" lang="en-US" sz="4000" spc="-1" strike="noStrike">
                <a:solidFill>
                  <a:srgbClr val="a000a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97600" y="4368960"/>
            <a:ext cx="2708280" cy="703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5400000"/>
          </a:gra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a000a0"/>
                </a:solidFill>
                <a:latin typeface="Times New Roman"/>
              </a:rPr>
              <a:t>2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/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1200" y="5459400"/>
            <a:ext cx="81216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eac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7f5a1"/>
            </a:solidFill>
            <a:miter/>
          </a:ln>
          <a:effectLst>
            <a:outerShdw dist="148236" dir="7259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dence Limi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rom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2.88 to 25.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505240" y="236520"/>
            <a:ext cx="5410080" cy="1716480"/>
            <a:chOff x="2505240" y="236520"/>
            <a:chExt cx="5410080" cy="1716480"/>
          </a:xfrm>
        </p:grpSpPr>
        <p:sp>
          <p:nvSpPr>
            <p:cNvPr id="661" name=""/>
            <p:cNvSpPr/>
            <p:nvPr/>
          </p:nvSpPr>
          <p:spPr>
            <a:xfrm>
              <a:off x="2505240" y="1371600"/>
              <a:ext cx="5410080" cy="58140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mmonly denoted as 1-</a:t>
              </a:r>
              <a:r>
                <a:rPr b="1" lang="en-US" sz="3200" spc="-1" strike="noStrike">
                  <a:solidFill>
                    <a:srgbClr val="000000"/>
                  </a:solidFill>
                  <a:latin typeface="MT Symbol"/>
                  <a:ea typeface="MT Symbol"/>
                </a:rPr>
                <a:t>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2480" y="236520"/>
              <a:ext cx="39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99ff"/>
                  </a:solidFill>
                  <a:latin typeface="Times New Roman"/>
                </a:rPr>
                <a:t>95 percent confid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949480" y="4334040"/>
            <a:ext cx="16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+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772160" y="4037040"/>
            <a:ext cx="1057320" cy="703440"/>
            <a:chOff x="4772160" y="4037040"/>
            <a:chExt cx="1057320" cy="703440"/>
          </a:xfrm>
        </p:grpSpPr>
        <p:sp>
          <p:nvSpPr>
            <p:cNvPr id="665" name=""/>
            <p:cNvSpPr/>
            <p:nvPr/>
          </p:nvSpPr>
          <p:spPr>
            <a:xfrm>
              <a:off x="5002200" y="4037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9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772160" y="4714920"/>
              <a:ext cx="105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5278320" y="2432160"/>
            <a:ext cx="372276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7587" dir="877859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000a0"/>
                </a:solidFill>
                <a:latin typeface="Times New Roman"/>
              </a:rPr>
              <a:t>Mean = 24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D = 4  </a:t>
            </a: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N = 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533840" y="4772160"/>
            <a:ext cx="1238040" cy="642600"/>
            <a:chOff x="4533840" y="4772160"/>
            <a:chExt cx="1238040" cy="642600"/>
          </a:xfrm>
        </p:grpSpPr>
        <p:sp>
          <p:nvSpPr>
            <p:cNvPr id="669" name=""/>
            <p:cNvSpPr/>
            <p:nvPr/>
          </p:nvSpPr>
          <p:spPr>
            <a:xfrm>
              <a:off x="4927320" y="4772160"/>
              <a:ext cx="84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ff"/>
                  </a:solidFill>
                  <a:latin typeface="Times New Roman"/>
                </a:rPr>
                <a:t>4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33840" y="4800600"/>
              <a:ext cx="1085040" cy="472320"/>
              <a:chOff x="4533840" y="4800600"/>
              <a:chExt cx="1085040" cy="472320"/>
            </a:xfrm>
          </p:grpSpPr>
          <p:sp>
            <p:nvSpPr>
              <p:cNvPr id="671" name=""/>
              <p:cNvSpPr/>
              <p:nvPr/>
            </p:nvSpPr>
            <p:spPr>
              <a:xfrm flipV="1">
                <a:off x="4533840" y="5108760"/>
                <a:ext cx="113400" cy="324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47240" y="5120280"/>
                <a:ext cx="155160" cy="152640"/>
              </a:xfrm>
              <a:prstGeom prst="line">
                <a:avLst/>
              </a:prstGeom>
              <a:ln w="61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4825800" y="4800600"/>
                <a:ext cx="225000" cy="47232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50800" y="4800600"/>
                <a:ext cx="568080" cy="2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2666880" y="1947960"/>
            <a:ext cx="2400480" cy="1317240"/>
            <a:chOff x="2666880" y="1947960"/>
            <a:chExt cx="2400480" cy="1317240"/>
          </a:xfrm>
        </p:grpSpPr>
        <p:grpSp>
          <p:nvGrpSpPr>
            <p:cNvPr id="676" name=""/>
            <p:cNvGrpSpPr/>
            <p:nvPr/>
          </p:nvGrpSpPr>
          <p:grpSpPr>
            <a:xfrm>
              <a:off x="2666880" y="1947960"/>
              <a:ext cx="2400480" cy="1317240"/>
              <a:chOff x="2666880" y="1947960"/>
              <a:chExt cx="2400480" cy="131724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4213080" y="2697120"/>
                <a:ext cx="495000" cy="263520"/>
                <a:chOff x="4213080" y="2697120"/>
                <a:chExt cx="495000" cy="263520"/>
              </a:xfrm>
            </p:grpSpPr>
            <p:sp>
              <p:nvSpPr>
                <p:cNvPr id="678" name=""/>
                <p:cNvSpPr/>
                <p:nvPr/>
              </p:nvSpPr>
              <p:spPr>
                <a:xfrm flipV="1">
                  <a:off x="4213080" y="2868480"/>
                  <a:ext cx="51480" cy="1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264560" y="2874600"/>
                  <a:ext cx="72000" cy="86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4346640" y="2697120"/>
                  <a:ext cx="101880" cy="26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448520" y="2697120"/>
                  <a:ext cx="259560" cy="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2666880" y="1947960"/>
                <a:ext cx="2400480" cy="1317240"/>
                <a:chOff x="2666880" y="1947960"/>
                <a:chExt cx="2400480" cy="13172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2666880" y="2259000"/>
                  <a:ext cx="2400480" cy="8571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34955" dir="787288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548160" y="2152800"/>
                  <a:ext cx="2476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5000" spc="-1" strike="noStrike">
                      <a:solidFill>
                        <a:srgbClr val="ff3300"/>
                      </a:solidFill>
                      <a:latin typeface="Times New Roman"/>
                    </a:rPr>
                    <a:t>z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68000" y="2435400"/>
                  <a:ext cx="3236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2911320" y="2500560"/>
                  <a:ext cx="260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 u="sng">
                      <a:solidFill>
                        <a:srgbClr val="d60093"/>
                      </a:solidFill>
                      <a:uFillTx/>
                      <a:latin typeface="Times New Roman"/>
                    </a:rPr>
                    <a:t>x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99120" y="2625840"/>
                  <a:ext cx="588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38440" y="2666880"/>
                  <a:ext cx="23400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300" spc="-1" strike="noStrike">
                      <a:solidFill>
                        <a:srgbClr val="9966ff"/>
                      </a:solidFill>
                      <a:latin typeface="Times New Roman"/>
                    </a:rPr>
                    <a:t>n</a:t>
                  </a:r>
                  <a:endParaRPr b="0" lang="en-US" sz="3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398120" y="1947960"/>
                  <a:ext cx="4032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500" spc="-1" strike="noStrike">
                      <a:solidFill>
                        <a:srgbClr val="009900"/>
                      </a:solidFill>
                      <a:latin typeface="Times New Roman"/>
                    </a:rPr>
                    <a:t>s</a:t>
                  </a:r>
                  <a:endParaRPr b="0" lang="en-US" sz="4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682440" y="2500200"/>
                  <a:ext cx="643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ut thruBlk="true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6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a789c"/>
                                      </p:to>
                                    </p:animClr>
                                    <p:set>
                                      <p:cBhvr>
                                        <p:cTn id="67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2124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fin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point estimator, a point estimate, and desirable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perties of a point estima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biasedness, efficiency, and consistency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3448080"/>
            <a:ext cx="75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fi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 estima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terval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28880" y="4295880"/>
            <a:ext cx="74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fi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leve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gi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interval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35320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c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fidence interval for the population me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the population standard deviation is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040" y="139068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05640" y="624852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04920" y="2076480"/>
            <a:ext cx="571320" cy="658800"/>
            <a:chOff x="304920" y="2076480"/>
            <a:chExt cx="571320" cy="65880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304920" y="207648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65" name=""/>
            <p:cNvSpPr txBox="1"/>
            <p:nvPr/>
          </p:nvSpPr>
          <p:spPr>
            <a:xfrm>
              <a:off x="542880" y="2230560"/>
              <a:ext cx="2192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4920" y="3324240"/>
            <a:ext cx="571320" cy="658800"/>
            <a:chOff x="304920" y="3324240"/>
            <a:chExt cx="571320" cy="65880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04920" y="332424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68" name=""/>
            <p:cNvSpPr txBox="1"/>
            <p:nvPr/>
          </p:nvSpPr>
          <p:spPr>
            <a:xfrm>
              <a:off x="542880" y="347832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04920" y="4276800"/>
            <a:ext cx="571320" cy="658800"/>
            <a:chOff x="304920" y="4276800"/>
            <a:chExt cx="571320" cy="658800"/>
          </a:xfrm>
        </p:grpSpPr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04920" y="427680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71" name=""/>
            <p:cNvSpPr txBox="1"/>
            <p:nvPr/>
          </p:nvSpPr>
          <p:spPr>
            <a:xfrm>
              <a:off x="542880" y="4430880"/>
              <a:ext cx="219240" cy="37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04920" y="5305320"/>
            <a:ext cx="571320" cy="658800"/>
            <a:chOff x="304920" y="5305320"/>
            <a:chExt cx="571320" cy="658800"/>
          </a:xfrm>
        </p:grpSpPr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304920" y="530532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74" name=""/>
            <p:cNvSpPr txBox="1"/>
            <p:nvPr/>
          </p:nvSpPr>
          <p:spPr>
            <a:xfrm>
              <a:off x="542880" y="545904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75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571760" y="1571760"/>
            <a:ext cx="5924520" cy="642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0% confidenc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124000" y="2562120"/>
            <a:ext cx="39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24000" y="2257560"/>
            <a:ext cx="485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44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0.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0.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52640" y="4981680"/>
            <a:ext cx="39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52640" y="4676760"/>
            <a:ext cx="485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44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0.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T Symbol"/>
                <a:ea typeface="MT Symbol"/>
              </a:rPr>
              <a:t>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0.0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71760" y="3990960"/>
            <a:ext cx="5924520" cy="6426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4f9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9% confidenc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924200" y="152280"/>
            <a:ext cx="5467320" cy="838440"/>
            <a:chOff x="1924200" y="152280"/>
            <a:chExt cx="5467320" cy="838440"/>
          </a:xfrm>
        </p:grpSpPr>
        <p:pic>
          <p:nvPicPr>
            <p:cNvPr id="698" name="" descr=""/>
            <p:cNvPicPr/>
            <p:nvPr/>
          </p:nvPicPr>
          <p:blipFill>
            <a:blip r:embed="rId1"/>
            <a:stretch/>
          </p:blipFill>
          <p:spPr>
            <a:xfrm>
              <a:off x="1924200" y="152280"/>
              <a:ext cx="5467320" cy="8384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699" name=""/>
            <p:cNvSpPr/>
            <p:nvPr/>
          </p:nvSpPr>
          <p:spPr>
            <a:xfrm>
              <a:off x="2057400" y="152280"/>
              <a:ext cx="51814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nterval Estim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1440" y="930240"/>
            <a:ext cx="806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used for 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small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ample siz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51280" y="1957320"/>
            <a:ext cx="32414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2633760"/>
            <a:ext cx="91440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-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s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values betwe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4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bell-shap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symmetric about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more spread 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flatter at the cent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n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larger and larger values of degrees of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freed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-distribu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om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oser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closer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the standard norm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6" dur="75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875"/>
                            </p:stCondLst>
                            <p:childTnLst>
                              <p:par>
                                <p:cTn id="7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104840" y="1085760"/>
            <a:ext cx="6858000" cy="1252080"/>
          </a:xfrm>
          <a:prstGeom prst="rect">
            <a:avLst/>
          </a:prstGeom>
          <a:gradFill rotWithShape="0">
            <a:gsLst>
              <a:gs pos="0">
                <a:srgbClr val="eafc9c"/>
              </a:gs>
              <a:gs pos="50000">
                <a:srgbClr val="fefefe"/>
              </a:gs>
              <a:gs pos="100000">
                <a:srgbClr val="eafc9c"/>
              </a:gs>
            </a:gsLst>
            <a:lin ang="81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art 9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Comparison of The Standard Normal Distribution and the Student’s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057400" y="3705120"/>
            <a:ext cx="5038200" cy="2219040"/>
            <a:chOff x="2057400" y="3705120"/>
            <a:chExt cx="5038200" cy="2219040"/>
          </a:xfrm>
        </p:grpSpPr>
        <p:sp>
          <p:nvSpPr>
            <p:cNvPr id="706" name=""/>
            <p:cNvSpPr/>
            <p:nvPr/>
          </p:nvSpPr>
          <p:spPr>
            <a:xfrm>
              <a:off x="2057400" y="5924160"/>
              <a:ext cx="5038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96840" y="3705120"/>
              <a:ext cx="0" cy="2219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863800" y="3743280"/>
            <a:ext cx="3484440" cy="2133720"/>
            <a:chOff x="2863800" y="3743280"/>
            <a:chExt cx="3484440" cy="2133720"/>
          </a:xfrm>
        </p:grpSpPr>
        <p:sp>
          <p:nvSpPr>
            <p:cNvPr id="709" name=""/>
            <p:cNvSpPr/>
            <p:nvPr/>
          </p:nvSpPr>
          <p:spPr>
            <a:xfrm flipV="1">
              <a:off x="2863800" y="5862600"/>
              <a:ext cx="65160" cy="144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928960" y="5838840"/>
              <a:ext cx="65160" cy="23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2994120" y="5824440"/>
              <a:ext cx="48960" cy="144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43080" y="5800680"/>
              <a:ext cx="6372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3106800" y="5762520"/>
              <a:ext cx="48960" cy="378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55760" y="5722920"/>
              <a:ext cx="6372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219480" y="5684760"/>
              <a:ext cx="50760" cy="381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270240" y="5633640"/>
              <a:ext cx="63360" cy="50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3333600" y="5581440"/>
              <a:ext cx="65160" cy="522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398760" y="5514840"/>
              <a:ext cx="47520" cy="666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446280" y="5442120"/>
              <a:ext cx="6696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513240" y="5362200"/>
              <a:ext cx="47520" cy="795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60760" y="5272200"/>
              <a:ext cx="651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3625920" y="5170680"/>
              <a:ext cx="47520" cy="1015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3673440" y="5067000"/>
              <a:ext cx="65160" cy="1033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3738600" y="4962240"/>
              <a:ext cx="65160" cy="104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3803760" y="4849560"/>
              <a:ext cx="48960" cy="11268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52720" y="4721400"/>
              <a:ext cx="6696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3919680" y="4605480"/>
              <a:ext cx="47520" cy="1159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967200" y="4489560"/>
              <a:ext cx="6192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4029120" y="4373640"/>
              <a:ext cx="48960" cy="1159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078080" y="4259160"/>
              <a:ext cx="66960" cy="11448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4145040" y="4154040"/>
              <a:ext cx="65160" cy="104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210200" y="4052880"/>
              <a:ext cx="48960" cy="1015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59160" y="3962520"/>
              <a:ext cx="6192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21080" y="3884760"/>
              <a:ext cx="5076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71840" y="3832200"/>
              <a:ext cx="6372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35560" y="3781440"/>
              <a:ext cx="489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484520" y="3756240"/>
              <a:ext cx="63720" cy="252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4548240" y="3743280"/>
              <a:ext cx="65160" cy="129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13400" y="3743280"/>
              <a:ext cx="50760" cy="129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64160" y="3756240"/>
              <a:ext cx="6480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28960" y="3781440"/>
              <a:ext cx="4932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78280" y="3832200"/>
              <a:ext cx="6192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40200" y="3884760"/>
              <a:ext cx="4932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89520" y="3962520"/>
              <a:ext cx="6516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4680" y="4052880"/>
              <a:ext cx="48960" cy="1015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03640" y="4154400"/>
              <a:ext cx="63720" cy="104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67360" y="4259160"/>
              <a:ext cx="66600" cy="11448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33960" y="4373640"/>
              <a:ext cx="47520" cy="1159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81480" y="4489560"/>
              <a:ext cx="651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46640" y="4605480"/>
              <a:ext cx="46080" cy="1159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92720" y="4721400"/>
              <a:ext cx="666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359320" y="4849920"/>
              <a:ext cx="49320" cy="11268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08640" y="4962600"/>
              <a:ext cx="65160" cy="104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73800" y="5067360"/>
              <a:ext cx="66600" cy="1033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40400" y="5170680"/>
              <a:ext cx="46080" cy="10152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86480" y="5272200"/>
              <a:ext cx="651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651640" y="5362560"/>
              <a:ext cx="48960" cy="795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700600" y="5442120"/>
              <a:ext cx="6516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65760" y="5515200"/>
              <a:ext cx="46080" cy="666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811840" y="5581800"/>
              <a:ext cx="66600" cy="522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78440" y="5634000"/>
              <a:ext cx="63720" cy="50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42160" y="5684760"/>
              <a:ext cx="52200" cy="381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94360" y="5722920"/>
              <a:ext cx="6192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56280" y="5762880"/>
              <a:ext cx="47520" cy="378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3800" y="5800680"/>
              <a:ext cx="651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68960" y="5824440"/>
              <a:ext cx="50760" cy="144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19720" y="5838840"/>
              <a:ext cx="65160" cy="2376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84880" y="5862600"/>
              <a:ext cx="63360" cy="14400"/>
            </a:xfrm>
            <a:prstGeom prst="line">
              <a:avLst/>
            </a:prstGeom>
            <a:ln w="46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3762360" y="4990680"/>
            <a:ext cx="4514760" cy="1629360"/>
            <a:chOff x="3762360" y="4990680"/>
            <a:chExt cx="4514760" cy="1629360"/>
          </a:xfrm>
        </p:grpSpPr>
        <p:sp>
          <p:nvSpPr>
            <p:cNvPr id="770" name=""/>
            <p:cNvSpPr/>
            <p:nvPr/>
          </p:nvSpPr>
          <p:spPr>
            <a:xfrm flipH="1" flipV="1">
              <a:off x="3762360" y="4990680"/>
              <a:ext cx="1047600" cy="138132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05200" y="6038640"/>
              <a:ext cx="357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66ff"/>
                  </a:solidFill>
                  <a:latin typeface="Times New Roman"/>
                </a:rPr>
                <a:t>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809640" y="2467080"/>
            <a:ext cx="7534440" cy="10692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fefefe"/>
              </a:gs>
              <a:gs pos="100000">
                <a:srgbClr val="00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tion should be flatter and more spread out than th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43040" y="4048200"/>
            <a:ext cx="2867040" cy="914400"/>
            <a:chOff x="743040" y="4048200"/>
            <a:chExt cx="2867040" cy="914400"/>
          </a:xfrm>
        </p:grpSpPr>
        <p:sp>
          <p:nvSpPr>
            <p:cNvPr id="774" name=""/>
            <p:cNvSpPr/>
            <p:nvPr/>
          </p:nvSpPr>
          <p:spPr>
            <a:xfrm>
              <a:off x="2657520" y="4743720"/>
              <a:ext cx="952560" cy="21888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3040" y="4048200"/>
              <a:ext cx="271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40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8000"/>
                  </a:solidFill>
                  <a:latin typeface="Times New Roman"/>
                </a:rPr>
                <a:t>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514600" y="4395960"/>
            <a:ext cx="4180680" cy="1523880"/>
            <a:chOff x="2514600" y="4395960"/>
            <a:chExt cx="4180680" cy="1523880"/>
          </a:xfrm>
        </p:grpSpPr>
        <p:sp>
          <p:nvSpPr>
            <p:cNvPr id="778" name=""/>
            <p:cNvSpPr/>
            <p:nvPr/>
          </p:nvSpPr>
          <p:spPr>
            <a:xfrm>
              <a:off x="2941560" y="4395960"/>
              <a:ext cx="3318120" cy="1376280"/>
            </a:xfrm>
            <a:custGeom>
              <a:avLst/>
              <a:gdLst/>
              <a:ahLst/>
              <a:rect l="l" t="t" r="r" b="b"/>
              <a:pathLst>
                <a:path w="2664" h="1371">
                  <a:moveTo>
                    <a:pt x="0" y="1371"/>
                  </a:moveTo>
                  <a:cubicBezTo>
                    <a:pt x="453" y="688"/>
                    <a:pt x="906" y="6"/>
                    <a:pt x="1350" y="3"/>
                  </a:cubicBezTo>
                  <a:cubicBezTo>
                    <a:pt x="1794" y="0"/>
                    <a:pt x="2445" y="1128"/>
                    <a:pt x="2664" y="1353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14600" y="5743800"/>
              <a:ext cx="452520" cy="166680"/>
            </a:xfrm>
            <a:custGeom>
              <a:avLst/>
              <a:gdLst/>
              <a:ahLst/>
              <a:rect l="l" t="t" r="r" b="b"/>
              <a:pathLst>
                <a:path w="324" h="105">
                  <a:moveTo>
                    <a:pt x="0" y="90"/>
                  </a:moveTo>
                  <a:cubicBezTo>
                    <a:pt x="81" y="97"/>
                    <a:pt x="162" y="105"/>
                    <a:pt x="216" y="90"/>
                  </a:cubicBezTo>
                  <a:cubicBezTo>
                    <a:pt x="270" y="75"/>
                    <a:pt x="306" y="15"/>
                    <a:pt x="32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242400" y="5753160"/>
              <a:ext cx="452520" cy="166680"/>
            </a:xfrm>
            <a:custGeom>
              <a:avLst/>
              <a:gdLst/>
              <a:ahLst/>
              <a:rect l="l" t="t" r="r" b="b"/>
              <a:pathLst>
                <a:path w="324" h="105">
                  <a:moveTo>
                    <a:pt x="0" y="90"/>
                  </a:moveTo>
                  <a:cubicBezTo>
                    <a:pt x="81" y="97"/>
                    <a:pt x="162" y="105"/>
                    <a:pt x="216" y="90"/>
                  </a:cubicBezTo>
                  <a:cubicBezTo>
                    <a:pt x="270" y="75"/>
                    <a:pt x="306" y="15"/>
                    <a:pt x="32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50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8320" y="200988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df = 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0.1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a in the upper tai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747720" y="1380960"/>
            <a:ext cx="15336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Exampl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4" name=""/>
          <p:cNvSpPr/>
          <p:nvPr/>
        </p:nvSpPr>
        <p:spPr>
          <a:xfrm>
            <a:off x="3489120" y="2470320"/>
            <a:ext cx="20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= 1.3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57400" y="3548160"/>
            <a:ext cx="5038200" cy="1533600"/>
            <a:chOff x="2057400" y="3548160"/>
            <a:chExt cx="5038200" cy="1533600"/>
          </a:xfrm>
        </p:grpSpPr>
        <p:sp>
          <p:nvSpPr>
            <p:cNvPr id="786" name=""/>
            <p:cNvSpPr/>
            <p:nvPr/>
          </p:nvSpPr>
          <p:spPr>
            <a:xfrm>
              <a:off x="2057400" y="5081760"/>
              <a:ext cx="5038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596840" y="3548160"/>
              <a:ext cx="0" cy="1533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2514600" y="3552840"/>
            <a:ext cx="4180680" cy="1523880"/>
            <a:chOff x="2514600" y="3552840"/>
            <a:chExt cx="4180680" cy="1523880"/>
          </a:xfrm>
        </p:grpSpPr>
        <p:sp>
          <p:nvSpPr>
            <p:cNvPr id="789" name=""/>
            <p:cNvSpPr/>
            <p:nvPr/>
          </p:nvSpPr>
          <p:spPr>
            <a:xfrm>
              <a:off x="2941560" y="3552840"/>
              <a:ext cx="3318120" cy="1376280"/>
            </a:xfrm>
            <a:custGeom>
              <a:avLst/>
              <a:gdLst/>
              <a:ahLst/>
              <a:rect l="l" t="t" r="r" b="b"/>
              <a:pathLst>
                <a:path w="2664" h="1371">
                  <a:moveTo>
                    <a:pt x="0" y="1371"/>
                  </a:moveTo>
                  <a:cubicBezTo>
                    <a:pt x="453" y="688"/>
                    <a:pt x="906" y="6"/>
                    <a:pt x="1350" y="3"/>
                  </a:cubicBezTo>
                  <a:cubicBezTo>
                    <a:pt x="1794" y="0"/>
                    <a:pt x="2445" y="1128"/>
                    <a:pt x="2664" y="1353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514600" y="4900680"/>
              <a:ext cx="452520" cy="166680"/>
            </a:xfrm>
            <a:custGeom>
              <a:avLst/>
              <a:gdLst/>
              <a:ahLst/>
              <a:rect l="l" t="t" r="r" b="b"/>
              <a:pathLst>
                <a:path w="324" h="105">
                  <a:moveTo>
                    <a:pt x="0" y="90"/>
                  </a:moveTo>
                  <a:cubicBezTo>
                    <a:pt x="81" y="97"/>
                    <a:pt x="162" y="105"/>
                    <a:pt x="216" y="90"/>
                  </a:cubicBezTo>
                  <a:cubicBezTo>
                    <a:pt x="270" y="75"/>
                    <a:pt x="306" y="15"/>
                    <a:pt x="32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242400" y="4910040"/>
              <a:ext cx="452520" cy="166680"/>
            </a:xfrm>
            <a:custGeom>
              <a:avLst/>
              <a:gdLst/>
              <a:ahLst/>
              <a:rect l="l" t="t" r="r" b="b"/>
              <a:pathLst>
                <a:path w="324" h="105">
                  <a:moveTo>
                    <a:pt x="0" y="90"/>
                  </a:moveTo>
                  <a:cubicBezTo>
                    <a:pt x="81" y="97"/>
                    <a:pt x="162" y="105"/>
                    <a:pt x="216" y="90"/>
                  </a:cubicBezTo>
                  <a:cubicBezTo>
                    <a:pt x="270" y="75"/>
                    <a:pt x="306" y="15"/>
                    <a:pt x="324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657760" y="4557600"/>
            <a:ext cx="409680" cy="1130040"/>
            <a:chOff x="5657760" y="4557600"/>
            <a:chExt cx="409680" cy="1130040"/>
          </a:xfrm>
        </p:grpSpPr>
        <p:sp>
          <p:nvSpPr>
            <p:cNvPr id="793" name=""/>
            <p:cNvSpPr/>
            <p:nvPr/>
          </p:nvSpPr>
          <p:spPr>
            <a:xfrm>
              <a:off x="5857920" y="4557600"/>
              <a:ext cx="0" cy="533520"/>
            </a:xfrm>
            <a:prstGeom prst="line">
              <a:avLst/>
            </a:prstGeom>
            <a:ln w="7632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57760" y="4862520"/>
              <a:ext cx="409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086520" y="3747960"/>
            <a:ext cx="1171440" cy="1133640"/>
            <a:chOff x="6086520" y="3747960"/>
            <a:chExt cx="1171440" cy="1133640"/>
          </a:xfrm>
        </p:grpSpPr>
        <p:sp>
          <p:nvSpPr>
            <p:cNvPr id="796" name=""/>
            <p:cNvSpPr/>
            <p:nvPr/>
          </p:nvSpPr>
          <p:spPr>
            <a:xfrm flipH="1">
              <a:off x="6086520" y="4195800"/>
              <a:ext cx="380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134040" y="3747960"/>
              <a:ext cx="11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0.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886440" y="5954760"/>
            <a:ext cx="2066760" cy="581400"/>
            <a:chOff x="6886440" y="5954760"/>
            <a:chExt cx="2066760" cy="581400"/>
          </a:xfrm>
        </p:grpSpPr>
        <p:sp>
          <p:nvSpPr>
            <p:cNvPr id="799" name=""/>
            <p:cNvSpPr/>
            <p:nvPr/>
          </p:nvSpPr>
          <p:spPr>
            <a:xfrm>
              <a:off x="6886440" y="6259680"/>
              <a:ext cx="20667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63640" y="5954760"/>
              <a:ext cx="1430280" cy="581400"/>
            </a:xfrm>
            <a:prstGeom prst="rect">
              <a:avLst/>
            </a:prstGeom>
            <a:solidFill>
              <a:srgbClr val="eafc9c"/>
            </a:solidFill>
            <a:ln w="9360">
              <a:solidFill>
                <a:srgbClr val="ff3300"/>
              </a:solidFill>
              <a:miter/>
            </a:ln>
            <a:effectLst>
              <a:outerShdw dist="91658" dir="878234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T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681120" y="3162240"/>
          <a:ext cx="7584840" cy="33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3162240"/>
                    <a:ext cx="7584840" cy="3333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34955" dir="832711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923760" y="1143000"/>
            <a:ext cx="726768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nfidenc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33480" y="1552680"/>
            <a:ext cx="729612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80%        90%        95%         98%          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23760" y="1905120"/>
            <a:ext cx="727740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vel of Significance for One-Tail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05040" y="2314440"/>
            <a:ext cx="733392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100        0.050      0.025        0.010           0.00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05040" y="2724120"/>
            <a:ext cx="736272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evel of Significance for Two-Tail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47720" y="3114720"/>
            <a:ext cx="658188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.20         0.10       0.05           0.02            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2314440"/>
            <a:ext cx="838080" cy="381240"/>
          </a:xfrm>
          <a:prstGeom prst="rect">
            <a:avLst/>
          </a:prstGeom>
          <a:solidFill>
            <a:srgbClr val="eafc9c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789c"/>
                </a:solidFill>
                <a:latin typeface="Times New Roman"/>
              </a:rPr>
              <a:t>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581120" y="2705040"/>
            <a:ext cx="1257480" cy="3200400"/>
            <a:chOff x="1581120" y="2705040"/>
            <a:chExt cx="1257480" cy="3200400"/>
          </a:xfrm>
        </p:grpSpPr>
        <p:sp>
          <p:nvSpPr>
            <p:cNvPr id="812" name=""/>
            <p:cNvSpPr/>
            <p:nvPr/>
          </p:nvSpPr>
          <p:spPr>
            <a:xfrm>
              <a:off x="2076480" y="2705040"/>
              <a:ext cx="38160" cy="28958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81120" y="5600880"/>
              <a:ext cx="1257480" cy="304560"/>
            </a:xfrm>
            <a:prstGeom prst="rect">
              <a:avLst/>
            </a:prstGeom>
            <a:solidFill>
              <a:srgbClr val="eafc9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.38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685800" y="5562720"/>
            <a:ext cx="838080" cy="361800"/>
          </a:xfrm>
          <a:prstGeom prst="rect">
            <a:avLst/>
          </a:prstGeom>
          <a:solidFill>
            <a:srgbClr val="eafc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2343240" y="1104840"/>
            <a:ext cx="43434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>
                      <a:alpha val="20000"/>
                    </a:srgbClr>
                  </a:solidFill>
                  <a:miter/>
                </a:ln>
                <a:solidFill>
                  <a:srgbClr val="ffffff">
                    <a:alpha val="40000"/>
                  </a:srgbClr>
                </a:solidFill>
                <a:latin typeface="Arial Black"/>
              </a:rPr>
              <a:t>?</a:t>
            </a:r>
            <a:endParaRPr b="1" lang="en-US" sz="2400" spc="1" strike="noStrike">
              <a:ln w="9360">
                <a:solidFill>
                  <a:srgbClr val="000000">
                    <a:alpha val="20000"/>
                  </a:srgbClr>
                </a:solidFill>
                <a:miter/>
              </a:ln>
              <a:solidFill>
                <a:srgbClr val="ffffff">
                  <a:alpha val="40000"/>
                </a:srgbClr>
              </a:solidFill>
              <a:latin typeface="Arial Black"/>
              <a:ea typeface="Arial Black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5867280" y="3152880"/>
            <a:ext cx="1800360" cy="1769760"/>
            <a:chOff x="5867280" y="3152880"/>
            <a:chExt cx="1800360" cy="1769760"/>
          </a:xfrm>
        </p:grpSpPr>
        <p:sp>
          <p:nvSpPr>
            <p:cNvPr id="817" name=""/>
            <p:cNvSpPr/>
            <p:nvPr/>
          </p:nvSpPr>
          <p:spPr>
            <a:xfrm>
              <a:off x="5867280" y="4629240"/>
              <a:ext cx="1800360" cy="293400"/>
            </a:xfrm>
            <a:custGeom>
              <a:avLst/>
              <a:gdLst/>
              <a:ahLst/>
              <a:rect l="l" t="t" r="r" b="b"/>
              <a:pathLst>
                <a:path w="2862" h="88">
                  <a:moveTo>
                    <a:pt x="2161" y="30"/>
                  </a:moveTo>
                  <a:lnTo>
                    <a:pt x="2161" y="0"/>
                  </a:lnTo>
                  <a:lnTo>
                    <a:pt x="2862" y="45"/>
                  </a:lnTo>
                  <a:lnTo>
                    <a:pt x="2161" y="88"/>
                  </a:lnTo>
                  <a:lnTo>
                    <a:pt x="2161" y="58"/>
                  </a:lnTo>
                  <a:lnTo>
                    <a:pt x="701" y="58"/>
                  </a:lnTo>
                  <a:lnTo>
                    <a:pt x="701" y="88"/>
                  </a:lnTo>
                  <a:lnTo>
                    <a:pt x="0" y="45"/>
                  </a:lnTo>
                  <a:lnTo>
                    <a:pt x="701" y="0"/>
                  </a:lnTo>
                  <a:lnTo>
                    <a:pt x="701" y="30"/>
                  </a:lnTo>
                  <a:lnTo>
                    <a:pt x="2161" y="3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722280" y="3152880"/>
              <a:ext cx="42840" cy="1622880"/>
            </a:xfrm>
            <a:custGeom>
              <a:avLst/>
              <a:gdLst/>
              <a:ahLst/>
              <a:rect l="l" t="t" r="r" b="b"/>
              <a:pathLst>
                <a:path w="208" h="594">
                  <a:moveTo>
                    <a:pt x="104" y="594"/>
                  </a:moveTo>
                  <a:lnTo>
                    <a:pt x="208" y="594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594"/>
                  </a:lnTo>
                  <a:lnTo>
                    <a:pt x="104" y="594"/>
                  </a:lnTo>
                  <a:lnTo>
                    <a:pt x="104" y="59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540960" y="200160"/>
            <a:ext cx="1890720" cy="764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fc9c"/>
                </a:solidFill>
                <a:latin typeface="Times New Roman"/>
              </a:rPr>
              <a:t>Wh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04680" y="952560"/>
            <a:ext cx="73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use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or th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90800" y="2568600"/>
            <a:ext cx="72396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71960" y="3333600"/>
            <a:ext cx="3376800" cy="947160"/>
          </a:xfrm>
          <a:prstGeom prst="rect">
            <a:avLst/>
          </a:prstGeom>
          <a:solidFill>
            <a:srgbClr val="99ff99"/>
          </a:solidFill>
          <a:ln w="9360">
            <a:solidFill>
              <a:srgbClr val="6a789c"/>
            </a:solidFill>
            <a:miter/>
          </a:ln>
          <a:effectLst>
            <a:outerShdw dist="132685" dir="64028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know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2920" y="5067360"/>
            <a:ext cx="2143080" cy="1922760"/>
          </a:xfrm>
          <a:prstGeom prst="rect">
            <a:avLst/>
          </a:prstGeom>
          <a:solidFill>
            <a:srgbClr val="adfdf9"/>
          </a:solidFill>
          <a:ln w="9360">
            <a:solidFill>
              <a:srgbClr val="6a789c"/>
            </a:solidFill>
            <a:miter/>
          </a:ln>
          <a:effectLst>
            <a:outerShdw dist="141999" dir="699000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a nonparametric test                              (see Ch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8280" y="5143680"/>
            <a:ext cx="2019600" cy="1069200"/>
          </a:xfrm>
          <a:prstGeom prst="rect">
            <a:avLst/>
          </a:prstGeom>
          <a:solidFill>
            <a:srgbClr val="ffffff"/>
          </a:solidFill>
          <a:ln w="9360">
            <a:solidFill>
              <a:srgbClr val="6a789c"/>
            </a:solidFill>
            <a:miter/>
          </a:ln>
          <a:effectLst>
            <a:outerShdw dist="102388" dir="718319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72000" y="5114880"/>
            <a:ext cx="2048040" cy="1069200"/>
          </a:xfrm>
          <a:prstGeom prst="rect">
            <a:avLst/>
          </a:prstGeom>
          <a:solidFill>
            <a:srgbClr val="ffffff"/>
          </a:solidFill>
          <a:ln w="9360">
            <a:solidFill>
              <a:srgbClr val="6a789c"/>
            </a:solidFill>
            <a:miter/>
          </a:ln>
          <a:effectLst>
            <a:outerShdw dist="144956" dir="31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229440" y="2625840"/>
            <a:ext cx="1095120" cy="5205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871720" y="1943280"/>
            <a:ext cx="3257640" cy="1112760"/>
            <a:chOff x="2871720" y="1943280"/>
            <a:chExt cx="3257640" cy="1112760"/>
          </a:xfrm>
        </p:grpSpPr>
        <p:sp>
          <p:nvSpPr>
            <p:cNvPr id="828" name=""/>
            <p:cNvSpPr/>
            <p:nvPr/>
          </p:nvSpPr>
          <p:spPr>
            <a:xfrm>
              <a:off x="2871720" y="2716200"/>
              <a:ext cx="3257640" cy="339840"/>
            </a:xfrm>
            <a:custGeom>
              <a:avLst/>
              <a:gdLst/>
              <a:ahLst/>
              <a:rect l="l" t="t" r="r" b="b"/>
              <a:pathLst>
                <a:path w="2862" h="88">
                  <a:moveTo>
                    <a:pt x="2161" y="30"/>
                  </a:moveTo>
                  <a:lnTo>
                    <a:pt x="2161" y="0"/>
                  </a:lnTo>
                  <a:lnTo>
                    <a:pt x="2862" y="45"/>
                  </a:lnTo>
                  <a:lnTo>
                    <a:pt x="2161" y="88"/>
                  </a:lnTo>
                  <a:lnTo>
                    <a:pt x="2161" y="58"/>
                  </a:lnTo>
                  <a:lnTo>
                    <a:pt x="701" y="58"/>
                  </a:lnTo>
                  <a:lnTo>
                    <a:pt x="701" y="88"/>
                  </a:lnTo>
                  <a:lnTo>
                    <a:pt x="0" y="45"/>
                  </a:lnTo>
                  <a:lnTo>
                    <a:pt x="701" y="0"/>
                  </a:lnTo>
                  <a:lnTo>
                    <a:pt x="701" y="30"/>
                  </a:lnTo>
                  <a:lnTo>
                    <a:pt x="2161" y="3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96760" y="1943280"/>
              <a:ext cx="87480" cy="942840"/>
            </a:xfrm>
            <a:custGeom>
              <a:avLst/>
              <a:gdLst/>
              <a:ahLst/>
              <a:rect l="l" t="t" r="r" b="b"/>
              <a:pathLst>
                <a:path w="208" h="594">
                  <a:moveTo>
                    <a:pt x="104" y="594"/>
                  </a:moveTo>
                  <a:lnTo>
                    <a:pt x="208" y="594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594"/>
                  </a:lnTo>
                  <a:lnTo>
                    <a:pt x="104" y="594"/>
                  </a:lnTo>
                  <a:lnTo>
                    <a:pt x="104" y="59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2685960" y="1542960"/>
            <a:ext cx="3743280" cy="7430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64935" dir="675546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ulation Norm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2040" y="4435560"/>
            <a:ext cx="72396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100320" y="4435560"/>
            <a:ext cx="1095480" cy="5205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1314360" y="3143160"/>
            <a:ext cx="1800360" cy="1797840"/>
            <a:chOff x="1314360" y="3143160"/>
            <a:chExt cx="1800360" cy="1797840"/>
          </a:xfrm>
        </p:grpSpPr>
        <p:sp>
          <p:nvSpPr>
            <p:cNvPr id="834" name=""/>
            <p:cNvSpPr/>
            <p:nvPr/>
          </p:nvSpPr>
          <p:spPr>
            <a:xfrm>
              <a:off x="1314360" y="4642920"/>
              <a:ext cx="1800360" cy="298080"/>
            </a:xfrm>
            <a:custGeom>
              <a:avLst/>
              <a:gdLst/>
              <a:ahLst/>
              <a:rect l="l" t="t" r="r" b="b"/>
              <a:pathLst>
                <a:path w="2862" h="88">
                  <a:moveTo>
                    <a:pt x="2161" y="30"/>
                  </a:moveTo>
                  <a:lnTo>
                    <a:pt x="2161" y="0"/>
                  </a:lnTo>
                  <a:lnTo>
                    <a:pt x="2862" y="45"/>
                  </a:lnTo>
                  <a:lnTo>
                    <a:pt x="2161" y="88"/>
                  </a:lnTo>
                  <a:lnTo>
                    <a:pt x="2161" y="58"/>
                  </a:lnTo>
                  <a:lnTo>
                    <a:pt x="701" y="58"/>
                  </a:lnTo>
                  <a:lnTo>
                    <a:pt x="701" y="88"/>
                  </a:lnTo>
                  <a:lnTo>
                    <a:pt x="0" y="45"/>
                  </a:lnTo>
                  <a:lnTo>
                    <a:pt x="701" y="0"/>
                  </a:lnTo>
                  <a:lnTo>
                    <a:pt x="701" y="30"/>
                  </a:lnTo>
                  <a:lnTo>
                    <a:pt x="2161" y="3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2169360" y="3143160"/>
              <a:ext cx="42840" cy="1649160"/>
            </a:xfrm>
            <a:custGeom>
              <a:avLst/>
              <a:gdLst/>
              <a:ahLst/>
              <a:rect l="l" t="t" r="r" b="b"/>
              <a:pathLst>
                <a:path w="208" h="594">
                  <a:moveTo>
                    <a:pt x="104" y="594"/>
                  </a:moveTo>
                  <a:lnTo>
                    <a:pt x="208" y="594"/>
                  </a:lnTo>
                  <a:lnTo>
                    <a:pt x="208" y="0"/>
                  </a:lnTo>
                  <a:lnTo>
                    <a:pt x="0" y="0"/>
                  </a:lnTo>
                  <a:lnTo>
                    <a:pt x="0" y="594"/>
                  </a:lnTo>
                  <a:lnTo>
                    <a:pt x="104" y="594"/>
                  </a:lnTo>
                  <a:lnTo>
                    <a:pt x="104" y="59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790560" y="3429000"/>
            <a:ext cx="2800440" cy="642600"/>
          </a:xfrm>
          <a:prstGeom prst="rect">
            <a:avLst/>
          </a:prstGeom>
          <a:solidFill>
            <a:srgbClr val="eafc9c"/>
          </a:solidFill>
          <a:ln w="9360">
            <a:solidFill>
              <a:srgbClr val="000000"/>
            </a:solidFill>
            <a:miter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30 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4960" y="4444920"/>
            <a:ext cx="72396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53240" y="4444920"/>
            <a:ext cx="1095480" cy="5205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048440" y="5153040"/>
            <a:ext cx="2019240" cy="1069200"/>
          </a:xfrm>
          <a:prstGeom prst="rect">
            <a:avLst/>
          </a:prstGeom>
          <a:solidFill>
            <a:srgbClr val="ffffff"/>
          </a:solidFill>
          <a:ln w="9360">
            <a:solidFill>
              <a:srgbClr val="6a789c"/>
            </a:solidFill>
            <a:miter/>
          </a:ln>
          <a:effectLst>
            <a:outerShdw dist="102388" dir="718319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 rot="21559800">
            <a:off x="1195560" y="1134720"/>
            <a:ext cx="6845040" cy="29620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c9c9c9"/>
              </a:gs>
              <a:gs pos="50000">
                <a:srgbClr val="ffffff"/>
              </a:gs>
              <a:gs pos="100000">
                <a:srgbClr val="c9c9c9"/>
              </a:gs>
            </a:gsLst>
            <a:lin ang="81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609480" y="1076400"/>
            <a:ext cx="7620120" cy="2857320"/>
            <a:chOff x="609480" y="1076400"/>
            <a:chExt cx="7620120" cy="2857320"/>
          </a:xfrm>
        </p:grpSpPr>
        <p:sp>
          <p:nvSpPr>
            <p:cNvPr id="843" name=""/>
            <p:cNvSpPr txBox="1"/>
            <p:nvPr/>
          </p:nvSpPr>
          <p:spPr>
            <a:xfrm>
              <a:off x="609480" y="107640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71640" y="1219320"/>
              <a:ext cx="725796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Dean of the Business School wants to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estimat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mean number of hours worked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per week by students.                                                                   A </a:t>
              </a:r>
              <a:r>
                <a:rPr b="1" lang="en-US" sz="2800" spc="-1" strike="noStrike">
                  <a:solidFill>
                    <a:srgbClr val="7912ea"/>
                  </a:solidFill>
                  <a:latin typeface="Times New Roman"/>
                </a:rPr>
                <a:t>sample of only 12 student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howed a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ea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4 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with a  </a:t>
              </a: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standard devi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Times New Roman"/>
                </a:rPr>
                <a:t> of </a:t>
              </a: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4 hour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495360" y="3900600"/>
            <a:ext cx="8153280" cy="861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95 percent confi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interval</a:t>
            </a: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population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819000" y="3486240"/>
            <a:ext cx="7467480" cy="266760"/>
            <a:chOff x="819000" y="3486240"/>
            <a:chExt cx="7467480" cy="266760"/>
          </a:xfrm>
        </p:grpSpPr>
        <p:sp>
          <p:nvSpPr>
            <p:cNvPr id="847" name=""/>
            <p:cNvSpPr/>
            <p:nvPr/>
          </p:nvSpPr>
          <p:spPr>
            <a:xfrm>
              <a:off x="819000" y="3583800"/>
              <a:ext cx="746748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349160" y="3486240"/>
              <a:ext cx="480600" cy="2667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368440" y="5353200"/>
            <a:ext cx="490248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 use the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769920" y="481968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638520" y="2533680"/>
            <a:ext cx="1866960" cy="5144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2629080" y="190440"/>
            <a:ext cx="5391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sample of only 12 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4 h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1428840" y="257040"/>
            <a:ext cx="1449000" cy="871560"/>
            <a:chOff x="1428840" y="257040"/>
            <a:chExt cx="1449000" cy="871560"/>
          </a:xfrm>
        </p:grpSpPr>
        <p:sp>
          <p:nvSpPr>
            <p:cNvPr id="854" name=""/>
            <p:cNvSpPr txBox="1"/>
            <p:nvPr/>
          </p:nvSpPr>
          <p:spPr>
            <a:xfrm>
              <a:off x="1428840" y="25704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965600" y="40968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1428840" y="1276200"/>
            <a:ext cx="7467120" cy="266760"/>
            <a:chOff x="1428840" y="1276200"/>
            <a:chExt cx="7467120" cy="266760"/>
          </a:xfrm>
        </p:grpSpPr>
        <p:sp>
          <p:nvSpPr>
            <p:cNvPr id="857" name=""/>
            <p:cNvSpPr/>
            <p:nvPr/>
          </p:nvSpPr>
          <p:spPr>
            <a:xfrm>
              <a:off x="1428840" y="1373760"/>
              <a:ext cx="746712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959000" y="1276200"/>
              <a:ext cx="480600" cy="2667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85800" y="1581120"/>
            <a:ext cx="1819440" cy="871560"/>
            <a:chOff x="685800" y="1581120"/>
            <a:chExt cx="1819440" cy="871560"/>
          </a:xfrm>
        </p:grpSpPr>
        <p:sp>
          <p:nvSpPr>
            <p:cNvPr id="860" name=""/>
            <p:cNvSpPr txBox="1"/>
            <p:nvPr/>
          </p:nvSpPr>
          <p:spPr>
            <a:xfrm>
              <a:off x="685800" y="15811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1324080" y="1790640"/>
              <a:ext cx="1181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5400" y="2803680"/>
            <a:ext cx="8971920" cy="704160"/>
            <a:chOff x="95400" y="2803680"/>
            <a:chExt cx="8971920" cy="704160"/>
          </a:xfrm>
        </p:grpSpPr>
        <p:sp>
          <p:nvSpPr>
            <p:cNvPr id="863" name=""/>
            <p:cNvSpPr/>
            <p:nvPr/>
          </p:nvSpPr>
          <p:spPr>
            <a:xfrm>
              <a:off x="2436840" y="3048120"/>
              <a:ext cx="18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95040" y="2851200"/>
              <a:ext cx="39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85480" y="2803680"/>
              <a:ext cx="87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n = </a:t>
              </a:r>
              <a:r>
                <a:rPr b="1" lang="en-US" sz="2800" spc="-1" strike="noStrike">
                  <a:solidFill>
                    <a:srgbClr val="cc00ff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s = </a:t>
              </a: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df = </a:t>
              </a:r>
              <a:r>
                <a:rPr b="1" lang="en-US" sz="2800" spc="-1" strike="noStrike">
                  <a:solidFill>
                    <a:srgbClr val="cc00ff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 = 11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1 –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95%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0" y="3429000"/>
            <a:ext cx="61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up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% level of signific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two-tailed test with 11df, we fi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3295800"/>
            <a:ext cx="9143640" cy="152280"/>
            <a:chOff x="0" y="3295800"/>
            <a:chExt cx="9143640" cy="152280"/>
          </a:xfrm>
        </p:grpSpPr>
        <p:sp>
          <p:nvSpPr>
            <p:cNvPr id="868" name=""/>
            <p:cNvSpPr/>
            <p:nvPr/>
          </p:nvSpPr>
          <p:spPr>
            <a:xfrm>
              <a:off x="0" y="3351600"/>
              <a:ext cx="9143640" cy="4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22520" y="3295800"/>
              <a:ext cx="588240" cy="15228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2932560" y="1542960"/>
            <a:ext cx="3963240" cy="1238040"/>
            <a:chOff x="2932560" y="1542960"/>
            <a:chExt cx="3963240" cy="1238040"/>
          </a:xfrm>
        </p:grpSpPr>
        <p:sp>
          <p:nvSpPr>
            <p:cNvPr id="871" name=""/>
            <p:cNvSpPr/>
            <p:nvPr/>
          </p:nvSpPr>
          <p:spPr>
            <a:xfrm>
              <a:off x="2932560" y="1827360"/>
              <a:ext cx="150372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724280" y="1542960"/>
              <a:ext cx="2171520" cy="1238040"/>
              <a:chOff x="4724280" y="1542960"/>
              <a:chExt cx="2171520" cy="123804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4724280" y="1542960"/>
                <a:ext cx="2171520" cy="1238040"/>
                <a:chOff x="4724280" y="1542960"/>
                <a:chExt cx="2171520" cy="12380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724280" y="1638000"/>
                  <a:ext cx="2171520" cy="10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feac5"/>
                    </a:gs>
                    <a:gs pos="100000">
                      <a:srgbClr val="ff66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7932" dir="81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893840" y="1542960"/>
                  <a:ext cx="1955160" cy="1238040"/>
                  <a:chOff x="4893840" y="1542960"/>
                  <a:chExt cx="1955160" cy="123804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5556600" y="1742760"/>
                    <a:ext cx="17748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5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t</a:t>
                    </a:r>
                    <a:endParaRPr b="0" lang="en-US" sz="5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5129280" y="1955520"/>
                    <a:ext cx="32364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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flipV="1">
                    <a:off x="4893840" y="2016360"/>
                    <a:ext cx="271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x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238080" y="2201760"/>
                    <a:ext cx="61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387120" y="2246040"/>
                    <a:ext cx="23400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3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328440" y="1542960"/>
                    <a:ext cx="4032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5648760" y="2017440"/>
                    <a:ext cx="643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α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/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3" name=""/>
              <p:cNvGrpSpPr/>
              <p:nvPr/>
            </p:nvGrpSpPr>
            <p:grpSpPr>
              <a:xfrm>
                <a:off x="6111720" y="2298240"/>
                <a:ext cx="514440" cy="284040"/>
                <a:chOff x="6111720" y="2298240"/>
                <a:chExt cx="514440" cy="284040"/>
              </a:xfrm>
            </p:grpSpPr>
            <p:sp>
              <p:nvSpPr>
                <p:cNvPr id="884" name=""/>
                <p:cNvSpPr/>
                <p:nvPr/>
              </p:nvSpPr>
              <p:spPr>
                <a:xfrm flipV="1">
                  <a:off x="6111720" y="2483280"/>
                  <a:ext cx="53280" cy="1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165000" y="2489760"/>
                  <a:ext cx="74880" cy="92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6250680" y="2298240"/>
                  <a:ext cx="105840" cy="28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356520" y="2298600"/>
                  <a:ext cx="269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over dir="rd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9" name=""/>
          <p:cNvGraphicFramePr/>
          <p:nvPr/>
        </p:nvGraphicFramePr>
        <p:xfrm>
          <a:off x="681120" y="3162240"/>
          <a:ext cx="7584840" cy="33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3162240"/>
                    <a:ext cx="7584840" cy="3333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34955" dir="8327119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891" name=""/>
          <p:cNvSpPr/>
          <p:nvPr/>
        </p:nvSpPr>
        <p:spPr>
          <a:xfrm>
            <a:off x="923760" y="1143000"/>
            <a:ext cx="726768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nfidenc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33480" y="1552680"/>
            <a:ext cx="729612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80%        90%        95%         98%          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923760" y="1905120"/>
            <a:ext cx="727740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vel of Significance for One-Tail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05040" y="2314440"/>
            <a:ext cx="733392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100        0.050      0.025        0.010           0.00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05040" y="2724120"/>
            <a:ext cx="7362720" cy="349920"/>
          </a:xfrm>
          <a:prstGeom prst="rect">
            <a:avLst/>
          </a:prstGeom>
          <a:solidFill>
            <a:srgbClr val="eafc9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Level of Significance for Two-Taile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47720" y="3114720"/>
            <a:ext cx="6581880" cy="349920"/>
          </a:xfrm>
          <a:prstGeom prst="rect">
            <a:avLst/>
          </a:prstGeom>
          <a:solidFill>
            <a:srgbClr val="eaf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.20         0.10       0.05           0.02            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095720" y="3067200"/>
            <a:ext cx="838080" cy="380880"/>
          </a:xfrm>
          <a:prstGeom prst="rect">
            <a:avLst/>
          </a:prstGeom>
          <a:solidFill>
            <a:srgbClr val="eafc9c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789c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24360" y="6134040"/>
            <a:ext cx="1181160" cy="304920"/>
          </a:xfrm>
          <a:prstGeom prst="rect">
            <a:avLst/>
          </a:prstGeom>
          <a:solidFill>
            <a:srgbClr val="eafc9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.2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" y="6134040"/>
            <a:ext cx="838080" cy="362160"/>
          </a:xfrm>
          <a:prstGeom prst="rect">
            <a:avLst/>
          </a:prstGeom>
          <a:solidFill>
            <a:srgbClr val="eafc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1523880" y="3429000"/>
            <a:ext cx="2973600" cy="2895480"/>
            <a:chOff x="1523880" y="3429000"/>
            <a:chExt cx="2973600" cy="2895480"/>
          </a:xfrm>
        </p:grpSpPr>
        <p:sp>
          <p:nvSpPr>
            <p:cNvPr id="901" name=""/>
            <p:cNvSpPr/>
            <p:nvPr/>
          </p:nvSpPr>
          <p:spPr>
            <a:xfrm>
              <a:off x="4497480" y="3429000"/>
              <a:ext cx="0" cy="2590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23880" y="6324480"/>
              <a:ext cx="23814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2629080" y="190440"/>
            <a:ext cx="5391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sample of only 12 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4 h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tandard deviation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4 hou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428840" y="257040"/>
            <a:ext cx="1449000" cy="871560"/>
            <a:chOff x="1428840" y="257040"/>
            <a:chExt cx="1449000" cy="871560"/>
          </a:xfrm>
        </p:grpSpPr>
        <p:sp>
          <p:nvSpPr>
            <p:cNvPr id="905" name=""/>
            <p:cNvSpPr txBox="1"/>
            <p:nvPr/>
          </p:nvSpPr>
          <p:spPr>
            <a:xfrm>
              <a:off x="1428840" y="25704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965600" y="40968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1428840" y="1276200"/>
            <a:ext cx="7467120" cy="266760"/>
            <a:chOff x="1428840" y="1276200"/>
            <a:chExt cx="7467120" cy="266760"/>
          </a:xfrm>
        </p:grpSpPr>
        <p:sp>
          <p:nvSpPr>
            <p:cNvPr id="908" name=""/>
            <p:cNvSpPr/>
            <p:nvPr/>
          </p:nvSpPr>
          <p:spPr>
            <a:xfrm>
              <a:off x="1428840" y="1373760"/>
              <a:ext cx="746712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59000" y="1276200"/>
              <a:ext cx="480600" cy="2667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685800" y="1581120"/>
            <a:ext cx="1819440" cy="871560"/>
            <a:chOff x="685800" y="1581120"/>
            <a:chExt cx="1819440" cy="871560"/>
          </a:xfrm>
        </p:grpSpPr>
        <p:sp>
          <p:nvSpPr>
            <p:cNvPr id="911" name=""/>
            <p:cNvSpPr txBox="1"/>
            <p:nvPr/>
          </p:nvSpPr>
          <p:spPr>
            <a:xfrm>
              <a:off x="685800" y="15811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1324080" y="1790640"/>
              <a:ext cx="1181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95400" y="2727360"/>
            <a:ext cx="8971920" cy="704160"/>
            <a:chOff x="95400" y="2727360"/>
            <a:chExt cx="8971920" cy="704160"/>
          </a:xfrm>
        </p:grpSpPr>
        <p:sp>
          <p:nvSpPr>
            <p:cNvPr id="914" name=""/>
            <p:cNvSpPr/>
            <p:nvPr/>
          </p:nvSpPr>
          <p:spPr>
            <a:xfrm>
              <a:off x="2436840" y="2971800"/>
              <a:ext cx="18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95040" y="2774880"/>
              <a:ext cx="39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5480" y="2727360"/>
              <a:ext cx="87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4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n = </a:t>
              </a:r>
              <a:r>
                <a:rPr b="1" lang="en-US" sz="2800" spc="-1" strike="noStrike">
                  <a:solidFill>
                    <a:srgbClr val="cc00ff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s = </a:t>
              </a: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df = </a:t>
              </a:r>
              <a:r>
                <a:rPr b="1" lang="en-US" sz="2800" spc="-1" strike="noStrike">
                  <a:solidFill>
                    <a:srgbClr val="cc00ff"/>
                  </a:solidFill>
                  <a:latin typeface="Times New Roman"/>
                </a:rPr>
                <a:t>1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1 = 11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1 –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95%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0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0" y="3352680"/>
            <a:ext cx="61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up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% level of signific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two-tailed test with 11df, we fin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53120" y="3363840"/>
            <a:ext cx="2627280" cy="81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66"/>
            </a:solidFill>
            <a:miter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cc33"/>
                </a:solidFill>
                <a:latin typeface="Times New Roman"/>
              </a:rPr>
              <a:t>t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02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2.2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77920" y="6029280"/>
            <a:ext cx="863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se with earlier limits of 22.88 to 25.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552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4 +/- 2.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026080" y="4100400"/>
            <a:ext cx="3155400" cy="1138320"/>
            <a:chOff x="2026080" y="4100400"/>
            <a:chExt cx="3155400" cy="1138320"/>
          </a:xfrm>
        </p:grpSpPr>
        <p:sp>
          <p:nvSpPr>
            <p:cNvPr id="922" name=""/>
            <p:cNvSpPr/>
            <p:nvPr/>
          </p:nvSpPr>
          <p:spPr>
            <a:xfrm>
              <a:off x="2026080" y="4505400"/>
              <a:ext cx="74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a800a8"/>
                  </a:solidFill>
                  <a:latin typeface="Times New Roman"/>
                </a:rPr>
                <a:t>24</a:t>
              </a:r>
              <a:r>
                <a:rPr b="1" lang="en-US" sz="3200" spc="-1" strike="noStrike">
                  <a:solidFill>
                    <a:srgbClr val="a800a8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021120" y="453384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20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222800" y="4718160"/>
              <a:ext cx="78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12ea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4010040" y="4731840"/>
              <a:ext cx="865080" cy="422640"/>
              <a:chOff x="4010040" y="4731840"/>
              <a:chExt cx="865080" cy="4226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010040" y="5003640"/>
                <a:ext cx="93600" cy="302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103640" y="5013000"/>
                <a:ext cx="133200" cy="14148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4251240" y="4731840"/>
                <a:ext cx="177840" cy="42228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429080" y="4732200"/>
                <a:ext cx="446040" cy="144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2640240" y="452736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981600" y="4653000"/>
              <a:ext cx="119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02080" y="410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701640" y="5210280"/>
            <a:ext cx="7740720" cy="581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eac5"/>
              </a:gs>
              <a:gs pos="100000">
                <a:srgbClr val="99ff99"/>
              </a:gs>
            </a:gsLst>
            <a:lin ang="13500000"/>
          </a:gradFill>
          <a:ln w="9360">
            <a:solidFill>
              <a:srgbClr val="f7f5a1"/>
            </a:solidFill>
            <a:miter/>
          </a:ln>
          <a:effectLst>
            <a:outerShdw dist="130844" dir="71377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dence limi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ange fr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21.46 to 26.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0" y="3219480"/>
            <a:ext cx="9143640" cy="152280"/>
            <a:chOff x="0" y="3219480"/>
            <a:chExt cx="9143640" cy="152280"/>
          </a:xfrm>
        </p:grpSpPr>
        <p:sp>
          <p:nvSpPr>
            <p:cNvPr id="935" name=""/>
            <p:cNvSpPr/>
            <p:nvPr/>
          </p:nvSpPr>
          <p:spPr>
            <a:xfrm>
              <a:off x="0" y="3275280"/>
              <a:ext cx="9143640" cy="4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22520" y="3219480"/>
              <a:ext cx="588240" cy="15228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2932560" y="1542960"/>
            <a:ext cx="3963240" cy="1238040"/>
            <a:chOff x="2932560" y="1542960"/>
            <a:chExt cx="3963240" cy="1238040"/>
          </a:xfrm>
        </p:grpSpPr>
        <p:sp>
          <p:nvSpPr>
            <p:cNvPr id="938" name=""/>
            <p:cNvSpPr/>
            <p:nvPr/>
          </p:nvSpPr>
          <p:spPr>
            <a:xfrm>
              <a:off x="2932560" y="1827360"/>
              <a:ext cx="1503720" cy="520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4724280" y="1542960"/>
              <a:ext cx="2171520" cy="1238040"/>
              <a:chOff x="4724280" y="1542960"/>
              <a:chExt cx="2171520" cy="123804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4724280" y="1542960"/>
                <a:ext cx="2171520" cy="1238040"/>
                <a:chOff x="4724280" y="1542960"/>
                <a:chExt cx="2171520" cy="123804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4724280" y="1638000"/>
                  <a:ext cx="2171520" cy="10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6600"/>
                    </a:gs>
                    <a:gs pos="50000">
                      <a:srgbClr val="ffeac5"/>
                    </a:gs>
                    <a:gs pos="100000">
                      <a:srgbClr val="ff66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7932" dir="81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2" name=""/>
                <p:cNvGrpSpPr/>
                <p:nvPr/>
              </p:nvGrpSpPr>
              <p:grpSpPr>
                <a:xfrm>
                  <a:off x="4893840" y="1542960"/>
                  <a:ext cx="1955160" cy="1238040"/>
                  <a:chOff x="4893840" y="1542960"/>
                  <a:chExt cx="1955160" cy="123804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>
                    <a:off x="5556600" y="1742760"/>
                    <a:ext cx="177480" cy="762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5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t</a:t>
                    </a:r>
                    <a:endParaRPr b="0" lang="en-US" sz="5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129280" y="1955520"/>
                    <a:ext cx="32364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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V="1">
                    <a:off x="4893840" y="2016360"/>
                    <a:ext cx="27108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4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rPr>
                      <a:t>x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6238080" y="2201760"/>
                    <a:ext cx="610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387120" y="2246040"/>
                    <a:ext cx="234000" cy="502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3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</a:t>
                    </a:r>
                    <a:endParaRPr b="0" lang="en-US" sz="3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6328440" y="1542960"/>
                    <a:ext cx="403200" cy="77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4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648760" y="2017440"/>
                    <a:ext cx="643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α</a:t>
                    </a: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/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0" name=""/>
              <p:cNvGrpSpPr/>
              <p:nvPr/>
            </p:nvGrpSpPr>
            <p:grpSpPr>
              <a:xfrm>
                <a:off x="6111720" y="2298240"/>
                <a:ext cx="514440" cy="284040"/>
                <a:chOff x="6111720" y="2298240"/>
                <a:chExt cx="514440" cy="284040"/>
              </a:xfrm>
            </p:grpSpPr>
            <p:sp>
              <p:nvSpPr>
                <p:cNvPr id="951" name=""/>
                <p:cNvSpPr/>
                <p:nvPr/>
              </p:nvSpPr>
              <p:spPr>
                <a:xfrm flipV="1">
                  <a:off x="6111720" y="2483280"/>
                  <a:ext cx="53280" cy="1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65000" y="2489760"/>
                  <a:ext cx="74880" cy="925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V="1">
                  <a:off x="6250680" y="2298240"/>
                  <a:ext cx="105840" cy="284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356520" y="2298600"/>
                  <a:ext cx="26964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over dir="rd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2738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c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populati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population is normally distributed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pulation standard deviation is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52560" y="42908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c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 pro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52560" y="5038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termin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ample 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ariable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90400" y="5934240"/>
            <a:ext cx="7772400" cy="266400"/>
            <a:chOff x="590400" y="5934240"/>
            <a:chExt cx="7772400" cy="266400"/>
          </a:xfrm>
        </p:grpSpPr>
        <p:sp>
          <p:nvSpPr>
            <p:cNvPr id="80" name=""/>
            <p:cNvSpPr/>
            <p:nvPr/>
          </p:nvSpPr>
          <p:spPr>
            <a:xfrm flipV="1">
              <a:off x="590400" y="599724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4400640" y="5934240"/>
              <a:ext cx="34272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85840" y="4276800"/>
            <a:ext cx="571320" cy="658800"/>
            <a:chOff x="285840" y="4276800"/>
            <a:chExt cx="571320" cy="65880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285840" y="427680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</p:pic>
        <p:sp>
          <p:nvSpPr>
            <p:cNvPr id="84" name=""/>
            <p:cNvSpPr txBox="1"/>
            <p:nvPr/>
          </p:nvSpPr>
          <p:spPr>
            <a:xfrm>
              <a:off x="523800" y="443052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7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04920" y="2733840"/>
            <a:ext cx="571320" cy="658800"/>
            <a:chOff x="304920" y="2733840"/>
            <a:chExt cx="571320" cy="658800"/>
          </a:xfrm>
        </p:grpSpPr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04920" y="273384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</p:pic>
        <p:sp>
          <p:nvSpPr>
            <p:cNvPr id="87" name=""/>
            <p:cNvSpPr txBox="1"/>
            <p:nvPr/>
          </p:nvSpPr>
          <p:spPr>
            <a:xfrm>
              <a:off x="542880" y="288756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8236" dir="8940742" blurRad="0" rotWithShape="0">
                      <a:srgbClr val="000000"/>
                    </a:outerShdw>
                  </a:effectLst>
                  <a:latin typeface="Arial Black"/>
                </a:rPr>
                <a:t>6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8236" dir="8940742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04920" y="1647720"/>
            <a:ext cx="571320" cy="658800"/>
            <a:chOff x="304920" y="1647720"/>
            <a:chExt cx="571320" cy="658800"/>
          </a:xfrm>
        </p:grpSpPr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04920" y="164772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</p:pic>
        <p:sp>
          <p:nvSpPr>
            <p:cNvPr id="90" name=""/>
            <p:cNvSpPr txBox="1"/>
            <p:nvPr/>
          </p:nvSpPr>
          <p:spPr>
            <a:xfrm>
              <a:off x="542880" y="180144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47680" y="5191200"/>
            <a:ext cx="571320" cy="658800"/>
            <a:chOff x="247680" y="5191200"/>
            <a:chExt cx="571320" cy="658800"/>
          </a:xfrm>
        </p:grpSpPr>
        <p:pic>
          <p:nvPicPr>
            <p:cNvPr id="92" name="" descr=""/>
            <p:cNvPicPr/>
            <p:nvPr/>
          </p:nvPicPr>
          <p:blipFill>
            <a:blip r:embed="rId7"/>
            <a:stretch/>
          </p:blipFill>
          <p:spPr>
            <a:xfrm>
              <a:off x="247680" y="5191200"/>
              <a:ext cx="571320" cy="658800"/>
            </a:xfrm>
            <a:prstGeom prst="rect">
              <a:avLst/>
            </a:prstGeom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</p:pic>
        <p:sp>
          <p:nvSpPr>
            <p:cNvPr id="93" name=""/>
            <p:cNvSpPr txBox="1"/>
            <p:nvPr/>
          </p:nvSpPr>
          <p:spPr>
            <a:xfrm>
              <a:off x="485640" y="5344920"/>
              <a:ext cx="219240" cy="37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41999" dir="9209994" blurRad="0" rotWithShape="0">
                      <a:srgbClr val="000000"/>
                    </a:outerShdw>
                  </a:effectLst>
                  <a:latin typeface="Arial Black"/>
                </a:rPr>
                <a:t>8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41999" dir="920999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52560" y="1566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c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 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en the population is normally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7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40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 rot="121200">
            <a:off x="694800" y="1068120"/>
            <a:ext cx="7547040" cy="55324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solidFill>
            <a:srgbClr val="ffccc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722160" y="1528920"/>
            <a:ext cx="605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</a:rPr>
              <a:t>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2298" dir="103755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1168560" y="1757520"/>
            <a:ext cx="69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ager of the college cafeteria want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imate the mean am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nt per customer per purchase.  A </a:t>
            </a:r>
            <a:r>
              <a:rPr b="1" i="1" lang="en-US" sz="2800" spc="-1" strike="noStrike">
                <a:solidFill>
                  <a:srgbClr val="6666ff"/>
                </a:solidFill>
                <a:latin typeface="Times New Roman"/>
              </a:rPr>
              <a:t>sample of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stomers revealed the following amounts sp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38120" y="3619440"/>
            <a:ext cx="6502680" cy="1169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4.45    $4.05    $4.95    $3.25    $4.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5.75    $6.01    $3.99    $5.25    $2.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76440" y="4867200"/>
            <a:ext cx="595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eter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99% confidence interv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ean amou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p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838080" y="5886360"/>
            <a:ext cx="7467480" cy="266760"/>
            <a:chOff x="838080" y="5886360"/>
            <a:chExt cx="7467480" cy="266760"/>
          </a:xfrm>
        </p:grpSpPr>
        <p:sp>
          <p:nvSpPr>
            <p:cNvPr id="962" name=""/>
            <p:cNvSpPr/>
            <p:nvPr/>
          </p:nvSpPr>
          <p:spPr>
            <a:xfrm>
              <a:off x="838080" y="5983920"/>
              <a:ext cx="746748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68240" y="5886360"/>
              <a:ext cx="480600" cy="2667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5016600" y="5229360"/>
            <a:ext cx="277488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>
                  <a:alpha val="79215"/>
                </a:srgbClr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$4.53 +/- $1.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438120" y="1009800"/>
            <a:ext cx="1819440" cy="871560"/>
            <a:chOff x="438120" y="1009800"/>
            <a:chExt cx="1819440" cy="871560"/>
          </a:xfrm>
        </p:grpSpPr>
        <p:sp>
          <p:nvSpPr>
            <p:cNvPr id="966" name=""/>
            <p:cNvSpPr txBox="1"/>
            <p:nvPr/>
          </p:nvSpPr>
          <p:spPr>
            <a:xfrm>
              <a:off x="438120" y="100980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1076400" y="1219320"/>
              <a:ext cx="1181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390760" y="1098720"/>
            <a:ext cx="6502320" cy="733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4.45    $4.05    $4.95    $3.25    $4.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5.75    $6.01    $3.99    $5.25    $2.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3880" y="2071800"/>
            <a:ext cx="7282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ample me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standard dev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07440" y="205272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9184" dir="867169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623960" y="379728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933720" y="3786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1 =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670800" y="3792600"/>
            <a:ext cx="21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99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552680" y="3257640"/>
            <a:ext cx="7238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nter the key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ppropriate formul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26520" y="3228840"/>
            <a:ext cx="1107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24280" y="449568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3 </a:t>
            </a:r>
            <a:r>
              <a:rPr b="1" lang="en-US" sz="3200" spc="-1" strike="noStrike">
                <a:solidFill>
                  <a:srgbClr val="a800a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141960" y="4543560"/>
            <a:ext cx="89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2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149480" y="5727600"/>
            <a:ext cx="6813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the mean amount spent                    per customer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$3.50 and $5.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35200" y="200160"/>
            <a:ext cx="5614920" cy="734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udent’s</a:t>
            </a:r>
            <a:r>
              <a:rPr b="1" lang="en-US" sz="4000" spc="-1" strike="noStrike">
                <a:solidFill>
                  <a:srgbClr val="669900"/>
                </a:solidFill>
                <a:latin typeface="Times New Roman"/>
              </a:rPr>
              <a:t> t-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514600" y="2625840"/>
            <a:ext cx="4048200" cy="579240"/>
            <a:chOff x="2514600" y="2625840"/>
            <a:chExt cx="4048200" cy="579240"/>
          </a:xfrm>
        </p:grpSpPr>
        <p:sp>
          <p:nvSpPr>
            <p:cNvPr id="981" name=""/>
            <p:cNvSpPr/>
            <p:nvPr/>
          </p:nvSpPr>
          <p:spPr>
            <a:xfrm>
              <a:off x="2597040" y="2625840"/>
              <a:ext cx="39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= $4.53        s = $1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2514600" y="2684520"/>
              <a:ext cx="85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5916960" y="3790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43600" y="3784680"/>
            <a:ext cx="7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10920" y="3784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866560" y="449280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107120" y="4238640"/>
            <a:ext cx="912960" cy="520560"/>
            <a:chOff x="7107120" y="4238640"/>
            <a:chExt cx="912960" cy="520560"/>
          </a:xfrm>
        </p:grpSpPr>
        <p:sp>
          <p:nvSpPr>
            <p:cNvPr id="988" name=""/>
            <p:cNvSpPr/>
            <p:nvPr/>
          </p:nvSpPr>
          <p:spPr>
            <a:xfrm>
              <a:off x="7107120" y="4729320"/>
              <a:ext cx="9082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22960" y="4238640"/>
              <a:ext cx="89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6958080" y="4741920"/>
            <a:ext cx="898200" cy="520560"/>
            <a:chOff x="6958080" y="4741920"/>
            <a:chExt cx="898200" cy="520560"/>
          </a:xfrm>
        </p:grpSpPr>
        <p:grpSp>
          <p:nvGrpSpPr>
            <p:cNvPr id="991" name=""/>
            <p:cNvGrpSpPr/>
            <p:nvPr/>
          </p:nvGrpSpPr>
          <p:grpSpPr>
            <a:xfrm>
              <a:off x="6958080" y="4808520"/>
              <a:ext cx="898200" cy="303120"/>
              <a:chOff x="6958080" y="4808520"/>
              <a:chExt cx="898200" cy="303120"/>
            </a:xfrm>
          </p:grpSpPr>
          <p:sp>
            <p:nvSpPr>
              <p:cNvPr id="992" name=""/>
              <p:cNvSpPr/>
              <p:nvPr/>
            </p:nvSpPr>
            <p:spPr>
              <a:xfrm flipV="1">
                <a:off x="6958080" y="5005440"/>
                <a:ext cx="93240" cy="223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051320" y="5013360"/>
                <a:ext cx="129960" cy="982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7200000" y="4808520"/>
                <a:ext cx="186120" cy="303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386480" y="4808520"/>
                <a:ext cx="469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7313040" y="47419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66ff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898920" y="4592520"/>
            <a:ext cx="15037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629080" y="4191120"/>
            <a:ext cx="2171520" cy="1238040"/>
            <a:chOff x="2629080" y="4191120"/>
            <a:chExt cx="2171520" cy="1238040"/>
          </a:xfrm>
        </p:grpSpPr>
        <p:grpSp>
          <p:nvGrpSpPr>
            <p:cNvPr id="999" name=""/>
            <p:cNvGrpSpPr/>
            <p:nvPr/>
          </p:nvGrpSpPr>
          <p:grpSpPr>
            <a:xfrm>
              <a:off x="2629080" y="4191120"/>
              <a:ext cx="2171520" cy="1238040"/>
              <a:chOff x="2629080" y="4191120"/>
              <a:chExt cx="2171520" cy="1238040"/>
            </a:xfrm>
          </p:grpSpPr>
          <p:sp>
            <p:nvSpPr>
              <p:cNvPr id="1000" name=""/>
              <p:cNvSpPr/>
              <p:nvPr/>
            </p:nvSpPr>
            <p:spPr>
              <a:xfrm>
                <a:off x="2629080" y="4286160"/>
                <a:ext cx="2171520" cy="108576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50000">
                    <a:srgbClr val="ffeac5"/>
                  </a:gs>
                  <a:gs pos="100000">
                    <a:srgbClr val="ff6600"/>
                  </a:gs>
                </a:gsLst>
                <a:lin ang="13500000"/>
              </a:gra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2798640" y="4191120"/>
                <a:ext cx="1955160" cy="1238040"/>
                <a:chOff x="2798640" y="4191120"/>
                <a:chExt cx="1955160" cy="123804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461400" y="4390920"/>
                  <a:ext cx="177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5000" spc="-1" strike="noStrike">
                      <a:solidFill>
                        <a:srgbClr val="ff3300"/>
                      </a:solidFill>
                      <a:latin typeface="Times New Roman"/>
                    </a:rPr>
                    <a:t>t</a:t>
                  </a:r>
                  <a:endParaRPr b="0" lang="en-US" sz="5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034080" y="4603680"/>
                  <a:ext cx="3236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2798640" y="4664520"/>
                  <a:ext cx="271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142880" y="4849920"/>
                  <a:ext cx="61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291920" y="4894200"/>
                  <a:ext cx="23400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3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233240" y="4191120"/>
                  <a:ext cx="4032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5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4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53560" y="4665600"/>
                  <a:ext cx="643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9" name=""/>
            <p:cNvGrpSpPr/>
            <p:nvPr/>
          </p:nvGrpSpPr>
          <p:grpSpPr>
            <a:xfrm>
              <a:off x="4016520" y="4946400"/>
              <a:ext cx="514440" cy="283680"/>
              <a:chOff x="4016520" y="4946400"/>
              <a:chExt cx="514440" cy="283680"/>
            </a:xfrm>
          </p:grpSpPr>
          <p:sp>
            <p:nvSpPr>
              <p:cNvPr id="1010" name=""/>
              <p:cNvSpPr/>
              <p:nvPr/>
            </p:nvSpPr>
            <p:spPr>
              <a:xfrm flipV="1">
                <a:off x="4016520" y="5130720"/>
                <a:ext cx="53280" cy="1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069800" y="5137200"/>
                <a:ext cx="74880" cy="92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4155480" y="4946400"/>
                <a:ext cx="105840" cy="28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1320" y="4946400"/>
                <a:ext cx="26964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vert"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b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1419120" y="133200"/>
            <a:ext cx="6762960" cy="1173240"/>
            <a:chOff x="1419120" y="133200"/>
            <a:chExt cx="6762960" cy="1173240"/>
          </a:xfrm>
        </p:grpSpPr>
        <p:pic>
          <p:nvPicPr>
            <p:cNvPr id="1015" name="" descr=""/>
            <p:cNvPicPr/>
            <p:nvPr/>
          </p:nvPicPr>
          <p:blipFill>
            <a:blip r:embed="rId1"/>
            <a:stretch/>
          </p:blipFill>
          <p:spPr>
            <a:xfrm>
              <a:off x="1419120" y="152280"/>
              <a:ext cx="6762960" cy="115416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000000"/>
              </a:outerShdw>
            </a:effectLst>
          </p:spPr>
        </p:pic>
        <p:sp>
          <p:nvSpPr>
            <p:cNvPr id="1016" name=""/>
            <p:cNvSpPr/>
            <p:nvPr/>
          </p:nvSpPr>
          <p:spPr>
            <a:xfrm>
              <a:off x="1467000" y="133200"/>
              <a:ext cx="6648480" cy="11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onstructing Confidence Intervals                        for Population Propor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1571760" y="1609560"/>
            <a:ext cx="60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nfidence interval for a population proportion is estima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981600" y="4414680"/>
            <a:ext cx="11808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9" name=""/>
          <p:cNvSpPr/>
          <p:nvPr/>
        </p:nvSpPr>
        <p:spPr>
          <a:xfrm>
            <a:off x="1852560" y="5067360"/>
            <a:ext cx="66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 the sample pro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268280" y="4675320"/>
            <a:ext cx="7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89640" y="2697120"/>
            <a:ext cx="5292000" cy="1424160"/>
            <a:chOff x="1889640" y="2697120"/>
            <a:chExt cx="5292000" cy="1424160"/>
          </a:xfrm>
        </p:grpSpPr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3547800" y="2697120"/>
                  <a:ext cx="3633840" cy="14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±</m:t>
                      </m:r>
                      <m:r>
                        <m:t xml:space="preserve">z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p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23" name=""/>
            <p:cNvSpPr/>
            <p:nvPr/>
          </p:nvSpPr>
          <p:spPr>
            <a:xfrm>
              <a:off x="1889640" y="3125880"/>
              <a:ext cx="150372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838080" y="5686560"/>
            <a:ext cx="7467480" cy="266400"/>
            <a:chOff x="838080" y="5686560"/>
            <a:chExt cx="7467480" cy="266400"/>
          </a:xfrm>
        </p:grpSpPr>
        <p:sp>
          <p:nvSpPr>
            <p:cNvPr id="1025" name=""/>
            <p:cNvSpPr/>
            <p:nvPr/>
          </p:nvSpPr>
          <p:spPr>
            <a:xfrm>
              <a:off x="838080" y="5784120"/>
              <a:ext cx="746748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68240" y="5686560"/>
              <a:ext cx="480600" cy="26640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 txBox="1"/>
          <p:nvPr/>
        </p:nvSpPr>
        <p:spPr>
          <a:xfrm>
            <a:off x="7701120" y="6129360"/>
            <a:ext cx="119844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</a:rPr>
              <a:t>Q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2298" dir="103755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blinds dir="vert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75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3050"/>
                            </p:stCondLst>
                            <p:childTnLst>
                              <p:par>
                                <p:cTn id="1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550"/>
                            </p:stCondLst>
                            <p:childTnLst>
                              <p:par>
                                <p:cTn id="1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217440" y="1865160"/>
            <a:ext cx="8709120" cy="415476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3328920" y="1504800"/>
            <a:ext cx="2486160" cy="871560"/>
            <a:chOff x="3328920" y="1504800"/>
            <a:chExt cx="2486160" cy="871560"/>
          </a:xfrm>
        </p:grpSpPr>
        <p:sp>
          <p:nvSpPr>
            <p:cNvPr id="1030" name=""/>
            <p:cNvSpPr txBox="1"/>
            <p:nvPr/>
          </p:nvSpPr>
          <p:spPr>
            <a:xfrm>
              <a:off x="3328920" y="150480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>
              <a:off x="3967200" y="171432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1125360" y="2711520"/>
            <a:ext cx="689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e of 500 executi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o own their own home reveale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5 planned to s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ir                      homes and retire to Victoria.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evelop a 98%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fidence interv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proportion of executives that plan to sell and move to Victo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419120" y="133200"/>
            <a:ext cx="6762960" cy="1173240"/>
            <a:chOff x="1419120" y="133200"/>
            <a:chExt cx="6762960" cy="1173240"/>
          </a:xfrm>
        </p:grpSpPr>
        <p:pic>
          <p:nvPicPr>
            <p:cNvPr id="1034" name="" descr=""/>
            <p:cNvPicPr/>
            <p:nvPr/>
          </p:nvPicPr>
          <p:blipFill>
            <a:blip r:embed="rId4"/>
            <a:stretch/>
          </p:blipFill>
          <p:spPr>
            <a:xfrm>
              <a:off x="1419120" y="152280"/>
              <a:ext cx="6762960" cy="115416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000000"/>
              </a:outerShdw>
            </a:effectLst>
          </p:spPr>
        </p:pic>
        <p:sp>
          <p:nvSpPr>
            <p:cNvPr id="1035" name=""/>
            <p:cNvSpPr/>
            <p:nvPr/>
          </p:nvSpPr>
          <p:spPr>
            <a:xfrm>
              <a:off x="1467000" y="133200"/>
              <a:ext cx="6648480" cy="11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onstructing Confidence Intervals                        for Population Propor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838080" y="5886360"/>
            <a:ext cx="7467480" cy="266760"/>
            <a:chOff x="838080" y="5886360"/>
            <a:chExt cx="7467480" cy="266760"/>
          </a:xfrm>
        </p:grpSpPr>
        <p:sp>
          <p:nvSpPr>
            <p:cNvPr id="1037" name=""/>
            <p:cNvSpPr/>
            <p:nvPr/>
          </p:nvSpPr>
          <p:spPr>
            <a:xfrm>
              <a:off x="838080" y="5983920"/>
              <a:ext cx="746748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68240" y="5886360"/>
              <a:ext cx="480600" cy="26676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9" dur="75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3725"/>
                            </p:stCondLst>
                            <p:childTnLst>
                              <p:par>
                                <p:cTn id="1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efefe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200160" y="2206800"/>
            <a:ext cx="2844720" cy="411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 of 500      execu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o own their own home reveale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75 planned to s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ir homes and retire to Victoria.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98%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the proportion of executi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178080" y="3138480"/>
            <a:ext cx="5819760" cy="520560"/>
          </a:xfrm>
          <a:prstGeom prst="rect">
            <a:avLst/>
          </a:prstGeom>
          <a:gradFill rotWithShape="0">
            <a:gsLst>
              <a:gs pos="0">
                <a:srgbClr val="f9f7b5"/>
              </a:gs>
              <a:gs pos="50000">
                <a:srgbClr val="fefefe"/>
              </a:gs>
              <a:gs pos="100000">
                <a:srgbClr val="f9f7b5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32200" y="3143160"/>
            <a:ext cx="82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70320" y="3152880"/>
            <a:ext cx="22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75/5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.35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031240" y="314316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1419120" y="133200"/>
            <a:ext cx="6762960" cy="1173240"/>
            <a:chOff x="1419120" y="133200"/>
            <a:chExt cx="6762960" cy="1173240"/>
          </a:xfrm>
        </p:grpSpPr>
        <p:pic>
          <p:nvPicPr>
            <p:cNvPr id="1045" name="" descr=""/>
            <p:cNvPicPr/>
            <p:nvPr/>
          </p:nvPicPr>
          <p:blipFill>
            <a:blip r:embed="rId2"/>
            <a:stretch/>
          </p:blipFill>
          <p:spPr>
            <a:xfrm>
              <a:off x="1419120" y="152280"/>
              <a:ext cx="6762960" cy="115416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000000"/>
              </a:outerShdw>
            </a:effectLst>
          </p:spPr>
        </p:pic>
        <p:sp>
          <p:nvSpPr>
            <p:cNvPr id="1046" name=""/>
            <p:cNvSpPr/>
            <p:nvPr/>
          </p:nvSpPr>
          <p:spPr>
            <a:xfrm>
              <a:off x="1467000" y="133200"/>
              <a:ext cx="6648480" cy="114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onstructing Confidence Intervals                        for Population Propor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95160" y="1488960"/>
            <a:ext cx="1819440" cy="871560"/>
            <a:chOff x="695160" y="1488960"/>
            <a:chExt cx="1819440" cy="871560"/>
          </a:xfrm>
        </p:grpSpPr>
        <p:sp>
          <p:nvSpPr>
            <p:cNvPr id="1048" name=""/>
            <p:cNvSpPr txBox="1"/>
            <p:nvPr/>
          </p:nvSpPr>
          <p:spPr>
            <a:xfrm>
              <a:off x="695160" y="14889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>
              <a:off x="1333440" y="1698480"/>
              <a:ext cx="1181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3166200" y="1633680"/>
            <a:ext cx="5977800" cy="1257120"/>
            <a:chOff x="3166200" y="1633680"/>
            <a:chExt cx="5977800" cy="1257120"/>
          </a:xfrm>
        </p:grpSpPr>
        <p:graphicFrame>
          <p:nvGraphicFramePr>
            <p:cNvPr id="1051" name=""/>
            <p:cNvGraphicFramePr/>
            <p:nvPr/>
          </p:nvGraphicFramePr>
          <p:xfrm>
            <a:off x="4991040" y="1633680"/>
            <a:ext cx="4152960" cy="125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91040" y="1633680"/>
                      <a:ext cx="4152960" cy="12571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81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53" name=""/>
            <p:cNvSpPr/>
            <p:nvPr/>
          </p:nvSpPr>
          <p:spPr>
            <a:xfrm>
              <a:off x="3166200" y="2039760"/>
              <a:ext cx="1503720" cy="520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3672000" y="5676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8% C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3737520" y="3971880"/>
            <a:ext cx="4815360" cy="1338480"/>
            <a:chOff x="3737520" y="3971880"/>
            <a:chExt cx="4815360" cy="1338480"/>
          </a:xfrm>
        </p:grpSpPr>
        <p:sp>
          <p:nvSpPr>
            <p:cNvPr id="1056" name=""/>
            <p:cNvSpPr/>
            <p:nvPr/>
          </p:nvSpPr>
          <p:spPr>
            <a:xfrm>
              <a:off x="6089400" y="4697280"/>
              <a:ext cx="2422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5735520" y="4795560"/>
              <a:ext cx="64440" cy="28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800320" y="4803840"/>
              <a:ext cx="95040" cy="50652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905080" y="3971880"/>
              <a:ext cx="123480" cy="13384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028920" y="3971880"/>
              <a:ext cx="252396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62040" y="4757760"/>
              <a:ext cx="57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5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418240" y="41403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940160" y="414036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64840" y="414036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41600" y="414036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83200" y="41403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4760" y="414036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29800" y="414036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60400" y="45007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185080" y="450072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47480" y="45007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12480" y="45007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737520" y="450072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484400" y="409716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523040" y="445788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005520" y="5662440"/>
            <a:ext cx="2584800" cy="651960"/>
            <a:chOff x="6005520" y="5662440"/>
            <a:chExt cx="2584800" cy="651960"/>
          </a:xfrm>
        </p:grpSpPr>
        <p:sp>
          <p:nvSpPr>
            <p:cNvPr id="1077" name=""/>
            <p:cNvSpPr/>
            <p:nvPr/>
          </p:nvSpPr>
          <p:spPr>
            <a:xfrm>
              <a:off x="7596000" y="5719680"/>
              <a:ext cx="9943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0497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318440" y="571968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321960" y="5719680"/>
              <a:ext cx="4975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113520" y="571968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005520" y="5719680"/>
              <a:ext cx="1242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64920" y="566244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3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75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75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75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028960" y="276120"/>
            <a:ext cx="5181480" cy="1038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ite-Population Correct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216080" y="1467000"/>
            <a:ext cx="6851520" cy="52056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0.05 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068480" y="3524400"/>
            <a:ext cx="7138800" cy="21661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6666ff"/>
                </a:solidFill>
                <a:latin typeface="Times New Roman"/>
              </a:rPr>
              <a:t>attend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the college hockey game last night was </a:t>
            </a:r>
            <a:r>
              <a:rPr b="1" i="1" lang="en-US" sz="2800" spc="-1" strike="noStrike">
                <a:solidFill>
                  <a:srgbClr val="6666ff"/>
                </a:solidFill>
                <a:latin typeface="Times New Roman"/>
              </a:rPr>
              <a:t>2700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A random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ample of 2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ose in attendance revealed that the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of drinks consumed per person was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1.8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standard deviation of 0.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533520" y="2900520"/>
            <a:ext cx="2485440" cy="871560"/>
            <a:chOff x="533520" y="2900520"/>
            <a:chExt cx="2485440" cy="871560"/>
          </a:xfrm>
        </p:grpSpPr>
        <p:sp>
          <p:nvSpPr>
            <p:cNvPr id="1087" name=""/>
            <p:cNvSpPr txBox="1"/>
            <p:nvPr/>
          </p:nvSpPr>
          <p:spPr>
            <a:xfrm>
              <a:off x="533520" y="290052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1171440" y="311004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2213640" y="2228760"/>
            <a:ext cx="4637520" cy="1126080"/>
            <a:chOff x="2213640" y="2228760"/>
            <a:chExt cx="4637520" cy="1126080"/>
          </a:xfrm>
        </p:grpSpPr>
        <p:sp>
          <p:nvSpPr>
            <p:cNvPr id="1090" name=""/>
            <p:cNvSpPr/>
            <p:nvPr/>
          </p:nvSpPr>
          <p:spPr>
            <a:xfrm>
              <a:off x="2213640" y="2440080"/>
              <a:ext cx="1503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25880" y="2887560"/>
              <a:ext cx="1159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729320" y="3103200"/>
              <a:ext cx="586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88000" y="3111480"/>
              <a:ext cx="83880" cy="13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4881600" y="2847960"/>
              <a:ext cx="11268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94280" y="2847960"/>
              <a:ext cx="272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81440" y="2789280"/>
              <a:ext cx="6238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00600" y="2789280"/>
              <a:ext cx="108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5400720" y="2857320"/>
              <a:ext cx="58680" cy="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459400" y="2865600"/>
              <a:ext cx="84240" cy="35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553000" y="2257200"/>
              <a:ext cx="112680" cy="9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65680" y="2257560"/>
              <a:ext cx="1160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855240" y="2522520"/>
              <a:ext cx="24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971240" y="2228760"/>
              <a:ext cx="246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74840" y="2817720"/>
              <a:ext cx="1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118840" y="28670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877000" y="2274840"/>
              <a:ext cx="614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33cc"/>
                  </a:solidFill>
                  <a:latin typeface="Times New Roman"/>
                </a:rPr>
                <a:t>N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39840" y="2274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70880" y="2846520"/>
              <a:ext cx="71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 -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334760" y="25225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646320" y="28465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673200" y="5753160"/>
            <a:ext cx="7969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evel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 90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onfidence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timate for the mean number of drinks consumed per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5367240" y="2117880"/>
            <a:ext cx="3673440" cy="1319040"/>
            <a:chOff x="5367240" y="2117880"/>
            <a:chExt cx="3673440" cy="1319040"/>
          </a:xfrm>
        </p:grpSpPr>
        <p:sp>
          <p:nvSpPr>
            <p:cNvPr id="1113" name=""/>
            <p:cNvSpPr/>
            <p:nvPr/>
          </p:nvSpPr>
          <p:spPr>
            <a:xfrm>
              <a:off x="5367240" y="2190600"/>
              <a:ext cx="1819440" cy="12463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73880" y="2117880"/>
              <a:ext cx="16668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rrection Fa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9" dur="75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3" dur="75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"/>
          <p:cNvGrpSpPr/>
          <p:nvPr/>
        </p:nvGrpSpPr>
        <p:grpSpPr>
          <a:xfrm>
            <a:off x="3429000" y="2792520"/>
            <a:ext cx="5416560" cy="1013760"/>
            <a:chOff x="3429000" y="2792520"/>
            <a:chExt cx="5416560" cy="1013760"/>
          </a:xfrm>
        </p:grpSpPr>
        <p:sp>
          <p:nvSpPr>
            <p:cNvPr id="1116" name=""/>
            <p:cNvSpPr/>
            <p:nvPr/>
          </p:nvSpPr>
          <p:spPr>
            <a:xfrm>
              <a:off x="3429000" y="2792520"/>
              <a:ext cx="5416560" cy="1013760"/>
            </a:xfrm>
            <a:prstGeom prst="rect">
              <a:avLst/>
            </a:prstGeom>
            <a:gradFill rotWithShape="0">
              <a:gsLst>
                <a:gs pos="0">
                  <a:srgbClr val="f9f7b5"/>
                </a:gs>
                <a:gs pos="50000">
                  <a:srgbClr val="fefefe"/>
                </a:gs>
                <a:gs pos="100000">
                  <a:srgbClr val="f9f7b5"/>
                </a:gs>
              </a:gsLst>
              <a:lin ang="135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=                 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=             x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70840" y="2943360"/>
              <a:ext cx="2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028960" y="276120"/>
            <a:ext cx="5181480" cy="1038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fff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ite-Population Correct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33200" y="2251080"/>
            <a:ext cx="2946600" cy="418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6666ff"/>
                </a:solidFill>
                <a:latin typeface="Times New Roman"/>
              </a:rPr>
              <a:t>attend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the college hockey game last night was </a:t>
            </a:r>
            <a:r>
              <a:rPr b="1" i="1" lang="en-US" sz="2400" spc="-1" strike="noStrike">
                <a:solidFill>
                  <a:srgbClr val="6666ff"/>
                </a:solidFill>
                <a:latin typeface="Times New Roman"/>
              </a:rPr>
              <a:t>27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A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sample of 2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ose in attendance revealed that the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a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umber of drinks consumed per person was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1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standard deviation of 0.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evel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a 9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onfidence inter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695160" y="1488960"/>
            <a:ext cx="1819440" cy="871560"/>
            <a:chOff x="695160" y="1488960"/>
            <a:chExt cx="1819440" cy="871560"/>
          </a:xfrm>
        </p:grpSpPr>
        <p:sp>
          <p:nvSpPr>
            <p:cNvPr id="1121" name=""/>
            <p:cNvSpPr txBox="1"/>
            <p:nvPr/>
          </p:nvSpPr>
          <p:spPr>
            <a:xfrm>
              <a:off x="695160" y="14889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1333440" y="1698480"/>
              <a:ext cx="1181160" cy="495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4187880" y="279396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Times New Roman"/>
              </a:rPr>
              <a:t>2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219720" y="2793960"/>
            <a:ext cx="8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807320" y="2844720"/>
            <a:ext cx="7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272120" y="3328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0.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94320" y="3319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238560" y="3914640"/>
            <a:ext cx="5610240" cy="209520"/>
            <a:chOff x="3238560" y="3914640"/>
            <a:chExt cx="5610240" cy="209520"/>
          </a:xfrm>
        </p:grpSpPr>
        <p:sp>
          <p:nvSpPr>
            <p:cNvPr id="1129" name=""/>
            <p:cNvSpPr/>
            <p:nvPr/>
          </p:nvSpPr>
          <p:spPr>
            <a:xfrm>
              <a:off x="3238560" y="3991320"/>
              <a:ext cx="5610240" cy="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890680" y="3914640"/>
              <a:ext cx="361080" cy="209520"/>
            </a:xfrm>
            <a:prstGeom prst="plus">
              <a:avLst>
                <a:gd name="adj" fmla="val 250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caa8"/>
                </a:gs>
                <a:gs pos="100000">
                  <a:srgbClr val="ff66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3067200" y="4132440"/>
            <a:ext cx="61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50/27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05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the correction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3199680" y="4762080"/>
            <a:ext cx="5630400" cy="1163520"/>
            <a:chOff x="3199680" y="4762080"/>
            <a:chExt cx="5630400" cy="1163520"/>
          </a:xfrm>
        </p:grpSpPr>
        <p:sp>
          <p:nvSpPr>
            <p:cNvPr id="1133" name=""/>
            <p:cNvSpPr/>
            <p:nvPr/>
          </p:nvSpPr>
          <p:spPr>
            <a:xfrm flipV="1">
              <a:off x="5148360" y="5664960"/>
              <a:ext cx="52200" cy="29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200920" y="5675040"/>
              <a:ext cx="74520" cy="139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5284080" y="5395320"/>
              <a:ext cx="100440" cy="418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384880" y="5395680"/>
              <a:ext cx="6559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05880" y="5335200"/>
              <a:ext cx="968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20480" y="5335200"/>
              <a:ext cx="18334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6451920" y="5406840"/>
              <a:ext cx="50760" cy="2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02680" y="5416200"/>
              <a:ext cx="76680" cy="369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6588000" y="4782960"/>
              <a:ext cx="100080" cy="1002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688080" y="4782960"/>
              <a:ext cx="189972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689320" y="5071680"/>
              <a:ext cx="1407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204760" y="53938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066080" y="5393880"/>
              <a:ext cx="842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33cc"/>
                  </a:solidFill>
                  <a:latin typeface="Times New Roman"/>
                </a:rPr>
                <a:t>270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002080" y="4809960"/>
              <a:ext cx="631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3300"/>
                  </a:solidFill>
                  <a:latin typeface="Times New Roman"/>
                </a:rPr>
                <a:t>25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822720" y="4809960"/>
              <a:ext cx="8420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33cc"/>
                  </a:solidFill>
                  <a:latin typeface="Times New Roman"/>
                </a:rPr>
                <a:t>270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172920" y="5071680"/>
              <a:ext cx="2811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487120" y="5422680"/>
              <a:ext cx="631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3300"/>
                  </a:solidFill>
                  <a:latin typeface="Times New Roman"/>
                </a:rPr>
                <a:t>25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613120" y="480996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10880" y="4809960"/>
              <a:ext cx="105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2080" y="5071680"/>
              <a:ext cx="1407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29720" y="5071680"/>
              <a:ext cx="631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645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30360" y="5071680"/>
              <a:ext cx="105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75120" y="5071680"/>
              <a:ext cx="3160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01720" y="5071680"/>
              <a:ext cx="224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8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05960" y="5071680"/>
              <a:ext cx="105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199680" y="50716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041680" y="534636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98320" y="476208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57320" y="502416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5706000" y="6095880"/>
            <a:ext cx="2333160" cy="562320"/>
            <a:chOff x="5706000" y="6095880"/>
            <a:chExt cx="2333160" cy="562320"/>
          </a:xfrm>
        </p:grpSpPr>
        <p:sp>
          <p:nvSpPr>
            <p:cNvPr id="1163" name=""/>
            <p:cNvSpPr/>
            <p:nvPr/>
          </p:nvSpPr>
          <p:spPr>
            <a:xfrm>
              <a:off x="7617960" y="6155280"/>
              <a:ext cx="421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07000" y="6155280"/>
              <a:ext cx="105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144560" y="61552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55080" y="61552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8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189480" y="6155280"/>
              <a:ext cx="105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.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19120" y="61552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cc00ff"/>
                  </a:solidFill>
                  <a:latin typeface="Times New Roman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29840" y="6095880"/>
              <a:ext cx="348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06000" y="6095880"/>
              <a:ext cx="2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3659040" y="61196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0% C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3209040" y="1436760"/>
            <a:ext cx="5482440" cy="1218960"/>
            <a:chOff x="3209040" y="1436760"/>
            <a:chExt cx="5482440" cy="1218960"/>
          </a:xfrm>
        </p:grpSpPr>
        <p:sp>
          <p:nvSpPr>
            <p:cNvPr id="1173" name=""/>
            <p:cNvSpPr/>
            <p:nvPr/>
          </p:nvSpPr>
          <p:spPr>
            <a:xfrm>
              <a:off x="4743360" y="1436760"/>
              <a:ext cx="3948120" cy="12189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09040" y="1697040"/>
              <a:ext cx="1503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094360" y="1490760"/>
              <a:ext cx="3423600" cy="1100520"/>
              <a:chOff x="5094360" y="1490760"/>
              <a:chExt cx="3423600" cy="1100520"/>
            </a:xfrm>
          </p:grpSpPr>
          <p:grpSp>
            <p:nvGrpSpPr>
              <p:cNvPr id="1176" name=""/>
              <p:cNvGrpSpPr/>
              <p:nvPr/>
            </p:nvGrpSpPr>
            <p:grpSpPr>
              <a:xfrm>
                <a:off x="7067520" y="1514160"/>
                <a:ext cx="1450440" cy="1077120"/>
                <a:chOff x="7067520" y="1514160"/>
                <a:chExt cx="1450440" cy="10771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7367400" y="2046240"/>
                  <a:ext cx="10875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7067520" y="2114280"/>
                  <a:ext cx="58680" cy="2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126200" y="2122560"/>
                  <a:ext cx="84240" cy="357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V="1">
                  <a:off x="7219800" y="1514160"/>
                  <a:ext cx="112680" cy="965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332480" y="1514520"/>
                  <a:ext cx="116064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543800" y="1531800"/>
                  <a:ext cx="614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33cc"/>
                      </a:solidFill>
                      <a:latin typeface="Times New Roman"/>
                    </a:rPr>
                    <a:t>N </a:t>
                  </a: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 -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8306640" y="153180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n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537680" y="2103480"/>
                  <a:ext cx="7142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33cc"/>
                      </a:solidFill>
                      <a:latin typeface="Times New Roman"/>
                    </a:rPr>
                    <a:t>N</a:t>
                  </a: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  -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8313120" y="2103480"/>
                  <a:ext cx="2048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 flipV="1">
                <a:off x="6205680" y="2287080"/>
                <a:ext cx="77760" cy="2700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7" name=""/>
              <p:cNvGrpSpPr/>
              <p:nvPr/>
            </p:nvGrpSpPr>
            <p:grpSpPr>
              <a:xfrm>
                <a:off x="5094360" y="1490760"/>
                <a:ext cx="1914480" cy="1005480"/>
                <a:chOff x="5094360" y="1490760"/>
                <a:chExt cx="1914480" cy="100548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6283440" y="2297160"/>
                  <a:ext cx="106200" cy="125280"/>
                </a:xfrm>
                <a:prstGeom prst="line">
                  <a:avLst/>
                </a:prstGeom>
                <a:ln w="61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V="1">
                  <a:off x="6405480" y="2035080"/>
                  <a:ext cx="154080" cy="38736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6559560" y="2035080"/>
                  <a:ext cx="38880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6415200" y="1957320"/>
                  <a:ext cx="593640" cy="1800"/>
                </a:xfrm>
                <a:prstGeom prst="line">
                  <a:avLst/>
                </a:prstGeom>
                <a:ln w="30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6639840" y="2054160"/>
                  <a:ext cx="2066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900" spc="-1" strike="noStrike">
                      <a:solidFill>
                        <a:srgbClr val="9933ff"/>
                      </a:solidFill>
                      <a:latin typeface="Times New Roman"/>
                    </a:rPr>
                    <a:t>n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6625800" y="1490760"/>
                  <a:ext cx="14400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900" spc="-1" strike="noStrike">
                      <a:solidFill>
                        <a:srgbClr val="009900"/>
                      </a:solidFill>
                      <a:latin typeface="Times New Roman"/>
                    </a:rPr>
                    <a:t>s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739480" y="1724040"/>
                  <a:ext cx="50976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900" spc="-1" strike="noStrike">
                      <a:solidFill>
                        <a:srgbClr val="ff3300"/>
                      </a:solidFill>
                      <a:latin typeface="Times New Roman"/>
                    </a:rPr>
                    <a:t>Z</a:t>
                  </a:r>
                  <a:r>
                    <a:rPr b="1" i="1" lang="en-US" sz="2900" spc="-1" strike="noStrike" baseline="-25000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1" i="1" lang="en-US" sz="29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/2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V="1">
                  <a:off x="5094360" y="1767600"/>
                  <a:ext cx="18108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 u="sng">
                      <a:solidFill>
                        <a:srgbClr val="a000a0"/>
                      </a:solidFill>
                      <a:uFillTx/>
                      <a:latin typeface="Times New Roman"/>
                    </a:rPr>
                    <a:t>X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359680" y="1681200"/>
                  <a:ext cx="29340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</a:t>
                  </a:r>
                  <a:endParaRPr b="0" lang="en-US" sz="2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over dir="r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9" dur="75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75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75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75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75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300"/>
                            </p:stCondLst>
                            <p:childTnLst>
                              <p:par>
                                <p:cTn id="12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2146320" y="1987560"/>
            <a:ext cx="4825800" cy="2840760"/>
            <a:chOff x="2146320" y="1987560"/>
            <a:chExt cx="4825800" cy="2840760"/>
          </a:xfrm>
        </p:grpSpPr>
        <p:sp>
          <p:nvSpPr>
            <p:cNvPr id="1198" name=""/>
            <p:cNvSpPr/>
            <p:nvPr/>
          </p:nvSpPr>
          <p:spPr>
            <a:xfrm>
              <a:off x="2146320" y="1990800"/>
              <a:ext cx="4825800" cy="283752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04960" y="1987560"/>
              <a:ext cx="3993120" cy="26611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096920" y="2922480"/>
            <a:ext cx="7121520" cy="186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gree of confid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ximum allowable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riation in th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562040" y="146700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determine the sample size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685800" y="5334120"/>
            <a:ext cx="7772040" cy="304560"/>
            <a:chOff x="685800" y="5334120"/>
            <a:chExt cx="7772040" cy="304560"/>
          </a:xfrm>
        </p:grpSpPr>
        <p:sp>
          <p:nvSpPr>
            <p:cNvPr id="1203" name=""/>
            <p:cNvSpPr/>
            <p:nvPr/>
          </p:nvSpPr>
          <p:spPr>
            <a:xfrm flipV="1">
              <a:off x="685800" y="5405400"/>
              <a:ext cx="7772040" cy="1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4" name="" descr=""/>
            <p:cNvPicPr/>
            <p:nvPr/>
          </p:nvPicPr>
          <p:blipFill>
            <a:blip r:embed="rId3"/>
            <a:stretch/>
          </p:blipFill>
          <p:spPr>
            <a:xfrm>
              <a:off x="4442040" y="533412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5" name=""/>
          <p:cNvGrpSpPr/>
          <p:nvPr/>
        </p:nvGrpSpPr>
        <p:grpSpPr>
          <a:xfrm>
            <a:off x="2943360" y="155520"/>
            <a:ext cx="3257280" cy="1230120"/>
            <a:chOff x="2943360" y="155520"/>
            <a:chExt cx="3257280" cy="1230120"/>
          </a:xfrm>
        </p:grpSpPr>
        <p:sp>
          <p:nvSpPr>
            <p:cNvPr id="1206" name=""/>
            <p:cNvSpPr/>
            <p:nvPr/>
          </p:nvSpPr>
          <p:spPr>
            <a:xfrm>
              <a:off x="2943360" y="15696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2960" y="15552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ff"/>
                  </a:solidFill>
                  <a:latin typeface="Times New Roman"/>
                </a:rPr>
                <a:t>Factor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75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2185920" y="3724200"/>
            <a:ext cx="49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llowable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52600" y="4334040"/>
            <a:ext cx="82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sco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hosen level of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114560" y="51055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ample devi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the pilot 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2943360" y="227160"/>
            <a:ext cx="3257280" cy="1230120"/>
            <a:chOff x="2943360" y="227160"/>
            <a:chExt cx="3257280" cy="1230120"/>
          </a:xfrm>
        </p:grpSpPr>
        <p:sp>
          <p:nvSpPr>
            <p:cNvPr id="1212" name=""/>
            <p:cNvSpPr/>
            <p:nvPr/>
          </p:nvSpPr>
          <p:spPr>
            <a:xfrm>
              <a:off x="2943360" y="22860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52960" y="22716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4631040" y="1792440"/>
            <a:ext cx="2151000" cy="1183680"/>
            <a:chOff x="4631040" y="1792440"/>
            <a:chExt cx="2151000" cy="1183680"/>
          </a:xfrm>
        </p:grpSpPr>
        <p:grpSp>
          <p:nvGrpSpPr>
            <p:cNvPr id="1215" name=""/>
            <p:cNvGrpSpPr/>
            <p:nvPr/>
          </p:nvGrpSpPr>
          <p:grpSpPr>
            <a:xfrm>
              <a:off x="6351840" y="1792440"/>
              <a:ext cx="430200" cy="1183680"/>
              <a:chOff x="6351840" y="1792440"/>
              <a:chExt cx="430200" cy="1183680"/>
            </a:xfrm>
          </p:grpSpPr>
          <p:sp>
            <p:nvSpPr>
              <p:cNvPr id="1216" name=""/>
              <p:cNvSpPr/>
              <p:nvPr/>
            </p:nvSpPr>
            <p:spPr>
              <a:xfrm>
                <a:off x="6351840" y="2117880"/>
                <a:ext cx="156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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7" name=""/>
              <p:cNvGrpSpPr/>
              <p:nvPr/>
            </p:nvGrpSpPr>
            <p:grpSpPr>
              <a:xfrm>
                <a:off x="6351840" y="1792440"/>
                <a:ext cx="430200" cy="1183680"/>
                <a:chOff x="6351840" y="1792440"/>
                <a:chExt cx="430200" cy="118368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6552720" y="1792440"/>
                  <a:ext cx="229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6351840" y="2427120"/>
                  <a:ext cx="156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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6351840" y="1889280"/>
                  <a:ext cx="156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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1" name=""/>
            <p:cNvGrpSpPr/>
            <p:nvPr/>
          </p:nvGrpSpPr>
          <p:grpSpPr>
            <a:xfrm>
              <a:off x="4631040" y="1852560"/>
              <a:ext cx="1677600" cy="1123560"/>
              <a:chOff x="4631040" y="1852560"/>
              <a:chExt cx="1677600" cy="1123560"/>
            </a:xfrm>
          </p:grpSpPr>
          <p:sp>
            <p:nvSpPr>
              <p:cNvPr id="1222" name=""/>
              <p:cNvSpPr/>
              <p:nvPr/>
            </p:nvSpPr>
            <p:spPr>
              <a:xfrm>
                <a:off x="4857840" y="2454120"/>
                <a:ext cx="1450800" cy="180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4631040" y="1889280"/>
                <a:ext cx="156240" cy="1086840"/>
                <a:chOff x="4631040" y="1889280"/>
                <a:chExt cx="156240" cy="1086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4631040" y="2117880"/>
                  <a:ext cx="156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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5" name=""/>
                <p:cNvGrpSpPr/>
                <p:nvPr/>
              </p:nvGrpSpPr>
              <p:grpSpPr>
                <a:xfrm>
                  <a:off x="4631040" y="1889280"/>
                  <a:ext cx="156240" cy="1086840"/>
                  <a:chOff x="4631040" y="1889280"/>
                  <a:chExt cx="156240" cy="108684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4631040" y="2427120"/>
                    <a:ext cx="15624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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4631040" y="1889280"/>
                    <a:ext cx="15624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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28" name=""/>
              <p:cNvSpPr/>
              <p:nvPr/>
            </p:nvSpPr>
            <p:spPr>
              <a:xfrm>
                <a:off x="5381280" y="241920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22640" y="1852560"/>
                <a:ext cx="178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051880" y="1852560"/>
                <a:ext cx="57204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40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α</a:t>
                </a:r>
                <a:r>
                  <a:rPr b="1" i="1" lang="en-US" sz="4000" spc="-1" strike="noStrike" baseline="-25000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1" name=""/>
          <p:cNvSpPr/>
          <p:nvPr/>
        </p:nvSpPr>
        <p:spPr>
          <a:xfrm>
            <a:off x="3733200" y="2138400"/>
            <a:ext cx="74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023200" y="2060640"/>
            <a:ext cx="15037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4038480" y="3157560"/>
            <a:ext cx="11811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e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85800" y="5905440"/>
            <a:ext cx="7772040" cy="304920"/>
            <a:chOff x="685800" y="5905440"/>
            <a:chExt cx="7772040" cy="304920"/>
          </a:xfrm>
        </p:grpSpPr>
        <p:sp>
          <p:nvSpPr>
            <p:cNvPr id="1235" name=""/>
            <p:cNvSpPr/>
            <p:nvPr/>
          </p:nvSpPr>
          <p:spPr>
            <a:xfrm flipV="1">
              <a:off x="685800" y="5977800"/>
              <a:ext cx="7772040" cy="1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6" name="" descr=""/>
            <p:cNvPicPr/>
            <p:nvPr/>
          </p:nvPicPr>
          <p:blipFill>
            <a:blip r:embed="rId3"/>
            <a:stretch/>
          </p:blipFill>
          <p:spPr>
            <a:xfrm>
              <a:off x="4442040" y="590544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1" dur="75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6" dur="75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1" dur="75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850"/>
                            </p:stCondLst>
                            <p:childTnLst>
                              <p:par>
                                <p:cTn id="1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96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85640" y="2038320"/>
            <a:ext cx="28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Point Est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9800" y="2085840"/>
            <a:ext cx="63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single value (</a:t>
            </a:r>
            <a:r>
              <a:rPr b="1" i="1" lang="en-US" sz="2400" spc="-1" strike="noStrike">
                <a:solidFill>
                  <a:srgbClr val="7912ea"/>
                </a:solidFill>
                <a:latin typeface="Times New Roman"/>
              </a:rPr>
              <a:t>statis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us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imate a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ulation value (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ame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640" y="4924440"/>
            <a:ext cx="33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onfidenc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1000" y="4971960"/>
            <a:ext cx="52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nge of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ithin which               the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ameter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expected to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640" y="3552840"/>
            <a:ext cx="30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Interval Est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52880" y="3543480"/>
            <a:ext cx="59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s the range within which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amet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ly 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90400" y="6200640"/>
            <a:ext cx="7772400" cy="266760"/>
            <a:chOff x="590400" y="6200640"/>
            <a:chExt cx="7772400" cy="266760"/>
          </a:xfrm>
        </p:grpSpPr>
        <p:sp>
          <p:nvSpPr>
            <p:cNvPr id="105" name=""/>
            <p:cNvSpPr/>
            <p:nvPr/>
          </p:nvSpPr>
          <p:spPr>
            <a:xfrm flipV="1">
              <a:off x="590400" y="6263640"/>
              <a:ext cx="7772400" cy="126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4400640" y="6200640"/>
              <a:ext cx="34272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75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25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933480" y="2166120"/>
            <a:ext cx="7191360" cy="3201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13500000"/>
          </a:gradFill>
          <a:ln w="38160">
            <a:solidFill>
              <a:srgbClr val="0033cc"/>
            </a:solidFill>
            <a:miter/>
          </a:ln>
          <a:effectLst>
            <a:outerShdw dist="134955" dir="787288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nsumer group would like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monthly electricity char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single family house in July (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within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$5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99 percent level of conf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Based on similar studies the                                 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is estimated to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0.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943360" y="227160"/>
            <a:ext cx="3257280" cy="1230120"/>
            <a:chOff x="2943360" y="227160"/>
            <a:chExt cx="3257280" cy="1230120"/>
          </a:xfrm>
        </p:grpSpPr>
        <p:sp>
          <p:nvSpPr>
            <p:cNvPr id="1239" name=""/>
            <p:cNvSpPr/>
            <p:nvPr/>
          </p:nvSpPr>
          <p:spPr>
            <a:xfrm>
              <a:off x="2943360" y="22860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52960" y="22716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2115360" y="5372280"/>
            <a:ext cx="5084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ge a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le is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3414600" y="1585800"/>
            <a:ext cx="2486160" cy="871560"/>
            <a:chOff x="3414600" y="1585800"/>
            <a:chExt cx="2486160" cy="871560"/>
          </a:xfrm>
        </p:grpSpPr>
        <p:sp>
          <p:nvSpPr>
            <p:cNvPr id="1243" name=""/>
            <p:cNvSpPr txBox="1"/>
            <p:nvPr/>
          </p:nvSpPr>
          <p:spPr>
            <a:xfrm>
              <a:off x="3414600" y="158580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44" name=""/>
            <p:cNvSpPr txBox="1"/>
            <p:nvPr/>
          </p:nvSpPr>
          <p:spPr>
            <a:xfrm>
              <a:off x="4052880" y="179532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fade/>
  </p:transition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2943360" y="227160"/>
            <a:ext cx="3257280" cy="1230120"/>
            <a:chOff x="2943360" y="227160"/>
            <a:chExt cx="3257280" cy="1230120"/>
          </a:xfrm>
        </p:grpSpPr>
        <p:sp>
          <p:nvSpPr>
            <p:cNvPr id="1246" name=""/>
            <p:cNvSpPr/>
            <p:nvPr/>
          </p:nvSpPr>
          <p:spPr>
            <a:xfrm>
              <a:off x="2943360" y="22860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52960" y="22716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200160" y="2000520"/>
            <a:ext cx="3524040" cy="4483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13500000"/>
          </a:gradFill>
          <a:ln w="38160">
            <a:solidFill>
              <a:srgbClr val="0033cc"/>
            </a:solidFill>
            <a:miter/>
          </a:ln>
          <a:effectLst>
            <a:outerShdw dist="134955" dir="787288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nsumer group would lik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im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 monthly electricity char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a single family house in July (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within $5</a:t>
            </a:r>
            <a:r>
              <a:rPr b="1" i="1" lang="en-US" sz="2400" spc="-1" strike="noStrike">
                <a:solidFill>
                  <a:srgbClr val="080808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99 percent level of confi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Based on similar studies the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 is estimate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20.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657680" y="4024440"/>
            <a:ext cx="19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     (10.32)</a:t>
            </a:r>
            <a:r>
              <a:rPr b="1" lang="en-US" sz="2800" spc="-1" strike="noStrike" baseline="5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657680" y="4662360"/>
            <a:ext cx="186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      106.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4200480" y="5200560"/>
            <a:ext cx="4686120" cy="1373760"/>
            <a:chOff x="4200480" y="5200560"/>
            <a:chExt cx="4686120" cy="1373760"/>
          </a:xfrm>
        </p:grpSpPr>
        <p:sp>
          <p:nvSpPr>
            <p:cNvPr id="1252" name=""/>
            <p:cNvSpPr/>
            <p:nvPr/>
          </p:nvSpPr>
          <p:spPr>
            <a:xfrm>
              <a:off x="4200480" y="5200560"/>
              <a:ext cx="4686120" cy="1373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13500000"/>
            </a:gradFill>
            <a:ln w="0">
              <a:noFill/>
            </a:ln>
            <a:effectLst>
              <a:outerShdw dist="109184" dir="752830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minimum of                                   107 homes must be sampled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59160" y="5219640"/>
              <a:ext cx="199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90% CL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4607640" y="2897280"/>
            <a:ext cx="2614680" cy="1068120"/>
            <a:chOff x="4607640" y="2897280"/>
            <a:chExt cx="2614680" cy="1068120"/>
          </a:xfrm>
        </p:grpSpPr>
        <p:sp>
          <p:nvSpPr>
            <p:cNvPr id="1255" name=""/>
            <p:cNvSpPr/>
            <p:nvPr/>
          </p:nvSpPr>
          <p:spPr>
            <a:xfrm>
              <a:off x="5259240" y="3424320"/>
              <a:ext cx="164304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043400" y="28972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42720" y="3451320"/>
              <a:ext cx="6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.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366600" y="30081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454000" y="3008160"/>
              <a:ext cx="6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5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5186160" y="2975040"/>
              <a:ext cx="120960" cy="990360"/>
              <a:chOff x="5186160" y="2975040"/>
              <a:chExt cx="120960" cy="990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5186160" y="322272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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186160" y="353844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186160" y="297504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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4" name=""/>
            <p:cNvSpPr/>
            <p:nvPr/>
          </p:nvSpPr>
          <p:spPr>
            <a:xfrm>
              <a:off x="6142320" y="3008160"/>
              <a:ext cx="14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07640" y="31892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881400" y="2927160"/>
              <a:ext cx="120960" cy="990360"/>
              <a:chOff x="6881400" y="2927160"/>
              <a:chExt cx="120960" cy="990360"/>
            </a:xfrm>
          </p:grpSpPr>
          <p:sp>
            <p:nvSpPr>
              <p:cNvPr id="1267" name=""/>
              <p:cNvSpPr/>
              <p:nvPr/>
            </p:nvSpPr>
            <p:spPr>
              <a:xfrm flipH="1" flipV="1">
                <a:off x="6881400" y="324288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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 flipV="1">
                <a:off x="6881400" y="292716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 flipV="1">
                <a:off x="6881400" y="3490560"/>
                <a:ext cx="1209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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0" name=""/>
          <p:cNvGrpSpPr/>
          <p:nvPr/>
        </p:nvGrpSpPr>
        <p:grpSpPr>
          <a:xfrm>
            <a:off x="695160" y="1617840"/>
            <a:ext cx="1819440" cy="871200"/>
            <a:chOff x="695160" y="1617840"/>
            <a:chExt cx="1819440" cy="871200"/>
          </a:xfrm>
        </p:grpSpPr>
        <p:sp>
          <p:nvSpPr>
            <p:cNvPr id="1271" name=""/>
            <p:cNvSpPr txBox="1"/>
            <p:nvPr/>
          </p:nvSpPr>
          <p:spPr>
            <a:xfrm>
              <a:off x="695160" y="1617840"/>
              <a:ext cx="604800" cy="87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2" name=""/>
            <p:cNvSpPr txBox="1"/>
            <p:nvPr/>
          </p:nvSpPr>
          <p:spPr>
            <a:xfrm>
              <a:off x="1333440" y="1827000"/>
              <a:ext cx="118116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olution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880440" y="1697040"/>
            <a:ext cx="3796920" cy="1183680"/>
            <a:chOff x="3880440" y="1697040"/>
            <a:chExt cx="3796920" cy="1183680"/>
          </a:xfrm>
        </p:grpSpPr>
        <p:sp>
          <p:nvSpPr>
            <p:cNvPr id="1274" name=""/>
            <p:cNvSpPr/>
            <p:nvPr/>
          </p:nvSpPr>
          <p:spPr>
            <a:xfrm>
              <a:off x="3880440" y="1860480"/>
              <a:ext cx="1503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5" name=""/>
            <p:cNvGrpSpPr/>
            <p:nvPr/>
          </p:nvGrpSpPr>
          <p:grpSpPr>
            <a:xfrm>
              <a:off x="5526360" y="1697040"/>
              <a:ext cx="2151000" cy="1183680"/>
              <a:chOff x="5526360" y="1697040"/>
              <a:chExt cx="2151000" cy="1183680"/>
            </a:xfrm>
          </p:grpSpPr>
          <p:grpSp>
            <p:nvGrpSpPr>
              <p:cNvPr id="1276" name=""/>
              <p:cNvGrpSpPr/>
              <p:nvPr/>
            </p:nvGrpSpPr>
            <p:grpSpPr>
              <a:xfrm>
                <a:off x="7247160" y="1697040"/>
                <a:ext cx="430200" cy="1183680"/>
                <a:chOff x="7247160" y="1697040"/>
                <a:chExt cx="430200" cy="118368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7247160" y="2022480"/>
                  <a:ext cx="156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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8" name=""/>
                <p:cNvGrpSpPr/>
                <p:nvPr/>
              </p:nvGrpSpPr>
              <p:grpSpPr>
                <a:xfrm>
                  <a:off x="7247160" y="1697040"/>
                  <a:ext cx="430200" cy="1183680"/>
                  <a:chOff x="7247160" y="1697040"/>
                  <a:chExt cx="430200" cy="118368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448040" y="1697040"/>
                    <a:ext cx="22932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247160" y="2331720"/>
                    <a:ext cx="15624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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247160" y="1793880"/>
                    <a:ext cx="15624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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2" name=""/>
              <p:cNvGrpSpPr/>
              <p:nvPr/>
            </p:nvGrpSpPr>
            <p:grpSpPr>
              <a:xfrm>
                <a:off x="5526360" y="1757160"/>
                <a:ext cx="1677600" cy="1123560"/>
                <a:chOff x="5526360" y="1757160"/>
                <a:chExt cx="1677600" cy="112356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753160" y="2358720"/>
                  <a:ext cx="1450800" cy="1800"/>
                </a:xfrm>
                <a:prstGeom prst="line">
                  <a:avLst/>
                </a:prstGeom>
                <a:ln w="39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4" name=""/>
                <p:cNvGrpSpPr/>
                <p:nvPr/>
              </p:nvGrpSpPr>
              <p:grpSpPr>
                <a:xfrm>
                  <a:off x="5526360" y="1793880"/>
                  <a:ext cx="156240" cy="1086840"/>
                  <a:chOff x="5526360" y="1793880"/>
                  <a:chExt cx="156240" cy="1086840"/>
                </a:xfrm>
              </p:grpSpPr>
              <p:sp>
                <p:nvSpPr>
                  <p:cNvPr id="1285" name=""/>
                  <p:cNvSpPr/>
                  <p:nvPr/>
                </p:nvSpPr>
                <p:spPr>
                  <a:xfrm>
                    <a:off x="5526360" y="2022480"/>
                    <a:ext cx="156240" cy="54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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5526360" y="1793880"/>
                    <a:ext cx="156240" cy="1086840"/>
                    <a:chOff x="5526360" y="1793880"/>
                    <a:chExt cx="156240" cy="108684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5526360" y="2331720"/>
                      <a:ext cx="156240" cy="54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5526360" y="1793880"/>
                      <a:ext cx="156240" cy="54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89" name=""/>
                <p:cNvSpPr/>
                <p:nvPr/>
              </p:nvSpPr>
              <p:spPr>
                <a:xfrm>
                  <a:off x="6276600" y="2323800"/>
                  <a:ext cx="3056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717960" y="1757160"/>
                  <a:ext cx="1789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947200" y="1757160"/>
                  <a:ext cx="572040" cy="6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r>
                    <a:rPr b="1" i="1" lang="en-US" sz="40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</a:t>
                  </a:r>
                  <a:r>
                    <a:rPr b="1" i="1" lang="en-US" sz="4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ut thruBlk="true"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2943360" y="227160"/>
            <a:ext cx="3257280" cy="1230120"/>
            <a:chOff x="2943360" y="227160"/>
            <a:chExt cx="3257280" cy="1230120"/>
          </a:xfrm>
        </p:grpSpPr>
        <p:sp>
          <p:nvSpPr>
            <p:cNvPr id="1293" name=""/>
            <p:cNvSpPr/>
            <p:nvPr/>
          </p:nvSpPr>
          <p:spPr>
            <a:xfrm>
              <a:off x="2943360" y="22860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52960" y="22716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85680" y="2328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Kennel Club wants to 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imate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or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children that have a dog as a pet.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95% level of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at the club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imates that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30%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the children have a dog as a pet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58960" y="4343400"/>
            <a:ext cx="7338960" cy="1983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club want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stimate to 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in 3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population proportion,                                  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how man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hildren would they                              need to contact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3414600" y="1614600"/>
            <a:ext cx="2486160" cy="871560"/>
            <a:chOff x="3414600" y="1614600"/>
            <a:chExt cx="2486160" cy="871560"/>
          </a:xfrm>
        </p:grpSpPr>
        <p:sp>
          <p:nvSpPr>
            <p:cNvPr id="1298" name=""/>
            <p:cNvSpPr txBox="1"/>
            <p:nvPr/>
          </p:nvSpPr>
          <p:spPr>
            <a:xfrm>
              <a:off x="3414600" y="161460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>
              <a:off x="4052880" y="182412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cover dir="rd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228600" y="2386080"/>
            <a:ext cx="3200400" cy="4665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19669" dir="731813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Kennel Club wants to 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imate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port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ildren that have a dog as a pet.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95% level o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at the club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imates that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30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f the children have                     a dog as a pe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843120" y="1614600"/>
            <a:ext cx="2485440" cy="871560"/>
            <a:chOff x="843120" y="1614600"/>
            <a:chExt cx="2485440" cy="871560"/>
          </a:xfrm>
        </p:grpSpPr>
        <p:sp>
          <p:nvSpPr>
            <p:cNvPr id="1302" name=""/>
            <p:cNvSpPr txBox="1"/>
            <p:nvPr/>
          </p:nvSpPr>
          <p:spPr>
            <a:xfrm>
              <a:off x="843120" y="161460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03" name=""/>
            <p:cNvSpPr txBox="1"/>
            <p:nvPr/>
          </p:nvSpPr>
          <p:spPr>
            <a:xfrm>
              <a:off x="1481040" y="182412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2943360" y="227160"/>
            <a:ext cx="3257280" cy="1230120"/>
            <a:chOff x="2943360" y="227160"/>
            <a:chExt cx="3257280" cy="1230120"/>
          </a:xfrm>
        </p:grpSpPr>
        <p:sp>
          <p:nvSpPr>
            <p:cNvPr id="1305" name=""/>
            <p:cNvSpPr/>
            <p:nvPr/>
          </p:nvSpPr>
          <p:spPr>
            <a:xfrm>
              <a:off x="2943360" y="228600"/>
              <a:ext cx="3257280" cy="122868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252960" y="227160"/>
              <a:ext cx="2695320" cy="115236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ffff"/>
                  </a:solidFill>
                  <a:latin typeface="Times New Roman"/>
                </a:rPr>
                <a:t>Selecting the                Sample Siz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3403440" y="1552680"/>
            <a:ext cx="1923480" cy="1028520"/>
            <a:chOff x="3403440" y="1552680"/>
            <a:chExt cx="1923480" cy="1028520"/>
          </a:xfrm>
        </p:grpSpPr>
        <p:sp>
          <p:nvSpPr>
            <p:cNvPr id="1308" name=""/>
            <p:cNvSpPr/>
            <p:nvPr/>
          </p:nvSpPr>
          <p:spPr>
            <a:xfrm>
              <a:off x="3403440" y="1552680"/>
              <a:ext cx="1168560" cy="58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23200" y="2060640"/>
              <a:ext cx="1503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ff99"/>
                  </a:solidFill>
                  <a:latin typeface="Times New Roman"/>
                </a:rPr>
                <a:t>Formu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5621400" y="1608120"/>
            <a:ext cx="3736800" cy="987480"/>
            <a:chOff x="5621400" y="1608120"/>
            <a:chExt cx="3736800" cy="987480"/>
          </a:xfrm>
        </p:grpSpPr>
        <p:sp>
          <p:nvSpPr>
            <p:cNvPr id="1311" name=""/>
            <p:cNvSpPr/>
            <p:nvPr/>
          </p:nvSpPr>
          <p:spPr>
            <a:xfrm>
              <a:off x="8024760" y="2122560"/>
              <a:ext cx="398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621400" y="194472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28880" y="19447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03840" y="19447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202600" y="1708200"/>
              <a:ext cx="217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97920" y="2168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95440" y="19065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82360" y="190656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56360" y="16988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956360" y="209556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956360" y="190836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605440" y="16988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605440" y="209556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605440" y="190836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59280" y="19447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734240" y="19447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08320" y="19447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825040" y="1608120"/>
              <a:ext cx="533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4628520" y="2781000"/>
            <a:ext cx="3268440" cy="966600"/>
            <a:chOff x="4628520" y="2781000"/>
            <a:chExt cx="3268440" cy="966600"/>
          </a:xfrm>
        </p:grpSpPr>
        <p:sp>
          <p:nvSpPr>
            <p:cNvPr id="1330" name=""/>
            <p:cNvSpPr/>
            <p:nvPr/>
          </p:nvSpPr>
          <p:spPr>
            <a:xfrm>
              <a:off x="6591240" y="3273120"/>
              <a:ext cx="81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18040" y="27810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974640" y="332064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16600" y="33206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073280" y="28587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915240" y="285876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695640" y="28587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10080" y="3065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102000" y="3065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972040" y="3065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409720" y="3065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283000" y="30650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74920" y="30650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944960" y="306504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484760" y="30542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484760" y="33206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477200" y="2844360"/>
              <a:ext cx="108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21040" y="30542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521040" y="332064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521040" y="2844360"/>
              <a:ext cx="120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767920" y="3027240"/>
              <a:ext cx="11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628520" y="30272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28520" y="3908160"/>
            <a:ext cx="2680920" cy="477720"/>
            <a:chOff x="4628520" y="3908160"/>
            <a:chExt cx="2680920" cy="477720"/>
          </a:xfrm>
        </p:grpSpPr>
        <p:sp>
          <p:nvSpPr>
            <p:cNvPr id="1353" name=""/>
            <p:cNvSpPr/>
            <p:nvPr/>
          </p:nvSpPr>
          <p:spPr>
            <a:xfrm>
              <a:off x="5773320" y="39574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959160" y="392904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130520" y="3908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587280" y="39589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426360" y="395892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04800" y="39589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68920" y="395892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277600" y="395892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983120" y="395892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28520" y="39211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4253400" y="4705200"/>
            <a:ext cx="17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89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200480" y="5443560"/>
            <a:ext cx="4686480" cy="94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minimum of  897 children must be samp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367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a789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371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3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375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7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378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000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25760" y="2971800"/>
            <a:ext cx="7669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ac5"/>
                </a:solidFill>
                <a:latin typeface="Times New Roman"/>
              </a:rPr>
              <a:t>This completes 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46320" y="219240"/>
            <a:ext cx="7486560" cy="1008360"/>
            <a:chOff x="1246320" y="219240"/>
            <a:chExt cx="7486560" cy="1008360"/>
          </a:xfrm>
        </p:grpSpPr>
        <p:sp>
          <p:nvSpPr>
            <p:cNvPr id="108" name=""/>
            <p:cNvSpPr/>
            <p:nvPr/>
          </p:nvSpPr>
          <p:spPr>
            <a:xfrm>
              <a:off x="1320840" y="330120"/>
              <a:ext cx="590400" cy="82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46320" y="219240"/>
              <a:ext cx="7486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sirable properties of a point estima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627360" y="4329000"/>
            <a:ext cx="1908360" cy="520560"/>
          </a:xfrm>
          <a:prstGeom prst="rect">
            <a:avLst/>
          </a:prstGeom>
          <a:solidFill>
            <a:srgbClr val="6666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nbi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63840" y="1833480"/>
            <a:ext cx="600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values are concentrated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ose to the value of th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31760" y="4954680"/>
            <a:ext cx="7083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6666ff"/>
                </a:solidFill>
                <a:latin typeface="Times New Roman"/>
              </a:rPr>
              <a:t>unbiased</a:t>
            </a: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expected value equals the value of the population parameter being estima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Otherwise, it is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i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8960" y="3352680"/>
            <a:ext cx="56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s are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istributed evenly on                   both sides of the value of the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2160" y="1238400"/>
            <a:ext cx="1577880" cy="5205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63360" y="2724120"/>
            <a:ext cx="18172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85800" y="6276960"/>
            <a:ext cx="7772400" cy="228600"/>
            <a:chOff x="685800" y="6276960"/>
            <a:chExt cx="7772400" cy="228600"/>
          </a:xfrm>
        </p:grpSpPr>
        <p:sp>
          <p:nvSpPr>
            <p:cNvPr id="117" name=""/>
            <p:cNvSpPr/>
            <p:nvPr/>
          </p:nvSpPr>
          <p:spPr>
            <a:xfrm flipV="1">
              <a:off x="685800" y="6330960"/>
              <a:ext cx="7772400" cy="108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496040" y="6276960"/>
              <a:ext cx="34272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28600" y="1190520"/>
            <a:ext cx="6886800" cy="642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101"/>
                </a:solidFill>
                <a:latin typeface="Times New Roman"/>
              </a:rPr>
              <a:t>Standard error of the sample me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9680" y="1847880"/>
            <a:ext cx="82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                                                                           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mpling distribution of the sample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257640"/>
            <a:ext cx="30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compu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10200" y="3348000"/>
            <a:ext cx="11527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r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62240" y="4143240"/>
            <a:ext cx="72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andard error of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ample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153040"/>
            <a:ext cx="71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viation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of the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819760"/>
            <a:ext cx="4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80960" y="5819760"/>
            <a:ext cx="71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size of the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74400" y="114480"/>
            <a:ext cx="2998440" cy="1191240"/>
            <a:chOff x="3074400" y="114480"/>
            <a:chExt cx="2998440" cy="1191240"/>
          </a:xfrm>
        </p:grpSpPr>
        <p:sp>
          <p:nvSpPr>
            <p:cNvPr id="128" name=""/>
            <p:cNvSpPr/>
            <p:nvPr/>
          </p:nvSpPr>
          <p:spPr>
            <a:xfrm>
              <a:off x="3087720" y="322200"/>
              <a:ext cx="723960" cy="82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4400" y="114480"/>
              <a:ext cx="299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811680" y="3098880"/>
            <a:ext cx="2017800" cy="1019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6800" y="3948120"/>
            <a:ext cx="619200" cy="952560"/>
            <a:chOff x="766800" y="3948120"/>
            <a:chExt cx="619200" cy="952560"/>
          </a:xfrm>
        </p:grpSpPr>
        <p:sp>
          <p:nvSpPr>
            <p:cNvPr id="132" name=""/>
            <p:cNvSpPr/>
            <p:nvPr/>
          </p:nvSpPr>
          <p:spPr>
            <a:xfrm>
              <a:off x="766800" y="3948120"/>
              <a:ext cx="44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023840" y="4380120"/>
              <a:ext cx="3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33320" y="5126040"/>
            <a:ext cx="619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2771640"/>
            <a:ext cx="7772400" cy="209520"/>
            <a:chOff x="685800" y="2771640"/>
            <a:chExt cx="7772400" cy="209520"/>
          </a:xfrm>
        </p:grpSpPr>
        <p:sp>
          <p:nvSpPr>
            <p:cNvPr id="136" name=""/>
            <p:cNvSpPr/>
            <p:nvPr/>
          </p:nvSpPr>
          <p:spPr>
            <a:xfrm flipV="1">
              <a:off x="685800" y="282132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496040" y="277164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3852720" y="2973240"/>
            <a:ext cx="1928880" cy="1127160"/>
            <a:chOff x="3852720" y="2973240"/>
            <a:chExt cx="1928880" cy="1127160"/>
          </a:xfrm>
        </p:grpSpPr>
        <p:grpSp>
          <p:nvGrpSpPr>
            <p:cNvPr id="139" name=""/>
            <p:cNvGrpSpPr/>
            <p:nvPr/>
          </p:nvGrpSpPr>
          <p:grpSpPr>
            <a:xfrm>
              <a:off x="5018040" y="3652920"/>
              <a:ext cx="601200" cy="325440"/>
              <a:chOff x="5018040" y="3652920"/>
              <a:chExt cx="601200" cy="32544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5018040" y="3862440"/>
                <a:ext cx="65160" cy="237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83200" y="3870360"/>
                <a:ext cx="93960" cy="1080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189040" y="3652920"/>
                <a:ext cx="124560" cy="325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13960" y="3652920"/>
                <a:ext cx="3052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852720" y="2973240"/>
              <a:ext cx="1928880" cy="1127160"/>
              <a:chOff x="3852720" y="2973240"/>
              <a:chExt cx="1928880" cy="1127160"/>
            </a:xfrm>
          </p:grpSpPr>
          <p:sp>
            <p:nvSpPr>
              <p:cNvPr id="145" name=""/>
              <p:cNvSpPr/>
              <p:nvPr/>
            </p:nvSpPr>
            <p:spPr>
              <a:xfrm>
                <a:off x="5149800" y="3548160"/>
                <a:ext cx="5763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11080" y="3498840"/>
                <a:ext cx="255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46080" y="315756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62400" y="2973240"/>
                <a:ext cx="6192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3852720" y="3147840"/>
                <a:ext cx="619200" cy="952560"/>
                <a:chOff x="3852720" y="3147840"/>
                <a:chExt cx="619200" cy="9525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852720" y="3147840"/>
                  <a:ext cx="447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109760" y="3579840"/>
                  <a:ext cx="362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push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8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75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7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152280"/>
            <a:ext cx="5181480" cy="1143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ndard Error          of the Me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9000" y="1676520"/>
            <a:ext cx="7391520" cy="27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 know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&gt; 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tandard devi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amp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used t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pproximate the population 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221000" y="4354560"/>
            <a:ext cx="2224080" cy="1295280"/>
            <a:chOff x="4221000" y="4354560"/>
            <a:chExt cx="2224080" cy="1295280"/>
          </a:xfrm>
        </p:grpSpPr>
        <p:sp>
          <p:nvSpPr>
            <p:cNvPr id="156" name=""/>
            <p:cNvSpPr/>
            <p:nvPr/>
          </p:nvSpPr>
          <p:spPr>
            <a:xfrm>
              <a:off x="4221000" y="4394160"/>
              <a:ext cx="2224080" cy="12556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18080" y="5029200"/>
              <a:ext cx="81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98920" y="5127480"/>
              <a:ext cx="687600" cy="365040"/>
              <a:chOff x="5398920" y="5127480"/>
              <a:chExt cx="687600" cy="36504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5398920" y="5365080"/>
                <a:ext cx="71640" cy="2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470560" y="5373360"/>
                <a:ext cx="100080" cy="119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584680" y="5127480"/>
                <a:ext cx="141480" cy="36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26160" y="5127480"/>
                <a:ext cx="3603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757480" y="5086440"/>
              <a:ext cx="23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84200" y="4722840"/>
              <a:ext cx="37404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60680" y="4446720"/>
              <a:ext cx="558720" cy="1101240"/>
              <a:chOff x="4360680" y="4446720"/>
              <a:chExt cx="558720" cy="1101240"/>
            </a:xfrm>
          </p:grpSpPr>
          <p:sp>
            <p:nvSpPr>
              <p:cNvPr id="166" name=""/>
              <p:cNvSpPr/>
              <p:nvPr/>
            </p:nvSpPr>
            <p:spPr>
              <a:xfrm>
                <a:off x="4360680" y="4446720"/>
                <a:ext cx="223200" cy="68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5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557600" y="4905000"/>
                <a:ext cx="361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5732280" y="4354560"/>
              <a:ext cx="4032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5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406880" y="47340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d b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93840" y="2876040"/>
            <a:ext cx="8159760" cy="230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ample size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ariability in the populati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estimated by 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sired level of conf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819520" y="476280"/>
            <a:ext cx="3485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Factor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399960" y="1581120"/>
            <a:ext cx="833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determin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dth of a confidence interv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5800" y="5800680"/>
            <a:ext cx="7772400" cy="209520"/>
            <a:chOff x="685800" y="5800680"/>
            <a:chExt cx="7772400" cy="209520"/>
          </a:xfrm>
        </p:grpSpPr>
        <p:sp>
          <p:nvSpPr>
            <p:cNvPr id="174" name=""/>
            <p:cNvSpPr/>
            <p:nvPr/>
          </p:nvSpPr>
          <p:spPr>
            <a:xfrm flipV="1">
              <a:off x="685800" y="5850360"/>
              <a:ext cx="7772400" cy="99360"/>
            </a:xfrm>
            <a:prstGeom prst="rect">
              <a:avLst/>
            </a:prstGeom>
            <a:gradFill rotWithShape="0">
              <a:gsLst>
                <a:gs pos="0">
                  <a:srgbClr val="fc9fcb"/>
                </a:gs>
                <a:gs pos="50000">
                  <a:srgbClr val="f8b049"/>
                </a:gs>
                <a:gs pos="100000">
                  <a:srgbClr val="fc9fc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4496040" y="5800680"/>
              <a:ext cx="342720" cy="209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71480" y="1886040"/>
            <a:ext cx="7601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nfidence interval for a mean is compu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52280"/>
            <a:ext cx="5181480" cy="1143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structing Confidence Interv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99720" y="5810400"/>
            <a:ext cx="241200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pre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660760" y="3681360"/>
            <a:ext cx="3327120" cy="1300320"/>
            <a:chOff x="2660760" y="3681360"/>
            <a:chExt cx="3327120" cy="1300320"/>
          </a:xfrm>
        </p:grpSpPr>
        <p:sp>
          <p:nvSpPr>
            <p:cNvPr id="180" name=""/>
            <p:cNvSpPr/>
            <p:nvPr/>
          </p:nvSpPr>
          <p:spPr>
            <a:xfrm>
              <a:off x="2660760" y="3795840"/>
              <a:ext cx="3327120" cy="1185840"/>
            </a:xfrm>
            <a:prstGeom prst="rect">
              <a:avLst/>
            </a:prstGeom>
            <a:noFill/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973240" y="3681360"/>
              <a:ext cx="2767320" cy="1241280"/>
              <a:chOff x="2973240" y="3681360"/>
              <a:chExt cx="2767320" cy="1241280"/>
            </a:xfrm>
          </p:grpSpPr>
          <p:sp>
            <p:nvSpPr>
              <p:cNvPr id="182" name=""/>
              <p:cNvSpPr/>
              <p:nvPr/>
            </p:nvSpPr>
            <p:spPr>
              <a:xfrm>
                <a:off x="4035600" y="3938760"/>
                <a:ext cx="2476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5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48800" y="4040280"/>
                <a:ext cx="42444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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73240" y="4158000"/>
                <a:ext cx="362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805280" y="3681360"/>
                <a:ext cx="935280" cy="1234800"/>
                <a:chOff x="4805280" y="3681360"/>
                <a:chExt cx="935280" cy="12348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924440" y="4356000"/>
                  <a:ext cx="816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805280" y="4454280"/>
                  <a:ext cx="687600" cy="365040"/>
                  <a:chOff x="4805280" y="4454280"/>
                  <a:chExt cx="687600" cy="365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V="1">
                    <a:off x="4805280" y="4691880"/>
                    <a:ext cx="71640" cy="25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876920" y="4700160"/>
                    <a:ext cx="100080" cy="1191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4991040" y="4454280"/>
                    <a:ext cx="141480" cy="365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132520" y="4454280"/>
                    <a:ext cx="360360" cy="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5163840" y="4413240"/>
                  <a:ext cx="23400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3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138640" y="3681360"/>
                  <a:ext cx="40320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5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endParaRPr b="0" lang="en-US" sz="4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4193640" y="4314960"/>
                <a:ext cx="64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α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/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Colleen Quinn &amp; Ron Thornbury</dc:creator>
  <dc:description/>
  <dc:language>en-US</dc:language>
  <cp:lastModifiedBy>jeff_skinner</cp:lastModifiedBy>
  <dcterms:modified xsi:type="dcterms:W3CDTF">2003-04-28T14:07:55Z</dcterms:modified>
  <cp:revision>280</cp:revision>
  <dc:subject/>
  <dc:title>No Slide Title</dc:title>
</cp:coreProperties>
</file>