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.jpeg" ContentType="image/jpeg"/>
  <Override PartName="/ppt/media/image23.jpeg" ContentType="image/jpeg"/>
  <Override PartName="/ppt/media/image28.jpeg" ContentType="image/jpeg"/>
  <Override PartName="/ppt/media/image3.jpeg" ContentType="image/jpeg"/>
  <Override PartName="/ppt/media/image15.png" ContentType="image/png"/>
  <Override PartName="/ppt/media/image25.jpeg" ContentType="image/jpeg"/>
  <Override PartName="/ppt/media/image22.png" ContentType="image/png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B745-3493-46DF-93F7-064B5FEF0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6028-3812-46C3-906F-71877AFEF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DC8A-0D08-4257-BBA9-4EA5A1A36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2240-5766-4D96-B7A7-1AAA985F39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E997-00B8-4F2E-85A6-298072A21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5374-112C-4B29-8E82-A1C64A0D5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EF6CC-75C1-4801-A638-1F3C2FE70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C911-7D4D-4A5C-B873-C0E54E8FB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2EF6-BFD8-407E-90CF-B8CC2433F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EF41-096C-4B4D-8053-E1DEF6353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73C6-3623-4215-B507-CA2FEF4D2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BDE1-949C-4B5C-8462-B218B7A28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B8CEAE0D-6D41-49E0-ADDF-EB0FB0A7937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000000"/>
              </a:outerShdw>
            </a:effectLst>
          </p:spPr>
        </p:pic>
        <p:sp>
          <p:nvSpPr>
            <p:cNvPr id="3" name=""/>
            <p:cNvSpPr txBox="1"/>
            <p:nvPr/>
          </p:nvSpPr>
          <p:spPr>
            <a:xfrm>
              <a:off x="457200" y="25560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76320" y="6613560"/>
            <a:ext cx="480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McGraw-Hill Ryerson Limite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24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3.pn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ind%20Cover%20Huge" descr=""/>
          <p:cNvPicPr/>
          <p:nvPr/>
        </p:nvPicPr>
        <p:blipFill>
          <a:blip r:embed="rId1"/>
          <a:stretch/>
        </p:blipFill>
        <p:spPr>
          <a:xfrm>
            <a:off x="2286000" y="55872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97240" y="5522760"/>
            <a:ext cx="4390920" cy="7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10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00200" y="2662200"/>
            <a:ext cx="5962680" cy="15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99ff">
                      <a:alpha val="50000"/>
                    </a:srgbClr>
                  </a:outerShdw>
                </a:effectLst>
                <a:latin typeface="AmerType Md BT"/>
              </a:rPr>
              <a:t>Hypothesis Test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99ff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07CD-0087-43FF-95C0-A3D67C1413B7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068640" y="247680"/>
            <a:ext cx="3003840" cy="1298160"/>
            <a:chOff x="3068640" y="247680"/>
            <a:chExt cx="3003840" cy="1298160"/>
          </a:xfrm>
        </p:grpSpPr>
        <p:sp>
          <p:nvSpPr>
            <p:cNvPr id="172" name=""/>
            <p:cNvSpPr/>
            <p:nvPr/>
          </p:nvSpPr>
          <p:spPr>
            <a:xfrm>
              <a:off x="3068640" y="354600"/>
              <a:ext cx="761760" cy="119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4040" y="2476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981080" y="19051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Level of Signific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514600"/>
            <a:ext cx="80010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probability of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jecting the n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en it is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actually tr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i.e.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Type I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80960" y="3714840"/>
            <a:ext cx="6400440" cy="228600"/>
            <a:chOff x="1380960" y="3714840"/>
            <a:chExt cx="6400440" cy="228600"/>
          </a:xfrm>
        </p:grpSpPr>
        <p:sp>
          <p:nvSpPr>
            <p:cNvPr id="177" name=""/>
            <p:cNvSpPr/>
            <p:nvPr/>
          </p:nvSpPr>
          <p:spPr>
            <a:xfrm flipV="1">
              <a:off x="1380960" y="3768120"/>
              <a:ext cx="640044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4474440" y="371484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762120" y="4665600"/>
            <a:ext cx="7467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ccepting the null 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en it is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actually fal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47800" y="39909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Type II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71600" y="5772240"/>
            <a:ext cx="6400440" cy="228600"/>
            <a:chOff x="1371600" y="5772240"/>
            <a:chExt cx="6400440" cy="228600"/>
          </a:xfrm>
        </p:grpSpPr>
        <p:sp>
          <p:nvSpPr>
            <p:cNvPr id="182" name=""/>
            <p:cNvSpPr/>
            <p:nvPr/>
          </p:nvSpPr>
          <p:spPr>
            <a:xfrm flipV="1">
              <a:off x="1371600" y="5825520"/>
              <a:ext cx="6400440" cy="10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4465080" y="577224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645B-037C-4EDF-956C-A6E0F53F5E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000"/>
                            </p:stCondLst>
                            <p:childTnLst>
                              <p:par>
                                <p:cTn id="3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675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68640" y="152280"/>
            <a:ext cx="3003840" cy="1298160"/>
            <a:chOff x="3068640" y="152280"/>
            <a:chExt cx="3003840" cy="1298160"/>
          </a:xfrm>
        </p:grpSpPr>
        <p:sp>
          <p:nvSpPr>
            <p:cNvPr id="185" name=""/>
            <p:cNvSpPr/>
            <p:nvPr/>
          </p:nvSpPr>
          <p:spPr>
            <a:xfrm>
              <a:off x="3068640" y="259200"/>
              <a:ext cx="761760" cy="119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74040" y="1522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057400" y="1752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Test Stati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2440" y="2362320"/>
            <a:ext cx="841068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determine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rom sample inform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used to deter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ther or n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rej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ull 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38545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Critic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532400"/>
            <a:ext cx="80010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dividing 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tween                                      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gion wher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null hypothesis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is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rej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and the                                                       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region where it i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t rejecte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3676680"/>
            <a:ext cx="6324120" cy="228600"/>
            <a:chOff x="1371600" y="3676680"/>
            <a:chExt cx="6324120" cy="228600"/>
          </a:xfrm>
        </p:grpSpPr>
        <p:sp>
          <p:nvSpPr>
            <p:cNvPr id="192" name=""/>
            <p:cNvSpPr/>
            <p:nvPr/>
          </p:nvSpPr>
          <p:spPr>
            <a:xfrm flipV="1">
              <a:off x="1371600" y="3729960"/>
              <a:ext cx="632412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4428000" y="3676680"/>
              <a:ext cx="4590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1371600" y="6010200"/>
            <a:ext cx="6324120" cy="228600"/>
            <a:chOff x="1371600" y="6010200"/>
            <a:chExt cx="6324120" cy="228600"/>
          </a:xfrm>
        </p:grpSpPr>
        <p:sp>
          <p:nvSpPr>
            <p:cNvPr id="195" name=""/>
            <p:cNvSpPr/>
            <p:nvPr/>
          </p:nvSpPr>
          <p:spPr>
            <a:xfrm flipV="1">
              <a:off x="1371600" y="6063840"/>
              <a:ext cx="6324120" cy="10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4428000" y="6010200"/>
              <a:ext cx="4590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8FF7-8922-4A95-B49E-023540CB08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125"/>
                            </p:stCondLst>
                            <p:childTnLst>
                              <p:par>
                                <p:cTn id="4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500"/>
                            </p:stCondLst>
                            <p:childTnLst>
                              <p:par>
                                <p:cTn id="4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71880" y="5114880"/>
            <a:ext cx="4800600" cy="7034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86080" y="1526760"/>
            <a:ext cx="4838400" cy="1362600"/>
            <a:chOff x="1486080" y="1526760"/>
            <a:chExt cx="4838400" cy="1362600"/>
          </a:xfrm>
        </p:grpSpPr>
        <p:sp>
          <p:nvSpPr>
            <p:cNvPr id="199" name=""/>
            <p:cNvSpPr txBox="1"/>
            <p:nvPr/>
          </p:nvSpPr>
          <p:spPr>
            <a:xfrm>
              <a:off x="1486080" y="1565280"/>
              <a:ext cx="2663640" cy="132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Impact"/>
                </a:rPr>
                <a:t>One-Tai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183200" y="1526760"/>
              <a:ext cx="2141280" cy="1275120"/>
              <a:chOff x="4183200" y="1526760"/>
              <a:chExt cx="2141280" cy="1275120"/>
            </a:xfrm>
          </p:grpSpPr>
          <p:sp>
            <p:nvSpPr>
              <p:cNvPr id="201" name=""/>
              <p:cNvSpPr/>
              <p:nvPr/>
            </p:nvSpPr>
            <p:spPr>
              <a:xfrm>
                <a:off x="5605560" y="2260440"/>
                <a:ext cx="17280" cy="540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68960" y="1541520"/>
                <a:ext cx="3240" cy="124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71920" y="1526760"/>
                <a:ext cx="1562040" cy="1260360"/>
                <a:chOff x="4471920" y="1526760"/>
                <a:chExt cx="1562040" cy="1260360"/>
              </a:xfrm>
            </p:grpSpPr>
            <p:sp>
              <p:nvSpPr>
                <p:cNvPr id="204" name=""/>
                <p:cNvSpPr/>
                <p:nvPr/>
              </p:nvSpPr>
              <p:spPr>
                <a:xfrm flipV="1">
                  <a:off x="4471920" y="2779200"/>
                  <a:ext cx="28440" cy="7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500360" y="2764440"/>
                  <a:ext cx="29160" cy="1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4529520" y="2756520"/>
                  <a:ext cx="21600" cy="7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551480" y="2741760"/>
                  <a:ext cx="29160" cy="1476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19"/>
                      </a:moveTo>
                      <a:lnTo>
                        <a:pt x="1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4580640" y="2718720"/>
                  <a:ext cx="21600" cy="22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602600" y="2696400"/>
                  <a:ext cx="28440" cy="2268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29"/>
                      </a:moveTo>
                      <a:lnTo>
                        <a:pt x="1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4631040" y="2673000"/>
                  <a:ext cx="22320" cy="22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4653360" y="2642400"/>
                  <a:ext cx="28440" cy="30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4682160" y="2613240"/>
                  <a:ext cx="2916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711320" y="2574720"/>
                  <a:ext cx="21600" cy="38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3280" y="2529000"/>
                  <a:ext cx="29160" cy="4536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5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4762440" y="2483640"/>
                  <a:ext cx="21600" cy="45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84400" y="2430000"/>
                  <a:ext cx="28440" cy="5328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68"/>
                      </a:moveTo>
                      <a:lnTo>
                        <a:pt x="19" y="39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4812840" y="2369160"/>
                  <a:ext cx="21600" cy="60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4834440" y="2309040"/>
                  <a:ext cx="29160" cy="60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4863960" y="2247840"/>
                  <a:ext cx="29160" cy="61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4893120" y="2179440"/>
                  <a:ext cx="2160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15080" y="2104200"/>
                  <a:ext cx="29160" cy="7524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96"/>
                      </a:moveTo>
                      <a:lnTo>
                        <a:pt x="19" y="48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>
                  <a:off x="4944240" y="2035440"/>
                  <a:ext cx="2160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66200" y="1967400"/>
                  <a:ext cx="28440" cy="6804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87"/>
                      </a:moveTo>
                      <a:lnTo>
                        <a:pt x="19" y="38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4994640" y="1898640"/>
                  <a:ext cx="2160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5016240" y="1830600"/>
                  <a:ext cx="2916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045400" y="1769760"/>
                  <a:ext cx="29160" cy="61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5074920" y="1709280"/>
                  <a:ext cx="21600" cy="60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96520" y="1655640"/>
                  <a:ext cx="29160" cy="5328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6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126040" y="1610280"/>
                  <a:ext cx="21600" cy="4536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58"/>
                      </a:moveTo>
                      <a:lnTo>
                        <a:pt x="9" y="2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7640" y="1579680"/>
                  <a:ext cx="28440" cy="3060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9"/>
                      </a:moveTo>
                      <a:lnTo>
                        <a:pt x="19" y="2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176440" y="1549800"/>
                  <a:ext cx="21600" cy="2988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38"/>
                      </a:moveTo>
                      <a:lnTo>
                        <a:pt x="10" y="1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5198040" y="1533600"/>
                  <a:ext cx="29160" cy="15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5227200" y="1526760"/>
                  <a:ext cx="2916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256720" y="1527120"/>
                  <a:ext cx="2160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278320" y="1533960"/>
                  <a:ext cx="29160" cy="1548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9" y="2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307840" y="1549800"/>
                  <a:ext cx="21600" cy="2988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9" y="3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329440" y="1579680"/>
                  <a:ext cx="28440" cy="3060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0"/>
                      </a:moveTo>
                      <a:lnTo>
                        <a:pt x="19" y="20"/>
                      </a:lnTo>
                      <a:lnTo>
                        <a:pt x="38" y="3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358240" y="1610280"/>
                  <a:ext cx="21600" cy="4536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0"/>
                      </a:moveTo>
                      <a:lnTo>
                        <a:pt x="10" y="29"/>
                      </a:lnTo>
                      <a:lnTo>
                        <a:pt x="2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379840" y="1655640"/>
                  <a:ext cx="29160" cy="5328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409360" y="1709280"/>
                  <a:ext cx="21600" cy="60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430960" y="1769760"/>
                  <a:ext cx="29160" cy="61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460120" y="1830960"/>
                  <a:ext cx="2916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489280" y="1899000"/>
                  <a:ext cx="2160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511240" y="1967400"/>
                  <a:ext cx="28440" cy="6804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0"/>
                      </a:moveTo>
                      <a:lnTo>
                        <a:pt x="19" y="38"/>
                      </a:lnTo>
                      <a:lnTo>
                        <a:pt x="38" y="87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539680" y="2035800"/>
                  <a:ext cx="2160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61640" y="2104200"/>
                  <a:ext cx="29160" cy="7524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0"/>
                      </a:moveTo>
                      <a:lnTo>
                        <a:pt x="20" y="48"/>
                      </a:lnTo>
                      <a:lnTo>
                        <a:pt x="39" y="96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90800" y="2179800"/>
                  <a:ext cx="21600" cy="68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612760" y="2247840"/>
                  <a:ext cx="29160" cy="61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641920" y="2309040"/>
                  <a:ext cx="29160" cy="60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671440" y="2369520"/>
                  <a:ext cx="21600" cy="60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693040" y="2430000"/>
                  <a:ext cx="28440" cy="5328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0"/>
                      </a:moveTo>
                      <a:lnTo>
                        <a:pt x="19" y="39"/>
                      </a:lnTo>
                      <a:lnTo>
                        <a:pt x="38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721480" y="2483640"/>
                  <a:ext cx="21600" cy="45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43440" y="2529000"/>
                  <a:ext cx="29160" cy="4536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772600" y="2574720"/>
                  <a:ext cx="21600" cy="38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794560" y="2613240"/>
                  <a:ext cx="2916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823720" y="2642760"/>
                  <a:ext cx="28440" cy="30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852160" y="2673360"/>
                  <a:ext cx="22320" cy="22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874840" y="2696400"/>
                  <a:ext cx="28440" cy="2268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8" y="2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3280" y="2719080"/>
                  <a:ext cx="21600" cy="22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25240" y="2741760"/>
                  <a:ext cx="29160" cy="1476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954400" y="2756880"/>
                  <a:ext cx="21600" cy="7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76360" y="2764800"/>
                  <a:ext cx="29160" cy="1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05520" y="2779560"/>
                  <a:ext cx="28440" cy="7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4183200" y="2795760"/>
                <a:ext cx="2141280" cy="6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/>
          <p:cNvSpPr txBox="1"/>
          <p:nvPr/>
        </p:nvSpPr>
        <p:spPr>
          <a:xfrm rot="21002400">
            <a:off x="2579760" y="1933200"/>
            <a:ext cx="2633760" cy="15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Tahoma"/>
              </a:rPr>
              <a:t>Vs.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00400" y="2924280"/>
            <a:ext cx="4933800" cy="1346040"/>
            <a:chOff x="3200400" y="2924280"/>
            <a:chExt cx="4933800" cy="1346040"/>
          </a:xfrm>
        </p:grpSpPr>
        <p:sp>
          <p:nvSpPr>
            <p:cNvPr id="267" name=""/>
            <p:cNvSpPr txBox="1"/>
            <p:nvPr/>
          </p:nvSpPr>
          <p:spPr>
            <a:xfrm>
              <a:off x="3200400" y="2924280"/>
              <a:ext cx="2871720" cy="134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Impact"/>
                </a:rPr>
                <a:t>Two-Tai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183360" y="3079800"/>
              <a:ext cx="1950840" cy="1176120"/>
              <a:chOff x="6183360" y="3079800"/>
              <a:chExt cx="1950840" cy="1176120"/>
            </a:xfrm>
          </p:grpSpPr>
          <p:sp>
            <p:nvSpPr>
              <p:cNvPr id="269" name=""/>
              <p:cNvSpPr/>
              <p:nvPr/>
            </p:nvSpPr>
            <p:spPr>
              <a:xfrm>
                <a:off x="7478640" y="3751200"/>
                <a:ext cx="17640" cy="4953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21640" y="3760920"/>
                <a:ext cx="17280" cy="4950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72280" y="3092400"/>
                <a:ext cx="3240" cy="113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6446880" y="3079800"/>
                <a:ext cx="1422000" cy="1155240"/>
                <a:chOff x="6446880" y="3079800"/>
                <a:chExt cx="1422000" cy="1155240"/>
              </a:xfrm>
            </p:grpSpPr>
            <p:sp>
              <p:nvSpPr>
                <p:cNvPr id="273" name=""/>
                <p:cNvSpPr/>
                <p:nvPr/>
              </p:nvSpPr>
              <p:spPr>
                <a:xfrm flipV="1">
                  <a:off x="6446880" y="4227840"/>
                  <a:ext cx="2592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6472800" y="4214520"/>
                  <a:ext cx="26640" cy="13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6499440" y="4206960"/>
                  <a:ext cx="1980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519240" y="4193640"/>
                  <a:ext cx="26640" cy="1368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19"/>
                      </a:moveTo>
                      <a:lnTo>
                        <a:pt x="1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545880" y="4172760"/>
                  <a:ext cx="19800" cy="20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565680" y="4151880"/>
                  <a:ext cx="25560" cy="2088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29"/>
                      </a:moveTo>
                      <a:lnTo>
                        <a:pt x="1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6591600" y="4131000"/>
                  <a:ext cx="20160" cy="20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6612120" y="4102920"/>
                  <a:ext cx="25920" cy="28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6638400" y="4075200"/>
                  <a:ext cx="26640" cy="270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6665040" y="4039920"/>
                  <a:ext cx="19800" cy="34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684840" y="3998520"/>
                  <a:ext cx="26640" cy="4176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5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6711480" y="3956760"/>
                  <a:ext cx="19800" cy="41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731280" y="3907800"/>
                  <a:ext cx="25560" cy="4896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68"/>
                      </a:moveTo>
                      <a:lnTo>
                        <a:pt x="19" y="39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6757200" y="3852000"/>
                  <a:ext cx="19800" cy="55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777000" y="3796920"/>
                  <a:ext cx="26640" cy="55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803640" y="3740760"/>
                  <a:ext cx="26640" cy="56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6830280" y="3677760"/>
                  <a:ext cx="19800" cy="6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850440" y="3609000"/>
                  <a:ext cx="26640" cy="6912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96"/>
                      </a:moveTo>
                      <a:lnTo>
                        <a:pt x="19" y="48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6877080" y="3546000"/>
                  <a:ext cx="19800" cy="6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896880" y="3483720"/>
                  <a:ext cx="25560" cy="6264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87"/>
                      </a:moveTo>
                      <a:lnTo>
                        <a:pt x="19" y="38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6922800" y="3421080"/>
                  <a:ext cx="19800" cy="62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6942600" y="3358080"/>
                  <a:ext cx="26640" cy="6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6969240" y="3302280"/>
                  <a:ext cx="26640" cy="56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6995880" y="3246840"/>
                  <a:ext cx="19800" cy="55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015680" y="3197520"/>
                  <a:ext cx="26640" cy="4896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6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042320" y="3156120"/>
                  <a:ext cx="19800" cy="4140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58"/>
                      </a:moveTo>
                      <a:lnTo>
                        <a:pt x="9" y="2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062120" y="312804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9"/>
                      </a:moveTo>
                      <a:lnTo>
                        <a:pt x="19" y="2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088400" y="3100680"/>
                  <a:ext cx="19440" cy="2736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38"/>
                      </a:moveTo>
                      <a:lnTo>
                        <a:pt x="10" y="1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7108200" y="3085920"/>
                  <a:ext cx="26640" cy="14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7134840" y="3079800"/>
                  <a:ext cx="26640" cy="6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161480" y="3079800"/>
                  <a:ext cx="19800" cy="6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181280" y="3086280"/>
                  <a:ext cx="26640" cy="1404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9" y="2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207920" y="3100680"/>
                  <a:ext cx="19800" cy="2736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9" y="3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27720" y="3128040"/>
                  <a:ext cx="25920" cy="2808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0"/>
                      </a:moveTo>
                      <a:lnTo>
                        <a:pt x="19" y="20"/>
                      </a:lnTo>
                      <a:lnTo>
                        <a:pt x="38" y="3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254000" y="3156120"/>
                  <a:ext cx="19800" cy="4140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0"/>
                      </a:moveTo>
                      <a:lnTo>
                        <a:pt x="10" y="29"/>
                      </a:lnTo>
                      <a:lnTo>
                        <a:pt x="2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273800" y="3197520"/>
                  <a:ext cx="26640" cy="4896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300440" y="3246840"/>
                  <a:ext cx="19440" cy="55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20240" y="3302280"/>
                  <a:ext cx="26640" cy="56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346880" y="3358440"/>
                  <a:ext cx="26640" cy="6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373520" y="3421080"/>
                  <a:ext cx="19800" cy="62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393320" y="3483720"/>
                  <a:ext cx="25920" cy="6264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0"/>
                      </a:moveTo>
                      <a:lnTo>
                        <a:pt x="19" y="38"/>
                      </a:lnTo>
                      <a:lnTo>
                        <a:pt x="38" y="87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419240" y="3546360"/>
                  <a:ext cx="19800" cy="6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439040" y="3609000"/>
                  <a:ext cx="26640" cy="6912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0"/>
                      </a:moveTo>
                      <a:lnTo>
                        <a:pt x="20" y="48"/>
                      </a:lnTo>
                      <a:lnTo>
                        <a:pt x="39" y="96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465680" y="3678120"/>
                  <a:ext cx="19800" cy="6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85840" y="3740760"/>
                  <a:ext cx="26640" cy="56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512480" y="3796920"/>
                  <a:ext cx="26640" cy="55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539120" y="3852360"/>
                  <a:ext cx="19440" cy="55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558920" y="3907800"/>
                  <a:ext cx="25920" cy="4896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0"/>
                      </a:moveTo>
                      <a:lnTo>
                        <a:pt x="19" y="39"/>
                      </a:lnTo>
                      <a:lnTo>
                        <a:pt x="38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584840" y="3956760"/>
                  <a:ext cx="19800" cy="41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604640" y="3998520"/>
                  <a:ext cx="26640" cy="4176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631280" y="4040280"/>
                  <a:ext cx="19800" cy="34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651080" y="4075560"/>
                  <a:ext cx="26640" cy="270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677720" y="4102920"/>
                  <a:ext cx="25560" cy="28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703640" y="4131000"/>
                  <a:ext cx="20520" cy="20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724520" y="4151880"/>
                  <a:ext cx="25560" cy="2088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8" y="2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750440" y="4172760"/>
                  <a:ext cx="19800" cy="20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770240" y="4193640"/>
                  <a:ext cx="26640" cy="1368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96880" y="4207320"/>
                  <a:ext cx="1980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816680" y="4214520"/>
                  <a:ext cx="26640" cy="13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843320" y="4228200"/>
                  <a:ext cx="2556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6183360" y="4241880"/>
                <a:ext cx="1950840" cy="6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C0D2-B8A6-4A70-AEB7-7BEF9B4406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623880" y="1028520"/>
            <a:ext cx="7894440" cy="5321160"/>
            <a:chOff x="623880" y="1028520"/>
            <a:chExt cx="7894440" cy="5321160"/>
          </a:xfrm>
        </p:grpSpPr>
        <p:sp>
          <p:nvSpPr>
            <p:cNvPr id="335" name=""/>
            <p:cNvSpPr/>
            <p:nvPr/>
          </p:nvSpPr>
          <p:spPr>
            <a:xfrm>
              <a:off x="664560" y="1028880"/>
              <a:ext cx="7824600" cy="530460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3880" y="5951880"/>
              <a:ext cx="7838280" cy="171720"/>
            </a:xfrm>
            <a:custGeom>
              <a:avLst/>
              <a:gdLst/>
              <a:ahLst/>
              <a:rect l="l" t="t" r="r" b="b"/>
              <a:pathLst>
                <a:path w="4604" h="91">
                  <a:moveTo>
                    <a:pt x="4604" y="91"/>
                  </a:moveTo>
                  <a:lnTo>
                    <a:pt x="4408" y="0"/>
                  </a:lnTo>
                  <a:lnTo>
                    <a:pt x="204" y="0"/>
                  </a:lnTo>
                  <a:lnTo>
                    <a:pt x="157" y="27"/>
                  </a:lnTo>
                  <a:lnTo>
                    <a:pt x="0" y="91"/>
                  </a:lnTo>
                  <a:lnTo>
                    <a:pt x="460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1000" y="6073920"/>
              <a:ext cx="731736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3880" y="6141600"/>
              <a:ext cx="7892640" cy="1918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3880" y="6333480"/>
              <a:ext cx="7879320" cy="16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7200" y="6141600"/>
              <a:ext cx="7879320" cy="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560" y="1028880"/>
              <a:ext cx="7824600" cy="1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0880" y="1028880"/>
              <a:ext cx="13680" cy="5304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75840" y="1048320"/>
              <a:ext cx="13320" cy="530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981920" y="1028880"/>
              <a:ext cx="507240" cy="3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82280" y="5915880"/>
              <a:ext cx="520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64560" y="5915880"/>
              <a:ext cx="520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690120" y="1028520"/>
              <a:ext cx="46800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91000" y="1220760"/>
              <a:ext cx="7317360" cy="4852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4680" y="1220760"/>
              <a:ext cx="731700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91000" y="1220760"/>
              <a:ext cx="13680" cy="4852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08360" y="1238400"/>
              <a:ext cx="13320" cy="483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3880" y="6141600"/>
              <a:ext cx="13320" cy="19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520" y="6159600"/>
              <a:ext cx="1800" cy="19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687440" y="6107760"/>
              <a:ext cx="267120" cy="1440"/>
            </a:xfrm>
            <a:prstGeom prst="line">
              <a:avLst/>
            </a:prstGeom>
            <a:ln w="12600">
              <a:solidFill>
                <a:srgbClr val="ffff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92760" y="5986080"/>
              <a:ext cx="668880" cy="12168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92760" y="5986080"/>
              <a:ext cx="668880" cy="12168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lnTo>
                    <a:pt x="393" y="64"/>
                  </a:lnTo>
                  <a:lnTo>
                    <a:pt x="393" y="64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92760" y="5915880"/>
              <a:ext cx="655560" cy="121680"/>
            </a:xfrm>
            <a:prstGeom prst="rect">
              <a:avLst/>
            </a:prstGeom>
            <a:solidFill>
              <a:srgbClr val="c2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06440" y="5915880"/>
              <a:ext cx="64188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92760" y="5915880"/>
              <a:ext cx="13320" cy="1033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8320" y="5915880"/>
              <a:ext cx="1440" cy="1216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2760" y="6037920"/>
              <a:ext cx="65556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4362840" y="4915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78600" y="4905360"/>
            <a:ext cx="186984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 baseline="-18000">
                <a:solidFill>
                  <a:srgbClr val="00ff99"/>
                </a:solidFill>
                <a:latin typeface="Arial"/>
              </a:rPr>
              <a:t>Critical z </a:t>
            </a:r>
            <a:r>
              <a:rPr b="1" lang="en-US" sz="3600" spc="-1" strike="noStrike" baseline="-40000">
                <a:solidFill>
                  <a:srgbClr val="ccccff"/>
                </a:solidFill>
                <a:latin typeface="MT Symbol"/>
                <a:ea typeface="MT 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882760" y="3997440"/>
            <a:ext cx="623880" cy="38412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43560" y="1819440"/>
            <a:ext cx="9360" cy="304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24680" y="2786040"/>
            <a:ext cx="19555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jection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00080" y="3030480"/>
            <a:ext cx="2401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=   acceptanc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86000" y="4340160"/>
            <a:ext cx="2243160" cy="158760"/>
          </a:xfrm>
          <a:prstGeom prst="leftArrow">
            <a:avLst>
              <a:gd name="adj1" fmla="val 50000"/>
              <a:gd name="adj2" fmla="val 35323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448240" y="3662280"/>
            <a:ext cx="888480" cy="1255680"/>
            <a:chOff x="5448240" y="3662280"/>
            <a:chExt cx="888480" cy="1255680"/>
          </a:xfrm>
        </p:grpSpPr>
        <p:sp>
          <p:nvSpPr>
            <p:cNvPr id="370" name=""/>
            <p:cNvSpPr/>
            <p:nvPr/>
          </p:nvSpPr>
          <p:spPr>
            <a:xfrm>
              <a:off x="5448240" y="366228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135480" y="474012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6480" y="389556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26720" y="381636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75600" y="369540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32560" y="407196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83680" y="412092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46320" y="424476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53960" y="438444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55760" y="443520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08240" y="436536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91120" y="456228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18760" y="448596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89760" y="467676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18840" y="462600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07840" y="476856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235560" y="485748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508120" y="1784520"/>
            <a:ext cx="3987720" cy="3090240"/>
            <a:chOff x="2508120" y="1784520"/>
            <a:chExt cx="3987720" cy="3090240"/>
          </a:xfrm>
        </p:grpSpPr>
        <p:sp>
          <p:nvSpPr>
            <p:cNvPr id="388" name=""/>
            <p:cNvSpPr/>
            <p:nvPr/>
          </p:nvSpPr>
          <p:spPr>
            <a:xfrm flipV="1">
              <a:off x="2508120" y="4855320"/>
              <a:ext cx="7272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580840" y="481860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655720" y="479952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11520" y="476316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786040" y="470700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1840" y="465120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914560" y="4595040"/>
              <a:ext cx="572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971800" y="4520160"/>
              <a:ext cx="7272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044880" y="444744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119760" y="4352760"/>
              <a:ext cx="55440" cy="93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75200" y="424116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250080" y="412956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05880" y="3998520"/>
              <a:ext cx="7236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378240" y="3850200"/>
              <a:ext cx="5544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434040" y="370188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508920" y="35514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583800" y="33847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39240" y="319932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714120" y="30322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9560" y="2864520"/>
              <a:ext cx="7236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842280" y="269640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898080" y="25297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972960" y="237924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4047480" y="2230920"/>
              <a:ext cx="5544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03280" y="209988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78160" y="19886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33600" y="19137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06680" y="1840320"/>
              <a:ext cx="5508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361760" y="1801800"/>
              <a:ext cx="74520" cy="38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436640" y="1784520"/>
              <a:ext cx="7452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11520" y="1784520"/>
              <a:ext cx="5544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67320" y="1801800"/>
              <a:ext cx="7452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41840" y="1840320"/>
              <a:ext cx="554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97640" y="19137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70720" y="19886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26160" y="209988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01040" y="2230920"/>
              <a:ext cx="5508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56480" y="23796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31000" y="25297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05880" y="269676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61680" y="2864520"/>
              <a:ext cx="727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34760" y="30322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90200" y="319932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65080" y="33847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20520" y="355176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5400" y="370188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0280" y="3850560"/>
              <a:ext cx="5508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25360" y="3998520"/>
              <a:ext cx="727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98440" y="412956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54240" y="424116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29120" y="4353120"/>
              <a:ext cx="55440" cy="93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84560" y="444744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59440" y="4520160"/>
              <a:ext cx="7236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32160" y="4595400"/>
              <a:ext cx="5760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89760" y="465120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62480" y="470736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18280" y="476316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92800" y="479988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48600" y="481896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23480" y="4855680"/>
              <a:ext cx="7236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771560" y="4889520"/>
            <a:ext cx="5467320" cy="1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00720" y="3581280"/>
            <a:ext cx="47520" cy="1324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486240" y="380880"/>
            <a:ext cx="213336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One-T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A0809-2F23-4FE9-ADC9-71216A4F59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585720" y="1028520"/>
            <a:ext cx="7894440" cy="5321160"/>
            <a:chOff x="585720" y="1028520"/>
            <a:chExt cx="7894440" cy="5321160"/>
          </a:xfrm>
        </p:grpSpPr>
        <p:sp>
          <p:nvSpPr>
            <p:cNvPr id="452" name=""/>
            <p:cNvSpPr/>
            <p:nvPr/>
          </p:nvSpPr>
          <p:spPr>
            <a:xfrm>
              <a:off x="626400" y="1028880"/>
              <a:ext cx="7824600" cy="530460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5720" y="5951880"/>
              <a:ext cx="7838280" cy="171720"/>
            </a:xfrm>
            <a:custGeom>
              <a:avLst/>
              <a:gdLst/>
              <a:ahLst/>
              <a:rect l="l" t="t" r="r" b="b"/>
              <a:pathLst>
                <a:path w="4604" h="91">
                  <a:moveTo>
                    <a:pt x="4604" y="91"/>
                  </a:moveTo>
                  <a:lnTo>
                    <a:pt x="4408" y="0"/>
                  </a:lnTo>
                  <a:lnTo>
                    <a:pt x="204" y="0"/>
                  </a:lnTo>
                  <a:lnTo>
                    <a:pt x="157" y="27"/>
                  </a:lnTo>
                  <a:lnTo>
                    <a:pt x="0" y="91"/>
                  </a:lnTo>
                  <a:lnTo>
                    <a:pt x="460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52840" y="6073920"/>
              <a:ext cx="731736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720" y="6141600"/>
              <a:ext cx="7892640" cy="1918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5720" y="6333480"/>
              <a:ext cx="7879320" cy="16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9040" y="6141600"/>
              <a:ext cx="7879320" cy="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6400" y="1028880"/>
              <a:ext cx="7824600" cy="1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2720" y="1028880"/>
              <a:ext cx="13680" cy="5304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37680" y="1048320"/>
              <a:ext cx="13320" cy="530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943760" y="1028880"/>
              <a:ext cx="507240" cy="3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4120" y="5915880"/>
              <a:ext cx="520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26400" y="5915880"/>
              <a:ext cx="520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651960" y="1028520"/>
              <a:ext cx="46800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52840" y="1220760"/>
              <a:ext cx="7317360" cy="4852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6520" y="1220760"/>
              <a:ext cx="731700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2840" y="1220760"/>
              <a:ext cx="13680" cy="4852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70200" y="1238400"/>
              <a:ext cx="13320" cy="483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5720" y="6141600"/>
              <a:ext cx="13320" cy="19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78360" y="6159600"/>
              <a:ext cx="1800" cy="19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7649280" y="6107760"/>
              <a:ext cx="267120" cy="1440"/>
            </a:xfrm>
            <a:prstGeom prst="line">
              <a:avLst/>
            </a:prstGeom>
            <a:ln w="12600">
              <a:solidFill>
                <a:srgbClr val="ffff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54600" y="5986080"/>
              <a:ext cx="668880" cy="12168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54600" y="5986080"/>
              <a:ext cx="668880" cy="12168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lnTo>
                    <a:pt x="393" y="64"/>
                  </a:lnTo>
                  <a:lnTo>
                    <a:pt x="393" y="64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254600" y="5915880"/>
              <a:ext cx="655560" cy="121680"/>
            </a:xfrm>
            <a:prstGeom prst="rect">
              <a:avLst/>
            </a:prstGeom>
            <a:solidFill>
              <a:srgbClr val="c2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68280" y="5915880"/>
              <a:ext cx="64188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54600" y="5915880"/>
              <a:ext cx="13320" cy="1033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0160" y="5915880"/>
              <a:ext cx="1440" cy="1216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54600" y="6037920"/>
              <a:ext cx="65556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381560" y="4896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901840" y="3387600"/>
            <a:ext cx="490680" cy="9939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62640" y="1819440"/>
            <a:ext cx="9360" cy="304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67480" y="1986120"/>
            <a:ext cx="19555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jection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19160" y="2840040"/>
            <a:ext cx="2401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=   acceptanc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67320" y="3662280"/>
            <a:ext cx="888480" cy="1255680"/>
            <a:chOff x="5467320" y="3662280"/>
            <a:chExt cx="888480" cy="1255680"/>
          </a:xfrm>
        </p:grpSpPr>
        <p:sp>
          <p:nvSpPr>
            <p:cNvPr id="485" name=""/>
            <p:cNvSpPr/>
            <p:nvPr/>
          </p:nvSpPr>
          <p:spPr>
            <a:xfrm>
              <a:off x="5467320" y="366228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154560" y="474012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05560" y="389556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5800" y="381636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94680" y="369540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51640" y="407196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02760" y="412092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65400" y="424476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73040" y="438444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74840" y="443520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27320" y="436536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10200" y="456228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37840" y="448596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08840" y="467676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37920" y="462600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26920" y="476856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254640" y="485748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5419800" y="3581280"/>
            <a:ext cx="47520" cy="1324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486240" y="380880"/>
            <a:ext cx="213336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Two-T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"/>
          <p:cNvSpPr/>
          <p:nvPr/>
        </p:nvSpPr>
        <p:spPr>
          <a:xfrm>
            <a:off x="3600360" y="3610080"/>
            <a:ext cx="0" cy="1238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600360" y="4247640"/>
            <a:ext cx="1828800" cy="1908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667600" y="3662280"/>
            <a:ext cx="888480" cy="1255680"/>
            <a:chOff x="2667600" y="3662280"/>
            <a:chExt cx="888480" cy="1255680"/>
          </a:xfrm>
        </p:grpSpPr>
        <p:sp>
          <p:nvSpPr>
            <p:cNvPr id="507" name=""/>
            <p:cNvSpPr/>
            <p:nvPr/>
          </p:nvSpPr>
          <p:spPr>
            <a:xfrm>
              <a:off x="3556080" y="366228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44360" y="474012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405960" y="389556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459240" y="381636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3504240" y="369540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71760" y="407196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20640" y="412092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58000" y="424476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50360" y="438444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124440" y="443520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96080" y="436536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13200" y="456228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061080" y="448596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14560" y="467676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2973600" y="462600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787120" y="476856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67600" y="485748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527200" y="1784520"/>
            <a:ext cx="3987720" cy="3090240"/>
            <a:chOff x="2527200" y="1784520"/>
            <a:chExt cx="3987720" cy="3090240"/>
          </a:xfrm>
        </p:grpSpPr>
        <p:sp>
          <p:nvSpPr>
            <p:cNvPr id="525" name=""/>
            <p:cNvSpPr/>
            <p:nvPr/>
          </p:nvSpPr>
          <p:spPr>
            <a:xfrm flipV="1">
              <a:off x="2527200" y="4855320"/>
              <a:ext cx="7272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2599920" y="481860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674800" y="479952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30600" y="476316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805120" y="470700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60920" y="465120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2933640" y="4595040"/>
              <a:ext cx="572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2990880" y="4520160"/>
              <a:ext cx="7272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063960" y="444744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138840" y="4352760"/>
              <a:ext cx="55440" cy="93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94280" y="424116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269160" y="412956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24960" y="3998520"/>
              <a:ext cx="7236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397320" y="3850200"/>
              <a:ext cx="5544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453120" y="370188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528000" y="35514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602880" y="33847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58320" y="319932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3733200" y="30322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88640" y="2864520"/>
              <a:ext cx="7236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3861360" y="269640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917160" y="25297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3992040" y="237924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066560" y="2230920"/>
              <a:ext cx="5544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22360" y="209988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97240" y="19886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52680" y="19137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25760" y="1840320"/>
              <a:ext cx="5508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4380840" y="1801800"/>
              <a:ext cx="74520" cy="38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455720" y="1784520"/>
              <a:ext cx="7452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30600" y="1784520"/>
              <a:ext cx="5544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86400" y="1801800"/>
              <a:ext cx="7452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60920" y="1840320"/>
              <a:ext cx="554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16720" y="19137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89800" y="19886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45240" y="209988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0120" y="2230920"/>
              <a:ext cx="5508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5560" y="23796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50080" y="25297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24960" y="269676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80760" y="2864520"/>
              <a:ext cx="727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3840" y="30322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09280" y="319932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84160" y="33847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39600" y="355176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14480" y="370188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9360" y="3850560"/>
              <a:ext cx="5508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44440" y="3998520"/>
              <a:ext cx="727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17520" y="412956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73320" y="424116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48200" y="4353120"/>
              <a:ext cx="55440" cy="93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03640" y="444744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8520" y="4520160"/>
              <a:ext cx="7236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51240" y="4595400"/>
              <a:ext cx="5760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08840" y="465120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81560" y="470736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37360" y="476316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11880" y="479988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67680" y="481896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42560" y="4855680"/>
              <a:ext cx="7236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790640" y="4889520"/>
            <a:ext cx="5467320" cy="1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600360" y="3387600"/>
            <a:ext cx="2811600" cy="6699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02880" y="4813200"/>
            <a:ext cx="59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ff99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ff99"/>
                </a:solidFill>
                <a:latin typeface="MT Symbol"/>
                <a:ea typeface="MT Symbol"/>
              </a:rPr>
              <a:t></a:t>
            </a:r>
            <a:r>
              <a:rPr b="1" lang="en-US" sz="2800" spc="-1" strike="noStrike" baseline="-25000">
                <a:solidFill>
                  <a:srgbClr val="00ff99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33200" y="4795920"/>
            <a:ext cx="71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Arial"/>
              </a:rPr>
              <a:t>-</a:t>
            </a:r>
            <a:r>
              <a:rPr b="1" i="1" lang="en-GB" sz="2800" spc="-1" strike="noStrike">
                <a:solidFill>
                  <a:srgbClr val="00ff99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ff99"/>
                </a:solidFill>
                <a:latin typeface="MT Symbol"/>
                <a:ea typeface="MT Symbol"/>
              </a:rPr>
              <a:t></a:t>
            </a:r>
            <a:r>
              <a:rPr b="1" lang="en-US" sz="2800" spc="-1" strike="noStrike" baseline="-25000">
                <a:solidFill>
                  <a:srgbClr val="00ff99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00840" y="4173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/2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076480" y="4173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/2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EB1E-50C6-4958-A5AB-9DB0CB167A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533520" y="1771560"/>
            <a:ext cx="807696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st is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one-tai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 altern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states </a:t>
            </a:r>
            <a:r>
              <a:rPr b="1" i="1" lang="en-US" sz="3600" spc="-1" strike="noStrike" u="sng">
                <a:solidFill>
                  <a:srgbClr val="ff6600"/>
                </a:solidFill>
                <a:uFillTx/>
                <a:latin typeface="Times New Roman"/>
              </a:rPr>
              <a:t>a directio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104760" y="3409920"/>
            <a:ext cx="924876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SzPct val="1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an yearly commiss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arned by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full-time realtors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is more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$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65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&gt;$65,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SzPct val="1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an spe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rucks traveling on the 407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tario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is less than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20 kilometres per hou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&lt;1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SzPct val="1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Less than 20 perc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customer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ay cas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ir gasoline purchase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.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45880" y="2838600"/>
            <a:ext cx="1451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2371680" y="905040"/>
            <a:ext cx="4400640" cy="723240"/>
            <a:chOff x="2371680" y="905040"/>
            <a:chExt cx="4400640" cy="723240"/>
          </a:xfrm>
        </p:grpSpPr>
        <p:sp>
          <p:nvSpPr>
            <p:cNvPr id="595" name=""/>
            <p:cNvSpPr/>
            <p:nvPr/>
          </p:nvSpPr>
          <p:spPr>
            <a:xfrm>
              <a:off x="2698200" y="905040"/>
              <a:ext cx="373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ests of Significa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71680" y="1539720"/>
              <a:ext cx="4400640" cy="88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 txBox="1"/>
          <p:nvPr/>
        </p:nvSpPr>
        <p:spPr>
          <a:xfrm>
            <a:off x="3257640" y="237960"/>
            <a:ext cx="25621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One-Tail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14440" y="6467400"/>
            <a:ext cx="8143920" cy="82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167C-F312-448E-A3AE-90076DAFE0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4" dur="75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9" dur="75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75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475"/>
                            </p:stCondLst>
                            <p:childTnLst>
                              <p:par>
                                <p:cTn id="5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585720" y="914400"/>
            <a:ext cx="7894440" cy="5829120"/>
            <a:chOff x="585720" y="914400"/>
            <a:chExt cx="7894440" cy="5829120"/>
          </a:xfrm>
        </p:grpSpPr>
        <p:sp>
          <p:nvSpPr>
            <p:cNvPr id="600" name=""/>
            <p:cNvSpPr/>
            <p:nvPr/>
          </p:nvSpPr>
          <p:spPr>
            <a:xfrm>
              <a:off x="626400" y="914400"/>
              <a:ext cx="7824600" cy="58114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5720" y="6307560"/>
              <a:ext cx="7838280" cy="188280"/>
            </a:xfrm>
            <a:custGeom>
              <a:avLst/>
              <a:gdLst/>
              <a:ahLst/>
              <a:rect l="l" t="t" r="r" b="b"/>
              <a:pathLst>
                <a:path w="4604" h="91">
                  <a:moveTo>
                    <a:pt x="4604" y="91"/>
                  </a:moveTo>
                  <a:lnTo>
                    <a:pt x="4408" y="0"/>
                  </a:lnTo>
                  <a:lnTo>
                    <a:pt x="204" y="0"/>
                  </a:lnTo>
                  <a:lnTo>
                    <a:pt x="157" y="27"/>
                  </a:lnTo>
                  <a:lnTo>
                    <a:pt x="0" y="91"/>
                  </a:lnTo>
                  <a:lnTo>
                    <a:pt x="460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52840" y="6441120"/>
              <a:ext cx="731736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5720" y="6515640"/>
              <a:ext cx="7892640" cy="2098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5720" y="6725880"/>
              <a:ext cx="7879320" cy="1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9040" y="6515640"/>
              <a:ext cx="7879320" cy="2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6400" y="914400"/>
              <a:ext cx="7824600" cy="21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2720" y="914400"/>
              <a:ext cx="13680" cy="5811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37680" y="935640"/>
              <a:ext cx="13320" cy="580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7943760" y="914400"/>
              <a:ext cx="50724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944120" y="626832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626400" y="626832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51960" y="914400"/>
              <a:ext cx="468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52840" y="1124280"/>
              <a:ext cx="7317360" cy="531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66520" y="1124280"/>
              <a:ext cx="731700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2840" y="1124280"/>
              <a:ext cx="13680" cy="531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170200" y="1144080"/>
              <a:ext cx="13320" cy="5297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5720" y="6515640"/>
              <a:ext cx="13320" cy="209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78360" y="6535080"/>
              <a:ext cx="1800" cy="20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7649280" y="6478560"/>
              <a:ext cx="267120" cy="1440"/>
            </a:xfrm>
            <a:prstGeom prst="line">
              <a:avLst/>
            </a:prstGeom>
            <a:ln w="12600">
              <a:solidFill>
                <a:srgbClr val="ffff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54600" y="634500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54600" y="634500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lnTo>
                    <a:pt x="393" y="64"/>
                  </a:lnTo>
                  <a:lnTo>
                    <a:pt x="393" y="64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254600" y="6268320"/>
              <a:ext cx="655560" cy="133560"/>
            </a:xfrm>
            <a:prstGeom prst="rect">
              <a:avLst/>
            </a:prstGeom>
            <a:solidFill>
              <a:srgbClr val="c2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68280" y="6268320"/>
              <a:ext cx="64188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54600" y="6268320"/>
              <a:ext cx="13320" cy="11340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10160" y="6268320"/>
              <a:ext cx="1440" cy="13356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54600" y="6401880"/>
              <a:ext cx="65556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 txBox="1"/>
          <p:nvPr/>
        </p:nvSpPr>
        <p:spPr>
          <a:xfrm>
            <a:off x="461880" y="1181160"/>
            <a:ext cx="210528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One-Tail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8" name=""/>
          <p:cNvSpPr/>
          <p:nvPr/>
        </p:nvSpPr>
        <p:spPr>
          <a:xfrm>
            <a:off x="2696760" y="130500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% Level of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" y="1980720"/>
            <a:ext cx="8143920" cy="82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371600" y="380880"/>
            <a:ext cx="6562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Sampling Distrib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7267680" y="1290600"/>
            <a:ext cx="1590480" cy="695520"/>
            <a:chOff x="7267680" y="1290600"/>
            <a:chExt cx="1590480" cy="695520"/>
          </a:xfrm>
        </p:grpSpPr>
        <p:sp>
          <p:nvSpPr>
            <p:cNvPr id="632" name=""/>
            <p:cNvSpPr/>
            <p:nvPr/>
          </p:nvSpPr>
          <p:spPr>
            <a:xfrm>
              <a:off x="7267680" y="1290600"/>
              <a:ext cx="1590480" cy="69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90720" y="1320840"/>
              <a:ext cx="1551600" cy="604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64600" dir="607483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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.0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449440" y="2079720"/>
            <a:ext cx="4241880" cy="750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ject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62840" y="5972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882760" y="5054760"/>
            <a:ext cx="623880" cy="38412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43560" y="2876400"/>
            <a:ext cx="9360" cy="3048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124680" y="3843360"/>
            <a:ext cx="195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5%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jection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42840" y="3430440"/>
            <a:ext cx="240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 95%  acceptanc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86000" y="5397480"/>
            <a:ext cx="2243160" cy="158760"/>
          </a:xfrm>
          <a:prstGeom prst="leftArrow">
            <a:avLst>
              <a:gd name="adj1" fmla="val 50000"/>
              <a:gd name="adj2" fmla="val 353231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5448240" y="4719600"/>
            <a:ext cx="888480" cy="1255680"/>
            <a:chOff x="5448240" y="4719600"/>
            <a:chExt cx="888480" cy="1255680"/>
          </a:xfrm>
        </p:grpSpPr>
        <p:sp>
          <p:nvSpPr>
            <p:cNvPr id="642" name=""/>
            <p:cNvSpPr/>
            <p:nvPr/>
          </p:nvSpPr>
          <p:spPr>
            <a:xfrm>
              <a:off x="5448240" y="471960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135480" y="579744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86480" y="495288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6720" y="487368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75600" y="475272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632560" y="512928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83680" y="517824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46320" y="530208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53960" y="544176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55760" y="549252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08240" y="542268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91120" y="561960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18760" y="554328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89760" y="573408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018840" y="568332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07840" y="582588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235560" y="591480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508120" y="2841480"/>
            <a:ext cx="3987720" cy="3090600"/>
            <a:chOff x="2508120" y="2841480"/>
            <a:chExt cx="3987720" cy="3090600"/>
          </a:xfrm>
        </p:grpSpPr>
        <p:sp>
          <p:nvSpPr>
            <p:cNvPr id="660" name=""/>
            <p:cNvSpPr/>
            <p:nvPr/>
          </p:nvSpPr>
          <p:spPr>
            <a:xfrm flipV="1">
              <a:off x="2508120" y="5912640"/>
              <a:ext cx="7272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580840" y="587592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655720" y="585684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1520" y="582048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2786040" y="576396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41840" y="570852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914560" y="5652360"/>
              <a:ext cx="572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2971800" y="5577480"/>
              <a:ext cx="7272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044880" y="550476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119760" y="541044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75200" y="529848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3250080" y="518688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05880" y="5055840"/>
              <a:ext cx="7236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3378240" y="4907520"/>
              <a:ext cx="5544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434040" y="475920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3508920" y="460872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583800" y="44416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39240" y="425664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714120" y="408924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769560" y="3921840"/>
              <a:ext cx="7236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3842280" y="375372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898080" y="358668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972960" y="34362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047480" y="3287880"/>
              <a:ext cx="5544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03280" y="315720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78160" y="304560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33600" y="297072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06680" y="2897280"/>
              <a:ext cx="5508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361760" y="2858760"/>
              <a:ext cx="74520" cy="38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436640" y="2841480"/>
              <a:ext cx="7452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11520" y="2841480"/>
              <a:ext cx="5544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567320" y="2858760"/>
              <a:ext cx="7452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641840" y="2897280"/>
              <a:ext cx="554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697640" y="297072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70720" y="304560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26160" y="315720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01040" y="3287880"/>
              <a:ext cx="5508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56480" y="343656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1000" y="358668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05880" y="375408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61680" y="3921840"/>
              <a:ext cx="727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34760" y="408924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90200" y="425664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65080" y="44416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20520" y="460908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95400" y="475920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70280" y="4907880"/>
              <a:ext cx="5508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625360" y="5055840"/>
              <a:ext cx="727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98440" y="518688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54240" y="529848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29120" y="541044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84560" y="550476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59440" y="5577480"/>
              <a:ext cx="7236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160" y="5652720"/>
              <a:ext cx="5760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089760" y="570852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62480" y="576432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218280" y="582048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92800" y="585720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48600" y="587628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423480" y="5913000"/>
              <a:ext cx="7236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771560" y="5946840"/>
            <a:ext cx="5467320" cy="1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00720" y="4638600"/>
            <a:ext cx="47520" cy="1324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24120" y="5967360"/>
            <a:ext cx="803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1.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2DC5-7F69-401F-8A9C-82482813A7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47680" y="1609560"/>
            <a:ext cx="861048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st is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two-tai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no dire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specifi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the altern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-257040" y="3327480"/>
            <a:ext cx="940104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SzPct val="1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an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adian families live in a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 hom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is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not equal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0 yea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SzPct val="1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verage spe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rucks travelling o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7 in Ontario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is different than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 kph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400"/>
              </a:spcBef>
              <a:buClr>
                <a:srgbClr val="a50021"/>
              </a:buClr>
              <a:buSzPct val="1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repeat customers within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ek at Tim Horton’s </a:t>
            </a: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is n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50%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5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45880" y="2733840"/>
            <a:ext cx="1451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2523960" y="942840"/>
            <a:ext cx="4400640" cy="723960"/>
            <a:chOff x="2523960" y="942840"/>
            <a:chExt cx="4400640" cy="723960"/>
          </a:xfrm>
        </p:grpSpPr>
        <p:sp>
          <p:nvSpPr>
            <p:cNvPr id="727" name=""/>
            <p:cNvSpPr/>
            <p:nvPr/>
          </p:nvSpPr>
          <p:spPr>
            <a:xfrm>
              <a:off x="2850480" y="942840"/>
              <a:ext cx="373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ests of Significa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23960" y="1577880"/>
              <a:ext cx="4400640" cy="88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00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 txBox="1"/>
          <p:nvPr/>
        </p:nvSpPr>
        <p:spPr>
          <a:xfrm>
            <a:off x="3409920" y="276120"/>
            <a:ext cx="25621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Two-Tail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14440" y="6410160"/>
            <a:ext cx="8143920" cy="82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D4DF-27B1-4084-87F0-5DD52AB293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9" dur="75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4" dur="75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9" dur="75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475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585720" y="914400"/>
            <a:ext cx="7894440" cy="5829120"/>
            <a:chOff x="585720" y="914400"/>
            <a:chExt cx="7894440" cy="5829120"/>
          </a:xfrm>
        </p:grpSpPr>
        <p:sp>
          <p:nvSpPr>
            <p:cNvPr id="732" name=""/>
            <p:cNvSpPr/>
            <p:nvPr/>
          </p:nvSpPr>
          <p:spPr>
            <a:xfrm>
              <a:off x="626400" y="914400"/>
              <a:ext cx="7824600" cy="58114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5720" y="6307560"/>
              <a:ext cx="7838280" cy="188280"/>
            </a:xfrm>
            <a:custGeom>
              <a:avLst/>
              <a:gdLst/>
              <a:ahLst/>
              <a:rect l="l" t="t" r="r" b="b"/>
              <a:pathLst>
                <a:path w="4604" h="91">
                  <a:moveTo>
                    <a:pt x="4604" y="91"/>
                  </a:moveTo>
                  <a:lnTo>
                    <a:pt x="4408" y="0"/>
                  </a:lnTo>
                  <a:lnTo>
                    <a:pt x="204" y="0"/>
                  </a:lnTo>
                  <a:lnTo>
                    <a:pt x="157" y="27"/>
                  </a:lnTo>
                  <a:lnTo>
                    <a:pt x="0" y="91"/>
                  </a:lnTo>
                  <a:lnTo>
                    <a:pt x="460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52840" y="6441120"/>
              <a:ext cx="731736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5720" y="6515640"/>
              <a:ext cx="7892640" cy="2098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85720" y="6725880"/>
              <a:ext cx="7879320" cy="1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9040" y="6515640"/>
              <a:ext cx="7879320" cy="2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6400" y="914400"/>
              <a:ext cx="7824600" cy="21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2720" y="914400"/>
              <a:ext cx="13680" cy="5811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437680" y="935640"/>
              <a:ext cx="13320" cy="580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943760" y="914400"/>
              <a:ext cx="50724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44120" y="626832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26400" y="626832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flipV="1">
              <a:off x="651960" y="914400"/>
              <a:ext cx="468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52840" y="1124280"/>
              <a:ext cx="7317360" cy="531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66520" y="1124280"/>
              <a:ext cx="731700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52840" y="1124280"/>
              <a:ext cx="13680" cy="531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70200" y="1144080"/>
              <a:ext cx="13320" cy="5297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5720" y="6515640"/>
              <a:ext cx="13320" cy="209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478360" y="6535080"/>
              <a:ext cx="1800" cy="208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49280" y="6478560"/>
              <a:ext cx="267120" cy="1440"/>
            </a:xfrm>
            <a:prstGeom prst="line">
              <a:avLst/>
            </a:prstGeom>
            <a:ln w="12600">
              <a:solidFill>
                <a:srgbClr val="ffff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54600" y="634500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54600" y="634500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lnTo>
                    <a:pt x="393" y="64"/>
                  </a:lnTo>
                  <a:lnTo>
                    <a:pt x="393" y="64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254600" y="6268320"/>
              <a:ext cx="655560" cy="133560"/>
            </a:xfrm>
            <a:prstGeom prst="rect">
              <a:avLst/>
            </a:prstGeom>
            <a:solidFill>
              <a:srgbClr val="c2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68280" y="6268320"/>
              <a:ext cx="64188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254600" y="6268320"/>
              <a:ext cx="13320" cy="11340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10160" y="6268320"/>
              <a:ext cx="1440" cy="13356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254600" y="6401880"/>
              <a:ext cx="65556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 txBox="1"/>
          <p:nvPr/>
        </p:nvSpPr>
        <p:spPr>
          <a:xfrm>
            <a:off x="461880" y="1181160"/>
            <a:ext cx="256248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Two-Tail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0" name=""/>
          <p:cNvSpPr/>
          <p:nvPr/>
        </p:nvSpPr>
        <p:spPr>
          <a:xfrm>
            <a:off x="3496680" y="130500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% Level of Signific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371600" y="380880"/>
            <a:ext cx="6562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Sampling Distrib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762" name=""/>
          <p:cNvSpPr/>
          <p:nvPr/>
        </p:nvSpPr>
        <p:spPr>
          <a:xfrm>
            <a:off x="1327320" y="2014560"/>
            <a:ext cx="6422400" cy="750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ject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9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z&lt;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9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901840" y="4359240"/>
            <a:ext cx="490680" cy="9939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62640" y="2790720"/>
            <a:ext cx="9360" cy="3048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67480" y="2957400"/>
            <a:ext cx="195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5%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jection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104840" y="3325680"/>
            <a:ext cx="240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 95%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cceptanc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5467320" y="4633920"/>
            <a:ext cx="888480" cy="1255680"/>
            <a:chOff x="5467320" y="4633920"/>
            <a:chExt cx="888480" cy="1255680"/>
          </a:xfrm>
        </p:grpSpPr>
        <p:sp>
          <p:nvSpPr>
            <p:cNvPr id="768" name=""/>
            <p:cNvSpPr/>
            <p:nvPr/>
          </p:nvSpPr>
          <p:spPr>
            <a:xfrm>
              <a:off x="5467320" y="463392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154560" y="571176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05560" y="486720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45800" y="478800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94680" y="466704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51640" y="504360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702760" y="509256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765400" y="521640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73040" y="535608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74840" y="540684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27320" y="533700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10200" y="553392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37840" y="545760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108840" y="564840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37920" y="559764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226920" y="574020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254640" y="582912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5419800" y="4552920"/>
            <a:ext cx="47520" cy="1324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600360" y="4581360"/>
            <a:ext cx="0" cy="1238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600360" y="5219280"/>
            <a:ext cx="1828800" cy="1908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667600" y="4633920"/>
            <a:ext cx="888480" cy="1255680"/>
            <a:chOff x="2667600" y="4633920"/>
            <a:chExt cx="888480" cy="1255680"/>
          </a:xfrm>
        </p:grpSpPr>
        <p:sp>
          <p:nvSpPr>
            <p:cNvPr id="789" name=""/>
            <p:cNvSpPr/>
            <p:nvPr/>
          </p:nvSpPr>
          <p:spPr>
            <a:xfrm>
              <a:off x="3556080" y="463392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44360" y="571176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3405960" y="486720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3459240" y="478800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3504240" y="466704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71760" y="504360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20640" y="509256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58000" y="521640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50360" y="535608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124440" y="540684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196080" y="533700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13200" y="553392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061080" y="545760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14560" y="564840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2973600" y="559764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87120" y="574020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67600" y="582912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527200" y="2755800"/>
            <a:ext cx="3987720" cy="3090600"/>
            <a:chOff x="2527200" y="2755800"/>
            <a:chExt cx="3987720" cy="3090600"/>
          </a:xfrm>
        </p:grpSpPr>
        <p:sp>
          <p:nvSpPr>
            <p:cNvPr id="807" name=""/>
            <p:cNvSpPr/>
            <p:nvPr/>
          </p:nvSpPr>
          <p:spPr>
            <a:xfrm flipV="1">
              <a:off x="2527200" y="5826960"/>
              <a:ext cx="7272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599920" y="579024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674800" y="577116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730600" y="573480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805120" y="567828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60920" y="562284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2933640" y="5566680"/>
              <a:ext cx="572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990880" y="5491800"/>
              <a:ext cx="7272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3063960" y="541908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138840" y="532476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94280" y="521280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3269160" y="510120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24960" y="4970160"/>
              <a:ext cx="7236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397320" y="4821840"/>
              <a:ext cx="5544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3453120" y="467352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3528000" y="452304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3602880" y="435600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658320" y="417096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733200" y="400356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788640" y="3836160"/>
              <a:ext cx="7236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3861360" y="366804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917160" y="350100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3992040" y="335052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4066560" y="3202200"/>
              <a:ext cx="5544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22360" y="307152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97240" y="295992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52680" y="288504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325760" y="2811600"/>
              <a:ext cx="5508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380840" y="2773080"/>
              <a:ext cx="74520" cy="38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4455720" y="2755800"/>
              <a:ext cx="7452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530600" y="2755800"/>
              <a:ext cx="5544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86400" y="2773080"/>
              <a:ext cx="7452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60920" y="2811600"/>
              <a:ext cx="554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16720" y="288504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789800" y="295992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45240" y="307152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920120" y="3202200"/>
              <a:ext cx="5508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75560" y="335088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50080" y="350100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24960" y="366840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180760" y="3836160"/>
              <a:ext cx="727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53840" y="400356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309280" y="417096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384160" y="435600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439600" y="45234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514480" y="467352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89360" y="4822200"/>
              <a:ext cx="5508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644440" y="4970160"/>
              <a:ext cx="727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17520" y="510120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73320" y="521280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48200" y="532476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03640" y="541908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978520" y="5491800"/>
              <a:ext cx="7236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1240" y="5567040"/>
              <a:ext cx="5760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08840" y="562284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81560" y="567864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237360" y="573480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11880" y="577152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367680" y="579060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42560" y="5827320"/>
              <a:ext cx="7236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790640" y="5861160"/>
            <a:ext cx="5467320" cy="1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600360" y="4359240"/>
            <a:ext cx="2811600" cy="6699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57880" y="503064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0.025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76520" y="50594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0.025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926000" y="5972040"/>
            <a:ext cx="523368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96 &amp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96 are calle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ritical value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442800" y="1837800"/>
            <a:ext cx="8143920" cy="82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0343-D050-4CB2-B773-399B9469A1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1400040" y="142920"/>
            <a:ext cx="6761160" cy="1733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ing for the Population Mea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rg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Sample,                                             Population Standard Deviati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81080" y="2666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Test Statistic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 be us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371600" y="5486400"/>
            <a:ext cx="6324120" cy="228600"/>
            <a:chOff x="1371600" y="5486400"/>
            <a:chExt cx="6324120" cy="228600"/>
          </a:xfrm>
        </p:grpSpPr>
        <p:sp>
          <p:nvSpPr>
            <p:cNvPr id="877" name=""/>
            <p:cNvSpPr/>
            <p:nvPr/>
          </p:nvSpPr>
          <p:spPr>
            <a:xfrm flipV="1">
              <a:off x="1371600" y="5539680"/>
              <a:ext cx="632412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4428000" y="5486400"/>
              <a:ext cx="4590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9" name=""/>
          <p:cNvGrpSpPr/>
          <p:nvPr/>
        </p:nvGrpSpPr>
        <p:grpSpPr>
          <a:xfrm>
            <a:off x="3320640" y="3576600"/>
            <a:ext cx="2566440" cy="1553400"/>
            <a:chOff x="3320640" y="3576600"/>
            <a:chExt cx="2566440" cy="1553400"/>
          </a:xfrm>
        </p:grpSpPr>
        <p:sp>
          <p:nvSpPr>
            <p:cNvPr id="880" name=""/>
            <p:cNvSpPr/>
            <p:nvPr/>
          </p:nvSpPr>
          <p:spPr>
            <a:xfrm>
              <a:off x="4419720" y="3668760"/>
              <a:ext cx="371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046840" y="4780080"/>
              <a:ext cx="7776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124600" y="4791240"/>
              <a:ext cx="112680" cy="185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5249880" y="4424400"/>
              <a:ext cx="149040" cy="5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398920" y="4424400"/>
              <a:ext cx="392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05160" y="4344840"/>
              <a:ext cx="1636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72800" y="44593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79440" y="4459320"/>
              <a:ext cx="1562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98480" y="4395960"/>
              <a:ext cx="337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564880" y="3576600"/>
              <a:ext cx="3222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77880" y="357660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48040" y="3925800"/>
              <a:ext cx="445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87400" y="3639960"/>
              <a:ext cx="3420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20640" y="398952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94CA-9FB0-47FB-B32B-B6E3259D9A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2543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null and alternative hypothes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429000"/>
            <a:ext cx="645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Typ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and Typ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2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the five-step hypothesis testing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07348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tinguish between a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one-tai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d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two-tailed test of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004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240984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409840"/>
                    <a:ext cx="45720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99192" dir="13818056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5600" y="3443400"/>
          <a:ext cx="46512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600" y="3443400"/>
                    <a:ext cx="465120" cy="442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87803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3520" y="4324320"/>
          <a:ext cx="45720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324320"/>
                    <a:ext cx="457200" cy="47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87803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33520" y="5181480"/>
          <a:ext cx="44424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181480"/>
                    <a:ext cx="444240" cy="474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9604" dir="135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7505640" y="617220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37BF-2F03-4B02-AB51-9306CC9719A7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6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6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 rot="121200">
            <a:off x="390600" y="2112840"/>
            <a:ext cx="8213760" cy="428328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solidFill>
            <a:srgbClr val="e9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371600" y="304920"/>
            <a:ext cx="6477120" cy="1523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98339" dir="77907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ing for the Population Me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rg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Sample,                                             Population Standard Deviatio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2181240"/>
            <a:ext cx="85341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ssors of eye drop medic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cate o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 that the bottl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16 m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med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process i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0.5 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    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sample of 36 bott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the last hour’s production revealed a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ean weight of 16.12 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 bottle.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898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C8471A66-DAC8-4FD0-9C99-BC4C76CB83FB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77800" y="4703760"/>
            <a:ext cx="798660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48236" dir="7259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5 significance 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e process out of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at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n we conclude that the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mean amount per bottle                  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is different from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16 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A26F-2F37-4B5F-943B-AF0EB0E04E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906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909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912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31120" y="3429000"/>
            <a:ext cx="4126680" cy="459720"/>
            <a:chOff x="231120" y="3429000"/>
            <a:chExt cx="4126680" cy="459720"/>
          </a:xfrm>
        </p:grpSpPr>
        <p:sp>
          <p:nvSpPr>
            <p:cNvPr id="915" name=""/>
            <p:cNvSpPr/>
            <p:nvPr/>
          </p:nvSpPr>
          <p:spPr>
            <a:xfrm>
              <a:off x="1595520" y="345744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1120" y="3429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02680" y="4248000"/>
            <a:ext cx="4340880" cy="719640"/>
            <a:chOff x="202680" y="4248000"/>
            <a:chExt cx="4340880" cy="719640"/>
          </a:xfrm>
        </p:grpSpPr>
        <p:sp>
          <p:nvSpPr>
            <p:cNvPr id="918" name=""/>
            <p:cNvSpPr/>
            <p:nvPr/>
          </p:nvSpPr>
          <p:spPr>
            <a:xfrm>
              <a:off x="1571760" y="426384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2680" y="4248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553080" y="914400"/>
            <a:ext cx="236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= 1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553080" y="1401840"/>
            <a:ext cx="2095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505560" y="1905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81520" y="2546280"/>
            <a:ext cx="407664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we know the standard deviation, the test statistic i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14760" y="3495600"/>
            <a:ext cx="432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9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o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-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5924520" y="5162400"/>
            <a:ext cx="1295280" cy="514440"/>
            <a:chOff x="5924520" y="5162400"/>
            <a:chExt cx="1295280" cy="514440"/>
          </a:xfrm>
        </p:grpSpPr>
        <p:sp>
          <p:nvSpPr>
            <p:cNvPr id="926" name=""/>
            <p:cNvSpPr/>
            <p:nvPr/>
          </p:nvSpPr>
          <p:spPr>
            <a:xfrm>
              <a:off x="5924520" y="5162400"/>
              <a:ext cx="1295280" cy="514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25228" dir="683473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053040" y="5213160"/>
              <a:ext cx="881640" cy="401040"/>
              <a:chOff x="6053040" y="5213160"/>
              <a:chExt cx="881640" cy="401040"/>
            </a:xfrm>
          </p:grpSpPr>
          <p:sp>
            <p:nvSpPr>
              <p:cNvPr id="928" name=""/>
              <p:cNvSpPr/>
              <p:nvPr/>
            </p:nvSpPr>
            <p:spPr>
              <a:xfrm>
                <a:off x="6629040" y="52480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535440" y="52480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49680" y="5248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053040" y="521316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2" name=""/>
          <p:cNvGrpSpPr/>
          <p:nvPr/>
        </p:nvGrpSpPr>
        <p:grpSpPr>
          <a:xfrm>
            <a:off x="6262560" y="4222800"/>
            <a:ext cx="2328480" cy="864720"/>
            <a:chOff x="6262560" y="4222800"/>
            <a:chExt cx="2328480" cy="864720"/>
          </a:xfrm>
        </p:grpSpPr>
        <p:sp>
          <p:nvSpPr>
            <p:cNvPr id="933" name=""/>
            <p:cNvSpPr/>
            <p:nvPr/>
          </p:nvSpPr>
          <p:spPr>
            <a:xfrm flipV="1">
              <a:off x="7605360" y="4896000"/>
              <a:ext cx="45720" cy="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651440" y="4903920"/>
              <a:ext cx="6624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727760" y="4690800"/>
              <a:ext cx="9324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1360" y="4691160"/>
              <a:ext cx="404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413120" y="4683240"/>
              <a:ext cx="14904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05280" y="4638600"/>
              <a:ext cx="1985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831800" y="47214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39960" y="47214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46000" y="47214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960600" y="47214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197200" y="42577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103240" y="42577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28840" y="42577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63560" y="42577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969960" y="42577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595200" y="42577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530840" y="4222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262560" y="441324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4655880" y="4184640"/>
            <a:ext cx="1519560" cy="864720"/>
            <a:chOff x="4655880" y="4184640"/>
            <a:chExt cx="1519560" cy="864720"/>
          </a:xfrm>
        </p:grpSpPr>
        <p:sp>
          <p:nvSpPr>
            <p:cNvPr id="952" name=""/>
            <p:cNvSpPr/>
            <p:nvPr/>
          </p:nvSpPr>
          <p:spPr>
            <a:xfrm>
              <a:off x="5321160" y="42260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686560" y="4857840"/>
              <a:ext cx="47520" cy="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34080" y="4865760"/>
              <a:ext cx="6516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5808600" y="4652640"/>
              <a:ext cx="9360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02200" y="4653000"/>
              <a:ext cx="236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5493960" y="4645080"/>
              <a:ext cx="1494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214960" y="4600440"/>
              <a:ext cx="960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662440" y="41846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71880" y="4375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25960" y="4683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278320" y="4219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655880" y="441000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16040" y="464832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907240" y="418464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514520" y="57880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o not reject the null hypothes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We cannot conclude the mean is different from 16 m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181160" y="5724360"/>
            <a:ext cx="18478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38A7-6E72-44F7-836F-87903DA538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1400040" y="57240"/>
            <a:ext cx="6363000" cy="1466640"/>
          </a:xfrm>
          <a:prstGeom prst="rect">
            <a:avLst/>
          </a:prstGeom>
          <a:gradFill rotWithShape="0">
            <a:gsLst>
              <a:gs pos="0">
                <a:srgbClr val="ffe9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30844" dir="71377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ing for the Population Me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arg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Sample,                                            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Population Standard Deviation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rot="121200">
            <a:off x="228600" y="2109960"/>
            <a:ext cx="8375760" cy="428292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febe9"/>
              </a:gs>
              <a:gs pos="50000">
                <a:srgbClr val="fef9f9"/>
              </a:gs>
              <a:gs pos="100000">
                <a:srgbClr val="ffebe9"/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3520" y="1619280"/>
            <a:ext cx="80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ck’s Discount Store chain issues its own credit card.                            Lisa, the credit manager, wants to find out if th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monthly unpaid balance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is more than $400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972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533520" y="4741920"/>
            <a:ext cx="803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uld Lisa conclude that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opula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mea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s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greater than $4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or is it reasonable to assume that                                                                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ifference of $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$407-$400)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s due to ch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7680" y="35798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random check of 172 unpai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al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vealed the                               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ample mean to be $4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and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mple standard deviation to be $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714680" y="2933640"/>
            <a:ext cx="57150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l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gnificance is set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9C6F-27C4-4656-B2CE-9738BC2D63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343080" y="723960"/>
            <a:ext cx="8229600" cy="5866920"/>
            <a:chOff x="343080" y="723960"/>
            <a:chExt cx="8229600" cy="5866920"/>
          </a:xfrm>
        </p:grpSpPr>
        <p:pic>
          <p:nvPicPr>
            <p:cNvPr id="980" name="" descr=""/>
            <p:cNvPicPr/>
            <p:nvPr/>
          </p:nvPicPr>
          <p:blipFill>
            <a:blip r:embed="rId1"/>
            <a:stretch/>
          </p:blipFill>
          <p:spPr>
            <a:xfrm>
              <a:off x="343080" y="1547640"/>
              <a:ext cx="8229600" cy="50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 txBox="1"/>
            <p:nvPr/>
          </p:nvSpPr>
          <p:spPr>
            <a:xfrm>
              <a:off x="3543480" y="723960"/>
              <a:ext cx="2119320" cy="11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effectLst>
                    <a:outerShdw dist="64600" dir="10125161" blurRad="0" rotWithShape="0">
                      <a:srgbClr val="000000"/>
                    </a:outerShdw>
                  </a:effectLst>
                  <a:latin typeface="Impact"/>
                </a:rPr>
                <a:t>Tip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64600" dir="10125161" blurRad="0" rotWithShape="0">
                    <a:srgbClr val="00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1371600" y="17715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hen the sample is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larg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i.e. over 30, you can use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-distribution as your test statis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67480" y="3816360"/>
            <a:ext cx="5833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71785" dir="81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member, use the best that you ha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382760" y="2768760"/>
            <a:ext cx="674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(Just replace th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pl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viation for th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pulation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v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D03B-7E8E-42FC-A1A4-57E933813C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987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990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993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231120" y="3429000"/>
            <a:ext cx="4126680" cy="459720"/>
            <a:chOff x="231120" y="3429000"/>
            <a:chExt cx="4126680" cy="459720"/>
          </a:xfrm>
        </p:grpSpPr>
        <p:sp>
          <p:nvSpPr>
            <p:cNvPr id="996" name=""/>
            <p:cNvSpPr/>
            <p:nvPr/>
          </p:nvSpPr>
          <p:spPr>
            <a:xfrm>
              <a:off x="1595520" y="345744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1120" y="3429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202680" y="4248000"/>
            <a:ext cx="4340880" cy="719640"/>
            <a:chOff x="202680" y="4248000"/>
            <a:chExt cx="4340880" cy="719640"/>
          </a:xfrm>
        </p:grpSpPr>
        <p:sp>
          <p:nvSpPr>
            <p:cNvPr id="999" name=""/>
            <p:cNvSpPr/>
            <p:nvPr/>
          </p:nvSpPr>
          <p:spPr>
            <a:xfrm>
              <a:off x="1571760" y="426384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02680" y="4248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6267600" y="954000"/>
            <a:ext cx="236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= 4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305400" y="1401840"/>
            <a:ext cx="238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&gt;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505560" y="1905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781520" y="2546280"/>
            <a:ext cx="4076640" cy="715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the sample is large, we use the test statistic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57800" y="3478320"/>
            <a:ext cx="2924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924520" y="5162400"/>
            <a:ext cx="1295280" cy="514440"/>
            <a:chOff x="5924520" y="5162400"/>
            <a:chExt cx="1295280" cy="514440"/>
          </a:xfrm>
        </p:grpSpPr>
        <p:sp>
          <p:nvSpPr>
            <p:cNvPr id="1007" name=""/>
            <p:cNvSpPr/>
            <p:nvPr/>
          </p:nvSpPr>
          <p:spPr>
            <a:xfrm>
              <a:off x="5924520" y="5162400"/>
              <a:ext cx="1295280" cy="514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25228" dir="683473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053040" y="5213160"/>
              <a:ext cx="881640" cy="401040"/>
              <a:chOff x="6053040" y="5213160"/>
              <a:chExt cx="881640" cy="401040"/>
            </a:xfrm>
          </p:grpSpPr>
          <p:sp>
            <p:nvSpPr>
              <p:cNvPr id="1009" name=""/>
              <p:cNvSpPr/>
              <p:nvPr/>
            </p:nvSpPr>
            <p:spPr>
              <a:xfrm>
                <a:off x="6629040" y="52480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35440" y="52480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349680" y="5248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053040" y="521316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3" name=""/>
          <p:cNvGrpSpPr/>
          <p:nvPr/>
        </p:nvGrpSpPr>
        <p:grpSpPr>
          <a:xfrm>
            <a:off x="4655880" y="4184640"/>
            <a:ext cx="1519560" cy="864720"/>
            <a:chOff x="4655880" y="4184640"/>
            <a:chExt cx="1519560" cy="864720"/>
          </a:xfrm>
        </p:grpSpPr>
        <p:sp>
          <p:nvSpPr>
            <p:cNvPr id="1014" name=""/>
            <p:cNvSpPr/>
            <p:nvPr/>
          </p:nvSpPr>
          <p:spPr>
            <a:xfrm>
              <a:off x="5321160" y="42260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5686560" y="4857840"/>
              <a:ext cx="47520" cy="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34080" y="4865760"/>
              <a:ext cx="6516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5808600" y="4652640"/>
              <a:ext cx="9360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02200" y="4653000"/>
              <a:ext cx="236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493960" y="4645080"/>
              <a:ext cx="1494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214960" y="4600440"/>
              <a:ext cx="960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662440" y="41846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71880" y="4375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25960" y="468324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278320" y="4219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55880" y="441000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16040" y="464832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07240" y="418464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1000080" y="5788080"/>
            <a:ext cx="7238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ject the hypothes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isa can conclude                             that the mean unpaid balance is greater  than $4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80880" y="5724360"/>
            <a:ext cx="18478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6262560" y="4062600"/>
            <a:ext cx="2481120" cy="1054080"/>
            <a:chOff x="6262560" y="4062600"/>
            <a:chExt cx="2481120" cy="1054080"/>
          </a:xfrm>
        </p:grpSpPr>
        <p:sp>
          <p:nvSpPr>
            <p:cNvPr id="1031" name=""/>
            <p:cNvSpPr/>
            <p:nvPr/>
          </p:nvSpPr>
          <p:spPr>
            <a:xfrm>
              <a:off x="6262560" y="441324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6819840" y="4062600"/>
              <a:ext cx="1923840" cy="1054080"/>
              <a:chOff x="6819840" y="4062600"/>
              <a:chExt cx="1923840" cy="1054080"/>
            </a:xfrm>
          </p:grpSpPr>
          <p:sp>
            <p:nvSpPr>
              <p:cNvPr id="1033" name=""/>
              <p:cNvSpPr/>
              <p:nvPr/>
            </p:nvSpPr>
            <p:spPr>
              <a:xfrm flipV="1">
                <a:off x="7754760" y="4913280"/>
                <a:ext cx="4932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804080" y="4923000"/>
                <a:ext cx="68040" cy="12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7881840" y="4654800"/>
                <a:ext cx="95040" cy="39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976880" y="4654800"/>
                <a:ext cx="5828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7556400" y="4645080"/>
                <a:ext cx="154080" cy="4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819840" y="4587840"/>
                <a:ext cx="19238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959240" y="469260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7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178040" y="469260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84720" y="46926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143200" y="410688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949880" y="4106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032240" y="410688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40000" y="4106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713360" y="406260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FD1B0-9EFD-49B5-A474-C9039A9F16C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990800" y="24670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Test Statistic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 be us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752480" y="5410080"/>
            <a:ext cx="5638680" cy="669600"/>
            <a:chOff x="1752480" y="5410080"/>
            <a:chExt cx="5638680" cy="669600"/>
          </a:xfrm>
        </p:grpSpPr>
        <p:sp>
          <p:nvSpPr>
            <p:cNvPr id="1049" name=""/>
            <p:cNvSpPr/>
            <p:nvPr/>
          </p:nvSpPr>
          <p:spPr>
            <a:xfrm>
              <a:off x="1752480" y="5410080"/>
              <a:ext cx="5638680" cy="400320"/>
            </a:xfrm>
            <a:custGeom>
              <a:avLst/>
              <a:gdLst/>
              <a:ahLst/>
              <a:rect l="l" t="t" r="r" b="b"/>
              <a:pathLst>
                <a:path w="1952" h="367">
                  <a:moveTo>
                    <a:pt x="0" y="184"/>
                  </a:moveTo>
                  <a:lnTo>
                    <a:pt x="19" y="214"/>
                  </a:lnTo>
                  <a:lnTo>
                    <a:pt x="42" y="237"/>
                  </a:lnTo>
                  <a:lnTo>
                    <a:pt x="71" y="254"/>
                  </a:lnTo>
                  <a:lnTo>
                    <a:pt x="104" y="266"/>
                  </a:lnTo>
                  <a:lnTo>
                    <a:pt x="142" y="270"/>
                  </a:lnTo>
                  <a:lnTo>
                    <a:pt x="182" y="270"/>
                  </a:lnTo>
                  <a:lnTo>
                    <a:pt x="228" y="266"/>
                  </a:lnTo>
                  <a:lnTo>
                    <a:pt x="276" y="258"/>
                  </a:lnTo>
                  <a:lnTo>
                    <a:pt x="326" y="247"/>
                  </a:lnTo>
                  <a:lnTo>
                    <a:pt x="378" y="232"/>
                  </a:lnTo>
                  <a:lnTo>
                    <a:pt x="489" y="197"/>
                  </a:lnTo>
                  <a:lnTo>
                    <a:pt x="606" y="159"/>
                  </a:lnTo>
                  <a:lnTo>
                    <a:pt x="723" y="119"/>
                  </a:lnTo>
                  <a:lnTo>
                    <a:pt x="827" y="88"/>
                  </a:lnTo>
                  <a:lnTo>
                    <a:pt x="928" y="61"/>
                  </a:lnTo>
                  <a:lnTo>
                    <a:pt x="1026" y="40"/>
                  </a:lnTo>
                  <a:lnTo>
                    <a:pt x="1118" y="25"/>
                  </a:lnTo>
                  <a:lnTo>
                    <a:pt x="1204" y="11"/>
                  </a:lnTo>
                  <a:lnTo>
                    <a:pt x="1285" y="4"/>
                  </a:lnTo>
                  <a:lnTo>
                    <a:pt x="1356" y="0"/>
                  </a:lnTo>
                  <a:lnTo>
                    <a:pt x="1419" y="0"/>
                  </a:lnTo>
                  <a:lnTo>
                    <a:pt x="1463" y="4"/>
                  </a:lnTo>
                  <a:lnTo>
                    <a:pt x="1505" y="8"/>
                  </a:lnTo>
                  <a:lnTo>
                    <a:pt x="1546" y="13"/>
                  </a:lnTo>
                  <a:lnTo>
                    <a:pt x="1582" y="21"/>
                  </a:lnTo>
                  <a:lnTo>
                    <a:pt x="1651" y="40"/>
                  </a:lnTo>
                  <a:lnTo>
                    <a:pt x="1709" y="63"/>
                  </a:lnTo>
                  <a:lnTo>
                    <a:pt x="1760" y="88"/>
                  </a:lnTo>
                  <a:lnTo>
                    <a:pt x="1803" y="117"/>
                  </a:lnTo>
                  <a:lnTo>
                    <a:pt x="1839" y="147"/>
                  </a:lnTo>
                  <a:lnTo>
                    <a:pt x="1870" y="180"/>
                  </a:lnTo>
                  <a:lnTo>
                    <a:pt x="1895" y="210"/>
                  </a:lnTo>
                  <a:lnTo>
                    <a:pt x="1914" y="241"/>
                  </a:lnTo>
                  <a:lnTo>
                    <a:pt x="1927" y="270"/>
                  </a:lnTo>
                  <a:lnTo>
                    <a:pt x="1939" y="295"/>
                  </a:lnTo>
                  <a:lnTo>
                    <a:pt x="1944" y="318"/>
                  </a:lnTo>
                  <a:lnTo>
                    <a:pt x="1950" y="337"/>
                  </a:lnTo>
                  <a:lnTo>
                    <a:pt x="1952" y="350"/>
                  </a:lnTo>
                  <a:lnTo>
                    <a:pt x="1952" y="358"/>
                  </a:lnTo>
                  <a:lnTo>
                    <a:pt x="1931" y="306"/>
                  </a:lnTo>
                  <a:lnTo>
                    <a:pt x="1904" y="260"/>
                  </a:lnTo>
                  <a:lnTo>
                    <a:pt x="1874" y="220"/>
                  </a:lnTo>
                  <a:lnTo>
                    <a:pt x="1837" y="188"/>
                  </a:lnTo>
                  <a:lnTo>
                    <a:pt x="1799" y="161"/>
                  </a:lnTo>
                  <a:lnTo>
                    <a:pt x="1755" y="140"/>
                  </a:lnTo>
                  <a:lnTo>
                    <a:pt x="1709" y="122"/>
                  </a:lnTo>
                  <a:lnTo>
                    <a:pt x="1661" y="111"/>
                  </a:lnTo>
                  <a:lnTo>
                    <a:pt x="1607" y="103"/>
                  </a:lnTo>
                  <a:lnTo>
                    <a:pt x="1553" y="101"/>
                  </a:lnTo>
                  <a:lnTo>
                    <a:pt x="1496" y="101"/>
                  </a:lnTo>
                  <a:lnTo>
                    <a:pt x="1438" y="105"/>
                  </a:lnTo>
                  <a:lnTo>
                    <a:pt x="1377" y="113"/>
                  </a:lnTo>
                  <a:lnTo>
                    <a:pt x="1316" y="122"/>
                  </a:lnTo>
                  <a:lnTo>
                    <a:pt x="1191" y="149"/>
                  </a:lnTo>
                  <a:lnTo>
                    <a:pt x="1062" y="182"/>
                  </a:lnTo>
                  <a:lnTo>
                    <a:pt x="936" y="218"/>
                  </a:lnTo>
                  <a:lnTo>
                    <a:pt x="813" y="256"/>
                  </a:lnTo>
                  <a:lnTo>
                    <a:pt x="696" y="293"/>
                  </a:lnTo>
                  <a:lnTo>
                    <a:pt x="640" y="310"/>
                  </a:lnTo>
                  <a:lnTo>
                    <a:pt x="587" y="325"/>
                  </a:lnTo>
                  <a:lnTo>
                    <a:pt x="537" y="339"/>
                  </a:lnTo>
                  <a:lnTo>
                    <a:pt x="489" y="350"/>
                  </a:lnTo>
                  <a:lnTo>
                    <a:pt x="443" y="360"/>
                  </a:lnTo>
                  <a:lnTo>
                    <a:pt x="403" y="365"/>
                  </a:lnTo>
                  <a:lnTo>
                    <a:pt x="364" y="367"/>
                  </a:lnTo>
                  <a:lnTo>
                    <a:pt x="332" y="367"/>
                  </a:lnTo>
                  <a:lnTo>
                    <a:pt x="272" y="362"/>
                  </a:lnTo>
                  <a:lnTo>
                    <a:pt x="222" y="352"/>
                  </a:lnTo>
                  <a:lnTo>
                    <a:pt x="178" y="341"/>
                  </a:lnTo>
                  <a:lnTo>
                    <a:pt x="140" y="329"/>
                  </a:lnTo>
                  <a:lnTo>
                    <a:pt x="107" y="314"/>
                  </a:lnTo>
                  <a:lnTo>
                    <a:pt x="81" y="298"/>
                  </a:lnTo>
                  <a:lnTo>
                    <a:pt x="59" y="283"/>
                  </a:lnTo>
                  <a:lnTo>
                    <a:pt x="42" y="266"/>
                  </a:lnTo>
                  <a:lnTo>
                    <a:pt x="29" y="251"/>
                  </a:lnTo>
                  <a:lnTo>
                    <a:pt x="19" y="235"/>
                  </a:lnTo>
                  <a:lnTo>
                    <a:pt x="12" y="222"/>
                  </a:lnTo>
                  <a:lnTo>
                    <a:pt x="6" y="209"/>
                  </a:lnTo>
                  <a:lnTo>
                    <a:pt x="4" y="199"/>
                  </a:lnTo>
                  <a:lnTo>
                    <a:pt x="2" y="191"/>
                  </a:lnTo>
                  <a:lnTo>
                    <a:pt x="2" y="184"/>
                  </a:lnTo>
                  <a:lnTo>
                    <a:pt x="0" y="184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ecaeb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18160" y="5616000"/>
              <a:ext cx="4950720" cy="463680"/>
            </a:xfrm>
            <a:custGeom>
              <a:avLst/>
              <a:gdLst/>
              <a:ahLst/>
              <a:rect l="l" t="t" r="r" b="b"/>
              <a:pathLst>
                <a:path w="1714" h="425">
                  <a:moveTo>
                    <a:pt x="0" y="167"/>
                  </a:moveTo>
                  <a:lnTo>
                    <a:pt x="0" y="169"/>
                  </a:lnTo>
                  <a:lnTo>
                    <a:pt x="4" y="173"/>
                  </a:lnTo>
                  <a:lnTo>
                    <a:pt x="10" y="180"/>
                  </a:lnTo>
                  <a:lnTo>
                    <a:pt x="19" y="188"/>
                  </a:lnTo>
                  <a:lnTo>
                    <a:pt x="33" y="197"/>
                  </a:lnTo>
                  <a:lnTo>
                    <a:pt x="50" y="209"/>
                  </a:lnTo>
                  <a:lnTo>
                    <a:pt x="73" y="219"/>
                  </a:lnTo>
                  <a:lnTo>
                    <a:pt x="102" y="228"/>
                  </a:lnTo>
                  <a:lnTo>
                    <a:pt x="136" y="236"/>
                  </a:lnTo>
                  <a:lnTo>
                    <a:pt x="178" y="241"/>
                  </a:lnTo>
                  <a:lnTo>
                    <a:pt x="228" y="243"/>
                  </a:lnTo>
                  <a:lnTo>
                    <a:pt x="286" y="243"/>
                  </a:lnTo>
                  <a:lnTo>
                    <a:pt x="353" y="240"/>
                  </a:lnTo>
                  <a:lnTo>
                    <a:pt x="389" y="236"/>
                  </a:lnTo>
                  <a:lnTo>
                    <a:pt x="430" y="230"/>
                  </a:lnTo>
                  <a:lnTo>
                    <a:pt x="472" y="224"/>
                  </a:lnTo>
                  <a:lnTo>
                    <a:pt x="516" y="217"/>
                  </a:lnTo>
                  <a:lnTo>
                    <a:pt x="562" y="207"/>
                  </a:lnTo>
                  <a:lnTo>
                    <a:pt x="612" y="197"/>
                  </a:lnTo>
                  <a:lnTo>
                    <a:pt x="702" y="175"/>
                  </a:lnTo>
                  <a:lnTo>
                    <a:pt x="798" y="146"/>
                  </a:lnTo>
                  <a:lnTo>
                    <a:pt x="898" y="113"/>
                  </a:lnTo>
                  <a:lnTo>
                    <a:pt x="999" y="79"/>
                  </a:lnTo>
                  <a:lnTo>
                    <a:pt x="1105" y="48"/>
                  </a:lnTo>
                  <a:lnTo>
                    <a:pt x="1212" y="21"/>
                  </a:lnTo>
                  <a:lnTo>
                    <a:pt x="1319" y="6"/>
                  </a:lnTo>
                  <a:lnTo>
                    <a:pt x="1373" y="0"/>
                  </a:lnTo>
                  <a:lnTo>
                    <a:pt x="1427" y="0"/>
                  </a:lnTo>
                  <a:lnTo>
                    <a:pt x="1459" y="2"/>
                  </a:lnTo>
                  <a:lnTo>
                    <a:pt x="1490" y="8"/>
                  </a:lnTo>
                  <a:lnTo>
                    <a:pt x="1548" y="25"/>
                  </a:lnTo>
                  <a:lnTo>
                    <a:pt x="1596" y="48"/>
                  </a:lnTo>
                  <a:lnTo>
                    <a:pt x="1636" y="77"/>
                  </a:lnTo>
                  <a:lnTo>
                    <a:pt x="1668" y="108"/>
                  </a:lnTo>
                  <a:lnTo>
                    <a:pt x="1693" y="140"/>
                  </a:lnTo>
                  <a:lnTo>
                    <a:pt x="1709" y="171"/>
                  </a:lnTo>
                  <a:lnTo>
                    <a:pt x="1714" y="199"/>
                  </a:lnTo>
                  <a:lnTo>
                    <a:pt x="1711" y="228"/>
                  </a:lnTo>
                  <a:lnTo>
                    <a:pt x="1699" y="263"/>
                  </a:lnTo>
                  <a:lnTo>
                    <a:pt x="1678" y="299"/>
                  </a:lnTo>
                  <a:lnTo>
                    <a:pt x="1665" y="318"/>
                  </a:lnTo>
                  <a:lnTo>
                    <a:pt x="1647" y="337"/>
                  </a:lnTo>
                  <a:lnTo>
                    <a:pt x="1628" y="354"/>
                  </a:lnTo>
                  <a:lnTo>
                    <a:pt x="1605" y="372"/>
                  </a:lnTo>
                  <a:lnTo>
                    <a:pt x="1580" y="385"/>
                  </a:lnTo>
                  <a:lnTo>
                    <a:pt x="1551" y="398"/>
                  </a:lnTo>
                  <a:lnTo>
                    <a:pt x="1519" y="410"/>
                  </a:lnTo>
                  <a:lnTo>
                    <a:pt x="1480" y="418"/>
                  </a:lnTo>
                  <a:lnTo>
                    <a:pt x="1440" y="423"/>
                  </a:lnTo>
                  <a:lnTo>
                    <a:pt x="1396" y="425"/>
                  </a:lnTo>
                  <a:lnTo>
                    <a:pt x="1350" y="425"/>
                  </a:lnTo>
                  <a:lnTo>
                    <a:pt x="1310" y="421"/>
                  </a:lnTo>
                  <a:lnTo>
                    <a:pt x="1273" y="416"/>
                  </a:lnTo>
                  <a:lnTo>
                    <a:pt x="1239" y="406"/>
                  </a:lnTo>
                  <a:lnTo>
                    <a:pt x="1208" y="396"/>
                  </a:lnTo>
                  <a:lnTo>
                    <a:pt x="1181" y="385"/>
                  </a:lnTo>
                  <a:lnTo>
                    <a:pt x="1158" y="374"/>
                  </a:lnTo>
                  <a:lnTo>
                    <a:pt x="1137" y="360"/>
                  </a:lnTo>
                  <a:lnTo>
                    <a:pt x="1107" y="333"/>
                  </a:lnTo>
                  <a:lnTo>
                    <a:pt x="1084" y="307"/>
                  </a:lnTo>
                  <a:lnTo>
                    <a:pt x="1072" y="284"/>
                  </a:lnTo>
                  <a:lnTo>
                    <a:pt x="1068" y="266"/>
                  </a:lnTo>
                  <a:lnTo>
                    <a:pt x="1076" y="278"/>
                  </a:lnTo>
                  <a:lnTo>
                    <a:pt x="1085" y="289"/>
                  </a:lnTo>
                  <a:lnTo>
                    <a:pt x="1112" y="307"/>
                  </a:lnTo>
                  <a:lnTo>
                    <a:pt x="1147" y="320"/>
                  </a:lnTo>
                  <a:lnTo>
                    <a:pt x="1189" y="331"/>
                  </a:lnTo>
                  <a:lnTo>
                    <a:pt x="1237" y="339"/>
                  </a:lnTo>
                  <a:lnTo>
                    <a:pt x="1287" y="345"/>
                  </a:lnTo>
                  <a:lnTo>
                    <a:pt x="1390" y="347"/>
                  </a:lnTo>
                  <a:lnTo>
                    <a:pt x="1446" y="343"/>
                  </a:lnTo>
                  <a:lnTo>
                    <a:pt x="1502" y="335"/>
                  </a:lnTo>
                  <a:lnTo>
                    <a:pt x="1551" y="324"/>
                  </a:lnTo>
                  <a:lnTo>
                    <a:pt x="1597" y="307"/>
                  </a:lnTo>
                  <a:lnTo>
                    <a:pt x="1636" y="287"/>
                  </a:lnTo>
                  <a:lnTo>
                    <a:pt x="1651" y="274"/>
                  </a:lnTo>
                  <a:lnTo>
                    <a:pt x="1674" y="247"/>
                  </a:lnTo>
                  <a:lnTo>
                    <a:pt x="1680" y="232"/>
                  </a:lnTo>
                  <a:lnTo>
                    <a:pt x="1684" y="215"/>
                  </a:lnTo>
                  <a:lnTo>
                    <a:pt x="1684" y="197"/>
                  </a:lnTo>
                  <a:lnTo>
                    <a:pt x="1674" y="165"/>
                  </a:lnTo>
                  <a:lnTo>
                    <a:pt x="1659" y="140"/>
                  </a:lnTo>
                  <a:lnTo>
                    <a:pt x="1636" y="121"/>
                  </a:lnTo>
                  <a:lnTo>
                    <a:pt x="1605" y="108"/>
                  </a:lnTo>
                  <a:lnTo>
                    <a:pt x="1569" y="98"/>
                  </a:lnTo>
                  <a:lnTo>
                    <a:pt x="1523" y="94"/>
                  </a:lnTo>
                  <a:lnTo>
                    <a:pt x="1471" y="96"/>
                  </a:lnTo>
                  <a:lnTo>
                    <a:pt x="1410" y="102"/>
                  </a:lnTo>
                  <a:lnTo>
                    <a:pt x="1375" y="108"/>
                  </a:lnTo>
                  <a:lnTo>
                    <a:pt x="1335" y="117"/>
                  </a:lnTo>
                  <a:lnTo>
                    <a:pt x="1293" y="131"/>
                  </a:lnTo>
                  <a:lnTo>
                    <a:pt x="1247" y="144"/>
                  </a:lnTo>
                  <a:lnTo>
                    <a:pt x="1199" y="161"/>
                  </a:lnTo>
                  <a:lnTo>
                    <a:pt x="1149" y="178"/>
                  </a:lnTo>
                  <a:lnTo>
                    <a:pt x="1097" y="196"/>
                  </a:lnTo>
                  <a:lnTo>
                    <a:pt x="1045" y="215"/>
                  </a:lnTo>
                  <a:lnTo>
                    <a:pt x="938" y="253"/>
                  </a:lnTo>
                  <a:lnTo>
                    <a:pt x="830" y="287"/>
                  </a:lnTo>
                  <a:lnTo>
                    <a:pt x="729" y="316"/>
                  </a:lnTo>
                  <a:lnTo>
                    <a:pt x="681" y="328"/>
                  </a:lnTo>
                  <a:lnTo>
                    <a:pt x="635" y="335"/>
                  </a:lnTo>
                  <a:lnTo>
                    <a:pt x="552" y="345"/>
                  </a:lnTo>
                  <a:lnTo>
                    <a:pt x="476" y="349"/>
                  </a:lnTo>
                  <a:lnTo>
                    <a:pt x="407" y="349"/>
                  </a:lnTo>
                  <a:lnTo>
                    <a:pt x="343" y="343"/>
                  </a:lnTo>
                  <a:lnTo>
                    <a:pt x="286" y="333"/>
                  </a:lnTo>
                  <a:lnTo>
                    <a:pt x="234" y="322"/>
                  </a:lnTo>
                  <a:lnTo>
                    <a:pt x="190" y="307"/>
                  </a:lnTo>
                  <a:lnTo>
                    <a:pt x="150" y="291"/>
                  </a:lnTo>
                  <a:lnTo>
                    <a:pt x="115" y="274"/>
                  </a:lnTo>
                  <a:lnTo>
                    <a:pt x="84" y="255"/>
                  </a:lnTo>
                  <a:lnTo>
                    <a:pt x="59" y="238"/>
                  </a:lnTo>
                  <a:lnTo>
                    <a:pt x="40" y="220"/>
                  </a:lnTo>
                  <a:lnTo>
                    <a:pt x="23" y="203"/>
                  </a:lnTo>
                  <a:lnTo>
                    <a:pt x="12" y="190"/>
                  </a:lnTo>
                  <a:lnTo>
                    <a:pt x="4" y="178"/>
                  </a:lnTo>
                  <a:lnTo>
                    <a:pt x="0" y="171"/>
                  </a:lnTo>
                  <a:lnTo>
                    <a:pt x="0" y="167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ecaeb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380960" y="152280"/>
            <a:ext cx="6391440" cy="1733760"/>
          </a:xfrm>
          <a:prstGeom prst="rect">
            <a:avLst/>
          </a:prstGeom>
          <a:gradFill rotWithShape="0">
            <a:gsLst>
              <a:gs pos="0">
                <a:srgbClr val="ffe9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62651" dir="771721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ing for the Population Me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ma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Sample,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ulation Standard Deviation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3560040" y="3379320"/>
            <a:ext cx="2005200" cy="1342440"/>
            <a:chOff x="3560040" y="3379320"/>
            <a:chExt cx="2005200" cy="1342440"/>
          </a:xfrm>
        </p:grpSpPr>
        <p:sp>
          <p:nvSpPr>
            <p:cNvPr id="1053" name=""/>
            <p:cNvSpPr/>
            <p:nvPr/>
          </p:nvSpPr>
          <p:spPr>
            <a:xfrm>
              <a:off x="4408920" y="3448800"/>
              <a:ext cx="30960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879080" y="4514040"/>
              <a:ext cx="63720" cy="38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943160" y="4528080"/>
              <a:ext cx="88560" cy="1720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5043600" y="4170240"/>
              <a:ext cx="127440" cy="529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71400" y="4170240"/>
              <a:ext cx="31860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69960" y="4080960"/>
              <a:ext cx="1295280" cy="21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202000" y="421884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43040" y="421884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350600" y="343728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60040" y="3758400"/>
              <a:ext cx="116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29240" y="4218840"/>
              <a:ext cx="116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205960" y="3379320"/>
              <a:ext cx="2415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200" y="337932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803760" y="370044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6669-C9E2-4EFA-A831-58A4776635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447920"/>
            <a:ext cx="8534160" cy="533376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609480" y="205416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urrent production rate for producing 5 amp fuses at Ned’s Electric Co. is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r ho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80960" y="152280"/>
            <a:ext cx="6391440" cy="1733760"/>
          </a:xfrm>
          <a:prstGeom prst="rect">
            <a:avLst/>
          </a:prstGeom>
          <a:gradFill rotWithShape="0">
            <a:gsLst>
              <a:gs pos="0">
                <a:srgbClr val="ffe9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62651" dir="771721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sting for the Population Me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mal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Sample,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ulation Standard Deviation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76120" y="2855880"/>
            <a:ext cx="8610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machine has been purchased and installed that, according to the supplier, </a:t>
            </a:r>
            <a:r>
              <a:rPr b="1" i="1" lang="en-US" sz="2800" spc="-1" strike="noStrike">
                <a:solidFill>
                  <a:srgbClr val="ff7c80"/>
                </a:solidFill>
                <a:latin typeface="Times New Roman"/>
              </a:rPr>
              <a:t>will increa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production r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71360" y="3772080"/>
            <a:ext cx="869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ample of 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ndomly selected hours from last month revealed the 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mean hourly production on the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new machine was 256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ith a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mple standar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viation of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r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195560" y="5168880"/>
            <a:ext cx="67719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5 significance lev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Ned conclude that the new machine is fas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6A86-092D-458D-B59E-892CCBD3A2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1075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1078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1081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231120" y="3429000"/>
            <a:ext cx="4126680" cy="459720"/>
            <a:chOff x="231120" y="3429000"/>
            <a:chExt cx="4126680" cy="459720"/>
          </a:xfrm>
        </p:grpSpPr>
        <p:sp>
          <p:nvSpPr>
            <p:cNvPr id="1084" name=""/>
            <p:cNvSpPr/>
            <p:nvPr/>
          </p:nvSpPr>
          <p:spPr>
            <a:xfrm>
              <a:off x="1595520" y="345744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31120" y="3429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202680" y="4390920"/>
            <a:ext cx="4340880" cy="719640"/>
            <a:chOff x="202680" y="4390920"/>
            <a:chExt cx="4340880" cy="719640"/>
          </a:xfrm>
        </p:grpSpPr>
        <p:sp>
          <p:nvSpPr>
            <p:cNvPr id="1087" name=""/>
            <p:cNvSpPr/>
            <p:nvPr/>
          </p:nvSpPr>
          <p:spPr>
            <a:xfrm>
              <a:off x="1571760" y="440676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2680" y="439092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267600" y="990720"/>
            <a:ext cx="236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= 25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248520" y="1447920"/>
            <a:ext cx="238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&gt; 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400800" y="1905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81360" y="2546280"/>
            <a:ext cx="4276800" cy="818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the sample is small and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known, we  use 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76800" y="3878280"/>
            <a:ext cx="32385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8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5924520" y="5334120"/>
            <a:ext cx="1295280" cy="437040"/>
            <a:chOff x="5924520" y="5334120"/>
            <a:chExt cx="1295280" cy="437040"/>
          </a:xfrm>
        </p:grpSpPr>
        <p:sp>
          <p:nvSpPr>
            <p:cNvPr id="1095" name=""/>
            <p:cNvSpPr/>
            <p:nvPr/>
          </p:nvSpPr>
          <p:spPr>
            <a:xfrm>
              <a:off x="5924520" y="5334120"/>
              <a:ext cx="1295280" cy="428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efefe"/>
                </a:gs>
                <a:gs pos="100000">
                  <a:srgbClr val="ffff66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25228" dir="683473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6" name=""/>
            <p:cNvGrpSpPr/>
            <p:nvPr/>
          </p:nvGrpSpPr>
          <p:grpSpPr>
            <a:xfrm>
              <a:off x="6053040" y="5376240"/>
              <a:ext cx="1033920" cy="394920"/>
              <a:chOff x="6053040" y="5376240"/>
              <a:chExt cx="1033920" cy="394920"/>
            </a:xfrm>
          </p:grpSpPr>
          <p:sp>
            <p:nvSpPr>
              <p:cNvPr id="1097" name=""/>
              <p:cNvSpPr/>
              <p:nvPr/>
            </p:nvSpPr>
            <p:spPr>
              <a:xfrm>
                <a:off x="6629040" y="540504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535440" y="540504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349680" y="54050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053040" y="537624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1" name=""/>
          <p:cNvGrpSpPr/>
          <p:nvPr/>
        </p:nvGrpSpPr>
        <p:grpSpPr>
          <a:xfrm>
            <a:off x="4740840" y="4441680"/>
            <a:ext cx="1520280" cy="864720"/>
            <a:chOff x="4740840" y="4441680"/>
            <a:chExt cx="1520280" cy="864720"/>
          </a:xfrm>
        </p:grpSpPr>
        <p:sp>
          <p:nvSpPr>
            <p:cNvPr id="1102" name=""/>
            <p:cNvSpPr/>
            <p:nvPr/>
          </p:nvSpPr>
          <p:spPr>
            <a:xfrm>
              <a:off x="5406840" y="448308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5772240" y="5114880"/>
              <a:ext cx="47520" cy="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819760" y="5122800"/>
              <a:ext cx="65160" cy="1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5894280" y="4909680"/>
              <a:ext cx="9360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87880" y="4910040"/>
              <a:ext cx="236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5579640" y="4902120"/>
              <a:ext cx="14940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00640" y="4857480"/>
              <a:ext cx="960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8120" y="44416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57560" y="46321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011640" y="4940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64000" y="44766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40840" y="466704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301720" y="49053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92920" y="444168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1000080" y="5816520"/>
            <a:ext cx="7238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ject the hypothes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ed can conclude                             that the new machine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ill increase the production rate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0880" y="5724360"/>
            <a:ext cx="18478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491520" y="4348080"/>
            <a:ext cx="1928160" cy="1053720"/>
            <a:chOff x="6491520" y="4348080"/>
            <a:chExt cx="1928160" cy="1053720"/>
          </a:xfrm>
        </p:grpSpPr>
        <p:sp>
          <p:nvSpPr>
            <p:cNvPr id="1119" name=""/>
            <p:cNvSpPr/>
            <p:nvPr/>
          </p:nvSpPr>
          <p:spPr>
            <a:xfrm>
              <a:off x="6491520" y="46987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6930720" y="4348080"/>
              <a:ext cx="1488960" cy="1053720"/>
              <a:chOff x="6930720" y="4348080"/>
              <a:chExt cx="1488960" cy="1053720"/>
            </a:xfrm>
          </p:grpSpPr>
          <p:sp>
            <p:nvSpPr>
              <p:cNvPr id="1121" name=""/>
              <p:cNvSpPr/>
              <p:nvPr/>
            </p:nvSpPr>
            <p:spPr>
              <a:xfrm flipV="1">
                <a:off x="7654320" y="5198400"/>
                <a:ext cx="38160" cy="2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692480" y="5208480"/>
                <a:ext cx="52560" cy="12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7752600" y="4939920"/>
                <a:ext cx="73440" cy="397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826400" y="4940280"/>
                <a:ext cx="45108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7500600" y="4930560"/>
                <a:ext cx="119160" cy="4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930720" y="4873320"/>
                <a:ext cx="1488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812720" y="49780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07920" y="4978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058160" y="4978080"/>
                <a:ext cx="108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56360" y="439236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805520" y="4392360"/>
                <a:ext cx="1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094880" y="439236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946560" y="4392360"/>
                <a:ext cx="108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591320" y="434808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5" name=""/>
          <p:cNvSpPr/>
          <p:nvPr/>
        </p:nvSpPr>
        <p:spPr>
          <a:xfrm>
            <a:off x="4453560" y="346716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-1 = 9 degrees of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35E2-37D3-4BB8-A621-D7A7D3C7DA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1571760" y="371520"/>
            <a:ext cx="601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AmerType Md BT"/>
              </a:rPr>
              <a:t>p-value in hypothesis testing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1137" name=""/>
          <p:cNvSpPr/>
          <p:nvPr/>
        </p:nvSpPr>
        <p:spPr>
          <a:xfrm>
            <a:off x="771480" y="1305000"/>
            <a:ext cx="7620120" cy="3079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Value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robabi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        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ssuming that the null hypothesis is true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of finding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lue of the test statist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at least as extre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uted valu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or the te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-85680" y="4124160"/>
            <a:ext cx="9144000" cy="23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-Valu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maller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than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ignificanc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rejected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arg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n the significance level,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not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je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219320" y="3876840"/>
            <a:ext cx="6781320" cy="304200"/>
            <a:chOff x="1219320" y="3876840"/>
            <a:chExt cx="6781320" cy="304200"/>
          </a:xfrm>
        </p:grpSpPr>
        <p:sp>
          <p:nvSpPr>
            <p:cNvPr id="1140" name=""/>
            <p:cNvSpPr/>
            <p:nvPr/>
          </p:nvSpPr>
          <p:spPr>
            <a:xfrm>
              <a:off x="1219320" y="3978000"/>
              <a:ext cx="6781320" cy="101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66520" y="3876840"/>
              <a:ext cx="190800" cy="3042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1219320" y="6400800"/>
            <a:ext cx="6781320" cy="304560"/>
            <a:chOff x="1219320" y="6400800"/>
            <a:chExt cx="6781320" cy="304560"/>
          </a:xfrm>
        </p:grpSpPr>
        <p:sp>
          <p:nvSpPr>
            <p:cNvPr id="1143" name=""/>
            <p:cNvSpPr/>
            <p:nvPr/>
          </p:nvSpPr>
          <p:spPr>
            <a:xfrm>
              <a:off x="1219320" y="6501960"/>
              <a:ext cx="6781320" cy="101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66520" y="6400800"/>
              <a:ext cx="190800" cy="3045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6D3A-5046-418B-835B-3876D19C7A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75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4305240" y="5048280"/>
            <a:ext cx="4667400" cy="184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7c8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value is smaller th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0.05, reje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The population mean is greater than $4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24000" y="1428840"/>
            <a:ext cx="3695400" cy="535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’s Discount Store chain issues its own credit card.  Lisa, the credit manager, wants to find out if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nthly unpaid balance is more than $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l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gnificance is set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 A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random check of 172 unpai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bal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vealed the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ample mean to be $40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mple standard deviation to be $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Should Lisa conclude that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 mean is greater than $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3868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2200320" y="276120"/>
            <a:ext cx="2268360" cy="1133640"/>
            <a:chOff x="2200320" y="276120"/>
            <a:chExt cx="2268360" cy="1133640"/>
          </a:xfrm>
        </p:grpSpPr>
        <p:pic>
          <p:nvPicPr>
            <p:cNvPr id="1149" name="" descr=""/>
            <p:cNvPicPr/>
            <p:nvPr/>
          </p:nvPicPr>
          <p:blipFill>
            <a:blip r:embed="rId3"/>
            <a:stretch/>
          </p:blipFill>
          <p:spPr>
            <a:xfrm>
              <a:off x="3724200" y="276120"/>
              <a:ext cx="7444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0" name=""/>
            <p:cNvSpPr txBox="1"/>
            <p:nvPr/>
          </p:nvSpPr>
          <p:spPr>
            <a:xfrm>
              <a:off x="2200320" y="399960"/>
              <a:ext cx="144792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Righ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254472" dir="10629712" blurRad="0" rotWithShape="0">
                      <a:srgbClr val="b2b2b2">
                        <a:alpha val="50000"/>
                      </a:srgbClr>
                    </a:outerShdw>
                  </a:effectLst>
                  <a:latin typeface="Tahoma"/>
                </a:rPr>
                <a:t>Recal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254472" dir="10629712" blurRad="0" rotWithShape="0">
                    <a:srgbClr val="b2b2b2">
                      <a:alpha val="50000"/>
                    </a:srgbClr>
                  </a:outerShdw>
                </a:effectLst>
                <a:latin typeface="Tahoma"/>
                <a:ea typeface="Tahoma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4800600" y="3657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.42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81360" y="685800"/>
            <a:ext cx="44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revious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etermi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4876920" y="3276720"/>
            <a:ext cx="3429000" cy="228600"/>
            <a:chOff x="4876920" y="3276720"/>
            <a:chExt cx="3429000" cy="228600"/>
          </a:xfrm>
        </p:grpSpPr>
        <p:sp>
          <p:nvSpPr>
            <p:cNvPr id="1154" name=""/>
            <p:cNvSpPr/>
            <p:nvPr/>
          </p:nvSpPr>
          <p:spPr>
            <a:xfrm>
              <a:off x="4876920" y="3352680"/>
              <a:ext cx="3429000" cy="763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518880" y="3276720"/>
              <a:ext cx="96480" cy="22860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6248520" y="3657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5 - .49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638680" y="4129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.00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4981320" y="1995480"/>
            <a:ext cx="3137400" cy="1269720"/>
            <a:chOff x="4981320" y="1995480"/>
            <a:chExt cx="3137400" cy="1269720"/>
          </a:xfrm>
        </p:grpSpPr>
        <p:sp>
          <p:nvSpPr>
            <p:cNvPr id="1159" name=""/>
            <p:cNvSpPr/>
            <p:nvPr/>
          </p:nvSpPr>
          <p:spPr>
            <a:xfrm>
              <a:off x="5778360" y="2070000"/>
              <a:ext cx="282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6172200" y="2982960"/>
              <a:ext cx="5868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230880" y="2992320"/>
              <a:ext cx="856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6326280" y="2687760"/>
              <a:ext cx="1141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440400" y="2687760"/>
              <a:ext cx="284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940000" y="2678040"/>
              <a:ext cx="181080" cy="5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656320" y="2622600"/>
              <a:ext cx="1171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660800" y="233208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44880" y="233208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313400" y="23320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895440" y="228132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06760" y="19954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30080" y="228132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68480" y="2716200"/>
              <a:ext cx="255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57480" y="271620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22560" y="204624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81320" y="233208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498720" y="1995480"/>
              <a:ext cx="26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4FFC-75CA-425F-BFF3-6FC3B4B8BB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75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5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950"/>
                            </p:stCondLst>
                            <p:childTnLst>
                              <p:par>
                                <p:cTn id="8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5" dur="75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0" dur="75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5" dur="75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63680" y="3924360"/>
          <a:ext cx="5205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924360"/>
                    <a:ext cx="520560" cy="47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12197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85640" y="1552680"/>
          <a:ext cx="5144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1552680"/>
                    <a:ext cx="514440" cy="46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91658" dir="1281766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143000" y="1447920"/>
            <a:ext cx="74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uc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test of hypothesis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about a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population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1760" y="6048360"/>
            <a:ext cx="6029280" cy="276120"/>
            <a:chOff x="1571760" y="6048360"/>
            <a:chExt cx="6029280" cy="276120"/>
          </a:xfrm>
        </p:grpSpPr>
        <p:sp>
          <p:nvSpPr>
            <p:cNvPr id="67" name=""/>
            <p:cNvSpPr/>
            <p:nvPr/>
          </p:nvSpPr>
          <p:spPr>
            <a:xfrm>
              <a:off x="1571760" y="6162480"/>
              <a:ext cx="6029280" cy="57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4433760" y="6048360"/>
              <a:ext cx="27648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1295280" y="2581200"/>
            <a:ext cx="74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duc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test of hypothesis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about a                    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population pro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3768840"/>
            <a:ext cx="74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lain the relationshi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twee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hypothesis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testin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confidence interval e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4835520"/>
            <a:ext cx="74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ute the probability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Type II erro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power of a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5560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76280" y="2657520"/>
          <a:ext cx="514440" cy="48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6280" y="2657520"/>
                    <a:ext cx="514440" cy="48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9604" dir="135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87440" y="4981680"/>
          <a:ext cx="512640" cy="514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440" y="4981680"/>
                    <a:ext cx="512640" cy="51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71785" dir="135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7649-096B-4665-8C57-16B066ADF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2057400" y="2646360"/>
            <a:ext cx="838080" cy="990720"/>
          </a:xfrm>
          <a:prstGeom prst="downArrow">
            <a:avLst>
              <a:gd name="adj1" fmla="val 50000"/>
              <a:gd name="adj2" fmla="val 29553"/>
            </a:avLst>
          </a:prstGeom>
          <a:gradFill rotWithShape="0">
            <a:gsLst>
              <a:gs pos="0">
                <a:srgbClr val="ff3300"/>
              </a:gs>
              <a:gs pos="50000">
                <a:srgbClr val="ffff66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419880" y="2619360"/>
            <a:ext cx="838080" cy="990720"/>
          </a:xfrm>
          <a:prstGeom prst="downArrow">
            <a:avLst>
              <a:gd name="adj1" fmla="val 50000"/>
              <a:gd name="adj2" fmla="val 29553"/>
            </a:avLst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04920" y="3733920"/>
            <a:ext cx="3886200" cy="88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omputed value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876920" y="3733920"/>
            <a:ext cx="4038480" cy="88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omputed value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762200" y="5952960"/>
            <a:ext cx="5638680" cy="526680"/>
            <a:chOff x="1762200" y="5952960"/>
            <a:chExt cx="5638680" cy="526680"/>
          </a:xfrm>
        </p:grpSpPr>
        <p:sp>
          <p:nvSpPr>
            <p:cNvPr id="1182" name=""/>
            <p:cNvSpPr/>
            <p:nvPr/>
          </p:nvSpPr>
          <p:spPr>
            <a:xfrm>
              <a:off x="1762200" y="5952960"/>
              <a:ext cx="5638680" cy="314640"/>
            </a:xfrm>
            <a:custGeom>
              <a:avLst/>
              <a:gdLst/>
              <a:ahLst/>
              <a:rect l="l" t="t" r="r" b="b"/>
              <a:pathLst>
                <a:path w="1952" h="367">
                  <a:moveTo>
                    <a:pt x="0" y="184"/>
                  </a:moveTo>
                  <a:lnTo>
                    <a:pt x="19" y="214"/>
                  </a:lnTo>
                  <a:lnTo>
                    <a:pt x="42" y="237"/>
                  </a:lnTo>
                  <a:lnTo>
                    <a:pt x="71" y="254"/>
                  </a:lnTo>
                  <a:lnTo>
                    <a:pt x="104" y="266"/>
                  </a:lnTo>
                  <a:lnTo>
                    <a:pt x="142" y="270"/>
                  </a:lnTo>
                  <a:lnTo>
                    <a:pt x="182" y="270"/>
                  </a:lnTo>
                  <a:lnTo>
                    <a:pt x="228" y="266"/>
                  </a:lnTo>
                  <a:lnTo>
                    <a:pt x="276" y="258"/>
                  </a:lnTo>
                  <a:lnTo>
                    <a:pt x="326" y="247"/>
                  </a:lnTo>
                  <a:lnTo>
                    <a:pt x="378" y="232"/>
                  </a:lnTo>
                  <a:lnTo>
                    <a:pt x="489" y="197"/>
                  </a:lnTo>
                  <a:lnTo>
                    <a:pt x="606" y="159"/>
                  </a:lnTo>
                  <a:lnTo>
                    <a:pt x="723" y="119"/>
                  </a:lnTo>
                  <a:lnTo>
                    <a:pt x="827" y="88"/>
                  </a:lnTo>
                  <a:lnTo>
                    <a:pt x="928" y="61"/>
                  </a:lnTo>
                  <a:lnTo>
                    <a:pt x="1026" y="40"/>
                  </a:lnTo>
                  <a:lnTo>
                    <a:pt x="1118" y="25"/>
                  </a:lnTo>
                  <a:lnTo>
                    <a:pt x="1204" y="11"/>
                  </a:lnTo>
                  <a:lnTo>
                    <a:pt x="1285" y="4"/>
                  </a:lnTo>
                  <a:lnTo>
                    <a:pt x="1356" y="0"/>
                  </a:lnTo>
                  <a:lnTo>
                    <a:pt x="1419" y="0"/>
                  </a:lnTo>
                  <a:lnTo>
                    <a:pt x="1463" y="4"/>
                  </a:lnTo>
                  <a:lnTo>
                    <a:pt x="1505" y="8"/>
                  </a:lnTo>
                  <a:lnTo>
                    <a:pt x="1546" y="13"/>
                  </a:lnTo>
                  <a:lnTo>
                    <a:pt x="1582" y="21"/>
                  </a:lnTo>
                  <a:lnTo>
                    <a:pt x="1651" y="40"/>
                  </a:lnTo>
                  <a:lnTo>
                    <a:pt x="1709" y="63"/>
                  </a:lnTo>
                  <a:lnTo>
                    <a:pt x="1760" y="88"/>
                  </a:lnTo>
                  <a:lnTo>
                    <a:pt x="1803" y="117"/>
                  </a:lnTo>
                  <a:lnTo>
                    <a:pt x="1839" y="147"/>
                  </a:lnTo>
                  <a:lnTo>
                    <a:pt x="1870" y="180"/>
                  </a:lnTo>
                  <a:lnTo>
                    <a:pt x="1895" y="210"/>
                  </a:lnTo>
                  <a:lnTo>
                    <a:pt x="1914" y="241"/>
                  </a:lnTo>
                  <a:lnTo>
                    <a:pt x="1927" y="270"/>
                  </a:lnTo>
                  <a:lnTo>
                    <a:pt x="1939" y="295"/>
                  </a:lnTo>
                  <a:lnTo>
                    <a:pt x="1944" y="318"/>
                  </a:lnTo>
                  <a:lnTo>
                    <a:pt x="1950" y="337"/>
                  </a:lnTo>
                  <a:lnTo>
                    <a:pt x="1952" y="350"/>
                  </a:lnTo>
                  <a:lnTo>
                    <a:pt x="1952" y="358"/>
                  </a:lnTo>
                  <a:lnTo>
                    <a:pt x="1931" y="306"/>
                  </a:lnTo>
                  <a:lnTo>
                    <a:pt x="1904" y="260"/>
                  </a:lnTo>
                  <a:lnTo>
                    <a:pt x="1874" y="220"/>
                  </a:lnTo>
                  <a:lnTo>
                    <a:pt x="1837" y="188"/>
                  </a:lnTo>
                  <a:lnTo>
                    <a:pt x="1799" y="161"/>
                  </a:lnTo>
                  <a:lnTo>
                    <a:pt x="1755" y="140"/>
                  </a:lnTo>
                  <a:lnTo>
                    <a:pt x="1709" y="122"/>
                  </a:lnTo>
                  <a:lnTo>
                    <a:pt x="1661" y="111"/>
                  </a:lnTo>
                  <a:lnTo>
                    <a:pt x="1607" y="103"/>
                  </a:lnTo>
                  <a:lnTo>
                    <a:pt x="1553" y="101"/>
                  </a:lnTo>
                  <a:lnTo>
                    <a:pt x="1496" y="101"/>
                  </a:lnTo>
                  <a:lnTo>
                    <a:pt x="1438" y="105"/>
                  </a:lnTo>
                  <a:lnTo>
                    <a:pt x="1377" y="113"/>
                  </a:lnTo>
                  <a:lnTo>
                    <a:pt x="1316" y="122"/>
                  </a:lnTo>
                  <a:lnTo>
                    <a:pt x="1191" y="149"/>
                  </a:lnTo>
                  <a:lnTo>
                    <a:pt x="1062" y="182"/>
                  </a:lnTo>
                  <a:lnTo>
                    <a:pt x="936" y="218"/>
                  </a:lnTo>
                  <a:lnTo>
                    <a:pt x="813" y="256"/>
                  </a:lnTo>
                  <a:lnTo>
                    <a:pt x="696" y="293"/>
                  </a:lnTo>
                  <a:lnTo>
                    <a:pt x="640" y="310"/>
                  </a:lnTo>
                  <a:lnTo>
                    <a:pt x="587" y="325"/>
                  </a:lnTo>
                  <a:lnTo>
                    <a:pt x="537" y="339"/>
                  </a:lnTo>
                  <a:lnTo>
                    <a:pt x="489" y="350"/>
                  </a:lnTo>
                  <a:lnTo>
                    <a:pt x="443" y="360"/>
                  </a:lnTo>
                  <a:lnTo>
                    <a:pt x="403" y="365"/>
                  </a:lnTo>
                  <a:lnTo>
                    <a:pt x="364" y="367"/>
                  </a:lnTo>
                  <a:lnTo>
                    <a:pt x="332" y="367"/>
                  </a:lnTo>
                  <a:lnTo>
                    <a:pt x="272" y="362"/>
                  </a:lnTo>
                  <a:lnTo>
                    <a:pt x="222" y="352"/>
                  </a:lnTo>
                  <a:lnTo>
                    <a:pt x="178" y="341"/>
                  </a:lnTo>
                  <a:lnTo>
                    <a:pt x="140" y="329"/>
                  </a:lnTo>
                  <a:lnTo>
                    <a:pt x="107" y="314"/>
                  </a:lnTo>
                  <a:lnTo>
                    <a:pt x="81" y="298"/>
                  </a:lnTo>
                  <a:lnTo>
                    <a:pt x="59" y="283"/>
                  </a:lnTo>
                  <a:lnTo>
                    <a:pt x="42" y="266"/>
                  </a:lnTo>
                  <a:lnTo>
                    <a:pt x="29" y="251"/>
                  </a:lnTo>
                  <a:lnTo>
                    <a:pt x="19" y="235"/>
                  </a:lnTo>
                  <a:lnTo>
                    <a:pt x="12" y="222"/>
                  </a:lnTo>
                  <a:lnTo>
                    <a:pt x="6" y="209"/>
                  </a:lnTo>
                  <a:lnTo>
                    <a:pt x="4" y="199"/>
                  </a:lnTo>
                  <a:lnTo>
                    <a:pt x="2" y="191"/>
                  </a:lnTo>
                  <a:lnTo>
                    <a:pt x="2" y="184"/>
                  </a:lnTo>
                  <a:lnTo>
                    <a:pt x="0" y="184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66"/>
                </a:gs>
                <a:gs pos="100000">
                  <a:srgbClr val="ff33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027160" y="6115320"/>
              <a:ext cx="4951080" cy="364320"/>
            </a:xfrm>
            <a:custGeom>
              <a:avLst/>
              <a:gdLst/>
              <a:ahLst/>
              <a:rect l="l" t="t" r="r" b="b"/>
              <a:pathLst>
                <a:path w="1714" h="425">
                  <a:moveTo>
                    <a:pt x="0" y="167"/>
                  </a:moveTo>
                  <a:lnTo>
                    <a:pt x="0" y="169"/>
                  </a:lnTo>
                  <a:lnTo>
                    <a:pt x="4" y="173"/>
                  </a:lnTo>
                  <a:lnTo>
                    <a:pt x="10" y="180"/>
                  </a:lnTo>
                  <a:lnTo>
                    <a:pt x="19" y="188"/>
                  </a:lnTo>
                  <a:lnTo>
                    <a:pt x="33" y="197"/>
                  </a:lnTo>
                  <a:lnTo>
                    <a:pt x="50" y="209"/>
                  </a:lnTo>
                  <a:lnTo>
                    <a:pt x="73" y="219"/>
                  </a:lnTo>
                  <a:lnTo>
                    <a:pt x="102" y="228"/>
                  </a:lnTo>
                  <a:lnTo>
                    <a:pt x="136" y="236"/>
                  </a:lnTo>
                  <a:lnTo>
                    <a:pt x="178" y="241"/>
                  </a:lnTo>
                  <a:lnTo>
                    <a:pt x="228" y="243"/>
                  </a:lnTo>
                  <a:lnTo>
                    <a:pt x="286" y="243"/>
                  </a:lnTo>
                  <a:lnTo>
                    <a:pt x="353" y="240"/>
                  </a:lnTo>
                  <a:lnTo>
                    <a:pt x="389" y="236"/>
                  </a:lnTo>
                  <a:lnTo>
                    <a:pt x="430" y="230"/>
                  </a:lnTo>
                  <a:lnTo>
                    <a:pt x="472" y="224"/>
                  </a:lnTo>
                  <a:lnTo>
                    <a:pt x="516" y="217"/>
                  </a:lnTo>
                  <a:lnTo>
                    <a:pt x="562" y="207"/>
                  </a:lnTo>
                  <a:lnTo>
                    <a:pt x="612" y="197"/>
                  </a:lnTo>
                  <a:lnTo>
                    <a:pt x="702" y="175"/>
                  </a:lnTo>
                  <a:lnTo>
                    <a:pt x="798" y="146"/>
                  </a:lnTo>
                  <a:lnTo>
                    <a:pt x="898" y="113"/>
                  </a:lnTo>
                  <a:lnTo>
                    <a:pt x="999" y="79"/>
                  </a:lnTo>
                  <a:lnTo>
                    <a:pt x="1105" y="48"/>
                  </a:lnTo>
                  <a:lnTo>
                    <a:pt x="1212" y="21"/>
                  </a:lnTo>
                  <a:lnTo>
                    <a:pt x="1319" y="6"/>
                  </a:lnTo>
                  <a:lnTo>
                    <a:pt x="1373" y="0"/>
                  </a:lnTo>
                  <a:lnTo>
                    <a:pt x="1427" y="0"/>
                  </a:lnTo>
                  <a:lnTo>
                    <a:pt x="1459" y="2"/>
                  </a:lnTo>
                  <a:lnTo>
                    <a:pt x="1490" y="8"/>
                  </a:lnTo>
                  <a:lnTo>
                    <a:pt x="1548" y="25"/>
                  </a:lnTo>
                  <a:lnTo>
                    <a:pt x="1596" y="48"/>
                  </a:lnTo>
                  <a:lnTo>
                    <a:pt x="1636" y="77"/>
                  </a:lnTo>
                  <a:lnTo>
                    <a:pt x="1668" y="108"/>
                  </a:lnTo>
                  <a:lnTo>
                    <a:pt x="1693" y="140"/>
                  </a:lnTo>
                  <a:lnTo>
                    <a:pt x="1709" y="171"/>
                  </a:lnTo>
                  <a:lnTo>
                    <a:pt x="1714" y="199"/>
                  </a:lnTo>
                  <a:lnTo>
                    <a:pt x="1711" y="228"/>
                  </a:lnTo>
                  <a:lnTo>
                    <a:pt x="1699" y="263"/>
                  </a:lnTo>
                  <a:lnTo>
                    <a:pt x="1678" y="299"/>
                  </a:lnTo>
                  <a:lnTo>
                    <a:pt x="1665" y="318"/>
                  </a:lnTo>
                  <a:lnTo>
                    <a:pt x="1647" y="337"/>
                  </a:lnTo>
                  <a:lnTo>
                    <a:pt x="1628" y="354"/>
                  </a:lnTo>
                  <a:lnTo>
                    <a:pt x="1605" y="372"/>
                  </a:lnTo>
                  <a:lnTo>
                    <a:pt x="1580" y="385"/>
                  </a:lnTo>
                  <a:lnTo>
                    <a:pt x="1551" y="398"/>
                  </a:lnTo>
                  <a:lnTo>
                    <a:pt x="1519" y="410"/>
                  </a:lnTo>
                  <a:lnTo>
                    <a:pt x="1480" y="418"/>
                  </a:lnTo>
                  <a:lnTo>
                    <a:pt x="1440" y="423"/>
                  </a:lnTo>
                  <a:lnTo>
                    <a:pt x="1396" y="425"/>
                  </a:lnTo>
                  <a:lnTo>
                    <a:pt x="1350" y="425"/>
                  </a:lnTo>
                  <a:lnTo>
                    <a:pt x="1310" y="421"/>
                  </a:lnTo>
                  <a:lnTo>
                    <a:pt x="1273" y="416"/>
                  </a:lnTo>
                  <a:lnTo>
                    <a:pt x="1239" y="406"/>
                  </a:lnTo>
                  <a:lnTo>
                    <a:pt x="1208" y="396"/>
                  </a:lnTo>
                  <a:lnTo>
                    <a:pt x="1181" y="385"/>
                  </a:lnTo>
                  <a:lnTo>
                    <a:pt x="1158" y="374"/>
                  </a:lnTo>
                  <a:lnTo>
                    <a:pt x="1137" y="360"/>
                  </a:lnTo>
                  <a:lnTo>
                    <a:pt x="1107" y="333"/>
                  </a:lnTo>
                  <a:lnTo>
                    <a:pt x="1084" y="307"/>
                  </a:lnTo>
                  <a:lnTo>
                    <a:pt x="1072" y="284"/>
                  </a:lnTo>
                  <a:lnTo>
                    <a:pt x="1068" y="266"/>
                  </a:lnTo>
                  <a:lnTo>
                    <a:pt x="1076" y="278"/>
                  </a:lnTo>
                  <a:lnTo>
                    <a:pt x="1085" y="289"/>
                  </a:lnTo>
                  <a:lnTo>
                    <a:pt x="1112" y="307"/>
                  </a:lnTo>
                  <a:lnTo>
                    <a:pt x="1147" y="320"/>
                  </a:lnTo>
                  <a:lnTo>
                    <a:pt x="1189" y="331"/>
                  </a:lnTo>
                  <a:lnTo>
                    <a:pt x="1237" y="339"/>
                  </a:lnTo>
                  <a:lnTo>
                    <a:pt x="1287" y="345"/>
                  </a:lnTo>
                  <a:lnTo>
                    <a:pt x="1390" y="347"/>
                  </a:lnTo>
                  <a:lnTo>
                    <a:pt x="1446" y="343"/>
                  </a:lnTo>
                  <a:lnTo>
                    <a:pt x="1502" y="335"/>
                  </a:lnTo>
                  <a:lnTo>
                    <a:pt x="1551" y="324"/>
                  </a:lnTo>
                  <a:lnTo>
                    <a:pt x="1597" y="307"/>
                  </a:lnTo>
                  <a:lnTo>
                    <a:pt x="1636" y="287"/>
                  </a:lnTo>
                  <a:lnTo>
                    <a:pt x="1651" y="274"/>
                  </a:lnTo>
                  <a:lnTo>
                    <a:pt x="1674" y="247"/>
                  </a:lnTo>
                  <a:lnTo>
                    <a:pt x="1680" y="232"/>
                  </a:lnTo>
                  <a:lnTo>
                    <a:pt x="1684" y="215"/>
                  </a:lnTo>
                  <a:lnTo>
                    <a:pt x="1684" y="197"/>
                  </a:lnTo>
                  <a:lnTo>
                    <a:pt x="1674" y="165"/>
                  </a:lnTo>
                  <a:lnTo>
                    <a:pt x="1659" y="140"/>
                  </a:lnTo>
                  <a:lnTo>
                    <a:pt x="1636" y="121"/>
                  </a:lnTo>
                  <a:lnTo>
                    <a:pt x="1605" y="108"/>
                  </a:lnTo>
                  <a:lnTo>
                    <a:pt x="1569" y="98"/>
                  </a:lnTo>
                  <a:lnTo>
                    <a:pt x="1523" y="94"/>
                  </a:lnTo>
                  <a:lnTo>
                    <a:pt x="1471" y="96"/>
                  </a:lnTo>
                  <a:lnTo>
                    <a:pt x="1410" y="102"/>
                  </a:lnTo>
                  <a:lnTo>
                    <a:pt x="1375" y="108"/>
                  </a:lnTo>
                  <a:lnTo>
                    <a:pt x="1335" y="117"/>
                  </a:lnTo>
                  <a:lnTo>
                    <a:pt x="1293" y="131"/>
                  </a:lnTo>
                  <a:lnTo>
                    <a:pt x="1247" y="144"/>
                  </a:lnTo>
                  <a:lnTo>
                    <a:pt x="1199" y="161"/>
                  </a:lnTo>
                  <a:lnTo>
                    <a:pt x="1149" y="178"/>
                  </a:lnTo>
                  <a:lnTo>
                    <a:pt x="1097" y="196"/>
                  </a:lnTo>
                  <a:lnTo>
                    <a:pt x="1045" y="215"/>
                  </a:lnTo>
                  <a:lnTo>
                    <a:pt x="938" y="253"/>
                  </a:lnTo>
                  <a:lnTo>
                    <a:pt x="830" y="287"/>
                  </a:lnTo>
                  <a:lnTo>
                    <a:pt x="729" y="316"/>
                  </a:lnTo>
                  <a:lnTo>
                    <a:pt x="681" y="328"/>
                  </a:lnTo>
                  <a:lnTo>
                    <a:pt x="635" y="335"/>
                  </a:lnTo>
                  <a:lnTo>
                    <a:pt x="552" y="345"/>
                  </a:lnTo>
                  <a:lnTo>
                    <a:pt x="476" y="349"/>
                  </a:lnTo>
                  <a:lnTo>
                    <a:pt x="407" y="349"/>
                  </a:lnTo>
                  <a:lnTo>
                    <a:pt x="343" y="343"/>
                  </a:lnTo>
                  <a:lnTo>
                    <a:pt x="286" y="333"/>
                  </a:lnTo>
                  <a:lnTo>
                    <a:pt x="234" y="322"/>
                  </a:lnTo>
                  <a:lnTo>
                    <a:pt x="190" y="307"/>
                  </a:lnTo>
                  <a:lnTo>
                    <a:pt x="150" y="291"/>
                  </a:lnTo>
                  <a:lnTo>
                    <a:pt x="115" y="274"/>
                  </a:lnTo>
                  <a:lnTo>
                    <a:pt x="84" y="255"/>
                  </a:lnTo>
                  <a:lnTo>
                    <a:pt x="59" y="238"/>
                  </a:lnTo>
                  <a:lnTo>
                    <a:pt x="40" y="220"/>
                  </a:lnTo>
                  <a:lnTo>
                    <a:pt x="23" y="203"/>
                  </a:lnTo>
                  <a:lnTo>
                    <a:pt x="12" y="190"/>
                  </a:lnTo>
                  <a:lnTo>
                    <a:pt x="4" y="178"/>
                  </a:lnTo>
                  <a:lnTo>
                    <a:pt x="0" y="171"/>
                  </a:lnTo>
                  <a:lnTo>
                    <a:pt x="0" y="167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50000">
                  <a:srgbClr val="ffff66"/>
                </a:gs>
                <a:gs pos="100000">
                  <a:srgbClr val="ff3300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162080" y="1336680"/>
            <a:ext cx="2419200" cy="1092960"/>
            <a:chOff x="1162080" y="1336680"/>
            <a:chExt cx="2419200" cy="1092960"/>
          </a:xfrm>
        </p:grpSpPr>
        <p:sp>
          <p:nvSpPr>
            <p:cNvPr id="1185" name=""/>
            <p:cNvSpPr txBox="1"/>
            <p:nvPr/>
          </p:nvSpPr>
          <p:spPr>
            <a:xfrm>
              <a:off x="1162080" y="1336680"/>
              <a:ext cx="241920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Impact"/>
                </a:rPr>
                <a:t>One-Tai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186" name=""/>
            <p:cNvGrpSpPr/>
            <p:nvPr/>
          </p:nvGrpSpPr>
          <p:grpSpPr>
            <a:xfrm>
              <a:off x="1887480" y="1841040"/>
              <a:ext cx="1284480" cy="588600"/>
              <a:chOff x="1887480" y="1841040"/>
              <a:chExt cx="1284480" cy="588600"/>
            </a:xfrm>
          </p:grpSpPr>
          <p:sp>
            <p:nvSpPr>
              <p:cNvPr id="1187" name=""/>
              <p:cNvSpPr/>
              <p:nvPr/>
            </p:nvSpPr>
            <p:spPr>
              <a:xfrm>
                <a:off x="2740680" y="2179800"/>
                <a:ext cx="10080" cy="249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538720" y="1847880"/>
                <a:ext cx="1800" cy="57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9" name=""/>
              <p:cNvGrpSpPr/>
              <p:nvPr/>
            </p:nvGrpSpPr>
            <p:grpSpPr>
              <a:xfrm>
                <a:off x="2060640" y="1841040"/>
                <a:ext cx="937080" cy="582480"/>
                <a:chOff x="2060640" y="1841040"/>
                <a:chExt cx="937080" cy="582480"/>
              </a:xfrm>
            </p:grpSpPr>
            <p:sp>
              <p:nvSpPr>
                <p:cNvPr id="1190" name=""/>
                <p:cNvSpPr/>
                <p:nvPr/>
              </p:nvSpPr>
              <p:spPr>
                <a:xfrm flipV="1">
                  <a:off x="2060640" y="2419920"/>
                  <a:ext cx="1692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V="1">
                  <a:off x="2077560" y="2412720"/>
                  <a:ext cx="1728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flipV="1">
                  <a:off x="2095200" y="2409480"/>
                  <a:ext cx="1296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108160" y="2402640"/>
                  <a:ext cx="17280" cy="684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19"/>
                      </a:moveTo>
                      <a:lnTo>
                        <a:pt x="1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V="1">
                  <a:off x="2125800" y="2391840"/>
                  <a:ext cx="12960" cy="10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139120" y="2381400"/>
                  <a:ext cx="16920" cy="1044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29"/>
                      </a:moveTo>
                      <a:lnTo>
                        <a:pt x="1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 flipV="1">
                  <a:off x="2156040" y="2370600"/>
                  <a:ext cx="13320" cy="10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V="1">
                  <a:off x="2169360" y="2356560"/>
                  <a:ext cx="16920" cy="14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V="1">
                  <a:off x="2186640" y="2343240"/>
                  <a:ext cx="17280" cy="13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V="1">
                  <a:off x="2204280" y="2324880"/>
                  <a:ext cx="12960" cy="17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217240" y="230436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5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V="1">
                  <a:off x="2234880" y="2283120"/>
                  <a:ext cx="12960" cy="20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247840" y="2258640"/>
                  <a:ext cx="16920" cy="2448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68"/>
                      </a:moveTo>
                      <a:lnTo>
                        <a:pt x="19" y="39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V="1">
                  <a:off x="2265120" y="2230200"/>
                  <a:ext cx="12960" cy="27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2278080" y="2202120"/>
                  <a:ext cx="17280" cy="27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2295720" y="2174400"/>
                  <a:ext cx="17280" cy="28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2313360" y="2142360"/>
                  <a:ext cx="1296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6320" y="2107800"/>
                  <a:ext cx="17280" cy="3456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96"/>
                      </a:moveTo>
                      <a:lnTo>
                        <a:pt x="19" y="48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V="1">
                  <a:off x="2343960" y="2076120"/>
                  <a:ext cx="1296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356920" y="2044800"/>
                  <a:ext cx="16920" cy="3132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87"/>
                      </a:moveTo>
                      <a:lnTo>
                        <a:pt x="19" y="38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V="1">
                  <a:off x="2374200" y="2012760"/>
                  <a:ext cx="1296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 flipV="1">
                  <a:off x="2387160" y="1981440"/>
                  <a:ext cx="1728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 flipV="1">
                  <a:off x="2404800" y="1953360"/>
                  <a:ext cx="17280" cy="28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V="1">
                  <a:off x="2422440" y="1924920"/>
                  <a:ext cx="12960" cy="27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435400" y="1900800"/>
                  <a:ext cx="17280" cy="2448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6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453040" y="1879560"/>
                  <a:ext cx="12960" cy="2088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58"/>
                      </a:moveTo>
                      <a:lnTo>
                        <a:pt x="9" y="2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466000" y="1865520"/>
                  <a:ext cx="16920" cy="140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9"/>
                      </a:moveTo>
                      <a:lnTo>
                        <a:pt x="19" y="2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83280" y="1851840"/>
                  <a:ext cx="12960" cy="1368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38"/>
                      </a:moveTo>
                      <a:lnTo>
                        <a:pt x="10" y="1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V="1">
                  <a:off x="2496240" y="1844640"/>
                  <a:ext cx="17280" cy="7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V="1">
                  <a:off x="2513880" y="1841040"/>
                  <a:ext cx="17280" cy="3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531520" y="1841400"/>
                  <a:ext cx="12960" cy="3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544480" y="1844640"/>
                  <a:ext cx="17280" cy="720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9" y="2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62120" y="1851840"/>
                  <a:ext cx="12960" cy="1368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9" y="3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575080" y="1865520"/>
                  <a:ext cx="16920" cy="1404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0"/>
                      </a:moveTo>
                      <a:lnTo>
                        <a:pt x="19" y="20"/>
                      </a:lnTo>
                      <a:lnTo>
                        <a:pt x="38" y="3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592360" y="1879560"/>
                  <a:ext cx="12960" cy="2088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0"/>
                      </a:moveTo>
                      <a:lnTo>
                        <a:pt x="10" y="29"/>
                      </a:lnTo>
                      <a:lnTo>
                        <a:pt x="2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605320" y="1900800"/>
                  <a:ext cx="17280" cy="2448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622960" y="1925280"/>
                  <a:ext cx="12960" cy="27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635920" y="1953360"/>
                  <a:ext cx="17280" cy="28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653560" y="1981800"/>
                  <a:ext cx="1728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671200" y="2013120"/>
                  <a:ext cx="1296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684160" y="2044800"/>
                  <a:ext cx="16920" cy="3132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0"/>
                      </a:moveTo>
                      <a:lnTo>
                        <a:pt x="19" y="38"/>
                      </a:lnTo>
                      <a:lnTo>
                        <a:pt x="38" y="87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701440" y="2076480"/>
                  <a:ext cx="1296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714400" y="2107800"/>
                  <a:ext cx="17280" cy="3456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0"/>
                      </a:moveTo>
                      <a:lnTo>
                        <a:pt x="20" y="48"/>
                      </a:lnTo>
                      <a:lnTo>
                        <a:pt x="39" y="96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732040" y="2142720"/>
                  <a:ext cx="12960" cy="31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45000" y="2174400"/>
                  <a:ext cx="17280" cy="280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62640" y="2202480"/>
                  <a:ext cx="17280" cy="27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780280" y="2230560"/>
                  <a:ext cx="12960" cy="27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793240" y="2258640"/>
                  <a:ext cx="16920" cy="2448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0"/>
                      </a:moveTo>
                      <a:lnTo>
                        <a:pt x="19" y="39"/>
                      </a:lnTo>
                      <a:lnTo>
                        <a:pt x="38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810520" y="2283120"/>
                  <a:ext cx="12960" cy="20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823480" y="230436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841120" y="2325240"/>
                  <a:ext cx="12960" cy="176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854080" y="2343240"/>
                  <a:ext cx="17280" cy="136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871720" y="2356920"/>
                  <a:ext cx="16920" cy="140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888640" y="2370960"/>
                  <a:ext cx="13320" cy="10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902320" y="2381400"/>
                  <a:ext cx="16920" cy="1044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8" y="2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919240" y="2392200"/>
                  <a:ext cx="12960" cy="10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932560" y="2402640"/>
                  <a:ext cx="17280" cy="684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950200" y="2409480"/>
                  <a:ext cx="1296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63160" y="2413080"/>
                  <a:ext cx="17280" cy="6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980800" y="2419920"/>
                  <a:ext cx="1692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0" name=""/>
              <p:cNvSpPr/>
              <p:nvPr/>
            </p:nvSpPr>
            <p:spPr>
              <a:xfrm>
                <a:off x="1887480" y="2427120"/>
                <a:ext cx="1284480" cy="2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1" name=""/>
          <p:cNvGrpSpPr/>
          <p:nvPr/>
        </p:nvGrpSpPr>
        <p:grpSpPr>
          <a:xfrm>
            <a:off x="5621400" y="1301760"/>
            <a:ext cx="2309760" cy="1152000"/>
            <a:chOff x="5621400" y="1301760"/>
            <a:chExt cx="2309760" cy="1152000"/>
          </a:xfrm>
        </p:grpSpPr>
        <p:sp>
          <p:nvSpPr>
            <p:cNvPr id="1252" name=""/>
            <p:cNvSpPr txBox="1"/>
            <p:nvPr/>
          </p:nvSpPr>
          <p:spPr>
            <a:xfrm>
              <a:off x="5621400" y="1301760"/>
              <a:ext cx="230976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Impact"/>
                </a:rPr>
                <a:t>Two-Tai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211800" y="1824840"/>
              <a:ext cx="1322640" cy="628920"/>
              <a:chOff x="6211800" y="1824840"/>
              <a:chExt cx="1322640" cy="628920"/>
            </a:xfrm>
          </p:grpSpPr>
          <p:sp>
            <p:nvSpPr>
              <p:cNvPr id="1254" name=""/>
              <p:cNvSpPr/>
              <p:nvPr/>
            </p:nvSpPr>
            <p:spPr>
              <a:xfrm>
                <a:off x="7089840" y="2183760"/>
                <a:ext cx="11880" cy="264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644520" y="2189160"/>
                <a:ext cx="11520" cy="264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882120" y="1831680"/>
                <a:ext cx="2160" cy="60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7" name=""/>
              <p:cNvGrpSpPr/>
              <p:nvPr/>
            </p:nvGrpSpPr>
            <p:grpSpPr>
              <a:xfrm>
                <a:off x="6390360" y="1824840"/>
                <a:ext cx="963720" cy="617760"/>
                <a:chOff x="6390360" y="1824840"/>
                <a:chExt cx="963720" cy="617760"/>
              </a:xfrm>
            </p:grpSpPr>
            <p:sp>
              <p:nvSpPr>
                <p:cNvPr id="1258" name=""/>
                <p:cNvSpPr/>
                <p:nvPr/>
              </p:nvSpPr>
              <p:spPr>
                <a:xfrm flipV="1">
                  <a:off x="6390360" y="2439000"/>
                  <a:ext cx="1764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6408000" y="2431440"/>
                  <a:ext cx="18000" cy="7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V="1">
                  <a:off x="6426000" y="2427840"/>
                  <a:ext cx="1332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439320" y="242028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19"/>
                      </a:moveTo>
                      <a:lnTo>
                        <a:pt x="1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V="1">
                  <a:off x="6457320" y="2408760"/>
                  <a:ext cx="1332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6471000" y="239796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29"/>
                      </a:moveTo>
                      <a:lnTo>
                        <a:pt x="1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6488640" y="2386440"/>
                  <a:ext cx="1368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6502320" y="2371320"/>
                  <a:ext cx="17640" cy="1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V="1">
                  <a:off x="6519960" y="2357280"/>
                  <a:ext cx="18000" cy="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V="1">
                  <a:off x="6537960" y="2338560"/>
                  <a:ext cx="13320" cy="1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551640" y="2316240"/>
                  <a:ext cx="18000" cy="2232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5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V="1">
                  <a:off x="6569640" y="2293560"/>
                  <a:ext cx="13320" cy="22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582960" y="2267640"/>
                  <a:ext cx="17280" cy="2592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68"/>
                      </a:moveTo>
                      <a:lnTo>
                        <a:pt x="19" y="39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V="1">
                  <a:off x="6600600" y="223812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V="1">
                  <a:off x="6614280" y="2208240"/>
                  <a:ext cx="1800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V="1">
                  <a:off x="6632280" y="217800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V="1">
                  <a:off x="6650280" y="214488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6663600" y="2107800"/>
                  <a:ext cx="18000" cy="3672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96"/>
                      </a:moveTo>
                      <a:lnTo>
                        <a:pt x="19" y="48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V="1">
                  <a:off x="6681960" y="207432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695280" y="2040840"/>
                  <a:ext cx="17280" cy="3348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87"/>
                      </a:moveTo>
                      <a:lnTo>
                        <a:pt x="19" y="38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V="1">
                  <a:off x="6712920" y="2007000"/>
                  <a:ext cx="13320" cy="33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V="1">
                  <a:off x="6726240" y="1973880"/>
                  <a:ext cx="1800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V="1">
                  <a:off x="6744240" y="194364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V="1">
                  <a:off x="6762600" y="191412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6775920" y="18882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6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6793920" y="1865880"/>
                  <a:ext cx="13320" cy="2196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58"/>
                      </a:moveTo>
                      <a:lnTo>
                        <a:pt x="9" y="2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807600" y="1850760"/>
                  <a:ext cx="17640" cy="1476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9"/>
                      </a:moveTo>
                      <a:lnTo>
                        <a:pt x="19" y="2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825240" y="1836360"/>
                  <a:ext cx="13320" cy="1440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38"/>
                      </a:moveTo>
                      <a:lnTo>
                        <a:pt x="10" y="1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V="1">
                  <a:off x="6838560" y="1828080"/>
                  <a:ext cx="18000" cy="7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V="1">
                  <a:off x="6856560" y="1824840"/>
                  <a:ext cx="18000" cy="3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6874560" y="1825200"/>
                  <a:ext cx="13320" cy="3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888240" y="182844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9" y="2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906240" y="1836360"/>
                  <a:ext cx="13320" cy="1440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9" y="3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919560" y="1850760"/>
                  <a:ext cx="17640" cy="1476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0"/>
                      </a:moveTo>
                      <a:lnTo>
                        <a:pt x="19" y="20"/>
                      </a:lnTo>
                      <a:lnTo>
                        <a:pt x="38" y="3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937200" y="1865880"/>
                  <a:ext cx="13320" cy="2196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0"/>
                      </a:moveTo>
                      <a:lnTo>
                        <a:pt x="10" y="29"/>
                      </a:lnTo>
                      <a:lnTo>
                        <a:pt x="2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950880" y="18882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6968880" y="191412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6982200" y="194400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000200" y="1973880"/>
                  <a:ext cx="1800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018560" y="2007360"/>
                  <a:ext cx="13320" cy="33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7031880" y="2040840"/>
                  <a:ext cx="17640" cy="3348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0"/>
                      </a:moveTo>
                      <a:lnTo>
                        <a:pt x="19" y="38"/>
                      </a:lnTo>
                      <a:lnTo>
                        <a:pt x="38" y="87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049520" y="207432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062840" y="2107800"/>
                  <a:ext cx="18000" cy="3672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0"/>
                      </a:moveTo>
                      <a:lnTo>
                        <a:pt x="20" y="48"/>
                      </a:lnTo>
                      <a:lnTo>
                        <a:pt x="39" y="96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081200" y="214488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094520" y="217836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112520" y="2208240"/>
                  <a:ext cx="1800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7130520" y="223812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7144200" y="2267640"/>
                  <a:ext cx="17640" cy="2592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0"/>
                      </a:moveTo>
                      <a:lnTo>
                        <a:pt x="19" y="39"/>
                      </a:lnTo>
                      <a:lnTo>
                        <a:pt x="38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161840" y="2293560"/>
                  <a:ext cx="13320" cy="22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7175160" y="2316240"/>
                  <a:ext cx="18000" cy="2232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193160" y="2338560"/>
                  <a:ext cx="13320" cy="1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7206840" y="2357280"/>
                  <a:ext cx="18000" cy="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224840" y="2371680"/>
                  <a:ext cx="17280" cy="1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242480" y="2386800"/>
                  <a:ext cx="1368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256160" y="239796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8" y="2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7273800" y="2409120"/>
                  <a:ext cx="1332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287480" y="242028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305480" y="2427840"/>
                  <a:ext cx="1332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318800" y="2431440"/>
                  <a:ext cx="18000" cy="7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336800" y="2439000"/>
                  <a:ext cx="1728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6211800" y="2446200"/>
                <a:ext cx="1322640" cy="3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9" name=""/>
          <p:cNvSpPr txBox="1"/>
          <p:nvPr/>
        </p:nvSpPr>
        <p:spPr>
          <a:xfrm>
            <a:off x="1571760" y="371520"/>
            <a:ext cx="601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AmerType Md BT"/>
              </a:rPr>
              <a:t>p-value in hypothesis testing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AmerType Md BT"/>
              <a:ea typeface="AmerType Md BT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1380960" y="4657320"/>
            <a:ext cx="7115400" cy="600480"/>
            <a:chOff x="1380960" y="4657320"/>
            <a:chExt cx="7115400" cy="600480"/>
          </a:xfrm>
        </p:grpSpPr>
        <p:grpSp>
          <p:nvGrpSpPr>
            <p:cNvPr id="1321" name=""/>
            <p:cNvGrpSpPr/>
            <p:nvPr/>
          </p:nvGrpSpPr>
          <p:grpSpPr>
            <a:xfrm>
              <a:off x="1380960" y="4657320"/>
              <a:ext cx="2381040" cy="600120"/>
              <a:chOff x="1380960" y="4657320"/>
              <a:chExt cx="2381040" cy="600120"/>
            </a:xfrm>
          </p:grpSpPr>
          <p:sp>
            <p:nvSpPr>
              <p:cNvPr id="1322" name=""/>
              <p:cNvSpPr/>
              <p:nvPr/>
            </p:nvSpPr>
            <p:spPr>
              <a:xfrm>
                <a:off x="1380960" y="4657680"/>
                <a:ext cx="1845360" cy="571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3196800" y="4657320"/>
                <a:ext cx="565200" cy="6001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4" name=""/>
            <p:cNvGrpSpPr/>
            <p:nvPr/>
          </p:nvGrpSpPr>
          <p:grpSpPr>
            <a:xfrm>
              <a:off x="5991120" y="4662360"/>
              <a:ext cx="2505240" cy="595440"/>
              <a:chOff x="5991120" y="4662360"/>
              <a:chExt cx="2505240" cy="595440"/>
            </a:xfrm>
          </p:grpSpPr>
          <p:sp>
            <p:nvSpPr>
              <p:cNvPr id="1325" name=""/>
              <p:cNvSpPr/>
              <p:nvPr/>
            </p:nvSpPr>
            <p:spPr>
              <a:xfrm flipV="1">
                <a:off x="5991120" y="4662360"/>
                <a:ext cx="142920" cy="595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6019920" y="4714920"/>
                <a:ext cx="2476440" cy="542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7" name=""/>
          <p:cNvSpPr/>
          <p:nvPr/>
        </p:nvSpPr>
        <p:spPr>
          <a:xfrm>
            <a:off x="2219400" y="5191200"/>
            <a:ext cx="474336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....|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bsolute valu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8131-829B-442A-B60F-D29BDC727D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8" name=""/>
          <p:cNvGrpSpPr/>
          <p:nvPr/>
        </p:nvGrpSpPr>
        <p:grpSpPr>
          <a:xfrm>
            <a:off x="19080" y="896400"/>
            <a:ext cx="4581000" cy="6075000"/>
            <a:chOff x="19080" y="896400"/>
            <a:chExt cx="4581000" cy="6075000"/>
          </a:xfrm>
        </p:grpSpPr>
        <p:sp>
          <p:nvSpPr>
            <p:cNvPr id="1329" name=""/>
            <p:cNvSpPr/>
            <p:nvPr/>
          </p:nvSpPr>
          <p:spPr>
            <a:xfrm rot="121200">
              <a:off x="410040" y="961920"/>
              <a:ext cx="3831840" cy="5943600"/>
            </a:xfrm>
            <a:custGeom>
              <a:avLst/>
              <a:gdLst/>
              <a:ahLst/>
              <a:rect l="l" t="t" r="r" b="b"/>
              <a:pathLst>
                <a:path w="2085" h="2090">
                  <a:moveTo>
                    <a:pt x="751" y="2087"/>
                  </a:moveTo>
                  <a:lnTo>
                    <a:pt x="754" y="2087"/>
                  </a:lnTo>
                  <a:lnTo>
                    <a:pt x="757" y="2087"/>
                  </a:lnTo>
                  <a:lnTo>
                    <a:pt x="759" y="2087"/>
                  </a:lnTo>
                  <a:lnTo>
                    <a:pt x="762" y="2087"/>
                  </a:lnTo>
                  <a:lnTo>
                    <a:pt x="765" y="2087"/>
                  </a:lnTo>
                  <a:lnTo>
                    <a:pt x="768" y="2087"/>
                  </a:lnTo>
                  <a:lnTo>
                    <a:pt x="770" y="2087"/>
                  </a:lnTo>
                  <a:lnTo>
                    <a:pt x="773" y="2084"/>
                  </a:lnTo>
                  <a:lnTo>
                    <a:pt x="776" y="2084"/>
                  </a:lnTo>
                  <a:lnTo>
                    <a:pt x="776" y="2084"/>
                  </a:lnTo>
                  <a:lnTo>
                    <a:pt x="779" y="2084"/>
                  </a:lnTo>
                  <a:lnTo>
                    <a:pt x="781" y="2084"/>
                  </a:lnTo>
                  <a:lnTo>
                    <a:pt x="781" y="2082"/>
                  </a:lnTo>
                  <a:lnTo>
                    <a:pt x="784" y="2082"/>
                  </a:lnTo>
                  <a:lnTo>
                    <a:pt x="787" y="2082"/>
                  </a:lnTo>
                  <a:lnTo>
                    <a:pt x="790" y="2082"/>
                  </a:lnTo>
                  <a:lnTo>
                    <a:pt x="825" y="2062"/>
                  </a:lnTo>
                  <a:lnTo>
                    <a:pt x="861" y="2040"/>
                  </a:lnTo>
                  <a:lnTo>
                    <a:pt x="894" y="2016"/>
                  </a:lnTo>
                  <a:lnTo>
                    <a:pt x="924" y="1988"/>
                  </a:lnTo>
                  <a:lnTo>
                    <a:pt x="955" y="1958"/>
                  </a:lnTo>
                  <a:lnTo>
                    <a:pt x="982" y="1928"/>
                  </a:lnTo>
                  <a:lnTo>
                    <a:pt x="1010" y="1895"/>
                  </a:lnTo>
                  <a:lnTo>
                    <a:pt x="1037" y="1864"/>
                  </a:lnTo>
                  <a:lnTo>
                    <a:pt x="1040" y="1862"/>
                  </a:lnTo>
                  <a:lnTo>
                    <a:pt x="1043" y="1862"/>
                  </a:lnTo>
                  <a:lnTo>
                    <a:pt x="1045" y="1862"/>
                  </a:lnTo>
                  <a:lnTo>
                    <a:pt x="1048" y="1862"/>
                  </a:lnTo>
                  <a:lnTo>
                    <a:pt x="1051" y="1862"/>
                  </a:lnTo>
                  <a:lnTo>
                    <a:pt x="1054" y="1862"/>
                  </a:lnTo>
                  <a:lnTo>
                    <a:pt x="1056" y="1862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5" y="1870"/>
                  </a:lnTo>
                  <a:lnTo>
                    <a:pt x="1065" y="1870"/>
                  </a:lnTo>
                  <a:lnTo>
                    <a:pt x="1067" y="1873"/>
                  </a:lnTo>
                  <a:lnTo>
                    <a:pt x="1067" y="1873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8" y="1884"/>
                  </a:lnTo>
                  <a:lnTo>
                    <a:pt x="1084" y="1895"/>
                  </a:lnTo>
                  <a:lnTo>
                    <a:pt x="1092" y="1903"/>
                  </a:lnTo>
                  <a:lnTo>
                    <a:pt x="1103" y="1911"/>
                  </a:lnTo>
                  <a:lnTo>
                    <a:pt x="1111" y="1919"/>
                  </a:lnTo>
                  <a:lnTo>
                    <a:pt x="1122" y="1925"/>
                  </a:lnTo>
                  <a:lnTo>
                    <a:pt x="1133" y="1930"/>
                  </a:lnTo>
                  <a:lnTo>
                    <a:pt x="1147" y="1933"/>
                  </a:lnTo>
                  <a:lnTo>
                    <a:pt x="1153" y="1936"/>
                  </a:lnTo>
                  <a:lnTo>
                    <a:pt x="1161" y="1936"/>
                  </a:lnTo>
                  <a:lnTo>
                    <a:pt x="1166" y="1936"/>
                  </a:lnTo>
                  <a:lnTo>
                    <a:pt x="1175" y="1936"/>
                  </a:lnTo>
                  <a:lnTo>
                    <a:pt x="1180" y="1936"/>
                  </a:lnTo>
                  <a:lnTo>
                    <a:pt x="1188" y="1933"/>
                  </a:lnTo>
                  <a:lnTo>
                    <a:pt x="1197" y="1933"/>
                  </a:lnTo>
                  <a:lnTo>
                    <a:pt x="1205" y="1933"/>
                  </a:lnTo>
                  <a:lnTo>
                    <a:pt x="1205" y="1933"/>
                  </a:lnTo>
                  <a:lnTo>
                    <a:pt x="1208" y="1933"/>
                  </a:lnTo>
                  <a:lnTo>
                    <a:pt x="1208" y="1930"/>
                  </a:lnTo>
                  <a:lnTo>
                    <a:pt x="1210" y="1930"/>
                  </a:lnTo>
                  <a:lnTo>
                    <a:pt x="1213" y="1930"/>
                  </a:lnTo>
                  <a:lnTo>
                    <a:pt x="1216" y="1928"/>
                  </a:lnTo>
                  <a:lnTo>
                    <a:pt x="1216" y="1928"/>
                  </a:lnTo>
                  <a:lnTo>
                    <a:pt x="1219" y="1928"/>
                  </a:lnTo>
                  <a:lnTo>
                    <a:pt x="1221" y="1928"/>
                  </a:lnTo>
                  <a:lnTo>
                    <a:pt x="1224" y="1925"/>
                  </a:lnTo>
                  <a:lnTo>
                    <a:pt x="1227" y="1925"/>
                  </a:lnTo>
                  <a:lnTo>
                    <a:pt x="1230" y="1925"/>
                  </a:lnTo>
                  <a:lnTo>
                    <a:pt x="1232" y="1922"/>
                  </a:lnTo>
                  <a:lnTo>
                    <a:pt x="1235" y="1922"/>
                  </a:lnTo>
                  <a:lnTo>
                    <a:pt x="1238" y="1922"/>
                  </a:lnTo>
                  <a:lnTo>
                    <a:pt x="1241" y="1919"/>
                  </a:lnTo>
                  <a:lnTo>
                    <a:pt x="1241" y="1919"/>
                  </a:lnTo>
                  <a:lnTo>
                    <a:pt x="1243" y="1919"/>
                  </a:lnTo>
                  <a:lnTo>
                    <a:pt x="1243" y="1917"/>
                  </a:lnTo>
                  <a:lnTo>
                    <a:pt x="1246" y="1917"/>
                  </a:lnTo>
                  <a:lnTo>
                    <a:pt x="1249" y="1917"/>
                  </a:lnTo>
                  <a:lnTo>
                    <a:pt x="1252" y="1914"/>
                  </a:lnTo>
                  <a:lnTo>
                    <a:pt x="1252" y="1914"/>
                  </a:lnTo>
                  <a:lnTo>
                    <a:pt x="1254" y="1914"/>
                  </a:lnTo>
                  <a:lnTo>
                    <a:pt x="1329" y="1878"/>
                  </a:lnTo>
                  <a:lnTo>
                    <a:pt x="1331" y="1878"/>
                  </a:lnTo>
                  <a:lnTo>
                    <a:pt x="1334" y="1878"/>
                  </a:lnTo>
                  <a:lnTo>
                    <a:pt x="1337" y="1878"/>
                  </a:lnTo>
                  <a:lnTo>
                    <a:pt x="1340" y="1878"/>
                  </a:lnTo>
                  <a:lnTo>
                    <a:pt x="1342" y="1881"/>
                  </a:lnTo>
                  <a:lnTo>
                    <a:pt x="1345" y="1881"/>
                  </a:lnTo>
                  <a:lnTo>
                    <a:pt x="1348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9"/>
                  </a:lnTo>
                  <a:lnTo>
                    <a:pt x="1353" y="1889"/>
                  </a:lnTo>
                  <a:lnTo>
                    <a:pt x="1356" y="1889"/>
                  </a:lnTo>
                  <a:lnTo>
                    <a:pt x="1356" y="1889"/>
                  </a:lnTo>
                  <a:lnTo>
                    <a:pt x="1356" y="1892"/>
                  </a:lnTo>
                  <a:lnTo>
                    <a:pt x="1356" y="1892"/>
                  </a:lnTo>
                  <a:lnTo>
                    <a:pt x="1356" y="1895"/>
                  </a:lnTo>
                  <a:lnTo>
                    <a:pt x="1359" y="1895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64" y="1903"/>
                  </a:lnTo>
                  <a:lnTo>
                    <a:pt x="1370" y="1911"/>
                  </a:lnTo>
                  <a:lnTo>
                    <a:pt x="1375" y="1917"/>
                  </a:lnTo>
                  <a:lnTo>
                    <a:pt x="1384" y="1922"/>
                  </a:lnTo>
                  <a:lnTo>
                    <a:pt x="1389" y="1930"/>
                  </a:lnTo>
                  <a:lnTo>
                    <a:pt x="1395" y="1936"/>
                  </a:lnTo>
                  <a:lnTo>
                    <a:pt x="1403" y="1941"/>
                  </a:lnTo>
                  <a:lnTo>
                    <a:pt x="1408" y="1947"/>
                  </a:lnTo>
                  <a:lnTo>
                    <a:pt x="1414" y="1947"/>
                  </a:lnTo>
                  <a:lnTo>
                    <a:pt x="1417" y="1950"/>
                  </a:lnTo>
                  <a:lnTo>
                    <a:pt x="1422" y="1952"/>
                  </a:lnTo>
                  <a:lnTo>
                    <a:pt x="1428" y="1952"/>
                  </a:lnTo>
                  <a:lnTo>
                    <a:pt x="1436" y="1952"/>
                  </a:lnTo>
                  <a:lnTo>
                    <a:pt x="1441" y="1955"/>
                  </a:lnTo>
                  <a:lnTo>
                    <a:pt x="1447" y="1955"/>
                  </a:lnTo>
                  <a:lnTo>
                    <a:pt x="1452" y="1955"/>
                  </a:lnTo>
                  <a:lnTo>
                    <a:pt x="1494" y="1933"/>
                  </a:lnTo>
                  <a:lnTo>
                    <a:pt x="1529" y="1906"/>
                  </a:lnTo>
                  <a:lnTo>
                    <a:pt x="1560" y="1873"/>
                  </a:lnTo>
                  <a:lnTo>
                    <a:pt x="1590" y="1837"/>
                  </a:lnTo>
                  <a:lnTo>
                    <a:pt x="1617" y="1801"/>
                  </a:lnTo>
                  <a:lnTo>
                    <a:pt x="1645" y="1765"/>
                  </a:lnTo>
                  <a:lnTo>
                    <a:pt x="1672" y="1730"/>
                  </a:lnTo>
                  <a:lnTo>
                    <a:pt x="1703" y="1697"/>
                  </a:lnTo>
                  <a:lnTo>
                    <a:pt x="1733" y="1658"/>
                  </a:lnTo>
                  <a:lnTo>
                    <a:pt x="1763" y="1620"/>
                  </a:lnTo>
                  <a:lnTo>
                    <a:pt x="1793" y="1584"/>
                  </a:lnTo>
                  <a:lnTo>
                    <a:pt x="1821" y="1548"/>
                  </a:lnTo>
                  <a:lnTo>
                    <a:pt x="1848" y="1510"/>
                  </a:lnTo>
                  <a:lnTo>
                    <a:pt x="1873" y="1474"/>
                  </a:lnTo>
                  <a:lnTo>
                    <a:pt x="1898" y="1435"/>
                  </a:lnTo>
                  <a:lnTo>
                    <a:pt x="1920" y="1394"/>
                  </a:lnTo>
                  <a:lnTo>
                    <a:pt x="1945" y="1356"/>
                  </a:lnTo>
                  <a:lnTo>
                    <a:pt x="1967" y="1317"/>
                  </a:lnTo>
                  <a:lnTo>
                    <a:pt x="1991" y="1279"/>
                  </a:lnTo>
                  <a:lnTo>
                    <a:pt x="2013" y="1240"/>
                  </a:lnTo>
                  <a:lnTo>
                    <a:pt x="2033" y="1202"/>
                  </a:lnTo>
                  <a:lnTo>
                    <a:pt x="2052" y="1163"/>
                  </a:lnTo>
                  <a:lnTo>
                    <a:pt x="2071" y="1125"/>
                  </a:lnTo>
                  <a:lnTo>
                    <a:pt x="2085" y="1083"/>
                  </a:lnTo>
                  <a:lnTo>
                    <a:pt x="2085" y="1083"/>
                  </a:lnTo>
                  <a:lnTo>
                    <a:pt x="2085" y="1081"/>
                  </a:lnTo>
                  <a:lnTo>
                    <a:pt x="2085" y="1081"/>
                  </a:lnTo>
                  <a:lnTo>
                    <a:pt x="2085" y="1078"/>
                  </a:lnTo>
                  <a:lnTo>
                    <a:pt x="2082" y="1075"/>
                  </a:lnTo>
                  <a:lnTo>
                    <a:pt x="2082" y="1072"/>
                  </a:lnTo>
                  <a:lnTo>
                    <a:pt x="2082" y="1072"/>
                  </a:lnTo>
                  <a:lnTo>
                    <a:pt x="2079" y="1070"/>
                  </a:lnTo>
                  <a:lnTo>
                    <a:pt x="2079" y="1067"/>
                  </a:lnTo>
                  <a:lnTo>
                    <a:pt x="2077" y="1061"/>
                  </a:lnTo>
                  <a:lnTo>
                    <a:pt x="2074" y="1059"/>
                  </a:lnTo>
                  <a:lnTo>
                    <a:pt x="2071" y="1056"/>
                  </a:lnTo>
                  <a:lnTo>
                    <a:pt x="2068" y="1050"/>
                  </a:lnTo>
                  <a:lnTo>
                    <a:pt x="2066" y="1048"/>
                  </a:lnTo>
                  <a:lnTo>
                    <a:pt x="2063" y="1042"/>
                  </a:lnTo>
                  <a:lnTo>
                    <a:pt x="2060" y="1040"/>
                  </a:lnTo>
                  <a:lnTo>
                    <a:pt x="2057" y="1040"/>
                  </a:lnTo>
                  <a:lnTo>
                    <a:pt x="2057" y="1037"/>
                  </a:lnTo>
                  <a:lnTo>
                    <a:pt x="2055" y="1037"/>
                  </a:lnTo>
                  <a:lnTo>
                    <a:pt x="2052" y="1037"/>
                  </a:lnTo>
                  <a:lnTo>
                    <a:pt x="2052" y="1034"/>
                  </a:lnTo>
                  <a:lnTo>
                    <a:pt x="2049" y="1034"/>
                  </a:lnTo>
                  <a:lnTo>
                    <a:pt x="2049" y="1031"/>
                  </a:lnTo>
                  <a:lnTo>
                    <a:pt x="2046" y="1031"/>
                  </a:lnTo>
                  <a:lnTo>
                    <a:pt x="2044" y="1029"/>
                  </a:lnTo>
                  <a:lnTo>
                    <a:pt x="2038" y="1026"/>
                  </a:lnTo>
                  <a:lnTo>
                    <a:pt x="2035" y="1026"/>
                  </a:lnTo>
                  <a:lnTo>
                    <a:pt x="2030" y="1023"/>
                  </a:lnTo>
                  <a:lnTo>
                    <a:pt x="2027" y="1023"/>
                  </a:lnTo>
                  <a:lnTo>
                    <a:pt x="2022" y="1023"/>
                  </a:lnTo>
                  <a:lnTo>
                    <a:pt x="2019" y="1020"/>
                  </a:lnTo>
                  <a:lnTo>
                    <a:pt x="2016" y="1020"/>
                  </a:lnTo>
                  <a:lnTo>
                    <a:pt x="1991" y="1015"/>
                  </a:lnTo>
                  <a:lnTo>
                    <a:pt x="1967" y="1015"/>
                  </a:lnTo>
                  <a:lnTo>
                    <a:pt x="1945" y="1020"/>
                  </a:lnTo>
                  <a:lnTo>
                    <a:pt x="1920" y="1029"/>
                  </a:lnTo>
                  <a:lnTo>
                    <a:pt x="1901" y="1037"/>
                  </a:lnTo>
                  <a:lnTo>
                    <a:pt x="1879" y="1050"/>
                  </a:lnTo>
                  <a:lnTo>
                    <a:pt x="1859" y="1067"/>
                  </a:lnTo>
                  <a:lnTo>
                    <a:pt x="1843" y="1083"/>
                  </a:lnTo>
                  <a:lnTo>
                    <a:pt x="1840" y="1083"/>
                  </a:lnTo>
                  <a:lnTo>
                    <a:pt x="1837" y="1083"/>
                  </a:lnTo>
                  <a:lnTo>
                    <a:pt x="1835" y="1083"/>
                  </a:lnTo>
                  <a:lnTo>
                    <a:pt x="1832" y="1083"/>
                  </a:lnTo>
                  <a:lnTo>
                    <a:pt x="1832" y="1083"/>
                  </a:lnTo>
                  <a:lnTo>
                    <a:pt x="1829" y="1083"/>
                  </a:lnTo>
                  <a:lnTo>
                    <a:pt x="1826" y="1083"/>
                  </a:lnTo>
                  <a:lnTo>
                    <a:pt x="1824" y="1083"/>
                  </a:lnTo>
                  <a:lnTo>
                    <a:pt x="1835" y="1042"/>
                  </a:lnTo>
                  <a:lnTo>
                    <a:pt x="1854" y="1004"/>
                  </a:lnTo>
                  <a:lnTo>
                    <a:pt x="1873" y="965"/>
                  </a:lnTo>
                  <a:lnTo>
                    <a:pt x="1895" y="927"/>
                  </a:lnTo>
                  <a:lnTo>
                    <a:pt x="1912" y="888"/>
                  </a:lnTo>
                  <a:lnTo>
                    <a:pt x="1923" y="847"/>
                  </a:lnTo>
                  <a:lnTo>
                    <a:pt x="1925" y="803"/>
                  </a:lnTo>
                  <a:lnTo>
                    <a:pt x="1912" y="756"/>
                  </a:lnTo>
                  <a:lnTo>
                    <a:pt x="1901" y="748"/>
                  </a:lnTo>
                  <a:lnTo>
                    <a:pt x="1887" y="743"/>
                  </a:lnTo>
                  <a:lnTo>
                    <a:pt x="1870" y="737"/>
                  </a:lnTo>
                  <a:lnTo>
                    <a:pt x="1854" y="734"/>
                  </a:lnTo>
                  <a:lnTo>
                    <a:pt x="1837" y="732"/>
                  </a:lnTo>
                  <a:lnTo>
                    <a:pt x="1821" y="726"/>
                  </a:lnTo>
                  <a:lnTo>
                    <a:pt x="1807" y="721"/>
                  </a:lnTo>
                  <a:lnTo>
                    <a:pt x="1793" y="710"/>
                  </a:lnTo>
                  <a:lnTo>
                    <a:pt x="1793" y="710"/>
                  </a:lnTo>
                  <a:lnTo>
                    <a:pt x="1793" y="707"/>
                  </a:lnTo>
                  <a:lnTo>
                    <a:pt x="1793" y="704"/>
                  </a:lnTo>
                  <a:lnTo>
                    <a:pt x="1793" y="701"/>
                  </a:lnTo>
                  <a:lnTo>
                    <a:pt x="1793" y="699"/>
                  </a:lnTo>
                  <a:lnTo>
                    <a:pt x="1793" y="696"/>
                  </a:lnTo>
                  <a:lnTo>
                    <a:pt x="1793" y="693"/>
                  </a:lnTo>
                  <a:lnTo>
                    <a:pt x="1793" y="690"/>
                  </a:lnTo>
                  <a:lnTo>
                    <a:pt x="1793" y="690"/>
                  </a:lnTo>
                  <a:lnTo>
                    <a:pt x="1796" y="688"/>
                  </a:lnTo>
                  <a:lnTo>
                    <a:pt x="1796" y="688"/>
                  </a:lnTo>
                  <a:lnTo>
                    <a:pt x="1796" y="685"/>
                  </a:lnTo>
                  <a:lnTo>
                    <a:pt x="1799" y="685"/>
                  </a:lnTo>
                  <a:lnTo>
                    <a:pt x="1799" y="682"/>
                  </a:lnTo>
                  <a:lnTo>
                    <a:pt x="1799" y="682"/>
                  </a:lnTo>
                  <a:lnTo>
                    <a:pt x="1802" y="682"/>
                  </a:lnTo>
                  <a:lnTo>
                    <a:pt x="1802" y="679"/>
                  </a:lnTo>
                  <a:lnTo>
                    <a:pt x="1804" y="677"/>
                  </a:lnTo>
                  <a:lnTo>
                    <a:pt x="1804" y="677"/>
                  </a:lnTo>
                  <a:lnTo>
                    <a:pt x="1807" y="674"/>
                  </a:lnTo>
                  <a:lnTo>
                    <a:pt x="1810" y="671"/>
                  </a:lnTo>
                  <a:lnTo>
                    <a:pt x="1813" y="668"/>
                  </a:lnTo>
                  <a:lnTo>
                    <a:pt x="1815" y="666"/>
                  </a:lnTo>
                  <a:lnTo>
                    <a:pt x="1815" y="660"/>
                  </a:lnTo>
                  <a:lnTo>
                    <a:pt x="1818" y="657"/>
                  </a:lnTo>
                  <a:lnTo>
                    <a:pt x="1821" y="655"/>
                  </a:lnTo>
                  <a:lnTo>
                    <a:pt x="1824" y="652"/>
                  </a:lnTo>
                  <a:lnTo>
                    <a:pt x="1826" y="649"/>
                  </a:lnTo>
                  <a:lnTo>
                    <a:pt x="1826" y="646"/>
                  </a:lnTo>
                  <a:lnTo>
                    <a:pt x="1829" y="644"/>
                  </a:lnTo>
                  <a:lnTo>
                    <a:pt x="1832" y="641"/>
                  </a:lnTo>
                  <a:lnTo>
                    <a:pt x="1832" y="638"/>
                  </a:lnTo>
                  <a:lnTo>
                    <a:pt x="1848" y="613"/>
                  </a:lnTo>
                  <a:lnTo>
                    <a:pt x="1868" y="589"/>
                  </a:lnTo>
                  <a:lnTo>
                    <a:pt x="1887" y="561"/>
                  </a:lnTo>
                  <a:lnTo>
                    <a:pt x="1906" y="536"/>
                  </a:lnTo>
                  <a:lnTo>
                    <a:pt x="1925" y="509"/>
                  </a:lnTo>
                  <a:lnTo>
                    <a:pt x="1939" y="481"/>
                  </a:lnTo>
                  <a:lnTo>
                    <a:pt x="1953" y="451"/>
                  </a:lnTo>
                  <a:lnTo>
                    <a:pt x="1961" y="421"/>
                  </a:lnTo>
                  <a:lnTo>
                    <a:pt x="1961" y="418"/>
                  </a:lnTo>
                  <a:lnTo>
                    <a:pt x="1958" y="415"/>
                  </a:lnTo>
                  <a:lnTo>
                    <a:pt x="1958" y="413"/>
                  </a:lnTo>
                  <a:lnTo>
                    <a:pt x="1956" y="410"/>
                  </a:lnTo>
                  <a:lnTo>
                    <a:pt x="1956" y="407"/>
                  </a:lnTo>
                  <a:lnTo>
                    <a:pt x="1956" y="404"/>
                  </a:lnTo>
                  <a:lnTo>
                    <a:pt x="1953" y="402"/>
                  </a:lnTo>
                  <a:lnTo>
                    <a:pt x="1953" y="399"/>
                  </a:lnTo>
                  <a:lnTo>
                    <a:pt x="1950" y="393"/>
                  </a:lnTo>
                  <a:lnTo>
                    <a:pt x="1945" y="388"/>
                  </a:lnTo>
                  <a:lnTo>
                    <a:pt x="1942" y="382"/>
                  </a:lnTo>
                  <a:lnTo>
                    <a:pt x="1936" y="380"/>
                  </a:lnTo>
                  <a:lnTo>
                    <a:pt x="1931" y="374"/>
                  </a:lnTo>
                  <a:lnTo>
                    <a:pt x="1923" y="369"/>
                  </a:lnTo>
                  <a:lnTo>
                    <a:pt x="1917" y="366"/>
                  </a:lnTo>
                  <a:lnTo>
                    <a:pt x="1912" y="360"/>
                  </a:lnTo>
                  <a:lnTo>
                    <a:pt x="1912" y="360"/>
                  </a:lnTo>
                  <a:lnTo>
                    <a:pt x="1909" y="358"/>
                  </a:lnTo>
                  <a:lnTo>
                    <a:pt x="1906" y="358"/>
                  </a:lnTo>
                  <a:lnTo>
                    <a:pt x="1903" y="355"/>
                  </a:lnTo>
                  <a:lnTo>
                    <a:pt x="1903" y="355"/>
                  </a:lnTo>
                  <a:lnTo>
                    <a:pt x="1901" y="352"/>
                  </a:lnTo>
                  <a:lnTo>
                    <a:pt x="1898" y="352"/>
                  </a:lnTo>
                  <a:lnTo>
                    <a:pt x="1895" y="349"/>
                  </a:lnTo>
                  <a:lnTo>
                    <a:pt x="1892" y="349"/>
                  </a:lnTo>
                  <a:lnTo>
                    <a:pt x="1890" y="349"/>
                  </a:lnTo>
                  <a:lnTo>
                    <a:pt x="1887" y="349"/>
                  </a:lnTo>
                  <a:lnTo>
                    <a:pt x="1887" y="349"/>
                  </a:lnTo>
                  <a:lnTo>
                    <a:pt x="1884" y="349"/>
                  </a:lnTo>
                  <a:lnTo>
                    <a:pt x="1881" y="349"/>
                  </a:lnTo>
                  <a:lnTo>
                    <a:pt x="1881" y="347"/>
                  </a:lnTo>
                  <a:lnTo>
                    <a:pt x="1881" y="347"/>
                  </a:lnTo>
                  <a:lnTo>
                    <a:pt x="1873" y="347"/>
                  </a:lnTo>
                  <a:lnTo>
                    <a:pt x="1868" y="347"/>
                  </a:lnTo>
                  <a:lnTo>
                    <a:pt x="1862" y="347"/>
                  </a:lnTo>
                  <a:lnTo>
                    <a:pt x="1857" y="347"/>
                  </a:lnTo>
                  <a:lnTo>
                    <a:pt x="1851" y="347"/>
                  </a:lnTo>
                  <a:lnTo>
                    <a:pt x="1846" y="349"/>
                  </a:lnTo>
                  <a:lnTo>
                    <a:pt x="1840" y="349"/>
                  </a:lnTo>
                  <a:lnTo>
                    <a:pt x="1832" y="349"/>
                  </a:lnTo>
                  <a:lnTo>
                    <a:pt x="1832" y="352"/>
                  </a:lnTo>
                  <a:lnTo>
                    <a:pt x="1832" y="352"/>
                  </a:lnTo>
                  <a:lnTo>
                    <a:pt x="1829" y="352"/>
                  </a:lnTo>
                  <a:lnTo>
                    <a:pt x="1826" y="352"/>
                  </a:lnTo>
                  <a:lnTo>
                    <a:pt x="1826" y="352"/>
                  </a:lnTo>
                  <a:lnTo>
                    <a:pt x="1824" y="352"/>
                  </a:lnTo>
                  <a:lnTo>
                    <a:pt x="1821" y="352"/>
                  </a:lnTo>
                  <a:lnTo>
                    <a:pt x="1818" y="352"/>
                  </a:lnTo>
                  <a:lnTo>
                    <a:pt x="1782" y="377"/>
                  </a:lnTo>
                  <a:lnTo>
                    <a:pt x="1747" y="402"/>
                  </a:lnTo>
                  <a:lnTo>
                    <a:pt x="1714" y="432"/>
                  </a:lnTo>
                  <a:lnTo>
                    <a:pt x="1681" y="462"/>
                  </a:lnTo>
                  <a:lnTo>
                    <a:pt x="1650" y="495"/>
                  </a:lnTo>
                  <a:lnTo>
                    <a:pt x="1620" y="528"/>
                  </a:lnTo>
                  <a:lnTo>
                    <a:pt x="1587" y="561"/>
                  </a:lnTo>
                  <a:lnTo>
                    <a:pt x="1554" y="594"/>
                  </a:lnTo>
                  <a:lnTo>
                    <a:pt x="1551" y="597"/>
                  </a:lnTo>
                  <a:lnTo>
                    <a:pt x="1549" y="602"/>
                  </a:lnTo>
                  <a:lnTo>
                    <a:pt x="1546" y="605"/>
                  </a:lnTo>
                  <a:lnTo>
                    <a:pt x="1543" y="608"/>
                  </a:lnTo>
                  <a:lnTo>
                    <a:pt x="1540" y="611"/>
                  </a:lnTo>
                  <a:lnTo>
                    <a:pt x="1540" y="611"/>
                  </a:lnTo>
                  <a:lnTo>
                    <a:pt x="1538" y="613"/>
                  </a:lnTo>
                  <a:lnTo>
                    <a:pt x="1538" y="613"/>
                  </a:lnTo>
                  <a:lnTo>
                    <a:pt x="1535" y="616"/>
                  </a:lnTo>
                  <a:lnTo>
                    <a:pt x="1532" y="616"/>
                  </a:lnTo>
                  <a:lnTo>
                    <a:pt x="1529" y="616"/>
                  </a:lnTo>
                  <a:lnTo>
                    <a:pt x="1527" y="616"/>
                  </a:lnTo>
                  <a:lnTo>
                    <a:pt x="1524" y="619"/>
                  </a:lnTo>
                  <a:lnTo>
                    <a:pt x="1521" y="616"/>
                  </a:lnTo>
                  <a:lnTo>
                    <a:pt x="1521" y="616"/>
                  </a:lnTo>
                  <a:lnTo>
                    <a:pt x="1518" y="613"/>
                  </a:lnTo>
                  <a:lnTo>
                    <a:pt x="1518" y="611"/>
                  </a:lnTo>
                  <a:lnTo>
                    <a:pt x="1518" y="611"/>
                  </a:lnTo>
                  <a:lnTo>
                    <a:pt x="1518" y="608"/>
                  </a:lnTo>
                  <a:lnTo>
                    <a:pt x="1518" y="605"/>
                  </a:lnTo>
                  <a:lnTo>
                    <a:pt x="1518" y="602"/>
                  </a:lnTo>
                  <a:lnTo>
                    <a:pt x="1521" y="602"/>
                  </a:lnTo>
                  <a:lnTo>
                    <a:pt x="1521" y="600"/>
                  </a:lnTo>
                  <a:lnTo>
                    <a:pt x="1524" y="597"/>
                  </a:lnTo>
                  <a:lnTo>
                    <a:pt x="1524" y="597"/>
                  </a:lnTo>
                  <a:lnTo>
                    <a:pt x="1524" y="594"/>
                  </a:lnTo>
                  <a:lnTo>
                    <a:pt x="1524" y="591"/>
                  </a:lnTo>
                  <a:lnTo>
                    <a:pt x="1524" y="589"/>
                  </a:lnTo>
                  <a:lnTo>
                    <a:pt x="1524" y="589"/>
                  </a:lnTo>
                  <a:lnTo>
                    <a:pt x="1524" y="586"/>
                  </a:lnTo>
                  <a:lnTo>
                    <a:pt x="1527" y="583"/>
                  </a:lnTo>
                  <a:lnTo>
                    <a:pt x="1527" y="580"/>
                  </a:lnTo>
                  <a:lnTo>
                    <a:pt x="1540" y="550"/>
                  </a:lnTo>
                  <a:lnTo>
                    <a:pt x="1560" y="523"/>
                  </a:lnTo>
                  <a:lnTo>
                    <a:pt x="1576" y="495"/>
                  </a:lnTo>
                  <a:lnTo>
                    <a:pt x="1595" y="468"/>
                  </a:lnTo>
                  <a:lnTo>
                    <a:pt x="1615" y="440"/>
                  </a:lnTo>
                  <a:lnTo>
                    <a:pt x="1631" y="410"/>
                  </a:lnTo>
                  <a:lnTo>
                    <a:pt x="1645" y="380"/>
                  </a:lnTo>
                  <a:lnTo>
                    <a:pt x="1659" y="347"/>
                  </a:lnTo>
                  <a:lnTo>
                    <a:pt x="1659" y="333"/>
                  </a:lnTo>
                  <a:lnTo>
                    <a:pt x="1661" y="319"/>
                  </a:lnTo>
                  <a:lnTo>
                    <a:pt x="1661" y="305"/>
                  </a:lnTo>
                  <a:lnTo>
                    <a:pt x="1661" y="292"/>
                  </a:lnTo>
                  <a:lnTo>
                    <a:pt x="1659" y="278"/>
                  </a:lnTo>
                  <a:lnTo>
                    <a:pt x="1653" y="264"/>
                  </a:lnTo>
                  <a:lnTo>
                    <a:pt x="1648" y="253"/>
                  </a:lnTo>
                  <a:lnTo>
                    <a:pt x="1639" y="239"/>
                  </a:lnTo>
                  <a:lnTo>
                    <a:pt x="1639" y="239"/>
                  </a:lnTo>
                  <a:lnTo>
                    <a:pt x="1639" y="237"/>
                  </a:lnTo>
                  <a:lnTo>
                    <a:pt x="1637" y="237"/>
                  </a:lnTo>
                  <a:lnTo>
                    <a:pt x="1637" y="234"/>
                  </a:lnTo>
                  <a:lnTo>
                    <a:pt x="1634" y="231"/>
                  </a:lnTo>
                  <a:lnTo>
                    <a:pt x="1631" y="231"/>
                  </a:lnTo>
                  <a:lnTo>
                    <a:pt x="1631" y="228"/>
                  </a:lnTo>
                  <a:lnTo>
                    <a:pt x="1628" y="228"/>
                  </a:lnTo>
                  <a:lnTo>
                    <a:pt x="1617" y="223"/>
                  </a:lnTo>
                  <a:lnTo>
                    <a:pt x="1606" y="220"/>
                  </a:lnTo>
                  <a:lnTo>
                    <a:pt x="1595" y="217"/>
                  </a:lnTo>
                  <a:lnTo>
                    <a:pt x="1584" y="217"/>
                  </a:lnTo>
                  <a:lnTo>
                    <a:pt x="1571" y="217"/>
                  </a:lnTo>
                  <a:lnTo>
                    <a:pt x="1560" y="217"/>
                  </a:lnTo>
                  <a:lnTo>
                    <a:pt x="1549" y="220"/>
                  </a:lnTo>
                  <a:lnTo>
                    <a:pt x="1538" y="223"/>
                  </a:lnTo>
                  <a:lnTo>
                    <a:pt x="1496" y="242"/>
                  </a:lnTo>
                  <a:lnTo>
                    <a:pt x="1461" y="270"/>
                  </a:lnTo>
                  <a:lnTo>
                    <a:pt x="1425" y="300"/>
                  </a:lnTo>
                  <a:lnTo>
                    <a:pt x="1392" y="333"/>
                  </a:lnTo>
                  <a:lnTo>
                    <a:pt x="1362" y="366"/>
                  </a:lnTo>
                  <a:lnTo>
                    <a:pt x="1331" y="402"/>
                  </a:lnTo>
                  <a:lnTo>
                    <a:pt x="1304" y="437"/>
                  </a:lnTo>
                  <a:lnTo>
                    <a:pt x="1276" y="470"/>
                  </a:lnTo>
                  <a:lnTo>
                    <a:pt x="1243" y="506"/>
                  </a:lnTo>
                  <a:lnTo>
                    <a:pt x="1213" y="542"/>
                  </a:lnTo>
                  <a:lnTo>
                    <a:pt x="1183" y="578"/>
                  </a:lnTo>
                  <a:lnTo>
                    <a:pt x="1155" y="613"/>
                  </a:lnTo>
                  <a:lnTo>
                    <a:pt x="1125" y="649"/>
                  </a:lnTo>
                  <a:lnTo>
                    <a:pt x="1095" y="682"/>
                  </a:lnTo>
                  <a:lnTo>
                    <a:pt x="1065" y="718"/>
                  </a:lnTo>
                  <a:lnTo>
                    <a:pt x="1037" y="754"/>
                  </a:lnTo>
                  <a:lnTo>
                    <a:pt x="1018" y="776"/>
                  </a:lnTo>
                  <a:lnTo>
                    <a:pt x="999" y="795"/>
                  </a:lnTo>
                  <a:lnTo>
                    <a:pt x="982" y="814"/>
                  </a:lnTo>
                  <a:lnTo>
                    <a:pt x="966" y="833"/>
                  </a:lnTo>
                  <a:lnTo>
                    <a:pt x="949" y="853"/>
                  </a:lnTo>
                  <a:lnTo>
                    <a:pt x="933" y="869"/>
                  </a:lnTo>
                  <a:lnTo>
                    <a:pt x="916" y="888"/>
                  </a:lnTo>
                  <a:lnTo>
                    <a:pt x="900" y="908"/>
                  </a:lnTo>
                  <a:lnTo>
                    <a:pt x="897" y="908"/>
                  </a:lnTo>
                  <a:lnTo>
                    <a:pt x="897" y="908"/>
                  </a:lnTo>
                  <a:lnTo>
                    <a:pt x="894" y="908"/>
                  </a:lnTo>
                  <a:lnTo>
                    <a:pt x="891" y="910"/>
                  </a:lnTo>
                  <a:lnTo>
                    <a:pt x="889" y="910"/>
                  </a:lnTo>
                  <a:lnTo>
                    <a:pt x="889" y="910"/>
                  </a:lnTo>
                  <a:lnTo>
                    <a:pt x="886" y="908"/>
                  </a:lnTo>
                  <a:lnTo>
                    <a:pt x="883" y="908"/>
                  </a:lnTo>
                  <a:lnTo>
                    <a:pt x="905" y="866"/>
                  </a:lnTo>
                  <a:lnTo>
                    <a:pt x="927" y="825"/>
                  </a:lnTo>
                  <a:lnTo>
                    <a:pt x="952" y="787"/>
                  </a:lnTo>
                  <a:lnTo>
                    <a:pt x="977" y="745"/>
                  </a:lnTo>
                  <a:lnTo>
                    <a:pt x="1001" y="707"/>
                  </a:lnTo>
                  <a:lnTo>
                    <a:pt x="1029" y="668"/>
                  </a:lnTo>
                  <a:lnTo>
                    <a:pt x="1054" y="627"/>
                  </a:lnTo>
                  <a:lnTo>
                    <a:pt x="1078" y="589"/>
                  </a:lnTo>
                  <a:lnTo>
                    <a:pt x="1103" y="547"/>
                  </a:lnTo>
                  <a:lnTo>
                    <a:pt x="1128" y="509"/>
                  </a:lnTo>
                  <a:lnTo>
                    <a:pt x="1150" y="468"/>
                  </a:lnTo>
                  <a:lnTo>
                    <a:pt x="1175" y="429"/>
                  </a:lnTo>
                  <a:lnTo>
                    <a:pt x="1199" y="391"/>
                  </a:lnTo>
                  <a:lnTo>
                    <a:pt x="1224" y="349"/>
                  </a:lnTo>
                  <a:lnTo>
                    <a:pt x="1249" y="311"/>
                  </a:lnTo>
                  <a:lnTo>
                    <a:pt x="1276" y="272"/>
                  </a:lnTo>
                  <a:lnTo>
                    <a:pt x="1290" y="253"/>
                  </a:lnTo>
                  <a:lnTo>
                    <a:pt x="1301" y="231"/>
                  </a:lnTo>
                  <a:lnTo>
                    <a:pt x="1315" y="212"/>
                  </a:lnTo>
                  <a:lnTo>
                    <a:pt x="1329" y="193"/>
                  </a:lnTo>
                  <a:lnTo>
                    <a:pt x="1340" y="173"/>
                  </a:lnTo>
                  <a:lnTo>
                    <a:pt x="1351" y="154"/>
                  </a:lnTo>
                  <a:lnTo>
                    <a:pt x="1362" y="135"/>
                  </a:lnTo>
                  <a:lnTo>
                    <a:pt x="1373" y="113"/>
                  </a:lnTo>
                  <a:lnTo>
                    <a:pt x="1375" y="105"/>
                  </a:lnTo>
                  <a:lnTo>
                    <a:pt x="1375" y="96"/>
                  </a:lnTo>
                  <a:lnTo>
                    <a:pt x="1375" y="88"/>
                  </a:lnTo>
                  <a:lnTo>
                    <a:pt x="1375" y="83"/>
                  </a:lnTo>
                  <a:lnTo>
                    <a:pt x="1375" y="74"/>
                  </a:lnTo>
                  <a:lnTo>
                    <a:pt x="1375" y="66"/>
                  </a:lnTo>
                  <a:lnTo>
                    <a:pt x="1373" y="58"/>
                  </a:lnTo>
                  <a:lnTo>
                    <a:pt x="1373" y="47"/>
                  </a:lnTo>
                  <a:lnTo>
                    <a:pt x="1370" y="44"/>
                  </a:lnTo>
                  <a:lnTo>
                    <a:pt x="1367" y="39"/>
                  </a:lnTo>
                  <a:lnTo>
                    <a:pt x="1364" y="36"/>
                  </a:lnTo>
                  <a:lnTo>
                    <a:pt x="1362" y="30"/>
                  </a:lnTo>
                  <a:lnTo>
                    <a:pt x="1359" y="28"/>
                  </a:lnTo>
                  <a:lnTo>
                    <a:pt x="1353" y="22"/>
                  </a:lnTo>
                  <a:lnTo>
                    <a:pt x="1351" y="19"/>
                  </a:lnTo>
                  <a:lnTo>
                    <a:pt x="1345" y="17"/>
                  </a:lnTo>
                  <a:lnTo>
                    <a:pt x="1345" y="14"/>
                  </a:lnTo>
                  <a:lnTo>
                    <a:pt x="1342" y="14"/>
                  </a:lnTo>
                  <a:lnTo>
                    <a:pt x="1342" y="14"/>
                  </a:lnTo>
                  <a:lnTo>
                    <a:pt x="1340" y="14"/>
                  </a:lnTo>
                  <a:lnTo>
                    <a:pt x="1337" y="11"/>
                  </a:lnTo>
                  <a:lnTo>
                    <a:pt x="1337" y="11"/>
                  </a:lnTo>
                  <a:lnTo>
                    <a:pt x="1334" y="11"/>
                  </a:lnTo>
                  <a:lnTo>
                    <a:pt x="1331" y="8"/>
                  </a:lnTo>
                  <a:lnTo>
                    <a:pt x="1315" y="3"/>
                  </a:lnTo>
                  <a:lnTo>
                    <a:pt x="1301" y="0"/>
                  </a:lnTo>
                  <a:lnTo>
                    <a:pt x="1285" y="0"/>
                  </a:lnTo>
                  <a:lnTo>
                    <a:pt x="1268" y="3"/>
                  </a:lnTo>
                  <a:lnTo>
                    <a:pt x="1252" y="8"/>
                  </a:lnTo>
                  <a:lnTo>
                    <a:pt x="1235" y="17"/>
                  </a:lnTo>
                  <a:lnTo>
                    <a:pt x="1219" y="25"/>
                  </a:lnTo>
                  <a:lnTo>
                    <a:pt x="1205" y="33"/>
                  </a:lnTo>
                  <a:lnTo>
                    <a:pt x="1177" y="55"/>
                  </a:lnTo>
                  <a:lnTo>
                    <a:pt x="1150" y="80"/>
                  </a:lnTo>
                  <a:lnTo>
                    <a:pt x="1125" y="105"/>
                  </a:lnTo>
                  <a:lnTo>
                    <a:pt x="1098" y="132"/>
                  </a:lnTo>
                  <a:lnTo>
                    <a:pt x="1073" y="160"/>
                  </a:lnTo>
                  <a:lnTo>
                    <a:pt x="1048" y="184"/>
                  </a:lnTo>
                  <a:lnTo>
                    <a:pt x="1023" y="212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9"/>
                  </a:lnTo>
                  <a:lnTo>
                    <a:pt x="999" y="239"/>
                  </a:lnTo>
                  <a:lnTo>
                    <a:pt x="999" y="239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6" y="242"/>
                  </a:lnTo>
                  <a:lnTo>
                    <a:pt x="996" y="245"/>
                  </a:lnTo>
                  <a:lnTo>
                    <a:pt x="996" y="245"/>
                  </a:lnTo>
                  <a:lnTo>
                    <a:pt x="993" y="248"/>
                  </a:lnTo>
                  <a:lnTo>
                    <a:pt x="993" y="248"/>
                  </a:lnTo>
                  <a:lnTo>
                    <a:pt x="993" y="250"/>
                  </a:lnTo>
                  <a:lnTo>
                    <a:pt x="990" y="250"/>
                  </a:lnTo>
                  <a:lnTo>
                    <a:pt x="990" y="250"/>
                  </a:lnTo>
                  <a:lnTo>
                    <a:pt x="963" y="286"/>
                  </a:lnTo>
                  <a:lnTo>
                    <a:pt x="933" y="319"/>
                  </a:lnTo>
                  <a:lnTo>
                    <a:pt x="905" y="355"/>
                  </a:lnTo>
                  <a:lnTo>
                    <a:pt x="875" y="388"/>
                  </a:lnTo>
                  <a:lnTo>
                    <a:pt x="847" y="424"/>
                  </a:lnTo>
                  <a:lnTo>
                    <a:pt x="820" y="459"/>
                  </a:lnTo>
                  <a:lnTo>
                    <a:pt x="790" y="492"/>
                  </a:lnTo>
                  <a:lnTo>
                    <a:pt x="759" y="528"/>
                  </a:lnTo>
                  <a:lnTo>
                    <a:pt x="748" y="542"/>
                  </a:lnTo>
                  <a:lnTo>
                    <a:pt x="735" y="553"/>
                  </a:lnTo>
                  <a:lnTo>
                    <a:pt x="726" y="567"/>
                  </a:lnTo>
                  <a:lnTo>
                    <a:pt x="715" y="578"/>
                  </a:lnTo>
                  <a:lnTo>
                    <a:pt x="704" y="589"/>
                  </a:lnTo>
                  <a:lnTo>
                    <a:pt x="696" y="600"/>
                  </a:lnTo>
                  <a:lnTo>
                    <a:pt x="685" y="611"/>
                  </a:lnTo>
                  <a:lnTo>
                    <a:pt x="674" y="622"/>
                  </a:lnTo>
                  <a:lnTo>
                    <a:pt x="674" y="622"/>
                  </a:lnTo>
                  <a:lnTo>
                    <a:pt x="671" y="622"/>
                  </a:lnTo>
                  <a:lnTo>
                    <a:pt x="671" y="624"/>
                  </a:lnTo>
                  <a:lnTo>
                    <a:pt x="669" y="624"/>
                  </a:lnTo>
                  <a:lnTo>
                    <a:pt x="666" y="624"/>
                  </a:lnTo>
                  <a:lnTo>
                    <a:pt x="663" y="624"/>
                  </a:lnTo>
                  <a:lnTo>
                    <a:pt x="663" y="624"/>
                  </a:lnTo>
                  <a:lnTo>
                    <a:pt x="660" y="622"/>
                  </a:lnTo>
                  <a:lnTo>
                    <a:pt x="660" y="619"/>
                  </a:lnTo>
                  <a:lnTo>
                    <a:pt x="658" y="616"/>
                  </a:lnTo>
                  <a:lnTo>
                    <a:pt x="658" y="613"/>
                  </a:lnTo>
                  <a:lnTo>
                    <a:pt x="658" y="611"/>
                  </a:lnTo>
                  <a:lnTo>
                    <a:pt x="660" y="608"/>
                  </a:lnTo>
                  <a:lnTo>
                    <a:pt x="660" y="605"/>
                  </a:lnTo>
                  <a:lnTo>
                    <a:pt x="660" y="602"/>
                  </a:lnTo>
                  <a:lnTo>
                    <a:pt x="660" y="597"/>
                  </a:lnTo>
                  <a:lnTo>
                    <a:pt x="663" y="597"/>
                  </a:lnTo>
                  <a:lnTo>
                    <a:pt x="663" y="594"/>
                  </a:lnTo>
                  <a:lnTo>
                    <a:pt x="663" y="591"/>
                  </a:lnTo>
                  <a:lnTo>
                    <a:pt x="663" y="589"/>
                  </a:lnTo>
                  <a:lnTo>
                    <a:pt x="666" y="589"/>
                  </a:lnTo>
                  <a:lnTo>
                    <a:pt x="666" y="586"/>
                  </a:lnTo>
                  <a:lnTo>
                    <a:pt x="666" y="583"/>
                  </a:lnTo>
                  <a:lnTo>
                    <a:pt x="666" y="580"/>
                  </a:lnTo>
                  <a:lnTo>
                    <a:pt x="680" y="550"/>
                  </a:lnTo>
                  <a:lnTo>
                    <a:pt x="696" y="520"/>
                  </a:lnTo>
                  <a:lnTo>
                    <a:pt x="715" y="492"/>
                  </a:lnTo>
                  <a:lnTo>
                    <a:pt x="732" y="465"/>
                  </a:lnTo>
                  <a:lnTo>
                    <a:pt x="751" y="440"/>
                  </a:lnTo>
                  <a:lnTo>
                    <a:pt x="768" y="410"/>
                  </a:lnTo>
                  <a:lnTo>
                    <a:pt x="784" y="380"/>
                  </a:lnTo>
                  <a:lnTo>
                    <a:pt x="795" y="347"/>
                  </a:lnTo>
                  <a:lnTo>
                    <a:pt x="798" y="333"/>
                  </a:lnTo>
                  <a:lnTo>
                    <a:pt x="801" y="319"/>
                  </a:lnTo>
                  <a:lnTo>
                    <a:pt x="801" y="305"/>
                  </a:lnTo>
                  <a:lnTo>
                    <a:pt x="801" y="292"/>
                  </a:lnTo>
                  <a:lnTo>
                    <a:pt x="798" y="278"/>
                  </a:lnTo>
                  <a:lnTo>
                    <a:pt x="792" y="264"/>
                  </a:lnTo>
                  <a:lnTo>
                    <a:pt x="787" y="253"/>
                  </a:lnTo>
                  <a:lnTo>
                    <a:pt x="781" y="239"/>
                  </a:lnTo>
                  <a:lnTo>
                    <a:pt x="779" y="239"/>
                  </a:lnTo>
                  <a:lnTo>
                    <a:pt x="779" y="237"/>
                  </a:lnTo>
                  <a:lnTo>
                    <a:pt x="776" y="237"/>
                  </a:lnTo>
                  <a:lnTo>
                    <a:pt x="776" y="234"/>
                  </a:lnTo>
                  <a:lnTo>
                    <a:pt x="773" y="231"/>
                  </a:lnTo>
                  <a:lnTo>
                    <a:pt x="773" y="231"/>
                  </a:lnTo>
                  <a:lnTo>
                    <a:pt x="770" y="228"/>
                  </a:lnTo>
                  <a:lnTo>
                    <a:pt x="770" y="228"/>
                  </a:lnTo>
                  <a:lnTo>
                    <a:pt x="768" y="228"/>
                  </a:lnTo>
                  <a:lnTo>
                    <a:pt x="765" y="226"/>
                  </a:lnTo>
                  <a:lnTo>
                    <a:pt x="762" y="226"/>
                  </a:lnTo>
                  <a:lnTo>
                    <a:pt x="759" y="223"/>
                  </a:lnTo>
                  <a:lnTo>
                    <a:pt x="757" y="223"/>
                  </a:lnTo>
                  <a:lnTo>
                    <a:pt x="754" y="223"/>
                  </a:lnTo>
                  <a:lnTo>
                    <a:pt x="748" y="220"/>
                  </a:lnTo>
                  <a:lnTo>
                    <a:pt x="746" y="220"/>
                  </a:lnTo>
                  <a:lnTo>
                    <a:pt x="737" y="217"/>
                  </a:lnTo>
                  <a:lnTo>
                    <a:pt x="726" y="215"/>
                  </a:lnTo>
                  <a:lnTo>
                    <a:pt x="718" y="215"/>
                  </a:lnTo>
                  <a:lnTo>
                    <a:pt x="707" y="215"/>
                  </a:lnTo>
                  <a:lnTo>
                    <a:pt x="699" y="217"/>
                  </a:lnTo>
                  <a:lnTo>
                    <a:pt x="688" y="217"/>
                  </a:lnTo>
                  <a:lnTo>
                    <a:pt x="680" y="220"/>
                  </a:lnTo>
                  <a:lnTo>
                    <a:pt x="671" y="223"/>
                  </a:lnTo>
                  <a:lnTo>
                    <a:pt x="647" y="234"/>
                  </a:lnTo>
                  <a:lnTo>
                    <a:pt x="625" y="250"/>
                  </a:lnTo>
                  <a:lnTo>
                    <a:pt x="603" y="267"/>
                  </a:lnTo>
                  <a:lnTo>
                    <a:pt x="581" y="286"/>
                  </a:lnTo>
                  <a:lnTo>
                    <a:pt x="559" y="305"/>
                  </a:lnTo>
                  <a:lnTo>
                    <a:pt x="537" y="325"/>
                  </a:lnTo>
                  <a:lnTo>
                    <a:pt x="515" y="344"/>
                  </a:lnTo>
                  <a:lnTo>
                    <a:pt x="493" y="360"/>
                  </a:lnTo>
                  <a:lnTo>
                    <a:pt x="493" y="363"/>
                  </a:lnTo>
                  <a:lnTo>
                    <a:pt x="490" y="363"/>
                  </a:lnTo>
                  <a:lnTo>
                    <a:pt x="490" y="363"/>
                  </a:lnTo>
                  <a:lnTo>
                    <a:pt x="487" y="363"/>
                  </a:lnTo>
                  <a:lnTo>
                    <a:pt x="484" y="363"/>
                  </a:lnTo>
                  <a:lnTo>
                    <a:pt x="482" y="363"/>
                  </a:lnTo>
                  <a:lnTo>
                    <a:pt x="482" y="363"/>
                  </a:lnTo>
                  <a:lnTo>
                    <a:pt x="479" y="360"/>
                  </a:lnTo>
                  <a:lnTo>
                    <a:pt x="476" y="360"/>
                  </a:lnTo>
                  <a:lnTo>
                    <a:pt x="476" y="360"/>
                  </a:lnTo>
                  <a:lnTo>
                    <a:pt x="473" y="360"/>
                  </a:lnTo>
                  <a:lnTo>
                    <a:pt x="471" y="360"/>
                  </a:lnTo>
                  <a:lnTo>
                    <a:pt x="471" y="358"/>
                  </a:lnTo>
                  <a:lnTo>
                    <a:pt x="468" y="358"/>
                  </a:lnTo>
                  <a:lnTo>
                    <a:pt x="468" y="355"/>
                  </a:lnTo>
                  <a:lnTo>
                    <a:pt x="465" y="355"/>
                  </a:lnTo>
                  <a:lnTo>
                    <a:pt x="462" y="352"/>
                  </a:lnTo>
                  <a:lnTo>
                    <a:pt x="460" y="349"/>
                  </a:lnTo>
                  <a:lnTo>
                    <a:pt x="454" y="347"/>
                  </a:lnTo>
                  <a:lnTo>
                    <a:pt x="451" y="344"/>
                  </a:lnTo>
                  <a:lnTo>
                    <a:pt x="446" y="341"/>
                  </a:lnTo>
                  <a:lnTo>
                    <a:pt x="443" y="338"/>
                  </a:lnTo>
                  <a:lnTo>
                    <a:pt x="438" y="336"/>
                  </a:lnTo>
                  <a:lnTo>
                    <a:pt x="435" y="333"/>
                  </a:lnTo>
                  <a:lnTo>
                    <a:pt x="427" y="330"/>
                  </a:lnTo>
                  <a:lnTo>
                    <a:pt x="418" y="327"/>
                  </a:lnTo>
                  <a:lnTo>
                    <a:pt x="410" y="327"/>
                  </a:lnTo>
                  <a:lnTo>
                    <a:pt x="402" y="327"/>
                  </a:lnTo>
                  <a:lnTo>
                    <a:pt x="394" y="330"/>
                  </a:lnTo>
                  <a:lnTo>
                    <a:pt x="385" y="330"/>
                  </a:lnTo>
                  <a:lnTo>
                    <a:pt x="377" y="330"/>
                  </a:lnTo>
                  <a:lnTo>
                    <a:pt x="369" y="333"/>
                  </a:lnTo>
                  <a:lnTo>
                    <a:pt x="366" y="333"/>
                  </a:lnTo>
                  <a:lnTo>
                    <a:pt x="366" y="336"/>
                  </a:lnTo>
                  <a:lnTo>
                    <a:pt x="363" y="336"/>
                  </a:lnTo>
                  <a:lnTo>
                    <a:pt x="363" y="336"/>
                  </a:lnTo>
                  <a:lnTo>
                    <a:pt x="361" y="338"/>
                  </a:lnTo>
                  <a:lnTo>
                    <a:pt x="358" y="338"/>
                  </a:lnTo>
                  <a:lnTo>
                    <a:pt x="355" y="338"/>
                  </a:lnTo>
                  <a:lnTo>
                    <a:pt x="355" y="338"/>
                  </a:lnTo>
                  <a:lnTo>
                    <a:pt x="317" y="366"/>
                  </a:lnTo>
                  <a:lnTo>
                    <a:pt x="281" y="396"/>
                  </a:lnTo>
                  <a:lnTo>
                    <a:pt x="253" y="429"/>
                  </a:lnTo>
                  <a:lnTo>
                    <a:pt x="226" y="468"/>
                  </a:lnTo>
                  <a:lnTo>
                    <a:pt x="201" y="506"/>
                  </a:lnTo>
                  <a:lnTo>
                    <a:pt x="179" y="547"/>
                  </a:lnTo>
                  <a:lnTo>
                    <a:pt x="157" y="589"/>
                  </a:lnTo>
                  <a:lnTo>
                    <a:pt x="135" y="630"/>
                  </a:lnTo>
                  <a:lnTo>
                    <a:pt x="127" y="652"/>
                  </a:lnTo>
                  <a:lnTo>
                    <a:pt x="119" y="671"/>
                  </a:lnTo>
                  <a:lnTo>
                    <a:pt x="108" y="690"/>
                  </a:lnTo>
                  <a:lnTo>
                    <a:pt x="99" y="710"/>
                  </a:lnTo>
                  <a:lnTo>
                    <a:pt x="91" y="729"/>
                  </a:lnTo>
                  <a:lnTo>
                    <a:pt x="83" y="745"/>
                  </a:lnTo>
                  <a:lnTo>
                    <a:pt x="75" y="765"/>
                  </a:lnTo>
                  <a:lnTo>
                    <a:pt x="69" y="784"/>
                  </a:lnTo>
                  <a:lnTo>
                    <a:pt x="66" y="787"/>
                  </a:lnTo>
                  <a:lnTo>
                    <a:pt x="66" y="789"/>
                  </a:lnTo>
                  <a:lnTo>
                    <a:pt x="66" y="792"/>
                  </a:lnTo>
                  <a:lnTo>
                    <a:pt x="64" y="795"/>
                  </a:lnTo>
                  <a:lnTo>
                    <a:pt x="64" y="798"/>
                  </a:lnTo>
                  <a:lnTo>
                    <a:pt x="61" y="800"/>
                  </a:lnTo>
                  <a:lnTo>
                    <a:pt x="61" y="803"/>
                  </a:lnTo>
                  <a:lnTo>
                    <a:pt x="61" y="803"/>
                  </a:lnTo>
                  <a:lnTo>
                    <a:pt x="20" y="930"/>
                  </a:lnTo>
                  <a:lnTo>
                    <a:pt x="17" y="932"/>
                  </a:lnTo>
                  <a:lnTo>
                    <a:pt x="17" y="935"/>
                  </a:lnTo>
                  <a:lnTo>
                    <a:pt x="17" y="938"/>
                  </a:lnTo>
                  <a:lnTo>
                    <a:pt x="17" y="941"/>
                  </a:lnTo>
                  <a:lnTo>
                    <a:pt x="17" y="943"/>
                  </a:lnTo>
                  <a:lnTo>
                    <a:pt x="17" y="946"/>
                  </a:lnTo>
                  <a:lnTo>
                    <a:pt x="17" y="949"/>
                  </a:lnTo>
                  <a:lnTo>
                    <a:pt x="17" y="952"/>
                  </a:lnTo>
                  <a:lnTo>
                    <a:pt x="0" y="1053"/>
                  </a:lnTo>
                  <a:lnTo>
                    <a:pt x="0" y="1056"/>
                  </a:lnTo>
                  <a:lnTo>
                    <a:pt x="0" y="1059"/>
                  </a:lnTo>
                  <a:lnTo>
                    <a:pt x="3" y="1061"/>
                  </a:lnTo>
                  <a:lnTo>
                    <a:pt x="3" y="1064"/>
                  </a:lnTo>
                  <a:lnTo>
                    <a:pt x="3" y="1067"/>
                  </a:lnTo>
                  <a:lnTo>
                    <a:pt x="3" y="1070"/>
                  </a:lnTo>
                  <a:lnTo>
                    <a:pt x="6" y="1072"/>
                  </a:lnTo>
                  <a:lnTo>
                    <a:pt x="9" y="1075"/>
                  </a:lnTo>
                  <a:lnTo>
                    <a:pt x="9" y="1078"/>
                  </a:lnTo>
                  <a:lnTo>
                    <a:pt x="11" y="1078"/>
                  </a:lnTo>
                  <a:lnTo>
                    <a:pt x="11" y="1081"/>
                  </a:lnTo>
                  <a:lnTo>
                    <a:pt x="14" y="1081"/>
                  </a:lnTo>
                  <a:lnTo>
                    <a:pt x="17" y="1083"/>
                  </a:lnTo>
                  <a:lnTo>
                    <a:pt x="20" y="1083"/>
                  </a:lnTo>
                  <a:lnTo>
                    <a:pt x="22" y="1086"/>
                  </a:lnTo>
                  <a:lnTo>
                    <a:pt x="25" y="1089"/>
                  </a:lnTo>
                  <a:lnTo>
                    <a:pt x="132" y="1108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4"/>
                  </a:lnTo>
                  <a:lnTo>
                    <a:pt x="135" y="1114"/>
                  </a:lnTo>
                  <a:lnTo>
                    <a:pt x="138" y="1116"/>
                  </a:lnTo>
                  <a:lnTo>
                    <a:pt x="138" y="1116"/>
                  </a:lnTo>
                  <a:lnTo>
                    <a:pt x="141" y="1116"/>
                  </a:lnTo>
                  <a:lnTo>
                    <a:pt x="141" y="1119"/>
                  </a:lnTo>
                  <a:lnTo>
                    <a:pt x="138" y="1122"/>
                  </a:lnTo>
                  <a:lnTo>
                    <a:pt x="138" y="1122"/>
                  </a:lnTo>
                  <a:lnTo>
                    <a:pt x="138" y="1125"/>
                  </a:lnTo>
                  <a:lnTo>
                    <a:pt x="138" y="1125"/>
                  </a:lnTo>
                  <a:lnTo>
                    <a:pt x="135" y="1127"/>
                  </a:lnTo>
                  <a:lnTo>
                    <a:pt x="135" y="1130"/>
                  </a:lnTo>
                  <a:lnTo>
                    <a:pt x="135" y="1130"/>
                  </a:lnTo>
                  <a:lnTo>
                    <a:pt x="124" y="1149"/>
                  </a:lnTo>
                  <a:lnTo>
                    <a:pt x="116" y="1171"/>
                  </a:lnTo>
                  <a:lnTo>
                    <a:pt x="110" y="1191"/>
                  </a:lnTo>
                  <a:lnTo>
                    <a:pt x="105" y="1213"/>
                  </a:lnTo>
                  <a:lnTo>
                    <a:pt x="102" y="1235"/>
                  </a:lnTo>
                  <a:lnTo>
                    <a:pt x="99" y="1257"/>
                  </a:lnTo>
                  <a:lnTo>
                    <a:pt x="97" y="1276"/>
                  </a:lnTo>
                  <a:lnTo>
                    <a:pt x="94" y="1298"/>
                  </a:lnTo>
                  <a:lnTo>
                    <a:pt x="97" y="1303"/>
                  </a:lnTo>
                  <a:lnTo>
                    <a:pt x="97" y="1306"/>
                  </a:lnTo>
                  <a:lnTo>
                    <a:pt x="99" y="1309"/>
                  </a:lnTo>
                  <a:lnTo>
                    <a:pt x="99" y="1314"/>
                  </a:lnTo>
                  <a:lnTo>
                    <a:pt x="99" y="1317"/>
                  </a:lnTo>
                  <a:lnTo>
                    <a:pt x="102" y="1320"/>
                  </a:lnTo>
                  <a:lnTo>
                    <a:pt x="105" y="1325"/>
                  </a:lnTo>
                  <a:lnTo>
                    <a:pt x="108" y="1328"/>
                  </a:lnTo>
                  <a:lnTo>
                    <a:pt x="110" y="1328"/>
                  </a:lnTo>
                  <a:lnTo>
                    <a:pt x="110" y="1331"/>
                  </a:lnTo>
                  <a:lnTo>
                    <a:pt x="113" y="1331"/>
                  </a:lnTo>
                  <a:lnTo>
                    <a:pt x="113" y="1334"/>
                  </a:lnTo>
                  <a:lnTo>
                    <a:pt x="116" y="1334"/>
                  </a:lnTo>
                  <a:lnTo>
                    <a:pt x="116" y="1336"/>
                  </a:lnTo>
                  <a:lnTo>
                    <a:pt x="119" y="1336"/>
                  </a:lnTo>
                  <a:lnTo>
                    <a:pt x="119" y="1336"/>
                  </a:lnTo>
                  <a:lnTo>
                    <a:pt x="130" y="1342"/>
                  </a:lnTo>
                  <a:lnTo>
                    <a:pt x="143" y="1345"/>
                  </a:lnTo>
                  <a:lnTo>
                    <a:pt x="154" y="1347"/>
                  </a:lnTo>
                  <a:lnTo>
                    <a:pt x="168" y="1347"/>
                  </a:lnTo>
                  <a:lnTo>
                    <a:pt x="182" y="1347"/>
                  </a:lnTo>
                  <a:lnTo>
                    <a:pt x="196" y="1347"/>
                  </a:lnTo>
                  <a:lnTo>
                    <a:pt x="209" y="1345"/>
                  </a:lnTo>
                  <a:lnTo>
                    <a:pt x="220" y="1345"/>
                  </a:lnTo>
                  <a:lnTo>
                    <a:pt x="240" y="1331"/>
                  </a:lnTo>
                  <a:lnTo>
                    <a:pt x="259" y="1320"/>
                  </a:lnTo>
                  <a:lnTo>
                    <a:pt x="275" y="1306"/>
                  </a:lnTo>
                  <a:lnTo>
                    <a:pt x="292" y="1290"/>
                  </a:lnTo>
                  <a:lnTo>
                    <a:pt x="308" y="1276"/>
                  </a:lnTo>
                  <a:lnTo>
                    <a:pt x="328" y="1259"/>
                  </a:lnTo>
                  <a:lnTo>
                    <a:pt x="344" y="1243"/>
                  </a:lnTo>
                  <a:lnTo>
                    <a:pt x="361" y="1226"/>
                  </a:lnTo>
                  <a:lnTo>
                    <a:pt x="363" y="1226"/>
                  </a:lnTo>
                  <a:lnTo>
                    <a:pt x="363" y="1226"/>
                  </a:lnTo>
                  <a:lnTo>
                    <a:pt x="366" y="1226"/>
                  </a:lnTo>
                  <a:lnTo>
                    <a:pt x="369" y="1226"/>
                  </a:lnTo>
                  <a:lnTo>
                    <a:pt x="372" y="1226"/>
                  </a:lnTo>
                  <a:lnTo>
                    <a:pt x="372" y="1226"/>
                  </a:lnTo>
                  <a:lnTo>
                    <a:pt x="374" y="1226"/>
                  </a:lnTo>
                  <a:lnTo>
                    <a:pt x="374" y="1226"/>
                  </a:lnTo>
                  <a:lnTo>
                    <a:pt x="377" y="1229"/>
                  </a:lnTo>
                  <a:lnTo>
                    <a:pt x="377" y="1235"/>
                  </a:lnTo>
                  <a:lnTo>
                    <a:pt x="377" y="1237"/>
                  </a:lnTo>
                  <a:lnTo>
                    <a:pt x="377" y="1240"/>
                  </a:lnTo>
                  <a:lnTo>
                    <a:pt x="377" y="1246"/>
                  </a:lnTo>
                  <a:lnTo>
                    <a:pt x="374" y="1248"/>
                  </a:lnTo>
                  <a:lnTo>
                    <a:pt x="374" y="1251"/>
                  </a:lnTo>
                  <a:lnTo>
                    <a:pt x="374" y="1257"/>
                  </a:lnTo>
                  <a:lnTo>
                    <a:pt x="352" y="1301"/>
                  </a:lnTo>
                  <a:lnTo>
                    <a:pt x="330" y="1345"/>
                  </a:lnTo>
                  <a:lnTo>
                    <a:pt x="306" y="1389"/>
                  </a:lnTo>
                  <a:lnTo>
                    <a:pt x="281" y="1435"/>
                  </a:lnTo>
                  <a:lnTo>
                    <a:pt x="262" y="1482"/>
                  </a:lnTo>
                  <a:lnTo>
                    <a:pt x="248" y="1532"/>
                  </a:lnTo>
                  <a:lnTo>
                    <a:pt x="242" y="1581"/>
                  </a:lnTo>
                  <a:lnTo>
                    <a:pt x="248" y="1633"/>
                  </a:lnTo>
                  <a:lnTo>
                    <a:pt x="248" y="1636"/>
                  </a:lnTo>
                  <a:lnTo>
                    <a:pt x="248" y="1639"/>
                  </a:lnTo>
                  <a:lnTo>
                    <a:pt x="248" y="1639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9" y="1653"/>
                  </a:lnTo>
                  <a:lnTo>
                    <a:pt x="273" y="1661"/>
                  </a:lnTo>
                  <a:lnTo>
                    <a:pt x="284" y="1666"/>
                  </a:lnTo>
                  <a:lnTo>
                    <a:pt x="300" y="1669"/>
                  </a:lnTo>
                  <a:lnTo>
                    <a:pt x="314" y="1669"/>
                  </a:lnTo>
                  <a:lnTo>
                    <a:pt x="330" y="1669"/>
                  </a:lnTo>
                  <a:lnTo>
                    <a:pt x="347" y="1666"/>
                  </a:lnTo>
                  <a:lnTo>
                    <a:pt x="361" y="1664"/>
                  </a:lnTo>
                  <a:lnTo>
                    <a:pt x="380" y="1658"/>
                  </a:lnTo>
                  <a:lnTo>
                    <a:pt x="396" y="1650"/>
                  </a:lnTo>
                  <a:lnTo>
                    <a:pt x="413" y="1639"/>
                  </a:lnTo>
                  <a:lnTo>
                    <a:pt x="429" y="1628"/>
                  </a:lnTo>
                  <a:lnTo>
                    <a:pt x="443" y="1620"/>
                  </a:lnTo>
                  <a:lnTo>
                    <a:pt x="457" y="1609"/>
                  </a:lnTo>
                  <a:lnTo>
                    <a:pt x="473" y="1598"/>
                  </a:lnTo>
                  <a:lnTo>
                    <a:pt x="490" y="1589"/>
                  </a:lnTo>
                  <a:lnTo>
                    <a:pt x="493" y="1589"/>
                  </a:lnTo>
                  <a:lnTo>
                    <a:pt x="493" y="1589"/>
                  </a:lnTo>
                  <a:lnTo>
                    <a:pt x="495" y="1589"/>
                  </a:lnTo>
                  <a:lnTo>
                    <a:pt x="495" y="1589"/>
                  </a:lnTo>
                  <a:lnTo>
                    <a:pt x="498" y="1589"/>
                  </a:lnTo>
                  <a:lnTo>
                    <a:pt x="501" y="1589"/>
                  </a:lnTo>
                  <a:lnTo>
                    <a:pt x="501" y="1589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5"/>
                  </a:lnTo>
                  <a:lnTo>
                    <a:pt x="504" y="1595"/>
                  </a:lnTo>
                  <a:lnTo>
                    <a:pt x="504" y="1598"/>
                  </a:lnTo>
                  <a:lnTo>
                    <a:pt x="504" y="1600"/>
                  </a:lnTo>
                  <a:lnTo>
                    <a:pt x="487" y="1631"/>
                  </a:lnTo>
                  <a:lnTo>
                    <a:pt x="465" y="1664"/>
                  </a:lnTo>
                  <a:lnTo>
                    <a:pt x="440" y="1694"/>
                  </a:lnTo>
                  <a:lnTo>
                    <a:pt x="418" y="1727"/>
                  </a:lnTo>
                  <a:lnTo>
                    <a:pt x="402" y="1760"/>
                  </a:lnTo>
                  <a:lnTo>
                    <a:pt x="388" y="1796"/>
                  </a:lnTo>
                  <a:lnTo>
                    <a:pt x="385" y="1834"/>
                  </a:lnTo>
                  <a:lnTo>
                    <a:pt x="391" y="1875"/>
                  </a:lnTo>
                  <a:lnTo>
                    <a:pt x="391" y="1878"/>
                  </a:lnTo>
                  <a:lnTo>
                    <a:pt x="391" y="1881"/>
                  </a:lnTo>
                  <a:lnTo>
                    <a:pt x="394" y="1884"/>
                  </a:lnTo>
                  <a:lnTo>
                    <a:pt x="396" y="1886"/>
                  </a:lnTo>
                  <a:lnTo>
                    <a:pt x="399" y="1889"/>
                  </a:lnTo>
                  <a:lnTo>
                    <a:pt x="402" y="1892"/>
                  </a:lnTo>
                  <a:lnTo>
                    <a:pt x="402" y="1895"/>
                  </a:lnTo>
                  <a:lnTo>
                    <a:pt x="405" y="1897"/>
                  </a:lnTo>
                  <a:lnTo>
                    <a:pt x="407" y="1900"/>
                  </a:lnTo>
                  <a:lnTo>
                    <a:pt x="410" y="1900"/>
                  </a:lnTo>
                  <a:lnTo>
                    <a:pt x="413" y="1903"/>
                  </a:lnTo>
                  <a:lnTo>
                    <a:pt x="416" y="1903"/>
                  </a:lnTo>
                  <a:lnTo>
                    <a:pt x="416" y="1906"/>
                  </a:lnTo>
                  <a:lnTo>
                    <a:pt x="418" y="1908"/>
                  </a:lnTo>
                  <a:lnTo>
                    <a:pt x="421" y="1908"/>
                  </a:lnTo>
                  <a:lnTo>
                    <a:pt x="427" y="1911"/>
                  </a:lnTo>
                  <a:lnTo>
                    <a:pt x="438" y="1917"/>
                  </a:lnTo>
                  <a:lnTo>
                    <a:pt x="451" y="1917"/>
                  </a:lnTo>
                  <a:lnTo>
                    <a:pt x="465" y="1919"/>
                  </a:lnTo>
                  <a:lnTo>
                    <a:pt x="479" y="1917"/>
                  </a:lnTo>
                  <a:lnTo>
                    <a:pt x="493" y="1917"/>
                  </a:lnTo>
                  <a:lnTo>
                    <a:pt x="509" y="1914"/>
                  </a:lnTo>
                  <a:lnTo>
                    <a:pt x="523" y="1911"/>
                  </a:lnTo>
                  <a:lnTo>
                    <a:pt x="537" y="1906"/>
                  </a:lnTo>
                  <a:lnTo>
                    <a:pt x="572" y="1884"/>
                  </a:lnTo>
                  <a:lnTo>
                    <a:pt x="605" y="1859"/>
                  </a:lnTo>
                  <a:lnTo>
                    <a:pt x="638" y="1834"/>
                  </a:lnTo>
                  <a:lnTo>
                    <a:pt x="671" y="1804"/>
                  </a:lnTo>
                  <a:lnTo>
                    <a:pt x="704" y="1774"/>
                  </a:lnTo>
                  <a:lnTo>
                    <a:pt x="735" y="1743"/>
                  </a:lnTo>
                  <a:lnTo>
                    <a:pt x="768" y="1713"/>
                  </a:lnTo>
                  <a:lnTo>
                    <a:pt x="803" y="1686"/>
                  </a:lnTo>
                  <a:lnTo>
                    <a:pt x="803" y="1686"/>
                  </a:lnTo>
                  <a:lnTo>
                    <a:pt x="806" y="1686"/>
                  </a:lnTo>
                  <a:lnTo>
                    <a:pt x="809" y="1686"/>
                  </a:lnTo>
                  <a:lnTo>
                    <a:pt x="809" y="1686"/>
                  </a:lnTo>
                  <a:lnTo>
                    <a:pt x="812" y="1686"/>
                  </a:lnTo>
                  <a:lnTo>
                    <a:pt x="812" y="1686"/>
                  </a:lnTo>
                  <a:lnTo>
                    <a:pt x="814" y="1686"/>
                  </a:lnTo>
                  <a:lnTo>
                    <a:pt x="814" y="1686"/>
                  </a:lnTo>
                  <a:lnTo>
                    <a:pt x="814" y="1688"/>
                  </a:lnTo>
                  <a:lnTo>
                    <a:pt x="817" y="1688"/>
                  </a:lnTo>
                  <a:lnTo>
                    <a:pt x="817" y="1691"/>
                  </a:lnTo>
                  <a:lnTo>
                    <a:pt x="817" y="1694"/>
                  </a:lnTo>
                  <a:lnTo>
                    <a:pt x="817" y="1694"/>
                  </a:lnTo>
                  <a:lnTo>
                    <a:pt x="817" y="1697"/>
                  </a:lnTo>
                  <a:lnTo>
                    <a:pt x="817" y="1699"/>
                  </a:lnTo>
                  <a:lnTo>
                    <a:pt x="817" y="1702"/>
                  </a:lnTo>
                  <a:lnTo>
                    <a:pt x="817" y="1702"/>
                  </a:lnTo>
                  <a:lnTo>
                    <a:pt x="817" y="1705"/>
                  </a:lnTo>
                  <a:lnTo>
                    <a:pt x="817" y="1705"/>
                  </a:lnTo>
                  <a:lnTo>
                    <a:pt x="814" y="1708"/>
                  </a:lnTo>
                  <a:lnTo>
                    <a:pt x="814" y="1710"/>
                  </a:lnTo>
                  <a:lnTo>
                    <a:pt x="814" y="1710"/>
                  </a:lnTo>
                  <a:lnTo>
                    <a:pt x="812" y="1713"/>
                  </a:lnTo>
                  <a:lnTo>
                    <a:pt x="812" y="1716"/>
                  </a:lnTo>
                  <a:lnTo>
                    <a:pt x="792" y="1757"/>
                  </a:lnTo>
                  <a:lnTo>
                    <a:pt x="768" y="1796"/>
                  </a:lnTo>
                  <a:lnTo>
                    <a:pt x="743" y="1834"/>
                  </a:lnTo>
                  <a:lnTo>
                    <a:pt x="718" y="1875"/>
                  </a:lnTo>
                  <a:lnTo>
                    <a:pt x="693" y="1917"/>
                  </a:lnTo>
                  <a:lnTo>
                    <a:pt x="677" y="1958"/>
                  </a:lnTo>
                  <a:lnTo>
                    <a:pt x="671" y="2002"/>
                  </a:lnTo>
                  <a:lnTo>
                    <a:pt x="674" y="2051"/>
                  </a:lnTo>
                  <a:lnTo>
                    <a:pt x="677" y="2054"/>
                  </a:lnTo>
                  <a:lnTo>
                    <a:pt x="680" y="2057"/>
                  </a:lnTo>
                  <a:lnTo>
                    <a:pt x="680" y="2060"/>
                  </a:lnTo>
                  <a:lnTo>
                    <a:pt x="682" y="2062"/>
                  </a:lnTo>
                  <a:lnTo>
                    <a:pt x="685" y="2068"/>
                  </a:lnTo>
                  <a:lnTo>
                    <a:pt x="688" y="2071"/>
                  </a:lnTo>
                  <a:lnTo>
                    <a:pt x="691" y="2073"/>
                  </a:lnTo>
                  <a:lnTo>
                    <a:pt x="696" y="2076"/>
                  </a:lnTo>
                  <a:lnTo>
                    <a:pt x="696" y="2079"/>
                  </a:lnTo>
                  <a:lnTo>
                    <a:pt x="699" y="2079"/>
                  </a:lnTo>
                  <a:lnTo>
                    <a:pt x="702" y="2079"/>
                  </a:lnTo>
                  <a:lnTo>
                    <a:pt x="704" y="2082"/>
                  </a:lnTo>
                  <a:lnTo>
                    <a:pt x="707" y="2082"/>
                  </a:lnTo>
                  <a:lnTo>
                    <a:pt x="710" y="2082"/>
                  </a:lnTo>
                  <a:lnTo>
                    <a:pt x="713" y="2084"/>
                  </a:lnTo>
                  <a:lnTo>
                    <a:pt x="715" y="2084"/>
                  </a:lnTo>
                  <a:lnTo>
                    <a:pt x="718" y="2087"/>
                  </a:lnTo>
                  <a:lnTo>
                    <a:pt x="718" y="2087"/>
                  </a:lnTo>
                  <a:lnTo>
                    <a:pt x="721" y="2087"/>
                  </a:lnTo>
                  <a:lnTo>
                    <a:pt x="724" y="2087"/>
                  </a:lnTo>
                  <a:lnTo>
                    <a:pt x="726" y="2087"/>
                  </a:lnTo>
                  <a:lnTo>
                    <a:pt x="729" y="2090"/>
                  </a:lnTo>
                  <a:lnTo>
                    <a:pt x="729" y="2090"/>
                  </a:lnTo>
                  <a:lnTo>
                    <a:pt x="732" y="2090"/>
                  </a:lnTo>
                  <a:lnTo>
                    <a:pt x="735" y="2090"/>
                  </a:lnTo>
                  <a:lnTo>
                    <a:pt x="737" y="2090"/>
                  </a:lnTo>
                  <a:lnTo>
                    <a:pt x="740" y="2090"/>
                  </a:lnTo>
                  <a:lnTo>
                    <a:pt x="743" y="2090"/>
                  </a:lnTo>
                  <a:lnTo>
                    <a:pt x="746" y="2090"/>
                  </a:lnTo>
                  <a:lnTo>
                    <a:pt x="748" y="2090"/>
                  </a:lnTo>
                  <a:lnTo>
                    <a:pt x="748" y="2087"/>
                  </a:lnTo>
                  <a:lnTo>
                    <a:pt x="751" y="2087"/>
                  </a:lnTo>
                  <a:close/>
                </a:path>
              </a:pathLst>
            </a:cu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080" y="1571400"/>
              <a:ext cx="4581000" cy="52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cessors of eye drop medicatio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dicate on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b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 that the bott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ontains 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16 ml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of medi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The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tandard devi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of the process is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0.5 m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 A </a:t>
              </a:r>
              <a:r>
                <a:rPr b="1" i="1" lang="en-US" sz="2400" spc="-1" strike="noStrike">
                  <a:solidFill>
                    <a:srgbClr val="008000"/>
                  </a:solidFill>
                  <a:latin typeface="Times New Roman"/>
                </a:rPr>
                <a:t>sample of 36 bottl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from last hour’s production revealed a                       </a:t>
              </a:r>
              <a:r>
                <a:rPr b="1" i="1" lang="en-US" sz="2400" spc="-1" strike="noStrike">
                  <a:solidFill>
                    <a:srgbClr val="008000"/>
                  </a:solidFill>
                  <a:latin typeface="Times New Roman"/>
                </a:rPr>
                <a:t>mean weight of 16.12 m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er bottle. At th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.05 significance le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s the process out of contro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              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That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can we conclude that the                  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mean amount per bottle                       </a:t>
              </a:r>
              <a:r>
                <a:rPr b="1" i="1" lang="en-US" sz="2400" spc="-1" strike="noStrike" u="sng">
                  <a:solidFill>
                    <a:srgbClr val="ff6600"/>
                  </a:solidFill>
                  <a:uFillTx/>
                  <a:latin typeface="Times New Roman"/>
                </a:rPr>
                <a:t>is different from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 16 m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5486400" y="990720"/>
            <a:ext cx="2286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581360" y="457200"/>
            <a:ext cx="45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reviously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etermi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762440" y="2786040"/>
            <a:ext cx="4038840" cy="8838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omputed value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524560" y="3886200"/>
            <a:ext cx="2552760" cy="17506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1.44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42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074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.14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267080" y="5962680"/>
            <a:ext cx="4610160" cy="51012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  <a:effectLst>
            <a:outerShdw dist="109184" dir="86716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ince .1498 &gt; .05, do not reject </a:t>
            </a: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66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195880" y="1703520"/>
            <a:ext cx="2595960" cy="890640"/>
            <a:chOff x="5195880" y="1703520"/>
            <a:chExt cx="2595960" cy="890640"/>
          </a:xfrm>
        </p:grpSpPr>
        <p:sp>
          <p:nvSpPr>
            <p:cNvPr id="1337" name=""/>
            <p:cNvSpPr/>
            <p:nvPr/>
          </p:nvSpPr>
          <p:spPr>
            <a:xfrm>
              <a:off x="5886720" y="1757160"/>
              <a:ext cx="24444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6280200" y="2401920"/>
              <a:ext cx="50760" cy="23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30960" y="2408040"/>
              <a:ext cx="74880" cy="10980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6413760" y="2193840"/>
              <a:ext cx="98280" cy="324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512040" y="2193840"/>
              <a:ext cx="2476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6080400" y="2187720"/>
              <a:ext cx="155520" cy="385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780160" y="2147760"/>
              <a:ext cx="10144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473960" y="194148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372440" y="1941480"/>
              <a:ext cx="7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172640" y="19414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863760" y="19051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49600" y="1703520"/>
              <a:ext cx="1058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420880" y="1905120"/>
              <a:ext cx="252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536880" y="22129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838480" y="173988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195880" y="194148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779080" y="2176560"/>
              <a:ext cx="191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510240" y="1703520"/>
              <a:ext cx="183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2200320" y="276120"/>
            <a:ext cx="2268360" cy="1133640"/>
            <a:chOff x="2200320" y="276120"/>
            <a:chExt cx="2268360" cy="1133640"/>
          </a:xfrm>
        </p:grpSpPr>
        <p:pic>
          <p:nvPicPr>
            <p:cNvPr id="1356" name="" descr=""/>
            <p:cNvPicPr/>
            <p:nvPr/>
          </p:nvPicPr>
          <p:blipFill>
            <a:blip r:embed="rId1"/>
            <a:stretch/>
          </p:blipFill>
          <p:spPr>
            <a:xfrm>
              <a:off x="3724200" y="276120"/>
              <a:ext cx="7444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"/>
            <p:cNvSpPr txBox="1"/>
            <p:nvPr/>
          </p:nvSpPr>
          <p:spPr>
            <a:xfrm>
              <a:off x="2200320" y="399960"/>
              <a:ext cx="1447920" cy="95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Righ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254472" dir="10629712" blurRad="0" rotWithShape="0">
                      <a:srgbClr val="b2b2b2">
                        <a:alpha val="50000"/>
                      </a:srgbClr>
                    </a:outerShdw>
                  </a:effectLst>
                  <a:latin typeface="Tahoma"/>
                </a:rPr>
                <a:t>Recal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254472" dir="10629712" blurRad="0" rotWithShape="0">
                    <a:srgbClr val="b2b2b2">
                      <a:alpha val="50000"/>
                    </a:srgbClr>
                  </a:outerShdw>
                </a:effectLst>
                <a:latin typeface="Tahoma"/>
                <a:ea typeface="Tahom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C9AC-AD1B-49D1-9332-C7CDF0D565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75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1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1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1828800" y="152280"/>
            <a:ext cx="5562720" cy="1083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terpreting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ight of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idenc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against H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319040" y="1343160"/>
            <a:ext cx="652464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value is </a:t>
            </a:r>
            <a:r>
              <a:rPr b="1" i="1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less than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000160" y="2162160"/>
            <a:ext cx="6000840" cy="4438800"/>
          </a:xfrm>
          <a:custGeom>
            <a:avLst/>
            <a:gdLst/>
            <a:ahLst/>
            <a:rect l="l" t="t" r="r" b="b"/>
            <a:pathLst>
              <a:path w="3240" h="2971">
                <a:moveTo>
                  <a:pt x="591" y="2967"/>
                </a:moveTo>
                <a:lnTo>
                  <a:pt x="665" y="2952"/>
                </a:lnTo>
                <a:lnTo>
                  <a:pt x="739" y="2924"/>
                </a:lnTo>
                <a:lnTo>
                  <a:pt x="810" y="2893"/>
                </a:lnTo>
                <a:lnTo>
                  <a:pt x="884" y="2858"/>
                </a:lnTo>
                <a:lnTo>
                  <a:pt x="955" y="2831"/>
                </a:lnTo>
                <a:lnTo>
                  <a:pt x="1029" y="2807"/>
                </a:lnTo>
                <a:lnTo>
                  <a:pt x="1103" y="2799"/>
                </a:lnTo>
                <a:lnTo>
                  <a:pt x="1182" y="2807"/>
                </a:lnTo>
                <a:lnTo>
                  <a:pt x="1330" y="2752"/>
                </a:lnTo>
                <a:lnTo>
                  <a:pt x="1354" y="2838"/>
                </a:lnTo>
                <a:lnTo>
                  <a:pt x="1362" y="2846"/>
                </a:lnTo>
                <a:lnTo>
                  <a:pt x="1370" y="2850"/>
                </a:lnTo>
                <a:lnTo>
                  <a:pt x="1381" y="2858"/>
                </a:lnTo>
                <a:lnTo>
                  <a:pt x="1393" y="2862"/>
                </a:lnTo>
                <a:lnTo>
                  <a:pt x="1405" y="2862"/>
                </a:lnTo>
                <a:lnTo>
                  <a:pt x="1420" y="2862"/>
                </a:lnTo>
                <a:lnTo>
                  <a:pt x="1432" y="2858"/>
                </a:lnTo>
                <a:lnTo>
                  <a:pt x="1444" y="2850"/>
                </a:lnTo>
                <a:lnTo>
                  <a:pt x="1467" y="2838"/>
                </a:lnTo>
                <a:lnTo>
                  <a:pt x="1487" y="2827"/>
                </a:lnTo>
                <a:lnTo>
                  <a:pt x="1510" y="2815"/>
                </a:lnTo>
                <a:lnTo>
                  <a:pt x="1530" y="2803"/>
                </a:lnTo>
                <a:lnTo>
                  <a:pt x="1550" y="2791"/>
                </a:lnTo>
                <a:lnTo>
                  <a:pt x="1569" y="2780"/>
                </a:lnTo>
                <a:lnTo>
                  <a:pt x="1593" y="2768"/>
                </a:lnTo>
                <a:lnTo>
                  <a:pt x="1612" y="2756"/>
                </a:lnTo>
                <a:lnTo>
                  <a:pt x="1620" y="2760"/>
                </a:lnTo>
                <a:lnTo>
                  <a:pt x="1620" y="2768"/>
                </a:lnTo>
                <a:lnTo>
                  <a:pt x="1624" y="2776"/>
                </a:lnTo>
                <a:lnTo>
                  <a:pt x="1624" y="2784"/>
                </a:lnTo>
                <a:lnTo>
                  <a:pt x="1624" y="2791"/>
                </a:lnTo>
                <a:lnTo>
                  <a:pt x="1624" y="2803"/>
                </a:lnTo>
                <a:lnTo>
                  <a:pt x="1628" y="2811"/>
                </a:lnTo>
                <a:lnTo>
                  <a:pt x="1632" y="2819"/>
                </a:lnTo>
                <a:lnTo>
                  <a:pt x="1640" y="2827"/>
                </a:lnTo>
                <a:lnTo>
                  <a:pt x="1651" y="2834"/>
                </a:lnTo>
                <a:lnTo>
                  <a:pt x="1659" y="2842"/>
                </a:lnTo>
                <a:lnTo>
                  <a:pt x="1671" y="2846"/>
                </a:lnTo>
                <a:lnTo>
                  <a:pt x="1683" y="2850"/>
                </a:lnTo>
                <a:lnTo>
                  <a:pt x="1698" y="2854"/>
                </a:lnTo>
                <a:lnTo>
                  <a:pt x="1710" y="2854"/>
                </a:lnTo>
                <a:lnTo>
                  <a:pt x="1726" y="2854"/>
                </a:lnTo>
                <a:lnTo>
                  <a:pt x="1988" y="2752"/>
                </a:lnTo>
                <a:lnTo>
                  <a:pt x="2023" y="2807"/>
                </a:lnTo>
                <a:lnTo>
                  <a:pt x="2113" y="2834"/>
                </a:lnTo>
                <a:lnTo>
                  <a:pt x="2148" y="2905"/>
                </a:lnTo>
                <a:lnTo>
                  <a:pt x="2191" y="2913"/>
                </a:lnTo>
                <a:lnTo>
                  <a:pt x="2234" y="2909"/>
                </a:lnTo>
                <a:lnTo>
                  <a:pt x="2274" y="2897"/>
                </a:lnTo>
                <a:lnTo>
                  <a:pt x="2309" y="2877"/>
                </a:lnTo>
                <a:lnTo>
                  <a:pt x="2348" y="2854"/>
                </a:lnTo>
                <a:lnTo>
                  <a:pt x="2387" y="2834"/>
                </a:lnTo>
                <a:lnTo>
                  <a:pt x="2430" y="2819"/>
                </a:lnTo>
                <a:lnTo>
                  <a:pt x="2477" y="2807"/>
                </a:lnTo>
                <a:lnTo>
                  <a:pt x="2481" y="2811"/>
                </a:lnTo>
                <a:lnTo>
                  <a:pt x="2485" y="2815"/>
                </a:lnTo>
                <a:lnTo>
                  <a:pt x="2489" y="2819"/>
                </a:lnTo>
                <a:lnTo>
                  <a:pt x="2493" y="2827"/>
                </a:lnTo>
                <a:lnTo>
                  <a:pt x="2497" y="2831"/>
                </a:lnTo>
                <a:lnTo>
                  <a:pt x="2501" y="2838"/>
                </a:lnTo>
                <a:lnTo>
                  <a:pt x="2504" y="2842"/>
                </a:lnTo>
                <a:lnTo>
                  <a:pt x="2508" y="2850"/>
                </a:lnTo>
                <a:lnTo>
                  <a:pt x="2532" y="2858"/>
                </a:lnTo>
                <a:lnTo>
                  <a:pt x="2551" y="2862"/>
                </a:lnTo>
                <a:lnTo>
                  <a:pt x="2571" y="2862"/>
                </a:lnTo>
                <a:lnTo>
                  <a:pt x="2591" y="2854"/>
                </a:lnTo>
                <a:lnTo>
                  <a:pt x="2606" y="2846"/>
                </a:lnTo>
                <a:lnTo>
                  <a:pt x="2626" y="2838"/>
                </a:lnTo>
                <a:lnTo>
                  <a:pt x="2641" y="2827"/>
                </a:lnTo>
                <a:lnTo>
                  <a:pt x="2661" y="2819"/>
                </a:lnTo>
                <a:lnTo>
                  <a:pt x="2665" y="2819"/>
                </a:lnTo>
                <a:lnTo>
                  <a:pt x="2673" y="2823"/>
                </a:lnTo>
                <a:lnTo>
                  <a:pt x="2677" y="2827"/>
                </a:lnTo>
                <a:lnTo>
                  <a:pt x="2677" y="2834"/>
                </a:lnTo>
                <a:lnTo>
                  <a:pt x="2681" y="2838"/>
                </a:lnTo>
                <a:lnTo>
                  <a:pt x="2685" y="2846"/>
                </a:lnTo>
                <a:lnTo>
                  <a:pt x="2685" y="2854"/>
                </a:lnTo>
                <a:lnTo>
                  <a:pt x="2688" y="2862"/>
                </a:lnTo>
                <a:lnTo>
                  <a:pt x="2692" y="2870"/>
                </a:lnTo>
                <a:lnTo>
                  <a:pt x="2696" y="2877"/>
                </a:lnTo>
                <a:lnTo>
                  <a:pt x="2704" y="2881"/>
                </a:lnTo>
                <a:lnTo>
                  <a:pt x="2712" y="2889"/>
                </a:lnTo>
                <a:lnTo>
                  <a:pt x="2720" y="2893"/>
                </a:lnTo>
                <a:lnTo>
                  <a:pt x="2731" y="2897"/>
                </a:lnTo>
                <a:lnTo>
                  <a:pt x="2739" y="2901"/>
                </a:lnTo>
                <a:lnTo>
                  <a:pt x="2751" y="2905"/>
                </a:lnTo>
                <a:lnTo>
                  <a:pt x="2990" y="2772"/>
                </a:lnTo>
                <a:lnTo>
                  <a:pt x="2994" y="2764"/>
                </a:lnTo>
                <a:lnTo>
                  <a:pt x="2998" y="2756"/>
                </a:lnTo>
                <a:lnTo>
                  <a:pt x="2998" y="2744"/>
                </a:lnTo>
                <a:lnTo>
                  <a:pt x="3002" y="2737"/>
                </a:lnTo>
                <a:lnTo>
                  <a:pt x="3002" y="2725"/>
                </a:lnTo>
                <a:lnTo>
                  <a:pt x="2998" y="2713"/>
                </a:lnTo>
                <a:lnTo>
                  <a:pt x="2998" y="2701"/>
                </a:lnTo>
                <a:lnTo>
                  <a:pt x="2994" y="2694"/>
                </a:lnTo>
                <a:lnTo>
                  <a:pt x="2947" y="2635"/>
                </a:lnTo>
                <a:lnTo>
                  <a:pt x="3119" y="2475"/>
                </a:lnTo>
                <a:lnTo>
                  <a:pt x="3111" y="2424"/>
                </a:lnTo>
                <a:lnTo>
                  <a:pt x="3005" y="2342"/>
                </a:lnTo>
                <a:lnTo>
                  <a:pt x="3103" y="2224"/>
                </a:lnTo>
                <a:lnTo>
                  <a:pt x="3092" y="2158"/>
                </a:lnTo>
                <a:lnTo>
                  <a:pt x="3033" y="2127"/>
                </a:lnTo>
                <a:lnTo>
                  <a:pt x="2943" y="2158"/>
                </a:lnTo>
                <a:lnTo>
                  <a:pt x="2951" y="2138"/>
                </a:lnTo>
                <a:lnTo>
                  <a:pt x="2962" y="2123"/>
                </a:lnTo>
                <a:lnTo>
                  <a:pt x="2978" y="2107"/>
                </a:lnTo>
                <a:lnTo>
                  <a:pt x="2998" y="2095"/>
                </a:lnTo>
                <a:lnTo>
                  <a:pt x="3017" y="2084"/>
                </a:lnTo>
                <a:lnTo>
                  <a:pt x="3037" y="2072"/>
                </a:lnTo>
                <a:lnTo>
                  <a:pt x="3056" y="2056"/>
                </a:lnTo>
                <a:lnTo>
                  <a:pt x="3068" y="2037"/>
                </a:lnTo>
                <a:lnTo>
                  <a:pt x="3080" y="2037"/>
                </a:lnTo>
                <a:lnTo>
                  <a:pt x="3084" y="2033"/>
                </a:lnTo>
                <a:lnTo>
                  <a:pt x="3092" y="2033"/>
                </a:lnTo>
                <a:lnTo>
                  <a:pt x="3095" y="2029"/>
                </a:lnTo>
                <a:lnTo>
                  <a:pt x="3099" y="2025"/>
                </a:lnTo>
                <a:lnTo>
                  <a:pt x="3103" y="2021"/>
                </a:lnTo>
                <a:lnTo>
                  <a:pt x="3107" y="2017"/>
                </a:lnTo>
                <a:lnTo>
                  <a:pt x="3115" y="2013"/>
                </a:lnTo>
                <a:lnTo>
                  <a:pt x="3119" y="2006"/>
                </a:lnTo>
                <a:lnTo>
                  <a:pt x="3119" y="1998"/>
                </a:lnTo>
                <a:lnTo>
                  <a:pt x="3119" y="1990"/>
                </a:lnTo>
                <a:lnTo>
                  <a:pt x="3119" y="1978"/>
                </a:lnTo>
                <a:lnTo>
                  <a:pt x="3115" y="1970"/>
                </a:lnTo>
                <a:lnTo>
                  <a:pt x="3111" y="1959"/>
                </a:lnTo>
                <a:lnTo>
                  <a:pt x="3107" y="1951"/>
                </a:lnTo>
                <a:lnTo>
                  <a:pt x="3103" y="1943"/>
                </a:lnTo>
                <a:lnTo>
                  <a:pt x="3045" y="1920"/>
                </a:lnTo>
                <a:lnTo>
                  <a:pt x="2626" y="2201"/>
                </a:lnTo>
                <a:lnTo>
                  <a:pt x="2626" y="2185"/>
                </a:lnTo>
                <a:lnTo>
                  <a:pt x="2634" y="2170"/>
                </a:lnTo>
                <a:lnTo>
                  <a:pt x="2645" y="2158"/>
                </a:lnTo>
                <a:lnTo>
                  <a:pt x="2657" y="2146"/>
                </a:lnTo>
                <a:lnTo>
                  <a:pt x="2673" y="2135"/>
                </a:lnTo>
                <a:lnTo>
                  <a:pt x="2688" y="2123"/>
                </a:lnTo>
                <a:lnTo>
                  <a:pt x="2704" y="2115"/>
                </a:lnTo>
                <a:lnTo>
                  <a:pt x="2720" y="2107"/>
                </a:lnTo>
                <a:lnTo>
                  <a:pt x="2935" y="1908"/>
                </a:lnTo>
                <a:lnTo>
                  <a:pt x="3080" y="1775"/>
                </a:lnTo>
                <a:lnTo>
                  <a:pt x="3056" y="1728"/>
                </a:lnTo>
                <a:lnTo>
                  <a:pt x="3052" y="1724"/>
                </a:lnTo>
                <a:lnTo>
                  <a:pt x="3048" y="1724"/>
                </a:lnTo>
                <a:lnTo>
                  <a:pt x="3045" y="1724"/>
                </a:lnTo>
                <a:lnTo>
                  <a:pt x="3041" y="1720"/>
                </a:lnTo>
                <a:lnTo>
                  <a:pt x="3041" y="1720"/>
                </a:lnTo>
                <a:lnTo>
                  <a:pt x="3037" y="1716"/>
                </a:lnTo>
                <a:lnTo>
                  <a:pt x="3033" y="1712"/>
                </a:lnTo>
                <a:lnTo>
                  <a:pt x="3029" y="1704"/>
                </a:lnTo>
                <a:lnTo>
                  <a:pt x="3056" y="1661"/>
                </a:lnTo>
                <a:lnTo>
                  <a:pt x="3056" y="1658"/>
                </a:lnTo>
                <a:lnTo>
                  <a:pt x="3056" y="1658"/>
                </a:lnTo>
                <a:lnTo>
                  <a:pt x="3056" y="1654"/>
                </a:lnTo>
                <a:lnTo>
                  <a:pt x="3056" y="1650"/>
                </a:lnTo>
                <a:lnTo>
                  <a:pt x="3056" y="1646"/>
                </a:lnTo>
                <a:lnTo>
                  <a:pt x="3056" y="1642"/>
                </a:lnTo>
                <a:lnTo>
                  <a:pt x="3056" y="1642"/>
                </a:lnTo>
                <a:lnTo>
                  <a:pt x="3056" y="1638"/>
                </a:lnTo>
                <a:lnTo>
                  <a:pt x="3025" y="1579"/>
                </a:lnTo>
                <a:lnTo>
                  <a:pt x="3115" y="1489"/>
                </a:lnTo>
                <a:lnTo>
                  <a:pt x="3103" y="1446"/>
                </a:lnTo>
                <a:lnTo>
                  <a:pt x="3095" y="1435"/>
                </a:lnTo>
                <a:lnTo>
                  <a:pt x="3084" y="1427"/>
                </a:lnTo>
                <a:lnTo>
                  <a:pt x="3068" y="1419"/>
                </a:lnTo>
                <a:lnTo>
                  <a:pt x="3052" y="1415"/>
                </a:lnTo>
                <a:lnTo>
                  <a:pt x="3037" y="1411"/>
                </a:lnTo>
                <a:lnTo>
                  <a:pt x="3021" y="1411"/>
                </a:lnTo>
                <a:lnTo>
                  <a:pt x="3005" y="1415"/>
                </a:lnTo>
                <a:lnTo>
                  <a:pt x="2994" y="1423"/>
                </a:lnTo>
                <a:lnTo>
                  <a:pt x="2982" y="1431"/>
                </a:lnTo>
                <a:lnTo>
                  <a:pt x="2966" y="1435"/>
                </a:lnTo>
                <a:lnTo>
                  <a:pt x="2955" y="1442"/>
                </a:lnTo>
                <a:lnTo>
                  <a:pt x="2943" y="1446"/>
                </a:lnTo>
                <a:lnTo>
                  <a:pt x="2931" y="1454"/>
                </a:lnTo>
                <a:lnTo>
                  <a:pt x="2919" y="1458"/>
                </a:lnTo>
                <a:lnTo>
                  <a:pt x="2908" y="1466"/>
                </a:lnTo>
                <a:lnTo>
                  <a:pt x="2896" y="1470"/>
                </a:lnTo>
                <a:lnTo>
                  <a:pt x="2896" y="1474"/>
                </a:lnTo>
                <a:lnTo>
                  <a:pt x="2892" y="1470"/>
                </a:lnTo>
                <a:lnTo>
                  <a:pt x="2892" y="1470"/>
                </a:lnTo>
                <a:lnTo>
                  <a:pt x="2888" y="1466"/>
                </a:lnTo>
                <a:lnTo>
                  <a:pt x="2884" y="1462"/>
                </a:lnTo>
                <a:lnTo>
                  <a:pt x="2880" y="1458"/>
                </a:lnTo>
                <a:lnTo>
                  <a:pt x="2884" y="1454"/>
                </a:lnTo>
                <a:lnTo>
                  <a:pt x="2888" y="1454"/>
                </a:lnTo>
                <a:lnTo>
                  <a:pt x="2978" y="1380"/>
                </a:lnTo>
                <a:lnTo>
                  <a:pt x="3193" y="1196"/>
                </a:lnTo>
                <a:lnTo>
                  <a:pt x="3162" y="1141"/>
                </a:lnTo>
                <a:lnTo>
                  <a:pt x="3166" y="1126"/>
                </a:lnTo>
                <a:lnTo>
                  <a:pt x="3170" y="1114"/>
                </a:lnTo>
                <a:lnTo>
                  <a:pt x="3182" y="1098"/>
                </a:lnTo>
                <a:lnTo>
                  <a:pt x="3189" y="1087"/>
                </a:lnTo>
                <a:lnTo>
                  <a:pt x="3201" y="1075"/>
                </a:lnTo>
                <a:lnTo>
                  <a:pt x="3217" y="1063"/>
                </a:lnTo>
                <a:lnTo>
                  <a:pt x="3229" y="1051"/>
                </a:lnTo>
                <a:lnTo>
                  <a:pt x="3240" y="1040"/>
                </a:lnTo>
                <a:lnTo>
                  <a:pt x="3221" y="993"/>
                </a:lnTo>
                <a:lnTo>
                  <a:pt x="3209" y="981"/>
                </a:lnTo>
                <a:lnTo>
                  <a:pt x="3189" y="973"/>
                </a:lnTo>
                <a:lnTo>
                  <a:pt x="3174" y="965"/>
                </a:lnTo>
                <a:lnTo>
                  <a:pt x="3154" y="965"/>
                </a:lnTo>
                <a:lnTo>
                  <a:pt x="3135" y="965"/>
                </a:lnTo>
                <a:lnTo>
                  <a:pt x="3115" y="969"/>
                </a:lnTo>
                <a:lnTo>
                  <a:pt x="3095" y="977"/>
                </a:lnTo>
                <a:lnTo>
                  <a:pt x="3080" y="985"/>
                </a:lnTo>
                <a:lnTo>
                  <a:pt x="3033" y="1012"/>
                </a:lnTo>
                <a:lnTo>
                  <a:pt x="2990" y="1040"/>
                </a:lnTo>
                <a:lnTo>
                  <a:pt x="2947" y="1071"/>
                </a:lnTo>
                <a:lnTo>
                  <a:pt x="2908" y="1102"/>
                </a:lnTo>
                <a:lnTo>
                  <a:pt x="2868" y="1134"/>
                </a:lnTo>
                <a:lnTo>
                  <a:pt x="2829" y="1165"/>
                </a:lnTo>
                <a:lnTo>
                  <a:pt x="2790" y="1196"/>
                </a:lnTo>
                <a:lnTo>
                  <a:pt x="2751" y="1227"/>
                </a:lnTo>
                <a:lnTo>
                  <a:pt x="2747" y="1227"/>
                </a:lnTo>
                <a:lnTo>
                  <a:pt x="2743" y="1227"/>
                </a:lnTo>
                <a:lnTo>
                  <a:pt x="2743" y="1227"/>
                </a:lnTo>
                <a:lnTo>
                  <a:pt x="2739" y="1224"/>
                </a:lnTo>
                <a:lnTo>
                  <a:pt x="2735" y="1224"/>
                </a:lnTo>
                <a:lnTo>
                  <a:pt x="2735" y="1224"/>
                </a:lnTo>
                <a:lnTo>
                  <a:pt x="2731" y="1224"/>
                </a:lnTo>
                <a:lnTo>
                  <a:pt x="2728" y="1220"/>
                </a:lnTo>
                <a:lnTo>
                  <a:pt x="2755" y="1181"/>
                </a:lnTo>
                <a:lnTo>
                  <a:pt x="2790" y="1145"/>
                </a:lnTo>
                <a:lnTo>
                  <a:pt x="2829" y="1110"/>
                </a:lnTo>
                <a:lnTo>
                  <a:pt x="2868" y="1083"/>
                </a:lnTo>
                <a:lnTo>
                  <a:pt x="2912" y="1051"/>
                </a:lnTo>
                <a:lnTo>
                  <a:pt x="2951" y="1020"/>
                </a:lnTo>
                <a:lnTo>
                  <a:pt x="2990" y="985"/>
                </a:lnTo>
                <a:lnTo>
                  <a:pt x="3025" y="950"/>
                </a:lnTo>
                <a:lnTo>
                  <a:pt x="3052" y="930"/>
                </a:lnTo>
                <a:lnTo>
                  <a:pt x="3076" y="907"/>
                </a:lnTo>
                <a:lnTo>
                  <a:pt x="3103" y="887"/>
                </a:lnTo>
                <a:lnTo>
                  <a:pt x="3127" y="868"/>
                </a:lnTo>
                <a:lnTo>
                  <a:pt x="3154" y="848"/>
                </a:lnTo>
                <a:lnTo>
                  <a:pt x="3178" y="829"/>
                </a:lnTo>
                <a:lnTo>
                  <a:pt x="3201" y="809"/>
                </a:lnTo>
                <a:lnTo>
                  <a:pt x="3229" y="790"/>
                </a:lnTo>
                <a:lnTo>
                  <a:pt x="3232" y="786"/>
                </a:lnTo>
                <a:lnTo>
                  <a:pt x="3232" y="778"/>
                </a:lnTo>
                <a:lnTo>
                  <a:pt x="3236" y="770"/>
                </a:lnTo>
                <a:lnTo>
                  <a:pt x="3236" y="762"/>
                </a:lnTo>
                <a:lnTo>
                  <a:pt x="3236" y="754"/>
                </a:lnTo>
                <a:lnTo>
                  <a:pt x="3236" y="747"/>
                </a:lnTo>
                <a:lnTo>
                  <a:pt x="3232" y="739"/>
                </a:lnTo>
                <a:lnTo>
                  <a:pt x="3232" y="735"/>
                </a:lnTo>
                <a:lnTo>
                  <a:pt x="3229" y="727"/>
                </a:lnTo>
                <a:lnTo>
                  <a:pt x="3221" y="719"/>
                </a:lnTo>
                <a:lnTo>
                  <a:pt x="3213" y="711"/>
                </a:lnTo>
                <a:lnTo>
                  <a:pt x="3201" y="704"/>
                </a:lnTo>
                <a:lnTo>
                  <a:pt x="3193" y="700"/>
                </a:lnTo>
                <a:lnTo>
                  <a:pt x="3182" y="696"/>
                </a:lnTo>
                <a:lnTo>
                  <a:pt x="3170" y="688"/>
                </a:lnTo>
                <a:lnTo>
                  <a:pt x="3158" y="684"/>
                </a:lnTo>
                <a:lnTo>
                  <a:pt x="3103" y="711"/>
                </a:lnTo>
                <a:lnTo>
                  <a:pt x="3095" y="707"/>
                </a:lnTo>
                <a:lnTo>
                  <a:pt x="3092" y="704"/>
                </a:lnTo>
                <a:lnTo>
                  <a:pt x="3088" y="700"/>
                </a:lnTo>
                <a:lnTo>
                  <a:pt x="3084" y="692"/>
                </a:lnTo>
                <a:lnTo>
                  <a:pt x="3080" y="684"/>
                </a:lnTo>
                <a:lnTo>
                  <a:pt x="3076" y="676"/>
                </a:lnTo>
                <a:lnTo>
                  <a:pt x="3072" y="668"/>
                </a:lnTo>
                <a:lnTo>
                  <a:pt x="3068" y="664"/>
                </a:lnTo>
                <a:lnTo>
                  <a:pt x="3056" y="657"/>
                </a:lnTo>
                <a:lnTo>
                  <a:pt x="3045" y="649"/>
                </a:lnTo>
                <a:lnTo>
                  <a:pt x="3025" y="645"/>
                </a:lnTo>
                <a:lnTo>
                  <a:pt x="3009" y="649"/>
                </a:lnTo>
                <a:lnTo>
                  <a:pt x="2994" y="649"/>
                </a:lnTo>
                <a:lnTo>
                  <a:pt x="2974" y="657"/>
                </a:lnTo>
                <a:lnTo>
                  <a:pt x="2958" y="661"/>
                </a:lnTo>
                <a:lnTo>
                  <a:pt x="2943" y="668"/>
                </a:lnTo>
                <a:lnTo>
                  <a:pt x="2778" y="801"/>
                </a:lnTo>
                <a:lnTo>
                  <a:pt x="2618" y="930"/>
                </a:lnTo>
                <a:lnTo>
                  <a:pt x="2458" y="1055"/>
                </a:lnTo>
                <a:lnTo>
                  <a:pt x="2297" y="1177"/>
                </a:lnTo>
                <a:lnTo>
                  <a:pt x="2137" y="1294"/>
                </a:lnTo>
                <a:lnTo>
                  <a:pt x="1976" y="1407"/>
                </a:lnTo>
                <a:lnTo>
                  <a:pt x="1808" y="1513"/>
                </a:lnTo>
                <a:lnTo>
                  <a:pt x="1640" y="1618"/>
                </a:lnTo>
                <a:lnTo>
                  <a:pt x="1608" y="1638"/>
                </a:lnTo>
                <a:lnTo>
                  <a:pt x="1577" y="1658"/>
                </a:lnTo>
                <a:lnTo>
                  <a:pt x="1546" y="1677"/>
                </a:lnTo>
                <a:lnTo>
                  <a:pt x="1514" y="1697"/>
                </a:lnTo>
                <a:lnTo>
                  <a:pt x="1487" y="1712"/>
                </a:lnTo>
                <a:lnTo>
                  <a:pt x="1456" y="1732"/>
                </a:lnTo>
                <a:lnTo>
                  <a:pt x="1420" y="1744"/>
                </a:lnTo>
                <a:lnTo>
                  <a:pt x="1385" y="1759"/>
                </a:lnTo>
                <a:lnTo>
                  <a:pt x="1385" y="1755"/>
                </a:lnTo>
                <a:lnTo>
                  <a:pt x="1385" y="1751"/>
                </a:lnTo>
                <a:lnTo>
                  <a:pt x="1381" y="1751"/>
                </a:lnTo>
                <a:lnTo>
                  <a:pt x="1381" y="1751"/>
                </a:lnTo>
                <a:lnTo>
                  <a:pt x="1377" y="1751"/>
                </a:lnTo>
                <a:lnTo>
                  <a:pt x="1381" y="1747"/>
                </a:lnTo>
                <a:lnTo>
                  <a:pt x="1381" y="1747"/>
                </a:lnTo>
                <a:lnTo>
                  <a:pt x="1385" y="1740"/>
                </a:lnTo>
                <a:lnTo>
                  <a:pt x="1753" y="1478"/>
                </a:lnTo>
                <a:lnTo>
                  <a:pt x="2442" y="997"/>
                </a:lnTo>
                <a:lnTo>
                  <a:pt x="2450" y="989"/>
                </a:lnTo>
                <a:lnTo>
                  <a:pt x="2458" y="981"/>
                </a:lnTo>
                <a:lnTo>
                  <a:pt x="2469" y="969"/>
                </a:lnTo>
                <a:lnTo>
                  <a:pt x="2477" y="962"/>
                </a:lnTo>
                <a:lnTo>
                  <a:pt x="2485" y="950"/>
                </a:lnTo>
                <a:lnTo>
                  <a:pt x="2497" y="942"/>
                </a:lnTo>
                <a:lnTo>
                  <a:pt x="2508" y="934"/>
                </a:lnTo>
                <a:lnTo>
                  <a:pt x="2520" y="930"/>
                </a:lnTo>
                <a:lnTo>
                  <a:pt x="3131" y="410"/>
                </a:lnTo>
                <a:lnTo>
                  <a:pt x="3115" y="359"/>
                </a:lnTo>
                <a:lnTo>
                  <a:pt x="3099" y="348"/>
                </a:lnTo>
                <a:lnTo>
                  <a:pt x="3088" y="340"/>
                </a:lnTo>
                <a:lnTo>
                  <a:pt x="3068" y="336"/>
                </a:lnTo>
                <a:lnTo>
                  <a:pt x="3052" y="336"/>
                </a:lnTo>
                <a:lnTo>
                  <a:pt x="3037" y="340"/>
                </a:lnTo>
                <a:lnTo>
                  <a:pt x="3021" y="344"/>
                </a:lnTo>
                <a:lnTo>
                  <a:pt x="3005" y="352"/>
                </a:lnTo>
                <a:lnTo>
                  <a:pt x="2990" y="359"/>
                </a:lnTo>
                <a:lnTo>
                  <a:pt x="2986" y="363"/>
                </a:lnTo>
                <a:lnTo>
                  <a:pt x="2978" y="367"/>
                </a:lnTo>
                <a:lnTo>
                  <a:pt x="2974" y="371"/>
                </a:lnTo>
                <a:lnTo>
                  <a:pt x="2970" y="375"/>
                </a:lnTo>
                <a:lnTo>
                  <a:pt x="2966" y="375"/>
                </a:lnTo>
                <a:lnTo>
                  <a:pt x="2962" y="375"/>
                </a:lnTo>
                <a:lnTo>
                  <a:pt x="2958" y="375"/>
                </a:lnTo>
                <a:lnTo>
                  <a:pt x="2955" y="375"/>
                </a:lnTo>
                <a:lnTo>
                  <a:pt x="2978" y="340"/>
                </a:lnTo>
                <a:lnTo>
                  <a:pt x="3005" y="309"/>
                </a:lnTo>
                <a:lnTo>
                  <a:pt x="3041" y="285"/>
                </a:lnTo>
                <a:lnTo>
                  <a:pt x="3076" y="266"/>
                </a:lnTo>
                <a:lnTo>
                  <a:pt x="3115" y="246"/>
                </a:lnTo>
                <a:lnTo>
                  <a:pt x="3154" y="227"/>
                </a:lnTo>
                <a:lnTo>
                  <a:pt x="3185" y="207"/>
                </a:lnTo>
                <a:lnTo>
                  <a:pt x="3213" y="176"/>
                </a:lnTo>
                <a:lnTo>
                  <a:pt x="3217" y="164"/>
                </a:lnTo>
                <a:lnTo>
                  <a:pt x="3217" y="152"/>
                </a:lnTo>
                <a:lnTo>
                  <a:pt x="3213" y="140"/>
                </a:lnTo>
                <a:lnTo>
                  <a:pt x="3209" y="129"/>
                </a:lnTo>
                <a:lnTo>
                  <a:pt x="3201" y="117"/>
                </a:lnTo>
                <a:lnTo>
                  <a:pt x="3193" y="105"/>
                </a:lnTo>
                <a:lnTo>
                  <a:pt x="3182" y="94"/>
                </a:lnTo>
                <a:lnTo>
                  <a:pt x="3170" y="82"/>
                </a:lnTo>
                <a:lnTo>
                  <a:pt x="3115" y="62"/>
                </a:lnTo>
                <a:lnTo>
                  <a:pt x="3013" y="140"/>
                </a:lnTo>
                <a:lnTo>
                  <a:pt x="2998" y="133"/>
                </a:lnTo>
                <a:lnTo>
                  <a:pt x="2982" y="125"/>
                </a:lnTo>
                <a:lnTo>
                  <a:pt x="2966" y="117"/>
                </a:lnTo>
                <a:lnTo>
                  <a:pt x="2947" y="109"/>
                </a:lnTo>
                <a:lnTo>
                  <a:pt x="2931" y="105"/>
                </a:lnTo>
                <a:lnTo>
                  <a:pt x="2912" y="105"/>
                </a:lnTo>
                <a:lnTo>
                  <a:pt x="2896" y="109"/>
                </a:lnTo>
                <a:lnTo>
                  <a:pt x="2876" y="121"/>
                </a:lnTo>
                <a:lnTo>
                  <a:pt x="2626" y="332"/>
                </a:lnTo>
                <a:lnTo>
                  <a:pt x="2379" y="535"/>
                </a:lnTo>
                <a:lnTo>
                  <a:pt x="2137" y="735"/>
                </a:lnTo>
                <a:lnTo>
                  <a:pt x="1894" y="922"/>
                </a:lnTo>
                <a:lnTo>
                  <a:pt x="1643" y="1098"/>
                </a:lnTo>
                <a:lnTo>
                  <a:pt x="1389" y="1263"/>
                </a:lnTo>
                <a:lnTo>
                  <a:pt x="1127" y="1415"/>
                </a:lnTo>
                <a:lnTo>
                  <a:pt x="849" y="1556"/>
                </a:lnTo>
                <a:lnTo>
                  <a:pt x="849" y="1552"/>
                </a:lnTo>
                <a:lnTo>
                  <a:pt x="849" y="1548"/>
                </a:lnTo>
                <a:lnTo>
                  <a:pt x="845" y="1548"/>
                </a:lnTo>
                <a:lnTo>
                  <a:pt x="845" y="1548"/>
                </a:lnTo>
                <a:lnTo>
                  <a:pt x="845" y="1544"/>
                </a:lnTo>
                <a:lnTo>
                  <a:pt x="845" y="1544"/>
                </a:lnTo>
                <a:lnTo>
                  <a:pt x="845" y="1540"/>
                </a:lnTo>
                <a:lnTo>
                  <a:pt x="849" y="1536"/>
                </a:lnTo>
                <a:lnTo>
                  <a:pt x="1510" y="1071"/>
                </a:lnTo>
                <a:lnTo>
                  <a:pt x="1589" y="1028"/>
                </a:lnTo>
                <a:lnTo>
                  <a:pt x="2000" y="704"/>
                </a:lnTo>
                <a:lnTo>
                  <a:pt x="2004" y="700"/>
                </a:lnTo>
                <a:lnTo>
                  <a:pt x="2007" y="700"/>
                </a:lnTo>
                <a:lnTo>
                  <a:pt x="2011" y="700"/>
                </a:lnTo>
                <a:lnTo>
                  <a:pt x="2015" y="696"/>
                </a:lnTo>
                <a:lnTo>
                  <a:pt x="2019" y="696"/>
                </a:lnTo>
                <a:lnTo>
                  <a:pt x="2023" y="696"/>
                </a:lnTo>
                <a:lnTo>
                  <a:pt x="2031" y="692"/>
                </a:lnTo>
                <a:lnTo>
                  <a:pt x="2035" y="692"/>
                </a:lnTo>
                <a:lnTo>
                  <a:pt x="2043" y="684"/>
                </a:lnTo>
                <a:lnTo>
                  <a:pt x="2051" y="680"/>
                </a:lnTo>
                <a:lnTo>
                  <a:pt x="2054" y="672"/>
                </a:lnTo>
                <a:lnTo>
                  <a:pt x="2062" y="664"/>
                </a:lnTo>
                <a:lnTo>
                  <a:pt x="2066" y="661"/>
                </a:lnTo>
                <a:lnTo>
                  <a:pt x="2074" y="653"/>
                </a:lnTo>
                <a:lnTo>
                  <a:pt x="2078" y="641"/>
                </a:lnTo>
                <a:lnTo>
                  <a:pt x="2082" y="629"/>
                </a:lnTo>
                <a:lnTo>
                  <a:pt x="2113" y="614"/>
                </a:lnTo>
                <a:lnTo>
                  <a:pt x="2148" y="594"/>
                </a:lnTo>
                <a:lnTo>
                  <a:pt x="2180" y="574"/>
                </a:lnTo>
                <a:lnTo>
                  <a:pt x="2207" y="551"/>
                </a:lnTo>
                <a:lnTo>
                  <a:pt x="2238" y="531"/>
                </a:lnTo>
                <a:lnTo>
                  <a:pt x="2266" y="504"/>
                </a:lnTo>
                <a:lnTo>
                  <a:pt x="2293" y="481"/>
                </a:lnTo>
                <a:lnTo>
                  <a:pt x="2321" y="453"/>
                </a:lnTo>
                <a:lnTo>
                  <a:pt x="2368" y="418"/>
                </a:lnTo>
                <a:lnTo>
                  <a:pt x="2414" y="379"/>
                </a:lnTo>
                <a:lnTo>
                  <a:pt x="2461" y="344"/>
                </a:lnTo>
                <a:lnTo>
                  <a:pt x="2504" y="309"/>
                </a:lnTo>
                <a:lnTo>
                  <a:pt x="2551" y="270"/>
                </a:lnTo>
                <a:lnTo>
                  <a:pt x="2598" y="230"/>
                </a:lnTo>
                <a:lnTo>
                  <a:pt x="2645" y="187"/>
                </a:lnTo>
                <a:lnTo>
                  <a:pt x="2692" y="140"/>
                </a:lnTo>
                <a:lnTo>
                  <a:pt x="2692" y="140"/>
                </a:lnTo>
                <a:lnTo>
                  <a:pt x="2692" y="140"/>
                </a:lnTo>
                <a:lnTo>
                  <a:pt x="2692" y="137"/>
                </a:lnTo>
                <a:lnTo>
                  <a:pt x="2696" y="133"/>
                </a:lnTo>
                <a:lnTo>
                  <a:pt x="2696" y="129"/>
                </a:lnTo>
                <a:lnTo>
                  <a:pt x="2696" y="125"/>
                </a:lnTo>
                <a:lnTo>
                  <a:pt x="2696" y="125"/>
                </a:lnTo>
                <a:lnTo>
                  <a:pt x="2696" y="121"/>
                </a:lnTo>
                <a:lnTo>
                  <a:pt x="2696" y="117"/>
                </a:lnTo>
                <a:lnTo>
                  <a:pt x="2692" y="117"/>
                </a:lnTo>
                <a:lnTo>
                  <a:pt x="2692" y="113"/>
                </a:lnTo>
                <a:lnTo>
                  <a:pt x="2688" y="113"/>
                </a:lnTo>
                <a:lnTo>
                  <a:pt x="2688" y="109"/>
                </a:lnTo>
                <a:lnTo>
                  <a:pt x="2688" y="105"/>
                </a:lnTo>
                <a:lnTo>
                  <a:pt x="2685" y="101"/>
                </a:lnTo>
                <a:lnTo>
                  <a:pt x="2685" y="97"/>
                </a:lnTo>
                <a:lnTo>
                  <a:pt x="2673" y="86"/>
                </a:lnTo>
                <a:lnTo>
                  <a:pt x="2657" y="74"/>
                </a:lnTo>
                <a:lnTo>
                  <a:pt x="2641" y="70"/>
                </a:lnTo>
                <a:lnTo>
                  <a:pt x="2622" y="66"/>
                </a:lnTo>
                <a:lnTo>
                  <a:pt x="2602" y="70"/>
                </a:lnTo>
                <a:lnTo>
                  <a:pt x="2583" y="74"/>
                </a:lnTo>
                <a:lnTo>
                  <a:pt x="2563" y="82"/>
                </a:lnTo>
                <a:lnTo>
                  <a:pt x="2544" y="90"/>
                </a:lnTo>
                <a:lnTo>
                  <a:pt x="2430" y="180"/>
                </a:lnTo>
                <a:lnTo>
                  <a:pt x="2317" y="273"/>
                </a:lnTo>
                <a:lnTo>
                  <a:pt x="2203" y="371"/>
                </a:lnTo>
                <a:lnTo>
                  <a:pt x="2090" y="465"/>
                </a:lnTo>
                <a:lnTo>
                  <a:pt x="1976" y="559"/>
                </a:lnTo>
                <a:lnTo>
                  <a:pt x="1863" y="649"/>
                </a:lnTo>
                <a:lnTo>
                  <a:pt x="1745" y="735"/>
                </a:lnTo>
                <a:lnTo>
                  <a:pt x="1628" y="821"/>
                </a:lnTo>
                <a:lnTo>
                  <a:pt x="1589" y="848"/>
                </a:lnTo>
                <a:lnTo>
                  <a:pt x="1550" y="876"/>
                </a:lnTo>
                <a:lnTo>
                  <a:pt x="1510" y="903"/>
                </a:lnTo>
                <a:lnTo>
                  <a:pt x="1475" y="930"/>
                </a:lnTo>
                <a:lnTo>
                  <a:pt x="1436" y="958"/>
                </a:lnTo>
                <a:lnTo>
                  <a:pt x="1397" y="985"/>
                </a:lnTo>
                <a:lnTo>
                  <a:pt x="1358" y="1012"/>
                </a:lnTo>
                <a:lnTo>
                  <a:pt x="1315" y="1036"/>
                </a:lnTo>
                <a:lnTo>
                  <a:pt x="1315" y="1032"/>
                </a:lnTo>
                <a:lnTo>
                  <a:pt x="1315" y="1028"/>
                </a:lnTo>
                <a:lnTo>
                  <a:pt x="1311" y="1028"/>
                </a:lnTo>
                <a:lnTo>
                  <a:pt x="1311" y="1028"/>
                </a:lnTo>
                <a:lnTo>
                  <a:pt x="1311" y="1028"/>
                </a:lnTo>
                <a:lnTo>
                  <a:pt x="1311" y="1024"/>
                </a:lnTo>
                <a:lnTo>
                  <a:pt x="1311" y="1020"/>
                </a:lnTo>
                <a:lnTo>
                  <a:pt x="1315" y="1016"/>
                </a:lnTo>
                <a:lnTo>
                  <a:pt x="1377" y="965"/>
                </a:lnTo>
                <a:lnTo>
                  <a:pt x="1440" y="919"/>
                </a:lnTo>
                <a:lnTo>
                  <a:pt x="1507" y="868"/>
                </a:lnTo>
                <a:lnTo>
                  <a:pt x="1569" y="817"/>
                </a:lnTo>
                <a:lnTo>
                  <a:pt x="1636" y="762"/>
                </a:lnTo>
                <a:lnTo>
                  <a:pt x="1702" y="711"/>
                </a:lnTo>
                <a:lnTo>
                  <a:pt x="1765" y="657"/>
                </a:lnTo>
                <a:lnTo>
                  <a:pt x="1831" y="602"/>
                </a:lnTo>
                <a:lnTo>
                  <a:pt x="1890" y="555"/>
                </a:lnTo>
                <a:lnTo>
                  <a:pt x="1953" y="508"/>
                </a:lnTo>
                <a:lnTo>
                  <a:pt x="2011" y="457"/>
                </a:lnTo>
                <a:lnTo>
                  <a:pt x="2074" y="410"/>
                </a:lnTo>
                <a:lnTo>
                  <a:pt x="2133" y="359"/>
                </a:lnTo>
                <a:lnTo>
                  <a:pt x="2187" y="309"/>
                </a:lnTo>
                <a:lnTo>
                  <a:pt x="2242" y="254"/>
                </a:lnTo>
                <a:lnTo>
                  <a:pt x="2293" y="199"/>
                </a:lnTo>
                <a:lnTo>
                  <a:pt x="2274" y="152"/>
                </a:lnTo>
                <a:lnTo>
                  <a:pt x="2250" y="140"/>
                </a:lnTo>
                <a:lnTo>
                  <a:pt x="2227" y="137"/>
                </a:lnTo>
                <a:lnTo>
                  <a:pt x="2203" y="137"/>
                </a:lnTo>
                <a:lnTo>
                  <a:pt x="2180" y="140"/>
                </a:lnTo>
                <a:lnTo>
                  <a:pt x="2156" y="148"/>
                </a:lnTo>
                <a:lnTo>
                  <a:pt x="2133" y="160"/>
                </a:lnTo>
                <a:lnTo>
                  <a:pt x="2113" y="172"/>
                </a:lnTo>
                <a:lnTo>
                  <a:pt x="2094" y="183"/>
                </a:lnTo>
                <a:lnTo>
                  <a:pt x="1921" y="328"/>
                </a:lnTo>
                <a:lnTo>
                  <a:pt x="1753" y="465"/>
                </a:lnTo>
                <a:lnTo>
                  <a:pt x="1585" y="594"/>
                </a:lnTo>
                <a:lnTo>
                  <a:pt x="1416" y="715"/>
                </a:lnTo>
                <a:lnTo>
                  <a:pt x="1244" y="833"/>
                </a:lnTo>
                <a:lnTo>
                  <a:pt x="1072" y="938"/>
                </a:lnTo>
                <a:lnTo>
                  <a:pt x="896" y="1040"/>
                </a:lnTo>
                <a:lnTo>
                  <a:pt x="716" y="1138"/>
                </a:lnTo>
                <a:lnTo>
                  <a:pt x="857" y="1016"/>
                </a:lnTo>
                <a:lnTo>
                  <a:pt x="1002" y="903"/>
                </a:lnTo>
                <a:lnTo>
                  <a:pt x="1150" y="790"/>
                </a:lnTo>
                <a:lnTo>
                  <a:pt x="1303" y="680"/>
                </a:lnTo>
                <a:lnTo>
                  <a:pt x="1460" y="571"/>
                </a:lnTo>
                <a:lnTo>
                  <a:pt x="1612" y="461"/>
                </a:lnTo>
                <a:lnTo>
                  <a:pt x="1761" y="348"/>
                </a:lnTo>
                <a:lnTo>
                  <a:pt x="1910" y="234"/>
                </a:lnTo>
                <a:lnTo>
                  <a:pt x="1902" y="187"/>
                </a:lnTo>
                <a:lnTo>
                  <a:pt x="1894" y="180"/>
                </a:lnTo>
                <a:lnTo>
                  <a:pt x="1886" y="172"/>
                </a:lnTo>
                <a:lnTo>
                  <a:pt x="1878" y="164"/>
                </a:lnTo>
                <a:lnTo>
                  <a:pt x="1870" y="160"/>
                </a:lnTo>
                <a:lnTo>
                  <a:pt x="1859" y="156"/>
                </a:lnTo>
                <a:lnTo>
                  <a:pt x="1843" y="152"/>
                </a:lnTo>
                <a:lnTo>
                  <a:pt x="1831" y="156"/>
                </a:lnTo>
                <a:lnTo>
                  <a:pt x="1816" y="156"/>
                </a:lnTo>
                <a:lnTo>
                  <a:pt x="1733" y="207"/>
                </a:lnTo>
                <a:lnTo>
                  <a:pt x="1659" y="258"/>
                </a:lnTo>
                <a:lnTo>
                  <a:pt x="1585" y="316"/>
                </a:lnTo>
                <a:lnTo>
                  <a:pt x="1514" y="371"/>
                </a:lnTo>
                <a:lnTo>
                  <a:pt x="1444" y="430"/>
                </a:lnTo>
                <a:lnTo>
                  <a:pt x="1370" y="485"/>
                </a:lnTo>
                <a:lnTo>
                  <a:pt x="1295" y="539"/>
                </a:lnTo>
                <a:lnTo>
                  <a:pt x="1217" y="590"/>
                </a:lnTo>
                <a:lnTo>
                  <a:pt x="1189" y="610"/>
                </a:lnTo>
                <a:lnTo>
                  <a:pt x="1158" y="629"/>
                </a:lnTo>
                <a:lnTo>
                  <a:pt x="1131" y="649"/>
                </a:lnTo>
                <a:lnTo>
                  <a:pt x="1103" y="668"/>
                </a:lnTo>
                <a:lnTo>
                  <a:pt x="1072" y="684"/>
                </a:lnTo>
                <a:lnTo>
                  <a:pt x="1045" y="700"/>
                </a:lnTo>
                <a:lnTo>
                  <a:pt x="1017" y="715"/>
                </a:lnTo>
                <a:lnTo>
                  <a:pt x="986" y="731"/>
                </a:lnTo>
                <a:lnTo>
                  <a:pt x="986" y="731"/>
                </a:lnTo>
                <a:lnTo>
                  <a:pt x="982" y="727"/>
                </a:lnTo>
                <a:lnTo>
                  <a:pt x="982" y="727"/>
                </a:lnTo>
                <a:lnTo>
                  <a:pt x="982" y="723"/>
                </a:lnTo>
                <a:lnTo>
                  <a:pt x="982" y="719"/>
                </a:lnTo>
                <a:lnTo>
                  <a:pt x="982" y="719"/>
                </a:lnTo>
                <a:lnTo>
                  <a:pt x="978" y="715"/>
                </a:lnTo>
                <a:lnTo>
                  <a:pt x="978" y="711"/>
                </a:lnTo>
                <a:lnTo>
                  <a:pt x="1675" y="187"/>
                </a:lnTo>
                <a:lnTo>
                  <a:pt x="1675" y="187"/>
                </a:lnTo>
                <a:lnTo>
                  <a:pt x="1675" y="183"/>
                </a:lnTo>
                <a:lnTo>
                  <a:pt x="1675" y="180"/>
                </a:lnTo>
                <a:lnTo>
                  <a:pt x="1675" y="180"/>
                </a:lnTo>
                <a:lnTo>
                  <a:pt x="1675" y="176"/>
                </a:lnTo>
                <a:lnTo>
                  <a:pt x="1675" y="172"/>
                </a:lnTo>
                <a:lnTo>
                  <a:pt x="1675" y="168"/>
                </a:lnTo>
                <a:lnTo>
                  <a:pt x="1675" y="168"/>
                </a:lnTo>
                <a:lnTo>
                  <a:pt x="1671" y="160"/>
                </a:lnTo>
                <a:lnTo>
                  <a:pt x="1667" y="156"/>
                </a:lnTo>
                <a:lnTo>
                  <a:pt x="1667" y="152"/>
                </a:lnTo>
                <a:lnTo>
                  <a:pt x="1663" y="148"/>
                </a:lnTo>
                <a:lnTo>
                  <a:pt x="1663" y="148"/>
                </a:lnTo>
                <a:lnTo>
                  <a:pt x="1663" y="144"/>
                </a:lnTo>
                <a:lnTo>
                  <a:pt x="1663" y="144"/>
                </a:lnTo>
                <a:lnTo>
                  <a:pt x="1663" y="140"/>
                </a:lnTo>
                <a:lnTo>
                  <a:pt x="1659" y="133"/>
                </a:lnTo>
                <a:lnTo>
                  <a:pt x="1651" y="129"/>
                </a:lnTo>
                <a:lnTo>
                  <a:pt x="1640" y="121"/>
                </a:lnTo>
                <a:lnTo>
                  <a:pt x="1632" y="113"/>
                </a:lnTo>
                <a:lnTo>
                  <a:pt x="1620" y="109"/>
                </a:lnTo>
                <a:lnTo>
                  <a:pt x="1604" y="109"/>
                </a:lnTo>
                <a:lnTo>
                  <a:pt x="1593" y="109"/>
                </a:lnTo>
                <a:lnTo>
                  <a:pt x="1573" y="113"/>
                </a:lnTo>
                <a:lnTo>
                  <a:pt x="1553" y="121"/>
                </a:lnTo>
                <a:lnTo>
                  <a:pt x="1538" y="129"/>
                </a:lnTo>
                <a:lnTo>
                  <a:pt x="1522" y="137"/>
                </a:lnTo>
                <a:lnTo>
                  <a:pt x="1507" y="144"/>
                </a:lnTo>
                <a:lnTo>
                  <a:pt x="1491" y="156"/>
                </a:lnTo>
                <a:lnTo>
                  <a:pt x="1475" y="164"/>
                </a:lnTo>
                <a:lnTo>
                  <a:pt x="1460" y="172"/>
                </a:lnTo>
                <a:lnTo>
                  <a:pt x="1444" y="183"/>
                </a:lnTo>
                <a:lnTo>
                  <a:pt x="1397" y="140"/>
                </a:lnTo>
                <a:lnTo>
                  <a:pt x="1354" y="121"/>
                </a:lnTo>
                <a:lnTo>
                  <a:pt x="1170" y="207"/>
                </a:lnTo>
                <a:lnTo>
                  <a:pt x="1162" y="195"/>
                </a:lnTo>
                <a:lnTo>
                  <a:pt x="1158" y="183"/>
                </a:lnTo>
                <a:lnTo>
                  <a:pt x="1150" y="172"/>
                </a:lnTo>
                <a:lnTo>
                  <a:pt x="1143" y="164"/>
                </a:lnTo>
                <a:lnTo>
                  <a:pt x="1131" y="152"/>
                </a:lnTo>
                <a:lnTo>
                  <a:pt x="1119" y="144"/>
                </a:lnTo>
                <a:lnTo>
                  <a:pt x="1107" y="137"/>
                </a:lnTo>
                <a:lnTo>
                  <a:pt x="1092" y="133"/>
                </a:lnTo>
                <a:lnTo>
                  <a:pt x="1013" y="160"/>
                </a:lnTo>
                <a:lnTo>
                  <a:pt x="943" y="195"/>
                </a:lnTo>
                <a:lnTo>
                  <a:pt x="880" y="234"/>
                </a:lnTo>
                <a:lnTo>
                  <a:pt x="822" y="277"/>
                </a:lnTo>
                <a:lnTo>
                  <a:pt x="763" y="320"/>
                </a:lnTo>
                <a:lnTo>
                  <a:pt x="704" y="359"/>
                </a:lnTo>
                <a:lnTo>
                  <a:pt x="638" y="395"/>
                </a:lnTo>
                <a:lnTo>
                  <a:pt x="571" y="422"/>
                </a:lnTo>
                <a:lnTo>
                  <a:pt x="567" y="422"/>
                </a:lnTo>
                <a:lnTo>
                  <a:pt x="567" y="418"/>
                </a:lnTo>
                <a:lnTo>
                  <a:pt x="563" y="418"/>
                </a:lnTo>
                <a:lnTo>
                  <a:pt x="563" y="418"/>
                </a:lnTo>
                <a:lnTo>
                  <a:pt x="563" y="414"/>
                </a:lnTo>
                <a:lnTo>
                  <a:pt x="563" y="410"/>
                </a:lnTo>
                <a:lnTo>
                  <a:pt x="559" y="406"/>
                </a:lnTo>
                <a:lnTo>
                  <a:pt x="559" y="402"/>
                </a:lnTo>
                <a:lnTo>
                  <a:pt x="845" y="176"/>
                </a:lnTo>
                <a:lnTo>
                  <a:pt x="849" y="168"/>
                </a:lnTo>
                <a:lnTo>
                  <a:pt x="853" y="156"/>
                </a:lnTo>
                <a:lnTo>
                  <a:pt x="853" y="144"/>
                </a:lnTo>
                <a:lnTo>
                  <a:pt x="849" y="137"/>
                </a:lnTo>
                <a:lnTo>
                  <a:pt x="845" y="125"/>
                </a:lnTo>
                <a:lnTo>
                  <a:pt x="841" y="113"/>
                </a:lnTo>
                <a:lnTo>
                  <a:pt x="833" y="105"/>
                </a:lnTo>
                <a:lnTo>
                  <a:pt x="829" y="97"/>
                </a:lnTo>
                <a:lnTo>
                  <a:pt x="806" y="86"/>
                </a:lnTo>
                <a:lnTo>
                  <a:pt x="782" y="82"/>
                </a:lnTo>
                <a:lnTo>
                  <a:pt x="759" y="86"/>
                </a:lnTo>
                <a:lnTo>
                  <a:pt x="732" y="90"/>
                </a:lnTo>
                <a:lnTo>
                  <a:pt x="708" y="101"/>
                </a:lnTo>
                <a:lnTo>
                  <a:pt x="689" y="109"/>
                </a:lnTo>
                <a:lnTo>
                  <a:pt x="665" y="121"/>
                </a:lnTo>
                <a:lnTo>
                  <a:pt x="649" y="133"/>
                </a:lnTo>
                <a:lnTo>
                  <a:pt x="606" y="164"/>
                </a:lnTo>
                <a:lnTo>
                  <a:pt x="563" y="195"/>
                </a:lnTo>
                <a:lnTo>
                  <a:pt x="520" y="227"/>
                </a:lnTo>
                <a:lnTo>
                  <a:pt x="477" y="254"/>
                </a:lnTo>
                <a:lnTo>
                  <a:pt x="434" y="277"/>
                </a:lnTo>
                <a:lnTo>
                  <a:pt x="387" y="305"/>
                </a:lnTo>
                <a:lnTo>
                  <a:pt x="344" y="324"/>
                </a:lnTo>
                <a:lnTo>
                  <a:pt x="293" y="340"/>
                </a:lnTo>
                <a:lnTo>
                  <a:pt x="325" y="301"/>
                </a:lnTo>
                <a:lnTo>
                  <a:pt x="360" y="266"/>
                </a:lnTo>
                <a:lnTo>
                  <a:pt x="399" y="234"/>
                </a:lnTo>
                <a:lnTo>
                  <a:pt x="438" y="207"/>
                </a:lnTo>
                <a:lnTo>
                  <a:pt x="481" y="183"/>
                </a:lnTo>
                <a:lnTo>
                  <a:pt x="524" y="156"/>
                </a:lnTo>
                <a:lnTo>
                  <a:pt x="563" y="129"/>
                </a:lnTo>
                <a:lnTo>
                  <a:pt x="602" y="97"/>
                </a:lnTo>
                <a:lnTo>
                  <a:pt x="606" y="94"/>
                </a:lnTo>
                <a:lnTo>
                  <a:pt x="610" y="86"/>
                </a:lnTo>
                <a:lnTo>
                  <a:pt x="614" y="74"/>
                </a:lnTo>
                <a:lnTo>
                  <a:pt x="614" y="66"/>
                </a:lnTo>
                <a:lnTo>
                  <a:pt x="614" y="54"/>
                </a:lnTo>
                <a:lnTo>
                  <a:pt x="610" y="47"/>
                </a:lnTo>
                <a:lnTo>
                  <a:pt x="606" y="35"/>
                </a:lnTo>
                <a:lnTo>
                  <a:pt x="602" y="27"/>
                </a:lnTo>
                <a:lnTo>
                  <a:pt x="595" y="23"/>
                </a:lnTo>
                <a:lnTo>
                  <a:pt x="591" y="19"/>
                </a:lnTo>
                <a:lnTo>
                  <a:pt x="583" y="15"/>
                </a:lnTo>
                <a:lnTo>
                  <a:pt x="571" y="11"/>
                </a:lnTo>
                <a:lnTo>
                  <a:pt x="563" y="11"/>
                </a:lnTo>
                <a:lnTo>
                  <a:pt x="555" y="8"/>
                </a:lnTo>
                <a:lnTo>
                  <a:pt x="544" y="4"/>
                </a:lnTo>
                <a:lnTo>
                  <a:pt x="536" y="0"/>
                </a:lnTo>
                <a:lnTo>
                  <a:pt x="172" y="172"/>
                </a:lnTo>
                <a:lnTo>
                  <a:pt x="164" y="176"/>
                </a:lnTo>
                <a:lnTo>
                  <a:pt x="160" y="180"/>
                </a:lnTo>
                <a:lnTo>
                  <a:pt x="156" y="187"/>
                </a:lnTo>
                <a:lnTo>
                  <a:pt x="148" y="191"/>
                </a:lnTo>
                <a:lnTo>
                  <a:pt x="145" y="199"/>
                </a:lnTo>
                <a:lnTo>
                  <a:pt x="145" y="203"/>
                </a:lnTo>
                <a:lnTo>
                  <a:pt x="141" y="215"/>
                </a:lnTo>
                <a:lnTo>
                  <a:pt x="137" y="223"/>
                </a:lnTo>
                <a:lnTo>
                  <a:pt x="152" y="266"/>
                </a:lnTo>
                <a:lnTo>
                  <a:pt x="0" y="461"/>
                </a:lnTo>
                <a:lnTo>
                  <a:pt x="0" y="465"/>
                </a:lnTo>
                <a:lnTo>
                  <a:pt x="0" y="469"/>
                </a:lnTo>
                <a:lnTo>
                  <a:pt x="4" y="473"/>
                </a:lnTo>
                <a:lnTo>
                  <a:pt x="4" y="477"/>
                </a:lnTo>
                <a:lnTo>
                  <a:pt x="4" y="481"/>
                </a:lnTo>
                <a:lnTo>
                  <a:pt x="4" y="485"/>
                </a:lnTo>
                <a:lnTo>
                  <a:pt x="8" y="488"/>
                </a:lnTo>
                <a:lnTo>
                  <a:pt x="8" y="496"/>
                </a:lnTo>
                <a:lnTo>
                  <a:pt x="15" y="504"/>
                </a:lnTo>
                <a:lnTo>
                  <a:pt x="27" y="516"/>
                </a:lnTo>
                <a:lnTo>
                  <a:pt x="39" y="524"/>
                </a:lnTo>
                <a:lnTo>
                  <a:pt x="51" y="535"/>
                </a:lnTo>
                <a:lnTo>
                  <a:pt x="62" y="543"/>
                </a:lnTo>
                <a:lnTo>
                  <a:pt x="74" y="551"/>
                </a:lnTo>
                <a:lnTo>
                  <a:pt x="90" y="559"/>
                </a:lnTo>
                <a:lnTo>
                  <a:pt x="101" y="567"/>
                </a:lnTo>
                <a:lnTo>
                  <a:pt x="109" y="567"/>
                </a:lnTo>
                <a:lnTo>
                  <a:pt x="117" y="563"/>
                </a:lnTo>
                <a:lnTo>
                  <a:pt x="129" y="563"/>
                </a:lnTo>
                <a:lnTo>
                  <a:pt x="137" y="559"/>
                </a:lnTo>
                <a:lnTo>
                  <a:pt x="145" y="555"/>
                </a:lnTo>
                <a:lnTo>
                  <a:pt x="152" y="555"/>
                </a:lnTo>
                <a:lnTo>
                  <a:pt x="160" y="551"/>
                </a:lnTo>
                <a:lnTo>
                  <a:pt x="172" y="555"/>
                </a:lnTo>
                <a:lnTo>
                  <a:pt x="172" y="559"/>
                </a:lnTo>
                <a:lnTo>
                  <a:pt x="172" y="559"/>
                </a:lnTo>
                <a:lnTo>
                  <a:pt x="176" y="563"/>
                </a:lnTo>
                <a:lnTo>
                  <a:pt x="176" y="563"/>
                </a:lnTo>
                <a:lnTo>
                  <a:pt x="176" y="563"/>
                </a:lnTo>
                <a:lnTo>
                  <a:pt x="180" y="563"/>
                </a:lnTo>
                <a:lnTo>
                  <a:pt x="176" y="567"/>
                </a:lnTo>
                <a:lnTo>
                  <a:pt x="176" y="574"/>
                </a:lnTo>
                <a:lnTo>
                  <a:pt x="137" y="629"/>
                </a:lnTo>
                <a:lnTo>
                  <a:pt x="137" y="633"/>
                </a:lnTo>
                <a:lnTo>
                  <a:pt x="137" y="637"/>
                </a:lnTo>
                <a:lnTo>
                  <a:pt x="137" y="641"/>
                </a:lnTo>
                <a:lnTo>
                  <a:pt x="137" y="645"/>
                </a:lnTo>
                <a:lnTo>
                  <a:pt x="137" y="653"/>
                </a:lnTo>
                <a:lnTo>
                  <a:pt x="137" y="657"/>
                </a:lnTo>
                <a:lnTo>
                  <a:pt x="137" y="661"/>
                </a:lnTo>
                <a:lnTo>
                  <a:pt x="137" y="664"/>
                </a:lnTo>
                <a:lnTo>
                  <a:pt x="137" y="672"/>
                </a:lnTo>
                <a:lnTo>
                  <a:pt x="141" y="680"/>
                </a:lnTo>
                <a:lnTo>
                  <a:pt x="145" y="684"/>
                </a:lnTo>
                <a:lnTo>
                  <a:pt x="152" y="692"/>
                </a:lnTo>
                <a:lnTo>
                  <a:pt x="156" y="696"/>
                </a:lnTo>
                <a:lnTo>
                  <a:pt x="164" y="704"/>
                </a:lnTo>
                <a:lnTo>
                  <a:pt x="172" y="707"/>
                </a:lnTo>
                <a:lnTo>
                  <a:pt x="180" y="711"/>
                </a:lnTo>
                <a:lnTo>
                  <a:pt x="305" y="711"/>
                </a:lnTo>
                <a:lnTo>
                  <a:pt x="250" y="790"/>
                </a:lnTo>
                <a:lnTo>
                  <a:pt x="258" y="833"/>
                </a:lnTo>
                <a:lnTo>
                  <a:pt x="317" y="879"/>
                </a:lnTo>
                <a:lnTo>
                  <a:pt x="195" y="1016"/>
                </a:lnTo>
                <a:lnTo>
                  <a:pt x="207" y="1063"/>
                </a:lnTo>
                <a:lnTo>
                  <a:pt x="246" y="1095"/>
                </a:lnTo>
                <a:lnTo>
                  <a:pt x="246" y="1102"/>
                </a:lnTo>
                <a:lnTo>
                  <a:pt x="246" y="1110"/>
                </a:lnTo>
                <a:lnTo>
                  <a:pt x="246" y="1122"/>
                </a:lnTo>
                <a:lnTo>
                  <a:pt x="246" y="1130"/>
                </a:lnTo>
                <a:lnTo>
                  <a:pt x="246" y="1138"/>
                </a:lnTo>
                <a:lnTo>
                  <a:pt x="250" y="1145"/>
                </a:lnTo>
                <a:lnTo>
                  <a:pt x="250" y="1153"/>
                </a:lnTo>
                <a:lnTo>
                  <a:pt x="254" y="1161"/>
                </a:lnTo>
                <a:lnTo>
                  <a:pt x="266" y="1177"/>
                </a:lnTo>
                <a:lnTo>
                  <a:pt x="282" y="1184"/>
                </a:lnTo>
                <a:lnTo>
                  <a:pt x="297" y="1188"/>
                </a:lnTo>
                <a:lnTo>
                  <a:pt x="313" y="1192"/>
                </a:lnTo>
                <a:lnTo>
                  <a:pt x="332" y="1192"/>
                </a:lnTo>
                <a:lnTo>
                  <a:pt x="348" y="1192"/>
                </a:lnTo>
                <a:lnTo>
                  <a:pt x="368" y="1192"/>
                </a:lnTo>
                <a:lnTo>
                  <a:pt x="387" y="1192"/>
                </a:lnTo>
                <a:lnTo>
                  <a:pt x="387" y="1192"/>
                </a:lnTo>
                <a:lnTo>
                  <a:pt x="391" y="1192"/>
                </a:lnTo>
                <a:lnTo>
                  <a:pt x="391" y="1192"/>
                </a:lnTo>
                <a:lnTo>
                  <a:pt x="391" y="1196"/>
                </a:lnTo>
                <a:lnTo>
                  <a:pt x="391" y="1200"/>
                </a:lnTo>
                <a:lnTo>
                  <a:pt x="395" y="1200"/>
                </a:lnTo>
                <a:lnTo>
                  <a:pt x="395" y="1204"/>
                </a:lnTo>
                <a:lnTo>
                  <a:pt x="395" y="1208"/>
                </a:lnTo>
                <a:lnTo>
                  <a:pt x="227" y="1341"/>
                </a:lnTo>
                <a:lnTo>
                  <a:pt x="223" y="1353"/>
                </a:lnTo>
                <a:lnTo>
                  <a:pt x="219" y="1360"/>
                </a:lnTo>
                <a:lnTo>
                  <a:pt x="215" y="1372"/>
                </a:lnTo>
                <a:lnTo>
                  <a:pt x="215" y="1388"/>
                </a:lnTo>
                <a:lnTo>
                  <a:pt x="215" y="1399"/>
                </a:lnTo>
                <a:lnTo>
                  <a:pt x="219" y="1411"/>
                </a:lnTo>
                <a:lnTo>
                  <a:pt x="223" y="1423"/>
                </a:lnTo>
                <a:lnTo>
                  <a:pt x="227" y="1435"/>
                </a:lnTo>
                <a:lnTo>
                  <a:pt x="266" y="1450"/>
                </a:lnTo>
                <a:lnTo>
                  <a:pt x="305" y="1450"/>
                </a:lnTo>
                <a:lnTo>
                  <a:pt x="348" y="1442"/>
                </a:lnTo>
                <a:lnTo>
                  <a:pt x="387" y="1431"/>
                </a:lnTo>
                <a:lnTo>
                  <a:pt x="430" y="1415"/>
                </a:lnTo>
                <a:lnTo>
                  <a:pt x="469" y="1396"/>
                </a:lnTo>
                <a:lnTo>
                  <a:pt x="509" y="1376"/>
                </a:lnTo>
                <a:lnTo>
                  <a:pt x="544" y="1360"/>
                </a:lnTo>
                <a:lnTo>
                  <a:pt x="555" y="1356"/>
                </a:lnTo>
                <a:lnTo>
                  <a:pt x="563" y="1353"/>
                </a:lnTo>
                <a:lnTo>
                  <a:pt x="571" y="1349"/>
                </a:lnTo>
                <a:lnTo>
                  <a:pt x="583" y="1345"/>
                </a:lnTo>
                <a:lnTo>
                  <a:pt x="591" y="1341"/>
                </a:lnTo>
                <a:lnTo>
                  <a:pt x="599" y="1337"/>
                </a:lnTo>
                <a:lnTo>
                  <a:pt x="606" y="1337"/>
                </a:lnTo>
                <a:lnTo>
                  <a:pt x="614" y="1337"/>
                </a:lnTo>
                <a:lnTo>
                  <a:pt x="579" y="1372"/>
                </a:lnTo>
                <a:lnTo>
                  <a:pt x="544" y="1403"/>
                </a:lnTo>
                <a:lnTo>
                  <a:pt x="501" y="1431"/>
                </a:lnTo>
                <a:lnTo>
                  <a:pt x="458" y="1458"/>
                </a:lnTo>
                <a:lnTo>
                  <a:pt x="415" y="1486"/>
                </a:lnTo>
                <a:lnTo>
                  <a:pt x="368" y="1513"/>
                </a:lnTo>
                <a:lnTo>
                  <a:pt x="325" y="1544"/>
                </a:lnTo>
                <a:lnTo>
                  <a:pt x="282" y="1575"/>
                </a:lnTo>
                <a:lnTo>
                  <a:pt x="266" y="1587"/>
                </a:lnTo>
                <a:lnTo>
                  <a:pt x="250" y="1595"/>
                </a:lnTo>
                <a:lnTo>
                  <a:pt x="235" y="1603"/>
                </a:lnTo>
                <a:lnTo>
                  <a:pt x="223" y="1615"/>
                </a:lnTo>
                <a:lnTo>
                  <a:pt x="211" y="1622"/>
                </a:lnTo>
                <a:lnTo>
                  <a:pt x="199" y="1630"/>
                </a:lnTo>
                <a:lnTo>
                  <a:pt x="184" y="1642"/>
                </a:lnTo>
                <a:lnTo>
                  <a:pt x="172" y="1650"/>
                </a:lnTo>
                <a:lnTo>
                  <a:pt x="148" y="1693"/>
                </a:lnTo>
                <a:lnTo>
                  <a:pt x="172" y="1740"/>
                </a:lnTo>
                <a:lnTo>
                  <a:pt x="219" y="1775"/>
                </a:lnTo>
                <a:lnTo>
                  <a:pt x="195" y="1794"/>
                </a:lnTo>
                <a:lnTo>
                  <a:pt x="168" y="1814"/>
                </a:lnTo>
                <a:lnTo>
                  <a:pt x="141" y="1830"/>
                </a:lnTo>
                <a:lnTo>
                  <a:pt x="113" y="1849"/>
                </a:lnTo>
                <a:lnTo>
                  <a:pt x="90" y="1865"/>
                </a:lnTo>
                <a:lnTo>
                  <a:pt x="66" y="1888"/>
                </a:lnTo>
                <a:lnTo>
                  <a:pt x="47" y="1912"/>
                </a:lnTo>
                <a:lnTo>
                  <a:pt x="35" y="1943"/>
                </a:lnTo>
                <a:lnTo>
                  <a:pt x="35" y="1947"/>
                </a:lnTo>
                <a:lnTo>
                  <a:pt x="35" y="1947"/>
                </a:lnTo>
                <a:lnTo>
                  <a:pt x="35" y="1951"/>
                </a:lnTo>
                <a:lnTo>
                  <a:pt x="35" y="1955"/>
                </a:lnTo>
                <a:lnTo>
                  <a:pt x="39" y="1959"/>
                </a:lnTo>
                <a:lnTo>
                  <a:pt x="39" y="1963"/>
                </a:lnTo>
                <a:lnTo>
                  <a:pt x="43" y="1963"/>
                </a:lnTo>
                <a:lnTo>
                  <a:pt x="43" y="1966"/>
                </a:lnTo>
                <a:lnTo>
                  <a:pt x="51" y="1978"/>
                </a:lnTo>
                <a:lnTo>
                  <a:pt x="62" y="1990"/>
                </a:lnTo>
                <a:lnTo>
                  <a:pt x="78" y="1994"/>
                </a:lnTo>
                <a:lnTo>
                  <a:pt x="94" y="1998"/>
                </a:lnTo>
                <a:lnTo>
                  <a:pt x="113" y="2002"/>
                </a:lnTo>
                <a:lnTo>
                  <a:pt x="133" y="2002"/>
                </a:lnTo>
                <a:lnTo>
                  <a:pt x="152" y="1998"/>
                </a:lnTo>
                <a:lnTo>
                  <a:pt x="168" y="1998"/>
                </a:lnTo>
                <a:lnTo>
                  <a:pt x="192" y="1990"/>
                </a:lnTo>
                <a:lnTo>
                  <a:pt x="219" y="1978"/>
                </a:lnTo>
                <a:lnTo>
                  <a:pt x="242" y="1970"/>
                </a:lnTo>
                <a:lnTo>
                  <a:pt x="266" y="1963"/>
                </a:lnTo>
                <a:lnTo>
                  <a:pt x="285" y="1959"/>
                </a:lnTo>
                <a:lnTo>
                  <a:pt x="309" y="1951"/>
                </a:lnTo>
                <a:lnTo>
                  <a:pt x="328" y="1947"/>
                </a:lnTo>
                <a:lnTo>
                  <a:pt x="352" y="1943"/>
                </a:lnTo>
                <a:lnTo>
                  <a:pt x="360" y="1947"/>
                </a:lnTo>
                <a:lnTo>
                  <a:pt x="368" y="1951"/>
                </a:lnTo>
                <a:lnTo>
                  <a:pt x="375" y="1959"/>
                </a:lnTo>
                <a:lnTo>
                  <a:pt x="387" y="1966"/>
                </a:lnTo>
                <a:lnTo>
                  <a:pt x="395" y="1974"/>
                </a:lnTo>
                <a:lnTo>
                  <a:pt x="399" y="1982"/>
                </a:lnTo>
                <a:lnTo>
                  <a:pt x="407" y="1990"/>
                </a:lnTo>
                <a:lnTo>
                  <a:pt x="415" y="2002"/>
                </a:lnTo>
                <a:lnTo>
                  <a:pt x="172" y="2131"/>
                </a:lnTo>
                <a:lnTo>
                  <a:pt x="164" y="2127"/>
                </a:lnTo>
                <a:lnTo>
                  <a:pt x="156" y="2127"/>
                </a:lnTo>
                <a:lnTo>
                  <a:pt x="148" y="2131"/>
                </a:lnTo>
                <a:lnTo>
                  <a:pt x="145" y="2135"/>
                </a:lnTo>
                <a:lnTo>
                  <a:pt x="137" y="2142"/>
                </a:lnTo>
                <a:lnTo>
                  <a:pt x="129" y="2150"/>
                </a:lnTo>
                <a:lnTo>
                  <a:pt x="121" y="2158"/>
                </a:lnTo>
                <a:lnTo>
                  <a:pt x="109" y="2158"/>
                </a:lnTo>
                <a:lnTo>
                  <a:pt x="51" y="2307"/>
                </a:lnTo>
                <a:lnTo>
                  <a:pt x="74" y="2322"/>
                </a:lnTo>
                <a:lnTo>
                  <a:pt x="105" y="2330"/>
                </a:lnTo>
                <a:lnTo>
                  <a:pt x="133" y="2326"/>
                </a:lnTo>
                <a:lnTo>
                  <a:pt x="164" y="2322"/>
                </a:lnTo>
                <a:lnTo>
                  <a:pt x="192" y="2310"/>
                </a:lnTo>
                <a:lnTo>
                  <a:pt x="223" y="2303"/>
                </a:lnTo>
                <a:lnTo>
                  <a:pt x="254" y="2291"/>
                </a:lnTo>
                <a:lnTo>
                  <a:pt x="285" y="2283"/>
                </a:lnTo>
                <a:lnTo>
                  <a:pt x="297" y="2287"/>
                </a:lnTo>
                <a:lnTo>
                  <a:pt x="309" y="2291"/>
                </a:lnTo>
                <a:lnTo>
                  <a:pt x="317" y="2299"/>
                </a:lnTo>
                <a:lnTo>
                  <a:pt x="325" y="2307"/>
                </a:lnTo>
                <a:lnTo>
                  <a:pt x="332" y="2318"/>
                </a:lnTo>
                <a:lnTo>
                  <a:pt x="340" y="2330"/>
                </a:lnTo>
                <a:lnTo>
                  <a:pt x="344" y="2342"/>
                </a:lnTo>
                <a:lnTo>
                  <a:pt x="348" y="2350"/>
                </a:lnTo>
                <a:lnTo>
                  <a:pt x="70" y="2459"/>
                </a:lnTo>
                <a:lnTo>
                  <a:pt x="62" y="2463"/>
                </a:lnTo>
                <a:lnTo>
                  <a:pt x="58" y="2471"/>
                </a:lnTo>
                <a:lnTo>
                  <a:pt x="55" y="2475"/>
                </a:lnTo>
                <a:lnTo>
                  <a:pt x="51" y="2479"/>
                </a:lnTo>
                <a:lnTo>
                  <a:pt x="47" y="2486"/>
                </a:lnTo>
                <a:lnTo>
                  <a:pt x="43" y="2494"/>
                </a:lnTo>
                <a:lnTo>
                  <a:pt x="39" y="2502"/>
                </a:lnTo>
                <a:lnTo>
                  <a:pt x="35" y="2510"/>
                </a:lnTo>
                <a:lnTo>
                  <a:pt x="55" y="2569"/>
                </a:lnTo>
                <a:lnTo>
                  <a:pt x="55" y="2572"/>
                </a:lnTo>
                <a:lnTo>
                  <a:pt x="58" y="2580"/>
                </a:lnTo>
                <a:lnTo>
                  <a:pt x="66" y="2584"/>
                </a:lnTo>
                <a:lnTo>
                  <a:pt x="70" y="2588"/>
                </a:lnTo>
                <a:lnTo>
                  <a:pt x="78" y="2592"/>
                </a:lnTo>
                <a:lnTo>
                  <a:pt x="86" y="2596"/>
                </a:lnTo>
                <a:lnTo>
                  <a:pt x="94" y="2600"/>
                </a:lnTo>
                <a:lnTo>
                  <a:pt x="101" y="2604"/>
                </a:lnTo>
                <a:lnTo>
                  <a:pt x="692" y="2412"/>
                </a:lnTo>
                <a:lnTo>
                  <a:pt x="677" y="2432"/>
                </a:lnTo>
                <a:lnTo>
                  <a:pt x="657" y="2447"/>
                </a:lnTo>
                <a:lnTo>
                  <a:pt x="634" y="2463"/>
                </a:lnTo>
                <a:lnTo>
                  <a:pt x="606" y="2475"/>
                </a:lnTo>
                <a:lnTo>
                  <a:pt x="579" y="2490"/>
                </a:lnTo>
                <a:lnTo>
                  <a:pt x="552" y="2502"/>
                </a:lnTo>
                <a:lnTo>
                  <a:pt x="524" y="2514"/>
                </a:lnTo>
                <a:lnTo>
                  <a:pt x="501" y="2529"/>
                </a:lnTo>
                <a:lnTo>
                  <a:pt x="454" y="2549"/>
                </a:lnTo>
                <a:lnTo>
                  <a:pt x="407" y="2565"/>
                </a:lnTo>
                <a:lnTo>
                  <a:pt x="360" y="2584"/>
                </a:lnTo>
                <a:lnTo>
                  <a:pt x="317" y="2600"/>
                </a:lnTo>
                <a:lnTo>
                  <a:pt x="270" y="2612"/>
                </a:lnTo>
                <a:lnTo>
                  <a:pt x="223" y="2627"/>
                </a:lnTo>
                <a:lnTo>
                  <a:pt x="176" y="2643"/>
                </a:lnTo>
                <a:lnTo>
                  <a:pt x="133" y="2658"/>
                </a:lnTo>
                <a:lnTo>
                  <a:pt x="129" y="2670"/>
                </a:lnTo>
                <a:lnTo>
                  <a:pt x="125" y="2686"/>
                </a:lnTo>
                <a:lnTo>
                  <a:pt x="125" y="2698"/>
                </a:lnTo>
                <a:lnTo>
                  <a:pt x="125" y="2709"/>
                </a:lnTo>
                <a:lnTo>
                  <a:pt x="129" y="2725"/>
                </a:lnTo>
                <a:lnTo>
                  <a:pt x="133" y="2737"/>
                </a:lnTo>
                <a:lnTo>
                  <a:pt x="137" y="2748"/>
                </a:lnTo>
                <a:lnTo>
                  <a:pt x="145" y="2760"/>
                </a:lnTo>
                <a:lnTo>
                  <a:pt x="148" y="2768"/>
                </a:lnTo>
                <a:lnTo>
                  <a:pt x="156" y="2776"/>
                </a:lnTo>
                <a:lnTo>
                  <a:pt x="168" y="2784"/>
                </a:lnTo>
                <a:lnTo>
                  <a:pt x="176" y="2788"/>
                </a:lnTo>
                <a:lnTo>
                  <a:pt x="188" y="2791"/>
                </a:lnTo>
                <a:lnTo>
                  <a:pt x="203" y="2795"/>
                </a:lnTo>
                <a:lnTo>
                  <a:pt x="215" y="2795"/>
                </a:lnTo>
                <a:lnTo>
                  <a:pt x="227" y="2791"/>
                </a:lnTo>
                <a:lnTo>
                  <a:pt x="250" y="2780"/>
                </a:lnTo>
                <a:lnTo>
                  <a:pt x="270" y="2768"/>
                </a:lnTo>
                <a:lnTo>
                  <a:pt x="293" y="2760"/>
                </a:lnTo>
                <a:lnTo>
                  <a:pt x="317" y="2752"/>
                </a:lnTo>
                <a:lnTo>
                  <a:pt x="340" y="2748"/>
                </a:lnTo>
                <a:lnTo>
                  <a:pt x="364" y="2741"/>
                </a:lnTo>
                <a:lnTo>
                  <a:pt x="387" y="2733"/>
                </a:lnTo>
                <a:lnTo>
                  <a:pt x="411" y="2725"/>
                </a:lnTo>
                <a:lnTo>
                  <a:pt x="415" y="2744"/>
                </a:lnTo>
                <a:lnTo>
                  <a:pt x="422" y="2764"/>
                </a:lnTo>
                <a:lnTo>
                  <a:pt x="430" y="2784"/>
                </a:lnTo>
                <a:lnTo>
                  <a:pt x="438" y="2803"/>
                </a:lnTo>
                <a:lnTo>
                  <a:pt x="446" y="2823"/>
                </a:lnTo>
                <a:lnTo>
                  <a:pt x="462" y="2838"/>
                </a:lnTo>
                <a:lnTo>
                  <a:pt x="477" y="2854"/>
                </a:lnTo>
                <a:lnTo>
                  <a:pt x="497" y="2862"/>
                </a:lnTo>
                <a:lnTo>
                  <a:pt x="509" y="2932"/>
                </a:lnTo>
                <a:lnTo>
                  <a:pt x="512" y="2940"/>
                </a:lnTo>
                <a:lnTo>
                  <a:pt x="516" y="2944"/>
                </a:lnTo>
                <a:lnTo>
                  <a:pt x="524" y="2952"/>
                </a:lnTo>
                <a:lnTo>
                  <a:pt x="532" y="2956"/>
                </a:lnTo>
                <a:lnTo>
                  <a:pt x="544" y="2960"/>
                </a:lnTo>
                <a:lnTo>
                  <a:pt x="552" y="2963"/>
                </a:lnTo>
                <a:lnTo>
                  <a:pt x="563" y="2967"/>
                </a:lnTo>
                <a:lnTo>
                  <a:pt x="575" y="2971"/>
                </a:lnTo>
                <a:lnTo>
                  <a:pt x="575" y="2971"/>
                </a:lnTo>
                <a:lnTo>
                  <a:pt x="579" y="2971"/>
                </a:lnTo>
                <a:lnTo>
                  <a:pt x="579" y="2971"/>
                </a:lnTo>
                <a:lnTo>
                  <a:pt x="583" y="2971"/>
                </a:lnTo>
                <a:lnTo>
                  <a:pt x="587" y="2971"/>
                </a:lnTo>
                <a:lnTo>
                  <a:pt x="591" y="2967"/>
                </a:lnTo>
                <a:lnTo>
                  <a:pt x="591" y="2967"/>
                </a:lnTo>
                <a:lnTo>
                  <a:pt x="591" y="2967"/>
                </a:lnTo>
                <a:close/>
              </a:path>
            </a:pathLst>
          </a:custGeom>
          <a:solidFill>
            <a:srgbClr val="00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06480" y="2286000"/>
            <a:ext cx="7350120" cy="43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49"/>
              </a:spcBef>
              <a:buClr>
                <a:srgbClr val="3333cc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.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have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some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 evid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               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not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49"/>
              </a:spcBef>
              <a:buClr>
                <a:srgbClr val="3333cc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.0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 have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stro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evid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              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not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49"/>
              </a:spcBef>
              <a:buClr>
                <a:srgbClr val="3333cc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01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have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very strong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evid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          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not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49"/>
              </a:spcBef>
              <a:buClr>
                <a:srgbClr val="3333cc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.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have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extremely stro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evide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not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C8EB-3F6C-490E-82AB-7F03D91CE6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6" dur="500"/>
                                        <p:tgtEl>
                                          <p:spTgt spid="1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1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"/>
          <p:cNvGrpSpPr/>
          <p:nvPr/>
        </p:nvGrpSpPr>
        <p:grpSpPr>
          <a:xfrm>
            <a:off x="1488960" y="171360"/>
            <a:ext cx="6185160" cy="2444760"/>
            <a:chOff x="1488960" y="171360"/>
            <a:chExt cx="6185160" cy="2444760"/>
          </a:xfrm>
        </p:grpSpPr>
        <p:sp>
          <p:nvSpPr>
            <p:cNvPr id="1363" name=""/>
            <p:cNvSpPr/>
            <p:nvPr/>
          </p:nvSpPr>
          <p:spPr>
            <a:xfrm>
              <a:off x="2068560" y="171360"/>
              <a:ext cx="5025960" cy="520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th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value is </a:t>
              </a:r>
              <a:r>
                <a:rPr b="1" i="1" lang="en-US" sz="2800" spc="-1" strike="noStrike" u="sng">
                  <a:solidFill>
                    <a:srgbClr val="ff5050"/>
                  </a:solidFill>
                  <a:uFillTx/>
                  <a:latin typeface="Times New Roman"/>
                </a:rPr>
                <a:t>less than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751040" y="914400"/>
              <a:ext cx="5661000" cy="1701720"/>
            </a:xfrm>
            <a:custGeom>
              <a:avLst/>
              <a:gdLst/>
              <a:ahLst/>
              <a:rect l="l" t="t" r="r" b="b"/>
              <a:pathLst>
                <a:path w="3240" h="2971">
                  <a:moveTo>
                    <a:pt x="591" y="2967"/>
                  </a:moveTo>
                  <a:lnTo>
                    <a:pt x="665" y="2952"/>
                  </a:lnTo>
                  <a:lnTo>
                    <a:pt x="739" y="2924"/>
                  </a:lnTo>
                  <a:lnTo>
                    <a:pt x="810" y="2893"/>
                  </a:lnTo>
                  <a:lnTo>
                    <a:pt x="884" y="2858"/>
                  </a:lnTo>
                  <a:lnTo>
                    <a:pt x="955" y="2831"/>
                  </a:lnTo>
                  <a:lnTo>
                    <a:pt x="1029" y="2807"/>
                  </a:lnTo>
                  <a:lnTo>
                    <a:pt x="1103" y="2799"/>
                  </a:lnTo>
                  <a:lnTo>
                    <a:pt x="1182" y="2807"/>
                  </a:lnTo>
                  <a:lnTo>
                    <a:pt x="1330" y="2752"/>
                  </a:lnTo>
                  <a:lnTo>
                    <a:pt x="1354" y="2838"/>
                  </a:lnTo>
                  <a:lnTo>
                    <a:pt x="1362" y="2846"/>
                  </a:lnTo>
                  <a:lnTo>
                    <a:pt x="1370" y="2850"/>
                  </a:lnTo>
                  <a:lnTo>
                    <a:pt x="1381" y="2858"/>
                  </a:lnTo>
                  <a:lnTo>
                    <a:pt x="1393" y="2862"/>
                  </a:lnTo>
                  <a:lnTo>
                    <a:pt x="1405" y="2862"/>
                  </a:lnTo>
                  <a:lnTo>
                    <a:pt x="1420" y="2862"/>
                  </a:lnTo>
                  <a:lnTo>
                    <a:pt x="1432" y="2858"/>
                  </a:lnTo>
                  <a:lnTo>
                    <a:pt x="1444" y="2850"/>
                  </a:lnTo>
                  <a:lnTo>
                    <a:pt x="1467" y="2838"/>
                  </a:lnTo>
                  <a:lnTo>
                    <a:pt x="1487" y="2827"/>
                  </a:lnTo>
                  <a:lnTo>
                    <a:pt x="1510" y="2815"/>
                  </a:lnTo>
                  <a:lnTo>
                    <a:pt x="1530" y="2803"/>
                  </a:lnTo>
                  <a:lnTo>
                    <a:pt x="1550" y="2791"/>
                  </a:lnTo>
                  <a:lnTo>
                    <a:pt x="1569" y="2780"/>
                  </a:lnTo>
                  <a:lnTo>
                    <a:pt x="1593" y="2768"/>
                  </a:lnTo>
                  <a:lnTo>
                    <a:pt x="1612" y="2756"/>
                  </a:lnTo>
                  <a:lnTo>
                    <a:pt x="1620" y="2760"/>
                  </a:lnTo>
                  <a:lnTo>
                    <a:pt x="1620" y="2768"/>
                  </a:lnTo>
                  <a:lnTo>
                    <a:pt x="1624" y="2776"/>
                  </a:lnTo>
                  <a:lnTo>
                    <a:pt x="1624" y="2784"/>
                  </a:lnTo>
                  <a:lnTo>
                    <a:pt x="1624" y="2791"/>
                  </a:lnTo>
                  <a:lnTo>
                    <a:pt x="1624" y="2803"/>
                  </a:lnTo>
                  <a:lnTo>
                    <a:pt x="1628" y="2811"/>
                  </a:lnTo>
                  <a:lnTo>
                    <a:pt x="1632" y="2819"/>
                  </a:lnTo>
                  <a:lnTo>
                    <a:pt x="1640" y="2827"/>
                  </a:lnTo>
                  <a:lnTo>
                    <a:pt x="1651" y="2834"/>
                  </a:lnTo>
                  <a:lnTo>
                    <a:pt x="1659" y="2842"/>
                  </a:lnTo>
                  <a:lnTo>
                    <a:pt x="1671" y="2846"/>
                  </a:lnTo>
                  <a:lnTo>
                    <a:pt x="1683" y="2850"/>
                  </a:lnTo>
                  <a:lnTo>
                    <a:pt x="1698" y="2854"/>
                  </a:lnTo>
                  <a:lnTo>
                    <a:pt x="1710" y="2854"/>
                  </a:lnTo>
                  <a:lnTo>
                    <a:pt x="1726" y="2854"/>
                  </a:lnTo>
                  <a:lnTo>
                    <a:pt x="1988" y="2752"/>
                  </a:lnTo>
                  <a:lnTo>
                    <a:pt x="2023" y="2807"/>
                  </a:lnTo>
                  <a:lnTo>
                    <a:pt x="2113" y="2834"/>
                  </a:lnTo>
                  <a:lnTo>
                    <a:pt x="2148" y="2905"/>
                  </a:lnTo>
                  <a:lnTo>
                    <a:pt x="2191" y="2913"/>
                  </a:lnTo>
                  <a:lnTo>
                    <a:pt x="2234" y="2909"/>
                  </a:lnTo>
                  <a:lnTo>
                    <a:pt x="2274" y="2897"/>
                  </a:lnTo>
                  <a:lnTo>
                    <a:pt x="2309" y="2877"/>
                  </a:lnTo>
                  <a:lnTo>
                    <a:pt x="2348" y="2854"/>
                  </a:lnTo>
                  <a:lnTo>
                    <a:pt x="2387" y="2834"/>
                  </a:lnTo>
                  <a:lnTo>
                    <a:pt x="2430" y="2819"/>
                  </a:lnTo>
                  <a:lnTo>
                    <a:pt x="2477" y="2807"/>
                  </a:lnTo>
                  <a:lnTo>
                    <a:pt x="2481" y="2811"/>
                  </a:lnTo>
                  <a:lnTo>
                    <a:pt x="2485" y="2815"/>
                  </a:lnTo>
                  <a:lnTo>
                    <a:pt x="2489" y="2819"/>
                  </a:lnTo>
                  <a:lnTo>
                    <a:pt x="2493" y="2827"/>
                  </a:lnTo>
                  <a:lnTo>
                    <a:pt x="2497" y="2831"/>
                  </a:lnTo>
                  <a:lnTo>
                    <a:pt x="2501" y="2838"/>
                  </a:lnTo>
                  <a:lnTo>
                    <a:pt x="2504" y="2842"/>
                  </a:lnTo>
                  <a:lnTo>
                    <a:pt x="2508" y="2850"/>
                  </a:lnTo>
                  <a:lnTo>
                    <a:pt x="2532" y="2858"/>
                  </a:lnTo>
                  <a:lnTo>
                    <a:pt x="2551" y="2862"/>
                  </a:lnTo>
                  <a:lnTo>
                    <a:pt x="2571" y="2862"/>
                  </a:lnTo>
                  <a:lnTo>
                    <a:pt x="2591" y="2854"/>
                  </a:lnTo>
                  <a:lnTo>
                    <a:pt x="2606" y="2846"/>
                  </a:lnTo>
                  <a:lnTo>
                    <a:pt x="2626" y="2838"/>
                  </a:lnTo>
                  <a:lnTo>
                    <a:pt x="2641" y="2827"/>
                  </a:lnTo>
                  <a:lnTo>
                    <a:pt x="2661" y="2819"/>
                  </a:lnTo>
                  <a:lnTo>
                    <a:pt x="2665" y="2819"/>
                  </a:lnTo>
                  <a:lnTo>
                    <a:pt x="2673" y="2823"/>
                  </a:lnTo>
                  <a:lnTo>
                    <a:pt x="2677" y="2827"/>
                  </a:lnTo>
                  <a:lnTo>
                    <a:pt x="2677" y="2834"/>
                  </a:lnTo>
                  <a:lnTo>
                    <a:pt x="2681" y="2838"/>
                  </a:lnTo>
                  <a:lnTo>
                    <a:pt x="2685" y="2846"/>
                  </a:lnTo>
                  <a:lnTo>
                    <a:pt x="2685" y="2854"/>
                  </a:lnTo>
                  <a:lnTo>
                    <a:pt x="2688" y="2862"/>
                  </a:lnTo>
                  <a:lnTo>
                    <a:pt x="2692" y="2870"/>
                  </a:lnTo>
                  <a:lnTo>
                    <a:pt x="2696" y="2877"/>
                  </a:lnTo>
                  <a:lnTo>
                    <a:pt x="2704" y="2881"/>
                  </a:lnTo>
                  <a:lnTo>
                    <a:pt x="2712" y="2889"/>
                  </a:lnTo>
                  <a:lnTo>
                    <a:pt x="2720" y="2893"/>
                  </a:lnTo>
                  <a:lnTo>
                    <a:pt x="2731" y="2897"/>
                  </a:lnTo>
                  <a:lnTo>
                    <a:pt x="2739" y="2901"/>
                  </a:lnTo>
                  <a:lnTo>
                    <a:pt x="2751" y="2905"/>
                  </a:lnTo>
                  <a:lnTo>
                    <a:pt x="2990" y="2772"/>
                  </a:lnTo>
                  <a:lnTo>
                    <a:pt x="2994" y="2764"/>
                  </a:lnTo>
                  <a:lnTo>
                    <a:pt x="2998" y="2756"/>
                  </a:lnTo>
                  <a:lnTo>
                    <a:pt x="2998" y="2744"/>
                  </a:lnTo>
                  <a:lnTo>
                    <a:pt x="3002" y="2737"/>
                  </a:lnTo>
                  <a:lnTo>
                    <a:pt x="3002" y="2725"/>
                  </a:lnTo>
                  <a:lnTo>
                    <a:pt x="2998" y="2713"/>
                  </a:lnTo>
                  <a:lnTo>
                    <a:pt x="2998" y="2701"/>
                  </a:lnTo>
                  <a:lnTo>
                    <a:pt x="2994" y="2694"/>
                  </a:lnTo>
                  <a:lnTo>
                    <a:pt x="2947" y="2635"/>
                  </a:lnTo>
                  <a:lnTo>
                    <a:pt x="3119" y="2475"/>
                  </a:lnTo>
                  <a:lnTo>
                    <a:pt x="3111" y="2424"/>
                  </a:lnTo>
                  <a:lnTo>
                    <a:pt x="3005" y="2342"/>
                  </a:lnTo>
                  <a:lnTo>
                    <a:pt x="3103" y="2224"/>
                  </a:lnTo>
                  <a:lnTo>
                    <a:pt x="3092" y="2158"/>
                  </a:lnTo>
                  <a:lnTo>
                    <a:pt x="3033" y="2127"/>
                  </a:lnTo>
                  <a:lnTo>
                    <a:pt x="2943" y="2158"/>
                  </a:lnTo>
                  <a:lnTo>
                    <a:pt x="2951" y="2138"/>
                  </a:lnTo>
                  <a:lnTo>
                    <a:pt x="2962" y="2123"/>
                  </a:lnTo>
                  <a:lnTo>
                    <a:pt x="2978" y="2107"/>
                  </a:lnTo>
                  <a:lnTo>
                    <a:pt x="2998" y="2095"/>
                  </a:lnTo>
                  <a:lnTo>
                    <a:pt x="3017" y="2084"/>
                  </a:lnTo>
                  <a:lnTo>
                    <a:pt x="3037" y="2072"/>
                  </a:lnTo>
                  <a:lnTo>
                    <a:pt x="3056" y="2056"/>
                  </a:lnTo>
                  <a:lnTo>
                    <a:pt x="3068" y="2037"/>
                  </a:lnTo>
                  <a:lnTo>
                    <a:pt x="3080" y="2037"/>
                  </a:lnTo>
                  <a:lnTo>
                    <a:pt x="3084" y="2033"/>
                  </a:lnTo>
                  <a:lnTo>
                    <a:pt x="3092" y="2033"/>
                  </a:lnTo>
                  <a:lnTo>
                    <a:pt x="3095" y="2029"/>
                  </a:lnTo>
                  <a:lnTo>
                    <a:pt x="3099" y="2025"/>
                  </a:lnTo>
                  <a:lnTo>
                    <a:pt x="3103" y="2021"/>
                  </a:lnTo>
                  <a:lnTo>
                    <a:pt x="3107" y="2017"/>
                  </a:lnTo>
                  <a:lnTo>
                    <a:pt x="3115" y="2013"/>
                  </a:lnTo>
                  <a:lnTo>
                    <a:pt x="3119" y="2006"/>
                  </a:lnTo>
                  <a:lnTo>
                    <a:pt x="3119" y="1998"/>
                  </a:lnTo>
                  <a:lnTo>
                    <a:pt x="3119" y="1990"/>
                  </a:lnTo>
                  <a:lnTo>
                    <a:pt x="3119" y="1978"/>
                  </a:lnTo>
                  <a:lnTo>
                    <a:pt x="3115" y="1970"/>
                  </a:lnTo>
                  <a:lnTo>
                    <a:pt x="3111" y="1959"/>
                  </a:lnTo>
                  <a:lnTo>
                    <a:pt x="3107" y="1951"/>
                  </a:lnTo>
                  <a:lnTo>
                    <a:pt x="3103" y="1943"/>
                  </a:lnTo>
                  <a:lnTo>
                    <a:pt x="3045" y="1920"/>
                  </a:lnTo>
                  <a:lnTo>
                    <a:pt x="2626" y="2201"/>
                  </a:lnTo>
                  <a:lnTo>
                    <a:pt x="2626" y="2185"/>
                  </a:lnTo>
                  <a:lnTo>
                    <a:pt x="2634" y="2170"/>
                  </a:lnTo>
                  <a:lnTo>
                    <a:pt x="2645" y="2158"/>
                  </a:lnTo>
                  <a:lnTo>
                    <a:pt x="2657" y="2146"/>
                  </a:lnTo>
                  <a:lnTo>
                    <a:pt x="2673" y="2135"/>
                  </a:lnTo>
                  <a:lnTo>
                    <a:pt x="2688" y="2123"/>
                  </a:lnTo>
                  <a:lnTo>
                    <a:pt x="2704" y="2115"/>
                  </a:lnTo>
                  <a:lnTo>
                    <a:pt x="2720" y="2107"/>
                  </a:lnTo>
                  <a:lnTo>
                    <a:pt x="2935" y="1908"/>
                  </a:lnTo>
                  <a:lnTo>
                    <a:pt x="3080" y="1775"/>
                  </a:lnTo>
                  <a:lnTo>
                    <a:pt x="3056" y="1728"/>
                  </a:lnTo>
                  <a:lnTo>
                    <a:pt x="3052" y="1724"/>
                  </a:lnTo>
                  <a:lnTo>
                    <a:pt x="3048" y="1724"/>
                  </a:lnTo>
                  <a:lnTo>
                    <a:pt x="3045" y="1724"/>
                  </a:lnTo>
                  <a:lnTo>
                    <a:pt x="3041" y="1720"/>
                  </a:lnTo>
                  <a:lnTo>
                    <a:pt x="3041" y="1720"/>
                  </a:lnTo>
                  <a:lnTo>
                    <a:pt x="3037" y="1716"/>
                  </a:lnTo>
                  <a:lnTo>
                    <a:pt x="3033" y="1712"/>
                  </a:lnTo>
                  <a:lnTo>
                    <a:pt x="3029" y="1704"/>
                  </a:lnTo>
                  <a:lnTo>
                    <a:pt x="3056" y="1661"/>
                  </a:lnTo>
                  <a:lnTo>
                    <a:pt x="3056" y="1658"/>
                  </a:lnTo>
                  <a:lnTo>
                    <a:pt x="3056" y="1658"/>
                  </a:lnTo>
                  <a:lnTo>
                    <a:pt x="3056" y="1654"/>
                  </a:lnTo>
                  <a:lnTo>
                    <a:pt x="3056" y="1650"/>
                  </a:lnTo>
                  <a:lnTo>
                    <a:pt x="3056" y="1646"/>
                  </a:lnTo>
                  <a:lnTo>
                    <a:pt x="3056" y="1642"/>
                  </a:lnTo>
                  <a:lnTo>
                    <a:pt x="3056" y="1642"/>
                  </a:lnTo>
                  <a:lnTo>
                    <a:pt x="3056" y="1638"/>
                  </a:lnTo>
                  <a:lnTo>
                    <a:pt x="3025" y="1579"/>
                  </a:lnTo>
                  <a:lnTo>
                    <a:pt x="3115" y="1489"/>
                  </a:lnTo>
                  <a:lnTo>
                    <a:pt x="3103" y="1446"/>
                  </a:lnTo>
                  <a:lnTo>
                    <a:pt x="3095" y="1435"/>
                  </a:lnTo>
                  <a:lnTo>
                    <a:pt x="3084" y="1427"/>
                  </a:lnTo>
                  <a:lnTo>
                    <a:pt x="3068" y="1419"/>
                  </a:lnTo>
                  <a:lnTo>
                    <a:pt x="3052" y="1415"/>
                  </a:lnTo>
                  <a:lnTo>
                    <a:pt x="3037" y="1411"/>
                  </a:lnTo>
                  <a:lnTo>
                    <a:pt x="3021" y="1411"/>
                  </a:lnTo>
                  <a:lnTo>
                    <a:pt x="3005" y="1415"/>
                  </a:lnTo>
                  <a:lnTo>
                    <a:pt x="2994" y="1423"/>
                  </a:lnTo>
                  <a:lnTo>
                    <a:pt x="2982" y="1431"/>
                  </a:lnTo>
                  <a:lnTo>
                    <a:pt x="2966" y="1435"/>
                  </a:lnTo>
                  <a:lnTo>
                    <a:pt x="2955" y="1442"/>
                  </a:lnTo>
                  <a:lnTo>
                    <a:pt x="2943" y="1446"/>
                  </a:lnTo>
                  <a:lnTo>
                    <a:pt x="2931" y="1454"/>
                  </a:lnTo>
                  <a:lnTo>
                    <a:pt x="2919" y="1458"/>
                  </a:lnTo>
                  <a:lnTo>
                    <a:pt x="2908" y="1466"/>
                  </a:lnTo>
                  <a:lnTo>
                    <a:pt x="2896" y="1470"/>
                  </a:lnTo>
                  <a:lnTo>
                    <a:pt x="2896" y="1474"/>
                  </a:lnTo>
                  <a:lnTo>
                    <a:pt x="2892" y="1470"/>
                  </a:lnTo>
                  <a:lnTo>
                    <a:pt x="2892" y="1470"/>
                  </a:lnTo>
                  <a:lnTo>
                    <a:pt x="2888" y="1466"/>
                  </a:lnTo>
                  <a:lnTo>
                    <a:pt x="2884" y="1462"/>
                  </a:lnTo>
                  <a:lnTo>
                    <a:pt x="2880" y="1458"/>
                  </a:lnTo>
                  <a:lnTo>
                    <a:pt x="2884" y="1454"/>
                  </a:lnTo>
                  <a:lnTo>
                    <a:pt x="2888" y="1454"/>
                  </a:lnTo>
                  <a:lnTo>
                    <a:pt x="2978" y="1380"/>
                  </a:lnTo>
                  <a:lnTo>
                    <a:pt x="3193" y="1196"/>
                  </a:lnTo>
                  <a:lnTo>
                    <a:pt x="3162" y="1141"/>
                  </a:lnTo>
                  <a:lnTo>
                    <a:pt x="3166" y="1126"/>
                  </a:lnTo>
                  <a:lnTo>
                    <a:pt x="3170" y="1114"/>
                  </a:lnTo>
                  <a:lnTo>
                    <a:pt x="3182" y="1098"/>
                  </a:lnTo>
                  <a:lnTo>
                    <a:pt x="3189" y="1087"/>
                  </a:lnTo>
                  <a:lnTo>
                    <a:pt x="3201" y="1075"/>
                  </a:lnTo>
                  <a:lnTo>
                    <a:pt x="3217" y="1063"/>
                  </a:lnTo>
                  <a:lnTo>
                    <a:pt x="3229" y="1051"/>
                  </a:lnTo>
                  <a:lnTo>
                    <a:pt x="3240" y="1040"/>
                  </a:lnTo>
                  <a:lnTo>
                    <a:pt x="3221" y="993"/>
                  </a:lnTo>
                  <a:lnTo>
                    <a:pt x="3209" y="981"/>
                  </a:lnTo>
                  <a:lnTo>
                    <a:pt x="3189" y="973"/>
                  </a:lnTo>
                  <a:lnTo>
                    <a:pt x="3174" y="965"/>
                  </a:lnTo>
                  <a:lnTo>
                    <a:pt x="3154" y="965"/>
                  </a:lnTo>
                  <a:lnTo>
                    <a:pt x="3135" y="965"/>
                  </a:lnTo>
                  <a:lnTo>
                    <a:pt x="3115" y="969"/>
                  </a:lnTo>
                  <a:lnTo>
                    <a:pt x="3095" y="977"/>
                  </a:lnTo>
                  <a:lnTo>
                    <a:pt x="3080" y="985"/>
                  </a:lnTo>
                  <a:lnTo>
                    <a:pt x="3033" y="1012"/>
                  </a:lnTo>
                  <a:lnTo>
                    <a:pt x="2990" y="1040"/>
                  </a:lnTo>
                  <a:lnTo>
                    <a:pt x="2947" y="1071"/>
                  </a:lnTo>
                  <a:lnTo>
                    <a:pt x="2908" y="1102"/>
                  </a:lnTo>
                  <a:lnTo>
                    <a:pt x="2868" y="1134"/>
                  </a:lnTo>
                  <a:lnTo>
                    <a:pt x="2829" y="1165"/>
                  </a:lnTo>
                  <a:lnTo>
                    <a:pt x="2790" y="1196"/>
                  </a:lnTo>
                  <a:lnTo>
                    <a:pt x="2751" y="1227"/>
                  </a:lnTo>
                  <a:lnTo>
                    <a:pt x="2747" y="1227"/>
                  </a:lnTo>
                  <a:lnTo>
                    <a:pt x="2743" y="1227"/>
                  </a:lnTo>
                  <a:lnTo>
                    <a:pt x="2743" y="1227"/>
                  </a:lnTo>
                  <a:lnTo>
                    <a:pt x="2739" y="1224"/>
                  </a:lnTo>
                  <a:lnTo>
                    <a:pt x="2735" y="1224"/>
                  </a:lnTo>
                  <a:lnTo>
                    <a:pt x="2735" y="1224"/>
                  </a:lnTo>
                  <a:lnTo>
                    <a:pt x="2731" y="1224"/>
                  </a:lnTo>
                  <a:lnTo>
                    <a:pt x="2728" y="1220"/>
                  </a:lnTo>
                  <a:lnTo>
                    <a:pt x="2755" y="1181"/>
                  </a:lnTo>
                  <a:lnTo>
                    <a:pt x="2790" y="1145"/>
                  </a:lnTo>
                  <a:lnTo>
                    <a:pt x="2829" y="1110"/>
                  </a:lnTo>
                  <a:lnTo>
                    <a:pt x="2868" y="1083"/>
                  </a:lnTo>
                  <a:lnTo>
                    <a:pt x="2912" y="1051"/>
                  </a:lnTo>
                  <a:lnTo>
                    <a:pt x="2951" y="1020"/>
                  </a:lnTo>
                  <a:lnTo>
                    <a:pt x="2990" y="985"/>
                  </a:lnTo>
                  <a:lnTo>
                    <a:pt x="3025" y="950"/>
                  </a:lnTo>
                  <a:lnTo>
                    <a:pt x="3052" y="930"/>
                  </a:lnTo>
                  <a:lnTo>
                    <a:pt x="3076" y="907"/>
                  </a:lnTo>
                  <a:lnTo>
                    <a:pt x="3103" y="887"/>
                  </a:lnTo>
                  <a:lnTo>
                    <a:pt x="3127" y="868"/>
                  </a:lnTo>
                  <a:lnTo>
                    <a:pt x="3154" y="848"/>
                  </a:lnTo>
                  <a:lnTo>
                    <a:pt x="3178" y="829"/>
                  </a:lnTo>
                  <a:lnTo>
                    <a:pt x="3201" y="809"/>
                  </a:lnTo>
                  <a:lnTo>
                    <a:pt x="3229" y="790"/>
                  </a:lnTo>
                  <a:lnTo>
                    <a:pt x="3232" y="786"/>
                  </a:lnTo>
                  <a:lnTo>
                    <a:pt x="3232" y="778"/>
                  </a:lnTo>
                  <a:lnTo>
                    <a:pt x="3236" y="770"/>
                  </a:lnTo>
                  <a:lnTo>
                    <a:pt x="3236" y="762"/>
                  </a:lnTo>
                  <a:lnTo>
                    <a:pt x="3236" y="754"/>
                  </a:lnTo>
                  <a:lnTo>
                    <a:pt x="3236" y="747"/>
                  </a:lnTo>
                  <a:lnTo>
                    <a:pt x="3232" y="739"/>
                  </a:lnTo>
                  <a:lnTo>
                    <a:pt x="3232" y="735"/>
                  </a:lnTo>
                  <a:lnTo>
                    <a:pt x="3229" y="727"/>
                  </a:lnTo>
                  <a:lnTo>
                    <a:pt x="3221" y="719"/>
                  </a:lnTo>
                  <a:lnTo>
                    <a:pt x="3213" y="711"/>
                  </a:lnTo>
                  <a:lnTo>
                    <a:pt x="3201" y="704"/>
                  </a:lnTo>
                  <a:lnTo>
                    <a:pt x="3193" y="700"/>
                  </a:lnTo>
                  <a:lnTo>
                    <a:pt x="3182" y="696"/>
                  </a:lnTo>
                  <a:lnTo>
                    <a:pt x="3170" y="688"/>
                  </a:lnTo>
                  <a:lnTo>
                    <a:pt x="3158" y="684"/>
                  </a:lnTo>
                  <a:lnTo>
                    <a:pt x="3103" y="711"/>
                  </a:lnTo>
                  <a:lnTo>
                    <a:pt x="3095" y="707"/>
                  </a:lnTo>
                  <a:lnTo>
                    <a:pt x="3092" y="704"/>
                  </a:lnTo>
                  <a:lnTo>
                    <a:pt x="3088" y="700"/>
                  </a:lnTo>
                  <a:lnTo>
                    <a:pt x="3084" y="692"/>
                  </a:lnTo>
                  <a:lnTo>
                    <a:pt x="3080" y="684"/>
                  </a:lnTo>
                  <a:lnTo>
                    <a:pt x="3076" y="676"/>
                  </a:lnTo>
                  <a:lnTo>
                    <a:pt x="3072" y="668"/>
                  </a:lnTo>
                  <a:lnTo>
                    <a:pt x="3068" y="664"/>
                  </a:lnTo>
                  <a:lnTo>
                    <a:pt x="3056" y="657"/>
                  </a:lnTo>
                  <a:lnTo>
                    <a:pt x="3045" y="649"/>
                  </a:lnTo>
                  <a:lnTo>
                    <a:pt x="3025" y="645"/>
                  </a:lnTo>
                  <a:lnTo>
                    <a:pt x="3009" y="649"/>
                  </a:lnTo>
                  <a:lnTo>
                    <a:pt x="2994" y="649"/>
                  </a:lnTo>
                  <a:lnTo>
                    <a:pt x="2974" y="657"/>
                  </a:lnTo>
                  <a:lnTo>
                    <a:pt x="2958" y="661"/>
                  </a:lnTo>
                  <a:lnTo>
                    <a:pt x="2943" y="668"/>
                  </a:lnTo>
                  <a:lnTo>
                    <a:pt x="2778" y="801"/>
                  </a:lnTo>
                  <a:lnTo>
                    <a:pt x="2618" y="930"/>
                  </a:lnTo>
                  <a:lnTo>
                    <a:pt x="2458" y="1055"/>
                  </a:lnTo>
                  <a:lnTo>
                    <a:pt x="2297" y="1177"/>
                  </a:lnTo>
                  <a:lnTo>
                    <a:pt x="2137" y="1294"/>
                  </a:lnTo>
                  <a:lnTo>
                    <a:pt x="1976" y="1407"/>
                  </a:lnTo>
                  <a:lnTo>
                    <a:pt x="1808" y="1513"/>
                  </a:lnTo>
                  <a:lnTo>
                    <a:pt x="1640" y="1618"/>
                  </a:lnTo>
                  <a:lnTo>
                    <a:pt x="1608" y="1638"/>
                  </a:lnTo>
                  <a:lnTo>
                    <a:pt x="1577" y="1658"/>
                  </a:lnTo>
                  <a:lnTo>
                    <a:pt x="1546" y="1677"/>
                  </a:lnTo>
                  <a:lnTo>
                    <a:pt x="1514" y="1697"/>
                  </a:lnTo>
                  <a:lnTo>
                    <a:pt x="1487" y="1712"/>
                  </a:lnTo>
                  <a:lnTo>
                    <a:pt x="1456" y="1732"/>
                  </a:lnTo>
                  <a:lnTo>
                    <a:pt x="1420" y="1744"/>
                  </a:lnTo>
                  <a:lnTo>
                    <a:pt x="1385" y="1759"/>
                  </a:lnTo>
                  <a:lnTo>
                    <a:pt x="1385" y="1755"/>
                  </a:lnTo>
                  <a:lnTo>
                    <a:pt x="1385" y="1751"/>
                  </a:lnTo>
                  <a:lnTo>
                    <a:pt x="1381" y="1751"/>
                  </a:lnTo>
                  <a:lnTo>
                    <a:pt x="1381" y="1751"/>
                  </a:lnTo>
                  <a:lnTo>
                    <a:pt x="1377" y="1751"/>
                  </a:lnTo>
                  <a:lnTo>
                    <a:pt x="1381" y="1747"/>
                  </a:lnTo>
                  <a:lnTo>
                    <a:pt x="1381" y="1747"/>
                  </a:lnTo>
                  <a:lnTo>
                    <a:pt x="1385" y="1740"/>
                  </a:lnTo>
                  <a:lnTo>
                    <a:pt x="1753" y="1478"/>
                  </a:lnTo>
                  <a:lnTo>
                    <a:pt x="2442" y="997"/>
                  </a:lnTo>
                  <a:lnTo>
                    <a:pt x="2450" y="989"/>
                  </a:lnTo>
                  <a:lnTo>
                    <a:pt x="2458" y="981"/>
                  </a:lnTo>
                  <a:lnTo>
                    <a:pt x="2469" y="969"/>
                  </a:lnTo>
                  <a:lnTo>
                    <a:pt x="2477" y="962"/>
                  </a:lnTo>
                  <a:lnTo>
                    <a:pt x="2485" y="950"/>
                  </a:lnTo>
                  <a:lnTo>
                    <a:pt x="2497" y="942"/>
                  </a:lnTo>
                  <a:lnTo>
                    <a:pt x="2508" y="934"/>
                  </a:lnTo>
                  <a:lnTo>
                    <a:pt x="2520" y="930"/>
                  </a:lnTo>
                  <a:lnTo>
                    <a:pt x="3131" y="410"/>
                  </a:lnTo>
                  <a:lnTo>
                    <a:pt x="3115" y="359"/>
                  </a:lnTo>
                  <a:lnTo>
                    <a:pt x="3099" y="348"/>
                  </a:lnTo>
                  <a:lnTo>
                    <a:pt x="3088" y="340"/>
                  </a:lnTo>
                  <a:lnTo>
                    <a:pt x="3068" y="336"/>
                  </a:lnTo>
                  <a:lnTo>
                    <a:pt x="3052" y="336"/>
                  </a:lnTo>
                  <a:lnTo>
                    <a:pt x="3037" y="340"/>
                  </a:lnTo>
                  <a:lnTo>
                    <a:pt x="3021" y="344"/>
                  </a:lnTo>
                  <a:lnTo>
                    <a:pt x="3005" y="352"/>
                  </a:lnTo>
                  <a:lnTo>
                    <a:pt x="2990" y="359"/>
                  </a:lnTo>
                  <a:lnTo>
                    <a:pt x="2986" y="363"/>
                  </a:lnTo>
                  <a:lnTo>
                    <a:pt x="2978" y="367"/>
                  </a:lnTo>
                  <a:lnTo>
                    <a:pt x="2974" y="371"/>
                  </a:lnTo>
                  <a:lnTo>
                    <a:pt x="2970" y="375"/>
                  </a:lnTo>
                  <a:lnTo>
                    <a:pt x="2966" y="375"/>
                  </a:lnTo>
                  <a:lnTo>
                    <a:pt x="2962" y="375"/>
                  </a:lnTo>
                  <a:lnTo>
                    <a:pt x="2958" y="375"/>
                  </a:lnTo>
                  <a:lnTo>
                    <a:pt x="2955" y="375"/>
                  </a:lnTo>
                  <a:lnTo>
                    <a:pt x="2978" y="340"/>
                  </a:lnTo>
                  <a:lnTo>
                    <a:pt x="3005" y="309"/>
                  </a:lnTo>
                  <a:lnTo>
                    <a:pt x="3041" y="285"/>
                  </a:lnTo>
                  <a:lnTo>
                    <a:pt x="3076" y="266"/>
                  </a:lnTo>
                  <a:lnTo>
                    <a:pt x="3115" y="246"/>
                  </a:lnTo>
                  <a:lnTo>
                    <a:pt x="3154" y="227"/>
                  </a:lnTo>
                  <a:lnTo>
                    <a:pt x="3185" y="207"/>
                  </a:lnTo>
                  <a:lnTo>
                    <a:pt x="3213" y="176"/>
                  </a:lnTo>
                  <a:lnTo>
                    <a:pt x="3217" y="164"/>
                  </a:lnTo>
                  <a:lnTo>
                    <a:pt x="3217" y="152"/>
                  </a:lnTo>
                  <a:lnTo>
                    <a:pt x="3213" y="140"/>
                  </a:lnTo>
                  <a:lnTo>
                    <a:pt x="3209" y="129"/>
                  </a:lnTo>
                  <a:lnTo>
                    <a:pt x="3201" y="117"/>
                  </a:lnTo>
                  <a:lnTo>
                    <a:pt x="3193" y="105"/>
                  </a:lnTo>
                  <a:lnTo>
                    <a:pt x="3182" y="94"/>
                  </a:lnTo>
                  <a:lnTo>
                    <a:pt x="3170" y="82"/>
                  </a:lnTo>
                  <a:lnTo>
                    <a:pt x="3115" y="62"/>
                  </a:lnTo>
                  <a:lnTo>
                    <a:pt x="3013" y="140"/>
                  </a:lnTo>
                  <a:lnTo>
                    <a:pt x="2998" y="133"/>
                  </a:lnTo>
                  <a:lnTo>
                    <a:pt x="2982" y="125"/>
                  </a:lnTo>
                  <a:lnTo>
                    <a:pt x="2966" y="117"/>
                  </a:lnTo>
                  <a:lnTo>
                    <a:pt x="2947" y="109"/>
                  </a:lnTo>
                  <a:lnTo>
                    <a:pt x="2931" y="105"/>
                  </a:lnTo>
                  <a:lnTo>
                    <a:pt x="2912" y="105"/>
                  </a:lnTo>
                  <a:lnTo>
                    <a:pt x="2896" y="109"/>
                  </a:lnTo>
                  <a:lnTo>
                    <a:pt x="2876" y="121"/>
                  </a:lnTo>
                  <a:lnTo>
                    <a:pt x="2626" y="332"/>
                  </a:lnTo>
                  <a:lnTo>
                    <a:pt x="2379" y="535"/>
                  </a:lnTo>
                  <a:lnTo>
                    <a:pt x="2137" y="735"/>
                  </a:lnTo>
                  <a:lnTo>
                    <a:pt x="1894" y="922"/>
                  </a:lnTo>
                  <a:lnTo>
                    <a:pt x="1643" y="1098"/>
                  </a:lnTo>
                  <a:lnTo>
                    <a:pt x="1389" y="1263"/>
                  </a:lnTo>
                  <a:lnTo>
                    <a:pt x="1127" y="1415"/>
                  </a:lnTo>
                  <a:lnTo>
                    <a:pt x="849" y="1556"/>
                  </a:lnTo>
                  <a:lnTo>
                    <a:pt x="849" y="1552"/>
                  </a:lnTo>
                  <a:lnTo>
                    <a:pt x="849" y="1548"/>
                  </a:lnTo>
                  <a:lnTo>
                    <a:pt x="845" y="1548"/>
                  </a:lnTo>
                  <a:lnTo>
                    <a:pt x="845" y="1548"/>
                  </a:lnTo>
                  <a:lnTo>
                    <a:pt x="845" y="1544"/>
                  </a:lnTo>
                  <a:lnTo>
                    <a:pt x="845" y="1544"/>
                  </a:lnTo>
                  <a:lnTo>
                    <a:pt x="845" y="1540"/>
                  </a:lnTo>
                  <a:lnTo>
                    <a:pt x="849" y="1536"/>
                  </a:lnTo>
                  <a:lnTo>
                    <a:pt x="1510" y="1071"/>
                  </a:lnTo>
                  <a:lnTo>
                    <a:pt x="1589" y="1028"/>
                  </a:lnTo>
                  <a:lnTo>
                    <a:pt x="2000" y="704"/>
                  </a:lnTo>
                  <a:lnTo>
                    <a:pt x="2004" y="700"/>
                  </a:lnTo>
                  <a:lnTo>
                    <a:pt x="2007" y="700"/>
                  </a:lnTo>
                  <a:lnTo>
                    <a:pt x="2011" y="700"/>
                  </a:lnTo>
                  <a:lnTo>
                    <a:pt x="2015" y="696"/>
                  </a:lnTo>
                  <a:lnTo>
                    <a:pt x="2019" y="696"/>
                  </a:lnTo>
                  <a:lnTo>
                    <a:pt x="2023" y="696"/>
                  </a:lnTo>
                  <a:lnTo>
                    <a:pt x="2031" y="692"/>
                  </a:lnTo>
                  <a:lnTo>
                    <a:pt x="2035" y="692"/>
                  </a:lnTo>
                  <a:lnTo>
                    <a:pt x="2043" y="684"/>
                  </a:lnTo>
                  <a:lnTo>
                    <a:pt x="2051" y="680"/>
                  </a:lnTo>
                  <a:lnTo>
                    <a:pt x="2054" y="672"/>
                  </a:lnTo>
                  <a:lnTo>
                    <a:pt x="2062" y="664"/>
                  </a:lnTo>
                  <a:lnTo>
                    <a:pt x="2066" y="661"/>
                  </a:lnTo>
                  <a:lnTo>
                    <a:pt x="2074" y="653"/>
                  </a:lnTo>
                  <a:lnTo>
                    <a:pt x="2078" y="641"/>
                  </a:lnTo>
                  <a:lnTo>
                    <a:pt x="2082" y="629"/>
                  </a:lnTo>
                  <a:lnTo>
                    <a:pt x="2113" y="614"/>
                  </a:lnTo>
                  <a:lnTo>
                    <a:pt x="2148" y="594"/>
                  </a:lnTo>
                  <a:lnTo>
                    <a:pt x="2180" y="574"/>
                  </a:lnTo>
                  <a:lnTo>
                    <a:pt x="2207" y="551"/>
                  </a:lnTo>
                  <a:lnTo>
                    <a:pt x="2238" y="531"/>
                  </a:lnTo>
                  <a:lnTo>
                    <a:pt x="2266" y="504"/>
                  </a:lnTo>
                  <a:lnTo>
                    <a:pt x="2293" y="481"/>
                  </a:lnTo>
                  <a:lnTo>
                    <a:pt x="2321" y="453"/>
                  </a:lnTo>
                  <a:lnTo>
                    <a:pt x="2368" y="418"/>
                  </a:lnTo>
                  <a:lnTo>
                    <a:pt x="2414" y="379"/>
                  </a:lnTo>
                  <a:lnTo>
                    <a:pt x="2461" y="344"/>
                  </a:lnTo>
                  <a:lnTo>
                    <a:pt x="2504" y="309"/>
                  </a:lnTo>
                  <a:lnTo>
                    <a:pt x="2551" y="270"/>
                  </a:lnTo>
                  <a:lnTo>
                    <a:pt x="2598" y="230"/>
                  </a:lnTo>
                  <a:lnTo>
                    <a:pt x="2645" y="187"/>
                  </a:lnTo>
                  <a:lnTo>
                    <a:pt x="2692" y="140"/>
                  </a:lnTo>
                  <a:lnTo>
                    <a:pt x="2692" y="140"/>
                  </a:lnTo>
                  <a:lnTo>
                    <a:pt x="2692" y="140"/>
                  </a:lnTo>
                  <a:lnTo>
                    <a:pt x="2692" y="137"/>
                  </a:lnTo>
                  <a:lnTo>
                    <a:pt x="2696" y="133"/>
                  </a:lnTo>
                  <a:lnTo>
                    <a:pt x="2696" y="129"/>
                  </a:lnTo>
                  <a:lnTo>
                    <a:pt x="2696" y="125"/>
                  </a:lnTo>
                  <a:lnTo>
                    <a:pt x="2696" y="125"/>
                  </a:lnTo>
                  <a:lnTo>
                    <a:pt x="2696" y="121"/>
                  </a:lnTo>
                  <a:lnTo>
                    <a:pt x="2696" y="117"/>
                  </a:lnTo>
                  <a:lnTo>
                    <a:pt x="2692" y="117"/>
                  </a:lnTo>
                  <a:lnTo>
                    <a:pt x="2692" y="113"/>
                  </a:lnTo>
                  <a:lnTo>
                    <a:pt x="2688" y="113"/>
                  </a:lnTo>
                  <a:lnTo>
                    <a:pt x="2688" y="109"/>
                  </a:lnTo>
                  <a:lnTo>
                    <a:pt x="2688" y="105"/>
                  </a:lnTo>
                  <a:lnTo>
                    <a:pt x="2685" y="101"/>
                  </a:lnTo>
                  <a:lnTo>
                    <a:pt x="2685" y="97"/>
                  </a:lnTo>
                  <a:lnTo>
                    <a:pt x="2673" y="86"/>
                  </a:lnTo>
                  <a:lnTo>
                    <a:pt x="2657" y="74"/>
                  </a:lnTo>
                  <a:lnTo>
                    <a:pt x="2641" y="70"/>
                  </a:lnTo>
                  <a:lnTo>
                    <a:pt x="2622" y="66"/>
                  </a:lnTo>
                  <a:lnTo>
                    <a:pt x="2602" y="70"/>
                  </a:lnTo>
                  <a:lnTo>
                    <a:pt x="2583" y="74"/>
                  </a:lnTo>
                  <a:lnTo>
                    <a:pt x="2563" y="82"/>
                  </a:lnTo>
                  <a:lnTo>
                    <a:pt x="2544" y="90"/>
                  </a:lnTo>
                  <a:lnTo>
                    <a:pt x="2430" y="180"/>
                  </a:lnTo>
                  <a:lnTo>
                    <a:pt x="2317" y="273"/>
                  </a:lnTo>
                  <a:lnTo>
                    <a:pt x="2203" y="371"/>
                  </a:lnTo>
                  <a:lnTo>
                    <a:pt x="2090" y="465"/>
                  </a:lnTo>
                  <a:lnTo>
                    <a:pt x="1976" y="559"/>
                  </a:lnTo>
                  <a:lnTo>
                    <a:pt x="1863" y="649"/>
                  </a:lnTo>
                  <a:lnTo>
                    <a:pt x="1745" y="735"/>
                  </a:lnTo>
                  <a:lnTo>
                    <a:pt x="1628" y="821"/>
                  </a:lnTo>
                  <a:lnTo>
                    <a:pt x="1589" y="848"/>
                  </a:lnTo>
                  <a:lnTo>
                    <a:pt x="1550" y="876"/>
                  </a:lnTo>
                  <a:lnTo>
                    <a:pt x="1510" y="903"/>
                  </a:lnTo>
                  <a:lnTo>
                    <a:pt x="1475" y="930"/>
                  </a:lnTo>
                  <a:lnTo>
                    <a:pt x="1436" y="958"/>
                  </a:lnTo>
                  <a:lnTo>
                    <a:pt x="1397" y="985"/>
                  </a:lnTo>
                  <a:lnTo>
                    <a:pt x="1358" y="1012"/>
                  </a:lnTo>
                  <a:lnTo>
                    <a:pt x="1315" y="1036"/>
                  </a:lnTo>
                  <a:lnTo>
                    <a:pt x="1315" y="1032"/>
                  </a:lnTo>
                  <a:lnTo>
                    <a:pt x="1315" y="1028"/>
                  </a:lnTo>
                  <a:lnTo>
                    <a:pt x="1311" y="1028"/>
                  </a:lnTo>
                  <a:lnTo>
                    <a:pt x="1311" y="1028"/>
                  </a:lnTo>
                  <a:lnTo>
                    <a:pt x="1311" y="1028"/>
                  </a:lnTo>
                  <a:lnTo>
                    <a:pt x="1311" y="1024"/>
                  </a:lnTo>
                  <a:lnTo>
                    <a:pt x="1311" y="1020"/>
                  </a:lnTo>
                  <a:lnTo>
                    <a:pt x="1315" y="1016"/>
                  </a:lnTo>
                  <a:lnTo>
                    <a:pt x="1377" y="965"/>
                  </a:lnTo>
                  <a:lnTo>
                    <a:pt x="1440" y="919"/>
                  </a:lnTo>
                  <a:lnTo>
                    <a:pt x="1507" y="868"/>
                  </a:lnTo>
                  <a:lnTo>
                    <a:pt x="1569" y="817"/>
                  </a:lnTo>
                  <a:lnTo>
                    <a:pt x="1636" y="762"/>
                  </a:lnTo>
                  <a:lnTo>
                    <a:pt x="1702" y="711"/>
                  </a:lnTo>
                  <a:lnTo>
                    <a:pt x="1765" y="657"/>
                  </a:lnTo>
                  <a:lnTo>
                    <a:pt x="1831" y="602"/>
                  </a:lnTo>
                  <a:lnTo>
                    <a:pt x="1890" y="555"/>
                  </a:lnTo>
                  <a:lnTo>
                    <a:pt x="1953" y="508"/>
                  </a:lnTo>
                  <a:lnTo>
                    <a:pt x="2011" y="457"/>
                  </a:lnTo>
                  <a:lnTo>
                    <a:pt x="2074" y="410"/>
                  </a:lnTo>
                  <a:lnTo>
                    <a:pt x="2133" y="359"/>
                  </a:lnTo>
                  <a:lnTo>
                    <a:pt x="2187" y="309"/>
                  </a:lnTo>
                  <a:lnTo>
                    <a:pt x="2242" y="254"/>
                  </a:lnTo>
                  <a:lnTo>
                    <a:pt x="2293" y="199"/>
                  </a:lnTo>
                  <a:lnTo>
                    <a:pt x="2274" y="152"/>
                  </a:lnTo>
                  <a:lnTo>
                    <a:pt x="2250" y="140"/>
                  </a:lnTo>
                  <a:lnTo>
                    <a:pt x="2227" y="137"/>
                  </a:lnTo>
                  <a:lnTo>
                    <a:pt x="2203" y="137"/>
                  </a:lnTo>
                  <a:lnTo>
                    <a:pt x="2180" y="140"/>
                  </a:lnTo>
                  <a:lnTo>
                    <a:pt x="2156" y="148"/>
                  </a:lnTo>
                  <a:lnTo>
                    <a:pt x="2133" y="160"/>
                  </a:lnTo>
                  <a:lnTo>
                    <a:pt x="2113" y="172"/>
                  </a:lnTo>
                  <a:lnTo>
                    <a:pt x="2094" y="183"/>
                  </a:lnTo>
                  <a:lnTo>
                    <a:pt x="1921" y="328"/>
                  </a:lnTo>
                  <a:lnTo>
                    <a:pt x="1753" y="465"/>
                  </a:lnTo>
                  <a:lnTo>
                    <a:pt x="1585" y="594"/>
                  </a:lnTo>
                  <a:lnTo>
                    <a:pt x="1416" y="715"/>
                  </a:lnTo>
                  <a:lnTo>
                    <a:pt x="1244" y="833"/>
                  </a:lnTo>
                  <a:lnTo>
                    <a:pt x="1072" y="938"/>
                  </a:lnTo>
                  <a:lnTo>
                    <a:pt x="896" y="1040"/>
                  </a:lnTo>
                  <a:lnTo>
                    <a:pt x="716" y="1138"/>
                  </a:lnTo>
                  <a:lnTo>
                    <a:pt x="857" y="1016"/>
                  </a:lnTo>
                  <a:lnTo>
                    <a:pt x="1002" y="903"/>
                  </a:lnTo>
                  <a:lnTo>
                    <a:pt x="1150" y="790"/>
                  </a:lnTo>
                  <a:lnTo>
                    <a:pt x="1303" y="680"/>
                  </a:lnTo>
                  <a:lnTo>
                    <a:pt x="1460" y="571"/>
                  </a:lnTo>
                  <a:lnTo>
                    <a:pt x="1612" y="461"/>
                  </a:lnTo>
                  <a:lnTo>
                    <a:pt x="1761" y="348"/>
                  </a:lnTo>
                  <a:lnTo>
                    <a:pt x="1910" y="234"/>
                  </a:lnTo>
                  <a:lnTo>
                    <a:pt x="1902" y="187"/>
                  </a:lnTo>
                  <a:lnTo>
                    <a:pt x="1894" y="180"/>
                  </a:lnTo>
                  <a:lnTo>
                    <a:pt x="1886" y="172"/>
                  </a:lnTo>
                  <a:lnTo>
                    <a:pt x="1878" y="164"/>
                  </a:lnTo>
                  <a:lnTo>
                    <a:pt x="1870" y="160"/>
                  </a:lnTo>
                  <a:lnTo>
                    <a:pt x="1859" y="156"/>
                  </a:lnTo>
                  <a:lnTo>
                    <a:pt x="1843" y="152"/>
                  </a:lnTo>
                  <a:lnTo>
                    <a:pt x="1831" y="156"/>
                  </a:lnTo>
                  <a:lnTo>
                    <a:pt x="1816" y="156"/>
                  </a:lnTo>
                  <a:lnTo>
                    <a:pt x="1733" y="207"/>
                  </a:lnTo>
                  <a:lnTo>
                    <a:pt x="1659" y="258"/>
                  </a:lnTo>
                  <a:lnTo>
                    <a:pt x="1585" y="316"/>
                  </a:lnTo>
                  <a:lnTo>
                    <a:pt x="1514" y="371"/>
                  </a:lnTo>
                  <a:lnTo>
                    <a:pt x="1444" y="430"/>
                  </a:lnTo>
                  <a:lnTo>
                    <a:pt x="1370" y="485"/>
                  </a:lnTo>
                  <a:lnTo>
                    <a:pt x="1295" y="539"/>
                  </a:lnTo>
                  <a:lnTo>
                    <a:pt x="1217" y="590"/>
                  </a:lnTo>
                  <a:lnTo>
                    <a:pt x="1189" y="610"/>
                  </a:lnTo>
                  <a:lnTo>
                    <a:pt x="1158" y="629"/>
                  </a:lnTo>
                  <a:lnTo>
                    <a:pt x="1131" y="649"/>
                  </a:lnTo>
                  <a:lnTo>
                    <a:pt x="1103" y="668"/>
                  </a:lnTo>
                  <a:lnTo>
                    <a:pt x="1072" y="684"/>
                  </a:lnTo>
                  <a:lnTo>
                    <a:pt x="1045" y="700"/>
                  </a:lnTo>
                  <a:lnTo>
                    <a:pt x="1017" y="715"/>
                  </a:lnTo>
                  <a:lnTo>
                    <a:pt x="986" y="731"/>
                  </a:lnTo>
                  <a:lnTo>
                    <a:pt x="986" y="731"/>
                  </a:lnTo>
                  <a:lnTo>
                    <a:pt x="982" y="727"/>
                  </a:lnTo>
                  <a:lnTo>
                    <a:pt x="982" y="727"/>
                  </a:lnTo>
                  <a:lnTo>
                    <a:pt x="982" y="723"/>
                  </a:lnTo>
                  <a:lnTo>
                    <a:pt x="982" y="719"/>
                  </a:lnTo>
                  <a:lnTo>
                    <a:pt x="982" y="719"/>
                  </a:lnTo>
                  <a:lnTo>
                    <a:pt x="978" y="715"/>
                  </a:lnTo>
                  <a:lnTo>
                    <a:pt x="978" y="711"/>
                  </a:lnTo>
                  <a:lnTo>
                    <a:pt x="1675" y="187"/>
                  </a:lnTo>
                  <a:lnTo>
                    <a:pt x="1675" y="187"/>
                  </a:lnTo>
                  <a:lnTo>
                    <a:pt x="1675" y="183"/>
                  </a:lnTo>
                  <a:lnTo>
                    <a:pt x="1675" y="180"/>
                  </a:lnTo>
                  <a:lnTo>
                    <a:pt x="1675" y="180"/>
                  </a:lnTo>
                  <a:lnTo>
                    <a:pt x="1675" y="176"/>
                  </a:lnTo>
                  <a:lnTo>
                    <a:pt x="1675" y="172"/>
                  </a:lnTo>
                  <a:lnTo>
                    <a:pt x="1675" y="168"/>
                  </a:lnTo>
                  <a:lnTo>
                    <a:pt x="1675" y="168"/>
                  </a:lnTo>
                  <a:lnTo>
                    <a:pt x="1671" y="160"/>
                  </a:lnTo>
                  <a:lnTo>
                    <a:pt x="1667" y="156"/>
                  </a:lnTo>
                  <a:lnTo>
                    <a:pt x="1667" y="152"/>
                  </a:lnTo>
                  <a:lnTo>
                    <a:pt x="1663" y="148"/>
                  </a:lnTo>
                  <a:lnTo>
                    <a:pt x="1663" y="148"/>
                  </a:lnTo>
                  <a:lnTo>
                    <a:pt x="1663" y="144"/>
                  </a:lnTo>
                  <a:lnTo>
                    <a:pt x="1663" y="144"/>
                  </a:lnTo>
                  <a:lnTo>
                    <a:pt x="1663" y="140"/>
                  </a:lnTo>
                  <a:lnTo>
                    <a:pt x="1659" y="133"/>
                  </a:lnTo>
                  <a:lnTo>
                    <a:pt x="1651" y="129"/>
                  </a:lnTo>
                  <a:lnTo>
                    <a:pt x="1640" y="121"/>
                  </a:lnTo>
                  <a:lnTo>
                    <a:pt x="1632" y="113"/>
                  </a:lnTo>
                  <a:lnTo>
                    <a:pt x="1620" y="109"/>
                  </a:lnTo>
                  <a:lnTo>
                    <a:pt x="1604" y="109"/>
                  </a:lnTo>
                  <a:lnTo>
                    <a:pt x="1593" y="109"/>
                  </a:lnTo>
                  <a:lnTo>
                    <a:pt x="1573" y="113"/>
                  </a:lnTo>
                  <a:lnTo>
                    <a:pt x="1553" y="121"/>
                  </a:lnTo>
                  <a:lnTo>
                    <a:pt x="1538" y="129"/>
                  </a:lnTo>
                  <a:lnTo>
                    <a:pt x="1522" y="137"/>
                  </a:lnTo>
                  <a:lnTo>
                    <a:pt x="1507" y="144"/>
                  </a:lnTo>
                  <a:lnTo>
                    <a:pt x="1491" y="156"/>
                  </a:lnTo>
                  <a:lnTo>
                    <a:pt x="1475" y="164"/>
                  </a:lnTo>
                  <a:lnTo>
                    <a:pt x="1460" y="172"/>
                  </a:lnTo>
                  <a:lnTo>
                    <a:pt x="1444" y="183"/>
                  </a:lnTo>
                  <a:lnTo>
                    <a:pt x="1397" y="140"/>
                  </a:lnTo>
                  <a:lnTo>
                    <a:pt x="1354" y="121"/>
                  </a:lnTo>
                  <a:lnTo>
                    <a:pt x="1170" y="207"/>
                  </a:lnTo>
                  <a:lnTo>
                    <a:pt x="1162" y="195"/>
                  </a:lnTo>
                  <a:lnTo>
                    <a:pt x="1158" y="183"/>
                  </a:lnTo>
                  <a:lnTo>
                    <a:pt x="1150" y="172"/>
                  </a:lnTo>
                  <a:lnTo>
                    <a:pt x="1143" y="164"/>
                  </a:lnTo>
                  <a:lnTo>
                    <a:pt x="1131" y="152"/>
                  </a:lnTo>
                  <a:lnTo>
                    <a:pt x="1119" y="144"/>
                  </a:lnTo>
                  <a:lnTo>
                    <a:pt x="1107" y="137"/>
                  </a:lnTo>
                  <a:lnTo>
                    <a:pt x="1092" y="133"/>
                  </a:lnTo>
                  <a:lnTo>
                    <a:pt x="1013" y="160"/>
                  </a:lnTo>
                  <a:lnTo>
                    <a:pt x="943" y="195"/>
                  </a:lnTo>
                  <a:lnTo>
                    <a:pt x="880" y="234"/>
                  </a:lnTo>
                  <a:lnTo>
                    <a:pt x="822" y="277"/>
                  </a:lnTo>
                  <a:lnTo>
                    <a:pt x="763" y="320"/>
                  </a:lnTo>
                  <a:lnTo>
                    <a:pt x="704" y="359"/>
                  </a:lnTo>
                  <a:lnTo>
                    <a:pt x="638" y="395"/>
                  </a:lnTo>
                  <a:lnTo>
                    <a:pt x="571" y="422"/>
                  </a:lnTo>
                  <a:lnTo>
                    <a:pt x="567" y="422"/>
                  </a:lnTo>
                  <a:lnTo>
                    <a:pt x="567" y="418"/>
                  </a:lnTo>
                  <a:lnTo>
                    <a:pt x="563" y="418"/>
                  </a:lnTo>
                  <a:lnTo>
                    <a:pt x="563" y="418"/>
                  </a:lnTo>
                  <a:lnTo>
                    <a:pt x="563" y="414"/>
                  </a:lnTo>
                  <a:lnTo>
                    <a:pt x="563" y="410"/>
                  </a:lnTo>
                  <a:lnTo>
                    <a:pt x="559" y="406"/>
                  </a:lnTo>
                  <a:lnTo>
                    <a:pt x="559" y="402"/>
                  </a:lnTo>
                  <a:lnTo>
                    <a:pt x="845" y="176"/>
                  </a:lnTo>
                  <a:lnTo>
                    <a:pt x="849" y="168"/>
                  </a:lnTo>
                  <a:lnTo>
                    <a:pt x="853" y="156"/>
                  </a:lnTo>
                  <a:lnTo>
                    <a:pt x="853" y="144"/>
                  </a:lnTo>
                  <a:lnTo>
                    <a:pt x="849" y="137"/>
                  </a:lnTo>
                  <a:lnTo>
                    <a:pt x="845" y="125"/>
                  </a:lnTo>
                  <a:lnTo>
                    <a:pt x="841" y="113"/>
                  </a:lnTo>
                  <a:lnTo>
                    <a:pt x="833" y="105"/>
                  </a:lnTo>
                  <a:lnTo>
                    <a:pt x="829" y="97"/>
                  </a:lnTo>
                  <a:lnTo>
                    <a:pt x="806" y="86"/>
                  </a:lnTo>
                  <a:lnTo>
                    <a:pt x="782" y="82"/>
                  </a:lnTo>
                  <a:lnTo>
                    <a:pt x="759" y="86"/>
                  </a:lnTo>
                  <a:lnTo>
                    <a:pt x="732" y="90"/>
                  </a:lnTo>
                  <a:lnTo>
                    <a:pt x="708" y="101"/>
                  </a:lnTo>
                  <a:lnTo>
                    <a:pt x="689" y="109"/>
                  </a:lnTo>
                  <a:lnTo>
                    <a:pt x="665" y="121"/>
                  </a:lnTo>
                  <a:lnTo>
                    <a:pt x="649" y="133"/>
                  </a:lnTo>
                  <a:lnTo>
                    <a:pt x="606" y="164"/>
                  </a:lnTo>
                  <a:lnTo>
                    <a:pt x="563" y="195"/>
                  </a:lnTo>
                  <a:lnTo>
                    <a:pt x="520" y="227"/>
                  </a:lnTo>
                  <a:lnTo>
                    <a:pt x="477" y="254"/>
                  </a:lnTo>
                  <a:lnTo>
                    <a:pt x="434" y="277"/>
                  </a:lnTo>
                  <a:lnTo>
                    <a:pt x="387" y="305"/>
                  </a:lnTo>
                  <a:lnTo>
                    <a:pt x="344" y="324"/>
                  </a:lnTo>
                  <a:lnTo>
                    <a:pt x="293" y="340"/>
                  </a:lnTo>
                  <a:lnTo>
                    <a:pt x="325" y="301"/>
                  </a:lnTo>
                  <a:lnTo>
                    <a:pt x="360" y="266"/>
                  </a:lnTo>
                  <a:lnTo>
                    <a:pt x="399" y="234"/>
                  </a:lnTo>
                  <a:lnTo>
                    <a:pt x="438" y="207"/>
                  </a:lnTo>
                  <a:lnTo>
                    <a:pt x="481" y="183"/>
                  </a:lnTo>
                  <a:lnTo>
                    <a:pt x="524" y="156"/>
                  </a:lnTo>
                  <a:lnTo>
                    <a:pt x="563" y="129"/>
                  </a:lnTo>
                  <a:lnTo>
                    <a:pt x="602" y="97"/>
                  </a:lnTo>
                  <a:lnTo>
                    <a:pt x="606" y="94"/>
                  </a:lnTo>
                  <a:lnTo>
                    <a:pt x="610" y="86"/>
                  </a:lnTo>
                  <a:lnTo>
                    <a:pt x="614" y="74"/>
                  </a:lnTo>
                  <a:lnTo>
                    <a:pt x="614" y="66"/>
                  </a:lnTo>
                  <a:lnTo>
                    <a:pt x="614" y="54"/>
                  </a:lnTo>
                  <a:lnTo>
                    <a:pt x="610" y="47"/>
                  </a:lnTo>
                  <a:lnTo>
                    <a:pt x="606" y="35"/>
                  </a:lnTo>
                  <a:lnTo>
                    <a:pt x="602" y="27"/>
                  </a:lnTo>
                  <a:lnTo>
                    <a:pt x="595" y="23"/>
                  </a:lnTo>
                  <a:lnTo>
                    <a:pt x="591" y="19"/>
                  </a:lnTo>
                  <a:lnTo>
                    <a:pt x="583" y="15"/>
                  </a:lnTo>
                  <a:lnTo>
                    <a:pt x="571" y="11"/>
                  </a:lnTo>
                  <a:lnTo>
                    <a:pt x="563" y="11"/>
                  </a:lnTo>
                  <a:lnTo>
                    <a:pt x="555" y="8"/>
                  </a:lnTo>
                  <a:lnTo>
                    <a:pt x="544" y="4"/>
                  </a:lnTo>
                  <a:lnTo>
                    <a:pt x="536" y="0"/>
                  </a:lnTo>
                  <a:lnTo>
                    <a:pt x="172" y="172"/>
                  </a:lnTo>
                  <a:lnTo>
                    <a:pt x="164" y="176"/>
                  </a:lnTo>
                  <a:lnTo>
                    <a:pt x="160" y="180"/>
                  </a:lnTo>
                  <a:lnTo>
                    <a:pt x="156" y="187"/>
                  </a:lnTo>
                  <a:lnTo>
                    <a:pt x="148" y="191"/>
                  </a:lnTo>
                  <a:lnTo>
                    <a:pt x="145" y="199"/>
                  </a:lnTo>
                  <a:lnTo>
                    <a:pt x="145" y="203"/>
                  </a:lnTo>
                  <a:lnTo>
                    <a:pt x="141" y="215"/>
                  </a:lnTo>
                  <a:lnTo>
                    <a:pt x="137" y="223"/>
                  </a:lnTo>
                  <a:lnTo>
                    <a:pt x="152" y="266"/>
                  </a:lnTo>
                  <a:lnTo>
                    <a:pt x="0" y="461"/>
                  </a:lnTo>
                  <a:lnTo>
                    <a:pt x="0" y="465"/>
                  </a:lnTo>
                  <a:lnTo>
                    <a:pt x="0" y="469"/>
                  </a:lnTo>
                  <a:lnTo>
                    <a:pt x="4" y="473"/>
                  </a:lnTo>
                  <a:lnTo>
                    <a:pt x="4" y="477"/>
                  </a:lnTo>
                  <a:lnTo>
                    <a:pt x="4" y="481"/>
                  </a:lnTo>
                  <a:lnTo>
                    <a:pt x="4" y="485"/>
                  </a:lnTo>
                  <a:lnTo>
                    <a:pt x="8" y="488"/>
                  </a:lnTo>
                  <a:lnTo>
                    <a:pt x="8" y="496"/>
                  </a:lnTo>
                  <a:lnTo>
                    <a:pt x="15" y="504"/>
                  </a:lnTo>
                  <a:lnTo>
                    <a:pt x="27" y="516"/>
                  </a:lnTo>
                  <a:lnTo>
                    <a:pt x="39" y="524"/>
                  </a:lnTo>
                  <a:lnTo>
                    <a:pt x="51" y="535"/>
                  </a:lnTo>
                  <a:lnTo>
                    <a:pt x="62" y="543"/>
                  </a:lnTo>
                  <a:lnTo>
                    <a:pt x="74" y="551"/>
                  </a:lnTo>
                  <a:lnTo>
                    <a:pt x="90" y="559"/>
                  </a:lnTo>
                  <a:lnTo>
                    <a:pt x="101" y="567"/>
                  </a:lnTo>
                  <a:lnTo>
                    <a:pt x="109" y="567"/>
                  </a:lnTo>
                  <a:lnTo>
                    <a:pt x="117" y="563"/>
                  </a:lnTo>
                  <a:lnTo>
                    <a:pt x="129" y="563"/>
                  </a:lnTo>
                  <a:lnTo>
                    <a:pt x="137" y="559"/>
                  </a:lnTo>
                  <a:lnTo>
                    <a:pt x="145" y="555"/>
                  </a:lnTo>
                  <a:lnTo>
                    <a:pt x="152" y="555"/>
                  </a:lnTo>
                  <a:lnTo>
                    <a:pt x="160" y="551"/>
                  </a:lnTo>
                  <a:lnTo>
                    <a:pt x="172" y="555"/>
                  </a:lnTo>
                  <a:lnTo>
                    <a:pt x="172" y="559"/>
                  </a:lnTo>
                  <a:lnTo>
                    <a:pt x="172" y="559"/>
                  </a:lnTo>
                  <a:lnTo>
                    <a:pt x="176" y="563"/>
                  </a:lnTo>
                  <a:lnTo>
                    <a:pt x="176" y="563"/>
                  </a:lnTo>
                  <a:lnTo>
                    <a:pt x="176" y="563"/>
                  </a:lnTo>
                  <a:lnTo>
                    <a:pt x="180" y="563"/>
                  </a:lnTo>
                  <a:lnTo>
                    <a:pt x="176" y="567"/>
                  </a:lnTo>
                  <a:lnTo>
                    <a:pt x="176" y="574"/>
                  </a:lnTo>
                  <a:lnTo>
                    <a:pt x="137" y="629"/>
                  </a:lnTo>
                  <a:lnTo>
                    <a:pt x="137" y="633"/>
                  </a:lnTo>
                  <a:lnTo>
                    <a:pt x="137" y="637"/>
                  </a:lnTo>
                  <a:lnTo>
                    <a:pt x="137" y="641"/>
                  </a:lnTo>
                  <a:lnTo>
                    <a:pt x="137" y="645"/>
                  </a:lnTo>
                  <a:lnTo>
                    <a:pt x="137" y="653"/>
                  </a:lnTo>
                  <a:lnTo>
                    <a:pt x="137" y="657"/>
                  </a:lnTo>
                  <a:lnTo>
                    <a:pt x="137" y="661"/>
                  </a:lnTo>
                  <a:lnTo>
                    <a:pt x="137" y="664"/>
                  </a:lnTo>
                  <a:lnTo>
                    <a:pt x="137" y="672"/>
                  </a:lnTo>
                  <a:lnTo>
                    <a:pt x="141" y="680"/>
                  </a:lnTo>
                  <a:lnTo>
                    <a:pt x="145" y="684"/>
                  </a:lnTo>
                  <a:lnTo>
                    <a:pt x="152" y="692"/>
                  </a:lnTo>
                  <a:lnTo>
                    <a:pt x="156" y="696"/>
                  </a:lnTo>
                  <a:lnTo>
                    <a:pt x="164" y="704"/>
                  </a:lnTo>
                  <a:lnTo>
                    <a:pt x="172" y="707"/>
                  </a:lnTo>
                  <a:lnTo>
                    <a:pt x="180" y="711"/>
                  </a:lnTo>
                  <a:lnTo>
                    <a:pt x="305" y="711"/>
                  </a:lnTo>
                  <a:lnTo>
                    <a:pt x="250" y="790"/>
                  </a:lnTo>
                  <a:lnTo>
                    <a:pt x="258" y="833"/>
                  </a:lnTo>
                  <a:lnTo>
                    <a:pt x="317" y="879"/>
                  </a:lnTo>
                  <a:lnTo>
                    <a:pt x="195" y="1016"/>
                  </a:lnTo>
                  <a:lnTo>
                    <a:pt x="207" y="1063"/>
                  </a:lnTo>
                  <a:lnTo>
                    <a:pt x="246" y="1095"/>
                  </a:lnTo>
                  <a:lnTo>
                    <a:pt x="246" y="1102"/>
                  </a:lnTo>
                  <a:lnTo>
                    <a:pt x="246" y="1110"/>
                  </a:lnTo>
                  <a:lnTo>
                    <a:pt x="246" y="1122"/>
                  </a:lnTo>
                  <a:lnTo>
                    <a:pt x="246" y="1130"/>
                  </a:lnTo>
                  <a:lnTo>
                    <a:pt x="246" y="1138"/>
                  </a:lnTo>
                  <a:lnTo>
                    <a:pt x="250" y="1145"/>
                  </a:lnTo>
                  <a:lnTo>
                    <a:pt x="250" y="1153"/>
                  </a:lnTo>
                  <a:lnTo>
                    <a:pt x="254" y="1161"/>
                  </a:lnTo>
                  <a:lnTo>
                    <a:pt x="266" y="1177"/>
                  </a:lnTo>
                  <a:lnTo>
                    <a:pt x="282" y="1184"/>
                  </a:lnTo>
                  <a:lnTo>
                    <a:pt x="297" y="1188"/>
                  </a:lnTo>
                  <a:lnTo>
                    <a:pt x="313" y="1192"/>
                  </a:lnTo>
                  <a:lnTo>
                    <a:pt x="332" y="1192"/>
                  </a:lnTo>
                  <a:lnTo>
                    <a:pt x="348" y="1192"/>
                  </a:lnTo>
                  <a:lnTo>
                    <a:pt x="368" y="1192"/>
                  </a:lnTo>
                  <a:lnTo>
                    <a:pt x="387" y="1192"/>
                  </a:lnTo>
                  <a:lnTo>
                    <a:pt x="387" y="1192"/>
                  </a:lnTo>
                  <a:lnTo>
                    <a:pt x="391" y="1192"/>
                  </a:lnTo>
                  <a:lnTo>
                    <a:pt x="391" y="1192"/>
                  </a:lnTo>
                  <a:lnTo>
                    <a:pt x="391" y="1196"/>
                  </a:lnTo>
                  <a:lnTo>
                    <a:pt x="391" y="1200"/>
                  </a:lnTo>
                  <a:lnTo>
                    <a:pt x="395" y="1200"/>
                  </a:lnTo>
                  <a:lnTo>
                    <a:pt x="395" y="1204"/>
                  </a:lnTo>
                  <a:lnTo>
                    <a:pt x="395" y="1208"/>
                  </a:lnTo>
                  <a:lnTo>
                    <a:pt x="227" y="1341"/>
                  </a:lnTo>
                  <a:lnTo>
                    <a:pt x="223" y="1353"/>
                  </a:lnTo>
                  <a:lnTo>
                    <a:pt x="219" y="1360"/>
                  </a:lnTo>
                  <a:lnTo>
                    <a:pt x="215" y="1372"/>
                  </a:lnTo>
                  <a:lnTo>
                    <a:pt x="215" y="1388"/>
                  </a:lnTo>
                  <a:lnTo>
                    <a:pt x="215" y="1399"/>
                  </a:lnTo>
                  <a:lnTo>
                    <a:pt x="219" y="1411"/>
                  </a:lnTo>
                  <a:lnTo>
                    <a:pt x="223" y="1423"/>
                  </a:lnTo>
                  <a:lnTo>
                    <a:pt x="227" y="1435"/>
                  </a:lnTo>
                  <a:lnTo>
                    <a:pt x="266" y="1450"/>
                  </a:lnTo>
                  <a:lnTo>
                    <a:pt x="305" y="1450"/>
                  </a:lnTo>
                  <a:lnTo>
                    <a:pt x="348" y="1442"/>
                  </a:lnTo>
                  <a:lnTo>
                    <a:pt x="387" y="1431"/>
                  </a:lnTo>
                  <a:lnTo>
                    <a:pt x="430" y="1415"/>
                  </a:lnTo>
                  <a:lnTo>
                    <a:pt x="469" y="1396"/>
                  </a:lnTo>
                  <a:lnTo>
                    <a:pt x="509" y="1376"/>
                  </a:lnTo>
                  <a:lnTo>
                    <a:pt x="544" y="1360"/>
                  </a:lnTo>
                  <a:lnTo>
                    <a:pt x="555" y="1356"/>
                  </a:lnTo>
                  <a:lnTo>
                    <a:pt x="563" y="1353"/>
                  </a:lnTo>
                  <a:lnTo>
                    <a:pt x="571" y="1349"/>
                  </a:lnTo>
                  <a:lnTo>
                    <a:pt x="583" y="1345"/>
                  </a:lnTo>
                  <a:lnTo>
                    <a:pt x="591" y="1341"/>
                  </a:lnTo>
                  <a:lnTo>
                    <a:pt x="599" y="1337"/>
                  </a:lnTo>
                  <a:lnTo>
                    <a:pt x="606" y="1337"/>
                  </a:lnTo>
                  <a:lnTo>
                    <a:pt x="614" y="1337"/>
                  </a:lnTo>
                  <a:lnTo>
                    <a:pt x="579" y="1372"/>
                  </a:lnTo>
                  <a:lnTo>
                    <a:pt x="544" y="1403"/>
                  </a:lnTo>
                  <a:lnTo>
                    <a:pt x="501" y="1431"/>
                  </a:lnTo>
                  <a:lnTo>
                    <a:pt x="458" y="1458"/>
                  </a:lnTo>
                  <a:lnTo>
                    <a:pt x="415" y="1486"/>
                  </a:lnTo>
                  <a:lnTo>
                    <a:pt x="368" y="1513"/>
                  </a:lnTo>
                  <a:lnTo>
                    <a:pt x="325" y="1544"/>
                  </a:lnTo>
                  <a:lnTo>
                    <a:pt x="282" y="1575"/>
                  </a:lnTo>
                  <a:lnTo>
                    <a:pt x="266" y="1587"/>
                  </a:lnTo>
                  <a:lnTo>
                    <a:pt x="250" y="1595"/>
                  </a:lnTo>
                  <a:lnTo>
                    <a:pt x="235" y="1603"/>
                  </a:lnTo>
                  <a:lnTo>
                    <a:pt x="223" y="1615"/>
                  </a:lnTo>
                  <a:lnTo>
                    <a:pt x="211" y="1622"/>
                  </a:lnTo>
                  <a:lnTo>
                    <a:pt x="199" y="1630"/>
                  </a:lnTo>
                  <a:lnTo>
                    <a:pt x="184" y="1642"/>
                  </a:lnTo>
                  <a:lnTo>
                    <a:pt x="172" y="1650"/>
                  </a:lnTo>
                  <a:lnTo>
                    <a:pt x="148" y="1693"/>
                  </a:lnTo>
                  <a:lnTo>
                    <a:pt x="172" y="1740"/>
                  </a:lnTo>
                  <a:lnTo>
                    <a:pt x="219" y="1775"/>
                  </a:lnTo>
                  <a:lnTo>
                    <a:pt x="195" y="1794"/>
                  </a:lnTo>
                  <a:lnTo>
                    <a:pt x="168" y="1814"/>
                  </a:lnTo>
                  <a:lnTo>
                    <a:pt x="141" y="1830"/>
                  </a:lnTo>
                  <a:lnTo>
                    <a:pt x="113" y="1849"/>
                  </a:lnTo>
                  <a:lnTo>
                    <a:pt x="90" y="1865"/>
                  </a:lnTo>
                  <a:lnTo>
                    <a:pt x="66" y="1888"/>
                  </a:lnTo>
                  <a:lnTo>
                    <a:pt x="47" y="1912"/>
                  </a:lnTo>
                  <a:lnTo>
                    <a:pt x="35" y="1943"/>
                  </a:lnTo>
                  <a:lnTo>
                    <a:pt x="35" y="1947"/>
                  </a:lnTo>
                  <a:lnTo>
                    <a:pt x="35" y="1947"/>
                  </a:lnTo>
                  <a:lnTo>
                    <a:pt x="35" y="1951"/>
                  </a:lnTo>
                  <a:lnTo>
                    <a:pt x="35" y="1955"/>
                  </a:lnTo>
                  <a:lnTo>
                    <a:pt x="39" y="1959"/>
                  </a:lnTo>
                  <a:lnTo>
                    <a:pt x="39" y="1963"/>
                  </a:lnTo>
                  <a:lnTo>
                    <a:pt x="43" y="1963"/>
                  </a:lnTo>
                  <a:lnTo>
                    <a:pt x="43" y="1966"/>
                  </a:lnTo>
                  <a:lnTo>
                    <a:pt x="51" y="1978"/>
                  </a:lnTo>
                  <a:lnTo>
                    <a:pt x="62" y="1990"/>
                  </a:lnTo>
                  <a:lnTo>
                    <a:pt x="78" y="1994"/>
                  </a:lnTo>
                  <a:lnTo>
                    <a:pt x="94" y="1998"/>
                  </a:lnTo>
                  <a:lnTo>
                    <a:pt x="113" y="2002"/>
                  </a:lnTo>
                  <a:lnTo>
                    <a:pt x="133" y="2002"/>
                  </a:lnTo>
                  <a:lnTo>
                    <a:pt x="152" y="1998"/>
                  </a:lnTo>
                  <a:lnTo>
                    <a:pt x="168" y="1998"/>
                  </a:lnTo>
                  <a:lnTo>
                    <a:pt x="192" y="1990"/>
                  </a:lnTo>
                  <a:lnTo>
                    <a:pt x="219" y="1978"/>
                  </a:lnTo>
                  <a:lnTo>
                    <a:pt x="242" y="1970"/>
                  </a:lnTo>
                  <a:lnTo>
                    <a:pt x="266" y="1963"/>
                  </a:lnTo>
                  <a:lnTo>
                    <a:pt x="285" y="1959"/>
                  </a:lnTo>
                  <a:lnTo>
                    <a:pt x="309" y="1951"/>
                  </a:lnTo>
                  <a:lnTo>
                    <a:pt x="328" y="1947"/>
                  </a:lnTo>
                  <a:lnTo>
                    <a:pt x="352" y="1943"/>
                  </a:lnTo>
                  <a:lnTo>
                    <a:pt x="360" y="1947"/>
                  </a:lnTo>
                  <a:lnTo>
                    <a:pt x="368" y="1951"/>
                  </a:lnTo>
                  <a:lnTo>
                    <a:pt x="375" y="1959"/>
                  </a:lnTo>
                  <a:lnTo>
                    <a:pt x="387" y="1966"/>
                  </a:lnTo>
                  <a:lnTo>
                    <a:pt x="395" y="1974"/>
                  </a:lnTo>
                  <a:lnTo>
                    <a:pt x="399" y="1982"/>
                  </a:lnTo>
                  <a:lnTo>
                    <a:pt x="407" y="1990"/>
                  </a:lnTo>
                  <a:lnTo>
                    <a:pt x="415" y="2002"/>
                  </a:lnTo>
                  <a:lnTo>
                    <a:pt x="172" y="2131"/>
                  </a:lnTo>
                  <a:lnTo>
                    <a:pt x="164" y="2127"/>
                  </a:lnTo>
                  <a:lnTo>
                    <a:pt x="156" y="2127"/>
                  </a:lnTo>
                  <a:lnTo>
                    <a:pt x="148" y="2131"/>
                  </a:lnTo>
                  <a:lnTo>
                    <a:pt x="145" y="2135"/>
                  </a:lnTo>
                  <a:lnTo>
                    <a:pt x="137" y="2142"/>
                  </a:lnTo>
                  <a:lnTo>
                    <a:pt x="129" y="2150"/>
                  </a:lnTo>
                  <a:lnTo>
                    <a:pt x="121" y="2158"/>
                  </a:lnTo>
                  <a:lnTo>
                    <a:pt x="109" y="2158"/>
                  </a:lnTo>
                  <a:lnTo>
                    <a:pt x="51" y="2307"/>
                  </a:lnTo>
                  <a:lnTo>
                    <a:pt x="74" y="2322"/>
                  </a:lnTo>
                  <a:lnTo>
                    <a:pt x="105" y="2330"/>
                  </a:lnTo>
                  <a:lnTo>
                    <a:pt x="133" y="2326"/>
                  </a:lnTo>
                  <a:lnTo>
                    <a:pt x="164" y="2322"/>
                  </a:lnTo>
                  <a:lnTo>
                    <a:pt x="192" y="2310"/>
                  </a:lnTo>
                  <a:lnTo>
                    <a:pt x="223" y="2303"/>
                  </a:lnTo>
                  <a:lnTo>
                    <a:pt x="254" y="2291"/>
                  </a:lnTo>
                  <a:lnTo>
                    <a:pt x="285" y="2283"/>
                  </a:lnTo>
                  <a:lnTo>
                    <a:pt x="297" y="2287"/>
                  </a:lnTo>
                  <a:lnTo>
                    <a:pt x="309" y="2291"/>
                  </a:lnTo>
                  <a:lnTo>
                    <a:pt x="317" y="2299"/>
                  </a:lnTo>
                  <a:lnTo>
                    <a:pt x="325" y="2307"/>
                  </a:lnTo>
                  <a:lnTo>
                    <a:pt x="332" y="2318"/>
                  </a:lnTo>
                  <a:lnTo>
                    <a:pt x="340" y="2330"/>
                  </a:lnTo>
                  <a:lnTo>
                    <a:pt x="344" y="2342"/>
                  </a:lnTo>
                  <a:lnTo>
                    <a:pt x="348" y="2350"/>
                  </a:lnTo>
                  <a:lnTo>
                    <a:pt x="70" y="2459"/>
                  </a:lnTo>
                  <a:lnTo>
                    <a:pt x="62" y="2463"/>
                  </a:lnTo>
                  <a:lnTo>
                    <a:pt x="58" y="2471"/>
                  </a:lnTo>
                  <a:lnTo>
                    <a:pt x="55" y="2475"/>
                  </a:lnTo>
                  <a:lnTo>
                    <a:pt x="51" y="2479"/>
                  </a:lnTo>
                  <a:lnTo>
                    <a:pt x="47" y="2486"/>
                  </a:lnTo>
                  <a:lnTo>
                    <a:pt x="43" y="2494"/>
                  </a:lnTo>
                  <a:lnTo>
                    <a:pt x="39" y="2502"/>
                  </a:lnTo>
                  <a:lnTo>
                    <a:pt x="35" y="2510"/>
                  </a:lnTo>
                  <a:lnTo>
                    <a:pt x="55" y="2569"/>
                  </a:lnTo>
                  <a:lnTo>
                    <a:pt x="55" y="2572"/>
                  </a:lnTo>
                  <a:lnTo>
                    <a:pt x="58" y="2580"/>
                  </a:lnTo>
                  <a:lnTo>
                    <a:pt x="66" y="2584"/>
                  </a:lnTo>
                  <a:lnTo>
                    <a:pt x="70" y="2588"/>
                  </a:lnTo>
                  <a:lnTo>
                    <a:pt x="78" y="2592"/>
                  </a:lnTo>
                  <a:lnTo>
                    <a:pt x="86" y="2596"/>
                  </a:lnTo>
                  <a:lnTo>
                    <a:pt x="94" y="2600"/>
                  </a:lnTo>
                  <a:lnTo>
                    <a:pt x="101" y="2604"/>
                  </a:lnTo>
                  <a:lnTo>
                    <a:pt x="692" y="2412"/>
                  </a:lnTo>
                  <a:lnTo>
                    <a:pt x="677" y="2432"/>
                  </a:lnTo>
                  <a:lnTo>
                    <a:pt x="657" y="2447"/>
                  </a:lnTo>
                  <a:lnTo>
                    <a:pt x="634" y="2463"/>
                  </a:lnTo>
                  <a:lnTo>
                    <a:pt x="606" y="2475"/>
                  </a:lnTo>
                  <a:lnTo>
                    <a:pt x="579" y="2490"/>
                  </a:lnTo>
                  <a:lnTo>
                    <a:pt x="552" y="2502"/>
                  </a:lnTo>
                  <a:lnTo>
                    <a:pt x="524" y="2514"/>
                  </a:lnTo>
                  <a:lnTo>
                    <a:pt x="501" y="2529"/>
                  </a:lnTo>
                  <a:lnTo>
                    <a:pt x="454" y="2549"/>
                  </a:lnTo>
                  <a:lnTo>
                    <a:pt x="407" y="2565"/>
                  </a:lnTo>
                  <a:lnTo>
                    <a:pt x="360" y="2584"/>
                  </a:lnTo>
                  <a:lnTo>
                    <a:pt x="317" y="2600"/>
                  </a:lnTo>
                  <a:lnTo>
                    <a:pt x="270" y="2612"/>
                  </a:lnTo>
                  <a:lnTo>
                    <a:pt x="223" y="2627"/>
                  </a:lnTo>
                  <a:lnTo>
                    <a:pt x="176" y="2643"/>
                  </a:lnTo>
                  <a:lnTo>
                    <a:pt x="133" y="2658"/>
                  </a:lnTo>
                  <a:lnTo>
                    <a:pt x="129" y="2670"/>
                  </a:lnTo>
                  <a:lnTo>
                    <a:pt x="125" y="2686"/>
                  </a:lnTo>
                  <a:lnTo>
                    <a:pt x="125" y="2698"/>
                  </a:lnTo>
                  <a:lnTo>
                    <a:pt x="125" y="2709"/>
                  </a:lnTo>
                  <a:lnTo>
                    <a:pt x="129" y="2725"/>
                  </a:lnTo>
                  <a:lnTo>
                    <a:pt x="133" y="2737"/>
                  </a:lnTo>
                  <a:lnTo>
                    <a:pt x="137" y="2748"/>
                  </a:lnTo>
                  <a:lnTo>
                    <a:pt x="145" y="2760"/>
                  </a:lnTo>
                  <a:lnTo>
                    <a:pt x="148" y="2768"/>
                  </a:lnTo>
                  <a:lnTo>
                    <a:pt x="156" y="2776"/>
                  </a:lnTo>
                  <a:lnTo>
                    <a:pt x="168" y="2784"/>
                  </a:lnTo>
                  <a:lnTo>
                    <a:pt x="176" y="2788"/>
                  </a:lnTo>
                  <a:lnTo>
                    <a:pt x="188" y="2791"/>
                  </a:lnTo>
                  <a:lnTo>
                    <a:pt x="203" y="2795"/>
                  </a:lnTo>
                  <a:lnTo>
                    <a:pt x="215" y="2795"/>
                  </a:lnTo>
                  <a:lnTo>
                    <a:pt x="227" y="2791"/>
                  </a:lnTo>
                  <a:lnTo>
                    <a:pt x="250" y="2780"/>
                  </a:lnTo>
                  <a:lnTo>
                    <a:pt x="270" y="2768"/>
                  </a:lnTo>
                  <a:lnTo>
                    <a:pt x="293" y="2760"/>
                  </a:lnTo>
                  <a:lnTo>
                    <a:pt x="317" y="2752"/>
                  </a:lnTo>
                  <a:lnTo>
                    <a:pt x="340" y="2748"/>
                  </a:lnTo>
                  <a:lnTo>
                    <a:pt x="364" y="2741"/>
                  </a:lnTo>
                  <a:lnTo>
                    <a:pt x="387" y="2733"/>
                  </a:lnTo>
                  <a:lnTo>
                    <a:pt x="411" y="2725"/>
                  </a:lnTo>
                  <a:lnTo>
                    <a:pt x="415" y="2744"/>
                  </a:lnTo>
                  <a:lnTo>
                    <a:pt x="422" y="2764"/>
                  </a:lnTo>
                  <a:lnTo>
                    <a:pt x="430" y="2784"/>
                  </a:lnTo>
                  <a:lnTo>
                    <a:pt x="438" y="2803"/>
                  </a:lnTo>
                  <a:lnTo>
                    <a:pt x="446" y="2823"/>
                  </a:lnTo>
                  <a:lnTo>
                    <a:pt x="462" y="2838"/>
                  </a:lnTo>
                  <a:lnTo>
                    <a:pt x="477" y="2854"/>
                  </a:lnTo>
                  <a:lnTo>
                    <a:pt x="497" y="2862"/>
                  </a:lnTo>
                  <a:lnTo>
                    <a:pt x="509" y="2932"/>
                  </a:lnTo>
                  <a:lnTo>
                    <a:pt x="512" y="2940"/>
                  </a:lnTo>
                  <a:lnTo>
                    <a:pt x="516" y="2944"/>
                  </a:lnTo>
                  <a:lnTo>
                    <a:pt x="524" y="2952"/>
                  </a:lnTo>
                  <a:lnTo>
                    <a:pt x="532" y="2956"/>
                  </a:lnTo>
                  <a:lnTo>
                    <a:pt x="544" y="2960"/>
                  </a:lnTo>
                  <a:lnTo>
                    <a:pt x="552" y="2963"/>
                  </a:lnTo>
                  <a:lnTo>
                    <a:pt x="563" y="2967"/>
                  </a:lnTo>
                  <a:lnTo>
                    <a:pt x="575" y="2971"/>
                  </a:lnTo>
                  <a:lnTo>
                    <a:pt x="575" y="2971"/>
                  </a:lnTo>
                  <a:lnTo>
                    <a:pt x="579" y="2971"/>
                  </a:lnTo>
                  <a:lnTo>
                    <a:pt x="579" y="2971"/>
                  </a:lnTo>
                  <a:lnTo>
                    <a:pt x="583" y="2971"/>
                  </a:lnTo>
                  <a:lnTo>
                    <a:pt x="587" y="2971"/>
                  </a:lnTo>
                  <a:lnTo>
                    <a:pt x="591" y="2967"/>
                  </a:lnTo>
                  <a:lnTo>
                    <a:pt x="591" y="2967"/>
                  </a:lnTo>
                  <a:lnTo>
                    <a:pt x="591" y="2967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88960" y="714240"/>
              <a:ext cx="618516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</a:rPr>
                <a:t>.1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we have </a:t>
              </a:r>
              <a:r>
                <a:rPr b="1" i="1" lang="en-US" sz="3200" spc="-1" strike="noStrike">
                  <a:solidFill>
                    <a:srgbClr val="ff5050"/>
                  </a:solidFill>
                  <a:latin typeface="Times New Roman"/>
                </a:rPr>
                <a:t>some</a:t>
              </a: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 evid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</a:rPr>
                <a:t>.0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we have </a:t>
              </a:r>
              <a:r>
                <a:rPr b="1" i="1" lang="en-US" sz="3200" spc="-1" strike="noStrike">
                  <a:solidFill>
                    <a:srgbClr val="ff5050"/>
                  </a:solidFill>
                  <a:latin typeface="Times New Roman"/>
                </a:rPr>
                <a:t>stron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evid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.01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e have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 very strong </a:t>
              </a: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eviden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5050"/>
                  </a:solidFill>
                  <a:latin typeface="Times New Roman"/>
                </a:rPr>
                <a:t>.00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e have </a:t>
              </a: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extremely stron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evidence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at 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 not tru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6" name="" descr=""/>
          <p:cNvPicPr/>
          <p:nvPr/>
        </p:nvPicPr>
        <p:blipFill>
          <a:blip r:embed="rId1"/>
          <a:srcRect l="23001" t="14887" r="17001" b="26170"/>
          <a:stretch/>
        </p:blipFill>
        <p:spPr>
          <a:xfrm>
            <a:off x="38160" y="2693880"/>
            <a:ext cx="4572000" cy="3907080"/>
          </a:xfrm>
          <a:prstGeom prst="rect">
            <a:avLst/>
          </a:prstGeom>
          <a:ln w="0">
            <a:noFill/>
          </a:ln>
        </p:spPr>
      </p:pic>
      <p:sp>
        <p:nvSpPr>
          <p:cNvPr id="1367" name=""/>
          <p:cNvSpPr/>
          <p:nvPr/>
        </p:nvSpPr>
        <p:spPr>
          <a:xfrm>
            <a:off x="5133960" y="2900520"/>
            <a:ext cx="3543480" cy="520560"/>
          </a:xfrm>
          <a:prstGeom prst="rect">
            <a:avLst/>
          </a:prstGeom>
          <a:gradFill rotWithShape="0">
            <a:gsLst>
              <a:gs pos="0">
                <a:srgbClr val="fbfefd"/>
              </a:gs>
              <a:gs pos="100000">
                <a:srgbClr val="afffe4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value is .00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724280" y="3933720"/>
            <a:ext cx="4133880" cy="3201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afffe4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have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                                    very strong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 conclude that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ulatio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e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s greater than $400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990880" y="5051520"/>
            <a:ext cx="1363680" cy="3920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4F9C-0BCD-45F3-B017-0755169E270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 txBox="1"/>
          <p:nvPr/>
        </p:nvSpPr>
        <p:spPr>
          <a:xfrm>
            <a:off x="1362240" y="295200"/>
            <a:ext cx="64195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Tests concerning Propor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1371" name=""/>
          <p:cNvSpPr/>
          <p:nvPr/>
        </p:nvSpPr>
        <p:spPr>
          <a:xfrm>
            <a:off x="3886200" y="1114560"/>
            <a:ext cx="4753080" cy="222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fraction</a:t>
            </a:r>
            <a:r>
              <a:rPr b="1" i="1" lang="en-US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ercentag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indicat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part of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ulation or s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ving a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particular trait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42880" y="1082520"/>
            <a:ext cx="31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A Prop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71760" y="3695760"/>
            <a:ext cx="31406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denoted by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found b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38120" y="37479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Sample </a:t>
            </a: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Propor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1566000" y="5030640"/>
            <a:ext cx="6009480" cy="905400"/>
            <a:chOff x="1566000" y="5030640"/>
            <a:chExt cx="6009480" cy="905400"/>
          </a:xfrm>
        </p:grpSpPr>
        <p:sp>
          <p:nvSpPr>
            <p:cNvPr id="1376" name=""/>
            <p:cNvSpPr/>
            <p:nvPr/>
          </p:nvSpPr>
          <p:spPr>
            <a:xfrm>
              <a:off x="2178000" y="5473440"/>
              <a:ext cx="5397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910040" y="5524200"/>
              <a:ext cx="1146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00"/>
                  </a:solidFill>
                  <a:latin typeface="Times New Roman"/>
                </a:rPr>
                <a:t>sampled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580920" y="5524200"/>
              <a:ext cx="1210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8000"/>
                  </a:solidFill>
                  <a:latin typeface="Times New Roman"/>
                </a:rPr>
                <a:t>Number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469200" y="5030640"/>
              <a:ext cx="974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sampl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92880" y="50306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535360" y="5030640"/>
              <a:ext cx="7750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in th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57960" y="50306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98520" y="5030640"/>
              <a:ext cx="1319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successes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21120" y="5030640"/>
              <a:ext cx="860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560040" y="5030640"/>
              <a:ext cx="287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of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22280" y="5030640"/>
              <a:ext cx="1210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3300"/>
                  </a:solidFill>
                  <a:latin typeface="Times New Roman"/>
                </a:rPr>
                <a:t>Number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821600" y="520992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566000" y="50511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2027160" y="6149880"/>
            <a:ext cx="4951440" cy="365400"/>
          </a:xfrm>
          <a:custGeom>
            <a:avLst/>
            <a:gdLst/>
            <a:ahLst/>
            <a:rect l="l" t="t" r="r" b="b"/>
            <a:pathLst>
              <a:path w="1714" h="425">
                <a:moveTo>
                  <a:pt x="0" y="167"/>
                </a:moveTo>
                <a:lnTo>
                  <a:pt x="0" y="169"/>
                </a:lnTo>
                <a:lnTo>
                  <a:pt x="4" y="173"/>
                </a:lnTo>
                <a:lnTo>
                  <a:pt x="10" y="180"/>
                </a:lnTo>
                <a:lnTo>
                  <a:pt x="19" y="188"/>
                </a:lnTo>
                <a:lnTo>
                  <a:pt x="33" y="197"/>
                </a:lnTo>
                <a:lnTo>
                  <a:pt x="50" y="209"/>
                </a:lnTo>
                <a:lnTo>
                  <a:pt x="73" y="219"/>
                </a:lnTo>
                <a:lnTo>
                  <a:pt x="102" y="228"/>
                </a:lnTo>
                <a:lnTo>
                  <a:pt x="136" y="236"/>
                </a:lnTo>
                <a:lnTo>
                  <a:pt x="178" y="241"/>
                </a:lnTo>
                <a:lnTo>
                  <a:pt x="228" y="243"/>
                </a:lnTo>
                <a:lnTo>
                  <a:pt x="286" y="243"/>
                </a:lnTo>
                <a:lnTo>
                  <a:pt x="353" y="240"/>
                </a:lnTo>
                <a:lnTo>
                  <a:pt x="389" y="236"/>
                </a:lnTo>
                <a:lnTo>
                  <a:pt x="430" y="230"/>
                </a:lnTo>
                <a:lnTo>
                  <a:pt x="472" y="224"/>
                </a:lnTo>
                <a:lnTo>
                  <a:pt x="516" y="217"/>
                </a:lnTo>
                <a:lnTo>
                  <a:pt x="562" y="207"/>
                </a:lnTo>
                <a:lnTo>
                  <a:pt x="612" y="197"/>
                </a:lnTo>
                <a:lnTo>
                  <a:pt x="702" y="175"/>
                </a:lnTo>
                <a:lnTo>
                  <a:pt x="798" y="146"/>
                </a:lnTo>
                <a:lnTo>
                  <a:pt x="898" y="113"/>
                </a:lnTo>
                <a:lnTo>
                  <a:pt x="999" y="79"/>
                </a:lnTo>
                <a:lnTo>
                  <a:pt x="1105" y="48"/>
                </a:lnTo>
                <a:lnTo>
                  <a:pt x="1212" y="21"/>
                </a:lnTo>
                <a:lnTo>
                  <a:pt x="1319" y="6"/>
                </a:lnTo>
                <a:lnTo>
                  <a:pt x="1373" y="0"/>
                </a:lnTo>
                <a:lnTo>
                  <a:pt x="1427" y="0"/>
                </a:lnTo>
                <a:lnTo>
                  <a:pt x="1459" y="2"/>
                </a:lnTo>
                <a:lnTo>
                  <a:pt x="1490" y="8"/>
                </a:lnTo>
                <a:lnTo>
                  <a:pt x="1548" y="25"/>
                </a:lnTo>
                <a:lnTo>
                  <a:pt x="1596" y="48"/>
                </a:lnTo>
                <a:lnTo>
                  <a:pt x="1636" y="77"/>
                </a:lnTo>
                <a:lnTo>
                  <a:pt x="1668" y="108"/>
                </a:lnTo>
                <a:lnTo>
                  <a:pt x="1693" y="140"/>
                </a:lnTo>
                <a:lnTo>
                  <a:pt x="1709" y="171"/>
                </a:lnTo>
                <a:lnTo>
                  <a:pt x="1714" y="199"/>
                </a:lnTo>
                <a:lnTo>
                  <a:pt x="1711" y="228"/>
                </a:lnTo>
                <a:lnTo>
                  <a:pt x="1699" y="263"/>
                </a:lnTo>
                <a:lnTo>
                  <a:pt x="1678" y="299"/>
                </a:lnTo>
                <a:lnTo>
                  <a:pt x="1665" y="318"/>
                </a:lnTo>
                <a:lnTo>
                  <a:pt x="1647" y="337"/>
                </a:lnTo>
                <a:lnTo>
                  <a:pt x="1628" y="354"/>
                </a:lnTo>
                <a:lnTo>
                  <a:pt x="1605" y="372"/>
                </a:lnTo>
                <a:lnTo>
                  <a:pt x="1580" y="385"/>
                </a:lnTo>
                <a:lnTo>
                  <a:pt x="1551" y="398"/>
                </a:lnTo>
                <a:lnTo>
                  <a:pt x="1519" y="410"/>
                </a:lnTo>
                <a:lnTo>
                  <a:pt x="1480" y="418"/>
                </a:lnTo>
                <a:lnTo>
                  <a:pt x="1440" y="423"/>
                </a:lnTo>
                <a:lnTo>
                  <a:pt x="1396" y="425"/>
                </a:lnTo>
                <a:lnTo>
                  <a:pt x="1350" y="425"/>
                </a:lnTo>
                <a:lnTo>
                  <a:pt x="1310" y="421"/>
                </a:lnTo>
                <a:lnTo>
                  <a:pt x="1273" y="416"/>
                </a:lnTo>
                <a:lnTo>
                  <a:pt x="1239" y="406"/>
                </a:lnTo>
                <a:lnTo>
                  <a:pt x="1208" y="396"/>
                </a:lnTo>
                <a:lnTo>
                  <a:pt x="1181" y="385"/>
                </a:lnTo>
                <a:lnTo>
                  <a:pt x="1158" y="374"/>
                </a:lnTo>
                <a:lnTo>
                  <a:pt x="1137" y="360"/>
                </a:lnTo>
                <a:lnTo>
                  <a:pt x="1107" y="333"/>
                </a:lnTo>
                <a:lnTo>
                  <a:pt x="1084" y="307"/>
                </a:lnTo>
                <a:lnTo>
                  <a:pt x="1072" y="284"/>
                </a:lnTo>
                <a:lnTo>
                  <a:pt x="1068" y="266"/>
                </a:lnTo>
                <a:lnTo>
                  <a:pt x="1076" y="278"/>
                </a:lnTo>
                <a:lnTo>
                  <a:pt x="1085" y="289"/>
                </a:lnTo>
                <a:lnTo>
                  <a:pt x="1112" y="307"/>
                </a:lnTo>
                <a:lnTo>
                  <a:pt x="1147" y="320"/>
                </a:lnTo>
                <a:lnTo>
                  <a:pt x="1189" y="331"/>
                </a:lnTo>
                <a:lnTo>
                  <a:pt x="1237" y="339"/>
                </a:lnTo>
                <a:lnTo>
                  <a:pt x="1287" y="345"/>
                </a:lnTo>
                <a:lnTo>
                  <a:pt x="1390" y="347"/>
                </a:lnTo>
                <a:lnTo>
                  <a:pt x="1446" y="343"/>
                </a:lnTo>
                <a:lnTo>
                  <a:pt x="1502" y="335"/>
                </a:lnTo>
                <a:lnTo>
                  <a:pt x="1551" y="324"/>
                </a:lnTo>
                <a:lnTo>
                  <a:pt x="1597" y="307"/>
                </a:lnTo>
                <a:lnTo>
                  <a:pt x="1636" y="287"/>
                </a:lnTo>
                <a:lnTo>
                  <a:pt x="1651" y="274"/>
                </a:lnTo>
                <a:lnTo>
                  <a:pt x="1674" y="247"/>
                </a:lnTo>
                <a:lnTo>
                  <a:pt x="1680" y="232"/>
                </a:lnTo>
                <a:lnTo>
                  <a:pt x="1684" y="215"/>
                </a:lnTo>
                <a:lnTo>
                  <a:pt x="1684" y="197"/>
                </a:lnTo>
                <a:lnTo>
                  <a:pt x="1674" y="165"/>
                </a:lnTo>
                <a:lnTo>
                  <a:pt x="1659" y="140"/>
                </a:lnTo>
                <a:lnTo>
                  <a:pt x="1636" y="121"/>
                </a:lnTo>
                <a:lnTo>
                  <a:pt x="1605" y="108"/>
                </a:lnTo>
                <a:lnTo>
                  <a:pt x="1569" y="98"/>
                </a:lnTo>
                <a:lnTo>
                  <a:pt x="1523" y="94"/>
                </a:lnTo>
                <a:lnTo>
                  <a:pt x="1471" y="96"/>
                </a:lnTo>
                <a:lnTo>
                  <a:pt x="1410" y="102"/>
                </a:lnTo>
                <a:lnTo>
                  <a:pt x="1375" y="108"/>
                </a:lnTo>
                <a:lnTo>
                  <a:pt x="1335" y="117"/>
                </a:lnTo>
                <a:lnTo>
                  <a:pt x="1293" y="131"/>
                </a:lnTo>
                <a:lnTo>
                  <a:pt x="1247" y="144"/>
                </a:lnTo>
                <a:lnTo>
                  <a:pt x="1199" y="161"/>
                </a:lnTo>
                <a:lnTo>
                  <a:pt x="1149" y="178"/>
                </a:lnTo>
                <a:lnTo>
                  <a:pt x="1097" y="196"/>
                </a:lnTo>
                <a:lnTo>
                  <a:pt x="1045" y="215"/>
                </a:lnTo>
                <a:lnTo>
                  <a:pt x="938" y="253"/>
                </a:lnTo>
                <a:lnTo>
                  <a:pt x="830" y="287"/>
                </a:lnTo>
                <a:lnTo>
                  <a:pt x="729" y="316"/>
                </a:lnTo>
                <a:lnTo>
                  <a:pt x="681" y="328"/>
                </a:lnTo>
                <a:lnTo>
                  <a:pt x="635" y="335"/>
                </a:lnTo>
                <a:lnTo>
                  <a:pt x="552" y="345"/>
                </a:lnTo>
                <a:lnTo>
                  <a:pt x="476" y="349"/>
                </a:lnTo>
                <a:lnTo>
                  <a:pt x="407" y="349"/>
                </a:lnTo>
                <a:lnTo>
                  <a:pt x="343" y="343"/>
                </a:lnTo>
                <a:lnTo>
                  <a:pt x="286" y="333"/>
                </a:lnTo>
                <a:lnTo>
                  <a:pt x="234" y="322"/>
                </a:lnTo>
                <a:lnTo>
                  <a:pt x="190" y="307"/>
                </a:lnTo>
                <a:lnTo>
                  <a:pt x="150" y="291"/>
                </a:lnTo>
                <a:lnTo>
                  <a:pt x="115" y="274"/>
                </a:lnTo>
                <a:lnTo>
                  <a:pt x="84" y="255"/>
                </a:lnTo>
                <a:lnTo>
                  <a:pt x="59" y="238"/>
                </a:lnTo>
                <a:lnTo>
                  <a:pt x="40" y="220"/>
                </a:lnTo>
                <a:lnTo>
                  <a:pt x="23" y="203"/>
                </a:lnTo>
                <a:lnTo>
                  <a:pt x="12" y="190"/>
                </a:lnTo>
                <a:lnTo>
                  <a:pt x="4" y="178"/>
                </a:lnTo>
                <a:lnTo>
                  <a:pt x="0" y="171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0D58-73F2-4FB0-8BFB-DCD876DA61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5" dur="75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5" dur="75"/>
                                        <p:tgtEl>
                                          <p:spTgt spid="1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0" dur="75"/>
                                        <p:tgtEl>
                                          <p:spTgt spid="1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825"/>
                            </p:stCondLst>
                            <p:childTnLst>
                              <p:par>
                                <p:cTn id="1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7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371600" y="324000"/>
            <a:ext cx="6477120" cy="990360"/>
          </a:xfrm>
          <a:prstGeom prst="rect">
            <a:avLst/>
          </a:prstGeom>
          <a:gradFill rotWithShape="0">
            <a:gsLst>
              <a:gs pos="0">
                <a:srgbClr val="ffe9e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30844" dir="71377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ing a                                                   Single Population Propor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81080" y="14479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Test Statistic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 be us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1486080" y="3554280"/>
            <a:ext cx="118080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whe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1393" name=""/>
          <p:cNvSpPr/>
          <p:nvPr/>
        </p:nvSpPr>
        <p:spPr>
          <a:xfrm>
            <a:off x="2057400" y="4237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symbol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057400" y="4846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symbol for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 popul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ro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1295280" y="4724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1295280" y="4038480"/>
            <a:ext cx="1066680" cy="750600"/>
            <a:chOff x="1295280" y="4038480"/>
            <a:chExt cx="1066680" cy="750600"/>
          </a:xfrm>
        </p:grpSpPr>
        <p:sp>
          <p:nvSpPr>
            <p:cNvPr id="1397" name=""/>
            <p:cNvSpPr/>
            <p:nvPr/>
          </p:nvSpPr>
          <p:spPr>
            <a:xfrm>
              <a:off x="1295280" y="41464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295280" y="40384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^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895320" y="533412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1" i="1" lang="en-US" sz="3600" spc="-1" strike="noStrike" baseline="-25000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523880" y="553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resents a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popul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roportion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2739960" y="1855800"/>
            <a:ext cx="3692520" cy="2165400"/>
            <a:chOff x="2739960" y="1855800"/>
            <a:chExt cx="3692520" cy="2165400"/>
          </a:xfrm>
        </p:grpSpPr>
        <p:sp>
          <p:nvSpPr>
            <p:cNvPr id="1402" name=""/>
            <p:cNvSpPr/>
            <p:nvPr/>
          </p:nvSpPr>
          <p:spPr>
            <a:xfrm>
              <a:off x="3981600" y="3348000"/>
              <a:ext cx="2341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3624120" y="3427200"/>
              <a:ext cx="68400" cy="363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92520" y="3438360"/>
              <a:ext cx="95400" cy="45432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3801960" y="2654280"/>
              <a:ext cx="136800" cy="123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38760" y="2654280"/>
              <a:ext cx="243828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556080" y="2567160"/>
              <a:ext cx="28764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019840" y="3411360"/>
              <a:ext cx="282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60560" y="27036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8000"/>
                  </a:solidFill>
                  <a:latin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95360" y="27036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8000"/>
                  </a:solidFill>
                  <a:latin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185800" y="19130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8000"/>
                  </a:solidFill>
                  <a:latin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41240" y="19130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66ff"/>
                  </a:solidFill>
                  <a:latin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39960" y="224460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105600" y="270360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776120" y="270360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40400" y="270360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86240" y="187632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ff"/>
                  </a:solidFill>
                  <a:latin typeface="Times New Roman"/>
                </a:rPr>
                <a:t>ˆ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44600" y="2962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79400" y="29624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70200" y="21700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150520" y="264636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776120" y="185580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045600" y="2187720"/>
              <a:ext cx="404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1190520" y="6086520"/>
            <a:ext cx="6781680" cy="304560"/>
            <a:chOff x="1190520" y="6086520"/>
            <a:chExt cx="6781680" cy="304560"/>
          </a:xfrm>
        </p:grpSpPr>
        <p:sp>
          <p:nvSpPr>
            <p:cNvPr id="1425" name=""/>
            <p:cNvSpPr/>
            <p:nvPr/>
          </p:nvSpPr>
          <p:spPr>
            <a:xfrm>
              <a:off x="1190520" y="6187680"/>
              <a:ext cx="6781680" cy="101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38080" y="6086520"/>
              <a:ext cx="190800" cy="30456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cc9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6C90-BF70-4304-AA34-C86C4F84A4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1" dur="75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2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533520" y="1371600"/>
            <a:ext cx="8229600" cy="452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past,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5%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mail order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solicitatio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 certain charity                     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resulted in a financial con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1371600" y="6172200"/>
            <a:ext cx="6400440" cy="228600"/>
            <a:chOff x="1371600" y="6172200"/>
            <a:chExt cx="6400440" cy="228600"/>
          </a:xfrm>
        </p:grpSpPr>
        <p:sp>
          <p:nvSpPr>
            <p:cNvPr id="1429" name=""/>
            <p:cNvSpPr/>
            <p:nvPr/>
          </p:nvSpPr>
          <p:spPr>
            <a:xfrm flipV="1">
              <a:off x="1371600" y="6225840"/>
              <a:ext cx="6400440" cy="10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0" name="" descr=""/>
            <p:cNvPicPr/>
            <p:nvPr/>
          </p:nvPicPr>
          <p:blipFill>
            <a:blip r:embed="rId3"/>
            <a:stretch/>
          </p:blipFill>
          <p:spPr>
            <a:xfrm>
              <a:off x="4465080" y="617220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1" name="" descr=""/>
          <p:cNvPicPr/>
          <p:nvPr/>
        </p:nvPicPr>
        <p:blipFill>
          <a:blip r:embed="rId4"/>
          <a:stretch/>
        </p:blipFill>
        <p:spPr>
          <a:xfrm>
            <a:off x="4133880" y="371520"/>
            <a:ext cx="895320" cy="766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32" name=""/>
          <p:cNvSpPr/>
          <p:nvPr/>
        </p:nvSpPr>
        <p:spPr>
          <a:xfrm>
            <a:off x="595440" y="4419720"/>
            <a:ext cx="8091360" cy="155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05 significance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can it be concluded that the                           new letter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is more effec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33520" y="28195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new solicitation letter that has been drafted is sent to a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sample of 2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eople and                     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45 respond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th a con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22C2-A7BB-46B1-8718-D76059A61CF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2666880" y="200160"/>
            <a:ext cx="381024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182880" y="1104840"/>
            <a:ext cx="5856120" cy="487800"/>
            <a:chOff x="182880" y="1104840"/>
            <a:chExt cx="5856120" cy="487800"/>
          </a:xfrm>
        </p:grpSpPr>
        <p:sp>
          <p:nvSpPr>
            <p:cNvPr id="1436" name=""/>
            <p:cNvSpPr/>
            <p:nvPr/>
          </p:nvSpPr>
          <p:spPr>
            <a:xfrm>
              <a:off x="1596960" y="119376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2880" y="11048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202680" y="1990800"/>
            <a:ext cx="5750280" cy="459720"/>
            <a:chOff x="202680" y="1990800"/>
            <a:chExt cx="5750280" cy="459720"/>
          </a:xfrm>
        </p:grpSpPr>
        <p:sp>
          <p:nvSpPr>
            <p:cNvPr id="1439" name=""/>
            <p:cNvSpPr/>
            <p:nvPr/>
          </p:nvSpPr>
          <p:spPr>
            <a:xfrm>
              <a:off x="1600200" y="201924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02680" y="19908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202680" y="2556000"/>
            <a:ext cx="4255200" cy="459720"/>
            <a:chOff x="202680" y="2556000"/>
            <a:chExt cx="4255200" cy="459720"/>
          </a:xfrm>
        </p:grpSpPr>
        <p:sp>
          <p:nvSpPr>
            <p:cNvPr id="1442" name=""/>
            <p:cNvSpPr/>
            <p:nvPr/>
          </p:nvSpPr>
          <p:spPr>
            <a:xfrm>
              <a:off x="1585800" y="260496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02680" y="25560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231120" y="3200400"/>
            <a:ext cx="4126680" cy="459720"/>
            <a:chOff x="231120" y="3200400"/>
            <a:chExt cx="4126680" cy="459720"/>
          </a:xfrm>
        </p:grpSpPr>
        <p:sp>
          <p:nvSpPr>
            <p:cNvPr id="1445" name=""/>
            <p:cNvSpPr/>
            <p:nvPr/>
          </p:nvSpPr>
          <p:spPr>
            <a:xfrm>
              <a:off x="1595520" y="322884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1120" y="32004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202680" y="3762360"/>
            <a:ext cx="4340880" cy="719640"/>
            <a:chOff x="202680" y="3762360"/>
            <a:chExt cx="4340880" cy="719640"/>
          </a:xfrm>
        </p:grpSpPr>
        <p:sp>
          <p:nvSpPr>
            <p:cNvPr id="1448" name=""/>
            <p:cNvSpPr/>
            <p:nvPr/>
          </p:nvSpPr>
          <p:spPr>
            <a:xfrm>
              <a:off x="1571760" y="3778200"/>
              <a:ext cx="2971800" cy="703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mpute the test statistic and make a 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02680" y="376236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6505560" y="1905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81360" y="2546280"/>
            <a:ext cx="4276800" cy="456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e will use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71360" y="5727600"/>
            <a:ext cx="87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ject the hypothes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More than 15% are                               responding with a pledge, therefore, the new letter is more effecti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380880" y="5724360"/>
            <a:ext cx="18478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Conclusion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1454" name=""/>
          <p:cNvSpPr/>
          <p:nvPr/>
        </p:nvSpPr>
        <p:spPr>
          <a:xfrm>
            <a:off x="6168960" y="1501920"/>
            <a:ext cx="212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.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165720" y="93816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.1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581360" y="3154320"/>
            <a:ext cx="3867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6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1466280" y="4537080"/>
            <a:ext cx="2308320" cy="1235160"/>
            <a:chOff x="1466280" y="4537080"/>
            <a:chExt cx="2308320" cy="1235160"/>
          </a:xfrm>
        </p:grpSpPr>
        <p:sp>
          <p:nvSpPr>
            <p:cNvPr id="1458" name=""/>
            <p:cNvSpPr/>
            <p:nvPr/>
          </p:nvSpPr>
          <p:spPr>
            <a:xfrm>
              <a:off x="3097800" y="45766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467440" y="45766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466280" y="474192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01280" y="45514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293560" y="5461200"/>
              <a:ext cx="1369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2053800" y="5331960"/>
              <a:ext cx="52200" cy="25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6600" y="5321160"/>
              <a:ext cx="70920" cy="3128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217600" y="5100480"/>
              <a:ext cx="29520" cy="4330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247480" y="5070600"/>
              <a:ext cx="14428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004840" y="5022720"/>
              <a:ext cx="17697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63440" y="534528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83560" y="50212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378520" y="50212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501360" y="50212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697840" y="50212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4880" y="502128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410920" y="50403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975040" y="498168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789280" y="453708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83000" y="475920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3918600" y="4365720"/>
            <a:ext cx="2262960" cy="1451520"/>
            <a:chOff x="3918600" y="4365720"/>
            <a:chExt cx="2262960" cy="1451520"/>
          </a:xfrm>
        </p:grpSpPr>
        <p:grpSp>
          <p:nvGrpSpPr>
            <p:cNvPr id="1479" name=""/>
            <p:cNvGrpSpPr/>
            <p:nvPr/>
          </p:nvGrpSpPr>
          <p:grpSpPr>
            <a:xfrm>
              <a:off x="4289400" y="5054760"/>
              <a:ext cx="1863360" cy="450720"/>
              <a:chOff x="4289400" y="5054760"/>
              <a:chExt cx="1863360" cy="450720"/>
            </a:xfrm>
          </p:grpSpPr>
          <p:sp>
            <p:nvSpPr>
              <p:cNvPr id="1480" name=""/>
              <p:cNvSpPr/>
              <p:nvPr/>
            </p:nvSpPr>
            <p:spPr>
              <a:xfrm>
                <a:off x="4550400" y="5057640"/>
                <a:ext cx="1602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1" name=""/>
              <p:cNvGrpSpPr/>
              <p:nvPr/>
            </p:nvGrpSpPr>
            <p:grpSpPr>
              <a:xfrm>
                <a:off x="4289400" y="5054760"/>
                <a:ext cx="260640" cy="450720"/>
                <a:chOff x="4289400" y="5054760"/>
                <a:chExt cx="260640" cy="450720"/>
              </a:xfrm>
            </p:grpSpPr>
            <p:sp>
              <p:nvSpPr>
                <p:cNvPr id="1482" name=""/>
                <p:cNvSpPr/>
                <p:nvPr/>
              </p:nvSpPr>
              <p:spPr>
                <a:xfrm flipV="1">
                  <a:off x="4289400" y="5335920"/>
                  <a:ext cx="56160" cy="133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345560" y="5340600"/>
                  <a:ext cx="79200" cy="164520"/>
                </a:xfrm>
                <a:prstGeom prst="line">
                  <a:avLst/>
                </a:prstGeom>
                <a:ln w="41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V="1">
                  <a:off x="4435560" y="5054760"/>
                  <a:ext cx="114480" cy="45072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5" name=""/>
            <p:cNvGrpSpPr/>
            <p:nvPr/>
          </p:nvGrpSpPr>
          <p:grpSpPr>
            <a:xfrm>
              <a:off x="4580640" y="5025960"/>
              <a:ext cx="1600920" cy="791280"/>
              <a:chOff x="4580640" y="5025960"/>
              <a:chExt cx="1600920" cy="791280"/>
            </a:xfrm>
          </p:grpSpPr>
          <p:sp>
            <p:nvSpPr>
              <p:cNvPr id="1486" name=""/>
              <p:cNvSpPr/>
              <p:nvPr/>
            </p:nvSpPr>
            <p:spPr>
              <a:xfrm>
                <a:off x="4600440" y="5449680"/>
                <a:ext cx="1581120" cy="158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224320" y="5405400"/>
                <a:ext cx="517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041520" y="5067360"/>
                <a:ext cx="1152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639040" y="5067360"/>
                <a:ext cx="3452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537160" y="5067360"/>
                <a:ext cx="860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098320" y="5067360"/>
                <a:ext cx="172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996800" y="5067360"/>
                <a:ext cx="1152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580640" y="5067360"/>
                <a:ext cx="4305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.1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318280" y="5025960"/>
                <a:ext cx="1152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4581360" y="4365720"/>
              <a:ext cx="1430280" cy="751680"/>
              <a:chOff x="4581360" y="4365720"/>
              <a:chExt cx="1430280" cy="751680"/>
            </a:xfrm>
          </p:grpSpPr>
          <p:sp>
            <p:nvSpPr>
              <p:cNvPr id="1496" name=""/>
              <p:cNvSpPr/>
              <p:nvPr/>
            </p:nvSpPr>
            <p:spPr>
              <a:xfrm>
                <a:off x="4581360" y="4746960"/>
                <a:ext cx="6699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643640" y="4705560"/>
                <a:ext cx="51732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00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678920" y="4365720"/>
                <a:ext cx="3452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9" name=""/>
              <p:cNvGrpSpPr/>
              <p:nvPr/>
            </p:nvGrpSpPr>
            <p:grpSpPr>
              <a:xfrm>
                <a:off x="5330880" y="4497480"/>
                <a:ext cx="680760" cy="453240"/>
                <a:chOff x="5330880" y="4497480"/>
                <a:chExt cx="680760" cy="45324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5666400" y="4538880"/>
                  <a:ext cx="34524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5564160" y="4538880"/>
                  <a:ext cx="8604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5330880" y="4497480"/>
                  <a:ext cx="11520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3" name=""/>
            <p:cNvSpPr/>
            <p:nvPr/>
          </p:nvSpPr>
          <p:spPr>
            <a:xfrm>
              <a:off x="3918600" y="481500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4" name=""/>
          <p:cNvGrpSpPr/>
          <p:nvPr/>
        </p:nvGrpSpPr>
        <p:grpSpPr>
          <a:xfrm>
            <a:off x="6585120" y="4702320"/>
            <a:ext cx="1582560" cy="725400"/>
            <a:chOff x="6585120" y="4702320"/>
            <a:chExt cx="1582560" cy="725400"/>
          </a:xfrm>
        </p:grpSpPr>
        <p:sp>
          <p:nvSpPr>
            <p:cNvPr id="1505" name=""/>
            <p:cNvSpPr/>
            <p:nvPr/>
          </p:nvSpPr>
          <p:spPr>
            <a:xfrm>
              <a:off x="6585120" y="4702320"/>
              <a:ext cx="1582560" cy="725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85328" dir="6993903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6700680" y="4813920"/>
              <a:ext cx="1197720" cy="546840"/>
              <a:chOff x="6700680" y="4813920"/>
              <a:chExt cx="1197720" cy="546840"/>
            </a:xfrm>
          </p:grpSpPr>
          <p:sp>
            <p:nvSpPr>
              <p:cNvPr id="1507" name=""/>
              <p:cNvSpPr/>
              <p:nvPr/>
            </p:nvSpPr>
            <p:spPr>
              <a:xfrm>
                <a:off x="7477200" y="4857840"/>
                <a:ext cx="4212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97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357320" y="4857840"/>
                <a:ext cx="1058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121880" y="4857840"/>
                <a:ext cx="2109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700680" y="4813920"/>
                <a:ext cx="3344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E2FA-F909-462B-ACF2-482804B7C8D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0" dur="75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3" dur="75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6" dur="75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1514520" y="171360"/>
            <a:ext cx="6477120" cy="137376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pothesi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ting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cedure and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nfidence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terva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85800" y="1828800"/>
            <a:ext cx="160020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5050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028880" y="3362400"/>
            <a:ext cx="70005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r decision rule can be rest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ject H</a:t>
            </a:r>
            <a:r>
              <a:rPr b="1" lang="en-US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i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es 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(1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confidence interv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estimate of the population me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computed from the sampl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3425760" y="1682640"/>
            <a:ext cx="2309760" cy="1152360"/>
            <a:chOff x="3425760" y="1682640"/>
            <a:chExt cx="2309760" cy="1152360"/>
          </a:xfrm>
        </p:grpSpPr>
        <p:sp>
          <p:nvSpPr>
            <p:cNvPr id="1515" name=""/>
            <p:cNvSpPr txBox="1"/>
            <p:nvPr/>
          </p:nvSpPr>
          <p:spPr>
            <a:xfrm>
              <a:off x="3425760" y="1682640"/>
              <a:ext cx="2309760" cy="52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Impact"/>
                </a:rPr>
                <a:t>Two-Tai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4016160" y="2205720"/>
              <a:ext cx="1322640" cy="629280"/>
              <a:chOff x="4016160" y="2205720"/>
              <a:chExt cx="1322640" cy="629280"/>
            </a:xfrm>
          </p:grpSpPr>
          <p:sp>
            <p:nvSpPr>
              <p:cNvPr id="1517" name=""/>
              <p:cNvSpPr/>
              <p:nvPr/>
            </p:nvSpPr>
            <p:spPr>
              <a:xfrm>
                <a:off x="4894200" y="2565000"/>
                <a:ext cx="11880" cy="264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448880" y="2570400"/>
                <a:ext cx="11520" cy="2646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686480" y="2212560"/>
                <a:ext cx="21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4194720" y="2205720"/>
                <a:ext cx="963720" cy="618120"/>
                <a:chOff x="4194720" y="2205720"/>
                <a:chExt cx="963720" cy="618120"/>
              </a:xfrm>
            </p:grpSpPr>
            <p:sp>
              <p:nvSpPr>
                <p:cNvPr id="1521" name=""/>
                <p:cNvSpPr/>
                <p:nvPr/>
              </p:nvSpPr>
              <p:spPr>
                <a:xfrm flipV="1">
                  <a:off x="4194720" y="2820240"/>
                  <a:ext cx="1764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V="1">
                  <a:off x="4212360" y="2812680"/>
                  <a:ext cx="18000" cy="7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V="1">
                  <a:off x="4230360" y="2809080"/>
                  <a:ext cx="1332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4243680" y="280152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19"/>
                      </a:moveTo>
                      <a:lnTo>
                        <a:pt x="1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V="1">
                  <a:off x="4261680" y="2790000"/>
                  <a:ext cx="1332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275360" y="2779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29"/>
                      </a:moveTo>
                      <a:lnTo>
                        <a:pt x="1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V="1">
                  <a:off x="4293000" y="2767680"/>
                  <a:ext cx="1368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V="1">
                  <a:off x="4306680" y="2752560"/>
                  <a:ext cx="17640" cy="1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V="1">
                  <a:off x="4324320" y="2738520"/>
                  <a:ext cx="18000" cy="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V="1">
                  <a:off x="4342320" y="2719440"/>
                  <a:ext cx="13320" cy="1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4356000" y="2697120"/>
                  <a:ext cx="18000" cy="2232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5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V="1">
                  <a:off x="4374000" y="2674800"/>
                  <a:ext cx="13320" cy="22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387320" y="2648520"/>
                  <a:ext cx="17280" cy="2592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68"/>
                      </a:moveTo>
                      <a:lnTo>
                        <a:pt x="19" y="39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V="1">
                  <a:off x="4404960" y="261900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V="1">
                  <a:off x="4418640" y="2589480"/>
                  <a:ext cx="1800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V="1">
                  <a:off x="4436640" y="255888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V="1">
                  <a:off x="4454640" y="252576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4467960" y="2489040"/>
                  <a:ext cx="18000" cy="3672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96"/>
                      </a:moveTo>
                      <a:lnTo>
                        <a:pt x="19" y="48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V="1">
                  <a:off x="4486320" y="245556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4499640" y="2422080"/>
                  <a:ext cx="17280" cy="3348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87"/>
                      </a:moveTo>
                      <a:lnTo>
                        <a:pt x="19" y="38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V="1">
                  <a:off x="4517280" y="2387880"/>
                  <a:ext cx="13320" cy="33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V="1">
                  <a:off x="4530600" y="2355120"/>
                  <a:ext cx="1800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V="1">
                  <a:off x="4548600" y="232452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V="1">
                  <a:off x="4566960" y="229536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4580280" y="226908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68"/>
                      </a:moveTo>
                      <a:lnTo>
                        <a:pt x="19" y="29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4598280" y="2246760"/>
                  <a:ext cx="13320" cy="2196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58"/>
                      </a:moveTo>
                      <a:lnTo>
                        <a:pt x="9" y="2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4611960" y="2231640"/>
                  <a:ext cx="17640" cy="1476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39"/>
                      </a:moveTo>
                      <a:lnTo>
                        <a:pt x="19" y="2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4629600" y="2217240"/>
                  <a:ext cx="13320" cy="1440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38"/>
                      </a:moveTo>
                      <a:lnTo>
                        <a:pt x="10" y="19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V="1">
                  <a:off x="4642920" y="2208960"/>
                  <a:ext cx="18000" cy="75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4660920" y="2205720"/>
                  <a:ext cx="18000" cy="3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4678920" y="2206080"/>
                  <a:ext cx="13320" cy="32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692600" y="220932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39" h="20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9" y="2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4710600" y="2217240"/>
                  <a:ext cx="13320" cy="1440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29" y="3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4723920" y="2231640"/>
                  <a:ext cx="17640" cy="14760"/>
                </a:xfrm>
                <a:custGeom>
                  <a:avLst/>
                  <a:gdLst/>
                  <a:ahLst/>
                  <a:rect l="l" t="t" r="r" b="b"/>
                  <a:pathLst>
                    <a:path w="38" h="39">
                      <a:moveTo>
                        <a:pt x="0" y="0"/>
                      </a:moveTo>
                      <a:lnTo>
                        <a:pt x="19" y="20"/>
                      </a:lnTo>
                      <a:lnTo>
                        <a:pt x="38" y="3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4741560" y="2246760"/>
                  <a:ext cx="13320" cy="21960"/>
                </a:xfrm>
                <a:custGeom>
                  <a:avLst/>
                  <a:gdLst/>
                  <a:ahLst/>
                  <a:rect l="l" t="t" r="r" b="b"/>
                  <a:pathLst>
                    <a:path w="29" h="58">
                      <a:moveTo>
                        <a:pt x="0" y="0"/>
                      </a:moveTo>
                      <a:lnTo>
                        <a:pt x="10" y="29"/>
                      </a:lnTo>
                      <a:lnTo>
                        <a:pt x="2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4755240" y="226908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39" h="6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4773240" y="229536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4786560" y="232488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4804560" y="2355120"/>
                  <a:ext cx="1800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4822920" y="2388240"/>
                  <a:ext cx="13320" cy="334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4836240" y="2422080"/>
                  <a:ext cx="17640" cy="33480"/>
                </a:xfrm>
                <a:custGeom>
                  <a:avLst/>
                  <a:gdLst/>
                  <a:ahLst/>
                  <a:rect l="l" t="t" r="r" b="b"/>
                  <a:pathLst>
                    <a:path w="38" h="87">
                      <a:moveTo>
                        <a:pt x="0" y="0"/>
                      </a:moveTo>
                      <a:lnTo>
                        <a:pt x="19" y="38"/>
                      </a:lnTo>
                      <a:lnTo>
                        <a:pt x="38" y="87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4853880" y="245556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4867200" y="2489040"/>
                  <a:ext cx="18000" cy="36720"/>
                </a:xfrm>
                <a:custGeom>
                  <a:avLst/>
                  <a:gdLst/>
                  <a:ahLst/>
                  <a:rect l="l" t="t" r="r" b="b"/>
                  <a:pathLst>
                    <a:path w="39" h="96">
                      <a:moveTo>
                        <a:pt x="0" y="0"/>
                      </a:moveTo>
                      <a:lnTo>
                        <a:pt x="20" y="48"/>
                      </a:lnTo>
                      <a:lnTo>
                        <a:pt x="39" y="96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4885560" y="2525760"/>
                  <a:ext cx="13320" cy="331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4898880" y="2559240"/>
                  <a:ext cx="18000" cy="29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4916880" y="2589480"/>
                  <a:ext cx="1800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4934880" y="2619000"/>
                  <a:ext cx="13320" cy="29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948560" y="2648520"/>
                  <a:ext cx="17640" cy="25920"/>
                </a:xfrm>
                <a:custGeom>
                  <a:avLst/>
                  <a:gdLst/>
                  <a:ahLst/>
                  <a:rect l="l" t="t" r="r" b="b"/>
                  <a:pathLst>
                    <a:path w="38" h="68">
                      <a:moveTo>
                        <a:pt x="0" y="0"/>
                      </a:moveTo>
                      <a:lnTo>
                        <a:pt x="19" y="39"/>
                      </a:lnTo>
                      <a:lnTo>
                        <a:pt x="38" y="6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4966200" y="2674800"/>
                  <a:ext cx="13320" cy="223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4979520" y="2697120"/>
                  <a:ext cx="18000" cy="22320"/>
                </a:xfrm>
                <a:custGeom>
                  <a:avLst/>
                  <a:gdLst/>
                  <a:ahLst/>
                  <a:rect l="l" t="t" r="r" b="b"/>
                  <a:pathLst>
                    <a:path w="39" h="58">
                      <a:moveTo>
                        <a:pt x="0" y="0"/>
                      </a:moveTo>
                      <a:lnTo>
                        <a:pt x="20" y="29"/>
                      </a:lnTo>
                      <a:lnTo>
                        <a:pt x="39" y="58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997520" y="2719440"/>
                  <a:ext cx="13320" cy="1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5011200" y="2738520"/>
                  <a:ext cx="18000" cy="144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5029200" y="2752920"/>
                  <a:ext cx="17280" cy="147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5046840" y="2768040"/>
                  <a:ext cx="1368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5060520" y="2779200"/>
                  <a:ext cx="17280" cy="11160"/>
                </a:xfrm>
                <a:custGeom>
                  <a:avLst/>
                  <a:gdLst/>
                  <a:ahLst/>
                  <a:rect l="l" t="t" r="r" b="b"/>
                  <a:pathLst>
                    <a:path w="38" h="29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38" y="2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5078160" y="2790360"/>
                  <a:ext cx="13320" cy="111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5091840" y="280152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39" h="19">
                      <a:moveTo>
                        <a:pt x="0" y="0"/>
                      </a:moveTo>
                      <a:lnTo>
                        <a:pt x="20" y="10"/>
                      </a:lnTo>
                      <a:lnTo>
                        <a:pt x="39" y="19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5109840" y="2809080"/>
                  <a:ext cx="1332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5123160" y="2812680"/>
                  <a:ext cx="18000" cy="72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5141160" y="2820240"/>
                  <a:ext cx="17280" cy="36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1" name=""/>
              <p:cNvSpPr/>
              <p:nvPr/>
            </p:nvSpPr>
            <p:spPr>
              <a:xfrm>
                <a:off x="4016160" y="2827440"/>
                <a:ext cx="1322640" cy="3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2" name=""/>
          <p:cNvSpPr/>
          <p:nvPr/>
        </p:nvSpPr>
        <p:spPr>
          <a:xfrm>
            <a:off x="4139640" y="2895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1371600" y="6172200"/>
            <a:ext cx="6400440" cy="228600"/>
            <a:chOff x="1371600" y="6172200"/>
            <a:chExt cx="6400440" cy="228600"/>
          </a:xfrm>
        </p:grpSpPr>
        <p:sp>
          <p:nvSpPr>
            <p:cNvPr id="1584" name=""/>
            <p:cNvSpPr/>
            <p:nvPr/>
          </p:nvSpPr>
          <p:spPr>
            <a:xfrm flipV="1">
              <a:off x="1371600" y="6225840"/>
              <a:ext cx="640044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5" name="" descr=""/>
            <p:cNvPicPr/>
            <p:nvPr/>
          </p:nvPicPr>
          <p:blipFill>
            <a:blip r:embed="rId2"/>
            <a:stretch/>
          </p:blipFill>
          <p:spPr>
            <a:xfrm>
              <a:off x="4465080" y="617220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9979-FDB4-400A-934B-A2CAA774BC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500"/>
                            </p:stCondLst>
                            <p:childTnLst>
                              <p:par>
                                <p:cTn id="1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6" name=""/>
          <p:cNvGrpSpPr/>
          <p:nvPr/>
        </p:nvGrpSpPr>
        <p:grpSpPr>
          <a:xfrm>
            <a:off x="738360" y="1180800"/>
            <a:ext cx="7894080" cy="5321160"/>
            <a:chOff x="738360" y="1180800"/>
            <a:chExt cx="7894080" cy="5321160"/>
          </a:xfrm>
        </p:grpSpPr>
        <p:sp>
          <p:nvSpPr>
            <p:cNvPr id="1587" name=""/>
            <p:cNvSpPr/>
            <p:nvPr/>
          </p:nvSpPr>
          <p:spPr>
            <a:xfrm>
              <a:off x="779040" y="1181160"/>
              <a:ext cx="7824240" cy="530460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38360" y="6104160"/>
              <a:ext cx="7837920" cy="171720"/>
            </a:xfrm>
            <a:custGeom>
              <a:avLst/>
              <a:gdLst/>
              <a:ahLst/>
              <a:rect l="l" t="t" r="r" b="b"/>
              <a:pathLst>
                <a:path w="4604" h="91">
                  <a:moveTo>
                    <a:pt x="4604" y="91"/>
                  </a:moveTo>
                  <a:lnTo>
                    <a:pt x="4408" y="0"/>
                  </a:lnTo>
                  <a:lnTo>
                    <a:pt x="204" y="0"/>
                  </a:lnTo>
                  <a:lnTo>
                    <a:pt x="157" y="27"/>
                  </a:lnTo>
                  <a:lnTo>
                    <a:pt x="0" y="91"/>
                  </a:lnTo>
                  <a:lnTo>
                    <a:pt x="460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005480" y="6226200"/>
              <a:ext cx="731700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38360" y="6293880"/>
              <a:ext cx="7892280" cy="1918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8360" y="6485760"/>
              <a:ext cx="7878960" cy="16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51680" y="6293880"/>
              <a:ext cx="7878960" cy="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79040" y="1181160"/>
              <a:ext cx="7824240" cy="1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65360" y="1181160"/>
              <a:ext cx="13680" cy="5304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589960" y="1200600"/>
              <a:ext cx="13320" cy="530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8096040" y="1181160"/>
              <a:ext cx="507240" cy="3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096400" y="6068160"/>
              <a:ext cx="520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779040" y="6068160"/>
              <a:ext cx="5205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flipV="1">
              <a:off x="804600" y="1180800"/>
              <a:ext cx="46800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05480" y="1373040"/>
              <a:ext cx="7317000" cy="4852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19160" y="1373040"/>
              <a:ext cx="731664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05480" y="1373040"/>
              <a:ext cx="13680" cy="4852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22480" y="1390680"/>
              <a:ext cx="13320" cy="4835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38360" y="6293880"/>
              <a:ext cx="13320" cy="191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630640" y="6311880"/>
              <a:ext cx="1800" cy="190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7801920" y="6260040"/>
              <a:ext cx="267120" cy="1440"/>
            </a:xfrm>
            <a:prstGeom prst="line">
              <a:avLst/>
            </a:prstGeom>
            <a:ln w="12600">
              <a:solidFill>
                <a:srgbClr val="ffff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07240" y="6138360"/>
              <a:ext cx="668880" cy="12168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407240" y="6138360"/>
              <a:ext cx="668880" cy="12168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lnTo>
                    <a:pt x="393" y="64"/>
                  </a:lnTo>
                  <a:lnTo>
                    <a:pt x="393" y="64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407240" y="6068160"/>
              <a:ext cx="655200" cy="121680"/>
            </a:xfrm>
            <a:prstGeom prst="rect">
              <a:avLst/>
            </a:prstGeom>
            <a:solidFill>
              <a:srgbClr val="c2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20920" y="6068160"/>
              <a:ext cx="64188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407240" y="6068160"/>
              <a:ext cx="13320" cy="1033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062800" y="6068160"/>
              <a:ext cx="1440" cy="1216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07240" y="6190200"/>
              <a:ext cx="65520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4534200" y="4591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6054840" y="3083040"/>
            <a:ext cx="490320" cy="99360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714920" y="1514520"/>
            <a:ext cx="9360" cy="3048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819760" y="1681200"/>
            <a:ext cx="1955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jection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71440" y="2535120"/>
            <a:ext cx="2401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=  Confidence Interval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5619600" y="3357720"/>
            <a:ext cx="888480" cy="1255680"/>
            <a:chOff x="5619600" y="3357720"/>
            <a:chExt cx="888480" cy="1255680"/>
          </a:xfrm>
        </p:grpSpPr>
        <p:sp>
          <p:nvSpPr>
            <p:cNvPr id="1620" name=""/>
            <p:cNvSpPr/>
            <p:nvPr/>
          </p:nvSpPr>
          <p:spPr>
            <a:xfrm>
              <a:off x="5619600" y="335772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306840" y="443556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757840" y="359100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98080" y="351180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46960" y="339084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03920" y="376740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855040" y="381636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917680" y="394020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25320" y="407988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027120" y="413064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79600" y="406080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162480" y="425772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090120" y="418140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261120" y="437220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190200" y="432144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79200" y="446400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06920" y="455292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5572080" y="3276720"/>
            <a:ext cx="47520" cy="1323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3638520" y="533520"/>
            <a:ext cx="213372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Two-Ta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9" name=""/>
          <p:cNvSpPr/>
          <p:nvPr/>
        </p:nvSpPr>
        <p:spPr>
          <a:xfrm>
            <a:off x="3753000" y="3305160"/>
            <a:ext cx="0" cy="1238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3753000" y="3943080"/>
            <a:ext cx="1828800" cy="1908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2819880" y="3357720"/>
            <a:ext cx="888120" cy="1255680"/>
            <a:chOff x="2819880" y="3357720"/>
            <a:chExt cx="888120" cy="1255680"/>
          </a:xfrm>
        </p:grpSpPr>
        <p:sp>
          <p:nvSpPr>
            <p:cNvPr id="1642" name=""/>
            <p:cNvSpPr/>
            <p:nvPr/>
          </p:nvSpPr>
          <p:spPr>
            <a:xfrm>
              <a:off x="3708000" y="335772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96280" y="443556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3557880" y="359100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3611520" y="351180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656160" y="339084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523680" y="376740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472920" y="381636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09920" y="394020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302280" y="407988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276360" y="413064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348360" y="406080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165120" y="425772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213360" y="418140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066840" y="437220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125880" y="432144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2939400" y="446400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819880" y="455292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2679840" y="1479600"/>
            <a:ext cx="3987360" cy="3090600"/>
            <a:chOff x="2679840" y="1479600"/>
            <a:chExt cx="3987360" cy="3090600"/>
          </a:xfrm>
        </p:grpSpPr>
        <p:sp>
          <p:nvSpPr>
            <p:cNvPr id="1660" name=""/>
            <p:cNvSpPr/>
            <p:nvPr/>
          </p:nvSpPr>
          <p:spPr>
            <a:xfrm flipV="1">
              <a:off x="2679840" y="4550760"/>
              <a:ext cx="7272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2752560" y="451404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2827440" y="449496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83240" y="445860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2957760" y="440208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13560" y="434664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3086280" y="4290480"/>
              <a:ext cx="572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3143520" y="4215600"/>
              <a:ext cx="7272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216600" y="414288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3291480" y="404856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46920" y="393660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3421800" y="382500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477600" y="3693960"/>
              <a:ext cx="7236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49960" y="3545640"/>
              <a:ext cx="5544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605760" y="339732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3680640" y="324684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3755160" y="307980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810960" y="289476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3885840" y="272736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941280" y="2559960"/>
              <a:ext cx="7236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4014000" y="239184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4069440" y="222480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4144320" y="207432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4219200" y="1926000"/>
              <a:ext cx="5544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274640" y="179532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349520" y="168372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05320" y="160884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78400" y="1535400"/>
              <a:ext cx="5508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4533480" y="1496880"/>
              <a:ext cx="74520" cy="38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4608360" y="1479600"/>
              <a:ext cx="7452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682880" y="1479600"/>
              <a:ext cx="5544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738680" y="1496880"/>
              <a:ext cx="7452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13560" y="1535400"/>
              <a:ext cx="554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69000" y="160884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42080" y="168372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97880" y="179532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072760" y="1926000"/>
              <a:ext cx="5508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27840" y="207468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202720" y="222480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277240" y="239220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333040" y="2559960"/>
              <a:ext cx="727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06120" y="272736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61560" y="289476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536440" y="307980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592240" y="32472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66760" y="339732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41640" y="3546000"/>
              <a:ext cx="5508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97080" y="3693960"/>
              <a:ext cx="727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869800" y="382500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25600" y="393660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000480" y="404856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055920" y="414288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30800" y="4215600"/>
              <a:ext cx="7236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203520" y="4290840"/>
              <a:ext cx="5760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261120" y="434664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33840" y="440244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89640" y="445860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464160" y="449532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519960" y="451440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594840" y="4551120"/>
              <a:ext cx="7236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0" name=""/>
          <p:cNvSpPr/>
          <p:nvPr/>
        </p:nvSpPr>
        <p:spPr>
          <a:xfrm>
            <a:off x="1943280" y="4584600"/>
            <a:ext cx="5467320" cy="1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3752640" y="3083040"/>
            <a:ext cx="2811240" cy="6699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9000" y="4802040"/>
            <a:ext cx="75250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Do not reject H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when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alls                                                   </a:t>
            </a:r>
            <a:r>
              <a:rPr b="1" i="1" lang="en-US" sz="2800" spc="-1" strike="noStrike">
                <a:solidFill>
                  <a:srgbClr val="00ffff"/>
                </a:solidFill>
                <a:latin typeface="Times New Roman"/>
              </a:rPr>
              <a:t>in the confidence interval est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C0D3-FE1D-47BB-BE79-1DDA50EF38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6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6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0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3068640" y="247680"/>
            <a:ext cx="3003840" cy="1298160"/>
            <a:chOff x="3068640" y="247680"/>
            <a:chExt cx="3003840" cy="1298160"/>
          </a:xfrm>
        </p:grpSpPr>
        <p:sp>
          <p:nvSpPr>
            <p:cNvPr id="78" name=""/>
            <p:cNvSpPr/>
            <p:nvPr/>
          </p:nvSpPr>
          <p:spPr>
            <a:xfrm>
              <a:off x="3068640" y="354600"/>
              <a:ext cx="761760" cy="119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74040" y="2476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85840" y="1492200"/>
            <a:ext cx="24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28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statement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a population distribution such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8680" y="4724280"/>
            <a:ext cx="1451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09600" y="4238640"/>
            <a:ext cx="6705360" cy="228600"/>
            <a:chOff x="1209600" y="4238640"/>
            <a:chExt cx="6705360" cy="228600"/>
          </a:xfrm>
        </p:grpSpPr>
        <p:sp>
          <p:nvSpPr>
            <p:cNvPr id="84" name=""/>
            <p:cNvSpPr/>
            <p:nvPr/>
          </p:nvSpPr>
          <p:spPr>
            <a:xfrm flipV="1">
              <a:off x="1209600" y="4291920"/>
              <a:ext cx="670536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4450320" y="4238640"/>
              <a:ext cx="48672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2286000" y="4505400"/>
            <a:ext cx="5533920" cy="947160"/>
          </a:xfrm>
          <a:prstGeom prst="rect">
            <a:avLst/>
          </a:prstGeom>
          <a:gradFill rotWithShape="0">
            <a:gsLst>
              <a:gs pos="0">
                <a:srgbClr val="afffe4"/>
              </a:gs>
              <a:gs pos="50000">
                <a:srgbClr val="fefefe"/>
              </a:gs>
              <a:gs pos="100000">
                <a:srgbClr val="afffe4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ean monthly income for all systems analysts is $356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0320" y="5530680"/>
            <a:ext cx="6105600" cy="947160"/>
          </a:xfrm>
          <a:prstGeom prst="rect">
            <a:avLst/>
          </a:prstGeom>
          <a:gradFill rotWithShape="0">
            <a:gsLst>
              <a:gs pos="0">
                <a:srgbClr val="afffe4"/>
              </a:gs>
              <a:gs pos="50000">
                <a:srgbClr val="fefefe"/>
              </a:gs>
              <a:gs pos="100000">
                <a:srgbClr val="afffe4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% of all customers buying coffee at Tim Horton’s return within a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360" y="252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) it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ith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e or false, but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ver bo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000" y="2967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i) with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ull knowled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opulation 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it is possible to identify, with certainty,                                   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ether it is true or fal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7BC6-D40B-4497-9CC4-B812C17375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9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1352520" y="152280"/>
            <a:ext cx="6553080" cy="155628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        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pothesi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sting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ocedure and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fidenc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terval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04920" y="2009880"/>
            <a:ext cx="160020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5050"/>
              </a:gs>
            </a:gsLst>
            <a:lin ang="5400000"/>
          </a:gra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943360" y="2000160"/>
            <a:ext cx="32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wer-tailed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14280" y="2933640"/>
            <a:ext cx="851544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r decision rule can be restated a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not reject H</a:t>
            </a:r>
            <a:r>
              <a:rPr b="1" lang="en-US" sz="3200" spc="-1" strike="noStrike" u="sng" baseline="-25000">
                <a:solidFill>
                  <a:srgbClr val="ff5050"/>
                </a:solidFill>
                <a:uFillTx/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i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ess than or equ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the (1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upper confidence bou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computed from the sampl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1371600" y="6172200"/>
            <a:ext cx="6400440" cy="228600"/>
            <a:chOff x="1371600" y="6172200"/>
            <a:chExt cx="6400440" cy="228600"/>
          </a:xfrm>
        </p:grpSpPr>
        <p:sp>
          <p:nvSpPr>
            <p:cNvPr id="1728" name=""/>
            <p:cNvSpPr/>
            <p:nvPr/>
          </p:nvSpPr>
          <p:spPr>
            <a:xfrm flipV="1">
              <a:off x="1371600" y="6225840"/>
              <a:ext cx="640044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9" name="" descr=""/>
            <p:cNvPicPr/>
            <p:nvPr/>
          </p:nvPicPr>
          <p:blipFill>
            <a:blip r:embed="rId2"/>
            <a:stretch/>
          </p:blipFill>
          <p:spPr>
            <a:xfrm>
              <a:off x="4465080" y="617220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DE35-2870-4911-A802-F108DCA78B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1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500"/>
                                        <p:tgtEl>
                                          <p:spTgt spid="1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3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0" name=""/>
          <p:cNvGrpSpPr/>
          <p:nvPr/>
        </p:nvGrpSpPr>
        <p:grpSpPr>
          <a:xfrm>
            <a:off x="785880" y="781200"/>
            <a:ext cx="7894080" cy="5828760"/>
            <a:chOff x="785880" y="781200"/>
            <a:chExt cx="7894080" cy="5828760"/>
          </a:xfrm>
        </p:grpSpPr>
        <p:sp>
          <p:nvSpPr>
            <p:cNvPr id="1731" name=""/>
            <p:cNvSpPr/>
            <p:nvPr/>
          </p:nvSpPr>
          <p:spPr>
            <a:xfrm>
              <a:off x="826560" y="781200"/>
              <a:ext cx="7824240" cy="58111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85880" y="6174000"/>
              <a:ext cx="7837920" cy="188280"/>
            </a:xfrm>
            <a:custGeom>
              <a:avLst/>
              <a:gdLst/>
              <a:ahLst/>
              <a:rect l="l" t="t" r="r" b="b"/>
              <a:pathLst>
                <a:path w="4604" h="91">
                  <a:moveTo>
                    <a:pt x="4604" y="91"/>
                  </a:moveTo>
                  <a:lnTo>
                    <a:pt x="4408" y="0"/>
                  </a:lnTo>
                  <a:lnTo>
                    <a:pt x="204" y="0"/>
                  </a:lnTo>
                  <a:lnTo>
                    <a:pt x="157" y="27"/>
                  </a:lnTo>
                  <a:lnTo>
                    <a:pt x="0" y="91"/>
                  </a:lnTo>
                  <a:lnTo>
                    <a:pt x="460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053000" y="6307560"/>
              <a:ext cx="731700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85880" y="6382080"/>
              <a:ext cx="7892280" cy="2098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85880" y="6592320"/>
              <a:ext cx="7878960" cy="1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99200" y="6382080"/>
              <a:ext cx="7878960" cy="2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26560" y="781200"/>
              <a:ext cx="7824240" cy="21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12880" y="781200"/>
              <a:ext cx="13680" cy="5811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637480" y="802440"/>
              <a:ext cx="13320" cy="580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8143560" y="781200"/>
              <a:ext cx="50724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143920" y="613476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826560" y="613476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 flipV="1">
              <a:off x="852120" y="781200"/>
              <a:ext cx="468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53000" y="991080"/>
              <a:ext cx="7317000" cy="531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66680" y="991080"/>
              <a:ext cx="731664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053000" y="991080"/>
              <a:ext cx="13680" cy="531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370000" y="1010880"/>
              <a:ext cx="13320" cy="529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85880" y="6382080"/>
              <a:ext cx="13320" cy="209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78160" y="6401520"/>
              <a:ext cx="1800" cy="208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7849440" y="6345000"/>
              <a:ext cx="267120" cy="1440"/>
            </a:xfrm>
            <a:prstGeom prst="line">
              <a:avLst/>
            </a:prstGeom>
            <a:ln w="12600">
              <a:solidFill>
                <a:srgbClr val="ffff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454760" y="621144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454760" y="621144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lnTo>
                    <a:pt x="393" y="64"/>
                  </a:lnTo>
                  <a:lnTo>
                    <a:pt x="393" y="64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454760" y="6134760"/>
              <a:ext cx="655200" cy="133560"/>
            </a:xfrm>
            <a:prstGeom prst="rect">
              <a:avLst/>
            </a:prstGeom>
            <a:solidFill>
              <a:srgbClr val="c2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68440" y="6134760"/>
              <a:ext cx="64188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4760" y="6134760"/>
              <a:ext cx="13320" cy="11340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110320" y="6134760"/>
              <a:ext cx="1440" cy="13356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54760" y="6268320"/>
              <a:ext cx="65520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8" name=""/>
          <p:cNvSpPr txBox="1"/>
          <p:nvPr/>
        </p:nvSpPr>
        <p:spPr>
          <a:xfrm>
            <a:off x="3681360" y="1486080"/>
            <a:ext cx="210492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Lower-Tail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762120" y="2284920"/>
            <a:ext cx="8143920" cy="82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667400" y="5505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811600" y="4930920"/>
            <a:ext cx="376200" cy="24120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848120" y="2409840"/>
            <a:ext cx="9720" cy="3048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257480" y="3633840"/>
            <a:ext cx="195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jection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419120" y="2273400"/>
            <a:ext cx="247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nfidence level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705640" y="4172040"/>
            <a:ext cx="47520" cy="1323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410080" y="5676840"/>
            <a:ext cx="2343240" cy="459720"/>
          </a:xfrm>
          <a:prstGeom prst="rect">
            <a:avLst/>
          </a:prstGeom>
          <a:gradFill rotWithShape="0">
            <a:gsLst>
              <a:gs pos="0">
                <a:srgbClr val="751746"/>
              </a:gs>
              <a:gs pos="50000">
                <a:srgbClr val="ff3399"/>
              </a:gs>
              <a:gs pos="100000">
                <a:srgbClr val="75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Do not 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1352520" y="152280"/>
            <a:ext cx="6553080" cy="119016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        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pothesi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sting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ocedure and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fidenc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terval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2927880" y="4210200"/>
            <a:ext cx="967320" cy="1274400"/>
            <a:chOff x="2927880" y="4210200"/>
            <a:chExt cx="967320" cy="1274400"/>
          </a:xfrm>
        </p:grpSpPr>
        <p:sp>
          <p:nvSpPr>
            <p:cNvPr id="1769" name=""/>
            <p:cNvSpPr/>
            <p:nvPr/>
          </p:nvSpPr>
          <p:spPr>
            <a:xfrm>
              <a:off x="3895200" y="4210200"/>
              <a:ext cx="0" cy="12373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20120" y="5304240"/>
              <a:ext cx="26640" cy="167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3731760" y="4446720"/>
              <a:ext cx="12960" cy="10249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3790080" y="4366440"/>
              <a:ext cx="19800" cy="11052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3838680" y="4243680"/>
              <a:ext cx="26640" cy="121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694320" y="4626000"/>
              <a:ext cx="0" cy="8247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638880" y="4675680"/>
              <a:ext cx="0" cy="7736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3570840" y="4801320"/>
              <a:ext cx="0" cy="644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53480" y="4943160"/>
              <a:ext cx="0" cy="52848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3425040" y="4994640"/>
              <a:ext cx="26280" cy="477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03520" y="4923720"/>
              <a:ext cx="0" cy="5479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04080" y="5123520"/>
              <a:ext cx="0" cy="348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3356280" y="5046120"/>
              <a:ext cx="26640" cy="4255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197160" y="5239800"/>
              <a:ext cx="0" cy="2318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3261240" y="5188320"/>
              <a:ext cx="12960" cy="2833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3058200" y="5333040"/>
              <a:ext cx="10080" cy="1515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927880" y="5423400"/>
              <a:ext cx="110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2076480" y="5479920"/>
            <a:ext cx="5467320" cy="1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H="1">
            <a:off x="3886200" y="4152960"/>
            <a:ext cx="47520" cy="1314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3895560" y="4809960"/>
            <a:ext cx="1828800" cy="38160"/>
          </a:xfrm>
          <a:prstGeom prst="line">
            <a:avLst/>
          </a:prstGeom>
          <a:ln w="7632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2813040" y="2374920"/>
            <a:ext cx="3987360" cy="3090600"/>
            <a:chOff x="2813040" y="2374920"/>
            <a:chExt cx="3987360" cy="3090600"/>
          </a:xfrm>
        </p:grpSpPr>
        <p:sp>
          <p:nvSpPr>
            <p:cNvPr id="1790" name=""/>
            <p:cNvSpPr/>
            <p:nvPr/>
          </p:nvSpPr>
          <p:spPr>
            <a:xfrm flipV="1">
              <a:off x="2813040" y="5446080"/>
              <a:ext cx="7272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2885760" y="540936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2960640" y="539028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016440" y="535392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3090960" y="529740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46760" y="524196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219480" y="5185800"/>
              <a:ext cx="572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3276720" y="5110920"/>
              <a:ext cx="7272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V="1">
              <a:off x="3349800" y="503820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424680" y="494388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480120" y="483192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3555000" y="472032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610800" y="4589280"/>
              <a:ext cx="7236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3683160" y="4440960"/>
              <a:ext cx="5544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3738960" y="429264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3813840" y="414216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3888360" y="39751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944160" y="379008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019040" y="36226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074480" y="3455280"/>
              <a:ext cx="7236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4147200" y="328716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4202640" y="31201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4277520" y="296964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4352400" y="2821320"/>
              <a:ext cx="5544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07840" y="269064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482720" y="25790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538520" y="25041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611600" y="2430720"/>
              <a:ext cx="5508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4666680" y="2392200"/>
              <a:ext cx="74520" cy="38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4741560" y="2374920"/>
              <a:ext cx="7452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816080" y="2374920"/>
              <a:ext cx="5544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871880" y="2392200"/>
              <a:ext cx="7452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946760" y="2430720"/>
              <a:ext cx="554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2200" y="25041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075280" y="25790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31080" y="269064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05960" y="2821320"/>
              <a:ext cx="5508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1040" y="29700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335920" y="31201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10440" y="328752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66240" y="3455280"/>
              <a:ext cx="727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539320" y="36226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594760" y="379008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669640" y="39751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725440" y="414252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799960" y="429264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874840" y="4441320"/>
              <a:ext cx="5508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30280" y="4589280"/>
              <a:ext cx="727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003000" y="472032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058800" y="483192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133680" y="4943880"/>
              <a:ext cx="55440" cy="94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89120" y="503820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264000" y="5110920"/>
              <a:ext cx="7236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336720" y="5186160"/>
              <a:ext cx="5760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394320" y="524196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67040" y="529776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22840" y="535392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97360" y="539064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653160" y="540972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728040" y="5446440"/>
              <a:ext cx="7236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41C6-D71E-4A55-8816-4172F3E7583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7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8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1352520" y="152280"/>
            <a:ext cx="6553080" cy="155628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           H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pothesi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sting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ocedure and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fidenc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terval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04920" y="1866960"/>
            <a:ext cx="160020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5050"/>
              </a:gs>
            </a:gsLst>
            <a:lin ang="54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e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990880" y="185724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pper-tailed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85840" y="2990880"/>
            <a:ext cx="844380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r decision rule can be restated a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not reject H</a:t>
            </a:r>
            <a:r>
              <a:rPr b="1" lang="en-US" sz="3200" spc="-1" strike="noStrike" baseline="-25000">
                <a:solidFill>
                  <a:srgbClr val="ff5050"/>
                </a:solidFill>
                <a:latin typeface="Times New Roman"/>
              </a:rPr>
              <a:t>0 </a:t>
            </a:r>
            <a:r>
              <a:rPr b="1" lang="en-US" sz="3200" spc="-1" strike="noStrike" u="sng" baseline="-25000">
                <a:solidFill>
                  <a:srgbClr val="ff5050"/>
                </a:solidFill>
                <a:uFillTx/>
                <a:latin typeface="Times New Roman"/>
              </a:rPr>
              <a:t>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greater than or equ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the (1-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ower confidence bou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computed from the sampl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1371600" y="6172200"/>
            <a:ext cx="6400440" cy="228600"/>
            <a:chOff x="1371600" y="6172200"/>
            <a:chExt cx="6400440" cy="228600"/>
          </a:xfrm>
        </p:grpSpPr>
        <p:sp>
          <p:nvSpPr>
            <p:cNvPr id="1855" name=""/>
            <p:cNvSpPr/>
            <p:nvPr/>
          </p:nvSpPr>
          <p:spPr>
            <a:xfrm flipV="1">
              <a:off x="1371600" y="6225840"/>
              <a:ext cx="640044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6" name="" descr=""/>
            <p:cNvPicPr/>
            <p:nvPr/>
          </p:nvPicPr>
          <p:blipFill>
            <a:blip r:embed="rId2"/>
            <a:stretch/>
          </p:blipFill>
          <p:spPr>
            <a:xfrm>
              <a:off x="4465080" y="617220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8A95-0B03-40C9-8A08-6A618D810E6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1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1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8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7" name=""/>
          <p:cNvGrpSpPr/>
          <p:nvPr/>
        </p:nvGrpSpPr>
        <p:grpSpPr>
          <a:xfrm>
            <a:off x="633240" y="885960"/>
            <a:ext cx="7894440" cy="5828760"/>
            <a:chOff x="633240" y="885960"/>
            <a:chExt cx="7894440" cy="5828760"/>
          </a:xfrm>
        </p:grpSpPr>
        <p:sp>
          <p:nvSpPr>
            <p:cNvPr id="1858" name=""/>
            <p:cNvSpPr/>
            <p:nvPr/>
          </p:nvSpPr>
          <p:spPr>
            <a:xfrm>
              <a:off x="673920" y="885960"/>
              <a:ext cx="7824600" cy="58111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33240" y="6278760"/>
              <a:ext cx="7838280" cy="188280"/>
            </a:xfrm>
            <a:custGeom>
              <a:avLst/>
              <a:gdLst/>
              <a:ahLst/>
              <a:rect l="l" t="t" r="r" b="b"/>
              <a:pathLst>
                <a:path w="4604" h="91">
                  <a:moveTo>
                    <a:pt x="4604" y="91"/>
                  </a:moveTo>
                  <a:lnTo>
                    <a:pt x="4408" y="0"/>
                  </a:lnTo>
                  <a:lnTo>
                    <a:pt x="204" y="0"/>
                  </a:lnTo>
                  <a:lnTo>
                    <a:pt x="157" y="27"/>
                  </a:lnTo>
                  <a:lnTo>
                    <a:pt x="0" y="91"/>
                  </a:lnTo>
                  <a:lnTo>
                    <a:pt x="4604" y="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900360" y="6412320"/>
              <a:ext cx="731736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33240" y="6486840"/>
              <a:ext cx="7892640" cy="20988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33240" y="6697080"/>
              <a:ext cx="7879320" cy="17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46560" y="6486840"/>
              <a:ext cx="7879320" cy="2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73920" y="885960"/>
              <a:ext cx="7824600" cy="21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60240" y="885960"/>
              <a:ext cx="13680" cy="5811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485200" y="907200"/>
              <a:ext cx="13320" cy="5807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7991280" y="885960"/>
              <a:ext cx="50724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991640" y="623952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673920" y="6239520"/>
              <a:ext cx="520560" cy="24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 flipV="1">
              <a:off x="699480" y="885960"/>
              <a:ext cx="4680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00360" y="1095840"/>
              <a:ext cx="7317360" cy="531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914040" y="1095840"/>
              <a:ext cx="7317000" cy="1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900360" y="1095840"/>
              <a:ext cx="13680" cy="5316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217720" y="1115640"/>
              <a:ext cx="13320" cy="529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33240" y="6486840"/>
              <a:ext cx="13320" cy="209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525880" y="6506280"/>
              <a:ext cx="1800" cy="208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7696800" y="6449760"/>
              <a:ext cx="267120" cy="1440"/>
            </a:xfrm>
            <a:prstGeom prst="line">
              <a:avLst/>
            </a:prstGeom>
            <a:ln w="12600">
              <a:solidFill>
                <a:srgbClr val="ffff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302120" y="631620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02120" y="6316200"/>
              <a:ext cx="668880" cy="133560"/>
            </a:xfrm>
            <a:custGeom>
              <a:avLst/>
              <a:gdLst/>
              <a:ahLst/>
              <a:rect l="l" t="t" r="r" b="b"/>
              <a:pathLst>
                <a:path w="393" h="64">
                  <a:moveTo>
                    <a:pt x="393" y="64"/>
                  </a:moveTo>
                  <a:lnTo>
                    <a:pt x="377" y="0"/>
                  </a:lnTo>
                  <a:lnTo>
                    <a:pt x="23" y="0"/>
                  </a:lnTo>
                  <a:lnTo>
                    <a:pt x="0" y="64"/>
                  </a:lnTo>
                  <a:lnTo>
                    <a:pt x="393" y="64"/>
                  </a:lnTo>
                  <a:lnTo>
                    <a:pt x="393" y="64"/>
                  </a:lnTo>
                  <a:lnTo>
                    <a:pt x="393" y="64"/>
                  </a:lnTo>
                </a:path>
              </a:pathLst>
            </a:custGeom>
            <a:noFill/>
            <a:ln w="126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02120" y="6239520"/>
              <a:ext cx="655560" cy="133560"/>
            </a:xfrm>
            <a:prstGeom prst="rect">
              <a:avLst/>
            </a:prstGeom>
            <a:solidFill>
              <a:srgbClr val="c2c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15800" y="6239520"/>
              <a:ext cx="64188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02120" y="6239520"/>
              <a:ext cx="13320" cy="11340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57680" y="6239520"/>
              <a:ext cx="1440" cy="13356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302120" y="6373080"/>
              <a:ext cx="655560" cy="144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 txBox="1"/>
          <p:nvPr/>
        </p:nvSpPr>
        <p:spPr>
          <a:xfrm>
            <a:off x="3214800" y="1190520"/>
            <a:ext cx="264780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Upper-Tail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6" name=""/>
          <p:cNvSpPr/>
          <p:nvPr/>
        </p:nvSpPr>
        <p:spPr>
          <a:xfrm flipV="1">
            <a:off x="609480" y="1989720"/>
            <a:ext cx="8143920" cy="82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515120" y="521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6035400" y="4292640"/>
            <a:ext cx="623880" cy="38412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695840" y="2114640"/>
            <a:ext cx="9360" cy="304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276960" y="3081240"/>
            <a:ext cx="195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MT Symbol"/>
                <a:ea typeface="MT Symbol"/>
              </a:rPr>
              <a:t>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                               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jection </a:t>
            </a: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095480" y="2668680"/>
            <a:ext cx="2401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1- </a:t>
            </a:r>
            <a:r>
              <a:rPr b="1" lang="en-US" sz="2800" spc="-1" strike="noStrike">
                <a:solidFill>
                  <a:srgbClr val="ccec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acceptanc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5600880" y="3957480"/>
            <a:ext cx="888120" cy="1255680"/>
            <a:chOff x="5600880" y="3957480"/>
            <a:chExt cx="888120" cy="1255680"/>
          </a:xfrm>
        </p:grpSpPr>
        <p:sp>
          <p:nvSpPr>
            <p:cNvPr id="1893" name=""/>
            <p:cNvSpPr/>
            <p:nvPr/>
          </p:nvSpPr>
          <p:spPr>
            <a:xfrm>
              <a:off x="5600880" y="3957480"/>
              <a:ext cx="0" cy="121896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6288120" y="5035320"/>
              <a:ext cx="24480" cy="165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739120" y="4190760"/>
              <a:ext cx="11880" cy="100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679000" y="4111560"/>
              <a:ext cx="18360" cy="1089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628240" y="3990600"/>
              <a:ext cx="24480" cy="1194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85200" y="4367160"/>
              <a:ext cx="0" cy="8125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35960" y="4416120"/>
              <a:ext cx="0" cy="762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898960" y="4539960"/>
              <a:ext cx="0" cy="6350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006600" y="4679640"/>
              <a:ext cx="0" cy="520920"/>
            </a:xfrm>
            <a:prstGeom prst="line">
              <a:avLst/>
            </a:prstGeom>
            <a:ln w="381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008400" y="4730400"/>
              <a:ext cx="24120" cy="470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960520" y="4660560"/>
              <a:ext cx="0" cy="540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143760" y="4857480"/>
              <a:ext cx="0" cy="343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71040" y="4781160"/>
              <a:ext cx="24480" cy="41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42040" y="4971960"/>
              <a:ext cx="0" cy="2286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171120" y="4921200"/>
              <a:ext cx="11880" cy="279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360120" y="5063760"/>
              <a:ext cx="9360" cy="1494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6387840" y="5152680"/>
              <a:ext cx="101160" cy="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2660760" y="2079720"/>
            <a:ext cx="3987360" cy="3090240"/>
            <a:chOff x="2660760" y="2079720"/>
            <a:chExt cx="3987360" cy="3090240"/>
          </a:xfrm>
        </p:grpSpPr>
        <p:sp>
          <p:nvSpPr>
            <p:cNvPr id="1911" name=""/>
            <p:cNvSpPr/>
            <p:nvPr/>
          </p:nvSpPr>
          <p:spPr>
            <a:xfrm flipV="1">
              <a:off x="2660760" y="5150520"/>
              <a:ext cx="7272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2733480" y="511380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2808360" y="509472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864160" y="505836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2938680" y="500220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94480" y="494640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3067200" y="4890240"/>
              <a:ext cx="572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3124440" y="4815360"/>
              <a:ext cx="7272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3197520" y="474264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3272400" y="4647960"/>
              <a:ext cx="55440" cy="93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27840" y="453636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3402720" y="442476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458520" y="4293720"/>
              <a:ext cx="7236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V="1">
              <a:off x="3530880" y="4145400"/>
              <a:ext cx="5544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3586680" y="399708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3661560" y="38466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3736080" y="36799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91880" y="349452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3866760" y="33274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922200" y="3159720"/>
              <a:ext cx="7236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3994920" y="299160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4050360" y="28249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4125240" y="267444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200120" y="2526120"/>
              <a:ext cx="5544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255560" y="239508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330440" y="22838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386240" y="22089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459320" y="2135520"/>
              <a:ext cx="5508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4514400" y="2097000"/>
              <a:ext cx="74520" cy="381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4589280" y="2079720"/>
              <a:ext cx="7452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663800" y="2079720"/>
              <a:ext cx="55440" cy="1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719600" y="2097000"/>
              <a:ext cx="7452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794480" y="2135520"/>
              <a:ext cx="554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849920" y="2208960"/>
              <a:ext cx="7272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923000" y="2283840"/>
              <a:ext cx="554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78800" y="2395080"/>
              <a:ext cx="7452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053680" y="2526120"/>
              <a:ext cx="5508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108760" y="267480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183640" y="2824920"/>
              <a:ext cx="7452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258160" y="2991960"/>
              <a:ext cx="55440" cy="167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313960" y="3159720"/>
              <a:ext cx="727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387040" y="332748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42480" y="3494520"/>
              <a:ext cx="7452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517360" y="3679920"/>
              <a:ext cx="55440" cy="1670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573160" y="3846960"/>
              <a:ext cx="74520" cy="150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647680" y="3997080"/>
              <a:ext cx="74520" cy="148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722560" y="4145760"/>
              <a:ext cx="55080" cy="147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778000" y="4293720"/>
              <a:ext cx="727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850720" y="4424760"/>
              <a:ext cx="55440" cy="111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906520" y="4536360"/>
              <a:ext cx="7452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981400" y="4648320"/>
              <a:ext cx="55440" cy="939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036840" y="4742640"/>
              <a:ext cx="74520" cy="72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111720" y="4815360"/>
              <a:ext cx="72360" cy="74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184440" y="4890600"/>
              <a:ext cx="5760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242040" y="4946400"/>
              <a:ext cx="7236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314760" y="5002560"/>
              <a:ext cx="55440" cy="5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370560" y="5058360"/>
              <a:ext cx="7452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445080" y="5095080"/>
              <a:ext cx="5544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00880" y="5114160"/>
              <a:ext cx="74520" cy="36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575760" y="5150880"/>
              <a:ext cx="72360" cy="19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1" name=""/>
          <p:cNvSpPr/>
          <p:nvPr/>
        </p:nvSpPr>
        <p:spPr>
          <a:xfrm>
            <a:off x="1924200" y="5184720"/>
            <a:ext cx="5467320" cy="19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553000" y="3876840"/>
            <a:ext cx="47880" cy="1323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3457440" y="4514760"/>
            <a:ext cx="2114640" cy="28800"/>
          </a:xfrm>
          <a:prstGeom prst="line">
            <a:avLst/>
          </a:prstGeom>
          <a:ln w="7632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B0EE-A7A8-4378-BF77-BD7A485F21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8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2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3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500"/>
                            </p:stCondLst>
                            <p:childTnLst>
                              <p:par>
                                <p:cTn id="1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87D5A2CC-E5CD-44F1-8C07-331D922C448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838080" y="1819440"/>
            <a:ext cx="8001000" cy="2000160"/>
            <a:chOff x="838080" y="1819440"/>
            <a:chExt cx="8001000" cy="2000160"/>
          </a:xfrm>
        </p:grpSpPr>
        <p:sp>
          <p:nvSpPr>
            <p:cNvPr id="1976" name=""/>
            <p:cNvSpPr/>
            <p:nvPr/>
          </p:nvSpPr>
          <p:spPr>
            <a:xfrm>
              <a:off x="1981080" y="1819440"/>
              <a:ext cx="518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101"/>
                  </a:solidFill>
                  <a:latin typeface="Times New Roman"/>
                </a:rPr>
                <a:t>Level of Significa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38080" y="2428920"/>
              <a:ext cx="8001000" cy="8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 the probability of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rejecting the nul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hypothesi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when it is </a:t>
              </a: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actually true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.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Type I Err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8" name=""/>
            <p:cNvGrpSpPr/>
            <p:nvPr/>
          </p:nvGrpSpPr>
          <p:grpSpPr>
            <a:xfrm>
              <a:off x="1324080" y="3619440"/>
              <a:ext cx="6400440" cy="200160"/>
              <a:chOff x="1324080" y="3619440"/>
              <a:chExt cx="6400440" cy="200160"/>
            </a:xfrm>
          </p:grpSpPr>
          <p:sp>
            <p:nvSpPr>
              <p:cNvPr id="1979" name=""/>
              <p:cNvSpPr/>
              <p:nvPr/>
            </p:nvSpPr>
            <p:spPr>
              <a:xfrm>
                <a:off x="1324080" y="3677040"/>
                <a:ext cx="6400440" cy="950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0" name="" descr=""/>
              <p:cNvPicPr/>
              <p:nvPr/>
            </p:nvPicPr>
            <p:blipFill>
              <a:blip r:embed="rId2"/>
              <a:stretch/>
            </p:blipFill>
            <p:spPr>
              <a:xfrm flipH="1" rot="10800000">
                <a:off x="4417560" y="3619440"/>
                <a:ext cx="464400" cy="20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81" name=""/>
          <p:cNvGrpSpPr/>
          <p:nvPr/>
        </p:nvGrpSpPr>
        <p:grpSpPr>
          <a:xfrm>
            <a:off x="847800" y="4076640"/>
            <a:ext cx="7467480" cy="1924200"/>
            <a:chOff x="847800" y="4076640"/>
            <a:chExt cx="7467480" cy="1924200"/>
          </a:xfrm>
        </p:grpSpPr>
        <p:sp>
          <p:nvSpPr>
            <p:cNvPr id="1982" name=""/>
            <p:cNvSpPr/>
            <p:nvPr/>
          </p:nvSpPr>
          <p:spPr>
            <a:xfrm>
              <a:off x="847800" y="4751280"/>
              <a:ext cx="7467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accepting the null hypothesi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when it is </a:t>
              </a: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actually fals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733840" y="4076640"/>
              <a:ext cx="3981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101"/>
                  </a:solidFill>
                  <a:latin typeface="Times New Roman"/>
                </a:rPr>
                <a:t>Type II Err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371600" y="5772240"/>
              <a:ext cx="6400440" cy="228600"/>
              <a:chOff x="1371600" y="5772240"/>
              <a:chExt cx="6400440" cy="228600"/>
            </a:xfrm>
          </p:grpSpPr>
          <p:sp>
            <p:nvSpPr>
              <p:cNvPr id="1985" name=""/>
              <p:cNvSpPr/>
              <p:nvPr/>
            </p:nvSpPr>
            <p:spPr>
              <a:xfrm flipV="1">
                <a:off x="1371600" y="5825520"/>
                <a:ext cx="6400440" cy="10836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5080" y="5772240"/>
                <a:ext cx="46440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87" name=""/>
          <p:cNvSpPr/>
          <p:nvPr/>
        </p:nvSpPr>
        <p:spPr>
          <a:xfrm>
            <a:off x="2133720" y="152280"/>
            <a:ext cx="4952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e II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8" name="" descr=""/>
          <p:cNvPicPr/>
          <p:nvPr/>
        </p:nvPicPr>
        <p:blipFill>
          <a:blip r:embed="rId5"/>
          <a:stretch/>
        </p:blipFill>
        <p:spPr>
          <a:xfrm>
            <a:off x="276120" y="1333440"/>
            <a:ext cx="1068480" cy="16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2B93-45E9-4F57-AF43-C5A57AA94A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/>
          <p:nvPr/>
        </p:nvSpPr>
        <p:spPr>
          <a:xfrm>
            <a:off x="1676520" y="152280"/>
            <a:ext cx="5867280" cy="119124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ing the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bability of a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pe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 - </a:t>
            </a:r>
            <a:fld id="{78C6A03E-3B5F-4E8A-9765-75106907E52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876240" y="1620720"/>
            <a:ext cx="7439040" cy="372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atch o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50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ght bulbs either belong to 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uperior typ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ith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life of 2400 h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inferior typ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with a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mean life of 2000 h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(By default, the bulbs will be sold as                                the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inferior typ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8001000" y="6324480"/>
            <a:ext cx="990360" cy="457200"/>
            <a:chOff x="8001000" y="6324480"/>
            <a:chExt cx="990360" cy="457200"/>
          </a:xfrm>
        </p:grpSpPr>
        <p:sp>
          <p:nvSpPr>
            <p:cNvPr id="1993" name=""/>
            <p:cNvSpPr/>
            <p:nvPr/>
          </p:nvSpPr>
          <p:spPr>
            <a:xfrm>
              <a:off x="8001000" y="6382080"/>
              <a:ext cx="978840" cy="399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001000" y="6324480"/>
              <a:ext cx="978840" cy="4572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064720" y="6480360"/>
              <a:ext cx="926640" cy="19224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 txBox="1"/>
            <p:nvPr/>
          </p:nvSpPr>
          <p:spPr>
            <a:xfrm>
              <a:off x="8160840" y="6382080"/>
              <a:ext cx="563040" cy="3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1997" name="" descr=""/>
          <p:cNvPicPr/>
          <p:nvPr/>
        </p:nvPicPr>
        <p:blipFill>
          <a:blip r:embed="rId2"/>
          <a:stretch/>
        </p:blipFill>
        <p:spPr>
          <a:xfrm>
            <a:off x="743040" y="1461960"/>
            <a:ext cx="895320" cy="766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98" name=""/>
          <p:cNvSpPr/>
          <p:nvPr/>
        </p:nvSpPr>
        <p:spPr>
          <a:xfrm>
            <a:off x="1343160" y="5407200"/>
            <a:ext cx="6313320" cy="1373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fff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we select a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ample of 4 bulb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ind the probability of a Type II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76240" y="4287960"/>
            <a:ext cx="743904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th bul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stributions are nor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with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00 h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= 0.02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8B52-563B-42B5-9881-7167D47FEC4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3" dur="75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6" dur="75"/>
                                        <p:tgtEl>
                                          <p:spTgt spid="1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0" name=""/>
          <p:cNvGrpSpPr/>
          <p:nvPr/>
        </p:nvGrpSpPr>
        <p:grpSpPr>
          <a:xfrm>
            <a:off x="182880" y="1533600"/>
            <a:ext cx="5856120" cy="487800"/>
            <a:chOff x="182880" y="1533600"/>
            <a:chExt cx="5856120" cy="487800"/>
          </a:xfrm>
        </p:grpSpPr>
        <p:sp>
          <p:nvSpPr>
            <p:cNvPr id="2001" name=""/>
            <p:cNvSpPr/>
            <p:nvPr/>
          </p:nvSpPr>
          <p:spPr>
            <a:xfrm>
              <a:off x="1596960" y="1622520"/>
              <a:ext cx="44420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null and alternate hypothe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82880" y="153360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202680" y="2505240"/>
            <a:ext cx="5750280" cy="459720"/>
            <a:chOff x="202680" y="2505240"/>
            <a:chExt cx="5750280" cy="459720"/>
          </a:xfrm>
        </p:grpSpPr>
        <p:sp>
          <p:nvSpPr>
            <p:cNvPr id="2004" name=""/>
            <p:cNvSpPr/>
            <p:nvPr/>
          </p:nvSpPr>
          <p:spPr>
            <a:xfrm>
              <a:off x="1600200" y="2533680"/>
              <a:ext cx="4352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lect the level of signific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02680" y="250524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202680" y="3070080"/>
            <a:ext cx="4255200" cy="459720"/>
            <a:chOff x="202680" y="3070080"/>
            <a:chExt cx="4255200" cy="459720"/>
          </a:xfrm>
        </p:grpSpPr>
        <p:sp>
          <p:nvSpPr>
            <p:cNvPr id="2007" name=""/>
            <p:cNvSpPr/>
            <p:nvPr/>
          </p:nvSpPr>
          <p:spPr>
            <a:xfrm>
              <a:off x="1585800" y="3119040"/>
              <a:ext cx="28720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dentify the test statis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02680" y="30700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231120" y="4229280"/>
            <a:ext cx="4126680" cy="459720"/>
            <a:chOff x="231120" y="4229280"/>
            <a:chExt cx="4126680" cy="459720"/>
          </a:xfrm>
        </p:grpSpPr>
        <p:sp>
          <p:nvSpPr>
            <p:cNvPr id="2010" name=""/>
            <p:cNvSpPr/>
            <p:nvPr/>
          </p:nvSpPr>
          <p:spPr>
            <a:xfrm>
              <a:off x="1595520" y="4257720"/>
              <a:ext cx="276228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tate the decision r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31120" y="42292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>
            <a:off x="6058080" y="1455840"/>
            <a:ext cx="236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=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000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058080" y="1914480"/>
            <a:ext cx="2590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267600" y="2523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0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71360" y="3648240"/>
            <a:ext cx="880128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 populations are normal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s known, we use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070000" y="4803840"/>
            <a:ext cx="5021280" cy="12416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the compute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96,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 stated another w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90440" y="5648400"/>
            <a:ext cx="8782200" cy="888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computed valu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a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greater tha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1.96(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)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favour of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571760" y="228600"/>
            <a:ext cx="6019560" cy="116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uperi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nferi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025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908A-9F70-4796-B019-0DAF7469B2F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1" dur="75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6" dur="75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75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"/>
          <p:cNvSpPr/>
          <p:nvPr/>
        </p:nvSpPr>
        <p:spPr>
          <a:xfrm>
            <a:off x="1533600" y="304920"/>
            <a:ext cx="6210360" cy="271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false and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rue.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 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4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          the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 normally distribu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ean of 24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ation o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38080" y="3570120"/>
            <a:ext cx="7467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s the probability of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ot rejecting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H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s the probability that the value o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bar obtained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ll be less than or equal to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x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219320" y="28954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The probability of a Type II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1380960" y="5762520"/>
            <a:ext cx="6400440" cy="228600"/>
            <a:chOff x="1380960" y="5762520"/>
            <a:chExt cx="6400440" cy="228600"/>
          </a:xfrm>
        </p:grpSpPr>
        <p:sp>
          <p:nvSpPr>
            <p:cNvPr id="2023" name=""/>
            <p:cNvSpPr/>
            <p:nvPr/>
          </p:nvSpPr>
          <p:spPr>
            <a:xfrm flipV="1">
              <a:off x="1380960" y="5815800"/>
              <a:ext cx="6400440" cy="10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4" name="" descr=""/>
            <p:cNvPicPr/>
            <p:nvPr/>
          </p:nvPicPr>
          <p:blipFill>
            <a:blip r:embed="rId3"/>
            <a:stretch/>
          </p:blipFill>
          <p:spPr>
            <a:xfrm>
              <a:off x="4474440" y="576252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5" name=""/>
          <p:cNvGrpSpPr/>
          <p:nvPr/>
        </p:nvGrpSpPr>
        <p:grpSpPr>
          <a:xfrm>
            <a:off x="3881520" y="5033880"/>
            <a:ext cx="1338840" cy="659520"/>
            <a:chOff x="3881520" y="5033880"/>
            <a:chExt cx="1338840" cy="659520"/>
          </a:xfrm>
        </p:grpSpPr>
        <p:sp>
          <p:nvSpPr>
            <p:cNvPr id="2026" name=""/>
            <p:cNvSpPr/>
            <p:nvPr/>
          </p:nvSpPr>
          <p:spPr>
            <a:xfrm>
              <a:off x="4766760" y="5068800"/>
              <a:ext cx="45360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3881520" y="5090760"/>
              <a:ext cx="476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342680" y="503388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2672-1EC5-4635-90CF-251AC13D4A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1" dur="75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75"/>
                                        <p:tgtEl>
                                          <p:spTgt spid="2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75"/>
                                        <p:tgtEl>
                                          <p:spTgt spid="2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4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>
            <a:off x="1523880" y="380880"/>
            <a:ext cx="5962680" cy="1373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we select a sample of 4 bulbs. Then x bar has a mean of 2400 and a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300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=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952640" y="19684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.96(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= 22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969240" y="3438360"/>
            <a:ext cx="2174760" cy="18594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.2611, giving us a left tail area of 0.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"/>
          <p:cNvGrpSpPr/>
          <p:nvPr/>
        </p:nvGrpSpPr>
        <p:grpSpPr>
          <a:xfrm>
            <a:off x="6253560" y="2825640"/>
            <a:ext cx="1434960" cy="466560"/>
            <a:chOff x="6253560" y="2825640"/>
            <a:chExt cx="1434960" cy="466560"/>
          </a:xfrm>
        </p:grpSpPr>
        <p:sp>
          <p:nvSpPr>
            <p:cNvPr id="2033" name=""/>
            <p:cNvSpPr/>
            <p:nvPr/>
          </p:nvSpPr>
          <p:spPr>
            <a:xfrm>
              <a:off x="6796080" y="2865240"/>
              <a:ext cx="892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066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684840" y="28652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60560" y="2865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253560" y="282564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"/>
          <p:cNvGrpSpPr/>
          <p:nvPr/>
        </p:nvGrpSpPr>
        <p:grpSpPr>
          <a:xfrm>
            <a:off x="3510000" y="2629080"/>
            <a:ext cx="2593440" cy="996840"/>
            <a:chOff x="3510000" y="2629080"/>
            <a:chExt cx="2593440" cy="996840"/>
          </a:xfrm>
        </p:grpSpPr>
        <p:sp>
          <p:nvSpPr>
            <p:cNvPr id="2038" name=""/>
            <p:cNvSpPr/>
            <p:nvPr/>
          </p:nvSpPr>
          <p:spPr>
            <a:xfrm flipV="1">
              <a:off x="4794120" y="3404880"/>
              <a:ext cx="57240" cy="2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851360" y="3413160"/>
              <a:ext cx="84240" cy="11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944960" y="3176640"/>
              <a:ext cx="109800" cy="35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054760" y="3176640"/>
              <a:ext cx="2682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4571640" y="3168720"/>
              <a:ext cx="1731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510000" y="3124080"/>
              <a:ext cx="2235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081040" y="31989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08880" y="3198960"/>
              <a:ext cx="535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829400" y="266868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4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538800" y="266868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29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820840" y="28544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547160" y="262908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1245600" y="2600280"/>
            <a:ext cx="2144520" cy="996840"/>
            <a:chOff x="1245600" y="2600280"/>
            <a:chExt cx="2144520" cy="996840"/>
          </a:xfrm>
        </p:grpSpPr>
        <p:sp>
          <p:nvSpPr>
            <p:cNvPr id="2051" name=""/>
            <p:cNvSpPr/>
            <p:nvPr/>
          </p:nvSpPr>
          <p:spPr>
            <a:xfrm>
              <a:off x="2016000" y="2660400"/>
              <a:ext cx="274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V="1">
              <a:off x="2457360" y="3380760"/>
              <a:ext cx="57240" cy="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514600" y="3387600"/>
              <a:ext cx="82440" cy="1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2606760" y="3147480"/>
              <a:ext cx="11088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717640" y="3147840"/>
              <a:ext cx="274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>
              <a:off x="2233440" y="3139920"/>
              <a:ext cx="1749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98640" y="3095280"/>
              <a:ext cx="1133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107520" y="28256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422800" y="260028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497960" y="28256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44640" y="31701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963800" y="263988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245600" y="28652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895040" y="3130200"/>
              <a:ext cx="215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714760" y="2600280"/>
              <a:ext cx="2048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6" name="Figure%2010-5a" descr=""/>
          <p:cNvPicPr/>
          <p:nvPr/>
        </p:nvPicPr>
        <p:blipFill>
          <a:blip r:embed="rId1"/>
          <a:stretch/>
        </p:blipFill>
        <p:spPr>
          <a:xfrm>
            <a:off x="1587600" y="3568680"/>
            <a:ext cx="5411520" cy="321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AB0B-259C-42E3-B9C1-27771B53EB3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7" name="Figure%2010-5b" descr=""/>
          <p:cNvPicPr/>
          <p:nvPr/>
        </p:nvPicPr>
        <p:blipFill>
          <a:blip r:embed="rId1"/>
          <a:stretch/>
        </p:blipFill>
        <p:spPr>
          <a:xfrm>
            <a:off x="1052640" y="2852640"/>
            <a:ext cx="6089400" cy="3332160"/>
          </a:xfrm>
          <a:prstGeom prst="rect">
            <a:avLst/>
          </a:prstGeom>
          <a:ln w="0">
            <a:noFill/>
          </a:ln>
        </p:spPr>
      </p:pic>
      <p:sp>
        <p:nvSpPr>
          <p:cNvPr id="2068" name=""/>
          <p:cNvSpPr/>
          <p:nvPr/>
        </p:nvSpPr>
        <p:spPr>
          <a:xfrm>
            <a:off x="361800" y="5772240"/>
            <a:ext cx="843948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5050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probability of a Type II error is 0.24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.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=0.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9" name="Figure%2010-5a" descr=""/>
          <p:cNvPicPr/>
          <p:nvPr/>
        </p:nvPicPr>
        <p:blipFill>
          <a:blip r:embed="rId2"/>
          <a:stretch/>
        </p:blipFill>
        <p:spPr>
          <a:xfrm>
            <a:off x="2413080" y="0"/>
            <a:ext cx="5310000" cy="361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A31C-77E8-4DA1-AEE3-6D747D7CFD7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068640" y="247680"/>
            <a:ext cx="3003840" cy="1298160"/>
            <a:chOff x="3068640" y="247680"/>
            <a:chExt cx="3003840" cy="1298160"/>
          </a:xfrm>
        </p:grpSpPr>
        <p:sp>
          <p:nvSpPr>
            <p:cNvPr id="91" name=""/>
            <p:cNvSpPr/>
            <p:nvPr/>
          </p:nvSpPr>
          <p:spPr>
            <a:xfrm>
              <a:off x="3068640" y="354600"/>
              <a:ext cx="761760" cy="119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4040" y="2476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38120" y="4152960"/>
            <a:ext cx="786780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mplem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ternative 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accept the null hypothesis as the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default hypothe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It is not rejected unless there is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convinc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ample evidence against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533760"/>
            <a:ext cx="3981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Null Hypothesis H</a:t>
            </a:r>
            <a:r>
              <a:rPr b="1" i="1" lang="en-US" sz="3600" spc="-1" strike="noStrike" baseline="-25000">
                <a:solidFill>
                  <a:srgbClr val="ff3101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00160" y="1476360"/>
            <a:ext cx="5181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Alternative Hypothesis H</a:t>
            </a:r>
            <a:r>
              <a:rPr b="1" i="1" lang="en-US" sz="3600" spc="-1" strike="noStrike" baseline="-25000">
                <a:solidFill>
                  <a:srgbClr val="ff3101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85880" y="2028960"/>
            <a:ext cx="5753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tat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                                       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we are interested in prov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usually a research hypothesis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80960" y="3428640"/>
            <a:ext cx="6391080" cy="152280"/>
            <a:chOff x="1380960" y="3428640"/>
            <a:chExt cx="6391080" cy="152280"/>
          </a:xfrm>
        </p:grpSpPr>
        <p:sp>
          <p:nvSpPr>
            <p:cNvPr id="98" name=""/>
            <p:cNvSpPr/>
            <p:nvPr/>
          </p:nvSpPr>
          <p:spPr>
            <a:xfrm>
              <a:off x="1380960" y="3472920"/>
              <a:ext cx="6391080" cy="7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4469760" y="3428640"/>
              <a:ext cx="46368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352520" y="5905440"/>
            <a:ext cx="6400440" cy="152640"/>
            <a:chOff x="1352520" y="5905440"/>
            <a:chExt cx="6400440" cy="152640"/>
          </a:xfrm>
        </p:grpSpPr>
        <p:sp>
          <p:nvSpPr>
            <p:cNvPr id="101" name=""/>
            <p:cNvSpPr/>
            <p:nvPr/>
          </p:nvSpPr>
          <p:spPr>
            <a:xfrm flipV="1">
              <a:off x="1352520" y="5941080"/>
              <a:ext cx="6400440" cy="72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446000" y="5905440"/>
              <a:ext cx="464400" cy="15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4886280" y="6162840"/>
            <a:ext cx="3886200" cy="695160"/>
            <a:chOff x="4886280" y="6162840"/>
            <a:chExt cx="3886200" cy="695160"/>
          </a:xfrm>
        </p:grpSpPr>
        <p:grpSp>
          <p:nvGrpSpPr>
            <p:cNvPr id="104" name=""/>
            <p:cNvGrpSpPr/>
            <p:nvPr/>
          </p:nvGrpSpPr>
          <p:grpSpPr>
            <a:xfrm>
              <a:off x="8086680" y="6162840"/>
              <a:ext cx="533160" cy="695160"/>
              <a:chOff x="8086680" y="6162840"/>
              <a:chExt cx="533160" cy="695160"/>
            </a:xfrm>
          </p:grpSpPr>
          <p:sp>
            <p:nvSpPr>
              <p:cNvPr id="105" name=""/>
              <p:cNvSpPr/>
              <p:nvPr/>
            </p:nvSpPr>
            <p:spPr>
              <a:xfrm rot="3870000">
                <a:off x="8414640" y="6244920"/>
                <a:ext cx="99000" cy="133200"/>
              </a:xfrm>
              <a:prstGeom prst="parallelogram">
                <a:avLst>
                  <a:gd name="adj" fmla="val 87500"/>
                </a:avLst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3870000">
                <a:off x="8325720" y="6343920"/>
                <a:ext cx="99000" cy="133200"/>
              </a:xfrm>
              <a:prstGeom prst="parallelogram">
                <a:avLst>
                  <a:gd name="adj" fmla="val 87500"/>
                </a:avLst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3870000">
                <a:off x="8288640" y="6431040"/>
                <a:ext cx="99360" cy="133200"/>
              </a:xfrm>
              <a:prstGeom prst="parallelogram">
                <a:avLst>
                  <a:gd name="adj" fmla="val 87500"/>
                </a:avLst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3870000">
                <a:off x="8251560" y="6517800"/>
                <a:ext cx="99000" cy="133200"/>
              </a:xfrm>
              <a:prstGeom prst="parallelogram">
                <a:avLst>
                  <a:gd name="adj" fmla="val 87500"/>
                </a:avLst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3870000">
                <a:off x="8214480" y="6604920"/>
                <a:ext cx="99360" cy="133200"/>
              </a:xfrm>
              <a:prstGeom prst="parallelogram">
                <a:avLst>
                  <a:gd name="adj" fmla="val 87500"/>
                </a:avLst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3870000">
                <a:off x="8177400" y="6691680"/>
                <a:ext cx="99000" cy="133200"/>
              </a:xfrm>
              <a:prstGeom prst="parallelogram">
                <a:avLst>
                  <a:gd name="adj" fmla="val 87500"/>
                </a:avLst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086680" y="6162840"/>
                <a:ext cx="399960" cy="645480"/>
              </a:xfrm>
              <a:prstGeom prst="parallelogram">
                <a:avLst>
                  <a:gd name="adj" fmla="val 87500"/>
                </a:avLst>
              </a:prstGeom>
              <a:solidFill>
                <a:srgbClr val="b2b2b2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19880" y="6212520"/>
                <a:ext cx="399960" cy="645480"/>
              </a:xfrm>
              <a:prstGeom prst="parallelogram">
                <a:avLst>
                  <a:gd name="adj" fmla="val 87500"/>
                </a:avLst>
              </a:prstGeom>
              <a:solidFill>
                <a:srgbClr val="b2b2b2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 txBox="1"/>
            <p:nvPr/>
          </p:nvSpPr>
          <p:spPr>
            <a:xfrm>
              <a:off x="4886280" y="6232320"/>
              <a:ext cx="3886200" cy="46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effectLst>
                    <a:outerShdw dist="52300" dir="9963564" blurRad="0" rotWithShape="0">
                      <a:srgbClr val="b2b2b2"/>
                    </a:outerShdw>
                  </a:effectLst>
                  <a:latin typeface="Arial Black"/>
                </a:rPr>
                <a:t>Hypothesis Testing Step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52300" dir="9963564" blurRad="0" rotWithShape="0">
                    <a:srgbClr val="b2b2b2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6E49A-FF06-4DF5-9C17-4385365577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625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1475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 rot="121200">
            <a:off x="415440" y="380880"/>
            <a:ext cx="8213760" cy="578664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1efce2"/>
              </a:gs>
              <a:gs pos="50000">
                <a:srgbClr val="fefefe"/>
              </a:gs>
              <a:gs pos="100000">
                <a:srgbClr val="1efce2"/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71360" y="878040"/>
            <a:ext cx="8858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25"/>
              </a:spcBef>
              <a:buClr>
                <a:srgbClr val="ff3300"/>
              </a:buClr>
              <a:buSzPct val="125000"/>
              <a:buFont typeface="MS Mincho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we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decre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value of </a:t>
            </a:r>
            <a:r>
              <a:rPr b="1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alph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the value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increas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critical value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moves to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igh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                        and therefore the value of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incre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25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sely, if we 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increase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lue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alph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oves to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f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reby                                          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decreasing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lue of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25"/>
              </a:spcBef>
              <a:buClr>
                <a:srgbClr val="0099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given value of </a:t>
            </a:r>
            <a:r>
              <a:rPr b="1" lang="en-US" sz="3600" spc="-1" strike="noStrike">
                <a:solidFill>
                  <a:srgbClr val="ff505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alph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the value of 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can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creas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increas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sample si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2" name=""/>
          <p:cNvGrpSpPr/>
          <p:nvPr/>
        </p:nvGrpSpPr>
        <p:grpSpPr>
          <a:xfrm>
            <a:off x="1380960" y="6048360"/>
            <a:ext cx="6400440" cy="228600"/>
            <a:chOff x="1380960" y="6048360"/>
            <a:chExt cx="6400440" cy="228600"/>
          </a:xfrm>
        </p:grpSpPr>
        <p:sp>
          <p:nvSpPr>
            <p:cNvPr id="2073" name=""/>
            <p:cNvSpPr/>
            <p:nvPr/>
          </p:nvSpPr>
          <p:spPr>
            <a:xfrm flipV="1">
              <a:off x="1380960" y="6102000"/>
              <a:ext cx="6400440" cy="10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4" name="" descr=""/>
            <p:cNvPicPr/>
            <p:nvPr/>
          </p:nvPicPr>
          <p:blipFill>
            <a:blip r:embed="rId2"/>
            <a:stretch/>
          </p:blipFill>
          <p:spPr>
            <a:xfrm>
              <a:off x="4474440" y="6048360"/>
              <a:ext cx="4644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8BA6-6DFB-440D-8AAF-DF052A2120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0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6" dur="500"/>
                                        <p:tgtEl>
                                          <p:spTgt spid="2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1" dur="500"/>
                                        <p:tgtEl>
                                          <p:spTgt spid="2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0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2438280" y="152280"/>
            <a:ext cx="4343400" cy="64260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100000">
                <a:srgbClr val="ff9999">
                  <a:alpha val="70196"/>
                </a:srgbClr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ower of a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85800" y="1143000"/>
            <a:ext cx="7848720" cy="3751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00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defined as the probability of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rejecting H</a:t>
            </a:r>
            <a:r>
              <a:rPr b="1" i="1" lang="en-US" sz="2800" spc="-1" strike="noStrike" baseline="-25000">
                <a:solidFill>
                  <a:srgbClr val="ff5050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when H</a:t>
            </a:r>
            <a:r>
              <a:rPr b="1" i="1" lang="en-US" sz="2800" spc="-1" strike="noStrike" baseline="-25000">
                <a:solidFill>
                  <a:srgbClr val="ff505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 is false,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00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ability of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correctly identifying                    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a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Times New Roman"/>
              </a:rPr>
              <a:t>true alternative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cc0066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equal to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1-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57360" y="4791240"/>
            <a:ext cx="7848360" cy="1556280"/>
          </a:xfrm>
          <a:prstGeom prst="rect">
            <a:avLst/>
          </a:prstGeom>
          <a:gradFill rotWithShape="0">
            <a:gsLst>
              <a:gs pos="0">
                <a:srgbClr val="cc0066"/>
              </a:gs>
              <a:gs pos="50000">
                <a:srgbClr val="ff9999">
                  <a:alpha val="30196"/>
                </a:srgbClr>
              </a:gs>
              <a:gs pos="100000">
                <a:srgbClr val="cc0066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In previous example,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= 0.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Therefore,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the test’s power is 1-0.24 = 0.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713A-EB55-40DA-80F5-3C1F9DE357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7" dur="75"/>
                                        <p:tgtEl>
                                          <p:spTgt spid="2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2" dur="75"/>
                                        <p:tgtEl>
                                          <p:spTgt spid="2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7" dur="75"/>
                                        <p:tgtEl>
                                          <p:spTgt spid="2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3"/>
            </a:gs>
            <a:gs pos="100000">
              <a:srgbClr val="fefee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2080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2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3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2084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5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6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7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2088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0" name="OLC%20logo2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2091" name="e-stat%20logo2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C654-B756-495E-AF0B-F849F8AD90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a1206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"/>
          <p:cNvSpPr/>
          <p:nvPr/>
        </p:nvSpPr>
        <p:spPr>
          <a:xfrm flipH="1" rot="9798600">
            <a:off x="7162920" y="2590920"/>
            <a:ext cx="1828800" cy="1752480"/>
          </a:xfrm>
          <a:prstGeom prst="pentagon">
            <a:avLst/>
          </a:prstGeom>
          <a:gradFill rotWithShape="0">
            <a:gsLst>
              <a:gs pos="0">
                <a:srgbClr val="ff66cc"/>
              </a:gs>
              <a:gs pos="50000">
                <a:srgbClr val="fefefe"/>
              </a:gs>
              <a:gs pos="100000">
                <a:srgbClr val="ff66cc"/>
              </a:gs>
            </a:gsLst>
            <a:lin ang="15198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V="1" rot="5388600">
            <a:off x="0" y="2513880"/>
            <a:ext cx="1828800" cy="1828800"/>
          </a:xfrm>
          <a:prstGeom prst="pentagon">
            <a:avLst/>
          </a:prstGeom>
          <a:gradFill rotWithShape="0">
            <a:gsLst>
              <a:gs pos="0">
                <a:srgbClr val="ff66cc"/>
              </a:gs>
              <a:gs pos="50000">
                <a:srgbClr val="fefefe"/>
              </a:gs>
              <a:gs pos="100000">
                <a:srgbClr val="ff66cc"/>
              </a:gs>
            </a:gsLst>
            <a:lin ang="10788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836720" y="3125880"/>
            <a:ext cx="5400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completes Chapter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4C78-CB04-4E3A-BD5B-24EC062C9A4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14880" y="3753000"/>
            <a:ext cx="40194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cisio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34480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971800"/>
            <a:ext cx="39625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dentif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afffe4"/>
                </a:solidFill>
                <a:latin typeface="Times New Roman"/>
              </a:rPr>
              <a:t>test stat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2590920"/>
            <a:ext cx="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71880" y="5829480"/>
            <a:ext cx="2552400" cy="51012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o NOT reject 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5829480"/>
            <a:ext cx="3314880" cy="51012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ject 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d accept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990960" y="5219640"/>
            <a:ext cx="1285920" cy="704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6880" y="5219640"/>
            <a:ext cx="1152360" cy="704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4629240"/>
            <a:ext cx="6324840" cy="9471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p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valu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the </a:t>
            </a:r>
            <a:r>
              <a:rPr b="1" lang="en-US" sz="2800" spc="-1" strike="noStrike">
                <a:solidFill>
                  <a:srgbClr val="afffe4"/>
                </a:solidFill>
                <a:latin typeface="Times New Roman"/>
              </a:rPr>
              <a:t>test statist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ake a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3720" y="136224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133720"/>
            <a:ext cx="62485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le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vel of signific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3720" y="219060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640" y="302904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6720" y="382896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720" y="462924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28600"/>
            <a:ext cx="38102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ccccff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othesis T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28616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18288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0600" y="1309680"/>
            <a:ext cx="6267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ull and alternate hypoth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F829-5582-41E7-9B2B-D3D812A80C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7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7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>
            <a:off x="-10800" y="1473840"/>
            <a:ext cx="8901000" cy="5126040"/>
          </a:xfrm>
          <a:custGeom>
            <a:avLst/>
            <a:gdLst/>
            <a:ahLst/>
            <a:rect l="l" t="t" r="r" b="b"/>
            <a:pathLst>
              <a:path w="5481" h="2401">
                <a:moveTo>
                  <a:pt x="439" y="511"/>
                </a:moveTo>
                <a:cubicBezTo>
                  <a:pt x="525" y="383"/>
                  <a:pt x="631" y="348"/>
                  <a:pt x="763" y="295"/>
                </a:cubicBezTo>
                <a:cubicBezTo>
                  <a:pt x="775" y="277"/>
                  <a:pt x="781" y="253"/>
                  <a:pt x="799" y="241"/>
                </a:cubicBezTo>
                <a:cubicBezTo>
                  <a:pt x="835" y="217"/>
                  <a:pt x="884" y="219"/>
                  <a:pt x="925" y="205"/>
                </a:cubicBezTo>
                <a:cubicBezTo>
                  <a:pt x="1009" y="211"/>
                  <a:pt x="1094" y="209"/>
                  <a:pt x="1177" y="223"/>
                </a:cubicBezTo>
                <a:cubicBezTo>
                  <a:pt x="1203" y="227"/>
                  <a:pt x="1224" y="249"/>
                  <a:pt x="1249" y="259"/>
                </a:cubicBezTo>
                <a:cubicBezTo>
                  <a:pt x="1249" y="259"/>
                  <a:pt x="1384" y="304"/>
                  <a:pt x="1411" y="313"/>
                </a:cubicBezTo>
                <a:cubicBezTo>
                  <a:pt x="1414" y="314"/>
                  <a:pt x="1509" y="364"/>
                  <a:pt x="1519" y="367"/>
                </a:cubicBezTo>
                <a:cubicBezTo>
                  <a:pt x="1555" y="355"/>
                  <a:pt x="1606" y="363"/>
                  <a:pt x="1627" y="331"/>
                </a:cubicBezTo>
                <a:cubicBezTo>
                  <a:pt x="1674" y="261"/>
                  <a:pt x="1642" y="284"/>
                  <a:pt x="1717" y="259"/>
                </a:cubicBezTo>
                <a:cubicBezTo>
                  <a:pt x="1801" y="293"/>
                  <a:pt x="1882" y="309"/>
                  <a:pt x="1969" y="331"/>
                </a:cubicBezTo>
                <a:cubicBezTo>
                  <a:pt x="2005" y="325"/>
                  <a:pt x="2042" y="325"/>
                  <a:pt x="2077" y="313"/>
                </a:cubicBezTo>
                <a:cubicBezTo>
                  <a:pt x="2098" y="306"/>
                  <a:pt x="2111" y="286"/>
                  <a:pt x="2131" y="277"/>
                </a:cubicBezTo>
                <a:cubicBezTo>
                  <a:pt x="2154" y="267"/>
                  <a:pt x="2179" y="265"/>
                  <a:pt x="2203" y="259"/>
                </a:cubicBezTo>
                <a:cubicBezTo>
                  <a:pt x="2285" y="205"/>
                  <a:pt x="2361" y="175"/>
                  <a:pt x="2455" y="151"/>
                </a:cubicBezTo>
                <a:cubicBezTo>
                  <a:pt x="2539" y="95"/>
                  <a:pt x="2629" y="87"/>
                  <a:pt x="2725" y="61"/>
                </a:cubicBezTo>
                <a:cubicBezTo>
                  <a:pt x="2948" y="0"/>
                  <a:pt x="2703" y="38"/>
                  <a:pt x="3013" y="7"/>
                </a:cubicBezTo>
                <a:cubicBezTo>
                  <a:pt x="3046" y="9"/>
                  <a:pt x="3472" y="30"/>
                  <a:pt x="3553" y="43"/>
                </a:cubicBezTo>
                <a:cubicBezTo>
                  <a:pt x="3660" y="61"/>
                  <a:pt x="3790" y="116"/>
                  <a:pt x="3895" y="151"/>
                </a:cubicBezTo>
                <a:cubicBezTo>
                  <a:pt x="3907" y="169"/>
                  <a:pt x="3939" y="185"/>
                  <a:pt x="3931" y="205"/>
                </a:cubicBezTo>
                <a:cubicBezTo>
                  <a:pt x="3921" y="230"/>
                  <a:pt x="3884" y="230"/>
                  <a:pt x="3859" y="241"/>
                </a:cubicBezTo>
                <a:cubicBezTo>
                  <a:pt x="3829" y="254"/>
                  <a:pt x="3799" y="265"/>
                  <a:pt x="3769" y="277"/>
                </a:cubicBezTo>
                <a:cubicBezTo>
                  <a:pt x="3863" y="308"/>
                  <a:pt x="4084" y="265"/>
                  <a:pt x="4165" y="259"/>
                </a:cubicBezTo>
                <a:cubicBezTo>
                  <a:pt x="4465" y="209"/>
                  <a:pt x="4683" y="235"/>
                  <a:pt x="4975" y="277"/>
                </a:cubicBezTo>
                <a:cubicBezTo>
                  <a:pt x="5166" y="341"/>
                  <a:pt x="5081" y="320"/>
                  <a:pt x="5227" y="349"/>
                </a:cubicBezTo>
                <a:cubicBezTo>
                  <a:pt x="5323" y="397"/>
                  <a:pt x="5340" y="395"/>
                  <a:pt x="5389" y="493"/>
                </a:cubicBezTo>
                <a:cubicBezTo>
                  <a:pt x="5383" y="535"/>
                  <a:pt x="5390" y="581"/>
                  <a:pt x="5371" y="619"/>
                </a:cubicBezTo>
                <a:cubicBezTo>
                  <a:pt x="5358" y="646"/>
                  <a:pt x="5322" y="653"/>
                  <a:pt x="5299" y="673"/>
                </a:cubicBezTo>
                <a:cubicBezTo>
                  <a:pt x="5280" y="690"/>
                  <a:pt x="5263" y="709"/>
                  <a:pt x="5245" y="727"/>
                </a:cubicBezTo>
                <a:cubicBezTo>
                  <a:pt x="5269" y="733"/>
                  <a:pt x="5302" y="725"/>
                  <a:pt x="5317" y="745"/>
                </a:cubicBezTo>
                <a:cubicBezTo>
                  <a:pt x="5328" y="760"/>
                  <a:pt x="5292" y="781"/>
                  <a:pt x="5299" y="799"/>
                </a:cubicBezTo>
                <a:cubicBezTo>
                  <a:pt x="5307" y="819"/>
                  <a:pt x="5335" y="823"/>
                  <a:pt x="5353" y="835"/>
                </a:cubicBezTo>
                <a:cubicBezTo>
                  <a:pt x="5359" y="859"/>
                  <a:pt x="5378" y="883"/>
                  <a:pt x="5371" y="907"/>
                </a:cubicBezTo>
                <a:cubicBezTo>
                  <a:pt x="5364" y="931"/>
                  <a:pt x="5333" y="941"/>
                  <a:pt x="5317" y="961"/>
                </a:cubicBezTo>
                <a:cubicBezTo>
                  <a:pt x="5303" y="978"/>
                  <a:pt x="5293" y="997"/>
                  <a:pt x="5281" y="1015"/>
                </a:cubicBezTo>
                <a:cubicBezTo>
                  <a:pt x="5287" y="1069"/>
                  <a:pt x="5286" y="1124"/>
                  <a:pt x="5299" y="1177"/>
                </a:cubicBezTo>
                <a:cubicBezTo>
                  <a:pt x="5304" y="1198"/>
                  <a:pt x="5325" y="1212"/>
                  <a:pt x="5335" y="1231"/>
                </a:cubicBezTo>
                <a:cubicBezTo>
                  <a:pt x="5343" y="1248"/>
                  <a:pt x="5347" y="1267"/>
                  <a:pt x="5353" y="1285"/>
                </a:cubicBezTo>
                <a:cubicBezTo>
                  <a:pt x="5374" y="1433"/>
                  <a:pt x="5396" y="1593"/>
                  <a:pt x="5443" y="1735"/>
                </a:cubicBezTo>
                <a:cubicBezTo>
                  <a:pt x="5449" y="1789"/>
                  <a:pt x="5481" y="1846"/>
                  <a:pt x="5461" y="1897"/>
                </a:cubicBezTo>
                <a:cubicBezTo>
                  <a:pt x="5445" y="1937"/>
                  <a:pt x="5389" y="1945"/>
                  <a:pt x="5353" y="1969"/>
                </a:cubicBezTo>
                <a:cubicBezTo>
                  <a:pt x="5335" y="1981"/>
                  <a:pt x="5299" y="2005"/>
                  <a:pt x="5299" y="2005"/>
                </a:cubicBezTo>
                <a:cubicBezTo>
                  <a:pt x="5239" y="1999"/>
                  <a:pt x="5179" y="1996"/>
                  <a:pt x="5119" y="1987"/>
                </a:cubicBezTo>
                <a:cubicBezTo>
                  <a:pt x="5100" y="1984"/>
                  <a:pt x="5083" y="1964"/>
                  <a:pt x="5065" y="1969"/>
                </a:cubicBezTo>
                <a:cubicBezTo>
                  <a:pt x="5036" y="1977"/>
                  <a:pt x="5019" y="2008"/>
                  <a:pt x="4993" y="2023"/>
                </a:cubicBezTo>
                <a:cubicBezTo>
                  <a:pt x="4977" y="2032"/>
                  <a:pt x="4957" y="2035"/>
                  <a:pt x="4939" y="2041"/>
                </a:cubicBezTo>
                <a:cubicBezTo>
                  <a:pt x="4927" y="2065"/>
                  <a:pt x="4912" y="2088"/>
                  <a:pt x="4903" y="2113"/>
                </a:cubicBezTo>
                <a:cubicBezTo>
                  <a:pt x="4894" y="2136"/>
                  <a:pt x="4899" y="2164"/>
                  <a:pt x="4885" y="2185"/>
                </a:cubicBezTo>
                <a:cubicBezTo>
                  <a:pt x="4863" y="2218"/>
                  <a:pt x="4740" y="2256"/>
                  <a:pt x="4723" y="2257"/>
                </a:cubicBezTo>
                <a:cubicBezTo>
                  <a:pt x="4561" y="2263"/>
                  <a:pt x="4399" y="2269"/>
                  <a:pt x="4237" y="2275"/>
                </a:cubicBezTo>
                <a:cubicBezTo>
                  <a:pt x="4114" y="2316"/>
                  <a:pt x="3989" y="2318"/>
                  <a:pt x="3859" y="2329"/>
                </a:cubicBezTo>
                <a:cubicBezTo>
                  <a:pt x="3745" y="2367"/>
                  <a:pt x="3618" y="2370"/>
                  <a:pt x="3499" y="2383"/>
                </a:cubicBezTo>
                <a:cubicBezTo>
                  <a:pt x="3439" y="2377"/>
                  <a:pt x="3379" y="2364"/>
                  <a:pt x="3319" y="2365"/>
                </a:cubicBezTo>
                <a:cubicBezTo>
                  <a:pt x="3091" y="2370"/>
                  <a:pt x="2635" y="2401"/>
                  <a:pt x="2635" y="2401"/>
                </a:cubicBezTo>
                <a:cubicBezTo>
                  <a:pt x="2388" y="2389"/>
                  <a:pt x="2159" y="2366"/>
                  <a:pt x="1915" y="2347"/>
                </a:cubicBezTo>
                <a:cubicBezTo>
                  <a:pt x="1718" y="2298"/>
                  <a:pt x="1820" y="2316"/>
                  <a:pt x="1609" y="2293"/>
                </a:cubicBezTo>
                <a:cubicBezTo>
                  <a:pt x="1488" y="2263"/>
                  <a:pt x="1423" y="2252"/>
                  <a:pt x="1285" y="2239"/>
                </a:cubicBezTo>
                <a:cubicBezTo>
                  <a:pt x="1120" y="2198"/>
                  <a:pt x="944" y="2203"/>
                  <a:pt x="781" y="2257"/>
                </a:cubicBezTo>
                <a:cubicBezTo>
                  <a:pt x="703" y="2251"/>
                  <a:pt x="625" y="2249"/>
                  <a:pt x="547" y="2239"/>
                </a:cubicBezTo>
                <a:cubicBezTo>
                  <a:pt x="420" y="2223"/>
                  <a:pt x="330" y="2009"/>
                  <a:pt x="259" y="1915"/>
                </a:cubicBezTo>
                <a:cubicBezTo>
                  <a:pt x="280" y="1788"/>
                  <a:pt x="280" y="1786"/>
                  <a:pt x="367" y="1699"/>
                </a:cubicBezTo>
                <a:cubicBezTo>
                  <a:pt x="342" y="1599"/>
                  <a:pt x="320" y="1587"/>
                  <a:pt x="223" y="1555"/>
                </a:cubicBezTo>
                <a:cubicBezTo>
                  <a:pt x="305" y="1493"/>
                  <a:pt x="355" y="1468"/>
                  <a:pt x="313" y="1357"/>
                </a:cubicBezTo>
                <a:cubicBezTo>
                  <a:pt x="305" y="1337"/>
                  <a:pt x="289" y="1321"/>
                  <a:pt x="277" y="1303"/>
                </a:cubicBezTo>
                <a:cubicBezTo>
                  <a:pt x="271" y="1280"/>
                  <a:pt x="254" y="1203"/>
                  <a:pt x="241" y="1177"/>
                </a:cubicBezTo>
                <a:cubicBezTo>
                  <a:pt x="193" y="1082"/>
                  <a:pt x="217" y="1162"/>
                  <a:pt x="151" y="1069"/>
                </a:cubicBezTo>
                <a:cubicBezTo>
                  <a:pt x="135" y="1047"/>
                  <a:pt x="130" y="1019"/>
                  <a:pt x="115" y="997"/>
                </a:cubicBezTo>
                <a:cubicBezTo>
                  <a:pt x="0" y="824"/>
                  <a:pt x="77" y="991"/>
                  <a:pt x="7" y="817"/>
                </a:cubicBezTo>
                <a:cubicBezTo>
                  <a:pt x="43" y="708"/>
                  <a:pt x="63" y="724"/>
                  <a:pt x="169" y="745"/>
                </a:cubicBezTo>
                <a:cubicBezTo>
                  <a:pt x="231" y="807"/>
                  <a:pt x="264" y="832"/>
                  <a:pt x="349" y="853"/>
                </a:cubicBezTo>
                <a:cubicBezTo>
                  <a:pt x="373" y="847"/>
                  <a:pt x="404" y="852"/>
                  <a:pt x="421" y="835"/>
                </a:cubicBezTo>
                <a:cubicBezTo>
                  <a:pt x="438" y="818"/>
                  <a:pt x="434" y="787"/>
                  <a:pt x="439" y="763"/>
                </a:cubicBezTo>
                <a:cubicBezTo>
                  <a:pt x="446" y="733"/>
                  <a:pt x="451" y="703"/>
                  <a:pt x="457" y="673"/>
                </a:cubicBezTo>
                <a:cubicBezTo>
                  <a:pt x="445" y="649"/>
                  <a:pt x="432" y="626"/>
                  <a:pt x="421" y="601"/>
                </a:cubicBezTo>
                <a:cubicBezTo>
                  <a:pt x="414" y="584"/>
                  <a:pt x="392" y="562"/>
                  <a:pt x="403" y="547"/>
                </a:cubicBezTo>
                <a:cubicBezTo>
                  <a:pt x="418" y="527"/>
                  <a:pt x="458" y="546"/>
                  <a:pt x="475" y="529"/>
                </a:cubicBezTo>
                <a:cubicBezTo>
                  <a:pt x="484" y="520"/>
                  <a:pt x="451" y="517"/>
                  <a:pt x="439" y="511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efefe">
                  <a:alpha val="235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52680" y="380880"/>
            <a:ext cx="2476800" cy="1371600"/>
            <a:chOff x="3352680" y="380880"/>
            <a:chExt cx="2476800" cy="1371600"/>
          </a:xfrm>
        </p:grpSpPr>
        <p:sp>
          <p:nvSpPr>
            <p:cNvPr id="135" name=""/>
            <p:cNvSpPr/>
            <p:nvPr/>
          </p:nvSpPr>
          <p:spPr>
            <a:xfrm>
              <a:off x="3951360" y="380880"/>
              <a:ext cx="1279440" cy="1371600"/>
            </a:xfrm>
            <a:custGeom>
              <a:avLst/>
              <a:gdLst/>
              <a:ahLst/>
              <a:rect l="l" t="t" r="r" b="b"/>
              <a:pathLst>
                <a:path w="1740" h="2010">
                  <a:moveTo>
                    <a:pt x="1044" y="2010"/>
                  </a:moveTo>
                  <a:lnTo>
                    <a:pt x="210" y="1692"/>
                  </a:lnTo>
                  <a:lnTo>
                    <a:pt x="228" y="1650"/>
                  </a:lnTo>
                  <a:lnTo>
                    <a:pt x="240" y="1608"/>
                  </a:lnTo>
                  <a:lnTo>
                    <a:pt x="258" y="1566"/>
                  </a:lnTo>
                  <a:lnTo>
                    <a:pt x="264" y="1524"/>
                  </a:lnTo>
                  <a:lnTo>
                    <a:pt x="270" y="1482"/>
                  </a:lnTo>
                  <a:lnTo>
                    <a:pt x="276" y="1440"/>
                  </a:lnTo>
                  <a:lnTo>
                    <a:pt x="270" y="1398"/>
                  </a:lnTo>
                  <a:lnTo>
                    <a:pt x="252" y="1356"/>
                  </a:lnTo>
                  <a:lnTo>
                    <a:pt x="234" y="1314"/>
                  </a:lnTo>
                  <a:lnTo>
                    <a:pt x="210" y="1272"/>
                  </a:lnTo>
                  <a:lnTo>
                    <a:pt x="186" y="1230"/>
                  </a:lnTo>
                  <a:lnTo>
                    <a:pt x="162" y="1188"/>
                  </a:lnTo>
                  <a:lnTo>
                    <a:pt x="138" y="1152"/>
                  </a:lnTo>
                  <a:lnTo>
                    <a:pt x="114" y="1110"/>
                  </a:lnTo>
                  <a:lnTo>
                    <a:pt x="90" y="1074"/>
                  </a:lnTo>
                  <a:lnTo>
                    <a:pt x="72" y="1032"/>
                  </a:lnTo>
                  <a:lnTo>
                    <a:pt x="48" y="990"/>
                  </a:lnTo>
                  <a:lnTo>
                    <a:pt x="30" y="948"/>
                  </a:lnTo>
                  <a:lnTo>
                    <a:pt x="18" y="900"/>
                  </a:lnTo>
                  <a:lnTo>
                    <a:pt x="6" y="852"/>
                  </a:lnTo>
                  <a:lnTo>
                    <a:pt x="0" y="804"/>
                  </a:lnTo>
                  <a:lnTo>
                    <a:pt x="0" y="750"/>
                  </a:lnTo>
                  <a:lnTo>
                    <a:pt x="0" y="690"/>
                  </a:lnTo>
                  <a:lnTo>
                    <a:pt x="12" y="624"/>
                  </a:lnTo>
                  <a:lnTo>
                    <a:pt x="18" y="576"/>
                  </a:lnTo>
                  <a:lnTo>
                    <a:pt x="36" y="534"/>
                  </a:lnTo>
                  <a:lnTo>
                    <a:pt x="48" y="492"/>
                  </a:lnTo>
                  <a:lnTo>
                    <a:pt x="66" y="450"/>
                  </a:lnTo>
                  <a:lnTo>
                    <a:pt x="84" y="408"/>
                  </a:lnTo>
                  <a:lnTo>
                    <a:pt x="108" y="366"/>
                  </a:lnTo>
                  <a:lnTo>
                    <a:pt x="132" y="330"/>
                  </a:lnTo>
                  <a:lnTo>
                    <a:pt x="162" y="294"/>
                  </a:lnTo>
                  <a:lnTo>
                    <a:pt x="192" y="264"/>
                  </a:lnTo>
                  <a:lnTo>
                    <a:pt x="228" y="228"/>
                  </a:lnTo>
                  <a:lnTo>
                    <a:pt x="264" y="198"/>
                  </a:lnTo>
                  <a:lnTo>
                    <a:pt x="306" y="168"/>
                  </a:lnTo>
                  <a:lnTo>
                    <a:pt x="354" y="138"/>
                  </a:lnTo>
                  <a:lnTo>
                    <a:pt x="408" y="108"/>
                  </a:lnTo>
                  <a:lnTo>
                    <a:pt x="462" y="84"/>
                  </a:lnTo>
                  <a:lnTo>
                    <a:pt x="522" y="54"/>
                  </a:lnTo>
                  <a:lnTo>
                    <a:pt x="564" y="42"/>
                  </a:lnTo>
                  <a:lnTo>
                    <a:pt x="606" y="30"/>
                  </a:lnTo>
                  <a:lnTo>
                    <a:pt x="648" y="18"/>
                  </a:lnTo>
                  <a:lnTo>
                    <a:pt x="690" y="12"/>
                  </a:lnTo>
                  <a:lnTo>
                    <a:pt x="738" y="6"/>
                  </a:lnTo>
                  <a:lnTo>
                    <a:pt x="786" y="0"/>
                  </a:lnTo>
                  <a:lnTo>
                    <a:pt x="828" y="0"/>
                  </a:lnTo>
                  <a:lnTo>
                    <a:pt x="876" y="0"/>
                  </a:lnTo>
                  <a:lnTo>
                    <a:pt x="924" y="6"/>
                  </a:lnTo>
                  <a:lnTo>
                    <a:pt x="972" y="6"/>
                  </a:lnTo>
                  <a:lnTo>
                    <a:pt x="1014" y="12"/>
                  </a:lnTo>
                  <a:lnTo>
                    <a:pt x="1062" y="24"/>
                  </a:lnTo>
                  <a:lnTo>
                    <a:pt x="1104" y="30"/>
                  </a:lnTo>
                  <a:lnTo>
                    <a:pt x="1146" y="42"/>
                  </a:lnTo>
                  <a:lnTo>
                    <a:pt x="1182" y="54"/>
                  </a:lnTo>
                  <a:lnTo>
                    <a:pt x="1224" y="72"/>
                  </a:lnTo>
                  <a:lnTo>
                    <a:pt x="1254" y="90"/>
                  </a:lnTo>
                  <a:lnTo>
                    <a:pt x="1290" y="108"/>
                  </a:lnTo>
                  <a:lnTo>
                    <a:pt x="1320" y="132"/>
                  </a:lnTo>
                  <a:lnTo>
                    <a:pt x="1356" y="156"/>
                  </a:lnTo>
                  <a:lnTo>
                    <a:pt x="1386" y="186"/>
                  </a:lnTo>
                  <a:lnTo>
                    <a:pt x="1416" y="216"/>
                  </a:lnTo>
                  <a:lnTo>
                    <a:pt x="1440" y="246"/>
                  </a:lnTo>
                  <a:lnTo>
                    <a:pt x="1470" y="282"/>
                  </a:lnTo>
                  <a:lnTo>
                    <a:pt x="1494" y="318"/>
                  </a:lnTo>
                  <a:lnTo>
                    <a:pt x="1512" y="354"/>
                  </a:lnTo>
                  <a:lnTo>
                    <a:pt x="1536" y="396"/>
                  </a:lnTo>
                  <a:lnTo>
                    <a:pt x="1554" y="432"/>
                  </a:lnTo>
                  <a:lnTo>
                    <a:pt x="1566" y="474"/>
                  </a:lnTo>
                  <a:lnTo>
                    <a:pt x="1578" y="510"/>
                  </a:lnTo>
                  <a:lnTo>
                    <a:pt x="1584" y="558"/>
                  </a:lnTo>
                  <a:lnTo>
                    <a:pt x="1584" y="588"/>
                  </a:lnTo>
                  <a:lnTo>
                    <a:pt x="1590" y="606"/>
                  </a:lnTo>
                  <a:lnTo>
                    <a:pt x="1596" y="624"/>
                  </a:lnTo>
                  <a:lnTo>
                    <a:pt x="1602" y="642"/>
                  </a:lnTo>
                  <a:lnTo>
                    <a:pt x="1614" y="660"/>
                  </a:lnTo>
                  <a:lnTo>
                    <a:pt x="1620" y="678"/>
                  </a:lnTo>
                  <a:lnTo>
                    <a:pt x="1626" y="696"/>
                  </a:lnTo>
                  <a:lnTo>
                    <a:pt x="1626" y="708"/>
                  </a:lnTo>
                  <a:lnTo>
                    <a:pt x="1620" y="726"/>
                  </a:lnTo>
                  <a:lnTo>
                    <a:pt x="1614" y="738"/>
                  </a:lnTo>
                  <a:lnTo>
                    <a:pt x="1602" y="756"/>
                  </a:lnTo>
                  <a:lnTo>
                    <a:pt x="1590" y="768"/>
                  </a:lnTo>
                  <a:lnTo>
                    <a:pt x="1578" y="780"/>
                  </a:lnTo>
                  <a:lnTo>
                    <a:pt x="1566" y="798"/>
                  </a:lnTo>
                  <a:lnTo>
                    <a:pt x="1560" y="816"/>
                  </a:lnTo>
                  <a:lnTo>
                    <a:pt x="1554" y="834"/>
                  </a:lnTo>
                  <a:lnTo>
                    <a:pt x="1554" y="858"/>
                  </a:lnTo>
                  <a:lnTo>
                    <a:pt x="1566" y="882"/>
                  </a:lnTo>
                  <a:lnTo>
                    <a:pt x="1590" y="918"/>
                  </a:lnTo>
                  <a:lnTo>
                    <a:pt x="1608" y="948"/>
                  </a:lnTo>
                  <a:lnTo>
                    <a:pt x="1626" y="972"/>
                  </a:lnTo>
                  <a:lnTo>
                    <a:pt x="1638" y="990"/>
                  </a:lnTo>
                  <a:lnTo>
                    <a:pt x="1650" y="1008"/>
                  </a:lnTo>
                  <a:lnTo>
                    <a:pt x="1668" y="1026"/>
                  </a:lnTo>
                  <a:lnTo>
                    <a:pt x="1686" y="1038"/>
                  </a:lnTo>
                  <a:lnTo>
                    <a:pt x="1710" y="1056"/>
                  </a:lnTo>
                  <a:lnTo>
                    <a:pt x="1722" y="1068"/>
                  </a:lnTo>
                  <a:lnTo>
                    <a:pt x="1734" y="1086"/>
                  </a:lnTo>
                  <a:lnTo>
                    <a:pt x="1740" y="1104"/>
                  </a:lnTo>
                  <a:lnTo>
                    <a:pt x="1740" y="1122"/>
                  </a:lnTo>
                  <a:lnTo>
                    <a:pt x="1740" y="1134"/>
                  </a:lnTo>
                  <a:lnTo>
                    <a:pt x="1734" y="1146"/>
                  </a:lnTo>
                  <a:lnTo>
                    <a:pt x="1722" y="1158"/>
                  </a:lnTo>
                  <a:lnTo>
                    <a:pt x="1716" y="1170"/>
                  </a:lnTo>
                  <a:lnTo>
                    <a:pt x="1698" y="1176"/>
                  </a:lnTo>
                  <a:lnTo>
                    <a:pt x="1662" y="1194"/>
                  </a:lnTo>
                  <a:lnTo>
                    <a:pt x="1614" y="1212"/>
                  </a:lnTo>
                  <a:lnTo>
                    <a:pt x="1614" y="1236"/>
                  </a:lnTo>
                  <a:lnTo>
                    <a:pt x="1620" y="1266"/>
                  </a:lnTo>
                  <a:lnTo>
                    <a:pt x="1626" y="1290"/>
                  </a:lnTo>
                  <a:lnTo>
                    <a:pt x="1632" y="1314"/>
                  </a:lnTo>
                  <a:lnTo>
                    <a:pt x="1626" y="1326"/>
                  </a:lnTo>
                  <a:lnTo>
                    <a:pt x="1620" y="1332"/>
                  </a:lnTo>
                  <a:lnTo>
                    <a:pt x="1614" y="1338"/>
                  </a:lnTo>
                  <a:lnTo>
                    <a:pt x="1608" y="1350"/>
                  </a:lnTo>
                  <a:lnTo>
                    <a:pt x="1596" y="1356"/>
                  </a:lnTo>
                  <a:lnTo>
                    <a:pt x="1590" y="1356"/>
                  </a:lnTo>
                  <a:lnTo>
                    <a:pt x="1572" y="1362"/>
                  </a:lnTo>
                  <a:lnTo>
                    <a:pt x="1560" y="1362"/>
                  </a:lnTo>
                  <a:lnTo>
                    <a:pt x="1584" y="1374"/>
                  </a:lnTo>
                  <a:lnTo>
                    <a:pt x="1596" y="1392"/>
                  </a:lnTo>
                  <a:lnTo>
                    <a:pt x="1602" y="1410"/>
                  </a:lnTo>
                  <a:lnTo>
                    <a:pt x="1602" y="1428"/>
                  </a:lnTo>
                  <a:lnTo>
                    <a:pt x="1590" y="1446"/>
                  </a:lnTo>
                  <a:lnTo>
                    <a:pt x="1578" y="1458"/>
                  </a:lnTo>
                  <a:lnTo>
                    <a:pt x="1554" y="1476"/>
                  </a:lnTo>
                  <a:lnTo>
                    <a:pt x="1536" y="1482"/>
                  </a:lnTo>
                  <a:lnTo>
                    <a:pt x="1536" y="1500"/>
                  </a:lnTo>
                  <a:lnTo>
                    <a:pt x="1536" y="1524"/>
                  </a:lnTo>
                  <a:lnTo>
                    <a:pt x="1548" y="1560"/>
                  </a:lnTo>
                  <a:lnTo>
                    <a:pt x="1554" y="1590"/>
                  </a:lnTo>
                  <a:lnTo>
                    <a:pt x="1560" y="1614"/>
                  </a:lnTo>
                  <a:lnTo>
                    <a:pt x="1566" y="1644"/>
                  </a:lnTo>
                  <a:lnTo>
                    <a:pt x="1560" y="1668"/>
                  </a:lnTo>
                  <a:lnTo>
                    <a:pt x="1554" y="1692"/>
                  </a:lnTo>
                  <a:lnTo>
                    <a:pt x="1536" y="1710"/>
                  </a:lnTo>
                  <a:lnTo>
                    <a:pt x="1512" y="1722"/>
                  </a:lnTo>
                  <a:lnTo>
                    <a:pt x="1494" y="1734"/>
                  </a:lnTo>
                  <a:lnTo>
                    <a:pt x="1458" y="1740"/>
                  </a:lnTo>
                  <a:lnTo>
                    <a:pt x="1398" y="1746"/>
                  </a:lnTo>
                  <a:lnTo>
                    <a:pt x="1332" y="1740"/>
                  </a:lnTo>
                  <a:lnTo>
                    <a:pt x="1278" y="1740"/>
                  </a:lnTo>
                  <a:lnTo>
                    <a:pt x="1236" y="1740"/>
                  </a:lnTo>
                  <a:lnTo>
                    <a:pt x="1212" y="1746"/>
                  </a:lnTo>
                  <a:lnTo>
                    <a:pt x="1188" y="1764"/>
                  </a:lnTo>
                  <a:lnTo>
                    <a:pt x="1164" y="1782"/>
                  </a:lnTo>
                  <a:lnTo>
                    <a:pt x="1140" y="1818"/>
                  </a:lnTo>
                  <a:lnTo>
                    <a:pt x="1122" y="1860"/>
                  </a:lnTo>
                  <a:lnTo>
                    <a:pt x="1104" y="1902"/>
                  </a:lnTo>
                  <a:lnTo>
                    <a:pt x="1086" y="1944"/>
                  </a:lnTo>
                  <a:lnTo>
                    <a:pt x="1068" y="1980"/>
                  </a:lnTo>
                  <a:lnTo>
                    <a:pt x="1044" y="2010"/>
                  </a:lnTo>
                  <a:close/>
                </a:path>
              </a:pathLst>
            </a:custGeom>
            <a:gradFill rotWithShape="0">
              <a:gsLst>
                <a:gs pos="0">
                  <a:srgbClr val="736d4e"/>
                </a:gs>
                <a:gs pos="100000">
                  <a:srgbClr val="fbeeab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352680" y="685440"/>
              <a:ext cx="2476800" cy="80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808080"/>
                    </a:outerShdw>
                  </a:effectLst>
                  <a:latin typeface="Arial Black"/>
                </a:rPr>
                <a:t>Keep in Min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99880" y="2289240"/>
            <a:ext cx="86202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a decision is based on analysis of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sampl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and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no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ntire population 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not possible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make a correct decisio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ll the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4600440"/>
            <a:ext cx="710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r objective is to try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ep 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babilit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aking a wrong deci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as small as possible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74E6-2778-4B56-9CE6-E6799E2074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14640" y="324000"/>
            <a:ext cx="493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Two kinds of error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181080" y="1523880"/>
            <a:ext cx="87152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7181" dir="1376163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look at the Canadian legal system for an analogy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09600" y="2600280"/>
            <a:ext cx="6600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…the accused person i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no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…the accused person is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ui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67040" y="1914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wo hypothe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1360" y="3929040"/>
            <a:ext cx="8915400" cy="947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34955" dir="132728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ter hearing from both the prosecution and the defence, a decision is made, declaring the accused ei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47600" y="5148360"/>
            <a:ext cx="2086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nocen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47720" y="5324400"/>
            <a:ext cx="7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772080" y="5143680"/>
            <a:ext cx="5000400" cy="1423440"/>
            <a:chOff x="3772080" y="5143680"/>
            <a:chExt cx="5000400" cy="1423440"/>
          </a:xfrm>
        </p:grpSpPr>
        <p:sp>
          <p:nvSpPr>
            <p:cNvPr id="147" name=""/>
            <p:cNvSpPr/>
            <p:nvPr/>
          </p:nvSpPr>
          <p:spPr>
            <a:xfrm>
              <a:off x="3772080" y="5143680"/>
              <a:ext cx="5000400" cy="942480"/>
            </a:xfrm>
            <a:prstGeom prst="wedgeRoundRectCallout">
              <a:avLst>
                <a:gd name="adj1" fmla="val -43175"/>
                <a:gd name="adj2" fmla="val 83185"/>
                <a:gd name="adj3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57560" y="5193360"/>
              <a:ext cx="4324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5050"/>
                  </a:solidFill>
                  <a:latin typeface="Times New Roman"/>
                </a:rPr>
                <a:t>But do the courts </a:t>
              </a:r>
              <a:r>
                <a:rPr b="1" lang="en-US" sz="2800" spc="-1" strike="noStrike" u="sng">
                  <a:solidFill>
                    <a:srgbClr val="ff5050"/>
                  </a:solidFill>
                  <a:uFillTx/>
                  <a:latin typeface="Times New Roman"/>
                </a:rPr>
                <a:t>always</a:t>
              </a:r>
              <a:r>
                <a:rPr b="1" lang="en-US" sz="2800" spc="-1" strike="noStrike">
                  <a:solidFill>
                    <a:srgbClr val="ff5050"/>
                  </a:solidFill>
                  <a:latin typeface="Times New Roman"/>
                </a:rPr>
                <a:t>                make the </a:t>
              </a: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“right</a:t>
              </a:r>
              <a:r>
                <a:rPr b="1" lang="en-US" sz="2800" spc="-1" strike="noStrike">
                  <a:solidFill>
                    <a:srgbClr val="ff5050"/>
                  </a:solidFill>
                  <a:latin typeface="Times New Roman"/>
                </a:rPr>
                <a:t>” decision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1202400" y="5775480"/>
            <a:ext cx="157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Guilt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0A14-927C-4E77-B7E2-6836E962F8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75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d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438120" y="1171440"/>
          <a:ext cx="8296200" cy="4775400"/>
        </p:xfrm>
        <a:graphic>
          <a:graphicData uri="http://schemas.openxmlformats.org/drawingml/2006/table">
            <a:tbl>
              <a:tblPr/>
              <a:tblGrid>
                <a:gridCol w="2765520"/>
                <a:gridCol w="2739960"/>
                <a:gridCol w="2790720"/>
              </a:tblGrid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476280" y="2870280"/>
            <a:ext cx="267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son i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“innoc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" y="4387680"/>
            <a:ext cx="260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erson i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“guilt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95800" y="1238400"/>
            <a:ext cx="25714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lared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’not guilty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00840" y="1181160"/>
            <a:ext cx="2600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 is decla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“guilty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4680" y="3014640"/>
            <a:ext cx="21337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rrect Dec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38960" y="4683240"/>
            <a:ext cx="19051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rrect Dec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610160"/>
            <a:ext cx="25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67440" y="2928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6024600"/>
            <a:ext cx="68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 person is innoc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 person is gui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240" y="3843360"/>
            <a:ext cx="20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0120" y="5348160"/>
            <a:ext cx="2571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52196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 II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67440" y="360036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 I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66560" y="1171440"/>
            <a:ext cx="2743200" cy="1457280"/>
            <a:chOff x="466560" y="1171440"/>
            <a:chExt cx="2743200" cy="1457280"/>
          </a:xfrm>
        </p:grpSpPr>
        <p:sp>
          <p:nvSpPr>
            <p:cNvPr id="165" name=""/>
            <p:cNvSpPr/>
            <p:nvPr/>
          </p:nvSpPr>
          <p:spPr>
            <a:xfrm flipH="1" flipV="1">
              <a:off x="466200" y="1171440"/>
              <a:ext cx="2743200" cy="1457280"/>
            </a:xfrm>
            <a:prstGeom prst="rtTriangl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0720" y="1181160"/>
              <a:ext cx="21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Court Dec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8760" y="1171440"/>
            <a:ext cx="2800080" cy="1514520"/>
            <a:chOff x="428760" y="1171440"/>
            <a:chExt cx="2800080" cy="1514520"/>
          </a:xfrm>
        </p:grpSpPr>
        <p:sp>
          <p:nvSpPr>
            <p:cNvPr id="168" name=""/>
            <p:cNvSpPr/>
            <p:nvPr/>
          </p:nvSpPr>
          <p:spPr>
            <a:xfrm>
              <a:off x="428760" y="1171440"/>
              <a:ext cx="2800080" cy="151452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720" y="2085840"/>
              <a:ext cx="1295280" cy="520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imes New Roman"/>
                </a:rPr>
                <a:t>Rea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2114640" y="324000"/>
            <a:ext cx="493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 Black"/>
              </a:rPr>
              <a:t>Two kinds of error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4AE7-BEA2-436C-ABB4-BF7FD95B9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4T20:28:44Z</dcterms:created>
  <dc:creator>Colleen Quinn &amp; Ron Thornbury</dc:creator>
  <dc:description/>
  <dc:language>en-US</dc:language>
  <cp:lastModifiedBy>jeff_skinner</cp:lastModifiedBy>
  <dcterms:modified xsi:type="dcterms:W3CDTF">2003-04-28T14:08:07Z</dcterms:modified>
  <cp:revision>144</cp:revision>
  <dc:subject/>
  <dc:title>PowerPoint Presentation</dc:title>
</cp:coreProperties>
</file>