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1.jpeg" ContentType="image/jpeg"/>
  <Override PartName="/ppt/media/image10.jpeg" ContentType="image/jpeg"/>
  <Override PartName="/ppt/media/image5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9.wmf" ContentType="image/x-wmf"/>
  <Override PartName="/ppt/media/image2.jpeg" ContentType="image/jpeg"/>
  <Override PartName="/ppt/media/image4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914400" cy="712800"/>
          </a:xfrm>
          <a:prstGeom prst="rect">
            <a:avLst/>
          </a:prstGeom>
          <a:ln w="0">
            <a:noFill/>
          </a:ln>
          <a:effectLst>
            <a:outerShdw dist="81185" dir="8478030" blurRad="0" rotWithShape="0">
              <a:srgbClr val="808080"/>
            </a:outerShdw>
          </a:effectLst>
        </p:spPr>
      </p:pic>
      <p:sp>
        <p:nvSpPr>
          <p:cNvPr id="1" name=""/>
          <p:cNvSpPr txBox="1"/>
          <p:nvPr/>
        </p:nvSpPr>
        <p:spPr>
          <a:xfrm>
            <a:off x="533520" y="228600"/>
            <a:ext cx="304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</a:rPr>
              <a:t>1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70102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 - </a:t>
            </a:r>
            <a:fld id="{A07BA5B9-B0BB-4609-A617-020BFB01A2F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80880" y="6648480"/>
            <a:ext cx="457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Copyright © 2004 by The McGraw-Hill Companies, Inc. 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cgrawhill.ca/college/lind" TargetMode="External"/><Relationship Id="rId2" Type="http://schemas.openxmlformats.org/officeDocument/2006/relationships/hyperlink" Target="http://www.mcgrawhill.ca/college/lind" TargetMode="External"/><Relationship Id="rId3" Type="http://schemas.openxmlformats.org/officeDocument/2006/relationships/hyperlink" Target="http://www.mcgrawhill.ca/college/lind" TargetMode="External"/><Relationship Id="rId4" Type="http://schemas.openxmlformats.org/officeDocument/2006/relationships/hyperlink" Target="http://www.mcgrawhill.ca/college/lind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Lind%20Cover%20Huge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614840" cy="57816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2357280" y="5424480"/>
            <a:ext cx="439128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5929" dir="7428877" blurRad="0" rotWithShape="0">
                    <a:srgbClr val="ffffcc"/>
                  </a:outerShdw>
                </a:effectLst>
                <a:latin typeface="Copper Black"/>
              </a:rPr>
              <a:t>Chapter 11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5929" dir="7428877" blurRad="0" rotWithShape="0">
                  <a:srgbClr val="ffffcc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00200" y="28954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cc"/>
                    </a:gs>
                    <a:gs pos="100000">
                      <a:srgbClr val="ff33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Statistical Inference: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cc"/>
                  </a:gs>
                  <a:gs pos="100000">
                    <a:srgbClr val="ff3300"/>
                  </a:gs>
                </a:gsLst>
                <a:lin ang="81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23880" y="2438280"/>
            <a:ext cx="63248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 algn="ctr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Pool the sample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20880" y="4114800"/>
            <a:ext cx="7605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1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ermine the value of </a:t>
            </a:r>
            <a:r>
              <a:rPr b="1" i="1" lang="en-US" sz="3200" spc="-1" strike="noStrike" u="sng">
                <a:solidFill>
                  <a:srgbClr val="ff5050"/>
                </a:solidFill>
                <a:uFillTx/>
                <a:latin typeface="Times New Roman"/>
              </a:rPr>
              <a:t>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m the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8320" y="1143000"/>
            <a:ext cx="6447240" cy="5324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85328" dir="69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Finding the value of the test stat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09960" y="1905120"/>
            <a:ext cx="34290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Two steps nee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53960" y="192240"/>
            <a:ext cx="6723360" cy="798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mall Sample Tests of Me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438280" y="4724280"/>
            <a:ext cx="4822920" cy="1524240"/>
            <a:chOff x="2438280" y="4724280"/>
            <a:chExt cx="4822920" cy="1524240"/>
          </a:xfrm>
        </p:grpSpPr>
        <p:sp>
          <p:nvSpPr>
            <p:cNvPr id="336" name=""/>
            <p:cNvSpPr/>
            <p:nvPr/>
          </p:nvSpPr>
          <p:spPr>
            <a:xfrm>
              <a:off x="4876920" y="5713560"/>
              <a:ext cx="623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37280" y="5713560"/>
              <a:ext cx="704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562200" y="5732640"/>
              <a:ext cx="77760" cy="18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39960" y="5738760"/>
              <a:ext cx="109800" cy="289080"/>
            </a:xfrm>
            <a:prstGeom prst="line">
              <a:avLst/>
            </a:prstGeom>
            <a:ln w="61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765600" y="5248080"/>
              <a:ext cx="155520" cy="779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21120" y="5248440"/>
              <a:ext cx="32767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83000" y="5202360"/>
              <a:ext cx="37782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7480" y="556884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7480" y="545004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7480" y="573408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27480" y="528480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95400" y="556884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95400" y="545004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95400" y="573408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95400" y="528480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69720" y="54100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95880" y="47624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41560" y="500688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68520" y="5445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32040" y="53341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63760" y="53341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6342120" y="5694480"/>
              <a:ext cx="287640" cy="554040"/>
              <a:chOff x="6342120" y="5694480"/>
              <a:chExt cx="287640" cy="554040"/>
            </a:xfrm>
          </p:grpSpPr>
          <p:sp>
            <p:nvSpPr>
              <p:cNvPr id="358" name=""/>
              <p:cNvSpPr/>
              <p:nvPr/>
            </p:nvSpPr>
            <p:spPr>
              <a:xfrm>
                <a:off x="6514560" y="597384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42120" y="5694480"/>
                <a:ext cx="19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038560" y="5694480"/>
              <a:ext cx="295920" cy="554040"/>
              <a:chOff x="5038560" y="5694480"/>
              <a:chExt cx="295920" cy="554040"/>
            </a:xfrm>
          </p:grpSpPr>
          <p:sp>
            <p:nvSpPr>
              <p:cNvPr id="361" name=""/>
              <p:cNvSpPr/>
              <p:nvPr/>
            </p:nvSpPr>
            <p:spPr>
              <a:xfrm>
                <a:off x="5219280" y="597384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038560" y="5694480"/>
                <a:ext cx="19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3969720" y="549432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4376880" y="4724280"/>
              <a:ext cx="297360" cy="442080"/>
              <a:chOff x="4376880" y="4724280"/>
              <a:chExt cx="297360" cy="442080"/>
            </a:xfrm>
          </p:grpSpPr>
          <p:sp>
            <p:nvSpPr>
              <p:cNvPr id="365" name=""/>
              <p:cNvSpPr/>
              <p:nvPr/>
            </p:nvSpPr>
            <p:spPr>
              <a:xfrm>
                <a:off x="4571280" y="49226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4376880" y="4724280"/>
                <a:ext cx="203400" cy="366120"/>
                <a:chOff x="4376880" y="4724280"/>
                <a:chExt cx="203400" cy="366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4419720" y="4732200"/>
                  <a:ext cx="152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376880" y="4724280"/>
                  <a:ext cx="203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9" name=""/>
            <p:cNvSpPr/>
            <p:nvPr/>
          </p:nvSpPr>
          <p:spPr>
            <a:xfrm>
              <a:off x="2438280" y="5029200"/>
              <a:ext cx="4651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505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85440" y="5627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665680" y="4724280"/>
              <a:ext cx="304200" cy="442080"/>
              <a:chOff x="5665680" y="4724280"/>
              <a:chExt cx="304200" cy="442080"/>
            </a:xfrm>
          </p:grpSpPr>
          <p:sp>
            <p:nvSpPr>
              <p:cNvPr id="372" name=""/>
              <p:cNvSpPr/>
              <p:nvPr/>
            </p:nvSpPr>
            <p:spPr>
              <a:xfrm>
                <a:off x="5866920" y="49226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5665680" y="4724280"/>
                <a:ext cx="203400" cy="366120"/>
                <a:chOff x="5665680" y="4724280"/>
                <a:chExt cx="203400" cy="3661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5665680" y="4724280"/>
                  <a:ext cx="203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715000" y="4732200"/>
                  <a:ext cx="152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76" name=""/>
          <p:cNvGrpSpPr/>
          <p:nvPr/>
        </p:nvGrpSpPr>
        <p:grpSpPr>
          <a:xfrm>
            <a:off x="2209320" y="2895480"/>
            <a:ext cx="4905720" cy="1219680"/>
            <a:chOff x="2209320" y="2895480"/>
            <a:chExt cx="4905720" cy="1219680"/>
          </a:xfrm>
        </p:grpSpPr>
        <p:sp>
          <p:nvSpPr>
            <p:cNvPr id="377" name=""/>
            <p:cNvSpPr/>
            <p:nvPr/>
          </p:nvSpPr>
          <p:spPr>
            <a:xfrm>
              <a:off x="3233880" y="3579840"/>
              <a:ext cx="3881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720" y="3551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13120" y="293544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12960" y="293544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57520" y="293544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60680" y="293544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61960" y="293544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57280" y="293544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74360" y="38098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50680" y="38098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958800" y="2971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9600" y="32767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61800" y="32767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25080" y="2971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96560" y="32004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29880" y="32767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89360" y="348948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86120" y="3489480"/>
              <a:ext cx="267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75000" y="289548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11560" y="2895480"/>
              <a:ext cx="267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22200" y="289548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41440" y="343692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47640" y="343692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89160" y="2935440"/>
              <a:ext cx="178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27080" y="293544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36720" y="2935440"/>
              <a:ext cx="178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26840" y="293544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2209320" y="3276720"/>
              <a:ext cx="833040" cy="588600"/>
              <a:chOff x="2209320" y="3276720"/>
              <a:chExt cx="833040" cy="588600"/>
            </a:xfrm>
          </p:grpSpPr>
          <p:sp>
            <p:nvSpPr>
              <p:cNvPr id="405" name=""/>
              <p:cNvSpPr/>
              <p:nvPr/>
            </p:nvSpPr>
            <p:spPr>
              <a:xfrm>
                <a:off x="2424600" y="328932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78760" y="3276720"/>
                <a:ext cx="3636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209320" y="3316320"/>
                <a:ext cx="178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431080" y="35370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38080" y="1157400"/>
            <a:ext cx="7391520" cy="5624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80880" y="1066680"/>
            <a:ext cx="8610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recent EPA study compared the highway fuel economy of domestic and imported passenger ca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457440" y="119160"/>
            <a:ext cx="2486160" cy="871560"/>
            <a:chOff x="3457440" y="119160"/>
            <a:chExt cx="2486160" cy="871560"/>
          </a:xfrm>
        </p:grpSpPr>
        <p:sp>
          <p:nvSpPr>
            <p:cNvPr id="412" name=""/>
            <p:cNvSpPr txBox="1"/>
            <p:nvPr/>
          </p:nvSpPr>
          <p:spPr>
            <a:xfrm>
              <a:off x="3457440" y="11916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4095720" y="328680"/>
              <a:ext cx="18478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85800" y="22860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ample of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15 domestic ca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vealed a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mean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33.7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mp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th a 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standard deviat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2.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mp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3505320"/>
            <a:ext cx="8534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ample of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2 imported ca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vealed a            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ea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35.7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p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th a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tandard deviat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3.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4540320"/>
            <a:ext cx="8077320" cy="947160"/>
          </a:xfrm>
          <a:prstGeom prst="rect">
            <a:avLst/>
          </a:prstGeom>
          <a:gradFill rotWithShape="0">
            <a:gsLst>
              <a:gs pos="0">
                <a:srgbClr val="f9fdb1"/>
              </a:gs>
              <a:gs pos="50000">
                <a:srgbClr val="fefefe"/>
              </a:gs>
              <a:gs pos="100000">
                <a:srgbClr val="f9fdb1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05 significance 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n the EPA conclude that the mpg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igher on the imported ca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7238880" y="5943600"/>
            <a:ext cx="1447560" cy="533520"/>
            <a:chOff x="7238880" y="5943600"/>
            <a:chExt cx="1447560" cy="533520"/>
          </a:xfrm>
        </p:grpSpPr>
        <p:sp>
          <p:nvSpPr>
            <p:cNvPr id="418" name=""/>
            <p:cNvSpPr/>
            <p:nvPr/>
          </p:nvSpPr>
          <p:spPr>
            <a:xfrm>
              <a:off x="7238880" y="6010920"/>
              <a:ext cx="1430280" cy="46584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238880" y="5943600"/>
              <a:ext cx="1430280" cy="53352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32120" y="6125400"/>
              <a:ext cx="1354320" cy="22428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7472520" y="6010920"/>
              <a:ext cx="822960" cy="37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Arial Black"/>
                </a:rPr>
                <a:t>Solv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cover dir="ru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666880" y="200160"/>
            <a:ext cx="381024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82880" y="1104840"/>
            <a:ext cx="5856120" cy="487800"/>
            <a:chOff x="182880" y="1104840"/>
            <a:chExt cx="5856120" cy="487800"/>
          </a:xfrm>
        </p:grpSpPr>
        <p:sp>
          <p:nvSpPr>
            <p:cNvPr id="424" name=""/>
            <p:cNvSpPr/>
            <p:nvPr/>
          </p:nvSpPr>
          <p:spPr>
            <a:xfrm>
              <a:off x="1596960" y="1193760"/>
              <a:ext cx="444204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84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null and alternate hypothe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2880" y="110484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02680" y="1990800"/>
            <a:ext cx="5750280" cy="459720"/>
            <a:chOff x="202680" y="1990800"/>
            <a:chExt cx="5750280" cy="459720"/>
          </a:xfrm>
        </p:grpSpPr>
        <p:sp>
          <p:nvSpPr>
            <p:cNvPr id="427" name=""/>
            <p:cNvSpPr/>
            <p:nvPr/>
          </p:nvSpPr>
          <p:spPr>
            <a:xfrm>
              <a:off x="1600200" y="2019240"/>
              <a:ext cx="435276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elect the level of signific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2680" y="19908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02680" y="2556000"/>
            <a:ext cx="4255200" cy="459720"/>
            <a:chOff x="202680" y="2556000"/>
            <a:chExt cx="4255200" cy="459720"/>
          </a:xfrm>
        </p:grpSpPr>
        <p:sp>
          <p:nvSpPr>
            <p:cNvPr id="430" name=""/>
            <p:cNvSpPr/>
            <p:nvPr/>
          </p:nvSpPr>
          <p:spPr>
            <a:xfrm>
              <a:off x="1585800" y="2604960"/>
              <a:ext cx="28720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dentify the test statis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2680" y="25560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31120" y="3276720"/>
            <a:ext cx="4126680" cy="459720"/>
            <a:chOff x="231120" y="3276720"/>
            <a:chExt cx="4126680" cy="459720"/>
          </a:xfrm>
        </p:grpSpPr>
        <p:sp>
          <p:nvSpPr>
            <p:cNvPr id="433" name=""/>
            <p:cNvSpPr/>
            <p:nvPr/>
          </p:nvSpPr>
          <p:spPr>
            <a:xfrm>
              <a:off x="1595520" y="3305160"/>
              <a:ext cx="27622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1120" y="327672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31120" y="4191120"/>
            <a:ext cx="4340880" cy="719640"/>
            <a:chOff x="231120" y="4191120"/>
            <a:chExt cx="4340880" cy="719640"/>
          </a:xfrm>
        </p:grpSpPr>
        <p:sp>
          <p:nvSpPr>
            <p:cNvPr id="436" name=""/>
            <p:cNvSpPr/>
            <p:nvPr/>
          </p:nvSpPr>
          <p:spPr>
            <a:xfrm>
              <a:off x="1600200" y="4206960"/>
              <a:ext cx="2971800" cy="70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mpute the test statistic and make a dec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1120" y="419112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6172200" y="990720"/>
            <a:ext cx="236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µ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72200" y="1401840"/>
            <a:ext cx="243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µ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µ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24480" y="1995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0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48320" y="2546280"/>
            <a:ext cx="4209840" cy="715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cause both samples are less than 30, the test statistic i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24280" y="3352680"/>
            <a:ext cx="38102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08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are 25 d.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86400" y="4343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oled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809520" y="4800600"/>
            <a:ext cx="4905720" cy="1219680"/>
            <a:chOff x="3809520" y="4800600"/>
            <a:chExt cx="4905720" cy="1219680"/>
          </a:xfrm>
        </p:grpSpPr>
        <p:sp>
          <p:nvSpPr>
            <p:cNvPr id="445" name=""/>
            <p:cNvSpPr/>
            <p:nvPr/>
          </p:nvSpPr>
          <p:spPr>
            <a:xfrm>
              <a:off x="4834080" y="5484960"/>
              <a:ext cx="3881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77920" y="54565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113320" y="484056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13160" y="484056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57720" y="484056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60880" y="484056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762160" y="484056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57480" y="484056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74560" y="57150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50880" y="57150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559000" y="48769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79800" y="51818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62000" y="51818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25280" y="48769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6760" y="5105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0080" y="51818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189560" y="539460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86320" y="5394600"/>
              <a:ext cx="267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75200" y="480060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11760" y="4800600"/>
              <a:ext cx="267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22400" y="480060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41640" y="534204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47840" y="534204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289360" y="4840560"/>
              <a:ext cx="178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27280" y="484056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36920" y="4840560"/>
              <a:ext cx="178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27040" y="484056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3809520" y="5181840"/>
              <a:ext cx="833040" cy="588600"/>
              <a:chOff x="3809520" y="5181840"/>
              <a:chExt cx="833040" cy="588600"/>
            </a:xfrm>
          </p:grpSpPr>
          <p:sp>
            <p:nvSpPr>
              <p:cNvPr id="473" name=""/>
              <p:cNvSpPr/>
              <p:nvPr/>
            </p:nvSpPr>
            <p:spPr>
              <a:xfrm>
                <a:off x="4024800" y="519444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78960" y="5181840"/>
                <a:ext cx="3636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09520" y="5221440"/>
                <a:ext cx="178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031280" y="544212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4800600" y="6146640"/>
            <a:ext cx="3581280" cy="459720"/>
            <a:chOff x="4800600" y="6146640"/>
            <a:chExt cx="3581280" cy="459720"/>
          </a:xfrm>
        </p:grpSpPr>
        <p:sp>
          <p:nvSpPr>
            <p:cNvPr id="478" name=""/>
            <p:cNvSpPr/>
            <p:nvPr/>
          </p:nvSpPr>
          <p:spPr>
            <a:xfrm>
              <a:off x="4800600" y="6400800"/>
              <a:ext cx="3581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106240" y="6146640"/>
              <a:ext cx="2884320" cy="459720"/>
            </a:xfrm>
            <a:prstGeom prst="rect">
              <a:avLst/>
            </a:prstGeom>
            <a:gradFill rotWithShape="0">
              <a:gsLst>
                <a:gs pos="0">
                  <a:srgbClr val="f385bc"/>
                </a:gs>
                <a:gs pos="50000">
                  <a:srgbClr val="fefefe"/>
                </a:gs>
                <a:gs pos="100000">
                  <a:srgbClr val="f385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ution continues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666880" y="200160"/>
            <a:ext cx="381024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31120" y="1263600"/>
            <a:ext cx="4340880" cy="719640"/>
            <a:chOff x="231120" y="1263600"/>
            <a:chExt cx="4340880" cy="719640"/>
          </a:xfrm>
        </p:grpSpPr>
        <p:sp>
          <p:nvSpPr>
            <p:cNvPr id="482" name=""/>
            <p:cNvSpPr/>
            <p:nvPr/>
          </p:nvSpPr>
          <p:spPr>
            <a:xfrm>
              <a:off x="1600200" y="1279440"/>
              <a:ext cx="2971800" cy="70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mpute the test statistic and make a dec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1120" y="12636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5486400" y="1415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oled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676160" y="2041560"/>
            <a:ext cx="4905720" cy="1219680"/>
            <a:chOff x="1676160" y="2041560"/>
            <a:chExt cx="4905720" cy="1219680"/>
          </a:xfrm>
        </p:grpSpPr>
        <p:sp>
          <p:nvSpPr>
            <p:cNvPr id="486" name=""/>
            <p:cNvSpPr/>
            <p:nvPr/>
          </p:nvSpPr>
          <p:spPr>
            <a:xfrm>
              <a:off x="2700720" y="2725920"/>
              <a:ext cx="3881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44560" y="26974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79960" y="208152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79800" y="20815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824360" y="208152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27520" y="208152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28800" y="20815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24120" y="208152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41200" y="29559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17520" y="29559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25640" y="21178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46440" y="2422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28640" y="2422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91920" y="21178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63400" y="23464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096720" y="2422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56200" y="263556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152960" y="2635560"/>
              <a:ext cx="267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41840" y="204156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78400" y="2041560"/>
              <a:ext cx="267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89040" y="204156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08280" y="258300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714480" y="258300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56000" y="2081520"/>
              <a:ext cx="178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993920" y="208152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03560" y="2081520"/>
              <a:ext cx="178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93680" y="208152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1676160" y="2422800"/>
              <a:ext cx="833040" cy="588600"/>
              <a:chOff x="1676160" y="2422800"/>
              <a:chExt cx="833040" cy="588600"/>
            </a:xfrm>
          </p:grpSpPr>
          <p:sp>
            <p:nvSpPr>
              <p:cNvPr id="514" name=""/>
              <p:cNvSpPr/>
              <p:nvPr/>
            </p:nvSpPr>
            <p:spPr>
              <a:xfrm>
                <a:off x="1891440" y="243540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145600" y="2422800"/>
                <a:ext cx="3636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676160" y="2462400"/>
                <a:ext cx="178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897920" y="268308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8" name=""/>
          <p:cNvSpPr/>
          <p:nvPr/>
        </p:nvSpPr>
        <p:spPr>
          <a:xfrm>
            <a:off x="2603520" y="3809880"/>
            <a:ext cx="38163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3794400" y="3740040"/>
            <a:ext cx="1540800" cy="527400"/>
            <a:chOff x="3794400" y="3740040"/>
            <a:chExt cx="1540800" cy="527400"/>
          </a:xfrm>
        </p:grpSpPr>
        <p:sp>
          <p:nvSpPr>
            <p:cNvPr id="520" name=""/>
            <p:cNvSpPr/>
            <p:nvPr/>
          </p:nvSpPr>
          <p:spPr>
            <a:xfrm>
              <a:off x="5130360" y="37796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92800" y="377964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94400" y="377964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25160" y="37400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64920" y="374004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4336200" y="3260880"/>
            <a:ext cx="2065320" cy="527400"/>
            <a:chOff x="4336200" y="3260880"/>
            <a:chExt cx="2065320" cy="527400"/>
          </a:xfrm>
        </p:grpSpPr>
        <p:sp>
          <p:nvSpPr>
            <p:cNvPr id="526" name=""/>
            <p:cNvSpPr/>
            <p:nvPr/>
          </p:nvSpPr>
          <p:spPr>
            <a:xfrm>
              <a:off x="6155640" y="33004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85720" y="33004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01840" y="330048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1920" y="33004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07640" y="330048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365080" y="33004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66040" y="33004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81080" y="33004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86320" y="3273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03080" y="3260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336200" y="32608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2621880" y="3260880"/>
            <a:ext cx="1741320" cy="527400"/>
            <a:chOff x="2621880" y="3260880"/>
            <a:chExt cx="1741320" cy="527400"/>
          </a:xfrm>
        </p:grpSpPr>
        <p:sp>
          <p:nvSpPr>
            <p:cNvPr id="538" name=""/>
            <p:cNvSpPr/>
            <p:nvPr/>
          </p:nvSpPr>
          <p:spPr>
            <a:xfrm>
              <a:off x="4117320" y="33004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47400" y="33004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61720" y="330048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33004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58160" y="330048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15600" y="33004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705400" y="33004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48000" y="3273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72680" y="3260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21880" y="33004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676160" y="3298680"/>
            <a:ext cx="840960" cy="625320"/>
            <a:chOff x="1676160" y="3298680"/>
            <a:chExt cx="840960" cy="625320"/>
          </a:xfrm>
        </p:grpSpPr>
        <p:sp>
          <p:nvSpPr>
            <p:cNvPr id="549" name=""/>
            <p:cNvSpPr/>
            <p:nvPr/>
          </p:nvSpPr>
          <p:spPr>
            <a:xfrm>
              <a:off x="1958400" y="32986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153520" y="337500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63080" y="3538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676160" y="3298680"/>
              <a:ext cx="178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7014240" y="3452760"/>
            <a:ext cx="1171080" cy="521640"/>
            <a:chOff x="7014240" y="3452760"/>
            <a:chExt cx="1171080" cy="521640"/>
          </a:xfrm>
        </p:grpSpPr>
        <p:sp>
          <p:nvSpPr>
            <p:cNvPr id="554" name=""/>
            <p:cNvSpPr/>
            <p:nvPr/>
          </p:nvSpPr>
          <p:spPr>
            <a:xfrm>
              <a:off x="7571880" y="3486600"/>
              <a:ext cx="613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91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89080" y="34866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319160" y="34866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014240" y="345276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228600" y="4572000"/>
            <a:ext cx="1981080" cy="6426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168960" y="4875120"/>
            <a:ext cx="2746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683040" y="4419720"/>
            <a:ext cx="1701360" cy="473760"/>
            <a:chOff x="6683040" y="4419720"/>
            <a:chExt cx="1701360" cy="473760"/>
          </a:xfrm>
        </p:grpSpPr>
        <p:grpSp>
          <p:nvGrpSpPr>
            <p:cNvPr id="561" name=""/>
            <p:cNvGrpSpPr/>
            <p:nvPr/>
          </p:nvGrpSpPr>
          <p:grpSpPr>
            <a:xfrm>
              <a:off x="7476840" y="4419720"/>
              <a:ext cx="907560" cy="473760"/>
              <a:chOff x="7476840" y="4419720"/>
              <a:chExt cx="907560" cy="473760"/>
            </a:xfrm>
          </p:grpSpPr>
          <p:sp>
            <p:nvSpPr>
              <p:cNvPr id="562" name=""/>
              <p:cNvSpPr/>
              <p:nvPr/>
            </p:nvSpPr>
            <p:spPr>
              <a:xfrm>
                <a:off x="7476840" y="4419720"/>
                <a:ext cx="12276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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199360" y="4451400"/>
                <a:ext cx="1850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3333cc"/>
                    </a:solidFill>
                    <a:latin typeface="Times New Roman"/>
                  </a:rPr>
                  <a:t>7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100360" y="4451400"/>
                <a:ext cx="936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3333cc"/>
                    </a:solidFill>
                    <a:latin typeface="Times New Roman"/>
                  </a:rPr>
                  <a:t>.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707240" y="4451400"/>
                <a:ext cx="36936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3333cc"/>
                    </a:solidFill>
                    <a:latin typeface="Times New Roman"/>
                  </a:rPr>
                  <a:t>35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6683040" y="4451400"/>
              <a:ext cx="675720" cy="442080"/>
              <a:chOff x="6683040" y="4451400"/>
              <a:chExt cx="675720" cy="442080"/>
            </a:xfrm>
          </p:grpSpPr>
          <p:sp>
            <p:nvSpPr>
              <p:cNvPr id="567" name=""/>
              <p:cNvSpPr/>
              <p:nvPr/>
            </p:nvSpPr>
            <p:spPr>
              <a:xfrm>
                <a:off x="7173720" y="4451400"/>
                <a:ext cx="1850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9900"/>
                    </a:solidFill>
                    <a:latin typeface="Times New Roman"/>
                  </a:rPr>
                  <a:t>7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074720" y="4451400"/>
                <a:ext cx="936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9900"/>
                    </a:solidFill>
                    <a:latin typeface="Times New Roman"/>
                  </a:rPr>
                  <a:t>.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683040" y="4451400"/>
                <a:ext cx="36936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9900"/>
                    </a:solidFill>
                    <a:latin typeface="Times New Roman"/>
                  </a:rPr>
                  <a:t>33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0" name=""/>
          <p:cNvSpPr/>
          <p:nvPr/>
        </p:nvSpPr>
        <p:spPr>
          <a:xfrm>
            <a:off x="5716800" y="460044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438280" y="4495680"/>
            <a:ext cx="3276720" cy="1219320"/>
            <a:chOff x="2438280" y="4495680"/>
            <a:chExt cx="3276720" cy="1219320"/>
          </a:xfrm>
        </p:grpSpPr>
        <p:sp>
          <p:nvSpPr>
            <p:cNvPr id="572" name=""/>
            <p:cNvSpPr/>
            <p:nvPr/>
          </p:nvSpPr>
          <p:spPr>
            <a:xfrm>
              <a:off x="2616120" y="47163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438280" y="4617720"/>
              <a:ext cx="279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505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76920" y="5305320"/>
              <a:ext cx="704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2876400" y="5033880"/>
              <a:ext cx="324000" cy="528480"/>
              <a:chOff x="2876400" y="5033880"/>
              <a:chExt cx="324000" cy="528480"/>
            </a:xfrm>
          </p:grpSpPr>
          <p:sp>
            <p:nvSpPr>
              <p:cNvPr id="576" name=""/>
              <p:cNvSpPr/>
              <p:nvPr/>
            </p:nvSpPr>
            <p:spPr>
              <a:xfrm flipV="1">
                <a:off x="2876400" y="5339880"/>
                <a:ext cx="77760" cy="140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54160" y="5344920"/>
                <a:ext cx="109800" cy="21744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3079800" y="5033880"/>
                <a:ext cx="120600" cy="5284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3200400" y="500184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95480" y="4876560"/>
              <a:ext cx="2819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564800" y="500184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46480" y="44956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82720" y="50940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71680" y="49258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081760" y="5203440"/>
              <a:ext cx="287640" cy="484560"/>
              <a:chOff x="5081760" y="5203440"/>
              <a:chExt cx="287640" cy="484560"/>
            </a:xfrm>
          </p:grpSpPr>
          <p:sp>
            <p:nvSpPr>
              <p:cNvPr id="586" name=""/>
              <p:cNvSpPr/>
              <p:nvPr/>
            </p:nvSpPr>
            <p:spPr>
              <a:xfrm>
                <a:off x="5254200" y="541332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081760" y="5203440"/>
                <a:ext cx="19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809880" y="4925880"/>
              <a:ext cx="623880" cy="789120"/>
              <a:chOff x="3809880" y="4925880"/>
              <a:chExt cx="623880" cy="789120"/>
            </a:xfrm>
          </p:grpSpPr>
          <p:sp>
            <p:nvSpPr>
              <p:cNvPr id="589" name=""/>
              <p:cNvSpPr/>
              <p:nvPr/>
            </p:nvSpPr>
            <p:spPr>
              <a:xfrm>
                <a:off x="3809880" y="5305320"/>
                <a:ext cx="623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96720" y="492588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3971520" y="5230440"/>
                <a:ext cx="295920" cy="484560"/>
                <a:chOff x="3971520" y="5230440"/>
                <a:chExt cx="295920" cy="48456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4152240" y="5440320"/>
                  <a:ext cx="115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971520" y="5230440"/>
                  <a:ext cx="1987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3283920" y="513072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3691080" y="4503600"/>
              <a:ext cx="297360" cy="392040"/>
              <a:chOff x="3691080" y="4503600"/>
              <a:chExt cx="297360" cy="392040"/>
            </a:xfrm>
          </p:grpSpPr>
          <p:sp>
            <p:nvSpPr>
              <p:cNvPr id="596" name=""/>
              <p:cNvSpPr/>
              <p:nvPr/>
            </p:nvSpPr>
            <p:spPr>
              <a:xfrm>
                <a:off x="3885480" y="46519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3691080" y="4503600"/>
                <a:ext cx="203400" cy="366120"/>
                <a:chOff x="3691080" y="4503600"/>
                <a:chExt cx="203400" cy="3661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3733920" y="4509360"/>
                  <a:ext cx="1522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691080" y="4503600"/>
                  <a:ext cx="203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0" name=""/>
            <p:cNvSpPr/>
            <p:nvPr/>
          </p:nvSpPr>
          <p:spPr>
            <a:xfrm>
              <a:off x="3599640" y="5230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4419720" y="4495680"/>
              <a:ext cx="303480" cy="392040"/>
              <a:chOff x="4419720" y="4495680"/>
              <a:chExt cx="303480" cy="392040"/>
            </a:xfrm>
          </p:grpSpPr>
          <p:sp>
            <p:nvSpPr>
              <p:cNvPr id="602" name=""/>
              <p:cNvSpPr/>
              <p:nvPr/>
            </p:nvSpPr>
            <p:spPr>
              <a:xfrm>
                <a:off x="4620240" y="46440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4419720" y="4495680"/>
                <a:ext cx="203400" cy="366120"/>
                <a:chOff x="4419720" y="4495680"/>
                <a:chExt cx="203400" cy="36612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4419720" y="4495680"/>
                  <a:ext cx="2034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4468680" y="4501440"/>
                  <a:ext cx="1519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6" name=""/>
            <p:cNvSpPr/>
            <p:nvPr/>
          </p:nvSpPr>
          <p:spPr>
            <a:xfrm>
              <a:off x="3733920" y="5028840"/>
              <a:ext cx="1904760" cy="63684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6076800" y="4916520"/>
            <a:ext cx="2762280" cy="761040"/>
            <a:chOff x="6076800" y="4916520"/>
            <a:chExt cx="2762280" cy="761040"/>
          </a:xfrm>
        </p:grpSpPr>
        <p:sp>
          <p:nvSpPr>
            <p:cNvPr id="608" name=""/>
            <p:cNvSpPr/>
            <p:nvPr/>
          </p:nvSpPr>
          <p:spPr>
            <a:xfrm>
              <a:off x="7478640" y="5332320"/>
              <a:ext cx="3841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237520" y="5332320"/>
              <a:ext cx="39060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92880" y="5027400"/>
              <a:ext cx="244620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935480" y="4997160"/>
              <a:ext cx="21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221320" y="523548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cc"/>
                  </a:solidFill>
                  <a:latin typeface="Times New Roman"/>
                </a:rPr>
                <a:t>1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334000" y="491652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62440" y="523548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9900"/>
                  </a:solidFill>
                  <a:latin typeface="Times New Roman"/>
                </a:rPr>
                <a:t>1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71880" y="491652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698520" y="5082840"/>
              <a:ext cx="554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918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600240" y="508284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03680" y="5082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346880" y="5105160"/>
              <a:ext cx="1447920" cy="50112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6076800" y="5033520"/>
              <a:ext cx="324000" cy="528120"/>
              <a:chOff x="6076800" y="5033520"/>
              <a:chExt cx="324000" cy="528120"/>
            </a:xfrm>
          </p:grpSpPr>
          <p:sp>
            <p:nvSpPr>
              <p:cNvPr id="621" name=""/>
              <p:cNvSpPr/>
              <p:nvPr/>
            </p:nvSpPr>
            <p:spPr>
              <a:xfrm flipV="1">
                <a:off x="6076800" y="5339880"/>
                <a:ext cx="77760" cy="136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154560" y="5344560"/>
                <a:ext cx="109800" cy="21708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6280200" y="5033520"/>
                <a:ext cx="120600" cy="5281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"/>
          <p:cNvSpPr/>
          <p:nvPr/>
        </p:nvSpPr>
        <p:spPr>
          <a:xfrm>
            <a:off x="2514600" y="5867280"/>
            <a:ext cx="6095880" cy="124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fe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nnot be rejected…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insuffic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vidence.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0880" y="5867280"/>
            <a:ext cx="184788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Conclu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</p:spTree>
  </p:cSld>
  <p:transition>
    <p:pull dir="r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12760" y="3914640"/>
            <a:ext cx="4359240" cy="22269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wished to measure the effectiveness of a new diet, you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ould weigh at the star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t the finish of the program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362320" y="2971800"/>
            <a:ext cx="0" cy="99072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3124080"/>
            <a:ext cx="0" cy="914400"/>
          </a:xfrm>
          <a:prstGeom prst="line">
            <a:avLst/>
          </a:prstGeom>
          <a:ln w="7632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00600" y="4192560"/>
            <a:ext cx="4114800" cy="234936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fefefe"/>
              </a:gs>
              <a:gs pos="100000">
                <a:srgbClr val="99ffcc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wished to buy a car, you would look at the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same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c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 two  (or more)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different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dealershi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and compare the pric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676520" y="171360"/>
            <a:ext cx="5790960" cy="10479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00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  <a:effectLst>
            <a:outerShdw dist="19753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ypothesis Testing Involving               Paired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352680" y="3505320"/>
            <a:ext cx="25146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5800" y="1523880"/>
            <a:ext cx="3429000" cy="22269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65581" dir="73488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dependent sampl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samples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at are not related                  in any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76920" y="1523880"/>
            <a:ext cx="3886200" cy="222696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fefefe"/>
              </a:gs>
              <a:gs pos="100000">
                <a:srgbClr val="99ffcc"/>
              </a:gs>
            </a:gsLst>
            <a:lin ang="8100000"/>
          </a:gradFill>
          <a:ln w="0">
            <a:noFill/>
          </a:ln>
          <a:effectLst>
            <a:outerShdw dist="172675" dir="756058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pendent samples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samples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at ar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aire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related                                         in same fash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1333440" y="4267080"/>
            <a:ext cx="647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727200" y="1371600"/>
            <a:ext cx="644400" cy="9144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895320" y="1523880"/>
            <a:ext cx="7351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the following test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e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the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mples ar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penden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943600" y="3048120"/>
            <a:ext cx="1542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where</a:t>
            </a:r>
            <a:endParaRPr b="0" lang="en-US" sz="2400" spc="1" strike="noStrike">
              <a:ln w="9360">
                <a:solidFill>
                  <a:srgbClr val="6699ff"/>
                </a:solidFill>
                <a:miter/>
              </a:ln>
              <a:solidFill>
                <a:srgbClr val="3333cc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8" name=""/>
          <p:cNvSpPr/>
          <p:nvPr/>
        </p:nvSpPr>
        <p:spPr>
          <a:xfrm>
            <a:off x="1676520" y="171360"/>
            <a:ext cx="5790960" cy="10479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00ffff"/>
              </a:gs>
              <a:gs pos="100000">
                <a:srgbClr val="99ff99"/>
              </a:gs>
            </a:gsLst>
            <a:lin ang="5400000"/>
          </a:gradFill>
          <a:ln w="0">
            <a:noFill/>
          </a:ln>
          <a:effectLst>
            <a:outerShdw dist="19753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ypothesis Testing Involving               Paired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198800" y="4260960"/>
            <a:ext cx="339120" cy="564120"/>
            <a:chOff x="1198800" y="4260960"/>
            <a:chExt cx="339120" cy="564120"/>
          </a:xfrm>
        </p:grpSpPr>
        <p:sp>
          <p:nvSpPr>
            <p:cNvPr id="640" name=""/>
            <p:cNvSpPr/>
            <p:nvPr/>
          </p:nvSpPr>
          <p:spPr>
            <a:xfrm>
              <a:off x="1257120" y="4273560"/>
              <a:ext cx="2080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98800" y="4260960"/>
              <a:ext cx="3391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7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676520" y="56865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number of pairs (differen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164240" y="4800600"/>
            <a:ext cx="503640" cy="8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i="1" lang="en-US" sz="4900" spc="-1" strike="noStrike" baseline="-25000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78680" y="4950000"/>
            <a:ext cx="70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standard devi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144440" y="5638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438000" y="2908440"/>
            <a:ext cx="2181600" cy="1082880"/>
            <a:chOff x="3438000" y="2908440"/>
            <a:chExt cx="2181600" cy="1082880"/>
          </a:xfrm>
        </p:grpSpPr>
        <p:grpSp>
          <p:nvGrpSpPr>
            <p:cNvPr id="647" name=""/>
            <p:cNvGrpSpPr/>
            <p:nvPr/>
          </p:nvGrpSpPr>
          <p:grpSpPr>
            <a:xfrm>
              <a:off x="3438000" y="2908440"/>
              <a:ext cx="2181600" cy="1082880"/>
              <a:chOff x="3438000" y="2908440"/>
              <a:chExt cx="2181600" cy="1082880"/>
            </a:xfrm>
          </p:grpSpPr>
          <p:sp>
            <p:nvSpPr>
              <p:cNvPr id="648" name=""/>
              <p:cNvSpPr/>
              <p:nvPr/>
            </p:nvSpPr>
            <p:spPr>
              <a:xfrm>
                <a:off x="4788000" y="2922480"/>
                <a:ext cx="25704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4975200" y="3740040"/>
                <a:ext cx="65160" cy="30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40360" y="3747960"/>
                <a:ext cx="95040" cy="13356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145120" y="3484080"/>
                <a:ext cx="125280" cy="397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270400" y="3484440"/>
                <a:ext cx="308160" cy="1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154400" y="3424320"/>
                <a:ext cx="146520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38000" y="3201840"/>
                <a:ext cx="22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712760" y="290844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293440" y="350352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687120" y="3156120"/>
                <a:ext cx="323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708080" y="3503520"/>
                <a:ext cx="11340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197240" y="3421080"/>
              <a:ext cx="357120" cy="542160"/>
              <a:chOff x="4197240" y="3421080"/>
              <a:chExt cx="357120" cy="542160"/>
            </a:xfrm>
          </p:grpSpPr>
          <p:sp>
            <p:nvSpPr>
              <p:cNvPr id="660" name=""/>
              <p:cNvSpPr/>
              <p:nvPr/>
            </p:nvSpPr>
            <p:spPr>
              <a:xfrm>
                <a:off x="4197240" y="3421080"/>
                <a:ext cx="15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379760" y="36734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900" spc="-1" strike="noStrike">
                    <a:solidFill>
                      <a:srgbClr val="ff3300"/>
                    </a:solidFill>
                    <a:latin typeface="Times New Roman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638280" y="3124080"/>
            <a:ext cx="7867440" cy="22860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838080" y="76320"/>
            <a:ext cx="739152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independent testing agency                             i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omparing the daily rental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renting a compact car from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rt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v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random sample of eight cities revealed the following inform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80880" y="2244600"/>
            <a:ext cx="2751120" cy="4191120"/>
            <a:chOff x="380880" y="2244600"/>
            <a:chExt cx="2751120" cy="4191120"/>
          </a:xfrm>
        </p:grpSpPr>
        <p:sp>
          <p:nvSpPr>
            <p:cNvPr id="665" name=""/>
            <p:cNvSpPr/>
            <p:nvPr/>
          </p:nvSpPr>
          <p:spPr>
            <a:xfrm>
              <a:off x="380880" y="2756160"/>
              <a:ext cx="2751120" cy="3679560"/>
            </a:xfrm>
            <a:prstGeom prst="rect">
              <a:avLst/>
            </a:prstGeom>
            <a:solidFill>
              <a:srgbClr val="ffffcc">
                <a:alpha val="7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t the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.0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significance level, can the testing agency conclude that there is a </a:t>
              </a:r>
              <a:r>
                <a:rPr b="1" i="1" lang="en-US" sz="2800" spc="-1" strike="noStrike">
                  <a:solidFill>
                    <a:srgbClr val="ff5050"/>
                  </a:solidFill>
                  <a:latin typeface="Times New Roman"/>
                </a:rPr>
                <a:t>differenc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in the rental charged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6" name="" descr=""/>
            <p:cNvPicPr/>
            <p:nvPr/>
          </p:nvPicPr>
          <p:blipFill>
            <a:blip r:embed="rId2"/>
            <a:srcRect l="4929" t="0" r="7427" b="5786"/>
            <a:stretch/>
          </p:blipFill>
          <p:spPr>
            <a:xfrm>
              <a:off x="1447920" y="2244600"/>
              <a:ext cx="1015920" cy="10011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67" name=""/>
          <p:cNvGraphicFramePr/>
          <p:nvPr/>
        </p:nvGraphicFramePr>
        <p:xfrm>
          <a:off x="3200400" y="2666880"/>
          <a:ext cx="5257800" cy="3743280"/>
        </p:xfrm>
        <a:graphic>
          <a:graphicData uri="http://schemas.openxmlformats.org/drawingml/2006/table">
            <a:tbl>
              <a:tblPr/>
              <a:tblGrid>
                <a:gridCol w="1841400"/>
                <a:gridCol w="1455840"/>
                <a:gridCol w="196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ertz (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Avis (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Halif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$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$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Quebec 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$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$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Kings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oro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Winni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al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Saskat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Vancou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666880" y="200160"/>
            <a:ext cx="381024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82880" y="1104840"/>
            <a:ext cx="5856120" cy="487800"/>
            <a:chOff x="182880" y="1104840"/>
            <a:chExt cx="5856120" cy="487800"/>
          </a:xfrm>
        </p:grpSpPr>
        <p:sp>
          <p:nvSpPr>
            <p:cNvPr id="670" name=""/>
            <p:cNvSpPr/>
            <p:nvPr/>
          </p:nvSpPr>
          <p:spPr>
            <a:xfrm>
              <a:off x="1596960" y="1193760"/>
              <a:ext cx="444204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84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null and alternate hypothe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82880" y="110484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202680" y="1990800"/>
            <a:ext cx="5750280" cy="459720"/>
            <a:chOff x="202680" y="1990800"/>
            <a:chExt cx="5750280" cy="459720"/>
          </a:xfrm>
        </p:grpSpPr>
        <p:sp>
          <p:nvSpPr>
            <p:cNvPr id="673" name=""/>
            <p:cNvSpPr/>
            <p:nvPr/>
          </p:nvSpPr>
          <p:spPr>
            <a:xfrm>
              <a:off x="1600200" y="2019240"/>
              <a:ext cx="435276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elect the level of signific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02680" y="19908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202680" y="2556000"/>
            <a:ext cx="4255200" cy="459720"/>
            <a:chOff x="202680" y="2556000"/>
            <a:chExt cx="4255200" cy="459720"/>
          </a:xfrm>
        </p:grpSpPr>
        <p:sp>
          <p:nvSpPr>
            <p:cNvPr id="676" name=""/>
            <p:cNvSpPr/>
            <p:nvPr/>
          </p:nvSpPr>
          <p:spPr>
            <a:xfrm>
              <a:off x="1585800" y="2604960"/>
              <a:ext cx="28720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dentify the test statis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02680" y="25560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31120" y="3276720"/>
            <a:ext cx="4126680" cy="459720"/>
            <a:chOff x="231120" y="3276720"/>
            <a:chExt cx="4126680" cy="459720"/>
          </a:xfrm>
        </p:grpSpPr>
        <p:sp>
          <p:nvSpPr>
            <p:cNvPr id="679" name=""/>
            <p:cNvSpPr/>
            <p:nvPr/>
          </p:nvSpPr>
          <p:spPr>
            <a:xfrm>
              <a:off x="1595520" y="3305160"/>
              <a:ext cx="27622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1120" y="327672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231120" y="4616280"/>
            <a:ext cx="4340880" cy="719640"/>
            <a:chOff x="231120" y="4616280"/>
            <a:chExt cx="4340880" cy="719640"/>
          </a:xfrm>
        </p:grpSpPr>
        <p:sp>
          <p:nvSpPr>
            <p:cNvPr id="682" name=""/>
            <p:cNvSpPr/>
            <p:nvPr/>
          </p:nvSpPr>
          <p:spPr>
            <a:xfrm>
              <a:off x="1600200" y="4632120"/>
              <a:ext cx="2971800" cy="70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mpute the test statistic and make a dec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1120" y="461628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6172200" y="990720"/>
            <a:ext cx="236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24480" y="1995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0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648320" y="2546280"/>
            <a:ext cx="4209840" cy="715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cause both samples are less than 30, the test distribution i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800600" y="3233880"/>
            <a:ext cx="380988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&lt; 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36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&gt; 2.3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re are 7 d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5410080" y="6172200"/>
            <a:ext cx="3581280" cy="459720"/>
            <a:chOff x="5410080" y="6172200"/>
            <a:chExt cx="3581280" cy="459720"/>
          </a:xfrm>
        </p:grpSpPr>
        <p:sp>
          <p:nvSpPr>
            <p:cNvPr id="689" name=""/>
            <p:cNvSpPr/>
            <p:nvPr/>
          </p:nvSpPr>
          <p:spPr>
            <a:xfrm>
              <a:off x="5410080" y="6426360"/>
              <a:ext cx="3581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715720" y="6172200"/>
              <a:ext cx="2884320" cy="459720"/>
            </a:xfrm>
            <a:prstGeom prst="rect">
              <a:avLst/>
            </a:prstGeom>
            <a:gradFill rotWithShape="0">
              <a:gsLst>
                <a:gs pos="0">
                  <a:srgbClr val="f385bc"/>
                </a:gs>
                <a:gs pos="50000">
                  <a:srgbClr val="fefefe"/>
                </a:gs>
                <a:gs pos="100000">
                  <a:srgbClr val="f385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ution continues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172200" y="1401840"/>
            <a:ext cx="2438280" cy="630360"/>
            <a:chOff x="6172200" y="1401840"/>
            <a:chExt cx="2438280" cy="630360"/>
          </a:xfrm>
        </p:grpSpPr>
        <p:sp>
          <p:nvSpPr>
            <p:cNvPr id="692" name=""/>
            <p:cNvSpPr/>
            <p:nvPr/>
          </p:nvSpPr>
          <p:spPr>
            <a:xfrm>
              <a:off x="6172200" y="1401840"/>
              <a:ext cx="2438280" cy="6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µ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7467480" y="1600200"/>
              <a:ext cx="15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5479560" y="4736880"/>
            <a:ext cx="2181600" cy="1083240"/>
            <a:chOff x="5479560" y="4736880"/>
            <a:chExt cx="2181600" cy="1083240"/>
          </a:xfrm>
        </p:grpSpPr>
        <p:sp>
          <p:nvSpPr>
            <p:cNvPr id="695" name=""/>
            <p:cNvSpPr/>
            <p:nvPr/>
          </p:nvSpPr>
          <p:spPr>
            <a:xfrm>
              <a:off x="6829200" y="4751280"/>
              <a:ext cx="257400" cy="1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7016760" y="5568840"/>
              <a:ext cx="65160" cy="29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081920" y="5576760"/>
              <a:ext cx="95040" cy="1328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7186680" y="5312880"/>
              <a:ext cx="125280" cy="3963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311960" y="5313240"/>
              <a:ext cx="307800" cy="1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195960" y="5252760"/>
              <a:ext cx="14652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79560" y="503064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33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54320" y="473688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35000" y="53323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6238800" y="5256000"/>
              <a:ext cx="357120" cy="542160"/>
              <a:chOff x="6238800" y="5256000"/>
              <a:chExt cx="357120" cy="542160"/>
            </a:xfrm>
          </p:grpSpPr>
          <p:sp>
            <p:nvSpPr>
              <p:cNvPr id="705" name=""/>
              <p:cNvSpPr/>
              <p:nvPr/>
            </p:nvSpPr>
            <p:spPr>
              <a:xfrm>
                <a:off x="6238800" y="5256000"/>
                <a:ext cx="15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421320" y="550836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900" spc="-1" strike="noStrike">
                    <a:solidFill>
                      <a:srgbClr val="ff3300"/>
                    </a:solidFill>
                    <a:latin typeface="Times New Roman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5728680" y="498456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49640" y="533232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9" name=""/>
          <p:cNvGraphicFramePr/>
          <p:nvPr/>
        </p:nvGraphicFramePr>
        <p:xfrm>
          <a:off x="6248520" y="2286000"/>
          <a:ext cx="1828800" cy="38098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</a:tblGrid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r>
                        <a:rPr b="1" i="1" lang="en-US" sz="28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0" name=""/>
          <p:cNvSpPr/>
          <p:nvPr/>
        </p:nvSpPr>
        <p:spPr>
          <a:xfrm>
            <a:off x="2666880" y="200160"/>
            <a:ext cx="381024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231120" y="1219320"/>
            <a:ext cx="4340880" cy="719640"/>
            <a:chOff x="231120" y="1219320"/>
            <a:chExt cx="4340880" cy="719640"/>
          </a:xfrm>
        </p:grpSpPr>
        <p:sp>
          <p:nvSpPr>
            <p:cNvPr id="712" name=""/>
            <p:cNvSpPr/>
            <p:nvPr/>
          </p:nvSpPr>
          <p:spPr>
            <a:xfrm>
              <a:off x="1600200" y="1235160"/>
              <a:ext cx="2971800" cy="70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mpute the test statistic and make a dec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1120" y="121932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14" name=""/>
          <p:cNvGraphicFramePr/>
          <p:nvPr/>
        </p:nvGraphicFramePr>
        <p:xfrm>
          <a:off x="990720" y="2286000"/>
          <a:ext cx="5257800" cy="3809880"/>
        </p:xfrm>
        <a:graphic>
          <a:graphicData uri="http://schemas.openxmlformats.org/drawingml/2006/table">
            <a:tbl>
              <a:tblPr/>
              <a:tblGrid>
                <a:gridCol w="1841400"/>
                <a:gridCol w="1455840"/>
                <a:gridCol w="196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ertz (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Avis (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Halif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$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$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Quebec 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$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$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Kings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oro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Winnip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al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Saskat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Vancou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15" name=""/>
          <p:cNvSpPr/>
          <p:nvPr/>
        </p:nvSpPr>
        <p:spPr>
          <a:xfrm>
            <a:off x="663084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30840" y="3062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46892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316280" y="30481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6530760" y="3505320"/>
            <a:ext cx="1323000" cy="2531880"/>
            <a:chOff x="6530760" y="3505320"/>
            <a:chExt cx="1323000" cy="2531880"/>
          </a:xfrm>
        </p:grpSpPr>
        <p:sp>
          <p:nvSpPr>
            <p:cNvPr id="720" name=""/>
            <p:cNvSpPr/>
            <p:nvPr/>
          </p:nvSpPr>
          <p:spPr>
            <a:xfrm>
              <a:off x="6630840" y="3519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49920" y="3875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30840" y="4332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530760" y="468936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54880" y="507204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30760" y="550224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449840" y="3505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31120" y="3875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16280" y="43322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12040" y="4689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92880" y="507204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16280" y="55166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410080" y="6248520"/>
            <a:ext cx="3581280" cy="459720"/>
            <a:chOff x="5410080" y="6248520"/>
            <a:chExt cx="3581280" cy="459720"/>
          </a:xfrm>
        </p:grpSpPr>
        <p:sp>
          <p:nvSpPr>
            <p:cNvPr id="733" name=""/>
            <p:cNvSpPr/>
            <p:nvPr/>
          </p:nvSpPr>
          <p:spPr>
            <a:xfrm>
              <a:off x="5410080" y="6502680"/>
              <a:ext cx="3581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15720" y="6248520"/>
              <a:ext cx="2884320" cy="459720"/>
            </a:xfrm>
            <a:prstGeom prst="rect">
              <a:avLst/>
            </a:prstGeom>
            <a:gradFill rotWithShape="0">
              <a:gsLst>
                <a:gs pos="0">
                  <a:srgbClr val="f385bc"/>
                </a:gs>
                <a:gs pos="50000">
                  <a:srgbClr val="fefefe"/>
                </a:gs>
                <a:gs pos="100000">
                  <a:srgbClr val="f385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ution continues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5550840" y="1151280"/>
            <a:ext cx="2054880" cy="1044720"/>
            <a:chOff x="5550840" y="1151280"/>
            <a:chExt cx="2054880" cy="1044720"/>
          </a:xfrm>
        </p:grpSpPr>
        <p:sp>
          <p:nvSpPr>
            <p:cNvPr id="736" name=""/>
            <p:cNvSpPr/>
            <p:nvPr/>
          </p:nvSpPr>
          <p:spPr>
            <a:xfrm>
              <a:off x="6822720" y="1163520"/>
              <a:ext cx="242280" cy="1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6999120" y="1929240"/>
              <a:ext cx="61200" cy="27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060680" y="1937160"/>
              <a:ext cx="89280" cy="1245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7159320" y="1689840"/>
              <a:ext cx="117720" cy="371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77400" y="1690200"/>
              <a:ext cx="289800" cy="1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26200" y="1633320"/>
              <a:ext cx="13795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50840" y="142524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33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752520" y="115128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98280" y="1708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6266880" y="1636560"/>
              <a:ext cx="345960" cy="526320"/>
              <a:chOff x="6266880" y="1636560"/>
              <a:chExt cx="345960" cy="526320"/>
            </a:xfrm>
          </p:grpSpPr>
          <p:sp>
            <p:nvSpPr>
              <p:cNvPr id="746" name=""/>
              <p:cNvSpPr/>
              <p:nvPr/>
            </p:nvSpPr>
            <p:spPr>
              <a:xfrm>
                <a:off x="6266880" y="1636560"/>
                <a:ext cx="15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438240" y="187308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900" spc="-1" strike="noStrike">
                    <a:solidFill>
                      <a:srgbClr val="ff3300"/>
                    </a:solidFill>
                    <a:latin typeface="Times New Roman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5784480" y="138204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48200" y="1708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228600" y="1600200"/>
            <a:ext cx="1981080" cy="3962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66880" y="200160"/>
            <a:ext cx="381024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80880" y="1676520"/>
          <a:ext cx="1752840" cy="3822480"/>
        </p:xfrm>
        <a:graphic>
          <a:graphicData uri="http://schemas.openxmlformats.org/drawingml/2006/table">
            <a:tbl>
              <a:tblPr/>
              <a:tblGrid>
                <a:gridCol w="838440"/>
                <a:gridCol w="914400"/>
              </a:tblGrid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</a:t>
                      </a:r>
                      <a:r>
                        <a:rPr b="1" i="1" lang="en-US" sz="2800" spc="-1" strike="noStrike" baseline="30000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"/>
          <p:cNvSpPr/>
          <p:nvPr/>
        </p:nvSpPr>
        <p:spPr>
          <a:xfrm>
            <a:off x="687240" y="19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2452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87160" y="2895480"/>
            <a:ext cx="1322640" cy="2531520"/>
            <a:chOff x="587160" y="2895480"/>
            <a:chExt cx="1322640" cy="2531520"/>
          </a:xfrm>
        </p:grpSpPr>
        <p:sp>
          <p:nvSpPr>
            <p:cNvPr id="756" name=""/>
            <p:cNvSpPr/>
            <p:nvPr/>
          </p:nvSpPr>
          <p:spPr>
            <a:xfrm>
              <a:off x="686880" y="29091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05960" y="3265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6880" y="3722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87160" y="40788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10920" y="44625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7160" y="48924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06240" y="28954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87160" y="3265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72320" y="37227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468080" y="4078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49280" y="44625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372320" y="4906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2514600" y="1685880"/>
            <a:ext cx="920160" cy="799200"/>
            <a:chOff x="2514600" y="1685880"/>
            <a:chExt cx="920160" cy="799200"/>
          </a:xfrm>
        </p:grpSpPr>
        <p:sp>
          <p:nvSpPr>
            <p:cNvPr id="769" name=""/>
            <p:cNvSpPr/>
            <p:nvPr/>
          </p:nvSpPr>
          <p:spPr>
            <a:xfrm>
              <a:off x="2550960" y="1876320"/>
              <a:ext cx="147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020760" y="2074680"/>
              <a:ext cx="389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44600" y="21189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214440" y="168588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514600" y="18795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93760" y="1695240"/>
              <a:ext cx="180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42840" y="184464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3543120" y="1729080"/>
            <a:ext cx="671400" cy="799560"/>
            <a:chOff x="3543120" y="1729080"/>
            <a:chExt cx="671400" cy="799560"/>
          </a:xfrm>
        </p:grpSpPr>
        <p:sp>
          <p:nvSpPr>
            <p:cNvPr id="777" name=""/>
            <p:cNvSpPr/>
            <p:nvPr/>
          </p:nvSpPr>
          <p:spPr>
            <a:xfrm>
              <a:off x="3821040" y="2117880"/>
              <a:ext cx="3934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943080" y="21625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052520" y="17290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977640" y="17290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831840" y="17290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543120" y="188784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4401000" y="1828800"/>
            <a:ext cx="920880" cy="419400"/>
            <a:chOff x="4401000" y="1828800"/>
            <a:chExt cx="920880" cy="419400"/>
          </a:xfrm>
        </p:grpSpPr>
        <p:sp>
          <p:nvSpPr>
            <p:cNvPr id="784" name=""/>
            <p:cNvSpPr/>
            <p:nvPr/>
          </p:nvSpPr>
          <p:spPr>
            <a:xfrm>
              <a:off x="5016240" y="188208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914360" y="18820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716000" y="1882080"/>
              <a:ext cx="20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401000" y="182880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2437560" y="2666880"/>
            <a:ext cx="2743920" cy="1236600"/>
            <a:chOff x="2437560" y="2666880"/>
            <a:chExt cx="2743920" cy="1236600"/>
          </a:xfrm>
        </p:grpSpPr>
        <p:sp>
          <p:nvSpPr>
            <p:cNvPr id="789" name=""/>
            <p:cNvSpPr/>
            <p:nvPr/>
          </p:nvSpPr>
          <p:spPr>
            <a:xfrm>
              <a:off x="4495680" y="3141720"/>
              <a:ext cx="563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81280" y="3522600"/>
              <a:ext cx="160020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3429000" y="2684520"/>
              <a:ext cx="1390320" cy="1141920"/>
              <a:chOff x="3429000" y="2684520"/>
              <a:chExt cx="1390320" cy="114192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3429000" y="2684520"/>
                <a:ext cx="134280" cy="1141920"/>
                <a:chOff x="3429000" y="2684520"/>
                <a:chExt cx="134280" cy="1141920"/>
              </a:xfrm>
            </p:grpSpPr>
            <p:sp>
              <p:nvSpPr>
                <p:cNvPr id="793" name=""/>
                <p:cNvSpPr/>
                <p:nvPr/>
              </p:nvSpPr>
              <p:spPr>
                <a:xfrm flipV="1">
                  <a:off x="3429000" y="3388320"/>
                  <a:ext cx="29880" cy="216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458880" y="3395880"/>
                  <a:ext cx="39240" cy="43056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V="1">
                  <a:off x="3504960" y="2684520"/>
                  <a:ext cx="58320" cy="11419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6" name=""/>
              <p:cNvSpPr/>
              <p:nvPr/>
            </p:nvSpPr>
            <p:spPr>
              <a:xfrm>
                <a:off x="3563640" y="2684520"/>
                <a:ext cx="1255680" cy="2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4229280" y="298944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4038480" y="3446640"/>
              <a:ext cx="686520" cy="456840"/>
              <a:chOff x="4038480" y="3446640"/>
              <a:chExt cx="686520" cy="456840"/>
            </a:xfrm>
          </p:grpSpPr>
          <p:sp>
            <p:nvSpPr>
              <p:cNvPr id="799" name=""/>
              <p:cNvSpPr/>
              <p:nvPr/>
            </p:nvSpPr>
            <p:spPr>
              <a:xfrm>
                <a:off x="4546080" y="347652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323240" y="3446640"/>
                <a:ext cx="1180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038480" y="3476520"/>
                <a:ext cx="1987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>
              <a:off x="4647960" y="306540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3639960" y="2941560"/>
              <a:ext cx="610200" cy="474840"/>
              <a:chOff x="3639960" y="2941560"/>
              <a:chExt cx="610200" cy="474840"/>
            </a:xfrm>
          </p:grpSpPr>
          <p:sp>
            <p:nvSpPr>
              <p:cNvPr id="804" name=""/>
              <p:cNvSpPr/>
              <p:nvPr/>
            </p:nvSpPr>
            <p:spPr>
              <a:xfrm>
                <a:off x="3639960" y="2989440"/>
                <a:ext cx="2109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077360" y="2941560"/>
                <a:ext cx="172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868200" y="298944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2437560" y="3095640"/>
              <a:ext cx="730080" cy="655560"/>
              <a:chOff x="2437560" y="3095640"/>
              <a:chExt cx="730080" cy="655560"/>
            </a:xfrm>
          </p:grpSpPr>
          <p:sp>
            <p:nvSpPr>
              <p:cNvPr id="808" name=""/>
              <p:cNvSpPr/>
              <p:nvPr/>
            </p:nvSpPr>
            <p:spPr>
              <a:xfrm>
                <a:off x="2885040" y="3247920"/>
                <a:ext cx="2826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9" name=""/>
              <p:cNvGrpSpPr/>
              <p:nvPr/>
            </p:nvGrpSpPr>
            <p:grpSpPr>
              <a:xfrm>
                <a:off x="2437560" y="3095640"/>
                <a:ext cx="409680" cy="655560"/>
                <a:chOff x="2437560" y="3095640"/>
                <a:chExt cx="409680" cy="65556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2437560" y="3095640"/>
                  <a:ext cx="1393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2590560" y="3324240"/>
                  <a:ext cx="25668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2" name=""/>
            <p:cNvGrpSpPr/>
            <p:nvPr/>
          </p:nvGrpSpPr>
          <p:grpSpPr>
            <a:xfrm>
              <a:off x="4495680" y="2666880"/>
              <a:ext cx="610200" cy="474840"/>
              <a:chOff x="4495680" y="2666880"/>
              <a:chExt cx="610200" cy="474840"/>
            </a:xfrm>
          </p:grpSpPr>
          <p:sp>
            <p:nvSpPr>
              <p:cNvPr id="813" name=""/>
              <p:cNvSpPr/>
              <p:nvPr/>
            </p:nvSpPr>
            <p:spPr>
              <a:xfrm>
                <a:off x="4495680" y="2714760"/>
                <a:ext cx="2109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933080" y="2666880"/>
                <a:ext cx="172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23920" y="2714760"/>
                <a:ext cx="256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6" name=""/>
          <p:cNvSpPr/>
          <p:nvPr/>
        </p:nvSpPr>
        <p:spPr>
          <a:xfrm>
            <a:off x="7556040" y="3294000"/>
            <a:ext cx="1360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 3.162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5791320" y="2684520"/>
            <a:ext cx="1751040" cy="1125360"/>
            <a:chOff x="5791320" y="2684520"/>
            <a:chExt cx="1751040" cy="1125360"/>
          </a:xfrm>
        </p:grpSpPr>
        <p:sp>
          <p:nvSpPr>
            <p:cNvPr id="818" name=""/>
            <p:cNvSpPr/>
            <p:nvPr/>
          </p:nvSpPr>
          <p:spPr>
            <a:xfrm>
              <a:off x="5791320" y="3386160"/>
              <a:ext cx="75960" cy="4237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5867280" y="2684520"/>
              <a:ext cx="154080" cy="11253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035760" y="2684520"/>
              <a:ext cx="15066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6095160" y="2836800"/>
            <a:ext cx="357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6662880" y="3522600"/>
            <a:ext cx="880920" cy="456840"/>
            <a:chOff x="6662880" y="3522600"/>
            <a:chExt cx="880920" cy="456840"/>
          </a:xfrm>
        </p:grpSpPr>
        <p:sp>
          <p:nvSpPr>
            <p:cNvPr id="823" name=""/>
            <p:cNvSpPr/>
            <p:nvPr/>
          </p:nvSpPr>
          <p:spPr>
            <a:xfrm>
              <a:off x="7238880" y="3552480"/>
              <a:ext cx="304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62880" y="3552480"/>
              <a:ext cx="393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993000" y="3522600"/>
              <a:ext cx="245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6667920" y="2836800"/>
            <a:ext cx="723600" cy="731880"/>
            <a:chOff x="6667920" y="2836800"/>
            <a:chExt cx="723600" cy="731880"/>
          </a:xfrm>
        </p:grpSpPr>
        <p:sp>
          <p:nvSpPr>
            <p:cNvPr id="827" name=""/>
            <p:cNvSpPr/>
            <p:nvPr/>
          </p:nvSpPr>
          <p:spPr>
            <a:xfrm>
              <a:off x="6858000" y="3218040"/>
              <a:ext cx="53352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009920" y="31417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24680" y="283680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67920" y="283680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5476320" y="3294000"/>
            <a:ext cx="28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5880" y="3522600"/>
            <a:ext cx="137160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830840" y="4241880"/>
            <a:ext cx="1849320" cy="885600"/>
            <a:chOff x="4830840" y="4241880"/>
            <a:chExt cx="1849320" cy="885600"/>
          </a:xfrm>
        </p:grpSpPr>
        <p:sp>
          <p:nvSpPr>
            <p:cNvPr id="834" name=""/>
            <p:cNvSpPr/>
            <p:nvPr/>
          </p:nvSpPr>
          <p:spPr>
            <a:xfrm flipV="1">
              <a:off x="6173640" y="4873680"/>
              <a:ext cx="51120" cy="22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24760" y="4881600"/>
              <a:ext cx="72720" cy="101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6308640" y="4669920"/>
              <a:ext cx="101520" cy="312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410160" y="4670280"/>
              <a:ext cx="2286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5961240" y="4664160"/>
              <a:ext cx="163440" cy="368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30840" y="4619520"/>
              <a:ext cx="18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416280" y="47005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159880" y="4700520"/>
              <a:ext cx="713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62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059080" y="470052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51720" y="47005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85480" y="424188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84320" y="424188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378040" y="42418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4527360" y="4395960"/>
            <a:ext cx="234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922080" y="4449600"/>
            <a:ext cx="1567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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726480" y="1066680"/>
            <a:ext cx="8188920" cy="475560"/>
            <a:chOff x="726480" y="1066680"/>
            <a:chExt cx="8188920" cy="475560"/>
          </a:xfrm>
        </p:grpSpPr>
        <p:sp>
          <p:nvSpPr>
            <p:cNvPr id="850" name=""/>
            <p:cNvSpPr/>
            <p:nvPr/>
          </p:nvSpPr>
          <p:spPr>
            <a:xfrm>
              <a:off x="1981080" y="1082520"/>
              <a:ext cx="693432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mpute the test statistic and make a dec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6480" y="106668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362320" y="5715000"/>
            <a:ext cx="6553080" cy="926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ecause 0.894 &lt; 2.365, we can not reject 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0.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re i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 significant difference in the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80880" y="6019920"/>
            <a:ext cx="1847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Conclu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sp>
        <p:nvSpPr>
          <p:cNvPr id="854" name=""/>
          <p:cNvSpPr/>
          <p:nvPr/>
        </p:nvSpPr>
        <p:spPr>
          <a:xfrm>
            <a:off x="1468440" y="19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372680" y="243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533520" y="2057400"/>
            <a:ext cx="609480" cy="3888720"/>
            <a:chOff x="533520" y="2057400"/>
            <a:chExt cx="609480" cy="3888720"/>
          </a:xfrm>
        </p:grpSpPr>
        <p:sp>
          <p:nvSpPr>
            <p:cNvPr id="857" name=""/>
            <p:cNvSpPr/>
            <p:nvPr/>
          </p:nvSpPr>
          <p:spPr>
            <a:xfrm>
              <a:off x="533520" y="2057400"/>
              <a:ext cx="609480" cy="3886200"/>
            </a:xfrm>
            <a:prstGeom prst="rect">
              <a:avLst/>
            </a:prstGeom>
            <a:solidFill>
              <a:srgbClr val="00ff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31880" y="5486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1371600" y="2057400"/>
            <a:ext cx="609480" cy="3888720"/>
            <a:chOff x="1371600" y="2057400"/>
            <a:chExt cx="609480" cy="3888720"/>
          </a:xfrm>
        </p:grpSpPr>
        <p:sp>
          <p:nvSpPr>
            <p:cNvPr id="860" name=""/>
            <p:cNvSpPr/>
            <p:nvPr/>
          </p:nvSpPr>
          <p:spPr>
            <a:xfrm>
              <a:off x="1371600" y="2057400"/>
              <a:ext cx="609480" cy="3886200"/>
            </a:xfrm>
            <a:prstGeom prst="rect">
              <a:avLst/>
            </a:prstGeom>
            <a:solidFill>
              <a:srgbClr val="00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449360" y="54864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2425320" y="4123080"/>
            <a:ext cx="1968120" cy="1044720"/>
            <a:chOff x="2425320" y="4123080"/>
            <a:chExt cx="1968120" cy="1044720"/>
          </a:xfrm>
        </p:grpSpPr>
        <p:sp>
          <p:nvSpPr>
            <p:cNvPr id="863" name=""/>
            <p:cNvSpPr/>
            <p:nvPr/>
          </p:nvSpPr>
          <p:spPr>
            <a:xfrm>
              <a:off x="3642840" y="4135320"/>
              <a:ext cx="232200" cy="1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3812040" y="4901040"/>
              <a:ext cx="58680" cy="27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870720" y="4908960"/>
              <a:ext cx="85680" cy="12456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3965400" y="4661640"/>
              <a:ext cx="113040" cy="3718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078440" y="4662000"/>
              <a:ext cx="277560" cy="1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71520" y="4605120"/>
              <a:ext cx="13219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425320" y="439704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33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73720" y="412308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cc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099320" y="46800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3110040" y="4608360"/>
              <a:ext cx="339120" cy="526320"/>
              <a:chOff x="3110040" y="4608360"/>
              <a:chExt cx="339120" cy="526320"/>
            </a:xfrm>
          </p:grpSpPr>
          <p:sp>
            <p:nvSpPr>
              <p:cNvPr id="873" name=""/>
              <p:cNvSpPr/>
              <p:nvPr/>
            </p:nvSpPr>
            <p:spPr>
              <a:xfrm>
                <a:off x="3110040" y="4608360"/>
                <a:ext cx="15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274560" y="484488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900" spc="-1" strike="noStrike">
                    <a:solidFill>
                      <a:srgbClr val="ff3300"/>
                    </a:solidFill>
                    <a:latin typeface="Times New Roman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2644560" y="435384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571200" y="46800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80880" y="1981080"/>
            <a:ext cx="609480" cy="581400"/>
            <a:chOff x="380880" y="1981080"/>
            <a:chExt cx="609480" cy="5814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80880" y="2055960"/>
              <a:ext cx="60948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57920" y="198108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35160" y="1981080"/>
            <a:ext cx="66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lain the the difference between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dependent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ndepende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amp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0880" y="3048120"/>
            <a:ext cx="609480" cy="581400"/>
            <a:chOff x="380880" y="3048120"/>
            <a:chExt cx="609480" cy="58140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380880" y="3122280"/>
              <a:ext cx="60948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920" y="304812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143000" y="30780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uct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st of hypothesis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nd obtain a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nfidenc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nterval estimate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for the difference between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76440" y="1522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52" name=""/>
          <p:cNvSpPr/>
          <p:nvPr/>
        </p:nvSpPr>
        <p:spPr>
          <a:xfrm>
            <a:off x="576360" y="12193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hen you have completed this chapter, 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5791320"/>
            <a:ext cx="5637240" cy="527040"/>
          </a:xfrm>
          <a:custGeom>
            <a:avLst/>
            <a:gdLst/>
            <a:ahLst/>
            <a:rect l="l" t="t" r="r" b="b"/>
            <a:pathLst>
              <a:path w="4750" h="855">
                <a:moveTo>
                  <a:pt x="4750" y="411"/>
                </a:moveTo>
                <a:lnTo>
                  <a:pt x="4750" y="411"/>
                </a:lnTo>
                <a:lnTo>
                  <a:pt x="4746" y="411"/>
                </a:lnTo>
                <a:lnTo>
                  <a:pt x="4746" y="406"/>
                </a:lnTo>
                <a:lnTo>
                  <a:pt x="4741" y="406"/>
                </a:lnTo>
                <a:lnTo>
                  <a:pt x="4741" y="406"/>
                </a:lnTo>
                <a:lnTo>
                  <a:pt x="4736" y="402"/>
                </a:lnTo>
                <a:lnTo>
                  <a:pt x="4736" y="402"/>
                </a:lnTo>
                <a:lnTo>
                  <a:pt x="4736" y="397"/>
                </a:lnTo>
                <a:lnTo>
                  <a:pt x="4680" y="364"/>
                </a:lnTo>
                <a:lnTo>
                  <a:pt x="4666" y="346"/>
                </a:lnTo>
                <a:lnTo>
                  <a:pt x="4614" y="332"/>
                </a:lnTo>
                <a:lnTo>
                  <a:pt x="4563" y="322"/>
                </a:lnTo>
                <a:lnTo>
                  <a:pt x="4511" y="308"/>
                </a:lnTo>
                <a:lnTo>
                  <a:pt x="4460" y="299"/>
                </a:lnTo>
                <a:lnTo>
                  <a:pt x="4408" y="289"/>
                </a:lnTo>
                <a:lnTo>
                  <a:pt x="4357" y="280"/>
                </a:lnTo>
                <a:lnTo>
                  <a:pt x="4305" y="271"/>
                </a:lnTo>
                <a:lnTo>
                  <a:pt x="4254" y="261"/>
                </a:lnTo>
                <a:lnTo>
                  <a:pt x="4197" y="257"/>
                </a:lnTo>
                <a:lnTo>
                  <a:pt x="4141" y="247"/>
                </a:lnTo>
                <a:lnTo>
                  <a:pt x="4085" y="243"/>
                </a:lnTo>
                <a:lnTo>
                  <a:pt x="4029" y="238"/>
                </a:lnTo>
                <a:lnTo>
                  <a:pt x="3973" y="233"/>
                </a:lnTo>
                <a:lnTo>
                  <a:pt x="3916" y="229"/>
                </a:lnTo>
                <a:lnTo>
                  <a:pt x="3860" y="224"/>
                </a:lnTo>
                <a:lnTo>
                  <a:pt x="3804" y="219"/>
                </a:lnTo>
                <a:lnTo>
                  <a:pt x="3743" y="219"/>
                </a:lnTo>
                <a:lnTo>
                  <a:pt x="3682" y="219"/>
                </a:lnTo>
                <a:lnTo>
                  <a:pt x="3617" y="219"/>
                </a:lnTo>
                <a:lnTo>
                  <a:pt x="3556" y="219"/>
                </a:lnTo>
                <a:lnTo>
                  <a:pt x="3495" y="219"/>
                </a:lnTo>
                <a:lnTo>
                  <a:pt x="3434" y="219"/>
                </a:lnTo>
                <a:lnTo>
                  <a:pt x="3373" y="224"/>
                </a:lnTo>
                <a:lnTo>
                  <a:pt x="3312" y="224"/>
                </a:lnTo>
                <a:lnTo>
                  <a:pt x="3298" y="229"/>
                </a:lnTo>
                <a:lnTo>
                  <a:pt x="3284" y="229"/>
                </a:lnTo>
                <a:lnTo>
                  <a:pt x="3275" y="229"/>
                </a:lnTo>
                <a:lnTo>
                  <a:pt x="3260" y="229"/>
                </a:lnTo>
                <a:lnTo>
                  <a:pt x="3246" y="229"/>
                </a:lnTo>
                <a:lnTo>
                  <a:pt x="3237" y="229"/>
                </a:lnTo>
                <a:lnTo>
                  <a:pt x="3223" y="229"/>
                </a:lnTo>
                <a:lnTo>
                  <a:pt x="3214" y="229"/>
                </a:lnTo>
                <a:lnTo>
                  <a:pt x="3167" y="238"/>
                </a:lnTo>
                <a:lnTo>
                  <a:pt x="3125" y="243"/>
                </a:lnTo>
                <a:lnTo>
                  <a:pt x="3082" y="252"/>
                </a:lnTo>
                <a:lnTo>
                  <a:pt x="3040" y="257"/>
                </a:lnTo>
                <a:lnTo>
                  <a:pt x="2998" y="266"/>
                </a:lnTo>
                <a:lnTo>
                  <a:pt x="2956" y="271"/>
                </a:lnTo>
                <a:lnTo>
                  <a:pt x="2914" y="275"/>
                </a:lnTo>
                <a:lnTo>
                  <a:pt x="2872" y="285"/>
                </a:lnTo>
                <a:lnTo>
                  <a:pt x="2848" y="285"/>
                </a:lnTo>
                <a:lnTo>
                  <a:pt x="2820" y="289"/>
                </a:lnTo>
                <a:lnTo>
                  <a:pt x="2797" y="294"/>
                </a:lnTo>
                <a:lnTo>
                  <a:pt x="2773" y="294"/>
                </a:lnTo>
                <a:lnTo>
                  <a:pt x="2745" y="299"/>
                </a:lnTo>
                <a:lnTo>
                  <a:pt x="2722" y="303"/>
                </a:lnTo>
                <a:lnTo>
                  <a:pt x="2698" y="303"/>
                </a:lnTo>
                <a:lnTo>
                  <a:pt x="2675" y="303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4"/>
                </a:lnTo>
                <a:lnTo>
                  <a:pt x="2670" y="294"/>
                </a:lnTo>
                <a:lnTo>
                  <a:pt x="2675" y="294"/>
                </a:lnTo>
                <a:lnTo>
                  <a:pt x="2675" y="289"/>
                </a:lnTo>
                <a:lnTo>
                  <a:pt x="2675" y="289"/>
                </a:lnTo>
                <a:lnTo>
                  <a:pt x="2680" y="280"/>
                </a:lnTo>
                <a:lnTo>
                  <a:pt x="2689" y="275"/>
                </a:lnTo>
                <a:lnTo>
                  <a:pt x="2698" y="271"/>
                </a:lnTo>
                <a:lnTo>
                  <a:pt x="2708" y="266"/>
                </a:lnTo>
                <a:lnTo>
                  <a:pt x="2717" y="266"/>
                </a:lnTo>
                <a:lnTo>
                  <a:pt x="2731" y="261"/>
                </a:lnTo>
                <a:lnTo>
                  <a:pt x="2740" y="257"/>
                </a:lnTo>
                <a:lnTo>
                  <a:pt x="2750" y="252"/>
                </a:lnTo>
                <a:lnTo>
                  <a:pt x="2792" y="243"/>
                </a:lnTo>
                <a:lnTo>
                  <a:pt x="2829" y="233"/>
                </a:lnTo>
                <a:lnTo>
                  <a:pt x="2872" y="219"/>
                </a:lnTo>
                <a:lnTo>
                  <a:pt x="2909" y="210"/>
                </a:lnTo>
                <a:lnTo>
                  <a:pt x="2947" y="196"/>
                </a:lnTo>
                <a:lnTo>
                  <a:pt x="2989" y="182"/>
                </a:lnTo>
                <a:lnTo>
                  <a:pt x="3026" y="168"/>
                </a:lnTo>
                <a:lnTo>
                  <a:pt x="3059" y="149"/>
                </a:lnTo>
                <a:lnTo>
                  <a:pt x="3078" y="135"/>
                </a:lnTo>
                <a:lnTo>
                  <a:pt x="3087" y="121"/>
                </a:lnTo>
                <a:lnTo>
                  <a:pt x="3101" y="107"/>
                </a:lnTo>
                <a:lnTo>
                  <a:pt x="3111" y="93"/>
                </a:lnTo>
                <a:lnTo>
                  <a:pt x="3120" y="74"/>
                </a:lnTo>
                <a:lnTo>
                  <a:pt x="3125" y="56"/>
                </a:lnTo>
                <a:lnTo>
                  <a:pt x="3134" y="42"/>
                </a:lnTo>
                <a:lnTo>
                  <a:pt x="3139" y="23"/>
                </a:lnTo>
                <a:lnTo>
                  <a:pt x="3139" y="23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4" y="14"/>
                </a:lnTo>
                <a:lnTo>
                  <a:pt x="3134" y="14"/>
                </a:lnTo>
                <a:lnTo>
                  <a:pt x="3134" y="9"/>
                </a:lnTo>
                <a:lnTo>
                  <a:pt x="3134" y="9"/>
                </a:lnTo>
                <a:lnTo>
                  <a:pt x="3129" y="9"/>
                </a:lnTo>
                <a:lnTo>
                  <a:pt x="3125" y="9"/>
                </a:lnTo>
                <a:lnTo>
                  <a:pt x="3120" y="4"/>
                </a:lnTo>
                <a:lnTo>
                  <a:pt x="3111" y="4"/>
                </a:lnTo>
                <a:lnTo>
                  <a:pt x="3106" y="4"/>
                </a:lnTo>
                <a:lnTo>
                  <a:pt x="3101" y="4"/>
                </a:lnTo>
                <a:lnTo>
                  <a:pt x="3096" y="4"/>
                </a:lnTo>
                <a:lnTo>
                  <a:pt x="3087" y="4"/>
                </a:lnTo>
                <a:lnTo>
                  <a:pt x="3050" y="4"/>
                </a:lnTo>
                <a:lnTo>
                  <a:pt x="3017" y="0"/>
                </a:lnTo>
                <a:lnTo>
                  <a:pt x="2979" y="0"/>
                </a:lnTo>
                <a:lnTo>
                  <a:pt x="2942" y="0"/>
                </a:lnTo>
                <a:lnTo>
                  <a:pt x="2904" y="0"/>
                </a:lnTo>
                <a:lnTo>
                  <a:pt x="2872" y="0"/>
                </a:lnTo>
                <a:lnTo>
                  <a:pt x="2834" y="0"/>
                </a:lnTo>
                <a:lnTo>
                  <a:pt x="2801" y="0"/>
                </a:lnTo>
                <a:lnTo>
                  <a:pt x="2787" y="0"/>
                </a:lnTo>
                <a:lnTo>
                  <a:pt x="2773" y="4"/>
                </a:lnTo>
                <a:lnTo>
                  <a:pt x="2759" y="4"/>
                </a:lnTo>
                <a:lnTo>
                  <a:pt x="2745" y="4"/>
                </a:lnTo>
                <a:lnTo>
                  <a:pt x="2736" y="4"/>
                </a:lnTo>
                <a:lnTo>
                  <a:pt x="2722" y="4"/>
                </a:lnTo>
                <a:lnTo>
                  <a:pt x="2708" y="9"/>
                </a:lnTo>
                <a:lnTo>
                  <a:pt x="2694" y="9"/>
                </a:lnTo>
                <a:lnTo>
                  <a:pt x="2698" y="9"/>
                </a:lnTo>
                <a:lnTo>
                  <a:pt x="2698" y="9"/>
                </a:lnTo>
                <a:lnTo>
                  <a:pt x="2703" y="9"/>
                </a:lnTo>
                <a:lnTo>
                  <a:pt x="2703" y="9"/>
                </a:lnTo>
                <a:lnTo>
                  <a:pt x="2708" y="9"/>
                </a:lnTo>
                <a:lnTo>
                  <a:pt x="2708" y="9"/>
                </a:lnTo>
                <a:lnTo>
                  <a:pt x="2712" y="14"/>
                </a:lnTo>
                <a:lnTo>
                  <a:pt x="2712" y="14"/>
                </a:lnTo>
                <a:lnTo>
                  <a:pt x="2131" y="70"/>
                </a:lnTo>
                <a:lnTo>
                  <a:pt x="2089" y="79"/>
                </a:lnTo>
                <a:lnTo>
                  <a:pt x="2047" y="88"/>
                </a:lnTo>
                <a:lnTo>
                  <a:pt x="2010" y="98"/>
                </a:lnTo>
                <a:lnTo>
                  <a:pt x="1967" y="102"/>
                </a:lnTo>
                <a:lnTo>
                  <a:pt x="1930" y="112"/>
                </a:lnTo>
                <a:lnTo>
                  <a:pt x="1888" y="121"/>
                </a:lnTo>
                <a:lnTo>
                  <a:pt x="1850" y="131"/>
                </a:lnTo>
                <a:lnTo>
                  <a:pt x="1808" y="140"/>
                </a:lnTo>
                <a:lnTo>
                  <a:pt x="1752" y="154"/>
                </a:lnTo>
                <a:lnTo>
                  <a:pt x="1691" y="168"/>
                </a:lnTo>
                <a:lnTo>
                  <a:pt x="1635" y="182"/>
                </a:lnTo>
                <a:lnTo>
                  <a:pt x="1579" y="191"/>
                </a:lnTo>
                <a:lnTo>
                  <a:pt x="1522" y="205"/>
                </a:lnTo>
                <a:lnTo>
                  <a:pt x="1466" y="215"/>
                </a:lnTo>
                <a:lnTo>
                  <a:pt x="1410" y="229"/>
                </a:lnTo>
                <a:lnTo>
                  <a:pt x="1354" y="238"/>
                </a:lnTo>
                <a:lnTo>
                  <a:pt x="1335" y="243"/>
                </a:lnTo>
                <a:lnTo>
                  <a:pt x="1321" y="247"/>
                </a:lnTo>
                <a:lnTo>
                  <a:pt x="1302" y="252"/>
                </a:lnTo>
                <a:lnTo>
                  <a:pt x="1288" y="252"/>
                </a:lnTo>
                <a:lnTo>
                  <a:pt x="1274" y="257"/>
                </a:lnTo>
                <a:lnTo>
                  <a:pt x="1255" y="261"/>
                </a:lnTo>
                <a:lnTo>
                  <a:pt x="1241" y="266"/>
                </a:lnTo>
                <a:lnTo>
                  <a:pt x="1227" y="271"/>
                </a:lnTo>
                <a:lnTo>
                  <a:pt x="1208" y="275"/>
                </a:lnTo>
                <a:lnTo>
                  <a:pt x="1190" y="280"/>
                </a:lnTo>
                <a:lnTo>
                  <a:pt x="1171" y="285"/>
                </a:lnTo>
                <a:lnTo>
                  <a:pt x="1157" y="294"/>
                </a:lnTo>
                <a:lnTo>
                  <a:pt x="1138" y="299"/>
                </a:lnTo>
                <a:lnTo>
                  <a:pt x="1124" y="303"/>
                </a:lnTo>
                <a:lnTo>
                  <a:pt x="1105" y="308"/>
                </a:lnTo>
                <a:lnTo>
                  <a:pt x="1091" y="313"/>
                </a:lnTo>
                <a:lnTo>
                  <a:pt x="1082" y="313"/>
                </a:lnTo>
                <a:lnTo>
                  <a:pt x="1073" y="317"/>
                </a:lnTo>
                <a:lnTo>
                  <a:pt x="1063" y="317"/>
                </a:lnTo>
                <a:lnTo>
                  <a:pt x="1054" y="322"/>
                </a:lnTo>
                <a:lnTo>
                  <a:pt x="1044" y="327"/>
                </a:lnTo>
                <a:lnTo>
                  <a:pt x="1035" y="327"/>
                </a:lnTo>
                <a:lnTo>
                  <a:pt x="1026" y="332"/>
                </a:lnTo>
                <a:lnTo>
                  <a:pt x="1016" y="332"/>
                </a:lnTo>
                <a:lnTo>
                  <a:pt x="1002" y="336"/>
                </a:lnTo>
                <a:lnTo>
                  <a:pt x="988" y="341"/>
                </a:lnTo>
                <a:lnTo>
                  <a:pt x="974" y="346"/>
                </a:lnTo>
                <a:lnTo>
                  <a:pt x="955" y="350"/>
                </a:lnTo>
                <a:lnTo>
                  <a:pt x="941" y="350"/>
                </a:lnTo>
                <a:lnTo>
                  <a:pt x="927" y="355"/>
                </a:lnTo>
                <a:lnTo>
                  <a:pt x="913" y="360"/>
                </a:lnTo>
                <a:lnTo>
                  <a:pt x="899" y="369"/>
                </a:lnTo>
                <a:lnTo>
                  <a:pt x="871" y="374"/>
                </a:lnTo>
                <a:lnTo>
                  <a:pt x="843" y="383"/>
                </a:lnTo>
                <a:lnTo>
                  <a:pt x="810" y="392"/>
                </a:lnTo>
                <a:lnTo>
                  <a:pt x="782" y="397"/>
                </a:lnTo>
                <a:lnTo>
                  <a:pt x="754" y="406"/>
                </a:lnTo>
                <a:lnTo>
                  <a:pt x="726" y="416"/>
                </a:lnTo>
                <a:lnTo>
                  <a:pt x="698" y="430"/>
                </a:lnTo>
                <a:lnTo>
                  <a:pt x="670" y="439"/>
                </a:lnTo>
                <a:lnTo>
                  <a:pt x="660" y="444"/>
                </a:lnTo>
                <a:lnTo>
                  <a:pt x="646" y="444"/>
                </a:lnTo>
                <a:lnTo>
                  <a:pt x="632" y="448"/>
                </a:lnTo>
                <a:lnTo>
                  <a:pt x="623" y="453"/>
                </a:lnTo>
                <a:lnTo>
                  <a:pt x="609" y="458"/>
                </a:lnTo>
                <a:lnTo>
                  <a:pt x="599" y="462"/>
                </a:lnTo>
                <a:lnTo>
                  <a:pt x="585" y="467"/>
                </a:lnTo>
                <a:lnTo>
                  <a:pt x="576" y="476"/>
                </a:lnTo>
                <a:lnTo>
                  <a:pt x="567" y="472"/>
                </a:lnTo>
                <a:lnTo>
                  <a:pt x="562" y="472"/>
                </a:lnTo>
                <a:lnTo>
                  <a:pt x="557" y="476"/>
                </a:lnTo>
                <a:lnTo>
                  <a:pt x="548" y="476"/>
                </a:lnTo>
                <a:lnTo>
                  <a:pt x="543" y="481"/>
                </a:lnTo>
                <a:lnTo>
                  <a:pt x="539" y="481"/>
                </a:lnTo>
                <a:lnTo>
                  <a:pt x="534" y="486"/>
                </a:lnTo>
                <a:lnTo>
                  <a:pt x="529" y="486"/>
                </a:lnTo>
                <a:lnTo>
                  <a:pt x="510" y="490"/>
                </a:lnTo>
                <a:lnTo>
                  <a:pt x="510" y="490"/>
                </a:lnTo>
                <a:lnTo>
                  <a:pt x="510" y="490"/>
                </a:lnTo>
                <a:lnTo>
                  <a:pt x="506" y="490"/>
                </a:lnTo>
                <a:lnTo>
                  <a:pt x="506" y="490"/>
                </a:lnTo>
                <a:lnTo>
                  <a:pt x="506" y="495"/>
                </a:lnTo>
                <a:lnTo>
                  <a:pt x="506" y="495"/>
                </a:lnTo>
                <a:lnTo>
                  <a:pt x="506" y="495"/>
                </a:lnTo>
                <a:lnTo>
                  <a:pt x="501" y="495"/>
                </a:lnTo>
                <a:lnTo>
                  <a:pt x="440" y="514"/>
                </a:lnTo>
                <a:lnTo>
                  <a:pt x="421" y="514"/>
                </a:lnTo>
                <a:lnTo>
                  <a:pt x="412" y="518"/>
                </a:lnTo>
                <a:lnTo>
                  <a:pt x="407" y="523"/>
                </a:lnTo>
                <a:lnTo>
                  <a:pt x="398" y="523"/>
                </a:lnTo>
                <a:lnTo>
                  <a:pt x="389" y="528"/>
                </a:lnTo>
                <a:lnTo>
                  <a:pt x="379" y="528"/>
                </a:lnTo>
                <a:lnTo>
                  <a:pt x="375" y="528"/>
                </a:lnTo>
                <a:lnTo>
                  <a:pt x="365" y="532"/>
                </a:lnTo>
                <a:lnTo>
                  <a:pt x="356" y="532"/>
                </a:lnTo>
                <a:lnTo>
                  <a:pt x="351" y="532"/>
                </a:lnTo>
                <a:lnTo>
                  <a:pt x="351" y="532"/>
                </a:lnTo>
                <a:lnTo>
                  <a:pt x="351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28" y="537"/>
                </a:lnTo>
                <a:lnTo>
                  <a:pt x="314" y="537"/>
                </a:lnTo>
                <a:lnTo>
                  <a:pt x="295" y="542"/>
                </a:lnTo>
                <a:lnTo>
                  <a:pt x="276" y="542"/>
                </a:lnTo>
                <a:lnTo>
                  <a:pt x="262" y="546"/>
                </a:lnTo>
                <a:lnTo>
                  <a:pt x="243" y="546"/>
                </a:lnTo>
                <a:lnTo>
                  <a:pt x="225" y="551"/>
                </a:lnTo>
                <a:lnTo>
                  <a:pt x="211" y="556"/>
                </a:lnTo>
                <a:lnTo>
                  <a:pt x="206" y="551"/>
                </a:lnTo>
                <a:lnTo>
                  <a:pt x="201" y="551"/>
                </a:lnTo>
                <a:lnTo>
                  <a:pt x="197" y="551"/>
                </a:lnTo>
                <a:lnTo>
                  <a:pt x="192" y="546"/>
                </a:lnTo>
                <a:lnTo>
                  <a:pt x="192" y="546"/>
                </a:lnTo>
                <a:lnTo>
                  <a:pt x="187" y="542"/>
                </a:lnTo>
                <a:lnTo>
                  <a:pt x="187" y="537"/>
                </a:lnTo>
                <a:lnTo>
                  <a:pt x="182" y="537"/>
                </a:lnTo>
                <a:lnTo>
                  <a:pt x="159" y="528"/>
                </a:lnTo>
                <a:lnTo>
                  <a:pt x="145" y="514"/>
                </a:lnTo>
                <a:lnTo>
                  <a:pt x="145" y="514"/>
                </a:lnTo>
                <a:lnTo>
                  <a:pt x="145" y="509"/>
                </a:lnTo>
                <a:lnTo>
                  <a:pt x="140" y="509"/>
                </a:lnTo>
                <a:lnTo>
                  <a:pt x="140" y="509"/>
                </a:lnTo>
                <a:lnTo>
                  <a:pt x="136" y="509"/>
                </a:lnTo>
                <a:lnTo>
                  <a:pt x="136" y="509"/>
                </a:lnTo>
                <a:lnTo>
                  <a:pt x="131" y="509"/>
                </a:lnTo>
                <a:lnTo>
                  <a:pt x="126" y="509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2" y="504"/>
                </a:lnTo>
                <a:lnTo>
                  <a:pt x="122" y="500"/>
                </a:lnTo>
                <a:lnTo>
                  <a:pt x="122" y="500"/>
                </a:lnTo>
                <a:lnTo>
                  <a:pt x="122" y="500"/>
                </a:lnTo>
                <a:lnTo>
                  <a:pt x="117" y="495"/>
                </a:lnTo>
                <a:lnTo>
                  <a:pt x="117" y="495"/>
                </a:lnTo>
                <a:lnTo>
                  <a:pt x="112" y="490"/>
                </a:lnTo>
                <a:lnTo>
                  <a:pt x="112" y="490"/>
                </a:lnTo>
                <a:lnTo>
                  <a:pt x="107" y="490"/>
                </a:lnTo>
                <a:lnTo>
                  <a:pt x="103" y="490"/>
                </a:lnTo>
                <a:lnTo>
                  <a:pt x="98" y="490"/>
                </a:lnTo>
                <a:lnTo>
                  <a:pt x="93" y="490"/>
                </a:lnTo>
                <a:lnTo>
                  <a:pt x="56" y="532"/>
                </a:lnTo>
                <a:lnTo>
                  <a:pt x="56" y="532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1" y="546"/>
                </a:lnTo>
                <a:lnTo>
                  <a:pt x="47" y="551"/>
                </a:lnTo>
                <a:lnTo>
                  <a:pt x="42" y="556"/>
                </a:lnTo>
                <a:lnTo>
                  <a:pt x="37" y="561"/>
                </a:lnTo>
                <a:lnTo>
                  <a:pt x="28" y="565"/>
                </a:lnTo>
                <a:lnTo>
                  <a:pt x="23" y="570"/>
                </a:lnTo>
                <a:lnTo>
                  <a:pt x="14" y="575"/>
                </a:lnTo>
                <a:lnTo>
                  <a:pt x="9" y="579"/>
                </a:lnTo>
                <a:lnTo>
                  <a:pt x="0" y="617"/>
                </a:lnTo>
                <a:lnTo>
                  <a:pt x="9" y="626"/>
                </a:lnTo>
                <a:lnTo>
                  <a:pt x="0" y="640"/>
                </a:lnTo>
                <a:lnTo>
                  <a:pt x="0" y="640"/>
                </a:lnTo>
                <a:lnTo>
                  <a:pt x="0" y="645"/>
                </a:lnTo>
                <a:lnTo>
                  <a:pt x="0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14" y="673"/>
                </a:lnTo>
                <a:lnTo>
                  <a:pt x="4" y="687"/>
                </a:lnTo>
                <a:lnTo>
                  <a:pt x="9" y="691"/>
                </a:lnTo>
                <a:lnTo>
                  <a:pt x="9" y="691"/>
                </a:lnTo>
                <a:lnTo>
                  <a:pt x="14" y="691"/>
                </a:lnTo>
                <a:lnTo>
                  <a:pt x="14" y="691"/>
                </a:lnTo>
                <a:lnTo>
                  <a:pt x="18" y="696"/>
                </a:lnTo>
                <a:lnTo>
                  <a:pt x="18" y="696"/>
                </a:lnTo>
                <a:lnTo>
                  <a:pt x="23" y="701"/>
                </a:lnTo>
                <a:lnTo>
                  <a:pt x="23" y="701"/>
                </a:lnTo>
                <a:lnTo>
                  <a:pt x="23" y="747"/>
                </a:lnTo>
                <a:lnTo>
                  <a:pt x="33" y="752"/>
                </a:lnTo>
                <a:lnTo>
                  <a:pt x="42" y="757"/>
                </a:lnTo>
                <a:lnTo>
                  <a:pt x="51" y="761"/>
                </a:lnTo>
                <a:lnTo>
                  <a:pt x="65" y="766"/>
                </a:lnTo>
                <a:lnTo>
                  <a:pt x="75" y="771"/>
                </a:lnTo>
                <a:lnTo>
                  <a:pt x="84" y="776"/>
                </a:lnTo>
                <a:lnTo>
                  <a:pt x="89" y="785"/>
                </a:lnTo>
                <a:lnTo>
                  <a:pt x="98" y="794"/>
                </a:lnTo>
                <a:lnTo>
                  <a:pt x="98" y="794"/>
                </a:lnTo>
                <a:lnTo>
                  <a:pt x="98" y="794"/>
                </a:lnTo>
                <a:lnTo>
                  <a:pt x="98" y="799"/>
                </a:lnTo>
                <a:lnTo>
                  <a:pt x="98" y="799"/>
                </a:lnTo>
                <a:lnTo>
                  <a:pt x="98" y="804"/>
                </a:lnTo>
                <a:lnTo>
                  <a:pt x="98" y="804"/>
                </a:lnTo>
                <a:lnTo>
                  <a:pt x="98" y="804"/>
                </a:lnTo>
                <a:lnTo>
                  <a:pt x="103" y="808"/>
                </a:lnTo>
                <a:lnTo>
                  <a:pt x="178" y="836"/>
                </a:lnTo>
                <a:lnTo>
                  <a:pt x="178" y="836"/>
                </a:lnTo>
                <a:lnTo>
                  <a:pt x="178" y="836"/>
                </a:lnTo>
                <a:lnTo>
                  <a:pt x="178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7" y="832"/>
                </a:lnTo>
                <a:lnTo>
                  <a:pt x="197" y="836"/>
                </a:lnTo>
                <a:lnTo>
                  <a:pt x="206" y="841"/>
                </a:lnTo>
                <a:lnTo>
                  <a:pt x="215" y="841"/>
                </a:lnTo>
                <a:lnTo>
                  <a:pt x="229" y="841"/>
                </a:lnTo>
                <a:lnTo>
                  <a:pt x="239" y="836"/>
                </a:lnTo>
                <a:lnTo>
                  <a:pt x="253" y="841"/>
                </a:lnTo>
                <a:lnTo>
                  <a:pt x="262" y="841"/>
                </a:lnTo>
                <a:lnTo>
                  <a:pt x="271" y="846"/>
                </a:lnTo>
                <a:lnTo>
                  <a:pt x="295" y="846"/>
                </a:lnTo>
                <a:lnTo>
                  <a:pt x="295" y="846"/>
                </a:lnTo>
                <a:lnTo>
                  <a:pt x="300" y="846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4" y="850"/>
                </a:lnTo>
                <a:lnTo>
                  <a:pt x="304" y="850"/>
                </a:lnTo>
                <a:lnTo>
                  <a:pt x="309" y="850"/>
                </a:lnTo>
                <a:lnTo>
                  <a:pt x="309" y="850"/>
                </a:lnTo>
                <a:lnTo>
                  <a:pt x="314" y="850"/>
                </a:lnTo>
                <a:lnTo>
                  <a:pt x="314" y="850"/>
                </a:lnTo>
                <a:lnTo>
                  <a:pt x="318" y="850"/>
                </a:lnTo>
                <a:lnTo>
                  <a:pt x="318" y="855"/>
                </a:lnTo>
                <a:lnTo>
                  <a:pt x="323" y="855"/>
                </a:lnTo>
                <a:lnTo>
                  <a:pt x="323" y="855"/>
                </a:lnTo>
                <a:lnTo>
                  <a:pt x="398" y="832"/>
                </a:lnTo>
                <a:lnTo>
                  <a:pt x="398" y="832"/>
                </a:lnTo>
                <a:lnTo>
                  <a:pt x="398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7" y="832"/>
                </a:lnTo>
                <a:lnTo>
                  <a:pt x="407" y="832"/>
                </a:lnTo>
                <a:lnTo>
                  <a:pt x="412" y="832"/>
                </a:lnTo>
                <a:lnTo>
                  <a:pt x="417" y="827"/>
                </a:lnTo>
                <a:lnTo>
                  <a:pt x="421" y="827"/>
                </a:lnTo>
                <a:lnTo>
                  <a:pt x="426" y="827"/>
                </a:lnTo>
                <a:lnTo>
                  <a:pt x="431" y="822"/>
                </a:lnTo>
                <a:lnTo>
                  <a:pt x="435" y="822"/>
                </a:lnTo>
                <a:lnTo>
                  <a:pt x="440" y="822"/>
                </a:lnTo>
                <a:lnTo>
                  <a:pt x="445" y="818"/>
                </a:lnTo>
                <a:lnTo>
                  <a:pt x="454" y="813"/>
                </a:lnTo>
                <a:lnTo>
                  <a:pt x="459" y="813"/>
                </a:lnTo>
                <a:lnTo>
                  <a:pt x="468" y="808"/>
                </a:lnTo>
                <a:lnTo>
                  <a:pt x="473" y="804"/>
                </a:lnTo>
                <a:lnTo>
                  <a:pt x="478" y="799"/>
                </a:lnTo>
                <a:lnTo>
                  <a:pt x="487" y="799"/>
                </a:lnTo>
                <a:lnTo>
                  <a:pt x="492" y="799"/>
                </a:lnTo>
                <a:lnTo>
                  <a:pt x="501" y="794"/>
                </a:lnTo>
                <a:lnTo>
                  <a:pt x="506" y="794"/>
                </a:lnTo>
                <a:lnTo>
                  <a:pt x="515" y="790"/>
                </a:lnTo>
                <a:lnTo>
                  <a:pt x="520" y="790"/>
                </a:lnTo>
                <a:lnTo>
                  <a:pt x="529" y="785"/>
                </a:lnTo>
                <a:lnTo>
                  <a:pt x="534" y="785"/>
                </a:lnTo>
                <a:lnTo>
                  <a:pt x="543" y="785"/>
                </a:lnTo>
                <a:lnTo>
                  <a:pt x="548" y="785"/>
                </a:lnTo>
                <a:lnTo>
                  <a:pt x="557" y="785"/>
                </a:lnTo>
                <a:lnTo>
                  <a:pt x="553" y="785"/>
                </a:lnTo>
                <a:lnTo>
                  <a:pt x="553" y="785"/>
                </a:lnTo>
                <a:lnTo>
                  <a:pt x="553" y="780"/>
                </a:lnTo>
                <a:lnTo>
                  <a:pt x="553" y="780"/>
                </a:lnTo>
                <a:lnTo>
                  <a:pt x="553" y="780"/>
                </a:lnTo>
                <a:lnTo>
                  <a:pt x="553" y="776"/>
                </a:lnTo>
                <a:lnTo>
                  <a:pt x="553" y="776"/>
                </a:lnTo>
                <a:lnTo>
                  <a:pt x="553" y="776"/>
                </a:lnTo>
                <a:lnTo>
                  <a:pt x="590" y="757"/>
                </a:lnTo>
                <a:lnTo>
                  <a:pt x="721" y="701"/>
                </a:lnTo>
                <a:lnTo>
                  <a:pt x="735" y="691"/>
                </a:lnTo>
                <a:lnTo>
                  <a:pt x="754" y="691"/>
                </a:lnTo>
                <a:lnTo>
                  <a:pt x="759" y="687"/>
                </a:lnTo>
                <a:lnTo>
                  <a:pt x="759" y="687"/>
                </a:lnTo>
                <a:lnTo>
                  <a:pt x="759" y="687"/>
                </a:lnTo>
                <a:lnTo>
                  <a:pt x="763" y="682"/>
                </a:lnTo>
                <a:lnTo>
                  <a:pt x="763" y="682"/>
                </a:lnTo>
                <a:lnTo>
                  <a:pt x="763" y="682"/>
                </a:lnTo>
                <a:lnTo>
                  <a:pt x="768" y="677"/>
                </a:lnTo>
                <a:lnTo>
                  <a:pt x="768" y="677"/>
                </a:lnTo>
                <a:lnTo>
                  <a:pt x="787" y="668"/>
                </a:lnTo>
                <a:lnTo>
                  <a:pt x="801" y="659"/>
                </a:lnTo>
                <a:lnTo>
                  <a:pt x="834" y="645"/>
                </a:lnTo>
                <a:lnTo>
                  <a:pt x="899" y="603"/>
                </a:lnTo>
                <a:lnTo>
                  <a:pt x="927" y="589"/>
                </a:lnTo>
                <a:lnTo>
                  <a:pt x="941" y="575"/>
                </a:lnTo>
                <a:lnTo>
                  <a:pt x="955" y="565"/>
                </a:lnTo>
                <a:lnTo>
                  <a:pt x="974" y="551"/>
                </a:lnTo>
                <a:lnTo>
                  <a:pt x="993" y="542"/>
                </a:lnTo>
                <a:lnTo>
                  <a:pt x="1012" y="532"/>
                </a:lnTo>
                <a:lnTo>
                  <a:pt x="1030" y="523"/>
                </a:lnTo>
                <a:lnTo>
                  <a:pt x="1049" y="514"/>
                </a:lnTo>
                <a:lnTo>
                  <a:pt x="1073" y="504"/>
                </a:lnTo>
                <a:lnTo>
                  <a:pt x="1096" y="495"/>
                </a:lnTo>
                <a:lnTo>
                  <a:pt x="1115" y="486"/>
                </a:lnTo>
                <a:lnTo>
                  <a:pt x="1138" y="476"/>
                </a:lnTo>
                <a:lnTo>
                  <a:pt x="1162" y="462"/>
                </a:lnTo>
                <a:lnTo>
                  <a:pt x="1185" y="453"/>
                </a:lnTo>
                <a:lnTo>
                  <a:pt x="1208" y="444"/>
                </a:lnTo>
                <a:lnTo>
                  <a:pt x="1232" y="434"/>
                </a:lnTo>
                <a:lnTo>
                  <a:pt x="1255" y="425"/>
                </a:lnTo>
                <a:lnTo>
                  <a:pt x="1255" y="425"/>
                </a:lnTo>
                <a:lnTo>
                  <a:pt x="1255" y="425"/>
                </a:lnTo>
                <a:lnTo>
                  <a:pt x="1260" y="425"/>
                </a:lnTo>
                <a:lnTo>
                  <a:pt x="1260" y="420"/>
                </a:lnTo>
                <a:lnTo>
                  <a:pt x="1260" y="420"/>
                </a:lnTo>
                <a:lnTo>
                  <a:pt x="1260" y="420"/>
                </a:lnTo>
                <a:lnTo>
                  <a:pt x="1279" y="416"/>
                </a:lnTo>
                <a:lnTo>
                  <a:pt x="1293" y="411"/>
                </a:lnTo>
                <a:lnTo>
                  <a:pt x="1307" y="402"/>
                </a:lnTo>
                <a:lnTo>
                  <a:pt x="1321" y="397"/>
                </a:lnTo>
                <a:lnTo>
                  <a:pt x="1340" y="392"/>
                </a:lnTo>
                <a:lnTo>
                  <a:pt x="1354" y="388"/>
                </a:lnTo>
                <a:lnTo>
                  <a:pt x="1368" y="383"/>
                </a:lnTo>
                <a:lnTo>
                  <a:pt x="1382" y="378"/>
                </a:lnTo>
                <a:lnTo>
                  <a:pt x="1415" y="360"/>
                </a:lnTo>
                <a:lnTo>
                  <a:pt x="1452" y="346"/>
                </a:lnTo>
                <a:lnTo>
                  <a:pt x="1485" y="332"/>
                </a:lnTo>
                <a:lnTo>
                  <a:pt x="1522" y="317"/>
                </a:lnTo>
                <a:lnTo>
                  <a:pt x="1555" y="308"/>
                </a:lnTo>
                <a:lnTo>
                  <a:pt x="1593" y="294"/>
                </a:lnTo>
                <a:lnTo>
                  <a:pt x="1625" y="285"/>
                </a:lnTo>
                <a:lnTo>
                  <a:pt x="1663" y="271"/>
                </a:lnTo>
                <a:lnTo>
                  <a:pt x="1677" y="266"/>
                </a:lnTo>
                <a:lnTo>
                  <a:pt x="1691" y="261"/>
                </a:lnTo>
                <a:lnTo>
                  <a:pt x="1710" y="257"/>
                </a:lnTo>
                <a:lnTo>
                  <a:pt x="1724" y="252"/>
                </a:lnTo>
                <a:lnTo>
                  <a:pt x="1743" y="247"/>
                </a:lnTo>
                <a:lnTo>
                  <a:pt x="1757" y="243"/>
                </a:lnTo>
                <a:lnTo>
                  <a:pt x="1775" y="238"/>
                </a:lnTo>
                <a:lnTo>
                  <a:pt x="1794" y="233"/>
                </a:lnTo>
                <a:lnTo>
                  <a:pt x="1832" y="219"/>
                </a:lnTo>
                <a:lnTo>
                  <a:pt x="1869" y="210"/>
                </a:lnTo>
                <a:lnTo>
                  <a:pt x="1907" y="201"/>
                </a:lnTo>
                <a:lnTo>
                  <a:pt x="1944" y="191"/>
                </a:lnTo>
                <a:lnTo>
                  <a:pt x="1981" y="177"/>
                </a:lnTo>
                <a:lnTo>
                  <a:pt x="2019" y="168"/>
                </a:lnTo>
                <a:lnTo>
                  <a:pt x="2056" y="159"/>
                </a:lnTo>
                <a:lnTo>
                  <a:pt x="2089" y="149"/>
                </a:lnTo>
                <a:lnTo>
                  <a:pt x="2103" y="149"/>
                </a:lnTo>
                <a:lnTo>
                  <a:pt x="2113" y="145"/>
                </a:lnTo>
                <a:lnTo>
                  <a:pt x="2122" y="145"/>
                </a:lnTo>
                <a:lnTo>
                  <a:pt x="2136" y="140"/>
                </a:lnTo>
                <a:lnTo>
                  <a:pt x="2145" y="135"/>
                </a:lnTo>
                <a:lnTo>
                  <a:pt x="2159" y="135"/>
                </a:lnTo>
                <a:lnTo>
                  <a:pt x="2169" y="131"/>
                </a:lnTo>
                <a:lnTo>
                  <a:pt x="2178" y="131"/>
                </a:lnTo>
                <a:lnTo>
                  <a:pt x="2234" y="121"/>
                </a:lnTo>
                <a:lnTo>
                  <a:pt x="2291" y="112"/>
                </a:lnTo>
                <a:lnTo>
                  <a:pt x="2347" y="102"/>
                </a:lnTo>
                <a:lnTo>
                  <a:pt x="2403" y="93"/>
                </a:lnTo>
                <a:lnTo>
                  <a:pt x="2459" y="88"/>
                </a:lnTo>
                <a:lnTo>
                  <a:pt x="2516" y="84"/>
                </a:lnTo>
                <a:lnTo>
                  <a:pt x="2572" y="79"/>
                </a:lnTo>
                <a:lnTo>
                  <a:pt x="2633" y="74"/>
                </a:lnTo>
                <a:lnTo>
                  <a:pt x="2656" y="74"/>
                </a:lnTo>
                <a:lnTo>
                  <a:pt x="2684" y="74"/>
                </a:lnTo>
                <a:lnTo>
                  <a:pt x="2712" y="74"/>
                </a:lnTo>
                <a:lnTo>
                  <a:pt x="2736" y="79"/>
                </a:lnTo>
                <a:lnTo>
                  <a:pt x="2764" y="79"/>
                </a:lnTo>
                <a:lnTo>
                  <a:pt x="2787" y="79"/>
                </a:lnTo>
                <a:lnTo>
                  <a:pt x="2815" y="84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93"/>
                </a:lnTo>
                <a:lnTo>
                  <a:pt x="2834" y="98"/>
                </a:lnTo>
                <a:lnTo>
                  <a:pt x="2820" y="102"/>
                </a:lnTo>
                <a:lnTo>
                  <a:pt x="2806" y="107"/>
                </a:lnTo>
                <a:lnTo>
                  <a:pt x="2792" y="112"/>
                </a:lnTo>
                <a:lnTo>
                  <a:pt x="2778" y="112"/>
                </a:lnTo>
                <a:lnTo>
                  <a:pt x="2764" y="117"/>
                </a:lnTo>
                <a:lnTo>
                  <a:pt x="2750" y="121"/>
                </a:lnTo>
                <a:lnTo>
                  <a:pt x="2736" y="126"/>
                </a:lnTo>
                <a:lnTo>
                  <a:pt x="2680" y="140"/>
                </a:lnTo>
                <a:lnTo>
                  <a:pt x="2623" y="154"/>
                </a:lnTo>
                <a:lnTo>
                  <a:pt x="2567" y="168"/>
                </a:lnTo>
                <a:lnTo>
                  <a:pt x="2516" y="182"/>
                </a:lnTo>
                <a:lnTo>
                  <a:pt x="2459" y="196"/>
                </a:lnTo>
                <a:lnTo>
                  <a:pt x="2403" y="210"/>
                </a:lnTo>
                <a:lnTo>
                  <a:pt x="2352" y="224"/>
                </a:lnTo>
                <a:lnTo>
                  <a:pt x="2295" y="243"/>
                </a:lnTo>
                <a:lnTo>
                  <a:pt x="2244" y="257"/>
                </a:lnTo>
                <a:lnTo>
                  <a:pt x="2192" y="271"/>
                </a:lnTo>
                <a:lnTo>
                  <a:pt x="2141" y="289"/>
                </a:lnTo>
                <a:lnTo>
                  <a:pt x="2094" y="308"/>
                </a:lnTo>
                <a:lnTo>
                  <a:pt x="2042" y="327"/>
                </a:lnTo>
                <a:lnTo>
                  <a:pt x="1996" y="346"/>
                </a:lnTo>
                <a:lnTo>
                  <a:pt x="1944" y="369"/>
                </a:lnTo>
                <a:lnTo>
                  <a:pt x="1897" y="388"/>
                </a:lnTo>
                <a:lnTo>
                  <a:pt x="1869" y="397"/>
                </a:lnTo>
                <a:lnTo>
                  <a:pt x="1846" y="411"/>
                </a:lnTo>
                <a:lnTo>
                  <a:pt x="1822" y="425"/>
                </a:lnTo>
                <a:lnTo>
                  <a:pt x="1799" y="444"/>
                </a:lnTo>
                <a:lnTo>
                  <a:pt x="1780" y="462"/>
                </a:lnTo>
                <a:lnTo>
                  <a:pt x="1761" y="476"/>
                </a:lnTo>
                <a:lnTo>
                  <a:pt x="1743" y="495"/>
                </a:lnTo>
                <a:lnTo>
                  <a:pt x="1724" y="509"/>
                </a:lnTo>
                <a:lnTo>
                  <a:pt x="1710" y="532"/>
                </a:lnTo>
                <a:lnTo>
                  <a:pt x="1710" y="542"/>
                </a:lnTo>
                <a:lnTo>
                  <a:pt x="1714" y="546"/>
                </a:lnTo>
                <a:lnTo>
                  <a:pt x="1714" y="556"/>
                </a:lnTo>
                <a:lnTo>
                  <a:pt x="1719" y="561"/>
                </a:lnTo>
                <a:lnTo>
                  <a:pt x="1724" y="570"/>
                </a:lnTo>
                <a:lnTo>
                  <a:pt x="1728" y="575"/>
                </a:lnTo>
                <a:lnTo>
                  <a:pt x="1738" y="579"/>
                </a:lnTo>
                <a:lnTo>
                  <a:pt x="1743" y="584"/>
                </a:lnTo>
                <a:lnTo>
                  <a:pt x="1771" y="593"/>
                </a:lnTo>
                <a:lnTo>
                  <a:pt x="1803" y="593"/>
                </a:lnTo>
                <a:lnTo>
                  <a:pt x="1836" y="593"/>
                </a:lnTo>
                <a:lnTo>
                  <a:pt x="1864" y="584"/>
                </a:lnTo>
                <a:lnTo>
                  <a:pt x="1897" y="575"/>
                </a:lnTo>
                <a:lnTo>
                  <a:pt x="1930" y="561"/>
                </a:lnTo>
                <a:lnTo>
                  <a:pt x="1958" y="551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6" y="537"/>
                </a:lnTo>
                <a:lnTo>
                  <a:pt x="1996" y="537"/>
                </a:lnTo>
                <a:lnTo>
                  <a:pt x="1996" y="542"/>
                </a:lnTo>
                <a:lnTo>
                  <a:pt x="2000" y="542"/>
                </a:lnTo>
                <a:lnTo>
                  <a:pt x="2000" y="537"/>
                </a:lnTo>
                <a:lnTo>
                  <a:pt x="2005" y="537"/>
                </a:lnTo>
                <a:lnTo>
                  <a:pt x="2014" y="532"/>
                </a:lnTo>
                <a:lnTo>
                  <a:pt x="2019" y="532"/>
                </a:lnTo>
                <a:lnTo>
                  <a:pt x="2028" y="528"/>
                </a:lnTo>
                <a:lnTo>
                  <a:pt x="2033" y="523"/>
                </a:lnTo>
                <a:lnTo>
                  <a:pt x="2042" y="523"/>
                </a:lnTo>
                <a:lnTo>
                  <a:pt x="2052" y="518"/>
                </a:lnTo>
                <a:lnTo>
                  <a:pt x="2056" y="518"/>
                </a:lnTo>
                <a:lnTo>
                  <a:pt x="2080" y="509"/>
                </a:lnTo>
                <a:lnTo>
                  <a:pt x="2099" y="504"/>
                </a:lnTo>
                <a:lnTo>
                  <a:pt x="2122" y="495"/>
                </a:lnTo>
                <a:lnTo>
                  <a:pt x="2141" y="490"/>
                </a:lnTo>
                <a:lnTo>
                  <a:pt x="2159" y="481"/>
                </a:lnTo>
                <a:lnTo>
                  <a:pt x="2178" y="476"/>
                </a:lnTo>
                <a:lnTo>
                  <a:pt x="2202" y="467"/>
                </a:lnTo>
                <a:lnTo>
                  <a:pt x="2220" y="462"/>
                </a:lnTo>
                <a:lnTo>
                  <a:pt x="2230" y="462"/>
                </a:lnTo>
                <a:lnTo>
                  <a:pt x="2234" y="458"/>
                </a:lnTo>
                <a:lnTo>
                  <a:pt x="2239" y="458"/>
                </a:lnTo>
                <a:lnTo>
                  <a:pt x="2244" y="453"/>
                </a:lnTo>
                <a:lnTo>
                  <a:pt x="2249" y="453"/>
                </a:lnTo>
                <a:lnTo>
                  <a:pt x="2253" y="453"/>
                </a:lnTo>
                <a:lnTo>
                  <a:pt x="2258" y="448"/>
                </a:lnTo>
                <a:lnTo>
                  <a:pt x="2263" y="444"/>
                </a:lnTo>
                <a:lnTo>
                  <a:pt x="2277" y="444"/>
                </a:lnTo>
                <a:lnTo>
                  <a:pt x="2286" y="444"/>
                </a:lnTo>
                <a:lnTo>
                  <a:pt x="2295" y="439"/>
                </a:lnTo>
                <a:lnTo>
                  <a:pt x="2305" y="434"/>
                </a:lnTo>
                <a:lnTo>
                  <a:pt x="2319" y="430"/>
                </a:lnTo>
                <a:lnTo>
                  <a:pt x="2328" y="430"/>
                </a:lnTo>
                <a:lnTo>
                  <a:pt x="2338" y="425"/>
                </a:lnTo>
                <a:lnTo>
                  <a:pt x="2352" y="425"/>
                </a:lnTo>
                <a:lnTo>
                  <a:pt x="2356" y="420"/>
                </a:lnTo>
                <a:lnTo>
                  <a:pt x="2361" y="420"/>
                </a:lnTo>
                <a:lnTo>
                  <a:pt x="2366" y="416"/>
                </a:lnTo>
                <a:lnTo>
                  <a:pt x="2370" y="416"/>
                </a:lnTo>
                <a:lnTo>
                  <a:pt x="2375" y="416"/>
                </a:lnTo>
                <a:lnTo>
                  <a:pt x="2380" y="411"/>
                </a:lnTo>
                <a:lnTo>
                  <a:pt x="2389" y="411"/>
                </a:lnTo>
                <a:lnTo>
                  <a:pt x="2394" y="411"/>
                </a:lnTo>
                <a:lnTo>
                  <a:pt x="2398" y="416"/>
                </a:lnTo>
                <a:lnTo>
                  <a:pt x="2408" y="420"/>
                </a:lnTo>
                <a:lnTo>
                  <a:pt x="2412" y="425"/>
                </a:lnTo>
                <a:lnTo>
                  <a:pt x="2422" y="434"/>
                </a:lnTo>
                <a:lnTo>
                  <a:pt x="2427" y="439"/>
                </a:lnTo>
                <a:lnTo>
                  <a:pt x="2436" y="448"/>
                </a:lnTo>
                <a:lnTo>
                  <a:pt x="2445" y="448"/>
                </a:lnTo>
                <a:lnTo>
                  <a:pt x="2455" y="453"/>
                </a:lnTo>
                <a:lnTo>
                  <a:pt x="2473" y="453"/>
                </a:lnTo>
                <a:lnTo>
                  <a:pt x="2487" y="448"/>
                </a:lnTo>
                <a:lnTo>
                  <a:pt x="2501" y="448"/>
                </a:lnTo>
                <a:lnTo>
                  <a:pt x="2516" y="444"/>
                </a:lnTo>
                <a:lnTo>
                  <a:pt x="2534" y="439"/>
                </a:lnTo>
                <a:lnTo>
                  <a:pt x="2548" y="434"/>
                </a:lnTo>
                <a:lnTo>
                  <a:pt x="2562" y="430"/>
                </a:lnTo>
                <a:lnTo>
                  <a:pt x="2576" y="430"/>
                </a:lnTo>
                <a:lnTo>
                  <a:pt x="2600" y="430"/>
                </a:lnTo>
                <a:lnTo>
                  <a:pt x="2623" y="425"/>
                </a:lnTo>
                <a:lnTo>
                  <a:pt x="2647" y="425"/>
                </a:lnTo>
                <a:lnTo>
                  <a:pt x="2670" y="425"/>
                </a:lnTo>
                <a:lnTo>
                  <a:pt x="2694" y="420"/>
                </a:lnTo>
                <a:lnTo>
                  <a:pt x="2717" y="420"/>
                </a:lnTo>
                <a:lnTo>
                  <a:pt x="2736" y="420"/>
                </a:lnTo>
                <a:lnTo>
                  <a:pt x="2759" y="420"/>
                </a:lnTo>
                <a:lnTo>
                  <a:pt x="2820" y="420"/>
                </a:lnTo>
                <a:lnTo>
                  <a:pt x="2881" y="416"/>
                </a:lnTo>
                <a:lnTo>
                  <a:pt x="2942" y="416"/>
                </a:lnTo>
                <a:lnTo>
                  <a:pt x="3003" y="411"/>
                </a:lnTo>
                <a:lnTo>
                  <a:pt x="3064" y="411"/>
                </a:lnTo>
                <a:lnTo>
                  <a:pt x="3125" y="411"/>
                </a:lnTo>
                <a:lnTo>
                  <a:pt x="3190" y="416"/>
                </a:lnTo>
                <a:lnTo>
                  <a:pt x="3251" y="420"/>
                </a:lnTo>
                <a:lnTo>
                  <a:pt x="3312" y="420"/>
                </a:lnTo>
                <a:lnTo>
                  <a:pt x="3373" y="425"/>
                </a:lnTo>
                <a:lnTo>
                  <a:pt x="3434" y="430"/>
                </a:lnTo>
                <a:lnTo>
                  <a:pt x="3495" y="430"/>
                </a:lnTo>
                <a:lnTo>
                  <a:pt x="3556" y="430"/>
                </a:lnTo>
                <a:lnTo>
                  <a:pt x="3617" y="430"/>
                </a:lnTo>
                <a:lnTo>
                  <a:pt x="3673" y="430"/>
                </a:lnTo>
                <a:lnTo>
                  <a:pt x="3734" y="420"/>
                </a:lnTo>
                <a:lnTo>
                  <a:pt x="3757" y="416"/>
                </a:lnTo>
                <a:lnTo>
                  <a:pt x="3780" y="411"/>
                </a:lnTo>
                <a:lnTo>
                  <a:pt x="3799" y="411"/>
                </a:lnTo>
                <a:lnTo>
                  <a:pt x="3823" y="406"/>
                </a:lnTo>
                <a:lnTo>
                  <a:pt x="3846" y="406"/>
                </a:lnTo>
                <a:lnTo>
                  <a:pt x="3865" y="406"/>
                </a:lnTo>
                <a:lnTo>
                  <a:pt x="3888" y="402"/>
                </a:lnTo>
                <a:lnTo>
                  <a:pt x="3907" y="397"/>
                </a:lnTo>
                <a:lnTo>
                  <a:pt x="3912" y="397"/>
                </a:lnTo>
                <a:lnTo>
                  <a:pt x="3916" y="397"/>
                </a:lnTo>
                <a:lnTo>
                  <a:pt x="3921" y="397"/>
                </a:lnTo>
                <a:lnTo>
                  <a:pt x="3926" y="397"/>
                </a:lnTo>
                <a:lnTo>
                  <a:pt x="3930" y="397"/>
                </a:lnTo>
                <a:lnTo>
                  <a:pt x="3935" y="397"/>
                </a:lnTo>
                <a:lnTo>
                  <a:pt x="3935" y="397"/>
                </a:lnTo>
                <a:lnTo>
                  <a:pt x="3940" y="392"/>
                </a:lnTo>
                <a:lnTo>
                  <a:pt x="4268" y="392"/>
                </a:lnTo>
                <a:lnTo>
                  <a:pt x="4315" y="397"/>
                </a:lnTo>
                <a:lnTo>
                  <a:pt x="4361" y="402"/>
                </a:lnTo>
                <a:lnTo>
                  <a:pt x="4413" y="402"/>
                </a:lnTo>
                <a:lnTo>
                  <a:pt x="4460" y="402"/>
                </a:lnTo>
                <a:lnTo>
                  <a:pt x="4511" y="406"/>
                </a:lnTo>
                <a:lnTo>
                  <a:pt x="4558" y="406"/>
                </a:lnTo>
                <a:lnTo>
                  <a:pt x="4605" y="411"/>
                </a:lnTo>
                <a:lnTo>
                  <a:pt x="4657" y="420"/>
                </a:lnTo>
                <a:lnTo>
                  <a:pt x="4666" y="425"/>
                </a:lnTo>
                <a:lnTo>
                  <a:pt x="4680" y="430"/>
                </a:lnTo>
                <a:lnTo>
                  <a:pt x="4694" y="434"/>
                </a:lnTo>
                <a:lnTo>
                  <a:pt x="4703" y="434"/>
                </a:lnTo>
                <a:lnTo>
                  <a:pt x="4717" y="434"/>
                </a:lnTo>
                <a:lnTo>
                  <a:pt x="4727" y="430"/>
                </a:lnTo>
                <a:lnTo>
                  <a:pt x="4741" y="425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1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43434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wo population means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using matched pair sample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4800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wo population </a:t>
            </a:r>
            <a:r>
              <a:rPr b="1" i="1" lang="en-US" sz="2400" spc="-1" strike="noStrike">
                <a:solidFill>
                  <a:srgbClr val="996600"/>
                </a:solidFill>
                <a:latin typeface="Times New Roman"/>
              </a:rPr>
              <a:t>proportions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2640" y="3886200"/>
            <a:ext cx="69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wo population mean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using independent samples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1535040" y="228600"/>
            <a:ext cx="6073920" cy="8380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010607"/>
              </a:gs>
              <a:gs pos="100000">
                <a:srgbClr val="33ccff"/>
              </a:gs>
            </a:gsLst>
            <a:lin ang="8100000"/>
          </a:gradFill>
          <a:ln w="0">
            <a:noFill/>
          </a:ln>
          <a:effectLst>
            <a:outerShdw dist="180599" dir="7760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wo Sample Tests of Propo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09480" y="1295280"/>
            <a:ext cx="7867800" cy="94716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efefe"/>
              </a:gs>
              <a:gs pos="100000">
                <a:srgbClr val="00ffcc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investigate whether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two sampl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me from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populations with a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qual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 proportion of succe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52280" y="22860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wo samples ar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ool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using the following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" y="3657600"/>
            <a:ext cx="8001000" cy="1065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66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er to the number of successes in the respective sample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1447920" y="4800600"/>
            <a:ext cx="644400" cy="91440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/>
          <p:nvPr/>
        </p:nvSpPr>
        <p:spPr>
          <a:xfrm>
            <a:off x="91440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est Stat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2666160" y="2757600"/>
            <a:ext cx="2152080" cy="951120"/>
            <a:chOff x="2666160" y="2757600"/>
            <a:chExt cx="2152080" cy="951120"/>
          </a:xfrm>
        </p:grpSpPr>
        <p:sp>
          <p:nvSpPr>
            <p:cNvPr id="884" name=""/>
            <p:cNvSpPr/>
            <p:nvPr/>
          </p:nvSpPr>
          <p:spPr>
            <a:xfrm>
              <a:off x="3538440" y="3275280"/>
              <a:ext cx="12798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11160" y="3434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43000" y="34340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625640" y="2963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843000" y="2963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323960" y="3265560"/>
              <a:ext cx="185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684240" y="3265560"/>
              <a:ext cx="185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352400" y="2795760"/>
              <a:ext cx="221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596760" y="2795760"/>
              <a:ext cx="221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2666160" y="2819520"/>
              <a:ext cx="217080" cy="565560"/>
              <a:chOff x="2666160" y="2819520"/>
              <a:chExt cx="217080" cy="565560"/>
            </a:xfrm>
          </p:grpSpPr>
          <p:sp>
            <p:nvSpPr>
              <p:cNvPr id="894" name=""/>
              <p:cNvSpPr/>
              <p:nvPr/>
            </p:nvSpPr>
            <p:spPr>
              <a:xfrm>
                <a:off x="2700360" y="2819520"/>
                <a:ext cx="1440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ˆ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666160" y="2867040"/>
                <a:ext cx="21708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4049640" y="3227400"/>
              <a:ext cx="194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49640" y="2757600"/>
              <a:ext cx="194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931120" y="2971800"/>
              <a:ext cx="262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 txBox="1"/>
          <p:nvPr/>
        </p:nvSpPr>
        <p:spPr>
          <a:xfrm>
            <a:off x="5181480" y="2895480"/>
            <a:ext cx="1543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99ff"/>
                  </a:solidFill>
                  <a:miter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where</a:t>
            </a:r>
            <a:endParaRPr b="0" lang="en-US" sz="2400" spc="1" strike="noStrike">
              <a:ln w="9360">
                <a:solidFill>
                  <a:srgbClr val="6699ff"/>
                </a:solidFill>
                <a:miter/>
              </a:ln>
              <a:solidFill>
                <a:srgbClr val="3333cc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2980800" y="4648320"/>
            <a:ext cx="4410360" cy="1551960"/>
            <a:chOff x="2980800" y="4648320"/>
            <a:chExt cx="4410360" cy="1551960"/>
          </a:xfrm>
        </p:grpSpPr>
        <p:sp>
          <p:nvSpPr>
            <p:cNvPr id="901" name=""/>
            <p:cNvSpPr/>
            <p:nvPr/>
          </p:nvSpPr>
          <p:spPr>
            <a:xfrm>
              <a:off x="3741480" y="5181480"/>
              <a:ext cx="36496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27840" y="4913280"/>
              <a:ext cx="262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3798720" y="5257800"/>
              <a:ext cx="3546360" cy="942480"/>
              <a:chOff x="3798720" y="5257800"/>
              <a:chExt cx="3546360" cy="942480"/>
            </a:xfrm>
          </p:grpSpPr>
          <p:sp>
            <p:nvSpPr>
              <p:cNvPr id="904" name=""/>
              <p:cNvSpPr/>
              <p:nvPr/>
            </p:nvSpPr>
            <p:spPr>
              <a:xfrm>
                <a:off x="5773680" y="5721120"/>
                <a:ext cx="1325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3798720" y="5801760"/>
                <a:ext cx="57240" cy="205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855960" y="5808600"/>
                <a:ext cx="79200" cy="32544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3948120" y="5257800"/>
                <a:ext cx="114120" cy="8762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062240" y="5257800"/>
                <a:ext cx="328284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144200" y="5575320"/>
                <a:ext cx="936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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144200" y="5803920"/>
                <a:ext cx="936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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144200" y="5297400"/>
                <a:ext cx="936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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595840" y="5575320"/>
                <a:ext cx="936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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595840" y="5803920"/>
                <a:ext cx="936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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595840" y="5297400"/>
                <a:ext cx="936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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273360" y="5724360"/>
                <a:ext cx="1944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10320" y="5500440"/>
                <a:ext cx="1105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855840" y="590688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013080" y="590688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320520" y="5354640"/>
                <a:ext cx="166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408640" y="5533920"/>
                <a:ext cx="1105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200200" y="5513400"/>
                <a:ext cx="1105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ˆ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506120" y="5533920"/>
                <a:ext cx="166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392000" y="5533920"/>
                <a:ext cx="1105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185720" y="5513400"/>
                <a:ext cx="1105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ˆ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619320" y="5757840"/>
                <a:ext cx="1850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811480" y="5757840"/>
                <a:ext cx="1850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163120" y="5533920"/>
                <a:ext cx="166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147200" y="5533920"/>
                <a:ext cx="166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"/>
            <p:cNvGrpSpPr/>
            <p:nvPr/>
          </p:nvGrpSpPr>
          <p:grpSpPr>
            <a:xfrm>
              <a:off x="4936320" y="4648320"/>
              <a:ext cx="1226880" cy="455760"/>
              <a:chOff x="4936320" y="4648320"/>
              <a:chExt cx="1226880" cy="455760"/>
            </a:xfrm>
          </p:grpSpPr>
          <p:sp>
            <p:nvSpPr>
              <p:cNvPr id="930" name=""/>
              <p:cNvSpPr/>
              <p:nvPr/>
            </p:nvSpPr>
            <p:spPr>
              <a:xfrm>
                <a:off x="5447520" y="4648320"/>
                <a:ext cx="1105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048000" y="482940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146200" y="482940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39920" y="4660920"/>
                <a:ext cx="1105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ˆ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974840" y="4660920"/>
                <a:ext cx="1105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ˆ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03560" y="4681800"/>
                <a:ext cx="166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936320" y="4681800"/>
                <a:ext cx="166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2980800" y="4724280"/>
              <a:ext cx="188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8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u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277920" y="1327320"/>
            <a:ext cx="8588160" cy="130644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unmarried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workers more likely to be absent from work than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married</a:t>
            </a:r>
            <a:r>
              <a:rPr b="1" i="1" lang="en-US" sz="36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orkers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66760" y="2971800"/>
            <a:ext cx="861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mple of 250 marri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orkers showed                 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2 missed more than 5 days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ast year, while a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sample of 300 unmarri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orkers showed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35 missed more th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five day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457440" y="119160"/>
            <a:ext cx="2486160" cy="871560"/>
            <a:chOff x="3457440" y="119160"/>
            <a:chExt cx="2486160" cy="871560"/>
          </a:xfrm>
        </p:grpSpPr>
        <p:sp>
          <p:nvSpPr>
            <p:cNvPr id="941" name=""/>
            <p:cNvSpPr txBox="1"/>
            <p:nvPr/>
          </p:nvSpPr>
          <p:spPr>
            <a:xfrm>
              <a:off x="3457440" y="11916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42" name=""/>
            <p:cNvSpPr txBox="1"/>
            <p:nvPr/>
          </p:nvSpPr>
          <p:spPr>
            <a:xfrm>
              <a:off x="4095720" y="328680"/>
              <a:ext cx="18478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838080" y="6019920"/>
            <a:ext cx="7467480" cy="304200"/>
            <a:chOff x="838080" y="6019920"/>
            <a:chExt cx="7467480" cy="304200"/>
          </a:xfrm>
        </p:grpSpPr>
        <p:sp>
          <p:nvSpPr>
            <p:cNvPr id="944" name=""/>
            <p:cNvSpPr/>
            <p:nvPr/>
          </p:nvSpPr>
          <p:spPr>
            <a:xfrm>
              <a:off x="838080" y="6097680"/>
              <a:ext cx="7467480" cy="78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5" name="" descr=""/>
            <p:cNvPicPr/>
            <p:nvPr/>
          </p:nvPicPr>
          <p:blipFill>
            <a:blip r:embed="rId4"/>
            <a:stretch/>
          </p:blipFill>
          <p:spPr>
            <a:xfrm>
              <a:off x="4477320" y="6019920"/>
              <a:ext cx="399960" cy="30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6" name=""/>
          <p:cNvSpPr/>
          <p:nvPr/>
        </p:nvSpPr>
        <p:spPr>
          <a:xfrm>
            <a:off x="2393640" y="5257800"/>
            <a:ext cx="43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0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ignificance lev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2" dur="75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2666880" y="200160"/>
            <a:ext cx="381024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182880" y="1104840"/>
            <a:ext cx="5856120" cy="487800"/>
            <a:chOff x="182880" y="1104840"/>
            <a:chExt cx="5856120" cy="487800"/>
          </a:xfrm>
        </p:grpSpPr>
        <p:sp>
          <p:nvSpPr>
            <p:cNvPr id="949" name=""/>
            <p:cNvSpPr/>
            <p:nvPr/>
          </p:nvSpPr>
          <p:spPr>
            <a:xfrm>
              <a:off x="1596960" y="1193760"/>
              <a:ext cx="444204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84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null and alternate hypothe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82880" y="110484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202680" y="1990800"/>
            <a:ext cx="5750280" cy="459720"/>
            <a:chOff x="202680" y="1990800"/>
            <a:chExt cx="5750280" cy="459720"/>
          </a:xfrm>
        </p:grpSpPr>
        <p:sp>
          <p:nvSpPr>
            <p:cNvPr id="952" name=""/>
            <p:cNvSpPr/>
            <p:nvPr/>
          </p:nvSpPr>
          <p:spPr>
            <a:xfrm>
              <a:off x="1600200" y="2019240"/>
              <a:ext cx="435276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elect the level of signific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680" y="19908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202680" y="2556000"/>
            <a:ext cx="4255200" cy="459720"/>
            <a:chOff x="202680" y="2556000"/>
            <a:chExt cx="4255200" cy="459720"/>
          </a:xfrm>
        </p:grpSpPr>
        <p:sp>
          <p:nvSpPr>
            <p:cNvPr id="955" name=""/>
            <p:cNvSpPr/>
            <p:nvPr/>
          </p:nvSpPr>
          <p:spPr>
            <a:xfrm>
              <a:off x="1585800" y="2604960"/>
              <a:ext cx="28720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dentify the test statis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2680" y="25560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231120" y="3276720"/>
            <a:ext cx="4126680" cy="459720"/>
            <a:chOff x="231120" y="3276720"/>
            <a:chExt cx="4126680" cy="459720"/>
          </a:xfrm>
        </p:grpSpPr>
        <p:sp>
          <p:nvSpPr>
            <p:cNvPr id="958" name=""/>
            <p:cNvSpPr/>
            <p:nvPr/>
          </p:nvSpPr>
          <p:spPr>
            <a:xfrm>
              <a:off x="1595520" y="3305160"/>
              <a:ext cx="27622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1120" y="327672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231120" y="3854520"/>
            <a:ext cx="4340880" cy="719640"/>
            <a:chOff x="231120" y="3854520"/>
            <a:chExt cx="4340880" cy="719640"/>
          </a:xfrm>
        </p:grpSpPr>
        <p:sp>
          <p:nvSpPr>
            <p:cNvPr id="961" name=""/>
            <p:cNvSpPr/>
            <p:nvPr/>
          </p:nvSpPr>
          <p:spPr>
            <a:xfrm>
              <a:off x="1600200" y="3870360"/>
              <a:ext cx="2971800" cy="70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mpute the test statistic and make a dec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1120" y="385452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6324480" y="1995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0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648320" y="2546280"/>
            <a:ext cx="4209840" cy="767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cause both samples are large the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tribution is use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572000" y="3352680"/>
            <a:ext cx="380988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&gt; 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5410080" y="6172200"/>
            <a:ext cx="3581280" cy="459720"/>
            <a:chOff x="5410080" y="6172200"/>
            <a:chExt cx="3581280" cy="459720"/>
          </a:xfrm>
        </p:grpSpPr>
        <p:sp>
          <p:nvSpPr>
            <p:cNvPr id="967" name=""/>
            <p:cNvSpPr/>
            <p:nvPr/>
          </p:nvSpPr>
          <p:spPr>
            <a:xfrm>
              <a:off x="5410080" y="6426360"/>
              <a:ext cx="3581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715720" y="6172200"/>
              <a:ext cx="2884320" cy="459720"/>
            </a:xfrm>
            <a:prstGeom prst="rect">
              <a:avLst/>
            </a:prstGeom>
            <a:gradFill rotWithShape="0">
              <a:gsLst>
                <a:gs pos="0">
                  <a:srgbClr val="f385bc"/>
                </a:gs>
                <a:gs pos="50000">
                  <a:srgbClr val="fefefe"/>
                </a:gs>
                <a:gs pos="100000">
                  <a:srgbClr val="f385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lution continues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6172200" y="1461960"/>
            <a:ext cx="243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028840" y="3886200"/>
            <a:ext cx="3003840" cy="1535760"/>
            <a:chOff x="5028840" y="3886200"/>
            <a:chExt cx="3003840" cy="1535760"/>
          </a:xfrm>
        </p:grpSpPr>
        <p:sp>
          <p:nvSpPr>
            <p:cNvPr id="971" name=""/>
            <p:cNvSpPr/>
            <p:nvPr/>
          </p:nvSpPr>
          <p:spPr>
            <a:xfrm>
              <a:off x="5960880" y="4632480"/>
              <a:ext cx="207180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535520" y="49798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452640" y="49798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21280" y="421956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452640" y="421956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076360" y="4254480"/>
              <a:ext cx="1789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Times New Roman"/>
                </a:rPr>
                <a:t>ˆ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232040" y="471024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2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195600" y="471024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2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277760" y="3948120"/>
              <a:ext cx="3268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2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55560" y="3948120"/>
              <a:ext cx="3268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2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028840" y="429264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787800" y="4648320"/>
              <a:ext cx="311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787800" y="3886200"/>
              <a:ext cx="311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14040" y="4230720"/>
              <a:ext cx="424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6172200" y="990720"/>
            <a:ext cx="2362320" cy="610920"/>
            <a:chOff x="6172200" y="990720"/>
            <a:chExt cx="2362320" cy="610920"/>
          </a:xfrm>
        </p:grpSpPr>
        <p:sp>
          <p:nvSpPr>
            <p:cNvPr id="986" name=""/>
            <p:cNvSpPr/>
            <p:nvPr/>
          </p:nvSpPr>
          <p:spPr>
            <a:xfrm>
              <a:off x="6172200" y="990720"/>
              <a:ext cx="236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34560" y="1081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666880" y="200160"/>
            <a:ext cx="381024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1120" y="1182600"/>
            <a:ext cx="4340880" cy="719640"/>
            <a:chOff x="231120" y="1182600"/>
            <a:chExt cx="4340880" cy="719640"/>
          </a:xfrm>
        </p:grpSpPr>
        <p:sp>
          <p:nvSpPr>
            <p:cNvPr id="990" name=""/>
            <p:cNvSpPr/>
            <p:nvPr/>
          </p:nvSpPr>
          <p:spPr>
            <a:xfrm>
              <a:off x="1600200" y="1198440"/>
              <a:ext cx="2971800" cy="70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mpute the test statistic and make a dec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1120" y="11826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228600" y="3505320"/>
            <a:ext cx="3505320" cy="1757520"/>
            <a:chOff x="228600" y="3505320"/>
            <a:chExt cx="3505320" cy="1757520"/>
          </a:xfrm>
        </p:grpSpPr>
        <p:sp>
          <p:nvSpPr>
            <p:cNvPr id="993" name=""/>
            <p:cNvSpPr/>
            <p:nvPr/>
          </p:nvSpPr>
          <p:spPr>
            <a:xfrm flipV="1">
              <a:off x="912960" y="4741200"/>
              <a:ext cx="44280" cy="21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957240" y="4748040"/>
              <a:ext cx="63360" cy="33768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1028880" y="4179240"/>
              <a:ext cx="90360" cy="90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119240" y="4179600"/>
              <a:ext cx="2577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66880" y="4124160"/>
              <a:ext cx="28670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547800" y="4506840"/>
              <a:ext cx="1227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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525840" y="4744800"/>
              <a:ext cx="1666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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547800" y="4219200"/>
              <a:ext cx="1227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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331720" y="4508280"/>
              <a:ext cx="1227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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331720" y="4743360"/>
              <a:ext cx="1227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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31720" y="4219200"/>
              <a:ext cx="1227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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38280" y="4647960"/>
              <a:ext cx="1043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4440" y="4570200"/>
              <a:ext cx="252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52680" y="48909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42840" y="48942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91880" y="4186080"/>
              <a:ext cx="217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128760" y="4603680"/>
              <a:ext cx="2401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94080" y="4603680"/>
              <a:ext cx="2401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"/>
            <p:cNvGrpSpPr/>
            <p:nvPr/>
          </p:nvGrpSpPr>
          <p:grpSpPr>
            <a:xfrm>
              <a:off x="1186920" y="4430520"/>
              <a:ext cx="1131840" cy="552600"/>
              <a:chOff x="1186920" y="4430520"/>
              <a:chExt cx="1131840" cy="552600"/>
            </a:xfrm>
          </p:grpSpPr>
          <p:sp>
            <p:nvSpPr>
              <p:cNvPr id="1012" name=""/>
              <p:cNvSpPr/>
              <p:nvPr/>
            </p:nvSpPr>
            <p:spPr>
              <a:xfrm>
                <a:off x="1724400" y="4430520"/>
                <a:ext cx="1440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174760" y="4465080"/>
                <a:ext cx="1440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012760" y="4443480"/>
                <a:ext cx="1440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ˆ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67360" y="4465080"/>
                <a:ext cx="21708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377000" y="4465080"/>
                <a:ext cx="1440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214640" y="4443480"/>
                <a:ext cx="1440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ˆ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984320" y="4465080"/>
                <a:ext cx="21708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186920" y="4465080"/>
                <a:ext cx="21708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0" name=""/>
            <p:cNvGrpSpPr/>
            <p:nvPr/>
          </p:nvGrpSpPr>
          <p:grpSpPr>
            <a:xfrm>
              <a:off x="1599480" y="3505320"/>
              <a:ext cx="1230840" cy="582840"/>
              <a:chOff x="1599480" y="3505320"/>
              <a:chExt cx="1230840" cy="582840"/>
            </a:xfrm>
          </p:grpSpPr>
          <p:sp>
            <p:nvSpPr>
              <p:cNvPr id="1021" name=""/>
              <p:cNvSpPr/>
              <p:nvPr/>
            </p:nvSpPr>
            <p:spPr>
              <a:xfrm>
                <a:off x="2093760" y="3505320"/>
                <a:ext cx="1440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648160" y="3720240"/>
                <a:ext cx="1821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794600" y="37220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451600" y="3521160"/>
                <a:ext cx="1440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ˆ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633320" y="3521160"/>
                <a:ext cx="1440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ˆ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415600" y="3544200"/>
                <a:ext cx="21708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599480" y="3547080"/>
                <a:ext cx="21708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228600" y="3809880"/>
              <a:ext cx="633240" cy="530280"/>
              <a:chOff x="228600" y="3809880"/>
              <a:chExt cx="633240" cy="530280"/>
            </a:xfrm>
          </p:grpSpPr>
          <p:sp>
            <p:nvSpPr>
              <p:cNvPr id="1029" name=""/>
              <p:cNvSpPr/>
              <p:nvPr/>
            </p:nvSpPr>
            <p:spPr>
              <a:xfrm>
                <a:off x="518040" y="3822120"/>
                <a:ext cx="34380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28600" y="3809880"/>
                <a:ext cx="16848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400" spc="-1" strike="noStrike">
                    <a:solidFill>
                      <a:srgbClr val="ff3300"/>
                    </a:solidFill>
                    <a:latin typeface="Times New Roman"/>
                  </a:rPr>
                  <a:t>z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1" name=""/>
          <p:cNvGrpSpPr/>
          <p:nvPr/>
        </p:nvGrpSpPr>
        <p:grpSpPr>
          <a:xfrm>
            <a:off x="5028840" y="914400"/>
            <a:ext cx="3003840" cy="1145520"/>
            <a:chOff x="5028840" y="914400"/>
            <a:chExt cx="3003840" cy="1145520"/>
          </a:xfrm>
        </p:grpSpPr>
        <p:sp>
          <p:nvSpPr>
            <p:cNvPr id="1032" name=""/>
            <p:cNvSpPr/>
            <p:nvPr/>
          </p:nvSpPr>
          <p:spPr>
            <a:xfrm>
              <a:off x="5960880" y="1477440"/>
              <a:ext cx="2071800" cy="1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535160" y="17395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52280" y="17395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720920" y="11646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452280" y="116460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076720" y="119196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ˆ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232040" y="1534680"/>
              <a:ext cx="217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4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195600" y="1537200"/>
              <a:ext cx="217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4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78120" y="959760"/>
              <a:ext cx="264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055920" y="959760"/>
              <a:ext cx="264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028840" y="1220760"/>
              <a:ext cx="217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797520" y="1489320"/>
              <a:ext cx="2365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789600" y="914400"/>
              <a:ext cx="252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26280" y="1174320"/>
              <a:ext cx="3438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5895000" y="2332080"/>
            <a:ext cx="1315800" cy="472680"/>
            <a:chOff x="5895000" y="2332080"/>
            <a:chExt cx="1315800" cy="472680"/>
          </a:xfrm>
        </p:grpSpPr>
        <p:sp>
          <p:nvSpPr>
            <p:cNvPr id="1047" name=""/>
            <p:cNvSpPr/>
            <p:nvPr/>
          </p:nvSpPr>
          <p:spPr>
            <a:xfrm>
              <a:off x="6324480" y="2332080"/>
              <a:ext cx="886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imes New Roman"/>
                </a:rPr>
                <a:t>.1036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895000" y="2332080"/>
              <a:ext cx="313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"/>
          <p:cNvSpPr/>
          <p:nvPr/>
        </p:nvSpPr>
        <p:spPr>
          <a:xfrm>
            <a:off x="3657600" y="2637000"/>
            <a:ext cx="20034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903840" y="2637000"/>
            <a:ext cx="5173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25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494600" y="2637000"/>
            <a:ext cx="7977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700" spc="-1" strike="noStrike">
                <a:solidFill>
                  <a:srgbClr val="ff3300"/>
                </a:solidFill>
                <a:latin typeface="Times New Roman"/>
              </a:rPr>
              <a:t> 3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037400" y="2152800"/>
            <a:ext cx="3452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2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412520" y="2152800"/>
            <a:ext cx="711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700" spc="-1" strike="noStrike">
                <a:solidFill>
                  <a:srgbClr val="ff3300"/>
                </a:solidFill>
                <a:latin typeface="Times New Roman"/>
              </a:rPr>
              <a:t> 3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220200" y="2332080"/>
            <a:ext cx="36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67080" y="4054320"/>
            <a:ext cx="468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038480" y="4106520"/>
            <a:ext cx="4953240" cy="1074960"/>
            <a:chOff x="4038480" y="4106520"/>
            <a:chExt cx="4953240" cy="1074960"/>
          </a:xfrm>
        </p:grpSpPr>
        <p:sp>
          <p:nvSpPr>
            <p:cNvPr id="1057" name=""/>
            <p:cNvSpPr/>
            <p:nvPr/>
          </p:nvSpPr>
          <p:spPr>
            <a:xfrm>
              <a:off x="4190760" y="4724280"/>
              <a:ext cx="2276640" cy="39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885000" y="4762440"/>
              <a:ext cx="20304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4038480" y="4106520"/>
              <a:ext cx="181080" cy="746640"/>
              <a:chOff x="4038480" y="4106520"/>
              <a:chExt cx="181080" cy="746640"/>
            </a:xfrm>
          </p:grpSpPr>
          <p:sp>
            <p:nvSpPr>
              <p:cNvPr id="1060" name=""/>
              <p:cNvSpPr/>
              <p:nvPr/>
            </p:nvSpPr>
            <p:spPr>
              <a:xfrm flipV="1">
                <a:off x="4038480" y="4573440"/>
                <a:ext cx="39600" cy="2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078080" y="4579920"/>
                <a:ext cx="55800" cy="27324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4140000" y="4106520"/>
                <a:ext cx="79560" cy="746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3" name=""/>
            <p:cNvSpPr/>
            <p:nvPr/>
          </p:nvSpPr>
          <p:spPr>
            <a:xfrm>
              <a:off x="4190760" y="4114800"/>
              <a:ext cx="4800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664760" y="4754520"/>
              <a:ext cx="53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25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872200" y="43308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8155080" y="4330800"/>
              <a:ext cx="713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3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076960" y="433080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695720" y="43308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619760" y="43308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936120" y="4330800"/>
              <a:ext cx="713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3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858000" y="433080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13880" y="4754520"/>
              <a:ext cx="53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33920" y="43070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07440" y="4330800"/>
              <a:ext cx="713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3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628960" y="433080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235120" y="43308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55920" y="43308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342320" y="4330800"/>
              <a:ext cx="80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103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920360" y="429408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80080" y="438300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457960" y="429408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880240" y="3127320"/>
            <a:ext cx="1339200" cy="851040"/>
            <a:chOff x="5880240" y="3127320"/>
            <a:chExt cx="1339200" cy="851040"/>
          </a:xfrm>
        </p:grpSpPr>
        <p:sp>
          <p:nvSpPr>
            <p:cNvPr id="1083" name=""/>
            <p:cNvSpPr/>
            <p:nvPr/>
          </p:nvSpPr>
          <p:spPr>
            <a:xfrm>
              <a:off x="5880240" y="3511440"/>
              <a:ext cx="4888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659640" y="3511440"/>
              <a:ext cx="4982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683760" y="3551400"/>
              <a:ext cx="53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25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760440" y="312732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95000" y="3551400"/>
              <a:ext cx="53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74560" y="312732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71000" y="327996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3836520" y="390204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132440" y="5334120"/>
            <a:ext cx="1183680" cy="5205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35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.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6248520" y="6172200"/>
            <a:ext cx="2438280" cy="457200"/>
            <a:chOff x="6248520" y="6172200"/>
            <a:chExt cx="2438280" cy="457200"/>
          </a:xfrm>
        </p:grpSpPr>
        <p:sp>
          <p:nvSpPr>
            <p:cNvPr id="1093" name=""/>
            <p:cNvSpPr txBox="1"/>
            <p:nvPr/>
          </p:nvSpPr>
          <p:spPr>
            <a:xfrm>
              <a:off x="6248520" y="6172200"/>
              <a:ext cx="184788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merType Md BT"/>
                </a:rPr>
                <a:t>Conclusion: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  <a:ea typeface="AmerType Md BT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324480" y="6629400"/>
              <a:ext cx="23623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2362320" y="1905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.5000 - .364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18148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.14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69920" y="5943600"/>
            <a:ext cx="7007400" cy="609480"/>
          </a:xfrm>
          <a:custGeom>
            <a:avLst/>
            <a:gdLst/>
            <a:ahLst/>
            <a:rect l="l" t="t" r="r" b="b"/>
            <a:pathLst>
              <a:path w="4750" h="855">
                <a:moveTo>
                  <a:pt x="4750" y="411"/>
                </a:moveTo>
                <a:lnTo>
                  <a:pt x="4750" y="411"/>
                </a:lnTo>
                <a:lnTo>
                  <a:pt x="4746" y="411"/>
                </a:lnTo>
                <a:lnTo>
                  <a:pt x="4746" y="406"/>
                </a:lnTo>
                <a:lnTo>
                  <a:pt x="4741" y="406"/>
                </a:lnTo>
                <a:lnTo>
                  <a:pt x="4741" y="406"/>
                </a:lnTo>
                <a:lnTo>
                  <a:pt x="4736" y="402"/>
                </a:lnTo>
                <a:lnTo>
                  <a:pt x="4736" y="402"/>
                </a:lnTo>
                <a:lnTo>
                  <a:pt x="4736" y="397"/>
                </a:lnTo>
                <a:lnTo>
                  <a:pt x="4680" y="364"/>
                </a:lnTo>
                <a:lnTo>
                  <a:pt x="4666" y="346"/>
                </a:lnTo>
                <a:lnTo>
                  <a:pt x="4614" y="332"/>
                </a:lnTo>
                <a:lnTo>
                  <a:pt x="4563" y="322"/>
                </a:lnTo>
                <a:lnTo>
                  <a:pt x="4511" y="308"/>
                </a:lnTo>
                <a:lnTo>
                  <a:pt x="4460" y="299"/>
                </a:lnTo>
                <a:lnTo>
                  <a:pt x="4408" y="289"/>
                </a:lnTo>
                <a:lnTo>
                  <a:pt x="4357" y="280"/>
                </a:lnTo>
                <a:lnTo>
                  <a:pt x="4305" y="271"/>
                </a:lnTo>
                <a:lnTo>
                  <a:pt x="4254" y="261"/>
                </a:lnTo>
                <a:lnTo>
                  <a:pt x="4197" y="257"/>
                </a:lnTo>
                <a:lnTo>
                  <a:pt x="4141" y="247"/>
                </a:lnTo>
                <a:lnTo>
                  <a:pt x="4085" y="243"/>
                </a:lnTo>
                <a:lnTo>
                  <a:pt x="4029" y="238"/>
                </a:lnTo>
                <a:lnTo>
                  <a:pt x="3973" y="233"/>
                </a:lnTo>
                <a:lnTo>
                  <a:pt x="3916" y="229"/>
                </a:lnTo>
                <a:lnTo>
                  <a:pt x="3860" y="224"/>
                </a:lnTo>
                <a:lnTo>
                  <a:pt x="3804" y="219"/>
                </a:lnTo>
                <a:lnTo>
                  <a:pt x="3743" y="219"/>
                </a:lnTo>
                <a:lnTo>
                  <a:pt x="3682" y="219"/>
                </a:lnTo>
                <a:lnTo>
                  <a:pt x="3617" y="219"/>
                </a:lnTo>
                <a:lnTo>
                  <a:pt x="3556" y="219"/>
                </a:lnTo>
                <a:lnTo>
                  <a:pt x="3495" y="219"/>
                </a:lnTo>
                <a:lnTo>
                  <a:pt x="3434" y="219"/>
                </a:lnTo>
                <a:lnTo>
                  <a:pt x="3373" y="224"/>
                </a:lnTo>
                <a:lnTo>
                  <a:pt x="3312" y="224"/>
                </a:lnTo>
                <a:lnTo>
                  <a:pt x="3298" y="229"/>
                </a:lnTo>
                <a:lnTo>
                  <a:pt x="3284" y="229"/>
                </a:lnTo>
                <a:lnTo>
                  <a:pt x="3275" y="229"/>
                </a:lnTo>
                <a:lnTo>
                  <a:pt x="3260" y="229"/>
                </a:lnTo>
                <a:lnTo>
                  <a:pt x="3246" y="229"/>
                </a:lnTo>
                <a:lnTo>
                  <a:pt x="3237" y="229"/>
                </a:lnTo>
                <a:lnTo>
                  <a:pt x="3223" y="229"/>
                </a:lnTo>
                <a:lnTo>
                  <a:pt x="3214" y="229"/>
                </a:lnTo>
                <a:lnTo>
                  <a:pt x="3167" y="238"/>
                </a:lnTo>
                <a:lnTo>
                  <a:pt x="3125" y="243"/>
                </a:lnTo>
                <a:lnTo>
                  <a:pt x="3082" y="252"/>
                </a:lnTo>
                <a:lnTo>
                  <a:pt x="3040" y="257"/>
                </a:lnTo>
                <a:lnTo>
                  <a:pt x="2998" y="266"/>
                </a:lnTo>
                <a:lnTo>
                  <a:pt x="2956" y="271"/>
                </a:lnTo>
                <a:lnTo>
                  <a:pt x="2914" y="275"/>
                </a:lnTo>
                <a:lnTo>
                  <a:pt x="2872" y="285"/>
                </a:lnTo>
                <a:lnTo>
                  <a:pt x="2848" y="285"/>
                </a:lnTo>
                <a:lnTo>
                  <a:pt x="2820" y="289"/>
                </a:lnTo>
                <a:lnTo>
                  <a:pt x="2797" y="294"/>
                </a:lnTo>
                <a:lnTo>
                  <a:pt x="2773" y="294"/>
                </a:lnTo>
                <a:lnTo>
                  <a:pt x="2745" y="299"/>
                </a:lnTo>
                <a:lnTo>
                  <a:pt x="2722" y="303"/>
                </a:lnTo>
                <a:lnTo>
                  <a:pt x="2698" y="303"/>
                </a:lnTo>
                <a:lnTo>
                  <a:pt x="2675" y="303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4"/>
                </a:lnTo>
                <a:lnTo>
                  <a:pt x="2670" y="294"/>
                </a:lnTo>
                <a:lnTo>
                  <a:pt x="2675" y="294"/>
                </a:lnTo>
                <a:lnTo>
                  <a:pt x="2675" y="289"/>
                </a:lnTo>
                <a:lnTo>
                  <a:pt x="2675" y="289"/>
                </a:lnTo>
                <a:lnTo>
                  <a:pt x="2680" y="280"/>
                </a:lnTo>
                <a:lnTo>
                  <a:pt x="2689" y="275"/>
                </a:lnTo>
                <a:lnTo>
                  <a:pt x="2698" y="271"/>
                </a:lnTo>
                <a:lnTo>
                  <a:pt x="2708" y="266"/>
                </a:lnTo>
                <a:lnTo>
                  <a:pt x="2717" y="266"/>
                </a:lnTo>
                <a:lnTo>
                  <a:pt x="2731" y="261"/>
                </a:lnTo>
                <a:lnTo>
                  <a:pt x="2740" y="257"/>
                </a:lnTo>
                <a:lnTo>
                  <a:pt x="2750" y="252"/>
                </a:lnTo>
                <a:lnTo>
                  <a:pt x="2792" y="243"/>
                </a:lnTo>
                <a:lnTo>
                  <a:pt x="2829" y="233"/>
                </a:lnTo>
                <a:lnTo>
                  <a:pt x="2872" y="219"/>
                </a:lnTo>
                <a:lnTo>
                  <a:pt x="2909" y="210"/>
                </a:lnTo>
                <a:lnTo>
                  <a:pt x="2947" y="196"/>
                </a:lnTo>
                <a:lnTo>
                  <a:pt x="2989" y="182"/>
                </a:lnTo>
                <a:lnTo>
                  <a:pt x="3026" y="168"/>
                </a:lnTo>
                <a:lnTo>
                  <a:pt x="3059" y="149"/>
                </a:lnTo>
                <a:lnTo>
                  <a:pt x="3078" y="135"/>
                </a:lnTo>
                <a:lnTo>
                  <a:pt x="3087" y="121"/>
                </a:lnTo>
                <a:lnTo>
                  <a:pt x="3101" y="107"/>
                </a:lnTo>
                <a:lnTo>
                  <a:pt x="3111" y="93"/>
                </a:lnTo>
                <a:lnTo>
                  <a:pt x="3120" y="74"/>
                </a:lnTo>
                <a:lnTo>
                  <a:pt x="3125" y="56"/>
                </a:lnTo>
                <a:lnTo>
                  <a:pt x="3134" y="42"/>
                </a:lnTo>
                <a:lnTo>
                  <a:pt x="3139" y="23"/>
                </a:lnTo>
                <a:lnTo>
                  <a:pt x="3139" y="23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4" y="14"/>
                </a:lnTo>
                <a:lnTo>
                  <a:pt x="3134" y="14"/>
                </a:lnTo>
                <a:lnTo>
                  <a:pt x="3134" y="9"/>
                </a:lnTo>
                <a:lnTo>
                  <a:pt x="3134" y="9"/>
                </a:lnTo>
                <a:lnTo>
                  <a:pt x="3129" y="9"/>
                </a:lnTo>
                <a:lnTo>
                  <a:pt x="3125" y="9"/>
                </a:lnTo>
                <a:lnTo>
                  <a:pt x="3120" y="4"/>
                </a:lnTo>
                <a:lnTo>
                  <a:pt x="3111" y="4"/>
                </a:lnTo>
                <a:lnTo>
                  <a:pt x="3106" y="4"/>
                </a:lnTo>
                <a:lnTo>
                  <a:pt x="3101" y="4"/>
                </a:lnTo>
                <a:lnTo>
                  <a:pt x="3096" y="4"/>
                </a:lnTo>
                <a:lnTo>
                  <a:pt x="3087" y="4"/>
                </a:lnTo>
                <a:lnTo>
                  <a:pt x="3050" y="4"/>
                </a:lnTo>
                <a:lnTo>
                  <a:pt x="3017" y="0"/>
                </a:lnTo>
                <a:lnTo>
                  <a:pt x="2979" y="0"/>
                </a:lnTo>
                <a:lnTo>
                  <a:pt x="2942" y="0"/>
                </a:lnTo>
                <a:lnTo>
                  <a:pt x="2904" y="0"/>
                </a:lnTo>
                <a:lnTo>
                  <a:pt x="2872" y="0"/>
                </a:lnTo>
                <a:lnTo>
                  <a:pt x="2834" y="0"/>
                </a:lnTo>
                <a:lnTo>
                  <a:pt x="2801" y="0"/>
                </a:lnTo>
                <a:lnTo>
                  <a:pt x="2787" y="0"/>
                </a:lnTo>
                <a:lnTo>
                  <a:pt x="2773" y="4"/>
                </a:lnTo>
                <a:lnTo>
                  <a:pt x="2759" y="4"/>
                </a:lnTo>
                <a:lnTo>
                  <a:pt x="2745" y="4"/>
                </a:lnTo>
                <a:lnTo>
                  <a:pt x="2736" y="4"/>
                </a:lnTo>
                <a:lnTo>
                  <a:pt x="2722" y="4"/>
                </a:lnTo>
                <a:lnTo>
                  <a:pt x="2708" y="9"/>
                </a:lnTo>
                <a:lnTo>
                  <a:pt x="2694" y="9"/>
                </a:lnTo>
                <a:lnTo>
                  <a:pt x="2698" y="9"/>
                </a:lnTo>
                <a:lnTo>
                  <a:pt x="2698" y="9"/>
                </a:lnTo>
                <a:lnTo>
                  <a:pt x="2703" y="9"/>
                </a:lnTo>
                <a:lnTo>
                  <a:pt x="2703" y="9"/>
                </a:lnTo>
                <a:lnTo>
                  <a:pt x="2708" y="9"/>
                </a:lnTo>
                <a:lnTo>
                  <a:pt x="2708" y="9"/>
                </a:lnTo>
                <a:lnTo>
                  <a:pt x="2712" y="14"/>
                </a:lnTo>
                <a:lnTo>
                  <a:pt x="2712" y="14"/>
                </a:lnTo>
                <a:lnTo>
                  <a:pt x="2131" y="70"/>
                </a:lnTo>
                <a:lnTo>
                  <a:pt x="2089" y="79"/>
                </a:lnTo>
                <a:lnTo>
                  <a:pt x="2047" y="88"/>
                </a:lnTo>
                <a:lnTo>
                  <a:pt x="2010" y="98"/>
                </a:lnTo>
                <a:lnTo>
                  <a:pt x="1967" y="102"/>
                </a:lnTo>
                <a:lnTo>
                  <a:pt x="1930" y="112"/>
                </a:lnTo>
                <a:lnTo>
                  <a:pt x="1888" y="121"/>
                </a:lnTo>
                <a:lnTo>
                  <a:pt x="1850" y="131"/>
                </a:lnTo>
                <a:lnTo>
                  <a:pt x="1808" y="140"/>
                </a:lnTo>
                <a:lnTo>
                  <a:pt x="1752" y="154"/>
                </a:lnTo>
                <a:lnTo>
                  <a:pt x="1691" y="168"/>
                </a:lnTo>
                <a:lnTo>
                  <a:pt x="1635" y="182"/>
                </a:lnTo>
                <a:lnTo>
                  <a:pt x="1579" y="191"/>
                </a:lnTo>
                <a:lnTo>
                  <a:pt x="1522" y="205"/>
                </a:lnTo>
                <a:lnTo>
                  <a:pt x="1466" y="215"/>
                </a:lnTo>
                <a:lnTo>
                  <a:pt x="1410" y="229"/>
                </a:lnTo>
                <a:lnTo>
                  <a:pt x="1354" y="238"/>
                </a:lnTo>
                <a:lnTo>
                  <a:pt x="1335" y="243"/>
                </a:lnTo>
                <a:lnTo>
                  <a:pt x="1321" y="247"/>
                </a:lnTo>
                <a:lnTo>
                  <a:pt x="1302" y="252"/>
                </a:lnTo>
                <a:lnTo>
                  <a:pt x="1288" y="252"/>
                </a:lnTo>
                <a:lnTo>
                  <a:pt x="1274" y="257"/>
                </a:lnTo>
                <a:lnTo>
                  <a:pt x="1255" y="261"/>
                </a:lnTo>
                <a:lnTo>
                  <a:pt x="1241" y="266"/>
                </a:lnTo>
                <a:lnTo>
                  <a:pt x="1227" y="271"/>
                </a:lnTo>
                <a:lnTo>
                  <a:pt x="1208" y="275"/>
                </a:lnTo>
                <a:lnTo>
                  <a:pt x="1190" y="280"/>
                </a:lnTo>
                <a:lnTo>
                  <a:pt x="1171" y="285"/>
                </a:lnTo>
                <a:lnTo>
                  <a:pt x="1157" y="294"/>
                </a:lnTo>
                <a:lnTo>
                  <a:pt x="1138" y="299"/>
                </a:lnTo>
                <a:lnTo>
                  <a:pt x="1124" y="303"/>
                </a:lnTo>
                <a:lnTo>
                  <a:pt x="1105" y="308"/>
                </a:lnTo>
                <a:lnTo>
                  <a:pt x="1091" y="313"/>
                </a:lnTo>
                <a:lnTo>
                  <a:pt x="1082" y="313"/>
                </a:lnTo>
                <a:lnTo>
                  <a:pt x="1073" y="317"/>
                </a:lnTo>
                <a:lnTo>
                  <a:pt x="1063" y="317"/>
                </a:lnTo>
                <a:lnTo>
                  <a:pt x="1054" y="322"/>
                </a:lnTo>
                <a:lnTo>
                  <a:pt x="1044" y="327"/>
                </a:lnTo>
                <a:lnTo>
                  <a:pt x="1035" y="327"/>
                </a:lnTo>
                <a:lnTo>
                  <a:pt x="1026" y="332"/>
                </a:lnTo>
                <a:lnTo>
                  <a:pt x="1016" y="332"/>
                </a:lnTo>
                <a:lnTo>
                  <a:pt x="1002" y="336"/>
                </a:lnTo>
                <a:lnTo>
                  <a:pt x="988" y="341"/>
                </a:lnTo>
                <a:lnTo>
                  <a:pt x="974" y="346"/>
                </a:lnTo>
                <a:lnTo>
                  <a:pt x="955" y="350"/>
                </a:lnTo>
                <a:lnTo>
                  <a:pt x="941" y="350"/>
                </a:lnTo>
                <a:lnTo>
                  <a:pt x="927" y="355"/>
                </a:lnTo>
                <a:lnTo>
                  <a:pt x="913" y="360"/>
                </a:lnTo>
                <a:lnTo>
                  <a:pt x="899" y="369"/>
                </a:lnTo>
                <a:lnTo>
                  <a:pt x="871" y="374"/>
                </a:lnTo>
                <a:lnTo>
                  <a:pt x="843" y="383"/>
                </a:lnTo>
                <a:lnTo>
                  <a:pt x="810" y="392"/>
                </a:lnTo>
                <a:lnTo>
                  <a:pt x="782" y="397"/>
                </a:lnTo>
                <a:lnTo>
                  <a:pt x="754" y="406"/>
                </a:lnTo>
                <a:lnTo>
                  <a:pt x="726" y="416"/>
                </a:lnTo>
                <a:lnTo>
                  <a:pt x="698" y="430"/>
                </a:lnTo>
                <a:lnTo>
                  <a:pt x="670" y="439"/>
                </a:lnTo>
                <a:lnTo>
                  <a:pt x="660" y="444"/>
                </a:lnTo>
                <a:lnTo>
                  <a:pt x="646" y="444"/>
                </a:lnTo>
                <a:lnTo>
                  <a:pt x="632" y="448"/>
                </a:lnTo>
                <a:lnTo>
                  <a:pt x="623" y="453"/>
                </a:lnTo>
                <a:lnTo>
                  <a:pt x="609" y="458"/>
                </a:lnTo>
                <a:lnTo>
                  <a:pt x="599" y="462"/>
                </a:lnTo>
                <a:lnTo>
                  <a:pt x="585" y="467"/>
                </a:lnTo>
                <a:lnTo>
                  <a:pt x="576" y="476"/>
                </a:lnTo>
                <a:lnTo>
                  <a:pt x="567" y="472"/>
                </a:lnTo>
                <a:lnTo>
                  <a:pt x="562" y="472"/>
                </a:lnTo>
                <a:lnTo>
                  <a:pt x="557" y="476"/>
                </a:lnTo>
                <a:lnTo>
                  <a:pt x="548" y="476"/>
                </a:lnTo>
                <a:lnTo>
                  <a:pt x="543" y="481"/>
                </a:lnTo>
                <a:lnTo>
                  <a:pt x="539" y="481"/>
                </a:lnTo>
                <a:lnTo>
                  <a:pt x="534" y="486"/>
                </a:lnTo>
                <a:lnTo>
                  <a:pt x="529" y="486"/>
                </a:lnTo>
                <a:lnTo>
                  <a:pt x="510" y="490"/>
                </a:lnTo>
                <a:lnTo>
                  <a:pt x="510" y="490"/>
                </a:lnTo>
                <a:lnTo>
                  <a:pt x="510" y="490"/>
                </a:lnTo>
                <a:lnTo>
                  <a:pt x="506" y="490"/>
                </a:lnTo>
                <a:lnTo>
                  <a:pt x="506" y="490"/>
                </a:lnTo>
                <a:lnTo>
                  <a:pt x="506" y="495"/>
                </a:lnTo>
                <a:lnTo>
                  <a:pt x="506" y="495"/>
                </a:lnTo>
                <a:lnTo>
                  <a:pt x="506" y="495"/>
                </a:lnTo>
                <a:lnTo>
                  <a:pt x="501" y="495"/>
                </a:lnTo>
                <a:lnTo>
                  <a:pt x="440" y="514"/>
                </a:lnTo>
                <a:lnTo>
                  <a:pt x="421" y="514"/>
                </a:lnTo>
                <a:lnTo>
                  <a:pt x="412" y="518"/>
                </a:lnTo>
                <a:lnTo>
                  <a:pt x="407" y="523"/>
                </a:lnTo>
                <a:lnTo>
                  <a:pt x="398" y="523"/>
                </a:lnTo>
                <a:lnTo>
                  <a:pt x="389" y="528"/>
                </a:lnTo>
                <a:lnTo>
                  <a:pt x="379" y="528"/>
                </a:lnTo>
                <a:lnTo>
                  <a:pt x="375" y="528"/>
                </a:lnTo>
                <a:lnTo>
                  <a:pt x="365" y="532"/>
                </a:lnTo>
                <a:lnTo>
                  <a:pt x="356" y="532"/>
                </a:lnTo>
                <a:lnTo>
                  <a:pt x="351" y="532"/>
                </a:lnTo>
                <a:lnTo>
                  <a:pt x="351" y="532"/>
                </a:lnTo>
                <a:lnTo>
                  <a:pt x="351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28" y="537"/>
                </a:lnTo>
                <a:lnTo>
                  <a:pt x="314" y="537"/>
                </a:lnTo>
                <a:lnTo>
                  <a:pt x="295" y="542"/>
                </a:lnTo>
                <a:lnTo>
                  <a:pt x="276" y="542"/>
                </a:lnTo>
                <a:lnTo>
                  <a:pt x="262" y="546"/>
                </a:lnTo>
                <a:lnTo>
                  <a:pt x="243" y="546"/>
                </a:lnTo>
                <a:lnTo>
                  <a:pt x="225" y="551"/>
                </a:lnTo>
                <a:lnTo>
                  <a:pt x="211" y="556"/>
                </a:lnTo>
                <a:lnTo>
                  <a:pt x="206" y="551"/>
                </a:lnTo>
                <a:lnTo>
                  <a:pt x="201" y="551"/>
                </a:lnTo>
                <a:lnTo>
                  <a:pt x="197" y="551"/>
                </a:lnTo>
                <a:lnTo>
                  <a:pt x="192" y="546"/>
                </a:lnTo>
                <a:lnTo>
                  <a:pt x="192" y="546"/>
                </a:lnTo>
                <a:lnTo>
                  <a:pt x="187" y="542"/>
                </a:lnTo>
                <a:lnTo>
                  <a:pt x="187" y="537"/>
                </a:lnTo>
                <a:lnTo>
                  <a:pt x="182" y="537"/>
                </a:lnTo>
                <a:lnTo>
                  <a:pt x="159" y="528"/>
                </a:lnTo>
                <a:lnTo>
                  <a:pt x="145" y="514"/>
                </a:lnTo>
                <a:lnTo>
                  <a:pt x="145" y="514"/>
                </a:lnTo>
                <a:lnTo>
                  <a:pt x="145" y="509"/>
                </a:lnTo>
                <a:lnTo>
                  <a:pt x="140" y="509"/>
                </a:lnTo>
                <a:lnTo>
                  <a:pt x="140" y="509"/>
                </a:lnTo>
                <a:lnTo>
                  <a:pt x="136" y="509"/>
                </a:lnTo>
                <a:lnTo>
                  <a:pt x="136" y="509"/>
                </a:lnTo>
                <a:lnTo>
                  <a:pt x="131" y="509"/>
                </a:lnTo>
                <a:lnTo>
                  <a:pt x="126" y="509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2" y="504"/>
                </a:lnTo>
                <a:lnTo>
                  <a:pt x="122" y="500"/>
                </a:lnTo>
                <a:lnTo>
                  <a:pt x="122" y="500"/>
                </a:lnTo>
                <a:lnTo>
                  <a:pt x="122" y="500"/>
                </a:lnTo>
                <a:lnTo>
                  <a:pt x="117" y="495"/>
                </a:lnTo>
                <a:lnTo>
                  <a:pt x="117" y="495"/>
                </a:lnTo>
                <a:lnTo>
                  <a:pt x="112" y="490"/>
                </a:lnTo>
                <a:lnTo>
                  <a:pt x="112" y="490"/>
                </a:lnTo>
                <a:lnTo>
                  <a:pt x="107" y="490"/>
                </a:lnTo>
                <a:lnTo>
                  <a:pt x="103" y="490"/>
                </a:lnTo>
                <a:lnTo>
                  <a:pt x="98" y="490"/>
                </a:lnTo>
                <a:lnTo>
                  <a:pt x="93" y="490"/>
                </a:lnTo>
                <a:lnTo>
                  <a:pt x="56" y="532"/>
                </a:lnTo>
                <a:lnTo>
                  <a:pt x="56" y="532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1" y="546"/>
                </a:lnTo>
                <a:lnTo>
                  <a:pt x="47" y="551"/>
                </a:lnTo>
                <a:lnTo>
                  <a:pt x="42" y="556"/>
                </a:lnTo>
                <a:lnTo>
                  <a:pt x="37" y="561"/>
                </a:lnTo>
                <a:lnTo>
                  <a:pt x="28" y="565"/>
                </a:lnTo>
                <a:lnTo>
                  <a:pt x="23" y="570"/>
                </a:lnTo>
                <a:lnTo>
                  <a:pt x="14" y="575"/>
                </a:lnTo>
                <a:lnTo>
                  <a:pt x="9" y="579"/>
                </a:lnTo>
                <a:lnTo>
                  <a:pt x="0" y="617"/>
                </a:lnTo>
                <a:lnTo>
                  <a:pt x="9" y="626"/>
                </a:lnTo>
                <a:lnTo>
                  <a:pt x="0" y="640"/>
                </a:lnTo>
                <a:lnTo>
                  <a:pt x="0" y="640"/>
                </a:lnTo>
                <a:lnTo>
                  <a:pt x="0" y="645"/>
                </a:lnTo>
                <a:lnTo>
                  <a:pt x="0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14" y="673"/>
                </a:lnTo>
                <a:lnTo>
                  <a:pt x="4" y="687"/>
                </a:lnTo>
                <a:lnTo>
                  <a:pt x="9" y="691"/>
                </a:lnTo>
                <a:lnTo>
                  <a:pt x="9" y="691"/>
                </a:lnTo>
                <a:lnTo>
                  <a:pt x="14" y="691"/>
                </a:lnTo>
                <a:lnTo>
                  <a:pt x="14" y="691"/>
                </a:lnTo>
                <a:lnTo>
                  <a:pt x="18" y="696"/>
                </a:lnTo>
                <a:lnTo>
                  <a:pt x="18" y="696"/>
                </a:lnTo>
                <a:lnTo>
                  <a:pt x="23" y="701"/>
                </a:lnTo>
                <a:lnTo>
                  <a:pt x="23" y="701"/>
                </a:lnTo>
                <a:lnTo>
                  <a:pt x="23" y="747"/>
                </a:lnTo>
                <a:lnTo>
                  <a:pt x="33" y="752"/>
                </a:lnTo>
                <a:lnTo>
                  <a:pt x="42" y="757"/>
                </a:lnTo>
                <a:lnTo>
                  <a:pt x="51" y="761"/>
                </a:lnTo>
                <a:lnTo>
                  <a:pt x="65" y="766"/>
                </a:lnTo>
                <a:lnTo>
                  <a:pt x="75" y="771"/>
                </a:lnTo>
                <a:lnTo>
                  <a:pt x="84" y="776"/>
                </a:lnTo>
                <a:lnTo>
                  <a:pt x="89" y="785"/>
                </a:lnTo>
                <a:lnTo>
                  <a:pt x="98" y="794"/>
                </a:lnTo>
                <a:lnTo>
                  <a:pt x="98" y="794"/>
                </a:lnTo>
                <a:lnTo>
                  <a:pt x="98" y="794"/>
                </a:lnTo>
                <a:lnTo>
                  <a:pt x="98" y="799"/>
                </a:lnTo>
                <a:lnTo>
                  <a:pt x="98" y="799"/>
                </a:lnTo>
                <a:lnTo>
                  <a:pt x="98" y="804"/>
                </a:lnTo>
                <a:lnTo>
                  <a:pt x="98" y="804"/>
                </a:lnTo>
                <a:lnTo>
                  <a:pt x="98" y="804"/>
                </a:lnTo>
                <a:lnTo>
                  <a:pt x="103" y="808"/>
                </a:lnTo>
                <a:lnTo>
                  <a:pt x="178" y="836"/>
                </a:lnTo>
                <a:lnTo>
                  <a:pt x="178" y="836"/>
                </a:lnTo>
                <a:lnTo>
                  <a:pt x="178" y="836"/>
                </a:lnTo>
                <a:lnTo>
                  <a:pt x="178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7" y="832"/>
                </a:lnTo>
                <a:lnTo>
                  <a:pt x="197" y="836"/>
                </a:lnTo>
                <a:lnTo>
                  <a:pt x="206" y="841"/>
                </a:lnTo>
                <a:lnTo>
                  <a:pt x="215" y="841"/>
                </a:lnTo>
                <a:lnTo>
                  <a:pt x="229" y="841"/>
                </a:lnTo>
                <a:lnTo>
                  <a:pt x="239" y="836"/>
                </a:lnTo>
                <a:lnTo>
                  <a:pt x="253" y="841"/>
                </a:lnTo>
                <a:lnTo>
                  <a:pt x="262" y="841"/>
                </a:lnTo>
                <a:lnTo>
                  <a:pt x="271" y="846"/>
                </a:lnTo>
                <a:lnTo>
                  <a:pt x="295" y="846"/>
                </a:lnTo>
                <a:lnTo>
                  <a:pt x="295" y="846"/>
                </a:lnTo>
                <a:lnTo>
                  <a:pt x="300" y="846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4" y="850"/>
                </a:lnTo>
                <a:lnTo>
                  <a:pt x="304" y="850"/>
                </a:lnTo>
                <a:lnTo>
                  <a:pt x="309" y="850"/>
                </a:lnTo>
                <a:lnTo>
                  <a:pt x="309" y="850"/>
                </a:lnTo>
                <a:lnTo>
                  <a:pt x="314" y="850"/>
                </a:lnTo>
                <a:lnTo>
                  <a:pt x="314" y="850"/>
                </a:lnTo>
                <a:lnTo>
                  <a:pt x="318" y="850"/>
                </a:lnTo>
                <a:lnTo>
                  <a:pt x="318" y="855"/>
                </a:lnTo>
                <a:lnTo>
                  <a:pt x="323" y="855"/>
                </a:lnTo>
                <a:lnTo>
                  <a:pt x="323" y="855"/>
                </a:lnTo>
                <a:lnTo>
                  <a:pt x="398" y="832"/>
                </a:lnTo>
                <a:lnTo>
                  <a:pt x="398" y="832"/>
                </a:lnTo>
                <a:lnTo>
                  <a:pt x="398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7" y="832"/>
                </a:lnTo>
                <a:lnTo>
                  <a:pt x="407" y="832"/>
                </a:lnTo>
                <a:lnTo>
                  <a:pt x="412" y="832"/>
                </a:lnTo>
                <a:lnTo>
                  <a:pt x="417" y="827"/>
                </a:lnTo>
                <a:lnTo>
                  <a:pt x="421" y="827"/>
                </a:lnTo>
                <a:lnTo>
                  <a:pt x="426" y="827"/>
                </a:lnTo>
                <a:lnTo>
                  <a:pt x="431" y="822"/>
                </a:lnTo>
                <a:lnTo>
                  <a:pt x="435" y="822"/>
                </a:lnTo>
                <a:lnTo>
                  <a:pt x="440" y="822"/>
                </a:lnTo>
                <a:lnTo>
                  <a:pt x="445" y="818"/>
                </a:lnTo>
                <a:lnTo>
                  <a:pt x="454" y="813"/>
                </a:lnTo>
                <a:lnTo>
                  <a:pt x="459" y="813"/>
                </a:lnTo>
                <a:lnTo>
                  <a:pt x="468" y="808"/>
                </a:lnTo>
                <a:lnTo>
                  <a:pt x="473" y="804"/>
                </a:lnTo>
                <a:lnTo>
                  <a:pt x="478" y="799"/>
                </a:lnTo>
                <a:lnTo>
                  <a:pt x="487" y="799"/>
                </a:lnTo>
                <a:lnTo>
                  <a:pt x="492" y="799"/>
                </a:lnTo>
                <a:lnTo>
                  <a:pt x="501" y="794"/>
                </a:lnTo>
                <a:lnTo>
                  <a:pt x="506" y="794"/>
                </a:lnTo>
                <a:lnTo>
                  <a:pt x="515" y="790"/>
                </a:lnTo>
                <a:lnTo>
                  <a:pt x="520" y="790"/>
                </a:lnTo>
                <a:lnTo>
                  <a:pt x="529" y="785"/>
                </a:lnTo>
                <a:lnTo>
                  <a:pt x="534" y="785"/>
                </a:lnTo>
                <a:lnTo>
                  <a:pt x="543" y="785"/>
                </a:lnTo>
                <a:lnTo>
                  <a:pt x="548" y="785"/>
                </a:lnTo>
                <a:lnTo>
                  <a:pt x="557" y="785"/>
                </a:lnTo>
                <a:lnTo>
                  <a:pt x="553" y="785"/>
                </a:lnTo>
                <a:lnTo>
                  <a:pt x="553" y="785"/>
                </a:lnTo>
                <a:lnTo>
                  <a:pt x="553" y="780"/>
                </a:lnTo>
                <a:lnTo>
                  <a:pt x="553" y="780"/>
                </a:lnTo>
                <a:lnTo>
                  <a:pt x="553" y="780"/>
                </a:lnTo>
                <a:lnTo>
                  <a:pt x="553" y="776"/>
                </a:lnTo>
                <a:lnTo>
                  <a:pt x="553" y="776"/>
                </a:lnTo>
                <a:lnTo>
                  <a:pt x="553" y="776"/>
                </a:lnTo>
                <a:lnTo>
                  <a:pt x="590" y="757"/>
                </a:lnTo>
                <a:lnTo>
                  <a:pt x="721" y="701"/>
                </a:lnTo>
                <a:lnTo>
                  <a:pt x="735" y="691"/>
                </a:lnTo>
                <a:lnTo>
                  <a:pt x="754" y="691"/>
                </a:lnTo>
                <a:lnTo>
                  <a:pt x="759" y="687"/>
                </a:lnTo>
                <a:lnTo>
                  <a:pt x="759" y="687"/>
                </a:lnTo>
                <a:lnTo>
                  <a:pt x="759" y="687"/>
                </a:lnTo>
                <a:lnTo>
                  <a:pt x="763" y="682"/>
                </a:lnTo>
                <a:lnTo>
                  <a:pt x="763" y="682"/>
                </a:lnTo>
                <a:lnTo>
                  <a:pt x="763" y="682"/>
                </a:lnTo>
                <a:lnTo>
                  <a:pt x="768" y="677"/>
                </a:lnTo>
                <a:lnTo>
                  <a:pt x="768" y="677"/>
                </a:lnTo>
                <a:lnTo>
                  <a:pt x="787" y="668"/>
                </a:lnTo>
                <a:lnTo>
                  <a:pt x="801" y="659"/>
                </a:lnTo>
                <a:lnTo>
                  <a:pt x="834" y="645"/>
                </a:lnTo>
                <a:lnTo>
                  <a:pt x="899" y="603"/>
                </a:lnTo>
                <a:lnTo>
                  <a:pt x="927" y="589"/>
                </a:lnTo>
                <a:lnTo>
                  <a:pt x="941" y="575"/>
                </a:lnTo>
                <a:lnTo>
                  <a:pt x="955" y="565"/>
                </a:lnTo>
                <a:lnTo>
                  <a:pt x="974" y="551"/>
                </a:lnTo>
                <a:lnTo>
                  <a:pt x="993" y="542"/>
                </a:lnTo>
                <a:lnTo>
                  <a:pt x="1012" y="532"/>
                </a:lnTo>
                <a:lnTo>
                  <a:pt x="1030" y="523"/>
                </a:lnTo>
                <a:lnTo>
                  <a:pt x="1049" y="514"/>
                </a:lnTo>
                <a:lnTo>
                  <a:pt x="1073" y="504"/>
                </a:lnTo>
                <a:lnTo>
                  <a:pt x="1096" y="495"/>
                </a:lnTo>
                <a:lnTo>
                  <a:pt x="1115" y="486"/>
                </a:lnTo>
                <a:lnTo>
                  <a:pt x="1138" y="476"/>
                </a:lnTo>
                <a:lnTo>
                  <a:pt x="1162" y="462"/>
                </a:lnTo>
                <a:lnTo>
                  <a:pt x="1185" y="453"/>
                </a:lnTo>
                <a:lnTo>
                  <a:pt x="1208" y="444"/>
                </a:lnTo>
                <a:lnTo>
                  <a:pt x="1232" y="434"/>
                </a:lnTo>
                <a:lnTo>
                  <a:pt x="1255" y="425"/>
                </a:lnTo>
                <a:lnTo>
                  <a:pt x="1255" y="425"/>
                </a:lnTo>
                <a:lnTo>
                  <a:pt x="1255" y="425"/>
                </a:lnTo>
                <a:lnTo>
                  <a:pt x="1260" y="425"/>
                </a:lnTo>
                <a:lnTo>
                  <a:pt x="1260" y="420"/>
                </a:lnTo>
                <a:lnTo>
                  <a:pt x="1260" y="420"/>
                </a:lnTo>
                <a:lnTo>
                  <a:pt x="1260" y="420"/>
                </a:lnTo>
                <a:lnTo>
                  <a:pt x="1279" y="416"/>
                </a:lnTo>
                <a:lnTo>
                  <a:pt x="1293" y="411"/>
                </a:lnTo>
                <a:lnTo>
                  <a:pt x="1307" y="402"/>
                </a:lnTo>
                <a:lnTo>
                  <a:pt x="1321" y="397"/>
                </a:lnTo>
                <a:lnTo>
                  <a:pt x="1340" y="392"/>
                </a:lnTo>
                <a:lnTo>
                  <a:pt x="1354" y="388"/>
                </a:lnTo>
                <a:lnTo>
                  <a:pt x="1368" y="383"/>
                </a:lnTo>
                <a:lnTo>
                  <a:pt x="1382" y="378"/>
                </a:lnTo>
                <a:lnTo>
                  <a:pt x="1415" y="360"/>
                </a:lnTo>
                <a:lnTo>
                  <a:pt x="1452" y="346"/>
                </a:lnTo>
                <a:lnTo>
                  <a:pt x="1485" y="332"/>
                </a:lnTo>
                <a:lnTo>
                  <a:pt x="1522" y="317"/>
                </a:lnTo>
                <a:lnTo>
                  <a:pt x="1555" y="308"/>
                </a:lnTo>
                <a:lnTo>
                  <a:pt x="1593" y="294"/>
                </a:lnTo>
                <a:lnTo>
                  <a:pt x="1625" y="285"/>
                </a:lnTo>
                <a:lnTo>
                  <a:pt x="1663" y="271"/>
                </a:lnTo>
                <a:lnTo>
                  <a:pt x="1677" y="266"/>
                </a:lnTo>
                <a:lnTo>
                  <a:pt x="1691" y="261"/>
                </a:lnTo>
                <a:lnTo>
                  <a:pt x="1710" y="257"/>
                </a:lnTo>
                <a:lnTo>
                  <a:pt x="1724" y="252"/>
                </a:lnTo>
                <a:lnTo>
                  <a:pt x="1743" y="247"/>
                </a:lnTo>
                <a:lnTo>
                  <a:pt x="1757" y="243"/>
                </a:lnTo>
                <a:lnTo>
                  <a:pt x="1775" y="238"/>
                </a:lnTo>
                <a:lnTo>
                  <a:pt x="1794" y="233"/>
                </a:lnTo>
                <a:lnTo>
                  <a:pt x="1832" y="219"/>
                </a:lnTo>
                <a:lnTo>
                  <a:pt x="1869" y="210"/>
                </a:lnTo>
                <a:lnTo>
                  <a:pt x="1907" y="201"/>
                </a:lnTo>
                <a:lnTo>
                  <a:pt x="1944" y="191"/>
                </a:lnTo>
                <a:lnTo>
                  <a:pt x="1981" y="177"/>
                </a:lnTo>
                <a:lnTo>
                  <a:pt x="2019" y="168"/>
                </a:lnTo>
                <a:lnTo>
                  <a:pt x="2056" y="159"/>
                </a:lnTo>
                <a:lnTo>
                  <a:pt x="2089" y="149"/>
                </a:lnTo>
                <a:lnTo>
                  <a:pt x="2103" y="149"/>
                </a:lnTo>
                <a:lnTo>
                  <a:pt x="2113" y="145"/>
                </a:lnTo>
                <a:lnTo>
                  <a:pt x="2122" y="145"/>
                </a:lnTo>
                <a:lnTo>
                  <a:pt x="2136" y="140"/>
                </a:lnTo>
                <a:lnTo>
                  <a:pt x="2145" y="135"/>
                </a:lnTo>
                <a:lnTo>
                  <a:pt x="2159" y="135"/>
                </a:lnTo>
                <a:lnTo>
                  <a:pt x="2169" y="131"/>
                </a:lnTo>
                <a:lnTo>
                  <a:pt x="2178" y="131"/>
                </a:lnTo>
                <a:lnTo>
                  <a:pt x="2234" y="121"/>
                </a:lnTo>
                <a:lnTo>
                  <a:pt x="2291" y="112"/>
                </a:lnTo>
                <a:lnTo>
                  <a:pt x="2347" y="102"/>
                </a:lnTo>
                <a:lnTo>
                  <a:pt x="2403" y="93"/>
                </a:lnTo>
                <a:lnTo>
                  <a:pt x="2459" y="88"/>
                </a:lnTo>
                <a:lnTo>
                  <a:pt x="2516" y="84"/>
                </a:lnTo>
                <a:lnTo>
                  <a:pt x="2572" y="79"/>
                </a:lnTo>
                <a:lnTo>
                  <a:pt x="2633" y="74"/>
                </a:lnTo>
                <a:lnTo>
                  <a:pt x="2656" y="74"/>
                </a:lnTo>
                <a:lnTo>
                  <a:pt x="2684" y="74"/>
                </a:lnTo>
                <a:lnTo>
                  <a:pt x="2712" y="74"/>
                </a:lnTo>
                <a:lnTo>
                  <a:pt x="2736" y="79"/>
                </a:lnTo>
                <a:lnTo>
                  <a:pt x="2764" y="79"/>
                </a:lnTo>
                <a:lnTo>
                  <a:pt x="2787" y="79"/>
                </a:lnTo>
                <a:lnTo>
                  <a:pt x="2815" y="84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93"/>
                </a:lnTo>
                <a:lnTo>
                  <a:pt x="2834" y="98"/>
                </a:lnTo>
                <a:lnTo>
                  <a:pt x="2820" y="102"/>
                </a:lnTo>
                <a:lnTo>
                  <a:pt x="2806" y="107"/>
                </a:lnTo>
                <a:lnTo>
                  <a:pt x="2792" y="112"/>
                </a:lnTo>
                <a:lnTo>
                  <a:pt x="2778" y="112"/>
                </a:lnTo>
                <a:lnTo>
                  <a:pt x="2764" y="117"/>
                </a:lnTo>
                <a:lnTo>
                  <a:pt x="2750" y="121"/>
                </a:lnTo>
                <a:lnTo>
                  <a:pt x="2736" y="126"/>
                </a:lnTo>
                <a:lnTo>
                  <a:pt x="2680" y="140"/>
                </a:lnTo>
                <a:lnTo>
                  <a:pt x="2623" y="154"/>
                </a:lnTo>
                <a:lnTo>
                  <a:pt x="2567" y="168"/>
                </a:lnTo>
                <a:lnTo>
                  <a:pt x="2516" y="182"/>
                </a:lnTo>
                <a:lnTo>
                  <a:pt x="2459" y="196"/>
                </a:lnTo>
                <a:lnTo>
                  <a:pt x="2403" y="210"/>
                </a:lnTo>
                <a:lnTo>
                  <a:pt x="2352" y="224"/>
                </a:lnTo>
                <a:lnTo>
                  <a:pt x="2295" y="243"/>
                </a:lnTo>
                <a:lnTo>
                  <a:pt x="2244" y="257"/>
                </a:lnTo>
                <a:lnTo>
                  <a:pt x="2192" y="271"/>
                </a:lnTo>
                <a:lnTo>
                  <a:pt x="2141" y="289"/>
                </a:lnTo>
                <a:lnTo>
                  <a:pt x="2094" y="308"/>
                </a:lnTo>
                <a:lnTo>
                  <a:pt x="2042" y="327"/>
                </a:lnTo>
                <a:lnTo>
                  <a:pt x="1996" y="346"/>
                </a:lnTo>
                <a:lnTo>
                  <a:pt x="1944" y="369"/>
                </a:lnTo>
                <a:lnTo>
                  <a:pt x="1897" y="388"/>
                </a:lnTo>
                <a:lnTo>
                  <a:pt x="1869" y="397"/>
                </a:lnTo>
                <a:lnTo>
                  <a:pt x="1846" y="411"/>
                </a:lnTo>
                <a:lnTo>
                  <a:pt x="1822" y="425"/>
                </a:lnTo>
                <a:lnTo>
                  <a:pt x="1799" y="444"/>
                </a:lnTo>
                <a:lnTo>
                  <a:pt x="1780" y="462"/>
                </a:lnTo>
                <a:lnTo>
                  <a:pt x="1761" y="476"/>
                </a:lnTo>
                <a:lnTo>
                  <a:pt x="1743" y="495"/>
                </a:lnTo>
                <a:lnTo>
                  <a:pt x="1724" y="509"/>
                </a:lnTo>
                <a:lnTo>
                  <a:pt x="1710" y="532"/>
                </a:lnTo>
                <a:lnTo>
                  <a:pt x="1710" y="542"/>
                </a:lnTo>
                <a:lnTo>
                  <a:pt x="1714" y="546"/>
                </a:lnTo>
                <a:lnTo>
                  <a:pt x="1714" y="556"/>
                </a:lnTo>
                <a:lnTo>
                  <a:pt x="1719" y="561"/>
                </a:lnTo>
                <a:lnTo>
                  <a:pt x="1724" y="570"/>
                </a:lnTo>
                <a:lnTo>
                  <a:pt x="1728" y="575"/>
                </a:lnTo>
                <a:lnTo>
                  <a:pt x="1738" y="579"/>
                </a:lnTo>
                <a:lnTo>
                  <a:pt x="1743" y="584"/>
                </a:lnTo>
                <a:lnTo>
                  <a:pt x="1771" y="593"/>
                </a:lnTo>
                <a:lnTo>
                  <a:pt x="1803" y="593"/>
                </a:lnTo>
                <a:lnTo>
                  <a:pt x="1836" y="593"/>
                </a:lnTo>
                <a:lnTo>
                  <a:pt x="1864" y="584"/>
                </a:lnTo>
                <a:lnTo>
                  <a:pt x="1897" y="575"/>
                </a:lnTo>
                <a:lnTo>
                  <a:pt x="1930" y="561"/>
                </a:lnTo>
                <a:lnTo>
                  <a:pt x="1958" y="551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6" y="537"/>
                </a:lnTo>
                <a:lnTo>
                  <a:pt x="1996" y="537"/>
                </a:lnTo>
                <a:lnTo>
                  <a:pt x="1996" y="542"/>
                </a:lnTo>
                <a:lnTo>
                  <a:pt x="2000" y="542"/>
                </a:lnTo>
                <a:lnTo>
                  <a:pt x="2000" y="537"/>
                </a:lnTo>
                <a:lnTo>
                  <a:pt x="2005" y="537"/>
                </a:lnTo>
                <a:lnTo>
                  <a:pt x="2014" y="532"/>
                </a:lnTo>
                <a:lnTo>
                  <a:pt x="2019" y="532"/>
                </a:lnTo>
                <a:lnTo>
                  <a:pt x="2028" y="528"/>
                </a:lnTo>
                <a:lnTo>
                  <a:pt x="2033" y="523"/>
                </a:lnTo>
                <a:lnTo>
                  <a:pt x="2042" y="523"/>
                </a:lnTo>
                <a:lnTo>
                  <a:pt x="2052" y="518"/>
                </a:lnTo>
                <a:lnTo>
                  <a:pt x="2056" y="518"/>
                </a:lnTo>
                <a:lnTo>
                  <a:pt x="2080" y="509"/>
                </a:lnTo>
                <a:lnTo>
                  <a:pt x="2099" y="504"/>
                </a:lnTo>
                <a:lnTo>
                  <a:pt x="2122" y="495"/>
                </a:lnTo>
                <a:lnTo>
                  <a:pt x="2141" y="490"/>
                </a:lnTo>
                <a:lnTo>
                  <a:pt x="2159" y="481"/>
                </a:lnTo>
                <a:lnTo>
                  <a:pt x="2178" y="476"/>
                </a:lnTo>
                <a:lnTo>
                  <a:pt x="2202" y="467"/>
                </a:lnTo>
                <a:lnTo>
                  <a:pt x="2220" y="462"/>
                </a:lnTo>
                <a:lnTo>
                  <a:pt x="2230" y="462"/>
                </a:lnTo>
                <a:lnTo>
                  <a:pt x="2234" y="458"/>
                </a:lnTo>
                <a:lnTo>
                  <a:pt x="2239" y="458"/>
                </a:lnTo>
                <a:lnTo>
                  <a:pt x="2244" y="453"/>
                </a:lnTo>
                <a:lnTo>
                  <a:pt x="2249" y="453"/>
                </a:lnTo>
                <a:lnTo>
                  <a:pt x="2253" y="453"/>
                </a:lnTo>
                <a:lnTo>
                  <a:pt x="2258" y="448"/>
                </a:lnTo>
                <a:lnTo>
                  <a:pt x="2263" y="444"/>
                </a:lnTo>
                <a:lnTo>
                  <a:pt x="2277" y="444"/>
                </a:lnTo>
                <a:lnTo>
                  <a:pt x="2286" y="444"/>
                </a:lnTo>
                <a:lnTo>
                  <a:pt x="2295" y="439"/>
                </a:lnTo>
                <a:lnTo>
                  <a:pt x="2305" y="434"/>
                </a:lnTo>
                <a:lnTo>
                  <a:pt x="2319" y="430"/>
                </a:lnTo>
                <a:lnTo>
                  <a:pt x="2328" y="430"/>
                </a:lnTo>
                <a:lnTo>
                  <a:pt x="2338" y="425"/>
                </a:lnTo>
                <a:lnTo>
                  <a:pt x="2352" y="425"/>
                </a:lnTo>
                <a:lnTo>
                  <a:pt x="2356" y="420"/>
                </a:lnTo>
                <a:lnTo>
                  <a:pt x="2361" y="420"/>
                </a:lnTo>
                <a:lnTo>
                  <a:pt x="2366" y="416"/>
                </a:lnTo>
                <a:lnTo>
                  <a:pt x="2370" y="416"/>
                </a:lnTo>
                <a:lnTo>
                  <a:pt x="2375" y="416"/>
                </a:lnTo>
                <a:lnTo>
                  <a:pt x="2380" y="411"/>
                </a:lnTo>
                <a:lnTo>
                  <a:pt x="2389" y="411"/>
                </a:lnTo>
                <a:lnTo>
                  <a:pt x="2394" y="411"/>
                </a:lnTo>
                <a:lnTo>
                  <a:pt x="2398" y="416"/>
                </a:lnTo>
                <a:lnTo>
                  <a:pt x="2408" y="420"/>
                </a:lnTo>
                <a:lnTo>
                  <a:pt x="2412" y="425"/>
                </a:lnTo>
                <a:lnTo>
                  <a:pt x="2422" y="434"/>
                </a:lnTo>
                <a:lnTo>
                  <a:pt x="2427" y="439"/>
                </a:lnTo>
                <a:lnTo>
                  <a:pt x="2436" y="448"/>
                </a:lnTo>
                <a:lnTo>
                  <a:pt x="2445" y="448"/>
                </a:lnTo>
                <a:lnTo>
                  <a:pt x="2455" y="453"/>
                </a:lnTo>
                <a:lnTo>
                  <a:pt x="2473" y="453"/>
                </a:lnTo>
                <a:lnTo>
                  <a:pt x="2487" y="448"/>
                </a:lnTo>
                <a:lnTo>
                  <a:pt x="2501" y="448"/>
                </a:lnTo>
                <a:lnTo>
                  <a:pt x="2516" y="444"/>
                </a:lnTo>
                <a:lnTo>
                  <a:pt x="2534" y="439"/>
                </a:lnTo>
                <a:lnTo>
                  <a:pt x="2548" y="434"/>
                </a:lnTo>
                <a:lnTo>
                  <a:pt x="2562" y="430"/>
                </a:lnTo>
                <a:lnTo>
                  <a:pt x="2576" y="430"/>
                </a:lnTo>
                <a:lnTo>
                  <a:pt x="2600" y="430"/>
                </a:lnTo>
                <a:lnTo>
                  <a:pt x="2623" y="425"/>
                </a:lnTo>
                <a:lnTo>
                  <a:pt x="2647" y="425"/>
                </a:lnTo>
                <a:lnTo>
                  <a:pt x="2670" y="425"/>
                </a:lnTo>
                <a:lnTo>
                  <a:pt x="2694" y="420"/>
                </a:lnTo>
                <a:lnTo>
                  <a:pt x="2717" y="420"/>
                </a:lnTo>
                <a:lnTo>
                  <a:pt x="2736" y="420"/>
                </a:lnTo>
                <a:lnTo>
                  <a:pt x="2759" y="420"/>
                </a:lnTo>
                <a:lnTo>
                  <a:pt x="2820" y="420"/>
                </a:lnTo>
                <a:lnTo>
                  <a:pt x="2881" y="416"/>
                </a:lnTo>
                <a:lnTo>
                  <a:pt x="2942" y="416"/>
                </a:lnTo>
                <a:lnTo>
                  <a:pt x="3003" y="411"/>
                </a:lnTo>
                <a:lnTo>
                  <a:pt x="3064" y="411"/>
                </a:lnTo>
                <a:lnTo>
                  <a:pt x="3125" y="411"/>
                </a:lnTo>
                <a:lnTo>
                  <a:pt x="3190" y="416"/>
                </a:lnTo>
                <a:lnTo>
                  <a:pt x="3251" y="420"/>
                </a:lnTo>
                <a:lnTo>
                  <a:pt x="3312" y="420"/>
                </a:lnTo>
                <a:lnTo>
                  <a:pt x="3373" y="425"/>
                </a:lnTo>
                <a:lnTo>
                  <a:pt x="3434" y="430"/>
                </a:lnTo>
                <a:lnTo>
                  <a:pt x="3495" y="430"/>
                </a:lnTo>
                <a:lnTo>
                  <a:pt x="3556" y="430"/>
                </a:lnTo>
                <a:lnTo>
                  <a:pt x="3617" y="430"/>
                </a:lnTo>
                <a:lnTo>
                  <a:pt x="3673" y="430"/>
                </a:lnTo>
                <a:lnTo>
                  <a:pt x="3734" y="420"/>
                </a:lnTo>
                <a:lnTo>
                  <a:pt x="3757" y="416"/>
                </a:lnTo>
                <a:lnTo>
                  <a:pt x="3780" y="411"/>
                </a:lnTo>
                <a:lnTo>
                  <a:pt x="3799" y="411"/>
                </a:lnTo>
                <a:lnTo>
                  <a:pt x="3823" y="406"/>
                </a:lnTo>
                <a:lnTo>
                  <a:pt x="3846" y="406"/>
                </a:lnTo>
                <a:lnTo>
                  <a:pt x="3865" y="406"/>
                </a:lnTo>
                <a:lnTo>
                  <a:pt x="3888" y="402"/>
                </a:lnTo>
                <a:lnTo>
                  <a:pt x="3907" y="397"/>
                </a:lnTo>
                <a:lnTo>
                  <a:pt x="3912" y="397"/>
                </a:lnTo>
                <a:lnTo>
                  <a:pt x="3916" y="397"/>
                </a:lnTo>
                <a:lnTo>
                  <a:pt x="3921" y="397"/>
                </a:lnTo>
                <a:lnTo>
                  <a:pt x="3926" y="397"/>
                </a:lnTo>
                <a:lnTo>
                  <a:pt x="3930" y="397"/>
                </a:lnTo>
                <a:lnTo>
                  <a:pt x="3935" y="397"/>
                </a:lnTo>
                <a:lnTo>
                  <a:pt x="3935" y="397"/>
                </a:lnTo>
                <a:lnTo>
                  <a:pt x="3940" y="392"/>
                </a:lnTo>
                <a:lnTo>
                  <a:pt x="4268" y="392"/>
                </a:lnTo>
                <a:lnTo>
                  <a:pt x="4315" y="397"/>
                </a:lnTo>
                <a:lnTo>
                  <a:pt x="4361" y="402"/>
                </a:lnTo>
                <a:lnTo>
                  <a:pt x="4413" y="402"/>
                </a:lnTo>
                <a:lnTo>
                  <a:pt x="4460" y="402"/>
                </a:lnTo>
                <a:lnTo>
                  <a:pt x="4511" y="406"/>
                </a:lnTo>
                <a:lnTo>
                  <a:pt x="4558" y="406"/>
                </a:lnTo>
                <a:lnTo>
                  <a:pt x="4605" y="411"/>
                </a:lnTo>
                <a:lnTo>
                  <a:pt x="4657" y="420"/>
                </a:lnTo>
                <a:lnTo>
                  <a:pt x="4666" y="425"/>
                </a:lnTo>
                <a:lnTo>
                  <a:pt x="4680" y="430"/>
                </a:lnTo>
                <a:lnTo>
                  <a:pt x="4694" y="434"/>
                </a:lnTo>
                <a:lnTo>
                  <a:pt x="4703" y="434"/>
                </a:lnTo>
                <a:lnTo>
                  <a:pt x="4717" y="434"/>
                </a:lnTo>
                <a:lnTo>
                  <a:pt x="4727" y="430"/>
                </a:lnTo>
                <a:lnTo>
                  <a:pt x="4741" y="425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1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076480" y="1371600"/>
            <a:ext cx="52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value i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&gt; 1.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666880" y="200160"/>
            <a:ext cx="381024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671400" y="2666880"/>
            <a:ext cx="8104320" cy="2971800"/>
            <a:chOff x="671400" y="2666880"/>
            <a:chExt cx="8104320" cy="2971800"/>
          </a:xfrm>
        </p:grpSpPr>
        <p:sp>
          <p:nvSpPr>
            <p:cNvPr id="1101" name=""/>
            <p:cNvSpPr/>
            <p:nvPr/>
          </p:nvSpPr>
          <p:spPr>
            <a:xfrm>
              <a:off x="671400" y="3504960"/>
              <a:ext cx="810432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he null hypothesis is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not rejected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We cannot conclude that a higher proportion of </a:t>
              </a: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</a:rPr>
                <a:t>unmarried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workers miss more days in a year than the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married</a:t>
              </a:r>
              <a:r>
                <a:rPr b="1" lang="en-US" sz="32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worker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 txBox="1"/>
            <p:nvPr/>
          </p:nvSpPr>
          <p:spPr>
            <a:xfrm>
              <a:off x="3276720" y="2666880"/>
              <a:ext cx="289548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merType Md BT"/>
                </a:rPr>
                <a:t>Conclusion: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  <a:ea typeface="AmerType Md BT"/>
              </a:endParaRPr>
            </a:p>
          </p:txBody>
        </p:sp>
      </p:grpSp>
    </p:spTree>
  </p:cSld>
  <p:transition>
    <p:cover dir="r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75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75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bd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1676520" y="228600"/>
            <a:ext cx="563868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est your learning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685800" y="1600200"/>
            <a:ext cx="7619760" cy="1312920"/>
            <a:chOff x="685800" y="1600200"/>
            <a:chExt cx="7619760" cy="1312920"/>
          </a:xfrm>
        </p:grpSpPr>
        <p:sp>
          <p:nvSpPr>
            <p:cNvPr id="1105" name=""/>
            <p:cNvSpPr/>
            <p:nvPr/>
          </p:nvSpPr>
          <p:spPr>
            <a:xfrm>
              <a:off x="685800" y="1600200"/>
              <a:ext cx="761976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>
                    <a:alpha val="25098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79840" y="1844280"/>
              <a:ext cx="7293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www.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mcgrawhill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.ca/college/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li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 rot="20514600">
            <a:off x="612720" y="1447920"/>
            <a:ext cx="20462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  <a:effectLst>
            <a:outerShdw dist="176971" dir="1205873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1676520" y="5562720"/>
            <a:ext cx="5866920" cy="304560"/>
            <a:chOff x="1676520" y="5562720"/>
            <a:chExt cx="5866920" cy="304560"/>
          </a:xfrm>
        </p:grpSpPr>
        <p:sp>
          <p:nvSpPr>
            <p:cNvPr id="1109" name=""/>
            <p:cNvSpPr/>
            <p:nvPr/>
          </p:nvSpPr>
          <p:spPr>
            <a:xfrm flipV="1">
              <a:off x="1676520" y="5634000"/>
              <a:ext cx="5866920" cy="14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0" name="" descr=""/>
            <p:cNvPicPr/>
            <p:nvPr/>
          </p:nvPicPr>
          <p:blipFill>
            <a:blip r:embed="rId6"/>
            <a:stretch/>
          </p:blipFill>
          <p:spPr>
            <a:xfrm>
              <a:off x="4511880" y="5562720"/>
              <a:ext cx="4258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1" name=""/>
          <p:cNvSpPr/>
          <p:nvPr/>
        </p:nvSpPr>
        <p:spPr>
          <a:xfrm>
            <a:off x="1443960" y="266688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Learning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1642680" y="3124080"/>
            <a:ext cx="5595840" cy="2281680"/>
            <a:chOff x="1642680" y="3124080"/>
            <a:chExt cx="5595840" cy="2281680"/>
          </a:xfrm>
        </p:grpSpPr>
        <p:sp>
          <p:nvSpPr>
            <p:cNvPr id="1113" name=""/>
            <p:cNvSpPr/>
            <p:nvPr/>
          </p:nvSpPr>
          <p:spPr>
            <a:xfrm>
              <a:off x="1642680" y="31240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quiz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078640" y="3483000"/>
              <a:ext cx="515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ra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able glo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ss to Statistics Canada’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much m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5" name="OLC%20logo2" descr=""/>
          <p:cNvPicPr/>
          <p:nvPr/>
        </p:nvPicPr>
        <p:blipFill>
          <a:blip r:embed="rId7"/>
          <a:stretch/>
        </p:blipFill>
        <p:spPr>
          <a:xfrm>
            <a:off x="685800" y="2743200"/>
            <a:ext cx="847800" cy="741240"/>
          </a:xfrm>
          <a:prstGeom prst="rect">
            <a:avLst/>
          </a:prstGeom>
          <a:ln w="0">
            <a:noFill/>
          </a:ln>
        </p:spPr>
      </p:pic>
      <p:pic>
        <p:nvPicPr>
          <p:cNvPr id="1116" name="e-stat%20logo2" descr=""/>
          <p:cNvPicPr/>
          <p:nvPr/>
        </p:nvPicPr>
        <p:blipFill>
          <a:blip r:embed="rId8"/>
          <a:stretch/>
        </p:blipFill>
        <p:spPr>
          <a:xfrm>
            <a:off x="7238880" y="3809880"/>
            <a:ext cx="1063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0" y="0"/>
              <a:ext cx="9144000" cy="68580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085760" y="258840"/>
              <a:ext cx="6972480" cy="633888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828800" y="934920"/>
              <a:ext cx="5486400" cy="49881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476440" y="1523880"/>
              <a:ext cx="4191120" cy="381024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905200" y="1913040"/>
              <a:ext cx="3333600" cy="30319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4" name=""/>
          <p:cNvSpPr/>
          <p:nvPr/>
        </p:nvSpPr>
        <p:spPr>
          <a:xfrm>
            <a:off x="1581840" y="3078000"/>
            <a:ext cx="5978160" cy="703440"/>
          </a:xfrm>
          <a:prstGeom prst="rect">
            <a:avLst/>
          </a:prstGeom>
          <a:noFill/>
          <a:ln w="0">
            <a:noFill/>
          </a:ln>
          <a:effectLst>
            <a:outerShdw dist="64600" dir="101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completes Chapter 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4120" y="441972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35812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2666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190512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1386000"/>
            <a:ext cx="63244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te the null and alternate hypoth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8760" y="152388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2209680"/>
            <a:ext cx="62485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ct the level of signific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8760" y="228600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048120"/>
            <a:ext cx="39625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entify the test stat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78760" y="312408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886200"/>
            <a:ext cx="38098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te the decision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09000" y="396252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9000" y="480060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228600"/>
            <a:ext cx="381024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6172200"/>
            <a:ext cx="2286000" cy="510120"/>
          </a:xfrm>
          <a:prstGeom prst="rect">
            <a:avLst/>
          </a:prstGeom>
          <a:solidFill>
            <a:srgbClr val="ff505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733920" y="5791320"/>
            <a:ext cx="914400" cy="380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6172200"/>
            <a:ext cx="3200400" cy="510120"/>
          </a:xfrm>
          <a:prstGeom prst="rect">
            <a:avLst/>
          </a:prstGeom>
          <a:solidFill>
            <a:srgbClr val="ff5050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ccep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5715000"/>
            <a:ext cx="6858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4800600"/>
            <a:ext cx="6324840" cy="9471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ute the value of the test statistic and make a d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762120"/>
            <a:ext cx="1447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3300"/>
                    </a:gs>
                  </a:gsLst>
                  <a:lin ang="10800000"/>
                </a:gradFill>
                <a:effectLst>
                  <a:outerShdw dist="254472" dir="10629712" blurRad="0" rotWithShape="0">
                    <a:srgbClr val="b2b2b2">
                      <a:alpha val="50000"/>
                    </a:srgbClr>
                  </a:outerShdw>
                </a:effectLst>
                <a:latin typeface="Tahoma"/>
              </a:rPr>
              <a:t>Reca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3300"/>
                  </a:gs>
                </a:gsLst>
                <a:lin ang="10800000"/>
              </a:gradFill>
              <a:effectLst>
                <a:outerShdw dist="254472" dir="10629712" blurRad="0" rotWithShape="0">
                  <a:srgbClr val="b2b2b2">
                    <a:alpha val="5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95320" y="3914640"/>
            <a:ext cx="73519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o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s contain                       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t least 30 observ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we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use the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distribu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as the test statist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05120" y="228600"/>
            <a:ext cx="5295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omparing Two Popul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1371600"/>
            <a:ext cx="6553440" cy="2227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sh to know wheth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distribution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ifferences in sample mea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has a mean of 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62120" y="6019920"/>
            <a:ext cx="7467120" cy="304200"/>
            <a:chOff x="762120" y="6019920"/>
            <a:chExt cx="7467120" cy="304200"/>
          </a:xfrm>
        </p:grpSpPr>
        <p:sp>
          <p:nvSpPr>
            <p:cNvPr id="81" name=""/>
            <p:cNvSpPr/>
            <p:nvPr/>
          </p:nvSpPr>
          <p:spPr>
            <a:xfrm>
              <a:off x="762120" y="6097680"/>
              <a:ext cx="7467120" cy="78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4401360" y="6019920"/>
              <a:ext cx="399960" cy="30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846440" y="3809880"/>
            <a:ext cx="668160" cy="83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43280" y="152280"/>
            <a:ext cx="5295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merType Md BT"/>
              </a:rPr>
              <a:t>Comparing Two Popul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33520" y="2881440"/>
            <a:ext cx="452160" cy="434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33520" y="3719520"/>
            <a:ext cx="452160" cy="434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19320" y="28195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ples are from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 independ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ul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5812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rmula for computing the value of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19320" y="1371600"/>
            <a:ext cx="6858000" cy="1236600"/>
            <a:chOff x="1219320" y="1371600"/>
            <a:chExt cx="6858000" cy="1236600"/>
          </a:xfrm>
        </p:grpSpPr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1219320" y="1676520"/>
              <a:ext cx="45216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219320" y="1600200"/>
              <a:ext cx="685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o assumptions about the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f the populations are required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5791320" y="1371600"/>
              <a:ext cx="1571400" cy="69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Times New Roman"/>
                </a:rPr>
                <a:t>shap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047760" y="4266720"/>
            <a:ext cx="2886480" cy="1744560"/>
            <a:chOff x="3047760" y="4266720"/>
            <a:chExt cx="2886480" cy="1744560"/>
          </a:xfrm>
        </p:grpSpPr>
        <p:grpSp>
          <p:nvGrpSpPr>
            <p:cNvPr id="94" name=""/>
            <p:cNvGrpSpPr/>
            <p:nvPr/>
          </p:nvGrpSpPr>
          <p:grpSpPr>
            <a:xfrm>
              <a:off x="3047760" y="4646520"/>
              <a:ext cx="2886480" cy="1364760"/>
              <a:chOff x="3047760" y="4646520"/>
              <a:chExt cx="2886480" cy="1364760"/>
            </a:xfrm>
          </p:grpSpPr>
          <p:sp>
            <p:nvSpPr>
              <p:cNvPr id="95" name=""/>
              <p:cNvSpPr/>
              <p:nvPr/>
            </p:nvSpPr>
            <p:spPr>
              <a:xfrm>
                <a:off x="3795840" y="4995720"/>
                <a:ext cx="213840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7760" y="4646520"/>
                <a:ext cx="223200" cy="68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500" spc="-1" strike="noStrike">
                    <a:solidFill>
                      <a:srgbClr val="ff3300"/>
                    </a:solidFill>
                    <a:latin typeface="Times New Roman"/>
                  </a:rPr>
                  <a:t>z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68800" y="5559480"/>
                <a:ext cx="5652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137200" y="5559480"/>
                <a:ext cx="577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3890880" y="5411880"/>
                <a:ext cx="63720" cy="1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940200" y="5418000"/>
                <a:ext cx="90360" cy="2653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4030560" y="5062680"/>
                <a:ext cx="106560" cy="620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127400" y="5060880"/>
                <a:ext cx="173052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46360" y="49705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289480" y="5195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77960" y="498636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42680" y="5256360"/>
                <a:ext cx="128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213880" y="5438880"/>
                <a:ext cx="356040" cy="57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3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i="1" lang="en-US" sz="33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137200" y="4951440"/>
                <a:ext cx="16380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3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278600" y="5438880"/>
                <a:ext cx="356040" cy="57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3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i="1" lang="en-US" sz="33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19560" y="4951440"/>
                <a:ext cx="16380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3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84760" y="5172120"/>
                <a:ext cx="24624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376800" y="4722840"/>
                <a:ext cx="33444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889440" y="4266720"/>
              <a:ext cx="1645920" cy="760320"/>
              <a:chOff x="3889440" y="4266720"/>
              <a:chExt cx="1645920" cy="7603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3889440" y="4266720"/>
                <a:ext cx="502920" cy="715680"/>
                <a:chOff x="3889440" y="4266720"/>
                <a:chExt cx="502920" cy="7156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239360" y="461628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 flipV="1">
                  <a:off x="3889440" y="4266360"/>
                  <a:ext cx="3772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4699080" y="4402080"/>
                <a:ext cx="1746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5032440" y="4282560"/>
                <a:ext cx="502920" cy="715680"/>
                <a:chOff x="5032440" y="4282560"/>
                <a:chExt cx="502920" cy="7156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382360" y="463212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flipV="1">
                  <a:off x="5032440" y="4282200"/>
                  <a:ext cx="3772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pull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66680" y="1004760"/>
            <a:ext cx="7391520" cy="5624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35120" y="990720"/>
            <a:ext cx="7808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colleges are located in York Region.                 The local paper recently reported that the                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ean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tarting sala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a graduate                                   from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ollege 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$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38,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with a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standard devi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$6,000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a sample of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4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raduates.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328920" y="76320"/>
            <a:ext cx="2486160" cy="871560"/>
            <a:chOff x="3328920" y="76320"/>
            <a:chExt cx="2486160" cy="871560"/>
          </a:xfrm>
        </p:grpSpPr>
        <p:sp>
          <p:nvSpPr>
            <p:cNvPr id="124" name=""/>
            <p:cNvSpPr txBox="1"/>
            <p:nvPr/>
          </p:nvSpPr>
          <p:spPr>
            <a:xfrm>
              <a:off x="3328920" y="7632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3967200" y="285840"/>
              <a:ext cx="18478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66720" y="3533760"/>
            <a:ext cx="7809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article reported the                                                    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mean starting sala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a graduate from                         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Times New Roman"/>
              </a:rPr>
              <a:t>College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Times New Roman"/>
              </a:rPr>
              <a:t>$35,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th a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standard devi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Times New Roman"/>
              </a:rPr>
              <a:t>$7,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a sample of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Times New Roman"/>
              </a:rPr>
              <a:t>3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raduates.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378400"/>
            <a:ext cx="780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.01 significance 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n we conclude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ean salary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llege 1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 is mo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001000" y="6324480"/>
            <a:ext cx="990360" cy="457200"/>
            <a:chOff x="8001000" y="6324480"/>
            <a:chExt cx="990360" cy="457200"/>
          </a:xfrm>
        </p:grpSpPr>
        <p:sp>
          <p:nvSpPr>
            <p:cNvPr id="129" name=""/>
            <p:cNvSpPr/>
            <p:nvPr/>
          </p:nvSpPr>
          <p:spPr>
            <a:xfrm>
              <a:off x="8001000" y="6382080"/>
              <a:ext cx="978840" cy="39924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01000" y="6324480"/>
              <a:ext cx="978840" cy="45720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64720" y="6480360"/>
              <a:ext cx="926640" cy="19224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8160840" y="6382080"/>
              <a:ext cx="563040" cy="3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Arial Black"/>
                </a:rPr>
                <a:t>Solv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666880" y="200160"/>
            <a:ext cx="381024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82880" y="1104840"/>
            <a:ext cx="5856120" cy="487800"/>
            <a:chOff x="182880" y="1104840"/>
            <a:chExt cx="5856120" cy="487800"/>
          </a:xfrm>
        </p:grpSpPr>
        <p:sp>
          <p:nvSpPr>
            <p:cNvPr id="135" name=""/>
            <p:cNvSpPr/>
            <p:nvPr/>
          </p:nvSpPr>
          <p:spPr>
            <a:xfrm>
              <a:off x="1596960" y="1193760"/>
              <a:ext cx="444204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84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null and alternate hypothe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2880" y="110484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02680" y="1990800"/>
            <a:ext cx="5750280" cy="459720"/>
            <a:chOff x="202680" y="1990800"/>
            <a:chExt cx="5750280" cy="459720"/>
          </a:xfrm>
        </p:grpSpPr>
        <p:sp>
          <p:nvSpPr>
            <p:cNvPr id="138" name=""/>
            <p:cNvSpPr/>
            <p:nvPr/>
          </p:nvSpPr>
          <p:spPr>
            <a:xfrm>
              <a:off x="1600200" y="2019240"/>
              <a:ext cx="435276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elect the level of signific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2680" y="19908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02680" y="2556000"/>
            <a:ext cx="4255200" cy="459720"/>
            <a:chOff x="202680" y="2556000"/>
            <a:chExt cx="4255200" cy="459720"/>
          </a:xfrm>
        </p:grpSpPr>
        <p:sp>
          <p:nvSpPr>
            <p:cNvPr id="141" name=""/>
            <p:cNvSpPr/>
            <p:nvPr/>
          </p:nvSpPr>
          <p:spPr>
            <a:xfrm>
              <a:off x="1585800" y="2604960"/>
              <a:ext cx="28720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dentify the test statis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2680" y="25560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31120" y="3276720"/>
            <a:ext cx="4126680" cy="459720"/>
            <a:chOff x="231120" y="3276720"/>
            <a:chExt cx="4126680" cy="459720"/>
          </a:xfrm>
        </p:grpSpPr>
        <p:sp>
          <p:nvSpPr>
            <p:cNvPr id="144" name=""/>
            <p:cNvSpPr/>
            <p:nvPr/>
          </p:nvSpPr>
          <p:spPr>
            <a:xfrm>
              <a:off x="1595520" y="3305160"/>
              <a:ext cx="27622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1120" y="327672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02680" y="3886200"/>
            <a:ext cx="4340880" cy="719640"/>
            <a:chOff x="202680" y="3886200"/>
            <a:chExt cx="4340880" cy="719640"/>
          </a:xfrm>
        </p:grpSpPr>
        <p:sp>
          <p:nvSpPr>
            <p:cNvPr id="147" name=""/>
            <p:cNvSpPr/>
            <p:nvPr/>
          </p:nvSpPr>
          <p:spPr>
            <a:xfrm>
              <a:off x="1571760" y="3902040"/>
              <a:ext cx="2971800" cy="70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mpute the test statistic and make a dec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2680" y="38862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172200" y="990720"/>
            <a:ext cx="236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µ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1401840"/>
            <a:ext cx="243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µ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 µ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1995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546280"/>
            <a:ext cx="4209840" cy="715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cause both samples are more than 30, the test statistic i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29160" y="3343320"/>
            <a:ext cx="28767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601992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Do not reject the null hypothesis; insufficient evidence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600" y="5943600"/>
            <a:ext cx="18478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Conclu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654880" y="3797280"/>
            <a:ext cx="2263680" cy="1003320"/>
            <a:chOff x="5654880" y="3797280"/>
            <a:chExt cx="2263680" cy="1003320"/>
          </a:xfrm>
        </p:grpSpPr>
        <p:sp>
          <p:nvSpPr>
            <p:cNvPr id="157" name=""/>
            <p:cNvSpPr/>
            <p:nvPr/>
          </p:nvSpPr>
          <p:spPr>
            <a:xfrm>
              <a:off x="6400800" y="3826080"/>
              <a:ext cx="24300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39240" y="3826080"/>
              <a:ext cx="244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62800" y="4471920"/>
              <a:ext cx="441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90080" y="4471920"/>
              <a:ext cx="45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301080" y="4516560"/>
              <a:ext cx="50760" cy="14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51840" y="4521240"/>
              <a:ext cx="69840" cy="2192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431040" y="4178160"/>
              <a:ext cx="122400" cy="561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53440" y="4178520"/>
              <a:ext cx="1272960" cy="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4102200"/>
              <a:ext cx="16700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9480" y="4602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4800" y="4173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02480" y="43164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92840" y="4602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92840" y="4173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38840" y="431640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75480" y="39243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19760" y="39243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3200" y="4498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34360" y="421344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18240" y="4498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02400" y="421344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73800" y="38210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49760" y="382104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54880" y="3983040"/>
              <a:ext cx="8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505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3720" y="431820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77520" y="37972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96440" y="395928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255640" y="5113440"/>
            <a:ext cx="1042920" cy="442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56832" dir="70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= 1.98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832040" y="4672080"/>
            <a:ext cx="3136680" cy="442080"/>
            <a:chOff x="1832040" y="4672080"/>
            <a:chExt cx="3136680" cy="442080"/>
          </a:xfrm>
        </p:grpSpPr>
        <p:sp>
          <p:nvSpPr>
            <p:cNvPr id="186" name=""/>
            <p:cNvSpPr/>
            <p:nvPr/>
          </p:nvSpPr>
          <p:spPr>
            <a:xfrm>
              <a:off x="1832040" y="5068800"/>
              <a:ext cx="31366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76760" y="4672080"/>
              <a:ext cx="27090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cc"/>
                  </a:solidFill>
                  <a:latin typeface="Times New Roman"/>
                </a:rPr>
                <a:t>$38,000 - </a:t>
              </a:r>
              <a:r>
                <a:rPr b="1" lang="en-US" sz="2900" spc="-1" strike="noStrike">
                  <a:solidFill>
                    <a:srgbClr val="009900"/>
                  </a:solidFill>
                  <a:latin typeface="Times New Roman"/>
                </a:rPr>
                <a:t>$35,00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523880" y="5164200"/>
            <a:ext cx="3539880" cy="932400"/>
            <a:chOff x="1523880" y="5164200"/>
            <a:chExt cx="3539880" cy="932400"/>
          </a:xfrm>
        </p:grpSpPr>
        <p:sp>
          <p:nvSpPr>
            <p:cNvPr id="189" name=""/>
            <p:cNvSpPr/>
            <p:nvPr/>
          </p:nvSpPr>
          <p:spPr>
            <a:xfrm>
              <a:off x="1757880" y="5613480"/>
              <a:ext cx="1457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63640" y="5613480"/>
              <a:ext cx="1463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523880" y="5478480"/>
              <a:ext cx="107280" cy="312840"/>
              <a:chOff x="1523880" y="5478480"/>
              <a:chExt cx="107280" cy="312840"/>
            </a:xfrm>
          </p:grpSpPr>
          <p:sp>
            <p:nvSpPr>
              <p:cNvPr id="192" name=""/>
              <p:cNvSpPr/>
              <p:nvPr/>
            </p:nvSpPr>
            <p:spPr>
              <a:xfrm flipV="1">
                <a:off x="1523880" y="5478480"/>
                <a:ext cx="45360" cy="223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569240" y="5486400"/>
                <a:ext cx="6192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V="1">
              <a:off x="1640880" y="5181480"/>
              <a:ext cx="98640" cy="617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30520" y="5180040"/>
              <a:ext cx="3333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18400" y="565452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9900"/>
                  </a:solidFill>
                  <a:latin typeface="Times New Roman"/>
                </a:rPr>
                <a:t>35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92960" y="522288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54040" y="5222880"/>
              <a:ext cx="6469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9900"/>
                  </a:solidFill>
                  <a:latin typeface="Times New Roman"/>
                </a:rPr>
                <a:t>000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64400" y="522288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85120" y="52228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9900"/>
                  </a:solidFill>
                  <a:latin typeface="Times New Roman"/>
                </a:rPr>
                <a:t>7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86320" y="5222880"/>
              <a:ext cx="3085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($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12280" y="565452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cc"/>
                  </a:solidFill>
                  <a:latin typeface="Times New Roman"/>
                </a:rPr>
                <a:t>40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43240" y="5222880"/>
              <a:ext cx="6775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cc"/>
                  </a:solidFill>
                  <a:latin typeface="Times New Roman"/>
                </a:rPr>
                <a:t>000</a:t>
              </a: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53240" y="5222880"/>
              <a:ext cx="936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80080" y="52228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82360" y="5222880"/>
              <a:ext cx="3085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($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36600" y="5164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94920" y="516420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85720" y="5378400"/>
              <a:ext cx="215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990720" y="4800600"/>
            <a:ext cx="606240" cy="624960"/>
            <a:chOff x="990720" y="4800600"/>
            <a:chExt cx="606240" cy="624960"/>
          </a:xfrm>
        </p:grpSpPr>
        <p:sp>
          <p:nvSpPr>
            <p:cNvPr id="211" name=""/>
            <p:cNvSpPr/>
            <p:nvPr/>
          </p:nvSpPr>
          <p:spPr>
            <a:xfrm>
              <a:off x="1303560" y="483408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0720" y="4800600"/>
              <a:ext cx="2034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100" spc="-1" strike="noStrike">
                  <a:solidFill>
                    <a:srgbClr val="ff5050"/>
                  </a:solidFill>
                  <a:latin typeface="Times New Roman"/>
                </a:rPr>
                <a:t>z</a:t>
              </a:r>
              <a:endParaRPr b="0" lang="en-US" sz="4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2174400" y="1295280"/>
            <a:ext cx="4125960" cy="459720"/>
            <a:chOff x="2174400" y="1295280"/>
            <a:chExt cx="4125960" cy="459720"/>
          </a:xfrm>
        </p:grpSpPr>
        <p:sp>
          <p:nvSpPr>
            <p:cNvPr id="214" name=""/>
            <p:cNvSpPr/>
            <p:nvPr/>
          </p:nvSpPr>
          <p:spPr>
            <a:xfrm>
              <a:off x="3538440" y="1323720"/>
              <a:ext cx="276192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74400" y="129528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049920" y="228600"/>
            <a:ext cx="3050280" cy="6426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The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-value 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9880" y="762120"/>
            <a:ext cx="1676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ffff">
                    <a:alpha val="40000"/>
                  </a:srgbClr>
                </a:solidFill>
                <a:effectLst>
                  <a:outerShdw dist="17819" dir="2700000" blurRad="0" rotWithShape="0">
                    <a:srgbClr val="799898"/>
                  </a:outerShdw>
                </a:effectLst>
                <a:latin typeface="Arial Black"/>
              </a:rPr>
              <a:t>alternate</a:t>
            </a:r>
            <a:endParaRPr b="0" lang="en-US" sz="2400" spc="1" strike="noStrike">
              <a:ln w="0">
                <a:noFill/>
              </a:ln>
              <a:solidFill>
                <a:srgbClr val="ccffff">
                  <a:alpha val="40000"/>
                </a:srgbClr>
              </a:solidFill>
              <a:effectLst>
                <a:outerShdw dist="17819" dir="2700000" blurRad="0" rotWithShape="0">
                  <a:srgbClr val="79989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1969560" y="2743200"/>
            <a:ext cx="22960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27008" dir="85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z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gt; 1.98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57880" y="27432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08640" y="3476520"/>
            <a:ext cx="1587240" cy="581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.02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8720" y="274320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476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2400" y="2695680"/>
            <a:ext cx="149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5000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55720" y="1905120"/>
            <a:ext cx="2496960" cy="825480"/>
            <a:chOff x="855720" y="1905120"/>
            <a:chExt cx="2496960" cy="825480"/>
          </a:xfrm>
        </p:grpSpPr>
        <p:sp>
          <p:nvSpPr>
            <p:cNvPr id="224" name=""/>
            <p:cNvSpPr/>
            <p:nvPr/>
          </p:nvSpPr>
          <p:spPr>
            <a:xfrm>
              <a:off x="2133720" y="2057400"/>
              <a:ext cx="1066680" cy="609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55720" y="1905120"/>
              <a:ext cx="2496960" cy="82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Look up in 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04920" y="4343400"/>
            <a:ext cx="4267080" cy="1859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1111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.023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is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greater th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chosen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alpha of 0.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there 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suffici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idence to reject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696080" y="5715000"/>
            <a:ext cx="685800" cy="457200"/>
            <a:chOff x="7696080" y="5715000"/>
            <a:chExt cx="685800" cy="457200"/>
          </a:xfrm>
        </p:grpSpPr>
        <p:sp>
          <p:nvSpPr>
            <p:cNvPr id="228" name=""/>
            <p:cNvSpPr/>
            <p:nvPr/>
          </p:nvSpPr>
          <p:spPr>
            <a:xfrm flipV="1">
              <a:off x="7696080" y="5715000"/>
              <a:ext cx="27720" cy="216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47560" y="5715000"/>
              <a:ext cx="0" cy="45720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81040" y="5730480"/>
              <a:ext cx="0" cy="4417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14520" y="5746320"/>
              <a:ext cx="0" cy="4255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848000" y="5762160"/>
              <a:ext cx="0" cy="41004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81480" y="5793480"/>
              <a:ext cx="0" cy="3787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14240" y="5825160"/>
              <a:ext cx="0" cy="34704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47360" y="5856480"/>
              <a:ext cx="0" cy="31536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81200" y="5888160"/>
              <a:ext cx="0" cy="28368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014320" y="5920200"/>
              <a:ext cx="0" cy="25200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48160" y="5951520"/>
              <a:ext cx="0" cy="22068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81280" y="5983200"/>
              <a:ext cx="0" cy="18900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15120" y="6014520"/>
              <a:ext cx="0" cy="15768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48240" y="6046200"/>
              <a:ext cx="0" cy="12600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81720" y="6062040"/>
              <a:ext cx="0" cy="11016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15200" y="6077520"/>
              <a:ext cx="0" cy="9468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47960" y="6093720"/>
              <a:ext cx="0" cy="7848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81440" y="6109200"/>
              <a:ext cx="0" cy="6300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14920" y="6125040"/>
              <a:ext cx="0" cy="4716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48400" y="6140520"/>
              <a:ext cx="0" cy="313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1880" y="6140520"/>
              <a:ext cx="0" cy="313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14080" y="5715000"/>
              <a:ext cx="0" cy="45720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723888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96080" y="5562720"/>
            <a:ext cx="0" cy="60948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60199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876920" y="4114800"/>
            <a:ext cx="3657240" cy="2057400"/>
            <a:chOff x="4876920" y="4114800"/>
            <a:chExt cx="3657240" cy="2057400"/>
          </a:xfrm>
        </p:grpSpPr>
        <p:sp>
          <p:nvSpPr>
            <p:cNvPr id="255" name=""/>
            <p:cNvSpPr/>
            <p:nvPr/>
          </p:nvSpPr>
          <p:spPr>
            <a:xfrm>
              <a:off x="4876920" y="6172200"/>
              <a:ext cx="3657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20480" y="4114800"/>
              <a:ext cx="0" cy="20574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941360" y="6158160"/>
              <a:ext cx="6588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007600" y="6134760"/>
              <a:ext cx="6624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073840" y="6121440"/>
              <a:ext cx="5076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24960" y="6098400"/>
              <a:ext cx="6444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189760" y="606168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39440" y="6023520"/>
              <a:ext cx="644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304240" y="598680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357160" y="593748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421960" y="5887080"/>
              <a:ext cx="658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5487840" y="582300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36080" y="5752800"/>
              <a:ext cx="676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604120" y="5675760"/>
              <a:ext cx="4932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53440" y="5589000"/>
              <a:ext cx="6624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720040" y="5490720"/>
              <a:ext cx="475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767920" y="5391360"/>
              <a:ext cx="6624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834160" y="5290200"/>
              <a:ext cx="676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902200" y="518148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51880" y="505764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19920" y="494604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67800" y="4834080"/>
              <a:ext cx="644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132600" y="4722480"/>
              <a:ext cx="493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181920" y="461196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249960" y="451116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316200" y="441288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65880" y="4326120"/>
              <a:ext cx="6444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30320" y="4250880"/>
              <a:ext cx="5112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1800" y="420048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46600" y="415152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595920" y="4126680"/>
              <a:ext cx="66240" cy="2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662520" y="4114800"/>
              <a:ext cx="6588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28760" y="4114800"/>
              <a:ext cx="5112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80240" y="4127040"/>
              <a:ext cx="65880" cy="24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46120" y="415152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95800" y="420048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60240" y="4250880"/>
              <a:ext cx="4968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10280" y="4326120"/>
              <a:ext cx="6588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76520" y="441324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26200" y="4511160"/>
              <a:ext cx="6624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92440" y="461196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60480" y="4722480"/>
              <a:ext cx="475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08360" y="4834080"/>
              <a:ext cx="662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74600" y="494604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22840" y="505764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90880" y="518184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40560" y="529020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06440" y="5391360"/>
              <a:ext cx="6768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74480" y="5491080"/>
              <a:ext cx="4788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22720" y="5589000"/>
              <a:ext cx="6588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88600" y="5676120"/>
              <a:ext cx="4968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38640" y="5752800"/>
              <a:ext cx="658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904880" y="582300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52760" y="5887440"/>
              <a:ext cx="676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020800" y="593784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85600" y="598680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38520" y="6023520"/>
              <a:ext cx="626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201160" y="606204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251200" y="6098400"/>
              <a:ext cx="6588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17080" y="6121440"/>
              <a:ext cx="5112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68560" y="6135120"/>
              <a:ext cx="6588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434800" y="6158160"/>
              <a:ext cx="6444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75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353960" y="192240"/>
            <a:ext cx="6723360" cy="798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mall Sample Tests of Me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95320" y="1523880"/>
            <a:ext cx="735192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one or mo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the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s contain                       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ess than 30 observ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we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use the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distribu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as the test statist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38080" y="6172200"/>
            <a:ext cx="7467480" cy="304560"/>
            <a:chOff x="838080" y="6172200"/>
            <a:chExt cx="7467480" cy="304560"/>
          </a:xfrm>
        </p:grpSpPr>
        <p:sp>
          <p:nvSpPr>
            <p:cNvPr id="320" name=""/>
            <p:cNvSpPr/>
            <p:nvPr/>
          </p:nvSpPr>
          <p:spPr>
            <a:xfrm>
              <a:off x="838080" y="6249960"/>
              <a:ext cx="7467480" cy="78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2"/>
            <a:stretch/>
          </p:blipFill>
          <p:spPr>
            <a:xfrm>
              <a:off x="4477320" y="6172200"/>
              <a:ext cx="39996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2895480" y="3581280"/>
            <a:ext cx="3657600" cy="5205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7280" y="4324320"/>
            <a:ext cx="8317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Bo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opulations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must foll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normal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228600" y="4343400"/>
            <a:ext cx="452520" cy="4348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228600" y="4952880"/>
            <a:ext cx="452520" cy="4352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228600" y="5508720"/>
            <a:ext cx="452520" cy="434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67440" y="4933800"/>
            <a:ext cx="8218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pulations must have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equal standard devi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6520" y="5543640"/>
            <a:ext cx="72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ples are from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independent popul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685800" y="1371600"/>
            <a:ext cx="644400" cy="914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0T11:56:08Z</dcterms:created>
  <dc:creator>Colleen Quinn &amp; Ron Thornbury</dc:creator>
  <dc:description/>
  <dc:language>en-US</dc:language>
  <cp:lastModifiedBy>jeff_skinner</cp:lastModifiedBy>
  <dcterms:modified xsi:type="dcterms:W3CDTF">2003-04-28T14:10:02Z</dcterms:modified>
  <cp:revision>51</cp:revision>
  <dc:subject/>
  <dc:title>PowerPoint Presentation</dc:title>
</cp:coreProperties>
</file>